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7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800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6840" y="115380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88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800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6840" y="3982320"/>
            <a:ext cx="273204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6880" y="398232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880" y="1153800"/>
            <a:ext cx="41407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8800" y="3982320"/>
            <a:ext cx="848520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low" descr=""/>
          <p:cNvPicPr/>
          <p:nvPr/>
        </p:nvPicPr>
        <p:blipFill>
          <a:blip r:embed="rId3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artglow" descr=""/>
          <p:cNvPicPr/>
          <p:nvPr/>
        </p:nvPicPr>
        <p:blipFill>
          <a:blip r:embed="rId4"/>
          <a:srcRect l="19068" t="12229" r="0" b="31558"/>
          <a:stretch/>
        </p:blipFill>
        <p:spPr>
          <a:xfrm>
            <a:off x="711360" y="1066680"/>
            <a:ext cx="843264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1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low" descr=""/>
          <p:cNvPicPr/>
          <p:nvPr/>
        </p:nvPicPr>
        <p:blipFill>
          <a:blip r:embed="rId3"/>
          <a:srcRect l="513" t="11663" r="70178" b="453"/>
          <a:stretch/>
        </p:blipFill>
        <p:spPr>
          <a:xfrm>
            <a:off x="3240" y="14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42" name="partglow" descr=""/>
          <p:cNvPicPr/>
          <p:nvPr/>
        </p:nvPicPr>
        <p:blipFill>
          <a:blip r:embed="rId4"/>
          <a:srcRect l="19068" t="12229" r="0" b="31558"/>
          <a:stretch/>
        </p:blipFill>
        <p:spPr>
          <a:xfrm>
            <a:off x="620640" y="1066680"/>
            <a:ext cx="8523360" cy="5486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3" name="glow" descr=""/>
          <p:cNvPicPr/>
          <p:nvPr/>
        </p:nvPicPr>
        <p:blipFill>
          <a:blip r:embed="rId5"/>
          <a:srcRect l="513" t="25134" r="97570" b="453"/>
          <a:stretch/>
        </p:blipFill>
        <p:spPr>
          <a:xfrm>
            <a:off x="8545680" y="1050840"/>
            <a:ext cx="598320" cy="580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SENTI1" descr=""/>
          <p:cNvPicPr/>
          <p:nvPr/>
        </p:nvPicPr>
        <p:blipFill>
          <a:blip r:embed="rId2"/>
          <a:srcRect l="0" t="5861" r="0" b="293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71800" y="1600200"/>
            <a:ext cx="5943600" cy="3657600"/>
          </a:xfrm>
          <a:prstGeom prst="rect">
            <a:avLst/>
          </a:prstGeom>
          <a:gradFill rotWithShape="0">
            <a:gsLst>
              <a:gs pos="0">
                <a:srgbClr val="75091b"/>
              </a:gs>
              <a:gs pos="50000">
                <a:srgbClr val="b30f2a"/>
              </a:gs>
              <a:gs pos="100000">
                <a:srgbClr val="75091b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060640"/>
            <a:ext cx="5827680" cy="2707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Arial"/>
              </a:rPr>
              <a:t>Unemployment, Inflation and Growth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19320" y="731880"/>
            <a:ext cx="6629400" cy="528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701640"/>
            <a:ext cx="0" cy="531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601992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1600200"/>
            <a:ext cx="5562360" cy="3809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1600200"/>
            <a:ext cx="3047760" cy="47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600000">
            <a:off x="-1232640" y="-3107880"/>
            <a:ext cx="7930800" cy="80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6"/>
                </a:moveTo>
                <a:arcTo wR="10800" hR="10800" stAng="-1351" swAng="5822218"/>
                <a:lnTo>
                  <a:pt x="10800" y="10800"/>
                </a:lnTo>
                <a:close/>
              </a:path>
              <a:path fill="none" w="21600" h="21600">
                <a:moveTo>
                  <a:pt x="21600" y="10796"/>
                </a:moveTo>
                <a:arcTo wR="10800" hR="10800" stAng="-1351" swAng="582221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9360" y="521172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R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37120" y="6338880"/>
            <a:ext cx="758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M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3079800"/>
            <a:ext cx="0" cy="29257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203480" y="3063960"/>
            <a:ext cx="216504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05160" y="4859280"/>
            <a:ext cx="95400" cy="95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05160" y="3014640"/>
            <a:ext cx="95400" cy="9540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720" y="28335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560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35160" y="960480"/>
            <a:ext cx="6053040" cy="41450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35160" y="960480"/>
            <a:ext cx="3336840" cy="517212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69920" y="490860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R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24560" y="6018120"/>
            <a:ext cx="758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MR</a:t>
            </a:r>
            <a:r>
              <a:rPr b="0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1000" y="2698920"/>
            <a:ext cx="465480" cy="3760200"/>
            <a:chOff x="3501000" y="2698920"/>
            <a:chExt cx="465480" cy="3760200"/>
          </a:xfrm>
        </p:grpSpPr>
        <p:sp>
          <p:nvSpPr>
            <p:cNvPr id="211" name=""/>
            <p:cNvSpPr/>
            <p:nvPr/>
          </p:nvSpPr>
          <p:spPr>
            <a:xfrm>
              <a:off x="3719520" y="2698920"/>
              <a:ext cx="0" cy="332100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1000" y="60199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670200" y="4782960"/>
            <a:ext cx="95400" cy="95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234800" y="2682720"/>
            <a:ext cx="246852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7720" y="245268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68760" y="2633760"/>
            <a:ext cx="95040" cy="9504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200" y="5778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63600" y="604980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11430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a48"/>
                </a:solidFill>
                <a:latin typeface="Arial"/>
              </a:rPr>
              <a:t>Short-run response of a profit-maximising</a:t>
            </a:r>
            <a:br>
              <a:rPr sz="2600"/>
            </a:br>
            <a:r>
              <a:rPr b="1" lang="en-US" sz="2600" spc="-1" strike="noStrike">
                <a:solidFill>
                  <a:srgbClr val="004a48"/>
                </a:solidFill>
                <a:latin typeface="Arial"/>
              </a:rPr>
              <a:t>firm to a rise in demand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output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-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elastic in short ru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tickiness of wages and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ide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 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output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-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elastic in short ru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tickiness of wages and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ide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 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inelastic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592440" y="685800"/>
            <a:ext cx="590400" cy="5257800"/>
            <a:chOff x="3592440" y="685800"/>
            <a:chExt cx="590400" cy="5257800"/>
          </a:xfrm>
        </p:grpSpPr>
        <p:sp>
          <p:nvSpPr>
            <p:cNvPr id="232" name=""/>
            <p:cNvSpPr/>
            <p:nvPr/>
          </p:nvSpPr>
          <p:spPr>
            <a:xfrm>
              <a:off x="3886200" y="1219320"/>
              <a:ext cx="0" cy="4724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2440" y="685800"/>
              <a:ext cx="59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8080" y="59752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256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ifferent aggregate supply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65200" y="4525920"/>
            <a:ext cx="3321000" cy="439200"/>
            <a:chOff x="565200" y="4525920"/>
            <a:chExt cx="3321000" cy="439200"/>
          </a:xfrm>
        </p:grpSpPr>
        <p:sp>
          <p:nvSpPr>
            <p:cNvPr id="240" name=""/>
            <p:cNvSpPr/>
            <p:nvPr/>
          </p:nvSpPr>
          <p:spPr>
            <a:xfrm flipH="1">
              <a:off x="1066680" y="4800600"/>
              <a:ext cx="2819520" cy="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200" y="45259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1219320"/>
            <a:ext cx="0" cy="4724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3400" y="-5638680"/>
            <a:ext cx="14629320" cy="118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6" y="20722"/>
                </a:moveTo>
                <a:arcTo wR="10800" hR="10800" stAng="6795360" swAng="3180450"/>
                <a:lnTo>
                  <a:pt x="10800" y="10800"/>
                </a:lnTo>
                <a:close/>
              </a:path>
              <a:path fill="none" w="21600" h="21600">
                <a:moveTo>
                  <a:pt x="6536" y="20722"/>
                </a:moveTo>
                <a:arcTo wR="10800" hR="10800" stAng="6795360" swAng="318045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22840" y="4737240"/>
            <a:ext cx="126720" cy="1267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32360" y="5443560"/>
            <a:ext cx="874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18080" y="59752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92440" y="68580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256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ifferent aggregate supply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1219320"/>
            <a:ext cx="0" cy="4724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3400" y="-5638680"/>
            <a:ext cx="14629320" cy="118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6" y="20722"/>
                </a:moveTo>
                <a:arcTo wR="10800" hR="10800" stAng="6795360" swAng="3180450"/>
                <a:lnTo>
                  <a:pt x="10800" y="10800"/>
                </a:lnTo>
                <a:close/>
              </a:path>
              <a:path fill="none" w="21600" h="21600">
                <a:moveTo>
                  <a:pt x="6536" y="20722"/>
                </a:moveTo>
                <a:arcTo wR="10800" hR="10800" stAng="6795360" swAng="318045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066680" y="4800600"/>
            <a:ext cx="28195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2840" y="4737240"/>
            <a:ext cx="126720" cy="1267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5200" y="45259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120" y="-5229720"/>
            <a:ext cx="13491720" cy="1061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5" y="20722"/>
                </a:moveTo>
                <a:arcTo wR="10800" hR="10800" stAng="6795462" swAng="3180274"/>
                <a:lnTo>
                  <a:pt x="10800" y="10800"/>
                </a:lnTo>
                <a:close/>
              </a:path>
              <a:path fill="none" w="21600" h="21600">
                <a:moveTo>
                  <a:pt x="6535" y="20722"/>
                </a:moveTo>
                <a:arcTo wR="10800" hR="10800" stAng="6795462" swAng="3180274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78400" y="4786200"/>
            <a:ext cx="7509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091880" y="3540240"/>
            <a:ext cx="2801880" cy="0"/>
          </a:xfrm>
          <a:prstGeom prst="line">
            <a:avLst/>
          </a:prstGeom>
          <a:ln w="1260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0400" y="33228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18080" y="597528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92440" y="68580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32360" y="5443560"/>
            <a:ext cx="874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256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ifferent aggregate supply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21040" y="3463920"/>
            <a:ext cx="127080" cy="1270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output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-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elastic in short ru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tickiness of wages and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ide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 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inelastic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interdependence of market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output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-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elastic in short ru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tickiness of wages and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ide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 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inelastic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interdependence of market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flexibility of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66680" y="826920"/>
            <a:ext cx="76438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0120" y="4162320"/>
            <a:ext cx="0" cy="1992240"/>
          </a:xfrm>
          <a:prstGeom prst="line">
            <a:avLst/>
          </a:prstGeom>
          <a:ln w="158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8269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6161040"/>
            <a:ext cx="764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5200" y="61149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-398520" y="312480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7760" y="6461280"/>
            <a:ext cx="189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295280" y="1817640"/>
            <a:ext cx="5505480" cy="4335120"/>
            <a:chOff x="1295280" y="1817640"/>
            <a:chExt cx="5505480" cy="4335120"/>
          </a:xfrm>
        </p:grpSpPr>
        <p:sp>
          <p:nvSpPr>
            <p:cNvPr id="290" name=""/>
            <p:cNvSpPr/>
            <p:nvPr/>
          </p:nvSpPr>
          <p:spPr>
            <a:xfrm>
              <a:off x="1295280" y="1817640"/>
              <a:ext cx="4876920" cy="40384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9760" y="5713560"/>
              <a:ext cx="62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AD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133720" y="1998720"/>
            <a:ext cx="6627960" cy="3857400"/>
            <a:chOff x="2133720" y="1998720"/>
            <a:chExt cx="6627960" cy="3857400"/>
          </a:xfrm>
        </p:grpSpPr>
        <p:sp>
          <p:nvSpPr>
            <p:cNvPr id="293" name=""/>
            <p:cNvSpPr/>
            <p:nvPr/>
          </p:nvSpPr>
          <p:spPr>
            <a:xfrm flipV="1">
              <a:off x="2133720" y="2125800"/>
              <a:ext cx="4351320" cy="37303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54200" y="1998720"/>
              <a:ext cx="3507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SRAS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                 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(expected price level = </a:t>
              </a: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>
            <a:off x="1092240" y="4159080"/>
            <a:ext cx="3022560" cy="0"/>
          </a:xfrm>
          <a:prstGeom prst="line">
            <a:avLst/>
          </a:prstGeom>
          <a:ln w="158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5040" y="39211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74320" y="61563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41200" y="4118040"/>
            <a:ext cx="326880" cy="494280"/>
            <a:chOff x="3841200" y="4118040"/>
            <a:chExt cx="326880" cy="494280"/>
          </a:xfrm>
        </p:grpSpPr>
        <p:sp>
          <p:nvSpPr>
            <p:cNvPr id="299" name=""/>
            <p:cNvSpPr/>
            <p:nvPr/>
          </p:nvSpPr>
          <p:spPr>
            <a:xfrm>
              <a:off x="3841200" y="4214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54320" y="4118040"/>
              <a:ext cx="103320" cy="1029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4a48"/>
                </a:solidFill>
                <a:latin typeface="Arial"/>
              </a:rPr>
              <a:t>The long-run aggregate supply curve</a:t>
            </a:r>
            <a:br>
              <a:rPr sz="2700"/>
            </a:br>
            <a:r>
              <a:rPr b="1" lang="en-US" sz="2700" spc="-1" strike="noStrike">
                <a:solidFill>
                  <a:srgbClr val="004a48"/>
                </a:solidFill>
                <a:latin typeface="Arial"/>
              </a:rPr>
              <a:t>when firms are interdependent</a:t>
            </a:r>
            <a:endParaRPr b="1" lang="en-US" sz="27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826920"/>
            <a:ext cx="76438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110120" y="3103200"/>
            <a:ext cx="0" cy="1041480"/>
          </a:xfrm>
          <a:prstGeom prst="line">
            <a:avLst/>
          </a:prstGeom>
          <a:ln w="158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0120" y="4162320"/>
            <a:ext cx="0" cy="1992240"/>
          </a:xfrm>
          <a:prstGeom prst="line">
            <a:avLst/>
          </a:prstGeom>
          <a:ln w="158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8269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6161040"/>
            <a:ext cx="764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5200" y="61149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1817640"/>
            <a:ext cx="4876920" cy="40384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133720" y="2125800"/>
            <a:ext cx="4351320" cy="3730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-398520" y="312480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77760" y="6461280"/>
            <a:ext cx="189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9760" y="571356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54200" y="1998720"/>
            <a:ext cx="350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RAS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expected price level =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092240" y="4159080"/>
            <a:ext cx="3022560" cy="0"/>
          </a:xfrm>
          <a:prstGeom prst="line">
            <a:avLst/>
          </a:prstGeom>
          <a:ln w="158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5040" y="39211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906560" y="1292400"/>
            <a:ext cx="5505480" cy="4334760"/>
            <a:chOff x="1906560" y="1292400"/>
            <a:chExt cx="5505480" cy="4334760"/>
          </a:xfrm>
        </p:grpSpPr>
        <p:sp>
          <p:nvSpPr>
            <p:cNvPr id="317" name=""/>
            <p:cNvSpPr/>
            <p:nvPr/>
          </p:nvSpPr>
          <p:spPr>
            <a:xfrm>
              <a:off x="1906560" y="1292400"/>
              <a:ext cx="4876920" cy="40384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91040" y="5187960"/>
              <a:ext cx="6210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841200" y="42148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297320" y="3774600"/>
            <a:ext cx="420840" cy="3668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074600" y="3646440"/>
            <a:ext cx="3625920" cy="0"/>
          </a:xfrm>
          <a:prstGeom prst="line">
            <a:avLst/>
          </a:prstGeom>
          <a:ln w="158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00520" y="3665520"/>
            <a:ext cx="0" cy="2490840"/>
          </a:xfrm>
          <a:prstGeom prst="line">
            <a:avLst/>
          </a:prstGeom>
          <a:ln w="158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65600" y="3452760"/>
            <a:ext cx="461160" cy="397440"/>
            <a:chOff x="4665600" y="3452760"/>
            <a:chExt cx="461160" cy="397440"/>
          </a:xfrm>
        </p:grpSpPr>
        <p:sp>
          <p:nvSpPr>
            <p:cNvPr id="324" name=""/>
            <p:cNvSpPr/>
            <p:nvPr/>
          </p:nvSpPr>
          <p:spPr>
            <a:xfrm>
              <a:off x="4799880" y="3452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65600" y="3592440"/>
              <a:ext cx="103320" cy="1033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39720" y="3414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74080" y="61628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27200" y="1380960"/>
            <a:ext cx="6644160" cy="3857400"/>
            <a:chOff x="1627200" y="1380960"/>
            <a:chExt cx="6644160" cy="3857400"/>
          </a:xfrm>
        </p:grpSpPr>
        <p:sp>
          <p:nvSpPr>
            <p:cNvPr id="329" name=""/>
            <p:cNvSpPr/>
            <p:nvPr/>
          </p:nvSpPr>
          <p:spPr>
            <a:xfrm flipV="1">
              <a:off x="1627200" y="1507680"/>
              <a:ext cx="4351320" cy="37306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31840" y="1380960"/>
              <a:ext cx="35395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800080"/>
                  </a:solidFill>
                  <a:latin typeface="Arial"/>
                </a:rPr>
                <a:t>SRAS</a:t>
              </a:r>
              <a:r>
                <a:rPr b="0" lang="en-US" sz="20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Arial"/>
                </a:rPr>
                <a:t>                 </a:t>
              </a:r>
              <a:r>
                <a:rPr b="0" lang="en-US" sz="1600" spc="-1" strike="noStrike">
                  <a:solidFill>
                    <a:srgbClr val="800080"/>
                  </a:solidFill>
                  <a:latin typeface="Arial"/>
                </a:rPr>
                <a:t>(expected price level = </a:t>
              </a:r>
              <a:r>
                <a:rPr b="0" i="1" lang="en-US" sz="1600" spc="-1" strike="noStrike">
                  <a:solidFill>
                    <a:srgbClr val="80008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800080"/>
                  </a:solidFill>
                  <a:latin typeface="Arial"/>
                </a:rPr>
                <a:t>3 </a:t>
              </a:r>
              <a:r>
                <a:rPr b="0" lang="en-US" sz="1600" spc="-1" strike="noStrike">
                  <a:solidFill>
                    <a:srgbClr val="80008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 flipH="1" flipV="1">
            <a:off x="4260960" y="3097080"/>
            <a:ext cx="482400" cy="4082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081080" y="3139920"/>
            <a:ext cx="3051360" cy="0"/>
          </a:xfrm>
          <a:prstGeom prst="line">
            <a:avLst/>
          </a:prstGeom>
          <a:ln w="158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6200" y="29084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042440" y="2651040"/>
            <a:ext cx="313200" cy="517680"/>
            <a:chOff x="4042440" y="2651040"/>
            <a:chExt cx="313200" cy="517680"/>
          </a:xfrm>
        </p:grpSpPr>
        <p:sp>
          <p:nvSpPr>
            <p:cNvPr id="335" name=""/>
            <p:cNvSpPr/>
            <p:nvPr/>
          </p:nvSpPr>
          <p:spPr>
            <a:xfrm>
              <a:off x="4042440" y="265104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8720" y="3065400"/>
              <a:ext cx="10332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054320" y="4118040"/>
            <a:ext cx="103320" cy="10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4320" y="61563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4a48"/>
                </a:solidFill>
                <a:latin typeface="Arial"/>
              </a:rPr>
              <a:t>The long-run aggregate supply curve</a:t>
            </a:r>
            <a:br>
              <a:rPr sz="2700"/>
            </a:br>
            <a:r>
              <a:rPr b="1" lang="en-US" sz="2700" spc="-1" strike="noStrike">
                <a:solidFill>
                  <a:srgbClr val="004a48"/>
                </a:solidFill>
                <a:latin typeface="Arial"/>
              </a:rPr>
              <a:t>when firms are interdependent</a:t>
            </a:r>
            <a:endParaRPr b="1" lang="en-US" sz="27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4640" y="1133640"/>
            <a:ext cx="8429760" cy="554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12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e quantity theory of mone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12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e equation of exchange: </a:t>
            </a: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MV = P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37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M 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money supply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37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V 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velocity of circulation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37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P 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price level (number of times greater 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than in base year)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37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Y 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real value of output at base-year prices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37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MV = PQ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12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The link between money and price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37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quantity theory holds if 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V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 and 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 are determined independently of </a:t>
            </a:r>
            <a:r>
              <a:rPr b="1" i="1" lang="en-US" sz="2600" spc="-1" strike="noStrike">
                <a:solidFill>
                  <a:srgbClr val="800080"/>
                </a:solidFill>
                <a:latin typeface="Arial"/>
              </a:rPr>
              <a:t>M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66680" y="826920"/>
            <a:ext cx="76438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82692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6161040"/>
            <a:ext cx="764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5200" y="611496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95280" y="1817640"/>
            <a:ext cx="4876920" cy="40384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2125800"/>
            <a:ext cx="4351320" cy="3730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-398520" y="312480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77760" y="6461280"/>
            <a:ext cx="189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9760" y="571356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54200" y="1998720"/>
            <a:ext cx="35074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SRAS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(expected price level =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092240" y="4159080"/>
            <a:ext cx="3022560" cy="0"/>
          </a:xfrm>
          <a:prstGeom prst="line">
            <a:avLst/>
          </a:prstGeom>
          <a:ln w="158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5040" y="39211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74320" y="6156360"/>
            <a:ext cx="482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66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6560" y="1292400"/>
            <a:ext cx="4876920" cy="40384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91040" y="5187960"/>
            <a:ext cx="621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D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41200" y="42148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99880" y="345276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297320" y="3774600"/>
            <a:ext cx="420840" cy="3668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074600" y="3646440"/>
            <a:ext cx="3625920" cy="0"/>
          </a:xfrm>
          <a:prstGeom prst="line">
            <a:avLst/>
          </a:prstGeom>
          <a:ln w="158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00520" y="3665520"/>
            <a:ext cx="0" cy="2490840"/>
          </a:xfrm>
          <a:prstGeom prst="line">
            <a:avLst/>
          </a:prstGeom>
          <a:ln w="158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65600" y="3592440"/>
            <a:ext cx="10332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9720" y="34146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74080" y="616284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627200" y="1507680"/>
            <a:ext cx="4351320" cy="3730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31840" y="1380960"/>
            <a:ext cx="3539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SRAS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(expected price level = </a:t>
            </a:r>
            <a:r>
              <a:rPr b="0" i="1" lang="en-US" sz="16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80008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42440" y="2651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260960" y="3097080"/>
            <a:ext cx="482400" cy="4082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081080" y="3139920"/>
            <a:ext cx="3051360" cy="0"/>
          </a:xfrm>
          <a:prstGeom prst="line">
            <a:avLst/>
          </a:prstGeom>
          <a:ln w="158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6200" y="29084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80008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1484280"/>
            <a:ext cx="0" cy="4654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92520" y="1044720"/>
            <a:ext cx="84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L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68720" y="306540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4320" y="4118040"/>
            <a:ext cx="103320" cy="1029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4a48"/>
                </a:solidFill>
                <a:latin typeface="Arial"/>
              </a:rPr>
              <a:t>The long-run aggregate supply curve</a:t>
            </a:r>
            <a:br>
              <a:rPr sz="2700"/>
            </a:br>
            <a:r>
              <a:rPr b="1" lang="en-US" sz="2700" spc="-1" strike="noStrike">
                <a:solidFill>
                  <a:srgbClr val="004a48"/>
                </a:solidFill>
                <a:latin typeface="Arial"/>
              </a:rPr>
              <a:t>when firms are interdependent</a:t>
            </a:r>
            <a:endParaRPr b="1" lang="en-US" sz="27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output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-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elastic in short ru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tickiness of wages and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ide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 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inelastic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interdependence of market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flexibility of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effects of investment on aggregate suppl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19320" y="914400"/>
            <a:ext cx="66294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914400"/>
            <a:ext cx="0" cy="5105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601992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investment on the long-run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1752480"/>
            <a:ext cx="335304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438280" y="1828800"/>
            <a:ext cx="336708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31680" y="544032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230040" y="328824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57080" y="6367320"/>
            <a:ext cx="189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719520" y="3495600"/>
            <a:ext cx="325440" cy="531720"/>
            <a:chOff x="3719520" y="3495600"/>
            <a:chExt cx="325440" cy="531720"/>
          </a:xfrm>
        </p:grpSpPr>
        <p:sp>
          <p:nvSpPr>
            <p:cNvPr id="386" name=""/>
            <p:cNvSpPr/>
            <p:nvPr/>
          </p:nvSpPr>
          <p:spPr>
            <a:xfrm>
              <a:off x="3824280" y="3914640"/>
              <a:ext cx="112680" cy="1126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19520" y="3495600"/>
              <a:ext cx="325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785920" y="1447920"/>
            <a:ext cx="1558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 (short r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219320" y="914400"/>
            <a:ext cx="66294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859040" y="2708280"/>
            <a:ext cx="6010560" cy="1817640"/>
            <a:chOff x="1859040" y="2708280"/>
            <a:chExt cx="6010560" cy="1817640"/>
          </a:xfrm>
        </p:grpSpPr>
        <p:sp>
          <p:nvSpPr>
            <p:cNvPr id="391" name=""/>
            <p:cNvSpPr/>
            <p:nvPr/>
          </p:nvSpPr>
          <p:spPr>
            <a:xfrm flipH="1">
              <a:off x="1859040" y="3122640"/>
              <a:ext cx="4951440" cy="1403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68480" y="2708280"/>
              <a:ext cx="14011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AS</a:t>
              </a:r>
              <a:r>
                <a:rPr b="0" lang="en-US" sz="2400" spc="-1" strike="noStrike" baseline="-25000">
                  <a:solidFill>
                    <a:srgbClr val="cc0000"/>
                  </a:solidFill>
                  <a:latin typeface="Arial"/>
                </a:rPr>
                <a:t> (long ru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078000" y="1852560"/>
            <a:ext cx="4791600" cy="3936960"/>
            <a:chOff x="3078000" y="1852560"/>
            <a:chExt cx="4791600" cy="3936960"/>
          </a:xfrm>
        </p:grpSpPr>
        <p:sp>
          <p:nvSpPr>
            <p:cNvPr id="394" name=""/>
            <p:cNvSpPr/>
            <p:nvPr/>
          </p:nvSpPr>
          <p:spPr>
            <a:xfrm flipV="1">
              <a:off x="3078000" y="2239920"/>
              <a:ext cx="3200400" cy="3549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11520" y="1852560"/>
              <a:ext cx="1558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006600"/>
                  </a:solidFill>
                  <a:latin typeface="Arial"/>
                </a:rPr>
                <a:t>AS</a:t>
              </a:r>
              <a:r>
                <a:rPr b="0" lang="en-US" sz="2400" spc="-1" strike="noStrike" baseline="-25000">
                  <a:solidFill>
                    <a:srgbClr val="006600"/>
                  </a:solidFill>
                  <a:latin typeface="Arial"/>
                </a:rPr>
                <a:t>2 (short ru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219320" y="914400"/>
            <a:ext cx="0" cy="5105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601992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81080" y="1752480"/>
            <a:ext cx="3353040" cy="3886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438280" y="1828800"/>
            <a:ext cx="3367080" cy="3733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1680" y="544032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-230040" y="3288240"/>
            <a:ext cx="136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57080" y="6367320"/>
            <a:ext cx="1896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9520" y="3495600"/>
            <a:ext cx="32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09880" y="1173240"/>
            <a:ext cx="3352680" cy="38862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60480" y="486108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435560" y="2695680"/>
            <a:ext cx="325440" cy="506160"/>
            <a:chOff x="4435560" y="2695680"/>
            <a:chExt cx="325440" cy="506160"/>
          </a:xfrm>
        </p:grpSpPr>
        <p:sp>
          <p:nvSpPr>
            <p:cNvPr id="407" name=""/>
            <p:cNvSpPr/>
            <p:nvPr/>
          </p:nvSpPr>
          <p:spPr>
            <a:xfrm>
              <a:off x="4538520" y="3089160"/>
              <a:ext cx="112680" cy="11268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35560" y="2695680"/>
              <a:ext cx="325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824280" y="3914640"/>
            <a:ext cx="112680" cy="1126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876200" y="3184560"/>
            <a:ext cx="326880" cy="490680"/>
            <a:chOff x="4876200" y="3184560"/>
            <a:chExt cx="326880" cy="490680"/>
          </a:xfrm>
        </p:grpSpPr>
        <p:sp>
          <p:nvSpPr>
            <p:cNvPr id="411" name=""/>
            <p:cNvSpPr/>
            <p:nvPr/>
          </p:nvSpPr>
          <p:spPr>
            <a:xfrm>
              <a:off x="4876200" y="31845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64040" y="3562200"/>
              <a:ext cx="112680" cy="11304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785920" y="1447920"/>
            <a:ext cx="1558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S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 (short r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ect of investment on the long-run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66680" y="762120"/>
            <a:ext cx="7010640" cy="5181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698400"/>
            <a:ext cx="0" cy="5245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1120" y="-6356880"/>
            <a:ext cx="11151360" cy="1271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6" y="21574"/>
                </a:moveTo>
                <a:arcTo wR="10800" hR="10800" stAng="5637033" swAng="4608594"/>
                <a:lnTo>
                  <a:pt x="10800" y="10800"/>
                </a:lnTo>
                <a:close/>
              </a:path>
              <a:path fill="none" w="21600" h="21600">
                <a:moveTo>
                  <a:pt x="10056" y="21574"/>
                </a:moveTo>
                <a:arcTo wR="10800" hR="10800" stAng="5637033" swAng="4608594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080" y="38592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6920" y="12708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61240" y="594504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092240" y="4325760"/>
            <a:ext cx="2014560" cy="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25880" y="4308480"/>
            <a:ext cx="0" cy="1612800"/>
          </a:xfrm>
          <a:prstGeom prst="line">
            <a:avLst/>
          </a:prstGeom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083040" y="3887640"/>
            <a:ext cx="353160" cy="463680"/>
            <a:chOff x="3083040" y="3887640"/>
            <a:chExt cx="353160" cy="463680"/>
          </a:xfrm>
        </p:grpSpPr>
        <p:sp>
          <p:nvSpPr>
            <p:cNvPr id="428" name=""/>
            <p:cNvSpPr/>
            <p:nvPr/>
          </p:nvSpPr>
          <p:spPr>
            <a:xfrm>
              <a:off x="3109320" y="3887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83040" y="4248000"/>
              <a:ext cx="102960" cy="103320"/>
            </a:xfrm>
            <a:prstGeom prst="ellipse">
              <a:avLst/>
            </a:prstGeom>
            <a:solidFill>
              <a:srgbClr val="cc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55560" y="3805200"/>
            <a:ext cx="436680" cy="759960"/>
            <a:chOff x="655560" y="3805200"/>
            <a:chExt cx="436680" cy="759960"/>
          </a:xfrm>
        </p:grpSpPr>
        <p:sp>
          <p:nvSpPr>
            <p:cNvPr id="431" name=""/>
            <p:cNvSpPr/>
            <p:nvPr/>
          </p:nvSpPr>
          <p:spPr>
            <a:xfrm>
              <a:off x="655560" y="41259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2360" y="380520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901600" y="5975280"/>
            <a:ext cx="451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55560" y="2817720"/>
            <a:ext cx="1865160" cy="774360"/>
            <a:chOff x="655560" y="2817720"/>
            <a:chExt cx="1865160" cy="774360"/>
          </a:xfrm>
        </p:grpSpPr>
        <p:sp>
          <p:nvSpPr>
            <p:cNvPr id="435" name=""/>
            <p:cNvSpPr/>
            <p:nvPr/>
          </p:nvSpPr>
          <p:spPr>
            <a:xfrm flipH="1">
              <a:off x="1091880" y="3392640"/>
              <a:ext cx="1428840" cy="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5560" y="315288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120" y="2817720"/>
              <a:ext cx="268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322000" y="3409920"/>
            <a:ext cx="451800" cy="3009240"/>
            <a:chOff x="2322000" y="3409920"/>
            <a:chExt cx="451800" cy="3009240"/>
          </a:xfrm>
        </p:grpSpPr>
        <p:sp>
          <p:nvSpPr>
            <p:cNvPr id="439" name=""/>
            <p:cNvSpPr/>
            <p:nvPr/>
          </p:nvSpPr>
          <p:spPr>
            <a:xfrm>
              <a:off x="2540160" y="3409920"/>
              <a:ext cx="0" cy="2511360"/>
            </a:xfrm>
            <a:prstGeom prst="line">
              <a:avLst/>
            </a:prstGeom>
            <a:ln w="1908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22000" y="5979960"/>
              <a:ext cx="4518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H="1" flipV="1">
            <a:off x="2703600" y="3392280"/>
            <a:ext cx="403200" cy="64116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A Phillips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484360" y="2976480"/>
            <a:ext cx="353160" cy="463680"/>
            <a:chOff x="2484360" y="2976480"/>
            <a:chExt cx="353160" cy="463680"/>
          </a:xfrm>
        </p:grpSpPr>
        <p:sp>
          <p:nvSpPr>
            <p:cNvPr id="444" name=""/>
            <p:cNvSpPr/>
            <p:nvPr/>
          </p:nvSpPr>
          <p:spPr>
            <a:xfrm>
              <a:off x="2510640" y="29764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84360" y="3336840"/>
              <a:ext cx="103320" cy="103320"/>
            </a:xfrm>
            <a:prstGeom prst="ellipse">
              <a:avLst/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elerating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elerating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en unemployment is kept below the ‘natural’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5800" y="838080"/>
            <a:ext cx="769608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7136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36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1400" y="4967280"/>
            <a:ext cx="238140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3960" y="4986360"/>
            <a:ext cx="0" cy="10080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09160" y="6157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85640" y="6164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443960" y="-6520680"/>
            <a:ext cx="9151560" cy="13284360"/>
            <a:chOff x="1443960" y="-6520680"/>
            <a:chExt cx="9151560" cy="13284360"/>
          </a:xfrm>
        </p:grpSpPr>
        <p:grpSp>
          <p:nvGrpSpPr>
            <p:cNvPr id="465" name=""/>
            <p:cNvGrpSpPr/>
            <p:nvPr/>
          </p:nvGrpSpPr>
          <p:grpSpPr>
            <a:xfrm>
              <a:off x="1443960" y="-6520680"/>
              <a:ext cx="9151560" cy="13284360"/>
              <a:chOff x="1443960" y="-6520680"/>
              <a:chExt cx="9151560" cy="13284360"/>
            </a:xfrm>
          </p:grpSpPr>
          <p:sp>
            <p:nvSpPr>
              <p:cNvPr id="466" name=""/>
              <p:cNvSpPr/>
              <p:nvPr/>
            </p:nvSpPr>
            <p:spPr>
              <a:xfrm>
                <a:off x="1443960" y="-6520680"/>
                <a:ext cx="9151560" cy="1304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058" y="21574"/>
                    </a:moveTo>
                    <a:arcTo wR="10800" hR="10800" stAng="5636302" swAng="4609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058" y="21574"/>
                    </a:moveTo>
                    <a:arcTo wR="10800" hR="10800" stAng="5636302" swAng="4609065"/>
                  </a:path>
                </a:pathLst>
              </a:custGeom>
              <a:noFill/>
              <a:ln cap="rnd"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753880" y="6305400"/>
                <a:ext cx="1195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80"/>
                    </a:solidFill>
                    <a:latin typeface="Arial"/>
                  </a:rPr>
                  <a:t>I</a:t>
                </a:r>
                <a:r>
                  <a:rPr b="1" i="1" lang="en-US" sz="20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80"/>
                    </a:solidFill>
                    <a:latin typeface="Arial"/>
                  </a:rPr>
                  <a:t>(</a:t>
                </a:r>
                <a:r>
                  <a:rPr b="0" i="1" lang="en-US" sz="2000" spc="-1" strike="noStrike">
                    <a:solidFill>
                      <a:srgbClr val="00008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e</a:t>
                </a:r>
                <a:r>
                  <a:rPr b="0" lang="en-US" sz="2000" spc="-1" strike="noStrike">
                    <a:solidFill>
                      <a:srgbClr val="000080"/>
                    </a:solidFill>
                    <a:latin typeface="Arial"/>
                  </a:rPr>
                  <a:t> = 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012360" y="60040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009960" y="4581360"/>
            <a:ext cx="354240" cy="459000"/>
            <a:chOff x="3009960" y="4581360"/>
            <a:chExt cx="354240" cy="459000"/>
          </a:xfrm>
        </p:grpSpPr>
        <p:sp>
          <p:nvSpPr>
            <p:cNvPr id="470" name=""/>
            <p:cNvSpPr/>
            <p:nvPr/>
          </p:nvSpPr>
          <p:spPr>
            <a:xfrm>
              <a:off x="3009960" y="45813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19320" y="4937040"/>
              <a:ext cx="103320" cy="1033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accelerationist theory of in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084560" y="5527800"/>
            <a:ext cx="354240" cy="515880"/>
            <a:chOff x="4084560" y="5527800"/>
            <a:chExt cx="354240" cy="515880"/>
          </a:xfrm>
        </p:grpSpPr>
        <p:sp>
          <p:nvSpPr>
            <p:cNvPr id="474" name=""/>
            <p:cNvSpPr/>
            <p:nvPr/>
          </p:nvSpPr>
          <p:spPr>
            <a:xfrm>
              <a:off x="4084560" y="55278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05160" y="5940360"/>
              <a:ext cx="103320" cy="1033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the velocity of circ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 ru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uncertain relationship between money and pric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monetary transmission mechanism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money–interest rate link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the interest rate–spending link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 ru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 theory of portfolio balanc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838080"/>
            <a:ext cx="769608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520000" y="-4493520"/>
            <a:ext cx="12092040" cy="9147600"/>
            <a:chOff x="2520000" y="-4493520"/>
            <a:chExt cx="12092040" cy="9147600"/>
          </a:xfrm>
        </p:grpSpPr>
        <p:sp>
          <p:nvSpPr>
            <p:cNvPr id="478" name=""/>
            <p:cNvSpPr/>
            <p:nvPr/>
          </p:nvSpPr>
          <p:spPr>
            <a:xfrm>
              <a:off x="2520000" y="-4493520"/>
              <a:ext cx="12092040" cy="898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17" y="21261"/>
                  </a:moveTo>
                  <a:arcTo wR="10800" hR="10800" stAng="6263134" swAng="3908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117" y="21261"/>
                  </a:moveTo>
                  <a:arcTo wR="10800" hR="10800" stAng="6263134" swAng="3908078"/>
                </a:path>
              </a:pathLst>
            </a:custGeom>
            <a:noFill/>
            <a:ln cap="rnd"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41240" y="4195800"/>
              <a:ext cx="173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IV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r>
                <a:rPr b="0" i="1" lang="en-US" sz="2400" spc="-1" strike="noStrike" baseline="30000">
                  <a:solidFill>
                    <a:srgbClr val="6633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 = 12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95200" y="38782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197440" y="-4961520"/>
            <a:ext cx="10733400" cy="10361520"/>
            <a:chOff x="2197440" y="-4961520"/>
            <a:chExt cx="10733400" cy="10361520"/>
          </a:xfrm>
        </p:grpSpPr>
        <p:sp>
          <p:nvSpPr>
            <p:cNvPr id="482" name=""/>
            <p:cNvSpPr/>
            <p:nvPr/>
          </p:nvSpPr>
          <p:spPr>
            <a:xfrm>
              <a:off x="2197440" y="-4961520"/>
              <a:ext cx="10733400" cy="101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88" y="21507"/>
                  </a:moveTo>
                  <a:arcTo wR="10800" hR="10800" stAng="5850775" swAng="439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88" y="21507"/>
                  </a:moveTo>
                  <a:arcTo wR="10800" hR="10800" stAng="5850775" swAng="4394913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44680" y="4941720"/>
              <a:ext cx="1561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III</a:t>
              </a:r>
              <a:r>
                <a:rPr b="1" i="1" lang="en-US" sz="20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i="1" lang="en-US" sz="2400" spc="-1" strike="noStrike" baseline="30000">
                  <a:solidFill>
                    <a:srgbClr val="0066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 = 8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8160" y="46274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723320" y="-5824080"/>
            <a:ext cx="10424880" cy="11878200"/>
            <a:chOff x="1723320" y="-5824080"/>
            <a:chExt cx="10424880" cy="11878200"/>
          </a:xfrm>
        </p:grpSpPr>
        <p:sp>
          <p:nvSpPr>
            <p:cNvPr id="486" name=""/>
            <p:cNvSpPr/>
            <p:nvPr/>
          </p:nvSpPr>
          <p:spPr>
            <a:xfrm>
              <a:off x="1723320" y="-5824080"/>
              <a:ext cx="10424880" cy="116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57" y="21574"/>
                  </a:moveTo>
                  <a:arcTo wR="10800" hR="10800" stAng="5636787" swAng="46090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57" y="21574"/>
                  </a:moveTo>
                  <a:arcTo wR="10800" hR="10800" stAng="5636787" swAng="4609037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62440" y="5595840"/>
              <a:ext cx="1491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II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0" i="1" lang="en-US" sz="2400" spc="-1" strike="noStrike" baseline="30000">
                  <a:solidFill>
                    <a:srgbClr val="cc00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 = 4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71400" y="4967280"/>
            <a:ext cx="238140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3960" y="-6520680"/>
            <a:ext cx="9151560" cy="130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8" y="21574"/>
                </a:moveTo>
                <a:arcTo wR="10800" hR="10800" stAng="5636302" swAng="4609065"/>
                <a:lnTo>
                  <a:pt x="10800" y="10800"/>
                </a:lnTo>
                <a:close/>
              </a:path>
              <a:path fill="none" w="21600" h="21600">
                <a:moveTo>
                  <a:pt x="10058" y="21574"/>
                </a:moveTo>
                <a:arcTo wR="10800" hR="10800" stAng="5636302" swAng="4609065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09160" y="6157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84560" y="55278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09960" y="4581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19320" y="4937040"/>
            <a:ext cx="103320" cy="1033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936960"/>
            <a:ext cx="23670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195440" y="4532400"/>
            <a:ext cx="337320" cy="530280"/>
            <a:chOff x="4195440" y="4532400"/>
            <a:chExt cx="337320" cy="530280"/>
          </a:xfrm>
        </p:grpSpPr>
        <p:sp>
          <p:nvSpPr>
            <p:cNvPr id="501" name=""/>
            <p:cNvSpPr/>
            <p:nvPr/>
          </p:nvSpPr>
          <p:spPr>
            <a:xfrm>
              <a:off x="4195440" y="4532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97240" y="4959360"/>
              <a:ext cx="103320" cy="1033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948040" y="3457440"/>
            <a:ext cx="354240" cy="530280"/>
            <a:chOff x="2948040" y="3457440"/>
            <a:chExt cx="354240" cy="530280"/>
          </a:xfrm>
        </p:grpSpPr>
        <p:sp>
          <p:nvSpPr>
            <p:cNvPr id="504" name=""/>
            <p:cNvSpPr/>
            <p:nvPr/>
          </p:nvSpPr>
          <p:spPr>
            <a:xfrm>
              <a:off x="3030480" y="3884760"/>
              <a:ext cx="103320" cy="10296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48040" y="345744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205160" y="5958000"/>
            <a:ext cx="103320" cy="1029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85640" y="6164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53880" y="6305400"/>
            <a:ext cx="119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i="1" lang="en-US" sz="2400" spc="-1" strike="noStrike" baseline="30000">
                <a:solidFill>
                  <a:srgbClr val="00008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2360" y="60040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15600" y="52941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7880" y="2909880"/>
            <a:ext cx="239868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879640" y="2454120"/>
            <a:ext cx="354240" cy="509760"/>
            <a:chOff x="2879640" y="2454120"/>
            <a:chExt cx="354240" cy="509760"/>
          </a:xfrm>
        </p:grpSpPr>
        <p:sp>
          <p:nvSpPr>
            <p:cNvPr id="513" name=""/>
            <p:cNvSpPr/>
            <p:nvPr/>
          </p:nvSpPr>
          <p:spPr>
            <a:xfrm>
              <a:off x="3000240" y="2860560"/>
              <a:ext cx="103320" cy="103320"/>
            </a:xfrm>
            <a:prstGeom prst="ellipse">
              <a:avLst/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79640" y="24541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accelerationist theory of in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873080"/>
            <a:ext cx="236376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964600" y="1360440"/>
            <a:ext cx="270360" cy="528840"/>
            <a:chOff x="2964600" y="1360440"/>
            <a:chExt cx="270360" cy="528840"/>
          </a:xfrm>
        </p:grpSpPr>
        <p:sp>
          <p:nvSpPr>
            <p:cNvPr id="518" name=""/>
            <p:cNvSpPr/>
            <p:nvPr/>
          </p:nvSpPr>
          <p:spPr>
            <a:xfrm>
              <a:off x="2964600" y="13604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89440" y="1785960"/>
              <a:ext cx="102960" cy="103320"/>
            </a:xfrm>
            <a:prstGeom prst="ellipse">
              <a:avLst/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77840" y="498600"/>
          <a:ext cx="83502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498600"/>
                    <a:ext cx="83502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elerating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en unemployment is kept below the ‘natural’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-run Phillip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997440" y="6451560"/>
            <a:ext cx="490320" cy="508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838080"/>
            <a:ext cx="769608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71360" y="498600"/>
          <a:ext cx="8364600" cy="61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36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43960" y="-6520680"/>
            <a:ext cx="9151560" cy="130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8" y="21574"/>
                </a:moveTo>
                <a:arcTo wR="10800" hR="10800" stAng="5636302" swAng="4609065"/>
                <a:lnTo>
                  <a:pt x="10800" y="10800"/>
                </a:lnTo>
                <a:close/>
              </a:path>
              <a:path fill="none" w="21600" h="21600">
                <a:moveTo>
                  <a:pt x="10058" y="21574"/>
                </a:moveTo>
                <a:arcTo wR="10800" hR="10800" stAng="5636302" swAng="4609065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23320" y="-5824080"/>
            <a:ext cx="10424880" cy="116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7" y="21574"/>
                </a:moveTo>
                <a:arcTo wR="10800" hR="10800" stAng="5636787" swAng="4609037"/>
                <a:lnTo>
                  <a:pt x="10800" y="10800"/>
                </a:lnTo>
                <a:close/>
              </a:path>
              <a:path fill="none" w="21600" h="21600">
                <a:moveTo>
                  <a:pt x="10057" y="21574"/>
                </a:moveTo>
                <a:arcTo wR="10800" hR="10800" stAng="5636787" swAng="4609037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19320" y="4937040"/>
            <a:ext cx="103320" cy="1033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30480" y="3884760"/>
            <a:ext cx="103320" cy="1029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97440" y="-4961520"/>
            <a:ext cx="10733400" cy="1018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8" y="21507"/>
                </a:moveTo>
                <a:arcTo wR="10800" hR="10800" stAng="5850775" swAng="4394913"/>
                <a:lnTo>
                  <a:pt x="10800" y="10800"/>
                </a:lnTo>
                <a:close/>
              </a:path>
              <a:path fill="none" w="21600" h="21600">
                <a:moveTo>
                  <a:pt x="9388" y="21507"/>
                </a:moveTo>
                <a:arcTo wR="10800" hR="10800" stAng="5850775" swAng="4394913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00240" y="2860560"/>
            <a:ext cx="103320" cy="10332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20000" y="-4493520"/>
            <a:ext cx="12092040" cy="898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17" y="21261"/>
                </a:moveTo>
                <a:arcTo wR="10800" hR="10800" stAng="6263134" swAng="3908078"/>
                <a:lnTo>
                  <a:pt x="10800" y="10800"/>
                </a:lnTo>
                <a:close/>
              </a:path>
              <a:path fill="none" w="21600" h="21600">
                <a:moveTo>
                  <a:pt x="8117" y="21261"/>
                </a:moveTo>
                <a:arcTo wR="10800" hR="10800" stAng="6263134" swAng="3908078"/>
              </a:path>
            </a:pathLst>
          </a:custGeom>
          <a:noFill/>
          <a:ln cap="rnd"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089160" y="5132520"/>
            <a:ext cx="0" cy="80640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089160" y="4125600"/>
            <a:ext cx="0" cy="69516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071880" y="3007800"/>
            <a:ext cx="0" cy="8240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052800" y="1963440"/>
            <a:ext cx="0" cy="78732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89440" y="1785960"/>
            <a:ext cx="102960" cy="103320"/>
          </a:xfrm>
          <a:prstGeom prst="ellipse">
            <a:avLst/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09160" y="61578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85640" y="6164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69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he long-run Phillips curv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elerating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en unemployment is kept below the ‘natural’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-run Phillip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f deflationary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685800" y="838080"/>
            <a:ext cx="769608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136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36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19640" y="-2679480"/>
            <a:ext cx="10219680" cy="57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67" y="21194"/>
                </a:moveTo>
                <a:arcTo wR="10800" hR="10800" stAng="6345360" swAng="3721532"/>
                <a:lnTo>
                  <a:pt x="10800" y="10800"/>
                </a:lnTo>
                <a:close/>
              </a:path>
              <a:path fill="none" w="21600" h="21600">
                <a:moveTo>
                  <a:pt x="7867" y="21194"/>
                </a:moveTo>
                <a:arcTo wR="10800" hR="10800" stAng="6345360" swAng="3721532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85640" y="6164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71400" y="1725480"/>
            <a:ext cx="35704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13400" y="6159600"/>
            <a:ext cx="46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1400" y="2147760"/>
            <a:ext cx="413856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191120" y="1400040"/>
            <a:ext cx="348120" cy="379440"/>
            <a:chOff x="4191120" y="1400040"/>
            <a:chExt cx="348120" cy="379440"/>
          </a:xfrm>
        </p:grpSpPr>
        <p:sp>
          <p:nvSpPr>
            <p:cNvPr id="564" name=""/>
            <p:cNvSpPr/>
            <p:nvPr/>
          </p:nvSpPr>
          <p:spPr>
            <a:xfrm>
              <a:off x="4239720" y="1400040"/>
              <a:ext cx="29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66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1676520"/>
              <a:ext cx="102960" cy="10296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4827600" y="2165400"/>
            <a:ext cx="0" cy="3846600"/>
          </a:xfrm>
          <a:prstGeom prst="line">
            <a:avLst/>
          </a:prstGeom>
          <a:ln w="1908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82640" y="2774880"/>
            <a:ext cx="166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i="1" lang="en-US" sz="2400" spc="-1" strike="noStrike" baseline="30000">
                <a:solidFill>
                  <a:srgbClr val="00008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= 2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20760" y="247320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762440" y="1706400"/>
            <a:ext cx="395280" cy="481320"/>
            <a:chOff x="4762440" y="1706400"/>
            <a:chExt cx="395280" cy="481320"/>
          </a:xfrm>
        </p:grpSpPr>
        <p:sp>
          <p:nvSpPr>
            <p:cNvPr id="570" name=""/>
            <p:cNvSpPr/>
            <p:nvPr/>
          </p:nvSpPr>
          <p:spPr>
            <a:xfrm>
              <a:off x="4762440" y="1706400"/>
              <a:ext cx="39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65680" y="2084400"/>
              <a:ext cx="103320" cy="10332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The effects of de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85800" y="838080"/>
            <a:ext cx="769608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7136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36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4827600" y="2165400"/>
            <a:ext cx="0" cy="3846600"/>
          </a:xfrm>
          <a:prstGeom prst="line">
            <a:avLst/>
          </a:prstGeom>
          <a:ln w="19080">
            <a:solidFill>
              <a:srgbClr val="66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36400" y="-3341880"/>
            <a:ext cx="11281320" cy="69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1" y="21071"/>
                </a:moveTo>
                <a:arcTo wR="10800" hR="10800" stAng="6480501" swAng="3663575"/>
                <a:lnTo>
                  <a:pt x="10800" y="10800"/>
                </a:lnTo>
                <a:close/>
              </a:path>
              <a:path fill="none" w="21600" h="21600">
                <a:moveTo>
                  <a:pt x="7461" y="21071"/>
                </a:moveTo>
                <a:arcTo wR="10800" hR="10800" stAng="6480501" swAng="3663575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19640" y="-2679480"/>
            <a:ext cx="10219680" cy="57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67" y="21194"/>
                </a:moveTo>
                <a:arcTo wR="10800" hR="10800" stAng="6345360" swAng="3721532"/>
                <a:lnTo>
                  <a:pt x="10800" y="10800"/>
                </a:lnTo>
                <a:close/>
              </a:path>
              <a:path fill="none" w="21600" h="21600">
                <a:moveTo>
                  <a:pt x="7867" y="21194"/>
                </a:moveTo>
                <a:arcTo wR="10800" hR="10800" stAng="6345360" swAng="3721532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091200" y="2714760"/>
            <a:ext cx="1800" cy="403200"/>
          </a:xfrm>
          <a:prstGeom prst="line">
            <a:avLst/>
          </a:prstGeom>
          <a:ln w="1260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85640" y="6164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1400" y="1725480"/>
            <a:ext cx="35704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13400" y="6159600"/>
            <a:ext cx="46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1400" y="2147760"/>
            <a:ext cx="413856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1400" y="2568600"/>
            <a:ext cx="415620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400" y="3008160"/>
            <a:ext cx="415620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62440" y="170640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82640" y="2774880"/>
            <a:ext cx="166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i="1" lang="en-US" sz="2400" spc="-1" strike="noStrike" baseline="30000">
                <a:solidFill>
                  <a:srgbClr val="00008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= 2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20760" y="247320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09640" y="3257640"/>
            <a:ext cx="173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XI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i="1" lang="en-US" sz="2400" spc="-1" strike="noStrike" baseline="30000">
                <a:solidFill>
                  <a:srgbClr val="0066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1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1560" y="294336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090960" y="-3633840"/>
            <a:ext cx="11022840" cy="7828920"/>
            <a:chOff x="3090960" y="-3633840"/>
            <a:chExt cx="11022840" cy="7828920"/>
          </a:xfrm>
        </p:grpSpPr>
        <p:sp>
          <p:nvSpPr>
            <p:cNvPr id="597" name=""/>
            <p:cNvSpPr/>
            <p:nvPr/>
          </p:nvSpPr>
          <p:spPr>
            <a:xfrm>
              <a:off x="3090960" y="-3633840"/>
              <a:ext cx="11022840" cy="767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78" y="21197"/>
                  </a:moveTo>
                  <a:arcTo wR="10800" hR="10800" stAng="6341803" swAng="3904168"/>
                  <a:lnTo>
                    <a:pt x="10800" y="10800"/>
                  </a:lnTo>
                  <a:close/>
                </a:path>
                <a:path fill="none" w="21600" h="21600">
                  <a:moveTo>
                    <a:pt x="7878" y="21197"/>
                  </a:moveTo>
                  <a:arcTo wR="10800" hR="10800" stAng="6341803" swAng="3904168"/>
                </a:path>
              </a:pathLst>
            </a:custGeom>
            <a:noFill/>
            <a:ln cap="rnd"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095880" y="3251160"/>
              <a:ext cx="1800" cy="40320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43040" y="3736800"/>
              <a:ext cx="180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Arial"/>
                </a:rPr>
                <a:t>XII</a:t>
              </a:r>
              <a:r>
                <a:rPr b="1" i="1" lang="en-US" sz="2000" spc="-1" strike="noStrike">
                  <a:solidFill>
                    <a:srgbClr val="6633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r>
                <a:rPr b="0" i="1" lang="en-US" sz="2400" spc="-1" strike="noStrike" baseline="30000">
                  <a:solidFill>
                    <a:srgbClr val="6633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 = 16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1560" y="341964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775040" y="2257560"/>
            <a:ext cx="302040" cy="397440"/>
            <a:chOff x="4775040" y="2257560"/>
            <a:chExt cx="302040" cy="397440"/>
          </a:xfrm>
        </p:grpSpPr>
        <p:sp>
          <p:nvSpPr>
            <p:cNvPr id="602" name=""/>
            <p:cNvSpPr/>
            <p:nvPr/>
          </p:nvSpPr>
          <p:spPr>
            <a:xfrm>
              <a:off x="4835520" y="2257560"/>
              <a:ext cx="24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75040" y="2513160"/>
              <a:ext cx="103320" cy="102960"/>
            </a:xfrm>
            <a:prstGeom prst="ellipse">
              <a:avLst/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4239720" y="1400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191120" y="1676520"/>
            <a:ext cx="102960" cy="1029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65680" y="2084400"/>
            <a:ext cx="103320" cy="1033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782960" y="2714760"/>
            <a:ext cx="445320" cy="397440"/>
            <a:chOff x="4782960" y="2714760"/>
            <a:chExt cx="445320" cy="397440"/>
          </a:xfrm>
        </p:grpSpPr>
        <p:sp>
          <p:nvSpPr>
            <p:cNvPr id="608" name=""/>
            <p:cNvSpPr/>
            <p:nvPr/>
          </p:nvSpPr>
          <p:spPr>
            <a:xfrm>
              <a:off x="4831560" y="2714760"/>
              <a:ext cx="396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82960" y="2940120"/>
              <a:ext cx="103320" cy="102960"/>
            </a:xfrm>
            <a:prstGeom prst="ellipse">
              <a:avLst/>
            </a:prstGeom>
            <a:solidFill>
              <a:srgbClr val="ff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The effects of de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685800" y="838080"/>
            <a:ext cx="769608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7136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36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0960" y="-3633840"/>
            <a:ext cx="11022840" cy="767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78" y="21197"/>
                </a:moveTo>
                <a:arcTo wR="10800" hR="10800" stAng="6341803" swAng="3904168"/>
                <a:lnTo>
                  <a:pt x="10800" y="10800"/>
                </a:lnTo>
                <a:close/>
              </a:path>
              <a:path fill="none" w="21600" h="21600">
                <a:moveTo>
                  <a:pt x="7878" y="21197"/>
                </a:moveTo>
                <a:arcTo wR="10800" hR="10800" stAng="6341803" swAng="3904168"/>
              </a:path>
            </a:pathLst>
          </a:custGeom>
          <a:noFill/>
          <a:ln cap="rnd"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36400" y="-3341880"/>
            <a:ext cx="11281320" cy="69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1" y="21071"/>
                </a:moveTo>
                <a:arcTo wR="10800" hR="10800" stAng="6480501" swAng="3663575"/>
                <a:lnTo>
                  <a:pt x="10800" y="10800"/>
                </a:lnTo>
                <a:close/>
              </a:path>
              <a:path fill="none" w="21600" h="21600">
                <a:moveTo>
                  <a:pt x="7461" y="21071"/>
                </a:moveTo>
                <a:arcTo wR="10800" hR="10800" stAng="6480501" swAng="3663575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19640" y="-2679480"/>
            <a:ext cx="10219680" cy="57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67" y="21194"/>
                </a:moveTo>
                <a:arcTo wR="10800" hR="10800" stAng="6345360" swAng="3721532"/>
                <a:lnTo>
                  <a:pt x="10800" y="10800"/>
                </a:lnTo>
                <a:close/>
              </a:path>
              <a:path fill="none" w="21600" h="21600">
                <a:moveTo>
                  <a:pt x="7867" y="21194"/>
                </a:moveTo>
                <a:arcTo wR="10800" hR="10800" stAng="6345360" swAng="3721532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85640" y="6164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1400" y="1725480"/>
            <a:ext cx="357048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13400" y="6159600"/>
            <a:ext cx="466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1400" y="2147760"/>
            <a:ext cx="4138560" cy="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1400" y="2568600"/>
            <a:ext cx="4156200" cy="0"/>
          </a:xfrm>
          <a:prstGeom prst="line">
            <a:avLst/>
          </a:prstGeom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1400" y="3008160"/>
            <a:ext cx="4156200" cy="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62440" y="1706400"/>
            <a:ext cx="3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35520" y="2257560"/>
            <a:ext cx="24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31560" y="2714760"/>
            <a:ext cx="396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21400" y="663840"/>
            <a:ext cx="1024920" cy="52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11"/>
                </a:moveTo>
                <a:arcTo wR="10800" hR="10800" stAng="-155683" swAng="5555683"/>
                <a:lnTo>
                  <a:pt x="10800" y="10800"/>
                </a:lnTo>
                <a:close/>
              </a:path>
              <a:path fill="none" w="21600" h="21600">
                <a:moveTo>
                  <a:pt x="21589" y="10311"/>
                </a:moveTo>
                <a:arcTo wR="10800" hR="10800" stAng="-155683" swAng="5555683"/>
              </a:path>
            </a:pathLst>
          </a:custGeom>
          <a:noFill/>
          <a:ln cap="rnd"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96640" y="56102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75040" y="2513160"/>
            <a:ext cx="103320" cy="1029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239720" y="1400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91120" y="1676520"/>
            <a:ext cx="102960" cy="1029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5680" y="2084400"/>
            <a:ext cx="103320" cy="10332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57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The effects of deflation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782960" y="2940120"/>
            <a:ext cx="103320" cy="102960"/>
          </a:xfrm>
          <a:prstGeom prst="ellipse">
            <a:avLst/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elerating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en unemployment is kept below the ‘natural’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-run Phillip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f deflationary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hillips loo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85800" y="838080"/>
            <a:ext cx="768996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724760" y="-5689080"/>
            <a:ext cx="10203120" cy="11750760"/>
            <a:chOff x="1724760" y="-5689080"/>
            <a:chExt cx="10203120" cy="11750760"/>
          </a:xfrm>
        </p:grpSpPr>
        <p:sp>
          <p:nvSpPr>
            <p:cNvPr id="643" name=""/>
            <p:cNvSpPr/>
            <p:nvPr/>
          </p:nvSpPr>
          <p:spPr>
            <a:xfrm>
              <a:off x="1724760" y="-5689080"/>
              <a:ext cx="10203120" cy="1167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57" y="21574"/>
                  </a:moveTo>
                  <a:arcTo wR="10800" hR="10800" stAng="5636591" swAng="46088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57" y="21574"/>
                  </a:moveTo>
                  <a:arcTo wR="10800" hR="10800" stAng="5636591" swAng="4608889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96120" y="56642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Year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5" name=""/>
          <p:cNvGraphicFramePr/>
          <p:nvPr/>
        </p:nvGraphicFramePr>
        <p:xfrm>
          <a:off x="18900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43960" y="-6520680"/>
            <a:ext cx="9151560" cy="130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8" y="21574"/>
                </a:moveTo>
                <a:arcTo wR="10800" hR="10800" stAng="5636302" swAng="4609065"/>
                <a:lnTo>
                  <a:pt x="10800" y="10800"/>
                </a:lnTo>
                <a:close/>
              </a:path>
              <a:path fill="none" w="21600" h="21600">
                <a:moveTo>
                  <a:pt x="10058" y="21574"/>
                </a:moveTo>
                <a:arcTo wR="10800" hR="10800" stAng="5636302" swAng="4609065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25560">
            <a:solidFill>
              <a:srgbClr val="66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454560" y="5518080"/>
            <a:ext cx="660240" cy="49392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3089160" y="4199040"/>
            <a:ext cx="309600" cy="10080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3160" y="6148440"/>
            <a:ext cx="468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969720" y="5535720"/>
            <a:ext cx="326880" cy="512640"/>
            <a:chOff x="3969720" y="5535720"/>
            <a:chExt cx="326880" cy="512640"/>
          </a:xfrm>
        </p:grpSpPr>
        <p:sp>
          <p:nvSpPr>
            <p:cNvPr id="658" name=""/>
            <p:cNvSpPr/>
            <p:nvPr/>
          </p:nvSpPr>
          <p:spPr>
            <a:xfrm>
              <a:off x="4178160" y="5945040"/>
              <a:ext cx="103320" cy="1033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69720" y="5535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090240" y="5207040"/>
            <a:ext cx="416520" cy="397440"/>
            <a:chOff x="3090240" y="5207040"/>
            <a:chExt cx="416520" cy="397440"/>
          </a:xfrm>
        </p:grpSpPr>
        <p:sp>
          <p:nvSpPr>
            <p:cNvPr id="661" name=""/>
            <p:cNvSpPr/>
            <p:nvPr/>
          </p:nvSpPr>
          <p:spPr>
            <a:xfrm>
              <a:off x="3403440" y="5342040"/>
              <a:ext cx="103320" cy="102960"/>
            </a:xfrm>
            <a:prstGeom prst="ellipse">
              <a:avLst/>
            </a:prstGeom>
            <a:solidFill>
              <a:srgbClr val="66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90240" y="5207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730960" y="3905280"/>
            <a:ext cx="385200" cy="397440"/>
            <a:chOff x="2730960" y="3905280"/>
            <a:chExt cx="385200" cy="397440"/>
          </a:xfrm>
        </p:grpSpPr>
        <p:sp>
          <p:nvSpPr>
            <p:cNvPr id="664" name=""/>
            <p:cNvSpPr/>
            <p:nvPr/>
          </p:nvSpPr>
          <p:spPr>
            <a:xfrm>
              <a:off x="3013200" y="4049640"/>
              <a:ext cx="102960" cy="1033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30960" y="390528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41520" y="634356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Year 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ockwise Phillips loop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5800" y="838080"/>
            <a:ext cx="768996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304440" y="-3519360"/>
            <a:ext cx="11288520" cy="7382160"/>
            <a:chOff x="3304440" y="-3519360"/>
            <a:chExt cx="11288520" cy="7382160"/>
          </a:xfrm>
        </p:grpSpPr>
        <p:sp>
          <p:nvSpPr>
            <p:cNvPr id="670" name=""/>
            <p:cNvSpPr/>
            <p:nvPr/>
          </p:nvSpPr>
          <p:spPr>
            <a:xfrm>
              <a:off x="3304440" y="-3519360"/>
              <a:ext cx="11288520" cy="73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49" y="21034"/>
                  </a:moveTo>
                  <a:arcTo wR="10800" hR="10800" stAng="6518239" swAng="3652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7349" y="21034"/>
                  </a:moveTo>
                  <a:arcTo wR="10800" hR="10800" stAng="6518239" swAng="3652339"/>
                </a:path>
              </a:pathLst>
            </a:custGeom>
            <a:noFill/>
            <a:ln cap="rnd"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53560" y="346536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63300"/>
                  </a:solidFill>
                  <a:latin typeface="Arial"/>
                </a:rPr>
                <a:t>Year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520720" y="-4493520"/>
            <a:ext cx="12090600" cy="9034200"/>
            <a:chOff x="2520720" y="-4493520"/>
            <a:chExt cx="12090600" cy="9034200"/>
          </a:xfrm>
        </p:grpSpPr>
        <p:sp>
          <p:nvSpPr>
            <p:cNvPr id="673" name=""/>
            <p:cNvSpPr/>
            <p:nvPr/>
          </p:nvSpPr>
          <p:spPr>
            <a:xfrm>
              <a:off x="2520720" y="-4493520"/>
              <a:ext cx="12090600" cy="898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117" y="21261"/>
                  </a:moveTo>
                  <a:arcTo wR="10800" hR="10800" stAng="6263134" swAng="3843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8117" y="21261"/>
                  </a:moveTo>
                  <a:arcTo wR="10800" hR="10800" stAng="6263134" swAng="3843686"/>
                </a:path>
              </a:pathLst>
            </a:custGeom>
            <a:noFill/>
            <a:ln cap="rnd"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81920" y="41432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Arial"/>
                </a:rPr>
                <a:t>Year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5" name=""/>
          <p:cNvGraphicFramePr/>
          <p:nvPr/>
        </p:nvGraphicFramePr>
        <p:xfrm>
          <a:off x="18900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43960" y="-6520680"/>
            <a:ext cx="9151560" cy="130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8" y="21574"/>
                </a:moveTo>
                <a:arcTo wR="10800" hR="10800" stAng="5636302" swAng="4609065"/>
                <a:lnTo>
                  <a:pt x="10800" y="10800"/>
                </a:lnTo>
                <a:close/>
              </a:path>
              <a:path fill="none" w="21600" h="21600">
                <a:moveTo>
                  <a:pt x="10058" y="21574"/>
                </a:moveTo>
                <a:arcTo wR="10800" hR="10800" stAng="5636302" swAng="4609065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24760" y="-5689080"/>
            <a:ext cx="10203120" cy="11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7" y="21574"/>
                </a:moveTo>
                <a:arcTo wR="10800" hR="10800" stAng="5636591" swAng="4608889"/>
                <a:lnTo>
                  <a:pt x="10800" y="10800"/>
                </a:lnTo>
                <a:close/>
              </a:path>
              <a:path fill="none" w="21600" h="21600">
                <a:moveTo>
                  <a:pt x="10057" y="21574"/>
                </a:moveTo>
                <a:arcTo wR="10800" hR="10800" stAng="5636591" swAng="4608889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03440" y="5342040"/>
            <a:ext cx="103320" cy="1029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13200" y="404964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97440" y="-4961520"/>
            <a:ext cx="10733400" cy="1018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8" y="21507"/>
                </a:moveTo>
                <a:arcTo wR="10800" hR="10800" stAng="5850775" swAng="4394913"/>
                <a:lnTo>
                  <a:pt x="10800" y="10800"/>
                </a:lnTo>
                <a:close/>
              </a:path>
              <a:path fill="none" w="21600" h="21600">
                <a:moveTo>
                  <a:pt x="9388" y="21507"/>
                </a:moveTo>
                <a:arcTo wR="10800" hR="10800" stAng="5850775" swAng="4394913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25560">
            <a:solidFill>
              <a:srgbClr val="66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3454560" y="5518080"/>
            <a:ext cx="660240" cy="49392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3089160" y="4199040"/>
            <a:ext cx="309600" cy="10080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3052800" y="3007800"/>
            <a:ext cx="0" cy="93348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089160" y="2403360"/>
            <a:ext cx="255600" cy="4032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43160" y="6148440"/>
            <a:ext cx="468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546360" y="2225160"/>
            <a:ext cx="628920" cy="860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78160" y="594504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69720" y="5535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90240" y="5207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30960" y="390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688480" y="2770200"/>
            <a:ext cx="415080" cy="397440"/>
            <a:chOff x="2688480" y="2770200"/>
            <a:chExt cx="415080" cy="397440"/>
          </a:xfrm>
        </p:grpSpPr>
        <p:sp>
          <p:nvSpPr>
            <p:cNvPr id="699" name=""/>
            <p:cNvSpPr/>
            <p:nvPr/>
          </p:nvSpPr>
          <p:spPr>
            <a:xfrm>
              <a:off x="3000240" y="2860560"/>
              <a:ext cx="103320" cy="103320"/>
            </a:xfrm>
            <a:prstGeom prst="ellipse">
              <a:avLst/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88480" y="2770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272760" y="1927080"/>
            <a:ext cx="326880" cy="474840"/>
            <a:chOff x="3272760" y="1927080"/>
            <a:chExt cx="326880" cy="474840"/>
          </a:xfrm>
        </p:grpSpPr>
        <p:sp>
          <p:nvSpPr>
            <p:cNvPr id="702" name=""/>
            <p:cNvSpPr/>
            <p:nvPr/>
          </p:nvSpPr>
          <p:spPr>
            <a:xfrm>
              <a:off x="3355920" y="2298600"/>
              <a:ext cx="103320" cy="103320"/>
            </a:xfrm>
            <a:prstGeom prst="ellipse">
              <a:avLst/>
            </a:prstGeom>
            <a:solidFill>
              <a:srgbClr val="ff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72760" y="19270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4202280" y="1762200"/>
            <a:ext cx="332280" cy="498240"/>
            <a:chOff x="4202280" y="1762200"/>
            <a:chExt cx="332280" cy="498240"/>
          </a:xfrm>
        </p:grpSpPr>
        <p:sp>
          <p:nvSpPr>
            <p:cNvPr id="705" name=""/>
            <p:cNvSpPr/>
            <p:nvPr/>
          </p:nvSpPr>
          <p:spPr>
            <a:xfrm>
              <a:off x="4202280" y="2157480"/>
              <a:ext cx="102960" cy="102960"/>
            </a:xfrm>
            <a:prstGeom prst="ellipse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79320" y="176220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6041520" y="634356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Year  0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396120" y="5664240"/>
            <a:ext cx="93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Yea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96160" y="4913280"/>
            <a:ext cx="93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ockwise Phillips loop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s about output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short-run aggregate supply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latively elastic in short ru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stickiness of wages and prices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250"/>
              </a:spcBef>
              <a:buClr>
                <a:srgbClr val="66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idence</a:t>
            </a:r>
            <a:endParaRPr b="1" lang="en-US" sz="20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685800" y="838080"/>
            <a:ext cx="7689960" cy="516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89000" y="498600"/>
          <a:ext cx="8364600" cy="61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498600"/>
                    <a:ext cx="836460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3960" y="-6520680"/>
            <a:ext cx="9151560" cy="130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8" y="21574"/>
                </a:moveTo>
                <a:arcTo wR="10800" hR="10800" stAng="5636302" swAng="4609065"/>
                <a:lnTo>
                  <a:pt x="10800" y="10800"/>
                </a:lnTo>
                <a:close/>
              </a:path>
              <a:path fill="none" w="21600" h="21600">
                <a:moveTo>
                  <a:pt x="10058" y="21574"/>
                </a:moveTo>
                <a:arcTo wR="10800" hR="10800" stAng="5636302" swAng="4609065"/>
              </a:path>
            </a:pathLst>
          </a:custGeom>
          <a:noFill/>
          <a:ln cap="rnd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360" y="258840"/>
            <a:ext cx="91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9840" y="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761240" y="603720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24760" y="-5689080"/>
            <a:ext cx="10203120" cy="1167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7" y="21574"/>
                </a:moveTo>
                <a:arcTo wR="10800" hR="10800" stAng="5636591" swAng="4608889"/>
                <a:lnTo>
                  <a:pt x="10800" y="10800"/>
                </a:lnTo>
                <a:close/>
              </a:path>
              <a:path fill="none" w="21600" h="21600">
                <a:moveTo>
                  <a:pt x="10057" y="21574"/>
                </a:moveTo>
                <a:arcTo wR="10800" hR="10800" stAng="5636591" swAng="4608889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03440" y="5342040"/>
            <a:ext cx="103320" cy="10296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13200" y="4049640"/>
            <a:ext cx="102960" cy="103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197440" y="-4961520"/>
            <a:ext cx="10733400" cy="1018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8" y="21507"/>
                </a:moveTo>
                <a:arcTo wR="10800" hR="10800" stAng="5850775" swAng="4394913"/>
                <a:lnTo>
                  <a:pt x="10800" y="10800"/>
                </a:lnTo>
                <a:close/>
              </a:path>
              <a:path fill="none" w="21600" h="21600">
                <a:moveTo>
                  <a:pt x="9388" y="21507"/>
                </a:moveTo>
                <a:arcTo wR="10800" hR="10800" stAng="5850775" swAng="4394913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00240" y="2860560"/>
            <a:ext cx="103320" cy="10332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20720" y="-4493520"/>
            <a:ext cx="12090600" cy="898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17" y="21261"/>
                </a:moveTo>
                <a:arcTo wR="10800" hR="10800" stAng="6263134" swAng="3843686"/>
                <a:lnTo>
                  <a:pt x="10800" y="10800"/>
                </a:lnTo>
                <a:close/>
              </a:path>
              <a:path fill="none" w="21600" h="21600">
                <a:moveTo>
                  <a:pt x="8117" y="21261"/>
                </a:moveTo>
                <a:arcTo wR="10800" hR="10800" stAng="6263134" swAng="3843686"/>
              </a:path>
            </a:pathLst>
          </a:custGeom>
          <a:noFill/>
          <a:ln cap="rnd"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241880" y="1047600"/>
            <a:ext cx="0" cy="4964400"/>
          </a:xfrm>
          <a:prstGeom prst="line">
            <a:avLst/>
          </a:prstGeom>
          <a:ln w="25560">
            <a:solidFill>
              <a:srgbClr val="66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3454560" y="5518080"/>
            <a:ext cx="660240" cy="49392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3089160" y="4199040"/>
            <a:ext cx="309600" cy="10080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052800" y="3007800"/>
            <a:ext cx="0" cy="93348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089160" y="2403360"/>
            <a:ext cx="255600" cy="40320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73560" y="2298600"/>
            <a:ext cx="102960" cy="10332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43160" y="6148440"/>
            <a:ext cx="468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04440" y="-3519360"/>
            <a:ext cx="11288520" cy="737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49" y="21034"/>
                </a:moveTo>
                <a:arcTo wR="10800" hR="10800" stAng="6518239" swAng="3652339"/>
                <a:lnTo>
                  <a:pt x="10800" y="10800"/>
                </a:lnTo>
                <a:close/>
              </a:path>
              <a:path fill="none" w="21600" h="21600">
                <a:moveTo>
                  <a:pt x="7349" y="21034"/>
                </a:moveTo>
                <a:arcTo wR="10800" hR="10800" stAng="6518239" swAng="3652339"/>
              </a:path>
            </a:pathLst>
          </a:custGeom>
          <a:noFill/>
          <a:ln cap="rnd"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3546360" y="2225160"/>
            <a:ext cx="628920" cy="860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02280" y="2157480"/>
            <a:ext cx="102960" cy="10296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389480" y="2182680"/>
            <a:ext cx="585720" cy="49536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48280" y="2933640"/>
            <a:ext cx="146160" cy="67788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13520" y="3887640"/>
            <a:ext cx="0" cy="67788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956120" y="4803840"/>
            <a:ext cx="200160" cy="67788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78160" y="5945040"/>
            <a:ext cx="103320" cy="10332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370040" y="5664240"/>
            <a:ext cx="476280" cy="311040"/>
          </a:xfrm>
          <a:prstGeom prst="line">
            <a:avLst/>
          </a:prstGeom>
          <a:ln w="1260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9720" y="5535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90240" y="520704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30960" y="39052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88480" y="27702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72760" y="19270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79320" y="1762200"/>
            <a:ext cx="25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73560" y="3373560"/>
            <a:ext cx="369000" cy="444240"/>
            <a:chOff x="5173560" y="3373560"/>
            <a:chExt cx="369000" cy="444240"/>
          </a:xfrm>
        </p:grpSpPr>
        <p:sp>
          <p:nvSpPr>
            <p:cNvPr id="749" name=""/>
            <p:cNvSpPr/>
            <p:nvPr/>
          </p:nvSpPr>
          <p:spPr>
            <a:xfrm>
              <a:off x="5173560" y="3714840"/>
              <a:ext cx="103320" cy="102960"/>
            </a:xfrm>
            <a:prstGeom prst="ellipse">
              <a:avLst/>
            </a:prstGeom>
            <a:solidFill>
              <a:srgbClr val="ff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15680" y="33735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149800" y="4381560"/>
            <a:ext cx="367200" cy="397440"/>
            <a:chOff x="5149800" y="4381560"/>
            <a:chExt cx="367200" cy="397440"/>
          </a:xfrm>
        </p:grpSpPr>
        <p:sp>
          <p:nvSpPr>
            <p:cNvPr id="752" name=""/>
            <p:cNvSpPr/>
            <p:nvPr/>
          </p:nvSpPr>
          <p:spPr>
            <a:xfrm>
              <a:off x="5149800" y="4626000"/>
              <a:ext cx="103320" cy="103320"/>
            </a:xfrm>
            <a:prstGeom prst="ellipse">
              <a:avLst/>
            </a:prstGeom>
            <a:solidFill>
              <a:srgbClr val="33cc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75440" y="4381560"/>
              <a:ext cx="24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849920" y="5342040"/>
            <a:ext cx="397440" cy="335880"/>
            <a:chOff x="4849920" y="5342040"/>
            <a:chExt cx="397440" cy="335880"/>
          </a:xfrm>
        </p:grpSpPr>
        <p:sp>
          <p:nvSpPr>
            <p:cNvPr id="755" name=""/>
            <p:cNvSpPr/>
            <p:nvPr/>
          </p:nvSpPr>
          <p:spPr>
            <a:xfrm>
              <a:off x="4849920" y="5504040"/>
              <a:ext cx="102960" cy="10296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60080" y="53420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830560" y="6343560"/>
            <a:ext cx="171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Year  0, 1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48960" y="564660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Year 2,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96520" y="491328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ear 3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81560" y="414324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Year 4,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53920" y="346536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Year 5,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5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ockwise Phillips loops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4992840" y="2495520"/>
            <a:ext cx="365760" cy="397440"/>
            <a:chOff x="4992840" y="2495520"/>
            <a:chExt cx="365760" cy="397440"/>
          </a:xfrm>
        </p:grpSpPr>
        <p:sp>
          <p:nvSpPr>
            <p:cNvPr id="764" name=""/>
            <p:cNvSpPr/>
            <p:nvPr/>
          </p:nvSpPr>
          <p:spPr>
            <a:xfrm>
              <a:off x="5031720" y="24955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92840" y="2786040"/>
              <a:ext cx="102960" cy="103320"/>
            </a:xfrm>
            <a:prstGeom prst="ellipse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ations augmented Phillips curv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daptive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accelerationist theor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ccelerating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when unemployment is kept below the ‘natural’ leve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long-run Phillip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s of deflationary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hillips loo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icy implic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48"/>
                </a:solidFill>
                <a:latin typeface="Arial Narrow"/>
              </a:rPr>
              <a:t>Inflation and Unemployment: Introducing Expectations</a:t>
            </a:r>
            <a:endParaRPr b="1" lang="en-US" sz="32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4a48"/>
                </a:solidFill>
                <a:latin typeface="Arial Narrow"/>
              </a:rPr>
              <a:t>Inflation and Unemployment: New Classical Views</a:t>
            </a:r>
            <a:endParaRPr b="1" lang="en-US" sz="35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sumption of flexible wages and pric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tional expect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eaning of rational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mperfect inform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mplications for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S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 and the Phillips curv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l business cyc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luctuations in aggregate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auses of changes in aggregate suppl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olicy implic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 Narrow"/>
              </a:rPr>
              <a:t>Inflation and Unemployment: Keynesian Views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38000" y="1082160"/>
            <a:ext cx="8366040" cy="55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nges in equilibrium unemploy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tructural unemploy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ysteresi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persistence of demand-deficient unemploy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ayment of efficiency wag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sider power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corporation of expect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xpansion of aggregate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ontraction of aggregate deman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eynesian criticism of non-interven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Common ground between economists?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hort-run effect of changes in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ajor effect on output and employ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latively small effect on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ng-run effect of changes in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A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latively small effect on output and job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latively large effect on pri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ome Keynesians disagre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ress long-run effects of changes in 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AD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on invest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ortance of expectations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Demand-side Policy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titudes towards demand manag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se against discre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ime lag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roblem of over-correc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overnment may ignore long-term consequen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se for r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elp to reduce inflationary expectation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reate a stable environment for investment and growth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2"/>
          <a:srcRect l="1666" t="13440" r="2500" b="0"/>
          <a:stretch/>
        </p:blipFill>
        <p:spPr>
          <a:xfrm>
            <a:off x="252360" y="1009800"/>
            <a:ext cx="8637480" cy="535752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777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04920" y="2895480"/>
            <a:ext cx="6696360" cy="30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2"/>
          <a:srcRect l="1666" t="13440" r="2500" b="0"/>
          <a:stretch/>
        </p:blipFill>
        <p:spPr>
          <a:xfrm>
            <a:off x="252360" y="1009800"/>
            <a:ext cx="8637480" cy="535752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781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104920" y="3957480"/>
            <a:ext cx="6696360" cy="194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2"/>
          <a:srcRect l="1666" t="13440" r="2500" b="0"/>
          <a:stretch/>
        </p:blipFill>
        <p:spPr>
          <a:xfrm>
            <a:off x="252360" y="1009800"/>
            <a:ext cx="8637480" cy="535752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785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04920" y="4968720"/>
            <a:ext cx="669636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2"/>
          <a:srcRect l="1666" t="13440" r="2500" b="0"/>
          <a:stretch/>
        </p:blipFill>
        <p:spPr>
          <a:xfrm>
            <a:off x="252360" y="1009800"/>
            <a:ext cx="8637480" cy="5357520"/>
          </a:xfrm>
          <a:prstGeom prst="rect">
            <a:avLst/>
          </a:prstGeom>
          <a:ln w="28440">
            <a:solidFill>
              <a:srgbClr val="006666"/>
            </a:solidFill>
            <a:miter/>
          </a:ln>
        </p:spPr>
      </p:pic>
      <p:sp>
        <p:nvSpPr>
          <p:cNvPr id="789" name=""/>
          <p:cNvSpPr/>
          <p:nvPr/>
        </p:nvSpPr>
        <p:spPr>
          <a:xfrm>
            <a:off x="3231360" y="6340320"/>
            <a:ext cx="592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Source: </a:t>
            </a: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The Use of Explicit Targets for Monetary Policy: Practical Exper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0c0c0"/>
                </a:solidFill>
                <a:latin typeface="Times New Roman"/>
              </a:rPr>
              <a:t>of 91 economies in the 1990s,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(Bank of England, August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Who sets explicit targets and monitoring ranges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the exchange rate, money and inf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3630960" y="-1004760"/>
            <a:ext cx="10560240" cy="5898600"/>
            <a:chOff x="-3630960" y="-1004760"/>
            <a:chExt cx="10560240" cy="5898600"/>
          </a:xfrm>
        </p:grpSpPr>
        <p:sp>
          <p:nvSpPr>
            <p:cNvPr id="98" name=""/>
            <p:cNvSpPr/>
            <p:nvPr/>
          </p:nvSpPr>
          <p:spPr>
            <a:xfrm>
              <a:off x="6338880" y="1506600"/>
              <a:ext cx="59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cc0000"/>
                  </a:solidFill>
                  <a:latin typeface="Arial"/>
                </a:rPr>
                <a:t>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3630960" y="-1004760"/>
              <a:ext cx="10217160" cy="58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0"/>
            <a:ext cx="914256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ifferent aggregate supply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Demand-side Policy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se against r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an cause severe fluctuations in interest rates and can cause greater instabil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which rule to choose?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ules may conflic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ules may become unsuitabl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se for discre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ne tuning can be improved by better forecasting and quick-acting polici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llows governments to respond to changing circumstance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Demand-side Policy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mand-side policy in the U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reasingly rules-base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iscal polic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'golden rule'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ut some flexibilit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monetary polic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rget of 2% inflation set by govern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onetary Policy Committee adjusts interest rates to meet this 2% targe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enefits of transparenc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enefits for expectation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Long-term Economic Growth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rowth over the decad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098720" y="725400"/>
            <a:ext cx="7724520" cy="53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1871640" y="800280"/>
            <a:ext cx="5786640" cy="52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9" name=""/>
          <p:cNvGraphicFramePr/>
          <p:nvPr/>
        </p:nvGraphicFramePr>
        <p:xfrm>
          <a:off x="0" y="457200"/>
          <a:ext cx="8959680" cy="626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"/>
                    <a:ext cx="8959680" cy="62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0" y="76320"/>
            <a:ext cx="9177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UK GDP at market prices (1995=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098720" y="725400"/>
            <a:ext cx="7724520" cy="53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1871640" y="800280"/>
            <a:ext cx="5786640" cy="52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4" name=""/>
          <p:cNvGraphicFramePr/>
          <p:nvPr/>
        </p:nvGraphicFramePr>
        <p:xfrm>
          <a:off x="0" y="457200"/>
          <a:ext cx="8959680" cy="626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"/>
                    <a:ext cx="8959680" cy="62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0" y="76320"/>
            <a:ext cx="9177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UK GDP at market prices (1995=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Long-term Economic Growth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causes of economic growt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rease in quantity of factor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rease in productivity of factor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pital accu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 simple model of economic growth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 of an increase in capit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minishing return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eady-state national incom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066680" y="650880"/>
            <a:ext cx="7139160" cy="52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689200" y="3137040"/>
            <a:ext cx="446040" cy="3214080"/>
            <a:chOff x="2689200" y="3137040"/>
            <a:chExt cx="446040" cy="3214080"/>
          </a:xfrm>
        </p:grpSpPr>
        <p:sp>
          <p:nvSpPr>
            <p:cNvPr id="811" name=""/>
            <p:cNvSpPr/>
            <p:nvPr/>
          </p:nvSpPr>
          <p:spPr>
            <a:xfrm flipV="1">
              <a:off x="2913120" y="3137040"/>
              <a:ext cx="0" cy="275904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89200" y="591192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K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1084320" y="2808360"/>
            <a:ext cx="7126920" cy="3103200"/>
            <a:chOff x="1084320" y="2808360"/>
            <a:chExt cx="7126920" cy="3103200"/>
          </a:xfrm>
        </p:grpSpPr>
        <p:sp>
          <p:nvSpPr>
            <p:cNvPr id="814" name=""/>
            <p:cNvSpPr/>
            <p:nvPr/>
          </p:nvSpPr>
          <p:spPr>
            <a:xfrm flipV="1">
              <a:off x="1084320" y="3134880"/>
              <a:ext cx="6514920" cy="2776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1840" y="2808360"/>
              <a:ext cx="2219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Depreciation (</a:t>
              </a: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66240" y="3787920"/>
            <a:ext cx="16355160" cy="4601160"/>
            <a:chOff x="966240" y="3787920"/>
            <a:chExt cx="16355160" cy="4601160"/>
          </a:xfrm>
        </p:grpSpPr>
        <p:sp>
          <p:nvSpPr>
            <p:cNvPr id="817" name=""/>
            <p:cNvSpPr/>
            <p:nvPr/>
          </p:nvSpPr>
          <p:spPr>
            <a:xfrm>
              <a:off x="966240" y="4116960"/>
              <a:ext cx="16355160" cy="42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9" y="8842"/>
                  </a:moveTo>
                  <a:arcTo wR="10800" hR="10800" stAng="-10173389" swAng="4128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9" y="8842"/>
                  </a:moveTo>
                  <a:arcTo wR="10800" hR="10800" stAng="-10173389" swAng="4128545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22680" y="3787920"/>
              <a:ext cx="1893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00cc"/>
                  </a:solidFill>
                  <a:latin typeface="Arial"/>
                </a:rPr>
                <a:t>Investment (</a:t>
              </a:r>
              <a:r>
                <a:rPr b="0" i="1" lang="en-US" sz="2200" spc="-1" strike="noStrike">
                  <a:solidFill>
                    <a:srgbClr val="0000cc"/>
                  </a:solidFill>
                  <a:latin typeface="Arial"/>
                </a:rPr>
                <a:t>I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61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Steady-state output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368960" y="2271600"/>
            <a:ext cx="0" cy="361152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38080" y="6292800"/>
            <a:ext cx="205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stock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-2191680" y="3150720"/>
            <a:ext cx="505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Investm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Depreci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184640" y="59259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593640" y="2030400"/>
            <a:ext cx="3774960" cy="439200"/>
            <a:chOff x="593640" y="2030400"/>
            <a:chExt cx="3774960" cy="439200"/>
          </a:xfrm>
        </p:grpSpPr>
        <p:sp>
          <p:nvSpPr>
            <p:cNvPr id="825" name=""/>
            <p:cNvSpPr/>
            <p:nvPr/>
          </p:nvSpPr>
          <p:spPr>
            <a:xfrm flipH="1">
              <a:off x="1066320" y="2271600"/>
              <a:ext cx="3302280" cy="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3640" y="20304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998280" y="925560"/>
            <a:ext cx="16158240" cy="11137320"/>
            <a:chOff x="998280" y="925560"/>
            <a:chExt cx="16158240" cy="11137320"/>
          </a:xfrm>
        </p:grpSpPr>
        <p:sp>
          <p:nvSpPr>
            <p:cNvPr id="828" name=""/>
            <p:cNvSpPr/>
            <p:nvPr/>
          </p:nvSpPr>
          <p:spPr>
            <a:xfrm>
              <a:off x="998280" y="1218240"/>
              <a:ext cx="16158240" cy="108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" y="9213"/>
                  </a:moveTo>
                  <a:arcTo wR="10800" hR="10800" stAng="-10292993" swAng="4158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" y="9213"/>
                  </a:moveTo>
                  <a:arcTo wR="10800" hR="10800" stAng="-10292993" swAng="415800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22560" y="925560"/>
              <a:ext cx="1472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Output (</a:t>
              </a: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200" spc="-1" strike="noStrike">
                  <a:solidFill>
                    <a:srgbClr val="0066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056120" y="4084560"/>
            <a:ext cx="385560" cy="495360"/>
            <a:chOff x="4056120" y="4084560"/>
            <a:chExt cx="385560" cy="495360"/>
          </a:xfrm>
        </p:grpSpPr>
        <p:sp>
          <p:nvSpPr>
            <p:cNvPr id="831" name=""/>
            <p:cNvSpPr/>
            <p:nvPr/>
          </p:nvSpPr>
          <p:spPr>
            <a:xfrm>
              <a:off x="4313160" y="4451400"/>
              <a:ext cx="128520" cy="1285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56120" y="40845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1066680" y="5698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5919840"/>
            <a:ext cx="711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571680" y="2928960"/>
            <a:ext cx="2341080" cy="439200"/>
            <a:chOff x="571680" y="2928960"/>
            <a:chExt cx="2341080" cy="439200"/>
          </a:xfrm>
        </p:grpSpPr>
        <p:sp>
          <p:nvSpPr>
            <p:cNvPr id="836" name=""/>
            <p:cNvSpPr/>
            <p:nvPr/>
          </p:nvSpPr>
          <p:spPr>
            <a:xfrm flipH="1">
              <a:off x="1066320" y="3149640"/>
              <a:ext cx="1846440" cy="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680" y="292896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600280" y="4459320"/>
            <a:ext cx="382680" cy="460440"/>
            <a:chOff x="2600280" y="4459320"/>
            <a:chExt cx="382680" cy="460440"/>
          </a:xfrm>
        </p:grpSpPr>
        <p:sp>
          <p:nvSpPr>
            <p:cNvPr id="839" name=""/>
            <p:cNvSpPr/>
            <p:nvPr/>
          </p:nvSpPr>
          <p:spPr>
            <a:xfrm>
              <a:off x="2854440" y="4791240"/>
              <a:ext cx="128520" cy="1285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00280" y="44593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57360" y="4643280"/>
            <a:ext cx="2220480" cy="439200"/>
            <a:chOff x="657360" y="4643280"/>
            <a:chExt cx="2220480" cy="439200"/>
          </a:xfrm>
        </p:grpSpPr>
        <p:sp>
          <p:nvSpPr>
            <p:cNvPr id="842" name=""/>
            <p:cNvSpPr/>
            <p:nvPr/>
          </p:nvSpPr>
          <p:spPr>
            <a:xfrm flipH="1">
              <a:off x="1099800" y="4867200"/>
              <a:ext cx="1778040" cy="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7360" y="4643280"/>
              <a:ext cx="44604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90400" y="4965840"/>
            <a:ext cx="2322360" cy="439200"/>
            <a:chOff x="590400" y="4965840"/>
            <a:chExt cx="2322360" cy="439200"/>
          </a:xfrm>
        </p:grpSpPr>
        <p:sp>
          <p:nvSpPr>
            <p:cNvPr id="845" name=""/>
            <p:cNvSpPr/>
            <p:nvPr/>
          </p:nvSpPr>
          <p:spPr>
            <a:xfrm flipH="1">
              <a:off x="1066320" y="5159520"/>
              <a:ext cx="18464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0400" y="4965840"/>
              <a:ext cx="544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r>
                <a:rPr b="0" lang="en-US" sz="2000" spc="-1" strike="noStrike" baseline="-25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602640" y="5832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595240" y="4807080"/>
            <a:ext cx="387720" cy="458280"/>
            <a:chOff x="2595240" y="4807080"/>
            <a:chExt cx="387720" cy="458280"/>
          </a:xfrm>
        </p:grpSpPr>
        <p:sp>
          <p:nvSpPr>
            <p:cNvPr id="849" name=""/>
            <p:cNvSpPr/>
            <p:nvPr/>
          </p:nvSpPr>
          <p:spPr>
            <a:xfrm>
              <a:off x="2595240" y="4807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54440" y="5078520"/>
              <a:ext cx="128520" cy="12852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201200" y="1800360"/>
            <a:ext cx="270360" cy="527040"/>
            <a:chOff x="4201200" y="1800360"/>
            <a:chExt cx="270360" cy="527040"/>
          </a:xfrm>
        </p:grpSpPr>
        <p:sp>
          <p:nvSpPr>
            <p:cNvPr id="852" name=""/>
            <p:cNvSpPr/>
            <p:nvPr/>
          </p:nvSpPr>
          <p:spPr>
            <a:xfrm>
              <a:off x="4201200" y="180036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95880" y="2198520"/>
              <a:ext cx="128520" cy="12888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2719440" y="2646360"/>
            <a:ext cx="354240" cy="579600"/>
            <a:chOff x="2719440" y="2646360"/>
            <a:chExt cx="354240" cy="579600"/>
          </a:xfrm>
        </p:grpSpPr>
        <p:sp>
          <p:nvSpPr>
            <p:cNvPr id="855" name=""/>
            <p:cNvSpPr/>
            <p:nvPr/>
          </p:nvSpPr>
          <p:spPr>
            <a:xfrm>
              <a:off x="2838600" y="3097080"/>
              <a:ext cx="128520" cy="12888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19440" y="264636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Long-term Economic Growth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causes of economic growt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rease in quantity of factor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crease in productivity of factor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pital accu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 simple model of economic growth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 of an increase in capit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minishing return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teady-state national incom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 of an increase in the saving rat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066680" y="789120"/>
            <a:ext cx="7010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68960" y="2338560"/>
            <a:ext cx="0" cy="36115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77080" y="1711440"/>
            <a:ext cx="0" cy="425124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38080" y="6359400"/>
            <a:ext cx="205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stock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84640" y="59929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1840" y="59929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25240" y="1438200"/>
            <a:ext cx="5451840" cy="439200"/>
            <a:chOff x="525240" y="1438200"/>
            <a:chExt cx="5451840" cy="439200"/>
          </a:xfrm>
        </p:grpSpPr>
        <p:sp>
          <p:nvSpPr>
            <p:cNvPr id="866" name=""/>
            <p:cNvSpPr/>
            <p:nvPr/>
          </p:nvSpPr>
          <p:spPr>
            <a:xfrm flipH="1">
              <a:off x="1049400" y="1695600"/>
              <a:ext cx="4927680" cy="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25240" y="14382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42880" y="2093760"/>
            <a:ext cx="3825720" cy="439200"/>
            <a:chOff x="542880" y="2093760"/>
            <a:chExt cx="3825720" cy="439200"/>
          </a:xfrm>
        </p:grpSpPr>
        <p:sp>
          <p:nvSpPr>
            <p:cNvPr id="869" name=""/>
            <p:cNvSpPr/>
            <p:nvPr/>
          </p:nvSpPr>
          <p:spPr>
            <a:xfrm flipH="1">
              <a:off x="1066320" y="2300040"/>
              <a:ext cx="3302280" cy="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42880" y="20937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998280" y="1128600"/>
            <a:ext cx="16158240" cy="11000880"/>
            <a:chOff x="998280" y="1128600"/>
            <a:chExt cx="16158240" cy="11000880"/>
          </a:xfrm>
        </p:grpSpPr>
        <p:sp>
          <p:nvSpPr>
            <p:cNvPr id="872" name=""/>
            <p:cNvSpPr/>
            <p:nvPr/>
          </p:nvSpPr>
          <p:spPr>
            <a:xfrm>
              <a:off x="998280" y="1284840"/>
              <a:ext cx="16158240" cy="108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" y="9213"/>
                  </a:moveTo>
                  <a:arcTo wR="10800" hR="10800" stAng="-10292993" swAng="4158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" y="9213"/>
                  </a:moveTo>
                  <a:arcTo wR="10800" hR="10800" stAng="-10292993" swAng="415800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19600" y="1128600"/>
              <a:ext cx="3708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1084320" y="2959200"/>
            <a:ext cx="6897960" cy="3018960"/>
            <a:chOff x="1084320" y="2959200"/>
            <a:chExt cx="6897960" cy="3018960"/>
          </a:xfrm>
        </p:grpSpPr>
        <p:sp>
          <p:nvSpPr>
            <p:cNvPr id="875" name=""/>
            <p:cNvSpPr/>
            <p:nvPr/>
          </p:nvSpPr>
          <p:spPr>
            <a:xfrm flipV="1">
              <a:off x="1084320" y="3254040"/>
              <a:ext cx="6553080" cy="2724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596000" y="2959200"/>
              <a:ext cx="386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980280" y="3498840"/>
            <a:ext cx="16327440" cy="5548320"/>
            <a:chOff x="980280" y="3498840"/>
            <a:chExt cx="16327440" cy="5548320"/>
          </a:xfrm>
        </p:grpSpPr>
        <p:sp>
          <p:nvSpPr>
            <p:cNvPr id="878" name=""/>
            <p:cNvSpPr/>
            <p:nvPr/>
          </p:nvSpPr>
          <p:spPr>
            <a:xfrm>
              <a:off x="980280" y="3728880"/>
              <a:ext cx="16327440" cy="53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" y="9214"/>
                  </a:moveTo>
                  <a:arcTo wR="10800" hR="10800" stAng="-10293355" swAng="4229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" y="9214"/>
                  </a:moveTo>
                  <a:arcTo wR="10800" hR="10800" stAng="-10293355" swAng="4229548"/>
                </a:path>
              </a:pathLst>
            </a:custGeom>
            <a:noFill/>
            <a:ln cap="rnd"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96000" y="3498840"/>
              <a:ext cx="3528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663300"/>
                  </a:solidFill>
                  <a:latin typeface="Arial"/>
                </a:rPr>
                <a:t>I</a:t>
              </a:r>
              <a:r>
                <a:rPr b="0" i="1" lang="en-US" sz="22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268800" y="3897360"/>
            <a:ext cx="3419280" cy="947160"/>
            <a:chOff x="3268800" y="3897360"/>
            <a:chExt cx="3419280" cy="947160"/>
          </a:xfrm>
        </p:grpSpPr>
        <p:sp>
          <p:nvSpPr>
            <p:cNvPr id="881" name=""/>
            <p:cNvSpPr/>
            <p:nvPr/>
          </p:nvSpPr>
          <p:spPr>
            <a:xfrm flipV="1">
              <a:off x="6688080" y="3897360"/>
              <a:ext cx="0" cy="38880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268800" y="4522320"/>
              <a:ext cx="0" cy="32220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V="1">
            <a:off x="947880" y="1765440"/>
            <a:ext cx="0" cy="457200"/>
          </a:xfrm>
          <a:prstGeom prst="line">
            <a:avLst/>
          </a:prstGeom>
          <a:ln w="1260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966240" y="4062240"/>
            <a:ext cx="16355160" cy="4343400"/>
            <a:chOff x="966240" y="4062240"/>
            <a:chExt cx="16355160" cy="4343400"/>
          </a:xfrm>
        </p:grpSpPr>
        <p:sp>
          <p:nvSpPr>
            <p:cNvPr id="885" name=""/>
            <p:cNvSpPr/>
            <p:nvPr/>
          </p:nvSpPr>
          <p:spPr>
            <a:xfrm>
              <a:off x="7597440" y="4062240"/>
              <a:ext cx="3528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0" i="1" lang="en-US" sz="22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66240" y="4233960"/>
              <a:ext cx="16355160" cy="417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9" y="8842"/>
                  </a:moveTo>
                  <a:arcTo wR="10800" hR="10800" stAng="-10173389" swAng="4128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9" y="8842"/>
                  </a:moveTo>
                  <a:arcTo wR="10800" hR="10800" stAng="-10173389" swAng="4128545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066680" y="765000"/>
            <a:ext cx="0" cy="5205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066680" y="59864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4073400" y="4203720"/>
            <a:ext cx="355680" cy="480960"/>
            <a:chOff x="4073400" y="4203720"/>
            <a:chExt cx="355680" cy="480960"/>
          </a:xfrm>
        </p:grpSpPr>
        <p:sp>
          <p:nvSpPr>
            <p:cNvPr id="890" name=""/>
            <p:cNvSpPr/>
            <p:nvPr/>
          </p:nvSpPr>
          <p:spPr>
            <a:xfrm>
              <a:off x="4073400" y="42037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00560" y="4556160"/>
              <a:ext cx="128520" cy="1285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706360" y="1222200"/>
            <a:ext cx="439560" cy="544680"/>
            <a:chOff x="5706360" y="1222200"/>
            <a:chExt cx="439560" cy="544680"/>
          </a:xfrm>
        </p:grpSpPr>
        <p:sp>
          <p:nvSpPr>
            <p:cNvPr id="893" name=""/>
            <p:cNvSpPr/>
            <p:nvPr/>
          </p:nvSpPr>
          <p:spPr>
            <a:xfrm>
              <a:off x="5706360" y="1222200"/>
              <a:ext cx="439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21280" y="1638360"/>
              <a:ext cx="128520" cy="128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5680080" y="3544920"/>
            <a:ext cx="369720" cy="458280"/>
            <a:chOff x="5680080" y="3544920"/>
            <a:chExt cx="369720" cy="458280"/>
          </a:xfrm>
        </p:grpSpPr>
        <p:sp>
          <p:nvSpPr>
            <p:cNvPr id="896" name=""/>
            <p:cNvSpPr/>
            <p:nvPr/>
          </p:nvSpPr>
          <p:spPr>
            <a:xfrm>
              <a:off x="5680080" y="35449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21280" y="3873600"/>
              <a:ext cx="128520" cy="128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059360" y="3778200"/>
            <a:ext cx="376200" cy="512640"/>
            <a:chOff x="4059360" y="3778200"/>
            <a:chExt cx="376200" cy="512640"/>
          </a:xfrm>
        </p:grpSpPr>
        <p:sp>
          <p:nvSpPr>
            <p:cNvPr id="899" name=""/>
            <p:cNvSpPr/>
            <p:nvPr/>
          </p:nvSpPr>
          <p:spPr>
            <a:xfrm>
              <a:off x="4059360" y="3778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07040" y="4162320"/>
              <a:ext cx="128520" cy="128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 rot="16200000">
            <a:off x="-2191680" y="3150720"/>
            <a:ext cx="505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Investm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Depreci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10160" y="6172200"/>
            <a:ext cx="1152360" cy="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209120" y="1841400"/>
            <a:ext cx="270360" cy="531720"/>
            <a:chOff x="4209120" y="1841400"/>
            <a:chExt cx="270360" cy="531720"/>
          </a:xfrm>
        </p:grpSpPr>
        <p:sp>
          <p:nvSpPr>
            <p:cNvPr id="904" name=""/>
            <p:cNvSpPr/>
            <p:nvPr/>
          </p:nvSpPr>
          <p:spPr>
            <a:xfrm>
              <a:off x="4209120" y="184140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311720" y="2244600"/>
              <a:ext cx="128520" cy="1285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8892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4a48"/>
                </a:solidFill>
                <a:latin typeface="Arial"/>
              </a:rPr>
              <a:t>Effect of an increase in the rate of saving and investment</a:t>
            </a:r>
            <a:endParaRPr b="1" lang="en-US" sz="25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Long-term Economic Growth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74640" y="1133280"/>
            <a:ext cx="8429760" cy="55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chnological progr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 on steady-state outpu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38880" y="150660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3400" y="-5638680"/>
            <a:ext cx="14629320" cy="118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6" y="20722"/>
                </a:moveTo>
                <a:arcTo wR="10800" hR="10800" stAng="6795360" swAng="3180450"/>
                <a:lnTo>
                  <a:pt x="10800" y="10800"/>
                </a:lnTo>
                <a:close/>
              </a:path>
              <a:path fill="none" w="21600" h="21600">
                <a:moveTo>
                  <a:pt x="6536" y="20722"/>
                </a:moveTo>
                <a:arcTo wR="10800" hR="10800" stAng="6795360" swAng="318045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38360" y="4602240"/>
            <a:ext cx="436680" cy="1828080"/>
            <a:chOff x="3438360" y="4602240"/>
            <a:chExt cx="436680" cy="1828080"/>
          </a:xfrm>
        </p:grpSpPr>
        <p:sp>
          <p:nvSpPr>
            <p:cNvPr id="112" name=""/>
            <p:cNvSpPr/>
            <p:nvPr/>
          </p:nvSpPr>
          <p:spPr>
            <a:xfrm>
              <a:off x="3438360" y="599112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38520" y="4602240"/>
              <a:ext cx="0" cy="133668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-3630960" y="-1004760"/>
            <a:ext cx="10217160" cy="58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2480" y="4437000"/>
            <a:ext cx="3056040" cy="439200"/>
            <a:chOff x="582480" y="4437000"/>
            <a:chExt cx="3056040" cy="439200"/>
          </a:xfrm>
        </p:grpSpPr>
        <p:sp>
          <p:nvSpPr>
            <p:cNvPr id="116" name=""/>
            <p:cNvSpPr/>
            <p:nvPr/>
          </p:nvSpPr>
          <p:spPr>
            <a:xfrm flipH="1">
              <a:off x="1074600" y="4619520"/>
              <a:ext cx="2563920" cy="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2480" y="44370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832360" y="5443560"/>
            <a:ext cx="874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256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ifferent aggregate supply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4520" y="4537080"/>
            <a:ext cx="127080" cy="1270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066680" y="789120"/>
            <a:ext cx="7010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368960" y="2901960"/>
            <a:ext cx="0" cy="30481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977080" y="1711440"/>
            <a:ext cx="0" cy="4251240"/>
          </a:xfrm>
          <a:prstGeom prst="line">
            <a:avLst/>
          </a:prstGeom>
          <a:ln w="1908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38080" y="6359400"/>
            <a:ext cx="205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stock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184640" y="59929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811840" y="59929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25240" y="1438200"/>
            <a:ext cx="5451840" cy="439200"/>
            <a:chOff x="525240" y="1438200"/>
            <a:chExt cx="5451840" cy="439200"/>
          </a:xfrm>
        </p:grpSpPr>
        <p:sp>
          <p:nvSpPr>
            <p:cNvPr id="916" name=""/>
            <p:cNvSpPr/>
            <p:nvPr/>
          </p:nvSpPr>
          <p:spPr>
            <a:xfrm flipH="1">
              <a:off x="1049400" y="1695600"/>
              <a:ext cx="4927680" cy="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5240" y="14382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6633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998280" y="1128600"/>
            <a:ext cx="16158240" cy="11000880"/>
            <a:chOff x="998280" y="1128600"/>
            <a:chExt cx="16158240" cy="11000880"/>
          </a:xfrm>
        </p:grpSpPr>
        <p:sp>
          <p:nvSpPr>
            <p:cNvPr id="919" name=""/>
            <p:cNvSpPr/>
            <p:nvPr/>
          </p:nvSpPr>
          <p:spPr>
            <a:xfrm>
              <a:off x="998280" y="1284840"/>
              <a:ext cx="16158240" cy="1084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" y="9213"/>
                  </a:moveTo>
                  <a:arcTo wR="10800" hR="10800" stAng="-10292993" swAng="4158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" y="9213"/>
                  </a:moveTo>
                  <a:arcTo wR="10800" hR="10800" stAng="-10292993" swAng="4158008"/>
                </a:path>
              </a:pathLst>
            </a:custGeom>
            <a:noFill/>
            <a:ln cap="rnd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75320" y="1128600"/>
              <a:ext cx="4608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800080"/>
                  </a:solidFill>
                  <a:latin typeface="Arial"/>
                </a:rPr>
                <a:t>Y</a:t>
              </a:r>
              <a:r>
                <a:rPr b="0" i="1" lang="en-US" sz="2200" spc="-1" strike="noStrike" baseline="-25000">
                  <a:solidFill>
                    <a:srgbClr val="80008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084320" y="2959200"/>
            <a:ext cx="6897960" cy="3018960"/>
            <a:chOff x="1084320" y="2959200"/>
            <a:chExt cx="6897960" cy="3018960"/>
          </a:xfrm>
        </p:grpSpPr>
        <p:sp>
          <p:nvSpPr>
            <p:cNvPr id="922" name=""/>
            <p:cNvSpPr/>
            <p:nvPr/>
          </p:nvSpPr>
          <p:spPr>
            <a:xfrm flipV="1">
              <a:off x="1084320" y="3254040"/>
              <a:ext cx="6553080" cy="27241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596000" y="2959200"/>
              <a:ext cx="3862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980280" y="3498840"/>
            <a:ext cx="16327440" cy="5548320"/>
            <a:chOff x="980280" y="3498840"/>
            <a:chExt cx="16327440" cy="5548320"/>
          </a:xfrm>
        </p:grpSpPr>
        <p:sp>
          <p:nvSpPr>
            <p:cNvPr id="925" name=""/>
            <p:cNvSpPr/>
            <p:nvPr/>
          </p:nvSpPr>
          <p:spPr>
            <a:xfrm>
              <a:off x="980280" y="3728880"/>
              <a:ext cx="16327440" cy="53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" y="9214"/>
                  </a:moveTo>
                  <a:arcTo wR="10800" hR="10800" stAng="-10293355" swAng="4229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" y="9214"/>
                  </a:moveTo>
                  <a:arcTo wR="10800" hR="10800" stAng="-10293355" swAng="4229548"/>
                </a:path>
              </a:pathLst>
            </a:custGeom>
            <a:noFill/>
            <a:ln cap="rnd"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596000" y="3498840"/>
              <a:ext cx="3528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663300"/>
                  </a:solidFill>
                  <a:latin typeface="Arial"/>
                </a:rPr>
                <a:t>I</a:t>
              </a:r>
              <a:r>
                <a:rPr b="0" i="1" lang="en-US" sz="22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268800" y="3897360"/>
            <a:ext cx="3419280" cy="947160"/>
            <a:chOff x="3268800" y="3897360"/>
            <a:chExt cx="3419280" cy="947160"/>
          </a:xfrm>
        </p:grpSpPr>
        <p:sp>
          <p:nvSpPr>
            <p:cNvPr id="928" name=""/>
            <p:cNvSpPr/>
            <p:nvPr/>
          </p:nvSpPr>
          <p:spPr>
            <a:xfrm flipV="1">
              <a:off x="6688080" y="3897360"/>
              <a:ext cx="0" cy="38880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268800" y="4522320"/>
              <a:ext cx="0" cy="322200"/>
            </a:xfrm>
            <a:prstGeom prst="line">
              <a:avLst/>
            </a:prstGeom>
            <a:ln w="1260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66240" y="4062240"/>
            <a:ext cx="16355160" cy="4343400"/>
            <a:chOff x="966240" y="4062240"/>
            <a:chExt cx="16355160" cy="4343400"/>
          </a:xfrm>
        </p:grpSpPr>
        <p:sp>
          <p:nvSpPr>
            <p:cNvPr id="931" name=""/>
            <p:cNvSpPr/>
            <p:nvPr/>
          </p:nvSpPr>
          <p:spPr>
            <a:xfrm>
              <a:off x="7597440" y="4062240"/>
              <a:ext cx="3528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00cc"/>
                  </a:solidFill>
                  <a:latin typeface="Arial"/>
                </a:rPr>
                <a:t>I</a:t>
              </a:r>
              <a:r>
                <a:rPr b="0" i="1" lang="en-US" sz="22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66240" y="4233960"/>
              <a:ext cx="16355160" cy="417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9" y="8842"/>
                  </a:moveTo>
                  <a:arcTo wR="10800" hR="10800" stAng="-10173389" swAng="41285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9" y="8842"/>
                  </a:moveTo>
                  <a:arcTo wR="10800" hR="10800" stAng="-10173389" swAng="4128545"/>
                </a:path>
              </a:pathLst>
            </a:custGeom>
            <a:noFill/>
            <a:ln cap="rnd"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1066680" y="765000"/>
            <a:ext cx="0" cy="5205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66680" y="598644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4073400" y="4203720"/>
            <a:ext cx="355680" cy="480960"/>
            <a:chOff x="4073400" y="4203720"/>
            <a:chExt cx="355680" cy="480960"/>
          </a:xfrm>
        </p:grpSpPr>
        <p:sp>
          <p:nvSpPr>
            <p:cNvPr id="936" name=""/>
            <p:cNvSpPr/>
            <p:nvPr/>
          </p:nvSpPr>
          <p:spPr>
            <a:xfrm>
              <a:off x="4073400" y="42037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00560" y="4556160"/>
              <a:ext cx="128520" cy="1285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5748480" y="1222200"/>
            <a:ext cx="354240" cy="544680"/>
            <a:chOff x="5748480" y="1222200"/>
            <a:chExt cx="354240" cy="544680"/>
          </a:xfrm>
        </p:grpSpPr>
        <p:sp>
          <p:nvSpPr>
            <p:cNvPr id="939" name=""/>
            <p:cNvSpPr/>
            <p:nvPr/>
          </p:nvSpPr>
          <p:spPr>
            <a:xfrm>
              <a:off x="5748480" y="1222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21280" y="1638360"/>
              <a:ext cx="128520" cy="128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5680080" y="3544920"/>
            <a:ext cx="369720" cy="458280"/>
            <a:chOff x="5680080" y="3544920"/>
            <a:chExt cx="369720" cy="458280"/>
          </a:xfrm>
        </p:grpSpPr>
        <p:sp>
          <p:nvSpPr>
            <p:cNvPr id="942" name=""/>
            <p:cNvSpPr/>
            <p:nvPr/>
          </p:nvSpPr>
          <p:spPr>
            <a:xfrm>
              <a:off x="5680080" y="354492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21280" y="3873600"/>
              <a:ext cx="128520" cy="128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059360" y="3778200"/>
            <a:ext cx="376200" cy="512640"/>
            <a:chOff x="4059360" y="3778200"/>
            <a:chExt cx="376200" cy="512640"/>
          </a:xfrm>
        </p:grpSpPr>
        <p:sp>
          <p:nvSpPr>
            <p:cNvPr id="945" name=""/>
            <p:cNvSpPr/>
            <p:nvPr/>
          </p:nvSpPr>
          <p:spPr>
            <a:xfrm>
              <a:off x="4059360" y="3778200"/>
              <a:ext cx="354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633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07040" y="4162320"/>
              <a:ext cx="128520" cy="128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rot="16200000">
            <a:off x="-2191680" y="3150720"/>
            <a:ext cx="505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Investm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Depreci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610160" y="6172200"/>
            <a:ext cx="1152360" cy="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88920"/>
            <a:ext cx="91425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a48"/>
                </a:solidFill>
                <a:latin typeface="Arial"/>
              </a:rPr>
              <a:t>Effect of a technological advance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988200" y="1882800"/>
            <a:ext cx="16310880" cy="9397440"/>
            <a:chOff x="988200" y="1882800"/>
            <a:chExt cx="16310880" cy="9397440"/>
          </a:xfrm>
        </p:grpSpPr>
        <p:sp>
          <p:nvSpPr>
            <p:cNvPr id="951" name=""/>
            <p:cNvSpPr/>
            <p:nvPr/>
          </p:nvSpPr>
          <p:spPr>
            <a:xfrm>
              <a:off x="988200" y="2016000"/>
              <a:ext cx="16310880" cy="926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" y="9213"/>
                  </a:moveTo>
                  <a:arcTo wR="10800" hR="10800" stAng="-10292993" swAng="4158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" y="9213"/>
                  </a:moveTo>
                  <a:arcTo wR="10800" hR="10800" stAng="-10292993" swAng="4158008"/>
                </a:path>
              </a:pathLst>
            </a:custGeom>
            <a:noFill/>
            <a:ln cap="rnd"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426800" y="1882800"/>
              <a:ext cx="460800" cy="4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2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i="1" lang="en-US" sz="22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542880" y="2678040"/>
            <a:ext cx="3825720" cy="439200"/>
            <a:chOff x="542880" y="2678040"/>
            <a:chExt cx="3825720" cy="439200"/>
          </a:xfrm>
        </p:grpSpPr>
        <p:sp>
          <p:nvSpPr>
            <p:cNvPr id="954" name=""/>
            <p:cNvSpPr/>
            <p:nvPr/>
          </p:nvSpPr>
          <p:spPr>
            <a:xfrm flipH="1">
              <a:off x="1066320" y="2884320"/>
              <a:ext cx="3302280" cy="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2880" y="26780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209120" y="2425680"/>
            <a:ext cx="270360" cy="531720"/>
            <a:chOff x="4209120" y="2425680"/>
            <a:chExt cx="270360" cy="531720"/>
          </a:xfrm>
        </p:grpSpPr>
        <p:sp>
          <p:nvSpPr>
            <p:cNvPr id="957" name=""/>
            <p:cNvSpPr/>
            <p:nvPr/>
          </p:nvSpPr>
          <p:spPr>
            <a:xfrm>
              <a:off x="4209120" y="2425680"/>
              <a:ext cx="27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11720" y="2828880"/>
              <a:ext cx="128520" cy="1285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Long-term Economic Growth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99840" y="1133280"/>
            <a:ext cx="8404200" cy="55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chnological progr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ffect on steady-state outpu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endogenous growth theor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Long-term Economic Growth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99840" y="1133280"/>
            <a:ext cx="8404200" cy="55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ductivity and economic growt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mportance of productiv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eterminants of productivity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rivate invest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ublic investment in infrastructure and educat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novat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usiness environ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1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anagement and entrepreneurial activit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58800" y="1243080"/>
            <a:ext cx="8485200" cy="532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use of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educe unemploy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reduce infl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o increase economic growth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rket-orientated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50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government expenditu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2604960" y="1909800"/>
            <a:ext cx="624708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3565440" y="1909800"/>
            <a:ext cx="528660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4691160" y="1909800"/>
            <a:ext cx="416088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5702400" y="1909800"/>
            <a:ext cx="314964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6802560" y="1909800"/>
            <a:ext cx="204948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8004240" y="1909800"/>
            <a:ext cx="847800" cy="41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609480"/>
            <a:ext cx="701064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7800" y="3979800"/>
            <a:ext cx="4195800" cy="439200"/>
            <a:chOff x="577800" y="3979800"/>
            <a:chExt cx="4195800" cy="439200"/>
          </a:xfrm>
        </p:grpSpPr>
        <p:sp>
          <p:nvSpPr>
            <p:cNvPr id="123" name=""/>
            <p:cNvSpPr/>
            <p:nvPr/>
          </p:nvSpPr>
          <p:spPr>
            <a:xfrm flipH="1">
              <a:off x="1092240" y="4216320"/>
              <a:ext cx="3681360" cy="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800" y="397980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60948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5943600"/>
            <a:ext cx="701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200" y="5897520"/>
            <a:ext cx="383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38880" y="150660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3400" y="-5638680"/>
            <a:ext cx="14629320" cy="1188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6" y="20722"/>
                </a:moveTo>
                <a:arcTo wR="10800" hR="10800" stAng="6795360" swAng="3180450"/>
                <a:lnTo>
                  <a:pt x="10800" y="10800"/>
                </a:lnTo>
                <a:close/>
              </a:path>
              <a:path fill="none" w="21600" h="21600">
                <a:moveTo>
                  <a:pt x="6536" y="20722"/>
                </a:moveTo>
                <a:arcTo wR="10800" hR="10800" stAng="6795360" swAng="3180450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8360" y="59911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-556920" y="3165120"/>
            <a:ext cx="158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4040" y="641340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120" y="-5229720"/>
            <a:ext cx="13491720" cy="10612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35" y="20722"/>
                </a:moveTo>
                <a:arcTo wR="10800" hR="10800" stAng="6795462" swAng="3180274"/>
                <a:lnTo>
                  <a:pt x="10800" y="10800"/>
                </a:lnTo>
                <a:close/>
              </a:path>
              <a:path fill="none" w="21600" h="21600">
                <a:moveTo>
                  <a:pt x="6535" y="20722"/>
                </a:moveTo>
                <a:arcTo wR="10800" hR="10800" stAng="6795462" swAng="3180274"/>
              </a:path>
            </a:pathLst>
          </a:custGeom>
          <a:noFill/>
          <a:ln cap="rnd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46440" y="4199040"/>
            <a:ext cx="436680" cy="2239200"/>
            <a:chOff x="4546440" y="4199040"/>
            <a:chExt cx="436680" cy="2239200"/>
          </a:xfrm>
        </p:grpSpPr>
        <p:sp>
          <p:nvSpPr>
            <p:cNvPr id="137" name=""/>
            <p:cNvSpPr/>
            <p:nvPr/>
          </p:nvSpPr>
          <p:spPr>
            <a:xfrm>
              <a:off x="4546440" y="599904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66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54520" y="4199040"/>
              <a:ext cx="1800" cy="1738080"/>
            </a:xfrm>
            <a:prstGeom prst="line">
              <a:avLst/>
            </a:prstGeom>
            <a:ln w="1260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638520" y="4602240"/>
            <a:ext cx="0" cy="133668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630960" y="-1004760"/>
            <a:ext cx="10217160" cy="58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074600" y="4619520"/>
            <a:ext cx="2563920" cy="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9080" y="4141800"/>
            <a:ext cx="127080" cy="12708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4520" y="4537080"/>
            <a:ext cx="127080" cy="1270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2480" y="443700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78400" y="4786200"/>
            <a:ext cx="7509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32360" y="5443560"/>
            <a:ext cx="874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AD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2560" cy="6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Different aggregate supply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0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Government expenditure (central plus local) as a percentage of GDP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2"/>
          <a:stretch/>
        </p:blipFill>
        <p:spPr>
          <a:xfrm>
            <a:off x="190440" y="1139760"/>
            <a:ext cx="876132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58800" y="1294920"/>
            <a:ext cx="848520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rket-orientated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government expenditu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ax cu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58800" y="1294920"/>
            <a:ext cx="848520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rket-orientated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government expenditu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ax cu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labour supply and employ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58800" y="1294920"/>
            <a:ext cx="848520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rket-orientated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government expenditu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ax cu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labour supply and employ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mportance of incentiv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58800" y="1294920"/>
            <a:ext cx="848520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rket-orientated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government expenditu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ax cu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labour supply and employ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mportance of incentiv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impor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58800" y="1294920"/>
            <a:ext cx="8485200" cy="52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arket-orientated supply-side polic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ducing government expenditure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ax cut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labour supply and employ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mportance of incentiv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ffects on impor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x cuts for busines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17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Market-orientated supply-side policies (cont.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reducing the power of labour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reducing welfare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950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policies to encourage competition</a:t>
            </a:r>
            <a:endParaRPr b="1" lang="en-US" sz="2600" spc="-1" strike="noStrike">
              <a:solidFill>
                <a:srgbClr val="80008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726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privatisation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726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deregulation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726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introducing market relationships into the public sector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726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the Private Finance Initiative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726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Arial"/>
              </a:rPr>
              <a:t>free trade and capital movements</a:t>
            </a: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ckground to interventionist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UK's poor productivity recor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43000" y="857160"/>
            <a:ext cx="7466040" cy="505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0" y="581040"/>
          <a:ext cx="880920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1040"/>
                    <a:ext cx="8809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"/>
          <p:cNvSpPr/>
          <p:nvPr/>
        </p:nvSpPr>
        <p:spPr>
          <a:xfrm>
            <a:off x="0" y="76320"/>
            <a:ext cx="91440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ductivity in selected countries, 2001 (UK =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-20880" y="6461280"/>
            <a:ext cx="85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ource: </a:t>
            </a: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Budget 2003, Economic and Fiscal Strategy Report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HM Treasury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1143000" y="857160"/>
            <a:ext cx="7466040" cy="505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0" y="581040"/>
          <a:ext cx="880920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1040"/>
                    <a:ext cx="8809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>
            <a:off x="0" y="76320"/>
            <a:ext cx="91440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ductivity in selected countries, 2001 (UK =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20880" y="6461280"/>
            <a:ext cx="85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ource: </a:t>
            </a: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Budget 2003, Economic and Fiscal Strategy Report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HM Treasury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731880"/>
            <a:ext cx="6629400" cy="528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35600" y="3079800"/>
            <a:ext cx="465480" cy="3379320"/>
            <a:chOff x="3135600" y="3079800"/>
            <a:chExt cx="465480" cy="3379320"/>
          </a:xfrm>
        </p:grpSpPr>
        <p:sp>
          <p:nvSpPr>
            <p:cNvPr id="150" name=""/>
            <p:cNvSpPr/>
            <p:nvPr/>
          </p:nvSpPr>
          <p:spPr>
            <a:xfrm>
              <a:off x="3355920" y="3079800"/>
              <a:ext cx="0" cy="292572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35600" y="6019920"/>
              <a:ext cx="4654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Q</a:t>
              </a:r>
              <a:r>
                <a:rPr b="0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19320" y="601992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a48"/>
                </a:solidFill>
                <a:latin typeface="Arial"/>
              </a:rPr>
              <a:t>Short-run response of a profit-maximising</a:t>
            </a:r>
            <a:br>
              <a:rPr sz="2600"/>
            </a:br>
            <a:r>
              <a:rPr b="1" lang="en-US" sz="2600" spc="-1" strike="noStrike">
                <a:solidFill>
                  <a:srgbClr val="004a48"/>
                </a:solidFill>
                <a:latin typeface="Arial"/>
              </a:rPr>
              <a:t>firm to a rise in demand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600200"/>
            <a:ext cx="5562360" cy="3809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600200"/>
            <a:ext cx="3047760" cy="47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600000">
            <a:off x="-1232640" y="-3107880"/>
            <a:ext cx="7930800" cy="80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6"/>
                </a:moveTo>
                <a:arcTo wR="10800" hR="10800" stAng="-1351" swAng="5822218"/>
                <a:lnTo>
                  <a:pt x="10800" y="10800"/>
                </a:lnTo>
                <a:close/>
              </a:path>
              <a:path fill="none" w="21600" h="21600">
                <a:moveTo>
                  <a:pt x="21600" y="10796"/>
                </a:moveTo>
                <a:arcTo wR="10800" hR="10800" stAng="-1351" swAng="582221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11430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49360" y="521172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R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57720" y="6202440"/>
            <a:ext cx="758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M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701640"/>
            <a:ext cx="0" cy="531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200" y="5778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63600" y="604980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05160" y="4859280"/>
            <a:ext cx="95400" cy="95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47720" y="2833560"/>
            <a:ext cx="2652840" cy="439200"/>
            <a:chOff x="747720" y="2833560"/>
            <a:chExt cx="2652840" cy="439200"/>
          </a:xfrm>
        </p:grpSpPr>
        <p:sp>
          <p:nvSpPr>
            <p:cNvPr id="165" name=""/>
            <p:cNvSpPr/>
            <p:nvPr/>
          </p:nvSpPr>
          <p:spPr>
            <a:xfrm flipH="1">
              <a:off x="1203480" y="3063960"/>
              <a:ext cx="2165040" cy="0"/>
            </a:xfrm>
            <a:prstGeom prst="line">
              <a:avLst/>
            </a:prstGeom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05160" y="3014640"/>
              <a:ext cx="95400" cy="95400"/>
            </a:xfrm>
            <a:prstGeom prst="ellipse">
              <a:avLst/>
            </a:prstGeom>
            <a:solidFill>
              <a:srgbClr val="ff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720" y="2833560"/>
              <a:ext cx="4366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i="1" lang="en-US" sz="2000" spc="-1" strike="noStrike" baseline="-25000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143000" y="857160"/>
            <a:ext cx="7466040" cy="505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0" y="581040"/>
          <a:ext cx="880920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1040"/>
                    <a:ext cx="8809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2" name=""/>
          <p:cNvSpPr/>
          <p:nvPr/>
        </p:nvSpPr>
        <p:spPr>
          <a:xfrm>
            <a:off x="0" y="76320"/>
            <a:ext cx="91440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ductivity in selected countries, 2001 (UK =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20880" y="6461280"/>
            <a:ext cx="85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ource: </a:t>
            </a: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Budget 2003, Economic and Fiscal Strategy Report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HM Treasury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1143000" y="857160"/>
            <a:ext cx="7466040" cy="505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5" name=""/>
          <p:cNvGraphicFramePr/>
          <p:nvPr/>
        </p:nvGraphicFramePr>
        <p:xfrm>
          <a:off x="0" y="581040"/>
          <a:ext cx="880920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81040"/>
                    <a:ext cx="88092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7" name=""/>
          <p:cNvSpPr/>
          <p:nvPr/>
        </p:nvSpPr>
        <p:spPr>
          <a:xfrm>
            <a:off x="0" y="76320"/>
            <a:ext cx="91440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roductivity in selected countries, 2001 (UK = 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-20880" y="6461280"/>
            <a:ext cx="85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ource: </a:t>
            </a:r>
            <a:r>
              <a:rPr b="0" i="1" lang="en-US" sz="2000" spc="-1" strike="noStrike">
                <a:solidFill>
                  <a:srgbClr val="969696"/>
                </a:solidFill>
                <a:latin typeface="Times New Roman"/>
              </a:rPr>
              <a:t>Budget 2003, Economic and Fiscal Strategy Report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(HM Treasury,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36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58800" y="1243080"/>
            <a:ext cx="8485200" cy="532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ckground to interventionist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UK's poor productivity recor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he UK's poor investment record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1" name=""/>
          <p:cNvGraphicFramePr/>
          <p:nvPr/>
        </p:nvGraphicFramePr>
        <p:xfrm>
          <a:off x="542880" y="1203480"/>
          <a:ext cx="799308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203480"/>
                    <a:ext cx="79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3" name=""/>
          <p:cNvSpPr/>
          <p:nvPr/>
        </p:nvSpPr>
        <p:spPr>
          <a:xfrm>
            <a:off x="0" y="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Gross fixed capital formation as % of GD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289240" y="2300400"/>
            <a:ext cx="6081480" cy="39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6" name=""/>
          <p:cNvGraphicFramePr/>
          <p:nvPr/>
        </p:nvGraphicFramePr>
        <p:xfrm>
          <a:off x="542880" y="1203480"/>
          <a:ext cx="799308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203480"/>
                    <a:ext cx="79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"/>
          <p:cNvSpPr/>
          <p:nvPr/>
        </p:nvSpPr>
        <p:spPr>
          <a:xfrm>
            <a:off x="0" y="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Gross fixed capital formation as % of GD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135240" y="2300400"/>
            <a:ext cx="5235480" cy="39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1" name=""/>
          <p:cNvGraphicFramePr/>
          <p:nvPr/>
        </p:nvGraphicFramePr>
        <p:xfrm>
          <a:off x="542880" y="1203480"/>
          <a:ext cx="799308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203480"/>
                    <a:ext cx="79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3" name=""/>
          <p:cNvSpPr/>
          <p:nvPr/>
        </p:nvSpPr>
        <p:spPr>
          <a:xfrm>
            <a:off x="0" y="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Gross fixed capital formation as % of GD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780080" y="2300400"/>
            <a:ext cx="3590640" cy="39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6" name=""/>
          <p:cNvGraphicFramePr/>
          <p:nvPr/>
        </p:nvGraphicFramePr>
        <p:xfrm>
          <a:off x="542880" y="1203480"/>
          <a:ext cx="799308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203480"/>
                    <a:ext cx="79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0" y="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Gross fixed capital formation as % of GD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157800" y="2300400"/>
            <a:ext cx="2212920" cy="39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1" name=""/>
          <p:cNvGraphicFramePr/>
          <p:nvPr/>
        </p:nvGraphicFramePr>
        <p:xfrm>
          <a:off x="542880" y="1203480"/>
          <a:ext cx="799308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203480"/>
                    <a:ext cx="79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"/>
          <p:cNvSpPr/>
          <p:nvPr/>
        </p:nvSpPr>
        <p:spPr>
          <a:xfrm>
            <a:off x="0" y="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Gross fixed capital formation as % of GD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257960" y="2300400"/>
            <a:ext cx="1112760" cy="39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6" name=""/>
          <p:cNvGraphicFramePr/>
          <p:nvPr/>
        </p:nvGraphicFramePr>
        <p:xfrm>
          <a:off x="542880" y="1203480"/>
          <a:ext cx="799308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1203480"/>
                    <a:ext cx="79930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"/>
          <p:cNvSpPr/>
          <p:nvPr/>
        </p:nvSpPr>
        <p:spPr>
          <a:xfrm>
            <a:off x="0" y="0"/>
            <a:ext cx="9144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0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Gross fixed capital formation as % of GDP</a:t>
            </a:r>
            <a:endParaRPr b="1" lang="en-US" sz="28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a48"/>
                </a:solidFill>
                <a:latin typeface="Arial"/>
              </a:rPr>
              <a:t>Supply-side Policy</a:t>
            </a:r>
            <a:endParaRPr b="1" lang="en-US" sz="4000" spc="-1" strike="noStrike">
              <a:solidFill>
                <a:srgbClr val="004a48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58800" y="1153800"/>
            <a:ext cx="8485200" cy="54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ventionist supply-side poli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failure of the market to provide adequate training, R&amp;D and invest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help to firms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rect provis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inance for research and development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ssistance to small firm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dvice and persuas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format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nfrastructure development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training and education</a:t>
            </a:r>
            <a:endParaRPr b="1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19320" y="731880"/>
            <a:ext cx="6629400" cy="528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701640"/>
            <a:ext cx="0" cy="531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6019920"/>
            <a:ext cx="6705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1600200"/>
            <a:ext cx="5562360" cy="3809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1600200"/>
            <a:ext cx="3047760" cy="472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600000">
            <a:off x="-1232640" y="-3107880"/>
            <a:ext cx="7930800" cy="80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6"/>
                </a:moveTo>
                <a:arcTo wR="10800" hR="10800" stAng="-1351" swAng="5822218"/>
                <a:lnTo>
                  <a:pt x="10800" y="10800"/>
                </a:lnTo>
                <a:close/>
              </a:path>
              <a:path fill="none" w="21600" h="21600">
                <a:moveTo>
                  <a:pt x="21600" y="10796"/>
                </a:moveTo>
                <a:arcTo wR="10800" hR="10800" stAng="-1351" swAng="5822218"/>
              </a:path>
            </a:pathLst>
          </a:custGeom>
          <a:noFill/>
          <a:ln cap="rnd"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9360" y="521172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R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37120" y="6338880"/>
            <a:ext cx="758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M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5920" y="3079800"/>
            <a:ext cx="0" cy="292572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03480" y="3063960"/>
            <a:ext cx="2165040" cy="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05160" y="4859280"/>
            <a:ext cx="95400" cy="9540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05160" y="3014640"/>
            <a:ext cx="95400" cy="9540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7720" y="28335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35600" y="6019920"/>
            <a:ext cx="46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5160" y="960480"/>
            <a:ext cx="6053040" cy="41450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9920" y="4908600"/>
            <a:ext cx="7063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AR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35160" y="960480"/>
            <a:ext cx="4147560" cy="5566320"/>
            <a:chOff x="1235160" y="960480"/>
            <a:chExt cx="4147560" cy="5566320"/>
          </a:xfrm>
        </p:grpSpPr>
        <p:sp>
          <p:nvSpPr>
            <p:cNvPr id="185" name=""/>
            <p:cNvSpPr/>
            <p:nvPr/>
          </p:nvSpPr>
          <p:spPr>
            <a:xfrm>
              <a:off x="1235160" y="960480"/>
              <a:ext cx="3336840" cy="517212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24560" y="6018120"/>
              <a:ext cx="7581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400" spc="-1" strike="noStrike">
                  <a:solidFill>
                    <a:srgbClr val="663300"/>
                  </a:solidFill>
                  <a:latin typeface="Arial"/>
                </a:rPr>
                <a:t>MR</a:t>
              </a:r>
              <a:r>
                <a:rPr b="0" lang="en-US" sz="2400" spc="-1" strike="noStrike" baseline="-25000">
                  <a:solidFill>
                    <a:srgbClr val="6633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114800" y="3535200"/>
            <a:ext cx="76212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200" y="5778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63600" y="604980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1430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4a48"/>
                </a:solidFill>
                <a:latin typeface="Arial"/>
              </a:rPr>
              <a:t>Short-run response of a profit-maximising</a:t>
            </a:r>
            <a:br>
              <a:rPr sz="2600"/>
            </a:br>
            <a:r>
              <a:rPr b="1" lang="en-US" sz="2600" spc="-1" strike="noStrike">
                <a:solidFill>
                  <a:srgbClr val="004a48"/>
                </a:solidFill>
                <a:latin typeface="Arial"/>
              </a:rPr>
              <a:t>firm to a rise in demand</a:t>
            </a:r>
            <a:endParaRPr b="1" lang="en-US" sz="2600" spc="-1" strike="noStrike">
              <a:solidFill>
                <a:srgbClr val="004a4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23:04:00Z</dcterms:created>
  <dc:creator>John Sloman</dc:creator>
  <dc:description/>
  <dc:language>en-US</dc:language>
  <cp:lastModifiedBy>John Sloman</cp:lastModifiedBy>
  <dcterms:modified xsi:type="dcterms:W3CDTF">2003-10-21T08:09:10Z</dcterms:modified>
  <cp:revision>35</cp:revision>
  <dc:subject/>
  <dc:title>No Slide Title</dc:title>
</cp:coreProperties>
</file>