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229A-9D1A-4844-A16A-36EB790DF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665-E293-4AE2-BCC0-267E7D217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5A7-ACEC-40E5-AF23-A21CAB831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BB96-46B2-4249-B0FB-7F5437C3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2AE3-454D-4631-A4D6-E88CF8189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F161-A82A-4D61-9F9B-12FF25BBA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6CE6-E8E2-4F30-A7C5-0910D6686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A980-0E7D-4C27-B73A-195CD38FB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626-1FBA-4EFD-9121-F4458DD8C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F127-8248-496A-A087-0F4696877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5D62-4B3D-4D9D-A6DB-8C3FA9512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54F5-D0C6-4B14-BB9D-C2EADCF22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2242-B0AD-4D97-B150-C70E75F73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944D-28C2-4757-99D1-19EF0DB4C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E0E2-00D9-4C1E-960D-6FEA1BF71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502D-6FFF-47C1-8A8B-A5E7325D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6BD1-AE1E-40E6-B9B1-FCC51D892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8DA-165A-4C23-9F71-3A9802382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19B1-B16B-411C-8895-5C25D20C5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90AD-E3FD-4EB5-94A2-CDC18AA81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38B1-1D7F-4813-99D8-B67DAEA58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E61F-B575-45F7-B7FE-DC7F2E529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DE9E-9C38-452E-84DC-4DE8162E1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BC6B-11C7-4F9F-A335-37E74B1E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997E-B472-4A97-9154-235D981C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DC9A-74DB-44E1-AC12-322F2DCE7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247680"/>
            <a:ext cx="8369280" cy="69372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247680"/>
            <a:ext cx="837576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47680"/>
            <a:ext cx="833760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1200240"/>
            <a:ext cx="8383680" cy="5364360"/>
            <a:chOff x="380880" y="1200240"/>
            <a:chExt cx="8383680" cy="5364360"/>
          </a:xfrm>
        </p:grpSpPr>
        <p:sp>
          <p:nvSpPr>
            <p:cNvPr id="4" name=""/>
            <p:cNvSpPr/>
            <p:nvPr/>
          </p:nvSpPr>
          <p:spPr>
            <a:xfrm>
              <a:off x="380880" y="1200240"/>
              <a:ext cx="8382240" cy="5301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36400" y="1495440"/>
            <a:ext cx="204840" cy="482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490760"/>
            <a:ext cx="206640" cy="48369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36400" y="1494000"/>
            <a:ext cx="206640" cy="48402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530280" y="357120"/>
            <a:ext cx="209160" cy="519120"/>
            <a:chOff x="530280" y="357120"/>
            <a:chExt cx="209160" cy="519120"/>
          </a:xfrm>
        </p:grpSpPr>
        <p:sp>
          <p:nvSpPr>
            <p:cNvPr id="11" name=""/>
            <p:cNvSpPr/>
            <p:nvPr/>
          </p:nvSpPr>
          <p:spPr>
            <a:xfrm>
              <a:off x="530280" y="357480"/>
              <a:ext cx="207360" cy="51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5920" y="488880"/>
            <a:ext cx="8369280" cy="85248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440" y="488880"/>
            <a:ext cx="837576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8880"/>
            <a:ext cx="833760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2021040"/>
            <a:ext cx="8383680" cy="4201920"/>
            <a:chOff x="380880" y="2021040"/>
            <a:chExt cx="8383680" cy="4201920"/>
          </a:xfrm>
        </p:grpSpPr>
        <p:sp>
          <p:nvSpPr>
            <p:cNvPr id="57" name=""/>
            <p:cNvSpPr/>
            <p:nvPr/>
          </p:nvSpPr>
          <p:spPr>
            <a:xfrm>
              <a:off x="380880" y="2021040"/>
              <a:ext cx="8382240" cy="415296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6400" y="2232000"/>
            <a:ext cx="204840" cy="378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2228760"/>
            <a:ext cx="206640" cy="37893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" y="2232000"/>
            <a:ext cx="206640" cy="37926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0280" y="598320"/>
            <a:ext cx="209160" cy="638280"/>
            <a:chOff x="530280" y="598320"/>
            <a:chExt cx="209160" cy="638280"/>
          </a:xfrm>
        </p:grpSpPr>
        <p:sp>
          <p:nvSpPr>
            <p:cNvPr id="64" name=""/>
            <p:cNvSpPr/>
            <p:nvPr/>
          </p:nvSpPr>
          <p:spPr>
            <a:xfrm>
              <a:off x="530280" y="598680"/>
              <a:ext cx="207360" cy="63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ESSENTI1" descr=""/>
          <p:cNvPicPr/>
          <p:nvPr/>
        </p:nvPicPr>
        <p:blipFill>
          <a:blip r:embed="rId2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24360" y="2401920"/>
            <a:ext cx="582768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"/>
              </a:rPr>
              <a:t>International Tra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oblems with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tection as ‘second best’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orld multiplier effec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etali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ushions inefficien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bureaucra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Measuring the efficiency loss from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898560"/>
            <a:ext cx="6917760" cy="3825360"/>
            <a:chOff x="1066680" y="898560"/>
            <a:chExt cx="6917760" cy="3825360"/>
          </a:xfrm>
        </p:grpSpPr>
        <p:sp>
          <p:nvSpPr>
            <p:cNvPr id="165" name=""/>
            <p:cNvSpPr/>
            <p:nvPr/>
          </p:nvSpPr>
          <p:spPr>
            <a:xfrm flipV="1">
              <a:off x="1066680" y="1294920"/>
              <a:ext cx="5486400" cy="3429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82520" y="898560"/>
              <a:ext cx="1501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dom</a:t>
              </a: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(=</a:t>
              </a: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MC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583280" y="4267080"/>
            <a:ext cx="465480" cy="2131560"/>
            <a:chOff x="1583280" y="4267080"/>
            <a:chExt cx="465480" cy="2131560"/>
          </a:xfrm>
        </p:grpSpPr>
        <p:sp>
          <p:nvSpPr>
            <p:cNvPr id="168" name=""/>
            <p:cNvSpPr/>
            <p:nvPr/>
          </p:nvSpPr>
          <p:spPr>
            <a:xfrm>
              <a:off x="1787400" y="4267080"/>
              <a:ext cx="0" cy="167652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83280" y="595944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051880" y="4262400"/>
            <a:ext cx="465480" cy="2118960"/>
            <a:chOff x="5051880" y="4262400"/>
            <a:chExt cx="465480" cy="2118960"/>
          </a:xfrm>
        </p:grpSpPr>
        <p:sp>
          <p:nvSpPr>
            <p:cNvPr id="171" name=""/>
            <p:cNvSpPr/>
            <p:nvPr/>
          </p:nvSpPr>
          <p:spPr>
            <a:xfrm>
              <a:off x="5294160" y="4262400"/>
              <a:ext cx="0" cy="16653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51880" y="594216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06160" y="4068720"/>
            <a:ext cx="6986880" cy="508680"/>
            <a:chOff x="506160" y="4068720"/>
            <a:chExt cx="6986880" cy="508680"/>
          </a:xfrm>
        </p:grpSpPr>
        <p:grpSp>
          <p:nvGrpSpPr>
            <p:cNvPr id="174" name=""/>
            <p:cNvGrpSpPr/>
            <p:nvPr/>
          </p:nvGrpSpPr>
          <p:grpSpPr>
            <a:xfrm>
              <a:off x="1066680" y="4068720"/>
              <a:ext cx="6426360" cy="508680"/>
              <a:chOff x="1066680" y="4068720"/>
              <a:chExt cx="6426360" cy="508680"/>
            </a:xfrm>
          </p:grpSpPr>
          <p:sp>
            <p:nvSpPr>
              <p:cNvPr id="175" name=""/>
              <p:cNvSpPr/>
              <p:nvPr/>
            </p:nvSpPr>
            <p:spPr>
              <a:xfrm>
                <a:off x="1066680" y="4267080"/>
                <a:ext cx="556272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43440" y="4068720"/>
                <a:ext cx="849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000" spc="-1" strike="noStrike">
                    <a:solidFill>
                      <a:srgbClr val="006600"/>
                    </a:solidFill>
                    <a:latin typeface="Arial"/>
                  </a:rPr>
                  <a:t>S </a:t>
                </a:r>
                <a:r>
                  <a:rPr b="0" lang="en-US" sz="2400" spc="-1" strike="noStrike" baseline="-25000">
                    <a:solidFill>
                      <a:srgbClr val="006600"/>
                    </a:solidFill>
                    <a:latin typeface="Arial"/>
                  </a:rPr>
                  <a:t>worl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06160" y="4087800"/>
              <a:ext cx="4942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66680" y="1523880"/>
            <a:ext cx="7051320" cy="4452120"/>
            <a:chOff x="1066680" y="1523880"/>
            <a:chExt cx="7051320" cy="4452120"/>
          </a:xfrm>
        </p:grpSpPr>
        <p:sp>
          <p:nvSpPr>
            <p:cNvPr id="179" name=""/>
            <p:cNvSpPr/>
            <p:nvPr/>
          </p:nvSpPr>
          <p:spPr>
            <a:xfrm>
              <a:off x="1066680" y="1523880"/>
              <a:ext cx="6324840" cy="41148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02680" y="5467320"/>
              <a:ext cx="715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76400" y="3803760"/>
            <a:ext cx="4200480" cy="447480"/>
          </a:xfrm>
          <a:custGeom>
            <a:avLst/>
            <a:gdLst/>
            <a:ahLst/>
            <a:rect l="l" t="t" r="r" b="b"/>
            <a:pathLst>
              <a:path w="2646" h="282">
                <a:moveTo>
                  <a:pt x="0" y="0"/>
                </a:moveTo>
                <a:lnTo>
                  <a:pt x="2202" y="0"/>
                </a:lnTo>
                <a:lnTo>
                  <a:pt x="2646" y="282"/>
                </a:lnTo>
                <a:lnTo>
                  <a:pt x="0" y="2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198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15160" y="3819600"/>
            <a:ext cx="465480" cy="2563200"/>
            <a:chOff x="2315160" y="3819600"/>
            <a:chExt cx="465480" cy="2563200"/>
          </a:xfrm>
        </p:grpSpPr>
        <p:sp>
          <p:nvSpPr>
            <p:cNvPr id="207" name=""/>
            <p:cNvSpPr/>
            <p:nvPr/>
          </p:nvSpPr>
          <p:spPr>
            <a:xfrm>
              <a:off x="2530440" y="3819600"/>
              <a:ext cx="0" cy="209232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5160" y="59436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339080" y="3819600"/>
            <a:ext cx="465480" cy="2561760"/>
            <a:chOff x="4339080" y="3819600"/>
            <a:chExt cx="465480" cy="2561760"/>
          </a:xfrm>
        </p:grpSpPr>
        <p:sp>
          <p:nvSpPr>
            <p:cNvPr id="210" name=""/>
            <p:cNvSpPr/>
            <p:nvPr/>
          </p:nvSpPr>
          <p:spPr>
            <a:xfrm>
              <a:off x="4554360" y="3819600"/>
              <a:ext cx="0" cy="210816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39080" y="594216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13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5400" y="922320"/>
            <a:ext cx="2944800" cy="8571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rea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dbc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equals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of consumer 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35120" y="3841920"/>
            <a:ext cx="2024280" cy="43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76400" y="3803760"/>
            <a:ext cx="1446120" cy="447480"/>
          </a:xfrm>
          <a:custGeom>
            <a:avLst/>
            <a:gdLst/>
            <a:ahLst/>
            <a:rect l="l" t="t" r="r" b="b"/>
            <a:pathLst>
              <a:path w="911" h="282">
                <a:moveTo>
                  <a:pt x="0" y="0"/>
                </a:moveTo>
                <a:lnTo>
                  <a:pt x="911" y="0"/>
                </a:lnTo>
                <a:lnTo>
                  <a:pt x="484" y="282"/>
                </a:lnTo>
                <a:lnTo>
                  <a:pt x="0" y="2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237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30440" y="3819600"/>
            <a:ext cx="0" cy="20923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54360" y="3819600"/>
            <a:ext cx="0" cy="210816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66280" y="3902040"/>
            <a:ext cx="3474720" cy="415080"/>
            <a:chOff x="1466280" y="3902040"/>
            <a:chExt cx="3474720" cy="415080"/>
          </a:xfrm>
        </p:grpSpPr>
        <p:sp>
          <p:nvSpPr>
            <p:cNvPr id="246" name=""/>
            <p:cNvSpPr/>
            <p:nvPr/>
          </p:nvSpPr>
          <p:spPr>
            <a:xfrm>
              <a:off x="1466280" y="3902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99600" y="39196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960" y="3902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4120" y="39038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15160" y="5943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390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55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62400" y="2536920"/>
            <a:ext cx="2421000" cy="85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rea 3 equals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 tariff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98800" y="1087560"/>
            <a:ext cx="2944800" cy="8571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rea 1 equals gai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 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00360" y="3803760"/>
            <a:ext cx="3504960" cy="461880"/>
            <a:chOff x="1800360" y="3803760"/>
            <a:chExt cx="3504960" cy="461880"/>
          </a:xfrm>
        </p:grpSpPr>
        <p:sp>
          <p:nvSpPr>
            <p:cNvPr id="265" name=""/>
            <p:cNvSpPr/>
            <p:nvPr/>
          </p:nvSpPr>
          <p:spPr>
            <a:xfrm>
              <a:off x="4554360" y="3803760"/>
              <a:ext cx="750960" cy="461880"/>
            </a:xfrm>
            <a:custGeom>
              <a:avLst/>
              <a:gdLst/>
              <a:ahLst/>
              <a:rect l="l" t="t" r="r" b="b"/>
              <a:pathLst>
                <a:path w="473" h="279">
                  <a:moveTo>
                    <a:pt x="0" y="0"/>
                  </a:moveTo>
                  <a:lnTo>
                    <a:pt x="11" y="278"/>
                  </a:lnTo>
                  <a:lnTo>
                    <a:pt x="472" y="278"/>
                  </a:lnTo>
                  <a:lnTo>
                    <a:pt x="0" y="0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00360" y="3803760"/>
              <a:ext cx="731880" cy="460440"/>
            </a:xfrm>
            <a:custGeom>
              <a:avLst/>
              <a:gdLst/>
              <a:ahLst/>
              <a:rect l="l" t="t" r="r" b="b"/>
              <a:pathLst>
                <a:path w="461" h="290">
                  <a:moveTo>
                    <a:pt x="460" y="0"/>
                  </a:moveTo>
                  <a:lnTo>
                    <a:pt x="460" y="289"/>
                  </a:lnTo>
                  <a:lnTo>
                    <a:pt x="0" y="289"/>
                  </a:lnTo>
                  <a:lnTo>
                    <a:pt x="460" y="0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281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30440" y="3819600"/>
            <a:ext cx="0" cy="20923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4360" y="3819600"/>
            <a:ext cx="0" cy="210816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66280" y="3902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9600" y="39196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59960" y="3902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14120" y="39038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15160" y="5943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390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98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38520" y="1087560"/>
            <a:ext cx="1663560" cy="1063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reas 2 +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774360" y="1571760"/>
            <a:ext cx="7970760" cy="49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337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History of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9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e-war growth in protec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9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ost-war reduction in protection and the role of GAT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2588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growth in world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26560" y="4784760"/>
            <a:ext cx="251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rowth in real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26560" y="4784760"/>
            <a:ext cx="251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rowth in real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10040" y="920880"/>
            <a:ext cx="274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rowth in merchandise 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Re-emergence of protectionism in 1980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increasing use of non-tariff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Uruguay Round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ims of the negoti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blems in reaching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ssessing the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749160" y="253800"/>
            <a:ext cx="80107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Gains from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4360" y="1474560"/>
            <a:ext cx="7970760" cy="503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93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law of comparative advantag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pecialisation as the basis for trad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bsolut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gains from trade based on 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World Trade Organisa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more powerful than GAT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rul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non-discrimin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eciproc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general prohibition of quota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fair competi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inding tariff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ttitudes of the WTO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activity in recent yea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esistance from various groups to unfettered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749160" y="253800"/>
            <a:ext cx="80107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ing Bloc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74360" y="1427040"/>
            <a:ext cx="7970760" cy="508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ypes of preferential trading arrangemen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free trade area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ustoms un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mon marke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features of a full common mark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irect effects of a customs un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cre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divers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ing Bloc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Long-term effects of a customs un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er-term 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ternal economies of scal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ternal economies of scal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etter terms of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competition between member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er-term dis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ertain regions of the union may suffe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ility of oligopolistic collus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ministrative cos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Preferential Trading in Practic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eferential trading in practic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EU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EE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AFT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advent of NAFTA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erience to dat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posals to extent to an all Americas free trade area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Asia-Pacific Economic Co-operation forum (APEC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other free trade areas / customs un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Historical background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economic nature of the EU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evelopment of common EU polic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mon Agricultur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region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etition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ax harmonis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oci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rade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historical background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Single European Ac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leting the single marke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benefit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cre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eduction in the direct costs of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conomies of scal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greater competi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riticism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adical economic change is costl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adverse regional effec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evelopment of monopoly / oligopoly power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rade divers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olitical objections: loss of sovereignt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evelopment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evidence of economic benefi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liminating remaining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ternal Market scoreboard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effects of expansion of the EU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74360" y="1547280"/>
            <a:ext cx="7970760" cy="496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5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rade strateg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imary out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econdary in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874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mport-substituting industrialisation (ISI)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econdary out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874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ly complemented by primary inward look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1: exporting primar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justification for exporting prima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loits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 'vent for surplus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n 'engine for growth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blems with traditional trade theor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arative costs change over tim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enefits may not flow to national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rade my lead to greater in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ternalities from mines and plantation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Exporting primaries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-term problems for primary exporting count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tection in advanced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echnological developmen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ynthetic substitut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iniaturisation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apid growth in impor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verse movements in terms of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855880"/>
            <a:ext cx="9144000" cy="400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3560" y="3122640"/>
            <a:ext cx="8067960" cy="24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560" y="4057560"/>
            <a:ext cx="8067960" cy="151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560" y="4943520"/>
            <a:ext cx="806796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32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verage annual changes i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ices of various produc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47640" y="1531800"/>
            <a:ext cx="7854840" cy="3915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878520" y="2276640"/>
            <a:ext cx="1278000" cy="29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47640" y="1531800"/>
            <a:ext cx="7854840" cy="3915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verage annual changes i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ices of various produc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2: ISI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8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justific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blems of primary export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dynamic potential in manufactur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37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fant industri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37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rapid technological adva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8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atterns of protec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electing industries for protec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ariff and quota escal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ttracting multinational investmen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4360" y="1362240"/>
            <a:ext cx="7970760" cy="51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2: ISI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dverse effects of ISI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often counter to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ends to cushion inefficienc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encourages establishment of monopoli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rtificially low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use of capital-intensive techniqu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ncourages rural–urban migr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verse effects on rural secto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eads to greater in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nvironmental problem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imit to home mark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3: exporting manufactur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nsition from inward-looking to outward-looking industrialis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 neutral trade approach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ctive promotion of manufactured expor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benefits from exporting manufactur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nforms more closely with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competi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investmen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more employment and greater 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381400" y="2825640"/>
            <a:ext cx="61164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26080"/>
            <a:ext cx="9144000" cy="2131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148280" y="2825640"/>
            <a:ext cx="434952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243400" y="2825640"/>
            <a:ext cx="32544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337440" y="2841480"/>
            <a:ext cx="2160360" cy="371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3: exporting manufactures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rawbacks of exporting manufactur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le retaliation from advanced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but attitudes of WTO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etition from other developing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vulnerability to world fluctuation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world recession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peculation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between developing count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rade blocs of developing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711760"/>
            <a:ext cx="9144000" cy="11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Gains from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limits to specialisation and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terms of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003399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i="1" lang="en-US" sz="26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003399"/>
                </a:solidFill>
                <a:latin typeface="Arial"/>
              </a:rPr>
              <a:t>M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Other reasons for gains from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ecreasing cos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ifferences in demand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increased competi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as an ‘engine of growth’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on-economic 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Methods of restricting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ariff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quota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dministrative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other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rguments for restricting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infant industry argu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hanging 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prevent dump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rguments for restricting trade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prevent establishment of a foreign-based monopol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spread risk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xternalit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ursuing national interests (but against world interests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loiting monopoly powe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tecting declining indus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on-economic argumen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51:39Z</dcterms:created>
  <dc:creator>John Sloman</dc:creator>
  <dc:description/>
  <dc:language>en-US</dc:language>
  <cp:lastModifiedBy>John Sloman</cp:lastModifiedBy>
  <cp:lastPrinted>2000-11-29T16:58:37Z</cp:lastPrinted>
  <dcterms:modified xsi:type="dcterms:W3CDTF">2003-10-21T17:23:16Z</dcterms:modified>
  <cp:revision>105</cp:revision>
  <dc:subject/>
  <dc:title>Promoting active learning</dc:title>
</cp:coreProperties>
</file>