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10.wmf" ContentType="image/x-wmf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5029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3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4070-97C2-49A5-95E6-24FBC36D5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4276-FE39-490D-8527-916603375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BF35-EBD9-4F65-B39F-DBF4C3706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1CE2-8FB5-4785-A360-8B113AB23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FC33-5378-4271-BDED-560F7609F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69000" cy="365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ED57-9009-4266-B201-37E648F99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5D68-EE3F-4861-BC8E-E863E50A1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C023-3EBE-43EC-AB61-D1B91846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8D3A-D1FA-412B-B246-FF46D121E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05D5-0B78-4B63-9F27-D7DC3D17F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9B95-8A9F-4ED4-978A-0CDAC02F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6650-69E9-4FD3-99DC-EE67D626D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E300-59D6-43DD-AD16-D6D09762A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95F4-0F2B-4625-84B2-724DD7336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29CF-6AD9-4762-BE96-8FF4C57A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2376-EBE9-46C6-8FA5-0B9D14EB7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7DA-9F8E-4972-BC5D-C13EBF371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3976-06FF-41F9-8DD5-4D6991478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E617-AA79-45F4-B4BB-D7F899815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185A-681A-4186-9046-C5EC06B16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3DCF-52F3-4BB7-B5D1-369FCF4F0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9552-01EA-411F-BDE9-F13BB6908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D6D5-43CB-4EE0-A7B6-B1D86150A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3A48-B66A-4321-B8AE-D021BC20D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D703-FCB3-47AB-8FC5-6A0B6AF37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BA60-74C6-4E41-80F0-6F096CC3E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968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64640" y="13442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7436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968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64640" y="4042440"/>
            <a:ext cx="2566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837720" y="253800"/>
            <a:ext cx="792180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8560" y="40424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58560" y="1344240"/>
            <a:ext cx="388944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4360" y="4042440"/>
            <a:ext cx="7970760" cy="24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5920" y="247680"/>
            <a:ext cx="8369280" cy="69372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79440" y="247680"/>
            <a:ext cx="837576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47680"/>
            <a:ext cx="8337600" cy="69372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80880" y="1200240"/>
            <a:ext cx="8383680" cy="5364360"/>
            <a:chOff x="380880" y="1200240"/>
            <a:chExt cx="8383680" cy="5364360"/>
          </a:xfrm>
        </p:grpSpPr>
        <p:sp>
          <p:nvSpPr>
            <p:cNvPr id="4" name=""/>
            <p:cNvSpPr/>
            <p:nvPr/>
          </p:nvSpPr>
          <p:spPr>
            <a:xfrm>
              <a:off x="380880" y="1200240"/>
              <a:ext cx="8382240" cy="53017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80880" y="1200240"/>
              <a:ext cx="8383680" cy="536436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536400" y="1495440"/>
            <a:ext cx="204840" cy="482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6400" y="1490760"/>
            <a:ext cx="206640" cy="48369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36400" y="1494000"/>
            <a:ext cx="206640" cy="48402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530280" y="357120"/>
            <a:ext cx="209160" cy="519120"/>
            <a:chOff x="530280" y="357120"/>
            <a:chExt cx="209160" cy="519120"/>
          </a:xfrm>
        </p:grpSpPr>
        <p:sp>
          <p:nvSpPr>
            <p:cNvPr id="11" name=""/>
            <p:cNvSpPr/>
            <p:nvPr/>
          </p:nvSpPr>
          <p:spPr>
            <a:xfrm>
              <a:off x="530280" y="357480"/>
              <a:ext cx="207360" cy="518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30280" y="357120"/>
              <a:ext cx="209160" cy="51912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25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5920" y="488880"/>
            <a:ext cx="8369280" cy="852480"/>
          </a:xfrm>
          <a:prstGeom prst="rect">
            <a:avLst/>
          </a:prstGeom>
          <a:solidFill>
            <a:srgbClr val="eaeaea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9440" y="488880"/>
            <a:ext cx="837576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5272" y="1392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88880"/>
            <a:ext cx="8337600" cy="852480"/>
          </a:xfrm>
          <a:custGeom>
            <a:avLst/>
            <a:gdLst/>
            <a:ahLst/>
            <a:rect l="l" t="t" r="r" b="b"/>
            <a:pathLst>
              <a:path w="5273" h="1393">
                <a:moveTo>
                  <a:pt x="5272" y="0"/>
                </a:moveTo>
                <a:lnTo>
                  <a:pt x="0" y="0"/>
                </a:lnTo>
                <a:lnTo>
                  <a:pt x="0" y="1392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1880" y="495000"/>
            <a:ext cx="8004240" cy="84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880" y="2021040"/>
            <a:ext cx="8383680" cy="4201920"/>
            <a:chOff x="380880" y="2021040"/>
            <a:chExt cx="8383680" cy="4201920"/>
          </a:xfrm>
        </p:grpSpPr>
        <p:sp>
          <p:nvSpPr>
            <p:cNvPr id="57" name=""/>
            <p:cNvSpPr/>
            <p:nvPr/>
          </p:nvSpPr>
          <p:spPr>
            <a:xfrm>
              <a:off x="380880" y="2021040"/>
              <a:ext cx="8382240" cy="415296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2021040"/>
              <a:ext cx="8383680" cy="4201920"/>
            </a:xfrm>
            <a:custGeom>
              <a:avLst/>
              <a:gdLst/>
              <a:ahLst/>
              <a:rect l="l" t="t" r="r" b="b"/>
              <a:pathLst>
                <a:path w="5281" h="97">
                  <a:moveTo>
                    <a:pt x="5280" y="0"/>
                  </a:moveTo>
                  <a:lnTo>
                    <a:pt x="5280" y="96"/>
                  </a:lnTo>
                  <a:lnTo>
                    <a:pt x="0" y="96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6400" y="2232000"/>
            <a:ext cx="204840" cy="378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400" y="2228760"/>
            <a:ext cx="206640" cy="378936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96" y="1103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400" y="2232000"/>
            <a:ext cx="206640" cy="3792600"/>
          </a:xfrm>
          <a:custGeom>
            <a:avLst/>
            <a:gdLst/>
            <a:ahLst/>
            <a:rect l="l" t="t" r="r" b="b"/>
            <a:pathLst>
              <a:path w="97" h="1104">
                <a:moveTo>
                  <a:pt x="0" y="1103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0280" y="598320"/>
            <a:ext cx="209160" cy="638280"/>
            <a:chOff x="530280" y="598320"/>
            <a:chExt cx="209160" cy="638280"/>
          </a:xfrm>
        </p:grpSpPr>
        <p:sp>
          <p:nvSpPr>
            <p:cNvPr id="64" name=""/>
            <p:cNvSpPr/>
            <p:nvPr/>
          </p:nvSpPr>
          <p:spPr>
            <a:xfrm>
              <a:off x="530280" y="598680"/>
              <a:ext cx="207360" cy="63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96" y="1103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280" y="598320"/>
              <a:ext cx="209160" cy="638280"/>
            </a:xfrm>
            <a:custGeom>
              <a:avLst/>
              <a:gdLst/>
              <a:ahLst/>
              <a:rect l="l" t="t" r="r" b="b"/>
              <a:pathLst>
                <a:path w="97" h="1104">
                  <a:moveTo>
                    <a:pt x="0" y="1103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ESSENTI1" descr=""/>
          <p:cNvPicPr/>
          <p:nvPr/>
        </p:nvPicPr>
        <p:blipFill>
          <a:blip r:embed="rId2"/>
          <a:srcRect l="0" t="5861" r="0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971800" y="1600200"/>
            <a:ext cx="5943600" cy="3657600"/>
          </a:xfrm>
          <a:prstGeom prst="rect">
            <a:avLst/>
          </a:prstGeom>
          <a:gradFill rotWithShape="0">
            <a:gsLst>
              <a:gs pos="0">
                <a:srgbClr val="75091b"/>
              </a:gs>
              <a:gs pos="50000">
                <a:srgbClr val="b30f2a"/>
              </a:gs>
              <a:gs pos="100000">
                <a:srgbClr val="75091b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24360" y="2401920"/>
            <a:ext cx="582768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"/>
              </a:rPr>
              <a:t>International Tra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Problems with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tection as ‘second best’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orld multiplier effec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etali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ushions inefficien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76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bureaucra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Measuring the efficiency loss from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66680" y="898560"/>
            <a:ext cx="6917760" cy="3825360"/>
            <a:chOff x="1066680" y="898560"/>
            <a:chExt cx="6917760" cy="3825360"/>
          </a:xfrm>
        </p:grpSpPr>
        <p:sp>
          <p:nvSpPr>
            <p:cNvPr id="165" name=""/>
            <p:cNvSpPr/>
            <p:nvPr/>
          </p:nvSpPr>
          <p:spPr>
            <a:xfrm flipV="1">
              <a:off x="1066680" y="1294920"/>
              <a:ext cx="5486400" cy="34290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82520" y="898560"/>
              <a:ext cx="1501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S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dom</a:t>
              </a:r>
              <a:r>
                <a:rPr b="0" lang="en-US" sz="2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(=</a:t>
              </a: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MC</a:t>
              </a:r>
              <a:r>
                <a:rPr b="0" lang="en-US" sz="2000" spc="-1" strike="noStrike">
                  <a:solidFill>
                    <a:srgbClr val="003399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583280" y="4267080"/>
            <a:ext cx="465480" cy="2131560"/>
            <a:chOff x="1583280" y="4267080"/>
            <a:chExt cx="465480" cy="2131560"/>
          </a:xfrm>
        </p:grpSpPr>
        <p:sp>
          <p:nvSpPr>
            <p:cNvPr id="168" name=""/>
            <p:cNvSpPr/>
            <p:nvPr/>
          </p:nvSpPr>
          <p:spPr>
            <a:xfrm>
              <a:off x="1787400" y="4267080"/>
              <a:ext cx="0" cy="167652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83280" y="595944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051880" y="4262400"/>
            <a:ext cx="465480" cy="2118960"/>
            <a:chOff x="5051880" y="4262400"/>
            <a:chExt cx="465480" cy="2118960"/>
          </a:xfrm>
        </p:grpSpPr>
        <p:sp>
          <p:nvSpPr>
            <p:cNvPr id="171" name=""/>
            <p:cNvSpPr/>
            <p:nvPr/>
          </p:nvSpPr>
          <p:spPr>
            <a:xfrm>
              <a:off x="5294160" y="4262400"/>
              <a:ext cx="0" cy="16653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51880" y="594216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06160" y="4068720"/>
            <a:ext cx="6986880" cy="508680"/>
            <a:chOff x="506160" y="4068720"/>
            <a:chExt cx="6986880" cy="508680"/>
          </a:xfrm>
        </p:grpSpPr>
        <p:grpSp>
          <p:nvGrpSpPr>
            <p:cNvPr id="174" name=""/>
            <p:cNvGrpSpPr/>
            <p:nvPr/>
          </p:nvGrpSpPr>
          <p:grpSpPr>
            <a:xfrm>
              <a:off x="1066680" y="4068720"/>
              <a:ext cx="6426360" cy="508680"/>
              <a:chOff x="1066680" y="4068720"/>
              <a:chExt cx="6426360" cy="508680"/>
            </a:xfrm>
          </p:grpSpPr>
          <p:sp>
            <p:nvSpPr>
              <p:cNvPr id="175" name=""/>
              <p:cNvSpPr/>
              <p:nvPr/>
            </p:nvSpPr>
            <p:spPr>
              <a:xfrm>
                <a:off x="1066680" y="4267080"/>
                <a:ext cx="5562720" cy="0"/>
              </a:xfrm>
              <a:prstGeom prst="line">
                <a:avLst/>
              </a:prstGeom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43440" y="4068720"/>
                <a:ext cx="849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000" spc="-1" strike="noStrike">
                    <a:solidFill>
                      <a:srgbClr val="006600"/>
                    </a:solidFill>
                    <a:latin typeface="Arial"/>
                  </a:rPr>
                  <a:t>S </a:t>
                </a:r>
                <a:r>
                  <a:rPr b="0" lang="en-US" sz="2400" spc="-1" strike="noStrike" baseline="-25000">
                    <a:solidFill>
                      <a:srgbClr val="006600"/>
                    </a:solidFill>
                    <a:latin typeface="Arial"/>
                  </a:rPr>
                  <a:t>worl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06160" y="4087800"/>
              <a:ext cx="4942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66680" y="1523880"/>
            <a:ext cx="7051320" cy="4452120"/>
            <a:chOff x="1066680" y="1523880"/>
            <a:chExt cx="7051320" cy="4452120"/>
          </a:xfrm>
        </p:grpSpPr>
        <p:sp>
          <p:nvSpPr>
            <p:cNvPr id="179" name=""/>
            <p:cNvSpPr/>
            <p:nvPr/>
          </p:nvSpPr>
          <p:spPr>
            <a:xfrm>
              <a:off x="1066680" y="1523880"/>
              <a:ext cx="6324840" cy="41148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02680" y="5467320"/>
              <a:ext cx="715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Arial"/>
                </a:rPr>
                <a:t>D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Arial"/>
                </a:rPr>
                <a:t>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76400" y="3803760"/>
            <a:ext cx="4200480" cy="447480"/>
          </a:xfrm>
          <a:custGeom>
            <a:avLst/>
            <a:gdLst/>
            <a:ahLst/>
            <a:rect l="l" t="t" r="r" b="b"/>
            <a:pathLst>
              <a:path w="2646" h="282">
                <a:moveTo>
                  <a:pt x="0" y="0"/>
                </a:moveTo>
                <a:lnTo>
                  <a:pt x="2202" y="0"/>
                </a:lnTo>
                <a:lnTo>
                  <a:pt x="2646" y="282"/>
                </a:lnTo>
                <a:lnTo>
                  <a:pt x="0" y="28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198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315160" y="3819600"/>
            <a:ext cx="465480" cy="2563200"/>
            <a:chOff x="2315160" y="3819600"/>
            <a:chExt cx="465480" cy="2563200"/>
          </a:xfrm>
        </p:grpSpPr>
        <p:sp>
          <p:nvSpPr>
            <p:cNvPr id="207" name=""/>
            <p:cNvSpPr/>
            <p:nvPr/>
          </p:nvSpPr>
          <p:spPr>
            <a:xfrm>
              <a:off x="2530440" y="3819600"/>
              <a:ext cx="0" cy="209232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5160" y="594360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339080" y="3819600"/>
            <a:ext cx="465480" cy="2561760"/>
            <a:chOff x="4339080" y="3819600"/>
            <a:chExt cx="465480" cy="2561760"/>
          </a:xfrm>
        </p:grpSpPr>
        <p:sp>
          <p:nvSpPr>
            <p:cNvPr id="210" name=""/>
            <p:cNvSpPr/>
            <p:nvPr/>
          </p:nvSpPr>
          <p:spPr>
            <a:xfrm>
              <a:off x="4554360" y="3819600"/>
              <a:ext cx="0" cy="2108160"/>
            </a:xfrm>
            <a:prstGeom prst="line">
              <a:avLst/>
            </a:prstGeom>
            <a:ln w="1908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39080" y="594216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a50021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13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5400" y="922320"/>
            <a:ext cx="2944800" cy="8571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Area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dbc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equals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of consumer 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35120" y="3841920"/>
            <a:ext cx="2024280" cy="43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76400" y="3803760"/>
            <a:ext cx="1446120" cy="447480"/>
          </a:xfrm>
          <a:custGeom>
            <a:avLst/>
            <a:gdLst/>
            <a:ahLst/>
            <a:rect l="l" t="t" r="r" b="b"/>
            <a:pathLst>
              <a:path w="911" h="282">
                <a:moveTo>
                  <a:pt x="0" y="0"/>
                </a:moveTo>
                <a:lnTo>
                  <a:pt x="911" y="0"/>
                </a:lnTo>
                <a:lnTo>
                  <a:pt x="484" y="282"/>
                </a:lnTo>
                <a:lnTo>
                  <a:pt x="0" y="28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237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30440" y="3819600"/>
            <a:ext cx="0" cy="20923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54360" y="3819600"/>
            <a:ext cx="0" cy="210816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66280" y="3902040"/>
            <a:ext cx="3474720" cy="415080"/>
            <a:chOff x="1466280" y="3902040"/>
            <a:chExt cx="3474720" cy="415080"/>
          </a:xfrm>
        </p:grpSpPr>
        <p:sp>
          <p:nvSpPr>
            <p:cNvPr id="246" name=""/>
            <p:cNvSpPr/>
            <p:nvPr/>
          </p:nvSpPr>
          <p:spPr>
            <a:xfrm>
              <a:off x="1466280" y="3902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99600" y="39196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9960" y="3902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4120" y="39038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15160" y="5943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390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55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62400" y="2536920"/>
            <a:ext cx="2421000" cy="85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rea 3 equals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in tariff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98800" y="1087560"/>
            <a:ext cx="2944800" cy="8571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rea 1 equals gai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oducer sur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3800" y="627120"/>
            <a:ext cx="7145280" cy="530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00360" y="3803760"/>
            <a:ext cx="3504960" cy="461880"/>
            <a:chOff x="1800360" y="3803760"/>
            <a:chExt cx="3504960" cy="461880"/>
          </a:xfrm>
        </p:grpSpPr>
        <p:sp>
          <p:nvSpPr>
            <p:cNvPr id="265" name=""/>
            <p:cNvSpPr/>
            <p:nvPr/>
          </p:nvSpPr>
          <p:spPr>
            <a:xfrm>
              <a:off x="4554360" y="3803760"/>
              <a:ext cx="750960" cy="461880"/>
            </a:xfrm>
            <a:custGeom>
              <a:avLst/>
              <a:gdLst/>
              <a:ahLst/>
              <a:rect l="l" t="t" r="r" b="b"/>
              <a:pathLst>
                <a:path w="473" h="279">
                  <a:moveTo>
                    <a:pt x="0" y="0"/>
                  </a:moveTo>
                  <a:lnTo>
                    <a:pt x="11" y="278"/>
                  </a:lnTo>
                  <a:lnTo>
                    <a:pt x="472" y="278"/>
                  </a:lnTo>
                  <a:lnTo>
                    <a:pt x="0" y="0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00360" y="3803760"/>
              <a:ext cx="731880" cy="460440"/>
            </a:xfrm>
            <a:custGeom>
              <a:avLst/>
              <a:gdLst/>
              <a:ahLst/>
              <a:rect l="l" t="t" r="r" b="b"/>
              <a:pathLst>
                <a:path w="461" h="290">
                  <a:moveTo>
                    <a:pt x="460" y="0"/>
                  </a:moveTo>
                  <a:lnTo>
                    <a:pt x="460" y="289"/>
                  </a:lnTo>
                  <a:lnTo>
                    <a:pt x="0" y="289"/>
                  </a:lnTo>
                  <a:lnTo>
                    <a:pt x="460" y="0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066680" y="5943600"/>
            <a:ext cx="712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3640" y="517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55480" y="600408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523880"/>
            <a:ext cx="6324840" cy="411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066680" y="1294920"/>
            <a:ext cx="5486400" cy="3429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066680" y="3809880"/>
            <a:ext cx="556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4267080"/>
            <a:ext cx="556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83240" y="898560"/>
            <a:ext cx="150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=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C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79440" y="3565440"/>
            <a:ext cx="14317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world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"/>
              </a:rPr>
              <a:t>+ tar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3440" y="4068720"/>
            <a:ext cx="849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S 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50120" y="1173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050120" y="3382920"/>
            <a:ext cx="4532040" cy="930960"/>
            <a:chOff x="1050120" y="3382920"/>
            <a:chExt cx="4532040" cy="930960"/>
          </a:xfrm>
        </p:grpSpPr>
        <p:sp>
          <p:nvSpPr>
            <p:cNvPr id="281" name=""/>
            <p:cNvSpPr/>
            <p:nvPr/>
          </p:nvSpPr>
          <p:spPr>
            <a:xfrm>
              <a:off x="4555800" y="34592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0120" y="3382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50120" y="3916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41600" y="3916440"/>
              <a:ext cx="34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787400" y="4267080"/>
            <a:ext cx="0" cy="167652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81560" y="4262400"/>
            <a:ext cx="0" cy="166536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30440" y="3819600"/>
            <a:ext cx="0" cy="209232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4360" y="3819600"/>
            <a:ext cx="0" cy="2108160"/>
          </a:xfrm>
          <a:prstGeom prst="line">
            <a:avLst/>
          </a:prstGeom>
          <a:ln w="1908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66280" y="39020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99600" y="39196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59960" y="39020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14120" y="39038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83280" y="59594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18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15160" y="594360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39080" y="594216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09880" y="3800520"/>
            <a:ext cx="772920" cy="461880"/>
            <a:chOff x="209880" y="3800520"/>
            <a:chExt cx="772920" cy="461880"/>
          </a:xfrm>
        </p:grpSpPr>
        <p:sp>
          <p:nvSpPr>
            <p:cNvPr id="298" name=""/>
            <p:cNvSpPr/>
            <p:nvPr/>
          </p:nvSpPr>
          <p:spPr>
            <a:xfrm>
              <a:off x="982800" y="3819600"/>
              <a:ext cx="0" cy="44280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9880" y="380052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Tari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47680" y="3460680"/>
            <a:ext cx="8539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a50021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6160" y="4087800"/>
            <a:ext cx="4942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02680" y="5467320"/>
            <a:ext cx="715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Arial"/>
              </a:rPr>
              <a:t>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38520" y="1087560"/>
            <a:ext cx="1663560" cy="10634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Areas 2 +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eq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e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he cost of protec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774360" y="1571760"/>
            <a:ext cx="7970760" cy="49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3376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History of protec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9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e-war growth in protec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292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ost-war reduction in protection and the role of GAT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2588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growth in world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26560" y="4784760"/>
            <a:ext cx="251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rowth in real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85680" y="884160"/>
            <a:ext cx="7812360" cy="51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1160640" y="890640"/>
            <a:ext cx="7645320" cy="4933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Growth in world real GDP and world merchandise exports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26560" y="4784760"/>
            <a:ext cx="2516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rowth in real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10040" y="920880"/>
            <a:ext cx="2745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Growth in merchandise 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79560" y="4737240"/>
            <a:ext cx="7805520" cy="0"/>
          </a:xfrm>
          <a:prstGeom prst="line">
            <a:avLst/>
          </a:prstGeom>
          <a:ln w="12600">
            <a:solidFill>
              <a:srgbClr val="8686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2080" y="649116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Trade Statistics</a:t>
            </a: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, WTO (www.wto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400" y="530280"/>
          <a:ext cx="9129600" cy="61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530280"/>
                    <a:ext cx="912960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Re-emergence of protectionism in 1980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increasing use of non-tariff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Uruguay Round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ims of the negoti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blems in reaching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59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ssessing the agree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749160" y="253800"/>
            <a:ext cx="80107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Gains from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4360" y="1474560"/>
            <a:ext cx="7970760" cy="503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93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law of comparative advantag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pecialisation as the basis for trad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bsolut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1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gains from trade based on 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World Trade Organisat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more powerful than GAT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rul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non-discrimin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eciproc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general prohibition of quota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fair competi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inding tariff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ttitudes of the WTO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WTO activity in recent yea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esistance from various groups to unfettered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749160" y="253800"/>
            <a:ext cx="80107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 Narrow"/>
              </a:rPr>
              <a:t>World Attitudes towards Trade and Protection</a:t>
            </a: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ing Bloc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74360" y="1427040"/>
            <a:ext cx="7970760" cy="508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ypes of preferential trading arrangemen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free trade area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ustoms un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mon marke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features of a full common mark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irect effects of a customs un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cre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divers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ing Bloc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Long-term effects of a customs union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er-term 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ternal economies of scal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ternal economies of scal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etter terms of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competition between member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er-term dis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ertain regions of the union may suffe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ility of oligopolistic collus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ministrative cos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Preferential Trading in Practic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Preferential trading in practic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EU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EEA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AFTA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he advent of NAFTA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erience to dat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posals to extent to an all Americas free trade area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Asia-Pacific Economic Co-operation forum (APEC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other free trade areas / customs un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Historical background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economic nature of the EU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evelopment of common EU polic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mon Agricultur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region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etition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ax harmonis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ocial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rade polic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historical background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he Single European Ac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ompleting the single marke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benefit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cre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eduction in the direct costs of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conomies of scal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greater competi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European Union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Criticism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radical economic change is costl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adverse regional effec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evelopment of monopoly / oligopoly power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trade divers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olitical objections: loss of sovereignt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Developments of the single market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evidence of economic benefi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liminating remaining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1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ternal Market scoreboard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488"/>
                </a:solidFill>
                <a:latin typeface="Arial"/>
              </a:rPr>
              <a:t>effects of expansion of the EU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74360" y="1547280"/>
            <a:ext cx="7970760" cy="496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5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rade strateg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imary out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econdary in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874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mport-substituting industrialisation (ISI)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secondary outward look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874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ly complemented by primary inward look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1: exporting primari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justification for exporting prima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loits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 'vent for surplus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n 'engine for growth'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roblems with traditional trade theor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arative costs change over tim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benefits may not flow to national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rade my lead to greater in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3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ternalities from mines and plantation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Exporting primaries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50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long-term problems for primary exporting count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ow income elasticity of demand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tection in advanced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echnological developmen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ynthetic substitut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miniaturisation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rapid growth in impor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72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verse movements in terms of trad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855880"/>
            <a:ext cx="9144000" cy="400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3560" y="3122640"/>
            <a:ext cx="8067960" cy="24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560" y="4057560"/>
            <a:ext cx="8067960" cy="151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3560" y="4943520"/>
            <a:ext cx="806796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8118360" cy="44006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Arial"/>
              </a:rPr>
              <a:t>World primary commodity prices (1990 = 100)</a:t>
            </a:r>
            <a:endParaRPr b="1" lang="en-US" sz="29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832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verage annual changes in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rices of various produc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47640" y="1531800"/>
            <a:ext cx="7854840" cy="3915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878520" y="2276640"/>
            <a:ext cx="1278000" cy="29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47640" y="1531800"/>
            <a:ext cx="7854840" cy="3915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6880" y="21384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verage annual changes in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rices of various product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2: ISI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8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justification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blems of primary export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dynamic potential in manufacturing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37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fant industri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37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rapid technological advance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89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atterns of protec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selecting industries for protec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ariff and quota escal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ttracting multinational investmen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4360" y="1362240"/>
            <a:ext cx="7970760" cy="51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2: ISI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dverse effects of ISI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often counter to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ends to cushion inefficienc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encourages establishment of monopoli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rtificially low interest rat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use of capital-intensive techniqu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ncourages rural–urban migra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dverse effects on rural secto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eads to greater in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nvironmental problem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62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limit to home marke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3: exporting manufactures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nsition from inward-looking to outward-looking industrialisa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 neutral trade approach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active promotion of manufactured export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benefits from exporting manufactur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nforms more closely with comparative advantage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competition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increased investment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51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more employment and greater equality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381400" y="2825640"/>
            <a:ext cx="611640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26080"/>
            <a:ext cx="9144000" cy="2131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4148280" y="2825640"/>
            <a:ext cx="434952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243400" y="2825640"/>
            <a:ext cx="3254400" cy="375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337440" y="2841480"/>
            <a:ext cx="2160360" cy="371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68440" y="947880"/>
            <a:ext cx="7954920" cy="5665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8532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Growth rates and export performance of</a:t>
            </a:r>
            <a:br>
              <a:rPr sz="2600"/>
            </a:br>
            <a:r>
              <a:rPr b="1" lang="en-US" sz="2600" spc="-1" strike="noStrike">
                <a:solidFill>
                  <a:srgbClr val="006666"/>
                </a:solidFill>
                <a:latin typeface="Arial"/>
              </a:rPr>
              <a:t>selected secondary outward-looking countries</a:t>
            </a:r>
            <a:endParaRPr b="1" lang="en-US" sz="2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ade and Developing Countrie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pproach 3: exporting manufactures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rawbacks of exporting manufactur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ossible retaliation from advanced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but attitudes of WTO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competition from other developing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vulnerability to world fluctuation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world recession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1125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peculation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between developing countr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trade blocs of developing coun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711760"/>
            <a:ext cx="9144000" cy="11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603360"/>
          <a:ext cx="9144000" cy="216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0" y="603360"/>
                    <a:ext cx="91440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320" y="0"/>
            <a:ext cx="9085320" cy="66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duction possibilities for two countrie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e-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3533760"/>
            <a:ext cx="7772400" cy="8859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2 wheat for 1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1 wheat for 2 clo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35360"/>
            <a:ext cx="9085320" cy="66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International  trade exchange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4320" y="5799240"/>
            <a:ext cx="776412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Less developed country: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0000cc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Developed country: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1 wheat for 1 clo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0400" y="5216400"/>
            <a:ext cx="59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Arial"/>
              </a:rPr>
              <a:t>(LDC exports wheat: DC exports cloth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he Gains from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limits to specialisation and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The terms of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003399"/>
                </a:solidFill>
                <a:latin typeface="Arial"/>
              </a:rPr>
              <a:t>X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/</a:t>
            </a:r>
            <a:r>
              <a:rPr b="1" i="1" lang="en-US" sz="26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003399"/>
                </a:solidFill>
                <a:latin typeface="Arial"/>
              </a:rPr>
              <a:t>M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Other reasons for gains from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ecreasing cos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differences in demand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increased competition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rade as an ‘engine of growth’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on-economic advantag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Methods of restricting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ariff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quota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administrative barrier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other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rguments for restricting trade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infant industry argumen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hanging comparative advantag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prevent dumping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53800"/>
            <a:ext cx="7921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rguments for Restricting Trade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74360" y="1344240"/>
            <a:ext cx="7970760" cy="51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76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Arguments for restricting trade (cont.)</a:t>
            </a:r>
            <a:endParaRPr b="1" lang="en-US" sz="3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prevent establishment of a foreign-based monopoly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to spread risk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externalitie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pursuing national interests (but against world interests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exploiting monopoly power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87"/>
              </a:spcBef>
              <a:buClr>
                <a:srgbClr val="a000a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0080"/>
                </a:solidFill>
                <a:latin typeface="Arial"/>
              </a:rPr>
              <a:t>protecting declining industries</a:t>
            </a:r>
            <a:endParaRPr b="1" lang="en-US" sz="23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63"/>
              </a:spcBef>
              <a:buClr>
                <a:srgbClr val="003bb0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non-economic arguments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51:39Z</dcterms:created>
  <dc:creator>John Sloman</dc:creator>
  <dc:description/>
  <dc:language>en-US</dc:language>
  <cp:lastModifiedBy>John Sloman</cp:lastModifiedBy>
  <cp:lastPrinted>2000-11-29T16:58:37Z</cp:lastPrinted>
  <dcterms:modified xsi:type="dcterms:W3CDTF">2003-10-21T17:23:16Z</dcterms:modified>
  <cp:revision>105</cp:revision>
  <dc:subject/>
  <dc:title>Promoting active learning</dc:title>
</cp:coreProperties>
</file>