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72C3-B277-4F7C-961E-063AB08E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3AD-6A71-47AF-B398-09C1A526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B33-B0EC-4F6C-B0FB-ADA6DA551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982F-C2D6-4547-AB6D-07DF4226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B697-8B12-4DAA-A2F5-66D05FC3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3BCB-31BA-4E00-8B95-7D2E0A1F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7EB1-26B9-42F4-874F-CCD514B9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35F2-198C-41BA-A5E3-3565739F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202-D4B8-43E9-9C5E-FF4D8496C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1E3-CD6F-4BFA-888E-8FAB5C44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329-64B5-4942-ACBB-AE94C26A3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D1B-2B8D-4364-A5B2-47F4D563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5C80-E457-456F-90EA-F26CA3AC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1823-EE36-4CB0-AF77-4C92D5CAF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FE80-1584-4875-AAC8-2EA888E4B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D07B-C0FD-40F7-8814-565869DE4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0ECE-0604-4113-9BB0-668B4F0E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E6E7-1FA6-47E0-9E68-E1314293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D7B-E8A3-4CDC-8ACE-21BEBC7B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73A2-343C-4A6B-9FD0-2ED30CE9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F32-DD28-476F-9A83-BBF1A278C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602-2874-4850-870D-AAF4826C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2F7-664C-4879-A01E-8E6B689C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C1C-D4EF-4E26-99A5-0EF72F7F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E7F-9F8F-4C66-9E1D-AC6B17FB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27F-1545-4ECE-9CCB-A14972F56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4360" y="2401920"/>
            <a:ext cx="5827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International Tra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blems with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tection as ‘second best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orld multiplier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tali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hions inefficien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ureaucra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asuring the efficiency loss from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898560"/>
            <a:ext cx="6917760" cy="3825360"/>
            <a:chOff x="1066680" y="898560"/>
            <a:chExt cx="6917760" cy="3825360"/>
          </a:xfrm>
        </p:grpSpPr>
        <p:sp>
          <p:nvSpPr>
            <p:cNvPr id="165" name=""/>
            <p:cNvSpPr/>
            <p:nvPr/>
          </p:nvSpPr>
          <p:spPr>
            <a:xfrm flipV="1">
              <a:off x="1066680" y="1294920"/>
              <a:ext cx="5486400" cy="3429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2520" y="898560"/>
              <a:ext cx="15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(=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C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583280" y="4267080"/>
            <a:ext cx="465480" cy="2131560"/>
            <a:chOff x="1583280" y="4267080"/>
            <a:chExt cx="465480" cy="2131560"/>
          </a:xfrm>
        </p:grpSpPr>
        <p:sp>
          <p:nvSpPr>
            <p:cNvPr id="168" name=""/>
            <p:cNvSpPr/>
            <p:nvPr/>
          </p:nvSpPr>
          <p:spPr>
            <a:xfrm>
              <a:off x="1787400" y="4267080"/>
              <a:ext cx="0" cy="16765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3280" y="595944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51880" y="4262400"/>
            <a:ext cx="465480" cy="2118960"/>
            <a:chOff x="5051880" y="4262400"/>
            <a:chExt cx="465480" cy="2118960"/>
          </a:xfrm>
        </p:grpSpPr>
        <p:sp>
          <p:nvSpPr>
            <p:cNvPr id="171" name=""/>
            <p:cNvSpPr/>
            <p:nvPr/>
          </p:nvSpPr>
          <p:spPr>
            <a:xfrm>
              <a:off x="5294160" y="4262400"/>
              <a:ext cx="0" cy="16653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18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6160" y="4068720"/>
            <a:ext cx="6986880" cy="508680"/>
            <a:chOff x="506160" y="4068720"/>
            <a:chExt cx="6986880" cy="508680"/>
          </a:xfrm>
        </p:grpSpPr>
        <p:grpSp>
          <p:nvGrpSpPr>
            <p:cNvPr id="174" name=""/>
            <p:cNvGrpSpPr/>
            <p:nvPr/>
          </p:nvGrpSpPr>
          <p:grpSpPr>
            <a:xfrm>
              <a:off x="1066680" y="4068720"/>
              <a:ext cx="6426360" cy="508680"/>
              <a:chOff x="1066680" y="4068720"/>
              <a:chExt cx="6426360" cy="508680"/>
            </a:xfrm>
          </p:grpSpPr>
          <p:sp>
            <p:nvSpPr>
              <p:cNvPr id="175" name=""/>
              <p:cNvSpPr/>
              <p:nvPr/>
            </p:nvSpPr>
            <p:spPr>
              <a:xfrm>
                <a:off x="1066680" y="4267080"/>
                <a:ext cx="556272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3440" y="4068720"/>
                <a:ext cx="849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6600"/>
                    </a:solidFill>
                    <a:latin typeface="Arial"/>
                  </a:rPr>
                  <a:t>S 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wor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6160" y="4087800"/>
              <a:ext cx="494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1523880"/>
            <a:ext cx="7051320" cy="4452120"/>
            <a:chOff x="1066680" y="1523880"/>
            <a:chExt cx="7051320" cy="4452120"/>
          </a:xfrm>
        </p:grpSpPr>
        <p:sp>
          <p:nvSpPr>
            <p:cNvPr id="179" name=""/>
            <p:cNvSpPr/>
            <p:nvPr/>
          </p:nvSpPr>
          <p:spPr>
            <a:xfrm>
              <a:off x="1066680" y="1523880"/>
              <a:ext cx="6324840" cy="41148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02680" y="5467320"/>
              <a:ext cx="715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3803760"/>
            <a:ext cx="4200480" cy="447480"/>
          </a:xfrm>
          <a:custGeom>
            <a:avLst/>
            <a:gdLst/>
            <a:ahLst/>
            <a:rect l="l" t="t" r="r" b="b"/>
            <a:pathLst>
              <a:path w="2646" h="282">
                <a:moveTo>
                  <a:pt x="0" y="0"/>
                </a:moveTo>
                <a:lnTo>
                  <a:pt x="2202" y="0"/>
                </a:lnTo>
                <a:lnTo>
                  <a:pt x="2646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198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5160" y="3819600"/>
            <a:ext cx="465480" cy="2563200"/>
            <a:chOff x="2315160" y="3819600"/>
            <a:chExt cx="465480" cy="2563200"/>
          </a:xfrm>
        </p:grpSpPr>
        <p:sp>
          <p:nvSpPr>
            <p:cNvPr id="207" name=""/>
            <p:cNvSpPr/>
            <p:nvPr/>
          </p:nvSpPr>
          <p:spPr>
            <a:xfrm>
              <a:off x="2530440" y="3819600"/>
              <a:ext cx="0" cy="209232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5160" y="59436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39080" y="3819600"/>
            <a:ext cx="465480" cy="2561760"/>
            <a:chOff x="4339080" y="3819600"/>
            <a:chExt cx="465480" cy="2561760"/>
          </a:xfrm>
        </p:grpSpPr>
        <p:sp>
          <p:nvSpPr>
            <p:cNvPr id="210" name=""/>
            <p:cNvSpPr/>
            <p:nvPr/>
          </p:nvSpPr>
          <p:spPr>
            <a:xfrm>
              <a:off x="4554360" y="3819600"/>
              <a:ext cx="0" cy="2108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390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13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5400" y="92232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dbc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equal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f consum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35120" y="3841920"/>
            <a:ext cx="2024280" cy="43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6400" y="3803760"/>
            <a:ext cx="1446120" cy="447480"/>
          </a:xfrm>
          <a:custGeom>
            <a:avLst/>
            <a:gdLst/>
            <a:ahLst/>
            <a:rect l="l" t="t" r="r" b="b"/>
            <a:pathLst>
              <a:path w="911" h="282">
                <a:moveTo>
                  <a:pt x="0" y="0"/>
                </a:moveTo>
                <a:lnTo>
                  <a:pt x="911" y="0"/>
                </a:lnTo>
                <a:lnTo>
                  <a:pt x="484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37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66280" y="3902040"/>
            <a:ext cx="3474720" cy="415080"/>
            <a:chOff x="1466280" y="3902040"/>
            <a:chExt cx="3474720" cy="415080"/>
          </a:xfrm>
        </p:grpSpPr>
        <p:sp>
          <p:nvSpPr>
            <p:cNvPr id="246" name=""/>
            <p:cNvSpPr/>
            <p:nvPr/>
          </p:nvSpPr>
          <p:spPr>
            <a:xfrm>
              <a:off x="146628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9600" y="3919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96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3903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55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62400" y="2536920"/>
            <a:ext cx="2421000" cy="85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3 equal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 tariff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98800" y="108756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1 equals gai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00360" y="3803760"/>
            <a:ext cx="3504960" cy="461880"/>
            <a:chOff x="1800360" y="3803760"/>
            <a:chExt cx="3504960" cy="461880"/>
          </a:xfrm>
        </p:grpSpPr>
        <p:sp>
          <p:nvSpPr>
            <p:cNvPr id="265" name=""/>
            <p:cNvSpPr/>
            <p:nvPr/>
          </p:nvSpPr>
          <p:spPr>
            <a:xfrm>
              <a:off x="4554360" y="3803760"/>
              <a:ext cx="750960" cy="461880"/>
            </a:xfrm>
            <a:custGeom>
              <a:avLst/>
              <a:gdLst/>
              <a:ahLst/>
              <a:rect l="l" t="t" r="r" b="b"/>
              <a:pathLst>
                <a:path w="473" h="279">
                  <a:moveTo>
                    <a:pt x="0" y="0"/>
                  </a:moveTo>
                  <a:lnTo>
                    <a:pt x="11" y="278"/>
                  </a:lnTo>
                  <a:lnTo>
                    <a:pt x="472" y="278"/>
                  </a:lnTo>
                  <a:lnTo>
                    <a:pt x="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0360" y="3803760"/>
              <a:ext cx="731880" cy="460440"/>
            </a:xfrm>
            <a:custGeom>
              <a:avLst/>
              <a:gdLst/>
              <a:ahLst/>
              <a:rect l="l" t="t" r="r" b="b"/>
              <a:pathLst>
                <a:path w="461" h="290">
                  <a:moveTo>
                    <a:pt x="460" y="0"/>
                  </a:moveTo>
                  <a:lnTo>
                    <a:pt x="460" y="289"/>
                  </a:lnTo>
                  <a:lnTo>
                    <a:pt x="0" y="289"/>
                  </a:lnTo>
                  <a:lnTo>
                    <a:pt x="46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81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628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9600" y="3919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5996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4120" y="39038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98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38520" y="1087560"/>
            <a:ext cx="1663560" cy="1063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s 2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774360" y="1571760"/>
            <a:ext cx="7970760" cy="49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337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y of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e-war growth in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st-war reduction in protection and the role of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588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growth in worl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0040" y="920880"/>
            <a:ext cx="274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rowth in merchandise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Re-emergence of protectionism in 1980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increasing use of non-tarif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Uruguay 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ims of the negoti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in reaching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ssessing 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474560"/>
            <a:ext cx="7970760" cy="50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93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aw of comparative advantag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pecialisation as the basis for tra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bsolut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gains from trade based on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World Trade Organisa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more powerful than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rul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non-discrimin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ciproc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general prohibition of quota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air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inding tariff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ttitudes of the WTO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activity in recent yea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sistance from various groups to unfettere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74360" y="1427040"/>
            <a:ext cx="797076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ypes of preferential trading arrangemen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ree trade are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marke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eatures of a full common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irect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Long-term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tter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 between member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dis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ertain regions of the union may suff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ility of oligopolistic collus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ministrative cos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referential Trading in Pract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eferential trading in practic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E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AFT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advent of NAFT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erience to d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posals to extent to an all Americas free trade are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sia-Pacific Economic Co-operation forum (APEC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 free trade areas / 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ical backg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economic nature of the EU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 of common EU polic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Agricultur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region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etition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ax harmon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oci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historical backgrou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Single European Ac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leting the single marke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benefi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duction in the direct costs o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onomies of scal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greater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riticism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adical economic change is cost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adverse regional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velopment of monopoly / oligopoly pow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litical objections: loss of sovereign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vidence of economic benefi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liminating remaining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Market scoreboar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ffects of expansion of 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74360" y="1547280"/>
            <a:ext cx="7970760" cy="49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rade strateg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im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in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mport-substituting industrialisation (ISI)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y complemented by primary inward look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1: exporting primar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 for exporting prima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s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'vent for surplus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n 'engine for growth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with traditional trade theo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ative costs change over tim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nefits may not flow to national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my lead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ities from mines and plant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Exporting primari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-term problems for primary export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on in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chnological developmen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ynthetic substitut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iniaturis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apid growth in im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movements in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55880"/>
            <a:ext cx="9144000" cy="400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560" y="3122640"/>
            <a:ext cx="8067960" cy="24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560" y="4057560"/>
            <a:ext cx="80679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560" y="4943520"/>
            <a:ext cx="806796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32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78520" y="2276640"/>
            <a:ext cx="1278000" cy="29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blems of primary export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dynamic potential in manufactur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fant industr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apid technological adva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atterns of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electing industries for protec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ariff and quota esca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ttracting multinational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4360" y="1362240"/>
            <a:ext cx="7970760" cy="51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verse effects of IS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often counter to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nds to cushion inefficienc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ncourages establishment of monopol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rtificially low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use of capital-intensive techniqu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courages rural–urban migr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effects on rural secto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eads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vironmental problem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imit to home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nsition from inward-looking to outward-looking industrial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neutral trade approach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ctive promotion of manufactured ex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enefits from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nforms more closely with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re employment and greater 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381400" y="2825640"/>
            <a:ext cx="6116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6080"/>
            <a:ext cx="9144000" cy="213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148280" y="2825640"/>
            <a:ext cx="434952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43400" y="2825640"/>
            <a:ext cx="3254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37440" y="2841480"/>
            <a:ext cx="2160360" cy="371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rawbacks of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e retaliation from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ut attitudes of WTO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etition from other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vulnerability to world fluctu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ld recession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pecul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between develop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blocs of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11760"/>
            <a:ext cx="9144000" cy="11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imits to specialisation and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terms of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M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Other reasons for gains from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creasing cos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ifferences in dema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creased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as an ‘engine of growth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thods of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ariff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quot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ministrative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fant industry argu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hanging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dump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establishment of a foreign-based monopo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spread risk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xternalit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ursuing national interests (but against world interest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ing monopoly pow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ng declining indus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rgumen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3-10-21T17:23:16Z</dcterms:modified>
  <cp:revision>105</cp:revision>
  <dc:subject/>
  <dc:title>Promoting active learning</dc:title>
</cp:coreProperties>
</file>