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png" ContentType="image/png"/>
  <Override PartName="/ppt/media/image13.png" ContentType="image/png"/>
  <Override PartName="/ppt/media/image10.wmf" ContentType="image/x-wmf"/>
  <Override PartName="/ppt/media/image11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2"/>
          </p:nvPr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3"/>
          </p:nvPr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CEAA-B562-43B8-B84E-E854D864E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EACF-4985-4AE7-A889-C9AF2C55A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A146-5A39-40C7-A580-BC5F9C737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FD99-79B5-4C39-953F-BEDCD8FE3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48DA-19DB-43A4-8C13-4089D60EC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B85C-1C20-4D0D-98C9-0D42C4151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3947-7A3D-4336-A012-938570347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9F86-50D8-4A34-BF66-5B3067407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3B16-51E8-4C69-B716-D1484AFEB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54ED-BAF1-44F5-8775-A6B53F1A9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5DBF-FFB1-4CD4-8DEC-7CD40C623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92DD-181D-44D7-8D79-850CFC7A3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0A00-A148-40D5-BA7B-2F63D0621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4209-4621-474C-8351-EF3186B9C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F5E5-4253-4590-88DA-01A22D81F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8806-8247-4539-A6A2-32DF0B32B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7A03-E520-4840-A295-A774C2E7F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2998-0CAE-4C5D-9875-DBE631C4E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38E0-173D-47F2-B90B-352397EDC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C391-8D1A-402F-88D8-18A81EAD2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6746-89B3-491A-B3EB-E35E0BFDF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5B32-B8C0-4FF9-AC1E-E216F0450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91BD-F4E2-4300-91F7-6B9B69F15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0B69-3581-4C24-B664-F66BCE201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38B7-0FF7-4C95-919D-788621FB4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5381-EF39-43A6-B030-41056E435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74360" y="4042440"/>
            <a:ext cx="797076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743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8585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469680" y="13442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64640" y="13442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774360" y="40424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469680" y="40424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64640" y="40424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7720" y="253800"/>
            <a:ext cx="792180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743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585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74360" y="4042440"/>
            <a:ext cx="797076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774360" y="4042440"/>
            <a:ext cx="797076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743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8585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469680" y="13442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64640" y="13442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774360" y="40424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469680" y="40424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64640" y="40424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837720" y="253800"/>
            <a:ext cx="792180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743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85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74360" y="4042440"/>
            <a:ext cx="797076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5920" y="247680"/>
            <a:ext cx="8369280" cy="693720"/>
          </a:xfrm>
          <a:prstGeom prst="rect">
            <a:avLst/>
          </a:prstGeom>
          <a:solidFill>
            <a:srgbClr val="eaeaea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79440" y="247680"/>
            <a:ext cx="8375760" cy="693720"/>
          </a:xfrm>
          <a:custGeom>
            <a:avLst/>
            <a:gdLst/>
            <a:ahLst/>
            <a:rect l="l" t="t" r="r" b="b"/>
            <a:pathLst>
              <a:path w="5273" h="1393">
                <a:moveTo>
                  <a:pt x="5272" y="0"/>
                </a:moveTo>
                <a:lnTo>
                  <a:pt x="5272" y="1392"/>
                </a:lnTo>
                <a:lnTo>
                  <a:pt x="0" y="139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247680"/>
            <a:ext cx="8337600" cy="693720"/>
          </a:xfrm>
          <a:custGeom>
            <a:avLst/>
            <a:gdLst/>
            <a:ahLst/>
            <a:rect l="l" t="t" r="r" b="b"/>
            <a:pathLst>
              <a:path w="5273" h="1393">
                <a:moveTo>
                  <a:pt x="5272" y="0"/>
                </a:moveTo>
                <a:lnTo>
                  <a:pt x="0" y="0"/>
                </a:lnTo>
                <a:lnTo>
                  <a:pt x="0" y="1392"/>
                </a:lnTo>
              </a:path>
            </a:pathLst>
          </a:custGeom>
          <a:noFill/>
          <a:ln cap="rnd"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80880" y="1200240"/>
            <a:ext cx="8383680" cy="5364360"/>
            <a:chOff x="380880" y="1200240"/>
            <a:chExt cx="8383680" cy="5364360"/>
          </a:xfrm>
        </p:grpSpPr>
        <p:sp>
          <p:nvSpPr>
            <p:cNvPr id="4" name=""/>
            <p:cNvSpPr/>
            <p:nvPr/>
          </p:nvSpPr>
          <p:spPr>
            <a:xfrm>
              <a:off x="380880" y="1200240"/>
              <a:ext cx="8382240" cy="530172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80880" y="1200240"/>
              <a:ext cx="8383680" cy="5364360"/>
            </a:xfrm>
            <a:custGeom>
              <a:avLst/>
              <a:gdLst/>
              <a:ahLst/>
              <a:rect l="l" t="t" r="r" b="b"/>
              <a:pathLst>
                <a:path w="5281" h="97">
                  <a:moveTo>
                    <a:pt x="5280" y="0"/>
                  </a:moveTo>
                  <a:lnTo>
                    <a:pt x="0" y="0"/>
                  </a:lnTo>
                  <a:lnTo>
                    <a:pt x="0" y="96"/>
                  </a:lnTo>
                </a:path>
              </a:pathLst>
            </a:custGeom>
            <a:noFill/>
            <a:ln cap="rnd" w="38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80880" y="1200240"/>
              <a:ext cx="8383680" cy="5364360"/>
            </a:xfrm>
            <a:custGeom>
              <a:avLst/>
              <a:gdLst/>
              <a:ahLst/>
              <a:rect l="l" t="t" r="r" b="b"/>
              <a:pathLst>
                <a:path w="5281" h="97">
                  <a:moveTo>
                    <a:pt x="5280" y="0"/>
                  </a:moveTo>
                  <a:lnTo>
                    <a:pt x="5280" y="96"/>
                  </a:lnTo>
                  <a:lnTo>
                    <a:pt x="0" y="96"/>
                  </a:lnTo>
                </a:path>
              </a:pathLst>
            </a:custGeom>
            <a:noFill/>
            <a:ln cap="rnd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536400" y="1495440"/>
            <a:ext cx="204840" cy="4829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36400" y="1490760"/>
            <a:ext cx="206640" cy="4836960"/>
          </a:xfrm>
          <a:custGeom>
            <a:avLst/>
            <a:gdLst/>
            <a:ahLst/>
            <a:rect l="l" t="t" r="r" b="b"/>
            <a:pathLst>
              <a:path w="97" h="1104">
                <a:moveTo>
                  <a:pt x="0" y="1103"/>
                </a:moveTo>
                <a:lnTo>
                  <a:pt x="96" y="1103"/>
                </a:lnTo>
                <a:lnTo>
                  <a:pt x="96" y="0"/>
                </a:lnTo>
              </a:path>
            </a:pathLst>
          </a:custGeom>
          <a:noFill/>
          <a:ln cap="rnd"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36400" y="1494000"/>
            <a:ext cx="206640" cy="4840200"/>
          </a:xfrm>
          <a:custGeom>
            <a:avLst/>
            <a:gdLst/>
            <a:ahLst/>
            <a:rect l="l" t="t" r="r" b="b"/>
            <a:pathLst>
              <a:path w="97" h="1104">
                <a:moveTo>
                  <a:pt x="0" y="1103"/>
                </a:move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530280" y="357120"/>
            <a:ext cx="209160" cy="519120"/>
            <a:chOff x="530280" y="357120"/>
            <a:chExt cx="209160" cy="519120"/>
          </a:xfrm>
        </p:grpSpPr>
        <p:sp>
          <p:nvSpPr>
            <p:cNvPr id="11" name=""/>
            <p:cNvSpPr/>
            <p:nvPr/>
          </p:nvSpPr>
          <p:spPr>
            <a:xfrm>
              <a:off x="530280" y="357480"/>
              <a:ext cx="207360" cy="518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30280" y="357120"/>
              <a:ext cx="209160" cy="519120"/>
            </a:xfrm>
            <a:custGeom>
              <a:avLst/>
              <a:gdLst/>
              <a:ahLst/>
              <a:rect l="l" t="t" r="r" b="b"/>
              <a:pathLst>
                <a:path w="97" h="1104">
                  <a:moveTo>
                    <a:pt x="0" y="1103"/>
                  </a:moveTo>
                  <a:lnTo>
                    <a:pt x="96" y="1103"/>
                  </a:lnTo>
                  <a:lnTo>
                    <a:pt x="96" y="0"/>
                  </a:lnTo>
                </a:path>
              </a:pathLst>
            </a:custGeom>
            <a:noFill/>
            <a:ln cap="rnd" w="38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30280" y="357120"/>
              <a:ext cx="209160" cy="519120"/>
            </a:xfrm>
            <a:custGeom>
              <a:avLst/>
              <a:gdLst/>
              <a:ahLst/>
              <a:rect l="l" t="t" r="r" b="b"/>
              <a:pathLst>
                <a:path w="97" h="1104">
                  <a:moveTo>
                    <a:pt x="0" y="1103"/>
                  </a:moveTo>
                  <a:lnTo>
                    <a:pt x="0" y="0"/>
                  </a:lnTo>
                  <a:lnTo>
                    <a:pt x="96" y="0"/>
                  </a:lnTo>
                </a:path>
              </a:pathLst>
            </a:custGeom>
            <a:noFill/>
            <a:ln cap="rnd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body"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125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5920" y="488880"/>
            <a:ext cx="8369280" cy="852480"/>
          </a:xfrm>
          <a:prstGeom prst="rect">
            <a:avLst/>
          </a:prstGeom>
          <a:solidFill>
            <a:srgbClr val="eaeaea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9440" y="488880"/>
            <a:ext cx="8375760" cy="852480"/>
          </a:xfrm>
          <a:custGeom>
            <a:avLst/>
            <a:gdLst/>
            <a:ahLst/>
            <a:rect l="l" t="t" r="r" b="b"/>
            <a:pathLst>
              <a:path w="5273" h="1393">
                <a:moveTo>
                  <a:pt x="5272" y="0"/>
                </a:moveTo>
                <a:lnTo>
                  <a:pt x="5272" y="1392"/>
                </a:lnTo>
                <a:lnTo>
                  <a:pt x="0" y="139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488880"/>
            <a:ext cx="8337600" cy="852480"/>
          </a:xfrm>
          <a:custGeom>
            <a:avLst/>
            <a:gdLst/>
            <a:ahLst/>
            <a:rect l="l" t="t" r="r" b="b"/>
            <a:pathLst>
              <a:path w="5273" h="1393">
                <a:moveTo>
                  <a:pt x="5272" y="0"/>
                </a:moveTo>
                <a:lnTo>
                  <a:pt x="0" y="0"/>
                </a:lnTo>
                <a:lnTo>
                  <a:pt x="0" y="1392"/>
                </a:lnTo>
              </a:path>
            </a:pathLst>
          </a:custGeom>
          <a:noFill/>
          <a:ln cap="rnd"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1880" y="495000"/>
            <a:ext cx="8004240" cy="84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80880" y="2021040"/>
            <a:ext cx="8383680" cy="4201920"/>
            <a:chOff x="380880" y="2021040"/>
            <a:chExt cx="8383680" cy="4201920"/>
          </a:xfrm>
        </p:grpSpPr>
        <p:sp>
          <p:nvSpPr>
            <p:cNvPr id="57" name=""/>
            <p:cNvSpPr/>
            <p:nvPr/>
          </p:nvSpPr>
          <p:spPr>
            <a:xfrm>
              <a:off x="380880" y="2021040"/>
              <a:ext cx="8382240" cy="415296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2021040"/>
              <a:ext cx="8383680" cy="4201920"/>
            </a:xfrm>
            <a:custGeom>
              <a:avLst/>
              <a:gdLst/>
              <a:ahLst/>
              <a:rect l="l" t="t" r="r" b="b"/>
              <a:pathLst>
                <a:path w="5281" h="97">
                  <a:moveTo>
                    <a:pt x="5280" y="0"/>
                  </a:moveTo>
                  <a:lnTo>
                    <a:pt x="0" y="0"/>
                  </a:lnTo>
                  <a:lnTo>
                    <a:pt x="0" y="96"/>
                  </a:lnTo>
                </a:path>
              </a:pathLst>
            </a:custGeom>
            <a:noFill/>
            <a:ln cap="rnd" w="38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2021040"/>
              <a:ext cx="8383680" cy="4201920"/>
            </a:xfrm>
            <a:custGeom>
              <a:avLst/>
              <a:gdLst/>
              <a:ahLst/>
              <a:rect l="l" t="t" r="r" b="b"/>
              <a:pathLst>
                <a:path w="5281" h="97">
                  <a:moveTo>
                    <a:pt x="5280" y="0"/>
                  </a:moveTo>
                  <a:lnTo>
                    <a:pt x="5280" y="96"/>
                  </a:lnTo>
                  <a:lnTo>
                    <a:pt x="0" y="96"/>
                  </a:lnTo>
                </a:path>
              </a:pathLst>
            </a:custGeom>
            <a:noFill/>
            <a:ln cap="rnd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536400" y="2232000"/>
            <a:ext cx="204840" cy="3782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6400" y="2228760"/>
            <a:ext cx="206640" cy="3789360"/>
          </a:xfrm>
          <a:custGeom>
            <a:avLst/>
            <a:gdLst/>
            <a:ahLst/>
            <a:rect l="l" t="t" r="r" b="b"/>
            <a:pathLst>
              <a:path w="97" h="1104">
                <a:moveTo>
                  <a:pt x="0" y="1103"/>
                </a:moveTo>
                <a:lnTo>
                  <a:pt x="96" y="1103"/>
                </a:lnTo>
                <a:lnTo>
                  <a:pt x="96" y="0"/>
                </a:lnTo>
              </a:path>
            </a:pathLst>
          </a:custGeom>
          <a:noFill/>
          <a:ln cap="rnd"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6400" y="2232000"/>
            <a:ext cx="206640" cy="3792600"/>
          </a:xfrm>
          <a:custGeom>
            <a:avLst/>
            <a:gdLst/>
            <a:ahLst/>
            <a:rect l="l" t="t" r="r" b="b"/>
            <a:pathLst>
              <a:path w="97" h="1104">
                <a:moveTo>
                  <a:pt x="0" y="1103"/>
                </a:move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0280" y="598320"/>
            <a:ext cx="209160" cy="638280"/>
            <a:chOff x="530280" y="598320"/>
            <a:chExt cx="209160" cy="638280"/>
          </a:xfrm>
        </p:grpSpPr>
        <p:sp>
          <p:nvSpPr>
            <p:cNvPr id="64" name=""/>
            <p:cNvSpPr/>
            <p:nvPr/>
          </p:nvSpPr>
          <p:spPr>
            <a:xfrm>
              <a:off x="530280" y="598680"/>
              <a:ext cx="207360" cy="637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30280" y="598320"/>
              <a:ext cx="209160" cy="638280"/>
            </a:xfrm>
            <a:custGeom>
              <a:avLst/>
              <a:gdLst/>
              <a:ahLst/>
              <a:rect l="l" t="t" r="r" b="b"/>
              <a:pathLst>
                <a:path w="97" h="1104">
                  <a:moveTo>
                    <a:pt x="0" y="1103"/>
                  </a:moveTo>
                  <a:lnTo>
                    <a:pt x="96" y="1103"/>
                  </a:lnTo>
                  <a:lnTo>
                    <a:pt x="96" y="0"/>
                  </a:lnTo>
                </a:path>
              </a:pathLst>
            </a:custGeom>
            <a:noFill/>
            <a:ln cap="rnd" w="38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0280" y="598320"/>
              <a:ext cx="209160" cy="638280"/>
            </a:xfrm>
            <a:custGeom>
              <a:avLst/>
              <a:gdLst/>
              <a:ahLst/>
              <a:rect l="l" t="t" r="r" b="b"/>
              <a:pathLst>
                <a:path w="97" h="1104">
                  <a:moveTo>
                    <a:pt x="0" y="1103"/>
                  </a:moveTo>
                  <a:lnTo>
                    <a:pt x="0" y="0"/>
                  </a:lnTo>
                  <a:lnTo>
                    <a:pt x="96" y="0"/>
                  </a:lnTo>
                </a:path>
              </a:pathLst>
            </a:custGeom>
            <a:noFill/>
            <a:ln cap="rnd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ESSENTI1" descr=""/>
          <p:cNvPicPr/>
          <p:nvPr/>
        </p:nvPicPr>
        <p:blipFill>
          <a:blip r:embed="rId2"/>
          <a:srcRect l="0" t="5861" r="0" b="293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971800" y="1600200"/>
            <a:ext cx="5943600" cy="3657600"/>
          </a:xfrm>
          <a:prstGeom prst="rect">
            <a:avLst/>
          </a:prstGeom>
          <a:gradFill rotWithShape="0">
            <a:gsLst>
              <a:gs pos="0">
                <a:srgbClr val="75091b"/>
              </a:gs>
              <a:gs pos="50000">
                <a:srgbClr val="b30f2a"/>
              </a:gs>
              <a:gs pos="100000">
                <a:srgbClr val="75091b"/>
              </a:gs>
            </a:gsLst>
            <a:lin ang="5400000"/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24360" y="2401920"/>
            <a:ext cx="5827680" cy="2104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"/>
              </a:rPr>
              <a:t>International Trad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Arguments for Restricting Trade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Problems with protection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protection as ‘second best’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world multiplier effect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retaliation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ushions inefficiency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bureaucracy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Measuring the efficiency loss from protection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063800" y="627120"/>
            <a:ext cx="7145280" cy="530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he cost of protection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3640" y="5176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55480" y="600408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066680" y="898560"/>
            <a:ext cx="6917760" cy="3825360"/>
            <a:chOff x="1066680" y="898560"/>
            <a:chExt cx="6917760" cy="3825360"/>
          </a:xfrm>
        </p:grpSpPr>
        <p:sp>
          <p:nvSpPr>
            <p:cNvPr id="165" name=""/>
            <p:cNvSpPr/>
            <p:nvPr/>
          </p:nvSpPr>
          <p:spPr>
            <a:xfrm flipV="1">
              <a:off x="1066680" y="1294920"/>
              <a:ext cx="5486400" cy="342900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82520" y="898560"/>
              <a:ext cx="15019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Arial"/>
                </a:rPr>
                <a:t>S</a:t>
              </a:r>
              <a:r>
                <a:rPr b="0" lang="en-US" sz="2400" spc="-1" strike="noStrike" baseline="-25000">
                  <a:solidFill>
                    <a:srgbClr val="003399"/>
                  </a:solidFill>
                  <a:latin typeface="Arial"/>
                </a:rPr>
                <a:t>dom</a:t>
              </a:r>
              <a:r>
                <a:rPr b="0" lang="en-US" sz="2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3399"/>
                  </a:solidFill>
                  <a:latin typeface="Arial"/>
                </a:rPr>
                <a:t>(=</a:t>
              </a:r>
              <a:r>
                <a:rPr b="0" i="1" lang="en-US" sz="2000" spc="-1" strike="noStrike">
                  <a:solidFill>
                    <a:srgbClr val="003399"/>
                  </a:solidFill>
                  <a:latin typeface="Arial"/>
                </a:rPr>
                <a:t>MC</a:t>
              </a:r>
              <a:r>
                <a:rPr b="0" lang="en-US" sz="2000" spc="-1" strike="noStrike">
                  <a:solidFill>
                    <a:srgbClr val="003399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583280" y="4267080"/>
            <a:ext cx="465480" cy="2131560"/>
            <a:chOff x="1583280" y="4267080"/>
            <a:chExt cx="465480" cy="2131560"/>
          </a:xfrm>
        </p:grpSpPr>
        <p:sp>
          <p:nvSpPr>
            <p:cNvPr id="168" name=""/>
            <p:cNvSpPr/>
            <p:nvPr/>
          </p:nvSpPr>
          <p:spPr>
            <a:xfrm>
              <a:off x="1787400" y="4267080"/>
              <a:ext cx="0" cy="1676520"/>
            </a:xfrm>
            <a:prstGeom prst="line">
              <a:avLst/>
            </a:prstGeom>
            <a:ln w="1908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83280" y="5959440"/>
              <a:ext cx="4654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Q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051880" y="4262400"/>
            <a:ext cx="465480" cy="2118960"/>
            <a:chOff x="5051880" y="4262400"/>
            <a:chExt cx="465480" cy="2118960"/>
          </a:xfrm>
        </p:grpSpPr>
        <p:sp>
          <p:nvSpPr>
            <p:cNvPr id="171" name=""/>
            <p:cNvSpPr/>
            <p:nvPr/>
          </p:nvSpPr>
          <p:spPr>
            <a:xfrm>
              <a:off x="5294160" y="4262400"/>
              <a:ext cx="0" cy="1665360"/>
            </a:xfrm>
            <a:prstGeom prst="line">
              <a:avLst/>
            </a:prstGeom>
            <a:ln w="1908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051880" y="5942160"/>
              <a:ext cx="4654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Q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06160" y="4068720"/>
            <a:ext cx="6986880" cy="508680"/>
            <a:chOff x="506160" y="4068720"/>
            <a:chExt cx="6986880" cy="508680"/>
          </a:xfrm>
        </p:grpSpPr>
        <p:grpSp>
          <p:nvGrpSpPr>
            <p:cNvPr id="174" name=""/>
            <p:cNvGrpSpPr/>
            <p:nvPr/>
          </p:nvGrpSpPr>
          <p:grpSpPr>
            <a:xfrm>
              <a:off x="1066680" y="4068720"/>
              <a:ext cx="6426360" cy="508680"/>
              <a:chOff x="1066680" y="4068720"/>
              <a:chExt cx="6426360" cy="508680"/>
            </a:xfrm>
          </p:grpSpPr>
          <p:sp>
            <p:nvSpPr>
              <p:cNvPr id="175" name=""/>
              <p:cNvSpPr/>
              <p:nvPr/>
            </p:nvSpPr>
            <p:spPr>
              <a:xfrm>
                <a:off x="1066680" y="4267080"/>
                <a:ext cx="5562720" cy="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643440" y="4068720"/>
                <a:ext cx="84960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en-US" sz="2000" spc="-1" strike="noStrike">
                    <a:solidFill>
                      <a:srgbClr val="006600"/>
                    </a:solidFill>
                    <a:latin typeface="Arial"/>
                  </a:rPr>
                  <a:t>S </a:t>
                </a:r>
                <a:r>
                  <a:rPr b="0" lang="en-US" sz="2400" spc="-1" strike="noStrike" baseline="-25000">
                    <a:solidFill>
                      <a:srgbClr val="006600"/>
                    </a:solidFill>
                    <a:latin typeface="Arial"/>
                  </a:rPr>
                  <a:t>worl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506160" y="4087800"/>
              <a:ext cx="4942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P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066680" y="1523880"/>
            <a:ext cx="7051320" cy="4452120"/>
            <a:chOff x="1066680" y="1523880"/>
            <a:chExt cx="7051320" cy="4452120"/>
          </a:xfrm>
        </p:grpSpPr>
        <p:sp>
          <p:nvSpPr>
            <p:cNvPr id="179" name=""/>
            <p:cNvSpPr/>
            <p:nvPr/>
          </p:nvSpPr>
          <p:spPr>
            <a:xfrm>
              <a:off x="1066680" y="1523880"/>
              <a:ext cx="6324840" cy="411480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02680" y="5467320"/>
              <a:ext cx="7153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Arial"/>
                </a:rPr>
                <a:t>D</a:t>
              </a:r>
              <a:r>
                <a:rPr b="0" lang="en-US" sz="2400" spc="-1" strike="noStrike" baseline="-25000">
                  <a:solidFill>
                    <a:srgbClr val="003399"/>
                  </a:solidFill>
                  <a:latin typeface="Arial"/>
                </a:rPr>
                <a:t>d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066680" y="5943600"/>
            <a:ext cx="7126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063800" y="627120"/>
            <a:ext cx="7145280" cy="530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76400" y="3803760"/>
            <a:ext cx="4200480" cy="447480"/>
          </a:xfrm>
          <a:custGeom>
            <a:avLst/>
            <a:gdLst/>
            <a:ahLst/>
            <a:rect l="l" t="t" r="r" b="b"/>
            <a:pathLst>
              <a:path w="2646" h="282">
                <a:moveTo>
                  <a:pt x="0" y="0"/>
                </a:moveTo>
                <a:lnTo>
                  <a:pt x="2202" y="0"/>
                </a:lnTo>
                <a:lnTo>
                  <a:pt x="2646" y="282"/>
                </a:lnTo>
                <a:lnTo>
                  <a:pt x="0" y="282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5943600"/>
            <a:ext cx="7126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3640" y="5176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55480" y="600408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1523880"/>
            <a:ext cx="6324840" cy="41148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066680" y="1294920"/>
            <a:ext cx="5486400" cy="3429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066680" y="3809880"/>
            <a:ext cx="556272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4267080"/>
            <a:ext cx="55627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83240" y="898560"/>
            <a:ext cx="15019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dom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=</a:t>
            </a: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MC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79440" y="3565440"/>
            <a:ext cx="1431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S 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Arial"/>
              </a:rPr>
              <a:t>world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Arial"/>
              </a:rPr>
              <a:t>+ tar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43440" y="4068720"/>
            <a:ext cx="8496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S 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50120" y="11732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050120" y="3382920"/>
            <a:ext cx="4532040" cy="930960"/>
            <a:chOff x="1050120" y="3382920"/>
            <a:chExt cx="4532040" cy="930960"/>
          </a:xfrm>
        </p:grpSpPr>
        <p:sp>
          <p:nvSpPr>
            <p:cNvPr id="198" name=""/>
            <p:cNvSpPr/>
            <p:nvPr/>
          </p:nvSpPr>
          <p:spPr>
            <a:xfrm>
              <a:off x="4555800" y="3459240"/>
              <a:ext cx="340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50120" y="338292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50120" y="39164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41600" y="3916440"/>
              <a:ext cx="340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787400" y="4267080"/>
            <a:ext cx="0" cy="167652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281560" y="4262400"/>
            <a:ext cx="0" cy="166536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83280" y="595944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051880" y="594216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315160" y="3819600"/>
            <a:ext cx="465480" cy="2563200"/>
            <a:chOff x="2315160" y="3819600"/>
            <a:chExt cx="465480" cy="2563200"/>
          </a:xfrm>
        </p:grpSpPr>
        <p:sp>
          <p:nvSpPr>
            <p:cNvPr id="207" name=""/>
            <p:cNvSpPr/>
            <p:nvPr/>
          </p:nvSpPr>
          <p:spPr>
            <a:xfrm>
              <a:off x="2530440" y="3819600"/>
              <a:ext cx="0" cy="2092320"/>
            </a:xfrm>
            <a:prstGeom prst="line">
              <a:avLst/>
            </a:prstGeom>
            <a:ln w="1908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15160" y="5943600"/>
              <a:ext cx="4654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Q</a:t>
              </a:r>
              <a:r>
                <a:rPr b="0" lang="en-US" sz="2000" spc="-1" strike="noStrike" baseline="-25000">
                  <a:solidFill>
                    <a:srgbClr val="a50021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339080" y="3819600"/>
            <a:ext cx="465480" cy="2561760"/>
            <a:chOff x="4339080" y="3819600"/>
            <a:chExt cx="465480" cy="2561760"/>
          </a:xfrm>
        </p:grpSpPr>
        <p:sp>
          <p:nvSpPr>
            <p:cNvPr id="210" name=""/>
            <p:cNvSpPr/>
            <p:nvPr/>
          </p:nvSpPr>
          <p:spPr>
            <a:xfrm>
              <a:off x="4554360" y="3819600"/>
              <a:ext cx="0" cy="2108160"/>
            </a:xfrm>
            <a:prstGeom prst="line">
              <a:avLst/>
            </a:prstGeom>
            <a:ln w="1908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39080" y="5942160"/>
              <a:ext cx="4654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Q</a:t>
              </a:r>
              <a:r>
                <a:rPr b="0" lang="en-US" sz="2000" spc="-1" strike="noStrike" baseline="-25000">
                  <a:solidFill>
                    <a:srgbClr val="a50021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09880" y="3800520"/>
            <a:ext cx="772920" cy="461880"/>
            <a:chOff x="209880" y="3800520"/>
            <a:chExt cx="772920" cy="461880"/>
          </a:xfrm>
        </p:grpSpPr>
        <p:sp>
          <p:nvSpPr>
            <p:cNvPr id="213" name=""/>
            <p:cNvSpPr/>
            <p:nvPr/>
          </p:nvSpPr>
          <p:spPr>
            <a:xfrm>
              <a:off x="982800" y="3819600"/>
              <a:ext cx="0" cy="44280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09880" y="380052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800080"/>
                  </a:solidFill>
                  <a:latin typeface="Arial"/>
                </a:rPr>
                <a:t>Tarif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47680" y="3460680"/>
            <a:ext cx="853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+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6160" y="4087800"/>
            <a:ext cx="4942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402680" y="5467320"/>
            <a:ext cx="7153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95400" y="922320"/>
            <a:ext cx="2944800" cy="8571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Area 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edbc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equals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of consumer surp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he cost of protection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063800" y="627120"/>
            <a:ext cx="7145280" cy="530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35120" y="3841920"/>
            <a:ext cx="2024280" cy="434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76400" y="3803760"/>
            <a:ext cx="1446120" cy="447480"/>
          </a:xfrm>
          <a:custGeom>
            <a:avLst/>
            <a:gdLst/>
            <a:ahLst/>
            <a:rect l="l" t="t" r="r" b="b"/>
            <a:pathLst>
              <a:path w="911" h="282">
                <a:moveTo>
                  <a:pt x="0" y="0"/>
                </a:moveTo>
                <a:lnTo>
                  <a:pt x="911" y="0"/>
                </a:lnTo>
                <a:lnTo>
                  <a:pt x="484" y="282"/>
                </a:lnTo>
                <a:lnTo>
                  <a:pt x="0" y="282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5943600"/>
            <a:ext cx="7126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3640" y="5176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55480" y="600408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66680" y="1523880"/>
            <a:ext cx="6324840" cy="41148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066680" y="1294920"/>
            <a:ext cx="5486400" cy="3429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066680" y="3809880"/>
            <a:ext cx="556272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66680" y="4267080"/>
            <a:ext cx="55627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83240" y="898560"/>
            <a:ext cx="15019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dom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=</a:t>
            </a: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MC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679440" y="3565440"/>
            <a:ext cx="1431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S 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Arial"/>
              </a:rPr>
              <a:t>world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Arial"/>
              </a:rPr>
              <a:t>+ tar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643440" y="4068720"/>
            <a:ext cx="8496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S 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0120" y="11732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050120" y="3382920"/>
            <a:ext cx="4532040" cy="930960"/>
            <a:chOff x="1050120" y="3382920"/>
            <a:chExt cx="4532040" cy="930960"/>
          </a:xfrm>
        </p:grpSpPr>
        <p:sp>
          <p:nvSpPr>
            <p:cNvPr id="237" name=""/>
            <p:cNvSpPr/>
            <p:nvPr/>
          </p:nvSpPr>
          <p:spPr>
            <a:xfrm>
              <a:off x="4555800" y="3459240"/>
              <a:ext cx="340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50120" y="338292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50120" y="39164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41600" y="3916440"/>
              <a:ext cx="340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787400" y="4267080"/>
            <a:ext cx="0" cy="167652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81560" y="4262400"/>
            <a:ext cx="0" cy="166536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30440" y="3819600"/>
            <a:ext cx="0" cy="2092320"/>
          </a:xfrm>
          <a:prstGeom prst="line">
            <a:avLst/>
          </a:prstGeom>
          <a:ln w="1908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54360" y="3819600"/>
            <a:ext cx="0" cy="2108160"/>
          </a:xfrm>
          <a:prstGeom prst="line">
            <a:avLst/>
          </a:prstGeom>
          <a:ln w="1908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466280" y="3902040"/>
            <a:ext cx="3474720" cy="415080"/>
            <a:chOff x="1466280" y="3902040"/>
            <a:chExt cx="3474720" cy="415080"/>
          </a:xfrm>
        </p:grpSpPr>
        <p:sp>
          <p:nvSpPr>
            <p:cNvPr id="246" name=""/>
            <p:cNvSpPr/>
            <p:nvPr/>
          </p:nvSpPr>
          <p:spPr>
            <a:xfrm>
              <a:off x="1466280" y="39020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99600" y="391968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59960" y="39020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14120" y="39038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583280" y="595944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51880" y="594216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15160" y="594360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39080" y="594216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09880" y="3800520"/>
            <a:ext cx="772920" cy="461880"/>
            <a:chOff x="209880" y="3800520"/>
            <a:chExt cx="772920" cy="461880"/>
          </a:xfrm>
        </p:grpSpPr>
        <p:sp>
          <p:nvSpPr>
            <p:cNvPr id="255" name=""/>
            <p:cNvSpPr/>
            <p:nvPr/>
          </p:nvSpPr>
          <p:spPr>
            <a:xfrm>
              <a:off x="982800" y="3819600"/>
              <a:ext cx="0" cy="44280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9880" y="380052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800080"/>
                  </a:solidFill>
                  <a:latin typeface="Arial"/>
                </a:rPr>
                <a:t>Tarif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47680" y="3460680"/>
            <a:ext cx="853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+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6160" y="4087800"/>
            <a:ext cx="4942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402680" y="5467320"/>
            <a:ext cx="7153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62400" y="2536920"/>
            <a:ext cx="2421000" cy="8571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Area 3 equals 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in tariff reve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98800" y="1087560"/>
            <a:ext cx="2944800" cy="85716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Area 1 equals gain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producer surp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he cost of protection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063800" y="627120"/>
            <a:ext cx="7145280" cy="530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800360" y="3803760"/>
            <a:ext cx="3504960" cy="461880"/>
            <a:chOff x="1800360" y="3803760"/>
            <a:chExt cx="3504960" cy="461880"/>
          </a:xfrm>
        </p:grpSpPr>
        <p:sp>
          <p:nvSpPr>
            <p:cNvPr id="265" name=""/>
            <p:cNvSpPr/>
            <p:nvPr/>
          </p:nvSpPr>
          <p:spPr>
            <a:xfrm>
              <a:off x="4554360" y="3803760"/>
              <a:ext cx="750960" cy="461880"/>
            </a:xfrm>
            <a:custGeom>
              <a:avLst/>
              <a:gdLst/>
              <a:ahLst/>
              <a:rect l="l" t="t" r="r" b="b"/>
              <a:pathLst>
                <a:path w="473" h="279">
                  <a:moveTo>
                    <a:pt x="0" y="0"/>
                  </a:moveTo>
                  <a:lnTo>
                    <a:pt x="11" y="278"/>
                  </a:lnTo>
                  <a:lnTo>
                    <a:pt x="472" y="278"/>
                  </a:lnTo>
                  <a:lnTo>
                    <a:pt x="0" y="0"/>
                  </a:lnTo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00360" y="3803760"/>
              <a:ext cx="731880" cy="460440"/>
            </a:xfrm>
            <a:custGeom>
              <a:avLst/>
              <a:gdLst/>
              <a:ahLst/>
              <a:rect l="l" t="t" r="r" b="b"/>
              <a:pathLst>
                <a:path w="461" h="290">
                  <a:moveTo>
                    <a:pt x="460" y="0"/>
                  </a:moveTo>
                  <a:lnTo>
                    <a:pt x="460" y="289"/>
                  </a:lnTo>
                  <a:lnTo>
                    <a:pt x="0" y="289"/>
                  </a:lnTo>
                  <a:lnTo>
                    <a:pt x="460" y="0"/>
                  </a:lnTo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1066680" y="5943600"/>
            <a:ext cx="7126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93640" y="5176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755480" y="600408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1523880"/>
            <a:ext cx="6324840" cy="41148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066680" y="1294920"/>
            <a:ext cx="5486400" cy="3429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066680" y="3809880"/>
            <a:ext cx="556272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66680" y="4267080"/>
            <a:ext cx="55627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83240" y="898560"/>
            <a:ext cx="15019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dom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=</a:t>
            </a: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MC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679440" y="3565440"/>
            <a:ext cx="1431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S 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Arial"/>
              </a:rPr>
              <a:t>world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Arial"/>
              </a:rPr>
              <a:t>+ tar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43440" y="4068720"/>
            <a:ext cx="8496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S 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50120" y="11732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050120" y="3382920"/>
            <a:ext cx="4532040" cy="930960"/>
            <a:chOff x="1050120" y="3382920"/>
            <a:chExt cx="4532040" cy="930960"/>
          </a:xfrm>
        </p:grpSpPr>
        <p:sp>
          <p:nvSpPr>
            <p:cNvPr id="281" name=""/>
            <p:cNvSpPr/>
            <p:nvPr/>
          </p:nvSpPr>
          <p:spPr>
            <a:xfrm>
              <a:off x="4555800" y="3459240"/>
              <a:ext cx="340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50120" y="338292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050120" y="39164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41600" y="3916440"/>
              <a:ext cx="340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1787400" y="4267080"/>
            <a:ext cx="0" cy="167652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281560" y="4262400"/>
            <a:ext cx="0" cy="166536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530440" y="3819600"/>
            <a:ext cx="0" cy="2092320"/>
          </a:xfrm>
          <a:prstGeom prst="line">
            <a:avLst/>
          </a:prstGeom>
          <a:ln w="1908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54360" y="3819600"/>
            <a:ext cx="0" cy="2108160"/>
          </a:xfrm>
          <a:prstGeom prst="line">
            <a:avLst/>
          </a:prstGeom>
          <a:ln w="1908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66280" y="39020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99600" y="391968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59960" y="39020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14120" y="39038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83280" y="595944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1880" y="594216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315160" y="594360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39080" y="594216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209880" y="3800520"/>
            <a:ext cx="772920" cy="461880"/>
            <a:chOff x="209880" y="3800520"/>
            <a:chExt cx="772920" cy="461880"/>
          </a:xfrm>
        </p:grpSpPr>
        <p:sp>
          <p:nvSpPr>
            <p:cNvPr id="298" name=""/>
            <p:cNvSpPr/>
            <p:nvPr/>
          </p:nvSpPr>
          <p:spPr>
            <a:xfrm>
              <a:off x="982800" y="3819600"/>
              <a:ext cx="0" cy="44280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09880" y="380052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800080"/>
                  </a:solidFill>
                  <a:latin typeface="Arial"/>
                </a:rPr>
                <a:t>Tarif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247680" y="3460680"/>
            <a:ext cx="853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+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06160" y="4087800"/>
            <a:ext cx="4942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02680" y="5467320"/>
            <a:ext cx="7153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38520" y="1087560"/>
            <a:ext cx="1663560" cy="10634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Areas 2 +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equ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net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he cost of protection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774360" y="1571760"/>
            <a:ext cx="7970760" cy="49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3376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History of protection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2925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Pre-war growth in protection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2925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Post-war reduction in protection and the role of GAT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2588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the growth in world trade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 Narrow"/>
              </a:rPr>
              <a:t>World Attitudes towards Trade and Protection</a:t>
            </a:r>
            <a:endParaRPr b="1" lang="en-US" sz="3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14400" y="530280"/>
          <a:ext cx="9129600" cy="618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0" y="530280"/>
                    <a:ext cx="9129600" cy="61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985680" y="884160"/>
            <a:ext cx="7812360" cy="51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1160640" y="890640"/>
            <a:ext cx="7645320" cy="493380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40" y="-360"/>
            <a:ext cx="9142560" cy="68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0021"/>
                </a:solidFill>
                <a:latin typeface="Arial"/>
              </a:rPr>
              <a:t>Growth in world real GDP and world merchandise exports</a:t>
            </a:r>
            <a:endParaRPr b="1" lang="en-US" sz="25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79560" y="4737240"/>
            <a:ext cx="7805520" cy="0"/>
          </a:xfrm>
          <a:prstGeom prst="line">
            <a:avLst/>
          </a:prstGeom>
          <a:ln w="12600">
            <a:solidFill>
              <a:srgbClr val="86868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72080" y="6491160"/>
            <a:ext cx="44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Times New Roman"/>
              </a:rPr>
              <a:t>Source: </a:t>
            </a:r>
            <a:r>
              <a:rPr b="0" i="1" lang="en-US" sz="1800" spc="-1" strike="noStrike">
                <a:solidFill>
                  <a:srgbClr val="c0c0c0"/>
                </a:solidFill>
                <a:latin typeface="Times New Roman"/>
              </a:rPr>
              <a:t>Trade Statistics</a:t>
            </a:r>
            <a:r>
              <a:rPr b="0" lang="en-US" sz="1800" spc="-1" strike="noStrike">
                <a:solidFill>
                  <a:srgbClr val="c0c0c0"/>
                </a:solidFill>
                <a:latin typeface="Times New Roman"/>
              </a:rPr>
              <a:t>, WTO (www.wto.or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985680" y="884160"/>
            <a:ext cx="7812360" cy="51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1160640" y="890640"/>
            <a:ext cx="7645320" cy="49338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40" y="-360"/>
            <a:ext cx="9142560" cy="68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0021"/>
                </a:solidFill>
                <a:latin typeface="Arial"/>
              </a:rPr>
              <a:t>Growth in world real GDP and world merchandise exports</a:t>
            </a:r>
            <a:endParaRPr b="1" lang="en-US" sz="25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26560" y="4784760"/>
            <a:ext cx="2516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rowth in real G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79560" y="4737240"/>
            <a:ext cx="7805520" cy="0"/>
          </a:xfrm>
          <a:prstGeom prst="line">
            <a:avLst/>
          </a:prstGeom>
          <a:ln w="12600">
            <a:solidFill>
              <a:srgbClr val="86868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672080" y="6491160"/>
            <a:ext cx="44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Times New Roman"/>
              </a:rPr>
              <a:t>Source: </a:t>
            </a:r>
            <a:r>
              <a:rPr b="0" i="1" lang="en-US" sz="1800" spc="-1" strike="noStrike">
                <a:solidFill>
                  <a:srgbClr val="c0c0c0"/>
                </a:solidFill>
                <a:latin typeface="Times New Roman"/>
              </a:rPr>
              <a:t>Trade Statistics</a:t>
            </a:r>
            <a:r>
              <a:rPr b="0" lang="en-US" sz="1800" spc="-1" strike="noStrike">
                <a:solidFill>
                  <a:srgbClr val="c0c0c0"/>
                </a:solidFill>
                <a:latin typeface="Times New Roman"/>
              </a:rPr>
              <a:t>, WTO (www.wto.or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4400" y="530280"/>
          <a:ext cx="9129600" cy="61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00" y="530280"/>
                    <a:ext cx="9129600" cy="61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985680" y="884160"/>
            <a:ext cx="7812360" cy="51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1160640" y="890640"/>
            <a:ext cx="7645320" cy="493380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40" y="-360"/>
            <a:ext cx="9142560" cy="68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0021"/>
                </a:solidFill>
                <a:latin typeface="Arial"/>
              </a:rPr>
              <a:t>Growth in world real GDP and world merchandise exports</a:t>
            </a:r>
            <a:endParaRPr b="1" lang="en-US" sz="25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26560" y="4784760"/>
            <a:ext cx="2516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rowth in real G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910040" y="920880"/>
            <a:ext cx="2745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Growth in merchandise 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79560" y="4737240"/>
            <a:ext cx="7805520" cy="0"/>
          </a:xfrm>
          <a:prstGeom prst="line">
            <a:avLst/>
          </a:prstGeom>
          <a:ln w="12600">
            <a:solidFill>
              <a:srgbClr val="86868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72080" y="6491160"/>
            <a:ext cx="44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Times New Roman"/>
              </a:rPr>
              <a:t>Source: </a:t>
            </a:r>
            <a:r>
              <a:rPr b="0" i="1" lang="en-US" sz="1800" spc="-1" strike="noStrike">
                <a:solidFill>
                  <a:srgbClr val="c0c0c0"/>
                </a:solidFill>
                <a:latin typeface="Times New Roman"/>
              </a:rPr>
              <a:t>Trade Statistics</a:t>
            </a:r>
            <a:r>
              <a:rPr b="0" lang="en-US" sz="1800" spc="-1" strike="noStrike">
                <a:solidFill>
                  <a:srgbClr val="c0c0c0"/>
                </a:solidFill>
                <a:latin typeface="Times New Roman"/>
              </a:rPr>
              <a:t>, WTO (www.wto.or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4400" y="530280"/>
          <a:ext cx="9129600" cy="61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00" y="530280"/>
                    <a:ext cx="9129600" cy="61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Re-emergence of protectionism in 1980s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599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he increasing use of non-tariff barrier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The Uruguay Round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599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aims of the negotiation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599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problems in reaching agreemen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599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he agreemen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599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assessing the agreemen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title"/>
          </p:nvPr>
        </p:nvSpPr>
        <p:spPr>
          <a:xfrm>
            <a:off x="749160" y="253800"/>
            <a:ext cx="801072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 Narrow"/>
              </a:rPr>
              <a:t>World Attitudes towards Trade and Protection</a:t>
            </a:r>
            <a:endParaRPr b="1" lang="en-US" sz="3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he Gains from Trade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74360" y="1474560"/>
            <a:ext cx="7970760" cy="503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937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The law of comparative advantage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1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specialisation as the basis for trade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1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absolute advantage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1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omparative advantage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1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he gains from trade based on comparative advantage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38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The World Trade Organisation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1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WTO more powerful than GAT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1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WTO rule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1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non-discrimination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1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reciprocity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1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general prohibition of quota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1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fair competition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1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binding tariff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1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attitudes of the WTO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1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WTO activity in recent year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1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resistance from various groups to unfettered trade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749160" y="253800"/>
            <a:ext cx="801072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 Narrow"/>
              </a:rPr>
              <a:t>World Attitudes towards Trade and Protection</a:t>
            </a:r>
            <a:endParaRPr b="1" lang="en-US" sz="3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rading Blocs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74360" y="1427040"/>
            <a:ext cx="7970760" cy="508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Types of preferential trading arrangement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free trade area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ustoms union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ommon market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43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features of a full common market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Direct effects of a customs union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rade creation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rade diversion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rading Blocs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Long-term effects of a customs union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longer-term advantage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28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internal economies of scale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28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external economies of scale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28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better terms of trade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28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increased competition between member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longer-term disadvantage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28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certain regions of the union may suffer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28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possibility of oligopolistic collusion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28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administrative cost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Preferential Trading in Practice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Preferential trading in practice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75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he EU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75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he EEA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75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NAFTA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the advent of NAFTA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experience to date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proposals to extent to an all Americas free trade area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75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he Asia-Pacific Economic Co-operation forum (APEC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75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other free trade areas / customs union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he European Union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Historical background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The economic nature of the EU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Development of common EU policies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ommon Agricultural Policy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488"/>
                </a:solidFill>
                <a:latin typeface="Arial"/>
              </a:rPr>
              <a:t>regional policy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ompetition policy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488"/>
                </a:solidFill>
                <a:latin typeface="Arial"/>
              </a:rPr>
              <a:t>tax harmonisation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social policy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488"/>
                </a:solidFill>
                <a:latin typeface="Arial"/>
              </a:rPr>
              <a:t>trade policy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he European Union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The single market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historical background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he Single European Ac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ompleting the single marke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The benefits of the single market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rade creation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reduction in the direct costs of barrier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economies of scale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greater competition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he European Union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38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Criticisms of the single market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1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radical economic change is costly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1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488"/>
                </a:solidFill>
                <a:latin typeface="Arial"/>
              </a:rPr>
              <a:t>adverse regional effect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1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development of monopoly / oligopoly power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1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488"/>
                </a:solidFill>
                <a:latin typeface="Arial"/>
              </a:rPr>
              <a:t>trade diversion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1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political objections: loss of sovereignty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38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Developments of the single market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1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488"/>
                </a:solidFill>
                <a:latin typeface="Arial"/>
              </a:rPr>
              <a:t>evidence of economic benefit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1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eliminating remaining barrier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1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Internal Market scoreboard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1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488"/>
                </a:solidFill>
                <a:latin typeface="Arial"/>
              </a:rPr>
              <a:t>effects of expansion of the EU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rade and Developing Countries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74360" y="1547280"/>
            <a:ext cx="7970760" cy="496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750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Trade strategies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primary outward looking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secondary inward looking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874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import-substituting industrialisation (ISI)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secondary outward looking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874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possibly complemented by primary inward looking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rade and Developing Countries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Approach 1: exporting primaries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justification for exporting primarie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43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exploits comparative advantage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43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a 'vent for surplus'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43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an 'engine for growth'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problems with traditional trade theory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43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comparative costs change over time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43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benefits may not flow to national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43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trade my lead to greater inequality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43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externalities from mines and plantation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rade and Developing Countries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Exporting primaries (cont.)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950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long-term problems for primary exporting countrie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72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low income elasticity of demand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72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protection in advanced countrie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72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technological development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5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synthetic substitutes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5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miniaturisation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72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rapid growth in import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72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adverse movements in terms of trade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0" y="603360"/>
          <a:ext cx="9144000" cy="2165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>
                    <a:alphaModFix amt="50000"/>
                  </a:blip>
                  <a:stretch/>
                </p:blipFill>
                <p:spPr>
                  <a:xfrm>
                    <a:off x="0" y="603360"/>
                    <a:ext cx="91440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8320" y="0"/>
            <a:ext cx="9085320" cy="66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roduction possibilities for two countrie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90988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Pre-trade exchange rat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3533760"/>
            <a:ext cx="7772400" cy="8859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Less developed country:</a:t>
            </a: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2 wheat for 1 clo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Developed country: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1 wheat for 2 clo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63536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International  trade exchange rat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4320" y="5799240"/>
            <a:ext cx="7764120" cy="9169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cc"/>
                </a:solidFill>
                <a:latin typeface="Arial"/>
              </a:rPr>
              <a:t>Less developed country:</a:t>
            </a:r>
            <a:r>
              <a:rPr b="1" lang="en-US" sz="27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cc"/>
                </a:solidFill>
                <a:latin typeface="Arial"/>
              </a:rPr>
              <a:t>1 wheat for 1 clot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Developed country: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1 wheat for 1 clot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90400" y="5216400"/>
            <a:ext cx="599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00"/>
                </a:solidFill>
                <a:latin typeface="Arial"/>
              </a:rPr>
              <a:t>(LDC exports wheat: DC exports cloth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855880"/>
            <a:ext cx="9144000" cy="400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468360" y="1352520"/>
            <a:ext cx="8118360" cy="440064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6880" y="21384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800080"/>
                </a:solidFill>
                <a:latin typeface="Arial"/>
              </a:rPr>
              <a:t>World primary commodity prices (1990 = 100)</a:t>
            </a:r>
            <a:endParaRPr b="1" lang="en-US" sz="29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93560" y="3122640"/>
            <a:ext cx="8067960" cy="24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468360" y="1352520"/>
            <a:ext cx="8118360" cy="440064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6880" y="21384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800080"/>
                </a:solidFill>
                <a:latin typeface="Arial"/>
              </a:rPr>
              <a:t>World primary commodity prices (1990 = 100)</a:t>
            </a:r>
            <a:endParaRPr b="1" lang="en-US" sz="29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93560" y="4057560"/>
            <a:ext cx="8067960" cy="151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468360" y="1352520"/>
            <a:ext cx="8118360" cy="44006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6880" y="21384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800080"/>
                </a:solidFill>
                <a:latin typeface="Arial"/>
              </a:rPr>
              <a:t>World primary commodity prices (1990 = 100)</a:t>
            </a:r>
            <a:endParaRPr b="1" lang="en-US" sz="29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93560" y="4943520"/>
            <a:ext cx="8067960" cy="63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468360" y="1352520"/>
            <a:ext cx="8118360" cy="440064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6880" y="21384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800080"/>
                </a:solidFill>
                <a:latin typeface="Arial"/>
              </a:rPr>
              <a:t>World primary commodity prices (1990 = 100)</a:t>
            </a:r>
            <a:endParaRPr b="1" lang="en-US" sz="29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8320" y="21384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Average annual changes in</a:t>
            </a: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prices of various product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647640" y="1531800"/>
            <a:ext cx="7854840" cy="3915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6878520" y="2276640"/>
            <a:ext cx="1278000" cy="29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647640" y="1531800"/>
            <a:ext cx="7854840" cy="39150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6880" y="21384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Average annual changes in</a:t>
            </a: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prices of various product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rade and Developing Countries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6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Approach 2: ISI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89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justification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7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problems of primary exporting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7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dynamic potential in manufacturing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375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infant industries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375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rapid technological advance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89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patterns of protection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7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selecting industries for protection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7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tariff and quota escalation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7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attracting multinational investment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rade and Developing Countries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74360" y="1362240"/>
            <a:ext cx="7970760" cy="514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Approach 2: ISI (cont.)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75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adverse effects of ISI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often counter to comparative advantage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tends to cushion inefficiency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encourages establishment of monopolies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artificially low interest rate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use of capital-intensive techniques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encourages rural–urban migration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adverse effects on rural sector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leads to greater inequality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environmental problem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limit to home market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rade and Developing Countries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Approach 3: exporting manufactures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ransition from inward-looking to outward-looking industrialisation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5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a neutral trade approach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5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active promotion of manufactured export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benefits from exporting manufacture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5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conforms more closely with comparative advantage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5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increased competition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5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increased investment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5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more employment and greater equality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8532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Growth rates and export performance of</a:t>
            </a:r>
            <a:br>
              <a:rPr sz="2600"/>
            </a:b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selected secondary outward-looking countries</a:t>
            </a:r>
            <a:endParaRPr b="1" lang="en-US" sz="26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568440" y="947880"/>
            <a:ext cx="7954920" cy="566568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2381400" y="2825640"/>
            <a:ext cx="6116400" cy="375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0" y="603360"/>
          <a:ext cx="9144000" cy="2165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>
                    <a:alphaModFix amt="50000"/>
                  </a:blip>
                  <a:stretch/>
                </p:blipFill>
                <p:spPr>
                  <a:xfrm>
                    <a:off x="0" y="603360"/>
                    <a:ext cx="91440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8320" y="0"/>
            <a:ext cx="9085320" cy="66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roduction possibilities for two countrie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90988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re-trade exchange rat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3533760"/>
            <a:ext cx="7772400" cy="8859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Less developed country:</a:t>
            </a: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2 wheat for 1 clo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Developed country: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1 wheat for 2 clo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63536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International  trade exchange rat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4320" y="5799240"/>
            <a:ext cx="7764120" cy="9169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cc"/>
                </a:solidFill>
                <a:latin typeface="Arial"/>
              </a:rPr>
              <a:t>Less developed country:</a:t>
            </a:r>
            <a:r>
              <a:rPr b="1" lang="en-US" sz="27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cc"/>
                </a:solidFill>
                <a:latin typeface="Arial"/>
              </a:rPr>
              <a:t>1 wheat for 1 clot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Developed country: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1 wheat for 1 clot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90400" y="5216400"/>
            <a:ext cx="599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00"/>
                </a:solidFill>
                <a:latin typeface="Arial"/>
              </a:rPr>
              <a:t>(LDC exports wheat: DC exports cloth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726080"/>
            <a:ext cx="9144000" cy="2131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68440" y="947880"/>
            <a:ext cx="7954920" cy="566568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4148280" y="2825640"/>
            <a:ext cx="4349520" cy="375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8532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Growth rates and export performance of</a:t>
            </a:r>
            <a:br>
              <a:rPr sz="2600"/>
            </a:b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selected secondary outward-looking countries</a:t>
            </a:r>
            <a:endParaRPr b="1" lang="en-US" sz="26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568440" y="947880"/>
            <a:ext cx="7954920" cy="56656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5243400" y="2825640"/>
            <a:ext cx="3254400" cy="375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8532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Growth rates and export performance of</a:t>
            </a:r>
            <a:br>
              <a:rPr sz="2600"/>
            </a:b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selected secondary outward-looking countries</a:t>
            </a:r>
            <a:endParaRPr b="1" lang="en-US" sz="26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568440" y="947880"/>
            <a:ext cx="7954920" cy="566568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6337440" y="2841480"/>
            <a:ext cx="2160360" cy="371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8532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Growth rates and export performance of</a:t>
            </a:r>
            <a:br>
              <a:rPr sz="2600"/>
            </a:b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selected secondary outward-looking countries</a:t>
            </a:r>
            <a:endParaRPr b="1" lang="en-US" sz="26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568440" y="947880"/>
            <a:ext cx="7954920" cy="56656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8532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Growth rates and export performance of</a:t>
            </a:r>
            <a:br>
              <a:rPr sz="2600"/>
            </a:b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selected secondary outward-looking countries</a:t>
            </a:r>
            <a:endParaRPr b="1" lang="en-US" sz="26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rade and Developing Countries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687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Approach 3: exporting manufactures (cont.)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drawbacks of exporting manufacture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128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possible retaliation from advanced countrie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1125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but attitudes of WTO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128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competition from other developing countrie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128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vulnerability to world fluctuation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1125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world recessions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1125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speculation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rade between developing countrie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128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trade blocs of developing countrie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0" y="603360"/>
          <a:ext cx="9144000" cy="2165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>
                    <a:alphaModFix amt="50000"/>
                  </a:blip>
                  <a:stretch/>
                </p:blipFill>
                <p:spPr>
                  <a:xfrm>
                    <a:off x="0" y="603360"/>
                    <a:ext cx="91440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8320" y="0"/>
            <a:ext cx="9085320" cy="66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roduction possibilities for two countrie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0988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re-trade exchange rat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3533760"/>
            <a:ext cx="7772400" cy="8859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Less developed country:</a:t>
            </a: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2 wheat for 1 clo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Developed country: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1 wheat for 2 clo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63536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International  trade exchange rat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4320" y="5799240"/>
            <a:ext cx="7764120" cy="9169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cc"/>
                </a:solidFill>
                <a:latin typeface="Arial"/>
              </a:rPr>
              <a:t>Less developed country:</a:t>
            </a:r>
            <a:r>
              <a:rPr b="1" lang="en-US" sz="27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cc"/>
                </a:solidFill>
                <a:latin typeface="Arial"/>
              </a:rPr>
              <a:t>1 wheat for 1 clot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Developed country: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1 wheat for 1 clot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90400" y="5216400"/>
            <a:ext cx="599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00"/>
                </a:solidFill>
                <a:latin typeface="Arial"/>
              </a:rPr>
              <a:t>(LDC exports wheat: DC exports cloth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5711760"/>
            <a:ext cx="9144000" cy="1146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603360"/>
          <a:ext cx="9144000" cy="2165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>
                    <a:alphaModFix amt="50000"/>
                  </a:blip>
                  <a:stretch/>
                </p:blipFill>
                <p:spPr>
                  <a:xfrm>
                    <a:off x="0" y="603360"/>
                    <a:ext cx="91440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8320" y="0"/>
            <a:ext cx="9085320" cy="66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roduction possibilities for two countrie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90988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re-trade exchange rat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3533760"/>
            <a:ext cx="7772400" cy="8859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Less developed country:</a:t>
            </a: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2 wheat for 1 clo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Developed country: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1 wheat for 2 clo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63536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International  trade exchange rat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4320" y="5799240"/>
            <a:ext cx="7764120" cy="9169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cc"/>
                </a:solidFill>
                <a:latin typeface="Arial"/>
              </a:rPr>
              <a:t>Less developed country:</a:t>
            </a:r>
            <a:r>
              <a:rPr b="1" lang="en-US" sz="27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cc"/>
                </a:solidFill>
                <a:latin typeface="Arial"/>
              </a:rPr>
              <a:t>1 wheat for 1 clot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Developed country: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1 wheat for 1 clot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90400" y="5216400"/>
            <a:ext cx="599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00"/>
                </a:solidFill>
                <a:latin typeface="Arial"/>
              </a:rPr>
              <a:t>(LDC exports wheat: DC exports cloth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he Gains from Trade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The limits to specialisation and trade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The terms of trade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3399"/>
                </a:solidFill>
                <a:latin typeface="Arial"/>
              </a:rPr>
              <a:t>P</a:t>
            </a:r>
            <a:r>
              <a:rPr b="1" lang="en-US" sz="2600" spc="-1" strike="noStrike" baseline="-25000">
                <a:solidFill>
                  <a:srgbClr val="003399"/>
                </a:solidFill>
                <a:latin typeface="Arial"/>
              </a:rPr>
              <a:t>X</a:t>
            </a: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/</a:t>
            </a:r>
            <a:r>
              <a:rPr b="1" i="1" lang="en-US" sz="2600" spc="-1" strike="noStrike">
                <a:solidFill>
                  <a:srgbClr val="003399"/>
                </a:solidFill>
                <a:latin typeface="Arial"/>
              </a:rPr>
              <a:t>P</a:t>
            </a:r>
            <a:r>
              <a:rPr b="1" lang="en-US" sz="2600" spc="-1" strike="noStrike" baseline="-25000">
                <a:solidFill>
                  <a:srgbClr val="003399"/>
                </a:solidFill>
                <a:latin typeface="Arial"/>
              </a:rPr>
              <a:t>M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Other reasons for gains from trade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decreasing cost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differences in demand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increased competition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rade as an ‘engine of growth’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non-economic advantage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Arguments for Restricting Trade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Methods of restricting trade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ariff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quota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administrative barrier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other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Arguments for restricting trade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infant industry argumen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hanging comparative advantage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o prevent dumping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Arguments for Restricting Trade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Arguments for restricting trade (cont.)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o prevent establishment of a foreign-based monopoly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o spread risk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externalitie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pursuing national interests (but against world interests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28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exploiting monopoly power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28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protecting declining industrie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non-economic argument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4T18:51:39Z</dcterms:created>
  <dc:creator>John Sloman</dc:creator>
  <dc:description/>
  <dc:language>en-US</dc:language>
  <cp:lastModifiedBy>John Sloman</cp:lastModifiedBy>
  <cp:lastPrinted>2000-11-29T16:58:37Z</cp:lastPrinted>
  <dcterms:modified xsi:type="dcterms:W3CDTF">2003-10-21T17:23:16Z</dcterms:modified>
  <cp:revision>105</cp:revision>
  <dc:subject/>
  <dc:title>Promoting active learning</dc:title>
</cp:coreProperties>
</file>