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F1B-468F-42A1-A366-47FFC9A9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68C-8F5C-4058-85EC-48F92DE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B2D-498C-485E-9B40-800D0B35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CD2-1533-453A-9EB0-A5F783F6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835-B755-4ACA-A050-ADEA790A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790-7B66-4404-B390-BFB9C4A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4B1-1A27-4024-B0C8-961B7DC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1A6-BC97-4C70-8F0C-C9DEEB2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815-7A77-4A98-B08B-42DBDD7E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F59-F028-43CA-A267-D191BD7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908-B66A-4542-A432-FD3DA03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5AB-046A-4060-94CC-3C7762B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5E8E-339C-430B-AC0C-B5E417B42140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Times New Roman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Copyright 2006 – Biz/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ome Guarantee Schemes and Price Contr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2520" y="155592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mum prices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ove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220968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7150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2320" y="57466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209680"/>
            <a:ext cx="3581280" cy="3353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95440" y="5289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47920" y="2133360"/>
            <a:ext cx="312408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8920" y="1895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932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0200" y="354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37339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40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95480"/>
            <a:ext cx="257796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init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ium price = £5, and amount bought and sold =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819520"/>
            <a:ext cx="40384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200" y="2682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26200" y="262260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971800"/>
            <a:ext cx="2438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imposes minimum price of £9 (Mi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362320" y="5943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496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943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5480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743200"/>
            <a:ext cx="2590560" cy="14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higher price, demand would fall whereas supply would rise – a surplus would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590920"/>
            <a:ext cx="259056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– Minimum Wage Legislation in the UK – in theory should lead to unemployment but in re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48" name="gi2" descr=""/>
          <p:cNvPicPr/>
          <p:nvPr/>
        </p:nvPicPr>
        <p:blipFill>
          <a:blip r:embed="rId1"/>
          <a:stretch/>
        </p:blipFill>
        <p:spPr>
          <a:xfrm>
            <a:off x="274680" y="2198520"/>
            <a:ext cx="85946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Buffer Stoc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luencing market supply through holding or releasing stocks to stabilise prices or in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rt term meas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agriculture where suppl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volat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umption: supply is perfectly inelastic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short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useful where goods can be store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6440400" y="162396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uffer 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o stabilis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00" y="2003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5877000"/>
            <a:ext cx="51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88880" y="58942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2205000"/>
            <a:ext cx="3456000" cy="3456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2320" y="54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573360"/>
            <a:ext cx="45352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4920" y="337644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rge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56840" y="33717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076640"/>
            <a:ext cx="194292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sets a target price (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15508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Ba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573360"/>
            <a:ext cx="0" cy="230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8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1880" y="5918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3716280"/>
            <a:ext cx="216036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bad harvest, government releases 50 on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854360"/>
            <a:ext cx="1440" cy="4012920"/>
          </a:xfrm>
          <a:custGeom>
            <a:avLst/>
            <a:gdLst/>
            <a:ahLst/>
            <a:rect l="l" t="t" r="r" b="b"/>
            <a:pathLst>
              <a:path w="1" h="2528">
                <a:moveTo>
                  <a:pt x="0" y="0"/>
                </a:moveTo>
                <a:lnTo>
                  <a:pt x="0" y="2528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6093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11840" y="15717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Goo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2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866960"/>
            <a:ext cx="1440" cy="3956040"/>
          </a:xfrm>
          <a:custGeom>
            <a:avLst/>
            <a:gdLst/>
            <a:ahLst/>
            <a:rect l="l" t="t" r="r" b="b"/>
            <a:pathLst>
              <a:path w="1" h="2492">
                <a:moveTo>
                  <a:pt x="0" y="0"/>
                </a:moveTo>
                <a:lnTo>
                  <a:pt x="0" y="249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64000" y="6093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3716280"/>
            <a:ext cx="230328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good harvest the government ‘buys up’ 60 units and puts them into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come Guarantee Schemes 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8" name="gi5" descr=""/>
          <p:cNvPicPr/>
          <p:nvPr/>
        </p:nvPicPr>
        <p:blipFill>
          <a:blip r:embed="rId1"/>
          <a:stretch/>
        </p:blipFill>
        <p:spPr>
          <a:xfrm>
            <a:off x="274680" y="2454120"/>
            <a:ext cx="85946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4174"/>
                </a:solidFill>
                <a:latin typeface="Verdana"/>
              </a:rPr>
              <a:t>Income stabilisation Schem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 do not guard against volatile incom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m to ensure farm incomes remain relatively constant – manipulate price through releasing stocks or adding to st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639840" y="157176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sta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989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60" y="15717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734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8120" y="58197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916280"/>
            <a:ext cx="2449440" cy="34574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0480" y="52959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114640"/>
            <a:ext cx="0" cy="360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8160" y="59450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8040" y="1752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042920" y="350028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5680" y="33274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3716280"/>
            <a:ext cx="208764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average yearly supply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rm incomes 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505320"/>
            <a:ext cx="1873440" cy="2233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205000"/>
            <a:ext cx="4105080" cy="2087640"/>
          </a:xfrm>
          <a:custGeom>
            <a:avLst/>
            <a:gdLst/>
            <a:ahLst/>
            <a:rect l="l" t="t" r="r" b="b"/>
            <a:pathLst>
              <a:path w="2586" h="1315">
                <a:moveTo>
                  <a:pt x="0" y="0"/>
                </a:moveTo>
                <a:cubicBezTo>
                  <a:pt x="306" y="298"/>
                  <a:pt x="613" y="597"/>
                  <a:pt x="1044" y="816"/>
                </a:cubicBezTo>
                <a:cubicBezTo>
                  <a:pt x="1475" y="1035"/>
                  <a:pt x="2030" y="1175"/>
                  <a:pt x="2586" y="1315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4360" y="43592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(PED =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657600"/>
            <a:ext cx="223200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shows combinations of P and Q that would maintain incomes at £1000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1752480"/>
            <a:ext cx="0" cy="3961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2240" y="15508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Ba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32480" y="14796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22400" y="5759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255840"/>
            <a:ext cx="2520720" cy="192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bad harvest, supply falls to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 keep incomes constant, government releases fifteen onto market – price rises to 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2997360"/>
            <a:ext cx="158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2997360"/>
            <a:ext cx="1800" cy="2755800"/>
          </a:xfrm>
          <a:custGeom>
            <a:avLst/>
            <a:gdLst/>
            <a:ahLst/>
            <a:rect l="l" t="t" r="r" b="b"/>
            <a:pathLst>
              <a:path w="1" h="1736">
                <a:moveTo>
                  <a:pt x="0" y="0"/>
                </a:moveTo>
                <a:lnTo>
                  <a:pt x="1" y="173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609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25680" y="5753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880" y="282420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97360"/>
            <a:ext cx="1081080" cy="27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81080"/>
            <a:ext cx="0" cy="3745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76800" y="155088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Goo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5760" y="16239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0880" y="57769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56240" y="3241800"/>
            <a:ext cx="2535480" cy="202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good harvest supply increases to 125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buys up 13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prices fall 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8880" y="3924360"/>
            <a:ext cx="3038400" cy="9360"/>
          </a:xfrm>
          <a:custGeom>
            <a:avLst/>
            <a:gdLst/>
            <a:ahLst/>
            <a:rect l="l" t="t" r="r" b="b"/>
            <a:pathLst>
              <a:path w="1914" h="6">
                <a:moveTo>
                  <a:pt x="1914" y="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9337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520" y="5753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8000" y="609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759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4480" y="3914640"/>
            <a:ext cx="302400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s maintai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350532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Problems of such sche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rmers do not respond to market signals - market becomes distor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production if incomes guarant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al issues of storing f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st of 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erfect knowledge of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term sustainability, international effects – LDCs, World Trade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089040" y="15908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ximum pr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low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1337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39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91320"/>
            <a:ext cx="502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5320" y="58230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209680"/>
            <a:ext cx="3429000" cy="3429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9880" y="5400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752480" y="2133360"/>
            <a:ext cx="342900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2560" y="1936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23880" y="38098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600" y="36241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4960" y="5834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3352680"/>
            <a:ext cx="266724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the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is £10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mount bought and sold is 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648320"/>
            <a:ext cx="3505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1080" y="446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560" y="44514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427560"/>
            <a:ext cx="26672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government imposes a maximum price of £6 (P 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00400" y="5834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88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99320" y="58482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3124080"/>
            <a:ext cx="2819520" cy="1554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ppliers reduce the amount offered to 60 but demand would rise to 140 creating a shortage of 80 – rationing might have to be int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14600" y="289512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23880" y="2895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8520" y="22813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lack Mar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11600" y="27097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124080"/>
            <a:ext cx="2819520" cy="1618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ages may lead to black market prices way above the equilibrium free marke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1:09:37Z</dcterms:created>
  <dc:creator>Andrew Ashwin</dc:creator>
  <dc:description/>
  <dc:language>en-US</dc:language>
  <cp:lastModifiedBy>wscott</cp:lastModifiedBy>
  <dcterms:modified xsi:type="dcterms:W3CDTF">2006-11-08T17:13:11Z</dcterms:modified>
  <cp:revision>44</cp:revision>
  <dc:subject/>
  <dc:title>###Government Intervention in Markets - PowerPoint Presentation###</dc:title>
</cp:coreProperties>
</file>