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AF1-ECA9-43F3-8272-970D4EB3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02D-DCCD-4C67-BC04-DF13E746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79A-819A-4198-AAE5-6040FE99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F70-3789-4648-8AAD-84E969FB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A54-4F83-4D61-AE02-201B3A65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6B8-72DD-4CE2-83DC-33D89E34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D91-CFEA-4812-BACE-D81693C6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07D-9A75-4EAB-B7C9-59C0166C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D39-47DB-4431-A006-3D540197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C2E-95E9-4108-AFD8-862E84EF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F02-C457-4CDC-B611-79866C87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4B5-0B19-40AA-BEE4-85F4CF24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774C-99E1-42B0-8545-B08AB1856313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  <a:ea typeface="Times New Roman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Verdana"/>
                <a:ea typeface="Times New Roman"/>
              </a:rPr>
              <a:t>Copyright 2006 – Biz/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ffer Sto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ome Guarantee Schemes and Price Contr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6918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52520" y="1555920"/>
            <a:ext cx="296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Contr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mum prices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ove normal 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220968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5360" y="1784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715000"/>
            <a:ext cx="472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2320" y="574668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2209680"/>
            <a:ext cx="3581280" cy="3353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95440" y="5289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447920" y="2133360"/>
            <a:ext cx="3124080" cy="3276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88920" y="18954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19320" y="3733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0200" y="3548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373392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64080" y="5757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2895480"/>
            <a:ext cx="2577960" cy="1067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sume init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quilibrium price = £5, and amount bought and sold =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2819520"/>
            <a:ext cx="403848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0200" y="2682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26200" y="262260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971800"/>
            <a:ext cx="24386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vernment imposes minimum price of £9 (Min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281952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362320" y="5943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49680" y="5757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281952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59436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54800" y="5757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2743200"/>
            <a:ext cx="2590560" cy="1465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t the higher price, demand would fall whereas supply would rise – a surplus would ex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2590920"/>
            <a:ext cx="259056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 – Minimum Wage Legislation in the UK – in theory should lead to unemployment but in rea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Buffer Stock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48" name="gi2" descr=""/>
          <p:cNvPicPr/>
          <p:nvPr/>
        </p:nvPicPr>
        <p:blipFill>
          <a:blip r:embed="rId1"/>
          <a:stretch/>
        </p:blipFill>
        <p:spPr>
          <a:xfrm>
            <a:off x="274680" y="2198520"/>
            <a:ext cx="85946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4174"/>
                </a:solidFill>
                <a:latin typeface="Verdana"/>
              </a:rPr>
              <a:t>Buffer Stock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fluencing market supply through holding or releasing stocks to stabilise prices or in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rt term meas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in agriculture where suppl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volat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umption: supply is perfectly inelastic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short r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ly useful where goods can be stored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6440400" y="162396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uffer 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o stabilise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600" y="20034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5877000"/>
            <a:ext cx="518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88880" y="589428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2205000"/>
            <a:ext cx="3456000" cy="3456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22320" y="54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3573360"/>
            <a:ext cx="453528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34920" y="337644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arget 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56840" y="337176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4076640"/>
            <a:ext cx="194292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vernment sets a target price (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1828800"/>
            <a:ext cx="0" cy="4032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27240" y="15508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(Bad harv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573360"/>
            <a:ext cx="0" cy="230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08520" y="5919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1880" y="59180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32720" y="3716280"/>
            <a:ext cx="2160360" cy="1465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fter a bad harvest, government releases 50 on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1854360"/>
            <a:ext cx="1440" cy="4012920"/>
          </a:xfrm>
          <a:custGeom>
            <a:avLst/>
            <a:gdLst/>
            <a:ahLst/>
            <a:rect l="l" t="t" r="r" b="b"/>
            <a:pathLst>
              <a:path w="1" h="2528">
                <a:moveTo>
                  <a:pt x="0" y="0"/>
                </a:moveTo>
                <a:lnTo>
                  <a:pt x="0" y="2528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6093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1828800"/>
            <a:ext cx="0" cy="4032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11840" y="157176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(Good Harv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32520" y="59198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866960"/>
            <a:ext cx="1440" cy="3956040"/>
          </a:xfrm>
          <a:custGeom>
            <a:avLst/>
            <a:gdLst/>
            <a:ahLst/>
            <a:rect l="l" t="t" r="r" b="b"/>
            <a:pathLst>
              <a:path w="1" h="2492">
                <a:moveTo>
                  <a:pt x="0" y="0"/>
                </a:moveTo>
                <a:lnTo>
                  <a:pt x="0" y="2492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64000" y="6093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3716280"/>
            <a:ext cx="230328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fter a good harvest the government ‘buys up’ 60 units and puts them into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Income Guarantee Schemes 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8" name="gi5" descr=""/>
          <p:cNvPicPr/>
          <p:nvPr/>
        </p:nvPicPr>
        <p:blipFill>
          <a:blip r:embed="rId1"/>
          <a:stretch/>
        </p:blipFill>
        <p:spPr>
          <a:xfrm>
            <a:off x="274680" y="2454120"/>
            <a:ext cx="859464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74174"/>
                </a:solidFill>
                <a:latin typeface="Verdana"/>
              </a:rPr>
              <a:t>Income stabilisation Schem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ffer stocks do not guard against volatile incom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im to ensure farm incomes remain relatively constant – manipulate price through releasing stocks or adding to st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6639840" y="157176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stab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989000"/>
            <a:ext cx="0" cy="374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360" y="157176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per 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5734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8120" y="58197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1916280"/>
            <a:ext cx="2449440" cy="34574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90480" y="52959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114640"/>
            <a:ext cx="0" cy="3600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48160" y="59450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68040" y="1752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042920" y="350028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5680" y="33274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16720" y="3716280"/>
            <a:ext cx="2087640" cy="119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sume average yearly supply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arm incomes = £1000 per 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505320"/>
            <a:ext cx="1873440" cy="2233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= £1000 per 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2205000"/>
            <a:ext cx="4105080" cy="2087640"/>
          </a:xfrm>
          <a:custGeom>
            <a:avLst/>
            <a:gdLst/>
            <a:ahLst/>
            <a:rect l="l" t="t" r="r" b="b"/>
            <a:pathLst>
              <a:path w="2586" h="1315">
                <a:moveTo>
                  <a:pt x="0" y="0"/>
                </a:moveTo>
                <a:cubicBezTo>
                  <a:pt x="306" y="298"/>
                  <a:pt x="613" y="597"/>
                  <a:pt x="1044" y="816"/>
                </a:cubicBezTo>
                <a:cubicBezTo>
                  <a:pt x="1475" y="1035"/>
                  <a:pt x="2030" y="1175"/>
                  <a:pt x="2586" y="1315"/>
                </a:cubicBezTo>
              </a:path>
            </a:pathLst>
          </a:custGeom>
          <a:noFill/>
          <a:ln w="381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4360" y="43592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1 (PED = 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3657600"/>
            <a:ext cx="2232000" cy="1465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1 shows combinations of P and Q that would maintain incomes at £1000 per 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1752480"/>
            <a:ext cx="0" cy="39610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22240" y="15508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– Bad harv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32480" y="14796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22400" y="5759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3255840"/>
            <a:ext cx="2520720" cy="192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 bad harvest, supply falls to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o keep incomes constant, government releases fifteen onto market – price rises to 1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2997360"/>
            <a:ext cx="1586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2997360"/>
            <a:ext cx="1800" cy="2755800"/>
          </a:xfrm>
          <a:custGeom>
            <a:avLst/>
            <a:gdLst/>
            <a:ahLst/>
            <a:rect l="l" t="t" r="r" b="b"/>
            <a:pathLst>
              <a:path w="1" h="1736">
                <a:moveTo>
                  <a:pt x="0" y="0"/>
                </a:moveTo>
                <a:lnTo>
                  <a:pt x="1" y="173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6093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25680" y="5753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5880" y="282420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997360"/>
            <a:ext cx="1081080" cy="27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Lev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= £1000 per 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1981080"/>
            <a:ext cx="0" cy="37450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76800" y="155088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 – Good harv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75760" y="16239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0880" y="57769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56240" y="3241800"/>
            <a:ext cx="2535480" cy="202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 good harvest supply increases to 125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overnment buys up 13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 prices fall to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28880" y="3924360"/>
            <a:ext cx="3038400" cy="9360"/>
          </a:xfrm>
          <a:custGeom>
            <a:avLst/>
            <a:gdLst/>
            <a:ahLst/>
            <a:rect l="l" t="t" r="r" b="b"/>
            <a:pathLst>
              <a:path w="1914" h="6">
                <a:moveTo>
                  <a:pt x="1914" y="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93372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520" y="57531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48000" y="60930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759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14480" y="3914640"/>
            <a:ext cx="3024000" cy="18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come levels maintain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 £1000 per 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350532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4174"/>
                </a:solidFill>
                <a:latin typeface="Verdana"/>
              </a:rPr>
              <a:t>Problems of such sche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rmers do not respond to market signals - market becomes distor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verproduction if incomes guarant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al issues of storing f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st of sto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erfect knowledge of the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ng term sustainability, international effects – LDCs, World Trade Organ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74174"/>
                </a:solidFill>
                <a:latin typeface="Verdana"/>
              </a:rPr>
              <a:t>Government Intervention in Markets</a:t>
            </a:r>
            <a:endParaRPr b="0" lang="en-US" sz="32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089040" y="159084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Contro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ximum pr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elow normal 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13372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3960" y="1784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791320"/>
            <a:ext cx="502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25320" y="582300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ty Bought and 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209680"/>
            <a:ext cx="3429000" cy="3429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9880" y="5400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752480" y="2133360"/>
            <a:ext cx="3429000" cy="3276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2560" y="19368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23880" y="380988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600" y="36241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3809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4960" y="58341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3352680"/>
            <a:ext cx="2667240" cy="1067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ssume the equilibr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 is £10 and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mount bought and sold is 1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4648320"/>
            <a:ext cx="35053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81080" y="44625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29560" y="445140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3427560"/>
            <a:ext cx="266724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government imposes a maximum price of £6 (P M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00400" y="5834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66880" y="6019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60199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99320" y="58482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3124080"/>
            <a:ext cx="2819520" cy="1554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uppliers reduce the amount offered to 60 but demand would rise to 140 creating a shortage of 80 – rationing might have to be intro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514600" y="289512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523880" y="2895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8520" y="22813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lack Mar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11600" y="27097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£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3124080"/>
            <a:ext cx="2819520" cy="1618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hortages may lead to black market prices way above the equilibrium free marke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1:09:37Z</dcterms:created>
  <dc:creator>Andrew Ashwin</dc:creator>
  <dc:description/>
  <dc:language>en-US</dc:language>
  <cp:lastModifiedBy>wscott</cp:lastModifiedBy>
  <dcterms:modified xsi:type="dcterms:W3CDTF">2006-11-08T17:13:11Z</dcterms:modified>
  <cp:revision>44</cp:revision>
  <dc:subject/>
  <dc:title>###Government Intervention in Markets - PowerPoint Presentation###</dc:title>
</cp:coreProperties>
</file>