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247-F655-4B40-80D6-AA923A31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7FA-B79B-4AA7-AEDB-5B29894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724-8E5A-4358-AD2C-B01C78BF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DC9-4385-489C-B4AE-0C36D5F8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9AF-3714-46D5-A1BA-9EC5F87F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6DE-865D-4D68-866D-1321F009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DE9-2655-443A-A134-2284207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09B-B224-42E1-96B5-C6EC4165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1AD-FD22-40D4-87D2-F428EE7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5BB-3838-4031-9787-DD1B38D9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F77-4F8B-4D37-A265-FC7E9C0E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C7E-75AA-49DC-8BC1-A2443D55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572A-89E9-429A-A76F-462FD89437EA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Times New Roman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ome Guarantee Schemes and Price Contr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2520" y="155592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um prices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ove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20968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2320" y="57466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209680"/>
            <a:ext cx="3581280" cy="3353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5440" y="5289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47920" y="2133360"/>
            <a:ext cx="312408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8920" y="1895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932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200" y="354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7339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40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95480"/>
            <a:ext cx="257796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ini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ium price = £5, and amount bought and sold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819520"/>
            <a:ext cx="40384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200" y="2682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6200" y="26226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971800"/>
            <a:ext cx="2438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imposes minimum price of £9 (Mi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5943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96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5480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743200"/>
            <a:ext cx="259056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higher price, demand would fall whereas supply would rise – a surplus would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590920"/>
            <a:ext cx="259056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– Minimum Wage Legislation in the UK – in theory should lead to unemployment but in re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gi2" descr=""/>
          <p:cNvPicPr/>
          <p:nvPr/>
        </p:nvPicPr>
        <p:blipFill>
          <a:blip r:embed="rId1"/>
          <a:stretch/>
        </p:blipFill>
        <p:spPr>
          <a:xfrm>
            <a:off x="274680" y="2198520"/>
            <a:ext cx="8594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Buffer Sto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luencing market supply through holding or releasing stocks to stabilise prices or in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 meas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agriculture where supp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vola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umption: supply is perfectly inelastic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short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useful where goods can be stor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6440400" y="162396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uffer 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stabilis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2003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5877000"/>
            <a:ext cx="51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88880" y="5894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2205000"/>
            <a:ext cx="3456000" cy="3456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2320" y="54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573360"/>
            <a:ext cx="45352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4920" y="337644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rge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56840" y="33717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76640"/>
            <a:ext cx="194292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sets a target price (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1550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Ba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73360"/>
            <a:ext cx="0" cy="230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5918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716280"/>
            <a:ext cx="216036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bad harvest, government releases 50 on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854360"/>
            <a:ext cx="1440" cy="4012920"/>
          </a:xfrm>
          <a:custGeom>
            <a:avLst/>
            <a:gdLst/>
            <a:ahLst/>
            <a:rect l="l" t="t" r="r" b="b"/>
            <a:pathLst>
              <a:path w="1" h="2528">
                <a:moveTo>
                  <a:pt x="0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093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1840" y="15717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Goo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2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866960"/>
            <a:ext cx="1440" cy="3956040"/>
          </a:xfrm>
          <a:custGeom>
            <a:avLst/>
            <a:gdLst/>
            <a:ahLst/>
            <a:rect l="l" t="t" r="r" b="b"/>
            <a:pathLst>
              <a:path w="1" h="2492">
                <a:moveTo>
                  <a:pt x="0" y="0"/>
                </a:moveTo>
                <a:lnTo>
                  <a:pt x="0" y="249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64000" y="6093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716280"/>
            <a:ext cx="230328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good harvest the government ‘buys up’ 60 units and puts them into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come Guarantee Schemes 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gi5" descr=""/>
          <p:cNvPicPr/>
          <p:nvPr/>
        </p:nvPicPr>
        <p:blipFill>
          <a:blip r:embed="rId1"/>
          <a:stretch/>
        </p:blipFill>
        <p:spPr>
          <a:xfrm>
            <a:off x="274680" y="2454120"/>
            <a:ext cx="85946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4174"/>
                </a:solidFill>
                <a:latin typeface="Verdana"/>
              </a:rPr>
              <a:t>Income stabilisation Schem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 do not guard against volatile incom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m to ensure farm incomes remain relatively constant – manipulate price through releasing stocks or adding to st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639840" y="157176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sta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989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60" y="15717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734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8120" y="58197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916280"/>
            <a:ext cx="2449440" cy="3457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0480" y="52959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114640"/>
            <a:ext cx="0" cy="360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8160" y="59450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8040" y="1752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42920" y="350028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5680" y="33274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3716280"/>
            <a:ext cx="208764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average yearly supply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 incomes 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505320"/>
            <a:ext cx="1873440" cy="22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205000"/>
            <a:ext cx="4105080" cy="2087640"/>
          </a:xfrm>
          <a:custGeom>
            <a:avLst/>
            <a:gdLst/>
            <a:ahLst/>
            <a:rect l="l" t="t" r="r" b="b"/>
            <a:pathLst>
              <a:path w="2586" h="1315">
                <a:moveTo>
                  <a:pt x="0" y="0"/>
                </a:moveTo>
                <a:cubicBezTo>
                  <a:pt x="306" y="298"/>
                  <a:pt x="613" y="597"/>
                  <a:pt x="1044" y="816"/>
                </a:cubicBezTo>
                <a:cubicBezTo>
                  <a:pt x="1475" y="1035"/>
                  <a:pt x="2030" y="1175"/>
                  <a:pt x="2586" y="1315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4360" y="4359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(PED =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657600"/>
            <a:ext cx="223200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shows combinations of P and Q that would maintain incomes at £1000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752480"/>
            <a:ext cx="0" cy="3961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2240" y="1550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Ba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32480" y="14796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22400" y="5759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255840"/>
            <a:ext cx="2520720" cy="192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bad harvest, supply falls to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 keep incomes constant, government releases fifteen onto market – price rises to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997360"/>
            <a:ext cx="158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997360"/>
            <a:ext cx="1800" cy="2755800"/>
          </a:xfrm>
          <a:custGeom>
            <a:avLst/>
            <a:gdLst/>
            <a:ahLst/>
            <a:rect l="l" t="t" r="r" b="b"/>
            <a:pathLst>
              <a:path w="1" h="1736">
                <a:moveTo>
                  <a:pt x="0" y="0"/>
                </a:moveTo>
                <a:lnTo>
                  <a:pt x="1" y="17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09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5680" y="5753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282420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97360"/>
            <a:ext cx="1081080" cy="27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81080"/>
            <a:ext cx="0" cy="3745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6800" y="15508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Goo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5760" y="16239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0880" y="5776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56240" y="3241800"/>
            <a:ext cx="2535480" cy="202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good harvest supply increases to 125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buys up 13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prices fall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3924360"/>
            <a:ext cx="3038400" cy="9360"/>
          </a:xfrm>
          <a:custGeom>
            <a:avLst/>
            <a:gdLst/>
            <a:ahLst/>
            <a:rect l="l" t="t" r="r" b="b"/>
            <a:pathLst>
              <a:path w="1914" h="6">
                <a:moveTo>
                  <a:pt x="1914" y="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9337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520" y="5753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8000" y="609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759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4480" y="3914640"/>
            <a:ext cx="302400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s main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50532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Problems of such sche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rmers do not respond to market signals - market becomes disto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production if incomes guarant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al issues of storing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st of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erfect knowledge of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 sustainability, international effects – LDCs, World Trade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089040" y="15908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imum pr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low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1337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91320"/>
            <a:ext cx="502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5320" y="582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09680"/>
            <a:ext cx="342900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9880" y="5400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52480" y="2133360"/>
            <a:ext cx="342900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2560" y="1936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38098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600" y="3624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4960" y="5834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352680"/>
            <a:ext cx="266724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the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is £10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mount bought and sold is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3505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1080" y="446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44514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7560"/>
            <a:ext cx="26672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government imposes a maximum price of £6 (P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0400" y="5834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8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99320" y="58482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124080"/>
            <a:ext cx="2819520" cy="155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liers reduce the amount offered to 60 but demand would rise to 140 creating a shortage of 80 – rationing might have to be int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14600" y="289512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23880" y="2895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8520" y="22813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lack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11600" y="2709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124080"/>
            <a:ext cx="2819520" cy="161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ages may lead to black market prices way above the equilibrium free mark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37Z</dcterms:created>
  <dc:creator>Andrew Ashwin</dc:creator>
  <dc:description/>
  <dc:language>en-US</dc:language>
  <cp:lastModifiedBy>wscott</cp:lastModifiedBy>
  <dcterms:modified xsi:type="dcterms:W3CDTF">2006-11-08T17:13:11Z</dcterms:modified>
  <cp:revision>44</cp:revision>
  <dc:subject/>
  <dc:title>###Government Intervention in Markets - PowerPoint Presentation###</dc:title>
</cp:coreProperties>
</file>