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4.jpeg" ContentType="image/jpeg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12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2.wmf" ContentType="image/x-wmf"/>
  <Override PartName="/ppt/media/image31.wmf" ContentType="image/x-wmf"/>
  <Override PartName="/ppt/media/image7.jpeg" ContentType="image/jpeg"/>
  <Override PartName="/ppt/media/image20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media/image16.png" ContentType="image/png"/>
  <Override PartName="/ppt/media/image17.png" ContentType="image/png"/>
  <Override PartName="/ppt/media/image18.png" ContentType="image/png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8800" y="398232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0688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800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9684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880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800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9684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0688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8800" y="398232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0688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2800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9684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880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2800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9684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0688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low" descr=""/>
          <p:cNvPicPr/>
          <p:nvPr/>
        </p:nvPicPr>
        <p:blipFill>
          <a:blip r:embed="rId3"/>
          <a:srcRect l="513" t="11663" r="70178" b="453"/>
          <a:stretch/>
        </p:blipFill>
        <p:spPr>
          <a:xfrm>
            <a:off x="3240" y="144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artglow" descr=""/>
          <p:cNvPicPr/>
          <p:nvPr/>
        </p:nvPicPr>
        <p:blipFill>
          <a:blip r:embed="rId4"/>
          <a:srcRect l="19068" t="12229" r="0" b="31558"/>
          <a:stretch/>
        </p:blipFill>
        <p:spPr>
          <a:xfrm>
            <a:off x="711360" y="1066680"/>
            <a:ext cx="8432640" cy="5486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1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glow" descr=""/>
          <p:cNvPicPr/>
          <p:nvPr/>
        </p:nvPicPr>
        <p:blipFill>
          <a:blip r:embed="rId3"/>
          <a:srcRect l="513" t="11663" r="70178" b="453"/>
          <a:stretch/>
        </p:blipFill>
        <p:spPr>
          <a:xfrm>
            <a:off x="3240" y="144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pic>
        <p:nvPicPr>
          <p:cNvPr id="42" name="partglow" descr=""/>
          <p:cNvPicPr/>
          <p:nvPr/>
        </p:nvPicPr>
        <p:blipFill>
          <a:blip r:embed="rId4"/>
          <a:srcRect l="19068" t="12229" r="0" b="31558"/>
          <a:stretch/>
        </p:blipFill>
        <p:spPr>
          <a:xfrm>
            <a:off x="620640" y="1066680"/>
            <a:ext cx="8523360" cy="5486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pic>
        <p:nvPicPr>
          <p:cNvPr id="43" name="glow" descr=""/>
          <p:cNvPicPr/>
          <p:nvPr/>
        </p:nvPicPr>
        <p:blipFill>
          <a:blip r:embed="rId5"/>
          <a:srcRect l="513" t="25134" r="97570" b="453"/>
          <a:stretch/>
        </p:blipFill>
        <p:spPr>
          <a:xfrm>
            <a:off x="8545680" y="1050840"/>
            <a:ext cx="598320" cy="580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ESSENTI1" descr=""/>
          <p:cNvPicPr/>
          <p:nvPr/>
        </p:nvPicPr>
        <p:blipFill>
          <a:blip r:embed="rId2"/>
          <a:srcRect l="0" t="5861" r="0" b="293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971800" y="1600200"/>
            <a:ext cx="5943600" cy="3657600"/>
          </a:xfrm>
          <a:prstGeom prst="rect">
            <a:avLst/>
          </a:prstGeom>
          <a:gradFill rotWithShape="0">
            <a:gsLst>
              <a:gs pos="0">
                <a:srgbClr val="75091b"/>
              </a:gs>
              <a:gs pos="50000">
                <a:srgbClr val="b30f2a"/>
              </a:gs>
              <a:gs pos="100000">
                <a:srgbClr val="75091b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36960" y="1806480"/>
            <a:ext cx="5827680" cy="3261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cc"/>
                </a:solidFill>
                <a:latin typeface="Arial"/>
              </a:rPr>
              <a:t>Determination of National Income and the Role of Fiscal Policy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fect on national income of a change in injections and/or withdrawa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J &gt; W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:  national income ri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 &gt; J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:  national income fall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Keynesian diagram: the withdrawals and injections approac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withdrawals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injections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Equilibrium Level of National Income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rot="16200000">
            <a:off x="-1126440" y="2616120"/>
            <a:ext cx="2795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 national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098960" y="6180120"/>
            <a:ext cx="8053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672560" y="50752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558160" y="41241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301200" y="28368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363200" y="32907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818960" y="41576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757120" y="31226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550920" y="19479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612920" y="25560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998880" y="2351160"/>
            <a:ext cx="1708200" cy="153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4" y="11160"/>
                </a:moveTo>
                <a:arcTo wR="10800" hR="10800" stAng="114760" swAng="7443748"/>
                <a:lnTo>
                  <a:pt x="10800" y="10800"/>
                </a:lnTo>
                <a:close/>
              </a:path>
              <a:path fill="none" w="21600" h="21600">
                <a:moveTo>
                  <a:pt x="21594" y="11160"/>
                </a:moveTo>
                <a:arcTo wR="10800" hR="10800" stAng="114760" swAng="7443748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396880" y="3503520"/>
            <a:ext cx="2400840" cy="197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5" y="7631"/>
                </a:moveTo>
                <a:arcTo wR="10800" hR="10800" stAng="-9776244" swAng="7156155"/>
                <a:lnTo>
                  <a:pt x="10800" y="10800"/>
                </a:lnTo>
                <a:close/>
              </a:path>
              <a:path fill="none" w="21600" h="21600">
                <a:moveTo>
                  <a:pt x="475" y="7631"/>
                </a:moveTo>
                <a:arcTo wR="10800" hR="10800" stAng="-9776244" swAng="7156155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36920" y="2746080"/>
            <a:ext cx="1824840" cy="202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30" y="13950"/>
                </a:moveTo>
                <a:arcTo wR="10800" hR="10800" stAng="1017626" swAng="6543832"/>
                <a:lnTo>
                  <a:pt x="10800" y="10800"/>
                </a:lnTo>
                <a:close/>
              </a:path>
              <a:path fill="none" w="21600" h="21600">
                <a:moveTo>
                  <a:pt x="21130" y="13950"/>
                </a:moveTo>
                <a:arcTo wR="10800" hR="10800" stAng="1017626" swAng="6543832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rot="21420000">
            <a:off x="5607720" y="2782440"/>
            <a:ext cx="2371680" cy="14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1" y="7644"/>
                </a:moveTo>
                <a:arcTo wR="10800" hR="10800" stAng="-9780527" swAng="7159740"/>
                <a:lnTo>
                  <a:pt x="10800" y="10800"/>
                </a:lnTo>
                <a:close/>
              </a:path>
              <a:path fill="none" w="21600" h="21600">
                <a:moveTo>
                  <a:pt x="471" y="7644"/>
                </a:moveTo>
                <a:arcTo wR="10800" hR="10800" stAng="-9780527" swAng="7159740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rot="19620000">
            <a:off x="6791760" y="1040400"/>
            <a:ext cx="1872360" cy="202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55" y="21296"/>
                </a:moveTo>
                <a:arcTo wR="10800" hR="10800" stAng="6217648" swAng="1343810"/>
                <a:lnTo>
                  <a:pt x="10800" y="10800"/>
                </a:lnTo>
                <a:close/>
              </a:path>
              <a:path fill="none" w="21600" h="21600">
                <a:moveTo>
                  <a:pt x="8255" y="21296"/>
                </a:moveTo>
                <a:arcTo wR="10800" hR="10800" stAng="6217648" swAng="1343810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885240" y="2496960"/>
            <a:ext cx="1665360" cy="25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8" y="13957"/>
                </a:moveTo>
                <a:arcTo wR="10800" hR="10800" stAng="1019867" swAng="7166117"/>
                <a:lnTo>
                  <a:pt x="10800" y="10800"/>
                </a:lnTo>
                <a:close/>
              </a:path>
              <a:path fill="none" w="21600" h="21600">
                <a:moveTo>
                  <a:pt x="21128" y="13957"/>
                </a:moveTo>
                <a:arcTo wR="10800" hR="10800" stAng="1019867" swAng="7166117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452320" y="3201840"/>
            <a:ext cx="2124000" cy="286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" y="7636"/>
                </a:moveTo>
                <a:arcTo wR="10800" hR="10800" stAng="-9777819" swAng="7158542"/>
                <a:lnTo>
                  <a:pt x="10800" y="10800"/>
                </a:lnTo>
                <a:close/>
              </a:path>
              <a:path fill="none" w="21600" h="21600">
                <a:moveTo>
                  <a:pt x="474" y="7636"/>
                </a:moveTo>
                <a:arcTo wR="10800" hR="10800" stAng="-9777819" swAng="715854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049640" y="1455840"/>
            <a:ext cx="1699200" cy="26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7" y="13961"/>
                </a:moveTo>
                <a:arcTo wR="10800" hR="10800" stAng="1021246" swAng="7167892"/>
                <a:lnTo>
                  <a:pt x="10800" y="10800"/>
                </a:lnTo>
                <a:close/>
              </a:path>
              <a:path fill="none" w="21600" h="21600">
                <a:moveTo>
                  <a:pt x="21127" y="13961"/>
                </a:moveTo>
                <a:arcTo wR="10800" hR="10800" stAng="1021246" swAng="716789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633280" y="2378160"/>
            <a:ext cx="2204280" cy="227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68" y="7343"/>
                </a:moveTo>
                <a:arcTo wR="10800" hR="10800" stAng="-9679993" swAng="7057834"/>
                <a:lnTo>
                  <a:pt x="10800" y="10800"/>
                </a:lnTo>
                <a:close/>
              </a:path>
              <a:path fill="none" w="21600" h="21600">
                <a:moveTo>
                  <a:pt x="568" y="7343"/>
                </a:moveTo>
                <a:arcTo wR="10800" hR="10800" stAng="-9679993" swAng="7057834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rot="21360000">
            <a:off x="7209720" y="335520"/>
            <a:ext cx="1757160" cy="280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97" y="21373"/>
                </a:moveTo>
                <a:arcTo wR="10800" hR="10800" stAng="6106133" swAng="2226474"/>
                <a:lnTo>
                  <a:pt x="10800" y="10800"/>
                </a:lnTo>
                <a:close/>
              </a:path>
              <a:path fill="none" w="21600" h="21600">
                <a:moveTo>
                  <a:pt x="8597" y="21373"/>
                </a:moveTo>
                <a:arcTo wR="10800" hR="10800" stAng="6106133" swAng="2226474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501920" y="870120"/>
            <a:ext cx="4365360" cy="92376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1679400" y="1138320"/>
            <a:ext cx="804960" cy="14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570040" y="938160"/>
            <a:ext cx="290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ath (a): no inter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1697040" y="1309680"/>
            <a:ext cx="3863880" cy="397440"/>
            <a:chOff x="1697040" y="1309680"/>
            <a:chExt cx="3863880" cy="397440"/>
          </a:xfrm>
        </p:grpSpPr>
        <p:sp>
          <p:nvSpPr>
            <p:cNvPr id="1321" name=""/>
            <p:cNvSpPr/>
            <p:nvPr/>
          </p:nvSpPr>
          <p:spPr>
            <a:xfrm>
              <a:off x="1697040" y="1487520"/>
              <a:ext cx="817560" cy="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559600" y="1309680"/>
              <a:ext cx="3001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Path (b): policy stabili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a48"/>
                </a:solidFill>
                <a:latin typeface="Arial"/>
              </a:rPr>
              <a:t>Fiscal policy: stabilising or destabilising?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501920" y="870120"/>
            <a:ext cx="4365360" cy="125244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rot="16200000">
            <a:off x="-1126440" y="2616120"/>
            <a:ext cx="2795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 national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098960" y="6180120"/>
            <a:ext cx="8053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672560" y="50752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558160" y="41241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301200" y="28368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363200" y="32907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818960" y="41576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757120" y="31226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550920" y="19479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7612920" y="25560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962640" y="1487520"/>
            <a:ext cx="1574640" cy="41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7" y="13961"/>
                </a:moveTo>
                <a:arcTo wR="10800" hR="10800" stAng="1020995" swAng="7470382"/>
                <a:lnTo>
                  <a:pt x="10800" y="10800"/>
                </a:lnTo>
                <a:close/>
              </a:path>
              <a:path fill="none" w="21600" h="21600">
                <a:moveTo>
                  <a:pt x="21127" y="13961"/>
                </a:moveTo>
                <a:arcTo wR="10800" hR="10800" stAng="1020995" swAng="7470382"/>
              </a:path>
            </a:pathLst>
          </a:custGeom>
          <a:noFill/>
          <a:ln cap="rnd" w="38160">
            <a:solidFill>
              <a:srgbClr val="cc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500200" y="2313000"/>
            <a:ext cx="1889640" cy="462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9" y="8540"/>
                </a:moveTo>
                <a:arcTo wR="10800" hR="10800" stAng="-10075355" swAng="8604947"/>
                <a:lnTo>
                  <a:pt x="10800" y="10800"/>
                </a:lnTo>
                <a:close/>
              </a:path>
              <a:path fill="none" w="21600" h="21600">
                <a:moveTo>
                  <a:pt x="239" y="8540"/>
                </a:moveTo>
                <a:arcTo wR="10800" hR="10800" stAng="-10075355" swAng="8604947"/>
              </a:path>
            </a:pathLst>
          </a:custGeom>
          <a:noFill/>
          <a:ln cap="rnd" w="38160">
            <a:solidFill>
              <a:srgbClr val="cc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256280" y="-219960"/>
            <a:ext cx="1491120" cy="544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8" y="13958"/>
                </a:moveTo>
                <a:arcTo wR="10800" hR="10800" stAng="1020190" swAng="7992895"/>
                <a:lnTo>
                  <a:pt x="10800" y="10800"/>
                </a:lnTo>
                <a:close/>
              </a:path>
              <a:path fill="none" w="21600" h="21600">
                <a:moveTo>
                  <a:pt x="21128" y="13958"/>
                </a:moveTo>
                <a:arcTo wR="10800" hR="10800" stAng="1020190" swAng="7992895"/>
              </a:path>
            </a:pathLst>
          </a:custGeom>
          <a:noFill/>
          <a:ln cap="rnd" w="38160">
            <a:solidFill>
              <a:srgbClr val="cc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692680" y="1365120"/>
            <a:ext cx="1889640" cy="462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9" y="8540"/>
                </a:moveTo>
                <a:arcTo wR="10800" hR="10800" stAng="-10075355" swAng="8604947"/>
                <a:lnTo>
                  <a:pt x="10800" y="10800"/>
                </a:lnTo>
                <a:close/>
              </a:path>
              <a:path fill="none" w="21600" h="21600">
                <a:moveTo>
                  <a:pt x="239" y="8540"/>
                </a:moveTo>
                <a:arcTo wR="10800" hR="10800" stAng="-10075355" swAng="8604947"/>
              </a:path>
            </a:pathLst>
          </a:custGeom>
          <a:noFill/>
          <a:ln cap="rnd" w="38160">
            <a:solidFill>
              <a:srgbClr val="cc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385400" y="-587160"/>
            <a:ext cx="1577520" cy="41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104" y="21466"/>
                </a:moveTo>
                <a:arcTo wR="10800" hR="10800" stAng="5942236" swAng="2549141"/>
                <a:lnTo>
                  <a:pt x="10800" y="10800"/>
                </a:lnTo>
                <a:close/>
              </a:path>
              <a:path fill="none" w="21600" h="21600">
                <a:moveTo>
                  <a:pt x="9104" y="21466"/>
                </a:moveTo>
                <a:arcTo wR="10800" hR="10800" stAng="5942236" swAng="2549141"/>
              </a:path>
            </a:pathLst>
          </a:custGeom>
          <a:noFill/>
          <a:ln cap="rnd" w="38160">
            <a:solidFill>
              <a:srgbClr val="cc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1679400" y="1138320"/>
            <a:ext cx="804960" cy="14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570040" y="938160"/>
            <a:ext cx="290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ath (a): no inter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697040" y="1487520"/>
            <a:ext cx="817560" cy="0"/>
          </a:xfrm>
          <a:prstGeom prst="line">
            <a:avLst/>
          </a:prstGeom>
          <a:ln w="2844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9" name=""/>
          <p:cNvGrpSpPr/>
          <p:nvPr/>
        </p:nvGrpSpPr>
        <p:grpSpPr>
          <a:xfrm>
            <a:off x="1697040" y="1646280"/>
            <a:ext cx="4139280" cy="397440"/>
            <a:chOff x="1697040" y="1646280"/>
            <a:chExt cx="4139280" cy="397440"/>
          </a:xfrm>
        </p:grpSpPr>
        <p:sp>
          <p:nvSpPr>
            <p:cNvPr id="1350" name=""/>
            <p:cNvSpPr/>
            <p:nvPr/>
          </p:nvSpPr>
          <p:spPr>
            <a:xfrm flipV="1">
              <a:off x="1697040" y="1835280"/>
              <a:ext cx="817560" cy="1440"/>
            </a:xfrm>
            <a:prstGeom prst="line">
              <a:avLst/>
            </a:prstGeom>
            <a:ln w="2844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565000" y="1646280"/>
              <a:ext cx="3271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Path (c): policy destabili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885240" y="2496960"/>
            <a:ext cx="1665360" cy="25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8" y="13957"/>
                </a:moveTo>
                <a:arcTo wR="10800" hR="10800" stAng="1019867" swAng="7166117"/>
                <a:lnTo>
                  <a:pt x="10800" y="10800"/>
                </a:lnTo>
                <a:close/>
              </a:path>
              <a:path fill="none" w="21600" h="21600">
                <a:moveTo>
                  <a:pt x="21128" y="13957"/>
                </a:moveTo>
                <a:arcTo wR="10800" hR="10800" stAng="1019867" swAng="7166117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452320" y="3201840"/>
            <a:ext cx="2124000" cy="286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" y="7636"/>
                </a:moveTo>
                <a:arcTo wR="10800" hR="10800" stAng="-9777819" swAng="7158542"/>
                <a:lnTo>
                  <a:pt x="10800" y="10800"/>
                </a:lnTo>
                <a:close/>
              </a:path>
              <a:path fill="none" w="21600" h="21600">
                <a:moveTo>
                  <a:pt x="474" y="7636"/>
                </a:moveTo>
                <a:arcTo wR="10800" hR="10800" stAng="-9777819" swAng="715854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049640" y="1455840"/>
            <a:ext cx="1699200" cy="26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7" y="13961"/>
                </a:moveTo>
                <a:arcTo wR="10800" hR="10800" stAng="1021246" swAng="7167892"/>
                <a:lnTo>
                  <a:pt x="10800" y="10800"/>
                </a:lnTo>
                <a:close/>
              </a:path>
              <a:path fill="none" w="21600" h="21600">
                <a:moveTo>
                  <a:pt x="21127" y="13961"/>
                </a:moveTo>
                <a:arcTo wR="10800" hR="10800" stAng="1021246" swAng="716789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633280" y="2378160"/>
            <a:ext cx="2204280" cy="227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68" y="7343"/>
                </a:moveTo>
                <a:arcTo wR="10800" hR="10800" stAng="-9679993" swAng="7057834"/>
                <a:lnTo>
                  <a:pt x="10800" y="10800"/>
                </a:lnTo>
                <a:close/>
              </a:path>
              <a:path fill="none" w="21600" h="21600">
                <a:moveTo>
                  <a:pt x="568" y="7343"/>
                </a:moveTo>
                <a:arcTo wR="10800" hR="10800" stAng="-9679993" swAng="7057834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rot="21360000">
            <a:off x="7209720" y="335520"/>
            <a:ext cx="1757160" cy="280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97" y="21373"/>
                </a:moveTo>
                <a:arcTo wR="10800" hR="10800" stAng="6106133" swAng="2226474"/>
                <a:lnTo>
                  <a:pt x="10800" y="10800"/>
                </a:lnTo>
                <a:close/>
              </a:path>
              <a:path fill="none" w="21600" h="21600">
                <a:moveTo>
                  <a:pt x="8597" y="21373"/>
                </a:moveTo>
                <a:arcTo wR="10800" hR="10800" stAng="6106133" swAng="2226474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998880" y="2351160"/>
            <a:ext cx="1708200" cy="153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4" y="11160"/>
                </a:moveTo>
                <a:arcTo wR="10800" hR="10800" stAng="114760" swAng="7443748"/>
                <a:lnTo>
                  <a:pt x="10800" y="10800"/>
                </a:lnTo>
                <a:close/>
              </a:path>
              <a:path fill="none" w="21600" h="21600">
                <a:moveTo>
                  <a:pt x="21594" y="11160"/>
                </a:moveTo>
                <a:arcTo wR="10800" hR="10800" stAng="114760" swAng="7443748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396880" y="3503520"/>
            <a:ext cx="2400840" cy="197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5" y="7631"/>
                </a:moveTo>
                <a:arcTo wR="10800" hR="10800" stAng="-9776244" swAng="7156155"/>
                <a:lnTo>
                  <a:pt x="10800" y="10800"/>
                </a:lnTo>
                <a:close/>
              </a:path>
              <a:path fill="none" w="21600" h="21600">
                <a:moveTo>
                  <a:pt x="475" y="7631"/>
                </a:moveTo>
                <a:arcTo wR="10800" hR="10800" stAng="-9776244" swAng="7156155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736920" y="2746080"/>
            <a:ext cx="1824840" cy="202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30" y="13950"/>
                </a:moveTo>
                <a:arcTo wR="10800" hR="10800" stAng="1017626" swAng="6543832"/>
                <a:lnTo>
                  <a:pt x="10800" y="10800"/>
                </a:lnTo>
                <a:close/>
              </a:path>
              <a:path fill="none" w="21600" h="21600">
                <a:moveTo>
                  <a:pt x="21130" y="13950"/>
                </a:moveTo>
                <a:arcTo wR="10800" hR="10800" stAng="1017626" swAng="6543832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rot="21420000">
            <a:off x="5607720" y="2782440"/>
            <a:ext cx="2371680" cy="14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1" y="7644"/>
                </a:moveTo>
                <a:arcTo wR="10800" hR="10800" stAng="-9780527" swAng="7159740"/>
                <a:lnTo>
                  <a:pt x="10800" y="10800"/>
                </a:lnTo>
                <a:close/>
              </a:path>
              <a:path fill="none" w="21600" h="21600">
                <a:moveTo>
                  <a:pt x="471" y="7644"/>
                </a:moveTo>
                <a:arcTo wR="10800" hR="10800" stAng="-9780527" swAng="7159740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rot="19620000">
            <a:off x="6791760" y="1040400"/>
            <a:ext cx="1872360" cy="202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55" y="21296"/>
                </a:moveTo>
                <a:arcTo wR="10800" hR="10800" stAng="6217648" swAng="1343810"/>
                <a:lnTo>
                  <a:pt x="10800" y="10800"/>
                </a:lnTo>
                <a:close/>
              </a:path>
              <a:path fill="none" w="21600" h="21600">
                <a:moveTo>
                  <a:pt x="8255" y="21296"/>
                </a:moveTo>
                <a:arcTo wR="10800" hR="10800" stAng="6217648" swAng="1343810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2559600" y="1309680"/>
            <a:ext cx="3001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ath (b): policy stabil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a48"/>
                </a:solidFill>
                <a:latin typeface="Arial"/>
              </a:rPr>
              <a:t>Fiscal policy: stabilising or destabilising?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Effectiveness of Fiscal Policy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de-effects of discretionary polic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ost infl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welfare and distributive justic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entiv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 rules-based approach to fiscal polic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 'steady-as-you-go' polic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EU Stability and Growth Pac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7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/>
          <p:nvPr/>
        </p:nvSpPr>
        <p:spPr>
          <a:xfrm>
            <a:off x="8810640" y="0"/>
            <a:ext cx="333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a48"/>
                </a:solidFill>
                <a:latin typeface="Arial"/>
              </a:rPr>
              <a:t>Getting budget deficits down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  <p:graphicFrame>
        <p:nvGraphicFramePr>
          <p:cNvPr id="1370" name=""/>
          <p:cNvGraphicFramePr/>
          <p:nvPr/>
        </p:nvGraphicFramePr>
        <p:xfrm>
          <a:off x="-1440" y="611280"/>
          <a:ext cx="9146880" cy="624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440" y="611280"/>
                    <a:ext cx="914688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3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1374" name=""/>
          <p:cNvSpPr/>
          <p:nvPr/>
        </p:nvSpPr>
        <p:spPr>
          <a:xfrm>
            <a:off x="8809200" y="0"/>
            <a:ext cx="333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a48"/>
                </a:solidFill>
                <a:latin typeface="Arial"/>
              </a:rPr>
              <a:t>Getting budget deficits down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7307640" y="4229280"/>
            <a:ext cx="102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7" name=""/>
          <p:cNvGraphicFramePr/>
          <p:nvPr/>
        </p:nvGraphicFramePr>
        <p:xfrm>
          <a:off x="-1440" y="611280"/>
          <a:ext cx="9146880" cy="624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440" y="611280"/>
                    <a:ext cx="914688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0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a48"/>
                </a:solidFill>
                <a:latin typeface="Arial"/>
              </a:rPr>
              <a:t>Getting budget deficits down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7307640" y="4229280"/>
            <a:ext cx="102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684080" y="4133880"/>
            <a:ext cx="128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8809200" y="0"/>
            <a:ext cx="333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5" name=""/>
          <p:cNvGraphicFramePr/>
          <p:nvPr/>
        </p:nvGraphicFramePr>
        <p:xfrm>
          <a:off x="-1440" y="611280"/>
          <a:ext cx="9146880" cy="624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440" y="611280"/>
                    <a:ext cx="914688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8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a48"/>
                </a:solidFill>
                <a:latin typeface="Arial"/>
              </a:rPr>
              <a:t>Getting budget deficits down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7307640" y="4229280"/>
            <a:ext cx="102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684080" y="4133880"/>
            <a:ext cx="128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589280" y="239220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8809200" y="0"/>
            <a:ext cx="333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4" name=""/>
          <p:cNvGraphicFramePr/>
          <p:nvPr/>
        </p:nvGraphicFramePr>
        <p:xfrm>
          <a:off x="-1440" y="611280"/>
          <a:ext cx="9146880" cy="624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440" y="611280"/>
                    <a:ext cx="914688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7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a48"/>
                </a:solidFill>
                <a:latin typeface="Arial"/>
              </a:rPr>
              <a:t>Getting budget deficits down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909520" y="2459160"/>
            <a:ext cx="876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307640" y="4229280"/>
            <a:ext cx="102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684080" y="4133880"/>
            <a:ext cx="128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589280" y="239220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8809200" y="0"/>
            <a:ext cx="333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4" name=""/>
          <p:cNvGraphicFramePr/>
          <p:nvPr/>
        </p:nvGraphicFramePr>
        <p:xfrm>
          <a:off x="-1440" y="611280"/>
          <a:ext cx="9146880" cy="624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440" y="611280"/>
                    <a:ext cx="914688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7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a48"/>
                </a:solidFill>
                <a:latin typeface="Arial"/>
              </a:rPr>
              <a:t>Getting budget deficits down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2909520" y="2459160"/>
            <a:ext cx="876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307640" y="4229280"/>
            <a:ext cx="102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684080" y="4133880"/>
            <a:ext cx="128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589280" y="239220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497600" y="1695600"/>
            <a:ext cx="1188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7d7b29"/>
                </a:solidFill>
                <a:latin typeface="Arial"/>
              </a:rPr>
              <a:t>Belg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8809200" y="0"/>
            <a:ext cx="333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5" name=""/>
          <p:cNvGraphicFramePr/>
          <p:nvPr/>
        </p:nvGraphicFramePr>
        <p:xfrm>
          <a:off x="-1440" y="611280"/>
          <a:ext cx="9146880" cy="624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440" y="611280"/>
                    <a:ext cx="914688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8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a48"/>
                </a:solidFill>
                <a:latin typeface="Arial"/>
              </a:rPr>
              <a:t>Getting budget deficits down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2909520" y="2459160"/>
            <a:ext cx="876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307640" y="4229280"/>
            <a:ext cx="102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684080" y="4133880"/>
            <a:ext cx="128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589280" y="239220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293640" y="4492800"/>
            <a:ext cx="1657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Nether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497600" y="1695600"/>
            <a:ext cx="1188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7d7b29"/>
                </a:solidFill>
                <a:latin typeface="Arial"/>
              </a:rPr>
              <a:t>Belg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8809200" y="0"/>
            <a:ext cx="333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7" name=""/>
          <p:cNvGraphicFramePr/>
          <p:nvPr/>
        </p:nvGraphicFramePr>
        <p:xfrm>
          <a:off x="-1440" y="611280"/>
          <a:ext cx="9146880" cy="624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440" y="611280"/>
                    <a:ext cx="914688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-7830000" y="2887560"/>
            <a:ext cx="15647760" cy="5753880"/>
            <a:chOff x="-7830000" y="2887560"/>
            <a:chExt cx="15647760" cy="5753880"/>
          </a:xfrm>
        </p:grpSpPr>
        <p:sp>
          <p:nvSpPr>
            <p:cNvPr id="145" name=""/>
            <p:cNvSpPr/>
            <p:nvPr/>
          </p:nvSpPr>
          <p:spPr>
            <a:xfrm>
              <a:off x="7327080" y="3795840"/>
              <a:ext cx="473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0700000">
              <a:off x="-7872480" y="4893840"/>
              <a:ext cx="15733080" cy="17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24" y="13971"/>
                  </a:moveTo>
                  <a:arcTo wR="10800" hR="10800" stAng="1024608" swAng="397433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24" y="13971"/>
                  </a:moveTo>
                  <a:arcTo wR="10800" hR="10800" stAng="1024608" swAng="3974332"/>
                </a:path>
              </a:pathLst>
            </a:custGeom>
            <a:noFill/>
            <a:ln cap="rnd"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12320" y="366840"/>
            <a:ext cx="11908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890640" y="5207040"/>
            <a:ext cx="6867720" cy="458280"/>
            <a:chOff x="890640" y="5207040"/>
            <a:chExt cx="6867720" cy="458280"/>
          </a:xfrm>
        </p:grpSpPr>
        <p:sp>
          <p:nvSpPr>
            <p:cNvPr id="149" name=""/>
            <p:cNvSpPr/>
            <p:nvPr/>
          </p:nvSpPr>
          <p:spPr>
            <a:xfrm>
              <a:off x="890640" y="5372280"/>
              <a:ext cx="64641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21040" y="52070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Deriving equilibrium national income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Effectiveness of Fiscal Policy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de-effects of discretionary polic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ost infl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welfare and distributive justic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entiv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 rules-based approach to fiscal polic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 'steady-as-you-go' polic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EU Stability and Growth Pac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UK Labour government's 'Golden Rule'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fect on national income of a change in injections and/or withdrawa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J &gt; W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:  national income ri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 &gt; J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:  national income fall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Keynesian diagram: the withdrawals and injections approac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withdrawals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injections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quilibrium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Equilibrium Level of National Income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-7830000" y="2887560"/>
            <a:ext cx="15647760" cy="5753880"/>
            <a:chOff x="-7830000" y="2887560"/>
            <a:chExt cx="15647760" cy="5753880"/>
          </a:xfrm>
        </p:grpSpPr>
        <p:sp>
          <p:nvSpPr>
            <p:cNvPr id="160" name=""/>
            <p:cNvSpPr/>
            <p:nvPr/>
          </p:nvSpPr>
          <p:spPr>
            <a:xfrm>
              <a:off x="7327080" y="3795840"/>
              <a:ext cx="473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20700000">
              <a:off x="-7872480" y="4893840"/>
              <a:ext cx="15733080" cy="17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24" y="13971"/>
                  </a:moveTo>
                  <a:arcTo wR="10800" hR="10800" stAng="1024608" swAng="397433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24" y="13971"/>
                  </a:moveTo>
                  <a:arcTo wR="10800" hR="10800" stAng="1024608" swAng="3974332"/>
                </a:path>
              </a:pathLst>
            </a:custGeom>
            <a:noFill/>
            <a:ln cap="rnd"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12320" y="366840"/>
            <a:ext cx="11908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890640" y="5207040"/>
            <a:ext cx="6867720" cy="458280"/>
            <a:chOff x="890640" y="5207040"/>
            <a:chExt cx="6867720" cy="458280"/>
          </a:xfrm>
        </p:grpSpPr>
        <p:sp>
          <p:nvSpPr>
            <p:cNvPr id="164" name=""/>
            <p:cNvSpPr/>
            <p:nvPr/>
          </p:nvSpPr>
          <p:spPr>
            <a:xfrm>
              <a:off x="890640" y="5372280"/>
              <a:ext cx="64641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21040" y="52070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997360" y="5370480"/>
            <a:ext cx="0" cy="77004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79560" y="615960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960640" y="5700600"/>
            <a:ext cx="360720" cy="458280"/>
            <a:chOff x="2960640" y="5700600"/>
            <a:chExt cx="360720" cy="458280"/>
          </a:xfrm>
        </p:grpSpPr>
        <p:sp>
          <p:nvSpPr>
            <p:cNvPr id="169" name=""/>
            <p:cNvSpPr/>
            <p:nvPr/>
          </p:nvSpPr>
          <p:spPr>
            <a:xfrm>
              <a:off x="2967120" y="570060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6633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60640" y="5737320"/>
              <a:ext cx="103320" cy="10296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895480" y="4876920"/>
            <a:ext cx="354240" cy="554040"/>
            <a:chOff x="2895480" y="4876920"/>
            <a:chExt cx="354240" cy="554040"/>
          </a:xfrm>
        </p:grpSpPr>
        <p:sp>
          <p:nvSpPr>
            <p:cNvPr id="172" name=""/>
            <p:cNvSpPr/>
            <p:nvPr/>
          </p:nvSpPr>
          <p:spPr>
            <a:xfrm>
              <a:off x="2954160" y="5327640"/>
              <a:ext cx="103320" cy="10332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95480" y="487692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6633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978280" y="6616800"/>
            <a:ext cx="1044360" cy="0"/>
          </a:xfrm>
          <a:prstGeom prst="line">
            <a:avLst/>
          </a:prstGeom>
          <a:ln w="38160">
            <a:solidFill>
              <a:srgbClr val="66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Deriving equilibrium national income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27080" y="379584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20700000">
            <a:off x="-7872480" y="4893840"/>
            <a:ext cx="15733080" cy="174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4" y="13971"/>
                </a:moveTo>
                <a:arcTo wR="10800" hR="10800" stAng="1024608" swAng="3974332"/>
                <a:lnTo>
                  <a:pt x="10800" y="10800"/>
                </a:lnTo>
                <a:close/>
              </a:path>
              <a:path fill="none" w="21600" h="21600">
                <a:moveTo>
                  <a:pt x="21124" y="13971"/>
                </a:moveTo>
                <a:arcTo wR="10800" hR="10800" stAng="1024608" swAng="3974332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2320" y="366840"/>
            <a:ext cx="11908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90640" y="5372280"/>
            <a:ext cx="64641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21040" y="52070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526000" y="4875120"/>
            <a:ext cx="436680" cy="1723680"/>
            <a:chOff x="5526000" y="4875120"/>
            <a:chExt cx="436680" cy="1723680"/>
          </a:xfrm>
        </p:grpSpPr>
        <p:sp>
          <p:nvSpPr>
            <p:cNvPr id="187" name=""/>
            <p:cNvSpPr/>
            <p:nvPr/>
          </p:nvSpPr>
          <p:spPr>
            <a:xfrm flipH="1">
              <a:off x="5707080" y="4875120"/>
              <a:ext cx="1440" cy="1265400"/>
            </a:xfrm>
            <a:prstGeom prst="line">
              <a:avLst/>
            </a:prstGeom>
            <a:ln w="1908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26000" y="615960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6633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672160" y="5334120"/>
            <a:ext cx="397080" cy="458280"/>
            <a:chOff x="5672160" y="5334120"/>
            <a:chExt cx="397080" cy="458280"/>
          </a:xfrm>
        </p:grpSpPr>
        <p:sp>
          <p:nvSpPr>
            <p:cNvPr id="190" name=""/>
            <p:cNvSpPr/>
            <p:nvPr/>
          </p:nvSpPr>
          <p:spPr>
            <a:xfrm>
              <a:off x="5715000" y="533412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6633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72160" y="5334120"/>
              <a:ext cx="103320" cy="10296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608440" y="4324320"/>
            <a:ext cx="337320" cy="557280"/>
            <a:chOff x="5608440" y="4324320"/>
            <a:chExt cx="337320" cy="557280"/>
          </a:xfrm>
        </p:grpSpPr>
        <p:sp>
          <p:nvSpPr>
            <p:cNvPr id="193" name=""/>
            <p:cNvSpPr/>
            <p:nvPr/>
          </p:nvSpPr>
          <p:spPr>
            <a:xfrm>
              <a:off x="5665680" y="4778280"/>
              <a:ext cx="103320" cy="10332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08440" y="43243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6633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4535640" y="6524640"/>
            <a:ext cx="1062000" cy="0"/>
          </a:xfrm>
          <a:prstGeom prst="line">
            <a:avLst/>
          </a:prstGeom>
          <a:ln w="38160">
            <a:solidFill>
              <a:srgbClr val="66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Deriving equilibrium national income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27080" y="379584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20700000">
            <a:off x="-7872480" y="4893840"/>
            <a:ext cx="15733080" cy="174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4" y="13971"/>
                </a:moveTo>
                <a:arcTo wR="10800" hR="10800" stAng="1024608" swAng="3974332"/>
                <a:lnTo>
                  <a:pt x="10800" y="10800"/>
                </a:lnTo>
                <a:close/>
              </a:path>
              <a:path fill="none" w="21600" h="21600">
                <a:moveTo>
                  <a:pt x="21124" y="13971"/>
                </a:moveTo>
                <a:arcTo wR="10800" hR="10800" stAng="1024608" swAng="3974332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2320" y="366840"/>
            <a:ext cx="11908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90640" y="5372280"/>
            <a:ext cx="64641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21040" y="52070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76800" y="5370480"/>
            <a:ext cx="0" cy="75096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69080" y="61768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Y</a:t>
            </a:r>
            <a:r>
              <a:rPr b="0" lang="en-GB" sz="2400" spc="-1" strike="noStrike" baseline="-25000">
                <a:solidFill>
                  <a:srgbClr val="66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125600" y="4915080"/>
            <a:ext cx="337320" cy="515880"/>
            <a:chOff x="4125600" y="4915080"/>
            <a:chExt cx="337320" cy="515880"/>
          </a:xfrm>
        </p:grpSpPr>
        <p:sp>
          <p:nvSpPr>
            <p:cNvPr id="210" name=""/>
            <p:cNvSpPr/>
            <p:nvPr/>
          </p:nvSpPr>
          <p:spPr>
            <a:xfrm>
              <a:off x="4233960" y="5327640"/>
              <a:ext cx="103320" cy="103320"/>
            </a:xfrm>
            <a:prstGeom prst="ellipse">
              <a:avLst/>
            </a:prstGeom>
            <a:solidFill>
              <a:srgbClr val="ffcc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25600" y="4915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6633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4535640" y="6524640"/>
            <a:ext cx="1062000" cy="0"/>
          </a:xfrm>
          <a:prstGeom prst="line">
            <a:avLst/>
          </a:prstGeom>
          <a:ln w="38160">
            <a:solidFill>
              <a:srgbClr val="66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78280" y="6529320"/>
            <a:ext cx="1096920" cy="0"/>
          </a:xfrm>
          <a:prstGeom prst="line">
            <a:avLst/>
          </a:prstGeom>
          <a:ln w="38160">
            <a:solidFill>
              <a:srgbClr val="66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Deriving equilibrium national income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Keynesian diagram: the income and expenditure approac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45° lin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Equilibrium Level of National Income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866880" y="915840"/>
            <a:ext cx="6184080" cy="5227920"/>
            <a:chOff x="866880" y="915840"/>
            <a:chExt cx="6184080" cy="5227920"/>
          </a:xfrm>
        </p:grpSpPr>
        <p:sp>
          <p:nvSpPr>
            <p:cNvPr id="223" name=""/>
            <p:cNvSpPr/>
            <p:nvPr/>
          </p:nvSpPr>
          <p:spPr>
            <a:xfrm flipV="1">
              <a:off x="866880" y="1419120"/>
              <a:ext cx="5257800" cy="47246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58600" y="915840"/>
              <a:ext cx="16923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cc"/>
                  </a:solidFill>
                  <a:latin typeface="Arial"/>
                </a:rPr>
                <a:t>Y = C</a:t>
              </a:r>
              <a:r>
                <a:rPr b="0" lang="en-US" sz="2400" spc="-1" strike="noStrike" baseline="-25000">
                  <a:solidFill>
                    <a:srgbClr val="0000cc"/>
                  </a:solidFill>
                  <a:latin typeface="Arial"/>
                </a:rPr>
                <a:t>d</a:t>
              </a:r>
              <a:r>
                <a:rPr b="0" i="1" lang="en-US" sz="2400" spc="-1" strike="noStrike">
                  <a:solidFill>
                    <a:srgbClr val="0000cc"/>
                  </a:solidFill>
                  <a:latin typeface="Arial"/>
                </a:rPr>
                <a:t> + 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7327080" y="379584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20700000">
            <a:off x="-7872480" y="4893840"/>
            <a:ext cx="15733080" cy="174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4" y="13971"/>
                </a:moveTo>
                <a:arcTo wR="10800" hR="10800" stAng="1024608" swAng="3974332"/>
                <a:lnTo>
                  <a:pt x="10800" y="10800"/>
                </a:lnTo>
                <a:close/>
              </a:path>
              <a:path fill="none" w="21600" h="21600">
                <a:moveTo>
                  <a:pt x="21124" y="13971"/>
                </a:moveTo>
                <a:arcTo wR="10800" hR="10800" stAng="1024608" swAng="3974332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2320" y="366840"/>
            <a:ext cx="11908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90640" y="5372280"/>
            <a:ext cx="64641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21040" y="52070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Deriving equilibrium national income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Keynesian diagram: the income and expenditure approac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45° lin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expenditure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Equilibrium Level of National Income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866880" y="1419120"/>
            <a:ext cx="5257800" cy="4724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27080" y="379584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20700000">
            <a:off x="-7872480" y="4893840"/>
            <a:ext cx="15733080" cy="174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4" y="13971"/>
                </a:moveTo>
                <a:arcTo wR="10800" hR="10800" stAng="1024608" swAng="3974332"/>
                <a:lnTo>
                  <a:pt x="10800" y="10800"/>
                </a:lnTo>
                <a:close/>
              </a:path>
              <a:path fill="none" w="21600" h="21600">
                <a:moveTo>
                  <a:pt x="21124" y="13971"/>
                </a:moveTo>
                <a:arcTo wR="10800" hR="10800" stAng="1024608" swAng="3974332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2320" y="366840"/>
            <a:ext cx="11908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90640" y="5372280"/>
            <a:ext cx="64641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21040" y="52070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73240" y="-997920"/>
            <a:ext cx="14992200" cy="8224200"/>
            <a:chOff x="273240" y="-997920"/>
            <a:chExt cx="14992200" cy="8224200"/>
          </a:xfrm>
        </p:grpSpPr>
        <p:sp>
          <p:nvSpPr>
            <p:cNvPr id="245" name=""/>
            <p:cNvSpPr/>
            <p:nvPr/>
          </p:nvSpPr>
          <p:spPr>
            <a:xfrm rot="9300000">
              <a:off x="-95760" y="2244240"/>
              <a:ext cx="15730920" cy="173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66" y="14445"/>
                  </a:moveTo>
                  <a:arcTo wR="10800" hR="10800" stAng="1183542" swAng="416011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66" y="14445"/>
                  </a:moveTo>
                  <a:arcTo wR="10800" hR="10800" stAng="1183542" swAng="4160111"/>
                </a:path>
              </a:pathLst>
            </a:custGeom>
            <a:noFill/>
            <a:ln cap="rnd"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14480" y="2031840"/>
              <a:ext cx="51120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6600"/>
                  </a:solidFill>
                  <a:latin typeface="Arial"/>
                </a:rPr>
                <a:t>C</a:t>
              </a:r>
              <a:r>
                <a:rPr b="0" lang="en-US" sz="2600" spc="-1" strike="noStrike" baseline="-25000">
                  <a:solidFill>
                    <a:srgbClr val="006600"/>
                  </a:solidFill>
                  <a:latin typeface="Arial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5358600" y="915840"/>
            <a:ext cx="16923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Y = C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 +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79360" y="-1760400"/>
            <a:ext cx="14992560" cy="8225280"/>
            <a:chOff x="279360" y="-1760400"/>
            <a:chExt cx="14992560" cy="8225280"/>
          </a:xfrm>
        </p:grpSpPr>
        <p:sp>
          <p:nvSpPr>
            <p:cNvPr id="249" name=""/>
            <p:cNvSpPr/>
            <p:nvPr/>
          </p:nvSpPr>
          <p:spPr>
            <a:xfrm rot="9300000">
              <a:off x="-89640" y="1482120"/>
              <a:ext cx="15730920" cy="17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66" y="14445"/>
                  </a:moveTo>
                  <a:arcTo wR="10800" hR="10800" stAng="1183542" swAng="4081562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66" y="14445"/>
                  </a:moveTo>
                  <a:arcTo wR="10800" hR="10800" stAng="1183542" swAng="4081562"/>
                </a:path>
              </a:pathLst>
            </a:custGeom>
            <a:noFill/>
            <a:ln cap="rnd"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84600" y="1306440"/>
              <a:ext cx="1556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cc"/>
                  </a:solidFill>
                  <a:latin typeface="Arial"/>
                </a:rPr>
                <a:t>E = C</a:t>
              </a:r>
              <a:r>
                <a:rPr b="0" lang="en-US" sz="2400" spc="-1" strike="noStrike" baseline="-25000">
                  <a:solidFill>
                    <a:srgbClr val="0000cc"/>
                  </a:solidFill>
                  <a:latin typeface="Arial"/>
                </a:rPr>
                <a:t>d</a:t>
              </a:r>
              <a:r>
                <a:rPr b="0" i="1" lang="en-US" sz="2400" spc="-1" strike="noStrike">
                  <a:solidFill>
                    <a:srgbClr val="0000cc"/>
                  </a:solidFill>
                  <a:latin typeface="Arial"/>
                </a:rPr>
                <a:t> + 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538960" y="2487600"/>
            <a:ext cx="344880" cy="739800"/>
            <a:chOff x="5538960" y="2487600"/>
            <a:chExt cx="344880" cy="739800"/>
          </a:xfrm>
        </p:grpSpPr>
        <p:sp>
          <p:nvSpPr>
            <p:cNvPr id="252" name=""/>
            <p:cNvSpPr/>
            <p:nvPr/>
          </p:nvSpPr>
          <p:spPr>
            <a:xfrm>
              <a:off x="5538960" y="2487600"/>
              <a:ext cx="0" cy="7398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46520" y="2554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Deriving equilibrium national income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Equilibrium Level of National Income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circular flow of incom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Keynesian diagram: the income and expenditure approac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45° lin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expenditure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quilibrium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Equilibrium Level of National Income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09960" y="3817800"/>
            <a:ext cx="0" cy="230184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866880" y="1419120"/>
            <a:ext cx="5257800" cy="4724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27080" y="379584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20700000">
            <a:off x="-7872480" y="4893840"/>
            <a:ext cx="15733080" cy="174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4" y="13971"/>
                </a:moveTo>
                <a:arcTo wR="10800" hR="10800" stAng="1024608" swAng="3974332"/>
                <a:lnTo>
                  <a:pt x="10800" y="10800"/>
                </a:lnTo>
                <a:close/>
              </a:path>
              <a:path fill="none" w="21600" h="21600">
                <a:moveTo>
                  <a:pt x="21124" y="13971"/>
                </a:moveTo>
                <a:arcTo wR="10800" hR="10800" stAng="1024608" swAng="3974332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2320" y="366840"/>
            <a:ext cx="11908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90640" y="5372280"/>
            <a:ext cx="64641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21040" y="52070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9300000">
            <a:off x="-95760" y="2244240"/>
            <a:ext cx="15730920" cy="173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66" y="14445"/>
                </a:moveTo>
                <a:arcTo wR="10800" hR="10800" stAng="1183542" swAng="4160111"/>
                <a:lnTo>
                  <a:pt x="10800" y="10800"/>
                </a:lnTo>
                <a:close/>
              </a:path>
              <a:path fill="none" w="21600" h="21600">
                <a:moveTo>
                  <a:pt x="20966" y="14445"/>
                </a:moveTo>
                <a:arcTo wR="10800" hR="10800" stAng="1183542" swAng="4160111"/>
              </a:path>
            </a:pathLst>
          </a:custGeom>
          <a:noFill/>
          <a:ln cap="rnd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14480" y="2031840"/>
            <a:ext cx="51120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0" lang="en-US" sz="2600" spc="-1" strike="noStrike" baseline="-25000">
                <a:solidFill>
                  <a:srgbClr val="006600"/>
                </a:solidFill>
                <a:latin typeface="Arial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9300000">
            <a:off x="-89640" y="1482120"/>
            <a:ext cx="15730920" cy="174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66" y="14445"/>
                </a:moveTo>
                <a:arcTo wR="10800" hR="10800" stAng="1183542" swAng="4081562"/>
                <a:lnTo>
                  <a:pt x="10800" y="10800"/>
                </a:lnTo>
                <a:close/>
              </a:path>
              <a:path fill="none" w="21600" h="21600">
                <a:moveTo>
                  <a:pt x="20966" y="14445"/>
                </a:moveTo>
                <a:arcTo wR="10800" hR="10800" stAng="1183542" swAng="408156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58600" y="915840"/>
            <a:ext cx="16923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Y = C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 +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84600" y="1306440"/>
            <a:ext cx="1556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E = C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 +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79560" y="615960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962440" y="4106880"/>
            <a:ext cx="299520" cy="458280"/>
            <a:chOff x="2962440" y="4106880"/>
            <a:chExt cx="299520" cy="458280"/>
          </a:xfrm>
        </p:grpSpPr>
        <p:sp>
          <p:nvSpPr>
            <p:cNvPr id="276" name=""/>
            <p:cNvSpPr/>
            <p:nvPr/>
          </p:nvSpPr>
          <p:spPr>
            <a:xfrm>
              <a:off x="2991600" y="4106880"/>
              <a:ext cx="27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6633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62440" y="4160880"/>
              <a:ext cx="103320" cy="1033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57680" y="3336840"/>
            <a:ext cx="354240" cy="517320"/>
            <a:chOff x="2857680" y="3336840"/>
            <a:chExt cx="354240" cy="517320"/>
          </a:xfrm>
        </p:grpSpPr>
        <p:sp>
          <p:nvSpPr>
            <p:cNvPr id="279" name=""/>
            <p:cNvSpPr/>
            <p:nvPr/>
          </p:nvSpPr>
          <p:spPr>
            <a:xfrm>
              <a:off x="2973240" y="3751200"/>
              <a:ext cx="103320" cy="1029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57680" y="333684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6633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978280" y="6616800"/>
            <a:ext cx="1044360" cy="0"/>
          </a:xfrm>
          <a:prstGeom prst="line">
            <a:avLst/>
          </a:prstGeom>
          <a:ln w="38160">
            <a:solidFill>
              <a:srgbClr val="66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Deriving equilibrium national income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866880" y="1419120"/>
            <a:ext cx="5257800" cy="4724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27080" y="379584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20700000">
            <a:off x="-7872480" y="4893840"/>
            <a:ext cx="15733080" cy="174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4" y="13971"/>
                </a:moveTo>
                <a:arcTo wR="10800" hR="10800" stAng="1024608" swAng="3974332"/>
                <a:lnTo>
                  <a:pt x="10800" y="10800"/>
                </a:lnTo>
                <a:close/>
              </a:path>
              <a:path fill="none" w="21600" h="21600">
                <a:moveTo>
                  <a:pt x="21124" y="13971"/>
                </a:moveTo>
                <a:arcTo wR="10800" hR="10800" stAng="1024608" swAng="3974332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2320" y="366840"/>
            <a:ext cx="11908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90640" y="5372280"/>
            <a:ext cx="64641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421040" y="52070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9300000">
            <a:off x="-95760" y="2244240"/>
            <a:ext cx="15730920" cy="173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66" y="14445"/>
                </a:moveTo>
                <a:arcTo wR="10800" hR="10800" stAng="1183542" swAng="4160111"/>
                <a:lnTo>
                  <a:pt x="10800" y="10800"/>
                </a:lnTo>
                <a:close/>
              </a:path>
              <a:path fill="none" w="21600" h="21600">
                <a:moveTo>
                  <a:pt x="20966" y="14445"/>
                </a:moveTo>
                <a:arcTo wR="10800" hR="10800" stAng="1183542" swAng="4160111"/>
              </a:path>
            </a:pathLst>
          </a:custGeom>
          <a:noFill/>
          <a:ln cap="rnd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4480" y="2031840"/>
            <a:ext cx="51120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0" lang="en-US" sz="2600" spc="-1" strike="noStrike" baseline="-25000">
                <a:solidFill>
                  <a:srgbClr val="006600"/>
                </a:solidFill>
                <a:latin typeface="Arial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9300000">
            <a:off x="-89640" y="1482120"/>
            <a:ext cx="15730920" cy="174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66" y="14445"/>
                </a:moveTo>
                <a:arcTo wR="10800" hR="10800" stAng="1183542" swAng="4081562"/>
                <a:lnTo>
                  <a:pt x="10800" y="10800"/>
                </a:lnTo>
                <a:close/>
              </a:path>
              <a:path fill="none" w="21600" h="21600">
                <a:moveTo>
                  <a:pt x="20966" y="14445"/>
                </a:moveTo>
                <a:arcTo wR="10800" hR="10800" stAng="1183542" swAng="408156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58600" y="915840"/>
            <a:ext cx="16923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Y = C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 +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84600" y="1306440"/>
            <a:ext cx="1556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E = C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 +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07080" y="1779480"/>
            <a:ext cx="0" cy="436104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26000" y="615960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369040" y="2038320"/>
            <a:ext cx="406440" cy="458280"/>
            <a:chOff x="5369040" y="2038320"/>
            <a:chExt cx="406440" cy="458280"/>
          </a:xfrm>
        </p:grpSpPr>
        <p:sp>
          <p:nvSpPr>
            <p:cNvPr id="302" name=""/>
            <p:cNvSpPr/>
            <p:nvPr/>
          </p:nvSpPr>
          <p:spPr>
            <a:xfrm>
              <a:off x="5369040" y="203832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6633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72160" y="2309760"/>
              <a:ext cx="103320" cy="1033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383080" y="1417680"/>
            <a:ext cx="366840" cy="458280"/>
            <a:chOff x="5383080" y="1417680"/>
            <a:chExt cx="366840" cy="458280"/>
          </a:xfrm>
        </p:grpSpPr>
        <p:sp>
          <p:nvSpPr>
            <p:cNvPr id="305" name=""/>
            <p:cNvSpPr/>
            <p:nvPr/>
          </p:nvSpPr>
          <p:spPr>
            <a:xfrm>
              <a:off x="5646600" y="1736640"/>
              <a:ext cx="103320" cy="1033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83080" y="141768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6633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4535640" y="6524640"/>
            <a:ext cx="1062000" cy="0"/>
          </a:xfrm>
          <a:prstGeom prst="line">
            <a:avLst/>
          </a:prstGeom>
          <a:ln w="38160">
            <a:solidFill>
              <a:srgbClr val="66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Deriving equilibrium national income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22800" y="3122640"/>
            <a:ext cx="0" cy="300996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866880" y="1419120"/>
            <a:ext cx="5257800" cy="4724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327080" y="379584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20700000">
            <a:off x="-7924680" y="4893840"/>
            <a:ext cx="15733080" cy="174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4" y="13971"/>
                </a:moveTo>
                <a:arcTo wR="10800" hR="10800" stAng="1024608" swAng="3974332"/>
                <a:lnTo>
                  <a:pt x="10800" y="10800"/>
                </a:lnTo>
                <a:close/>
              </a:path>
              <a:path fill="none" w="21600" h="21600">
                <a:moveTo>
                  <a:pt x="21124" y="13971"/>
                </a:moveTo>
                <a:arcTo wR="10800" hR="10800" stAng="1024608" swAng="3974332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2320" y="366840"/>
            <a:ext cx="11908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90640" y="5372280"/>
            <a:ext cx="64641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421040" y="52070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9300000">
            <a:off x="-95760" y="2244240"/>
            <a:ext cx="15730920" cy="173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66" y="14445"/>
                </a:moveTo>
                <a:arcTo wR="10800" hR="10800" stAng="1183542" swAng="4160111"/>
                <a:lnTo>
                  <a:pt x="10800" y="10800"/>
                </a:lnTo>
                <a:close/>
              </a:path>
              <a:path fill="none" w="21600" h="21600">
                <a:moveTo>
                  <a:pt x="20966" y="14445"/>
                </a:moveTo>
                <a:arcTo wR="10800" hR="10800" stAng="1183542" swAng="4160111"/>
              </a:path>
            </a:pathLst>
          </a:custGeom>
          <a:noFill/>
          <a:ln cap="rnd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307280" y="2031840"/>
            <a:ext cx="52560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0" lang="en-US" sz="2600" spc="-1" strike="noStrike" baseline="-25000">
                <a:solidFill>
                  <a:srgbClr val="006600"/>
                </a:solidFill>
                <a:latin typeface="Arial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9300000">
            <a:off x="-89640" y="1482120"/>
            <a:ext cx="15730920" cy="174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66" y="14445"/>
                </a:moveTo>
                <a:arcTo wR="10800" hR="10800" stAng="1183542" swAng="4081562"/>
                <a:lnTo>
                  <a:pt x="10800" y="10800"/>
                </a:lnTo>
                <a:close/>
              </a:path>
              <a:path fill="none" w="21600" h="21600">
                <a:moveTo>
                  <a:pt x="20966" y="14445"/>
                </a:moveTo>
                <a:arcTo wR="10800" hR="10800" stAng="1183542" swAng="408156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58600" y="915840"/>
            <a:ext cx="16923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Y = C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 +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384600" y="1306440"/>
            <a:ext cx="1556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E = C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 +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16520" y="61768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Y</a:t>
            </a:r>
            <a:r>
              <a:rPr b="0" lang="en-GB" sz="2400" spc="-1" strike="noStrike" baseline="-25000">
                <a:solidFill>
                  <a:srgbClr val="66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928680" y="4971960"/>
            <a:ext cx="351000" cy="458280"/>
            <a:chOff x="3928680" y="4971960"/>
            <a:chExt cx="351000" cy="458280"/>
          </a:xfrm>
        </p:grpSpPr>
        <p:sp>
          <p:nvSpPr>
            <p:cNvPr id="328" name=""/>
            <p:cNvSpPr/>
            <p:nvPr/>
          </p:nvSpPr>
          <p:spPr>
            <a:xfrm>
              <a:off x="3928680" y="4971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6633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76360" y="5321160"/>
              <a:ext cx="103320" cy="103320"/>
            </a:xfrm>
            <a:prstGeom prst="ellipse">
              <a:avLst/>
            </a:prstGeom>
            <a:solidFill>
              <a:srgbClr val="ffcc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061880" y="2651040"/>
            <a:ext cx="337320" cy="531720"/>
            <a:chOff x="4061880" y="2651040"/>
            <a:chExt cx="337320" cy="531720"/>
          </a:xfrm>
        </p:grpSpPr>
        <p:sp>
          <p:nvSpPr>
            <p:cNvPr id="331" name=""/>
            <p:cNvSpPr/>
            <p:nvPr/>
          </p:nvSpPr>
          <p:spPr>
            <a:xfrm>
              <a:off x="4189320" y="3079800"/>
              <a:ext cx="103320" cy="1029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61880" y="26510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6633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535640" y="6524640"/>
            <a:ext cx="1062000" cy="0"/>
          </a:xfrm>
          <a:prstGeom prst="line">
            <a:avLst/>
          </a:prstGeom>
          <a:ln w="38160">
            <a:solidFill>
              <a:srgbClr val="66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78280" y="6529320"/>
            <a:ext cx="1027080" cy="0"/>
          </a:xfrm>
          <a:prstGeom prst="line">
            <a:avLst/>
          </a:prstGeom>
          <a:ln w="38160">
            <a:solidFill>
              <a:srgbClr val="66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Deriving equilibrium national income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The Multiplier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3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multiplier: introduc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circular flow of income and effects of changes in injectio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finition of the multiplier: 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ΔY/Δ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withdrawals and injections approac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graphical analysis: shift in the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lin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multiplier: (a) a shift in injections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27080" y="43830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5960" y="42228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90640" y="5665680"/>
            <a:ext cx="646416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51920" y="5445000"/>
            <a:ext cx="436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J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074240" y="4602240"/>
            <a:ext cx="6262920" cy="1739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243600" y="5664240"/>
            <a:ext cx="535680" cy="1092600"/>
            <a:chOff x="3243600" y="5664240"/>
            <a:chExt cx="535680" cy="1092600"/>
          </a:xfrm>
        </p:grpSpPr>
        <p:sp>
          <p:nvSpPr>
            <p:cNvPr id="350" name=""/>
            <p:cNvSpPr/>
            <p:nvPr/>
          </p:nvSpPr>
          <p:spPr>
            <a:xfrm>
              <a:off x="3490920" y="5664240"/>
              <a:ext cx="0" cy="476280"/>
            </a:xfrm>
            <a:prstGeom prst="line">
              <a:avLst/>
            </a:prstGeom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43600" y="6213600"/>
              <a:ext cx="53568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00cc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cc"/>
                  </a:solidFill>
                  <a:latin typeface="Arial"/>
                </a:rPr>
                <a:t>e</a:t>
              </a:r>
              <a:r>
                <a:rPr b="0" lang="en-US" sz="2000" spc="-1" strike="noStrike" baseline="-46000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345840" y="5226120"/>
            <a:ext cx="326880" cy="485640"/>
            <a:chOff x="3345840" y="5226120"/>
            <a:chExt cx="326880" cy="485640"/>
          </a:xfrm>
        </p:grpSpPr>
        <p:sp>
          <p:nvSpPr>
            <p:cNvPr id="353" name=""/>
            <p:cNvSpPr/>
            <p:nvPr/>
          </p:nvSpPr>
          <p:spPr>
            <a:xfrm>
              <a:off x="3454560" y="5608800"/>
              <a:ext cx="102960" cy="1029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45840" y="52261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27080" y="43830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90640" y="5665680"/>
            <a:ext cx="646416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51920" y="5445000"/>
            <a:ext cx="436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J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074240" y="4602240"/>
            <a:ext cx="6262920" cy="1739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96760" y="5122800"/>
            <a:ext cx="64645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58040" y="4919760"/>
            <a:ext cx="436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J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90920" y="5664240"/>
            <a:ext cx="0" cy="476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43600" y="6213600"/>
            <a:ext cx="5356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r>
              <a:rPr b="0" lang="en-US" sz="2000" spc="-1" strike="noStrike" baseline="-46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54560" y="5608800"/>
            <a:ext cx="102960" cy="1029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45840" y="52261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191560" y="5168880"/>
            <a:ext cx="535680" cy="1594080"/>
            <a:chOff x="5191560" y="5168880"/>
            <a:chExt cx="535680" cy="1594080"/>
          </a:xfrm>
        </p:grpSpPr>
        <p:sp>
          <p:nvSpPr>
            <p:cNvPr id="371" name=""/>
            <p:cNvSpPr/>
            <p:nvPr/>
          </p:nvSpPr>
          <p:spPr>
            <a:xfrm>
              <a:off x="5451480" y="5168880"/>
              <a:ext cx="0" cy="97164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1560" y="6219720"/>
              <a:ext cx="53568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6600"/>
                  </a:solidFill>
                  <a:latin typeface="Arial"/>
                </a:rPr>
                <a:t>e</a:t>
              </a:r>
              <a:r>
                <a:rPr b="0" lang="en-US" sz="2000" spc="-1" strike="noStrike" baseline="-46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311080" y="4681440"/>
            <a:ext cx="326880" cy="487440"/>
            <a:chOff x="5311080" y="4681440"/>
            <a:chExt cx="326880" cy="487440"/>
          </a:xfrm>
        </p:grpSpPr>
        <p:sp>
          <p:nvSpPr>
            <p:cNvPr id="374" name=""/>
            <p:cNvSpPr/>
            <p:nvPr/>
          </p:nvSpPr>
          <p:spPr>
            <a:xfrm>
              <a:off x="5402160" y="5065560"/>
              <a:ext cx="103320" cy="10332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11080" y="46814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165960" y="42228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multiplier: (a) a shift in injections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451480" y="5168880"/>
            <a:ext cx="0" cy="97164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27080" y="43830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90640" y="5665680"/>
            <a:ext cx="646416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351920" y="5445000"/>
            <a:ext cx="436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J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074240" y="4602240"/>
            <a:ext cx="6262920" cy="1739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96760" y="5122800"/>
            <a:ext cx="64645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58040" y="4919760"/>
            <a:ext cx="436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J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490920" y="5664240"/>
            <a:ext cx="0" cy="476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43600" y="6213600"/>
            <a:ext cx="5356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r>
              <a:rPr b="0" lang="en-US" sz="2000" spc="-1" strike="noStrike" baseline="-46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54560" y="5608800"/>
            <a:ext cx="102960" cy="1029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45840" y="52261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02160" y="5065560"/>
            <a:ext cx="103320" cy="10332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91560" y="6219720"/>
            <a:ext cx="5356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e</a:t>
            </a:r>
            <a:r>
              <a:rPr b="0" lang="en-US" sz="2000" spc="-1" strike="noStrike" baseline="-46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11080" y="46814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527280" y="6361200"/>
            <a:ext cx="1924200" cy="401400"/>
            <a:chOff x="3527280" y="6361200"/>
            <a:chExt cx="1924200" cy="401400"/>
          </a:xfrm>
        </p:grpSpPr>
        <p:sp>
          <p:nvSpPr>
            <p:cNvPr id="398" name=""/>
            <p:cNvSpPr/>
            <p:nvPr/>
          </p:nvSpPr>
          <p:spPr>
            <a:xfrm>
              <a:off x="3527280" y="6762600"/>
              <a:ext cx="192420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26040" y="63612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Symbol"/>
                  <a:ea typeface="Symbol"/>
                </a:rPr>
                <a:t></a:t>
              </a: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407200" y="5602320"/>
            <a:ext cx="321480" cy="416520"/>
            <a:chOff x="5407200" y="5602320"/>
            <a:chExt cx="321480" cy="416520"/>
          </a:xfrm>
        </p:grpSpPr>
        <p:sp>
          <p:nvSpPr>
            <p:cNvPr id="401" name=""/>
            <p:cNvSpPr/>
            <p:nvPr/>
          </p:nvSpPr>
          <p:spPr>
            <a:xfrm>
              <a:off x="5415480" y="5621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07200" y="5602320"/>
              <a:ext cx="102960" cy="10332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616720" y="5132520"/>
            <a:ext cx="657000" cy="531720"/>
            <a:chOff x="5616720" y="5132520"/>
            <a:chExt cx="657000" cy="531720"/>
          </a:xfrm>
        </p:grpSpPr>
        <p:sp>
          <p:nvSpPr>
            <p:cNvPr id="404" name=""/>
            <p:cNvSpPr/>
            <p:nvPr/>
          </p:nvSpPr>
          <p:spPr>
            <a:xfrm>
              <a:off x="5616720" y="5132520"/>
              <a:ext cx="0" cy="53172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628240" y="5232240"/>
              <a:ext cx="645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Symbol"/>
                  <a:ea typeface="Symbol"/>
                </a:rPr>
                <a:t></a:t>
              </a:r>
              <a:r>
                <a:rPr b="0" lang="en-US" sz="1000" spc="-1" strike="noStrike">
                  <a:solidFill>
                    <a:srgbClr val="800080"/>
                  </a:solidFill>
                  <a:latin typeface="Symbol"/>
                  <a:ea typeface="Symbol"/>
                </a:rPr>
                <a:t></a:t>
              </a: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952560" y="5140440"/>
            <a:ext cx="552240" cy="531720"/>
            <a:chOff x="952560" y="5140440"/>
            <a:chExt cx="552240" cy="531720"/>
          </a:xfrm>
        </p:grpSpPr>
        <p:sp>
          <p:nvSpPr>
            <p:cNvPr id="407" name=""/>
            <p:cNvSpPr/>
            <p:nvPr/>
          </p:nvSpPr>
          <p:spPr>
            <a:xfrm>
              <a:off x="972000" y="5238720"/>
              <a:ext cx="532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Symbol"/>
                  <a:ea typeface="Symbol"/>
                </a:rPr>
                <a:t></a:t>
              </a:r>
              <a:r>
                <a:rPr b="0" lang="en-US" sz="1000" spc="-1" strike="noStrike">
                  <a:solidFill>
                    <a:srgbClr val="800080"/>
                  </a:solidFill>
                  <a:latin typeface="Symbol"/>
                  <a:ea typeface="Symbol"/>
                </a:rPr>
                <a:t></a:t>
              </a: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52560" y="5140440"/>
              <a:ext cx="0" cy="53172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424440" y="543240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30560" y="490680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289240" y="1457280"/>
            <a:ext cx="2679480" cy="1396440"/>
            <a:chOff x="2289240" y="1457280"/>
            <a:chExt cx="2679480" cy="1396440"/>
          </a:xfrm>
        </p:grpSpPr>
        <p:sp>
          <p:nvSpPr>
            <p:cNvPr id="412" name=""/>
            <p:cNvSpPr/>
            <p:nvPr/>
          </p:nvSpPr>
          <p:spPr>
            <a:xfrm>
              <a:off x="2289240" y="1457280"/>
              <a:ext cx="2679480" cy="115884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97240" y="1541520"/>
              <a:ext cx="2479680" cy="1312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Arial"/>
                </a:rPr>
                <a:t>Multiplier = </a:t>
              </a:r>
              <a:r>
                <a:rPr b="1" lang="en-US" sz="2000" spc="-1" strike="noStrike">
                  <a:solidFill>
                    <a:srgbClr val="663300"/>
                  </a:solidFill>
                  <a:latin typeface="Symbol"/>
                  <a:ea typeface="Symbol"/>
                </a:rPr>
                <a:t></a:t>
              </a: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Y / </a:t>
              </a:r>
              <a:r>
                <a:rPr b="1" lang="en-US" sz="2000" spc="-1" strike="noStrike">
                  <a:solidFill>
                    <a:srgbClr val="663300"/>
                  </a:solidFill>
                  <a:latin typeface="Symbol"/>
                  <a:ea typeface="Symbol"/>
                </a:rPr>
                <a:t></a:t>
              </a:r>
              <a:r>
                <a:rPr b="1" lang="en-US" sz="1000" spc="-1" strike="noStrike">
                  <a:solidFill>
                    <a:srgbClr val="663300"/>
                  </a:solidFill>
                  <a:latin typeface="Symbol"/>
                  <a:ea typeface="Symbol"/>
                </a:rPr>
                <a:t></a:t>
              </a: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= </a:t>
              </a:r>
              <a:r>
                <a:rPr b="1" lang="en-US" sz="2000" spc="-1" strike="noStrike">
                  <a:solidFill>
                    <a:srgbClr val="663300"/>
                  </a:solidFill>
                  <a:latin typeface="Symbol"/>
                  <a:ea typeface="Symbol"/>
                </a:rPr>
                <a:t></a:t>
              </a: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Y / </a:t>
              </a:r>
              <a:r>
                <a:rPr b="1" lang="en-US" sz="2000" spc="-1" strike="noStrike">
                  <a:solidFill>
                    <a:srgbClr val="663300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>
                  <a:solidFill>
                    <a:srgbClr val="6633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= c</a:t>
              </a:r>
              <a:r>
                <a:rPr b="1" i="1" lang="en-US" sz="2000" spc="-1" strike="noStrike">
                  <a:solidFill>
                    <a:srgbClr val="663300"/>
                  </a:solidFill>
                  <a:latin typeface="Symbol"/>
                  <a:ea typeface="Symbol"/>
                </a:rPr>
                <a:t></a:t>
              </a: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a / b</a:t>
              </a:r>
              <a:r>
                <a:rPr b="1" i="1" lang="en-US" sz="2000" spc="-1" strike="noStrike">
                  <a:solidFill>
                    <a:srgbClr val="663300"/>
                  </a:solidFill>
                  <a:latin typeface="Symbol"/>
                  <a:ea typeface="Symbol"/>
                </a:rPr>
                <a:t></a:t>
              </a: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165960" y="42228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multiplier: (a) a shift in injections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The Multiplier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multiplier: introduc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circular flow of income and effects of changes in injectio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finition of the multiplier:  Δ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/Δ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withdrawals and injections approac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graphical analysis: shift in the J lin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formula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:   1/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mpw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:   1/(1–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mpc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51480" y="5168880"/>
            <a:ext cx="0" cy="97164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27080" y="43830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90640" y="5665680"/>
            <a:ext cx="646416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351920" y="5445000"/>
            <a:ext cx="436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J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1074240" y="4602240"/>
            <a:ext cx="6262920" cy="1739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96760" y="5122800"/>
            <a:ext cx="64645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358040" y="4919760"/>
            <a:ext cx="436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J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90920" y="5664240"/>
            <a:ext cx="0" cy="476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43600" y="6213600"/>
            <a:ext cx="5356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r>
              <a:rPr b="0" lang="en-US" sz="2000" spc="-1" strike="noStrike" baseline="-46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54560" y="5608800"/>
            <a:ext cx="102960" cy="1029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45840" y="52261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02160" y="5065560"/>
            <a:ext cx="103320" cy="10332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91560" y="6219720"/>
            <a:ext cx="5356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e</a:t>
            </a:r>
            <a:r>
              <a:rPr b="0" lang="en-US" sz="2000" spc="-1" strike="noStrike" baseline="-46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11080" y="46814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3527280" y="6361200"/>
            <a:ext cx="1924200" cy="401400"/>
            <a:chOff x="3527280" y="6361200"/>
            <a:chExt cx="1924200" cy="401400"/>
          </a:xfrm>
        </p:grpSpPr>
        <p:sp>
          <p:nvSpPr>
            <p:cNvPr id="438" name=""/>
            <p:cNvSpPr/>
            <p:nvPr/>
          </p:nvSpPr>
          <p:spPr>
            <a:xfrm>
              <a:off x="3527280" y="6762600"/>
              <a:ext cx="192420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26040" y="63612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Symbol"/>
                  <a:ea typeface="Symbol"/>
                </a:rPr>
                <a:t></a:t>
              </a: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5407200" y="5602320"/>
            <a:ext cx="321480" cy="416520"/>
            <a:chOff x="5407200" y="5602320"/>
            <a:chExt cx="321480" cy="416520"/>
          </a:xfrm>
        </p:grpSpPr>
        <p:sp>
          <p:nvSpPr>
            <p:cNvPr id="441" name=""/>
            <p:cNvSpPr/>
            <p:nvPr/>
          </p:nvSpPr>
          <p:spPr>
            <a:xfrm>
              <a:off x="5415480" y="5621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407200" y="5602320"/>
              <a:ext cx="102960" cy="10332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616720" y="5132520"/>
            <a:ext cx="657000" cy="531720"/>
            <a:chOff x="5616720" y="5132520"/>
            <a:chExt cx="657000" cy="531720"/>
          </a:xfrm>
        </p:grpSpPr>
        <p:sp>
          <p:nvSpPr>
            <p:cNvPr id="444" name=""/>
            <p:cNvSpPr/>
            <p:nvPr/>
          </p:nvSpPr>
          <p:spPr>
            <a:xfrm>
              <a:off x="5616720" y="5132520"/>
              <a:ext cx="0" cy="53172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28240" y="5232240"/>
              <a:ext cx="645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Symbol"/>
                  <a:ea typeface="Symbol"/>
                </a:rPr>
                <a:t></a:t>
              </a:r>
              <a:r>
                <a:rPr b="0" lang="en-US" sz="1000" spc="-1" strike="noStrike">
                  <a:solidFill>
                    <a:srgbClr val="800080"/>
                  </a:solidFill>
                  <a:latin typeface="Symbol"/>
                  <a:ea typeface="Symbol"/>
                </a:rPr>
                <a:t></a:t>
              </a: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952560" y="5140440"/>
            <a:ext cx="552240" cy="531720"/>
            <a:chOff x="952560" y="5140440"/>
            <a:chExt cx="552240" cy="531720"/>
          </a:xfrm>
        </p:grpSpPr>
        <p:sp>
          <p:nvSpPr>
            <p:cNvPr id="447" name=""/>
            <p:cNvSpPr/>
            <p:nvPr/>
          </p:nvSpPr>
          <p:spPr>
            <a:xfrm>
              <a:off x="972000" y="5238720"/>
              <a:ext cx="532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Symbol"/>
                  <a:ea typeface="Symbol"/>
                </a:rPr>
                <a:t></a:t>
              </a:r>
              <a:r>
                <a:rPr b="0" lang="en-US" sz="1000" spc="-1" strike="noStrike">
                  <a:solidFill>
                    <a:srgbClr val="800080"/>
                  </a:solidFill>
                  <a:latin typeface="Symbol"/>
                  <a:ea typeface="Symbol"/>
                </a:rPr>
                <a:t></a:t>
              </a: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952560" y="5140440"/>
              <a:ext cx="0" cy="53172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424440" y="543240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30560" y="490680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309760" y="1457280"/>
            <a:ext cx="2658960" cy="1459080"/>
            <a:chOff x="2309760" y="1457280"/>
            <a:chExt cx="2658960" cy="1459080"/>
          </a:xfrm>
        </p:grpSpPr>
        <p:sp>
          <p:nvSpPr>
            <p:cNvPr id="452" name=""/>
            <p:cNvSpPr/>
            <p:nvPr/>
          </p:nvSpPr>
          <p:spPr>
            <a:xfrm>
              <a:off x="2309760" y="1457280"/>
              <a:ext cx="2658960" cy="145908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62320" y="1541520"/>
              <a:ext cx="2514600" cy="1312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Arial"/>
                </a:rPr>
                <a:t>Multiplier = </a:t>
              </a:r>
              <a:r>
                <a:rPr b="1" lang="en-US" sz="2000" spc="-1" strike="noStrike">
                  <a:solidFill>
                    <a:srgbClr val="663300"/>
                  </a:solidFill>
                  <a:latin typeface="Symbol"/>
                  <a:ea typeface="Symbol"/>
                </a:rPr>
                <a:t></a:t>
              </a: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Y / </a:t>
              </a:r>
              <a:r>
                <a:rPr b="1" lang="en-US" sz="2000" spc="-1" strike="noStrike">
                  <a:solidFill>
                    <a:srgbClr val="663300"/>
                  </a:solidFill>
                  <a:latin typeface="Symbol"/>
                  <a:ea typeface="Symbol"/>
                </a:rPr>
                <a:t></a:t>
              </a:r>
              <a:r>
                <a:rPr b="1" lang="en-US" sz="1000" spc="-1" strike="noStrike">
                  <a:solidFill>
                    <a:srgbClr val="663300"/>
                  </a:solidFill>
                  <a:latin typeface="Symbol"/>
                  <a:ea typeface="Symbol"/>
                </a:rPr>
                <a:t></a:t>
              </a: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= </a:t>
              </a:r>
              <a:r>
                <a:rPr b="1" lang="en-US" sz="2000" spc="-1" strike="noStrike">
                  <a:solidFill>
                    <a:srgbClr val="663300"/>
                  </a:solidFill>
                  <a:latin typeface="Symbol"/>
                  <a:ea typeface="Symbol"/>
                </a:rPr>
                <a:t></a:t>
              </a: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Y / </a:t>
              </a:r>
              <a:r>
                <a:rPr b="1" lang="en-US" sz="2000" spc="-1" strike="noStrike">
                  <a:solidFill>
                    <a:srgbClr val="663300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>
                  <a:solidFill>
                    <a:srgbClr val="6633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= c</a:t>
              </a:r>
              <a:r>
                <a:rPr b="1" i="1" lang="en-US" sz="2000" spc="-1" strike="noStrike">
                  <a:solidFill>
                    <a:srgbClr val="663300"/>
                  </a:solidFill>
                  <a:latin typeface="Symbol"/>
                  <a:ea typeface="Symbol"/>
                </a:rPr>
                <a:t></a:t>
              </a: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a / b</a:t>
              </a:r>
              <a:r>
                <a:rPr b="1" i="1" lang="en-US" sz="2000" spc="-1" strike="noStrike">
                  <a:solidFill>
                    <a:srgbClr val="663300"/>
                  </a:solidFill>
                  <a:latin typeface="Symbol"/>
                  <a:ea typeface="Symbol"/>
                </a:rPr>
                <a:t></a:t>
              </a: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= </a:t>
              </a:r>
              <a:r>
                <a:rPr b="1" lang="en-US" sz="2000" spc="-1" strike="noStrike">
                  <a:solidFill>
                    <a:srgbClr val="663300"/>
                  </a:solidFill>
                  <a:latin typeface="Arial"/>
                </a:rPr>
                <a:t>1</a:t>
              </a: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/mp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165960" y="42228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multiplier: (a) a shift in injections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00320" y="853920"/>
            <a:ext cx="2890800" cy="1812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871720" y="5481720"/>
            <a:ext cx="1903320" cy="1376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95400"/>
            <a:ext cx="91346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A simplified circular flow of  incom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The Multiplier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multiplier: introduc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circular flow of income and effects of changes in injectio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finition of the multiplier:  Δ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/Δ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withdrawals and injections approac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graphical analysis: shift in the J lin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formula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:   1/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mpw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:   1/(1–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mpc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graphical analysis: shift in the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lin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multiplier: (b) a shift in withdrawals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276680" y="4383000"/>
            <a:ext cx="57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90640" y="5665680"/>
            <a:ext cx="646416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457760" y="54450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1074240" y="4602240"/>
            <a:ext cx="6262920" cy="1739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90920" y="5664240"/>
            <a:ext cx="0" cy="476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43600" y="6213600"/>
            <a:ext cx="5356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r>
              <a:rPr b="0" lang="en-US" sz="2000" spc="-1" strike="noStrike" baseline="-46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454560" y="5608800"/>
            <a:ext cx="102960" cy="102960"/>
          </a:xfrm>
          <a:prstGeom prst="ellipse">
            <a:avLst/>
          </a:prstGeom>
          <a:solidFill>
            <a:srgbClr val="0000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45840" y="52261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65960" y="42228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76680" y="4383000"/>
            <a:ext cx="57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90640" y="5665680"/>
            <a:ext cx="646416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457760" y="54450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074240" y="4602240"/>
            <a:ext cx="6262920" cy="1739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490920" y="5664240"/>
            <a:ext cx="0" cy="476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43600" y="6213600"/>
            <a:ext cx="5356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r>
              <a:rPr b="0" lang="en-US" sz="2000" spc="-1" strike="noStrike" baseline="-46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54560" y="5608800"/>
            <a:ext cx="102960" cy="102960"/>
          </a:xfrm>
          <a:prstGeom prst="ellipse">
            <a:avLst/>
          </a:prstGeom>
          <a:solidFill>
            <a:srgbClr val="0000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345840" y="52261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5960" y="42228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300440" y="4737240"/>
            <a:ext cx="57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1697040" y="4956120"/>
            <a:ext cx="5664240" cy="15526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4530960" y="5689440"/>
            <a:ext cx="535680" cy="1092600"/>
            <a:chOff x="4530960" y="5689440"/>
            <a:chExt cx="535680" cy="1092600"/>
          </a:xfrm>
        </p:grpSpPr>
        <p:sp>
          <p:nvSpPr>
            <p:cNvPr id="490" name=""/>
            <p:cNvSpPr/>
            <p:nvPr/>
          </p:nvSpPr>
          <p:spPr>
            <a:xfrm>
              <a:off x="4778280" y="5689440"/>
              <a:ext cx="0" cy="47628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530960" y="6238800"/>
              <a:ext cx="53568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Arial"/>
                </a:rPr>
                <a:t>e</a:t>
              </a:r>
              <a:r>
                <a:rPr b="0" lang="en-US" sz="2000" spc="-1" strike="noStrike" baseline="-46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639320" y="5234040"/>
            <a:ext cx="313200" cy="465120"/>
            <a:chOff x="4639320" y="5234040"/>
            <a:chExt cx="313200" cy="465120"/>
          </a:xfrm>
        </p:grpSpPr>
        <p:sp>
          <p:nvSpPr>
            <p:cNvPr id="493" name=""/>
            <p:cNvSpPr/>
            <p:nvPr/>
          </p:nvSpPr>
          <p:spPr>
            <a:xfrm>
              <a:off x="4639320" y="5234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722840" y="5595840"/>
              <a:ext cx="103320" cy="10332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multiplier: (b) a shift in withdrawals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276680" y="4383000"/>
            <a:ext cx="57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90640" y="5665680"/>
            <a:ext cx="646416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457760" y="54450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074240" y="4602240"/>
            <a:ext cx="6262920" cy="1739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490920" y="5664240"/>
            <a:ext cx="0" cy="476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43600" y="6213600"/>
            <a:ext cx="5356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r>
              <a:rPr b="0" lang="en-US" sz="2000" spc="-1" strike="noStrike" baseline="-46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454560" y="5608800"/>
            <a:ext cx="102960" cy="102960"/>
          </a:xfrm>
          <a:prstGeom prst="ellipse">
            <a:avLst/>
          </a:prstGeom>
          <a:solidFill>
            <a:srgbClr val="0000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345840" y="52261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5960" y="42228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300440" y="4737240"/>
            <a:ext cx="57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697040" y="4956120"/>
            <a:ext cx="5664240" cy="15526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78280" y="5689440"/>
            <a:ext cx="0" cy="47628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30960" y="6238800"/>
            <a:ext cx="5356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e</a:t>
            </a:r>
            <a:r>
              <a:rPr b="0" lang="en-US" sz="2000" spc="-1" strike="noStrike" baseline="-46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639320" y="5234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22840" y="5595840"/>
            <a:ext cx="103320" cy="10332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3510000" y="6361200"/>
            <a:ext cx="1281240" cy="397440"/>
            <a:chOff x="3510000" y="6361200"/>
            <a:chExt cx="1281240" cy="397440"/>
          </a:xfrm>
        </p:grpSpPr>
        <p:sp>
          <p:nvSpPr>
            <p:cNvPr id="517" name=""/>
            <p:cNvSpPr/>
            <p:nvPr/>
          </p:nvSpPr>
          <p:spPr>
            <a:xfrm>
              <a:off x="3510000" y="6745320"/>
              <a:ext cx="128124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14640" y="63612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2840760" y="5700600"/>
            <a:ext cx="581400" cy="461160"/>
            <a:chOff x="2840760" y="5700600"/>
            <a:chExt cx="581400" cy="461160"/>
          </a:xfrm>
        </p:grpSpPr>
        <p:sp>
          <p:nvSpPr>
            <p:cNvPr id="520" name=""/>
            <p:cNvSpPr/>
            <p:nvPr/>
          </p:nvSpPr>
          <p:spPr>
            <a:xfrm>
              <a:off x="2840760" y="5764320"/>
              <a:ext cx="581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17840" y="5700600"/>
              <a:ext cx="0" cy="330480"/>
            </a:xfrm>
            <a:prstGeom prst="line">
              <a:avLst/>
            </a:prstGeom>
            <a:ln w="12600">
              <a:solidFill>
                <a:srgbClr val="6633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439440" y="5664240"/>
            <a:ext cx="326880" cy="401760"/>
            <a:chOff x="3439440" y="5664240"/>
            <a:chExt cx="326880" cy="401760"/>
          </a:xfrm>
        </p:grpSpPr>
        <p:sp>
          <p:nvSpPr>
            <p:cNvPr id="523" name=""/>
            <p:cNvSpPr/>
            <p:nvPr/>
          </p:nvSpPr>
          <p:spPr>
            <a:xfrm>
              <a:off x="3441600" y="5962680"/>
              <a:ext cx="103320" cy="10332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39440" y="56642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2362320" y="1457280"/>
            <a:ext cx="2514600" cy="866880"/>
            <a:chOff x="2362320" y="1457280"/>
            <a:chExt cx="2514600" cy="866880"/>
          </a:xfrm>
        </p:grpSpPr>
        <p:sp>
          <p:nvSpPr>
            <p:cNvPr id="526" name=""/>
            <p:cNvSpPr/>
            <p:nvPr/>
          </p:nvSpPr>
          <p:spPr>
            <a:xfrm>
              <a:off x="2362320" y="1457280"/>
              <a:ext cx="2514600" cy="86688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377440" y="1541520"/>
              <a:ext cx="2423880" cy="702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Multiplier = </a:t>
              </a:r>
              <a:r>
                <a:rPr b="0" lang="en-US" sz="2000" spc="-1" strike="noStrike">
                  <a:solidFill>
                    <a:srgbClr val="6633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Y / </a:t>
              </a:r>
              <a:r>
                <a:rPr b="0" lang="en-US" sz="2000" spc="-1" strike="noStrike">
                  <a:solidFill>
                    <a:srgbClr val="6633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= c</a:t>
              </a:r>
              <a:r>
                <a:rPr b="0" i="1" lang="en-US" sz="2000" spc="-1" strike="noStrike">
                  <a:solidFill>
                    <a:srgbClr val="6633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a / a</a:t>
              </a:r>
              <a:r>
                <a:rPr b="0" i="1" lang="en-US" sz="2000" spc="-1" strike="noStrike">
                  <a:solidFill>
                    <a:srgbClr val="6633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multiplier: (b) a shift in withdrawals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The Multiplier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multiplier: introduc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circular flow of income and effects of changes in injectio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finition of the multiplier:  Δ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/Δ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withdrawals and injections approac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graphical analysis: shift in the J lin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formula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:   1/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mpw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:   1/(1–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mpc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graphical analysis: shift in the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lin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income and expenditure approac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The Multiplier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multiplier: introduc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circular flow of income and effects of changes in injectio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finition of the multiplier:  Δ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/Δ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withdrawals and injections approac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graphical analysis: shift in the J lin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formula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:   1/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mpw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:   1/(1–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mpc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graphical analysis: shift in the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lin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income and expenditure approac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graphical analysis: shift in the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lin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873000" y="1302840"/>
            <a:ext cx="5438880" cy="48006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890640" y="2018880"/>
            <a:ext cx="5732280" cy="3349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e multiplier: (c) a shift in the expenditure curve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3560" y="441360"/>
            <a:ext cx="1085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, 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284880" y="106524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29400" y="179856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078720" y="3979800"/>
            <a:ext cx="535680" cy="2703960"/>
            <a:chOff x="3078720" y="3979800"/>
            <a:chExt cx="535680" cy="2703960"/>
          </a:xfrm>
        </p:grpSpPr>
        <p:sp>
          <p:nvSpPr>
            <p:cNvPr id="545" name=""/>
            <p:cNvSpPr/>
            <p:nvPr/>
          </p:nvSpPr>
          <p:spPr>
            <a:xfrm flipH="1">
              <a:off x="3290400" y="3979800"/>
              <a:ext cx="1800" cy="2141640"/>
            </a:xfrm>
            <a:prstGeom prst="line">
              <a:avLst/>
            </a:prstGeom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078720" y="6140520"/>
              <a:ext cx="53568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00cc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cc"/>
                  </a:solidFill>
                  <a:latin typeface="Arial"/>
                </a:rPr>
                <a:t>e</a:t>
              </a:r>
              <a:r>
                <a:rPr b="0" lang="en-US" sz="2000" spc="-1" strike="noStrike" baseline="-46000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3252960" y="3905280"/>
            <a:ext cx="102960" cy="1033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873000" y="1302840"/>
            <a:ext cx="5438880" cy="48006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890640" y="2018880"/>
            <a:ext cx="5732280" cy="3349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290400" y="3979800"/>
            <a:ext cx="1800" cy="21416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52960" y="3905280"/>
            <a:ext cx="102960" cy="1033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84880" y="106524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29400" y="179856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078720" y="6140520"/>
            <a:ext cx="5356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r>
              <a:rPr b="0" lang="en-US" sz="2000" spc="-1" strike="noStrike" baseline="-46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915840" y="1493640"/>
            <a:ext cx="5767560" cy="3369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35880" y="121932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80008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80008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938840" y="2549520"/>
            <a:ext cx="0" cy="359100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59840" y="6165720"/>
            <a:ext cx="5356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800080"/>
                </a:solidFill>
                <a:latin typeface="Arial"/>
              </a:rPr>
              <a:t>e</a:t>
            </a:r>
            <a:r>
              <a:rPr b="0" lang="en-US" sz="2000" spc="-1" strike="noStrike" baseline="-46000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3560" y="441360"/>
            <a:ext cx="1085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, 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89520" y="2463840"/>
            <a:ext cx="103320" cy="10332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e multiplier: (c) a shift in the expenditure curve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873000" y="1302840"/>
            <a:ext cx="5438880" cy="48006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890640" y="2018880"/>
            <a:ext cx="5732280" cy="3349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90760" y="3448080"/>
            <a:ext cx="0" cy="267336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938840" y="2549520"/>
            <a:ext cx="0" cy="359100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890640" y="3960720"/>
            <a:ext cx="241776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52960" y="3905280"/>
            <a:ext cx="102960" cy="1033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284880" y="106524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29400" y="179856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078720" y="6140520"/>
            <a:ext cx="5356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r>
              <a:rPr b="0" lang="en-US" sz="2000" spc="-1" strike="noStrike" baseline="-46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915840" y="1493640"/>
            <a:ext cx="5767560" cy="3369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635880" y="121932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80008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80008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59840" y="6165720"/>
            <a:ext cx="5356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800080"/>
                </a:solidFill>
                <a:latin typeface="Arial"/>
              </a:rPr>
              <a:t>e</a:t>
            </a:r>
            <a:r>
              <a:rPr b="0" lang="en-US" sz="2000" spc="-1" strike="noStrike" baseline="-46000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1303200" y="1127160"/>
            <a:ext cx="2694240" cy="866880"/>
            <a:chOff x="1303200" y="1127160"/>
            <a:chExt cx="2694240" cy="866880"/>
          </a:xfrm>
        </p:grpSpPr>
        <p:sp>
          <p:nvSpPr>
            <p:cNvPr id="585" name=""/>
            <p:cNvSpPr/>
            <p:nvPr/>
          </p:nvSpPr>
          <p:spPr>
            <a:xfrm>
              <a:off x="1303200" y="1127160"/>
              <a:ext cx="2694240" cy="86688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347120" y="1211400"/>
              <a:ext cx="2500200" cy="702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Arial"/>
                </a:rPr>
                <a:t>Multiplier = </a:t>
              </a:r>
              <a:r>
                <a:rPr b="1" lang="en-US" sz="2000" spc="-1" strike="noStrike">
                  <a:solidFill>
                    <a:srgbClr val="663300"/>
                  </a:solidFill>
                  <a:latin typeface="Symbol"/>
                  <a:ea typeface="Symbol"/>
                </a:rPr>
                <a:t></a:t>
              </a: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Y / </a:t>
              </a:r>
              <a:r>
                <a:rPr b="1" lang="en-US" sz="2000" spc="-1" strike="noStrike">
                  <a:solidFill>
                    <a:srgbClr val="663300"/>
                  </a:solidFill>
                  <a:latin typeface="Symbol"/>
                  <a:ea typeface="Symbol"/>
                </a:rPr>
                <a:t></a:t>
              </a:r>
              <a:r>
                <a:rPr b="1" lang="en-US" sz="1000" spc="-1" strike="noStrike">
                  <a:solidFill>
                    <a:srgbClr val="663300"/>
                  </a:solidFill>
                  <a:latin typeface="Symbol"/>
                  <a:ea typeface="Symbol"/>
                </a:rPr>
                <a:t></a:t>
              </a: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= c</a:t>
              </a:r>
              <a:r>
                <a:rPr b="1" i="1" lang="en-US" sz="2000" spc="-1" strike="noStrike">
                  <a:solidFill>
                    <a:srgbClr val="663300"/>
                  </a:solidFill>
                  <a:latin typeface="Symbol"/>
                  <a:ea typeface="Symbol"/>
                </a:rPr>
                <a:t></a:t>
              </a: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a / b</a:t>
              </a:r>
              <a:r>
                <a:rPr b="1" i="1" lang="en-US" sz="2000" spc="-1" strike="noStrike">
                  <a:solidFill>
                    <a:srgbClr val="663300"/>
                  </a:solidFill>
                  <a:latin typeface="Symbol"/>
                  <a:ea typeface="Symbol"/>
                </a:rPr>
                <a:t></a:t>
              </a: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488160" y="37591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532440" y="2293920"/>
            <a:ext cx="4423320" cy="397440"/>
            <a:chOff x="532440" y="2293920"/>
            <a:chExt cx="4423320" cy="397440"/>
          </a:xfrm>
        </p:grpSpPr>
        <p:sp>
          <p:nvSpPr>
            <p:cNvPr id="589" name=""/>
            <p:cNvSpPr/>
            <p:nvPr/>
          </p:nvSpPr>
          <p:spPr>
            <a:xfrm flipH="1">
              <a:off x="890280" y="2513160"/>
              <a:ext cx="4065480" cy="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2440" y="22939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163440" y="2494080"/>
            <a:ext cx="509760" cy="1430280"/>
            <a:chOff x="163440" y="2494080"/>
            <a:chExt cx="509760" cy="1430280"/>
          </a:xfrm>
        </p:grpSpPr>
        <p:sp>
          <p:nvSpPr>
            <p:cNvPr id="592" name=""/>
            <p:cNvSpPr/>
            <p:nvPr/>
          </p:nvSpPr>
          <p:spPr>
            <a:xfrm>
              <a:off x="174600" y="2494080"/>
              <a:ext cx="0" cy="143028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63440" y="291456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Symbol"/>
                  <a:ea typeface="Symbol"/>
                </a:rPr>
                <a:t></a:t>
              </a: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363960" y="3503520"/>
            <a:ext cx="532800" cy="420840"/>
            <a:chOff x="363960" y="3503520"/>
            <a:chExt cx="532800" cy="420840"/>
          </a:xfrm>
        </p:grpSpPr>
        <p:sp>
          <p:nvSpPr>
            <p:cNvPr id="595" name=""/>
            <p:cNvSpPr/>
            <p:nvPr/>
          </p:nvSpPr>
          <p:spPr>
            <a:xfrm>
              <a:off x="380880" y="3503520"/>
              <a:ext cx="0" cy="4208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3960" y="3505320"/>
              <a:ext cx="532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</a:t>
              </a:r>
              <a:r>
                <a:rPr b="0" lang="en-US" sz="10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43560" y="441360"/>
            <a:ext cx="1085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, 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889520" y="2463840"/>
            <a:ext cx="103320" cy="10332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510480" y="3246480"/>
            <a:ext cx="2797560" cy="397440"/>
            <a:chOff x="510480" y="3246480"/>
            <a:chExt cx="2797560" cy="397440"/>
          </a:xfrm>
        </p:grpSpPr>
        <p:sp>
          <p:nvSpPr>
            <p:cNvPr id="600" name=""/>
            <p:cNvSpPr/>
            <p:nvPr/>
          </p:nvSpPr>
          <p:spPr>
            <a:xfrm flipH="1">
              <a:off x="872640" y="3465360"/>
              <a:ext cx="2435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10480" y="32464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3247920" y="3422520"/>
            <a:ext cx="103320" cy="10332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e multiplier: (c) a shift in the expenditure curve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'Full-employment' national incom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'Gap' analysi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deflationary gap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4a48"/>
                </a:solidFill>
                <a:latin typeface="Arial Narrow"/>
              </a:rPr>
              <a:t>Keynesian Analysis of Unemployment and Inflation</a:t>
            </a:r>
            <a:endParaRPr b="1" lang="en-US" sz="34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46600" y="2428200"/>
            <a:ext cx="3358440" cy="366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06" y="79"/>
                </a:moveTo>
                <a:arcTo wR="10800" hR="10800" stAng="-4983242" swAng="9887195"/>
                <a:lnTo>
                  <a:pt x="10800" y="10800"/>
                </a:lnTo>
                <a:close/>
              </a:path>
              <a:path fill="none" w="21600" h="21600">
                <a:moveTo>
                  <a:pt x="12106" y="79"/>
                </a:moveTo>
                <a:arcTo wR="10800" hR="10800" stAng="-4983242" swAng="9887195"/>
              </a:path>
            </a:pathLst>
          </a:custGeom>
          <a:noFill/>
          <a:ln cap="rnd" w="38160">
            <a:solidFill>
              <a:srgbClr val="0000cc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9080" y="3941640"/>
            <a:ext cx="503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200320" y="853920"/>
            <a:ext cx="2890800" cy="1812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871720" y="5481720"/>
            <a:ext cx="1903320" cy="137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95400"/>
            <a:ext cx="91346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A simplified circular flow of  incom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327080" y="43830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65960" y="42228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90640" y="5665680"/>
            <a:ext cx="646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457760" y="54450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1074240" y="4602240"/>
            <a:ext cx="6262920" cy="17398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490920" y="5664240"/>
            <a:ext cx="0" cy="47628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285000" y="621360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454560" y="5608800"/>
            <a:ext cx="102960" cy="10296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e deflationary gap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327080" y="43830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65960" y="42228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90640" y="5665680"/>
            <a:ext cx="646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457760" y="54450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1074240" y="4602240"/>
            <a:ext cx="6262920" cy="17398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490920" y="5664240"/>
            <a:ext cx="0" cy="47628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285000" y="621360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54560" y="5608800"/>
            <a:ext cx="102960" cy="10296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737240" y="1833480"/>
            <a:ext cx="0" cy="42973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33120" y="6213600"/>
            <a:ext cx="444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2495880" y="4052880"/>
            <a:ext cx="2222280" cy="1445760"/>
            <a:chOff x="2495880" y="4052880"/>
            <a:chExt cx="2222280" cy="1445760"/>
          </a:xfrm>
        </p:grpSpPr>
        <p:sp>
          <p:nvSpPr>
            <p:cNvPr id="636" name=""/>
            <p:cNvSpPr/>
            <p:nvPr/>
          </p:nvSpPr>
          <p:spPr>
            <a:xfrm flipH="1" flipV="1">
              <a:off x="3619440" y="4400280"/>
              <a:ext cx="1098720" cy="1098360"/>
            </a:xfrm>
            <a:prstGeom prst="line">
              <a:avLst/>
            </a:prstGeom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495880" y="4052880"/>
              <a:ext cx="203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Deflationary g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4675320" y="4913280"/>
            <a:ext cx="327960" cy="444600"/>
            <a:chOff x="4675320" y="4913280"/>
            <a:chExt cx="327960" cy="444600"/>
          </a:xfrm>
        </p:grpSpPr>
        <p:sp>
          <p:nvSpPr>
            <p:cNvPr id="639" name=""/>
            <p:cNvSpPr/>
            <p:nvPr/>
          </p:nvSpPr>
          <p:spPr>
            <a:xfrm>
              <a:off x="4690080" y="49132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675320" y="5254560"/>
              <a:ext cx="102960" cy="103320"/>
            </a:xfrm>
            <a:prstGeom prst="ellipse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4683240" y="5608800"/>
            <a:ext cx="327600" cy="397440"/>
            <a:chOff x="4683240" y="5608800"/>
            <a:chExt cx="327600" cy="397440"/>
          </a:xfrm>
        </p:grpSpPr>
        <p:sp>
          <p:nvSpPr>
            <p:cNvPr id="642" name=""/>
            <p:cNvSpPr/>
            <p:nvPr/>
          </p:nvSpPr>
          <p:spPr>
            <a:xfrm>
              <a:off x="4683960" y="560880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683240" y="5626080"/>
              <a:ext cx="102960" cy="103320"/>
            </a:xfrm>
            <a:prstGeom prst="ellipse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4737240" y="5299200"/>
            <a:ext cx="0" cy="38088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e deflationary gap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6280" y="422280"/>
            <a:ext cx="1085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, 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490920" y="3776760"/>
            <a:ext cx="0" cy="236376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285000" y="621360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737240" y="1816200"/>
            <a:ext cx="0" cy="43052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533120" y="6213600"/>
            <a:ext cx="444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873000" y="1302840"/>
            <a:ext cx="5438880" cy="48006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890640" y="1964880"/>
            <a:ext cx="5732280" cy="3349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284880" y="106524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622920" y="17985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441600" y="3746520"/>
            <a:ext cx="103320" cy="1033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e deflationary gap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490920" y="3776760"/>
            <a:ext cx="0" cy="236376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285000" y="621360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737240" y="1816200"/>
            <a:ext cx="0" cy="43052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533120" y="6213600"/>
            <a:ext cx="444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873000" y="1302840"/>
            <a:ext cx="5438880" cy="48006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890640" y="1964880"/>
            <a:ext cx="5732280" cy="3349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284880" y="106524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622920" y="17985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41600" y="3746520"/>
            <a:ext cx="103320" cy="1033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4681440" y="2227320"/>
            <a:ext cx="335880" cy="480960"/>
            <a:chOff x="4681440" y="2227320"/>
            <a:chExt cx="335880" cy="480960"/>
          </a:xfrm>
        </p:grpSpPr>
        <p:sp>
          <p:nvSpPr>
            <p:cNvPr id="677" name=""/>
            <p:cNvSpPr/>
            <p:nvPr/>
          </p:nvSpPr>
          <p:spPr>
            <a:xfrm>
              <a:off x="4690440" y="22273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81440" y="2604960"/>
              <a:ext cx="103320" cy="103320"/>
            </a:xfrm>
            <a:prstGeom prst="ellipse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4686480" y="2995560"/>
            <a:ext cx="349920" cy="397440"/>
            <a:chOff x="4686480" y="2995560"/>
            <a:chExt cx="349920" cy="397440"/>
          </a:xfrm>
        </p:grpSpPr>
        <p:sp>
          <p:nvSpPr>
            <p:cNvPr id="680" name=""/>
            <p:cNvSpPr/>
            <p:nvPr/>
          </p:nvSpPr>
          <p:spPr>
            <a:xfrm>
              <a:off x="4709520" y="29955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86480" y="3014640"/>
              <a:ext cx="102960" cy="103320"/>
            </a:xfrm>
            <a:prstGeom prst="ellipse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743360" y="2684520"/>
            <a:ext cx="0" cy="34776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4791240" y="2860560"/>
            <a:ext cx="3171600" cy="1094400"/>
            <a:chOff x="4791240" y="2860560"/>
            <a:chExt cx="3171600" cy="1094400"/>
          </a:xfrm>
        </p:grpSpPr>
        <p:sp>
          <p:nvSpPr>
            <p:cNvPr id="684" name=""/>
            <p:cNvSpPr/>
            <p:nvPr/>
          </p:nvSpPr>
          <p:spPr>
            <a:xfrm>
              <a:off x="4791240" y="2860560"/>
              <a:ext cx="1062000" cy="770040"/>
            </a:xfrm>
            <a:prstGeom prst="line">
              <a:avLst/>
            </a:prstGeom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23080" y="3557520"/>
              <a:ext cx="203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Deflationary g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26280" y="422280"/>
            <a:ext cx="1085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, 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e deflationary gap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327080" y="43830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90640" y="5665680"/>
            <a:ext cx="646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457760" y="54450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1074240" y="4602240"/>
            <a:ext cx="6262920" cy="17398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490920" y="3776760"/>
            <a:ext cx="0" cy="236376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285000" y="621360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454560" y="5608800"/>
            <a:ext cx="102960" cy="10296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737240" y="1816200"/>
            <a:ext cx="0" cy="43052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533120" y="6213600"/>
            <a:ext cx="444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690080" y="49132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683960" y="56088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675320" y="5254560"/>
            <a:ext cx="102960" cy="10332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683240" y="5626080"/>
            <a:ext cx="102960" cy="10332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737240" y="5334120"/>
            <a:ext cx="0" cy="34740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873000" y="1302840"/>
            <a:ext cx="5438880" cy="48006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890640" y="1964880"/>
            <a:ext cx="5732280" cy="3349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284880" y="106524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622920" y="17985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41600" y="3746520"/>
            <a:ext cx="103320" cy="10332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690440" y="22273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709520" y="29955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681440" y="2604960"/>
            <a:ext cx="103320" cy="10332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686480" y="3014640"/>
            <a:ext cx="102960" cy="10332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743360" y="2684520"/>
            <a:ext cx="0" cy="34776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791240" y="2860560"/>
            <a:ext cx="1062000" cy="770040"/>
          </a:xfrm>
          <a:prstGeom prst="line">
            <a:avLst/>
          </a:prstGeom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791240" y="3832200"/>
            <a:ext cx="1062000" cy="1649520"/>
          </a:xfrm>
          <a:prstGeom prst="line">
            <a:avLst/>
          </a:prstGeom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923080" y="3557520"/>
            <a:ext cx="2039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Deflationary 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280" y="422280"/>
            <a:ext cx="1085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, 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e deflationary gap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'Full-employment' national incom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'Gap' analysi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deflationary gap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inflationary gap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4a48"/>
                </a:solidFill>
                <a:latin typeface="Arial Narrow"/>
              </a:rPr>
              <a:t>Keynesian Analysis of Unemployment and Inflation</a:t>
            </a:r>
            <a:endParaRPr b="1" lang="en-US" sz="34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327080" y="43830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65960" y="42228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90640" y="5079960"/>
            <a:ext cx="646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1074240" y="4602240"/>
            <a:ext cx="6262920" cy="17398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634000" y="5078520"/>
            <a:ext cx="0" cy="106200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426280" y="615960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578560" y="5022720"/>
            <a:ext cx="102960" cy="10332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438680" y="48960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inflationary gap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327080" y="43830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65960" y="42228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90640" y="5079960"/>
            <a:ext cx="646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1074240" y="4602240"/>
            <a:ext cx="6262920" cy="17398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634000" y="5078520"/>
            <a:ext cx="0" cy="106200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426280" y="615960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78560" y="5022720"/>
            <a:ext cx="102960" cy="10332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516560" y="1816200"/>
            <a:ext cx="0" cy="43052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277520" y="6176880"/>
            <a:ext cx="444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438680" y="48960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inflationary gap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327080" y="43830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65960" y="42228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90640" y="5079960"/>
            <a:ext cx="646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1074240" y="4602240"/>
            <a:ext cx="6262920" cy="17398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634000" y="5078520"/>
            <a:ext cx="0" cy="106200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426280" y="615960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578560" y="5022720"/>
            <a:ext cx="102960" cy="10332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16560" y="1816200"/>
            <a:ext cx="0" cy="43052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277520" y="6176880"/>
            <a:ext cx="444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1877400" y="3538440"/>
            <a:ext cx="2585160" cy="1704960"/>
            <a:chOff x="1877400" y="3538440"/>
            <a:chExt cx="2585160" cy="1704960"/>
          </a:xfrm>
        </p:grpSpPr>
        <p:sp>
          <p:nvSpPr>
            <p:cNvPr id="769" name=""/>
            <p:cNvSpPr/>
            <p:nvPr/>
          </p:nvSpPr>
          <p:spPr>
            <a:xfrm flipH="1" flipV="1">
              <a:off x="2851200" y="3887640"/>
              <a:ext cx="1611360" cy="1355760"/>
            </a:xfrm>
            <a:prstGeom prst="line">
              <a:avLst/>
            </a:prstGeom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877400" y="3538440"/>
              <a:ext cx="1925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Inflationary g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7438680" y="48960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4467240" y="4675320"/>
            <a:ext cx="375480" cy="438120"/>
            <a:chOff x="4467240" y="4675320"/>
            <a:chExt cx="375480" cy="438120"/>
          </a:xfrm>
        </p:grpSpPr>
        <p:sp>
          <p:nvSpPr>
            <p:cNvPr id="773" name=""/>
            <p:cNvSpPr/>
            <p:nvPr/>
          </p:nvSpPr>
          <p:spPr>
            <a:xfrm>
              <a:off x="4515840" y="46753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67240" y="5010120"/>
              <a:ext cx="103320" cy="103320"/>
            </a:xfrm>
            <a:prstGeom prst="ellipse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4473720" y="5315040"/>
            <a:ext cx="369000" cy="397440"/>
            <a:chOff x="4473720" y="5315040"/>
            <a:chExt cx="369000" cy="397440"/>
          </a:xfrm>
        </p:grpSpPr>
        <p:sp>
          <p:nvSpPr>
            <p:cNvPr id="776" name=""/>
            <p:cNvSpPr/>
            <p:nvPr/>
          </p:nvSpPr>
          <p:spPr>
            <a:xfrm>
              <a:off x="4515840" y="53150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473720" y="5346720"/>
              <a:ext cx="102960" cy="103320"/>
            </a:xfrm>
            <a:prstGeom prst="ellipse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4516560" y="5029200"/>
            <a:ext cx="0" cy="38088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inflationary gap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873000" y="1065240"/>
            <a:ext cx="5708880" cy="5038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890640" y="1343160"/>
            <a:ext cx="5732280" cy="3349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576840" y="7365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659640" y="11397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6280" y="422280"/>
            <a:ext cx="1085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, 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599080" y="1890720"/>
            <a:ext cx="0" cy="42498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356440" y="615960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559480" y="1873080"/>
            <a:ext cx="102960" cy="1033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inflationary gap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05080" y="2451960"/>
            <a:ext cx="2856600" cy="359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92" y="21599"/>
                </a:moveTo>
                <a:arcTo wR="10800" hR="10800" stAng="5434406" swAng="10452138"/>
                <a:lnTo>
                  <a:pt x="10800" y="10800"/>
                </a:lnTo>
                <a:close/>
              </a:path>
              <a:path fill="none" w="21600" h="21600">
                <a:moveTo>
                  <a:pt x="10692" y="21599"/>
                </a:moveTo>
                <a:arcTo wR="10800" hR="10800" stAng="5434406" swAng="10452138"/>
              </a:path>
            </a:pathLst>
          </a:custGeom>
          <a:noFill/>
          <a:ln cap="rnd" w="38160">
            <a:solidFill>
              <a:srgbClr val="0000cc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46600" y="2428200"/>
            <a:ext cx="3358440" cy="366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06" y="79"/>
                </a:moveTo>
                <a:arcTo wR="10800" hR="10800" stAng="-4983242" swAng="9887195"/>
                <a:lnTo>
                  <a:pt x="10800" y="10800"/>
                </a:lnTo>
                <a:close/>
              </a:path>
              <a:path fill="none" w="21600" h="21600">
                <a:moveTo>
                  <a:pt x="12106" y="79"/>
                </a:moveTo>
                <a:arcTo wR="10800" hR="10800" stAng="-4983242" swAng="9887195"/>
              </a:path>
            </a:pathLst>
          </a:custGeom>
          <a:noFill/>
          <a:ln cap="rnd" w="38160">
            <a:solidFill>
              <a:srgbClr val="0000cc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9080" y="3941640"/>
            <a:ext cx="503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200320" y="853920"/>
            <a:ext cx="2890800" cy="1812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871720" y="5481720"/>
            <a:ext cx="1903320" cy="1376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3959280"/>
            <a:ext cx="133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n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95400"/>
            <a:ext cx="91346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A simplified circular flow of  incom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873000" y="1065240"/>
            <a:ext cx="5708880" cy="5038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890640" y="1343160"/>
            <a:ext cx="5732280" cy="3349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516560" y="1816200"/>
            <a:ext cx="0" cy="43052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576840" y="7365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659640" y="11397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6280" y="422280"/>
            <a:ext cx="1085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, 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599080" y="1890720"/>
            <a:ext cx="0" cy="42498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56440" y="615960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559480" y="1873080"/>
            <a:ext cx="102960" cy="1033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inflationary gap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873000" y="1065240"/>
            <a:ext cx="5708880" cy="5038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890640" y="1343160"/>
            <a:ext cx="5732280" cy="3349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516560" y="1816200"/>
            <a:ext cx="0" cy="43052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277520" y="6176880"/>
            <a:ext cx="444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576840" y="7365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659640" y="11397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036080" y="2751120"/>
            <a:ext cx="3389760" cy="543600"/>
            <a:chOff x="1036080" y="2751120"/>
            <a:chExt cx="3389760" cy="543600"/>
          </a:xfrm>
        </p:grpSpPr>
        <p:sp>
          <p:nvSpPr>
            <p:cNvPr id="821" name=""/>
            <p:cNvSpPr/>
            <p:nvPr/>
          </p:nvSpPr>
          <p:spPr>
            <a:xfrm flipH="1">
              <a:off x="2906640" y="2751120"/>
              <a:ext cx="1519200" cy="347760"/>
            </a:xfrm>
            <a:prstGeom prst="line">
              <a:avLst/>
            </a:prstGeom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036080" y="2897280"/>
              <a:ext cx="1925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Inflationary g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26280" y="422280"/>
            <a:ext cx="1085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, 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4465800" y="2128680"/>
            <a:ext cx="342000" cy="478080"/>
            <a:chOff x="4465800" y="2128680"/>
            <a:chExt cx="342000" cy="478080"/>
          </a:xfrm>
        </p:grpSpPr>
        <p:sp>
          <p:nvSpPr>
            <p:cNvPr id="825" name=""/>
            <p:cNvSpPr/>
            <p:nvPr/>
          </p:nvSpPr>
          <p:spPr>
            <a:xfrm>
              <a:off x="4480920" y="21286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465800" y="2503440"/>
              <a:ext cx="102960" cy="103320"/>
            </a:xfrm>
            <a:prstGeom prst="ellipse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4470480" y="2787480"/>
            <a:ext cx="338760" cy="397440"/>
            <a:chOff x="4470480" y="2787480"/>
            <a:chExt cx="338760" cy="397440"/>
          </a:xfrm>
        </p:grpSpPr>
        <p:sp>
          <p:nvSpPr>
            <p:cNvPr id="828" name=""/>
            <p:cNvSpPr/>
            <p:nvPr/>
          </p:nvSpPr>
          <p:spPr>
            <a:xfrm>
              <a:off x="4554000" y="278748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470480" y="2859120"/>
              <a:ext cx="102960" cy="103320"/>
            </a:xfrm>
            <a:prstGeom prst="ellipse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"/>
          <p:cNvSpPr/>
          <p:nvPr/>
        </p:nvSpPr>
        <p:spPr>
          <a:xfrm>
            <a:off x="4514760" y="2513160"/>
            <a:ext cx="0" cy="38412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599080" y="1890720"/>
            <a:ext cx="0" cy="42498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356440" y="615960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559480" y="1873080"/>
            <a:ext cx="102960" cy="1033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inflationary gap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873000" y="1065240"/>
            <a:ext cx="5708880" cy="5038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890640" y="1343160"/>
            <a:ext cx="5732280" cy="3349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599080" y="1890720"/>
            <a:ext cx="0" cy="42498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356440" y="615960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559480" y="1873080"/>
            <a:ext cx="102960" cy="1033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516560" y="1816200"/>
            <a:ext cx="0" cy="43052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277520" y="6176880"/>
            <a:ext cx="444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576840" y="7365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659640" y="11397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2906640" y="2751120"/>
            <a:ext cx="1519200" cy="347760"/>
          </a:xfrm>
          <a:prstGeom prst="line">
            <a:avLst/>
          </a:prstGeom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036080" y="2897280"/>
            <a:ext cx="192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nflationary 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480920" y="21286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554000" y="278748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327080" y="43830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90640" y="5079960"/>
            <a:ext cx="646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438680" y="48960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1074240" y="4602240"/>
            <a:ext cx="6262920" cy="17398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543640" y="5022720"/>
            <a:ext cx="102960" cy="10332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515840" y="46753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515840" y="53150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4514760" y="2513160"/>
            <a:ext cx="1800" cy="2912760"/>
            <a:chOff x="4514760" y="2513160"/>
            <a:chExt cx="1800" cy="2912760"/>
          </a:xfrm>
        </p:grpSpPr>
        <p:sp>
          <p:nvSpPr>
            <p:cNvPr id="861" name=""/>
            <p:cNvSpPr/>
            <p:nvPr/>
          </p:nvSpPr>
          <p:spPr>
            <a:xfrm>
              <a:off x="4514760" y="2513160"/>
              <a:ext cx="0" cy="3841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516560" y="5059440"/>
              <a:ext cx="0" cy="3664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2924280" y="3191040"/>
            <a:ext cx="1501560" cy="1996920"/>
          </a:xfrm>
          <a:prstGeom prst="line">
            <a:avLst/>
          </a:prstGeom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6280" y="422280"/>
            <a:ext cx="1085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, 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465800" y="2503440"/>
            <a:ext cx="102960" cy="10332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470480" y="2859120"/>
            <a:ext cx="102960" cy="10332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467240" y="5010120"/>
            <a:ext cx="103320" cy="10332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473720" y="5346720"/>
            <a:ext cx="102960" cy="10332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inflationary gap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'Full-employment' national incom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'Gap' analysi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deflationary gap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inflationary gap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olicy implicatio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4a48"/>
                </a:solidFill>
                <a:latin typeface="Arial Narrow"/>
              </a:rPr>
              <a:t>Keynesian Analysis of Unemployment and Inflation</a:t>
            </a:r>
            <a:endParaRPr b="1" lang="en-US" sz="34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'Full-employment' national incom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'Gap' analysi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deflationary gap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inflationary gap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olicy implicatio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flation and unemployment togeth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4a48"/>
                </a:solidFill>
                <a:latin typeface="Arial Narrow"/>
              </a:rPr>
              <a:t>Keynesian Analysis of Unemployment and Inflation</a:t>
            </a:r>
            <a:endParaRPr b="1" lang="en-US" sz="34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'Full-employment' national incom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'Gap' analysi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deflationary gap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inflationary gap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olicy implicatio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flation and unemployment togeth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flationary pressures before the full-employment level of incom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4a48"/>
                </a:solidFill>
                <a:latin typeface="Arial Narrow"/>
              </a:rPr>
              <a:t>Keynesian Analysis of Unemployment and Inflation</a:t>
            </a:r>
            <a:endParaRPr b="1" lang="en-US" sz="34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'Full-employment' national incom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'Gap' analysi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deflationary gap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inflationary gap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olicy implicatio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flation and unemployment togeth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flationary pressures before the full-employment level of incom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mplications for shape of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AS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4a48"/>
                </a:solidFill>
                <a:latin typeface="Arial Narrow"/>
              </a:rPr>
              <a:t>Keynesian Analysis of Unemployment and Inflation</a:t>
            </a:r>
            <a:endParaRPr b="1" lang="en-US" sz="34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110280" y="1447920"/>
            <a:ext cx="0" cy="46926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73000" y="4583160"/>
            <a:ext cx="523728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rot="16200000">
            <a:off x="-369720" y="3428640"/>
            <a:ext cx="1360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888880" y="6176880"/>
            <a:ext cx="444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5985360" y="932040"/>
            <a:ext cx="689400" cy="3650760"/>
            <a:chOff x="5985360" y="932040"/>
            <a:chExt cx="689400" cy="3650760"/>
          </a:xfrm>
        </p:grpSpPr>
        <p:sp>
          <p:nvSpPr>
            <p:cNvPr id="888" name=""/>
            <p:cNvSpPr/>
            <p:nvPr/>
          </p:nvSpPr>
          <p:spPr>
            <a:xfrm flipV="1">
              <a:off x="6110280" y="1395000"/>
              <a:ext cx="0" cy="31878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985360" y="932040"/>
              <a:ext cx="689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cc"/>
                  </a:solidFill>
                  <a:latin typeface="Arial"/>
                </a:rPr>
                <a:t>AS</a:t>
              </a:r>
              <a:r>
                <a:rPr b="0" lang="en-US" sz="2400" spc="-1" strike="noStrike" baseline="-25000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Unemployment and inflation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73000" y="4583160"/>
            <a:ext cx="523728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6110280" y="1395000"/>
            <a:ext cx="0" cy="3187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985360" y="932040"/>
            <a:ext cx="689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A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rot="16200000">
            <a:off x="-369720" y="3428640"/>
            <a:ext cx="1360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110280" y="4602240"/>
            <a:ext cx="0" cy="153828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888880" y="6176880"/>
            <a:ext cx="444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-4163760" y="-2727360"/>
            <a:ext cx="10108800" cy="729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05" y="12230"/>
                </a:moveTo>
                <a:arcTo wR="10800" hR="10800" stAng="456454" swAng="4943546"/>
                <a:lnTo>
                  <a:pt x="10800" y="10800"/>
                </a:lnTo>
                <a:close/>
              </a:path>
              <a:path fill="none" w="21600" h="21600">
                <a:moveTo>
                  <a:pt x="21505" y="12230"/>
                </a:moveTo>
                <a:arcTo wR="10800" hR="10800" stAng="456454" swAng="4943546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340960" y="914400"/>
            <a:ext cx="689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AS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Unemployment and inflation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'Full-employment' national incom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'Gap' analysi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deflationary gap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inflationary gap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olicy implicatio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flation and unemployment togeth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flationary pressures before the full-employment level of incom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mplications for shape of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AS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 of an increase in aggregate demand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4a48"/>
                </a:solidFill>
                <a:latin typeface="Arial Narrow"/>
              </a:rPr>
              <a:t>Keynesian Analysis of Unemployment and Inflation</a:t>
            </a:r>
            <a:endParaRPr b="1" lang="en-US" sz="34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05080" y="2451960"/>
            <a:ext cx="2856600" cy="359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92" y="21599"/>
                </a:moveTo>
                <a:arcTo wR="10800" hR="10800" stAng="5434406" swAng="10452138"/>
                <a:lnTo>
                  <a:pt x="10800" y="10800"/>
                </a:lnTo>
                <a:close/>
              </a:path>
              <a:path fill="none" w="21600" h="21600">
                <a:moveTo>
                  <a:pt x="10692" y="21599"/>
                </a:moveTo>
                <a:arcTo wR="10800" hR="10800" stAng="5434406" swAng="10452138"/>
              </a:path>
            </a:pathLst>
          </a:custGeom>
          <a:noFill/>
          <a:ln cap="rnd" w="38160">
            <a:solidFill>
              <a:srgbClr val="0000cc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46600" y="2428200"/>
            <a:ext cx="3358440" cy="366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06" y="79"/>
                </a:moveTo>
                <a:arcTo wR="10800" hR="10800" stAng="-4983242" swAng="9887195"/>
                <a:lnTo>
                  <a:pt x="10800" y="10800"/>
                </a:lnTo>
                <a:close/>
              </a:path>
              <a:path fill="none" w="21600" h="21600">
                <a:moveTo>
                  <a:pt x="12106" y="79"/>
                </a:moveTo>
                <a:arcTo wR="10800" hR="10800" stAng="-4983242" swAng="9887195"/>
              </a:path>
            </a:pathLst>
          </a:custGeom>
          <a:noFill/>
          <a:ln cap="rnd" w="38160">
            <a:solidFill>
              <a:srgbClr val="0000cc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9080" y="3941640"/>
            <a:ext cx="503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83040" y="6249960"/>
            <a:ext cx="313236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92240" y="6324480"/>
            <a:ext cx="216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W = S + T +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00320" y="853920"/>
            <a:ext cx="2890800" cy="1812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871720" y="5481720"/>
            <a:ext cx="1903320" cy="137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3959280"/>
            <a:ext cx="133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n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95400"/>
            <a:ext cx="91346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A simplified circular flow of  incom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1076400" y="863640"/>
            <a:ext cx="7273800" cy="507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1068480" y="851040"/>
            <a:ext cx="1440" cy="5092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066680" y="5943600"/>
            <a:ext cx="7275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rot="16200000">
            <a:off x="-556920" y="3165120"/>
            <a:ext cx="1588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344040" y="6413400"/>
            <a:ext cx="223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575480" y="846000"/>
            <a:ext cx="0" cy="511200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350480" y="5994360"/>
            <a:ext cx="453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6633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78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The effects of increases in aggregate demand</a:t>
            </a:r>
            <a:br>
              <a:rPr sz="2600"/>
            </a:b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on national output</a:t>
            </a:r>
            <a:endParaRPr b="1" lang="en-US" sz="2600" spc="-1" strike="noStrike">
              <a:solidFill>
                <a:srgbClr val="004a48"/>
              </a:solidFill>
              <a:latin typeface="Arial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-2621880" y="-1004760"/>
            <a:ext cx="10204920" cy="5898960"/>
            <a:chOff x="-2621880" y="-1004760"/>
            <a:chExt cx="10204920" cy="5898960"/>
          </a:xfrm>
        </p:grpSpPr>
        <p:sp>
          <p:nvSpPr>
            <p:cNvPr id="919" name=""/>
            <p:cNvSpPr/>
            <p:nvPr/>
          </p:nvSpPr>
          <p:spPr>
            <a:xfrm flipH="1">
              <a:off x="1110960" y="4894200"/>
              <a:ext cx="988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-2621880" y="-1004760"/>
              <a:ext cx="10204920" cy="5898600"/>
              <a:chOff x="-2621880" y="-1004760"/>
              <a:chExt cx="10204920" cy="5898600"/>
            </a:xfrm>
          </p:grpSpPr>
          <p:sp>
            <p:nvSpPr>
              <p:cNvPr id="921" name=""/>
              <p:cNvSpPr/>
              <p:nvPr/>
            </p:nvSpPr>
            <p:spPr>
              <a:xfrm>
                <a:off x="-2621880" y="-1004760"/>
                <a:ext cx="9959040" cy="589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60293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602938"/>
                  </a:path>
                </a:pathLst>
              </a:custGeom>
              <a:noFill/>
              <a:ln cap="rnd"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975720" y="955800"/>
                <a:ext cx="60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400" spc="-1" strike="noStrike">
                    <a:solidFill>
                      <a:srgbClr val="cc0000"/>
                    </a:solidFill>
                    <a:latin typeface="Arial"/>
                  </a:rPr>
                  <a:t>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3" name=""/>
            <p:cNvSpPr/>
            <p:nvPr/>
          </p:nvSpPr>
          <p:spPr>
            <a:xfrm flipV="1">
              <a:off x="7335720" y="1412640"/>
              <a:ext cx="0" cy="5871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1076400" y="863640"/>
            <a:ext cx="7273800" cy="507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1068480" y="851040"/>
            <a:ext cx="1440" cy="5092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573440" y="4583160"/>
            <a:ext cx="0" cy="135576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066680" y="5943600"/>
            <a:ext cx="7275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276200" y="972360"/>
            <a:ext cx="4581720" cy="484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33" y="21594"/>
                </a:moveTo>
                <a:arcTo wR="10800" hR="10800" stAng="5516767" swAng="5021518"/>
                <a:lnTo>
                  <a:pt x="10800" y="10800"/>
                </a:lnTo>
                <a:close/>
              </a:path>
              <a:path fill="none" w="21600" h="21600">
                <a:moveTo>
                  <a:pt x="10433" y="21594"/>
                </a:moveTo>
                <a:arcTo wR="10800" hR="10800" stAng="5516767" swAng="5021518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535040" y="59911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rot="16200000">
            <a:off x="-556920" y="3165120"/>
            <a:ext cx="1588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344040" y="6413400"/>
            <a:ext cx="223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770120" y="4894200"/>
            <a:ext cx="0" cy="10270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1110960" y="4894200"/>
            <a:ext cx="9889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716120" y="484668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630520" y="4913280"/>
            <a:ext cx="0" cy="102564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419200" y="597996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800080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-2621880" y="-1004760"/>
            <a:ext cx="10204920" cy="5898600"/>
            <a:chOff x="-2621880" y="-1004760"/>
            <a:chExt cx="10204920" cy="5898600"/>
          </a:xfrm>
        </p:grpSpPr>
        <p:sp>
          <p:nvSpPr>
            <p:cNvPr id="941" name=""/>
            <p:cNvSpPr/>
            <p:nvPr/>
          </p:nvSpPr>
          <p:spPr>
            <a:xfrm>
              <a:off x="-2621880" y="-1004760"/>
              <a:ext cx="9959040" cy="589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602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602938"/>
                </a:path>
              </a:pathLst>
            </a:custGeom>
            <a:noFill/>
            <a:ln cap="rnd"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975720" y="955800"/>
              <a:ext cx="60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Arial"/>
                </a:rPr>
                <a:t>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4367160" y="598644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0066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516720" y="59911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ff99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575480" y="846000"/>
            <a:ext cx="0" cy="511200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350480" y="5994360"/>
            <a:ext cx="453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6633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2489400" y="-2966760"/>
            <a:ext cx="9918000" cy="8652240"/>
            <a:chOff x="2489400" y="-2966760"/>
            <a:chExt cx="9918000" cy="8652240"/>
          </a:xfrm>
        </p:grpSpPr>
        <p:sp>
          <p:nvSpPr>
            <p:cNvPr id="948" name=""/>
            <p:cNvSpPr/>
            <p:nvPr/>
          </p:nvSpPr>
          <p:spPr>
            <a:xfrm>
              <a:off x="2489400" y="-2966760"/>
              <a:ext cx="9918000" cy="832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611" y="21534"/>
                  </a:moveTo>
                  <a:arcTo wR="10800" hR="10800" stAng="5779327" swAng="4759412"/>
                  <a:lnTo>
                    <a:pt x="10800" y="10800"/>
                  </a:lnTo>
                  <a:close/>
                </a:path>
                <a:path fill="none" w="21600" h="21600">
                  <a:moveTo>
                    <a:pt x="9611" y="21534"/>
                  </a:moveTo>
                  <a:arcTo wR="10800" hR="10800" stAng="5779327" swAng="4759412"/>
                </a:path>
              </a:pathLst>
            </a:custGeom>
            <a:noFill/>
            <a:ln cap="rnd"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70600" y="5176800"/>
              <a:ext cx="9111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6600"/>
                  </a:solidFill>
                  <a:latin typeface="Arial"/>
                </a:rPr>
                <a:t>AD</a:t>
              </a:r>
              <a:r>
                <a:rPr b="1" lang="en-US" sz="2400" spc="-1" strike="noStrike" baseline="-25000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1580760" y="-438480"/>
            <a:ext cx="5912280" cy="6301800"/>
            <a:chOff x="1580760" y="-438480"/>
            <a:chExt cx="5912280" cy="6301800"/>
          </a:xfrm>
        </p:grpSpPr>
        <p:sp>
          <p:nvSpPr>
            <p:cNvPr id="951" name=""/>
            <p:cNvSpPr/>
            <p:nvPr/>
          </p:nvSpPr>
          <p:spPr>
            <a:xfrm>
              <a:off x="1580760" y="-438480"/>
              <a:ext cx="5912280" cy="604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40" y="21587"/>
                  </a:moveTo>
                  <a:arcTo wR="10800" hR="10800" stAng="5228169" swAng="53099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40" y="21587"/>
                  </a:moveTo>
                  <a:arcTo wR="10800" hR="10800" stAng="5228169" swAng="5309968"/>
                </a:path>
              </a:pathLst>
            </a:custGeom>
            <a:noFill/>
            <a:ln cap="rnd"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721400" y="5354640"/>
              <a:ext cx="9093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800080"/>
                  </a:solidFill>
                  <a:latin typeface="Arial"/>
                </a:rPr>
                <a:t>AD</a:t>
              </a:r>
              <a:r>
                <a:rPr b="1" lang="en-US" sz="24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" name=""/>
          <p:cNvSpPr/>
          <p:nvPr/>
        </p:nvSpPr>
        <p:spPr>
          <a:xfrm>
            <a:off x="3525840" y="5479920"/>
            <a:ext cx="876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AD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4841640" y="-2560680"/>
            <a:ext cx="6190920" cy="6749280"/>
            <a:chOff x="4841640" y="-2560680"/>
            <a:chExt cx="6190920" cy="6749280"/>
          </a:xfrm>
        </p:grpSpPr>
        <p:sp>
          <p:nvSpPr>
            <p:cNvPr id="955" name=""/>
            <p:cNvSpPr/>
            <p:nvPr/>
          </p:nvSpPr>
          <p:spPr>
            <a:xfrm>
              <a:off x="4841640" y="-2560680"/>
              <a:ext cx="6190920" cy="619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37" y="21587"/>
                  </a:moveTo>
                  <a:arcTo wR="10800" hR="10800" stAng="5228916" swAng="517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37" y="21587"/>
                  </a:moveTo>
                  <a:arcTo wR="10800" hR="10800" stAng="5228916" swAng="5171110"/>
                </a:path>
              </a:pathLst>
            </a:custGeom>
            <a:noFill/>
            <a:ln cap="rnd"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594560" y="3679920"/>
              <a:ext cx="7700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cc9900"/>
                  </a:solidFill>
                  <a:latin typeface="Arial"/>
                </a:rPr>
                <a:t>AD</a:t>
              </a:r>
              <a:r>
                <a:rPr b="1" lang="en-US" sz="2400" spc="-1" strike="noStrike" baseline="-25000">
                  <a:solidFill>
                    <a:srgbClr val="cc99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7" name=""/>
          <p:cNvSpPr/>
          <p:nvPr/>
        </p:nvSpPr>
        <p:spPr>
          <a:xfrm flipV="1">
            <a:off x="7335720" y="1412640"/>
            <a:ext cx="0" cy="5871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697800" y="3411360"/>
            <a:ext cx="0" cy="2546640"/>
          </a:xfrm>
          <a:prstGeom prst="line">
            <a:avLst/>
          </a:prstGeom>
          <a:ln w="1908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642000" y="3324240"/>
            <a:ext cx="127080" cy="127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565360" y="4834080"/>
            <a:ext cx="127080" cy="12672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494240" y="4508640"/>
            <a:ext cx="127080" cy="12672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78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The effects of increases in aggregate demand</a:t>
            </a:r>
            <a:br>
              <a:rPr sz="2600"/>
            </a:b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on national output</a:t>
            </a:r>
            <a:endParaRPr b="1" lang="en-US" sz="26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Phillips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shape of the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4a48"/>
                </a:solidFill>
                <a:latin typeface="Arial Narrow"/>
              </a:rPr>
              <a:t>Keynesian Analysis of Unemployment and Inflation</a:t>
            </a:r>
            <a:endParaRPr b="1" lang="en-US" sz="34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835200" y="779400"/>
            <a:ext cx="7453080" cy="522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6" name=""/>
          <p:cNvGraphicFramePr/>
          <p:nvPr/>
        </p:nvGraphicFramePr>
        <p:xfrm>
          <a:off x="438120" y="460440"/>
          <a:ext cx="7962840" cy="62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8120" y="460440"/>
                    <a:ext cx="7962840" cy="62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086760" cy="48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a48"/>
                </a:solidFill>
                <a:latin typeface="Arial"/>
              </a:rPr>
              <a:t>The original Phillips curve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193120" y="-6300720"/>
            <a:ext cx="13901760" cy="12604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145" y="21472"/>
                </a:moveTo>
                <a:arcTo wR="10800" hR="10800" stAng="5928869" swAng="4444069"/>
                <a:lnTo>
                  <a:pt x="10800" y="10800"/>
                </a:lnTo>
                <a:close/>
              </a:path>
              <a:path fill="none" w="21600" h="21600">
                <a:moveTo>
                  <a:pt x="9145" y="21472"/>
                </a:moveTo>
                <a:arcTo wR="10800" hR="10800" stAng="5928869" swAng="4444069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400560" y="6470640"/>
            <a:ext cx="2357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mployment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rot="16200000">
            <a:off x="-931320" y="3151080"/>
            <a:ext cx="2263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ge inflation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Phillips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shape of the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position of the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4a48"/>
                </a:solidFill>
                <a:latin typeface="Arial Narrow"/>
              </a:rPr>
              <a:t>Keynesian Analysis of Unemployment and Inflation</a:t>
            </a:r>
            <a:endParaRPr b="1" lang="en-US" sz="34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835200" y="779400"/>
            <a:ext cx="7453080" cy="522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7" name=""/>
          <p:cNvGraphicFramePr/>
          <p:nvPr/>
        </p:nvGraphicFramePr>
        <p:xfrm>
          <a:off x="438120" y="460440"/>
          <a:ext cx="7962840" cy="62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8120" y="460440"/>
                    <a:ext cx="7962840" cy="62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086760" cy="48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a48"/>
                </a:solidFill>
                <a:latin typeface="Arial"/>
              </a:rPr>
              <a:t>The original Phillips curve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2193120" y="-6300720"/>
            <a:ext cx="13901760" cy="12604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145" y="21472"/>
                </a:moveTo>
                <a:arcTo wR="10800" hR="10800" stAng="5928869" swAng="4444069"/>
                <a:lnTo>
                  <a:pt x="10800" y="10800"/>
                </a:lnTo>
                <a:close/>
              </a:path>
              <a:path fill="none" w="21600" h="21600">
                <a:moveTo>
                  <a:pt x="9145" y="21472"/>
                </a:moveTo>
                <a:arcTo wR="10800" hR="10800" stAng="5928869" swAng="4444069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400560" y="6470640"/>
            <a:ext cx="2357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mployment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rot="16200000">
            <a:off x="-931320" y="3151080"/>
            <a:ext cx="2263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ge inflation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Phillips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shape of the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position of the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olicy implications of the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4a48"/>
                </a:solidFill>
                <a:latin typeface="Arial Narrow"/>
              </a:rPr>
              <a:t>Keynesian Analysis of Unemployment and Inflation</a:t>
            </a:r>
            <a:endParaRPr b="1" lang="en-US" sz="34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Phillips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shape of the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position of the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olicy implications of the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breakdown of the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4a48"/>
                </a:solidFill>
                <a:latin typeface="Arial Narrow"/>
              </a:rPr>
              <a:t>Keynesian Analysis of Unemployment and Inflation</a:t>
            </a:r>
            <a:endParaRPr b="1" lang="en-US" sz="34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Phillips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shape of the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position of the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olicy implications of the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breakdown of the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cent relationship between inflation and unemploymen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4a48"/>
                </a:solidFill>
                <a:latin typeface="Arial Narrow"/>
              </a:rPr>
              <a:t>Keynesian Analysis of Unemployment and Inflation</a:t>
            </a:r>
            <a:endParaRPr b="1" lang="en-US" sz="34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687240" y="476280"/>
            <a:ext cx="7939080" cy="553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80" y="0"/>
            <a:ext cx="1341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lation (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189200" y="6411960"/>
            <a:ext cx="2016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employment (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602520" y="0"/>
            <a:ext cx="558900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breakdown of the Phillips cur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084040" y="52927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098440" y="55306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882440" y="49816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552320" y="48340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641240" y="505476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733400" y="52912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750680" y="567684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311120" y="525636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3" name=""/>
          <p:cNvGraphicFramePr/>
          <p:nvPr/>
        </p:nvGraphicFramePr>
        <p:xfrm>
          <a:off x="176040" y="166680"/>
          <a:ext cx="8737920" cy="641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040" y="166680"/>
                    <a:ext cx="8737920" cy="64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05080" y="2451960"/>
            <a:ext cx="2856600" cy="359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92" y="21599"/>
                </a:moveTo>
                <a:arcTo wR="10800" hR="10800" stAng="5434406" swAng="10452138"/>
                <a:lnTo>
                  <a:pt x="10800" y="10800"/>
                </a:lnTo>
                <a:close/>
              </a:path>
              <a:path fill="none" w="21600" h="21600">
                <a:moveTo>
                  <a:pt x="10692" y="21599"/>
                </a:moveTo>
                <a:arcTo wR="10800" hR="10800" stAng="5434406" swAng="10452138"/>
              </a:path>
            </a:pathLst>
          </a:custGeom>
          <a:noFill/>
          <a:ln cap="rnd" w="38160">
            <a:solidFill>
              <a:srgbClr val="0000cc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46600" y="2428200"/>
            <a:ext cx="3358440" cy="366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06" y="79"/>
                </a:moveTo>
                <a:arcTo wR="10800" hR="10800" stAng="-4983242" swAng="9887195"/>
                <a:lnTo>
                  <a:pt x="10800" y="10800"/>
                </a:lnTo>
                <a:close/>
              </a:path>
              <a:path fill="none" w="21600" h="21600">
                <a:moveTo>
                  <a:pt x="12106" y="79"/>
                </a:moveTo>
                <a:arcTo wR="10800" hR="10800" stAng="-4983242" swAng="9887195"/>
              </a:path>
            </a:pathLst>
          </a:custGeom>
          <a:noFill/>
          <a:ln cap="rnd" w="38160">
            <a:solidFill>
              <a:srgbClr val="0000cc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9080" y="3941640"/>
            <a:ext cx="503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83040" y="6249960"/>
            <a:ext cx="313236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92240" y="6324480"/>
            <a:ext cx="216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W = S + T +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2260440"/>
            <a:ext cx="3132000" cy="0"/>
          </a:xfrm>
          <a:prstGeom prst="line">
            <a:avLst/>
          </a:prstGeom>
          <a:ln w="38160">
            <a:solidFill>
              <a:srgbClr val="0066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64960" y="1765440"/>
            <a:ext cx="1910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J = I + G +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200320" y="853920"/>
            <a:ext cx="2890800" cy="1812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871720" y="5481720"/>
            <a:ext cx="1903320" cy="1376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3959280"/>
            <a:ext cx="133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n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95400"/>
            <a:ext cx="91346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A simplified circular flow of  incom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687240" y="476280"/>
            <a:ext cx="7939080" cy="553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221840" y="1112040"/>
            <a:ext cx="6741360" cy="551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123" y="19988"/>
                </a:moveTo>
                <a:arcTo wR="10800" hR="10800" stAng="7302592" swAng="3096564"/>
                <a:lnTo>
                  <a:pt x="10800" y="10800"/>
                </a:lnTo>
                <a:close/>
              </a:path>
              <a:path fill="none" w="21600" h="21600">
                <a:moveTo>
                  <a:pt x="5123" y="19988"/>
                </a:moveTo>
                <a:arcTo wR="10800" hR="10800" stAng="7302592" swAng="3096564"/>
              </a:path>
            </a:pathLst>
          </a:custGeom>
          <a:noFill/>
          <a:ln cap="rnd" w="38160">
            <a:solidFill>
              <a:srgbClr val="ff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680" y="0"/>
            <a:ext cx="1341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lation (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189200" y="6411960"/>
            <a:ext cx="2016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employment (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602520" y="0"/>
            <a:ext cx="558900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breakdown of the Phillips cur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084040" y="52927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098440" y="55306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882440" y="49816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552320" y="48340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641240" y="505476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733400" y="52912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750680" y="567684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11120" y="525636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8" name=""/>
          <p:cNvGraphicFramePr/>
          <p:nvPr/>
        </p:nvGraphicFramePr>
        <p:xfrm>
          <a:off x="176040" y="166680"/>
          <a:ext cx="8737920" cy="641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040" y="166680"/>
                    <a:ext cx="8737920" cy="64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0" name=""/>
          <p:cNvGrpSpPr/>
          <p:nvPr/>
        </p:nvGrpSpPr>
        <p:grpSpPr>
          <a:xfrm>
            <a:off x="2381400" y="4565520"/>
            <a:ext cx="3797280" cy="1325520"/>
            <a:chOff x="2381400" y="4565520"/>
            <a:chExt cx="3797280" cy="1325520"/>
          </a:xfrm>
        </p:grpSpPr>
        <p:sp>
          <p:nvSpPr>
            <p:cNvPr id="1021" name=""/>
            <p:cNvSpPr/>
            <p:nvPr/>
          </p:nvSpPr>
          <p:spPr>
            <a:xfrm flipH="1">
              <a:off x="2381400" y="5062680"/>
              <a:ext cx="917280" cy="8283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170160" y="4565520"/>
              <a:ext cx="3008520" cy="6098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3300"/>
                  </a:solidFill>
                  <a:latin typeface="Comic Sans MS"/>
                </a:rPr>
                <a:t>Original Phillips curv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l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>
            <a:off x="687240" y="476280"/>
            <a:ext cx="7939080" cy="553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2209680" y="1816200"/>
            <a:ext cx="330480" cy="3792600"/>
          </a:xfrm>
          <a:prstGeom prst="line">
            <a:avLst/>
          </a:prstGeom>
          <a:ln w="28440">
            <a:solidFill>
              <a:srgbClr val="00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074680" y="246060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7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516040" y="3836880"/>
            <a:ext cx="37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082960" y="3913200"/>
            <a:ext cx="369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281320" y="4492800"/>
            <a:ext cx="369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727360" y="4268880"/>
            <a:ext cx="369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680" y="0"/>
            <a:ext cx="1341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lation (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189200" y="6411960"/>
            <a:ext cx="2016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employment (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602520" y="0"/>
            <a:ext cx="558900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breakdown of the Phillips cur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176200" y="474336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157120" y="494496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084040" y="52927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098440" y="55306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882440" y="49816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552320" y="48340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641240" y="505476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733400" y="52912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750680" y="567684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311120" y="525636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3" name=""/>
          <p:cNvGraphicFramePr/>
          <p:nvPr/>
        </p:nvGraphicFramePr>
        <p:xfrm>
          <a:off x="176040" y="166680"/>
          <a:ext cx="8737920" cy="641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040" y="166680"/>
                    <a:ext cx="8737920" cy="64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l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687240" y="476280"/>
            <a:ext cx="7939080" cy="553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170520" y="-5948280"/>
            <a:ext cx="11374920" cy="1189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9" y="19222"/>
                </a:moveTo>
                <a:arcTo wR="10800" hR="10800" stAng="7725367" swAng="2861697"/>
                <a:lnTo>
                  <a:pt x="10800" y="10800"/>
                </a:lnTo>
                <a:close/>
              </a:path>
              <a:path fill="none" w="21600" h="21600">
                <a:moveTo>
                  <a:pt x="4039" y="19222"/>
                </a:moveTo>
                <a:arcTo wR="10800" hR="10800" stAng="7725367" swAng="2861697"/>
              </a:path>
            </a:pathLst>
          </a:custGeom>
          <a:noFill/>
          <a:ln cap="rnd" w="28440">
            <a:solidFill>
              <a:srgbClr val="80008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879640" y="63180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Arial Narrow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074680" y="246060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7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081320" y="218916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Arial Narrow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327200" y="25369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Arial Narrow"/>
              </a:rPr>
              <a:t>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717720" y="29941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Arial Narrow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516040" y="3836880"/>
            <a:ext cx="37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082960" y="3913200"/>
            <a:ext cx="369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281320" y="4492800"/>
            <a:ext cx="369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727360" y="4268880"/>
            <a:ext cx="369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327200" y="41371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Arial Narrow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680" y="0"/>
            <a:ext cx="1341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lation (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189200" y="6411960"/>
            <a:ext cx="2016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employment (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602520" y="0"/>
            <a:ext cx="558900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breakdown of the Phillips cur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176200" y="474336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157120" y="494496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084040" y="52927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098440" y="55306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882440" y="49816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552320" y="48340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641240" y="505476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733400" y="52912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750680" y="567684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311120" y="525636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176040" y="166680"/>
          <a:ext cx="8737920" cy="641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040" y="166680"/>
                    <a:ext cx="8737920" cy="64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l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687240" y="476280"/>
            <a:ext cx="7939080" cy="553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3" name=""/>
          <p:cNvGraphicFramePr/>
          <p:nvPr/>
        </p:nvGraphicFramePr>
        <p:xfrm>
          <a:off x="176040" y="166680"/>
          <a:ext cx="8737920" cy="641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040" y="166680"/>
                    <a:ext cx="8737920" cy="64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5" name=""/>
          <p:cNvSpPr/>
          <p:nvPr/>
        </p:nvSpPr>
        <p:spPr>
          <a:xfrm>
            <a:off x="2879640" y="63180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Arial Narrow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074680" y="246060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7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597200" y="200340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081320" y="218916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Arial Narrow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327200" y="25369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Arial Narrow"/>
              </a:rPr>
              <a:t>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717720" y="29941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Arial Narrow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516040" y="3836880"/>
            <a:ext cx="37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082960" y="3913200"/>
            <a:ext cx="369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281320" y="4492800"/>
            <a:ext cx="369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727360" y="4268880"/>
            <a:ext cx="369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327200" y="41371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Arial Narrow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603920" y="406080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8273880" y="48988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832520" y="474660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527600" y="45943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690960" y="330840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680" y="0"/>
            <a:ext cx="1341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lation (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189200" y="6411960"/>
            <a:ext cx="2016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employment (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602520" y="0"/>
            <a:ext cx="558900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breakdown of the Phillips cur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176200" y="474336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157120" y="494496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084040" y="52927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098440" y="55306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882440" y="49816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552320" y="48340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641240" y="505476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733400" y="52912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750680" y="567684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311120" y="525636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485960" y="-4752360"/>
            <a:ext cx="9303120" cy="950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2" y="21529"/>
                </a:moveTo>
                <a:arcTo wR="10800" hR="10800" stAng="5794789" swAng="4007982"/>
                <a:lnTo>
                  <a:pt x="10800" y="10800"/>
                </a:lnTo>
                <a:close/>
              </a:path>
              <a:path fill="none" w="21600" h="21600">
                <a:moveTo>
                  <a:pt x="9562" y="21529"/>
                </a:moveTo>
                <a:arcTo wR="10800" hR="10800" stAng="5794789" swAng="4007982"/>
              </a:path>
            </a:pathLst>
          </a:custGeom>
          <a:noFill/>
          <a:ln cap="rnd" w="28440">
            <a:solidFill>
              <a:srgbClr val="cc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687240" y="476280"/>
            <a:ext cx="7939080" cy="553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736800" y="-2049120"/>
            <a:ext cx="9658800" cy="776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93441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934410"/>
              </a:path>
            </a:pathLst>
          </a:custGeom>
          <a:noFill/>
          <a:ln cap="rnd" w="28440">
            <a:solidFill>
              <a:srgbClr val="0000cc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879640" y="63180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Arial Narrow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074680" y="246060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7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597200" y="200340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081320" y="218916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Arial Narrow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327200" y="25369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Arial Narrow"/>
              </a:rPr>
              <a:t>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717720" y="29941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Arial Narrow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516040" y="3836880"/>
            <a:ext cx="37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082960" y="3913200"/>
            <a:ext cx="369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281320" y="4492800"/>
            <a:ext cx="369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727360" y="4268880"/>
            <a:ext cx="369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327200" y="41371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Arial Narrow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12920" y="376560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 Narrow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71680" y="412740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 Narrow"/>
              </a:rPr>
              <a:t>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080040" y="45943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 Narrow"/>
              </a:rPr>
              <a:t>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927400" y="48229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 Narrow"/>
              </a:rPr>
              <a:t>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003720" y="51274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 Narrow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603920" y="406080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8273880" y="48988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832520" y="474660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527600" y="45943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527600" y="51274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 Narrow"/>
              </a:rPr>
              <a:t>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7070400" y="55087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 Narrow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994440" y="497520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 Narrow"/>
              </a:rPr>
              <a:t>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818040" y="51451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 Narrow"/>
              </a:rPr>
              <a:t>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537240" y="52801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 Narrow"/>
              </a:rPr>
              <a:t>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690960" y="330840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680" y="0"/>
            <a:ext cx="1341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lation (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189200" y="6411960"/>
            <a:ext cx="2016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employment (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602520" y="0"/>
            <a:ext cx="558900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breakdown of the Phillips cur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176200" y="474336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157120" y="494496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084040" y="52927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098440" y="55306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882440" y="49816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552320" y="48340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641240" y="505476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733400" y="52912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750680" y="567684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311120" y="525636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6" name=""/>
          <p:cNvGraphicFramePr/>
          <p:nvPr/>
        </p:nvGraphicFramePr>
        <p:xfrm>
          <a:off x="176040" y="166680"/>
          <a:ext cx="8737920" cy="641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040" y="166680"/>
                    <a:ext cx="8737920" cy="64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l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/>
          <p:nvPr/>
        </p:nvSpPr>
        <p:spPr>
          <a:xfrm>
            <a:off x="687240" y="476280"/>
            <a:ext cx="7939080" cy="553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9" name=""/>
          <p:cNvGraphicFramePr/>
          <p:nvPr/>
        </p:nvGraphicFramePr>
        <p:xfrm>
          <a:off x="176040" y="168120"/>
          <a:ext cx="8737920" cy="641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040" y="168120"/>
                    <a:ext cx="8737920" cy="64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1" name=""/>
          <p:cNvSpPr/>
          <p:nvPr/>
        </p:nvSpPr>
        <p:spPr>
          <a:xfrm>
            <a:off x="2879640" y="63180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Arial Narrow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074680" y="246060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7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597200" y="200340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081320" y="218916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Arial Narrow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327200" y="25369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Arial Narrow"/>
              </a:rPr>
              <a:t>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717720" y="29941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Arial Narrow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516040" y="3836880"/>
            <a:ext cx="37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082960" y="3913200"/>
            <a:ext cx="369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81320" y="4492800"/>
            <a:ext cx="369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727360" y="4268880"/>
            <a:ext cx="369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327200" y="41371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Arial Narrow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912920" y="376560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 Narrow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071680" y="412740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 Narrow"/>
              </a:rPr>
              <a:t>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937040" y="515160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 Narrow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698800" y="53560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 Narrow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080040" y="45943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 Narrow"/>
              </a:rPr>
              <a:t>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927400" y="48229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 Narrow"/>
              </a:rPr>
              <a:t>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003720" y="51274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 Narrow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603920" y="406080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8273880" y="48988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832520" y="474660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527600" y="45943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527600" y="51274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 Narrow"/>
              </a:rPr>
              <a:t>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070400" y="55087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 Narrow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994440" y="497520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 Narrow"/>
              </a:rPr>
              <a:t>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818040" y="51451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 Narrow"/>
              </a:rPr>
              <a:t>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537240" y="52801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 Narrow"/>
              </a:rPr>
              <a:t>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690960" y="330840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680" y="0"/>
            <a:ext cx="1341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lation (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189200" y="6411960"/>
            <a:ext cx="2016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employment (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602520" y="0"/>
            <a:ext cx="558900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breakdown of the Phillips cur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176200" y="474336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157120" y="494496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 Narrow"/>
              </a:rPr>
              <a:t>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084040" y="52927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098440" y="55306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882440" y="49816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552320" y="48340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641240" y="505476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733400" y="529128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750680" y="567684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311120" y="525636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 Narrow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389120" y="550080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 Narrow"/>
              </a:rPr>
              <a:t>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433760" y="49957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 Narrow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 flipV="1">
            <a:off x="2272680" y="4817520"/>
            <a:ext cx="8327160" cy="76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82" y="28"/>
                </a:moveTo>
                <a:arcTo wR="10800" hR="10800" stAng="-5150859" swAng="2984167"/>
                <a:lnTo>
                  <a:pt x="10800" y="10800"/>
                </a:lnTo>
                <a:close/>
              </a:path>
              <a:path fill="none" w="21600" h="21600">
                <a:moveTo>
                  <a:pt x="11582" y="28"/>
                </a:moveTo>
                <a:arcTo wR="10800" hR="10800" stAng="-5150859" swAng="2984167"/>
              </a:path>
            </a:pathLst>
          </a:custGeom>
          <a:noFill/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976560" y="50785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 Narrow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379680" y="559440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 Narrow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732120" y="51847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 Narrow"/>
              </a:rPr>
              <a:t>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821040" y="5533920"/>
            <a:ext cx="34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 Narrow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4a48"/>
                </a:solidFill>
                <a:latin typeface="Arial"/>
              </a:rPr>
              <a:t>Keynesian Analysis of the Business Cycle</a:t>
            </a:r>
            <a:endParaRPr b="1" lang="en-US" sz="3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58800" y="1223640"/>
            <a:ext cx="8485200" cy="534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3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accelerato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hanges in national income and induced investmen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accelerator effec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0" y="216000"/>
            <a:ext cx="9142560" cy="53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he accelerator effect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  <p:pic>
        <p:nvPicPr>
          <p:cNvPr id="1202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260280" y="1211400"/>
            <a:ext cx="8577360" cy="1614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0" y="216000"/>
            <a:ext cx="9142560" cy="53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he accelerator effect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  <p:pic>
        <p:nvPicPr>
          <p:cNvPr id="1204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260280" y="1211400"/>
            <a:ext cx="8577360" cy="2360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0" y="216000"/>
            <a:ext cx="9142560" cy="53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he accelerator effect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  <p:pic>
        <p:nvPicPr>
          <p:cNvPr id="1206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260280" y="1211400"/>
            <a:ext cx="8577360" cy="3093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fect on national income of a change in injections and/or withdrawa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J &gt; W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:  national income ri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 &gt; J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:  national income fall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Keynesian diagram: the withdrawals and injections approac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withdrawals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Equilibrium Level of National Income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0" y="216000"/>
            <a:ext cx="9142560" cy="53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he accelerator effect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  <p:pic>
        <p:nvPicPr>
          <p:cNvPr id="1208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260280" y="1211400"/>
            <a:ext cx="8577360" cy="3763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0" y="216000"/>
            <a:ext cx="9142560" cy="53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he accelerator effect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  <p:pic>
        <p:nvPicPr>
          <p:cNvPr id="1210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260280" y="1211400"/>
            <a:ext cx="8577360" cy="4522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658800" y="1223640"/>
            <a:ext cx="8485200" cy="534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3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accelerato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hanges in national income and induced investmen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accelerator effec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instability of investmen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4a48"/>
                </a:solidFill>
                <a:latin typeface="Arial"/>
              </a:rPr>
              <a:t>Keynesian Analysis of the Business Cycle</a:t>
            </a:r>
            <a:endParaRPr b="1" lang="en-US" sz="34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593640" y="758880"/>
            <a:ext cx="8321760" cy="5473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4" name=""/>
          <p:cNvGraphicFramePr/>
          <p:nvPr/>
        </p:nvGraphicFramePr>
        <p:xfrm>
          <a:off x="63360" y="442800"/>
          <a:ext cx="9015480" cy="635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60" y="442800"/>
                    <a:ext cx="9015480" cy="635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6" name=""/>
          <p:cNvSpPr/>
          <p:nvPr/>
        </p:nvSpPr>
        <p:spPr>
          <a:xfrm>
            <a:off x="154080" y="3049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0" y="507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(a) EU-15 Growth in GDP and business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93640" y="3490920"/>
            <a:ext cx="8258400" cy="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076720" y="301932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DP growth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593640" y="758880"/>
            <a:ext cx="8321760" cy="5473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1" name=""/>
          <p:cNvGraphicFramePr/>
          <p:nvPr/>
        </p:nvGraphicFramePr>
        <p:xfrm>
          <a:off x="63360" y="442800"/>
          <a:ext cx="9015480" cy="635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60" y="442800"/>
                    <a:ext cx="9015480" cy="635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3" name=""/>
          <p:cNvSpPr/>
          <p:nvPr/>
        </p:nvSpPr>
        <p:spPr>
          <a:xfrm>
            <a:off x="154080" y="3049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0" y="507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(a) EU-15 Growth in GDP and business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93640" y="3490920"/>
            <a:ext cx="8258400" cy="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076720" y="301932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DP growth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826080" y="946080"/>
            <a:ext cx="272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Business inves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(% chan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8" name=""/>
          <p:cNvGraphicFramePr/>
          <p:nvPr/>
        </p:nvGraphicFramePr>
        <p:xfrm>
          <a:off x="7920" y="176040"/>
          <a:ext cx="9136080" cy="602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0" y="176040"/>
                    <a:ext cx="913608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0" name=""/>
          <p:cNvSpPr/>
          <p:nvPr/>
        </p:nvSpPr>
        <p:spPr>
          <a:xfrm>
            <a:off x="544680" y="2351160"/>
            <a:ext cx="84452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/>
          </p:nvPr>
        </p:nvSpPr>
        <p:spPr>
          <a:xfrm>
            <a:off x="658800" y="1223640"/>
            <a:ext cx="8485200" cy="534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3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accelerato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hanges in national income and induced investmen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accelerator effec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instability of investmen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multiplier/accelerator interac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4a48"/>
                </a:solidFill>
                <a:latin typeface="Arial"/>
              </a:rPr>
              <a:t>Keynesian Analysis of the Business Cycle</a:t>
            </a:r>
            <a:endParaRPr b="1" lang="en-US" sz="34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/>
          </p:nvPr>
        </p:nvSpPr>
        <p:spPr>
          <a:xfrm>
            <a:off x="658800" y="1223640"/>
            <a:ext cx="8485200" cy="534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3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accelerato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hanges in national income and induced investmen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accelerator effec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instability of investmen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multiplier/accelerator interac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luctuations in stock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4a48"/>
                </a:solidFill>
                <a:latin typeface="Arial"/>
              </a:rPr>
              <a:t>Keynesian Analysis of the Business Cycle</a:t>
            </a:r>
            <a:endParaRPr b="1" lang="en-US" sz="34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terminants of the course of the business cyc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why do booms and recessions persist?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ime lag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'bandwagon' effect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why do booms and recessions end?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ceilings and floor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cho effect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he accelerato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andom shock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changes in government policy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4a48"/>
                </a:solidFill>
                <a:latin typeface="Arial"/>
              </a:rPr>
              <a:t>Keynesian Analysis of the Business Cycle</a:t>
            </a:r>
            <a:endParaRPr b="1" lang="en-US" sz="34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The Role of Fiscal Policy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purpose of fiscal polic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9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orrecting a fundamental disequilibrium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9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fine tuning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icits and surplu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9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entral government deficits and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9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ublic-sector deficits and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9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PSNCR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9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national deb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66880" y="80964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66880" y="80964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66880" y="614376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5040" y="609768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82960" y="623088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-7830000" y="2887560"/>
            <a:ext cx="15647760" cy="5753880"/>
            <a:chOff x="-7830000" y="2887560"/>
            <a:chExt cx="15647760" cy="5753880"/>
          </a:xfrm>
        </p:grpSpPr>
        <p:sp>
          <p:nvSpPr>
            <p:cNvPr id="133" name=""/>
            <p:cNvSpPr/>
            <p:nvPr/>
          </p:nvSpPr>
          <p:spPr>
            <a:xfrm>
              <a:off x="7327080" y="3795840"/>
              <a:ext cx="473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0700000">
              <a:off x="-7872480" y="4893840"/>
              <a:ext cx="15733080" cy="17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24" y="13971"/>
                  </a:moveTo>
                  <a:arcTo wR="10800" hR="10800" stAng="1024608" swAng="397433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24" y="13971"/>
                  </a:moveTo>
                  <a:arcTo wR="10800" hR="10800" stAng="1024608" swAng="3974332"/>
                </a:path>
              </a:pathLst>
            </a:custGeom>
            <a:noFill/>
            <a:ln cap="rnd"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12320" y="366840"/>
            <a:ext cx="11908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eriving equilibrium national income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9" name="" descr=""/>
          <p:cNvPicPr/>
          <p:nvPr/>
        </p:nvPicPr>
        <p:blipFill>
          <a:blip r:embed="rId2"/>
          <a:stretch/>
        </p:blipFill>
        <p:spPr>
          <a:xfrm>
            <a:off x="0" y="1954080"/>
            <a:ext cx="9144000" cy="3140280"/>
          </a:xfrm>
          <a:prstGeom prst="rect">
            <a:avLst/>
          </a:prstGeom>
          <a:ln w="0">
            <a:noFill/>
          </a:ln>
        </p:spPr>
      </p:pic>
      <p:sp>
        <p:nvSpPr>
          <p:cNvPr id="1240" name=""/>
          <p:cNvSpPr/>
          <p:nvPr/>
        </p:nvSpPr>
        <p:spPr>
          <a:xfrm>
            <a:off x="0" y="560520"/>
            <a:ext cx="91440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Arial"/>
              </a:rPr>
              <a:t>UK public-sector borrow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186000" y="6548400"/>
            <a:ext cx="595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www.statistics.gov.uk (National Statistics): Series RURQ and YB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692440" y="2111400"/>
            <a:ext cx="645012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" descr=""/>
          <p:cNvPicPr/>
          <p:nvPr/>
        </p:nvPicPr>
        <p:blipFill>
          <a:blip r:embed="rId2"/>
          <a:stretch/>
        </p:blipFill>
        <p:spPr>
          <a:xfrm>
            <a:off x="0" y="1954080"/>
            <a:ext cx="9144000" cy="314028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0" y="560520"/>
            <a:ext cx="91440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Arial"/>
              </a:rPr>
              <a:t>UK public-sector borrow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186000" y="6548400"/>
            <a:ext cx="595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www.statistics.gov.uk (National Statistics): Series RURQ and YB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651200" y="2098800"/>
            <a:ext cx="4491360" cy="28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7" name="" descr=""/>
          <p:cNvPicPr/>
          <p:nvPr/>
        </p:nvPicPr>
        <p:blipFill>
          <a:blip r:embed="rId2"/>
          <a:stretch/>
        </p:blipFill>
        <p:spPr>
          <a:xfrm>
            <a:off x="0" y="1954080"/>
            <a:ext cx="9144000" cy="3140280"/>
          </a:xfrm>
          <a:prstGeom prst="rect">
            <a:avLst/>
          </a:prstGeom>
          <a:ln w="0">
            <a:noFill/>
          </a:ln>
        </p:spPr>
      </p:pic>
      <p:sp>
        <p:nvSpPr>
          <p:cNvPr id="1248" name=""/>
          <p:cNvSpPr/>
          <p:nvPr/>
        </p:nvSpPr>
        <p:spPr>
          <a:xfrm>
            <a:off x="0" y="560520"/>
            <a:ext cx="91440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Arial"/>
              </a:rPr>
              <a:t>UK public-sector borrow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186000" y="6548400"/>
            <a:ext cx="595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www.statistics.gov.uk (National Statistics): Series RURQ and YB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899480" y="2085840"/>
            <a:ext cx="1243080" cy="289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" descr=""/>
          <p:cNvPicPr/>
          <p:nvPr/>
        </p:nvPicPr>
        <p:blipFill>
          <a:blip r:embed="rId2"/>
          <a:stretch/>
        </p:blipFill>
        <p:spPr>
          <a:xfrm>
            <a:off x="0" y="1954080"/>
            <a:ext cx="9144000" cy="3140280"/>
          </a:xfrm>
          <a:prstGeom prst="rect">
            <a:avLst/>
          </a:prstGeom>
          <a:ln w="0">
            <a:noFill/>
          </a:ln>
        </p:spPr>
      </p:pic>
      <p:sp>
        <p:nvSpPr>
          <p:cNvPr id="1252" name=""/>
          <p:cNvSpPr/>
          <p:nvPr/>
        </p:nvSpPr>
        <p:spPr>
          <a:xfrm>
            <a:off x="0" y="560520"/>
            <a:ext cx="91440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Arial"/>
              </a:rPr>
              <a:t>UK public-sector borrow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186000" y="6548400"/>
            <a:ext cx="595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www.statistics.gov.uk (National Statistics): Series RURQ and YB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" descr=""/>
          <p:cNvPicPr/>
          <p:nvPr/>
        </p:nvPicPr>
        <p:blipFill>
          <a:blip r:embed="rId2"/>
          <a:stretch/>
        </p:blipFill>
        <p:spPr>
          <a:xfrm>
            <a:off x="542880" y="973080"/>
            <a:ext cx="8029800" cy="5645160"/>
          </a:xfrm>
          <a:prstGeom prst="rect">
            <a:avLst/>
          </a:prstGeom>
          <a:ln w="0">
            <a:noFill/>
          </a:ln>
        </p:spPr>
      </p:pic>
      <p:sp>
        <p:nvSpPr>
          <p:cNvPr id="1255" name="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General government deficits/surplu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and debt as % of GD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778360" y="2401920"/>
            <a:ext cx="2719440" cy="414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7" name="" descr=""/>
          <p:cNvPicPr/>
          <p:nvPr/>
        </p:nvPicPr>
        <p:blipFill>
          <a:blip r:embed="rId2"/>
          <a:stretch/>
        </p:blipFill>
        <p:spPr>
          <a:xfrm>
            <a:off x="542880" y="973080"/>
            <a:ext cx="8029800" cy="5645160"/>
          </a:xfrm>
          <a:prstGeom prst="rect">
            <a:avLst/>
          </a:prstGeom>
          <a:ln w="0">
            <a:noFill/>
          </a:ln>
        </p:spPr>
      </p:pic>
      <p:sp>
        <p:nvSpPr>
          <p:cNvPr id="1258" name="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General government deficits/surplu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and debt as % of GD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The Role of Fiscal Policy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58800" y="1277640"/>
            <a:ext cx="8485200" cy="52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6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use of fiscal polic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1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utomatic fiscal stabiliser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1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iscretionary fiscal polic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Effectiveness of Fiscal Policy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actors determining the effectiveness of fiscal polic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8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ccuracy of forecasting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8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 on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J 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nd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8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 of changes in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on national incom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8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iming of the 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8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 on the various macro objectiv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Effectiveness of Fiscal Policy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retionary polic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oblems of forecasting the magnitude of the 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ffects of changes in government expenditure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crowding out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ffects of changes in tax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ize of the multiplier and accelerator effect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andom shock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oblems of timing and time lag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various time lag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policy may be destabilising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a48"/>
                </a:solidFill>
                <a:latin typeface="Arial"/>
              </a:rPr>
              <a:t>Fiscal policy: stabilising or destabilising?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rot="16200000">
            <a:off x="-1126440" y="2616120"/>
            <a:ext cx="2795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 national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098960" y="6180120"/>
            <a:ext cx="8053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885240" y="2496960"/>
            <a:ext cx="1665360" cy="25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8" y="13957"/>
                </a:moveTo>
                <a:arcTo wR="10800" hR="10800" stAng="1019867" swAng="7166117"/>
                <a:lnTo>
                  <a:pt x="10800" y="10800"/>
                </a:lnTo>
                <a:close/>
              </a:path>
              <a:path fill="none" w="21600" h="21600">
                <a:moveTo>
                  <a:pt x="21128" y="13957"/>
                </a:moveTo>
                <a:arcTo wR="10800" hR="10800" stAng="1019867" swAng="7166117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452320" y="3201840"/>
            <a:ext cx="2124000" cy="286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" y="7636"/>
                </a:moveTo>
                <a:arcTo wR="10800" hR="10800" stAng="-9777819" swAng="7158542"/>
                <a:lnTo>
                  <a:pt x="10800" y="10800"/>
                </a:lnTo>
                <a:close/>
              </a:path>
              <a:path fill="none" w="21600" h="21600">
                <a:moveTo>
                  <a:pt x="474" y="7636"/>
                </a:moveTo>
                <a:arcTo wR="10800" hR="10800" stAng="-9777819" swAng="715854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049640" y="1455840"/>
            <a:ext cx="1699200" cy="26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7" y="13961"/>
                </a:moveTo>
                <a:arcTo wR="10800" hR="10800" stAng="1021246" swAng="7167892"/>
                <a:lnTo>
                  <a:pt x="10800" y="10800"/>
                </a:lnTo>
                <a:close/>
              </a:path>
              <a:path fill="none" w="21600" h="21600">
                <a:moveTo>
                  <a:pt x="21127" y="13961"/>
                </a:moveTo>
                <a:arcTo wR="10800" hR="10800" stAng="1021246" swAng="716789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633280" y="2378160"/>
            <a:ext cx="2204280" cy="227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68" y="7343"/>
                </a:moveTo>
                <a:arcTo wR="10800" hR="10800" stAng="-9679993" swAng="7057834"/>
                <a:lnTo>
                  <a:pt x="10800" y="10800"/>
                </a:lnTo>
                <a:close/>
              </a:path>
              <a:path fill="none" w="21600" h="21600">
                <a:moveTo>
                  <a:pt x="568" y="7343"/>
                </a:moveTo>
                <a:arcTo wR="10800" hR="10800" stAng="-9679993" swAng="7057834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rot="21360000">
            <a:off x="7209720" y="335520"/>
            <a:ext cx="1757160" cy="280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97" y="21373"/>
                </a:moveTo>
                <a:arcTo wR="10800" hR="10800" stAng="6106133" swAng="2226474"/>
                <a:lnTo>
                  <a:pt x="10800" y="10800"/>
                </a:lnTo>
                <a:close/>
              </a:path>
              <a:path fill="none" w="21600" h="21600">
                <a:moveTo>
                  <a:pt x="8597" y="21373"/>
                </a:moveTo>
                <a:arcTo wR="10800" hR="10800" stAng="6106133" swAng="2226474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672560" y="50752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558160" y="41241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301200" y="28368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63200" y="32907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818960" y="41576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757120" y="31226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550920" y="19479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612920" y="25560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1501920" y="870120"/>
            <a:ext cx="4365360" cy="519120"/>
            <a:chOff x="1501920" y="870120"/>
            <a:chExt cx="4365360" cy="519120"/>
          </a:xfrm>
        </p:grpSpPr>
        <p:sp>
          <p:nvSpPr>
            <p:cNvPr id="1288" name=""/>
            <p:cNvSpPr/>
            <p:nvPr/>
          </p:nvSpPr>
          <p:spPr>
            <a:xfrm>
              <a:off x="1501920" y="870120"/>
              <a:ext cx="4365360" cy="51912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V="1">
              <a:off x="1679400" y="1138320"/>
              <a:ext cx="804960" cy="144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570040" y="938160"/>
              <a:ext cx="290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Path (a): no interven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23:04:00Z</dcterms:created>
  <dc:creator>John Sloman</dc:creator>
  <dc:description/>
  <dc:language>en-US</dc:language>
  <cp:lastModifiedBy>John Sloman</cp:lastModifiedBy>
  <dcterms:modified xsi:type="dcterms:W3CDTF">2003-10-20T19:47:35Z</dcterms:modified>
  <cp:revision>38</cp:revision>
  <dc:subject/>
  <dc:title>No Slide Title</dc:title>
</cp:coreProperties>
</file>