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7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6C8C-BA8D-420F-802D-51C5B6C358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136-A62E-4240-8C53-36721462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B09-F24E-4F0B-B2B1-039490A4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D1C-522C-4B4C-968D-1338B627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CC7-14EB-4451-909B-293811B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17F-0CBC-4440-ABA3-6A7DDB3C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0DF-3F87-4783-AED0-99A7FDC0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98E-8C65-492F-9E20-BE4796D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D38-BD8A-4392-93D5-C95F839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237-1FCE-4DA6-9F91-C7BDCBE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74D-89B6-435D-B7B1-DB024FA1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588-F574-4D87-8ADB-5852826A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AFE-547C-45ED-B872-248D80DC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09480"/>
              <a:ext cx="9144000" cy="6248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grapes" descr=""/>
          <p:cNvPicPr/>
          <p:nvPr/>
        </p:nvPicPr>
        <p:blipFill>
          <a:blip r:embed="rId2"/>
          <a:stretch/>
        </p:blipFill>
        <p:spPr>
          <a:xfrm>
            <a:off x="258840" y="0"/>
            <a:ext cx="84780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58920" y="0"/>
            <a:ext cx="126720" cy="13539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920" y="1333440"/>
            <a:ext cx="126720" cy="44020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066680"/>
            <a:ext cx="6359400" cy="152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7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9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1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A165-B78B-423F-8D2F-E86F4BCB273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SSENTI1" descr=""/>
          <p:cNvPicPr/>
          <p:nvPr/>
        </p:nvPicPr>
        <p:blipFill>
          <a:blip r:embed="rId1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360" y="1911240"/>
            <a:ext cx="58276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Arial"/>
              </a:rPr>
              <a:t>Money and Monetary Polic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po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4992840"/>
            <a:ext cx="7853400" cy="15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5423040"/>
            <a:ext cx="7853400" cy="11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800" y="5826240"/>
            <a:ext cx="7853400" cy="73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14840" y="1644480"/>
            <a:ext cx="3870360" cy="49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14840" y="1986120"/>
            <a:ext cx="3870360" cy="458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14840" y="2997360"/>
            <a:ext cx="3870360" cy="35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800080"/>
                </a:solidFill>
                <a:latin typeface="Arial"/>
              </a:rPr>
              <a:t>Meaning and Functions of Money</a:t>
            </a:r>
            <a:endParaRPr b="1" lang="en-US" sz="3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functions of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dium of exchang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storing wealt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valu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stablishing value of future claims and paymen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What should count as money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narrow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14840" y="3995640"/>
            <a:ext cx="3870360" cy="25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14840" y="4349880"/>
            <a:ext cx="387036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nger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14840" y="4703760"/>
            <a:ext cx="387036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14840" y="5045040"/>
            <a:ext cx="3870360" cy="15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14840" y="5424480"/>
            <a:ext cx="3870360" cy="11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14840" y="5853240"/>
            <a:ext cx="3870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quidity and profitabilit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rofitabil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quid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9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liquidity rati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9960" y="746280"/>
            <a:ext cx="7789680" cy="58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89640" y="1238400"/>
            <a:ext cx="3882960" cy="31240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509840"/>
            <a:ext cx="784836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entral ban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 of England, ECB, Fed, etc.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unc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note issue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acts as a bank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the governmen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overseas central bank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verseas activities of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provides liquidity to the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lender of last resor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perates monetary and exchange rate policy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London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iscount and repo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discount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repo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last-resort facilities by Bank of England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parallel money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inter-bank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inter-companies deposit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rket for certificates of deposit, etc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oreign currencies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5760" y="3425760"/>
            <a:ext cx="8269200" cy="26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5760" y="5132520"/>
            <a:ext cx="826920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 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uro zone definitions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1, M2, M3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800" y="3236760"/>
            <a:ext cx="8307360" cy="30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4968720"/>
            <a:ext cx="8307360" cy="13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800" y="1325520"/>
            <a:ext cx="7853400" cy="52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922400"/>
            <a:ext cx="8534520" cy="3384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6200" y="1905120"/>
          <a:ext cx="9031320" cy="35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905120"/>
                    <a:ext cx="90313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152280"/>
            <a:ext cx="9144000" cy="64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redit creation: Banks' original 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4760" y="1763640"/>
            <a:ext cx="8844120" cy="306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4300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redit creation: Effect of a new deposit of £1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765440"/>
          <a:ext cx="914400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5440"/>
                    <a:ext cx="914400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7160" y="1674720"/>
            <a:ext cx="8678880" cy="3451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0320" y="1676520"/>
          <a:ext cx="9048600" cy="35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676520"/>
                    <a:ext cx="90486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6320" y="228600"/>
            <a:ext cx="9007200" cy="5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cc"/>
                </a:solidFill>
                <a:latin typeface="Arial"/>
              </a:rPr>
              <a:t>Credit creation: Full effect of a new deposit of £10b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no precise bank multipli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Causes of increases in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s reduce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flow of funds from abroa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SNCR and its financ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oney supply: exogenous or endogenous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money supply and the 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2590920"/>
            <a:ext cx="7853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3300"/>
                </a:solidFill>
                <a:latin typeface="Arial"/>
              </a:rPr>
              <a:t>The supply of money curve: (a) ex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046400" y="685800"/>
            <a:ext cx="556920" cy="5257800"/>
            <a:chOff x="4046400" y="685800"/>
            <a:chExt cx="556920" cy="5257800"/>
          </a:xfrm>
        </p:grpSpPr>
        <p:sp>
          <p:nvSpPr>
            <p:cNvPr id="283" name=""/>
            <p:cNvSpPr/>
            <p:nvPr/>
          </p:nvSpPr>
          <p:spPr>
            <a:xfrm>
              <a:off x="4343400" y="1143000"/>
              <a:ext cx="0" cy="4800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46400" y="68580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The supply of money curve: (b) end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04960" y="609480"/>
            <a:ext cx="1751040" cy="5334120"/>
            <a:chOff x="3504960" y="609480"/>
            <a:chExt cx="1751040" cy="5334120"/>
          </a:xfrm>
        </p:grpSpPr>
        <p:sp>
          <p:nvSpPr>
            <p:cNvPr id="295" name=""/>
            <p:cNvSpPr/>
            <p:nvPr/>
          </p:nvSpPr>
          <p:spPr>
            <a:xfrm flipH="1">
              <a:off x="3504960" y="1066680"/>
              <a:ext cx="1447560" cy="4876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60948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Demand for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17440" y="1371600"/>
            <a:ext cx="795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motives for holding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ransactions and precautionary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assets or speculative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total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terminants of demand for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oney national incom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requency with which people are pai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financial innova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peculation about future return on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The demand for money (liquidity preference)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11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Equilibrium in the money marke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25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381480" y="844560"/>
            <a:ext cx="1250640" cy="5094000"/>
            <a:chOff x="3381480" y="844560"/>
            <a:chExt cx="1250640" cy="5094000"/>
          </a:xfrm>
        </p:grpSpPr>
        <p:sp>
          <p:nvSpPr>
            <p:cNvPr id="330" name=""/>
            <p:cNvSpPr/>
            <p:nvPr/>
          </p:nvSpPr>
          <p:spPr>
            <a:xfrm flipV="1">
              <a:off x="3381480" y="1083960"/>
              <a:ext cx="641160" cy="4854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5200" y="84456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H="1">
            <a:off x="1074240" y="3741840"/>
            <a:ext cx="258156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73440" y="3759120"/>
            <a:ext cx="0" cy="219564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4760" y="3679920"/>
            <a:ext cx="103320" cy="10296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0120" y="3557520"/>
            <a:ext cx="369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8640" y="5938920"/>
            <a:ext cx="495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wer interest rates lead to a lower exchange rat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35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802160" y="-4723920"/>
            <a:ext cx="11791080" cy="10365120"/>
            <a:chOff x="1802160" y="-4723920"/>
            <a:chExt cx="11791080" cy="10365120"/>
          </a:xfrm>
        </p:grpSpPr>
        <p:sp>
          <p:nvSpPr>
            <p:cNvPr id="35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34000" y="51325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35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36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34000" y="5132520"/>
            <a:ext cx="538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38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38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38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i="1" lang="en-GB" sz="2800" spc="-1" strike="noStrike">
                  <a:solidFill>
                    <a:srgbClr val="cc0000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vestment, imports and exports on national income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significance of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the government and the central bank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gree of central bank independenc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- and long-term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ontrol of banks’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stricting size of PSNC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monetary contro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open-market oper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duced central bank lending to the bank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und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variable minimum reserve rati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announcing changes in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backing up announcement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operations in the discount and repo market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redit ration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automatic fiscal stabiliser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esire to cut tax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ifficulty in cutting government expenditur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control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money supply targ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ways in which banks resist attempts to restrict the growth in the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mand-determined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428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1800" y="3943440"/>
            <a:ext cx="7853400" cy="261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436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450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interest rates to meet inflation targe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4373640"/>
            <a:ext cx="7853400" cy="21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8:15:04Z</dcterms:created>
  <dc:creator>John Sloman</dc:creator>
  <dc:description/>
  <dc:language>en-US</dc:language>
  <cp:lastModifiedBy>John Sloman</cp:lastModifiedBy>
  <dcterms:modified xsi:type="dcterms:W3CDTF">2003-10-20T20:14:22Z</dcterms:modified>
  <cp:revision>43</cp:revision>
  <dc:subject/>
  <dc:title>No Slide Title</dc:title>
</cp:coreProperties>
</file>