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7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E3E1-0AF8-4A24-9AF4-418871909E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252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608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252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608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886-B8F0-46CA-A62A-0702E6B3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CEB-C90F-44BD-BE59-54710A4F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4DB-7F1A-4740-A5C0-8418C681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5B8-C478-48EC-A7F8-4205B209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B3D-F094-4DD5-A5A0-937179E5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580-7DD9-4427-B53D-F545E67B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5B6-435F-4431-84B4-6B60C658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FAD-2964-49C8-A969-26CD0968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3BC-CE7E-4B7C-9AFA-17115C0C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350-E804-4449-A8A8-57EDB0F8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FE4-3640-42EA-A6EC-5B9BFBE6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7252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2608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1896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7252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2608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4F5-1D5A-42F9-94D6-B864200B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09480"/>
              <a:ext cx="9144000" cy="6248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grapes" descr=""/>
          <p:cNvPicPr/>
          <p:nvPr/>
        </p:nvPicPr>
        <p:blipFill>
          <a:blip r:embed="rId2"/>
          <a:stretch/>
        </p:blipFill>
        <p:spPr>
          <a:xfrm>
            <a:off x="258840" y="0"/>
            <a:ext cx="847800" cy="5638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58920" y="0"/>
            <a:ext cx="126720" cy="13539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920" y="1333440"/>
            <a:ext cx="126720" cy="44020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066680"/>
            <a:ext cx="6359400" cy="152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7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9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1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97C0-A0BE-4253-B363-ED20C91267C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SSENTI1" descr=""/>
          <p:cNvPicPr/>
          <p:nvPr/>
        </p:nvPicPr>
        <p:blipFill>
          <a:blip r:embed="rId1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24360" y="1911240"/>
            <a:ext cx="58276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Arial"/>
              </a:rPr>
              <a:t>Money and Monetary Polic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ertificates of deposi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po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800" y="4992840"/>
            <a:ext cx="7853400" cy="15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5423040"/>
            <a:ext cx="7853400" cy="11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800" y="5826240"/>
            <a:ext cx="7853400" cy="73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14840" y="1644480"/>
            <a:ext cx="3870360" cy="492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14840" y="1986120"/>
            <a:ext cx="3870360" cy="458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hort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14840" y="2997360"/>
            <a:ext cx="3870360" cy="35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800080"/>
                </a:solidFill>
                <a:latin typeface="Arial"/>
              </a:rPr>
              <a:t>Meaning and Functions of Money</a:t>
            </a:r>
            <a:endParaRPr b="1" lang="en-US" sz="3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functions of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dium of exchang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storing wealth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evalu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establishing value of future claims and paymen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What should count as money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narrow definitions of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definitions of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14840" y="3995640"/>
            <a:ext cx="3870360" cy="257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14840" y="4349880"/>
            <a:ext cx="3870360" cy="22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hort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onger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14840" y="4703760"/>
            <a:ext cx="3870360" cy="18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14840" y="5045040"/>
            <a:ext cx="3870360" cy="15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14840" y="5424480"/>
            <a:ext cx="3870360" cy="11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14840" y="5853240"/>
            <a:ext cx="3870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quidity and profitabilit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rofitabilit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quidit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9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liquidity rati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9960" y="746280"/>
            <a:ext cx="7789680" cy="582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89640" y="1238400"/>
            <a:ext cx="3882960" cy="31240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509840"/>
            <a:ext cx="784836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8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entral ban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ank of England, ECB, Fed, etc.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functio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note issue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acts as a bank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to the government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to overseas central bank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overseas activities of banks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provides liquidity to the banks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lender of last resort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operates monetary and exchange rate policy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London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discount and repo mark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discounting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repo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last-resort facilities by Bank of England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parallel money mark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inter-bank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inter-companies deposit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rket for certificates of deposit, etc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foreign currencies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1649520"/>
            <a:ext cx="784836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finitions in the UK: 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0, M4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5760" y="3425760"/>
            <a:ext cx="8269200" cy="26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5760" y="5132520"/>
            <a:ext cx="826920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1649520"/>
            <a:ext cx="784836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finitions in the UK: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 M0, M4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uro zone definitions: 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1, M2, M3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800" y="3236760"/>
            <a:ext cx="8307360" cy="30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800" y="4968720"/>
            <a:ext cx="8307360" cy="13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800" y="1325520"/>
            <a:ext cx="7853400" cy="52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922400"/>
            <a:ext cx="8534520" cy="3384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6200" y="1905120"/>
          <a:ext cx="9031320" cy="353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905120"/>
                    <a:ext cx="903132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152280"/>
            <a:ext cx="9144000" cy="64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redit creation: Banks' original balance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4760" y="1763640"/>
            <a:ext cx="8844120" cy="306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4300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Credit creation: Effect of a new deposit of £1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765440"/>
          <a:ext cx="9144000" cy="32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5440"/>
                    <a:ext cx="914400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7160" y="1674720"/>
            <a:ext cx="8678880" cy="3451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0320" y="1676520"/>
          <a:ext cx="9048600" cy="35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676520"/>
                    <a:ext cx="90486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6320" y="228600"/>
            <a:ext cx="9007200" cy="50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cc"/>
                </a:solidFill>
                <a:latin typeface="Arial"/>
              </a:rPr>
              <a:t>Credit creation: Full effect of a new deposit of £10b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real worl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real worl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no precise bank multiplier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Causes of increases in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anks reduce liquidity ratio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flow of funds from abroa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SNCR and its financ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oney supply: exogenous or endogenous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lationship between money supply and the rate of intere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2590920"/>
            <a:ext cx="78534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3300"/>
                </a:solidFill>
                <a:latin typeface="Arial"/>
              </a:rPr>
              <a:t>The supply of money curve: (a) exogenous money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32680" y="6278400"/>
            <a:ext cx="225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 of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046400" y="685800"/>
            <a:ext cx="556920" cy="5257800"/>
            <a:chOff x="4046400" y="685800"/>
            <a:chExt cx="556920" cy="5257800"/>
          </a:xfrm>
        </p:grpSpPr>
        <p:sp>
          <p:nvSpPr>
            <p:cNvPr id="283" name=""/>
            <p:cNvSpPr/>
            <p:nvPr/>
          </p:nvSpPr>
          <p:spPr>
            <a:xfrm>
              <a:off x="4343400" y="1143000"/>
              <a:ext cx="0" cy="4800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46400" y="68580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The supply of money curve: (b) endogenous money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32680" y="6278400"/>
            <a:ext cx="225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 of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504960" y="609480"/>
            <a:ext cx="1751040" cy="5334120"/>
            <a:chOff x="3504960" y="609480"/>
            <a:chExt cx="1751040" cy="5334120"/>
          </a:xfrm>
        </p:grpSpPr>
        <p:sp>
          <p:nvSpPr>
            <p:cNvPr id="295" name=""/>
            <p:cNvSpPr/>
            <p:nvPr/>
          </p:nvSpPr>
          <p:spPr>
            <a:xfrm flipH="1">
              <a:off x="3504960" y="1066680"/>
              <a:ext cx="1447560" cy="4876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60948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Demand for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17440" y="1371600"/>
            <a:ext cx="795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motives for holding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ransactions and precautionary motiv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assets or speculative motiv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total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terminants of demand for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oney national incom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frequency with which people are pai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financial innovatio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peculation about future return on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rate of intere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The demand for money (liquidity preference)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381400" y="-4104360"/>
            <a:ext cx="12553920" cy="9754920"/>
            <a:chOff x="2381400" y="-4104360"/>
            <a:chExt cx="12553920" cy="9754920"/>
          </a:xfrm>
        </p:grpSpPr>
        <p:sp>
          <p:nvSpPr>
            <p:cNvPr id="311" name=""/>
            <p:cNvSpPr/>
            <p:nvPr/>
          </p:nvSpPr>
          <p:spPr>
            <a:xfrm>
              <a:off x="2381400" y="-4104360"/>
              <a:ext cx="12553920" cy="975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3" y="20817"/>
                  </a:moveTo>
                  <a:arcTo wR="10800" hR="10800" stAng="6716954" swAng="3862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3" y="20817"/>
                  </a:moveTo>
                  <a:arcTo wR="10800" hR="10800" stAng="6716954" swAng="386254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52920" y="50911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174920" y="62024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Equilibrium in the money marke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381400" y="-4104360"/>
            <a:ext cx="12553920" cy="9754920"/>
            <a:chOff x="2381400" y="-4104360"/>
            <a:chExt cx="12553920" cy="9754920"/>
          </a:xfrm>
        </p:grpSpPr>
        <p:sp>
          <p:nvSpPr>
            <p:cNvPr id="325" name=""/>
            <p:cNvSpPr/>
            <p:nvPr/>
          </p:nvSpPr>
          <p:spPr>
            <a:xfrm>
              <a:off x="2381400" y="-4104360"/>
              <a:ext cx="12553920" cy="975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3" y="20817"/>
                  </a:moveTo>
                  <a:arcTo wR="10800" hR="10800" stAng="6716954" swAng="3862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3" y="20817"/>
                  </a:moveTo>
                  <a:arcTo wR="10800" hR="10800" stAng="6716954" swAng="3862548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2920" y="50911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174920" y="62024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381480" y="844560"/>
            <a:ext cx="1250640" cy="5094000"/>
            <a:chOff x="3381480" y="844560"/>
            <a:chExt cx="1250640" cy="5094000"/>
          </a:xfrm>
        </p:grpSpPr>
        <p:sp>
          <p:nvSpPr>
            <p:cNvPr id="330" name=""/>
            <p:cNvSpPr/>
            <p:nvPr/>
          </p:nvSpPr>
          <p:spPr>
            <a:xfrm flipV="1">
              <a:off x="3381480" y="1083960"/>
              <a:ext cx="641160" cy="4854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5200" y="84456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H="1">
            <a:off x="1074240" y="3741840"/>
            <a:ext cx="258156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73440" y="3759120"/>
            <a:ext cx="0" cy="219564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4760" y="3679920"/>
            <a:ext cx="103320" cy="10296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0120" y="3557520"/>
            <a:ext cx="369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8640" y="5938920"/>
            <a:ext cx="495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800080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creased money supply leads to lower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creased money supply leads to lower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ower interest rates lead to a lower exchange rat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885840" y="590400"/>
            <a:ext cx="1209960" cy="5200920"/>
            <a:chOff x="3885840" y="590400"/>
            <a:chExt cx="1209960" cy="5200920"/>
          </a:xfrm>
        </p:grpSpPr>
        <p:sp>
          <p:nvSpPr>
            <p:cNvPr id="353" name=""/>
            <p:cNvSpPr/>
            <p:nvPr/>
          </p:nvSpPr>
          <p:spPr>
            <a:xfrm flipH="1">
              <a:off x="3885840" y="1066680"/>
              <a:ext cx="762120" cy="4724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05320" y="590400"/>
              <a:ext cx="690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802160" y="-4723920"/>
            <a:ext cx="11791080" cy="10365120"/>
            <a:chOff x="1802160" y="-4723920"/>
            <a:chExt cx="11791080" cy="10365120"/>
          </a:xfrm>
        </p:grpSpPr>
        <p:sp>
          <p:nvSpPr>
            <p:cNvPr id="356" name=""/>
            <p:cNvSpPr/>
            <p:nvPr/>
          </p:nvSpPr>
          <p:spPr>
            <a:xfrm>
              <a:off x="1802160" y="-4723920"/>
              <a:ext cx="11791080" cy="1005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98" y="21583"/>
                  </a:moveTo>
                  <a:arcTo wR="10800" hR="10800" stAng="5591707" swAng="4616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98" y="21583"/>
                  </a:moveTo>
                  <a:arcTo wR="10800" hR="10800" stAng="5591707" swAng="4616128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34000" y="51325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09920" y="4087800"/>
            <a:ext cx="3404520" cy="439200"/>
            <a:chOff x="709920" y="4087800"/>
            <a:chExt cx="3404520" cy="439200"/>
          </a:xfrm>
        </p:grpSpPr>
        <p:sp>
          <p:nvSpPr>
            <p:cNvPr id="359" name=""/>
            <p:cNvSpPr/>
            <p:nvPr/>
          </p:nvSpPr>
          <p:spPr>
            <a:xfrm flipH="1">
              <a:off x="1074240" y="4308480"/>
              <a:ext cx="3040200" cy="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9920" y="4087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899520" y="4325760"/>
            <a:ext cx="465480" cy="2071440"/>
            <a:chOff x="3899520" y="4325760"/>
            <a:chExt cx="465480" cy="2071440"/>
          </a:xfrm>
        </p:grpSpPr>
        <p:sp>
          <p:nvSpPr>
            <p:cNvPr id="362" name=""/>
            <p:cNvSpPr/>
            <p:nvPr/>
          </p:nvSpPr>
          <p:spPr>
            <a:xfrm>
              <a:off x="4130640" y="4325760"/>
              <a:ext cx="0" cy="164808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9520" y="59580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0000cc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02160" y="-4723920"/>
            <a:ext cx="11791080" cy="1005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8" y="21583"/>
                </a:moveTo>
                <a:arcTo wR="10800" hR="10800" stAng="5591707" swAng="4616128"/>
                <a:lnTo>
                  <a:pt x="10800" y="10800"/>
                </a:lnTo>
                <a:close/>
              </a:path>
              <a:path fill="none" w="21600" h="21600">
                <a:moveTo>
                  <a:pt x="10198" y="21583"/>
                </a:moveTo>
                <a:arcTo wR="10800" hR="10800" stAng="5591707" swAng="4616128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885840" y="1066680"/>
            <a:ext cx="762120" cy="4724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34000" y="5132520"/>
            <a:ext cx="538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074240" y="4308480"/>
            <a:ext cx="3040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0640" y="4325760"/>
            <a:ext cx="0" cy="15955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9920" y="408780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99520" y="5958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16400" y="3032280"/>
            <a:ext cx="2151720" cy="439200"/>
            <a:chOff x="716400" y="3032280"/>
            <a:chExt cx="2151720" cy="439200"/>
          </a:xfrm>
        </p:grpSpPr>
        <p:sp>
          <p:nvSpPr>
            <p:cNvPr id="380" name=""/>
            <p:cNvSpPr/>
            <p:nvPr/>
          </p:nvSpPr>
          <p:spPr>
            <a:xfrm flipH="1">
              <a:off x="1074240" y="3209760"/>
              <a:ext cx="1793880" cy="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400" y="30322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42040" y="3209760"/>
            <a:ext cx="465480" cy="3158640"/>
            <a:chOff x="2642040" y="3209760"/>
            <a:chExt cx="465480" cy="3158640"/>
          </a:xfrm>
        </p:grpSpPr>
        <p:sp>
          <p:nvSpPr>
            <p:cNvPr id="383" name=""/>
            <p:cNvSpPr/>
            <p:nvPr/>
          </p:nvSpPr>
          <p:spPr>
            <a:xfrm>
              <a:off x="2886120" y="3209760"/>
              <a:ext cx="0" cy="272916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42040" y="59292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 flipV="1">
            <a:off x="853920" y="3448080"/>
            <a:ext cx="0" cy="603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089160" y="6140520"/>
            <a:ext cx="75096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480760" y="487440"/>
            <a:ext cx="1878120" cy="5218200"/>
            <a:chOff x="2480760" y="487440"/>
            <a:chExt cx="1878120" cy="5218200"/>
          </a:xfrm>
        </p:grpSpPr>
        <p:sp>
          <p:nvSpPr>
            <p:cNvPr id="388" name=""/>
            <p:cNvSpPr/>
            <p:nvPr/>
          </p:nvSpPr>
          <p:spPr>
            <a:xfrm flipH="1">
              <a:off x="2480760" y="981000"/>
              <a:ext cx="762120" cy="4724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19320" y="487440"/>
              <a:ext cx="6746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r>
                <a:rPr b="0" i="1" lang="en-GB" sz="2800" spc="-1" strike="noStrike">
                  <a:solidFill>
                    <a:srgbClr val="cc0000"/>
                  </a:solidFill>
                  <a:latin typeface="Playbill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3215880" y="2037960"/>
              <a:ext cx="1143000" cy="46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405320" y="590400"/>
            <a:ext cx="690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30680" y="315288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the exchange rate, and imports and export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e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the exchange rate, and imports and export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e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vestment, imports and exports on national income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Polic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significance of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policy setting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lationship between the government and the central bank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gree of central bank independenc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edium- and long-term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ontrol of banks’ liquidity ratio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stricting size of PSNC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Polic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hort-term monetary contro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echniques to control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open-market oper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duced central bank lending to the bank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funding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variable minimum reserve rati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echniques to control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announcing changes in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backing up announcement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operations in the discount and repo market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redit ration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0448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edium and long-term control over the money supply: reducing PSNC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automatic fiscal stabiliser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desire to cut tax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ifficulty in cutting government expenditur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hort-term control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se of money supply targ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ways in which banks resist attempts to restrict the growth in the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mand-determined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322880" y="1749600"/>
            <a:ext cx="3538440" cy="1233360"/>
            <a:chOff x="4322880" y="1749600"/>
            <a:chExt cx="3538440" cy="1233360"/>
          </a:xfrm>
        </p:grpSpPr>
        <p:sp>
          <p:nvSpPr>
            <p:cNvPr id="428" name=""/>
            <p:cNvSpPr/>
            <p:nvPr/>
          </p:nvSpPr>
          <p:spPr>
            <a:xfrm>
              <a:off x="4322880" y="1749600"/>
              <a:ext cx="353844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57160" y="1854360"/>
              <a:ext cx="3338280" cy="1049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Assume that  the author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want to reduc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demand for money to </a:t>
              </a:r>
              <a:r>
                <a:rPr b="0" i="1" lang="en-GB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1800" y="3943440"/>
            <a:ext cx="7853400" cy="261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52760" y="2664000"/>
            <a:ext cx="2812680" cy="439200"/>
            <a:chOff x="752760" y="2664000"/>
            <a:chExt cx="2812680" cy="439200"/>
          </a:xfrm>
        </p:grpSpPr>
        <p:sp>
          <p:nvSpPr>
            <p:cNvPr id="436" name=""/>
            <p:cNvSpPr/>
            <p:nvPr/>
          </p:nvSpPr>
          <p:spPr>
            <a:xfrm flipH="1">
              <a:off x="1092240" y="2879640"/>
              <a:ext cx="24732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2760" y="26640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34080" y="1749600"/>
            <a:ext cx="2550960" cy="1233360"/>
            <a:chOff x="4834080" y="1749600"/>
            <a:chExt cx="2550960" cy="1233360"/>
          </a:xfrm>
        </p:grpSpPr>
        <p:sp>
          <p:nvSpPr>
            <p:cNvPr id="450" name=""/>
            <p:cNvSpPr/>
            <p:nvPr/>
          </p:nvSpPr>
          <p:spPr>
            <a:xfrm>
              <a:off x="4834080" y="1749600"/>
              <a:ext cx="255096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62520" y="1854360"/>
              <a:ext cx="2501640" cy="1049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A large ri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rate of interest (to </a:t>
              </a:r>
              <a:r>
                <a:rPr b="0" i="1" lang="en-GB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will be necess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3546360" y="2862000"/>
            <a:ext cx="0" cy="305892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94160" y="282420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se of interest rates to meet inflation targe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ertificates of deposi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800" y="4373640"/>
            <a:ext cx="7853400" cy="21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8:15:04Z</dcterms:created>
  <dc:creator>John Sloman</dc:creator>
  <dc:description/>
  <dc:language>en-US</dc:language>
  <cp:lastModifiedBy>John Sloman</cp:lastModifiedBy>
  <dcterms:modified xsi:type="dcterms:W3CDTF">2003-10-20T20:14:22Z</dcterms:modified>
  <cp:revision>43</cp:revision>
  <dc:subject/>
  <dc:title>No Slide Title</dc:title>
</cp:coreProperties>
</file>