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6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7.xml.rels" ContentType="application/vnd.openxmlformats-package.relationships+xml"/>
  <Override PartName="/ppt/notesSlides/notesSlide5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7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B077-9E1B-4AB7-A7F1-F93925AC73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8960" y="4237560"/>
            <a:ext cx="7848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052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8960" y="423756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0520" y="423756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2520" y="137160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6080" y="137160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8960" y="423756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2520" y="423756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6080" y="423756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7DF0-768C-4FFE-93F3-FCBBB52F9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D06E-532C-46BD-8D89-21B9944E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3669-0C55-4A82-92FD-7F2A350D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3829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0520" y="1371600"/>
            <a:ext cx="3829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2FAA-0F05-4C93-9080-E7F700E5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9A2B-99A9-4A0D-9E7F-89EF517D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95280" y="-36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BB8F-9A2C-4DFE-B901-D152CAED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40520" y="1371600"/>
            <a:ext cx="3829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18960" y="423756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E826-1196-4CFC-8B97-5A57B1E9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3829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052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40520" y="423756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ECF2-7200-47BE-A894-24CDAF07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4052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18960" y="4237560"/>
            <a:ext cx="7848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2E31-2FCC-4851-8DB8-000D14CF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218960" y="4237560"/>
            <a:ext cx="7848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A304-00F1-4BA2-A79B-2AF3AE01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4052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18960" y="423756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40520" y="423756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7F36-0343-4229-8544-6F09450F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72520" y="137160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26080" y="137160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218960" y="423756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72520" y="423756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26080" y="423756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F1D1-38BC-4689-90E0-BEA062625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3829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0520" y="1371600"/>
            <a:ext cx="3829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95280" y="-36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0520" y="1371600"/>
            <a:ext cx="3829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8960" y="423756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3829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052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0520" y="423756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052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8960" y="4237560"/>
            <a:ext cx="7848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60948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09480"/>
              <a:ext cx="9144000" cy="624852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" name="grapes" descr=""/>
          <p:cNvPicPr/>
          <p:nvPr/>
        </p:nvPicPr>
        <p:blipFill>
          <a:blip r:embed="rId2"/>
          <a:stretch/>
        </p:blipFill>
        <p:spPr>
          <a:xfrm>
            <a:off x="258840" y="0"/>
            <a:ext cx="847800" cy="56386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358920" y="0"/>
            <a:ext cx="126720" cy="13539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920" y="1333440"/>
            <a:ext cx="126720" cy="440208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4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4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4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1066680"/>
            <a:ext cx="6359400" cy="152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6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7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9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1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5029-37BF-4F72-8359-E3C873836ECF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ESSENTI1" descr=""/>
          <p:cNvPicPr/>
          <p:nvPr/>
        </p:nvPicPr>
        <p:blipFill>
          <a:blip r:embed="rId1"/>
          <a:srcRect l="0" t="5861" r="0" b="293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971800" y="1600200"/>
            <a:ext cx="5943600" cy="3657600"/>
          </a:xfrm>
          <a:prstGeom prst="rect">
            <a:avLst/>
          </a:prstGeom>
          <a:gradFill rotWithShape="0">
            <a:gsLst>
              <a:gs pos="0">
                <a:srgbClr val="75091b"/>
              </a:gs>
              <a:gs pos="50000">
                <a:srgbClr val="b30f2a"/>
              </a:gs>
              <a:gs pos="100000">
                <a:srgbClr val="75091b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24360" y="1911240"/>
            <a:ext cx="5827680" cy="3110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cc"/>
                </a:solidFill>
                <a:latin typeface="Arial"/>
              </a:rPr>
              <a:t>Money and Monetary Polic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Financial System in the UK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key role of bank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deposits and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liabilities and asse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retail and wholesale deposits and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Liabiliti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ight deposi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ime deposi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certificates of deposit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repo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614840" y="1341360"/>
            <a:ext cx="3870360" cy="523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1800" y="4992840"/>
            <a:ext cx="7853400" cy="156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614840" y="1341360"/>
            <a:ext cx="3870360" cy="523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1800" y="5423040"/>
            <a:ext cx="7853400" cy="11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614840" y="1341360"/>
            <a:ext cx="3870360" cy="523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1800" y="5826240"/>
            <a:ext cx="7853400" cy="73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614840" y="1341360"/>
            <a:ext cx="3870360" cy="523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Financial System in the UK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0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Asset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cash and balances with the Bank of England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614840" y="1644480"/>
            <a:ext cx="3870360" cy="492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614840" y="1986120"/>
            <a:ext cx="3870360" cy="458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Financial System in the UK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0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Asset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cash and balances with the Bank of England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hort-term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614840" y="2997360"/>
            <a:ext cx="3870360" cy="357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800080"/>
                </a:solidFill>
                <a:latin typeface="Arial"/>
              </a:rPr>
              <a:t>Meaning and Functions of Money</a:t>
            </a:r>
            <a:endParaRPr b="1" lang="en-US" sz="3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functions of mone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edium of exchang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eans of storing wealth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eans of evaluation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eans of establishing value of future claims and paymen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What should count as money?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narrow definitions of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broad definitions of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614840" y="3995640"/>
            <a:ext cx="3870360" cy="257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614840" y="4349880"/>
            <a:ext cx="3870360" cy="22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Financial System in the UK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0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Asset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cash and balances with the Bank of England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hort-term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longer-term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614840" y="4703760"/>
            <a:ext cx="3870360" cy="187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14840" y="5045040"/>
            <a:ext cx="3870360" cy="152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614840" y="5424480"/>
            <a:ext cx="3870360" cy="114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614840" y="5853240"/>
            <a:ext cx="3870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Financial System in the UK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0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Liquidity and profitabilit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profitabilit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liquidit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9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the liquidity ratio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69960" y="746280"/>
            <a:ext cx="7789680" cy="582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89640" y="1238400"/>
            <a:ext cx="3882960" cy="31240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Financial System in the UK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8960" y="1509840"/>
            <a:ext cx="7848360" cy="53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8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key role of bank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4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deposits and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4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liabilities and asse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4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retail and wholesale deposits and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8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Liabiliti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4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ight deposi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Financial System in the UK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central bank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Bank of England, ECB, Fed, etc.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functio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8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660066"/>
                </a:solidFill>
                <a:latin typeface="Arial"/>
              </a:rPr>
              <a:t>note issue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8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660066"/>
                </a:solidFill>
                <a:latin typeface="Arial"/>
              </a:rPr>
              <a:t>acts as a bank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64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Arial"/>
              </a:rPr>
              <a:t>to the government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64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Arial"/>
              </a:rPr>
              <a:t>to overseas central banks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8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660066"/>
                </a:solidFill>
                <a:latin typeface="Arial"/>
              </a:rPr>
              <a:t>overseas activities of banks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8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660066"/>
                </a:solidFill>
                <a:latin typeface="Arial"/>
              </a:rPr>
              <a:t>provides liquidity to the banks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64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Arial"/>
              </a:rPr>
              <a:t>lender of last resort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8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660066"/>
                </a:solidFill>
                <a:latin typeface="Arial"/>
              </a:rPr>
              <a:t>operates monetary and exchange rate policy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Financial System in the UK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London money marke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he discount and repo marke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discounting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the repo market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last-resort facilities by Bank of England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he parallel money marke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the inter-bank market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inter-companies deposit market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market for certificates of deposit, etc.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foreign currencies market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The Supply of Mone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8960" y="1649520"/>
            <a:ext cx="7848360" cy="52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0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of the money suppl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onetary bas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broad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0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in the UK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definitions in the UK: </a:t>
            </a:r>
            <a:r>
              <a:rPr b="1" lang="en-GB" sz="2800" spc="-1" strike="noStrike">
                <a:solidFill>
                  <a:srgbClr val="663300"/>
                </a:solidFill>
                <a:latin typeface="Arial"/>
              </a:rPr>
              <a:t>M0, M4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49280" y="1085760"/>
            <a:ext cx="8312040" cy="50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90360"/>
            <a:ext cx="908352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33"/>
                </a:solidFill>
                <a:latin typeface="Arial"/>
              </a:rPr>
              <a:t>UK monetary aggregates:</a:t>
            </a:r>
            <a:r>
              <a:rPr b="1" lang="en-GB" sz="2400" spc="-1" strike="noStrike">
                <a:solidFill>
                  <a:srgbClr val="990033"/>
                </a:solidFill>
                <a:latin typeface="Arial"/>
              </a:rPr>
              <a:t> (end February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3600" y="1579680"/>
            <a:ext cx="65858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8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Cash outside Bank of Eng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+ Banks’ operational deposits with Bank of Eng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= M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Cash outside banks (in circul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+ Private-sector retail bank and building society depos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= Retail deposits and cash in M4 (also known as M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+ Private-sector wholesale bank and b.s. deposits + 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= M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4600" y="3073320"/>
            <a:ext cx="830556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4600" y="1536840"/>
            <a:ext cx="830556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4600" y="1092240"/>
            <a:ext cx="830556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451280" y="1579680"/>
            <a:ext cx="13172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36 8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36 9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30 6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676 9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707 5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295 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1 003 5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48560" y="1122480"/>
            <a:ext cx="1117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£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6180120"/>
            <a:ext cx="830592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5760" y="3425760"/>
            <a:ext cx="8269200" cy="265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49280" y="1085760"/>
            <a:ext cx="8312040" cy="50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90360"/>
            <a:ext cx="908352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33"/>
                </a:solidFill>
                <a:latin typeface="Arial"/>
              </a:rPr>
              <a:t>UK monetary aggregates:</a:t>
            </a:r>
            <a:r>
              <a:rPr b="1" lang="en-GB" sz="2400" spc="-1" strike="noStrike">
                <a:solidFill>
                  <a:srgbClr val="990033"/>
                </a:solidFill>
                <a:latin typeface="Arial"/>
              </a:rPr>
              <a:t> (end February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3600" y="1579680"/>
            <a:ext cx="65858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8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Cash outside Bank of Eng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+ Banks’ operational deposits with Bank of Eng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= M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Cash outside banks (in circul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+ Private-sector retail bank and building society depos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= Retail deposits and cash in M4 (also known as M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+ Private-sector wholesale bank and b.s. deposits + 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= M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4600" y="3073320"/>
            <a:ext cx="830556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4600" y="1536840"/>
            <a:ext cx="830556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4600" y="1092240"/>
            <a:ext cx="830556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51280" y="1579680"/>
            <a:ext cx="13172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36 8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36 9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30 6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676 9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707 5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295 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1 003 5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48560" y="1122480"/>
            <a:ext cx="1117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£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6180120"/>
            <a:ext cx="830592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5760" y="5132520"/>
            <a:ext cx="8269200" cy="9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49280" y="1085760"/>
            <a:ext cx="8312040" cy="50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90360"/>
            <a:ext cx="908352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33"/>
                </a:solidFill>
                <a:latin typeface="Arial"/>
              </a:rPr>
              <a:t>UK monetary aggregates:</a:t>
            </a:r>
            <a:r>
              <a:rPr b="1" lang="en-GB" sz="2400" spc="-1" strike="noStrike">
                <a:solidFill>
                  <a:srgbClr val="990033"/>
                </a:solidFill>
                <a:latin typeface="Arial"/>
              </a:rPr>
              <a:t> (end February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600" y="1579680"/>
            <a:ext cx="65858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8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Cash outside Bank of Eng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+ Banks’ operational deposits with Bank of Eng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= M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Cash outside banks (in circul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+ Private-sector retail bank and building society depos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= Retail deposits and cash in M4 (also known as M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+ Private-sector wholesale bank and b.s. deposits + 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= M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4600" y="3073320"/>
            <a:ext cx="830556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4600" y="1536840"/>
            <a:ext cx="830556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4600" y="1092240"/>
            <a:ext cx="830556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51280" y="1579680"/>
            <a:ext cx="13172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36 8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36 9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30 6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676 9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707 5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295 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1 003 5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48560" y="1122480"/>
            <a:ext cx="1117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£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6180120"/>
            <a:ext cx="830592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The Supply of Mone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18960" y="1649520"/>
            <a:ext cx="7848360" cy="52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0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of the money suppl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onetary bas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broad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0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in the UK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definitions in the UK:</a:t>
            </a:r>
            <a:r>
              <a:rPr b="1" lang="en-GB" sz="2800" spc="-1" strike="noStrike">
                <a:solidFill>
                  <a:srgbClr val="663300"/>
                </a:solidFill>
                <a:latin typeface="Arial"/>
              </a:rPr>
              <a:t> M0, M4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euro zone definitions: </a:t>
            </a:r>
            <a:r>
              <a:rPr b="1" lang="en-GB" sz="2800" spc="-1" strike="noStrike">
                <a:solidFill>
                  <a:srgbClr val="663300"/>
                </a:solidFill>
                <a:latin typeface="Arial"/>
              </a:rPr>
              <a:t>M1, M2, M3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23720" y="1152360"/>
            <a:ext cx="8363160" cy="522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90360"/>
            <a:ext cx="9083520" cy="88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Arial"/>
              </a:rPr>
              <a:t>UK monetary supply using ECB meas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(end February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3080" y="1655640"/>
            <a:ext cx="536364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Currency in cir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Overnight depos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= 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Deposits with agreed maturity up to 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Deposits redeemable up to 3 months' no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= 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Re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Money market funds and pa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= 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4600" y="6389640"/>
            <a:ext cx="830556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4600" y="1638360"/>
            <a:ext cx="8305560" cy="0"/>
          </a:xfrm>
          <a:prstGeom prst="line">
            <a:avLst/>
          </a:prstGeom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4600" y="1168560"/>
            <a:ext cx="830556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27240" y="1655640"/>
            <a:ext cx="131724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1 3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13 2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544 6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81 6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96 5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922 8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88 9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7 4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1 069 3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724880" y="1198440"/>
            <a:ext cx="1117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£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2800" y="3236760"/>
            <a:ext cx="8307360" cy="30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23720" y="1152360"/>
            <a:ext cx="8363160" cy="522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90360"/>
            <a:ext cx="9083520" cy="88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Arial"/>
              </a:rPr>
              <a:t>UK monetary supply using ECB meas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(end February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3080" y="1655640"/>
            <a:ext cx="536364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Currency in cir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Overnight depos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= 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Deposits with agreed maturity up to 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Deposits redeemable up to 3 months' no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= 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Re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Money market funds and pa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= 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4600" y="6389640"/>
            <a:ext cx="830556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4600" y="1638360"/>
            <a:ext cx="8305560" cy="0"/>
          </a:xfrm>
          <a:prstGeom prst="line">
            <a:avLst/>
          </a:prstGeom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4600" y="1168560"/>
            <a:ext cx="830556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527240" y="1655640"/>
            <a:ext cx="131724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1 3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13 2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544 6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81 6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96 5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922 8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88 9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7 4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1 069 3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724880" y="1198440"/>
            <a:ext cx="1117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£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2800" y="4968720"/>
            <a:ext cx="8307360" cy="132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23720" y="1152360"/>
            <a:ext cx="8363160" cy="522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90360"/>
            <a:ext cx="9083520" cy="88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Arial"/>
              </a:rPr>
              <a:t>UK monetary supply using ECB meas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(end February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3080" y="1655640"/>
            <a:ext cx="536364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Currency in cir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Overnight depos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= 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Deposits with agreed maturity up to 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Deposits redeemable up to 3 months' no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= 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Re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Money market funds and pa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= 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4600" y="6389640"/>
            <a:ext cx="830556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4600" y="1638360"/>
            <a:ext cx="8305560" cy="0"/>
          </a:xfrm>
          <a:prstGeom prst="line">
            <a:avLst/>
          </a:prstGeom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4600" y="1168560"/>
            <a:ext cx="830556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527240" y="1655640"/>
            <a:ext cx="131724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1 3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13 2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544 6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81 6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96 5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922 8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88 9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7 4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1 069 3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24880" y="1198440"/>
            <a:ext cx="1117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£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614840" y="1341360"/>
            <a:ext cx="3870360" cy="523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1800" y="1325520"/>
            <a:ext cx="7853400" cy="523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The Supply of Mone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of the money suppl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onetary bas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broad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in the UK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creation of credi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The Supply of Mone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of the money suppl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onetary bas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broad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in the UK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creation of credi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imple illustration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28600" y="1922400"/>
            <a:ext cx="8534520" cy="3384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06200" y="1905120"/>
          <a:ext cx="9031320" cy="353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" y="1905120"/>
                    <a:ext cx="903132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0" y="152280"/>
            <a:ext cx="9144000" cy="64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3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Credit creation: Banks' original balance sh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04760" y="1763640"/>
            <a:ext cx="8844120" cy="3068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43000"/>
            <a:ext cx="908352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Credit creation: Effect of a new deposit of £10b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0" y="1765440"/>
          <a:ext cx="9144000" cy="322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65440"/>
                    <a:ext cx="9144000" cy="32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27160" y="1674720"/>
            <a:ext cx="8678880" cy="3451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30320" y="1676520"/>
          <a:ext cx="9048600" cy="357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" y="1676520"/>
                    <a:ext cx="9048600" cy="35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76320" y="228600"/>
            <a:ext cx="9007200" cy="50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cc"/>
                </a:solidFill>
                <a:latin typeface="Arial"/>
              </a:rPr>
              <a:t>Credit creation: Full effect of a new deposit of £10bn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The Supply of Mone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of the money suppl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onetary bas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broad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in the UK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creation of credi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imple illustration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he bank multiplier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The Supply of Mone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of the money suppl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onetary bas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broad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in the UK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creation of credi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imple illustration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he bank multiplier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1/L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The Supply of Mone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of the money suppl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onetary bas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broad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in the UK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creation of credi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imple illustration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he bank multiplier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1/L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he real world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The Supply of Mone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of the money suppl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onetary bas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broad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in the UK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creation of credi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imple illustration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he bank multiplier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1/L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he real world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no precise bank multiplier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The Supply of Mone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32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Causes of increases in money suppl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8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banks reduce liquidity ratio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8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inflow of funds from abroad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8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PSNCR and its financing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2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Money supply: exogenous or endogenous?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8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Relationship between money supply and the rate of interest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14840" y="1341360"/>
            <a:ext cx="3870360" cy="523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1800" y="2590920"/>
            <a:ext cx="7853400" cy="39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3300"/>
                </a:solidFill>
                <a:latin typeface="Arial"/>
              </a:rPr>
              <a:t>The supply of money curve: (a) exogenous money supply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16200000">
            <a:off x="-474840" y="269460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32680" y="6278400"/>
            <a:ext cx="2250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 of 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046400" y="685800"/>
            <a:ext cx="556920" cy="5257800"/>
            <a:chOff x="4046400" y="685800"/>
            <a:chExt cx="556920" cy="5257800"/>
          </a:xfrm>
        </p:grpSpPr>
        <p:sp>
          <p:nvSpPr>
            <p:cNvPr id="283" name=""/>
            <p:cNvSpPr/>
            <p:nvPr/>
          </p:nvSpPr>
          <p:spPr>
            <a:xfrm>
              <a:off x="4343400" y="1143000"/>
              <a:ext cx="0" cy="48006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046400" y="685800"/>
              <a:ext cx="5569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cc0000"/>
                  </a:solidFill>
                  <a:latin typeface="Arial"/>
                </a:rPr>
                <a:t>M</a:t>
              </a:r>
              <a:r>
                <a:rPr b="0" lang="en-GB" sz="2400" spc="-1" strike="noStrike" baseline="-25000">
                  <a:solidFill>
                    <a:srgbClr val="cc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Arial"/>
              </a:rPr>
              <a:t>The supply of money curve: (b) endogenous money supply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-474840" y="269460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32680" y="6278400"/>
            <a:ext cx="2250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 of 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504960" y="609480"/>
            <a:ext cx="1751040" cy="5334120"/>
            <a:chOff x="3504960" y="609480"/>
            <a:chExt cx="1751040" cy="5334120"/>
          </a:xfrm>
        </p:grpSpPr>
        <p:sp>
          <p:nvSpPr>
            <p:cNvPr id="295" name=""/>
            <p:cNvSpPr/>
            <p:nvPr/>
          </p:nvSpPr>
          <p:spPr>
            <a:xfrm flipH="1">
              <a:off x="3504960" y="1066680"/>
              <a:ext cx="1447560" cy="48769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99080" y="609480"/>
              <a:ext cx="5569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006600"/>
                  </a:solidFill>
                  <a:latin typeface="Arial"/>
                </a:rPr>
                <a:t>M</a:t>
              </a:r>
              <a:r>
                <a:rPr b="0" lang="en-GB" sz="2400" spc="-1" strike="noStrike" baseline="-25000">
                  <a:solidFill>
                    <a:srgbClr val="0066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The Demand for Mone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17440" y="1371600"/>
            <a:ext cx="7950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motives for holding mone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ransactions and precautionary motiv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3300"/>
                </a:solidFill>
                <a:latin typeface="Arial"/>
              </a:rPr>
              <a:t>assets or speculative motiv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he total demand for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terminants of demand for mone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3300"/>
                </a:solidFill>
                <a:latin typeface="Arial"/>
              </a:rPr>
              <a:t>money national incom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frequency with which people are paid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3300"/>
                </a:solidFill>
                <a:latin typeface="Arial"/>
              </a:rPr>
              <a:t>financial innovatio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peculation about future return on asse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3300"/>
                </a:solidFill>
                <a:latin typeface="Arial"/>
              </a:rPr>
              <a:t>rate of interest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The demand for money (liquidity preference) curv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-474840" y="269460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381400" y="-4104360"/>
            <a:ext cx="12553920" cy="9754920"/>
            <a:chOff x="2381400" y="-4104360"/>
            <a:chExt cx="12553920" cy="9754920"/>
          </a:xfrm>
        </p:grpSpPr>
        <p:sp>
          <p:nvSpPr>
            <p:cNvPr id="311" name=""/>
            <p:cNvSpPr/>
            <p:nvPr/>
          </p:nvSpPr>
          <p:spPr>
            <a:xfrm>
              <a:off x="2381400" y="-4104360"/>
              <a:ext cx="12553920" cy="975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63" y="20817"/>
                  </a:moveTo>
                  <a:arcTo wR="10800" hR="10800" stAng="6716954" swAng="38625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763" y="20817"/>
                  </a:moveTo>
                  <a:arcTo wR="10800" hR="10800" stAng="6716954" swAng="3862548"/>
                </a:path>
              </a:pathLst>
            </a:custGeom>
            <a:noFill/>
            <a:ln cap="rnd"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52920" y="5091120"/>
              <a:ext cx="5385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006600"/>
                  </a:solidFill>
                  <a:latin typeface="Arial"/>
                </a:rPr>
                <a:t>M</a:t>
              </a:r>
              <a:r>
                <a:rPr b="0" lang="en-GB" sz="2400" spc="-1" strike="noStrike" baseline="-25000">
                  <a:solidFill>
                    <a:srgbClr val="0066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174920" y="6202440"/>
            <a:ext cx="95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Monetary Equilibrium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quilibrium in the money marke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equilibrium interest rate where D and S of money are equal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3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Equilibrium in the money market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16200000">
            <a:off x="-474840" y="269460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2381400" y="-4104360"/>
            <a:ext cx="12553920" cy="9754920"/>
            <a:chOff x="2381400" y="-4104360"/>
            <a:chExt cx="12553920" cy="9754920"/>
          </a:xfrm>
        </p:grpSpPr>
        <p:sp>
          <p:nvSpPr>
            <p:cNvPr id="325" name=""/>
            <p:cNvSpPr/>
            <p:nvPr/>
          </p:nvSpPr>
          <p:spPr>
            <a:xfrm>
              <a:off x="2381400" y="-4104360"/>
              <a:ext cx="12553920" cy="975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63" y="20817"/>
                  </a:moveTo>
                  <a:arcTo wR="10800" hR="10800" stAng="6716954" swAng="38625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763" y="20817"/>
                  </a:moveTo>
                  <a:arcTo wR="10800" hR="10800" stAng="6716954" swAng="3862548"/>
                </a:path>
              </a:pathLst>
            </a:custGeom>
            <a:noFill/>
            <a:ln cap="rnd"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352920" y="5091120"/>
              <a:ext cx="5385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0000cc"/>
                  </a:solidFill>
                  <a:latin typeface="Arial"/>
                </a:rPr>
                <a:t>M</a:t>
              </a:r>
              <a:r>
                <a:rPr b="0" lang="en-GB" sz="2400" spc="-1" strike="noStrike" baseline="-25000">
                  <a:solidFill>
                    <a:srgbClr val="0000cc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4174920" y="6202440"/>
            <a:ext cx="95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3381480" y="844560"/>
            <a:ext cx="1250640" cy="5094000"/>
            <a:chOff x="3381480" y="844560"/>
            <a:chExt cx="1250640" cy="5094000"/>
          </a:xfrm>
        </p:grpSpPr>
        <p:sp>
          <p:nvSpPr>
            <p:cNvPr id="330" name=""/>
            <p:cNvSpPr/>
            <p:nvPr/>
          </p:nvSpPr>
          <p:spPr>
            <a:xfrm flipV="1">
              <a:off x="3381480" y="1083960"/>
              <a:ext cx="641160" cy="485460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75200" y="844560"/>
              <a:ext cx="5569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0000cc"/>
                  </a:solidFill>
                  <a:latin typeface="Arial"/>
                </a:rPr>
                <a:t>M</a:t>
              </a:r>
              <a:r>
                <a:rPr b="0" lang="en-GB" sz="2400" spc="-1" strike="noStrike" baseline="-25000">
                  <a:solidFill>
                    <a:srgbClr val="0000cc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 flipH="1">
            <a:off x="1074240" y="3741840"/>
            <a:ext cx="2581560" cy="0"/>
          </a:xfrm>
          <a:prstGeom prst="line">
            <a:avLst/>
          </a:prstGeom>
          <a:ln w="190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673440" y="3759120"/>
            <a:ext cx="0" cy="2195640"/>
          </a:xfrm>
          <a:prstGeom prst="line">
            <a:avLst/>
          </a:prstGeom>
          <a:ln w="190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614760" y="3679920"/>
            <a:ext cx="103320" cy="102960"/>
          </a:xfrm>
          <a:prstGeom prst="ellipse">
            <a:avLst/>
          </a:pr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90120" y="3557520"/>
            <a:ext cx="3693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800080"/>
                </a:solidFill>
                <a:latin typeface="Arial"/>
              </a:rPr>
              <a:t>r</a:t>
            </a:r>
            <a:r>
              <a:rPr b="0" lang="en-GB" sz="2400" spc="-1" strike="noStrike" baseline="-25000">
                <a:solidFill>
                  <a:srgbClr val="80008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28640" y="5938920"/>
            <a:ext cx="495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800080"/>
                </a:solidFill>
                <a:latin typeface="Arial"/>
              </a:rPr>
              <a:t>M</a:t>
            </a:r>
            <a:r>
              <a:rPr b="0" lang="en-GB" sz="2400" spc="-1" strike="noStrike" baseline="-25000">
                <a:solidFill>
                  <a:srgbClr val="80008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Monetary Equilibrium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4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quilibrium in the money marke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1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equilibrium interest rate where D and S of money are equal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quilibrium in the foreign exchange marke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Monetary Equilibrium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4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quilibrium in the money marke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1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equilibrium interest rate where D and S of money are equal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quilibrium in the foreign exchange marke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1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increased money supply leads to lower interest rate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Monetary Equilibrium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4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quilibrium in the money marke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1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equilibrium interest rate where D and S of money are equal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quilibrium in the foreign exchange marke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1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increased money supply leads to lower interest rate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1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lower interest rates lead to a lower exchange rat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Monetary Equilibrium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38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"/>
              </a:rPr>
              <a:t>Effects of changes in money supply on national incom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3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993300"/>
                </a:solidFill>
                <a:latin typeface="Arial"/>
              </a:rPr>
              <a:t>effect on interest rates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Ms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Financial System in the UK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key role of bank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deposits and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liabilities and asse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retail and wholesale deposits and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Liabiliti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ight deposi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ime deposi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53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Arial"/>
              </a:rPr>
              <a:t>The demand for and supply of money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68560" y="6278400"/>
            <a:ext cx="95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16200000">
            <a:off x="-551160" y="330408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3885840" y="590400"/>
            <a:ext cx="1209960" cy="5200920"/>
            <a:chOff x="3885840" y="590400"/>
            <a:chExt cx="1209960" cy="5200920"/>
          </a:xfrm>
        </p:grpSpPr>
        <p:sp>
          <p:nvSpPr>
            <p:cNvPr id="353" name=""/>
            <p:cNvSpPr/>
            <p:nvPr/>
          </p:nvSpPr>
          <p:spPr>
            <a:xfrm flipH="1">
              <a:off x="3885840" y="1066680"/>
              <a:ext cx="762120" cy="472464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405320" y="590400"/>
              <a:ext cx="6904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0000cc"/>
                  </a:solidFill>
                  <a:latin typeface="Arial"/>
                </a:rPr>
                <a:t>M</a:t>
              </a:r>
              <a:r>
                <a:rPr b="0" lang="en-GB" sz="2400" spc="-1" strike="noStrike" baseline="-25000">
                  <a:solidFill>
                    <a:srgbClr val="0000cc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1802160" y="-4723920"/>
            <a:ext cx="11791080" cy="10365120"/>
            <a:chOff x="1802160" y="-4723920"/>
            <a:chExt cx="11791080" cy="10365120"/>
          </a:xfrm>
        </p:grpSpPr>
        <p:sp>
          <p:nvSpPr>
            <p:cNvPr id="356" name=""/>
            <p:cNvSpPr/>
            <p:nvPr/>
          </p:nvSpPr>
          <p:spPr>
            <a:xfrm>
              <a:off x="1802160" y="-4723920"/>
              <a:ext cx="11791080" cy="10057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98" y="21583"/>
                  </a:moveTo>
                  <a:arcTo wR="10800" hR="10800" stAng="5591707" swAng="4616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98" y="21583"/>
                  </a:moveTo>
                  <a:arcTo wR="10800" hR="10800" stAng="5591707" swAng="4616128"/>
                </a:path>
              </a:pathLst>
            </a:custGeom>
            <a:noFill/>
            <a:ln cap="rnd"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434000" y="5132520"/>
              <a:ext cx="5385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0000cc"/>
                  </a:solidFill>
                  <a:latin typeface="Arial"/>
                </a:rPr>
                <a:t>M</a:t>
              </a:r>
              <a:r>
                <a:rPr b="0" lang="en-GB" sz="2400" spc="-1" strike="noStrike" baseline="-25000">
                  <a:solidFill>
                    <a:srgbClr val="0000cc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709920" y="4087800"/>
            <a:ext cx="3404520" cy="439200"/>
            <a:chOff x="709920" y="4087800"/>
            <a:chExt cx="3404520" cy="439200"/>
          </a:xfrm>
        </p:grpSpPr>
        <p:sp>
          <p:nvSpPr>
            <p:cNvPr id="359" name=""/>
            <p:cNvSpPr/>
            <p:nvPr/>
          </p:nvSpPr>
          <p:spPr>
            <a:xfrm flipH="1">
              <a:off x="1074240" y="4308480"/>
              <a:ext cx="3040200" cy="0"/>
            </a:xfrm>
            <a:prstGeom prst="line">
              <a:avLst/>
            </a:prstGeom>
            <a:ln w="1260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9920" y="408780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000" spc="-1" strike="noStrike">
                  <a:solidFill>
                    <a:srgbClr val="0000cc"/>
                  </a:solidFill>
                  <a:latin typeface="Arial"/>
                </a:rPr>
                <a:t>r</a:t>
              </a:r>
              <a:r>
                <a:rPr b="0" lang="en-GB" sz="2000" spc="-1" strike="noStrike" baseline="-25000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899520" y="4325760"/>
            <a:ext cx="465480" cy="2071440"/>
            <a:chOff x="3899520" y="4325760"/>
            <a:chExt cx="465480" cy="2071440"/>
          </a:xfrm>
        </p:grpSpPr>
        <p:sp>
          <p:nvSpPr>
            <p:cNvPr id="362" name=""/>
            <p:cNvSpPr/>
            <p:nvPr/>
          </p:nvSpPr>
          <p:spPr>
            <a:xfrm>
              <a:off x="4130640" y="4325760"/>
              <a:ext cx="0" cy="1648080"/>
            </a:xfrm>
            <a:prstGeom prst="line">
              <a:avLst/>
            </a:prstGeom>
            <a:ln w="1260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899520" y="5958000"/>
              <a:ext cx="465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000" spc="-1" strike="noStrike">
                  <a:solidFill>
                    <a:srgbClr val="0000cc"/>
                  </a:solidFill>
                  <a:latin typeface="Arial"/>
                </a:rPr>
                <a:t>Q</a:t>
              </a:r>
              <a:r>
                <a:rPr b="0" lang="en-GB" sz="2000" spc="-1" strike="noStrike" baseline="-25000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4070520" y="4246560"/>
            <a:ext cx="102960" cy="1033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68560" y="6278400"/>
            <a:ext cx="95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16200000">
            <a:off x="-551160" y="330408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802160" y="-4723920"/>
            <a:ext cx="11791080" cy="10057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98" y="21583"/>
                </a:moveTo>
                <a:arcTo wR="10800" hR="10800" stAng="5591707" swAng="4616128"/>
                <a:lnTo>
                  <a:pt x="10800" y="10800"/>
                </a:lnTo>
                <a:close/>
              </a:path>
              <a:path fill="none" w="21600" h="21600">
                <a:moveTo>
                  <a:pt x="10198" y="21583"/>
                </a:moveTo>
                <a:arcTo wR="10800" hR="10800" stAng="5591707" swAng="4616128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3885840" y="1066680"/>
            <a:ext cx="762120" cy="4724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434000" y="5132520"/>
            <a:ext cx="5385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0000cc"/>
                </a:solidFill>
                <a:latin typeface="Arial"/>
              </a:rPr>
              <a:t>M</a:t>
            </a:r>
            <a:r>
              <a:rPr b="0" lang="en-GB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1074240" y="4308480"/>
            <a:ext cx="304020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0640" y="4325760"/>
            <a:ext cx="0" cy="15955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070520" y="4246560"/>
            <a:ext cx="102960" cy="1033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09920" y="408780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GB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99520" y="59580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GB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716400" y="3032280"/>
            <a:ext cx="2151720" cy="439200"/>
            <a:chOff x="716400" y="3032280"/>
            <a:chExt cx="2151720" cy="439200"/>
          </a:xfrm>
        </p:grpSpPr>
        <p:sp>
          <p:nvSpPr>
            <p:cNvPr id="380" name=""/>
            <p:cNvSpPr/>
            <p:nvPr/>
          </p:nvSpPr>
          <p:spPr>
            <a:xfrm flipH="1">
              <a:off x="1074240" y="3209760"/>
              <a:ext cx="1793880" cy="0"/>
            </a:xfrm>
            <a:prstGeom prst="line">
              <a:avLst/>
            </a:prstGeom>
            <a:ln w="1260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6400" y="303228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000" spc="-1" strike="noStrike">
                  <a:solidFill>
                    <a:srgbClr val="cc0000"/>
                  </a:solidFill>
                  <a:latin typeface="Arial"/>
                </a:rPr>
                <a:t>r</a:t>
              </a:r>
              <a:r>
                <a:rPr b="0" lang="en-GB" sz="2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2642040" y="3209760"/>
            <a:ext cx="465480" cy="3158640"/>
            <a:chOff x="2642040" y="3209760"/>
            <a:chExt cx="465480" cy="3158640"/>
          </a:xfrm>
        </p:grpSpPr>
        <p:sp>
          <p:nvSpPr>
            <p:cNvPr id="383" name=""/>
            <p:cNvSpPr/>
            <p:nvPr/>
          </p:nvSpPr>
          <p:spPr>
            <a:xfrm>
              <a:off x="2886120" y="3209760"/>
              <a:ext cx="0" cy="2729160"/>
            </a:xfrm>
            <a:prstGeom prst="line">
              <a:avLst/>
            </a:prstGeom>
            <a:ln w="1260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642040" y="5929200"/>
              <a:ext cx="465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000" spc="-1" strike="noStrike">
                  <a:solidFill>
                    <a:srgbClr val="cc0000"/>
                  </a:solidFill>
                  <a:latin typeface="Arial"/>
                </a:rPr>
                <a:t>Q</a:t>
              </a:r>
              <a:r>
                <a:rPr b="0" lang="en-GB" sz="2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 flipV="1">
            <a:off x="853920" y="3448080"/>
            <a:ext cx="0" cy="60336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3089160" y="6140520"/>
            <a:ext cx="75096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2480760" y="487440"/>
            <a:ext cx="1878120" cy="5218200"/>
            <a:chOff x="2480760" y="487440"/>
            <a:chExt cx="1878120" cy="5218200"/>
          </a:xfrm>
        </p:grpSpPr>
        <p:sp>
          <p:nvSpPr>
            <p:cNvPr id="388" name=""/>
            <p:cNvSpPr/>
            <p:nvPr/>
          </p:nvSpPr>
          <p:spPr>
            <a:xfrm flipH="1">
              <a:off x="2480760" y="981000"/>
              <a:ext cx="762120" cy="4724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19320" y="487440"/>
              <a:ext cx="67464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cc0000"/>
                  </a:solidFill>
                  <a:latin typeface="Arial"/>
                </a:rPr>
                <a:t>M</a:t>
              </a:r>
              <a:r>
                <a:rPr b="0" lang="en-GB" sz="2400" spc="-1" strike="noStrike" baseline="-25000">
                  <a:solidFill>
                    <a:srgbClr val="cc0000"/>
                  </a:solidFill>
                  <a:latin typeface="Arial"/>
                </a:rPr>
                <a:t>S</a:t>
              </a:r>
              <a:r>
                <a:rPr b="0" i="1" lang="en-GB" sz="2800" spc="-1" strike="noStrike">
                  <a:solidFill>
                    <a:srgbClr val="cc0000"/>
                  </a:solidFill>
                  <a:latin typeface="Playbill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3215880" y="2037960"/>
              <a:ext cx="1143000" cy="468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4405320" y="590400"/>
            <a:ext cx="6904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0000cc"/>
                </a:solidFill>
                <a:latin typeface="Arial"/>
              </a:rPr>
              <a:t>M</a:t>
            </a:r>
            <a:r>
              <a:rPr b="0" lang="en-GB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830680" y="3152880"/>
            <a:ext cx="102960" cy="1029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53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Arial"/>
              </a:rPr>
              <a:t>The demand for and supply of money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Monetary Equilibrium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38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"/>
              </a:rPr>
              <a:t>Effects of changes in money supply on national incom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3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993300"/>
                </a:solidFill>
                <a:latin typeface="Arial"/>
              </a:rPr>
              <a:t>effect on interest rates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Ms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3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993300"/>
                </a:solidFill>
                <a:latin typeface="Arial"/>
              </a:rPr>
              <a:t>effects of changes in interest rates on investment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I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Monetary Equilibrium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38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"/>
              </a:rPr>
              <a:t>Effects of changes in money supply on national incom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3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993300"/>
                </a:solidFill>
                <a:latin typeface="Arial"/>
              </a:rPr>
              <a:t>effect on interest rates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Ms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3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993300"/>
                </a:solidFill>
                <a:latin typeface="Arial"/>
              </a:rPr>
              <a:t>effects of changes in interest rates on investment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I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3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993300"/>
                </a:solidFill>
                <a:latin typeface="Arial"/>
              </a:rPr>
              <a:t>effects of changes in interest rates on the exchange rate, and imports and exports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er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X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,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M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Monetary Equilibrium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38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"/>
              </a:rPr>
              <a:t>Effects of changes in money supply on national incom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3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993300"/>
                </a:solidFill>
                <a:latin typeface="Arial"/>
              </a:rPr>
              <a:t>effect on interest rates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Ms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3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993300"/>
                </a:solidFill>
                <a:latin typeface="Arial"/>
              </a:rPr>
              <a:t>effects of changes in interest rates on investment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I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3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993300"/>
                </a:solidFill>
                <a:latin typeface="Arial"/>
              </a:rPr>
              <a:t>effects of changes in interest rates on the exchange rate, and imports and exports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er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X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,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M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3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993300"/>
                </a:solidFill>
                <a:latin typeface="Arial"/>
              </a:rPr>
              <a:t>effects of changes in investment, imports and exports on national income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I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,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X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,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M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Y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Monetary Polic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5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significance of monetary polic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5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policy setting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27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relationship between the government and the central bank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27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degree of central bank independenc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5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Medium- and long-term polic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27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control of banks’ liquidity ratio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27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restricting size of PSNCR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Monetary Polic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Short-term monetary contro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4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echniques to control money suppl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open-market operatio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reduced central bank lending to the bank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funding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variable minimum reserve ratio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4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echniques to control interest rate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announcing changes in interest rate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backing up announcement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001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operations in the discount and repo markets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4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credit rationing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04480" y="-360"/>
            <a:ext cx="8039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800080"/>
                </a:solidFill>
                <a:latin typeface="Arial"/>
              </a:rPr>
              <a:t>Effectiveness of Monetary Policy</a:t>
            </a:r>
            <a:endParaRPr b="1" lang="en-US" sz="39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Medium and long-term control over the money supply: reducing PSNCR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automatic fiscal stabiliser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he desire to cut taxe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difficulty in cutting government expenditur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Short-term control of the money suppl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use of money supply targe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ways in which banks resist attempts to restrict the growth in the money suppl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demand-determined money suppl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ffectiveness of controlling interest rat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inelastic demand for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possibly high interest rate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title"/>
          </p:nvPr>
        </p:nvSpPr>
        <p:spPr>
          <a:xfrm>
            <a:off x="1103040" y="-360"/>
            <a:ext cx="8039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800080"/>
                </a:solidFill>
                <a:latin typeface="Arial"/>
              </a:rPr>
              <a:t>Effectiveness of Monetary Policy</a:t>
            </a:r>
            <a:endParaRPr b="1" lang="en-US" sz="39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70520" y="-5841360"/>
            <a:ext cx="9937080" cy="12606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402" y="19501"/>
                </a:moveTo>
                <a:arcTo wR="10800" hR="10800" stAng="7579571" swAng="2842327"/>
                <a:lnTo>
                  <a:pt x="10800" y="10800"/>
                </a:lnTo>
                <a:close/>
              </a:path>
              <a:path fill="none" w="21600" h="21600">
                <a:moveTo>
                  <a:pt x="4402" y="19501"/>
                </a:moveTo>
                <a:arcTo wR="10800" hR="10800" stAng="7579571" swAng="2842327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375520" y="5327640"/>
            <a:ext cx="219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Demand for lo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074600" y="4967280"/>
            <a:ext cx="358956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662360" y="4967280"/>
            <a:ext cx="0" cy="9716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603680" y="4906800"/>
            <a:ext cx="103320" cy="1033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431240" y="59943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GB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348360" y="60120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GB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4322880" y="1749600"/>
            <a:ext cx="3538440" cy="1233360"/>
            <a:chOff x="4322880" y="1749600"/>
            <a:chExt cx="3538440" cy="1233360"/>
          </a:xfrm>
        </p:grpSpPr>
        <p:sp>
          <p:nvSpPr>
            <p:cNvPr id="428" name=""/>
            <p:cNvSpPr/>
            <p:nvPr/>
          </p:nvSpPr>
          <p:spPr>
            <a:xfrm>
              <a:off x="4322880" y="1749600"/>
              <a:ext cx="3538440" cy="123336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57160" y="1854360"/>
              <a:ext cx="3338280" cy="1049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Arial"/>
                </a:rPr>
                <a:t>Assume that  the author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Arial"/>
                </a:rPr>
                <a:t>want to reduce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Arial"/>
                </a:rPr>
                <a:t>demand for money to </a:t>
              </a:r>
              <a:r>
                <a:rPr b="0" i="1" lang="en-GB" sz="2000" spc="-1" strike="noStrike">
                  <a:solidFill>
                    <a:srgbClr val="006600"/>
                  </a:solidFill>
                  <a:latin typeface="Arial"/>
                </a:rPr>
                <a:t>Q</a:t>
              </a:r>
              <a:r>
                <a:rPr b="0" lang="en-GB" sz="20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765720" y="476712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GB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076280" y="6429240"/>
            <a:ext cx="947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oa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rot="16200000">
            <a:off x="-648360" y="2968560"/>
            <a:ext cx="208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3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An inelastic demand for loan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614840" y="1341360"/>
            <a:ext cx="3870360" cy="523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1800" y="3943440"/>
            <a:ext cx="7853400" cy="261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752760" y="2664000"/>
            <a:ext cx="2812680" cy="439200"/>
            <a:chOff x="752760" y="2664000"/>
            <a:chExt cx="2812680" cy="439200"/>
          </a:xfrm>
        </p:grpSpPr>
        <p:sp>
          <p:nvSpPr>
            <p:cNvPr id="436" name=""/>
            <p:cNvSpPr/>
            <p:nvPr/>
          </p:nvSpPr>
          <p:spPr>
            <a:xfrm flipH="1">
              <a:off x="1092240" y="2879640"/>
              <a:ext cx="24732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2760" y="266400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000" spc="-1" strike="noStrike">
                  <a:solidFill>
                    <a:srgbClr val="cc0000"/>
                  </a:solidFill>
                  <a:latin typeface="Arial"/>
                </a:rPr>
                <a:t>r</a:t>
              </a:r>
              <a:r>
                <a:rPr b="0" lang="en-GB" sz="2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70520" y="-5841360"/>
            <a:ext cx="9937080" cy="12606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402" y="19501"/>
                </a:moveTo>
                <a:arcTo wR="10800" hR="10800" stAng="7579571" swAng="2842327"/>
                <a:lnTo>
                  <a:pt x="10800" y="10800"/>
                </a:lnTo>
                <a:close/>
              </a:path>
              <a:path fill="none" w="21600" h="21600">
                <a:moveTo>
                  <a:pt x="4402" y="19501"/>
                </a:moveTo>
                <a:arcTo wR="10800" hR="10800" stAng="7579571" swAng="2842327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375520" y="5327640"/>
            <a:ext cx="219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Demand for lo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074600" y="4967280"/>
            <a:ext cx="358956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662360" y="4967280"/>
            <a:ext cx="0" cy="9716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65720" y="476712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GB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603680" y="4906800"/>
            <a:ext cx="103320" cy="1033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431240" y="59943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GB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348360" y="60120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GB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4834080" y="1749600"/>
            <a:ext cx="2550960" cy="1233360"/>
            <a:chOff x="4834080" y="1749600"/>
            <a:chExt cx="2550960" cy="1233360"/>
          </a:xfrm>
        </p:grpSpPr>
        <p:sp>
          <p:nvSpPr>
            <p:cNvPr id="450" name=""/>
            <p:cNvSpPr/>
            <p:nvPr/>
          </p:nvSpPr>
          <p:spPr>
            <a:xfrm>
              <a:off x="4834080" y="1749600"/>
              <a:ext cx="2550960" cy="123336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62520" y="1854360"/>
              <a:ext cx="2501640" cy="1049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Arial"/>
                </a:rPr>
                <a:t>A large rise in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Arial"/>
                </a:rPr>
                <a:t>rate of interest (to </a:t>
              </a:r>
              <a:r>
                <a:rPr b="0" i="1" lang="en-GB" sz="2000" spc="-1" strike="noStrike">
                  <a:solidFill>
                    <a:srgbClr val="006600"/>
                  </a:solidFill>
                  <a:latin typeface="Arial"/>
                </a:rPr>
                <a:t>r</a:t>
              </a:r>
              <a:r>
                <a:rPr b="0" lang="en-GB" sz="20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0" lang="en-GB" sz="2000" spc="-1" strike="noStrike">
                  <a:solidFill>
                    <a:srgbClr val="0066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Arial"/>
                </a:rPr>
                <a:t>will be necess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 flipV="1">
            <a:off x="3546360" y="2862000"/>
            <a:ext cx="0" cy="305892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494160" y="2824200"/>
            <a:ext cx="102960" cy="10332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076280" y="6429240"/>
            <a:ext cx="947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oa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6200000">
            <a:off x="-648360" y="2968560"/>
            <a:ext cx="208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3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An inelastic demand for loan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ffectiveness of controlling interest rat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inelastic demand for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possibly high interest rate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reasons for an inelastic demand for loa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1103040" y="-360"/>
            <a:ext cx="8039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800080"/>
                </a:solidFill>
                <a:latin typeface="Arial"/>
              </a:rPr>
              <a:t>Effectiveness of Monetary Policy</a:t>
            </a:r>
            <a:endParaRPr b="1" lang="en-US" sz="39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ffectiveness of controlling interest rat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inelastic demand for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possibly high interest rate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reasons for an inelastic demand for loa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unstable demand for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1103040" y="-360"/>
            <a:ext cx="8039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800080"/>
                </a:solidFill>
                <a:latin typeface="Arial"/>
              </a:rPr>
              <a:t>Effectiveness of Monetary Policy</a:t>
            </a:r>
            <a:endParaRPr b="1" lang="en-US" sz="39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ffectiveness of controlling interest rat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inelastic demand for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possibly high interest rate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reasons for an inelastic demand for loa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unstable demand for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changing expectatio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1103040" y="-360"/>
            <a:ext cx="8039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800080"/>
                </a:solidFill>
                <a:latin typeface="Arial"/>
              </a:rPr>
              <a:t>Effectiveness of Monetary Policy</a:t>
            </a:r>
            <a:endParaRPr b="1" lang="en-US" sz="39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ffectiveness of controlling interest rat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inelastic demand for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possibly high interest rate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reasons for an inelastic demand for loa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unstable demand for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changing expectatio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speculation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1103040" y="-360"/>
            <a:ext cx="8039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800080"/>
                </a:solidFill>
                <a:latin typeface="Arial"/>
              </a:rPr>
              <a:t>Effectiveness of Monetary Policy</a:t>
            </a:r>
            <a:endParaRPr b="1" lang="en-US" sz="39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ffectiveness of controlling interest rat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inelastic demand for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possibly high interest rate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reasons for an inelastic demand for loa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unstable demand for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changing expectatio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speculation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possible conflict between domestic goals and exchange-rate goal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title"/>
          </p:nvPr>
        </p:nvSpPr>
        <p:spPr>
          <a:xfrm>
            <a:off x="1103040" y="-360"/>
            <a:ext cx="8039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800080"/>
                </a:solidFill>
                <a:latin typeface="Arial"/>
              </a:rPr>
              <a:t>Effectiveness of Monetary Policy</a:t>
            </a:r>
            <a:endParaRPr b="1" lang="en-US" sz="39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ffectiveness of controlling interest rat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inelastic demand for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possibly high interest rate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reasons for an inelastic demand for loa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unstable demand for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changing expectatio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speculation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possible conflict between domestic goals and exchange-rate goal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Using monetary polic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title"/>
          </p:nvPr>
        </p:nvSpPr>
        <p:spPr>
          <a:xfrm>
            <a:off x="1103040" y="-360"/>
            <a:ext cx="8039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800080"/>
                </a:solidFill>
                <a:latin typeface="Arial"/>
              </a:rPr>
              <a:t>Effectiveness of Monetary Policy</a:t>
            </a:r>
            <a:endParaRPr b="1" lang="en-US" sz="39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ffectiveness of controlling interest rat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inelastic demand for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31480" indent="-22608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possibly high interest rate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31480" indent="-22608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reasons for an inelastic demand for loa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unstable demand for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31480" indent="-22608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changing expectatio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31480" indent="-22608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speculation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possible conflict between domestic goals and exchange-rate goal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Using monetary polic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use of interest rates to meet inflation target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1103040" y="-360"/>
            <a:ext cx="8039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800080"/>
                </a:solidFill>
                <a:latin typeface="Arial"/>
              </a:rPr>
              <a:t>Effectiveness of Monetary Policy</a:t>
            </a:r>
            <a:endParaRPr b="1" lang="en-US" sz="39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Financial System in the UK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key role of bank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deposits and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liabilities and asse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retail and wholesale deposits and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Liabiliti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ight deposi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ime deposi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certificates of deposit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614840" y="1341360"/>
            <a:ext cx="3870360" cy="523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1800" y="4373640"/>
            <a:ext cx="7853400" cy="21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3T18:15:04Z</dcterms:created>
  <dc:creator>John Sloman</dc:creator>
  <dc:description/>
  <dc:language>en-US</dc:language>
  <cp:lastModifiedBy>John Sloman</cp:lastModifiedBy>
  <dcterms:modified xsi:type="dcterms:W3CDTF">2003-10-20T20:14:22Z</dcterms:modified>
  <cp:revision>43</cp:revision>
  <dc:subject/>
  <dc:title>No Slide Title</dc:title>
</cp:coreProperties>
</file>