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CEFB-9483-4F97-8A99-B1872C0AC3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711360" y="1066680"/>
            <a:ext cx="843264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42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620640" y="1066680"/>
            <a:ext cx="852336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3" name="glow" descr=""/>
          <p:cNvPicPr/>
          <p:nvPr/>
        </p:nvPicPr>
        <p:blipFill>
          <a:blip r:embed="rId4"/>
          <a:srcRect l="513" t="25134" r="97570" b="453"/>
          <a:stretch/>
        </p:blipFill>
        <p:spPr>
          <a:xfrm>
            <a:off x="8545680" y="1050840"/>
            <a:ext cx="598320" cy="5807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7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8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19.png"/><Relationship Id="rId8" Type="http://schemas.openxmlformats.org/officeDocument/2006/relationships/package" Target="../embeddings/oleObject4.pptx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artglow" descr=""/>
          <p:cNvPicPr/>
          <p:nvPr/>
        </p:nvPicPr>
        <p:blipFill>
          <a:blip r:embed="rId1"/>
          <a:srcRect l="19068" t="12229" r="0" b="31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92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93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94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96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97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98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Government Interv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 the Mark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46280" y="601200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160800" y="6337440"/>
            <a:ext cx="2550960" cy="427320"/>
            <a:chOff x="3160800" y="6337440"/>
            <a:chExt cx="2550960" cy="427320"/>
          </a:xfrm>
        </p:grpSpPr>
        <p:sp>
          <p:nvSpPr>
            <p:cNvPr id="1706" name=""/>
            <p:cNvSpPr/>
            <p:nvPr/>
          </p:nvSpPr>
          <p:spPr>
            <a:xfrm>
              <a:off x="3160800" y="6337440"/>
              <a:ext cx="25509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955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0" y="1148400"/>
            <a:ext cx="468360" cy="1430280"/>
            <a:chOff x="0" y="1148400"/>
            <a:chExt cx="468360" cy="1430280"/>
          </a:xfrm>
        </p:grpSpPr>
        <p:sp>
          <p:nvSpPr>
            <p:cNvPr id="1730" name=""/>
            <p:cNvSpPr/>
            <p:nvPr/>
          </p:nvSpPr>
          <p:spPr>
            <a:xfrm rot="16200000">
              <a:off x="-516240" y="1664640"/>
              <a:ext cx="143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Import lev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8360" y="1473120"/>
              <a:ext cx="0" cy="862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3435480" y="1460520"/>
            <a:ext cx="2031840" cy="915480"/>
            <a:chOff x="3435480" y="1460520"/>
            <a:chExt cx="2031840" cy="915480"/>
          </a:xfrm>
        </p:grpSpPr>
        <p:sp>
          <p:nvSpPr>
            <p:cNvPr id="1736" name=""/>
            <p:cNvSpPr/>
            <p:nvPr/>
          </p:nvSpPr>
          <p:spPr>
            <a:xfrm>
              <a:off x="3435480" y="1463760"/>
              <a:ext cx="2031840" cy="87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cc0000"/>
              </a:solidFill>
              <a:prstDash val="dash"/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41680" y="1460520"/>
              <a:ext cx="179748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MOUNT PA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 IM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LEV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152880" y="601488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-516240" y="16646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mport le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68360" y="1473120"/>
            <a:ext cx="0" cy="8622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789360" y="6337440"/>
            <a:ext cx="1446120" cy="462240"/>
            <a:chOff x="3789360" y="6337440"/>
            <a:chExt cx="1446120" cy="462240"/>
          </a:xfrm>
        </p:grpSpPr>
        <p:sp>
          <p:nvSpPr>
            <p:cNvPr id="1761" name=""/>
            <p:cNvSpPr/>
            <p:nvPr/>
          </p:nvSpPr>
          <p:spPr>
            <a:xfrm>
              <a:off x="3789360" y="6337440"/>
              <a:ext cx="1446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895560" y="640224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3424320" y="1558800"/>
            <a:ext cx="6120" cy="4349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1951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5398920" y="1398600"/>
            <a:ext cx="127080" cy="4521240"/>
            <a:chOff x="5398920" y="1398600"/>
            <a:chExt cx="127080" cy="4521240"/>
          </a:xfrm>
        </p:grpSpPr>
        <p:sp>
          <p:nvSpPr>
            <p:cNvPr id="1766" name=""/>
            <p:cNvSpPr/>
            <p:nvPr/>
          </p:nvSpPr>
          <p:spPr>
            <a:xfrm>
              <a:off x="5398920" y="139860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468760" y="1522440"/>
              <a:ext cx="6480" cy="43974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362400" y="13953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1959120" y="1073160"/>
            <a:ext cx="5931000" cy="4536000"/>
            <a:chOff x="1959120" y="1073160"/>
            <a:chExt cx="5931000" cy="4536000"/>
          </a:xfrm>
        </p:grpSpPr>
        <p:sp>
          <p:nvSpPr>
            <p:cNvPr id="1784" name=""/>
            <p:cNvSpPr/>
            <p:nvPr/>
          </p:nvSpPr>
          <p:spPr>
            <a:xfrm>
              <a:off x="7239960" y="5100480"/>
              <a:ext cx="650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959120" y="1073160"/>
              <a:ext cx="526392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1725120" y="803160"/>
            <a:ext cx="5901840" cy="4567320"/>
            <a:chOff x="1725120" y="803160"/>
            <a:chExt cx="5901840" cy="4567320"/>
          </a:xfrm>
        </p:grpSpPr>
        <p:sp>
          <p:nvSpPr>
            <p:cNvPr id="1787" name=""/>
            <p:cNvSpPr/>
            <p:nvPr/>
          </p:nvSpPr>
          <p:spPr>
            <a:xfrm>
              <a:off x="6993720" y="803160"/>
              <a:ext cx="63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1725120" y="1109520"/>
              <a:ext cx="526428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36760" y="2155680"/>
            <a:ext cx="7113240" cy="473760"/>
            <a:chOff x="536760" y="2155680"/>
            <a:chExt cx="7113240" cy="473760"/>
          </a:xfrm>
        </p:grpSpPr>
        <p:sp>
          <p:nvSpPr>
            <p:cNvPr id="1791" name=""/>
            <p:cNvSpPr/>
            <p:nvPr/>
          </p:nvSpPr>
          <p:spPr>
            <a:xfrm>
              <a:off x="536760" y="2155680"/>
              <a:ext cx="4881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2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GB" sz="22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68480" y="2341440"/>
              <a:ext cx="65815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214960" y="1873080"/>
            <a:ext cx="354240" cy="527400"/>
            <a:chOff x="5214960" y="1873080"/>
            <a:chExt cx="354240" cy="527400"/>
          </a:xfrm>
        </p:grpSpPr>
        <p:sp>
          <p:nvSpPr>
            <p:cNvPr id="1794" name=""/>
            <p:cNvSpPr/>
            <p:nvPr/>
          </p:nvSpPr>
          <p:spPr>
            <a:xfrm>
              <a:off x="5214960" y="187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25920" y="227340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424320" y="1847880"/>
            <a:ext cx="354240" cy="558720"/>
            <a:chOff x="3424320" y="1847880"/>
            <a:chExt cx="354240" cy="558720"/>
          </a:xfrm>
        </p:grpSpPr>
        <p:sp>
          <p:nvSpPr>
            <p:cNvPr id="1797" name=""/>
            <p:cNvSpPr/>
            <p:nvPr/>
          </p:nvSpPr>
          <p:spPr>
            <a:xfrm>
              <a:off x="3424320" y="1847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56000" y="227952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3772080" y="6302520"/>
            <a:ext cx="1412640" cy="446400"/>
            <a:chOff x="3772080" y="6302520"/>
            <a:chExt cx="1412640" cy="446400"/>
          </a:xfrm>
        </p:grpSpPr>
        <p:sp>
          <p:nvSpPr>
            <p:cNvPr id="1801" name=""/>
            <p:cNvSpPr/>
            <p:nvPr/>
          </p:nvSpPr>
          <p:spPr>
            <a:xfrm>
              <a:off x="3772080" y="6302520"/>
              <a:ext cx="1412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982320" y="635148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Ex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2448000" y="1469880"/>
            <a:ext cx="4105080" cy="4473720"/>
            <a:chOff x="2448000" y="1469880"/>
            <a:chExt cx="4105080" cy="4473720"/>
          </a:xfrm>
        </p:grpSpPr>
        <p:sp>
          <p:nvSpPr>
            <p:cNvPr id="1806" name=""/>
            <p:cNvSpPr/>
            <p:nvPr/>
          </p:nvSpPr>
          <p:spPr>
            <a:xfrm>
              <a:off x="2448000" y="1469880"/>
              <a:ext cx="4105080" cy="447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915720" y="3633840"/>
              <a:ext cx="1169640" cy="519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CO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2435400" y="2346480"/>
            <a:ext cx="4103640" cy="3592440"/>
            <a:chOff x="2435400" y="2346480"/>
            <a:chExt cx="4103640" cy="3592440"/>
          </a:xfrm>
        </p:grpSpPr>
        <p:sp>
          <p:nvSpPr>
            <p:cNvPr id="1810" name=""/>
            <p:cNvSpPr/>
            <p:nvPr/>
          </p:nvSpPr>
          <p:spPr>
            <a:xfrm>
              <a:off x="2435400" y="2346480"/>
              <a:ext cx="4103640" cy="3592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60560" y="4091040"/>
              <a:ext cx="3265200" cy="1189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REVENUE 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SALE OF 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ON WORLD 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535800" y="1447920"/>
            <a:ext cx="0" cy="44766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438280" y="1447920"/>
            <a:ext cx="0" cy="4495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229080" y="601488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36760" y="2155680"/>
            <a:ext cx="488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2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GB" sz="2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582480" y="1297080"/>
            <a:ext cx="7091640" cy="508680"/>
            <a:chOff x="582480" y="1297080"/>
            <a:chExt cx="7091640" cy="508680"/>
          </a:xfrm>
        </p:grpSpPr>
        <p:sp>
          <p:nvSpPr>
            <p:cNvPr id="1822" name=""/>
            <p:cNvSpPr/>
            <p:nvPr/>
          </p:nvSpPr>
          <p:spPr>
            <a:xfrm>
              <a:off x="1058760" y="1463760"/>
              <a:ext cx="6615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2480" y="1297080"/>
              <a:ext cx="427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6993000" y="803160"/>
            <a:ext cx="63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1567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239240" y="5100480"/>
            <a:ext cx="650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424320" y="184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214960" y="1873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68480" y="2341440"/>
            <a:ext cx="65815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425920" y="227340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456000" y="227952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143800" y="1892160"/>
            <a:ext cx="4733640" cy="505080"/>
            <a:chOff x="2143800" y="1892160"/>
            <a:chExt cx="4733640" cy="505080"/>
          </a:xfrm>
        </p:grpSpPr>
        <p:grpSp>
          <p:nvGrpSpPr>
            <p:cNvPr id="1839" name=""/>
            <p:cNvGrpSpPr/>
            <p:nvPr/>
          </p:nvGrpSpPr>
          <p:grpSpPr>
            <a:xfrm>
              <a:off x="2143800" y="1892160"/>
              <a:ext cx="359640" cy="498600"/>
              <a:chOff x="2143800" y="1892160"/>
              <a:chExt cx="359640" cy="498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2143800" y="18921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376360" y="226368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473880" y="1911240"/>
              <a:ext cx="403560" cy="486000"/>
              <a:chOff x="6473880" y="1911240"/>
              <a:chExt cx="403560" cy="486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6540120" y="19112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73880" y="227016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2548080" y="6477120"/>
            <a:ext cx="3929040" cy="397440"/>
            <a:chOff x="2548080" y="6477120"/>
            <a:chExt cx="3929040" cy="397440"/>
          </a:xfrm>
        </p:grpSpPr>
        <p:sp>
          <p:nvSpPr>
            <p:cNvPr id="1846" name=""/>
            <p:cNvSpPr/>
            <p:nvPr/>
          </p:nvSpPr>
          <p:spPr>
            <a:xfrm>
              <a:off x="2548080" y="6500880"/>
              <a:ext cx="392904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16440" y="64771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3576600" y="1628640"/>
            <a:ext cx="17244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"/>
          <p:cNvGrpSpPr/>
          <p:nvPr/>
        </p:nvGrpSpPr>
        <p:grpSpPr>
          <a:xfrm>
            <a:off x="3015720" y="676440"/>
            <a:ext cx="3032640" cy="717480"/>
            <a:chOff x="3015720" y="676440"/>
            <a:chExt cx="3032640" cy="717480"/>
          </a:xfrm>
        </p:grpSpPr>
        <p:sp>
          <p:nvSpPr>
            <p:cNvPr id="1850" name=""/>
            <p:cNvSpPr/>
            <p:nvPr/>
          </p:nvSpPr>
          <p:spPr>
            <a:xfrm>
              <a:off x="3492360" y="676440"/>
              <a:ext cx="2556000" cy="6141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Intervention 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015720" y="1039680"/>
              <a:ext cx="476280" cy="354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85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856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aking land out of use (e.g. set aside)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58800" y="1297080"/>
            <a:ext cx="8485200" cy="52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Justification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ssured supplies of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pport for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owth in agricultural productivit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able agricultural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asonable prices for consumers.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588960" y="627120"/>
            <a:ext cx="7875720" cy="5891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6" name="" descr=""/>
          <p:cNvPicPr/>
          <p:nvPr/>
        </p:nvPicPr>
        <p:blipFill>
          <a:blip r:embed="rId2"/>
          <a:stretch/>
        </p:blipFill>
        <p:spPr>
          <a:xfrm>
            <a:off x="154080" y="601560"/>
            <a:ext cx="8542080" cy="592308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 Narrow"/>
              </a:rPr>
              <a:t>The cost of price and other market support for agriculture in the EU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gricultural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atic cos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43360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3112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919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922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2701800" y="6302520"/>
            <a:ext cx="3570480" cy="451440"/>
            <a:chOff x="2701800" y="6302520"/>
            <a:chExt cx="3570480" cy="451440"/>
          </a:xfrm>
        </p:grpSpPr>
        <p:sp>
          <p:nvSpPr>
            <p:cNvPr id="1925" name=""/>
            <p:cNvSpPr/>
            <p:nvPr/>
          </p:nvSpPr>
          <p:spPr>
            <a:xfrm>
              <a:off x="2701800" y="6302520"/>
              <a:ext cx="35704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965760" y="63565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433600" y="1498680"/>
            <a:ext cx="0" cy="4443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430360" y="1469880"/>
            <a:ext cx="4102200" cy="446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531120" y="1511280"/>
            <a:ext cx="0" cy="4430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540120" y="55292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2866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5840" y="965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087640" y="5492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376360" y="139536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94000" y="5884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461280" y="5886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01800" y="6302520"/>
            <a:ext cx="35704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965760" y="6356520"/>
            <a:ext cx="104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486960" y="3029040"/>
            <a:ext cx="2114280" cy="13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602640" y="1246320"/>
            <a:ext cx="5891760" cy="578160"/>
            <a:chOff x="602640" y="1246320"/>
            <a:chExt cx="5891760" cy="578160"/>
          </a:xfrm>
        </p:grpSpPr>
        <p:sp>
          <p:nvSpPr>
            <p:cNvPr id="1975" name=""/>
            <p:cNvSpPr/>
            <p:nvPr/>
          </p:nvSpPr>
          <p:spPr>
            <a:xfrm>
              <a:off x="602640" y="1246320"/>
              <a:ext cx="4122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1085760" y="1473120"/>
              <a:ext cx="54086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597240" y="4603680"/>
            <a:ext cx="5844600" cy="578160"/>
            <a:chOff x="597240" y="4603680"/>
            <a:chExt cx="5844600" cy="578160"/>
          </a:xfrm>
        </p:grpSpPr>
        <p:sp>
          <p:nvSpPr>
            <p:cNvPr id="1978" name=""/>
            <p:cNvSpPr/>
            <p:nvPr/>
          </p:nvSpPr>
          <p:spPr>
            <a:xfrm>
              <a:off x="597240" y="4603680"/>
              <a:ext cx="457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1068120" y="4822920"/>
              <a:ext cx="53737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0" name=""/>
          <p:cNvGrpSpPr/>
          <p:nvPr/>
        </p:nvGrpSpPr>
        <p:grpSpPr>
          <a:xfrm>
            <a:off x="6523200" y="1608120"/>
            <a:ext cx="1114200" cy="3109680"/>
            <a:chOff x="6523200" y="1608120"/>
            <a:chExt cx="1114200" cy="3109680"/>
          </a:xfrm>
        </p:grpSpPr>
        <p:sp>
          <p:nvSpPr>
            <p:cNvPr id="1981" name=""/>
            <p:cNvSpPr/>
            <p:nvPr/>
          </p:nvSpPr>
          <p:spPr>
            <a:xfrm>
              <a:off x="6523200" y="1608120"/>
              <a:ext cx="0" cy="3109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545520" y="2954880"/>
              <a:ext cx="10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Subsi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405480" y="969840"/>
            <a:ext cx="354240" cy="563760"/>
            <a:chOff x="6405480" y="969840"/>
            <a:chExt cx="354240" cy="563760"/>
          </a:xfrm>
        </p:grpSpPr>
        <p:sp>
          <p:nvSpPr>
            <p:cNvPr id="1988" name=""/>
            <p:cNvSpPr/>
            <p:nvPr/>
          </p:nvSpPr>
          <p:spPr>
            <a:xfrm>
              <a:off x="64054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6465960" y="4483080"/>
            <a:ext cx="427320" cy="458280"/>
            <a:chOff x="6465960" y="4483080"/>
            <a:chExt cx="427320" cy="458280"/>
          </a:xfrm>
        </p:grpSpPr>
        <p:sp>
          <p:nvSpPr>
            <p:cNvPr id="1992" name=""/>
            <p:cNvSpPr/>
            <p:nvPr/>
          </p:nvSpPr>
          <p:spPr>
            <a:xfrm>
              <a:off x="6539040" y="448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465960" y="47451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2640" y="124632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069920" y="1469880"/>
            <a:ext cx="5462640" cy="331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68480" y="1455840"/>
            <a:ext cx="1366920" cy="32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4054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531120" y="4468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97240" y="4603680"/>
            <a:ext cx="457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6840" y="2484360"/>
            <a:ext cx="2922120" cy="94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464160" y="472140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2" name=""/>
          <p:cNvGraphicFramePr/>
          <p:nvPr/>
        </p:nvGraphicFramePr>
        <p:xfrm>
          <a:off x="0" y="1504800"/>
          <a:ext cx="4978440" cy="3959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04800"/>
                    <a:ext cx="4978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"/>
          <p:cNvGraphicFramePr/>
          <p:nvPr/>
        </p:nvGraphicFramePr>
        <p:xfrm>
          <a:off x="4613400" y="1521000"/>
          <a:ext cx="4530600" cy="3935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3400" y="1521000"/>
                    <a:ext cx="4530600" cy="39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1066680" y="673200"/>
            <a:ext cx="480852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7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5449680" cy="5916600"/>
          </a:xfrm>
          <a:prstGeom prst="rect">
            <a:avLst/>
          </a:prstGeom>
          <a:ln w="0">
            <a:noFill/>
          </a:ln>
        </p:spPr>
      </p:pic>
      <p:sp>
        <p:nvSpPr>
          <p:cNvPr id="202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/>
          <p:nvPr/>
        </p:nvSpPr>
        <p:spPr>
          <a:xfrm>
            <a:off x="1066680" y="673200"/>
            <a:ext cx="701064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1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8343720" cy="5916600"/>
          </a:xfrm>
          <a:prstGeom prst="rect">
            <a:avLst/>
          </a:prstGeom>
          <a:ln w="0">
            <a:noFill/>
          </a:ln>
        </p:spPr>
      </p:pic>
      <p:sp>
        <p:nvSpPr>
          <p:cNvPr id="2032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rrational relativ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moves disciplines of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istributive 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environ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rest of the worl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import lev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export subsid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8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017720" y="1584360"/>
            <a:ext cx="4984920" cy="4436640"/>
            <a:chOff x="1017720" y="1584360"/>
            <a:chExt cx="4984920" cy="4436640"/>
          </a:xfrm>
        </p:grpSpPr>
        <p:sp>
          <p:nvSpPr>
            <p:cNvPr id="2045" name=""/>
            <p:cNvSpPr/>
            <p:nvPr/>
          </p:nvSpPr>
          <p:spPr>
            <a:xfrm>
              <a:off x="1063800" y="2023920"/>
              <a:ext cx="4814640" cy="3918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57964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48400" y="15843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025640" y="16430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17720" y="55576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701800" y="6421320"/>
            <a:ext cx="2907000" cy="429480"/>
            <a:chOff x="2701800" y="6421320"/>
            <a:chExt cx="2907000" cy="429480"/>
          </a:xfrm>
        </p:grpSpPr>
        <p:sp>
          <p:nvSpPr>
            <p:cNvPr id="2066" name=""/>
            <p:cNvSpPr/>
            <p:nvPr/>
          </p:nvSpPr>
          <p:spPr>
            <a:xfrm>
              <a:off x="2701800" y="6421320"/>
              <a:ext cx="2907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089160" y="6453360"/>
              <a:ext cx="195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Original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703160" y="3525840"/>
            <a:ext cx="3531960" cy="107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RIGINAL 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6376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90680" y="1967040"/>
            <a:ext cx="0" cy="73008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609480" y="595440"/>
            <a:ext cx="3473640" cy="1814040"/>
            <a:chOff x="609480" y="595440"/>
            <a:chExt cx="3473640" cy="1814040"/>
          </a:xfrm>
        </p:grpSpPr>
        <p:sp>
          <p:nvSpPr>
            <p:cNvPr id="2096" name=""/>
            <p:cNvSpPr/>
            <p:nvPr/>
          </p:nvSpPr>
          <p:spPr>
            <a:xfrm flipV="1">
              <a:off x="609480" y="1234800"/>
              <a:ext cx="1882800" cy="117468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05080" y="595440"/>
              <a:ext cx="1778040" cy="12110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325240" y="650880"/>
              <a:ext cx="1739520" cy="109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Reduction 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interven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3908520" y="2681280"/>
            <a:ext cx="12254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4673520" y="2765520"/>
            <a:ext cx="3191040" cy="1490400"/>
            <a:chOff x="4673520" y="2765520"/>
            <a:chExt cx="3191040" cy="1490400"/>
          </a:xfrm>
        </p:grpSpPr>
        <p:sp>
          <p:nvSpPr>
            <p:cNvPr id="2128" name=""/>
            <p:cNvSpPr/>
            <p:nvPr/>
          </p:nvSpPr>
          <p:spPr>
            <a:xfrm>
              <a:off x="4673520" y="2765520"/>
              <a:ext cx="1548000" cy="901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194520" y="3316320"/>
              <a:ext cx="1670040" cy="93960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47880" y="3403440"/>
              <a:ext cx="1366200" cy="762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Effect o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Set-asi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1012680" y="2152800"/>
            <a:ext cx="3093120" cy="3876480"/>
            <a:chOff x="1012680" y="2152800"/>
            <a:chExt cx="3093120" cy="3876480"/>
          </a:xfrm>
        </p:grpSpPr>
        <p:sp>
          <p:nvSpPr>
            <p:cNvPr id="2137" name=""/>
            <p:cNvSpPr/>
            <p:nvPr/>
          </p:nvSpPr>
          <p:spPr>
            <a:xfrm>
              <a:off x="1063800" y="2625840"/>
              <a:ext cx="2649240" cy="3303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012680" y="218592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424320" y="215280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651120" y="5510160"/>
              <a:ext cx="454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1069920" y="2630520"/>
            <a:ext cx="264024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710160" y="2630520"/>
            <a:ext cx="0" cy="3295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014640" y="2630520"/>
            <a:ext cx="0" cy="3282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355200" y="594684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736360" y="59403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637080" y="2565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944800" y="256716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72320" y="6437160"/>
            <a:ext cx="2099160" cy="419760"/>
            <a:chOff x="2272320" y="6437160"/>
            <a:chExt cx="2099160" cy="419760"/>
          </a:xfrm>
        </p:grpSpPr>
        <p:sp>
          <p:nvSpPr>
            <p:cNvPr id="2173" name=""/>
            <p:cNvSpPr/>
            <p:nvPr/>
          </p:nvSpPr>
          <p:spPr>
            <a:xfrm>
              <a:off x="2272320" y="6459480"/>
              <a:ext cx="209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Reduced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057480" y="6437160"/>
              <a:ext cx="6127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1375200" y="3436920"/>
            <a:ext cx="201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2002 reform proposal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lack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4602240"/>
            <a:ext cx="0" cy="134460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1797120"/>
            <a:ext cx="0" cy="414972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068480" y="1779480"/>
            <a:ext cx="142848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59160" y="1700280"/>
            <a:ext cx="12672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8480" y="1758960"/>
            <a:ext cx="1439640" cy="280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576680"/>
            <a:ext cx="0" cy="137016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44760" y="1697040"/>
            <a:ext cx="12708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50800" y="2887200"/>
            <a:ext cx="6253200" cy="18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The Control of Pric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99720" y="2813040"/>
            <a:ext cx="7156440" cy="20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Indirect Tax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066680" y="1676520"/>
            <a:ext cx="457200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1355760"/>
            <a:ext cx="193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+ specific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72000" y="2514600"/>
            <a:ext cx="2188800" cy="1722960"/>
            <a:chOff x="4572000" y="2514600"/>
            <a:chExt cx="2188800" cy="1722960"/>
          </a:xfrm>
        </p:grpSpPr>
        <p:sp>
          <p:nvSpPr>
            <p:cNvPr id="367" name=""/>
            <p:cNvSpPr/>
            <p:nvPr/>
          </p:nvSpPr>
          <p:spPr>
            <a:xfrm>
              <a:off x="4572000" y="2514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297180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15400" y="3535200"/>
              <a:ext cx="144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ount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66680" y="517680"/>
            <a:ext cx="6534720" cy="5425920"/>
            <a:chOff x="1066680" y="517680"/>
            <a:chExt cx="6534720" cy="5425920"/>
          </a:xfrm>
        </p:grpSpPr>
        <p:sp>
          <p:nvSpPr>
            <p:cNvPr id="381" name=""/>
            <p:cNvSpPr/>
            <p:nvPr/>
          </p:nvSpPr>
          <p:spPr>
            <a:xfrm flipV="1">
              <a:off x="1066680" y="914400"/>
              <a:ext cx="4114800" cy="5029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38360" y="517680"/>
              <a:ext cx="236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+ 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ad valorem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41120" y="8222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295280" y="1066680"/>
            <a:ext cx="4191120" cy="33530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81440" y="2443320"/>
            <a:ext cx="0" cy="350352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076400" y="2443320"/>
            <a:ext cx="270504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9880" y="1622520"/>
            <a:ext cx="4503960" cy="439200"/>
            <a:chOff x="29880" y="1622520"/>
            <a:chExt cx="4503960" cy="439200"/>
          </a:xfrm>
        </p:grpSpPr>
        <p:sp>
          <p:nvSpPr>
            <p:cNvPr id="430" name=""/>
            <p:cNvSpPr/>
            <p:nvPr/>
          </p:nvSpPr>
          <p:spPr>
            <a:xfrm flipH="1">
              <a:off x="1069920" y="1832040"/>
              <a:ext cx="3463920" cy="0"/>
            </a:xfrm>
            <a:prstGeom prst="line">
              <a:avLst/>
            </a:prstGeom>
            <a:ln w="1260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880" y="1622520"/>
              <a:ext cx="10659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 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6240" y="22510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64360" y="5967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13040" y="23716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457880" y="1782720"/>
            <a:ext cx="126720" cy="1289160"/>
            <a:chOff x="4457880" y="1782720"/>
            <a:chExt cx="126720" cy="1289160"/>
          </a:xfrm>
        </p:grpSpPr>
        <p:sp>
          <p:nvSpPr>
            <p:cNvPr id="440" name=""/>
            <p:cNvSpPr/>
            <p:nvPr/>
          </p:nvSpPr>
          <p:spPr>
            <a:xfrm>
              <a:off x="4529160" y="1922400"/>
              <a:ext cx="0" cy="1149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57880" y="1782720"/>
              <a:ext cx="126720" cy="1270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quilibrium price and the absence of shortages and surplu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523880" y="689040"/>
            <a:ext cx="4268520" cy="2587320"/>
            <a:chOff x="1523880" y="689040"/>
            <a:chExt cx="4268520" cy="2587320"/>
          </a:xfrm>
        </p:grpSpPr>
        <p:sp>
          <p:nvSpPr>
            <p:cNvPr id="458" name=""/>
            <p:cNvSpPr/>
            <p:nvPr/>
          </p:nvSpPr>
          <p:spPr>
            <a:xfrm flipV="1">
              <a:off x="1523880" y="1066320"/>
              <a:ext cx="3276720" cy="2210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59920" y="6890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771360" y="1582560"/>
            <a:ext cx="521640" cy="4879080"/>
            <a:chOff x="3771360" y="1582560"/>
            <a:chExt cx="521640" cy="4879080"/>
          </a:xfrm>
        </p:grpSpPr>
        <p:sp>
          <p:nvSpPr>
            <p:cNvPr id="488" name=""/>
            <p:cNvSpPr/>
            <p:nvPr/>
          </p:nvSpPr>
          <p:spPr>
            <a:xfrm>
              <a:off x="4037040" y="1582560"/>
              <a:ext cx="0" cy="4364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713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8480" y="1582560"/>
            <a:ext cx="2958840" cy="210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068480" y="4125960"/>
            <a:ext cx="29685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37040" y="1582560"/>
            <a:ext cx="0" cy="4364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713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64200" y="23385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05480" y="3700440"/>
            <a:ext cx="3931560" cy="702360"/>
            <a:chOff x="105480" y="3700440"/>
            <a:chExt cx="3931560" cy="702360"/>
          </a:xfrm>
        </p:grpSpPr>
        <p:sp>
          <p:nvSpPr>
            <p:cNvPr id="525" name=""/>
            <p:cNvSpPr/>
            <p:nvPr/>
          </p:nvSpPr>
          <p:spPr>
            <a:xfrm>
              <a:off x="1068480" y="3700440"/>
              <a:ext cx="2968560" cy="425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05480" y="3732120"/>
              <a:ext cx="3855960" cy="670680"/>
              <a:chOff x="105480" y="3732120"/>
              <a:chExt cx="3855960" cy="670680"/>
            </a:xfrm>
          </p:grpSpPr>
          <p:sp>
            <p:nvSpPr>
              <p:cNvPr id="527" name=""/>
              <p:cNvSpPr/>
              <p:nvPr/>
            </p:nvSpPr>
            <p:spPr>
              <a:xfrm>
                <a:off x="105480" y="3894120"/>
                <a:ext cx="893880" cy="508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2 </a:t>
                </a:r>
                <a:r>
                  <a:rPr b="0" lang="en-US" sz="2400" spc="-1" strike="noStrike">
                    <a:solidFill>
                      <a:srgbClr val="006600"/>
                    </a:solidFill>
                    <a:latin typeface="Arial"/>
                  </a:rPr>
                  <a:t>- </a:t>
                </a: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t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17080" y="3732120"/>
                <a:ext cx="2844360" cy="397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PRODUCERS’ SH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3960" y="406404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86960" y="2398680"/>
            <a:ext cx="521640" cy="4062960"/>
            <a:chOff x="2586960" y="2398680"/>
            <a:chExt cx="521640" cy="4062960"/>
          </a:xfrm>
        </p:grpSpPr>
        <p:sp>
          <p:nvSpPr>
            <p:cNvPr id="572" name=""/>
            <p:cNvSpPr/>
            <p:nvPr/>
          </p:nvSpPr>
          <p:spPr>
            <a:xfrm>
              <a:off x="25869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54440" y="2398680"/>
              <a:ext cx="0" cy="3548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74600" y="3286080"/>
            <a:ext cx="1779840" cy="161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2560" y="46674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068120" y="4908600"/>
            <a:ext cx="17859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90720" y="484668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36080" y="380052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068000" y="3029040"/>
            <a:ext cx="521640" cy="3432600"/>
            <a:chOff x="4068000" y="3029040"/>
            <a:chExt cx="521640" cy="3432600"/>
          </a:xfrm>
        </p:grpSpPr>
        <p:sp>
          <p:nvSpPr>
            <p:cNvPr id="677" name=""/>
            <p:cNvSpPr/>
            <p:nvPr/>
          </p:nvSpPr>
          <p:spPr>
            <a:xfrm>
              <a:off x="406800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34040" y="3029040"/>
              <a:ext cx="0" cy="29178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66680" y="3403440"/>
            <a:ext cx="3267360" cy="155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3680" y="4732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1068480" y="4951440"/>
            <a:ext cx="3249360" cy="936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70320" y="488160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02840" y="4003560"/>
            <a:ext cx="284436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680560" y="1914480"/>
            <a:ext cx="521640" cy="4560120"/>
            <a:chOff x="2680560" y="1914480"/>
            <a:chExt cx="521640" cy="4560120"/>
          </a:xfrm>
        </p:grpSpPr>
        <p:sp>
          <p:nvSpPr>
            <p:cNvPr id="786" name=""/>
            <p:cNvSpPr/>
            <p:nvPr/>
          </p:nvSpPr>
          <p:spPr>
            <a:xfrm>
              <a:off x="2680560" y="596592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955960" y="1914480"/>
              <a:ext cx="1440" cy="4040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66680" y="3284640"/>
            <a:ext cx="1889280" cy="66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9400" y="3697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1068120" y="3946680"/>
            <a:ext cx="1888920" cy="144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94040" y="389556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36080" y="330660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0" y="3279600"/>
          <a:ext cx="4869000" cy="3578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9600"/>
                    <a:ext cx="486900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4351320" y="3260880"/>
          <a:ext cx="4587840" cy="35971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1320" y="3260880"/>
                    <a:ext cx="45878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0" y="0"/>
          <a:ext cx="4846680" cy="335592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4846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4319640" y="0"/>
          <a:ext cx="4491000" cy="333540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19640" y="0"/>
                    <a:ext cx="449100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lications for tax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999720" y="2160720"/>
            <a:ext cx="7156440" cy="27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Government Rejection of Market Allocation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265640" y="5846760"/>
            <a:ext cx="1649520" cy="535320"/>
            <a:chOff x="4265640" y="5846760"/>
            <a:chExt cx="1649520" cy="535320"/>
          </a:xfrm>
        </p:grpSpPr>
        <p:sp>
          <p:nvSpPr>
            <p:cNvPr id="891" name=""/>
            <p:cNvSpPr/>
            <p:nvPr/>
          </p:nvSpPr>
          <p:spPr>
            <a:xfrm>
              <a:off x="4265640" y="5846760"/>
              <a:ext cx="16495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7920" y="5984640"/>
              <a:ext cx="126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152800"/>
            <a:ext cx="62247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" y="1825560"/>
            <a:ext cx="111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09240" y="2133720"/>
            <a:ext cx="521640" cy="4354920"/>
            <a:chOff x="2109240" y="2133720"/>
            <a:chExt cx="521640" cy="4354920"/>
          </a:xfrm>
        </p:grpSpPr>
        <p:sp>
          <p:nvSpPr>
            <p:cNvPr id="140" name=""/>
            <p:cNvSpPr/>
            <p:nvPr/>
          </p:nvSpPr>
          <p:spPr>
            <a:xfrm>
              <a:off x="236232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9240" y="5979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10880" y="2133720"/>
            <a:ext cx="511200" cy="4366080"/>
            <a:chOff x="5510880" y="2133720"/>
            <a:chExt cx="511200" cy="4366080"/>
          </a:xfrm>
        </p:grpSpPr>
        <p:sp>
          <p:nvSpPr>
            <p:cNvPr id="143" name=""/>
            <p:cNvSpPr/>
            <p:nvPr/>
          </p:nvSpPr>
          <p:spPr>
            <a:xfrm>
              <a:off x="576576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10880" y="599112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0400" y="2084400"/>
            <a:ext cx="12672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0600" y="209232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69880" y="1601640"/>
            <a:ext cx="3397680" cy="458280"/>
            <a:chOff x="2369880" y="1601640"/>
            <a:chExt cx="3397680" cy="458280"/>
          </a:xfrm>
        </p:grpSpPr>
        <p:sp>
          <p:nvSpPr>
            <p:cNvPr id="151" name=""/>
            <p:cNvSpPr/>
            <p:nvPr/>
          </p:nvSpPr>
          <p:spPr>
            <a:xfrm flipH="1">
              <a:off x="2369880" y="1911240"/>
              <a:ext cx="11113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7920" y="1903320"/>
              <a:ext cx="1079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1760" y="1601640"/>
              <a:ext cx="124884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Comic Sans MS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083960" y="3381480"/>
            <a:ext cx="30481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19480" y="33116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960" y="31194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65640" y="5846760"/>
            <a:ext cx="164952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17920" y="5985000"/>
            <a:ext cx="126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138320" y="3051000"/>
            <a:ext cx="219240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6280" y="2789280"/>
            <a:ext cx="90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52960" y="2981160"/>
            <a:ext cx="12672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838600" y="3033720"/>
            <a:ext cx="892080" cy="3540960"/>
            <a:chOff x="2838600" y="3033720"/>
            <a:chExt cx="892080" cy="3540960"/>
          </a:xfrm>
        </p:grpSpPr>
        <p:sp>
          <p:nvSpPr>
            <p:cNvPr id="1006" name=""/>
            <p:cNvSpPr/>
            <p:nvPr/>
          </p:nvSpPr>
          <p:spPr>
            <a:xfrm>
              <a:off x="2838600" y="6100920"/>
              <a:ext cx="8920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illeg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0720" y="3033720"/>
              <a:ext cx="0" cy="30258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pri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92280" y="2558520"/>
            <a:ext cx="783432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Agriculture and Agricultural Policy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2843280" cy="5862600"/>
          </a:xfrm>
          <a:prstGeom prst="rect">
            <a:avLst/>
          </a:prstGeom>
          <a:ln w="0">
            <a:noFill/>
          </a:ln>
        </p:spPr>
      </p:pic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539280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639960" y="917280"/>
            <a:ext cx="0" cy="502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573120" y="4525920"/>
            <a:ext cx="3084120" cy="439200"/>
            <a:chOff x="573120" y="4525920"/>
            <a:chExt cx="3084120" cy="439200"/>
          </a:xfrm>
        </p:grpSpPr>
        <p:sp>
          <p:nvSpPr>
            <p:cNvPr id="1068" name=""/>
            <p:cNvSpPr/>
            <p:nvPr/>
          </p:nvSpPr>
          <p:spPr>
            <a:xfrm flipH="1">
              <a:off x="1066320" y="4724280"/>
              <a:ext cx="25909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120" y="4525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12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4648320"/>
            <a:ext cx="111240" cy="1108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reases in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384120" y="806400"/>
            <a:ext cx="8388360" cy="55706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0" y="78408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ields of selected crops (100 kg/hectare)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813276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487480" y="114768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8900000">
            <a:off x="-4112280" y="8920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886400" y="-5708160"/>
            <a:ext cx="8296200" cy="12053160"/>
            <a:chOff x="1886400" y="-5708160"/>
            <a:chExt cx="8296200" cy="12053160"/>
          </a:xfrm>
        </p:grpSpPr>
        <p:sp>
          <p:nvSpPr>
            <p:cNvPr id="1128" name=""/>
            <p:cNvSpPr/>
            <p:nvPr/>
          </p:nvSpPr>
          <p:spPr>
            <a:xfrm rot="20640000">
              <a:off x="3291120" y="-5164560"/>
              <a:ext cx="5486040" cy="109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13" y="19652"/>
                  </a:moveTo>
                  <a:arcTo wR="10800" hR="10800" stAng="7497201" swAng="33027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613" y="19652"/>
                  </a:moveTo>
                  <a:arcTo wR="10800" hR="10800" stAng="7497201" swAng="3302799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57840" y="4940280"/>
              <a:ext cx="4762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47560" y="3733920"/>
            <a:ext cx="4135320" cy="439200"/>
            <a:chOff x="547560" y="3733920"/>
            <a:chExt cx="4135320" cy="439200"/>
          </a:xfrm>
        </p:grpSpPr>
        <p:sp>
          <p:nvSpPr>
            <p:cNvPr id="1133" name=""/>
            <p:cNvSpPr/>
            <p:nvPr/>
          </p:nvSpPr>
          <p:spPr>
            <a:xfrm>
              <a:off x="547560" y="3733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068120" y="3871800"/>
              <a:ext cx="3614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4420080" y="3879720"/>
            <a:ext cx="465480" cy="2576160"/>
            <a:chOff x="4420080" y="3879720"/>
            <a:chExt cx="465480" cy="2576160"/>
          </a:xfrm>
        </p:grpSpPr>
        <p:sp>
          <p:nvSpPr>
            <p:cNvPr id="1137" name=""/>
            <p:cNvSpPr/>
            <p:nvPr/>
          </p:nvSpPr>
          <p:spPr>
            <a:xfrm>
              <a:off x="4683240" y="3879720"/>
              <a:ext cx="0" cy="207504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420080" y="601668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4618080" y="380988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3505320" y="743040"/>
            <a:ext cx="0" cy="5200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01000" y="63972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440160" y="40226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28480" y="60055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940120" y="3894120"/>
            <a:ext cx="5094360" cy="1082520"/>
            <a:chOff x="2940120" y="3894120"/>
            <a:chExt cx="5094360" cy="1082520"/>
          </a:xfrm>
        </p:grpSpPr>
        <p:sp>
          <p:nvSpPr>
            <p:cNvPr id="1184" name=""/>
            <p:cNvSpPr/>
            <p:nvPr/>
          </p:nvSpPr>
          <p:spPr>
            <a:xfrm>
              <a:off x="2940120" y="4976640"/>
              <a:ext cx="50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211560" y="4176360"/>
              <a:ext cx="1717560" cy="765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00680" y="38941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17680" y="3952800"/>
              <a:ext cx="285804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049400" y="6094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3960" y="60181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2362320" y="3894120"/>
            <a:ext cx="5789160" cy="1082520"/>
            <a:chOff x="2362320" y="3894120"/>
            <a:chExt cx="5789160" cy="1082520"/>
          </a:xfrm>
        </p:grpSpPr>
        <p:sp>
          <p:nvSpPr>
            <p:cNvPr id="1206" name=""/>
            <p:cNvSpPr/>
            <p:nvPr/>
          </p:nvSpPr>
          <p:spPr>
            <a:xfrm>
              <a:off x="2362320" y="4976640"/>
              <a:ext cx="51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2655360" y="4176360"/>
              <a:ext cx="2326680" cy="749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81600" y="3894120"/>
              <a:ext cx="326988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96720" y="3952800"/>
              <a:ext cx="322848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217600" y="639720"/>
            <a:ext cx="599760" cy="5289480"/>
            <a:chOff x="2217600" y="639720"/>
            <a:chExt cx="599760" cy="5289480"/>
          </a:xfrm>
        </p:grpSpPr>
        <p:sp>
          <p:nvSpPr>
            <p:cNvPr id="1211" name=""/>
            <p:cNvSpPr/>
            <p:nvPr/>
          </p:nvSpPr>
          <p:spPr>
            <a:xfrm>
              <a:off x="2281680" y="63972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79520" y="884160"/>
              <a:ext cx="0" cy="50450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17600" y="1871640"/>
              <a:ext cx="127080" cy="1270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480" y="4602240"/>
            <a:ext cx="61880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31000" y="4602240"/>
            <a:ext cx="511200" cy="1948320"/>
            <a:chOff x="2331000" y="4602240"/>
            <a:chExt cx="511200" cy="1948320"/>
          </a:xfrm>
        </p:grpSpPr>
        <p:sp>
          <p:nvSpPr>
            <p:cNvPr id="190" name=""/>
            <p:cNvSpPr/>
            <p:nvPr/>
          </p:nvSpPr>
          <p:spPr>
            <a:xfrm>
              <a:off x="2331000" y="604188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46022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47680" y="4600440"/>
            <a:ext cx="521640" cy="1951920"/>
            <a:chOff x="5647680" y="4600440"/>
            <a:chExt cx="521640" cy="1951920"/>
          </a:xfrm>
        </p:grpSpPr>
        <p:sp>
          <p:nvSpPr>
            <p:cNvPr id="193" name=""/>
            <p:cNvSpPr/>
            <p:nvPr/>
          </p:nvSpPr>
          <p:spPr>
            <a:xfrm>
              <a:off x="5647680" y="604368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5160" y="46004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538360" y="4551480"/>
            <a:ext cx="127080" cy="12672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4680" y="4541760"/>
            <a:ext cx="127080" cy="12708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4284720"/>
            <a:ext cx="112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maxim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44920" y="4656240"/>
            <a:ext cx="3236760" cy="458280"/>
            <a:chOff x="2644920" y="4656240"/>
            <a:chExt cx="3236760" cy="458280"/>
          </a:xfrm>
        </p:grpSpPr>
        <p:sp>
          <p:nvSpPr>
            <p:cNvPr id="201" name=""/>
            <p:cNvSpPr/>
            <p:nvPr/>
          </p:nvSpPr>
          <p:spPr>
            <a:xfrm flipH="1">
              <a:off x="2644920" y="4883040"/>
              <a:ext cx="9871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64240" y="4881600"/>
              <a:ext cx="11174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50680" y="4656240"/>
              <a:ext cx="147132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854440" y="1157400"/>
            <a:ext cx="4012920" cy="3427200"/>
            <a:chOff x="2854440" y="1157400"/>
            <a:chExt cx="4012920" cy="3427200"/>
          </a:xfrm>
        </p:grpSpPr>
        <p:sp>
          <p:nvSpPr>
            <p:cNvPr id="1249" name=""/>
            <p:cNvSpPr/>
            <p:nvPr/>
          </p:nvSpPr>
          <p:spPr>
            <a:xfrm flipH="1">
              <a:off x="2854440" y="1865160"/>
              <a:ext cx="2108160" cy="1105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02120" y="1157400"/>
              <a:ext cx="1671840" cy="7365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56920" y="1243080"/>
              <a:ext cx="1390680" cy="57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  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61000" y="1865160"/>
              <a:ext cx="306360" cy="2719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6013800" y="665280"/>
            <a:ext cx="815040" cy="5779440"/>
            <a:chOff x="6013800" y="665280"/>
            <a:chExt cx="815040" cy="5779440"/>
          </a:xfrm>
        </p:grpSpPr>
        <p:sp>
          <p:nvSpPr>
            <p:cNvPr id="1264" name=""/>
            <p:cNvSpPr/>
            <p:nvPr/>
          </p:nvSpPr>
          <p:spPr>
            <a:xfrm flipH="1" flipV="1">
              <a:off x="6281280" y="698400"/>
              <a:ext cx="3240" cy="524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9316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1380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069560" y="4446720"/>
            <a:ext cx="440388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96040" y="4446720"/>
            <a:ext cx="0" cy="147924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63120" y="59673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3440" y="42530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37000" y="44053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109840" y="2482920"/>
            <a:ext cx="4016520" cy="2296440"/>
            <a:chOff x="5109840" y="2482920"/>
            <a:chExt cx="4016520" cy="2296440"/>
          </a:xfrm>
        </p:grpSpPr>
        <p:sp>
          <p:nvSpPr>
            <p:cNvPr id="1332" name=""/>
            <p:cNvSpPr/>
            <p:nvPr/>
          </p:nvSpPr>
          <p:spPr>
            <a:xfrm>
              <a:off x="6227640" y="438768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270480" y="4035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109840" y="432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43640" y="44658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5850000" y="2883960"/>
              <a:ext cx="353880" cy="1528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967360" y="24829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07040" y="2523960"/>
              <a:ext cx="30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3288240" y="665280"/>
            <a:ext cx="816480" cy="5779440"/>
            <a:chOff x="3288240" y="665280"/>
            <a:chExt cx="816480" cy="5779440"/>
          </a:xfrm>
        </p:grpSpPr>
        <p:sp>
          <p:nvSpPr>
            <p:cNvPr id="1349" name=""/>
            <p:cNvSpPr/>
            <p:nvPr/>
          </p:nvSpPr>
          <p:spPr>
            <a:xfrm flipV="1">
              <a:off x="3541680" y="680760"/>
              <a:ext cx="0" cy="5259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6904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28824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1069920" y="3378240"/>
            <a:ext cx="322920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02000" y="3378240"/>
            <a:ext cx="0" cy="2560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032720" y="59691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04360" y="31478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40080" y="3308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3481560" y="1568520"/>
            <a:ext cx="5068800" cy="1863720"/>
            <a:chOff x="3481560" y="1568520"/>
            <a:chExt cx="5068800" cy="1863720"/>
          </a:xfrm>
        </p:grpSpPr>
        <p:sp>
          <p:nvSpPr>
            <p:cNvPr id="1419" name=""/>
            <p:cNvSpPr/>
            <p:nvPr/>
          </p:nvSpPr>
          <p:spPr>
            <a:xfrm>
              <a:off x="3481560" y="3305160"/>
              <a:ext cx="126720" cy="127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73560" y="29401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552840" y="29289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637080" y="3382920"/>
              <a:ext cx="57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3925800" y="1850760"/>
              <a:ext cx="1378080" cy="1446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75440" y="1568520"/>
              <a:ext cx="327492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90560" y="1627200"/>
              <a:ext cx="3228480" cy="397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539280" y="3575160"/>
            <a:ext cx="3827520" cy="508680"/>
            <a:chOff x="539280" y="3575160"/>
            <a:chExt cx="3827520" cy="508680"/>
          </a:xfrm>
        </p:grpSpPr>
        <p:sp>
          <p:nvSpPr>
            <p:cNvPr id="1478" name=""/>
            <p:cNvSpPr/>
            <p:nvPr/>
          </p:nvSpPr>
          <p:spPr>
            <a:xfrm flipH="1">
              <a:off x="1068120" y="3819600"/>
              <a:ext cx="329868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39280" y="3575160"/>
              <a:ext cx="502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440" y="2635200"/>
            <a:ext cx="524160" cy="1267200"/>
            <a:chOff x="1440" y="2635200"/>
            <a:chExt cx="524160" cy="1267200"/>
          </a:xfrm>
        </p:grpSpPr>
        <p:sp>
          <p:nvSpPr>
            <p:cNvPr id="1520" name=""/>
            <p:cNvSpPr/>
            <p:nvPr/>
          </p:nvSpPr>
          <p:spPr>
            <a:xfrm>
              <a:off x="525600" y="2779560"/>
              <a:ext cx="0" cy="10303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16200000">
              <a:off x="-402840" y="3039480"/>
              <a:ext cx="126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Subsi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25600" y="2779560"/>
            <a:ext cx="0" cy="103032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6200000">
            <a:off x="-402840" y="304488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69908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5292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03356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6155640" y="3767040"/>
            <a:ext cx="482040" cy="2748600"/>
            <a:chOff x="6155640" y="3767040"/>
            <a:chExt cx="482040" cy="2748600"/>
          </a:xfrm>
        </p:grpSpPr>
        <p:grpSp>
          <p:nvGrpSpPr>
            <p:cNvPr id="1584" name=""/>
            <p:cNvGrpSpPr/>
            <p:nvPr/>
          </p:nvGrpSpPr>
          <p:grpSpPr>
            <a:xfrm>
              <a:off x="6155640" y="3825720"/>
              <a:ext cx="482040" cy="2689920"/>
              <a:chOff x="6155640" y="3825720"/>
              <a:chExt cx="482040" cy="2689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6155640" y="6006960"/>
                <a:ext cx="482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00cc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cc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406920" y="3825720"/>
                <a:ext cx="6120" cy="2132280"/>
              </a:xfrm>
              <a:prstGeom prst="line">
                <a:avLst/>
              </a:prstGeom>
              <a:ln w="19080">
                <a:solidFill>
                  <a:srgbClr val="0000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6351480" y="3767040"/>
              <a:ext cx="127080" cy="1270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2751120" y="6302520"/>
            <a:ext cx="3333600" cy="462240"/>
            <a:chOff x="2751120" y="6302520"/>
            <a:chExt cx="3333600" cy="462240"/>
          </a:xfrm>
        </p:grpSpPr>
        <p:sp>
          <p:nvSpPr>
            <p:cNvPr id="1589" name=""/>
            <p:cNvSpPr/>
            <p:nvPr/>
          </p:nvSpPr>
          <p:spPr>
            <a:xfrm>
              <a:off x="2751120" y="6302520"/>
              <a:ext cx="3333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767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467160" y="6302520"/>
            <a:ext cx="2652480" cy="462240"/>
            <a:chOff x="3467160" y="6302520"/>
            <a:chExt cx="2652480" cy="462240"/>
          </a:xfrm>
        </p:grpSpPr>
        <p:sp>
          <p:nvSpPr>
            <p:cNvPr id="1618" name=""/>
            <p:cNvSpPr/>
            <p:nvPr/>
          </p:nvSpPr>
          <p:spPr>
            <a:xfrm>
              <a:off x="3467160" y="6302520"/>
              <a:ext cx="2652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20048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7280" y="2765520"/>
            <a:ext cx="46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066680" y="2940120"/>
            <a:ext cx="2032200" cy="86364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3760" y="27655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066680" y="2940120"/>
            <a:ext cx="2032200" cy="86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3:04:00Z</dcterms:created>
  <dc:creator>John Sloman</dc:creator>
  <dc:description/>
  <dc:language>en-US</dc:language>
  <cp:lastModifiedBy>John Sloman</cp:lastModifiedBy>
  <dcterms:modified xsi:type="dcterms:W3CDTF">2002-11-27T18:10:37Z</dcterms:modified>
  <cp:revision>29</cp:revision>
  <dc:subject/>
  <dc:title>No Slide Title</dc:title>
</cp:coreProperties>
</file>