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2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7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4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1.png" ContentType="image/png"/>
  <Override PartName="/ppt/media/image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wmf" ContentType="image/x-wmf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AFE9-01D9-4FC7-8988-1063AAA248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8800" y="398232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0688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800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9684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880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800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9684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0688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8800" y="398232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0688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2800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9684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5880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2800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9684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0688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low" descr=""/>
          <p:cNvPicPr/>
          <p:nvPr/>
        </p:nvPicPr>
        <p:blipFill>
          <a:blip r:embed="rId2"/>
          <a:srcRect l="513" t="11663" r="70178" b="453"/>
          <a:stretch/>
        </p:blipFill>
        <p:spPr>
          <a:xfrm>
            <a:off x="3240" y="144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artglow" descr=""/>
          <p:cNvPicPr/>
          <p:nvPr/>
        </p:nvPicPr>
        <p:blipFill>
          <a:blip r:embed="rId3"/>
          <a:srcRect l="19068" t="12229" r="0" b="31558"/>
          <a:stretch/>
        </p:blipFill>
        <p:spPr>
          <a:xfrm>
            <a:off x="711360" y="1066680"/>
            <a:ext cx="8432640" cy="5486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glow" descr=""/>
          <p:cNvPicPr/>
          <p:nvPr/>
        </p:nvPicPr>
        <p:blipFill>
          <a:blip r:embed="rId2"/>
          <a:srcRect l="513" t="11663" r="70178" b="453"/>
          <a:stretch/>
        </p:blipFill>
        <p:spPr>
          <a:xfrm>
            <a:off x="3240" y="144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pic>
        <p:nvPicPr>
          <p:cNvPr id="42" name="partglow" descr=""/>
          <p:cNvPicPr/>
          <p:nvPr/>
        </p:nvPicPr>
        <p:blipFill>
          <a:blip r:embed="rId3"/>
          <a:srcRect l="19068" t="12229" r="0" b="31558"/>
          <a:stretch/>
        </p:blipFill>
        <p:spPr>
          <a:xfrm>
            <a:off x="620640" y="1066680"/>
            <a:ext cx="8523360" cy="5486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pic>
        <p:nvPicPr>
          <p:cNvPr id="43" name="glow" descr=""/>
          <p:cNvPicPr/>
          <p:nvPr/>
        </p:nvPicPr>
        <p:blipFill>
          <a:blip r:embed="rId4"/>
          <a:srcRect l="513" t="25134" r="97570" b="453"/>
          <a:stretch/>
        </p:blipFill>
        <p:spPr>
          <a:xfrm>
            <a:off x="8545680" y="1050840"/>
            <a:ext cx="598320" cy="5807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751"/>
              </a:spcBef>
              <a:buClr>
                <a:srgbClr val="66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29.png"/><Relationship Id="rId4" Type="http://schemas.openxmlformats.org/officeDocument/2006/relationships/package" Target="../embeddings/oleObject2.pptx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17.wmf"/><Relationship Id="rId4" Type="http://schemas.openxmlformats.org/officeDocument/2006/relationships/package" Target="../embeddings/oleObject2.pptx"/><Relationship Id="rId5" Type="http://schemas.openxmlformats.org/officeDocument/2006/relationships/image" Target="../media/image18.png"/><Relationship Id="rId6" Type="http://schemas.openxmlformats.org/officeDocument/2006/relationships/package" Target="../embeddings/oleObject3.pptx"/><Relationship Id="rId7" Type="http://schemas.openxmlformats.org/officeDocument/2006/relationships/image" Target="../media/image19.png"/><Relationship Id="rId8" Type="http://schemas.openxmlformats.org/officeDocument/2006/relationships/package" Target="../embeddings/oleObject4.pptx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artglow" descr=""/>
          <p:cNvPicPr/>
          <p:nvPr/>
        </p:nvPicPr>
        <p:blipFill>
          <a:blip r:embed="rId1"/>
          <a:srcRect l="19068" t="12229" r="0" b="315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archartlow" descr=""/>
          <p:cNvPicPr/>
          <p:nvPr/>
        </p:nvPicPr>
        <p:blipFill>
          <a:blip r:embed="rId2"/>
          <a:srcRect l="0" t="2192" r="0" b="3659"/>
          <a:stretch/>
        </p:blipFill>
        <p:spPr>
          <a:xfrm>
            <a:off x="2265480" y="0"/>
            <a:ext cx="2306520" cy="1725480"/>
          </a:xfrm>
          <a:prstGeom prst="rect">
            <a:avLst/>
          </a:prstGeom>
          <a:ln w="0">
            <a:noFill/>
          </a:ln>
        </p:spPr>
      </p:pic>
      <p:pic>
        <p:nvPicPr>
          <p:cNvPr id="92" name="marketlow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0" y="0"/>
            <a:ext cx="2295360" cy="1736640"/>
          </a:xfrm>
          <a:prstGeom prst="rect">
            <a:avLst/>
          </a:prstGeom>
          <a:ln w="0">
            <a:noFill/>
          </a:ln>
        </p:spPr>
      </p:pic>
      <p:pic>
        <p:nvPicPr>
          <p:cNvPr id="93" name="moneylow" descr=""/>
          <p:cNvPicPr/>
          <p:nvPr/>
        </p:nvPicPr>
        <p:blipFill>
          <a:blip r:embed="rId4"/>
          <a:srcRect l="0" t="0" r="0" b="1540"/>
          <a:stretch/>
        </p:blipFill>
        <p:spPr>
          <a:xfrm>
            <a:off x="4506840" y="12600"/>
            <a:ext cx="2327400" cy="1710000"/>
          </a:xfrm>
          <a:prstGeom prst="rect">
            <a:avLst/>
          </a:prstGeom>
          <a:ln w="0">
            <a:noFill/>
          </a:ln>
        </p:spPr>
      </p:pic>
      <p:pic>
        <p:nvPicPr>
          <p:cNvPr id="94" name="stockslow" descr=""/>
          <p:cNvPicPr/>
          <p:nvPr/>
        </p:nvPicPr>
        <p:blipFill>
          <a:blip r:embed="rId5"/>
          <a:stretch/>
        </p:blipFill>
        <p:spPr>
          <a:xfrm>
            <a:off x="6769080" y="38160"/>
            <a:ext cx="2374920" cy="1673280"/>
          </a:xfrm>
          <a:prstGeom prst="rect">
            <a:avLst/>
          </a:prstGeom>
          <a:ln w="0">
            <a:noFill/>
          </a:ln>
        </p:spPr>
      </p:pic>
      <p:pic>
        <p:nvPicPr>
          <p:cNvPr id="95" name="bottleslow" descr=""/>
          <p:cNvPicPr/>
          <p:nvPr/>
        </p:nvPicPr>
        <p:blipFill>
          <a:blip r:embed="rId6"/>
          <a:stretch/>
        </p:blipFill>
        <p:spPr>
          <a:xfrm>
            <a:off x="2301840" y="5121360"/>
            <a:ext cx="2270160" cy="1736640"/>
          </a:xfrm>
          <a:prstGeom prst="rect">
            <a:avLst/>
          </a:prstGeom>
          <a:ln w="0">
            <a:noFill/>
          </a:ln>
        </p:spPr>
      </p:pic>
      <p:pic>
        <p:nvPicPr>
          <p:cNvPr id="96" name="globelow" descr=""/>
          <p:cNvPicPr/>
          <p:nvPr/>
        </p:nvPicPr>
        <p:blipFill>
          <a:blip r:embed="rId7"/>
          <a:stretch/>
        </p:blipFill>
        <p:spPr>
          <a:xfrm>
            <a:off x="0" y="5116680"/>
            <a:ext cx="2303640" cy="1741320"/>
          </a:xfrm>
          <a:prstGeom prst="rect">
            <a:avLst/>
          </a:prstGeom>
          <a:ln w="0">
            <a:noFill/>
          </a:ln>
        </p:spPr>
      </p:pic>
      <p:pic>
        <p:nvPicPr>
          <p:cNvPr id="97" name="shiplow" descr=""/>
          <p:cNvPicPr/>
          <p:nvPr/>
        </p:nvPicPr>
        <p:blipFill>
          <a:blip r:embed="rId8"/>
          <a:srcRect l="0" t="0" r="0" b="1469"/>
          <a:stretch/>
        </p:blipFill>
        <p:spPr>
          <a:xfrm>
            <a:off x="4572000" y="5135400"/>
            <a:ext cx="2297160" cy="1722600"/>
          </a:xfrm>
          <a:prstGeom prst="rect">
            <a:avLst/>
          </a:prstGeom>
          <a:ln w="0">
            <a:noFill/>
          </a:ln>
        </p:spPr>
      </p:pic>
      <p:pic>
        <p:nvPicPr>
          <p:cNvPr id="98" name="haybalelow" descr=""/>
          <p:cNvPicPr/>
          <p:nvPr/>
        </p:nvPicPr>
        <p:blipFill>
          <a:blip r:embed="rId9"/>
          <a:stretch/>
        </p:blipFill>
        <p:spPr>
          <a:xfrm>
            <a:off x="6810480" y="5122800"/>
            <a:ext cx="2333520" cy="1735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8960" y="2317680"/>
            <a:ext cx="7889760" cy="2292480"/>
          </a:xfrm>
          <a:prstGeom prst="rect">
            <a:avLst/>
          </a:prstGeom>
          <a:solidFill>
            <a:srgbClr val="ffffff">
              <a:alpha val="50000"/>
            </a:srgbClr>
          </a:solidFill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Government Interven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in the Mark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10200"/>
            <a:ext cx="9144000" cy="174780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174132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x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High minimum pric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High minimum pric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a net importer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b3a"/>
                </a:solidFill>
                <a:latin typeface="Arial"/>
              </a:rPr>
              <a:t>Minimum price where some of the product is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35680" y="215568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1405080" y="879120"/>
            <a:ext cx="2408040" cy="380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H="1">
            <a:off x="2867040" y="2347920"/>
            <a:ext cx="6480" cy="35863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132720" y="530280"/>
            <a:ext cx="1346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U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 flipH="1">
            <a:off x="6031080" y="2347920"/>
            <a:ext cx="7920" cy="36100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546280" y="6012000"/>
            <a:ext cx="608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110200" y="876240"/>
            <a:ext cx="2408040" cy="38102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785920" y="60228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669000" y="4649760"/>
            <a:ext cx="152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U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050840" y="2343240"/>
            <a:ext cx="6616800" cy="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5978520" y="22734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2808360" y="2279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5" name=""/>
          <p:cNvGrpSpPr/>
          <p:nvPr/>
        </p:nvGrpSpPr>
        <p:grpSpPr>
          <a:xfrm>
            <a:off x="3160800" y="6337440"/>
            <a:ext cx="2550960" cy="427320"/>
            <a:chOff x="3160800" y="6337440"/>
            <a:chExt cx="2550960" cy="427320"/>
          </a:xfrm>
        </p:grpSpPr>
        <p:sp>
          <p:nvSpPr>
            <p:cNvPr id="1706" name=""/>
            <p:cNvSpPr/>
            <p:nvPr/>
          </p:nvSpPr>
          <p:spPr>
            <a:xfrm>
              <a:off x="3160800" y="6337440"/>
              <a:ext cx="255096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895560" y="6367320"/>
              <a:ext cx="1117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Im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35680" y="215568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86440" y="1297080"/>
            <a:ext cx="4028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1405080" y="879120"/>
            <a:ext cx="2408040" cy="380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2867040" y="2347920"/>
            <a:ext cx="6480" cy="35863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132720" y="530280"/>
            <a:ext cx="1346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U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H="1">
            <a:off x="6031080" y="2347920"/>
            <a:ext cx="7920" cy="36100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255888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110200" y="876240"/>
            <a:ext cx="2408040" cy="38102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785920" y="60228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669000" y="4649760"/>
            <a:ext cx="152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U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050840" y="2343240"/>
            <a:ext cx="66168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978520" y="22734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808360" y="2279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1058760" y="1463760"/>
            <a:ext cx="6615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0" y="1148400"/>
            <a:ext cx="468360" cy="1430280"/>
            <a:chOff x="0" y="1148400"/>
            <a:chExt cx="468360" cy="1430280"/>
          </a:xfrm>
        </p:grpSpPr>
        <p:sp>
          <p:nvSpPr>
            <p:cNvPr id="1730" name=""/>
            <p:cNvSpPr/>
            <p:nvPr/>
          </p:nvSpPr>
          <p:spPr>
            <a:xfrm rot="16200000">
              <a:off x="-516240" y="1664640"/>
              <a:ext cx="1430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Import lev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68360" y="1473120"/>
              <a:ext cx="0" cy="8622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b3a"/>
                </a:solidFill>
                <a:latin typeface="Arial"/>
              </a:rPr>
              <a:t>Minimum price where some of the product is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5" name=""/>
          <p:cNvGrpSpPr/>
          <p:nvPr/>
        </p:nvGrpSpPr>
        <p:grpSpPr>
          <a:xfrm>
            <a:off x="3435480" y="1460520"/>
            <a:ext cx="2031840" cy="915480"/>
            <a:chOff x="3435480" y="1460520"/>
            <a:chExt cx="2031840" cy="915480"/>
          </a:xfrm>
        </p:grpSpPr>
        <p:sp>
          <p:nvSpPr>
            <p:cNvPr id="1736" name=""/>
            <p:cNvSpPr/>
            <p:nvPr/>
          </p:nvSpPr>
          <p:spPr>
            <a:xfrm>
              <a:off x="3435480" y="1463760"/>
              <a:ext cx="2031840" cy="870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cc0000"/>
              </a:solidFill>
              <a:prstDash val="dash"/>
              <a:miter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541680" y="1460520"/>
              <a:ext cx="1797480" cy="91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AMOUNT PA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IN IM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LEV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8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152880" y="6014880"/>
            <a:ext cx="608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5680" y="215568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6440" y="1297080"/>
            <a:ext cx="4028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1058760" y="1463760"/>
            <a:ext cx="6615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1405080" y="879120"/>
            <a:ext cx="2408040" cy="380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 flipH="1">
            <a:off x="2867040" y="2347920"/>
            <a:ext cx="6480" cy="35863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132720" y="530280"/>
            <a:ext cx="1346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U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 flipH="1">
            <a:off x="6031080" y="2347920"/>
            <a:ext cx="7920" cy="36100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255888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110200" y="876240"/>
            <a:ext cx="2408040" cy="38102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785920" y="60228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669000" y="4649760"/>
            <a:ext cx="152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U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-516240" y="1664640"/>
            <a:ext cx="1430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mport lev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050840" y="2343240"/>
            <a:ext cx="66168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978520" y="22734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808360" y="2279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68360" y="1473120"/>
            <a:ext cx="0" cy="8622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0" name=""/>
          <p:cNvGrpSpPr/>
          <p:nvPr/>
        </p:nvGrpSpPr>
        <p:grpSpPr>
          <a:xfrm>
            <a:off x="3789360" y="6337440"/>
            <a:ext cx="1446120" cy="462240"/>
            <a:chOff x="3789360" y="6337440"/>
            <a:chExt cx="1446120" cy="462240"/>
          </a:xfrm>
        </p:grpSpPr>
        <p:sp>
          <p:nvSpPr>
            <p:cNvPr id="1761" name=""/>
            <p:cNvSpPr/>
            <p:nvPr/>
          </p:nvSpPr>
          <p:spPr>
            <a:xfrm>
              <a:off x="3789360" y="6337440"/>
              <a:ext cx="144612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895560" y="6402240"/>
              <a:ext cx="1117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Im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3" name=""/>
          <p:cNvSpPr/>
          <p:nvPr/>
        </p:nvSpPr>
        <p:spPr>
          <a:xfrm>
            <a:off x="3424320" y="1558800"/>
            <a:ext cx="6120" cy="434988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5195160" y="60120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5398920" y="1398600"/>
            <a:ext cx="127080" cy="4521240"/>
            <a:chOff x="5398920" y="1398600"/>
            <a:chExt cx="127080" cy="4521240"/>
          </a:xfrm>
        </p:grpSpPr>
        <p:sp>
          <p:nvSpPr>
            <p:cNvPr id="1766" name=""/>
            <p:cNvSpPr/>
            <p:nvPr/>
          </p:nvSpPr>
          <p:spPr>
            <a:xfrm>
              <a:off x="5398920" y="1398600"/>
              <a:ext cx="127080" cy="127080"/>
            </a:xfrm>
            <a:prstGeom prst="ellipse">
              <a:avLst/>
            </a:prstGeom>
            <a:solidFill>
              <a:srgbClr val="ff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468760" y="1522440"/>
              <a:ext cx="6480" cy="439740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3362400" y="1395360"/>
            <a:ext cx="12708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b3a"/>
                </a:solidFill>
                <a:latin typeface="Arial"/>
              </a:rPr>
              <a:t>Minimum price where some of the product is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High minimum pric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a net importer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self-sufficien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18472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223440" y="60102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3512880" y="2347920"/>
            <a:ext cx="6120" cy="35863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flipH="1">
            <a:off x="5478480" y="2347920"/>
            <a:ext cx="7920" cy="361008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1959120" y="1073160"/>
            <a:ext cx="5931000" cy="4536000"/>
            <a:chOff x="1959120" y="1073160"/>
            <a:chExt cx="5931000" cy="4536000"/>
          </a:xfrm>
        </p:grpSpPr>
        <p:sp>
          <p:nvSpPr>
            <p:cNvPr id="1784" name=""/>
            <p:cNvSpPr/>
            <p:nvPr/>
          </p:nvSpPr>
          <p:spPr>
            <a:xfrm>
              <a:off x="7239960" y="5100480"/>
              <a:ext cx="6501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cc"/>
                  </a:solidFill>
                  <a:latin typeface="Arial"/>
                </a:rPr>
                <a:t>D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Arial"/>
                </a:rPr>
                <a:t>E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959120" y="1073160"/>
              <a:ext cx="5263920" cy="42609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1725120" y="803160"/>
            <a:ext cx="5901840" cy="4567320"/>
            <a:chOff x="1725120" y="803160"/>
            <a:chExt cx="5901840" cy="4567320"/>
          </a:xfrm>
        </p:grpSpPr>
        <p:sp>
          <p:nvSpPr>
            <p:cNvPr id="1787" name=""/>
            <p:cNvSpPr/>
            <p:nvPr/>
          </p:nvSpPr>
          <p:spPr>
            <a:xfrm>
              <a:off x="6993720" y="803160"/>
              <a:ext cx="6332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00cc"/>
                  </a:solidFill>
                  <a:latin typeface="Arial"/>
                </a:rPr>
                <a:t>S</a:t>
              </a:r>
              <a:r>
                <a:rPr b="0" lang="en-US" sz="2400" spc="-1" strike="noStrike" baseline="-25000">
                  <a:solidFill>
                    <a:srgbClr val="0000cc"/>
                  </a:solidFill>
                  <a:latin typeface="Arial"/>
                </a:rPr>
                <a:t>E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1725120" y="1109520"/>
              <a:ext cx="5264280" cy="42609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9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536760" y="2155680"/>
            <a:ext cx="7113240" cy="473760"/>
            <a:chOff x="536760" y="2155680"/>
            <a:chExt cx="7113240" cy="473760"/>
          </a:xfrm>
        </p:grpSpPr>
        <p:sp>
          <p:nvSpPr>
            <p:cNvPr id="1791" name=""/>
            <p:cNvSpPr/>
            <p:nvPr/>
          </p:nvSpPr>
          <p:spPr>
            <a:xfrm>
              <a:off x="536760" y="2155680"/>
              <a:ext cx="48816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2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r>
                <a:rPr b="0" lang="en-GB" sz="2200" spc="-1" strike="noStrike" baseline="-25000">
                  <a:solidFill>
                    <a:srgbClr val="006600"/>
                  </a:solidFill>
                  <a:latin typeface="Arial"/>
                </a:rPr>
                <a:t>w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068480" y="2341440"/>
              <a:ext cx="658152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214960" y="1873080"/>
            <a:ext cx="354240" cy="527400"/>
            <a:chOff x="5214960" y="1873080"/>
            <a:chExt cx="354240" cy="527400"/>
          </a:xfrm>
        </p:grpSpPr>
        <p:sp>
          <p:nvSpPr>
            <p:cNvPr id="1794" name=""/>
            <p:cNvSpPr/>
            <p:nvPr/>
          </p:nvSpPr>
          <p:spPr>
            <a:xfrm>
              <a:off x="5214960" y="18730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425920" y="2273400"/>
              <a:ext cx="127080" cy="127080"/>
            </a:xfrm>
            <a:prstGeom prst="ellipse">
              <a:avLst/>
            </a:prstGeom>
            <a:solidFill>
              <a:srgbClr val="66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3424320" y="1847880"/>
            <a:ext cx="354240" cy="558720"/>
            <a:chOff x="3424320" y="1847880"/>
            <a:chExt cx="354240" cy="558720"/>
          </a:xfrm>
        </p:grpSpPr>
        <p:sp>
          <p:nvSpPr>
            <p:cNvPr id="1797" name=""/>
            <p:cNvSpPr/>
            <p:nvPr/>
          </p:nvSpPr>
          <p:spPr>
            <a:xfrm>
              <a:off x="3424320" y="18478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456000" y="2279520"/>
              <a:ext cx="127080" cy="127080"/>
            </a:xfrm>
            <a:prstGeom prst="ellipse">
              <a:avLst/>
            </a:prstGeom>
            <a:solidFill>
              <a:srgbClr val="66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0" name=""/>
          <p:cNvGrpSpPr/>
          <p:nvPr/>
        </p:nvGrpSpPr>
        <p:grpSpPr>
          <a:xfrm>
            <a:off x="3772080" y="6302520"/>
            <a:ext cx="1412640" cy="446400"/>
            <a:chOff x="3772080" y="6302520"/>
            <a:chExt cx="1412640" cy="446400"/>
          </a:xfrm>
        </p:grpSpPr>
        <p:sp>
          <p:nvSpPr>
            <p:cNvPr id="1801" name=""/>
            <p:cNvSpPr/>
            <p:nvPr/>
          </p:nvSpPr>
          <p:spPr>
            <a:xfrm>
              <a:off x="3772080" y="6302520"/>
              <a:ext cx="141264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982320" y="6351480"/>
              <a:ext cx="1049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Ex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Minimum prices for a product where the EU is self-sufficient</a:t>
            </a:r>
            <a:endParaRPr b="1" lang="en-US" sz="24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2448000" y="1469880"/>
            <a:ext cx="4105080" cy="4473720"/>
            <a:chOff x="2448000" y="1469880"/>
            <a:chExt cx="4105080" cy="4473720"/>
          </a:xfrm>
        </p:grpSpPr>
        <p:sp>
          <p:nvSpPr>
            <p:cNvPr id="1806" name=""/>
            <p:cNvSpPr/>
            <p:nvPr/>
          </p:nvSpPr>
          <p:spPr>
            <a:xfrm>
              <a:off x="2448000" y="1469880"/>
              <a:ext cx="4105080" cy="4473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915720" y="3633840"/>
              <a:ext cx="1169640" cy="519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CO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9" name=""/>
          <p:cNvGrpSpPr/>
          <p:nvPr/>
        </p:nvGrpSpPr>
        <p:grpSpPr>
          <a:xfrm>
            <a:off x="2435400" y="2346480"/>
            <a:ext cx="4103640" cy="3592440"/>
            <a:chOff x="2435400" y="2346480"/>
            <a:chExt cx="4103640" cy="3592440"/>
          </a:xfrm>
        </p:grpSpPr>
        <p:sp>
          <p:nvSpPr>
            <p:cNvPr id="1810" name=""/>
            <p:cNvSpPr/>
            <p:nvPr/>
          </p:nvSpPr>
          <p:spPr>
            <a:xfrm>
              <a:off x="2435400" y="2346480"/>
              <a:ext cx="4103640" cy="3592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860560" y="4091040"/>
              <a:ext cx="3265200" cy="1189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REVENUE FR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SALE OF SURPL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ON WORLD MAR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2" name=""/>
          <p:cNvSpPr/>
          <p:nvPr/>
        </p:nvSpPr>
        <p:spPr>
          <a:xfrm>
            <a:off x="1959120" y="1073160"/>
            <a:ext cx="526392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 flipH="1">
            <a:off x="1725120" y="1109520"/>
            <a:ext cx="526428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6535800" y="1447920"/>
            <a:ext cx="0" cy="447660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2438280" y="1447920"/>
            <a:ext cx="0" cy="449568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6229080" y="601488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536760" y="2155680"/>
            <a:ext cx="4881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2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GB" sz="22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1" name=""/>
          <p:cNvGrpSpPr/>
          <p:nvPr/>
        </p:nvGrpSpPr>
        <p:grpSpPr>
          <a:xfrm>
            <a:off x="582480" y="1297080"/>
            <a:ext cx="7091640" cy="508680"/>
            <a:chOff x="582480" y="1297080"/>
            <a:chExt cx="7091640" cy="508680"/>
          </a:xfrm>
        </p:grpSpPr>
        <p:sp>
          <p:nvSpPr>
            <p:cNvPr id="1822" name=""/>
            <p:cNvSpPr/>
            <p:nvPr/>
          </p:nvSpPr>
          <p:spPr>
            <a:xfrm>
              <a:off x="1058760" y="1463760"/>
              <a:ext cx="66153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82480" y="1297080"/>
              <a:ext cx="427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4" name=""/>
          <p:cNvSpPr/>
          <p:nvPr/>
        </p:nvSpPr>
        <p:spPr>
          <a:xfrm>
            <a:off x="6993000" y="803160"/>
            <a:ext cx="63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518472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2156760" y="60120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223440" y="601020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7239240" y="5100480"/>
            <a:ext cx="6501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flipH="1">
            <a:off x="3512880" y="2347920"/>
            <a:ext cx="6120" cy="35863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H="1">
            <a:off x="5478480" y="2347920"/>
            <a:ext cx="7920" cy="361008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424320" y="184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214960" y="1873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068480" y="2341440"/>
            <a:ext cx="658152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425920" y="2273400"/>
            <a:ext cx="127080" cy="127080"/>
          </a:xfrm>
          <a:prstGeom prst="ellipse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3456000" y="2279520"/>
            <a:ext cx="127080" cy="127080"/>
          </a:xfrm>
          <a:prstGeom prst="ellipse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2143800" y="1892160"/>
            <a:ext cx="4733640" cy="505080"/>
            <a:chOff x="2143800" y="1892160"/>
            <a:chExt cx="4733640" cy="505080"/>
          </a:xfrm>
        </p:grpSpPr>
        <p:grpSp>
          <p:nvGrpSpPr>
            <p:cNvPr id="1839" name=""/>
            <p:cNvGrpSpPr/>
            <p:nvPr/>
          </p:nvGrpSpPr>
          <p:grpSpPr>
            <a:xfrm>
              <a:off x="2143800" y="1892160"/>
              <a:ext cx="359640" cy="498600"/>
              <a:chOff x="2143800" y="1892160"/>
              <a:chExt cx="359640" cy="498600"/>
            </a:xfrm>
          </p:grpSpPr>
          <p:sp>
            <p:nvSpPr>
              <p:cNvPr id="1840" name=""/>
              <p:cNvSpPr/>
              <p:nvPr/>
            </p:nvSpPr>
            <p:spPr>
              <a:xfrm>
                <a:off x="2143800" y="1892160"/>
                <a:ext cx="27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2376360" y="2263680"/>
                <a:ext cx="127080" cy="127080"/>
              </a:xfrm>
              <a:prstGeom prst="ellipse">
                <a:avLst/>
              </a:prstGeom>
              <a:solidFill>
                <a:srgbClr val="ff99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2" name=""/>
            <p:cNvGrpSpPr/>
            <p:nvPr/>
          </p:nvGrpSpPr>
          <p:grpSpPr>
            <a:xfrm>
              <a:off x="6473880" y="1911240"/>
              <a:ext cx="403560" cy="486000"/>
              <a:chOff x="6473880" y="1911240"/>
              <a:chExt cx="403560" cy="486000"/>
            </a:xfrm>
          </p:grpSpPr>
          <p:sp>
            <p:nvSpPr>
              <p:cNvPr id="1843" name=""/>
              <p:cNvSpPr/>
              <p:nvPr/>
            </p:nvSpPr>
            <p:spPr>
              <a:xfrm>
                <a:off x="6540120" y="191124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473880" y="2270160"/>
                <a:ext cx="127080" cy="127080"/>
              </a:xfrm>
              <a:prstGeom prst="ellipse">
                <a:avLst/>
              </a:prstGeom>
              <a:solidFill>
                <a:srgbClr val="ff99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5" name=""/>
          <p:cNvGrpSpPr/>
          <p:nvPr/>
        </p:nvGrpSpPr>
        <p:grpSpPr>
          <a:xfrm>
            <a:off x="2548080" y="6477120"/>
            <a:ext cx="3929040" cy="397440"/>
            <a:chOff x="2548080" y="6477120"/>
            <a:chExt cx="3929040" cy="397440"/>
          </a:xfrm>
        </p:grpSpPr>
        <p:sp>
          <p:nvSpPr>
            <p:cNvPr id="1846" name=""/>
            <p:cNvSpPr/>
            <p:nvPr/>
          </p:nvSpPr>
          <p:spPr>
            <a:xfrm>
              <a:off x="2548080" y="6500880"/>
              <a:ext cx="392904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916440" y="6477120"/>
              <a:ext cx="1049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Surpl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8" name=""/>
          <p:cNvSpPr/>
          <p:nvPr/>
        </p:nvSpPr>
        <p:spPr>
          <a:xfrm>
            <a:off x="3576600" y="1628640"/>
            <a:ext cx="172440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T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9" name=""/>
          <p:cNvGrpSpPr/>
          <p:nvPr/>
        </p:nvGrpSpPr>
        <p:grpSpPr>
          <a:xfrm>
            <a:off x="3015720" y="676440"/>
            <a:ext cx="3032640" cy="717480"/>
            <a:chOff x="3015720" y="676440"/>
            <a:chExt cx="3032640" cy="717480"/>
          </a:xfrm>
        </p:grpSpPr>
        <p:sp>
          <p:nvSpPr>
            <p:cNvPr id="1850" name=""/>
            <p:cNvSpPr/>
            <p:nvPr/>
          </p:nvSpPr>
          <p:spPr>
            <a:xfrm>
              <a:off x="3492360" y="676440"/>
              <a:ext cx="2556000" cy="6141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6600"/>
                  </a:solidFill>
                  <a:latin typeface="Comic Sans MS"/>
                </a:rPr>
                <a:t>Intervention pri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>
              <a:off x="3015720" y="1039680"/>
              <a:ext cx="476280" cy="3542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6286680" y="969840"/>
            <a:ext cx="354240" cy="563760"/>
            <a:chOff x="6286680" y="969840"/>
            <a:chExt cx="354240" cy="563760"/>
          </a:xfrm>
        </p:grpSpPr>
        <p:sp>
          <p:nvSpPr>
            <p:cNvPr id="1853" name=""/>
            <p:cNvSpPr/>
            <p:nvPr/>
          </p:nvSpPr>
          <p:spPr>
            <a:xfrm>
              <a:off x="6470640" y="1406520"/>
              <a:ext cx="127080" cy="12708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286680" y="96984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5" name=""/>
          <p:cNvGrpSpPr/>
          <p:nvPr/>
        </p:nvGrpSpPr>
        <p:grpSpPr>
          <a:xfrm>
            <a:off x="2355840" y="965160"/>
            <a:ext cx="354240" cy="557280"/>
            <a:chOff x="2355840" y="965160"/>
            <a:chExt cx="354240" cy="557280"/>
          </a:xfrm>
        </p:grpSpPr>
        <p:sp>
          <p:nvSpPr>
            <p:cNvPr id="1856" name=""/>
            <p:cNvSpPr/>
            <p:nvPr/>
          </p:nvSpPr>
          <p:spPr>
            <a:xfrm>
              <a:off x="2376360" y="1395360"/>
              <a:ext cx="127080" cy="12708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355840" y="96516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Minimum prices for a product where the EU is self-sufficient</a:t>
            </a:r>
            <a:endParaRPr b="1" lang="en-US" sz="24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High minimum pric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a net importer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self-sufficien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Reductions in supply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High minimum pric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a net importer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self-sufficien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Reductions in supply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quotas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x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High minimum pric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a net importer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foodstuffs where the country is self-sufficien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Reductions in supply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quotas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aking land out of use (e.g. set aside)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58800" y="1297080"/>
            <a:ext cx="8485200" cy="527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3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Justification of the CAP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ssured supplies of food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upport for farm incom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growth in agricultural productivit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table agricultural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9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asonable prices for consumers.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"/>
          <p:cNvSpPr/>
          <p:nvPr/>
        </p:nvSpPr>
        <p:spPr>
          <a:xfrm>
            <a:off x="588960" y="627120"/>
            <a:ext cx="7875720" cy="5891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6" name="" descr=""/>
          <p:cNvPicPr/>
          <p:nvPr/>
        </p:nvPicPr>
        <p:blipFill>
          <a:blip r:embed="rId2"/>
          <a:stretch/>
        </p:blipFill>
        <p:spPr>
          <a:xfrm>
            <a:off x="154080" y="601560"/>
            <a:ext cx="8542080" cy="5923080"/>
          </a:xfrm>
          <a:prstGeom prst="rect">
            <a:avLst/>
          </a:prstGeom>
          <a:ln w="0">
            <a:noFill/>
          </a:ln>
        </p:spPr>
      </p:pic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 Narrow"/>
              </a:rPr>
              <a:t>The cost of price and other market support for agriculture in the EU</a:t>
            </a:r>
            <a:endParaRPr b="1" lang="en-US" sz="26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20040" y="6583320"/>
            <a:ext cx="56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Agriculture in the European Union, European Economy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European Commi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riticisms of the CAP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gricultural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tatic cost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559080" y="2967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975360" y="803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7221600" y="5100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H="1">
            <a:off x="1068480" y="3130560"/>
            <a:ext cx="34272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1959120" y="1073160"/>
            <a:ext cx="526392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H="1">
            <a:off x="1725120" y="1109520"/>
            <a:ext cx="526428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448160" y="3083040"/>
            <a:ext cx="93600" cy="936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The cost to the taxpayer of high fixed pric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559080" y="2967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586800" y="1297080"/>
            <a:ext cx="4122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975360" y="803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1068480" y="1455840"/>
            <a:ext cx="5459400" cy="144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221600" y="5100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flipH="1">
            <a:off x="1068480" y="3130560"/>
            <a:ext cx="3427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959120" y="1073160"/>
            <a:ext cx="526392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1725120" y="1109520"/>
            <a:ext cx="526428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448160" y="3083040"/>
            <a:ext cx="93600" cy="936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2433600" y="1460520"/>
            <a:ext cx="0" cy="44816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6531120" y="1460520"/>
            <a:ext cx="0" cy="44816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2206080" y="597708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274440" y="5975280"/>
            <a:ext cx="471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8" name=""/>
          <p:cNvGrpSpPr/>
          <p:nvPr/>
        </p:nvGrpSpPr>
        <p:grpSpPr>
          <a:xfrm>
            <a:off x="2355840" y="965160"/>
            <a:ext cx="354240" cy="557280"/>
            <a:chOff x="2355840" y="965160"/>
            <a:chExt cx="354240" cy="557280"/>
          </a:xfrm>
        </p:grpSpPr>
        <p:sp>
          <p:nvSpPr>
            <p:cNvPr id="1919" name=""/>
            <p:cNvSpPr/>
            <p:nvPr/>
          </p:nvSpPr>
          <p:spPr>
            <a:xfrm>
              <a:off x="2355840" y="96516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376360" y="1395360"/>
              <a:ext cx="127080" cy="12708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1" name=""/>
          <p:cNvGrpSpPr/>
          <p:nvPr/>
        </p:nvGrpSpPr>
        <p:grpSpPr>
          <a:xfrm>
            <a:off x="6286680" y="969840"/>
            <a:ext cx="354240" cy="563760"/>
            <a:chOff x="6286680" y="969840"/>
            <a:chExt cx="354240" cy="563760"/>
          </a:xfrm>
        </p:grpSpPr>
        <p:sp>
          <p:nvSpPr>
            <p:cNvPr id="1922" name=""/>
            <p:cNvSpPr/>
            <p:nvPr/>
          </p:nvSpPr>
          <p:spPr>
            <a:xfrm>
              <a:off x="6286680" y="96984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470640" y="1406520"/>
              <a:ext cx="127080" cy="12708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4" name=""/>
          <p:cNvGrpSpPr/>
          <p:nvPr/>
        </p:nvGrpSpPr>
        <p:grpSpPr>
          <a:xfrm>
            <a:off x="2701800" y="6302520"/>
            <a:ext cx="3570480" cy="451440"/>
            <a:chOff x="2701800" y="6302520"/>
            <a:chExt cx="3570480" cy="451440"/>
          </a:xfrm>
        </p:grpSpPr>
        <p:sp>
          <p:nvSpPr>
            <p:cNvPr id="1925" name=""/>
            <p:cNvSpPr/>
            <p:nvPr/>
          </p:nvSpPr>
          <p:spPr>
            <a:xfrm>
              <a:off x="2701800" y="6302520"/>
              <a:ext cx="357048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965760" y="6356520"/>
              <a:ext cx="1049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Surpl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The cost to the taxpayer of high fixed pric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433600" y="1498680"/>
            <a:ext cx="0" cy="444348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430360" y="1469880"/>
            <a:ext cx="4102200" cy="4462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531120" y="1511280"/>
            <a:ext cx="0" cy="443088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068480" y="1455840"/>
            <a:ext cx="5459400" cy="144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559080" y="2967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86800" y="1297080"/>
            <a:ext cx="4122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6975360" y="803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7221600" y="5100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H="1">
            <a:off x="1068480" y="3130560"/>
            <a:ext cx="3427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959120" y="1073160"/>
            <a:ext cx="526392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 flipH="1">
            <a:off x="1725120" y="1109520"/>
            <a:ext cx="526428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540120" y="552924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286680" y="9698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355840" y="9651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2087640" y="5492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470640" y="140652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376360" y="139536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394000" y="588492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6461280" y="5886360"/>
            <a:ext cx="12672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2206080" y="597708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274440" y="5975280"/>
            <a:ext cx="471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01800" y="6302520"/>
            <a:ext cx="357048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965760" y="6356520"/>
            <a:ext cx="1049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486960" y="3029040"/>
            <a:ext cx="2114280" cy="137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OS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AXP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The cost to the taxpayer of high fixed pric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562680" y="2967120"/>
            <a:ext cx="468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6975360" y="803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7221600" y="5100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 flipH="1">
            <a:off x="1068480" y="3130560"/>
            <a:ext cx="34272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959120" y="1073160"/>
            <a:ext cx="526392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 flipH="1">
            <a:off x="1725120" y="1109520"/>
            <a:ext cx="526428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429080" y="30639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4" name=""/>
          <p:cNvGrpSpPr/>
          <p:nvPr/>
        </p:nvGrpSpPr>
        <p:grpSpPr>
          <a:xfrm>
            <a:off x="602640" y="1246320"/>
            <a:ext cx="5891760" cy="578160"/>
            <a:chOff x="602640" y="1246320"/>
            <a:chExt cx="5891760" cy="578160"/>
          </a:xfrm>
        </p:grpSpPr>
        <p:sp>
          <p:nvSpPr>
            <p:cNvPr id="1975" name=""/>
            <p:cNvSpPr/>
            <p:nvPr/>
          </p:nvSpPr>
          <p:spPr>
            <a:xfrm>
              <a:off x="602640" y="1246320"/>
              <a:ext cx="4122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cc00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H="1">
              <a:off x="1085760" y="1473120"/>
              <a:ext cx="54086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7" name=""/>
          <p:cNvGrpSpPr/>
          <p:nvPr/>
        </p:nvGrpSpPr>
        <p:grpSpPr>
          <a:xfrm>
            <a:off x="597240" y="4603680"/>
            <a:ext cx="5844600" cy="578160"/>
            <a:chOff x="597240" y="4603680"/>
            <a:chExt cx="5844600" cy="578160"/>
          </a:xfrm>
        </p:grpSpPr>
        <p:sp>
          <p:nvSpPr>
            <p:cNvPr id="1978" name=""/>
            <p:cNvSpPr/>
            <p:nvPr/>
          </p:nvSpPr>
          <p:spPr>
            <a:xfrm>
              <a:off x="597240" y="4603680"/>
              <a:ext cx="4579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1068120" y="4822920"/>
              <a:ext cx="537372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0" name=""/>
          <p:cNvGrpSpPr/>
          <p:nvPr/>
        </p:nvGrpSpPr>
        <p:grpSpPr>
          <a:xfrm>
            <a:off x="6523200" y="1608120"/>
            <a:ext cx="1114200" cy="3109680"/>
            <a:chOff x="6523200" y="1608120"/>
            <a:chExt cx="1114200" cy="3109680"/>
          </a:xfrm>
        </p:grpSpPr>
        <p:sp>
          <p:nvSpPr>
            <p:cNvPr id="1981" name=""/>
            <p:cNvSpPr/>
            <p:nvPr/>
          </p:nvSpPr>
          <p:spPr>
            <a:xfrm>
              <a:off x="6523200" y="1608120"/>
              <a:ext cx="0" cy="3109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545520" y="2954880"/>
              <a:ext cx="1091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Subsi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3" name=""/>
          <p:cNvSpPr/>
          <p:nvPr/>
        </p:nvSpPr>
        <p:spPr>
          <a:xfrm>
            <a:off x="6527880" y="4840200"/>
            <a:ext cx="0" cy="11048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503600" y="3241800"/>
            <a:ext cx="0" cy="26701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270680" y="595944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277320" y="5940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6405480" y="969840"/>
            <a:ext cx="354240" cy="563760"/>
            <a:chOff x="6405480" y="969840"/>
            <a:chExt cx="354240" cy="563760"/>
          </a:xfrm>
        </p:grpSpPr>
        <p:sp>
          <p:nvSpPr>
            <p:cNvPr id="1988" name=""/>
            <p:cNvSpPr/>
            <p:nvPr/>
          </p:nvSpPr>
          <p:spPr>
            <a:xfrm>
              <a:off x="6405480" y="96984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470640" y="1406520"/>
              <a:ext cx="127080" cy="12708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ost to the taxpayer of subsidi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grpSp>
        <p:nvGrpSpPr>
          <p:cNvPr id="1991" name=""/>
          <p:cNvGrpSpPr/>
          <p:nvPr/>
        </p:nvGrpSpPr>
        <p:grpSpPr>
          <a:xfrm>
            <a:off x="6465960" y="4483080"/>
            <a:ext cx="427320" cy="458280"/>
            <a:chOff x="6465960" y="4483080"/>
            <a:chExt cx="427320" cy="458280"/>
          </a:xfrm>
        </p:grpSpPr>
        <p:sp>
          <p:nvSpPr>
            <p:cNvPr id="1992" name=""/>
            <p:cNvSpPr/>
            <p:nvPr/>
          </p:nvSpPr>
          <p:spPr>
            <a:xfrm>
              <a:off x="6539040" y="44830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465960" y="4745160"/>
              <a:ext cx="127080" cy="12708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62680" y="2967120"/>
            <a:ext cx="468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602640" y="1246320"/>
            <a:ext cx="4122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069920" y="1469880"/>
            <a:ext cx="5462640" cy="331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975360" y="803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068480" y="1455840"/>
            <a:ext cx="1366920" cy="324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7221600" y="5100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flipH="1">
            <a:off x="1068480" y="3130560"/>
            <a:ext cx="3427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1959120" y="1073160"/>
            <a:ext cx="526392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H="1">
            <a:off x="1725120" y="1109520"/>
            <a:ext cx="5264280" cy="4260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405480" y="9698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531120" y="4468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429080" y="3063960"/>
            <a:ext cx="127080" cy="127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97240" y="4603680"/>
            <a:ext cx="4579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470640" y="140652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6840" y="2484360"/>
            <a:ext cx="2922120" cy="94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OS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TAXP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4503600" y="3241800"/>
            <a:ext cx="0" cy="26701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4270680" y="595944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527880" y="4840200"/>
            <a:ext cx="0" cy="11048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277320" y="5940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464160" y="4721400"/>
            <a:ext cx="127080" cy="12672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ost to the taxpayer of subsidi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2" name=""/>
          <p:cNvGraphicFramePr/>
          <p:nvPr/>
        </p:nvGraphicFramePr>
        <p:xfrm>
          <a:off x="0" y="1504800"/>
          <a:ext cx="4978440" cy="39592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0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04800"/>
                    <a:ext cx="497844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4" name=""/>
          <p:cNvGraphicFramePr/>
          <p:nvPr/>
        </p:nvGraphicFramePr>
        <p:xfrm>
          <a:off x="4613400" y="1521000"/>
          <a:ext cx="4530600" cy="393516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20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13400" y="1521000"/>
                    <a:ext cx="4530600" cy="39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x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hortag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/>
          <p:nvPr/>
        </p:nvSpPr>
        <p:spPr>
          <a:xfrm>
            <a:off x="1066680" y="673200"/>
            <a:ext cx="4808520" cy="571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7" name="" descr=""/>
          <p:cNvPicPr/>
          <p:nvPr/>
        </p:nvPicPr>
        <p:blipFill>
          <a:blip r:embed="rId2"/>
          <a:stretch/>
        </p:blipFill>
        <p:spPr>
          <a:xfrm>
            <a:off x="441360" y="638280"/>
            <a:ext cx="5449680" cy="5916600"/>
          </a:xfrm>
          <a:prstGeom prst="rect">
            <a:avLst/>
          </a:prstGeom>
          <a:ln w="0">
            <a:noFill/>
          </a:ln>
        </p:spPr>
      </p:pic>
      <p:sp>
        <p:nvSpPr>
          <p:cNvPr id="2028" name=""/>
          <p:cNvSpPr/>
          <p:nvPr/>
        </p:nvSpPr>
        <p:spPr>
          <a:xfrm>
            <a:off x="320040" y="6583320"/>
            <a:ext cx="56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Agriculture in the European Union, European Economy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European Commi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80"/>
                </a:solidFill>
                <a:latin typeface="Arial Narrow"/>
              </a:rPr>
              <a:t>Unequal support given to different agricultural products in the EU: 2001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"/>
          <p:cNvSpPr/>
          <p:nvPr/>
        </p:nvSpPr>
        <p:spPr>
          <a:xfrm>
            <a:off x="1066680" y="673200"/>
            <a:ext cx="7010640" cy="571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1" name="" descr=""/>
          <p:cNvPicPr/>
          <p:nvPr/>
        </p:nvPicPr>
        <p:blipFill>
          <a:blip r:embed="rId2"/>
          <a:stretch/>
        </p:blipFill>
        <p:spPr>
          <a:xfrm>
            <a:off x="441360" y="638280"/>
            <a:ext cx="8343720" cy="5916600"/>
          </a:xfrm>
          <a:prstGeom prst="rect">
            <a:avLst/>
          </a:prstGeom>
          <a:ln w="0">
            <a:noFill/>
          </a:ln>
        </p:spPr>
      </p:pic>
      <p:sp>
        <p:nvSpPr>
          <p:cNvPr id="2032" name=""/>
          <p:cNvSpPr/>
          <p:nvPr/>
        </p:nvSpPr>
        <p:spPr>
          <a:xfrm>
            <a:off x="320040" y="6583320"/>
            <a:ext cx="56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Agriculture in the European Union, European Economy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European Commi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80"/>
                </a:solidFill>
                <a:latin typeface="Arial Narrow"/>
              </a:rPr>
              <a:t>Unequal support given to different agricultural products in the EU: 2001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riticisms of the CAP (cont.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rrational relative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moves disciplines of marke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distributive 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 on the environmen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 on the rest of the world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95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ffects of import levi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95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ffects of export subsidi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8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1017720" y="1584360"/>
            <a:ext cx="4984920" cy="4436640"/>
            <a:chOff x="1017720" y="1584360"/>
            <a:chExt cx="4984920" cy="4436640"/>
          </a:xfrm>
        </p:grpSpPr>
        <p:sp>
          <p:nvSpPr>
            <p:cNvPr id="2045" name=""/>
            <p:cNvSpPr/>
            <p:nvPr/>
          </p:nvSpPr>
          <p:spPr>
            <a:xfrm>
              <a:off x="1063800" y="2023920"/>
              <a:ext cx="4814640" cy="3918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579640" y="55627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648400" y="158436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025640" y="164304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017720" y="555768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0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59080" y="1847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6699240" y="99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141960" y="54864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1573200" y="1201680"/>
            <a:ext cx="4568760" cy="4570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 flipH="1">
            <a:off x="2319120" y="1185840"/>
            <a:ext cx="4405320" cy="4368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057320" y="2025720"/>
            <a:ext cx="48150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872320" y="2025720"/>
            <a:ext cx="0" cy="39002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409840" y="2025720"/>
            <a:ext cx="0" cy="39132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5807160" y="195120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43240" y="19400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701800" y="6421320"/>
            <a:ext cx="2907000" cy="429480"/>
            <a:chOff x="2701800" y="6421320"/>
            <a:chExt cx="2907000" cy="429480"/>
          </a:xfrm>
        </p:grpSpPr>
        <p:sp>
          <p:nvSpPr>
            <p:cNvPr id="2066" name=""/>
            <p:cNvSpPr/>
            <p:nvPr/>
          </p:nvSpPr>
          <p:spPr>
            <a:xfrm>
              <a:off x="2701800" y="6421320"/>
              <a:ext cx="29070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089160" y="6453360"/>
              <a:ext cx="1955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Original surpl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>
            <a:off x="5582160" y="5956200"/>
            <a:ext cx="554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2131560" y="594216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703160" y="3525840"/>
            <a:ext cx="3531960" cy="107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ARMERS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RIGINAL 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ffect of the MacSharry reforms on cereal surplus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59080" y="1847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563760" y="243036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6699240" y="99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141960" y="54864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573200" y="1201680"/>
            <a:ext cx="4568760" cy="4570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H="1">
            <a:off x="2319120" y="1185840"/>
            <a:ext cx="4405320" cy="4368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057320" y="2025720"/>
            <a:ext cx="48150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5872320" y="2025720"/>
            <a:ext cx="0" cy="39002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2409840" y="2025720"/>
            <a:ext cx="0" cy="39132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579640" y="55627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648400" y="15843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025640" y="16430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017720" y="5557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5807160" y="195120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2343240" y="19400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90680" y="1967040"/>
            <a:ext cx="0" cy="73008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5" name=""/>
          <p:cNvGrpSpPr/>
          <p:nvPr/>
        </p:nvGrpSpPr>
        <p:grpSpPr>
          <a:xfrm>
            <a:off x="609480" y="595440"/>
            <a:ext cx="3473640" cy="1814040"/>
            <a:chOff x="609480" y="595440"/>
            <a:chExt cx="3473640" cy="1814040"/>
          </a:xfrm>
        </p:grpSpPr>
        <p:sp>
          <p:nvSpPr>
            <p:cNvPr id="2096" name=""/>
            <p:cNvSpPr/>
            <p:nvPr/>
          </p:nvSpPr>
          <p:spPr>
            <a:xfrm flipV="1">
              <a:off x="609480" y="1234800"/>
              <a:ext cx="1882800" cy="1174680"/>
            </a:xfrm>
            <a:prstGeom prst="line">
              <a:avLst/>
            </a:prstGeom>
            <a:ln w="19080">
              <a:solidFill>
                <a:srgbClr val="0066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2305080" y="595440"/>
              <a:ext cx="1778040" cy="121104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325240" y="650880"/>
              <a:ext cx="1739520" cy="1098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006600"/>
                  </a:solidFill>
                  <a:latin typeface="Arial"/>
                </a:rPr>
                <a:t>Reduction i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006600"/>
                  </a:solidFill>
                  <a:latin typeface="Arial"/>
                </a:rPr>
                <a:t>interven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006600"/>
                  </a:solidFill>
                  <a:latin typeface="Arial"/>
                </a:rPr>
                <a:t>pri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9" name=""/>
          <p:cNvSpPr/>
          <p:nvPr/>
        </p:nvSpPr>
        <p:spPr>
          <a:xfrm>
            <a:off x="5582160" y="5956200"/>
            <a:ext cx="554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131560" y="594216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ffect of the MacSharry reforms on cereal surplus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559080" y="1847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576720" y="243036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6699240" y="99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141960" y="54864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573200" y="1201680"/>
            <a:ext cx="4568760" cy="4570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 flipH="1">
            <a:off x="2319120" y="1185840"/>
            <a:ext cx="4405320" cy="4368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V="1">
            <a:off x="1946160" y="802800"/>
            <a:ext cx="3063960" cy="4351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057320" y="2025720"/>
            <a:ext cx="48150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5872320" y="2025720"/>
            <a:ext cx="0" cy="39002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970520" y="6350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409840" y="2025720"/>
            <a:ext cx="0" cy="39132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5579640" y="55627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5648400" y="15843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025640" y="16430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1017720" y="5557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5807160" y="195120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2343240" y="19400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3908520" y="2681280"/>
            <a:ext cx="1225440" cy="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7" name=""/>
          <p:cNvGrpSpPr/>
          <p:nvPr/>
        </p:nvGrpSpPr>
        <p:grpSpPr>
          <a:xfrm>
            <a:off x="4673520" y="2765520"/>
            <a:ext cx="3191040" cy="1490400"/>
            <a:chOff x="4673520" y="2765520"/>
            <a:chExt cx="3191040" cy="1490400"/>
          </a:xfrm>
        </p:grpSpPr>
        <p:sp>
          <p:nvSpPr>
            <p:cNvPr id="2128" name=""/>
            <p:cNvSpPr/>
            <p:nvPr/>
          </p:nvSpPr>
          <p:spPr>
            <a:xfrm>
              <a:off x="4673520" y="2765520"/>
              <a:ext cx="1548000" cy="90144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194520" y="3316320"/>
              <a:ext cx="1670040" cy="93960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347880" y="3403440"/>
              <a:ext cx="1366200" cy="762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800080"/>
                  </a:solidFill>
                  <a:latin typeface="Arial"/>
                </a:rPr>
                <a:t>Effect of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800080"/>
                  </a:solidFill>
                  <a:latin typeface="Arial"/>
                </a:rPr>
                <a:t>Set-asid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1" name=""/>
          <p:cNvSpPr/>
          <p:nvPr/>
        </p:nvSpPr>
        <p:spPr>
          <a:xfrm>
            <a:off x="5582160" y="5956200"/>
            <a:ext cx="554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131560" y="594216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ffect of the MacSharry reforms on cereal surplus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6" name=""/>
          <p:cNvGrpSpPr/>
          <p:nvPr/>
        </p:nvGrpSpPr>
        <p:grpSpPr>
          <a:xfrm>
            <a:off x="1012680" y="2152800"/>
            <a:ext cx="3093120" cy="3876480"/>
            <a:chOff x="1012680" y="2152800"/>
            <a:chExt cx="3093120" cy="3876480"/>
          </a:xfrm>
        </p:grpSpPr>
        <p:sp>
          <p:nvSpPr>
            <p:cNvPr id="2137" name=""/>
            <p:cNvSpPr/>
            <p:nvPr/>
          </p:nvSpPr>
          <p:spPr>
            <a:xfrm>
              <a:off x="1063800" y="2625840"/>
              <a:ext cx="2649240" cy="3303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012680" y="2185920"/>
              <a:ext cx="471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r>
                <a:rPr b="1" lang="en-US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424320" y="2152800"/>
              <a:ext cx="471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b</a:t>
              </a:r>
              <a:r>
                <a:rPr b="1" lang="en-US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651120" y="5510160"/>
              <a:ext cx="454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r>
                <a:rPr b="1" lang="en-US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1" name=""/>
          <p:cNvSpPr/>
          <p:nvPr/>
        </p:nvSpPr>
        <p:spPr>
          <a:xfrm>
            <a:off x="593280" y="61740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559080" y="1847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576720" y="243036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6699240" y="99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6141960" y="54864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573200" y="1201680"/>
            <a:ext cx="4568760" cy="4570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 flipH="1">
            <a:off x="2319120" y="1185840"/>
            <a:ext cx="4405320" cy="43689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1946160" y="802800"/>
            <a:ext cx="3063960" cy="4351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1069920" y="2630520"/>
            <a:ext cx="2640240" cy="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710160" y="2630520"/>
            <a:ext cx="0" cy="32954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3014640" y="2630520"/>
            <a:ext cx="0" cy="328284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057320" y="2025720"/>
            <a:ext cx="481500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5872320" y="2025720"/>
            <a:ext cx="0" cy="39002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970520" y="6350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2409840" y="2025720"/>
            <a:ext cx="0" cy="39132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355200" y="5946840"/>
            <a:ext cx="554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5582160" y="5956200"/>
            <a:ext cx="5540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2736360" y="594036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2131560" y="5942160"/>
            <a:ext cx="56448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5579640" y="55627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5648400" y="15843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1025640" y="16430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1017720" y="5557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5807160" y="195120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2343240" y="19400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637080" y="2565360"/>
            <a:ext cx="12672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2944800" y="2567160"/>
            <a:ext cx="127080" cy="12672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2" name=""/>
          <p:cNvGrpSpPr/>
          <p:nvPr/>
        </p:nvGrpSpPr>
        <p:grpSpPr>
          <a:xfrm>
            <a:off x="2272320" y="6437160"/>
            <a:ext cx="2099160" cy="419760"/>
            <a:chOff x="2272320" y="6437160"/>
            <a:chExt cx="2099160" cy="419760"/>
          </a:xfrm>
        </p:grpSpPr>
        <p:sp>
          <p:nvSpPr>
            <p:cNvPr id="2173" name=""/>
            <p:cNvSpPr/>
            <p:nvPr/>
          </p:nvSpPr>
          <p:spPr>
            <a:xfrm>
              <a:off x="2272320" y="6459480"/>
              <a:ext cx="209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Reduced surpl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057480" y="6437160"/>
              <a:ext cx="6127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5" name=""/>
          <p:cNvSpPr/>
          <p:nvPr/>
        </p:nvSpPr>
        <p:spPr>
          <a:xfrm>
            <a:off x="1375200" y="3436920"/>
            <a:ext cx="20170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FARMERS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REDU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ffect of the MacSharry reforms on cereal surplus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ing probl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ing probl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genda 2000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x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hortag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ationing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ing probl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genda 2000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issue of EU enlargement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ing probl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genda 2000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issue of EU enlargement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posal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ing probl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genda 2000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issue of EU enlargement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posal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ubsequent event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forming the CA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ice reduc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roduction quota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t asid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versification; low-intensity farming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ome suppor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cSharry reform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surplus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ing probl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genda 2000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issue of EU enlargement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posal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ubsequent event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2002 reform proposal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x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hortag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ationing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lack marke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17720" y="963720"/>
            <a:ext cx="3352680" cy="4419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068120" y="3233880"/>
            <a:ext cx="25765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2560" y="630360"/>
            <a:ext cx="490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86800" y="6086520"/>
            <a:ext cx="504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5160" y="5959440"/>
            <a:ext cx="401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0760" y="3048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75440" y="5316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21160" y="833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12800" y="1166760"/>
            <a:ext cx="3741840" cy="4471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67240" y="3164040"/>
            <a:ext cx="139680" cy="13968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Effect of price control on black-marke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4572000"/>
            <a:ext cx="66294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17720" y="963720"/>
            <a:ext cx="3352680" cy="4419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068120" y="3233880"/>
            <a:ext cx="25765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2560" y="630360"/>
            <a:ext cx="490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86800" y="6086520"/>
            <a:ext cx="504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5160" y="5959440"/>
            <a:ext cx="401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7000" y="43750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0760" y="3048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75440" y="5316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21160" y="833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612800" y="1166760"/>
            <a:ext cx="3741840" cy="4471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67240" y="3164040"/>
            <a:ext cx="139680" cy="13968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Effect of price control on black-marke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4572000"/>
            <a:ext cx="66294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7720" y="963720"/>
            <a:ext cx="3352680" cy="4419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068120" y="3233880"/>
            <a:ext cx="25765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14600" y="4602240"/>
            <a:ext cx="0" cy="134460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2560" y="630360"/>
            <a:ext cx="490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86800" y="6086520"/>
            <a:ext cx="504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5160" y="5959440"/>
            <a:ext cx="401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7000" y="43750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0760" y="3048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68360" y="5997600"/>
            <a:ext cx="4575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04240" y="59832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567320"/>
            <a:ext cx="0" cy="13698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75440" y="5316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21160" y="833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612800" y="1166760"/>
            <a:ext cx="3741840" cy="4471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84600" y="4506840"/>
            <a:ext cx="12708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67240" y="3164040"/>
            <a:ext cx="139680" cy="13968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52680" y="4508640"/>
            <a:ext cx="127080" cy="126720"/>
          </a:xfrm>
          <a:prstGeom prst="ellipse">
            <a:avLst/>
          </a:prstGeom>
          <a:solidFill>
            <a:srgbClr val="dcb8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Effect of price control on black-marke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4572000"/>
            <a:ext cx="66294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17720" y="963720"/>
            <a:ext cx="3352680" cy="4419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068120" y="3233880"/>
            <a:ext cx="25765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1797120"/>
            <a:ext cx="0" cy="414972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2560" y="630360"/>
            <a:ext cx="490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786800" y="6086520"/>
            <a:ext cx="504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5160" y="5959440"/>
            <a:ext cx="401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2840" y="155736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7000" y="43750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90760" y="3048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68360" y="5997600"/>
            <a:ext cx="4575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04240" y="59832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48320" y="4567320"/>
            <a:ext cx="0" cy="13698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75440" y="5316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21160" y="833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612800" y="1166760"/>
            <a:ext cx="3741840" cy="4471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84600" y="4506840"/>
            <a:ext cx="12708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1068480" y="1779480"/>
            <a:ext cx="1428480" cy="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67240" y="3164040"/>
            <a:ext cx="139680" cy="13968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59160" y="1700280"/>
            <a:ext cx="126720" cy="127080"/>
          </a:xfrm>
          <a:prstGeom prst="ellipse">
            <a:avLst/>
          </a:prstGeom>
          <a:solidFill>
            <a:srgbClr val="dcb8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52680" y="4508640"/>
            <a:ext cx="127080" cy="126720"/>
          </a:xfrm>
          <a:prstGeom prst="ellipse">
            <a:avLst/>
          </a:prstGeom>
          <a:solidFill>
            <a:srgbClr val="dcb8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Effect of price control on black-marke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68480" y="1758960"/>
            <a:ext cx="1439640" cy="280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4572000"/>
            <a:ext cx="66294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17720" y="963720"/>
            <a:ext cx="3352680" cy="4419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068120" y="3233880"/>
            <a:ext cx="25765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4576680"/>
            <a:ext cx="0" cy="137016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2560" y="630360"/>
            <a:ext cx="490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86800" y="6086520"/>
            <a:ext cx="5047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5160" y="5959440"/>
            <a:ext cx="4014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2840" y="155736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7000" y="43750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0760" y="30481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68360" y="5997600"/>
            <a:ext cx="4575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04240" y="59832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4567320"/>
            <a:ext cx="0" cy="13698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75440" y="53164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21160" y="833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612800" y="1166760"/>
            <a:ext cx="3741840" cy="4471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44760" y="1697040"/>
            <a:ext cx="127080" cy="127080"/>
          </a:xfrm>
          <a:prstGeom prst="ellipse">
            <a:avLst/>
          </a:prstGeom>
          <a:solidFill>
            <a:srgbClr val="dcb8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84600" y="4506840"/>
            <a:ext cx="12708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52680" y="4508640"/>
            <a:ext cx="127080" cy="126720"/>
          </a:xfrm>
          <a:prstGeom prst="ellipse">
            <a:avLst/>
          </a:prstGeom>
          <a:solidFill>
            <a:srgbClr val="dcb8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7240" y="3164040"/>
            <a:ext cx="139680" cy="13968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Effect of price control on black-marke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Government Intervention in the Market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450800" y="2887200"/>
            <a:ext cx="6253200" cy="183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Arial"/>
              </a:rPr>
              <a:t>The Control of Prices</a:t>
            </a: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Government Intervention in the Market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999720" y="2813040"/>
            <a:ext cx="7156440" cy="200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Arial"/>
              </a:rPr>
              <a:t>Indirect Taxes</a:t>
            </a: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INDIRECT TAX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ic and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d valorem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tax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s on supply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066680" y="2133360"/>
            <a:ext cx="5562720" cy="380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65840" y="1889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2920" y="5176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755840" y="6004080"/>
            <a:ext cx="50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ffect of a tax on the supply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1066680" y="2133360"/>
            <a:ext cx="5562720" cy="380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066680" y="1676520"/>
            <a:ext cx="457200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97360" y="1355760"/>
            <a:ext cx="1937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+ specific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65840" y="1889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572000" y="2514600"/>
            <a:ext cx="2188800" cy="1722960"/>
            <a:chOff x="4572000" y="2514600"/>
            <a:chExt cx="2188800" cy="1722960"/>
          </a:xfrm>
        </p:grpSpPr>
        <p:sp>
          <p:nvSpPr>
            <p:cNvPr id="367" name=""/>
            <p:cNvSpPr/>
            <p:nvPr/>
          </p:nvSpPr>
          <p:spPr>
            <a:xfrm>
              <a:off x="4572000" y="25146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24280" y="2971800"/>
              <a:ext cx="5335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15400" y="3535200"/>
              <a:ext cx="1445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mount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ecific t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592920" y="5176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755840" y="6004080"/>
            <a:ext cx="50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ffect of a tax on the supply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066680" y="2133360"/>
            <a:ext cx="5562720" cy="3809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066680" y="517680"/>
            <a:ext cx="6534720" cy="5425920"/>
            <a:chOff x="1066680" y="517680"/>
            <a:chExt cx="6534720" cy="5425920"/>
          </a:xfrm>
        </p:grpSpPr>
        <p:sp>
          <p:nvSpPr>
            <p:cNvPr id="381" name=""/>
            <p:cNvSpPr/>
            <p:nvPr/>
          </p:nvSpPr>
          <p:spPr>
            <a:xfrm flipV="1">
              <a:off x="1066680" y="914400"/>
              <a:ext cx="4114800" cy="50292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38360" y="517680"/>
              <a:ext cx="2363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800080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+ </a:t>
              </a: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ad valorem</a:t>
              </a: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 t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6765840" y="1889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2920" y="5176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755840" y="6004080"/>
            <a:ext cx="50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ffect of a tax on the supply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INDIRECT TAX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ic and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d valorem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tax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s on supply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incidence of tax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INDIRECT TAX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ic and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d valorem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tax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s on supply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incidence of tax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producers' sha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onsumers' sha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67360" y="1754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752480" y="2057040"/>
            <a:ext cx="4191120" cy="33526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1219320"/>
            <a:ext cx="4190760" cy="4267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069560" y="3209760"/>
            <a:ext cx="34513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21240" y="3209760"/>
            <a:ext cx="0" cy="27162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5080" y="29988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300920" y="59706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10480" y="54198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57880" y="3137040"/>
            <a:ext cx="12672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ffect of a tax on price and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41120" y="82224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67360" y="1754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1752480" y="2057040"/>
            <a:ext cx="4191120" cy="33526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295280" y="1066680"/>
            <a:ext cx="4191120" cy="335304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90920" y="1219320"/>
            <a:ext cx="4190760" cy="4267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1069560" y="3209760"/>
            <a:ext cx="34513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21240" y="3209760"/>
            <a:ext cx="0" cy="27162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781440" y="2443320"/>
            <a:ext cx="0" cy="350352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1076400" y="2443320"/>
            <a:ext cx="270504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9880" y="1622520"/>
            <a:ext cx="4503960" cy="439200"/>
            <a:chOff x="29880" y="1622520"/>
            <a:chExt cx="4503960" cy="439200"/>
          </a:xfrm>
        </p:grpSpPr>
        <p:sp>
          <p:nvSpPr>
            <p:cNvPr id="430" name=""/>
            <p:cNvSpPr/>
            <p:nvPr/>
          </p:nvSpPr>
          <p:spPr>
            <a:xfrm flipH="1">
              <a:off x="1069920" y="1832040"/>
              <a:ext cx="3463920" cy="0"/>
            </a:xfrm>
            <a:prstGeom prst="line">
              <a:avLst/>
            </a:prstGeom>
            <a:ln w="1260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880" y="1622520"/>
              <a:ext cx="10659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663300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 + t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595080" y="29988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6240" y="22510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00920" y="59706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64360" y="5967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10480" y="54198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57880" y="3137040"/>
            <a:ext cx="12672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13040" y="237168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457880" y="1782720"/>
            <a:ext cx="126720" cy="1289160"/>
            <a:chOff x="4457880" y="1782720"/>
            <a:chExt cx="126720" cy="1289160"/>
          </a:xfrm>
        </p:grpSpPr>
        <p:sp>
          <p:nvSpPr>
            <p:cNvPr id="440" name=""/>
            <p:cNvSpPr/>
            <p:nvPr/>
          </p:nvSpPr>
          <p:spPr>
            <a:xfrm>
              <a:off x="4529160" y="1922400"/>
              <a:ext cx="0" cy="1149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457880" y="1782720"/>
              <a:ext cx="126720" cy="127080"/>
            </a:xfrm>
            <a:prstGeom prst="ellipse">
              <a:avLst/>
            </a:prstGeom>
            <a:solidFill>
              <a:srgbClr val="66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ffect of a tax on price and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INDIRECT TAX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ic and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d valorem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tax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s on supply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incidence of tax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producers' sha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onsumers' sha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lasticity and the incidence of tax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quilibrium price and the absence of shortages and surplu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20460000">
            <a:off x="5168520" y="-2921760"/>
            <a:ext cx="1949400" cy="1615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21"/>
                </a:moveTo>
                <a:arcTo wR="10800" hR="10800" stAng="10793245" swAng="2214805"/>
                <a:lnTo>
                  <a:pt x="10800" y="10800"/>
                </a:lnTo>
                <a:close/>
              </a:path>
              <a:path fill="none" w="21600" h="21600">
                <a:moveTo>
                  <a:pt x="0" y="10821"/>
                </a:moveTo>
                <a:arcTo wR="10800" hR="10800" stAng="10793245" swAng="221480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22760" y="3692520"/>
            <a:ext cx="4680" cy="223344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1068480" y="3692520"/>
            <a:ext cx="3589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59400" y="36212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523880" y="689040"/>
            <a:ext cx="4268520" cy="2587320"/>
            <a:chOff x="1523880" y="689040"/>
            <a:chExt cx="4268520" cy="2587320"/>
          </a:xfrm>
        </p:grpSpPr>
        <p:sp>
          <p:nvSpPr>
            <p:cNvPr id="458" name=""/>
            <p:cNvSpPr/>
            <p:nvPr/>
          </p:nvSpPr>
          <p:spPr>
            <a:xfrm flipV="1">
              <a:off x="1523880" y="1066320"/>
              <a:ext cx="3276720" cy="22100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59920" y="689040"/>
              <a:ext cx="103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+ ta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7054920" y="1666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3680" y="34052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3999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72080" y="1282680"/>
            <a:ext cx="0" cy="226548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272200" y="541332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in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20460000">
            <a:off x="5168520" y="-2921760"/>
            <a:ext cx="1949400" cy="1615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21"/>
                </a:moveTo>
                <a:arcTo wR="10800" hR="10800" stAng="10793245" swAng="2214805"/>
                <a:lnTo>
                  <a:pt x="10800" y="10800"/>
                </a:lnTo>
                <a:close/>
              </a:path>
              <a:path fill="none" w="21600" h="21600">
                <a:moveTo>
                  <a:pt x="0" y="10821"/>
                </a:moveTo>
                <a:arcTo wR="10800" hR="10800" stAng="10793245" swAng="221480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22760" y="3692520"/>
            <a:ext cx="4680" cy="223344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068480" y="1582560"/>
            <a:ext cx="296856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068480" y="3692520"/>
            <a:ext cx="3589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1523880" y="1066320"/>
            <a:ext cx="3276720" cy="22100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59400" y="36212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73680" y="1528920"/>
            <a:ext cx="126720" cy="12672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760640" y="68904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54920" y="1666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3680" y="34052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4440" y="13446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771360" y="1582560"/>
            <a:ext cx="521640" cy="4879080"/>
            <a:chOff x="3771360" y="1582560"/>
            <a:chExt cx="521640" cy="4879080"/>
          </a:xfrm>
        </p:grpSpPr>
        <p:sp>
          <p:nvSpPr>
            <p:cNvPr id="488" name=""/>
            <p:cNvSpPr/>
            <p:nvPr/>
          </p:nvSpPr>
          <p:spPr>
            <a:xfrm>
              <a:off x="4037040" y="1582560"/>
              <a:ext cx="0" cy="436428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71360" y="595296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43999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672080" y="1282680"/>
            <a:ext cx="0" cy="226548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272200" y="541332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in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rot="20460000">
            <a:off x="5168520" y="-2921760"/>
            <a:ext cx="1949400" cy="1615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21"/>
                </a:moveTo>
                <a:arcTo wR="10800" hR="10800" stAng="10793245" swAng="2214805"/>
                <a:lnTo>
                  <a:pt x="10800" y="10800"/>
                </a:lnTo>
                <a:close/>
              </a:path>
              <a:path fill="none" w="21600" h="21600">
                <a:moveTo>
                  <a:pt x="0" y="10821"/>
                </a:moveTo>
                <a:arcTo wR="10800" hR="10800" stAng="10793245" swAng="221480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22760" y="3692520"/>
            <a:ext cx="4680" cy="223344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8480" y="1582560"/>
            <a:ext cx="2958840" cy="2109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068480" y="1582560"/>
            <a:ext cx="296856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1068480" y="3692520"/>
            <a:ext cx="3589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523880" y="1066320"/>
            <a:ext cx="3276720" cy="22100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1068480" y="4125960"/>
            <a:ext cx="2968560" cy="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037040" y="1582560"/>
            <a:ext cx="0" cy="436428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59400" y="36212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73680" y="1528920"/>
            <a:ext cx="126720" cy="12672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60640" y="68904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54920" y="1666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3680" y="34052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4440" y="13446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771360" y="595296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999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72080" y="1282680"/>
            <a:ext cx="0" cy="226548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72200" y="541332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64200" y="2338560"/>
            <a:ext cx="191016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05480" y="3700440"/>
            <a:ext cx="3931560" cy="702360"/>
            <a:chOff x="105480" y="3700440"/>
            <a:chExt cx="3931560" cy="702360"/>
          </a:xfrm>
        </p:grpSpPr>
        <p:sp>
          <p:nvSpPr>
            <p:cNvPr id="525" name=""/>
            <p:cNvSpPr/>
            <p:nvPr/>
          </p:nvSpPr>
          <p:spPr>
            <a:xfrm>
              <a:off x="1068480" y="3700440"/>
              <a:ext cx="2968560" cy="425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105480" y="3732120"/>
              <a:ext cx="3855960" cy="670680"/>
              <a:chOff x="105480" y="3732120"/>
              <a:chExt cx="3855960" cy="670680"/>
            </a:xfrm>
          </p:grpSpPr>
          <p:sp>
            <p:nvSpPr>
              <p:cNvPr id="527" name=""/>
              <p:cNvSpPr/>
              <p:nvPr/>
            </p:nvSpPr>
            <p:spPr>
              <a:xfrm>
                <a:off x="105480" y="3894120"/>
                <a:ext cx="893880" cy="508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2400" spc="-1" strike="noStrike">
                    <a:solidFill>
                      <a:srgbClr val="0066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6600"/>
                    </a:solidFill>
                    <a:latin typeface="Arial"/>
                  </a:rPr>
                  <a:t>2 </a:t>
                </a:r>
                <a:r>
                  <a:rPr b="0" lang="en-US" sz="2400" spc="-1" strike="noStrike">
                    <a:solidFill>
                      <a:srgbClr val="006600"/>
                    </a:solidFill>
                    <a:latin typeface="Arial"/>
                  </a:rPr>
                  <a:t>- </a:t>
                </a:r>
                <a:r>
                  <a:rPr b="0" i="1" lang="en-US" sz="2400" spc="-1" strike="noStrike">
                    <a:solidFill>
                      <a:srgbClr val="006600"/>
                    </a:solidFill>
                    <a:latin typeface="Arial"/>
                  </a:rPr>
                  <a:t>t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117080" y="3732120"/>
                <a:ext cx="2844360" cy="397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PRODUCERS’ SH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9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3960" y="4064040"/>
            <a:ext cx="127080" cy="1270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0"/>
            <a:ext cx="9144000" cy="58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in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523880" y="723600"/>
            <a:ext cx="3780000" cy="2552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154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097760" y="19382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" y="305748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0191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283360" y="909720"/>
            <a:ext cx="0" cy="22651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272360" y="36194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420000">
            <a:off x="1764720" y="5940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1068120" y="3282840"/>
            <a:ext cx="4219560" cy="18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76880" y="3300480"/>
            <a:ext cx="1440" cy="26463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21640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cidence of tax:  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523880" y="723600"/>
            <a:ext cx="3780000" cy="2552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4154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097760" y="19382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54040" y="305748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440" y="216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191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83360" y="909720"/>
            <a:ext cx="0" cy="22651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272360" y="36194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420000">
            <a:off x="1764720" y="5940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1076400" y="2382840"/>
            <a:ext cx="17683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586960" y="2398680"/>
            <a:ext cx="521640" cy="4062960"/>
            <a:chOff x="2586960" y="2398680"/>
            <a:chExt cx="521640" cy="4062960"/>
          </a:xfrm>
        </p:grpSpPr>
        <p:sp>
          <p:nvSpPr>
            <p:cNvPr id="572" name=""/>
            <p:cNvSpPr/>
            <p:nvPr/>
          </p:nvSpPr>
          <p:spPr>
            <a:xfrm>
              <a:off x="2586960" y="595296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54440" y="2398680"/>
              <a:ext cx="0" cy="354816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 flipH="1">
            <a:off x="1068120" y="3282840"/>
            <a:ext cx="4219560" cy="18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76880" y="3300480"/>
            <a:ext cx="1440" cy="26463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800440" y="232092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1640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cidence of tax:  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69920" y="2382840"/>
            <a:ext cx="1784520" cy="90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1523880" y="723600"/>
            <a:ext cx="3780000" cy="2552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154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097760" y="19382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54040" y="305748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1440" y="216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86960" y="595296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0191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283360" y="909720"/>
            <a:ext cx="0" cy="22651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272360" y="36194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420000">
            <a:off x="1764720" y="5940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076400" y="2382840"/>
            <a:ext cx="17683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54440" y="2398680"/>
            <a:ext cx="0" cy="354816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068120" y="3282840"/>
            <a:ext cx="4219560" cy="18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276880" y="3300480"/>
            <a:ext cx="1440" cy="26463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800440" y="232092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21640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37160" y="2457360"/>
            <a:ext cx="191016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cidence of tax:  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2209680" y="2057400"/>
            <a:ext cx="4876920" cy="3276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69920" y="2382840"/>
            <a:ext cx="1784520" cy="90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523880" y="723600"/>
            <a:ext cx="3780000" cy="2552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074600" y="3286080"/>
            <a:ext cx="1779840" cy="1614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4154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97760" y="19382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2560" y="4667400"/>
            <a:ext cx="893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4040" y="305748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41440" y="21686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586960" y="595296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01912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283360" y="909720"/>
            <a:ext cx="0" cy="22651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72360" y="36194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420000">
            <a:off x="1764720" y="5940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1076400" y="2382840"/>
            <a:ext cx="17683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854440" y="2398680"/>
            <a:ext cx="0" cy="354816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068120" y="3282840"/>
            <a:ext cx="4219560" cy="18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76880" y="3300480"/>
            <a:ext cx="1440" cy="26463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1068120" y="4908600"/>
            <a:ext cx="1785960" cy="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00440" y="232092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1640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790720" y="4846680"/>
            <a:ext cx="127080" cy="1270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37160" y="2457360"/>
            <a:ext cx="191016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036080" y="3800520"/>
            <a:ext cx="188280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RODUC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cidence of tax:  elastic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030560" y="1819080"/>
            <a:ext cx="1622520" cy="3824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07080" y="16542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54040" y="31100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2544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068480" y="3403440"/>
            <a:ext cx="3929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97520" y="3403440"/>
            <a:ext cx="0" cy="25434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3425760" y="723600"/>
            <a:ext cx="1878120" cy="4430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294160" y="971640"/>
            <a:ext cx="0" cy="145404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929120" y="3341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cidence of tax:  in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4030560" y="1819080"/>
            <a:ext cx="1622520" cy="3824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07080" y="16542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54040" y="31100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41440" y="268272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2544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68480" y="3011400"/>
            <a:ext cx="32479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4068000" y="3029040"/>
            <a:ext cx="521640" cy="3432600"/>
            <a:chOff x="4068000" y="3029040"/>
            <a:chExt cx="521640" cy="3432600"/>
          </a:xfrm>
        </p:grpSpPr>
        <p:sp>
          <p:nvSpPr>
            <p:cNvPr id="677" name=""/>
            <p:cNvSpPr/>
            <p:nvPr/>
          </p:nvSpPr>
          <p:spPr>
            <a:xfrm>
              <a:off x="4068000" y="595296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334040" y="3029040"/>
              <a:ext cx="0" cy="291780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 flipH="1">
            <a:off x="1068480" y="3403440"/>
            <a:ext cx="3929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97520" y="3403440"/>
            <a:ext cx="0" cy="25434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3425760" y="723600"/>
            <a:ext cx="1878120" cy="4430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294160" y="971640"/>
            <a:ext cx="0" cy="145404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29120" y="3341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270320" y="294948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cidence of tax:  in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4030560" y="1819080"/>
            <a:ext cx="1622520" cy="3824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79640" y="3011400"/>
            <a:ext cx="3254400" cy="392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707080" y="16542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54040" y="31100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1440" y="268272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068000" y="595296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2544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1068480" y="3011400"/>
            <a:ext cx="32479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334040" y="3029040"/>
            <a:ext cx="0" cy="291780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1068480" y="3403440"/>
            <a:ext cx="3929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997520" y="3403440"/>
            <a:ext cx="0" cy="25434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3425760" y="723600"/>
            <a:ext cx="1878120" cy="4430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94160" y="971640"/>
            <a:ext cx="0" cy="145404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929120" y="3341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70320" y="294948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286640" y="3035160"/>
            <a:ext cx="287172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cidence of tax:  in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inimum price: price floor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3640" y="56340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5620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447920" y="1295280"/>
            <a:ext cx="5410080" cy="419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1600200"/>
            <a:ext cx="5562720" cy="3886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066320" y="3395520"/>
            <a:ext cx="30481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680" y="31338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5280" y="88092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65880" y="53355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02200" y="3325680"/>
            <a:ext cx="127080" cy="127080"/>
          </a:xfrm>
          <a:prstGeom prst="ellipse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030560" y="1819080"/>
            <a:ext cx="1622520" cy="3824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079640" y="3011400"/>
            <a:ext cx="3254400" cy="392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66680" y="3403440"/>
            <a:ext cx="3267360" cy="1555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07080" y="16542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3680" y="4732200"/>
            <a:ext cx="893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54040" y="31100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41440" y="268272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068000" y="595296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82544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1068480" y="3011400"/>
            <a:ext cx="324792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334040" y="3029040"/>
            <a:ext cx="0" cy="291780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1068480" y="3403440"/>
            <a:ext cx="3929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997520" y="3403440"/>
            <a:ext cx="0" cy="25434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1068480" y="4951440"/>
            <a:ext cx="3249360" cy="936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425760" y="723600"/>
            <a:ext cx="1878120" cy="4430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94160" y="971640"/>
            <a:ext cx="0" cy="145404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929120" y="33415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270320" y="2949480"/>
            <a:ext cx="12708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70320" y="4881600"/>
            <a:ext cx="127080" cy="1270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93280" y="5414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75656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286640" y="3035160"/>
            <a:ext cx="287172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302840" y="4003560"/>
            <a:ext cx="284436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RODUCERS’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cidence of tax:  in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53680" y="53172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763040" y="602928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79600" y="295596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52520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1068120" y="3276720"/>
            <a:ext cx="3716280" cy="79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792680" y="3292560"/>
            <a:ext cx="0" cy="26701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479920" y="1287360"/>
            <a:ext cx="0" cy="16495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1353960" y="1123560"/>
            <a:ext cx="4273560" cy="12495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13600" y="1947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314360" y="2410920"/>
            <a:ext cx="5948280" cy="2111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72608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0"/>
            <a:ext cx="914400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53680" y="53172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763040" y="602928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79600" y="295596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7000" y="17114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2520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1068120" y="1914480"/>
            <a:ext cx="187956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680560" y="1914480"/>
            <a:ext cx="521640" cy="4560120"/>
            <a:chOff x="2680560" y="1914480"/>
            <a:chExt cx="521640" cy="4560120"/>
          </a:xfrm>
        </p:grpSpPr>
        <p:sp>
          <p:nvSpPr>
            <p:cNvPr id="786" name=""/>
            <p:cNvSpPr/>
            <p:nvPr/>
          </p:nvSpPr>
          <p:spPr>
            <a:xfrm>
              <a:off x="2680560" y="596592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955960" y="1914480"/>
              <a:ext cx="1440" cy="404028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 flipH="1" flipV="1">
            <a:off x="1068120" y="3276720"/>
            <a:ext cx="3716280" cy="79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792680" y="3292560"/>
            <a:ext cx="0" cy="26701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479920" y="1287360"/>
            <a:ext cx="0" cy="16495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1353960" y="1123560"/>
            <a:ext cx="4273560" cy="12495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113600" y="1947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314360" y="2410920"/>
            <a:ext cx="5948280" cy="2111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900520" y="1852560"/>
            <a:ext cx="12672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72608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0"/>
            <a:ext cx="914400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068480" y="1914480"/>
            <a:ext cx="1887480" cy="1370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53680" y="53172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763040" y="602928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79600" y="295596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67000" y="17114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680560" y="59659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52520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1068120" y="1914480"/>
            <a:ext cx="187956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2955960" y="1914480"/>
            <a:ext cx="1440" cy="404028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 flipV="1">
            <a:off x="1068120" y="3276720"/>
            <a:ext cx="3716280" cy="79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792680" y="3292560"/>
            <a:ext cx="0" cy="26701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479920" y="1287360"/>
            <a:ext cx="0" cy="16495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1353960" y="1123560"/>
            <a:ext cx="4273560" cy="12495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113600" y="1947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1314360" y="2410920"/>
            <a:ext cx="5948280" cy="2111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900520" y="1852560"/>
            <a:ext cx="12672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72608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037160" y="2270160"/>
            <a:ext cx="191016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0"/>
            <a:ext cx="914400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068480" y="1914480"/>
            <a:ext cx="1887480" cy="1370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66680" y="3284640"/>
            <a:ext cx="1889280" cy="663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377680" y="639720"/>
            <a:ext cx="103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+ 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53680" y="53172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763040" y="602928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81840" y="598644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39400" y="3697200"/>
            <a:ext cx="893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79600" y="295596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67000" y="17114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680560" y="59659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525200" y="5964120"/>
            <a:ext cx="52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821640" y="415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1380000">
            <a:off x="1809000" y="863280"/>
            <a:ext cx="11459520" cy="36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42047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420472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1068120" y="1914480"/>
            <a:ext cx="187956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2955960" y="1914480"/>
            <a:ext cx="1440" cy="404028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 flipV="1">
            <a:off x="1068120" y="3276720"/>
            <a:ext cx="3716280" cy="79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792680" y="3292560"/>
            <a:ext cx="0" cy="26701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1068120" y="3946680"/>
            <a:ext cx="1888920" cy="144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479920" y="1287360"/>
            <a:ext cx="0" cy="1649520"/>
          </a:xfrm>
          <a:prstGeom prst="line">
            <a:avLst/>
          </a:prstGeom>
          <a:ln w="284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1353960" y="1123560"/>
            <a:ext cx="4273560" cy="12495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113600" y="1947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1314360" y="2410920"/>
            <a:ext cx="5948280" cy="2111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900520" y="1852560"/>
            <a:ext cx="126720" cy="127080"/>
          </a:xfrm>
          <a:prstGeom prst="ellipse">
            <a:avLst/>
          </a:prstGeom>
          <a:solidFill>
            <a:srgbClr val="cc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726080" y="3224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894040" y="3895560"/>
            <a:ext cx="127080" cy="1270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037160" y="2270160"/>
            <a:ext cx="191016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UM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036080" y="3306600"/>
            <a:ext cx="188280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RODUCER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0"/>
            <a:ext cx="914400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idence of tax:  elastic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0" name=""/>
          <p:cNvGraphicFramePr/>
          <p:nvPr/>
        </p:nvGraphicFramePr>
        <p:xfrm>
          <a:off x="0" y="3279600"/>
          <a:ext cx="4869000" cy="35784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8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79600"/>
                    <a:ext cx="4869000" cy="35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"/>
          <p:cNvGraphicFramePr/>
          <p:nvPr/>
        </p:nvGraphicFramePr>
        <p:xfrm>
          <a:off x="4351320" y="3260880"/>
          <a:ext cx="4587840" cy="359712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8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1320" y="3260880"/>
                    <a:ext cx="45878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"/>
          <p:cNvGraphicFramePr/>
          <p:nvPr/>
        </p:nvGraphicFramePr>
        <p:xfrm>
          <a:off x="0" y="0"/>
          <a:ext cx="4846680" cy="3355920"/>
        </p:xfrm>
        <a:graphic>
          <a:graphicData uri="http://schemas.openxmlformats.org/presentationml/2006/ole">
            <p:oleObj progId="PowerPoint.Show.12" r:id="rId6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484668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"/>
          <p:cNvGraphicFramePr/>
          <p:nvPr/>
        </p:nvGraphicFramePr>
        <p:xfrm>
          <a:off x="4319640" y="0"/>
          <a:ext cx="4491000" cy="3335400"/>
        </p:xfrm>
        <a:graphic>
          <a:graphicData uri="http://schemas.openxmlformats.org/presentationml/2006/ole">
            <p:oleObj progId="PowerPoint.Show.12" r:id="rId8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19640" y="0"/>
                    <a:ext cx="4491000" cy="33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INDIRECT TAX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ic and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d valorem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tax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s on supply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incidence of tax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producers' sha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consumers' sha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lasticity and the incidence of tax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mplications for tax polic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Government Intervention in the Market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999720" y="2160720"/>
            <a:ext cx="7156440" cy="27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Government Rejection of Market Allocation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1101600" y="800280"/>
            <a:ext cx="6975720" cy="51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10920" y="54936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772760" y="603576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378160" y="966960"/>
            <a:ext cx="3724200" cy="4948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4179960" y="1263240"/>
            <a:ext cx="0" cy="4651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017960" y="773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075360" y="5491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084320" y="59292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084320" y="806400"/>
            <a:ext cx="0" cy="5122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49440" y="55832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966480" y="5956200"/>
            <a:ext cx="4820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870880" y="5938920"/>
            <a:ext cx="4914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4265640" y="5846760"/>
            <a:ext cx="1649520" cy="535320"/>
            <a:chOff x="4265640" y="5846760"/>
            <a:chExt cx="1649520" cy="535320"/>
          </a:xfrm>
        </p:grpSpPr>
        <p:sp>
          <p:nvSpPr>
            <p:cNvPr id="891" name=""/>
            <p:cNvSpPr/>
            <p:nvPr/>
          </p:nvSpPr>
          <p:spPr>
            <a:xfrm>
              <a:off x="4265640" y="5846760"/>
              <a:ext cx="16495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417920" y="5984640"/>
              <a:ext cx="1261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short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The demand for and supply of hospital treatment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inimum price: price floor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3640" y="56340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5620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447920" y="1295280"/>
            <a:ext cx="5410080" cy="419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1600200"/>
            <a:ext cx="5562720" cy="3886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152800"/>
            <a:ext cx="62247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066320" y="3395520"/>
            <a:ext cx="30481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8680" y="31338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0" y="1825560"/>
            <a:ext cx="1110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109240" y="2133720"/>
            <a:ext cx="521640" cy="4354920"/>
            <a:chOff x="2109240" y="2133720"/>
            <a:chExt cx="521640" cy="4354920"/>
          </a:xfrm>
        </p:grpSpPr>
        <p:sp>
          <p:nvSpPr>
            <p:cNvPr id="140" name=""/>
            <p:cNvSpPr/>
            <p:nvPr/>
          </p:nvSpPr>
          <p:spPr>
            <a:xfrm>
              <a:off x="2362320" y="2133720"/>
              <a:ext cx="0" cy="3809880"/>
            </a:xfrm>
            <a:prstGeom prst="line">
              <a:avLst/>
            </a:prstGeom>
            <a:ln w="1260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09240" y="597996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GB" sz="2400" spc="-1" strike="noStrike" baseline="-25000">
                  <a:solidFill>
                    <a:srgbClr val="0066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510880" y="2133720"/>
            <a:ext cx="511200" cy="4366080"/>
            <a:chOff x="5510880" y="2133720"/>
            <a:chExt cx="511200" cy="4366080"/>
          </a:xfrm>
        </p:grpSpPr>
        <p:sp>
          <p:nvSpPr>
            <p:cNvPr id="143" name=""/>
            <p:cNvSpPr/>
            <p:nvPr/>
          </p:nvSpPr>
          <p:spPr>
            <a:xfrm>
              <a:off x="5765760" y="2133720"/>
              <a:ext cx="0" cy="3809880"/>
            </a:xfrm>
            <a:prstGeom prst="line">
              <a:avLst/>
            </a:prstGeom>
            <a:ln w="1260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10880" y="5991120"/>
              <a:ext cx="5112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875280" y="88092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65880" y="53355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00400" y="2084400"/>
            <a:ext cx="126720" cy="1270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0600" y="2092320"/>
            <a:ext cx="127080" cy="12708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02200" y="3325680"/>
            <a:ext cx="127080" cy="127080"/>
          </a:xfrm>
          <a:prstGeom prst="ellipse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69880" y="1601640"/>
            <a:ext cx="3397680" cy="458280"/>
            <a:chOff x="2369880" y="1601640"/>
            <a:chExt cx="3397680" cy="458280"/>
          </a:xfrm>
        </p:grpSpPr>
        <p:sp>
          <p:nvSpPr>
            <p:cNvPr id="151" name=""/>
            <p:cNvSpPr/>
            <p:nvPr/>
          </p:nvSpPr>
          <p:spPr>
            <a:xfrm flipH="1">
              <a:off x="2369880" y="1911240"/>
              <a:ext cx="11113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87920" y="1903320"/>
              <a:ext cx="10796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61760" y="1601640"/>
              <a:ext cx="1248840" cy="458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Comic Sans MS"/>
                </a:rPr>
                <a:t>surpl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101600" y="800280"/>
            <a:ext cx="6975720" cy="51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10920" y="54936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772760" y="603576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378160" y="966960"/>
            <a:ext cx="3724200" cy="4948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4179960" y="1263240"/>
            <a:ext cx="0" cy="46515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1083960" y="3381480"/>
            <a:ext cx="30481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119480" y="331164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15960" y="31194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017960" y="773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75360" y="5491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084320" y="59292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084320" y="806400"/>
            <a:ext cx="0" cy="5122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49440" y="558324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265640" y="5846760"/>
            <a:ext cx="1649520" cy="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966480" y="5956200"/>
            <a:ext cx="4820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870880" y="5938920"/>
            <a:ext cx="4914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cc0000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417920" y="5985000"/>
            <a:ext cx="126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hor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The demand for and supply of hospital treatment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rket for illegal produ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rket for illegal produ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mparison with legal pric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084320" y="75708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0920" y="71136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773840" y="619776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784600" y="1130400"/>
            <a:ext cx="4186080" cy="4759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1103040" y="4037040"/>
            <a:ext cx="41511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85120" y="37576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247880" y="8398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975360" y="5584680"/>
            <a:ext cx="78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084320" y="60912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084320" y="7570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3738600" y="1298160"/>
            <a:ext cx="3894120" cy="4676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941000" y="6100920"/>
            <a:ext cx="7444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354640" y="4087800"/>
            <a:ext cx="0" cy="19890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60240" y="61340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market for an illegal drug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275440" y="39672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1084320" y="75708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10920" y="71136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773840" y="619776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784600" y="1130400"/>
            <a:ext cx="4186080" cy="4759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1103040" y="4037040"/>
            <a:ext cx="41511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7576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247880" y="8398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975360" y="5584680"/>
            <a:ext cx="78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084320" y="60912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084320" y="7570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3738600" y="1298160"/>
            <a:ext cx="3894120" cy="4676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41000" y="6100920"/>
            <a:ext cx="7444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1187280" y="941040"/>
            <a:ext cx="3894480" cy="4676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133600" y="804960"/>
            <a:ext cx="843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354640" y="4087800"/>
            <a:ext cx="0" cy="19890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60240" y="61340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market for an illegal drug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275440" y="39672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084320" y="75708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10920" y="71136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773840" y="619776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784600" y="1130400"/>
            <a:ext cx="4186080" cy="4759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1103040" y="4037040"/>
            <a:ext cx="41511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85120" y="37576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247880" y="8398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975360" y="5584680"/>
            <a:ext cx="78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084320" y="60912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084320" y="7570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3738600" y="1298160"/>
            <a:ext cx="3894120" cy="4676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941000" y="6100920"/>
            <a:ext cx="7444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1187280" y="941040"/>
            <a:ext cx="3894480" cy="4676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133600" y="804960"/>
            <a:ext cx="843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104920" y="1606680"/>
            <a:ext cx="3589560" cy="4233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730840" y="5553000"/>
            <a:ext cx="860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354640" y="4087800"/>
            <a:ext cx="0" cy="19890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60240" y="61340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market for an illegal drug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275440" y="39672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1084320" y="75708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10920" y="71136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773840" y="619776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784600" y="1130400"/>
            <a:ext cx="4186080" cy="4759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1103040" y="4037040"/>
            <a:ext cx="41511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85120" y="37576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247880" y="839880"/>
            <a:ext cx="76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75360" y="5584680"/>
            <a:ext cx="781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84320" y="60912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084320" y="7570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3738600" y="1298160"/>
            <a:ext cx="3894120" cy="4676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941000" y="6100920"/>
            <a:ext cx="7444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leg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1187280" y="941040"/>
            <a:ext cx="3894480" cy="4676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133600" y="804960"/>
            <a:ext cx="843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104920" y="1606680"/>
            <a:ext cx="3589560" cy="4233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730840" y="5553000"/>
            <a:ext cx="860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1138320" y="3051000"/>
            <a:ext cx="2192400" cy="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06280" y="2789280"/>
            <a:ext cx="90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252960" y="2981160"/>
            <a:ext cx="12672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2838600" y="3033720"/>
            <a:ext cx="892080" cy="3540960"/>
            <a:chOff x="2838600" y="3033720"/>
            <a:chExt cx="892080" cy="3540960"/>
          </a:xfrm>
        </p:grpSpPr>
        <p:sp>
          <p:nvSpPr>
            <p:cNvPr id="1006" name=""/>
            <p:cNvSpPr/>
            <p:nvPr/>
          </p:nvSpPr>
          <p:spPr>
            <a:xfrm>
              <a:off x="2838600" y="6100920"/>
              <a:ext cx="89208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Arial"/>
                </a:rPr>
                <a:t>illeg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330720" y="3033720"/>
              <a:ext cx="0" cy="302580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5354640" y="4087800"/>
            <a:ext cx="0" cy="198900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60240" y="61340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market for an illegal drug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275440" y="39672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rket for illegal produ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mparison with legal pric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comparison of prohibition and tax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rket for illegal produ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mparison with legal pric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comparison of prohibition and tax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demand and supply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658800" y="1251000"/>
            <a:ext cx="8485200" cy="531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viding goods free to consum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case of health care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blems of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methods of dealing with shortag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king products illega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he market for illegal product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mparison with legal pric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comparison of prohibition and taxation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demand and supply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ffects on pric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 Narrow"/>
              </a:rPr>
              <a:t>GOVERNMENT REJECTION OF MARKET ALLOCATION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Government Intervention in the Market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692280" y="2558520"/>
            <a:ext cx="7834320" cy="200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Arial"/>
              </a:rPr>
              <a:t>Agriculture and Agricultural Policy</a:t>
            </a:r>
            <a:endParaRPr b="1" lang="en-US" sz="6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governments intervene in agricultur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o reduce price fluctua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o raise farm incom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o protect rural communiti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o encourage greater self-sufficiency in food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auses of short-term price fluctu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fluctuations in the harves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ow price elasticity of demand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1066680" y="762120"/>
            <a:ext cx="70106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National Food Survey 2000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National Statistics, 2001), extracted from Tables 6.1, 6.3, 6.4 and 6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2"/>
          <a:stretch/>
        </p:blipFill>
        <p:spPr>
          <a:xfrm>
            <a:off x="469800" y="676440"/>
            <a:ext cx="2843280" cy="5862600"/>
          </a:xfrm>
          <a:prstGeom prst="rect">
            <a:avLst/>
          </a:prstGeom>
          <a:ln w="0">
            <a:noFill/>
          </a:ln>
        </p:spPr>
      </p:pic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Elasticities of demand for various foodstuffs (UK)</a:t>
            </a:r>
            <a:endParaRPr b="1" lang="en-US" sz="26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/>
          <p:nvPr/>
        </p:nvSpPr>
        <p:spPr>
          <a:xfrm>
            <a:off x="1066680" y="762120"/>
            <a:ext cx="70106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National Food Survey 2000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National Statistics, 2001), extracted from Tables 6.1, 6.3, 6.4 and 6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Elasticities of demand for various foodstuffs (UK)</a:t>
            </a:r>
            <a:endParaRPr b="1" lang="en-US" sz="2600" spc="-1" strike="noStrike">
              <a:solidFill>
                <a:srgbClr val="003b3a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2"/>
          <a:stretch/>
        </p:blipFill>
        <p:spPr>
          <a:xfrm>
            <a:off x="469800" y="676440"/>
            <a:ext cx="5392800" cy="5862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266920" y="934920"/>
            <a:ext cx="0" cy="49816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905120" y="838080"/>
            <a:ext cx="2209680" cy="4876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066320" y="1676520"/>
            <a:ext cx="12193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3120" y="14778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098240" y="551664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289600" y="622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220840" y="1604880"/>
            <a:ext cx="111240" cy="1112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nelastic demand for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266920" y="934920"/>
            <a:ext cx="0" cy="49816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3639960" y="917280"/>
            <a:ext cx="0" cy="502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905120" y="838080"/>
            <a:ext cx="2209680" cy="4876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1066320" y="1676520"/>
            <a:ext cx="121932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73120" y="14778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573120" y="4525920"/>
            <a:ext cx="3084120" cy="439200"/>
            <a:chOff x="573120" y="4525920"/>
            <a:chExt cx="3084120" cy="439200"/>
          </a:xfrm>
        </p:grpSpPr>
        <p:sp>
          <p:nvSpPr>
            <p:cNvPr id="1068" name=""/>
            <p:cNvSpPr/>
            <p:nvPr/>
          </p:nvSpPr>
          <p:spPr>
            <a:xfrm flipH="1">
              <a:off x="1066320" y="4724280"/>
              <a:ext cx="259092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73120" y="452592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"/>
          <p:cNvSpPr/>
          <p:nvPr/>
        </p:nvSpPr>
        <p:spPr>
          <a:xfrm>
            <a:off x="4098240" y="551664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289600" y="622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661200" y="622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220840" y="1604880"/>
            <a:ext cx="111240" cy="11124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581280" y="4648320"/>
            <a:ext cx="111240" cy="1108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nelastic demand for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y governments intervene in agricul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reduce price fluctua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raise farm incom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protect rural communiti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encourage greater self-sufficiency in foo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uses of short-term price fluctuat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fluctuations in the harves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ow price elasticity of deman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uses of declining farm incom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Maximum price: price ceiling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3640" y="56340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5620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447920" y="1295280"/>
            <a:ext cx="5410080" cy="419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1600200"/>
            <a:ext cx="5562720" cy="3886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066320" y="3395520"/>
            <a:ext cx="30481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02200" y="3325680"/>
            <a:ext cx="127080" cy="127080"/>
          </a:xfrm>
          <a:prstGeom prst="ellipse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8680" y="31338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75280" y="88092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65880" y="53355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y governments intervene in agricul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reduce price fluctua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raise farm incom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protect rural communiti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encourage greater self-sufficiency in foo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uses of short-term price fluctuat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fluctuations in the harves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ow price elasticity of deman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uses of declining farm incom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ow income elasticity of deman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y governments intervene in agricul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reduce price fluctuation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raise farm incom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protect rural communiti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o encourage greater self-sufficiency in foo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uses of short-term price fluctuat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fluctuations in the harvest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ow price elasticity of deman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uses of declining farm incom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low income elasticity of demand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ncreases in supply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384120" y="806400"/>
            <a:ext cx="8388360" cy="557064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2"/>
          <a:stretch/>
        </p:blipFill>
        <p:spPr>
          <a:xfrm>
            <a:off x="0" y="78408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1090" name=""/>
          <p:cNvSpPr/>
          <p:nvPr/>
        </p:nvSpPr>
        <p:spPr>
          <a:xfrm>
            <a:off x="320040" y="6583320"/>
            <a:ext cx="56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Agriculture in the European Union, European Economy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European Commi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Yields of selected crops (100 kg/hectare)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1066680" y="762120"/>
            <a:ext cx="70106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ource: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National Food Survey 2000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 (National Statistics, 2001), extracted from Tables 6.1, 6.3, 6.4 and 6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Elasticities of demand for various foodstuffs (UK)</a:t>
            </a:r>
            <a:endParaRPr b="1" lang="en-US" sz="2600" spc="-1" strike="noStrike">
              <a:solidFill>
                <a:srgbClr val="003b3a"/>
              </a:solidFill>
              <a:latin typeface="Arial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2"/>
          <a:stretch/>
        </p:blipFill>
        <p:spPr>
          <a:xfrm>
            <a:off x="469800" y="676440"/>
            <a:ext cx="8132760" cy="5862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57280" y="297504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014800" y="5072040"/>
            <a:ext cx="4762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09840" y="728640"/>
            <a:ext cx="4608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rot="20640000">
            <a:off x="2534040" y="-5062320"/>
            <a:ext cx="5486040" cy="1096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3" y="19652"/>
                </a:moveTo>
                <a:arcTo wR="10800" hR="10800" stAng="7497201" swAng="3302799"/>
                <a:lnTo>
                  <a:pt x="10800" y="10800"/>
                </a:lnTo>
                <a:close/>
              </a:path>
              <a:path fill="none" w="21600" h="21600">
                <a:moveTo>
                  <a:pt x="4613" y="19652"/>
                </a:moveTo>
                <a:arcTo wR="10800" hR="10800" stAng="7497201" swAng="3302799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rot="18900000">
            <a:off x="-5483880" y="434880"/>
            <a:ext cx="1096704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55" y="16983"/>
                </a:moveTo>
                <a:arcTo wR="10800" hR="10800" stAng="2095570" swAng="3304430"/>
                <a:lnTo>
                  <a:pt x="10800" y="10800"/>
                </a:lnTo>
                <a:close/>
              </a:path>
              <a:path fill="none" w="21600" h="21600">
                <a:moveTo>
                  <a:pt x="19655" y="16983"/>
                </a:moveTo>
                <a:arcTo wR="10800" hR="10800" stAng="2095570" swAng="330443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 flipV="1">
            <a:off x="1068120" y="3165480"/>
            <a:ext cx="2382840" cy="14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3449160" y="3181320"/>
            <a:ext cx="1800" cy="27655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196080" y="60199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390840" y="31050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Decline in food prices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57280" y="297504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487480" y="1147680"/>
            <a:ext cx="4608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2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rot="20640000">
            <a:off x="2534040" y="-5062320"/>
            <a:ext cx="5486040" cy="1096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3" y="19652"/>
                </a:moveTo>
                <a:arcTo wR="10800" hR="10800" stAng="7497201" swAng="3302799"/>
                <a:lnTo>
                  <a:pt x="10800" y="10800"/>
                </a:lnTo>
                <a:close/>
              </a:path>
              <a:path fill="none" w="21600" h="21600">
                <a:moveTo>
                  <a:pt x="4613" y="19652"/>
                </a:moveTo>
                <a:arcTo wR="10800" hR="10800" stAng="7497201" swAng="3302799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rot="18900000">
            <a:off x="-5483880" y="434880"/>
            <a:ext cx="1096704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55" y="16983"/>
                </a:moveTo>
                <a:arcTo wR="10800" hR="10800" stAng="2095570" swAng="3304430"/>
                <a:lnTo>
                  <a:pt x="10800" y="10800"/>
                </a:lnTo>
                <a:close/>
              </a:path>
              <a:path fill="none" w="21600" h="21600">
                <a:moveTo>
                  <a:pt x="19655" y="16983"/>
                </a:moveTo>
                <a:arcTo wR="10800" hR="10800" stAng="2095570" swAng="330443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rot="18900000">
            <a:off x="-4112280" y="892080"/>
            <a:ext cx="1096704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55" y="16983"/>
                </a:moveTo>
                <a:arcTo wR="10800" hR="10800" stAng="2095570" swAng="3304430"/>
                <a:lnTo>
                  <a:pt x="10800" y="10800"/>
                </a:lnTo>
                <a:close/>
              </a:path>
              <a:path fill="none" w="21600" h="21600">
                <a:moveTo>
                  <a:pt x="19655" y="16983"/>
                </a:moveTo>
                <a:arcTo wR="10800" hR="10800" stAng="2095570" swAng="3304430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1886400" y="-5708160"/>
            <a:ext cx="8296200" cy="12053160"/>
            <a:chOff x="1886400" y="-5708160"/>
            <a:chExt cx="8296200" cy="12053160"/>
          </a:xfrm>
        </p:grpSpPr>
        <p:sp>
          <p:nvSpPr>
            <p:cNvPr id="1128" name=""/>
            <p:cNvSpPr/>
            <p:nvPr/>
          </p:nvSpPr>
          <p:spPr>
            <a:xfrm rot="20640000">
              <a:off x="3291120" y="-5164560"/>
              <a:ext cx="5486040" cy="109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13" y="19652"/>
                  </a:moveTo>
                  <a:arcTo wR="10800" hR="10800" stAng="7497201" swAng="3302799"/>
                  <a:lnTo>
                    <a:pt x="10800" y="10800"/>
                  </a:lnTo>
                  <a:close/>
                </a:path>
                <a:path fill="none" w="21600" h="21600">
                  <a:moveTo>
                    <a:pt x="4613" y="19652"/>
                  </a:moveTo>
                  <a:arcTo wR="10800" hR="10800" stAng="7497201" swAng="3302799"/>
                </a:path>
              </a:pathLst>
            </a:custGeom>
            <a:noFill/>
            <a:ln cap="rnd"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57840" y="4940280"/>
              <a:ext cx="47628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r>
                <a:rPr b="0" lang="en-US" sz="22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 flipH="1" flipV="1">
            <a:off x="1068120" y="3165480"/>
            <a:ext cx="2382840" cy="14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3449160" y="3181320"/>
            <a:ext cx="1800" cy="27655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547560" y="3733920"/>
            <a:ext cx="4135320" cy="439200"/>
            <a:chOff x="547560" y="3733920"/>
            <a:chExt cx="4135320" cy="439200"/>
          </a:xfrm>
        </p:grpSpPr>
        <p:sp>
          <p:nvSpPr>
            <p:cNvPr id="1133" name=""/>
            <p:cNvSpPr/>
            <p:nvPr/>
          </p:nvSpPr>
          <p:spPr>
            <a:xfrm>
              <a:off x="547560" y="373392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1068120" y="3871800"/>
              <a:ext cx="361476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3196080" y="60199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4420080" y="3879720"/>
            <a:ext cx="465480" cy="2576160"/>
            <a:chOff x="4420080" y="3879720"/>
            <a:chExt cx="465480" cy="2576160"/>
          </a:xfrm>
        </p:grpSpPr>
        <p:sp>
          <p:nvSpPr>
            <p:cNvPr id="1137" name=""/>
            <p:cNvSpPr/>
            <p:nvPr/>
          </p:nvSpPr>
          <p:spPr>
            <a:xfrm>
              <a:off x="4683240" y="3879720"/>
              <a:ext cx="0" cy="207504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420080" y="601668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4618080" y="3809880"/>
            <a:ext cx="127080" cy="127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390840" y="31050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014800" y="5072040"/>
            <a:ext cx="4762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209840" y="728640"/>
            <a:ext cx="4608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Decline in food prices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ypes of government intervention in  agricultur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ubsidi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igh fixed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ducing suppl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tructural polici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ffer stock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24160" y="300204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164920" y="551664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rot="20640000">
            <a:off x="1712520" y="-7126560"/>
            <a:ext cx="8454600" cy="13512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1"/>
                </a:moveTo>
                <a:arcTo wR="10800" hR="10800" stAng="7497701" swAng="3302299"/>
                <a:lnTo>
                  <a:pt x="10800" y="10800"/>
                </a:lnTo>
                <a:close/>
              </a:path>
              <a:path fill="none" w="21600" h="21600">
                <a:moveTo>
                  <a:pt x="4611" y="19651"/>
                </a:moveTo>
                <a:arcTo wR="10800" hR="10800" stAng="7497701" swAng="3302299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066680" y="3200400"/>
            <a:ext cx="70106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895480" y="3200400"/>
            <a:ext cx="0" cy="27432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828880" y="312912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609280" y="6016680"/>
            <a:ext cx="497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uffer stocks to stabilise pric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3505320" y="743040"/>
            <a:ext cx="0" cy="52005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24160" y="300204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164920" y="551664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501000" y="63972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rot="20640000">
            <a:off x="1712520" y="-7126560"/>
            <a:ext cx="8454600" cy="13512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1"/>
                </a:moveTo>
                <a:arcTo wR="10800" hR="10800" stAng="7497701" swAng="3302299"/>
                <a:lnTo>
                  <a:pt x="10800" y="10800"/>
                </a:lnTo>
                <a:close/>
              </a:path>
              <a:path fill="none" w="21600" h="21600">
                <a:moveTo>
                  <a:pt x="4611" y="19651"/>
                </a:moveTo>
                <a:arcTo wR="10800" hR="10800" stAng="7497701" swAng="3302299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066680" y="3200400"/>
            <a:ext cx="70106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895480" y="3200400"/>
            <a:ext cx="0" cy="27432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828880" y="312912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440160" y="4022640"/>
            <a:ext cx="127080" cy="12708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228480" y="6005520"/>
            <a:ext cx="5691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000" spc="-1" strike="noStrike" baseline="-60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609280" y="6016680"/>
            <a:ext cx="497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2940120" y="3894120"/>
            <a:ext cx="5094360" cy="1082520"/>
            <a:chOff x="2940120" y="3894120"/>
            <a:chExt cx="5094360" cy="1082520"/>
          </a:xfrm>
        </p:grpSpPr>
        <p:sp>
          <p:nvSpPr>
            <p:cNvPr id="1184" name=""/>
            <p:cNvSpPr/>
            <p:nvPr/>
          </p:nvSpPr>
          <p:spPr>
            <a:xfrm>
              <a:off x="2940120" y="4976640"/>
              <a:ext cx="50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3211560" y="4176360"/>
              <a:ext cx="1717560" cy="765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900680" y="3894120"/>
              <a:ext cx="3133800" cy="51444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017680" y="3952800"/>
              <a:ext cx="2858040" cy="39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Bought into buffer st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uffer stocks to stabilise pric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049400" y="609480"/>
            <a:ext cx="7010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24160" y="300204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164920" y="551664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rot="20640000">
            <a:off x="1712520" y="-7126560"/>
            <a:ext cx="8454600" cy="13512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1"/>
                </a:moveTo>
                <a:arcTo wR="10800" hR="10800" stAng="7497701" swAng="3302299"/>
                <a:lnTo>
                  <a:pt x="10800" y="10800"/>
                </a:lnTo>
                <a:close/>
              </a:path>
              <a:path fill="none" w="21600" h="21600">
                <a:moveTo>
                  <a:pt x="4611" y="19651"/>
                </a:moveTo>
                <a:arcTo wR="10800" hR="10800" stAng="7497701" swAng="3302299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066680" y="3200400"/>
            <a:ext cx="70106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895480" y="3200400"/>
            <a:ext cx="0" cy="274320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828880" y="3129120"/>
            <a:ext cx="127080" cy="1267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983960" y="6018120"/>
            <a:ext cx="5691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663300"/>
                </a:solidFill>
                <a:latin typeface="Arial"/>
              </a:rPr>
              <a:t>s</a:t>
            </a:r>
            <a:r>
              <a:rPr b="0" lang="en-US" sz="2000" spc="-1" strike="noStrike" baseline="-60000">
                <a:solidFill>
                  <a:srgbClr val="66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609280" y="6016680"/>
            <a:ext cx="497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2362320" y="3894120"/>
            <a:ext cx="5789160" cy="1082520"/>
            <a:chOff x="2362320" y="3894120"/>
            <a:chExt cx="5789160" cy="1082520"/>
          </a:xfrm>
        </p:grpSpPr>
        <p:sp>
          <p:nvSpPr>
            <p:cNvPr id="1206" name=""/>
            <p:cNvSpPr/>
            <p:nvPr/>
          </p:nvSpPr>
          <p:spPr>
            <a:xfrm>
              <a:off x="2362320" y="4976640"/>
              <a:ext cx="51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2655360" y="4176360"/>
              <a:ext cx="2326680" cy="749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881600" y="3894120"/>
              <a:ext cx="3269880" cy="51444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896720" y="3952800"/>
              <a:ext cx="3228480" cy="39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Released from buffer st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2217600" y="639720"/>
            <a:ext cx="599760" cy="5289480"/>
            <a:chOff x="2217600" y="639720"/>
            <a:chExt cx="599760" cy="5289480"/>
          </a:xfrm>
        </p:grpSpPr>
        <p:sp>
          <p:nvSpPr>
            <p:cNvPr id="1211" name=""/>
            <p:cNvSpPr/>
            <p:nvPr/>
          </p:nvSpPr>
          <p:spPr>
            <a:xfrm>
              <a:off x="2281680" y="639720"/>
              <a:ext cx="5356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S</a:t>
              </a:r>
              <a:r>
                <a:rPr b="0" lang="en-US" sz="2400" spc="-1" strike="noStrike" baseline="-25000">
                  <a:solidFill>
                    <a:srgbClr val="663300"/>
                  </a:solidFill>
                  <a:latin typeface="Arial"/>
                </a:rPr>
                <a:t>a</a:t>
              </a:r>
              <a:r>
                <a:rPr b="0" lang="en-US" sz="2000" spc="-1" strike="noStrike" baseline="-60000">
                  <a:solidFill>
                    <a:srgbClr val="66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279520" y="884160"/>
              <a:ext cx="0" cy="504504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217600" y="1871640"/>
              <a:ext cx="127080" cy="12708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uffer stocks to stabilise pric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3a"/>
                </a:solidFill>
                <a:latin typeface="Arial"/>
              </a:rPr>
              <a:t>Maximum price: price ceiling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3640" y="56340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5620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447920" y="1295280"/>
            <a:ext cx="5410080" cy="419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1600200"/>
            <a:ext cx="5562720" cy="3886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066320" y="3395520"/>
            <a:ext cx="30481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02200" y="3325680"/>
            <a:ext cx="127080" cy="127080"/>
          </a:xfrm>
          <a:prstGeom prst="ellipse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8680" y="3133800"/>
            <a:ext cx="486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75280" y="88092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65880" y="53355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480" y="4602240"/>
            <a:ext cx="61880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331000" y="4602240"/>
            <a:ext cx="511200" cy="1948320"/>
            <a:chOff x="2331000" y="4602240"/>
            <a:chExt cx="511200" cy="1948320"/>
          </a:xfrm>
        </p:grpSpPr>
        <p:sp>
          <p:nvSpPr>
            <p:cNvPr id="190" name=""/>
            <p:cNvSpPr/>
            <p:nvPr/>
          </p:nvSpPr>
          <p:spPr>
            <a:xfrm>
              <a:off x="2331000" y="6041880"/>
              <a:ext cx="5112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4602240"/>
              <a:ext cx="0" cy="134460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647680" y="4600440"/>
            <a:ext cx="521640" cy="1951920"/>
            <a:chOff x="5647680" y="4600440"/>
            <a:chExt cx="521640" cy="1951920"/>
          </a:xfrm>
        </p:grpSpPr>
        <p:sp>
          <p:nvSpPr>
            <p:cNvPr id="193" name=""/>
            <p:cNvSpPr/>
            <p:nvPr/>
          </p:nvSpPr>
          <p:spPr>
            <a:xfrm>
              <a:off x="5647680" y="604368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GB" sz="2400" spc="-1" strike="noStrike" baseline="-25000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15160" y="4600440"/>
              <a:ext cx="0" cy="134460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538360" y="4551480"/>
            <a:ext cx="127080" cy="126720"/>
          </a:xfrm>
          <a:prstGeom prst="ellipse">
            <a:avLst/>
          </a:prstGeom>
          <a:solidFill>
            <a:srgbClr val="ff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54680" y="4541760"/>
            <a:ext cx="127080" cy="127080"/>
          </a:xfrm>
          <a:prstGeom prst="ellipse">
            <a:avLst/>
          </a:prstGeom>
          <a:solidFill>
            <a:srgbClr val="ff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-1440" y="4284720"/>
            <a:ext cx="11224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cc0000"/>
                </a:solidFill>
                <a:latin typeface="Arial"/>
              </a:rPr>
              <a:t>maximu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cc0000"/>
                </a:solidFill>
                <a:latin typeface="Arial"/>
              </a:rPr>
              <a:t>pri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644920" y="4656240"/>
            <a:ext cx="3236760" cy="458280"/>
            <a:chOff x="2644920" y="4656240"/>
            <a:chExt cx="3236760" cy="458280"/>
          </a:xfrm>
        </p:grpSpPr>
        <p:sp>
          <p:nvSpPr>
            <p:cNvPr id="201" name=""/>
            <p:cNvSpPr/>
            <p:nvPr/>
          </p:nvSpPr>
          <p:spPr>
            <a:xfrm flipH="1">
              <a:off x="2644920" y="4883040"/>
              <a:ext cx="9871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64240" y="4881600"/>
              <a:ext cx="11174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50680" y="4656240"/>
              <a:ext cx="1471320" cy="458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Comic Sans MS"/>
                </a:rPr>
                <a:t>short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ypes of government intervention in  agricultur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ubsidi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igh fixed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ducing suppl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tructural polici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ffer stock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farm incom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2704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929120" y="4075200"/>
            <a:ext cx="0" cy="18525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2704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854440" y="1157400"/>
            <a:ext cx="4012920" cy="3427200"/>
            <a:chOff x="2854440" y="1157400"/>
            <a:chExt cx="4012920" cy="3427200"/>
          </a:xfrm>
        </p:grpSpPr>
        <p:sp>
          <p:nvSpPr>
            <p:cNvPr id="1249" name=""/>
            <p:cNvSpPr/>
            <p:nvPr/>
          </p:nvSpPr>
          <p:spPr>
            <a:xfrm flipH="1">
              <a:off x="2854440" y="1865160"/>
              <a:ext cx="2108160" cy="1105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902120" y="1157400"/>
              <a:ext cx="1671840" cy="73656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056920" y="1243080"/>
              <a:ext cx="1390680" cy="57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lang="en-US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 baseline="-25000">
                  <a:solidFill>
                    <a:srgbClr val="cc0000"/>
                  </a:solidFill>
                  <a:latin typeface="Arial"/>
                </a:rPr>
                <a:t>d</a:t>
              </a:r>
              <a:r>
                <a:rPr b="0" lang="en-US" sz="2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=  </a:t>
              </a:r>
              <a:r>
                <a:rPr b="0" lang="en-US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561000" y="1865160"/>
              <a:ext cx="306360" cy="2719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4929120" y="4075200"/>
            <a:ext cx="0" cy="18525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6013800" y="665280"/>
            <a:ext cx="815040" cy="5779440"/>
            <a:chOff x="6013800" y="665280"/>
            <a:chExt cx="815040" cy="5779440"/>
          </a:xfrm>
        </p:grpSpPr>
        <p:sp>
          <p:nvSpPr>
            <p:cNvPr id="1264" name=""/>
            <p:cNvSpPr/>
            <p:nvPr/>
          </p:nvSpPr>
          <p:spPr>
            <a:xfrm flipH="1" flipV="1">
              <a:off x="6281280" y="698400"/>
              <a:ext cx="3240" cy="52452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293160" y="665280"/>
              <a:ext cx="5356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a</a:t>
              </a:r>
              <a:r>
                <a:rPr b="0" lang="en-US" sz="2000" spc="-1" strike="noStrike" baseline="-60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013800" y="600552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4677120" y="60166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4925880" y="690120"/>
            <a:ext cx="3240" cy="5248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939200" y="649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2704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 flipV="1">
            <a:off x="6281280" y="698400"/>
            <a:ext cx="3240" cy="52452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293160" y="66528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013800" y="60055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677120" y="60166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4925880" y="690120"/>
            <a:ext cx="3240" cy="5248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939200" y="649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>
            <a:off x="1069920" y="5114880"/>
            <a:ext cx="5213520" cy="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2704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41080" y="49356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 flipV="1">
            <a:off x="6281280" y="698400"/>
            <a:ext cx="3240" cy="52452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293160" y="66528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013800" y="60055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677120" y="60166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4925880" y="690120"/>
            <a:ext cx="3240" cy="5248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939200" y="649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1069920" y="5114880"/>
            <a:ext cx="5213520" cy="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1069560" y="4446720"/>
            <a:ext cx="440388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396040" y="4446720"/>
            <a:ext cx="0" cy="147924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163120" y="5967360"/>
            <a:ext cx="567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2704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23440" y="4253040"/>
            <a:ext cx="53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41080" y="49356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337000" y="44053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5109840" y="2482920"/>
            <a:ext cx="4016520" cy="2296440"/>
            <a:chOff x="5109840" y="2482920"/>
            <a:chExt cx="4016520" cy="2296440"/>
          </a:xfrm>
        </p:grpSpPr>
        <p:sp>
          <p:nvSpPr>
            <p:cNvPr id="1332" name=""/>
            <p:cNvSpPr/>
            <p:nvPr/>
          </p:nvSpPr>
          <p:spPr>
            <a:xfrm>
              <a:off x="6227640" y="4387680"/>
              <a:ext cx="127080" cy="12708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270480" y="403560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109840" y="4321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543640" y="4465800"/>
              <a:ext cx="62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5850000" y="2883960"/>
              <a:ext cx="353880" cy="15289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967360" y="2482920"/>
              <a:ext cx="3133800" cy="514440"/>
            </a:xfrm>
            <a:prstGeom prst="roundRect">
              <a:avLst>
                <a:gd name="adj" fmla="val 124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107040" y="2523960"/>
              <a:ext cx="3019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Bought into buffer st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3288240" y="665280"/>
            <a:ext cx="816480" cy="5779440"/>
            <a:chOff x="3288240" y="665280"/>
            <a:chExt cx="816480" cy="5779440"/>
          </a:xfrm>
        </p:grpSpPr>
        <p:sp>
          <p:nvSpPr>
            <p:cNvPr id="1349" name=""/>
            <p:cNvSpPr/>
            <p:nvPr/>
          </p:nvSpPr>
          <p:spPr>
            <a:xfrm flipV="1">
              <a:off x="3541680" y="680760"/>
              <a:ext cx="0" cy="525924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569040" y="665280"/>
              <a:ext cx="53568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S</a:t>
              </a:r>
              <a:r>
                <a:rPr b="0" lang="en-US" sz="2400" spc="-1" strike="noStrike" baseline="-25000">
                  <a:solidFill>
                    <a:srgbClr val="663300"/>
                  </a:solidFill>
                  <a:latin typeface="Arial"/>
                </a:rPr>
                <a:t>a</a:t>
              </a:r>
              <a:r>
                <a:rPr b="0" lang="en-US" sz="2000" spc="-1" strike="noStrike" baseline="-60000">
                  <a:solidFill>
                    <a:srgbClr val="6633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288240" y="600552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6633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4677120" y="60166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4925880" y="690120"/>
            <a:ext cx="3240" cy="5248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939200" y="649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4432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3541680" y="680760"/>
            <a:ext cx="0" cy="52592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569040" y="66528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288240" y="60055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677120" y="60166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4925880" y="690120"/>
            <a:ext cx="3240" cy="5248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939200" y="649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1069920" y="2424240"/>
            <a:ext cx="2471760" cy="0"/>
          </a:xfrm>
          <a:prstGeom prst="line">
            <a:avLst/>
          </a:prstGeom>
          <a:ln w="1260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4432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19120" y="22431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3541680" y="680760"/>
            <a:ext cx="0" cy="525924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019280" y="540072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569040" y="66528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rot="19980000">
            <a:off x="2125800" y="-8578800"/>
            <a:ext cx="8454600" cy="1499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1" y="19650"/>
                </a:moveTo>
                <a:arcTo wR="10800" hR="10800" stAng="7498005" swAng="3301995"/>
                <a:lnTo>
                  <a:pt x="10800" y="10800"/>
                </a:lnTo>
                <a:close/>
              </a:path>
              <a:path fill="none" w="21600" h="21600">
                <a:moveTo>
                  <a:pt x="4611" y="19650"/>
                </a:moveTo>
                <a:arcTo wR="10800" hR="10800" stAng="7498005" swAng="3301995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288240" y="60055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677120" y="60166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4925880" y="690120"/>
            <a:ext cx="3240" cy="5248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rot="18480000">
            <a:off x="149760" y="-8517600"/>
            <a:ext cx="8006760" cy="15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287" swAng="3302713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287" swAng="3302713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939200" y="649440"/>
            <a:ext cx="5356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a</a:t>
            </a:r>
            <a:r>
              <a:rPr b="0" lang="en-US" sz="2000" spc="-1" strike="noStrike" baseline="-6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1069920" y="3378240"/>
            <a:ext cx="3229200" cy="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302000" y="3378240"/>
            <a:ext cx="0" cy="2560680"/>
          </a:xfrm>
          <a:prstGeom prst="line">
            <a:avLst/>
          </a:prstGeom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H="1">
            <a:off x="1057320" y="4033800"/>
            <a:ext cx="387504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H="1">
            <a:off x="1069920" y="2424240"/>
            <a:ext cx="2471760" cy="0"/>
          </a:xfrm>
          <a:prstGeom prst="line">
            <a:avLst/>
          </a:prstGeom>
          <a:ln w="1260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032720" y="5969160"/>
            <a:ext cx="567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634160" y="442908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930920" y="3637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4320" y="3798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04360" y="3147840"/>
            <a:ext cx="53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19120" y="22431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869000" y="3979800"/>
            <a:ext cx="12672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240080" y="33084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3481560" y="1568520"/>
            <a:ext cx="5068800" cy="1863720"/>
            <a:chOff x="3481560" y="1568520"/>
            <a:chExt cx="5068800" cy="1863720"/>
          </a:xfrm>
        </p:grpSpPr>
        <p:sp>
          <p:nvSpPr>
            <p:cNvPr id="1419" name=""/>
            <p:cNvSpPr/>
            <p:nvPr/>
          </p:nvSpPr>
          <p:spPr>
            <a:xfrm>
              <a:off x="3481560" y="3305160"/>
              <a:ext cx="126720" cy="127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273560" y="29401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552840" y="292896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637080" y="3382920"/>
              <a:ext cx="57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3925800" y="1850760"/>
              <a:ext cx="1378080" cy="1446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275440" y="1568520"/>
              <a:ext cx="3274920" cy="514440"/>
            </a:xfrm>
            <a:prstGeom prst="roundRect">
              <a:avLst>
                <a:gd name="adj" fmla="val 1249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290560" y="1627200"/>
              <a:ext cx="3228480" cy="397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Released from buffer st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uffer stocks to stabilise incomes</a:t>
            </a:r>
            <a:endParaRPr b="1" lang="en-US" sz="28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b3a"/>
                </a:solidFill>
                <a:latin typeface="Arial"/>
              </a:rPr>
              <a:t>AGRICULTURE AND AGRICULTURAL POLICY</a:t>
            </a:r>
            <a:endParaRPr b="1" lang="en-US" sz="3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27120" y="1226880"/>
            <a:ext cx="8516880" cy="52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38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Subsidies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effects on price and output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14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80"/>
                </a:solidFill>
                <a:latin typeface="Arial"/>
              </a:rPr>
              <a:t>the incidence of a subsidy</a:t>
            </a:r>
            <a:endParaRPr b="1" lang="en-US" sz="27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3a"/>
                </a:solidFill>
                <a:latin typeface="Arial"/>
              </a:rPr>
              <a:t>THE CONTROL OF PRICES</a:t>
            </a:r>
            <a:endParaRPr b="1" lang="en-US" sz="32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5820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justifi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aling with resulting surplus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ximum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3300"/>
                </a:solidFill>
                <a:latin typeface="Arial"/>
              </a:rPr>
              <a:t>Effect of subsidies on foodstuffs in which the country is self-sufficient</a:t>
            </a:r>
            <a:endParaRPr b="1" lang="en-US" sz="21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2440" y="50832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58092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680" y="30322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1752480" y="1085760"/>
            <a:ext cx="4815000" cy="379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rot="19440000">
            <a:off x="2330280" y="-5911560"/>
            <a:ext cx="8455320" cy="1174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345" swAng="4131080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345" swAng="413108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1069560" y="3241800"/>
            <a:ext cx="276228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32200" y="3241800"/>
            <a:ext cx="0" cy="27050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493680" y="7174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773520" y="3197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462440" y="50832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58092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71680" y="30322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1752480" y="1085760"/>
            <a:ext cx="4815000" cy="379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rot="19440000">
            <a:off x="2330280" y="-5911560"/>
            <a:ext cx="8455320" cy="1174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345" swAng="4131080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345" swAng="413108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1684440" y="2138400"/>
            <a:ext cx="4814640" cy="3797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1069560" y="3241800"/>
            <a:ext cx="276228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832200" y="3241800"/>
            <a:ext cx="0" cy="27050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447960" y="180036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493680" y="7174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773520" y="3197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830920" y="1708200"/>
            <a:ext cx="0" cy="938160"/>
          </a:xfrm>
          <a:prstGeom prst="line">
            <a:avLst/>
          </a:prstGeom>
          <a:ln w="28440">
            <a:solidFill>
              <a:srgbClr val="00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3300"/>
                </a:solidFill>
                <a:latin typeface="Arial"/>
              </a:rPr>
              <a:t>Effect of subsidies on foodstuffs in which the country is self-sufficient</a:t>
            </a:r>
            <a:endParaRPr b="1" lang="en-US" sz="21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7462440" y="50832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161240" y="60148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58092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71680" y="30322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539280" y="3575160"/>
            <a:ext cx="3827520" cy="508680"/>
            <a:chOff x="539280" y="3575160"/>
            <a:chExt cx="3827520" cy="508680"/>
          </a:xfrm>
        </p:grpSpPr>
        <p:sp>
          <p:nvSpPr>
            <p:cNvPr id="1478" name=""/>
            <p:cNvSpPr/>
            <p:nvPr/>
          </p:nvSpPr>
          <p:spPr>
            <a:xfrm flipH="1">
              <a:off x="1068120" y="3819600"/>
              <a:ext cx="3298680" cy="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39280" y="3575160"/>
              <a:ext cx="5022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1752480" y="1085760"/>
            <a:ext cx="4815000" cy="379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rot="19440000">
            <a:off x="2330280" y="-5911560"/>
            <a:ext cx="8455320" cy="1174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345" swAng="4131080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345" swAng="413108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1684440" y="2138400"/>
            <a:ext cx="4814640" cy="3797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1069560" y="3241800"/>
            <a:ext cx="276228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832200" y="3241800"/>
            <a:ext cx="0" cy="27050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410000" y="3803760"/>
            <a:ext cx="0" cy="214308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447960" y="180036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493680" y="7174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773520" y="3197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343400" y="3741840"/>
            <a:ext cx="127080" cy="12672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830920" y="1708200"/>
            <a:ext cx="0" cy="938160"/>
          </a:xfrm>
          <a:prstGeom prst="line">
            <a:avLst/>
          </a:prstGeom>
          <a:ln w="28440">
            <a:solidFill>
              <a:srgbClr val="00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3300"/>
                </a:solidFill>
                <a:latin typeface="Arial"/>
              </a:rPr>
              <a:t>Effect of subsidies on foodstuffs in which the country is self-sufficient</a:t>
            </a:r>
            <a:endParaRPr b="1" lang="en-US" sz="21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462440" y="50832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161240" y="60148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58092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71680" y="30322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63760" y="2558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39280" y="3575160"/>
            <a:ext cx="502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066680" y="2779560"/>
            <a:ext cx="3337200" cy="1017720"/>
          </a:xfrm>
          <a:prstGeom prst="rect">
            <a:avLst/>
          </a:prstGeom>
          <a:noFill/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1752480" y="1085760"/>
            <a:ext cx="4815000" cy="379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rot="19440000">
            <a:off x="2330280" y="-5911560"/>
            <a:ext cx="8455320" cy="1174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345" swAng="4131080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345" swAng="413108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1684440" y="2138400"/>
            <a:ext cx="4814640" cy="3797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H="1">
            <a:off x="1069560" y="3241800"/>
            <a:ext cx="276228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832200" y="3241800"/>
            <a:ext cx="0" cy="27050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410000" y="3803760"/>
            <a:ext cx="0" cy="214308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447960" y="180036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493680" y="7174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773520" y="3197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343400" y="273672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343400" y="3741840"/>
            <a:ext cx="127080" cy="12672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1440" y="2635200"/>
            <a:ext cx="524160" cy="1267200"/>
            <a:chOff x="1440" y="2635200"/>
            <a:chExt cx="524160" cy="1267200"/>
          </a:xfrm>
        </p:grpSpPr>
        <p:sp>
          <p:nvSpPr>
            <p:cNvPr id="1520" name=""/>
            <p:cNvSpPr/>
            <p:nvPr/>
          </p:nvSpPr>
          <p:spPr>
            <a:xfrm>
              <a:off x="525600" y="2779560"/>
              <a:ext cx="0" cy="103032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rot="16200000">
              <a:off x="-402840" y="3039480"/>
              <a:ext cx="1267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</a:rPr>
                <a:t>Subsi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3300"/>
                </a:solidFill>
                <a:latin typeface="Arial"/>
              </a:rPr>
              <a:t>Effect of subsidies on foodstuffs in which the country is self-sufficient</a:t>
            </a:r>
            <a:endParaRPr b="1" lang="en-US" sz="21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93640" y="639720"/>
            <a:ext cx="4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832520" y="6049800"/>
            <a:ext cx="45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462440" y="50832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161240" y="601488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58092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71680" y="30322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63760" y="255888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39280" y="3575160"/>
            <a:ext cx="502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066680" y="2779560"/>
            <a:ext cx="3337200" cy="1017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1752480" y="1085760"/>
            <a:ext cx="4815000" cy="379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rot="19440000">
            <a:off x="2330280" y="-5911560"/>
            <a:ext cx="8455320" cy="1174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12" y="19652"/>
                </a:moveTo>
                <a:arcTo wR="10800" hR="10800" stAng="7497345" swAng="4131080"/>
                <a:lnTo>
                  <a:pt x="10800" y="10800"/>
                </a:lnTo>
                <a:close/>
              </a:path>
              <a:path fill="none" w="21600" h="21600">
                <a:moveTo>
                  <a:pt x="4612" y="19652"/>
                </a:moveTo>
                <a:arcTo wR="10800" hR="10800" stAng="7497345" swAng="413108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1684440" y="2138400"/>
            <a:ext cx="4814640" cy="3797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H="1">
            <a:off x="1069560" y="3241800"/>
            <a:ext cx="276228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832200" y="3241800"/>
            <a:ext cx="0" cy="27050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410000" y="3803760"/>
            <a:ext cx="0" cy="214308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447960" y="180036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493680" y="71748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773520" y="319716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343400" y="2736720"/>
            <a:ext cx="127080" cy="12708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4343400" y="3741840"/>
            <a:ext cx="127080" cy="12672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25600" y="2779560"/>
            <a:ext cx="0" cy="1030320"/>
          </a:xfrm>
          <a:prstGeom prst="line">
            <a:avLst/>
          </a:prstGeom>
          <a:ln w="28440">
            <a:solidFill>
              <a:srgbClr val="00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rot="16200000">
            <a:off x="-402840" y="3044880"/>
            <a:ext cx="126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ubsi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3300"/>
                </a:solidFill>
                <a:latin typeface="Arial"/>
              </a:rPr>
              <a:t>Effect of subsidies on foodstuffs in which the country is self-sufficient</a:t>
            </a:r>
            <a:endParaRPr b="1" lang="en-US" sz="21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Arial"/>
              </a:rPr>
              <a:t>Effect of subsidies on foodstuffs which are partly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93280" y="5666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559280" y="528948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48280" y="361152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1598760" y="1035000"/>
            <a:ext cx="3038400" cy="377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699080" y="692280"/>
            <a:ext cx="1212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ome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035680" y="1793880"/>
            <a:ext cx="2535120" cy="3733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252920" y="3881520"/>
            <a:ext cx="878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1068480" y="3803760"/>
            <a:ext cx="63943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93280" y="5666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7559280" y="528948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48280" y="361152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1598760" y="1035000"/>
            <a:ext cx="3038400" cy="377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2390760" y="3801960"/>
            <a:ext cx="648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697640" y="692280"/>
            <a:ext cx="1212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ome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035680" y="1793880"/>
            <a:ext cx="2535120" cy="3733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251480" y="3881520"/>
            <a:ext cx="878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12220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1033560" y="3803760"/>
            <a:ext cx="63943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332080" y="37512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3" name=""/>
          <p:cNvGrpSpPr/>
          <p:nvPr/>
        </p:nvGrpSpPr>
        <p:grpSpPr>
          <a:xfrm>
            <a:off x="6155640" y="3767040"/>
            <a:ext cx="482040" cy="2748600"/>
            <a:chOff x="6155640" y="3767040"/>
            <a:chExt cx="482040" cy="2748600"/>
          </a:xfrm>
        </p:grpSpPr>
        <p:grpSp>
          <p:nvGrpSpPr>
            <p:cNvPr id="1584" name=""/>
            <p:cNvGrpSpPr/>
            <p:nvPr/>
          </p:nvGrpSpPr>
          <p:grpSpPr>
            <a:xfrm>
              <a:off x="6155640" y="3825720"/>
              <a:ext cx="482040" cy="2689920"/>
              <a:chOff x="6155640" y="3825720"/>
              <a:chExt cx="482040" cy="2689920"/>
            </a:xfrm>
          </p:grpSpPr>
          <p:sp>
            <p:nvSpPr>
              <p:cNvPr id="1585" name=""/>
              <p:cNvSpPr/>
              <p:nvPr/>
            </p:nvSpPr>
            <p:spPr>
              <a:xfrm>
                <a:off x="6155640" y="6006960"/>
                <a:ext cx="4820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2000" spc="-1" strike="noStrike">
                    <a:solidFill>
                      <a:srgbClr val="0000cc"/>
                    </a:solidFill>
                    <a:latin typeface="Arial"/>
                  </a:rPr>
                  <a:t>Q</a:t>
                </a:r>
                <a:r>
                  <a:rPr b="0" lang="en-US" sz="2400" spc="-1" strike="noStrike" baseline="-25000">
                    <a:solidFill>
                      <a:srgbClr val="0000cc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>
                <a:off x="6406920" y="3825720"/>
                <a:ext cx="6120" cy="2132280"/>
              </a:xfrm>
              <a:prstGeom prst="line">
                <a:avLst/>
              </a:prstGeom>
              <a:ln w="19080">
                <a:solidFill>
                  <a:srgbClr val="0000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7" name=""/>
            <p:cNvSpPr/>
            <p:nvPr/>
          </p:nvSpPr>
          <p:spPr>
            <a:xfrm>
              <a:off x="6351480" y="3767040"/>
              <a:ext cx="127080" cy="12708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2751120" y="6302520"/>
            <a:ext cx="3333600" cy="462240"/>
            <a:chOff x="2751120" y="6302520"/>
            <a:chExt cx="3333600" cy="462240"/>
          </a:xfrm>
        </p:grpSpPr>
        <p:sp>
          <p:nvSpPr>
            <p:cNvPr id="1589" name=""/>
            <p:cNvSpPr/>
            <p:nvPr/>
          </p:nvSpPr>
          <p:spPr>
            <a:xfrm>
              <a:off x="2751120" y="6302520"/>
              <a:ext cx="333360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776760" y="6367320"/>
              <a:ext cx="1117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Im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Arial"/>
              </a:rPr>
              <a:t>Effect of subsidies on foodstuffs which are partly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93280" y="5666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559280" y="528948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5564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48280" y="361152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1598760" y="1035000"/>
            <a:ext cx="3038400" cy="377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1689120" y="1767960"/>
            <a:ext cx="3062160" cy="3824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H="1">
            <a:off x="2390760" y="3801960"/>
            <a:ext cx="648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832120" y="602784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105000" y="3814920"/>
            <a:ext cx="5040" cy="20937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698720" y="133668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697640" y="692280"/>
            <a:ext cx="1212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ome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035680" y="1793880"/>
            <a:ext cx="2535120" cy="3733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251480" y="3881520"/>
            <a:ext cx="878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H="1">
            <a:off x="6406920" y="3825720"/>
            <a:ext cx="612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12220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068480" y="3803760"/>
            <a:ext cx="63943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043080" y="3754440"/>
            <a:ext cx="127080" cy="12708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332080" y="37512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351480" y="376704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3467160" y="6302520"/>
            <a:ext cx="2652480" cy="462240"/>
            <a:chOff x="3467160" y="6302520"/>
            <a:chExt cx="2652480" cy="462240"/>
          </a:xfrm>
        </p:grpSpPr>
        <p:sp>
          <p:nvSpPr>
            <p:cNvPr id="1618" name=""/>
            <p:cNvSpPr/>
            <p:nvPr/>
          </p:nvSpPr>
          <p:spPr>
            <a:xfrm>
              <a:off x="3467160" y="6302520"/>
              <a:ext cx="2652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200480" y="6367320"/>
              <a:ext cx="1117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Im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Arial"/>
              </a:rPr>
              <a:t>Effect of subsidies on foodstuffs which are partly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93280" y="5666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559280" y="528948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832120" y="602784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15564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48280" y="361152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57280" y="2765520"/>
            <a:ext cx="466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066680" y="2940120"/>
            <a:ext cx="2032200" cy="863640"/>
          </a:xfrm>
          <a:prstGeom prst="rect">
            <a:avLst/>
          </a:prstGeom>
          <a:noFill/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1598760" y="1035000"/>
            <a:ext cx="3038400" cy="377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V="1">
            <a:off x="1689120" y="1767960"/>
            <a:ext cx="3062160" cy="3824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390760" y="3801960"/>
            <a:ext cx="648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105000" y="3814920"/>
            <a:ext cx="5040" cy="20937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698720" y="133668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697640" y="692280"/>
            <a:ext cx="1212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ome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035680" y="1793880"/>
            <a:ext cx="2535120" cy="3733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251480" y="3881520"/>
            <a:ext cx="878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>
            <a:off x="6406920" y="3825720"/>
            <a:ext cx="612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12220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068480" y="3803760"/>
            <a:ext cx="63943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043080" y="3754440"/>
            <a:ext cx="127080" cy="12708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332080" y="37512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351480" y="376704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Arial"/>
              </a:rPr>
              <a:t>Effect of subsidies on foodstuffs which are partly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593280" y="566640"/>
            <a:ext cx="448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832880" y="6027840"/>
            <a:ext cx="4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68880" y="604980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59280" y="528948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832120" y="602784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55640" y="60069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48280" y="3611520"/>
            <a:ext cx="482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63760" y="2765520"/>
            <a:ext cx="4532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066680" y="2940120"/>
            <a:ext cx="2032200" cy="865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1598760" y="1035000"/>
            <a:ext cx="3038400" cy="377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1689120" y="1767960"/>
            <a:ext cx="3062160" cy="3824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2390760" y="3801960"/>
            <a:ext cx="648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105000" y="3814920"/>
            <a:ext cx="5040" cy="20937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698720" y="133668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+ subsi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697640" y="692280"/>
            <a:ext cx="12121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dome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035680" y="1793880"/>
            <a:ext cx="2535120" cy="3733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51480" y="3881520"/>
            <a:ext cx="878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H="1">
            <a:off x="6406920" y="3825720"/>
            <a:ext cx="6120" cy="21322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122200" y="6012000"/>
            <a:ext cx="5828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r>
              <a:rPr b="0" lang="en-US" sz="2000" spc="-1" strike="noStrike" baseline="-50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068480" y="3803760"/>
            <a:ext cx="63943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3080" y="3754440"/>
            <a:ext cx="127080" cy="127080"/>
          </a:xfrm>
          <a:prstGeom prst="ellipse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332080" y="375120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51480" y="3767040"/>
            <a:ext cx="127080" cy="1270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Arial"/>
              </a:rPr>
              <a:t>Effect of subsidies on foodstuffs which are partly imported</a:t>
            </a:r>
            <a:endParaRPr b="1" lang="en-US" sz="2500" spc="-1" strike="noStrike">
              <a:solidFill>
                <a:srgbClr val="003b3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23:04:00Z</dcterms:created>
  <dc:creator>John Sloman</dc:creator>
  <dc:description/>
  <dc:language>en-US</dc:language>
  <cp:lastModifiedBy>John Sloman</cp:lastModifiedBy>
  <dcterms:modified xsi:type="dcterms:W3CDTF">2002-11-27T18:10:37Z</dcterms:modified>
  <cp:revision>29</cp:revision>
  <dc:subject/>
  <dc:title>No Slide Title</dc:title>
</cp:coreProperties>
</file>