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4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png" ContentType="image/png"/>
  <Override PartName="/ppt/media/image14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33.wmf" ContentType="image/x-wmf"/>
  <Override PartName="/ppt/media/image13.png" ContentType="image/png"/>
  <Override PartName="/ppt/media/image7.jpeg" ContentType="image/jpeg"/>
  <Override PartName="/ppt/media/image23.wmf" ContentType="image/x-wmf"/>
  <Override PartName="/ppt/media/image28.jpeg" ContentType="image/jpeg"/>
  <Override PartName="/ppt/media/image34.wmf" ContentType="image/x-wmf"/>
  <Override PartName="/ppt/media/image3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6.wmf" ContentType="image/x-wmf"/>
  <Override PartName="/ppt/media/image37.png" ContentType="image/png"/>
  <Override PartName="/ppt/media/image39.png" ContentType="image/png"/>
  <Override PartName="/ppt/media/image12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B574-522D-4E72-A82A-6CC9DE137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5124-4067-4922-85CC-02F6DD0CB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8757-4761-42EF-B789-E5434402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3A8C-8240-4757-A0CB-940AF8343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716F-5621-49A6-B2FB-DD7A7DED0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65D6-6CD0-472F-8B39-4C7DB8728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E070-3699-4D68-9F91-E4243EF27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3510-347B-4632-8ECE-5AF47AAEE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1ED7-0C3A-4BAF-B614-0A60CAC6C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D6D3-5DEE-4660-A7C9-5E4F3EEFD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0681-FB36-48FF-8E94-CC276152B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5E7A-D632-428F-A2DA-734D3EFDD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00A6-87E4-45DF-B4D8-8323F9F1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0BF4-9FA0-43EA-B258-29F392F5C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31B-DFDA-4945-B57B-8351B00CD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CD97-CA28-49CA-ADBA-D4257108D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2016-1E4B-49D5-AECA-02957E86C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6CFA-D2CC-49E0-9B4D-B04023C77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74BE-D6D1-4DC1-8376-9ED66A73F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BD54-096C-438B-8228-A98738625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105C-2DE6-453F-A101-6C6A17366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64A5-EDAC-4878-AF64-EDCD56300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0CA5-A449-43D4-99CB-8182ADD0A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F469-1851-46D7-8C8A-53F8DDDD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F492-D13C-4A9B-A45B-40E2F6272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268F-6967-4651-894D-AB0EA50D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5148-7A05-43F0-B4F9-4143E40BB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640-3FBB-4EA8-A13A-19063DC52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4DED-50F5-4466-ABE7-2F3642B2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90B-A3F0-4C61-8A10-8EF276794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7BFC-7C06-4202-A223-4A3D48043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0938-0109-4C1D-8719-FB827331F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380-8286-4D64-A310-628DB7436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5489-EA34-4FDA-945F-5858C618A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8CE0-BE94-4C0A-A7C3-E264835B3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24C-045A-4223-96A0-437E3992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F8C9-0F51-416A-B08B-B9BBE0355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6A7C-0F4E-4AB7-BD3B-665EE0CAF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2C00-E0C2-4A23-9AD2-466766AE1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EA6D-2A1F-4FE2-BFE8-BBB2E417A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2B60-BEFA-4E30-96C1-E4783193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2200-1DA8-4379-9F92-E569B6A1B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F0E0-D224-4466-91EF-588BE11E5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7E03-ECB4-4C0F-AE87-4AFBE741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2886-A31B-4B4C-96A3-6F79BDBF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2DB4-8C4C-41DB-8583-A611AAF48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9525-1B96-4870-8BD7-A50974FAA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E280-08CE-4D49-8F3E-F540DA8B0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3971-A6AC-4C53-A3B4-1B7CB0709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ECA4-4127-4399-B197-641A16D3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54B4-28E4-4B80-A740-D0450A8FD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3AAA-03B4-41D5-B833-871060EE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88A6-2E1B-4821-B28A-CF611FF47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D525-DBD8-406F-9C99-F4D485AE7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BD78-A070-4B50-B6F3-06AD93AA7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835-A03C-4A88-B147-E129D7F7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BCFF-3D62-49CD-BBB0-4E348B973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BC3-B2B2-413D-AAFB-70BF16046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9035-D61F-4A57-A5C8-97965584E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4E1-FE71-45DE-A6D2-502EEA522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3B9A-11AD-4CC5-89DF-473E786D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6CF2-2061-4772-931A-1A81B41C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2BF9-E3F2-48FC-BE12-CD951E221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B7F3-4FC3-4F42-9F2C-DDB8531A3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01BC-5EA0-4834-994F-9E5325580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4B3F-A0F4-4D23-A583-18AE14231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83DC-15EF-4885-8BD4-335BA9C6D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007C-640A-478B-AAB9-0E3E8DB83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D483-B574-42FB-99B1-62C196FFA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E465-6120-4F01-B492-55C5786B9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C8FF-7186-4ED1-9E61-53A86A8A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8446-7847-4AE7-BA60-445EC46FC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6215-9250-4F7C-AB05-EA06BF006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1C29-34F9-44BB-A359-422422F43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FAA7-CE57-45CD-83EC-08BA76AE4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C494-D0B4-4BDC-8EE6-7BA1AFA31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1667-43D7-4245-8E7B-82F2D056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DC3-AB58-49D7-A06B-B1D490795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0A3F-C212-4D52-AEB7-CF4EC1937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9C50-F398-4A09-A7E1-5D33AB01A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3F6A-0A70-45DB-9485-2094445C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248B-F2A6-4191-B09A-E001013CF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C20A-9E13-4484-AB0D-4FB566FD4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3BE2-90DD-4BA8-87A9-BDCFA67DC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AF77-0F49-4A11-8291-1841EF607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A872-233B-41DA-83D6-14A3A396D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014E-A378-4542-83F1-3558F9D82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547E-B875-4B22-8E44-6483CA18D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D53F-3418-4D7F-8BEE-B198BAB76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CBD4-26BC-4008-A675-B9B7164A2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1F0B-25F9-465F-BBD4-C90BC7C25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F70D-691F-4206-9665-ADFEA5590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FB52-7F28-4BDC-8E3F-5229D8DC4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06C2-C25D-4EDB-9E41-BFC43CFE5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8006-54FC-46F5-88BD-0DD70187F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8D3F-404C-4C15-9833-7D5FF7A4F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247680"/>
            <a:ext cx="8369280" cy="69372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247680"/>
            <a:ext cx="837576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47680"/>
            <a:ext cx="833760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1200240"/>
            <a:ext cx="8383680" cy="5364360"/>
            <a:chOff x="380880" y="1200240"/>
            <a:chExt cx="8383680" cy="5364360"/>
          </a:xfrm>
        </p:grpSpPr>
        <p:sp>
          <p:nvSpPr>
            <p:cNvPr id="4" name=""/>
            <p:cNvSpPr/>
            <p:nvPr/>
          </p:nvSpPr>
          <p:spPr>
            <a:xfrm>
              <a:off x="380880" y="1200240"/>
              <a:ext cx="8382240" cy="5301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36400" y="1495440"/>
            <a:ext cx="204840" cy="482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490760"/>
            <a:ext cx="206640" cy="48369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36400" y="1494000"/>
            <a:ext cx="206640" cy="48402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530280" y="357120"/>
            <a:ext cx="209160" cy="519120"/>
            <a:chOff x="530280" y="357120"/>
            <a:chExt cx="209160" cy="519120"/>
          </a:xfrm>
        </p:grpSpPr>
        <p:sp>
          <p:nvSpPr>
            <p:cNvPr id="11" name=""/>
            <p:cNvSpPr/>
            <p:nvPr/>
          </p:nvSpPr>
          <p:spPr>
            <a:xfrm>
              <a:off x="530280" y="357480"/>
              <a:ext cx="207360" cy="51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6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62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5920" y="488880"/>
            <a:ext cx="8369280" cy="85248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440" y="488880"/>
            <a:ext cx="837576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8880"/>
            <a:ext cx="833760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2021040"/>
            <a:ext cx="8383680" cy="4201920"/>
            <a:chOff x="380880" y="2021040"/>
            <a:chExt cx="8383680" cy="4201920"/>
          </a:xfrm>
        </p:grpSpPr>
        <p:sp>
          <p:nvSpPr>
            <p:cNvPr id="57" name=""/>
            <p:cNvSpPr/>
            <p:nvPr/>
          </p:nvSpPr>
          <p:spPr>
            <a:xfrm>
              <a:off x="380880" y="2021040"/>
              <a:ext cx="8382240" cy="415296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6400" y="2232000"/>
            <a:ext cx="204840" cy="378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2228760"/>
            <a:ext cx="206640" cy="37893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" y="2232000"/>
            <a:ext cx="206640" cy="37926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0280" y="598320"/>
            <a:ext cx="209160" cy="638280"/>
            <a:chOff x="530280" y="598320"/>
            <a:chExt cx="209160" cy="638280"/>
          </a:xfrm>
        </p:grpSpPr>
        <p:sp>
          <p:nvSpPr>
            <p:cNvPr id="64" name=""/>
            <p:cNvSpPr/>
            <p:nvPr/>
          </p:nvSpPr>
          <p:spPr>
            <a:xfrm>
              <a:off x="530280" y="598680"/>
              <a:ext cx="207360" cy="63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  <a:p>
            <a:pPr lvl="1" marL="443160"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006600"/>
              </a:solidFill>
              <a:latin typeface="Arial"/>
            </a:endParaRPr>
          </a:p>
          <a:p>
            <a:pPr lvl="2" marL="886680" algn="ctr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330200" algn="ctr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77372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archartlow" descr=""/>
          <p:cNvPicPr/>
          <p:nvPr/>
        </p:nvPicPr>
        <p:blipFill>
          <a:blip r:embed="rId2"/>
          <a:srcRect l="0" t="2192" r="0" b="3659"/>
          <a:stretch/>
        </p:blipFill>
        <p:spPr>
          <a:xfrm>
            <a:off x="2265480" y="0"/>
            <a:ext cx="2306520" cy="1725480"/>
          </a:xfrm>
          <a:prstGeom prst="rect">
            <a:avLst/>
          </a:prstGeom>
          <a:ln w="0">
            <a:noFill/>
          </a:ln>
        </p:spPr>
      </p:pic>
      <p:pic>
        <p:nvPicPr>
          <p:cNvPr id="114" name="marketlow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2295360" cy="1736640"/>
          </a:xfrm>
          <a:prstGeom prst="rect">
            <a:avLst/>
          </a:prstGeom>
          <a:ln w="0">
            <a:noFill/>
          </a:ln>
        </p:spPr>
      </p:pic>
      <p:pic>
        <p:nvPicPr>
          <p:cNvPr id="115" name="moneylow" descr=""/>
          <p:cNvPicPr/>
          <p:nvPr/>
        </p:nvPicPr>
        <p:blipFill>
          <a:blip r:embed="rId4"/>
          <a:srcRect l="0" t="0" r="0" b="1540"/>
          <a:stretch/>
        </p:blipFill>
        <p:spPr>
          <a:xfrm>
            <a:off x="4506840" y="12600"/>
            <a:ext cx="2327400" cy="1710000"/>
          </a:xfrm>
          <a:prstGeom prst="rect">
            <a:avLst/>
          </a:prstGeom>
          <a:ln w="0">
            <a:noFill/>
          </a:ln>
        </p:spPr>
      </p:pic>
      <p:pic>
        <p:nvPicPr>
          <p:cNvPr id="116" name="stockslow" descr=""/>
          <p:cNvPicPr/>
          <p:nvPr/>
        </p:nvPicPr>
        <p:blipFill>
          <a:blip r:embed="rId5"/>
          <a:stretch/>
        </p:blipFill>
        <p:spPr>
          <a:xfrm>
            <a:off x="6769080" y="38160"/>
            <a:ext cx="2374920" cy="1673280"/>
          </a:xfrm>
          <a:prstGeom prst="rect">
            <a:avLst/>
          </a:prstGeom>
          <a:ln w="0">
            <a:noFill/>
          </a:ln>
        </p:spPr>
      </p:pic>
      <p:pic>
        <p:nvPicPr>
          <p:cNvPr id="117" name="bottleslow" descr=""/>
          <p:cNvPicPr/>
          <p:nvPr/>
        </p:nvPicPr>
        <p:blipFill>
          <a:blip r:embed="rId6"/>
          <a:stretch/>
        </p:blipFill>
        <p:spPr>
          <a:xfrm>
            <a:off x="2301840" y="5121360"/>
            <a:ext cx="2270160" cy="1736640"/>
          </a:xfrm>
          <a:prstGeom prst="rect">
            <a:avLst/>
          </a:prstGeom>
          <a:ln w="0">
            <a:noFill/>
          </a:ln>
        </p:spPr>
      </p:pic>
      <p:pic>
        <p:nvPicPr>
          <p:cNvPr id="118" name="globelow" descr=""/>
          <p:cNvPicPr/>
          <p:nvPr/>
        </p:nvPicPr>
        <p:blipFill>
          <a:blip r:embed="rId7"/>
          <a:stretch/>
        </p:blipFill>
        <p:spPr>
          <a:xfrm>
            <a:off x="0" y="5116680"/>
            <a:ext cx="2303640" cy="1741320"/>
          </a:xfrm>
          <a:prstGeom prst="rect">
            <a:avLst/>
          </a:prstGeom>
          <a:ln w="0">
            <a:noFill/>
          </a:ln>
        </p:spPr>
      </p:pic>
      <p:pic>
        <p:nvPicPr>
          <p:cNvPr id="119" name="shiplow" descr=""/>
          <p:cNvPicPr/>
          <p:nvPr/>
        </p:nvPicPr>
        <p:blipFill>
          <a:blip r:embed="rId8"/>
          <a:srcRect l="0" t="0" r="0" b="1469"/>
          <a:stretch/>
        </p:blipFill>
        <p:spPr>
          <a:xfrm>
            <a:off x="4572000" y="5135400"/>
            <a:ext cx="2297160" cy="1722600"/>
          </a:xfrm>
          <a:prstGeom prst="rect">
            <a:avLst/>
          </a:prstGeom>
          <a:ln w="0">
            <a:noFill/>
          </a:ln>
        </p:spPr>
      </p:pic>
      <p:pic>
        <p:nvPicPr>
          <p:cNvPr id="120" name="haybalelow" descr=""/>
          <p:cNvPicPr/>
          <p:nvPr/>
        </p:nvPicPr>
        <p:blipFill>
          <a:blip r:embed="rId9"/>
          <a:stretch/>
        </p:blipFill>
        <p:spPr>
          <a:xfrm>
            <a:off x="6810480" y="5122800"/>
            <a:ext cx="2333520" cy="173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88960" y="2317680"/>
            <a:ext cx="7889760" cy="22924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78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Fiscal 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Monetary Poli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110200"/>
            <a:ext cx="9144000" cy="1747800"/>
          </a:xfrm>
          <a:prstGeom prst="rect">
            <a:avLst/>
          </a:prstGeom>
          <a:noFill/>
          <a:ln w="38160">
            <a:solidFill>
              <a:srgbClr val="783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17413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135080"/>
            <a:ext cx="914400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362240"/>
          <a:ext cx="475632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62240"/>
                    <a:ext cx="47563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487760" y="1128600"/>
          <a:ext cx="4656240" cy="441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7760" y="1128600"/>
                    <a:ext cx="465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120" y="110484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51560" y="532116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85480" y="531504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UK general government expenditure by function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51600" y="111456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5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1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33840" y="793800"/>
            <a:ext cx="4610160" cy="530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5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634080" y="1574640"/>
            <a:ext cx="2509920" cy="463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8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ttitudes towards demand managemen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Keynesian demand management in the 1950s and 196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op–go polici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onetarist criticism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emise of fine tuning in the 197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causes of stag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emand management policies in the 197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rise of monetaris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57200" y="444600"/>
            <a:ext cx="8229600" cy="637524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Selected monetary indicators: 1969–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/>
          </p:nvPr>
        </p:nvSpPr>
        <p:spPr>
          <a:xfrm>
            <a:off x="774360" y="1268280"/>
            <a:ext cx="7970760" cy="516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ism in the early 1980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edium-term financial strateg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recession of the early 198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ssessment of the monetarist experimen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eturn to discretion in mid 1980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argeting the exchange rat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ts advantages and disadvantag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adowing the German mark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embership of the ERM (1990–2)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xit from the ER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/>
          </p:nvPr>
        </p:nvSpPr>
        <p:spPr>
          <a:xfrm>
            <a:off x="774360" y="130608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Return to domestic-orientated polici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rgeting inflation: 1993–7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olicies of the Labour government 1997</a:t>
            </a:r>
            <a:r>
              <a:rPr b="1" lang="en-US" sz="3100" spc="-1" strike="noStrike">
                <a:solidFill>
                  <a:srgbClr val="006600"/>
                </a:solidFill>
                <a:latin typeface="Arial Special G2"/>
                <a:ea typeface="Arial Special G2"/>
              </a:rPr>
              <a:t>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'Golden Rule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arison with EU Stability and Growth Pac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ank of England inflation targ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7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CB targe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recent monetary and fiscal polici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FISCAL AND MONETARY POLICY IN THE UK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Rules versus Discretion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against discretion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ver-correc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vernment may ignore long-term consequenc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for rul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help to reduce inflationary expect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eate a stable environment for investment and economic growth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against rul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an cause severe fluctuations in interest rates and can cause greater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nstabilit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which rule to choose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ules may conflic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ules may become unsuitabl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ase for discretion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 can be improved by better forecasting and quicker-ac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135080"/>
            <a:ext cx="9144000" cy="4745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362240"/>
          <a:ext cx="4756320" cy="43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62240"/>
                    <a:ext cx="47563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487760" y="1128600"/>
          <a:ext cx="4656240" cy="441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87760" y="1128600"/>
                    <a:ext cx="4656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120" y="110484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4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51560" y="532116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85480" y="5315040"/>
            <a:ext cx="89388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UK general government expenditure by function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0" y="1114560"/>
            <a:ext cx="218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 General public services  5.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   Housing, etc 1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   Recreation, etc 1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   Environment  0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2830680"/>
            <a:ext cx="9144000" cy="40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3932280"/>
            <a:ext cx="9144000" cy="29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4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4992840"/>
            <a:ext cx="9144000" cy="18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" descr=""/>
          <p:cNvPicPr/>
          <p:nvPr/>
        </p:nvPicPr>
        <p:blipFill>
          <a:blip r:embed="rId1"/>
          <a:srcRect l="0" t="13440" r="0" b="0"/>
          <a:stretch/>
        </p:blipFill>
        <p:spPr>
          <a:xfrm>
            <a:off x="0" y="1009800"/>
            <a:ext cx="9144000" cy="5357520"/>
          </a:xfrm>
          <a:prstGeom prst="rect">
            <a:avLst/>
          </a:prstGeom>
          <a:ln w="0">
            <a:noFill/>
          </a:ln>
        </p:spPr>
      </p:pic>
      <p:sp>
        <p:nvSpPr>
          <p:cNvPr id="1308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>
            <a:off x="7677720" y="6613560"/>
            <a:ext cx="146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ource: Bank of 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nflation targe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use of inflation targets around the worl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money supply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eaknesses of exchange rat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relative strength of inflation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oice of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what level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central point or ceiling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99160" y="987480"/>
            <a:ext cx="3444840" cy="5819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243080" y="614520"/>
            <a:ext cx="6966000" cy="52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3546360" y="4013280"/>
            <a:ext cx="446040" cy="2345760"/>
            <a:chOff x="3546360" y="4013280"/>
            <a:chExt cx="446040" cy="2345760"/>
          </a:xfrm>
        </p:grpSpPr>
        <p:sp>
          <p:nvSpPr>
            <p:cNvPr id="1338" name=""/>
            <p:cNvSpPr/>
            <p:nvPr/>
          </p:nvSpPr>
          <p:spPr>
            <a:xfrm>
              <a:off x="3546360" y="5919840"/>
              <a:ext cx="4460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770280" y="4013280"/>
              <a:ext cx="0" cy="18604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 flipH="1">
            <a:off x="1242720" y="3989520"/>
            <a:ext cx="6964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44520" y="5587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244520" y="58928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923040" y="58467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385800" y="6337440"/>
            <a:ext cx="23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811440" y="-2097000"/>
            <a:ext cx="16671240" cy="7065000"/>
            <a:chOff x="811440" y="-2097000"/>
            <a:chExt cx="16671240" cy="7065000"/>
          </a:xfrm>
        </p:grpSpPr>
        <p:sp>
          <p:nvSpPr>
            <p:cNvPr id="1346" name=""/>
            <p:cNvSpPr/>
            <p:nvPr/>
          </p:nvSpPr>
          <p:spPr>
            <a:xfrm>
              <a:off x="811440" y="-2097000"/>
              <a:ext cx="16671240" cy="692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22" y="21209"/>
                  </a:moveTo>
                  <a:arcTo wR="10800" hR="10800" stAng="6327347" swAng="3353541"/>
                  <a:lnTo>
                    <a:pt x="10800" y="10800"/>
                  </a:lnTo>
                  <a:close/>
                </a:path>
                <a:path fill="none" w="21600" h="21600">
                  <a:moveTo>
                    <a:pt x="7922" y="21209"/>
                  </a:moveTo>
                  <a:arcTo wR="10800" hR="10800" stAng="6327347" swAng="3353541"/>
                </a:path>
              </a:pathLst>
            </a:custGeom>
            <a:noFill/>
            <a:ln cap="rnd"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904080" y="4459320"/>
              <a:ext cx="853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80"/>
                  </a:solidFill>
                  <a:latin typeface="Times New Roman"/>
                </a:rPr>
                <a:t>ADI</a:t>
              </a:r>
              <a:r>
                <a:rPr b="0" lang="en-US" sz="2400" spc="-1" strike="noStrike" baseline="-25000">
                  <a:solidFill>
                    <a:srgbClr val="00008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1800" y="1538280"/>
            <a:ext cx="537480" cy="2987280"/>
            <a:chOff x="1800" y="1538280"/>
            <a:chExt cx="537480" cy="2987280"/>
          </a:xfrm>
        </p:grpSpPr>
        <p:sp>
          <p:nvSpPr>
            <p:cNvPr id="1349" name=""/>
            <p:cNvSpPr/>
            <p:nvPr/>
          </p:nvSpPr>
          <p:spPr>
            <a:xfrm rot="16200000">
              <a:off x="-1086840" y="2899080"/>
              <a:ext cx="279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e of inflation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800" y="15382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501480" y="3332160"/>
            <a:ext cx="777960" cy="878760"/>
            <a:chOff x="501480" y="3332160"/>
            <a:chExt cx="777960" cy="878760"/>
          </a:xfrm>
        </p:grpSpPr>
        <p:sp>
          <p:nvSpPr>
            <p:cNvPr id="1352" name=""/>
            <p:cNvSpPr/>
            <p:nvPr/>
          </p:nvSpPr>
          <p:spPr>
            <a:xfrm>
              <a:off x="501480" y="378936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cc00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74920" y="33321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DI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s based on different Taylor rul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3622680" y="3538440"/>
            <a:ext cx="336240" cy="525600"/>
            <a:chOff x="3622680" y="3538440"/>
            <a:chExt cx="336240" cy="525600"/>
          </a:xfrm>
        </p:grpSpPr>
        <p:sp>
          <p:nvSpPr>
            <p:cNvPr id="1356" name=""/>
            <p:cNvSpPr/>
            <p:nvPr/>
          </p:nvSpPr>
          <p:spPr>
            <a:xfrm>
              <a:off x="3708360" y="3936960"/>
              <a:ext cx="127080" cy="12708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622680" y="35384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1676160" y="3070080"/>
            <a:ext cx="436680" cy="3288960"/>
            <a:chOff x="1676160" y="3070080"/>
            <a:chExt cx="436680" cy="3288960"/>
          </a:xfrm>
        </p:grpSpPr>
        <p:sp>
          <p:nvSpPr>
            <p:cNvPr id="1359" name=""/>
            <p:cNvSpPr/>
            <p:nvPr/>
          </p:nvSpPr>
          <p:spPr>
            <a:xfrm>
              <a:off x="1895400" y="3070080"/>
              <a:ext cx="0" cy="2803680"/>
            </a:xfrm>
            <a:prstGeom prst="line">
              <a:avLst/>
            </a:prstGeom>
            <a:ln w="1908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76160" y="59198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8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>
            <a:off x="3076560" y="776160"/>
            <a:ext cx="4637160" cy="745560"/>
          </a:xfrm>
          <a:prstGeom prst="rect">
            <a:avLst/>
          </a:prstGeom>
          <a:solidFill>
            <a:srgbClr val="ffffd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based on Taylor rule g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latively high weight to stable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806400" y="2379600"/>
            <a:ext cx="1114560" cy="878760"/>
            <a:chOff x="806400" y="2379600"/>
            <a:chExt cx="1114560" cy="878760"/>
          </a:xfrm>
        </p:grpSpPr>
        <p:sp>
          <p:nvSpPr>
            <p:cNvPr id="1363" name=""/>
            <p:cNvSpPr/>
            <p:nvPr/>
          </p:nvSpPr>
          <p:spPr>
            <a:xfrm>
              <a:off x="1228680" y="3070080"/>
              <a:ext cx="692280" cy="0"/>
            </a:xfrm>
            <a:prstGeom prst="line">
              <a:avLst/>
            </a:prstGeom>
            <a:ln w="19080">
              <a:solidFill>
                <a:srgbClr val="66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806400" y="2379600"/>
              <a:ext cx="777960" cy="878760"/>
              <a:chOff x="806400" y="2379600"/>
              <a:chExt cx="777960" cy="878760"/>
            </a:xfrm>
          </p:grpSpPr>
          <p:sp>
            <p:nvSpPr>
              <p:cNvPr id="1365" name=""/>
              <p:cNvSpPr/>
              <p:nvPr/>
            </p:nvSpPr>
            <p:spPr>
              <a:xfrm>
                <a:off x="806400" y="2836800"/>
                <a:ext cx="77796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sz="2000" spc="-1" strike="noStrike">
                    <a:solidFill>
                      <a:srgbClr val="660066"/>
                    </a:solidFill>
                    <a:latin typeface="Arial"/>
                  </a:rPr>
                  <a:t>P</a:t>
                </a:r>
                <a:r>
                  <a:rPr b="0" i="1" sz="2000" spc="-1" strike="noStrike" baseline="-18000">
                    <a:solidFill>
                      <a:srgbClr val="66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79840" y="23796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sz="4000" spc="-1" strike="noStrike">
                    <a:solidFill>
                      <a:srgbClr val="660066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7" name=""/>
          <p:cNvGrpSpPr/>
          <p:nvPr/>
        </p:nvGrpSpPr>
        <p:grpSpPr>
          <a:xfrm>
            <a:off x="1789200" y="2666880"/>
            <a:ext cx="336240" cy="473040"/>
            <a:chOff x="1789200" y="2666880"/>
            <a:chExt cx="336240" cy="473040"/>
          </a:xfrm>
        </p:grpSpPr>
        <p:sp>
          <p:nvSpPr>
            <p:cNvPr id="1368" name=""/>
            <p:cNvSpPr/>
            <p:nvPr/>
          </p:nvSpPr>
          <p:spPr>
            <a:xfrm>
              <a:off x="1789200" y="26668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008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49320" y="3013200"/>
              <a:ext cx="127080" cy="126720"/>
            </a:xfrm>
            <a:prstGeom prst="ellipse">
              <a:avLst/>
            </a:prstGeom>
            <a:solidFill>
              <a:srgbClr val="66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1243080" y="614520"/>
            <a:ext cx="6966000" cy="52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95400" y="3073320"/>
            <a:ext cx="1243080" cy="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2500200" y="-4697280"/>
            <a:ext cx="9528480" cy="10366920"/>
            <a:chOff x="2500200" y="-4697280"/>
            <a:chExt cx="9528480" cy="10366920"/>
          </a:xfrm>
        </p:grpSpPr>
        <p:sp>
          <p:nvSpPr>
            <p:cNvPr id="1373" name=""/>
            <p:cNvSpPr/>
            <p:nvPr/>
          </p:nvSpPr>
          <p:spPr>
            <a:xfrm>
              <a:off x="2500200" y="-4697280"/>
              <a:ext cx="9528480" cy="103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42" y="20887"/>
                  </a:moveTo>
                  <a:arcTo wR="10800" hR="10800" stAng="6655724" swAng="3266646"/>
                  <a:lnTo>
                    <a:pt x="10800" y="10800"/>
                  </a:lnTo>
                  <a:close/>
                </a:path>
                <a:path fill="none" w="21600" h="21600">
                  <a:moveTo>
                    <a:pt x="6942" y="20887"/>
                  </a:moveTo>
                  <a:arcTo wR="10800" hR="10800" stAng="6655724" swAng="3266646"/>
                </a:path>
              </a:pathLst>
            </a:custGeom>
            <a:noFill/>
            <a:ln cap="rnd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570640" y="5160960"/>
              <a:ext cx="831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Times New Roman"/>
                </a:rPr>
                <a:t>ADI</a:t>
              </a:r>
              <a:r>
                <a:rPr b="0" i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546360" y="5919840"/>
            <a:ext cx="4460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770280" y="4013280"/>
            <a:ext cx="0" cy="18604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1242720" y="3989520"/>
            <a:ext cx="6964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44520" y="5587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244520" y="58928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923040" y="58467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11440" y="-2097000"/>
            <a:ext cx="16671240" cy="692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22" y="21209"/>
                </a:moveTo>
                <a:arcTo wR="10800" hR="10800" stAng="6327347" swAng="3353541"/>
                <a:lnTo>
                  <a:pt x="10800" y="10800"/>
                </a:lnTo>
                <a:close/>
              </a:path>
              <a:path fill="none" w="21600" h="21600">
                <a:moveTo>
                  <a:pt x="7922" y="21209"/>
                </a:moveTo>
                <a:arcTo wR="10800" hR="10800" stAng="6327347" swAng="3353541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385800" y="6337440"/>
            <a:ext cx="236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904080" y="4459320"/>
            <a:ext cx="853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Times New Roman"/>
              </a:rPr>
              <a:t>ADI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800" y="1538280"/>
            <a:ext cx="537480" cy="2987280"/>
            <a:chOff x="1800" y="1538280"/>
            <a:chExt cx="537480" cy="2987280"/>
          </a:xfrm>
        </p:grpSpPr>
        <p:sp>
          <p:nvSpPr>
            <p:cNvPr id="1385" name=""/>
            <p:cNvSpPr/>
            <p:nvPr/>
          </p:nvSpPr>
          <p:spPr>
            <a:xfrm rot="16200000">
              <a:off x="-1086840" y="2899080"/>
              <a:ext cx="2794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e of inflation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800" y="15382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501480" y="3332160"/>
            <a:ext cx="777960" cy="878760"/>
            <a:chOff x="501480" y="3332160"/>
            <a:chExt cx="777960" cy="878760"/>
          </a:xfrm>
        </p:grpSpPr>
        <p:sp>
          <p:nvSpPr>
            <p:cNvPr id="1388" name=""/>
            <p:cNvSpPr/>
            <p:nvPr/>
          </p:nvSpPr>
          <p:spPr>
            <a:xfrm>
              <a:off x="501480" y="378936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cc00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4920" y="333216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cc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3708360" y="393696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622680" y="353844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228680" y="3070080"/>
            <a:ext cx="666720" cy="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95400" y="3070080"/>
            <a:ext cx="0" cy="280368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905200" y="3070080"/>
            <a:ext cx="436680" cy="3288960"/>
            <a:chOff x="2905200" y="3070080"/>
            <a:chExt cx="436680" cy="3288960"/>
          </a:xfrm>
        </p:grpSpPr>
        <p:sp>
          <p:nvSpPr>
            <p:cNvPr id="1395" name=""/>
            <p:cNvSpPr/>
            <p:nvPr/>
          </p:nvSpPr>
          <p:spPr>
            <a:xfrm>
              <a:off x="3124080" y="3070080"/>
              <a:ext cx="0" cy="280368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05200" y="59198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1676160" y="59198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789200" y="266688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3076560" y="2678040"/>
            <a:ext cx="320760" cy="451080"/>
            <a:chOff x="3076560" y="2678040"/>
            <a:chExt cx="320760" cy="451080"/>
          </a:xfrm>
        </p:grpSpPr>
        <p:sp>
          <p:nvSpPr>
            <p:cNvPr id="1400" name=""/>
            <p:cNvSpPr/>
            <p:nvPr/>
          </p:nvSpPr>
          <p:spPr>
            <a:xfrm>
              <a:off x="3076560" y="267804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66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078000" y="3002040"/>
              <a:ext cx="127080" cy="12708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49320" y="3013200"/>
            <a:ext cx="127080" cy="1267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75120" y="776160"/>
            <a:ext cx="5713200" cy="1476360"/>
          </a:xfrm>
          <a:prstGeom prst="rect">
            <a:avLst/>
          </a:prstGeom>
          <a:solidFill>
            <a:srgbClr val="ffffd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based on Taylor rule g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latively high weight to stable 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urve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ADI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: based on Taylor rule giving rel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 weight to stable real 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806400" y="2379600"/>
            <a:ext cx="777960" cy="878760"/>
            <a:chOff x="806400" y="2379600"/>
            <a:chExt cx="777960" cy="878760"/>
          </a:xfrm>
        </p:grpSpPr>
        <p:sp>
          <p:nvSpPr>
            <p:cNvPr id="1405" name=""/>
            <p:cNvSpPr/>
            <p:nvPr/>
          </p:nvSpPr>
          <p:spPr>
            <a:xfrm>
              <a:off x="806400" y="2836800"/>
              <a:ext cx="7779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i="1" sz="2000" spc="-1" strike="noStrike" baseline="-18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79840" y="237960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sz="40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DI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curves based on different Taylor rul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basing interest rates on forecasts of in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RULES VERSUS DISCRETION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2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100" spc="-1" strike="noStrike">
                <a:solidFill>
                  <a:srgbClr val="006600"/>
                </a:solidFill>
                <a:latin typeface="Arial"/>
              </a:rPr>
              <a:t>Issues with inflation targets (cont.)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who sets the target?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changing the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multiple targ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a Taylor rule for setting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300" spc="-1" strike="noStrike">
                <a:solidFill>
                  <a:srgbClr val="800080"/>
                </a:solidFill>
                <a:latin typeface="Arial"/>
              </a:rPr>
              <a:t>targeting inflation and the money suppl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basing interest rates on forecasts of in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700" spc="-1" strike="noStrike">
                <a:solidFill>
                  <a:srgbClr val="003399"/>
                </a:solidFill>
                <a:latin typeface="Arial"/>
              </a:rPr>
              <a:t>the problem of defla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938160"/>
            <a:ext cx="9144000" cy="5919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eneral government deficits/surplu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and debt as % of GD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urpose of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rrecting a fundamental disequilibriu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Government financ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udget deficits and surplus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ancing a defici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national debt and public-sector deb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The Nature of Fiscal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85680" y="844560"/>
            <a:ext cx="8158320" cy="5418000"/>
          </a:xfrm>
          <a:prstGeom prst="rect">
            <a:avLst/>
          </a:prstGeom>
          <a:solidFill>
            <a:srgbClr val="e9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660680" y="861840"/>
            <a:ext cx="7483320" cy="5065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812080" y="0"/>
            <a:ext cx="3319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9520" y="2459160"/>
            <a:ext cx="87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07640" y="4229280"/>
            <a:ext cx="1020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84080" y="4133880"/>
            <a:ext cx="128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89280" y="239220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93640" y="4492800"/>
            <a:ext cx="165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97600" y="1695600"/>
            <a:ext cx="1188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d7b29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614520"/>
          <a:ext cx="9144000" cy="624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4520"/>
                    <a:ext cx="91440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0" y="0"/>
            <a:ext cx="9142560" cy="5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etting budget deficits down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7986600" y="2436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81200" y="973080"/>
            <a:ext cx="790236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2920" y="650880"/>
          <a:ext cx="8869320" cy="607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50880"/>
                    <a:ext cx="886932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7915320" y="115236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86600" y="24368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61480" y="43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2520" y="189000"/>
            <a:ext cx="16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s % of G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National De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6720" y="541440"/>
            <a:ext cx="727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,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044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-8593560" y="-5985720"/>
            <a:ext cx="17431560" cy="11971440"/>
            <a:chOff x="-8593560" y="-5985720"/>
            <a:chExt cx="17431560" cy="11971440"/>
          </a:xfrm>
        </p:grpSpPr>
        <p:sp>
          <p:nvSpPr>
            <p:cNvPr id="283" name=""/>
            <p:cNvSpPr/>
            <p:nvPr/>
          </p:nvSpPr>
          <p:spPr>
            <a:xfrm>
              <a:off x="-8593560" y="-5985720"/>
              <a:ext cx="17431560" cy="1197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7" y="16016"/>
                  </a:moveTo>
                  <a:arcTo wR="10800" hR="10800" stAng="1732587" swAng="3161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7" y="16016"/>
                  </a:moveTo>
                  <a:arcTo wR="10800" hR="10800" stAng="1732587" swAng="3161570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22840" y="2495520"/>
              <a:ext cx="160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Tax reve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160" y="1392120"/>
            <a:ext cx="15806520" cy="4442760"/>
            <a:chOff x="2160" y="1392120"/>
            <a:chExt cx="15806520" cy="4442760"/>
          </a:xfrm>
        </p:grpSpPr>
        <p:sp>
          <p:nvSpPr>
            <p:cNvPr id="286" name=""/>
            <p:cNvSpPr/>
            <p:nvPr/>
          </p:nvSpPr>
          <p:spPr>
            <a:xfrm>
              <a:off x="2160" y="1392120"/>
              <a:ext cx="15806520" cy="374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5757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575762"/>
                </a:path>
              </a:pathLst>
            </a:custGeom>
            <a:noFill/>
            <a:ln cap="rnd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2440" y="5132520"/>
              <a:ext cx="21250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Gov. expendi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(incl. benefi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665600" y="4946760"/>
            <a:ext cx="436680" cy="1467720"/>
            <a:chOff x="4665600" y="4946760"/>
            <a:chExt cx="436680" cy="1467720"/>
          </a:xfrm>
        </p:grpSpPr>
        <p:sp>
          <p:nvSpPr>
            <p:cNvPr id="289" name=""/>
            <p:cNvSpPr/>
            <p:nvPr/>
          </p:nvSpPr>
          <p:spPr>
            <a:xfrm>
              <a:off x="4896000" y="5022720"/>
              <a:ext cx="4680" cy="91620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65600" y="597528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44880" y="4946760"/>
              <a:ext cx="103320" cy="102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561680" y="4976640"/>
            <a:ext cx="13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75960" y="4317840"/>
            <a:ext cx="163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5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National income and the size of the public-sector deficit or surplus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urpose of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rrecting a fundamental disequilibrium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e tun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Government financ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udget deficits and surplus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nancing a defici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THE NATURE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ublic-sector deficits or surpluses and the government’s fiscal stance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iscal stance and the state of the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structural bal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utomatic fiscal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ax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enefits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hanging tax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066680" y="3352680"/>
            <a:ext cx="624852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83240" y="313200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66680" y="2819520"/>
            <a:ext cx="6248520" cy="1828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83240" y="259884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066680" y="3352680"/>
            <a:ext cx="624852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83240" y="313200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3886200"/>
            <a:ext cx="0" cy="533520"/>
          </a:xfrm>
          <a:prstGeom prst="line">
            <a:avLst/>
          </a:prstGeom>
          <a:ln w="25560">
            <a:solidFill>
              <a:srgbClr val="66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4191120"/>
            <a:ext cx="1219320" cy="60948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92920" y="4678200"/>
            <a:ext cx="1328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 x mpc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cut in taxes: (a) lump-sum tax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066680" y="4343040"/>
            <a:ext cx="6096240" cy="1600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30600" y="4122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2040" y="617400"/>
            <a:ext cx="7444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79880" y="610380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066680" y="3276720"/>
            <a:ext cx="6096240" cy="2666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30600" y="2979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066680" y="4343040"/>
            <a:ext cx="6096240" cy="1600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230600" y="4122720"/>
            <a:ext cx="5385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92560" y="4592520"/>
            <a:ext cx="0" cy="533520"/>
          </a:xfrm>
          <a:prstGeom prst="line">
            <a:avLst/>
          </a:prstGeom>
          <a:ln w="25560">
            <a:solidFill>
              <a:srgbClr val="66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4952880"/>
            <a:ext cx="1219320" cy="60984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0120" y="5440320"/>
            <a:ext cx="1328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T x mpc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 cut in taxes: (b) cut in tax rat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The Effectiveness of Fiscal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Effectiveness of automatic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dverse supply-side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roblem of fiscal dra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policy: problems of forecasting the magnitude of the effec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s on other injections and withdraw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owding ou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2689200"/>
            <a:ext cx="9144000" cy="416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901760" y="3502080"/>
            <a:ext cx="107964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46840" y="-3738600"/>
            <a:ext cx="6266520" cy="782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0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087"/>
              </a:path>
            </a:pathLst>
          </a:custGeom>
          <a:noFill/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44640" y="382104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906440" y="2922480"/>
            <a:ext cx="10796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4600" y="27208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27760" y="2879640"/>
            <a:ext cx="101520" cy="1015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89840" y="2195640"/>
            <a:ext cx="2301840" cy="92052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04240" y="2328840"/>
            <a:ext cx="2307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Effect o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demand for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87692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523880"/>
            <a:ext cx="3657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1680" y="46782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6920" y="152388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47242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79120" y="4754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280" y="1096920"/>
            <a:ext cx="69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,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71320" y="865080"/>
            <a:ext cx="1074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0000" y="4808520"/>
            <a:ext cx="37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02480" y="48308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78400" y="5745240"/>
            <a:ext cx="28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(a)  The goods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8680" y="574524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(b)  The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4343400"/>
            <a:ext cx="3200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838080" y="3733560"/>
            <a:ext cx="2971800" cy="106668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50480" y="3535200"/>
            <a:ext cx="42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764520" y="414504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00240" y="4363920"/>
            <a:ext cx="0" cy="36540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82800" y="47293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63880" y="-2800080"/>
            <a:ext cx="6759720" cy="71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51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516"/>
              </a:path>
            </a:pathLst>
          </a:custGeom>
          <a:noFill/>
          <a:ln cap="rnd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81760" y="1890720"/>
            <a:ext cx="0" cy="282096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35160" y="1504800"/>
            <a:ext cx="495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39960" y="412596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902120" y="3502080"/>
            <a:ext cx="109872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26280" y="33004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5040" y="4051440"/>
            <a:ext cx="3186000" cy="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30400" y="4057560"/>
            <a:ext cx="0" cy="6541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2960" y="47163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90800" y="3992400"/>
            <a:ext cx="100080" cy="100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88280" y="3819600"/>
            <a:ext cx="395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373040" y="2171880"/>
            <a:ext cx="2222640" cy="92052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31360" y="2276640"/>
            <a:ext cx="2084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expans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46840" y="-3738600"/>
            <a:ext cx="6266520" cy="782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7580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758087"/>
              </a:path>
            </a:pathLst>
          </a:custGeom>
          <a:noFill/>
          <a:ln cap="rnd"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144640" y="3821040"/>
            <a:ext cx="4093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906440" y="2922480"/>
            <a:ext cx="107964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27760" y="2879640"/>
            <a:ext cx="101520" cy="1015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665760" y="2176560"/>
            <a:ext cx="2159280" cy="1062000"/>
            <a:chOff x="6665760" y="2176560"/>
            <a:chExt cx="2159280" cy="1062000"/>
          </a:xfrm>
        </p:grpSpPr>
        <p:sp>
          <p:nvSpPr>
            <p:cNvPr id="564" name=""/>
            <p:cNvSpPr/>
            <p:nvPr/>
          </p:nvSpPr>
          <p:spPr>
            <a:xfrm>
              <a:off x="6665760" y="2176560"/>
              <a:ext cx="2159280" cy="106200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2960" y="2217600"/>
              <a:ext cx="2010960" cy="1007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Accommod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increa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money 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018120" y="3502080"/>
            <a:ext cx="49536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3441600"/>
            <a:ext cx="101520" cy="1018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18160" y="1895400"/>
            <a:ext cx="0" cy="2820960"/>
          </a:xfrm>
          <a:prstGeom prst="line">
            <a:avLst/>
          </a:prstGeom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230880" y="1509840"/>
            <a:ext cx="57816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000" spc="-1" strike="noStrike" baseline="-46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64160" y="3446640"/>
            <a:ext cx="10188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94600" y="272088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60640" y="4299120"/>
            <a:ext cx="100080" cy="9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monetary effects of fiscal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Effectiveness of automatic stabiliser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dverse supply-side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problem of fiscal dra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policy: problems of forecasting the magnitude of the effect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s on other injections and withdraw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rowding ou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ize of the multiplier and accelerator effec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501920" y="870120"/>
            <a:ext cx="4365360" cy="519120"/>
            <a:chOff x="1501920" y="870120"/>
            <a:chExt cx="4365360" cy="519120"/>
          </a:xfrm>
        </p:grpSpPr>
        <p:sp>
          <p:nvSpPr>
            <p:cNvPr id="605" name=""/>
            <p:cNvSpPr/>
            <p:nvPr/>
          </p:nvSpPr>
          <p:spPr>
            <a:xfrm>
              <a:off x="1501920" y="870120"/>
              <a:ext cx="4365360" cy="51912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1679400" y="1138320"/>
              <a:ext cx="804960" cy="1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0040" y="938160"/>
              <a:ext cx="290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Path (a): no interven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01920" y="870120"/>
            <a:ext cx="4365360" cy="9237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697040" y="1309680"/>
            <a:ext cx="3863880" cy="397440"/>
            <a:chOff x="1697040" y="1309680"/>
            <a:chExt cx="3863880" cy="397440"/>
          </a:xfrm>
        </p:grpSpPr>
        <p:sp>
          <p:nvSpPr>
            <p:cNvPr id="638" name=""/>
            <p:cNvSpPr/>
            <p:nvPr/>
          </p:nvSpPr>
          <p:spPr>
            <a:xfrm>
              <a:off x="1697040" y="1487520"/>
              <a:ext cx="81756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59600" y="1309680"/>
              <a:ext cx="300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Path (b): policy 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01920" y="870120"/>
            <a:ext cx="4365360" cy="125244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-1126440" y="2616120"/>
            <a:ext cx="27957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 national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98960" y="6180120"/>
            <a:ext cx="805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72560" y="5075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58160" y="41241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01200" y="2836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63200" y="3290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18960" y="4157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57120" y="31226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50920" y="19479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12920" y="255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1487520"/>
            <a:ext cx="157464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0995" swAng="747038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0995" swAng="7470382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00200" y="231300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56280" y="-219960"/>
            <a:ext cx="1491120" cy="544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8"/>
                </a:moveTo>
                <a:arcTo wR="10800" hR="10800" stAng="1020190" swAng="7992895"/>
                <a:lnTo>
                  <a:pt x="10800" y="10800"/>
                </a:lnTo>
                <a:close/>
              </a:path>
              <a:path fill="none" w="21600" h="21600">
                <a:moveTo>
                  <a:pt x="21128" y="13958"/>
                </a:moveTo>
                <a:arcTo wR="10800" hR="10800" stAng="1020190" swAng="7992895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92680" y="1365120"/>
            <a:ext cx="1889640" cy="462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9" y="8540"/>
                </a:moveTo>
                <a:arcTo wR="10800" hR="10800" stAng="-10075355" swAng="8604947"/>
                <a:lnTo>
                  <a:pt x="10800" y="10800"/>
                </a:lnTo>
                <a:close/>
              </a:path>
              <a:path fill="none" w="21600" h="21600">
                <a:moveTo>
                  <a:pt x="239" y="8540"/>
                </a:moveTo>
                <a:arcTo wR="10800" hR="10800" stAng="-10075355" swAng="8604947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85400" y="-587160"/>
            <a:ext cx="1577520" cy="41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04" y="21466"/>
                </a:moveTo>
                <a:arcTo wR="10800" hR="10800" stAng="5942236" swAng="2549141"/>
                <a:lnTo>
                  <a:pt x="10800" y="10800"/>
                </a:lnTo>
                <a:close/>
              </a:path>
              <a:path fill="none" w="21600" h="21600">
                <a:moveTo>
                  <a:pt x="9104" y="21466"/>
                </a:moveTo>
                <a:arcTo wR="10800" hR="10800" stAng="5942236" swAng="2549141"/>
              </a:path>
            </a:pathLst>
          </a:custGeom>
          <a:noFill/>
          <a:ln cap="rnd" w="38160">
            <a:solidFill>
              <a:srgbClr val="a50021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679400" y="1138320"/>
            <a:ext cx="804960" cy="14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938160"/>
            <a:ext cx="290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(a): no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97040" y="1487520"/>
            <a:ext cx="817560" cy="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697040" y="1646280"/>
            <a:ext cx="4139280" cy="397440"/>
            <a:chOff x="1697040" y="1646280"/>
            <a:chExt cx="4139280" cy="397440"/>
          </a:xfrm>
        </p:grpSpPr>
        <p:sp>
          <p:nvSpPr>
            <p:cNvPr id="667" name=""/>
            <p:cNvSpPr/>
            <p:nvPr/>
          </p:nvSpPr>
          <p:spPr>
            <a:xfrm flipV="1">
              <a:off x="1697040" y="1835280"/>
              <a:ext cx="817560" cy="1440"/>
            </a:xfrm>
            <a:prstGeom prst="line">
              <a:avLst/>
            </a:prstGeom>
            <a:ln w="28440">
              <a:solidFill>
                <a:srgbClr val="a5002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65000" y="1646280"/>
              <a:ext cx="327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a50021"/>
                  </a:solidFill>
                  <a:latin typeface="Arial"/>
                </a:rPr>
                <a:t>Path (c): policy destabil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885240" y="2496960"/>
            <a:ext cx="1665360" cy="25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8" y="13957"/>
                </a:moveTo>
                <a:arcTo wR="10800" hR="10800" stAng="1019867" swAng="7166117"/>
                <a:lnTo>
                  <a:pt x="10800" y="10800"/>
                </a:lnTo>
                <a:close/>
              </a:path>
              <a:path fill="none" w="21600" h="21600">
                <a:moveTo>
                  <a:pt x="21128" y="13957"/>
                </a:moveTo>
                <a:arcTo wR="10800" hR="10800" stAng="1019867" swAng="716611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452320" y="3201840"/>
            <a:ext cx="21240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" y="7636"/>
                </a:moveTo>
                <a:arcTo wR="10800" hR="10800" stAng="-9777819" swAng="7158542"/>
                <a:lnTo>
                  <a:pt x="10800" y="10800"/>
                </a:lnTo>
                <a:close/>
              </a:path>
              <a:path fill="none" w="21600" h="21600">
                <a:moveTo>
                  <a:pt x="474" y="7636"/>
                </a:moveTo>
                <a:arcTo wR="10800" hR="10800" stAng="-9777819" swAng="71585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49640" y="1455840"/>
            <a:ext cx="1699200" cy="26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7" y="13961"/>
                </a:moveTo>
                <a:arcTo wR="10800" hR="10800" stAng="1021246" swAng="7167892"/>
                <a:lnTo>
                  <a:pt x="10800" y="10800"/>
                </a:lnTo>
                <a:close/>
              </a:path>
              <a:path fill="none" w="21600" h="21600">
                <a:moveTo>
                  <a:pt x="21127" y="13961"/>
                </a:moveTo>
                <a:arcTo wR="10800" hR="10800" stAng="1021246" swAng="716789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33280" y="2378160"/>
            <a:ext cx="2204280" cy="22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8" y="7343"/>
                </a:moveTo>
                <a:arcTo wR="10800" hR="10800" stAng="-9679993" swAng="7057834"/>
                <a:lnTo>
                  <a:pt x="10800" y="10800"/>
                </a:lnTo>
                <a:close/>
              </a:path>
              <a:path fill="none" w="21600" h="21600">
                <a:moveTo>
                  <a:pt x="568" y="7343"/>
                </a:moveTo>
                <a:arcTo wR="10800" hR="10800" stAng="-9679993" swAng="705783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21360000">
            <a:off x="7209720" y="335520"/>
            <a:ext cx="1757160" cy="280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97" y="21373"/>
                </a:moveTo>
                <a:arcTo wR="10800" hR="10800" stAng="6106133" swAng="2226474"/>
                <a:lnTo>
                  <a:pt x="10800" y="10800"/>
                </a:lnTo>
                <a:close/>
              </a:path>
              <a:path fill="none" w="21600" h="21600">
                <a:moveTo>
                  <a:pt x="8597" y="21373"/>
                </a:moveTo>
                <a:arcTo wR="10800" hR="10800" stAng="6106133" swAng="2226474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998880" y="2351160"/>
            <a:ext cx="1708200" cy="153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4" y="11160"/>
                </a:moveTo>
                <a:arcTo wR="10800" hR="10800" stAng="114760" swAng="7443748"/>
                <a:lnTo>
                  <a:pt x="10800" y="10800"/>
                </a:lnTo>
                <a:close/>
              </a:path>
              <a:path fill="none" w="21600" h="21600">
                <a:moveTo>
                  <a:pt x="21594" y="11160"/>
                </a:moveTo>
                <a:arcTo wR="10800" hR="10800" stAng="114760" swAng="7443748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96880" y="3503520"/>
            <a:ext cx="2400840" cy="19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5" y="7631"/>
                </a:moveTo>
                <a:arcTo wR="10800" hR="10800" stAng="-9776244" swAng="7156155"/>
                <a:lnTo>
                  <a:pt x="10800" y="10800"/>
                </a:lnTo>
                <a:close/>
              </a:path>
              <a:path fill="none" w="21600" h="21600">
                <a:moveTo>
                  <a:pt x="475" y="7631"/>
                </a:moveTo>
                <a:arcTo wR="10800" hR="10800" stAng="-9776244" swAng="7156155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6920" y="2746080"/>
            <a:ext cx="182484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30" y="13950"/>
                </a:moveTo>
                <a:arcTo wR="10800" hR="10800" stAng="1017626" swAng="6543832"/>
                <a:lnTo>
                  <a:pt x="10800" y="10800"/>
                </a:lnTo>
                <a:close/>
              </a:path>
              <a:path fill="none" w="21600" h="21600">
                <a:moveTo>
                  <a:pt x="21130" y="13950"/>
                </a:moveTo>
                <a:arcTo wR="10800" hR="10800" stAng="1017626" swAng="6543832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21420000">
            <a:off x="5607720" y="2782440"/>
            <a:ext cx="2371680" cy="14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1" y="7644"/>
                </a:moveTo>
                <a:arcTo wR="10800" hR="10800" stAng="-9780527" swAng="7159740"/>
                <a:lnTo>
                  <a:pt x="10800" y="10800"/>
                </a:lnTo>
                <a:close/>
              </a:path>
              <a:path fill="none" w="21600" h="21600">
                <a:moveTo>
                  <a:pt x="471" y="7644"/>
                </a:moveTo>
                <a:arcTo wR="10800" hR="10800" stAng="-9780527" swAng="715974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9620000">
            <a:off x="6791760" y="1040400"/>
            <a:ext cx="187236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55" y="21296"/>
                </a:moveTo>
                <a:arcTo wR="10800" hR="10800" stAng="6217648" swAng="1343810"/>
                <a:lnTo>
                  <a:pt x="10800" y="10800"/>
                </a:lnTo>
                <a:close/>
              </a:path>
              <a:path fill="none" w="21600" h="21600">
                <a:moveTo>
                  <a:pt x="8255" y="21296"/>
                </a:moveTo>
                <a:arcTo wR="10800" hR="10800" stAng="6217648" swAng="1343810"/>
              </a:path>
            </a:pathLst>
          </a:custGeom>
          <a:noFill/>
          <a:ln cap="rnd" w="38160">
            <a:solidFill>
              <a:srgbClr val="0066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59600" y="1309680"/>
            <a:ext cx="300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ath (b): policy stabil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: stabilising or destabilising?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de-effects of 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111560"/>
            <a:ext cx="9144000" cy="274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FECTIVENESS OF FISCAL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4360" y="1393920"/>
            <a:ext cx="7970760" cy="511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Discretionary fiscal policy: problems of timing and time lag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ous time lag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licy may be destabilis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ide-effects of discretionary fiscal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hanging government expenditure versus changing tax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Varieties of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he policy sett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historical approaches to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urrent approach to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ontrol of money supply over medium and long term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control of banks’ liquidity ratio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8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restricting size of PSNCR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12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Short-term monetary control: the alternativ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85840" y="590400"/>
            <a:ext cx="1209960" cy="5200920"/>
            <a:chOff x="3885840" y="590400"/>
            <a:chExt cx="1209960" cy="5200920"/>
          </a:xfrm>
        </p:grpSpPr>
        <p:sp>
          <p:nvSpPr>
            <p:cNvPr id="703" name=""/>
            <p:cNvSpPr/>
            <p:nvPr/>
          </p:nvSpPr>
          <p:spPr>
            <a:xfrm flipH="1">
              <a:off x="3885840" y="1066680"/>
              <a:ext cx="762120" cy="472464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05320" y="590400"/>
              <a:ext cx="690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3399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1802160" y="-4723920"/>
            <a:ext cx="11791080" cy="10314720"/>
            <a:chOff x="1802160" y="-4723920"/>
            <a:chExt cx="11791080" cy="10314720"/>
          </a:xfrm>
        </p:grpSpPr>
        <p:sp>
          <p:nvSpPr>
            <p:cNvPr id="706" name=""/>
            <p:cNvSpPr/>
            <p:nvPr/>
          </p:nvSpPr>
          <p:spPr>
            <a:xfrm>
              <a:off x="1802160" y="-4723920"/>
              <a:ext cx="11791080" cy="1005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98" y="21583"/>
                  </a:moveTo>
                  <a:arcTo wR="10800" hR="10800" stAng="5591707" swAng="4616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98" y="21583"/>
                  </a:moveTo>
                  <a:arcTo wR="10800" hR="10800" stAng="5591707" swAng="4616128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27880" y="51325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09920" y="4087800"/>
            <a:ext cx="3404520" cy="439200"/>
            <a:chOff x="709920" y="4087800"/>
            <a:chExt cx="3404520" cy="439200"/>
          </a:xfrm>
        </p:grpSpPr>
        <p:sp>
          <p:nvSpPr>
            <p:cNvPr id="709" name=""/>
            <p:cNvSpPr/>
            <p:nvPr/>
          </p:nvSpPr>
          <p:spPr>
            <a:xfrm flipH="1">
              <a:off x="1074240" y="4308480"/>
              <a:ext cx="304020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9920" y="4087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3899520" y="4325760"/>
            <a:ext cx="465480" cy="2071440"/>
            <a:chOff x="3899520" y="4325760"/>
            <a:chExt cx="465480" cy="2071440"/>
          </a:xfrm>
        </p:grpSpPr>
        <p:sp>
          <p:nvSpPr>
            <p:cNvPr id="712" name=""/>
            <p:cNvSpPr/>
            <p:nvPr/>
          </p:nvSpPr>
          <p:spPr>
            <a:xfrm>
              <a:off x="4130640" y="4325760"/>
              <a:ext cx="0" cy="164808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99520" y="59580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02160" y="-4723920"/>
            <a:ext cx="11791080" cy="1005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8" y="21583"/>
                </a:moveTo>
                <a:arcTo wR="10800" hR="10800" stAng="5591707" swAng="4616128"/>
                <a:lnTo>
                  <a:pt x="10800" y="10800"/>
                </a:lnTo>
                <a:close/>
              </a:path>
              <a:path fill="none" w="21600" h="21600">
                <a:moveTo>
                  <a:pt x="10198" y="21583"/>
                </a:moveTo>
                <a:arcTo wR="10800" hR="10800" stAng="5591707" swAng="4616128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3885840" y="1066680"/>
            <a:ext cx="762120" cy="47246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27880" y="513252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074240" y="430848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30640" y="4325760"/>
            <a:ext cx="0" cy="159552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09920" y="408780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99520" y="5958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716400" y="3032280"/>
            <a:ext cx="2151720" cy="439200"/>
            <a:chOff x="716400" y="3032280"/>
            <a:chExt cx="2151720" cy="439200"/>
          </a:xfrm>
        </p:grpSpPr>
        <p:sp>
          <p:nvSpPr>
            <p:cNvPr id="730" name=""/>
            <p:cNvSpPr/>
            <p:nvPr/>
          </p:nvSpPr>
          <p:spPr>
            <a:xfrm flipH="1">
              <a:off x="1074240" y="3209760"/>
              <a:ext cx="179388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6400" y="30322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642040" y="3209760"/>
            <a:ext cx="465480" cy="3158640"/>
            <a:chOff x="2642040" y="3209760"/>
            <a:chExt cx="465480" cy="3158640"/>
          </a:xfrm>
        </p:grpSpPr>
        <p:sp>
          <p:nvSpPr>
            <p:cNvPr id="733" name=""/>
            <p:cNvSpPr/>
            <p:nvPr/>
          </p:nvSpPr>
          <p:spPr>
            <a:xfrm>
              <a:off x="2886120" y="3209760"/>
              <a:ext cx="0" cy="272916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42040" y="59292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 flipV="1">
            <a:off x="853920" y="3448080"/>
            <a:ext cx="0" cy="603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3089160" y="6140520"/>
            <a:ext cx="75096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2480760" y="487440"/>
            <a:ext cx="1878120" cy="5218200"/>
            <a:chOff x="2480760" y="487440"/>
            <a:chExt cx="1878120" cy="5218200"/>
          </a:xfrm>
        </p:grpSpPr>
        <p:sp>
          <p:nvSpPr>
            <p:cNvPr id="738" name=""/>
            <p:cNvSpPr/>
            <p:nvPr/>
          </p:nvSpPr>
          <p:spPr>
            <a:xfrm flipH="1">
              <a:off x="2480760" y="981000"/>
              <a:ext cx="762120" cy="47246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19320" y="487440"/>
              <a:ext cx="6746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M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i="1" lang="en-US" sz="2800" spc="-1" strike="noStrike">
                  <a:solidFill>
                    <a:srgbClr val="a50021"/>
                  </a:solidFill>
                  <a:latin typeface="Playbill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3215880" y="2037960"/>
              <a:ext cx="1143000" cy="46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405320" y="590400"/>
            <a:ext cx="690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30680" y="315288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0" y="1905120"/>
          <a:ext cx="9144000" cy="168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"/>
          <p:cNvSpPr/>
          <p:nvPr/>
        </p:nvSpPr>
        <p:spPr>
          <a:xfrm>
            <a:off x="0" y="14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Effect of raising the minimum reserv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rom 10% to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-2520" y="1371600"/>
            <a:ext cx="496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position: 1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0" y="1905120"/>
          <a:ext cx="9144000" cy="168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91440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0" y="14112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Effect of raising the minimum reserve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rom 10% to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4635360"/>
          <a:ext cx="9144000" cy="1609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635360"/>
                    <a:ext cx="914400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-2520" y="1371600"/>
            <a:ext cx="496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itial position: 1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4095720"/>
            <a:ext cx="479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w position: 20% reserv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532480"/>
            <a:ext cx="9144000" cy="132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62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12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rations in discount and repo mark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42840" y="6372360"/>
            <a:ext cx="5337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a) Bank of England sells more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16200000">
            <a:off x="-651240" y="3237480"/>
            <a:ext cx="209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443000" y="6049800"/>
            <a:ext cx="65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129120" y="1096920"/>
            <a:ext cx="1677240" cy="4846320"/>
            <a:chOff x="3129120" y="1096920"/>
            <a:chExt cx="1677240" cy="4846320"/>
          </a:xfrm>
        </p:grpSpPr>
        <p:sp>
          <p:nvSpPr>
            <p:cNvPr id="780" name=""/>
            <p:cNvSpPr/>
            <p:nvPr/>
          </p:nvSpPr>
          <p:spPr>
            <a:xfrm flipV="1">
              <a:off x="3886200" y="1523520"/>
              <a:ext cx="0" cy="44197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9120" y="1096920"/>
              <a:ext cx="1677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81480" y="4400640"/>
            <a:ext cx="3222360" cy="439200"/>
            <a:chOff x="681480" y="4400640"/>
            <a:chExt cx="3222360" cy="439200"/>
          </a:xfrm>
        </p:grpSpPr>
        <p:sp>
          <p:nvSpPr>
            <p:cNvPr id="783" name=""/>
            <p:cNvSpPr/>
            <p:nvPr/>
          </p:nvSpPr>
          <p:spPr>
            <a:xfrm flipH="1">
              <a:off x="1084320" y="4633920"/>
              <a:ext cx="281952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1480" y="44006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-7537320" y="-3975840"/>
            <a:ext cx="16331040" cy="11475720"/>
            <a:chOff x="-7537320" y="-3975840"/>
            <a:chExt cx="16331040" cy="11475720"/>
          </a:xfrm>
        </p:grpSpPr>
        <p:sp>
          <p:nvSpPr>
            <p:cNvPr id="786" name=""/>
            <p:cNvSpPr/>
            <p:nvPr/>
          </p:nvSpPr>
          <p:spPr>
            <a:xfrm rot="20640000">
              <a:off x="-6762240" y="-2087640"/>
              <a:ext cx="14781600" cy="76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41" y="16220"/>
                  </a:moveTo>
                  <a:arcTo wR="10800" hR="10800" stAng="1807450" swAng="359255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41" y="16220"/>
                  </a:moveTo>
                  <a:arcTo wR="10800" hR="10800" stAng="1807450" swAng="3592550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72320" y="1332000"/>
              <a:ext cx="2207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  by ba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3835440" y="457668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681480" y="3392640"/>
            <a:ext cx="4915800" cy="439200"/>
            <a:chOff x="681480" y="3392640"/>
            <a:chExt cx="4915800" cy="439200"/>
          </a:xfrm>
        </p:grpSpPr>
        <p:sp>
          <p:nvSpPr>
            <p:cNvPr id="791" name=""/>
            <p:cNvSpPr/>
            <p:nvPr/>
          </p:nvSpPr>
          <p:spPr>
            <a:xfrm flipH="1">
              <a:off x="1091880" y="3625920"/>
              <a:ext cx="450540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1480" y="33926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16200000">
            <a:off x="-651240" y="3237480"/>
            <a:ext cx="209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443000" y="6049800"/>
            <a:ext cx="65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20640000">
            <a:off x="-6762240" y="-2087640"/>
            <a:ext cx="14781600" cy="769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41" y="16220"/>
                </a:moveTo>
                <a:arcTo wR="10800" hR="10800" stAng="1807450" swAng="3592550"/>
                <a:lnTo>
                  <a:pt x="10800" y="10800"/>
                </a:lnTo>
                <a:close/>
              </a:path>
              <a:path fill="none" w="21600" h="21600">
                <a:moveTo>
                  <a:pt x="20141" y="16220"/>
                </a:moveTo>
                <a:arcTo wR="10800" hR="10800" stAng="1807450" swAng="359255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886200" y="1523520"/>
            <a:ext cx="0" cy="44197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9120" y="1096920"/>
            <a:ext cx="167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y B. of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893120" y="1305000"/>
            <a:ext cx="1677240" cy="4589280"/>
            <a:chOff x="4893120" y="1305000"/>
            <a:chExt cx="1677240" cy="4589280"/>
          </a:xfrm>
        </p:grpSpPr>
        <p:sp>
          <p:nvSpPr>
            <p:cNvPr id="803" name=""/>
            <p:cNvSpPr/>
            <p:nvPr/>
          </p:nvSpPr>
          <p:spPr>
            <a:xfrm flipV="1">
              <a:off x="5595840" y="1725480"/>
              <a:ext cx="0" cy="41688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893120" y="1305000"/>
              <a:ext cx="16772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a50021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545080" y="356220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022640" y="2787480"/>
            <a:ext cx="12636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836640" y="3868560"/>
            <a:ext cx="0" cy="495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72320" y="1332000"/>
            <a:ext cx="2207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by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084320" y="4633920"/>
            <a:ext cx="281952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1480" y="44006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5440" y="457668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842840" y="6372360"/>
            <a:ext cx="533772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a) Bank of England sells more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03000" y="-3975480"/>
            <a:ext cx="16330320" cy="11475360"/>
            <a:chOff x="603000" y="-3975480"/>
            <a:chExt cx="16330320" cy="11475360"/>
          </a:xfrm>
        </p:grpSpPr>
        <p:sp>
          <p:nvSpPr>
            <p:cNvPr id="815" name=""/>
            <p:cNvSpPr/>
            <p:nvPr/>
          </p:nvSpPr>
          <p:spPr>
            <a:xfrm rot="960000">
              <a:off x="1377720" y="-2087280"/>
              <a:ext cx="14780880" cy="76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592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592920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56120" y="4726080"/>
              <a:ext cx="220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  by ba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359000" y="6391440"/>
            <a:ext cx="631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b) Bank of England buys fewer bills / gi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6200000">
            <a:off x="-1463760" y="3227400"/>
            <a:ext cx="371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 / gilt repo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25280" y="6049800"/>
            <a:ext cx="166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 and gi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255920" y="1122480"/>
            <a:ext cx="1692360" cy="4809600"/>
            <a:chOff x="4255920" y="1122480"/>
            <a:chExt cx="1692360" cy="4809600"/>
          </a:xfrm>
        </p:grpSpPr>
        <p:sp>
          <p:nvSpPr>
            <p:cNvPr id="825" name=""/>
            <p:cNvSpPr/>
            <p:nvPr/>
          </p:nvSpPr>
          <p:spPr>
            <a:xfrm flipV="1">
              <a:off x="4967280" y="1512720"/>
              <a:ext cx="0" cy="4419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55920" y="1122480"/>
              <a:ext cx="1692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54560" y="4125960"/>
            <a:ext cx="4211280" cy="439200"/>
            <a:chOff x="754560" y="4125960"/>
            <a:chExt cx="4211280" cy="439200"/>
          </a:xfrm>
        </p:grpSpPr>
        <p:sp>
          <p:nvSpPr>
            <p:cNvPr id="828" name=""/>
            <p:cNvSpPr/>
            <p:nvPr/>
          </p:nvSpPr>
          <p:spPr>
            <a:xfrm flipH="1" flipV="1">
              <a:off x="1092240" y="4344840"/>
              <a:ext cx="3873600" cy="792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4560" y="412596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4916520" y="4295880"/>
            <a:ext cx="103320" cy="10296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066680" y="1143000"/>
            <a:ext cx="70106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Bank of England operations in the bill and</a:t>
            </a:r>
            <a:br>
              <a:rPr sz="2600"/>
            </a:br>
            <a:r>
              <a:rPr b="1" lang="en-US" sz="2600" spc="-1" strike="noStrike">
                <a:solidFill>
                  <a:srgbClr val="663300"/>
                </a:solidFill>
                <a:latin typeface="Arial"/>
              </a:rPr>
              <a:t>gilt repo markets to raise interest rat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066680" y="114300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1463760" y="3227400"/>
            <a:ext cx="371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iscount  / gilt repo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425280" y="6049800"/>
            <a:ext cx="166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s and gi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960000">
            <a:off x="1377720" y="-2087280"/>
            <a:ext cx="14780880" cy="769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59292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592920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967280" y="1512360"/>
            <a:ext cx="0" cy="4419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55920" y="1096920"/>
            <a:ext cx="1692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by B. of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1092240" y="4344840"/>
            <a:ext cx="3873600" cy="79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54560" y="412596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16520" y="4282920"/>
            <a:ext cx="10332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2630160" y="1336680"/>
            <a:ext cx="1692360" cy="4588920"/>
            <a:chOff x="2630160" y="1336680"/>
            <a:chExt cx="1692360" cy="4588920"/>
          </a:xfrm>
        </p:grpSpPr>
        <p:sp>
          <p:nvSpPr>
            <p:cNvPr id="845" name=""/>
            <p:cNvSpPr/>
            <p:nvPr/>
          </p:nvSpPr>
          <p:spPr>
            <a:xfrm flipV="1">
              <a:off x="3403440" y="1703160"/>
              <a:ext cx="0" cy="42224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30160" y="1336680"/>
              <a:ext cx="1692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by B. of 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 flipH="1">
            <a:off x="3619440" y="2678040"/>
            <a:ext cx="130032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740160" y="3106800"/>
            <a:ext cx="2677680" cy="439200"/>
            <a:chOff x="740160" y="3106800"/>
            <a:chExt cx="2677680" cy="439200"/>
          </a:xfrm>
        </p:grpSpPr>
        <p:sp>
          <p:nvSpPr>
            <p:cNvPr id="849" name=""/>
            <p:cNvSpPr/>
            <p:nvPr/>
          </p:nvSpPr>
          <p:spPr>
            <a:xfrm flipH="1">
              <a:off x="1092240" y="3319560"/>
              <a:ext cx="232560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0160" y="3106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 flipV="1">
            <a:off x="909720" y="3538080"/>
            <a:ext cx="0" cy="56844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56120" y="4726080"/>
            <a:ext cx="220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by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59000" y="6391440"/>
            <a:ext cx="6315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(b) Bank of England buys fewer bills / gi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3263760"/>
            <a:ext cx="103320" cy="10332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ARIETIE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12800" y="1217520"/>
            <a:ext cx="8431200" cy="525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eliminary decisions: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tatutory or prudent ratios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hat to control: monetary base or broad money?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n-market operatio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funding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variable minimum reserve ratio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Techniques to control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atutory base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3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operations in discount and repo market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273320" y="2503080"/>
            <a:ext cx="6906960" cy="33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Problems of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74360" y="1406160"/>
            <a:ext cx="7970760" cy="51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edium and long-term control over the money supply: reducing PSNCR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automatic fiscal stabiliser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desire to cut tax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fficulty in cutting government expenditur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1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actical difficulties in short-run control of the money suppl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with monetary base control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 statutory cash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out statutory cash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with controlling broad liquidit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 statutory reserve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without statutory reserve ratio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88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the effect on interest rate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066680" y="79056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66680" y="79056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66680" y="612468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45200" y="60786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68560" y="645948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16200000">
            <a:off x="-552960" y="34833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397320" y="896760"/>
            <a:ext cx="549360" cy="5224320"/>
            <a:chOff x="3397320" y="896760"/>
            <a:chExt cx="549360" cy="5224320"/>
          </a:xfrm>
        </p:grpSpPr>
        <p:sp>
          <p:nvSpPr>
            <p:cNvPr id="876" name=""/>
            <p:cNvSpPr/>
            <p:nvPr/>
          </p:nvSpPr>
          <p:spPr>
            <a:xfrm flipV="1">
              <a:off x="3619440" y="1321920"/>
              <a:ext cx="0" cy="47991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97320" y="896760"/>
              <a:ext cx="549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M</a:t>
              </a:r>
              <a:r>
                <a:rPr b="0" lang="en-US" sz="2000" spc="-1" strike="noStrike" baseline="-25000">
                  <a:solidFill>
                    <a:srgbClr val="003399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792080" y="-5465160"/>
            <a:ext cx="13030560" cy="11561760"/>
            <a:chOff x="1792080" y="-5465160"/>
            <a:chExt cx="13030560" cy="11561760"/>
          </a:xfrm>
        </p:grpSpPr>
        <p:sp>
          <p:nvSpPr>
            <p:cNvPr id="879" name=""/>
            <p:cNvSpPr/>
            <p:nvPr/>
          </p:nvSpPr>
          <p:spPr>
            <a:xfrm>
              <a:off x="1792080" y="-5465160"/>
              <a:ext cx="13030560" cy="1153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08" y="21354"/>
                  </a:moveTo>
                  <a:arcTo wR="10800" hR="10800" stAng="6135230" swAng="4065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08" y="21354"/>
                  </a:moveTo>
                  <a:arcTo wR="10800" hR="10800" stAng="6135230" swAng="4065017"/>
                </a:path>
              </a:pathLst>
            </a:custGeom>
            <a:noFill/>
            <a:ln cap="rnd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50880" y="5699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3576600" y="4255920"/>
            <a:ext cx="103320" cy="1033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705600" y="4086360"/>
            <a:ext cx="2877480" cy="397440"/>
            <a:chOff x="705600" y="4086360"/>
            <a:chExt cx="2877480" cy="397440"/>
          </a:xfrm>
        </p:grpSpPr>
        <p:sp>
          <p:nvSpPr>
            <p:cNvPr id="883" name=""/>
            <p:cNvSpPr/>
            <p:nvPr/>
          </p:nvSpPr>
          <p:spPr>
            <a:xfrm flipH="1">
              <a:off x="1057320" y="4305240"/>
              <a:ext cx="2525760" cy="0"/>
            </a:xfrm>
            <a:prstGeom prst="line">
              <a:avLst/>
            </a:prstGeom>
            <a:ln w="1908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5600" y="4086360"/>
              <a:ext cx="27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2795400" y="-5361840"/>
            <a:ext cx="12198960" cy="10888920"/>
            <a:chOff x="2795400" y="-5361840"/>
            <a:chExt cx="12198960" cy="10888920"/>
          </a:xfrm>
        </p:grpSpPr>
        <p:sp>
          <p:nvSpPr>
            <p:cNvPr id="886" name=""/>
            <p:cNvSpPr/>
            <p:nvPr/>
          </p:nvSpPr>
          <p:spPr>
            <a:xfrm>
              <a:off x="2795400" y="-5361840"/>
              <a:ext cx="12198960" cy="1076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506" y="21354"/>
                  </a:moveTo>
                  <a:arcTo wR="10800" hR="10800" stAng="6135886" swAng="4064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8506" y="21354"/>
                  </a:moveTo>
                  <a:arcTo wR="10800" hR="10800" stAng="6135886" swAng="4064837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22280" y="5068800"/>
              <a:ext cx="43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L</a:t>
              </a:r>
              <a:r>
                <a:rPr b="0" i="1" lang="en-US" sz="1200" spc="-1" strike="noStrike">
                  <a:solidFill>
                    <a:srgbClr val="a50021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a50021"/>
                  </a:solidFill>
                  <a:latin typeface="Playbill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568680" y="2668680"/>
            <a:ext cx="10332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14960" y="2498760"/>
            <a:ext cx="2872800" cy="439200"/>
            <a:chOff x="714960" y="2498760"/>
            <a:chExt cx="2872800" cy="439200"/>
          </a:xfrm>
        </p:grpSpPr>
        <p:sp>
          <p:nvSpPr>
            <p:cNvPr id="890" name=""/>
            <p:cNvSpPr/>
            <p:nvPr/>
          </p:nvSpPr>
          <p:spPr>
            <a:xfrm flipH="1">
              <a:off x="1062000" y="2717640"/>
              <a:ext cx="252576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4960" y="249876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334040" y="4748040"/>
            <a:ext cx="12826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36640" y="2897280"/>
            <a:ext cx="0" cy="113652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71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he effect on interest rates of a change in demand for money: money supply kept at fixed level by the authorities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25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UK public-sector deficits/surpluses: 1979–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322880" y="1749600"/>
            <a:ext cx="3538440" cy="1233360"/>
            <a:chOff x="4322880" y="1749600"/>
            <a:chExt cx="3538440" cy="1233360"/>
          </a:xfrm>
        </p:grpSpPr>
        <p:sp>
          <p:nvSpPr>
            <p:cNvPr id="911" name=""/>
            <p:cNvSpPr/>
            <p:nvPr/>
          </p:nvSpPr>
          <p:spPr>
            <a:xfrm>
              <a:off x="4322880" y="1749600"/>
              <a:ext cx="353844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57160" y="1854360"/>
              <a:ext cx="3338280" cy="1049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Assume that  the author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want to reduc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demand for money to 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752760" y="2664000"/>
            <a:ext cx="2812680" cy="439200"/>
            <a:chOff x="752760" y="2664000"/>
            <a:chExt cx="2812680" cy="439200"/>
          </a:xfrm>
        </p:grpSpPr>
        <p:sp>
          <p:nvSpPr>
            <p:cNvPr id="919" name=""/>
            <p:cNvSpPr/>
            <p:nvPr/>
          </p:nvSpPr>
          <p:spPr>
            <a:xfrm flipH="1">
              <a:off x="1092240" y="2879640"/>
              <a:ext cx="247320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52760" y="26640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34080" y="1749600"/>
            <a:ext cx="2550960" cy="1233360"/>
            <a:chOff x="4834080" y="1749600"/>
            <a:chExt cx="2550960" cy="1233360"/>
          </a:xfrm>
        </p:grpSpPr>
        <p:sp>
          <p:nvSpPr>
            <p:cNvPr id="933" name=""/>
            <p:cNvSpPr/>
            <p:nvPr/>
          </p:nvSpPr>
          <p:spPr>
            <a:xfrm>
              <a:off x="4834080" y="1749600"/>
              <a:ext cx="255096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62520" y="1854360"/>
              <a:ext cx="2501640" cy="1049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A large ri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ate of interest (to 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will be necess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 flipV="1">
            <a:off x="3546360" y="2862000"/>
            <a:ext cx="0" cy="30589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494160" y="282420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nstable demand for mone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redit rationing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Goodhart's law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bank resistanc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tifles competition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distortionary effects on econom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Problems with controlling interest rate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lastic demand for loan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nstable demand for mone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ossible conflict between domestic goals and exchange-rate goals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S OF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2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problems of using it to manage aggregate demand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2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using it to keep to a target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fl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change rat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49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money supply 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371600" y="2368440"/>
            <a:ext cx="6502320" cy="30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Analysis of Fiscal and Monetary Policy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quilibrium in both the goods and money marke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707400" y="3686040"/>
            <a:ext cx="3425040" cy="508680"/>
            <a:chOff x="707400" y="3686040"/>
            <a:chExt cx="3425040" cy="508680"/>
          </a:xfrm>
        </p:grpSpPr>
        <p:sp>
          <p:nvSpPr>
            <p:cNvPr id="965" name=""/>
            <p:cNvSpPr/>
            <p:nvPr/>
          </p:nvSpPr>
          <p:spPr>
            <a:xfrm>
              <a:off x="707400" y="3686040"/>
              <a:ext cx="3693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074600" y="3924360"/>
              <a:ext cx="3057840" cy="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3938760" y="3941640"/>
            <a:ext cx="453240" cy="2488320"/>
            <a:chOff x="3938760" y="3941640"/>
            <a:chExt cx="453240" cy="2488320"/>
          </a:xfrm>
        </p:grpSpPr>
        <p:sp>
          <p:nvSpPr>
            <p:cNvPr id="968" name=""/>
            <p:cNvSpPr/>
            <p:nvPr/>
          </p:nvSpPr>
          <p:spPr>
            <a:xfrm>
              <a:off x="4146480" y="3941640"/>
              <a:ext cx="0" cy="19972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38760" y="5921280"/>
              <a:ext cx="453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Y</a:t>
              </a:r>
              <a:r>
                <a:rPr b="0" lang="en-US" sz="2400" spc="-1" strike="noStrike" baseline="-25000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6345000" y="73980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346440" y="7207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074600" y="3924360"/>
            <a:ext cx="305784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27000" y="851040"/>
            <a:ext cx="7886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1248480" y="3248640"/>
            <a:ext cx="304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growth rate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eneral government expenditure as % of GDP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8120" y="512640"/>
          <a:ext cx="8704440" cy="631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512640"/>
                    <a:ext cx="8704440" cy="63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411680" y="49068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074600" y="3924360"/>
            <a:ext cx="305784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2364480" y="-3103920"/>
            <a:ext cx="11588400" cy="8386920"/>
            <a:chOff x="2364480" y="-3103920"/>
            <a:chExt cx="11588400" cy="8386920"/>
          </a:xfrm>
        </p:grpSpPr>
        <p:sp>
          <p:nvSpPr>
            <p:cNvPr id="1007" name=""/>
            <p:cNvSpPr/>
            <p:nvPr/>
          </p:nvSpPr>
          <p:spPr>
            <a:xfrm rot="600000">
              <a:off x="2861280" y="-2234520"/>
              <a:ext cx="10594800" cy="66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21600"/>
                  </a:moveTo>
                  <a:arcTo wR="10800" hR="10800" stAng="5419583" swAng="4470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21600"/>
                  </a:moveTo>
                  <a:arcTo wR="10800" hR="10800" stAng="5419583" swAng="44702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492680" y="41623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1080" y="3179880"/>
            <a:ext cx="4235040" cy="439200"/>
            <a:chOff x="721080" y="3179880"/>
            <a:chExt cx="4235040" cy="439200"/>
          </a:xfrm>
        </p:grpSpPr>
        <p:sp>
          <p:nvSpPr>
            <p:cNvPr id="1010" name=""/>
            <p:cNvSpPr/>
            <p:nvPr/>
          </p:nvSpPr>
          <p:spPr>
            <a:xfrm flipH="1">
              <a:off x="1074600" y="3392640"/>
              <a:ext cx="3881520" cy="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1080" y="31798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4744800" y="3392640"/>
            <a:ext cx="436680" cy="2975760"/>
            <a:chOff x="4744800" y="3392640"/>
            <a:chExt cx="436680" cy="2975760"/>
          </a:xfrm>
        </p:grpSpPr>
        <p:sp>
          <p:nvSpPr>
            <p:cNvPr id="1013" name=""/>
            <p:cNvSpPr/>
            <p:nvPr/>
          </p:nvSpPr>
          <p:spPr>
            <a:xfrm>
              <a:off x="4956120" y="3392640"/>
              <a:ext cx="0" cy="252864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44800" y="59292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703680" y="1144440"/>
            <a:ext cx="208260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58040" y="122220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346440" y="7207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98880" y="333684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10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0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y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276960" y="72216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60640" y="49068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074240" y="392436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-3796200" y="-4384440"/>
            <a:ext cx="11925720" cy="9692280"/>
            <a:chOff x="-3796200" y="-4384440"/>
            <a:chExt cx="11925720" cy="9692280"/>
          </a:xfrm>
        </p:grpSpPr>
        <p:sp>
          <p:nvSpPr>
            <p:cNvPr id="1040" name=""/>
            <p:cNvSpPr/>
            <p:nvPr/>
          </p:nvSpPr>
          <p:spPr>
            <a:xfrm>
              <a:off x="-3796200" y="-4384440"/>
              <a:ext cx="11646360" cy="9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58" y="12548"/>
                  </a:moveTo>
                  <a:arcTo wR="10800" hR="10800" stAng="558812" swAng="4526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58" y="12548"/>
                  </a:moveTo>
                  <a:arcTo wR="10800" hR="10800" stAng="558812" swAng="4526754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21760" y="82080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722880" y="4278240"/>
            <a:ext cx="4543920" cy="439200"/>
            <a:chOff x="722880" y="4278240"/>
            <a:chExt cx="4543920" cy="439200"/>
          </a:xfrm>
        </p:grpSpPr>
        <p:sp>
          <p:nvSpPr>
            <p:cNvPr id="1043" name=""/>
            <p:cNvSpPr/>
            <p:nvPr/>
          </p:nvSpPr>
          <p:spPr>
            <a:xfrm flipH="1">
              <a:off x="1091880" y="4491000"/>
              <a:ext cx="4174920" cy="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2880" y="427824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5056200" y="4527720"/>
            <a:ext cx="436680" cy="1856520"/>
            <a:chOff x="5056200" y="4527720"/>
            <a:chExt cx="436680" cy="1856520"/>
          </a:xfrm>
        </p:grpSpPr>
        <p:sp>
          <p:nvSpPr>
            <p:cNvPr id="1046" name=""/>
            <p:cNvSpPr/>
            <p:nvPr/>
          </p:nvSpPr>
          <p:spPr>
            <a:xfrm>
              <a:off x="5230800" y="4527720"/>
              <a:ext cx="0" cy="141120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56200" y="59450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5192640" y="4437000"/>
            <a:ext cx="10332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009960" y="1144440"/>
            <a:ext cx="243216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077640" y="122220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774360" y="1442880"/>
            <a:ext cx="797076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Monetary policy and </a:t>
            </a:r>
            <a:r>
              <a:rPr b="1" i="1" lang="en-US" sz="3100" spc="-1" strike="noStrike">
                <a:solidFill>
                  <a:srgbClr val="006600"/>
                </a:solidFill>
                <a:latin typeface="Arial"/>
              </a:rPr>
              <a:t>ISLM </a:t>
            </a: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shifting the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 curv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87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 on interest rates and national income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3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Fiscal and monetary policy together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-3796200" y="-4384440"/>
            <a:ext cx="11925720" cy="9692280"/>
            <a:chOff x="-3796200" y="-4384440"/>
            <a:chExt cx="11925720" cy="9692280"/>
          </a:xfrm>
        </p:grpSpPr>
        <p:sp>
          <p:nvSpPr>
            <p:cNvPr id="1058" name=""/>
            <p:cNvSpPr/>
            <p:nvPr/>
          </p:nvSpPr>
          <p:spPr>
            <a:xfrm>
              <a:off x="-3796200" y="-4384440"/>
              <a:ext cx="11646360" cy="9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58" y="12548"/>
                  </a:moveTo>
                  <a:arcTo wR="10800" hR="10800" stAng="558812" swAng="4526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58" y="12548"/>
                  </a:moveTo>
                  <a:arcTo wR="10800" hR="10800" stAng="558812" swAng="4526754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21760" y="82080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-6172560" y="-4088880"/>
            <a:ext cx="12802320" cy="893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8" y="12722"/>
                </a:moveTo>
                <a:arcTo wR="10800" hR="10800" stAng="614992" swAng="3960211"/>
                <a:lnTo>
                  <a:pt x="10800" y="10800"/>
                </a:lnTo>
                <a:close/>
              </a:path>
              <a:path fill="none" w="21600" h="21600">
                <a:moveTo>
                  <a:pt x="21428" y="12722"/>
                </a:moveTo>
                <a:arcTo wR="10800" hR="10800" stAng="614992" swAng="396021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276960" y="72216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600000">
            <a:off x="1924920" y="-2694240"/>
            <a:ext cx="115196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22" y="21569"/>
                </a:moveTo>
                <a:arcTo wR="10800" hR="10800" stAng="5138123" swAng="4751242"/>
                <a:lnTo>
                  <a:pt x="10800" y="10800"/>
                </a:lnTo>
                <a:close/>
              </a:path>
              <a:path fill="none" w="21600" h="21600">
                <a:moveTo>
                  <a:pt x="11622" y="21569"/>
                </a:moveTo>
                <a:arcTo wR="10800" hR="10800" stAng="5138123" swAng="4751242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429320" y="490680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14960" y="368604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1074240" y="3924360"/>
            <a:ext cx="3040200" cy="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364480" y="-3103920"/>
            <a:ext cx="11588400" cy="8386920"/>
            <a:chOff x="2364480" y="-3103920"/>
            <a:chExt cx="11588400" cy="8386920"/>
          </a:xfrm>
        </p:grpSpPr>
        <p:sp>
          <p:nvSpPr>
            <p:cNvPr id="1075" name=""/>
            <p:cNvSpPr/>
            <p:nvPr/>
          </p:nvSpPr>
          <p:spPr>
            <a:xfrm rot="600000">
              <a:off x="2861280" y="-2234520"/>
              <a:ext cx="10594800" cy="66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21600"/>
                  </a:moveTo>
                  <a:arcTo wR="10800" hR="10800" stAng="5419583" swAng="4470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21600"/>
                  </a:moveTo>
                  <a:arcTo wR="10800" hR="10800" stAng="5419583" swAng="44702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10320" y="41623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4224240" y="3924360"/>
            <a:ext cx="186696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5873760" y="3944880"/>
            <a:ext cx="436680" cy="2452320"/>
            <a:chOff x="5873760" y="3944880"/>
            <a:chExt cx="436680" cy="2452320"/>
          </a:xfrm>
        </p:grpSpPr>
        <p:sp>
          <p:nvSpPr>
            <p:cNvPr id="1079" name=""/>
            <p:cNvSpPr/>
            <p:nvPr/>
          </p:nvSpPr>
          <p:spPr>
            <a:xfrm>
              <a:off x="6083280" y="3944880"/>
              <a:ext cx="0" cy="198432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73760" y="59580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3581280" y="719280"/>
            <a:ext cx="2330640" cy="13446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79480" y="797040"/>
            <a:ext cx="2318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isca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35760" y="3887640"/>
            <a:ext cx="102960" cy="103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SLM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600000">
            <a:off x="3480840" y="-4867200"/>
            <a:ext cx="9713520" cy="1135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7031" swAng="3472485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7031" swAng="3472485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8782200" y="-2691720"/>
            <a:ext cx="17735760" cy="70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00" y="16616"/>
                </a:moveTo>
                <a:arcTo wR="10800" hR="10800" stAng="1954903" swAng="2931581"/>
                <a:lnTo>
                  <a:pt x="10800" y="10800"/>
                </a:lnTo>
                <a:close/>
              </a:path>
              <a:path fill="none" w="21600" h="21600">
                <a:moveTo>
                  <a:pt x="19900" y="16616"/>
                </a:moveTo>
                <a:arcTo wR="10800" hR="10800" stAng="1954903" swAng="2931581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519680" y="229392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763960" y="551196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93372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3816000" y="-4039200"/>
            <a:ext cx="10779120" cy="10546560"/>
            <a:chOff x="3816000" y="-4039200"/>
            <a:chExt cx="10779120" cy="10546560"/>
          </a:xfrm>
        </p:grpSpPr>
        <p:sp>
          <p:nvSpPr>
            <p:cNvPr id="1103" name=""/>
            <p:cNvSpPr/>
            <p:nvPr/>
          </p:nvSpPr>
          <p:spPr>
            <a:xfrm rot="600000">
              <a:off x="4531680" y="-3296160"/>
              <a:ext cx="9347400" cy="90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95" y="21082"/>
                  </a:moveTo>
                  <a:arcTo wR="10800" hR="10800" stAng="6469287" swAng="3675175"/>
                  <a:lnTo>
                    <a:pt x="10800" y="10800"/>
                  </a:lnTo>
                  <a:close/>
                </a:path>
                <a:path fill="none" w="21600" h="21600">
                  <a:moveTo>
                    <a:pt x="7495" y="21082"/>
                  </a:moveTo>
                  <a:arcTo wR="10800" hR="10800" stAng="6469287" swAng="3675175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018200" y="494820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5229360" y="359424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5094360" y="3703680"/>
            <a:ext cx="436680" cy="2647440"/>
            <a:chOff x="5094360" y="3703680"/>
            <a:chExt cx="436680" cy="2647440"/>
          </a:xfrm>
        </p:grpSpPr>
        <p:sp>
          <p:nvSpPr>
            <p:cNvPr id="1107" name=""/>
            <p:cNvSpPr/>
            <p:nvPr/>
          </p:nvSpPr>
          <p:spPr>
            <a:xfrm>
              <a:off x="5272200" y="3703680"/>
              <a:ext cx="0" cy="221760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09436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1208160" y="2701800"/>
            <a:ext cx="223992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326240" y="277956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21040" y="30639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Keynesian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600000">
            <a:off x="3480840" y="-4867200"/>
            <a:ext cx="9713520" cy="1135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7031" swAng="3472485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7031" swAng="3472485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8781840" y="-2691720"/>
            <a:ext cx="17734680" cy="70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76" y="16654"/>
                </a:moveTo>
                <a:arcTo wR="10800" hR="10800" stAng="1969516" swAng="2916967"/>
                <a:lnTo>
                  <a:pt x="10800" y="10800"/>
                </a:lnTo>
                <a:close/>
              </a:path>
              <a:path fill="none" w="21600" h="21600">
                <a:moveTo>
                  <a:pt x="19876" y="16654"/>
                </a:moveTo>
                <a:arcTo wR="10800" hR="10800" stAng="1969516" swAng="2916967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69280" y="2293920"/>
            <a:ext cx="7077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12560" y="551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87828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4141800" y="4272120"/>
            <a:ext cx="436680" cy="2079000"/>
            <a:chOff x="4141800" y="4272120"/>
            <a:chExt cx="436680" cy="2079000"/>
          </a:xfrm>
        </p:grpSpPr>
        <p:sp>
          <p:nvSpPr>
            <p:cNvPr id="1131" name=""/>
            <p:cNvSpPr/>
            <p:nvPr/>
          </p:nvSpPr>
          <p:spPr>
            <a:xfrm>
              <a:off x="4276800" y="4272120"/>
              <a:ext cx="0" cy="16491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14180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4522680" y="1273320"/>
            <a:ext cx="2332080" cy="99504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533480" y="135108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-8111880" y="-2750400"/>
            <a:ext cx="18626760" cy="7132680"/>
            <a:chOff x="-8111880" y="-2750400"/>
            <a:chExt cx="18626760" cy="7132680"/>
          </a:xfrm>
        </p:grpSpPr>
        <p:sp>
          <p:nvSpPr>
            <p:cNvPr id="1136" name=""/>
            <p:cNvSpPr/>
            <p:nvPr/>
          </p:nvSpPr>
          <p:spPr>
            <a:xfrm>
              <a:off x="7512120" y="3143160"/>
              <a:ext cx="707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8111880" y="-2750400"/>
              <a:ext cx="18626760" cy="713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01" y="18849"/>
                  </a:moveTo>
                  <a:arcTo wR="10800" hR="10800" stAng="2890777" swAng="2419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01" y="18849"/>
                  </a:moveTo>
                  <a:arcTo wR="10800" hR="10800" stAng="2890777" swAng="241953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5964120" y="35211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222800" y="4125960"/>
            <a:ext cx="10296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Keynesian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7000" y="851040"/>
            <a:ext cx="78868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1248480" y="3248640"/>
            <a:ext cx="3042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growth rate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eneral government expenditure as % of GDP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38120" y="509760"/>
          <a:ext cx="8704440" cy="631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8120" y="509760"/>
                    <a:ext cx="87044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rot="21300000">
            <a:off x="989280" y="-2626560"/>
            <a:ext cx="16719480" cy="69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7" y="21259"/>
                </a:moveTo>
                <a:arcTo wR="10800" hR="10800" stAng="6266400" swAng="3777080"/>
                <a:lnTo>
                  <a:pt x="10800" y="10800"/>
                </a:lnTo>
                <a:close/>
              </a:path>
              <a:path fill="none" w="21600" h="21600">
                <a:moveTo>
                  <a:pt x="8107" y="21259"/>
                </a:moveTo>
                <a:arcTo wR="10800" hR="10800" stAng="6266400" swAng="377708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-454680" y="-6260400"/>
            <a:ext cx="5182560" cy="1252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2" y="12581"/>
                </a:moveTo>
                <a:arcTo wR="10800" hR="10800" stAng="569399" swAng="3549476"/>
                <a:lnTo>
                  <a:pt x="10800" y="10800"/>
                </a:lnTo>
                <a:close/>
              </a:path>
              <a:path fill="none" w="21600" h="21600">
                <a:moveTo>
                  <a:pt x="21452" y="12581"/>
                </a:moveTo>
                <a:arcTo wR="10800" hR="10800" stAng="569399" swAng="3549476"/>
              </a:path>
            </a:pathLst>
          </a:custGeom>
          <a:noFill/>
          <a:ln cap="rnd"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43120" y="644400"/>
            <a:ext cx="60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76920" y="4229280"/>
            <a:ext cx="57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1464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4160880" y="3557520"/>
            <a:ext cx="436680" cy="2793600"/>
            <a:chOff x="4160880" y="3557520"/>
            <a:chExt cx="436680" cy="2793600"/>
          </a:xfrm>
        </p:grpSpPr>
        <p:sp>
          <p:nvSpPr>
            <p:cNvPr id="1163" name=""/>
            <p:cNvSpPr/>
            <p:nvPr/>
          </p:nvSpPr>
          <p:spPr>
            <a:xfrm>
              <a:off x="4276800" y="3557520"/>
              <a:ext cx="1440" cy="234468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60880" y="5911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5218200" y="2043000"/>
            <a:ext cx="223992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336280" y="2120760"/>
            <a:ext cx="202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484360" y="32097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1703160" y="-3490560"/>
            <a:ext cx="14289480" cy="8165880"/>
            <a:chOff x="1703160" y="-3490560"/>
            <a:chExt cx="14289480" cy="8165880"/>
          </a:xfrm>
        </p:grpSpPr>
        <p:sp>
          <p:nvSpPr>
            <p:cNvPr id="1169" name=""/>
            <p:cNvSpPr/>
            <p:nvPr/>
          </p:nvSpPr>
          <p:spPr>
            <a:xfrm>
              <a:off x="7567200" y="3814920"/>
              <a:ext cx="572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a50021"/>
                  </a:solidFill>
                  <a:latin typeface="Arial"/>
                </a:rPr>
                <a:t>IS</a:t>
              </a:r>
              <a:r>
                <a:rPr b="0" lang="en-US" sz="2400" spc="-1" strike="noStrike" baseline="-25000">
                  <a:solidFill>
                    <a:srgbClr val="a5002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21300000">
              <a:off x="1981800" y="-2905560"/>
              <a:ext cx="13731840" cy="699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23" y="21312"/>
                  </a:moveTo>
                  <a:arcTo wR="10800" hR="10800" stAng="6195666" swAng="3848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8323" y="21312"/>
                  </a:moveTo>
                  <a:arcTo wR="10800" hR="10800" stAng="6195666" swAng="3848039"/>
                </a:path>
              </a:pathLst>
            </a:custGeom>
            <a:noFill/>
            <a:ln cap="rnd"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4222800" y="344664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onetarist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774360" y="1455840"/>
            <a:ext cx="7970760" cy="50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Keynesian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87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Arial"/>
              </a:rPr>
              <a:t>Analysis under monetarist assumptions</a:t>
            </a:r>
            <a:endParaRPr b="1" lang="en-US" sz="31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ineffectiveness of fiscal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3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Arial"/>
              </a:rPr>
              <a:t>effectiveness of monetary policy</a:t>
            </a:r>
            <a:endParaRPr b="1" lang="en-US" sz="2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title"/>
          </p:nvPr>
        </p:nvSpPr>
        <p:spPr>
          <a:xfrm>
            <a:off x="441360" y="253800"/>
            <a:ext cx="86011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 Narrow"/>
              </a:rPr>
              <a:t>ISLM ANALYSIS OF FISCAL AND MONETARY POLICY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6200000">
            <a:off x="-601920" y="299916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62560" y="6354720"/>
            <a:ext cx="201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21300000">
            <a:off x="989280" y="-2626560"/>
            <a:ext cx="16719480" cy="690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7" y="21259"/>
                </a:moveTo>
                <a:arcTo wR="10800" hR="10800" stAng="6266400" swAng="3777080"/>
                <a:lnTo>
                  <a:pt x="10800" y="10800"/>
                </a:lnTo>
                <a:close/>
              </a:path>
              <a:path fill="none" w="21600" h="21600">
                <a:moveTo>
                  <a:pt x="8107" y="21259"/>
                </a:moveTo>
                <a:arcTo wR="10800" hR="10800" stAng="6266400" swAng="3777080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-454680" y="-6260400"/>
            <a:ext cx="5182560" cy="1252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52" y="12581"/>
                </a:moveTo>
                <a:arcTo wR="10800" hR="10800" stAng="569399" swAng="3549476"/>
                <a:lnTo>
                  <a:pt x="10800" y="10800"/>
                </a:lnTo>
                <a:close/>
              </a:path>
              <a:path fill="none" w="21600" h="21600">
                <a:moveTo>
                  <a:pt x="21452" y="12581"/>
                </a:moveTo>
                <a:arcTo wR="10800" hR="10800" stAng="569399" swAng="3549476"/>
              </a:path>
            </a:pathLst>
          </a:custGeom>
          <a:noFill/>
          <a:ln cap="rnd"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35920" y="644400"/>
            <a:ext cx="621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L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5520" y="41925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133880" y="3941640"/>
            <a:ext cx="0" cy="1997280"/>
          </a:xfrm>
          <a:prstGeom prst="line">
            <a:avLst/>
          </a:prstGeom>
          <a:ln w="1908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14640" y="59212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087800" y="3862440"/>
            <a:ext cx="103320" cy="10296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5076720" y="4125960"/>
            <a:ext cx="436680" cy="2226600"/>
            <a:chOff x="5076720" y="4125960"/>
            <a:chExt cx="436680" cy="2226600"/>
          </a:xfrm>
        </p:grpSpPr>
        <p:sp>
          <p:nvSpPr>
            <p:cNvPr id="1191" name=""/>
            <p:cNvSpPr/>
            <p:nvPr/>
          </p:nvSpPr>
          <p:spPr>
            <a:xfrm>
              <a:off x="5248440" y="4125960"/>
              <a:ext cx="1440" cy="17589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76720" y="591336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4498920" y="2916360"/>
            <a:ext cx="10256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6040" y="1052640"/>
            <a:ext cx="2332080" cy="99540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95760" y="113040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xpans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neta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722520" y="-6253920"/>
            <a:ext cx="5493240" cy="12520800"/>
            <a:chOff x="722520" y="-6253920"/>
            <a:chExt cx="5493240" cy="12520800"/>
          </a:xfrm>
        </p:grpSpPr>
        <p:sp>
          <p:nvSpPr>
            <p:cNvPr id="1197" name=""/>
            <p:cNvSpPr/>
            <p:nvPr/>
          </p:nvSpPr>
          <p:spPr>
            <a:xfrm>
              <a:off x="722520" y="-6253920"/>
              <a:ext cx="5180760" cy="1252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36" y="12673"/>
                  </a:moveTo>
                  <a:arcTo wR="10800" hR="10800" stAng="599330" swAng="3519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36" y="12673"/>
                  </a:moveTo>
                  <a:arcTo wR="10800" hR="10800" stAng="599330" swAng="3519545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594760" y="706320"/>
              <a:ext cx="6210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LM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5194440" y="4068720"/>
            <a:ext cx="102960" cy="10332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Monetarist analysis of fiscal and monetary polic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Fiscal and Monetary Policy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923760" y="2685600"/>
            <a:ext cx="7320240" cy="200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00"/>
                </a:solidFill>
                <a:latin typeface="Arial"/>
              </a:rPr>
              <a:t>Fiscal and Monetary Policy in the UK</a:t>
            </a:r>
            <a:endParaRPr b="1" lang="en-US" sz="51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57320" y="655560"/>
            <a:ext cx="3209760" cy="4082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073960" y="63036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2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4" name=""/>
          <p:cNvSpPr/>
          <p:nvPr/>
        </p:nvSpPr>
        <p:spPr>
          <a:xfrm>
            <a:off x="8593200" y="0"/>
            <a:ext cx="550800" cy="6543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057320" y="655560"/>
            <a:ext cx="3209760" cy="4082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073960" y="630360"/>
            <a:ext cx="107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8593200" y="0"/>
            <a:ext cx="550800" cy="6543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057320" y="655560"/>
            <a:ext cx="3209760" cy="7034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126800" y="630360"/>
            <a:ext cx="2022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286080" y="1135080"/>
            <a:ext cx="512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24280" y="41292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651960" y="4903920"/>
            <a:ext cx="7875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1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638440" y="6264360"/>
            <a:ext cx="201600" cy="128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0" y="12"/>
                </a:moveTo>
                <a:lnTo>
                  <a:pt x="34" y="70"/>
                </a:lnTo>
                <a:lnTo>
                  <a:pt x="81" y="0"/>
                </a:lnTo>
                <a:lnTo>
                  <a:pt x="12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47640" y="838080"/>
            <a:ext cx="785016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2471760" y="1316160"/>
            <a:ext cx="4179960" cy="458460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633760" y="738360"/>
            <a:ext cx="199800" cy="5662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2320" y="3798720"/>
            <a:ext cx="7875720" cy="0"/>
          </a:xfrm>
          <a:prstGeom prst="line">
            <a:avLst/>
          </a:prstGeom>
          <a:ln w="1260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651960" y="4916520"/>
            <a:ext cx="78757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651960" y="4903920"/>
            <a:ext cx="7875720" cy="0"/>
          </a:xfrm>
          <a:prstGeom prst="line">
            <a:avLst/>
          </a:prstGeom>
          <a:ln w="12600">
            <a:solidFill>
              <a:srgbClr val="00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057320" y="655560"/>
            <a:ext cx="3209760" cy="95904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26800" y="630360"/>
            <a:ext cx="2022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f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292560" y="835200"/>
            <a:ext cx="51264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86080" y="1135080"/>
            <a:ext cx="512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289320" y="1441440"/>
            <a:ext cx="512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37400" y="40464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324280" y="412920"/>
            <a:ext cx="4334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0" y="447840"/>
          <a:ext cx="9142560" cy="641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7840"/>
                    <a:ext cx="914256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4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UK growth, unemployment and inflation: 1920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002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0" y="1830240"/>
            <a:ext cx="9144000" cy="398016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0" y="0"/>
            <a:ext cx="9144000" cy="64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33cc"/>
            </a:solidFill>
            <a:miter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UK Macroeconomic performance: 1921 –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200480" y="1574640"/>
            <a:ext cx="4943520" cy="463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51:39Z</dcterms:created>
  <dc:creator>John Sloman</dc:creator>
  <dc:description/>
  <dc:language>en-US</dc:language>
  <cp:lastModifiedBy>John Sloman</cp:lastModifiedBy>
  <cp:lastPrinted>2000-11-29T16:58:37Z</cp:lastPrinted>
  <dcterms:modified xsi:type="dcterms:W3CDTF">2002-12-01T11:27:59Z</dcterms:modified>
  <cp:revision>89</cp:revision>
  <dc:subject/>
  <dc:title>Promoting active learning</dc:title>
</cp:coreProperties>
</file>