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33.wmf" ContentType="image/x-wmf"/>
  <Override PartName="/ppt/media/image13.png" ContentType="image/png"/>
  <Override PartName="/ppt/media/image7.jpeg" ContentType="image/jpeg"/>
  <Override PartName="/ppt/media/image23.wmf" ContentType="image/x-wmf"/>
  <Override PartName="/ppt/media/image28.jpeg" ContentType="image/jpeg"/>
  <Override PartName="/ppt/media/image34.wmf" ContentType="image/x-wmf"/>
  <Override PartName="/ppt/media/image3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6C7-88F2-483A-87AE-F4534524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47C-8AE9-4119-8CF6-14E57F04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076-5451-45FE-83A3-252B1221A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4B1F-1C51-4EDE-B53E-278D69DC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5A2-E006-4E01-B1C3-B4621463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DAF4-72FF-4D92-B7F1-3DB83D2D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1F29-C38C-4816-83CC-E05ADDFB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1DD-CD32-4EBD-9D0C-3E61C894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4F8-3E50-4C5D-8EF5-2B9B66F7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74D-5AAF-4246-9518-A7F792D8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04FB-6E35-4693-BE1D-A7964E71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611-4D7E-4816-93CA-698C58EC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811-535F-4262-9B0B-31A374A5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F8C-9AE8-4176-B71E-EF87190A4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CE5B-BFF5-4EE7-AFAD-606C4BF3D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61E-AA27-49D7-BF7D-52CEF17D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A540-9823-40F7-8CAA-03F186CAF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BAB9-A920-4C9E-A469-9079A671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8531-CBB5-44C7-B36A-C0A271F9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2CB3-1B0E-4700-83EF-CC9938D8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F03E-2AE7-4C6D-ADCD-D4692DEC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A000-E3A5-4F58-AC4F-6A3DFF3C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293-AF04-4E96-929D-98F600DA5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912-6E69-48EB-90B2-9A43534E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738-A67C-4D33-AC2A-1933E6E2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F7B4-D8ED-4080-96D2-8E2E2333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C42-1D43-4CC2-9BA8-71AF21996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1FE-AF8E-4E15-A01B-BE6F0EEE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7CD5-8FF5-449E-82A0-02C70B966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D4A-08D4-4106-8B2D-AA6ABE0D6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3111-A164-4CC6-9C77-E4FF0A4A0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603-B846-46EC-8F5D-A1C4CD9B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01C-02DF-4B61-8F99-DFE0F402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697-7F6A-4198-ABCF-D91CF6B5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29B2-DA12-46CB-AF3D-3339621B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9A8-5458-49E1-9321-460689ED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FF9-E491-4E68-8032-BA5BD132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275-378E-4514-969F-986004B2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353-F76D-454C-8A33-72868A6B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FC7-83CB-41BC-9E64-CFFAF8B15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07B-BC0E-41B3-A95A-1C1CEC908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809-F900-4346-9248-19EBDADA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8FF-9D35-44D8-B9F6-A1A351387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2420-95F9-4B5A-B9EB-01609FF6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755-5638-4A68-A0D9-8A47C78C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D2C-672B-45D7-92EA-F3B17CA8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8100-1F98-47FA-8847-DE2A68D2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929-CA59-4B67-B42D-51BFF5DA0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55A-7645-41D3-A488-CD2D9A51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9A1-13F2-4D1C-864D-C0288D5FD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8FA-2B6E-4482-B99D-F73A7ABC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771-0CEA-49EF-8131-BBC15F47F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818-3BB7-44AF-9628-A65AF02B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8CC-B5B6-4BA2-ABFC-4DEF3EB4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88E5-1C60-4347-8307-D9758E7C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46C4-3FAB-4932-A1F0-F35ABD1A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1837-40E0-4576-9863-EAF97866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47F8-B0D7-445C-8B84-3D0C4AF6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736-9C1E-4B34-AA9F-44B6865E2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E7B-7687-4791-8E76-2FBC2D63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24C8-7455-42F5-8BA0-BFF273BCD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3A4-6EA7-4C0A-8BD0-142E666B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4CF-97CB-4728-822C-B40D3C66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0738-D5E4-4CCF-A094-EC662430E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0A9-D09E-4984-9733-D72DAD80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FE2-62ED-423C-A2C1-4E3AD3648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5A6E-B48D-4ABE-94BA-1C3DEF38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4A6-28AF-4C7F-90CE-C772C24D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9FDC-5A46-41EB-86EC-3D36636C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105-B798-4BEF-BF26-D0F21EE3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3604-E9E7-4DF1-AA4D-56DD64E4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B5D1-5FDA-484C-B49C-77035B64C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BB48-AD5E-438C-96E5-7A55FB077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E13-AA4B-4FA9-BDAE-0E56195E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15F-AF02-4903-B553-FBA2EDB6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564-FCE9-4AD5-BC4C-3E78D4B95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13B-5CF4-4AA4-911C-18AA0980E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670-CDFC-4EEB-BE0A-7B997A73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D1C-A8BF-45C4-BF48-A79F1558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0FD5-6B78-49E5-8772-5DFF0AFF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9798-1311-459B-8471-C7A1B2BB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E55-7EF3-4B56-9366-885F54746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BDB6-016E-4F50-991E-07E8BD58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D709-DA3E-45FB-B43E-43A03B9D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3C7-0350-4BAD-9C9A-8B4831CCB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41D-0E23-4E1C-AB33-2B64AEEB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049-CA45-4441-ADDE-9E95887C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A5B-10E5-437D-AA60-62F0F786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BB2-1A27-4735-A8F4-1A60783D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613-2FE6-4091-A414-46818449F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73D-67CC-406C-99EE-9CB1D4A0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5DD-B0D0-4367-B34F-DD95BA60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EBAE-14A3-4075-B999-25DD9EA8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B39-4244-4704-A638-02A2F479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677-B741-4057-902B-613C41764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054-1EA0-4314-B151-5BF8DA0B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6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62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lvl="2" marL="886680" algn="ctr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330200" algn="ctr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77372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114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116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117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118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119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120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Fiscal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Monetary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3840" y="793800"/>
            <a:ext cx="4610160" cy="530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34080" y="1574640"/>
            <a:ext cx="25099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ttitudes towards demand managemen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Keynesian demand management in the 1950s and 196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op–go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ist criticism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emise of fine tuning in the 197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causes of stag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emand management policies in the 197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ise of monetaris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444600"/>
            <a:ext cx="8229600" cy="637524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elected monetary indicators: 1969–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774360" y="1268280"/>
            <a:ext cx="7970760" cy="51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ism in the early 198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dium-term financial strateg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ecession of the early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ssessment of the monetarist experimen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turn to discretion in mid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argeting the exchange rat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ts advantages and disadvantag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adowing the German mark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mbership of the ERM (1990–2)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xit from the ER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774360" y="130608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Return to domestic-orientated polici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rgeting inflation: 1993–7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olicies of the Labour government 1997</a:t>
            </a:r>
            <a:r>
              <a:rPr b="1" lang="en-US" sz="3100" spc="-1" strike="noStrike">
                <a:solidFill>
                  <a:srgbClr val="006600"/>
                </a:solidFill>
                <a:latin typeface="Arial Special G2"/>
                <a:ea typeface="Arial Special G2"/>
              </a:rPr>
              <a:t>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'Golden Rule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ison with EU Stability and Growth Pac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ank of England inflation targ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CB targe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recent monetary and fiscal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Rules versus Discretion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ver-corre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vernment may ignore long-term consequenc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elp to reduce inflationary expect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eate a stable environment for investment and economic growth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an cause severe fluctuations in interest rates and can cause greater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nstabil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which rule to choose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conflic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become unsuitabl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 can be improved by better forecasting and quicker-a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2830680"/>
            <a:ext cx="9144000" cy="40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932280"/>
            <a:ext cx="914400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992840"/>
            <a:ext cx="9144000" cy="18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7677720" y="661356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ource: Bank of 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oice of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what level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central point or ceiling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99160" y="987480"/>
            <a:ext cx="3444840" cy="5819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546360" y="4013280"/>
            <a:ext cx="446040" cy="2345760"/>
            <a:chOff x="3546360" y="4013280"/>
            <a:chExt cx="446040" cy="2345760"/>
          </a:xfrm>
        </p:grpSpPr>
        <p:sp>
          <p:nvSpPr>
            <p:cNvPr id="1338" name=""/>
            <p:cNvSpPr/>
            <p:nvPr/>
          </p:nvSpPr>
          <p:spPr>
            <a:xfrm>
              <a:off x="3546360" y="591984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70280" y="4013280"/>
              <a:ext cx="0" cy="18604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811440" y="-2097000"/>
            <a:ext cx="16671240" cy="7065000"/>
            <a:chOff x="811440" y="-2097000"/>
            <a:chExt cx="16671240" cy="7065000"/>
          </a:xfrm>
        </p:grpSpPr>
        <p:sp>
          <p:nvSpPr>
            <p:cNvPr id="1346" name=""/>
            <p:cNvSpPr/>
            <p:nvPr/>
          </p:nvSpPr>
          <p:spPr>
            <a:xfrm>
              <a:off x="811440" y="-2097000"/>
              <a:ext cx="16671240" cy="692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22" y="21209"/>
                  </a:moveTo>
                  <a:arcTo wR="10800" hR="10800" stAng="6327347" swAng="3353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7922" y="21209"/>
                  </a:moveTo>
                  <a:arcTo wR="10800" hR="10800" stAng="6327347" swAng="3353541"/>
                </a:path>
              </a:pathLst>
            </a:custGeom>
            <a:noFill/>
            <a:ln cap="rnd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04080" y="4459320"/>
              <a:ext cx="853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80"/>
                  </a:solidFill>
                  <a:latin typeface="Times New Roman"/>
                </a:rPr>
                <a:t>ADI</a:t>
              </a:r>
              <a:r>
                <a:rPr b="0" lang="en-US" sz="2400" spc="-1" strike="noStrike" baseline="-25000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49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52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622680" y="3538440"/>
            <a:ext cx="336240" cy="525600"/>
            <a:chOff x="3622680" y="3538440"/>
            <a:chExt cx="336240" cy="525600"/>
          </a:xfrm>
        </p:grpSpPr>
        <p:sp>
          <p:nvSpPr>
            <p:cNvPr id="1356" name=""/>
            <p:cNvSpPr/>
            <p:nvPr/>
          </p:nvSpPr>
          <p:spPr>
            <a:xfrm>
              <a:off x="3708360" y="393696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22680" y="35384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1676160" y="3070080"/>
            <a:ext cx="436680" cy="3288960"/>
            <a:chOff x="1676160" y="3070080"/>
            <a:chExt cx="436680" cy="3288960"/>
          </a:xfrm>
        </p:grpSpPr>
        <p:sp>
          <p:nvSpPr>
            <p:cNvPr id="1359" name=""/>
            <p:cNvSpPr/>
            <p:nvPr/>
          </p:nvSpPr>
          <p:spPr>
            <a:xfrm>
              <a:off x="1895400" y="3070080"/>
              <a:ext cx="0" cy="2803680"/>
            </a:xfrm>
            <a:prstGeom prst="line">
              <a:avLst/>
            </a:prstGeom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7616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076560" y="776160"/>
            <a:ext cx="4637160" cy="7455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806400" y="2379600"/>
            <a:ext cx="1114560" cy="878760"/>
            <a:chOff x="806400" y="2379600"/>
            <a:chExt cx="1114560" cy="878760"/>
          </a:xfrm>
        </p:grpSpPr>
        <p:sp>
          <p:nvSpPr>
            <p:cNvPr id="1363" name=""/>
            <p:cNvSpPr/>
            <p:nvPr/>
          </p:nvSpPr>
          <p:spPr>
            <a:xfrm>
              <a:off x="1228680" y="3070080"/>
              <a:ext cx="69228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806400" y="2379600"/>
              <a:ext cx="777960" cy="878760"/>
              <a:chOff x="806400" y="2379600"/>
              <a:chExt cx="777960" cy="878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806400" y="2836800"/>
                <a:ext cx="7779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20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i="1" sz="2000" spc="-1" strike="noStrike" baseline="-18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79840" y="2379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4000" spc="-1" strike="noStrike">
                    <a:solidFill>
                      <a:srgbClr val="660066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7" name=""/>
          <p:cNvGrpSpPr/>
          <p:nvPr/>
        </p:nvGrpSpPr>
        <p:grpSpPr>
          <a:xfrm>
            <a:off x="1789200" y="2666880"/>
            <a:ext cx="336240" cy="473040"/>
            <a:chOff x="1789200" y="2666880"/>
            <a:chExt cx="336240" cy="473040"/>
          </a:xfrm>
        </p:grpSpPr>
        <p:sp>
          <p:nvSpPr>
            <p:cNvPr id="1368" name=""/>
            <p:cNvSpPr/>
            <p:nvPr/>
          </p:nvSpPr>
          <p:spPr>
            <a:xfrm>
              <a:off x="1789200" y="2666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49320" y="3013200"/>
              <a:ext cx="127080" cy="1267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95400" y="3073320"/>
            <a:ext cx="124308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00200" y="-4697280"/>
            <a:ext cx="9528480" cy="10366920"/>
            <a:chOff x="2500200" y="-4697280"/>
            <a:chExt cx="9528480" cy="10366920"/>
          </a:xfrm>
        </p:grpSpPr>
        <p:sp>
          <p:nvSpPr>
            <p:cNvPr id="1373" name=""/>
            <p:cNvSpPr/>
            <p:nvPr/>
          </p:nvSpPr>
          <p:spPr>
            <a:xfrm>
              <a:off x="2500200" y="-4697280"/>
              <a:ext cx="9528480" cy="103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2" y="20887"/>
                  </a:moveTo>
                  <a:arcTo wR="10800" hR="10800" stAng="6655724" swAng="326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2" y="20887"/>
                  </a:moveTo>
                  <a:arcTo wR="10800" hR="10800" stAng="6655724" swAng="3266646"/>
                </a:path>
              </a:pathLst>
            </a:custGeom>
            <a:noFill/>
            <a:ln cap="rnd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70640" y="5160960"/>
              <a:ext cx="831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Times New Roman"/>
                </a:rPr>
                <a:t>ADI</a:t>
              </a:r>
              <a:r>
                <a:rPr b="0" i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546360" y="591984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70280" y="4013280"/>
            <a:ext cx="0" cy="1860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1440" y="-2097000"/>
            <a:ext cx="16671240" cy="69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22" y="21209"/>
                </a:moveTo>
                <a:arcTo wR="10800" hR="10800" stAng="6327347" swAng="3353541"/>
                <a:lnTo>
                  <a:pt x="10800" y="10800"/>
                </a:lnTo>
                <a:close/>
              </a:path>
              <a:path fill="none" w="21600" h="21600">
                <a:moveTo>
                  <a:pt x="7922" y="21209"/>
                </a:moveTo>
                <a:arcTo wR="10800" hR="10800" stAng="6327347" swAng="3353541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4080" y="4459320"/>
            <a:ext cx="853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ADI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85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88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708360" y="39369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22680" y="35384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228680" y="3070080"/>
            <a:ext cx="66672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95400" y="3070080"/>
            <a:ext cx="0" cy="28036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905200" y="3070080"/>
            <a:ext cx="436680" cy="3288960"/>
            <a:chOff x="2905200" y="3070080"/>
            <a:chExt cx="436680" cy="3288960"/>
          </a:xfrm>
        </p:grpSpPr>
        <p:sp>
          <p:nvSpPr>
            <p:cNvPr id="1395" name=""/>
            <p:cNvSpPr/>
            <p:nvPr/>
          </p:nvSpPr>
          <p:spPr>
            <a:xfrm>
              <a:off x="3124080" y="3070080"/>
              <a:ext cx="0" cy="280368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0520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676160" y="59198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789200" y="26668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076560" y="2678040"/>
            <a:ext cx="320760" cy="451080"/>
            <a:chOff x="3076560" y="2678040"/>
            <a:chExt cx="320760" cy="451080"/>
          </a:xfrm>
        </p:grpSpPr>
        <p:sp>
          <p:nvSpPr>
            <p:cNvPr id="1400" name=""/>
            <p:cNvSpPr/>
            <p:nvPr/>
          </p:nvSpPr>
          <p:spPr>
            <a:xfrm>
              <a:off x="3076560" y="26780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078000" y="3002040"/>
              <a:ext cx="127080" cy="1270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49320" y="3013200"/>
            <a:ext cx="127080" cy="1267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75120" y="776160"/>
            <a:ext cx="5713200" cy="14763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 based on Taylor rule giving rel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 weight to stable real 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806400" y="2379600"/>
            <a:ext cx="777960" cy="878760"/>
            <a:chOff x="806400" y="2379600"/>
            <a:chExt cx="777960" cy="878760"/>
          </a:xfrm>
        </p:grpSpPr>
        <p:sp>
          <p:nvSpPr>
            <p:cNvPr id="1405" name=""/>
            <p:cNvSpPr/>
            <p:nvPr/>
          </p:nvSpPr>
          <p:spPr>
            <a:xfrm>
              <a:off x="806400" y="283680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9840" y="23796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the problem of de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national debt and public-sector deb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Nature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93640" y="44928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915320" y="115236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720" y="541440"/>
            <a:ext cx="727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,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044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8593560" y="-5985720"/>
            <a:ext cx="17431560" cy="11971440"/>
            <a:chOff x="-8593560" y="-5985720"/>
            <a:chExt cx="17431560" cy="11971440"/>
          </a:xfrm>
        </p:grpSpPr>
        <p:sp>
          <p:nvSpPr>
            <p:cNvPr id="283" name=""/>
            <p:cNvSpPr/>
            <p:nvPr/>
          </p:nvSpPr>
          <p:spPr>
            <a:xfrm>
              <a:off x="-8593560" y="-5985720"/>
              <a:ext cx="17431560" cy="1197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7" y="16016"/>
                  </a:moveTo>
                  <a:arcTo wR="10800" hR="10800" stAng="1732587" swAng="3161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7" y="16016"/>
                  </a:moveTo>
                  <a:arcTo wR="10800" hR="10800" stAng="1732587" swAng="316157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2840" y="2495520"/>
              <a:ext cx="160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ax reve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60" y="1392120"/>
            <a:ext cx="15806520" cy="4442760"/>
            <a:chOff x="2160" y="1392120"/>
            <a:chExt cx="15806520" cy="4442760"/>
          </a:xfrm>
        </p:grpSpPr>
        <p:sp>
          <p:nvSpPr>
            <p:cNvPr id="286" name=""/>
            <p:cNvSpPr/>
            <p:nvPr/>
          </p:nvSpPr>
          <p:spPr>
            <a:xfrm>
              <a:off x="2160" y="1392120"/>
              <a:ext cx="15806520" cy="374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757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75762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440" y="5132520"/>
              <a:ext cx="2125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Gov. expend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(incl. benef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665600" y="4946760"/>
            <a:ext cx="436680" cy="1467720"/>
            <a:chOff x="4665600" y="4946760"/>
            <a:chExt cx="436680" cy="1467720"/>
          </a:xfrm>
        </p:grpSpPr>
        <p:sp>
          <p:nvSpPr>
            <p:cNvPr id="289" name=""/>
            <p:cNvSpPr/>
            <p:nvPr/>
          </p:nvSpPr>
          <p:spPr>
            <a:xfrm>
              <a:off x="4896000" y="5022720"/>
              <a:ext cx="4680" cy="9162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5600" y="597528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44880" y="4946760"/>
              <a:ext cx="103320" cy="10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61680" y="497664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5960" y="4317840"/>
            <a:ext cx="163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National income and the size of the public-sector deficit or surplu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388620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191120"/>
            <a:ext cx="1219320" cy="60948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92920" y="467820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2560" y="459252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4952880"/>
            <a:ext cx="1219320" cy="60984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0120" y="544032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Effectiveness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2689200"/>
            <a:ext cx="9144000" cy="416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9840" y="2195640"/>
            <a:ext cx="2301840" cy="92052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04240" y="2328840"/>
            <a:ext cx="2307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ffect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demand for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902120" y="3502080"/>
            <a:ext cx="109872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665760" y="2176560"/>
            <a:ext cx="2159280" cy="1062000"/>
            <a:chOff x="6665760" y="2176560"/>
            <a:chExt cx="2159280" cy="1062000"/>
          </a:xfrm>
        </p:grpSpPr>
        <p:sp>
          <p:nvSpPr>
            <p:cNvPr id="564" name=""/>
            <p:cNvSpPr/>
            <p:nvPr/>
          </p:nvSpPr>
          <p:spPr>
            <a:xfrm>
              <a:off x="6665760" y="2176560"/>
              <a:ext cx="2159280" cy="106200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2960" y="2217600"/>
              <a:ext cx="2010960" cy="100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Accommod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crea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money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018120" y="3502080"/>
            <a:ext cx="4953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18160" y="1895400"/>
            <a:ext cx="0" cy="2820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30880" y="1509840"/>
            <a:ext cx="57816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46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64160" y="3446640"/>
            <a:ext cx="10188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ize of the multiplier and accelerator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501920" y="870120"/>
            <a:ext cx="4365360" cy="519120"/>
            <a:chOff x="1501920" y="870120"/>
            <a:chExt cx="4365360" cy="519120"/>
          </a:xfrm>
        </p:grpSpPr>
        <p:sp>
          <p:nvSpPr>
            <p:cNvPr id="605" name=""/>
            <p:cNvSpPr/>
            <p:nvPr/>
          </p:nvSpPr>
          <p:spPr>
            <a:xfrm>
              <a:off x="1501920" y="870120"/>
              <a:ext cx="4365360" cy="51912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79400" y="1138320"/>
              <a:ext cx="8049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0040" y="938160"/>
              <a:ext cx="290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Path (a): no inter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01920" y="870120"/>
            <a:ext cx="4365360" cy="923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697040" y="1309680"/>
            <a:ext cx="3863880" cy="397440"/>
            <a:chOff x="1697040" y="1309680"/>
            <a:chExt cx="3863880" cy="397440"/>
          </a:xfrm>
        </p:grpSpPr>
        <p:sp>
          <p:nvSpPr>
            <p:cNvPr id="638" name=""/>
            <p:cNvSpPr/>
            <p:nvPr/>
          </p:nvSpPr>
          <p:spPr>
            <a:xfrm>
              <a:off x="1697040" y="1487520"/>
              <a:ext cx="8175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59600" y="1309680"/>
              <a:ext cx="300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Path (b): policy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01920" y="870120"/>
            <a:ext cx="4365360" cy="12524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1487520"/>
            <a:ext cx="1574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0995" swAng="747038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0995" swAng="7470382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0200" y="231300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56280" y="-219960"/>
            <a:ext cx="1491120" cy="54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8"/>
                </a:moveTo>
                <a:arcTo wR="10800" hR="10800" stAng="1020190" swAng="7992895"/>
                <a:lnTo>
                  <a:pt x="10800" y="10800"/>
                </a:lnTo>
                <a:close/>
              </a:path>
              <a:path fill="none" w="21600" h="21600">
                <a:moveTo>
                  <a:pt x="21128" y="13958"/>
                </a:moveTo>
                <a:arcTo wR="10800" hR="10800" stAng="1020190" swAng="7992895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92680" y="136512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85400" y="-587160"/>
            <a:ext cx="157752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4" y="21466"/>
                </a:moveTo>
                <a:arcTo wR="10800" hR="10800" stAng="5942236" swAng="2549141"/>
                <a:lnTo>
                  <a:pt x="10800" y="10800"/>
                </a:lnTo>
                <a:close/>
              </a:path>
              <a:path fill="none" w="21600" h="21600">
                <a:moveTo>
                  <a:pt x="9104" y="21466"/>
                </a:moveTo>
                <a:arcTo wR="10800" hR="10800" stAng="5942236" swAng="2549141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487520"/>
            <a:ext cx="81756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97040" y="1646280"/>
            <a:ext cx="4139280" cy="397440"/>
            <a:chOff x="1697040" y="1646280"/>
            <a:chExt cx="4139280" cy="397440"/>
          </a:xfrm>
        </p:grpSpPr>
        <p:sp>
          <p:nvSpPr>
            <p:cNvPr id="667" name=""/>
            <p:cNvSpPr/>
            <p:nvPr/>
          </p:nvSpPr>
          <p:spPr>
            <a:xfrm flipV="1">
              <a:off x="1697040" y="1835280"/>
              <a:ext cx="817560" cy="1440"/>
            </a:xfrm>
            <a:prstGeom prst="line">
              <a:avLst/>
            </a:prstGeom>
            <a:ln w="28440">
              <a:solidFill>
                <a:srgbClr val="a5002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65000" y="1646280"/>
              <a:ext cx="32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Path (c): policy de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59600" y="1309680"/>
            <a:ext cx="300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th (b): policy stabil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111560"/>
            <a:ext cx="9144000" cy="27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hanging government expenditure versus changing tax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Varietie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istorical approaches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urrent approach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ontrol of money supply over medium and long term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ntrol of banks’ liquidity ratio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stricting size of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hort-term monetary control: the alternativ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70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802160" y="-4723920"/>
            <a:ext cx="11791080" cy="10314720"/>
            <a:chOff x="1802160" y="-4723920"/>
            <a:chExt cx="11791080" cy="10314720"/>
          </a:xfrm>
        </p:grpSpPr>
        <p:sp>
          <p:nvSpPr>
            <p:cNvPr id="70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7880" y="51325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70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71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27880" y="51325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73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73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73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i="1" lang="en-US" sz="28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4635360"/>
          <a:ext cx="914400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635360"/>
                    <a:ext cx="91440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409572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position: 2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532480"/>
            <a:ext cx="9144000" cy="13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129120" y="1096920"/>
            <a:ext cx="1677240" cy="4846320"/>
            <a:chOff x="3129120" y="1096920"/>
            <a:chExt cx="1677240" cy="4846320"/>
          </a:xfrm>
        </p:grpSpPr>
        <p:sp>
          <p:nvSpPr>
            <p:cNvPr id="780" name=""/>
            <p:cNvSpPr/>
            <p:nvPr/>
          </p:nvSpPr>
          <p:spPr>
            <a:xfrm flipV="1">
              <a:off x="3886200" y="1523520"/>
              <a:ext cx="0" cy="44197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120" y="109692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81480" y="4400640"/>
            <a:ext cx="3222360" cy="439200"/>
            <a:chOff x="681480" y="4400640"/>
            <a:chExt cx="3222360" cy="439200"/>
          </a:xfrm>
        </p:grpSpPr>
        <p:sp>
          <p:nvSpPr>
            <p:cNvPr id="783" name=""/>
            <p:cNvSpPr/>
            <p:nvPr/>
          </p:nvSpPr>
          <p:spPr>
            <a:xfrm flipH="1">
              <a:off x="1084320" y="4633920"/>
              <a:ext cx="281952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480" y="4400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-7537320" y="-3975840"/>
            <a:ext cx="16331040" cy="11475720"/>
            <a:chOff x="-7537320" y="-3975840"/>
            <a:chExt cx="16331040" cy="11475720"/>
          </a:xfrm>
        </p:grpSpPr>
        <p:sp>
          <p:nvSpPr>
            <p:cNvPr id="786" name=""/>
            <p:cNvSpPr/>
            <p:nvPr/>
          </p:nvSpPr>
          <p:spPr>
            <a:xfrm rot="20640000">
              <a:off x="-6762240" y="-2087640"/>
              <a:ext cx="1478160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1" y="16220"/>
                  </a:moveTo>
                  <a:arcTo wR="10800" hR="10800" stAng="1807450" swAng="3592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1" y="16220"/>
                  </a:moveTo>
                  <a:arcTo wR="10800" hR="10800" stAng="1807450" swAng="359255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72320" y="1332000"/>
              <a:ext cx="220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681480" y="3392640"/>
            <a:ext cx="4915800" cy="439200"/>
            <a:chOff x="681480" y="3392640"/>
            <a:chExt cx="4915800" cy="439200"/>
          </a:xfrm>
        </p:grpSpPr>
        <p:sp>
          <p:nvSpPr>
            <p:cNvPr id="791" name=""/>
            <p:cNvSpPr/>
            <p:nvPr/>
          </p:nvSpPr>
          <p:spPr>
            <a:xfrm flipH="1">
              <a:off x="1091880" y="3625920"/>
              <a:ext cx="45054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1480" y="3392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0640000">
            <a:off x="-6762240" y="-2087640"/>
            <a:ext cx="1478160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1" y="16220"/>
                </a:moveTo>
                <a:arcTo wR="10800" hR="10800" stAng="1807450" swAng="3592550"/>
                <a:lnTo>
                  <a:pt x="10800" y="10800"/>
                </a:lnTo>
                <a:close/>
              </a:path>
              <a:path fill="none" w="21600" h="21600">
                <a:moveTo>
                  <a:pt x="20141" y="16220"/>
                </a:moveTo>
                <a:arcTo wR="10800" hR="10800" stAng="1807450" swAng="359255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886200" y="1523520"/>
            <a:ext cx="0" cy="44197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9120" y="1096920"/>
            <a:ext cx="167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893120" y="1305000"/>
            <a:ext cx="1677240" cy="4589280"/>
            <a:chOff x="4893120" y="1305000"/>
            <a:chExt cx="1677240" cy="4589280"/>
          </a:xfrm>
        </p:grpSpPr>
        <p:sp>
          <p:nvSpPr>
            <p:cNvPr id="803" name=""/>
            <p:cNvSpPr/>
            <p:nvPr/>
          </p:nvSpPr>
          <p:spPr>
            <a:xfrm flipV="1">
              <a:off x="5595840" y="1725480"/>
              <a:ext cx="0" cy="4168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93120" y="130500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545080" y="356220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22640" y="2787480"/>
            <a:ext cx="1263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36640" y="3868560"/>
            <a:ext cx="0" cy="495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2320" y="1332000"/>
            <a:ext cx="220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084320" y="4633920"/>
            <a:ext cx="281952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1480" y="44006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3000" y="-3975480"/>
            <a:ext cx="16330320" cy="11475360"/>
            <a:chOff x="603000" y="-3975480"/>
            <a:chExt cx="16330320" cy="11475360"/>
          </a:xfrm>
        </p:grpSpPr>
        <p:sp>
          <p:nvSpPr>
            <p:cNvPr id="815" name=""/>
            <p:cNvSpPr/>
            <p:nvPr/>
          </p:nvSpPr>
          <p:spPr>
            <a:xfrm rot="960000">
              <a:off x="1377720" y="-2087280"/>
              <a:ext cx="1478088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92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92920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56120" y="4726080"/>
              <a:ext cx="220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255920" y="1122480"/>
            <a:ext cx="1692360" cy="4809600"/>
            <a:chOff x="4255920" y="1122480"/>
            <a:chExt cx="1692360" cy="4809600"/>
          </a:xfrm>
        </p:grpSpPr>
        <p:sp>
          <p:nvSpPr>
            <p:cNvPr id="825" name=""/>
            <p:cNvSpPr/>
            <p:nvPr/>
          </p:nvSpPr>
          <p:spPr>
            <a:xfrm flipV="1">
              <a:off x="4967280" y="1512720"/>
              <a:ext cx="0" cy="441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55920" y="11224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54560" y="4125960"/>
            <a:ext cx="4211280" cy="439200"/>
            <a:chOff x="754560" y="4125960"/>
            <a:chExt cx="4211280" cy="439200"/>
          </a:xfrm>
        </p:grpSpPr>
        <p:sp>
          <p:nvSpPr>
            <p:cNvPr id="828" name=""/>
            <p:cNvSpPr/>
            <p:nvPr/>
          </p:nvSpPr>
          <p:spPr>
            <a:xfrm flipH="1" flipV="1">
              <a:off x="1092240" y="4344840"/>
              <a:ext cx="3873600" cy="79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60" y="41259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916520" y="4295880"/>
            <a:ext cx="103320" cy="10296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960000">
            <a:off x="1377720" y="-2087280"/>
            <a:ext cx="1478088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59292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592920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967280" y="1512360"/>
            <a:ext cx="0" cy="4419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5920" y="1096920"/>
            <a:ext cx="16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1092240" y="4344840"/>
            <a:ext cx="3873600" cy="79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4560" y="412596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16520" y="428292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630160" y="1336680"/>
            <a:ext cx="1692360" cy="4588920"/>
            <a:chOff x="2630160" y="1336680"/>
            <a:chExt cx="1692360" cy="4588920"/>
          </a:xfrm>
        </p:grpSpPr>
        <p:sp>
          <p:nvSpPr>
            <p:cNvPr id="845" name=""/>
            <p:cNvSpPr/>
            <p:nvPr/>
          </p:nvSpPr>
          <p:spPr>
            <a:xfrm flipV="1">
              <a:off x="3403440" y="1703160"/>
              <a:ext cx="0" cy="422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30160" y="13366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H="1">
            <a:off x="3619440" y="2678040"/>
            <a:ext cx="130032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740160" y="3106800"/>
            <a:ext cx="2677680" cy="439200"/>
            <a:chOff x="740160" y="3106800"/>
            <a:chExt cx="2677680" cy="439200"/>
          </a:xfrm>
        </p:grpSpPr>
        <p:sp>
          <p:nvSpPr>
            <p:cNvPr id="849" name=""/>
            <p:cNvSpPr/>
            <p:nvPr/>
          </p:nvSpPr>
          <p:spPr>
            <a:xfrm flipH="1">
              <a:off x="1092240" y="3319560"/>
              <a:ext cx="232560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0160" y="3106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flipV="1">
            <a:off x="909720" y="3538080"/>
            <a:ext cx="0" cy="56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56120" y="4726080"/>
            <a:ext cx="220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3263760"/>
            <a:ext cx="103320" cy="1033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12800" y="1217520"/>
            <a:ext cx="8431200" cy="525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Problem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utomatic fiscal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desire to cut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fficulty in cutt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actical difficulties in short-run control of the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monetary base control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controlling broad liquid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effect on interest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66680" y="79056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79056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6680" y="612468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5200" y="60786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68560" y="645948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-552960" y="34833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397320" y="896760"/>
            <a:ext cx="549360" cy="5224320"/>
            <a:chOff x="3397320" y="896760"/>
            <a:chExt cx="549360" cy="5224320"/>
          </a:xfrm>
        </p:grpSpPr>
        <p:sp>
          <p:nvSpPr>
            <p:cNvPr id="876" name=""/>
            <p:cNvSpPr/>
            <p:nvPr/>
          </p:nvSpPr>
          <p:spPr>
            <a:xfrm flipV="1">
              <a:off x="3619440" y="1321920"/>
              <a:ext cx="0" cy="47991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97320" y="896760"/>
              <a:ext cx="549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792080" y="-5465160"/>
            <a:ext cx="13030560" cy="11561760"/>
            <a:chOff x="1792080" y="-5465160"/>
            <a:chExt cx="13030560" cy="11561760"/>
          </a:xfrm>
        </p:grpSpPr>
        <p:sp>
          <p:nvSpPr>
            <p:cNvPr id="879" name=""/>
            <p:cNvSpPr/>
            <p:nvPr/>
          </p:nvSpPr>
          <p:spPr>
            <a:xfrm>
              <a:off x="1792080" y="-5465160"/>
              <a:ext cx="13030560" cy="1153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8" y="21354"/>
                  </a:moveTo>
                  <a:arcTo wR="10800" hR="10800" stAng="6135230" swAng="4065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8" y="21354"/>
                  </a:moveTo>
                  <a:arcTo wR="10800" hR="10800" stAng="6135230" swAng="4065017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50880" y="5699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576600" y="4255920"/>
            <a:ext cx="103320" cy="1033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05600" y="4086360"/>
            <a:ext cx="2877480" cy="397440"/>
            <a:chOff x="705600" y="4086360"/>
            <a:chExt cx="2877480" cy="397440"/>
          </a:xfrm>
        </p:grpSpPr>
        <p:sp>
          <p:nvSpPr>
            <p:cNvPr id="883" name=""/>
            <p:cNvSpPr/>
            <p:nvPr/>
          </p:nvSpPr>
          <p:spPr>
            <a:xfrm flipH="1">
              <a:off x="1057320" y="4305240"/>
              <a:ext cx="252576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600" y="408636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795400" y="-5361840"/>
            <a:ext cx="12198960" cy="10888920"/>
            <a:chOff x="2795400" y="-5361840"/>
            <a:chExt cx="12198960" cy="10888920"/>
          </a:xfrm>
        </p:grpSpPr>
        <p:sp>
          <p:nvSpPr>
            <p:cNvPr id="886" name=""/>
            <p:cNvSpPr/>
            <p:nvPr/>
          </p:nvSpPr>
          <p:spPr>
            <a:xfrm>
              <a:off x="2795400" y="-5361840"/>
              <a:ext cx="12198960" cy="1076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6" y="21354"/>
                  </a:moveTo>
                  <a:arcTo wR="10800" hR="10800" stAng="6135886" swAng="4064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6" y="21354"/>
                  </a:moveTo>
                  <a:arcTo wR="10800" hR="10800" stAng="6135886" swAng="4064837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22280" y="5068800"/>
              <a:ext cx="43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L</a:t>
              </a:r>
              <a:r>
                <a:rPr b="0" i="1" lang="en-US" sz="12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568680" y="2668680"/>
            <a:ext cx="10332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14960" y="2498760"/>
            <a:ext cx="2872800" cy="439200"/>
            <a:chOff x="714960" y="2498760"/>
            <a:chExt cx="2872800" cy="439200"/>
          </a:xfrm>
        </p:grpSpPr>
        <p:sp>
          <p:nvSpPr>
            <p:cNvPr id="890" name=""/>
            <p:cNvSpPr/>
            <p:nvPr/>
          </p:nvSpPr>
          <p:spPr>
            <a:xfrm flipH="1">
              <a:off x="1062000" y="2717640"/>
              <a:ext cx="252576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960" y="24987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334040" y="4748040"/>
            <a:ext cx="12826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6640" y="2897280"/>
            <a:ext cx="0" cy="11365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71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effect on interest rates of a change in demand for money: money supply kept at fixed level by the authoritie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911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919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933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ssible conflict between domestic goals and exchange-rate go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of using it to manage aggregate deman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sing it to keep to a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f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change r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ney supply 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2368440"/>
            <a:ext cx="6502320" cy="30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Analysis of Fiscal and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 in both the goods and money marke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707400" y="3686040"/>
            <a:ext cx="3425040" cy="508680"/>
            <a:chOff x="707400" y="3686040"/>
            <a:chExt cx="3425040" cy="508680"/>
          </a:xfrm>
        </p:grpSpPr>
        <p:sp>
          <p:nvSpPr>
            <p:cNvPr id="965" name=""/>
            <p:cNvSpPr/>
            <p:nvPr/>
          </p:nvSpPr>
          <p:spPr>
            <a:xfrm>
              <a:off x="707400" y="3686040"/>
              <a:ext cx="369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074600" y="3924360"/>
              <a:ext cx="305784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938760" y="3941640"/>
            <a:ext cx="453240" cy="2488320"/>
            <a:chOff x="3938760" y="3941640"/>
            <a:chExt cx="453240" cy="2488320"/>
          </a:xfrm>
        </p:grpSpPr>
        <p:sp>
          <p:nvSpPr>
            <p:cNvPr id="968" name=""/>
            <p:cNvSpPr/>
            <p:nvPr/>
          </p:nvSpPr>
          <p:spPr>
            <a:xfrm>
              <a:off x="4146480" y="3941640"/>
              <a:ext cx="0" cy="19972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38760" y="5921280"/>
              <a:ext cx="45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345000" y="7398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8120" y="512640"/>
          <a:ext cx="8704440" cy="63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12640"/>
                    <a:ext cx="8704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1168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07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9268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1080" y="3179880"/>
            <a:ext cx="4235040" cy="439200"/>
            <a:chOff x="721080" y="3179880"/>
            <a:chExt cx="4235040" cy="439200"/>
          </a:xfrm>
        </p:grpSpPr>
        <p:sp>
          <p:nvSpPr>
            <p:cNvPr id="1010" name=""/>
            <p:cNvSpPr/>
            <p:nvPr/>
          </p:nvSpPr>
          <p:spPr>
            <a:xfrm flipH="1">
              <a:off x="1074600" y="3392640"/>
              <a:ext cx="388152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1080" y="31798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744800" y="3392640"/>
            <a:ext cx="436680" cy="2975760"/>
            <a:chOff x="4744800" y="3392640"/>
            <a:chExt cx="436680" cy="2975760"/>
          </a:xfrm>
        </p:grpSpPr>
        <p:sp>
          <p:nvSpPr>
            <p:cNvPr id="1013" name=""/>
            <p:cNvSpPr/>
            <p:nvPr/>
          </p:nvSpPr>
          <p:spPr>
            <a:xfrm>
              <a:off x="4956120" y="3392640"/>
              <a:ext cx="0" cy="252864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44800" y="5929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03680" y="1144440"/>
            <a:ext cx="208260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58040" y="122220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98880" y="333684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40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2880" y="4278240"/>
            <a:ext cx="4543920" cy="439200"/>
            <a:chOff x="722880" y="4278240"/>
            <a:chExt cx="4543920" cy="439200"/>
          </a:xfrm>
        </p:grpSpPr>
        <p:sp>
          <p:nvSpPr>
            <p:cNvPr id="1043" name=""/>
            <p:cNvSpPr/>
            <p:nvPr/>
          </p:nvSpPr>
          <p:spPr>
            <a:xfrm flipH="1">
              <a:off x="1091880" y="4491000"/>
              <a:ext cx="417492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880" y="42782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056200" y="4527720"/>
            <a:ext cx="436680" cy="1856520"/>
            <a:chOff x="5056200" y="4527720"/>
            <a:chExt cx="436680" cy="1856520"/>
          </a:xfrm>
        </p:grpSpPr>
        <p:sp>
          <p:nvSpPr>
            <p:cNvPr id="1046" name=""/>
            <p:cNvSpPr/>
            <p:nvPr/>
          </p:nvSpPr>
          <p:spPr>
            <a:xfrm>
              <a:off x="5230800" y="4527720"/>
              <a:ext cx="0" cy="141120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56200" y="5945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192640" y="443700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09960" y="1144440"/>
            <a:ext cx="243216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77640" y="12222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and monetary policy togethe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58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42932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75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032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4224240" y="3924360"/>
            <a:ext cx="18669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873760" y="3944880"/>
            <a:ext cx="436680" cy="2452320"/>
            <a:chOff x="5873760" y="3944880"/>
            <a:chExt cx="436680" cy="2452320"/>
          </a:xfrm>
        </p:grpSpPr>
        <p:sp>
          <p:nvSpPr>
            <p:cNvPr id="1079" name=""/>
            <p:cNvSpPr/>
            <p:nvPr/>
          </p:nvSpPr>
          <p:spPr>
            <a:xfrm>
              <a:off x="6083280" y="3944880"/>
              <a:ext cx="0" cy="198432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73760" y="59580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581280" y="719280"/>
            <a:ext cx="2330640" cy="13446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79480" y="797040"/>
            <a:ext cx="231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isc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35760" y="3887640"/>
            <a:ext cx="102960" cy="103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8782200" y="-2691720"/>
            <a:ext cx="1773576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0" y="16616"/>
                </a:moveTo>
                <a:arcTo wR="10800" hR="10800" stAng="1954903" swAng="2931581"/>
                <a:lnTo>
                  <a:pt x="10800" y="10800"/>
                </a:lnTo>
                <a:close/>
              </a:path>
              <a:path fill="none" w="21600" h="21600">
                <a:moveTo>
                  <a:pt x="19900" y="16616"/>
                </a:moveTo>
                <a:arcTo wR="10800" hR="10800" stAng="1954903" swAng="293158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519680" y="22939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63960" y="551196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816000" y="-4039200"/>
            <a:ext cx="10779120" cy="10546560"/>
            <a:chOff x="3816000" y="-4039200"/>
            <a:chExt cx="10779120" cy="10546560"/>
          </a:xfrm>
        </p:grpSpPr>
        <p:sp>
          <p:nvSpPr>
            <p:cNvPr id="1103" name=""/>
            <p:cNvSpPr/>
            <p:nvPr/>
          </p:nvSpPr>
          <p:spPr>
            <a:xfrm rot="600000">
              <a:off x="4531680" y="-3296160"/>
              <a:ext cx="9347400" cy="90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5" y="21082"/>
                  </a:moveTo>
                  <a:arcTo wR="10800" hR="10800" stAng="6469287" swAng="36751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5" y="21082"/>
                  </a:moveTo>
                  <a:arcTo wR="10800" hR="10800" stAng="6469287" swAng="3675175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18200" y="494820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5229360" y="35942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094360" y="3703680"/>
            <a:ext cx="436680" cy="2647440"/>
            <a:chOff x="5094360" y="3703680"/>
            <a:chExt cx="436680" cy="2647440"/>
          </a:xfrm>
        </p:grpSpPr>
        <p:sp>
          <p:nvSpPr>
            <p:cNvPr id="1107" name=""/>
            <p:cNvSpPr/>
            <p:nvPr/>
          </p:nvSpPr>
          <p:spPr>
            <a:xfrm>
              <a:off x="5272200" y="3703680"/>
              <a:ext cx="0" cy="221760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9436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208160" y="27018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26240" y="27795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21040" y="30639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8781840" y="-2691720"/>
            <a:ext cx="1773468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76" y="16654"/>
                </a:moveTo>
                <a:arcTo wR="10800" hR="10800" stAng="1969516" swAng="2916967"/>
                <a:lnTo>
                  <a:pt x="10800" y="10800"/>
                </a:lnTo>
                <a:close/>
              </a:path>
              <a:path fill="none" w="21600" h="21600">
                <a:moveTo>
                  <a:pt x="19876" y="16654"/>
                </a:moveTo>
                <a:arcTo wR="10800" hR="10800" stAng="1969516" swAng="291696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69280" y="229392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12560" y="551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7828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41800" y="4272120"/>
            <a:ext cx="436680" cy="2079000"/>
            <a:chOff x="4141800" y="4272120"/>
            <a:chExt cx="436680" cy="2079000"/>
          </a:xfrm>
        </p:grpSpPr>
        <p:sp>
          <p:nvSpPr>
            <p:cNvPr id="1131" name=""/>
            <p:cNvSpPr/>
            <p:nvPr/>
          </p:nvSpPr>
          <p:spPr>
            <a:xfrm>
              <a:off x="4276800" y="4272120"/>
              <a:ext cx="0" cy="16491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180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522680" y="1273320"/>
            <a:ext cx="2332080" cy="9950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3480" y="135108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-8111880" y="-2750400"/>
            <a:ext cx="18626760" cy="7132680"/>
            <a:chOff x="-8111880" y="-2750400"/>
            <a:chExt cx="18626760" cy="7132680"/>
          </a:xfrm>
        </p:grpSpPr>
        <p:sp>
          <p:nvSpPr>
            <p:cNvPr id="1136" name=""/>
            <p:cNvSpPr/>
            <p:nvPr/>
          </p:nvSpPr>
          <p:spPr>
            <a:xfrm>
              <a:off x="7512120" y="314316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8111880" y="-2750400"/>
              <a:ext cx="18626760" cy="713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01" y="18849"/>
                  </a:moveTo>
                  <a:arcTo wR="10800" hR="10800" stAng="2890777" swAng="2419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01" y="18849"/>
                  </a:moveTo>
                  <a:arcTo wR="10800" hR="10800" stAng="2890777" swAng="241953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5964120" y="35211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222800" y="412596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38120" y="509760"/>
          <a:ext cx="8704440" cy="63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09760"/>
                    <a:ext cx="87044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3120" y="6444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76920" y="422928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160880" y="3557520"/>
            <a:ext cx="436680" cy="2793600"/>
            <a:chOff x="4160880" y="3557520"/>
            <a:chExt cx="436680" cy="2793600"/>
          </a:xfrm>
        </p:grpSpPr>
        <p:sp>
          <p:nvSpPr>
            <p:cNvPr id="1163" name=""/>
            <p:cNvSpPr/>
            <p:nvPr/>
          </p:nvSpPr>
          <p:spPr>
            <a:xfrm>
              <a:off x="4276800" y="3557520"/>
              <a:ext cx="1440" cy="234468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6088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218200" y="20430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6280" y="21207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84360" y="32097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703160" y="-3490560"/>
            <a:ext cx="14289480" cy="8165880"/>
            <a:chOff x="1703160" y="-3490560"/>
            <a:chExt cx="14289480" cy="8165880"/>
          </a:xfrm>
        </p:grpSpPr>
        <p:sp>
          <p:nvSpPr>
            <p:cNvPr id="1169" name=""/>
            <p:cNvSpPr/>
            <p:nvPr/>
          </p:nvSpPr>
          <p:spPr>
            <a:xfrm>
              <a:off x="7567200" y="38149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21300000">
              <a:off x="1981800" y="-2905560"/>
              <a:ext cx="13731840" cy="69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23" y="21312"/>
                  </a:moveTo>
                  <a:arcTo wR="10800" hR="10800" stAng="6195666" swAng="3848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8323" y="21312"/>
                  </a:moveTo>
                  <a:arcTo wR="10800" hR="10800" stAng="6195666" swAng="38480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222800" y="34466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5920" y="64440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5520" y="4192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076720" y="4125960"/>
            <a:ext cx="436680" cy="2226600"/>
            <a:chOff x="5076720" y="4125960"/>
            <a:chExt cx="436680" cy="2226600"/>
          </a:xfrm>
        </p:grpSpPr>
        <p:sp>
          <p:nvSpPr>
            <p:cNvPr id="1191" name=""/>
            <p:cNvSpPr/>
            <p:nvPr/>
          </p:nvSpPr>
          <p:spPr>
            <a:xfrm>
              <a:off x="5248440" y="4125960"/>
              <a:ext cx="1440" cy="17589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76720" y="59133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4498920" y="29163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6040" y="1052640"/>
            <a:ext cx="233208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5760" y="11304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22520" y="-6253920"/>
            <a:ext cx="5493240" cy="12520800"/>
            <a:chOff x="722520" y="-6253920"/>
            <a:chExt cx="5493240" cy="12520800"/>
          </a:xfrm>
        </p:grpSpPr>
        <p:sp>
          <p:nvSpPr>
            <p:cNvPr id="1197" name=""/>
            <p:cNvSpPr/>
            <p:nvPr/>
          </p:nvSpPr>
          <p:spPr>
            <a:xfrm>
              <a:off x="722520" y="-6253920"/>
              <a:ext cx="5180760" cy="1252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6" y="12673"/>
                  </a:moveTo>
                  <a:arcTo wR="10800" hR="10800" stAng="599330" swAng="3519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6" y="12673"/>
                  </a:moveTo>
                  <a:arcTo wR="10800" hR="10800" stAng="599330" swAng="3519545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94760" y="70632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5194440" y="406872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23760" y="2685600"/>
            <a:ext cx="732024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Fiscal and Monetary Policy in the UK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57320" y="655560"/>
            <a:ext cx="3209760" cy="7034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26800" y="630360"/>
            <a:ext cx="202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1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651960" y="4916520"/>
            <a:ext cx="78757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57320" y="655560"/>
            <a:ext cx="3209760" cy="9590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800" y="630360"/>
            <a:ext cx="2022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89320" y="1441440"/>
            <a:ext cx="512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00480" y="1574640"/>
            <a:ext cx="49435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2-12-01T11:27:59Z</dcterms:modified>
  <cp:revision>89</cp:revision>
  <dc:subject/>
  <dc:title>Promoting active learning</dc:title>
</cp:coreProperties>
</file>