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33.wmf" ContentType="image/x-wmf"/>
  <Override PartName="/ppt/media/image13.png" ContentType="image/png"/>
  <Override PartName="/ppt/media/image7.jpeg" ContentType="image/jpeg"/>
  <Override PartName="/ppt/media/image23.wmf" ContentType="image/x-wmf"/>
  <Override PartName="/ppt/media/image28.jpeg" ContentType="image/jpeg"/>
  <Override PartName="/ppt/media/image34.wmf" ContentType="image/x-wmf"/>
  <Override PartName="/ppt/media/image3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CF10-4931-4B9C-AAD5-47A1E200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4A7-267F-4661-8EA8-A045A7C56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BBE-F326-4275-81EA-EF6CA171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455-D456-4835-8F6D-AD0CC9359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4A8D-8708-408C-BFF7-19163190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77A-6A5C-461E-93A1-7AF9133C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5AB-D739-4BD0-828B-1D58C171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CF3-D039-496B-BEB3-73D287A0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FCE-18A3-4E28-BD87-D44ABDF8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ED3-5E58-48FB-8CE8-0E384B8D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78A-B676-4CEF-B148-167CF5AF9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71F4-CB9F-4B63-B3BB-83D7B5DDA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541-B842-4321-AAAD-E80D0F0D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00A7-DAB0-445D-8772-9641F9AF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91AA-970B-4CCC-9871-0FB437D4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C39-DCC0-4F4F-90BE-24A7CFE5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2D8-D46F-42DB-8A8E-E9D04716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A5C-3420-42AE-B598-0EEA3FD5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CD4-968E-4685-AA25-9121FD2C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374-5635-44DB-99D0-17F53041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CC90-D089-4FC1-9E80-13BE1200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A082-2EC2-458C-BC4E-71A797D0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9D8B-37DE-4614-B791-1E6B67A6D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FDFE-AC66-43AD-8558-DAB83B3F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A020-2563-43EB-B2DB-7DD05E31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575-D9A8-40B8-9616-A9B2A5878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161-006F-4392-9CDF-A17CCC6E0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057-2261-4758-BBA0-5C6F8E622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2F5B-5278-4CB0-802D-D0973121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9E7-E45D-4C79-B88A-1D9825728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695A-1DE5-4132-96F4-4A002DAED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979E-C02B-4002-BEB2-80F5B440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B1A9-5C46-41F5-B31E-39095B42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EB71-83FE-4610-A0AB-CF46C43B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AB5-E382-48FF-9325-D13831538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F1F8-929C-4DFE-8074-2607FFD6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853E-0319-4166-A1AA-3EDD5C13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7CFA-8639-4A60-A37B-A533E6CDA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297C-338D-4A6B-936B-11384111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39E-BD94-4475-9858-B6B6AAA3F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BC68-C2E6-41DF-ACD2-D5171EE4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6AAE-D4A3-45CD-A902-FDA7C1D3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AB7-DF04-4F0C-9855-7C53B686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2AF-399B-4B30-A1A7-E10197194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109-5F68-4DE8-9039-699CCF14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8A2-7A70-4165-B85C-627DE75B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5DE-E59E-4280-ADF4-468EAA71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EA43-581D-4675-8B8F-DC9D1BCA0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CB5-B059-4FD5-8B1E-4CF684B7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3FE-7959-4F29-8350-E5725DEE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C8A4-3E9E-4B06-9C65-0AA976F7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65D-ACEF-41C9-B8D6-675375A6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CF2B-68ED-4D9E-BF41-C132445C6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FBF1-F457-4234-A05E-A455C273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EA0-CA71-4D62-9CAA-A63B8192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EAB-856B-4EF1-852D-5241CC965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2073-0963-4A56-9990-007D3D8E3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420-D181-443F-B708-01CC8A4C9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CB6-D55C-440E-960B-784CB15B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0EA3-9576-4A53-8F05-C9244C11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56C-9EC0-40D5-BC8C-C272EAB3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F08-9132-48D0-BBB5-2291C2CE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3156-8533-4F3C-96C2-53DE63D7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7ED-DB99-4C8F-831C-B74A9304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D7A-DC74-4F03-A9B3-94BBDDF5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8FA-9650-4733-B7B0-694C5F7C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069-EF09-4809-9434-AEB97F2F6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B82-D64C-44BF-81A1-0FA5DB86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ADC-12FF-4CD0-B30F-D11FD387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299-CA11-4A5D-BBEC-2D17804B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3702-42F3-49BE-B59B-653283FE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29F-3624-47A9-9103-972BA2DC6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096-D27F-4687-BE3F-4220A9A8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427-BB6A-4C01-BFFD-148548F3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F8C8-44D8-4711-93DA-B73C11FCF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3F7D-32BC-4E82-AC61-659A01F5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D1FA-2577-4DE4-9627-2764B7B25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A93-18C9-4379-BE60-4400F8734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7E62-D837-40FB-8646-657CC34D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7D6E-11C0-4DC7-981A-6B35E077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F5B9-867F-4CD9-AEC1-38DA3C64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1415-50D7-4503-898B-E9C3BDBF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C845-E29E-4E1F-8C86-DADD9E1A8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35E6-EC5D-4D6C-85B9-C111CE2D3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0B9D-BD3B-49BE-AC54-FE6C0400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A75-CFFC-4C25-BC28-88890E219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ED8-5776-4F5D-88D9-80F18BBD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2CB5-25A6-46C4-8005-1D170509A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C85-E204-48E0-9F90-27CB12C8D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79B-CFBE-43AF-9EE1-C1D9FC24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4AFE-DE2E-4B63-A4AB-5A876347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DED-1B42-446C-8C29-AC396ACE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106F-9E6A-458D-8D19-8636D0852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378B-9FD1-4609-84F4-B3A67272A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DCD-5436-4EDF-B63A-4B92D75EF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C73B-E39C-466F-B7E3-FBA04BAEE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6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62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lvl="2" marL="886680" algn="ctr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330200" algn="ctr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77372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114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116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117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118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119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120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Fiscal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Monetary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3840" y="793800"/>
            <a:ext cx="4610160" cy="530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34080" y="1574640"/>
            <a:ext cx="25099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ttitudes towards demand managemen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Keynesian demand management in the 1950s and 196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op–go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ist criticism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emise of fine tuning in the 197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causes of stag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emand management policies in the 197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ise of monetaris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444600"/>
            <a:ext cx="8229600" cy="637524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elected monetary indicators: 1969–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774360" y="1268280"/>
            <a:ext cx="7970760" cy="51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ism in the early 198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dium-term financial strateg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ecession of the early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ssessment of the monetarist experimen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turn to discretion in mid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argeting the exchange rat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ts advantages and disadvantag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adowing the German mark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mbership of the ERM (1990–2)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xit from the ER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774360" y="130608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Return to domestic-orientated polici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rgeting inflation: 1993–7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olicies of the Labour government 1997</a:t>
            </a:r>
            <a:r>
              <a:rPr b="1" lang="en-US" sz="3100" spc="-1" strike="noStrike">
                <a:solidFill>
                  <a:srgbClr val="006600"/>
                </a:solidFill>
                <a:latin typeface="Arial Special G2"/>
                <a:ea typeface="Arial Special G2"/>
              </a:rPr>
              <a:t>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'Golden Rule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ison with EU Stability and Growth Pac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ank of England inflation targ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CB targe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recent monetary and fiscal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Rules versus Discretion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ver-corre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vernment may ignore long-term consequenc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elp to reduce inflationary expect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eate a stable environment for investment and economic growth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an cause severe fluctuations in interest rates and can cause greater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nstabil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which rule to choose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conflic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become unsuitabl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 can be improved by better forecasting and quicker-a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2830680"/>
            <a:ext cx="9144000" cy="40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932280"/>
            <a:ext cx="914400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992840"/>
            <a:ext cx="9144000" cy="18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7677720" y="661356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ource: Bank of 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oice of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what level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central point or ceiling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99160" y="987480"/>
            <a:ext cx="3444840" cy="5819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546360" y="4013280"/>
            <a:ext cx="446040" cy="2345760"/>
            <a:chOff x="3546360" y="4013280"/>
            <a:chExt cx="446040" cy="2345760"/>
          </a:xfrm>
        </p:grpSpPr>
        <p:sp>
          <p:nvSpPr>
            <p:cNvPr id="1338" name=""/>
            <p:cNvSpPr/>
            <p:nvPr/>
          </p:nvSpPr>
          <p:spPr>
            <a:xfrm>
              <a:off x="3546360" y="591984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70280" y="4013280"/>
              <a:ext cx="0" cy="18604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811440" y="-2097000"/>
            <a:ext cx="16671240" cy="7065000"/>
            <a:chOff x="811440" y="-2097000"/>
            <a:chExt cx="16671240" cy="7065000"/>
          </a:xfrm>
        </p:grpSpPr>
        <p:sp>
          <p:nvSpPr>
            <p:cNvPr id="1346" name=""/>
            <p:cNvSpPr/>
            <p:nvPr/>
          </p:nvSpPr>
          <p:spPr>
            <a:xfrm>
              <a:off x="811440" y="-2097000"/>
              <a:ext cx="16671240" cy="692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22" y="21209"/>
                  </a:moveTo>
                  <a:arcTo wR="10800" hR="10800" stAng="6327347" swAng="3353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7922" y="21209"/>
                  </a:moveTo>
                  <a:arcTo wR="10800" hR="10800" stAng="6327347" swAng="3353541"/>
                </a:path>
              </a:pathLst>
            </a:custGeom>
            <a:noFill/>
            <a:ln cap="rnd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04080" y="4459320"/>
              <a:ext cx="853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80"/>
                  </a:solidFill>
                  <a:latin typeface="Times New Roman"/>
                </a:rPr>
                <a:t>ADI</a:t>
              </a:r>
              <a:r>
                <a:rPr b="0" lang="en-US" sz="2400" spc="-1" strike="noStrike" baseline="-25000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49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52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622680" y="3538440"/>
            <a:ext cx="336240" cy="525600"/>
            <a:chOff x="3622680" y="3538440"/>
            <a:chExt cx="336240" cy="525600"/>
          </a:xfrm>
        </p:grpSpPr>
        <p:sp>
          <p:nvSpPr>
            <p:cNvPr id="1356" name=""/>
            <p:cNvSpPr/>
            <p:nvPr/>
          </p:nvSpPr>
          <p:spPr>
            <a:xfrm>
              <a:off x="3708360" y="393696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22680" y="35384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1676160" y="3070080"/>
            <a:ext cx="436680" cy="3288960"/>
            <a:chOff x="1676160" y="3070080"/>
            <a:chExt cx="436680" cy="3288960"/>
          </a:xfrm>
        </p:grpSpPr>
        <p:sp>
          <p:nvSpPr>
            <p:cNvPr id="1359" name=""/>
            <p:cNvSpPr/>
            <p:nvPr/>
          </p:nvSpPr>
          <p:spPr>
            <a:xfrm>
              <a:off x="1895400" y="3070080"/>
              <a:ext cx="0" cy="2803680"/>
            </a:xfrm>
            <a:prstGeom prst="line">
              <a:avLst/>
            </a:prstGeom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7616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076560" y="776160"/>
            <a:ext cx="4637160" cy="7455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806400" y="2379600"/>
            <a:ext cx="1114560" cy="878760"/>
            <a:chOff x="806400" y="2379600"/>
            <a:chExt cx="1114560" cy="878760"/>
          </a:xfrm>
        </p:grpSpPr>
        <p:sp>
          <p:nvSpPr>
            <p:cNvPr id="1363" name=""/>
            <p:cNvSpPr/>
            <p:nvPr/>
          </p:nvSpPr>
          <p:spPr>
            <a:xfrm>
              <a:off x="1228680" y="3070080"/>
              <a:ext cx="69228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806400" y="2379600"/>
              <a:ext cx="777960" cy="878760"/>
              <a:chOff x="806400" y="2379600"/>
              <a:chExt cx="777960" cy="878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806400" y="2836800"/>
                <a:ext cx="7779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20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i="1" sz="2000" spc="-1" strike="noStrike" baseline="-18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79840" y="2379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4000" spc="-1" strike="noStrike">
                    <a:solidFill>
                      <a:srgbClr val="660066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7" name=""/>
          <p:cNvGrpSpPr/>
          <p:nvPr/>
        </p:nvGrpSpPr>
        <p:grpSpPr>
          <a:xfrm>
            <a:off x="1789200" y="2666880"/>
            <a:ext cx="336240" cy="473040"/>
            <a:chOff x="1789200" y="2666880"/>
            <a:chExt cx="336240" cy="473040"/>
          </a:xfrm>
        </p:grpSpPr>
        <p:sp>
          <p:nvSpPr>
            <p:cNvPr id="1368" name=""/>
            <p:cNvSpPr/>
            <p:nvPr/>
          </p:nvSpPr>
          <p:spPr>
            <a:xfrm>
              <a:off x="1789200" y="2666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49320" y="3013200"/>
              <a:ext cx="127080" cy="1267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95400" y="3073320"/>
            <a:ext cx="124308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00200" y="-4697280"/>
            <a:ext cx="9528480" cy="10366920"/>
            <a:chOff x="2500200" y="-4697280"/>
            <a:chExt cx="9528480" cy="10366920"/>
          </a:xfrm>
        </p:grpSpPr>
        <p:sp>
          <p:nvSpPr>
            <p:cNvPr id="1373" name=""/>
            <p:cNvSpPr/>
            <p:nvPr/>
          </p:nvSpPr>
          <p:spPr>
            <a:xfrm>
              <a:off x="2500200" y="-4697280"/>
              <a:ext cx="9528480" cy="103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2" y="20887"/>
                  </a:moveTo>
                  <a:arcTo wR="10800" hR="10800" stAng="6655724" swAng="326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2" y="20887"/>
                  </a:moveTo>
                  <a:arcTo wR="10800" hR="10800" stAng="6655724" swAng="3266646"/>
                </a:path>
              </a:pathLst>
            </a:custGeom>
            <a:noFill/>
            <a:ln cap="rnd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70640" y="5160960"/>
              <a:ext cx="831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Times New Roman"/>
                </a:rPr>
                <a:t>ADI</a:t>
              </a:r>
              <a:r>
                <a:rPr b="0" i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546360" y="591984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70280" y="4013280"/>
            <a:ext cx="0" cy="1860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1440" y="-2097000"/>
            <a:ext cx="16671240" cy="69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22" y="21209"/>
                </a:moveTo>
                <a:arcTo wR="10800" hR="10800" stAng="6327347" swAng="3353541"/>
                <a:lnTo>
                  <a:pt x="10800" y="10800"/>
                </a:lnTo>
                <a:close/>
              </a:path>
              <a:path fill="none" w="21600" h="21600">
                <a:moveTo>
                  <a:pt x="7922" y="21209"/>
                </a:moveTo>
                <a:arcTo wR="10800" hR="10800" stAng="6327347" swAng="3353541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4080" y="4459320"/>
            <a:ext cx="853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ADI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85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88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708360" y="39369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22680" y="35384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228680" y="3070080"/>
            <a:ext cx="66672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95400" y="3070080"/>
            <a:ext cx="0" cy="28036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905200" y="3070080"/>
            <a:ext cx="436680" cy="3288960"/>
            <a:chOff x="2905200" y="3070080"/>
            <a:chExt cx="436680" cy="3288960"/>
          </a:xfrm>
        </p:grpSpPr>
        <p:sp>
          <p:nvSpPr>
            <p:cNvPr id="1395" name=""/>
            <p:cNvSpPr/>
            <p:nvPr/>
          </p:nvSpPr>
          <p:spPr>
            <a:xfrm>
              <a:off x="3124080" y="3070080"/>
              <a:ext cx="0" cy="280368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0520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676160" y="59198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789200" y="26668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076560" y="2678040"/>
            <a:ext cx="320760" cy="451080"/>
            <a:chOff x="3076560" y="2678040"/>
            <a:chExt cx="320760" cy="451080"/>
          </a:xfrm>
        </p:grpSpPr>
        <p:sp>
          <p:nvSpPr>
            <p:cNvPr id="1400" name=""/>
            <p:cNvSpPr/>
            <p:nvPr/>
          </p:nvSpPr>
          <p:spPr>
            <a:xfrm>
              <a:off x="3076560" y="26780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078000" y="3002040"/>
              <a:ext cx="127080" cy="1270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49320" y="3013200"/>
            <a:ext cx="127080" cy="1267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75120" y="776160"/>
            <a:ext cx="5713200" cy="14763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 based on Taylor rule giving rel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 weight to stable real 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806400" y="2379600"/>
            <a:ext cx="777960" cy="878760"/>
            <a:chOff x="806400" y="2379600"/>
            <a:chExt cx="777960" cy="878760"/>
          </a:xfrm>
        </p:grpSpPr>
        <p:sp>
          <p:nvSpPr>
            <p:cNvPr id="1405" name=""/>
            <p:cNvSpPr/>
            <p:nvPr/>
          </p:nvSpPr>
          <p:spPr>
            <a:xfrm>
              <a:off x="806400" y="283680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9840" y="23796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the problem of de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national debt and public-sector deb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Nature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93640" y="44928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915320" y="115236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720" y="541440"/>
            <a:ext cx="727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,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044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8593560" y="-5985720"/>
            <a:ext cx="17431560" cy="11971440"/>
            <a:chOff x="-8593560" y="-5985720"/>
            <a:chExt cx="17431560" cy="11971440"/>
          </a:xfrm>
        </p:grpSpPr>
        <p:sp>
          <p:nvSpPr>
            <p:cNvPr id="283" name=""/>
            <p:cNvSpPr/>
            <p:nvPr/>
          </p:nvSpPr>
          <p:spPr>
            <a:xfrm>
              <a:off x="-8593560" y="-5985720"/>
              <a:ext cx="17431560" cy="1197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7" y="16016"/>
                  </a:moveTo>
                  <a:arcTo wR="10800" hR="10800" stAng="1732587" swAng="3161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7" y="16016"/>
                  </a:moveTo>
                  <a:arcTo wR="10800" hR="10800" stAng="1732587" swAng="316157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2840" y="2495520"/>
              <a:ext cx="160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ax reve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60" y="1392120"/>
            <a:ext cx="15806520" cy="4442760"/>
            <a:chOff x="2160" y="1392120"/>
            <a:chExt cx="15806520" cy="4442760"/>
          </a:xfrm>
        </p:grpSpPr>
        <p:sp>
          <p:nvSpPr>
            <p:cNvPr id="286" name=""/>
            <p:cNvSpPr/>
            <p:nvPr/>
          </p:nvSpPr>
          <p:spPr>
            <a:xfrm>
              <a:off x="2160" y="1392120"/>
              <a:ext cx="15806520" cy="374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757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75762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440" y="5132520"/>
              <a:ext cx="2125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Gov. expend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(incl. benef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665600" y="4946760"/>
            <a:ext cx="436680" cy="1467720"/>
            <a:chOff x="4665600" y="4946760"/>
            <a:chExt cx="436680" cy="1467720"/>
          </a:xfrm>
        </p:grpSpPr>
        <p:sp>
          <p:nvSpPr>
            <p:cNvPr id="289" name=""/>
            <p:cNvSpPr/>
            <p:nvPr/>
          </p:nvSpPr>
          <p:spPr>
            <a:xfrm>
              <a:off x="4896000" y="5022720"/>
              <a:ext cx="4680" cy="9162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5600" y="597528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44880" y="4946760"/>
              <a:ext cx="103320" cy="10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61680" y="497664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5960" y="4317840"/>
            <a:ext cx="163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National income and the size of the public-sector deficit or surplu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388620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191120"/>
            <a:ext cx="1219320" cy="60948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92920" y="467820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2560" y="459252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4952880"/>
            <a:ext cx="1219320" cy="60984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0120" y="544032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Effectiveness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2689200"/>
            <a:ext cx="9144000" cy="416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9840" y="2195640"/>
            <a:ext cx="2301840" cy="92052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04240" y="2328840"/>
            <a:ext cx="2307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ffect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demand for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902120" y="3502080"/>
            <a:ext cx="109872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665760" y="2176560"/>
            <a:ext cx="2159280" cy="1062000"/>
            <a:chOff x="6665760" y="2176560"/>
            <a:chExt cx="2159280" cy="1062000"/>
          </a:xfrm>
        </p:grpSpPr>
        <p:sp>
          <p:nvSpPr>
            <p:cNvPr id="564" name=""/>
            <p:cNvSpPr/>
            <p:nvPr/>
          </p:nvSpPr>
          <p:spPr>
            <a:xfrm>
              <a:off x="6665760" y="2176560"/>
              <a:ext cx="2159280" cy="106200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2960" y="2217600"/>
              <a:ext cx="2010960" cy="100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Accommod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crea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money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018120" y="3502080"/>
            <a:ext cx="4953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18160" y="1895400"/>
            <a:ext cx="0" cy="2820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30880" y="1509840"/>
            <a:ext cx="57816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46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64160" y="3446640"/>
            <a:ext cx="10188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ize of the multiplier and accelerator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501920" y="870120"/>
            <a:ext cx="4365360" cy="519120"/>
            <a:chOff x="1501920" y="870120"/>
            <a:chExt cx="4365360" cy="519120"/>
          </a:xfrm>
        </p:grpSpPr>
        <p:sp>
          <p:nvSpPr>
            <p:cNvPr id="605" name=""/>
            <p:cNvSpPr/>
            <p:nvPr/>
          </p:nvSpPr>
          <p:spPr>
            <a:xfrm>
              <a:off x="1501920" y="870120"/>
              <a:ext cx="4365360" cy="51912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79400" y="1138320"/>
              <a:ext cx="8049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0040" y="938160"/>
              <a:ext cx="290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Path (a): no inter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01920" y="870120"/>
            <a:ext cx="4365360" cy="923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697040" y="1309680"/>
            <a:ext cx="3863880" cy="397440"/>
            <a:chOff x="1697040" y="1309680"/>
            <a:chExt cx="3863880" cy="397440"/>
          </a:xfrm>
        </p:grpSpPr>
        <p:sp>
          <p:nvSpPr>
            <p:cNvPr id="638" name=""/>
            <p:cNvSpPr/>
            <p:nvPr/>
          </p:nvSpPr>
          <p:spPr>
            <a:xfrm>
              <a:off x="1697040" y="1487520"/>
              <a:ext cx="8175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59600" y="1309680"/>
              <a:ext cx="300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Path (b): policy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01920" y="870120"/>
            <a:ext cx="4365360" cy="12524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1487520"/>
            <a:ext cx="1574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0995" swAng="747038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0995" swAng="7470382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0200" y="231300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56280" y="-219960"/>
            <a:ext cx="1491120" cy="54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8"/>
                </a:moveTo>
                <a:arcTo wR="10800" hR="10800" stAng="1020190" swAng="7992895"/>
                <a:lnTo>
                  <a:pt x="10800" y="10800"/>
                </a:lnTo>
                <a:close/>
              </a:path>
              <a:path fill="none" w="21600" h="21600">
                <a:moveTo>
                  <a:pt x="21128" y="13958"/>
                </a:moveTo>
                <a:arcTo wR="10800" hR="10800" stAng="1020190" swAng="7992895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92680" y="136512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85400" y="-587160"/>
            <a:ext cx="157752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4" y="21466"/>
                </a:moveTo>
                <a:arcTo wR="10800" hR="10800" stAng="5942236" swAng="2549141"/>
                <a:lnTo>
                  <a:pt x="10800" y="10800"/>
                </a:lnTo>
                <a:close/>
              </a:path>
              <a:path fill="none" w="21600" h="21600">
                <a:moveTo>
                  <a:pt x="9104" y="21466"/>
                </a:moveTo>
                <a:arcTo wR="10800" hR="10800" stAng="5942236" swAng="2549141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487520"/>
            <a:ext cx="81756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97040" y="1646280"/>
            <a:ext cx="4139280" cy="397440"/>
            <a:chOff x="1697040" y="1646280"/>
            <a:chExt cx="4139280" cy="397440"/>
          </a:xfrm>
        </p:grpSpPr>
        <p:sp>
          <p:nvSpPr>
            <p:cNvPr id="667" name=""/>
            <p:cNvSpPr/>
            <p:nvPr/>
          </p:nvSpPr>
          <p:spPr>
            <a:xfrm flipV="1">
              <a:off x="1697040" y="1835280"/>
              <a:ext cx="817560" cy="1440"/>
            </a:xfrm>
            <a:prstGeom prst="line">
              <a:avLst/>
            </a:prstGeom>
            <a:ln w="28440">
              <a:solidFill>
                <a:srgbClr val="a5002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65000" y="1646280"/>
              <a:ext cx="32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Path (c): policy de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59600" y="1309680"/>
            <a:ext cx="300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th (b): policy stabil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111560"/>
            <a:ext cx="9144000" cy="27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hanging government expenditure versus changing tax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Varietie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istorical approaches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urrent approach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ontrol of money supply over medium and long term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ntrol of banks’ liquidity ratio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stricting size of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hort-term monetary control: the alternativ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70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802160" y="-4723920"/>
            <a:ext cx="11791080" cy="10314720"/>
            <a:chOff x="1802160" y="-4723920"/>
            <a:chExt cx="11791080" cy="10314720"/>
          </a:xfrm>
        </p:grpSpPr>
        <p:sp>
          <p:nvSpPr>
            <p:cNvPr id="70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7880" y="51325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70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71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27880" y="51325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73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73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73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i="1" lang="en-US" sz="28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4635360"/>
          <a:ext cx="914400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635360"/>
                    <a:ext cx="91440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409572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position: 2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532480"/>
            <a:ext cx="9144000" cy="13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129120" y="1096920"/>
            <a:ext cx="1677240" cy="4846320"/>
            <a:chOff x="3129120" y="1096920"/>
            <a:chExt cx="1677240" cy="4846320"/>
          </a:xfrm>
        </p:grpSpPr>
        <p:sp>
          <p:nvSpPr>
            <p:cNvPr id="780" name=""/>
            <p:cNvSpPr/>
            <p:nvPr/>
          </p:nvSpPr>
          <p:spPr>
            <a:xfrm flipV="1">
              <a:off x="3886200" y="1523520"/>
              <a:ext cx="0" cy="44197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120" y="109692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81480" y="4400640"/>
            <a:ext cx="3222360" cy="439200"/>
            <a:chOff x="681480" y="4400640"/>
            <a:chExt cx="3222360" cy="439200"/>
          </a:xfrm>
        </p:grpSpPr>
        <p:sp>
          <p:nvSpPr>
            <p:cNvPr id="783" name=""/>
            <p:cNvSpPr/>
            <p:nvPr/>
          </p:nvSpPr>
          <p:spPr>
            <a:xfrm flipH="1">
              <a:off x="1084320" y="4633920"/>
              <a:ext cx="281952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480" y="4400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-7537320" y="-3975840"/>
            <a:ext cx="16331040" cy="11475720"/>
            <a:chOff x="-7537320" y="-3975840"/>
            <a:chExt cx="16331040" cy="11475720"/>
          </a:xfrm>
        </p:grpSpPr>
        <p:sp>
          <p:nvSpPr>
            <p:cNvPr id="786" name=""/>
            <p:cNvSpPr/>
            <p:nvPr/>
          </p:nvSpPr>
          <p:spPr>
            <a:xfrm rot="20640000">
              <a:off x="-6762240" y="-2087640"/>
              <a:ext cx="1478160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1" y="16220"/>
                  </a:moveTo>
                  <a:arcTo wR="10800" hR="10800" stAng="1807450" swAng="3592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1" y="16220"/>
                  </a:moveTo>
                  <a:arcTo wR="10800" hR="10800" stAng="1807450" swAng="359255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72320" y="1332000"/>
              <a:ext cx="220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681480" y="3392640"/>
            <a:ext cx="4915800" cy="439200"/>
            <a:chOff x="681480" y="3392640"/>
            <a:chExt cx="4915800" cy="439200"/>
          </a:xfrm>
        </p:grpSpPr>
        <p:sp>
          <p:nvSpPr>
            <p:cNvPr id="791" name=""/>
            <p:cNvSpPr/>
            <p:nvPr/>
          </p:nvSpPr>
          <p:spPr>
            <a:xfrm flipH="1">
              <a:off x="1091880" y="3625920"/>
              <a:ext cx="45054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1480" y="3392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0640000">
            <a:off x="-6762240" y="-2087640"/>
            <a:ext cx="1478160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1" y="16220"/>
                </a:moveTo>
                <a:arcTo wR="10800" hR="10800" stAng="1807450" swAng="3592550"/>
                <a:lnTo>
                  <a:pt x="10800" y="10800"/>
                </a:lnTo>
                <a:close/>
              </a:path>
              <a:path fill="none" w="21600" h="21600">
                <a:moveTo>
                  <a:pt x="20141" y="16220"/>
                </a:moveTo>
                <a:arcTo wR="10800" hR="10800" stAng="1807450" swAng="359255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886200" y="1523520"/>
            <a:ext cx="0" cy="44197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9120" y="1096920"/>
            <a:ext cx="167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893120" y="1305000"/>
            <a:ext cx="1677240" cy="4589280"/>
            <a:chOff x="4893120" y="1305000"/>
            <a:chExt cx="1677240" cy="4589280"/>
          </a:xfrm>
        </p:grpSpPr>
        <p:sp>
          <p:nvSpPr>
            <p:cNvPr id="803" name=""/>
            <p:cNvSpPr/>
            <p:nvPr/>
          </p:nvSpPr>
          <p:spPr>
            <a:xfrm flipV="1">
              <a:off x="5595840" y="1725480"/>
              <a:ext cx="0" cy="4168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93120" y="130500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545080" y="356220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22640" y="2787480"/>
            <a:ext cx="1263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36640" y="3868560"/>
            <a:ext cx="0" cy="495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2320" y="1332000"/>
            <a:ext cx="220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084320" y="4633920"/>
            <a:ext cx="281952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1480" y="44006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3000" y="-3975480"/>
            <a:ext cx="16330320" cy="11475360"/>
            <a:chOff x="603000" y="-3975480"/>
            <a:chExt cx="16330320" cy="11475360"/>
          </a:xfrm>
        </p:grpSpPr>
        <p:sp>
          <p:nvSpPr>
            <p:cNvPr id="815" name=""/>
            <p:cNvSpPr/>
            <p:nvPr/>
          </p:nvSpPr>
          <p:spPr>
            <a:xfrm rot="960000">
              <a:off x="1377720" y="-2087280"/>
              <a:ext cx="1478088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92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92920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56120" y="4726080"/>
              <a:ext cx="220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255920" y="1122480"/>
            <a:ext cx="1692360" cy="4809600"/>
            <a:chOff x="4255920" y="1122480"/>
            <a:chExt cx="1692360" cy="4809600"/>
          </a:xfrm>
        </p:grpSpPr>
        <p:sp>
          <p:nvSpPr>
            <p:cNvPr id="825" name=""/>
            <p:cNvSpPr/>
            <p:nvPr/>
          </p:nvSpPr>
          <p:spPr>
            <a:xfrm flipV="1">
              <a:off x="4967280" y="1512720"/>
              <a:ext cx="0" cy="441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55920" y="11224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54560" y="4125960"/>
            <a:ext cx="4211280" cy="439200"/>
            <a:chOff x="754560" y="4125960"/>
            <a:chExt cx="4211280" cy="439200"/>
          </a:xfrm>
        </p:grpSpPr>
        <p:sp>
          <p:nvSpPr>
            <p:cNvPr id="828" name=""/>
            <p:cNvSpPr/>
            <p:nvPr/>
          </p:nvSpPr>
          <p:spPr>
            <a:xfrm flipH="1" flipV="1">
              <a:off x="1092240" y="4344840"/>
              <a:ext cx="3873600" cy="79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60" y="41259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916520" y="4295880"/>
            <a:ext cx="103320" cy="10296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960000">
            <a:off x="1377720" y="-2087280"/>
            <a:ext cx="1478088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59292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592920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967280" y="1512360"/>
            <a:ext cx="0" cy="4419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5920" y="1096920"/>
            <a:ext cx="16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1092240" y="4344840"/>
            <a:ext cx="3873600" cy="79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4560" y="412596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16520" y="428292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630160" y="1336680"/>
            <a:ext cx="1692360" cy="4588920"/>
            <a:chOff x="2630160" y="1336680"/>
            <a:chExt cx="1692360" cy="4588920"/>
          </a:xfrm>
        </p:grpSpPr>
        <p:sp>
          <p:nvSpPr>
            <p:cNvPr id="845" name=""/>
            <p:cNvSpPr/>
            <p:nvPr/>
          </p:nvSpPr>
          <p:spPr>
            <a:xfrm flipV="1">
              <a:off x="3403440" y="1703160"/>
              <a:ext cx="0" cy="422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30160" y="13366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H="1">
            <a:off x="3619440" y="2678040"/>
            <a:ext cx="130032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740160" y="3106800"/>
            <a:ext cx="2677680" cy="439200"/>
            <a:chOff x="740160" y="3106800"/>
            <a:chExt cx="2677680" cy="439200"/>
          </a:xfrm>
        </p:grpSpPr>
        <p:sp>
          <p:nvSpPr>
            <p:cNvPr id="849" name=""/>
            <p:cNvSpPr/>
            <p:nvPr/>
          </p:nvSpPr>
          <p:spPr>
            <a:xfrm flipH="1">
              <a:off x="1092240" y="3319560"/>
              <a:ext cx="232560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0160" y="3106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flipV="1">
            <a:off x="909720" y="3538080"/>
            <a:ext cx="0" cy="56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56120" y="4726080"/>
            <a:ext cx="220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3263760"/>
            <a:ext cx="103320" cy="1033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12800" y="1217520"/>
            <a:ext cx="8431200" cy="525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Problem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utomatic fiscal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desire to cut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fficulty in cutt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actical difficulties in short-run control of the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monetary base control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controlling broad liquid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effect on interest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66680" y="79056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79056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6680" y="612468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5200" y="60786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68560" y="645948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-552960" y="34833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397320" y="896760"/>
            <a:ext cx="549360" cy="5224320"/>
            <a:chOff x="3397320" y="896760"/>
            <a:chExt cx="549360" cy="5224320"/>
          </a:xfrm>
        </p:grpSpPr>
        <p:sp>
          <p:nvSpPr>
            <p:cNvPr id="876" name=""/>
            <p:cNvSpPr/>
            <p:nvPr/>
          </p:nvSpPr>
          <p:spPr>
            <a:xfrm flipV="1">
              <a:off x="3619440" y="1321920"/>
              <a:ext cx="0" cy="47991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97320" y="896760"/>
              <a:ext cx="549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792080" y="-5465160"/>
            <a:ext cx="13030560" cy="11561760"/>
            <a:chOff x="1792080" y="-5465160"/>
            <a:chExt cx="13030560" cy="11561760"/>
          </a:xfrm>
        </p:grpSpPr>
        <p:sp>
          <p:nvSpPr>
            <p:cNvPr id="879" name=""/>
            <p:cNvSpPr/>
            <p:nvPr/>
          </p:nvSpPr>
          <p:spPr>
            <a:xfrm>
              <a:off x="1792080" y="-5465160"/>
              <a:ext cx="13030560" cy="1153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8" y="21354"/>
                  </a:moveTo>
                  <a:arcTo wR="10800" hR="10800" stAng="6135230" swAng="4065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8" y="21354"/>
                  </a:moveTo>
                  <a:arcTo wR="10800" hR="10800" stAng="6135230" swAng="4065017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50880" y="5699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576600" y="4255920"/>
            <a:ext cx="103320" cy="1033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05600" y="4086360"/>
            <a:ext cx="2877480" cy="397440"/>
            <a:chOff x="705600" y="4086360"/>
            <a:chExt cx="2877480" cy="397440"/>
          </a:xfrm>
        </p:grpSpPr>
        <p:sp>
          <p:nvSpPr>
            <p:cNvPr id="883" name=""/>
            <p:cNvSpPr/>
            <p:nvPr/>
          </p:nvSpPr>
          <p:spPr>
            <a:xfrm flipH="1">
              <a:off x="1057320" y="4305240"/>
              <a:ext cx="252576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600" y="408636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795400" y="-5361840"/>
            <a:ext cx="12198960" cy="10888920"/>
            <a:chOff x="2795400" y="-5361840"/>
            <a:chExt cx="12198960" cy="10888920"/>
          </a:xfrm>
        </p:grpSpPr>
        <p:sp>
          <p:nvSpPr>
            <p:cNvPr id="886" name=""/>
            <p:cNvSpPr/>
            <p:nvPr/>
          </p:nvSpPr>
          <p:spPr>
            <a:xfrm>
              <a:off x="2795400" y="-5361840"/>
              <a:ext cx="12198960" cy="1076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6" y="21354"/>
                  </a:moveTo>
                  <a:arcTo wR="10800" hR="10800" stAng="6135886" swAng="4064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6" y="21354"/>
                  </a:moveTo>
                  <a:arcTo wR="10800" hR="10800" stAng="6135886" swAng="4064837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22280" y="5068800"/>
              <a:ext cx="43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L</a:t>
              </a:r>
              <a:r>
                <a:rPr b="0" i="1" lang="en-US" sz="12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568680" y="2668680"/>
            <a:ext cx="10332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14960" y="2498760"/>
            <a:ext cx="2872800" cy="439200"/>
            <a:chOff x="714960" y="2498760"/>
            <a:chExt cx="2872800" cy="439200"/>
          </a:xfrm>
        </p:grpSpPr>
        <p:sp>
          <p:nvSpPr>
            <p:cNvPr id="890" name=""/>
            <p:cNvSpPr/>
            <p:nvPr/>
          </p:nvSpPr>
          <p:spPr>
            <a:xfrm flipH="1">
              <a:off x="1062000" y="2717640"/>
              <a:ext cx="252576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960" y="24987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334040" y="4748040"/>
            <a:ext cx="12826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6640" y="2897280"/>
            <a:ext cx="0" cy="11365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71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effect on interest rates of a change in demand for money: money supply kept at fixed level by the authoritie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911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919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933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ssible conflict between domestic goals and exchange-rate go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of using it to manage aggregate deman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sing it to keep to a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f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change r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ney supply 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2368440"/>
            <a:ext cx="6502320" cy="30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Analysis of Fiscal and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 in both the goods and money marke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707400" y="3686040"/>
            <a:ext cx="3425040" cy="508680"/>
            <a:chOff x="707400" y="3686040"/>
            <a:chExt cx="3425040" cy="508680"/>
          </a:xfrm>
        </p:grpSpPr>
        <p:sp>
          <p:nvSpPr>
            <p:cNvPr id="965" name=""/>
            <p:cNvSpPr/>
            <p:nvPr/>
          </p:nvSpPr>
          <p:spPr>
            <a:xfrm>
              <a:off x="707400" y="3686040"/>
              <a:ext cx="369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074600" y="3924360"/>
              <a:ext cx="305784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938760" y="3941640"/>
            <a:ext cx="453240" cy="2488320"/>
            <a:chOff x="3938760" y="3941640"/>
            <a:chExt cx="453240" cy="2488320"/>
          </a:xfrm>
        </p:grpSpPr>
        <p:sp>
          <p:nvSpPr>
            <p:cNvPr id="968" name=""/>
            <p:cNvSpPr/>
            <p:nvPr/>
          </p:nvSpPr>
          <p:spPr>
            <a:xfrm>
              <a:off x="4146480" y="3941640"/>
              <a:ext cx="0" cy="19972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38760" y="5921280"/>
              <a:ext cx="45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345000" y="7398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8120" y="512640"/>
          <a:ext cx="8704440" cy="63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12640"/>
                    <a:ext cx="8704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1168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07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9268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1080" y="3179880"/>
            <a:ext cx="4235040" cy="439200"/>
            <a:chOff x="721080" y="3179880"/>
            <a:chExt cx="4235040" cy="439200"/>
          </a:xfrm>
        </p:grpSpPr>
        <p:sp>
          <p:nvSpPr>
            <p:cNvPr id="1010" name=""/>
            <p:cNvSpPr/>
            <p:nvPr/>
          </p:nvSpPr>
          <p:spPr>
            <a:xfrm flipH="1">
              <a:off x="1074600" y="3392640"/>
              <a:ext cx="388152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1080" y="31798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744800" y="3392640"/>
            <a:ext cx="436680" cy="2975760"/>
            <a:chOff x="4744800" y="3392640"/>
            <a:chExt cx="436680" cy="2975760"/>
          </a:xfrm>
        </p:grpSpPr>
        <p:sp>
          <p:nvSpPr>
            <p:cNvPr id="1013" name=""/>
            <p:cNvSpPr/>
            <p:nvPr/>
          </p:nvSpPr>
          <p:spPr>
            <a:xfrm>
              <a:off x="4956120" y="3392640"/>
              <a:ext cx="0" cy="252864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44800" y="5929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03680" y="1144440"/>
            <a:ext cx="208260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58040" y="122220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98880" y="333684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40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2880" y="4278240"/>
            <a:ext cx="4543920" cy="439200"/>
            <a:chOff x="722880" y="4278240"/>
            <a:chExt cx="4543920" cy="439200"/>
          </a:xfrm>
        </p:grpSpPr>
        <p:sp>
          <p:nvSpPr>
            <p:cNvPr id="1043" name=""/>
            <p:cNvSpPr/>
            <p:nvPr/>
          </p:nvSpPr>
          <p:spPr>
            <a:xfrm flipH="1">
              <a:off x="1091880" y="4491000"/>
              <a:ext cx="417492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880" y="42782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056200" y="4527720"/>
            <a:ext cx="436680" cy="1856520"/>
            <a:chOff x="5056200" y="4527720"/>
            <a:chExt cx="436680" cy="1856520"/>
          </a:xfrm>
        </p:grpSpPr>
        <p:sp>
          <p:nvSpPr>
            <p:cNvPr id="1046" name=""/>
            <p:cNvSpPr/>
            <p:nvPr/>
          </p:nvSpPr>
          <p:spPr>
            <a:xfrm>
              <a:off x="5230800" y="4527720"/>
              <a:ext cx="0" cy="141120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56200" y="5945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192640" y="443700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09960" y="1144440"/>
            <a:ext cx="243216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77640" y="12222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and monetary policy togethe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58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42932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75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032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4224240" y="3924360"/>
            <a:ext cx="18669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873760" y="3944880"/>
            <a:ext cx="436680" cy="2452320"/>
            <a:chOff x="5873760" y="3944880"/>
            <a:chExt cx="436680" cy="2452320"/>
          </a:xfrm>
        </p:grpSpPr>
        <p:sp>
          <p:nvSpPr>
            <p:cNvPr id="1079" name=""/>
            <p:cNvSpPr/>
            <p:nvPr/>
          </p:nvSpPr>
          <p:spPr>
            <a:xfrm>
              <a:off x="6083280" y="3944880"/>
              <a:ext cx="0" cy="198432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73760" y="59580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581280" y="719280"/>
            <a:ext cx="2330640" cy="13446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79480" y="797040"/>
            <a:ext cx="231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isc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35760" y="3887640"/>
            <a:ext cx="102960" cy="103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8782200" y="-2691720"/>
            <a:ext cx="1773576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0" y="16616"/>
                </a:moveTo>
                <a:arcTo wR="10800" hR="10800" stAng="1954903" swAng="2931581"/>
                <a:lnTo>
                  <a:pt x="10800" y="10800"/>
                </a:lnTo>
                <a:close/>
              </a:path>
              <a:path fill="none" w="21600" h="21600">
                <a:moveTo>
                  <a:pt x="19900" y="16616"/>
                </a:moveTo>
                <a:arcTo wR="10800" hR="10800" stAng="1954903" swAng="293158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519680" y="22939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63960" y="551196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816000" y="-4039200"/>
            <a:ext cx="10779120" cy="10546560"/>
            <a:chOff x="3816000" y="-4039200"/>
            <a:chExt cx="10779120" cy="10546560"/>
          </a:xfrm>
        </p:grpSpPr>
        <p:sp>
          <p:nvSpPr>
            <p:cNvPr id="1103" name=""/>
            <p:cNvSpPr/>
            <p:nvPr/>
          </p:nvSpPr>
          <p:spPr>
            <a:xfrm rot="600000">
              <a:off x="4531680" y="-3296160"/>
              <a:ext cx="9347400" cy="90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5" y="21082"/>
                  </a:moveTo>
                  <a:arcTo wR="10800" hR="10800" stAng="6469287" swAng="36751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5" y="21082"/>
                  </a:moveTo>
                  <a:arcTo wR="10800" hR="10800" stAng="6469287" swAng="3675175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18200" y="494820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5229360" y="35942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094360" y="3703680"/>
            <a:ext cx="436680" cy="2647440"/>
            <a:chOff x="5094360" y="3703680"/>
            <a:chExt cx="436680" cy="2647440"/>
          </a:xfrm>
        </p:grpSpPr>
        <p:sp>
          <p:nvSpPr>
            <p:cNvPr id="1107" name=""/>
            <p:cNvSpPr/>
            <p:nvPr/>
          </p:nvSpPr>
          <p:spPr>
            <a:xfrm>
              <a:off x="5272200" y="3703680"/>
              <a:ext cx="0" cy="221760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9436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208160" y="27018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26240" y="27795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21040" y="30639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8781840" y="-2691720"/>
            <a:ext cx="1773468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76" y="16654"/>
                </a:moveTo>
                <a:arcTo wR="10800" hR="10800" stAng="1969516" swAng="2916967"/>
                <a:lnTo>
                  <a:pt x="10800" y="10800"/>
                </a:lnTo>
                <a:close/>
              </a:path>
              <a:path fill="none" w="21600" h="21600">
                <a:moveTo>
                  <a:pt x="19876" y="16654"/>
                </a:moveTo>
                <a:arcTo wR="10800" hR="10800" stAng="1969516" swAng="291696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69280" y="229392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12560" y="551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7828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41800" y="4272120"/>
            <a:ext cx="436680" cy="2079000"/>
            <a:chOff x="4141800" y="4272120"/>
            <a:chExt cx="436680" cy="2079000"/>
          </a:xfrm>
        </p:grpSpPr>
        <p:sp>
          <p:nvSpPr>
            <p:cNvPr id="1131" name=""/>
            <p:cNvSpPr/>
            <p:nvPr/>
          </p:nvSpPr>
          <p:spPr>
            <a:xfrm>
              <a:off x="4276800" y="4272120"/>
              <a:ext cx="0" cy="16491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180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522680" y="1273320"/>
            <a:ext cx="2332080" cy="9950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3480" y="135108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-8111880" y="-2750400"/>
            <a:ext cx="18626760" cy="7132680"/>
            <a:chOff x="-8111880" y="-2750400"/>
            <a:chExt cx="18626760" cy="7132680"/>
          </a:xfrm>
        </p:grpSpPr>
        <p:sp>
          <p:nvSpPr>
            <p:cNvPr id="1136" name=""/>
            <p:cNvSpPr/>
            <p:nvPr/>
          </p:nvSpPr>
          <p:spPr>
            <a:xfrm>
              <a:off x="7512120" y="314316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8111880" y="-2750400"/>
              <a:ext cx="18626760" cy="713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01" y="18849"/>
                  </a:moveTo>
                  <a:arcTo wR="10800" hR="10800" stAng="2890777" swAng="2419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01" y="18849"/>
                  </a:moveTo>
                  <a:arcTo wR="10800" hR="10800" stAng="2890777" swAng="241953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5964120" y="35211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222800" y="412596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38120" y="509760"/>
          <a:ext cx="8704440" cy="63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09760"/>
                    <a:ext cx="87044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3120" y="6444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76920" y="422928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160880" y="3557520"/>
            <a:ext cx="436680" cy="2793600"/>
            <a:chOff x="4160880" y="3557520"/>
            <a:chExt cx="436680" cy="2793600"/>
          </a:xfrm>
        </p:grpSpPr>
        <p:sp>
          <p:nvSpPr>
            <p:cNvPr id="1163" name=""/>
            <p:cNvSpPr/>
            <p:nvPr/>
          </p:nvSpPr>
          <p:spPr>
            <a:xfrm>
              <a:off x="4276800" y="3557520"/>
              <a:ext cx="1440" cy="234468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6088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218200" y="20430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6280" y="21207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84360" y="32097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703160" y="-3490560"/>
            <a:ext cx="14289480" cy="8165880"/>
            <a:chOff x="1703160" y="-3490560"/>
            <a:chExt cx="14289480" cy="8165880"/>
          </a:xfrm>
        </p:grpSpPr>
        <p:sp>
          <p:nvSpPr>
            <p:cNvPr id="1169" name=""/>
            <p:cNvSpPr/>
            <p:nvPr/>
          </p:nvSpPr>
          <p:spPr>
            <a:xfrm>
              <a:off x="7567200" y="38149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21300000">
              <a:off x="1981800" y="-2905560"/>
              <a:ext cx="13731840" cy="69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23" y="21312"/>
                  </a:moveTo>
                  <a:arcTo wR="10800" hR="10800" stAng="6195666" swAng="3848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8323" y="21312"/>
                  </a:moveTo>
                  <a:arcTo wR="10800" hR="10800" stAng="6195666" swAng="38480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222800" y="34466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5920" y="64440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5520" y="4192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076720" y="4125960"/>
            <a:ext cx="436680" cy="2226600"/>
            <a:chOff x="5076720" y="4125960"/>
            <a:chExt cx="436680" cy="2226600"/>
          </a:xfrm>
        </p:grpSpPr>
        <p:sp>
          <p:nvSpPr>
            <p:cNvPr id="1191" name=""/>
            <p:cNvSpPr/>
            <p:nvPr/>
          </p:nvSpPr>
          <p:spPr>
            <a:xfrm>
              <a:off x="5248440" y="4125960"/>
              <a:ext cx="1440" cy="17589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76720" y="59133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4498920" y="29163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6040" y="1052640"/>
            <a:ext cx="233208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5760" y="11304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22520" y="-6253920"/>
            <a:ext cx="5493240" cy="12520800"/>
            <a:chOff x="722520" y="-6253920"/>
            <a:chExt cx="5493240" cy="12520800"/>
          </a:xfrm>
        </p:grpSpPr>
        <p:sp>
          <p:nvSpPr>
            <p:cNvPr id="1197" name=""/>
            <p:cNvSpPr/>
            <p:nvPr/>
          </p:nvSpPr>
          <p:spPr>
            <a:xfrm>
              <a:off x="722520" y="-6253920"/>
              <a:ext cx="5180760" cy="1252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6" y="12673"/>
                  </a:moveTo>
                  <a:arcTo wR="10800" hR="10800" stAng="599330" swAng="3519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6" y="12673"/>
                  </a:moveTo>
                  <a:arcTo wR="10800" hR="10800" stAng="599330" swAng="3519545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94760" y="70632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5194440" y="406872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23760" y="2685600"/>
            <a:ext cx="732024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Fiscal and Monetary Policy in the UK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57320" y="655560"/>
            <a:ext cx="3209760" cy="7034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26800" y="630360"/>
            <a:ext cx="202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1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651960" y="4916520"/>
            <a:ext cx="78757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57320" y="655560"/>
            <a:ext cx="3209760" cy="9590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800" y="630360"/>
            <a:ext cx="2022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89320" y="1441440"/>
            <a:ext cx="512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00480" y="1574640"/>
            <a:ext cx="49435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2-12-01T11:27:59Z</dcterms:modified>
  <cp:revision>89</cp:revision>
  <dc:subject/>
  <dc:title>Promoting active learning</dc:title>
</cp:coreProperties>
</file>