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33.wmf" ContentType="image/x-wmf"/>
  <Override PartName="/ppt/media/image13.png" ContentType="image/png"/>
  <Override PartName="/ppt/media/image7.jpeg" ContentType="image/jpeg"/>
  <Override PartName="/ppt/media/image23.wmf" ContentType="image/x-wmf"/>
  <Override PartName="/ppt/media/image28.jpeg" ContentType="image/jpeg"/>
  <Override PartName="/ppt/media/image34.wmf" ContentType="image/x-wmf"/>
  <Override PartName="/ppt/media/image3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6.wmf" ContentType="image/x-wmf"/>
  <Override PartName="/ppt/media/image37.png" ContentType="image/png"/>
  <Override PartName="/ppt/media/image39.png" ContentType="image/png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DDB-DBE9-48A2-A110-740FEE449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4814-46AE-4264-938C-B822E1A75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4646-1DA4-4AC0-BA84-148091AE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C70A-1341-434A-930B-AFF6EB979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1587-4A16-47A0-8E20-34547D8D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DBD4-9F89-4531-95D6-CEA699FB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A37-FB5D-408F-896D-1A8427E19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753-0093-4D4F-9CB7-2A6AE52D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F6C-96F2-4A86-995C-770CA62C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497-DE89-4DC8-BE2A-FF9179BC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E5C2-AB8E-4988-AF8D-C882A6DB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D06-5B80-45A7-A8E0-14700FA2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DB35-9CA1-49E9-870F-2FE662702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E14C-A5BD-45C2-8BF0-54B50F47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A1F7-1923-4777-ADAE-CCF4B6A3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0D38-D601-46C1-8105-34C2B164A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74B6-9898-4A34-A4A4-1758AF825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2AD-A2CB-4456-A451-3315E367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1B4-E686-4391-B63E-E87583954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6C0B-AF76-43B4-ACD4-D43C90765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4FE1-4EB1-4305-A3CA-9774F5DA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835-8E19-471B-A725-F2109EAE7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16E4-D2A1-4296-BE45-6AC60040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682-B139-496A-90A0-B9C2B933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B5B-7BD1-4FFD-9295-ED32BD955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C4D0-78ED-4506-A9B8-59453974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2DA-6D3D-4055-B078-AB3EA5DA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799B-E11C-4072-9DD5-3286C372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192-F509-4C53-B0F7-CA0F5ADB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FF9-60A3-450E-92BA-863462650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B49-ABC8-4EC6-BCB3-9A382D39F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A93F-6C70-4A24-BE44-1C421CBB2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8887-76BC-4D9F-98B2-2C0B547E0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5F7-8763-42CB-B675-6DC87BEE6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F8B-68D8-4E77-8CCD-6E1EC387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12A-6AF5-4AFB-95D7-980A7C3F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DA3-6629-470D-A032-E0A85EF1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AA11-1EEF-4425-914B-A29FB1FAF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866-C043-475B-AF73-0CB5CF7B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35E-92AC-481D-860B-80A53EB8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AAC-989B-4B88-AD5D-AFF798E8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6B64-F657-446D-B5D0-6F92DAA6F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171-EE5E-44C5-8494-9ED27B05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1E74-DB80-4F08-8785-300C9723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E8B-7D4F-44F8-B0C3-C97FD675D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46C-2B19-4F12-99A5-67F943F5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4978-2BD7-4919-8C3C-E8AB51558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947-21F3-4B0A-A5C6-02BF35D5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9D51-AB64-41D1-81DB-CB3D2127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A49-AC53-4480-8967-DE961C90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1C69-257F-456F-89B5-616EA90BB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29F-E73C-4A37-B876-6EE98CDB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2D38-52A2-4041-AFD1-018D2BD0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5E1-DD0F-4AF1-B047-B49449A8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51A6-76D7-41FC-B2AE-E960688A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3FB-ABE5-4A35-8DDE-CD9C1335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E37-5DB3-43FE-B375-5BF916C82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FE2-4CE4-46FD-9D89-8500FE1E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396A-6932-4685-AB94-F6A14F5E9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493D-A0C0-4E37-85B7-450A1A99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D11-DD54-424D-86BC-371E3D72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49FE-7596-4B0A-9E30-D79DDA0FA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FDBE-9A73-42AC-A4B7-2072EC37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2696-56DE-44EC-AE5D-50508E69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BFE9-6AFE-4CEC-930C-2AC19417D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03BF-4B6F-44BB-9885-336D82C9B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6DD-B559-4F02-A49D-74FCC243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88A-B5EF-4079-ABD8-2E4D365CF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D02B-7B20-4D11-BDD3-FC10455B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466C-E4A4-41D8-9145-2A91DFCA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60FD-73A4-4B7C-876B-F01A806E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6222-5BA9-457A-97F8-3CE450FDE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5EA-0D93-4DFC-AB71-2B4593E19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CD7-571F-4C2A-8DAF-DA0DDE8C6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1109-7B7F-4261-8B1D-CF9F6C52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E02A-651A-46E1-BE23-A9935D2AE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B32B-7E31-4FDF-A542-5B444766A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0C5-42CD-4010-8457-FEE0C4A7D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BD45-4DC2-4EED-B5BD-E3B98F1D2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DEE8-89A9-4BBB-9606-FF89A35D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6E0-FF3B-413D-8E5C-24551807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292-B96A-4157-92BD-9ACEC3E5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1EB7-F5E7-4137-9719-C1C24851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51C4-F146-48C7-825C-3E5C0B1F6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5ABA-5390-4863-AAB5-771AE3F7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C3D6-5996-4B6B-9072-506EAE2F9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EE3D-F215-4235-9FBF-87711AAA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F71-341D-4D0C-ADD6-3C2663E0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BE7D-5B4F-419B-9AD2-CE7BC8460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7764-A4E2-4F65-9606-51F27B258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A7F8-A3EA-4430-B1FA-30ED55A8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27F-3CAD-4496-B3B1-0A36C96F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28F-A840-4F9B-8C5B-960A8D8D3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C55-6ECA-4E88-A58A-0C50B32A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C149-CD61-49AC-B4BD-3560FFC2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6B1E-F5DD-431A-97C2-21DC642E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6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62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  <a:p>
            <a:pPr lvl="1" marL="44316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  <a:p>
            <a:pPr lvl="2" marL="886680" algn="ctr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330200" algn="ctr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77372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114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115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116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117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118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119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120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Fiscal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Monetary Poli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3840" y="793800"/>
            <a:ext cx="4610160" cy="530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634080" y="1574640"/>
            <a:ext cx="25099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ttitudes towards demand managemen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Keynesian demand management in the 1950s and 196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op–go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ist criticism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emise of fine tuning in the 197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causes of stag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emand management policies in the 197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ise of monetaris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444600"/>
            <a:ext cx="8229600" cy="637524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elected monetary indicators: 1969–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774360" y="1268280"/>
            <a:ext cx="7970760" cy="516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ism in the early 198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dium-term financial strateg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ecession of the early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ssessment of the monetarist experimen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turn to discretion in mid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argeting the exchange rat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ts advantages and disadvantag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adowing the German mark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mbership of the ERM (1990–2)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xit from the ER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774360" y="130608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Return to domestic-orientated polici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rgeting inflation: 1993–7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olicies of the Labour government 1997</a:t>
            </a:r>
            <a:r>
              <a:rPr b="1" lang="en-US" sz="3100" spc="-1" strike="noStrike">
                <a:solidFill>
                  <a:srgbClr val="006600"/>
                </a:solidFill>
                <a:latin typeface="Arial Special G2"/>
                <a:ea typeface="Arial Special G2"/>
              </a:rPr>
              <a:t>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'Golden Rule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ison with EU Stability and Growth Pac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ank of England inflation targ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CB targe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recent monetary and fiscal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Rules versus Discretion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ver-corre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vernment may ignore long-term consequenc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elp to reduce inflationary expect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eate a stable environment for investment and economic growth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an cause severe fluctuations in interest rates and can cause greater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nstabil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which rule to choose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conflic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become unsuitabl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 can be improved by better forecasting and quicker-a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2830680"/>
            <a:ext cx="9144000" cy="40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932280"/>
            <a:ext cx="914400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4992840"/>
            <a:ext cx="9144000" cy="18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7677720" y="661356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ource: Bank of 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oice of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what level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central point or ceiling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99160" y="987480"/>
            <a:ext cx="3444840" cy="5819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546360" y="4013280"/>
            <a:ext cx="446040" cy="2345760"/>
            <a:chOff x="3546360" y="4013280"/>
            <a:chExt cx="446040" cy="2345760"/>
          </a:xfrm>
        </p:grpSpPr>
        <p:sp>
          <p:nvSpPr>
            <p:cNvPr id="1338" name=""/>
            <p:cNvSpPr/>
            <p:nvPr/>
          </p:nvSpPr>
          <p:spPr>
            <a:xfrm>
              <a:off x="3546360" y="591984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70280" y="4013280"/>
              <a:ext cx="0" cy="18604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811440" y="-2097000"/>
            <a:ext cx="16671240" cy="7065000"/>
            <a:chOff x="811440" y="-2097000"/>
            <a:chExt cx="16671240" cy="7065000"/>
          </a:xfrm>
        </p:grpSpPr>
        <p:sp>
          <p:nvSpPr>
            <p:cNvPr id="1346" name=""/>
            <p:cNvSpPr/>
            <p:nvPr/>
          </p:nvSpPr>
          <p:spPr>
            <a:xfrm>
              <a:off x="811440" y="-2097000"/>
              <a:ext cx="16671240" cy="692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22" y="21209"/>
                  </a:moveTo>
                  <a:arcTo wR="10800" hR="10800" stAng="6327347" swAng="3353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7922" y="21209"/>
                  </a:moveTo>
                  <a:arcTo wR="10800" hR="10800" stAng="6327347" swAng="3353541"/>
                </a:path>
              </a:pathLst>
            </a:custGeom>
            <a:noFill/>
            <a:ln cap="rnd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04080" y="4459320"/>
              <a:ext cx="853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80"/>
                  </a:solidFill>
                  <a:latin typeface="Times New Roman"/>
                </a:rPr>
                <a:t>ADI</a:t>
              </a:r>
              <a:r>
                <a:rPr b="0" lang="en-US" sz="2400" spc="-1" strike="noStrike" baseline="-25000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49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52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622680" y="3538440"/>
            <a:ext cx="336240" cy="525600"/>
            <a:chOff x="3622680" y="3538440"/>
            <a:chExt cx="336240" cy="525600"/>
          </a:xfrm>
        </p:grpSpPr>
        <p:sp>
          <p:nvSpPr>
            <p:cNvPr id="1356" name=""/>
            <p:cNvSpPr/>
            <p:nvPr/>
          </p:nvSpPr>
          <p:spPr>
            <a:xfrm>
              <a:off x="3708360" y="393696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22680" y="35384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1676160" y="3070080"/>
            <a:ext cx="436680" cy="3288960"/>
            <a:chOff x="1676160" y="3070080"/>
            <a:chExt cx="436680" cy="3288960"/>
          </a:xfrm>
        </p:grpSpPr>
        <p:sp>
          <p:nvSpPr>
            <p:cNvPr id="1359" name=""/>
            <p:cNvSpPr/>
            <p:nvPr/>
          </p:nvSpPr>
          <p:spPr>
            <a:xfrm>
              <a:off x="1895400" y="3070080"/>
              <a:ext cx="0" cy="2803680"/>
            </a:xfrm>
            <a:prstGeom prst="line">
              <a:avLst/>
            </a:prstGeom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7616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3076560" y="776160"/>
            <a:ext cx="4637160" cy="7455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806400" y="2379600"/>
            <a:ext cx="1114560" cy="878760"/>
            <a:chOff x="806400" y="2379600"/>
            <a:chExt cx="1114560" cy="878760"/>
          </a:xfrm>
        </p:grpSpPr>
        <p:sp>
          <p:nvSpPr>
            <p:cNvPr id="1363" name=""/>
            <p:cNvSpPr/>
            <p:nvPr/>
          </p:nvSpPr>
          <p:spPr>
            <a:xfrm>
              <a:off x="1228680" y="3070080"/>
              <a:ext cx="69228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806400" y="2379600"/>
              <a:ext cx="777960" cy="878760"/>
              <a:chOff x="806400" y="2379600"/>
              <a:chExt cx="777960" cy="878760"/>
            </a:xfrm>
          </p:grpSpPr>
          <p:sp>
            <p:nvSpPr>
              <p:cNvPr id="1365" name=""/>
              <p:cNvSpPr/>
              <p:nvPr/>
            </p:nvSpPr>
            <p:spPr>
              <a:xfrm>
                <a:off x="806400" y="2836800"/>
                <a:ext cx="7779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20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i="1" sz="2000" spc="-1" strike="noStrike" baseline="-18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79840" y="23796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4000" spc="-1" strike="noStrike">
                    <a:solidFill>
                      <a:srgbClr val="660066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7" name=""/>
          <p:cNvGrpSpPr/>
          <p:nvPr/>
        </p:nvGrpSpPr>
        <p:grpSpPr>
          <a:xfrm>
            <a:off x="1789200" y="2666880"/>
            <a:ext cx="336240" cy="473040"/>
            <a:chOff x="1789200" y="2666880"/>
            <a:chExt cx="336240" cy="473040"/>
          </a:xfrm>
        </p:grpSpPr>
        <p:sp>
          <p:nvSpPr>
            <p:cNvPr id="1368" name=""/>
            <p:cNvSpPr/>
            <p:nvPr/>
          </p:nvSpPr>
          <p:spPr>
            <a:xfrm>
              <a:off x="1789200" y="26668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008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49320" y="3013200"/>
              <a:ext cx="127080" cy="1267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95400" y="3073320"/>
            <a:ext cx="124308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500200" y="-4697280"/>
            <a:ext cx="9528480" cy="10366920"/>
            <a:chOff x="2500200" y="-4697280"/>
            <a:chExt cx="9528480" cy="10366920"/>
          </a:xfrm>
        </p:grpSpPr>
        <p:sp>
          <p:nvSpPr>
            <p:cNvPr id="1373" name=""/>
            <p:cNvSpPr/>
            <p:nvPr/>
          </p:nvSpPr>
          <p:spPr>
            <a:xfrm>
              <a:off x="2500200" y="-4697280"/>
              <a:ext cx="9528480" cy="103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42" y="20887"/>
                  </a:moveTo>
                  <a:arcTo wR="10800" hR="10800" stAng="6655724" swAng="326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6942" y="20887"/>
                  </a:moveTo>
                  <a:arcTo wR="10800" hR="10800" stAng="6655724" swAng="3266646"/>
                </a:path>
              </a:pathLst>
            </a:custGeom>
            <a:noFill/>
            <a:ln cap="rnd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70640" y="5160960"/>
              <a:ext cx="831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Times New Roman"/>
                </a:rPr>
                <a:t>ADI</a:t>
              </a:r>
              <a:r>
                <a:rPr b="0" i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546360" y="5919840"/>
            <a:ext cx="446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70280" y="4013280"/>
            <a:ext cx="0" cy="1860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11440" y="-2097000"/>
            <a:ext cx="16671240" cy="69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22" y="21209"/>
                </a:moveTo>
                <a:arcTo wR="10800" hR="10800" stAng="6327347" swAng="3353541"/>
                <a:lnTo>
                  <a:pt x="10800" y="10800"/>
                </a:lnTo>
                <a:close/>
              </a:path>
              <a:path fill="none" w="21600" h="21600">
                <a:moveTo>
                  <a:pt x="7922" y="21209"/>
                </a:moveTo>
                <a:arcTo wR="10800" hR="10800" stAng="6327347" swAng="3353541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904080" y="4459320"/>
            <a:ext cx="853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ADI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85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88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708360" y="39369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22680" y="35384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228680" y="3070080"/>
            <a:ext cx="66672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95400" y="3070080"/>
            <a:ext cx="0" cy="28036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905200" y="3070080"/>
            <a:ext cx="436680" cy="3288960"/>
            <a:chOff x="2905200" y="3070080"/>
            <a:chExt cx="436680" cy="3288960"/>
          </a:xfrm>
        </p:grpSpPr>
        <p:sp>
          <p:nvSpPr>
            <p:cNvPr id="1395" name=""/>
            <p:cNvSpPr/>
            <p:nvPr/>
          </p:nvSpPr>
          <p:spPr>
            <a:xfrm>
              <a:off x="3124080" y="3070080"/>
              <a:ext cx="0" cy="280368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0520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676160" y="59198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789200" y="266688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076560" y="2678040"/>
            <a:ext cx="320760" cy="451080"/>
            <a:chOff x="3076560" y="2678040"/>
            <a:chExt cx="320760" cy="451080"/>
          </a:xfrm>
        </p:grpSpPr>
        <p:sp>
          <p:nvSpPr>
            <p:cNvPr id="1400" name=""/>
            <p:cNvSpPr/>
            <p:nvPr/>
          </p:nvSpPr>
          <p:spPr>
            <a:xfrm>
              <a:off x="3076560" y="26780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078000" y="3002040"/>
              <a:ext cx="127080" cy="1270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49320" y="3013200"/>
            <a:ext cx="127080" cy="1267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75120" y="776160"/>
            <a:ext cx="5713200" cy="14763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: based on Taylor rule giving rel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 weight to stable real 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806400" y="2379600"/>
            <a:ext cx="777960" cy="878760"/>
            <a:chOff x="806400" y="2379600"/>
            <a:chExt cx="777960" cy="878760"/>
          </a:xfrm>
        </p:grpSpPr>
        <p:sp>
          <p:nvSpPr>
            <p:cNvPr id="1405" name=""/>
            <p:cNvSpPr/>
            <p:nvPr/>
          </p:nvSpPr>
          <p:spPr>
            <a:xfrm>
              <a:off x="806400" y="283680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79840" y="23796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the problem of de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national debt and public-sector deb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Nature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93640" y="4492800"/>
            <a:ext cx="165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7915320" y="115236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6720" y="541440"/>
            <a:ext cx="727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,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044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-8593560" y="-5985720"/>
            <a:ext cx="17431560" cy="11971440"/>
            <a:chOff x="-8593560" y="-5985720"/>
            <a:chExt cx="17431560" cy="11971440"/>
          </a:xfrm>
        </p:grpSpPr>
        <p:sp>
          <p:nvSpPr>
            <p:cNvPr id="283" name=""/>
            <p:cNvSpPr/>
            <p:nvPr/>
          </p:nvSpPr>
          <p:spPr>
            <a:xfrm>
              <a:off x="-8593560" y="-5985720"/>
              <a:ext cx="17431560" cy="1197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7" y="16016"/>
                  </a:moveTo>
                  <a:arcTo wR="10800" hR="10800" stAng="1732587" swAng="3161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7" y="16016"/>
                  </a:moveTo>
                  <a:arcTo wR="10800" hR="10800" stAng="1732587" swAng="316157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2840" y="2495520"/>
              <a:ext cx="160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Tax reve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60" y="1392120"/>
            <a:ext cx="15806520" cy="4442760"/>
            <a:chOff x="2160" y="1392120"/>
            <a:chExt cx="15806520" cy="4442760"/>
          </a:xfrm>
        </p:grpSpPr>
        <p:sp>
          <p:nvSpPr>
            <p:cNvPr id="286" name=""/>
            <p:cNvSpPr/>
            <p:nvPr/>
          </p:nvSpPr>
          <p:spPr>
            <a:xfrm>
              <a:off x="2160" y="1392120"/>
              <a:ext cx="15806520" cy="374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757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75762"/>
                </a:path>
              </a:pathLst>
            </a:custGeom>
            <a:noFill/>
            <a:ln cap="rnd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440" y="5132520"/>
              <a:ext cx="2125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Gov. expend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(incl. benef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665600" y="4946760"/>
            <a:ext cx="436680" cy="1467720"/>
            <a:chOff x="4665600" y="4946760"/>
            <a:chExt cx="436680" cy="1467720"/>
          </a:xfrm>
        </p:grpSpPr>
        <p:sp>
          <p:nvSpPr>
            <p:cNvPr id="289" name=""/>
            <p:cNvSpPr/>
            <p:nvPr/>
          </p:nvSpPr>
          <p:spPr>
            <a:xfrm>
              <a:off x="4896000" y="5022720"/>
              <a:ext cx="4680" cy="91620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5600" y="597528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44880" y="4946760"/>
              <a:ext cx="103320" cy="10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61680" y="497664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5960" y="4317840"/>
            <a:ext cx="163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National income and the size of the public-sector deficit or surplus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388620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4191120"/>
            <a:ext cx="1219320" cy="60948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92920" y="467820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2560" y="459252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4952880"/>
            <a:ext cx="1219320" cy="60984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0120" y="544032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Effectiveness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2689200"/>
            <a:ext cx="9144000" cy="416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9840" y="2195640"/>
            <a:ext cx="2301840" cy="92052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04240" y="2328840"/>
            <a:ext cx="2307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Effect o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demand for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902120" y="3502080"/>
            <a:ext cx="109872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665760" y="2176560"/>
            <a:ext cx="2159280" cy="1062000"/>
            <a:chOff x="6665760" y="2176560"/>
            <a:chExt cx="2159280" cy="1062000"/>
          </a:xfrm>
        </p:grpSpPr>
        <p:sp>
          <p:nvSpPr>
            <p:cNvPr id="564" name=""/>
            <p:cNvSpPr/>
            <p:nvPr/>
          </p:nvSpPr>
          <p:spPr>
            <a:xfrm>
              <a:off x="6665760" y="2176560"/>
              <a:ext cx="2159280" cy="106200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2960" y="2217600"/>
              <a:ext cx="2010960" cy="1007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Accommod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increa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money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018120" y="3502080"/>
            <a:ext cx="4953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18160" y="1895400"/>
            <a:ext cx="0" cy="2820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30880" y="1509840"/>
            <a:ext cx="57816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46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64160" y="3446640"/>
            <a:ext cx="10188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ize of the multiplier and accelerator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501920" y="870120"/>
            <a:ext cx="4365360" cy="519120"/>
            <a:chOff x="1501920" y="870120"/>
            <a:chExt cx="4365360" cy="519120"/>
          </a:xfrm>
        </p:grpSpPr>
        <p:sp>
          <p:nvSpPr>
            <p:cNvPr id="605" name=""/>
            <p:cNvSpPr/>
            <p:nvPr/>
          </p:nvSpPr>
          <p:spPr>
            <a:xfrm>
              <a:off x="1501920" y="870120"/>
              <a:ext cx="4365360" cy="51912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679400" y="1138320"/>
              <a:ext cx="8049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0040" y="938160"/>
              <a:ext cx="290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Path (a): no inter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01920" y="870120"/>
            <a:ext cx="4365360" cy="923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697040" y="1309680"/>
            <a:ext cx="3863880" cy="397440"/>
            <a:chOff x="1697040" y="1309680"/>
            <a:chExt cx="3863880" cy="397440"/>
          </a:xfrm>
        </p:grpSpPr>
        <p:sp>
          <p:nvSpPr>
            <p:cNvPr id="638" name=""/>
            <p:cNvSpPr/>
            <p:nvPr/>
          </p:nvSpPr>
          <p:spPr>
            <a:xfrm>
              <a:off x="1697040" y="1487520"/>
              <a:ext cx="8175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59600" y="1309680"/>
              <a:ext cx="300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Path (b): policy 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01920" y="870120"/>
            <a:ext cx="4365360" cy="12524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1487520"/>
            <a:ext cx="157464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0995" swAng="747038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0995" swAng="7470382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00200" y="231300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56280" y="-219960"/>
            <a:ext cx="1491120" cy="544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8"/>
                </a:moveTo>
                <a:arcTo wR="10800" hR="10800" stAng="1020190" swAng="7992895"/>
                <a:lnTo>
                  <a:pt x="10800" y="10800"/>
                </a:lnTo>
                <a:close/>
              </a:path>
              <a:path fill="none" w="21600" h="21600">
                <a:moveTo>
                  <a:pt x="21128" y="13958"/>
                </a:moveTo>
                <a:arcTo wR="10800" hR="10800" stAng="1020190" swAng="7992895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92680" y="136512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85400" y="-587160"/>
            <a:ext cx="157752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4" y="21466"/>
                </a:moveTo>
                <a:arcTo wR="10800" hR="10800" stAng="5942236" swAng="2549141"/>
                <a:lnTo>
                  <a:pt x="10800" y="10800"/>
                </a:lnTo>
                <a:close/>
              </a:path>
              <a:path fill="none" w="21600" h="21600">
                <a:moveTo>
                  <a:pt x="9104" y="21466"/>
                </a:moveTo>
                <a:arcTo wR="10800" hR="10800" stAng="5942236" swAng="2549141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97040" y="1487520"/>
            <a:ext cx="81756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697040" y="1646280"/>
            <a:ext cx="4139280" cy="397440"/>
            <a:chOff x="1697040" y="1646280"/>
            <a:chExt cx="4139280" cy="397440"/>
          </a:xfrm>
        </p:grpSpPr>
        <p:sp>
          <p:nvSpPr>
            <p:cNvPr id="667" name=""/>
            <p:cNvSpPr/>
            <p:nvPr/>
          </p:nvSpPr>
          <p:spPr>
            <a:xfrm flipV="1">
              <a:off x="1697040" y="1835280"/>
              <a:ext cx="817560" cy="1440"/>
            </a:xfrm>
            <a:prstGeom prst="line">
              <a:avLst/>
            </a:prstGeom>
            <a:ln w="28440">
              <a:solidFill>
                <a:srgbClr val="a5002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65000" y="1646280"/>
              <a:ext cx="327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Path (c): policy de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59600" y="1309680"/>
            <a:ext cx="300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th (b): policy stabil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111560"/>
            <a:ext cx="9144000" cy="274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hanging government expenditure versus changing tax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Varietie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istorical approaches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urrent approach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ontrol of money supply over medium and long term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ntrol of banks’ liquidity ratio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stricting size of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hort-term monetary control: the alternativ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70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802160" y="-4723920"/>
            <a:ext cx="11791080" cy="10314720"/>
            <a:chOff x="1802160" y="-4723920"/>
            <a:chExt cx="11791080" cy="10314720"/>
          </a:xfrm>
        </p:grpSpPr>
        <p:sp>
          <p:nvSpPr>
            <p:cNvPr id="70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27880" y="51325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70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71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27880" y="513252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73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73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73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i="1" lang="en-US" sz="28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4635360"/>
          <a:ext cx="9144000" cy="160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635360"/>
                    <a:ext cx="914400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4095720"/>
            <a:ext cx="479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w position: 2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532480"/>
            <a:ext cx="9144000" cy="13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129120" y="1096920"/>
            <a:ext cx="1677240" cy="4846320"/>
            <a:chOff x="3129120" y="1096920"/>
            <a:chExt cx="1677240" cy="4846320"/>
          </a:xfrm>
        </p:grpSpPr>
        <p:sp>
          <p:nvSpPr>
            <p:cNvPr id="780" name=""/>
            <p:cNvSpPr/>
            <p:nvPr/>
          </p:nvSpPr>
          <p:spPr>
            <a:xfrm flipV="1">
              <a:off x="3886200" y="1523520"/>
              <a:ext cx="0" cy="44197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9120" y="109692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81480" y="4400640"/>
            <a:ext cx="3222360" cy="439200"/>
            <a:chOff x="681480" y="4400640"/>
            <a:chExt cx="3222360" cy="439200"/>
          </a:xfrm>
        </p:grpSpPr>
        <p:sp>
          <p:nvSpPr>
            <p:cNvPr id="783" name=""/>
            <p:cNvSpPr/>
            <p:nvPr/>
          </p:nvSpPr>
          <p:spPr>
            <a:xfrm flipH="1">
              <a:off x="1084320" y="4633920"/>
              <a:ext cx="281952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480" y="4400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-7537320" y="-3975840"/>
            <a:ext cx="16331040" cy="11475720"/>
            <a:chOff x="-7537320" y="-3975840"/>
            <a:chExt cx="16331040" cy="11475720"/>
          </a:xfrm>
        </p:grpSpPr>
        <p:sp>
          <p:nvSpPr>
            <p:cNvPr id="786" name=""/>
            <p:cNvSpPr/>
            <p:nvPr/>
          </p:nvSpPr>
          <p:spPr>
            <a:xfrm rot="20640000">
              <a:off x="-6762240" y="-2087640"/>
              <a:ext cx="1478160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1" y="16220"/>
                  </a:moveTo>
                  <a:arcTo wR="10800" hR="10800" stAng="1807450" swAng="35925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1" y="16220"/>
                  </a:moveTo>
                  <a:arcTo wR="10800" hR="10800" stAng="1807450" swAng="359255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72320" y="1332000"/>
              <a:ext cx="2207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681480" y="3392640"/>
            <a:ext cx="4915800" cy="439200"/>
            <a:chOff x="681480" y="3392640"/>
            <a:chExt cx="4915800" cy="439200"/>
          </a:xfrm>
        </p:grpSpPr>
        <p:sp>
          <p:nvSpPr>
            <p:cNvPr id="791" name=""/>
            <p:cNvSpPr/>
            <p:nvPr/>
          </p:nvSpPr>
          <p:spPr>
            <a:xfrm flipH="1">
              <a:off x="1091880" y="3625920"/>
              <a:ext cx="45054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1480" y="3392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0640000">
            <a:off x="-6762240" y="-2087640"/>
            <a:ext cx="1478160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41" y="16220"/>
                </a:moveTo>
                <a:arcTo wR="10800" hR="10800" stAng="1807450" swAng="3592550"/>
                <a:lnTo>
                  <a:pt x="10800" y="10800"/>
                </a:lnTo>
                <a:close/>
              </a:path>
              <a:path fill="none" w="21600" h="21600">
                <a:moveTo>
                  <a:pt x="20141" y="16220"/>
                </a:moveTo>
                <a:arcTo wR="10800" hR="10800" stAng="1807450" swAng="359255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886200" y="1523520"/>
            <a:ext cx="0" cy="44197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9120" y="1096920"/>
            <a:ext cx="167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893120" y="1305000"/>
            <a:ext cx="1677240" cy="4589280"/>
            <a:chOff x="4893120" y="1305000"/>
            <a:chExt cx="1677240" cy="4589280"/>
          </a:xfrm>
        </p:grpSpPr>
        <p:sp>
          <p:nvSpPr>
            <p:cNvPr id="803" name=""/>
            <p:cNvSpPr/>
            <p:nvPr/>
          </p:nvSpPr>
          <p:spPr>
            <a:xfrm flipV="1">
              <a:off x="5595840" y="1725480"/>
              <a:ext cx="0" cy="4168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93120" y="130500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545080" y="356220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22640" y="2787480"/>
            <a:ext cx="12636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36640" y="3868560"/>
            <a:ext cx="0" cy="495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2320" y="1332000"/>
            <a:ext cx="220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084320" y="4633920"/>
            <a:ext cx="281952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1480" y="44006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3000" y="-3975480"/>
            <a:ext cx="16330320" cy="11475360"/>
            <a:chOff x="603000" y="-3975480"/>
            <a:chExt cx="16330320" cy="11475360"/>
          </a:xfrm>
        </p:grpSpPr>
        <p:sp>
          <p:nvSpPr>
            <p:cNvPr id="815" name=""/>
            <p:cNvSpPr/>
            <p:nvPr/>
          </p:nvSpPr>
          <p:spPr>
            <a:xfrm rot="960000">
              <a:off x="1377720" y="-2087280"/>
              <a:ext cx="1478088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92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92920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56120" y="4726080"/>
              <a:ext cx="220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255920" y="1122480"/>
            <a:ext cx="1692360" cy="4809600"/>
            <a:chOff x="4255920" y="1122480"/>
            <a:chExt cx="1692360" cy="4809600"/>
          </a:xfrm>
        </p:grpSpPr>
        <p:sp>
          <p:nvSpPr>
            <p:cNvPr id="825" name=""/>
            <p:cNvSpPr/>
            <p:nvPr/>
          </p:nvSpPr>
          <p:spPr>
            <a:xfrm flipV="1">
              <a:off x="4967280" y="1512720"/>
              <a:ext cx="0" cy="4419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55920" y="11224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54560" y="4125960"/>
            <a:ext cx="4211280" cy="439200"/>
            <a:chOff x="754560" y="4125960"/>
            <a:chExt cx="4211280" cy="439200"/>
          </a:xfrm>
        </p:grpSpPr>
        <p:sp>
          <p:nvSpPr>
            <p:cNvPr id="828" name=""/>
            <p:cNvSpPr/>
            <p:nvPr/>
          </p:nvSpPr>
          <p:spPr>
            <a:xfrm flipH="1" flipV="1">
              <a:off x="1092240" y="4344840"/>
              <a:ext cx="3873600" cy="79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560" y="41259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916520" y="4295880"/>
            <a:ext cx="103320" cy="10296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960000">
            <a:off x="1377720" y="-2087280"/>
            <a:ext cx="1478088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59292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592920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967280" y="1512360"/>
            <a:ext cx="0" cy="4419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5920" y="1096920"/>
            <a:ext cx="169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1092240" y="4344840"/>
            <a:ext cx="3873600" cy="79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54560" y="412596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16520" y="428292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630160" y="1336680"/>
            <a:ext cx="1692360" cy="4588920"/>
            <a:chOff x="2630160" y="1336680"/>
            <a:chExt cx="1692360" cy="4588920"/>
          </a:xfrm>
        </p:grpSpPr>
        <p:sp>
          <p:nvSpPr>
            <p:cNvPr id="845" name=""/>
            <p:cNvSpPr/>
            <p:nvPr/>
          </p:nvSpPr>
          <p:spPr>
            <a:xfrm flipV="1">
              <a:off x="3403440" y="1703160"/>
              <a:ext cx="0" cy="422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30160" y="13366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 flipH="1">
            <a:off x="3619440" y="2678040"/>
            <a:ext cx="130032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740160" y="3106800"/>
            <a:ext cx="2677680" cy="439200"/>
            <a:chOff x="740160" y="3106800"/>
            <a:chExt cx="2677680" cy="439200"/>
          </a:xfrm>
        </p:grpSpPr>
        <p:sp>
          <p:nvSpPr>
            <p:cNvPr id="849" name=""/>
            <p:cNvSpPr/>
            <p:nvPr/>
          </p:nvSpPr>
          <p:spPr>
            <a:xfrm flipH="1">
              <a:off x="1092240" y="3319560"/>
              <a:ext cx="232560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0160" y="3106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flipV="1">
            <a:off x="909720" y="3538080"/>
            <a:ext cx="0" cy="56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56120" y="4726080"/>
            <a:ext cx="220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3263760"/>
            <a:ext cx="103320" cy="1033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12800" y="1217520"/>
            <a:ext cx="8431200" cy="525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Problem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utomatic fiscal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desire to cut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fficulty in cutt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actical difficulties in short-run control of the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monetary base control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controlling broad liquid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effect on interest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66680" y="79056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79056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66680" y="612468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45200" y="60786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68560" y="645948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6200000">
            <a:off x="-552960" y="34833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397320" y="896760"/>
            <a:ext cx="549360" cy="5224320"/>
            <a:chOff x="3397320" y="896760"/>
            <a:chExt cx="549360" cy="5224320"/>
          </a:xfrm>
        </p:grpSpPr>
        <p:sp>
          <p:nvSpPr>
            <p:cNvPr id="876" name=""/>
            <p:cNvSpPr/>
            <p:nvPr/>
          </p:nvSpPr>
          <p:spPr>
            <a:xfrm flipV="1">
              <a:off x="3619440" y="1321920"/>
              <a:ext cx="0" cy="47991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97320" y="896760"/>
              <a:ext cx="549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792080" y="-5465160"/>
            <a:ext cx="13030560" cy="11561760"/>
            <a:chOff x="1792080" y="-5465160"/>
            <a:chExt cx="13030560" cy="11561760"/>
          </a:xfrm>
        </p:grpSpPr>
        <p:sp>
          <p:nvSpPr>
            <p:cNvPr id="879" name=""/>
            <p:cNvSpPr/>
            <p:nvPr/>
          </p:nvSpPr>
          <p:spPr>
            <a:xfrm>
              <a:off x="1792080" y="-5465160"/>
              <a:ext cx="13030560" cy="1153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8" y="21354"/>
                  </a:moveTo>
                  <a:arcTo wR="10800" hR="10800" stAng="6135230" swAng="4065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8" y="21354"/>
                  </a:moveTo>
                  <a:arcTo wR="10800" hR="10800" stAng="6135230" swAng="4065017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50880" y="5699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576600" y="4255920"/>
            <a:ext cx="103320" cy="1033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05600" y="4086360"/>
            <a:ext cx="2877480" cy="397440"/>
            <a:chOff x="705600" y="4086360"/>
            <a:chExt cx="2877480" cy="397440"/>
          </a:xfrm>
        </p:grpSpPr>
        <p:sp>
          <p:nvSpPr>
            <p:cNvPr id="883" name=""/>
            <p:cNvSpPr/>
            <p:nvPr/>
          </p:nvSpPr>
          <p:spPr>
            <a:xfrm flipH="1">
              <a:off x="1057320" y="4305240"/>
              <a:ext cx="252576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600" y="408636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795400" y="-5361840"/>
            <a:ext cx="12198960" cy="10888920"/>
            <a:chOff x="2795400" y="-5361840"/>
            <a:chExt cx="12198960" cy="10888920"/>
          </a:xfrm>
        </p:grpSpPr>
        <p:sp>
          <p:nvSpPr>
            <p:cNvPr id="886" name=""/>
            <p:cNvSpPr/>
            <p:nvPr/>
          </p:nvSpPr>
          <p:spPr>
            <a:xfrm>
              <a:off x="2795400" y="-5361840"/>
              <a:ext cx="12198960" cy="1076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6" y="21354"/>
                  </a:moveTo>
                  <a:arcTo wR="10800" hR="10800" stAng="6135886" swAng="4064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6" y="21354"/>
                  </a:moveTo>
                  <a:arcTo wR="10800" hR="10800" stAng="6135886" swAng="4064837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22280" y="5068800"/>
              <a:ext cx="43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L</a:t>
              </a:r>
              <a:r>
                <a:rPr b="0" i="1" lang="en-US" sz="12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568680" y="2668680"/>
            <a:ext cx="10332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14960" y="2498760"/>
            <a:ext cx="2872800" cy="439200"/>
            <a:chOff x="714960" y="2498760"/>
            <a:chExt cx="2872800" cy="439200"/>
          </a:xfrm>
        </p:grpSpPr>
        <p:sp>
          <p:nvSpPr>
            <p:cNvPr id="890" name=""/>
            <p:cNvSpPr/>
            <p:nvPr/>
          </p:nvSpPr>
          <p:spPr>
            <a:xfrm flipH="1">
              <a:off x="1062000" y="2717640"/>
              <a:ext cx="252576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960" y="24987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334040" y="4748040"/>
            <a:ext cx="12826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36640" y="2897280"/>
            <a:ext cx="0" cy="11365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71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effect on interest rates of a change in demand for money: money supply kept at fixed level by the authoritie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911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919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933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ssible conflict between domestic goals and exchange-rate go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of using it to manage aggregate deman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sing it to keep to a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f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change r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ney supply 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2368440"/>
            <a:ext cx="6502320" cy="30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Analysis of Fiscal and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quilibrium in both the goods and money marke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707400" y="3686040"/>
            <a:ext cx="3425040" cy="508680"/>
            <a:chOff x="707400" y="3686040"/>
            <a:chExt cx="3425040" cy="508680"/>
          </a:xfrm>
        </p:grpSpPr>
        <p:sp>
          <p:nvSpPr>
            <p:cNvPr id="965" name=""/>
            <p:cNvSpPr/>
            <p:nvPr/>
          </p:nvSpPr>
          <p:spPr>
            <a:xfrm>
              <a:off x="707400" y="3686040"/>
              <a:ext cx="3693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074600" y="3924360"/>
              <a:ext cx="305784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938760" y="3941640"/>
            <a:ext cx="453240" cy="2488320"/>
            <a:chOff x="3938760" y="3941640"/>
            <a:chExt cx="453240" cy="2488320"/>
          </a:xfrm>
        </p:grpSpPr>
        <p:sp>
          <p:nvSpPr>
            <p:cNvPr id="968" name=""/>
            <p:cNvSpPr/>
            <p:nvPr/>
          </p:nvSpPr>
          <p:spPr>
            <a:xfrm>
              <a:off x="4146480" y="3941640"/>
              <a:ext cx="0" cy="19972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38760" y="5921280"/>
              <a:ext cx="45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345000" y="7398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8120" y="512640"/>
          <a:ext cx="8704440" cy="63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12640"/>
                    <a:ext cx="8704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1168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07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9268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1080" y="3179880"/>
            <a:ext cx="4235040" cy="439200"/>
            <a:chOff x="721080" y="3179880"/>
            <a:chExt cx="4235040" cy="439200"/>
          </a:xfrm>
        </p:grpSpPr>
        <p:sp>
          <p:nvSpPr>
            <p:cNvPr id="1010" name=""/>
            <p:cNvSpPr/>
            <p:nvPr/>
          </p:nvSpPr>
          <p:spPr>
            <a:xfrm flipH="1">
              <a:off x="1074600" y="3392640"/>
              <a:ext cx="388152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1080" y="31798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744800" y="3392640"/>
            <a:ext cx="436680" cy="2975760"/>
            <a:chOff x="4744800" y="3392640"/>
            <a:chExt cx="436680" cy="2975760"/>
          </a:xfrm>
        </p:grpSpPr>
        <p:sp>
          <p:nvSpPr>
            <p:cNvPr id="1013" name=""/>
            <p:cNvSpPr/>
            <p:nvPr/>
          </p:nvSpPr>
          <p:spPr>
            <a:xfrm>
              <a:off x="4956120" y="3392640"/>
              <a:ext cx="0" cy="252864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44800" y="59292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03680" y="1144440"/>
            <a:ext cx="208260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58040" y="122220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98880" y="333684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40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22880" y="4278240"/>
            <a:ext cx="4543920" cy="439200"/>
            <a:chOff x="722880" y="4278240"/>
            <a:chExt cx="4543920" cy="439200"/>
          </a:xfrm>
        </p:grpSpPr>
        <p:sp>
          <p:nvSpPr>
            <p:cNvPr id="1043" name=""/>
            <p:cNvSpPr/>
            <p:nvPr/>
          </p:nvSpPr>
          <p:spPr>
            <a:xfrm flipH="1">
              <a:off x="1091880" y="4491000"/>
              <a:ext cx="417492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880" y="42782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056200" y="4527720"/>
            <a:ext cx="436680" cy="1856520"/>
            <a:chOff x="5056200" y="4527720"/>
            <a:chExt cx="436680" cy="1856520"/>
          </a:xfrm>
        </p:grpSpPr>
        <p:sp>
          <p:nvSpPr>
            <p:cNvPr id="1046" name=""/>
            <p:cNvSpPr/>
            <p:nvPr/>
          </p:nvSpPr>
          <p:spPr>
            <a:xfrm>
              <a:off x="5230800" y="4527720"/>
              <a:ext cx="0" cy="141120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56200" y="59450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192640" y="443700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09960" y="1144440"/>
            <a:ext cx="243216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77640" y="12222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and monetary policy togethe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58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42932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75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032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4224240" y="3924360"/>
            <a:ext cx="18669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5873760" y="3944880"/>
            <a:ext cx="436680" cy="2452320"/>
            <a:chOff x="5873760" y="3944880"/>
            <a:chExt cx="436680" cy="2452320"/>
          </a:xfrm>
        </p:grpSpPr>
        <p:sp>
          <p:nvSpPr>
            <p:cNvPr id="1079" name=""/>
            <p:cNvSpPr/>
            <p:nvPr/>
          </p:nvSpPr>
          <p:spPr>
            <a:xfrm>
              <a:off x="6083280" y="3944880"/>
              <a:ext cx="0" cy="198432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73760" y="59580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581280" y="719280"/>
            <a:ext cx="2330640" cy="13446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79480" y="797040"/>
            <a:ext cx="231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isc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35760" y="3887640"/>
            <a:ext cx="102960" cy="103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8782200" y="-2691720"/>
            <a:ext cx="1773576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00" y="16616"/>
                </a:moveTo>
                <a:arcTo wR="10800" hR="10800" stAng="1954903" swAng="2931581"/>
                <a:lnTo>
                  <a:pt x="10800" y="10800"/>
                </a:lnTo>
                <a:close/>
              </a:path>
              <a:path fill="none" w="21600" h="21600">
                <a:moveTo>
                  <a:pt x="19900" y="16616"/>
                </a:moveTo>
                <a:arcTo wR="10800" hR="10800" stAng="1954903" swAng="293158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519680" y="22939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63960" y="551196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3816000" y="-4039200"/>
            <a:ext cx="10779120" cy="10546560"/>
            <a:chOff x="3816000" y="-4039200"/>
            <a:chExt cx="10779120" cy="10546560"/>
          </a:xfrm>
        </p:grpSpPr>
        <p:sp>
          <p:nvSpPr>
            <p:cNvPr id="1103" name=""/>
            <p:cNvSpPr/>
            <p:nvPr/>
          </p:nvSpPr>
          <p:spPr>
            <a:xfrm rot="600000">
              <a:off x="4531680" y="-3296160"/>
              <a:ext cx="9347400" cy="90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95" y="21082"/>
                  </a:moveTo>
                  <a:arcTo wR="10800" hR="10800" stAng="6469287" swAng="3675175"/>
                  <a:lnTo>
                    <a:pt x="10800" y="10800"/>
                  </a:lnTo>
                  <a:close/>
                </a:path>
                <a:path fill="none" w="21600" h="21600">
                  <a:moveTo>
                    <a:pt x="7495" y="21082"/>
                  </a:moveTo>
                  <a:arcTo wR="10800" hR="10800" stAng="6469287" swAng="3675175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18200" y="494820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5229360" y="35942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094360" y="3703680"/>
            <a:ext cx="436680" cy="2647440"/>
            <a:chOff x="5094360" y="3703680"/>
            <a:chExt cx="436680" cy="2647440"/>
          </a:xfrm>
        </p:grpSpPr>
        <p:sp>
          <p:nvSpPr>
            <p:cNvPr id="1107" name=""/>
            <p:cNvSpPr/>
            <p:nvPr/>
          </p:nvSpPr>
          <p:spPr>
            <a:xfrm>
              <a:off x="5272200" y="3703680"/>
              <a:ext cx="0" cy="221760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9436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208160" y="27018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26240" y="27795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21040" y="30639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8781840" y="-2691720"/>
            <a:ext cx="1773468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76" y="16654"/>
                </a:moveTo>
                <a:arcTo wR="10800" hR="10800" stAng="1969516" swAng="2916967"/>
                <a:lnTo>
                  <a:pt x="10800" y="10800"/>
                </a:lnTo>
                <a:close/>
              </a:path>
              <a:path fill="none" w="21600" h="21600">
                <a:moveTo>
                  <a:pt x="19876" y="16654"/>
                </a:moveTo>
                <a:arcTo wR="10800" hR="10800" stAng="1969516" swAng="291696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69280" y="229392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12560" y="551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7828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141800" y="4272120"/>
            <a:ext cx="436680" cy="2079000"/>
            <a:chOff x="4141800" y="4272120"/>
            <a:chExt cx="436680" cy="2079000"/>
          </a:xfrm>
        </p:grpSpPr>
        <p:sp>
          <p:nvSpPr>
            <p:cNvPr id="1131" name=""/>
            <p:cNvSpPr/>
            <p:nvPr/>
          </p:nvSpPr>
          <p:spPr>
            <a:xfrm>
              <a:off x="4276800" y="4272120"/>
              <a:ext cx="0" cy="16491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180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522680" y="1273320"/>
            <a:ext cx="2332080" cy="9950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33480" y="135108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-8111880" y="-2750400"/>
            <a:ext cx="18626760" cy="7132680"/>
            <a:chOff x="-8111880" y="-2750400"/>
            <a:chExt cx="18626760" cy="7132680"/>
          </a:xfrm>
        </p:grpSpPr>
        <p:sp>
          <p:nvSpPr>
            <p:cNvPr id="1136" name=""/>
            <p:cNvSpPr/>
            <p:nvPr/>
          </p:nvSpPr>
          <p:spPr>
            <a:xfrm>
              <a:off x="7512120" y="314316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8111880" y="-2750400"/>
              <a:ext cx="18626760" cy="713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01" y="18849"/>
                  </a:moveTo>
                  <a:arcTo wR="10800" hR="10800" stAng="2890777" swAng="2419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01" y="18849"/>
                  </a:moveTo>
                  <a:arcTo wR="10800" hR="10800" stAng="2890777" swAng="241953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5964120" y="35211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222800" y="412596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38120" y="509760"/>
          <a:ext cx="8704440" cy="63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09760"/>
                    <a:ext cx="87044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43120" y="6444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76920" y="422928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160880" y="3557520"/>
            <a:ext cx="436680" cy="2793600"/>
            <a:chOff x="4160880" y="3557520"/>
            <a:chExt cx="436680" cy="2793600"/>
          </a:xfrm>
        </p:grpSpPr>
        <p:sp>
          <p:nvSpPr>
            <p:cNvPr id="1163" name=""/>
            <p:cNvSpPr/>
            <p:nvPr/>
          </p:nvSpPr>
          <p:spPr>
            <a:xfrm>
              <a:off x="4276800" y="3557520"/>
              <a:ext cx="1440" cy="234468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6088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5218200" y="20430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36280" y="21207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84360" y="32097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703160" y="-3490560"/>
            <a:ext cx="14289480" cy="8165880"/>
            <a:chOff x="1703160" y="-3490560"/>
            <a:chExt cx="14289480" cy="8165880"/>
          </a:xfrm>
        </p:grpSpPr>
        <p:sp>
          <p:nvSpPr>
            <p:cNvPr id="1169" name=""/>
            <p:cNvSpPr/>
            <p:nvPr/>
          </p:nvSpPr>
          <p:spPr>
            <a:xfrm>
              <a:off x="7567200" y="38149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21300000">
              <a:off x="1981800" y="-2905560"/>
              <a:ext cx="13731840" cy="69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23" y="21312"/>
                  </a:moveTo>
                  <a:arcTo wR="10800" hR="10800" stAng="6195666" swAng="3848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8323" y="21312"/>
                  </a:moveTo>
                  <a:arcTo wR="10800" hR="10800" stAng="6195666" swAng="38480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4222800" y="34466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5920" y="64440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5520" y="41925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076720" y="4125960"/>
            <a:ext cx="436680" cy="2226600"/>
            <a:chOff x="5076720" y="4125960"/>
            <a:chExt cx="436680" cy="2226600"/>
          </a:xfrm>
        </p:grpSpPr>
        <p:sp>
          <p:nvSpPr>
            <p:cNvPr id="1191" name=""/>
            <p:cNvSpPr/>
            <p:nvPr/>
          </p:nvSpPr>
          <p:spPr>
            <a:xfrm>
              <a:off x="5248440" y="4125960"/>
              <a:ext cx="1440" cy="17589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76720" y="59133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4498920" y="29163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6040" y="1052640"/>
            <a:ext cx="233208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95760" y="11304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22520" y="-6253920"/>
            <a:ext cx="5493240" cy="12520800"/>
            <a:chOff x="722520" y="-6253920"/>
            <a:chExt cx="5493240" cy="12520800"/>
          </a:xfrm>
        </p:grpSpPr>
        <p:sp>
          <p:nvSpPr>
            <p:cNvPr id="1197" name=""/>
            <p:cNvSpPr/>
            <p:nvPr/>
          </p:nvSpPr>
          <p:spPr>
            <a:xfrm>
              <a:off x="722520" y="-6253920"/>
              <a:ext cx="5180760" cy="1252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6" y="12673"/>
                  </a:moveTo>
                  <a:arcTo wR="10800" hR="10800" stAng="599330" swAng="3519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6" y="12673"/>
                  </a:moveTo>
                  <a:arcTo wR="10800" hR="10800" stAng="599330" swAng="3519545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94760" y="706320"/>
              <a:ext cx="62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5194440" y="406872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23760" y="2685600"/>
            <a:ext cx="732024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Fiscal and Monetary Policy in the UK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57320" y="655560"/>
            <a:ext cx="3209760" cy="7034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26800" y="630360"/>
            <a:ext cx="202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1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651960" y="4916520"/>
            <a:ext cx="78757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057320" y="655560"/>
            <a:ext cx="3209760" cy="9590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800" y="630360"/>
            <a:ext cx="2022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89320" y="1441440"/>
            <a:ext cx="512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00480" y="1574640"/>
            <a:ext cx="49435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2-12-01T11:27:59Z</dcterms:modified>
  <cp:revision>89</cp:revision>
  <dc:subject/>
  <dc:title>Promoting active learning</dc:title>
</cp:coreProperties>
</file>