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381880" y="6324480"/>
            <a:ext cx="587520" cy="451800"/>
          </a:xfrm>
          <a:prstGeom prst="rect">
            <a:avLst/>
          </a:prstGeom>
          <a:noFill/>
          <a:ln w="0">
            <a:noFill/>
          </a:ln>
        </p:spPr>
        <p:txBody>
          <a:bodyPr lIns="0" rIns="0" tIns="0" bIns="0" anchor="t">
            <a:noAutofit/>
          </a:bodyPr>
          <a:p>
            <a:pPr>
              <a:lnSpc>
                <a:spcPct val="100000"/>
              </a:lnSpc>
            </a:pPr>
            <a:r>
              <a:rPr b="0" lang="en-US" sz="1600" spc="-1" strike="noStrike">
                <a:solidFill>
                  <a:srgbClr val="fcffd8"/>
                </a:solidFill>
                <a:latin typeface="Arial"/>
                <a:ea typeface="Arial"/>
              </a:rPr>
              <a:t>6-</a:t>
            </a:r>
            <a:fld id="{F5DC18C0-7248-4E82-A37B-F4C487E8D3E7}" type="slidenum">
              <a:rPr b="0" lang="en-US" sz="1600" spc="-1" strike="noStrike">
                <a:solidFill>
                  <a:srgbClr val="fcffd8"/>
                </a:solidFill>
                <a:latin typeface="Arial"/>
                <a:ea typeface="Arial"/>
              </a:rPr>
              <a:t>&lt;number&gt;</a:t>
            </a:fld>
            <a:endParaRPr b="0" lang="en-US" sz="1600" spc="-1" strike="noStrike">
              <a:solidFill>
                <a:srgbClr val="000000"/>
              </a:solidFill>
              <a:latin typeface="Arial"/>
            </a:endParaRPr>
          </a:p>
        </p:txBody>
      </p:sp>
      <p:sp>
        <p:nvSpPr>
          <p:cNvPr id="1" name=""/>
          <p:cNvSpPr txBox="1"/>
          <p:nvPr/>
        </p:nvSpPr>
        <p:spPr>
          <a:xfrm>
            <a:off x="3276720" y="6629400"/>
            <a:ext cx="2895480" cy="256680"/>
          </a:xfrm>
          <a:prstGeom prst="rect">
            <a:avLst/>
          </a:prstGeom>
          <a:noFill/>
          <a:ln w="0">
            <a:noFill/>
          </a:ln>
        </p:spPr>
        <p:txBody>
          <a:bodyPr lIns="0" rIns="0" tIns="0" bIns="0" anchor="t">
            <a:noAutofit/>
          </a:bodyPr>
          <a:p>
            <a:pPr algn="ctr">
              <a:lnSpc>
                <a:spcPct val="100000"/>
              </a:lnSpc>
            </a:pPr>
            <a:r>
              <a:rPr b="0" lang="en-US" sz="900" spc="-1" strike="noStrike">
                <a:solidFill>
                  <a:srgbClr val="ffcc66"/>
                </a:solidFill>
                <a:latin typeface="Arial"/>
                <a:ea typeface="Arial"/>
              </a:rPr>
              <a:t>Copyright</a:t>
            </a:r>
            <a:r>
              <a:rPr b="0" lang="en-US" sz="900" spc="-1" strike="noStrike">
                <a:solidFill>
                  <a:srgbClr val="ffcc66"/>
                </a:solidFill>
                <a:latin typeface="Symbol"/>
                <a:ea typeface="Symbol"/>
              </a:rPr>
              <a:t> ©</a:t>
            </a:r>
            <a:r>
              <a:rPr b="0" lang="en-US" sz="900" spc="-1" strike="noStrike">
                <a:solidFill>
                  <a:srgbClr val="ffcc66"/>
                </a:solidFill>
                <a:latin typeface="Arial"/>
                <a:ea typeface="Arial"/>
              </a:rPr>
              <a:t> Houghton Mifflin Company.  All rights reserved.</a:t>
            </a:r>
            <a:endParaRPr b="0" lang="en-US" sz="900" spc="-1" strike="noStrike">
              <a:solidFill>
                <a:srgbClr val="000000"/>
              </a:solidFill>
              <a:latin typeface="Arial"/>
            </a:endParaRPr>
          </a:p>
        </p:txBody>
      </p:sp>
      <p:sp>
        <p:nvSpPr>
          <p:cNvPr id="2" name=""/>
          <p:cNvSpPr/>
          <p:nvPr/>
        </p:nvSpPr>
        <p:spPr>
          <a:xfrm>
            <a:off x="374760" y="146160"/>
            <a:ext cx="8623440" cy="6489720"/>
          </a:xfrm>
          <a:prstGeom prst="rect">
            <a:avLst/>
          </a:prstGeom>
          <a:no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6480" y="-6480"/>
            <a:ext cx="622440" cy="6870600"/>
          </a:xfrm>
          <a:prstGeom prst="rect">
            <a:avLst/>
          </a:prstGeom>
          <a:blipFill rotWithShape="0">
            <a:blip r:embed="rId2"/>
            <a:tile tx="0" ty="0" sx="133018" sy="133018" algn="ctr"/>
          </a:blip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2" name=""/>
          <p:cNvSpPr txBox="1"/>
          <p:nvPr/>
        </p:nvSpPr>
        <p:spPr>
          <a:xfrm>
            <a:off x="990720" y="304920"/>
            <a:ext cx="7696080" cy="2057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hapter 6</a:t>
            </a:r>
            <a:br>
              <a:rPr sz="4400"/>
            </a:br>
            <a:r>
              <a:rPr b="1" lang="en-US" sz="4400" spc="-1" strike="noStrike">
                <a:solidFill>
                  <a:srgbClr val="ffcc66"/>
                </a:solidFill>
                <a:latin typeface="Arial"/>
                <a:ea typeface="Arial"/>
              </a:rPr>
              <a:t>Financial Reporting and Analysis</a:t>
            </a:r>
            <a:endParaRPr b="0" lang="en-US" sz="4400" spc="-1" strike="noStrike">
              <a:solidFill>
                <a:srgbClr val="ffffff"/>
              </a:solidFill>
              <a:latin typeface="Arial"/>
            </a:endParaRPr>
          </a:p>
        </p:txBody>
      </p:sp>
      <p:pic>
        <p:nvPicPr>
          <p:cNvPr id="43" name="" descr=""/>
          <p:cNvPicPr/>
          <p:nvPr/>
        </p:nvPicPr>
        <p:blipFill>
          <a:blip r:embed="rId1"/>
          <a:stretch/>
        </p:blipFill>
        <p:spPr>
          <a:xfrm>
            <a:off x="5029200" y="3200400"/>
            <a:ext cx="3822840" cy="2903400"/>
          </a:xfrm>
          <a:prstGeom prst="rect">
            <a:avLst/>
          </a:prstGeom>
          <a:ln w="0">
            <a:noFill/>
          </a:ln>
        </p:spPr>
      </p:pic>
      <p:sp>
        <p:nvSpPr>
          <p:cNvPr id="44" name=""/>
          <p:cNvSpPr txBox="1"/>
          <p:nvPr/>
        </p:nvSpPr>
        <p:spPr>
          <a:xfrm>
            <a:off x="914400" y="2666880"/>
            <a:ext cx="4267080" cy="3886200"/>
          </a:xfrm>
          <a:prstGeom prst="rect">
            <a:avLst/>
          </a:prstGeom>
          <a:noFill/>
          <a:ln w="0">
            <a:noFill/>
          </a:ln>
        </p:spPr>
        <p:txBody>
          <a:bodyPr lIns="0" rIns="0" tIns="0" bIns="0" anchor="t">
            <a:noAutofit/>
          </a:bodyPr>
          <a:p>
            <a:pPr marL="343080" indent="-343080" algn="ctr">
              <a:lnSpc>
                <a:spcPct val="100000"/>
              </a:lnSpc>
              <a:spcBef>
                <a:spcPts val="360"/>
              </a:spcBef>
            </a:pPr>
            <a:r>
              <a:rPr b="1" lang="en-US" sz="2400" spc="-1" strike="noStrike">
                <a:solidFill>
                  <a:srgbClr val="fc0128"/>
                </a:solidFill>
                <a:latin typeface="Arial"/>
                <a:ea typeface="Arial"/>
              </a:rPr>
              <a:t>Belverd E. Needles, Jr.</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Marian Power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Sherry K. Mill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Henry R. Anderson</a:t>
            </a:r>
            <a:endParaRPr b="0" lang="en-US" sz="2400" spc="-1" strike="noStrike">
              <a:solidFill>
                <a:srgbClr val="ffffff"/>
              </a:solidFill>
              <a:latin typeface="Arial"/>
            </a:endParaRPr>
          </a:p>
          <a:p>
            <a:pPr marL="343080" indent="-343080" algn="ctr">
              <a:lnSpc>
                <a:spcPct val="100000"/>
              </a:lnSpc>
              <a:spcBef>
                <a:spcPts val="479"/>
              </a:spcBef>
            </a:pPr>
            <a:r>
              <a:rPr b="1" lang="en-US" sz="2000" spc="-1" strike="noStrike">
                <a:solidFill>
                  <a:srgbClr val="bc3700"/>
                </a:solidFill>
                <a:latin typeface="Arial"/>
                <a:ea typeface="Arial"/>
              </a:rPr>
              <a:t>- - - - - - - - - - -</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Multimedia Slides by:</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Dr. Paul J. Robertson</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Steve Leask</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4" name=""/>
          <p:cNvSpPr txBox="1"/>
          <p:nvPr/>
        </p:nvSpPr>
        <p:spPr>
          <a:xfrm>
            <a:off x="728640" y="457200"/>
            <a:ext cx="811044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ative Characteristics of Accounting Information</a:t>
            </a:r>
            <a:endParaRPr b="0" lang="en-US" sz="4400" spc="-1" strike="noStrike">
              <a:solidFill>
                <a:srgbClr val="ffffff"/>
              </a:solidFill>
              <a:latin typeface="Arial"/>
            </a:endParaRPr>
          </a:p>
        </p:txBody>
      </p:sp>
      <p:sp>
        <p:nvSpPr>
          <p:cNvPr id="165" name=""/>
          <p:cNvSpPr txBox="1"/>
          <p:nvPr/>
        </p:nvSpPr>
        <p:spPr>
          <a:xfrm>
            <a:off x="912960" y="1917720"/>
            <a:ext cx="7885080" cy="3753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Qualitative characteristics of accounting information are standards for judging that information.</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two qualitative characteristics are </a:t>
            </a:r>
            <a:r>
              <a:rPr b="1" i="1" lang="en-US" sz="3200" spc="-1" strike="noStrike">
                <a:solidFill>
                  <a:srgbClr val="fcffd8"/>
                </a:solidFill>
                <a:latin typeface="Arial"/>
                <a:ea typeface="Arial"/>
              </a:rPr>
              <a:t>understandability</a:t>
            </a:r>
            <a:r>
              <a:rPr b="1" lang="en-US" sz="3200" spc="-1" strike="noStrike">
                <a:solidFill>
                  <a:srgbClr val="fcffd8"/>
                </a:solidFill>
                <a:latin typeface="Arial"/>
                <a:ea typeface="Arial"/>
              </a:rPr>
              <a:t> and </a:t>
            </a:r>
            <a:r>
              <a:rPr b="1" i="1" lang="en-US" sz="3200" spc="-1" strike="noStrike">
                <a:solidFill>
                  <a:srgbClr val="fcffd8"/>
                </a:solidFill>
                <a:latin typeface="Arial"/>
                <a:ea typeface="Arial"/>
              </a:rPr>
              <a:t>usefulness</a:t>
            </a:r>
            <a:r>
              <a:rPr b="1" lang="en-US" sz="3200" spc="-1" strike="noStrike">
                <a:solidFill>
                  <a:srgbClr val="fcffd8"/>
                </a:solidFill>
                <a:latin typeface="Arial"/>
                <a:ea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6" name=""/>
          <p:cNvSpPr txBox="1"/>
          <p:nvPr/>
        </p:nvSpPr>
        <p:spPr>
          <a:xfrm>
            <a:off x="492120" y="228600"/>
            <a:ext cx="8651880" cy="21207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ative Characteristics of Accounting Information: Understandability</a:t>
            </a:r>
            <a:endParaRPr b="0" lang="en-US" sz="4400" spc="-1" strike="noStrike">
              <a:solidFill>
                <a:srgbClr val="ffffff"/>
              </a:solidFill>
              <a:latin typeface="Arial"/>
            </a:endParaRPr>
          </a:p>
        </p:txBody>
      </p:sp>
      <p:sp>
        <p:nvSpPr>
          <p:cNvPr id="167" name=""/>
          <p:cNvSpPr txBox="1"/>
          <p:nvPr/>
        </p:nvSpPr>
        <p:spPr>
          <a:xfrm>
            <a:off x="1066680" y="2438280"/>
            <a:ext cx="7620120" cy="36576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accountant prepares financial statements in accordance with accepted practices that are believed to be understandabl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Decision makers must interpret accounting information and use it in making deci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8" name=""/>
          <p:cNvSpPr txBox="1"/>
          <p:nvPr/>
        </p:nvSpPr>
        <p:spPr>
          <a:xfrm>
            <a:off x="685800" y="380880"/>
            <a:ext cx="8229600" cy="1875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ative Characteristics of Accounting Information: Usefulness</a:t>
            </a:r>
            <a:endParaRPr b="0" lang="en-US" sz="4400" spc="-1" strike="noStrike">
              <a:solidFill>
                <a:srgbClr val="ffffff"/>
              </a:solidFill>
              <a:latin typeface="Arial"/>
            </a:endParaRPr>
          </a:p>
        </p:txBody>
      </p:sp>
      <p:sp>
        <p:nvSpPr>
          <p:cNvPr id="169" name=""/>
          <p:cNvSpPr txBox="1"/>
          <p:nvPr/>
        </p:nvSpPr>
        <p:spPr>
          <a:xfrm>
            <a:off x="914400" y="2362320"/>
            <a:ext cx="7772400" cy="38862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o be useful, accounting information must be </a:t>
            </a:r>
            <a:r>
              <a:rPr b="1" i="1" lang="en-US" sz="3200" spc="-1" strike="noStrike">
                <a:solidFill>
                  <a:srgbClr val="fcffd8"/>
                </a:solidFill>
                <a:latin typeface="Arial"/>
                <a:ea typeface="Arial"/>
              </a:rPr>
              <a:t>relevant</a:t>
            </a:r>
            <a:r>
              <a:rPr b="1" lang="en-US" sz="3200" spc="-1" strike="noStrike">
                <a:solidFill>
                  <a:srgbClr val="fcffd8"/>
                </a:solidFill>
                <a:latin typeface="Arial"/>
                <a:ea typeface="Arial"/>
              </a:rPr>
              <a:t> and </a:t>
            </a:r>
            <a:r>
              <a:rPr b="1" i="1" lang="en-US" sz="3200" spc="-1" strike="noStrike">
                <a:solidFill>
                  <a:srgbClr val="fcffd8"/>
                </a:solidFill>
                <a:latin typeface="Arial"/>
                <a:ea typeface="Arial"/>
              </a:rPr>
              <a:t>reliable</a:t>
            </a:r>
            <a:r>
              <a:rPr b="1" lang="en-US" sz="3200" spc="-1" strike="noStrike">
                <a:solidFill>
                  <a:srgbClr val="fcffd8"/>
                </a:solidFill>
                <a:latin typeface="Arial"/>
                <a:ea typeface="Arial"/>
              </a:rPr>
              <a:t>.</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Relevance means the information can affect the outcome of a decision.</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Provide feedback.</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Help predict future conditions.</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Be time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0" name=""/>
          <p:cNvSpPr txBox="1"/>
          <p:nvPr/>
        </p:nvSpPr>
        <p:spPr>
          <a:xfrm>
            <a:off x="685800" y="457200"/>
            <a:ext cx="8458200" cy="1875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ative Characteristics of Accounting Information: Reliability</a:t>
            </a:r>
            <a:endParaRPr b="0" lang="en-US" sz="4400" spc="-1" strike="noStrike">
              <a:solidFill>
                <a:srgbClr val="ffffff"/>
              </a:solidFill>
              <a:latin typeface="Arial"/>
            </a:endParaRPr>
          </a:p>
        </p:txBody>
      </p:sp>
      <p:sp>
        <p:nvSpPr>
          <p:cNvPr id="171" name=""/>
          <p:cNvSpPr txBox="1"/>
          <p:nvPr/>
        </p:nvSpPr>
        <p:spPr>
          <a:xfrm>
            <a:off x="797040" y="2390760"/>
            <a:ext cx="7772400" cy="4038480"/>
          </a:xfrm>
          <a:prstGeom prst="rect">
            <a:avLst/>
          </a:prstGeom>
          <a:noFill/>
          <a:ln w="0">
            <a:noFill/>
          </a:ln>
        </p:spPr>
        <p:txBody>
          <a:bodyPr lIns="0" rIns="0" tIns="0" bIns="0" anchor="t">
            <a:noAutofit/>
          </a:bodyPr>
          <a:p>
            <a:pPr lvl="1" marL="857160" indent="-39996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ust represent what it is meant to represent.</a:t>
            </a:r>
            <a:endParaRPr b="0" lang="en-US" sz="3200" spc="-1" strike="noStrike">
              <a:solidFill>
                <a:srgbClr val="ffffff"/>
              </a:solidFill>
              <a:latin typeface="Arial"/>
            </a:endParaRPr>
          </a:p>
          <a:p>
            <a:pPr lvl="1" marL="857160" indent="-39996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ust be credible.</a:t>
            </a:r>
            <a:endParaRPr b="0" lang="en-US" sz="3200" spc="-1" strike="noStrike">
              <a:solidFill>
                <a:srgbClr val="ffffff"/>
              </a:solidFill>
              <a:latin typeface="Arial"/>
            </a:endParaRPr>
          </a:p>
          <a:p>
            <a:pPr lvl="1" marL="857160" indent="-39996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ust be verifiable by independent parties using the same methods of measuring.</a:t>
            </a:r>
            <a:endParaRPr b="0" lang="en-US" sz="3200" spc="-1" strike="noStrike">
              <a:solidFill>
                <a:srgbClr val="ffffff"/>
              </a:solidFill>
              <a:latin typeface="Arial"/>
            </a:endParaRPr>
          </a:p>
          <a:p>
            <a:pPr lvl="1" marL="857160" indent="-39996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ust be neut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2" name=""/>
          <p:cNvSpPr txBox="1"/>
          <p:nvPr/>
        </p:nvSpPr>
        <p:spPr>
          <a:xfrm>
            <a:off x="1454040" y="2863800"/>
            <a:ext cx="6873840" cy="227340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are the qualitativ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haracteristics of accounting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formation, and why are the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mportant? </a:t>
            </a:r>
            <a:endParaRPr b="0" lang="en-US" sz="3200" spc="-1" strike="noStrike">
              <a:solidFill>
                <a:srgbClr val="ffffff"/>
              </a:solidFill>
              <a:latin typeface="Arial"/>
            </a:endParaRPr>
          </a:p>
        </p:txBody>
      </p:sp>
      <p:sp>
        <p:nvSpPr>
          <p:cNvPr id="173" name=""/>
          <p:cNvSpPr txBox="1"/>
          <p:nvPr/>
        </p:nvSpPr>
        <p:spPr>
          <a:xfrm>
            <a:off x="2359080" y="1371600"/>
            <a:ext cx="56386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174" name=""/>
          <p:cNvGrpSpPr/>
          <p:nvPr/>
        </p:nvGrpSpPr>
        <p:grpSpPr>
          <a:xfrm>
            <a:off x="736560" y="384120"/>
            <a:ext cx="2360880" cy="2211840"/>
            <a:chOff x="736560" y="384120"/>
            <a:chExt cx="2360880" cy="2211840"/>
          </a:xfrm>
        </p:grpSpPr>
        <p:sp>
          <p:nvSpPr>
            <p:cNvPr id="175" name=""/>
            <p:cNvSpPr/>
            <p:nvPr/>
          </p:nvSpPr>
          <p:spPr>
            <a:xfrm>
              <a:off x="743040" y="1469880"/>
              <a:ext cx="573480" cy="771840"/>
            </a:xfrm>
            <a:custGeom>
              <a:avLst/>
              <a:gdLst/>
              <a:ahLst/>
              <a:rect l="0" t="0" r="r" b="b"/>
              <a:pathLst>
                <a:path w="1593" h="2144">
                  <a:moveTo>
                    <a:pt x="636" y="0"/>
                  </a:moveTo>
                  <a:lnTo>
                    <a:pt x="556" y="97"/>
                  </a:lnTo>
                  <a:lnTo>
                    <a:pt x="556" y="374"/>
                  </a:lnTo>
                  <a:lnTo>
                    <a:pt x="636" y="573"/>
                  </a:lnTo>
                  <a:lnTo>
                    <a:pt x="728" y="674"/>
                  </a:lnTo>
                  <a:lnTo>
                    <a:pt x="587" y="811"/>
                  </a:lnTo>
                  <a:lnTo>
                    <a:pt x="396" y="1125"/>
                  </a:lnTo>
                  <a:lnTo>
                    <a:pt x="30" y="1614"/>
                  </a:lnTo>
                  <a:lnTo>
                    <a:pt x="0" y="1734"/>
                  </a:lnTo>
                  <a:lnTo>
                    <a:pt x="30" y="1835"/>
                  </a:lnTo>
                  <a:lnTo>
                    <a:pt x="145" y="1835"/>
                  </a:lnTo>
                  <a:lnTo>
                    <a:pt x="238" y="1720"/>
                  </a:lnTo>
                  <a:lnTo>
                    <a:pt x="396" y="1447"/>
                  </a:lnTo>
                  <a:lnTo>
                    <a:pt x="494" y="1328"/>
                  </a:lnTo>
                  <a:lnTo>
                    <a:pt x="556" y="1513"/>
                  </a:lnTo>
                  <a:lnTo>
                    <a:pt x="512" y="1703"/>
                  </a:lnTo>
                  <a:lnTo>
                    <a:pt x="357" y="1985"/>
                  </a:lnTo>
                  <a:lnTo>
                    <a:pt x="396" y="2051"/>
                  </a:lnTo>
                  <a:lnTo>
                    <a:pt x="494" y="2033"/>
                  </a:lnTo>
                  <a:lnTo>
                    <a:pt x="693" y="1888"/>
                  </a:lnTo>
                  <a:lnTo>
                    <a:pt x="852" y="1637"/>
                  </a:lnTo>
                  <a:lnTo>
                    <a:pt x="852" y="2073"/>
                  </a:lnTo>
                  <a:lnTo>
                    <a:pt x="1037" y="2144"/>
                  </a:lnTo>
                  <a:lnTo>
                    <a:pt x="1151" y="1875"/>
                  </a:lnTo>
                  <a:lnTo>
                    <a:pt x="1245" y="2126"/>
                  </a:lnTo>
                  <a:lnTo>
                    <a:pt x="1324" y="2051"/>
                  </a:lnTo>
                  <a:lnTo>
                    <a:pt x="1360" y="1557"/>
                  </a:lnTo>
                  <a:lnTo>
                    <a:pt x="1593" y="1090"/>
                  </a:lnTo>
                  <a:lnTo>
                    <a:pt x="1536" y="811"/>
                  </a:lnTo>
                  <a:lnTo>
                    <a:pt x="1377" y="714"/>
                  </a:lnTo>
                  <a:lnTo>
                    <a:pt x="1205" y="727"/>
                  </a:lnTo>
                  <a:lnTo>
                    <a:pt x="1151" y="507"/>
                  </a:lnTo>
                  <a:lnTo>
                    <a:pt x="975" y="463"/>
                  </a:lnTo>
                  <a:lnTo>
                    <a:pt x="821" y="388"/>
                  </a:lnTo>
                  <a:lnTo>
                    <a:pt x="728" y="48"/>
                  </a:lnTo>
                  <a:lnTo>
                    <a:pt x="63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1225440" y="1782720"/>
              <a:ext cx="168480" cy="375120"/>
            </a:xfrm>
            <a:custGeom>
              <a:avLst/>
              <a:gdLst/>
              <a:ahLst/>
              <a:rect l="0" t="0" r="r" b="b"/>
              <a:pathLst>
                <a:path w="468" h="1042">
                  <a:moveTo>
                    <a:pt x="233" y="0"/>
                  </a:moveTo>
                  <a:lnTo>
                    <a:pt x="468" y="269"/>
                  </a:lnTo>
                  <a:lnTo>
                    <a:pt x="353" y="857"/>
                  </a:lnTo>
                  <a:lnTo>
                    <a:pt x="0" y="1042"/>
                  </a:lnTo>
                  <a:lnTo>
                    <a:pt x="0" y="746"/>
                  </a:lnTo>
                  <a:lnTo>
                    <a:pt x="141" y="441"/>
                  </a:lnTo>
                  <a:lnTo>
                    <a:pt x="233" y="220"/>
                  </a:lnTo>
                  <a:lnTo>
                    <a:pt x="23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2320920" y="1566720"/>
              <a:ext cx="424080" cy="340200"/>
            </a:xfrm>
            <a:custGeom>
              <a:avLst/>
              <a:gdLst/>
              <a:ahLst/>
              <a:rect l="0" t="0" r="r" b="b"/>
              <a:pathLst>
                <a:path w="1178" h="945">
                  <a:moveTo>
                    <a:pt x="485" y="0"/>
                  </a:moveTo>
                  <a:lnTo>
                    <a:pt x="485" y="154"/>
                  </a:lnTo>
                  <a:lnTo>
                    <a:pt x="524" y="287"/>
                  </a:lnTo>
                  <a:lnTo>
                    <a:pt x="759" y="512"/>
                  </a:lnTo>
                  <a:lnTo>
                    <a:pt x="1178" y="640"/>
                  </a:lnTo>
                  <a:lnTo>
                    <a:pt x="1116" y="928"/>
                  </a:lnTo>
                  <a:lnTo>
                    <a:pt x="759" y="945"/>
                  </a:lnTo>
                  <a:lnTo>
                    <a:pt x="224" y="738"/>
                  </a:lnTo>
                  <a:lnTo>
                    <a:pt x="0" y="375"/>
                  </a:lnTo>
                  <a:lnTo>
                    <a:pt x="264" y="17"/>
                  </a:lnTo>
                  <a:lnTo>
                    <a:pt x="485"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2492280" y="1185840"/>
              <a:ext cx="590760" cy="744840"/>
            </a:xfrm>
            <a:custGeom>
              <a:avLst/>
              <a:gdLst/>
              <a:ahLst/>
              <a:rect l="0" t="0" r="r" b="b"/>
              <a:pathLst>
                <a:path w="1641" h="2069">
                  <a:moveTo>
                    <a:pt x="149" y="877"/>
                  </a:moveTo>
                  <a:lnTo>
                    <a:pt x="0" y="1027"/>
                  </a:lnTo>
                  <a:lnTo>
                    <a:pt x="30" y="1359"/>
                  </a:lnTo>
                  <a:lnTo>
                    <a:pt x="260" y="1517"/>
                  </a:lnTo>
                  <a:lnTo>
                    <a:pt x="277" y="2029"/>
                  </a:lnTo>
                  <a:lnTo>
                    <a:pt x="511" y="2029"/>
                  </a:lnTo>
                  <a:lnTo>
                    <a:pt x="493" y="1597"/>
                  </a:lnTo>
                  <a:lnTo>
                    <a:pt x="665" y="2051"/>
                  </a:lnTo>
                  <a:lnTo>
                    <a:pt x="780" y="2069"/>
                  </a:lnTo>
                  <a:lnTo>
                    <a:pt x="860" y="1914"/>
                  </a:lnTo>
                  <a:lnTo>
                    <a:pt x="878" y="1632"/>
                  </a:lnTo>
                  <a:lnTo>
                    <a:pt x="1129" y="1897"/>
                  </a:lnTo>
                  <a:lnTo>
                    <a:pt x="1231" y="1879"/>
                  </a:lnTo>
                  <a:lnTo>
                    <a:pt x="1204" y="1694"/>
                  </a:lnTo>
                  <a:lnTo>
                    <a:pt x="1116" y="1429"/>
                  </a:lnTo>
                  <a:lnTo>
                    <a:pt x="1010" y="1262"/>
                  </a:lnTo>
                  <a:lnTo>
                    <a:pt x="1050" y="1143"/>
                  </a:lnTo>
                  <a:lnTo>
                    <a:pt x="1116" y="1160"/>
                  </a:lnTo>
                  <a:lnTo>
                    <a:pt x="1341" y="1429"/>
                  </a:lnTo>
                  <a:lnTo>
                    <a:pt x="1584" y="1500"/>
                  </a:lnTo>
                  <a:lnTo>
                    <a:pt x="1641" y="1412"/>
                  </a:lnTo>
                  <a:lnTo>
                    <a:pt x="1606" y="1275"/>
                  </a:lnTo>
                  <a:lnTo>
                    <a:pt x="1147" y="859"/>
                  </a:lnTo>
                  <a:lnTo>
                    <a:pt x="780" y="732"/>
                  </a:lnTo>
                  <a:lnTo>
                    <a:pt x="736" y="498"/>
                  </a:lnTo>
                  <a:lnTo>
                    <a:pt x="860" y="291"/>
                  </a:lnTo>
                  <a:lnTo>
                    <a:pt x="860" y="66"/>
                  </a:lnTo>
                  <a:lnTo>
                    <a:pt x="758" y="0"/>
                  </a:lnTo>
                  <a:lnTo>
                    <a:pt x="493" y="560"/>
                  </a:lnTo>
                  <a:lnTo>
                    <a:pt x="260" y="648"/>
                  </a:lnTo>
                  <a:lnTo>
                    <a:pt x="202" y="798"/>
                  </a:lnTo>
                  <a:lnTo>
                    <a:pt x="149" y="877"/>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522440" y="541440"/>
              <a:ext cx="644760" cy="949680"/>
            </a:xfrm>
            <a:custGeom>
              <a:avLst/>
              <a:gdLst/>
              <a:ahLst/>
              <a:rect l="0" t="0" r="r" b="b"/>
              <a:pathLst>
                <a:path w="1791" h="2638">
                  <a:moveTo>
                    <a:pt x="445" y="366"/>
                  </a:moveTo>
                  <a:lnTo>
                    <a:pt x="313" y="868"/>
                  </a:lnTo>
                  <a:lnTo>
                    <a:pt x="17" y="970"/>
                  </a:lnTo>
                  <a:lnTo>
                    <a:pt x="97" y="1128"/>
                  </a:lnTo>
                  <a:lnTo>
                    <a:pt x="0" y="1230"/>
                  </a:lnTo>
                  <a:lnTo>
                    <a:pt x="0" y="1416"/>
                  </a:lnTo>
                  <a:lnTo>
                    <a:pt x="141" y="1584"/>
                  </a:lnTo>
                  <a:lnTo>
                    <a:pt x="277" y="1584"/>
                  </a:lnTo>
                  <a:lnTo>
                    <a:pt x="374" y="2166"/>
                  </a:lnTo>
                  <a:lnTo>
                    <a:pt x="485" y="2417"/>
                  </a:lnTo>
                  <a:lnTo>
                    <a:pt x="855" y="2638"/>
                  </a:lnTo>
                  <a:lnTo>
                    <a:pt x="1218" y="2602"/>
                  </a:lnTo>
                  <a:lnTo>
                    <a:pt x="1390" y="2166"/>
                  </a:lnTo>
                  <a:lnTo>
                    <a:pt x="1429" y="1500"/>
                  </a:lnTo>
                  <a:lnTo>
                    <a:pt x="1791" y="1168"/>
                  </a:lnTo>
                  <a:lnTo>
                    <a:pt x="1773" y="1036"/>
                  </a:lnTo>
                  <a:lnTo>
                    <a:pt x="1729" y="970"/>
                  </a:lnTo>
                  <a:lnTo>
                    <a:pt x="1548" y="956"/>
                  </a:lnTo>
                  <a:lnTo>
                    <a:pt x="1601" y="784"/>
                  </a:lnTo>
                  <a:lnTo>
                    <a:pt x="1412" y="665"/>
                  </a:lnTo>
                  <a:lnTo>
                    <a:pt x="1332" y="291"/>
                  </a:lnTo>
                  <a:lnTo>
                    <a:pt x="776" y="0"/>
                  </a:lnTo>
                  <a:lnTo>
                    <a:pt x="485" y="268"/>
                  </a:lnTo>
                  <a:lnTo>
                    <a:pt x="445" y="36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1569960" y="1335240"/>
              <a:ext cx="590760" cy="1134000"/>
            </a:xfrm>
            <a:custGeom>
              <a:avLst/>
              <a:gdLst/>
              <a:ahLst/>
              <a:rect l="0" t="0" r="r" b="b"/>
              <a:pathLst>
                <a:path w="1641" h="3150">
                  <a:moveTo>
                    <a:pt x="335" y="167"/>
                  </a:moveTo>
                  <a:lnTo>
                    <a:pt x="568" y="317"/>
                  </a:lnTo>
                  <a:lnTo>
                    <a:pt x="683" y="485"/>
                  </a:lnTo>
                  <a:lnTo>
                    <a:pt x="1341" y="0"/>
                  </a:lnTo>
                  <a:lnTo>
                    <a:pt x="1548" y="101"/>
                  </a:lnTo>
                  <a:lnTo>
                    <a:pt x="1641" y="599"/>
                  </a:lnTo>
                  <a:lnTo>
                    <a:pt x="1165" y="2047"/>
                  </a:lnTo>
                  <a:lnTo>
                    <a:pt x="1319" y="2846"/>
                  </a:lnTo>
                  <a:lnTo>
                    <a:pt x="696" y="3150"/>
                  </a:lnTo>
                  <a:lnTo>
                    <a:pt x="220" y="2978"/>
                  </a:lnTo>
                  <a:lnTo>
                    <a:pt x="220" y="2130"/>
                  </a:lnTo>
                  <a:lnTo>
                    <a:pt x="0" y="1306"/>
                  </a:lnTo>
                  <a:lnTo>
                    <a:pt x="220" y="317"/>
                  </a:lnTo>
                  <a:lnTo>
                    <a:pt x="335" y="167"/>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1595520" y="414360"/>
              <a:ext cx="551160" cy="302040"/>
            </a:xfrm>
            <a:custGeom>
              <a:avLst/>
              <a:gdLst/>
              <a:ahLst/>
              <a:rect l="0" t="0" r="r" b="b"/>
              <a:pathLst>
                <a:path w="1531" h="839">
                  <a:moveTo>
                    <a:pt x="189" y="800"/>
                  </a:moveTo>
                  <a:lnTo>
                    <a:pt x="414" y="578"/>
                  </a:lnTo>
                  <a:lnTo>
                    <a:pt x="555" y="543"/>
                  </a:lnTo>
                  <a:lnTo>
                    <a:pt x="555" y="561"/>
                  </a:lnTo>
                  <a:lnTo>
                    <a:pt x="626" y="543"/>
                  </a:lnTo>
                  <a:lnTo>
                    <a:pt x="723" y="609"/>
                  </a:lnTo>
                  <a:lnTo>
                    <a:pt x="904" y="645"/>
                  </a:lnTo>
                  <a:lnTo>
                    <a:pt x="1050" y="839"/>
                  </a:lnTo>
                  <a:lnTo>
                    <a:pt x="1288" y="751"/>
                  </a:lnTo>
                  <a:lnTo>
                    <a:pt x="1288" y="663"/>
                  </a:lnTo>
                  <a:lnTo>
                    <a:pt x="1531" y="561"/>
                  </a:lnTo>
                  <a:lnTo>
                    <a:pt x="1456" y="406"/>
                  </a:lnTo>
                  <a:lnTo>
                    <a:pt x="1231" y="389"/>
                  </a:lnTo>
                  <a:lnTo>
                    <a:pt x="1266" y="221"/>
                  </a:lnTo>
                  <a:lnTo>
                    <a:pt x="1072" y="239"/>
                  </a:lnTo>
                  <a:lnTo>
                    <a:pt x="1037" y="119"/>
                  </a:lnTo>
                  <a:lnTo>
                    <a:pt x="904" y="119"/>
                  </a:lnTo>
                  <a:lnTo>
                    <a:pt x="807" y="185"/>
                  </a:lnTo>
                  <a:lnTo>
                    <a:pt x="723" y="185"/>
                  </a:lnTo>
                  <a:lnTo>
                    <a:pt x="740" y="0"/>
                  </a:lnTo>
                  <a:lnTo>
                    <a:pt x="555" y="83"/>
                  </a:lnTo>
                  <a:lnTo>
                    <a:pt x="299" y="389"/>
                  </a:lnTo>
                  <a:lnTo>
                    <a:pt x="286" y="185"/>
                  </a:lnTo>
                  <a:lnTo>
                    <a:pt x="149" y="287"/>
                  </a:lnTo>
                  <a:lnTo>
                    <a:pt x="114" y="543"/>
                  </a:lnTo>
                  <a:lnTo>
                    <a:pt x="0" y="494"/>
                  </a:lnTo>
                  <a:lnTo>
                    <a:pt x="17" y="663"/>
                  </a:lnTo>
                  <a:lnTo>
                    <a:pt x="189" y="80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1744560" y="1542960"/>
              <a:ext cx="174960" cy="859320"/>
            </a:xfrm>
            <a:custGeom>
              <a:avLst/>
              <a:gdLst/>
              <a:ahLst/>
              <a:rect l="0" t="0" r="r" b="b"/>
              <a:pathLst>
                <a:path w="486" h="2387">
                  <a:moveTo>
                    <a:pt x="252" y="13"/>
                  </a:moveTo>
                  <a:lnTo>
                    <a:pt x="83" y="119"/>
                  </a:lnTo>
                  <a:lnTo>
                    <a:pt x="83" y="317"/>
                  </a:lnTo>
                  <a:lnTo>
                    <a:pt x="198" y="383"/>
                  </a:lnTo>
                  <a:lnTo>
                    <a:pt x="44" y="702"/>
                  </a:lnTo>
                  <a:lnTo>
                    <a:pt x="0" y="1121"/>
                  </a:lnTo>
                  <a:lnTo>
                    <a:pt x="119" y="1667"/>
                  </a:lnTo>
                  <a:lnTo>
                    <a:pt x="119" y="1902"/>
                  </a:lnTo>
                  <a:lnTo>
                    <a:pt x="61" y="2078"/>
                  </a:lnTo>
                  <a:lnTo>
                    <a:pt x="305" y="2387"/>
                  </a:lnTo>
                  <a:lnTo>
                    <a:pt x="468" y="1920"/>
                  </a:lnTo>
                  <a:lnTo>
                    <a:pt x="468" y="1601"/>
                  </a:lnTo>
                  <a:lnTo>
                    <a:pt x="349" y="1301"/>
                  </a:lnTo>
                  <a:lnTo>
                    <a:pt x="292" y="904"/>
                  </a:lnTo>
                  <a:lnTo>
                    <a:pt x="411" y="507"/>
                  </a:lnTo>
                  <a:lnTo>
                    <a:pt x="371" y="352"/>
                  </a:lnTo>
                  <a:lnTo>
                    <a:pt x="486" y="268"/>
                  </a:lnTo>
                  <a:lnTo>
                    <a:pt x="468" y="167"/>
                  </a:lnTo>
                  <a:lnTo>
                    <a:pt x="322" y="0"/>
                  </a:lnTo>
                  <a:lnTo>
                    <a:pt x="252"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1738440" y="1255680"/>
              <a:ext cx="141480" cy="79560"/>
            </a:xfrm>
            <a:custGeom>
              <a:avLst/>
              <a:gdLst/>
              <a:ahLst/>
              <a:rect l="0" t="0" r="r" b="b"/>
              <a:pathLst>
                <a:path w="393" h="221">
                  <a:moveTo>
                    <a:pt x="0" y="66"/>
                  </a:moveTo>
                  <a:lnTo>
                    <a:pt x="158" y="221"/>
                  </a:lnTo>
                  <a:lnTo>
                    <a:pt x="314" y="203"/>
                  </a:lnTo>
                  <a:lnTo>
                    <a:pt x="393" y="17"/>
                  </a:lnTo>
                  <a:lnTo>
                    <a:pt x="217" y="0"/>
                  </a:lnTo>
                  <a:lnTo>
                    <a:pt x="39" y="17"/>
                  </a:lnTo>
                  <a:lnTo>
                    <a:pt x="0" y="66"/>
                  </a:lnTo>
                  <a:close/>
                </a:path>
              </a:pathLst>
            </a:custGeom>
            <a:solidFill>
              <a:srgbClr val="ffffff"/>
            </a:solidFill>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sp>
          <p:nvSpPr>
            <p:cNvPr id="184" name=""/>
            <p:cNvSpPr/>
            <p:nvPr/>
          </p:nvSpPr>
          <p:spPr>
            <a:xfrm>
              <a:off x="1582560" y="858960"/>
              <a:ext cx="176400" cy="168480"/>
            </a:xfrm>
            <a:custGeom>
              <a:avLst/>
              <a:gdLst/>
              <a:ahLst/>
              <a:rect l="0" t="0" r="r" b="b"/>
              <a:pathLst>
                <a:path w="490" h="468">
                  <a:moveTo>
                    <a:pt x="0" y="52"/>
                  </a:moveTo>
                  <a:lnTo>
                    <a:pt x="336" y="468"/>
                  </a:lnTo>
                  <a:lnTo>
                    <a:pt x="490" y="433"/>
                  </a:lnTo>
                  <a:lnTo>
                    <a:pt x="132"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1892160" y="824040"/>
              <a:ext cx="152640" cy="168480"/>
            </a:xfrm>
            <a:custGeom>
              <a:avLst/>
              <a:gdLst/>
              <a:ahLst/>
              <a:rect l="0" t="0" r="r" b="b"/>
              <a:pathLst>
                <a:path w="424" h="468">
                  <a:moveTo>
                    <a:pt x="0" y="66"/>
                  </a:moveTo>
                  <a:lnTo>
                    <a:pt x="292" y="468"/>
                  </a:lnTo>
                  <a:lnTo>
                    <a:pt x="424" y="362"/>
                  </a:lnTo>
                  <a:lnTo>
                    <a:pt x="114"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1517760" y="608040"/>
              <a:ext cx="616320" cy="419400"/>
            </a:xfrm>
            <a:custGeom>
              <a:avLst/>
              <a:gdLst/>
              <a:ahLst/>
              <a:rect l="0" t="0" r="r" b="b"/>
              <a:pathLst>
                <a:path w="1712" h="1165">
                  <a:moveTo>
                    <a:pt x="785" y="688"/>
                  </a:moveTo>
                  <a:lnTo>
                    <a:pt x="627" y="649"/>
                  </a:lnTo>
                  <a:lnTo>
                    <a:pt x="768" y="546"/>
                  </a:lnTo>
                  <a:lnTo>
                    <a:pt x="715" y="489"/>
                  </a:lnTo>
                  <a:lnTo>
                    <a:pt x="538" y="622"/>
                  </a:lnTo>
                  <a:lnTo>
                    <a:pt x="216" y="658"/>
                  </a:lnTo>
                  <a:lnTo>
                    <a:pt x="0" y="666"/>
                  </a:lnTo>
                  <a:lnTo>
                    <a:pt x="0" y="825"/>
                  </a:lnTo>
                  <a:lnTo>
                    <a:pt x="207" y="1156"/>
                  </a:lnTo>
                  <a:lnTo>
                    <a:pt x="260" y="1165"/>
                  </a:lnTo>
                  <a:lnTo>
                    <a:pt x="74" y="803"/>
                  </a:lnTo>
                  <a:lnTo>
                    <a:pt x="357" y="688"/>
                  </a:lnTo>
                  <a:lnTo>
                    <a:pt x="538" y="688"/>
                  </a:lnTo>
                  <a:lnTo>
                    <a:pt x="680" y="759"/>
                  </a:lnTo>
                  <a:lnTo>
                    <a:pt x="715" y="860"/>
                  </a:lnTo>
                  <a:lnTo>
                    <a:pt x="715" y="1085"/>
                  </a:lnTo>
                  <a:lnTo>
                    <a:pt x="715" y="1156"/>
                  </a:lnTo>
                  <a:lnTo>
                    <a:pt x="794" y="1050"/>
                  </a:lnTo>
                  <a:lnTo>
                    <a:pt x="794" y="816"/>
                  </a:lnTo>
                  <a:lnTo>
                    <a:pt x="918" y="816"/>
                  </a:lnTo>
                  <a:lnTo>
                    <a:pt x="975" y="1085"/>
                  </a:lnTo>
                  <a:lnTo>
                    <a:pt x="1041" y="1107"/>
                  </a:lnTo>
                  <a:lnTo>
                    <a:pt x="1248" y="1107"/>
                  </a:lnTo>
                  <a:lnTo>
                    <a:pt x="1457" y="1059"/>
                  </a:lnTo>
                  <a:lnTo>
                    <a:pt x="1611" y="962"/>
                  </a:lnTo>
                  <a:lnTo>
                    <a:pt x="1629" y="724"/>
                  </a:lnTo>
                  <a:lnTo>
                    <a:pt x="1712" y="622"/>
                  </a:lnTo>
                  <a:lnTo>
                    <a:pt x="1660" y="564"/>
                  </a:lnTo>
                  <a:lnTo>
                    <a:pt x="1474" y="498"/>
                  </a:lnTo>
                  <a:lnTo>
                    <a:pt x="1443" y="260"/>
                  </a:lnTo>
                  <a:lnTo>
                    <a:pt x="1266" y="260"/>
                  </a:lnTo>
                  <a:lnTo>
                    <a:pt x="1050" y="0"/>
                  </a:lnTo>
                  <a:lnTo>
                    <a:pt x="1244" y="291"/>
                  </a:lnTo>
                  <a:lnTo>
                    <a:pt x="1307" y="291"/>
                  </a:lnTo>
                  <a:lnTo>
                    <a:pt x="1346" y="489"/>
                  </a:lnTo>
                  <a:lnTo>
                    <a:pt x="1107" y="564"/>
                  </a:lnTo>
                  <a:lnTo>
                    <a:pt x="931" y="507"/>
                  </a:lnTo>
                  <a:lnTo>
                    <a:pt x="904" y="564"/>
                  </a:lnTo>
                  <a:lnTo>
                    <a:pt x="997" y="622"/>
                  </a:lnTo>
                  <a:lnTo>
                    <a:pt x="997" y="680"/>
                  </a:lnTo>
                  <a:lnTo>
                    <a:pt x="1204" y="591"/>
                  </a:lnTo>
                  <a:lnTo>
                    <a:pt x="1377" y="577"/>
                  </a:lnTo>
                  <a:lnTo>
                    <a:pt x="1571" y="600"/>
                  </a:lnTo>
                  <a:lnTo>
                    <a:pt x="1571" y="631"/>
                  </a:lnTo>
                  <a:lnTo>
                    <a:pt x="1479" y="715"/>
                  </a:lnTo>
                  <a:lnTo>
                    <a:pt x="1443" y="816"/>
                  </a:lnTo>
                  <a:lnTo>
                    <a:pt x="1435" y="962"/>
                  </a:lnTo>
                  <a:lnTo>
                    <a:pt x="1320" y="1019"/>
                  </a:lnTo>
                  <a:lnTo>
                    <a:pt x="1151" y="1037"/>
                  </a:lnTo>
                  <a:lnTo>
                    <a:pt x="1041" y="1037"/>
                  </a:lnTo>
                  <a:lnTo>
                    <a:pt x="1002" y="993"/>
                  </a:lnTo>
                  <a:lnTo>
                    <a:pt x="975" y="724"/>
                  </a:lnTo>
                  <a:lnTo>
                    <a:pt x="794" y="724"/>
                  </a:lnTo>
                  <a:lnTo>
                    <a:pt x="785" y="6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7" name=""/>
            <p:cNvSpPr/>
            <p:nvPr/>
          </p:nvSpPr>
          <p:spPr>
            <a:xfrm>
              <a:off x="1730520" y="1092240"/>
              <a:ext cx="197280" cy="86040"/>
            </a:xfrm>
            <a:custGeom>
              <a:avLst/>
              <a:gdLst/>
              <a:ahLst/>
              <a:rect l="0" t="0" r="r" b="b"/>
              <a:pathLst>
                <a:path w="548" h="239">
                  <a:moveTo>
                    <a:pt x="0" y="0"/>
                  </a:moveTo>
                  <a:lnTo>
                    <a:pt x="88" y="110"/>
                  </a:lnTo>
                  <a:lnTo>
                    <a:pt x="327" y="110"/>
                  </a:lnTo>
                  <a:lnTo>
                    <a:pt x="425" y="35"/>
                  </a:lnTo>
                  <a:lnTo>
                    <a:pt x="548" y="35"/>
                  </a:lnTo>
                  <a:lnTo>
                    <a:pt x="526" y="70"/>
                  </a:lnTo>
                  <a:lnTo>
                    <a:pt x="526" y="110"/>
                  </a:lnTo>
                  <a:lnTo>
                    <a:pt x="305" y="239"/>
                  </a:lnTo>
                  <a:lnTo>
                    <a:pt x="186" y="239"/>
                  </a:lnTo>
                  <a:lnTo>
                    <a:pt x="114" y="190"/>
                  </a:lnTo>
                  <a:lnTo>
                    <a:pt x="48" y="190"/>
                  </a:lnTo>
                  <a:lnTo>
                    <a:pt x="0"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88" name=""/>
            <p:cNvSpPr/>
            <p:nvPr/>
          </p:nvSpPr>
          <p:spPr>
            <a:xfrm>
              <a:off x="1509840" y="954000"/>
              <a:ext cx="298800" cy="452880"/>
            </a:xfrm>
            <a:custGeom>
              <a:avLst/>
              <a:gdLst/>
              <a:ahLst/>
              <a:rect l="0" t="0" r="r" b="b"/>
              <a:pathLst>
                <a:path w="830" h="1258">
                  <a:moveTo>
                    <a:pt x="830" y="88"/>
                  </a:moveTo>
                  <a:lnTo>
                    <a:pt x="830" y="110"/>
                  </a:lnTo>
                  <a:lnTo>
                    <a:pt x="684" y="238"/>
                  </a:lnTo>
                  <a:lnTo>
                    <a:pt x="561" y="260"/>
                  </a:lnTo>
                  <a:lnTo>
                    <a:pt x="330" y="229"/>
                  </a:lnTo>
                  <a:lnTo>
                    <a:pt x="374" y="680"/>
                  </a:lnTo>
                  <a:lnTo>
                    <a:pt x="428" y="1055"/>
                  </a:lnTo>
                  <a:lnTo>
                    <a:pt x="525" y="1258"/>
                  </a:lnTo>
                  <a:lnTo>
                    <a:pt x="428" y="1113"/>
                  </a:lnTo>
                  <a:lnTo>
                    <a:pt x="388" y="954"/>
                  </a:lnTo>
                  <a:lnTo>
                    <a:pt x="321" y="530"/>
                  </a:lnTo>
                  <a:lnTo>
                    <a:pt x="251" y="556"/>
                  </a:lnTo>
                  <a:lnTo>
                    <a:pt x="176" y="508"/>
                  </a:lnTo>
                  <a:lnTo>
                    <a:pt x="17" y="286"/>
                  </a:lnTo>
                  <a:lnTo>
                    <a:pt x="0" y="163"/>
                  </a:lnTo>
                  <a:lnTo>
                    <a:pt x="0" y="74"/>
                  </a:lnTo>
                  <a:lnTo>
                    <a:pt x="35" y="22"/>
                  </a:lnTo>
                  <a:lnTo>
                    <a:pt x="127" y="0"/>
                  </a:lnTo>
                  <a:lnTo>
                    <a:pt x="141" y="35"/>
                  </a:lnTo>
                  <a:lnTo>
                    <a:pt x="70" y="57"/>
                  </a:lnTo>
                  <a:lnTo>
                    <a:pt x="48" y="149"/>
                  </a:lnTo>
                  <a:lnTo>
                    <a:pt x="61" y="268"/>
                  </a:lnTo>
                  <a:lnTo>
                    <a:pt x="167" y="375"/>
                  </a:lnTo>
                  <a:lnTo>
                    <a:pt x="211" y="353"/>
                  </a:lnTo>
                  <a:lnTo>
                    <a:pt x="211" y="123"/>
                  </a:lnTo>
                  <a:lnTo>
                    <a:pt x="313" y="171"/>
                  </a:lnTo>
                  <a:lnTo>
                    <a:pt x="464" y="202"/>
                  </a:lnTo>
                  <a:lnTo>
                    <a:pt x="605" y="194"/>
                  </a:lnTo>
                  <a:lnTo>
                    <a:pt x="737" y="123"/>
                  </a:lnTo>
                  <a:lnTo>
                    <a:pt x="830"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a:off x="1589040" y="596880"/>
              <a:ext cx="90720" cy="238320"/>
            </a:xfrm>
            <a:custGeom>
              <a:avLst/>
              <a:gdLst/>
              <a:ahLst/>
              <a:rect l="0" t="0" r="r" b="b"/>
              <a:pathLst>
                <a:path w="252" h="662">
                  <a:moveTo>
                    <a:pt x="128" y="662"/>
                  </a:moveTo>
                  <a:lnTo>
                    <a:pt x="252" y="273"/>
                  </a:lnTo>
                  <a:lnTo>
                    <a:pt x="30" y="132"/>
                  </a:lnTo>
                  <a:lnTo>
                    <a:pt x="0" y="0"/>
                  </a:lnTo>
                  <a:lnTo>
                    <a:pt x="17" y="158"/>
                  </a:lnTo>
                  <a:lnTo>
                    <a:pt x="92" y="224"/>
                  </a:lnTo>
                  <a:lnTo>
                    <a:pt x="101" y="419"/>
                  </a:lnTo>
                  <a:lnTo>
                    <a:pt x="150" y="503"/>
                  </a:lnTo>
                  <a:lnTo>
                    <a:pt x="128" y="66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1585800" y="384120"/>
              <a:ext cx="676800" cy="317880"/>
            </a:xfrm>
            <a:custGeom>
              <a:avLst/>
              <a:gdLst/>
              <a:ahLst/>
              <a:rect l="0" t="0" r="r" b="b"/>
              <a:pathLst>
                <a:path w="1880" h="883">
                  <a:moveTo>
                    <a:pt x="17" y="596"/>
                  </a:moveTo>
                  <a:lnTo>
                    <a:pt x="180" y="689"/>
                  </a:lnTo>
                  <a:lnTo>
                    <a:pt x="163" y="574"/>
                  </a:lnTo>
                  <a:lnTo>
                    <a:pt x="194" y="375"/>
                  </a:lnTo>
                  <a:lnTo>
                    <a:pt x="299" y="331"/>
                  </a:lnTo>
                  <a:lnTo>
                    <a:pt x="313" y="547"/>
                  </a:lnTo>
                  <a:lnTo>
                    <a:pt x="627" y="171"/>
                  </a:lnTo>
                  <a:lnTo>
                    <a:pt x="706" y="145"/>
                  </a:lnTo>
                  <a:lnTo>
                    <a:pt x="649" y="296"/>
                  </a:lnTo>
                  <a:lnTo>
                    <a:pt x="847" y="367"/>
                  </a:lnTo>
                  <a:lnTo>
                    <a:pt x="988" y="216"/>
                  </a:lnTo>
                  <a:lnTo>
                    <a:pt x="1068" y="261"/>
                  </a:lnTo>
                  <a:lnTo>
                    <a:pt x="997" y="389"/>
                  </a:lnTo>
                  <a:lnTo>
                    <a:pt x="1094" y="318"/>
                  </a:lnTo>
                  <a:lnTo>
                    <a:pt x="1231" y="375"/>
                  </a:lnTo>
                  <a:lnTo>
                    <a:pt x="1116" y="481"/>
                  </a:lnTo>
                  <a:lnTo>
                    <a:pt x="1505" y="547"/>
                  </a:lnTo>
                  <a:lnTo>
                    <a:pt x="1248" y="622"/>
                  </a:lnTo>
                  <a:lnTo>
                    <a:pt x="1571" y="663"/>
                  </a:lnTo>
                  <a:lnTo>
                    <a:pt x="1187" y="751"/>
                  </a:lnTo>
                  <a:lnTo>
                    <a:pt x="1271" y="817"/>
                  </a:lnTo>
                  <a:lnTo>
                    <a:pt x="1156" y="883"/>
                  </a:lnTo>
                  <a:lnTo>
                    <a:pt x="1354" y="883"/>
                  </a:lnTo>
                  <a:lnTo>
                    <a:pt x="1332" y="831"/>
                  </a:lnTo>
                  <a:lnTo>
                    <a:pt x="1540" y="879"/>
                  </a:lnTo>
                  <a:lnTo>
                    <a:pt x="1505" y="738"/>
                  </a:lnTo>
                  <a:lnTo>
                    <a:pt x="1695" y="676"/>
                  </a:lnTo>
                  <a:lnTo>
                    <a:pt x="1563" y="609"/>
                  </a:lnTo>
                  <a:lnTo>
                    <a:pt x="1880" y="587"/>
                  </a:lnTo>
                  <a:lnTo>
                    <a:pt x="1607" y="446"/>
                  </a:lnTo>
                  <a:lnTo>
                    <a:pt x="1288" y="415"/>
                  </a:lnTo>
                  <a:lnTo>
                    <a:pt x="1540" y="269"/>
                  </a:lnTo>
                  <a:lnTo>
                    <a:pt x="1094" y="269"/>
                  </a:lnTo>
                  <a:lnTo>
                    <a:pt x="1301" y="132"/>
                  </a:lnTo>
                  <a:lnTo>
                    <a:pt x="979" y="171"/>
                  </a:lnTo>
                  <a:lnTo>
                    <a:pt x="825" y="239"/>
                  </a:lnTo>
                  <a:lnTo>
                    <a:pt x="957" y="0"/>
                  </a:lnTo>
                  <a:lnTo>
                    <a:pt x="569" y="132"/>
                  </a:lnTo>
                  <a:lnTo>
                    <a:pt x="352" y="424"/>
                  </a:lnTo>
                  <a:lnTo>
                    <a:pt x="313" y="261"/>
                  </a:lnTo>
                  <a:lnTo>
                    <a:pt x="136" y="375"/>
                  </a:lnTo>
                  <a:lnTo>
                    <a:pt x="114" y="587"/>
                  </a:lnTo>
                  <a:lnTo>
                    <a:pt x="0" y="547"/>
                  </a:lnTo>
                  <a:lnTo>
                    <a:pt x="39" y="738"/>
                  </a:lnTo>
                  <a:lnTo>
                    <a:pt x="17"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1733400" y="554040"/>
              <a:ext cx="189360" cy="95760"/>
            </a:xfrm>
            <a:custGeom>
              <a:avLst/>
              <a:gdLst/>
              <a:ahLst/>
              <a:rect l="0" t="0" r="r" b="b"/>
              <a:pathLst>
                <a:path w="526" h="266">
                  <a:moveTo>
                    <a:pt x="0" y="266"/>
                  </a:moveTo>
                  <a:lnTo>
                    <a:pt x="199" y="0"/>
                  </a:lnTo>
                  <a:lnTo>
                    <a:pt x="199" y="177"/>
                  </a:lnTo>
                  <a:lnTo>
                    <a:pt x="269" y="106"/>
                  </a:lnTo>
                  <a:lnTo>
                    <a:pt x="331" y="204"/>
                  </a:lnTo>
                  <a:lnTo>
                    <a:pt x="526" y="253"/>
                  </a:lnTo>
                  <a:lnTo>
                    <a:pt x="318" y="218"/>
                  </a:lnTo>
                  <a:lnTo>
                    <a:pt x="252" y="150"/>
                  </a:lnTo>
                  <a:lnTo>
                    <a:pt x="168" y="218"/>
                  </a:lnTo>
                  <a:lnTo>
                    <a:pt x="168" y="137"/>
                  </a:lnTo>
                  <a:lnTo>
                    <a:pt x="0" y="266"/>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192" name=""/>
            <p:cNvSpPr/>
            <p:nvPr/>
          </p:nvSpPr>
          <p:spPr>
            <a:xfrm>
              <a:off x="1714680" y="1203480"/>
              <a:ext cx="230400" cy="143280"/>
            </a:xfrm>
            <a:custGeom>
              <a:avLst/>
              <a:gdLst/>
              <a:ahLst/>
              <a:rect l="0" t="0" r="r" b="b"/>
              <a:pathLst>
                <a:path w="640" h="398">
                  <a:moveTo>
                    <a:pt x="119" y="137"/>
                  </a:moveTo>
                  <a:lnTo>
                    <a:pt x="384" y="120"/>
                  </a:lnTo>
                  <a:lnTo>
                    <a:pt x="512" y="150"/>
                  </a:lnTo>
                  <a:lnTo>
                    <a:pt x="569" y="92"/>
                  </a:lnTo>
                  <a:lnTo>
                    <a:pt x="640" y="221"/>
                  </a:lnTo>
                  <a:lnTo>
                    <a:pt x="591" y="243"/>
                  </a:lnTo>
                  <a:lnTo>
                    <a:pt x="543" y="195"/>
                  </a:lnTo>
                  <a:lnTo>
                    <a:pt x="455" y="287"/>
                  </a:lnTo>
                  <a:lnTo>
                    <a:pt x="295" y="398"/>
                  </a:lnTo>
                  <a:lnTo>
                    <a:pt x="224" y="398"/>
                  </a:lnTo>
                  <a:lnTo>
                    <a:pt x="119" y="341"/>
                  </a:lnTo>
                  <a:lnTo>
                    <a:pt x="242" y="390"/>
                  </a:lnTo>
                  <a:lnTo>
                    <a:pt x="282" y="390"/>
                  </a:lnTo>
                  <a:lnTo>
                    <a:pt x="384" y="315"/>
                  </a:lnTo>
                  <a:lnTo>
                    <a:pt x="450" y="181"/>
                  </a:lnTo>
                  <a:lnTo>
                    <a:pt x="349" y="164"/>
                  </a:lnTo>
                  <a:lnTo>
                    <a:pt x="277" y="150"/>
                  </a:lnTo>
                  <a:lnTo>
                    <a:pt x="105" y="172"/>
                  </a:lnTo>
                  <a:lnTo>
                    <a:pt x="101" y="278"/>
                  </a:lnTo>
                  <a:lnTo>
                    <a:pt x="52" y="212"/>
                  </a:lnTo>
                  <a:lnTo>
                    <a:pt x="0" y="301"/>
                  </a:lnTo>
                  <a:lnTo>
                    <a:pt x="4" y="106"/>
                  </a:lnTo>
                  <a:lnTo>
                    <a:pt x="70" y="0"/>
                  </a:lnTo>
                  <a:lnTo>
                    <a:pt x="119" y="106"/>
                  </a:lnTo>
                  <a:lnTo>
                    <a:pt x="119" y="1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1687680" y="893880"/>
              <a:ext cx="489240" cy="657720"/>
            </a:xfrm>
            <a:custGeom>
              <a:avLst/>
              <a:gdLst/>
              <a:ahLst/>
              <a:rect l="0" t="0" r="r" b="b"/>
              <a:pathLst>
                <a:path w="1359" h="1827">
                  <a:moveTo>
                    <a:pt x="1143" y="0"/>
                  </a:moveTo>
                  <a:lnTo>
                    <a:pt x="1279" y="0"/>
                  </a:lnTo>
                  <a:lnTo>
                    <a:pt x="1359" y="88"/>
                  </a:lnTo>
                  <a:lnTo>
                    <a:pt x="1359" y="189"/>
                  </a:lnTo>
                  <a:lnTo>
                    <a:pt x="1248" y="477"/>
                  </a:lnTo>
                  <a:lnTo>
                    <a:pt x="1138" y="613"/>
                  </a:lnTo>
                  <a:lnTo>
                    <a:pt x="1019" y="631"/>
                  </a:lnTo>
                  <a:lnTo>
                    <a:pt x="984" y="631"/>
                  </a:lnTo>
                  <a:lnTo>
                    <a:pt x="984" y="988"/>
                  </a:lnTo>
                  <a:lnTo>
                    <a:pt x="1041" y="1248"/>
                  </a:lnTo>
                  <a:lnTo>
                    <a:pt x="1041" y="1466"/>
                  </a:lnTo>
                  <a:lnTo>
                    <a:pt x="834" y="1682"/>
                  </a:lnTo>
                  <a:lnTo>
                    <a:pt x="551" y="1827"/>
                  </a:lnTo>
                  <a:lnTo>
                    <a:pt x="379" y="1827"/>
                  </a:lnTo>
                  <a:lnTo>
                    <a:pt x="286" y="1783"/>
                  </a:lnTo>
                  <a:lnTo>
                    <a:pt x="163" y="1532"/>
                  </a:lnTo>
                  <a:lnTo>
                    <a:pt x="44" y="1443"/>
                  </a:lnTo>
                  <a:lnTo>
                    <a:pt x="0" y="1377"/>
                  </a:lnTo>
                  <a:lnTo>
                    <a:pt x="149" y="1466"/>
                  </a:lnTo>
                  <a:lnTo>
                    <a:pt x="264" y="1554"/>
                  </a:lnTo>
                  <a:lnTo>
                    <a:pt x="480" y="1571"/>
                  </a:lnTo>
                  <a:lnTo>
                    <a:pt x="674" y="1479"/>
                  </a:lnTo>
                  <a:lnTo>
                    <a:pt x="777" y="1377"/>
                  </a:lnTo>
                  <a:lnTo>
                    <a:pt x="887" y="1187"/>
                  </a:lnTo>
                  <a:lnTo>
                    <a:pt x="909" y="971"/>
                  </a:lnTo>
                  <a:lnTo>
                    <a:pt x="949" y="268"/>
                  </a:lnTo>
                  <a:lnTo>
                    <a:pt x="993" y="370"/>
                  </a:lnTo>
                  <a:lnTo>
                    <a:pt x="1134" y="242"/>
                  </a:lnTo>
                  <a:lnTo>
                    <a:pt x="1271" y="189"/>
                  </a:lnTo>
                  <a:lnTo>
                    <a:pt x="1301" y="114"/>
                  </a:lnTo>
                  <a:lnTo>
                    <a:pt x="1288" y="44"/>
                  </a:lnTo>
                  <a:lnTo>
                    <a:pt x="1231" y="8"/>
                  </a:lnTo>
                  <a:lnTo>
                    <a:pt x="114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925560" y="1461960"/>
              <a:ext cx="395640" cy="606960"/>
            </a:xfrm>
            <a:custGeom>
              <a:avLst/>
              <a:gdLst/>
              <a:ahLst/>
              <a:rect l="0" t="0" r="r" b="b"/>
              <a:pathLst>
                <a:path w="1099" h="1686">
                  <a:moveTo>
                    <a:pt x="136" y="0"/>
                  </a:moveTo>
                  <a:lnTo>
                    <a:pt x="264" y="74"/>
                  </a:lnTo>
                  <a:lnTo>
                    <a:pt x="361" y="424"/>
                  </a:lnTo>
                  <a:lnTo>
                    <a:pt x="640" y="499"/>
                  </a:lnTo>
                  <a:lnTo>
                    <a:pt x="719" y="587"/>
                  </a:lnTo>
                  <a:lnTo>
                    <a:pt x="733" y="715"/>
                  </a:lnTo>
                  <a:lnTo>
                    <a:pt x="874" y="697"/>
                  </a:lnTo>
                  <a:lnTo>
                    <a:pt x="1041" y="807"/>
                  </a:lnTo>
                  <a:lnTo>
                    <a:pt x="1099" y="940"/>
                  </a:lnTo>
                  <a:lnTo>
                    <a:pt x="1099" y="1178"/>
                  </a:lnTo>
                  <a:lnTo>
                    <a:pt x="874" y="1540"/>
                  </a:lnTo>
                  <a:lnTo>
                    <a:pt x="799" y="1686"/>
                  </a:lnTo>
                  <a:lnTo>
                    <a:pt x="838" y="1492"/>
                  </a:lnTo>
                  <a:lnTo>
                    <a:pt x="799" y="1417"/>
                  </a:lnTo>
                  <a:lnTo>
                    <a:pt x="666" y="1294"/>
                  </a:lnTo>
                  <a:lnTo>
                    <a:pt x="445" y="1143"/>
                  </a:lnTo>
                  <a:lnTo>
                    <a:pt x="710" y="1231"/>
                  </a:lnTo>
                  <a:lnTo>
                    <a:pt x="865" y="1338"/>
                  </a:lnTo>
                  <a:lnTo>
                    <a:pt x="935" y="1324"/>
                  </a:lnTo>
                  <a:lnTo>
                    <a:pt x="988" y="1262"/>
                  </a:lnTo>
                  <a:lnTo>
                    <a:pt x="1041" y="1090"/>
                  </a:lnTo>
                  <a:lnTo>
                    <a:pt x="1024" y="927"/>
                  </a:lnTo>
                  <a:lnTo>
                    <a:pt x="944" y="834"/>
                  </a:lnTo>
                  <a:lnTo>
                    <a:pt x="812" y="807"/>
                  </a:lnTo>
                  <a:lnTo>
                    <a:pt x="666" y="807"/>
                  </a:lnTo>
                  <a:lnTo>
                    <a:pt x="613" y="556"/>
                  </a:lnTo>
                  <a:lnTo>
                    <a:pt x="374" y="472"/>
                  </a:lnTo>
                  <a:lnTo>
                    <a:pt x="374" y="543"/>
                  </a:lnTo>
                  <a:lnTo>
                    <a:pt x="264" y="361"/>
                  </a:lnTo>
                  <a:lnTo>
                    <a:pt x="202" y="74"/>
                  </a:lnTo>
                  <a:lnTo>
                    <a:pt x="105" y="48"/>
                  </a:lnTo>
                  <a:lnTo>
                    <a:pt x="57" y="132"/>
                  </a:lnTo>
                  <a:lnTo>
                    <a:pt x="57" y="326"/>
                  </a:lnTo>
                  <a:lnTo>
                    <a:pt x="97" y="543"/>
                  </a:lnTo>
                  <a:lnTo>
                    <a:pt x="229" y="715"/>
                  </a:lnTo>
                  <a:lnTo>
                    <a:pt x="83" y="609"/>
                  </a:lnTo>
                  <a:lnTo>
                    <a:pt x="13" y="424"/>
                  </a:lnTo>
                  <a:lnTo>
                    <a:pt x="0" y="180"/>
                  </a:lnTo>
                  <a:lnTo>
                    <a:pt x="57" y="48"/>
                  </a:lnTo>
                  <a:lnTo>
                    <a:pt x="13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736560" y="1728720"/>
              <a:ext cx="260640" cy="487800"/>
            </a:xfrm>
            <a:custGeom>
              <a:avLst/>
              <a:gdLst/>
              <a:ahLst/>
              <a:rect l="0" t="0" r="r" b="b"/>
              <a:pathLst>
                <a:path w="724" h="1355">
                  <a:moveTo>
                    <a:pt x="724" y="0"/>
                  </a:moveTo>
                  <a:lnTo>
                    <a:pt x="569" y="88"/>
                  </a:lnTo>
                  <a:lnTo>
                    <a:pt x="397" y="419"/>
                  </a:lnTo>
                  <a:lnTo>
                    <a:pt x="224" y="631"/>
                  </a:lnTo>
                  <a:lnTo>
                    <a:pt x="17" y="887"/>
                  </a:lnTo>
                  <a:lnTo>
                    <a:pt x="0" y="1025"/>
                  </a:lnTo>
                  <a:lnTo>
                    <a:pt x="39" y="1139"/>
                  </a:lnTo>
                  <a:lnTo>
                    <a:pt x="141" y="1139"/>
                  </a:lnTo>
                  <a:lnTo>
                    <a:pt x="277" y="1025"/>
                  </a:lnTo>
                  <a:lnTo>
                    <a:pt x="384" y="781"/>
                  </a:lnTo>
                  <a:lnTo>
                    <a:pt x="530" y="631"/>
                  </a:lnTo>
                  <a:lnTo>
                    <a:pt x="530" y="825"/>
                  </a:lnTo>
                  <a:lnTo>
                    <a:pt x="512" y="1006"/>
                  </a:lnTo>
                  <a:lnTo>
                    <a:pt x="352" y="1245"/>
                  </a:lnTo>
                  <a:lnTo>
                    <a:pt x="352" y="1320"/>
                  </a:lnTo>
                  <a:lnTo>
                    <a:pt x="512" y="1355"/>
                  </a:lnTo>
                  <a:lnTo>
                    <a:pt x="397" y="1289"/>
                  </a:lnTo>
                  <a:lnTo>
                    <a:pt x="415" y="1245"/>
                  </a:lnTo>
                  <a:lnTo>
                    <a:pt x="521" y="1069"/>
                  </a:lnTo>
                  <a:lnTo>
                    <a:pt x="600" y="750"/>
                  </a:lnTo>
                  <a:lnTo>
                    <a:pt x="543" y="569"/>
                  </a:lnTo>
                  <a:lnTo>
                    <a:pt x="428" y="675"/>
                  </a:lnTo>
                  <a:lnTo>
                    <a:pt x="171" y="1077"/>
                  </a:lnTo>
                  <a:lnTo>
                    <a:pt x="101" y="1095"/>
                  </a:lnTo>
                  <a:lnTo>
                    <a:pt x="39" y="1051"/>
                  </a:lnTo>
                  <a:lnTo>
                    <a:pt x="39" y="927"/>
                  </a:lnTo>
                  <a:lnTo>
                    <a:pt x="141" y="763"/>
                  </a:lnTo>
                  <a:lnTo>
                    <a:pt x="428" y="437"/>
                  </a:lnTo>
                  <a:lnTo>
                    <a:pt x="600" y="123"/>
                  </a:lnTo>
                  <a:lnTo>
                    <a:pt x="72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6" name=""/>
            <p:cNvSpPr/>
            <p:nvPr/>
          </p:nvSpPr>
          <p:spPr>
            <a:xfrm>
              <a:off x="930240" y="2003400"/>
              <a:ext cx="162360" cy="233640"/>
            </a:xfrm>
            <a:custGeom>
              <a:avLst/>
              <a:gdLst/>
              <a:ahLst/>
              <a:rect l="0" t="0" r="r" b="b"/>
              <a:pathLst>
                <a:path w="451" h="649">
                  <a:moveTo>
                    <a:pt x="0" y="574"/>
                  </a:moveTo>
                  <a:lnTo>
                    <a:pt x="150" y="406"/>
                  </a:lnTo>
                  <a:lnTo>
                    <a:pt x="177" y="242"/>
                  </a:lnTo>
                  <a:lnTo>
                    <a:pt x="350" y="0"/>
                  </a:lnTo>
                  <a:lnTo>
                    <a:pt x="381" y="163"/>
                  </a:lnTo>
                  <a:lnTo>
                    <a:pt x="363" y="587"/>
                  </a:lnTo>
                  <a:lnTo>
                    <a:pt x="451" y="649"/>
                  </a:lnTo>
                  <a:lnTo>
                    <a:pt x="322" y="600"/>
                  </a:lnTo>
                  <a:lnTo>
                    <a:pt x="252" y="358"/>
                  </a:lnTo>
                  <a:lnTo>
                    <a:pt x="150" y="477"/>
                  </a:lnTo>
                  <a:lnTo>
                    <a:pt x="0"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1128600" y="2016000"/>
              <a:ext cx="106560" cy="209880"/>
            </a:xfrm>
            <a:custGeom>
              <a:avLst/>
              <a:gdLst/>
              <a:ahLst/>
              <a:rect l="0" t="0" r="r" b="b"/>
              <a:pathLst>
                <a:path w="296" h="583">
                  <a:moveTo>
                    <a:pt x="0" y="437"/>
                  </a:moveTo>
                  <a:lnTo>
                    <a:pt x="13" y="220"/>
                  </a:lnTo>
                  <a:lnTo>
                    <a:pt x="74" y="92"/>
                  </a:lnTo>
                  <a:lnTo>
                    <a:pt x="141" y="552"/>
                  </a:lnTo>
                  <a:lnTo>
                    <a:pt x="230" y="552"/>
                  </a:lnTo>
                  <a:lnTo>
                    <a:pt x="274" y="66"/>
                  </a:lnTo>
                  <a:lnTo>
                    <a:pt x="296" y="0"/>
                  </a:lnTo>
                  <a:lnTo>
                    <a:pt x="274" y="380"/>
                  </a:lnTo>
                  <a:lnTo>
                    <a:pt x="230" y="583"/>
                  </a:lnTo>
                  <a:lnTo>
                    <a:pt x="114" y="583"/>
                  </a:lnTo>
                  <a:lnTo>
                    <a:pt x="70" y="180"/>
                  </a:lnTo>
                  <a:lnTo>
                    <a:pt x="35" y="238"/>
                  </a:lnTo>
                  <a:lnTo>
                    <a:pt x="0" y="4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2490840" y="1190520"/>
              <a:ext cx="257400" cy="560880"/>
            </a:xfrm>
            <a:custGeom>
              <a:avLst/>
              <a:gdLst/>
              <a:ahLst/>
              <a:rect l="0" t="0" r="r" b="b"/>
              <a:pathLst>
                <a:path w="715" h="1558">
                  <a:moveTo>
                    <a:pt x="189" y="843"/>
                  </a:moveTo>
                  <a:lnTo>
                    <a:pt x="238" y="600"/>
                  </a:lnTo>
                  <a:lnTo>
                    <a:pt x="486" y="538"/>
                  </a:lnTo>
                  <a:lnTo>
                    <a:pt x="715" y="0"/>
                  </a:lnTo>
                  <a:lnTo>
                    <a:pt x="715" y="158"/>
                  </a:lnTo>
                  <a:lnTo>
                    <a:pt x="516" y="574"/>
                  </a:lnTo>
                  <a:lnTo>
                    <a:pt x="264" y="649"/>
                  </a:lnTo>
                  <a:lnTo>
                    <a:pt x="224" y="843"/>
                  </a:lnTo>
                  <a:lnTo>
                    <a:pt x="317" y="843"/>
                  </a:lnTo>
                  <a:lnTo>
                    <a:pt x="92" y="927"/>
                  </a:lnTo>
                  <a:lnTo>
                    <a:pt x="39" y="1094"/>
                  </a:lnTo>
                  <a:lnTo>
                    <a:pt x="57" y="1311"/>
                  </a:lnTo>
                  <a:lnTo>
                    <a:pt x="291" y="1558"/>
                  </a:lnTo>
                  <a:lnTo>
                    <a:pt x="39" y="1338"/>
                  </a:lnTo>
                  <a:lnTo>
                    <a:pt x="0" y="1156"/>
                  </a:lnTo>
                  <a:lnTo>
                    <a:pt x="17" y="975"/>
                  </a:lnTo>
                  <a:lnTo>
                    <a:pt x="105" y="847"/>
                  </a:lnTo>
                  <a:lnTo>
                    <a:pt x="189" y="84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2665440" y="1190520"/>
              <a:ext cx="432000" cy="543240"/>
            </a:xfrm>
            <a:custGeom>
              <a:avLst/>
              <a:gdLst/>
              <a:ahLst/>
              <a:rect l="0" t="0" r="r" b="b"/>
              <a:pathLst>
                <a:path w="1200" h="1509">
                  <a:moveTo>
                    <a:pt x="330" y="0"/>
                  </a:moveTo>
                  <a:lnTo>
                    <a:pt x="401" y="48"/>
                  </a:lnTo>
                  <a:lnTo>
                    <a:pt x="423" y="176"/>
                  </a:lnTo>
                  <a:lnTo>
                    <a:pt x="423" y="295"/>
                  </a:lnTo>
                  <a:lnTo>
                    <a:pt x="291" y="511"/>
                  </a:lnTo>
                  <a:lnTo>
                    <a:pt x="317" y="674"/>
                  </a:lnTo>
                  <a:lnTo>
                    <a:pt x="719" y="847"/>
                  </a:lnTo>
                  <a:lnTo>
                    <a:pt x="1191" y="1323"/>
                  </a:lnTo>
                  <a:lnTo>
                    <a:pt x="1200" y="1451"/>
                  </a:lnTo>
                  <a:lnTo>
                    <a:pt x="1173" y="1509"/>
                  </a:lnTo>
                  <a:lnTo>
                    <a:pt x="997" y="1509"/>
                  </a:lnTo>
                  <a:lnTo>
                    <a:pt x="838" y="1416"/>
                  </a:lnTo>
                  <a:lnTo>
                    <a:pt x="710" y="1262"/>
                  </a:lnTo>
                  <a:lnTo>
                    <a:pt x="640" y="1169"/>
                  </a:lnTo>
                  <a:lnTo>
                    <a:pt x="555" y="1156"/>
                  </a:lnTo>
                  <a:lnTo>
                    <a:pt x="662" y="1156"/>
                  </a:lnTo>
                  <a:lnTo>
                    <a:pt x="856" y="1403"/>
                  </a:lnTo>
                  <a:lnTo>
                    <a:pt x="1107" y="1473"/>
                  </a:lnTo>
                  <a:lnTo>
                    <a:pt x="1160" y="1403"/>
                  </a:lnTo>
                  <a:lnTo>
                    <a:pt x="1129" y="1288"/>
                  </a:lnTo>
                  <a:lnTo>
                    <a:pt x="693" y="949"/>
                  </a:lnTo>
                  <a:lnTo>
                    <a:pt x="631" y="847"/>
                  </a:lnTo>
                  <a:lnTo>
                    <a:pt x="291" y="763"/>
                  </a:lnTo>
                  <a:lnTo>
                    <a:pt x="229" y="847"/>
                  </a:lnTo>
                  <a:lnTo>
                    <a:pt x="0" y="988"/>
                  </a:lnTo>
                  <a:lnTo>
                    <a:pt x="220" y="825"/>
                  </a:lnTo>
                  <a:lnTo>
                    <a:pt x="229" y="723"/>
                  </a:lnTo>
                  <a:lnTo>
                    <a:pt x="229" y="480"/>
                  </a:lnTo>
                  <a:lnTo>
                    <a:pt x="383" y="295"/>
                  </a:lnTo>
                  <a:lnTo>
                    <a:pt x="383" y="61"/>
                  </a:lnTo>
                  <a:lnTo>
                    <a:pt x="3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0" name=""/>
            <p:cNvSpPr/>
            <p:nvPr/>
          </p:nvSpPr>
          <p:spPr>
            <a:xfrm>
              <a:off x="2585880" y="1617840"/>
              <a:ext cx="367200" cy="321120"/>
            </a:xfrm>
            <a:custGeom>
              <a:avLst/>
              <a:gdLst/>
              <a:ahLst/>
              <a:rect l="0" t="0" r="r" b="b"/>
              <a:pathLst>
                <a:path w="1020" h="892">
                  <a:moveTo>
                    <a:pt x="763" y="0"/>
                  </a:moveTo>
                  <a:lnTo>
                    <a:pt x="737" y="74"/>
                  </a:lnTo>
                  <a:lnTo>
                    <a:pt x="892" y="371"/>
                  </a:lnTo>
                  <a:lnTo>
                    <a:pt x="963" y="676"/>
                  </a:lnTo>
                  <a:lnTo>
                    <a:pt x="879" y="676"/>
                  </a:lnTo>
                  <a:lnTo>
                    <a:pt x="724" y="538"/>
                  </a:lnTo>
                  <a:lnTo>
                    <a:pt x="587" y="261"/>
                  </a:lnTo>
                  <a:lnTo>
                    <a:pt x="481" y="216"/>
                  </a:lnTo>
                  <a:lnTo>
                    <a:pt x="499" y="371"/>
                  </a:lnTo>
                  <a:lnTo>
                    <a:pt x="596" y="477"/>
                  </a:lnTo>
                  <a:lnTo>
                    <a:pt x="596" y="694"/>
                  </a:lnTo>
                  <a:lnTo>
                    <a:pt x="521" y="848"/>
                  </a:lnTo>
                  <a:lnTo>
                    <a:pt x="428" y="786"/>
                  </a:lnTo>
                  <a:lnTo>
                    <a:pt x="314" y="538"/>
                  </a:lnTo>
                  <a:lnTo>
                    <a:pt x="287" y="371"/>
                  </a:lnTo>
                  <a:lnTo>
                    <a:pt x="220" y="322"/>
                  </a:lnTo>
                  <a:lnTo>
                    <a:pt x="202" y="756"/>
                  </a:lnTo>
                  <a:lnTo>
                    <a:pt x="105" y="817"/>
                  </a:lnTo>
                  <a:lnTo>
                    <a:pt x="26" y="756"/>
                  </a:lnTo>
                  <a:lnTo>
                    <a:pt x="13" y="384"/>
                  </a:lnTo>
                  <a:lnTo>
                    <a:pt x="0" y="747"/>
                  </a:lnTo>
                  <a:lnTo>
                    <a:pt x="70" y="879"/>
                  </a:lnTo>
                  <a:lnTo>
                    <a:pt x="202" y="879"/>
                  </a:lnTo>
                  <a:lnTo>
                    <a:pt x="242" y="773"/>
                  </a:lnTo>
                  <a:lnTo>
                    <a:pt x="274" y="437"/>
                  </a:lnTo>
                  <a:lnTo>
                    <a:pt x="296" y="569"/>
                  </a:lnTo>
                  <a:lnTo>
                    <a:pt x="411" y="857"/>
                  </a:lnTo>
                  <a:lnTo>
                    <a:pt x="534" y="892"/>
                  </a:lnTo>
                  <a:lnTo>
                    <a:pt x="631" y="773"/>
                  </a:lnTo>
                  <a:lnTo>
                    <a:pt x="631" y="494"/>
                  </a:lnTo>
                  <a:lnTo>
                    <a:pt x="879" y="725"/>
                  </a:lnTo>
                  <a:lnTo>
                    <a:pt x="1007" y="725"/>
                  </a:lnTo>
                  <a:lnTo>
                    <a:pt x="1020" y="569"/>
                  </a:lnTo>
                  <a:lnTo>
                    <a:pt x="928" y="292"/>
                  </a:lnTo>
                  <a:lnTo>
                    <a:pt x="763" y="61"/>
                  </a:lnTo>
                  <a:lnTo>
                    <a:pt x="76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1" name=""/>
            <p:cNvSpPr/>
            <p:nvPr/>
          </p:nvSpPr>
          <p:spPr>
            <a:xfrm>
              <a:off x="1098720" y="1285920"/>
              <a:ext cx="1636920" cy="1310040"/>
            </a:xfrm>
            <a:custGeom>
              <a:avLst/>
              <a:gdLst/>
              <a:ahLst/>
              <a:rect l="0" t="0" r="r" b="b"/>
              <a:pathLst>
                <a:path w="4547" h="3639">
                  <a:moveTo>
                    <a:pt x="1640" y="308"/>
                  </a:moveTo>
                  <a:lnTo>
                    <a:pt x="1552" y="321"/>
                  </a:lnTo>
                  <a:lnTo>
                    <a:pt x="1424" y="502"/>
                  </a:lnTo>
                  <a:lnTo>
                    <a:pt x="1380" y="370"/>
                  </a:lnTo>
                  <a:lnTo>
                    <a:pt x="1230" y="295"/>
                  </a:lnTo>
                  <a:lnTo>
                    <a:pt x="1124" y="352"/>
                  </a:lnTo>
                  <a:lnTo>
                    <a:pt x="1080" y="590"/>
                  </a:lnTo>
                  <a:lnTo>
                    <a:pt x="674" y="877"/>
                  </a:lnTo>
                  <a:lnTo>
                    <a:pt x="701" y="996"/>
                  </a:lnTo>
                  <a:lnTo>
                    <a:pt x="599" y="1106"/>
                  </a:lnTo>
                  <a:lnTo>
                    <a:pt x="599" y="1199"/>
                  </a:lnTo>
                  <a:lnTo>
                    <a:pt x="714" y="1477"/>
                  </a:lnTo>
                  <a:lnTo>
                    <a:pt x="723" y="1812"/>
                  </a:lnTo>
                  <a:lnTo>
                    <a:pt x="652" y="2135"/>
                  </a:lnTo>
                  <a:lnTo>
                    <a:pt x="361" y="2324"/>
                  </a:lnTo>
                  <a:lnTo>
                    <a:pt x="317" y="2585"/>
                  </a:lnTo>
                  <a:lnTo>
                    <a:pt x="229" y="2585"/>
                  </a:lnTo>
                  <a:lnTo>
                    <a:pt x="185" y="2369"/>
                  </a:lnTo>
                  <a:lnTo>
                    <a:pt x="92" y="2369"/>
                  </a:lnTo>
                  <a:lnTo>
                    <a:pt x="57" y="2598"/>
                  </a:lnTo>
                  <a:lnTo>
                    <a:pt x="0" y="2660"/>
                  </a:lnTo>
                  <a:lnTo>
                    <a:pt x="202" y="2968"/>
                  </a:lnTo>
                  <a:lnTo>
                    <a:pt x="343" y="2981"/>
                  </a:lnTo>
                  <a:lnTo>
                    <a:pt x="599" y="3215"/>
                  </a:lnTo>
                  <a:lnTo>
                    <a:pt x="833" y="3246"/>
                  </a:lnTo>
                  <a:lnTo>
                    <a:pt x="965" y="3123"/>
                  </a:lnTo>
                  <a:lnTo>
                    <a:pt x="1278" y="2673"/>
                  </a:lnTo>
                  <a:lnTo>
                    <a:pt x="1305" y="3277"/>
                  </a:lnTo>
                  <a:lnTo>
                    <a:pt x="1278" y="3639"/>
                  </a:lnTo>
                  <a:lnTo>
                    <a:pt x="3903" y="3639"/>
                  </a:lnTo>
                  <a:lnTo>
                    <a:pt x="3713" y="3246"/>
                  </a:lnTo>
                  <a:lnTo>
                    <a:pt x="3621" y="2907"/>
                  </a:lnTo>
                  <a:lnTo>
                    <a:pt x="3594" y="2408"/>
                  </a:lnTo>
                  <a:lnTo>
                    <a:pt x="3749" y="2523"/>
                  </a:lnTo>
                  <a:lnTo>
                    <a:pt x="3903" y="2523"/>
                  </a:lnTo>
                  <a:lnTo>
                    <a:pt x="4124" y="2391"/>
                  </a:lnTo>
                  <a:lnTo>
                    <a:pt x="4265" y="2369"/>
                  </a:lnTo>
                  <a:lnTo>
                    <a:pt x="4353" y="2236"/>
                  </a:lnTo>
                  <a:lnTo>
                    <a:pt x="4419" y="1892"/>
                  </a:lnTo>
                  <a:lnTo>
                    <a:pt x="4547" y="1750"/>
                  </a:lnTo>
                  <a:lnTo>
                    <a:pt x="4476" y="1649"/>
                  </a:lnTo>
                  <a:lnTo>
                    <a:pt x="4379" y="1649"/>
                  </a:lnTo>
                  <a:lnTo>
                    <a:pt x="4309" y="1719"/>
                  </a:lnTo>
                  <a:lnTo>
                    <a:pt x="4229" y="1737"/>
                  </a:lnTo>
                  <a:lnTo>
                    <a:pt x="4137" y="1649"/>
                  </a:lnTo>
                  <a:lnTo>
                    <a:pt x="4022" y="1631"/>
                  </a:lnTo>
                  <a:lnTo>
                    <a:pt x="3819" y="1503"/>
                  </a:lnTo>
                  <a:lnTo>
                    <a:pt x="3687" y="1367"/>
                  </a:lnTo>
                  <a:lnTo>
                    <a:pt x="3665" y="1199"/>
                  </a:lnTo>
                  <a:lnTo>
                    <a:pt x="3687" y="1040"/>
                  </a:lnTo>
                  <a:lnTo>
                    <a:pt x="3771" y="912"/>
                  </a:lnTo>
                  <a:lnTo>
                    <a:pt x="3881" y="793"/>
                  </a:lnTo>
                  <a:lnTo>
                    <a:pt x="3872" y="582"/>
                  </a:lnTo>
                  <a:lnTo>
                    <a:pt x="3872" y="432"/>
                  </a:lnTo>
                  <a:lnTo>
                    <a:pt x="3819" y="321"/>
                  </a:lnTo>
                  <a:lnTo>
                    <a:pt x="3665" y="273"/>
                  </a:lnTo>
                  <a:lnTo>
                    <a:pt x="3608" y="246"/>
                  </a:lnTo>
                  <a:lnTo>
                    <a:pt x="3502" y="66"/>
                  </a:lnTo>
                  <a:lnTo>
                    <a:pt x="3409" y="13"/>
                  </a:lnTo>
                  <a:lnTo>
                    <a:pt x="3321" y="0"/>
                  </a:lnTo>
                  <a:lnTo>
                    <a:pt x="3237" y="35"/>
                  </a:lnTo>
                  <a:lnTo>
                    <a:pt x="3171" y="127"/>
                  </a:lnTo>
                  <a:lnTo>
                    <a:pt x="3070" y="185"/>
                  </a:lnTo>
                  <a:lnTo>
                    <a:pt x="2959" y="202"/>
                  </a:lnTo>
                  <a:lnTo>
                    <a:pt x="2836" y="202"/>
                  </a:lnTo>
                  <a:lnTo>
                    <a:pt x="2858" y="383"/>
                  </a:lnTo>
                  <a:lnTo>
                    <a:pt x="2858" y="608"/>
                  </a:lnTo>
                  <a:lnTo>
                    <a:pt x="2836" y="758"/>
                  </a:lnTo>
                  <a:lnTo>
                    <a:pt x="2726" y="934"/>
                  </a:lnTo>
                  <a:lnTo>
                    <a:pt x="2580" y="1212"/>
                  </a:lnTo>
                  <a:lnTo>
                    <a:pt x="2466" y="1538"/>
                  </a:lnTo>
                  <a:lnTo>
                    <a:pt x="2457" y="1737"/>
                  </a:lnTo>
                  <a:lnTo>
                    <a:pt x="2404" y="1906"/>
                  </a:lnTo>
                  <a:lnTo>
                    <a:pt x="2338" y="2073"/>
                  </a:lnTo>
                  <a:lnTo>
                    <a:pt x="2302" y="2338"/>
                  </a:lnTo>
                  <a:lnTo>
                    <a:pt x="2320" y="2554"/>
                  </a:lnTo>
                  <a:lnTo>
                    <a:pt x="2404" y="2805"/>
                  </a:lnTo>
                  <a:lnTo>
                    <a:pt x="2457" y="2907"/>
                  </a:lnTo>
                  <a:lnTo>
                    <a:pt x="2302" y="3004"/>
                  </a:lnTo>
                  <a:lnTo>
                    <a:pt x="2116" y="3061"/>
                  </a:lnTo>
                  <a:lnTo>
                    <a:pt x="1918" y="3078"/>
                  </a:lnTo>
                  <a:lnTo>
                    <a:pt x="1794" y="3078"/>
                  </a:lnTo>
                  <a:lnTo>
                    <a:pt x="1710" y="3043"/>
                  </a:lnTo>
                  <a:lnTo>
                    <a:pt x="1710" y="2827"/>
                  </a:lnTo>
                  <a:lnTo>
                    <a:pt x="1710" y="2510"/>
                  </a:lnTo>
                  <a:lnTo>
                    <a:pt x="1662" y="2188"/>
                  </a:lnTo>
                  <a:lnTo>
                    <a:pt x="1583" y="1906"/>
                  </a:lnTo>
                  <a:lnTo>
                    <a:pt x="1543" y="1675"/>
                  </a:lnTo>
                  <a:lnTo>
                    <a:pt x="1525" y="1353"/>
                  </a:lnTo>
                  <a:lnTo>
                    <a:pt x="1583" y="1071"/>
                  </a:lnTo>
                  <a:lnTo>
                    <a:pt x="1662" y="851"/>
                  </a:lnTo>
                  <a:lnTo>
                    <a:pt x="1671" y="718"/>
                  </a:lnTo>
                  <a:lnTo>
                    <a:pt x="1640" y="520"/>
                  </a:lnTo>
                  <a:lnTo>
                    <a:pt x="1640" y="370"/>
                  </a:lnTo>
                  <a:lnTo>
                    <a:pt x="1662" y="321"/>
                  </a:lnTo>
                  <a:lnTo>
                    <a:pt x="1640" y="3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2" name=""/>
            <p:cNvSpPr/>
            <p:nvPr/>
          </p:nvSpPr>
          <p:spPr>
            <a:xfrm>
              <a:off x="1736640" y="1547640"/>
              <a:ext cx="206640" cy="851400"/>
            </a:xfrm>
            <a:custGeom>
              <a:avLst/>
              <a:gdLst/>
              <a:ahLst/>
              <a:rect l="0" t="0" r="r" b="b"/>
              <a:pathLst>
                <a:path w="574" h="2365">
                  <a:moveTo>
                    <a:pt x="224" y="26"/>
                  </a:moveTo>
                  <a:lnTo>
                    <a:pt x="74" y="105"/>
                  </a:lnTo>
                  <a:lnTo>
                    <a:pt x="88" y="330"/>
                  </a:lnTo>
                  <a:lnTo>
                    <a:pt x="202" y="396"/>
                  </a:lnTo>
                  <a:lnTo>
                    <a:pt x="70" y="644"/>
                  </a:lnTo>
                  <a:lnTo>
                    <a:pt x="0" y="922"/>
                  </a:lnTo>
                  <a:lnTo>
                    <a:pt x="0" y="1182"/>
                  </a:lnTo>
                  <a:lnTo>
                    <a:pt x="70" y="1416"/>
                  </a:lnTo>
                  <a:lnTo>
                    <a:pt x="119" y="1703"/>
                  </a:lnTo>
                  <a:lnTo>
                    <a:pt x="119" y="1871"/>
                  </a:lnTo>
                  <a:lnTo>
                    <a:pt x="70" y="2074"/>
                  </a:lnTo>
                  <a:lnTo>
                    <a:pt x="296" y="2365"/>
                  </a:lnTo>
                  <a:lnTo>
                    <a:pt x="393" y="2317"/>
                  </a:lnTo>
                  <a:lnTo>
                    <a:pt x="459" y="2118"/>
                  </a:lnTo>
                  <a:lnTo>
                    <a:pt x="565" y="1858"/>
                  </a:lnTo>
                  <a:lnTo>
                    <a:pt x="574" y="1720"/>
                  </a:lnTo>
                  <a:lnTo>
                    <a:pt x="486" y="1456"/>
                  </a:lnTo>
                  <a:lnTo>
                    <a:pt x="375" y="1204"/>
                  </a:lnTo>
                  <a:lnTo>
                    <a:pt x="340" y="1032"/>
                  </a:lnTo>
                  <a:lnTo>
                    <a:pt x="340" y="860"/>
                  </a:lnTo>
                  <a:lnTo>
                    <a:pt x="375" y="706"/>
                  </a:lnTo>
                  <a:lnTo>
                    <a:pt x="459" y="515"/>
                  </a:lnTo>
                  <a:lnTo>
                    <a:pt x="459" y="440"/>
                  </a:lnTo>
                  <a:lnTo>
                    <a:pt x="415" y="366"/>
                  </a:lnTo>
                  <a:lnTo>
                    <a:pt x="521" y="268"/>
                  </a:lnTo>
                  <a:lnTo>
                    <a:pt x="521" y="180"/>
                  </a:lnTo>
                  <a:lnTo>
                    <a:pt x="375" y="0"/>
                  </a:lnTo>
                  <a:lnTo>
                    <a:pt x="499" y="180"/>
                  </a:lnTo>
                  <a:lnTo>
                    <a:pt x="499" y="255"/>
                  </a:lnTo>
                  <a:lnTo>
                    <a:pt x="389" y="330"/>
                  </a:lnTo>
                  <a:lnTo>
                    <a:pt x="428" y="440"/>
                  </a:lnTo>
                  <a:lnTo>
                    <a:pt x="415" y="515"/>
                  </a:lnTo>
                  <a:lnTo>
                    <a:pt x="309" y="737"/>
                  </a:lnTo>
                  <a:lnTo>
                    <a:pt x="296" y="949"/>
                  </a:lnTo>
                  <a:lnTo>
                    <a:pt x="322" y="1147"/>
                  </a:lnTo>
                  <a:lnTo>
                    <a:pt x="393" y="1429"/>
                  </a:lnTo>
                  <a:lnTo>
                    <a:pt x="486" y="1659"/>
                  </a:lnTo>
                  <a:lnTo>
                    <a:pt x="486" y="1845"/>
                  </a:lnTo>
                  <a:lnTo>
                    <a:pt x="428" y="2074"/>
                  </a:lnTo>
                  <a:lnTo>
                    <a:pt x="322" y="2317"/>
                  </a:lnTo>
                  <a:lnTo>
                    <a:pt x="189" y="2184"/>
                  </a:lnTo>
                  <a:lnTo>
                    <a:pt x="132" y="2074"/>
                  </a:lnTo>
                  <a:lnTo>
                    <a:pt x="149" y="1845"/>
                  </a:lnTo>
                  <a:lnTo>
                    <a:pt x="132" y="1610"/>
                  </a:lnTo>
                  <a:lnTo>
                    <a:pt x="70" y="1297"/>
                  </a:lnTo>
                  <a:lnTo>
                    <a:pt x="39" y="1085"/>
                  </a:lnTo>
                  <a:lnTo>
                    <a:pt x="70" y="847"/>
                  </a:lnTo>
                  <a:lnTo>
                    <a:pt x="119" y="613"/>
                  </a:lnTo>
                  <a:lnTo>
                    <a:pt x="238" y="379"/>
                  </a:lnTo>
                  <a:lnTo>
                    <a:pt x="132" y="286"/>
                  </a:lnTo>
                  <a:lnTo>
                    <a:pt x="119" y="119"/>
                  </a:lnTo>
                  <a:lnTo>
                    <a:pt x="224"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3" name=""/>
            <p:cNvSpPr/>
            <p:nvPr/>
          </p:nvSpPr>
          <p:spPr>
            <a:xfrm>
              <a:off x="2324160" y="554040"/>
              <a:ext cx="329040" cy="413280"/>
            </a:xfrm>
            <a:custGeom>
              <a:avLst/>
              <a:gdLst/>
              <a:ahLst/>
              <a:rect l="0" t="0" r="r" b="b"/>
              <a:pathLst>
                <a:path w="914" h="1148">
                  <a:moveTo>
                    <a:pt x="154" y="296"/>
                  </a:moveTo>
                  <a:lnTo>
                    <a:pt x="283" y="268"/>
                  </a:lnTo>
                  <a:lnTo>
                    <a:pt x="419" y="277"/>
                  </a:lnTo>
                  <a:lnTo>
                    <a:pt x="525" y="327"/>
                  </a:lnTo>
                  <a:lnTo>
                    <a:pt x="583" y="389"/>
                  </a:lnTo>
                  <a:lnTo>
                    <a:pt x="613" y="450"/>
                  </a:lnTo>
                  <a:lnTo>
                    <a:pt x="613" y="508"/>
                  </a:lnTo>
                  <a:lnTo>
                    <a:pt x="578" y="547"/>
                  </a:lnTo>
                  <a:lnTo>
                    <a:pt x="521" y="574"/>
                  </a:lnTo>
                  <a:lnTo>
                    <a:pt x="455" y="574"/>
                  </a:lnTo>
                  <a:lnTo>
                    <a:pt x="371" y="561"/>
                  </a:lnTo>
                  <a:lnTo>
                    <a:pt x="287" y="512"/>
                  </a:lnTo>
                  <a:lnTo>
                    <a:pt x="234" y="468"/>
                  </a:lnTo>
                  <a:lnTo>
                    <a:pt x="202" y="613"/>
                  </a:lnTo>
                  <a:lnTo>
                    <a:pt x="154" y="715"/>
                  </a:lnTo>
                  <a:lnTo>
                    <a:pt x="0" y="958"/>
                  </a:lnTo>
                  <a:lnTo>
                    <a:pt x="220" y="1148"/>
                  </a:lnTo>
                  <a:lnTo>
                    <a:pt x="389" y="834"/>
                  </a:lnTo>
                  <a:lnTo>
                    <a:pt x="578" y="860"/>
                  </a:lnTo>
                  <a:lnTo>
                    <a:pt x="698" y="838"/>
                  </a:lnTo>
                  <a:lnTo>
                    <a:pt x="813" y="768"/>
                  </a:lnTo>
                  <a:lnTo>
                    <a:pt x="879" y="680"/>
                  </a:lnTo>
                  <a:lnTo>
                    <a:pt x="914" y="565"/>
                  </a:lnTo>
                  <a:lnTo>
                    <a:pt x="914" y="441"/>
                  </a:lnTo>
                  <a:lnTo>
                    <a:pt x="879" y="309"/>
                  </a:lnTo>
                  <a:lnTo>
                    <a:pt x="808" y="176"/>
                  </a:lnTo>
                  <a:lnTo>
                    <a:pt x="711" y="79"/>
                  </a:lnTo>
                  <a:lnTo>
                    <a:pt x="600" y="26"/>
                  </a:lnTo>
                  <a:lnTo>
                    <a:pt x="464" y="0"/>
                  </a:lnTo>
                  <a:lnTo>
                    <a:pt x="300" y="0"/>
                  </a:lnTo>
                  <a:lnTo>
                    <a:pt x="119" y="35"/>
                  </a:lnTo>
                  <a:lnTo>
                    <a:pt x="154" y="296"/>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2266920" y="955800"/>
              <a:ext cx="117720" cy="82800"/>
            </a:xfrm>
            <a:custGeom>
              <a:avLst/>
              <a:gdLst/>
              <a:ahLst/>
              <a:rect l="0" t="0" r="r" b="b"/>
              <a:pathLst>
                <a:path w="327" h="230">
                  <a:moveTo>
                    <a:pt x="127" y="0"/>
                  </a:moveTo>
                  <a:lnTo>
                    <a:pt x="44" y="0"/>
                  </a:lnTo>
                  <a:lnTo>
                    <a:pt x="0" y="35"/>
                  </a:lnTo>
                  <a:lnTo>
                    <a:pt x="0" y="114"/>
                  </a:lnTo>
                  <a:lnTo>
                    <a:pt x="70" y="195"/>
                  </a:lnTo>
                  <a:lnTo>
                    <a:pt x="199" y="230"/>
                  </a:lnTo>
                  <a:lnTo>
                    <a:pt x="296" y="225"/>
                  </a:lnTo>
                  <a:lnTo>
                    <a:pt x="327" y="172"/>
                  </a:lnTo>
                  <a:lnTo>
                    <a:pt x="309" y="124"/>
                  </a:lnTo>
                  <a:lnTo>
                    <a:pt x="261" y="57"/>
                  </a:lnTo>
                  <a:lnTo>
                    <a:pt x="186" y="8"/>
                  </a:lnTo>
                  <a:lnTo>
                    <a:pt x="127" y="0"/>
                  </a:lnTo>
                  <a:close/>
                </a:path>
              </a:pathLst>
            </a:custGeom>
            <a:solidFill>
              <a:srgbClr val="fc0128"/>
            </a:solid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05" name=""/>
          <p:cNvSpPr txBox="1"/>
          <p:nvPr/>
        </p:nvSpPr>
        <p:spPr>
          <a:xfrm>
            <a:off x="973080" y="561960"/>
            <a:ext cx="7772400" cy="5298120"/>
          </a:xfrm>
          <a:prstGeom prst="rect">
            <a:avLst/>
          </a:prstGeom>
          <a:noFill/>
          <a:ln w="0">
            <a:noFill/>
          </a:ln>
        </p:spPr>
        <p:txBody>
          <a:bodyPr lIns="0" rIns="0" tIns="0" bIns="0" anchor="t">
            <a:noAutofit/>
          </a:bodyPr>
          <a:p>
            <a:pPr marL="343080" indent="-343080">
              <a:lnSpc>
                <a:spcPct val="120000"/>
              </a:lnSpc>
              <a:spcBef>
                <a:spcPts val="479"/>
              </a:spcBef>
            </a:pPr>
            <a:r>
              <a:rPr b="1" lang="en-US" sz="2400" spc="-1" strike="noStrike">
                <a:solidFill>
                  <a:srgbClr val="fc0128"/>
                </a:solidFill>
                <a:latin typeface="Arial"/>
                <a:ea typeface="Arial"/>
              </a:rPr>
              <a:t>A.</a:t>
            </a:r>
            <a:r>
              <a:rPr b="1" lang="en-US" sz="2400" spc="-1" strike="noStrike">
                <a:solidFill>
                  <a:srgbClr val="fc0128"/>
                </a:solidFill>
                <a:latin typeface="Arial"/>
                <a:ea typeface="Arial"/>
              </a:rPr>
              <a:t>	</a:t>
            </a:r>
            <a:r>
              <a:rPr b="1" lang="en-US" sz="2400" spc="-1" strike="noStrike">
                <a:solidFill>
                  <a:srgbClr val="fc0128"/>
                </a:solidFill>
                <a:latin typeface="Arial"/>
                <a:ea typeface="Arial"/>
              </a:rPr>
              <a:t>	</a:t>
            </a:r>
            <a:r>
              <a:rPr b="1" lang="en-US" sz="2400" spc="-1" strike="noStrike">
                <a:solidFill>
                  <a:srgbClr val="fcffd8"/>
                </a:solidFill>
                <a:latin typeface="Arial"/>
                <a:ea typeface="Arial"/>
              </a:rPr>
              <a:t>Qualitative characteristics are standards for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judging the information that accountants giv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to decision makers. Accountants try to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provide information that is understandabl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nd useful. Understandable means that th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user is able to interpret the information.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Usefulness depends on the characteristics of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relevance and reliability. Relevance require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that the information giv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feedback, help mak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predictions, and be timely. Reliability require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that the information represent what it i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supposed to represent, and be credibl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verifiable, and neutr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06" name=""/>
          <p:cNvSpPr txBox="1"/>
          <p:nvPr/>
        </p:nvSpPr>
        <p:spPr>
          <a:xfrm>
            <a:off x="380880" y="457200"/>
            <a:ext cx="8763120" cy="1905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nventions That Help in</a:t>
            </a:r>
            <a:br>
              <a:rPr sz="4400"/>
            </a:br>
            <a:r>
              <a:rPr b="1" lang="en-US" sz="4400" spc="-1" strike="noStrike">
                <a:solidFill>
                  <a:srgbClr val="ffcc66"/>
                </a:solidFill>
                <a:latin typeface="Arial"/>
                <a:ea typeface="Arial"/>
              </a:rPr>
              <a:t>the Interpretation of </a:t>
            </a:r>
            <a:br>
              <a:rPr sz="4400"/>
            </a:br>
            <a:r>
              <a:rPr b="1" lang="en-US" sz="4400" spc="-1" strike="noStrike">
                <a:solidFill>
                  <a:srgbClr val="ffcc66"/>
                </a:solidFill>
                <a:latin typeface="Arial"/>
                <a:ea typeface="Arial"/>
              </a:rPr>
              <a:t>Financial Information</a:t>
            </a:r>
            <a:endParaRPr b="0" lang="en-US" sz="4400" spc="-1" strike="noStrike">
              <a:solidFill>
                <a:srgbClr val="ffffff"/>
              </a:solidFill>
              <a:latin typeface="Arial"/>
            </a:endParaRPr>
          </a:p>
        </p:txBody>
      </p:sp>
      <p:sp>
        <p:nvSpPr>
          <p:cNvPr id="207" name=""/>
          <p:cNvSpPr txBox="1"/>
          <p:nvPr/>
        </p:nvSpPr>
        <p:spPr>
          <a:xfrm>
            <a:off x="1541520" y="2647800"/>
            <a:ext cx="7086600" cy="3276720"/>
          </a:xfrm>
          <a:prstGeom prst="rect">
            <a:avLst/>
          </a:prstGeom>
          <a:noFill/>
          <a:ln w="0">
            <a:noFill/>
          </a:ln>
        </p:spPr>
        <p:txBody>
          <a:bodyPr lIns="0" rIns="0" tIns="0" bIns="0" anchor="t">
            <a:noAutofit/>
          </a:bodyPr>
          <a:p>
            <a:pPr marL="343080" indent="-343080">
              <a:lnSpc>
                <a:spcPct val="100000"/>
              </a:lnSpc>
              <a:spcBef>
                <a:spcPts val="479"/>
              </a:spcBef>
            </a:pPr>
            <a:r>
              <a:rPr b="1" lang="en-US" sz="3600" spc="-1" strike="noStrike">
                <a:solidFill>
                  <a:srgbClr val="fcffd8"/>
                </a:solidFill>
                <a:latin typeface="Arial"/>
                <a:ea typeface="Arial"/>
              </a:rPr>
              <a:t>OBJECTIVE 3</a:t>
            </a:r>
            <a:endParaRPr b="0" lang="en-US" sz="36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Define and describe the use of the</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conventions of </a:t>
            </a:r>
            <a:r>
              <a:rPr b="1" i="1" lang="en-US" sz="3200" spc="-1" strike="noStrike">
                <a:solidFill>
                  <a:srgbClr val="fcffd8"/>
                </a:solidFill>
                <a:latin typeface="Arial"/>
                <a:ea typeface="Arial"/>
              </a:rPr>
              <a:t>comparability</a:t>
            </a:r>
            <a:r>
              <a:rPr b="1" lang="en-US" sz="3200" spc="-1" strike="noStrike">
                <a:solidFill>
                  <a:srgbClr val="fcffd8"/>
                </a:solidFill>
                <a:latin typeface="Arial"/>
                <a:ea typeface="Arial"/>
              </a:rPr>
              <a:t> and</a:t>
            </a:r>
            <a:endParaRPr b="0" lang="en-US" sz="3200" spc="-1" strike="noStrike">
              <a:solidFill>
                <a:srgbClr val="ffffff"/>
              </a:solidFill>
              <a:latin typeface="Arial"/>
            </a:endParaRPr>
          </a:p>
          <a:p>
            <a:pPr marL="343080" indent="-343080">
              <a:lnSpc>
                <a:spcPct val="100000"/>
              </a:lnSpc>
              <a:spcBef>
                <a:spcPts val="479"/>
              </a:spcBef>
            </a:pPr>
            <a:r>
              <a:rPr b="1" i="1" lang="en-US" sz="3200" spc="-1" strike="noStrike">
                <a:solidFill>
                  <a:srgbClr val="fcffd8"/>
                </a:solidFill>
                <a:latin typeface="Arial"/>
                <a:ea typeface="Arial"/>
              </a:rPr>
              <a:t>consistency</a:t>
            </a:r>
            <a:r>
              <a:rPr b="1" lang="en-US" sz="3200" spc="-1" strike="noStrike">
                <a:solidFill>
                  <a:srgbClr val="fcffd8"/>
                </a:solidFill>
                <a:latin typeface="Arial"/>
                <a:ea typeface="Arial"/>
              </a:rPr>
              <a:t>, </a:t>
            </a:r>
            <a:r>
              <a:rPr b="1" i="1" lang="en-US" sz="3200" spc="-1" strike="noStrike">
                <a:solidFill>
                  <a:srgbClr val="fcffd8"/>
                </a:solidFill>
                <a:latin typeface="Arial"/>
                <a:ea typeface="Arial"/>
              </a:rPr>
              <a:t>materiality</a:t>
            </a:r>
            <a:r>
              <a:rPr b="1" lang="en-US" sz="3200" spc="-1" strike="noStrike">
                <a:solidFill>
                  <a:srgbClr val="fcffd8"/>
                </a:solidFill>
                <a:latin typeface="Arial"/>
                <a:ea typeface="Arial"/>
              </a:rPr>
              <a:t>,</a:t>
            </a:r>
            <a:endParaRPr b="0" lang="en-US" sz="3200" spc="-1" strike="noStrike">
              <a:solidFill>
                <a:srgbClr val="ffffff"/>
              </a:solidFill>
              <a:latin typeface="Arial"/>
            </a:endParaRPr>
          </a:p>
          <a:p>
            <a:pPr marL="343080" indent="-343080">
              <a:lnSpc>
                <a:spcPct val="100000"/>
              </a:lnSpc>
              <a:spcBef>
                <a:spcPts val="479"/>
              </a:spcBef>
            </a:pPr>
            <a:r>
              <a:rPr b="1" i="1" lang="en-US" sz="3200" spc="-1" strike="noStrike">
                <a:solidFill>
                  <a:srgbClr val="fcffd8"/>
                </a:solidFill>
                <a:latin typeface="Arial"/>
                <a:ea typeface="Arial"/>
              </a:rPr>
              <a:t>conservatism</a:t>
            </a:r>
            <a:r>
              <a:rPr b="1" lang="en-US" sz="3200" spc="-1" strike="noStrike">
                <a:solidFill>
                  <a:srgbClr val="fcffd8"/>
                </a:solidFill>
                <a:latin typeface="Arial"/>
                <a:ea typeface="Arial"/>
              </a:rPr>
              <a:t>, </a:t>
            </a:r>
            <a:r>
              <a:rPr b="1" i="1" lang="en-US" sz="3200" spc="-1" strike="noStrike">
                <a:solidFill>
                  <a:srgbClr val="fcffd8"/>
                </a:solidFill>
                <a:latin typeface="Arial"/>
                <a:ea typeface="Arial"/>
              </a:rPr>
              <a:t>full disclosure,</a:t>
            </a:r>
            <a:r>
              <a:rPr b="1" lang="en-US" sz="3200" spc="-1" strike="noStrike">
                <a:solidFill>
                  <a:srgbClr val="fcffd8"/>
                </a:solidFill>
                <a:latin typeface="Arial"/>
                <a:ea typeface="Arial"/>
              </a:rPr>
              <a:t> and</a:t>
            </a:r>
            <a:endParaRPr b="0" lang="en-US" sz="3200" spc="-1" strike="noStrike">
              <a:solidFill>
                <a:srgbClr val="ffffff"/>
              </a:solidFill>
              <a:latin typeface="Arial"/>
            </a:endParaRPr>
          </a:p>
          <a:p>
            <a:pPr marL="343080" indent="-343080">
              <a:lnSpc>
                <a:spcPct val="100000"/>
              </a:lnSpc>
              <a:spcBef>
                <a:spcPts val="479"/>
              </a:spcBef>
            </a:pPr>
            <a:r>
              <a:rPr b="1" i="1" lang="en-US" sz="3200" spc="-1" strike="noStrike">
                <a:solidFill>
                  <a:srgbClr val="fcffd8"/>
                </a:solidFill>
                <a:latin typeface="Arial"/>
                <a:ea typeface="Arial"/>
              </a:rPr>
              <a:t>cost-benefit</a:t>
            </a:r>
            <a:r>
              <a:rPr b="1" lang="en-US" sz="3200" spc="-1" strike="noStrike">
                <a:solidFill>
                  <a:srgbClr val="fcffd8"/>
                </a:solidFill>
                <a:latin typeface="Arial"/>
                <a:ea typeface="Arial"/>
              </a:rPr>
              <a:t>.</a:t>
            </a:r>
            <a:endParaRPr b="0" lang="en-US" sz="3200" spc="-1" strike="noStrike">
              <a:solidFill>
                <a:srgbClr val="ffffff"/>
              </a:solidFill>
              <a:latin typeface="Arial"/>
            </a:endParaRPr>
          </a:p>
        </p:txBody>
      </p:sp>
      <p:pic>
        <p:nvPicPr>
          <p:cNvPr id="208"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09" name=""/>
          <p:cNvSpPr txBox="1"/>
          <p:nvPr/>
        </p:nvSpPr>
        <p:spPr>
          <a:xfrm>
            <a:off x="762120" y="304920"/>
            <a:ext cx="80773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Comparability</a:t>
            </a:r>
            <a:endParaRPr b="0" lang="en-US" sz="4400" spc="-1" strike="noStrike">
              <a:solidFill>
                <a:srgbClr val="ffffff"/>
              </a:solidFill>
              <a:latin typeface="Arial"/>
            </a:endParaRPr>
          </a:p>
        </p:txBody>
      </p:sp>
      <p:sp>
        <p:nvSpPr>
          <p:cNvPr id="210" name=""/>
          <p:cNvSpPr txBox="1"/>
          <p:nvPr/>
        </p:nvSpPr>
        <p:spPr>
          <a:xfrm>
            <a:off x="838080" y="1752480"/>
            <a:ext cx="8001000" cy="45720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decision maker can recognize similarities, differences, and trends over different time periods or between different companie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ccounting information is more useful if it can be compared with similar facts about the same company over several time periods or about another company for the same time perio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1" name=""/>
          <p:cNvSpPr txBox="1"/>
          <p:nvPr/>
        </p:nvSpPr>
        <p:spPr>
          <a:xfrm>
            <a:off x="790560" y="380880"/>
            <a:ext cx="80485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Consistency</a:t>
            </a:r>
            <a:endParaRPr b="0" lang="en-US" sz="4400" spc="-1" strike="noStrike">
              <a:solidFill>
                <a:srgbClr val="ffffff"/>
              </a:solidFill>
              <a:latin typeface="Arial"/>
            </a:endParaRPr>
          </a:p>
        </p:txBody>
      </p:sp>
      <p:sp>
        <p:nvSpPr>
          <p:cNvPr id="212" name=""/>
          <p:cNvSpPr txBox="1"/>
          <p:nvPr/>
        </p:nvSpPr>
        <p:spPr>
          <a:xfrm>
            <a:off x="990720" y="172260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n accounting procedure, once adopted by a company, remains in use from one period to the next unless users are informed of the change. </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f a change is made, GAAP requires that the change and its dollar effect be described in the notes to the financial state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3" name=""/>
          <p:cNvSpPr txBox="1"/>
          <p:nvPr/>
        </p:nvSpPr>
        <p:spPr>
          <a:xfrm>
            <a:off x="914400" y="380880"/>
            <a:ext cx="76327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Materiality</a:t>
            </a:r>
            <a:endParaRPr b="0" lang="en-US" sz="4400" spc="-1" strike="noStrike">
              <a:solidFill>
                <a:srgbClr val="ffffff"/>
              </a:solidFill>
              <a:latin typeface="Arial"/>
            </a:endParaRPr>
          </a:p>
        </p:txBody>
      </p:sp>
      <p:sp>
        <p:nvSpPr>
          <p:cNvPr id="214" name=""/>
          <p:cNvSpPr txBox="1"/>
          <p:nvPr/>
        </p:nvSpPr>
        <p:spPr>
          <a:xfrm>
            <a:off x="1001880" y="1781280"/>
            <a:ext cx="7797960" cy="44956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ateriality refers to the relative importance of an item or event.</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n item is material if users would have done something differently if they had not known about the item.</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Some accountants follow the 5% or more of net income rule to judge materi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 name=""/>
          <p:cNvSpPr txBox="1"/>
          <p:nvPr/>
        </p:nvSpPr>
        <p:spPr>
          <a:xfrm>
            <a:off x="819000" y="1033560"/>
            <a:ext cx="8237520" cy="5116680"/>
          </a:xfrm>
          <a:prstGeom prst="rect">
            <a:avLst/>
          </a:prstGeom>
          <a:noFill/>
          <a:ln w="0">
            <a:noFill/>
          </a:ln>
        </p:spPr>
        <p:txBody>
          <a:bodyPr lIns="0" rIns="0" tIns="0" bIns="0" anchor="t">
            <a:noAutofit/>
          </a:bodyPr>
          <a:p>
            <a:pPr marL="457200" indent="-457200">
              <a:lnSpc>
                <a:spcPct val="11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tate the objectives of financial reporting.</a:t>
            </a:r>
            <a:endParaRPr b="0" lang="en-US" sz="3200" spc="-1" strike="noStrike">
              <a:solidFill>
                <a:srgbClr val="ffffff"/>
              </a:solidFill>
              <a:latin typeface="Arial"/>
            </a:endParaRPr>
          </a:p>
          <a:p>
            <a:pPr marL="457200" indent="-457200">
              <a:lnSpc>
                <a:spcPct val="110000"/>
              </a:lnSpc>
              <a:spcBef>
                <a:spcPts val="47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tate the qualitative characteristics of accounting information and describe their interrelationships.</a:t>
            </a:r>
            <a:endParaRPr b="0" lang="en-US" sz="3200" spc="-1" strike="noStrike">
              <a:solidFill>
                <a:srgbClr val="ffffff"/>
              </a:solidFill>
              <a:latin typeface="Arial"/>
            </a:endParaRPr>
          </a:p>
          <a:p>
            <a:pPr marL="457200" indent="-457200">
              <a:lnSpc>
                <a:spcPct val="110000"/>
              </a:lnSpc>
              <a:spcBef>
                <a:spcPts val="479"/>
              </a:spcBef>
            </a:pPr>
            <a:r>
              <a:rPr b="1" lang="en-US" sz="3200" spc="-1" strike="noStrike">
                <a:solidFill>
                  <a:srgbClr val="fcffd8"/>
                </a:solidFill>
                <a:latin typeface="Arial"/>
                <a:ea typeface="Arial"/>
              </a:rPr>
              <a:t>3.</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Define and describe the use of the conventions of </a:t>
            </a:r>
            <a:r>
              <a:rPr b="1" i="1" lang="en-US" sz="3200" spc="-1" strike="noStrike">
                <a:solidFill>
                  <a:srgbClr val="fcffd8"/>
                </a:solidFill>
                <a:latin typeface="Arial"/>
                <a:ea typeface="Arial"/>
              </a:rPr>
              <a:t>comparability</a:t>
            </a:r>
            <a:r>
              <a:rPr b="1" lang="en-US" sz="3200" spc="-1" strike="noStrike">
                <a:solidFill>
                  <a:srgbClr val="fcffd8"/>
                </a:solidFill>
                <a:latin typeface="Arial"/>
                <a:ea typeface="Arial"/>
              </a:rPr>
              <a:t> and </a:t>
            </a:r>
            <a:r>
              <a:rPr b="1" i="1" lang="en-US" sz="3200" spc="-1" strike="noStrike">
                <a:solidFill>
                  <a:srgbClr val="fcffd8"/>
                </a:solidFill>
                <a:latin typeface="Arial"/>
                <a:ea typeface="Arial"/>
              </a:rPr>
              <a:t>consistency</a:t>
            </a:r>
            <a:r>
              <a:rPr b="1" lang="en-US" sz="3200" spc="-1" strike="noStrike">
                <a:solidFill>
                  <a:srgbClr val="fcffd8"/>
                </a:solidFill>
                <a:latin typeface="Arial"/>
                <a:ea typeface="Arial"/>
              </a:rPr>
              <a:t>, </a:t>
            </a:r>
            <a:r>
              <a:rPr b="1" i="1" lang="en-US" sz="3200" spc="-1" strike="noStrike">
                <a:solidFill>
                  <a:srgbClr val="fcffd8"/>
                </a:solidFill>
                <a:latin typeface="Arial"/>
                <a:ea typeface="Arial"/>
              </a:rPr>
              <a:t>materiality, conservatism, full disclosure,</a:t>
            </a:r>
            <a:r>
              <a:rPr b="1" lang="en-US" sz="3200" spc="-1" strike="noStrike">
                <a:solidFill>
                  <a:srgbClr val="fcffd8"/>
                </a:solidFill>
                <a:latin typeface="Arial"/>
                <a:ea typeface="Arial"/>
              </a:rPr>
              <a:t> and </a:t>
            </a:r>
            <a:r>
              <a:rPr b="1" i="1" lang="en-US" sz="3200" spc="-1" strike="noStrike">
                <a:solidFill>
                  <a:srgbClr val="fcffd8"/>
                </a:solidFill>
                <a:latin typeface="Arial"/>
                <a:ea typeface="Arial"/>
              </a:rPr>
              <a:t>cost-benefit.</a:t>
            </a:r>
            <a:endParaRPr b="0" lang="en-US" sz="3200" spc="-1" strike="noStrike">
              <a:solidFill>
                <a:srgbClr val="ffffff"/>
              </a:solidFill>
              <a:latin typeface="Arial"/>
            </a:endParaRPr>
          </a:p>
        </p:txBody>
      </p:sp>
      <p:sp>
        <p:nvSpPr>
          <p:cNvPr id="46" name=""/>
          <p:cNvSpPr txBox="1"/>
          <p:nvPr/>
        </p:nvSpPr>
        <p:spPr>
          <a:xfrm>
            <a:off x="1030320" y="210960"/>
            <a:ext cx="7613640" cy="9716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47"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5" name=""/>
          <p:cNvSpPr txBox="1"/>
          <p:nvPr/>
        </p:nvSpPr>
        <p:spPr>
          <a:xfrm>
            <a:off x="790560" y="380880"/>
            <a:ext cx="78199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Conservatism</a:t>
            </a:r>
            <a:endParaRPr b="0" lang="en-US" sz="4400" spc="-1" strike="noStrike">
              <a:solidFill>
                <a:srgbClr val="ffffff"/>
              </a:solidFill>
              <a:latin typeface="Arial"/>
            </a:endParaRPr>
          </a:p>
        </p:txBody>
      </p:sp>
      <p:sp>
        <p:nvSpPr>
          <p:cNvPr id="216" name=""/>
          <p:cNvSpPr txBox="1"/>
          <p:nvPr/>
        </p:nvSpPr>
        <p:spPr>
          <a:xfrm>
            <a:off x="890640" y="1816200"/>
            <a:ext cx="7848720" cy="43434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When accountants face major uncertainties about which accounting procedure to use, they generally choose the one that is least likely to overstate assets and incom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buse of the conservatism principle may lead to financial statements that are mislea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7" name=""/>
          <p:cNvSpPr txBox="1"/>
          <p:nvPr/>
        </p:nvSpPr>
        <p:spPr>
          <a:xfrm>
            <a:off x="1143000" y="228600"/>
            <a:ext cx="762012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Full Disclosure</a:t>
            </a:r>
            <a:endParaRPr b="0" lang="en-US" sz="4400" spc="-1" strike="noStrike">
              <a:solidFill>
                <a:srgbClr val="ffffff"/>
              </a:solidFill>
              <a:latin typeface="Arial"/>
            </a:endParaRPr>
          </a:p>
        </p:txBody>
      </p:sp>
      <p:sp>
        <p:nvSpPr>
          <p:cNvPr id="218" name=""/>
          <p:cNvSpPr txBox="1"/>
          <p:nvPr/>
        </p:nvSpPr>
        <p:spPr>
          <a:xfrm>
            <a:off x="644400" y="1623960"/>
            <a:ext cx="8300880" cy="474804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Full disclosure requires that financial statements and their notes present all information that is relevant to the users’ understanding of the statement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Beyond required disclosures, application of full disclosure is based on professional judgment. </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demands for full disclosure have increased in recent yea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9" name=""/>
          <p:cNvSpPr txBox="1"/>
          <p:nvPr/>
        </p:nvSpPr>
        <p:spPr>
          <a:xfrm>
            <a:off x="690480" y="374760"/>
            <a:ext cx="813132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Cost-Benefit</a:t>
            </a:r>
            <a:endParaRPr b="0" lang="en-US" sz="4400" spc="-1" strike="noStrike">
              <a:solidFill>
                <a:srgbClr val="ffffff"/>
              </a:solidFill>
              <a:latin typeface="Arial"/>
            </a:endParaRPr>
          </a:p>
        </p:txBody>
      </p:sp>
      <p:sp>
        <p:nvSpPr>
          <p:cNvPr id="220" name=""/>
          <p:cNvSpPr txBox="1"/>
          <p:nvPr/>
        </p:nvSpPr>
        <p:spPr>
          <a:xfrm>
            <a:off x="914400" y="1974960"/>
            <a:ext cx="7924680" cy="34480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Benefits to be gained from providing accounting  information should be greater than the costs of providing it.</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Beyond providing minimum levels of relevance and reliability, cost-benefit is based on professional judg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1" name=""/>
          <p:cNvSpPr txBox="1"/>
          <p:nvPr/>
        </p:nvSpPr>
        <p:spPr>
          <a:xfrm>
            <a:off x="685800" y="2438280"/>
            <a:ext cx="8229600" cy="396252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are the accounting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onventions?</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five conventions that help user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terpret financial statements ar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omparability and consistenc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materiality, conservatism, full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disclosure, and cost-benefit.</a:t>
            </a:r>
            <a:endParaRPr b="0" lang="en-US" sz="3200" spc="-1" strike="noStrike">
              <a:solidFill>
                <a:srgbClr val="ffffff"/>
              </a:solidFill>
              <a:latin typeface="Arial"/>
            </a:endParaRPr>
          </a:p>
        </p:txBody>
      </p:sp>
      <p:sp>
        <p:nvSpPr>
          <p:cNvPr id="222" name=""/>
          <p:cNvSpPr txBox="1"/>
          <p:nvPr/>
        </p:nvSpPr>
        <p:spPr>
          <a:xfrm>
            <a:off x="1714680" y="1030320"/>
            <a:ext cx="56386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223" name=""/>
          <p:cNvGrpSpPr/>
          <p:nvPr/>
        </p:nvGrpSpPr>
        <p:grpSpPr>
          <a:xfrm>
            <a:off x="6576840" y="411120"/>
            <a:ext cx="2091240" cy="2157840"/>
            <a:chOff x="6576840" y="411120"/>
            <a:chExt cx="2091240" cy="2157840"/>
          </a:xfrm>
        </p:grpSpPr>
        <p:sp>
          <p:nvSpPr>
            <p:cNvPr id="224" name=""/>
            <p:cNvSpPr/>
            <p:nvPr/>
          </p:nvSpPr>
          <p:spPr>
            <a:xfrm>
              <a:off x="6581880" y="1471680"/>
              <a:ext cx="508320" cy="752760"/>
            </a:xfrm>
            <a:custGeom>
              <a:avLst/>
              <a:gdLst/>
              <a:ahLst/>
              <a:rect l="0" t="0" r="r" b="b"/>
              <a:pathLst>
                <a:path w="1412" h="2091">
                  <a:moveTo>
                    <a:pt x="564" y="0"/>
                  </a:moveTo>
                  <a:lnTo>
                    <a:pt x="489" y="92"/>
                  </a:lnTo>
                  <a:lnTo>
                    <a:pt x="489" y="361"/>
                  </a:lnTo>
                  <a:lnTo>
                    <a:pt x="564" y="564"/>
                  </a:lnTo>
                  <a:lnTo>
                    <a:pt x="648" y="657"/>
                  </a:lnTo>
                  <a:lnTo>
                    <a:pt x="520" y="798"/>
                  </a:lnTo>
                  <a:lnTo>
                    <a:pt x="357" y="1099"/>
                  </a:lnTo>
                  <a:lnTo>
                    <a:pt x="30" y="1579"/>
                  </a:lnTo>
                  <a:lnTo>
                    <a:pt x="0" y="1694"/>
                  </a:lnTo>
                  <a:lnTo>
                    <a:pt x="30" y="1791"/>
                  </a:lnTo>
                  <a:lnTo>
                    <a:pt x="132" y="1791"/>
                  </a:lnTo>
                  <a:lnTo>
                    <a:pt x="216" y="1676"/>
                  </a:lnTo>
                  <a:lnTo>
                    <a:pt x="357" y="1407"/>
                  </a:lnTo>
                  <a:lnTo>
                    <a:pt x="436" y="1293"/>
                  </a:lnTo>
                  <a:lnTo>
                    <a:pt x="489" y="1469"/>
                  </a:lnTo>
                  <a:lnTo>
                    <a:pt x="454" y="1663"/>
                  </a:lnTo>
                  <a:lnTo>
                    <a:pt x="317" y="1936"/>
                  </a:lnTo>
                  <a:lnTo>
                    <a:pt x="357" y="2003"/>
                  </a:lnTo>
                  <a:lnTo>
                    <a:pt x="436" y="1980"/>
                  </a:lnTo>
                  <a:lnTo>
                    <a:pt x="612" y="1839"/>
                  </a:lnTo>
                  <a:lnTo>
                    <a:pt x="750" y="1597"/>
                  </a:lnTo>
                  <a:lnTo>
                    <a:pt x="750" y="2025"/>
                  </a:lnTo>
                  <a:lnTo>
                    <a:pt x="918" y="2091"/>
                  </a:lnTo>
                  <a:lnTo>
                    <a:pt x="1019" y="1831"/>
                  </a:lnTo>
                  <a:lnTo>
                    <a:pt x="1103" y="2073"/>
                  </a:lnTo>
                  <a:lnTo>
                    <a:pt x="1173" y="2003"/>
                  </a:lnTo>
                  <a:lnTo>
                    <a:pt x="1209" y="1522"/>
                  </a:lnTo>
                  <a:lnTo>
                    <a:pt x="1412" y="1063"/>
                  </a:lnTo>
                  <a:lnTo>
                    <a:pt x="1363" y="798"/>
                  </a:lnTo>
                  <a:lnTo>
                    <a:pt x="1222" y="696"/>
                  </a:lnTo>
                  <a:lnTo>
                    <a:pt x="1072" y="709"/>
                  </a:lnTo>
                  <a:lnTo>
                    <a:pt x="1019" y="493"/>
                  </a:lnTo>
                  <a:lnTo>
                    <a:pt x="860" y="445"/>
                  </a:lnTo>
                  <a:lnTo>
                    <a:pt x="728" y="379"/>
                  </a:lnTo>
                  <a:lnTo>
                    <a:pt x="648" y="48"/>
                  </a:lnTo>
                  <a:lnTo>
                    <a:pt x="56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7008840" y="1776240"/>
              <a:ext cx="149760" cy="363960"/>
            </a:xfrm>
            <a:custGeom>
              <a:avLst/>
              <a:gdLst/>
              <a:ahLst/>
              <a:rect l="0" t="0" r="r" b="b"/>
              <a:pathLst>
                <a:path w="416" h="1011">
                  <a:moveTo>
                    <a:pt x="208" y="0"/>
                  </a:moveTo>
                  <a:lnTo>
                    <a:pt x="416" y="261"/>
                  </a:lnTo>
                  <a:lnTo>
                    <a:pt x="315" y="831"/>
                  </a:lnTo>
                  <a:lnTo>
                    <a:pt x="0" y="1011"/>
                  </a:lnTo>
                  <a:lnTo>
                    <a:pt x="0" y="724"/>
                  </a:lnTo>
                  <a:lnTo>
                    <a:pt x="128" y="428"/>
                  </a:lnTo>
                  <a:lnTo>
                    <a:pt x="208" y="211"/>
                  </a:lnTo>
                  <a:lnTo>
                    <a:pt x="20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7981920" y="1566720"/>
              <a:ext cx="375120" cy="329040"/>
            </a:xfrm>
            <a:custGeom>
              <a:avLst/>
              <a:gdLst/>
              <a:ahLst/>
              <a:rect l="0" t="0" r="r" b="b"/>
              <a:pathLst>
                <a:path w="1042" h="914">
                  <a:moveTo>
                    <a:pt x="428" y="0"/>
                  </a:moveTo>
                  <a:lnTo>
                    <a:pt x="428" y="145"/>
                  </a:lnTo>
                  <a:lnTo>
                    <a:pt x="468" y="278"/>
                  </a:lnTo>
                  <a:lnTo>
                    <a:pt x="666" y="494"/>
                  </a:lnTo>
                  <a:lnTo>
                    <a:pt x="1042" y="613"/>
                  </a:lnTo>
                  <a:lnTo>
                    <a:pt x="994" y="897"/>
                  </a:lnTo>
                  <a:lnTo>
                    <a:pt x="666" y="914"/>
                  </a:lnTo>
                  <a:lnTo>
                    <a:pt x="198" y="716"/>
                  </a:lnTo>
                  <a:lnTo>
                    <a:pt x="0" y="362"/>
                  </a:lnTo>
                  <a:lnTo>
                    <a:pt x="233" y="17"/>
                  </a:lnTo>
                  <a:lnTo>
                    <a:pt x="42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8131320" y="1193760"/>
              <a:ext cx="524160" cy="725760"/>
            </a:xfrm>
            <a:custGeom>
              <a:avLst/>
              <a:gdLst/>
              <a:ahLst/>
              <a:rect l="0" t="0" r="r" b="b"/>
              <a:pathLst>
                <a:path w="1456" h="2016">
                  <a:moveTo>
                    <a:pt x="132" y="859"/>
                  </a:moveTo>
                  <a:lnTo>
                    <a:pt x="0" y="1001"/>
                  </a:lnTo>
                  <a:lnTo>
                    <a:pt x="30" y="1323"/>
                  </a:lnTo>
                  <a:lnTo>
                    <a:pt x="229" y="1478"/>
                  </a:lnTo>
                  <a:lnTo>
                    <a:pt x="246" y="1976"/>
                  </a:lnTo>
                  <a:lnTo>
                    <a:pt x="454" y="1976"/>
                  </a:lnTo>
                  <a:lnTo>
                    <a:pt x="436" y="1557"/>
                  </a:lnTo>
                  <a:lnTo>
                    <a:pt x="590" y="1998"/>
                  </a:lnTo>
                  <a:lnTo>
                    <a:pt x="692" y="2016"/>
                  </a:lnTo>
                  <a:lnTo>
                    <a:pt x="763" y="1870"/>
                  </a:lnTo>
                  <a:lnTo>
                    <a:pt x="781" y="1592"/>
                  </a:lnTo>
                  <a:lnTo>
                    <a:pt x="1002" y="1848"/>
                  </a:lnTo>
                  <a:lnTo>
                    <a:pt x="1090" y="1831"/>
                  </a:lnTo>
                  <a:lnTo>
                    <a:pt x="1072" y="1650"/>
                  </a:lnTo>
                  <a:lnTo>
                    <a:pt x="988" y="1394"/>
                  </a:lnTo>
                  <a:lnTo>
                    <a:pt x="900" y="1226"/>
                  </a:lnTo>
                  <a:lnTo>
                    <a:pt x="931" y="1112"/>
                  </a:lnTo>
                  <a:lnTo>
                    <a:pt x="988" y="1134"/>
                  </a:lnTo>
                  <a:lnTo>
                    <a:pt x="1187" y="1394"/>
                  </a:lnTo>
                  <a:lnTo>
                    <a:pt x="1407" y="1460"/>
                  </a:lnTo>
                  <a:lnTo>
                    <a:pt x="1456" y="1381"/>
                  </a:lnTo>
                  <a:lnTo>
                    <a:pt x="1425" y="1244"/>
                  </a:lnTo>
                  <a:lnTo>
                    <a:pt x="1019" y="837"/>
                  </a:lnTo>
                  <a:lnTo>
                    <a:pt x="692" y="709"/>
                  </a:lnTo>
                  <a:lnTo>
                    <a:pt x="652" y="489"/>
                  </a:lnTo>
                  <a:lnTo>
                    <a:pt x="763" y="282"/>
                  </a:lnTo>
                  <a:lnTo>
                    <a:pt x="763" y="66"/>
                  </a:lnTo>
                  <a:lnTo>
                    <a:pt x="670" y="0"/>
                  </a:lnTo>
                  <a:lnTo>
                    <a:pt x="436" y="546"/>
                  </a:lnTo>
                  <a:lnTo>
                    <a:pt x="229" y="630"/>
                  </a:lnTo>
                  <a:lnTo>
                    <a:pt x="180" y="776"/>
                  </a:lnTo>
                  <a:lnTo>
                    <a:pt x="132" y="85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7273800" y="565200"/>
              <a:ext cx="572040" cy="927360"/>
            </a:xfrm>
            <a:custGeom>
              <a:avLst/>
              <a:gdLst/>
              <a:ahLst/>
              <a:rect l="0" t="0" r="r" b="b"/>
              <a:pathLst>
                <a:path w="1589" h="2576">
                  <a:moveTo>
                    <a:pt x="402" y="357"/>
                  </a:moveTo>
                  <a:lnTo>
                    <a:pt x="277" y="851"/>
                  </a:lnTo>
                  <a:lnTo>
                    <a:pt x="13" y="943"/>
                  </a:lnTo>
                  <a:lnTo>
                    <a:pt x="88" y="1106"/>
                  </a:lnTo>
                  <a:lnTo>
                    <a:pt x="0" y="1199"/>
                  </a:lnTo>
                  <a:lnTo>
                    <a:pt x="0" y="1385"/>
                  </a:lnTo>
                  <a:lnTo>
                    <a:pt x="127" y="1548"/>
                  </a:lnTo>
                  <a:lnTo>
                    <a:pt x="246" y="1548"/>
                  </a:lnTo>
                  <a:lnTo>
                    <a:pt x="330" y="2117"/>
                  </a:lnTo>
                  <a:lnTo>
                    <a:pt x="428" y="2364"/>
                  </a:lnTo>
                  <a:lnTo>
                    <a:pt x="755" y="2576"/>
                  </a:lnTo>
                  <a:lnTo>
                    <a:pt x="1081" y="2541"/>
                  </a:lnTo>
                  <a:lnTo>
                    <a:pt x="1232" y="2117"/>
                  </a:lnTo>
                  <a:lnTo>
                    <a:pt x="1272" y="1469"/>
                  </a:lnTo>
                  <a:lnTo>
                    <a:pt x="1589" y="1142"/>
                  </a:lnTo>
                  <a:lnTo>
                    <a:pt x="1576" y="1009"/>
                  </a:lnTo>
                  <a:lnTo>
                    <a:pt x="1540" y="943"/>
                  </a:lnTo>
                  <a:lnTo>
                    <a:pt x="1369" y="934"/>
                  </a:lnTo>
                  <a:lnTo>
                    <a:pt x="1421" y="767"/>
                  </a:lnTo>
                  <a:lnTo>
                    <a:pt x="1258" y="652"/>
                  </a:lnTo>
                  <a:lnTo>
                    <a:pt x="1182" y="282"/>
                  </a:lnTo>
                  <a:lnTo>
                    <a:pt x="688" y="0"/>
                  </a:lnTo>
                  <a:lnTo>
                    <a:pt x="428" y="260"/>
                  </a:lnTo>
                  <a:lnTo>
                    <a:pt x="402" y="357"/>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7313760" y="1338120"/>
              <a:ext cx="524160" cy="1107000"/>
            </a:xfrm>
            <a:custGeom>
              <a:avLst/>
              <a:gdLst/>
              <a:ahLst/>
              <a:rect l="0" t="0" r="r" b="b"/>
              <a:pathLst>
                <a:path w="1456" h="3075">
                  <a:moveTo>
                    <a:pt x="295" y="163"/>
                  </a:moveTo>
                  <a:lnTo>
                    <a:pt x="507" y="308"/>
                  </a:lnTo>
                  <a:lnTo>
                    <a:pt x="608" y="471"/>
                  </a:lnTo>
                  <a:lnTo>
                    <a:pt x="1187" y="0"/>
                  </a:lnTo>
                  <a:lnTo>
                    <a:pt x="1372" y="97"/>
                  </a:lnTo>
                  <a:lnTo>
                    <a:pt x="1456" y="582"/>
                  </a:lnTo>
                  <a:lnTo>
                    <a:pt x="1037" y="1998"/>
                  </a:lnTo>
                  <a:lnTo>
                    <a:pt x="1169" y="2775"/>
                  </a:lnTo>
                  <a:lnTo>
                    <a:pt x="621" y="3075"/>
                  </a:lnTo>
                  <a:lnTo>
                    <a:pt x="194" y="2908"/>
                  </a:lnTo>
                  <a:lnTo>
                    <a:pt x="194" y="2077"/>
                  </a:lnTo>
                  <a:lnTo>
                    <a:pt x="0" y="1275"/>
                  </a:lnTo>
                  <a:lnTo>
                    <a:pt x="194" y="308"/>
                  </a:lnTo>
                  <a:lnTo>
                    <a:pt x="295" y="163"/>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7338960" y="439560"/>
              <a:ext cx="486000" cy="294120"/>
            </a:xfrm>
            <a:custGeom>
              <a:avLst/>
              <a:gdLst/>
              <a:ahLst/>
              <a:rect l="0" t="0" r="r" b="b"/>
              <a:pathLst>
                <a:path w="1350" h="817">
                  <a:moveTo>
                    <a:pt x="163" y="778"/>
                  </a:moveTo>
                  <a:lnTo>
                    <a:pt x="366" y="561"/>
                  </a:lnTo>
                  <a:lnTo>
                    <a:pt x="489" y="525"/>
                  </a:lnTo>
                  <a:lnTo>
                    <a:pt x="489" y="547"/>
                  </a:lnTo>
                  <a:lnTo>
                    <a:pt x="551" y="525"/>
                  </a:lnTo>
                  <a:lnTo>
                    <a:pt x="635" y="591"/>
                  </a:lnTo>
                  <a:lnTo>
                    <a:pt x="794" y="628"/>
                  </a:lnTo>
                  <a:lnTo>
                    <a:pt x="927" y="817"/>
                  </a:lnTo>
                  <a:lnTo>
                    <a:pt x="1134" y="734"/>
                  </a:lnTo>
                  <a:lnTo>
                    <a:pt x="1134" y="641"/>
                  </a:lnTo>
                  <a:lnTo>
                    <a:pt x="1350" y="547"/>
                  </a:lnTo>
                  <a:lnTo>
                    <a:pt x="1288" y="393"/>
                  </a:lnTo>
                  <a:lnTo>
                    <a:pt x="1085" y="380"/>
                  </a:lnTo>
                  <a:lnTo>
                    <a:pt x="1116" y="212"/>
                  </a:lnTo>
                  <a:lnTo>
                    <a:pt x="949" y="234"/>
                  </a:lnTo>
                  <a:lnTo>
                    <a:pt x="913" y="114"/>
                  </a:lnTo>
                  <a:lnTo>
                    <a:pt x="794" y="114"/>
                  </a:lnTo>
                  <a:lnTo>
                    <a:pt x="715" y="180"/>
                  </a:lnTo>
                  <a:lnTo>
                    <a:pt x="635" y="180"/>
                  </a:lnTo>
                  <a:lnTo>
                    <a:pt x="657" y="0"/>
                  </a:lnTo>
                  <a:lnTo>
                    <a:pt x="489" y="79"/>
                  </a:lnTo>
                  <a:lnTo>
                    <a:pt x="268" y="380"/>
                  </a:lnTo>
                  <a:lnTo>
                    <a:pt x="251" y="180"/>
                  </a:lnTo>
                  <a:lnTo>
                    <a:pt x="136" y="278"/>
                  </a:lnTo>
                  <a:lnTo>
                    <a:pt x="101" y="525"/>
                  </a:lnTo>
                  <a:lnTo>
                    <a:pt x="0" y="486"/>
                  </a:lnTo>
                  <a:lnTo>
                    <a:pt x="13" y="641"/>
                  </a:lnTo>
                  <a:lnTo>
                    <a:pt x="163" y="77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7469280" y="1542960"/>
              <a:ext cx="157680" cy="838440"/>
            </a:xfrm>
            <a:custGeom>
              <a:avLst/>
              <a:gdLst/>
              <a:ahLst/>
              <a:rect l="0" t="0" r="r" b="b"/>
              <a:pathLst>
                <a:path w="438" h="2329">
                  <a:moveTo>
                    <a:pt x="225" y="8"/>
                  </a:moveTo>
                  <a:lnTo>
                    <a:pt x="79" y="114"/>
                  </a:lnTo>
                  <a:lnTo>
                    <a:pt x="79" y="308"/>
                  </a:lnTo>
                  <a:lnTo>
                    <a:pt x="181" y="374"/>
                  </a:lnTo>
                  <a:lnTo>
                    <a:pt x="39" y="683"/>
                  </a:lnTo>
                  <a:lnTo>
                    <a:pt x="0" y="1093"/>
                  </a:lnTo>
                  <a:lnTo>
                    <a:pt x="105" y="1632"/>
                  </a:lnTo>
                  <a:lnTo>
                    <a:pt x="105" y="1853"/>
                  </a:lnTo>
                  <a:lnTo>
                    <a:pt x="52" y="2029"/>
                  </a:lnTo>
                  <a:lnTo>
                    <a:pt x="274" y="2329"/>
                  </a:lnTo>
                  <a:lnTo>
                    <a:pt x="425" y="1875"/>
                  </a:lnTo>
                  <a:lnTo>
                    <a:pt x="425" y="1566"/>
                  </a:lnTo>
                  <a:lnTo>
                    <a:pt x="314" y="1275"/>
                  </a:lnTo>
                  <a:lnTo>
                    <a:pt x="261" y="881"/>
                  </a:lnTo>
                  <a:lnTo>
                    <a:pt x="368" y="493"/>
                  </a:lnTo>
                  <a:lnTo>
                    <a:pt x="337" y="343"/>
                  </a:lnTo>
                  <a:lnTo>
                    <a:pt x="438" y="260"/>
                  </a:lnTo>
                  <a:lnTo>
                    <a:pt x="425" y="163"/>
                  </a:lnTo>
                  <a:lnTo>
                    <a:pt x="296" y="0"/>
                  </a:lnTo>
                  <a:lnTo>
                    <a:pt x="225"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7462800" y="1262160"/>
              <a:ext cx="127440" cy="76680"/>
            </a:xfrm>
            <a:custGeom>
              <a:avLst/>
              <a:gdLst/>
              <a:ahLst/>
              <a:rect l="0" t="0" r="r" b="b"/>
              <a:pathLst>
                <a:path w="354" h="213">
                  <a:moveTo>
                    <a:pt x="0" y="67"/>
                  </a:moveTo>
                  <a:lnTo>
                    <a:pt x="142" y="213"/>
                  </a:lnTo>
                  <a:lnTo>
                    <a:pt x="279" y="196"/>
                  </a:lnTo>
                  <a:lnTo>
                    <a:pt x="354" y="17"/>
                  </a:lnTo>
                  <a:lnTo>
                    <a:pt x="195" y="0"/>
                  </a:lnTo>
                  <a:lnTo>
                    <a:pt x="35" y="17"/>
                  </a:lnTo>
                  <a:lnTo>
                    <a:pt x="0" y="67"/>
                  </a:lnTo>
                  <a:close/>
                </a:path>
              </a:pathLst>
            </a:custGeom>
            <a:solidFill>
              <a:srgbClr val="ffff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233" name=""/>
            <p:cNvSpPr/>
            <p:nvPr/>
          </p:nvSpPr>
          <p:spPr>
            <a:xfrm>
              <a:off x="7326360" y="874800"/>
              <a:ext cx="155880" cy="165600"/>
            </a:xfrm>
            <a:custGeom>
              <a:avLst/>
              <a:gdLst/>
              <a:ahLst/>
              <a:rect l="0" t="0" r="r" b="b"/>
              <a:pathLst>
                <a:path w="433" h="460">
                  <a:moveTo>
                    <a:pt x="0" y="52"/>
                  </a:moveTo>
                  <a:lnTo>
                    <a:pt x="296" y="460"/>
                  </a:lnTo>
                  <a:lnTo>
                    <a:pt x="433" y="425"/>
                  </a:lnTo>
                  <a:lnTo>
                    <a:pt x="119"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7601040" y="841320"/>
              <a:ext cx="133560" cy="162360"/>
            </a:xfrm>
            <a:custGeom>
              <a:avLst/>
              <a:gdLst/>
              <a:ahLst/>
              <a:rect l="0" t="0" r="r" b="b"/>
              <a:pathLst>
                <a:path w="371" h="451">
                  <a:moveTo>
                    <a:pt x="0" y="66"/>
                  </a:moveTo>
                  <a:lnTo>
                    <a:pt x="261" y="451"/>
                  </a:lnTo>
                  <a:lnTo>
                    <a:pt x="371" y="345"/>
                  </a:lnTo>
                  <a:lnTo>
                    <a:pt x="101"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7269120" y="630360"/>
              <a:ext cx="545040" cy="410040"/>
            </a:xfrm>
            <a:custGeom>
              <a:avLst/>
              <a:gdLst/>
              <a:ahLst/>
              <a:rect l="0" t="0" r="r" b="b"/>
              <a:pathLst>
                <a:path w="1514" h="1139">
                  <a:moveTo>
                    <a:pt x="697" y="675"/>
                  </a:moveTo>
                  <a:lnTo>
                    <a:pt x="556" y="631"/>
                  </a:lnTo>
                  <a:lnTo>
                    <a:pt x="675" y="530"/>
                  </a:lnTo>
                  <a:lnTo>
                    <a:pt x="631" y="481"/>
                  </a:lnTo>
                  <a:lnTo>
                    <a:pt x="477" y="613"/>
                  </a:lnTo>
                  <a:lnTo>
                    <a:pt x="189" y="644"/>
                  </a:lnTo>
                  <a:lnTo>
                    <a:pt x="0" y="653"/>
                  </a:lnTo>
                  <a:lnTo>
                    <a:pt x="0" y="812"/>
                  </a:lnTo>
                  <a:lnTo>
                    <a:pt x="185" y="1135"/>
                  </a:lnTo>
                  <a:lnTo>
                    <a:pt x="229" y="1139"/>
                  </a:lnTo>
                  <a:lnTo>
                    <a:pt x="61" y="785"/>
                  </a:lnTo>
                  <a:lnTo>
                    <a:pt x="317" y="675"/>
                  </a:lnTo>
                  <a:lnTo>
                    <a:pt x="477" y="675"/>
                  </a:lnTo>
                  <a:lnTo>
                    <a:pt x="600" y="746"/>
                  </a:lnTo>
                  <a:lnTo>
                    <a:pt x="631" y="843"/>
                  </a:lnTo>
                  <a:lnTo>
                    <a:pt x="631" y="1060"/>
                  </a:lnTo>
                  <a:lnTo>
                    <a:pt x="631" y="1135"/>
                  </a:lnTo>
                  <a:lnTo>
                    <a:pt x="706" y="1029"/>
                  </a:lnTo>
                  <a:lnTo>
                    <a:pt x="706" y="799"/>
                  </a:lnTo>
                  <a:lnTo>
                    <a:pt x="812" y="799"/>
                  </a:lnTo>
                  <a:lnTo>
                    <a:pt x="860" y="1060"/>
                  </a:lnTo>
                  <a:lnTo>
                    <a:pt x="918" y="1082"/>
                  </a:lnTo>
                  <a:lnTo>
                    <a:pt x="1103" y="1082"/>
                  </a:lnTo>
                  <a:lnTo>
                    <a:pt x="1289" y="1033"/>
                  </a:lnTo>
                  <a:lnTo>
                    <a:pt x="1421" y="941"/>
                  </a:lnTo>
                  <a:lnTo>
                    <a:pt x="1439" y="706"/>
                  </a:lnTo>
                  <a:lnTo>
                    <a:pt x="1514" y="613"/>
                  </a:lnTo>
                  <a:lnTo>
                    <a:pt x="1470" y="552"/>
                  </a:lnTo>
                  <a:lnTo>
                    <a:pt x="1302" y="490"/>
                  </a:lnTo>
                  <a:lnTo>
                    <a:pt x="1276" y="255"/>
                  </a:lnTo>
                  <a:lnTo>
                    <a:pt x="1121" y="255"/>
                  </a:lnTo>
                  <a:lnTo>
                    <a:pt x="931" y="0"/>
                  </a:lnTo>
                  <a:lnTo>
                    <a:pt x="1099" y="282"/>
                  </a:lnTo>
                  <a:lnTo>
                    <a:pt x="1157" y="282"/>
                  </a:lnTo>
                  <a:lnTo>
                    <a:pt x="1192" y="481"/>
                  </a:lnTo>
                  <a:lnTo>
                    <a:pt x="979" y="552"/>
                  </a:lnTo>
                  <a:lnTo>
                    <a:pt x="821" y="494"/>
                  </a:lnTo>
                  <a:lnTo>
                    <a:pt x="799" y="552"/>
                  </a:lnTo>
                  <a:lnTo>
                    <a:pt x="882" y="613"/>
                  </a:lnTo>
                  <a:lnTo>
                    <a:pt x="882" y="662"/>
                  </a:lnTo>
                  <a:lnTo>
                    <a:pt x="1063" y="578"/>
                  </a:lnTo>
                  <a:lnTo>
                    <a:pt x="1219" y="565"/>
                  </a:lnTo>
                  <a:lnTo>
                    <a:pt x="1386" y="587"/>
                  </a:lnTo>
                  <a:lnTo>
                    <a:pt x="1386" y="622"/>
                  </a:lnTo>
                  <a:lnTo>
                    <a:pt x="1311" y="697"/>
                  </a:lnTo>
                  <a:lnTo>
                    <a:pt x="1276" y="799"/>
                  </a:lnTo>
                  <a:lnTo>
                    <a:pt x="1272" y="941"/>
                  </a:lnTo>
                  <a:lnTo>
                    <a:pt x="1170" y="998"/>
                  </a:lnTo>
                  <a:lnTo>
                    <a:pt x="1024" y="1011"/>
                  </a:lnTo>
                  <a:lnTo>
                    <a:pt x="918" y="1011"/>
                  </a:lnTo>
                  <a:lnTo>
                    <a:pt x="887" y="972"/>
                  </a:lnTo>
                  <a:lnTo>
                    <a:pt x="860" y="706"/>
                  </a:lnTo>
                  <a:lnTo>
                    <a:pt x="706" y="706"/>
                  </a:lnTo>
                  <a:lnTo>
                    <a:pt x="697" y="67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6" name=""/>
            <p:cNvSpPr/>
            <p:nvPr/>
          </p:nvSpPr>
          <p:spPr>
            <a:xfrm>
              <a:off x="7456320" y="1101600"/>
              <a:ext cx="176400" cy="84600"/>
            </a:xfrm>
            <a:custGeom>
              <a:avLst/>
              <a:gdLst/>
              <a:ahLst/>
              <a:rect l="0" t="0" r="r" b="b"/>
              <a:pathLst>
                <a:path w="490" h="235">
                  <a:moveTo>
                    <a:pt x="0" y="0"/>
                  </a:moveTo>
                  <a:lnTo>
                    <a:pt x="79" y="111"/>
                  </a:lnTo>
                  <a:lnTo>
                    <a:pt x="292" y="111"/>
                  </a:lnTo>
                  <a:lnTo>
                    <a:pt x="380" y="30"/>
                  </a:lnTo>
                  <a:lnTo>
                    <a:pt x="490" y="30"/>
                  </a:lnTo>
                  <a:lnTo>
                    <a:pt x="472" y="71"/>
                  </a:lnTo>
                  <a:lnTo>
                    <a:pt x="472" y="111"/>
                  </a:lnTo>
                  <a:lnTo>
                    <a:pt x="269" y="235"/>
                  </a:lnTo>
                  <a:lnTo>
                    <a:pt x="163" y="235"/>
                  </a:lnTo>
                  <a:lnTo>
                    <a:pt x="101" y="187"/>
                  </a:lnTo>
                  <a:lnTo>
                    <a:pt x="44" y="187"/>
                  </a:lnTo>
                  <a:lnTo>
                    <a:pt x="0" y="0"/>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237" name=""/>
            <p:cNvSpPr/>
            <p:nvPr/>
          </p:nvSpPr>
          <p:spPr>
            <a:xfrm>
              <a:off x="7259760" y="966960"/>
              <a:ext cx="267120" cy="441720"/>
            </a:xfrm>
            <a:custGeom>
              <a:avLst/>
              <a:gdLst/>
              <a:ahLst/>
              <a:rect l="0" t="0" r="r" b="b"/>
              <a:pathLst>
                <a:path w="742" h="1227">
                  <a:moveTo>
                    <a:pt x="742" y="88"/>
                  </a:moveTo>
                  <a:lnTo>
                    <a:pt x="742" y="110"/>
                  </a:lnTo>
                  <a:lnTo>
                    <a:pt x="610" y="233"/>
                  </a:lnTo>
                  <a:lnTo>
                    <a:pt x="503" y="255"/>
                  </a:lnTo>
                  <a:lnTo>
                    <a:pt x="296" y="220"/>
                  </a:lnTo>
                  <a:lnTo>
                    <a:pt x="336" y="662"/>
                  </a:lnTo>
                  <a:lnTo>
                    <a:pt x="384" y="1033"/>
                  </a:lnTo>
                  <a:lnTo>
                    <a:pt x="472" y="1227"/>
                  </a:lnTo>
                  <a:lnTo>
                    <a:pt x="384" y="1086"/>
                  </a:lnTo>
                  <a:lnTo>
                    <a:pt x="344" y="928"/>
                  </a:lnTo>
                  <a:lnTo>
                    <a:pt x="287" y="516"/>
                  </a:lnTo>
                  <a:lnTo>
                    <a:pt x="230" y="543"/>
                  </a:lnTo>
                  <a:lnTo>
                    <a:pt x="154" y="494"/>
                  </a:lnTo>
                  <a:lnTo>
                    <a:pt x="13" y="282"/>
                  </a:lnTo>
                  <a:lnTo>
                    <a:pt x="0" y="158"/>
                  </a:lnTo>
                  <a:lnTo>
                    <a:pt x="0" y="70"/>
                  </a:lnTo>
                  <a:lnTo>
                    <a:pt x="35" y="22"/>
                  </a:lnTo>
                  <a:lnTo>
                    <a:pt x="119" y="0"/>
                  </a:lnTo>
                  <a:lnTo>
                    <a:pt x="127" y="30"/>
                  </a:lnTo>
                  <a:lnTo>
                    <a:pt x="57" y="52"/>
                  </a:lnTo>
                  <a:lnTo>
                    <a:pt x="44" y="145"/>
                  </a:lnTo>
                  <a:lnTo>
                    <a:pt x="52" y="260"/>
                  </a:lnTo>
                  <a:lnTo>
                    <a:pt x="145" y="362"/>
                  </a:lnTo>
                  <a:lnTo>
                    <a:pt x="190" y="340"/>
                  </a:lnTo>
                  <a:lnTo>
                    <a:pt x="190" y="119"/>
                  </a:lnTo>
                  <a:lnTo>
                    <a:pt x="278" y="167"/>
                  </a:lnTo>
                  <a:lnTo>
                    <a:pt x="415" y="198"/>
                  </a:lnTo>
                  <a:lnTo>
                    <a:pt x="538" y="189"/>
                  </a:lnTo>
                  <a:lnTo>
                    <a:pt x="659" y="119"/>
                  </a:lnTo>
                  <a:lnTo>
                    <a:pt x="742"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8" name=""/>
            <p:cNvSpPr/>
            <p:nvPr/>
          </p:nvSpPr>
          <p:spPr>
            <a:xfrm>
              <a:off x="7331040" y="615960"/>
              <a:ext cx="81360" cy="235440"/>
            </a:xfrm>
            <a:custGeom>
              <a:avLst/>
              <a:gdLst/>
              <a:ahLst/>
              <a:rect l="0" t="0" r="r" b="b"/>
              <a:pathLst>
                <a:path w="226" h="654">
                  <a:moveTo>
                    <a:pt x="120" y="654"/>
                  </a:moveTo>
                  <a:lnTo>
                    <a:pt x="226" y="265"/>
                  </a:lnTo>
                  <a:lnTo>
                    <a:pt x="30" y="132"/>
                  </a:lnTo>
                  <a:lnTo>
                    <a:pt x="0" y="0"/>
                  </a:lnTo>
                  <a:lnTo>
                    <a:pt x="13" y="158"/>
                  </a:lnTo>
                  <a:lnTo>
                    <a:pt x="80" y="221"/>
                  </a:lnTo>
                  <a:lnTo>
                    <a:pt x="89" y="415"/>
                  </a:lnTo>
                  <a:lnTo>
                    <a:pt x="137" y="500"/>
                  </a:lnTo>
                  <a:lnTo>
                    <a:pt x="120" y="65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9" name=""/>
            <p:cNvSpPr/>
            <p:nvPr/>
          </p:nvSpPr>
          <p:spPr>
            <a:xfrm>
              <a:off x="7329600" y="411120"/>
              <a:ext cx="597240" cy="309960"/>
            </a:xfrm>
            <a:custGeom>
              <a:avLst/>
              <a:gdLst/>
              <a:ahLst/>
              <a:rect l="0" t="0" r="r" b="b"/>
              <a:pathLst>
                <a:path w="1659" h="861">
                  <a:moveTo>
                    <a:pt x="13" y="583"/>
                  </a:moveTo>
                  <a:lnTo>
                    <a:pt x="158" y="672"/>
                  </a:lnTo>
                  <a:lnTo>
                    <a:pt x="141" y="561"/>
                  </a:lnTo>
                  <a:lnTo>
                    <a:pt x="171" y="367"/>
                  </a:lnTo>
                  <a:lnTo>
                    <a:pt x="268" y="322"/>
                  </a:lnTo>
                  <a:lnTo>
                    <a:pt x="277" y="534"/>
                  </a:lnTo>
                  <a:lnTo>
                    <a:pt x="555" y="167"/>
                  </a:lnTo>
                  <a:lnTo>
                    <a:pt x="621" y="141"/>
                  </a:lnTo>
                  <a:lnTo>
                    <a:pt x="573" y="287"/>
                  </a:lnTo>
                  <a:lnTo>
                    <a:pt x="745" y="358"/>
                  </a:lnTo>
                  <a:lnTo>
                    <a:pt x="874" y="211"/>
                  </a:lnTo>
                  <a:lnTo>
                    <a:pt x="940" y="256"/>
                  </a:lnTo>
                  <a:lnTo>
                    <a:pt x="882" y="380"/>
                  </a:lnTo>
                  <a:lnTo>
                    <a:pt x="962" y="309"/>
                  </a:lnTo>
                  <a:lnTo>
                    <a:pt x="1090" y="367"/>
                  </a:lnTo>
                  <a:lnTo>
                    <a:pt x="988" y="468"/>
                  </a:lnTo>
                  <a:lnTo>
                    <a:pt x="1328" y="534"/>
                  </a:lnTo>
                  <a:lnTo>
                    <a:pt x="1099" y="609"/>
                  </a:lnTo>
                  <a:lnTo>
                    <a:pt x="1385" y="650"/>
                  </a:lnTo>
                  <a:lnTo>
                    <a:pt x="1046" y="729"/>
                  </a:lnTo>
                  <a:lnTo>
                    <a:pt x="1121" y="795"/>
                  </a:lnTo>
                  <a:lnTo>
                    <a:pt x="1019" y="861"/>
                  </a:lnTo>
                  <a:lnTo>
                    <a:pt x="1196" y="861"/>
                  </a:lnTo>
                  <a:lnTo>
                    <a:pt x="1178" y="813"/>
                  </a:lnTo>
                  <a:lnTo>
                    <a:pt x="1359" y="857"/>
                  </a:lnTo>
                  <a:lnTo>
                    <a:pt x="1328" y="720"/>
                  </a:lnTo>
                  <a:lnTo>
                    <a:pt x="1500" y="659"/>
                  </a:lnTo>
                  <a:lnTo>
                    <a:pt x="1376" y="591"/>
                  </a:lnTo>
                  <a:lnTo>
                    <a:pt x="1659" y="569"/>
                  </a:lnTo>
                  <a:lnTo>
                    <a:pt x="1416" y="437"/>
                  </a:lnTo>
                  <a:lnTo>
                    <a:pt x="1138" y="402"/>
                  </a:lnTo>
                  <a:lnTo>
                    <a:pt x="1359" y="261"/>
                  </a:lnTo>
                  <a:lnTo>
                    <a:pt x="962" y="261"/>
                  </a:lnTo>
                  <a:lnTo>
                    <a:pt x="1151" y="132"/>
                  </a:lnTo>
                  <a:lnTo>
                    <a:pt x="865" y="167"/>
                  </a:lnTo>
                  <a:lnTo>
                    <a:pt x="727" y="234"/>
                  </a:lnTo>
                  <a:lnTo>
                    <a:pt x="847" y="0"/>
                  </a:lnTo>
                  <a:lnTo>
                    <a:pt x="502" y="132"/>
                  </a:lnTo>
                  <a:lnTo>
                    <a:pt x="313" y="415"/>
                  </a:lnTo>
                  <a:lnTo>
                    <a:pt x="277" y="256"/>
                  </a:lnTo>
                  <a:lnTo>
                    <a:pt x="123" y="367"/>
                  </a:lnTo>
                  <a:lnTo>
                    <a:pt x="101" y="569"/>
                  </a:lnTo>
                  <a:lnTo>
                    <a:pt x="0" y="534"/>
                  </a:lnTo>
                  <a:lnTo>
                    <a:pt x="35" y="720"/>
                  </a:lnTo>
                  <a:lnTo>
                    <a:pt x="13" y="5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0" name=""/>
            <p:cNvSpPr/>
            <p:nvPr/>
          </p:nvSpPr>
          <p:spPr>
            <a:xfrm>
              <a:off x="7459560" y="574560"/>
              <a:ext cx="168480" cy="93960"/>
            </a:xfrm>
            <a:custGeom>
              <a:avLst/>
              <a:gdLst/>
              <a:ahLst/>
              <a:rect l="0" t="0" r="r" b="b"/>
              <a:pathLst>
                <a:path w="468" h="261">
                  <a:moveTo>
                    <a:pt x="0" y="261"/>
                  </a:moveTo>
                  <a:lnTo>
                    <a:pt x="176" y="0"/>
                  </a:lnTo>
                  <a:lnTo>
                    <a:pt x="176" y="172"/>
                  </a:lnTo>
                  <a:lnTo>
                    <a:pt x="239" y="105"/>
                  </a:lnTo>
                  <a:lnTo>
                    <a:pt x="292" y="199"/>
                  </a:lnTo>
                  <a:lnTo>
                    <a:pt x="468" y="247"/>
                  </a:lnTo>
                  <a:lnTo>
                    <a:pt x="283" y="217"/>
                  </a:lnTo>
                  <a:lnTo>
                    <a:pt x="224" y="150"/>
                  </a:lnTo>
                  <a:lnTo>
                    <a:pt x="145" y="217"/>
                  </a:lnTo>
                  <a:lnTo>
                    <a:pt x="145" y="133"/>
                  </a:lnTo>
                  <a:lnTo>
                    <a:pt x="0" y="261"/>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241" name=""/>
            <p:cNvSpPr/>
            <p:nvPr/>
          </p:nvSpPr>
          <p:spPr>
            <a:xfrm>
              <a:off x="7443720" y="1209600"/>
              <a:ext cx="203400" cy="138600"/>
            </a:xfrm>
            <a:custGeom>
              <a:avLst/>
              <a:gdLst/>
              <a:ahLst/>
              <a:rect l="0" t="0" r="r" b="b"/>
              <a:pathLst>
                <a:path w="565" h="385">
                  <a:moveTo>
                    <a:pt x="105" y="137"/>
                  </a:moveTo>
                  <a:lnTo>
                    <a:pt x="340" y="120"/>
                  </a:lnTo>
                  <a:lnTo>
                    <a:pt x="446" y="142"/>
                  </a:lnTo>
                  <a:lnTo>
                    <a:pt x="508" y="88"/>
                  </a:lnTo>
                  <a:lnTo>
                    <a:pt x="565" y="212"/>
                  </a:lnTo>
                  <a:lnTo>
                    <a:pt x="525" y="239"/>
                  </a:lnTo>
                  <a:lnTo>
                    <a:pt x="477" y="190"/>
                  </a:lnTo>
                  <a:lnTo>
                    <a:pt x="406" y="274"/>
                  </a:lnTo>
                  <a:lnTo>
                    <a:pt x="264" y="385"/>
                  </a:lnTo>
                  <a:lnTo>
                    <a:pt x="198" y="385"/>
                  </a:lnTo>
                  <a:lnTo>
                    <a:pt x="105" y="332"/>
                  </a:lnTo>
                  <a:lnTo>
                    <a:pt x="207" y="381"/>
                  </a:lnTo>
                  <a:lnTo>
                    <a:pt x="251" y="381"/>
                  </a:lnTo>
                  <a:lnTo>
                    <a:pt x="340" y="310"/>
                  </a:lnTo>
                  <a:lnTo>
                    <a:pt x="397" y="177"/>
                  </a:lnTo>
                  <a:lnTo>
                    <a:pt x="305" y="155"/>
                  </a:lnTo>
                  <a:lnTo>
                    <a:pt x="246" y="142"/>
                  </a:lnTo>
                  <a:lnTo>
                    <a:pt x="97" y="168"/>
                  </a:lnTo>
                  <a:lnTo>
                    <a:pt x="92" y="269"/>
                  </a:lnTo>
                  <a:lnTo>
                    <a:pt x="44" y="203"/>
                  </a:lnTo>
                  <a:lnTo>
                    <a:pt x="0" y="293"/>
                  </a:lnTo>
                  <a:lnTo>
                    <a:pt x="4" y="102"/>
                  </a:lnTo>
                  <a:lnTo>
                    <a:pt x="57" y="0"/>
                  </a:lnTo>
                  <a:lnTo>
                    <a:pt x="105" y="102"/>
                  </a:lnTo>
                  <a:lnTo>
                    <a:pt x="105" y="1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2" name=""/>
            <p:cNvSpPr/>
            <p:nvPr/>
          </p:nvSpPr>
          <p:spPr>
            <a:xfrm>
              <a:off x="7416720" y="909720"/>
              <a:ext cx="435240" cy="640080"/>
            </a:xfrm>
            <a:custGeom>
              <a:avLst/>
              <a:gdLst/>
              <a:ahLst/>
              <a:rect l="0" t="0" r="r" b="b"/>
              <a:pathLst>
                <a:path w="1209" h="1778">
                  <a:moveTo>
                    <a:pt x="1019" y="0"/>
                  </a:moveTo>
                  <a:lnTo>
                    <a:pt x="1134" y="0"/>
                  </a:lnTo>
                  <a:lnTo>
                    <a:pt x="1209" y="88"/>
                  </a:lnTo>
                  <a:lnTo>
                    <a:pt x="1209" y="185"/>
                  </a:lnTo>
                  <a:lnTo>
                    <a:pt x="1112" y="463"/>
                  </a:lnTo>
                  <a:lnTo>
                    <a:pt x="1010" y="590"/>
                  </a:lnTo>
                  <a:lnTo>
                    <a:pt x="904" y="612"/>
                  </a:lnTo>
                  <a:lnTo>
                    <a:pt x="878" y="612"/>
                  </a:lnTo>
                  <a:lnTo>
                    <a:pt x="878" y="962"/>
                  </a:lnTo>
                  <a:lnTo>
                    <a:pt x="927" y="1218"/>
                  </a:lnTo>
                  <a:lnTo>
                    <a:pt x="927" y="1425"/>
                  </a:lnTo>
                  <a:lnTo>
                    <a:pt x="746" y="1637"/>
                  </a:lnTo>
                  <a:lnTo>
                    <a:pt x="493" y="1778"/>
                  </a:lnTo>
                  <a:lnTo>
                    <a:pt x="335" y="1778"/>
                  </a:lnTo>
                  <a:lnTo>
                    <a:pt x="251" y="1734"/>
                  </a:lnTo>
                  <a:lnTo>
                    <a:pt x="141" y="1487"/>
                  </a:lnTo>
                  <a:lnTo>
                    <a:pt x="39" y="1403"/>
                  </a:lnTo>
                  <a:lnTo>
                    <a:pt x="0" y="1337"/>
                  </a:lnTo>
                  <a:lnTo>
                    <a:pt x="136" y="1425"/>
                  </a:lnTo>
                  <a:lnTo>
                    <a:pt x="233" y="1517"/>
                  </a:lnTo>
                  <a:lnTo>
                    <a:pt x="423" y="1526"/>
                  </a:lnTo>
                  <a:lnTo>
                    <a:pt x="599" y="1438"/>
                  </a:lnTo>
                  <a:lnTo>
                    <a:pt x="693" y="1337"/>
                  </a:lnTo>
                  <a:lnTo>
                    <a:pt x="790" y="1156"/>
                  </a:lnTo>
                  <a:lnTo>
                    <a:pt x="807" y="944"/>
                  </a:lnTo>
                  <a:lnTo>
                    <a:pt x="843" y="260"/>
                  </a:lnTo>
                  <a:lnTo>
                    <a:pt x="887" y="366"/>
                  </a:lnTo>
                  <a:lnTo>
                    <a:pt x="1010" y="238"/>
                  </a:lnTo>
                  <a:lnTo>
                    <a:pt x="1129" y="185"/>
                  </a:lnTo>
                  <a:lnTo>
                    <a:pt x="1160" y="114"/>
                  </a:lnTo>
                  <a:lnTo>
                    <a:pt x="1147" y="44"/>
                  </a:lnTo>
                  <a:lnTo>
                    <a:pt x="1094" y="8"/>
                  </a:lnTo>
                  <a:lnTo>
                    <a:pt x="10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3" name=""/>
            <p:cNvSpPr/>
            <p:nvPr/>
          </p:nvSpPr>
          <p:spPr>
            <a:xfrm>
              <a:off x="6745320" y="1461960"/>
              <a:ext cx="351360" cy="592560"/>
            </a:xfrm>
            <a:custGeom>
              <a:avLst/>
              <a:gdLst/>
              <a:ahLst/>
              <a:rect l="0" t="0" r="r" b="b"/>
              <a:pathLst>
                <a:path w="976" h="1646">
                  <a:moveTo>
                    <a:pt x="123" y="0"/>
                  </a:moveTo>
                  <a:lnTo>
                    <a:pt x="233" y="70"/>
                  </a:lnTo>
                  <a:lnTo>
                    <a:pt x="318" y="405"/>
                  </a:lnTo>
                  <a:lnTo>
                    <a:pt x="569" y="490"/>
                  </a:lnTo>
                  <a:lnTo>
                    <a:pt x="644" y="574"/>
                  </a:lnTo>
                  <a:lnTo>
                    <a:pt x="653" y="702"/>
                  </a:lnTo>
                  <a:lnTo>
                    <a:pt x="778" y="680"/>
                  </a:lnTo>
                  <a:lnTo>
                    <a:pt x="928" y="781"/>
                  </a:lnTo>
                  <a:lnTo>
                    <a:pt x="976" y="918"/>
                  </a:lnTo>
                  <a:lnTo>
                    <a:pt x="976" y="1151"/>
                  </a:lnTo>
                  <a:lnTo>
                    <a:pt x="778" y="1505"/>
                  </a:lnTo>
                  <a:lnTo>
                    <a:pt x="706" y="1646"/>
                  </a:lnTo>
                  <a:lnTo>
                    <a:pt x="747" y="1457"/>
                  </a:lnTo>
                  <a:lnTo>
                    <a:pt x="706" y="1386"/>
                  </a:lnTo>
                  <a:lnTo>
                    <a:pt x="591" y="1267"/>
                  </a:lnTo>
                  <a:lnTo>
                    <a:pt x="402" y="1116"/>
                  </a:lnTo>
                  <a:lnTo>
                    <a:pt x="627" y="1200"/>
                  </a:lnTo>
                  <a:lnTo>
                    <a:pt x="764" y="1307"/>
                  </a:lnTo>
                  <a:lnTo>
                    <a:pt x="835" y="1294"/>
                  </a:lnTo>
                  <a:lnTo>
                    <a:pt x="879" y="1231"/>
                  </a:lnTo>
                  <a:lnTo>
                    <a:pt x="928" y="1068"/>
                  </a:lnTo>
                  <a:lnTo>
                    <a:pt x="914" y="904"/>
                  </a:lnTo>
                  <a:lnTo>
                    <a:pt x="839" y="816"/>
                  </a:lnTo>
                  <a:lnTo>
                    <a:pt x="719" y="781"/>
                  </a:lnTo>
                  <a:lnTo>
                    <a:pt x="591" y="781"/>
                  </a:lnTo>
                  <a:lnTo>
                    <a:pt x="547" y="543"/>
                  </a:lnTo>
                  <a:lnTo>
                    <a:pt x="331" y="455"/>
                  </a:lnTo>
                  <a:lnTo>
                    <a:pt x="331" y="525"/>
                  </a:lnTo>
                  <a:lnTo>
                    <a:pt x="233" y="352"/>
                  </a:lnTo>
                  <a:lnTo>
                    <a:pt x="180" y="70"/>
                  </a:lnTo>
                  <a:lnTo>
                    <a:pt x="97" y="48"/>
                  </a:lnTo>
                  <a:lnTo>
                    <a:pt x="48" y="132"/>
                  </a:lnTo>
                  <a:lnTo>
                    <a:pt x="48" y="321"/>
                  </a:lnTo>
                  <a:lnTo>
                    <a:pt x="88" y="525"/>
                  </a:lnTo>
                  <a:lnTo>
                    <a:pt x="202" y="702"/>
                  </a:lnTo>
                  <a:lnTo>
                    <a:pt x="79" y="591"/>
                  </a:lnTo>
                  <a:lnTo>
                    <a:pt x="8" y="405"/>
                  </a:lnTo>
                  <a:lnTo>
                    <a:pt x="0" y="180"/>
                  </a:lnTo>
                  <a:lnTo>
                    <a:pt x="48" y="48"/>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4" name=""/>
            <p:cNvSpPr/>
            <p:nvPr/>
          </p:nvSpPr>
          <p:spPr>
            <a:xfrm>
              <a:off x="6576840" y="1724040"/>
              <a:ext cx="232200" cy="473400"/>
            </a:xfrm>
            <a:custGeom>
              <a:avLst/>
              <a:gdLst/>
              <a:ahLst/>
              <a:rect l="0" t="0" r="r" b="b"/>
              <a:pathLst>
                <a:path w="645" h="1315">
                  <a:moveTo>
                    <a:pt x="645" y="0"/>
                  </a:moveTo>
                  <a:lnTo>
                    <a:pt x="509" y="88"/>
                  </a:lnTo>
                  <a:lnTo>
                    <a:pt x="358" y="401"/>
                  </a:lnTo>
                  <a:lnTo>
                    <a:pt x="203" y="612"/>
                  </a:lnTo>
                  <a:lnTo>
                    <a:pt x="13" y="865"/>
                  </a:lnTo>
                  <a:lnTo>
                    <a:pt x="0" y="993"/>
                  </a:lnTo>
                  <a:lnTo>
                    <a:pt x="35" y="1107"/>
                  </a:lnTo>
                  <a:lnTo>
                    <a:pt x="127" y="1107"/>
                  </a:lnTo>
                  <a:lnTo>
                    <a:pt x="247" y="993"/>
                  </a:lnTo>
                  <a:lnTo>
                    <a:pt x="340" y="755"/>
                  </a:lnTo>
                  <a:lnTo>
                    <a:pt x="472" y="612"/>
                  </a:lnTo>
                  <a:lnTo>
                    <a:pt x="472" y="803"/>
                  </a:lnTo>
                  <a:lnTo>
                    <a:pt x="455" y="975"/>
                  </a:lnTo>
                  <a:lnTo>
                    <a:pt x="314" y="1204"/>
                  </a:lnTo>
                  <a:lnTo>
                    <a:pt x="314" y="1279"/>
                  </a:lnTo>
                  <a:lnTo>
                    <a:pt x="455" y="1315"/>
                  </a:lnTo>
                  <a:lnTo>
                    <a:pt x="358" y="1248"/>
                  </a:lnTo>
                  <a:lnTo>
                    <a:pt x="371" y="1204"/>
                  </a:lnTo>
                  <a:lnTo>
                    <a:pt x="464" y="1041"/>
                  </a:lnTo>
                  <a:lnTo>
                    <a:pt x="531" y="733"/>
                  </a:lnTo>
                  <a:lnTo>
                    <a:pt x="491" y="555"/>
                  </a:lnTo>
                  <a:lnTo>
                    <a:pt x="380" y="652"/>
                  </a:lnTo>
                  <a:lnTo>
                    <a:pt x="149" y="1046"/>
                  </a:lnTo>
                  <a:lnTo>
                    <a:pt x="92" y="1063"/>
                  </a:lnTo>
                  <a:lnTo>
                    <a:pt x="35" y="1019"/>
                  </a:lnTo>
                  <a:lnTo>
                    <a:pt x="35" y="896"/>
                  </a:lnTo>
                  <a:lnTo>
                    <a:pt x="127" y="746"/>
                  </a:lnTo>
                  <a:lnTo>
                    <a:pt x="380" y="423"/>
                  </a:lnTo>
                  <a:lnTo>
                    <a:pt x="531" y="119"/>
                  </a:lnTo>
                  <a:lnTo>
                    <a:pt x="64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5" name=""/>
            <p:cNvSpPr/>
            <p:nvPr/>
          </p:nvSpPr>
          <p:spPr>
            <a:xfrm>
              <a:off x="6748560" y="1990800"/>
              <a:ext cx="144720" cy="230400"/>
            </a:xfrm>
            <a:custGeom>
              <a:avLst/>
              <a:gdLst/>
              <a:ahLst/>
              <a:rect l="0" t="0" r="r" b="b"/>
              <a:pathLst>
                <a:path w="402" h="640">
                  <a:moveTo>
                    <a:pt x="0" y="569"/>
                  </a:moveTo>
                  <a:lnTo>
                    <a:pt x="132" y="397"/>
                  </a:lnTo>
                  <a:lnTo>
                    <a:pt x="154" y="238"/>
                  </a:lnTo>
                  <a:lnTo>
                    <a:pt x="309" y="0"/>
                  </a:lnTo>
                  <a:lnTo>
                    <a:pt x="344" y="158"/>
                  </a:lnTo>
                  <a:lnTo>
                    <a:pt x="322" y="578"/>
                  </a:lnTo>
                  <a:lnTo>
                    <a:pt x="402" y="640"/>
                  </a:lnTo>
                  <a:lnTo>
                    <a:pt x="283" y="591"/>
                  </a:lnTo>
                  <a:lnTo>
                    <a:pt x="225" y="353"/>
                  </a:lnTo>
                  <a:lnTo>
                    <a:pt x="132" y="468"/>
                  </a:lnTo>
                  <a:lnTo>
                    <a:pt x="0" y="5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6" name=""/>
            <p:cNvSpPr/>
            <p:nvPr/>
          </p:nvSpPr>
          <p:spPr>
            <a:xfrm>
              <a:off x="6923160" y="2003400"/>
              <a:ext cx="95760" cy="203400"/>
            </a:xfrm>
            <a:custGeom>
              <a:avLst/>
              <a:gdLst/>
              <a:ahLst/>
              <a:rect l="0" t="0" r="r" b="b"/>
              <a:pathLst>
                <a:path w="266" h="565">
                  <a:moveTo>
                    <a:pt x="0" y="424"/>
                  </a:moveTo>
                  <a:lnTo>
                    <a:pt x="8" y="211"/>
                  </a:lnTo>
                  <a:lnTo>
                    <a:pt x="71" y="92"/>
                  </a:lnTo>
                  <a:lnTo>
                    <a:pt x="128" y="538"/>
                  </a:lnTo>
                  <a:lnTo>
                    <a:pt x="213" y="538"/>
                  </a:lnTo>
                  <a:lnTo>
                    <a:pt x="244" y="66"/>
                  </a:lnTo>
                  <a:lnTo>
                    <a:pt x="266" y="0"/>
                  </a:lnTo>
                  <a:lnTo>
                    <a:pt x="244" y="371"/>
                  </a:lnTo>
                  <a:lnTo>
                    <a:pt x="213" y="565"/>
                  </a:lnTo>
                  <a:lnTo>
                    <a:pt x="102" y="565"/>
                  </a:lnTo>
                  <a:lnTo>
                    <a:pt x="57" y="171"/>
                  </a:lnTo>
                  <a:lnTo>
                    <a:pt x="35" y="233"/>
                  </a:lnTo>
                  <a:lnTo>
                    <a:pt x="0" y="4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7" name=""/>
            <p:cNvSpPr/>
            <p:nvPr/>
          </p:nvSpPr>
          <p:spPr>
            <a:xfrm>
              <a:off x="8129520" y="1198440"/>
              <a:ext cx="230400" cy="546480"/>
            </a:xfrm>
            <a:custGeom>
              <a:avLst/>
              <a:gdLst/>
              <a:ahLst/>
              <a:rect l="0" t="0" r="r" b="b"/>
              <a:pathLst>
                <a:path w="640" h="1518">
                  <a:moveTo>
                    <a:pt x="167" y="825"/>
                  </a:moveTo>
                  <a:lnTo>
                    <a:pt x="216" y="583"/>
                  </a:lnTo>
                  <a:lnTo>
                    <a:pt x="433" y="521"/>
                  </a:lnTo>
                  <a:lnTo>
                    <a:pt x="640" y="0"/>
                  </a:lnTo>
                  <a:lnTo>
                    <a:pt x="640" y="149"/>
                  </a:lnTo>
                  <a:lnTo>
                    <a:pt x="464" y="556"/>
                  </a:lnTo>
                  <a:lnTo>
                    <a:pt x="233" y="631"/>
                  </a:lnTo>
                  <a:lnTo>
                    <a:pt x="202" y="825"/>
                  </a:lnTo>
                  <a:lnTo>
                    <a:pt x="282" y="825"/>
                  </a:lnTo>
                  <a:lnTo>
                    <a:pt x="83" y="909"/>
                  </a:lnTo>
                  <a:lnTo>
                    <a:pt x="35" y="1072"/>
                  </a:lnTo>
                  <a:lnTo>
                    <a:pt x="48" y="1280"/>
                  </a:lnTo>
                  <a:lnTo>
                    <a:pt x="260" y="1518"/>
                  </a:lnTo>
                  <a:lnTo>
                    <a:pt x="35" y="1307"/>
                  </a:lnTo>
                  <a:lnTo>
                    <a:pt x="0" y="1129"/>
                  </a:lnTo>
                  <a:lnTo>
                    <a:pt x="13" y="953"/>
                  </a:lnTo>
                  <a:lnTo>
                    <a:pt x="97" y="825"/>
                  </a:lnTo>
                  <a:lnTo>
                    <a:pt x="167" y="82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8" name=""/>
            <p:cNvSpPr/>
            <p:nvPr/>
          </p:nvSpPr>
          <p:spPr>
            <a:xfrm>
              <a:off x="8283600" y="1198440"/>
              <a:ext cx="384480" cy="528840"/>
            </a:xfrm>
            <a:custGeom>
              <a:avLst/>
              <a:gdLst/>
              <a:ahLst/>
              <a:rect l="0" t="0" r="r" b="b"/>
              <a:pathLst>
                <a:path w="1068" h="1469">
                  <a:moveTo>
                    <a:pt x="295" y="0"/>
                  </a:moveTo>
                  <a:lnTo>
                    <a:pt x="361" y="48"/>
                  </a:lnTo>
                  <a:lnTo>
                    <a:pt x="379" y="171"/>
                  </a:lnTo>
                  <a:lnTo>
                    <a:pt x="379" y="282"/>
                  </a:lnTo>
                  <a:lnTo>
                    <a:pt x="260" y="498"/>
                  </a:lnTo>
                  <a:lnTo>
                    <a:pt x="282" y="652"/>
                  </a:lnTo>
                  <a:lnTo>
                    <a:pt x="644" y="825"/>
                  </a:lnTo>
                  <a:lnTo>
                    <a:pt x="1063" y="1288"/>
                  </a:lnTo>
                  <a:lnTo>
                    <a:pt x="1068" y="1412"/>
                  </a:lnTo>
                  <a:lnTo>
                    <a:pt x="1041" y="1469"/>
                  </a:lnTo>
                  <a:lnTo>
                    <a:pt x="887" y="1469"/>
                  </a:lnTo>
                  <a:lnTo>
                    <a:pt x="750" y="1381"/>
                  </a:lnTo>
                  <a:lnTo>
                    <a:pt x="636" y="1231"/>
                  </a:lnTo>
                  <a:lnTo>
                    <a:pt x="569" y="1143"/>
                  </a:lnTo>
                  <a:lnTo>
                    <a:pt x="493" y="1129"/>
                  </a:lnTo>
                  <a:lnTo>
                    <a:pt x="587" y="1129"/>
                  </a:lnTo>
                  <a:lnTo>
                    <a:pt x="759" y="1363"/>
                  </a:lnTo>
                  <a:lnTo>
                    <a:pt x="984" y="1434"/>
                  </a:lnTo>
                  <a:lnTo>
                    <a:pt x="1032" y="1363"/>
                  </a:lnTo>
                  <a:lnTo>
                    <a:pt x="1010" y="1257"/>
                  </a:lnTo>
                  <a:lnTo>
                    <a:pt x="618" y="927"/>
                  </a:lnTo>
                  <a:lnTo>
                    <a:pt x="561" y="825"/>
                  </a:lnTo>
                  <a:lnTo>
                    <a:pt x="260" y="746"/>
                  </a:lnTo>
                  <a:lnTo>
                    <a:pt x="207" y="825"/>
                  </a:lnTo>
                  <a:lnTo>
                    <a:pt x="0" y="962"/>
                  </a:lnTo>
                  <a:lnTo>
                    <a:pt x="194" y="803"/>
                  </a:lnTo>
                  <a:lnTo>
                    <a:pt x="207" y="701"/>
                  </a:lnTo>
                  <a:lnTo>
                    <a:pt x="207" y="467"/>
                  </a:lnTo>
                  <a:lnTo>
                    <a:pt x="339" y="282"/>
                  </a:lnTo>
                  <a:lnTo>
                    <a:pt x="339" y="61"/>
                  </a:lnTo>
                  <a:lnTo>
                    <a:pt x="29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9" name=""/>
            <p:cNvSpPr/>
            <p:nvPr/>
          </p:nvSpPr>
          <p:spPr>
            <a:xfrm>
              <a:off x="8213760" y="1614600"/>
              <a:ext cx="325800" cy="313200"/>
            </a:xfrm>
            <a:custGeom>
              <a:avLst/>
              <a:gdLst/>
              <a:ahLst/>
              <a:rect l="0" t="0" r="r" b="b"/>
              <a:pathLst>
                <a:path w="905" h="870">
                  <a:moveTo>
                    <a:pt x="681" y="0"/>
                  </a:moveTo>
                  <a:lnTo>
                    <a:pt x="658" y="70"/>
                  </a:lnTo>
                  <a:lnTo>
                    <a:pt x="795" y="362"/>
                  </a:lnTo>
                  <a:lnTo>
                    <a:pt x="857" y="659"/>
                  </a:lnTo>
                  <a:lnTo>
                    <a:pt x="778" y="659"/>
                  </a:lnTo>
                  <a:lnTo>
                    <a:pt x="640" y="525"/>
                  </a:lnTo>
                  <a:lnTo>
                    <a:pt x="521" y="256"/>
                  </a:lnTo>
                  <a:lnTo>
                    <a:pt x="424" y="211"/>
                  </a:lnTo>
                  <a:lnTo>
                    <a:pt x="441" y="362"/>
                  </a:lnTo>
                  <a:lnTo>
                    <a:pt x="530" y="468"/>
                  </a:lnTo>
                  <a:lnTo>
                    <a:pt x="530" y="681"/>
                  </a:lnTo>
                  <a:lnTo>
                    <a:pt x="468" y="826"/>
                  </a:lnTo>
                  <a:lnTo>
                    <a:pt x="380" y="764"/>
                  </a:lnTo>
                  <a:lnTo>
                    <a:pt x="278" y="525"/>
                  </a:lnTo>
                  <a:lnTo>
                    <a:pt x="252" y="362"/>
                  </a:lnTo>
                  <a:lnTo>
                    <a:pt x="194" y="314"/>
                  </a:lnTo>
                  <a:lnTo>
                    <a:pt x="180" y="738"/>
                  </a:lnTo>
                  <a:lnTo>
                    <a:pt x="97" y="800"/>
                  </a:lnTo>
                  <a:lnTo>
                    <a:pt x="26" y="738"/>
                  </a:lnTo>
                  <a:lnTo>
                    <a:pt x="8" y="375"/>
                  </a:lnTo>
                  <a:lnTo>
                    <a:pt x="0" y="729"/>
                  </a:lnTo>
                  <a:lnTo>
                    <a:pt x="57" y="857"/>
                  </a:lnTo>
                  <a:lnTo>
                    <a:pt x="180" y="857"/>
                  </a:lnTo>
                  <a:lnTo>
                    <a:pt x="220" y="756"/>
                  </a:lnTo>
                  <a:lnTo>
                    <a:pt x="243" y="428"/>
                  </a:lnTo>
                  <a:lnTo>
                    <a:pt x="261" y="552"/>
                  </a:lnTo>
                  <a:lnTo>
                    <a:pt x="367" y="835"/>
                  </a:lnTo>
                  <a:lnTo>
                    <a:pt x="477" y="870"/>
                  </a:lnTo>
                  <a:lnTo>
                    <a:pt x="561" y="756"/>
                  </a:lnTo>
                  <a:lnTo>
                    <a:pt x="561" y="481"/>
                  </a:lnTo>
                  <a:lnTo>
                    <a:pt x="778" y="707"/>
                  </a:lnTo>
                  <a:lnTo>
                    <a:pt x="897" y="707"/>
                  </a:lnTo>
                  <a:lnTo>
                    <a:pt x="905" y="552"/>
                  </a:lnTo>
                  <a:lnTo>
                    <a:pt x="822" y="283"/>
                  </a:lnTo>
                  <a:lnTo>
                    <a:pt x="681" y="61"/>
                  </a:lnTo>
                  <a:lnTo>
                    <a:pt x="68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0" name=""/>
            <p:cNvSpPr/>
            <p:nvPr/>
          </p:nvSpPr>
          <p:spPr>
            <a:xfrm>
              <a:off x="6897600" y="1290600"/>
              <a:ext cx="1449720" cy="1278360"/>
            </a:xfrm>
            <a:custGeom>
              <a:avLst/>
              <a:gdLst/>
              <a:ahLst/>
              <a:rect l="0" t="0" r="r" b="b"/>
              <a:pathLst>
                <a:path w="4027" h="3551">
                  <a:moveTo>
                    <a:pt x="1450" y="299"/>
                  </a:moveTo>
                  <a:lnTo>
                    <a:pt x="1375" y="313"/>
                  </a:lnTo>
                  <a:lnTo>
                    <a:pt x="1265" y="489"/>
                  </a:lnTo>
                  <a:lnTo>
                    <a:pt x="1225" y="366"/>
                  </a:lnTo>
                  <a:lnTo>
                    <a:pt x="1093" y="286"/>
                  </a:lnTo>
                  <a:lnTo>
                    <a:pt x="996" y="343"/>
                  </a:lnTo>
                  <a:lnTo>
                    <a:pt x="956" y="568"/>
                  </a:lnTo>
                  <a:lnTo>
                    <a:pt x="599" y="851"/>
                  </a:lnTo>
                  <a:lnTo>
                    <a:pt x="617" y="975"/>
                  </a:lnTo>
                  <a:lnTo>
                    <a:pt x="529" y="1081"/>
                  </a:lnTo>
                  <a:lnTo>
                    <a:pt x="529" y="1173"/>
                  </a:lnTo>
                  <a:lnTo>
                    <a:pt x="635" y="1447"/>
                  </a:lnTo>
                  <a:lnTo>
                    <a:pt x="643" y="1773"/>
                  </a:lnTo>
                  <a:lnTo>
                    <a:pt x="573" y="2082"/>
                  </a:lnTo>
                  <a:lnTo>
                    <a:pt x="317" y="2267"/>
                  </a:lnTo>
                  <a:lnTo>
                    <a:pt x="282" y="2523"/>
                  </a:lnTo>
                  <a:lnTo>
                    <a:pt x="202" y="2523"/>
                  </a:lnTo>
                  <a:lnTo>
                    <a:pt x="158" y="2311"/>
                  </a:lnTo>
                  <a:lnTo>
                    <a:pt x="83" y="2311"/>
                  </a:lnTo>
                  <a:lnTo>
                    <a:pt x="48" y="2532"/>
                  </a:lnTo>
                  <a:lnTo>
                    <a:pt x="0" y="2593"/>
                  </a:lnTo>
                  <a:lnTo>
                    <a:pt x="180" y="2903"/>
                  </a:lnTo>
                  <a:lnTo>
                    <a:pt x="304" y="2916"/>
                  </a:lnTo>
                  <a:lnTo>
                    <a:pt x="529" y="3137"/>
                  </a:lnTo>
                  <a:lnTo>
                    <a:pt x="740" y="3168"/>
                  </a:lnTo>
                  <a:lnTo>
                    <a:pt x="855" y="3044"/>
                  </a:lnTo>
                  <a:lnTo>
                    <a:pt x="1133" y="2611"/>
                  </a:lnTo>
                  <a:lnTo>
                    <a:pt x="1155" y="3199"/>
                  </a:lnTo>
                  <a:lnTo>
                    <a:pt x="1133" y="3551"/>
                  </a:lnTo>
                  <a:lnTo>
                    <a:pt x="3458" y="3551"/>
                  </a:lnTo>
                  <a:lnTo>
                    <a:pt x="3286" y="3168"/>
                  </a:lnTo>
                  <a:lnTo>
                    <a:pt x="3206" y="2837"/>
                  </a:lnTo>
                  <a:lnTo>
                    <a:pt x="3184" y="2346"/>
                  </a:lnTo>
                  <a:lnTo>
                    <a:pt x="3321" y="2461"/>
                  </a:lnTo>
                  <a:lnTo>
                    <a:pt x="3458" y="2461"/>
                  </a:lnTo>
                  <a:lnTo>
                    <a:pt x="3652" y="2333"/>
                  </a:lnTo>
                  <a:lnTo>
                    <a:pt x="3780" y="2311"/>
                  </a:lnTo>
                  <a:lnTo>
                    <a:pt x="3855" y="2179"/>
                  </a:lnTo>
                  <a:lnTo>
                    <a:pt x="3908" y="1844"/>
                  </a:lnTo>
                  <a:lnTo>
                    <a:pt x="4027" y="1711"/>
                  </a:lnTo>
                  <a:lnTo>
                    <a:pt x="3969" y="1610"/>
                  </a:lnTo>
                  <a:lnTo>
                    <a:pt x="3881" y="1610"/>
                  </a:lnTo>
                  <a:lnTo>
                    <a:pt x="3811" y="1676"/>
                  </a:lnTo>
                  <a:lnTo>
                    <a:pt x="3744" y="1698"/>
                  </a:lnTo>
                  <a:lnTo>
                    <a:pt x="3661" y="1610"/>
                  </a:lnTo>
                  <a:lnTo>
                    <a:pt x="3564" y="1592"/>
                  </a:lnTo>
                  <a:lnTo>
                    <a:pt x="3378" y="1469"/>
                  </a:lnTo>
                  <a:lnTo>
                    <a:pt x="3264" y="1337"/>
                  </a:lnTo>
                  <a:lnTo>
                    <a:pt x="3242" y="1173"/>
                  </a:lnTo>
                  <a:lnTo>
                    <a:pt x="3264" y="1015"/>
                  </a:lnTo>
                  <a:lnTo>
                    <a:pt x="3339" y="886"/>
                  </a:lnTo>
                  <a:lnTo>
                    <a:pt x="3436" y="771"/>
                  </a:lnTo>
                  <a:lnTo>
                    <a:pt x="3431" y="568"/>
                  </a:lnTo>
                  <a:lnTo>
                    <a:pt x="3431" y="423"/>
                  </a:lnTo>
                  <a:lnTo>
                    <a:pt x="3378" y="313"/>
                  </a:lnTo>
                  <a:lnTo>
                    <a:pt x="3242" y="264"/>
                  </a:lnTo>
                  <a:lnTo>
                    <a:pt x="3193" y="238"/>
                  </a:lnTo>
                  <a:lnTo>
                    <a:pt x="3101" y="66"/>
                  </a:lnTo>
                  <a:lnTo>
                    <a:pt x="3026" y="8"/>
                  </a:lnTo>
                  <a:lnTo>
                    <a:pt x="2937" y="0"/>
                  </a:lnTo>
                  <a:lnTo>
                    <a:pt x="2867" y="30"/>
                  </a:lnTo>
                  <a:lnTo>
                    <a:pt x="2805" y="123"/>
                  </a:lnTo>
                  <a:lnTo>
                    <a:pt x="2717" y="180"/>
                  </a:lnTo>
                  <a:lnTo>
                    <a:pt x="2620" y="194"/>
                  </a:lnTo>
                  <a:lnTo>
                    <a:pt x="2510" y="194"/>
                  </a:lnTo>
                  <a:lnTo>
                    <a:pt x="2527" y="374"/>
                  </a:lnTo>
                  <a:lnTo>
                    <a:pt x="2527" y="590"/>
                  </a:lnTo>
                  <a:lnTo>
                    <a:pt x="2510" y="740"/>
                  </a:lnTo>
                  <a:lnTo>
                    <a:pt x="2413" y="913"/>
                  </a:lnTo>
                  <a:lnTo>
                    <a:pt x="2285" y="1187"/>
                  </a:lnTo>
                  <a:lnTo>
                    <a:pt x="2183" y="1504"/>
                  </a:lnTo>
                  <a:lnTo>
                    <a:pt x="2179" y="1698"/>
                  </a:lnTo>
                  <a:lnTo>
                    <a:pt x="2130" y="1857"/>
                  </a:lnTo>
                  <a:lnTo>
                    <a:pt x="2073" y="2020"/>
                  </a:lnTo>
                  <a:lnTo>
                    <a:pt x="2042" y="2276"/>
                  </a:lnTo>
                  <a:lnTo>
                    <a:pt x="2055" y="2488"/>
                  </a:lnTo>
                  <a:lnTo>
                    <a:pt x="2130" y="2740"/>
                  </a:lnTo>
                  <a:lnTo>
                    <a:pt x="2179" y="2837"/>
                  </a:lnTo>
                  <a:lnTo>
                    <a:pt x="2042" y="2930"/>
                  </a:lnTo>
                  <a:lnTo>
                    <a:pt x="1878" y="2987"/>
                  </a:lnTo>
                  <a:lnTo>
                    <a:pt x="1702" y="3009"/>
                  </a:lnTo>
                  <a:lnTo>
                    <a:pt x="1591" y="3009"/>
                  </a:lnTo>
                  <a:lnTo>
                    <a:pt x="1516" y="2974"/>
                  </a:lnTo>
                  <a:lnTo>
                    <a:pt x="1516" y="2758"/>
                  </a:lnTo>
                  <a:lnTo>
                    <a:pt x="1516" y="2448"/>
                  </a:lnTo>
                  <a:lnTo>
                    <a:pt x="1472" y="2135"/>
                  </a:lnTo>
                  <a:lnTo>
                    <a:pt x="1402" y="1857"/>
                  </a:lnTo>
                  <a:lnTo>
                    <a:pt x="1367" y="1637"/>
                  </a:lnTo>
                  <a:lnTo>
                    <a:pt x="1358" y="1319"/>
                  </a:lnTo>
                  <a:lnTo>
                    <a:pt x="1402" y="1050"/>
                  </a:lnTo>
                  <a:lnTo>
                    <a:pt x="1472" y="824"/>
                  </a:lnTo>
                  <a:lnTo>
                    <a:pt x="1481" y="696"/>
                  </a:lnTo>
                  <a:lnTo>
                    <a:pt x="1450" y="511"/>
                  </a:lnTo>
                  <a:lnTo>
                    <a:pt x="1450" y="366"/>
                  </a:lnTo>
                  <a:lnTo>
                    <a:pt x="1472" y="313"/>
                  </a:lnTo>
                  <a:lnTo>
                    <a:pt x="1450" y="29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1" name=""/>
            <p:cNvSpPr/>
            <p:nvPr/>
          </p:nvSpPr>
          <p:spPr>
            <a:xfrm>
              <a:off x="7462800" y="1547640"/>
              <a:ext cx="182880" cy="829080"/>
            </a:xfrm>
            <a:custGeom>
              <a:avLst/>
              <a:gdLst/>
              <a:ahLst/>
              <a:rect l="0" t="0" r="r" b="b"/>
              <a:pathLst>
                <a:path w="508" h="2303">
                  <a:moveTo>
                    <a:pt x="202" y="26"/>
                  </a:moveTo>
                  <a:lnTo>
                    <a:pt x="66" y="101"/>
                  </a:lnTo>
                  <a:lnTo>
                    <a:pt x="79" y="321"/>
                  </a:lnTo>
                  <a:lnTo>
                    <a:pt x="180" y="383"/>
                  </a:lnTo>
                  <a:lnTo>
                    <a:pt x="57" y="631"/>
                  </a:lnTo>
                  <a:lnTo>
                    <a:pt x="0" y="896"/>
                  </a:lnTo>
                  <a:lnTo>
                    <a:pt x="0" y="1147"/>
                  </a:lnTo>
                  <a:lnTo>
                    <a:pt x="57" y="1381"/>
                  </a:lnTo>
                  <a:lnTo>
                    <a:pt x="105" y="1663"/>
                  </a:lnTo>
                  <a:lnTo>
                    <a:pt x="105" y="1823"/>
                  </a:lnTo>
                  <a:lnTo>
                    <a:pt x="57" y="2021"/>
                  </a:lnTo>
                  <a:lnTo>
                    <a:pt x="265" y="2303"/>
                  </a:lnTo>
                  <a:lnTo>
                    <a:pt x="353" y="2259"/>
                  </a:lnTo>
                  <a:lnTo>
                    <a:pt x="406" y="2065"/>
                  </a:lnTo>
                  <a:lnTo>
                    <a:pt x="503" y="1809"/>
                  </a:lnTo>
                  <a:lnTo>
                    <a:pt x="508" y="1676"/>
                  </a:lnTo>
                  <a:lnTo>
                    <a:pt x="428" y="1420"/>
                  </a:lnTo>
                  <a:lnTo>
                    <a:pt x="331" y="1178"/>
                  </a:lnTo>
                  <a:lnTo>
                    <a:pt x="296" y="997"/>
                  </a:lnTo>
                  <a:lnTo>
                    <a:pt x="296" y="838"/>
                  </a:lnTo>
                  <a:lnTo>
                    <a:pt x="331" y="688"/>
                  </a:lnTo>
                  <a:lnTo>
                    <a:pt x="406" y="502"/>
                  </a:lnTo>
                  <a:lnTo>
                    <a:pt x="406" y="427"/>
                  </a:lnTo>
                  <a:lnTo>
                    <a:pt x="371" y="357"/>
                  </a:lnTo>
                  <a:lnTo>
                    <a:pt x="464" y="260"/>
                  </a:lnTo>
                  <a:lnTo>
                    <a:pt x="464" y="171"/>
                  </a:lnTo>
                  <a:lnTo>
                    <a:pt x="331" y="0"/>
                  </a:lnTo>
                  <a:lnTo>
                    <a:pt x="437" y="171"/>
                  </a:lnTo>
                  <a:lnTo>
                    <a:pt x="437" y="251"/>
                  </a:lnTo>
                  <a:lnTo>
                    <a:pt x="344" y="321"/>
                  </a:lnTo>
                  <a:lnTo>
                    <a:pt x="380" y="427"/>
                  </a:lnTo>
                  <a:lnTo>
                    <a:pt x="371" y="502"/>
                  </a:lnTo>
                  <a:lnTo>
                    <a:pt x="274" y="710"/>
                  </a:lnTo>
                  <a:lnTo>
                    <a:pt x="265" y="922"/>
                  </a:lnTo>
                  <a:lnTo>
                    <a:pt x="287" y="1121"/>
                  </a:lnTo>
                  <a:lnTo>
                    <a:pt x="353" y="1390"/>
                  </a:lnTo>
                  <a:lnTo>
                    <a:pt x="428" y="1619"/>
                  </a:lnTo>
                  <a:lnTo>
                    <a:pt x="428" y="1796"/>
                  </a:lnTo>
                  <a:lnTo>
                    <a:pt x="380" y="2021"/>
                  </a:lnTo>
                  <a:lnTo>
                    <a:pt x="287" y="2259"/>
                  </a:lnTo>
                  <a:lnTo>
                    <a:pt x="167" y="2127"/>
                  </a:lnTo>
                  <a:lnTo>
                    <a:pt x="119" y="2021"/>
                  </a:lnTo>
                  <a:lnTo>
                    <a:pt x="132" y="1796"/>
                  </a:lnTo>
                  <a:lnTo>
                    <a:pt x="119" y="1570"/>
                  </a:lnTo>
                  <a:lnTo>
                    <a:pt x="57" y="1266"/>
                  </a:lnTo>
                  <a:lnTo>
                    <a:pt x="35" y="1059"/>
                  </a:lnTo>
                  <a:lnTo>
                    <a:pt x="57" y="821"/>
                  </a:lnTo>
                  <a:lnTo>
                    <a:pt x="105" y="596"/>
                  </a:lnTo>
                  <a:lnTo>
                    <a:pt x="216" y="370"/>
                  </a:lnTo>
                  <a:lnTo>
                    <a:pt x="119" y="277"/>
                  </a:lnTo>
                  <a:lnTo>
                    <a:pt x="105" y="114"/>
                  </a:lnTo>
                  <a:lnTo>
                    <a:pt x="202"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7985160" y="574560"/>
              <a:ext cx="289440" cy="406800"/>
            </a:xfrm>
            <a:custGeom>
              <a:avLst/>
              <a:gdLst/>
              <a:ahLst/>
              <a:rect l="0" t="0" r="r" b="b"/>
              <a:pathLst>
                <a:path w="804" h="1130">
                  <a:moveTo>
                    <a:pt x="136" y="287"/>
                  </a:moveTo>
                  <a:lnTo>
                    <a:pt x="252" y="260"/>
                  </a:lnTo>
                  <a:lnTo>
                    <a:pt x="367" y="273"/>
                  </a:lnTo>
                  <a:lnTo>
                    <a:pt x="464" y="322"/>
                  </a:lnTo>
                  <a:lnTo>
                    <a:pt x="512" y="380"/>
                  </a:lnTo>
                  <a:lnTo>
                    <a:pt x="534" y="441"/>
                  </a:lnTo>
                  <a:lnTo>
                    <a:pt x="534" y="494"/>
                  </a:lnTo>
                  <a:lnTo>
                    <a:pt x="512" y="534"/>
                  </a:lnTo>
                  <a:lnTo>
                    <a:pt x="459" y="561"/>
                  </a:lnTo>
                  <a:lnTo>
                    <a:pt x="397" y="565"/>
                  </a:lnTo>
                  <a:lnTo>
                    <a:pt x="327" y="552"/>
                  </a:lnTo>
                  <a:lnTo>
                    <a:pt x="252" y="503"/>
                  </a:lnTo>
                  <a:lnTo>
                    <a:pt x="203" y="459"/>
                  </a:lnTo>
                  <a:lnTo>
                    <a:pt x="180" y="605"/>
                  </a:lnTo>
                  <a:lnTo>
                    <a:pt x="136" y="702"/>
                  </a:lnTo>
                  <a:lnTo>
                    <a:pt x="0" y="945"/>
                  </a:lnTo>
                  <a:lnTo>
                    <a:pt x="194" y="1130"/>
                  </a:lnTo>
                  <a:lnTo>
                    <a:pt x="340" y="825"/>
                  </a:lnTo>
                  <a:lnTo>
                    <a:pt x="512" y="853"/>
                  </a:lnTo>
                  <a:lnTo>
                    <a:pt x="614" y="830"/>
                  </a:lnTo>
                  <a:lnTo>
                    <a:pt x="711" y="759"/>
                  </a:lnTo>
                  <a:lnTo>
                    <a:pt x="773" y="671"/>
                  </a:lnTo>
                  <a:lnTo>
                    <a:pt x="804" y="556"/>
                  </a:lnTo>
                  <a:lnTo>
                    <a:pt x="804" y="433"/>
                  </a:lnTo>
                  <a:lnTo>
                    <a:pt x="773" y="305"/>
                  </a:lnTo>
                  <a:lnTo>
                    <a:pt x="711" y="176"/>
                  </a:lnTo>
                  <a:lnTo>
                    <a:pt x="623" y="74"/>
                  </a:lnTo>
                  <a:lnTo>
                    <a:pt x="525" y="26"/>
                  </a:lnTo>
                  <a:lnTo>
                    <a:pt x="411" y="0"/>
                  </a:lnTo>
                  <a:lnTo>
                    <a:pt x="269" y="0"/>
                  </a:lnTo>
                  <a:lnTo>
                    <a:pt x="105" y="30"/>
                  </a:lnTo>
                  <a:lnTo>
                    <a:pt x="136" y="287"/>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7932600" y="969840"/>
              <a:ext cx="105120" cy="79560"/>
            </a:xfrm>
            <a:custGeom>
              <a:avLst/>
              <a:gdLst/>
              <a:ahLst/>
              <a:rect l="0" t="0" r="r" b="b"/>
              <a:pathLst>
                <a:path w="292" h="221">
                  <a:moveTo>
                    <a:pt x="114" y="0"/>
                  </a:moveTo>
                  <a:lnTo>
                    <a:pt x="39" y="0"/>
                  </a:lnTo>
                  <a:lnTo>
                    <a:pt x="0" y="30"/>
                  </a:lnTo>
                  <a:lnTo>
                    <a:pt x="0" y="111"/>
                  </a:lnTo>
                  <a:lnTo>
                    <a:pt x="57" y="195"/>
                  </a:lnTo>
                  <a:lnTo>
                    <a:pt x="177" y="221"/>
                  </a:lnTo>
                  <a:lnTo>
                    <a:pt x="261" y="217"/>
                  </a:lnTo>
                  <a:lnTo>
                    <a:pt x="292" y="164"/>
                  </a:lnTo>
                  <a:lnTo>
                    <a:pt x="278" y="120"/>
                  </a:lnTo>
                  <a:lnTo>
                    <a:pt x="239" y="52"/>
                  </a:lnTo>
                  <a:lnTo>
                    <a:pt x="164" y="8"/>
                  </a:lnTo>
                  <a:lnTo>
                    <a:pt x="114"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54" name=""/>
          <p:cNvSpPr txBox="1"/>
          <p:nvPr/>
        </p:nvSpPr>
        <p:spPr>
          <a:xfrm>
            <a:off x="1447920" y="457200"/>
            <a:ext cx="6705720" cy="1905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agement’s Responsibility for Ethical Reporting</a:t>
            </a:r>
            <a:endParaRPr b="0" lang="en-US" sz="4400" spc="-1" strike="noStrike">
              <a:solidFill>
                <a:srgbClr val="ffffff"/>
              </a:solidFill>
              <a:latin typeface="Arial"/>
            </a:endParaRPr>
          </a:p>
        </p:txBody>
      </p:sp>
      <p:sp>
        <p:nvSpPr>
          <p:cNvPr id="255" name=""/>
          <p:cNvSpPr txBox="1"/>
          <p:nvPr/>
        </p:nvSpPr>
        <p:spPr>
          <a:xfrm>
            <a:off x="1260360" y="2671920"/>
            <a:ext cx="7478640" cy="261936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OBJECTIVE 4</a:t>
            </a:r>
            <a:endParaRPr b="0" lang="en-US" sz="36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Explain management’s responsibility </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for ethical financial reporting and </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define </a:t>
            </a:r>
            <a:r>
              <a:rPr b="1" i="1" lang="en-US" sz="3200" spc="-1" strike="noStrike">
                <a:solidFill>
                  <a:srgbClr val="fcffd8"/>
                </a:solidFill>
                <a:latin typeface="Arial"/>
                <a:ea typeface="Arial"/>
              </a:rPr>
              <a:t>fraudulent financial reporting</a:t>
            </a:r>
            <a:r>
              <a:rPr b="1" lang="en-US" sz="3200" spc="-1" strike="noStrike">
                <a:solidFill>
                  <a:srgbClr val="fcffd8"/>
                </a:solidFill>
                <a:latin typeface="Arial"/>
                <a:ea typeface="Arial"/>
              </a:rPr>
              <a:t>.</a:t>
            </a:r>
            <a:endParaRPr b="0" lang="en-US" sz="3200" spc="-1" strike="noStrike">
              <a:solidFill>
                <a:srgbClr val="ffffff"/>
              </a:solidFill>
              <a:latin typeface="Arial"/>
            </a:endParaRPr>
          </a:p>
        </p:txBody>
      </p:sp>
      <p:pic>
        <p:nvPicPr>
          <p:cNvPr id="256"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57" name=""/>
          <p:cNvSpPr txBox="1"/>
          <p:nvPr/>
        </p:nvSpPr>
        <p:spPr>
          <a:xfrm>
            <a:off x="1424160" y="380880"/>
            <a:ext cx="703404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raudulent Financial Reporting</a:t>
            </a:r>
            <a:endParaRPr b="0" lang="en-US" sz="4400" spc="-1" strike="noStrike">
              <a:solidFill>
                <a:srgbClr val="ffffff"/>
              </a:solidFill>
              <a:latin typeface="Arial"/>
            </a:endParaRPr>
          </a:p>
        </p:txBody>
      </p:sp>
      <p:sp>
        <p:nvSpPr>
          <p:cNvPr id="258" name=""/>
          <p:cNvSpPr txBox="1"/>
          <p:nvPr/>
        </p:nvSpPr>
        <p:spPr>
          <a:xfrm>
            <a:off x="914400" y="1828800"/>
            <a:ext cx="7848720" cy="41911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Defined: The intentional preparation of misleading financial statement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Can result from:</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Distortion of record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Falsified transaction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he misapplication of accounting princip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59" name=""/>
          <p:cNvSpPr txBox="1"/>
          <p:nvPr/>
        </p:nvSpPr>
        <p:spPr>
          <a:xfrm>
            <a:off x="793800" y="380880"/>
            <a:ext cx="7893000" cy="1875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ossible Motives for Fraudulent Financial Reporting</a:t>
            </a:r>
            <a:endParaRPr b="0" lang="en-US" sz="4400" spc="-1" strike="noStrike">
              <a:solidFill>
                <a:srgbClr val="ffffff"/>
              </a:solidFill>
              <a:latin typeface="Arial"/>
            </a:endParaRPr>
          </a:p>
        </p:txBody>
      </p:sp>
      <p:sp>
        <p:nvSpPr>
          <p:cNvPr id="260" name=""/>
          <p:cNvSpPr txBox="1"/>
          <p:nvPr/>
        </p:nvSpPr>
        <p:spPr>
          <a:xfrm>
            <a:off x="1455840" y="2432160"/>
            <a:ext cx="7010280" cy="35812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o obtain a higher price when a company is sold.</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o meet the expectations of stockholder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o obtain a loan.</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For personal ga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61" name=""/>
          <p:cNvSpPr txBox="1"/>
          <p:nvPr/>
        </p:nvSpPr>
        <p:spPr>
          <a:xfrm>
            <a:off x="820800" y="2016000"/>
            <a:ext cx="8001000" cy="419112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o is responsible for preparing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reliable financial statements, and what i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 principal way of fulfilling th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responsibility?</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Management is responsible for th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eparation of reliable financial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tements. Management fulfills it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responsibility by maintaining a system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f internal controls.</a:t>
            </a:r>
            <a:endParaRPr b="0" lang="en-US" sz="2800" spc="-1" strike="noStrike">
              <a:solidFill>
                <a:srgbClr val="ffffff"/>
              </a:solidFill>
              <a:latin typeface="Arial"/>
            </a:endParaRPr>
          </a:p>
        </p:txBody>
      </p:sp>
      <p:sp>
        <p:nvSpPr>
          <p:cNvPr id="262" name=""/>
          <p:cNvSpPr txBox="1"/>
          <p:nvPr/>
        </p:nvSpPr>
        <p:spPr>
          <a:xfrm>
            <a:off x="1936800" y="785880"/>
            <a:ext cx="56386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263" name=""/>
          <p:cNvGrpSpPr/>
          <p:nvPr/>
        </p:nvGrpSpPr>
        <p:grpSpPr>
          <a:xfrm>
            <a:off x="6931080" y="233280"/>
            <a:ext cx="1916280" cy="1970640"/>
            <a:chOff x="6931080" y="233280"/>
            <a:chExt cx="1916280" cy="1970640"/>
          </a:xfrm>
        </p:grpSpPr>
        <p:sp>
          <p:nvSpPr>
            <p:cNvPr id="264" name=""/>
            <p:cNvSpPr/>
            <p:nvPr/>
          </p:nvSpPr>
          <p:spPr>
            <a:xfrm>
              <a:off x="6935760" y="1200240"/>
              <a:ext cx="465480" cy="689400"/>
            </a:xfrm>
            <a:custGeom>
              <a:avLst/>
              <a:gdLst/>
              <a:ahLst/>
              <a:rect l="0" t="0" r="r" b="b"/>
              <a:pathLst>
                <a:path w="1293" h="1915">
                  <a:moveTo>
                    <a:pt x="515" y="0"/>
                  </a:moveTo>
                  <a:lnTo>
                    <a:pt x="454" y="88"/>
                  </a:lnTo>
                  <a:lnTo>
                    <a:pt x="454" y="330"/>
                  </a:lnTo>
                  <a:lnTo>
                    <a:pt x="515" y="516"/>
                  </a:lnTo>
                  <a:lnTo>
                    <a:pt x="590" y="605"/>
                  </a:lnTo>
                  <a:lnTo>
                    <a:pt x="476" y="733"/>
                  </a:lnTo>
                  <a:lnTo>
                    <a:pt x="321" y="1006"/>
                  </a:lnTo>
                  <a:lnTo>
                    <a:pt x="26" y="1448"/>
                  </a:lnTo>
                  <a:lnTo>
                    <a:pt x="0" y="1554"/>
                  </a:lnTo>
                  <a:lnTo>
                    <a:pt x="26" y="1642"/>
                  </a:lnTo>
                  <a:lnTo>
                    <a:pt x="114" y="1642"/>
                  </a:lnTo>
                  <a:lnTo>
                    <a:pt x="194" y="1540"/>
                  </a:lnTo>
                  <a:lnTo>
                    <a:pt x="321" y="1288"/>
                  </a:lnTo>
                  <a:lnTo>
                    <a:pt x="401" y="1182"/>
                  </a:lnTo>
                  <a:lnTo>
                    <a:pt x="454" y="1345"/>
                  </a:lnTo>
                  <a:lnTo>
                    <a:pt x="418" y="1527"/>
                  </a:lnTo>
                  <a:lnTo>
                    <a:pt x="286" y="1779"/>
                  </a:lnTo>
                  <a:lnTo>
                    <a:pt x="321" y="1832"/>
                  </a:lnTo>
                  <a:lnTo>
                    <a:pt x="401" y="1814"/>
                  </a:lnTo>
                  <a:lnTo>
                    <a:pt x="560" y="1690"/>
                  </a:lnTo>
                  <a:lnTo>
                    <a:pt x="684" y="1461"/>
                  </a:lnTo>
                  <a:lnTo>
                    <a:pt x="684" y="1858"/>
                  </a:lnTo>
                  <a:lnTo>
                    <a:pt x="838" y="1915"/>
                  </a:lnTo>
                  <a:lnTo>
                    <a:pt x="931" y="1673"/>
                  </a:lnTo>
                  <a:lnTo>
                    <a:pt x="1019" y="1898"/>
                  </a:lnTo>
                  <a:lnTo>
                    <a:pt x="1072" y="1832"/>
                  </a:lnTo>
                  <a:lnTo>
                    <a:pt x="1107" y="1394"/>
                  </a:lnTo>
                  <a:lnTo>
                    <a:pt x="1293" y="971"/>
                  </a:lnTo>
                  <a:lnTo>
                    <a:pt x="1248" y="733"/>
                  </a:lnTo>
                  <a:lnTo>
                    <a:pt x="1116" y="636"/>
                  </a:lnTo>
                  <a:lnTo>
                    <a:pt x="979" y="653"/>
                  </a:lnTo>
                  <a:lnTo>
                    <a:pt x="931" y="449"/>
                  </a:lnTo>
                  <a:lnTo>
                    <a:pt x="794" y="410"/>
                  </a:lnTo>
                  <a:lnTo>
                    <a:pt x="666" y="348"/>
                  </a:lnTo>
                  <a:lnTo>
                    <a:pt x="590" y="44"/>
                  </a:lnTo>
                  <a:lnTo>
                    <a:pt x="51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329600" y="1477800"/>
              <a:ext cx="135360" cy="333720"/>
            </a:xfrm>
            <a:custGeom>
              <a:avLst/>
              <a:gdLst/>
              <a:ahLst/>
              <a:rect l="0" t="0" r="r" b="b"/>
              <a:pathLst>
                <a:path w="376" h="927">
                  <a:moveTo>
                    <a:pt x="186" y="0"/>
                  </a:moveTo>
                  <a:lnTo>
                    <a:pt x="376" y="242"/>
                  </a:lnTo>
                  <a:lnTo>
                    <a:pt x="288" y="763"/>
                  </a:lnTo>
                  <a:lnTo>
                    <a:pt x="0" y="927"/>
                  </a:lnTo>
                  <a:lnTo>
                    <a:pt x="0" y="662"/>
                  </a:lnTo>
                  <a:lnTo>
                    <a:pt x="120" y="392"/>
                  </a:lnTo>
                  <a:lnTo>
                    <a:pt x="186" y="194"/>
                  </a:lnTo>
                  <a:lnTo>
                    <a:pt x="186"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8218440" y="1287360"/>
              <a:ext cx="341640" cy="302040"/>
            </a:xfrm>
            <a:custGeom>
              <a:avLst/>
              <a:gdLst/>
              <a:ahLst/>
              <a:rect l="0" t="0" r="r" b="b"/>
              <a:pathLst>
                <a:path w="949" h="839">
                  <a:moveTo>
                    <a:pt x="392" y="0"/>
                  </a:moveTo>
                  <a:lnTo>
                    <a:pt x="392" y="136"/>
                  </a:lnTo>
                  <a:lnTo>
                    <a:pt x="423" y="256"/>
                  </a:lnTo>
                  <a:lnTo>
                    <a:pt x="609" y="455"/>
                  </a:lnTo>
                  <a:lnTo>
                    <a:pt x="949" y="565"/>
                  </a:lnTo>
                  <a:lnTo>
                    <a:pt x="904" y="822"/>
                  </a:lnTo>
                  <a:lnTo>
                    <a:pt x="609" y="839"/>
                  </a:lnTo>
                  <a:lnTo>
                    <a:pt x="185" y="659"/>
                  </a:lnTo>
                  <a:lnTo>
                    <a:pt x="0" y="336"/>
                  </a:lnTo>
                  <a:lnTo>
                    <a:pt x="211" y="17"/>
                  </a:lnTo>
                  <a:lnTo>
                    <a:pt x="39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8356680" y="946080"/>
              <a:ext cx="478080" cy="665640"/>
            </a:xfrm>
            <a:custGeom>
              <a:avLst/>
              <a:gdLst/>
              <a:ahLst/>
              <a:rect l="0" t="0" r="r" b="b"/>
              <a:pathLst>
                <a:path w="1328" h="1849">
                  <a:moveTo>
                    <a:pt x="114" y="785"/>
                  </a:moveTo>
                  <a:lnTo>
                    <a:pt x="0" y="918"/>
                  </a:lnTo>
                  <a:lnTo>
                    <a:pt x="26" y="1218"/>
                  </a:lnTo>
                  <a:lnTo>
                    <a:pt x="211" y="1359"/>
                  </a:lnTo>
                  <a:lnTo>
                    <a:pt x="229" y="1818"/>
                  </a:lnTo>
                  <a:lnTo>
                    <a:pt x="410" y="1818"/>
                  </a:lnTo>
                  <a:lnTo>
                    <a:pt x="401" y="1426"/>
                  </a:lnTo>
                  <a:lnTo>
                    <a:pt x="537" y="1832"/>
                  </a:lnTo>
                  <a:lnTo>
                    <a:pt x="630" y="1849"/>
                  </a:lnTo>
                  <a:lnTo>
                    <a:pt x="697" y="1712"/>
                  </a:lnTo>
                  <a:lnTo>
                    <a:pt x="710" y="1461"/>
                  </a:lnTo>
                  <a:lnTo>
                    <a:pt x="918" y="1695"/>
                  </a:lnTo>
                  <a:lnTo>
                    <a:pt x="1002" y="1682"/>
                  </a:lnTo>
                  <a:lnTo>
                    <a:pt x="975" y="1518"/>
                  </a:lnTo>
                  <a:lnTo>
                    <a:pt x="896" y="1279"/>
                  </a:lnTo>
                  <a:lnTo>
                    <a:pt x="816" y="1125"/>
                  </a:lnTo>
                  <a:lnTo>
                    <a:pt x="852" y="1028"/>
                  </a:lnTo>
                  <a:lnTo>
                    <a:pt x="896" y="1041"/>
                  </a:lnTo>
                  <a:lnTo>
                    <a:pt x="1085" y="1279"/>
                  </a:lnTo>
                  <a:lnTo>
                    <a:pt x="1284" y="1341"/>
                  </a:lnTo>
                  <a:lnTo>
                    <a:pt x="1328" y="1262"/>
                  </a:lnTo>
                  <a:lnTo>
                    <a:pt x="1297" y="1138"/>
                  </a:lnTo>
                  <a:lnTo>
                    <a:pt x="927" y="768"/>
                  </a:lnTo>
                  <a:lnTo>
                    <a:pt x="630" y="653"/>
                  </a:lnTo>
                  <a:lnTo>
                    <a:pt x="599" y="445"/>
                  </a:lnTo>
                  <a:lnTo>
                    <a:pt x="697" y="255"/>
                  </a:lnTo>
                  <a:lnTo>
                    <a:pt x="697" y="57"/>
                  </a:lnTo>
                  <a:lnTo>
                    <a:pt x="612" y="0"/>
                  </a:lnTo>
                  <a:lnTo>
                    <a:pt x="401" y="499"/>
                  </a:lnTo>
                  <a:lnTo>
                    <a:pt x="211" y="578"/>
                  </a:lnTo>
                  <a:lnTo>
                    <a:pt x="163" y="715"/>
                  </a:lnTo>
                  <a:lnTo>
                    <a:pt x="114" y="78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7569360" y="372960"/>
              <a:ext cx="525960" cy="846360"/>
            </a:xfrm>
            <a:custGeom>
              <a:avLst/>
              <a:gdLst/>
              <a:ahLst/>
              <a:rect l="0" t="0" r="r" b="b"/>
              <a:pathLst>
                <a:path w="1461" h="2351">
                  <a:moveTo>
                    <a:pt x="367" y="326"/>
                  </a:moveTo>
                  <a:lnTo>
                    <a:pt x="260" y="776"/>
                  </a:lnTo>
                  <a:lnTo>
                    <a:pt x="13" y="868"/>
                  </a:lnTo>
                  <a:lnTo>
                    <a:pt x="79" y="1005"/>
                  </a:lnTo>
                  <a:lnTo>
                    <a:pt x="0" y="1098"/>
                  </a:lnTo>
                  <a:lnTo>
                    <a:pt x="0" y="1262"/>
                  </a:lnTo>
                  <a:lnTo>
                    <a:pt x="119" y="1407"/>
                  </a:lnTo>
                  <a:lnTo>
                    <a:pt x="229" y="1407"/>
                  </a:lnTo>
                  <a:lnTo>
                    <a:pt x="304" y="1928"/>
                  </a:lnTo>
                  <a:lnTo>
                    <a:pt x="397" y="2161"/>
                  </a:lnTo>
                  <a:lnTo>
                    <a:pt x="697" y="2351"/>
                  </a:lnTo>
                  <a:lnTo>
                    <a:pt x="993" y="2324"/>
                  </a:lnTo>
                  <a:lnTo>
                    <a:pt x="1139" y="1928"/>
                  </a:lnTo>
                  <a:lnTo>
                    <a:pt x="1166" y="1341"/>
                  </a:lnTo>
                  <a:lnTo>
                    <a:pt x="1461" y="1045"/>
                  </a:lnTo>
                  <a:lnTo>
                    <a:pt x="1443" y="926"/>
                  </a:lnTo>
                  <a:lnTo>
                    <a:pt x="1417" y="868"/>
                  </a:lnTo>
                  <a:lnTo>
                    <a:pt x="1263" y="851"/>
                  </a:lnTo>
                  <a:lnTo>
                    <a:pt x="1307" y="701"/>
                  </a:lnTo>
                  <a:lnTo>
                    <a:pt x="1152" y="595"/>
                  </a:lnTo>
                  <a:lnTo>
                    <a:pt x="1085" y="255"/>
                  </a:lnTo>
                  <a:lnTo>
                    <a:pt x="636" y="0"/>
                  </a:lnTo>
                  <a:lnTo>
                    <a:pt x="397" y="242"/>
                  </a:lnTo>
                  <a:lnTo>
                    <a:pt x="367" y="32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7607160" y="1081080"/>
              <a:ext cx="479880" cy="1008360"/>
            </a:xfrm>
            <a:custGeom>
              <a:avLst/>
              <a:gdLst/>
              <a:ahLst/>
              <a:rect l="0" t="0" r="r" b="b"/>
              <a:pathLst>
                <a:path w="1333" h="2801">
                  <a:moveTo>
                    <a:pt x="273" y="145"/>
                  </a:moveTo>
                  <a:lnTo>
                    <a:pt x="464" y="282"/>
                  </a:lnTo>
                  <a:lnTo>
                    <a:pt x="561" y="432"/>
                  </a:lnTo>
                  <a:lnTo>
                    <a:pt x="1091" y="0"/>
                  </a:lnTo>
                  <a:lnTo>
                    <a:pt x="1258" y="88"/>
                  </a:lnTo>
                  <a:lnTo>
                    <a:pt x="1333" y="529"/>
                  </a:lnTo>
                  <a:lnTo>
                    <a:pt x="944" y="1817"/>
                  </a:lnTo>
                  <a:lnTo>
                    <a:pt x="1069" y="2532"/>
                  </a:lnTo>
                  <a:lnTo>
                    <a:pt x="569" y="2801"/>
                  </a:lnTo>
                  <a:lnTo>
                    <a:pt x="176" y="2646"/>
                  </a:lnTo>
                  <a:lnTo>
                    <a:pt x="176" y="1892"/>
                  </a:lnTo>
                  <a:lnTo>
                    <a:pt x="0" y="1159"/>
                  </a:lnTo>
                  <a:lnTo>
                    <a:pt x="176" y="282"/>
                  </a:lnTo>
                  <a:lnTo>
                    <a:pt x="273" y="145"/>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628040" y="260280"/>
              <a:ext cx="446400" cy="268560"/>
            </a:xfrm>
            <a:custGeom>
              <a:avLst/>
              <a:gdLst/>
              <a:ahLst/>
              <a:rect l="0" t="0" r="r" b="b"/>
              <a:pathLst>
                <a:path w="1240" h="746">
                  <a:moveTo>
                    <a:pt x="154" y="715"/>
                  </a:moveTo>
                  <a:lnTo>
                    <a:pt x="330" y="508"/>
                  </a:lnTo>
                  <a:lnTo>
                    <a:pt x="449" y="481"/>
                  </a:lnTo>
                  <a:lnTo>
                    <a:pt x="449" y="499"/>
                  </a:lnTo>
                  <a:lnTo>
                    <a:pt x="511" y="481"/>
                  </a:lnTo>
                  <a:lnTo>
                    <a:pt x="590" y="547"/>
                  </a:lnTo>
                  <a:lnTo>
                    <a:pt x="728" y="574"/>
                  </a:lnTo>
                  <a:lnTo>
                    <a:pt x="847" y="746"/>
                  </a:lnTo>
                  <a:lnTo>
                    <a:pt x="1041" y="666"/>
                  </a:lnTo>
                  <a:lnTo>
                    <a:pt x="1041" y="587"/>
                  </a:lnTo>
                  <a:lnTo>
                    <a:pt x="1240" y="499"/>
                  </a:lnTo>
                  <a:lnTo>
                    <a:pt x="1178" y="357"/>
                  </a:lnTo>
                  <a:lnTo>
                    <a:pt x="997" y="343"/>
                  </a:lnTo>
                  <a:lnTo>
                    <a:pt x="1028" y="194"/>
                  </a:lnTo>
                  <a:lnTo>
                    <a:pt x="869" y="211"/>
                  </a:lnTo>
                  <a:lnTo>
                    <a:pt x="843" y="105"/>
                  </a:lnTo>
                  <a:lnTo>
                    <a:pt x="728" y="105"/>
                  </a:lnTo>
                  <a:lnTo>
                    <a:pt x="653" y="163"/>
                  </a:lnTo>
                  <a:lnTo>
                    <a:pt x="590" y="163"/>
                  </a:lnTo>
                  <a:lnTo>
                    <a:pt x="604" y="0"/>
                  </a:lnTo>
                  <a:lnTo>
                    <a:pt x="449" y="79"/>
                  </a:lnTo>
                  <a:lnTo>
                    <a:pt x="242" y="343"/>
                  </a:lnTo>
                  <a:lnTo>
                    <a:pt x="233" y="163"/>
                  </a:lnTo>
                  <a:lnTo>
                    <a:pt x="123" y="255"/>
                  </a:lnTo>
                  <a:lnTo>
                    <a:pt x="92" y="481"/>
                  </a:lnTo>
                  <a:lnTo>
                    <a:pt x="0" y="441"/>
                  </a:lnTo>
                  <a:lnTo>
                    <a:pt x="13" y="587"/>
                  </a:lnTo>
                  <a:lnTo>
                    <a:pt x="154" y="715"/>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7750080" y="1266840"/>
              <a:ext cx="143280" cy="765360"/>
            </a:xfrm>
            <a:custGeom>
              <a:avLst/>
              <a:gdLst/>
              <a:ahLst/>
              <a:rect l="0" t="0" r="r" b="b"/>
              <a:pathLst>
                <a:path w="398" h="2126">
                  <a:moveTo>
                    <a:pt x="199" y="8"/>
                  </a:moveTo>
                  <a:lnTo>
                    <a:pt x="70" y="105"/>
                  </a:lnTo>
                  <a:lnTo>
                    <a:pt x="70" y="282"/>
                  </a:lnTo>
                  <a:lnTo>
                    <a:pt x="164" y="343"/>
                  </a:lnTo>
                  <a:lnTo>
                    <a:pt x="35" y="626"/>
                  </a:lnTo>
                  <a:lnTo>
                    <a:pt x="0" y="1001"/>
                  </a:lnTo>
                  <a:lnTo>
                    <a:pt x="97" y="1491"/>
                  </a:lnTo>
                  <a:lnTo>
                    <a:pt x="97" y="1694"/>
                  </a:lnTo>
                  <a:lnTo>
                    <a:pt x="48" y="1853"/>
                  </a:lnTo>
                  <a:lnTo>
                    <a:pt x="252" y="2126"/>
                  </a:lnTo>
                  <a:lnTo>
                    <a:pt x="385" y="1711"/>
                  </a:lnTo>
                  <a:lnTo>
                    <a:pt x="385" y="1429"/>
                  </a:lnTo>
                  <a:lnTo>
                    <a:pt x="278" y="1165"/>
                  </a:lnTo>
                  <a:lnTo>
                    <a:pt x="239" y="802"/>
                  </a:lnTo>
                  <a:lnTo>
                    <a:pt x="337" y="454"/>
                  </a:lnTo>
                  <a:lnTo>
                    <a:pt x="306" y="317"/>
                  </a:lnTo>
                  <a:lnTo>
                    <a:pt x="398" y="238"/>
                  </a:lnTo>
                  <a:lnTo>
                    <a:pt x="385" y="145"/>
                  </a:lnTo>
                  <a:lnTo>
                    <a:pt x="269" y="0"/>
                  </a:lnTo>
                  <a:lnTo>
                    <a:pt x="199"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7742160" y="1009800"/>
              <a:ext cx="114840" cy="71640"/>
            </a:xfrm>
            <a:custGeom>
              <a:avLst/>
              <a:gdLst/>
              <a:ahLst/>
              <a:rect l="0" t="0" r="r" b="b"/>
              <a:pathLst>
                <a:path w="319" h="199">
                  <a:moveTo>
                    <a:pt x="0" y="61"/>
                  </a:moveTo>
                  <a:lnTo>
                    <a:pt x="128" y="199"/>
                  </a:lnTo>
                  <a:lnTo>
                    <a:pt x="253" y="181"/>
                  </a:lnTo>
                  <a:lnTo>
                    <a:pt x="319" y="17"/>
                  </a:lnTo>
                  <a:lnTo>
                    <a:pt x="177" y="0"/>
                  </a:lnTo>
                  <a:lnTo>
                    <a:pt x="35" y="17"/>
                  </a:lnTo>
                  <a:lnTo>
                    <a:pt x="0" y="61"/>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273" name=""/>
            <p:cNvSpPr/>
            <p:nvPr/>
          </p:nvSpPr>
          <p:spPr>
            <a:xfrm>
              <a:off x="7618320" y="657360"/>
              <a:ext cx="143280" cy="149760"/>
            </a:xfrm>
            <a:custGeom>
              <a:avLst/>
              <a:gdLst/>
              <a:ahLst/>
              <a:rect l="0" t="0" r="r" b="b"/>
              <a:pathLst>
                <a:path w="398" h="416">
                  <a:moveTo>
                    <a:pt x="0" y="48"/>
                  </a:moveTo>
                  <a:lnTo>
                    <a:pt x="274" y="416"/>
                  </a:lnTo>
                  <a:lnTo>
                    <a:pt x="398" y="390"/>
                  </a:lnTo>
                  <a:lnTo>
                    <a:pt x="111"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7870680" y="627120"/>
              <a:ext cx="122760" cy="146520"/>
            </a:xfrm>
            <a:custGeom>
              <a:avLst/>
              <a:gdLst/>
              <a:ahLst/>
              <a:rect l="0" t="0" r="r" b="b"/>
              <a:pathLst>
                <a:path w="341" h="407">
                  <a:moveTo>
                    <a:pt x="0" y="57"/>
                  </a:moveTo>
                  <a:lnTo>
                    <a:pt x="239" y="407"/>
                  </a:lnTo>
                  <a:lnTo>
                    <a:pt x="341" y="319"/>
                  </a:lnTo>
                  <a:lnTo>
                    <a:pt x="93"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7566120" y="431640"/>
              <a:ext cx="500400" cy="375120"/>
            </a:xfrm>
            <a:custGeom>
              <a:avLst/>
              <a:gdLst/>
              <a:ahLst/>
              <a:rect l="0" t="0" r="r" b="b"/>
              <a:pathLst>
                <a:path w="1390" h="1042">
                  <a:moveTo>
                    <a:pt x="639" y="613"/>
                  </a:moveTo>
                  <a:lnTo>
                    <a:pt x="511" y="578"/>
                  </a:lnTo>
                  <a:lnTo>
                    <a:pt x="621" y="486"/>
                  </a:lnTo>
                  <a:lnTo>
                    <a:pt x="586" y="437"/>
                  </a:lnTo>
                  <a:lnTo>
                    <a:pt x="436" y="561"/>
                  </a:lnTo>
                  <a:lnTo>
                    <a:pt x="171" y="587"/>
                  </a:lnTo>
                  <a:lnTo>
                    <a:pt x="0" y="600"/>
                  </a:lnTo>
                  <a:lnTo>
                    <a:pt x="0" y="741"/>
                  </a:lnTo>
                  <a:lnTo>
                    <a:pt x="167" y="1038"/>
                  </a:lnTo>
                  <a:lnTo>
                    <a:pt x="207" y="1042"/>
                  </a:lnTo>
                  <a:lnTo>
                    <a:pt x="57" y="719"/>
                  </a:lnTo>
                  <a:lnTo>
                    <a:pt x="286" y="613"/>
                  </a:lnTo>
                  <a:lnTo>
                    <a:pt x="436" y="613"/>
                  </a:lnTo>
                  <a:lnTo>
                    <a:pt x="551" y="684"/>
                  </a:lnTo>
                  <a:lnTo>
                    <a:pt x="586" y="768"/>
                  </a:lnTo>
                  <a:lnTo>
                    <a:pt x="586" y="967"/>
                  </a:lnTo>
                  <a:lnTo>
                    <a:pt x="586" y="1038"/>
                  </a:lnTo>
                  <a:lnTo>
                    <a:pt x="643" y="941"/>
                  </a:lnTo>
                  <a:lnTo>
                    <a:pt x="643" y="733"/>
                  </a:lnTo>
                  <a:lnTo>
                    <a:pt x="746" y="733"/>
                  </a:lnTo>
                  <a:lnTo>
                    <a:pt x="794" y="967"/>
                  </a:lnTo>
                  <a:lnTo>
                    <a:pt x="847" y="994"/>
                  </a:lnTo>
                  <a:lnTo>
                    <a:pt x="1010" y="994"/>
                  </a:lnTo>
                  <a:lnTo>
                    <a:pt x="1187" y="945"/>
                  </a:lnTo>
                  <a:lnTo>
                    <a:pt x="1306" y="861"/>
                  </a:lnTo>
                  <a:lnTo>
                    <a:pt x="1323" y="644"/>
                  </a:lnTo>
                  <a:lnTo>
                    <a:pt x="1390" y="561"/>
                  </a:lnTo>
                  <a:lnTo>
                    <a:pt x="1350" y="503"/>
                  </a:lnTo>
                  <a:lnTo>
                    <a:pt x="1196" y="446"/>
                  </a:lnTo>
                  <a:lnTo>
                    <a:pt x="1169" y="238"/>
                  </a:lnTo>
                  <a:lnTo>
                    <a:pt x="1028" y="238"/>
                  </a:lnTo>
                  <a:lnTo>
                    <a:pt x="852" y="0"/>
                  </a:lnTo>
                  <a:lnTo>
                    <a:pt x="1010" y="255"/>
                  </a:lnTo>
                  <a:lnTo>
                    <a:pt x="1063" y="255"/>
                  </a:lnTo>
                  <a:lnTo>
                    <a:pt x="1099" y="437"/>
                  </a:lnTo>
                  <a:lnTo>
                    <a:pt x="900" y="503"/>
                  </a:lnTo>
                  <a:lnTo>
                    <a:pt x="755" y="450"/>
                  </a:lnTo>
                  <a:lnTo>
                    <a:pt x="741" y="503"/>
                  </a:lnTo>
                  <a:lnTo>
                    <a:pt x="807" y="561"/>
                  </a:lnTo>
                  <a:lnTo>
                    <a:pt x="807" y="609"/>
                  </a:lnTo>
                  <a:lnTo>
                    <a:pt x="979" y="530"/>
                  </a:lnTo>
                  <a:lnTo>
                    <a:pt x="1116" y="516"/>
                  </a:lnTo>
                  <a:lnTo>
                    <a:pt x="1275" y="543"/>
                  </a:lnTo>
                  <a:lnTo>
                    <a:pt x="1275" y="569"/>
                  </a:lnTo>
                  <a:lnTo>
                    <a:pt x="1196" y="636"/>
                  </a:lnTo>
                  <a:lnTo>
                    <a:pt x="1169" y="733"/>
                  </a:lnTo>
                  <a:lnTo>
                    <a:pt x="1165" y="861"/>
                  </a:lnTo>
                  <a:lnTo>
                    <a:pt x="1072" y="910"/>
                  </a:lnTo>
                  <a:lnTo>
                    <a:pt x="940" y="928"/>
                  </a:lnTo>
                  <a:lnTo>
                    <a:pt x="847" y="928"/>
                  </a:lnTo>
                  <a:lnTo>
                    <a:pt x="807" y="888"/>
                  </a:lnTo>
                  <a:lnTo>
                    <a:pt x="794" y="644"/>
                  </a:lnTo>
                  <a:lnTo>
                    <a:pt x="643" y="644"/>
                  </a:lnTo>
                  <a:lnTo>
                    <a:pt x="639" y="6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6" name=""/>
            <p:cNvSpPr/>
            <p:nvPr/>
          </p:nvSpPr>
          <p:spPr>
            <a:xfrm>
              <a:off x="7737480" y="865080"/>
              <a:ext cx="162360" cy="74880"/>
            </a:xfrm>
            <a:custGeom>
              <a:avLst/>
              <a:gdLst/>
              <a:ahLst/>
              <a:rect l="0" t="0" r="r" b="b"/>
              <a:pathLst>
                <a:path w="451" h="208">
                  <a:moveTo>
                    <a:pt x="0" y="0"/>
                  </a:moveTo>
                  <a:lnTo>
                    <a:pt x="74" y="97"/>
                  </a:lnTo>
                  <a:lnTo>
                    <a:pt x="261" y="97"/>
                  </a:lnTo>
                  <a:lnTo>
                    <a:pt x="345" y="26"/>
                  </a:lnTo>
                  <a:lnTo>
                    <a:pt x="451" y="26"/>
                  </a:lnTo>
                  <a:lnTo>
                    <a:pt x="438" y="57"/>
                  </a:lnTo>
                  <a:lnTo>
                    <a:pt x="438" y="97"/>
                  </a:lnTo>
                  <a:lnTo>
                    <a:pt x="247" y="208"/>
                  </a:lnTo>
                  <a:lnTo>
                    <a:pt x="150" y="208"/>
                  </a:lnTo>
                  <a:lnTo>
                    <a:pt x="92" y="168"/>
                  </a:lnTo>
                  <a:lnTo>
                    <a:pt x="35" y="168"/>
                  </a:lnTo>
                  <a:lnTo>
                    <a:pt x="0"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277" name=""/>
            <p:cNvSpPr/>
            <p:nvPr/>
          </p:nvSpPr>
          <p:spPr>
            <a:xfrm>
              <a:off x="7556400" y="743040"/>
              <a:ext cx="243360" cy="402120"/>
            </a:xfrm>
            <a:custGeom>
              <a:avLst/>
              <a:gdLst/>
              <a:ahLst/>
              <a:rect l="0" t="0" r="r" b="b"/>
              <a:pathLst>
                <a:path w="676" h="1117">
                  <a:moveTo>
                    <a:pt x="676" y="83"/>
                  </a:moveTo>
                  <a:lnTo>
                    <a:pt x="676" y="101"/>
                  </a:lnTo>
                  <a:lnTo>
                    <a:pt x="562" y="211"/>
                  </a:lnTo>
                  <a:lnTo>
                    <a:pt x="455" y="229"/>
                  </a:lnTo>
                  <a:lnTo>
                    <a:pt x="269" y="198"/>
                  </a:lnTo>
                  <a:lnTo>
                    <a:pt x="309" y="605"/>
                  </a:lnTo>
                  <a:lnTo>
                    <a:pt x="349" y="936"/>
                  </a:lnTo>
                  <a:lnTo>
                    <a:pt x="428" y="1117"/>
                  </a:lnTo>
                  <a:lnTo>
                    <a:pt x="349" y="985"/>
                  </a:lnTo>
                  <a:lnTo>
                    <a:pt x="318" y="848"/>
                  </a:lnTo>
                  <a:lnTo>
                    <a:pt x="265" y="472"/>
                  </a:lnTo>
                  <a:lnTo>
                    <a:pt x="203" y="494"/>
                  </a:lnTo>
                  <a:lnTo>
                    <a:pt x="145" y="455"/>
                  </a:lnTo>
                  <a:lnTo>
                    <a:pt x="13" y="251"/>
                  </a:lnTo>
                  <a:lnTo>
                    <a:pt x="0" y="141"/>
                  </a:lnTo>
                  <a:lnTo>
                    <a:pt x="0" y="61"/>
                  </a:lnTo>
                  <a:lnTo>
                    <a:pt x="30" y="22"/>
                  </a:lnTo>
                  <a:lnTo>
                    <a:pt x="105" y="0"/>
                  </a:lnTo>
                  <a:lnTo>
                    <a:pt x="114" y="26"/>
                  </a:lnTo>
                  <a:lnTo>
                    <a:pt x="52" y="48"/>
                  </a:lnTo>
                  <a:lnTo>
                    <a:pt x="35" y="136"/>
                  </a:lnTo>
                  <a:lnTo>
                    <a:pt x="48" y="238"/>
                  </a:lnTo>
                  <a:lnTo>
                    <a:pt x="132" y="331"/>
                  </a:lnTo>
                  <a:lnTo>
                    <a:pt x="172" y="309"/>
                  </a:lnTo>
                  <a:lnTo>
                    <a:pt x="172" y="110"/>
                  </a:lnTo>
                  <a:lnTo>
                    <a:pt x="256" y="154"/>
                  </a:lnTo>
                  <a:lnTo>
                    <a:pt x="375" y="180"/>
                  </a:lnTo>
                  <a:lnTo>
                    <a:pt x="490" y="171"/>
                  </a:lnTo>
                  <a:lnTo>
                    <a:pt x="601" y="110"/>
                  </a:lnTo>
                  <a:lnTo>
                    <a:pt x="676" y="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8" name=""/>
            <p:cNvSpPr/>
            <p:nvPr/>
          </p:nvSpPr>
          <p:spPr>
            <a:xfrm>
              <a:off x="7623000" y="420840"/>
              <a:ext cx="73440" cy="216360"/>
            </a:xfrm>
            <a:custGeom>
              <a:avLst/>
              <a:gdLst/>
              <a:ahLst/>
              <a:rect l="0" t="0" r="r" b="b"/>
              <a:pathLst>
                <a:path w="204" h="601">
                  <a:moveTo>
                    <a:pt x="98" y="601"/>
                  </a:moveTo>
                  <a:lnTo>
                    <a:pt x="204" y="247"/>
                  </a:lnTo>
                  <a:lnTo>
                    <a:pt x="26" y="119"/>
                  </a:lnTo>
                  <a:lnTo>
                    <a:pt x="0" y="0"/>
                  </a:lnTo>
                  <a:lnTo>
                    <a:pt x="13" y="145"/>
                  </a:lnTo>
                  <a:lnTo>
                    <a:pt x="75" y="203"/>
                  </a:lnTo>
                  <a:lnTo>
                    <a:pt x="80" y="384"/>
                  </a:lnTo>
                  <a:lnTo>
                    <a:pt x="124" y="460"/>
                  </a:lnTo>
                  <a:lnTo>
                    <a:pt x="98" y="6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9" name=""/>
            <p:cNvSpPr/>
            <p:nvPr/>
          </p:nvSpPr>
          <p:spPr>
            <a:xfrm>
              <a:off x="7621560" y="233280"/>
              <a:ext cx="546480" cy="282960"/>
            </a:xfrm>
            <a:custGeom>
              <a:avLst/>
              <a:gdLst/>
              <a:ahLst/>
              <a:rect l="0" t="0" r="r" b="b"/>
              <a:pathLst>
                <a:path w="1518" h="786">
                  <a:moveTo>
                    <a:pt x="13" y="534"/>
                  </a:moveTo>
                  <a:lnTo>
                    <a:pt x="145" y="610"/>
                  </a:lnTo>
                  <a:lnTo>
                    <a:pt x="127" y="512"/>
                  </a:lnTo>
                  <a:lnTo>
                    <a:pt x="158" y="331"/>
                  </a:lnTo>
                  <a:lnTo>
                    <a:pt x="242" y="296"/>
                  </a:lnTo>
                  <a:lnTo>
                    <a:pt x="251" y="486"/>
                  </a:lnTo>
                  <a:lnTo>
                    <a:pt x="508" y="154"/>
                  </a:lnTo>
                  <a:lnTo>
                    <a:pt x="569" y="132"/>
                  </a:lnTo>
                  <a:lnTo>
                    <a:pt x="525" y="265"/>
                  </a:lnTo>
                  <a:lnTo>
                    <a:pt x="684" y="327"/>
                  </a:lnTo>
                  <a:lnTo>
                    <a:pt x="799" y="194"/>
                  </a:lnTo>
                  <a:lnTo>
                    <a:pt x="865" y="234"/>
                  </a:lnTo>
                  <a:lnTo>
                    <a:pt x="803" y="349"/>
                  </a:lnTo>
                  <a:lnTo>
                    <a:pt x="882" y="283"/>
                  </a:lnTo>
                  <a:lnTo>
                    <a:pt x="993" y="331"/>
                  </a:lnTo>
                  <a:lnTo>
                    <a:pt x="904" y="428"/>
                  </a:lnTo>
                  <a:lnTo>
                    <a:pt x="1214" y="486"/>
                  </a:lnTo>
                  <a:lnTo>
                    <a:pt x="1010" y="556"/>
                  </a:lnTo>
                  <a:lnTo>
                    <a:pt x="1272" y="597"/>
                  </a:lnTo>
                  <a:lnTo>
                    <a:pt x="957" y="672"/>
                  </a:lnTo>
                  <a:lnTo>
                    <a:pt x="1028" y="729"/>
                  </a:lnTo>
                  <a:lnTo>
                    <a:pt x="935" y="786"/>
                  </a:lnTo>
                  <a:lnTo>
                    <a:pt x="1094" y="786"/>
                  </a:lnTo>
                  <a:lnTo>
                    <a:pt x="1076" y="742"/>
                  </a:lnTo>
                  <a:lnTo>
                    <a:pt x="1245" y="782"/>
                  </a:lnTo>
                  <a:lnTo>
                    <a:pt x="1214" y="654"/>
                  </a:lnTo>
                  <a:lnTo>
                    <a:pt x="1369" y="601"/>
                  </a:lnTo>
                  <a:lnTo>
                    <a:pt x="1258" y="538"/>
                  </a:lnTo>
                  <a:lnTo>
                    <a:pt x="1518" y="521"/>
                  </a:lnTo>
                  <a:lnTo>
                    <a:pt x="1294" y="402"/>
                  </a:lnTo>
                  <a:lnTo>
                    <a:pt x="1041" y="362"/>
                  </a:lnTo>
                  <a:lnTo>
                    <a:pt x="1245" y="243"/>
                  </a:lnTo>
                  <a:lnTo>
                    <a:pt x="882" y="243"/>
                  </a:lnTo>
                  <a:lnTo>
                    <a:pt x="1050" y="119"/>
                  </a:lnTo>
                  <a:lnTo>
                    <a:pt x="794" y="154"/>
                  </a:lnTo>
                  <a:lnTo>
                    <a:pt x="666" y="212"/>
                  </a:lnTo>
                  <a:lnTo>
                    <a:pt x="777" y="0"/>
                  </a:lnTo>
                  <a:lnTo>
                    <a:pt x="464" y="119"/>
                  </a:lnTo>
                  <a:lnTo>
                    <a:pt x="277" y="375"/>
                  </a:lnTo>
                  <a:lnTo>
                    <a:pt x="251" y="234"/>
                  </a:lnTo>
                  <a:lnTo>
                    <a:pt x="114" y="331"/>
                  </a:lnTo>
                  <a:lnTo>
                    <a:pt x="92" y="521"/>
                  </a:lnTo>
                  <a:lnTo>
                    <a:pt x="0" y="486"/>
                  </a:lnTo>
                  <a:lnTo>
                    <a:pt x="35" y="654"/>
                  </a:lnTo>
                  <a:lnTo>
                    <a:pt x="13"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0" name=""/>
            <p:cNvSpPr/>
            <p:nvPr/>
          </p:nvSpPr>
          <p:spPr>
            <a:xfrm>
              <a:off x="7738920" y="384120"/>
              <a:ext cx="155880" cy="84600"/>
            </a:xfrm>
            <a:custGeom>
              <a:avLst/>
              <a:gdLst/>
              <a:ahLst/>
              <a:rect l="0" t="0" r="r" b="b"/>
              <a:pathLst>
                <a:path w="433" h="235">
                  <a:moveTo>
                    <a:pt x="0" y="235"/>
                  </a:moveTo>
                  <a:lnTo>
                    <a:pt x="158" y="0"/>
                  </a:lnTo>
                  <a:lnTo>
                    <a:pt x="158" y="159"/>
                  </a:lnTo>
                  <a:lnTo>
                    <a:pt x="217" y="89"/>
                  </a:lnTo>
                  <a:lnTo>
                    <a:pt x="274" y="182"/>
                  </a:lnTo>
                  <a:lnTo>
                    <a:pt x="433" y="222"/>
                  </a:lnTo>
                  <a:lnTo>
                    <a:pt x="265" y="196"/>
                  </a:lnTo>
                  <a:lnTo>
                    <a:pt x="211" y="137"/>
                  </a:lnTo>
                  <a:lnTo>
                    <a:pt x="132" y="196"/>
                  </a:lnTo>
                  <a:lnTo>
                    <a:pt x="132" y="115"/>
                  </a:lnTo>
                  <a:lnTo>
                    <a:pt x="0" y="235"/>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281" name=""/>
            <p:cNvSpPr/>
            <p:nvPr/>
          </p:nvSpPr>
          <p:spPr>
            <a:xfrm>
              <a:off x="7726320" y="963720"/>
              <a:ext cx="184680" cy="125640"/>
            </a:xfrm>
            <a:custGeom>
              <a:avLst/>
              <a:gdLst/>
              <a:ahLst/>
              <a:rect l="0" t="0" r="r" b="b"/>
              <a:pathLst>
                <a:path w="513" h="349">
                  <a:moveTo>
                    <a:pt x="97" y="119"/>
                  </a:moveTo>
                  <a:lnTo>
                    <a:pt x="309" y="105"/>
                  </a:lnTo>
                  <a:lnTo>
                    <a:pt x="407" y="132"/>
                  </a:lnTo>
                  <a:lnTo>
                    <a:pt x="456" y="79"/>
                  </a:lnTo>
                  <a:lnTo>
                    <a:pt x="513" y="195"/>
                  </a:lnTo>
                  <a:lnTo>
                    <a:pt x="482" y="212"/>
                  </a:lnTo>
                  <a:lnTo>
                    <a:pt x="434" y="171"/>
                  </a:lnTo>
                  <a:lnTo>
                    <a:pt x="362" y="247"/>
                  </a:lnTo>
                  <a:lnTo>
                    <a:pt x="239" y="349"/>
                  </a:lnTo>
                  <a:lnTo>
                    <a:pt x="186" y="349"/>
                  </a:lnTo>
                  <a:lnTo>
                    <a:pt x="97" y="300"/>
                  </a:lnTo>
                  <a:lnTo>
                    <a:pt x="190" y="344"/>
                  </a:lnTo>
                  <a:lnTo>
                    <a:pt x="230" y="344"/>
                  </a:lnTo>
                  <a:lnTo>
                    <a:pt x="309" y="278"/>
                  </a:lnTo>
                  <a:lnTo>
                    <a:pt x="358" y="158"/>
                  </a:lnTo>
                  <a:lnTo>
                    <a:pt x="278" y="141"/>
                  </a:lnTo>
                  <a:lnTo>
                    <a:pt x="230" y="132"/>
                  </a:lnTo>
                  <a:lnTo>
                    <a:pt x="88" y="154"/>
                  </a:lnTo>
                  <a:lnTo>
                    <a:pt x="83" y="243"/>
                  </a:lnTo>
                  <a:lnTo>
                    <a:pt x="35" y="186"/>
                  </a:lnTo>
                  <a:lnTo>
                    <a:pt x="0" y="269"/>
                  </a:lnTo>
                  <a:lnTo>
                    <a:pt x="4" y="92"/>
                  </a:lnTo>
                  <a:lnTo>
                    <a:pt x="52" y="0"/>
                  </a:lnTo>
                  <a:lnTo>
                    <a:pt x="97" y="92"/>
                  </a:lnTo>
                  <a:lnTo>
                    <a:pt x="97" y="1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2" name=""/>
            <p:cNvSpPr/>
            <p:nvPr/>
          </p:nvSpPr>
          <p:spPr>
            <a:xfrm>
              <a:off x="7701120" y="687240"/>
              <a:ext cx="398880" cy="586080"/>
            </a:xfrm>
            <a:custGeom>
              <a:avLst/>
              <a:gdLst/>
              <a:ahLst/>
              <a:rect l="0" t="0" r="r" b="b"/>
              <a:pathLst>
                <a:path w="1108" h="1628">
                  <a:moveTo>
                    <a:pt x="932" y="0"/>
                  </a:moveTo>
                  <a:lnTo>
                    <a:pt x="1042" y="0"/>
                  </a:lnTo>
                  <a:lnTo>
                    <a:pt x="1108" y="79"/>
                  </a:lnTo>
                  <a:lnTo>
                    <a:pt x="1108" y="167"/>
                  </a:lnTo>
                  <a:lnTo>
                    <a:pt x="1020" y="427"/>
                  </a:lnTo>
                  <a:lnTo>
                    <a:pt x="928" y="542"/>
                  </a:lnTo>
                  <a:lnTo>
                    <a:pt x="830" y="560"/>
                  </a:lnTo>
                  <a:lnTo>
                    <a:pt x="803" y="560"/>
                  </a:lnTo>
                  <a:lnTo>
                    <a:pt x="803" y="878"/>
                  </a:lnTo>
                  <a:lnTo>
                    <a:pt x="853" y="1116"/>
                  </a:lnTo>
                  <a:lnTo>
                    <a:pt x="853" y="1306"/>
                  </a:lnTo>
                  <a:lnTo>
                    <a:pt x="684" y="1495"/>
                  </a:lnTo>
                  <a:lnTo>
                    <a:pt x="450" y="1628"/>
                  </a:lnTo>
                  <a:lnTo>
                    <a:pt x="309" y="1628"/>
                  </a:lnTo>
                  <a:lnTo>
                    <a:pt x="233" y="1588"/>
                  </a:lnTo>
                  <a:lnTo>
                    <a:pt x="132" y="1363"/>
                  </a:lnTo>
                  <a:lnTo>
                    <a:pt x="35" y="1284"/>
                  </a:lnTo>
                  <a:lnTo>
                    <a:pt x="0" y="1222"/>
                  </a:lnTo>
                  <a:lnTo>
                    <a:pt x="123" y="1306"/>
                  </a:lnTo>
                  <a:lnTo>
                    <a:pt x="216" y="1385"/>
                  </a:lnTo>
                  <a:lnTo>
                    <a:pt x="393" y="1398"/>
                  </a:lnTo>
                  <a:lnTo>
                    <a:pt x="552" y="1315"/>
                  </a:lnTo>
                  <a:lnTo>
                    <a:pt x="631" y="1222"/>
                  </a:lnTo>
                  <a:lnTo>
                    <a:pt x="724" y="1059"/>
                  </a:lnTo>
                  <a:lnTo>
                    <a:pt x="741" y="865"/>
                  </a:lnTo>
                  <a:lnTo>
                    <a:pt x="772" y="238"/>
                  </a:lnTo>
                  <a:lnTo>
                    <a:pt x="812" y="330"/>
                  </a:lnTo>
                  <a:lnTo>
                    <a:pt x="928" y="216"/>
                  </a:lnTo>
                  <a:lnTo>
                    <a:pt x="1038" y="167"/>
                  </a:lnTo>
                  <a:lnTo>
                    <a:pt x="1064" y="105"/>
                  </a:lnTo>
                  <a:lnTo>
                    <a:pt x="1047" y="35"/>
                  </a:lnTo>
                  <a:lnTo>
                    <a:pt x="1003" y="8"/>
                  </a:lnTo>
                  <a:lnTo>
                    <a:pt x="9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3" name=""/>
            <p:cNvSpPr/>
            <p:nvPr/>
          </p:nvSpPr>
          <p:spPr>
            <a:xfrm>
              <a:off x="7083360" y="1192320"/>
              <a:ext cx="322560" cy="541800"/>
            </a:xfrm>
            <a:custGeom>
              <a:avLst/>
              <a:gdLst/>
              <a:ahLst/>
              <a:rect l="0" t="0" r="r" b="b"/>
              <a:pathLst>
                <a:path w="896" h="1505">
                  <a:moveTo>
                    <a:pt x="119" y="0"/>
                  </a:moveTo>
                  <a:lnTo>
                    <a:pt x="211" y="61"/>
                  </a:lnTo>
                  <a:lnTo>
                    <a:pt x="291" y="374"/>
                  </a:lnTo>
                  <a:lnTo>
                    <a:pt x="525" y="446"/>
                  </a:lnTo>
                  <a:lnTo>
                    <a:pt x="587" y="525"/>
                  </a:lnTo>
                  <a:lnTo>
                    <a:pt x="605" y="640"/>
                  </a:lnTo>
                  <a:lnTo>
                    <a:pt x="706" y="622"/>
                  </a:lnTo>
                  <a:lnTo>
                    <a:pt x="852" y="715"/>
                  </a:lnTo>
                  <a:lnTo>
                    <a:pt x="896" y="843"/>
                  </a:lnTo>
                  <a:lnTo>
                    <a:pt x="896" y="1050"/>
                  </a:lnTo>
                  <a:lnTo>
                    <a:pt x="706" y="1373"/>
                  </a:lnTo>
                  <a:lnTo>
                    <a:pt x="653" y="1505"/>
                  </a:lnTo>
                  <a:lnTo>
                    <a:pt x="688" y="1329"/>
                  </a:lnTo>
                  <a:lnTo>
                    <a:pt x="653" y="1267"/>
                  </a:lnTo>
                  <a:lnTo>
                    <a:pt x="538" y="1157"/>
                  </a:lnTo>
                  <a:lnTo>
                    <a:pt x="370" y="1019"/>
                  </a:lnTo>
                  <a:lnTo>
                    <a:pt x="578" y="1099"/>
                  </a:lnTo>
                  <a:lnTo>
                    <a:pt x="697" y="1197"/>
                  </a:lnTo>
                  <a:lnTo>
                    <a:pt x="768" y="1183"/>
                  </a:lnTo>
                  <a:lnTo>
                    <a:pt x="807" y="1130"/>
                  </a:lnTo>
                  <a:lnTo>
                    <a:pt x="852" y="979"/>
                  </a:lnTo>
                  <a:lnTo>
                    <a:pt x="834" y="830"/>
                  </a:lnTo>
                  <a:lnTo>
                    <a:pt x="772" y="741"/>
                  </a:lnTo>
                  <a:lnTo>
                    <a:pt x="662" y="715"/>
                  </a:lnTo>
                  <a:lnTo>
                    <a:pt x="538" y="715"/>
                  </a:lnTo>
                  <a:lnTo>
                    <a:pt x="503" y="494"/>
                  </a:lnTo>
                  <a:lnTo>
                    <a:pt x="299" y="415"/>
                  </a:lnTo>
                  <a:lnTo>
                    <a:pt x="299" y="486"/>
                  </a:lnTo>
                  <a:lnTo>
                    <a:pt x="211" y="321"/>
                  </a:lnTo>
                  <a:lnTo>
                    <a:pt x="163" y="61"/>
                  </a:lnTo>
                  <a:lnTo>
                    <a:pt x="88" y="44"/>
                  </a:lnTo>
                  <a:lnTo>
                    <a:pt x="44" y="119"/>
                  </a:lnTo>
                  <a:lnTo>
                    <a:pt x="44" y="295"/>
                  </a:lnTo>
                  <a:lnTo>
                    <a:pt x="79" y="486"/>
                  </a:lnTo>
                  <a:lnTo>
                    <a:pt x="194" y="640"/>
                  </a:lnTo>
                  <a:lnTo>
                    <a:pt x="70" y="543"/>
                  </a:lnTo>
                  <a:lnTo>
                    <a:pt x="8" y="374"/>
                  </a:lnTo>
                  <a:lnTo>
                    <a:pt x="0" y="163"/>
                  </a:lnTo>
                  <a:lnTo>
                    <a:pt x="44"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4" name=""/>
            <p:cNvSpPr/>
            <p:nvPr/>
          </p:nvSpPr>
          <p:spPr>
            <a:xfrm>
              <a:off x="6931080" y="1430280"/>
              <a:ext cx="211320" cy="435240"/>
            </a:xfrm>
            <a:custGeom>
              <a:avLst/>
              <a:gdLst/>
              <a:ahLst/>
              <a:rect l="0" t="0" r="r" b="b"/>
              <a:pathLst>
                <a:path w="587" h="1209">
                  <a:moveTo>
                    <a:pt x="587" y="0"/>
                  </a:moveTo>
                  <a:lnTo>
                    <a:pt x="464" y="79"/>
                  </a:lnTo>
                  <a:lnTo>
                    <a:pt x="327" y="374"/>
                  </a:lnTo>
                  <a:lnTo>
                    <a:pt x="185" y="564"/>
                  </a:lnTo>
                  <a:lnTo>
                    <a:pt x="13" y="799"/>
                  </a:lnTo>
                  <a:lnTo>
                    <a:pt x="0" y="913"/>
                  </a:lnTo>
                  <a:lnTo>
                    <a:pt x="35" y="1019"/>
                  </a:lnTo>
                  <a:lnTo>
                    <a:pt x="114" y="1019"/>
                  </a:lnTo>
                  <a:lnTo>
                    <a:pt x="229" y="913"/>
                  </a:lnTo>
                  <a:lnTo>
                    <a:pt x="314" y="697"/>
                  </a:lnTo>
                  <a:lnTo>
                    <a:pt x="433" y="564"/>
                  </a:lnTo>
                  <a:lnTo>
                    <a:pt x="433" y="737"/>
                  </a:lnTo>
                  <a:lnTo>
                    <a:pt x="411" y="896"/>
                  </a:lnTo>
                  <a:lnTo>
                    <a:pt x="282" y="1107"/>
                  </a:lnTo>
                  <a:lnTo>
                    <a:pt x="282" y="1182"/>
                  </a:lnTo>
                  <a:lnTo>
                    <a:pt x="411" y="1209"/>
                  </a:lnTo>
                  <a:lnTo>
                    <a:pt x="327" y="1151"/>
                  </a:lnTo>
                  <a:lnTo>
                    <a:pt x="331" y="1107"/>
                  </a:lnTo>
                  <a:lnTo>
                    <a:pt x="424" y="949"/>
                  </a:lnTo>
                  <a:lnTo>
                    <a:pt x="486" y="671"/>
                  </a:lnTo>
                  <a:lnTo>
                    <a:pt x="441" y="511"/>
                  </a:lnTo>
                  <a:lnTo>
                    <a:pt x="349" y="599"/>
                  </a:lnTo>
                  <a:lnTo>
                    <a:pt x="141" y="966"/>
                  </a:lnTo>
                  <a:lnTo>
                    <a:pt x="83" y="975"/>
                  </a:lnTo>
                  <a:lnTo>
                    <a:pt x="35" y="935"/>
                  </a:lnTo>
                  <a:lnTo>
                    <a:pt x="35" y="830"/>
                  </a:lnTo>
                  <a:lnTo>
                    <a:pt x="114" y="684"/>
                  </a:lnTo>
                  <a:lnTo>
                    <a:pt x="349" y="388"/>
                  </a:lnTo>
                  <a:lnTo>
                    <a:pt x="486" y="110"/>
                  </a:lnTo>
                  <a:lnTo>
                    <a:pt x="5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7086600" y="1676520"/>
              <a:ext cx="132120" cy="209880"/>
            </a:xfrm>
            <a:custGeom>
              <a:avLst/>
              <a:gdLst/>
              <a:ahLst/>
              <a:rect l="0" t="0" r="r" b="b"/>
              <a:pathLst>
                <a:path w="367" h="583">
                  <a:moveTo>
                    <a:pt x="0" y="516"/>
                  </a:moveTo>
                  <a:lnTo>
                    <a:pt x="123" y="371"/>
                  </a:lnTo>
                  <a:lnTo>
                    <a:pt x="141" y="216"/>
                  </a:lnTo>
                  <a:lnTo>
                    <a:pt x="283" y="0"/>
                  </a:lnTo>
                  <a:lnTo>
                    <a:pt x="314" y="141"/>
                  </a:lnTo>
                  <a:lnTo>
                    <a:pt x="292" y="530"/>
                  </a:lnTo>
                  <a:lnTo>
                    <a:pt x="367" y="583"/>
                  </a:lnTo>
                  <a:lnTo>
                    <a:pt x="256" y="538"/>
                  </a:lnTo>
                  <a:lnTo>
                    <a:pt x="208" y="322"/>
                  </a:lnTo>
                  <a:lnTo>
                    <a:pt x="123" y="428"/>
                  </a:lnTo>
                  <a:lnTo>
                    <a:pt x="0" y="5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7248600" y="1685880"/>
              <a:ext cx="86040" cy="186120"/>
            </a:xfrm>
            <a:custGeom>
              <a:avLst/>
              <a:gdLst/>
              <a:ahLst/>
              <a:rect l="0" t="0" r="r" b="b"/>
              <a:pathLst>
                <a:path w="239" h="517">
                  <a:moveTo>
                    <a:pt x="0" y="384"/>
                  </a:moveTo>
                  <a:lnTo>
                    <a:pt x="8" y="195"/>
                  </a:lnTo>
                  <a:lnTo>
                    <a:pt x="57" y="79"/>
                  </a:lnTo>
                  <a:lnTo>
                    <a:pt x="114" y="495"/>
                  </a:lnTo>
                  <a:lnTo>
                    <a:pt x="190" y="495"/>
                  </a:lnTo>
                  <a:lnTo>
                    <a:pt x="225" y="57"/>
                  </a:lnTo>
                  <a:lnTo>
                    <a:pt x="239" y="0"/>
                  </a:lnTo>
                  <a:lnTo>
                    <a:pt x="225" y="336"/>
                  </a:lnTo>
                  <a:lnTo>
                    <a:pt x="190" y="517"/>
                  </a:lnTo>
                  <a:lnTo>
                    <a:pt x="92" y="517"/>
                  </a:lnTo>
                  <a:lnTo>
                    <a:pt x="52" y="159"/>
                  </a:lnTo>
                  <a:lnTo>
                    <a:pt x="30" y="212"/>
                  </a:lnTo>
                  <a:lnTo>
                    <a:pt x="0" y="38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7" name=""/>
            <p:cNvSpPr/>
            <p:nvPr/>
          </p:nvSpPr>
          <p:spPr>
            <a:xfrm>
              <a:off x="8354880" y="952560"/>
              <a:ext cx="208440" cy="498960"/>
            </a:xfrm>
            <a:custGeom>
              <a:avLst/>
              <a:gdLst/>
              <a:ahLst/>
              <a:rect l="0" t="0" r="r" b="b"/>
              <a:pathLst>
                <a:path w="579" h="1386">
                  <a:moveTo>
                    <a:pt x="155" y="755"/>
                  </a:moveTo>
                  <a:lnTo>
                    <a:pt x="195" y="534"/>
                  </a:lnTo>
                  <a:lnTo>
                    <a:pt x="393" y="481"/>
                  </a:lnTo>
                  <a:lnTo>
                    <a:pt x="579" y="0"/>
                  </a:lnTo>
                  <a:lnTo>
                    <a:pt x="579" y="141"/>
                  </a:lnTo>
                  <a:lnTo>
                    <a:pt x="419" y="508"/>
                  </a:lnTo>
                  <a:lnTo>
                    <a:pt x="217" y="574"/>
                  </a:lnTo>
                  <a:lnTo>
                    <a:pt x="181" y="755"/>
                  </a:lnTo>
                  <a:lnTo>
                    <a:pt x="256" y="755"/>
                  </a:lnTo>
                  <a:lnTo>
                    <a:pt x="79" y="825"/>
                  </a:lnTo>
                  <a:lnTo>
                    <a:pt x="35" y="975"/>
                  </a:lnTo>
                  <a:lnTo>
                    <a:pt x="44" y="1170"/>
                  </a:lnTo>
                  <a:lnTo>
                    <a:pt x="239" y="1386"/>
                  </a:lnTo>
                  <a:lnTo>
                    <a:pt x="35" y="1197"/>
                  </a:lnTo>
                  <a:lnTo>
                    <a:pt x="0" y="1032"/>
                  </a:lnTo>
                  <a:lnTo>
                    <a:pt x="13" y="874"/>
                  </a:lnTo>
                  <a:lnTo>
                    <a:pt x="88" y="759"/>
                  </a:lnTo>
                  <a:lnTo>
                    <a:pt x="155" y="75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8" name=""/>
            <p:cNvSpPr/>
            <p:nvPr/>
          </p:nvSpPr>
          <p:spPr>
            <a:xfrm>
              <a:off x="8497800" y="952560"/>
              <a:ext cx="349560" cy="484560"/>
            </a:xfrm>
            <a:custGeom>
              <a:avLst/>
              <a:gdLst/>
              <a:ahLst/>
              <a:rect l="0" t="0" r="r" b="b"/>
              <a:pathLst>
                <a:path w="971" h="1346">
                  <a:moveTo>
                    <a:pt x="260" y="0"/>
                  </a:moveTo>
                  <a:lnTo>
                    <a:pt x="326" y="44"/>
                  </a:lnTo>
                  <a:lnTo>
                    <a:pt x="339" y="158"/>
                  </a:lnTo>
                  <a:lnTo>
                    <a:pt x="339" y="264"/>
                  </a:lnTo>
                  <a:lnTo>
                    <a:pt x="238" y="459"/>
                  </a:lnTo>
                  <a:lnTo>
                    <a:pt x="255" y="600"/>
                  </a:lnTo>
                  <a:lnTo>
                    <a:pt x="583" y="755"/>
                  </a:lnTo>
                  <a:lnTo>
                    <a:pt x="966" y="1183"/>
                  </a:lnTo>
                  <a:lnTo>
                    <a:pt x="971" y="1298"/>
                  </a:lnTo>
                  <a:lnTo>
                    <a:pt x="949" y="1346"/>
                  </a:lnTo>
                  <a:lnTo>
                    <a:pt x="807" y="1346"/>
                  </a:lnTo>
                  <a:lnTo>
                    <a:pt x="680" y="1263"/>
                  </a:lnTo>
                  <a:lnTo>
                    <a:pt x="574" y="1130"/>
                  </a:lnTo>
                  <a:lnTo>
                    <a:pt x="516" y="1047"/>
                  </a:lnTo>
                  <a:lnTo>
                    <a:pt x="449" y="1038"/>
                  </a:lnTo>
                  <a:lnTo>
                    <a:pt x="534" y="1038"/>
                  </a:lnTo>
                  <a:lnTo>
                    <a:pt x="697" y="1249"/>
                  </a:lnTo>
                  <a:lnTo>
                    <a:pt x="896" y="1320"/>
                  </a:lnTo>
                  <a:lnTo>
                    <a:pt x="940" y="1249"/>
                  </a:lnTo>
                  <a:lnTo>
                    <a:pt x="918" y="1152"/>
                  </a:lnTo>
                  <a:lnTo>
                    <a:pt x="565" y="847"/>
                  </a:lnTo>
                  <a:lnTo>
                    <a:pt x="512" y="755"/>
                  </a:lnTo>
                  <a:lnTo>
                    <a:pt x="238" y="684"/>
                  </a:lnTo>
                  <a:lnTo>
                    <a:pt x="189" y="755"/>
                  </a:lnTo>
                  <a:lnTo>
                    <a:pt x="0" y="882"/>
                  </a:lnTo>
                  <a:lnTo>
                    <a:pt x="176" y="737"/>
                  </a:lnTo>
                  <a:lnTo>
                    <a:pt x="189" y="640"/>
                  </a:lnTo>
                  <a:lnTo>
                    <a:pt x="189" y="433"/>
                  </a:lnTo>
                  <a:lnTo>
                    <a:pt x="313" y="264"/>
                  </a:lnTo>
                  <a:lnTo>
                    <a:pt x="313" y="52"/>
                  </a:lnTo>
                  <a:lnTo>
                    <a:pt x="26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9" name=""/>
            <p:cNvSpPr/>
            <p:nvPr/>
          </p:nvSpPr>
          <p:spPr>
            <a:xfrm>
              <a:off x="8431200" y="1333440"/>
              <a:ext cx="298800" cy="286200"/>
            </a:xfrm>
            <a:custGeom>
              <a:avLst/>
              <a:gdLst/>
              <a:ahLst/>
              <a:rect l="0" t="0" r="r" b="b"/>
              <a:pathLst>
                <a:path w="830" h="795">
                  <a:moveTo>
                    <a:pt x="622" y="0"/>
                  </a:moveTo>
                  <a:lnTo>
                    <a:pt x="600" y="61"/>
                  </a:lnTo>
                  <a:lnTo>
                    <a:pt x="724" y="331"/>
                  </a:lnTo>
                  <a:lnTo>
                    <a:pt x="785" y="601"/>
                  </a:lnTo>
                  <a:lnTo>
                    <a:pt x="715" y="601"/>
                  </a:lnTo>
                  <a:lnTo>
                    <a:pt x="591" y="486"/>
                  </a:lnTo>
                  <a:lnTo>
                    <a:pt x="477" y="230"/>
                  </a:lnTo>
                  <a:lnTo>
                    <a:pt x="388" y="194"/>
                  </a:lnTo>
                  <a:lnTo>
                    <a:pt x="401" y="331"/>
                  </a:lnTo>
                  <a:lnTo>
                    <a:pt x="486" y="433"/>
                  </a:lnTo>
                  <a:lnTo>
                    <a:pt x="486" y="623"/>
                  </a:lnTo>
                  <a:lnTo>
                    <a:pt x="428" y="756"/>
                  </a:lnTo>
                  <a:lnTo>
                    <a:pt x="348" y="698"/>
                  </a:lnTo>
                  <a:lnTo>
                    <a:pt x="251" y="486"/>
                  </a:lnTo>
                  <a:lnTo>
                    <a:pt x="233" y="331"/>
                  </a:lnTo>
                  <a:lnTo>
                    <a:pt x="176" y="287"/>
                  </a:lnTo>
                  <a:lnTo>
                    <a:pt x="163" y="672"/>
                  </a:lnTo>
                  <a:lnTo>
                    <a:pt x="88" y="734"/>
                  </a:lnTo>
                  <a:lnTo>
                    <a:pt x="17" y="672"/>
                  </a:lnTo>
                  <a:lnTo>
                    <a:pt x="8" y="340"/>
                  </a:lnTo>
                  <a:lnTo>
                    <a:pt x="0" y="663"/>
                  </a:lnTo>
                  <a:lnTo>
                    <a:pt x="52" y="782"/>
                  </a:lnTo>
                  <a:lnTo>
                    <a:pt x="163" y="782"/>
                  </a:lnTo>
                  <a:lnTo>
                    <a:pt x="198" y="689"/>
                  </a:lnTo>
                  <a:lnTo>
                    <a:pt x="224" y="389"/>
                  </a:lnTo>
                  <a:lnTo>
                    <a:pt x="238" y="503"/>
                  </a:lnTo>
                  <a:lnTo>
                    <a:pt x="330" y="769"/>
                  </a:lnTo>
                  <a:lnTo>
                    <a:pt x="437" y="795"/>
                  </a:lnTo>
                  <a:lnTo>
                    <a:pt x="512" y="689"/>
                  </a:lnTo>
                  <a:lnTo>
                    <a:pt x="512" y="441"/>
                  </a:lnTo>
                  <a:lnTo>
                    <a:pt x="715" y="645"/>
                  </a:lnTo>
                  <a:lnTo>
                    <a:pt x="821" y="645"/>
                  </a:lnTo>
                  <a:lnTo>
                    <a:pt x="830" y="503"/>
                  </a:lnTo>
                  <a:lnTo>
                    <a:pt x="755" y="256"/>
                  </a:lnTo>
                  <a:lnTo>
                    <a:pt x="622" y="52"/>
                  </a:lnTo>
                  <a:lnTo>
                    <a:pt x="6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0" name=""/>
            <p:cNvSpPr/>
            <p:nvPr/>
          </p:nvSpPr>
          <p:spPr>
            <a:xfrm>
              <a:off x="7223040" y="1035000"/>
              <a:ext cx="1332360" cy="1168920"/>
            </a:xfrm>
            <a:custGeom>
              <a:avLst/>
              <a:gdLst/>
              <a:ahLst/>
              <a:rect l="0" t="0" r="r" b="b"/>
              <a:pathLst>
                <a:path w="3701" h="3247">
                  <a:moveTo>
                    <a:pt x="1332" y="277"/>
                  </a:moveTo>
                  <a:lnTo>
                    <a:pt x="1266" y="291"/>
                  </a:lnTo>
                  <a:lnTo>
                    <a:pt x="1160" y="445"/>
                  </a:lnTo>
                  <a:lnTo>
                    <a:pt x="1121" y="330"/>
                  </a:lnTo>
                  <a:lnTo>
                    <a:pt x="1006" y="264"/>
                  </a:lnTo>
                  <a:lnTo>
                    <a:pt x="917" y="317"/>
                  </a:lnTo>
                  <a:lnTo>
                    <a:pt x="881" y="520"/>
                  </a:lnTo>
                  <a:lnTo>
                    <a:pt x="551" y="784"/>
                  </a:lnTo>
                  <a:lnTo>
                    <a:pt x="568" y="891"/>
                  </a:lnTo>
                  <a:lnTo>
                    <a:pt x="489" y="988"/>
                  </a:lnTo>
                  <a:lnTo>
                    <a:pt x="489" y="1076"/>
                  </a:lnTo>
                  <a:lnTo>
                    <a:pt x="582" y="1319"/>
                  </a:lnTo>
                  <a:lnTo>
                    <a:pt x="586" y="1619"/>
                  </a:lnTo>
                  <a:lnTo>
                    <a:pt x="529" y="1906"/>
                  </a:lnTo>
                  <a:lnTo>
                    <a:pt x="291" y="2073"/>
                  </a:lnTo>
                  <a:lnTo>
                    <a:pt x="255" y="2302"/>
                  </a:lnTo>
                  <a:lnTo>
                    <a:pt x="189" y="2302"/>
                  </a:lnTo>
                  <a:lnTo>
                    <a:pt x="149" y="2113"/>
                  </a:lnTo>
                  <a:lnTo>
                    <a:pt x="74" y="2113"/>
                  </a:lnTo>
                  <a:lnTo>
                    <a:pt x="44" y="2316"/>
                  </a:lnTo>
                  <a:lnTo>
                    <a:pt x="0" y="2373"/>
                  </a:lnTo>
                  <a:lnTo>
                    <a:pt x="163" y="2652"/>
                  </a:lnTo>
                  <a:lnTo>
                    <a:pt x="282" y="2661"/>
                  </a:lnTo>
                  <a:lnTo>
                    <a:pt x="489" y="2872"/>
                  </a:lnTo>
                  <a:lnTo>
                    <a:pt x="679" y="2899"/>
                  </a:lnTo>
                  <a:lnTo>
                    <a:pt x="784" y="2784"/>
                  </a:lnTo>
                  <a:lnTo>
                    <a:pt x="1041" y="2386"/>
                  </a:lnTo>
                  <a:lnTo>
                    <a:pt x="1059" y="2925"/>
                  </a:lnTo>
                  <a:lnTo>
                    <a:pt x="1041" y="3247"/>
                  </a:lnTo>
                  <a:lnTo>
                    <a:pt x="3181" y="3247"/>
                  </a:lnTo>
                  <a:lnTo>
                    <a:pt x="3022" y="2899"/>
                  </a:lnTo>
                  <a:lnTo>
                    <a:pt x="2947" y="2594"/>
                  </a:lnTo>
                  <a:lnTo>
                    <a:pt x="2925" y="2148"/>
                  </a:lnTo>
                  <a:lnTo>
                    <a:pt x="3053" y="2249"/>
                  </a:lnTo>
                  <a:lnTo>
                    <a:pt x="3181" y="2249"/>
                  </a:lnTo>
                  <a:lnTo>
                    <a:pt x="3357" y="2130"/>
                  </a:lnTo>
                  <a:lnTo>
                    <a:pt x="3472" y="2113"/>
                  </a:lnTo>
                  <a:lnTo>
                    <a:pt x="3547" y="1994"/>
                  </a:lnTo>
                  <a:lnTo>
                    <a:pt x="3595" y="1685"/>
                  </a:lnTo>
                  <a:lnTo>
                    <a:pt x="3701" y="1566"/>
                  </a:lnTo>
                  <a:lnTo>
                    <a:pt x="3648" y="1473"/>
                  </a:lnTo>
                  <a:lnTo>
                    <a:pt x="3569" y="1473"/>
                  </a:lnTo>
                  <a:lnTo>
                    <a:pt x="3503" y="1531"/>
                  </a:lnTo>
                  <a:lnTo>
                    <a:pt x="3441" y="1553"/>
                  </a:lnTo>
                  <a:lnTo>
                    <a:pt x="3362" y="1473"/>
                  </a:lnTo>
                  <a:lnTo>
                    <a:pt x="3278" y="1456"/>
                  </a:lnTo>
                  <a:lnTo>
                    <a:pt x="3106" y="1341"/>
                  </a:lnTo>
                  <a:lnTo>
                    <a:pt x="3000" y="1226"/>
                  </a:lnTo>
                  <a:lnTo>
                    <a:pt x="2982" y="1076"/>
                  </a:lnTo>
                  <a:lnTo>
                    <a:pt x="3000" y="931"/>
                  </a:lnTo>
                  <a:lnTo>
                    <a:pt x="3071" y="811"/>
                  </a:lnTo>
                  <a:lnTo>
                    <a:pt x="3159" y="705"/>
                  </a:lnTo>
                  <a:lnTo>
                    <a:pt x="3154" y="520"/>
                  </a:lnTo>
                  <a:lnTo>
                    <a:pt x="3154" y="383"/>
                  </a:lnTo>
                  <a:lnTo>
                    <a:pt x="3106" y="291"/>
                  </a:lnTo>
                  <a:lnTo>
                    <a:pt x="2982" y="246"/>
                  </a:lnTo>
                  <a:lnTo>
                    <a:pt x="2938" y="216"/>
                  </a:lnTo>
                  <a:lnTo>
                    <a:pt x="2855" y="57"/>
                  </a:lnTo>
                  <a:lnTo>
                    <a:pt x="2780" y="8"/>
                  </a:lnTo>
                  <a:lnTo>
                    <a:pt x="2699" y="0"/>
                  </a:lnTo>
                  <a:lnTo>
                    <a:pt x="2633" y="26"/>
                  </a:lnTo>
                  <a:lnTo>
                    <a:pt x="2585" y="114"/>
                  </a:lnTo>
                  <a:lnTo>
                    <a:pt x="2505" y="163"/>
                  </a:lnTo>
                  <a:lnTo>
                    <a:pt x="2413" y="180"/>
                  </a:lnTo>
                  <a:lnTo>
                    <a:pt x="2307" y="180"/>
                  </a:lnTo>
                  <a:lnTo>
                    <a:pt x="2320" y="343"/>
                  </a:lnTo>
                  <a:lnTo>
                    <a:pt x="2320" y="542"/>
                  </a:lnTo>
                  <a:lnTo>
                    <a:pt x="2307" y="674"/>
                  </a:lnTo>
                  <a:lnTo>
                    <a:pt x="2214" y="838"/>
                  </a:lnTo>
                  <a:lnTo>
                    <a:pt x="2104" y="1085"/>
                  </a:lnTo>
                  <a:lnTo>
                    <a:pt x="2003" y="1372"/>
                  </a:lnTo>
                  <a:lnTo>
                    <a:pt x="1998" y="1553"/>
                  </a:lnTo>
                  <a:lnTo>
                    <a:pt x="1958" y="1698"/>
                  </a:lnTo>
                  <a:lnTo>
                    <a:pt x="1901" y="1848"/>
                  </a:lnTo>
                  <a:lnTo>
                    <a:pt x="1879" y="2082"/>
                  </a:lnTo>
                  <a:lnTo>
                    <a:pt x="1888" y="2276"/>
                  </a:lnTo>
                  <a:lnTo>
                    <a:pt x="1958" y="2506"/>
                  </a:lnTo>
                  <a:lnTo>
                    <a:pt x="1998" y="2594"/>
                  </a:lnTo>
                  <a:lnTo>
                    <a:pt x="1879" y="2678"/>
                  </a:lnTo>
                  <a:lnTo>
                    <a:pt x="1729" y="2731"/>
                  </a:lnTo>
                  <a:lnTo>
                    <a:pt x="1562" y="2749"/>
                  </a:lnTo>
                  <a:lnTo>
                    <a:pt x="1465" y="2749"/>
                  </a:lnTo>
                  <a:lnTo>
                    <a:pt x="1398" y="2722"/>
                  </a:lnTo>
                  <a:lnTo>
                    <a:pt x="1398" y="2524"/>
                  </a:lnTo>
                  <a:lnTo>
                    <a:pt x="1398" y="2236"/>
                  </a:lnTo>
                  <a:lnTo>
                    <a:pt x="1350" y="1950"/>
                  </a:lnTo>
                  <a:lnTo>
                    <a:pt x="1284" y="1698"/>
                  </a:lnTo>
                  <a:lnTo>
                    <a:pt x="1262" y="1495"/>
                  </a:lnTo>
                  <a:lnTo>
                    <a:pt x="1244" y="1204"/>
                  </a:lnTo>
                  <a:lnTo>
                    <a:pt x="1284" y="962"/>
                  </a:lnTo>
                  <a:lnTo>
                    <a:pt x="1350" y="758"/>
                  </a:lnTo>
                  <a:lnTo>
                    <a:pt x="1359" y="635"/>
                  </a:lnTo>
                  <a:lnTo>
                    <a:pt x="1332" y="467"/>
                  </a:lnTo>
                  <a:lnTo>
                    <a:pt x="1332" y="330"/>
                  </a:lnTo>
                  <a:lnTo>
                    <a:pt x="1350" y="291"/>
                  </a:lnTo>
                  <a:lnTo>
                    <a:pt x="1332" y="2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7740720" y="1270080"/>
              <a:ext cx="168480" cy="759240"/>
            </a:xfrm>
            <a:custGeom>
              <a:avLst/>
              <a:gdLst/>
              <a:ahLst/>
              <a:rect l="0" t="0" r="r" b="b"/>
              <a:pathLst>
                <a:path w="468" h="2109">
                  <a:moveTo>
                    <a:pt x="189" y="26"/>
                  </a:moveTo>
                  <a:lnTo>
                    <a:pt x="66" y="92"/>
                  </a:lnTo>
                  <a:lnTo>
                    <a:pt x="74" y="295"/>
                  </a:lnTo>
                  <a:lnTo>
                    <a:pt x="163" y="352"/>
                  </a:lnTo>
                  <a:lnTo>
                    <a:pt x="52" y="578"/>
                  </a:lnTo>
                  <a:lnTo>
                    <a:pt x="0" y="821"/>
                  </a:lnTo>
                  <a:lnTo>
                    <a:pt x="0" y="1050"/>
                  </a:lnTo>
                  <a:lnTo>
                    <a:pt x="52" y="1266"/>
                  </a:lnTo>
                  <a:lnTo>
                    <a:pt x="101" y="1517"/>
                  </a:lnTo>
                  <a:lnTo>
                    <a:pt x="101" y="1668"/>
                  </a:lnTo>
                  <a:lnTo>
                    <a:pt x="52" y="1849"/>
                  </a:lnTo>
                  <a:lnTo>
                    <a:pt x="243" y="2109"/>
                  </a:lnTo>
                  <a:lnTo>
                    <a:pt x="322" y="2065"/>
                  </a:lnTo>
                  <a:lnTo>
                    <a:pt x="371" y="1893"/>
                  </a:lnTo>
                  <a:lnTo>
                    <a:pt x="464" y="1655"/>
                  </a:lnTo>
                  <a:lnTo>
                    <a:pt x="468" y="1531"/>
                  </a:lnTo>
                  <a:lnTo>
                    <a:pt x="397" y="1306"/>
                  </a:lnTo>
                  <a:lnTo>
                    <a:pt x="309" y="1076"/>
                  </a:lnTo>
                  <a:lnTo>
                    <a:pt x="278" y="922"/>
                  </a:lnTo>
                  <a:lnTo>
                    <a:pt x="278" y="768"/>
                  </a:lnTo>
                  <a:lnTo>
                    <a:pt x="309" y="631"/>
                  </a:lnTo>
                  <a:lnTo>
                    <a:pt x="371" y="463"/>
                  </a:lnTo>
                  <a:lnTo>
                    <a:pt x="371" y="388"/>
                  </a:lnTo>
                  <a:lnTo>
                    <a:pt x="340" y="326"/>
                  </a:lnTo>
                  <a:lnTo>
                    <a:pt x="428" y="238"/>
                  </a:lnTo>
                  <a:lnTo>
                    <a:pt x="428" y="163"/>
                  </a:lnTo>
                  <a:lnTo>
                    <a:pt x="309" y="0"/>
                  </a:lnTo>
                  <a:lnTo>
                    <a:pt x="406" y="163"/>
                  </a:lnTo>
                  <a:lnTo>
                    <a:pt x="406" y="224"/>
                  </a:lnTo>
                  <a:lnTo>
                    <a:pt x="318" y="295"/>
                  </a:lnTo>
                  <a:lnTo>
                    <a:pt x="358" y="388"/>
                  </a:lnTo>
                  <a:lnTo>
                    <a:pt x="340" y="463"/>
                  </a:lnTo>
                  <a:lnTo>
                    <a:pt x="252" y="658"/>
                  </a:lnTo>
                  <a:lnTo>
                    <a:pt x="243" y="847"/>
                  </a:lnTo>
                  <a:lnTo>
                    <a:pt x="265" y="1019"/>
                  </a:lnTo>
                  <a:lnTo>
                    <a:pt x="322" y="1279"/>
                  </a:lnTo>
                  <a:lnTo>
                    <a:pt x="397" y="1478"/>
                  </a:lnTo>
                  <a:lnTo>
                    <a:pt x="397" y="1646"/>
                  </a:lnTo>
                  <a:lnTo>
                    <a:pt x="358" y="1849"/>
                  </a:lnTo>
                  <a:lnTo>
                    <a:pt x="265" y="2065"/>
                  </a:lnTo>
                  <a:lnTo>
                    <a:pt x="154" y="1951"/>
                  </a:lnTo>
                  <a:lnTo>
                    <a:pt x="110" y="1849"/>
                  </a:lnTo>
                  <a:lnTo>
                    <a:pt x="114" y="1646"/>
                  </a:lnTo>
                  <a:lnTo>
                    <a:pt x="110" y="1438"/>
                  </a:lnTo>
                  <a:lnTo>
                    <a:pt x="52" y="1156"/>
                  </a:lnTo>
                  <a:lnTo>
                    <a:pt x="35" y="966"/>
                  </a:lnTo>
                  <a:lnTo>
                    <a:pt x="52" y="750"/>
                  </a:lnTo>
                  <a:lnTo>
                    <a:pt x="101" y="543"/>
                  </a:lnTo>
                  <a:lnTo>
                    <a:pt x="194" y="335"/>
                  </a:lnTo>
                  <a:lnTo>
                    <a:pt x="110" y="255"/>
                  </a:lnTo>
                  <a:lnTo>
                    <a:pt x="101" y="105"/>
                  </a:lnTo>
                  <a:lnTo>
                    <a:pt x="189"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2" name=""/>
            <p:cNvSpPr/>
            <p:nvPr/>
          </p:nvSpPr>
          <p:spPr>
            <a:xfrm>
              <a:off x="8220240" y="384120"/>
              <a:ext cx="265320" cy="370080"/>
            </a:xfrm>
            <a:custGeom>
              <a:avLst/>
              <a:gdLst/>
              <a:ahLst/>
              <a:rect l="0" t="0" r="r" b="b"/>
              <a:pathLst>
                <a:path w="737" h="1028">
                  <a:moveTo>
                    <a:pt x="119" y="264"/>
                  </a:moveTo>
                  <a:lnTo>
                    <a:pt x="233" y="238"/>
                  </a:lnTo>
                  <a:lnTo>
                    <a:pt x="335" y="246"/>
                  </a:lnTo>
                  <a:lnTo>
                    <a:pt x="424" y="295"/>
                  </a:lnTo>
                  <a:lnTo>
                    <a:pt x="472" y="348"/>
                  </a:lnTo>
                  <a:lnTo>
                    <a:pt x="494" y="401"/>
                  </a:lnTo>
                  <a:lnTo>
                    <a:pt x="494" y="454"/>
                  </a:lnTo>
                  <a:lnTo>
                    <a:pt x="472" y="489"/>
                  </a:lnTo>
                  <a:lnTo>
                    <a:pt x="419" y="511"/>
                  </a:lnTo>
                  <a:lnTo>
                    <a:pt x="361" y="516"/>
                  </a:lnTo>
                  <a:lnTo>
                    <a:pt x="304" y="498"/>
                  </a:lnTo>
                  <a:lnTo>
                    <a:pt x="233" y="458"/>
                  </a:lnTo>
                  <a:lnTo>
                    <a:pt x="185" y="414"/>
                  </a:lnTo>
                  <a:lnTo>
                    <a:pt x="163" y="547"/>
                  </a:lnTo>
                  <a:lnTo>
                    <a:pt x="119" y="644"/>
                  </a:lnTo>
                  <a:lnTo>
                    <a:pt x="0" y="860"/>
                  </a:lnTo>
                  <a:lnTo>
                    <a:pt x="180" y="1028"/>
                  </a:lnTo>
                  <a:lnTo>
                    <a:pt x="317" y="750"/>
                  </a:lnTo>
                  <a:lnTo>
                    <a:pt x="472" y="768"/>
                  </a:lnTo>
                  <a:lnTo>
                    <a:pt x="561" y="755"/>
                  </a:lnTo>
                  <a:lnTo>
                    <a:pt x="653" y="688"/>
                  </a:lnTo>
                  <a:lnTo>
                    <a:pt x="706" y="609"/>
                  </a:lnTo>
                  <a:lnTo>
                    <a:pt x="737" y="507"/>
                  </a:lnTo>
                  <a:lnTo>
                    <a:pt x="737" y="388"/>
                  </a:lnTo>
                  <a:lnTo>
                    <a:pt x="706" y="277"/>
                  </a:lnTo>
                  <a:lnTo>
                    <a:pt x="653" y="158"/>
                  </a:lnTo>
                  <a:lnTo>
                    <a:pt x="574" y="70"/>
                  </a:lnTo>
                  <a:lnTo>
                    <a:pt x="481" y="26"/>
                  </a:lnTo>
                  <a:lnTo>
                    <a:pt x="380" y="0"/>
                  </a:lnTo>
                  <a:lnTo>
                    <a:pt x="246" y="0"/>
                  </a:lnTo>
                  <a:lnTo>
                    <a:pt x="101" y="26"/>
                  </a:lnTo>
                  <a:lnTo>
                    <a:pt x="119" y="26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8174160" y="743040"/>
              <a:ext cx="95760" cy="71640"/>
            </a:xfrm>
            <a:custGeom>
              <a:avLst/>
              <a:gdLst/>
              <a:ahLst/>
              <a:rect l="0" t="0" r="r" b="b"/>
              <a:pathLst>
                <a:path w="266" h="199">
                  <a:moveTo>
                    <a:pt x="106" y="0"/>
                  </a:moveTo>
                  <a:lnTo>
                    <a:pt x="30" y="0"/>
                  </a:lnTo>
                  <a:lnTo>
                    <a:pt x="0" y="26"/>
                  </a:lnTo>
                  <a:lnTo>
                    <a:pt x="0" y="97"/>
                  </a:lnTo>
                  <a:lnTo>
                    <a:pt x="52" y="172"/>
                  </a:lnTo>
                  <a:lnTo>
                    <a:pt x="159" y="199"/>
                  </a:lnTo>
                  <a:lnTo>
                    <a:pt x="240" y="195"/>
                  </a:lnTo>
                  <a:lnTo>
                    <a:pt x="266" y="150"/>
                  </a:lnTo>
                  <a:lnTo>
                    <a:pt x="248" y="111"/>
                  </a:lnTo>
                  <a:lnTo>
                    <a:pt x="218" y="48"/>
                  </a:lnTo>
                  <a:lnTo>
                    <a:pt x="150" y="8"/>
                  </a:lnTo>
                  <a:lnTo>
                    <a:pt x="106" y="0"/>
                  </a:lnTo>
                  <a:close/>
                </a:path>
              </a:pathLst>
            </a:custGeom>
            <a:solidFill>
              <a:srgbClr val="fc0128"/>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4" name=""/>
          <p:cNvSpPr txBox="1"/>
          <p:nvPr/>
        </p:nvSpPr>
        <p:spPr>
          <a:xfrm>
            <a:off x="838080" y="11430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ed Balance Sheet</a:t>
            </a:r>
            <a:endParaRPr b="0" lang="en-US" sz="4400" spc="-1" strike="noStrike">
              <a:solidFill>
                <a:srgbClr val="ffffff"/>
              </a:solidFill>
              <a:latin typeface="Arial"/>
            </a:endParaRPr>
          </a:p>
        </p:txBody>
      </p:sp>
      <p:sp>
        <p:nvSpPr>
          <p:cNvPr id="295" name=""/>
          <p:cNvSpPr txBox="1"/>
          <p:nvPr/>
        </p:nvSpPr>
        <p:spPr>
          <a:xfrm>
            <a:off x="2022480" y="2495520"/>
            <a:ext cx="6815160" cy="2514600"/>
          </a:xfrm>
          <a:prstGeom prst="rect">
            <a:avLst/>
          </a:prstGeom>
          <a:noFill/>
          <a:ln w="0">
            <a:noFill/>
          </a:ln>
        </p:spPr>
        <p:txBody>
          <a:bodyPr lIns="0" rIns="0" tIns="0" bIns="0" anchor="t">
            <a:noAutofit/>
          </a:bodyPr>
          <a:p>
            <a:pPr marL="343080" indent="-343080">
              <a:lnSpc>
                <a:spcPct val="100000"/>
              </a:lnSpc>
              <a:spcBef>
                <a:spcPts val="479"/>
              </a:spcBef>
            </a:pPr>
            <a:r>
              <a:rPr b="1" lang="en-US" sz="3600" spc="-1" strike="noStrike">
                <a:solidFill>
                  <a:srgbClr val="fcffd8"/>
                </a:solidFill>
                <a:latin typeface="Arial"/>
                <a:ea typeface="Arial"/>
              </a:rPr>
              <a:t>OBJECTIVE 5</a:t>
            </a:r>
            <a:endParaRPr b="0" lang="en-US" sz="36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Identify and describe the basic</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components of a classified</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balance sheet.</a:t>
            </a:r>
            <a:endParaRPr b="0" lang="en-US" sz="3200" spc="-1" strike="noStrike">
              <a:solidFill>
                <a:srgbClr val="ffffff"/>
              </a:solidFill>
              <a:latin typeface="Arial"/>
            </a:endParaRPr>
          </a:p>
        </p:txBody>
      </p:sp>
      <p:pic>
        <p:nvPicPr>
          <p:cNvPr id="296"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7" name=""/>
          <p:cNvSpPr txBox="1"/>
          <p:nvPr/>
        </p:nvSpPr>
        <p:spPr>
          <a:xfrm>
            <a:off x="609480" y="533520"/>
            <a:ext cx="831528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a:t>
            </a:r>
            <a:endParaRPr b="0" lang="en-US" sz="4400" spc="-1" strike="noStrike">
              <a:solidFill>
                <a:srgbClr val="ffffff"/>
              </a:solidFill>
              <a:latin typeface="Arial"/>
            </a:endParaRPr>
          </a:p>
        </p:txBody>
      </p:sp>
      <p:sp>
        <p:nvSpPr>
          <p:cNvPr id="298" name=""/>
          <p:cNvSpPr txBox="1"/>
          <p:nvPr/>
        </p:nvSpPr>
        <p:spPr>
          <a:xfrm>
            <a:off x="1741320" y="1814400"/>
            <a:ext cx="6757920" cy="3441600"/>
          </a:xfrm>
          <a:prstGeom prst="rect">
            <a:avLst/>
          </a:prstGeom>
          <a:noFill/>
          <a:ln w="0">
            <a:noFill/>
          </a:ln>
        </p:spPr>
        <p:txBody>
          <a:bodyPr lIns="0" rIns="0" tIns="0" bIns="0" anchor="t">
            <a:noAutofit/>
          </a:bodyPr>
          <a:p>
            <a:pPr marL="343080" indent="-343080">
              <a:lnSpc>
                <a:spcPct val="14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Current assets.</a:t>
            </a:r>
            <a:endParaRPr b="0" lang="en-US" sz="3200" spc="-1" strike="noStrike">
              <a:solidFill>
                <a:srgbClr val="ffffff"/>
              </a:solidFill>
              <a:latin typeface="Arial"/>
            </a:endParaRPr>
          </a:p>
          <a:p>
            <a:pPr marL="343080" indent="-343080">
              <a:lnSpc>
                <a:spcPct val="140000"/>
              </a:lnSpc>
              <a:spcBef>
                <a:spcPts val="47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Investments.</a:t>
            </a:r>
            <a:endParaRPr b="0" lang="en-US" sz="3200" spc="-1" strike="noStrike">
              <a:solidFill>
                <a:srgbClr val="ffffff"/>
              </a:solidFill>
              <a:latin typeface="Arial"/>
            </a:endParaRPr>
          </a:p>
          <a:p>
            <a:pPr marL="343080" indent="-343080">
              <a:lnSpc>
                <a:spcPct val="140000"/>
              </a:lnSpc>
              <a:spcBef>
                <a:spcPts val="479"/>
              </a:spcBef>
            </a:pPr>
            <a:r>
              <a:rPr b="1" lang="en-US" sz="3200" spc="-1" strike="noStrike">
                <a:solidFill>
                  <a:srgbClr val="fcffd8"/>
                </a:solidFill>
                <a:latin typeface="Arial"/>
                <a:ea typeface="Arial"/>
              </a:rPr>
              <a:t>3.</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Property, plant, and equipment.</a:t>
            </a:r>
            <a:endParaRPr b="0" lang="en-US" sz="3200" spc="-1" strike="noStrike">
              <a:solidFill>
                <a:srgbClr val="ffffff"/>
              </a:solidFill>
              <a:latin typeface="Arial"/>
            </a:endParaRPr>
          </a:p>
          <a:p>
            <a:pPr marL="343080" indent="-343080">
              <a:lnSpc>
                <a:spcPct val="140000"/>
              </a:lnSpc>
              <a:spcBef>
                <a:spcPts val="479"/>
              </a:spcBef>
            </a:pPr>
            <a:r>
              <a:rPr b="1" lang="en-US" sz="3200" spc="-1" strike="noStrike">
                <a:solidFill>
                  <a:srgbClr val="fcffd8"/>
                </a:solidFill>
                <a:latin typeface="Arial"/>
                <a:ea typeface="Arial"/>
              </a:rPr>
              <a:t>4.</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Intangible assets.</a:t>
            </a:r>
            <a:endParaRPr b="0" lang="en-US" sz="3200" spc="-1" strike="noStrike">
              <a:solidFill>
                <a:srgbClr val="ffffff"/>
              </a:solidFill>
              <a:latin typeface="Arial"/>
            </a:endParaRPr>
          </a:p>
        </p:txBody>
      </p:sp>
      <p:sp>
        <p:nvSpPr>
          <p:cNvPr id="299" name=""/>
          <p:cNvSpPr/>
          <p:nvPr/>
        </p:nvSpPr>
        <p:spPr>
          <a:xfrm>
            <a:off x="1312920" y="1979640"/>
            <a:ext cx="6840360" cy="515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 name=""/>
          <p:cNvSpPr txBox="1"/>
          <p:nvPr/>
        </p:nvSpPr>
        <p:spPr>
          <a:xfrm>
            <a:off x="973080" y="1036800"/>
            <a:ext cx="8153280" cy="5253120"/>
          </a:xfrm>
          <a:prstGeom prst="rect">
            <a:avLst/>
          </a:prstGeom>
          <a:noFill/>
          <a:ln w="0">
            <a:noFill/>
          </a:ln>
        </p:spPr>
        <p:txBody>
          <a:bodyPr lIns="0" rIns="0" tIns="0" bIns="0" anchor="t">
            <a:noAutofit/>
          </a:bodyPr>
          <a:p>
            <a:pPr marL="457200" indent="-457200">
              <a:lnSpc>
                <a:spcPct val="100000"/>
              </a:lnSpc>
              <a:spcBef>
                <a:spcPts val="479"/>
              </a:spcBef>
            </a:pPr>
            <a:r>
              <a:rPr b="1" lang="en-US" sz="3200" spc="-1" strike="noStrike">
                <a:solidFill>
                  <a:srgbClr val="fcffd8"/>
                </a:solidFill>
                <a:latin typeface="Arial"/>
                <a:ea typeface="Arial"/>
              </a:rPr>
              <a:t>4.</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Explain management’s responsibility for ethical financial reporting and define </a:t>
            </a:r>
            <a:r>
              <a:rPr b="1" i="1" lang="en-US" sz="3200" spc="-1" strike="noStrike">
                <a:solidFill>
                  <a:srgbClr val="fcffd8"/>
                </a:solidFill>
                <a:latin typeface="Arial"/>
                <a:ea typeface="Arial"/>
              </a:rPr>
              <a:t>fraudulent financial reporting.</a:t>
            </a:r>
            <a:r>
              <a:rPr b="1" lang="en-US" sz="3200" spc="-1" strike="noStrike">
                <a:solidFill>
                  <a:srgbClr val="fcffd8"/>
                </a:solidFill>
                <a:latin typeface="Arial"/>
                <a:ea typeface="Arial"/>
              </a:rPr>
              <a:t> </a:t>
            </a:r>
            <a:endParaRPr b="0" lang="en-US" sz="3200" spc="-1" strike="noStrike">
              <a:solidFill>
                <a:srgbClr val="ffffff"/>
              </a:solidFill>
              <a:latin typeface="Arial"/>
            </a:endParaRPr>
          </a:p>
          <a:p>
            <a:pPr marL="457200" indent="-457200">
              <a:lnSpc>
                <a:spcPct val="100000"/>
              </a:lnSpc>
              <a:spcBef>
                <a:spcPts val="479"/>
              </a:spcBef>
            </a:pPr>
            <a:r>
              <a:rPr b="1" lang="en-US" sz="3200" spc="-1" strike="noStrike">
                <a:solidFill>
                  <a:srgbClr val="fcffd8"/>
                </a:solidFill>
                <a:latin typeface="Arial"/>
                <a:ea typeface="Arial"/>
              </a:rPr>
              <a:t>5.</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dentify and describe the basic components of a classified balance sheet.</a:t>
            </a:r>
            <a:endParaRPr b="0" lang="en-US" sz="3200" spc="-1" strike="noStrike">
              <a:solidFill>
                <a:srgbClr val="ffffff"/>
              </a:solidFill>
              <a:latin typeface="Arial"/>
            </a:endParaRPr>
          </a:p>
          <a:p>
            <a:pPr marL="457200" indent="-457200">
              <a:lnSpc>
                <a:spcPct val="100000"/>
              </a:lnSpc>
              <a:spcBef>
                <a:spcPts val="479"/>
              </a:spcBef>
            </a:pPr>
            <a:r>
              <a:rPr b="1" lang="en-US" sz="3200" spc="-1" strike="noStrike">
                <a:solidFill>
                  <a:srgbClr val="fcffd8"/>
                </a:solidFill>
                <a:latin typeface="Arial"/>
                <a:ea typeface="Arial"/>
              </a:rPr>
              <a:t>6.</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repare multistep and single-step classified income statements.</a:t>
            </a:r>
            <a:endParaRPr b="0" lang="en-US" sz="3200" spc="-1" strike="noStrike">
              <a:solidFill>
                <a:srgbClr val="ffffff"/>
              </a:solidFill>
              <a:latin typeface="Arial"/>
            </a:endParaRPr>
          </a:p>
          <a:p>
            <a:pPr marL="457200" indent="-457200">
              <a:lnSpc>
                <a:spcPct val="100000"/>
              </a:lnSpc>
              <a:spcBef>
                <a:spcPts val="479"/>
              </a:spcBef>
            </a:pPr>
            <a:r>
              <a:rPr b="1" lang="en-US" sz="3200" spc="-1" strike="noStrike">
                <a:solidFill>
                  <a:srgbClr val="fcffd8"/>
                </a:solidFill>
                <a:latin typeface="Arial"/>
                <a:ea typeface="Arial"/>
              </a:rPr>
              <a:t>7.</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Evaluate liquidity and profitability using classified financial statements.</a:t>
            </a:r>
            <a:endParaRPr b="0" lang="en-US" sz="3200" spc="-1" strike="noStrike">
              <a:solidFill>
                <a:srgbClr val="ffffff"/>
              </a:solidFill>
              <a:latin typeface="Arial"/>
            </a:endParaRPr>
          </a:p>
        </p:txBody>
      </p:sp>
      <p:sp>
        <p:nvSpPr>
          <p:cNvPr id="49" name=""/>
          <p:cNvSpPr txBox="1"/>
          <p:nvPr/>
        </p:nvSpPr>
        <p:spPr>
          <a:xfrm>
            <a:off x="1066680" y="228600"/>
            <a:ext cx="7650000" cy="988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50"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00" name=""/>
          <p:cNvSpPr txBox="1"/>
          <p:nvPr/>
        </p:nvSpPr>
        <p:spPr>
          <a:xfrm>
            <a:off x="1467000" y="304920"/>
            <a:ext cx="683892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 Current Assets</a:t>
            </a:r>
            <a:endParaRPr b="0" lang="en-US" sz="4400" spc="-1" strike="noStrike">
              <a:solidFill>
                <a:srgbClr val="ffffff"/>
              </a:solidFill>
              <a:latin typeface="Arial"/>
            </a:endParaRPr>
          </a:p>
        </p:txBody>
      </p:sp>
      <p:sp>
        <p:nvSpPr>
          <p:cNvPr id="301" name=""/>
          <p:cNvSpPr txBox="1"/>
          <p:nvPr/>
        </p:nvSpPr>
        <p:spPr>
          <a:xfrm>
            <a:off x="762120" y="1752480"/>
            <a:ext cx="7010280" cy="42238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Cash and other assets that are reasonably expected to be realized in cash, sold, or consumed over the next year or the normal operating cycle of the business, whichever is longer.</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Cash to cash cycl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Listed in order of </a:t>
            </a:r>
            <a:br>
              <a:rPr sz="3200"/>
            </a:br>
            <a:r>
              <a:rPr b="1" lang="en-US" sz="3200" spc="-1" strike="noStrike">
                <a:solidFill>
                  <a:srgbClr val="fcffd8"/>
                </a:solidFill>
                <a:latin typeface="Arial"/>
                <a:ea typeface="Arial"/>
              </a:rPr>
              <a:t>decreasing liquidity.</a:t>
            </a:r>
            <a:endParaRPr b="0" lang="en-US" sz="3200" spc="-1" strike="noStrike">
              <a:solidFill>
                <a:srgbClr val="ffffff"/>
              </a:solidFill>
              <a:latin typeface="Arial"/>
            </a:endParaRPr>
          </a:p>
        </p:txBody>
      </p:sp>
      <p:pic>
        <p:nvPicPr>
          <p:cNvPr id="302" name="" descr=""/>
          <p:cNvPicPr/>
          <p:nvPr/>
        </p:nvPicPr>
        <p:blipFill>
          <a:blip r:embed="rId1"/>
          <a:stretch/>
        </p:blipFill>
        <p:spPr>
          <a:xfrm>
            <a:off x="7188120" y="4189320"/>
            <a:ext cx="1714680" cy="2187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03" name=""/>
          <p:cNvSpPr txBox="1"/>
          <p:nvPr/>
        </p:nvSpPr>
        <p:spPr>
          <a:xfrm>
            <a:off x="914400" y="45720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 Investments</a:t>
            </a:r>
            <a:endParaRPr b="0" lang="en-US" sz="4400" spc="-1" strike="noStrike">
              <a:solidFill>
                <a:srgbClr val="ffffff"/>
              </a:solidFill>
              <a:latin typeface="Arial"/>
            </a:endParaRPr>
          </a:p>
        </p:txBody>
      </p:sp>
      <p:sp>
        <p:nvSpPr>
          <p:cNvPr id="304" name=""/>
          <p:cNvSpPr txBox="1"/>
          <p:nvPr/>
        </p:nvSpPr>
        <p:spPr>
          <a:xfrm>
            <a:off x="801720" y="1838160"/>
            <a:ext cx="5697360" cy="40402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nvestments are assets, usually long term, that are not used in the normal operations of the business and that management does not plan to convert to cash within the next year.</a:t>
            </a:r>
            <a:endParaRPr b="0" lang="en-US" sz="3200" spc="-1" strike="noStrike">
              <a:solidFill>
                <a:srgbClr val="ffffff"/>
              </a:solidFill>
              <a:latin typeface="Arial"/>
            </a:endParaRPr>
          </a:p>
        </p:txBody>
      </p:sp>
      <p:pic>
        <p:nvPicPr>
          <p:cNvPr id="305" name="" descr=""/>
          <p:cNvPicPr/>
          <p:nvPr/>
        </p:nvPicPr>
        <p:blipFill>
          <a:blip r:embed="rId1"/>
          <a:stretch/>
        </p:blipFill>
        <p:spPr>
          <a:xfrm>
            <a:off x="6375240" y="4111560"/>
            <a:ext cx="2387520" cy="194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06" name=""/>
          <p:cNvSpPr txBox="1"/>
          <p:nvPr/>
        </p:nvSpPr>
        <p:spPr>
          <a:xfrm>
            <a:off x="609480" y="304920"/>
            <a:ext cx="830592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 Property, Plant, and Equipment</a:t>
            </a:r>
            <a:endParaRPr b="0" lang="en-US" sz="4400" spc="-1" strike="noStrike">
              <a:solidFill>
                <a:srgbClr val="ffffff"/>
              </a:solidFill>
              <a:latin typeface="Arial"/>
            </a:endParaRPr>
          </a:p>
        </p:txBody>
      </p:sp>
      <p:sp>
        <p:nvSpPr>
          <p:cNvPr id="307" name=""/>
          <p:cNvSpPr txBox="1"/>
          <p:nvPr/>
        </p:nvSpPr>
        <p:spPr>
          <a:xfrm>
            <a:off x="685800" y="2274840"/>
            <a:ext cx="5867280" cy="41148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Long-term assets used in the continuing operation of the busines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lso called fixed, operating, long-lived, or tangible asset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Often abbreviated PP&amp;E.</a:t>
            </a:r>
            <a:endParaRPr b="0" lang="en-US" sz="3200" spc="-1" strike="noStrike">
              <a:solidFill>
                <a:srgbClr val="ffffff"/>
              </a:solidFill>
              <a:latin typeface="Arial"/>
            </a:endParaRPr>
          </a:p>
        </p:txBody>
      </p:sp>
      <p:grpSp>
        <p:nvGrpSpPr>
          <p:cNvPr id="308" name=""/>
          <p:cNvGrpSpPr/>
          <p:nvPr/>
        </p:nvGrpSpPr>
        <p:grpSpPr>
          <a:xfrm>
            <a:off x="6076800" y="3479760"/>
            <a:ext cx="2784960" cy="2809800"/>
            <a:chOff x="6076800" y="3479760"/>
            <a:chExt cx="2784960" cy="2809800"/>
          </a:xfrm>
        </p:grpSpPr>
        <p:pic>
          <p:nvPicPr>
            <p:cNvPr id="309" name="" descr=""/>
            <p:cNvPicPr/>
            <p:nvPr/>
          </p:nvPicPr>
          <p:blipFill>
            <a:blip r:embed="rId1"/>
            <a:stretch/>
          </p:blipFill>
          <p:spPr>
            <a:xfrm>
              <a:off x="7604280" y="4740120"/>
              <a:ext cx="1257480" cy="1533600"/>
            </a:xfrm>
            <a:prstGeom prst="rect">
              <a:avLst/>
            </a:prstGeom>
            <a:ln w="0">
              <a:noFill/>
            </a:ln>
          </p:spPr>
        </p:pic>
        <p:pic>
          <p:nvPicPr>
            <p:cNvPr id="310" name="" descr=""/>
            <p:cNvPicPr/>
            <p:nvPr/>
          </p:nvPicPr>
          <p:blipFill>
            <a:blip r:embed="rId2"/>
            <a:stretch/>
          </p:blipFill>
          <p:spPr>
            <a:xfrm>
              <a:off x="6076800" y="3479760"/>
              <a:ext cx="2179800" cy="2809800"/>
            </a:xfrm>
            <a:prstGeom prst="rect">
              <a:avLst/>
            </a:prstGeom>
            <a:ln w="0">
              <a:noFill/>
            </a:ln>
          </p:spPr>
        </p:pic>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11" name=""/>
          <p:cNvSpPr txBox="1"/>
          <p:nvPr/>
        </p:nvSpPr>
        <p:spPr>
          <a:xfrm>
            <a:off x="685800" y="380880"/>
            <a:ext cx="802656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a:t>
            </a:r>
            <a:br>
              <a:rPr sz="4400"/>
            </a:br>
            <a:r>
              <a:rPr b="1" lang="en-US" sz="4400" spc="-1" strike="noStrike">
                <a:solidFill>
                  <a:srgbClr val="ffcc66"/>
                </a:solidFill>
                <a:latin typeface="Arial"/>
                <a:ea typeface="Arial"/>
              </a:rPr>
              <a:t> Intangible Assets</a:t>
            </a:r>
            <a:endParaRPr b="0" lang="en-US" sz="4400" spc="-1" strike="noStrike">
              <a:solidFill>
                <a:srgbClr val="ffffff"/>
              </a:solidFill>
              <a:latin typeface="Arial"/>
            </a:endParaRPr>
          </a:p>
        </p:txBody>
      </p:sp>
      <p:sp>
        <p:nvSpPr>
          <p:cNvPr id="312" name=""/>
          <p:cNvSpPr txBox="1"/>
          <p:nvPr/>
        </p:nvSpPr>
        <p:spPr>
          <a:xfrm>
            <a:off x="996840" y="2046240"/>
            <a:ext cx="5334120" cy="35053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ntangible assets are long-term assets that have no physical substance but have a value based on the rights or privileges that belong to their owner.</a:t>
            </a:r>
            <a:endParaRPr b="0" lang="en-US" sz="3200" spc="-1" strike="noStrike">
              <a:solidFill>
                <a:srgbClr val="ffffff"/>
              </a:solidFill>
              <a:latin typeface="Arial"/>
            </a:endParaRPr>
          </a:p>
        </p:txBody>
      </p:sp>
      <p:sp>
        <p:nvSpPr>
          <p:cNvPr id="313" name=""/>
          <p:cNvSpPr txBox="1"/>
          <p:nvPr/>
        </p:nvSpPr>
        <p:spPr>
          <a:xfrm>
            <a:off x="6534000" y="4241880"/>
            <a:ext cx="1093680" cy="14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314" name=""/>
          <p:cNvSpPr/>
          <p:nvPr/>
        </p:nvSpPr>
        <p:spPr>
          <a:xfrm>
            <a:off x="5945040" y="3209760"/>
            <a:ext cx="200160" cy="453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5" name=""/>
          <p:cNvSpPr txBox="1"/>
          <p:nvPr/>
        </p:nvSpPr>
        <p:spPr>
          <a:xfrm>
            <a:off x="6649920" y="3300480"/>
            <a:ext cx="1798560" cy="2374920"/>
          </a:xfrm>
          <a:prstGeom prst="rect">
            <a:avLst/>
          </a:prstGeom>
          <a:noFill/>
          <a:ln w="0">
            <a:noFill/>
          </a:ln>
        </p:spPr>
        <p:txBody>
          <a:bodyPr lIns="0" rIns="0" tIns="0" bIns="0" anchor="t">
            <a:noAutofit/>
          </a:bodyPr>
          <a:p>
            <a:pPr>
              <a:lnSpc>
                <a:spcPct val="100000"/>
              </a:lnSpc>
            </a:pPr>
            <a:r>
              <a:rPr b="1" lang="en-US" sz="15000" spc="-1" strike="noStrike">
                <a:solidFill>
                  <a:srgbClr val="fc0128"/>
                </a:solidFill>
                <a:latin typeface="Symbol"/>
                <a:ea typeface="Symbol"/>
              </a:rPr>
              <a:t>®</a:t>
            </a:r>
            <a:endParaRPr b="0" lang="en-US" sz="1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16" name=""/>
          <p:cNvSpPr txBox="1"/>
          <p:nvPr/>
        </p:nvSpPr>
        <p:spPr>
          <a:xfrm>
            <a:off x="1219320" y="457200"/>
            <a:ext cx="7184880" cy="1752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 Other Assets</a:t>
            </a:r>
            <a:endParaRPr b="0" lang="en-US" sz="4400" spc="-1" strike="noStrike">
              <a:solidFill>
                <a:srgbClr val="ffffff"/>
              </a:solidFill>
              <a:latin typeface="Arial"/>
            </a:endParaRPr>
          </a:p>
        </p:txBody>
      </p:sp>
      <p:sp>
        <p:nvSpPr>
          <p:cNvPr id="317" name=""/>
          <p:cNvSpPr txBox="1"/>
          <p:nvPr/>
        </p:nvSpPr>
        <p:spPr>
          <a:xfrm>
            <a:off x="1295280" y="2286000"/>
            <a:ext cx="7157880" cy="28414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Other assets are sometimes used for all owned assets other than current assets, investments, PP&amp;E, and intangi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18" name=""/>
          <p:cNvSpPr txBox="1"/>
          <p:nvPr/>
        </p:nvSpPr>
        <p:spPr>
          <a:xfrm>
            <a:off x="914400" y="457200"/>
            <a:ext cx="792468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Liabilities</a:t>
            </a:r>
            <a:endParaRPr b="0" lang="en-US" sz="4400" spc="-1" strike="noStrike">
              <a:solidFill>
                <a:srgbClr val="ffffff"/>
              </a:solidFill>
              <a:latin typeface="Arial"/>
            </a:endParaRPr>
          </a:p>
        </p:txBody>
      </p:sp>
      <p:sp>
        <p:nvSpPr>
          <p:cNvPr id="319" name=""/>
          <p:cNvSpPr txBox="1"/>
          <p:nvPr/>
        </p:nvSpPr>
        <p:spPr>
          <a:xfrm>
            <a:off x="1447920" y="1981080"/>
            <a:ext cx="7162920" cy="28954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Liabilities are divided into two categories:</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urrent liabilities.</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Long-term lia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0" name=""/>
          <p:cNvSpPr txBox="1"/>
          <p:nvPr/>
        </p:nvSpPr>
        <p:spPr>
          <a:xfrm>
            <a:off x="809640" y="444600"/>
            <a:ext cx="802476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Liabilities: Current Liabilities</a:t>
            </a:r>
            <a:endParaRPr b="0" lang="en-US" sz="4400" spc="-1" strike="noStrike">
              <a:solidFill>
                <a:srgbClr val="ffffff"/>
              </a:solidFill>
              <a:latin typeface="Arial"/>
            </a:endParaRPr>
          </a:p>
        </p:txBody>
      </p:sp>
      <p:sp>
        <p:nvSpPr>
          <p:cNvPr id="321" name=""/>
          <p:cNvSpPr txBox="1"/>
          <p:nvPr/>
        </p:nvSpPr>
        <p:spPr>
          <a:xfrm>
            <a:off x="1219320" y="2057400"/>
            <a:ext cx="7010280" cy="3809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urrent liabilities are obligations due to be paid or performed within a year or within the normal operating cycle of the business, whichever is long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2" name=""/>
          <p:cNvSpPr txBox="1"/>
          <p:nvPr/>
        </p:nvSpPr>
        <p:spPr>
          <a:xfrm>
            <a:off x="762120" y="457200"/>
            <a:ext cx="80010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Liabilities: Long-Term Liabilities</a:t>
            </a:r>
            <a:endParaRPr b="0" lang="en-US" sz="4400" spc="-1" strike="noStrike">
              <a:solidFill>
                <a:srgbClr val="ffffff"/>
              </a:solidFill>
              <a:latin typeface="Arial"/>
            </a:endParaRPr>
          </a:p>
        </p:txBody>
      </p:sp>
      <p:sp>
        <p:nvSpPr>
          <p:cNvPr id="323" name=""/>
          <p:cNvSpPr txBox="1"/>
          <p:nvPr/>
        </p:nvSpPr>
        <p:spPr>
          <a:xfrm>
            <a:off x="1190520" y="2011320"/>
            <a:ext cx="7162920" cy="36576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Long-term liabilities are the debts of a business that fall due more than one year in the future or beyond the normal operating cycle, or that are paid out of non-current asse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4" name=""/>
          <p:cNvSpPr txBox="1"/>
          <p:nvPr/>
        </p:nvSpPr>
        <p:spPr>
          <a:xfrm>
            <a:off x="826920" y="58104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wner’s Equity</a:t>
            </a:r>
            <a:endParaRPr b="0" lang="en-US" sz="4400" spc="-1" strike="noStrike">
              <a:solidFill>
                <a:srgbClr val="ffffff"/>
              </a:solidFill>
              <a:latin typeface="Arial"/>
            </a:endParaRPr>
          </a:p>
        </p:txBody>
      </p:sp>
      <p:sp>
        <p:nvSpPr>
          <p:cNvPr id="325" name=""/>
          <p:cNvSpPr txBox="1"/>
          <p:nvPr/>
        </p:nvSpPr>
        <p:spPr>
          <a:xfrm>
            <a:off x="1353960" y="1698480"/>
            <a:ext cx="7034040" cy="38466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Classification is affected by the form of business organization:</a:t>
            </a:r>
            <a:endParaRPr b="0" lang="en-US" sz="3200" spc="-1" strike="noStrike">
              <a:solidFill>
                <a:srgbClr val="ffffff"/>
              </a:solidFill>
              <a:latin typeface="Arial"/>
            </a:endParaRPr>
          </a:p>
          <a:p>
            <a:pPr lvl="1" marL="743040" indent="-285840">
              <a:lnSpc>
                <a:spcPct val="140000"/>
              </a:lnSpc>
              <a:spcBef>
                <a:spcPts val="479"/>
              </a:spcBef>
              <a:buClr>
                <a:srgbClr val="ffcc66"/>
              </a:buClr>
              <a:buFont typeface="Symbol"/>
              <a:buChar char=""/>
            </a:pPr>
            <a:r>
              <a:rPr b="1" lang="en-US" sz="3200" spc="-1" strike="noStrike">
                <a:solidFill>
                  <a:srgbClr val="fcffd8"/>
                </a:solidFill>
                <a:latin typeface="Arial"/>
                <a:ea typeface="Arial"/>
              </a:rPr>
              <a:t>Sole Proprietorship.</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Partnership.</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Corpo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6" name=""/>
          <p:cNvSpPr txBox="1"/>
          <p:nvPr/>
        </p:nvSpPr>
        <p:spPr>
          <a:xfrm>
            <a:off x="838080" y="5335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wner’s Equity</a:t>
            </a:r>
            <a:endParaRPr b="0" lang="en-US" sz="4400" spc="-1" strike="noStrike">
              <a:solidFill>
                <a:srgbClr val="ffffff"/>
              </a:solidFill>
              <a:latin typeface="Arial"/>
            </a:endParaRPr>
          </a:p>
        </p:txBody>
      </p:sp>
      <p:sp>
        <p:nvSpPr>
          <p:cNvPr id="327" name=""/>
          <p:cNvSpPr txBox="1"/>
          <p:nvPr/>
        </p:nvSpPr>
        <p:spPr>
          <a:xfrm>
            <a:off x="1173240" y="1617840"/>
            <a:ext cx="7473960" cy="4208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ole Proprietorship</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Owner’s equity represented by Owner’s Capital account.</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artnership</a:t>
            </a:r>
            <a:r>
              <a:rPr b="1" lang="en-US" sz="3200" spc="-1" strike="noStrike">
                <a:solidFill>
                  <a:srgbClr val="fcffd8"/>
                </a:solidFill>
                <a:latin typeface="Arial"/>
                <a:ea typeface="Arial"/>
              </a:rPr>
              <a:t>	</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Equity section is entitled partners’ equity, with one capital account for each partn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
          <p:cNvSpPr txBox="1"/>
          <p:nvPr/>
        </p:nvSpPr>
        <p:spPr>
          <a:xfrm>
            <a:off x="685800" y="838080"/>
            <a:ext cx="8077320" cy="1405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bjectives of Financial Information</a:t>
            </a:r>
            <a:endParaRPr b="0" lang="en-US" sz="4400" spc="-1" strike="noStrike">
              <a:solidFill>
                <a:srgbClr val="ffffff"/>
              </a:solidFill>
              <a:latin typeface="Arial"/>
            </a:endParaRPr>
          </a:p>
        </p:txBody>
      </p:sp>
      <p:sp>
        <p:nvSpPr>
          <p:cNvPr id="52" name=""/>
          <p:cNvSpPr txBox="1"/>
          <p:nvPr/>
        </p:nvSpPr>
        <p:spPr>
          <a:xfrm>
            <a:off x="2527200" y="2708280"/>
            <a:ext cx="5181480" cy="2057400"/>
          </a:xfrm>
          <a:prstGeom prst="rect">
            <a:avLst/>
          </a:prstGeom>
          <a:noFill/>
          <a:ln w="0">
            <a:noFill/>
          </a:ln>
        </p:spPr>
        <p:txBody>
          <a:bodyPr lIns="0" rIns="0" tIns="0" bIns="0" anchor="t">
            <a:noAutofit/>
          </a:bodyPr>
          <a:p>
            <a:pPr marL="343080" indent="-343080">
              <a:lnSpc>
                <a:spcPct val="100000"/>
              </a:lnSpc>
              <a:spcBef>
                <a:spcPts val="479"/>
              </a:spcBef>
            </a:pPr>
            <a:r>
              <a:rPr b="1" lang="en-US" sz="3600" spc="-1" strike="noStrike">
                <a:solidFill>
                  <a:srgbClr val="fcffd8"/>
                </a:solidFill>
                <a:latin typeface="Arial"/>
                <a:ea typeface="Arial"/>
              </a:rPr>
              <a:t>OBJECTIVE 1</a:t>
            </a:r>
            <a:r>
              <a:rPr b="1" lang="en-US" sz="3200" spc="-1" strike="noStrike">
                <a:solidFill>
                  <a:srgbClr val="000000"/>
                </a:solidFill>
                <a:latin typeface="Arial"/>
                <a:ea typeface="Arial"/>
              </a:rPr>
              <a:t> </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State the objectives of</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financial reporting.</a:t>
            </a:r>
            <a:endParaRPr b="0" lang="en-US" sz="3200" spc="-1" strike="noStrike">
              <a:solidFill>
                <a:srgbClr val="ffffff"/>
              </a:solidFill>
              <a:latin typeface="Arial"/>
            </a:endParaRPr>
          </a:p>
        </p:txBody>
      </p:sp>
      <p:pic>
        <p:nvPicPr>
          <p:cNvPr id="53"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8" name=""/>
          <p:cNvSpPr txBox="1"/>
          <p:nvPr/>
        </p:nvSpPr>
        <p:spPr>
          <a:xfrm>
            <a:off x="896760" y="596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wner’s Equity</a:t>
            </a:r>
            <a:endParaRPr b="0" lang="en-US" sz="4400" spc="-1" strike="noStrike">
              <a:solidFill>
                <a:srgbClr val="ffffff"/>
              </a:solidFill>
              <a:latin typeface="Arial"/>
            </a:endParaRPr>
          </a:p>
        </p:txBody>
      </p:sp>
      <p:sp>
        <p:nvSpPr>
          <p:cNvPr id="329" name=""/>
          <p:cNvSpPr txBox="1"/>
          <p:nvPr/>
        </p:nvSpPr>
        <p:spPr>
          <a:xfrm>
            <a:off x="1432080" y="1670040"/>
            <a:ext cx="6969240" cy="366876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orporation</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On balance sheet, is entitled Stockholders’ Equity and has two parts:</a:t>
            </a:r>
            <a:endParaRPr b="0" lang="en-US" sz="3200" spc="-1" strike="noStrike">
              <a:solidFill>
                <a:srgbClr val="ffffff"/>
              </a:solidFill>
              <a:latin typeface="Arial"/>
            </a:endParaRPr>
          </a:p>
          <a:p>
            <a:pPr lvl="2" marL="1143000" indent="-22860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ontributed Capital.</a:t>
            </a:r>
            <a:endParaRPr b="0" lang="en-US" sz="3200" spc="-1" strike="noStrike">
              <a:solidFill>
                <a:srgbClr val="ffffff"/>
              </a:solidFill>
              <a:latin typeface="Arial"/>
            </a:endParaRPr>
          </a:p>
          <a:p>
            <a:pPr lvl="2" marL="1143000" indent="-22860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Retained Earn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30" name=""/>
          <p:cNvSpPr txBox="1"/>
          <p:nvPr/>
        </p:nvSpPr>
        <p:spPr>
          <a:xfrm>
            <a:off x="814320" y="2120760"/>
            <a:ext cx="8018640" cy="4149720"/>
          </a:xfrm>
          <a:prstGeom prst="rect">
            <a:avLst/>
          </a:prstGeom>
          <a:noFill/>
          <a:ln w="0">
            <a:noFill/>
          </a:ln>
        </p:spPr>
        <p:txBody>
          <a:bodyPr lIns="0" rIns="0" tIns="0" bIns="0" anchor="t">
            <a:noAutofit/>
          </a:bodyPr>
          <a:p>
            <a:pPr marL="343080" indent="-343080">
              <a:lnSpc>
                <a:spcPct val="12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How would a mortgage that is pai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monthly for 120 months be classified?</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The portion due during the next year or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current operating cycle would b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lassified as a current liability; th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ortion due after next year or the curren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perating cycle would be classified as a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long-term liability.</a:t>
            </a:r>
            <a:endParaRPr b="0" lang="en-US" sz="2800" spc="-1" strike="noStrike">
              <a:solidFill>
                <a:srgbClr val="ffffff"/>
              </a:solidFill>
              <a:latin typeface="Arial"/>
            </a:endParaRPr>
          </a:p>
        </p:txBody>
      </p:sp>
      <p:sp>
        <p:nvSpPr>
          <p:cNvPr id="331" name=""/>
          <p:cNvSpPr txBox="1"/>
          <p:nvPr/>
        </p:nvSpPr>
        <p:spPr>
          <a:xfrm>
            <a:off x="1754280" y="920880"/>
            <a:ext cx="56386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332" name=""/>
          <p:cNvGrpSpPr/>
          <p:nvPr/>
        </p:nvGrpSpPr>
        <p:grpSpPr>
          <a:xfrm>
            <a:off x="6707160" y="270000"/>
            <a:ext cx="2034000" cy="1903680"/>
            <a:chOff x="6707160" y="270000"/>
            <a:chExt cx="2034000" cy="1903680"/>
          </a:xfrm>
        </p:grpSpPr>
        <p:sp>
          <p:nvSpPr>
            <p:cNvPr id="333" name=""/>
            <p:cNvSpPr/>
            <p:nvPr/>
          </p:nvSpPr>
          <p:spPr>
            <a:xfrm>
              <a:off x="6711840" y="1203480"/>
              <a:ext cx="495720" cy="665640"/>
            </a:xfrm>
            <a:custGeom>
              <a:avLst/>
              <a:gdLst/>
              <a:ahLst/>
              <a:rect l="0" t="0" r="r" b="b"/>
              <a:pathLst>
                <a:path w="1377" h="1849">
                  <a:moveTo>
                    <a:pt x="547" y="0"/>
                  </a:moveTo>
                  <a:lnTo>
                    <a:pt x="477" y="83"/>
                  </a:lnTo>
                  <a:lnTo>
                    <a:pt x="477" y="321"/>
                  </a:lnTo>
                  <a:lnTo>
                    <a:pt x="547" y="494"/>
                  </a:lnTo>
                  <a:lnTo>
                    <a:pt x="631" y="583"/>
                  </a:lnTo>
                  <a:lnTo>
                    <a:pt x="508" y="706"/>
                  </a:lnTo>
                  <a:lnTo>
                    <a:pt x="339" y="966"/>
                  </a:lnTo>
                  <a:lnTo>
                    <a:pt x="26" y="1395"/>
                  </a:lnTo>
                  <a:lnTo>
                    <a:pt x="0" y="1496"/>
                  </a:lnTo>
                  <a:lnTo>
                    <a:pt x="26" y="1580"/>
                  </a:lnTo>
                  <a:lnTo>
                    <a:pt x="132" y="1580"/>
                  </a:lnTo>
                  <a:lnTo>
                    <a:pt x="211" y="1488"/>
                  </a:lnTo>
                  <a:lnTo>
                    <a:pt x="339" y="1244"/>
                  </a:lnTo>
                  <a:lnTo>
                    <a:pt x="428" y="1143"/>
                  </a:lnTo>
                  <a:lnTo>
                    <a:pt x="477" y="1297"/>
                  </a:lnTo>
                  <a:lnTo>
                    <a:pt x="441" y="1474"/>
                  </a:lnTo>
                  <a:lnTo>
                    <a:pt x="304" y="1712"/>
                  </a:lnTo>
                  <a:lnTo>
                    <a:pt x="339" y="1770"/>
                  </a:lnTo>
                  <a:lnTo>
                    <a:pt x="428" y="1752"/>
                  </a:lnTo>
                  <a:lnTo>
                    <a:pt x="596" y="1629"/>
                  </a:lnTo>
                  <a:lnTo>
                    <a:pt x="733" y="1413"/>
                  </a:lnTo>
                  <a:lnTo>
                    <a:pt x="733" y="1792"/>
                  </a:lnTo>
                  <a:lnTo>
                    <a:pt x="900" y="1849"/>
                  </a:lnTo>
                  <a:lnTo>
                    <a:pt x="988" y="1615"/>
                  </a:lnTo>
                  <a:lnTo>
                    <a:pt x="1082" y="1836"/>
                  </a:lnTo>
                  <a:lnTo>
                    <a:pt x="1148" y="1770"/>
                  </a:lnTo>
                  <a:lnTo>
                    <a:pt x="1174" y="1341"/>
                  </a:lnTo>
                  <a:lnTo>
                    <a:pt x="1377" y="940"/>
                  </a:lnTo>
                  <a:lnTo>
                    <a:pt x="1333" y="706"/>
                  </a:lnTo>
                  <a:lnTo>
                    <a:pt x="1192" y="618"/>
                  </a:lnTo>
                  <a:lnTo>
                    <a:pt x="1047" y="627"/>
                  </a:lnTo>
                  <a:lnTo>
                    <a:pt x="988" y="436"/>
                  </a:lnTo>
                  <a:lnTo>
                    <a:pt x="843" y="396"/>
                  </a:lnTo>
                  <a:lnTo>
                    <a:pt x="706" y="335"/>
                  </a:lnTo>
                  <a:lnTo>
                    <a:pt x="631" y="39"/>
                  </a:lnTo>
                  <a:lnTo>
                    <a:pt x="547"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7128000" y="1474920"/>
              <a:ext cx="144720" cy="321120"/>
            </a:xfrm>
            <a:custGeom>
              <a:avLst/>
              <a:gdLst/>
              <a:ahLst/>
              <a:rect l="0" t="0" r="r" b="b"/>
              <a:pathLst>
                <a:path w="402" h="892">
                  <a:moveTo>
                    <a:pt x="198" y="0"/>
                  </a:moveTo>
                  <a:lnTo>
                    <a:pt x="402" y="230"/>
                  </a:lnTo>
                  <a:lnTo>
                    <a:pt x="305" y="729"/>
                  </a:lnTo>
                  <a:lnTo>
                    <a:pt x="0" y="892"/>
                  </a:lnTo>
                  <a:lnTo>
                    <a:pt x="0" y="644"/>
                  </a:lnTo>
                  <a:lnTo>
                    <a:pt x="119" y="380"/>
                  </a:lnTo>
                  <a:lnTo>
                    <a:pt x="198" y="185"/>
                  </a:lnTo>
                  <a:lnTo>
                    <a:pt x="19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8072280" y="1289160"/>
              <a:ext cx="365400" cy="290880"/>
            </a:xfrm>
            <a:custGeom>
              <a:avLst/>
              <a:gdLst/>
              <a:ahLst/>
              <a:rect l="0" t="0" r="r" b="b"/>
              <a:pathLst>
                <a:path w="1015" h="808">
                  <a:moveTo>
                    <a:pt x="414" y="0"/>
                  </a:moveTo>
                  <a:lnTo>
                    <a:pt x="414" y="132"/>
                  </a:lnTo>
                  <a:lnTo>
                    <a:pt x="449" y="247"/>
                  </a:lnTo>
                  <a:lnTo>
                    <a:pt x="649" y="437"/>
                  </a:lnTo>
                  <a:lnTo>
                    <a:pt x="1015" y="543"/>
                  </a:lnTo>
                  <a:lnTo>
                    <a:pt x="962" y="795"/>
                  </a:lnTo>
                  <a:lnTo>
                    <a:pt x="649" y="808"/>
                  </a:lnTo>
                  <a:lnTo>
                    <a:pt x="194" y="632"/>
                  </a:lnTo>
                  <a:lnTo>
                    <a:pt x="0" y="322"/>
                  </a:lnTo>
                  <a:lnTo>
                    <a:pt x="224" y="13"/>
                  </a:lnTo>
                  <a:lnTo>
                    <a:pt x="41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8218440" y="960480"/>
              <a:ext cx="510120" cy="640080"/>
            </a:xfrm>
            <a:custGeom>
              <a:avLst/>
              <a:gdLst/>
              <a:ahLst/>
              <a:rect l="0" t="0" r="r" b="b"/>
              <a:pathLst>
                <a:path w="1417" h="1778">
                  <a:moveTo>
                    <a:pt x="132" y="754"/>
                  </a:moveTo>
                  <a:lnTo>
                    <a:pt x="0" y="877"/>
                  </a:lnTo>
                  <a:lnTo>
                    <a:pt x="26" y="1169"/>
                  </a:lnTo>
                  <a:lnTo>
                    <a:pt x="224" y="1306"/>
                  </a:lnTo>
                  <a:lnTo>
                    <a:pt x="242" y="1747"/>
                  </a:lnTo>
                  <a:lnTo>
                    <a:pt x="441" y="1747"/>
                  </a:lnTo>
                  <a:lnTo>
                    <a:pt x="428" y="1372"/>
                  </a:lnTo>
                  <a:lnTo>
                    <a:pt x="574" y="1764"/>
                  </a:lnTo>
                  <a:lnTo>
                    <a:pt x="671" y="1778"/>
                  </a:lnTo>
                  <a:lnTo>
                    <a:pt x="741" y="1645"/>
                  </a:lnTo>
                  <a:lnTo>
                    <a:pt x="759" y="1403"/>
                  </a:lnTo>
                  <a:lnTo>
                    <a:pt x="975" y="1632"/>
                  </a:lnTo>
                  <a:lnTo>
                    <a:pt x="1059" y="1614"/>
                  </a:lnTo>
                  <a:lnTo>
                    <a:pt x="1041" y="1456"/>
                  </a:lnTo>
                  <a:lnTo>
                    <a:pt x="957" y="1231"/>
                  </a:lnTo>
                  <a:lnTo>
                    <a:pt x="878" y="1085"/>
                  </a:lnTo>
                  <a:lnTo>
                    <a:pt x="909" y="984"/>
                  </a:lnTo>
                  <a:lnTo>
                    <a:pt x="957" y="997"/>
                  </a:lnTo>
                  <a:lnTo>
                    <a:pt x="1161" y="1231"/>
                  </a:lnTo>
                  <a:lnTo>
                    <a:pt x="1373" y="1293"/>
                  </a:lnTo>
                  <a:lnTo>
                    <a:pt x="1417" y="1218"/>
                  </a:lnTo>
                  <a:lnTo>
                    <a:pt x="1386" y="1099"/>
                  </a:lnTo>
                  <a:lnTo>
                    <a:pt x="988" y="740"/>
                  </a:lnTo>
                  <a:lnTo>
                    <a:pt x="671" y="626"/>
                  </a:lnTo>
                  <a:lnTo>
                    <a:pt x="636" y="427"/>
                  </a:lnTo>
                  <a:lnTo>
                    <a:pt x="741" y="251"/>
                  </a:lnTo>
                  <a:lnTo>
                    <a:pt x="741" y="52"/>
                  </a:lnTo>
                  <a:lnTo>
                    <a:pt x="658" y="0"/>
                  </a:lnTo>
                  <a:lnTo>
                    <a:pt x="428" y="480"/>
                  </a:lnTo>
                  <a:lnTo>
                    <a:pt x="224" y="551"/>
                  </a:lnTo>
                  <a:lnTo>
                    <a:pt x="176" y="683"/>
                  </a:lnTo>
                  <a:lnTo>
                    <a:pt x="132" y="75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7385040" y="404640"/>
              <a:ext cx="554400" cy="819360"/>
            </a:xfrm>
            <a:custGeom>
              <a:avLst/>
              <a:gdLst/>
              <a:ahLst/>
              <a:rect l="0" t="0" r="r" b="b"/>
              <a:pathLst>
                <a:path w="1540" h="2276">
                  <a:moveTo>
                    <a:pt x="379" y="317"/>
                  </a:moveTo>
                  <a:lnTo>
                    <a:pt x="268" y="754"/>
                  </a:lnTo>
                  <a:lnTo>
                    <a:pt x="13" y="842"/>
                  </a:lnTo>
                  <a:lnTo>
                    <a:pt x="83" y="974"/>
                  </a:lnTo>
                  <a:lnTo>
                    <a:pt x="0" y="1062"/>
                  </a:lnTo>
                  <a:lnTo>
                    <a:pt x="0" y="1222"/>
                  </a:lnTo>
                  <a:lnTo>
                    <a:pt x="119" y="1368"/>
                  </a:lnTo>
                  <a:lnTo>
                    <a:pt x="242" y="1368"/>
                  </a:lnTo>
                  <a:lnTo>
                    <a:pt x="321" y="1870"/>
                  </a:lnTo>
                  <a:lnTo>
                    <a:pt x="419" y="2091"/>
                  </a:lnTo>
                  <a:lnTo>
                    <a:pt x="733" y="2276"/>
                  </a:lnTo>
                  <a:lnTo>
                    <a:pt x="1050" y="2245"/>
                  </a:lnTo>
                  <a:lnTo>
                    <a:pt x="1201" y="1870"/>
                  </a:lnTo>
                  <a:lnTo>
                    <a:pt x="1236" y="1297"/>
                  </a:lnTo>
                  <a:lnTo>
                    <a:pt x="1540" y="1009"/>
                  </a:lnTo>
                  <a:lnTo>
                    <a:pt x="1523" y="895"/>
                  </a:lnTo>
                  <a:lnTo>
                    <a:pt x="1488" y="842"/>
                  </a:lnTo>
                  <a:lnTo>
                    <a:pt x="1329" y="820"/>
                  </a:lnTo>
                  <a:lnTo>
                    <a:pt x="1382" y="674"/>
                  </a:lnTo>
                  <a:lnTo>
                    <a:pt x="1219" y="577"/>
                  </a:lnTo>
                  <a:lnTo>
                    <a:pt x="1143" y="251"/>
                  </a:lnTo>
                  <a:lnTo>
                    <a:pt x="671" y="0"/>
                  </a:lnTo>
                  <a:lnTo>
                    <a:pt x="419" y="233"/>
                  </a:lnTo>
                  <a:lnTo>
                    <a:pt x="379" y="317"/>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7424640" y="1089000"/>
              <a:ext cx="510120" cy="976680"/>
            </a:xfrm>
            <a:custGeom>
              <a:avLst/>
              <a:gdLst/>
              <a:ahLst/>
              <a:rect l="0" t="0" r="r" b="b"/>
              <a:pathLst>
                <a:path w="1417" h="2713">
                  <a:moveTo>
                    <a:pt x="291" y="141"/>
                  </a:moveTo>
                  <a:lnTo>
                    <a:pt x="494" y="277"/>
                  </a:lnTo>
                  <a:lnTo>
                    <a:pt x="587" y="418"/>
                  </a:lnTo>
                  <a:lnTo>
                    <a:pt x="1161" y="0"/>
                  </a:lnTo>
                  <a:lnTo>
                    <a:pt x="1338" y="88"/>
                  </a:lnTo>
                  <a:lnTo>
                    <a:pt x="1417" y="515"/>
                  </a:lnTo>
                  <a:lnTo>
                    <a:pt x="1006" y="1764"/>
                  </a:lnTo>
                  <a:lnTo>
                    <a:pt x="1139" y="2449"/>
                  </a:lnTo>
                  <a:lnTo>
                    <a:pt x="609" y="2713"/>
                  </a:lnTo>
                  <a:lnTo>
                    <a:pt x="189" y="2568"/>
                  </a:lnTo>
                  <a:lnTo>
                    <a:pt x="189" y="1831"/>
                  </a:lnTo>
                  <a:lnTo>
                    <a:pt x="0" y="1129"/>
                  </a:lnTo>
                  <a:lnTo>
                    <a:pt x="189" y="277"/>
                  </a:lnTo>
                  <a:lnTo>
                    <a:pt x="291" y="141"/>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7445520" y="297000"/>
              <a:ext cx="478080" cy="259200"/>
            </a:xfrm>
            <a:custGeom>
              <a:avLst/>
              <a:gdLst/>
              <a:ahLst/>
              <a:rect l="0" t="0" r="r" b="b"/>
              <a:pathLst>
                <a:path w="1328" h="720">
                  <a:moveTo>
                    <a:pt x="167" y="689"/>
                  </a:moveTo>
                  <a:lnTo>
                    <a:pt x="361" y="490"/>
                  </a:lnTo>
                  <a:lnTo>
                    <a:pt x="480" y="468"/>
                  </a:lnTo>
                  <a:lnTo>
                    <a:pt x="480" y="481"/>
                  </a:lnTo>
                  <a:lnTo>
                    <a:pt x="542" y="468"/>
                  </a:lnTo>
                  <a:lnTo>
                    <a:pt x="626" y="525"/>
                  </a:lnTo>
                  <a:lnTo>
                    <a:pt x="785" y="553"/>
                  </a:lnTo>
                  <a:lnTo>
                    <a:pt x="909" y="720"/>
                  </a:lnTo>
                  <a:lnTo>
                    <a:pt x="1116" y="645"/>
                  </a:lnTo>
                  <a:lnTo>
                    <a:pt x="1116" y="570"/>
                  </a:lnTo>
                  <a:lnTo>
                    <a:pt x="1328" y="481"/>
                  </a:lnTo>
                  <a:lnTo>
                    <a:pt x="1266" y="344"/>
                  </a:lnTo>
                  <a:lnTo>
                    <a:pt x="1072" y="336"/>
                  </a:lnTo>
                  <a:lnTo>
                    <a:pt x="1103" y="186"/>
                  </a:lnTo>
                  <a:lnTo>
                    <a:pt x="931" y="203"/>
                  </a:lnTo>
                  <a:lnTo>
                    <a:pt x="900" y="101"/>
                  </a:lnTo>
                  <a:lnTo>
                    <a:pt x="785" y="101"/>
                  </a:lnTo>
                  <a:lnTo>
                    <a:pt x="697" y="158"/>
                  </a:lnTo>
                  <a:lnTo>
                    <a:pt x="626" y="158"/>
                  </a:lnTo>
                  <a:lnTo>
                    <a:pt x="643" y="0"/>
                  </a:lnTo>
                  <a:lnTo>
                    <a:pt x="480" y="79"/>
                  </a:lnTo>
                  <a:lnTo>
                    <a:pt x="260" y="336"/>
                  </a:lnTo>
                  <a:lnTo>
                    <a:pt x="246" y="158"/>
                  </a:lnTo>
                  <a:lnTo>
                    <a:pt x="136" y="247"/>
                  </a:lnTo>
                  <a:lnTo>
                    <a:pt x="101" y="468"/>
                  </a:lnTo>
                  <a:lnTo>
                    <a:pt x="0" y="428"/>
                  </a:lnTo>
                  <a:lnTo>
                    <a:pt x="13" y="570"/>
                  </a:lnTo>
                  <a:lnTo>
                    <a:pt x="167" y="68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7575480" y="1268280"/>
              <a:ext cx="152640" cy="738720"/>
            </a:xfrm>
            <a:custGeom>
              <a:avLst/>
              <a:gdLst/>
              <a:ahLst/>
              <a:rect l="0" t="0" r="r" b="b"/>
              <a:pathLst>
                <a:path w="424" h="2052">
                  <a:moveTo>
                    <a:pt x="217" y="8"/>
                  </a:moveTo>
                  <a:lnTo>
                    <a:pt x="70" y="101"/>
                  </a:lnTo>
                  <a:lnTo>
                    <a:pt x="70" y="277"/>
                  </a:lnTo>
                  <a:lnTo>
                    <a:pt x="176" y="330"/>
                  </a:lnTo>
                  <a:lnTo>
                    <a:pt x="39" y="605"/>
                  </a:lnTo>
                  <a:lnTo>
                    <a:pt x="0" y="962"/>
                  </a:lnTo>
                  <a:lnTo>
                    <a:pt x="101" y="1434"/>
                  </a:lnTo>
                  <a:lnTo>
                    <a:pt x="101" y="1633"/>
                  </a:lnTo>
                  <a:lnTo>
                    <a:pt x="48" y="1783"/>
                  </a:lnTo>
                  <a:lnTo>
                    <a:pt x="269" y="2052"/>
                  </a:lnTo>
                  <a:lnTo>
                    <a:pt x="406" y="1651"/>
                  </a:lnTo>
                  <a:lnTo>
                    <a:pt x="406" y="1381"/>
                  </a:lnTo>
                  <a:lnTo>
                    <a:pt x="305" y="1121"/>
                  </a:lnTo>
                  <a:lnTo>
                    <a:pt x="252" y="777"/>
                  </a:lnTo>
                  <a:lnTo>
                    <a:pt x="358" y="436"/>
                  </a:lnTo>
                  <a:lnTo>
                    <a:pt x="327" y="299"/>
                  </a:lnTo>
                  <a:lnTo>
                    <a:pt x="424" y="229"/>
                  </a:lnTo>
                  <a:lnTo>
                    <a:pt x="406" y="141"/>
                  </a:lnTo>
                  <a:lnTo>
                    <a:pt x="283" y="0"/>
                  </a:lnTo>
                  <a:lnTo>
                    <a:pt x="217"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7570800" y="1020600"/>
              <a:ext cx="120960" cy="66960"/>
            </a:xfrm>
            <a:custGeom>
              <a:avLst/>
              <a:gdLst/>
              <a:ahLst/>
              <a:rect l="0" t="0" r="r" b="b"/>
              <a:pathLst>
                <a:path w="336" h="186">
                  <a:moveTo>
                    <a:pt x="0" y="52"/>
                  </a:moveTo>
                  <a:lnTo>
                    <a:pt x="127" y="186"/>
                  </a:lnTo>
                  <a:lnTo>
                    <a:pt x="269" y="172"/>
                  </a:lnTo>
                  <a:lnTo>
                    <a:pt x="336" y="13"/>
                  </a:lnTo>
                  <a:lnTo>
                    <a:pt x="190" y="0"/>
                  </a:lnTo>
                  <a:lnTo>
                    <a:pt x="35" y="13"/>
                  </a:lnTo>
                  <a:lnTo>
                    <a:pt x="0" y="52"/>
                  </a:lnTo>
                  <a:close/>
                </a:path>
              </a:pathLst>
            </a:custGeom>
            <a:solidFill>
              <a:srgbClr val="ffffff"/>
            </a:solidFill>
            <a:ln w="12600">
              <a:solidFill>
                <a:srgbClr val="ff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342" name=""/>
            <p:cNvSpPr/>
            <p:nvPr/>
          </p:nvSpPr>
          <p:spPr>
            <a:xfrm>
              <a:off x="7434360" y="679320"/>
              <a:ext cx="152640" cy="144720"/>
            </a:xfrm>
            <a:custGeom>
              <a:avLst/>
              <a:gdLst/>
              <a:ahLst/>
              <a:rect l="0" t="0" r="r" b="b"/>
              <a:pathLst>
                <a:path w="424" h="402">
                  <a:moveTo>
                    <a:pt x="0" y="44"/>
                  </a:moveTo>
                  <a:lnTo>
                    <a:pt x="292" y="402"/>
                  </a:lnTo>
                  <a:lnTo>
                    <a:pt x="424" y="371"/>
                  </a:lnTo>
                  <a:lnTo>
                    <a:pt x="119"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7702560" y="649440"/>
              <a:ext cx="132120" cy="144720"/>
            </a:xfrm>
            <a:custGeom>
              <a:avLst/>
              <a:gdLst/>
              <a:ahLst/>
              <a:rect l="0" t="0" r="r" b="b"/>
              <a:pathLst>
                <a:path w="367" h="402">
                  <a:moveTo>
                    <a:pt x="0" y="52"/>
                  </a:moveTo>
                  <a:lnTo>
                    <a:pt x="252" y="402"/>
                  </a:lnTo>
                  <a:lnTo>
                    <a:pt x="367" y="314"/>
                  </a:lnTo>
                  <a:lnTo>
                    <a:pt x="105"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7380360" y="461880"/>
              <a:ext cx="530640" cy="362160"/>
            </a:xfrm>
            <a:custGeom>
              <a:avLst/>
              <a:gdLst/>
              <a:ahLst/>
              <a:rect l="0" t="0" r="r" b="b"/>
              <a:pathLst>
                <a:path w="1474" h="1006">
                  <a:moveTo>
                    <a:pt x="680" y="596"/>
                  </a:moveTo>
                  <a:lnTo>
                    <a:pt x="543" y="561"/>
                  </a:lnTo>
                  <a:lnTo>
                    <a:pt x="658" y="471"/>
                  </a:lnTo>
                  <a:lnTo>
                    <a:pt x="613" y="423"/>
                  </a:lnTo>
                  <a:lnTo>
                    <a:pt x="464" y="538"/>
                  </a:lnTo>
                  <a:lnTo>
                    <a:pt x="185" y="569"/>
                  </a:lnTo>
                  <a:lnTo>
                    <a:pt x="0" y="578"/>
                  </a:lnTo>
                  <a:lnTo>
                    <a:pt x="0" y="715"/>
                  </a:lnTo>
                  <a:lnTo>
                    <a:pt x="180" y="1002"/>
                  </a:lnTo>
                  <a:lnTo>
                    <a:pt x="220" y="1006"/>
                  </a:lnTo>
                  <a:lnTo>
                    <a:pt x="61" y="693"/>
                  </a:lnTo>
                  <a:lnTo>
                    <a:pt x="308" y="596"/>
                  </a:lnTo>
                  <a:lnTo>
                    <a:pt x="464" y="596"/>
                  </a:lnTo>
                  <a:lnTo>
                    <a:pt x="583" y="662"/>
                  </a:lnTo>
                  <a:lnTo>
                    <a:pt x="613" y="741"/>
                  </a:lnTo>
                  <a:lnTo>
                    <a:pt x="613" y="931"/>
                  </a:lnTo>
                  <a:lnTo>
                    <a:pt x="613" y="1002"/>
                  </a:lnTo>
                  <a:lnTo>
                    <a:pt x="684" y="909"/>
                  </a:lnTo>
                  <a:lnTo>
                    <a:pt x="684" y="710"/>
                  </a:lnTo>
                  <a:lnTo>
                    <a:pt x="790" y="710"/>
                  </a:lnTo>
                  <a:lnTo>
                    <a:pt x="838" y="931"/>
                  </a:lnTo>
                  <a:lnTo>
                    <a:pt x="900" y="957"/>
                  </a:lnTo>
                  <a:lnTo>
                    <a:pt x="1076" y="957"/>
                  </a:lnTo>
                  <a:lnTo>
                    <a:pt x="1258" y="913"/>
                  </a:lnTo>
                  <a:lnTo>
                    <a:pt x="1386" y="830"/>
                  </a:lnTo>
                  <a:lnTo>
                    <a:pt x="1408" y="627"/>
                  </a:lnTo>
                  <a:lnTo>
                    <a:pt x="1474" y="538"/>
                  </a:lnTo>
                  <a:lnTo>
                    <a:pt x="1435" y="485"/>
                  </a:lnTo>
                  <a:lnTo>
                    <a:pt x="1267" y="427"/>
                  </a:lnTo>
                  <a:lnTo>
                    <a:pt x="1241" y="229"/>
                  </a:lnTo>
                  <a:lnTo>
                    <a:pt x="1085" y="229"/>
                  </a:lnTo>
                  <a:lnTo>
                    <a:pt x="904" y="0"/>
                  </a:lnTo>
                  <a:lnTo>
                    <a:pt x="1072" y="251"/>
                  </a:lnTo>
                  <a:lnTo>
                    <a:pt x="1126" y="251"/>
                  </a:lnTo>
                  <a:lnTo>
                    <a:pt x="1161" y="423"/>
                  </a:lnTo>
                  <a:lnTo>
                    <a:pt x="949" y="485"/>
                  </a:lnTo>
                  <a:lnTo>
                    <a:pt x="799" y="436"/>
                  </a:lnTo>
                  <a:lnTo>
                    <a:pt x="781" y="485"/>
                  </a:lnTo>
                  <a:lnTo>
                    <a:pt x="856" y="538"/>
                  </a:lnTo>
                  <a:lnTo>
                    <a:pt x="856" y="587"/>
                  </a:lnTo>
                  <a:lnTo>
                    <a:pt x="1037" y="516"/>
                  </a:lnTo>
                  <a:lnTo>
                    <a:pt x="1188" y="493"/>
                  </a:lnTo>
                  <a:lnTo>
                    <a:pt x="1346" y="521"/>
                  </a:lnTo>
                  <a:lnTo>
                    <a:pt x="1346" y="547"/>
                  </a:lnTo>
                  <a:lnTo>
                    <a:pt x="1272" y="618"/>
                  </a:lnTo>
                  <a:lnTo>
                    <a:pt x="1241" y="710"/>
                  </a:lnTo>
                  <a:lnTo>
                    <a:pt x="1236" y="830"/>
                  </a:lnTo>
                  <a:lnTo>
                    <a:pt x="1144" y="878"/>
                  </a:lnTo>
                  <a:lnTo>
                    <a:pt x="997" y="896"/>
                  </a:lnTo>
                  <a:lnTo>
                    <a:pt x="900" y="896"/>
                  </a:lnTo>
                  <a:lnTo>
                    <a:pt x="865" y="860"/>
                  </a:lnTo>
                  <a:lnTo>
                    <a:pt x="838" y="627"/>
                  </a:lnTo>
                  <a:lnTo>
                    <a:pt x="684" y="627"/>
                  </a:lnTo>
                  <a:lnTo>
                    <a:pt x="680"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5" name=""/>
            <p:cNvSpPr/>
            <p:nvPr/>
          </p:nvSpPr>
          <p:spPr>
            <a:xfrm>
              <a:off x="7562880" y="880920"/>
              <a:ext cx="171720" cy="71640"/>
            </a:xfrm>
            <a:custGeom>
              <a:avLst/>
              <a:gdLst/>
              <a:ahLst/>
              <a:rect l="0" t="0" r="r" b="b"/>
              <a:pathLst>
                <a:path w="477" h="199">
                  <a:moveTo>
                    <a:pt x="0" y="0"/>
                  </a:moveTo>
                  <a:lnTo>
                    <a:pt x="74" y="88"/>
                  </a:lnTo>
                  <a:lnTo>
                    <a:pt x="283" y="88"/>
                  </a:lnTo>
                  <a:lnTo>
                    <a:pt x="371" y="30"/>
                  </a:lnTo>
                  <a:lnTo>
                    <a:pt x="477" y="30"/>
                  </a:lnTo>
                  <a:lnTo>
                    <a:pt x="455" y="57"/>
                  </a:lnTo>
                  <a:lnTo>
                    <a:pt x="455" y="88"/>
                  </a:lnTo>
                  <a:lnTo>
                    <a:pt x="265" y="199"/>
                  </a:lnTo>
                  <a:lnTo>
                    <a:pt x="158" y="199"/>
                  </a:lnTo>
                  <a:lnTo>
                    <a:pt x="101" y="159"/>
                  </a:lnTo>
                  <a:lnTo>
                    <a:pt x="39" y="159"/>
                  </a:lnTo>
                  <a:lnTo>
                    <a:pt x="0" y="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346" name=""/>
            <p:cNvSpPr/>
            <p:nvPr/>
          </p:nvSpPr>
          <p:spPr>
            <a:xfrm>
              <a:off x="7373880" y="762120"/>
              <a:ext cx="255960" cy="387720"/>
            </a:xfrm>
            <a:custGeom>
              <a:avLst/>
              <a:gdLst/>
              <a:ahLst/>
              <a:rect l="0" t="0" r="r" b="b"/>
              <a:pathLst>
                <a:path w="711" h="1077">
                  <a:moveTo>
                    <a:pt x="711" y="74"/>
                  </a:moveTo>
                  <a:lnTo>
                    <a:pt x="711" y="97"/>
                  </a:lnTo>
                  <a:lnTo>
                    <a:pt x="584" y="202"/>
                  </a:lnTo>
                  <a:lnTo>
                    <a:pt x="481" y="224"/>
                  </a:lnTo>
                  <a:lnTo>
                    <a:pt x="287" y="194"/>
                  </a:lnTo>
                  <a:lnTo>
                    <a:pt x="318" y="583"/>
                  </a:lnTo>
                  <a:lnTo>
                    <a:pt x="367" y="901"/>
                  </a:lnTo>
                  <a:lnTo>
                    <a:pt x="450" y="1077"/>
                  </a:lnTo>
                  <a:lnTo>
                    <a:pt x="367" y="950"/>
                  </a:lnTo>
                  <a:lnTo>
                    <a:pt x="336" y="822"/>
                  </a:lnTo>
                  <a:lnTo>
                    <a:pt x="274" y="455"/>
                  </a:lnTo>
                  <a:lnTo>
                    <a:pt x="221" y="477"/>
                  </a:lnTo>
                  <a:lnTo>
                    <a:pt x="145" y="433"/>
                  </a:lnTo>
                  <a:lnTo>
                    <a:pt x="13" y="242"/>
                  </a:lnTo>
                  <a:lnTo>
                    <a:pt x="0" y="141"/>
                  </a:lnTo>
                  <a:lnTo>
                    <a:pt x="0" y="61"/>
                  </a:lnTo>
                  <a:lnTo>
                    <a:pt x="30" y="17"/>
                  </a:lnTo>
                  <a:lnTo>
                    <a:pt x="110" y="0"/>
                  </a:lnTo>
                  <a:lnTo>
                    <a:pt x="119" y="30"/>
                  </a:lnTo>
                  <a:lnTo>
                    <a:pt x="52" y="48"/>
                  </a:lnTo>
                  <a:lnTo>
                    <a:pt x="39" y="132"/>
                  </a:lnTo>
                  <a:lnTo>
                    <a:pt x="48" y="229"/>
                  </a:lnTo>
                  <a:lnTo>
                    <a:pt x="141" y="318"/>
                  </a:lnTo>
                  <a:lnTo>
                    <a:pt x="186" y="300"/>
                  </a:lnTo>
                  <a:lnTo>
                    <a:pt x="186" y="105"/>
                  </a:lnTo>
                  <a:lnTo>
                    <a:pt x="269" y="145"/>
                  </a:lnTo>
                  <a:lnTo>
                    <a:pt x="397" y="176"/>
                  </a:lnTo>
                  <a:lnTo>
                    <a:pt x="516" y="163"/>
                  </a:lnTo>
                  <a:lnTo>
                    <a:pt x="632" y="105"/>
                  </a:lnTo>
                  <a:lnTo>
                    <a:pt x="711" y="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7" name=""/>
            <p:cNvSpPr/>
            <p:nvPr/>
          </p:nvSpPr>
          <p:spPr>
            <a:xfrm>
              <a:off x="7440480" y="452520"/>
              <a:ext cx="78120" cy="208440"/>
            </a:xfrm>
            <a:custGeom>
              <a:avLst/>
              <a:gdLst/>
              <a:ahLst/>
              <a:rect l="0" t="0" r="r" b="b"/>
              <a:pathLst>
                <a:path w="217" h="579">
                  <a:moveTo>
                    <a:pt x="115" y="579"/>
                  </a:moveTo>
                  <a:lnTo>
                    <a:pt x="217" y="239"/>
                  </a:lnTo>
                  <a:lnTo>
                    <a:pt x="26" y="114"/>
                  </a:lnTo>
                  <a:lnTo>
                    <a:pt x="0" y="0"/>
                  </a:lnTo>
                  <a:lnTo>
                    <a:pt x="13" y="141"/>
                  </a:lnTo>
                  <a:lnTo>
                    <a:pt x="74" y="195"/>
                  </a:lnTo>
                  <a:lnTo>
                    <a:pt x="83" y="375"/>
                  </a:lnTo>
                  <a:lnTo>
                    <a:pt x="137" y="438"/>
                  </a:lnTo>
                  <a:lnTo>
                    <a:pt x="115" y="5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8" name=""/>
            <p:cNvSpPr/>
            <p:nvPr/>
          </p:nvSpPr>
          <p:spPr>
            <a:xfrm>
              <a:off x="7439040" y="270000"/>
              <a:ext cx="581400" cy="273240"/>
            </a:xfrm>
            <a:custGeom>
              <a:avLst/>
              <a:gdLst/>
              <a:ahLst/>
              <a:rect l="0" t="0" r="r" b="b"/>
              <a:pathLst>
                <a:path w="1615" h="759">
                  <a:moveTo>
                    <a:pt x="13" y="512"/>
                  </a:moveTo>
                  <a:lnTo>
                    <a:pt x="154" y="591"/>
                  </a:lnTo>
                  <a:lnTo>
                    <a:pt x="141" y="490"/>
                  </a:lnTo>
                  <a:lnTo>
                    <a:pt x="163" y="321"/>
                  </a:lnTo>
                  <a:lnTo>
                    <a:pt x="260" y="286"/>
                  </a:lnTo>
                  <a:lnTo>
                    <a:pt x="268" y="468"/>
                  </a:lnTo>
                  <a:lnTo>
                    <a:pt x="543" y="145"/>
                  </a:lnTo>
                  <a:lnTo>
                    <a:pt x="605" y="127"/>
                  </a:lnTo>
                  <a:lnTo>
                    <a:pt x="556" y="251"/>
                  </a:lnTo>
                  <a:lnTo>
                    <a:pt x="728" y="317"/>
                  </a:lnTo>
                  <a:lnTo>
                    <a:pt x="852" y="185"/>
                  </a:lnTo>
                  <a:lnTo>
                    <a:pt x="918" y="224"/>
                  </a:lnTo>
                  <a:lnTo>
                    <a:pt x="856" y="335"/>
                  </a:lnTo>
                  <a:lnTo>
                    <a:pt x="935" y="273"/>
                  </a:lnTo>
                  <a:lnTo>
                    <a:pt x="1063" y="321"/>
                  </a:lnTo>
                  <a:lnTo>
                    <a:pt x="962" y="415"/>
                  </a:lnTo>
                  <a:lnTo>
                    <a:pt x="1298" y="468"/>
                  </a:lnTo>
                  <a:lnTo>
                    <a:pt x="1072" y="530"/>
                  </a:lnTo>
                  <a:lnTo>
                    <a:pt x="1351" y="574"/>
                  </a:lnTo>
                  <a:lnTo>
                    <a:pt x="1019" y="640"/>
                  </a:lnTo>
                  <a:lnTo>
                    <a:pt x="1094" y="706"/>
                  </a:lnTo>
                  <a:lnTo>
                    <a:pt x="993" y="759"/>
                  </a:lnTo>
                  <a:lnTo>
                    <a:pt x="1165" y="759"/>
                  </a:lnTo>
                  <a:lnTo>
                    <a:pt x="1147" y="715"/>
                  </a:lnTo>
                  <a:lnTo>
                    <a:pt x="1324" y="755"/>
                  </a:lnTo>
                  <a:lnTo>
                    <a:pt x="1298" y="631"/>
                  </a:lnTo>
                  <a:lnTo>
                    <a:pt x="1457" y="578"/>
                  </a:lnTo>
                  <a:lnTo>
                    <a:pt x="1342" y="521"/>
                  </a:lnTo>
                  <a:lnTo>
                    <a:pt x="1615" y="508"/>
                  </a:lnTo>
                  <a:lnTo>
                    <a:pt x="1377" y="380"/>
                  </a:lnTo>
                  <a:lnTo>
                    <a:pt x="1107" y="352"/>
                  </a:lnTo>
                  <a:lnTo>
                    <a:pt x="1324" y="233"/>
                  </a:lnTo>
                  <a:lnTo>
                    <a:pt x="935" y="233"/>
                  </a:lnTo>
                  <a:lnTo>
                    <a:pt x="1121" y="114"/>
                  </a:lnTo>
                  <a:lnTo>
                    <a:pt x="843" y="145"/>
                  </a:lnTo>
                  <a:lnTo>
                    <a:pt x="710" y="202"/>
                  </a:lnTo>
                  <a:lnTo>
                    <a:pt x="825" y="0"/>
                  </a:lnTo>
                  <a:lnTo>
                    <a:pt x="486" y="114"/>
                  </a:lnTo>
                  <a:lnTo>
                    <a:pt x="299" y="361"/>
                  </a:lnTo>
                  <a:lnTo>
                    <a:pt x="268" y="224"/>
                  </a:lnTo>
                  <a:lnTo>
                    <a:pt x="119" y="321"/>
                  </a:lnTo>
                  <a:lnTo>
                    <a:pt x="101" y="508"/>
                  </a:lnTo>
                  <a:lnTo>
                    <a:pt x="0" y="468"/>
                  </a:lnTo>
                  <a:lnTo>
                    <a:pt x="35" y="631"/>
                  </a:lnTo>
                  <a:lnTo>
                    <a:pt x="13" y="51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9" name=""/>
            <p:cNvSpPr/>
            <p:nvPr/>
          </p:nvSpPr>
          <p:spPr>
            <a:xfrm>
              <a:off x="7566120" y="417600"/>
              <a:ext cx="163800" cy="79560"/>
            </a:xfrm>
            <a:custGeom>
              <a:avLst/>
              <a:gdLst/>
              <a:ahLst/>
              <a:rect l="0" t="0" r="r" b="b"/>
              <a:pathLst>
                <a:path w="455" h="221">
                  <a:moveTo>
                    <a:pt x="0" y="221"/>
                  </a:moveTo>
                  <a:lnTo>
                    <a:pt x="171" y="0"/>
                  </a:lnTo>
                  <a:lnTo>
                    <a:pt x="171" y="150"/>
                  </a:lnTo>
                  <a:lnTo>
                    <a:pt x="234" y="88"/>
                  </a:lnTo>
                  <a:lnTo>
                    <a:pt x="283" y="172"/>
                  </a:lnTo>
                  <a:lnTo>
                    <a:pt x="455" y="212"/>
                  </a:lnTo>
                  <a:lnTo>
                    <a:pt x="274" y="181"/>
                  </a:lnTo>
                  <a:lnTo>
                    <a:pt x="220" y="128"/>
                  </a:lnTo>
                  <a:lnTo>
                    <a:pt x="145" y="181"/>
                  </a:lnTo>
                  <a:lnTo>
                    <a:pt x="145" y="111"/>
                  </a:lnTo>
                  <a:lnTo>
                    <a:pt x="0" y="221"/>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350" name=""/>
            <p:cNvSpPr/>
            <p:nvPr/>
          </p:nvSpPr>
          <p:spPr>
            <a:xfrm>
              <a:off x="7550280" y="974880"/>
              <a:ext cx="197280" cy="120960"/>
            </a:xfrm>
            <a:custGeom>
              <a:avLst/>
              <a:gdLst/>
              <a:ahLst/>
              <a:rect l="0" t="0" r="r" b="b"/>
              <a:pathLst>
                <a:path w="548" h="336">
                  <a:moveTo>
                    <a:pt x="101" y="114"/>
                  </a:moveTo>
                  <a:lnTo>
                    <a:pt x="327" y="101"/>
                  </a:lnTo>
                  <a:lnTo>
                    <a:pt x="438" y="127"/>
                  </a:lnTo>
                  <a:lnTo>
                    <a:pt x="491" y="74"/>
                  </a:lnTo>
                  <a:lnTo>
                    <a:pt x="548" y="186"/>
                  </a:lnTo>
                  <a:lnTo>
                    <a:pt x="513" y="203"/>
                  </a:lnTo>
                  <a:lnTo>
                    <a:pt x="469" y="163"/>
                  </a:lnTo>
                  <a:lnTo>
                    <a:pt x="389" y="243"/>
                  </a:lnTo>
                  <a:lnTo>
                    <a:pt x="256" y="336"/>
                  </a:lnTo>
                  <a:lnTo>
                    <a:pt x="195" y="336"/>
                  </a:lnTo>
                  <a:lnTo>
                    <a:pt x="101" y="287"/>
                  </a:lnTo>
                  <a:lnTo>
                    <a:pt x="208" y="331"/>
                  </a:lnTo>
                  <a:lnTo>
                    <a:pt x="247" y="331"/>
                  </a:lnTo>
                  <a:lnTo>
                    <a:pt x="327" y="265"/>
                  </a:lnTo>
                  <a:lnTo>
                    <a:pt x="389" y="154"/>
                  </a:lnTo>
                  <a:lnTo>
                    <a:pt x="296" y="141"/>
                  </a:lnTo>
                  <a:lnTo>
                    <a:pt x="243" y="127"/>
                  </a:lnTo>
                  <a:lnTo>
                    <a:pt x="88" y="145"/>
                  </a:lnTo>
                  <a:lnTo>
                    <a:pt x="83" y="234"/>
                  </a:lnTo>
                  <a:lnTo>
                    <a:pt x="39" y="181"/>
                  </a:lnTo>
                  <a:lnTo>
                    <a:pt x="0" y="252"/>
                  </a:lnTo>
                  <a:lnTo>
                    <a:pt x="4" y="92"/>
                  </a:lnTo>
                  <a:lnTo>
                    <a:pt x="57" y="0"/>
                  </a:lnTo>
                  <a:lnTo>
                    <a:pt x="101" y="92"/>
                  </a:lnTo>
                  <a:lnTo>
                    <a:pt x="101"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1" name=""/>
            <p:cNvSpPr/>
            <p:nvPr/>
          </p:nvSpPr>
          <p:spPr>
            <a:xfrm>
              <a:off x="7524720" y="709560"/>
              <a:ext cx="424080" cy="565560"/>
            </a:xfrm>
            <a:custGeom>
              <a:avLst/>
              <a:gdLst/>
              <a:ahLst/>
              <a:rect l="0" t="0" r="r" b="b"/>
              <a:pathLst>
                <a:path w="1178" h="1571">
                  <a:moveTo>
                    <a:pt x="993" y="0"/>
                  </a:moveTo>
                  <a:lnTo>
                    <a:pt x="1112" y="0"/>
                  </a:lnTo>
                  <a:lnTo>
                    <a:pt x="1178" y="79"/>
                  </a:lnTo>
                  <a:lnTo>
                    <a:pt x="1178" y="163"/>
                  </a:lnTo>
                  <a:lnTo>
                    <a:pt x="1081" y="411"/>
                  </a:lnTo>
                  <a:lnTo>
                    <a:pt x="988" y="525"/>
                  </a:lnTo>
                  <a:lnTo>
                    <a:pt x="887" y="543"/>
                  </a:lnTo>
                  <a:lnTo>
                    <a:pt x="860" y="543"/>
                  </a:lnTo>
                  <a:lnTo>
                    <a:pt x="860" y="856"/>
                  </a:lnTo>
                  <a:lnTo>
                    <a:pt x="904" y="1076"/>
                  </a:lnTo>
                  <a:lnTo>
                    <a:pt x="904" y="1258"/>
                  </a:lnTo>
                  <a:lnTo>
                    <a:pt x="724" y="1443"/>
                  </a:lnTo>
                  <a:lnTo>
                    <a:pt x="480" y="1571"/>
                  </a:lnTo>
                  <a:lnTo>
                    <a:pt x="321" y="1571"/>
                  </a:lnTo>
                  <a:lnTo>
                    <a:pt x="246" y="1536"/>
                  </a:lnTo>
                  <a:lnTo>
                    <a:pt x="141" y="1324"/>
                  </a:lnTo>
                  <a:lnTo>
                    <a:pt x="39" y="1241"/>
                  </a:lnTo>
                  <a:lnTo>
                    <a:pt x="0" y="1188"/>
                  </a:lnTo>
                  <a:lnTo>
                    <a:pt x="136" y="1258"/>
                  </a:lnTo>
                  <a:lnTo>
                    <a:pt x="224" y="1342"/>
                  </a:lnTo>
                  <a:lnTo>
                    <a:pt x="418" y="1351"/>
                  </a:lnTo>
                  <a:lnTo>
                    <a:pt x="582" y="1276"/>
                  </a:lnTo>
                  <a:lnTo>
                    <a:pt x="675" y="1188"/>
                  </a:lnTo>
                  <a:lnTo>
                    <a:pt x="772" y="1024"/>
                  </a:lnTo>
                  <a:lnTo>
                    <a:pt x="785" y="834"/>
                  </a:lnTo>
                  <a:lnTo>
                    <a:pt x="821" y="233"/>
                  </a:lnTo>
                  <a:lnTo>
                    <a:pt x="865" y="321"/>
                  </a:lnTo>
                  <a:lnTo>
                    <a:pt x="979" y="207"/>
                  </a:lnTo>
                  <a:lnTo>
                    <a:pt x="1103" y="163"/>
                  </a:lnTo>
                  <a:lnTo>
                    <a:pt x="1134" y="101"/>
                  </a:lnTo>
                  <a:lnTo>
                    <a:pt x="1116" y="35"/>
                  </a:lnTo>
                  <a:lnTo>
                    <a:pt x="1068" y="8"/>
                  </a:lnTo>
                  <a:lnTo>
                    <a:pt x="99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2" name=""/>
            <p:cNvSpPr/>
            <p:nvPr/>
          </p:nvSpPr>
          <p:spPr>
            <a:xfrm>
              <a:off x="6869160" y="1197000"/>
              <a:ext cx="341640" cy="522720"/>
            </a:xfrm>
            <a:custGeom>
              <a:avLst/>
              <a:gdLst/>
              <a:ahLst/>
              <a:rect l="0" t="0" r="r" b="b"/>
              <a:pathLst>
                <a:path w="949" h="1452">
                  <a:moveTo>
                    <a:pt x="114" y="0"/>
                  </a:moveTo>
                  <a:lnTo>
                    <a:pt x="229" y="61"/>
                  </a:lnTo>
                  <a:lnTo>
                    <a:pt x="304" y="361"/>
                  </a:lnTo>
                  <a:lnTo>
                    <a:pt x="552" y="428"/>
                  </a:lnTo>
                  <a:lnTo>
                    <a:pt x="627" y="508"/>
                  </a:lnTo>
                  <a:lnTo>
                    <a:pt x="636" y="618"/>
                  </a:lnTo>
                  <a:lnTo>
                    <a:pt x="755" y="600"/>
                  </a:lnTo>
                  <a:lnTo>
                    <a:pt x="904" y="693"/>
                  </a:lnTo>
                  <a:lnTo>
                    <a:pt x="949" y="812"/>
                  </a:lnTo>
                  <a:lnTo>
                    <a:pt x="949" y="1015"/>
                  </a:lnTo>
                  <a:lnTo>
                    <a:pt x="755" y="1324"/>
                  </a:lnTo>
                  <a:lnTo>
                    <a:pt x="693" y="1452"/>
                  </a:lnTo>
                  <a:lnTo>
                    <a:pt x="724" y="1285"/>
                  </a:lnTo>
                  <a:lnTo>
                    <a:pt x="693" y="1223"/>
                  </a:lnTo>
                  <a:lnTo>
                    <a:pt x="574" y="1117"/>
                  </a:lnTo>
                  <a:lnTo>
                    <a:pt x="392" y="988"/>
                  </a:lnTo>
                  <a:lnTo>
                    <a:pt x="613" y="1063"/>
                  </a:lnTo>
                  <a:lnTo>
                    <a:pt x="741" y="1157"/>
                  </a:lnTo>
                  <a:lnTo>
                    <a:pt x="807" y="1139"/>
                  </a:lnTo>
                  <a:lnTo>
                    <a:pt x="852" y="1091"/>
                  </a:lnTo>
                  <a:lnTo>
                    <a:pt x="904" y="944"/>
                  </a:lnTo>
                  <a:lnTo>
                    <a:pt x="887" y="799"/>
                  </a:lnTo>
                  <a:lnTo>
                    <a:pt x="816" y="715"/>
                  </a:lnTo>
                  <a:lnTo>
                    <a:pt x="702" y="693"/>
                  </a:lnTo>
                  <a:lnTo>
                    <a:pt x="574" y="693"/>
                  </a:lnTo>
                  <a:lnTo>
                    <a:pt x="534" y="477"/>
                  </a:lnTo>
                  <a:lnTo>
                    <a:pt x="321" y="402"/>
                  </a:lnTo>
                  <a:lnTo>
                    <a:pt x="321" y="468"/>
                  </a:lnTo>
                  <a:lnTo>
                    <a:pt x="229" y="313"/>
                  </a:lnTo>
                  <a:lnTo>
                    <a:pt x="176" y="61"/>
                  </a:lnTo>
                  <a:lnTo>
                    <a:pt x="92" y="39"/>
                  </a:lnTo>
                  <a:lnTo>
                    <a:pt x="44" y="114"/>
                  </a:lnTo>
                  <a:lnTo>
                    <a:pt x="44" y="282"/>
                  </a:lnTo>
                  <a:lnTo>
                    <a:pt x="83" y="468"/>
                  </a:lnTo>
                  <a:lnTo>
                    <a:pt x="198" y="618"/>
                  </a:lnTo>
                  <a:lnTo>
                    <a:pt x="70" y="521"/>
                  </a:lnTo>
                  <a:lnTo>
                    <a:pt x="8" y="361"/>
                  </a:lnTo>
                  <a:lnTo>
                    <a:pt x="0" y="154"/>
                  </a:lnTo>
                  <a:lnTo>
                    <a:pt x="44" y="39"/>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3" name=""/>
            <p:cNvSpPr/>
            <p:nvPr/>
          </p:nvSpPr>
          <p:spPr>
            <a:xfrm>
              <a:off x="6707160" y="1427040"/>
              <a:ext cx="225720" cy="417960"/>
            </a:xfrm>
            <a:custGeom>
              <a:avLst/>
              <a:gdLst/>
              <a:ahLst/>
              <a:rect l="0" t="0" r="r" b="b"/>
              <a:pathLst>
                <a:path w="627" h="1161">
                  <a:moveTo>
                    <a:pt x="627" y="0"/>
                  </a:moveTo>
                  <a:lnTo>
                    <a:pt x="494" y="74"/>
                  </a:lnTo>
                  <a:lnTo>
                    <a:pt x="344" y="358"/>
                  </a:lnTo>
                  <a:lnTo>
                    <a:pt x="194" y="543"/>
                  </a:lnTo>
                  <a:lnTo>
                    <a:pt x="13" y="763"/>
                  </a:lnTo>
                  <a:lnTo>
                    <a:pt x="0" y="875"/>
                  </a:lnTo>
                  <a:lnTo>
                    <a:pt x="35" y="980"/>
                  </a:lnTo>
                  <a:lnTo>
                    <a:pt x="123" y="980"/>
                  </a:lnTo>
                  <a:lnTo>
                    <a:pt x="238" y="875"/>
                  </a:lnTo>
                  <a:lnTo>
                    <a:pt x="336" y="666"/>
                  </a:lnTo>
                  <a:lnTo>
                    <a:pt x="459" y="543"/>
                  </a:lnTo>
                  <a:lnTo>
                    <a:pt x="459" y="706"/>
                  </a:lnTo>
                  <a:lnTo>
                    <a:pt x="441" y="865"/>
                  </a:lnTo>
                  <a:lnTo>
                    <a:pt x="304" y="1069"/>
                  </a:lnTo>
                  <a:lnTo>
                    <a:pt x="304" y="1135"/>
                  </a:lnTo>
                  <a:lnTo>
                    <a:pt x="441" y="1161"/>
                  </a:lnTo>
                  <a:lnTo>
                    <a:pt x="344" y="1108"/>
                  </a:lnTo>
                  <a:lnTo>
                    <a:pt x="362" y="1069"/>
                  </a:lnTo>
                  <a:lnTo>
                    <a:pt x="450" y="923"/>
                  </a:lnTo>
                  <a:lnTo>
                    <a:pt x="516" y="644"/>
                  </a:lnTo>
                  <a:lnTo>
                    <a:pt x="472" y="486"/>
                  </a:lnTo>
                  <a:lnTo>
                    <a:pt x="371" y="574"/>
                  </a:lnTo>
                  <a:lnTo>
                    <a:pt x="149" y="928"/>
                  </a:lnTo>
                  <a:lnTo>
                    <a:pt x="83" y="941"/>
                  </a:lnTo>
                  <a:lnTo>
                    <a:pt x="35" y="897"/>
                  </a:lnTo>
                  <a:lnTo>
                    <a:pt x="35" y="794"/>
                  </a:lnTo>
                  <a:lnTo>
                    <a:pt x="123" y="658"/>
                  </a:lnTo>
                  <a:lnTo>
                    <a:pt x="371" y="375"/>
                  </a:lnTo>
                  <a:lnTo>
                    <a:pt x="516" y="105"/>
                  </a:lnTo>
                  <a:lnTo>
                    <a:pt x="6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4" name=""/>
            <p:cNvSpPr/>
            <p:nvPr/>
          </p:nvSpPr>
          <p:spPr>
            <a:xfrm>
              <a:off x="6875640" y="1663560"/>
              <a:ext cx="136800" cy="201960"/>
            </a:xfrm>
            <a:custGeom>
              <a:avLst/>
              <a:gdLst/>
              <a:ahLst/>
              <a:rect l="0" t="0" r="r" b="b"/>
              <a:pathLst>
                <a:path w="380" h="561">
                  <a:moveTo>
                    <a:pt x="0" y="490"/>
                  </a:moveTo>
                  <a:lnTo>
                    <a:pt x="123" y="349"/>
                  </a:lnTo>
                  <a:lnTo>
                    <a:pt x="145" y="202"/>
                  </a:lnTo>
                  <a:lnTo>
                    <a:pt x="296" y="0"/>
                  </a:lnTo>
                  <a:lnTo>
                    <a:pt x="322" y="141"/>
                  </a:lnTo>
                  <a:lnTo>
                    <a:pt x="305" y="512"/>
                  </a:lnTo>
                  <a:lnTo>
                    <a:pt x="380" y="561"/>
                  </a:lnTo>
                  <a:lnTo>
                    <a:pt x="269" y="521"/>
                  </a:lnTo>
                  <a:lnTo>
                    <a:pt x="217" y="314"/>
                  </a:lnTo>
                  <a:lnTo>
                    <a:pt x="123" y="415"/>
                  </a:lnTo>
                  <a:lnTo>
                    <a:pt x="0" y="49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5" name=""/>
            <p:cNvSpPr/>
            <p:nvPr/>
          </p:nvSpPr>
          <p:spPr>
            <a:xfrm>
              <a:off x="7045200" y="1673280"/>
              <a:ext cx="92520" cy="179640"/>
            </a:xfrm>
            <a:custGeom>
              <a:avLst/>
              <a:gdLst/>
              <a:ahLst/>
              <a:rect l="0" t="0" r="r" b="b"/>
              <a:pathLst>
                <a:path w="257" h="499">
                  <a:moveTo>
                    <a:pt x="0" y="371"/>
                  </a:moveTo>
                  <a:lnTo>
                    <a:pt x="8" y="189"/>
                  </a:lnTo>
                  <a:lnTo>
                    <a:pt x="67" y="79"/>
                  </a:lnTo>
                  <a:lnTo>
                    <a:pt x="120" y="472"/>
                  </a:lnTo>
                  <a:lnTo>
                    <a:pt x="204" y="472"/>
                  </a:lnTo>
                  <a:lnTo>
                    <a:pt x="235" y="52"/>
                  </a:lnTo>
                  <a:lnTo>
                    <a:pt x="257" y="0"/>
                  </a:lnTo>
                  <a:lnTo>
                    <a:pt x="235" y="322"/>
                  </a:lnTo>
                  <a:lnTo>
                    <a:pt x="204" y="499"/>
                  </a:lnTo>
                  <a:lnTo>
                    <a:pt x="102" y="499"/>
                  </a:lnTo>
                  <a:lnTo>
                    <a:pt x="57" y="154"/>
                  </a:lnTo>
                  <a:lnTo>
                    <a:pt x="30" y="202"/>
                  </a:lnTo>
                  <a:lnTo>
                    <a:pt x="0" y="37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6" name=""/>
            <p:cNvSpPr/>
            <p:nvPr/>
          </p:nvSpPr>
          <p:spPr>
            <a:xfrm>
              <a:off x="8218440" y="963720"/>
              <a:ext cx="222480" cy="483120"/>
            </a:xfrm>
            <a:custGeom>
              <a:avLst/>
              <a:gdLst/>
              <a:ahLst/>
              <a:rect l="0" t="0" r="r" b="b"/>
              <a:pathLst>
                <a:path w="618" h="1342">
                  <a:moveTo>
                    <a:pt x="163" y="728"/>
                  </a:moveTo>
                  <a:lnTo>
                    <a:pt x="211" y="516"/>
                  </a:lnTo>
                  <a:lnTo>
                    <a:pt x="415" y="464"/>
                  </a:lnTo>
                  <a:lnTo>
                    <a:pt x="618" y="0"/>
                  </a:lnTo>
                  <a:lnTo>
                    <a:pt x="618" y="136"/>
                  </a:lnTo>
                  <a:lnTo>
                    <a:pt x="446" y="494"/>
                  </a:lnTo>
                  <a:lnTo>
                    <a:pt x="224" y="556"/>
                  </a:lnTo>
                  <a:lnTo>
                    <a:pt x="194" y="728"/>
                  </a:lnTo>
                  <a:lnTo>
                    <a:pt x="268" y="728"/>
                  </a:lnTo>
                  <a:lnTo>
                    <a:pt x="79" y="803"/>
                  </a:lnTo>
                  <a:lnTo>
                    <a:pt x="35" y="944"/>
                  </a:lnTo>
                  <a:lnTo>
                    <a:pt x="44" y="1130"/>
                  </a:lnTo>
                  <a:lnTo>
                    <a:pt x="251" y="1342"/>
                  </a:lnTo>
                  <a:lnTo>
                    <a:pt x="35" y="1157"/>
                  </a:lnTo>
                  <a:lnTo>
                    <a:pt x="0" y="1002"/>
                  </a:lnTo>
                  <a:lnTo>
                    <a:pt x="13" y="843"/>
                  </a:lnTo>
                  <a:lnTo>
                    <a:pt x="92" y="733"/>
                  </a:lnTo>
                  <a:lnTo>
                    <a:pt x="163" y="72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7" name=""/>
            <p:cNvSpPr/>
            <p:nvPr/>
          </p:nvSpPr>
          <p:spPr>
            <a:xfrm>
              <a:off x="8367840" y="963720"/>
              <a:ext cx="373320" cy="468720"/>
            </a:xfrm>
            <a:custGeom>
              <a:avLst/>
              <a:gdLst/>
              <a:ahLst/>
              <a:rect l="0" t="0" r="r" b="b"/>
              <a:pathLst>
                <a:path w="1037" h="1302">
                  <a:moveTo>
                    <a:pt x="286" y="0"/>
                  </a:moveTo>
                  <a:lnTo>
                    <a:pt x="348" y="39"/>
                  </a:lnTo>
                  <a:lnTo>
                    <a:pt x="366" y="149"/>
                  </a:lnTo>
                  <a:lnTo>
                    <a:pt x="366" y="255"/>
                  </a:lnTo>
                  <a:lnTo>
                    <a:pt x="251" y="441"/>
                  </a:lnTo>
                  <a:lnTo>
                    <a:pt x="277" y="583"/>
                  </a:lnTo>
                  <a:lnTo>
                    <a:pt x="618" y="733"/>
                  </a:lnTo>
                  <a:lnTo>
                    <a:pt x="1032" y="1139"/>
                  </a:lnTo>
                  <a:lnTo>
                    <a:pt x="1037" y="1254"/>
                  </a:lnTo>
                  <a:lnTo>
                    <a:pt x="1015" y="1302"/>
                  </a:lnTo>
                  <a:lnTo>
                    <a:pt x="860" y="1302"/>
                  </a:lnTo>
                  <a:lnTo>
                    <a:pt x="728" y="1223"/>
                  </a:lnTo>
                  <a:lnTo>
                    <a:pt x="613" y="1091"/>
                  </a:lnTo>
                  <a:lnTo>
                    <a:pt x="552" y="1011"/>
                  </a:lnTo>
                  <a:lnTo>
                    <a:pt x="480" y="998"/>
                  </a:lnTo>
                  <a:lnTo>
                    <a:pt x="569" y="998"/>
                  </a:lnTo>
                  <a:lnTo>
                    <a:pt x="741" y="1210"/>
                  </a:lnTo>
                  <a:lnTo>
                    <a:pt x="957" y="1272"/>
                  </a:lnTo>
                  <a:lnTo>
                    <a:pt x="1002" y="1210"/>
                  </a:lnTo>
                  <a:lnTo>
                    <a:pt x="979" y="1117"/>
                  </a:lnTo>
                  <a:lnTo>
                    <a:pt x="600" y="821"/>
                  </a:lnTo>
                  <a:lnTo>
                    <a:pt x="543" y="733"/>
                  </a:lnTo>
                  <a:lnTo>
                    <a:pt x="251" y="658"/>
                  </a:lnTo>
                  <a:lnTo>
                    <a:pt x="202" y="733"/>
                  </a:lnTo>
                  <a:lnTo>
                    <a:pt x="0" y="852"/>
                  </a:lnTo>
                  <a:lnTo>
                    <a:pt x="189" y="710"/>
                  </a:lnTo>
                  <a:lnTo>
                    <a:pt x="202" y="622"/>
                  </a:lnTo>
                  <a:lnTo>
                    <a:pt x="202" y="415"/>
                  </a:lnTo>
                  <a:lnTo>
                    <a:pt x="330" y="255"/>
                  </a:lnTo>
                  <a:lnTo>
                    <a:pt x="330" y="52"/>
                  </a:lnTo>
                  <a:lnTo>
                    <a:pt x="2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8" name=""/>
            <p:cNvSpPr/>
            <p:nvPr/>
          </p:nvSpPr>
          <p:spPr>
            <a:xfrm>
              <a:off x="8299440" y="1332000"/>
              <a:ext cx="319320" cy="276480"/>
            </a:xfrm>
            <a:custGeom>
              <a:avLst/>
              <a:gdLst/>
              <a:ahLst/>
              <a:rect l="0" t="0" r="r" b="b"/>
              <a:pathLst>
                <a:path w="887" h="768">
                  <a:moveTo>
                    <a:pt x="666" y="0"/>
                  </a:moveTo>
                  <a:lnTo>
                    <a:pt x="644" y="61"/>
                  </a:lnTo>
                  <a:lnTo>
                    <a:pt x="772" y="321"/>
                  </a:lnTo>
                  <a:lnTo>
                    <a:pt x="843" y="583"/>
                  </a:lnTo>
                  <a:lnTo>
                    <a:pt x="759" y="583"/>
                  </a:lnTo>
                  <a:lnTo>
                    <a:pt x="631" y="468"/>
                  </a:lnTo>
                  <a:lnTo>
                    <a:pt x="508" y="224"/>
                  </a:lnTo>
                  <a:lnTo>
                    <a:pt x="418" y="185"/>
                  </a:lnTo>
                  <a:lnTo>
                    <a:pt x="432" y="321"/>
                  </a:lnTo>
                  <a:lnTo>
                    <a:pt x="512" y="415"/>
                  </a:lnTo>
                  <a:lnTo>
                    <a:pt x="512" y="596"/>
                  </a:lnTo>
                  <a:lnTo>
                    <a:pt x="455" y="733"/>
                  </a:lnTo>
                  <a:lnTo>
                    <a:pt x="379" y="675"/>
                  </a:lnTo>
                  <a:lnTo>
                    <a:pt x="273" y="468"/>
                  </a:lnTo>
                  <a:lnTo>
                    <a:pt x="246" y="321"/>
                  </a:lnTo>
                  <a:lnTo>
                    <a:pt x="189" y="277"/>
                  </a:lnTo>
                  <a:lnTo>
                    <a:pt x="176" y="653"/>
                  </a:lnTo>
                  <a:lnTo>
                    <a:pt x="92" y="706"/>
                  </a:lnTo>
                  <a:lnTo>
                    <a:pt x="26" y="653"/>
                  </a:lnTo>
                  <a:lnTo>
                    <a:pt x="8" y="330"/>
                  </a:lnTo>
                  <a:lnTo>
                    <a:pt x="0" y="640"/>
                  </a:lnTo>
                  <a:lnTo>
                    <a:pt x="57" y="759"/>
                  </a:lnTo>
                  <a:lnTo>
                    <a:pt x="176" y="759"/>
                  </a:lnTo>
                  <a:lnTo>
                    <a:pt x="216" y="666"/>
                  </a:lnTo>
                  <a:lnTo>
                    <a:pt x="238" y="374"/>
                  </a:lnTo>
                  <a:lnTo>
                    <a:pt x="255" y="490"/>
                  </a:lnTo>
                  <a:lnTo>
                    <a:pt x="361" y="737"/>
                  </a:lnTo>
                  <a:lnTo>
                    <a:pt x="468" y="768"/>
                  </a:lnTo>
                  <a:lnTo>
                    <a:pt x="547" y="666"/>
                  </a:lnTo>
                  <a:lnTo>
                    <a:pt x="547" y="428"/>
                  </a:lnTo>
                  <a:lnTo>
                    <a:pt x="759" y="627"/>
                  </a:lnTo>
                  <a:lnTo>
                    <a:pt x="878" y="627"/>
                  </a:lnTo>
                  <a:lnTo>
                    <a:pt x="887" y="490"/>
                  </a:lnTo>
                  <a:lnTo>
                    <a:pt x="807" y="251"/>
                  </a:lnTo>
                  <a:lnTo>
                    <a:pt x="666" y="52"/>
                  </a:lnTo>
                  <a:lnTo>
                    <a:pt x="66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9" name=""/>
            <p:cNvSpPr/>
            <p:nvPr/>
          </p:nvSpPr>
          <p:spPr>
            <a:xfrm>
              <a:off x="7020000" y="1044720"/>
              <a:ext cx="1408320" cy="1128960"/>
            </a:xfrm>
            <a:custGeom>
              <a:avLst/>
              <a:gdLst/>
              <a:ahLst/>
              <a:rect l="0" t="0" r="r" b="b"/>
              <a:pathLst>
                <a:path w="3912" h="3136">
                  <a:moveTo>
                    <a:pt x="1402" y="268"/>
                  </a:moveTo>
                  <a:lnTo>
                    <a:pt x="1331" y="277"/>
                  </a:lnTo>
                  <a:lnTo>
                    <a:pt x="1230" y="432"/>
                  </a:lnTo>
                  <a:lnTo>
                    <a:pt x="1186" y="317"/>
                  </a:lnTo>
                  <a:lnTo>
                    <a:pt x="1062" y="251"/>
                  </a:lnTo>
                  <a:lnTo>
                    <a:pt x="965" y="299"/>
                  </a:lnTo>
                  <a:lnTo>
                    <a:pt x="930" y="507"/>
                  </a:lnTo>
                  <a:lnTo>
                    <a:pt x="577" y="758"/>
                  </a:lnTo>
                  <a:lnTo>
                    <a:pt x="599" y="859"/>
                  </a:lnTo>
                  <a:lnTo>
                    <a:pt x="515" y="952"/>
                  </a:lnTo>
                  <a:lnTo>
                    <a:pt x="515" y="1040"/>
                  </a:lnTo>
                  <a:lnTo>
                    <a:pt x="617" y="1274"/>
                  </a:lnTo>
                  <a:lnTo>
                    <a:pt x="621" y="1565"/>
                  </a:lnTo>
                  <a:lnTo>
                    <a:pt x="555" y="1839"/>
                  </a:lnTo>
                  <a:lnTo>
                    <a:pt x="304" y="2003"/>
                  </a:lnTo>
                  <a:lnTo>
                    <a:pt x="277" y="2227"/>
                  </a:lnTo>
                  <a:lnTo>
                    <a:pt x="194" y="2227"/>
                  </a:lnTo>
                  <a:lnTo>
                    <a:pt x="158" y="2042"/>
                  </a:lnTo>
                  <a:lnTo>
                    <a:pt x="79" y="2042"/>
                  </a:lnTo>
                  <a:lnTo>
                    <a:pt x="44" y="2236"/>
                  </a:lnTo>
                  <a:lnTo>
                    <a:pt x="0" y="2294"/>
                  </a:lnTo>
                  <a:lnTo>
                    <a:pt x="176" y="2558"/>
                  </a:lnTo>
                  <a:lnTo>
                    <a:pt x="295" y="2571"/>
                  </a:lnTo>
                  <a:lnTo>
                    <a:pt x="515" y="2774"/>
                  </a:lnTo>
                  <a:lnTo>
                    <a:pt x="718" y="2801"/>
                  </a:lnTo>
                  <a:lnTo>
                    <a:pt x="829" y="2690"/>
                  </a:lnTo>
                  <a:lnTo>
                    <a:pt x="1098" y="2302"/>
                  </a:lnTo>
                  <a:lnTo>
                    <a:pt x="1124" y="2823"/>
                  </a:lnTo>
                  <a:lnTo>
                    <a:pt x="1098" y="3136"/>
                  </a:lnTo>
                  <a:lnTo>
                    <a:pt x="3361" y="3136"/>
                  </a:lnTo>
                  <a:lnTo>
                    <a:pt x="3193" y="2801"/>
                  </a:lnTo>
                  <a:lnTo>
                    <a:pt x="3114" y="2510"/>
                  </a:lnTo>
                  <a:lnTo>
                    <a:pt x="3096" y="2077"/>
                  </a:lnTo>
                  <a:lnTo>
                    <a:pt x="3224" y="2174"/>
                  </a:lnTo>
                  <a:lnTo>
                    <a:pt x="3361" y="2174"/>
                  </a:lnTo>
                  <a:lnTo>
                    <a:pt x="3550" y="2055"/>
                  </a:lnTo>
                  <a:lnTo>
                    <a:pt x="3669" y="2042"/>
                  </a:lnTo>
                  <a:lnTo>
                    <a:pt x="3744" y="1923"/>
                  </a:lnTo>
                  <a:lnTo>
                    <a:pt x="3802" y="1628"/>
                  </a:lnTo>
                  <a:lnTo>
                    <a:pt x="3912" y="1512"/>
                  </a:lnTo>
                  <a:lnTo>
                    <a:pt x="3855" y="1419"/>
                  </a:lnTo>
                  <a:lnTo>
                    <a:pt x="3766" y="1419"/>
                  </a:lnTo>
                  <a:lnTo>
                    <a:pt x="3700" y="1477"/>
                  </a:lnTo>
                  <a:lnTo>
                    <a:pt x="3639" y="1503"/>
                  </a:lnTo>
                  <a:lnTo>
                    <a:pt x="3559" y="1419"/>
                  </a:lnTo>
                  <a:lnTo>
                    <a:pt x="3462" y="1411"/>
                  </a:lnTo>
                  <a:lnTo>
                    <a:pt x="3286" y="1296"/>
                  </a:lnTo>
                  <a:lnTo>
                    <a:pt x="3171" y="1181"/>
                  </a:lnTo>
                  <a:lnTo>
                    <a:pt x="3153" y="1040"/>
                  </a:lnTo>
                  <a:lnTo>
                    <a:pt x="3171" y="899"/>
                  </a:lnTo>
                  <a:lnTo>
                    <a:pt x="3246" y="780"/>
                  </a:lnTo>
                  <a:lnTo>
                    <a:pt x="3343" y="679"/>
                  </a:lnTo>
                  <a:lnTo>
                    <a:pt x="3334" y="502"/>
                  </a:lnTo>
                  <a:lnTo>
                    <a:pt x="3334" y="370"/>
                  </a:lnTo>
                  <a:lnTo>
                    <a:pt x="3286" y="277"/>
                  </a:lnTo>
                  <a:lnTo>
                    <a:pt x="3153" y="238"/>
                  </a:lnTo>
                  <a:lnTo>
                    <a:pt x="3109" y="207"/>
                  </a:lnTo>
                  <a:lnTo>
                    <a:pt x="3012" y="52"/>
                  </a:lnTo>
                  <a:lnTo>
                    <a:pt x="2933" y="8"/>
                  </a:lnTo>
                  <a:lnTo>
                    <a:pt x="2854" y="0"/>
                  </a:lnTo>
                  <a:lnTo>
                    <a:pt x="2787" y="30"/>
                  </a:lnTo>
                  <a:lnTo>
                    <a:pt x="2730" y="110"/>
                  </a:lnTo>
                  <a:lnTo>
                    <a:pt x="2642" y="158"/>
                  </a:lnTo>
                  <a:lnTo>
                    <a:pt x="2549" y="176"/>
                  </a:lnTo>
                  <a:lnTo>
                    <a:pt x="2439" y="176"/>
                  </a:lnTo>
                  <a:lnTo>
                    <a:pt x="2457" y="330"/>
                  </a:lnTo>
                  <a:lnTo>
                    <a:pt x="2457" y="520"/>
                  </a:lnTo>
                  <a:lnTo>
                    <a:pt x="2439" y="652"/>
                  </a:lnTo>
                  <a:lnTo>
                    <a:pt x="2342" y="806"/>
                  </a:lnTo>
                  <a:lnTo>
                    <a:pt x="2223" y="1045"/>
                  </a:lnTo>
                  <a:lnTo>
                    <a:pt x="2122" y="1327"/>
                  </a:lnTo>
                  <a:lnTo>
                    <a:pt x="2117" y="1503"/>
                  </a:lnTo>
                  <a:lnTo>
                    <a:pt x="2073" y="1637"/>
                  </a:lnTo>
                  <a:lnTo>
                    <a:pt x="2011" y="1786"/>
                  </a:lnTo>
                  <a:lnTo>
                    <a:pt x="1985" y="2011"/>
                  </a:lnTo>
                  <a:lnTo>
                    <a:pt x="2003" y="2201"/>
                  </a:lnTo>
                  <a:lnTo>
                    <a:pt x="2073" y="2421"/>
                  </a:lnTo>
                  <a:lnTo>
                    <a:pt x="2117" y="2510"/>
                  </a:lnTo>
                  <a:lnTo>
                    <a:pt x="1985" y="2585"/>
                  </a:lnTo>
                  <a:lnTo>
                    <a:pt x="1825" y="2638"/>
                  </a:lnTo>
                  <a:lnTo>
                    <a:pt x="1649" y="2655"/>
                  </a:lnTo>
                  <a:lnTo>
                    <a:pt x="1543" y="2655"/>
                  </a:lnTo>
                  <a:lnTo>
                    <a:pt x="1472" y="2624"/>
                  </a:lnTo>
                  <a:lnTo>
                    <a:pt x="1472" y="2439"/>
                  </a:lnTo>
                  <a:lnTo>
                    <a:pt x="1472" y="2161"/>
                  </a:lnTo>
                  <a:lnTo>
                    <a:pt x="1428" y="1888"/>
                  </a:lnTo>
                  <a:lnTo>
                    <a:pt x="1358" y="1637"/>
                  </a:lnTo>
                  <a:lnTo>
                    <a:pt x="1327" y="1441"/>
                  </a:lnTo>
                  <a:lnTo>
                    <a:pt x="1314" y="1168"/>
                  </a:lnTo>
                  <a:lnTo>
                    <a:pt x="1358" y="930"/>
                  </a:lnTo>
                  <a:lnTo>
                    <a:pt x="1428" y="732"/>
                  </a:lnTo>
                  <a:lnTo>
                    <a:pt x="1433" y="617"/>
                  </a:lnTo>
                  <a:lnTo>
                    <a:pt x="1402" y="449"/>
                  </a:lnTo>
                  <a:lnTo>
                    <a:pt x="1402" y="317"/>
                  </a:lnTo>
                  <a:lnTo>
                    <a:pt x="1428" y="277"/>
                  </a:lnTo>
                  <a:lnTo>
                    <a:pt x="1402" y="26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0" name=""/>
            <p:cNvSpPr/>
            <p:nvPr/>
          </p:nvSpPr>
          <p:spPr>
            <a:xfrm>
              <a:off x="7569360" y="1270080"/>
              <a:ext cx="176400" cy="733680"/>
            </a:xfrm>
            <a:custGeom>
              <a:avLst/>
              <a:gdLst/>
              <a:ahLst/>
              <a:rect l="0" t="0" r="r" b="b"/>
              <a:pathLst>
                <a:path w="490" h="2038">
                  <a:moveTo>
                    <a:pt x="194" y="26"/>
                  </a:moveTo>
                  <a:lnTo>
                    <a:pt x="66" y="92"/>
                  </a:lnTo>
                  <a:lnTo>
                    <a:pt x="74" y="286"/>
                  </a:lnTo>
                  <a:lnTo>
                    <a:pt x="176" y="339"/>
                  </a:lnTo>
                  <a:lnTo>
                    <a:pt x="52" y="560"/>
                  </a:lnTo>
                  <a:lnTo>
                    <a:pt x="0" y="793"/>
                  </a:lnTo>
                  <a:lnTo>
                    <a:pt x="0" y="1014"/>
                  </a:lnTo>
                  <a:lnTo>
                    <a:pt x="52" y="1222"/>
                  </a:lnTo>
                  <a:lnTo>
                    <a:pt x="101" y="1469"/>
                  </a:lnTo>
                  <a:lnTo>
                    <a:pt x="101" y="1614"/>
                  </a:lnTo>
                  <a:lnTo>
                    <a:pt x="52" y="1791"/>
                  </a:lnTo>
                  <a:lnTo>
                    <a:pt x="256" y="2038"/>
                  </a:lnTo>
                  <a:lnTo>
                    <a:pt x="336" y="1998"/>
                  </a:lnTo>
                  <a:lnTo>
                    <a:pt x="393" y="1826"/>
                  </a:lnTo>
                  <a:lnTo>
                    <a:pt x="486" y="1601"/>
                  </a:lnTo>
                  <a:lnTo>
                    <a:pt x="490" y="1478"/>
                  </a:lnTo>
                  <a:lnTo>
                    <a:pt x="415" y="1262"/>
                  </a:lnTo>
                  <a:lnTo>
                    <a:pt x="318" y="1046"/>
                  </a:lnTo>
                  <a:lnTo>
                    <a:pt x="287" y="890"/>
                  </a:lnTo>
                  <a:lnTo>
                    <a:pt x="287" y="740"/>
                  </a:lnTo>
                  <a:lnTo>
                    <a:pt x="318" y="608"/>
                  </a:lnTo>
                  <a:lnTo>
                    <a:pt x="393" y="445"/>
                  </a:lnTo>
                  <a:lnTo>
                    <a:pt x="393" y="379"/>
                  </a:lnTo>
                  <a:lnTo>
                    <a:pt x="353" y="317"/>
                  </a:lnTo>
                  <a:lnTo>
                    <a:pt x="450" y="229"/>
                  </a:lnTo>
                  <a:lnTo>
                    <a:pt x="450" y="154"/>
                  </a:lnTo>
                  <a:lnTo>
                    <a:pt x="318" y="0"/>
                  </a:lnTo>
                  <a:lnTo>
                    <a:pt x="424" y="154"/>
                  </a:lnTo>
                  <a:lnTo>
                    <a:pt x="424" y="220"/>
                  </a:lnTo>
                  <a:lnTo>
                    <a:pt x="331" y="286"/>
                  </a:lnTo>
                  <a:lnTo>
                    <a:pt x="367" y="379"/>
                  </a:lnTo>
                  <a:lnTo>
                    <a:pt x="353" y="445"/>
                  </a:lnTo>
                  <a:lnTo>
                    <a:pt x="265" y="630"/>
                  </a:lnTo>
                  <a:lnTo>
                    <a:pt x="256" y="815"/>
                  </a:lnTo>
                  <a:lnTo>
                    <a:pt x="274" y="987"/>
                  </a:lnTo>
                  <a:lnTo>
                    <a:pt x="336" y="1235"/>
                  </a:lnTo>
                  <a:lnTo>
                    <a:pt x="415" y="1429"/>
                  </a:lnTo>
                  <a:lnTo>
                    <a:pt x="415" y="1588"/>
                  </a:lnTo>
                  <a:lnTo>
                    <a:pt x="367" y="1791"/>
                  </a:lnTo>
                  <a:lnTo>
                    <a:pt x="274" y="1998"/>
                  </a:lnTo>
                  <a:lnTo>
                    <a:pt x="163" y="1883"/>
                  </a:lnTo>
                  <a:lnTo>
                    <a:pt x="114" y="1791"/>
                  </a:lnTo>
                  <a:lnTo>
                    <a:pt x="127" y="1588"/>
                  </a:lnTo>
                  <a:lnTo>
                    <a:pt x="114" y="1390"/>
                  </a:lnTo>
                  <a:lnTo>
                    <a:pt x="52" y="1121"/>
                  </a:lnTo>
                  <a:lnTo>
                    <a:pt x="35" y="934"/>
                  </a:lnTo>
                  <a:lnTo>
                    <a:pt x="52" y="727"/>
                  </a:lnTo>
                  <a:lnTo>
                    <a:pt x="101" y="524"/>
                  </a:lnTo>
                  <a:lnTo>
                    <a:pt x="207" y="326"/>
                  </a:lnTo>
                  <a:lnTo>
                    <a:pt x="114" y="246"/>
                  </a:lnTo>
                  <a:lnTo>
                    <a:pt x="101" y="101"/>
                  </a:lnTo>
                  <a:lnTo>
                    <a:pt x="194"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1" name=""/>
            <p:cNvSpPr/>
            <p:nvPr/>
          </p:nvSpPr>
          <p:spPr>
            <a:xfrm>
              <a:off x="8075520" y="417600"/>
              <a:ext cx="282960" cy="354240"/>
            </a:xfrm>
            <a:custGeom>
              <a:avLst/>
              <a:gdLst/>
              <a:ahLst/>
              <a:rect l="0" t="0" r="r" b="b"/>
              <a:pathLst>
                <a:path w="786" h="984">
                  <a:moveTo>
                    <a:pt x="136" y="251"/>
                  </a:moveTo>
                  <a:lnTo>
                    <a:pt x="243" y="229"/>
                  </a:lnTo>
                  <a:lnTo>
                    <a:pt x="358" y="238"/>
                  </a:lnTo>
                  <a:lnTo>
                    <a:pt x="450" y="282"/>
                  </a:lnTo>
                  <a:lnTo>
                    <a:pt x="503" y="335"/>
                  </a:lnTo>
                  <a:lnTo>
                    <a:pt x="530" y="383"/>
                  </a:lnTo>
                  <a:lnTo>
                    <a:pt x="530" y="436"/>
                  </a:lnTo>
                  <a:lnTo>
                    <a:pt x="499" y="463"/>
                  </a:lnTo>
                  <a:lnTo>
                    <a:pt x="450" y="489"/>
                  </a:lnTo>
                  <a:lnTo>
                    <a:pt x="389" y="494"/>
                  </a:lnTo>
                  <a:lnTo>
                    <a:pt x="322" y="480"/>
                  </a:lnTo>
                  <a:lnTo>
                    <a:pt x="247" y="440"/>
                  </a:lnTo>
                  <a:lnTo>
                    <a:pt x="194" y="396"/>
                  </a:lnTo>
                  <a:lnTo>
                    <a:pt x="176" y="525"/>
                  </a:lnTo>
                  <a:lnTo>
                    <a:pt x="136" y="613"/>
                  </a:lnTo>
                  <a:lnTo>
                    <a:pt x="0" y="825"/>
                  </a:lnTo>
                  <a:lnTo>
                    <a:pt x="189" y="984"/>
                  </a:lnTo>
                  <a:lnTo>
                    <a:pt x="336" y="719"/>
                  </a:lnTo>
                  <a:lnTo>
                    <a:pt x="499" y="737"/>
                  </a:lnTo>
                  <a:lnTo>
                    <a:pt x="601" y="719"/>
                  </a:lnTo>
                  <a:lnTo>
                    <a:pt x="698" y="658"/>
                  </a:lnTo>
                  <a:lnTo>
                    <a:pt x="756" y="587"/>
                  </a:lnTo>
                  <a:lnTo>
                    <a:pt x="786" y="485"/>
                  </a:lnTo>
                  <a:lnTo>
                    <a:pt x="786" y="374"/>
                  </a:lnTo>
                  <a:lnTo>
                    <a:pt x="756" y="264"/>
                  </a:lnTo>
                  <a:lnTo>
                    <a:pt x="689" y="149"/>
                  </a:lnTo>
                  <a:lnTo>
                    <a:pt x="610" y="66"/>
                  </a:lnTo>
                  <a:lnTo>
                    <a:pt x="512" y="26"/>
                  </a:lnTo>
                  <a:lnTo>
                    <a:pt x="402" y="0"/>
                  </a:lnTo>
                  <a:lnTo>
                    <a:pt x="256" y="0"/>
                  </a:lnTo>
                  <a:lnTo>
                    <a:pt x="105" y="30"/>
                  </a:lnTo>
                  <a:lnTo>
                    <a:pt x="136" y="251"/>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8024760" y="763560"/>
              <a:ext cx="101880" cy="70200"/>
            </a:xfrm>
            <a:custGeom>
              <a:avLst/>
              <a:gdLst/>
              <a:ahLst/>
              <a:rect l="0" t="0" r="r" b="b"/>
              <a:pathLst>
                <a:path w="283" h="195">
                  <a:moveTo>
                    <a:pt x="110" y="0"/>
                  </a:moveTo>
                  <a:lnTo>
                    <a:pt x="39" y="0"/>
                  </a:lnTo>
                  <a:lnTo>
                    <a:pt x="0" y="30"/>
                  </a:lnTo>
                  <a:lnTo>
                    <a:pt x="0" y="98"/>
                  </a:lnTo>
                  <a:lnTo>
                    <a:pt x="57" y="164"/>
                  </a:lnTo>
                  <a:lnTo>
                    <a:pt x="172" y="195"/>
                  </a:lnTo>
                  <a:lnTo>
                    <a:pt x="256" y="190"/>
                  </a:lnTo>
                  <a:lnTo>
                    <a:pt x="283" y="146"/>
                  </a:lnTo>
                  <a:lnTo>
                    <a:pt x="265" y="106"/>
                  </a:lnTo>
                  <a:lnTo>
                    <a:pt x="230" y="48"/>
                  </a:lnTo>
                  <a:lnTo>
                    <a:pt x="159" y="8"/>
                  </a:lnTo>
                  <a:lnTo>
                    <a:pt x="110" y="0"/>
                  </a:lnTo>
                  <a:close/>
                </a:path>
              </a:pathLst>
            </a:custGeom>
            <a:solidFill>
              <a:srgbClr val="fc0128"/>
            </a:solidFill>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3" name=""/>
          <p:cNvSpPr txBox="1"/>
          <p:nvPr/>
        </p:nvSpPr>
        <p:spPr>
          <a:xfrm>
            <a:off x="914400" y="990720"/>
            <a:ext cx="792468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ultistep Income Statement</a:t>
            </a:r>
            <a:endParaRPr b="0" lang="en-US" sz="4400" spc="-1" strike="noStrike">
              <a:solidFill>
                <a:srgbClr val="ffffff"/>
              </a:solidFill>
              <a:latin typeface="Arial"/>
            </a:endParaRPr>
          </a:p>
        </p:txBody>
      </p:sp>
      <p:sp>
        <p:nvSpPr>
          <p:cNvPr id="364" name=""/>
          <p:cNvSpPr txBox="1"/>
          <p:nvPr/>
        </p:nvSpPr>
        <p:spPr>
          <a:xfrm>
            <a:off x="2509920" y="2395440"/>
            <a:ext cx="5191200" cy="276228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OBJECTIVE 6</a:t>
            </a:r>
            <a:endParaRPr b="0" lang="en-US" sz="36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Prepare multistep and</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single-step classified</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income statements.</a:t>
            </a:r>
            <a:endParaRPr b="0" lang="en-US" sz="3200" spc="-1" strike="noStrike">
              <a:solidFill>
                <a:srgbClr val="ffffff"/>
              </a:solidFill>
              <a:latin typeface="Arial"/>
            </a:endParaRPr>
          </a:p>
        </p:txBody>
      </p:sp>
      <p:pic>
        <p:nvPicPr>
          <p:cNvPr id="365"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6" name=""/>
          <p:cNvSpPr txBox="1"/>
          <p:nvPr/>
        </p:nvSpPr>
        <p:spPr>
          <a:xfrm>
            <a:off x="838080" y="533520"/>
            <a:ext cx="792468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ultistep Income Statement</a:t>
            </a:r>
            <a:endParaRPr b="0" lang="en-US" sz="4400" spc="-1" strike="noStrike">
              <a:solidFill>
                <a:srgbClr val="ffffff"/>
              </a:solidFill>
              <a:latin typeface="Arial"/>
            </a:endParaRPr>
          </a:p>
        </p:txBody>
      </p:sp>
      <p:sp>
        <p:nvSpPr>
          <p:cNvPr id="367" name=""/>
          <p:cNvSpPr txBox="1"/>
          <p:nvPr/>
        </p:nvSpPr>
        <p:spPr>
          <a:xfrm>
            <a:off x="1023840" y="1846440"/>
            <a:ext cx="7623000" cy="29304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ultistep income statement derives net income in a step-by-step manner; however, it shows only the totals of significant catego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8" name=""/>
          <p:cNvSpPr txBox="1"/>
          <p:nvPr/>
        </p:nvSpPr>
        <p:spPr>
          <a:xfrm>
            <a:off x="932040" y="270000"/>
            <a:ext cx="7924680" cy="121932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Multistep Income Statement:</a:t>
            </a:r>
            <a:br>
              <a:rPr sz="4000"/>
            </a:br>
            <a:r>
              <a:rPr b="1" lang="en-US" sz="4000" spc="-1" strike="noStrike">
                <a:solidFill>
                  <a:srgbClr val="ffcc66"/>
                </a:solidFill>
                <a:latin typeface="Arial"/>
                <a:ea typeface="Arial"/>
              </a:rPr>
              <a:t>A Merchandising Company</a:t>
            </a:r>
            <a:endParaRPr b="0" lang="en-US" sz="4000" spc="-1" strike="noStrike">
              <a:solidFill>
                <a:srgbClr val="ffffff"/>
              </a:solidFill>
              <a:latin typeface="Arial"/>
            </a:endParaRPr>
          </a:p>
        </p:txBody>
      </p:sp>
      <p:sp>
        <p:nvSpPr>
          <p:cNvPr id="369" name=""/>
          <p:cNvSpPr txBox="1"/>
          <p:nvPr/>
        </p:nvSpPr>
        <p:spPr>
          <a:xfrm>
            <a:off x="2376360" y="1517760"/>
            <a:ext cx="6037200" cy="4818240"/>
          </a:xfrm>
          <a:prstGeom prst="rect">
            <a:avLst/>
          </a:prstGeom>
          <a:noFill/>
          <a:ln w="0">
            <a:noFill/>
          </a:ln>
        </p:spPr>
        <p:txBody>
          <a:bodyPr lIns="0" rIns="0" tIns="0" bIns="0" anchor="t">
            <a:noAutofit/>
          </a:bodyPr>
          <a:p>
            <a:pPr marL="343080" indent="-343080">
              <a:lnSpc>
                <a:spcPct val="90000"/>
              </a:lnSpc>
              <a:spcBef>
                <a:spcPts val="479"/>
              </a:spcBef>
            </a:pPr>
            <a:r>
              <a:rPr b="1" lang="en-US" sz="2800" spc="-1" strike="noStrike">
                <a:solidFill>
                  <a:srgbClr val="fcffd8"/>
                </a:solidFill>
                <a:latin typeface="Arial"/>
                <a:ea typeface="Arial"/>
              </a:rPr>
              <a:t>Net sales</a:t>
            </a:r>
            <a:endParaRPr b="0" lang="en-US" sz="2800" spc="-1" strike="noStrike">
              <a:solidFill>
                <a:srgbClr val="ffffff"/>
              </a:solidFill>
              <a:latin typeface="Arial"/>
            </a:endParaRPr>
          </a:p>
          <a:p>
            <a:pPr marL="343080" indent="-343080">
              <a:lnSpc>
                <a:spcPct val="90000"/>
              </a:lnSpc>
              <a:spcBef>
                <a:spcPts val="479"/>
              </a:spcBef>
            </a:pPr>
            <a:r>
              <a:rPr b="1" lang="en-US" sz="2800" spc="-1" strike="noStrike">
                <a:solidFill>
                  <a:srgbClr val="fcffd8"/>
                </a:solidFill>
                <a:latin typeface="Arial"/>
                <a:ea typeface="Arial"/>
              </a:rPr>
              <a:t>-    Cost of goods sold</a:t>
            </a:r>
            <a:endParaRPr b="0" lang="en-US" sz="2800" spc="-1" strike="noStrike">
              <a:solidFill>
                <a:srgbClr val="ffffff"/>
              </a:solidFill>
              <a:latin typeface="Arial"/>
            </a:endParaRPr>
          </a:p>
          <a:p>
            <a:pPr marL="343080" indent="-343080">
              <a:lnSpc>
                <a:spcPct val="90000"/>
              </a:lnSpc>
              <a:spcBef>
                <a:spcPts val="479"/>
              </a:spcBef>
            </a:pPr>
            <a:r>
              <a:rPr b="1" i="1" lang="en-US" sz="2800" spc="-1" strike="noStrike">
                <a:solidFill>
                  <a:srgbClr val="ffcc00"/>
                </a:solidFill>
                <a:latin typeface="Arial"/>
                <a:ea typeface="Arial"/>
              </a:rPr>
              <a:t>=   Gross margin</a:t>
            </a:r>
            <a:endParaRPr b="0" lang="en-US" sz="2800" spc="-1" strike="noStrike">
              <a:solidFill>
                <a:srgbClr val="ffffff"/>
              </a:solidFill>
              <a:latin typeface="Arial"/>
            </a:endParaRPr>
          </a:p>
          <a:p>
            <a:pPr marL="343080" indent="-343080">
              <a:lnSpc>
                <a:spcPct val="90000"/>
              </a:lnSpc>
              <a:spcBef>
                <a:spcPts val="479"/>
              </a:spcBef>
            </a:pPr>
            <a:r>
              <a:rPr b="1" lang="en-US" sz="2800" spc="-1" strike="noStrike">
                <a:solidFill>
                  <a:srgbClr val="fcffd8"/>
                </a:solidFill>
                <a:latin typeface="Arial"/>
                <a:ea typeface="Arial"/>
              </a:rPr>
              <a:t>-    Operating expenses</a:t>
            </a:r>
            <a:endParaRPr b="0" lang="en-US" sz="2800" spc="-1" strike="noStrike">
              <a:solidFill>
                <a:srgbClr val="ffffff"/>
              </a:solidFill>
              <a:latin typeface="Arial"/>
            </a:endParaRPr>
          </a:p>
          <a:p>
            <a:pPr marL="343080" indent="-343080">
              <a:lnSpc>
                <a:spcPct val="90000"/>
              </a:lnSpc>
              <a:spcBef>
                <a:spcPts val="479"/>
              </a:spcBef>
            </a:pPr>
            <a:r>
              <a:rPr b="1" i="1" lang="en-US" sz="2800" spc="-1" strike="noStrike">
                <a:solidFill>
                  <a:srgbClr val="ffcc00"/>
                </a:solidFill>
                <a:latin typeface="Arial"/>
                <a:ea typeface="Arial"/>
              </a:rPr>
              <a:t>=    Income from operations</a:t>
            </a:r>
            <a:endParaRPr b="0" lang="en-US" sz="2800" spc="-1" strike="noStrike">
              <a:solidFill>
                <a:srgbClr val="ffffff"/>
              </a:solidFill>
              <a:latin typeface="Arial"/>
            </a:endParaRPr>
          </a:p>
          <a:p>
            <a:pPr marL="343080" indent="-343080">
              <a:lnSpc>
                <a:spcPct val="90000"/>
              </a:lnSpc>
              <a:spcBef>
                <a:spcPts val="479"/>
              </a:spcBef>
            </a:pPr>
            <a:r>
              <a:rPr b="1" lang="en-US" sz="2800" spc="-1" strike="noStrike">
                <a:solidFill>
                  <a:srgbClr val="fcffd8"/>
                </a:solidFill>
                <a:latin typeface="Arial"/>
                <a:ea typeface="Arial"/>
              </a:rPr>
              <a:t>+/- Other revenues and expenses</a:t>
            </a:r>
            <a:endParaRPr b="0" lang="en-US" sz="2800" spc="-1" strike="noStrike">
              <a:solidFill>
                <a:srgbClr val="ffffff"/>
              </a:solidFill>
              <a:latin typeface="Arial"/>
            </a:endParaRPr>
          </a:p>
          <a:p>
            <a:pPr marL="343080" indent="-343080">
              <a:lnSpc>
                <a:spcPct val="90000"/>
              </a:lnSpc>
              <a:spcBef>
                <a:spcPts val="479"/>
              </a:spcBef>
            </a:pPr>
            <a:r>
              <a:rPr b="1" i="1" lang="en-US" sz="2800" spc="-1" strike="noStrike">
                <a:solidFill>
                  <a:srgbClr val="ffcc00"/>
                </a:solidFill>
                <a:latin typeface="Arial"/>
                <a:ea typeface="Arial"/>
              </a:rPr>
              <a:t>=    Income before income taxes</a:t>
            </a:r>
            <a:endParaRPr b="0" lang="en-US" sz="2800" spc="-1" strike="noStrike">
              <a:solidFill>
                <a:srgbClr val="ffffff"/>
              </a:solidFill>
              <a:latin typeface="Arial"/>
            </a:endParaRPr>
          </a:p>
          <a:p>
            <a:pPr marL="343080" indent="-343080">
              <a:lnSpc>
                <a:spcPct val="90000"/>
              </a:lnSpc>
              <a:spcBef>
                <a:spcPts val="479"/>
              </a:spcBef>
            </a:pPr>
            <a:r>
              <a:rPr b="1" lang="en-US" sz="2800" spc="-1" strike="noStrike">
                <a:solidFill>
                  <a:srgbClr val="fcffd8"/>
                </a:solidFill>
                <a:latin typeface="Arial"/>
                <a:ea typeface="Arial"/>
              </a:rPr>
              <a:t>-     Income taxes</a:t>
            </a:r>
            <a:endParaRPr b="0" lang="en-US" sz="2800" spc="-1" strike="noStrike">
              <a:solidFill>
                <a:srgbClr val="ffffff"/>
              </a:solidFill>
              <a:latin typeface="Arial"/>
            </a:endParaRPr>
          </a:p>
          <a:p>
            <a:pPr marL="343080" indent="-343080">
              <a:lnSpc>
                <a:spcPct val="90000"/>
              </a:lnSpc>
              <a:spcBef>
                <a:spcPts val="479"/>
              </a:spcBef>
            </a:pPr>
            <a:r>
              <a:rPr b="1" i="1" lang="en-US" sz="2800" spc="-1" strike="noStrike">
                <a:solidFill>
                  <a:srgbClr val="ffcc00"/>
                </a:solidFill>
                <a:latin typeface="Arial"/>
                <a:ea typeface="Arial"/>
              </a:rPr>
              <a:t>=    Net income</a:t>
            </a:r>
            <a:endParaRPr b="0" lang="en-US" sz="2800" spc="-1" strike="noStrike">
              <a:solidFill>
                <a:srgbClr val="ffffff"/>
              </a:solidFill>
              <a:latin typeface="Arial"/>
            </a:endParaRPr>
          </a:p>
          <a:p>
            <a:pPr marL="343080" indent="-343080">
              <a:lnSpc>
                <a:spcPct val="90000"/>
              </a:lnSpc>
              <a:spcBef>
                <a:spcPts val="479"/>
              </a:spcBef>
            </a:pPr>
            <a:endParaRPr b="0" lang="en-US" sz="1600" spc="-1" strike="noStrike">
              <a:solidFill>
                <a:srgbClr val="ffffff"/>
              </a:solidFill>
              <a:latin typeface="Arial"/>
            </a:endParaRPr>
          </a:p>
          <a:p>
            <a:pPr marL="343080" indent="-343080">
              <a:lnSpc>
                <a:spcPct val="90000"/>
              </a:lnSpc>
              <a:spcBef>
                <a:spcPts val="479"/>
              </a:spcBef>
            </a:pPr>
            <a:r>
              <a:rPr b="1" lang="en-US" sz="2800" spc="-1" strike="noStrike">
                <a:solidFill>
                  <a:srgbClr val="fcfeb9"/>
                </a:solidFill>
                <a:latin typeface="Arial"/>
                <a:ea typeface="Arial"/>
              </a:rPr>
              <a:t>Earnings per sh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0" name=""/>
          <p:cNvSpPr txBox="1"/>
          <p:nvPr/>
        </p:nvSpPr>
        <p:spPr>
          <a:xfrm>
            <a:off x="1271520" y="317520"/>
            <a:ext cx="70531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ingle-Step</a:t>
            </a:r>
            <a:br>
              <a:rPr sz="4400"/>
            </a:br>
            <a:r>
              <a:rPr b="1" lang="en-US" sz="4400" spc="-1" strike="noStrike">
                <a:solidFill>
                  <a:srgbClr val="ffcc66"/>
                </a:solidFill>
                <a:latin typeface="Arial"/>
                <a:ea typeface="Arial"/>
              </a:rPr>
              <a:t>Income Statement</a:t>
            </a:r>
            <a:endParaRPr b="0" lang="en-US" sz="4400" spc="-1" strike="noStrike">
              <a:solidFill>
                <a:srgbClr val="ffffff"/>
              </a:solidFill>
              <a:latin typeface="Arial"/>
            </a:endParaRPr>
          </a:p>
        </p:txBody>
      </p:sp>
      <p:sp>
        <p:nvSpPr>
          <p:cNvPr id="371" name=""/>
          <p:cNvSpPr txBox="1"/>
          <p:nvPr/>
        </p:nvSpPr>
        <p:spPr>
          <a:xfrm>
            <a:off x="739800" y="1552680"/>
            <a:ext cx="8299440" cy="46594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single-step income statement derives income before income taxes in a single step by putting the major revenue categories in the first part of the statement and by putting the major cost and expense categories in the second part of the statement.</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ncome taxes shown as a separate item.</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Simple present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2" name=""/>
          <p:cNvSpPr txBox="1"/>
          <p:nvPr/>
        </p:nvSpPr>
        <p:spPr>
          <a:xfrm>
            <a:off x="1978200" y="623880"/>
            <a:ext cx="525780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373" name=""/>
          <p:cNvSpPr txBox="1"/>
          <p:nvPr/>
        </p:nvSpPr>
        <p:spPr>
          <a:xfrm>
            <a:off x="687240" y="1708200"/>
            <a:ext cx="8170920" cy="466092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y are other revenues and expense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eparated from operating revenues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expenses in the multistep incom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tement?</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Other revenues and expenses ar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eparated from operating revenues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expenses so that income from operation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actual business of the company) can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e isolated from the financing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nonoperating aspects.</a:t>
            </a:r>
            <a:endParaRPr b="0" lang="en-US" sz="2800" spc="-1" strike="noStrike">
              <a:solidFill>
                <a:srgbClr val="ffffff"/>
              </a:solidFill>
              <a:latin typeface="Arial"/>
            </a:endParaRPr>
          </a:p>
        </p:txBody>
      </p:sp>
      <p:grpSp>
        <p:nvGrpSpPr>
          <p:cNvPr id="374" name=""/>
          <p:cNvGrpSpPr/>
          <p:nvPr/>
        </p:nvGrpSpPr>
        <p:grpSpPr>
          <a:xfrm>
            <a:off x="7077240" y="222120"/>
            <a:ext cx="1686240" cy="1603800"/>
            <a:chOff x="7077240" y="222120"/>
            <a:chExt cx="1686240" cy="1603800"/>
          </a:xfrm>
        </p:grpSpPr>
        <p:sp>
          <p:nvSpPr>
            <p:cNvPr id="375" name=""/>
            <p:cNvSpPr/>
            <p:nvPr/>
          </p:nvSpPr>
          <p:spPr>
            <a:xfrm>
              <a:off x="7081920" y="1009800"/>
              <a:ext cx="408240" cy="559080"/>
            </a:xfrm>
            <a:custGeom>
              <a:avLst/>
              <a:gdLst/>
              <a:ahLst/>
              <a:rect l="0" t="0" r="r" b="b"/>
              <a:pathLst>
                <a:path w="1134" h="1553">
                  <a:moveTo>
                    <a:pt x="454" y="0"/>
                  </a:moveTo>
                  <a:lnTo>
                    <a:pt x="392" y="66"/>
                  </a:lnTo>
                  <a:lnTo>
                    <a:pt x="392" y="268"/>
                  </a:lnTo>
                  <a:lnTo>
                    <a:pt x="454" y="418"/>
                  </a:lnTo>
                  <a:lnTo>
                    <a:pt x="520" y="489"/>
                  </a:lnTo>
                  <a:lnTo>
                    <a:pt x="418" y="590"/>
                  </a:lnTo>
                  <a:lnTo>
                    <a:pt x="282" y="816"/>
                  </a:lnTo>
                  <a:lnTo>
                    <a:pt x="26" y="1173"/>
                  </a:lnTo>
                  <a:lnTo>
                    <a:pt x="0" y="1257"/>
                  </a:lnTo>
                  <a:lnTo>
                    <a:pt x="26" y="1328"/>
                  </a:lnTo>
                  <a:lnTo>
                    <a:pt x="105" y="1328"/>
                  </a:lnTo>
                  <a:lnTo>
                    <a:pt x="171" y="1248"/>
                  </a:lnTo>
                  <a:lnTo>
                    <a:pt x="282" y="1046"/>
                  </a:lnTo>
                  <a:lnTo>
                    <a:pt x="352" y="962"/>
                  </a:lnTo>
                  <a:lnTo>
                    <a:pt x="392" y="1094"/>
                  </a:lnTo>
                  <a:lnTo>
                    <a:pt x="366" y="1235"/>
                  </a:lnTo>
                  <a:lnTo>
                    <a:pt x="251" y="1438"/>
                  </a:lnTo>
                  <a:lnTo>
                    <a:pt x="282" y="1491"/>
                  </a:lnTo>
                  <a:lnTo>
                    <a:pt x="352" y="1473"/>
                  </a:lnTo>
                  <a:lnTo>
                    <a:pt x="489" y="1368"/>
                  </a:lnTo>
                  <a:lnTo>
                    <a:pt x="605" y="1187"/>
                  </a:lnTo>
                  <a:lnTo>
                    <a:pt x="605" y="1504"/>
                  </a:lnTo>
                  <a:lnTo>
                    <a:pt x="741" y="1553"/>
                  </a:lnTo>
                  <a:lnTo>
                    <a:pt x="816" y="1359"/>
                  </a:lnTo>
                  <a:lnTo>
                    <a:pt x="891" y="1539"/>
                  </a:lnTo>
                  <a:lnTo>
                    <a:pt x="944" y="1491"/>
                  </a:lnTo>
                  <a:lnTo>
                    <a:pt x="966" y="1125"/>
                  </a:lnTo>
                  <a:lnTo>
                    <a:pt x="1134" y="790"/>
                  </a:lnTo>
                  <a:lnTo>
                    <a:pt x="1099" y="590"/>
                  </a:lnTo>
                  <a:lnTo>
                    <a:pt x="979" y="520"/>
                  </a:lnTo>
                  <a:lnTo>
                    <a:pt x="860" y="529"/>
                  </a:lnTo>
                  <a:lnTo>
                    <a:pt x="816" y="366"/>
                  </a:lnTo>
                  <a:lnTo>
                    <a:pt x="697" y="335"/>
                  </a:lnTo>
                  <a:lnTo>
                    <a:pt x="587" y="282"/>
                  </a:lnTo>
                  <a:lnTo>
                    <a:pt x="520" y="35"/>
                  </a:lnTo>
                  <a:lnTo>
                    <a:pt x="45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426440" y="1238400"/>
              <a:ext cx="119520" cy="270360"/>
            </a:xfrm>
            <a:custGeom>
              <a:avLst/>
              <a:gdLst/>
              <a:ahLst/>
              <a:rect l="0" t="0" r="r" b="b"/>
              <a:pathLst>
                <a:path w="332" h="751">
                  <a:moveTo>
                    <a:pt x="168" y="0"/>
                  </a:moveTo>
                  <a:lnTo>
                    <a:pt x="332" y="195"/>
                  </a:lnTo>
                  <a:lnTo>
                    <a:pt x="253" y="614"/>
                  </a:lnTo>
                  <a:lnTo>
                    <a:pt x="0" y="751"/>
                  </a:lnTo>
                  <a:lnTo>
                    <a:pt x="0" y="538"/>
                  </a:lnTo>
                  <a:lnTo>
                    <a:pt x="102" y="322"/>
                  </a:lnTo>
                  <a:lnTo>
                    <a:pt x="168" y="154"/>
                  </a:lnTo>
                  <a:lnTo>
                    <a:pt x="16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8209080" y="1081080"/>
              <a:ext cx="302040" cy="244800"/>
            </a:xfrm>
            <a:custGeom>
              <a:avLst/>
              <a:gdLst/>
              <a:ahLst/>
              <a:rect l="0" t="0" r="r" b="b"/>
              <a:pathLst>
                <a:path w="839" h="680">
                  <a:moveTo>
                    <a:pt x="344" y="0"/>
                  </a:moveTo>
                  <a:lnTo>
                    <a:pt x="344" y="110"/>
                  </a:lnTo>
                  <a:lnTo>
                    <a:pt x="375" y="207"/>
                  </a:lnTo>
                  <a:lnTo>
                    <a:pt x="538" y="367"/>
                  </a:lnTo>
                  <a:lnTo>
                    <a:pt x="839" y="459"/>
                  </a:lnTo>
                  <a:lnTo>
                    <a:pt x="800" y="666"/>
                  </a:lnTo>
                  <a:lnTo>
                    <a:pt x="538" y="680"/>
                  </a:lnTo>
                  <a:lnTo>
                    <a:pt x="158" y="534"/>
                  </a:lnTo>
                  <a:lnTo>
                    <a:pt x="0" y="268"/>
                  </a:lnTo>
                  <a:lnTo>
                    <a:pt x="185" y="13"/>
                  </a:lnTo>
                  <a:lnTo>
                    <a:pt x="34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8331120" y="804960"/>
              <a:ext cx="422640" cy="538560"/>
            </a:xfrm>
            <a:custGeom>
              <a:avLst/>
              <a:gdLst/>
              <a:ahLst/>
              <a:rect l="0" t="0" r="r" b="b"/>
              <a:pathLst>
                <a:path w="1174" h="1496">
                  <a:moveTo>
                    <a:pt x="105" y="635"/>
                  </a:moveTo>
                  <a:lnTo>
                    <a:pt x="0" y="741"/>
                  </a:lnTo>
                  <a:lnTo>
                    <a:pt x="26" y="984"/>
                  </a:lnTo>
                  <a:lnTo>
                    <a:pt x="185" y="1099"/>
                  </a:lnTo>
                  <a:lnTo>
                    <a:pt x="198" y="1470"/>
                  </a:lnTo>
                  <a:lnTo>
                    <a:pt x="367" y="1470"/>
                  </a:lnTo>
                  <a:lnTo>
                    <a:pt x="353" y="1157"/>
                  </a:lnTo>
                  <a:lnTo>
                    <a:pt x="477" y="1483"/>
                  </a:lnTo>
                  <a:lnTo>
                    <a:pt x="561" y="1496"/>
                  </a:lnTo>
                  <a:lnTo>
                    <a:pt x="618" y="1386"/>
                  </a:lnTo>
                  <a:lnTo>
                    <a:pt x="627" y="1179"/>
                  </a:lnTo>
                  <a:lnTo>
                    <a:pt x="807" y="1373"/>
                  </a:lnTo>
                  <a:lnTo>
                    <a:pt x="883" y="1360"/>
                  </a:lnTo>
                  <a:lnTo>
                    <a:pt x="865" y="1227"/>
                  </a:lnTo>
                  <a:lnTo>
                    <a:pt x="794" y="1037"/>
                  </a:lnTo>
                  <a:lnTo>
                    <a:pt x="724" y="913"/>
                  </a:lnTo>
                  <a:lnTo>
                    <a:pt x="750" y="830"/>
                  </a:lnTo>
                  <a:lnTo>
                    <a:pt x="794" y="843"/>
                  </a:lnTo>
                  <a:lnTo>
                    <a:pt x="958" y="1037"/>
                  </a:lnTo>
                  <a:lnTo>
                    <a:pt x="1139" y="1085"/>
                  </a:lnTo>
                  <a:lnTo>
                    <a:pt x="1174" y="1024"/>
                  </a:lnTo>
                  <a:lnTo>
                    <a:pt x="1152" y="927"/>
                  </a:lnTo>
                  <a:lnTo>
                    <a:pt x="825" y="622"/>
                  </a:lnTo>
                  <a:lnTo>
                    <a:pt x="561" y="530"/>
                  </a:lnTo>
                  <a:lnTo>
                    <a:pt x="525" y="357"/>
                  </a:lnTo>
                  <a:lnTo>
                    <a:pt x="618" y="211"/>
                  </a:lnTo>
                  <a:lnTo>
                    <a:pt x="618" y="48"/>
                  </a:lnTo>
                  <a:lnTo>
                    <a:pt x="543" y="0"/>
                  </a:lnTo>
                  <a:lnTo>
                    <a:pt x="353" y="406"/>
                  </a:lnTo>
                  <a:lnTo>
                    <a:pt x="185" y="464"/>
                  </a:lnTo>
                  <a:lnTo>
                    <a:pt x="141" y="574"/>
                  </a:lnTo>
                  <a:lnTo>
                    <a:pt x="105" y="63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7637400" y="336600"/>
              <a:ext cx="460800" cy="687600"/>
            </a:xfrm>
            <a:custGeom>
              <a:avLst/>
              <a:gdLst/>
              <a:ahLst/>
              <a:rect l="0" t="0" r="r" b="b"/>
              <a:pathLst>
                <a:path w="1280" h="1910">
                  <a:moveTo>
                    <a:pt x="322" y="264"/>
                  </a:moveTo>
                  <a:lnTo>
                    <a:pt x="224" y="630"/>
                  </a:lnTo>
                  <a:lnTo>
                    <a:pt x="13" y="705"/>
                  </a:lnTo>
                  <a:lnTo>
                    <a:pt x="70" y="815"/>
                  </a:lnTo>
                  <a:lnTo>
                    <a:pt x="0" y="895"/>
                  </a:lnTo>
                  <a:lnTo>
                    <a:pt x="0" y="1024"/>
                  </a:lnTo>
                  <a:lnTo>
                    <a:pt x="101" y="1147"/>
                  </a:lnTo>
                  <a:lnTo>
                    <a:pt x="198" y="1147"/>
                  </a:lnTo>
                  <a:lnTo>
                    <a:pt x="264" y="1575"/>
                  </a:lnTo>
                  <a:lnTo>
                    <a:pt x="349" y="1756"/>
                  </a:lnTo>
                  <a:lnTo>
                    <a:pt x="613" y="1910"/>
                  </a:lnTo>
                  <a:lnTo>
                    <a:pt x="869" y="1883"/>
                  </a:lnTo>
                  <a:lnTo>
                    <a:pt x="994" y="1575"/>
                  </a:lnTo>
                  <a:lnTo>
                    <a:pt x="1025" y="1090"/>
                  </a:lnTo>
                  <a:lnTo>
                    <a:pt x="1280" y="846"/>
                  </a:lnTo>
                  <a:lnTo>
                    <a:pt x="1267" y="749"/>
                  </a:lnTo>
                  <a:lnTo>
                    <a:pt x="1241" y="705"/>
                  </a:lnTo>
                  <a:lnTo>
                    <a:pt x="1104" y="692"/>
                  </a:lnTo>
                  <a:lnTo>
                    <a:pt x="1148" y="568"/>
                  </a:lnTo>
                  <a:lnTo>
                    <a:pt x="1011" y="485"/>
                  </a:lnTo>
                  <a:lnTo>
                    <a:pt x="953" y="211"/>
                  </a:lnTo>
                  <a:lnTo>
                    <a:pt x="556" y="0"/>
                  </a:lnTo>
                  <a:lnTo>
                    <a:pt x="349" y="194"/>
                  </a:lnTo>
                  <a:lnTo>
                    <a:pt x="322" y="26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7672320" y="912960"/>
              <a:ext cx="421200" cy="822600"/>
            </a:xfrm>
            <a:custGeom>
              <a:avLst/>
              <a:gdLst/>
              <a:ahLst/>
              <a:rect l="0" t="0" r="r" b="b"/>
              <a:pathLst>
                <a:path w="1170" h="2285">
                  <a:moveTo>
                    <a:pt x="238" y="119"/>
                  </a:moveTo>
                  <a:lnTo>
                    <a:pt x="406" y="233"/>
                  </a:lnTo>
                  <a:lnTo>
                    <a:pt x="486" y="348"/>
                  </a:lnTo>
                  <a:lnTo>
                    <a:pt x="954" y="0"/>
                  </a:lnTo>
                  <a:lnTo>
                    <a:pt x="1104" y="70"/>
                  </a:lnTo>
                  <a:lnTo>
                    <a:pt x="1170" y="436"/>
                  </a:lnTo>
                  <a:lnTo>
                    <a:pt x="834" y="1487"/>
                  </a:lnTo>
                  <a:lnTo>
                    <a:pt x="945" y="2064"/>
                  </a:lnTo>
                  <a:lnTo>
                    <a:pt x="499" y="2285"/>
                  </a:lnTo>
                  <a:lnTo>
                    <a:pt x="158" y="2161"/>
                  </a:lnTo>
                  <a:lnTo>
                    <a:pt x="158" y="1544"/>
                  </a:lnTo>
                  <a:lnTo>
                    <a:pt x="0" y="948"/>
                  </a:lnTo>
                  <a:lnTo>
                    <a:pt x="158" y="233"/>
                  </a:lnTo>
                  <a:lnTo>
                    <a:pt x="238" y="119"/>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7691400" y="244440"/>
              <a:ext cx="392400" cy="217800"/>
            </a:xfrm>
            <a:custGeom>
              <a:avLst/>
              <a:gdLst/>
              <a:ahLst/>
              <a:rect l="0" t="0" r="r" b="b"/>
              <a:pathLst>
                <a:path w="1090" h="605">
                  <a:moveTo>
                    <a:pt x="132" y="578"/>
                  </a:moveTo>
                  <a:lnTo>
                    <a:pt x="291" y="415"/>
                  </a:lnTo>
                  <a:lnTo>
                    <a:pt x="396" y="393"/>
                  </a:lnTo>
                  <a:lnTo>
                    <a:pt x="396" y="406"/>
                  </a:lnTo>
                  <a:lnTo>
                    <a:pt x="445" y="393"/>
                  </a:lnTo>
                  <a:lnTo>
                    <a:pt x="515" y="441"/>
                  </a:lnTo>
                  <a:lnTo>
                    <a:pt x="644" y="464"/>
                  </a:lnTo>
                  <a:lnTo>
                    <a:pt x="750" y="605"/>
                  </a:lnTo>
                  <a:lnTo>
                    <a:pt x="918" y="547"/>
                  </a:lnTo>
                  <a:lnTo>
                    <a:pt x="918" y="477"/>
                  </a:lnTo>
                  <a:lnTo>
                    <a:pt x="1090" y="406"/>
                  </a:lnTo>
                  <a:lnTo>
                    <a:pt x="1041" y="291"/>
                  </a:lnTo>
                  <a:lnTo>
                    <a:pt x="878" y="282"/>
                  </a:lnTo>
                  <a:lnTo>
                    <a:pt x="904" y="154"/>
                  </a:lnTo>
                  <a:lnTo>
                    <a:pt x="763" y="171"/>
                  </a:lnTo>
                  <a:lnTo>
                    <a:pt x="741" y="83"/>
                  </a:lnTo>
                  <a:lnTo>
                    <a:pt x="644" y="83"/>
                  </a:lnTo>
                  <a:lnTo>
                    <a:pt x="578" y="136"/>
                  </a:lnTo>
                  <a:lnTo>
                    <a:pt x="515" y="136"/>
                  </a:lnTo>
                  <a:lnTo>
                    <a:pt x="529" y="0"/>
                  </a:lnTo>
                  <a:lnTo>
                    <a:pt x="396" y="61"/>
                  </a:lnTo>
                  <a:lnTo>
                    <a:pt x="216" y="282"/>
                  </a:lnTo>
                  <a:lnTo>
                    <a:pt x="202" y="136"/>
                  </a:lnTo>
                  <a:lnTo>
                    <a:pt x="110" y="207"/>
                  </a:lnTo>
                  <a:lnTo>
                    <a:pt x="79" y="393"/>
                  </a:lnTo>
                  <a:lnTo>
                    <a:pt x="0" y="358"/>
                  </a:lnTo>
                  <a:lnTo>
                    <a:pt x="13" y="477"/>
                  </a:lnTo>
                  <a:lnTo>
                    <a:pt x="132" y="57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7796160" y="1063800"/>
              <a:ext cx="125640" cy="622800"/>
            </a:xfrm>
            <a:custGeom>
              <a:avLst/>
              <a:gdLst/>
              <a:ahLst/>
              <a:rect l="0" t="0" r="r" b="b"/>
              <a:pathLst>
                <a:path w="349" h="1730">
                  <a:moveTo>
                    <a:pt x="177" y="8"/>
                  </a:moveTo>
                  <a:lnTo>
                    <a:pt x="61" y="83"/>
                  </a:lnTo>
                  <a:lnTo>
                    <a:pt x="61" y="233"/>
                  </a:lnTo>
                  <a:lnTo>
                    <a:pt x="145" y="277"/>
                  </a:lnTo>
                  <a:lnTo>
                    <a:pt x="30" y="508"/>
                  </a:lnTo>
                  <a:lnTo>
                    <a:pt x="0" y="812"/>
                  </a:lnTo>
                  <a:lnTo>
                    <a:pt x="83" y="1209"/>
                  </a:lnTo>
                  <a:lnTo>
                    <a:pt x="83" y="1377"/>
                  </a:lnTo>
                  <a:lnTo>
                    <a:pt x="39" y="1505"/>
                  </a:lnTo>
                  <a:lnTo>
                    <a:pt x="225" y="1730"/>
                  </a:lnTo>
                  <a:lnTo>
                    <a:pt x="336" y="1391"/>
                  </a:lnTo>
                  <a:lnTo>
                    <a:pt x="336" y="1165"/>
                  </a:lnTo>
                  <a:lnTo>
                    <a:pt x="252" y="949"/>
                  </a:lnTo>
                  <a:lnTo>
                    <a:pt x="208" y="658"/>
                  </a:lnTo>
                  <a:lnTo>
                    <a:pt x="296" y="366"/>
                  </a:lnTo>
                  <a:lnTo>
                    <a:pt x="269" y="255"/>
                  </a:lnTo>
                  <a:lnTo>
                    <a:pt x="349" y="194"/>
                  </a:lnTo>
                  <a:lnTo>
                    <a:pt x="336" y="119"/>
                  </a:lnTo>
                  <a:lnTo>
                    <a:pt x="234" y="0"/>
                  </a:lnTo>
                  <a:lnTo>
                    <a:pt x="177"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7791480" y="853920"/>
              <a:ext cx="101880" cy="57600"/>
            </a:xfrm>
            <a:custGeom>
              <a:avLst/>
              <a:gdLst/>
              <a:ahLst/>
              <a:rect l="0" t="0" r="r" b="b"/>
              <a:pathLst>
                <a:path w="283" h="160">
                  <a:moveTo>
                    <a:pt x="0" y="49"/>
                  </a:moveTo>
                  <a:lnTo>
                    <a:pt x="114" y="160"/>
                  </a:lnTo>
                  <a:lnTo>
                    <a:pt x="225" y="147"/>
                  </a:lnTo>
                  <a:lnTo>
                    <a:pt x="283" y="13"/>
                  </a:lnTo>
                  <a:lnTo>
                    <a:pt x="159" y="0"/>
                  </a:lnTo>
                  <a:lnTo>
                    <a:pt x="26" y="13"/>
                  </a:lnTo>
                  <a:lnTo>
                    <a:pt x="0" y="49"/>
                  </a:lnTo>
                  <a:close/>
                </a:path>
              </a:pathLst>
            </a:custGeom>
            <a:solidFill>
              <a:srgbClr val="ffffff"/>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384" name=""/>
            <p:cNvSpPr/>
            <p:nvPr/>
          </p:nvSpPr>
          <p:spPr>
            <a:xfrm>
              <a:off x="7682040" y="566640"/>
              <a:ext cx="124200" cy="122760"/>
            </a:xfrm>
            <a:custGeom>
              <a:avLst/>
              <a:gdLst/>
              <a:ahLst/>
              <a:rect l="0" t="0" r="r" b="b"/>
              <a:pathLst>
                <a:path w="345" h="341">
                  <a:moveTo>
                    <a:pt x="0" y="39"/>
                  </a:moveTo>
                  <a:lnTo>
                    <a:pt x="239" y="341"/>
                  </a:lnTo>
                  <a:lnTo>
                    <a:pt x="345" y="315"/>
                  </a:lnTo>
                  <a:lnTo>
                    <a:pt x="93"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7902720" y="541440"/>
              <a:ext cx="109800" cy="122760"/>
            </a:xfrm>
            <a:custGeom>
              <a:avLst/>
              <a:gdLst/>
              <a:ahLst/>
              <a:rect l="0" t="0" r="r" b="b"/>
              <a:pathLst>
                <a:path w="305" h="341">
                  <a:moveTo>
                    <a:pt x="0" y="48"/>
                  </a:moveTo>
                  <a:lnTo>
                    <a:pt x="212" y="341"/>
                  </a:lnTo>
                  <a:lnTo>
                    <a:pt x="305" y="266"/>
                  </a:lnTo>
                  <a:lnTo>
                    <a:pt x="88"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7635960" y="384120"/>
              <a:ext cx="438480" cy="305280"/>
            </a:xfrm>
            <a:custGeom>
              <a:avLst/>
              <a:gdLst/>
              <a:ahLst/>
              <a:rect l="0" t="0" r="r" b="b"/>
              <a:pathLst>
                <a:path w="1218" h="848">
                  <a:moveTo>
                    <a:pt x="560" y="503"/>
                  </a:moveTo>
                  <a:lnTo>
                    <a:pt x="445" y="472"/>
                  </a:lnTo>
                  <a:lnTo>
                    <a:pt x="542" y="397"/>
                  </a:lnTo>
                  <a:lnTo>
                    <a:pt x="507" y="358"/>
                  </a:lnTo>
                  <a:lnTo>
                    <a:pt x="383" y="455"/>
                  </a:lnTo>
                  <a:lnTo>
                    <a:pt x="154" y="481"/>
                  </a:lnTo>
                  <a:lnTo>
                    <a:pt x="0" y="486"/>
                  </a:lnTo>
                  <a:lnTo>
                    <a:pt x="0" y="600"/>
                  </a:lnTo>
                  <a:lnTo>
                    <a:pt x="145" y="844"/>
                  </a:lnTo>
                  <a:lnTo>
                    <a:pt x="180" y="848"/>
                  </a:lnTo>
                  <a:lnTo>
                    <a:pt x="52" y="587"/>
                  </a:lnTo>
                  <a:lnTo>
                    <a:pt x="251" y="503"/>
                  </a:lnTo>
                  <a:lnTo>
                    <a:pt x="383" y="503"/>
                  </a:lnTo>
                  <a:lnTo>
                    <a:pt x="485" y="556"/>
                  </a:lnTo>
                  <a:lnTo>
                    <a:pt x="507" y="627"/>
                  </a:lnTo>
                  <a:lnTo>
                    <a:pt x="507" y="791"/>
                  </a:lnTo>
                  <a:lnTo>
                    <a:pt x="507" y="844"/>
                  </a:lnTo>
                  <a:lnTo>
                    <a:pt x="564" y="769"/>
                  </a:lnTo>
                  <a:lnTo>
                    <a:pt x="564" y="596"/>
                  </a:lnTo>
                  <a:lnTo>
                    <a:pt x="653" y="596"/>
                  </a:lnTo>
                  <a:lnTo>
                    <a:pt x="693" y="791"/>
                  </a:lnTo>
                  <a:lnTo>
                    <a:pt x="741" y="804"/>
                  </a:lnTo>
                  <a:lnTo>
                    <a:pt x="891" y="804"/>
                  </a:lnTo>
                  <a:lnTo>
                    <a:pt x="1041" y="773"/>
                  </a:lnTo>
                  <a:lnTo>
                    <a:pt x="1147" y="698"/>
                  </a:lnTo>
                  <a:lnTo>
                    <a:pt x="1160" y="530"/>
                  </a:lnTo>
                  <a:lnTo>
                    <a:pt x="1218" y="455"/>
                  </a:lnTo>
                  <a:lnTo>
                    <a:pt x="1187" y="411"/>
                  </a:lnTo>
                  <a:lnTo>
                    <a:pt x="1046" y="362"/>
                  </a:lnTo>
                  <a:lnTo>
                    <a:pt x="1028" y="189"/>
                  </a:lnTo>
                  <a:lnTo>
                    <a:pt x="896" y="189"/>
                  </a:lnTo>
                  <a:lnTo>
                    <a:pt x="746" y="0"/>
                  </a:lnTo>
                  <a:lnTo>
                    <a:pt x="887" y="211"/>
                  </a:lnTo>
                  <a:lnTo>
                    <a:pt x="931" y="211"/>
                  </a:lnTo>
                  <a:lnTo>
                    <a:pt x="957" y="358"/>
                  </a:lnTo>
                  <a:lnTo>
                    <a:pt x="790" y="411"/>
                  </a:lnTo>
                  <a:lnTo>
                    <a:pt x="662" y="371"/>
                  </a:lnTo>
                  <a:lnTo>
                    <a:pt x="640" y="411"/>
                  </a:lnTo>
                  <a:lnTo>
                    <a:pt x="710" y="455"/>
                  </a:lnTo>
                  <a:lnTo>
                    <a:pt x="710" y="494"/>
                  </a:lnTo>
                  <a:lnTo>
                    <a:pt x="856" y="433"/>
                  </a:lnTo>
                  <a:lnTo>
                    <a:pt x="979" y="419"/>
                  </a:lnTo>
                  <a:lnTo>
                    <a:pt x="1116" y="437"/>
                  </a:lnTo>
                  <a:lnTo>
                    <a:pt x="1116" y="464"/>
                  </a:lnTo>
                  <a:lnTo>
                    <a:pt x="1050" y="521"/>
                  </a:lnTo>
                  <a:lnTo>
                    <a:pt x="1028" y="596"/>
                  </a:lnTo>
                  <a:lnTo>
                    <a:pt x="1019" y="698"/>
                  </a:lnTo>
                  <a:lnTo>
                    <a:pt x="944" y="742"/>
                  </a:lnTo>
                  <a:lnTo>
                    <a:pt x="825" y="756"/>
                  </a:lnTo>
                  <a:lnTo>
                    <a:pt x="741" y="756"/>
                  </a:lnTo>
                  <a:lnTo>
                    <a:pt x="715" y="725"/>
                  </a:lnTo>
                  <a:lnTo>
                    <a:pt x="693" y="530"/>
                  </a:lnTo>
                  <a:lnTo>
                    <a:pt x="564" y="530"/>
                  </a:lnTo>
                  <a:lnTo>
                    <a:pt x="560" y="50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7" name=""/>
            <p:cNvSpPr/>
            <p:nvPr/>
          </p:nvSpPr>
          <p:spPr>
            <a:xfrm>
              <a:off x="7786800" y="736560"/>
              <a:ext cx="141480" cy="60840"/>
            </a:xfrm>
            <a:custGeom>
              <a:avLst/>
              <a:gdLst/>
              <a:ahLst/>
              <a:rect l="0" t="0" r="r" b="b"/>
              <a:pathLst>
                <a:path w="393" h="169">
                  <a:moveTo>
                    <a:pt x="0" y="0"/>
                  </a:moveTo>
                  <a:lnTo>
                    <a:pt x="66" y="75"/>
                  </a:lnTo>
                  <a:lnTo>
                    <a:pt x="234" y="75"/>
                  </a:lnTo>
                  <a:lnTo>
                    <a:pt x="305" y="26"/>
                  </a:lnTo>
                  <a:lnTo>
                    <a:pt x="393" y="26"/>
                  </a:lnTo>
                  <a:lnTo>
                    <a:pt x="375" y="49"/>
                  </a:lnTo>
                  <a:lnTo>
                    <a:pt x="375" y="75"/>
                  </a:lnTo>
                  <a:lnTo>
                    <a:pt x="221" y="169"/>
                  </a:lnTo>
                  <a:lnTo>
                    <a:pt x="127" y="169"/>
                  </a:lnTo>
                  <a:lnTo>
                    <a:pt x="83" y="134"/>
                  </a:lnTo>
                  <a:lnTo>
                    <a:pt x="35" y="134"/>
                  </a:lnTo>
                  <a:lnTo>
                    <a:pt x="0" y="0"/>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388" name=""/>
            <p:cNvSpPr/>
            <p:nvPr/>
          </p:nvSpPr>
          <p:spPr>
            <a:xfrm>
              <a:off x="7628040" y="635040"/>
              <a:ext cx="216360" cy="329040"/>
            </a:xfrm>
            <a:custGeom>
              <a:avLst/>
              <a:gdLst/>
              <a:ahLst/>
              <a:rect l="0" t="0" r="r" b="b"/>
              <a:pathLst>
                <a:path w="601" h="914">
                  <a:moveTo>
                    <a:pt x="601" y="61"/>
                  </a:moveTo>
                  <a:lnTo>
                    <a:pt x="601" y="79"/>
                  </a:lnTo>
                  <a:lnTo>
                    <a:pt x="495" y="171"/>
                  </a:lnTo>
                  <a:lnTo>
                    <a:pt x="411" y="189"/>
                  </a:lnTo>
                  <a:lnTo>
                    <a:pt x="243" y="163"/>
                  </a:lnTo>
                  <a:lnTo>
                    <a:pt x="269" y="494"/>
                  </a:lnTo>
                  <a:lnTo>
                    <a:pt x="309" y="764"/>
                  </a:lnTo>
                  <a:lnTo>
                    <a:pt x="380" y="914"/>
                  </a:lnTo>
                  <a:lnTo>
                    <a:pt x="309" y="808"/>
                  </a:lnTo>
                  <a:lnTo>
                    <a:pt x="283" y="694"/>
                  </a:lnTo>
                  <a:lnTo>
                    <a:pt x="234" y="384"/>
                  </a:lnTo>
                  <a:lnTo>
                    <a:pt x="186" y="402"/>
                  </a:lnTo>
                  <a:lnTo>
                    <a:pt x="127" y="367"/>
                  </a:lnTo>
                  <a:lnTo>
                    <a:pt x="13" y="207"/>
                  </a:lnTo>
                  <a:lnTo>
                    <a:pt x="0" y="119"/>
                  </a:lnTo>
                  <a:lnTo>
                    <a:pt x="0" y="52"/>
                  </a:lnTo>
                  <a:lnTo>
                    <a:pt x="26" y="17"/>
                  </a:lnTo>
                  <a:lnTo>
                    <a:pt x="92" y="0"/>
                  </a:lnTo>
                  <a:lnTo>
                    <a:pt x="101" y="26"/>
                  </a:lnTo>
                  <a:lnTo>
                    <a:pt x="48" y="44"/>
                  </a:lnTo>
                  <a:lnTo>
                    <a:pt x="35" y="110"/>
                  </a:lnTo>
                  <a:lnTo>
                    <a:pt x="39" y="194"/>
                  </a:lnTo>
                  <a:lnTo>
                    <a:pt x="119" y="269"/>
                  </a:lnTo>
                  <a:lnTo>
                    <a:pt x="155" y="256"/>
                  </a:lnTo>
                  <a:lnTo>
                    <a:pt x="155" y="88"/>
                  </a:lnTo>
                  <a:lnTo>
                    <a:pt x="225" y="123"/>
                  </a:lnTo>
                  <a:lnTo>
                    <a:pt x="336" y="149"/>
                  </a:lnTo>
                  <a:lnTo>
                    <a:pt x="437" y="141"/>
                  </a:lnTo>
                  <a:lnTo>
                    <a:pt x="535" y="88"/>
                  </a:lnTo>
                  <a:lnTo>
                    <a:pt x="601" y="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9" name=""/>
            <p:cNvSpPr/>
            <p:nvPr/>
          </p:nvSpPr>
          <p:spPr>
            <a:xfrm>
              <a:off x="7686720" y="376200"/>
              <a:ext cx="63720" cy="174960"/>
            </a:xfrm>
            <a:custGeom>
              <a:avLst/>
              <a:gdLst/>
              <a:ahLst/>
              <a:rect l="0" t="0" r="r" b="b"/>
              <a:pathLst>
                <a:path w="177" h="486">
                  <a:moveTo>
                    <a:pt x="93" y="486"/>
                  </a:moveTo>
                  <a:lnTo>
                    <a:pt x="177" y="198"/>
                  </a:lnTo>
                  <a:lnTo>
                    <a:pt x="22" y="97"/>
                  </a:lnTo>
                  <a:lnTo>
                    <a:pt x="0" y="0"/>
                  </a:lnTo>
                  <a:lnTo>
                    <a:pt x="13" y="119"/>
                  </a:lnTo>
                  <a:lnTo>
                    <a:pt x="66" y="163"/>
                  </a:lnTo>
                  <a:lnTo>
                    <a:pt x="66" y="314"/>
                  </a:lnTo>
                  <a:lnTo>
                    <a:pt x="111" y="367"/>
                  </a:lnTo>
                  <a:lnTo>
                    <a:pt x="93" y="4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0" name=""/>
            <p:cNvSpPr/>
            <p:nvPr/>
          </p:nvSpPr>
          <p:spPr>
            <a:xfrm>
              <a:off x="7683480" y="222120"/>
              <a:ext cx="483120" cy="230400"/>
            </a:xfrm>
            <a:custGeom>
              <a:avLst/>
              <a:gdLst/>
              <a:ahLst/>
              <a:rect l="0" t="0" r="r" b="b"/>
              <a:pathLst>
                <a:path w="1342" h="640">
                  <a:moveTo>
                    <a:pt x="13" y="433"/>
                  </a:moveTo>
                  <a:lnTo>
                    <a:pt x="132" y="499"/>
                  </a:lnTo>
                  <a:lnTo>
                    <a:pt x="114" y="415"/>
                  </a:lnTo>
                  <a:lnTo>
                    <a:pt x="136" y="268"/>
                  </a:lnTo>
                  <a:lnTo>
                    <a:pt x="216" y="242"/>
                  </a:lnTo>
                  <a:lnTo>
                    <a:pt x="224" y="393"/>
                  </a:lnTo>
                  <a:lnTo>
                    <a:pt x="450" y="123"/>
                  </a:lnTo>
                  <a:lnTo>
                    <a:pt x="508" y="105"/>
                  </a:lnTo>
                  <a:lnTo>
                    <a:pt x="459" y="211"/>
                  </a:lnTo>
                  <a:lnTo>
                    <a:pt x="605" y="268"/>
                  </a:lnTo>
                  <a:lnTo>
                    <a:pt x="706" y="158"/>
                  </a:lnTo>
                  <a:lnTo>
                    <a:pt x="763" y="189"/>
                  </a:lnTo>
                  <a:lnTo>
                    <a:pt x="715" y="282"/>
                  </a:lnTo>
                  <a:lnTo>
                    <a:pt x="781" y="229"/>
                  </a:lnTo>
                  <a:lnTo>
                    <a:pt x="882" y="268"/>
                  </a:lnTo>
                  <a:lnTo>
                    <a:pt x="799" y="349"/>
                  </a:lnTo>
                  <a:lnTo>
                    <a:pt x="1077" y="393"/>
                  </a:lnTo>
                  <a:lnTo>
                    <a:pt x="887" y="450"/>
                  </a:lnTo>
                  <a:lnTo>
                    <a:pt x="1122" y="481"/>
                  </a:lnTo>
                  <a:lnTo>
                    <a:pt x="847" y="543"/>
                  </a:lnTo>
                  <a:lnTo>
                    <a:pt x="904" y="591"/>
                  </a:lnTo>
                  <a:lnTo>
                    <a:pt x="825" y="640"/>
                  </a:lnTo>
                  <a:lnTo>
                    <a:pt x="966" y="640"/>
                  </a:lnTo>
                  <a:lnTo>
                    <a:pt x="953" y="600"/>
                  </a:lnTo>
                  <a:lnTo>
                    <a:pt x="1100" y="636"/>
                  </a:lnTo>
                  <a:lnTo>
                    <a:pt x="1077" y="534"/>
                  </a:lnTo>
                  <a:lnTo>
                    <a:pt x="1210" y="486"/>
                  </a:lnTo>
                  <a:lnTo>
                    <a:pt x="1113" y="441"/>
                  </a:lnTo>
                  <a:lnTo>
                    <a:pt x="1342" y="428"/>
                  </a:lnTo>
                  <a:lnTo>
                    <a:pt x="1148" y="322"/>
                  </a:lnTo>
                  <a:lnTo>
                    <a:pt x="922" y="299"/>
                  </a:lnTo>
                  <a:lnTo>
                    <a:pt x="1100" y="194"/>
                  </a:lnTo>
                  <a:lnTo>
                    <a:pt x="781" y="194"/>
                  </a:lnTo>
                  <a:lnTo>
                    <a:pt x="931" y="97"/>
                  </a:lnTo>
                  <a:lnTo>
                    <a:pt x="702" y="123"/>
                  </a:lnTo>
                  <a:lnTo>
                    <a:pt x="591" y="171"/>
                  </a:lnTo>
                  <a:lnTo>
                    <a:pt x="684" y="0"/>
                  </a:lnTo>
                  <a:lnTo>
                    <a:pt x="402" y="97"/>
                  </a:lnTo>
                  <a:lnTo>
                    <a:pt x="246" y="304"/>
                  </a:lnTo>
                  <a:lnTo>
                    <a:pt x="224" y="189"/>
                  </a:lnTo>
                  <a:lnTo>
                    <a:pt x="97" y="268"/>
                  </a:lnTo>
                  <a:lnTo>
                    <a:pt x="79" y="428"/>
                  </a:lnTo>
                  <a:lnTo>
                    <a:pt x="0" y="393"/>
                  </a:lnTo>
                  <a:lnTo>
                    <a:pt x="26" y="534"/>
                  </a:lnTo>
                  <a:lnTo>
                    <a:pt x="13" y="43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1" name=""/>
            <p:cNvSpPr/>
            <p:nvPr/>
          </p:nvSpPr>
          <p:spPr>
            <a:xfrm>
              <a:off x="7788240" y="345960"/>
              <a:ext cx="136800" cy="68760"/>
            </a:xfrm>
            <a:custGeom>
              <a:avLst/>
              <a:gdLst/>
              <a:ahLst/>
              <a:rect l="0" t="0" r="r" b="b"/>
              <a:pathLst>
                <a:path w="380" h="191">
                  <a:moveTo>
                    <a:pt x="0" y="191"/>
                  </a:moveTo>
                  <a:lnTo>
                    <a:pt x="141" y="0"/>
                  </a:lnTo>
                  <a:lnTo>
                    <a:pt x="141" y="128"/>
                  </a:lnTo>
                  <a:lnTo>
                    <a:pt x="189" y="75"/>
                  </a:lnTo>
                  <a:lnTo>
                    <a:pt x="239" y="147"/>
                  </a:lnTo>
                  <a:lnTo>
                    <a:pt x="380" y="182"/>
                  </a:lnTo>
                  <a:lnTo>
                    <a:pt x="230" y="156"/>
                  </a:lnTo>
                  <a:lnTo>
                    <a:pt x="185" y="111"/>
                  </a:lnTo>
                  <a:lnTo>
                    <a:pt x="119" y="156"/>
                  </a:lnTo>
                  <a:lnTo>
                    <a:pt x="119" y="98"/>
                  </a:lnTo>
                  <a:lnTo>
                    <a:pt x="0" y="191"/>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392" name=""/>
            <p:cNvSpPr/>
            <p:nvPr/>
          </p:nvSpPr>
          <p:spPr>
            <a:xfrm>
              <a:off x="7775640" y="816120"/>
              <a:ext cx="163800" cy="101880"/>
            </a:xfrm>
            <a:custGeom>
              <a:avLst/>
              <a:gdLst/>
              <a:ahLst/>
              <a:rect l="0" t="0" r="r" b="b"/>
              <a:pathLst>
                <a:path w="455" h="283">
                  <a:moveTo>
                    <a:pt x="83" y="97"/>
                  </a:moveTo>
                  <a:lnTo>
                    <a:pt x="274" y="83"/>
                  </a:lnTo>
                  <a:lnTo>
                    <a:pt x="362" y="105"/>
                  </a:lnTo>
                  <a:lnTo>
                    <a:pt x="406" y="61"/>
                  </a:lnTo>
                  <a:lnTo>
                    <a:pt x="455" y="155"/>
                  </a:lnTo>
                  <a:lnTo>
                    <a:pt x="424" y="172"/>
                  </a:lnTo>
                  <a:lnTo>
                    <a:pt x="384" y="142"/>
                  </a:lnTo>
                  <a:lnTo>
                    <a:pt x="327" y="208"/>
                  </a:lnTo>
                  <a:lnTo>
                    <a:pt x="211" y="283"/>
                  </a:lnTo>
                  <a:lnTo>
                    <a:pt x="163" y="283"/>
                  </a:lnTo>
                  <a:lnTo>
                    <a:pt x="83" y="239"/>
                  </a:lnTo>
                  <a:lnTo>
                    <a:pt x="171" y="278"/>
                  </a:lnTo>
                  <a:lnTo>
                    <a:pt x="202" y="278"/>
                  </a:lnTo>
                  <a:lnTo>
                    <a:pt x="274" y="225"/>
                  </a:lnTo>
                  <a:lnTo>
                    <a:pt x="322" y="132"/>
                  </a:lnTo>
                  <a:lnTo>
                    <a:pt x="247" y="119"/>
                  </a:lnTo>
                  <a:lnTo>
                    <a:pt x="198" y="105"/>
                  </a:lnTo>
                  <a:lnTo>
                    <a:pt x="74" y="123"/>
                  </a:lnTo>
                  <a:lnTo>
                    <a:pt x="74" y="199"/>
                  </a:lnTo>
                  <a:lnTo>
                    <a:pt x="35" y="150"/>
                  </a:lnTo>
                  <a:lnTo>
                    <a:pt x="0" y="217"/>
                  </a:lnTo>
                  <a:lnTo>
                    <a:pt x="4" y="74"/>
                  </a:lnTo>
                  <a:lnTo>
                    <a:pt x="48" y="0"/>
                  </a:lnTo>
                  <a:lnTo>
                    <a:pt x="83" y="74"/>
                  </a:lnTo>
                  <a:lnTo>
                    <a:pt x="83" y="97"/>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93" name=""/>
            <p:cNvSpPr/>
            <p:nvPr/>
          </p:nvSpPr>
          <p:spPr>
            <a:xfrm>
              <a:off x="7754760" y="592200"/>
              <a:ext cx="351360" cy="476640"/>
            </a:xfrm>
            <a:custGeom>
              <a:avLst/>
              <a:gdLst/>
              <a:ahLst/>
              <a:rect l="0" t="0" r="r" b="b"/>
              <a:pathLst>
                <a:path w="976" h="1324">
                  <a:moveTo>
                    <a:pt x="822" y="0"/>
                  </a:moveTo>
                  <a:lnTo>
                    <a:pt x="919" y="0"/>
                  </a:lnTo>
                  <a:lnTo>
                    <a:pt x="976" y="66"/>
                  </a:lnTo>
                  <a:lnTo>
                    <a:pt x="976" y="141"/>
                  </a:lnTo>
                  <a:lnTo>
                    <a:pt x="897" y="344"/>
                  </a:lnTo>
                  <a:lnTo>
                    <a:pt x="817" y="441"/>
                  </a:lnTo>
                  <a:lnTo>
                    <a:pt x="734" y="459"/>
                  </a:lnTo>
                  <a:lnTo>
                    <a:pt x="710" y="459"/>
                  </a:lnTo>
                  <a:lnTo>
                    <a:pt x="710" y="719"/>
                  </a:lnTo>
                  <a:lnTo>
                    <a:pt x="747" y="904"/>
                  </a:lnTo>
                  <a:lnTo>
                    <a:pt x="747" y="1064"/>
                  </a:lnTo>
                  <a:lnTo>
                    <a:pt x="600" y="1219"/>
                  </a:lnTo>
                  <a:lnTo>
                    <a:pt x="402" y="1324"/>
                  </a:lnTo>
                  <a:lnTo>
                    <a:pt x="269" y="1324"/>
                  </a:lnTo>
                  <a:lnTo>
                    <a:pt x="202" y="1294"/>
                  </a:lnTo>
                  <a:lnTo>
                    <a:pt x="114" y="1113"/>
                  </a:lnTo>
                  <a:lnTo>
                    <a:pt x="30" y="1047"/>
                  </a:lnTo>
                  <a:lnTo>
                    <a:pt x="0" y="998"/>
                  </a:lnTo>
                  <a:lnTo>
                    <a:pt x="110" y="1064"/>
                  </a:lnTo>
                  <a:lnTo>
                    <a:pt x="189" y="1130"/>
                  </a:lnTo>
                  <a:lnTo>
                    <a:pt x="344" y="1139"/>
                  </a:lnTo>
                  <a:lnTo>
                    <a:pt x="486" y="1077"/>
                  </a:lnTo>
                  <a:lnTo>
                    <a:pt x="561" y="998"/>
                  </a:lnTo>
                  <a:lnTo>
                    <a:pt x="640" y="865"/>
                  </a:lnTo>
                  <a:lnTo>
                    <a:pt x="653" y="706"/>
                  </a:lnTo>
                  <a:lnTo>
                    <a:pt x="680" y="198"/>
                  </a:lnTo>
                  <a:lnTo>
                    <a:pt x="715" y="268"/>
                  </a:lnTo>
                  <a:lnTo>
                    <a:pt x="813" y="176"/>
                  </a:lnTo>
                  <a:lnTo>
                    <a:pt x="910" y="141"/>
                  </a:lnTo>
                  <a:lnTo>
                    <a:pt x="941" y="83"/>
                  </a:lnTo>
                  <a:lnTo>
                    <a:pt x="928" y="30"/>
                  </a:lnTo>
                  <a:lnTo>
                    <a:pt x="883" y="8"/>
                  </a:lnTo>
                  <a:lnTo>
                    <a:pt x="8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4" name=""/>
            <p:cNvSpPr/>
            <p:nvPr/>
          </p:nvSpPr>
          <p:spPr>
            <a:xfrm>
              <a:off x="7211880" y="1003320"/>
              <a:ext cx="282960" cy="439920"/>
            </a:xfrm>
            <a:custGeom>
              <a:avLst/>
              <a:gdLst/>
              <a:ahLst/>
              <a:rect l="0" t="0" r="r" b="b"/>
              <a:pathLst>
                <a:path w="786" h="1222">
                  <a:moveTo>
                    <a:pt x="97" y="0"/>
                  </a:moveTo>
                  <a:lnTo>
                    <a:pt x="189" y="52"/>
                  </a:lnTo>
                  <a:lnTo>
                    <a:pt x="256" y="304"/>
                  </a:lnTo>
                  <a:lnTo>
                    <a:pt x="459" y="357"/>
                  </a:lnTo>
                  <a:lnTo>
                    <a:pt x="516" y="427"/>
                  </a:lnTo>
                  <a:lnTo>
                    <a:pt x="525" y="520"/>
                  </a:lnTo>
                  <a:lnTo>
                    <a:pt x="628" y="502"/>
                  </a:lnTo>
                  <a:lnTo>
                    <a:pt x="751" y="582"/>
                  </a:lnTo>
                  <a:lnTo>
                    <a:pt x="786" y="684"/>
                  </a:lnTo>
                  <a:lnTo>
                    <a:pt x="786" y="856"/>
                  </a:lnTo>
                  <a:lnTo>
                    <a:pt x="628" y="1116"/>
                  </a:lnTo>
                  <a:lnTo>
                    <a:pt x="569" y="1222"/>
                  </a:lnTo>
                  <a:lnTo>
                    <a:pt x="601" y="1081"/>
                  </a:lnTo>
                  <a:lnTo>
                    <a:pt x="569" y="1028"/>
                  </a:lnTo>
                  <a:lnTo>
                    <a:pt x="477" y="940"/>
                  </a:lnTo>
                  <a:lnTo>
                    <a:pt x="322" y="834"/>
                  </a:lnTo>
                  <a:lnTo>
                    <a:pt x="508" y="891"/>
                  </a:lnTo>
                  <a:lnTo>
                    <a:pt x="614" y="971"/>
                  </a:lnTo>
                  <a:lnTo>
                    <a:pt x="672" y="962"/>
                  </a:lnTo>
                  <a:lnTo>
                    <a:pt x="707" y="918"/>
                  </a:lnTo>
                  <a:lnTo>
                    <a:pt x="751" y="794"/>
                  </a:lnTo>
                  <a:lnTo>
                    <a:pt x="738" y="671"/>
                  </a:lnTo>
                  <a:lnTo>
                    <a:pt x="676" y="604"/>
                  </a:lnTo>
                  <a:lnTo>
                    <a:pt x="583" y="582"/>
                  </a:lnTo>
                  <a:lnTo>
                    <a:pt x="477" y="582"/>
                  </a:lnTo>
                  <a:lnTo>
                    <a:pt x="441" y="401"/>
                  </a:lnTo>
                  <a:lnTo>
                    <a:pt x="265" y="339"/>
                  </a:lnTo>
                  <a:lnTo>
                    <a:pt x="265" y="392"/>
                  </a:lnTo>
                  <a:lnTo>
                    <a:pt x="189" y="260"/>
                  </a:lnTo>
                  <a:lnTo>
                    <a:pt x="141" y="52"/>
                  </a:lnTo>
                  <a:lnTo>
                    <a:pt x="79" y="35"/>
                  </a:lnTo>
                  <a:lnTo>
                    <a:pt x="35" y="97"/>
                  </a:lnTo>
                  <a:lnTo>
                    <a:pt x="35" y="238"/>
                  </a:lnTo>
                  <a:lnTo>
                    <a:pt x="70" y="392"/>
                  </a:lnTo>
                  <a:lnTo>
                    <a:pt x="163" y="520"/>
                  </a:lnTo>
                  <a:lnTo>
                    <a:pt x="61" y="440"/>
                  </a:lnTo>
                  <a:lnTo>
                    <a:pt x="8" y="304"/>
                  </a:lnTo>
                  <a:lnTo>
                    <a:pt x="0" y="132"/>
                  </a:lnTo>
                  <a:lnTo>
                    <a:pt x="35" y="35"/>
                  </a:lnTo>
                  <a:lnTo>
                    <a:pt x="9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5" name=""/>
            <p:cNvSpPr/>
            <p:nvPr/>
          </p:nvSpPr>
          <p:spPr>
            <a:xfrm>
              <a:off x="7077240" y="1198440"/>
              <a:ext cx="186120" cy="351360"/>
            </a:xfrm>
            <a:custGeom>
              <a:avLst/>
              <a:gdLst/>
              <a:ahLst/>
              <a:rect l="0" t="0" r="r" b="b"/>
              <a:pathLst>
                <a:path w="517" h="976">
                  <a:moveTo>
                    <a:pt x="517" y="0"/>
                  </a:moveTo>
                  <a:lnTo>
                    <a:pt x="412" y="61"/>
                  </a:lnTo>
                  <a:lnTo>
                    <a:pt x="287" y="300"/>
                  </a:lnTo>
                  <a:lnTo>
                    <a:pt x="164" y="455"/>
                  </a:lnTo>
                  <a:lnTo>
                    <a:pt x="13" y="640"/>
                  </a:lnTo>
                  <a:lnTo>
                    <a:pt x="0" y="734"/>
                  </a:lnTo>
                  <a:lnTo>
                    <a:pt x="26" y="826"/>
                  </a:lnTo>
                  <a:lnTo>
                    <a:pt x="101" y="826"/>
                  </a:lnTo>
                  <a:lnTo>
                    <a:pt x="199" y="734"/>
                  </a:lnTo>
                  <a:lnTo>
                    <a:pt x="278" y="561"/>
                  </a:lnTo>
                  <a:lnTo>
                    <a:pt x="380" y="455"/>
                  </a:lnTo>
                  <a:lnTo>
                    <a:pt x="380" y="596"/>
                  </a:lnTo>
                  <a:lnTo>
                    <a:pt x="367" y="728"/>
                  </a:lnTo>
                  <a:lnTo>
                    <a:pt x="252" y="901"/>
                  </a:lnTo>
                  <a:lnTo>
                    <a:pt x="252" y="954"/>
                  </a:lnTo>
                  <a:lnTo>
                    <a:pt x="367" y="976"/>
                  </a:lnTo>
                  <a:lnTo>
                    <a:pt x="287" y="932"/>
                  </a:lnTo>
                  <a:lnTo>
                    <a:pt x="296" y="901"/>
                  </a:lnTo>
                  <a:lnTo>
                    <a:pt x="375" y="773"/>
                  </a:lnTo>
                  <a:lnTo>
                    <a:pt x="429" y="538"/>
                  </a:lnTo>
                  <a:lnTo>
                    <a:pt x="390" y="411"/>
                  </a:lnTo>
                  <a:lnTo>
                    <a:pt x="305" y="486"/>
                  </a:lnTo>
                  <a:lnTo>
                    <a:pt x="123" y="778"/>
                  </a:lnTo>
                  <a:lnTo>
                    <a:pt x="74" y="791"/>
                  </a:lnTo>
                  <a:lnTo>
                    <a:pt x="26" y="756"/>
                  </a:lnTo>
                  <a:lnTo>
                    <a:pt x="26" y="666"/>
                  </a:lnTo>
                  <a:lnTo>
                    <a:pt x="101" y="552"/>
                  </a:lnTo>
                  <a:lnTo>
                    <a:pt x="305" y="318"/>
                  </a:lnTo>
                  <a:lnTo>
                    <a:pt x="429" y="88"/>
                  </a:lnTo>
                  <a:lnTo>
                    <a:pt x="51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6" name=""/>
            <p:cNvSpPr/>
            <p:nvPr/>
          </p:nvSpPr>
          <p:spPr>
            <a:xfrm>
              <a:off x="7215120" y="1397160"/>
              <a:ext cx="116280" cy="168480"/>
            </a:xfrm>
            <a:custGeom>
              <a:avLst/>
              <a:gdLst/>
              <a:ahLst/>
              <a:rect l="0" t="0" r="r" b="b"/>
              <a:pathLst>
                <a:path w="323" h="468">
                  <a:moveTo>
                    <a:pt x="0" y="415"/>
                  </a:moveTo>
                  <a:lnTo>
                    <a:pt x="106" y="296"/>
                  </a:lnTo>
                  <a:lnTo>
                    <a:pt x="128" y="171"/>
                  </a:lnTo>
                  <a:lnTo>
                    <a:pt x="248" y="0"/>
                  </a:lnTo>
                  <a:lnTo>
                    <a:pt x="275" y="119"/>
                  </a:lnTo>
                  <a:lnTo>
                    <a:pt x="257" y="424"/>
                  </a:lnTo>
                  <a:lnTo>
                    <a:pt x="323" y="468"/>
                  </a:lnTo>
                  <a:lnTo>
                    <a:pt x="230" y="433"/>
                  </a:lnTo>
                  <a:lnTo>
                    <a:pt x="181" y="261"/>
                  </a:lnTo>
                  <a:lnTo>
                    <a:pt x="106" y="344"/>
                  </a:lnTo>
                  <a:lnTo>
                    <a:pt x="0" y="41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7" name=""/>
            <p:cNvSpPr/>
            <p:nvPr/>
          </p:nvSpPr>
          <p:spPr>
            <a:xfrm>
              <a:off x="7356600" y="1405080"/>
              <a:ext cx="76680" cy="152640"/>
            </a:xfrm>
            <a:custGeom>
              <a:avLst/>
              <a:gdLst/>
              <a:ahLst/>
              <a:rect l="0" t="0" r="r" b="b"/>
              <a:pathLst>
                <a:path w="213" h="424">
                  <a:moveTo>
                    <a:pt x="0" y="318"/>
                  </a:moveTo>
                  <a:lnTo>
                    <a:pt x="8" y="158"/>
                  </a:lnTo>
                  <a:lnTo>
                    <a:pt x="52" y="66"/>
                  </a:lnTo>
                  <a:lnTo>
                    <a:pt x="102" y="402"/>
                  </a:lnTo>
                  <a:lnTo>
                    <a:pt x="169" y="402"/>
                  </a:lnTo>
                  <a:lnTo>
                    <a:pt x="196" y="48"/>
                  </a:lnTo>
                  <a:lnTo>
                    <a:pt x="213" y="0"/>
                  </a:lnTo>
                  <a:lnTo>
                    <a:pt x="196" y="274"/>
                  </a:lnTo>
                  <a:lnTo>
                    <a:pt x="169" y="424"/>
                  </a:lnTo>
                  <a:lnTo>
                    <a:pt x="84" y="424"/>
                  </a:lnTo>
                  <a:lnTo>
                    <a:pt x="48" y="132"/>
                  </a:lnTo>
                  <a:lnTo>
                    <a:pt x="26" y="171"/>
                  </a:lnTo>
                  <a:lnTo>
                    <a:pt x="0" y="31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8" name=""/>
            <p:cNvSpPr/>
            <p:nvPr/>
          </p:nvSpPr>
          <p:spPr>
            <a:xfrm>
              <a:off x="8329680" y="808200"/>
              <a:ext cx="184680" cy="405000"/>
            </a:xfrm>
            <a:custGeom>
              <a:avLst/>
              <a:gdLst/>
              <a:ahLst/>
              <a:rect l="0" t="0" r="r" b="b"/>
              <a:pathLst>
                <a:path w="513" h="1125">
                  <a:moveTo>
                    <a:pt x="133" y="613"/>
                  </a:moveTo>
                  <a:lnTo>
                    <a:pt x="177" y="432"/>
                  </a:lnTo>
                  <a:lnTo>
                    <a:pt x="344" y="388"/>
                  </a:lnTo>
                  <a:lnTo>
                    <a:pt x="513" y="0"/>
                  </a:lnTo>
                  <a:lnTo>
                    <a:pt x="513" y="114"/>
                  </a:lnTo>
                  <a:lnTo>
                    <a:pt x="375" y="414"/>
                  </a:lnTo>
                  <a:lnTo>
                    <a:pt x="190" y="467"/>
                  </a:lnTo>
                  <a:lnTo>
                    <a:pt x="164" y="613"/>
                  </a:lnTo>
                  <a:lnTo>
                    <a:pt x="230" y="613"/>
                  </a:lnTo>
                  <a:lnTo>
                    <a:pt x="70" y="675"/>
                  </a:lnTo>
                  <a:lnTo>
                    <a:pt x="26" y="794"/>
                  </a:lnTo>
                  <a:lnTo>
                    <a:pt x="35" y="949"/>
                  </a:lnTo>
                  <a:lnTo>
                    <a:pt x="208" y="1125"/>
                  </a:lnTo>
                  <a:lnTo>
                    <a:pt x="26" y="971"/>
                  </a:lnTo>
                  <a:lnTo>
                    <a:pt x="0" y="838"/>
                  </a:lnTo>
                  <a:lnTo>
                    <a:pt x="13" y="706"/>
                  </a:lnTo>
                  <a:lnTo>
                    <a:pt x="79" y="613"/>
                  </a:lnTo>
                  <a:lnTo>
                    <a:pt x="133" y="6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9" name=""/>
            <p:cNvSpPr/>
            <p:nvPr/>
          </p:nvSpPr>
          <p:spPr>
            <a:xfrm>
              <a:off x="8453520" y="808200"/>
              <a:ext cx="309960" cy="394200"/>
            </a:xfrm>
            <a:custGeom>
              <a:avLst/>
              <a:gdLst/>
              <a:ahLst/>
              <a:rect l="0" t="0" r="r" b="b"/>
              <a:pathLst>
                <a:path w="861" h="1095">
                  <a:moveTo>
                    <a:pt x="239" y="0"/>
                  </a:moveTo>
                  <a:lnTo>
                    <a:pt x="292" y="35"/>
                  </a:lnTo>
                  <a:lnTo>
                    <a:pt x="305" y="127"/>
                  </a:lnTo>
                  <a:lnTo>
                    <a:pt x="305" y="216"/>
                  </a:lnTo>
                  <a:lnTo>
                    <a:pt x="207" y="371"/>
                  </a:lnTo>
                  <a:lnTo>
                    <a:pt x="230" y="490"/>
                  </a:lnTo>
                  <a:lnTo>
                    <a:pt x="516" y="618"/>
                  </a:lnTo>
                  <a:lnTo>
                    <a:pt x="857" y="958"/>
                  </a:lnTo>
                  <a:lnTo>
                    <a:pt x="861" y="1051"/>
                  </a:lnTo>
                  <a:lnTo>
                    <a:pt x="839" y="1095"/>
                  </a:lnTo>
                  <a:lnTo>
                    <a:pt x="720" y="1095"/>
                  </a:lnTo>
                  <a:lnTo>
                    <a:pt x="605" y="1033"/>
                  </a:lnTo>
                  <a:lnTo>
                    <a:pt x="512" y="919"/>
                  </a:lnTo>
                  <a:lnTo>
                    <a:pt x="459" y="848"/>
                  </a:lnTo>
                  <a:lnTo>
                    <a:pt x="402" y="844"/>
                  </a:lnTo>
                  <a:lnTo>
                    <a:pt x="472" y="844"/>
                  </a:lnTo>
                  <a:lnTo>
                    <a:pt x="618" y="1020"/>
                  </a:lnTo>
                  <a:lnTo>
                    <a:pt x="795" y="1069"/>
                  </a:lnTo>
                  <a:lnTo>
                    <a:pt x="835" y="1020"/>
                  </a:lnTo>
                  <a:lnTo>
                    <a:pt x="813" y="941"/>
                  </a:lnTo>
                  <a:lnTo>
                    <a:pt x="499" y="688"/>
                  </a:lnTo>
                  <a:lnTo>
                    <a:pt x="455" y="618"/>
                  </a:lnTo>
                  <a:lnTo>
                    <a:pt x="207" y="552"/>
                  </a:lnTo>
                  <a:lnTo>
                    <a:pt x="167" y="618"/>
                  </a:lnTo>
                  <a:lnTo>
                    <a:pt x="0" y="719"/>
                  </a:lnTo>
                  <a:lnTo>
                    <a:pt x="158" y="600"/>
                  </a:lnTo>
                  <a:lnTo>
                    <a:pt x="167" y="525"/>
                  </a:lnTo>
                  <a:lnTo>
                    <a:pt x="167" y="349"/>
                  </a:lnTo>
                  <a:lnTo>
                    <a:pt x="278" y="216"/>
                  </a:lnTo>
                  <a:lnTo>
                    <a:pt x="278" y="48"/>
                  </a:lnTo>
                  <a:lnTo>
                    <a:pt x="2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0" name=""/>
            <p:cNvSpPr/>
            <p:nvPr/>
          </p:nvSpPr>
          <p:spPr>
            <a:xfrm>
              <a:off x="8397720" y="1117440"/>
              <a:ext cx="262440" cy="232200"/>
            </a:xfrm>
            <a:custGeom>
              <a:avLst/>
              <a:gdLst/>
              <a:ahLst/>
              <a:rect l="0" t="0" r="r" b="b"/>
              <a:pathLst>
                <a:path w="729" h="645">
                  <a:moveTo>
                    <a:pt x="548" y="0"/>
                  </a:moveTo>
                  <a:lnTo>
                    <a:pt x="530" y="52"/>
                  </a:lnTo>
                  <a:lnTo>
                    <a:pt x="637" y="269"/>
                  </a:lnTo>
                  <a:lnTo>
                    <a:pt x="694" y="491"/>
                  </a:lnTo>
                  <a:lnTo>
                    <a:pt x="628" y="491"/>
                  </a:lnTo>
                  <a:lnTo>
                    <a:pt x="516" y="393"/>
                  </a:lnTo>
                  <a:lnTo>
                    <a:pt x="419" y="190"/>
                  </a:lnTo>
                  <a:lnTo>
                    <a:pt x="340" y="154"/>
                  </a:lnTo>
                  <a:lnTo>
                    <a:pt x="353" y="269"/>
                  </a:lnTo>
                  <a:lnTo>
                    <a:pt x="428" y="344"/>
                  </a:lnTo>
                  <a:lnTo>
                    <a:pt x="428" y="504"/>
                  </a:lnTo>
                  <a:lnTo>
                    <a:pt x="375" y="614"/>
                  </a:lnTo>
                  <a:lnTo>
                    <a:pt x="305" y="570"/>
                  </a:lnTo>
                  <a:lnTo>
                    <a:pt x="225" y="393"/>
                  </a:lnTo>
                  <a:lnTo>
                    <a:pt x="203" y="269"/>
                  </a:lnTo>
                  <a:lnTo>
                    <a:pt x="158" y="230"/>
                  </a:lnTo>
                  <a:lnTo>
                    <a:pt x="141" y="548"/>
                  </a:lnTo>
                  <a:lnTo>
                    <a:pt x="79" y="592"/>
                  </a:lnTo>
                  <a:lnTo>
                    <a:pt x="22" y="548"/>
                  </a:lnTo>
                  <a:lnTo>
                    <a:pt x="8" y="278"/>
                  </a:lnTo>
                  <a:lnTo>
                    <a:pt x="0" y="539"/>
                  </a:lnTo>
                  <a:lnTo>
                    <a:pt x="48" y="637"/>
                  </a:lnTo>
                  <a:lnTo>
                    <a:pt x="141" y="637"/>
                  </a:lnTo>
                  <a:lnTo>
                    <a:pt x="176" y="562"/>
                  </a:lnTo>
                  <a:lnTo>
                    <a:pt x="195" y="318"/>
                  </a:lnTo>
                  <a:lnTo>
                    <a:pt x="212" y="415"/>
                  </a:lnTo>
                  <a:lnTo>
                    <a:pt x="292" y="619"/>
                  </a:lnTo>
                  <a:lnTo>
                    <a:pt x="384" y="645"/>
                  </a:lnTo>
                  <a:lnTo>
                    <a:pt x="450" y="562"/>
                  </a:lnTo>
                  <a:lnTo>
                    <a:pt x="450" y="358"/>
                  </a:lnTo>
                  <a:lnTo>
                    <a:pt x="628" y="526"/>
                  </a:lnTo>
                  <a:lnTo>
                    <a:pt x="720" y="526"/>
                  </a:lnTo>
                  <a:lnTo>
                    <a:pt x="729" y="415"/>
                  </a:lnTo>
                  <a:lnTo>
                    <a:pt x="663" y="212"/>
                  </a:lnTo>
                  <a:lnTo>
                    <a:pt x="548" y="44"/>
                  </a:lnTo>
                  <a:lnTo>
                    <a:pt x="54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1" name=""/>
            <p:cNvSpPr/>
            <p:nvPr/>
          </p:nvSpPr>
          <p:spPr>
            <a:xfrm>
              <a:off x="7334280" y="876240"/>
              <a:ext cx="1171800" cy="949680"/>
            </a:xfrm>
            <a:custGeom>
              <a:avLst/>
              <a:gdLst/>
              <a:ahLst/>
              <a:rect l="0" t="0" r="r" b="b"/>
              <a:pathLst>
                <a:path w="3255" h="2638">
                  <a:moveTo>
                    <a:pt x="1172" y="224"/>
                  </a:moveTo>
                  <a:lnTo>
                    <a:pt x="1111" y="233"/>
                  </a:lnTo>
                  <a:lnTo>
                    <a:pt x="1023" y="361"/>
                  </a:lnTo>
                  <a:lnTo>
                    <a:pt x="987" y="264"/>
                  </a:lnTo>
                  <a:lnTo>
                    <a:pt x="881" y="211"/>
                  </a:lnTo>
                  <a:lnTo>
                    <a:pt x="806" y="251"/>
                  </a:lnTo>
                  <a:lnTo>
                    <a:pt x="776" y="427"/>
                  </a:lnTo>
                  <a:lnTo>
                    <a:pt x="480" y="634"/>
                  </a:lnTo>
                  <a:lnTo>
                    <a:pt x="502" y="727"/>
                  </a:lnTo>
                  <a:lnTo>
                    <a:pt x="432" y="802"/>
                  </a:lnTo>
                  <a:lnTo>
                    <a:pt x="432" y="873"/>
                  </a:lnTo>
                  <a:lnTo>
                    <a:pt x="511" y="1071"/>
                  </a:lnTo>
                  <a:lnTo>
                    <a:pt x="520" y="1318"/>
                  </a:lnTo>
                  <a:lnTo>
                    <a:pt x="463" y="1544"/>
                  </a:lnTo>
                  <a:lnTo>
                    <a:pt x="255" y="1685"/>
                  </a:lnTo>
                  <a:lnTo>
                    <a:pt x="229" y="1875"/>
                  </a:lnTo>
                  <a:lnTo>
                    <a:pt x="163" y="1875"/>
                  </a:lnTo>
                  <a:lnTo>
                    <a:pt x="132" y="1716"/>
                  </a:lnTo>
                  <a:lnTo>
                    <a:pt x="70" y="1716"/>
                  </a:lnTo>
                  <a:lnTo>
                    <a:pt x="35" y="1883"/>
                  </a:lnTo>
                  <a:lnTo>
                    <a:pt x="0" y="1928"/>
                  </a:lnTo>
                  <a:lnTo>
                    <a:pt x="141" y="2152"/>
                  </a:lnTo>
                  <a:lnTo>
                    <a:pt x="246" y="2166"/>
                  </a:lnTo>
                  <a:lnTo>
                    <a:pt x="432" y="2333"/>
                  </a:lnTo>
                  <a:lnTo>
                    <a:pt x="599" y="2355"/>
                  </a:lnTo>
                  <a:lnTo>
                    <a:pt x="687" y="2263"/>
                  </a:lnTo>
                  <a:lnTo>
                    <a:pt x="917" y="1936"/>
                  </a:lnTo>
                  <a:lnTo>
                    <a:pt x="934" y="2377"/>
                  </a:lnTo>
                  <a:lnTo>
                    <a:pt x="917" y="2638"/>
                  </a:lnTo>
                  <a:lnTo>
                    <a:pt x="2801" y="2638"/>
                  </a:lnTo>
                  <a:lnTo>
                    <a:pt x="2660" y="2355"/>
                  </a:lnTo>
                  <a:lnTo>
                    <a:pt x="2593" y="2108"/>
                  </a:lnTo>
                  <a:lnTo>
                    <a:pt x="2576" y="1747"/>
                  </a:lnTo>
                  <a:lnTo>
                    <a:pt x="2686" y="1826"/>
                  </a:lnTo>
                  <a:lnTo>
                    <a:pt x="2801" y="1826"/>
                  </a:lnTo>
                  <a:lnTo>
                    <a:pt x="2951" y="1729"/>
                  </a:lnTo>
                  <a:lnTo>
                    <a:pt x="3056" y="1716"/>
                  </a:lnTo>
                  <a:lnTo>
                    <a:pt x="3118" y="1619"/>
                  </a:lnTo>
                  <a:lnTo>
                    <a:pt x="3162" y="1372"/>
                  </a:lnTo>
                  <a:lnTo>
                    <a:pt x="3255" y="1269"/>
                  </a:lnTo>
                  <a:lnTo>
                    <a:pt x="3206" y="1195"/>
                  </a:lnTo>
                  <a:lnTo>
                    <a:pt x="3136" y="1195"/>
                  </a:lnTo>
                  <a:lnTo>
                    <a:pt x="3083" y="1243"/>
                  </a:lnTo>
                  <a:lnTo>
                    <a:pt x="3026" y="1261"/>
                  </a:lnTo>
                  <a:lnTo>
                    <a:pt x="2964" y="1195"/>
                  </a:lnTo>
                  <a:lnTo>
                    <a:pt x="2880" y="1186"/>
                  </a:lnTo>
                  <a:lnTo>
                    <a:pt x="2735" y="1093"/>
                  </a:lnTo>
                  <a:lnTo>
                    <a:pt x="2642" y="992"/>
                  </a:lnTo>
                  <a:lnTo>
                    <a:pt x="2624" y="873"/>
                  </a:lnTo>
                  <a:lnTo>
                    <a:pt x="2642" y="754"/>
                  </a:lnTo>
                  <a:lnTo>
                    <a:pt x="2699" y="657"/>
                  </a:lnTo>
                  <a:lnTo>
                    <a:pt x="2783" y="573"/>
                  </a:lnTo>
                  <a:lnTo>
                    <a:pt x="2774" y="423"/>
                  </a:lnTo>
                  <a:lnTo>
                    <a:pt x="2774" y="313"/>
                  </a:lnTo>
                  <a:lnTo>
                    <a:pt x="2735" y="233"/>
                  </a:lnTo>
                  <a:lnTo>
                    <a:pt x="2624" y="198"/>
                  </a:lnTo>
                  <a:lnTo>
                    <a:pt x="2585" y="176"/>
                  </a:lnTo>
                  <a:lnTo>
                    <a:pt x="2510" y="48"/>
                  </a:lnTo>
                  <a:lnTo>
                    <a:pt x="2443" y="8"/>
                  </a:lnTo>
                  <a:lnTo>
                    <a:pt x="2377" y="0"/>
                  </a:lnTo>
                  <a:lnTo>
                    <a:pt x="2320" y="26"/>
                  </a:lnTo>
                  <a:lnTo>
                    <a:pt x="2272" y="92"/>
                  </a:lnTo>
                  <a:lnTo>
                    <a:pt x="2201" y="136"/>
                  </a:lnTo>
                  <a:lnTo>
                    <a:pt x="2117" y="145"/>
                  </a:lnTo>
                  <a:lnTo>
                    <a:pt x="2029" y="145"/>
                  </a:lnTo>
                  <a:lnTo>
                    <a:pt x="2047" y="277"/>
                  </a:lnTo>
                  <a:lnTo>
                    <a:pt x="2047" y="440"/>
                  </a:lnTo>
                  <a:lnTo>
                    <a:pt x="2029" y="546"/>
                  </a:lnTo>
                  <a:lnTo>
                    <a:pt x="1950" y="679"/>
                  </a:lnTo>
                  <a:lnTo>
                    <a:pt x="1844" y="877"/>
                  </a:lnTo>
                  <a:lnTo>
                    <a:pt x="1764" y="1120"/>
                  </a:lnTo>
                  <a:lnTo>
                    <a:pt x="1760" y="1261"/>
                  </a:lnTo>
                  <a:lnTo>
                    <a:pt x="1720" y="1381"/>
                  </a:lnTo>
                  <a:lnTo>
                    <a:pt x="1676" y="1504"/>
                  </a:lnTo>
                  <a:lnTo>
                    <a:pt x="1650" y="1694"/>
                  </a:lnTo>
                  <a:lnTo>
                    <a:pt x="1663" y="1853"/>
                  </a:lnTo>
                  <a:lnTo>
                    <a:pt x="1720" y="2038"/>
                  </a:lnTo>
                  <a:lnTo>
                    <a:pt x="1760" y="2108"/>
                  </a:lnTo>
                  <a:lnTo>
                    <a:pt x="1650" y="2179"/>
                  </a:lnTo>
                  <a:lnTo>
                    <a:pt x="1521" y="2219"/>
                  </a:lnTo>
                  <a:lnTo>
                    <a:pt x="1371" y="2232"/>
                  </a:lnTo>
                  <a:lnTo>
                    <a:pt x="1283" y="2232"/>
                  </a:lnTo>
                  <a:lnTo>
                    <a:pt x="1225" y="2205"/>
                  </a:lnTo>
                  <a:lnTo>
                    <a:pt x="1225" y="2051"/>
                  </a:lnTo>
                  <a:lnTo>
                    <a:pt x="1225" y="1817"/>
                  </a:lnTo>
                  <a:lnTo>
                    <a:pt x="1190" y="1588"/>
                  </a:lnTo>
                  <a:lnTo>
                    <a:pt x="1133" y="1381"/>
                  </a:lnTo>
                  <a:lnTo>
                    <a:pt x="1102" y="1217"/>
                  </a:lnTo>
                  <a:lnTo>
                    <a:pt x="1093" y="983"/>
                  </a:lnTo>
                  <a:lnTo>
                    <a:pt x="1133" y="780"/>
                  </a:lnTo>
                  <a:lnTo>
                    <a:pt x="1190" y="617"/>
                  </a:lnTo>
                  <a:lnTo>
                    <a:pt x="1199" y="520"/>
                  </a:lnTo>
                  <a:lnTo>
                    <a:pt x="1172" y="379"/>
                  </a:lnTo>
                  <a:lnTo>
                    <a:pt x="1172" y="264"/>
                  </a:lnTo>
                  <a:lnTo>
                    <a:pt x="1190" y="233"/>
                  </a:lnTo>
                  <a:lnTo>
                    <a:pt x="1172" y="2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2" name=""/>
            <p:cNvSpPr/>
            <p:nvPr/>
          </p:nvSpPr>
          <p:spPr>
            <a:xfrm>
              <a:off x="7790040" y="1065240"/>
              <a:ext cx="147960" cy="617760"/>
            </a:xfrm>
            <a:custGeom>
              <a:avLst/>
              <a:gdLst/>
              <a:ahLst/>
              <a:rect l="0" t="0" r="r" b="b"/>
              <a:pathLst>
                <a:path w="411" h="1716">
                  <a:moveTo>
                    <a:pt x="163" y="22"/>
                  </a:moveTo>
                  <a:lnTo>
                    <a:pt x="52" y="74"/>
                  </a:lnTo>
                  <a:lnTo>
                    <a:pt x="66" y="242"/>
                  </a:lnTo>
                  <a:lnTo>
                    <a:pt x="145" y="286"/>
                  </a:lnTo>
                  <a:lnTo>
                    <a:pt x="48" y="467"/>
                  </a:lnTo>
                  <a:lnTo>
                    <a:pt x="0" y="665"/>
                  </a:lnTo>
                  <a:lnTo>
                    <a:pt x="0" y="860"/>
                  </a:lnTo>
                  <a:lnTo>
                    <a:pt x="48" y="1028"/>
                  </a:lnTo>
                  <a:lnTo>
                    <a:pt x="83" y="1240"/>
                  </a:lnTo>
                  <a:lnTo>
                    <a:pt x="83" y="1363"/>
                  </a:lnTo>
                  <a:lnTo>
                    <a:pt x="48" y="1509"/>
                  </a:lnTo>
                  <a:lnTo>
                    <a:pt x="212" y="1716"/>
                  </a:lnTo>
                  <a:lnTo>
                    <a:pt x="287" y="1681"/>
                  </a:lnTo>
                  <a:lnTo>
                    <a:pt x="331" y="1539"/>
                  </a:lnTo>
                  <a:lnTo>
                    <a:pt x="406" y="1350"/>
                  </a:lnTo>
                  <a:lnTo>
                    <a:pt x="411" y="1248"/>
                  </a:lnTo>
                  <a:lnTo>
                    <a:pt x="344" y="1063"/>
                  </a:lnTo>
                  <a:lnTo>
                    <a:pt x="269" y="878"/>
                  </a:lnTo>
                  <a:lnTo>
                    <a:pt x="239" y="749"/>
                  </a:lnTo>
                  <a:lnTo>
                    <a:pt x="239" y="621"/>
                  </a:lnTo>
                  <a:lnTo>
                    <a:pt x="269" y="511"/>
                  </a:lnTo>
                  <a:lnTo>
                    <a:pt x="331" y="374"/>
                  </a:lnTo>
                  <a:lnTo>
                    <a:pt x="331" y="321"/>
                  </a:lnTo>
                  <a:lnTo>
                    <a:pt x="300" y="264"/>
                  </a:lnTo>
                  <a:lnTo>
                    <a:pt x="380" y="194"/>
                  </a:lnTo>
                  <a:lnTo>
                    <a:pt x="380" y="132"/>
                  </a:lnTo>
                  <a:lnTo>
                    <a:pt x="269" y="0"/>
                  </a:lnTo>
                  <a:lnTo>
                    <a:pt x="358" y="132"/>
                  </a:lnTo>
                  <a:lnTo>
                    <a:pt x="358" y="185"/>
                  </a:lnTo>
                  <a:lnTo>
                    <a:pt x="283" y="242"/>
                  </a:lnTo>
                  <a:lnTo>
                    <a:pt x="309" y="321"/>
                  </a:lnTo>
                  <a:lnTo>
                    <a:pt x="300" y="374"/>
                  </a:lnTo>
                  <a:lnTo>
                    <a:pt x="225" y="533"/>
                  </a:lnTo>
                  <a:lnTo>
                    <a:pt x="212" y="687"/>
                  </a:lnTo>
                  <a:lnTo>
                    <a:pt x="234" y="833"/>
                  </a:lnTo>
                  <a:lnTo>
                    <a:pt x="287" y="1041"/>
                  </a:lnTo>
                  <a:lnTo>
                    <a:pt x="344" y="1204"/>
                  </a:lnTo>
                  <a:lnTo>
                    <a:pt x="344" y="1341"/>
                  </a:lnTo>
                  <a:lnTo>
                    <a:pt x="309" y="1509"/>
                  </a:lnTo>
                  <a:lnTo>
                    <a:pt x="234" y="1681"/>
                  </a:lnTo>
                  <a:lnTo>
                    <a:pt x="132" y="1584"/>
                  </a:lnTo>
                  <a:lnTo>
                    <a:pt x="97" y="1509"/>
                  </a:lnTo>
                  <a:lnTo>
                    <a:pt x="105" y="1341"/>
                  </a:lnTo>
                  <a:lnTo>
                    <a:pt x="97" y="1169"/>
                  </a:lnTo>
                  <a:lnTo>
                    <a:pt x="48" y="944"/>
                  </a:lnTo>
                  <a:lnTo>
                    <a:pt x="26" y="784"/>
                  </a:lnTo>
                  <a:lnTo>
                    <a:pt x="48" y="612"/>
                  </a:lnTo>
                  <a:lnTo>
                    <a:pt x="83" y="445"/>
                  </a:lnTo>
                  <a:lnTo>
                    <a:pt x="176" y="273"/>
                  </a:lnTo>
                  <a:lnTo>
                    <a:pt x="97" y="207"/>
                  </a:lnTo>
                  <a:lnTo>
                    <a:pt x="83" y="83"/>
                  </a:lnTo>
                  <a:lnTo>
                    <a:pt x="163"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3" name=""/>
            <p:cNvSpPr/>
            <p:nvPr/>
          </p:nvSpPr>
          <p:spPr>
            <a:xfrm>
              <a:off x="8211960" y="345960"/>
              <a:ext cx="233640" cy="298800"/>
            </a:xfrm>
            <a:custGeom>
              <a:avLst/>
              <a:gdLst/>
              <a:ahLst/>
              <a:rect l="0" t="0" r="r" b="b"/>
              <a:pathLst>
                <a:path w="649" h="830">
                  <a:moveTo>
                    <a:pt x="110" y="211"/>
                  </a:moveTo>
                  <a:lnTo>
                    <a:pt x="202" y="194"/>
                  </a:lnTo>
                  <a:lnTo>
                    <a:pt x="299" y="202"/>
                  </a:lnTo>
                  <a:lnTo>
                    <a:pt x="371" y="233"/>
                  </a:lnTo>
                  <a:lnTo>
                    <a:pt x="415" y="282"/>
                  </a:lnTo>
                  <a:lnTo>
                    <a:pt x="433" y="321"/>
                  </a:lnTo>
                  <a:lnTo>
                    <a:pt x="433" y="366"/>
                  </a:lnTo>
                  <a:lnTo>
                    <a:pt x="411" y="392"/>
                  </a:lnTo>
                  <a:lnTo>
                    <a:pt x="371" y="414"/>
                  </a:lnTo>
                  <a:lnTo>
                    <a:pt x="321" y="414"/>
                  </a:lnTo>
                  <a:lnTo>
                    <a:pt x="264" y="405"/>
                  </a:lnTo>
                  <a:lnTo>
                    <a:pt x="202" y="370"/>
                  </a:lnTo>
                  <a:lnTo>
                    <a:pt x="163" y="335"/>
                  </a:lnTo>
                  <a:lnTo>
                    <a:pt x="141" y="441"/>
                  </a:lnTo>
                  <a:lnTo>
                    <a:pt x="110" y="516"/>
                  </a:lnTo>
                  <a:lnTo>
                    <a:pt x="0" y="693"/>
                  </a:lnTo>
                  <a:lnTo>
                    <a:pt x="158" y="830"/>
                  </a:lnTo>
                  <a:lnTo>
                    <a:pt x="277" y="605"/>
                  </a:lnTo>
                  <a:lnTo>
                    <a:pt x="411" y="622"/>
                  </a:lnTo>
                  <a:lnTo>
                    <a:pt x="494" y="605"/>
                  </a:lnTo>
                  <a:lnTo>
                    <a:pt x="574" y="556"/>
                  </a:lnTo>
                  <a:lnTo>
                    <a:pt x="627" y="494"/>
                  </a:lnTo>
                  <a:lnTo>
                    <a:pt x="649" y="410"/>
                  </a:lnTo>
                  <a:lnTo>
                    <a:pt x="649" y="317"/>
                  </a:lnTo>
                  <a:lnTo>
                    <a:pt x="627" y="224"/>
                  </a:lnTo>
                  <a:lnTo>
                    <a:pt x="569" y="127"/>
                  </a:lnTo>
                  <a:lnTo>
                    <a:pt x="508" y="57"/>
                  </a:lnTo>
                  <a:lnTo>
                    <a:pt x="424" y="22"/>
                  </a:lnTo>
                  <a:lnTo>
                    <a:pt x="331" y="0"/>
                  </a:lnTo>
                  <a:lnTo>
                    <a:pt x="216" y="0"/>
                  </a:lnTo>
                  <a:lnTo>
                    <a:pt x="83" y="26"/>
                  </a:lnTo>
                  <a:lnTo>
                    <a:pt x="110" y="211"/>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8169120" y="636480"/>
              <a:ext cx="86040" cy="60840"/>
            </a:xfrm>
            <a:custGeom>
              <a:avLst/>
              <a:gdLst/>
              <a:ahLst/>
              <a:rect l="0" t="0" r="r" b="b"/>
              <a:pathLst>
                <a:path w="239" h="169">
                  <a:moveTo>
                    <a:pt x="92" y="0"/>
                  </a:moveTo>
                  <a:lnTo>
                    <a:pt x="30" y="0"/>
                  </a:lnTo>
                  <a:lnTo>
                    <a:pt x="0" y="26"/>
                  </a:lnTo>
                  <a:lnTo>
                    <a:pt x="0" y="84"/>
                  </a:lnTo>
                  <a:lnTo>
                    <a:pt x="48" y="143"/>
                  </a:lnTo>
                  <a:lnTo>
                    <a:pt x="146" y="169"/>
                  </a:lnTo>
                  <a:lnTo>
                    <a:pt x="217" y="165"/>
                  </a:lnTo>
                  <a:lnTo>
                    <a:pt x="239" y="124"/>
                  </a:lnTo>
                  <a:lnTo>
                    <a:pt x="225" y="89"/>
                  </a:lnTo>
                  <a:lnTo>
                    <a:pt x="195" y="45"/>
                  </a:lnTo>
                  <a:lnTo>
                    <a:pt x="137" y="8"/>
                  </a:lnTo>
                  <a:lnTo>
                    <a:pt x="92" y="0"/>
                  </a:lnTo>
                  <a:close/>
                </a:path>
              </a:pathLst>
            </a:custGeom>
            <a:solidFill>
              <a:srgbClr val="fc0128"/>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5" name=""/>
          <p:cNvSpPr txBox="1"/>
          <p:nvPr/>
        </p:nvSpPr>
        <p:spPr>
          <a:xfrm>
            <a:off x="1447920" y="457200"/>
            <a:ext cx="6753240" cy="1828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Using Classified Financial Statements</a:t>
            </a:r>
            <a:endParaRPr b="0" lang="en-US" sz="4400" spc="-1" strike="noStrike">
              <a:solidFill>
                <a:srgbClr val="ffffff"/>
              </a:solidFill>
              <a:latin typeface="Arial"/>
            </a:endParaRPr>
          </a:p>
        </p:txBody>
      </p:sp>
      <p:sp>
        <p:nvSpPr>
          <p:cNvPr id="406" name=""/>
          <p:cNvSpPr txBox="1"/>
          <p:nvPr/>
        </p:nvSpPr>
        <p:spPr>
          <a:xfrm>
            <a:off x="2368440" y="2508120"/>
            <a:ext cx="6234120" cy="2595600"/>
          </a:xfrm>
          <a:prstGeom prst="rect">
            <a:avLst/>
          </a:prstGeom>
          <a:noFill/>
          <a:ln w="0">
            <a:noFill/>
          </a:ln>
        </p:spPr>
        <p:txBody>
          <a:bodyPr lIns="0" rIns="0" tIns="0" bIns="0" anchor="t">
            <a:noAutofit/>
          </a:bodyPr>
          <a:p>
            <a:pPr marL="343080" indent="-343080">
              <a:lnSpc>
                <a:spcPct val="100000"/>
              </a:lnSpc>
              <a:spcBef>
                <a:spcPts val="479"/>
              </a:spcBef>
            </a:pPr>
            <a:r>
              <a:rPr b="1" lang="en-US" sz="3600" spc="-1" strike="noStrike">
                <a:solidFill>
                  <a:srgbClr val="fcffd8"/>
                </a:solidFill>
                <a:latin typeface="Arial"/>
                <a:ea typeface="Arial"/>
              </a:rPr>
              <a:t>OBJECTIVE 7</a:t>
            </a:r>
            <a:endParaRPr b="0" lang="en-US" sz="36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Evaluate liquidity and</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profitability using classified </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financial statements.</a:t>
            </a:r>
            <a:endParaRPr b="0" lang="en-US" sz="3200" spc="-1" strike="noStrike">
              <a:solidFill>
                <a:srgbClr val="ffffff"/>
              </a:solidFill>
              <a:latin typeface="Arial"/>
            </a:endParaRPr>
          </a:p>
        </p:txBody>
      </p:sp>
      <p:pic>
        <p:nvPicPr>
          <p:cNvPr id="407"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8" name=""/>
          <p:cNvSpPr txBox="1"/>
          <p:nvPr/>
        </p:nvSpPr>
        <p:spPr>
          <a:xfrm>
            <a:off x="955800" y="557280"/>
            <a:ext cx="77724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00"/>
                </a:solidFill>
                <a:latin typeface="Arial"/>
                <a:ea typeface="Arial"/>
              </a:rPr>
              <a:t>Evaluation of Liquidity:</a:t>
            </a:r>
            <a:br>
              <a:rPr sz="4400"/>
            </a:br>
            <a:r>
              <a:rPr b="1" lang="en-US" sz="4400" spc="-1" strike="noStrike">
                <a:solidFill>
                  <a:srgbClr val="ffcc00"/>
                </a:solidFill>
                <a:latin typeface="Arial"/>
                <a:ea typeface="Arial"/>
              </a:rPr>
              <a:t>Working Capital</a:t>
            </a:r>
            <a:endParaRPr b="0" lang="en-US" sz="4400" spc="-1" strike="noStrike">
              <a:solidFill>
                <a:srgbClr val="ffffff"/>
              </a:solidFill>
              <a:latin typeface="Arial"/>
            </a:endParaRPr>
          </a:p>
        </p:txBody>
      </p:sp>
      <p:sp>
        <p:nvSpPr>
          <p:cNvPr id="409" name=""/>
          <p:cNvSpPr txBox="1"/>
          <p:nvPr/>
        </p:nvSpPr>
        <p:spPr>
          <a:xfrm>
            <a:off x="1096920" y="2068560"/>
            <a:ext cx="7678800" cy="304956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he amount by which total current assets exceeds total current liabilities.</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eb9"/>
                </a:solidFill>
                <a:latin typeface="Arial"/>
                <a:ea typeface="Arial"/>
              </a:rPr>
              <a:t>(Current Assets - Current Lia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10" name=""/>
          <p:cNvSpPr txBox="1"/>
          <p:nvPr/>
        </p:nvSpPr>
        <p:spPr>
          <a:xfrm>
            <a:off x="873000" y="409680"/>
            <a:ext cx="784872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Liquidity:</a:t>
            </a:r>
            <a:br>
              <a:rPr sz="4400"/>
            </a:br>
            <a:r>
              <a:rPr b="1" lang="en-US" sz="4400" spc="-1" strike="noStrike">
                <a:solidFill>
                  <a:srgbClr val="ffcc66"/>
                </a:solidFill>
                <a:latin typeface="Arial"/>
                <a:ea typeface="Arial"/>
              </a:rPr>
              <a:t>Current Ratio</a:t>
            </a:r>
            <a:endParaRPr b="0" lang="en-US" sz="4400" spc="-1" strike="noStrike">
              <a:solidFill>
                <a:srgbClr val="ffffff"/>
              </a:solidFill>
              <a:latin typeface="Arial"/>
            </a:endParaRPr>
          </a:p>
        </p:txBody>
      </p:sp>
      <p:sp>
        <p:nvSpPr>
          <p:cNvPr id="411" name=""/>
          <p:cNvSpPr txBox="1"/>
          <p:nvPr/>
        </p:nvSpPr>
        <p:spPr>
          <a:xfrm>
            <a:off x="925560" y="2004840"/>
            <a:ext cx="7656480" cy="38671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ratio of current assets to current liabiliti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urrent Assets / Current Liabiliti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o be useful should be compared to previous year and to the industry.</a:t>
            </a:r>
            <a:endParaRPr b="0" lang="en-US" sz="3200" spc="-1" strike="noStrike">
              <a:solidFill>
                <a:srgbClr val="ffffff"/>
              </a:solidFill>
              <a:latin typeface="Arial"/>
            </a:endParaRPr>
          </a:p>
        </p:txBody>
      </p:sp>
      <p:sp>
        <p:nvSpPr>
          <p:cNvPr id="412" name=""/>
          <p:cNvSpPr/>
          <p:nvPr/>
        </p:nvSpPr>
        <p:spPr>
          <a:xfrm>
            <a:off x="4883040" y="4645080"/>
            <a:ext cx="441360" cy="6382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 name=""/>
          <p:cNvSpPr txBox="1"/>
          <p:nvPr/>
        </p:nvSpPr>
        <p:spPr>
          <a:xfrm>
            <a:off x="1415880" y="380880"/>
            <a:ext cx="6966000" cy="1270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bjectives of Financial Reporting</a:t>
            </a:r>
            <a:endParaRPr b="0" lang="en-US" sz="4400" spc="-1" strike="noStrike">
              <a:solidFill>
                <a:srgbClr val="ffffff"/>
              </a:solidFill>
              <a:latin typeface="Arial"/>
            </a:endParaRPr>
          </a:p>
        </p:txBody>
      </p:sp>
      <p:sp>
        <p:nvSpPr>
          <p:cNvPr id="55" name=""/>
          <p:cNvSpPr txBox="1"/>
          <p:nvPr/>
        </p:nvSpPr>
        <p:spPr>
          <a:xfrm>
            <a:off x="1079640" y="1833480"/>
            <a:ext cx="7696080" cy="4343400"/>
          </a:xfrm>
          <a:prstGeom prst="rect">
            <a:avLst/>
          </a:prstGeom>
          <a:noFill/>
          <a:ln w="0">
            <a:noFill/>
          </a:ln>
        </p:spPr>
        <p:txBody>
          <a:bodyPr lIns="0" rIns="0" tIns="0" bIns="0" anchor="t">
            <a:noAutofit/>
          </a:bodyPr>
          <a:p>
            <a:pPr marL="457200" indent="-457200">
              <a:lnSpc>
                <a:spcPct val="10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o furnish information useful in making investment and credit decisions.</a:t>
            </a:r>
            <a:endParaRPr b="0" lang="en-US" sz="3200" spc="-1" strike="noStrike">
              <a:solidFill>
                <a:srgbClr val="ffffff"/>
              </a:solidFill>
              <a:latin typeface="Arial"/>
            </a:endParaRPr>
          </a:p>
          <a:p>
            <a:pPr marL="457200" indent="-457200">
              <a:lnSpc>
                <a:spcPct val="100000"/>
              </a:lnSpc>
              <a:spcBef>
                <a:spcPts val="47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o provide information useful in assessing cash flow prospects.</a:t>
            </a:r>
            <a:endParaRPr b="0" lang="en-US" sz="3200" spc="-1" strike="noStrike">
              <a:solidFill>
                <a:srgbClr val="ffffff"/>
              </a:solidFill>
              <a:latin typeface="Arial"/>
            </a:endParaRPr>
          </a:p>
          <a:p>
            <a:pPr marL="457200" indent="-457200">
              <a:lnSpc>
                <a:spcPct val="100000"/>
              </a:lnSpc>
              <a:spcBef>
                <a:spcPts val="479"/>
              </a:spcBef>
            </a:pPr>
            <a:r>
              <a:rPr b="1" lang="en-US" sz="3200" spc="-1" strike="noStrike">
                <a:solidFill>
                  <a:srgbClr val="fcffd8"/>
                </a:solidFill>
                <a:latin typeface="Arial"/>
                <a:ea typeface="Arial"/>
              </a:rPr>
              <a:t>3.</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o provide information about business resources, claims to those resources, and changes in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13" name=""/>
          <p:cNvSpPr txBox="1"/>
          <p:nvPr/>
        </p:nvSpPr>
        <p:spPr>
          <a:xfrm>
            <a:off x="331920" y="162000"/>
            <a:ext cx="8812080" cy="106380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Average Current Ratio for</a:t>
            </a:r>
            <a:endParaRPr b="0" lang="en-US" sz="3200" spc="-1" strike="noStrike">
              <a:solidFill>
                <a:srgbClr val="ffffff"/>
              </a:solidFill>
              <a:latin typeface="Arial"/>
            </a:endParaRPr>
          </a:p>
          <a:p>
            <a:pPr algn="ctr">
              <a:lnSpc>
                <a:spcPct val="100000"/>
              </a:lnSpc>
            </a:pPr>
            <a:r>
              <a:rPr b="1" lang="en-US" sz="3200" spc="-1" strike="noStrike">
                <a:solidFill>
                  <a:srgbClr val="ffcc66"/>
                </a:solidFill>
                <a:latin typeface="Arial"/>
                <a:ea typeface="Arial"/>
              </a:rPr>
              <a:t>Selected Industries</a:t>
            </a:r>
            <a:endParaRPr b="0" lang="en-US" sz="3200" spc="-1" strike="noStrike">
              <a:solidFill>
                <a:srgbClr val="ffffff"/>
              </a:solidFill>
              <a:latin typeface="Arial"/>
            </a:endParaRPr>
          </a:p>
        </p:txBody>
      </p:sp>
      <p:grpSp>
        <p:nvGrpSpPr>
          <p:cNvPr id="414" name=""/>
          <p:cNvGrpSpPr/>
          <p:nvPr/>
        </p:nvGrpSpPr>
        <p:grpSpPr>
          <a:xfrm>
            <a:off x="609480" y="1212840"/>
            <a:ext cx="8271000" cy="5118120"/>
            <a:chOff x="609480" y="1212840"/>
            <a:chExt cx="8271000" cy="5118120"/>
          </a:xfrm>
        </p:grpSpPr>
        <p:sp>
          <p:nvSpPr>
            <p:cNvPr id="415" name=""/>
            <p:cNvSpPr/>
            <p:nvPr/>
          </p:nvSpPr>
          <p:spPr>
            <a:xfrm>
              <a:off x="703440" y="1212840"/>
              <a:ext cx="8177040" cy="5118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609480" y="1266840"/>
              <a:ext cx="195120" cy="2253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417" name=""/>
            <p:cNvGrpSpPr/>
            <p:nvPr/>
          </p:nvGrpSpPr>
          <p:grpSpPr>
            <a:xfrm>
              <a:off x="2155680" y="1655640"/>
              <a:ext cx="5918400" cy="3100680"/>
              <a:chOff x="2155680" y="1655640"/>
              <a:chExt cx="5918400" cy="3100680"/>
            </a:xfrm>
          </p:grpSpPr>
          <p:sp>
            <p:nvSpPr>
              <p:cNvPr id="418" name=""/>
              <p:cNvSpPr/>
              <p:nvPr/>
            </p:nvSpPr>
            <p:spPr>
              <a:xfrm>
                <a:off x="2155680" y="1743120"/>
                <a:ext cx="0" cy="301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19" name=""/>
              <p:cNvSpPr/>
              <p:nvPr/>
            </p:nvSpPr>
            <p:spPr>
              <a:xfrm flipV="1">
                <a:off x="3143160" y="1655640"/>
                <a:ext cx="0" cy="30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0" name=""/>
              <p:cNvSpPr/>
              <p:nvPr/>
            </p:nvSpPr>
            <p:spPr>
              <a:xfrm flipV="1">
                <a:off x="4125960" y="1655640"/>
                <a:ext cx="0" cy="30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1" name=""/>
              <p:cNvSpPr/>
              <p:nvPr/>
            </p:nvSpPr>
            <p:spPr>
              <a:xfrm flipV="1">
                <a:off x="5113440" y="1655640"/>
                <a:ext cx="0" cy="30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2" name=""/>
              <p:cNvSpPr/>
              <p:nvPr/>
            </p:nvSpPr>
            <p:spPr>
              <a:xfrm flipV="1">
                <a:off x="6097680" y="1655640"/>
                <a:ext cx="0" cy="30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3" name=""/>
              <p:cNvSpPr/>
              <p:nvPr/>
            </p:nvSpPr>
            <p:spPr>
              <a:xfrm flipV="1">
                <a:off x="7088040" y="1655640"/>
                <a:ext cx="0" cy="30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4" name=""/>
              <p:cNvSpPr/>
              <p:nvPr/>
            </p:nvSpPr>
            <p:spPr>
              <a:xfrm>
                <a:off x="8074080" y="1700280"/>
                <a:ext cx="0" cy="3011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425" name=""/>
            <p:cNvSpPr/>
            <p:nvPr/>
          </p:nvSpPr>
          <p:spPr>
            <a:xfrm flipH="1">
              <a:off x="3191040" y="196380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6" name=""/>
            <p:cNvSpPr/>
            <p:nvPr/>
          </p:nvSpPr>
          <p:spPr>
            <a:xfrm flipH="1">
              <a:off x="3191040" y="442440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7" name=""/>
            <p:cNvSpPr/>
            <p:nvPr/>
          </p:nvSpPr>
          <p:spPr>
            <a:xfrm flipH="1">
              <a:off x="3191040" y="393228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8" name=""/>
            <p:cNvSpPr/>
            <p:nvPr/>
          </p:nvSpPr>
          <p:spPr>
            <a:xfrm flipH="1">
              <a:off x="3191040" y="344160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9" name=""/>
            <p:cNvSpPr/>
            <p:nvPr/>
          </p:nvSpPr>
          <p:spPr>
            <a:xfrm flipH="1">
              <a:off x="3191040" y="294480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30" name=""/>
            <p:cNvSpPr/>
            <p:nvPr/>
          </p:nvSpPr>
          <p:spPr>
            <a:xfrm flipH="1">
              <a:off x="3191040" y="245736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31" name=""/>
            <p:cNvSpPr/>
            <p:nvPr/>
          </p:nvSpPr>
          <p:spPr>
            <a:xfrm>
              <a:off x="2162160" y="1785960"/>
              <a:ext cx="2961000" cy="336960"/>
            </a:xfrm>
            <a:custGeom>
              <a:avLst/>
              <a:gdLst/>
              <a:ahLst/>
              <a:rect l="0" t="0" r="r" b="b"/>
              <a:pathLst>
                <a:path w="8225" h="936">
                  <a:moveTo>
                    <a:pt x="0" y="0"/>
                  </a:moveTo>
                  <a:lnTo>
                    <a:pt x="8225" y="0"/>
                  </a:lnTo>
                  <a:lnTo>
                    <a:pt x="8225" y="936"/>
                  </a:lnTo>
                  <a:lnTo>
                    <a:pt x="0" y="936"/>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2" name=""/>
            <p:cNvSpPr/>
            <p:nvPr/>
          </p:nvSpPr>
          <p:spPr>
            <a:xfrm>
              <a:off x="2162160" y="2278080"/>
              <a:ext cx="2838960" cy="335160"/>
            </a:xfrm>
            <a:custGeom>
              <a:avLst/>
              <a:gdLst/>
              <a:ahLst/>
              <a:rect l="0" t="0" r="r" b="b"/>
              <a:pathLst>
                <a:path w="7886" h="931">
                  <a:moveTo>
                    <a:pt x="0" y="931"/>
                  </a:moveTo>
                  <a:lnTo>
                    <a:pt x="7886" y="931"/>
                  </a:lnTo>
                  <a:lnTo>
                    <a:pt x="7886" y="0"/>
                  </a:lnTo>
                  <a:lnTo>
                    <a:pt x="0" y="0"/>
                  </a:lnTo>
                  <a:lnTo>
                    <a:pt x="0" y="931"/>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3" name=""/>
            <p:cNvSpPr/>
            <p:nvPr/>
          </p:nvSpPr>
          <p:spPr>
            <a:xfrm>
              <a:off x="2162160" y="2771640"/>
              <a:ext cx="4159440" cy="319320"/>
            </a:xfrm>
            <a:custGeom>
              <a:avLst/>
              <a:gdLst/>
              <a:ahLst/>
              <a:rect l="0" t="0" r="r" b="b"/>
              <a:pathLst>
                <a:path w="11554" h="887">
                  <a:moveTo>
                    <a:pt x="0" y="0"/>
                  </a:moveTo>
                  <a:lnTo>
                    <a:pt x="11554" y="0"/>
                  </a:lnTo>
                  <a:lnTo>
                    <a:pt x="11554" y="887"/>
                  </a:lnTo>
                  <a:lnTo>
                    <a:pt x="0" y="887"/>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4" name=""/>
            <p:cNvSpPr/>
            <p:nvPr/>
          </p:nvSpPr>
          <p:spPr>
            <a:xfrm>
              <a:off x="2162160" y="3263760"/>
              <a:ext cx="4161240" cy="316440"/>
            </a:xfrm>
            <a:custGeom>
              <a:avLst/>
              <a:gdLst/>
              <a:ahLst/>
              <a:rect l="0" t="0" r="r" b="b"/>
              <a:pathLst>
                <a:path w="11559" h="879">
                  <a:moveTo>
                    <a:pt x="0" y="879"/>
                  </a:moveTo>
                  <a:lnTo>
                    <a:pt x="11559" y="879"/>
                  </a:lnTo>
                  <a:lnTo>
                    <a:pt x="11559" y="0"/>
                  </a:lnTo>
                  <a:lnTo>
                    <a:pt x="0" y="0"/>
                  </a:lnTo>
                  <a:lnTo>
                    <a:pt x="0" y="879"/>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5" name=""/>
            <p:cNvSpPr/>
            <p:nvPr/>
          </p:nvSpPr>
          <p:spPr>
            <a:xfrm>
              <a:off x="2162160" y="3755880"/>
              <a:ext cx="4924800" cy="316440"/>
            </a:xfrm>
            <a:custGeom>
              <a:avLst/>
              <a:gdLst/>
              <a:ahLst/>
              <a:rect l="0" t="0" r="r" b="b"/>
              <a:pathLst>
                <a:path w="13680" h="879">
                  <a:moveTo>
                    <a:pt x="0" y="0"/>
                  </a:moveTo>
                  <a:lnTo>
                    <a:pt x="13680" y="0"/>
                  </a:lnTo>
                  <a:lnTo>
                    <a:pt x="13680" y="879"/>
                  </a:lnTo>
                  <a:lnTo>
                    <a:pt x="0" y="879"/>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6" name=""/>
            <p:cNvSpPr/>
            <p:nvPr/>
          </p:nvSpPr>
          <p:spPr>
            <a:xfrm>
              <a:off x="2162160" y="4248000"/>
              <a:ext cx="4526280" cy="317880"/>
            </a:xfrm>
            <a:custGeom>
              <a:avLst/>
              <a:gdLst/>
              <a:ahLst/>
              <a:rect l="0" t="0" r="r" b="b"/>
              <a:pathLst>
                <a:path w="12573" h="883">
                  <a:moveTo>
                    <a:pt x="0" y="883"/>
                  </a:moveTo>
                  <a:lnTo>
                    <a:pt x="12573" y="883"/>
                  </a:lnTo>
                  <a:lnTo>
                    <a:pt x="12573" y="0"/>
                  </a:lnTo>
                  <a:lnTo>
                    <a:pt x="0" y="0"/>
                  </a:lnTo>
                  <a:lnTo>
                    <a:pt x="0" y="883"/>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7" name=""/>
            <p:cNvSpPr txBox="1"/>
            <p:nvPr/>
          </p:nvSpPr>
          <p:spPr>
            <a:xfrm>
              <a:off x="8345520" y="177336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5</a:t>
              </a:r>
              <a:endParaRPr b="0" lang="en-US" sz="1400" spc="-1" strike="noStrike">
                <a:solidFill>
                  <a:srgbClr val="ffffff"/>
                </a:solidFill>
                <a:latin typeface="Arial"/>
              </a:endParaRPr>
            </a:p>
          </p:txBody>
        </p:sp>
        <p:sp>
          <p:nvSpPr>
            <p:cNvPr id="438" name=""/>
            <p:cNvSpPr txBox="1"/>
            <p:nvPr/>
          </p:nvSpPr>
          <p:spPr>
            <a:xfrm>
              <a:off x="8345520" y="226224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4</a:t>
              </a:r>
              <a:endParaRPr b="0" lang="en-US" sz="1400" spc="-1" strike="noStrike">
                <a:solidFill>
                  <a:srgbClr val="ffffff"/>
                </a:solidFill>
                <a:latin typeface="Arial"/>
              </a:endParaRPr>
            </a:p>
          </p:txBody>
        </p:sp>
        <p:sp>
          <p:nvSpPr>
            <p:cNvPr id="439" name=""/>
            <p:cNvSpPr txBox="1"/>
            <p:nvPr/>
          </p:nvSpPr>
          <p:spPr>
            <a:xfrm>
              <a:off x="8345520" y="275436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1</a:t>
              </a:r>
              <a:endParaRPr b="0" lang="en-US" sz="1400" spc="-1" strike="noStrike">
                <a:solidFill>
                  <a:srgbClr val="ffffff"/>
                </a:solidFill>
                <a:latin typeface="Arial"/>
              </a:endParaRPr>
            </a:p>
          </p:txBody>
        </p:sp>
        <p:sp>
          <p:nvSpPr>
            <p:cNvPr id="440" name=""/>
            <p:cNvSpPr txBox="1"/>
            <p:nvPr/>
          </p:nvSpPr>
          <p:spPr>
            <a:xfrm>
              <a:off x="8345520" y="324648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1</a:t>
              </a:r>
              <a:endParaRPr b="0" lang="en-US" sz="1400" spc="-1" strike="noStrike">
                <a:solidFill>
                  <a:srgbClr val="ffffff"/>
                </a:solidFill>
                <a:latin typeface="Arial"/>
              </a:endParaRPr>
            </a:p>
          </p:txBody>
        </p:sp>
        <p:sp>
          <p:nvSpPr>
            <p:cNvPr id="441" name=""/>
            <p:cNvSpPr txBox="1"/>
            <p:nvPr/>
          </p:nvSpPr>
          <p:spPr>
            <a:xfrm>
              <a:off x="8345520" y="374004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5</a:t>
              </a:r>
              <a:endParaRPr b="0" lang="en-US" sz="1400" spc="-1" strike="noStrike">
                <a:solidFill>
                  <a:srgbClr val="ffffff"/>
                </a:solidFill>
                <a:latin typeface="Arial"/>
              </a:endParaRPr>
            </a:p>
          </p:txBody>
        </p:sp>
        <p:sp>
          <p:nvSpPr>
            <p:cNvPr id="442" name=""/>
            <p:cNvSpPr txBox="1"/>
            <p:nvPr/>
          </p:nvSpPr>
          <p:spPr>
            <a:xfrm>
              <a:off x="8345520" y="423216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3</a:t>
              </a:r>
              <a:endParaRPr b="0" lang="en-US" sz="1400" spc="-1" strike="noStrike">
                <a:solidFill>
                  <a:srgbClr val="ffffff"/>
                </a:solidFill>
                <a:latin typeface="Arial"/>
              </a:endParaRPr>
            </a:p>
          </p:txBody>
        </p:sp>
        <p:sp>
          <p:nvSpPr>
            <p:cNvPr id="443" name=""/>
            <p:cNvSpPr txBox="1"/>
            <p:nvPr/>
          </p:nvSpPr>
          <p:spPr>
            <a:xfrm>
              <a:off x="8602560" y="4448160"/>
              <a:ext cx="23004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444" name=""/>
            <p:cNvSpPr txBox="1"/>
            <p:nvPr/>
          </p:nvSpPr>
          <p:spPr>
            <a:xfrm>
              <a:off x="1003320" y="1714680"/>
              <a:ext cx="12081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445" name=""/>
            <p:cNvSpPr txBox="1"/>
            <p:nvPr/>
          </p:nvSpPr>
          <p:spPr>
            <a:xfrm>
              <a:off x="1158840" y="1893960"/>
              <a:ext cx="9716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446" name=""/>
            <p:cNvSpPr txBox="1"/>
            <p:nvPr/>
          </p:nvSpPr>
          <p:spPr>
            <a:xfrm>
              <a:off x="1149480" y="2208240"/>
              <a:ext cx="1030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Interstate </a:t>
              </a:r>
              <a:endParaRPr b="0" lang="en-US" sz="1400" spc="-1" strike="noStrike">
                <a:solidFill>
                  <a:srgbClr val="ffffff"/>
                </a:solidFill>
                <a:latin typeface="Arial"/>
              </a:endParaRPr>
            </a:p>
          </p:txBody>
        </p:sp>
        <p:sp>
          <p:nvSpPr>
            <p:cNvPr id="447" name=""/>
            <p:cNvSpPr txBox="1"/>
            <p:nvPr/>
          </p:nvSpPr>
          <p:spPr>
            <a:xfrm>
              <a:off x="1211400" y="2382840"/>
              <a:ext cx="9320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448" name=""/>
            <p:cNvSpPr txBox="1"/>
            <p:nvPr/>
          </p:nvSpPr>
          <p:spPr>
            <a:xfrm>
              <a:off x="1163520" y="2679840"/>
              <a:ext cx="10494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449" name=""/>
            <p:cNvSpPr txBox="1"/>
            <p:nvPr/>
          </p:nvSpPr>
          <p:spPr>
            <a:xfrm>
              <a:off x="801720" y="2828880"/>
              <a:ext cx="13176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450" name=""/>
            <p:cNvSpPr txBox="1"/>
            <p:nvPr/>
          </p:nvSpPr>
          <p:spPr>
            <a:xfrm>
              <a:off x="1252440" y="3191040"/>
              <a:ext cx="9129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451" name=""/>
            <p:cNvSpPr txBox="1"/>
            <p:nvPr/>
          </p:nvSpPr>
          <p:spPr>
            <a:xfrm>
              <a:off x="1389240" y="3368520"/>
              <a:ext cx="7351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452" name=""/>
            <p:cNvSpPr txBox="1"/>
            <p:nvPr/>
          </p:nvSpPr>
          <p:spPr>
            <a:xfrm>
              <a:off x="1211400" y="3686040"/>
              <a:ext cx="9414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453" name=""/>
            <p:cNvSpPr txBox="1"/>
            <p:nvPr/>
          </p:nvSpPr>
          <p:spPr>
            <a:xfrm>
              <a:off x="1184400" y="3859200"/>
              <a:ext cx="9414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454" name=""/>
            <p:cNvSpPr txBox="1"/>
            <p:nvPr/>
          </p:nvSpPr>
          <p:spPr>
            <a:xfrm>
              <a:off x="1090440" y="4351320"/>
              <a:ext cx="1050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sp>
          <p:nvSpPr>
            <p:cNvPr id="455" name=""/>
            <p:cNvSpPr txBox="1"/>
            <p:nvPr/>
          </p:nvSpPr>
          <p:spPr>
            <a:xfrm>
              <a:off x="2008080" y="47419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456" name=""/>
            <p:cNvSpPr txBox="1"/>
            <p:nvPr/>
          </p:nvSpPr>
          <p:spPr>
            <a:xfrm>
              <a:off x="2965320" y="474192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5</a:t>
              </a:r>
              <a:endParaRPr b="0" lang="en-US" sz="1400" spc="-1" strike="noStrike">
                <a:solidFill>
                  <a:srgbClr val="ffffff"/>
                </a:solidFill>
                <a:latin typeface="Arial"/>
              </a:endParaRPr>
            </a:p>
          </p:txBody>
        </p:sp>
        <p:sp>
          <p:nvSpPr>
            <p:cNvPr id="457" name=""/>
            <p:cNvSpPr txBox="1"/>
            <p:nvPr/>
          </p:nvSpPr>
          <p:spPr>
            <a:xfrm>
              <a:off x="3978360" y="47419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a:t>
              </a:r>
              <a:endParaRPr b="0" lang="en-US" sz="1400" spc="-1" strike="noStrike">
                <a:solidFill>
                  <a:srgbClr val="ffffff"/>
                </a:solidFill>
                <a:latin typeface="Arial"/>
              </a:endParaRPr>
            </a:p>
          </p:txBody>
        </p:sp>
        <p:sp>
          <p:nvSpPr>
            <p:cNvPr id="458" name=""/>
            <p:cNvSpPr txBox="1"/>
            <p:nvPr/>
          </p:nvSpPr>
          <p:spPr>
            <a:xfrm>
              <a:off x="4888080" y="474192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5</a:t>
              </a:r>
              <a:endParaRPr b="0" lang="en-US" sz="1400" spc="-1" strike="noStrike">
                <a:solidFill>
                  <a:srgbClr val="ffffff"/>
                </a:solidFill>
                <a:latin typeface="Arial"/>
              </a:endParaRPr>
            </a:p>
          </p:txBody>
        </p:sp>
        <p:sp>
          <p:nvSpPr>
            <p:cNvPr id="459" name=""/>
            <p:cNvSpPr txBox="1"/>
            <p:nvPr/>
          </p:nvSpPr>
          <p:spPr>
            <a:xfrm>
              <a:off x="5948280" y="47419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a:t>
              </a:r>
              <a:endParaRPr b="0" lang="en-US" sz="1400" spc="-1" strike="noStrike">
                <a:solidFill>
                  <a:srgbClr val="ffffff"/>
                </a:solidFill>
                <a:latin typeface="Arial"/>
              </a:endParaRPr>
            </a:p>
          </p:txBody>
        </p:sp>
        <p:sp>
          <p:nvSpPr>
            <p:cNvPr id="460" name=""/>
            <p:cNvSpPr txBox="1"/>
            <p:nvPr/>
          </p:nvSpPr>
          <p:spPr>
            <a:xfrm>
              <a:off x="6861240" y="474192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5</a:t>
              </a:r>
              <a:endParaRPr b="0" lang="en-US" sz="1400" spc="-1" strike="noStrike">
                <a:solidFill>
                  <a:srgbClr val="ffffff"/>
                </a:solidFill>
                <a:latin typeface="Arial"/>
              </a:endParaRPr>
            </a:p>
          </p:txBody>
        </p:sp>
        <p:sp>
          <p:nvSpPr>
            <p:cNvPr id="461" name=""/>
            <p:cNvSpPr txBox="1"/>
            <p:nvPr/>
          </p:nvSpPr>
          <p:spPr>
            <a:xfrm>
              <a:off x="7923240" y="47419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a:t>
              </a:r>
              <a:endParaRPr b="0" lang="en-US" sz="1400" spc="-1" strike="noStrike">
                <a:solidFill>
                  <a:srgbClr val="ffffff"/>
                </a:solidFill>
                <a:latin typeface="Arial"/>
              </a:endParaRPr>
            </a:p>
          </p:txBody>
        </p:sp>
        <p:sp>
          <p:nvSpPr>
            <p:cNvPr id="462" name=""/>
            <p:cNvSpPr/>
            <p:nvPr/>
          </p:nvSpPr>
          <p:spPr>
            <a:xfrm>
              <a:off x="2162160" y="5699160"/>
              <a:ext cx="311400" cy="162360"/>
            </a:xfrm>
            <a:custGeom>
              <a:avLst/>
              <a:gdLst/>
              <a:ahLst/>
              <a:rect l="0" t="0" r="r" b="b"/>
              <a:pathLst>
                <a:path w="865" h="451">
                  <a:moveTo>
                    <a:pt x="865" y="451"/>
                  </a:moveTo>
                  <a:lnTo>
                    <a:pt x="865" y="0"/>
                  </a:lnTo>
                  <a:lnTo>
                    <a:pt x="0" y="0"/>
                  </a:lnTo>
                  <a:lnTo>
                    <a:pt x="0" y="451"/>
                  </a:lnTo>
                  <a:lnTo>
                    <a:pt x="865" y="451"/>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2162160" y="5446800"/>
              <a:ext cx="311400" cy="157680"/>
            </a:xfrm>
            <a:custGeom>
              <a:avLst/>
              <a:gdLst/>
              <a:ahLst/>
              <a:rect l="0" t="0" r="r" b="b"/>
              <a:pathLst>
                <a:path w="865" h="438">
                  <a:moveTo>
                    <a:pt x="865" y="0"/>
                  </a:moveTo>
                  <a:lnTo>
                    <a:pt x="865" y="438"/>
                  </a:lnTo>
                  <a:lnTo>
                    <a:pt x="0" y="438"/>
                  </a:lnTo>
                  <a:lnTo>
                    <a:pt x="0" y="0"/>
                  </a:lnTo>
                  <a:lnTo>
                    <a:pt x="865"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2162160" y="5189400"/>
              <a:ext cx="311400" cy="160560"/>
            </a:xfrm>
            <a:custGeom>
              <a:avLst/>
              <a:gdLst/>
              <a:ahLst/>
              <a:rect l="0" t="0" r="r" b="b"/>
              <a:pathLst>
                <a:path w="865" h="446">
                  <a:moveTo>
                    <a:pt x="865" y="446"/>
                  </a:moveTo>
                  <a:lnTo>
                    <a:pt x="865" y="0"/>
                  </a:lnTo>
                  <a:lnTo>
                    <a:pt x="0" y="0"/>
                  </a:lnTo>
                  <a:lnTo>
                    <a:pt x="0" y="446"/>
                  </a:lnTo>
                  <a:lnTo>
                    <a:pt x="865" y="446"/>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5" name=""/>
            <p:cNvSpPr txBox="1"/>
            <p:nvPr/>
          </p:nvSpPr>
          <p:spPr>
            <a:xfrm>
              <a:off x="2570040" y="512928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466" name=""/>
            <p:cNvSpPr txBox="1"/>
            <p:nvPr/>
          </p:nvSpPr>
          <p:spPr>
            <a:xfrm>
              <a:off x="2570040" y="538164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467" name=""/>
            <p:cNvSpPr txBox="1"/>
            <p:nvPr/>
          </p:nvSpPr>
          <p:spPr>
            <a:xfrm>
              <a:off x="2570040" y="563580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8" name=""/>
          <p:cNvSpPr txBox="1"/>
          <p:nvPr/>
        </p:nvSpPr>
        <p:spPr>
          <a:xfrm>
            <a:off x="914400" y="66996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Profitability:</a:t>
            </a:r>
            <a:br>
              <a:rPr sz="4400"/>
            </a:br>
            <a:r>
              <a:rPr b="1" lang="en-US" sz="4400" spc="-1" strike="noStrike">
                <a:solidFill>
                  <a:srgbClr val="ffcc66"/>
                </a:solidFill>
                <a:latin typeface="Arial"/>
                <a:ea typeface="Arial"/>
              </a:rPr>
              <a:t>Profit Margin</a:t>
            </a:r>
            <a:endParaRPr b="0" lang="en-US" sz="4400" spc="-1" strike="noStrike">
              <a:solidFill>
                <a:srgbClr val="ffffff"/>
              </a:solidFill>
              <a:latin typeface="Arial"/>
            </a:endParaRPr>
          </a:p>
        </p:txBody>
      </p:sp>
      <p:sp>
        <p:nvSpPr>
          <p:cNvPr id="469" name=""/>
          <p:cNvSpPr txBox="1"/>
          <p:nvPr/>
        </p:nvSpPr>
        <p:spPr>
          <a:xfrm>
            <a:off x="1319040" y="2133720"/>
            <a:ext cx="6907320" cy="262584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he percentage of each sales dollar that results in net income.</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Net Income / S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70" name=""/>
          <p:cNvSpPr txBox="1"/>
          <p:nvPr/>
        </p:nvSpPr>
        <p:spPr>
          <a:xfrm>
            <a:off x="946080" y="181080"/>
            <a:ext cx="7626240" cy="106380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Average Profit Margin for</a:t>
            </a:r>
            <a:endParaRPr b="0" lang="en-US" sz="3200" spc="-1" strike="noStrike">
              <a:solidFill>
                <a:srgbClr val="ffffff"/>
              </a:solidFill>
              <a:latin typeface="Arial"/>
            </a:endParaRPr>
          </a:p>
          <a:p>
            <a:pPr algn="ctr">
              <a:lnSpc>
                <a:spcPct val="100000"/>
              </a:lnSpc>
            </a:pPr>
            <a:r>
              <a:rPr b="1" lang="en-US" sz="3200" spc="-1" strike="noStrike">
                <a:solidFill>
                  <a:srgbClr val="ffcc66"/>
                </a:solidFill>
                <a:latin typeface="Arial"/>
                <a:ea typeface="Arial"/>
              </a:rPr>
              <a:t>Selected Industries</a:t>
            </a:r>
            <a:endParaRPr b="0" lang="en-US" sz="3200" spc="-1" strike="noStrike">
              <a:solidFill>
                <a:srgbClr val="ffffff"/>
              </a:solidFill>
              <a:latin typeface="Arial"/>
            </a:endParaRPr>
          </a:p>
        </p:txBody>
      </p:sp>
      <p:grpSp>
        <p:nvGrpSpPr>
          <p:cNvPr id="471" name=""/>
          <p:cNvGrpSpPr/>
          <p:nvPr/>
        </p:nvGrpSpPr>
        <p:grpSpPr>
          <a:xfrm>
            <a:off x="457200" y="1212840"/>
            <a:ext cx="8383680" cy="5118120"/>
            <a:chOff x="457200" y="1212840"/>
            <a:chExt cx="8383680" cy="5118120"/>
          </a:xfrm>
        </p:grpSpPr>
        <p:sp>
          <p:nvSpPr>
            <p:cNvPr id="472" name=""/>
            <p:cNvSpPr/>
            <p:nvPr/>
          </p:nvSpPr>
          <p:spPr>
            <a:xfrm>
              <a:off x="743040" y="1212840"/>
              <a:ext cx="8097840" cy="5118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457200" y="1281240"/>
              <a:ext cx="193680" cy="220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74" name=""/>
            <p:cNvSpPr/>
            <p:nvPr/>
          </p:nvSpPr>
          <p:spPr>
            <a:xfrm>
              <a:off x="6864480" y="173844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5" name=""/>
            <p:cNvSpPr/>
            <p:nvPr/>
          </p:nvSpPr>
          <p:spPr>
            <a:xfrm>
              <a:off x="7834320" y="170352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6" name=""/>
            <p:cNvSpPr/>
            <p:nvPr/>
          </p:nvSpPr>
          <p:spPr>
            <a:xfrm>
              <a:off x="5908680" y="170352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7" name=""/>
            <p:cNvSpPr/>
            <p:nvPr/>
          </p:nvSpPr>
          <p:spPr>
            <a:xfrm>
              <a:off x="4941720" y="173844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8" name=""/>
            <p:cNvSpPr/>
            <p:nvPr/>
          </p:nvSpPr>
          <p:spPr>
            <a:xfrm>
              <a:off x="3981600" y="170352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9" name=""/>
            <p:cNvSpPr/>
            <p:nvPr/>
          </p:nvSpPr>
          <p:spPr>
            <a:xfrm>
              <a:off x="2978280" y="173844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0" name=""/>
            <p:cNvSpPr/>
            <p:nvPr/>
          </p:nvSpPr>
          <p:spPr>
            <a:xfrm flipH="1">
              <a:off x="3105000" y="1968480"/>
              <a:ext cx="495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1" name=""/>
            <p:cNvSpPr/>
            <p:nvPr/>
          </p:nvSpPr>
          <p:spPr>
            <a:xfrm flipH="1">
              <a:off x="3105000" y="4440240"/>
              <a:ext cx="495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flipH="1">
              <a:off x="3105000" y="3944880"/>
              <a:ext cx="495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flipH="1">
              <a:off x="2543040" y="3451320"/>
              <a:ext cx="551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4" name=""/>
            <p:cNvSpPr/>
            <p:nvPr/>
          </p:nvSpPr>
          <p:spPr>
            <a:xfrm flipH="1">
              <a:off x="3105000" y="2957400"/>
              <a:ext cx="495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5" name=""/>
            <p:cNvSpPr/>
            <p:nvPr/>
          </p:nvSpPr>
          <p:spPr>
            <a:xfrm flipH="1">
              <a:off x="2949480" y="2463840"/>
              <a:ext cx="511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6" name=""/>
            <p:cNvSpPr/>
            <p:nvPr/>
          </p:nvSpPr>
          <p:spPr>
            <a:xfrm>
              <a:off x="2046240" y="1790640"/>
              <a:ext cx="3227760" cy="322560"/>
            </a:xfrm>
            <a:custGeom>
              <a:avLst/>
              <a:gdLst/>
              <a:ahLst/>
              <a:rect l="0" t="0" r="r" b="b"/>
              <a:pathLst>
                <a:path w="8966" h="896">
                  <a:moveTo>
                    <a:pt x="0" y="0"/>
                  </a:moveTo>
                  <a:lnTo>
                    <a:pt x="8966" y="0"/>
                  </a:lnTo>
                  <a:lnTo>
                    <a:pt x="8966" y="896"/>
                  </a:lnTo>
                  <a:lnTo>
                    <a:pt x="0" y="896"/>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2046240" y="2287440"/>
              <a:ext cx="2900880" cy="336960"/>
            </a:xfrm>
            <a:custGeom>
              <a:avLst/>
              <a:gdLst/>
              <a:ahLst/>
              <a:rect l="0" t="0" r="r" b="b"/>
              <a:pathLst>
                <a:path w="8058" h="936">
                  <a:moveTo>
                    <a:pt x="0" y="936"/>
                  </a:moveTo>
                  <a:lnTo>
                    <a:pt x="8058" y="936"/>
                  </a:lnTo>
                  <a:lnTo>
                    <a:pt x="8058" y="0"/>
                  </a:lnTo>
                  <a:lnTo>
                    <a:pt x="0" y="0"/>
                  </a:lnTo>
                  <a:lnTo>
                    <a:pt x="0" y="936"/>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2046240" y="2781360"/>
              <a:ext cx="2669040" cy="335160"/>
            </a:xfrm>
            <a:custGeom>
              <a:avLst/>
              <a:gdLst/>
              <a:ahLst/>
              <a:rect l="0" t="0" r="r" b="b"/>
              <a:pathLst>
                <a:path w="7414" h="931">
                  <a:moveTo>
                    <a:pt x="0" y="0"/>
                  </a:moveTo>
                  <a:lnTo>
                    <a:pt x="7414" y="0"/>
                  </a:lnTo>
                  <a:lnTo>
                    <a:pt x="7414" y="931"/>
                  </a:lnTo>
                  <a:lnTo>
                    <a:pt x="0" y="931"/>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9" name=""/>
            <p:cNvSpPr/>
            <p:nvPr/>
          </p:nvSpPr>
          <p:spPr>
            <a:xfrm>
              <a:off x="2046240" y="3276720"/>
              <a:ext cx="1716480" cy="335160"/>
            </a:xfrm>
            <a:custGeom>
              <a:avLst/>
              <a:gdLst/>
              <a:ahLst/>
              <a:rect l="0" t="0" r="r" b="b"/>
              <a:pathLst>
                <a:path w="4768" h="931">
                  <a:moveTo>
                    <a:pt x="4768" y="0"/>
                  </a:moveTo>
                  <a:lnTo>
                    <a:pt x="0" y="0"/>
                  </a:lnTo>
                  <a:lnTo>
                    <a:pt x="0" y="931"/>
                  </a:lnTo>
                  <a:lnTo>
                    <a:pt x="4768" y="931"/>
                  </a:lnTo>
                  <a:lnTo>
                    <a:pt x="4768"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2046240" y="3768840"/>
              <a:ext cx="3721320" cy="338400"/>
            </a:xfrm>
            <a:custGeom>
              <a:avLst/>
              <a:gdLst/>
              <a:ahLst/>
              <a:rect l="0" t="0" r="r" b="b"/>
              <a:pathLst>
                <a:path w="10337" h="940">
                  <a:moveTo>
                    <a:pt x="0" y="0"/>
                  </a:moveTo>
                  <a:lnTo>
                    <a:pt x="10337" y="0"/>
                  </a:lnTo>
                  <a:lnTo>
                    <a:pt x="10337" y="940"/>
                  </a:lnTo>
                  <a:lnTo>
                    <a:pt x="0" y="940"/>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2046240" y="4260960"/>
              <a:ext cx="5321520" cy="340200"/>
            </a:xfrm>
            <a:custGeom>
              <a:avLst/>
              <a:gdLst/>
              <a:ahLst/>
              <a:rect l="0" t="0" r="r" b="b"/>
              <a:pathLst>
                <a:path w="14782" h="945">
                  <a:moveTo>
                    <a:pt x="0" y="945"/>
                  </a:moveTo>
                  <a:lnTo>
                    <a:pt x="14782" y="945"/>
                  </a:lnTo>
                  <a:lnTo>
                    <a:pt x="14782" y="0"/>
                  </a:lnTo>
                  <a:lnTo>
                    <a:pt x="0" y="0"/>
                  </a:lnTo>
                  <a:lnTo>
                    <a:pt x="0" y="945"/>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txBox="1"/>
            <p:nvPr/>
          </p:nvSpPr>
          <p:spPr>
            <a:xfrm>
              <a:off x="8234280" y="177948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2%</a:t>
              </a:r>
              <a:endParaRPr b="0" lang="en-US" sz="1400" spc="-1" strike="noStrike">
                <a:solidFill>
                  <a:srgbClr val="ffffff"/>
                </a:solidFill>
                <a:latin typeface="Arial"/>
              </a:endParaRPr>
            </a:p>
          </p:txBody>
        </p:sp>
        <p:sp>
          <p:nvSpPr>
            <p:cNvPr id="493" name=""/>
            <p:cNvSpPr txBox="1"/>
            <p:nvPr/>
          </p:nvSpPr>
          <p:spPr>
            <a:xfrm>
              <a:off x="8234280" y="227340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0%</a:t>
              </a:r>
              <a:endParaRPr b="0" lang="en-US" sz="1400" spc="-1" strike="noStrike">
                <a:solidFill>
                  <a:srgbClr val="ffffff"/>
                </a:solidFill>
                <a:latin typeface="Arial"/>
              </a:endParaRPr>
            </a:p>
          </p:txBody>
        </p:sp>
        <p:sp>
          <p:nvSpPr>
            <p:cNvPr id="494" name=""/>
            <p:cNvSpPr txBox="1"/>
            <p:nvPr/>
          </p:nvSpPr>
          <p:spPr>
            <a:xfrm>
              <a:off x="8234280" y="277020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8%</a:t>
              </a:r>
              <a:endParaRPr b="0" lang="en-US" sz="1400" spc="-1" strike="noStrike">
                <a:solidFill>
                  <a:srgbClr val="ffffff"/>
                </a:solidFill>
                <a:latin typeface="Arial"/>
              </a:endParaRPr>
            </a:p>
          </p:txBody>
        </p:sp>
        <p:sp>
          <p:nvSpPr>
            <p:cNvPr id="495" name=""/>
            <p:cNvSpPr txBox="1"/>
            <p:nvPr/>
          </p:nvSpPr>
          <p:spPr>
            <a:xfrm>
              <a:off x="8234280" y="326088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8%</a:t>
              </a:r>
              <a:endParaRPr b="0" lang="en-US" sz="1400" spc="-1" strike="noStrike">
                <a:solidFill>
                  <a:srgbClr val="ffffff"/>
                </a:solidFill>
                <a:latin typeface="Arial"/>
              </a:endParaRPr>
            </a:p>
          </p:txBody>
        </p:sp>
        <p:sp>
          <p:nvSpPr>
            <p:cNvPr id="496" name=""/>
            <p:cNvSpPr txBox="1"/>
            <p:nvPr/>
          </p:nvSpPr>
          <p:spPr>
            <a:xfrm>
              <a:off x="8234280" y="375588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9%</a:t>
              </a:r>
              <a:endParaRPr b="0" lang="en-US" sz="1400" spc="-1" strike="noStrike">
                <a:solidFill>
                  <a:srgbClr val="ffffff"/>
                </a:solidFill>
                <a:latin typeface="Arial"/>
              </a:endParaRPr>
            </a:p>
          </p:txBody>
        </p:sp>
        <p:sp>
          <p:nvSpPr>
            <p:cNvPr id="497" name=""/>
            <p:cNvSpPr txBox="1"/>
            <p:nvPr/>
          </p:nvSpPr>
          <p:spPr>
            <a:xfrm>
              <a:off x="8236080" y="425124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7%</a:t>
              </a:r>
              <a:endParaRPr b="0" lang="en-US" sz="1400" spc="-1" strike="noStrike">
                <a:solidFill>
                  <a:srgbClr val="ffffff"/>
                </a:solidFill>
                <a:latin typeface="Arial"/>
              </a:endParaRPr>
            </a:p>
          </p:txBody>
        </p:sp>
        <p:sp>
          <p:nvSpPr>
            <p:cNvPr id="498" name=""/>
            <p:cNvSpPr/>
            <p:nvPr/>
          </p:nvSpPr>
          <p:spPr>
            <a:xfrm>
              <a:off x="933480" y="4159080"/>
              <a:ext cx="990720" cy="2588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99" name=""/>
            <p:cNvSpPr txBox="1"/>
            <p:nvPr/>
          </p:nvSpPr>
          <p:spPr>
            <a:xfrm>
              <a:off x="189216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500" name=""/>
            <p:cNvSpPr/>
            <p:nvPr/>
          </p:nvSpPr>
          <p:spPr>
            <a:xfrm>
              <a:off x="2046240" y="5719680"/>
              <a:ext cx="322560" cy="163800"/>
            </a:xfrm>
            <a:custGeom>
              <a:avLst/>
              <a:gdLst/>
              <a:ahLst/>
              <a:rect l="0" t="0" r="r" b="b"/>
              <a:pathLst>
                <a:path w="896" h="455">
                  <a:moveTo>
                    <a:pt x="896" y="455"/>
                  </a:moveTo>
                  <a:lnTo>
                    <a:pt x="896" y="0"/>
                  </a:lnTo>
                  <a:lnTo>
                    <a:pt x="0" y="0"/>
                  </a:lnTo>
                  <a:lnTo>
                    <a:pt x="0" y="455"/>
                  </a:lnTo>
                  <a:lnTo>
                    <a:pt x="896" y="455"/>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1" name=""/>
            <p:cNvSpPr/>
            <p:nvPr/>
          </p:nvSpPr>
          <p:spPr>
            <a:xfrm>
              <a:off x="2046240" y="5465880"/>
              <a:ext cx="322560" cy="162360"/>
            </a:xfrm>
            <a:custGeom>
              <a:avLst/>
              <a:gdLst/>
              <a:ahLst/>
              <a:rect l="0" t="0" r="r" b="b"/>
              <a:pathLst>
                <a:path w="896" h="451">
                  <a:moveTo>
                    <a:pt x="896" y="0"/>
                  </a:moveTo>
                  <a:lnTo>
                    <a:pt x="896" y="451"/>
                  </a:lnTo>
                  <a:lnTo>
                    <a:pt x="0" y="451"/>
                  </a:lnTo>
                  <a:lnTo>
                    <a:pt x="0" y="0"/>
                  </a:lnTo>
                  <a:lnTo>
                    <a:pt x="896"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2" name=""/>
            <p:cNvSpPr/>
            <p:nvPr/>
          </p:nvSpPr>
          <p:spPr>
            <a:xfrm>
              <a:off x="2046240" y="5205240"/>
              <a:ext cx="322560" cy="163800"/>
            </a:xfrm>
            <a:custGeom>
              <a:avLst/>
              <a:gdLst/>
              <a:ahLst/>
              <a:rect l="0" t="0" r="r" b="b"/>
              <a:pathLst>
                <a:path w="896" h="455">
                  <a:moveTo>
                    <a:pt x="896" y="455"/>
                  </a:moveTo>
                  <a:lnTo>
                    <a:pt x="896" y="0"/>
                  </a:lnTo>
                  <a:lnTo>
                    <a:pt x="0" y="0"/>
                  </a:lnTo>
                  <a:lnTo>
                    <a:pt x="0" y="455"/>
                  </a:lnTo>
                  <a:lnTo>
                    <a:pt x="896" y="455"/>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3" name=""/>
            <p:cNvSpPr txBox="1"/>
            <p:nvPr/>
          </p:nvSpPr>
          <p:spPr>
            <a:xfrm>
              <a:off x="2473200" y="515628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504" name=""/>
            <p:cNvSpPr txBox="1"/>
            <p:nvPr/>
          </p:nvSpPr>
          <p:spPr>
            <a:xfrm>
              <a:off x="2473200" y="541512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505" name=""/>
            <p:cNvSpPr txBox="1"/>
            <p:nvPr/>
          </p:nvSpPr>
          <p:spPr>
            <a:xfrm>
              <a:off x="2473200" y="567216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sp>
          <p:nvSpPr>
            <p:cNvPr id="506" name=""/>
            <p:cNvSpPr txBox="1"/>
            <p:nvPr/>
          </p:nvSpPr>
          <p:spPr>
            <a:xfrm>
              <a:off x="284004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a:t>
              </a:r>
              <a:endParaRPr b="0" lang="en-US" sz="1400" spc="-1" strike="noStrike">
                <a:solidFill>
                  <a:srgbClr val="ffffff"/>
                </a:solidFill>
                <a:latin typeface="Arial"/>
              </a:endParaRPr>
            </a:p>
          </p:txBody>
        </p:sp>
        <p:sp>
          <p:nvSpPr>
            <p:cNvPr id="507" name=""/>
            <p:cNvSpPr txBox="1"/>
            <p:nvPr/>
          </p:nvSpPr>
          <p:spPr>
            <a:xfrm>
              <a:off x="383868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a:t>
              </a:r>
              <a:endParaRPr b="0" lang="en-US" sz="1400" spc="-1" strike="noStrike">
                <a:solidFill>
                  <a:srgbClr val="ffffff"/>
                </a:solidFill>
                <a:latin typeface="Arial"/>
              </a:endParaRPr>
            </a:p>
          </p:txBody>
        </p:sp>
        <p:sp>
          <p:nvSpPr>
            <p:cNvPr id="508" name=""/>
            <p:cNvSpPr txBox="1"/>
            <p:nvPr/>
          </p:nvSpPr>
          <p:spPr>
            <a:xfrm>
              <a:off x="479736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a:t>
              </a:r>
              <a:endParaRPr b="0" lang="en-US" sz="1400" spc="-1" strike="noStrike">
                <a:solidFill>
                  <a:srgbClr val="ffffff"/>
                </a:solidFill>
                <a:latin typeface="Arial"/>
              </a:endParaRPr>
            </a:p>
          </p:txBody>
        </p:sp>
        <p:sp>
          <p:nvSpPr>
            <p:cNvPr id="509" name=""/>
            <p:cNvSpPr txBox="1"/>
            <p:nvPr/>
          </p:nvSpPr>
          <p:spPr>
            <a:xfrm>
              <a:off x="578160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a:t>
              </a:r>
              <a:endParaRPr b="0" lang="en-US" sz="1400" spc="-1" strike="noStrike">
                <a:solidFill>
                  <a:srgbClr val="ffffff"/>
                </a:solidFill>
                <a:latin typeface="Arial"/>
              </a:endParaRPr>
            </a:p>
          </p:txBody>
        </p:sp>
        <p:sp>
          <p:nvSpPr>
            <p:cNvPr id="510" name=""/>
            <p:cNvSpPr txBox="1"/>
            <p:nvPr/>
          </p:nvSpPr>
          <p:spPr>
            <a:xfrm>
              <a:off x="673092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a:t>
              </a:r>
              <a:endParaRPr b="0" lang="en-US" sz="1400" spc="-1" strike="noStrike">
                <a:solidFill>
                  <a:srgbClr val="ffffff"/>
                </a:solidFill>
                <a:latin typeface="Arial"/>
              </a:endParaRPr>
            </a:p>
          </p:txBody>
        </p:sp>
        <p:sp>
          <p:nvSpPr>
            <p:cNvPr id="511" name=""/>
            <p:cNvSpPr txBox="1"/>
            <p:nvPr/>
          </p:nvSpPr>
          <p:spPr>
            <a:xfrm>
              <a:off x="768204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a:t>
              </a:r>
              <a:endParaRPr b="0" lang="en-US" sz="1400" spc="-1" strike="noStrike">
                <a:solidFill>
                  <a:srgbClr val="ffffff"/>
                </a:solidFill>
                <a:latin typeface="Arial"/>
              </a:endParaRPr>
            </a:p>
          </p:txBody>
        </p:sp>
        <p:sp>
          <p:nvSpPr>
            <p:cNvPr id="512" name=""/>
            <p:cNvSpPr/>
            <p:nvPr/>
          </p:nvSpPr>
          <p:spPr>
            <a:xfrm>
              <a:off x="2041560" y="169704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513" name=""/>
          <p:cNvGrpSpPr/>
          <p:nvPr/>
        </p:nvGrpSpPr>
        <p:grpSpPr>
          <a:xfrm>
            <a:off x="682560" y="1752480"/>
            <a:ext cx="1420920" cy="2865600"/>
            <a:chOff x="682560" y="1752480"/>
            <a:chExt cx="1420920" cy="2865600"/>
          </a:xfrm>
        </p:grpSpPr>
        <p:sp>
          <p:nvSpPr>
            <p:cNvPr id="514" name=""/>
            <p:cNvSpPr txBox="1"/>
            <p:nvPr/>
          </p:nvSpPr>
          <p:spPr>
            <a:xfrm>
              <a:off x="825480" y="1752480"/>
              <a:ext cx="12081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515" name=""/>
            <p:cNvSpPr txBox="1"/>
            <p:nvPr/>
          </p:nvSpPr>
          <p:spPr>
            <a:xfrm>
              <a:off x="1028880" y="1924200"/>
              <a:ext cx="9716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516" name=""/>
            <p:cNvSpPr txBox="1"/>
            <p:nvPr/>
          </p:nvSpPr>
          <p:spPr>
            <a:xfrm>
              <a:off x="1011240" y="2238480"/>
              <a:ext cx="9810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Interstate</a:t>
              </a:r>
              <a:endParaRPr b="0" lang="en-US" sz="1400" spc="-1" strike="noStrike">
                <a:solidFill>
                  <a:srgbClr val="ffffff"/>
                </a:solidFill>
                <a:latin typeface="Arial"/>
              </a:endParaRPr>
            </a:p>
          </p:txBody>
        </p:sp>
        <p:sp>
          <p:nvSpPr>
            <p:cNvPr id="517" name=""/>
            <p:cNvSpPr txBox="1"/>
            <p:nvPr/>
          </p:nvSpPr>
          <p:spPr>
            <a:xfrm>
              <a:off x="1068480" y="2416320"/>
              <a:ext cx="9320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518" name=""/>
            <p:cNvSpPr txBox="1"/>
            <p:nvPr/>
          </p:nvSpPr>
          <p:spPr>
            <a:xfrm>
              <a:off x="1054080" y="2685960"/>
              <a:ext cx="1049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519" name=""/>
            <p:cNvSpPr txBox="1"/>
            <p:nvPr/>
          </p:nvSpPr>
          <p:spPr>
            <a:xfrm>
              <a:off x="682560" y="2844720"/>
              <a:ext cx="13176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520" name=""/>
            <p:cNvSpPr txBox="1"/>
            <p:nvPr/>
          </p:nvSpPr>
          <p:spPr>
            <a:xfrm>
              <a:off x="1139760" y="3236760"/>
              <a:ext cx="9129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521" name=""/>
            <p:cNvSpPr txBox="1"/>
            <p:nvPr/>
          </p:nvSpPr>
          <p:spPr>
            <a:xfrm>
              <a:off x="1265400" y="3417840"/>
              <a:ext cx="7351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522" name=""/>
            <p:cNvSpPr txBox="1"/>
            <p:nvPr/>
          </p:nvSpPr>
          <p:spPr>
            <a:xfrm>
              <a:off x="1093680" y="373680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523" name=""/>
            <p:cNvSpPr txBox="1"/>
            <p:nvPr/>
          </p:nvSpPr>
          <p:spPr>
            <a:xfrm>
              <a:off x="1058760" y="389880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524" name=""/>
            <p:cNvSpPr txBox="1"/>
            <p:nvPr/>
          </p:nvSpPr>
          <p:spPr>
            <a:xfrm>
              <a:off x="958680" y="4316400"/>
              <a:ext cx="10508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25" name=""/>
          <p:cNvSpPr txBox="1"/>
          <p:nvPr/>
        </p:nvSpPr>
        <p:spPr>
          <a:xfrm>
            <a:off x="833400" y="557280"/>
            <a:ext cx="78487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Profitability:</a:t>
            </a:r>
            <a:br>
              <a:rPr sz="4400"/>
            </a:br>
            <a:r>
              <a:rPr b="1" lang="en-US" sz="4400" spc="-1" strike="noStrike">
                <a:solidFill>
                  <a:srgbClr val="ffcc66"/>
                </a:solidFill>
                <a:latin typeface="Arial"/>
                <a:ea typeface="Arial"/>
              </a:rPr>
              <a:t>Asset Turnover</a:t>
            </a:r>
            <a:endParaRPr b="0" lang="en-US" sz="4400" spc="-1" strike="noStrike">
              <a:solidFill>
                <a:srgbClr val="ffffff"/>
              </a:solidFill>
              <a:latin typeface="Arial"/>
            </a:endParaRPr>
          </a:p>
        </p:txBody>
      </p:sp>
      <p:sp>
        <p:nvSpPr>
          <p:cNvPr id="526" name=""/>
          <p:cNvSpPr txBox="1"/>
          <p:nvPr/>
        </p:nvSpPr>
        <p:spPr>
          <a:xfrm>
            <a:off x="820800" y="1981080"/>
            <a:ext cx="8305920" cy="4214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easure of how efficiently assets are used to produce sal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Sales / Average Total Asset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Average total assets = (Beginning total assets + Ending total assets) / 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27" name=""/>
          <p:cNvSpPr txBox="1"/>
          <p:nvPr/>
        </p:nvSpPr>
        <p:spPr>
          <a:xfrm>
            <a:off x="382680" y="228600"/>
            <a:ext cx="8761320" cy="57636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Asset Turnover for Selected Industries</a:t>
            </a:r>
            <a:endParaRPr b="0" lang="en-US" sz="3200" spc="-1" strike="noStrike">
              <a:solidFill>
                <a:srgbClr val="ffffff"/>
              </a:solidFill>
              <a:latin typeface="Arial"/>
            </a:endParaRPr>
          </a:p>
        </p:txBody>
      </p:sp>
      <p:grpSp>
        <p:nvGrpSpPr>
          <p:cNvPr id="528" name=""/>
          <p:cNvGrpSpPr/>
          <p:nvPr/>
        </p:nvGrpSpPr>
        <p:grpSpPr>
          <a:xfrm>
            <a:off x="685800" y="831960"/>
            <a:ext cx="8235720" cy="5499000"/>
            <a:chOff x="685800" y="831960"/>
            <a:chExt cx="8235720" cy="5499000"/>
          </a:xfrm>
        </p:grpSpPr>
        <p:sp>
          <p:nvSpPr>
            <p:cNvPr id="529" name=""/>
            <p:cNvSpPr/>
            <p:nvPr/>
          </p:nvSpPr>
          <p:spPr>
            <a:xfrm>
              <a:off x="779400" y="831960"/>
              <a:ext cx="8142120" cy="549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685800" y="888840"/>
              <a:ext cx="192240" cy="236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31" name=""/>
            <p:cNvSpPr/>
            <p:nvPr/>
          </p:nvSpPr>
          <p:spPr>
            <a:xfrm flipV="1">
              <a:off x="3205080" y="1303200"/>
              <a:ext cx="0" cy="333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flipV="1">
              <a:off x="4194000" y="1303200"/>
              <a:ext cx="0" cy="333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3" name=""/>
            <p:cNvSpPr/>
            <p:nvPr/>
          </p:nvSpPr>
          <p:spPr>
            <a:xfrm flipV="1">
              <a:off x="5183280" y="1303200"/>
              <a:ext cx="0" cy="333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4" name=""/>
            <p:cNvSpPr/>
            <p:nvPr/>
          </p:nvSpPr>
          <p:spPr>
            <a:xfrm flipV="1">
              <a:off x="6170760" y="1303200"/>
              <a:ext cx="0" cy="333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5" name=""/>
            <p:cNvSpPr/>
            <p:nvPr/>
          </p:nvSpPr>
          <p:spPr>
            <a:xfrm flipV="1">
              <a:off x="7159680" y="1303200"/>
              <a:ext cx="0" cy="333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6" name=""/>
            <p:cNvSpPr/>
            <p:nvPr/>
          </p:nvSpPr>
          <p:spPr>
            <a:xfrm>
              <a:off x="8147160" y="1346040"/>
              <a:ext cx="0" cy="326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7" name=""/>
            <p:cNvSpPr/>
            <p:nvPr/>
          </p:nvSpPr>
          <p:spPr>
            <a:xfrm flipH="1">
              <a:off x="3255840" y="1633680"/>
              <a:ext cx="5112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flipH="1">
              <a:off x="3255840" y="4295880"/>
              <a:ext cx="5112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a:off x="2727360" y="3763800"/>
              <a:ext cx="5611680" cy="0"/>
            </a:xfrm>
            <a:custGeom>
              <a:avLst/>
              <a:gdLst/>
              <a:ahLst/>
              <a:rect l="0" t="0" r="r" b="b"/>
              <a:pathLst>
                <a:path fill="none" w="15588" h="0">
                  <a:moveTo>
                    <a:pt x="15588" y="0"/>
                  </a:moveTo>
                  <a:lnTo>
                    <a:pt x="0" y="0"/>
                  </a:lnTo>
                  <a:lnTo>
                    <a:pt x="1225"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flipH="1">
              <a:off x="3255840" y="3228840"/>
              <a:ext cx="5112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flipH="1">
              <a:off x="3255840" y="2700360"/>
              <a:ext cx="5112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2" name=""/>
            <p:cNvSpPr/>
            <p:nvPr/>
          </p:nvSpPr>
          <p:spPr>
            <a:xfrm flipH="1">
              <a:off x="3255840" y="2166840"/>
              <a:ext cx="5112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a:off x="2225520" y="1442880"/>
              <a:ext cx="3947040" cy="365400"/>
            </a:xfrm>
            <a:custGeom>
              <a:avLst/>
              <a:gdLst/>
              <a:ahLst/>
              <a:rect l="0" t="0" r="r" b="b"/>
              <a:pathLst>
                <a:path w="10964" h="1015">
                  <a:moveTo>
                    <a:pt x="0" y="0"/>
                  </a:moveTo>
                  <a:lnTo>
                    <a:pt x="10964" y="0"/>
                  </a:lnTo>
                  <a:lnTo>
                    <a:pt x="10964" y="1015"/>
                  </a:lnTo>
                  <a:lnTo>
                    <a:pt x="0" y="1015"/>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4" name=""/>
            <p:cNvSpPr/>
            <p:nvPr/>
          </p:nvSpPr>
          <p:spPr>
            <a:xfrm>
              <a:off x="2225520" y="1974960"/>
              <a:ext cx="2976840" cy="349560"/>
            </a:xfrm>
            <a:custGeom>
              <a:avLst/>
              <a:gdLst/>
              <a:ahLst/>
              <a:rect l="0" t="0" r="r" b="b"/>
              <a:pathLst>
                <a:path w="8269" h="971">
                  <a:moveTo>
                    <a:pt x="0" y="971"/>
                  </a:moveTo>
                  <a:lnTo>
                    <a:pt x="8269" y="971"/>
                  </a:lnTo>
                  <a:lnTo>
                    <a:pt x="8269" y="0"/>
                  </a:lnTo>
                  <a:lnTo>
                    <a:pt x="0" y="0"/>
                  </a:lnTo>
                  <a:lnTo>
                    <a:pt x="0" y="971"/>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5" name=""/>
            <p:cNvSpPr/>
            <p:nvPr/>
          </p:nvSpPr>
          <p:spPr>
            <a:xfrm>
              <a:off x="2225520" y="2508120"/>
              <a:ext cx="2791080" cy="344880"/>
            </a:xfrm>
            <a:custGeom>
              <a:avLst/>
              <a:gdLst/>
              <a:ahLst/>
              <a:rect l="0" t="0" r="r" b="b"/>
              <a:pathLst>
                <a:path w="7753" h="958">
                  <a:moveTo>
                    <a:pt x="0" y="0"/>
                  </a:moveTo>
                  <a:lnTo>
                    <a:pt x="7753" y="0"/>
                  </a:lnTo>
                  <a:lnTo>
                    <a:pt x="7753" y="958"/>
                  </a:lnTo>
                  <a:lnTo>
                    <a:pt x="0" y="958"/>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6" name=""/>
            <p:cNvSpPr/>
            <p:nvPr/>
          </p:nvSpPr>
          <p:spPr>
            <a:xfrm>
              <a:off x="2225520" y="3041640"/>
              <a:ext cx="5388480" cy="344880"/>
            </a:xfrm>
            <a:custGeom>
              <a:avLst/>
              <a:gdLst/>
              <a:ahLst/>
              <a:rect l="0" t="0" r="r" b="b"/>
              <a:pathLst>
                <a:path w="14968" h="958">
                  <a:moveTo>
                    <a:pt x="0" y="958"/>
                  </a:moveTo>
                  <a:lnTo>
                    <a:pt x="14968" y="958"/>
                  </a:lnTo>
                  <a:lnTo>
                    <a:pt x="14968" y="0"/>
                  </a:lnTo>
                  <a:lnTo>
                    <a:pt x="0" y="0"/>
                  </a:lnTo>
                  <a:lnTo>
                    <a:pt x="0" y="958"/>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7" name=""/>
            <p:cNvSpPr/>
            <p:nvPr/>
          </p:nvSpPr>
          <p:spPr>
            <a:xfrm>
              <a:off x="2225520" y="3575160"/>
              <a:ext cx="989280" cy="379800"/>
            </a:xfrm>
            <a:custGeom>
              <a:avLst/>
              <a:gdLst/>
              <a:ahLst/>
              <a:rect l="0" t="0" r="r" b="b"/>
              <a:pathLst>
                <a:path w="2748" h="1055">
                  <a:moveTo>
                    <a:pt x="0" y="0"/>
                  </a:moveTo>
                  <a:lnTo>
                    <a:pt x="2748" y="0"/>
                  </a:lnTo>
                  <a:lnTo>
                    <a:pt x="2748" y="1055"/>
                  </a:lnTo>
                  <a:lnTo>
                    <a:pt x="0" y="1055"/>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8" name=""/>
            <p:cNvSpPr/>
            <p:nvPr/>
          </p:nvSpPr>
          <p:spPr>
            <a:xfrm>
              <a:off x="2225520" y="4105440"/>
              <a:ext cx="2322720" cy="365400"/>
            </a:xfrm>
            <a:custGeom>
              <a:avLst/>
              <a:gdLst/>
              <a:ahLst/>
              <a:rect l="0" t="0" r="r" b="b"/>
              <a:pathLst>
                <a:path w="6452" h="1015">
                  <a:moveTo>
                    <a:pt x="0" y="1015"/>
                  </a:moveTo>
                  <a:lnTo>
                    <a:pt x="6452" y="1015"/>
                  </a:lnTo>
                  <a:lnTo>
                    <a:pt x="6452" y="0"/>
                  </a:lnTo>
                  <a:lnTo>
                    <a:pt x="0" y="0"/>
                  </a:lnTo>
                  <a:lnTo>
                    <a:pt x="0" y="1015"/>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9" name=""/>
            <p:cNvSpPr txBox="1"/>
            <p:nvPr/>
          </p:nvSpPr>
          <p:spPr>
            <a:xfrm>
              <a:off x="8423280" y="143028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0</a:t>
              </a:r>
              <a:endParaRPr b="0" lang="en-US" sz="1400" spc="-1" strike="noStrike">
                <a:solidFill>
                  <a:srgbClr val="ffffff"/>
                </a:solidFill>
                <a:latin typeface="Arial"/>
              </a:endParaRPr>
            </a:p>
          </p:txBody>
        </p:sp>
        <p:sp>
          <p:nvSpPr>
            <p:cNvPr id="550" name=""/>
            <p:cNvSpPr txBox="1"/>
            <p:nvPr/>
          </p:nvSpPr>
          <p:spPr>
            <a:xfrm>
              <a:off x="8423280" y="196380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0</a:t>
              </a:r>
              <a:endParaRPr b="0" lang="en-US" sz="1400" spc="-1" strike="noStrike">
                <a:solidFill>
                  <a:srgbClr val="ffffff"/>
                </a:solidFill>
                <a:latin typeface="Arial"/>
              </a:endParaRPr>
            </a:p>
          </p:txBody>
        </p:sp>
        <p:sp>
          <p:nvSpPr>
            <p:cNvPr id="551" name=""/>
            <p:cNvSpPr txBox="1"/>
            <p:nvPr/>
          </p:nvSpPr>
          <p:spPr>
            <a:xfrm>
              <a:off x="8423280" y="249552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8</a:t>
              </a:r>
              <a:endParaRPr b="0" lang="en-US" sz="1400" spc="-1" strike="noStrike">
                <a:solidFill>
                  <a:srgbClr val="ffffff"/>
                </a:solidFill>
                <a:latin typeface="Arial"/>
              </a:endParaRPr>
            </a:p>
          </p:txBody>
        </p:sp>
        <p:sp>
          <p:nvSpPr>
            <p:cNvPr id="552" name=""/>
            <p:cNvSpPr txBox="1"/>
            <p:nvPr/>
          </p:nvSpPr>
          <p:spPr>
            <a:xfrm>
              <a:off x="8423280" y="302724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4</a:t>
              </a:r>
              <a:endParaRPr b="0" lang="en-US" sz="1400" spc="-1" strike="noStrike">
                <a:solidFill>
                  <a:srgbClr val="ffffff"/>
                </a:solidFill>
                <a:latin typeface="Arial"/>
              </a:endParaRPr>
            </a:p>
          </p:txBody>
        </p:sp>
        <p:sp>
          <p:nvSpPr>
            <p:cNvPr id="553" name=""/>
            <p:cNvSpPr txBox="1"/>
            <p:nvPr/>
          </p:nvSpPr>
          <p:spPr>
            <a:xfrm>
              <a:off x="8404200" y="356076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a:t>
              </a:r>
              <a:endParaRPr b="0" lang="en-US" sz="1400" spc="-1" strike="noStrike">
                <a:solidFill>
                  <a:srgbClr val="ffffff"/>
                </a:solidFill>
                <a:latin typeface="Arial"/>
              </a:endParaRPr>
            </a:p>
          </p:txBody>
        </p:sp>
        <p:sp>
          <p:nvSpPr>
            <p:cNvPr id="554" name=""/>
            <p:cNvSpPr txBox="1"/>
            <p:nvPr/>
          </p:nvSpPr>
          <p:spPr>
            <a:xfrm>
              <a:off x="8423280" y="409248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3</a:t>
              </a:r>
              <a:endParaRPr b="0" lang="en-US" sz="1400" spc="-1" strike="noStrike">
                <a:solidFill>
                  <a:srgbClr val="ffffff"/>
                </a:solidFill>
                <a:latin typeface="Arial"/>
              </a:endParaRPr>
            </a:p>
          </p:txBody>
        </p:sp>
        <p:sp>
          <p:nvSpPr>
            <p:cNvPr id="555" name=""/>
            <p:cNvSpPr txBox="1"/>
            <p:nvPr/>
          </p:nvSpPr>
          <p:spPr>
            <a:xfrm>
              <a:off x="1092240" y="4008600"/>
              <a:ext cx="23004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556" name=""/>
            <p:cNvSpPr txBox="1"/>
            <p:nvPr/>
          </p:nvSpPr>
          <p:spPr>
            <a:xfrm>
              <a:off x="207324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557" name=""/>
            <p:cNvSpPr/>
            <p:nvPr/>
          </p:nvSpPr>
          <p:spPr>
            <a:xfrm>
              <a:off x="2225520" y="5676840"/>
              <a:ext cx="308160" cy="173520"/>
            </a:xfrm>
            <a:custGeom>
              <a:avLst/>
              <a:gdLst/>
              <a:ahLst/>
              <a:rect l="0" t="0" r="r" b="b"/>
              <a:pathLst>
                <a:path w="856" h="482">
                  <a:moveTo>
                    <a:pt x="856" y="482"/>
                  </a:moveTo>
                  <a:lnTo>
                    <a:pt x="856" y="0"/>
                  </a:lnTo>
                  <a:lnTo>
                    <a:pt x="0" y="0"/>
                  </a:lnTo>
                  <a:lnTo>
                    <a:pt x="0" y="482"/>
                  </a:lnTo>
                  <a:lnTo>
                    <a:pt x="856" y="482"/>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8" name=""/>
            <p:cNvSpPr/>
            <p:nvPr/>
          </p:nvSpPr>
          <p:spPr>
            <a:xfrm>
              <a:off x="2225520" y="5398920"/>
              <a:ext cx="308160" cy="174960"/>
            </a:xfrm>
            <a:custGeom>
              <a:avLst/>
              <a:gdLst/>
              <a:ahLst/>
              <a:rect l="0" t="0" r="r" b="b"/>
              <a:pathLst>
                <a:path w="856" h="486">
                  <a:moveTo>
                    <a:pt x="856" y="0"/>
                  </a:moveTo>
                  <a:lnTo>
                    <a:pt x="856" y="486"/>
                  </a:lnTo>
                  <a:lnTo>
                    <a:pt x="0" y="486"/>
                  </a:lnTo>
                  <a:lnTo>
                    <a:pt x="0" y="0"/>
                  </a:lnTo>
                  <a:lnTo>
                    <a:pt x="856"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9" name=""/>
            <p:cNvSpPr/>
            <p:nvPr/>
          </p:nvSpPr>
          <p:spPr>
            <a:xfrm>
              <a:off x="2225520" y="5122800"/>
              <a:ext cx="308160" cy="173520"/>
            </a:xfrm>
            <a:custGeom>
              <a:avLst/>
              <a:gdLst/>
              <a:ahLst/>
              <a:rect l="0" t="0" r="r" b="b"/>
              <a:pathLst>
                <a:path w="856" h="482">
                  <a:moveTo>
                    <a:pt x="856" y="482"/>
                  </a:moveTo>
                  <a:lnTo>
                    <a:pt x="856" y="0"/>
                  </a:lnTo>
                  <a:lnTo>
                    <a:pt x="0" y="0"/>
                  </a:lnTo>
                  <a:lnTo>
                    <a:pt x="0" y="482"/>
                  </a:lnTo>
                  <a:lnTo>
                    <a:pt x="856" y="482"/>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0" name=""/>
            <p:cNvSpPr txBox="1"/>
            <p:nvPr/>
          </p:nvSpPr>
          <p:spPr>
            <a:xfrm>
              <a:off x="2637000" y="506880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561" name=""/>
            <p:cNvSpPr txBox="1"/>
            <p:nvPr/>
          </p:nvSpPr>
          <p:spPr>
            <a:xfrm>
              <a:off x="2637000" y="534528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562" name=""/>
            <p:cNvSpPr txBox="1"/>
            <p:nvPr/>
          </p:nvSpPr>
          <p:spPr>
            <a:xfrm>
              <a:off x="2637000" y="562140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sp>
          <p:nvSpPr>
            <p:cNvPr id="563" name=""/>
            <p:cNvSpPr txBox="1"/>
            <p:nvPr/>
          </p:nvSpPr>
          <p:spPr>
            <a:xfrm>
              <a:off x="305748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a:t>
              </a:r>
              <a:endParaRPr b="0" lang="en-US" sz="1400" spc="-1" strike="noStrike">
                <a:solidFill>
                  <a:srgbClr val="ffffff"/>
                </a:solidFill>
                <a:latin typeface="Arial"/>
              </a:endParaRPr>
            </a:p>
          </p:txBody>
        </p:sp>
        <p:sp>
          <p:nvSpPr>
            <p:cNvPr id="564" name=""/>
            <p:cNvSpPr txBox="1"/>
            <p:nvPr/>
          </p:nvSpPr>
          <p:spPr>
            <a:xfrm>
              <a:off x="404820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a:t>
              </a:r>
              <a:endParaRPr b="0" lang="en-US" sz="1400" spc="-1" strike="noStrike">
                <a:solidFill>
                  <a:srgbClr val="ffffff"/>
                </a:solidFill>
                <a:latin typeface="Arial"/>
              </a:endParaRPr>
            </a:p>
          </p:txBody>
        </p:sp>
        <p:sp>
          <p:nvSpPr>
            <p:cNvPr id="565" name=""/>
            <p:cNvSpPr txBox="1"/>
            <p:nvPr/>
          </p:nvSpPr>
          <p:spPr>
            <a:xfrm>
              <a:off x="503568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a:t>
              </a:r>
              <a:endParaRPr b="0" lang="en-US" sz="1400" spc="-1" strike="noStrike">
                <a:solidFill>
                  <a:srgbClr val="ffffff"/>
                </a:solidFill>
                <a:latin typeface="Arial"/>
              </a:endParaRPr>
            </a:p>
          </p:txBody>
        </p:sp>
        <p:sp>
          <p:nvSpPr>
            <p:cNvPr id="566" name=""/>
            <p:cNvSpPr txBox="1"/>
            <p:nvPr/>
          </p:nvSpPr>
          <p:spPr>
            <a:xfrm>
              <a:off x="602136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a:t>
              </a:r>
              <a:endParaRPr b="0" lang="en-US" sz="1400" spc="-1" strike="noStrike">
                <a:solidFill>
                  <a:srgbClr val="ffffff"/>
                </a:solidFill>
                <a:latin typeface="Arial"/>
              </a:endParaRPr>
            </a:p>
          </p:txBody>
        </p:sp>
        <p:sp>
          <p:nvSpPr>
            <p:cNvPr id="567" name=""/>
            <p:cNvSpPr txBox="1"/>
            <p:nvPr/>
          </p:nvSpPr>
          <p:spPr>
            <a:xfrm>
              <a:off x="701352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a:t>
              </a:r>
              <a:endParaRPr b="0" lang="en-US" sz="1400" spc="-1" strike="noStrike">
                <a:solidFill>
                  <a:srgbClr val="ffffff"/>
                </a:solidFill>
                <a:latin typeface="Arial"/>
              </a:endParaRPr>
            </a:p>
          </p:txBody>
        </p:sp>
        <p:sp>
          <p:nvSpPr>
            <p:cNvPr id="568" name=""/>
            <p:cNvSpPr txBox="1"/>
            <p:nvPr/>
          </p:nvSpPr>
          <p:spPr>
            <a:xfrm>
              <a:off x="799956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a:t>
              </a:r>
              <a:endParaRPr b="0" lang="en-US" sz="1400" spc="-1" strike="noStrike">
                <a:solidFill>
                  <a:srgbClr val="ffffff"/>
                </a:solidFill>
                <a:latin typeface="Arial"/>
              </a:endParaRPr>
            </a:p>
          </p:txBody>
        </p:sp>
        <p:sp>
          <p:nvSpPr>
            <p:cNvPr id="569" name=""/>
            <p:cNvSpPr/>
            <p:nvPr/>
          </p:nvSpPr>
          <p:spPr>
            <a:xfrm>
              <a:off x="2219400" y="1353960"/>
              <a:ext cx="0" cy="326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570" name=""/>
            <p:cNvGrpSpPr/>
            <p:nvPr/>
          </p:nvGrpSpPr>
          <p:grpSpPr>
            <a:xfrm>
              <a:off x="826920" y="1438200"/>
              <a:ext cx="1400400" cy="3065760"/>
              <a:chOff x="826920" y="1438200"/>
              <a:chExt cx="1400400" cy="3065760"/>
            </a:xfrm>
          </p:grpSpPr>
          <p:sp>
            <p:nvSpPr>
              <p:cNvPr id="571" name=""/>
              <p:cNvSpPr txBox="1"/>
              <p:nvPr/>
            </p:nvSpPr>
            <p:spPr>
              <a:xfrm>
                <a:off x="984240" y="1438200"/>
                <a:ext cx="12081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572" name=""/>
              <p:cNvSpPr txBox="1"/>
              <p:nvPr/>
            </p:nvSpPr>
            <p:spPr>
              <a:xfrm>
                <a:off x="1173240" y="1622520"/>
                <a:ext cx="9716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573" name=""/>
              <p:cNvSpPr txBox="1"/>
              <p:nvPr/>
            </p:nvSpPr>
            <p:spPr>
              <a:xfrm>
                <a:off x="1152360" y="1959120"/>
                <a:ext cx="9810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Interstate</a:t>
                </a:r>
                <a:endParaRPr b="0" lang="en-US" sz="1400" spc="-1" strike="noStrike">
                  <a:solidFill>
                    <a:srgbClr val="ffffff"/>
                  </a:solidFill>
                  <a:latin typeface="Arial"/>
                </a:endParaRPr>
              </a:p>
            </p:txBody>
          </p:sp>
          <p:sp>
            <p:nvSpPr>
              <p:cNvPr id="574" name=""/>
              <p:cNvSpPr txBox="1"/>
              <p:nvPr/>
            </p:nvSpPr>
            <p:spPr>
              <a:xfrm>
                <a:off x="1212840" y="2151000"/>
                <a:ext cx="9320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575" name=""/>
              <p:cNvSpPr txBox="1"/>
              <p:nvPr/>
            </p:nvSpPr>
            <p:spPr>
              <a:xfrm>
                <a:off x="1177920" y="2443320"/>
                <a:ext cx="1049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576" name=""/>
              <p:cNvSpPr txBox="1"/>
              <p:nvPr/>
            </p:nvSpPr>
            <p:spPr>
              <a:xfrm>
                <a:off x="826920" y="2614680"/>
                <a:ext cx="13176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577" name=""/>
              <p:cNvSpPr txBox="1"/>
              <p:nvPr/>
            </p:nvSpPr>
            <p:spPr>
              <a:xfrm>
                <a:off x="1266840" y="3038400"/>
                <a:ext cx="9129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578" name=""/>
              <p:cNvSpPr txBox="1"/>
              <p:nvPr/>
            </p:nvSpPr>
            <p:spPr>
              <a:xfrm>
                <a:off x="1409760" y="3233880"/>
                <a:ext cx="7351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579" name=""/>
              <p:cNvSpPr txBox="1"/>
              <p:nvPr/>
            </p:nvSpPr>
            <p:spPr>
              <a:xfrm>
                <a:off x="1238400" y="357336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580" name=""/>
              <p:cNvSpPr txBox="1"/>
              <p:nvPr/>
            </p:nvSpPr>
            <p:spPr>
              <a:xfrm>
                <a:off x="1203480" y="374976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581" name=""/>
              <p:cNvSpPr txBox="1"/>
              <p:nvPr/>
            </p:nvSpPr>
            <p:spPr>
              <a:xfrm>
                <a:off x="1103400" y="4202280"/>
                <a:ext cx="10508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grpSp>
      </p:grpSp>
      <p:sp>
        <p:nvSpPr>
          <p:cNvPr id="582" name=""/>
          <p:cNvSpPr txBox="1"/>
          <p:nvPr/>
        </p:nvSpPr>
        <p:spPr>
          <a:xfrm>
            <a:off x="8145360" y="1058760"/>
            <a:ext cx="6951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Tim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3" name=""/>
          <p:cNvSpPr txBox="1"/>
          <p:nvPr/>
        </p:nvSpPr>
        <p:spPr>
          <a:xfrm>
            <a:off x="779400" y="563400"/>
            <a:ext cx="807732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Profitability:</a:t>
            </a:r>
            <a:br>
              <a:rPr sz="4400"/>
            </a:br>
            <a:r>
              <a:rPr b="1" lang="en-US" sz="4400" spc="-1" strike="noStrike">
                <a:solidFill>
                  <a:srgbClr val="ffcc66"/>
                </a:solidFill>
                <a:latin typeface="Arial"/>
                <a:ea typeface="Arial"/>
              </a:rPr>
              <a:t>Return on Assets</a:t>
            </a:r>
            <a:endParaRPr b="0" lang="en-US" sz="4400" spc="-1" strike="noStrike">
              <a:solidFill>
                <a:srgbClr val="ffffff"/>
              </a:solidFill>
              <a:latin typeface="Arial"/>
            </a:endParaRPr>
          </a:p>
        </p:txBody>
      </p:sp>
      <p:sp>
        <p:nvSpPr>
          <p:cNvPr id="584" name=""/>
          <p:cNvSpPr txBox="1"/>
          <p:nvPr/>
        </p:nvSpPr>
        <p:spPr>
          <a:xfrm>
            <a:off x="1143000" y="2286000"/>
            <a:ext cx="7543800" cy="19810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easure of how efficiently assets are used to produce income.</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Net Income / Average Total Asse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5" name=""/>
          <p:cNvSpPr txBox="1"/>
          <p:nvPr/>
        </p:nvSpPr>
        <p:spPr>
          <a:xfrm>
            <a:off x="425520" y="233280"/>
            <a:ext cx="8718480" cy="57636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Return on Assets for Selected Industries</a:t>
            </a:r>
            <a:endParaRPr b="0" lang="en-US" sz="3200" spc="-1" strike="noStrike">
              <a:solidFill>
                <a:srgbClr val="ffffff"/>
              </a:solidFill>
              <a:latin typeface="Arial"/>
            </a:endParaRPr>
          </a:p>
        </p:txBody>
      </p:sp>
      <p:grpSp>
        <p:nvGrpSpPr>
          <p:cNvPr id="586" name=""/>
          <p:cNvGrpSpPr/>
          <p:nvPr/>
        </p:nvGrpSpPr>
        <p:grpSpPr>
          <a:xfrm>
            <a:off x="380880" y="847800"/>
            <a:ext cx="8518680" cy="5442120"/>
            <a:chOff x="380880" y="847800"/>
            <a:chExt cx="8518680" cy="5442120"/>
          </a:xfrm>
        </p:grpSpPr>
        <p:sp>
          <p:nvSpPr>
            <p:cNvPr id="587" name=""/>
            <p:cNvSpPr/>
            <p:nvPr/>
          </p:nvSpPr>
          <p:spPr>
            <a:xfrm>
              <a:off x="700200" y="847800"/>
              <a:ext cx="8199360" cy="5442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8" name=""/>
            <p:cNvSpPr/>
            <p:nvPr/>
          </p:nvSpPr>
          <p:spPr>
            <a:xfrm>
              <a:off x="380880" y="878040"/>
              <a:ext cx="201600" cy="236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89" name=""/>
            <p:cNvSpPr/>
            <p:nvPr/>
          </p:nvSpPr>
          <p:spPr>
            <a:xfrm flipV="1">
              <a:off x="437040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0" name=""/>
            <p:cNvSpPr/>
            <p:nvPr/>
          </p:nvSpPr>
          <p:spPr>
            <a:xfrm flipV="1">
              <a:off x="516888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flipV="1">
              <a:off x="755640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2" name=""/>
            <p:cNvSpPr/>
            <p:nvPr/>
          </p:nvSpPr>
          <p:spPr>
            <a:xfrm flipV="1">
              <a:off x="280044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3" name=""/>
            <p:cNvSpPr/>
            <p:nvPr/>
          </p:nvSpPr>
          <p:spPr>
            <a:xfrm flipV="1">
              <a:off x="358308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4" name=""/>
            <p:cNvSpPr/>
            <p:nvPr/>
          </p:nvSpPr>
          <p:spPr>
            <a:xfrm flipV="1">
              <a:off x="596736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5" name=""/>
            <p:cNvSpPr/>
            <p:nvPr/>
          </p:nvSpPr>
          <p:spPr>
            <a:xfrm flipV="1">
              <a:off x="673092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596" name=""/>
            <p:cNvGrpSpPr/>
            <p:nvPr/>
          </p:nvGrpSpPr>
          <p:grpSpPr>
            <a:xfrm>
              <a:off x="8121600" y="1450800"/>
              <a:ext cx="685800" cy="2951280"/>
              <a:chOff x="8121600" y="1450800"/>
              <a:chExt cx="685800" cy="2951280"/>
            </a:xfrm>
          </p:grpSpPr>
          <p:sp>
            <p:nvSpPr>
              <p:cNvPr id="597" name=""/>
              <p:cNvSpPr txBox="1"/>
              <p:nvPr/>
            </p:nvSpPr>
            <p:spPr>
              <a:xfrm>
                <a:off x="8121600" y="1450800"/>
                <a:ext cx="6858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2.8%</a:t>
                </a:r>
                <a:endParaRPr b="0" lang="en-US" sz="1400" spc="-1" strike="noStrike">
                  <a:solidFill>
                    <a:srgbClr val="ffffff"/>
                  </a:solidFill>
                  <a:latin typeface="Arial"/>
                </a:endParaRPr>
              </a:p>
            </p:txBody>
          </p:sp>
          <p:sp>
            <p:nvSpPr>
              <p:cNvPr id="598" name=""/>
              <p:cNvSpPr txBox="1"/>
              <p:nvPr/>
            </p:nvSpPr>
            <p:spPr>
              <a:xfrm>
                <a:off x="8210520" y="1982880"/>
                <a:ext cx="5857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9.1%</a:t>
                </a:r>
                <a:endParaRPr b="0" lang="en-US" sz="1400" spc="-1" strike="noStrike">
                  <a:solidFill>
                    <a:srgbClr val="ffffff"/>
                  </a:solidFill>
                  <a:latin typeface="Arial"/>
                </a:endParaRPr>
              </a:p>
            </p:txBody>
          </p:sp>
          <p:sp>
            <p:nvSpPr>
              <p:cNvPr id="599" name=""/>
              <p:cNvSpPr txBox="1"/>
              <p:nvPr/>
            </p:nvSpPr>
            <p:spPr>
              <a:xfrm>
                <a:off x="8210520" y="2511360"/>
                <a:ext cx="5857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7.8%</a:t>
                </a:r>
                <a:endParaRPr b="0" lang="en-US" sz="1400" spc="-1" strike="noStrike">
                  <a:solidFill>
                    <a:srgbClr val="ffffff"/>
                  </a:solidFill>
                  <a:latin typeface="Arial"/>
                </a:endParaRPr>
              </a:p>
            </p:txBody>
          </p:sp>
          <p:sp>
            <p:nvSpPr>
              <p:cNvPr id="600" name=""/>
              <p:cNvSpPr txBox="1"/>
              <p:nvPr/>
            </p:nvSpPr>
            <p:spPr>
              <a:xfrm>
                <a:off x="8211960" y="3041640"/>
                <a:ext cx="5857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9.7%</a:t>
                </a:r>
                <a:endParaRPr b="0" lang="en-US" sz="1400" spc="-1" strike="noStrike">
                  <a:solidFill>
                    <a:srgbClr val="ffffff"/>
                  </a:solidFill>
                  <a:latin typeface="Arial"/>
                </a:endParaRPr>
              </a:p>
            </p:txBody>
          </p:sp>
          <p:sp>
            <p:nvSpPr>
              <p:cNvPr id="601" name=""/>
              <p:cNvSpPr txBox="1"/>
              <p:nvPr/>
            </p:nvSpPr>
            <p:spPr>
              <a:xfrm>
                <a:off x="8210520" y="3570120"/>
                <a:ext cx="5857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3.9%</a:t>
                </a:r>
                <a:endParaRPr b="0" lang="en-US" sz="1400" spc="-1" strike="noStrike">
                  <a:solidFill>
                    <a:srgbClr val="ffffff"/>
                  </a:solidFill>
                  <a:latin typeface="Arial"/>
                </a:endParaRPr>
              </a:p>
            </p:txBody>
          </p:sp>
          <p:sp>
            <p:nvSpPr>
              <p:cNvPr id="602" name=""/>
              <p:cNvSpPr txBox="1"/>
              <p:nvPr/>
            </p:nvSpPr>
            <p:spPr>
              <a:xfrm>
                <a:off x="8121600" y="4100400"/>
                <a:ext cx="6858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3.0%</a:t>
                </a:r>
                <a:endParaRPr b="0" lang="en-US" sz="1400" spc="-1" strike="noStrike">
                  <a:solidFill>
                    <a:srgbClr val="ffffff"/>
                  </a:solidFill>
                  <a:latin typeface="Arial"/>
                </a:endParaRPr>
              </a:p>
            </p:txBody>
          </p:sp>
        </p:grpSp>
        <p:sp>
          <p:nvSpPr>
            <p:cNvPr id="603" name=""/>
            <p:cNvSpPr txBox="1"/>
            <p:nvPr/>
          </p:nvSpPr>
          <p:spPr>
            <a:xfrm>
              <a:off x="1882800" y="45655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604" name=""/>
            <p:cNvSpPr txBox="1"/>
            <p:nvPr/>
          </p:nvSpPr>
          <p:spPr>
            <a:xfrm>
              <a:off x="2654280" y="45655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a:t>
              </a:r>
              <a:endParaRPr b="0" lang="en-US" sz="1400" spc="-1" strike="noStrike">
                <a:solidFill>
                  <a:srgbClr val="ffffff"/>
                </a:solidFill>
                <a:latin typeface="Arial"/>
              </a:endParaRPr>
            </a:p>
          </p:txBody>
        </p:sp>
        <p:sp>
          <p:nvSpPr>
            <p:cNvPr id="605" name=""/>
            <p:cNvSpPr txBox="1"/>
            <p:nvPr/>
          </p:nvSpPr>
          <p:spPr>
            <a:xfrm>
              <a:off x="3430440" y="45655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a:t>
              </a:r>
              <a:endParaRPr b="0" lang="en-US" sz="1400" spc="-1" strike="noStrike">
                <a:solidFill>
                  <a:srgbClr val="ffffff"/>
                </a:solidFill>
                <a:latin typeface="Arial"/>
              </a:endParaRPr>
            </a:p>
          </p:txBody>
        </p:sp>
        <p:sp>
          <p:nvSpPr>
            <p:cNvPr id="606" name=""/>
            <p:cNvSpPr txBox="1"/>
            <p:nvPr/>
          </p:nvSpPr>
          <p:spPr>
            <a:xfrm>
              <a:off x="4248000" y="45655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a:t>
              </a:r>
              <a:endParaRPr b="0" lang="en-US" sz="1400" spc="-1" strike="noStrike">
                <a:solidFill>
                  <a:srgbClr val="ffffff"/>
                </a:solidFill>
                <a:latin typeface="Arial"/>
              </a:endParaRPr>
            </a:p>
          </p:txBody>
        </p:sp>
        <p:sp>
          <p:nvSpPr>
            <p:cNvPr id="607" name=""/>
            <p:cNvSpPr txBox="1"/>
            <p:nvPr/>
          </p:nvSpPr>
          <p:spPr>
            <a:xfrm>
              <a:off x="5021280" y="45655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8</a:t>
              </a:r>
              <a:endParaRPr b="0" lang="en-US" sz="1400" spc="-1" strike="noStrike">
                <a:solidFill>
                  <a:srgbClr val="ffffff"/>
                </a:solidFill>
                <a:latin typeface="Arial"/>
              </a:endParaRPr>
            </a:p>
          </p:txBody>
        </p:sp>
        <p:sp>
          <p:nvSpPr>
            <p:cNvPr id="608" name=""/>
            <p:cNvSpPr txBox="1"/>
            <p:nvPr/>
          </p:nvSpPr>
          <p:spPr>
            <a:xfrm>
              <a:off x="5765760" y="456552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a:t>
              </a:r>
              <a:endParaRPr b="0" lang="en-US" sz="1400" spc="-1" strike="noStrike">
                <a:solidFill>
                  <a:srgbClr val="ffffff"/>
                </a:solidFill>
                <a:latin typeface="Arial"/>
              </a:endParaRPr>
            </a:p>
          </p:txBody>
        </p:sp>
        <p:sp>
          <p:nvSpPr>
            <p:cNvPr id="609" name=""/>
            <p:cNvSpPr txBox="1"/>
            <p:nvPr/>
          </p:nvSpPr>
          <p:spPr>
            <a:xfrm>
              <a:off x="6521400" y="456552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2</a:t>
              </a:r>
              <a:endParaRPr b="0" lang="en-US" sz="1400" spc="-1" strike="noStrike">
                <a:solidFill>
                  <a:srgbClr val="ffffff"/>
                </a:solidFill>
                <a:latin typeface="Arial"/>
              </a:endParaRPr>
            </a:p>
          </p:txBody>
        </p:sp>
        <p:sp>
          <p:nvSpPr>
            <p:cNvPr id="610" name=""/>
            <p:cNvSpPr/>
            <p:nvPr/>
          </p:nvSpPr>
          <p:spPr>
            <a:xfrm>
              <a:off x="2044800" y="5630760"/>
              <a:ext cx="335160" cy="173520"/>
            </a:xfrm>
            <a:custGeom>
              <a:avLst/>
              <a:gdLst/>
              <a:ahLst/>
              <a:rect l="0" t="0" r="r" b="b"/>
              <a:pathLst>
                <a:path w="931" h="482">
                  <a:moveTo>
                    <a:pt x="931" y="482"/>
                  </a:moveTo>
                  <a:lnTo>
                    <a:pt x="931" y="0"/>
                  </a:lnTo>
                  <a:lnTo>
                    <a:pt x="0" y="0"/>
                  </a:lnTo>
                  <a:lnTo>
                    <a:pt x="0" y="482"/>
                  </a:lnTo>
                  <a:lnTo>
                    <a:pt x="931" y="482"/>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1" name=""/>
            <p:cNvSpPr/>
            <p:nvPr/>
          </p:nvSpPr>
          <p:spPr>
            <a:xfrm>
              <a:off x="2044800" y="5359320"/>
              <a:ext cx="335160" cy="168480"/>
            </a:xfrm>
            <a:custGeom>
              <a:avLst/>
              <a:gdLst/>
              <a:ahLst/>
              <a:rect l="0" t="0" r="r" b="b"/>
              <a:pathLst>
                <a:path w="931" h="468">
                  <a:moveTo>
                    <a:pt x="931" y="0"/>
                  </a:moveTo>
                  <a:lnTo>
                    <a:pt x="931" y="468"/>
                  </a:lnTo>
                  <a:lnTo>
                    <a:pt x="0" y="468"/>
                  </a:lnTo>
                  <a:lnTo>
                    <a:pt x="0" y="0"/>
                  </a:lnTo>
                  <a:lnTo>
                    <a:pt x="931"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2" name=""/>
            <p:cNvSpPr/>
            <p:nvPr/>
          </p:nvSpPr>
          <p:spPr>
            <a:xfrm>
              <a:off x="2044800" y="5076720"/>
              <a:ext cx="335160" cy="176400"/>
            </a:xfrm>
            <a:custGeom>
              <a:avLst/>
              <a:gdLst/>
              <a:ahLst/>
              <a:rect l="0" t="0" r="r" b="b"/>
              <a:pathLst>
                <a:path w="931" h="490">
                  <a:moveTo>
                    <a:pt x="931" y="490"/>
                  </a:moveTo>
                  <a:lnTo>
                    <a:pt x="931" y="0"/>
                  </a:lnTo>
                  <a:lnTo>
                    <a:pt x="0" y="0"/>
                  </a:lnTo>
                  <a:lnTo>
                    <a:pt x="0" y="490"/>
                  </a:lnTo>
                  <a:lnTo>
                    <a:pt x="931" y="49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3" name=""/>
            <p:cNvSpPr txBox="1"/>
            <p:nvPr/>
          </p:nvSpPr>
          <p:spPr>
            <a:xfrm>
              <a:off x="2484360" y="502128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614" name=""/>
            <p:cNvSpPr txBox="1"/>
            <p:nvPr/>
          </p:nvSpPr>
          <p:spPr>
            <a:xfrm>
              <a:off x="2484360" y="529596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615" name=""/>
            <p:cNvSpPr txBox="1"/>
            <p:nvPr/>
          </p:nvSpPr>
          <p:spPr>
            <a:xfrm>
              <a:off x="2484360" y="557388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sp>
          <p:nvSpPr>
            <p:cNvPr id="616" name=""/>
            <p:cNvSpPr/>
            <p:nvPr/>
          </p:nvSpPr>
          <p:spPr>
            <a:xfrm>
              <a:off x="2038320" y="1316160"/>
              <a:ext cx="0" cy="3241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617" name=""/>
            <p:cNvGrpSpPr/>
            <p:nvPr/>
          </p:nvGrpSpPr>
          <p:grpSpPr>
            <a:xfrm>
              <a:off x="674640" y="1357200"/>
              <a:ext cx="1408320" cy="3124440"/>
              <a:chOff x="674640" y="1357200"/>
              <a:chExt cx="1408320" cy="3124440"/>
            </a:xfrm>
          </p:grpSpPr>
          <p:sp>
            <p:nvSpPr>
              <p:cNvPr id="618" name=""/>
              <p:cNvSpPr txBox="1"/>
              <p:nvPr/>
            </p:nvSpPr>
            <p:spPr>
              <a:xfrm>
                <a:off x="839880" y="1357200"/>
                <a:ext cx="12081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619" name=""/>
              <p:cNvSpPr txBox="1"/>
              <p:nvPr/>
            </p:nvSpPr>
            <p:spPr>
              <a:xfrm>
                <a:off x="1020600" y="1546200"/>
                <a:ext cx="9716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620" name=""/>
              <p:cNvSpPr txBox="1"/>
              <p:nvPr/>
            </p:nvSpPr>
            <p:spPr>
              <a:xfrm>
                <a:off x="988920" y="1889280"/>
                <a:ext cx="9810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Interstate</a:t>
                </a:r>
                <a:endParaRPr b="0" lang="en-US" sz="1400" spc="-1" strike="noStrike">
                  <a:solidFill>
                    <a:srgbClr val="ffffff"/>
                  </a:solidFill>
                  <a:latin typeface="Arial"/>
                </a:endParaRPr>
              </a:p>
            </p:txBody>
          </p:sp>
          <p:sp>
            <p:nvSpPr>
              <p:cNvPr id="621" name=""/>
              <p:cNvSpPr txBox="1"/>
              <p:nvPr/>
            </p:nvSpPr>
            <p:spPr>
              <a:xfrm>
                <a:off x="1060560" y="2087640"/>
                <a:ext cx="9320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622" name=""/>
              <p:cNvSpPr txBox="1"/>
              <p:nvPr/>
            </p:nvSpPr>
            <p:spPr>
              <a:xfrm>
                <a:off x="1033560" y="2384280"/>
                <a:ext cx="1049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623" name=""/>
              <p:cNvSpPr txBox="1"/>
              <p:nvPr/>
            </p:nvSpPr>
            <p:spPr>
              <a:xfrm>
                <a:off x="674640" y="2560680"/>
                <a:ext cx="13176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624" name=""/>
              <p:cNvSpPr txBox="1"/>
              <p:nvPr/>
            </p:nvSpPr>
            <p:spPr>
              <a:xfrm>
                <a:off x="1166760" y="2989440"/>
                <a:ext cx="9129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625" name=""/>
              <p:cNvSpPr txBox="1"/>
              <p:nvPr/>
            </p:nvSpPr>
            <p:spPr>
              <a:xfrm>
                <a:off x="1257480" y="3187800"/>
                <a:ext cx="7351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626" name=""/>
              <p:cNvSpPr txBox="1"/>
              <p:nvPr/>
            </p:nvSpPr>
            <p:spPr>
              <a:xfrm>
                <a:off x="1103400" y="354168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627" name=""/>
              <p:cNvSpPr txBox="1"/>
              <p:nvPr/>
            </p:nvSpPr>
            <p:spPr>
              <a:xfrm>
                <a:off x="1050840" y="371808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628" name=""/>
              <p:cNvSpPr txBox="1"/>
              <p:nvPr/>
            </p:nvSpPr>
            <p:spPr>
              <a:xfrm>
                <a:off x="942840" y="4179960"/>
                <a:ext cx="10508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grpSp>
        <p:grpSp>
          <p:nvGrpSpPr>
            <p:cNvPr id="629" name=""/>
            <p:cNvGrpSpPr/>
            <p:nvPr/>
          </p:nvGrpSpPr>
          <p:grpSpPr>
            <a:xfrm>
              <a:off x="2738520" y="1612800"/>
              <a:ext cx="5308560" cy="2646360"/>
              <a:chOff x="2738520" y="1612800"/>
              <a:chExt cx="5308560" cy="2646360"/>
            </a:xfrm>
          </p:grpSpPr>
          <p:sp>
            <p:nvSpPr>
              <p:cNvPr id="630" name=""/>
              <p:cNvSpPr/>
              <p:nvPr/>
            </p:nvSpPr>
            <p:spPr>
              <a:xfrm>
                <a:off x="2738520" y="161280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1" name=""/>
              <p:cNvSpPr/>
              <p:nvPr/>
            </p:nvSpPr>
            <p:spPr>
              <a:xfrm>
                <a:off x="2738520" y="425916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2" name=""/>
              <p:cNvSpPr/>
              <p:nvPr/>
            </p:nvSpPr>
            <p:spPr>
              <a:xfrm>
                <a:off x="2738520" y="372888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3" name=""/>
              <p:cNvSpPr/>
              <p:nvPr/>
            </p:nvSpPr>
            <p:spPr>
              <a:xfrm>
                <a:off x="2738520" y="320040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4" name=""/>
              <p:cNvSpPr/>
              <p:nvPr/>
            </p:nvSpPr>
            <p:spPr>
              <a:xfrm>
                <a:off x="2738520" y="267192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5" name=""/>
              <p:cNvSpPr/>
              <p:nvPr/>
            </p:nvSpPr>
            <p:spPr>
              <a:xfrm>
                <a:off x="2738520" y="214308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636" name=""/>
            <p:cNvSpPr/>
            <p:nvPr/>
          </p:nvSpPr>
          <p:spPr>
            <a:xfrm>
              <a:off x="2044800" y="1419120"/>
              <a:ext cx="5050080" cy="346320"/>
            </a:xfrm>
            <a:custGeom>
              <a:avLst/>
              <a:gdLst/>
              <a:ahLst/>
              <a:rect l="0" t="0" r="r" b="b"/>
              <a:pathLst>
                <a:path w="14028" h="962">
                  <a:moveTo>
                    <a:pt x="0" y="0"/>
                  </a:moveTo>
                  <a:lnTo>
                    <a:pt x="14028" y="0"/>
                  </a:lnTo>
                  <a:lnTo>
                    <a:pt x="14028" y="962"/>
                  </a:lnTo>
                  <a:lnTo>
                    <a:pt x="0" y="962"/>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7" name=""/>
            <p:cNvSpPr/>
            <p:nvPr/>
          </p:nvSpPr>
          <p:spPr>
            <a:xfrm>
              <a:off x="2044800" y="1952640"/>
              <a:ext cx="3589560" cy="362160"/>
            </a:xfrm>
            <a:custGeom>
              <a:avLst/>
              <a:gdLst/>
              <a:ahLst/>
              <a:rect l="0" t="0" r="r" b="b"/>
              <a:pathLst>
                <a:path w="9971" h="1006">
                  <a:moveTo>
                    <a:pt x="0" y="1006"/>
                  </a:moveTo>
                  <a:lnTo>
                    <a:pt x="9971" y="1006"/>
                  </a:lnTo>
                  <a:lnTo>
                    <a:pt x="9971" y="0"/>
                  </a:lnTo>
                  <a:lnTo>
                    <a:pt x="0" y="0"/>
                  </a:lnTo>
                  <a:lnTo>
                    <a:pt x="0" y="1006"/>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8" name=""/>
            <p:cNvSpPr/>
            <p:nvPr/>
          </p:nvSpPr>
          <p:spPr>
            <a:xfrm>
              <a:off x="2044800" y="2479680"/>
              <a:ext cx="3034080" cy="344880"/>
            </a:xfrm>
            <a:custGeom>
              <a:avLst/>
              <a:gdLst/>
              <a:ahLst/>
              <a:rect l="0" t="0" r="r" b="b"/>
              <a:pathLst>
                <a:path w="8428" h="958">
                  <a:moveTo>
                    <a:pt x="0" y="0"/>
                  </a:moveTo>
                  <a:lnTo>
                    <a:pt x="8428" y="0"/>
                  </a:lnTo>
                  <a:lnTo>
                    <a:pt x="8428" y="958"/>
                  </a:lnTo>
                  <a:lnTo>
                    <a:pt x="0" y="958"/>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9" name=""/>
            <p:cNvSpPr/>
            <p:nvPr/>
          </p:nvSpPr>
          <p:spPr>
            <a:xfrm>
              <a:off x="2044800" y="3008160"/>
              <a:ext cx="3762720" cy="362160"/>
            </a:xfrm>
            <a:custGeom>
              <a:avLst/>
              <a:gdLst/>
              <a:ahLst/>
              <a:rect l="0" t="0" r="r" b="b"/>
              <a:pathLst>
                <a:path w="10452" h="1006">
                  <a:moveTo>
                    <a:pt x="0" y="1006"/>
                  </a:moveTo>
                  <a:lnTo>
                    <a:pt x="10452" y="1006"/>
                  </a:lnTo>
                  <a:lnTo>
                    <a:pt x="10452" y="0"/>
                  </a:lnTo>
                  <a:lnTo>
                    <a:pt x="0" y="0"/>
                  </a:lnTo>
                  <a:lnTo>
                    <a:pt x="0" y="1006"/>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0" name=""/>
            <p:cNvSpPr/>
            <p:nvPr/>
          </p:nvSpPr>
          <p:spPr>
            <a:xfrm>
              <a:off x="2044800" y="3537000"/>
              <a:ext cx="1478160" cy="363960"/>
            </a:xfrm>
            <a:custGeom>
              <a:avLst/>
              <a:gdLst/>
              <a:ahLst/>
              <a:rect l="0" t="0" r="r" b="b"/>
              <a:pathLst>
                <a:path w="4106" h="1011">
                  <a:moveTo>
                    <a:pt x="0" y="0"/>
                  </a:moveTo>
                  <a:lnTo>
                    <a:pt x="4106" y="0"/>
                  </a:lnTo>
                  <a:lnTo>
                    <a:pt x="4106" y="1011"/>
                  </a:lnTo>
                  <a:lnTo>
                    <a:pt x="0" y="1011"/>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1" name=""/>
            <p:cNvSpPr/>
            <p:nvPr/>
          </p:nvSpPr>
          <p:spPr>
            <a:xfrm>
              <a:off x="2044800" y="4067280"/>
              <a:ext cx="5178960" cy="379800"/>
            </a:xfrm>
            <a:custGeom>
              <a:avLst/>
              <a:gdLst/>
              <a:ahLst/>
              <a:rect l="0" t="0" r="r" b="b"/>
              <a:pathLst>
                <a:path w="14386" h="1055">
                  <a:moveTo>
                    <a:pt x="0" y="1055"/>
                  </a:moveTo>
                  <a:lnTo>
                    <a:pt x="14386" y="1055"/>
                  </a:lnTo>
                  <a:lnTo>
                    <a:pt x="14386" y="0"/>
                  </a:lnTo>
                  <a:lnTo>
                    <a:pt x="0" y="0"/>
                  </a:lnTo>
                  <a:lnTo>
                    <a:pt x="0" y="1055"/>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2" name=""/>
            <p:cNvSpPr txBox="1"/>
            <p:nvPr/>
          </p:nvSpPr>
          <p:spPr>
            <a:xfrm>
              <a:off x="7310520" y="456552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4</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3" name=""/>
          <p:cNvSpPr txBox="1"/>
          <p:nvPr/>
        </p:nvSpPr>
        <p:spPr>
          <a:xfrm>
            <a:off x="938160" y="593640"/>
            <a:ext cx="77724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Profitability:</a:t>
            </a:r>
            <a:br>
              <a:rPr sz="4400"/>
            </a:br>
            <a:r>
              <a:rPr b="1" lang="en-US" sz="4400" spc="-1" strike="noStrike">
                <a:solidFill>
                  <a:srgbClr val="ffcc66"/>
                </a:solidFill>
                <a:latin typeface="Arial"/>
                <a:ea typeface="Arial"/>
              </a:rPr>
              <a:t>Debt to Equity</a:t>
            </a:r>
            <a:endParaRPr b="0" lang="en-US" sz="4400" spc="-1" strike="noStrike">
              <a:solidFill>
                <a:srgbClr val="ffffff"/>
              </a:solidFill>
              <a:latin typeface="Arial"/>
            </a:endParaRPr>
          </a:p>
        </p:txBody>
      </p:sp>
      <p:sp>
        <p:nvSpPr>
          <p:cNvPr id="644" name=""/>
          <p:cNvSpPr txBox="1"/>
          <p:nvPr/>
        </p:nvSpPr>
        <p:spPr>
          <a:xfrm>
            <a:off x="1295280" y="2133720"/>
            <a:ext cx="7162920" cy="24382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Proportion of company financed by creditors compared to the amount financed by investors.</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otal Liabilities / Owners’ Equ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5" name=""/>
          <p:cNvSpPr txBox="1"/>
          <p:nvPr/>
        </p:nvSpPr>
        <p:spPr>
          <a:xfrm>
            <a:off x="374760" y="162000"/>
            <a:ext cx="8697960" cy="106380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Average Debt to Equity for</a:t>
            </a:r>
            <a:endParaRPr b="0" lang="en-US" sz="3200" spc="-1" strike="noStrike">
              <a:solidFill>
                <a:srgbClr val="ffffff"/>
              </a:solidFill>
              <a:latin typeface="Arial"/>
            </a:endParaRPr>
          </a:p>
          <a:p>
            <a:pPr algn="ctr">
              <a:lnSpc>
                <a:spcPct val="100000"/>
              </a:lnSpc>
            </a:pPr>
            <a:r>
              <a:rPr b="1" lang="en-US" sz="3200" spc="-1" strike="noStrike">
                <a:solidFill>
                  <a:srgbClr val="ffcc66"/>
                </a:solidFill>
                <a:latin typeface="Arial"/>
                <a:ea typeface="Arial"/>
              </a:rPr>
              <a:t>Selected Industries</a:t>
            </a:r>
            <a:endParaRPr b="0" lang="en-US" sz="3200" spc="-1" strike="noStrike">
              <a:solidFill>
                <a:srgbClr val="ffffff"/>
              </a:solidFill>
              <a:latin typeface="Arial"/>
            </a:endParaRPr>
          </a:p>
        </p:txBody>
      </p:sp>
      <p:grpSp>
        <p:nvGrpSpPr>
          <p:cNvPr id="646" name=""/>
          <p:cNvGrpSpPr/>
          <p:nvPr/>
        </p:nvGrpSpPr>
        <p:grpSpPr>
          <a:xfrm>
            <a:off x="304920" y="1289160"/>
            <a:ext cx="8626320" cy="5041800"/>
            <a:chOff x="304920" y="1289160"/>
            <a:chExt cx="8626320" cy="5041800"/>
          </a:xfrm>
        </p:grpSpPr>
        <p:sp>
          <p:nvSpPr>
            <p:cNvPr id="647" name=""/>
            <p:cNvSpPr/>
            <p:nvPr/>
          </p:nvSpPr>
          <p:spPr>
            <a:xfrm>
              <a:off x="741240" y="1289160"/>
              <a:ext cx="8180280" cy="5041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a:off x="304920" y="1344600"/>
              <a:ext cx="195120" cy="2253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9" name=""/>
            <p:cNvSpPr/>
            <p:nvPr/>
          </p:nvSpPr>
          <p:spPr>
            <a:xfrm flipH="1">
              <a:off x="3043080" y="203832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0" name=""/>
            <p:cNvSpPr/>
            <p:nvPr/>
          </p:nvSpPr>
          <p:spPr>
            <a:xfrm flipH="1">
              <a:off x="3043080" y="458136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1" name=""/>
            <p:cNvSpPr/>
            <p:nvPr/>
          </p:nvSpPr>
          <p:spPr>
            <a:xfrm flipH="1">
              <a:off x="3043080" y="407196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2" name=""/>
            <p:cNvSpPr/>
            <p:nvPr/>
          </p:nvSpPr>
          <p:spPr>
            <a:xfrm flipH="1">
              <a:off x="3043080" y="356220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3" name=""/>
            <p:cNvSpPr/>
            <p:nvPr/>
          </p:nvSpPr>
          <p:spPr>
            <a:xfrm flipH="1">
              <a:off x="3043080" y="305604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4" name=""/>
            <p:cNvSpPr/>
            <p:nvPr/>
          </p:nvSpPr>
          <p:spPr>
            <a:xfrm flipH="1">
              <a:off x="3043080" y="254808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5" name=""/>
            <p:cNvSpPr txBox="1"/>
            <p:nvPr/>
          </p:nvSpPr>
          <p:spPr>
            <a:xfrm>
              <a:off x="8132760" y="1843200"/>
              <a:ext cx="784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33.2%</a:t>
              </a:r>
              <a:endParaRPr b="0" lang="en-US" sz="1400" spc="-1" strike="noStrike">
                <a:solidFill>
                  <a:srgbClr val="ffffff"/>
                </a:solidFill>
                <a:latin typeface="Arial"/>
              </a:endParaRPr>
            </a:p>
          </p:txBody>
        </p:sp>
        <p:sp>
          <p:nvSpPr>
            <p:cNvPr id="656" name=""/>
            <p:cNvSpPr txBox="1"/>
            <p:nvPr/>
          </p:nvSpPr>
          <p:spPr>
            <a:xfrm>
              <a:off x="8132760" y="2352600"/>
              <a:ext cx="784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40.7%</a:t>
              </a:r>
              <a:endParaRPr b="0" lang="en-US" sz="1400" spc="-1" strike="noStrike">
                <a:solidFill>
                  <a:srgbClr val="ffffff"/>
                </a:solidFill>
                <a:latin typeface="Arial"/>
              </a:endParaRPr>
            </a:p>
          </p:txBody>
        </p:sp>
        <p:sp>
          <p:nvSpPr>
            <p:cNvPr id="657" name=""/>
            <p:cNvSpPr txBox="1"/>
            <p:nvPr/>
          </p:nvSpPr>
          <p:spPr>
            <a:xfrm>
              <a:off x="8121600" y="2895480"/>
              <a:ext cx="784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2.8%</a:t>
              </a:r>
              <a:endParaRPr b="0" lang="en-US" sz="1400" spc="-1" strike="noStrike">
                <a:solidFill>
                  <a:srgbClr val="ffffff"/>
                </a:solidFill>
                <a:latin typeface="Arial"/>
              </a:endParaRPr>
            </a:p>
          </p:txBody>
        </p:sp>
        <p:sp>
          <p:nvSpPr>
            <p:cNvPr id="658" name=""/>
            <p:cNvSpPr txBox="1"/>
            <p:nvPr/>
          </p:nvSpPr>
          <p:spPr>
            <a:xfrm>
              <a:off x="8139240" y="3402000"/>
              <a:ext cx="784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13.3%</a:t>
              </a:r>
              <a:endParaRPr b="0" lang="en-US" sz="1400" spc="-1" strike="noStrike">
                <a:solidFill>
                  <a:srgbClr val="ffffff"/>
                </a:solidFill>
                <a:latin typeface="Arial"/>
              </a:endParaRPr>
            </a:p>
          </p:txBody>
        </p:sp>
        <p:sp>
          <p:nvSpPr>
            <p:cNvPr id="659" name=""/>
            <p:cNvSpPr txBox="1"/>
            <p:nvPr/>
          </p:nvSpPr>
          <p:spPr>
            <a:xfrm>
              <a:off x="8245440" y="387504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6.9%</a:t>
              </a:r>
              <a:endParaRPr b="0" lang="en-US" sz="1400" spc="-1" strike="noStrike">
                <a:solidFill>
                  <a:srgbClr val="ffffff"/>
                </a:solidFill>
                <a:latin typeface="Arial"/>
              </a:endParaRPr>
            </a:p>
          </p:txBody>
        </p:sp>
        <p:sp>
          <p:nvSpPr>
            <p:cNvPr id="660" name=""/>
            <p:cNvSpPr txBox="1"/>
            <p:nvPr/>
          </p:nvSpPr>
          <p:spPr>
            <a:xfrm>
              <a:off x="8245440" y="438624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77.0%</a:t>
              </a:r>
              <a:endParaRPr b="0" lang="en-US" sz="1400" spc="-1" strike="noStrike">
                <a:solidFill>
                  <a:srgbClr val="ffffff"/>
                </a:solidFill>
                <a:latin typeface="Arial"/>
              </a:endParaRPr>
            </a:p>
          </p:txBody>
        </p:sp>
        <p:sp>
          <p:nvSpPr>
            <p:cNvPr id="661" name=""/>
            <p:cNvSpPr txBox="1"/>
            <p:nvPr/>
          </p:nvSpPr>
          <p:spPr>
            <a:xfrm>
              <a:off x="1789200" y="49118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662" name=""/>
            <p:cNvSpPr/>
            <p:nvPr/>
          </p:nvSpPr>
          <p:spPr>
            <a:xfrm>
              <a:off x="1946160" y="5908680"/>
              <a:ext cx="329040" cy="167040"/>
            </a:xfrm>
            <a:custGeom>
              <a:avLst/>
              <a:gdLst/>
              <a:ahLst/>
              <a:rect l="0" t="0" r="r" b="b"/>
              <a:pathLst>
                <a:path w="914" h="464">
                  <a:moveTo>
                    <a:pt x="914" y="464"/>
                  </a:moveTo>
                  <a:lnTo>
                    <a:pt x="914" y="0"/>
                  </a:lnTo>
                  <a:lnTo>
                    <a:pt x="0" y="0"/>
                  </a:lnTo>
                  <a:lnTo>
                    <a:pt x="0" y="464"/>
                  </a:lnTo>
                  <a:lnTo>
                    <a:pt x="914" y="464"/>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3" name=""/>
            <p:cNvSpPr/>
            <p:nvPr/>
          </p:nvSpPr>
          <p:spPr>
            <a:xfrm>
              <a:off x="1946160" y="5643720"/>
              <a:ext cx="329040" cy="167040"/>
            </a:xfrm>
            <a:custGeom>
              <a:avLst/>
              <a:gdLst/>
              <a:ahLst/>
              <a:rect l="0" t="0" r="r" b="b"/>
              <a:pathLst>
                <a:path w="914" h="464">
                  <a:moveTo>
                    <a:pt x="914" y="0"/>
                  </a:moveTo>
                  <a:lnTo>
                    <a:pt x="914" y="464"/>
                  </a:lnTo>
                  <a:lnTo>
                    <a:pt x="0" y="464"/>
                  </a:lnTo>
                  <a:lnTo>
                    <a:pt x="0" y="0"/>
                  </a:lnTo>
                  <a:lnTo>
                    <a:pt x="914"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4" name=""/>
            <p:cNvSpPr/>
            <p:nvPr/>
          </p:nvSpPr>
          <p:spPr>
            <a:xfrm>
              <a:off x="1946160" y="5378400"/>
              <a:ext cx="329040" cy="167040"/>
            </a:xfrm>
            <a:custGeom>
              <a:avLst/>
              <a:gdLst/>
              <a:ahLst/>
              <a:rect l="0" t="0" r="r" b="b"/>
              <a:pathLst>
                <a:path w="914" h="464">
                  <a:moveTo>
                    <a:pt x="914" y="464"/>
                  </a:moveTo>
                  <a:lnTo>
                    <a:pt x="914" y="0"/>
                  </a:lnTo>
                  <a:lnTo>
                    <a:pt x="0" y="0"/>
                  </a:lnTo>
                  <a:lnTo>
                    <a:pt x="0" y="464"/>
                  </a:lnTo>
                  <a:lnTo>
                    <a:pt x="914" y="464"/>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5" name=""/>
            <p:cNvSpPr txBox="1"/>
            <p:nvPr/>
          </p:nvSpPr>
          <p:spPr>
            <a:xfrm>
              <a:off x="2384280" y="531828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666" name=""/>
            <p:cNvSpPr txBox="1"/>
            <p:nvPr/>
          </p:nvSpPr>
          <p:spPr>
            <a:xfrm>
              <a:off x="2384280" y="558468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667" name=""/>
            <p:cNvSpPr txBox="1"/>
            <p:nvPr/>
          </p:nvSpPr>
          <p:spPr>
            <a:xfrm>
              <a:off x="2384280" y="585324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sp>
          <p:nvSpPr>
            <p:cNvPr id="668" name=""/>
            <p:cNvSpPr/>
            <p:nvPr/>
          </p:nvSpPr>
          <p:spPr>
            <a:xfrm>
              <a:off x="725472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69" name=""/>
            <p:cNvSpPr/>
            <p:nvPr/>
          </p:nvSpPr>
          <p:spPr>
            <a:xfrm>
              <a:off x="636444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0" name=""/>
            <p:cNvSpPr/>
            <p:nvPr/>
          </p:nvSpPr>
          <p:spPr>
            <a:xfrm>
              <a:off x="547380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1" name=""/>
            <p:cNvSpPr/>
            <p:nvPr/>
          </p:nvSpPr>
          <p:spPr>
            <a:xfrm>
              <a:off x="458316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2" name=""/>
            <p:cNvSpPr/>
            <p:nvPr/>
          </p:nvSpPr>
          <p:spPr>
            <a:xfrm>
              <a:off x="369396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3" name=""/>
            <p:cNvSpPr/>
            <p:nvPr/>
          </p:nvSpPr>
          <p:spPr>
            <a:xfrm>
              <a:off x="280512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4" name=""/>
            <p:cNvSpPr txBox="1"/>
            <p:nvPr/>
          </p:nvSpPr>
          <p:spPr>
            <a:xfrm>
              <a:off x="2647800" y="49276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0</a:t>
              </a:r>
              <a:endParaRPr b="0" lang="en-US" sz="1400" spc="-1" strike="noStrike">
                <a:solidFill>
                  <a:srgbClr val="ffffff"/>
                </a:solidFill>
                <a:latin typeface="Arial"/>
              </a:endParaRPr>
            </a:p>
          </p:txBody>
        </p:sp>
        <p:sp>
          <p:nvSpPr>
            <p:cNvPr id="675" name=""/>
            <p:cNvSpPr txBox="1"/>
            <p:nvPr/>
          </p:nvSpPr>
          <p:spPr>
            <a:xfrm>
              <a:off x="3505320" y="489744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0</a:t>
              </a:r>
              <a:endParaRPr b="0" lang="en-US" sz="1400" spc="-1" strike="noStrike">
                <a:solidFill>
                  <a:srgbClr val="ffffff"/>
                </a:solidFill>
                <a:latin typeface="Arial"/>
              </a:endParaRPr>
            </a:p>
          </p:txBody>
        </p:sp>
        <p:sp>
          <p:nvSpPr>
            <p:cNvPr id="676" name=""/>
            <p:cNvSpPr txBox="1"/>
            <p:nvPr/>
          </p:nvSpPr>
          <p:spPr>
            <a:xfrm>
              <a:off x="4398840" y="489744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0</a:t>
              </a:r>
              <a:endParaRPr b="0" lang="en-US" sz="1400" spc="-1" strike="noStrike">
                <a:solidFill>
                  <a:srgbClr val="ffffff"/>
                </a:solidFill>
                <a:latin typeface="Arial"/>
              </a:endParaRPr>
            </a:p>
          </p:txBody>
        </p:sp>
        <p:sp>
          <p:nvSpPr>
            <p:cNvPr id="677" name=""/>
            <p:cNvSpPr txBox="1"/>
            <p:nvPr/>
          </p:nvSpPr>
          <p:spPr>
            <a:xfrm>
              <a:off x="5281560" y="489744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80</a:t>
              </a:r>
              <a:endParaRPr b="0" lang="en-US" sz="1400" spc="-1" strike="noStrike">
                <a:solidFill>
                  <a:srgbClr val="ffffff"/>
                </a:solidFill>
                <a:latin typeface="Arial"/>
              </a:endParaRPr>
            </a:p>
          </p:txBody>
        </p:sp>
        <p:sp>
          <p:nvSpPr>
            <p:cNvPr id="678" name=""/>
            <p:cNvSpPr txBox="1"/>
            <p:nvPr/>
          </p:nvSpPr>
          <p:spPr>
            <a:xfrm>
              <a:off x="7004160" y="4897440"/>
              <a:ext cx="477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20</a:t>
              </a:r>
              <a:endParaRPr b="0" lang="en-US" sz="1400" spc="-1" strike="noStrike">
                <a:solidFill>
                  <a:srgbClr val="ffffff"/>
                </a:solidFill>
                <a:latin typeface="Arial"/>
              </a:endParaRPr>
            </a:p>
          </p:txBody>
        </p:sp>
        <p:sp>
          <p:nvSpPr>
            <p:cNvPr id="679" name=""/>
            <p:cNvSpPr txBox="1"/>
            <p:nvPr/>
          </p:nvSpPr>
          <p:spPr>
            <a:xfrm>
              <a:off x="6113520" y="4897440"/>
              <a:ext cx="477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0</a:t>
              </a:r>
              <a:endParaRPr b="0" lang="en-US" sz="1400" spc="-1" strike="noStrike">
                <a:solidFill>
                  <a:srgbClr val="ffffff"/>
                </a:solidFill>
                <a:latin typeface="Arial"/>
              </a:endParaRPr>
            </a:p>
          </p:txBody>
        </p:sp>
        <p:sp>
          <p:nvSpPr>
            <p:cNvPr id="680" name=""/>
            <p:cNvSpPr/>
            <p:nvPr/>
          </p:nvSpPr>
          <p:spPr>
            <a:xfrm>
              <a:off x="1940040" y="1778040"/>
              <a:ext cx="0" cy="3111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681" name=""/>
            <p:cNvGrpSpPr/>
            <p:nvPr/>
          </p:nvGrpSpPr>
          <p:grpSpPr>
            <a:xfrm>
              <a:off x="673200" y="1844640"/>
              <a:ext cx="1403280" cy="2941560"/>
              <a:chOff x="673200" y="1844640"/>
              <a:chExt cx="1403280" cy="2941560"/>
            </a:xfrm>
          </p:grpSpPr>
          <p:sp>
            <p:nvSpPr>
              <p:cNvPr id="682" name=""/>
              <p:cNvSpPr txBox="1"/>
              <p:nvPr/>
            </p:nvSpPr>
            <p:spPr>
              <a:xfrm>
                <a:off x="816120" y="1844640"/>
                <a:ext cx="12081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683" name=""/>
              <p:cNvSpPr txBox="1"/>
              <p:nvPr/>
            </p:nvSpPr>
            <p:spPr>
              <a:xfrm>
                <a:off x="1019160" y="2021040"/>
                <a:ext cx="9716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684" name=""/>
              <p:cNvSpPr txBox="1"/>
              <p:nvPr/>
            </p:nvSpPr>
            <p:spPr>
              <a:xfrm>
                <a:off x="1001880" y="2344680"/>
                <a:ext cx="9810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Interstate</a:t>
                </a:r>
                <a:endParaRPr b="0" lang="en-US" sz="1400" spc="-1" strike="noStrike">
                  <a:solidFill>
                    <a:srgbClr val="ffffff"/>
                  </a:solidFill>
                  <a:latin typeface="Arial"/>
                </a:endParaRPr>
              </a:p>
            </p:txBody>
          </p:sp>
          <p:sp>
            <p:nvSpPr>
              <p:cNvPr id="685" name=""/>
              <p:cNvSpPr txBox="1"/>
              <p:nvPr/>
            </p:nvSpPr>
            <p:spPr>
              <a:xfrm>
                <a:off x="1058760" y="2529000"/>
                <a:ext cx="9320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686" name=""/>
              <p:cNvSpPr txBox="1"/>
              <p:nvPr/>
            </p:nvSpPr>
            <p:spPr>
              <a:xfrm>
                <a:off x="1027080" y="2803680"/>
                <a:ext cx="1049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687" name=""/>
              <p:cNvSpPr txBox="1"/>
              <p:nvPr/>
            </p:nvSpPr>
            <p:spPr>
              <a:xfrm>
                <a:off x="673200" y="2970360"/>
                <a:ext cx="13176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688" name=""/>
              <p:cNvSpPr txBox="1"/>
              <p:nvPr/>
            </p:nvSpPr>
            <p:spPr>
              <a:xfrm>
                <a:off x="1130400" y="3371760"/>
                <a:ext cx="9129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689" name=""/>
              <p:cNvSpPr txBox="1"/>
              <p:nvPr/>
            </p:nvSpPr>
            <p:spPr>
              <a:xfrm>
                <a:off x="1255680" y="3562200"/>
                <a:ext cx="7351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690" name=""/>
              <p:cNvSpPr txBox="1"/>
              <p:nvPr/>
            </p:nvSpPr>
            <p:spPr>
              <a:xfrm>
                <a:off x="1066680" y="388944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691" name=""/>
              <p:cNvSpPr txBox="1"/>
              <p:nvPr/>
            </p:nvSpPr>
            <p:spPr>
              <a:xfrm>
                <a:off x="1049400" y="405288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692" name=""/>
              <p:cNvSpPr txBox="1"/>
              <p:nvPr/>
            </p:nvSpPr>
            <p:spPr>
              <a:xfrm>
                <a:off x="947880" y="4484520"/>
                <a:ext cx="10508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grpSp>
        <p:sp>
          <p:nvSpPr>
            <p:cNvPr id="693" name=""/>
            <p:cNvSpPr/>
            <p:nvPr/>
          </p:nvSpPr>
          <p:spPr>
            <a:xfrm>
              <a:off x="811224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4" name=""/>
            <p:cNvSpPr txBox="1"/>
            <p:nvPr/>
          </p:nvSpPr>
          <p:spPr>
            <a:xfrm>
              <a:off x="7861320" y="4897440"/>
              <a:ext cx="477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40</a:t>
              </a:r>
              <a:endParaRPr b="0" lang="en-US" sz="1400" spc="-1" strike="noStrike">
                <a:solidFill>
                  <a:srgbClr val="ffffff"/>
                </a:solidFill>
                <a:latin typeface="Arial"/>
              </a:endParaRPr>
            </a:p>
          </p:txBody>
        </p:sp>
        <p:sp>
          <p:nvSpPr>
            <p:cNvPr id="695" name=""/>
            <p:cNvSpPr/>
            <p:nvPr/>
          </p:nvSpPr>
          <p:spPr>
            <a:xfrm>
              <a:off x="1946160" y="1857240"/>
              <a:ext cx="5805720" cy="327240"/>
            </a:xfrm>
            <a:custGeom>
              <a:avLst/>
              <a:gdLst/>
              <a:ahLst/>
              <a:rect l="0" t="0" r="r" b="b"/>
              <a:pathLst>
                <a:path w="16127" h="909">
                  <a:moveTo>
                    <a:pt x="0" y="0"/>
                  </a:moveTo>
                  <a:lnTo>
                    <a:pt x="16127" y="0"/>
                  </a:lnTo>
                  <a:lnTo>
                    <a:pt x="16127" y="909"/>
                  </a:lnTo>
                  <a:lnTo>
                    <a:pt x="0" y="909"/>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1946160" y="2363760"/>
              <a:ext cx="6215400" cy="346320"/>
            </a:xfrm>
            <a:custGeom>
              <a:avLst/>
              <a:gdLst/>
              <a:ahLst/>
              <a:rect l="0" t="0" r="r" b="b"/>
              <a:pathLst>
                <a:path w="17265" h="962">
                  <a:moveTo>
                    <a:pt x="0" y="962"/>
                  </a:moveTo>
                  <a:lnTo>
                    <a:pt x="17265" y="962"/>
                  </a:lnTo>
                  <a:lnTo>
                    <a:pt x="17265" y="0"/>
                  </a:lnTo>
                  <a:lnTo>
                    <a:pt x="0" y="0"/>
                  </a:lnTo>
                  <a:lnTo>
                    <a:pt x="0" y="962"/>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7" name=""/>
            <p:cNvSpPr/>
            <p:nvPr/>
          </p:nvSpPr>
          <p:spPr>
            <a:xfrm>
              <a:off x="1946160" y="2873520"/>
              <a:ext cx="4540680" cy="330480"/>
            </a:xfrm>
            <a:custGeom>
              <a:avLst/>
              <a:gdLst/>
              <a:ahLst/>
              <a:rect l="0" t="0" r="r" b="b"/>
              <a:pathLst>
                <a:path w="12613" h="918">
                  <a:moveTo>
                    <a:pt x="0" y="0"/>
                  </a:moveTo>
                  <a:lnTo>
                    <a:pt x="12613" y="0"/>
                  </a:lnTo>
                  <a:lnTo>
                    <a:pt x="12613" y="918"/>
                  </a:lnTo>
                  <a:lnTo>
                    <a:pt x="0" y="918"/>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8" name=""/>
            <p:cNvSpPr/>
            <p:nvPr/>
          </p:nvSpPr>
          <p:spPr>
            <a:xfrm>
              <a:off x="1946160" y="3382920"/>
              <a:ext cx="4915440" cy="346320"/>
            </a:xfrm>
            <a:custGeom>
              <a:avLst/>
              <a:gdLst/>
              <a:ahLst/>
              <a:rect l="0" t="0" r="r" b="b"/>
              <a:pathLst>
                <a:path w="13654" h="962">
                  <a:moveTo>
                    <a:pt x="0" y="962"/>
                  </a:moveTo>
                  <a:lnTo>
                    <a:pt x="13654" y="962"/>
                  </a:lnTo>
                  <a:lnTo>
                    <a:pt x="13654" y="0"/>
                  </a:lnTo>
                  <a:lnTo>
                    <a:pt x="0" y="0"/>
                  </a:lnTo>
                  <a:lnTo>
                    <a:pt x="0" y="962"/>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1946160" y="3887640"/>
              <a:ext cx="2981520" cy="348120"/>
            </a:xfrm>
            <a:custGeom>
              <a:avLst/>
              <a:gdLst/>
              <a:ahLst/>
              <a:rect l="0" t="0" r="r" b="b"/>
              <a:pathLst>
                <a:path w="8282" h="967">
                  <a:moveTo>
                    <a:pt x="0" y="0"/>
                  </a:moveTo>
                  <a:lnTo>
                    <a:pt x="8282" y="0"/>
                  </a:lnTo>
                  <a:lnTo>
                    <a:pt x="8282" y="967"/>
                  </a:lnTo>
                  <a:lnTo>
                    <a:pt x="0" y="967"/>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0" name=""/>
            <p:cNvSpPr/>
            <p:nvPr/>
          </p:nvSpPr>
          <p:spPr>
            <a:xfrm>
              <a:off x="1946160" y="4394160"/>
              <a:ext cx="3366000" cy="332280"/>
            </a:xfrm>
            <a:custGeom>
              <a:avLst/>
              <a:gdLst/>
              <a:ahLst/>
              <a:rect l="0" t="0" r="r" b="b"/>
              <a:pathLst>
                <a:path w="9350" h="923">
                  <a:moveTo>
                    <a:pt x="0" y="923"/>
                  </a:moveTo>
                  <a:lnTo>
                    <a:pt x="9350" y="923"/>
                  </a:lnTo>
                  <a:lnTo>
                    <a:pt x="9350" y="0"/>
                  </a:lnTo>
                  <a:lnTo>
                    <a:pt x="0" y="0"/>
                  </a:lnTo>
                  <a:lnTo>
                    <a:pt x="0" y="923"/>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01" name=""/>
          <p:cNvSpPr txBox="1"/>
          <p:nvPr/>
        </p:nvSpPr>
        <p:spPr>
          <a:xfrm>
            <a:off x="833400" y="581040"/>
            <a:ext cx="807732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Profitability:</a:t>
            </a:r>
            <a:br>
              <a:rPr sz="4400"/>
            </a:br>
            <a:r>
              <a:rPr b="1" lang="en-US" sz="4400" spc="-1" strike="noStrike">
                <a:solidFill>
                  <a:srgbClr val="ffcc66"/>
                </a:solidFill>
                <a:latin typeface="Arial"/>
                <a:ea typeface="Arial"/>
              </a:rPr>
              <a:t>Return on Equity</a:t>
            </a:r>
            <a:endParaRPr b="0" lang="en-US" sz="4400" spc="-1" strike="noStrike">
              <a:solidFill>
                <a:srgbClr val="ffffff"/>
              </a:solidFill>
              <a:latin typeface="Arial"/>
            </a:endParaRPr>
          </a:p>
        </p:txBody>
      </p:sp>
      <p:sp>
        <p:nvSpPr>
          <p:cNvPr id="702" name=""/>
          <p:cNvSpPr txBox="1"/>
          <p:nvPr/>
        </p:nvSpPr>
        <p:spPr>
          <a:xfrm>
            <a:off x="914400" y="2286000"/>
            <a:ext cx="8001000" cy="25146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easure of how much owners have earned on their investment.</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Net Income / Average Owners’ Equ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6" name=""/>
          <p:cNvSpPr txBox="1"/>
          <p:nvPr/>
        </p:nvSpPr>
        <p:spPr>
          <a:xfrm>
            <a:off x="1066680" y="439560"/>
            <a:ext cx="7613640" cy="1236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inancial Statements</a:t>
            </a:r>
            <a:endParaRPr b="0" lang="en-US" sz="4400" spc="-1" strike="noStrike">
              <a:solidFill>
                <a:srgbClr val="ffffff"/>
              </a:solidFill>
              <a:latin typeface="Arial"/>
            </a:endParaRPr>
          </a:p>
        </p:txBody>
      </p:sp>
      <p:sp>
        <p:nvSpPr>
          <p:cNvPr id="57" name=""/>
          <p:cNvSpPr txBox="1"/>
          <p:nvPr/>
        </p:nvSpPr>
        <p:spPr>
          <a:xfrm>
            <a:off x="1066680" y="1676520"/>
            <a:ext cx="7772400" cy="4724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Financial statements are the most important way of periodically presenting to parties outside the business the information that has been gathered and processed in the accounting 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03" name=""/>
          <p:cNvSpPr txBox="1"/>
          <p:nvPr/>
        </p:nvSpPr>
        <p:spPr>
          <a:xfrm>
            <a:off x="395280" y="289080"/>
            <a:ext cx="8740800" cy="106380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Average Return on Equity for</a:t>
            </a:r>
            <a:endParaRPr b="0" lang="en-US" sz="3200" spc="-1" strike="noStrike">
              <a:solidFill>
                <a:srgbClr val="ffffff"/>
              </a:solidFill>
              <a:latin typeface="Arial"/>
            </a:endParaRPr>
          </a:p>
          <a:p>
            <a:pPr algn="ctr">
              <a:lnSpc>
                <a:spcPct val="100000"/>
              </a:lnSpc>
            </a:pPr>
            <a:r>
              <a:rPr b="1" lang="en-US" sz="3200" spc="-1" strike="noStrike">
                <a:solidFill>
                  <a:srgbClr val="ffcc66"/>
                </a:solidFill>
                <a:latin typeface="Arial"/>
                <a:ea typeface="Arial"/>
              </a:rPr>
              <a:t>Selected Industries</a:t>
            </a:r>
            <a:endParaRPr b="0" lang="en-US" sz="3200" spc="-1" strike="noStrike">
              <a:solidFill>
                <a:srgbClr val="ffffff"/>
              </a:solidFill>
              <a:latin typeface="Arial"/>
            </a:endParaRPr>
          </a:p>
        </p:txBody>
      </p:sp>
      <p:grpSp>
        <p:nvGrpSpPr>
          <p:cNvPr id="704" name=""/>
          <p:cNvGrpSpPr/>
          <p:nvPr/>
        </p:nvGrpSpPr>
        <p:grpSpPr>
          <a:xfrm>
            <a:off x="407880" y="1365120"/>
            <a:ext cx="8455320" cy="4976640"/>
            <a:chOff x="407880" y="1365120"/>
            <a:chExt cx="8455320" cy="4976640"/>
          </a:xfrm>
        </p:grpSpPr>
        <p:sp>
          <p:nvSpPr>
            <p:cNvPr id="705" name=""/>
            <p:cNvSpPr/>
            <p:nvPr/>
          </p:nvSpPr>
          <p:spPr>
            <a:xfrm>
              <a:off x="739800" y="1365120"/>
              <a:ext cx="8123400" cy="49766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407880" y="1417680"/>
              <a:ext cx="203040" cy="223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07" name=""/>
            <p:cNvSpPr/>
            <p:nvPr/>
          </p:nvSpPr>
          <p:spPr>
            <a:xfrm>
              <a:off x="725976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08" name=""/>
            <p:cNvSpPr/>
            <p:nvPr/>
          </p:nvSpPr>
          <p:spPr>
            <a:xfrm>
              <a:off x="662004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09" name=""/>
            <p:cNvSpPr/>
            <p:nvPr/>
          </p:nvSpPr>
          <p:spPr>
            <a:xfrm>
              <a:off x="597996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0" name=""/>
            <p:cNvSpPr/>
            <p:nvPr/>
          </p:nvSpPr>
          <p:spPr>
            <a:xfrm>
              <a:off x="534024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1" name=""/>
            <p:cNvSpPr/>
            <p:nvPr/>
          </p:nvSpPr>
          <p:spPr>
            <a:xfrm>
              <a:off x="470052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2" name=""/>
            <p:cNvSpPr/>
            <p:nvPr/>
          </p:nvSpPr>
          <p:spPr>
            <a:xfrm>
              <a:off x="406080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3" name=""/>
            <p:cNvSpPr/>
            <p:nvPr/>
          </p:nvSpPr>
          <p:spPr>
            <a:xfrm>
              <a:off x="342252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4" name=""/>
            <p:cNvSpPr/>
            <p:nvPr/>
          </p:nvSpPr>
          <p:spPr>
            <a:xfrm>
              <a:off x="278280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715" name=""/>
            <p:cNvGrpSpPr/>
            <p:nvPr/>
          </p:nvGrpSpPr>
          <p:grpSpPr>
            <a:xfrm>
              <a:off x="2776680" y="2095560"/>
              <a:ext cx="5051160" cy="2494080"/>
              <a:chOff x="2776680" y="2095560"/>
              <a:chExt cx="5051160" cy="2494080"/>
            </a:xfrm>
          </p:grpSpPr>
          <p:sp>
            <p:nvSpPr>
              <p:cNvPr id="716" name=""/>
              <p:cNvSpPr/>
              <p:nvPr/>
            </p:nvSpPr>
            <p:spPr>
              <a:xfrm>
                <a:off x="2776680" y="209556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7" name=""/>
              <p:cNvSpPr/>
              <p:nvPr/>
            </p:nvSpPr>
            <p:spPr>
              <a:xfrm>
                <a:off x="2776680" y="458964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8" name=""/>
              <p:cNvSpPr/>
              <p:nvPr/>
            </p:nvSpPr>
            <p:spPr>
              <a:xfrm>
                <a:off x="2776680" y="408924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9" name=""/>
              <p:cNvSpPr/>
              <p:nvPr/>
            </p:nvSpPr>
            <p:spPr>
              <a:xfrm>
                <a:off x="2776680" y="359100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0" name=""/>
              <p:cNvSpPr/>
              <p:nvPr/>
            </p:nvSpPr>
            <p:spPr>
              <a:xfrm>
                <a:off x="2776680" y="309240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1" name=""/>
              <p:cNvSpPr/>
              <p:nvPr/>
            </p:nvSpPr>
            <p:spPr>
              <a:xfrm>
                <a:off x="2776680" y="259380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722" name=""/>
            <p:cNvSpPr/>
            <p:nvPr/>
          </p:nvSpPr>
          <p:spPr>
            <a:xfrm>
              <a:off x="2151000" y="1916280"/>
              <a:ext cx="3797640" cy="324360"/>
            </a:xfrm>
            <a:custGeom>
              <a:avLst/>
              <a:gdLst/>
              <a:ahLst/>
              <a:rect l="0" t="0" r="r" b="b"/>
              <a:pathLst>
                <a:path w="10549" h="901">
                  <a:moveTo>
                    <a:pt x="0" y="0"/>
                  </a:moveTo>
                  <a:lnTo>
                    <a:pt x="10549" y="0"/>
                  </a:lnTo>
                  <a:lnTo>
                    <a:pt x="10549" y="901"/>
                  </a:lnTo>
                  <a:lnTo>
                    <a:pt x="0" y="901"/>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3" name=""/>
            <p:cNvSpPr/>
            <p:nvPr/>
          </p:nvSpPr>
          <p:spPr>
            <a:xfrm>
              <a:off x="2151000" y="2414520"/>
              <a:ext cx="2746800" cy="340200"/>
            </a:xfrm>
            <a:custGeom>
              <a:avLst/>
              <a:gdLst/>
              <a:ahLst/>
              <a:rect l="0" t="0" r="r" b="b"/>
              <a:pathLst>
                <a:path w="7630" h="945">
                  <a:moveTo>
                    <a:pt x="0" y="945"/>
                  </a:moveTo>
                  <a:lnTo>
                    <a:pt x="7630" y="945"/>
                  </a:lnTo>
                  <a:lnTo>
                    <a:pt x="7630" y="0"/>
                  </a:lnTo>
                  <a:lnTo>
                    <a:pt x="0" y="0"/>
                  </a:lnTo>
                  <a:lnTo>
                    <a:pt x="0" y="945"/>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4" name=""/>
            <p:cNvSpPr/>
            <p:nvPr/>
          </p:nvSpPr>
          <p:spPr>
            <a:xfrm>
              <a:off x="2151000" y="2913120"/>
              <a:ext cx="2081520" cy="327240"/>
            </a:xfrm>
            <a:custGeom>
              <a:avLst/>
              <a:gdLst/>
              <a:ahLst/>
              <a:rect l="0" t="0" r="r" b="b"/>
              <a:pathLst>
                <a:path w="5782" h="909">
                  <a:moveTo>
                    <a:pt x="0" y="0"/>
                  </a:moveTo>
                  <a:lnTo>
                    <a:pt x="5782" y="0"/>
                  </a:lnTo>
                  <a:lnTo>
                    <a:pt x="5782" y="909"/>
                  </a:lnTo>
                  <a:lnTo>
                    <a:pt x="0" y="909"/>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5" name=""/>
            <p:cNvSpPr/>
            <p:nvPr/>
          </p:nvSpPr>
          <p:spPr>
            <a:xfrm>
              <a:off x="2151000" y="3414600"/>
              <a:ext cx="2681640" cy="321120"/>
            </a:xfrm>
            <a:custGeom>
              <a:avLst/>
              <a:gdLst/>
              <a:ahLst/>
              <a:rect l="0" t="0" r="r" b="b"/>
              <a:pathLst>
                <a:path w="7449" h="892">
                  <a:moveTo>
                    <a:pt x="0" y="892"/>
                  </a:moveTo>
                  <a:lnTo>
                    <a:pt x="7449" y="892"/>
                  </a:lnTo>
                  <a:lnTo>
                    <a:pt x="7449" y="0"/>
                  </a:lnTo>
                  <a:lnTo>
                    <a:pt x="0" y="0"/>
                  </a:lnTo>
                  <a:lnTo>
                    <a:pt x="0" y="892"/>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6" name=""/>
            <p:cNvSpPr/>
            <p:nvPr/>
          </p:nvSpPr>
          <p:spPr>
            <a:xfrm>
              <a:off x="2151000" y="3913200"/>
              <a:ext cx="835560" cy="340200"/>
            </a:xfrm>
            <a:custGeom>
              <a:avLst/>
              <a:gdLst/>
              <a:ahLst/>
              <a:rect l="0" t="0" r="r" b="b"/>
              <a:pathLst>
                <a:path w="2321" h="945">
                  <a:moveTo>
                    <a:pt x="0" y="0"/>
                  </a:moveTo>
                  <a:lnTo>
                    <a:pt x="2321" y="0"/>
                  </a:lnTo>
                  <a:lnTo>
                    <a:pt x="2321" y="945"/>
                  </a:lnTo>
                  <a:lnTo>
                    <a:pt x="0" y="945"/>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7" name=""/>
            <p:cNvSpPr/>
            <p:nvPr/>
          </p:nvSpPr>
          <p:spPr>
            <a:xfrm>
              <a:off x="2151000" y="4410000"/>
              <a:ext cx="2941920" cy="341640"/>
            </a:xfrm>
            <a:custGeom>
              <a:avLst/>
              <a:gdLst/>
              <a:ahLst/>
              <a:rect l="0" t="0" r="r" b="b"/>
              <a:pathLst>
                <a:path w="8172" h="949">
                  <a:moveTo>
                    <a:pt x="0" y="949"/>
                  </a:moveTo>
                  <a:lnTo>
                    <a:pt x="8172" y="949"/>
                  </a:lnTo>
                  <a:lnTo>
                    <a:pt x="8172" y="0"/>
                  </a:lnTo>
                  <a:lnTo>
                    <a:pt x="0" y="0"/>
                  </a:lnTo>
                  <a:lnTo>
                    <a:pt x="0" y="949"/>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28" name=""/>
            <p:cNvGrpSpPr/>
            <p:nvPr/>
          </p:nvGrpSpPr>
          <p:grpSpPr>
            <a:xfrm>
              <a:off x="7878600" y="1944720"/>
              <a:ext cx="685800" cy="2798640"/>
              <a:chOff x="7878600" y="1944720"/>
              <a:chExt cx="685800" cy="2798640"/>
            </a:xfrm>
          </p:grpSpPr>
          <p:sp>
            <p:nvSpPr>
              <p:cNvPr id="729" name=""/>
              <p:cNvSpPr txBox="1"/>
              <p:nvPr/>
            </p:nvSpPr>
            <p:spPr>
              <a:xfrm>
                <a:off x="7878600" y="194472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9.8%</a:t>
                </a:r>
                <a:endParaRPr b="0" lang="en-US" sz="1400" spc="-1" strike="noStrike">
                  <a:solidFill>
                    <a:srgbClr val="ffffff"/>
                  </a:solidFill>
                  <a:latin typeface="Arial"/>
                </a:endParaRPr>
              </a:p>
            </p:txBody>
          </p:sp>
          <p:sp>
            <p:nvSpPr>
              <p:cNvPr id="730" name=""/>
              <p:cNvSpPr txBox="1"/>
              <p:nvPr/>
            </p:nvSpPr>
            <p:spPr>
              <a:xfrm>
                <a:off x="7878600" y="243828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1.9%</a:t>
                </a:r>
                <a:endParaRPr b="0" lang="en-US" sz="1400" spc="-1" strike="noStrike">
                  <a:solidFill>
                    <a:srgbClr val="ffffff"/>
                  </a:solidFill>
                  <a:latin typeface="Arial"/>
                </a:endParaRPr>
              </a:p>
            </p:txBody>
          </p:sp>
          <p:sp>
            <p:nvSpPr>
              <p:cNvPr id="731" name=""/>
              <p:cNvSpPr txBox="1"/>
              <p:nvPr/>
            </p:nvSpPr>
            <p:spPr>
              <a:xfrm>
                <a:off x="7878600" y="294336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5.9%</a:t>
                </a:r>
                <a:endParaRPr b="0" lang="en-US" sz="1400" spc="-1" strike="noStrike">
                  <a:solidFill>
                    <a:srgbClr val="ffffff"/>
                  </a:solidFill>
                  <a:latin typeface="Arial"/>
                </a:endParaRPr>
              </a:p>
            </p:txBody>
          </p:sp>
          <p:sp>
            <p:nvSpPr>
              <p:cNvPr id="732" name=""/>
              <p:cNvSpPr txBox="1"/>
              <p:nvPr/>
            </p:nvSpPr>
            <p:spPr>
              <a:xfrm>
                <a:off x="7878600" y="344340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0.7%</a:t>
                </a:r>
                <a:endParaRPr b="0" lang="en-US" sz="1400" spc="-1" strike="noStrike">
                  <a:solidFill>
                    <a:srgbClr val="ffffff"/>
                  </a:solidFill>
                  <a:latin typeface="Arial"/>
                </a:endParaRPr>
              </a:p>
            </p:txBody>
          </p:sp>
          <p:sp>
            <p:nvSpPr>
              <p:cNvPr id="733" name=""/>
              <p:cNvSpPr txBox="1"/>
              <p:nvPr/>
            </p:nvSpPr>
            <p:spPr>
              <a:xfrm>
                <a:off x="7972560" y="394020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5%</a:t>
                </a:r>
                <a:endParaRPr b="0" lang="en-US" sz="1400" spc="-1" strike="noStrike">
                  <a:solidFill>
                    <a:srgbClr val="ffffff"/>
                  </a:solidFill>
                  <a:latin typeface="Arial"/>
                </a:endParaRPr>
              </a:p>
            </p:txBody>
          </p:sp>
          <p:sp>
            <p:nvSpPr>
              <p:cNvPr id="734" name=""/>
              <p:cNvSpPr txBox="1"/>
              <p:nvPr/>
            </p:nvSpPr>
            <p:spPr>
              <a:xfrm>
                <a:off x="7878600" y="444168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3.0%</a:t>
                </a:r>
                <a:endParaRPr b="0" lang="en-US" sz="1400" spc="-1" strike="noStrike">
                  <a:solidFill>
                    <a:srgbClr val="ffffff"/>
                  </a:solidFill>
                  <a:latin typeface="Arial"/>
                </a:endParaRPr>
              </a:p>
            </p:txBody>
          </p:sp>
        </p:grpSp>
        <p:sp>
          <p:nvSpPr>
            <p:cNvPr id="735" name=""/>
            <p:cNvSpPr txBox="1"/>
            <p:nvPr/>
          </p:nvSpPr>
          <p:spPr>
            <a:xfrm>
              <a:off x="1986120" y="49132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736" name=""/>
            <p:cNvSpPr/>
            <p:nvPr/>
          </p:nvSpPr>
          <p:spPr>
            <a:xfrm>
              <a:off x="2151000" y="5892840"/>
              <a:ext cx="356040" cy="165600"/>
            </a:xfrm>
            <a:custGeom>
              <a:avLst/>
              <a:gdLst/>
              <a:ahLst/>
              <a:rect l="0" t="0" r="r" b="b"/>
              <a:pathLst>
                <a:path w="989" h="460">
                  <a:moveTo>
                    <a:pt x="989" y="460"/>
                  </a:moveTo>
                  <a:lnTo>
                    <a:pt x="989" y="0"/>
                  </a:lnTo>
                  <a:lnTo>
                    <a:pt x="0" y="0"/>
                  </a:lnTo>
                  <a:lnTo>
                    <a:pt x="0" y="460"/>
                  </a:lnTo>
                  <a:lnTo>
                    <a:pt x="989" y="46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7" name=""/>
            <p:cNvSpPr/>
            <p:nvPr/>
          </p:nvSpPr>
          <p:spPr>
            <a:xfrm>
              <a:off x="2151000" y="5637240"/>
              <a:ext cx="356040" cy="160560"/>
            </a:xfrm>
            <a:custGeom>
              <a:avLst/>
              <a:gdLst/>
              <a:ahLst/>
              <a:rect l="0" t="0" r="r" b="b"/>
              <a:pathLst>
                <a:path w="989" h="446">
                  <a:moveTo>
                    <a:pt x="989" y="0"/>
                  </a:moveTo>
                  <a:lnTo>
                    <a:pt x="989" y="446"/>
                  </a:lnTo>
                  <a:lnTo>
                    <a:pt x="0" y="446"/>
                  </a:lnTo>
                  <a:lnTo>
                    <a:pt x="0" y="0"/>
                  </a:lnTo>
                  <a:lnTo>
                    <a:pt x="989"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8" name=""/>
            <p:cNvSpPr/>
            <p:nvPr/>
          </p:nvSpPr>
          <p:spPr>
            <a:xfrm>
              <a:off x="2151000" y="5376960"/>
              <a:ext cx="356040" cy="160560"/>
            </a:xfrm>
            <a:custGeom>
              <a:avLst/>
              <a:gdLst/>
              <a:ahLst/>
              <a:rect l="0" t="0" r="r" b="b"/>
              <a:pathLst>
                <a:path w="989" h="446">
                  <a:moveTo>
                    <a:pt x="989" y="446"/>
                  </a:moveTo>
                  <a:lnTo>
                    <a:pt x="989" y="0"/>
                  </a:lnTo>
                  <a:lnTo>
                    <a:pt x="0" y="0"/>
                  </a:lnTo>
                  <a:lnTo>
                    <a:pt x="0" y="446"/>
                  </a:lnTo>
                  <a:lnTo>
                    <a:pt x="989" y="446"/>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9" name=""/>
            <p:cNvSpPr txBox="1"/>
            <p:nvPr/>
          </p:nvSpPr>
          <p:spPr>
            <a:xfrm>
              <a:off x="2624040" y="531324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740" name=""/>
            <p:cNvSpPr txBox="1"/>
            <p:nvPr/>
          </p:nvSpPr>
          <p:spPr>
            <a:xfrm>
              <a:off x="2624040" y="557064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741" name=""/>
            <p:cNvSpPr txBox="1"/>
            <p:nvPr/>
          </p:nvSpPr>
          <p:spPr>
            <a:xfrm>
              <a:off x="2624040" y="582948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sp>
          <p:nvSpPr>
            <p:cNvPr id="742" name=""/>
            <p:cNvSpPr txBox="1"/>
            <p:nvPr/>
          </p:nvSpPr>
          <p:spPr>
            <a:xfrm>
              <a:off x="2624040" y="49132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a:t>
              </a:r>
              <a:endParaRPr b="0" lang="en-US" sz="1400" spc="-1" strike="noStrike">
                <a:solidFill>
                  <a:srgbClr val="ffffff"/>
                </a:solidFill>
                <a:latin typeface="Arial"/>
              </a:endParaRPr>
            </a:p>
          </p:txBody>
        </p:sp>
        <p:sp>
          <p:nvSpPr>
            <p:cNvPr id="743" name=""/>
            <p:cNvSpPr txBox="1"/>
            <p:nvPr/>
          </p:nvSpPr>
          <p:spPr>
            <a:xfrm>
              <a:off x="328140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a:t>
              </a:r>
              <a:endParaRPr b="0" lang="en-US" sz="1400" spc="-1" strike="noStrike">
                <a:solidFill>
                  <a:srgbClr val="ffffff"/>
                </a:solidFill>
                <a:latin typeface="Arial"/>
              </a:endParaRPr>
            </a:p>
          </p:txBody>
        </p:sp>
        <p:sp>
          <p:nvSpPr>
            <p:cNvPr id="744" name=""/>
            <p:cNvSpPr txBox="1"/>
            <p:nvPr/>
          </p:nvSpPr>
          <p:spPr>
            <a:xfrm>
              <a:off x="389556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5</a:t>
              </a:r>
              <a:endParaRPr b="0" lang="en-US" sz="1400" spc="-1" strike="noStrike">
                <a:solidFill>
                  <a:srgbClr val="ffffff"/>
                </a:solidFill>
                <a:latin typeface="Arial"/>
              </a:endParaRPr>
            </a:p>
          </p:txBody>
        </p:sp>
        <p:sp>
          <p:nvSpPr>
            <p:cNvPr id="745" name=""/>
            <p:cNvSpPr txBox="1"/>
            <p:nvPr/>
          </p:nvSpPr>
          <p:spPr>
            <a:xfrm>
              <a:off x="455148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0</a:t>
              </a:r>
              <a:endParaRPr b="0" lang="en-US" sz="1400" spc="-1" strike="noStrike">
                <a:solidFill>
                  <a:srgbClr val="ffffff"/>
                </a:solidFill>
                <a:latin typeface="Arial"/>
              </a:endParaRPr>
            </a:p>
          </p:txBody>
        </p:sp>
        <p:sp>
          <p:nvSpPr>
            <p:cNvPr id="746" name=""/>
            <p:cNvSpPr txBox="1"/>
            <p:nvPr/>
          </p:nvSpPr>
          <p:spPr>
            <a:xfrm>
              <a:off x="513396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5</a:t>
              </a:r>
              <a:endParaRPr b="0" lang="en-US" sz="1400" spc="-1" strike="noStrike">
                <a:solidFill>
                  <a:srgbClr val="ffffff"/>
                </a:solidFill>
                <a:latin typeface="Arial"/>
              </a:endParaRPr>
            </a:p>
          </p:txBody>
        </p:sp>
        <p:sp>
          <p:nvSpPr>
            <p:cNvPr id="747" name=""/>
            <p:cNvSpPr txBox="1"/>
            <p:nvPr/>
          </p:nvSpPr>
          <p:spPr>
            <a:xfrm>
              <a:off x="576432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0</a:t>
              </a:r>
              <a:endParaRPr b="0" lang="en-US" sz="1400" spc="-1" strike="noStrike">
                <a:solidFill>
                  <a:srgbClr val="ffffff"/>
                </a:solidFill>
                <a:latin typeface="Arial"/>
              </a:endParaRPr>
            </a:p>
          </p:txBody>
        </p:sp>
        <p:sp>
          <p:nvSpPr>
            <p:cNvPr id="748" name=""/>
            <p:cNvSpPr txBox="1"/>
            <p:nvPr/>
          </p:nvSpPr>
          <p:spPr>
            <a:xfrm>
              <a:off x="640080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5</a:t>
              </a:r>
              <a:endParaRPr b="0" lang="en-US" sz="1400" spc="-1" strike="noStrike">
                <a:solidFill>
                  <a:srgbClr val="ffffff"/>
                </a:solidFill>
                <a:latin typeface="Arial"/>
              </a:endParaRPr>
            </a:p>
          </p:txBody>
        </p:sp>
        <p:sp>
          <p:nvSpPr>
            <p:cNvPr id="749" name=""/>
            <p:cNvSpPr txBox="1"/>
            <p:nvPr/>
          </p:nvSpPr>
          <p:spPr>
            <a:xfrm>
              <a:off x="704376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0</a:t>
              </a:r>
              <a:endParaRPr b="0" lang="en-US" sz="1400" spc="-1" strike="noStrike">
                <a:solidFill>
                  <a:srgbClr val="ffffff"/>
                </a:solidFill>
                <a:latin typeface="Arial"/>
              </a:endParaRPr>
            </a:p>
          </p:txBody>
        </p:sp>
        <p:sp>
          <p:nvSpPr>
            <p:cNvPr id="750" name=""/>
            <p:cNvSpPr/>
            <p:nvPr/>
          </p:nvSpPr>
          <p:spPr>
            <a:xfrm>
              <a:off x="215100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751" name=""/>
            <p:cNvGrpSpPr/>
            <p:nvPr/>
          </p:nvGrpSpPr>
          <p:grpSpPr>
            <a:xfrm>
              <a:off x="803160" y="1882800"/>
              <a:ext cx="1403640" cy="2908440"/>
              <a:chOff x="803160" y="1882800"/>
              <a:chExt cx="1403640" cy="2908440"/>
            </a:xfrm>
          </p:grpSpPr>
          <p:sp>
            <p:nvSpPr>
              <p:cNvPr id="752" name=""/>
              <p:cNvSpPr txBox="1"/>
              <p:nvPr/>
            </p:nvSpPr>
            <p:spPr>
              <a:xfrm>
                <a:off x="946080" y="1882800"/>
                <a:ext cx="12081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753" name=""/>
              <p:cNvSpPr txBox="1"/>
              <p:nvPr/>
            </p:nvSpPr>
            <p:spPr>
              <a:xfrm>
                <a:off x="1149480" y="2054160"/>
                <a:ext cx="9716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754" name=""/>
              <p:cNvSpPr txBox="1"/>
              <p:nvPr/>
            </p:nvSpPr>
            <p:spPr>
              <a:xfrm>
                <a:off x="1130400" y="2374920"/>
                <a:ext cx="9810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Interstate</a:t>
                </a:r>
                <a:endParaRPr b="0" lang="en-US" sz="1400" spc="-1" strike="noStrike">
                  <a:solidFill>
                    <a:srgbClr val="ffffff"/>
                  </a:solidFill>
                  <a:latin typeface="Arial"/>
                </a:endParaRPr>
              </a:p>
            </p:txBody>
          </p:sp>
          <p:sp>
            <p:nvSpPr>
              <p:cNvPr id="755" name=""/>
              <p:cNvSpPr txBox="1"/>
              <p:nvPr/>
            </p:nvSpPr>
            <p:spPr>
              <a:xfrm>
                <a:off x="1189080" y="2554200"/>
                <a:ext cx="9320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756" name=""/>
              <p:cNvSpPr txBox="1"/>
              <p:nvPr/>
            </p:nvSpPr>
            <p:spPr>
              <a:xfrm>
                <a:off x="1157400" y="2828880"/>
                <a:ext cx="1049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757" name=""/>
              <p:cNvSpPr txBox="1"/>
              <p:nvPr/>
            </p:nvSpPr>
            <p:spPr>
              <a:xfrm>
                <a:off x="803160" y="2992320"/>
                <a:ext cx="13176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758" name=""/>
              <p:cNvSpPr txBox="1"/>
              <p:nvPr/>
            </p:nvSpPr>
            <p:spPr>
              <a:xfrm>
                <a:off x="1260360" y="3395520"/>
                <a:ext cx="9129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759" name=""/>
              <p:cNvSpPr txBox="1"/>
              <p:nvPr/>
            </p:nvSpPr>
            <p:spPr>
              <a:xfrm>
                <a:off x="1386000" y="3576600"/>
                <a:ext cx="7351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760" name=""/>
              <p:cNvSpPr txBox="1"/>
              <p:nvPr/>
            </p:nvSpPr>
            <p:spPr>
              <a:xfrm>
                <a:off x="1214280" y="389736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761" name=""/>
              <p:cNvSpPr txBox="1"/>
              <p:nvPr/>
            </p:nvSpPr>
            <p:spPr>
              <a:xfrm>
                <a:off x="1179360" y="406224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762" name=""/>
              <p:cNvSpPr txBox="1"/>
              <p:nvPr/>
            </p:nvSpPr>
            <p:spPr>
              <a:xfrm>
                <a:off x="1079640" y="4489560"/>
                <a:ext cx="10508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63" name=""/>
          <p:cNvSpPr txBox="1"/>
          <p:nvPr/>
        </p:nvSpPr>
        <p:spPr>
          <a:xfrm>
            <a:off x="914400" y="2362320"/>
            <a:ext cx="7924680" cy="403848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ich is the more important goal,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liquidity or profitability? Explain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your answer.</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goals of liquidity and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rofitability are equally importan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Both must be met if a business i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o survive.</a:t>
            </a:r>
            <a:endParaRPr b="0" lang="en-US" sz="3200" spc="-1" strike="noStrike">
              <a:solidFill>
                <a:srgbClr val="ffffff"/>
              </a:solidFill>
              <a:latin typeface="Arial"/>
            </a:endParaRPr>
          </a:p>
        </p:txBody>
      </p:sp>
      <p:sp>
        <p:nvSpPr>
          <p:cNvPr id="764" name=""/>
          <p:cNvSpPr txBox="1"/>
          <p:nvPr/>
        </p:nvSpPr>
        <p:spPr>
          <a:xfrm>
            <a:off x="2254320" y="1038240"/>
            <a:ext cx="563868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765" name=""/>
          <p:cNvGrpSpPr/>
          <p:nvPr/>
        </p:nvGrpSpPr>
        <p:grpSpPr>
          <a:xfrm>
            <a:off x="860400" y="322200"/>
            <a:ext cx="2040120" cy="1945080"/>
            <a:chOff x="860400" y="322200"/>
            <a:chExt cx="2040120" cy="1945080"/>
          </a:xfrm>
        </p:grpSpPr>
        <p:sp>
          <p:nvSpPr>
            <p:cNvPr id="766" name=""/>
            <p:cNvSpPr/>
            <p:nvPr/>
          </p:nvSpPr>
          <p:spPr>
            <a:xfrm>
              <a:off x="865080" y="1278000"/>
              <a:ext cx="497160" cy="679680"/>
            </a:xfrm>
            <a:custGeom>
              <a:avLst/>
              <a:gdLst/>
              <a:ahLst/>
              <a:rect l="0" t="0" r="r" b="b"/>
              <a:pathLst>
                <a:path w="1381" h="1888">
                  <a:moveTo>
                    <a:pt x="551" y="0"/>
                  </a:moveTo>
                  <a:lnTo>
                    <a:pt x="480" y="83"/>
                  </a:lnTo>
                  <a:lnTo>
                    <a:pt x="480" y="326"/>
                  </a:lnTo>
                  <a:lnTo>
                    <a:pt x="551" y="511"/>
                  </a:lnTo>
                  <a:lnTo>
                    <a:pt x="630" y="599"/>
                  </a:lnTo>
                  <a:lnTo>
                    <a:pt x="507" y="718"/>
                  </a:lnTo>
                  <a:lnTo>
                    <a:pt x="343" y="993"/>
                  </a:lnTo>
                  <a:lnTo>
                    <a:pt x="30" y="1425"/>
                  </a:lnTo>
                  <a:lnTo>
                    <a:pt x="0" y="1531"/>
                  </a:lnTo>
                  <a:lnTo>
                    <a:pt x="30" y="1619"/>
                  </a:lnTo>
                  <a:lnTo>
                    <a:pt x="127" y="1619"/>
                  </a:lnTo>
                  <a:lnTo>
                    <a:pt x="211" y="1513"/>
                  </a:lnTo>
                  <a:lnTo>
                    <a:pt x="343" y="1271"/>
                  </a:lnTo>
                  <a:lnTo>
                    <a:pt x="427" y="1169"/>
                  </a:lnTo>
                  <a:lnTo>
                    <a:pt x="480" y="1328"/>
                  </a:lnTo>
                  <a:lnTo>
                    <a:pt x="445" y="1500"/>
                  </a:lnTo>
                  <a:lnTo>
                    <a:pt x="308" y="1751"/>
                  </a:lnTo>
                  <a:lnTo>
                    <a:pt x="343" y="1808"/>
                  </a:lnTo>
                  <a:lnTo>
                    <a:pt x="427" y="1795"/>
                  </a:lnTo>
                  <a:lnTo>
                    <a:pt x="599" y="1663"/>
                  </a:lnTo>
                  <a:lnTo>
                    <a:pt x="733" y="1442"/>
                  </a:lnTo>
                  <a:lnTo>
                    <a:pt x="733" y="1822"/>
                  </a:lnTo>
                  <a:lnTo>
                    <a:pt x="900" y="1888"/>
                  </a:lnTo>
                  <a:lnTo>
                    <a:pt x="997" y="1654"/>
                  </a:lnTo>
                  <a:lnTo>
                    <a:pt x="1085" y="1875"/>
                  </a:lnTo>
                  <a:lnTo>
                    <a:pt x="1147" y="1808"/>
                  </a:lnTo>
                  <a:lnTo>
                    <a:pt x="1178" y="1368"/>
                  </a:lnTo>
                  <a:lnTo>
                    <a:pt x="1381" y="957"/>
                  </a:lnTo>
                  <a:lnTo>
                    <a:pt x="1332" y="718"/>
                  </a:lnTo>
                  <a:lnTo>
                    <a:pt x="1196" y="630"/>
                  </a:lnTo>
                  <a:lnTo>
                    <a:pt x="1046" y="643"/>
                  </a:lnTo>
                  <a:lnTo>
                    <a:pt x="997" y="445"/>
                  </a:lnTo>
                  <a:lnTo>
                    <a:pt x="843" y="405"/>
                  </a:lnTo>
                  <a:lnTo>
                    <a:pt x="715" y="343"/>
                  </a:lnTo>
                  <a:lnTo>
                    <a:pt x="630" y="44"/>
                  </a:lnTo>
                  <a:lnTo>
                    <a:pt x="551"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a:off x="1282680" y="1552680"/>
              <a:ext cx="146520" cy="329040"/>
            </a:xfrm>
            <a:custGeom>
              <a:avLst/>
              <a:gdLst/>
              <a:ahLst/>
              <a:rect l="0" t="0" r="r" b="b"/>
              <a:pathLst>
                <a:path w="407" h="914">
                  <a:moveTo>
                    <a:pt x="203" y="0"/>
                  </a:moveTo>
                  <a:lnTo>
                    <a:pt x="407" y="234"/>
                  </a:lnTo>
                  <a:lnTo>
                    <a:pt x="306" y="751"/>
                  </a:lnTo>
                  <a:lnTo>
                    <a:pt x="0" y="914"/>
                  </a:lnTo>
                  <a:lnTo>
                    <a:pt x="0" y="653"/>
                  </a:lnTo>
                  <a:lnTo>
                    <a:pt x="124" y="389"/>
                  </a:lnTo>
                  <a:lnTo>
                    <a:pt x="203" y="189"/>
                  </a:lnTo>
                  <a:lnTo>
                    <a:pt x="20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a:off x="2230560" y="1362240"/>
              <a:ext cx="365400" cy="298800"/>
            </a:xfrm>
            <a:custGeom>
              <a:avLst/>
              <a:gdLst/>
              <a:ahLst/>
              <a:rect l="0" t="0" r="r" b="b"/>
              <a:pathLst>
                <a:path w="1015" h="830">
                  <a:moveTo>
                    <a:pt x="414" y="0"/>
                  </a:moveTo>
                  <a:lnTo>
                    <a:pt x="414" y="132"/>
                  </a:lnTo>
                  <a:lnTo>
                    <a:pt x="454" y="251"/>
                  </a:lnTo>
                  <a:lnTo>
                    <a:pt x="649" y="446"/>
                  </a:lnTo>
                  <a:lnTo>
                    <a:pt x="1015" y="561"/>
                  </a:lnTo>
                  <a:lnTo>
                    <a:pt x="966" y="816"/>
                  </a:lnTo>
                  <a:lnTo>
                    <a:pt x="649" y="830"/>
                  </a:lnTo>
                  <a:lnTo>
                    <a:pt x="189" y="649"/>
                  </a:lnTo>
                  <a:lnTo>
                    <a:pt x="0" y="326"/>
                  </a:lnTo>
                  <a:lnTo>
                    <a:pt x="229" y="13"/>
                  </a:lnTo>
                  <a:lnTo>
                    <a:pt x="41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9" name=""/>
            <p:cNvSpPr/>
            <p:nvPr/>
          </p:nvSpPr>
          <p:spPr>
            <a:xfrm>
              <a:off x="2376360" y="1027080"/>
              <a:ext cx="511560" cy="654480"/>
            </a:xfrm>
            <a:custGeom>
              <a:avLst/>
              <a:gdLst/>
              <a:ahLst/>
              <a:rect l="0" t="0" r="r" b="b"/>
              <a:pathLst>
                <a:path w="1421" h="1818">
                  <a:moveTo>
                    <a:pt x="127" y="772"/>
                  </a:moveTo>
                  <a:lnTo>
                    <a:pt x="0" y="900"/>
                  </a:lnTo>
                  <a:lnTo>
                    <a:pt x="30" y="1196"/>
                  </a:lnTo>
                  <a:lnTo>
                    <a:pt x="224" y="1332"/>
                  </a:lnTo>
                  <a:lnTo>
                    <a:pt x="238" y="1783"/>
                  </a:lnTo>
                  <a:lnTo>
                    <a:pt x="446" y="1783"/>
                  </a:lnTo>
                  <a:lnTo>
                    <a:pt x="424" y="1408"/>
                  </a:lnTo>
                  <a:lnTo>
                    <a:pt x="574" y="1805"/>
                  </a:lnTo>
                  <a:lnTo>
                    <a:pt x="675" y="1818"/>
                  </a:lnTo>
                  <a:lnTo>
                    <a:pt x="746" y="1686"/>
                  </a:lnTo>
                  <a:lnTo>
                    <a:pt x="759" y="1435"/>
                  </a:lnTo>
                  <a:lnTo>
                    <a:pt x="979" y="1664"/>
                  </a:lnTo>
                  <a:lnTo>
                    <a:pt x="1063" y="1651"/>
                  </a:lnTo>
                  <a:lnTo>
                    <a:pt x="1041" y="1492"/>
                  </a:lnTo>
                  <a:lnTo>
                    <a:pt x="962" y="1257"/>
                  </a:lnTo>
                  <a:lnTo>
                    <a:pt x="878" y="1107"/>
                  </a:lnTo>
                  <a:lnTo>
                    <a:pt x="909" y="1006"/>
                  </a:lnTo>
                  <a:lnTo>
                    <a:pt x="962" y="1019"/>
                  </a:lnTo>
                  <a:lnTo>
                    <a:pt x="1161" y="1257"/>
                  </a:lnTo>
                  <a:lnTo>
                    <a:pt x="1373" y="1319"/>
                  </a:lnTo>
                  <a:lnTo>
                    <a:pt x="1421" y="1240"/>
                  </a:lnTo>
                  <a:lnTo>
                    <a:pt x="1391" y="1121"/>
                  </a:lnTo>
                  <a:lnTo>
                    <a:pt x="993" y="755"/>
                  </a:lnTo>
                  <a:lnTo>
                    <a:pt x="675" y="640"/>
                  </a:lnTo>
                  <a:lnTo>
                    <a:pt x="636" y="440"/>
                  </a:lnTo>
                  <a:lnTo>
                    <a:pt x="746" y="255"/>
                  </a:lnTo>
                  <a:lnTo>
                    <a:pt x="746" y="57"/>
                  </a:lnTo>
                  <a:lnTo>
                    <a:pt x="653" y="0"/>
                  </a:lnTo>
                  <a:lnTo>
                    <a:pt x="424" y="494"/>
                  </a:lnTo>
                  <a:lnTo>
                    <a:pt x="224" y="569"/>
                  </a:lnTo>
                  <a:lnTo>
                    <a:pt x="176" y="702"/>
                  </a:lnTo>
                  <a:lnTo>
                    <a:pt x="127" y="77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a:off x="1539720" y="460440"/>
              <a:ext cx="557640" cy="835560"/>
            </a:xfrm>
            <a:custGeom>
              <a:avLst/>
              <a:gdLst/>
              <a:ahLst/>
              <a:rect l="0" t="0" r="r" b="b"/>
              <a:pathLst>
                <a:path w="1549" h="2321">
                  <a:moveTo>
                    <a:pt x="389" y="321"/>
                  </a:moveTo>
                  <a:lnTo>
                    <a:pt x="273" y="768"/>
                  </a:lnTo>
                  <a:lnTo>
                    <a:pt x="13" y="856"/>
                  </a:lnTo>
                  <a:lnTo>
                    <a:pt x="88" y="997"/>
                  </a:lnTo>
                  <a:lnTo>
                    <a:pt x="0" y="1085"/>
                  </a:lnTo>
                  <a:lnTo>
                    <a:pt x="0" y="1244"/>
                  </a:lnTo>
                  <a:lnTo>
                    <a:pt x="123" y="1390"/>
                  </a:lnTo>
                  <a:lnTo>
                    <a:pt x="238" y="1390"/>
                  </a:lnTo>
                  <a:lnTo>
                    <a:pt x="321" y="1911"/>
                  </a:lnTo>
                  <a:lnTo>
                    <a:pt x="419" y="2131"/>
                  </a:lnTo>
                  <a:lnTo>
                    <a:pt x="737" y="2321"/>
                  </a:lnTo>
                  <a:lnTo>
                    <a:pt x="1054" y="2290"/>
                  </a:lnTo>
                  <a:lnTo>
                    <a:pt x="1205" y="1911"/>
                  </a:lnTo>
                  <a:lnTo>
                    <a:pt x="1236" y="1315"/>
                  </a:lnTo>
                  <a:lnTo>
                    <a:pt x="1549" y="1032"/>
                  </a:lnTo>
                  <a:lnTo>
                    <a:pt x="1536" y="913"/>
                  </a:lnTo>
                  <a:lnTo>
                    <a:pt x="1501" y="856"/>
                  </a:lnTo>
                  <a:lnTo>
                    <a:pt x="1338" y="843"/>
                  </a:lnTo>
                  <a:lnTo>
                    <a:pt x="1386" y="697"/>
                  </a:lnTo>
                  <a:lnTo>
                    <a:pt x="1223" y="587"/>
                  </a:lnTo>
                  <a:lnTo>
                    <a:pt x="1156" y="255"/>
                  </a:lnTo>
                  <a:lnTo>
                    <a:pt x="671" y="0"/>
                  </a:lnTo>
                  <a:lnTo>
                    <a:pt x="419" y="238"/>
                  </a:lnTo>
                  <a:lnTo>
                    <a:pt x="389" y="321"/>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a:off x="1579680" y="1157400"/>
              <a:ext cx="511560" cy="999000"/>
            </a:xfrm>
            <a:custGeom>
              <a:avLst/>
              <a:gdLst/>
              <a:ahLst/>
              <a:rect l="0" t="0" r="r" b="b"/>
              <a:pathLst>
                <a:path w="1421" h="2775">
                  <a:moveTo>
                    <a:pt x="291" y="145"/>
                  </a:moveTo>
                  <a:lnTo>
                    <a:pt x="494" y="277"/>
                  </a:lnTo>
                  <a:lnTo>
                    <a:pt x="591" y="427"/>
                  </a:lnTo>
                  <a:lnTo>
                    <a:pt x="1161" y="0"/>
                  </a:lnTo>
                  <a:lnTo>
                    <a:pt x="1338" y="88"/>
                  </a:lnTo>
                  <a:lnTo>
                    <a:pt x="1421" y="524"/>
                  </a:lnTo>
                  <a:lnTo>
                    <a:pt x="1010" y="1800"/>
                  </a:lnTo>
                  <a:lnTo>
                    <a:pt x="1144" y="2511"/>
                  </a:lnTo>
                  <a:lnTo>
                    <a:pt x="609" y="2775"/>
                  </a:lnTo>
                  <a:lnTo>
                    <a:pt x="189" y="2621"/>
                  </a:lnTo>
                  <a:lnTo>
                    <a:pt x="189" y="1879"/>
                  </a:lnTo>
                  <a:lnTo>
                    <a:pt x="0" y="1151"/>
                  </a:lnTo>
                  <a:lnTo>
                    <a:pt x="189" y="277"/>
                  </a:lnTo>
                  <a:lnTo>
                    <a:pt x="291" y="145"/>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2" name=""/>
            <p:cNvSpPr/>
            <p:nvPr/>
          </p:nvSpPr>
          <p:spPr>
            <a:xfrm>
              <a:off x="1601640" y="349200"/>
              <a:ext cx="478080" cy="263880"/>
            </a:xfrm>
            <a:custGeom>
              <a:avLst/>
              <a:gdLst/>
              <a:ahLst/>
              <a:rect l="0" t="0" r="r" b="b"/>
              <a:pathLst>
                <a:path w="1328" h="733">
                  <a:moveTo>
                    <a:pt x="163" y="697"/>
                  </a:moveTo>
                  <a:lnTo>
                    <a:pt x="357" y="503"/>
                  </a:lnTo>
                  <a:lnTo>
                    <a:pt x="485" y="472"/>
                  </a:lnTo>
                  <a:lnTo>
                    <a:pt x="485" y="494"/>
                  </a:lnTo>
                  <a:lnTo>
                    <a:pt x="546" y="472"/>
                  </a:lnTo>
                  <a:lnTo>
                    <a:pt x="626" y="534"/>
                  </a:lnTo>
                  <a:lnTo>
                    <a:pt x="781" y="561"/>
                  </a:lnTo>
                  <a:lnTo>
                    <a:pt x="909" y="733"/>
                  </a:lnTo>
                  <a:lnTo>
                    <a:pt x="1116" y="658"/>
                  </a:lnTo>
                  <a:lnTo>
                    <a:pt x="1116" y="583"/>
                  </a:lnTo>
                  <a:lnTo>
                    <a:pt x="1328" y="494"/>
                  </a:lnTo>
                  <a:lnTo>
                    <a:pt x="1266" y="357"/>
                  </a:lnTo>
                  <a:lnTo>
                    <a:pt x="1068" y="339"/>
                  </a:lnTo>
                  <a:lnTo>
                    <a:pt x="1099" y="189"/>
                  </a:lnTo>
                  <a:lnTo>
                    <a:pt x="931" y="211"/>
                  </a:lnTo>
                  <a:lnTo>
                    <a:pt x="900" y="101"/>
                  </a:lnTo>
                  <a:lnTo>
                    <a:pt x="781" y="101"/>
                  </a:lnTo>
                  <a:lnTo>
                    <a:pt x="702" y="158"/>
                  </a:lnTo>
                  <a:lnTo>
                    <a:pt x="626" y="158"/>
                  </a:lnTo>
                  <a:lnTo>
                    <a:pt x="643" y="0"/>
                  </a:lnTo>
                  <a:lnTo>
                    <a:pt x="485" y="74"/>
                  </a:lnTo>
                  <a:lnTo>
                    <a:pt x="260" y="339"/>
                  </a:lnTo>
                  <a:lnTo>
                    <a:pt x="246" y="158"/>
                  </a:lnTo>
                  <a:lnTo>
                    <a:pt x="132" y="246"/>
                  </a:lnTo>
                  <a:lnTo>
                    <a:pt x="101" y="472"/>
                  </a:lnTo>
                  <a:lnTo>
                    <a:pt x="0" y="433"/>
                  </a:lnTo>
                  <a:lnTo>
                    <a:pt x="13" y="583"/>
                  </a:lnTo>
                  <a:lnTo>
                    <a:pt x="163" y="69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1731960" y="1341360"/>
              <a:ext cx="151200" cy="756000"/>
            </a:xfrm>
            <a:custGeom>
              <a:avLst/>
              <a:gdLst/>
              <a:ahLst/>
              <a:rect l="0" t="0" r="r" b="b"/>
              <a:pathLst>
                <a:path w="420" h="2100">
                  <a:moveTo>
                    <a:pt x="217" y="13"/>
                  </a:moveTo>
                  <a:lnTo>
                    <a:pt x="70" y="101"/>
                  </a:lnTo>
                  <a:lnTo>
                    <a:pt x="70" y="277"/>
                  </a:lnTo>
                  <a:lnTo>
                    <a:pt x="172" y="339"/>
                  </a:lnTo>
                  <a:lnTo>
                    <a:pt x="39" y="617"/>
                  </a:lnTo>
                  <a:lnTo>
                    <a:pt x="0" y="983"/>
                  </a:lnTo>
                  <a:lnTo>
                    <a:pt x="106" y="1469"/>
                  </a:lnTo>
                  <a:lnTo>
                    <a:pt x="106" y="1672"/>
                  </a:lnTo>
                  <a:lnTo>
                    <a:pt x="52" y="1831"/>
                  </a:lnTo>
                  <a:lnTo>
                    <a:pt x="265" y="2100"/>
                  </a:lnTo>
                  <a:lnTo>
                    <a:pt x="407" y="1694"/>
                  </a:lnTo>
                  <a:lnTo>
                    <a:pt x="407" y="1407"/>
                  </a:lnTo>
                  <a:lnTo>
                    <a:pt x="300" y="1151"/>
                  </a:lnTo>
                  <a:lnTo>
                    <a:pt x="252" y="793"/>
                  </a:lnTo>
                  <a:lnTo>
                    <a:pt x="354" y="445"/>
                  </a:lnTo>
                  <a:lnTo>
                    <a:pt x="319" y="308"/>
                  </a:lnTo>
                  <a:lnTo>
                    <a:pt x="420" y="238"/>
                  </a:lnTo>
                  <a:lnTo>
                    <a:pt x="407" y="145"/>
                  </a:lnTo>
                  <a:lnTo>
                    <a:pt x="283" y="0"/>
                  </a:lnTo>
                  <a:lnTo>
                    <a:pt x="217"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1725480" y="1089000"/>
              <a:ext cx="122760" cy="68760"/>
            </a:xfrm>
            <a:custGeom>
              <a:avLst/>
              <a:gdLst/>
              <a:ahLst/>
              <a:rect l="0" t="0" r="r" b="b"/>
              <a:pathLst>
                <a:path w="341" h="191">
                  <a:moveTo>
                    <a:pt x="0" y="58"/>
                  </a:moveTo>
                  <a:lnTo>
                    <a:pt x="133" y="191"/>
                  </a:lnTo>
                  <a:lnTo>
                    <a:pt x="275" y="178"/>
                  </a:lnTo>
                  <a:lnTo>
                    <a:pt x="341" y="13"/>
                  </a:lnTo>
                  <a:lnTo>
                    <a:pt x="190" y="0"/>
                  </a:lnTo>
                  <a:lnTo>
                    <a:pt x="35" y="13"/>
                  </a:lnTo>
                  <a:lnTo>
                    <a:pt x="0" y="58"/>
                  </a:lnTo>
                  <a:close/>
                </a:path>
              </a:pathLst>
            </a:custGeom>
            <a:solidFill>
              <a:srgbClr val="ffffff"/>
            </a:solidFill>
            <a:ln w="12600">
              <a:solidFill>
                <a:srgbClr val="ffffff"/>
              </a:solidFill>
              <a:round/>
            </a:ln>
          </p:spPr>
          <p:txBody>
            <a:bodyPr lIns="96120" rIns="96120" tIns="17640" bIns="17640" anchor="t">
              <a:noAutofit/>
            </a:bodyPr>
            <a:p>
              <a:endParaRPr b="0" lang="en-US" sz="1800" spc="-1" strike="noStrike">
                <a:solidFill>
                  <a:srgbClr val="000000"/>
                </a:solidFill>
                <a:latin typeface="Arial"/>
              </a:endParaRPr>
            </a:p>
          </p:txBody>
        </p:sp>
        <p:sp>
          <p:nvSpPr>
            <p:cNvPr id="775" name=""/>
            <p:cNvSpPr/>
            <p:nvPr/>
          </p:nvSpPr>
          <p:spPr>
            <a:xfrm>
              <a:off x="1592280" y="741240"/>
              <a:ext cx="151200" cy="147960"/>
            </a:xfrm>
            <a:custGeom>
              <a:avLst/>
              <a:gdLst/>
              <a:ahLst/>
              <a:rect l="0" t="0" r="r" b="b"/>
              <a:pathLst>
                <a:path w="420" h="411">
                  <a:moveTo>
                    <a:pt x="0" y="44"/>
                  </a:moveTo>
                  <a:lnTo>
                    <a:pt x="292" y="411"/>
                  </a:lnTo>
                  <a:lnTo>
                    <a:pt x="420" y="380"/>
                  </a:lnTo>
                  <a:lnTo>
                    <a:pt x="115"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1859040" y="709560"/>
              <a:ext cx="130680" cy="147960"/>
            </a:xfrm>
            <a:custGeom>
              <a:avLst/>
              <a:gdLst/>
              <a:ahLst/>
              <a:rect l="0" t="0" r="r" b="b"/>
              <a:pathLst>
                <a:path w="363" h="411">
                  <a:moveTo>
                    <a:pt x="0" y="57"/>
                  </a:moveTo>
                  <a:lnTo>
                    <a:pt x="252" y="411"/>
                  </a:lnTo>
                  <a:lnTo>
                    <a:pt x="363" y="318"/>
                  </a:lnTo>
                  <a:lnTo>
                    <a:pt x="102"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p:nvPr/>
          </p:nvSpPr>
          <p:spPr>
            <a:xfrm>
              <a:off x="1535040" y="519120"/>
              <a:ext cx="532080" cy="370080"/>
            </a:xfrm>
            <a:custGeom>
              <a:avLst/>
              <a:gdLst/>
              <a:ahLst/>
              <a:rect l="0" t="0" r="r" b="b"/>
              <a:pathLst>
                <a:path w="1478" h="1028">
                  <a:moveTo>
                    <a:pt x="679" y="609"/>
                  </a:moveTo>
                  <a:lnTo>
                    <a:pt x="546" y="569"/>
                  </a:lnTo>
                  <a:lnTo>
                    <a:pt x="661" y="480"/>
                  </a:lnTo>
                  <a:lnTo>
                    <a:pt x="617" y="432"/>
                  </a:lnTo>
                  <a:lnTo>
                    <a:pt x="463" y="552"/>
                  </a:lnTo>
                  <a:lnTo>
                    <a:pt x="185" y="578"/>
                  </a:lnTo>
                  <a:lnTo>
                    <a:pt x="0" y="591"/>
                  </a:lnTo>
                  <a:lnTo>
                    <a:pt x="0" y="733"/>
                  </a:lnTo>
                  <a:lnTo>
                    <a:pt x="176" y="1019"/>
                  </a:lnTo>
                  <a:lnTo>
                    <a:pt x="220" y="1028"/>
                  </a:lnTo>
                  <a:lnTo>
                    <a:pt x="61" y="715"/>
                  </a:lnTo>
                  <a:lnTo>
                    <a:pt x="304" y="609"/>
                  </a:lnTo>
                  <a:lnTo>
                    <a:pt x="463" y="609"/>
                  </a:lnTo>
                  <a:lnTo>
                    <a:pt x="586" y="675"/>
                  </a:lnTo>
                  <a:lnTo>
                    <a:pt x="617" y="763"/>
                  </a:lnTo>
                  <a:lnTo>
                    <a:pt x="617" y="957"/>
                  </a:lnTo>
                  <a:lnTo>
                    <a:pt x="617" y="1019"/>
                  </a:lnTo>
                  <a:lnTo>
                    <a:pt x="687" y="931"/>
                  </a:lnTo>
                  <a:lnTo>
                    <a:pt x="687" y="724"/>
                  </a:lnTo>
                  <a:lnTo>
                    <a:pt x="794" y="724"/>
                  </a:lnTo>
                  <a:lnTo>
                    <a:pt x="843" y="957"/>
                  </a:lnTo>
                  <a:lnTo>
                    <a:pt x="900" y="979"/>
                  </a:lnTo>
                  <a:lnTo>
                    <a:pt x="1081" y="979"/>
                  </a:lnTo>
                  <a:lnTo>
                    <a:pt x="1262" y="935"/>
                  </a:lnTo>
                  <a:lnTo>
                    <a:pt x="1390" y="852"/>
                  </a:lnTo>
                  <a:lnTo>
                    <a:pt x="1412" y="640"/>
                  </a:lnTo>
                  <a:lnTo>
                    <a:pt x="1478" y="552"/>
                  </a:lnTo>
                  <a:lnTo>
                    <a:pt x="1434" y="498"/>
                  </a:lnTo>
                  <a:lnTo>
                    <a:pt x="1271" y="436"/>
                  </a:lnTo>
                  <a:lnTo>
                    <a:pt x="1244" y="229"/>
                  </a:lnTo>
                  <a:lnTo>
                    <a:pt x="1090" y="229"/>
                  </a:lnTo>
                  <a:lnTo>
                    <a:pt x="909" y="0"/>
                  </a:lnTo>
                  <a:lnTo>
                    <a:pt x="1076" y="255"/>
                  </a:lnTo>
                  <a:lnTo>
                    <a:pt x="1129" y="255"/>
                  </a:lnTo>
                  <a:lnTo>
                    <a:pt x="1160" y="432"/>
                  </a:lnTo>
                  <a:lnTo>
                    <a:pt x="957" y="498"/>
                  </a:lnTo>
                  <a:lnTo>
                    <a:pt x="803" y="445"/>
                  </a:lnTo>
                  <a:lnTo>
                    <a:pt x="781" y="498"/>
                  </a:lnTo>
                  <a:lnTo>
                    <a:pt x="860" y="552"/>
                  </a:lnTo>
                  <a:lnTo>
                    <a:pt x="860" y="600"/>
                  </a:lnTo>
                  <a:lnTo>
                    <a:pt x="1037" y="521"/>
                  </a:lnTo>
                  <a:lnTo>
                    <a:pt x="1187" y="511"/>
                  </a:lnTo>
                  <a:lnTo>
                    <a:pt x="1354" y="530"/>
                  </a:lnTo>
                  <a:lnTo>
                    <a:pt x="1354" y="561"/>
                  </a:lnTo>
                  <a:lnTo>
                    <a:pt x="1275" y="631"/>
                  </a:lnTo>
                  <a:lnTo>
                    <a:pt x="1244" y="724"/>
                  </a:lnTo>
                  <a:lnTo>
                    <a:pt x="1240" y="852"/>
                  </a:lnTo>
                  <a:lnTo>
                    <a:pt x="1143" y="900"/>
                  </a:lnTo>
                  <a:lnTo>
                    <a:pt x="1002" y="913"/>
                  </a:lnTo>
                  <a:lnTo>
                    <a:pt x="900" y="913"/>
                  </a:lnTo>
                  <a:lnTo>
                    <a:pt x="865" y="878"/>
                  </a:lnTo>
                  <a:lnTo>
                    <a:pt x="843" y="640"/>
                  </a:lnTo>
                  <a:lnTo>
                    <a:pt x="687" y="640"/>
                  </a:lnTo>
                  <a:lnTo>
                    <a:pt x="679" y="60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8" name=""/>
            <p:cNvSpPr/>
            <p:nvPr/>
          </p:nvSpPr>
          <p:spPr>
            <a:xfrm>
              <a:off x="1719360" y="946080"/>
              <a:ext cx="171720" cy="74880"/>
            </a:xfrm>
            <a:custGeom>
              <a:avLst/>
              <a:gdLst/>
              <a:ahLst/>
              <a:rect l="0" t="0" r="r" b="b"/>
              <a:pathLst>
                <a:path w="477" h="208">
                  <a:moveTo>
                    <a:pt x="0" y="0"/>
                  </a:moveTo>
                  <a:lnTo>
                    <a:pt x="74" y="92"/>
                  </a:lnTo>
                  <a:lnTo>
                    <a:pt x="283" y="92"/>
                  </a:lnTo>
                  <a:lnTo>
                    <a:pt x="371" y="30"/>
                  </a:lnTo>
                  <a:lnTo>
                    <a:pt x="477" y="30"/>
                  </a:lnTo>
                  <a:lnTo>
                    <a:pt x="459" y="66"/>
                  </a:lnTo>
                  <a:lnTo>
                    <a:pt x="459" y="92"/>
                  </a:lnTo>
                  <a:lnTo>
                    <a:pt x="265" y="208"/>
                  </a:lnTo>
                  <a:lnTo>
                    <a:pt x="158" y="208"/>
                  </a:lnTo>
                  <a:lnTo>
                    <a:pt x="101" y="168"/>
                  </a:lnTo>
                  <a:lnTo>
                    <a:pt x="44" y="168"/>
                  </a:lnTo>
                  <a:lnTo>
                    <a:pt x="0"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779" name=""/>
            <p:cNvSpPr/>
            <p:nvPr/>
          </p:nvSpPr>
          <p:spPr>
            <a:xfrm>
              <a:off x="1527120" y="824040"/>
              <a:ext cx="259200" cy="397080"/>
            </a:xfrm>
            <a:custGeom>
              <a:avLst/>
              <a:gdLst/>
              <a:ahLst/>
              <a:rect l="0" t="0" r="r" b="b"/>
              <a:pathLst>
                <a:path w="720" h="1103">
                  <a:moveTo>
                    <a:pt x="720" y="79"/>
                  </a:moveTo>
                  <a:lnTo>
                    <a:pt x="720" y="97"/>
                  </a:lnTo>
                  <a:lnTo>
                    <a:pt x="592" y="207"/>
                  </a:lnTo>
                  <a:lnTo>
                    <a:pt x="486" y="229"/>
                  </a:lnTo>
                  <a:lnTo>
                    <a:pt x="287" y="202"/>
                  </a:lnTo>
                  <a:lnTo>
                    <a:pt x="322" y="591"/>
                  </a:lnTo>
                  <a:lnTo>
                    <a:pt x="371" y="927"/>
                  </a:lnTo>
                  <a:lnTo>
                    <a:pt x="459" y="1103"/>
                  </a:lnTo>
                  <a:lnTo>
                    <a:pt x="371" y="975"/>
                  </a:lnTo>
                  <a:lnTo>
                    <a:pt x="340" y="838"/>
                  </a:lnTo>
                  <a:lnTo>
                    <a:pt x="283" y="467"/>
                  </a:lnTo>
                  <a:lnTo>
                    <a:pt x="221" y="485"/>
                  </a:lnTo>
                  <a:lnTo>
                    <a:pt x="154" y="445"/>
                  </a:lnTo>
                  <a:lnTo>
                    <a:pt x="13" y="251"/>
                  </a:lnTo>
                  <a:lnTo>
                    <a:pt x="0" y="141"/>
                  </a:lnTo>
                  <a:lnTo>
                    <a:pt x="0" y="70"/>
                  </a:lnTo>
                  <a:lnTo>
                    <a:pt x="35" y="17"/>
                  </a:lnTo>
                  <a:lnTo>
                    <a:pt x="114" y="0"/>
                  </a:lnTo>
                  <a:lnTo>
                    <a:pt x="123" y="30"/>
                  </a:lnTo>
                  <a:lnTo>
                    <a:pt x="57" y="48"/>
                  </a:lnTo>
                  <a:lnTo>
                    <a:pt x="44" y="132"/>
                  </a:lnTo>
                  <a:lnTo>
                    <a:pt x="52" y="233"/>
                  </a:lnTo>
                  <a:lnTo>
                    <a:pt x="141" y="326"/>
                  </a:lnTo>
                  <a:lnTo>
                    <a:pt x="186" y="308"/>
                  </a:lnTo>
                  <a:lnTo>
                    <a:pt x="186" y="105"/>
                  </a:lnTo>
                  <a:lnTo>
                    <a:pt x="269" y="149"/>
                  </a:lnTo>
                  <a:lnTo>
                    <a:pt x="406" y="180"/>
                  </a:lnTo>
                  <a:lnTo>
                    <a:pt x="525" y="171"/>
                  </a:lnTo>
                  <a:lnTo>
                    <a:pt x="641" y="105"/>
                  </a:lnTo>
                  <a:lnTo>
                    <a:pt x="720"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a:off x="1596960" y="509760"/>
              <a:ext cx="78120" cy="211320"/>
            </a:xfrm>
            <a:custGeom>
              <a:avLst/>
              <a:gdLst/>
              <a:ahLst/>
              <a:rect l="0" t="0" r="r" b="b"/>
              <a:pathLst>
                <a:path w="217" h="587">
                  <a:moveTo>
                    <a:pt x="111" y="587"/>
                  </a:moveTo>
                  <a:lnTo>
                    <a:pt x="217" y="238"/>
                  </a:lnTo>
                  <a:lnTo>
                    <a:pt x="30" y="119"/>
                  </a:lnTo>
                  <a:lnTo>
                    <a:pt x="0" y="0"/>
                  </a:lnTo>
                  <a:lnTo>
                    <a:pt x="13" y="141"/>
                  </a:lnTo>
                  <a:lnTo>
                    <a:pt x="74" y="198"/>
                  </a:lnTo>
                  <a:lnTo>
                    <a:pt x="88" y="375"/>
                  </a:lnTo>
                  <a:lnTo>
                    <a:pt x="128" y="446"/>
                  </a:lnTo>
                  <a:lnTo>
                    <a:pt x="111" y="58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1" name=""/>
            <p:cNvSpPr/>
            <p:nvPr/>
          </p:nvSpPr>
          <p:spPr>
            <a:xfrm>
              <a:off x="1593720" y="322200"/>
              <a:ext cx="584640" cy="279720"/>
            </a:xfrm>
            <a:custGeom>
              <a:avLst/>
              <a:gdLst/>
              <a:ahLst/>
              <a:rect l="0" t="0" r="r" b="b"/>
              <a:pathLst>
                <a:path w="1624" h="777">
                  <a:moveTo>
                    <a:pt x="13" y="525"/>
                  </a:moveTo>
                  <a:lnTo>
                    <a:pt x="154" y="605"/>
                  </a:lnTo>
                  <a:lnTo>
                    <a:pt x="136" y="508"/>
                  </a:lnTo>
                  <a:lnTo>
                    <a:pt x="167" y="330"/>
                  </a:lnTo>
                  <a:lnTo>
                    <a:pt x="260" y="295"/>
                  </a:lnTo>
                  <a:lnTo>
                    <a:pt x="273" y="481"/>
                  </a:lnTo>
                  <a:lnTo>
                    <a:pt x="547" y="154"/>
                  </a:lnTo>
                  <a:lnTo>
                    <a:pt x="609" y="127"/>
                  </a:lnTo>
                  <a:lnTo>
                    <a:pt x="561" y="260"/>
                  </a:lnTo>
                  <a:lnTo>
                    <a:pt x="733" y="317"/>
                  </a:lnTo>
                  <a:lnTo>
                    <a:pt x="856" y="189"/>
                  </a:lnTo>
                  <a:lnTo>
                    <a:pt x="918" y="229"/>
                  </a:lnTo>
                  <a:lnTo>
                    <a:pt x="860" y="343"/>
                  </a:lnTo>
                  <a:lnTo>
                    <a:pt x="944" y="277"/>
                  </a:lnTo>
                  <a:lnTo>
                    <a:pt x="1063" y="330"/>
                  </a:lnTo>
                  <a:lnTo>
                    <a:pt x="966" y="424"/>
                  </a:lnTo>
                  <a:lnTo>
                    <a:pt x="1302" y="481"/>
                  </a:lnTo>
                  <a:lnTo>
                    <a:pt x="1076" y="547"/>
                  </a:lnTo>
                  <a:lnTo>
                    <a:pt x="1355" y="583"/>
                  </a:lnTo>
                  <a:lnTo>
                    <a:pt x="1024" y="658"/>
                  </a:lnTo>
                  <a:lnTo>
                    <a:pt x="1099" y="719"/>
                  </a:lnTo>
                  <a:lnTo>
                    <a:pt x="1002" y="777"/>
                  </a:lnTo>
                  <a:lnTo>
                    <a:pt x="1169" y="777"/>
                  </a:lnTo>
                  <a:lnTo>
                    <a:pt x="1156" y="733"/>
                  </a:lnTo>
                  <a:lnTo>
                    <a:pt x="1333" y="772"/>
                  </a:lnTo>
                  <a:lnTo>
                    <a:pt x="1302" y="649"/>
                  </a:lnTo>
                  <a:lnTo>
                    <a:pt x="1466" y="596"/>
                  </a:lnTo>
                  <a:lnTo>
                    <a:pt x="1351" y="534"/>
                  </a:lnTo>
                  <a:lnTo>
                    <a:pt x="1624" y="516"/>
                  </a:lnTo>
                  <a:lnTo>
                    <a:pt x="1391" y="393"/>
                  </a:lnTo>
                  <a:lnTo>
                    <a:pt x="1116" y="361"/>
                  </a:lnTo>
                  <a:lnTo>
                    <a:pt x="1333" y="233"/>
                  </a:lnTo>
                  <a:lnTo>
                    <a:pt x="944" y="233"/>
                  </a:lnTo>
                  <a:lnTo>
                    <a:pt x="1125" y="119"/>
                  </a:lnTo>
                  <a:lnTo>
                    <a:pt x="847" y="154"/>
                  </a:lnTo>
                  <a:lnTo>
                    <a:pt x="715" y="211"/>
                  </a:lnTo>
                  <a:lnTo>
                    <a:pt x="830" y="0"/>
                  </a:lnTo>
                  <a:lnTo>
                    <a:pt x="490" y="119"/>
                  </a:lnTo>
                  <a:lnTo>
                    <a:pt x="299" y="374"/>
                  </a:lnTo>
                  <a:lnTo>
                    <a:pt x="273" y="229"/>
                  </a:lnTo>
                  <a:lnTo>
                    <a:pt x="119" y="330"/>
                  </a:lnTo>
                  <a:lnTo>
                    <a:pt x="101" y="516"/>
                  </a:lnTo>
                  <a:lnTo>
                    <a:pt x="0" y="481"/>
                  </a:lnTo>
                  <a:lnTo>
                    <a:pt x="35" y="649"/>
                  </a:lnTo>
                  <a:lnTo>
                    <a:pt x="13" y="52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2" name=""/>
            <p:cNvSpPr/>
            <p:nvPr/>
          </p:nvSpPr>
          <p:spPr>
            <a:xfrm>
              <a:off x="1720800" y="469800"/>
              <a:ext cx="165600" cy="86040"/>
            </a:xfrm>
            <a:custGeom>
              <a:avLst/>
              <a:gdLst/>
              <a:ahLst/>
              <a:rect l="0" t="0" r="r" b="b"/>
              <a:pathLst>
                <a:path w="460" h="239">
                  <a:moveTo>
                    <a:pt x="0" y="239"/>
                  </a:moveTo>
                  <a:lnTo>
                    <a:pt x="172" y="0"/>
                  </a:lnTo>
                  <a:lnTo>
                    <a:pt x="172" y="159"/>
                  </a:lnTo>
                  <a:lnTo>
                    <a:pt x="234" y="92"/>
                  </a:lnTo>
                  <a:lnTo>
                    <a:pt x="287" y="186"/>
                  </a:lnTo>
                  <a:lnTo>
                    <a:pt x="460" y="230"/>
                  </a:lnTo>
                  <a:lnTo>
                    <a:pt x="278" y="199"/>
                  </a:lnTo>
                  <a:lnTo>
                    <a:pt x="221" y="137"/>
                  </a:lnTo>
                  <a:lnTo>
                    <a:pt x="142" y="199"/>
                  </a:lnTo>
                  <a:lnTo>
                    <a:pt x="142" y="124"/>
                  </a:lnTo>
                  <a:lnTo>
                    <a:pt x="0" y="239"/>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783" name=""/>
            <p:cNvSpPr/>
            <p:nvPr/>
          </p:nvSpPr>
          <p:spPr>
            <a:xfrm>
              <a:off x="1704960" y="1042920"/>
              <a:ext cx="198720" cy="124200"/>
            </a:xfrm>
            <a:custGeom>
              <a:avLst/>
              <a:gdLst/>
              <a:ahLst/>
              <a:rect l="0" t="0" r="r" b="b"/>
              <a:pathLst>
                <a:path w="552" h="345">
                  <a:moveTo>
                    <a:pt x="105" y="124"/>
                  </a:moveTo>
                  <a:lnTo>
                    <a:pt x="331" y="102"/>
                  </a:lnTo>
                  <a:lnTo>
                    <a:pt x="441" y="128"/>
                  </a:lnTo>
                  <a:lnTo>
                    <a:pt x="494" y="79"/>
                  </a:lnTo>
                  <a:lnTo>
                    <a:pt x="552" y="190"/>
                  </a:lnTo>
                  <a:lnTo>
                    <a:pt x="512" y="212"/>
                  </a:lnTo>
                  <a:lnTo>
                    <a:pt x="464" y="172"/>
                  </a:lnTo>
                  <a:lnTo>
                    <a:pt x="393" y="252"/>
                  </a:lnTo>
                  <a:lnTo>
                    <a:pt x="260" y="345"/>
                  </a:lnTo>
                  <a:lnTo>
                    <a:pt x="198" y="345"/>
                  </a:lnTo>
                  <a:lnTo>
                    <a:pt x="105" y="297"/>
                  </a:lnTo>
                  <a:lnTo>
                    <a:pt x="207" y="337"/>
                  </a:lnTo>
                  <a:lnTo>
                    <a:pt x="242" y="337"/>
                  </a:lnTo>
                  <a:lnTo>
                    <a:pt x="331" y="275"/>
                  </a:lnTo>
                  <a:lnTo>
                    <a:pt x="389" y="159"/>
                  </a:lnTo>
                  <a:lnTo>
                    <a:pt x="296" y="142"/>
                  </a:lnTo>
                  <a:lnTo>
                    <a:pt x="238" y="128"/>
                  </a:lnTo>
                  <a:lnTo>
                    <a:pt x="92" y="146"/>
                  </a:lnTo>
                  <a:lnTo>
                    <a:pt x="92" y="243"/>
                  </a:lnTo>
                  <a:lnTo>
                    <a:pt x="44" y="181"/>
                  </a:lnTo>
                  <a:lnTo>
                    <a:pt x="0" y="262"/>
                  </a:lnTo>
                  <a:lnTo>
                    <a:pt x="4" y="93"/>
                  </a:lnTo>
                  <a:lnTo>
                    <a:pt x="57" y="0"/>
                  </a:lnTo>
                  <a:lnTo>
                    <a:pt x="105" y="93"/>
                  </a:lnTo>
                  <a:lnTo>
                    <a:pt x="105"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4" name=""/>
            <p:cNvSpPr/>
            <p:nvPr/>
          </p:nvSpPr>
          <p:spPr>
            <a:xfrm>
              <a:off x="1681200" y="771480"/>
              <a:ext cx="424080" cy="576720"/>
            </a:xfrm>
            <a:custGeom>
              <a:avLst/>
              <a:gdLst/>
              <a:ahLst/>
              <a:rect l="0" t="0" r="r" b="b"/>
              <a:pathLst>
                <a:path w="1178" h="1602">
                  <a:moveTo>
                    <a:pt x="993" y="0"/>
                  </a:moveTo>
                  <a:lnTo>
                    <a:pt x="1112" y="0"/>
                  </a:lnTo>
                  <a:lnTo>
                    <a:pt x="1178" y="79"/>
                  </a:lnTo>
                  <a:lnTo>
                    <a:pt x="1178" y="167"/>
                  </a:lnTo>
                  <a:lnTo>
                    <a:pt x="1081" y="415"/>
                  </a:lnTo>
                  <a:lnTo>
                    <a:pt x="988" y="538"/>
                  </a:lnTo>
                  <a:lnTo>
                    <a:pt x="887" y="552"/>
                  </a:lnTo>
                  <a:lnTo>
                    <a:pt x="856" y="552"/>
                  </a:lnTo>
                  <a:lnTo>
                    <a:pt x="856" y="865"/>
                  </a:lnTo>
                  <a:lnTo>
                    <a:pt x="904" y="1099"/>
                  </a:lnTo>
                  <a:lnTo>
                    <a:pt x="904" y="1285"/>
                  </a:lnTo>
                  <a:lnTo>
                    <a:pt x="724" y="1474"/>
                  </a:lnTo>
                  <a:lnTo>
                    <a:pt x="480" y="1602"/>
                  </a:lnTo>
                  <a:lnTo>
                    <a:pt x="326" y="1602"/>
                  </a:lnTo>
                  <a:lnTo>
                    <a:pt x="246" y="1563"/>
                  </a:lnTo>
                  <a:lnTo>
                    <a:pt x="136" y="1342"/>
                  </a:lnTo>
                  <a:lnTo>
                    <a:pt x="39" y="1263"/>
                  </a:lnTo>
                  <a:lnTo>
                    <a:pt x="0" y="1205"/>
                  </a:lnTo>
                  <a:lnTo>
                    <a:pt x="132" y="1285"/>
                  </a:lnTo>
                  <a:lnTo>
                    <a:pt x="229" y="1369"/>
                  </a:lnTo>
                  <a:lnTo>
                    <a:pt x="414" y="1377"/>
                  </a:lnTo>
                  <a:lnTo>
                    <a:pt x="582" y="1298"/>
                  </a:lnTo>
                  <a:lnTo>
                    <a:pt x="675" y="1205"/>
                  </a:lnTo>
                  <a:lnTo>
                    <a:pt x="772" y="1041"/>
                  </a:lnTo>
                  <a:lnTo>
                    <a:pt x="785" y="852"/>
                  </a:lnTo>
                  <a:lnTo>
                    <a:pt x="825" y="238"/>
                  </a:lnTo>
                  <a:lnTo>
                    <a:pt x="865" y="321"/>
                  </a:lnTo>
                  <a:lnTo>
                    <a:pt x="979" y="211"/>
                  </a:lnTo>
                  <a:lnTo>
                    <a:pt x="1103" y="167"/>
                  </a:lnTo>
                  <a:lnTo>
                    <a:pt x="1129" y="97"/>
                  </a:lnTo>
                  <a:lnTo>
                    <a:pt x="1116" y="39"/>
                  </a:lnTo>
                  <a:lnTo>
                    <a:pt x="1068" y="8"/>
                  </a:lnTo>
                  <a:lnTo>
                    <a:pt x="99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5" name=""/>
            <p:cNvSpPr/>
            <p:nvPr/>
          </p:nvSpPr>
          <p:spPr>
            <a:xfrm>
              <a:off x="1023840" y="1270080"/>
              <a:ext cx="341640" cy="533880"/>
            </a:xfrm>
            <a:custGeom>
              <a:avLst/>
              <a:gdLst/>
              <a:ahLst/>
              <a:rect l="0" t="0" r="r" b="b"/>
              <a:pathLst>
                <a:path w="949" h="1483">
                  <a:moveTo>
                    <a:pt x="119" y="0"/>
                  </a:moveTo>
                  <a:lnTo>
                    <a:pt x="229" y="70"/>
                  </a:lnTo>
                  <a:lnTo>
                    <a:pt x="313" y="375"/>
                  </a:lnTo>
                  <a:lnTo>
                    <a:pt x="556" y="437"/>
                  </a:lnTo>
                  <a:lnTo>
                    <a:pt x="622" y="521"/>
                  </a:lnTo>
                  <a:lnTo>
                    <a:pt x="636" y="631"/>
                  </a:lnTo>
                  <a:lnTo>
                    <a:pt x="755" y="613"/>
                  </a:lnTo>
                  <a:lnTo>
                    <a:pt x="900" y="710"/>
                  </a:lnTo>
                  <a:lnTo>
                    <a:pt x="949" y="830"/>
                  </a:lnTo>
                  <a:lnTo>
                    <a:pt x="949" y="1037"/>
                  </a:lnTo>
                  <a:lnTo>
                    <a:pt x="755" y="1355"/>
                  </a:lnTo>
                  <a:lnTo>
                    <a:pt x="688" y="1483"/>
                  </a:lnTo>
                  <a:lnTo>
                    <a:pt x="724" y="1311"/>
                  </a:lnTo>
                  <a:lnTo>
                    <a:pt x="688" y="1249"/>
                  </a:lnTo>
                  <a:lnTo>
                    <a:pt x="574" y="1139"/>
                  </a:lnTo>
                  <a:lnTo>
                    <a:pt x="388" y="1006"/>
                  </a:lnTo>
                  <a:lnTo>
                    <a:pt x="613" y="1081"/>
                  </a:lnTo>
                  <a:lnTo>
                    <a:pt x="741" y="1179"/>
                  </a:lnTo>
                  <a:lnTo>
                    <a:pt x="807" y="1166"/>
                  </a:lnTo>
                  <a:lnTo>
                    <a:pt x="852" y="1107"/>
                  </a:lnTo>
                  <a:lnTo>
                    <a:pt x="900" y="962"/>
                  </a:lnTo>
                  <a:lnTo>
                    <a:pt x="887" y="816"/>
                  </a:lnTo>
                  <a:lnTo>
                    <a:pt x="821" y="737"/>
                  </a:lnTo>
                  <a:lnTo>
                    <a:pt x="697" y="710"/>
                  </a:lnTo>
                  <a:lnTo>
                    <a:pt x="574" y="710"/>
                  </a:lnTo>
                  <a:lnTo>
                    <a:pt x="530" y="490"/>
                  </a:lnTo>
                  <a:lnTo>
                    <a:pt x="321" y="411"/>
                  </a:lnTo>
                  <a:lnTo>
                    <a:pt x="321" y="477"/>
                  </a:lnTo>
                  <a:lnTo>
                    <a:pt x="229" y="317"/>
                  </a:lnTo>
                  <a:lnTo>
                    <a:pt x="171" y="70"/>
                  </a:lnTo>
                  <a:lnTo>
                    <a:pt x="92" y="44"/>
                  </a:lnTo>
                  <a:lnTo>
                    <a:pt x="48" y="119"/>
                  </a:lnTo>
                  <a:lnTo>
                    <a:pt x="48" y="291"/>
                  </a:lnTo>
                  <a:lnTo>
                    <a:pt x="88" y="477"/>
                  </a:lnTo>
                  <a:lnTo>
                    <a:pt x="198" y="631"/>
                  </a:lnTo>
                  <a:lnTo>
                    <a:pt x="70" y="534"/>
                  </a:lnTo>
                  <a:lnTo>
                    <a:pt x="8" y="375"/>
                  </a:lnTo>
                  <a:lnTo>
                    <a:pt x="0" y="158"/>
                  </a:lnTo>
                  <a:lnTo>
                    <a:pt x="48"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6" name=""/>
            <p:cNvSpPr/>
            <p:nvPr/>
          </p:nvSpPr>
          <p:spPr>
            <a:xfrm>
              <a:off x="860400" y="1503360"/>
              <a:ext cx="225720" cy="429120"/>
            </a:xfrm>
            <a:custGeom>
              <a:avLst/>
              <a:gdLst/>
              <a:ahLst/>
              <a:rect l="0" t="0" r="r" b="b"/>
              <a:pathLst>
                <a:path w="627" h="1192">
                  <a:moveTo>
                    <a:pt x="627" y="0"/>
                  </a:moveTo>
                  <a:lnTo>
                    <a:pt x="499" y="79"/>
                  </a:lnTo>
                  <a:lnTo>
                    <a:pt x="344" y="367"/>
                  </a:lnTo>
                  <a:lnTo>
                    <a:pt x="194" y="556"/>
                  </a:lnTo>
                  <a:lnTo>
                    <a:pt x="13" y="785"/>
                  </a:lnTo>
                  <a:lnTo>
                    <a:pt x="0" y="897"/>
                  </a:lnTo>
                  <a:lnTo>
                    <a:pt x="35" y="1007"/>
                  </a:lnTo>
                  <a:lnTo>
                    <a:pt x="123" y="1007"/>
                  </a:lnTo>
                  <a:lnTo>
                    <a:pt x="238" y="897"/>
                  </a:lnTo>
                  <a:lnTo>
                    <a:pt x="336" y="684"/>
                  </a:lnTo>
                  <a:lnTo>
                    <a:pt x="459" y="556"/>
                  </a:lnTo>
                  <a:lnTo>
                    <a:pt x="459" y="724"/>
                  </a:lnTo>
                  <a:lnTo>
                    <a:pt x="441" y="887"/>
                  </a:lnTo>
                  <a:lnTo>
                    <a:pt x="304" y="1100"/>
                  </a:lnTo>
                  <a:lnTo>
                    <a:pt x="304" y="1161"/>
                  </a:lnTo>
                  <a:lnTo>
                    <a:pt x="441" y="1192"/>
                  </a:lnTo>
                  <a:lnTo>
                    <a:pt x="344" y="1135"/>
                  </a:lnTo>
                  <a:lnTo>
                    <a:pt x="358" y="1100"/>
                  </a:lnTo>
                  <a:lnTo>
                    <a:pt x="455" y="941"/>
                  </a:lnTo>
                  <a:lnTo>
                    <a:pt x="521" y="662"/>
                  </a:lnTo>
                  <a:lnTo>
                    <a:pt x="472" y="499"/>
                  </a:lnTo>
                  <a:lnTo>
                    <a:pt x="371" y="591"/>
                  </a:lnTo>
                  <a:lnTo>
                    <a:pt x="149" y="950"/>
                  </a:lnTo>
                  <a:lnTo>
                    <a:pt x="92" y="963"/>
                  </a:lnTo>
                  <a:lnTo>
                    <a:pt x="35" y="928"/>
                  </a:lnTo>
                  <a:lnTo>
                    <a:pt x="35" y="812"/>
                  </a:lnTo>
                  <a:lnTo>
                    <a:pt x="123" y="671"/>
                  </a:lnTo>
                  <a:lnTo>
                    <a:pt x="371" y="384"/>
                  </a:lnTo>
                  <a:lnTo>
                    <a:pt x="521" y="105"/>
                  </a:lnTo>
                  <a:lnTo>
                    <a:pt x="6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7" name=""/>
            <p:cNvSpPr/>
            <p:nvPr/>
          </p:nvSpPr>
          <p:spPr>
            <a:xfrm>
              <a:off x="1027080" y="1746360"/>
              <a:ext cx="140040" cy="205200"/>
            </a:xfrm>
            <a:custGeom>
              <a:avLst/>
              <a:gdLst/>
              <a:ahLst/>
              <a:rect l="0" t="0" r="r" b="b"/>
              <a:pathLst>
                <a:path w="389" h="570">
                  <a:moveTo>
                    <a:pt x="0" y="504"/>
                  </a:moveTo>
                  <a:lnTo>
                    <a:pt x="127" y="358"/>
                  </a:lnTo>
                  <a:lnTo>
                    <a:pt x="154" y="212"/>
                  </a:lnTo>
                  <a:lnTo>
                    <a:pt x="300" y="0"/>
                  </a:lnTo>
                  <a:lnTo>
                    <a:pt x="331" y="141"/>
                  </a:lnTo>
                  <a:lnTo>
                    <a:pt x="314" y="517"/>
                  </a:lnTo>
                  <a:lnTo>
                    <a:pt x="389" y="570"/>
                  </a:lnTo>
                  <a:lnTo>
                    <a:pt x="278" y="531"/>
                  </a:lnTo>
                  <a:lnTo>
                    <a:pt x="217" y="314"/>
                  </a:lnTo>
                  <a:lnTo>
                    <a:pt x="127" y="424"/>
                  </a:lnTo>
                  <a:lnTo>
                    <a:pt x="0" y="50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8" name=""/>
            <p:cNvSpPr/>
            <p:nvPr/>
          </p:nvSpPr>
          <p:spPr>
            <a:xfrm>
              <a:off x="1200240" y="1757520"/>
              <a:ext cx="90720" cy="184680"/>
            </a:xfrm>
            <a:custGeom>
              <a:avLst/>
              <a:gdLst/>
              <a:ahLst/>
              <a:rect l="0" t="0" r="r" b="b"/>
              <a:pathLst>
                <a:path w="252" h="513">
                  <a:moveTo>
                    <a:pt x="0" y="384"/>
                  </a:moveTo>
                  <a:lnTo>
                    <a:pt x="8" y="199"/>
                  </a:lnTo>
                  <a:lnTo>
                    <a:pt x="66" y="83"/>
                  </a:lnTo>
                  <a:lnTo>
                    <a:pt x="123" y="487"/>
                  </a:lnTo>
                  <a:lnTo>
                    <a:pt x="199" y="487"/>
                  </a:lnTo>
                  <a:lnTo>
                    <a:pt x="234" y="57"/>
                  </a:lnTo>
                  <a:lnTo>
                    <a:pt x="252" y="0"/>
                  </a:lnTo>
                  <a:lnTo>
                    <a:pt x="234" y="336"/>
                  </a:lnTo>
                  <a:lnTo>
                    <a:pt x="199" y="513"/>
                  </a:lnTo>
                  <a:lnTo>
                    <a:pt x="101" y="513"/>
                  </a:lnTo>
                  <a:lnTo>
                    <a:pt x="57" y="159"/>
                  </a:lnTo>
                  <a:lnTo>
                    <a:pt x="26" y="208"/>
                  </a:lnTo>
                  <a:lnTo>
                    <a:pt x="0" y="38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9" name=""/>
            <p:cNvSpPr/>
            <p:nvPr/>
          </p:nvSpPr>
          <p:spPr>
            <a:xfrm>
              <a:off x="2374920" y="1033560"/>
              <a:ext cx="224280" cy="489240"/>
            </a:xfrm>
            <a:custGeom>
              <a:avLst/>
              <a:gdLst/>
              <a:ahLst/>
              <a:rect l="0" t="0" r="r" b="b"/>
              <a:pathLst>
                <a:path w="623" h="1359">
                  <a:moveTo>
                    <a:pt x="164" y="737"/>
                  </a:moveTo>
                  <a:lnTo>
                    <a:pt x="212" y="524"/>
                  </a:lnTo>
                  <a:lnTo>
                    <a:pt x="419" y="467"/>
                  </a:lnTo>
                  <a:lnTo>
                    <a:pt x="623" y="0"/>
                  </a:lnTo>
                  <a:lnTo>
                    <a:pt x="623" y="136"/>
                  </a:lnTo>
                  <a:lnTo>
                    <a:pt x="450" y="498"/>
                  </a:lnTo>
                  <a:lnTo>
                    <a:pt x="230" y="564"/>
                  </a:lnTo>
                  <a:lnTo>
                    <a:pt x="195" y="737"/>
                  </a:lnTo>
                  <a:lnTo>
                    <a:pt x="278" y="737"/>
                  </a:lnTo>
                  <a:lnTo>
                    <a:pt x="79" y="812"/>
                  </a:lnTo>
                  <a:lnTo>
                    <a:pt x="35" y="957"/>
                  </a:lnTo>
                  <a:lnTo>
                    <a:pt x="48" y="1143"/>
                  </a:lnTo>
                  <a:lnTo>
                    <a:pt x="252" y="1359"/>
                  </a:lnTo>
                  <a:lnTo>
                    <a:pt x="35" y="1169"/>
                  </a:lnTo>
                  <a:lnTo>
                    <a:pt x="0" y="1010"/>
                  </a:lnTo>
                  <a:lnTo>
                    <a:pt x="13" y="852"/>
                  </a:lnTo>
                  <a:lnTo>
                    <a:pt x="97" y="737"/>
                  </a:lnTo>
                  <a:lnTo>
                    <a:pt x="164" y="7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0" name=""/>
            <p:cNvSpPr/>
            <p:nvPr/>
          </p:nvSpPr>
          <p:spPr>
            <a:xfrm>
              <a:off x="2527200" y="1033560"/>
              <a:ext cx="373320" cy="475200"/>
            </a:xfrm>
            <a:custGeom>
              <a:avLst/>
              <a:gdLst/>
              <a:ahLst/>
              <a:rect l="0" t="0" r="r" b="b"/>
              <a:pathLst>
                <a:path w="1037" h="1320">
                  <a:moveTo>
                    <a:pt x="286" y="0"/>
                  </a:moveTo>
                  <a:lnTo>
                    <a:pt x="348" y="44"/>
                  </a:lnTo>
                  <a:lnTo>
                    <a:pt x="366" y="154"/>
                  </a:lnTo>
                  <a:lnTo>
                    <a:pt x="366" y="260"/>
                  </a:lnTo>
                  <a:lnTo>
                    <a:pt x="251" y="450"/>
                  </a:lnTo>
                  <a:lnTo>
                    <a:pt x="277" y="591"/>
                  </a:lnTo>
                  <a:lnTo>
                    <a:pt x="622" y="741"/>
                  </a:lnTo>
                  <a:lnTo>
                    <a:pt x="1032" y="1157"/>
                  </a:lnTo>
                  <a:lnTo>
                    <a:pt x="1037" y="1272"/>
                  </a:lnTo>
                  <a:lnTo>
                    <a:pt x="1015" y="1320"/>
                  </a:lnTo>
                  <a:lnTo>
                    <a:pt x="865" y="1320"/>
                  </a:lnTo>
                  <a:lnTo>
                    <a:pt x="728" y="1241"/>
                  </a:lnTo>
                  <a:lnTo>
                    <a:pt x="618" y="1104"/>
                  </a:lnTo>
                  <a:lnTo>
                    <a:pt x="556" y="1025"/>
                  </a:lnTo>
                  <a:lnTo>
                    <a:pt x="476" y="1011"/>
                  </a:lnTo>
                  <a:lnTo>
                    <a:pt x="569" y="1011"/>
                  </a:lnTo>
                  <a:lnTo>
                    <a:pt x="741" y="1227"/>
                  </a:lnTo>
                  <a:lnTo>
                    <a:pt x="957" y="1289"/>
                  </a:lnTo>
                  <a:lnTo>
                    <a:pt x="1002" y="1227"/>
                  </a:lnTo>
                  <a:lnTo>
                    <a:pt x="979" y="1130"/>
                  </a:lnTo>
                  <a:lnTo>
                    <a:pt x="600" y="830"/>
                  </a:lnTo>
                  <a:lnTo>
                    <a:pt x="543" y="741"/>
                  </a:lnTo>
                  <a:lnTo>
                    <a:pt x="251" y="666"/>
                  </a:lnTo>
                  <a:lnTo>
                    <a:pt x="198" y="741"/>
                  </a:lnTo>
                  <a:lnTo>
                    <a:pt x="0" y="865"/>
                  </a:lnTo>
                  <a:lnTo>
                    <a:pt x="189" y="719"/>
                  </a:lnTo>
                  <a:lnTo>
                    <a:pt x="198" y="636"/>
                  </a:lnTo>
                  <a:lnTo>
                    <a:pt x="198" y="419"/>
                  </a:lnTo>
                  <a:lnTo>
                    <a:pt x="335" y="260"/>
                  </a:lnTo>
                  <a:lnTo>
                    <a:pt x="335" y="52"/>
                  </a:lnTo>
                  <a:lnTo>
                    <a:pt x="2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1" name=""/>
            <p:cNvSpPr/>
            <p:nvPr/>
          </p:nvSpPr>
          <p:spPr>
            <a:xfrm>
              <a:off x="2457360" y="1406520"/>
              <a:ext cx="319320" cy="282960"/>
            </a:xfrm>
            <a:custGeom>
              <a:avLst/>
              <a:gdLst/>
              <a:ahLst/>
              <a:rect l="0" t="0" r="r" b="b"/>
              <a:pathLst>
                <a:path w="887" h="786">
                  <a:moveTo>
                    <a:pt x="666" y="0"/>
                  </a:moveTo>
                  <a:lnTo>
                    <a:pt x="644" y="70"/>
                  </a:lnTo>
                  <a:lnTo>
                    <a:pt x="777" y="322"/>
                  </a:lnTo>
                  <a:lnTo>
                    <a:pt x="838" y="597"/>
                  </a:lnTo>
                  <a:lnTo>
                    <a:pt x="763" y="597"/>
                  </a:lnTo>
                  <a:lnTo>
                    <a:pt x="631" y="477"/>
                  </a:lnTo>
                  <a:lnTo>
                    <a:pt x="508" y="230"/>
                  </a:lnTo>
                  <a:lnTo>
                    <a:pt x="414" y="189"/>
                  </a:lnTo>
                  <a:lnTo>
                    <a:pt x="432" y="322"/>
                  </a:lnTo>
                  <a:lnTo>
                    <a:pt x="516" y="424"/>
                  </a:lnTo>
                  <a:lnTo>
                    <a:pt x="516" y="610"/>
                  </a:lnTo>
                  <a:lnTo>
                    <a:pt x="455" y="747"/>
                  </a:lnTo>
                  <a:lnTo>
                    <a:pt x="374" y="694"/>
                  </a:lnTo>
                  <a:lnTo>
                    <a:pt x="273" y="477"/>
                  </a:lnTo>
                  <a:lnTo>
                    <a:pt x="246" y="322"/>
                  </a:lnTo>
                  <a:lnTo>
                    <a:pt x="189" y="283"/>
                  </a:lnTo>
                  <a:lnTo>
                    <a:pt x="176" y="663"/>
                  </a:lnTo>
                  <a:lnTo>
                    <a:pt x="92" y="720"/>
                  </a:lnTo>
                  <a:lnTo>
                    <a:pt x="22" y="663"/>
                  </a:lnTo>
                  <a:lnTo>
                    <a:pt x="8" y="340"/>
                  </a:lnTo>
                  <a:lnTo>
                    <a:pt x="0" y="659"/>
                  </a:lnTo>
                  <a:lnTo>
                    <a:pt x="57" y="778"/>
                  </a:lnTo>
                  <a:lnTo>
                    <a:pt x="176" y="778"/>
                  </a:lnTo>
                  <a:lnTo>
                    <a:pt x="216" y="685"/>
                  </a:lnTo>
                  <a:lnTo>
                    <a:pt x="238" y="384"/>
                  </a:lnTo>
                  <a:lnTo>
                    <a:pt x="260" y="499"/>
                  </a:lnTo>
                  <a:lnTo>
                    <a:pt x="357" y="756"/>
                  </a:lnTo>
                  <a:lnTo>
                    <a:pt x="464" y="786"/>
                  </a:lnTo>
                  <a:lnTo>
                    <a:pt x="552" y="685"/>
                  </a:lnTo>
                  <a:lnTo>
                    <a:pt x="552" y="437"/>
                  </a:lnTo>
                  <a:lnTo>
                    <a:pt x="763" y="641"/>
                  </a:lnTo>
                  <a:lnTo>
                    <a:pt x="878" y="641"/>
                  </a:lnTo>
                  <a:lnTo>
                    <a:pt x="887" y="499"/>
                  </a:lnTo>
                  <a:lnTo>
                    <a:pt x="803" y="256"/>
                  </a:lnTo>
                  <a:lnTo>
                    <a:pt x="666" y="52"/>
                  </a:lnTo>
                  <a:lnTo>
                    <a:pt x="66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2" name=""/>
            <p:cNvSpPr/>
            <p:nvPr/>
          </p:nvSpPr>
          <p:spPr>
            <a:xfrm>
              <a:off x="1173240" y="1116000"/>
              <a:ext cx="1414800" cy="1151280"/>
            </a:xfrm>
            <a:custGeom>
              <a:avLst/>
              <a:gdLst/>
              <a:ahLst/>
              <a:rect l="0" t="0" r="r" b="b"/>
              <a:pathLst>
                <a:path w="3930" h="3198">
                  <a:moveTo>
                    <a:pt x="1415" y="268"/>
                  </a:moveTo>
                  <a:lnTo>
                    <a:pt x="1340" y="282"/>
                  </a:lnTo>
                  <a:lnTo>
                    <a:pt x="1234" y="440"/>
                  </a:lnTo>
                  <a:lnTo>
                    <a:pt x="1190" y="321"/>
                  </a:lnTo>
                  <a:lnTo>
                    <a:pt x="1067" y="260"/>
                  </a:lnTo>
                  <a:lnTo>
                    <a:pt x="970" y="308"/>
                  </a:lnTo>
                  <a:lnTo>
                    <a:pt x="934" y="520"/>
                  </a:lnTo>
                  <a:lnTo>
                    <a:pt x="577" y="771"/>
                  </a:lnTo>
                  <a:lnTo>
                    <a:pt x="604" y="881"/>
                  </a:lnTo>
                  <a:lnTo>
                    <a:pt x="520" y="974"/>
                  </a:lnTo>
                  <a:lnTo>
                    <a:pt x="520" y="1058"/>
                  </a:lnTo>
                  <a:lnTo>
                    <a:pt x="621" y="1300"/>
                  </a:lnTo>
                  <a:lnTo>
                    <a:pt x="626" y="1596"/>
                  </a:lnTo>
                  <a:lnTo>
                    <a:pt x="560" y="1870"/>
                  </a:lnTo>
                  <a:lnTo>
                    <a:pt x="313" y="2038"/>
                  </a:lnTo>
                  <a:lnTo>
                    <a:pt x="273" y="2267"/>
                  </a:lnTo>
                  <a:lnTo>
                    <a:pt x="194" y="2267"/>
                  </a:lnTo>
                  <a:lnTo>
                    <a:pt x="158" y="2082"/>
                  </a:lnTo>
                  <a:lnTo>
                    <a:pt x="79" y="2082"/>
                  </a:lnTo>
                  <a:lnTo>
                    <a:pt x="48" y="2280"/>
                  </a:lnTo>
                  <a:lnTo>
                    <a:pt x="0" y="2338"/>
                  </a:lnTo>
                  <a:lnTo>
                    <a:pt x="171" y="2611"/>
                  </a:lnTo>
                  <a:lnTo>
                    <a:pt x="295" y="2624"/>
                  </a:lnTo>
                  <a:lnTo>
                    <a:pt x="520" y="2827"/>
                  </a:lnTo>
                  <a:lnTo>
                    <a:pt x="723" y="2849"/>
                  </a:lnTo>
                  <a:lnTo>
                    <a:pt x="833" y="2743"/>
                  </a:lnTo>
                  <a:lnTo>
                    <a:pt x="1106" y="2346"/>
                  </a:lnTo>
                  <a:lnTo>
                    <a:pt x="1128" y="2880"/>
                  </a:lnTo>
                  <a:lnTo>
                    <a:pt x="1106" y="3198"/>
                  </a:lnTo>
                  <a:lnTo>
                    <a:pt x="3374" y="3198"/>
                  </a:lnTo>
                  <a:lnTo>
                    <a:pt x="3211" y="2849"/>
                  </a:lnTo>
                  <a:lnTo>
                    <a:pt x="3131" y="2554"/>
                  </a:lnTo>
                  <a:lnTo>
                    <a:pt x="3109" y="2117"/>
                  </a:lnTo>
                  <a:lnTo>
                    <a:pt x="3242" y="2214"/>
                  </a:lnTo>
                  <a:lnTo>
                    <a:pt x="3374" y="2214"/>
                  </a:lnTo>
                  <a:lnTo>
                    <a:pt x="3559" y="2095"/>
                  </a:lnTo>
                  <a:lnTo>
                    <a:pt x="3687" y="2082"/>
                  </a:lnTo>
                  <a:lnTo>
                    <a:pt x="3762" y="1963"/>
                  </a:lnTo>
                  <a:lnTo>
                    <a:pt x="3819" y="1659"/>
                  </a:lnTo>
                  <a:lnTo>
                    <a:pt x="3930" y="1543"/>
                  </a:lnTo>
                  <a:lnTo>
                    <a:pt x="3872" y="1450"/>
                  </a:lnTo>
                  <a:lnTo>
                    <a:pt x="3784" y="1450"/>
                  </a:lnTo>
                  <a:lnTo>
                    <a:pt x="3718" y="1512"/>
                  </a:lnTo>
                  <a:lnTo>
                    <a:pt x="3656" y="1530"/>
                  </a:lnTo>
                  <a:lnTo>
                    <a:pt x="3577" y="1450"/>
                  </a:lnTo>
                  <a:lnTo>
                    <a:pt x="3475" y="1437"/>
                  </a:lnTo>
                  <a:lnTo>
                    <a:pt x="3299" y="1327"/>
                  </a:lnTo>
                  <a:lnTo>
                    <a:pt x="3189" y="1203"/>
                  </a:lnTo>
                  <a:lnTo>
                    <a:pt x="3167" y="1058"/>
                  </a:lnTo>
                  <a:lnTo>
                    <a:pt x="3189" y="917"/>
                  </a:lnTo>
                  <a:lnTo>
                    <a:pt x="3259" y="798"/>
                  </a:lnTo>
                  <a:lnTo>
                    <a:pt x="3356" y="696"/>
                  </a:lnTo>
                  <a:lnTo>
                    <a:pt x="3352" y="515"/>
                  </a:lnTo>
                  <a:lnTo>
                    <a:pt x="3352" y="374"/>
                  </a:lnTo>
                  <a:lnTo>
                    <a:pt x="3299" y="282"/>
                  </a:lnTo>
                  <a:lnTo>
                    <a:pt x="3167" y="238"/>
                  </a:lnTo>
                  <a:lnTo>
                    <a:pt x="3123" y="216"/>
                  </a:lnTo>
                  <a:lnTo>
                    <a:pt x="3026" y="57"/>
                  </a:lnTo>
                  <a:lnTo>
                    <a:pt x="2946" y="13"/>
                  </a:lnTo>
                  <a:lnTo>
                    <a:pt x="2867" y="0"/>
                  </a:lnTo>
                  <a:lnTo>
                    <a:pt x="2801" y="30"/>
                  </a:lnTo>
                  <a:lnTo>
                    <a:pt x="2743" y="114"/>
                  </a:lnTo>
                  <a:lnTo>
                    <a:pt x="2655" y="163"/>
                  </a:lnTo>
                  <a:lnTo>
                    <a:pt x="2563" y="180"/>
                  </a:lnTo>
                  <a:lnTo>
                    <a:pt x="2452" y="180"/>
                  </a:lnTo>
                  <a:lnTo>
                    <a:pt x="2470" y="339"/>
                  </a:lnTo>
                  <a:lnTo>
                    <a:pt x="2470" y="533"/>
                  </a:lnTo>
                  <a:lnTo>
                    <a:pt x="2452" y="665"/>
                  </a:lnTo>
                  <a:lnTo>
                    <a:pt x="2355" y="829"/>
                  </a:lnTo>
                  <a:lnTo>
                    <a:pt x="2232" y="1067"/>
                  </a:lnTo>
                  <a:lnTo>
                    <a:pt x="2130" y="1353"/>
                  </a:lnTo>
                  <a:lnTo>
                    <a:pt x="2126" y="1530"/>
                  </a:lnTo>
                  <a:lnTo>
                    <a:pt x="2077" y="1672"/>
                  </a:lnTo>
                  <a:lnTo>
                    <a:pt x="2020" y="1817"/>
                  </a:lnTo>
                  <a:lnTo>
                    <a:pt x="1989" y="2051"/>
                  </a:lnTo>
                  <a:lnTo>
                    <a:pt x="2011" y="2241"/>
                  </a:lnTo>
                  <a:lnTo>
                    <a:pt x="2077" y="2466"/>
                  </a:lnTo>
                  <a:lnTo>
                    <a:pt x="2126" y="2554"/>
                  </a:lnTo>
                  <a:lnTo>
                    <a:pt x="1989" y="2638"/>
                  </a:lnTo>
                  <a:lnTo>
                    <a:pt x="1834" y="2686"/>
                  </a:lnTo>
                  <a:lnTo>
                    <a:pt x="1662" y="2708"/>
                  </a:lnTo>
                  <a:lnTo>
                    <a:pt x="1552" y="2708"/>
                  </a:lnTo>
                  <a:lnTo>
                    <a:pt x="1477" y="2677"/>
                  </a:lnTo>
                  <a:lnTo>
                    <a:pt x="1477" y="2488"/>
                  </a:lnTo>
                  <a:lnTo>
                    <a:pt x="1477" y="2205"/>
                  </a:lnTo>
                  <a:lnTo>
                    <a:pt x="1437" y="1923"/>
                  </a:lnTo>
                  <a:lnTo>
                    <a:pt x="1367" y="1672"/>
                  </a:lnTo>
                  <a:lnTo>
                    <a:pt x="1336" y="1472"/>
                  </a:lnTo>
                  <a:lnTo>
                    <a:pt x="1322" y="1195"/>
                  </a:lnTo>
                  <a:lnTo>
                    <a:pt x="1367" y="943"/>
                  </a:lnTo>
                  <a:lnTo>
                    <a:pt x="1437" y="745"/>
                  </a:lnTo>
                  <a:lnTo>
                    <a:pt x="1446" y="630"/>
                  </a:lnTo>
                  <a:lnTo>
                    <a:pt x="1415" y="458"/>
                  </a:lnTo>
                  <a:lnTo>
                    <a:pt x="1415" y="321"/>
                  </a:lnTo>
                  <a:lnTo>
                    <a:pt x="1437" y="282"/>
                  </a:lnTo>
                  <a:lnTo>
                    <a:pt x="1415" y="26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3" name=""/>
            <p:cNvSpPr/>
            <p:nvPr/>
          </p:nvSpPr>
          <p:spPr>
            <a:xfrm>
              <a:off x="1724040" y="1344600"/>
              <a:ext cx="178200" cy="749520"/>
            </a:xfrm>
            <a:custGeom>
              <a:avLst/>
              <a:gdLst/>
              <a:ahLst/>
              <a:rect l="0" t="0" r="r" b="b"/>
              <a:pathLst>
                <a:path w="495" h="2082">
                  <a:moveTo>
                    <a:pt x="199" y="26"/>
                  </a:moveTo>
                  <a:lnTo>
                    <a:pt x="66" y="92"/>
                  </a:lnTo>
                  <a:lnTo>
                    <a:pt x="74" y="295"/>
                  </a:lnTo>
                  <a:lnTo>
                    <a:pt x="172" y="352"/>
                  </a:lnTo>
                  <a:lnTo>
                    <a:pt x="57" y="568"/>
                  </a:lnTo>
                  <a:lnTo>
                    <a:pt x="0" y="806"/>
                  </a:lnTo>
                  <a:lnTo>
                    <a:pt x="0" y="1036"/>
                  </a:lnTo>
                  <a:lnTo>
                    <a:pt x="57" y="1248"/>
                  </a:lnTo>
                  <a:lnTo>
                    <a:pt x="105" y="1504"/>
                  </a:lnTo>
                  <a:lnTo>
                    <a:pt x="105" y="1650"/>
                  </a:lnTo>
                  <a:lnTo>
                    <a:pt x="57" y="1826"/>
                  </a:lnTo>
                  <a:lnTo>
                    <a:pt x="256" y="2082"/>
                  </a:lnTo>
                  <a:lnTo>
                    <a:pt x="340" y="2042"/>
                  </a:lnTo>
                  <a:lnTo>
                    <a:pt x="394" y="1866"/>
                  </a:lnTo>
                  <a:lnTo>
                    <a:pt x="491" y="1637"/>
                  </a:lnTo>
                  <a:lnTo>
                    <a:pt x="495" y="1513"/>
                  </a:lnTo>
                  <a:lnTo>
                    <a:pt x="420" y="1284"/>
                  </a:lnTo>
                  <a:lnTo>
                    <a:pt x="327" y="1063"/>
                  </a:lnTo>
                  <a:lnTo>
                    <a:pt x="287" y="903"/>
                  </a:lnTo>
                  <a:lnTo>
                    <a:pt x="287" y="754"/>
                  </a:lnTo>
                  <a:lnTo>
                    <a:pt x="327" y="621"/>
                  </a:lnTo>
                  <a:lnTo>
                    <a:pt x="394" y="454"/>
                  </a:lnTo>
                  <a:lnTo>
                    <a:pt x="394" y="388"/>
                  </a:lnTo>
                  <a:lnTo>
                    <a:pt x="358" y="321"/>
                  </a:lnTo>
                  <a:lnTo>
                    <a:pt x="451" y="238"/>
                  </a:lnTo>
                  <a:lnTo>
                    <a:pt x="451" y="158"/>
                  </a:lnTo>
                  <a:lnTo>
                    <a:pt x="327" y="0"/>
                  </a:lnTo>
                  <a:lnTo>
                    <a:pt x="429" y="158"/>
                  </a:lnTo>
                  <a:lnTo>
                    <a:pt x="429" y="224"/>
                  </a:lnTo>
                  <a:lnTo>
                    <a:pt x="336" y="295"/>
                  </a:lnTo>
                  <a:lnTo>
                    <a:pt x="372" y="388"/>
                  </a:lnTo>
                  <a:lnTo>
                    <a:pt x="358" y="454"/>
                  </a:lnTo>
                  <a:lnTo>
                    <a:pt x="269" y="648"/>
                  </a:lnTo>
                  <a:lnTo>
                    <a:pt x="256" y="833"/>
                  </a:lnTo>
                  <a:lnTo>
                    <a:pt x="278" y="1009"/>
                  </a:lnTo>
                  <a:lnTo>
                    <a:pt x="340" y="1257"/>
                  </a:lnTo>
                  <a:lnTo>
                    <a:pt x="420" y="1460"/>
                  </a:lnTo>
                  <a:lnTo>
                    <a:pt x="420" y="1623"/>
                  </a:lnTo>
                  <a:lnTo>
                    <a:pt x="372" y="1826"/>
                  </a:lnTo>
                  <a:lnTo>
                    <a:pt x="278" y="2042"/>
                  </a:lnTo>
                  <a:lnTo>
                    <a:pt x="164" y="1923"/>
                  </a:lnTo>
                  <a:lnTo>
                    <a:pt x="114" y="1826"/>
                  </a:lnTo>
                  <a:lnTo>
                    <a:pt x="128" y="1623"/>
                  </a:lnTo>
                  <a:lnTo>
                    <a:pt x="114" y="1420"/>
                  </a:lnTo>
                  <a:lnTo>
                    <a:pt x="57" y="1143"/>
                  </a:lnTo>
                  <a:lnTo>
                    <a:pt x="35" y="956"/>
                  </a:lnTo>
                  <a:lnTo>
                    <a:pt x="57" y="745"/>
                  </a:lnTo>
                  <a:lnTo>
                    <a:pt x="105" y="537"/>
                  </a:lnTo>
                  <a:lnTo>
                    <a:pt x="212" y="335"/>
                  </a:lnTo>
                  <a:lnTo>
                    <a:pt x="114" y="251"/>
                  </a:lnTo>
                  <a:lnTo>
                    <a:pt x="105" y="101"/>
                  </a:lnTo>
                  <a:lnTo>
                    <a:pt x="199"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4" name=""/>
            <p:cNvSpPr/>
            <p:nvPr/>
          </p:nvSpPr>
          <p:spPr>
            <a:xfrm>
              <a:off x="2233440" y="469800"/>
              <a:ext cx="281520" cy="365400"/>
            </a:xfrm>
            <a:custGeom>
              <a:avLst/>
              <a:gdLst/>
              <a:ahLst/>
              <a:rect l="0" t="0" r="r" b="b"/>
              <a:pathLst>
                <a:path w="782" h="1015">
                  <a:moveTo>
                    <a:pt x="127" y="260"/>
                  </a:moveTo>
                  <a:lnTo>
                    <a:pt x="243" y="238"/>
                  </a:lnTo>
                  <a:lnTo>
                    <a:pt x="353" y="246"/>
                  </a:lnTo>
                  <a:lnTo>
                    <a:pt x="450" y="291"/>
                  </a:lnTo>
                  <a:lnTo>
                    <a:pt x="499" y="343"/>
                  </a:lnTo>
                  <a:lnTo>
                    <a:pt x="521" y="396"/>
                  </a:lnTo>
                  <a:lnTo>
                    <a:pt x="521" y="445"/>
                  </a:lnTo>
                  <a:lnTo>
                    <a:pt x="494" y="480"/>
                  </a:lnTo>
                  <a:lnTo>
                    <a:pt x="446" y="502"/>
                  </a:lnTo>
                  <a:lnTo>
                    <a:pt x="389" y="507"/>
                  </a:lnTo>
                  <a:lnTo>
                    <a:pt x="318" y="493"/>
                  </a:lnTo>
                  <a:lnTo>
                    <a:pt x="247" y="449"/>
                  </a:lnTo>
                  <a:lnTo>
                    <a:pt x="194" y="410"/>
                  </a:lnTo>
                  <a:lnTo>
                    <a:pt x="171" y="543"/>
                  </a:lnTo>
                  <a:lnTo>
                    <a:pt x="127" y="636"/>
                  </a:lnTo>
                  <a:lnTo>
                    <a:pt x="0" y="847"/>
                  </a:lnTo>
                  <a:lnTo>
                    <a:pt x="189" y="1015"/>
                  </a:lnTo>
                  <a:lnTo>
                    <a:pt x="331" y="741"/>
                  </a:lnTo>
                  <a:lnTo>
                    <a:pt x="494" y="763"/>
                  </a:lnTo>
                  <a:lnTo>
                    <a:pt x="597" y="746"/>
                  </a:lnTo>
                  <a:lnTo>
                    <a:pt x="694" y="680"/>
                  </a:lnTo>
                  <a:lnTo>
                    <a:pt x="751" y="605"/>
                  </a:lnTo>
                  <a:lnTo>
                    <a:pt x="782" y="493"/>
                  </a:lnTo>
                  <a:lnTo>
                    <a:pt x="782" y="388"/>
                  </a:lnTo>
                  <a:lnTo>
                    <a:pt x="751" y="268"/>
                  </a:lnTo>
                  <a:lnTo>
                    <a:pt x="689" y="158"/>
                  </a:lnTo>
                  <a:lnTo>
                    <a:pt x="610" y="70"/>
                  </a:lnTo>
                  <a:lnTo>
                    <a:pt x="512" y="26"/>
                  </a:lnTo>
                  <a:lnTo>
                    <a:pt x="397" y="0"/>
                  </a:lnTo>
                  <a:lnTo>
                    <a:pt x="261" y="0"/>
                  </a:lnTo>
                  <a:lnTo>
                    <a:pt x="105" y="30"/>
                  </a:lnTo>
                  <a:lnTo>
                    <a:pt x="127" y="260"/>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5" name=""/>
            <p:cNvSpPr/>
            <p:nvPr/>
          </p:nvSpPr>
          <p:spPr>
            <a:xfrm>
              <a:off x="2184480" y="824040"/>
              <a:ext cx="100440" cy="73440"/>
            </a:xfrm>
            <a:custGeom>
              <a:avLst/>
              <a:gdLst/>
              <a:ahLst/>
              <a:rect l="0" t="0" r="r" b="b"/>
              <a:pathLst>
                <a:path w="279" h="204">
                  <a:moveTo>
                    <a:pt x="111" y="0"/>
                  </a:moveTo>
                  <a:lnTo>
                    <a:pt x="39" y="0"/>
                  </a:lnTo>
                  <a:lnTo>
                    <a:pt x="0" y="30"/>
                  </a:lnTo>
                  <a:lnTo>
                    <a:pt x="0" y="102"/>
                  </a:lnTo>
                  <a:lnTo>
                    <a:pt x="57" y="173"/>
                  </a:lnTo>
                  <a:lnTo>
                    <a:pt x="168" y="204"/>
                  </a:lnTo>
                  <a:lnTo>
                    <a:pt x="253" y="200"/>
                  </a:lnTo>
                  <a:lnTo>
                    <a:pt x="279" y="156"/>
                  </a:lnTo>
                  <a:lnTo>
                    <a:pt x="266" y="111"/>
                  </a:lnTo>
                  <a:lnTo>
                    <a:pt x="226" y="48"/>
                  </a:lnTo>
                  <a:lnTo>
                    <a:pt x="159" y="8"/>
                  </a:lnTo>
                  <a:lnTo>
                    <a:pt x="111" y="0"/>
                  </a:lnTo>
                  <a:close/>
                </a:path>
              </a:pathLst>
            </a:custGeom>
            <a:solidFill>
              <a:srgbClr val="fc0128"/>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96" name=""/>
          <p:cNvSpPr/>
          <p:nvPr/>
        </p:nvSpPr>
        <p:spPr>
          <a:xfrm>
            <a:off x="2284560" y="1774800"/>
            <a:ext cx="6456240" cy="388476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797" name=""/>
          <p:cNvSpPr txBox="1"/>
          <p:nvPr/>
        </p:nvSpPr>
        <p:spPr>
          <a:xfrm>
            <a:off x="2416320" y="1925640"/>
            <a:ext cx="6261120" cy="318060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a:ea typeface="Arial"/>
              </a:rPr>
              <a:t>1.</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he objectives of financial reporting.</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he qualitative characteristics of accounting information and describe their interrelationship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efine and describe the use of the conventions of </a:t>
            </a:r>
            <a:r>
              <a:rPr b="1" i="1" lang="en-US" sz="2400" spc="-1" strike="noStrike">
                <a:solidFill>
                  <a:srgbClr val="000000"/>
                </a:solidFill>
                <a:latin typeface="Arial"/>
                <a:ea typeface="Arial"/>
              </a:rPr>
              <a:t>comparability</a:t>
            </a:r>
            <a:r>
              <a:rPr b="1" lang="en-US" sz="2400" spc="-1" strike="noStrike">
                <a:solidFill>
                  <a:srgbClr val="000000"/>
                </a:solidFill>
                <a:latin typeface="Arial"/>
                <a:ea typeface="Arial"/>
              </a:rPr>
              <a:t> and</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consistency</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materiality, conservatism, full disclosure,</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nd </a:t>
            </a:r>
            <a:r>
              <a:rPr b="1" i="1" lang="en-US" sz="2400" spc="-1" strike="noStrike">
                <a:solidFill>
                  <a:srgbClr val="000000"/>
                </a:solidFill>
                <a:latin typeface="Arial"/>
                <a:ea typeface="Arial"/>
              </a:rPr>
              <a:t>cost-benefit.</a:t>
            </a:r>
            <a:endParaRPr b="0" lang="en-US" sz="2400" spc="-1" strike="noStrike">
              <a:solidFill>
                <a:srgbClr val="ffffff"/>
              </a:solidFill>
              <a:latin typeface="Arial"/>
            </a:endParaRPr>
          </a:p>
        </p:txBody>
      </p:sp>
      <p:pic>
        <p:nvPicPr>
          <p:cNvPr id="798" name="" descr=""/>
          <p:cNvPicPr/>
          <p:nvPr/>
        </p:nvPicPr>
        <p:blipFill>
          <a:blip r:embed="rId1"/>
          <a:stretch/>
        </p:blipFill>
        <p:spPr>
          <a:xfrm>
            <a:off x="1101600" y="403200"/>
            <a:ext cx="5567400" cy="1584360"/>
          </a:xfrm>
          <a:prstGeom prst="rect">
            <a:avLst/>
          </a:prstGeom>
          <a:ln w="0">
            <a:noFill/>
          </a:ln>
        </p:spPr>
      </p:pic>
      <p:sp>
        <p:nvSpPr>
          <p:cNvPr id="799" name=""/>
          <p:cNvSpPr txBox="1"/>
          <p:nvPr/>
        </p:nvSpPr>
        <p:spPr>
          <a:xfrm>
            <a:off x="1655640" y="638280"/>
            <a:ext cx="401328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K, LET’S REVIEW . . .</a:t>
            </a:r>
            <a:endParaRPr b="0" lang="en-US" sz="2800" spc="-1" strike="noStrike">
              <a:solidFill>
                <a:srgbClr val="ffffff"/>
              </a:solidFill>
              <a:latin typeface="Arial"/>
            </a:endParaRPr>
          </a:p>
        </p:txBody>
      </p:sp>
      <p:grpSp>
        <p:nvGrpSpPr>
          <p:cNvPr id="800" name=""/>
          <p:cNvGrpSpPr/>
          <p:nvPr/>
        </p:nvGrpSpPr>
        <p:grpSpPr>
          <a:xfrm>
            <a:off x="720720" y="1446120"/>
            <a:ext cx="1497240" cy="4789800"/>
            <a:chOff x="720720" y="1446120"/>
            <a:chExt cx="1497240" cy="4789800"/>
          </a:xfrm>
        </p:grpSpPr>
        <p:grpSp>
          <p:nvGrpSpPr>
            <p:cNvPr id="801" name=""/>
            <p:cNvGrpSpPr/>
            <p:nvPr/>
          </p:nvGrpSpPr>
          <p:grpSpPr>
            <a:xfrm>
              <a:off x="1071720" y="3367080"/>
              <a:ext cx="892440" cy="2868840"/>
              <a:chOff x="1071720" y="3367080"/>
              <a:chExt cx="892440" cy="2868840"/>
            </a:xfrm>
          </p:grpSpPr>
          <p:grpSp>
            <p:nvGrpSpPr>
              <p:cNvPr id="802" name=""/>
              <p:cNvGrpSpPr/>
              <p:nvPr/>
            </p:nvGrpSpPr>
            <p:grpSpPr>
              <a:xfrm>
                <a:off x="1149480" y="5654520"/>
                <a:ext cx="797400" cy="581400"/>
                <a:chOff x="1149480" y="5654520"/>
                <a:chExt cx="797400" cy="581400"/>
              </a:xfrm>
            </p:grpSpPr>
            <p:grpSp>
              <p:nvGrpSpPr>
                <p:cNvPr id="803" name=""/>
                <p:cNvGrpSpPr/>
                <p:nvPr/>
              </p:nvGrpSpPr>
              <p:grpSpPr>
                <a:xfrm>
                  <a:off x="1517760" y="5654520"/>
                  <a:ext cx="429120" cy="337320"/>
                  <a:chOff x="1517760" y="5654520"/>
                  <a:chExt cx="429120" cy="337320"/>
                </a:xfrm>
              </p:grpSpPr>
              <p:grpSp>
                <p:nvGrpSpPr>
                  <p:cNvPr id="804" name=""/>
                  <p:cNvGrpSpPr/>
                  <p:nvPr/>
                </p:nvGrpSpPr>
                <p:grpSpPr>
                  <a:xfrm>
                    <a:off x="1536840" y="5654520"/>
                    <a:ext cx="332280" cy="251280"/>
                    <a:chOff x="1536840" y="5654520"/>
                    <a:chExt cx="332280" cy="251280"/>
                  </a:xfrm>
                </p:grpSpPr>
                <p:sp>
                  <p:nvSpPr>
                    <p:cNvPr id="805" name=""/>
                    <p:cNvSpPr/>
                    <p:nvPr/>
                  </p:nvSpPr>
                  <p:spPr>
                    <a:xfrm>
                      <a:off x="1536840" y="5654520"/>
                      <a:ext cx="332280" cy="251280"/>
                    </a:xfrm>
                    <a:custGeom>
                      <a:avLst/>
                      <a:gdLst/>
                      <a:ahLst/>
                      <a:rect l="0" t="0" r="r" b="b"/>
                      <a:pathLst>
                        <a:path w="923" h="698">
                          <a:moveTo>
                            <a:pt x="587" y="70"/>
                          </a:moveTo>
                          <a:lnTo>
                            <a:pt x="591" y="177"/>
                          </a:lnTo>
                          <a:lnTo>
                            <a:pt x="662" y="252"/>
                          </a:lnTo>
                          <a:lnTo>
                            <a:pt x="738" y="340"/>
                          </a:lnTo>
                          <a:lnTo>
                            <a:pt x="866" y="464"/>
                          </a:lnTo>
                          <a:lnTo>
                            <a:pt x="923" y="535"/>
                          </a:lnTo>
                          <a:lnTo>
                            <a:pt x="914" y="685"/>
                          </a:lnTo>
                          <a:lnTo>
                            <a:pt x="565" y="698"/>
                          </a:lnTo>
                          <a:lnTo>
                            <a:pt x="149" y="464"/>
                          </a:lnTo>
                          <a:lnTo>
                            <a:pt x="0" y="234"/>
                          </a:lnTo>
                          <a:lnTo>
                            <a:pt x="105" y="0"/>
                          </a:lnTo>
                          <a:lnTo>
                            <a:pt x="587" y="7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6" name=""/>
                    <p:cNvSpPr/>
                    <p:nvPr/>
                  </p:nvSpPr>
                  <p:spPr>
                    <a:xfrm>
                      <a:off x="1565280" y="5684760"/>
                      <a:ext cx="194040" cy="195480"/>
                    </a:xfrm>
                    <a:custGeom>
                      <a:avLst/>
                      <a:gdLst/>
                      <a:ahLst/>
                      <a:rect l="0" t="0" r="r" b="b"/>
                      <a:pathLst>
                        <a:path w="539" h="543">
                          <a:moveTo>
                            <a:pt x="265" y="30"/>
                          </a:moveTo>
                          <a:lnTo>
                            <a:pt x="336" y="83"/>
                          </a:lnTo>
                          <a:lnTo>
                            <a:pt x="371" y="149"/>
                          </a:lnTo>
                          <a:lnTo>
                            <a:pt x="434" y="251"/>
                          </a:lnTo>
                          <a:lnTo>
                            <a:pt x="473" y="336"/>
                          </a:lnTo>
                          <a:lnTo>
                            <a:pt x="509" y="424"/>
                          </a:lnTo>
                          <a:lnTo>
                            <a:pt x="539" y="543"/>
                          </a:lnTo>
                          <a:lnTo>
                            <a:pt x="142" y="402"/>
                          </a:lnTo>
                          <a:lnTo>
                            <a:pt x="8" y="207"/>
                          </a:lnTo>
                          <a:lnTo>
                            <a:pt x="0" y="0"/>
                          </a:lnTo>
                          <a:lnTo>
                            <a:pt x="265"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7" name=""/>
                    <p:cNvSpPr/>
                    <p:nvPr/>
                  </p:nvSpPr>
                  <p:spPr>
                    <a:xfrm>
                      <a:off x="1785960" y="5762520"/>
                      <a:ext cx="74880" cy="116280"/>
                    </a:xfrm>
                    <a:custGeom>
                      <a:avLst/>
                      <a:gdLst/>
                      <a:ahLst/>
                      <a:rect l="0" t="0" r="r" b="b"/>
                      <a:pathLst>
                        <a:path w="208" h="323">
                          <a:moveTo>
                            <a:pt x="0" y="0"/>
                          </a:moveTo>
                          <a:lnTo>
                            <a:pt x="44" y="39"/>
                          </a:lnTo>
                          <a:lnTo>
                            <a:pt x="79" y="79"/>
                          </a:lnTo>
                          <a:lnTo>
                            <a:pt x="120" y="120"/>
                          </a:lnTo>
                          <a:lnTo>
                            <a:pt x="155" y="159"/>
                          </a:lnTo>
                          <a:lnTo>
                            <a:pt x="181" y="199"/>
                          </a:lnTo>
                          <a:lnTo>
                            <a:pt x="208" y="239"/>
                          </a:lnTo>
                          <a:lnTo>
                            <a:pt x="208" y="279"/>
                          </a:lnTo>
                          <a:lnTo>
                            <a:pt x="199" y="306"/>
                          </a:lnTo>
                          <a:lnTo>
                            <a:pt x="172" y="323"/>
                          </a:lnTo>
                          <a:lnTo>
                            <a:pt x="115" y="315"/>
                          </a:lnTo>
                          <a:lnTo>
                            <a:pt x="155" y="306"/>
                          </a:lnTo>
                          <a:lnTo>
                            <a:pt x="177" y="297"/>
                          </a:lnTo>
                          <a:lnTo>
                            <a:pt x="181" y="279"/>
                          </a:lnTo>
                          <a:lnTo>
                            <a:pt x="190" y="262"/>
                          </a:lnTo>
                          <a:lnTo>
                            <a:pt x="177" y="225"/>
                          </a:lnTo>
                          <a:lnTo>
                            <a:pt x="155" y="181"/>
                          </a:lnTo>
                          <a:lnTo>
                            <a:pt x="120" y="137"/>
                          </a:lnTo>
                          <a:lnTo>
                            <a:pt x="52" y="66"/>
                          </a:lnTo>
                          <a:lnTo>
                            <a:pt x="0" y="0"/>
                          </a:lnTo>
                          <a:close/>
                        </a:path>
                      </a:pathLst>
                    </a:custGeom>
                    <a:solidFill>
                      <a:srgbClr val="b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08" name=""/>
                  <p:cNvGrpSpPr/>
                  <p:nvPr/>
                </p:nvGrpSpPr>
                <p:grpSpPr>
                  <a:xfrm>
                    <a:off x="1517760" y="5675400"/>
                    <a:ext cx="429120" cy="316440"/>
                    <a:chOff x="1517760" y="5675400"/>
                    <a:chExt cx="429120" cy="316440"/>
                  </a:xfrm>
                </p:grpSpPr>
                <p:sp>
                  <p:nvSpPr>
                    <p:cNvPr id="809" name=""/>
                    <p:cNvSpPr/>
                    <p:nvPr/>
                  </p:nvSpPr>
                  <p:spPr>
                    <a:xfrm>
                      <a:off x="1517760" y="5675400"/>
                      <a:ext cx="429120" cy="316440"/>
                    </a:xfrm>
                    <a:custGeom>
                      <a:avLst/>
                      <a:gdLst/>
                      <a:ahLst/>
                      <a:rect l="0" t="0" r="r" b="b"/>
                      <a:pathLst>
                        <a:path w="1192" h="879">
                          <a:moveTo>
                            <a:pt x="750" y="252"/>
                          </a:moveTo>
                          <a:lnTo>
                            <a:pt x="865" y="375"/>
                          </a:lnTo>
                          <a:lnTo>
                            <a:pt x="919" y="424"/>
                          </a:lnTo>
                          <a:lnTo>
                            <a:pt x="945" y="459"/>
                          </a:lnTo>
                          <a:lnTo>
                            <a:pt x="954" y="499"/>
                          </a:lnTo>
                          <a:lnTo>
                            <a:pt x="950" y="538"/>
                          </a:lnTo>
                          <a:lnTo>
                            <a:pt x="928" y="552"/>
                          </a:lnTo>
                          <a:lnTo>
                            <a:pt x="891" y="556"/>
                          </a:lnTo>
                          <a:lnTo>
                            <a:pt x="803" y="547"/>
                          </a:lnTo>
                          <a:lnTo>
                            <a:pt x="706" y="530"/>
                          </a:lnTo>
                          <a:lnTo>
                            <a:pt x="591" y="499"/>
                          </a:lnTo>
                          <a:lnTo>
                            <a:pt x="433" y="441"/>
                          </a:lnTo>
                          <a:lnTo>
                            <a:pt x="309" y="371"/>
                          </a:lnTo>
                          <a:lnTo>
                            <a:pt x="238" y="309"/>
                          </a:lnTo>
                          <a:lnTo>
                            <a:pt x="198" y="252"/>
                          </a:lnTo>
                          <a:lnTo>
                            <a:pt x="176" y="154"/>
                          </a:lnTo>
                          <a:lnTo>
                            <a:pt x="141" y="83"/>
                          </a:lnTo>
                          <a:lnTo>
                            <a:pt x="105" y="0"/>
                          </a:lnTo>
                          <a:lnTo>
                            <a:pt x="52" y="83"/>
                          </a:lnTo>
                          <a:lnTo>
                            <a:pt x="13" y="185"/>
                          </a:lnTo>
                          <a:lnTo>
                            <a:pt x="0" y="256"/>
                          </a:lnTo>
                          <a:lnTo>
                            <a:pt x="4" y="353"/>
                          </a:lnTo>
                          <a:lnTo>
                            <a:pt x="35" y="459"/>
                          </a:lnTo>
                          <a:lnTo>
                            <a:pt x="88" y="547"/>
                          </a:lnTo>
                          <a:lnTo>
                            <a:pt x="114" y="613"/>
                          </a:lnTo>
                          <a:lnTo>
                            <a:pt x="123" y="658"/>
                          </a:lnTo>
                          <a:lnTo>
                            <a:pt x="171" y="667"/>
                          </a:lnTo>
                          <a:lnTo>
                            <a:pt x="309" y="640"/>
                          </a:lnTo>
                          <a:lnTo>
                            <a:pt x="375" y="711"/>
                          </a:lnTo>
                          <a:lnTo>
                            <a:pt x="459" y="822"/>
                          </a:lnTo>
                          <a:lnTo>
                            <a:pt x="486" y="857"/>
                          </a:lnTo>
                          <a:lnTo>
                            <a:pt x="530" y="870"/>
                          </a:lnTo>
                          <a:lnTo>
                            <a:pt x="591" y="879"/>
                          </a:lnTo>
                          <a:lnTo>
                            <a:pt x="963" y="857"/>
                          </a:lnTo>
                          <a:lnTo>
                            <a:pt x="1108" y="839"/>
                          </a:lnTo>
                          <a:lnTo>
                            <a:pt x="1166" y="831"/>
                          </a:lnTo>
                          <a:lnTo>
                            <a:pt x="1188" y="813"/>
                          </a:lnTo>
                          <a:lnTo>
                            <a:pt x="1192" y="773"/>
                          </a:lnTo>
                          <a:lnTo>
                            <a:pt x="1183" y="725"/>
                          </a:lnTo>
                          <a:lnTo>
                            <a:pt x="1144" y="663"/>
                          </a:lnTo>
                          <a:lnTo>
                            <a:pt x="1073" y="565"/>
                          </a:lnTo>
                          <a:lnTo>
                            <a:pt x="1003" y="490"/>
                          </a:lnTo>
                          <a:lnTo>
                            <a:pt x="936" y="411"/>
                          </a:lnTo>
                          <a:lnTo>
                            <a:pt x="852" y="336"/>
                          </a:lnTo>
                          <a:lnTo>
                            <a:pt x="750" y="25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0" name=""/>
                    <p:cNvSpPr/>
                    <p:nvPr/>
                  </p:nvSpPr>
                  <p:spPr>
                    <a:xfrm>
                      <a:off x="1584360" y="5869080"/>
                      <a:ext cx="51120" cy="44640"/>
                    </a:xfrm>
                    <a:custGeom>
                      <a:avLst/>
                      <a:gdLst/>
                      <a:ahLst/>
                      <a:rect l="0" t="0" r="r" b="b"/>
                      <a:pathLst>
                        <a:path w="142" h="124">
                          <a:moveTo>
                            <a:pt x="142" y="124"/>
                          </a:moveTo>
                          <a:lnTo>
                            <a:pt x="111" y="67"/>
                          </a:lnTo>
                          <a:lnTo>
                            <a:pt x="89" y="39"/>
                          </a:lnTo>
                          <a:lnTo>
                            <a:pt x="52" y="17"/>
                          </a:lnTo>
                          <a:lnTo>
                            <a:pt x="0" y="0"/>
                          </a:lnTo>
                          <a:lnTo>
                            <a:pt x="22" y="30"/>
                          </a:lnTo>
                          <a:lnTo>
                            <a:pt x="52" y="35"/>
                          </a:lnTo>
                          <a:lnTo>
                            <a:pt x="89" y="61"/>
                          </a:lnTo>
                          <a:lnTo>
                            <a:pt x="142" y="124"/>
                          </a:lnTo>
                          <a:close/>
                        </a:path>
                      </a:pathLst>
                    </a:custGeom>
                    <a:solidFill>
                      <a:srgbClr val="5f3f1f"/>
                    </a:solidFill>
                    <a:ln w="0">
                      <a:noFill/>
                    </a:ln>
                  </p:spPr>
                  <p:txBody>
                    <a:bodyPr lIns="90000" rIns="90000" tIns="-360" bIns="-360" anchor="t">
                      <a:noAutofit/>
                    </a:bodyPr>
                    <a:p>
                      <a:endParaRPr b="0" lang="en-US" sz="1800" spc="-1" strike="noStrike">
                        <a:solidFill>
                          <a:srgbClr val="000000"/>
                        </a:solidFill>
                        <a:latin typeface="Arial"/>
                      </a:endParaRPr>
                    </a:p>
                  </p:txBody>
                </p:sp>
              </p:grpSp>
            </p:grpSp>
            <p:grpSp>
              <p:nvGrpSpPr>
                <p:cNvPr id="811" name=""/>
                <p:cNvGrpSpPr/>
                <p:nvPr/>
              </p:nvGrpSpPr>
              <p:grpSpPr>
                <a:xfrm>
                  <a:off x="1149480" y="5800680"/>
                  <a:ext cx="282600" cy="435240"/>
                  <a:chOff x="1149480" y="5800680"/>
                  <a:chExt cx="282600" cy="435240"/>
                </a:xfrm>
              </p:grpSpPr>
              <p:grpSp>
                <p:nvGrpSpPr>
                  <p:cNvPr id="812" name=""/>
                  <p:cNvGrpSpPr/>
                  <p:nvPr/>
                </p:nvGrpSpPr>
                <p:grpSpPr>
                  <a:xfrm>
                    <a:off x="1182600" y="5800680"/>
                    <a:ext cx="249480" cy="287640"/>
                    <a:chOff x="1182600" y="5800680"/>
                    <a:chExt cx="249480" cy="287640"/>
                  </a:xfrm>
                </p:grpSpPr>
                <p:sp>
                  <p:nvSpPr>
                    <p:cNvPr id="813" name=""/>
                    <p:cNvSpPr/>
                    <p:nvPr/>
                  </p:nvSpPr>
                  <p:spPr>
                    <a:xfrm>
                      <a:off x="1182600" y="5800680"/>
                      <a:ext cx="248040" cy="270360"/>
                    </a:xfrm>
                    <a:custGeom>
                      <a:avLst/>
                      <a:gdLst/>
                      <a:ahLst/>
                      <a:rect l="0" t="0" r="r" b="b"/>
                      <a:pathLst>
                        <a:path w="689" h="751">
                          <a:moveTo>
                            <a:pt x="689" y="79"/>
                          </a:moveTo>
                          <a:lnTo>
                            <a:pt x="654" y="230"/>
                          </a:lnTo>
                          <a:lnTo>
                            <a:pt x="645" y="274"/>
                          </a:lnTo>
                          <a:lnTo>
                            <a:pt x="654" y="327"/>
                          </a:lnTo>
                          <a:lnTo>
                            <a:pt x="645" y="393"/>
                          </a:lnTo>
                          <a:lnTo>
                            <a:pt x="628" y="437"/>
                          </a:lnTo>
                          <a:lnTo>
                            <a:pt x="619" y="516"/>
                          </a:lnTo>
                          <a:lnTo>
                            <a:pt x="628" y="588"/>
                          </a:lnTo>
                          <a:lnTo>
                            <a:pt x="597" y="720"/>
                          </a:lnTo>
                          <a:lnTo>
                            <a:pt x="57" y="751"/>
                          </a:lnTo>
                          <a:lnTo>
                            <a:pt x="0" y="566"/>
                          </a:lnTo>
                          <a:lnTo>
                            <a:pt x="30" y="406"/>
                          </a:lnTo>
                          <a:lnTo>
                            <a:pt x="92" y="314"/>
                          </a:lnTo>
                          <a:lnTo>
                            <a:pt x="123" y="199"/>
                          </a:lnTo>
                          <a:lnTo>
                            <a:pt x="158" y="30"/>
                          </a:lnTo>
                          <a:lnTo>
                            <a:pt x="252" y="0"/>
                          </a:lnTo>
                          <a:lnTo>
                            <a:pt x="689"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4" name=""/>
                    <p:cNvSpPr/>
                    <p:nvPr/>
                  </p:nvSpPr>
                  <p:spPr>
                    <a:xfrm>
                      <a:off x="1353960" y="5827680"/>
                      <a:ext cx="78120" cy="228960"/>
                    </a:xfrm>
                    <a:custGeom>
                      <a:avLst/>
                      <a:gdLst/>
                      <a:ahLst/>
                      <a:rect l="0" t="0" r="r" b="b"/>
                      <a:pathLst>
                        <a:path w="217" h="636">
                          <a:moveTo>
                            <a:pt x="217" y="0"/>
                          </a:moveTo>
                          <a:lnTo>
                            <a:pt x="186" y="149"/>
                          </a:lnTo>
                          <a:lnTo>
                            <a:pt x="172" y="194"/>
                          </a:lnTo>
                          <a:lnTo>
                            <a:pt x="186" y="246"/>
                          </a:lnTo>
                          <a:lnTo>
                            <a:pt x="172" y="313"/>
                          </a:lnTo>
                          <a:lnTo>
                            <a:pt x="150" y="349"/>
                          </a:lnTo>
                          <a:lnTo>
                            <a:pt x="146" y="433"/>
                          </a:lnTo>
                          <a:lnTo>
                            <a:pt x="150" y="508"/>
                          </a:lnTo>
                          <a:lnTo>
                            <a:pt x="124" y="636"/>
                          </a:lnTo>
                          <a:lnTo>
                            <a:pt x="0" y="631"/>
                          </a:lnTo>
                          <a:lnTo>
                            <a:pt x="88" y="525"/>
                          </a:lnTo>
                          <a:lnTo>
                            <a:pt x="83" y="433"/>
                          </a:lnTo>
                          <a:lnTo>
                            <a:pt x="92" y="344"/>
                          </a:lnTo>
                          <a:lnTo>
                            <a:pt x="101" y="273"/>
                          </a:lnTo>
                          <a:lnTo>
                            <a:pt x="120" y="180"/>
                          </a:lnTo>
                          <a:lnTo>
                            <a:pt x="164" y="44"/>
                          </a:lnTo>
                          <a:lnTo>
                            <a:pt x="217"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5" name=""/>
                    <p:cNvSpPr/>
                    <p:nvPr/>
                  </p:nvSpPr>
                  <p:spPr>
                    <a:xfrm>
                      <a:off x="1192320" y="5803920"/>
                      <a:ext cx="84600" cy="284400"/>
                    </a:xfrm>
                    <a:custGeom>
                      <a:avLst/>
                      <a:gdLst/>
                      <a:ahLst/>
                      <a:rect l="0" t="0" r="r" b="b"/>
                      <a:pathLst>
                        <a:path w="235" h="790">
                          <a:moveTo>
                            <a:pt x="159" y="216"/>
                          </a:moveTo>
                          <a:lnTo>
                            <a:pt x="120" y="339"/>
                          </a:lnTo>
                          <a:lnTo>
                            <a:pt x="98" y="433"/>
                          </a:lnTo>
                          <a:lnTo>
                            <a:pt x="98" y="508"/>
                          </a:lnTo>
                          <a:lnTo>
                            <a:pt x="111" y="600"/>
                          </a:lnTo>
                          <a:lnTo>
                            <a:pt x="128" y="697"/>
                          </a:lnTo>
                          <a:lnTo>
                            <a:pt x="80" y="790"/>
                          </a:lnTo>
                          <a:lnTo>
                            <a:pt x="0" y="494"/>
                          </a:lnTo>
                          <a:lnTo>
                            <a:pt x="71" y="282"/>
                          </a:lnTo>
                          <a:lnTo>
                            <a:pt x="102" y="163"/>
                          </a:lnTo>
                          <a:lnTo>
                            <a:pt x="133" y="0"/>
                          </a:lnTo>
                          <a:lnTo>
                            <a:pt x="235" y="39"/>
                          </a:lnTo>
                          <a:lnTo>
                            <a:pt x="159" y="21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816" name=""/>
                  <p:cNvSpPr/>
                  <p:nvPr/>
                </p:nvSpPr>
                <p:spPr>
                  <a:xfrm>
                    <a:off x="1149480" y="5913360"/>
                    <a:ext cx="259200" cy="322560"/>
                  </a:xfrm>
                  <a:custGeom>
                    <a:avLst/>
                    <a:gdLst/>
                    <a:ahLst/>
                    <a:rect l="0" t="0" r="r" b="b"/>
                    <a:pathLst>
                      <a:path w="720" h="896">
                        <a:moveTo>
                          <a:pt x="716" y="242"/>
                        </a:moveTo>
                        <a:lnTo>
                          <a:pt x="667" y="313"/>
                        </a:lnTo>
                        <a:lnTo>
                          <a:pt x="606" y="361"/>
                        </a:lnTo>
                        <a:lnTo>
                          <a:pt x="494" y="396"/>
                        </a:lnTo>
                        <a:lnTo>
                          <a:pt x="402" y="410"/>
                        </a:lnTo>
                        <a:lnTo>
                          <a:pt x="336" y="383"/>
                        </a:lnTo>
                        <a:lnTo>
                          <a:pt x="230" y="317"/>
                        </a:lnTo>
                        <a:lnTo>
                          <a:pt x="190" y="229"/>
                        </a:lnTo>
                        <a:lnTo>
                          <a:pt x="167" y="123"/>
                        </a:lnTo>
                        <a:lnTo>
                          <a:pt x="186" y="0"/>
                        </a:lnTo>
                        <a:lnTo>
                          <a:pt x="127" y="70"/>
                        </a:lnTo>
                        <a:lnTo>
                          <a:pt x="101" y="171"/>
                        </a:lnTo>
                        <a:lnTo>
                          <a:pt x="52" y="313"/>
                        </a:lnTo>
                        <a:lnTo>
                          <a:pt x="17" y="418"/>
                        </a:lnTo>
                        <a:lnTo>
                          <a:pt x="0" y="486"/>
                        </a:lnTo>
                        <a:lnTo>
                          <a:pt x="22" y="561"/>
                        </a:lnTo>
                        <a:lnTo>
                          <a:pt x="97" y="662"/>
                        </a:lnTo>
                        <a:lnTo>
                          <a:pt x="221" y="799"/>
                        </a:lnTo>
                        <a:lnTo>
                          <a:pt x="314" y="865"/>
                        </a:lnTo>
                        <a:lnTo>
                          <a:pt x="353" y="896"/>
                        </a:lnTo>
                        <a:lnTo>
                          <a:pt x="402" y="865"/>
                        </a:lnTo>
                        <a:lnTo>
                          <a:pt x="481" y="821"/>
                        </a:lnTo>
                        <a:lnTo>
                          <a:pt x="610" y="737"/>
                        </a:lnTo>
                        <a:lnTo>
                          <a:pt x="672" y="684"/>
                        </a:lnTo>
                        <a:lnTo>
                          <a:pt x="694" y="649"/>
                        </a:lnTo>
                        <a:lnTo>
                          <a:pt x="711" y="534"/>
                        </a:lnTo>
                        <a:lnTo>
                          <a:pt x="720" y="423"/>
                        </a:lnTo>
                        <a:lnTo>
                          <a:pt x="716" y="24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817" name=""/>
              <p:cNvGrpSpPr/>
              <p:nvPr/>
            </p:nvGrpSpPr>
            <p:grpSpPr>
              <a:xfrm>
                <a:off x="1071720" y="3367080"/>
                <a:ext cx="892440" cy="2521440"/>
                <a:chOff x="1071720" y="3367080"/>
                <a:chExt cx="892440" cy="2521440"/>
              </a:xfrm>
            </p:grpSpPr>
            <p:sp>
              <p:nvSpPr>
                <p:cNvPr id="818" name=""/>
                <p:cNvSpPr/>
                <p:nvPr/>
              </p:nvSpPr>
              <p:spPr>
                <a:xfrm>
                  <a:off x="1071720" y="3367080"/>
                  <a:ext cx="892440" cy="2521440"/>
                </a:xfrm>
                <a:custGeom>
                  <a:avLst/>
                  <a:gdLst/>
                  <a:ahLst/>
                  <a:rect l="0" t="0" r="r" b="b"/>
                  <a:pathLst>
                    <a:path w="2479" h="7004">
                      <a:moveTo>
                        <a:pt x="2276" y="0"/>
                      </a:moveTo>
                      <a:lnTo>
                        <a:pt x="1164" y="101"/>
                      </a:lnTo>
                      <a:lnTo>
                        <a:pt x="22" y="317"/>
                      </a:lnTo>
                      <a:lnTo>
                        <a:pt x="13" y="493"/>
                      </a:lnTo>
                      <a:lnTo>
                        <a:pt x="0" y="652"/>
                      </a:lnTo>
                      <a:lnTo>
                        <a:pt x="22" y="851"/>
                      </a:lnTo>
                      <a:lnTo>
                        <a:pt x="66" y="996"/>
                      </a:lnTo>
                      <a:lnTo>
                        <a:pt x="39" y="974"/>
                      </a:lnTo>
                      <a:lnTo>
                        <a:pt x="17" y="930"/>
                      </a:lnTo>
                      <a:lnTo>
                        <a:pt x="35" y="1058"/>
                      </a:lnTo>
                      <a:lnTo>
                        <a:pt x="57" y="1137"/>
                      </a:lnTo>
                      <a:lnTo>
                        <a:pt x="70" y="1234"/>
                      </a:lnTo>
                      <a:lnTo>
                        <a:pt x="74" y="1358"/>
                      </a:lnTo>
                      <a:lnTo>
                        <a:pt x="66" y="1446"/>
                      </a:lnTo>
                      <a:lnTo>
                        <a:pt x="74" y="1552"/>
                      </a:lnTo>
                      <a:lnTo>
                        <a:pt x="88" y="1636"/>
                      </a:lnTo>
                      <a:lnTo>
                        <a:pt x="110" y="1724"/>
                      </a:lnTo>
                      <a:lnTo>
                        <a:pt x="141" y="1857"/>
                      </a:lnTo>
                      <a:lnTo>
                        <a:pt x="171" y="1954"/>
                      </a:lnTo>
                      <a:lnTo>
                        <a:pt x="198" y="2060"/>
                      </a:lnTo>
                      <a:lnTo>
                        <a:pt x="189" y="2104"/>
                      </a:lnTo>
                      <a:lnTo>
                        <a:pt x="194" y="2152"/>
                      </a:lnTo>
                      <a:lnTo>
                        <a:pt x="207" y="2263"/>
                      </a:lnTo>
                      <a:lnTo>
                        <a:pt x="233" y="2395"/>
                      </a:lnTo>
                      <a:lnTo>
                        <a:pt x="282" y="2541"/>
                      </a:lnTo>
                      <a:lnTo>
                        <a:pt x="339" y="2743"/>
                      </a:lnTo>
                      <a:lnTo>
                        <a:pt x="352" y="2796"/>
                      </a:lnTo>
                      <a:lnTo>
                        <a:pt x="366" y="2862"/>
                      </a:lnTo>
                      <a:lnTo>
                        <a:pt x="392" y="2933"/>
                      </a:lnTo>
                      <a:lnTo>
                        <a:pt x="432" y="3017"/>
                      </a:lnTo>
                      <a:lnTo>
                        <a:pt x="476" y="3087"/>
                      </a:lnTo>
                      <a:lnTo>
                        <a:pt x="454" y="3273"/>
                      </a:lnTo>
                      <a:lnTo>
                        <a:pt x="432" y="3625"/>
                      </a:lnTo>
                      <a:lnTo>
                        <a:pt x="440" y="3925"/>
                      </a:lnTo>
                      <a:lnTo>
                        <a:pt x="432" y="4256"/>
                      </a:lnTo>
                      <a:lnTo>
                        <a:pt x="392" y="4939"/>
                      </a:lnTo>
                      <a:lnTo>
                        <a:pt x="392" y="5333"/>
                      </a:lnTo>
                      <a:lnTo>
                        <a:pt x="388" y="5589"/>
                      </a:lnTo>
                      <a:lnTo>
                        <a:pt x="392" y="5880"/>
                      </a:lnTo>
                      <a:lnTo>
                        <a:pt x="405" y="6382"/>
                      </a:lnTo>
                      <a:lnTo>
                        <a:pt x="414" y="6435"/>
                      </a:lnTo>
                      <a:lnTo>
                        <a:pt x="427" y="6488"/>
                      </a:lnTo>
                      <a:lnTo>
                        <a:pt x="445" y="6629"/>
                      </a:lnTo>
                      <a:lnTo>
                        <a:pt x="445" y="6748"/>
                      </a:lnTo>
                      <a:lnTo>
                        <a:pt x="436" y="6907"/>
                      </a:lnTo>
                      <a:lnTo>
                        <a:pt x="485" y="6889"/>
                      </a:lnTo>
                      <a:lnTo>
                        <a:pt x="537" y="6881"/>
                      </a:lnTo>
                      <a:lnTo>
                        <a:pt x="648" y="6889"/>
                      </a:lnTo>
                      <a:lnTo>
                        <a:pt x="754" y="6912"/>
                      </a:lnTo>
                      <a:lnTo>
                        <a:pt x="886" y="6938"/>
                      </a:lnTo>
                      <a:lnTo>
                        <a:pt x="952" y="6969"/>
                      </a:lnTo>
                      <a:lnTo>
                        <a:pt x="1005" y="6991"/>
                      </a:lnTo>
                      <a:lnTo>
                        <a:pt x="1053" y="7004"/>
                      </a:lnTo>
                      <a:lnTo>
                        <a:pt x="1098" y="7004"/>
                      </a:lnTo>
                      <a:lnTo>
                        <a:pt x="1150" y="7000"/>
                      </a:lnTo>
                      <a:lnTo>
                        <a:pt x="1164" y="6920"/>
                      </a:lnTo>
                      <a:lnTo>
                        <a:pt x="1172" y="6841"/>
                      </a:lnTo>
                      <a:lnTo>
                        <a:pt x="1181" y="6740"/>
                      </a:lnTo>
                      <a:lnTo>
                        <a:pt x="1168" y="6651"/>
                      </a:lnTo>
                      <a:lnTo>
                        <a:pt x="1172" y="6528"/>
                      </a:lnTo>
                      <a:lnTo>
                        <a:pt x="1164" y="6065"/>
                      </a:lnTo>
                      <a:lnTo>
                        <a:pt x="1172" y="5690"/>
                      </a:lnTo>
                      <a:lnTo>
                        <a:pt x="1190" y="5267"/>
                      </a:lnTo>
                      <a:lnTo>
                        <a:pt x="1230" y="4886"/>
                      </a:lnTo>
                      <a:lnTo>
                        <a:pt x="1253" y="4498"/>
                      </a:lnTo>
                      <a:lnTo>
                        <a:pt x="1271" y="4701"/>
                      </a:lnTo>
                      <a:lnTo>
                        <a:pt x="1315" y="4895"/>
                      </a:lnTo>
                      <a:lnTo>
                        <a:pt x="1271" y="5058"/>
                      </a:lnTo>
                      <a:lnTo>
                        <a:pt x="1253" y="5230"/>
                      </a:lnTo>
                      <a:lnTo>
                        <a:pt x="1230" y="5518"/>
                      </a:lnTo>
                      <a:lnTo>
                        <a:pt x="1221" y="5809"/>
                      </a:lnTo>
                      <a:lnTo>
                        <a:pt x="1266" y="6175"/>
                      </a:lnTo>
                      <a:lnTo>
                        <a:pt x="1315" y="6382"/>
                      </a:lnTo>
                      <a:lnTo>
                        <a:pt x="1319" y="6435"/>
                      </a:lnTo>
                      <a:lnTo>
                        <a:pt x="1372" y="6488"/>
                      </a:lnTo>
                      <a:lnTo>
                        <a:pt x="1522" y="6510"/>
                      </a:lnTo>
                      <a:lnTo>
                        <a:pt x="1707" y="6501"/>
                      </a:lnTo>
                      <a:lnTo>
                        <a:pt x="1879" y="6523"/>
                      </a:lnTo>
                      <a:lnTo>
                        <a:pt x="2069" y="6488"/>
                      </a:lnTo>
                      <a:lnTo>
                        <a:pt x="2091" y="6479"/>
                      </a:lnTo>
                      <a:lnTo>
                        <a:pt x="2091" y="6440"/>
                      </a:lnTo>
                      <a:lnTo>
                        <a:pt x="2077" y="6254"/>
                      </a:lnTo>
                      <a:lnTo>
                        <a:pt x="2082" y="6109"/>
                      </a:lnTo>
                      <a:lnTo>
                        <a:pt x="2086" y="5946"/>
                      </a:lnTo>
                      <a:lnTo>
                        <a:pt x="2104" y="5800"/>
                      </a:lnTo>
                      <a:lnTo>
                        <a:pt x="2130" y="5474"/>
                      </a:lnTo>
                      <a:lnTo>
                        <a:pt x="2161" y="5067"/>
                      </a:lnTo>
                      <a:lnTo>
                        <a:pt x="2214" y="4507"/>
                      </a:lnTo>
                      <a:lnTo>
                        <a:pt x="2276" y="4119"/>
                      </a:lnTo>
                      <a:lnTo>
                        <a:pt x="2298" y="3639"/>
                      </a:lnTo>
                      <a:lnTo>
                        <a:pt x="2307" y="3211"/>
                      </a:lnTo>
                      <a:lnTo>
                        <a:pt x="2377" y="2730"/>
                      </a:lnTo>
                      <a:lnTo>
                        <a:pt x="2421" y="2254"/>
                      </a:lnTo>
                      <a:lnTo>
                        <a:pt x="2443" y="1910"/>
                      </a:lnTo>
                      <a:lnTo>
                        <a:pt x="2479" y="1481"/>
                      </a:lnTo>
                      <a:lnTo>
                        <a:pt x="2461" y="1036"/>
                      </a:lnTo>
                      <a:lnTo>
                        <a:pt x="2448" y="701"/>
                      </a:lnTo>
                      <a:lnTo>
                        <a:pt x="2408" y="423"/>
                      </a:lnTo>
                      <a:lnTo>
                        <a:pt x="2351" y="194"/>
                      </a:lnTo>
                      <a:lnTo>
                        <a:pt x="2276" y="0"/>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19" name=""/>
                <p:cNvGrpSpPr/>
                <p:nvPr/>
              </p:nvGrpSpPr>
              <p:grpSpPr>
                <a:xfrm>
                  <a:off x="1076400" y="3406680"/>
                  <a:ext cx="754560" cy="2458080"/>
                  <a:chOff x="1076400" y="3406680"/>
                  <a:chExt cx="754560" cy="2458080"/>
                </a:xfrm>
              </p:grpSpPr>
              <p:sp>
                <p:nvSpPr>
                  <p:cNvPr id="820" name=""/>
                  <p:cNvSpPr/>
                  <p:nvPr/>
                </p:nvSpPr>
                <p:spPr>
                  <a:xfrm>
                    <a:off x="1363680" y="3502080"/>
                    <a:ext cx="394200" cy="2211840"/>
                  </a:xfrm>
                  <a:custGeom>
                    <a:avLst/>
                    <a:gdLst/>
                    <a:ahLst/>
                    <a:rect l="0" t="0" r="r" b="b"/>
                    <a:pathLst>
                      <a:path w="1095" h="6144">
                        <a:moveTo>
                          <a:pt x="455" y="4234"/>
                        </a:moveTo>
                        <a:lnTo>
                          <a:pt x="441" y="4124"/>
                        </a:lnTo>
                        <a:lnTo>
                          <a:pt x="530" y="3436"/>
                        </a:lnTo>
                        <a:lnTo>
                          <a:pt x="552" y="3070"/>
                        </a:lnTo>
                        <a:lnTo>
                          <a:pt x="530" y="2682"/>
                        </a:lnTo>
                        <a:lnTo>
                          <a:pt x="508" y="2276"/>
                        </a:lnTo>
                        <a:lnTo>
                          <a:pt x="468" y="1870"/>
                        </a:lnTo>
                        <a:lnTo>
                          <a:pt x="428" y="1419"/>
                        </a:lnTo>
                        <a:lnTo>
                          <a:pt x="260" y="1239"/>
                        </a:lnTo>
                        <a:lnTo>
                          <a:pt x="145" y="1115"/>
                        </a:lnTo>
                        <a:lnTo>
                          <a:pt x="0" y="996"/>
                        </a:lnTo>
                        <a:lnTo>
                          <a:pt x="136" y="1018"/>
                        </a:lnTo>
                        <a:lnTo>
                          <a:pt x="268" y="1080"/>
                        </a:lnTo>
                        <a:lnTo>
                          <a:pt x="389" y="1155"/>
                        </a:lnTo>
                        <a:lnTo>
                          <a:pt x="508" y="1296"/>
                        </a:lnTo>
                        <a:lnTo>
                          <a:pt x="516" y="961"/>
                        </a:lnTo>
                        <a:lnTo>
                          <a:pt x="530" y="758"/>
                        </a:lnTo>
                        <a:lnTo>
                          <a:pt x="516" y="621"/>
                        </a:lnTo>
                        <a:lnTo>
                          <a:pt x="468" y="489"/>
                        </a:lnTo>
                        <a:lnTo>
                          <a:pt x="428" y="370"/>
                        </a:lnTo>
                        <a:lnTo>
                          <a:pt x="397" y="238"/>
                        </a:lnTo>
                        <a:lnTo>
                          <a:pt x="389" y="97"/>
                        </a:lnTo>
                        <a:lnTo>
                          <a:pt x="406" y="0"/>
                        </a:lnTo>
                        <a:lnTo>
                          <a:pt x="468" y="123"/>
                        </a:lnTo>
                        <a:lnTo>
                          <a:pt x="534" y="233"/>
                        </a:lnTo>
                        <a:lnTo>
                          <a:pt x="613" y="361"/>
                        </a:lnTo>
                        <a:lnTo>
                          <a:pt x="658" y="471"/>
                        </a:lnTo>
                        <a:lnTo>
                          <a:pt x="724" y="626"/>
                        </a:lnTo>
                        <a:lnTo>
                          <a:pt x="759" y="740"/>
                        </a:lnTo>
                        <a:lnTo>
                          <a:pt x="772" y="851"/>
                        </a:lnTo>
                        <a:lnTo>
                          <a:pt x="763" y="1005"/>
                        </a:lnTo>
                        <a:lnTo>
                          <a:pt x="737" y="1155"/>
                        </a:lnTo>
                        <a:lnTo>
                          <a:pt x="710" y="1322"/>
                        </a:lnTo>
                        <a:lnTo>
                          <a:pt x="666" y="1584"/>
                        </a:lnTo>
                        <a:lnTo>
                          <a:pt x="812" y="1292"/>
                        </a:lnTo>
                        <a:lnTo>
                          <a:pt x="945" y="956"/>
                        </a:lnTo>
                        <a:lnTo>
                          <a:pt x="1033" y="626"/>
                        </a:lnTo>
                        <a:lnTo>
                          <a:pt x="1082" y="1124"/>
                        </a:lnTo>
                        <a:lnTo>
                          <a:pt x="1095" y="1548"/>
                        </a:lnTo>
                        <a:lnTo>
                          <a:pt x="1047" y="2280"/>
                        </a:lnTo>
                        <a:lnTo>
                          <a:pt x="994" y="3233"/>
                        </a:lnTo>
                        <a:lnTo>
                          <a:pt x="954" y="4203"/>
                        </a:lnTo>
                        <a:lnTo>
                          <a:pt x="994" y="4658"/>
                        </a:lnTo>
                        <a:lnTo>
                          <a:pt x="932" y="4782"/>
                        </a:lnTo>
                        <a:lnTo>
                          <a:pt x="853" y="5187"/>
                        </a:lnTo>
                        <a:lnTo>
                          <a:pt x="958" y="5765"/>
                        </a:lnTo>
                        <a:lnTo>
                          <a:pt x="1011" y="5985"/>
                        </a:lnTo>
                        <a:lnTo>
                          <a:pt x="1069" y="6144"/>
                        </a:lnTo>
                        <a:lnTo>
                          <a:pt x="958" y="6131"/>
                        </a:lnTo>
                        <a:lnTo>
                          <a:pt x="879" y="6127"/>
                        </a:lnTo>
                        <a:lnTo>
                          <a:pt x="812" y="6131"/>
                        </a:lnTo>
                        <a:lnTo>
                          <a:pt x="706" y="6135"/>
                        </a:lnTo>
                        <a:lnTo>
                          <a:pt x="631" y="6131"/>
                        </a:lnTo>
                        <a:lnTo>
                          <a:pt x="561" y="6122"/>
                        </a:lnTo>
                        <a:lnTo>
                          <a:pt x="516" y="6100"/>
                        </a:lnTo>
                        <a:lnTo>
                          <a:pt x="490" y="6078"/>
                        </a:lnTo>
                        <a:lnTo>
                          <a:pt x="503" y="6012"/>
                        </a:lnTo>
                        <a:lnTo>
                          <a:pt x="486" y="5955"/>
                        </a:lnTo>
                        <a:lnTo>
                          <a:pt x="455" y="5814"/>
                        </a:lnTo>
                        <a:lnTo>
                          <a:pt x="433" y="5686"/>
                        </a:lnTo>
                        <a:lnTo>
                          <a:pt x="419" y="5549"/>
                        </a:lnTo>
                        <a:lnTo>
                          <a:pt x="411" y="5412"/>
                        </a:lnTo>
                        <a:lnTo>
                          <a:pt x="415" y="5302"/>
                        </a:lnTo>
                        <a:lnTo>
                          <a:pt x="419" y="5183"/>
                        </a:lnTo>
                        <a:lnTo>
                          <a:pt x="428" y="5046"/>
                        </a:lnTo>
                        <a:lnTo>
                          <a:pt x="437" y="4861"/>
                        </a:lnTo>
                        <a:lnTo>
                          <a:pt x="455" y="4738"/>
                        </a:lnTo>
                        <a:lnTo>
                          <a:pt x="464" y="4663"/>
                        </a:lnTo>
                        <a:lnTo>
                          <a:pt x="481" y="4604"/>
                        </a:lnTo>
                        <a:lnTo>
                          <a:pt x="503" y="4520"/>
                        </a:lnTo>
                        <a:lnTo>
                          <a:pt x="494" y="4485"/>
                        </a:lnTo>
                        <a:lnTo>
                          <a:pt x="477" y="4401"/>
                        </a:lnTo>
                        <a:lnTo>
                          <a:pt x="459" y="4322"/>
                        </a:lnTo>
                        <a:lnTo>
                          <a:pt x="455" y="423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1" name=""/>
                  <p:cNvSpPr/>
                  <p:nvPr/>
                </p:nvSpPr>
                <p:spPr>
                  <a:xfrm>
                    <a:off x="1076400" y="3575160"/>
                    <a:ext cx="443160" cy="2289600"/>
                  </a:xfrm>
                  <a:custGeom>
                    <a:avLst/>
                    <a:gdLst/>
                    <a:ahLst/>
                    <a:rect l="0" t="0" r="r" b="b"/>
                    <a:pathLst>
                      <a:path w="1231" h="6360">
                        <a:moveTo>
                          <a:pt x="97" y="0"/>
                        </a:moveTo>
                        <a:lnTo>
                          <a:pt x="167" y="30"/>
                        </a:lnTo>
                        <a:lnTo>
                          <a:pt x="251" y="74"/>
                        </a:lnTo>
                        <a:lnTo>
                          <a:pt x="339" y="136"/>
                        </a:lnTo>
                        <a:lnTo>
                          <a:pt x="418" y="220"/>
                        </a:lnTo>
                        <a:lnTo>
                          <a:pt x="463" y="291"/>
                        </a:lnTo>
                        <a:lnTo>
                          <a:pt x="498" y="335"/>
                        </a:lnTo>
                        <a:lnTo>
                          <a:pt x="524" y="352"/>
                        </a:lnTo>
                        <a:lnTo>
                          <a:pt x="573" y="374"/>
                        </a:lnTo>
                        <a:lnTo>
                          <a:pt x="636" y="388"/>
                        </a:lnTo>
                        <a:lnTo>
                          <a:pt x="715" y="396"/>
                        </a:lnTo>
                        <a:lnTo>
                          <a:pt x="768" y="418"/>
                        </a:lnTo>
                        <a:lnTo>
                          <a:pt x="799" y="432"/>
                        </a:lnTo>
                        <a:lnTo>
                          <a:pt x="790" y="471"/>
                        </a:lnTo>
                        <a:lnTo>
                          <a:pt x="759" y="529"/>
                        </a:lnTo>
                        <a:lnTo>
                          <a:pt x="710" y="577"/>
                        </a:lnTo>
                        <a:lnTo>
                          <a:pt x="636" y="626"/>
                        </a:lnTo>
                        <a:lnTo>
                          <a:pt x="515" y="657"/>
                        </a:lnTo>
                        <a:lnTo>
                          <a:pt x="418" y="665"/>
                        </a:lnTo>
                        <a:lnTo>
                          <a:pt x="330" y="661"/>
                        </a:lnTo>
                        <a:lnTo>
                          <a:pt x="233" y="652"/>
                        </a:lnTo>
                        <a:lnTo>
                          <a:pt x="348" y="687"/>
                        </a:lnTo>
                        <a:lnTo>
                          <a:pt x="423" y="727"/>
                        </a:lnTo>
                        <a:lnTo>
                          <a:pt x="502" y="802"/>
                        </a:lnTo>
                        <a:lnTo>
                          <a:pt x="573" y="855"/>
                        </a:lnTo>
                        <a:lnTo>
                          <a:pt x="662" y="921"/>
                        </a:lnTo>
                        <a:lnTo>
                          <a:pt x="724" y="974"/>
                        </a:lnTo>
                        <a:lnTo>
                          <a:pt x="777" y="1018"/>
                        </a:lnTo>
                        <a:lnTo>
                          <a:pt x="816" y="1067"/>
                        </a:lnTo>
                        <a:lnTo>
                          <a:pt x="821" y="1098"/>
                        </a:lnTo>
                        <a:lnTo>
                          <a:pt x="794" y="1128"/>
                        </a:lnTo>
                        <a:lnTo>
                          <a:pt x="724" y="1155"/>
                        </a:lnTo>
                        <a:lnTo>
                          <a:pt x="644" y="1168"/>
                        </a:lnTo>
                        <a:lnTo>
                          <a:pt x="537" y="1177"/>
                        </a:lnTo>
                        <a:lnTo>
                          <a:pt x="432" y="1164"/>
                        </a:lnTo>
                        <a:lnTo>
                          <a:pt x="330" y="1137"/>
                        </a:lnTo>
                        <a:lnTo>
                          <a:pt x="242" y="1106"/>
                        </a:lnTo>
                        <a:lnTo>
                          <a:pt x="110" y="1040"/>
                        </a:lnTo>
                        <a:lnTo>
                          <a:pt x="246" y="1142"/>
                        </a:lnTo>
                        <a:lnTo>
                          <a:pt x="339" y="1208"/>
                        </a:lnTo>
                        <a:lnTo>
                          <a:pt x="427" y="1274"/>
                        </a:lnTo>
                        <a:lnTo>
                          <a:pt x="511" y="1331"/>
                        </a:lnTo>
                        <a:lnTo>
                          <a:pt x="599" y="1406"/>
                        </a:lnTo>
                        <a:lnTo>
                          <a:pt x="684" y="1494"/>
                        </a:lnTo>
                        <a:lnTo>
                          <a:pt x="763" y="1592"/>
                        </a:lnTo>
                        <a:lnTo>
                          <a:pt x="825" y="1672"/>
                        </a:lnTo>
                        <a:lnTo>
                          <a:pt x="900" y="1769"/>
                        </a:lnTo>
                        <a:lnTo>
                          <a:pt x="834" y="1773"/>
                        </a:lnTo>
                        <a:lnTo>
                          <a:pt x="728" y="1769"/>
                        </a:lnTo>
                        <a:lnTo>
                          <a:pt x="627" y="1747"/>
                        </a:lnTo>
                        <a:lnTo>
                          <a:pt x="537" y="1720"/>
                        </a:lnTo>
                        <a:lnTo>
                          <a:pt x="445" y="1689"/>
                        </a:lnTo>
                        <a:lnTo>
                          <a:pt x="339" y="1628"/>
                        </a:lnTo>
                        <a:lnTo>
                          <a:pt x="423" y="1738"/>
                        </a:lnTo>
                        <a:lnTo>
                          <a:pt x="498" y="1857"/>
                        </a:lnTo>
                        <a:lnTo>
                          <a:pt x="599" y="1998"/>
                        </a:lnTo>
                        <a:lnTo>
                          <a:pt x="724" y="2152"/>
                        </a:lnTo>
                        <a:lnTo>
                          <a:pt x="882" y="2346"/>
                        </a:lnTo>
                        <a:lnTo>
                          <a:pt x="935" y="2421"/>
                        </a:lnTo>
                        <a:lnTo>
                          <a:pt x="971" y="2501"/>
                        </a:lnTo>
                        <a:lnTo>
                          <a:pt x="988" y="2602"/>
                        </a:lnTo>
                        <a:lnTo>
                          <a:pt x="984" y="2686"/>
                        </a:lnTo>
                        <a:lnTo>
                          <a:pt x="896" y="2677"/>
                        </a:lnTo>
                        <a:lnTo>
                          <a:pt x="807" y="2668"/>
                        </a:lnTo>
                        <a:lnTo>
                          <a:pt x="697" y="2646"/>
                        </a:lnTo>
                        <a:lnTo>
                          <a:pt x="627" y="2620"/>
                        </a:lnTo>
                        <a:lnTo>
                          <a:pt x="551" y="2589"/>
                        </a:lnTo>
                        <a:lnTo>
                          <a:pt x="662" y="2783"/>
                        </a:lnTo>
                        <a:lnTo>
                          <a:pt x="710" y="2924"/>
                        </a:lnTo>
                        <a:lnTo>
                          <a:pt x="777" y="3118"/>
                        </a:lnTo>
                        <a:lnTo>
                          <a:pt x="860" y="3303"/>
                        </a:lnTo>
                        <a:lnTo>
                          <a:pt x="935" y="3489"/>
                        </a:lnTo>
                        <a:lnTo>
                          <a:pt x="984" y="3634"/>
                        </a:lnTo>
                        <a:lnTo>
                          <a:pt x="1032" y="3762"/>
                        </a:lnTo>
                        <a:lnTo>
                          <a:pt x="1085" y="3885"/>
                        </a:lnTo>
                        <a:lnTo>
                          <a:pt x="1156" y="3996"/>
                        </a:lnTo>
                        <a:lnTo>
                          <a:pt x="1231" y="4124"/>
                        </a:lnTo>
                        <a:lnTo>
                          <a:pt x="1213" y="4393"/>
                        </a:lnTo>
                        <a:lnTo>
                          <a:pt x="1187" y="4626"/>
                        </a:lnTo>
                        <a:lnTo>
                          <a:pt x="1165" y="5077"/>
                        </a:lnTo>
                        <a:lnTo>
                          <a:pt x="1143" y="5514"/>
                        </a:lnTo>
                        <a:lnTo>
                          <a:pt x="1094" y="5655"/>
                        </a:lnTo>
                        <a:lnTo>
                          <a:pt x="1063" y="5800"/>
                        </a:lnTo>
                        <a:lnTo>
                          <a:pt x="1028" y="5933"/>
                        </a:lnTo>
                        <a:lnTo>
                          <a:pt x="979" y="6091"/>
                        </a:lnTo>
                        <a:lnTo>
                          <a:pt x="922" y="6246"/>
                        </a:lnTo>
                        <a:lnTo>
                          <a:pt x="874" y="6360"/>
                        </a:lnTo>
                        <a:lnTo>
                          <a:pt x="785" y="6343"/>
                        </a:lnTo>
                        <a:lnTo>
                          <a:pt x="693" y="6325"/>
                        </a:lnTo>
                        <a:lnTo>
                          <a:pt x="599" y="6312"/>
                        </a:lnTo>
                        <a:lnTo>
                          <a:pt x="564" y="6307"/>
                        </a:lnTo>
                        <a:lnTo>
                          <a:pt x="524" y="6307"/>
                        </a:lnTo>
                        <a:lnTo>
                          <a:pt x="463" y="6316"/>
                        </a:lnTo>
                        <a:lnTo>
                          <a:pt x="418" y="6334"/>
                        </a:lnTo>
                        <a:lnTo>
                          <a:pt x="432" y="6157"/>
                        </a:lnTo>
                        <a:lnTo>
                          <a:pt x="432" y="6047"/>
                        </a:lnTo>
                        <a:lnTo>
                          <a:pt x="405" y="5906"/>
                        </a:lnTo>
                        <a:lnTo>
                          <a:pt x="392" y="5809"/>
                        </a:lnTo>
                        <a:lnTo>
                          <a:pt x="388" y="5659"/>
                        </a:lnTo>
                        <a:lnTo>
                          <a:pt x="374" y="5007"/>
                        </a:lnTo>
                        <a:lnTo>
                          <a:pt x="379" y="4547"/>
                        </a:lnTo>
                        <a:lnTo>
                          <a:pt x="374" y="4384"/>
                        </a:lnTo>
                        <a:lnTo>
                          <a:pt x="392" y="4137"/>
                        </a:lnTo>
                        <a:lnTo>
                          <a:pt x="405" y="3828"/>
                        </a:lnTo>
                        <a:lnTo>
                          <a:pt x="427" y="3347"/>
                        </a:lnTo>
                        <a:lnTo>
                          <a:pt x="418" y="3140"/>
                        </a:lnTo>
                        <a:lnTo>
                          <a:pt x="418" y="2995"/>
                        </a:lnTo>
                        <a:lnTo>
                          <a:pt x="427" y="2818"/>
                        </a:lnTo>
                        <a:lnTo>
                          <a:pt x="440" y="2655"/>
                        </a:lnTo>
                        <a:lnTo>
                          <a:pt x="463" y="2514"/>
                        </a:lnTo>
                        <a:lnTo>
                          <a:pt x="405" y="2421"/>
                        </a:lnTo>
                        <a:lnTo>
                          <a:pt x="379" y="2364"/>
                        </a:lnTo>
                        <a:lnTo>
                          <a:pt x="352" y="2276"/>
                        </a:lnTo>
                        <a:lnTo>
                          <a:pt x="339" y="2223"/>
                        </a:lnTo>
                        <a:lnTo>
                          <a:pt x="326" y="2166"/>
                        </a:lnTo>
                        <a:lnTo>
                          <a:pt x="299" y="2077"/>
                        </a:lnTo>
                        <a:lnTo>
                          <a:pt x="273" y="1980"/>
                        </a:lnTo>
                        <a:lnTo>
                          <a:pt x="242" y="1892"/>
                        </a:lnTo>
                        <a:lnTo>
                          <a:pt x="216" y="1817"/>
                        </a:lnTo>
                        <a:lnTo>
                          <a:pt x="198" y="1698"/>
                        </a:lnTo>
                        <a:lnTo>
                          <a:pt x="180" y="1601"/>
                        </a:lnTo>
                        <a:lnTo>
                          <a:pt x="176" y="1525"/>
                        </a:lnTo>
                        <a:lnTo>
                          <a:pt x="185" y="1481"/>
                        </a:lnTo>
                        <a:lnTo>
                          <a:pt x="158" y="1380"/>
                        </a:lnTo>
                        <a:lnTo>
                          <a:pt x="123" y="1274"/>
                        </a:lnTo>
                        <a:lnTo>
                          <a:pt x="97" y="1155"/>
                        </a:lnTo>
                        <a:lnTo>
                          <a:pt x="74" y="1067"/>
                        </a:lnTo>
                        <a:lnTo>
                          <a:pt x="57" y="965"/>
                        </a:lnTo>
                        <a:lnTo>
                          <a:pt x="52" y="855"/>
                        </a:lnTo>
                        <a:lnTo>
                          <a:pt x="61" y="776"/>
                        </a:lnTo>
                        <a:lnTo>
                          <a:pt x="57" y="665"/>
                        </a:lnTo>
                        <a:lnTo>
                          <a:pt x="48" y="604"/>
                        </a:lnTo>
                        <a:lnTo>
                          <a:pt x="35" y="533"/>
                        </a:lnTo>
                        <a:lnTo>
                          <a:pt x="13" y="463"/>
                        </a:lnTo>
                        <a:lnTo>
                          <a:pt x="8" y="388"/>
                        </a:lnTo>
                        <a:lnTo>
                          <a:pt x="0" y="348"/>
                        </a:lnTo>
                        <a:lnTo>
                          <a:pt x="35" y="396"/>
                        </a:lnTo>
                        <a:lnTo>
                          <a:pt x="97" y="458"/>
                        </a:lnTo>
                        <a:lnTo>
                          <a:pt x="97"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2" name=""/>
                  <p:cNvSpPr/>
                  <p:nvPr/>
                </p:nvSpPr>
                <p:spPr>
                  <a:xfrm>
                    <a:off x="1749600" y="3406680"/>
                    <a:ext cx="81360" cy="195480"/>
                  </a:xfrm>
                  <a:custGeom>
                    <a:avLst/>
                    <a:gdLst/>
                    <a:ahLst/>
                    <a:rect l="0" t="0" r="r" b="b"/>
                    <a:pathLst>
                      <a:path w="226" h="543">
                        <a:moveTo>
                          <a:pt x="209" y="0"/>
                        </a:moveTo>
                        <a:lnTo>
                          <a:pt x="137" y="35"/>
                        </a:lnTo>
                        <a:lnTo>
                          <a:pt x="58" y="74"/>
                        </a:lnTo>
                        <a:lnTo>
                          <a:pt x="0" y="105"/>
                        </a:lnTo>
                        <a:lnTo>
                          <a:pt x="26" y="185"/>
                        </a:lnTo>
                        <a:lnTo>
                          <a:pt x="80" y="314"/>
                        </a:lnTo>
                        <a:lnTo>
                          <a:pt x="150" y="441"/>
                        </a:lnTo>
                        <a:lnTo>
                          <a:pt x="222" y="543"/>
                        </a:lnTo>
                        <a:lnTo>
                          <a:pt x="226" y="494"/>
                        </a:lnTo>
                        <a:lnTo>
                          <a:pt x="209" y="428"/>
                        </a:lnTo>
                        <a:lnTo>
                          <a:pt x="196" y="340"/>
                        </a:lnTo>
                        <a:lnTo>
                          <a:pt x="200" y="229"/>
                        </a:lnTo>
                        <a:lnTo>
                          <a:pt x="222" y="110"/>
                        </a:lnTo>
                        <a:lnTo>
                          <a:pt x="209"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3" name=""/>
                  <p:cNvSpPr/>
                  <p:nvPr/>
                </p:nvSpPr>
                <p:spPr>
                  <a:xfrm>
                    <a:off x="1590840" y="3463920"/>
                    <a:ext cx="208440" cy="295560"/>
                  </a:xfrm>
                  <a:custGeom>
                    <a:avLst/>
                    <a:gdLst/>
                    <a:ahLst/>
                    <a:rect l="0" t="0" r="r" b="b"/>
                    <a:pathLst>
                      <a:path w="579" h="821">
                        <a:moveTo>
                          <a:pt x="221" y="0"/>
                        </a:moveTo>
                        <a:lnTo>
                          <a:pt x="265" y="154"/>
                        </a:lnTo>
                        <a:lnTo>
                          <a:pt x="327" y="299"/>
                        </a:lnTo>
                        <a:lnTo>
                          <a:pt x="415" y="446"/>
                        </a:lnTo>
                        <a:lnTo>
                          <a:pt x="495" y="552"/>
                        </a:lnTo>
                        <a:lnTo>
                          <a:pt x="579" y="627"/>
                        </a:lnTo>
                        <a:lnTo>
                          <a:pt x="562" y="644"/>
                        </a:lnTo>
                        <a:lnTo>
                          <a:pt x="500" y="658"/>
                        </a:lnTo>
                        <a:lnTo>
                          <a:pt x="393" y="649"/>
                        </a:lnTo>
                        <a:lnTo>
                          <a:pt x="300" y="631"/>
                        </a:lnTo>
                        <a:lnTo>
                          <a:pt x="278" y="719"/>
                        </a:lnTo>
                        <a:lnTo>
                          <a:pt x="252" y="821"/>
                        </a:lnTo>
                        <a:lnTo>
                          <a:pt x="225" y="622"/>
                        </a:lnTo>
                        <a:lnTo>
                          <a:pt x="203" y="477"/>
                        </a:lnTo>
                        <a:lnTo>
                          <a:pt x="155" y="339"/>
                        </a:lnTo>
                        <a:lnTo>
                          <a:pt x="92" y="189"/>
                        </a:lnTo>
                        <a:lnTo>
                          <a:pt x="0" y="52"/>
                        </a:lnTo>
                        <a:lnTo>
                          <a:pt x="79" y="35"/>
                        </a:lnTo>
                        <a:lnTo>
                          <a:pt x="141" y="22"/>
                        </a:lnTo>
                        <a:lnTo>
                          <a:pt x="221"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4" name=""/>
                  <p:cNvSpPr/>
                  <p:nvPr/>
                </p:nvSpPr>
                <p:spPr>
                  <a:xfrm>
                    <a:off x="1333440" y="3505320"/>
                    <a:ext cx="101880" cy="211320"/>
                  </a:xfrm>
                  <a:custGeom>
                    <a:avLst/>
                    <a:gdLst/>
                    <a:ahLst/>
                    <a:rect l="0" t="0" r="r" b="b"/>
                    <a:pathLst>
                      <a:path w="283" h="587">
                        <a:moveTo>
                          <a:pt x="101" y="4"/>
                        </a:moveTo>
                        <a:lnTo>
                          <a:pt x="155" y="88"/>
                        </a:lnTo>
                        <a:lnTo>
                          <a:pt x="208" y="180"/>
                        </a:lnTo>
                        <a:lnTo>
                          <a:pt x="247" y="291"/>
                        </a:lnTo>
                        <a:lnTo>
                          <a:pt x="274" y="419"/>
                        </a:lnTo>
                        <a:lnTo>
                          <a:pt x="283" y="587"/>
                        </a:lnTo>
                        <a:lnTo>
                          <a:pt x="256" y="534"/>
                        </a:lnTo>
                        <a:lnTo>
                          <a:pt x="225" y="494"/>
                        </a:lnTo>
                        <a:lnTo>
                          <a:pt x="177" y="464"/>
                        </a:lnTo>
                        <a:lnTo>
                          <a:pt x="155" y="441"/>
                        </a:lnTo>
                        <a:lnTo>
                          <a:pt x="127" y="393"/>
                        </a:lnTo>
                        <a:lnTo>
                          <a:pt x="92" y="314"/>
                        </a:lnTo>
                        <a:lnTo>
                          <a:pt x="52" y="229"/>
                        </a:lnTo>
                        <a:lnTo>
                          <a:pt x="13" y="114"/>
                        </a:lnTo>
                        <a:lnTo>
                          <a:pt x="0" y="48"/>
                        </a:lnTo>
                        <a:lnTo>
                          <a:pt x="0" y="0"/>
                        </a:lnTo>
                        <a:lnTo>
                          <a:pt x="101" y="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5" name=""/>
                  <p:cNvSpPr/>
                  <p:nvPr/>
                </p:nvSpPr>
                <p:spPr>
                  <a:xfrm>
                    <a:off x="1087560" y="3483000"/>
                    <a:ext cx="200520" cy="141480"/>
                  </a:xfrm>
                  <a:custGeom>
                    <a:avLst/>
                    <a:gdLst/>
                    <a:ahLst/>
                    <a:rect l="0" t="0" r="r" b="b"/>
                    <a:pathLst>
                      <a:path w="557" h="393">
                        <a:moveTo>
                          <a:pt x="371" y="48"/>
                        </a:moveTo>
                        <a:lnTo>
                          <a:pt x="402" y="79"/>
                        </a:lnTo>
                        <a:lnTo>
                          <a:pt x="442" y="119"/>
                        </a:lnTo>
                        <a:lnTo>
                          <a:pt x="465" y="158"/>
                        </a:lnTo>
                        <a:lnTo>
                          <a:pt x="491" y="208"/>
                        </a:lnTo>
                        <a:lnTo>
                          <a:pt x="513" y="256"/>
                        </a:lnTo>
                        <a:lnTo>
                          <a:pt x="535" y="318"/>
                        </a:lnTo>
                        <a:lnTo>
                          <a:pt x="557" y="393"/>
                        </a:lnTo>
                        <a:lnTo>
                          <a:pt x="517" y="389"/>
                        </a:lnTo>
                        <a:lnTo>
                          <a:pt x="460" y="367"/>
                        </a:lnTo>
                        <a:lnTo>
                          <a:pt x="402" y="327"/>
                        </a:lnTo>
                        <a:lnTo>
                          <a:pt x="349" y="287"/>
                        </a:lnTo>
                        <a:lnTo>
                          <a:pt x="292" y="243"/>
                        </a:lnTo>
                        <a:lnTo>
                          <a:pt x="225" y="199"/>
                        </a:lnTo>
                        <a:lnTo>
                          <a:pt x="155" y="171"/>
                        </a:lnTo>
                        <a:lnTo>
                          <a:pt x="88" y="141"/>
                        </a:lnTo>
                        <a:lnTo>
                          <a:pt x="66" y="127"/>
                        </a:lnTo>
                        <a:lnTo>
                          <a:pt x="52" y="88"/>
                        </a:lnTo>
                        <a:lnTo>
                          <a:pt x="57" y="61"/>
                        </a:lnTo>
                        <a:lnTo>
                          <a:pt x="30" y="39"/>
                        </a:lnTo>
                        <a:lnTo>
                          <a:pt x="0" y="0"/>
                        </a:lnTo>
                        <a:lnTo>
                          <a:pt x="57" y="13"/>
                        </a:lnTo>
                        <a:lnTo>
                          <a:pt x="127" y="22"/>
                        </a:lnTo>
                        <a:lnTo>
                          <a:pt x="203" y="30"/>
                        </a:lnTo>
                        <a:lnTo>
                          <a:pt x="278" y="39"/>
                        </a:lnTo>
                        <a:lnTo>
                          <a:pt x="371" y="48"/>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826" name=""/>
            <p:cNvGrpSpPr/>
            <p:nvPr/>
          </p:nvGrpSpPr>
          <p:grpSpPr>
            <a:xfrm>
              <a:off x="720720" y="1446120"/>
              <a:ext cx="1497240" cy="2295720"/>
              <a:chOff x="720720" y="1446120"/>
              <a:chExt cx="1497240" cy="2295720"/>
            </a:xfrm>
          </p:grpSpPr>
          <p:grpSp>
            <p:nvGrpSpPr>
              <p:cNvPr id="827" name=""/>
              <p:cNvGrpSpPr/>
              <p:nvPr/>
            </p:nvGrpSpPr>
            <p:grpSpPr>
              <a:xfrm>
                <a:off x="942840" y="1446120"/>
                <a:ext cx="843120" cy="862560"/>
                <a:chOff x="942840" y="1446120"/>
                <a:chExt cx="843120" cy="862560"/>
              </a:xfrm>
            </p:grpSpPr>
            <p:sp>
              <p:nvSpPr>
                <p:cNvPr id="828" name=""/>
                <p:cNvSpPr/>
                <p:nvPr/>
              </p:nvSpPr>
              <p:spPr>
                <a:xfrm>
                  <a:off x="1760400" y="22287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29" name=""/>
                <p:cNvSpPr/>
                <p:nvPr/>
              </p:nvSpPr>
              <p:spPr>
                <a:xfrm>
                  <a:off x="1317600" y="1994040"/>
                  <a:ext cx="192600" cy="163800"/>
                </a:xfrm>
                <a:custGeom>
                  <a:avLst/>
                  <a:gdLst/>
                  <a:ahLst/>
                  <a:rect l="0" t="0" r="r" b="b"/>
                  <a:pathLst>
                    <a:path w="535" h="455">
                      <a:moveTo>
                        <a:pt x="384" y="30"/>
                      </a:moveTo>
                      <a:lnTo>
                        <a:pt x="397" y="158"/>
                      </a:lnTo>
                      <a:lnTo>
                        <a:pt x="403" y="198"/>
                      </a:lnTo>
                      <a:lnTo>
                        <a:pt x="434" y="261"/>
                      </a:lnTo>
                      <a:lnTo>
                        <a:pt x="487" y="305"/>
                      </a:lnTo>
                      <a:lnTo>
                        <a:pt x="535" y="344"/>
                      </a:lnTo>
                      <a:lnTo>
                        <a:pt x="491" y="336"/>
                      </a:lnTo>
                      <a:lnTo>
                        <a:pt x="500" y="375"/>
                      </a:lnTo>
                      <a:lnTo>
                        <a:pt x="465" y="362"/>
                      </a:lnTo>
                      <a:lnTo>
                        <a:pt x="425" y="358"/>
                      </a:lnTo>
                      <a:lnTo>
                        <a:pt x="434" y="402"/>
                      </a:lnTo>
                      <a:lnTo>
                        <a:pt x="389" y="384"/>
                      </a:lnTo>
                      <a:lnTo>
                        <a:pt x="344" y="367"/>
                      </a:lnTo>
                      <a:lnTo>
                        <a:pt x="309" y="344"/>
                      </a:lnTo>
                      <a:lnTo>
                        <a:pt x="322" y="406"/>
                      </a:lnTo>
                      <a:lnTo>
                        <a:pt x="292" y="393"/>
                      </a:lnTo>
                      <a:lnTo>
                        <a:pt x="265" y="384"/>
                      </a:lnTo>
                      <a:lnTo>
                        <a:pt x="243" y="367"/>
                      </a:lnTo>
                      <a:lnTo>
                        <a:pt x="239" y="389"/>
                      </a:lnTo>
                      <a:lnTo>
                        <a:pt x="243" y="428"/>
                      </a:lnTo>
                      <a:lnTo>
                        <a:pt x="199" y="411"/>
                      </a:lnTo>
                      <a:lnTo>
                        <a:pt x="195" y="450"/>
                      </a:lnTo>
                      <a:lnTo>
                        <a:pt x="168" y="455"/>
                      </a:lnTo>
                      <a:lnTo>
                        <a:pt x="137" y="446"/>
                      </a:lnTo>
                      <a:lnTo>
                        <a:pt x="97" y="428"/>
                      </a:lnTo>
                      <a:lnTo>
                        <a:pt x="66" y="402"/>
                      </a:lnTo>
                      <a:lnTo>
                        <a:pt x="48" y="380"/>
                      </a:lnTo>
                      <a:lnTo>
                        <a:pt x="0" y="0"/>
                      </a:lnTo>
                      <a:lnTo>
                        <a:pt x="384" y="3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30" name=""/>
                <p:cNvGrpSpPr/>
                <p:nvPr/>
              </p:nvGrpSpPr>
              <p:grpSpPr>
                <a:xfrm>
                  <a:off x="973080" y="1552680"/>
                  <a:ext cx="606960" cy="756000"/>
                  <a:chOff x="973080" y="1552680"/>
                  <a:chExt cx="606960" cy="756000"/>
                </a:xfrm>
              </p:grpSpPr>
              <p:grpSp>
                <p:nvGrpSpPr>
                  <p:cNvPr id="831" name=""/>
                  <p:cNvGrpSpPr/>
                  <p:nvPr/>
                </p:nvGrpSpPr>
                <p:grpSpPr>
                  <a:xfrm>
                    <a:off x="973080" y="1552680"/>
                    <a:ext cx="606960" cy="756000"/>
                    <a:chOff x="973080" y="1552680"/>
                    <a:chExt cx="606960" cy="756000"/>
                  </a:xfrm>
                </p:grpSpPr>
                <p:sp>
                  <p:nvSpPr>
                    <p:cNvPr id="832" name=""/>
                    <p:cNvSpPr/>
                    <p:nvPr/>
                  </p:nvSpPr>
                  <p:spPr>
                    <a:xfrm>
                      <a:off x="973080" y="1552680"/>
                      <a:ext cx="606960" cy="756000"/>
                    </a:xfrm>
                    <a:custGeom>
                      <a:avLst/>
                      <a:gdLst/>
                      <a:ahLst/>
                      <a:rect l="0" t="0" r="r" b="b"/>
                      <a:pathLst>
                        <a:path w="1686" h="2100">
                          <a:moveTo>
                            <a:pt x="1373" y="0"/>
                          </a:moveTo>
                          <a:lnTo>
                            <a:pt x="1545" y="92"/>
                          </a:lnTo>
                          <a:lnTo>
                            <a:pt x="1646" y="220"/>
                          </a:lnTo>
                          <a:lnTo>
                            <a:pt x="1686" y="383"/>
                          </a:lnTo>
                          <a:lnTo>
                            <a:pt x="1677" y="507"/>
                          </a:lnTo>
                          <a:lnTo>
                            <a:pt x="1668" y="568"/>
                          </a:lnTo>
                          <a:lnTo>
                            <a:pt x="1655" y="590"/>
                          </a:lnTo>
                          <a:lnTo>
                            <a:pt x="1642" y="617"/>
                          </a:lnTo>
                          <a:lnTo>
                            <a:pt x="1615" y="643"/>
                          </a:lnTo>
                          <a:lnTo>
                            <a:pt x="1611" y="674"/>
                          </a:lnTo>
                          <a:lnTo>
                            <a:pt x="1615" y="718"/>
                          </a:lnTo>
                          <a:lnTo>
                            <a:pt x="1646" y="767"/>
                          </a:lnTo>
                          <a:lnTo>
                            <a:pt x="1673" y="798"/>
                          </a:lnTo>
                          <a:lnTo>
                            <a:pt x="1686" y="842"/>
                          </a:lnTo>
                          <a:lnTo>
                            <a:pt x="1673" y="873"/>
                          </a:lnTo>
                          <a:lnTo>
                            <a:pt x="1655" y="881"/>
                          </a:lnTo>
                          <a:lnTo>
                            <a:pt x="1646" y="908"/>
                          </a:lnTo>
                          <a:lnTo>
                            <a:pt x="1655" y="956"/>
                          </a:lnTo>
                          <a:lnTo>
                            <a:pt x="1646" y="1001"/>
                          </a:lnTo>
                          <a:lnTo>
                            <a:pt x="1615" y="1031"/>
                          </a:lnTo>
                          <a:lnTo>
                            <a:pt x="1593" y="1059"/>
                          </a:lnTo>
                          <a:lnTo>
                            <a:pt x="1563" y="1090"/>
                          </a:lnTo>
                          <a:lnTo>
                            <a:pt x="1598" y="1138"/>
                          </a:lnTo>
                          <a:lnTo>
                            <a:pt x="1576" y="1191"/>
                          </a:lnTo>
                          <a:lnTo>
                            <a:pt x="1571" y="1209"/>
                          </a:lnTo>
                          <a:lnTo>
                            <a:pt x="1580" y="1266"/>
                          </a:lnTo>
                          <a:lnTo>
                            <a:pt x="1593" y="1306"/>
                          </a:lnTo>
                          <a:lnTo>
                            <a:pt x="1580" y="1341"/>
                          </a:lnTo>
                          <a:lnTo>
                            <a:pt x="1567" y="1354"/>
                          </a:lnTo>
                          <a:lnTo>
                            <a:pt x="1527" y="1363"/>
                          </a:lnTo>
                          <a:lnTo>
                            <a:pt x="1501" y="1372"/>
                          </a:lnTo>
                          <a:lnTo>
                            <a:pt x="1329" y="1363"/>
                          </a:lnTo>
                          <a:lnTo>
                            <a:pt x="1187" y="1363"/>
                          </a:lnTo>
                          <a:lnTo>
                            <a:pt x="1125" y="1372"/>
                          </a:lnTo>
                          <a:lnTo>
                            <a:pt x="1085" y="1390"/>
                          </a:lnTo>
                          <a:lnTo>
                            <a:pt x="1059" y="1434"/>
                          </a:lnTo>
                          <a:lnTo>
                            <a:pt x="1050" y="1491"/>
                          </a:lnTo>
                          <a:lnTo>
                            <a:pt x="1054" y="1570"/>
                          </a:lnTo>
                          <a:lnTo>
                            <a:pt x="1076" y="1659"/>
                          </a:lnTo>
                          <a:lnTo>
                            <a:pt x="1107" y="1720"/>
                          </a:lnTo>
                          <a:lnTo>
                            <a:pt x="1134" y="1756"/>
                          </a:lnTo>
                          <a:lnTo>
                            <a:pt x="1222" y="1778"/>
                          </a:lnTo>
                          <a:lnTo>
                            <a:pt x="583" y="2100"/>
                          </a:lnTo>
                          <a:lnTo>
                            <a:pt x="123" y="1919"/>
                          </a:lnTo>
                          <a:lnTo>
                            <a:pt x="0" y="1808"/>
                          </a:lnTo>
                          <a:lnTo>
                            <a:pt x="136" y="1734"/>
                          </a:lnTo>
                          <a:lnTo>
                            <a:pt x="202" y="1654"/>
                          </a:lnTo>
                          <a:lnTo>
                            <a:pt x="273" y="1544"/>
                          </a:lnTo>
                          <a:lnTo>
                            <a:pt x="330" y="1442"/>
                          </a:lnTo>
                          <a:lnTo>
                            <a:pt x="441" y="1063"/>
                          </a:lnTo>
                          <a:lnTo>
                            <a:pt x="335" y="529"/>
                          </a:lnTo>
                          <a:lnTo>
                            <a:pt x="490" y="335"/>
                          </a:lnTo>
                          <a:lnTo>
                            <a:pt x="719" y="383"/>
                          </a:lnTo>
                          <a:lnTo>
                            <a:pt x="834" y="427"/>
                          </a:lnTo>
                          <a:lnTo>
                            <a:pt x="975" y="171"/>
                          </a:lnTo>
                          <a:lnTo>
                            <a:pt x="1107" y="61"/>
                          </a:lnTo>
                          <a:lnTo>
                            <a:pt x="1373"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3" name=""/>
                    <p:cNvSpPr/>
                    <p:nvPr/>
                  </p:nvSpPr>
                  <p:spPr>
                    <a:xfrm>
                      <a:off x="1166760" y="1863720"/>
                      <a:ext cx="194040" cy="171720"/>
                    </a:xfrm>
                    <a:custGeom>
                      <a:avLst/>
                      <a:gdLst/>
                      <a:ahLst/>
                      <a:rect l="0" t="0" r="r" b="b"/>
                      <a:pathLst>
                        <a:path w="539" h="477">
                          <a:moveTo>
                            <a:pt x="539" y="477"/>
                          </a:moveTo>
                          <a:lnTo>
                            <a:pt x="473" y="455"/>
                          </a:lnTo>
                          <a:lnTo>
                            <a:pt x="412" y="437"/>
                          </a:lnTo>
                          <a:lnTo>
                            <a:pt x="367" y="411"/>
                          </a:lnTo>
                          <a:lnTo>
                            <a:pt x="322" y="362"/>
                          </a:lnTo>
                          <a:lnTo>
                            <a:pt x="287" y="305"/>
                          </a:lnTo>
                          <a:lnTo>
                            <a:pt x="247" y="243"/>
                          </a:lnTo>
                          <a:lnTo>
                            <a:pt x="221" y="189"/>
                          </a:lnTo>
                          <a:lnTo>
                            <a:pt x="225" y="145"/>
                          </a:lnTo>
                          <a:lnTo>
                            <a:pt x="239" y="92"/>
                          </a:lnTo>
                          <a:lnTo>
                            <a:pt x="239" y="44"/>
                          </a:lnTo>
                          <a:lnTo>
                            <a:pt x="101" y="110"/>
                          </a:lnTo>
                          <a:lnTo>
                            <a:pt x="26" y="30"/>
                          </a:lnTo>
                          <a:lnTo>
                            <a:pt x="0" y="0"/>
                          </a:lnTo>
                          <a:lnTo>
                            <a:pt x="8" y="79"/>
                          </a:lnTo>
                          <a:lnTo>
                            <a:pt x="30" y="136"/>
                          </a:lnTo>
                          <a:lnTo>
                            <a:pt x="74" y="171"/>
                          </a:lnTo>
                          <a:lnTo>
                            <a:pt x="137" y="189"/>
                          </a:lnTo>
                          <a:lnTo>
                            <a:pt x="168" y="265"/>
                          </a:lnTo>
                          <a:lnTo>
                            <a:pt x="195" y="327"/>
                          </a:lnTo>
                          <a:lnTo>
                            <a:pt x="230" y="375"/>
                          </a:lnTo>
                          <a:lnTo>
                            <a:pt x="278" y="411"/>
                          </a:lnTo>
                          <a:lnTo>
                            <a:pt x="353" y="441"/>
                          </a:lnTo>
                          <a:lnTo>
                            <a:pt x="442" y="464"/>
                          </a:lnTo>
                          <a:lnTo>
                            <a:pt x="539" y="477"/>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4" name=""/>
                    <p:cNvSpPr/>
                    <p:nvPr/>
                  </p:nvSpPr>
                  <p:spPr>
                    <a:xfrm>
                      <a:off x="1165320" y="2062080"/>
                      <a:ext cx="66960" cy="198720"/>
                    </a:xfrm>
                    <a:custGeom>
                      <a:avLst/>
                      <a:gdLst/>
                      <a:ahLst/>
                      <a:rect l="0" t="0" r="r" b="b"/>
                      <a:pathLst>
                        <a:path w="186" h="552">
                          <a:moveTo>
                            <a:pt x="186" y="525"/>
                          </a:moveTo>
                          <a:lnTo>
                            <a:pt x="146" y="428"/>
                          </a:lnTo>
                          <a:lnTo>
                            <a:pt x="120" y="336"/>
                          </a:lnTo>
                          <a:lnTo>
                            <a:pt x="102" y="255"/>
                          </a:lnTo>
                          <a:lnTo>
                            <a:pt x="79" y="154"/>
                          </a:lnTo>
                          <a:lnTo>
                            <a:pt x="61" y="0"/>
                          </a:lnTo>
                          <a:lnTo>
                            <a:pt x="13" y="114"/>
                          </a:lnTo>
                          <a:lnTo>
                            <a:pt x="35" y="224"/>
                          </a:lnTo>
                          <a:lnTo>
                            <a:pt x="48" y="344"/>
                          </a:lnTo>
                          <a:lnTo>
                            <a:pt x="35" y="450"/>
                          </a:lnTo>
                          <a:lnTo>
                            <a:pt x="0" y="552"/>
                          </a:lnTo>
                          <a:lnTo>
                            <a:pt x="186" y="525"/>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35" name=""/>
                    <p:cNvGrpSpPr/>
                    <p:nvPr/>
                  </p:nvGrpSpPr>
                  <p:grpSpPr>
                    <a:xfrm>
                      <a:off x="1160640" y="1593720"/>
                      <a:ext cx="414360" cy="451080"/>
                      <a:chOff x="1160640" y="1593720"/>
                      <a:chExt cx="414360" cy="451080"/>
                    </a:xfrm>
                  </p:grpSpPr>
                  <p:grpSp>
                    <p:nvGrpSpPr>
                      <p:cNvPr id="836" name=""/>
                      <p:cNvGrpSpPr/>
                      <p:nvPr/>
                    </p:nvGrpSpPr>
                    <p:grpSpPr>
                      <a:xfrm>
                        <a:off x="1160640" y="1593720"/>
                        <a:ext cx="414360" cy="451080"/>
                        <a:chOff x="1160640" y="1593720"/>
                        <a:chExt cx="414360" cy="451080"/>
                      </a:xfrm>
                    </p:grpSpPr>
                    <p:sp>
                      <p:nvSpPr>
                        <p:cNvPr id="837" name=""/>
                        <p:cNvSpPr/>
                        <p:nvPr/>
                      </p:nvSpPr>
                      <p:spPr>
                        <a:xfrm>
                          <a:off x="1160640" y="1593720"/>
                          <a:ext cx="368640" cy="451080"/>
                        </a:xfrm>
                        <a:custGeom>
                          <a:avLst/>
                          <a:gdLst/>
                          <a:ahLst/>
                          <a:rect l="0" t="0" r="r" b="b"/>
                          <a:pathLst>
                            <a:path w="1024" h="1253">
                              <a:moveTo>
                                <a:pt x="666" y="0"/>
                              </a:moveTo>
                              <a:lnTo>
                                <a:pt x="772" y="70"/>
                              </a:lnTo>
                              <a:lnTo>
                                <a:pt x="807" y="127"/>
                              </a:lnTo>
                              <a:lnTo>
                                <a:pt x="706" y="127"/>
                              </a:lnTo>
                              <a:lnTo>
                                <a:pt x="649" y="163"/>
                              </a:lnTo>
                              <a:lnTo>
                                <a:pt x="613" y="229"/>
                              </a:lnTo>
                              <a:lnTo>
                                <a:pt x="666" y="282"/>
                              </a:lnTo>
                              <a:lnTo>
                                <a:pt x="688" y="348"/>
                              </a:lnTo>
                              <a:lnTo>
                                <a:pt x="636" y="414"/>
                              </a:lnTo>
                              <a:lnTo>
                                <a:pt x="609" y="485"/>
                              </a:lnTo>
                              <a:lnTo>
                                <a:pt x="587" y="533"/>
                              </a:lnTo>
                              <a:lnTo>
                                <a:pt x="627" y="564"/>
                              </a:lnTo>
                              <a:lnTo>
                                <a:pt x="653" y="612"/>
                              </a:lnTo>
                              <a:lnTo>
                                <a:pt x="728" y="671"/>
                              </a:lnTo>
                              <a:lnTo>
                                <a:pt x="777" y="697"/>
                              </a:lnTo>
                              <a:lnTo>
                                <a:pt x="812" y="746"/>
                              </a:lnTo>
                              <a:lnTo>
                                <a:pt x="825" y="794"/>
                              </a:lnTo>
                              <a:lnTo>
                                <a:pt x="825" y="852"/>
                              </a:lnTo>
                              <a:lnTo>
                                <a:pt x="803" y="909"/>
                              </a:lnTo>
                              <a:lnTo>
                                <a:pt x="772" y="940"/>
                              </a:lnTo>
                              <a:lnTo>
                                <a:pt x="733" y="962"/>
                              </a:lnTo>
                              <a:lnTo>
                                <a:pt x="680" y="984"/>
                              </a:lnTo>
                              <a:lnTo>
                                <a:pt x="649" y="1015"/>
                              </a:lnTo>
                              <a:lnTo>
                                <a:pt x="631" y="1046"/>
                              </a:lnTo>
                              <a:lnTo>
                                <a:pt x="636" y="1094"/>
                              </a:lnTo>
                              <a:lnTo>
                                <a:pt x="658" y="1134"/>
                              </a:lnTo>
                              <a:lnTo>
                                <a:pt x="702" y="1156"/>
                              </a:lnTo>
                              <a:lnTo>
                                <a:pt x="755" y="1165"/>
                              </a:lnTo>
                              <a:lnTo>
                                <a:pt x="807" y="1187"/>
                              </a:lnTo>
                              <a:lnTo>
                                <a:pt x="856" y="1204"/>
                              </a:lnTo>
                              <a:lnTo>
                                <a:pt x="918" y="1226"/>
                              </a:lnTo>
                              <a:lnTo>
                                <a:pt x="971" y="1240"/>
                              </a:lnTo>
                              <a:lnTo>
                                <a:pt x="1024" y="1248"/>
                              </a:lnTo>
                              <a:lnTo>
                                <a:pt x="984" y="1253"/>
                              </a:lnTo>
                              <a:lnTo>
                                <a:pt x="922" y="1248"/>
                              </a:lnTo>
                              <a:lnTo>
                                <a:pt x="825" y="1248"/>
                              </a:lnTo>
                              <a:lnTo>
                                <a:pt x="755" y="1248"/>
                              </a:lnTo>
                              <a:lnTo>
                                <a:pt x="684" y="1240"/>
                              </a:lnTo>
                              <a:lnTo>
                                <a:pt x="600" y="1231"/>
                              </a:lnTo>
                              <a:lnTo>
                                <a:pt x="516" y="1213"/>
                              </a:lnTo>
                              <a:lnTo>
                                <a:pt x="449" y="1191"/>
                              </a:lnTo>
                              <a:lnTo>
                                <a:pt x="388" y="1160"/>
                              </a:lnTo>
                              <a:lnTo>
                                <a:pt x="343" y="1129"/>
                              </a:lnTo>
                              <a:lnTo>
                                <a:pt x="304" y="1063"/>
                              </a:lnTo>
                              <a:lnTo>
                                <a:pt x="220" y="913"/>
                              </a:lnTo>
                              <a:lnTo>
                                <a:pt x="141" y="750"/>
                              </a:lnTo>
                              <a:lnTo>
                                <a:pt x="0" y="432"/>
                              </a:lnTo>
                              <a:lnTo>
                                <a:pt x="83" y="335"/>
                              </a:lnTo>
                              <a:lnTo>
                                <a:pt x="277" y="414"/>
                              </a:lnTo>
                              <a:lnTo>
                                <a:pt x="383" y="260"/>
                              </a:lnTo>
                              <a:lnTo>
                                <a:pt x="449" y="57"/>
                              </a:lnTo>
                              <a:lnTo>
                                <a:pt x="666"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8" name=""/>
                        <p:cNvSpPr/>
                        <p:nvPr/>
                      </p:nvSpPr>
                      <p:spPr>
                        <a:xfrm>
                          <a:off x="1363680" y="1735200"/>
                          <a:ext cx="182880" cy="143280"/>
                        </a:xfrm>
                        <a:custGeom>
                          <a:avLst/>
                          <a:gdLst/>
                          <a:ahLst/>
                          <a:rect l="0" t="0" r="r" b="b"/>
                          <a:pathLst>
                            <a:path w="508" h="398">
                              <a:moveTo>
                                <a:pt x="194" y="0"/>
                              </a:moveTo>
                              <a:lnTo>
                                <a:pt x="216" y="4"/>
                              </a:lnTo>
                              <a:lnTo>
                                <a:pt x="256" y="17"/>
                              </a:lnTo>
                              <a:lnTo>
                                <a:pt x="296" y="22"/>
                              </a:lnTo>
                              <a:lnTo>
                                <a:pt x="371" y="35"/>
                              </a:lnTo>
                              <a:lnTo>
                                <a:pt x="419" y="35"/>
                              </a:lnTo>
                              <a:lnTo>
                                <a:pt x="415" y="83"/>
                              </a:lnTo>
                              <a:lnTo>
                                <a:pt x="428" y="133"/>
                              </a:lnTo>
                              <a:lnTo>
                                <a:pt x="446" y="168"/>
                              </a:lnTo>
                              <a:lnTo>
                                <a:pt x="468" y="208"/>
                              </a:lnTo>
                              <a:lnTo>
                                <a:pt x="508" y="265"/>
                              </a:lnTo>
                              <a:lnTo>
                                <a:pt x="508" y="306"/>
                              </a:lnTo>
                              <a:lnTo>
                                <a:pt x="477" y="301"/>
                              </a:lnTo>
                              <a:lnTo>
                                <a:pt x="437" y="310"/>
                              </a:lnTo>
                              <a:lnTo>
                                <a:pt x="415" y="328"/>
                              </a:lnTo>
                              <a:lnTo>
                                <a:pt x="406" y="354"/>
                              </a:lnTo>
                              <a:lnTo>
                                <a:pt x="419" y="381"/>
                              </a:lnTo>
                              <a:lnTo>
                                <a:pt x="459" y="390"/>
                              </a:lnTo>
                              <a:lnTo>
                                <a:pt x="428" y="398"/>
                              </a:lnTo>
                              <a:lnTo>
                                <a:pt x="397" y="385"/>
                              </a:lnTo>
                              <a:lnTo>
                                <a:pt x="380" y="368"/>
                              </a:lnTo>
                              <a:lnTo>
                                <a:pt x="380" y="332"/>
                              </a:lnTo>
                              <a:lnTo>
                                <a:pt x="393" y="306"/>
                              </a:lnTo>
                              <a:lnTo>
                                <a:pt x="419" y="278"/>
                              </a:lnTo>
                              <a:lnTo>
                                <a:pt x="446" y="278"/>
                              </a:lnTo>
                              <a:lnTo>
                                <a:pt x="406" y="212"/>
                              </a:lnTo>
                              <a:lnTo>
                                <a:pt x="380" y="164"/>
                              </a:lnTo>
                              <a:lnTo>
                                <a:pt x="305" y="172"/>
                              </a:lnTo>
                              <a:lnTo>
                                <a:pt x="242" y="172"/>
                              </a:lnTo>
                              <a:lnTo>
                                <a:pt x="167" y="164"/>
                              </a:lnTo>
                              <a:lnTo>
                                <a:pt x="123" y="142"/>
                              </a:lnTo>
                              <a:lnTo>
                                <a:pt x="88" y="111"/>
                              </a:lnTo>
                              <a:lnTo>
                                <a:pt x="44" y="88"/>
                              </a:lnTo>
                              <a:lnTo>
                                <a:pt x="0" y="70"/>
                              </a:lnTo>
                              <a:lnTo>
                                <a:pt x="110" y="22"/>
                              </a:lnTo>
                              <a:lnTo>
                                <a:pt x="194"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9" name=""/>
                        <p:cNvSpPr/>
                        <p:nvPr/>
                      </p:nvSpPr>
                      <p:spPr>
                        <a:xfrm>
                          <a:off x="1539720" y="1744560"/>
                          <a:ext cx="35280" cy="66960"/>
                        </a:xfrm>
                        <a:custGeom>
                          <a:avLst/>
                          <a:gdLst/>
                          <a:ahLst/>
                          <a:rect l="0" t="0" r="r" b="b"/>
                          <a:pathLst>
                            <a:path w="98" h="186">
                              <a:moveTo>
                                <a:pt x="98" y="0"/>
                              </a:moveTo>
                              <a:lnTo>
                                <a:pt x="71" y="8"/>
                              </a:lnTo>
                              <a:lnTo>
                                <a:pt x="44" y="13"/>
                              </a:lnTo>
                              <a:lnTo>
                                <a:pt x="17" y="26"/>
                              </a:lnTo>
                              <a:lnTo>
                                <a:pt x="0" y="39"/>
                              </a:lnTo>
                              <a:lnTo>
                                <a:pt x="0" y="66"/>
                              </a:lnTo>
                              <a:lnTo>
                                <a:pt x="4" y="115"/>
                              </a:lnTo>
                              <a:lnTo>
                                <a:pt x="17" y="146"/>
                              </a:lnTo>
                              <a:lnTo>
                                <a:pt x="39" y="186"/>
                              </a:lnTo>
                              <a:lnTo>
                                <a:pt x="35" y="146"/>
                              </a:lnTo>
                              <a:lnTo>
                                <a:pt x="39" y="115"/>
                              </a:lnTo>
                              <a:lnTo>
                                <a:pt x="44" y="106"/>
                              </a:lnTo>
                              <a:lnTo>
                                <a:pt x="62" y="88"/>
                              </a:lnTo>
                              <a:lnTo>
                                <a:pt x="80" y="61"/>
                              </a:lnTo>
                              <a:lnTo>
                                <a:pt x="98" y="35"/>
                              </a:lnTo>
                              <a:lnTo>
                                <a:pt x="98" y="0"/>
                              </a:lnTo>
                              <a:close/>
                            </a:path>
                          </a:pathLst>
                        </a:custGeom>
                        <a:solidFill>
                          <a:srgbClr val="ff8f6a"/>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840" name=""/>
                      <p:cNvGrpSpPr/>
                      <p:nvPr/>
                    </p:nvGrpSpPr>
                    <p:grpSpPr>
                      <a:xfrm>
                        <a:off x="1531800" y="1865160"/>
                        <a:ext cx="37080" cy="59400"/>
                        <a:chOff x="1531800" y="1865160"/>
                        <a:chExt cx="37080" cy="59400"/>
                      </a:xfrm>
                    </p:grpSpPr>
                    <p:sp>
                      <p:nvSpPr>
                        <p:cNvPr id="841" name=""/>
                        <p:cNvSpPr/>
                        <p:nvPr/>
                      </p:nvSpPr>
                      <p:spPr>
                        <a:xfrm>
                          <a:off x="1531800" y="1865160"/>
                          <a:ext cx="30240" cy="25560"/>
                        </a:xfrm>
                        <a:prstGeom prst="ellipse">
                          <a:avLst/>
                        </a:prstGeom>
                        <a:solidFill>
                          <a:srgbClr val="ff7f3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42" name=""/>
                        <p:cNvSpPr/>
                        <p:nvPr/>
                      </p:nvSpPr>
                      <p:spPr>
                        <a:xfrm>
                          <a:off x="1538280" y="1879560"/>
                          <a:ext cx="25920" cy="27360"/>
                        </a:xfrm>
                        <a:custGeom>
                          <a:avLst/>
                          <a:gdLst/>
                          <a:ahLst/>
                          <a:rect l="0" t="0" r="r" b="b"/>
                          <a:pathLst>
                            <a:path w="72" h="76">
                              <a:moveTo>
                                <a:pt x="72" y="0"/>
                              </a:moveTo>
                              <a:lnTo>
                                <a:pt x="49" y="23"/>
                              </a:lnTo>
                              <a:lnTo>
                                <a:pt x="40" y="49"/>
                              </a:lnTo>
                              <a:lnTo>
                                <a:pt x="31" y="76"/>
                              </a:lnTo>
                              <a:lnTo>
                                <a:pt x="17" y="45"/>
                              </a:lnTo>
                              <a:lnTo>
                                <a:pt x="0" y="17"/>
                              </a:lnTo>
                              <a:lnTo>
                                <a:pt x="36" y="17"/>
                              </a:lnTo>
                              <a:lnTo>
                                <a:pt x="72" y="0"/>
                              </a:lnTo>
                              <a:close/>
                            </a:path>
                          </a:pathLst>
                        </a:custGeom>
                        <a:solidFill>
                          <a:srgbClr val="ff7f3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843" name=""/>
                        <p:cNvSpPr/>
                        <p:nvPr/>
                      </p:nvSpPr>
                      <p:spPr>
                        <a:xfrm>
                          <a:off x="1542960" y="1889280"/>
                          <a:ext cx="25920" cy="35280"/>
                        </a:xfrm>
                        <a:custGeom>
                          <a:avLst/>
                          <a:gdLst/>
                          <a:ahLst/>
                          <a:rect l="0" t="0" r="r" b="b"/>
                          <a:pathLst>
                            <a:path w="72" h="98">
                              <a:moveTo>
                                <a:pt x="63" y="0"/>
                              </a:moveTo>
                              <a:lnTo>
                                <a:pt x="45" y="39"/>
                              </a:lnTo>
                              <a:lnTo>
                                <a:pt x="8" y="53"/>
                              </a:lnTo>
                              <a:lnTo>
                                <a:pt x="0" y="71"/>
                              </a:lnTo>
                              <a:lnTo>
                                <a:pt x="8" y="98"/>
                              </a:lnTo>
                              <a:lnTo>
                                <a:pt x="45" y="75"/>
                              </a:lnTo>
                              <a:lnTo>
                                <a:pt x="59" y="58"/>
                              </a:lnTo>
                              <a:lnTo>
                                <a:pt x="72" y="30"/>
                              </a:lnTo>
                              <a:lnTo>
                                <a:pt x="63" y="0"/>
                              </a:lnTo>
                              <a:close/>
                            </a:path>
                          </a:pathLst>
                        </a:custGeom>
                        <a:solidFill>
                          <a:srgbClr val="ff7f3f"/>
                        </a:solidFill>
                        <a:ln w="0">
                          <a:noFill/>
                        </a:ln>
                      </p:spPr>
                      <p:txBody>
                        <a:bodyPr lIns="90000" rIns="90000" tIns="-9720" bIns="-9720" anchor="t">
                          <a:noAutofit/>
                        </a:bodyPr>
                        <a:p>
                          <a:endParaRPr b="0" lang="en-US" sz="1800" spc="-1" strike="noStrike">
                            <a:solidFill>
                              <a:srgbClr val="000000"/>
                            </a:solidFill>
                            <a:latin typeface="Arial"/>
                          </a:endParaRPr>
                        </a:p>
                      </p:txBody>
                    </p:sp>
                  </p:grpSp>
                </p:grpSp>
              </p:grpSp>
              <p:sp>
                <p:nvSpPr>
                  <p:cNvPr id="844" name=""/>
                  <p:cNvSpPr/>
                  <p:nvPr/>
                </p:nvSpPr>
                <p:spPr>
                  <a:xfrm>
                    <a:off x="1413000" y="1736640"/>
                    <a:ext cx="84600" cy="25920"/>
                  </a:xfrm>
                  <a:custGeom>
                    <a:avLst/>
                    <a:gdLst/>
                    <a:ahLst/>
                    <a:rect l="0" t="0" r="r" b="b"/>
                    <a:pathLst>
                      <a:path w="235" h="72">
                        <a:moveTo>
                          <a:pt x="222" y="31"/>
                        </a:moveTo>
                        <a:lnTo>
                          <a:pt x="235" y="49"/>
                        </a:lnTo>
                        <a:lnTo>
                          <a:pt x="200" y="31"/>
                        </a:lnTo>
                        <a:lnTo>
                          <a:pt x="133" y="17"/>
                        </a:lnTo>
                        <a:lnTo>
                          <a:pt x="84" y="31"/>
                        </a:lnTo>
                        <a:lnTo>
                          <a:pt x="44" y="49"/>
                        </a:lnTo>
                        <a:lnTo>
                          <a:pt x="0" y="72"/>
                        </a:lnTo>
                        <a:lnTo>
                          <a:pt x="44" y="40"/>
                        </a:lnTo>
                        <a:lnTo>
                          <a:pt x="80" y="17"/>
                        </a:lnTo>
                        <a:lnTo>
                          <a:pt x="124" y="8"/>
                        </a:lnTo>
                        <a:lnTo>
                          <a:pt x="150" y="0"/>
                        </a:lnTo>
                        <a:lnTo>
                          <a:pt x="200" y="13"/>
                        </a:lnTo>
                        <a:lnTo>
                          <a:pt x="222" y="31"/>
                        </a:lnTo>
                        <a:close/>
                      </a:path>
                    </a:pathLst>
                  </a:custGeom>
                  <a:solidFill>
                    <a:srgbClr val="ff9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845" name=""/>
                <p:cNvGrpSpPr/>
                <p:nvPr/>
              </p:nvGrpSpPr>
              <p:grpSpPr>
                <a:xfrm>
                  <a:off x="1414440" y="1752480"/>
                  <a:ext cx="158760" cy="222840"/>
                  <a:chOff x="1414440" y="1752480"/>
                  <a:chExt cx="158760" cy="222840"/>
                </a:xfrm>
              </p:grpSpPr>
              <p:grpSp>
                <p:nvGrpSpPr>
                  <p:cNvPr id="846" name=""/>
                  <p:cNvGrpSpPr/>
                  <p:nvPr/>
                </p:nvGrpSpPr>
                <p:grpSpPr>
                  <a:xfrm>
                    <a:off x="1455840" y="1917720"/>
                    <a:ext cx="98640" cy="57600"/>
                    <a:chOff x="1455840" y="1917720"/>
                    <a:chExt cx="98640" cy="57600"/>
                  </a:xfrm>
                </p:grpSpPr>
                <p:sp>
                  <p:nvSpPr>
                    <p:cNvPr id="847" name=""/>
                    <p:cNvSpPr/>
                    <p:nvPr/>
                  </p:nvSpPr>
                  <p:spPr>
                    <a:xfrm>
                      <a:off x="1455840" y="1917720"/>
                      <a:ext cx="98640" cy="57600"/>
                    </a:xfrm>
                    <a:custGeom>
                      <a:avLst/>
                      <a:gdLst/>
                      <a:ahLst/>
                      <a:rect l="0" t="0" r="r" b="b"/>
                      <a:pathLst>
                        <a:path w="274" h="160">
                          <a:moveTo>
                            <a:pt x="274" y="13"/>
                          </a:moveTo>
                          <a:lnTo>
                            <a:pt x="256" y="0"/>
                          </a:lnTo>
                          <a:lnTo>
                            <a:pt x="225" y="0"/>
                          </a:lnTo>
                          <a:lnTo>
                            <a:pt x="181" y="13"/>
                          </a:lnTo>
                          <a:lnTo>
                            <a:pt x="132" y="22"/>
                          </a:lnTo>
                          <a:lnTo>
                            <a:pt x="0" y="39"/>
                          </a:lnTo>
                          <a:lnTo>
                            <a:pt x="79" y="75"/>
                          </a:lnTo>
                          <a:lnTo>
                            <a:pt x="123" y="111"/>
                          </a:lnTo>
                          <a:lnTo>
                            <a:pt x="177" y="138"/>
                          </a:lnTo>
                          <a:lnTo>
                            <a:pt x="212" y="160"/>
                          </a:lnTo>
                          <a:lnTo>
                            <a:pt x="239" y="160"/>
                          </a:lnTo>
                          <a:lnTo>
                            <a:pt x="256" y="147"/>
                          </a:lnTo>
                          <a:lnTo>
                            <a:pt x="261" y="115"/>
                          </a:lnTo>
                          <a:lnTo>
                            <a:pt x="252" y="93"/>
                          </a:lnTo>
                          <a:lnTo>
                            <a:pt x="239" y="71"/>
                          </a:lnTo>
                          <a:lnTo>
                            <a:pt x="256" y="62"/>
                          </a:lnTo>
                          <a:lnTo>
                            <a:pt x="269" y="39"/>
                          </a:lnTo>
                          <a:lnTo>
                            <a:pt x="274" y="13"/>
                          </a:lnTo>
                          <a:close/>
                        </a:path>
                      </a:pathLst>
                    </a:custGeom>
                    <a:solidFill>
                      <a:srgbClr val="ff00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848" name=""/>
                    <p:cNvSpPr/>
                    <p:nvPr/>
                  </p:nvSpPr>
                  <p:spPr>
                    <a:xfrm>
                      <a:off x="1459080" y="1933560"/>
                      <a:ext cx="89280" cy="25920"/>
                    </a:xfrm>
                    <a:custGeom>
                      <a:avLst/>
                      <a:gdLst/>
                      <a:ahLst/>
                      <a:rect l="0" t="0" r="r" b="b"/>
                      <a:pathLst>
                        <a:path w="248" h="72">
                          <a:moveTo>
                            <a:pt x="244" y="72"/>
                          </a:moveTo>
                          <a:lnTo>
                            <a:pt x="222" y="49"/>
                          </a:lnTo>
                          <a:lnTo>
                            <a:pt x="181" y="36"/>
                          </a:lnTo>
                          <a:lnTo>
                            <a:pt x="133" y="31"/>
                          </a:lnTo>
                          <a:lnTo>
                            <a:pt x="102" y="36"/>
                          </a:lnTo>
                          <a:lnTo>
                            <a:pt x="44" y="31"/>
                          </a:lnTo>
                          <a:lnTo>
                            <a:pt x="0" y="0"/>
                          </a:lnTo>
                          <a:lnTo>
                            <a:pt x="22" y="13"/>
                          </a:lnTo>
                          <a:lnTo>
                            <a:pt x="80" y="13"/>
                          </a:lnTo>
                          <a:lnTo>
                            <a:pt x="115" y="27"/>
                          </a:lnTo>
                          <a:lnTo>
                            <a:pt x="150" y="13"/>
                          </a:lnTo>
                          <a:lnTo>
                            <a:pt x="218" y="31"/>
                          </a:lnTo>
                          <a:lnTo>
                            <a:pt x="248" y="31"/>
                          </a:lnTo>
                          <a:lnTo>
                            <a:pt x="231" y="45"/>
                          </a:lnTo>
                          <a:lnTo>
                            <a:pt x="244" y="72"/>
                          </a:lnTo>
                          <a:close/>
                        </a:path>
                      </a:pathLst>
                    </a:custGeom>
                    <a:solidFill>
                      <a:srgbClr val="8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9" name=""/>
                    <p:cNvSpPr/>
                    <p:nvPr/>
                  </p:nvSpPr>
                  <p:spPr>
                    <a:xfrm>
                      <a:off x="1503360" y="1940040"/>
                      <a:ext cx="38520" cy="25920"/>
                    </a:xfrm>
                    <a:custGeom>
                      <a:avLst/>
                      <a:gdLst/>
                      <a:ahLst/>
                      <a:rect l="0" t="0" r="r" b="b"/>
                      <a:pathLst>
                        <a:path w="107" h="72">
                          <a:moveTo>
                            <a:pt x="94" y="17"/>
                          </a:moveTo>
                          <a:lnTo>
                            <a:pt x="107" y="40"/>
                          </a:lnTo>
                          <a:lnTo>
                            <a:pt x="103" y="68"/>
                          </a:lnTo>
                          <a:lnTo>
                            <a:pt x="90" y="72"/>
                          </a:lnTo>
                          <a:lnTo>
                            <a:pt x="67" y="59"/>
                          </a:lnTo>
                          <a:lnTo>
                            <a:pt x="40" y="17"/>
                          </a:lnTo>
                          <a:lnTo>
                            <a:pt x="0" y="0"/>
                          </a:lnTo>
                          <a:lnTo>
                            <a:pt x="26" y="0"/>
                          </a:lnTo>
                          <a:lnTo>
                            <a:pt x="67" y="4"/>
                          </a:lnTo>
                          <a:lnTo>
                            <a:pt x="94" y="17"/>
                          </a:lnTo>
                          <a:close/>
                        </a:path>
                      </a:pathLst>
                    </a:custGeom>
                    <a:solidFill>
                      <a:srgbClr val="ff1f3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850" name=""/>
                  <p:cNvGrpSpPr/>
                  <p:nvPr/>
                </p:nvGrpSpPr>
                <p:grpSpPr>
                  <a:xfrm>
                    <a:off x="1414440" y="1752480"/>
                    <a:ext cx="158760" cy="45000"/>
                    <a:chOff x="1414440" y="1752480"/>
                    <a:chExt cx="158760" cy="45000"/>
                  </a:xfrm>
                </p:grpSpPr>
                <p:grpSp>
                  <p:nvGrpSpPr>
                    <p:cNvPr id="851" name=""/>
                    <p:cNvGrpSpPr/>
                    <p:nvPr/>
                  </p:nvGrpSpPr>
                  <p:grpSpPr>
                    <a:xfrm>
                      <a:off x="1414440" y="1752480"/>
                      <a:ext cx="87840" cy="45000"/>
                      <a:chOff x="1414440" y="1752480"/>
                      <a:chExt cx="87840" cy="45000"/>
                    </a:xfrm>
                  </p:grpSpPr>
                  <p:sp>
                    <p:nvSpPr>
                      <p:cNvPr id="852" name=""/>
                      <p:cNvSpPr/>
                      <p:nvPr/>
                    </p:nvSpPr>
                    <p:spPr>
                      <a:xfrm>
                        <a:off x="1422360" y="1760400"/>
                        <a:ext cx="65520" cy="25920"/>
                      </a:xfrm>
                      <a:custGeom>
                        <a:avLst/>
                        <a:gdLst/>
                        <a:ahLst/>
                        <a:rect l="0" t="0" r="r" b="b"/>
                        <a:pathLst>
                          <a:path w="182" h="72">
                            <a:moveTo>
                              <a:pt x="143" y="0"/>
                            </a:moveTo>
                            <a:lnTo>
                              <a:pt x="102" y="0"/>
                            </a:lnTo>
                            <a:lnTo>
                              <a:pt x="49" y="8"/>
                            </a:lnTo>
                            <a:lnTo>
                              <a:pt x="0" y="27"/>
                            </a:lnTo>
                            <a:lnTo>
                              <a:pt x="26" y="27"/>
                            </a:lnTo>
                            <a:lnTo>
                              <a:pt x="53" y="45"/>
                            </a:lnTo>
                            <a:lnTo>
                              <a:pt x="93" y="59"/>
                            </a:lnTo>
                            <a:lnTo>
                              <a:pt x="173" y="72"/>
                            </a:lnTo>
                            <a:lnTo>
                              <a:pt x="182" y="45"/>
                            </a:lnTo>
                            <a:lnTo>
                              <a:pt x="182" y="17"/>
                            </a:lnTo>
                            <a:lnTo>
                              <a:pt x="143" y="0"/>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53" name=""/>
                      <p:cNvSpPr/>
                      <p:nvPr/>
                    </p:nvSpPr>
                    <p:spPr>
                      <a:xfrm>
                        <a:off x="1455840" y="1765440"/>
                        <a:ext cx="2844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854" name=""/>
                      <p:cNvGrpSpPr/>
                      <p:nvPr/>
                    </p:nvGrpSpPr>
                    <p:grpSpPr>
                      <a:xfrm>
                        <a:off x="1442880" y="1757520"/>
                        <a:ext cx="44280" cy="28440"/>
                        <a:chOff x="1442880" y="1757520"/>
                        <a:chExt cx="44280" cy="28440"/>
                      </a:xfrm>
                    </p:grpSpPr>
                    <p:sp>
                      <p:nvSpPr>
                        <p:cNvPr id="855" name=""/>
                        <p:cNvSpPr/>
                        <p:nvPr/>
                      </p:nvSpPr>
                      <p:spPr>
                        <a:xfrm>
                          <a:off x="1442880" y="1757520"/>
                          <a:ext cx="44280" cy="27000"/>
                        </a:xfrm>
                        <a:prstGeom prst="ellipse">
                          <a:avLst/>
                        </a:prstGeom>
                        <a:solidFill>
                          <a:srgbClr val="001f9f"/>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856" name=""/>
                        <p:cNvSpPr/>
                        <p:nvPr/>
                      </p:nvSpPr>
                      <p:spPr>
                        <a:xfrm>
                          <a:off x="1457280" y="1760400"/>
                          <a:ext cx="2700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857" name=""/>
                      <p:cNvSpPr/>
                      <p:nvPr/>
                    </p:nvSpPr>
                    <p:spPr>
                      <a:xfrm>
                        <a:off x="1465200" y="176220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858" name=""/>
                      <p:cNvGrpSpPr/>
                      <p:nvPr/>
                    </p:nvGrpSpPr>
                    <p:grpSpPr>
                      <a:xfrm>
                        <a:off x="1414440" y="1752480"/>
                        <a:ext cx="87840" cy="45000"/>
                        <a:chOff x="1414440" y="1752480"/>
                        <a:chExt cx="87840" cy="45000"/>
                      </a:xfrm>
                    </p:grpSpPr>
                    <p:sp>
                      <p:nvSpPr>
                        <p:cNvPr id="859" name=""/>
                        <p:cNvSpPr/>
                        <p:nvPr/>
                      </p:nvSpPr>
                      <p:spPr>
                        <a:xfrm>
                          <a:off x="1414440" y="1752480"/>
                          <a:ext cx="87840" cy="25920"/>
                        </a:xfrm>
                        <a:custGeom>
                          <a:avLst/>
                          <a:gdLst/>
                          <a:ahLst/>
                          <a:rect l="0" t="0" r="r" b="b"/>
                          <a:pathLst>
                            <a:path w="244" h="72">
                              <a:moveTo>
                                <a:pt x="244" y="27"/>
                              </a:moveTo>
                              <a:lnTo>
                                <a:pt x="213" y="49"/>
                              </a:lnTo>
                              <a:lnTo>
                                <a:pt x="196" y="45"/>
                              </a:lnTo>
                              <a:lnTo>
                                <a:pt x="155" y="31"/>
                              </a:lnTo>
                              <a:lnTo>
                                <a:pt x="133" y="23"/>
                              </a:lnTo>
                              <a:lnTo>
                                <a:pt x="120" y="31"/>
                              </a:lnTo>
                              <a:lnTo>
                                <a:pt x="89" y="31"/>
                              </a:lnTo>
                              <a:lnTo>
                                <a:pt x="67" y="45"/>
                              </a:lnTo>
                              <a:lnTo>
                                <a:pt x="48" y="49"/>
                              </a:lnTo>
                              <a:lnTo>
                                <a:pt x="22" y="63"/>
                              </a:lnTo>
                              <a:lnTo>
                                <a:pt x="0" y="72"/>
                              </a:lnTo>
                              <a:lnTo>
                                <a:pt x="22" y="49"/>
                              </a:lnTo>
                              <a:lnTo>
                                <a:pt x="52" y="40"/>
                              </a:lnTo>
                              <a:lnTo>
                                <a:pt x="80" y="23"/>
                              </a:lnTo>
                              <a:lnTo>
                                <a:pt x="106" y="13"/>
                              </a:lnTo>
                              <a:lnTo>
                                <a:pt x="142" y="0"/>
                              </a:lnTo>
                              <a:lnTo>
                                <a:pt x="164" y="13"/>
                              </a:lnTo>
                              <a:lnTo>
                                <a:pt x="213" y="31"/>
                              </a:lnTo>
                              <a:lnTo>
                                <a:pt x="244" y="27"/>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60" name=""/>
                        <p:cNvSpPr/>
                        <p:nvPr/>
                      </p:nvSpPr>
                      <p:spPr>
                        <a:xfrm>
                          <a:off x="1428840" y="1771560"/>
                          <a:ext cx="62280" cy="25920"/>
                        </a:xfrm>
                        <a:custGeom>
                          <a:avLst/>
                          <a:gdLst/>
                          <a:ahLst/>
                          <a:rect l="0" t="0" r="r" b="b"/>
                          <a:pathLst>
                            <a:path w="173" h="72">
                              <a:moveTo>
                                <a:pt x="165" y="23"/>
                              </a:moveTo>
                              <a:lnTo>
                                <a:pt x="128" y="31"/>
                              </a:lnTo>
                              <a:lnTo>
                                <a:pt x="111" y="40"/>
                              </a:lnTo>
                              <a:lnTo>
                                <a:pt x="75" y="27"/>
                              </a:lnTo>
                              <a:lnTo>
                                <a:pt x="53" y="23"/>
                              </a:lnTo>
                              <a:lnTo>
                                <a:pt x="30" y="4"/>
                              </a:lnTo>
                              <a:lnTo>
                                <a:pt x="8" y="0"/>
                              </a:lnTo>
                              <a:lnTo>
                                <a:pt x="0" y="0"/>
                              </a:lnTo>
                              <a:lnTo>
                                <a:pt x="30" y="23"/>
                              </a:lnTo>
                              <a:lnTo>
                                <a:pt x="49" y="27"/>
                              </a:lnTo>
                              <a:lnTo>
                                <a:pt x="67" y="40"/>
                              </a:lnTo>
                              <a:lnTo>
                                <a:pt x="89" y="53"/>
                              </a:lnTo>
                              <a:lnTo>
                                <a:pt x="106" y="53"/>
                              </a:lnTo>
                              <a:lnTo>
                                <a:pt x="124" y="59"/>
                              </a:lnTo>
                              <a:lnTo>
                                <a:pt x="173" y="72"/>
                              </a:lnTo>
                              <a:lnTo>
                                <a:pt x="156" y="49"/>
                              </a:lnTo>
                              <a:lnTo>
                                <a:pt x="165" y="2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nvGrpSpPr>
                    <p:cNvPr id="861" name=""/>
                    <p:cNvGrpSpPr/>
                    <p:nvPr/>
                  </p:nvGrpSpPr>
                  <p:grpSpPr>
                    <a:xfrm>
                      <a:off x="1530360" y="1766880"/>
                      <a:ext cx="42840" cy="30240"/>
                      <a:chOff x="1530360" y="1766880"/>
                      <a:chExt cx="42840" cy="30240"/>
                    </a:xfrm>
                  </p:grpSpPr>
                  <p:sp>
                    <p:nvSpPr>
                      <p:cNvPr id="862" name=""/>
                      <p:cNvSpPr/>
                      <p:nvPr/>
                    </p:nvSpPr>
                    <p:spPr>
                      <a:xfrm>
                        <a:off x="1546200" y="1768320"/>
                        <a:ext cx="2556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863" name=""/>
                      <p:cNvGrpSpPr/>
                      <p:nvPr/>
                    </p:nvGrpSpPr>
                    <p:grpSpPr>
                      <a:xfrm>
                        <a:off x="1536840" y="1768320"/>
                        <a:ext cx="34920" cy="28800"/>
                        <a:chOff x="1536840" y="1768320"/>
                        <a:chExt cx="34920" cy="28800"/>
                      </a:xfrm>
                    </p:grpSpPr>
                    <p:sp>
                      <p:nvSpPr>
                        <p:cNvPr id="864" name=""/>
                        <p:cNvSpPr/>
                        <p:nvPr/>
                      </p:nvSpPr>
                      <p:spPr>
                        <a:xfrm>
                          <a:off x="1536840" y="1768320"/>
                          <a:ext cx="25920" cy="25920"/>
                        </a:xfrm>
                        <a:custGeom>
                          <a:avLst/>
                          <a:gdLst/>
                          <a:ahLst/>
                          <a:rect l="0" t="0" r="r" b="b"/>
                          <a:pathLst>
                            <a:path w="72" h="72">
                              <a:moveTo>
                                <a:pt x="68" y="8"/>
                              </a:moveTo>
                              <a:lnTo>
                                <a:pt x="72" y="4"/>
                              </a:lnTo>
                              <a:lnTo>
                                <a:pt x="40" y="0"/>
                              </a:lnTo>
                              <a:lnTo>
                                <a:pt x="17" y="4"/>
                              </a:lnTo>
                              <a:lnTo>
                                <a:pt x="0" y="27"/>
                              </a:lnTo>
                              <a:lnTo>
                                <a:pt x="17" y="53"/>
                              </a:lnTo>
                              <a:lnTo>
                                <a:pt x="40" y="72"/>
                              </a:lnTo>
                              <a:lnTo>
                                <a:pt x="49" y="53"/>
                              </a:lnTo>
                              <a:lnTo>
                                <a:pt x="68" y="31"/>
                              </a:lnTo>
                              <a:lnTo>
                                <a:pt x="68" y="8"/>
                              </a:lnTo>
                              <a:close/>
                            </a:path>
                          </a:pathLst>
                        </a:custGeom>
                        <a:solidFill>
                          <a:srgbClr val="001f9f"/>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65" name=""/>
                        <p:cNvSpPr/>
                        <p:nvPr/>
                      </p:nvSpPr>
                      <p:spPr>
                        <a:xfrm>
                          <a:off x="1546200" y="17715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866" name=""/>
                      <p:cNvSpPr/>
                      <p:nvPr/>
                    </p:nvSpPr>
                    <p:spPr>
                      <a:xfrm>
                        <a:off x="1547640" y="17715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867" name=""/>
                      <p:cNvGrpSpPr/>
                      <p:nvPr/>
                    </p:nvGrpSpPr>
                    <p:grpSpPr>
                      <a:xfrm>
                        <a:off x="1530360" y="1766880"/>
                        <a:ext cx="41760" cy="28800"/>
                        <a:chOff x="1530360" y="1766880"/>
                        <a:chExt cx="41760" cy="28800"/>
                      </a:xfrm>
                    </p:grpSpPr>
                    <p:sp>
                      <p:nvSpPr>
                        <p:cNvPr id="868" name=""/>
                        <p:cNvSpPr/>
                        <p:nvPr/>
                      </p:nvSpPr>
                      <p:spPr>
                        <a:xfrm>
                          <a:off x="1530360" y="1768320"/>
                          <a:ext cx="25920" cy="27360"/>
                        </a:xfrm>
                        <a:custGeom>
                          <a:avLst/>
                          <a:gdLst/>
                          <a:ahLst/>
                          <a:rect l="0" t="0" r="r" b="b"/>
                          <a:pathLst>
                            <a:path w="72" h="76">
                              <a:moveTo>
                                <a:pt x="72" y="76"/>
                              </a:moveTo>
                              <a:lnTo>
                                <a:pt x="59" y="63"/>
                              </a:lnTo>
                              <a:lnTo>
                                <a:pt x="27" y="49"/>
                              </a:lnTo>
                              <a:lnTo>
                                <a:pt x="8" y="27"/>
                              </a:lnTo>
                              <a:lnTo>
                                <a:pt x="0" y="0"/>
                              </a:lnTo>
                              <a:lnTo>
                                <a:pt x="0" y="27"/>
                              </a:lnTo>
                              <a:lnTo>
                                <a:pt x="23" y="49"/>
                              </a:lnTo>
                              <a:lnTo>
                                <a:pt x="72" y="76"/>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869" name=""/>
                        <p:cNvSpPr/>
                        <p:nvPr/>
                      </p:nvSpPr>
                      <p:spPr>
                        <a:xfrm>
                          <a:off x="1536840" y="1766880"/>
                          <a:ext cx="35280" cy="25920"/>
                        </a:xfrm>
                        <a:custGeom>
                          <a:avLst/>
                          <a:gdLst/>
                          <a:ahLst/>
                          <a:rect l="0" t="0" r="r" b="b"/>
                          <a:pathLst>
                            <a:path w="98" h="72">
                              <a:moveTo>
                                <a:pt x="0" y="13"/>
                              </a:moveTo>
                              <a:lnTo>
                                <a:pt x="26" y="0"/>
                              </a:lnTo>
                              <a:lnTo>
                                <a:pt x="53" y="0"/>
                              </a:lnTo>
                              <a:lnTo>
                                <a:pt x="80" y="13"/>
                              </a:lnTo>
                              <a:lnTo>
                                <a:pt x="98" y="36"/>
                              </a:lnTo>
                              <a:lnTo>
                                <a:pt x="75" y="72"/>
                              </a:lnTo>
                              <a:lnTo>
                                <a:pt x="53" y="36"/>
                              </a:lnTo>
                              <a:lnTo>
                                <a:pt x="26" y="13"/>
                              </a:lnTo>
                              <a:lnTo>
                                <a:pt x="0" y="1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grpSp>
            <p:grpSp>
              <p:nvGrpSpPr>
                <p:cNvPr id="870" name=""/>
                <p:cNvGrpSpPr/>
                <p:nvPr/>
              </p:nvGrpSpPr>
              <p:grpSpPr>
                <a:xfrm>
                  <a:off x="942840" y="1446120"/>
                  <a:ext cx="684720" cy="692640"/>
                  <a:chOff x="942840" y="1446120"/>
                  <a:chExt cx="684720" cy="692640"/>
                </a:xfrm>
              </p:grpSpPr>
              <p:sp>
                <p:nvSpPr>
                  <p:cNvPr id="871" name=""/>
                  <p:cNvSpPr/>
                  <p:nvPr/>
                </p:nvSpPr>
                <p:spPr>
                  <a:xfrm>
                    <a:off x="1389240" y="1714680"/>
                    <a:ext cx="128880" cy="35280"/>
                  </a:xfrm>
                  <a:custGeom>
                    <a:avLst/>
                    <a:gdLst/>
                    <a:ahLst/>
                    <a:rect l="0" t="0" r="r" b="b"/>
                    <a:pathLst>
                      <a:path w="358" h="98">
                        <a:moveTo>
                          <a:pt x="358" y="98"/>
                        </a:moveTo>
                        <a:lnTo>
                          <a:pt x="349" y="53"/>
                        </a:lnTo>
                        <a:lnTo>
                          <a:pt x="340" y="30"/>
                        </a:lnTo>
                        <a:lnTo>
                          <a:pt x="318" y="13"/>
                        </a:lnTo>
                        <a:lnTo>
                          <a:pt x="274" y="4"/>
                        </a:lnTo>
                        <a:lnTo>
                          <a:pt x="199" y="0"/>
                        </a:lnTo>
                        <a:lnTo>
                          <a:pt x="127" y="8"/>
                        </a:lnTo>
                        <a:lnTo>
                          <a:pt x="74" y="35"/>
                        </a:lnTo>
                        <a:lnTo>
                          <a:pt x="44" y="53"/>
                        </a:lnTo>
                        <a:lnTo>
                          <a:pt x="0" y="71"/>
                        </a:lnTo>
                        <a:lnTo>
                          <a:pt x="30" y="71"/>
                        </a:lnTo>
                        <a:lnTo>
                          <a:pt x="52" y="80"/>
                        </a:lnTo>
                        <a:lnTo>
                          <a:pt x="92" y="62"/>
                        </a:lnTo>
                        <a:lnTo>
                          <a:pt x="136" y="53"/>
                        </a:lnTo>
                        <a:lnTo>
                          <a:pt x="203" y="44"/>
                        </a:lnTo>
                        <a:lnTo>
                          <a:pt x="287" y="53"/>
                        </a:lnTo>
                        <a:lnTo>
                          <a:pt x="318" y="71"/>
                        </a:lnTo>
                        <a:lnTo>
                          <a:pt x="336" y="98"/>
                        </a:lnTo>
                        <a:lnTo>
                          <a:pt x="358" y="98"/>
                        </a:lnTo>
                        <a:close/>
                      </a:path>
                    </a:pathLst>
                  </a:custGeom>
                  <a:solidFill>
                    <a:srgbClr val="5f3f1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872" name=""/>
                  <p:cNvSpPr/>
                  <p:nvPr/>
                </p:nvSpPr>
                <p:spPr>
                  <a:xfrm>
                    <a:off x="1539720" y="1733400"/>
                    <a:ext cx="39960" cy="27360"/>
                  </a:xfrm>
                  <a:custGeom>
                    <a:avLst/>
                    <a:gdLst/>
                    <a:ahLst/>
                    <a:rect l="0" t="0" r="r" b="b"/>
                    <a:pathLst>
                      <a:path w="111" h="76">
                        <a:moveTo>
                          <a:pt x="111" y="0"/>
                        </a:moveTo>
                        <a:lnTo>
                          <a:pt x="80" y="0"/>
                        </a:lnTo>
                        <a:lnTo>
                          <a:pt x="48" y="17"/>
                        </a:lnTo>
                        <a:lnTo>
                          <a:pt x="26" y="31"/>
                        </a:lnTo>
                        <a:lnTo>
                          <a:pt x="0" y="76"/>
                        </a:lnTo>
                        <a:lnTo>
                          <a:pt x="44" y="49"/>
                        </a:lnTo>
                        <a:lnTo>
                          <a:pt x="75" y="45"/>
                        </a:lnTo>
                        <a:lnTo>
                          <a:pt x="102" y="40"/>
                        </a:lnTo>
                        <a:lnTo>
                          <a:pt x="111" y="0"/>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grpSp>
                <p:nvGrpSpPr>
                  <p:cNvPr id="873" name=""/>
                  <p:cNvGrpSpPr/>
                  <p:nvPr/>
                </p:nvGrpSpPr>
                <p:grpSpPr>
                  <a:xfrm>
                    <a:off x="942840" y="1446120"/>
                    <a:ext cx="684720" cy="692640"/>
                    <a:chOff x="942840" y="1446120"/>
                    <a:chExt cx="684720" cy="692640"/>
                  </a:xfrm>
                </p:grpSpPr>
                <p:sp>
                  <p:nvSpPr>
                    <p:cNvPr id="874" name=""/>
                    <p:cNvSpPr/>
                    <p:nvPr/>
                  </p:nvSpPr>
                  <p:spPr>
                    <a:xfrm>
                      <a:off x="942840" y="1446120"/>
                      <a:ext cx="684720" cy="692640"/>
                    </a:xfrm>
                    <a:custGeom>
                      <a:avLst/>
                      <a:gdLst/>
                      <a:ahLst/>
                      <a:rect l="0" t="0" r="r" b="b"/>
                      <a:pathLst>
                        <a:path w="1902" h="1924">
                          <a:moveTo>
                            <a:pt x="1779" y="583"/>
                          </a:moveTo>
                          <a:lnTo>
                            <a:pt x="1796" y="653"/>
                          </a:lnTo>
                          <a:lnTo>
                            <a:pt x="1801" y="702"/>
                          </a:lnTo>
                          <a:lnTo>
                            <a:pt x="1796" y="746"/>
                          </a:lnTo>
                          <a:lnTo>
                            <a:pt x="1787" y="781"/>
                          </a:lnTo>
                          <a:lnTo>
                            <a:pt x="1832" y="750"/>
                          </a:lnTo>
                          <a:lnTo>
                            <a:pt x="1871" y="702"/>
                          </a:lnTo>
                          <a:lnTo>
                            <a:pt x="1893" y="662"/>
                          </a:lnTo>
                          <a:lnTo>
                            <a:pt x="1902" y="583"/>
                          </a:lnTo>
                          <a:lnTo>
                            <a:pt x="1880" y="494"/>
                          </a:lnTo>
                          <a:lnTo>
                            <a:pt x="1845" y="427"/>
                          </a:lnTo>
                          <a:lnTo>
                            <a:pt x="1796" y="357"/>
                          </a:lnTo>
                          <a:lnTo>
                            <a:pt x="1735" y="286"/>
                          </a:lnTo>
                          <a:lnTo>
                            <a:pt x="1664" y="224"/>
                          </a:lnTo>
                          <a:lnTo>
                            <a:pt x="1598" y="180"/>
                          </a:lnTo>
                          <a:lnTo>
                            <a:pt x="1532" y="145"/>
                          </a:lnTo>
                          <a:lnTo>
                            <a:pt x="1430" y="101"/>
                          </a:lnTo>
                          <a:lnTo>
                            <a:pt x="1359" y="74"/>
                          </a:lnTo>
                          <a:lnTo>
                            <a:pt x="1332" y="35"/>
                          </a:lnTo>
                          <a:lnTo>
                            <a:pt x="1306" y="22"/>
                          </a:lnTo>
                          <a:lnTo>
                            <a:pt x="1262" y="4"/>
                          </a:lnTo>
                          <a:lnTo>
                            <a:pt x="1213" y="4"/>
                          </a:lnTo>
                          <a:lnTo>
                            <a:pt x="1134" y="22"/>
                          </a:lnTo>
                          <a:lnTo>
                            <a:pt x="1068" y="4"/>
                          </a:lnTo>
                          <a:lnTo>
                            <a:pt x="1024" y="0"/>
                          </a:lnTo>
                          <a:lnTo>
                            <a:pt x="984" y="4"/>
                          </a:lnTo>
                          <a:lnTo>
                            <a:pt x="927" y="8"/>
                          </a:lnTo>
                          <a:lnTo>
                            <a:pt x="882" y="44"/>
                          </a:lnTo>
                          <a:lnTo>
                            <a:pt x="825" y="26"/>
                          </a:lnTo>
                          <a:lnTo>
                            <a:pt x="768" y="22"/>
                          </a:lnTo>
                          <a:lnTo>
                            <a:pt x="710" y="44"/>
                          </a:lnTo>
                          <a:lnTo>
                            <a:pt x="622" y="83"/>
                          </a:lnTo>
                          <a:lnTo>
                            <a:pt x="565" y="141"/>
                          </a:lnTo>
                          <a:lnTo>
                            <a:pt x="503" y="211"/>
                          </a:lnTo>
                          <a:lnTo>
                            <a:pt x="449" y="273"/>
                          </a:lnTo>
                          <a:lnTo>
                            <a:pt x="396" y="326"/>
                          </a:lnTo>
                          <a:lnTo>
                            <a:pt x="357" y="396"/>
                          </a:lnTo>
                          <a:lnTo>
                            <a:pt x="326" y="480"/>
                          </a:lnTo>
                          <a:lnTo>
                            <a:pt x="277" y="587"/>
                          </a:lnTo>
                          <a:lnTo>
                            <a:pt x="229" y="733"/>
                          </a:lnTo>
                          <a:lnTo>
                            <a:pt x="180" y="887"/>
                          </a:lnTo>
                          <a:lnTo>
                            <a:pt x="145" y="1059"/>
                          </a:lnTo>
                          <a:lnTo>
                            <a:pt x="114" y="1165"/>
                          </a:lnTo>
                          <a:lnTo>
                            <a:pt x="97" y="1288"/>
                          </a:lnTo>
                          <a:lnTo>
                            <a:pt x="61" y="1425"/>
                          </a:lnTo>
                          <a:lnTo>
                            <a:pt x="26" y="1554"/>
                          </a:lnTo>
                          <a:lnTo>
                            <a:pt x="8" y="1624"/>
                          </a:lnTo>
                          <a:lnTo>
                            <a:pt x="0" y="1704"/>
                          </a:lnTo>
                          <a:lnTo>
                            <a:pt x="8" y="1770"/>
                          </a:lnTo>
                          <a:lnTo>
                            <a:pt x="26" y="1818"/>
                          </a:lnTo>
                          <a:lnTo>
                            <a:pt x="35" y="1809"/>
                          </a:lnTo>
                          <a:lnTo>
                            <a:pt x="61" y="1858"/>
                          </a:lnTo>
                          <a:lnTo>
                            <a:pt x="88" y="1889"/>
                          </a:lnTo>
                          <a:lnTo>
                            <a:pt x="127" y="1902"/>
                          </a:lnTo>
                          <a:lnTo>
                            <a:pt x="145" y="1889"/>
                          </a:lnTo>
                          <a:lnTo>
                            <a:pt x="154" y="1911"/>
                          </a:lnTo>
                          <a:lnTo>
                            <a:pt x="171" y="1924"/>
                          </a:lnTo>
                          <a:lnTo>
                            <a:pt x="207" y="1911"/>
                          </a:lnTo>
                          <a:lnTo>
                            <a:pt x="242" y="1889"/>
                          </a:lnTo>
                          <a:lnTo>
                            <a:pt x="277" y="1867"/>
                          </a:lnTo>
                          <a:lnTo>
                            <a:pt x="304" y="1858"/>
                          </a:lnTo>
                          <a:lnTo>
                            <a:pt x="366" y="1876"/>
                          </a:lnTo>
                          <a:lnTo>
                            <a:pt x="423" y="1880"/>
                          </a:lnTo>
                          <a:lnTo>
                            <a:pt x="467" y="1867"/>
                          </a:lnTo>
                          <a:lnTo>
                            <a:pt x="454" y="1854"/>
                          </a:lnTo>
                          <a:lnTo>
                            <a:pt x="516" y="1880"/>
                          </a:lnTo>
                          <a:lnTo>
                            <a:pt x="574" y="1889"/>
                          </a:lnTo>
                          <a:lnTo>
                            <a:pt x="640" y="1880"/>
                          </a:lnTo>
                          <a:lnTo>
                            <a:pt x="693" y="1854"/>
                          </a:lnTo>
                          <a:lnTo>
                            <a:pt x="746" y="1814"/>
                          </a:lnTo>
                          <a:lnTo>
                            <a:pt x="763" y="1770"/>
                          </a:lnTo>
                          <a:lnTo>
                            <a:pt x="768" y="1717"/>
                          </a:lnTo>
                          <a:lnTo>
                            <a:pt x="816" y="1735"/>
                          </a:lnTo>
                          <a:lnTo>
                            <a:pt x="777" y="1686"/>
                          </a:lnTo>
                          <a:lnTo>
                            <a:pt x="750" y="1633"/>
                          </a:lnTo>
                          <a:lnTo>
                            <a:pt x="710" y="1523"/>
                          </a:lnTo>
                          <a:lnTo>
                            <a:pt x="671" y="1416"/>
                          </a:lnTo>
                          <a:lnTo>
                            <a:pt x="644" y="1284"/>
                          </a:lnTo>
                          <a:lnTo>
                            <a:pt x="618" y="1138"/>
                          </a:lnTo>
                          <a:lnTo>
                            <a:pt x="596" y="843"/>
                          </a:lnTo>
                          <a:lnTo>
                            <a:pt x="719" y="843"/>
                          </a:lnTo>
                          <a:lnTo>
                            <a:pt x="759" y="887"/>
                          </a:lnTo>
                          <a:lnTo>
                            <a:pt x="777" y="935"/>
                          </a:lnTo>
                          <a:lnTo>
                            <a:pt x="825" y="957"/>
                          </a:lnTo>
                          <a:lnTo>
                            <a:pt x="869" y="966"/>
                          </a:lnTo>
                          <a:lnTo>
                            <a:pt x="896" y="944"/>
                          </a:lnTo>
                          <a:lnTo>
                            <a:pt x="944" y="900"/>
                          </a:lnTo>
                          <a:lnTo>
                            <a:pt x="975" y="838"/>
                          </a:lnTo>
                          <a:lnTo>
                            <a:pt x="1010" y="772"/>
                          </a:lnTo>
                          <a:lnTo>
                            <a:pt x="1059" y="702"/>
                          </a:lnTo>
                          <a:lnTo>
                            <a:pt x="1112" y="680"/>
                          </a:lnTo>
                          <a:lnTo>
                            <a:pt x="1134" y="662"/>
                          </a:lnTo>
                          <a:lnTo>
                            <a:pt x="1129" y="631"/>
                          </a:lnTo>
                          <a:lnTo>
                            <a:pt x="1121" y="600"/>
                          </a:lnTo>
                          <a:lnTo>
                            <a:pt x="1143" y="543"/>
                          </a:lnTo>
                          <a:lnTo>
                            <a:pt x="1178" y="490"/>
                          </a:lnTo>
                          <a:lnTo>
                            <a:pt x="1213" y="454"/>
                          </a:lnTo>
                          <a:lnTo>
                            <a:pt x="1262" y="414"/>
                          </a:lnTo>
                          <a:lnTo>
                            <a:pt x="1337" y="374"/>
                          </a:lnTo>
                          <a:lnTo>
                            <a:pt x="1407" y="366"/>
                          </a:lnTo>
                          <a:lnTo>
                            <a:pt x="1466" y="374"/>
                          </a:lnTo>
                          <a:lnTo>
                            <a:pt x="1567" y="396"/>
                          </a:lnTo>
                          <a:lnTo>
                            <a:pt x="1611" y="432"/>
                          </a:lnTo>
                          <a:lnTo>
                            <a:pt x="1664" y="490"/>
                          </a:lnTo>
                          <a:lnTo>
                            <a:pt x="1699" y="556"/>
                          </a:lnTo>
                          <a:lnTo>
                            <a:pt x="1721" y="613"/>
                          </a:lnTo>
                          <a:lnTo>
                            <a:pt x="1739" y="680"/>
                          </a:lnTo>
                          <a:lnTo>
                            <a:pt x="1735" y="759"/>
                          </a:lnTo>
                          <a:lnTo>
                            <a:pt x="1761" y="728"/>
                          </a:lnTo>
                          <a:lnTo>
                            <a:pt x="1774" y="693"/>
                          </a:lnTo>
                          <a:lnTo>
                            <a:pt x="1783" y="649"/>
                          </a:lnTo>
                          <a:lnTo>
                            <a:pt x="1779" y="583"/>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75" name=""/>
                    <p:cNvGrpSpPr/>
                    <p:nvPr/>
                  </p:nvGrpSpPr>
                  <p:grpSpPr>
                    <a:xfrm>
                      <a:off x="955800" y="1484280"/>
                      <a:ext cx="544680" cy="605520"/>
                      <a:chOff x="955800" y="1484280"/>
                      <a:chExt cx="544680" cy="605520"/>
                    </a:xfrm>
                  </p:grpSpPr>
                  <p:sp>
                    <p:nvSpPr>
                      <p:cNvPr id="876" name=""/>
                      <p:cNvSpPr/>
                      <p:nvPr/>
                    </p:nvSpPr>
                    <p:spPr>
                      <a:xfrm>
                        <a:off x="1114560" y="1827360"/>
                        <a:ext cx="68760" cy="241560"/>
                      </a:xfrm>
                      <a:custGeom>
                        <a:avLst/>
                        <a:gdLst/>
                        <a:ahLst/>
                        <a:rect l="0" t="0" r="r" b="b"/>
                        <a:pathLst>
                          <a:path w="191" h="671">
                            <a:moveTo>
                              <a:pt x="111" y="35"/>
                            </a:moveTo>
                            <a:lnTo>
                              <a:pt x="115" y="141"/>
                            </a:lnTo>
                            <a:lnTo>
                              <a:pt x="124" y="264"/>
                            </a:lnTo>
                            <a:lnTo>
                              <a:pt x="147" y="367"/>
                            </a:lnTo>
                            <a:lnTo>
                              <a:pt x="191" y="543"/>
                            </a:lnTo>
                            <a:lnTo>
                              <a:pt x="142" y="477"/>
                            </a:lnTo>
                            <a:lnTo>
                              <a:pt x="115" y="397"/>
                            </a:lnTo>
                            <a:lnTo>
                              <a:pt x="98" y="344"/>
                            </a:lnTo>
                            <a:lnTo>
                              <a:pt x="71" y="264"/>
                            </a:lnTo>
                            <a:lnTo>
                              <a:pt x="53" y="384"/>
                            </a:lnTo>
                            <a:lnTo>
                              <a:pt x="53" y="490"/>
                            </a:lnTo>
                            <a:lnTo>
                              <a:pt x="62" y="565"/>
                            </a:lnTo>
                            <a:lnTo>
                              <a:pt x="26" y="671"/>
                            </a:lnTo>
                            <a:lnTo>
                              <a:pt x="13" y="389"/>
                            </a:lnTo>
                            <a:lnTo>
                              <a:pt x="0" y="242"/>
                            </a:lnTo>
                            <a:lnTo>
                              <a:pt x="4" y="101"/>
                            </a:lnTo>
                            <a:lnTo>
                              <a:pt x="17" y="0"/>
                            </a:lnTo>
                            <a:lnTo>
                              <a:pt x="49" y="83"/>
                            </a:lnTo>
                            <a:lnTo>
                              <a:pt x="71" y="163"/>
                            </a:lnTo>
                            <a:lnTo>
                              <a:pt x="89" y="97"/>
                            </a:lnTo>
                            <a:lnTo>
                              <a:pt x="111" y="35"/>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7" name=""/>
                      <p:cNvSpPr/>
                      <p:nvPr/>
                    </p:nvSpPr>
                    <p:spPr>
                      <a:xfrm>
                        <a:off x="955800" y="1676520"/>
                        <a:ext cx="181440" cy="413280"/>
                      </a:xfrm>
                      <a:custGeom>
                        <a:avLst/>
                        <a:gdLst/>
                        <a:ahLst/>
                        <a:rect l="0" t="0" r="r" b="b"/>
                        <a:pathLst>
                          <a:path w="504" h="1148">
                            <a:moveTo>
                              <a:pt x="265" y="1077"/>
                            </a:moveTo>
                            <a:lnTo>
                              <a:pt x="296" y="897"/>
                            </a:lnTo>
                            <a:lnTo>
                              <a:pt x="309" y="755"/>
                            </a:lnTo>
                            <a:lnTo>
                              <a:pt x="336" y="583"/>
                            </a:lnTo>
                            <a:lnTo>
                              <a:pt x="340" y="671"/>
                            </a:lnTo>
                            <a:lnTo>
                              <a:pt x="349" y="785"/>
                            </a:lnTo>
                            <a:lnTo>
                              <a:pt x="385" y="658"/>
                            </a:lnTo>
                            <a:lnTo>
                              <a:pt x="394" y="561"/>
                            </a:lnTo>
                            <a:lnTo>
                              <a:pt x="385" y="455"/>
                            </a:lnTo>
                            <a:lnTo>
                              <a:pt x="412" y="353"/>
                            </a:lnTo>
                            <a:lnTo>
                              <a:pt x="442" y="238"/>
                            </a:lnTo>
                            <a:lnTo>
                              <a:pt x="504" y="70"/>
                            </a:lnTo>
                            <a:lnTo>
                              <a:pt x="425" y="198"/>
                            </a:lnTo>
                            <a:lnTo>
                              <a:pt x="362" y="305"/>
                            </a:lnTo>
                            <a:lnTo>
                              <a:pt x="300" y="450"/>
                            </a:lnTo>
                            <a:lnTo>
                              <a:pt x="318" y="296"/>
                            </a:lnTo>
                            <a:lnTo>
                              <a:pt x="336" y="158"/>
                            </a:lnTo>
                            <a:lnTo>
                              <a:pt x="362" y="0"/>
                            </a:lnTo>
                            <a:lnTo>
                              <a:pt x="314" y="136"/>
                            </a:lnTo>
                            <a:lnTo>
                              <a:pt x="274" y="251"/>
                            </a:lnTo>
                            <a:lnTo>
                              <a:pt x="243" y="375"/>
                            </a:lnTo>
                            <a:lnTo>
                              <a:pt x="221" y="455"/>
                            </a:lnTo>
                            <a:lnTo>
                              <a:pt x="177" y="521"/>
                            </a:lnTo>
                            <a:lnTo>
                              <a:pt x="119" y="609"/>
                            </a:lnTo>
                            <a:lnTo>
                              <a:pt x="79" y="693"/>
                            </a:lnTo>
                            <a:lnTo>
                              <a:pt x="52" y="790"/>
                            </a:lnTo>
                            <a:lnTo>
                              <a:pt x="26" y="883"/>
                            </a:lnTo>
                            <a:lnTo>
                              <a:pt x="17" y="963"/>
                            </a:lnTo>
                            <a:lnTo>
                              <a:pt x="13" y="1020"/>
                            </a:lnTo>
                            <a:lnTo>
                              <a:pt x="0" y="1073"/>
                            </a:lnTo>
                            <a:lnTo>
                              <a:pt x="13" y="1148"/>
                            </a:lnTo>
                            <a:lnTo>
                              <a:pt x="48" y="1073"/>
                            </a:lnTo>
                            <a:lnTo>
                              <a:pt x="70" y="1148"/>
                            </a:lnTo>
                            <a:lnTo>
                              <a:pt x="92" y="1091"/>
                            </a:lnTo>
                            <a:lnTo>
                              <a:pt x="92" y="1042"/>
                            </a:lnTo>
                            <a:lnTo>
                              <a:pt x="88" y="945"/>
                            </a:lnTo>
                            <a:lnTo>
                              <a:pt x="92" y="856"/>
                            </a:lnTo>
                            <a:lnTo>
                              <a:pt x="110" y="763"/>
                            </a:lnTo>
                            <a:lnTo>
                              <a:pt x="159" y="671"/>
                            </a:lnTo>
                            <a:lnTo>
                              <a:pt x="199" y="583"/>
                            </a:lnTo>
                            <a:lnTo>
                              <a:pt x="190" y="777"/>
                            </a:lnTo>
                            <a:lnTo>
                              <a:pt x="269" y="538"/>
                            </a:lnTo>
                            <a:lnTo>
                              <a:pt x="247" y="746"/>
                            </a:lnTo>
                            <a:lnTo>
                              <a:pt x="243" y="883"/>
                            </a:lnTo>
                            <a:lnTo>
                              <a:pt x="265" y="1077"/>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8" name=""/>
                      <p:cNvSpPr/>
                      <p:nvPr/>
                    </p:nvSpPr>
                    <p:spPr>
                      <a:xfrm>
                        <a:off x="1208160" y="1484280"/>
                        <a:ext cx="292320" cy="101880"/>
                      </a:xfrm>
                      <a:custGeom>
                        <a:avLst/>
                        <a:gdLst/>
                        <a:ahLst/>
                        <a:rect l="0" t="0" r="r" b="b"/>
                        <a:pathLst>
                          <a:path w="812" h="283">
                            <a:moveTo>
                              <a:pt x="812" y="283"/>
                            </a:moveTo>
                            <a:lnTo>
                              <a:pt x="777" y="278"/>
                            </a:lnTo>
                            <a:lnTo>
                              <a:pt x="719" y="265"/>
                            </a:lnTo>
                            <a:lnTo>
                              <a:pt x="680" y="261"/>
                            </a:lnTo>
                            <a:lnTo>
                              <a:pt x="640" y="261"/>
                            </a:lnTo>
                            <a:lnTo>
                              <a:pt x="627" y="203"/>
                            </a:lnTo>
                            <a:lnTo>
                              <a:pt x="596" y="146"/>
                            </a:lnTo>
                            <a:lnTo>
                              <a:pt x="552" y="105"/>
                            </a:lnTo>
                            <a:lnTo>
                              <a:pt x="503" y="74"/>
                            </a:lnTo>
                            <a:lnTo>
                              <a:pt x="459" y="66"/>
                            </a:lnTo>
                            <a:lnTo>
                              <a:pt x="411" y="66"/>
                            </a:lnTo>
                            <a:lnTo>
                              <a:pt x="304" y="83"/>
                            </a:lnTo>
                            <a:lnTo>
                              <a:pt x="211" y="88"/>
                            </a:lnTo>
                            <a:lnTo>
                              <a:pt x="123" y="66"/>
                            </a:lnTo>
                            <a:lnTo>
                              <a:pt x="0" y="0"/>
                            </a:lnTo>
                            <a:lnTo>
                              <a:pt x="158" y="39"/>
                            </a:lnTo>
                            <a:lnTo>
                              <a:pt x="238" y="39"/>
                            </a:lnTo>
                            <a:lnTo>
                              <a:pt x="304" y="26"/>
                            </a:lnTo>
                            <a:lnTo>
                              <a:pt x="357" y="39"/>
                            </a:lnTo>
                            <a:lnTo>
                              <a:pt x="392" y="22"/>
                            </a:lnTo>
                            <a:lnTo>
                              <a:pt x="424" y="17"/>
                            </a:lnTo>
                            <a:lnTo>
                              <a:pt x="468" y="22"/>
                            </a:lnTo>
                            <a:lnTo>
                              <a:pt x="503" y="26"/>
                            </a:lnTo>
                            <a:lnTo>
                              <a:pt x="547" y="39"/>
                            </a:lnTo>
                            <a:lnTo>
                              <a:pt x="583" y="66"/>
                            </a:lnTo>
                            <a:lnTo>
                              <a:pt x="622" y="110"/>
                            </a:lnTo>
                            <a:lnTo>
                              <a:pt x="649" y="146"/>
                            </a:lnTo>
                            <a:lnTo>
                              <a:pt x="680" y="155"/>
                            </a:lnTo>
                            <a:lnTo>
                              <a:pt x="719" y="168"/>
                            </a:lnTo>
                            <a:lnTo>
                              <a:pt x="777" y="203"/>
                            </a:lnTo>
                            <a:lnTo>
                              <a:pt x="799" y="243"/>
                            </a:lnTo>
                            <a:lnTo>
                              <a:pt x="812" y="283"/>
                            </a:lnTo>
                            <a:close/>
                          </a:path>
                        </a:pathLst>
                      </a:custGeom>
                      <a:solidFill>
                        <a:srgbClr val="3f1f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879" name=""/>
                <p:cNvGrpSpPr/>
                <p:nvPr/>
              </p:nvGrpSpPr>
              <p:grpSpPr>
                <a:xfrm>
                  <a:off x="1138320" y="1733400"/>
                  <a:ext cx="115920" cy="200520"/>
                  <a:chOff x="1138320" y="1733400"/>
                  <a:chExt cx="115920" cy="200520"/>
                </a:xfrm>
              </p:grpSpPr>
              <p:grpSp>
                <p:nvGrpSpPr>
                  <p:cNvPr id="880" name=""/>
                  <p:cNvGrpSpPr/>
                  <p:nvPr/>
                </p:nvGrpSpPr>
                <p:grpSpPr>
                  <a:xfrm>
                    <a:off x="1138320" y="1733400"/>
                    <a:ext cx="92520" cy="157680"/>
                    <a:chOff x="1138320" y="1733400"/>
                    <a:chExt cx="92520" cy="157680"/>
                  </a:xfrm>
                </p:grpSpPr>
                <p:sp>
                  <p:nvSpPr>
                    <p:cNvPr id="881" name=""/>
                    <p:cNvSpPr/>
                    <p:nvPr/>
                  </p:nvSpPr>
                  <p:spPr>
                    <a:xfrm>
                      <a:off x="1138320" y="1733400"/>
                      <a:ext cx="92520" cy="157680"/>
                    </a:xfrm>
                    <a:custGeom>
                      <a:avLst/>
                      <a:gdLst/>
                      <a:ahLst/>
                      <a:rect l="0" t="0" r="r" b="b"/>
                      <a:pathLst>
                        <a:path w="257" h="438">
                          <a:moveTo>
                            <a:pt x="235" y="120"/>
                          </a:moveTo>
                          <a:lnTo>
                            <a:pt x="200" y="52"/>
                          </a:lnTo>
                          <a:lnTo>
                            <a:pt x="168" y="26"/>
                          </a:lnTo>
                          <a:lnTo>
                            <a:pt x="128" y="8"/>
                          </a:lnTo>
                          <a:lnTo>
                            <a:pt x="98" y="0"/>
                          </a:lnTo>
                          <a:lnTo>
                            <a:pt x="52" y="17"/>
                          </a:lnTo>
                          <a:lnTo>
                            <a:pt x="22" y="48"/>
                          </a:lnTo>
                          <a:lnTo>
                            <a:pt x="0" y="105"/>
                          </a:lnTo>
                          <a:lnTo>
                            <a:pt x="4" y="168"/>
                          </a:lnTo>
                          <a:lnTo>
                            <a:pt x="22" y="225"/>
                          </a:lnTo>
                          <a:lnTo>
                            <a:pt x="44" y="292"/>
                          </a:lnTo>
                          <a:lnTo>
                            <a:pt x="71" y="345"/>
                          </a:lnTo>
                          <a:lnTo>
                            <a:pt x="111" y="403"/>
                          </a:lnTo>
                          <a:lnTo>
                            <a:pt x="146" y="429"/>
                          </a:lnTo>
                          <a:lnTo>
                            <a:pt x="181" y="438"/>
                          </a:lnTo>
                          <a:lnTo>
                            <a:pt x="222" y="434"/>
                          </a:lnTo>
                          <a:lnTo>
                            <a:pt x="248" y="416"/>
                          </a:lnTo>
                          <a:lnTo>
                            <a:pt x="257" y="381"/>
                          </a:lnTo>
                          <a:lnTo>
                            <a:pt x="244" y="309"/>
                          </a:lnTo>
                          <a:lnTo>
                            <a:pt x="235" y="256"/>
                          </a:lnTo>
                          <a:lnTo>
                            <a:pt x="248" y="190"/>
                          </a:lnTo>
                          <a:lnTo>
                            <a:pt x="235" y="12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2" name=""/>
                    <p:cNvSpPr/>
                    <p:nvPr/>
                  </p:nvSpPr>
                  <p:spPr>
                    <a:xfrm>
                      <a:off x="1154160" y="1749600"/>
                      <a:ext cx="66960" cy="111600"/>
                    </a:xfrm>
                    <a:custGeom>
                      <a:avLst/>
                      <a:gdLst/>
                      <a:ahLst/>
                      <a:rect l="0" t="0" r="r" b="b"/>
                      <a:pathLst>
                        <a:path w="186" h="310">
                          <a:moveTo>
                            <a:pt x="0" y="30"/>
                          </a:moveTo>
                          <a:lnTo>
                            <a:pt x="44" y="22"/>
                          </a:lnTo>
                          <a:lnTo>
                            <a:pt x="79" y="26"/>
                          </a:lnTo>
                          <a:lnTo>
                            <a:pt x="92" y="35"/>
                          </a:lnTo>
                          <a:lnTo>
                            <a:pt x="106" y="61"/>
                          </a:lnTo>
                          <a:lnTo>
                            <a:pt x="106" y="84"/>
                          </a:lnTo>
                          <a:lnTo>
                            <a:pt x="83" y="115"/>
                          </a:lnTo>
                          <a:lnTo>
                            <a:pt x="52" y="124"/>
                          </a:lnTo>
                          <a:lnTo>
                            <a:pt x="30" y="133"/>
                          </a:lnTo>
                          <a:lnTo>
                            <a:pt x="26" y="168"/>
                          </a:lnTo>
                          <a:lnTo>
                            <a:pt x="39" y="199"/>
                          </a:lnTo>
                          <a:lnTo>
                            <a:pt x="61" y="225"/>
                          </a:lnTo>
                          <a:lnTo>
                            <a:pt x="92" y="240"/>
                          </a:lnTo>
                          <a:lnTo>
                            <a:pt x="128" y="248"/>
                          </a:lnTo>
                          <a:lnTo>
                            <a:pt x="150" y="262"/>
                          </a:lnTo>
                          <a:lnTo>
                            <a:pt x="155" y="279"/>
                          </a:lnTo>
                          <a:lnTo>
                            <a:pt x="159" y="310"/>
                          </a:lnTo>
                          <a:lnTo>
                            <a:pt x="177" y="310"/>
                          </a:lnTo>
                          <a:lnTo>
                            <a:pt x="186" y="279"/>
                          </a:lnTo>
                          <a:lnTo>
                            <a:pt x="177" y="253"/>
                          </a:lnTo>
                          <a:lnTo>
                            <a:pt x="164" y="225"/>
                          </a:lnTo>
                          <a:lnTo>
                            <a:pt x="164" y="199"/>
                          </a:lnTo>
                          <a:lnTo>
                            <a:pt x="159" y="168"/>
                          </a:lnTo>
                          <a:lnTo>
                            <a:pt x="142" y="177"/>
                          </a:lnTo>
                          <a:lnTo>
                            <a:pt x="124" y="177"/>
                          </a:lnTo>
                          <a:lnTo>
                            <a:pt x="115" y="164"/>
                          </a:lnTo>
                          <a:lnTo>
                            <a:pt x="133" y="133"/>
                          </a:lnTo>
                          <a:lnTo>
                            <a:pt x="124" y="106"/>
                          </a:lnTo>
                          <a:lnTo>
                            <a:pt x="133" y="80"/>
                          </a:lnTo>
                          <a:lnTo>
                            <a:pt x="124" y="48"/>
                          </a:lnTo>
                          <a:lnTo>
                            <a:pt x="106" y="13"/>
                          </a:lnTo>
                          <a:lnTo>
                            <a:pt x="79" y="0"/>
                          </a:lnTo>
                          <a:lnTo>
                            <a:pt x="44" y="0"/>
                          </a:lnTo>
                          <a:lnTo>
                            <a:pt x="13" y="8"/>
                          </a:lnTo>
                          <a:lnTo>
                            <a:pt x="0"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83" name=""/>
                  <p:cNvGrpSpPr/>
                  <p:nvPr/>
                </p:nvGrpSpPr>
                <p:grpSpPr>
                  <a:xfrm>
                    <a:off x="1174680" y="1846440"/>
                    <a:ext cx="79560" cy="87480"/>
                    <a:chOff x="1174680" y="1846440"/>
                    <a:chExt cx="79560" cy="87480"/>
                  </a:xfrm>
                </p:grpSpPr>
                <p:grpSp>
                  <p:nvGrpSpPr>
                    <p:cNvPr id="884" name=""/>
                    <p:cNvGrpSpPr/>
                    <p:nvPr/>
                  </p:nvGrpSpPr>
                  <p:grpSpPr>
                    <a:xfrm>
                      <a:off x="1174680" y="1846440"/>
                      <a:ext cx="79560" cy="75960"/>
                      <a:chOff x="1174680" y="1846440"/>
                      <a:chExt cx="79560" cy="75960"/>
                    </a:xfrm>
                  </p:grpSpPr>
                  <p:sp>
                    <p:nvSpPr>
                      <p:cNvPr id="885" name=""/>
                      <p:cNvSpPr/>
                      <p:nvPr/>
                    </p:nvSpPr>
                    <p:spPr>
                      <a:xfrm>
                        <a:off x="1174680" y="1847880"/>
                        <a:ext cx="71280" cy="74520"/>
                      </a:xfrm>
                      <a:prstGeom prst="ellipse">
                        <a:avLst/>
                      </a:prstGeom>
                      <a:solidFill>
                        <a:srgbClr val="9f3f0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886" name=""/>
                      <p:cNvSpPr/>
                      <p:nvPr/>
                    </p:nvSpPr>
                    <p:spPr>
                      <a:xfrm>
                        <a:off x="1177920" y="1846440"/>
                        <a:ext cx="76320" cy="71280"/>
                      </a:xfrm>
                      <a:prstGeom prst="ellipse">
                        <a:avLst/>
                      </a:prstGeom>
                      <a:solidFill>
                        <a:srgbClr val="ffff9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887" name=""/>
                    <p:cNvGrpSpPr/>
                    <p:nvPr/>
                  </p:nvGrpSpPr>
                  <p:grpSpPr>
                    <a:xfrm>
                      <a:off x="1177920" y="1847880"/>
                      <a:ext cx="71280" cy="86040"/>
                      <a:chOff x="1177920" y="1847880"/>
                      <a:chExt cx="71280" cy="86040"/>
                    </a:xfrm>
                  </p:grpSpPr>
                  <p:sp>
                    <p:nvSpPr>
                      <p:cNvPr id="888" name=""/>
                      <p:cNvSpPr/>
                      <p:nvPr/>
                    </p:nvSpPr>
                    <p:spPr>
                      <a:xfrm>
                        <a:off x="1177920" y="1847880"/>
                        <a:ext cx="71280" cy="73080"/>
                      </a:xfrm>
                      <a:prstGeom prst="ellipse">
                        <a:avLst/>
                      </a:prstGeom>
                      <a:solidFill>
                        <a:srgbClr val="ff9f0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889" name=""/>
                      <p:cNvSpPr/>
                      <p:nvPr/>
                    </p:nvSpPr>
                    <p:spPr>
                      <a:xfrm>
                        <a:off x="1198440" y="1878120"/>
                        <a:ext cx="20160" cy="55800"/>
                      </a:xfrm>
                      <a:custGeom>
                        <a:avLst/>
                        <a:gdLst/>
                        <a:ahLst/>
                        <a:rect l="0" t="0" r="r" b="b"/>
                        <a:pathLst>
                          <a:path w="56" h="155">
                            <a:moveTo>
                              <a:pt x="56" y="77"/>
                            </a:moveTo>
                            <a:lnTo>
                              <a:pt x="51" y="0"/>
                            </a:lnTo>
                            <a:lnTo>
                              <a:pt x="51" y="0"/>
                            </a:lnTo>
                            <a:cubicBezTo>
                              <a:pt x="43" y="1"/>
                              <a:pt x="36" y="5"/>
                              <a:pt x="29" y="10"/>
                            </a:cubicBezTo>
                            <a:cubicBezTo>
                              <a:pt x="20" y="17"/>
                              <a:pt x="13" y="27"/>
                              <a:pt x="8" y="38"/>
                            </a:cubicBezTo>
                            <a:cubicBezTo>
                              <a:pt x="3" y="50"/>
                              <a:pt x="0" y="64"/>
                              <a:pt x="0" y="77"/>
                            </a:cubicBezTo>
                            <a:cubicBezTo>
                              <a:pt x="0" y="91"/>
                              <a:pt x="3" y="105"/>
                              <a:pt x="8" y="116"/>
                            </a:cubicBezTo>
                            <a:cubicBezTo>
                              <a:pt x="13" y="128"/>
                              <a:pt x="20" y="138"/>
                              <a:pt x="29" y="145"/>
                            </a:cubicBezTo>
                            <a:cubicBezTo>
                              <a:pt x="36" y="150"/>
                              <a:pt x="44" y="154"/>
                              <a:pt x="52" y="155"/>
                            </a:cubicBezTo>
                            <a:lnTo>
                              <a:pt x="56" y="77"/>
                            </a:lnTo>
                            <a:close/>
                          </a:path>
                        </a:pathLst>
                      </a:custGeom>
                      <a:solidFill>
                        <a:srgbClr val="ffbf1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890" name=""/>
                      <p:cNvSpPr/>
                      <p:nvPr/>
                    </p:nvSpPr>
                    <p:spPr>
                      <a:xfrm>
                        <a:off x="1220760" y="1878120"/>
                        <a:ext cx="12960" cy="49320"/>
                      </a:xfrm>
                      <a:custGeom>
                        <a:avLst/>
                        <a:gdLst/>
                        <a:ahLst/>
                        <a:rect l="0" t="0" r="r" b="b"/>
                        <a:pathLst>
                          <a:path w="36" h="137">
                            <a:moveTo>
                              <a:pt x="36" y="68"/>
                            </a:moveTo>
                            <a:lnTo>
                              <a:pt x="31" y="0"/>
                            </a:lnTo>
                            <a:lnTo>
                              <a:pt x="31" y="0"/>
                            </a:lnTo>
                            <a:cubicBezTo>
                              <a:pt x="26" y="1"/>
                              <a:pt x="22" y="4"/>
                              <a:pt x="18" y="9"/>
                            </a:cubicBezTo>
                            <a:cubicBezTo>
                              <a:pt x="12" y="15"/>
                              <a:pt x="8" y="23"/>
                              <a:pt x="5" y="34"/>
                            </a:cubicBezTo>
                            <a:cubicBezTo>
                              <a:pt x="1" y="44"/>
                              <a:pt x="0" y="56"/>
                              <a:pt x="0" y="68"/>
                            </a:cubicBezTo>
                            <a:cubicBezTo>
                              <a:pt x="0" y="80"/>
                              <a:pt x="1" y="92"/>
                              <a:pt x="5" y="103"/>
                            </a:cubicBezTo>
                            <a:cubicBezTo>
                              <a:pt x="8" y="113"/>
                              <a:pt x="12" y="122"/>
                              <a:pt x="18" y="128"/>
                            </a:cubicBezTo>
                            <a:cubicBezTo>
                              <a:pt x="22" y="133"/>
                              <a:pt x="27" y="136"/>
                              <a:pt x="32" y="137"/>
                            </a:cubicBezTo>
                            <a:lnTo>
                              <a:pt x="36" y="68"/>
                            </a:lnTo>
                            <a:close/>
                          </a:path>
                        </a:pathLst>
                      </a:custGeom>
                      <a:solidFill>
                        <a:srgbClr val="bf7f1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891" name=""/>
                      <p:cNvSpPr/>
                      <p:nvPr/>
                    </p:nvSpPr>
                    <p:spPr>
                      <a:xfrm>
                        <a:off x="1216080" y="1855800"/>
                        <a:ext cx="25560" cy="31680"/>
                      </a:xfrm>
                      <a:prstGeom prst="ellipse">
                        <a:avLst/>
                      </a:prstGeom>
                      <a:solidFill>
                        <a:srgbClr val="ffff9f"/>
                      </a:solidFill>
                      <a:ln w="0">
                        <a:noFill/>
                      </a:ln>
                    </p:spPr>
                    <p:txBody>
                      <a:bodyPr lIns="90000" rIns="90000" tIns="-13320" bIns="-13320" anchor="t">
                        <a:noAutofit/>
                      </a:bodyPr>
                      <a:p>
                        <a:endParaRPr b="0" lang="en-US" sz="1800" spc="-1" strike="noStrike">
                          <a:solidFill>
                            <a:srgbClr val="000000"/>
                          </a:solidFill>
                          <a:latin typeface="Arial"/>
                        </a:endParaRPr>
                      </a:p>
                    </p:txBody>
                  </p:sp>
                </p:grpSp>
              </p:grpSp>
            </p:grpSp>
          </p:grpSp>
          <p:grpSp>
            <p:nvGrpSpPr>
              <p:cNvPr id="892" name=""/>
              <p:cNvGrpSpPr/>
              <p:nvPr/>
            </p:nvGrpSpPr>
            <p:grpSpPr>
              <a:xfrm>
                <a:off x="720720" y="1935000"/>
                <a:ext cx="1497240" cy="1806840"/>
                <a:chOff x="720720" y="1935000"/>
                <a:chExt cx="1497240" cy="1806840"/>
              </a:xfrm>
            </p:grpSpPr>
            <p:grpSp>
              <p:nvGrpSpPr>
                <p:cNvPr id="893" name=""/>
                <p:cNvGrpSpPr/>
                <p:nvPr/>
              </p:nvGrpSpPr>
              <p:grpSpPr>
                <a:xfrm>
                  <a:off x="720720" y="2178000"/>
                  <a:ext cx="1394280" cy="1563840"/>
                  <a:chOff x="720720" y="2178000"/>
                  <a:chExt cx="1394280" cy="1563840"/>
                </a:xfrm>
              </p:grpSpPr>
              <p:grpSp>
                <p:nvGrpSpPr>
                  <p:cNvPr id="894" name=""/>
                  <p:cNvGrpSpPr/>
                  <p:nvPr/>
                </p:nvGrpSpPr>
                <p:grpSpPr>
                  <a:xfrm>
                    <a:off x="739800" y="2682720"/>
                    <a:ext cx="1375200" cy="1059120"/>
                    <a:chOff x="739800" y="2682720"/>
                    <a:chExt cx="1375200" cy="1059120"/>
                  </a:xfrm>
                </p:grpSpPr>
                <p:grpSp>
                  <p:nvGrpSpPr>
                    <p:cNvPr id="895" name=""/>
                    <p:cNvGrpSpPr/>
                    <p:nvPr/>
                  </p:nvGrpSpPr>
                  <p:grpSpPr>
                    <a:xfrm>
                      <a:off x="1627200" y="2682720"/>
                      <a:ext cx="487800" cy="476640"/>
                      <a:chOff x="1627200" y="2682720"/>
                      <a:chExt cx="487800" cy="476640"/>
                    </a:xfrm>
                  </p:grpSpPr>
                  <p:sp>
                    <p:nvSpPr>
                      <p:cNvPr id="896" name=""/>
                      <p:cNvSpPr/>
                      <p:nvPr/>
                    </p:nvSpPr>
                    <p:spPr>
                      <a:xfrm>
                        <a:off x="1627200" y="2682720"/>
                        <a:ext cx="487800" cy="476640"/>
                      </a:xfrm>
                      <a:custGeom>
                        <a:avLst/>
                        <a:gdLst/>
                        <a:ahLst/>
                        <a:rect l="0" t="0" r="r" b="b"/>
                        <a:pathLst>
                          <a:path w="1355" h="1324">
                            <a:moveTo>
                              <a:pt x="1091" y="79"/>
                            </a:moveTo>
                            <a:lnTo>
                              <a:pt x="935" y="273"/>
                            </a:lnTo>
                            <a:lnTo>
                              <a:pt x="878" y="340"/>
                            </a:lnTo>
                            <a:lnTo>
                              <a:pt x="785" y="415"/>
                            </a:lnTo>
                            <a:lnTo>
                              <a:pt x="746" y="441"/>
                            </a:lnTo>
                            <a:lnTo>
                              <a:pt x="688" y="446"/>
                            </a:lnTo>
                            <a:lnTo>
                              <a:pt x="688" y="57"/>
                            </a:lnTo>
                            <a:lnTo>
                              <a:pt x="0" y="389"/>
                            </a:lnTo>
                            <a:lnTo>
                              <a:pt x="299" y="1197"/>
                            </a:lnTo>
                            <a:lnTo>
                              <a:pt x="543" y="1324"/>
                            </a:lnTo>
                            <a:lnTo>
                              <a:pt x="631" y="1214"/>
                            </a:lnTo>
                            <a:lnTo>
                              <a:pt x="746" y="1095"/>
                            </a:lnTo>
                            <a:lnTo>
                              <a:pt x="856" y="1011"/>
                            </a:lnTo>
                            <a:lnTo>
                              <a:pt x="953" y="874"/>
                            </a:lnTo>
                            <a:lnTo>
                              <a:pt x="1038" y="728"/>
                            </a:lnTo>
                            <a:lnTo>
                              <a:pt x="1104" y="565"/>
                            </a:lnTo>
                            <a:lnTo>
                              <a:pt x="1205" y="415"/>
                            </a:lnTo>
                            <a:lnTo>
                              <a:pt x="1258" y="340"/>
                            </a:lnTo>
                            <a:lnTo>
                              <a:pt x="1289" y="282"/>
                            </a:lnTo>
                            <a:lnTo>
                              <a:pt x="1355" y="0"/>
                            </a:lnTo>
                            <a:lnTo>
                              <a:pt x="1091"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7" name=""/>
                      <p:cNvSpPr/>
                      <p:nvPr/>
                    </p:nvSpPr>
                    <p:spPr>
                      <a:xfrm>
                        <a:off x="1782720" y="2832120"/>
                        <a:ext cx="111600" cy="189360"/>
                      </a:xfrm>
                      <a:custGeom>
                        <a:avLst/>
                        <a:gdLst/>
                        <a:ahLst/>
                        <a:rect l="0" t="0" r="r" b="b"/>
                        <a:pathLst>
                          <a:path w="310" h="526">
                            <a:moveTo>
                              <a:pt x="275" y="0"/>
                            </a:moveTo>
                            <a:lnTo>
                              <a:pt x="310" y="35"/>
                            </a:lnTo>
                            <a:lnTo>
                              <a:pt x="240" y="133"/>
                            </a:lnTo>
                            <a:lnTo>
                              <a:pt x="164" y="234"/>
                            </a:lnTo>
                            <a:lnTo>
                              <a:pt x="106" y="322"/>
                            </a:lnTo>
                            <a:lnTo>
                              <a:pt x="52" y="416"/>
                            </a:lnTo>
                            <a:lnTo>
                              <a:pt x="0" y="526"/>
                            </a:lnTo>
                            <a:lnTo>
                              <a:pt x="13" y="438"/>
                            </a:lnTo>
                            <a:lnTo>
                              <a:pt x="61" y="331"/>
                            </a:lnTo>
                            <a:lnTo>
                              <a:pt x="133" y="199"/>
                            </a:lnTo>
                            <a:lnTo>
                              <a:pt x="217" y="79"/>
                            </a:lnTo>
                            <a:lnTo>
                              <a:pt x="275"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98" name=""/>
                    <p:cNvGrpSpPr/>
                    <p:nvPr/>
                  </p:nvGrpSpPr>
                  <p:grpSpPr>
                    <a:xfrm>
                      <a:off x="739800" y="2814480"/>
                      <a:ext cx="371880" cy="927360"/>
                      <a:chOff x="739800" y="2814480"/>
                      <a:chExt cx="371880" cy="927360"/>
                    </a:xfrm>
                  </p:grpSpPr>
                  <p:sp>
                    <p:nvSpPr>
                      <p:cNvPr id="899" name=""/>
                      <p:cNvSpPr/>
                      <p:nvPr/>
                    </p:nvSpPr>
                    <p:spPr>
                      <a:xfrm>
                        <a:off x="739800" y="2814480"/>
                        <a:ext cx="371880" cy="927360"/>
                      </a:xfrm>
                      <a:custGeom>
                        <a:avLst/>
                        <a:gdLst/>
                        <a:ahLst/>
                        <a:rect l="0" t="0" r="r" b="b"/>
                        <a:pathLst>
                          <a:path w="1033" h="2576">
                            <a:moveTo>
                              <a:pt x="455" y="366"/>
                            </a:moveTo>
                            <a:lnTo>
                              <a:pt x="446" y="427"/>
                            </a:lnTo>
                            <a:lnTo>
                              <a:pt x="468" y="507"/>
                            </a:lnTo>
                            <a:lnTo>
                              <a:pt x="490" y="674"/>
                            </a:lnTo>
                            <a:lnTo>
                              <a:pt x="512" y="780"/>
                            </a:lnTo>
                            <a:lnTo>
                              <a:pt x="530" y="868"/>
                            </a:lnTo>
                            <a:lnTo>
                              <a:pt x="556" y="970"/>
                            </a:lnTo>
                            <a:lnTo>
                              <a:pt x="587" y="1075"/>
                            </a:lnTo>
                            <a:lnTo>
                              <a:pt x="627" y="1159"/>
                            </a:lnTo>
                            <a:lnTo>
                              <a:pt x="671" y="1239"/>
                            </a:lnTo>
                            <a:lnTo>
                              <a:pt x="697" y="1319"/>
                            </a:lnTo>
                            <a:lnTo>
                              <a:pt x="710" y="1394"/>
                            </a:lnTo>
                            <a:lnTo>
                              <a:pt x="741" y="1491"/>
                            </a:lnTo>
                            <a:lnTo>
                              <a:pt x="786" y="1592"/>
                            </a:lnTo>
                            <a:lnTo>
                              <a:pt x="822" y="1685"/>
                            </a:lnTo>
                            <a:lnTo>
                              <a:pt x="848" y="1738"/>
                            </a:lnTo>
                            <a:lnTo>
                              <a:pt x="897" y="1800"/>
                            </a:lnTo>
                            <a:lnTo>
                              <a:pt x="1033" y="1919"/>
                            </a:lnTo>
                            <a:lnTo>
                              <a:pt x="1033" y="2576"/>
                            </a:lnTo>
                            <a:lnTo>
                              <a:pt x="972" y="2527"/>
                            </a:lnTo>
                            <a:lnTo>
                              <a:pt x="923" y="2448"/>
                            </a:lnTo>
                            <a:lnTo>
                              <a:pt x="883" y="2364"/>
                            </a:lnTo>
                            <a:lnTo>
                              <a:pt x="844" y="2307"/>
                            </a:lnTo>
                            <a:lnTo>
                              <a:pt x="813" y="2280"/>
                            </a:lnTo>
                            <a:lnTo>
                              <a:pt x="786" y="2241"/>
                            </a:lnTo>
                            <a:lnTo>
                              <a:pt x="750" y="2201"/>
                            </a:lnTo>
                            <a:lnTo>
                              <a:pt x="719" y="2188"/>
                            </a:lnTo>
                            <a:lnTo>
                              <a:pt x="702" y="2161"/>
                            </a:lnTo>
                            <a:lnTo>
                              <a:pt x="693" y="2122"/>
                            </a:lnTo>
                            <a:lnTo>
                              <a:pt x="671" y="2077"/>
                            </a:lnTo>
                            <a:lnTo>
                              <a:pt x="635" y="2007"/>
                            </a:lnTo>
                            <a:lnTo>
                              <a:pt x="587" y="1906"/>
                            </a:lnTo>
                            <a:lnTo>
                              <a:pt x="503" y="1769"/>
                            </a:lnTo>
                            <a:lnTo>
                              <a:pt x="419" y="1641"/>
                            </a:lnTo>
                            <a:lnTo>
                              <a:pt x="300" y="1491"/>
                            </a:lnTo>
                            <a:lnTo>
                              <a:pt x="211" y="1372"/>
                            </a:lnTo>
                            <a:lnTo>
                              <a:pt x="119" y="1234"/>
                            </a:lnTo>
                            <a:lnTo>
                              <a:pt x="83" y="1186"/>
                            </a:lnTo>
                            <a:lnTo>
                              <a:pt x="70" y="1155"/>
                            </a:lnTo>
                            <a:lnTo>
                              <a:pt x="61" y="1089"/>
                            </a:lnTo>
                            <a:lnTo>
                              <a:pt x="48" y="917"/>
                            </a:lnTo>
                            <a:lnTo>
                              <a:pt x="30" y="771"/>
                            </a:lnTo>
                            <a:lnTo>
                              <a:pt x="8" y="608"/>
                            </a:lnTo>
                            <a:lnTo>
                              <a:pt x="0" y="396"/>
                            </a:lnTo>
                            <a:lnTo>
                              <a:pt x="0" y="264"/>
                            </a:lnTo>
                            <a:lnTo>
                              <a:pt x="13" y="0"/>
                            </a:lnTo>
                            <a:lnTo>
                              <a:pt x="455" y="36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0" name=""/>
                      <p:cNvSpPr/>
                      <p:nvPr/>
                    </p:nvSpPr>
                    <p:spPr>
                      <a:xfrm>
                        <a:off x="849240" y="3068640"/>
                        <a:ext cx="160560" cy="294120"/>
                      </a:xfrm>
                      <a:custGeom>
                        <a:avLst/>
                        <a:gdLst/>
                        <a:ahLst/>
                        <a:rect l="0" t="0" r="r" b="b"/>
                        <a:pathLst>
                          <a:path w="446" h="817">
                            <a:moveTo>
                              <a:pt x="446" y="817"/>
                            </a:moveTo>
                            <a:lnTo>
                              <a:pt x="384" y="786"/>
                            </a:lnTo>
                            <a:lnTo>
                              <a:pt x="318" y="734"/>
                            </a:lnTo>
                            <a:lnTo>
                              <a:pt x="274" y="676"/>
                            </a:lnTo>
                            <a:lnTo>
                              <a:pt x="243" y="605"/>
                            </a:lnTo>
                            <a:lnTo>
                              <a:pt x="225" y="543"/>
                            </a:lnTo>
                            <a:lnTo>
                              <a:pt x="225" y="468"/>
                            </a:lnTo>
                            <a:lnTo>
                              <a:pt x="216" y="380"/>
                            </a:lnTo>
                            <a:lnTo>
                              <a:pt x="207" y="318"/>
                            </a:lnTo>
                            <a:lnTo>
                              <a:pt x="185" y="283"/>
                            </a:lnTo>
                            <a:lnTo>
                              <a:pt x="158" y="256"/>
                            </a:lnTo>
                            <a:lnTo>
                              <a:pt x="145" y="202"/>
                            </a:lnTo>
                            <a:lnTo>
                              <a:pt x="123" y="158"/>
                            </a:lnTo>
                            <a:lnTo>
                              <a:pt x="92" y="119"/>
                            </a:lnTo>
                            <a:lnTo>
                              <a:pt x="52" y="92"/>
                            </a:lnTo>
                            <a:lnTo>
                              <a:pt x="13" y="83"/>
                            </a:lnTo>
                            <a:lnTo>
                              <a:pt x="17" y="48"/>
                            </a:lnTo>
                            <a:lnTo>
                              <a:pt x="0" y="0"/>
                            </a:lnTo>
                            <a:lnTo>
                              <a:pt x="35" y="22"/>
                            </a:lnTo>
                            <a:lnTo>
                              <a:pt x="70" y="39"/>
                            </a:lnTo>
                            <a:lnTo>
                              <a:pt x="123" y="44"/>
                            </a:lnTo>
                            <a:lnTo>
                              <a:pt x="163" y="26"/>
                            </a:lnTo>
                            <a:lnTo>
                              <a:pt x="194" y="0"/>
                            </a:lnTo>
                            <a:lnTo>
                              <a:pt x="216" y="119"/>
                            </a:lnTo>
                            <a:lnTo>
                              <a:pt x="243" y="212"/>
                            </a:lnTo>
                            <a:lnTo>
                              <a:pt x="265" y="309"/>
                            </a:lnTo>
                            <a:lnTo>
                              <a:pt x="283" y="371"/>
                            </a:lnTo>
                            <a:lnTo>
                              <a:pt x="318" y="437"/>
                            </a:lnTo>
                            <a:lnTo>
                              <a:pt x="349" y="494"/>
                            </a:lnTo>
                            <a:lnTo>
                              <a:pt x="375" y="565"/>
                            </a:lnTo>
                            <a:lnTo>
                              <a:pt x="406" y="650"/>
                            </a:lnTo>
                            <a:lnTo>
                              <a:pt x="424" y="738"/>
                            </a:lnTo>
                            <a:lnTo>
                              <a:pt x="446" y="817"/>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901" name=""/>
                  <p:cNvGrpSpPr/>
                  <p:nvPr/>
                </p:nvGrpSpPr>
                <p:grpSpPr>
                  <a:xfrm>
                    <a:off x="720720" y="2178000"/>
                    <a:ext cx="1173600" cy="1329120"/>
                    <a:chOff x="720720" y="2178000"/>
                    <a:chExt cx="1173600" cy="1329120"/>
                  </a:xfrm>
                </p:grpSpPr>
                <p:sp>
                  <p:nvSpPr>
                    <p:cNvPr id="902" name=""/>
                    <p:cNvSpPr/>
                    <p:nvPr/>
                  </p:nvSpPr>
                  <p:spPr>
                    <a:xfrm>
                      <a:off x="720720" y="2178000"/>
                      <a:ext cx="1173600" cy="1329120"/>
                    </a:xfrm>
                    <a:custGeom>
                      <a:avLst/>
                      <a:gdLst/>
                      <a:ahLst/>
                      <a:rect l="0" t="0" r="r" b="b"/>
                      <a:pathLst>
                        <a:path w="3260" h="3692">
                          <a:moveTo>
                            <a:pt x="3238" y="1844"/>
                          </a:moveTo>
                          <a:lnTo>
                            <a:pt x="3168" y="1659"/>
                          </a:lnTo>
                          <a:lnTo>
                            <a:pt x="2780" y="418"/>
                          </a:lnTo>
                          <a:lnTo>
                            <a:pt x="2426" y="167"/>
                          </a:lnTo>
                          <a:lnTo>
                            <a:pt x="2316" y="141"/>
                          </a:lnTo>
                          <a:lnTo>
                            <a:pt x="2223" y="127"/>
                          </a:lnTo>
                          <a:lnTo>
                            <a:pt x="2148" y="105"/>
                          </a:lnTo>
                          <a:lnTo>
                            <a:pt x="2060" y="79"/>
                          </a:lnTo>
                          <a:lnTo>
                            <a:pt x="1994" y="44"/>
                          </a:lnTo>
                          <a:lnTo>
                            <a:pt x="1928" y="22"/>
                          </a:lnTo>
                          <a:lnTo>
                            <a:pt x="1861" y="8"/>
                          </a:lnTo>
                          <a:lnTo>
                            <a:pt x="1831" y="8"/>
                          </a:lnTo>
                          <a:lnTo>
                            <a:pt x="1848" y="35"/>
                          </a:lnTo>
                          <a:lnTo>
                            <a:pt x="1835" y="61"/>
                          </a:lnTo>
                          <a:lnTo>
                            <a:pt x="1804" y="79"/>
                          </a:lnTo>
                          <a:lnTo>
                            <a:pt x="1738" y="110"/>
                          </a:lnTo>
                          <a:lnTo>
                            <a:pt x="1628" y="141"/>
                          </a:lnTo>
                          <a:lnTo>
                            <a:pt x="1535" y="158"/>
                          </a:lnTo>
                          <a:lnTo>
                            <a:pt x="1442" y="176"/>
                          </a:lnTo>
                          <a:lnTo>
                            <a:pt x="1328" y="180"/>
                          </a:lnTo>
                          <a:lnTo>
                            <a:pt x="1218" y="180"/>
                          </a:lnTo>
                          <a:lnTo>
                            <a:pt x="1134" y="176"/>
                          </a:lnTo>
                          <a:lnTo>
                            <a:pt x="1041" y="163"/>
                          </a:lnTo>
                          <a:lnTo>
                            <a:pt x="966" y="145"/>
                          </a:lnTo>
                          <a:lnTo>
                            <a:pt x="918" y="127"/>
                          </a:lnTo>
                          <a:lnTo>
                            <a:pt x="874" y="105"/>
                          </a:lnTo>
                          <a:lnTo>
                            <a:pt x="838" y="79"/>
                          </a:lnTo>
                          <a:lnTo>
                            <a:pt x="816" y="48"/>
                          </a:lnTo>
                          <a:lnTo>
                            <a:pt x="811" y="30"/>
                          </a:lnTo>
                          <a:lnTo>
                            <a:pt x="838" y="0"/>
                          </a:lnTo>
                          <a:lnTo>
                            <a:pt x="793" y="8"/>
                          </a:lnTo>
                          <a:lnTo>
                            <a:pt x="740" y="22"/>
                          </a:lnTo>
                          <a:lnTo>
                            <a:pt x="674" y="48"/>
                          </a:lnTo>
                          <a:lnTo>
                            <a:pt x="621" y="83"/>
                          </a:lnTo>
                          <a:lnTo>
                            <a:pt x="568" y="127"/>
                          </a:lnTo>
                          <a:lnTo>
                            <a:pt x="520" y="163"/>
                          </a:lnTo>
                          <a:lnTo>
                            <a:pt x="476" y="198"/>
                          </a:lnTo>
                          <a:lnTo>
                            <a:pt x="423" y="216"/>
                          </a:lnTo>
                          <a:lnTo>
                            <a:pt x="361" y="238"/>
                          </a:lnTo>
                          <a:lnTo>
                            <a:pt x="308" y="255"/>
                          </a:lnTo>
                          <a:lnTo>
                            <a:pt x="251" y="273"/>
                          </a:lnTo>
                          <a:lnTo>
                            <a:pt x="185" y="299"/>
                          </a:lnTo>
                          <a:lnTo>
                            <a:pt x="127" y="326"/>
                          </a:lnTo>
                          <a:lnTo>
                            <a:pt x="79" y="370"/>
                          </a:lnTo>
                          <a:lnTo>
                            <a:pt x="57" y="405"/>
                          </a:lnTo>
                          <a:lnTo>
                            <a:pt x="39" y="463"/>
                          </a:lnTo>
                          <a:lnTo>
                            <a:pt x="35" y="542"/>
                          </a:lnTo>
                          <a:lnTo>
                            <a:pt x="26" y="639"/>
                          </a:lnTo>
                          <a:lnTo>
                            <a:pt x="26" y="833"/>
                          </a:lnTo>
                          <a:lnTo>
                            <a:pt x="26" y="1222"/>
                          </a:lnTo>
                          <a:lnTo>
                            <a:pt x="0" y="1659"/>
                          </a:lnTo>
                          <a:lnTo>
                            <a:pt x="35" y="1817"/>
                          </a:lnTo>
                          <a:lnTo>
                            <a:pt x="48" y="2016"/>
                          </a:lnTo>
                          <a:lnTo>
                            <a:pt x="39" y="2148"/>
                          </a:lnTo>
                          <a:lnTo>
                            <a:pt x="26" y="2223"/>
                          </a:lnTo>
                          <a:lnTo>
                            <a:pt x="61" y="2227"/>
                          </a:lnTo>
                          <a:lnTo>
                            <a:pt x="101" y="2236"/>
                          </a:lnTo>
                          <a:lnTo>
                            <a:pt x="136" y="2249"/>
                          </a:lnTo>
                          <a:lnTo>
                            <a:pt x="207" y="2245"/>
                          </a:lnTo>
                          <a:lnTo>
                            <a:pt x="282" y="2249"/>
                          </a:lnTo>
                          <a:lnTo>
                            <a:pt x="348" y="2258"/>
                          </a:lnTo>
                          <a:lnTo>
                            <a:pt x="436" y="2280"/>
                          </a:lnTo>
                          <a:lnTo>
                            <a:pt x="564" y="2316"/>
                          </a:lnTo>
                          <a:lnTo>
                            <a:pt x="582" y="2452"/>
                          </a:lnTo>
                          <a:lnTo>
                            <a:pt x="608" y="2585"/>
                          </a:lnTo>
                          <a:lnTo>
                            <a:pt x="630" y="2668"/>
                          </a:lnTo>
                          <a:lnTo>
                            <a:pt x="670" y="2788"/>
                          </a:lnTo>
                          <a:lnTo>
                            <a:pt x="745" y="2881"/>
                          </a:lnTo>
                          <a:lnTo>
                            <a:pt x="771" y="2921"/>
                          </a:lnTo>
                          <a:lnTo>
                            <a:pt x="789" y="2969"/>
                          </a:lnTo>
                          <a:lnTo>
                            <a:pt x="793" y="3022"/>
                          </a:lnTo>
                          <a:lnTo>
                            <a:pt x="789" y="3062"/>
                          </a:lnTo>
                          <a:lnTo>
                            <a:pt x="825" y="3088"/>
                          </a:lnTo>
                          <a:lnTo>
                            <a:pt x="869" y="3137"/>
                          </a:lnTo>
                          <a:lnTo>
                            <a:pt x="913" y="3194"/>
                          </a:lnTo>
                          <a:lnTo>
                            <a:pt x="944" y="3269"/>
                          </a:lnTo>
                          <a:lnTo>
                            <a:pt x="966" y="3622"/>
                          </a:lnTo>
                          <a:lnTo>
                            <a:pt x="1134" y="3653"/>
                          </a:lnTo>
                          <a:lnTo>
                            <a:pt x="1363" y="3675"/>
                          </a:lnTo>
                          <a:lnTo>
                            <a:pt x="1588" y="3688"/>
                          </a:lnTo>
                          <a:lnTo>
                            <a:pt x="1870" y="3692"/>
                          </a:lnTo>
                          <a:lnTo>
                            <a:pt x="2152" y="3675"/>
                          </a:lnTo>
                          <a:lnTo>
                            <a:pt x="2417" y="3631"/>
                          </a:lnTo>
                          <a:lnTo>
                            <a:pt x="2625" y="3582"/>
                          </a:lnTo>
                          <a:lnTo>
                            <a:pt x="2881" y="3512"/>
                          </a:lnTo>
                          <a:lnTo>
                            <a:pt x="3084" y="3410"/>
                          </a:lnTo>
                          <a:lnTo>
                            <a:pt x="3260" y="3309"/>
                          </a:lnTo>
                          <a:lnTo>
                            <a:pt x="3251" y="3238"/>
                          </a:lnTo>
                          <a:lnTo>
                            <a:pt x="3234" y="3168"/>
                          </a:lnTo>
                          <a:lnTo>
                            <a:pt x="3199" y="3088"/>
                          </a:lnTo>
                          <a:lnTo>
                            <a:pt x="3137" y="3005"/>
                          </a:lnTo>
                          <a:lnTo>
                            <a:pt x="3084" y="2921"/>
                          </a:lnTo>
                          <a:lnTo>
                            <a:pt x="3005" y="2833"/>
                          </a:lnTo>
                          <a:lnTo>
                            <a:pt x="2982" y="2810"/>
                          </a:lnTo>
                          <a:lnTo>
                            <a:pt x="3018" y="2802"/>
                          </a:lnTo>
                          <a:lnTo>
                            <a:pt x="3053" y="2780"/>
                          </a:lnTo>
                          <a:lnTo>
                            <a:pt x="3062" y="2730"/>
                          </a:lnTo>
                          <a:lnTo>
                            <a:pt x="3040" y="2646"/>
                          </a:lnTo>
                          <a:lnTo>
                            <a:pt x="2982" y="2558"/>
                          </a:lnTo>
                          <a:lnTo>
                            <a:pt x="2841" y="2395"/>
                          </a:lnTo>
                          <a:lnTo>
                            <a:pt x="2810" y="2298"/>
                          </a:lnTo>
                          <a:lnTo>
                            <a:pt x="2788" y="2232"/>
                          </a:lnTo>
                          <a:lnTo>
                            <a:pt x="2784" y="2174"/>
                          </a:lnTo>
                          <a:lnTo>
                            <a:pt x="2806" y="2108"/>
                          </a:lnTo>
                          <a:lnTo>
                            <a:pt x="2833" y="2055"/>
                          </a:lnTo>
                          <a:lnTo>
                            <a:pt x="2912" y="2020"/>
                          </a:lnTo>
                          <a:lnTo>
                            <a:pt x="3027" y="1967"/>
                          </a:lnTo>
                          <a:lnTo>
                            <a:pt x="3141" y="1919"/>
                          </a:lnTo>
                          <a:lnTo>
                            <a:pt x="3238" y="1844"/>
                          </a:lnTo>
                          <a:close/>
                        </a:path>
                      </a:pathLst>
                    </a:custGeom>
                    <a:solidFill>
                      <a:srgbClr val="ef0c07"/>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03" name=""/>
                    <p:cNvGrpSpPr/>
                    <p:nvPr/>
                  </p:nvGrpSpPr>
                  <p:grpSpPr>
                    <a:xfrm>
                      <a:off x="720720" y="2203560"/>
                      <a:ext cx="1102320" cy="1281600"/>
                      <a:chOff x="720720" y="2203560"/>
                      <a:chExt cx="1102320" cy="1281600"/>
                    </a:xfrm>
                  </p:grpSpPr>
                  <p:sp>
                    <p:nvSpPr>
                      <p:cNvPr id="904" name=""/>
                      <p:cNvSpPr/>
                      <p:nvPr/>
                    </p:nvSpPr>
                    <p:spPr>
                      <a:xfrm>
                        <a:off x="720720" y="2359080"/>
                        <a:ext cx="392400" cy="873360"/>
                      </a:xfrm>
                      <a:custGeom>
                        <a:avLst/>
                        <a:gdLst/>
                        <a:ahLst/>
                        <a:rect l="0" t="0" r="r" b="b"/>
                        <a:pathLst>
                          <a:path w="1090" h="2426">
                            <a:moveTo>
                              <a:pt x="35" y="26"/>
                            </a:moveTo>
                            <a:lnTo>
                              <a:pt x="92" y="13"/>
                            </a:lnTo>
                            <a:lnTo>
                              <a:pt x="158" y="0"/>
                            </a:lnTo>
                            <a:lnTo>
                              <a:pt x="229" y="0"/>
                            </a:lnTo>
                            <a:lnTo>
                              <a:pt x="295" y="22"/>
                            </a:lnTo>
                            <a:lnTo>
                              <a:pt x="361" y="74"/>
                            </a:lnTo>
                            <a:lnTo>
                              <a:pt x="423" y="145"/>
                            </a:lnTo>
                            <a:lnTo>
                              <a:pt x="480" y="229"/>
                            </a:lnTo>
                            <a:lnTo>
                              <a:pt x="533" y="330"/>
                            </a:lnTo>
                            <a:lnTo>
                              <a:pt x="583" y="423"/>
                            </a:lnTo>
                            <a:lnTo>
                              <a:pt x="644" y="537"/>
                            </a:lnTo>
                            <a:lnTo>
                              <a:pt x="706" y="643"/>
                            </a:lnTo>
                            <a:lnTo>
                              <a:pt x="799" y="762"/>
                            </a:lnTo>
                            <a:lnTo>
                              <a:pt x="900" y="859"/>
                            </a:lnTo>
                            <a:lnTo>
                              <a:pt x="975" y="934"/>
                            </a:lnTo>
                            <a:lnTo>
                              <a:pt x="1032" y="996"/>
                            </a:lnTo>
                            <a:lnTo>
                              <a:pt x="1072" y="1058"/>
                            </a:lnTo>
                            <a:lnTo>
                              <a:pt x="1090" y="1115"/>
                            </a:lnTo>
                            <a:lnTo>
                              <a:pt x="1076" y="1177"/>
                            </a:lnTo>
                            <a:lnTo>
                              <a:pt x="1046" y="1240"/>
                            </a:lnTo>
                            <a:lnTo>
                              <a:pt x="1015" y="1301"/>
                            </a:lnTo>
                            <a:lnTo>
                              <a:pt x="997" y="1447"/>
                            </a:lnTo>
                            <a:lnTo>
                              <a:pt x="993" y="1513"/>
                            </a:lnTo>
                            <a:lnTo>
                              <a:pt x="984" y="1610"/>
                            </a:lnTo>
                            <a:lnTo>
                              <a:pt x="953" y="1707"/>
                            </a:lnTo>
                            <a:lnTo>
                              <a:pt x="918" y="1813"/>
                            </a:lnTo>
                            <a:lnTo>
                              <a:pt x="869" y="1888"/>
                            </a:lnTo>
                            <a:lnTo>
                              <a:pt x="825" y="1976"/>
                            </a:lnTo>
                            <a:lnTo>
                              <a:pt x="794" y="2077"/>
                            </a:lnTo>
                            <a:lnTo>
                              <a:pt x="772" y="2166"/>
                            </a:lnTo>
                            <a:lnTo>
                              <a:pt x="763" y="2236"/>
                            </a:lnTo>
                            <a:lnTo>
                              <a:pt x="755" y="2320"/>
                            </a:lnTo>
                            <a:lnTo>
                              <a:pt x="768" y="2377"/>
                            </a:lnTo>
                            <a:lnTo>
                              <a:pt x="781" y="2426"/>
                            </a:lnTo>
                            <a:lnTo>
                              <a:pt x="750" y="2391"/>
                            </a:lnTo>
                            <a:lnTo>
                              <a:pt x="706" y="2333"/>
                            </a:lnTo>
                            <a:lnTo>
                              <a:pt x="671" y="2280"/>
                            </a:lnTo>
                            <a:lnTo>
                              <a:pt x="644" y="2214"/>
                            </a:lnTo>
                            <a:lnTo>
                              <a:pt x="618" y="2113"/>
                            </a:lnTo>
                            <a:lnTo>
                              <a:pt x="596" y="2038"/>
                            </a:lnTo>
                            <a:lnTo>
                              <a:pt x="578" y="1963"/>
                            </a:lnTo>
                            <a:lnTo>
                              <a:pt x="569" y="1879"/>
                            </a:lnTo>
                            <a:lnTo>
                              <a:pt x="565" y="1813"/>
                            </a:lnTo>
                            <a:lnTo>
                              <a:pt x="515" y="1795"/>
                            </a:lnTo>
                            <a:lnTo>
                              <a:pt x="449" y="1782"/>
                            </a:lnTo>
                            <a:lnTo>
                              <a:pt x="370" y="1769"/>
                            </a:lnTo>
                            <a:lnTo>
                              <a:pt x="304" y="1751"/>
                            </a:lnTo>
                            <a:lnTo>
                              <a:pt x="238" y="1742"/>
                            </a:lnTo>
                            <a:lnTo>
                              <a:pt x="189" y="1742"/>
                            </a:lnTo>
                            <a:lnTo>
                              <a:pt x="163" y="1694"/>
                            </a:lnTo>
                            <a:lnTo>
                              <a:pt x="136" y="1623"/>
                            </a:lnTo>
                            <a:lnTo>
                              <a:pt x="123" y="1531"/>
                            </a:lnTo>
                            <a:lnTo>
                              <a:pt x="114" y="1416"/>
                            </a:lnTo>
                            <a:lnTo>
                              <a:pt x="105" y="1315"/>
                            </a:lnTo>
                            <a:lnTo>
                              <a:pt x="79" y="1226"/>
                            </a:lnTo>
                            <a:lnTo>
                              <a:pt x="57" y="1155"/>
                            </a:lnTo>
                            <a:lnTo>
                              <a:pt x="0" y="1084"/>
                            </a:lnTo>
                            <a:lnTo>
                              <a:pt x="26" y="912"/>
                            </a:lnTo>
                            <a:lnTo>
                              <a:pt x="26" y="718"/>
                            </a:lnTo>
                            <a:lnTo>
                              <a:pt x="26" y="520"/>
                            </a:lnTo>
                            <a:lnTo>
                              <a:pt x="26" y="339"/>
                            </a:lnTo>
                            <a:lnTo>
                              <a:pt x="26" y="167"/>
                            </a:lnTo>
                            <a:lnTo>
                              <a:pt x="35" y="2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5" name=""/>
                      <p:cNvSpPr/>
                      <p:nvPr/>
                    </p:nvSpPr>
                    <p:spPr>
                      <a:xfrm>
                        <a:off x="1459080" y="2243160"/>
                        <a:ext cx="268560" cy="346320"/>
                      </a:xfrm>
                      <a:custGeom>
                        <a:avLst/>
                        <a:gdLst/>
                        <a:ahLst/>
                        <a:rect l="0" t="0" r="r" b="b"/>
                        <a:pathLst>
                          <a:path w="746" h="962">
                            <a:moveTo>
                              <a:pt x="547" y="229"/>
                            </a:moveTo>
                            <a:lnTo>
                              <a:pt x="402" y="127"/>
                            </a:lnTo>
                            <a:lnTo>
                              <a:pt x="321" y="97"/>
                            </a:lnTo>
                            <a:lnTo>
                              <a:pt x="251" y="70"/>
                            </a:lnTo>
                            <a:lnTo>
                              <a:pt x="189" y="44"/>
                            </a:lnTo>
                            <a:lnTo>
                              <a:pt x="123" y="22"/>
                            </a:lnTo>
                            <a:lnTo>
                              <a:pt x="0" y="0"/>
                            </a:lnTo>
                            <a:lnTo>
                              <a:pt x="39" y="52"/>
                            </a:lnTo>
                            <a:lnTo>
                              <a:pt x="97" y="119"/>
                            </a:lnTo>
                            <a:lnTo>
                              <a:pt x="114" y="189"/>
                            </a:lnTo>
                            <a:lnTo>
                              <a:pt x="127" y="268"/>
                            </a:lnTo>
                            <a:lnTo>
                              <a:pt x="123" y="370"/>
                            </a:lnTo>
                            <a:lnTo>
                              <a:pt x="145" y="454"/>
                            </a:lnTo>
                            <a:lnTo>
                              <a:pt x="176" y="525"/>
                            </a:lnTo>
                            <a:lnTo>
                              <a:pt x="216" y="578"/>
                            </a:lnTo>
                            <a:lnTo>
                              <a:pt x="251" y="622"/>
                            </a:lnTo>
                            <a:lnTo>
                              <a:pt x="291" y="649"/>
                            </a:lnTo>
                            <a:lnTo>
                              <a:pt x="348" y="693"/>
                            </a:lnTo>
                            <a:lnTo>
                              <a:pt x="746" y="962"/>
                            </a:lnTo>
                            <a:lnTo>
                              <a:pt x="547" y="229"/>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6" name=""/>
                      <p:cNvSpPr/>
                      <p:nvPr/>
                    </p:nvSpPr>
                    <p:spPr>
                      <a:xfrm>
                        <a:off x="1230480" y="3160800"/>
                        <a:ext cx="351360" cy="111600"/>
                      </a:xfrm>
                      <a:custGeom>
                        <a:avLst/>
                        <a:gdLst/>
                        <a:ahLst/>
                        <a:rect l="0" t="0" r="r" b="b"/>
                        <a:pathLst>
                          <a:path w="976" h="310">
                            <a:moveTo>
                              <a:pt x="976" y="225"/>
                            </a:moveTo>
                            <a:lnTo>
                              <a:pt x="950" y="262"/>
                            </a:lnTo>
                            <a:lnTo>
                              <a:pt x="905" y="288"/>
                            </a:lnTo>
                            <a:lnTo>
                              <a:pt x="853" y="301"/>
                            </a:lnTo>
                            <a:lnTo>
                              <a:pt x="800" y="310"/>
                            </a:lnTo>
                            <a:lnTo>
                              <a:pt x="751" y="301"/>
                            </a:lnTo>
                            <a:lnTo>
                              <a:pt x="715" y="275"/>
                            </a:lnTo>
                            <a:lnTo>
                              <a:pt x="640" y="262"/>
                            </a:lnTo>
                            <a:lnTo>
                              <a:pt x="538" y="240"/>
                            </a:lnTo>
                            <a:lnTo>
                              <a:pt x="389" y="221"/>
                            </a:lnTo>
                            <a:lnTo>
                              <a:pt x="283" y="195"/>
                            </a:lnTo>
                            <a:lnTo>
                              <a:pt x="198" y="177"/>
                            </a:lnTo>
                            <a:lnTo>
                              <a:pt x="136" y="155"/>
                            </a:lnTo>
                            <a:lnTo>
                              <a:pt x="83" y="124"/>
                            </a:lnTo>
                            <a:lnTo>
                              <a:pt x="39" y="93"/>
                            </a:lnTo>
                            <a:lnTo>
                              <a:pt x="4" y="35"/>
                            </a:lnTo>
                            <a:lnTo>
                              <a:pt x="0" y="8"/>
                            </a:lnTo>
                            <a:lnTo>
                              <a:pt x="35" y="0"/>
                            </a:lnTo>
                            <a:lnTo>
                              <a:pt x="61" y="8"/>
                            </a:lnTo>
                            <a:lnTo>
                              <a:pt x="97" y="35"/>
                            </a:lnTo>
                            <a:lnTo>
                              <a:pt x="145" y="70"/>
                            </a:lnTo>
                            <a:lnTo>
                              <a:pt x="189" y="80"/>
                            </a:lnTo>
                            <a:lnTo>
                              <a:pt x="247" y="74"/>
                            </a:lnTo>
                            <a:lnTo>
                              <a:pt x="309" y="61"/>
                            </a:lnTo>
                            <a:lnTo>
                              <a:pt x="362" y="61"/>
                            </a:lnTo>
                            <a:lnTo>
                              <a:pt x="428" y="74"/>
                            </a:lnTo>
                            <a:lnTo>
                              <a:pt x="464" y="102"/>
                            </a:lnTo>
                            <a:lnTo>
                              <a:pt x="516" y="133"/>
                            </a:lnTo>
                            <a:lnTo>
                              <a:pt x="583" y="164"/>
                            </a:lnTo>
                            <a:lnTo>
                              <a:pt x="658" y="172"/>
                            </a:lnTo>
                            <a:lnTo>
                              <a:pt x="764" y="181"/>
                            </a:lnTo>
                            <a:lnTo>
                              <a:pt x="839" y="177"/>
                            </a:lnTo>
                            <a:lnTo>
                              <a:pt x="883" y="203"/>
                            </a:lnTo>
                            <a:lnTo>
                              <a:pt x="932" y="221"/>
                            </a:lnTo>
                            <a:lnTo>
                              <a:pt x="976" y="225"/>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7" name=""/>
                      <p:cNvSpPr/>
                      <p:nvPr/>
                    </p:nvSpPr>
                    <p:spPr>
                      <a:xfrm>
                        <a:off x="1192320" y="2700360"/>
                        <a:ext cx="630720" cy="503640"/>
                      </a:xfrm>
                      <a:custGeom>
                        <a:avLst/>
                        <a:gdLst/>
                        <a:ahLst/>
                        <a:rect l="0" t="0" r="r" b="b"/>
                        <a:pathLst>
                          <a:path w="1752" h="1399">
                            <a:moveTo>
                              <a:pt x="1187" y="0"/>
                            </a:moveTo>
                            <a:lnTo>
                              <a:pt x="1173" y="57"/>
                            </a:lnTo>
                            <a:lnTo>
                              <a:pt x="1160" y="132"/>
                            </a:lnTo>
                            <a:lnTo>
                              <a:pt x="1156" y="220"/>
                            </a:lnTo>
                            <a:lnTo>
                              <a:pt x="1165" y="313"/>
                            </a:lnTo>
                            <a:lnTo>
                              <a:pt x="1187" y="402"/>
                            </a:lnTo>
                            <a:lnTo>
                              <a:pt x="1235" y="534"/>
                            </a:lnTo>
                            <a:lnTo>
                              <a:pt x="1279" y="640"/>
                            </a:lnTo>
                            <a:lnTo>
                              <a:pt x="1316" y="728"/>
                            </a:lnTo>
                            <a:lnTo>
                              <a:pt x="1333" y="807"/>
                            </a:lnTo>
                            <a:lnTo>
                              <a:pt x="1351" y="882"/>
                            </a:lnTo>
                            <a:lnTo>
                              <a:pt x="1351" y="944"/>
                            </a:lnTo>
                            <a:lnTo>
                              <a:pt x="1338" y="993"/>
                            </a:lnTo>
                            <a:lnTo>
                              <a:pt x="1316" y="1037"/>
                            </a:lnTo>
                            <a:lnTo>
                              <a:pt x="1284" y="1015"/>
                            </a:lnTo>
                            <a:lnTo>
                              <a:pt x="1257" y="1002"/>
                            </a:lnTo>
                            <a:lnTo>
                              <a:pt x="1240" y="953"/>
                            </a:lnTo>
                            <a:lnTo>
                              <a:pt x="1213" y="904"/>
                            </a:lnTo>
                            <a:lnTo>
                              <a:pt x="1187" y="865"/>
                            </a:lnTo>
                            <a:lnTo>
                              <a:pt x="1138" y="812"/>
                            </a:lnTo>
                            <a:lnTo>
                              <a:pt x="1107" y="772"/>
                            </a:lnTo>
                            <a:lnTo>
                              <a:pt x="1090" y="715"/>
                            </a:lnTo>
                            <a:lnTo>
                              <a:pt x="1085" y="662"/>
                            </a:lnTo>
                            <a:lnTo>
                              <a:pt x="1090" y="600"/>
                            </a:lnTo>
                            <a:lnTo>
                              <a:pt x="1076" y="569"/>
                            </a:lnTo>
                            <a:lnTo>
                              <a:pt x="1046" y="600"/>
                            </a:lnTo>
                            <a:lnTo>
                              <a:pt x="1019" y="649"/>
                            </a:lnTo>
                            <a:lnTo>
                              <a:pt x="1002" y="706"/>
                            </a:lnTo>
                            <a:lnTo>
                              <a:pt x="993" y="772"/>
                            </a:lnTo>
                            <a:lnTo>
                              <a:pt x="1002" y="847"/>
                            </a:lnTo>
                            <a:lnTo>
                              <a:pt x="1019" y="940"/>
                            </a:lnTo>
                            <a:lnTo>
                              <a:pt x="1037" y="993"/>
                            </a:lnTo>
                            <a:lnTo>
                              <a:pt x="1037" y="1037"/>
                            </a:lnTo>
                            <a:lnTo>
                              <a:pt x="1019" y="1073"/>
                            </a:lnTo>
                            <a:lnTo>
                              <a:pt x="984" y="1091"/>
                            </a:lnTo>
                            <a:lnTo>
                              <a:pt x="931" y="1100"/>
                            </a:lnTo>
                            <a:lnTo>
                              <a:pt x="882" y="1086"/>
                            </a:lnTo>
                            <a:lnTo>
                              <a:pt x="856" y="1060"/>
                            </a:lnTo>
                            <a:lnTo>
                              <a:pt x="772" y="975"/>
                            </a:lnTo>
                            <a:lnTo>
                              <a:pt x="724" y="913"/>
                            </a:lnTo>
                            <a:lnTo>
                              <a:pt x="684" y="852"/>
                            </a:lnTo>
                            <a:lnTo>
                              <a:pt x="627" y="781"/>
                            </a:lnTo>
                            <a:lnTo>
                              <a:pt x="552" y="688"/>
                            </a:lnTo>
                            <a:lnTo>
                              <a:pt x="472" y="591"/>
                            </a:lnTo>
                            <a:lnTo>
                              <a:pt x="401" y="508"/>
                            </a:lnTo>
                            <a:lnTo>
                              <a:pt x="321" y="437"/>
                            </a:lnTo>
                            <a:lnTo>
                              <a:pt x="277" y="415"/>
                            </a:lnTo>
                            <a:lnTo>
                              <a:pt x="229" y="397"/>
                            </a:lnTo>
                            <a:lnTo>
                              <a:pt x="176" y="389"/>
                            </a:lnTo>
                            <a:lnTo>
                              <a:pt x="97" y="393"/>
                            </a:lnTo>
                            <a:lnTo>
                              <a:pt x="44" y="402"/>
                            </a:lnTo>
                            <a:lnTo>
                              <a:pt x="0" y="415"/>
                            </a:lnTo>
                            <a:lnTo>
                              <a:pt x="405" y="1108"/>
                            </a:lnTo>
                            <a:lnTo>
                              <a:pt x="966" y="1399"/>
                            </a:lnTo>
                            <a:lnTo>
                              <a:pt x="1085" y="1360"/>
                            </a:lnTo>
                            <a:lnTo>
                              <a:pt x="1187" y="1333"/>
                            </a:lnTo>
                            <a:lnTo>
                              <a:pt x="1279" y="1302"/>
                            </a:lnTo>
                            <a:lnTo>
                              <a:pt x="1373" y="1280"/>
                            </a:lnTo>
                            <a:lnTo>
                              <a:pt x="1479" y="1254"/>
                            </a:lnTo>
                            <a:lnTo>
                              <a:pt x="1554" y="1245"/>
                            </a:lnTo>
                            <a:lnTo>
                              <a:pt x="1629" y="1263"/>
                            </a:lnTo>
                            <a:lnTo>
                              <a:pt x="1677" y="1280"/>
                            </a:lnTo>
                            <a:lnTo>
                              <a:pt x="1721" y="1316"/>
                            </a:lnTo>
                            <a:lnTo>
                              <a:pt x="1743" y="1333"/>
                            </a:lnTo>
                            <a:lnTo>
                              <a:pt x="1748" y="1307"/>
                            </a:lnTo>
                            <a:lnTo>
                              <a:pt x="1752" y="1276"/>
                            </a:lnTo>
                            <a:lnTo>
                              <a:pt x="1752" y="1236"/>
                            </a:lnTo>
                            <a:lnTo>
                              <a:pt x="1730" y="1192"/>
                            </a:lnTo>
                            <a:lnTo>
                              <a:pt x="1699" y="1139"/>
                            </a:lnTo>
                            <a:lnTo>
                              <a:pt x="1655" y="1086"/>
                            </a:lnTo>
                            <a:lnTo>
                              <a:pt x="1620" y="1037"/>
                            </a:lnTo>
                            <a:lnTo>
                              <a:pt x="1576" y="988"/>
                            </a:lnTo>
                            <a:lnTo>
                              <a:pt x="1532" y="940"/>
                            </a:lnTo>
                            <a:lnTo>
                              <a:pt x="1501" y="882"/>
                            </a:lnTo>
                            <a:lnTo>
                              <a:pt x="1470" y="834"/>
                            </a:lnTo>
                            <a:lnTo>
                              <a:pt x="1430" y="772"/>
                            </a:lnTo>
                            <a:lnTo>
                              <a:pt x="1386" y="715"/>
                            </a:lnTo>
                            <a:lnTo>
                              <a:pt x="1346" y="658"/>
                            </a:lnTo>
                            <a:lnTo>
                              <a:pt x="1306" y="587"/>
                            </a:lnTo>
                            <a:lnTo>
                              <a:pt x="1279" y="512"/>
                            </a:lnTo>
                            <a:lnTo>
                              <a:pt x="1253" y="441"/>
                            </a:lnTo>
                            <a:lnTo>
                              <a:pt x="1226" y="367"/>
                            </a:lnTo>
                            <a:lnTo>
                              <a:pt x="1213" y="291"/>
                            </a:lnTo>
                            <a:lnTo>
                              <a:pt x="1209" y="216"/>
                            </a:lnTo>
                            <a:lnTo>
                              <a:pt x="1209" y="145"/>
                            </a:lnTo>
                            <a:lnTo>
                              <a:pt x="1187"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8" name=""/>
                      <p:cNvSpPr/>
                      <p:nvPr/>
                    </p:nvSpPr>
                    <p:spPr>
                      <a:xfrm>
                        <a:off x="1154160" y="2838600"/>
                        <a:ext cx="475200" cy="403560"/>
                      </a:xfrm>
                      <a:custGeom>
                        <a:avLst/>
                        <a:gdLst/>
                        <a:ahLst/>
                        <a:rect l="0" t="0" r="r" b="b"/>
                        <a:pathLst>
                          <a:path w="1320" h="1121">
                            <a:moveTo>
                              <a:pt x="1126" y="1116"/>
                            </a:moveTo>
                            <a:lnTo>
                              <a:pt x="1183" y="1121"/>
                            </a:lnTo>
                            <a:lnTo>
                              <a:pt x="1236" y="1116"/>
                            </a:lnTo>
                            <a:lnTo>
                              <a:pt x="1280" y="1107"/>
                            </a:lnTo>
                            <a:lnTo>
                              <a:pt x="1311" y="1076"/>
                            </a:lnTo>
                            <a:lnTo>
                              <a:pt x="1320" y="1041"/>
                            </a:lnTo>
                            <a:lnTo>
                              <a:pt x="1316" y="997"/>
                            </a:lnTo>
                            <a:lnTo>
                              <a:pt x="1294" y="949"/>
                            </a:lnTo>
                            <a:lnTo>
                              <a:pt x="1258" y="922"/>
                            </a:lnTo>
                            <a:lnTo>
                              <a:pt x="1197" y="904"/>
                            </a:lnTo>
                            <a:lnTo>
                              <a:pt x="1135" y="909"/>
                            </a:lnTo>
                            <a:lnTo>
                              <a:pt x="1064" y="896"/>
                            </a:lnTo>
                            <a:lnTo>
                              <a:pt x="1011" y="860"/>
                            </a:lnTo>
                            <a:lnTo>
                              <a:pt x="966" y="812"/>
                            </a:lnTo>
                            <a:lnTo>
                              <a:pt x="891" y="772"/>
                            </a:lnTo>
                            <a:lnTo>
                              <a:pt x="830" y="728"/>
                            </a:lnTo>
                            <a:lnTo>
                              <a:pt x="763" y="702"/>
                            </a:lnTo>
                            <a:lnTo>
                              <a:pt x="697" y="680"/>
                            </a:lnTo>
                            <a:lnTo>
                              <a:pt x="622" y="640"/>
                            </a:lnTo>
                            <a:lnTo>
                              <a:pt x="569" y="605"/>
                            </a:lnTo>
                            <a:lnTo>
                              <a:pt x="521" y="533"/>
                            </a:lnTo>
                            <a:lnTo>
                              <a:pt x="472" y="463"/>
                            </a:lnTo>
                            <a:lnTo>
                              <a:pt x="411" y="361"/>
                            </a:lnTo>
                            <a:lnTo>
                              <a:pt x="340" y="264"/>
                            </a:lnTo>
                            <a:lnTo>
                              <a:pt x="277" y="180"/>
                            </a:lnTo>
                            <a:lnTo>
                              <a:pt x="216" y="123"/>
                            </a:lnTo>
                            <a:lnTo>
                              <a:pt x="163" y="74"/>
                            </a:lnTo>
                            <a:lnTo>
                              <a:pt x="105" y="26"/>
                            </a:lnTo>
                            <a:lnTo>
                              <a:pt x="52" y="4"/>
                            </a:lnTo>
                            <a:lnTo>
                              <a:pt x="0" y="0"/>
                            </a:lnTo>
                            <a:lnTo>
                              <a:pt x="35" y="35"/>
                            </a:lnTo>
                            <a:lnTo>
                              <a:pt x="57" y="79"/>
                            </a:lnTo>
                            <a:lnTo>
                              <a:pt x="79" y="158"/>
                            </a:lnTo>
                            <a:lnTo>
                              <a:pt x="88" y="229"/>
                            </a:lnTo>
                            <a:lnTo>
                              <a:pt x="92" y="299"/>
                            </a:lnTo>
                            <a:lnTo>
                              <a:pt x="79" y="370"/>
                            </a:lnTo>
                            <a:lnTo>
                              <a:pt x="57" y="440"/>
                            </a:lnTo>
                            <a:lnTo>
                              <a:pt x="30" y="515"/>
                            </a:lnTo>
                            <a:lnTo>
                              <a:pt x="52" y="555"/>
                            </a:lnTo>
                            <a:lnTo>
                              <a:pt x="79" y="587"/>
                            </a:lnTo>
                            <a:lnTo>
                              <a:pt x="123" y="627"/>
                            </a:lnTo>
                            <a:lnTo>
                              <a:pt x="180" y="653"/>
                            </a:lnTo>
                            <a:lnTo>
                              <a:pt x="246" y="666"/>
                            </a:lnTo>
                            <a:lnTo>
                              <a:pt x="308" y="666"/>
                            </a:lnTo>
                            <a:lnTo>
                              <a:pt x="362" y="662"/>
                            </a:lnTo>
                            <a:lnTo>
                              <a:pt x="380" y="688"/>
                            </a:lnTo>
                            <a:lnTo>
                              <a:pt x="384" y="724"/>
                            </a:lnTo>
                            <a:lnTo>
                              <a:pt x="362" y="759"/>
                            </a:lnTo>
                            <a:lnTo>
                              <a:pt x="349" y="807"/>
                            </a:lnTo>
                            <a:lnTo>
                              <a:pt x="349" y="852"/>
                            </a:lnTo>
                            <a:lnTo>
                              <a:pt x="375" y="896"/>
                            </a:lnTo>
                            <a:lnTo>
                              <a:pt x="411" y="918"/>
                            </a:lnTo>
                            <a:lnTo>
                              <a:pt x="450" y="904"/>
                            </a:lnTo>
                            <a:lnTo>
                              <a:pt x="494" y="918"/>
                            </a:lnTo>
                            <a:lnTo>
                              <a:pt x="534" y="944"/>
                            </a:lnTo>
                            <a:lnTo>
                              <a:pt x="596" y="971"/>
                            </a:lnTo>
                            <a:lnTo>
                              <a:pt x="666" y="988"/>
                            </a:lnTo>
                            <a:lnTo>
                              <a:pt x="750" y="1002"/>
                            </a:lnTo>
                            <a:lnTo>
                              <a:pt x="816" y="1010"/>
                            </a:lnTo>
                            <a:lnTo>
                              <a:pt x="878" y="1002"/>
                            </a:lnTo>
                            <a:lnTo>
                              <a:pt x="962" y="1015"/>
                            </a:lnTo>
                            <a:lnTo>
                              <a:pt x="998" y="1041"/>
                            </a:lnTo>
                            <a:lnTo>
                              <a:pt x="1069" y="1085"/>
                            </a:lnTo>
                            <a:lnTo>
                              <a:pt x="1126" y="111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9" name=""/>
                      <p:cNvSpPr/>
                      <p:nvPr/>
                    </p:nvSpPr>
                    <p:spPr>
                      <a:xfrm>
                        <a:off x="1668600" y="3137040"/>
                        <a:ext cx="143280" cy="52920"/>
                      </a:xfrm>
                      <a:custGeom>
                        <a:avLst/>
                        <a:gdLst/>
                        <a:ahLst/>
                        <a:rect l="0" t="0" r="r" b="b"/>
                        <a:pathLst>
                          <a:path w="398" h="147">
                            <a:moveTo>
                              <a:pt x="398" y="93"/>
                            </a:moveTo>
                            <a:lnTo>
                              <a:pt x="385" y="49"/>
                            </a:lnTo>
                            <a:lnTo>
                              <a:pt x="359" y="22"/>
                            </a:lnTo>
                            <a:lnTo>
                              <a:pt x="319" y="4"/>
                            </a:lnTo>
                            <a:lnTo>
                              <a:pt x="274" y="0"/>
                            </a:lnTo>
                            <a:lnTo>
                              <a:pt x="221" y="13"/>
                            </a:lnTo>
                            <a:lnTo>
                              <a:pt x="146" y="30"/>
                            </a:lnTo>
                            <a:lnTo>
                              <a:pt x="83" y="49"/>
                            </a:lnTo>
                            <a:lnTo>
                              <a:pt x="0" y="71"/>
                            </a:lnTo>
                            <a:lnTo>
                              <a:pt x="102" y="89"/>
                            </a:lnTo>
                            <a:lnTo>
                              <a:pt x="159" y="112"/>
                            </a:lnTo>
                            <a:lnTo>
                              <a:pt x="221" y="129"/>
                            </a:lnTo>
                            <a:lnTo>
                              <a:pt x="261" y="143"/>
                            </a:lnTo>
                            <a:lnTo>
                              <a:pt x="319" y="147"/>
                            </a:lnTo>
                            <a:lnTo>
                              <a:pt x="354" y="143"/>
                            </a:lnTo>
                            <a:lnTo>
                              <a:pt x="385" y="121"/>
                            </a:lnTo>
                            <a:lnTo>
                              <a:pt x="398" y="93"/>
                            </a:lnTo>
                            <a:close/>
                          </a:path>
                        </a:pathLst>
                      </a:custGeom>
                      <a:solidFill>
                        <a:srgbClr val="99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910" name=""/>
                      <p:cNvSpPr/>
                      <p:nvPr/>
                    </p:nvSpPr>
                    <p:spPr>
                      <a:xfrm>
                        <a:off x="1492200" y="2703600"/>
                        <a:ext cx="179640" cy="370080"/>
                      </a:xfrm>
                      <a:custGeom>
                        <a:avLst/>
                        <a:gdLst/>
                        <a:ahLst/>
                        <a:rect l="0" t="0" r="r" b="b"/>
                        <a:pathLst>
                          <a:path w="499" h="1028">
                            <a:moveTo>
                              <a:pt x="283" y="0"/>
                            </a:moveTo>
                            <a:lnTo>
                              <a:pt x="296" y="141"/>
                            </a:lnTo>
                            <a:lnTo>
                              <a:pt x="309" y="291"/>
                            </a:lnTo>
                            <a:lnTo>
                              <a:pt x="344" y="427"/>
                            </a:lnTo>
                            <a:lnTo>
                              <a:pt x="375" y="502"/>
                            </a:lnTo>
                            <a:lnTo>
                              <a:pt x="402" y="578"/>
                            </a:lnTo>
                            <a:lnTo>
                              <a:pt x="433" y="644"/>
                            </a:lnTo>
                            <a:lnTo>
                              <a:pt x="455" y="702"/>
                            </a:lnTo>
                            <a:lnTo>
                              <a:pt x="490" y="799"/>
                            </a:lnTo>
                            <a:lnTo>
                              <a:pt x="499" y="865"/>
                            </a:lnTo>
                            <a:lnTo>
                              <a:pt x="499" y="944"/>
                            </a:lnTo>
                            <a:lnTo>
                              <a:pt x="494" y="988"/>
                            </a:lnTo>
                            <a:lnTo>
                              <a:pt x="481" y="1028"/>
                            </a:lnTo>
                            <a:lnTo>
                              <a:pt x="455" y="1010"/>
                            </a:lnTo>
                            <a:lnTo>
                              <a:pt x="433" y="993"/>
                            </a:lnTo>
                            <a:lnTo>
                              <a:pt x="402" y="1028"/>
                            </a:lnTo>
                            <a:lnTo>
                              <a:pt x="419" y="988"/>
                            </a:lnTo>
                            <a:lnTo>
                              <a:pt x="415" y="953"/>
                            </a:lnTo>
                            <a:lnTo>
                              <a:pt x="393" y="904"/>
                            </a:lnTo>
                            <a:lnTo>
                              <a:pt x="367" y="865"/>
                            </a:lnTo>
                            <a:lnTo>
                              <a:pt x="327" y="821"/>
                            </a:lnTo>
                            <a:lnTo>
                              <a:pt x="296" y="794"/>
                            </a:lnTo>
                            <a:lnTo>
                              <a:pt x="274" y="763"/>
                            </a:lnTo>
                            <a:lnTo>
                              <a:pt x="256" y="706"/>
                            </a:lnTo>
                            <a:lnTo>
                              <a:pt x="246" y="640"/>
                            </a:lnTo>
                            <a:lnTo>
                              <a:pt x="252" y="591"/>
                            </a:lnTo>
                            <a:lnTo>
                              <a:pt x="229" y="547"/>
                            </a:lnTo>
                            <a:lnTo>
                              <a:pt x="185" y="521"/>
                            </a:lnTo>
                            <a:lnTo>
                              <a:pt x="136" y="498"/>
                            </a:lnTo>
                            <a:lnTo>
                              <a:pt x="101" y="485"/>
                            </a:lnTo>
                            <a:lnTo>
                              <a:pt x="57" y="476"/>
                            </a:lnTo>
                            <a:lnTo>
                              <a:pt x="22" y="454"/>
                            </a:lnTo>
                            <a:lnTo>
                              <a:pt x="0" y="436"/>
                            </a:lnTo>
                            <a:lnTo>
                              <a:pt x="35" y="432"/>
                            </a:lnTo>
                            <a:lnTo>
                              <a:pt x="74" y="427"/>
                            </a:lnTo>
                            <a:lnTo>
                              <a:pt x="110" y="414"/>
                            </a:lnTo>
                            <a:lnTo>
                              <a:pt x="149" y="392"/>
                            </a:lnTo>
                            <a:lnTo>
                              <a:pt x="180" y="374"/>
                            </a:lnTo>
                            <a:lnTo>
                              <a:pt x="202" y="313"/>
                            </a:lnTo>
                            <a:lnTo>
                              <a:pt x="211" y="220"/>
                            </a:lnTo>
                            <a:lnTo>
                              <a:pt x="229" y="119"/>
                            </a:lnTo>
                            <a:lnTo>
                              <a:pt x="283"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1" name=""/>
                      <p:cNvSpPr/>
                      <p:nvPr/>
                    </p:nvSpPr>
                    <p:spPr>
                      <a:xfrm>
                        <a:off x="1714680" y="2832120"/>
                        <a:ext cx="38520" cy="206640"/>
                      </a:xfrm>
                      <a:custGeom>
                        <a:avLst/>
                        <a:gdLst/>
                        <a:ahLst/>
                        <a:rect l="0" t="0" r="r" b="b"/>
                        <a:pathLst>
                          <a:path w="107" h="574">
                            <a:moveTo>
                              <a:pt x="45" y="362"/>
                            </a:moveTo>
                            <a:lnTo>
                              <a:pt x="31" y="419"/>
                            </a:lnTo>
                            <a:lnTo>
                              <a:pt x="49" y="468"/>
                            </a:lnTo>
                            <a:lnTo>
                              <a:pt x="62" y="512"/>
                            </a:lnTo>
                            <a:lnTo>
                              <a:pt x="81" y="574"/>
                            </a:lnTo>
                            <a:lnTo>
                              <a:pt x="53" y="534"/>
                            </a:lnTo>
                            <a:lnTo>
                              <a:pt x="26" y="486"/>
                            </a:lnTo>
                            <a:lnTo>
                              <a:pt x="0" y="433"/>
                            </a:lnTo>
                            <a:lnTo>
                              <a:pt x="0" y="371"/>
                            </a:lnTo>
                            <a:lnTo>
                              <a:pt x="36" y="309"/>
                            </a:lnTo>
                            <a:lnTo>
                              <a:pt x="75" y="224"/>
                            </a:lnTo>
                            <a:lnTo>
                              <a:pt x="75" y="171"/>
                            </a:lnTo>
                            <a:lnTo>
                              <a:pt x="62" y="97"/>
                            </a:lnTo>
                            <a:lnTo>
                              <a:pt x="31" y="0"/>
                            </a:lnTo>
                            <a:lnTo>
                              <a:pt x="75" y="57"/>
                            </a:lnTo>
                            <a:lnTo>
                              <a:pt x="103" y="119"/>
                            </a:lnTo>
                            <a:lnTo>
                              <a:pt x="107" y="211"/>
                            </a:lnTo>
                            <a:lnTo>
                              <a:pt x="94" y="282"/>
                            </a:lnTo>
                            <a:lnTo>
                              <a:pt x="45" y="362"/>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2" name=""/>
                      <p:cNvSpPr/>
                      <p:nvPr/>
                    </p:nvSpPr>
                    <p:spPr>
                      <a:xfrm>
                        <a:off x="1562040" y="2475000"/>
                        <a:ext cx="168480" cy="536760"/>
                      </a:xfrm>
                      <a:custGeom>
                        <a:avLst/>
                        <a:gdLst/>
                        <a:ahLst/>
                        <a:rect l="0" t="0" r="r" b="b"/>
                        <a:pathLst>
                          <a:path w="468" h="1491">
                            <a:moveTo>
                              <a:pt x="468" y="1491"/>
                            </a:moveTo>
                            <a:lnTo>
                              <a:pt x="441" y="1460"/>
                            </a:lnTo>
                            <a:lnTo>
                              <a:pt x="362" y="1354"/>
                            </a:lnTo>
                            <a:lnTo>
                              <a:pt x="300" y="1253"/>
                            </a:lnTo>
                            <a:lnTo>
                              <a:pt x="239" y="1121"/>
                            </a:lnTo>
                            <a:lnTo>
                              <a:pt x="198" y="993"/>
                            </a:lnTo>
                            <a:lnTo>
                              <a:pt x="180" y="891"/>
                            </a:lnTo>
                            <a:lnTo>
                              <a:pt x="171" y="746"/>
                            </a:lnTo>
                            <a:lnTo>
                              <a:pt x="158" y="617"/>
                            </a:lnTo>
                            <a:lnTo>
                              <a:pt x="211" y="643"/>
                            </a:lnTo>
                            <a:lnTo>
                              <a:pt x="278" y="687"/>
                            </a:lnTo>
                            <a:lnTo>
                              <a:pt x="331" y="746"/>
                            </a:lnTo>
                            <a:lnTo>
                              <a:pt x="336" y="687"/>
                            </a:lnTo>
                            <a:lnTo>
                              <a:pt x="327" y="612"/>
                            </a:lnTo>
                            <a:lnTo>
                              <a:pt x="305" y="555"/>
                            </a:lnTo>
                            <a:lnTo>
                              <a:pt x="269" y="485"/>
                            </a:lnTo>
                            <a:lnTo>
                              <a:pt x="224" y="414"/>
                            </a:lnTo>
                            <a:lnTo>
                              <a:pt x="180" y="348"/>
                            </a:lnTo>
                            <a:lnTo>
                              <a:pt x="145" y="282"/>
                            </a:lnTo>
                            <a:lnTo>
                              <a:pt x="105" y="207"/>
                            </a:lnTo>
                            <a:lnTo>
                              <a:pt x="83" y="149"/>
                            </a:lnTo>
                            <a:lnTo>
                              <a:pt x="52" y="79"/>
                            </a:lnTo>
                            <a:lnTo>
                              <a:pt x="30" y="39"/>
                            </a:lnTo>
                            <a:lnTo>
                              <a:pt x="0" y="0"/>
                            </a:lnTo>
                            <a:lnTo>
                              <a:pt x="52" y="26"/>
                            </a:lnTo>
                            <a:lnTo>
                              <a:pt x="105" y="52"/>
                            </a:lnTo>
                            <a:lnTo>
                              <a:pt x="171" y="101"/>
                            </a:lnTo>
                            <a:lnTo>
                              <a:pt x="211" y="145"/>
                            </a:lnTo>
                            <a:lnTo>
                              <a:pt x="252" y="180"/>
                            </a:lnTo>
                            <a:lnTo>
                              <a:pt x="300" y="321"/>
                            </a:lnTo>
                            <a:lnTo>
                              <a:pt x="433" y="555"/>
                            </a:lnTo>
                            <a:lnTo>
                              <a:pt x="411" y="847"/>
                            </a:lnTo>
                            <a:lnTo>
                              <a:pt x="455" y="1010"/>
                            </a:lnTo>
                            <a:lnTo>
                              <a:pt x="424" y="1143"/>
                            </a:lnTo>
                            <a:lnTo>
                              <a:pt x="406" y="1262"/>
                            </a:lnTo>
                            <a:lnTo>
                              <a:pt x="424" y="1363"/>
                            </a:lnTo>
                            <a:lnTo>
                              <a:pt x="468" y="149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3" name=""/>
                      <p:cNvSpPr/>
                      <p:nvPr/>
                    </p:nvSpPr>
                    <p:spPr>
                      <a:xfrm>
                        <a:off x="741240" y="2424240"/>
                        <a:ext cx="192600" cy="614880"/>
                      </a:xfrm>
                      <a:custGeom>
                        <a:avLst/>
                        <a:gdLst/>
                        <a:ahLst/>
                        <a:rect l="0" t="0" r="r" b="b"/>
                        <a:pathLst>
                          <a:path w="535" h="1708">
                            <a:moveTo>
                              <a:pt x="509" y="1633"/>
                            </a:moveTo>
                            <a:lnTo>
                              <a:pt x="517" y="1708"/>
                            </a:lnTo>
                            <a:lnTo>
                              <a:pt x="535" y="1624"/>
                            </a:lnTo>
                            <a:lnTo>
                              <a:pt x="535" y="1549"/>
                            </a:lnTo>
                            <a:lnTo>
                              <a:pt x="522" y="1470"/>
                            </a:lnTo>
                            <a:lnTo>
                              <a:pt x="517" y="1369"/>
                            </a:lnTo>
                            <a:lnTo>
                              <a:pt x="509" y="1307"/>
                            </a:lnTo>
                            <a:lnTo>
                              <a:pt x="465" y="1160"/>
                            </a:lnTo>
                            <a:lnTo>
                              <a:pt x="451" y="1068"/>
                            </a:lnTo>
                            <a:lnTo>
                              <a:pt x="465" y="962"/>
                            </a:lnTo>
                            <a:lnTo>
                              <a:pt x="451" y="865"/>
                            </a:lnTo>
                            <a:lnTo>
                              <a:pt x="429" y="777"/>
                            </a:lnTo>
                            <a:lnTo>
                              <a:pt x="403" y="702"/>
                            </a:lnTo>
                            <a:lnTo>
                              <a:pt x="380" y="622"/>
                            </a:lnTo>
                            <a:lnTo>
                              <a:pt x="371" y="521"/>
                            </a:lnTo>
                            <a:lnTo>
                              <a:pt x="353" y="418"/>
                            </a:lnTo>
                            <a:lnTo>
                              <a:pt x="336" y="335"/>
                            </a:lnTo>
                            <a:lnTo>
                              <a:pt x="300" y="207"/>
                            </a:lnTo>
                            <a:lnTo>
                              <a:pt x="274" y="105"/>
                            </a:lnTo>
                            <a:lnTo>
                              <a:pt x="221" y="0"/>
                            </a:lnTo>
                            <a:lnTo>
                              <a:pt x="225" y="48"/>
                            </a:lnTo>
                            <a:lnTo>
                              <a:pt x="221" y="123"/>
                            </a:lnTo>
                            <a:lnTo>
                              <a:pt x="221" y="202"/>
                            </a:lnTo>
                            <a:lnTo>
                              <a:pt x="225" y="317"/>
                            </a:lnTo>
                            <a:lnTo>
                              <a:pt x="252" y="446"/>
                            </a:lnTo>
                            <a:lnTo>
                              <a:pt x="199" y="361"/>
                            </a:lnTo>
                            <a:lnTo>
                              <a:pt x="155" y="299"/>
                            </a:lnTo>
                            <a:lnTo>
                              <a:pt x="101" y="229"/>
                            </a:lnTo>
                            <a:lnTo>
                              <a:pt x="52" y="167"/>
                            </a:lnTo>
                            <a:lnTo>
                              <a:pt x="0" y="123"/>
                            </a:lnTo>
                            <a:lnTo>
                              <a:pt x="74" y="238"/>
                            </a:lnTo>
                            <a:lnTo>
                              <a:pt x="119" y="313"/>
                            </a:lnTo>
                            <a:lnTo>
                              <a:pt x="195" y="418"/>
                            </a:lnTo>
                            <a:lnTo>
                              <a:pt x="243" y="516"/>
                            </a:lnTo>
                            <a:lnTo>
                              <a:pt x="239" y="574"/>
                            </a:lnTo>
                            <a:lnTo>
                              <a:pt x="243" y="662"/>
                            </a:lnTo>
                            <a:lnTo>
                              <a:pt x="274" y="759"/>
                            </a:lnTo>
                            <a:lnTo>
                              <a:pt x="300" y="825"/>
                            </a:lnTo>
                            <a:lnTo>
                              <a:pt x="340" y="896"/>
                            </a:lnTo>
                            <a:lnTo>
                              <a:pt x="322" y="1002"/>
                            </a:lnTo>
                            <a:lnTo>
                              <a:pt x="336" y="1103"/>
                            </a:lnTo>
                            <a:lnTo>
                              <a:pt x="367" y="1226"/>
                            </a:lnTo>
                            <a:lnTo>
                              <a:pt x="416" y="1355"/>
                            </a:lnTo>
                            <a:lnTo>
                              <a:pt x="447" y="1457"/>
                            </a:lnTo>
                            <a:lnTo>
                              <a:pt x="403" y="1421"/>
                            </a:lnTo>
                            <a:lnTo>
                              <a:pt x="367" y="1369"/>
                            </a:lnTo>
                            <a:lnTo>
                              <a:pt x="371" y="1421"/>
                            </a:lnTo>
                            <a:lnTo>
                              <a:pt x="403" y="1496"/>
                            </a:lnTo>
                            <a:lnTo>
                              <a:pt x="438" y="1540"/>
                            </a:lnTo>
                            <a:lnTo>
                              <a:pt x="460" y="1580"/>
                            </a:lnTo>
                            <a:lnTo>
                              <a:pt x="416" y="1589"/>
                            </a:lnTo>
                            <a:lnTo>
                              <a:pt x="344" y="1589"/>
                            </a:lnTo>
                            <a:lnTo>
                              <a:pt x="412" y="1602"/>
                            </a:lnTo>
                            <a:lnTo>
                              <a:pt x="473" y="1620"/>
                            </a:lnTo>
                            <a:lnTo>
                              <a:pt x="509" y="1633"/>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4" name=""/>
                      <p:cNvSpPr/>
                      <p:nvPr/>
                    </p:nvSpPr>
                    <p:spPr>
                      <a:xfrm>
                        <a:off x="950760" y="2203560"/>
                        <a:ext cx="500400" cy="87840"/>
                      </a:xfrm>
                      <a:custGeom>
                        <a:avLst/>
                        <a:gdLst/>
                        <a:ahLst/>
                        <a:rect l="0" t="0" r="r" b="b"/>
                        <a:pathLst>
                          <a:path w="1390" h="244">
                            <a:moveTo>
                              <a:pt x="1390" y="0"/>
                            </a:moveTo>
                            <a:lnTo>
                              <a:pt x="1354" y="44"/>
                            </a:lnTo>
                            <a:lnTo>
                              <a:pt x="1297" y="89"/>
                            </a:lnTo>
                            <a:lnTo>
                              <a:pt x="1222" y="128"/>
                            </a:lnTo>
                            <a:lnTo>
                              <a:pt x="1156" y="164"/>
                            </a:lnTo>
                            <a:lnTo>
                              <a:pt x="1072" y="191"/>
                            </a:lnTo>
                            <a:lnTo>
                              <a:pt x="988" y="218"/>
                            </a:lnTo>
                            <a:lnTo>
                              <a:pt x="874" y="235"/>
                            </a:lnTo>
                            <a:lnTo>
                              <a:pt x="777" y="244"/>
                            </a:lnTo>
                            <a:lnTo>
                              <a:pt x="630" y="244"/>
                            </a:lnTo>
                            <a:lnTo>
                              <a:pt x="529" y="240"/>
                            </a:lnTo>
                            <a:lnTo>
                              <a:pt x="423" y="226"/>
                            </a:lnTo>
                            <a:lnTo>
                              <a:pt x="321" y="196"/>
                            </a:lnTo>
                            <a:lnTo>
                              <a:pt x="229" y="164"/>
                            </a:lnTo>
                            <a:lnTo>
                              <a:pt x="141" y="115"/>
                            </a:lnTo>
                            <a:lnTo>
                              <a:pt x="57" y="62"/>
                            </a:lnTo>
                            <a:lnTo>
                              <a:pt x="0" y="17"/>
                            </a:lnTo>
                            <a:lnTo>
                              <a:pt x="1390" y="0"/>
                            </a:lnTo>
                            <a:close/>
                          </a:path>
                        </a:pathLst>
                      </a:custGeom>
                      <a:solidFill>
                        <a:srgbClr val="990000"/>
                      </a:solidFill>
                      <a:ln w="12600">
                        <a:solidFill>
                          <a:srgbClr val="df3f5f"/>
                        </a:solidFill>
                        <a:round/>
                      </a:ln>
                    </p:spPr>
                    <p:txBody>
                      <a:bodyPr lIns="96120" rIns="96120" tIns="36720" bIns="36720" anchor="t">
                        <a:noAutofit/>
                      </a:bodyPr>
                      <a:p>
                        <a:endParaRPr b="0" lang="en-US" sz="1800" spc="-1" strike="noStrike">
                          <a:solidFill>
                            <a:srgbClr val="ffffff"/>
                          </a:solidFill>
                          <a:latin typeface="Arial"/>
                        </a:endParaRPr>
                      </a:p>
                    </p:txBody>
                  </p:sp>
                  <p:sp>
                    <p:nvSpPr>
                      <p:cNvPr id="915" name=""/>
                      <p:cNvSpPr/>
                      <p:nvPr/>
                    </p:nvSpPr>
                    <p:spPr>
                      <a:xfrm>
                        <a:off x="1001880" y="3225960"/>
                        <a:ext cx="511560" cy="259200"/>
                      </a:xfrm>
                      <a:custGeom>
                        <a:avLst/>
                        <a:gdLst/>
                        <a:ahLst/>
                        <a:rect l="0" t="0" r="r" b="b"/>
                        <a:pathLst>
                          <a:path w="1421" h="720">
                            <a:moveTo>
                              <a:pt x="1421" y="181"/>
                            </a:moveTo>
                            <a:lnTo>
                              <a:pt x="1404" y="149"/>
                            </a:lnTo>
                            <a:lnTo>
                              <a:pt x="1386" y="119"/>
                            </a:lnTo>
                            <a:lnTo>
                              <a:pt x="1351" y="97"/>
                            </a:lnTo>
                            <a:lnTo>
                              <a:pt x="1280" y="83"/>
                            </a:lnTo>
                            <a:lnTo>
                              <a:pt x="1227" y="66"/>
                            </a:lnTo>
                            <a:lnTo>
                              <a:pt x="1091" y="44"/>
                            </a:lnTo>
                            <a:lnTo>
                              <a:pt x="949" y="17"/>
                            </a:lnTo>
                            <a:lnTo>
                              <a:pt x="834" y="13"/>
                            </a:lnTo>
                            <a:lnTo>
                              <a:pt x="733" y="0"/>
                            </a:lnTo>
                            <a:lnTo>
                              <a:pt x="631" y="0"/>
                            </a:lnTo>
                            <a:lnTo>
                              <a:pt x="552" y="17"/>
                            </a:lnTo>
                            <a:lnTo>
                              <a:pt x="455" y="39"/>
                            </a:lnTo>
                            <a:lnTo>
                              <a:pt x="384" y="61"/>
                            </a:lnTo>
                            <a:lnTo>
                              <a:pt x="308" y="92"/>
                            </a:lnTo>
                            <a:lnTo>
                              <a:pt x="238" y="127"/>
                            </a:lnTo>
                            <a:lnTo>
                              <a:pt x="171" y="158"/>
                            </a:lnTo>
                            <a:lnTo>
                              <a:pt x="110" y="167"/>
                            </a:lnTo>
                            <a:lnTo>
                              <a:pt x="57" y="158"/>
                            </a:lnTo>
                            <a:lnTo>
                              <a:pt x="0" y="149"/>
                            </a:lnTo>
                            <a:lnTo>
                              <a:pt x="44" y="181"/>
                            </a:lnTo>
                            <a:lnTo>
                              <a:pt x="88" y="230"/>
                            </a:lnTo>
                            <a:lnTo>
                              <a:pt x="132" y="283"/>
                            </a:lnTo>
                            <a:lnTo>
                              <a:pt x="154" y="336"/>
                            </a:lnTo>
                            <a:lnTo>
                              <a:pt x="163" y="384"/>
                            </a:lnTo>
                            <a:lnTo>
                              <a:pt x="167" y="450"/>
                            </a:lnTo>
                            <a:lnTo>
                              <a:pt x="167" y="538"/>
                            </a:lnTo>
                            <a:lnTo>
                              <a:pt x="180" y="720"/>
                            </a:lnTo>
                            <a:lnTo>
                              <a:pt x="189" y="645"/>
                            </a:lnTo>
                            <a:lnTo>
                              <a:pt x="194" y="562"/>
                            </a:lnTo>
                            <a:lnTo>
                              <a:pt x="207" y="468"/>
                            </a:lnTo>
                            <a:lnTo>
                              <a:pt x="220" y="393"/>
                            </a:lnTo>
                            <a:lnTo>
                              <a:pt x="251" y="327"/>
                            </a:lnTo>
                            <a:lnTo>
                              <a:pt x="304" y="261"/>
                            </a:lnTo>
                            <a:lnTo>
                              <a:pt x="380" y="208"/>
                            </a:lnTo>
                            <a:lnTo>
                              <a:pt x="481" y="176"/>
                            </a:lnTo>
                            <a:lnTo>
                              <a:pt x="596" y="154"/>
                            </a:lnTo>
                            <a:lnTo>
                              <a:pt x="688" y="163"/>
                            </a:lnTo>
                            <a:lnTo>
                              <a:pt x="772" y="181"/>
                            </a:lnTo>
                            <a:lnTo>
                              <a:pt x="834" y="199"/>
                            </a:lnTo>
                            <a:lnTo>
                              <a:pt x="896" y="208"/>
                            </a:lnTo>
                            <a:lnTo>
                              <a:pt x="975" y="203"/>
                            </a:lnTo>
                            <a:lnTo>
                              <a:pt x="1073" y="199"/>
                            </a:lnTo>
                            <a:lnTo>
                              <a:pt x="1144" y="203"/>
                            </a:lnTo>
                            <a:lnTo>
                              <a:pt x="1219" y="212"/>
                            </a:lnTo>
                            <a:lnTo>
                              <a:pt x="1294" y="230"/>
                            </a:lnTo>
                            <a:lnTo>
                              <a:pt x="1369" y="234"/>
                            </a:lnTo>
                            <a:lnTo>
                              <a:pt x="1413" y="212"/>
                            </a:lnTo>
                            <a:lnTo>
                              <a:pt x="1421" y="18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916" name=""/>
                <p:cNvGrpSpPr/>
                <p:nvPr/>
              </p:nvGrpSpPr>
              <p:grpSpPr>
                <a:xfrm>
                  <a:off x="1554120" y="1935000"/>
                  <a:ext cx="663840" cy="908280"/>
                  <a:chOff x="1554120" y="1935000"/>
                  <a:chExt cx="663840" cy="908280"/>
                </a:xfrm>
              </p:grpSpPr>
              <p:grpSp>
                <p:nvGrpSpPr>
                  <p:cNvPr id="917" name=""/>
                  <p:cNvGrpSpPr/>
                  <p:nvPr/>
                </p:nvGrpSpPr>
                <p:grpSpPr>
                  <a:xfrm>
                    <a:off x="1554120" y="1935000"/>
                    <a:ext cx="613080" cy="908280"/>
                    <a:chOff x="1554120" y="1935000"/>
                    <a:chExt cx="613080" cy="908280"/>
                  </a:xfrm>
                </p:grpSpPr>
                <p:grpSp>
                  <p:nvGrpSpPr>
                    <p:cNvPr id="918" name=""/>
                    <p:cNvGrpSpPr/>
                    <p:nvPr/>
                  </p:nvGrpSpPr>
                  <p:grpSpPr>
                    <a:xfrm>
                      <a:off x="1554120" y="1935000"/>
                      <a:ext cx="613080" cy="908280"/>
                      <a:chOff x="1554120" y="1935000"/>
                      <a:chExt cx="613080" cy="908280"/>
                    </a:xfrm>
                  </p:grpSpPr>
                  <p:sp>
                    <p:nvSpPr>
                      <p:cNvPr id="919" name=""/>
                      <p:cNvSpPr/>
                      <p:nvPr/>
                    </p:nvSpPr>
                    <p:spPr>
                      <a:xfrm>
                        <a:off x="1735200" y="2682720"/>
                        <a:ext cx="408240" cy="140040"/>
                      </a:xfrm>
                      <a:custGeom>
                        <a:avLst/>
                        <a:gdLst/>
                        <a:ahLst/>
                        <a:rect l="0" t="0" r="r" b="b"/>
                        <a:pathLst>
                          <a:path w="1134" h="389">
                            <a:moveTo>
                              <a:pt x="1076" y="0"/>
                            </a:moveTo>
                            <a:lnTo>
                              <a:pt x="1134" y="171"/>
                            </a:lnTo>
                            <a:lnTo>
                              <a:pt x="904" y="252"/>
                            </a:lnTo>
                            <a:lnTo>
                              <a:pt x="551" y="322"/>
                            </a:lnTo>
                            <a:lnTo>
                              <a:pt x="264" y="367"/>
                            </a:lnTo>
                            <a:lnTo>
                              <a:pt x="0" y="389"/>
                            </a:lnTo>
                            <a:lnTo>
                              <a:pt x="10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0" name=""/>
                      <p:cNvSpPr/>
                      <p:nvPr/>
                    </p:nvSpPr>
                    <p:spPr>
                      <a:xfrm>
                        <a:off x="1554120" y="1935000"/>
                        <a:ext cx="613080" cy="908280"/>
                      </a:xfrm>
                      <a:custGeom>
                        <a:avLst/>
                        <a:gdLst/>
                        <a:ahLst/>
                        <a:rect l="0" t="0" r="r" b="b"/>
                        <a:pathLst>
                          <a:path w="1703" h="2523">
                            <a:moveTo>
                              <a:pt x="1703" y="2157"/>
                            </a:moveTo>
                            <a:lnTo>
                              <a:pt x="1676" y="2179"/>
                            </a:lnTo>
                            <a:lnTo>
                              <a:pt x="1279" y="2258"/>
                            </a:lnTo>
                            <a:lnTo>
                              <a:pt x="900" y="2373"/>
                            </a:lnTo>
                            <a:lnTo>
                              <a:pt x="586" y="2470"/>
                            </a:lnTo>
                            <a:lnTo>
                              <a:pt x="463" y="2523"/>
                            </a:lnTo>
                            <a:lnTo>
                              <a:pt x="366" y="2095"/>
                            </a:lnTo>
                            <a:lnTo>
                              <a:pt x="260" y="1606"/>
                            </a:lnTo>
                            <a:lnTo>
                              <a:pt x="136" y="1115"/>
                            </a:lnTo>
                            <a:lnTo>
                              <a:pt x="39" y="608"/>
                            </a:lnTo>
                            <a:lnTo>
                              <a:pt x="8" y="432"/>
                            </a:lnTo>
                            <a:lnTo>
                              <a:pt x="0" y="264"/>
                            </a:lnTo>
                            <a:lnTo>
                              <a:pt x="621" y="97"/>
                            </a:lnTo>
                            <a:lnTo>
                              <a:pt x="1178" y="0"/>
                            </a:lnTo>
                            <a:lnTo>
                              <a:pt x="1315" y="507"/>
                            </a:lnTo>
                            <a:lnTo>
                              <a:pt x="1703" y="21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21" name=""/>
                    <p:cNvGrpSpPr/>
                    <p:nvPr/>
                  </p:nvGrpSpPr>
                  <p:grpSpPr>
                    <a:xfrm>
                      <a:off x="1562040" y="1998720"/>
                      <a:ext cx="578160" cy="785880"/>
                      <a:chOff x="1562040" y="1998720"/>
                      <a:chExt cx="578160" cy="785880"/>
                    </a:xfrm>
                  </p:grpSpPr>
                  <p:sp>
                    <p:nvSpPr>
                      <p:cNvPr id="922" name=""/>
                      <p:cNvSpPr/>
                      <p:nvPr/>
                    </p:nvSpPr>
                    <p:spPr>
                      <a:xfrm>
                        <a:off x="1665360" y="2581200"/>
                        <a:ext cx="111600" cy="203400"/>
                      </a:xfrm>
                      <a:custGeom>
                        <a:avLst/>
                        <a:gdLst/>
                        <a:ahLst/>
                        <a:rect l="0" t="0" r="r" b="b"/>
                        <a:pathLst>
                          <a:path w="310" h="565">
                            <a:moveTo>
                              <a:pt x="0" y="48"/>
                            </a:moveTo>
                            <a:lnTo>
                              <a:pt x="172" y="0"/>
                            </a:lnTo>
                            <a:lnTo>
                              <a:pt x="310" y="499"/>
                            </a:lnTo>
                            <a:lnTo>
                              <a:pt x="120" y="565"/>
                            </a:lnTo>
                            <a:lnTo>
                              <a:pt x="44" y="260"/>
                            </a:lnTo>
                            <a:lnTo>
                              <a:pt x="0" y="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3" name=""/>
                      <p:cNvSpPr/>
                      <p:nvPr/>
                    </p:nvSpPr>
                    <p:spPr>
                      <a:xfrm>
                        <a:off x="2046240" y="2581200"/>
                        <a:ext cx="93960" cy="125640"/>
                      </a:xfrm>
                      <a:custGeom>
                        <a:avLst/>
                        <a:gdLst/>
                        <a:ahLst/>
                        <a:rect l="0" t="0" r="r" b="b"/>
                        <a:pathLst>
                          <a:path w="261" h="349">
                            <a:moveTo>
                              <a:pt x="190" y="0"/>
                            </a:moveTo>
                            <a:lnTo>
                              <a:pt x="0" y="44"/>
                            </a:lnTo>
                            <a:lnTo>
                              <a:pt x="70" y="349"/>
                            </a:lnTo>
                            <a:lnTo>
                              <a:pt x="261" y="309"/>
                            </a:lnTo>
                            <a:lnTo>
                              <a:pt x="19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4" name=""/>
                      <p:cNvSpPr/>
                      <p:nvPr/>
                    </p:nvSpPr>
                    <p:spPr>
                      <a:xfrm>
                        <a:off x="1562040" y="1998720"/>
                        <a:ext cx="410040" cy="92520"/>
                      </a:xfrm>
                      <a:custGeom>
                        <a:avLst/>
                        <a:gdLst/>
                        <a:ahLst/>
                        <a:rect l="0" t="0" r="r" b="b"/>
                        <a:pathLst>
                          <a:path fill="none" w="1139" h="257">
                            <a:moveTo>
                              <a:pt x="1139" y="0"/>
                            </a:moveTo>
                            <a:lnTo>
                              <a:pt x="627" y="98"/>
                            </a:lnTo>
                            <a:lnTo>
                              <a:pt x="0" y="25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925" name=""/>
                      <p:cNvSpPr/>
                      <p:nvPr/>
                    </p:nvSpPr>
                    <p:spPr>
                      <a:xfrm>
                        <a:off x="1590840" y="2135160"/>
                        <a:ext cx="449640" cy="154440"/>
                      </a:xfrm>
                      <a:custGeom>
                        <a:avLst/>
                        <a:gdLst/>
                        <a:ahLst/>
                        <a:rect l="0" t="0" r="r" b="b"/>
                        <a:pathLst>
                          <a:path w="1249" h="429">
                            <a:moveTo>
                              <a:pt x="1232" y="0"/>
                            </a:moveTo>
                            <a:lnTo>
                              <a:pt x="684" y="150"/>
                            </a:lnTo>
                            <a:lnTo>
                              <a:pt x="0" y="354"/>
                            </a:lnTo>
                            <a:lnTo>
                              <a:pt x="8" y="429"/>
                            </a:lnTo>
                            <a:lnTo>
                              <a:pt x="706" y="225"/>
                            </a:lnTo>
                            <a:lnTo>
                              <a:pt x="1249" y="79"/>
                            </a:lnTo>
                            <a:lnTo>
                              <a:pt x="123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6" name=""/>
                      <p:cNvSpPr/>
                      <p:nvPr/>
                    </p:nvSpPr>
                    <p:spPr>
                      <a:xfrm>
                        <a:off x="1647720" y="2452680"/>
                        <a:ext cx="206640" cy="89280"/>
                      </a:xfrm>
                      <a:custGeom>
                        <a:avLst/>
                        <a:gdLst/>
                        <a:ahLst/>
                        <a:rect l="0" t="0" r="r" b="b"/>
                        <a:pathLst>
                          <a:path w="574" h="248">
                            <a:moveTo>
                              <a:pt x="547" y="0"/>
                            </a:moveTo>
                            <a:lnTo>
                              <a:pt x="574" y="80"/>
                            </a:lnTo>
                            <a:lnTo>
                              <a:pt x="22" y="248"/>
                            </a:lnTo>
                            <a:lnTo>
                              <a:pt x="0" y="168"/>
                            </a:lnTo>
                            <a:lnTo>
                              <a:pt x="547"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927" name=""/>
                      <p:cNvSpPr/>
                      <p:nvPr/>
                    </p:nvSpPr>
                    <p:spPr>
                      <a:xfrm flipH="1">
                        <a:off x="1735200" y="2549520"/>
                        <a:ext cx="149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928" name=""/>
                      <p:cNvSpPr/>
                      <p:nvPr/>
                    </p:nvSpPr>
                    <p:spPr>
                      <a:xfrm flipH="1">
                        <a:off x="1746360" y="2583000"/>
                        <a:ext cx="145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929" name=""/>
                      <p:cNvSpPr/>
                      <p:nvPr/>
                    </p:nvSpPr>
                    <p:spPr>
                      <a:xfrm flipH="1">
                        <a:off x="1757520" y="2616120"/>
                        <a:ext cx="145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930" name=""/>
                      <p:cNvSpPr/>
                      <p:nvPr/>
                    </p:nvSpPr>
                    <p:spPr>
                      <a:xfrm flipH="1">
                        <a:off x="1905120" y="2536920"/>
                        <a:ext cx="209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931" name=""/>
                      <p:cNvSpPr/>
                      <p:nvPr/>
                    </p:nvSpPr>
                    <p:spPr>
                      <a:xfrm flipH="1">
                        <a:off x="1911240" y="2562120"/>
                        <a:ext cx="214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932" name=""/>
                      <p:cNvSpPr/>
                      <p:nvPr/>
                    </p:nvSpPr>
                    <p:spPr>
                      <a:xfrm flipH="1">
                        <a:off x="1739880" y="2243160"/>
                        <a:ext cx="250920" cy="14400"/>
                      </a:xfrm>
                      <a:prstGeom prst="line">
                        <a:avLst/>
                      </a:prstGeom>
                      <a:ln w="12600">
                        <a:solidFill>
                          <a:srgbClr val="000000"/>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grpSp>
              </p:grpSp>
              <p:grpSp>
                <p:nvGrpSpPr>
                  <p:cNvPr id="933" name=""/>
                  <p:cNvGrpSpPr/>
                  <p:nvPr/>
                </p:nvGrpSpPr>
                <p:grpSpPr>
                  <a:xfrm>
                    <a:off x="1868400" y="2235240"/>
                    <a:ext cx="349560" cy="433800"/>
                    <a:chOff x="1868400" y="2235240"/>
                    <a:chExt cx="349560" cy="433800"/>
                  </a:xfrm>
                </p:grpSpPr>
                <p:grpSp>
                  <p:nvGrpSpPr>
                    <p:cNvPr id="934" name=""/>
                    <p:cNvGrpSpPr/>
                    <p:nvPr/>
                  </p:nvGrpSpPr>
                  <p:grpSpPr>
                    <a:xfrm>
                      <a:off x="1890720" y="2278080"/>
                      <a:ext cx="313200" cy="390960"/>
                      <a:chOff x="1890720" y="2278080"/>
                      <a:chExt cx="313200" cy="390960"/>
                    </a:xfrm>
                  </p:grpSpPr>
                  <p:sp>
                    <p:nvSpPr>
                      <p:cNvPr id="935" name=""/>
                      <p:cNvSpPr/>
                      <p:nvPr/>
                    </p:nvSpPr>
                    <p:spPr>
                      <a:xfrm>
                        <a:off x="1890720" y="2278080"/>
                        <a:ext cx="313200" cy="390960"/>
                      </a:xfrm>
                      <a:custGeom>
                        <a:avLst/>
                        <a:gdLst/>
                        <a:ahLst/>
                        <a:rect l="0" t="0" r="r" b="b"/>
                        <a:pathLst>
                          <a:path w="870" h="1086">
                            <a:moveTo>
                              <a:pt x="738" y="1086"/>
                            </a:moveTo>
                            <a:lnTo>
                              <a:pt x="760" y="1064"/>
                            </a:lnTo>
                            <a:lnTo>
                              <a:pt x="778" y="1047"/>
                            </a:lnTo>
                            <a:lnTo>
                              <a:pt x="822" y="994"/>
                            </a:lnTo>
                            <a:lnTo>
                              <a:pt x="848" y="936"/>
                            </a:lnTo>
                            <a:lnTo>
                              <a:pt x="866" y="844"/>
                            </a:lnTo>
                            <a:lnTo>
                              <a:pt x="870" y="733"/>
                            </a:lnTo>
                            <a:lnTo>
                              <a:pt x="857" y="574"/>
                            </a:lnTo>
                            <a:lnTo>
                              <a:pt x="826" y="428"/>
                            </a:lnTo>
                            <a:lnTo>
                              <a:pt x="808" y="349"/>
                            </a:lnTo>
                            <a:lnTo>
                              <a:pt x="786" y="287"/>
                            </a:lnTo>
                            <a:lnTo>
                              <a:pt x="747" y="202"/>
                            </a:lnTo>
                            <a:lnTo>
                              <a:pt x="694" y="127"/>
                            </a:lnTo>
                            <a:lnTo>
                              <a:pt x="622" y="66"/>
                            </a:lnTo>
                            <a:lnTo>
                              <a:pt x="596" y="44"/>
                            </a:lnTo>
                            <a:lnTo>
                              <a:pt x="556" y="26"/>
                            </a:lnTo>
                            <a:lnTo>
                              <a:pt x="477" y="8"/>
                            </a:lnTo>
                            <a:lnTo>
                              <a:pt x="397" y="0"/>
                            </a:lnTo>
                            <a:lnTo>
                              <a:pt x="300" y="4"/>
                            </a:lnTo>
                            <a:lnTo>
                              <a:pt x="180" y="26"/>
                            </a:lnTo>
                            <a:lnTo>
                              <a:pt x="132" y="48"/>
                            </a:lnTo>
                            <a:lnTo>
                              <a:pt x="101" y="74"/>
                            </a:lnTo>
                            <a:lnTo>
                              <a:pt x="105" y="101"/>
                            </a:lnTo>
                            <a:lnTo>
                              <a:pt x="123" y="123"/>
                            </a:lnTo>
                            <a:lnTo>
                              <a:pt x="194" y="119"/>
                            </a:lnTo>
                            <a:lnTo>
                              <a:pt x="252" y="114"/>
                            </a:lnTo>
                            <a:lnTo>
                              <a:pt x="318" y="105"/>
                            </a:lnTo>
                            <a:lnTo>
                              <a:pt x="380" y="101"/>
                            </a:lnTo>
                            <a:lnTo>
                              <a:pt x="441" y="105"/>
                            </a:lnTo>
                            <a:lnTo>
                              <a:pt x="503" y="123"/>
                            </a:lnTo>
                            <a:lnTo>
                              <a:pt x="516" y="246"/>
                            </a:lnTo>
                            <a:lnTo>
                              <a:pt x="481" y="264"/>
                            </a:lnTo>
                            <a:lnTo>
                              <a:pt x="419" y="300"/>
                            </a:lnTo>
                            <a:lnTo>
                              <a:pt x="358" y="331"/>
                            </a:lnTo>
                            <a:lnTo>
                              <a:pt x="278" y="371"/>
                            </a:lnTo>
                            <a:lnTo>
                              <a:pt x="221" y="397"/>
                            </a:lnTo>
                            <a:lnTo>
                              <a:pt x="154" y="441"/>
                            </a:lnTo>
                            <a:lnTo>
                              <a:pt x="97" y="481"/>
                            </a:lnTo>
                            <a:lnTo>
                              <a:pt x="48" y="525"/>
                            </a:lnTo>
                            <a:lnTo>
                              <a:pt x="4" y="565"/>
                            </a:lnTo>
                            <a:lnTo>
                              <a:pt x="0" y="600"/>
                            </a:lnTo>
                            <a:lnTo>
                              <a:pt x="13" y="627"/>
                            </a:lnTo>
                            <a:lnTo>
                              <a:pt x="44" y="631"/>
                            </a:lnTo>
                            <a:lnTo>
                              <a:pt x="88" y="613"/>
                            </a:lnTo>
                            <a:lnTo>
                              <a:pt x="105" y="609"/>
                            </a:lnTo>
                            <a:lnTo>
                              <a:pt x="110" y="644"/>
                            </a:lnTo>
                            <a:lnTo>
                              <a:pt x="136" y="653"/>
                            </a:lnTo>
                            <a:lnTo>
                              <a:pt x="171" y="649"/>
                            </a:lnTo>
                            <a:lnTo>
                              <a:pt x="202" y="636"/>
                            </a:lnTo>
                            <a:lnTo>
                              <a:pt x="269" y="600"/>
                            </a:lnTo>
                            <a:lnTo>
                              <a:pt x="344" y="574"/>
                            </a:lnTo>
                            <a:lnTo>
                              <a:pt x="433" y="556"/>
                            </a:lnTo>
                            <a:lnTo>
                              <a:pt x="547" y="574"/>
                            </a:lnTo>
                            <a:lnTo>
                              <a:pt x="596" y="605"/>
                            </a:lnTo>
                            <a:lnTo>
                              <a:pt x="627" y="653"/>
                            </a:lnTo>
                            <a:lnTo>
                              <a:pt x="654" y="724"/>
                            </a:lnTo>
                            <a:lnTo>
                              <a:pt x="738" y="108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6" name=""/>
                      <p:cNvSpPr/>
                      <p:nvPr/>
                    </p:nvSpPr>
                    <p:spPr>
                      <a:xfrm>
                        <a:off x="1930320" y="2432160"/>
                        <a:ext cx="113040" cy="66960"/>
                      </a:xfrm>
                      <a:custGeom>
                        <a:avLst/>
                        <a:gdLst/>
                        <a:ahLst/>
                        <a:rect l="0" t="0" r="r" b="b"/>
                        <a:pathLst>
                          <a:path w="314" h="186">
                            <a:moveTo>
                              <a:pt x="0" y="186"/>
                            </a:moveTo>
                            <a:lnTo>
                              <a:pt x="13" y="155"/>
                            </a:lnTo>
                            <a:lnTo>
                              <a:pt x="39" y="133"/>
                            </a:lnTo>
                            <a:lnTo>
                              <a:pt x="83" y="106"/>
                            </a:lnTo>
                            <a:lnTo>
                              <a:pt x="149" y="61"/>
                            </a:lnTo>
                            <a:lnTo>
                              <a:pt x="234" y="13"/>
                            </a:lnTo>
                            <a:lnTo>
                              <a:pt x="314" y="0"/>
                            </a:lnTo>
                            <a:lnTo>
                              <a:pt x="247" y="4"/>
                            </a:lnTo>
                            <a:lnTo>
                              <a:pt x="212" y="22"/>
                            </a:lnTo>
                            <a:lnTo>
                              <a:pt x="141" y="57"/>
                            </a:lnTo>
                            <a:lnTo>
                              <a:pt x="70" y="106"/>
                            </a:lnTo>
                            <a:lnTo>
                              <a:pt x="13" y="146"/>
                            </a:lnTo>
                            <a:lnTo>
                              <a:pt x="0" y="186"/>
                            </a:lnTo>
                            <a:close/>
                          </a:path>
                        </a:pathLst>
                      </a:custGeom>
                      <a:solidFill>
                        <a:srgbClr val="ff7f3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937" name=""/>
                      <p:cNvSpPr/>
                      <p:nvPr/>
                    </p:nvSpPr>
                    <p:spPr>
                      <a:xfrm>
                        <a:off x="2122560" y="2523960"/>
                        <a:ext cx="46440" cy="106560"/>
                      </a:xfrm>
                      <a:custGeom>
                        <a:avLst/>
                        <a:gdLst/>
                        <a:ahLst/>
                        <a:rect l="0" t="0" r="r" b="b"/>
                        <a:pathLst>
                          <a:path w="129" h="296">
                            <a:moveTo>
                              <a:pt x="71" y="296"/>
                            </a:moveTo>
                            <a:lnTo>
                              <a:pt x="75" y="252"/>
                            </a:lnTo>
                            <a:lnTo>
                              <a:pt x="93" y="225"/>
                            </a:lnTo>
                            <a:lnTo>
                              <a:pt x="116" y="195"/>
                            </a:lnTo>
                            <a:lnTo>
                              <a:pt x="129" y="186"/>
                            </a:lnTo>
                            <a:lnTo>
                              <a:pt x="103" y="155"/>
                            </a:lnTo>
                            <a:lnTo>
                              <a:pt x="53" y="83"/>
                            </a:lnTo>
                            <a:lnTo>
                              <a:pt x="22" y="35"/>
                            </a:lnTo>
                            <a:lnTo>
                              <a:pt x="0" y="0"/>
                            </a:lnTo>
                            <a:lnTo>
                              <a:pt x="71" y="29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38" name=""/>
                    <p:cNvGrpSpPr/>
                    <p:nvPr/>
                  </p:nvGrpSpPr>
                  <p:grpSpPr>
                    <a:xfrm>
                      <a:off x="1868400" y="2235240"/>
                      <a:ext cx="349560" cy="286200"/>
                      <a:chOff x="1868400" y="2235240"/>
                      <a:chExt cx="349560" cy="286200"/>
                    </a:xfrm>
                  </p:grpSpPr>
                  <p:sp>
                    <p:nvSpPr>
                      <p:cNvPr id="939" name=""/>
                      <p:cNvSpPr/>
                      <p:nvPr/>
                    </p:nvSpPr>
                    <p:spPr>
                      <a:xfrm>
                        <a:off x="2041560" y="2255760"/>
                        <a:ext cx="160560" cy="59040"/>
                      </a:xfrm>
                      <a:custGeom>
                        <a:avLst/>
                        <a:gdLst/>
                        <a:ahLst/>
                        <a:rect l="0" t="0" r="r" b="b"/>
                        <a:pathLst>
                          <a:path fill="none" w="446" h="164">
                            <a:moveTo>
                              <a:pt x="446" y="0"/>
                            </a:moveTo>
                            <a:lnTo>
                              <a:pt x="48" y="164"/>
                            </a:lnTo>
                            <a:lnTo>
                              <a:pt x="4" y="142"/>
                            </a:lnTo>
                            <a:lnTo>
                              <a:pt x="0" y="8"/>
                            </a:lnTo>
                          </a:path>
                        </a:pathLst>
                      </a:custGeom>
                      <a:ln w="12600">
                        <a:solidFill>
                          <a:srgbClr val="9f3f00"/>
                        </a:solidFill>
                        <a:round/>
                      </a:ln>
                    </p:spPr>
                    <p:txBody>
                      <a:bodyPr lIns="96120" rIns="96120" tIns="7920" bIns="7920" anchor="t">
                        <a:noAutofit/>
                      </a:bodyPr>
                      <a:p>
                        <a:endParaRPr b="0" lang="en-US" sz="1800" spc="-1" strike="noStrike">
                          <a:solidFill>
                            <a:srgbClr val="ffffff"/>
                          </a:solidFill>
                          <a:latin typeface="Arial"/>
                        </a:endParaRPr>
                      </a:p>
                    </p:txBody>
                  </p:sp>
                  <p:sp>
                    <p:nvSpPr>
                      <p:cNvPr id="940" name=""/>
                      <p:cNvSpPr/>
                      <p:nvPr/>
                    </p:nvSpPr>
                    <p:spPr>
                      <a:xfrm>
                        <a:off x="1868400" y="2347920"/>
                        <a:ext cx="127440" cy="41760"/>
                      </a:xfrm>
                      <a:custGeom>
                        <a:avLst/>
                        <a:gdLst/>
                        <a:ahLst/>
                        <a:rect l="0" t="0" r="r" b="b"/>
                        <a:pathLst>
                          <a:path fill="none" w="354" h="116">
                            <a:moveTo>
                              <a:pt x="354" y="0"/>
                            </a:moveTo>
                            <a:lnTo>
                              <a:pt x="195" y="80"/>
                            </a:lnTo>
                            <a:lnTo>
                              <a:pt x="150" y="103"/>
                            </a:lnTo>
                            <a:lnTo>
                              <a:pt x="137" y="116"/>
                            </a:lnTo>
                            <a:lnTo>
                              <a:pt x="115" y="116"/>
                            </a:lnTo>
                            <a:lnTo>
                              <a:pt x="89" y="107"/>
                            </a:lnTo>
                            <a:lnTo>
                              <a:pt x="0" y="17"/>
                            </a:lnTo>
                          </a:path>
                        </a:pathLst>
                      </a:custGeom>
                      <a:ln w="12600">
                        <a:solidFill>
                          <a:srgbClr val="9f3f00"/>
                        </a:solidFill>
                        <a:round/>
                      </a:ln>
                    </p:spPr>
                    <p:txBody>
                      <a:bodyPr lIns="96120" rIns="96120" tIns="-9360" bIns="-9360" anchor="t">
                        <a:noAutofit/>
                      </a:bodyPr>
                      <a:p>
                        <a:endParaRPr b="0" lang="en-US" sz="1800" spc="-1" strike="noStrike">
                          <a:solidFill>
                            <a:srgbClr val="ffffff"/>
                          </a:solidFill>
                          <a:latin typeface="Arial"/>
                        </a:endParaRPr>
                      </a:p>
                    </p:txBody>
                  </p:sp>
                  <p:sp>
                    <p:nvSpPr>
                      <p:cNvPr id="941" name=""/>
                      <p:cNvSpPr/>
                      <p:nvPr/>
                    </p:nvSpPr>
                    <p:spPr>
                      <a:xfrm>
                        <a:off x="2049480" y="2336760"/>
                        <a:ext cx="81360" cy="184680"/>
                      </a:xfrm>
                      <a:custGeom>
                        <a:avLst/>
                        <a:gdLst/>
                        <a:ahLst/>
                        <a:rect l="0" t="0" r="r" b="b"/>
                        <a:pathLst>
                          <a:path fill="none" w="226" h="513">
                            <a:moveTo>
                              <a:pt x="0" y="0"/>
                            </a:moveTo>
                            <a:lnTo>
                              <a:pt x="8" y="110"/>
                            </a:lnTo>
                            <a:lnTo>
                              <a:pt x="35" y="225"/>
                            </a:lnTo>
                            <a:lnTo>
                              <a:pt x="75" y="353"/>
                            </a:lnTo>
                            <a:lnTo>
                              <a:pt x="111" y="491"/>
                            </a:lnTo>
                            <a:lnTo>
                              <a:pt x="137" y="500"/>
                            </a:lnTo>
                            <a:lnTo>
                              <a:pt x="226" y="51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sp>
                    <p:nvSpPr>
                      <p:cNvPr id="942" name=""/>
                      <p:cNvSpPr/>
                      <p:nvPr/>
                    </p:nvSpPr>
                    <p:spPr>
                      <a:xfrm>
                        <a:off x="2085840" y="2235240"/>
                        <a:ext cx="132120" cy="286200"/>
                      </a:xfrm>
                      <a:custGeom>
                        <a:avLst/>
                        <a:gdLst/>
                        <a:ahLst/>
                        <a:rect l="0" t="0" r="r" b="b"/>
                        <a:pathLst>
                          <a:path fill="none" w="367" h="795">
                            <a:moveTo>
                              <a:pt x="234" y="503"/>
                            </a:moveTo>
                            <a:lnTo>
                              <a:pt x="252" y="530"/>
                            </a:lnTo>
                            <a:lnTo>
                              <a:pt x="269" y="583"/>
                            </a:lnTo>
                            <a:lnTo>
                              <a:pt x="269" y="628"/>
                            </a:lnTo>
                            <a:lnTo>
                              <a:pt x="256" y="685"/>
                            </a:lnTo>
                            <a:lnTo>
                              <a:pt x="243" y="734"/>
                            </a:lnTo>
                            <a:lnTo>
                              <a:pt x="208" y="773"/>
                            </a:lnTo>
                            <a:lnTo>
                              <a:pt x="171" y="791"/>
                            </a:lnTo>
                            <a:lnTo>
                              <a:pt x="123" y="795"/>
                            </a:lnTo>
                            <a:lnTo>
                              <a:pt x="79" y="773"/>
                            </a:lnTo>
                            <a:lnTo>
                              <a:pt x="52" y="734"/>
                            </a:lnTo>
                            <a:lnTo>
                              <a:pt x="22" y="681"/>
                            </a:lnTo>
                            <a:lnTo>
                              <a:pt x="8" y="632"/>
                            </a:lnTo>
                            <a:lnTo>
                              <a:pt x="0" y="561"/>
                            </a:lnTo>
                            <a:lnTo>
                              <a:pt x="8" y="503"/>
                            </a:lnTo>
                            <a:lnTo>
                              <a:pt x="35" y="455"/>
                            </a:lnTo>
                            <a:lnTo>
                              <a:pt x="70" y="428"/>
                            </a:lnTo>
                            <a:lnTo>
                              <a:pt x="132" y="415"/>
                            </a:lnTo>
                            <a:lnTo>
                              <a:pt x="176" y="428"/>
                            </a:lnTo>
                            <a:lnTo>
                              <a:pt x="217" y="459"/>
                            </a:lnTo>
                            <a:lnTo>
                              <a:pt x="234" y="499"/>
                            </a:lnTo>
                            <a:lnTo>
                              <a:pt x="252" y="464"/>
                            </a:lnTo>
                            <a:lnTo>
                              <a:pt x="256" y="428"/>
                            </a:lnTo>
                            <a:lnTo>
                              <a:pt x="256" y="393"/>
                            </a:lnTo>
                            <a:lnTo>
                              <a:pt x="225" y="384"/>
                            </a:lnTo>
                            <a:lnTo>
                              <a:pt x="186" y="358"/>
                            </a:lnTo>
                            <a:lnTo>
                              <a:pt x="158" y="322"/>
                            </a:lnTo>
                            <a:lnTo>
                              <a:pt x="145" y="287"/>
                            </a:lnTo>
                            <a:lnTo>
                              <a:pt x="127" y="247"/>
                            </a:lnTo>
                            <a:lnTo>
                              <a:pt x="123" y="198"/>
                            </a:lnTo>
                            <a:lnTo>
                              <a:pt x="123" y="154"/>
                            </a:lnTo>
                            <a:lnTo>
                              <a:pt x="132" y="105"/>
                            </a:lnTo>
                            <a:lnTo>
                              <a:pt x="141" y="66"/>
                            </a:lnTo>
                            <a:lnTo>
                              <a:pt x="154" y="26"/>
                            </a:lnTo>
                            <a:lnTo>
                              <a:pt x="186" y="8"/>
                            </a:lnTo>
                            <a:lnTo>
                              <a:pt x="225" y="0"/>
                            </a:lnTo>
                            <a:lnTo>
                              <a:pt x="278" y="4"/>
                            </a:lnTo>
                            <a:lnTo>
                              <a:pt x="305" y="26"/>
                            </a:lnTo>
                            <a:lnTo>
                              <a:pt x="327" y="48"/>
                            </a:lnTo>
                            <a:lnTo>
                              <a:pt x="344" y="92"/>
                            </a:lnTo>
                            <a:lnTo>
                              <a:pt x="358" y="141"/>
                            </a:lnTo>
                            <a:lnTo>
                              <a:pt x="367" y="203"/>
                            </a:lnTo>
                            <a:lnTo>
                              <a:pt x="358" y="269"/>
                            </a:lnTo>
                            <a:lnTo>
                              <a:pt x="349" y="322"/>
                            </a:lnTo>
                            <a:lnTo>
                              <a:pt x="322" y="358"/>
                            </a:lnTo>
                            <a:lnTo>
                              <a:pt x="292" y="384"/>
                            </a:lnTo>
                            <a:lnTo>
                              <a:pt x="256" y="39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943" name=""/>
                    <p:cNvSpPr/>
                    <p:nvPr/>
                  </p:nvSpPr>
                  <p:spPr>
                    <a:xfrm>
                      <a:off x="1919160" y="2301840"/>
                      <a:ext cx="228960" cy="97200"/>
                    </a:xfrm>
                    <a:custGeom>
                      <a:avLst/>
                      <a:gdLst/>
                      <a:ahLst/>
                      <a:rect l="0" t="0" r="r" b="b"/>
                      <a:pathLst>
                        <a:path w="636" h="270">
                          <a:moveTo>
                            <a:pt x="636" y="199"/>
                          </a:moveTo>
                          <a:lnTo>
                            <a:pt x="556" y="106"/>
                          </a:lnTo>
                          <a:lnTo>
                            <a:pt x="494" y="52"/>
                          </a:lnTo>
                          <a:lnTo>
                            <a:pt x="450" y="26"/>
                          </a:lnTo>
                          <a:lnTo>
                            <a:pt x="384" y="4"/>
                          </a:lnTo>
                          <a:lnTo>
                            <a:pt x="349" y="0"/>
                          </a:lnTo>
                          <a:lnTo>
                            <a:pt x="327" y="8"/>
                          </a:lnTo>
                          <a:lnTo>
                            <a:pt x="273" y="35"/>
                          </a:lnTo>
                          <a:lnTo>
                            <a:pt x="211" y="80"/>
                          </a:lnTo>
                          <a:lnTo>
                            <a:pt x="145" y="120"/>
                          </a:lnTo>
                          <a:lnTo>
                            <a:pt x="70" y="150"/>
                          </a:lnTo>
                          <a:lnTo>
                            <a:pt x="22" y="177"/>
                          </a:lnTo>
                          <a:lnTo>
                            <a:pt x="0" y="209"/>
                          </a:lnTo>
                          <a:lnTo>
                            <a:pt x="0" y="235"/>
                          </a:lnTo>
                          <a:lnTo>
                            <a:pt x="17" y="257"/>
                          </a:lnTo>
                          <a:lnTo>
                            <a:pt x="48" y="270"/>
                          </a:lnTo>
                          <a:lnTo>
                            <a:pt x="114" y="253"/>
                          </a:lnTo>
                          <a:lnTo>
                            <a:pt x="171" y="226"/>
                          </a:lnTo>
                          <a:lnTo>
                            <a:pt x="242" y="199"/>
                          </a:lnTo>
                          <a:lnTo>
                            <a:pt x="299" y="159"/>
                          </a:lnTo>
                          <a:lnTo>
                            <a:pt x="362" y="133"/>
                          </a:lnTo>
                          <a:lnTo>
                            <a:pt x="397" y="168"/>
                          </a:lnTo>
                          <a:lnTo>
                            <a:pt x="450" y="199"/>
                          </a:lnTo>
                          <a:lnTo>
                            <a:pt x="477" y="235"/>
                          </a:lnTo>
                          <a:lnTo>
                            <a:pt x="556" y="199"/>
                          </a:lnTo>
                          <a:lnTo>
                            <a:pt x="636" y="19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944" name=""/>
          <p:cNvSpPr/>
          <p:nvPr/>
        </p:nvSpPr>
        <p:spPr>
          <a:xfrm>
            <a:off x="2678040" y="1847880"/>
            <a:ext cx="6084720" cy="320832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945" name=""/>
          <p:cNvSpPr txBox="1"/>
          <p:nvPr/>
        </p:nvSpPr>
        <p:spPr>
          <a:xfrm>
            <a:off x="2887560" y="2076480"/>
            <a:ext cx="5715000" cy="245916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xplain management’s responsibility for ethical financial reporting and define </a:t>
            </a:r>
            <a:r>
              <a:rPr b="1" i="1" lang="en-US" sz="2400" spc="-1" strike="noStrike">
                <a:solidFill>
                  <a:srgbClr val="000000"/>
                </a:solidFill>
                <a:latin typeface="Arial"/>
                <a:ea typeface="Arial"/>
              </a:rPr>
              <a:t>fraudulent financial reporting.</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5.</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dentify and describe the basic components of a classified balance sheet.</a:t>
            </a:r>
            <a:endParaRPr b="0" lang="en-US" sz="2400" spc="-1" strike="noStrike">
              <a:solidFill>
                <a:srgbClr val="ffffff"/>
              </a:solidFill>
              <a:latin typeface="Arial"/>
            </a:endParaRPr>
          </a:p>
        </p:txBody>
      </p:sp>
      <p:pic>
        <p:nvPicPr>
          <p:cNvPr id="946" name="" descr=""/>
          <p:cNvPicPr/>
          <p:nvPr/>
        </p:nvPicPr>
        <p:blipFill>
          <a:blip r:embed="rId1"/>
          <a:stretch/>
        </p:blipFill>
        <p:spPr>
          <a:xfrm>
            <a:off x="1486080" y="228600"/>
            <a:ext cx="5118120" cy="1968480"/>
          </a:xfrm>
          <a:prstGeom prst="rect">
            <a:avLst/>
          </a:prstGeom>
          <a:ln w="0">
            <a:noFill/>
          </a:ln>
        </p:spPr>
      </p:pic>
      <p:sp>
        <p:nvSpPr>
          <p:cNvPr id="947" name=""/>
          <p:cNvSpPr txBox="1"/>
          <p:nvPr/>
        </p:nvSpPr>
        <p:spPr>
          <a:xfrm>
            <a:off x="2187720" y="390600"/>
            <a:ext cx="3421080" cy="94284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CONTINUING OUR </a:t>
            </a:r>
            <a:br>
              <a:rPr sz="2800"/>
            </a:br>
            <a:r>
              <a:rPr b="1" lang="en-US" sz="2800" spc="-1" strike="noStrike">
                <a:solidFill>
                  <a:srgbClr val="000000"/>
                </a:solidFill>
                <a:latin typeface="Arial"/>
                <a:ea typeface="Arial"/>
              </a:rPr>
              <a:t>REVIEW . . .</a:t>
            </a:r>
            <a:endParaRPr b="0" lang="en-US" sz="2800" spc="-1" strike="noStrike">
              <a:solidFill>
                <a:srgbClr val="ffffff"/>
              </a:solidFill>
              <a:latin typeface="Arial"/>
            </a:endParaRPr>
          </a:p>
        </p:txBody>
      </p:sp>
      <p:grpSp>
        <p:nvGrpSpPr>
          <p:cNvPr id="948" name=""/>
          <p:cNvGrpSpPr/>
          <p:nvPr/>
        </p:nvGrpSpPr>
        <p:grpSpPr>
          <a:xfrm>
            <a:off x="720720" y="1446120"/>
            <a:ext cx="1497240" cy="4789800"/>
            <a:chOff x="720720" y="1446120"/>
            <a:chExt cx="1497240" cy="4789800"/>
          </a:xfrm>
        </p:grpSpPr>
        <p:grpSp>
          <p:nvGrpSpPr>
            <p:cNvPr id="949" name=""/>
            <p:cNvGrpSpPr/>
            <p:nvPr/>
          </p:nvGrpSpPr>
          <p:grpSpPr>
            <a:xfrm>
              <a:off x="1071720" y="3367080"/>
              <a:ext cx="892440" cy="2868840"/>
              <a:chOff x="1071720" y="3367080"/>
              <a:chExt cx="892440" cy="2868840"/>
            </a:xfrm>
          </p:grpSpPr>
          <p:grpSp>
            <p:nvGrpSpPr>
              <p:cNvPr id="950" name=""/>
              <p:cNvGrpSpPr/>
              <p:nvPr/>
            </p:nvGrpSpPr>
            <p:grpSpPr>
              <a:xfrm>
                <a:off x="1149480" y="5654520"/>
                <a:ext cx="797400" cy="581400"/>
                <a:chOff x="1149480" y="5654520"/>
                <a:chExt cx="797400" cy="581400"/>
              </a:xfrm>
            </p:grpSpPr>
            <p:grpSp>
              <p:nvGrpSpPr>
                <p:cNvPr id="951" name=""/>
                <p:cNvGrpSpPr/>
                <p:nvPr/>
              </p:nvGrpSpPr>
              <p:grpSpPr>
                <a:xfrm>
                  <a:off x="1517760" y="5654520"/>
                  <a:ext cx="429120" cy="337320"/>
                  <a:chOff x="1517760" y="5654520"/>
                  <a:chExt cx="429120" cy="337320"/>
                </a:xfrm>
              </p:grpSpPr>
              <p:grpSp>
                <p:nvGrpSpPr>
                  <p:cNvPr id="952" name=""/>
                  <p:cNvGrpSpPr/>
                  <p:nvPr/>
                </p:nvGrpSpPr>
                <p:grpSpPr>
                  <a:xfrm>
                    <a:off x="1536840" y="5654520"/>
                    <a:ext cx="332280" cy="251280"/>
                    <a:chOff x="1536840" y="5654520"/>
                    <a:chExt cx="332280" cy="251280"/>
                  </a:xfrm>
                </p:grpSpPr>
                <p:sp>
                  <p:nvSpPr>
                    <p:cNvPr id="953" name=""/>
                    <p:cNvSpPr/>
                    <p:nvPr/>
                  </p:nvSpPr>
                  <p:spPr>
                    <a:xfrm>
                      <a:off x="1536840" y="5654520"/>
                      <a:ext cx="332280" cy="251280"/>
                    </a:xfrm>
                    <a:custGeom>
                      <a:avLst/>
                      <a:gdLst/>
                      <a:ahLst/>
                      <a:rect l="0" t="0" r="r" b="b"/>
                      <a:pathLst>
                        <a:path w="923" h="698">
                          <a:moveTo>
                            <a:pt x="587" y="70"/>
                          </a:moveTo>
                          <a:lnTo>
                            <a:pt x="591" y="177"/>
                          </a:lnTo>
                          <a:lnTo>
                            <a:pt x="662" y="252"/>
                          </a:lnTo>
                          <a:lnTo>
                            <a:pt x="738" y="340"/>
                          </a:lnTo>
                          <a:lnTo>
                            <a:pt x="866" y="464"/>
                          </a:lnTo>
                          <a:lnTo>
                            <a:pt x="923" y="535"/>
                          </a:lnTo>
                          <a:lnTo>
                            <a:pt x="914" y="685"/>
                          </a:lnTo>
                          <a:lnTo>
                            <a:pt x="565" y="698"/>
                          </a:lnTo>
                          <a:lnTo>
                            <a:pt x="149" y="464"/>
                          </a:lnTo>
                          <a:lnTo>
                            <a:pt x="0" y="234"/>
                          </a:lnTo>
                          <a:lnTo>
                            <a:pt x="105" y="0"/>
                          </a:lnTo>
                          <a:lnTo>
                            <a:pt x="587" y="7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4" name=""/>
                    <p:cNvSpPr/>
                    <p:nvPr/>
                  </p:nvSpPr>
                  <p:spPr>
                    <a:xfrm>
                      <a:off x="1565280" y="5684760"/>
                      <a:ext cx="194040" cy="195480"/>
                    </a:xfrm>
                    <a:custGeom>
                      <a:avLst/>
                      <a:gdLst/>
                      <a:ahLst/>
                      <a:rect l="0" t="0" r="r" b="b"/>
                      <a:pathLst>
                        <a:path w="539" h="543">
                          <a:moveTo>
                            <a:pt x="265" y="30"/>
                          </a:moveTo>
                          <a:lnTo>
                            <a:pt x="336" y="83"/>
                          </a:lnTo>
                          <a:lnTo>
                            <a:pt x="371" y="149"/>
                          </a:lnTo>
                          <a:lnTo>
                            <a:pt x="434" y="251"/>
                          </a:lnTo>
                          <a:lnTo>
                            <a:pt x="473" y="336"/>
                          </a:lnTo>
                          <a:lnTo>
                            <a:pt x="509" y="424"/>
                          </a:lnTo>
                          <a:lnTo>
                            <a:pt x="539" y="543"/>
                          </a:lnTo>
                          <a:lnTo>
                            <a:pt x="142" y="402"/>
                          </a:lnTo>
                          <a:lnTo>
                            <a:pt x="8" y="207"/>
                          </a:lnTo>
                          <a:lnTo>
                            <a:pt x="0" y="0"/>
                          </a:lnTo>
                          <a:lnTo>
                            <a:pt x="265"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5" name=""/>
                    <p:cNvSpPr/>
                    <p:nvPr/>
                  </p:nvSpPr>
                  <p:spPr>
                    <a:xfrm>
                      <a:off x="1785960" y="5762520"/>
                      <a:ext cx="74880" cy="116280"/>
                    </a:xfrm>
                    <a:custGeom>
                      <a:avLst/>
                      <a:gdLst/>
                      <a:ahLst/>
                      <a:rect l="0" t="0" r="r" b="b"/>
                      <a:pathLst>
                        <a:path w="208" h="323">
                          <a:moveTo>
                            <a:pt x="0" y="0"/>
                          </a:moveTo>
                          <a:lnTo>
                            <a:pt x="44" y="39"/>
                          </a:lnTo>
                          <a:lnTo>
                            <a:pt x="79" y="79"/>
                          </a:lnTo>
                          <a:lnTo>
                            <a:pt x="120" y="120"/>
                          </a:lnTo>
                          <a:lnTo>
                            <a:pt x="155" y="159"/>
                          </a:lnTo>
                          <a:lnTo>
                            <a:pt x="181" y="199"/>
                          </a:lnTo>
                          <a:lnTo>
                            <a:pt x="208" y="239"/>
                          </a:lnTo>
                          <a:lnTo>
                            <a:pt x="208" y="279"/>
                          </a:lnTo>
                          <a:lnTo>
                            <a:pt x="199" y="306"/>
                          </a:lnTo>
                          <a:lnTo>
                            <a:pt x="172" y="323"/>
                          </a:lnTo>
                          <a:lnTo>
                            <a:pt x="115" y="315"/>
                          </a:lnTo>
                          <a:lnTo>
                            <a:pt x="155" y="306"/>
                          </a:lnTo>
                          <a:lnTo>
                            <a:pt x="177" y="297"/>
                          </a:lnTo>
                          <a:lnTo>
                            <a:pt x="181" y="279"/>
                          </a:lnTo>
                          <a:lnTo>
                            <a:pt x="190" y="262"/>
                          </a:lnTo>
                          <a:lnTo>
                            <a:pt x="177" y="225"/>
                          </a:lnTo>
                          <a:lnTo>
                            <a:pt x="155" y="181"/>
                          </a:lnTo>
                          <a:lnTo>
                            <a:pt x="120" y="137"/>
                          </a:lnTo>
                          <a:lnTo>
                            <a:pt x="52" y="66"/>
                          </a:lnTo>
                          <a:lnTo>
                            <a:pt x="0" y="0"/>
                          </a:lnTo>
                          <a:close/>
                        </a:path>
                      </a:pathLst>
                    </a:custGeom>
                    <a:solidFill>
                      <a:srgbClr val="b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56" name=""/>
                  <p:cNvGrpSpPr/>
                  <p:nvPr/>
                </p:nvGrpSpPr>
                <p:grpSpPr>
                  <a:xfrm>
                    <a:off x="1517760" y="5675400"/>
                    <a:ext cx="429120" cy="316440"/>
                    <a:chOff x="1517760" y="5675400"/>
                    <a:chExt cx="429120" cy="316440"/>
                  </a:xfrm>
                </p:grpSpPr>
                <p:sp>
                  <p:nvSpPr>
                    <p:cNvPr id="957" name=""/>
                    <p:cNvSpPr/>
                    <p:nvPr/>
                  </p:nvSpPr>
                  <p:spPr>
                    <a:xfrm>
                      <a:off x="1517760" y="5675400"/>
                      <a:ext cx="429120" cy="316440"/>
                    </a:xfrm>
                    <a:custGeom>
                      <a:avLst/>
                      <a:gdLst/>
                      <a:ahLst/>
                      <a:rect l="0" t="0" r="r" b="b"/>
                      <a:pathLst>
                        <a:path w="1192" h="879">
                          <a:moveTo>
                            <a:pt x="750" y="252"/>
                          </a:moveTo>
                          <a:lnTo>
                            <a:pt x="865" y="375"/>
                          </a:lnTo>
                          <a:lnTo>
                            <a:pt x="919" y="424"/>
                          </a:lnTo>
                          <a:lnTo>
                            <a:pt x="945" y="459"/>
                          </a:lnTo>
                          <a:lnTo>
                            <a:pt x="954" y="499"/>
                          </a:lnTo>
                          <a:lnTo>
                            <a:pt x="950" y="538"/>
                          </a:lnTo>
                          <a:lnTo>
                            <a:pt x="928" y="552"/>
                          </a:lnTo>
                          <a:lnTo>
                            <a:pt x="891" y="556"/>
                          </a:lnTo>
                          <a:lnTo>
                            <a:pt x="803" y="547"/>
                          </a:lnTo>
                          <a:lnTo>
                            <a:pt x="706" y="530"/>
                          </a:lnTo>
                          <a:lnTo>
                            <a:pt x="591" y="499"/>
                          </a:lnTo>
                          <a:lnTo>
                            <a:pt x="433" y="441"/>
                          </a:lnTo>
                          <a:lnTo>
                            <a:pt x="309" y="371"/>
                          </a:lnTo>
                          <a:lnTo>
                            <a:pt x="238" y="309"/>
                          </a:lnTo>
                          <a:lnTo>
                            <a:pt x="198" y="252"/>
                          </a:lnTo>
                          <a:lnTo>
                            <a:pt x="176" y="154"/>
                          </a:lnTo>
                          <a:lnTo>
                            <a:pt x="141" y="83"/>
                          </a:lnTo>
                          <a:lnTo>
                            <a:pt x="105" y="0"/>
                          </a:lnTo>
                          <a:lnTo>
                            <a:pt x="52" y="83"/>
                          </a:lnTo>
                          <a:lnTo>
                            <a:pt x="13" y="185"/>
                          </a:lnTo>
                          <a:lnTo>
                            <a:pt x="0" y="256"/>
                          </a:lnTo>
                          <a:lnTo>
                            <a:pt x="4" y="353"/>
                          </a:lnTo>
                          <a:lnTo>
                            <a:pt x="35" y="459"/>
                          </a:lnTo>
                          <a:lnTo>
                            <a:pt x="88" y="547"/>
                          </a:lnTo>
                          <a:lnTo>
                            <a:pt x="114" y="613"/>
                          </a:lnTo>
                          <a:lnTo>
                            <a:pt x="123" y="658"/>
                          </a:lnTo>
                          <a:lnTo>
                            <a:pt x="171" y="667"/>
                          </a:lnTo>
                          <a:lnTo>
                            <a:pt x="309" y="640"/>
                          </a:lnTo>
                          <a:lnTo>
                            <a:pt x="375" y="711"/>
                          </a:lnTo>
                          <a:lnTo>
                            <a:pt x="459" y="822"/>
                          </a:lnTo>
                          <a:lnTo>
                            <a:pt x="486" y="857"/>
                          </a:lnTo>
                          <a:lnTo>
                            <a:pt x="530" y="870"/>
                          </a:lnTo>
                          <a:lnTo>
                            <a:pt x="591" y="879"/>
                          </a:lnTo>
                          <a:lnTo>
                            <a:pt x="963" y="857"/>
                          </a:lnTo>
                          <a:lnTo>
                            <a:pt x="1108" y="839"/>
                          </a:lnTo>
                          <a:lnTo>
                            <a:pt x="1166" y="831"/>
                          </a:lnTo>
                          <a:lnTo>
                            <a:pt x="1188" y="813"/>
                          </a:lnTo>
                          <a:lnTo>
                            <a:pt x="1192" y="773"/>
                          </a:lnTo>
                          <a:lnTo>
                            <a:pt x="1183" y="725"/>
                          </a:lnTo>
                          <a:lnTo>
                            <a:pt x="1144" y="663"/>
                          </a:lnTo>
                          <a:lnTo>
                            <a:pt x="1073" y="565"/>
                          </a:lnTo>
                          <a:lnTo>
                            <a:pt x="1003" y="490"/>
                          </a:lnTo>
                          <a:lnTo>
                            <a:pt x="936" y="411"/>
                          </a:lnTo>
                          <a:lnTo>
                            <a:pt x="852" y="336"/>
                          </a:lnTo>
                          <a:lnTo>
                            <a:pt x="750" y="25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8" name=""/>
                    <p:cNvSpPr/>
                    <p:nvPr/>
                  </p:nvSpPr>
                  <p:spPr>
                    <a:xfrm>
                      <a:off x="1584360" y="5869080"/>
                      <a:ext cx="51120" cy="44640"/>
                    </a:xfrm>
                    <a:custGeom>
                      <a:avLst/>
                      <a:gdLst/>
                      <a:ahLst/>
                      <a:rect l="0" t="0" r="r" b="b"/>
                      <a:pathLst>
                        <a:path w="142" h="124">
                          <a:moveTo>
                            <a:pt x="142" y="124"/>
                          </a:moveTo>
                          <a:lnTo>
                            <a:pt x="111" y="67"/>
                          </a:lnTo>
                          <a:lnTo>
                            <a:pt x="89" y="39"/>
                          </a:lnTo>
                          <a:lnTo>
                            <a:pt x="52" y="17"/>
                          </a:lnTo>
                          <a:lnTo>
                            <a:pt x="0" y="0"/>
                          </a:lnTo>
                          <a:lnTo>
                            <a:pt x="22" y="30"/>
                          </a:lnTo>
                          <a:lnTo>
                            <a:pt x="52" y="35"/>
                          </a:lnTo>
                          <a:lnTo>
                            <a:pt x="89" y="61"/>
                          </a:lnTo>
                          <a:lnTo>
                            <a:pt x="142" y="124"/>
                          </a:lnTo>
                          <a:close/>
                        </a:path>
                      </a:pathLst>
                    </a:custGeom>
                    <a:solidFill>
                      <a:srgbClr val="5f3f1f"/>
                    </a:solidFill>
                    <a:ln w="0">
                      <a:noFill/>
                    </a:ln>
                  </p:spPr>
                  <p:txBody>
                    <a:bodyPr lIns="90000" rIns="90000" tIns="-360" bIns="-360" anchor="t">
                      <a:noAutofit/>
                    </a:bodyPr>
                    <a:p>
                      <a:endParaRPr b="0" lang="en-US" sz="1800" spc="-1" strike="noStrike">
                        <a:solidFill>
                          <a:srgbClr val="000000"/>
                        </a:solidFill>
                        <a:latin typeface="Arial"/>
                      </a:endParaRPr>
                    </a:p>
                  </p:txBody>
                </p:sp>
              </p:grpSp>
            </p:grpSp>
            <p:grpSp>
              <p:nvGrpSpPr>
                <p:cNvPr id="959" name=""/>
                <p:cNvGrpSpPr/>
                <p:nvPr/>
              </p:nvGrpSpPr>
              <p:grpSpPr>
                <a:xfrm>
                  <a:off x="1149480" y="5800680"/>
                  <a:ext cx="282600" cy="435240"/>
                  <a:chOff x="1149480" y="5800680"/>
                  <a:chExt cx="282600" cy="435240"/>
                </a:xfrm>
              </p:grpSpPr>
              <p:grpSp>
                <p:nvGrpSpPr>
                  <p:cNvPr id="960" name=""/>
                  <p:cNvGrpSpPr/>
                  <p:nvPr/>
                </p:nvGrpSpPr>
                <p:grpSpPr>
                  <a:xfrm>
                    <a:off x="1182600" y="5800680"/>
                    <a:ext cx="249480" cy="287640"/>
                    <a:chOff x="1182600" y="5800680"/>
                    <a:chExt cx="249480" cy="287640"/>
                  </a:xfrm>
                </p:grpSpPr>
                <p:sp>
                  <p:nvSpPr>
                    <p:cNvPr id="961" name=""/>
                    <p:cNvSpPr/>
                    <p:nvPr/>
                  </p:nvSpPr>
                  <p:spPr>
                    <a:xfrm>
                      <a:off x="1182600" y="5800680"/>
                      <a:ext cx="248040" cy="270360"/>
                    </a:xfrm>
                    <a:custGeom>
                      <a:avLst/>
                      <a:gdLst/>
                      <a:ahLst/>
                      <a:rect l="0" t="0" r="r" b="b"/>
                      <a:pathLst>
                        <a:path w="689" h="751">
                          <a:moveTo>
                            <a:pt x="689" y="79"/>
                          </a:moveTo>
                          <a:lnTo>
                            <a:pt x="654" y="230"/>
                          </a:lnTo>
                          <a:lnTo>
                            <a:pt x="645" y="274"/>
                          </a:lnTo>
                          <a:lnTo>
                            <a:pt x="654" y="327"/>
                          </a:lnTo>
                          <a:lnTo>
                            <a:pt x="645" y="393"/>
                          </a:lnTo>
                          <a:lnTo>
                            <a:pt x="628" y="437"/>
                          </a:lnTo>
                          <a:lnTo>
                            <a:pt x="619" y="516"/>
                          </a:lnTo>
                          <a:lnTo>
                            <a:pt x="628" y="588"/>
                          </a:lnTo>
                          <a:lnTo>
                            <a:pt x="597" y="720"/>
                          </a:lnTo>
                          <a:lnTo>
                            <a:pt x="57" y="751"/>
                          </a:lnTo>
                          <a:lnTo>
                            <a:pt x="0" y="566"/>
                          </a:lnTo>
                          <a:lnTo>
                            <a:pt x="30" y="406"/>
                          </a:lnTo>
                          <a:lnTo>
                            <a:pt x="92" y="314"/>
                          </a:lnTo>
                          <a:lnTo>
                            <a:pt x="123" y="199"/>
                          </a:lnTo>
                          <a:lnTo>
                            <a:pt x="158" y="30"/>
                          </a:lnTo>
                          <a:lnTo>
                            <a:pt x="252" y="0"/>
                          </a:lnTo>
                          <a:lnTo>
                            <a:pt x="689"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2" name=""/>
                    <p:cNvSpPr/>
                    <p:nvPr/>
                  </p:nvSpPr>
                  <p:spPr>
                    <a:xfrm>
                      <a:off x="1353960" y="5827680"/>
                      <a:ext cx="78120" cy="228960"/>
                    </a:xfrm>
                    <a:custGeom>
                      <a:avLst/>
                      <a:gdLst/>
                      <a:ahLst/>
                      <a:rect l="0" t="0" r="r" b="b"/>
                      <a:pathLst>
                        <a:path w="217" h="636">
                          <a:moveTo>
                            <a:pt x="217" y="0"/>
                          </a:moveTo>
                          <a:lnTo>
                            <a:pt x="186" y="149"/>
                          </a:lnTo>
                          <a:lnTo>
                            <a:pt x="172" y="194"/>
                          </a:lnTo>
                          <a:lnTo>
                            <a:pt x="186" y="246"/>
                          </a:lnTo>
                          <a:lnTo>
                            <a:pt x="172" y="313"/>
                          </a:lnTo>
                          <a:lnTo>
                            <a:pt x="150" y="349"/>
                          </a:lnTo>
                          <a:lnTo>
                            <a:pt x="146" y="433"/>
                          </a:lnTo>
                          <a:lnTo>
                            <a:pt x="150" y="508"/>
                          </a:lnTo>
                          <a:lnTo>
                            <a:pt x="124" y="636"/>
                          </a:lnTo>
                          <a:lnTo>
                            <a:pt x="0" y="631"/>
                          </a:lnTo>
                          <a:lnTo>
                            <a:pt x="88" y="525"/>
                          </a:lnTo>
                          <a:lnTo>
                            <a:pt x="83" y="433"/>
                          </a:lnTo>
                          <a:lnTo>
                            <a:pt x="92" y="344"/>
                          </a:lnTo>
                          <a:lnTo>
                            <a:pt x="101" y="273"/>
                          </a:lnTo>
                          <a:lnTo>
                            <a:pt x="120" y="180"/>
                          </a:lnTo>
                          <a:lnTo>
                            <a:pt x="164" y="44"/>
                          </a:lnTo>
                          <a:lnTo>
                            <a:pt x="217"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3" name=""/>
                    <p:cNvSpPr/>
                    <p:nvPr/>
                  </p:nvSpPr>
                  <p:spPr>
                    <a:xfrm>
                      <a:off x="1192320" y="5803920"/>
                      <a:ext cx="84600" cy="284400"/>
                    </a:xfrm>
                    <a:custGeom>
                      <a:avLst/>
                      <a:gdLst/>
                      <a:ahLst/>
                      <a:rect l="0" t="0" r="r" b="b"/>
                      <a:pathLst>
                        <a:path w="235" h="790">
                          <a:moveTo>
                            <a:pt x="159" y="216"/>
                          </a:moveTo>
                          <a:lnTo>
                            <a:pt x="120" y="339"/>
                          </a:lnTo>
                          <a:lnTo>
                            <a:pt x="98" y="433"/>
                          </a:lnTo>
                          <a:lnTo>
                            <a:pt x="98" y="508"/>
                          </a:lnTo>
                          <a:lnTo>
                            <a:pt x="111" y="600"/>
                          </a:lnTo>
                          <a:lnTo>
                            <a:pt x="128" y="697"/>
                          </a:lnTo>
                          <a:lnTo>
                            <a:pt x="80" y="790"/>
                          </a:lnTo>
                          <a:lnTo>
                            <a:pt x="0" y="494"/>
                          </a:lnTo>
                          <a:lnTo>
                            <a:pt x="71" y="282"/>
                          </a:lnTo>
                          <a:lnTo>
                            <a:pt x="102" y="163"/>
                          </a:lnTo>
                          <a:lnTo>
                            <a:pt x="133" y="0"/>
                          </a:lnTo>
                          <a:lnTo>
                            <a:pt x="235" y="39"/>
                          </a:lnTo>
                          <a:lnTo>
                            <a:pt x="159" y="21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964" name=""/>
                  <p:cNvSpPr/>
                  <p:nvPr/>
                </p:nvSpPr>
                <p:spPr>
                  <a:xfrm>
                    <a:off x="1149480" y="5913360"/>
                    <a:ext cx="259200" cy="322560"/>
                  </a:xfrm>
                  <a:custGeom>
                    <a:avLst/>
                    <a:gdLst/>
                    <a:ahLst/>
                    <a:rect l="0" t="0" r="r" b="b"/>
                    <a:pathLst>
                      <a:path w="720" h="896">
                        <a:moveTo>
                          <a:pt x="716" y="242"/>
                        </a:moveTo>
                        <a:lnTo>
                          <a:pt x="667" y="313"/>
                        </a:lnTo>
                        <a:lnTo>
                          <a:pt x="606" y="361"/>
                        </a:lnTo>
                        <a:lnTo>
                          <a:pt x="494" y="396"/>
                        </a:lnTo>
                        <a:lnTo>
                          <a:pt x="402" y="410"/>
                        </a:lnTo>
                        <a:lnTo>
                          <a:pt x="336" y="383"/>
                        </a:lnTo>
                        <a:lnTo>
                          <a:pt x="230" y="317"/>
                        </a:lnTo>
                        <a:lnTo>
                          <a:pt x="190" y="229"/>
                        </a:lnTo>
                        <a:lnTo>
                          <a:pt x="167" y="123"/>
                        </a:lnTo>
                        <a:lnTo>
                          <a:pt x="186" y="0"/>
                        </a:lnTo>
                        <a:lnTo>
                          <a:pt x="127" y="70"/>
                        </a:lnTo>
                        <a:lnTo>
                          <a:pt x="101" y="171"/>
                        </a:lnTo>
                        <a:lnTo>
                          <a:pt x="52" y="313"/>
                        </a:lnTo>
                        <a:lnTo>
                          <a:pt x="17" y="418"/>
                        </a:lnTo>
                        <a:lnTo>
                          <a:pt x="0" y="486"/>
                        </a:lnTo>
                        <a:lnTo>
                          <a:pt x="22" y="561"/>
                        </a:lnTo>
                        <a:lnTo>
                          <a:pt x="97" y="662"/>
                        </a:lnTo>
                        <a:lnTo>
                          <a:pt x="221" y="799"/>
                        </a:lnTo>
                        <a:lnTo>
                          <a:pt x="314" y="865"/>
                        </a:lnTo>
                        <a:lnTo>
                          <a:pt x="353" y="896"/>
                        </a:lnTo>
                        <a:lnTo>
                          <a:pt x="402" y="865"/>
                        </a:lnTo>
                        <a:lnTo>
                          <a:pt x="481" y="821"/>
                        </a:lnTo>
                        <a:lnTo>
                          <a:pt x="610" y="737"/>
                        </a:lnTo>
                        <a:lnTo>
                          <a:pt x="672" y="684"/>
                        </a:lnTo>
                        <a:lnTo>
                          <a:pt x="694" y="649"/>
                        </a:lnTo>
                        <a:lnTo>
                          <a:pt x="711" y="534"/>
                        </a:lnTo>
                        <a:lnTo>
                          <a:pt x="720" y="423"/>
                        </a:lnTo>
                        <a:lnTo>
                          <a:pt x="716" y="24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965" name=""/>
              <p:cNvGrpSpPr/>
              <p:nvPr/>
            </p:nvGrpSpPr>
            <p:grpSpPr>
              <a:xfrm>
                <a:off x="1071720" y="3367080"/>
                <a:ext cx="892440" cy="2521440"/>
                <a:chOff x="1071720" y="3367080"/>
                <a:chExt cx="892440" cy="2521440"/>
              </a:xfrm>
            </p:grpSpPr>
            <p:sp>
              <p:nvSpPr>
                <p:cNvPr id="966" name=""/>
                <p:cNvSpPr/>
                <p:nvPr/>
              </p:nvSpPr>
              <p:spPr>
                <a:xfrm>
                  <a:off x="1071720" y="3367080"/>
                  <a:ext cx="892440" cy="2521440"/>
                </a:xfrm>
                <a:custGeom>
                  <a:avLst/>
                  <a:gdLst/>
                  <a:ahLst/>
                  <a:rect l="0" t="0" r="r" b="b"/>
                  <a:pathLst>
                    <a:path w="2479" h="7004">
                      <a:moveTo>
                        <a:pt x="2276" y="0"/>
                      </a:moveTo>
                      <a:lnTo>
                        <a:pt x="1164" y="101"/>
                      </a:lnTo>
                      <a:lnTo>
                        <a:pt x="22" y="317"/>
                      </a:lnTo>
                      <a:lnTo>
                        <a:pt x="13" y="493"/>
                      </a:lnTo>
                      <a:lnTo>
                        <a:pt x="0" y="652"/>
                      </a:lnTo>
                      <a:lnTo>
                        <a:pt x="22" y="851"/>
                      </a:lnTo>
                      <a:lnTo>
                        <a:pt x="66" y="996"/>
                      </a:lnTo>
                      <a:lnTo>
                        <a:pt x="39" y="974"/>
                      </a:lnTo>
                      <a:lnTo>
                        <a:pt x="17" y="930"/>
                      </a:lnTo>
                      <a:lnTo>
                        <a:pt x="35" y="1058"/>
                      </a:lnTo>
                      <a:lnTo>
                        <a:pt x="57" y="1137"/>
                      </a:lnTo>
                      <a:lnTo>
                        <a:pt x="70" y="1234"/>
                      </a:lnTo>
                      <a:lnTo>
                        <a:pt x="74" y="1358"/>
                      </a:lnTo>
                      <a:lnTo>
                        <a:pt x="66" y="1446"/>
                      </a:lnTo>
                      <a:lnTo>
                        <a:pt x="74" y="1552"/>
                      </a:lnTo>
                      <a:lnTo>
                        <a:pt x="88" y="1636"/>
                      </a:lnTo>
                      <a:lnTo>
                        <a:pt x="110" y="1724"/>
                      </a:lnTo>
                      <a:lnTo>
                        <a:pt x="141" y="1857"/>
                      </a:lnTo>
                      <a:lnTo>
                        <a:pt x="171" y="1954"/>
                      </a:lnTo>
                      <a:lnTo>
                        <a:pt x="198" y="2060"/>
                      </a:lnTo>
                      <a:lnTo>
                        <a:pt x="189" y="2104"/>
                      </a:lnTo>
                      <a:lnTo>
                        <a:pt x="194" y="2152"/>
                      </a:lnTo>
                      <a:lnTo>
                        <a:pt x="207" y="2263"/>
                      </a:lnTo>
                      <a:lnTo>
                        <a:pt x="233" y="2395"/>
                      </a:lnTo>
                      <a:lnTo>
                        <a:pt x="282" y="2541"/>
                      </a:lnTo>
                      <a:lnTo>
                        <a:pt x="339" y="2743"/>
                      </a:lnTo>
                      <a:lnTo>
                        <a:pt x="352" y="2796"/>
                      </a:lnTo>
                      <a:lnTo>
                        <a:pt x="366" y="2862"/>
                      </a:lnTo>
                      <a:lnTo>
                        <a:pt x="392" y="2933"/>
                      </a:lnTo>
                      <a:lnTo>
                        <a:pt x="432" y="3017"/>
                      </a:lnTo>
                      <a:lnTo>
                        <a:pt x="476" y="3087"/>
                      </a:lnTo>
                      <a:lnTo>
                        <a:pt x="454" y="3273"/>
                      </a:lnTo>
                      <a:lnTo>
                        <a:pt x="432" y="3625"/>
                      </a:lnTo>
                      <a:lnTo>
                        <a:pt x="440" y="3925"/>
                      </a:lnTo>
                      <a:lnTo>
                        <a:pt x="432" y="4256"/>
                      </a:lnTo>
                      <a:lnTo>
                        <a:pt x="392" y="4939"/>
                      </a:lnTo>
                      <a:lnTo>
                        <a:pt x="392" y="5333"/>
                      </a:lnTo>
                      <a:lnTo>
                        <a:pt x="388" y="5589"/>
                      </a:lnTo>
                      <a:lnTo>
                        <a:pt x="392" y="5880"/>
                      </a:lnTo>
                      <a:lnTo>
                        <a:pt x="405" y="6382"/>
                      </a:lnTo>
                      <a:lnTo>
                        <a:pt x="414" y="6435"/>
                      </a:lnTo>
                      <a:lnTo>
                        <a:pt x="427" y="6488"/>
                      </a:lnTo>
                      <a:lnTo>
                        <a:pt x="445" y="6629"/>
                      </a:lnTo>
                      <a:lnTo>
                        <a:pt x="445" y="6748"/>
                      </a:lnTo>
                      <a:lnTo>
                        <a:pt x="436" y="6907"/>
                      </a:lnTo>
                      <a:lnTo>
                        <a:pt x="485" y="6889"/>
                      </a:lnTo>
                      <a:lnTo>
                        <a:pt x="537" y="6881"/>
                      </a:lnTo>
                      <a:lnTo>
                        <a:pt x="648" y="6889"/>
                      </a:lnTo>
                      <a:lnTo>
                        <a:pt x="754" y="6912"/>
                      </a:lnTo>
                      <a:lnTo>
                        <a:pt x="886" y="6938"/>
                      </a:lnTo>
                      <a:lnTo>
                        <a:pt x="952" y="6969"/>
                      </a:lnTo>
                      <a:lnTo>
                        <a:pt x="1005" y="6991"/>
                      </a:lnTo>
                      <a:lnTo>
                        <a:pt x="1053" y="7004"/>
                      </a:lnTo>
                      <a:lnTo>
                        <a:pt x="1098" y="7004"/>
                      </a:lnTo>
                      <a:lnTo>
                        <a:pt x="1150" y="7000"/>
                      </a:lnTo>
                      <a:lnTo>
                        <a:pt x="1164" y="6920"/>
                      </a:lnTo>
                      <a:lnTo>
                        <a:pt x="1172" y="6841"/>
                      </a:lnTo>
                      <a:lnTo>
                        <a:pt x="1181" y="6740"/>
                      </a:lnTo>
                      <a:lnTo>
                        <a:pt x="1168" y="6651"/>
                      </a:lnTo>
                      <a:lnTo>
                        <a:pt x="1172" y="6528"/>
                      </a:lnTo>
                      <a:lnTo>
                        <a:pt x="1164" y="6065"/>
                      </a:lnTo>
                      <a:lnTo>
                        <a:pt x="1172" y="5690"/>
                      </a:lnTo>
                      <a:lnTo>
                        <a:pt x="1190" y="5267"/>
                      </a:lnTo>
                      <a:lnTo>
                        <a:pt x="1230" y="4886"/>
                      </a:lnTo>
                      <a:lnTo>
                        <a:pt x="1253" y="4498"/>
                      </a:lnTo>
                      <a:lnTo>
                        <a:pt x="1271" y="4701"/>
                      </a:lnTo>
                      <a:lnTo>
                        <a:pt x="1315" y="4895"/>
                      </a:lnTo>
                      <a:lnTo>
                        <a:pt x="1271" y="5058"/>
                      </a:lnTo>
                      <a:lnTo>
                        <a:pt x="1253" y="5230"/>
                      </a:lnTo>
                      <a:lnTo>
                        <a:pt x="1230" y="5518"/>
                      </a:lnTo>
                      <a:lnTo>
                        <a:pt x="1221" y="5809"/>
                      </a:lnTo>
                      <a:lnTo>
                        <a:pt x="1266" y="6175"/>
                      </a:lnTo>
                      <a:lnTo>
                        <a:pt x="1315" y="6382"/>
                      </a:lnTo>
                      <a:lnTo>
                        <a:pt x="1319" y="6435"/>
                      </a:lnTo>
                      <a:lnTo>
                        <a:pt x="1372" y="6488"/>
                      </a:lnTo>
                      <a:lnTo>
                        <a:pt x="1522" y="6510"/>
                      </a:lnTo>
                      <a:lnTo>
                        <a:pt x="1707" y="6501"/>
                      </a:lnTo>
                      <a:lnTo>
                        <a:pt x="1879" y="6523"/>
                      </a:lnTo>
                      <a:lnTo>
                        <a:pt x="2069" y="6488"/>
                      </a:lnTo>
                      <a:lnTo>
                        <a:pt x="2091" y="6479"/>
                      </a:lnTo>
                      <a:lnTo>
                        <a:pt x="2091" y="6440"/>
                      </a:lnTo>
                      <a:lnTo>
                        <a:pt x="2077" y="6254"/>
                      </a:lnTo>
                      <a:lnTo>
                        <a:pt x="2082" y="6109"/>
                      </a:lnTo>
                      <a:lnTo>
                        <a:pt x="2086" y="5946"/>
                      </a:lnTo>
                      <a:lnTo>
                        <a:pt x="2104" y="5800"/>
                      </a:lnTo>
                      <a:lnTo>
                        <a:pt x="2130" y="5474"/>
                      </a:lnTo>
                      <a:lnTo>
                        <a:pt x="2161" y="5067"/>
                      </a:lnTo>
                      <a:lnTo>
                        <a:pt x="2214" y="4507"/>
                      </a:lnTo>
                      <a:lnTo>
                        <a:pt x="2276" y="4119"/>
                      </a:lnTo>
                      <a:lnTo>
                        <a:pt x="2298" y="3639"/>
                      </a:lnTo>
                      <a:lnTo>
                        <a:pt x="2307" y="3211"/>
                      </a:lnTo>
                      <a:lnTo>
                        <a:pt x="2377" y="2730"/>
                      </a:lnTo>
                      <a:lnTo>
                        <a:pt x="2421" y="2254"/>
                      </a:lnTo>
                      <a:lnTo>
                        <a:pt x="2443" y="1910"/>
                      </a:lnTo>
                      <a:lnTo>
                        <a:pt x="2479" y="1481"/>
                      </a:lnTo>
                      <a:lnTo>
                        <a:pt x="2461" y="1036"/>
                      </a:lnTo>
                      <a:lnTo>
                        <a:pt x="2448" y="701"/>
                      </a:lnTo>
                      <a:lnTo>
                        <a:pt x="2408" y="423"/>
                      </a:lnTo>
                      <a:lnTo>
                        <a:pt x="2351" y="194"/>
                      </a:lnTo>
                      <a:lnTo>
                        <a:pt x="2276" y="0"/>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67" name=""/>
                <p:cNvGrpSpPr/>
                <p:nvPr/>
              </p:nvGrpSpPr>
              <p:grpSpPr>
                <a:xfrm>
                  <a:off x="1076400" y="3406680"/>
                  <a:ext cx="754560" cy="2458080"/>
                  <a:chOff x="1076400" y="3406680"/>
                  <a:chExt cx="754560" cy="2458080"/>
                </a:xfrm>
              </p:grpSpPr>
              <p:sp>
                <p:nvSpPr>
                  <p:cNvPr id="968" name=""/>
                  <p:cNvSpPr/>
                  <p:nvPr/>
                </p:nvSpPr>
                <p:spPr>
                  <a:xfrm>
                    <a:off x="1363680" y="3502080"/>
                    <a:ext cx="394200" cy="2211840"/>
                  </a:xfrm>
                  <a:custGeom>
                    <a:avLst/>
                    <a:gdLst/>
                    <a:ahLst/>
                    <a:rect l="0" t="0" r="r" b="b"/>
                    <a:pathLst>
                      <a:path w="1095" h="6144">
                        <a:moveTo>
                          <a:pt x="455" y="4234"/>
                        </a:moveTo>
                        <a:lnTo>
                          <a:pt x="441" y="4124"/>
                        </a:lnTo>
                        <a:lnTo>
                          <a:pt x="530" y="3436"/>
                        </a:lnTo>
                        <a:lnTo>
                          <a:pt x="552" y="3070"/>
                        </a:lnTo>
                        <a:lnTo>
                          <a:pt x="530" y="2682"/>
                        </a:lnTo>
                        <a:lnTo>
                          <a:pt x="508" y="2276"/>
                        </a:lnTo>
                        <a:lnTo>
                          <a:pt x="468" y="1870"/>
                        </a:lnTo>
                        <a:lnTo>
                          <a:pt x="428" y="1419"/>
                        </a:lnTo>
                        <a:lnTo>
                          <a:pt x="260" y="1239"/>
                        </a:lnTo>
                        <a:lnTo>
                          <a:pt x="145" y="1115"/>
                        </a:lnTo>
                        <a:lnTo>
                          <a:pt x="0" y="996"/>
                        </a:lnTo>
                        <a:lnTo>
                          <a:pt x="136" y="1018"/>
                        </a:lnTo>
                        <a:lnTo>
                          <a:pt x="268" y="1080"/>
                        </a:lnTo>
                        <a:lnTo>
                          <a:pt x="389" y="1155"/>
                        </a:lnTo>
                        <a:lnTo>
                          <a:pt x="508" y="1296"/>
                        </a:lnTo>
                        <a:lnTo>
                          <a:pt x="516" y="961"/>
                        </a:lnTo>
                        <a:lnTo>
                          <a:pt x="530" y="758"/>
                        </a:lnTo>
                        <a:lnTo>
                          <a:pt x="516" y="621"/>
                        </a:lnTo>
                        <a:lnTo>
                          <a:pt x="468" y="489"/>
                        </a:lnTo>
                        <a:lnTo>
                          <a:pt x="428" y="370"/>
                        </a:lnTo>
                        <a:lnTo>
                          <a:pt x="397" y="238"/>
                        </a:lnTo>
                        <a:lnTo>
                          <a:pt x="389" y="97"/>
                        </a:lnTo>
                        <a:lnTo>
                          <a:pt x="406" y="0"/>
                        </a:lnTo>
                        <a:lnTo>
                          <a:pt x="468" y="123"/>
                        </a:lnTo>
                        <a:lnTo>
                          <a:pt x="534" y="233"/>
                        </a:lnTo>
                        <a:lnTo>
                          <a:pt x="613" y="361"/>
                        </a:lnTo>
                        <a:lnTo>
                          <a:pt x="658" y="471"/>
                        </a:lnTo>
                        <a:lnTo>
                          <a:pt x="724" y="626"/>
                        </a:lnTo>
                        <a:lnTo>
                          <a:pt x="759" y="740"/>
                        </a:lnTo>
                        <a:lnTo>
                          <a:pt x="772" y="851"/>
                        </a:lnTo>
                        <a:lnTo>
                          <a:pt x="763" y="1005"/>
                        </a:lnTo>
                        <a:lnTo>
                          <a:pt x="737" y="1155"/>
                        </a:lnTo>
                        <a:lnTo>
                          <a:pt x="710" y="1322"/>
                        </a:lnTo>
                        <a:lnTo>
                          <a:pt x="666" y="1584"/>
                        </a:lnTo>
                        <a:lnTo>
                          <a:pt x="812" y="1292"/>
                        </a:lnTo>
                        <a:lnTo>
                          <a:pt x="945" y="956"/>
                        </a:lnTo>
                        <a:lnTo>
                          <a:pt x="1033" y="626"/>
                        </a:lnTo>
                        <a:lnTo>
                          <a:pt x="1082" y="1124"/>
                        </a:lnTo>
                        <a:lnTo>
                          <a:pt x="1095" y="1548"/>
                        </a:lnTo>
                        <a:lnTo>
                          <a:pt x="1047" y="2280"/>
                        </a:lnTo>
                        <a:lnTo>
                          <a:pt x="994" y="3233"/>
                        </a:lnTo>
                        <a:lnTo>
                          <a:pt x="954" y="4203"/>
                        </a:lnTo>
                        <a:lnTo>
                          <a:pt x="994" y="4658"/>
                        </a:lnTo>
                        <a:lnTo>
                          <a:pt x="932" y="4782"/>
                        </a:lnTo>
                        <a:lnTo>
                          <a:pt x="853" y="5187"/>
                        </a:lnTo>
                        <a:lnTo>
                          <a:pt x="958" y="5765"/>
                        </a:lnTo>
                        <a:lnTo>
                          <a:pt x="1011" y="5985"/>
                        </a:lnTo>
                        <a:lnTo>
                          <a:pt x="1069" y="6144"/>
                        </a:lnTo>
                        <a:lnTo>
                          <a:pt x="958" y="6131"/>
                        </a:lnTo>
                        <a:lnTo>
                          <a:pt x="879" y="6127"/>
                        </a:lnTo>
                        <a:lnTo>
                          <a:pt x="812" y="6131"/>
                        </a:lnTo>
                        <a:lnTo>
                          <a:pt x="706" y="6135"/>
                        </a:lnTo>
                        <a:lnTo>
                          <a:pt x="631" y="6131"/>
                        </a:lnTo>
                        <a:lnTo>
                          <a:pt x="561" y="6122"/>
                        </a:lnTo>
                        <a:lnTo>
                          <a:pt x="516" y="6100"/>
                        </a:lnTo>
                        <a:lnTo>
                          <a:pt x="490" y="6078"/>
                        </a:lnTo>
                        <a:lnTo>
                          <a:pt x="503" y="6012"/>
                        </a:lnTo>
                        <a:lnTo>
                          <a:pt x="486" y="5955"/>
                        </a:lnTo>
                        <a:lnTo>
                          <a:pt x="455" y="5814"/>
                        </a:lnTo>
                        <a:lnTo>
                          <a:pt x="433" y="5686"/>
                        </a:lnTo>
                        <a:lnTo>
                          <a:pt x="419" y="5549"/>
                        </a:lnTo>
                        <a:lnTo>
                          <a:pt x="411" y="5412"/>
                        </a:lnTo>
                        <a:lnTo>
                          <a:pt x="415" y="5302"/>
                        </a:lnTo>
                        <a:lnTo>
                          <a:pt x="419" y="5183"/>
                        </a:lnTo>
                        <a:lnTo>
                          <a:pt x="428" y="5046"/>
                        </a:lnTo>
                        <a:lnTo>
                          <a:pt x="437" y="4861"/>
                        </a:lnTo>
                        <a:lnTo>
                          <a:pt x="455" y="4738"/>
                        </a:lnTo>
                        <a:lnTo>
                          <a:pt x="464" y="4663"/>
                        </a:lnTo>
                        <a:lnTo>
                          <a:pt x="481" y="4604"/>
                        </a:lnTo>
                        <a:lnTo>
                          <a:pt x="503" y="4520"/>
                        </a:lnTo>
                        <a:lnTo>
                          <a:pt x="494" y="4485"/>
                        </a:lnTo>
                        <a:lnTo>
                          <a:pt x="477" y="4401"/>
                        </a:lnTo>
                        <a:lnTo>
                          <a:pt x="459" y="4322"/>
                        </a:lnTo>
                        <a:lnTo>
                          <a:pt x="455" y="423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9" name=""/>
                  <p:cNvSpPr/>
                  <p:nvPr/>
                </p:nvSpPr>
                <p:spPr>
                  <a:xfrm>
                    <a:off x="1076400" y="3575160"/>
                    <a:ext cx="443160" cy="2289600"/>
                  </a:xfrm>
                  <a:custGeom>
                    <a:avLst/>
                    <a:gdLst/>
                    <a:ahLst/>
                    <a:rect l="0" t="0" r="r" b="b"/>
                    <a:pathLst>
                      <a:path w="1231" h="6360">
                        <a:moveTo>
                          <a:pt x="97" y="0"/>
                        </a:moveTo>
                        <a:lnTo>
                          <a:pt x="167" y="30"/>
                        </a:lnTo>
                        <a:lnTo>
                          <a:pt x="251" y="74"/>
                        </a:lnTo>
                        <a:lnTo>
                          <a:pt x="339" y="136"/>
                        </a:lnTo>
                        <a:lnTo>
                          <a:pt x="418" y="220"/>
                        </a:lnTo>
                        <a:lnTo>
                          <a:pt x="463" y="291"/>
                        </a:lnTo>
                        <a:lnTo>
                          <a:pt x="498" y="335"/>
                        </a:lnTo>
                        <a:lnTo>
                          <a:pt x="524" y="352"/>
                        </a:lnTo>
                        <a:lnTo>
                          <a:pt x="573" y="374"/>
                        </a:lnTo>
                        <a:lnTo>
                          <a:pt x="636" y="388"/>
                        </a:lnTo>
                        <a:lnTo>
                          <a:pt x="715" y="396"/>
                        </a:lnTo>
                        <a:lnTo>
                          <a:pt x="768" y="418"/>
                        </a:lnTo>
                        <a:lnTo>
                          <a:pt x="799" y="432"/>
                        </a:lnTo>
                        <a:lnTo>
                          <a:pt x="790" y="471"/>
                        </a:lnTo>
                        <a:lnTo>
                          <a:pt x="759" y="529"/>
                        </a:lnTo>
                        <a:lnTo>
                          <a:pt x="710" y="577"/>
                        </a:lnTo>
                        <a:lnTo>
                          <a:pt x="636" y="626"/>
                        </a:lnTo>
                        <a:lnTo>
                          <a:pt x="515" y="657"/>
                        </a:lnTo>
                        <a:lnTo>
                          <a:pt x="418" y="665"/>
                        </a:lnTo>
                        <a:lnTo>
                          <a:pt x="330" y="661"/>
                        </a:lnTo>
                        <a:lnTo>
                          <a:pt x="233" y="652"/>
                        </a:lnTo>
                        <a:lnTo>
                          <a:pt x="348" y="687"/>
                        </a:lnTo>
                        <a:lnTo>
                          <a:pt x="423" y="727"/>
                        </a:lnTo>
                        <a:lnTo>
                          <a:pt x="502" y="802"/>
                        </a:lnTo>
                        <a:lnTo>
                          <a:pt x="573" y="855"/>
                        </a:lnTo>
                        <a:lnTo>
                          <a:pt x="662" y="921"/>
                        </a:lnTo>
                        <a:lnTo>
                          <a:pt x="724" y="974"/>
                        </a:lnTo>
                        <a:lnTo>
                          <a:pt x="777" y="1018"/>
                        </a:lnTo>
                        <a:lnTo>
                          <a:pt x="816" y="1067"/>
                        </a:lnTo>
                        <a:lnTo>
                          <a:pt x="821" y="1098"/>
                        </a:lnTo>
                        <a:lnTo>
                          <a:pt x="794" y="1128"/>
                        </a:lnTo>
                        <a:lnTo>
                          <a:pt x="724" y="1155"/>
                        </a:lnTo>
                        <a:lnTo>
                          <a:pt x="644" y="1168"/>
                        </a:lnTo>
                        <a:lnTo>
                          <a:pt x="537" y="1177"/>
                        </a:lnTo>
                        <a:lnTo>
                          <a:pt x="432" y="1164"/>
                        </a:lnTo>
                        <a:lnTo>
                          <a:pt x="330" y="1137"/>
                        </a:lnTo>
                        <a:lnTo>
                          <a:pt x="242" y="1106"/>
                        </a:lnTo>
                        <a:lnTo>
                          <a:pt x="110" y="1040"/>
                        </a:lnTo>
                        <a:lnTo>
                          <a:pt x="246" y="1142"/>
                        </a:lnTo>
                        <a:lnTo>
                          <a:pt x="339" y="1208"/>
                        </a:lnTo>
                        <a:lnTo>
                          <a:pt x="427" y="1274"/>
                        </a:lnTo>
                        <a:lnTo>
                          <a:pt x="511" y="1331"/>
                        </a:lnTo>
                        <a:lnTo>
                          <a:pt x="599" y="1406"/>
                        </a:lnTo>
                        <a:lnTo>
                          <a:pt x="684" y="1494"/>
                        </a:lnTo>
                        <a:lnTo>
                          <a:pt x="763" y="1592"/>
                        </a:lnTo>
                        <a:lnTo>
                          <a:pt x="825" y="1672"/>
                        </a:lnTo>
                        <a:lnTo>
                          <a:pt x="900" y="1769"/>
                        </a:lnTo>
                        <a:lnTo>
                          <a:pt x="834" y="1773"/>
                        </a:lnTo>
                        <a:lnTo>
                          <a:pt x="728" y="1769"/>
                        </a:lnTo>
                        <a:lnTo>
                          <a:pt x="627" y="1747"/>
                        </a:lnTo>
                        <a:lnTo>
                          <a:pt x="537" y="1720"/>
                        </a:lnTo>
                        <a:lnTo>
                          <a:pt x="445" y="1689"/>
                        </a:lnTo>
                        <a:lnTo>
                          <a:pt x="339" y="1628"/>
                        </a:lnTo>
                        <a:lnTo>
                          <a:pt x="423" y="1738"/>
                        </a:lnTo>
                        <a:lnTo>
                          <a:pt x="498" y="1857"/>
                        </a:lnTo>
                        <a:lnTo>
                          <a:pt x="599" y="1998"/>
                        </a:lnTo>
                        <a:lnTo>
                          <a:pt x="724" y="2152"/>
                        </a:lnTo>
                        <a:lnTo>
                          <a:pt x="882" y="2346"/>
                        </a:lnTo>
                        <a:lnTo>
                          <a:pt x="935" y="2421"/>
                        </a:lnTo>
                        <a:lnTo>
                          <a:pt x="971" y="2501"/>
                        </a:lnTo>
                        <a:lnTo>
                          <a:pt x="988" y="2602"/>
                        </a:lnTo>
                        <a:lnTo>
                          <a:pt x="984" y="2686"/>
                        </a:lnTo>
                        <a:lnTo>
                          <a:pt x="896" y="2677"/>
                        </a:lnTo>
                        <a:lnTo>
                          <a:pt x="807" y="2668"/>
                        </a:lnTo>
                        <a:lnTo>
                          <a:pt x="697" y="2646"/>
                        </a:lnTo>
                        <a:lnTo>
                          <a:pt x="627" y="2620"/>
                        </a:lnTo>
                        <a:lnTo>
                          <a:pt x="551" y="2589"/>
                        </a:lnTo>
                        <a:lnTo>
                          <a:pt x="662" y="2783"/>
                        </a:lnTo>
                        <a:lnTo>
                          <a:pt x="710" y="2924"/>
                        </a:lnTo>
                        <a:lnTo>
                          <a:pt x="777" y="3118"/>
                        </a:lnTo>
                        <a:lnTo>
                          <a:pt x="860" y="3303"/>
                        </a:lnTo>
                        <a:lnTo>
                          <a:pt x="935" y="3489"/>
                        </a:lnTo>
                        <a:lnTo>
                          <a:pt x="984" y="3634"/>
                        </a:lnTo>
                        <a:lnTo>
                          <a:pt x="1032" y="3762"/>
                        </a:lnTo>
                        <a:lnTo>
                          <a:pt x="1085" y="3885"/>
                        </a:lnTo>
                        <a:lnTo>
                          <a:pt x="1156" y="3996"/>
                        </a:lnTo>
                        <a:lnTo>
                          <a:pt x="1231" y="4124"/>
                        </a:lnTo>
                        <a:lnTo>
                          <a:pt x="1213" y="4393"/>
                        </a:lnTo>
                        <a:lnTo>
                          <a:pt x="1187" y="4626"/>
                        </a:lnTo>
                        <a:lnTo>
                          <a:pt x="1165" y="5077"/>
                        </a:lnTo>
                        <a:lnTo>
                          <a:pt x="1143" y="5514"/>
                        </a:lnTo>
                        <a:lnTo>
                          <a:pt x="1094" y="5655"/>
                        </a:lnTo>
                        <a:lnTo>
                          <a:pt x="1063" y="5800"/>
                        </a:lnTo>
                        <a:lnTo>
                          <a:pt x="1028" y="5933"/>
                        </a:lnTo>
                        <a:lnTo>
                          <a:pt x="979" y="6091"/>
                        </a:lnTo>
                        <a:lnTo>
                          <a:pt x="922" y="6246"/>
                        </a:lnTo>
                        <a:lnTo>
                          <a:pt x="874" y="6360"/>
                        </a:lnTo>
                        <a:lnTo>
                          <a:pt x="785" y="6343"/>
                        </a:lnTo>
                        <a:lnTo>
                          <a:pt x="693" y="6325"/>
                        </a:lnTo>
                        <a:lnTo>
                          <a:pt x="599" y="6312"/>
                        </a:lnTo>
                        <a:lnTo>
                          <a:pt x="564" y="6307"/>
                        </a:lnTo>
                        <a:lnTo>
                          <a:pt x="524" y="6307"/>
                        </a:lnTo>
                        <a:lnTo>
                          <a:pt x="463" y="6316"/>
                        </a:lnTo>
                        <a:lnTo>
                          <a:pt x="418" y="6334"/>
                        </a:lnTo>
                        <a:lnTo>
                          <a:pt x="432" y="6157"/>
                        </a:lnTo>
                        <a:lnTo>
                          <a:pt x="432" y="6047"/>
                        </a:lnTo>
                        <a:lnTo>
                          <a:pt x="405" y="5906"/>
                        </a:lnTo>
                        <a:lnTo>
                          <a:pt x="392" y="5809"/>
                        </a:lnTo>
                        <a:lnTo>
                          <a:pt x="388" y="5659"/>
                        </a:lnTo>
                        <a:lnTo>
                          <a:pt x="374" y="5007"/>
                        </a:lnTo>
                        <a:lnTo>
                          <a:pt x="379" y="4547"/>
                        </a:lnTo>
                        <a:lnTo>
                          <a:pt x="374" y="4384"/>
                        </a:lnTo>
                        <a:lnTo>
                          <a:pt x="392" y="4137"/>
                        </a:lnTo>
                        <a:lnTo>
                          <a:pt x="405" y="3828"/>
                        </a:lnTo>
                        <a:lnTo>
                          <a:pt x="427" y="3347"/>
                        </a:lnTo>
                        <a:lnTo>
                          <a:pt x="418" y="3140"/>
                        </a:lnTo>
                        <a:lnTo>
                          <a:pt x="418" y="2995"/>
                        </a:lnTo>
                        <a:lnTo>
                          <a:pt x="427" y="2818"/>
                        </a:lnTo>
                        <a:lnTo>
                          <a:pt x="440" y="2655"/>
                        </a:lnTo>
                        <a:lnTo>
                          <a:pt x="463" y="2514"/>
                        </a:lnTo>
                        <a:lnTo>
                          <a:pt x="405" y="2421"/>
                        </a:lnTo>
                        <a:lnTo>
                          <a:pt x="379" y="2364"/>
                        </a:lnTo>
                        <a:lnTo>
                          <a:pt x="352" y="2276"/>
                        </a:lnTo>
                        <a:lnTo>
                          <a:pt x="339" y="2223"/>
                        </a:lnTo>
                        <a:lnTo>
                          <a:pt x="326" y="2166"/>
                        </a:lnTo>
                        <a:lnTo>
                          <a:pt x="299" y="2077"/>
                        </a:lnTo>
                        <a:lnTo>
                          <a:pt x="273" y="1980"/>
                        </a:lnTo>
                        <a:lnTo>
                          <a:pt x="242" y="1892"/>
                        </a:lnTo>
                        <a:lnTo>
                          <a:pt x="216" y="1817"/>
                        </a:lnTo>
                        <a:lnTo>
                          <a:pt x="198" y="1698"/>
                        </a:lnTo>
                        <a:lnTo>
                          <a:pt x="180" y="1601"/>
                        </a:lnTo>
                        <a:lnTo>
                          <a:pt x="176" y="1525"/>
                        </a:lnTo>
                        <a:lnTo>
                          <a:pt x="185" y="1481"/>
                        </a:lnTo>
                        <a:lnTo>
                          <a:pt x="158" y="1380"/>
                        </a:lnTo>
                        <a:lnTo>
                          <a:pt x="123" y="1274"/>
                        </a:lnTo>
                        <a:lnTo>
                          <a:pt x="97" y="1155"/>
                        </a:lnTo>
                        <a:lnTo>
                          <a:pt x="74" y="1067"/>
                        </a:lnTo>
                        <a:lnTo>
                          <a:pt x="57" y="965"/>
                        </a:lnTo>
                        <a:lnTo>
                          <a:pt x="52" y="855"/>
                        </a:lnTo>
                        <a:lnTo>
                          <a:pt x="61" y="776"/>
                        </a:lnTo>
                        <a:lnTo>
                          <a:pt x="57" y="665"/>
                        </a:lnTo>
                        <a:lnTo>
                          <a:pt x="48" y="604"/>
                        </a:lnTo>
                        <a:lnTo>
                          <a:pt x="35" y="533"/>
                        </a:lnTo>
                        <a:lnTo>
                          <a:pt x="13" y="463"/>
                        </a:lnTo>
                        <a:lnTo>
                          <a:pt x="8" y="388"/>
                        </a:lnTo>
                        <a:lnTo>
                          <a:pt x="0" y="348"/>
                        </a:lnTo>
                        <a:lnTo>
                          <a:pt x="35" y="396"/>
                        </a:lnTo>
                        <a:lnTo>
                          <a:pt x="97" y="458"/>
                        </a:lnTo>
                        <a:lnTo>
                          <a:pt x="97"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0" name=""/>
                  <p:cNvSpPr/>
                  <p:nvPr/>
                </p:nvSpPr>
                <p:spPr>
                  <a:xfrm>
                    <a:off x="1749600" y="3406680"/>
                    <a:ext cx="81360" cy="195480"/>
                  </a:xfrm>
                  <a:custGeom>
                    <a:avLst/>
                    <a:gdLst/>
                    <a:ahLst/>
                    <a:rect l="0" t="0" r="r" b="b"/>
                    <a:pathLst>
                      <a:path w="226" h="543">
                        <a:moveTo>
                          <a:pt x="209" y="0"/>
                        </a:moveTo>
                        <a:lnTo>
                          <a:pt x="137" y="35"/>
                        </a:lnTo>
                        <a:lnTo>
                          <a:pt x="58" y="74"/>
                        </a:lnTo>
                        <a:lnTo>
                          <a:pt x="0" y="105"/>
                        </a:lnTo>
                        <a:lnTo>
                          <a:pt x="26" y="185"/>
                        </a:lnTo>
                        <a:lnTo>
                          <a:pt x="80" y="314"/>
                        </a:lnTo>
                        <a:lnTo>
                          <a:pt x="150" y="441"/>
                        </a:lnTo>
                        <a:lnTo>
                          <a:pt x="222" y="543"/>
                        </a:lnTo>
                        <a:lnTo>
                          <a:pt x="226" y="494"/>
                        </a:lnTo>
                        <a:lnTo>
                          <a:pt x="209" y="428"/>
                        </a:lnTo>
                        <a:lnTo>
                          <a:pt x="196" y="340"/>
                        </a:lnTo>
                        <a:lnTo>
                          <a:pt x="200" y="229"/>
                        </a:lnTo>
                        <a:lnTo>
                          <a:pt x="222" y="110"/>
                        </a:lnTo>
                        <a:lnTo>
                          <a:pt x="209"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1" name=""/>
                  <p:cNvSpPr/>
                  <p:nvPr/>
                </p:nvSpPr>
                <p:spPr>
                  <a:xfrm>
                    <a:off x="1590840" y="3463920"/>
                    <a:ext cx="208440" cy="295560"/>
                  </a:xfrm>
                  <a:custGeom>
                    <a:avLst/>
                    <a:gdLst/>
                    <a:ahLst/>
                    <a:rect l="0" t="0" r="r" b="b"/>
                    <a:pathLst>
                      <a:path w="579" h="821">
                        <a:moveTo>
                          <a:pt x="221" y="0"/>
                        </a:moveTo>
                        <a:lnTo>
                          <a:pt x="265" y="154"/>
                        </a:lnTo>
                        <a:lnTo>
                          <a:pt x="327" y="299"/>
                        </a:lnTo>
                        <a:lnTo>
                          <a:pt x="415" y="446"/>
                        </a:lnTo>
                        <a:lnTo>
                          <a:pt x="495" y="552"/>
                        </a:lnTo>
                        <a:lnTo>
                          <a:pt x="579" y="627"/>
                        </a:lnTo>
                        <a:lnTo>
                          <a:pt x="562" y="644"/>
                        </a:lnTo>
                        <a:lnTo>
                          <a:pt x="500" y="658"/>
                        </a:lnTo>
                        <a:lnTo>
                          <a:pt x="393" y="649"/>
                        </a:lnTo>
                        <a:lnTo>
                          <a:pt x="300" y="631"/>
                        </a:lnTo>
                        <a:lnTo>
                          <a:pt x="278" y="719"/>
                        </a:lnTo>
                        <a:lnTo>
                          <a:pt x="252" y="821"/>
                        </a:lnTo>
                        <a:lnTo>
                          <a:pt x="225" y="622"/>
                        </a:lnTo>
                        <a:lnTo>
                          <a:pt x="203" y="477"/>
                        </a:lnTo>
                        <a:lnTo>
                          <a:pt x="155" y="339"/>
                        </a:lnTo>
                        <a:lnTo>
                          <a:pt x="92" y="189"/>
                        </a:lnTo>
                        <a:lnTo>
                          <a:pt x="0" y="52"/>
                        </a:lnTo>
                        <a:lnTo>
                          <a:pt x="79" y="35"/>
                        </a:lnTo>
                        <a:lnTo>
                          <a:pt x="141" y="22"/>
                        </a:lnTo>
                        <a:lnTo>
                          <a:pt x="221"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2" name=""/>
                  <p:cNvSpPr/>
                  <p:nvPr/>
                </p:nvSpPr>
                <p:spPr>
                  <a:xfrm>
                    <a:off x="1333440" y="3505320"/>
                    <a:ext cx="101880" cy="211320"/>
                  </a:xfrm>
                  <a:custGeom>
                    <a:avLst/>
                    <a:gdLst/>
                    <a:ahLst/>
                    <a:rect l="0" t="0" r="r" b="b"/>
                    <a:pathLst>
                      <a:path w="283" h="587">
                        <a:moveTo>
                          <a:pt x="101" y="4"/>
                        </a:moveTo>
                        <a:lnTo>
                          <a:pt x="155" y="88"/>
                        </a:lnTo>
                        <a:lnTo>
                          <a:pt x="208" y="180"/>
                        </a:lnTo>
                        <a:lnTo>
                          <a:pt x="247" y="291"/>
                        </a:lnTo>
                        <a:lnTo>
                          <a:pt x="274" y="419"/>
                        </a:lnTo>
                        <a:lnTo>
                          <a:pt x="283" y="587"/>
                        </a:lnTo>
                        <a:lnTo>
                          <a:pt x="256" y="534"/>
                        </a:lnTo>
                        <a:lnTo>
                          <a:pt x="225" y="494"/>
                        </a:lnTo>
                        <a:lnTo>
                          <a:pt x="177" y="464"/>
                        </a:lnTo>
                        <a:lnTo>
                          <a:pt x="155" y="441"/>
                        </a:lnTo>
                        <a:lnTo>
                          <a:pt x="127" y="393"/>
                        </a:lnTo>
                        <a:lnTo>
                          <a:pt x="92" y="314"/>
                        </a:lnTo>
                        <a:lnTo>
                          <a:pt x="52" y="229"/>
                        </a:lnTo>
                        <a:lnTo>
                          <a:pt x="13" y="114"/>
                        </a:lnTo>
                        <a:lnTo>
                          <a:pt x="0" y="48"/>
                        </a:lnTo>
                        <a:lnTo>
                          <a:pt x="0" y="0"/>
                        </a:lnTo>
                        <a:lnTo>
                          <a:pt x="101" y="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3" name=""/>
                  <p:cNvSpPr/>
                  <p:nvPr/>
                </p:nvSpPr>
                <p:spPr>
                  <a:xfrm>
                    <a:off x="1087560" y="3483000"/>
                    <a:ext cx="200520" cy="141480"/>
                  </a:xfrm>
                  <a:custGeom>
                    <a:avLst/>
                    <a:gdLst/>
                    <a:ahLst/>
                    <a:rect l="0" t="0" r="r" b="b"/>
                    <a:pathLst>
                      <a:path w="557" h="393">
                        <a:moveTo>
                          <a:pt x="371" y="48"/>
                        </a:moveTo>
                        <a:lnTo>
                          <a:pt x="402" y="79"/>
                        </a:lnTo>
                        <a:lnTo>
                          <a:pt x="442" y="119"/>
                        </a:lnTo>
                        <a:lnTo>
                          <a:pt x="465" y="158"/>
                        </a:lnTo>
                        <a:lnTo>
                          <a:pt x="491" y="208"/>
                        </a:lnTo>
                        <a:lnTo>
                          <a:pt x="513" y="256"/>
                        </a:lnTo>
                        <a:lnTo>
                          <a:pt x="535" y="318"/>
                        </a:lnTo>
                        <a:lnTo>
                          <a:pt x="557" y="393"/>
                        </a:lnTo>
                        <a:lnTo>
                          <a:pt x="517" y="389"/>
                        </a:lnTo>
                        <a:lnTo>
                          <a:pt x="460" y="367"/>
                        </a:lnTo>
                        <a:lnTo>
                          <a:pt x="402" y="327"/>
                        </a:lnTo>
                        <a:lnTo>
                          <a:pt x="349" y="287"/>
                        </a:lnTo>
                        <a:lnTo>
                          <a:pt x="292" y="243"/>
                        </a:lnTo>
                        <a:lnTo>
                          <a:pt x="225" y="199"/>
                        </a:lnTo>
                        <a:lnTo>
                          <a:pt x="155" y="171"/>
                        </a:lnTo>
                        <a:lnTo>
                          <a:pt x="88" y="141"/>
                        </a:lnTo>
                        <a:lnTo>
                          <a:pt x="66" y="127"/>
                        </a:lnTo>
                        <a:lnTo>
                          <a:pt x="52" y="88"/>
                        </a:lnTo>
                        <a:lnTo>
                          <a:pt x="57" y="61"/>
                        </a:lnTo>
                        <a:lnTo>
                          <a:pt x="30" y="39"/>
                        </a:lnTo>
                        <a:lnTo>
                          <a:pt x="0" y="0"/>
                        </a:lnTo>
                        <a:lnTo>
                          <a:pt x="57" y="13"/>
                        </a:lnTo>
                        <a:lnTo>
                          <a:pt x="127" y="22"/>
                        </a:lnTo>
                        <a:lnTo>
                          <a:pt x="203" y="30"/>
                        </a:lnTo>
                        <a:lnTo>
                          <a:pt x="278" y="39"/>
                        </a:lnTo>
                        <a:lnTo>
                          <a:pt x="371" y="48"/>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974" name=""/>
            <p:cNvGrpSpPr/>
            <p:nvPr/>
          </p:nvGrpSpPr>
          <p:grpSpPr>
            <a:xfrm>
              <a:off x="720720" y="1446120"/>
              <a:ext cx="1497240" cy="2295720"/>
              <a:chOff x="720720" y="1446120"/>
              <a:chExt cx="1497240" cy="2295720"/>
            </a:xfrm>
          </p:grpSpPr>
          <p:grpSp>
            <p:nvGrpSpPr>
              <p:cNvPr id="975" name=""/>
              <p:cNvGrpSpPr/>
              <p:nvPr/>
            </p:nvGrpSpPr>
            <p:grpSpPr>
              <a:xfrm>
                <a:off x="942840" y="1446120"/>
                <a:ext cx="843120" cy="862560"/>
                <a:chOff x="942840" y="1446120"/>
                <a:chExt cx="843120" cy="862560"/>
              </a:xfrm>
            </p:grpSpPr>
            <p:sp>
              <p:nvSpPr>
                <p:cNvPr id="976" name=""/>
                <p:cNvSpPr/>
                <p:nvPr/>
              </p:nvSpPr>
              <p:spPr>
                <a:xfrm>
                  <a:off x="1760400" y="22287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77" name=""/>
                <p:cNvSpPr/>
                <p:nvPr/>
              </p:nvSpPr>
              <p:spPr>
                <a:xfrm>
                  <a:off x="1317600" y="1994040"/>
                  <a:ext cx="192600" cy="163800"/>
                </a:xfrm>
                <a:custGeom>
                  <a:avLst/>
                  <a:gdLst/>
                  <a:ahLst/>
                  <a:rect l="0" t="0" r="r" b="b"/>
                  <a:pathLst>
                    <a:path w="535" h="455">
                      <a:moveTo>
                        <a:pt x="384" y="30"/>
                      </a:moveTo>
                      <a:lnTo>
                        <a:pt x="397" y="158"/>
                      </a:lnTo>
                      <a:lnTo>
                        <a:pt x="403" y="198"/>
                      </a:lnTo>
                      <a:lnTo>
                        <a:pt x="434" y="261"/>
                      </a:lnTo>
                      <a:lnTo>
                        <a:pt x="487" y="305"/>
                      </a:lnTo>
                      <a:lnTo>
                        <a:pt x="535" y="344"/>
                      </a:lnTo>
                      <a:lnTo>
                        <a:pt x="491" y="336"/>
                      </a:lnTo>
                      <a:lnTo>
                        <a:pt x="500" y="375"/>
                      </a:lnTo>
                      <a:lnTo>
                        <a:pt x="465" y="362"/>
                      </a:lnTo>
                      <a:lnTo>
                        <a:pt x="425" y="358"/>
                      </a:lnTo>
                      <a:lnTo>
                        <a:pt x="434" y="402"/>
                      </a:lnTo>
                      <a:lnTo>
                        <a:pt x="389" y="384"/>
                      </a:lnTo>
                      <a:lnTo>
                        <a:pt x="344" y="367"/>
                      </a:lnTo>
                      <a:lnTo>
                        <a:pt x="309" y="344"/>
                      </a:lnTo>
                      <a:lnTo>
                        <a:pt x="322" y="406"/>
                      </a:lnTo>
                      <a:lnTo>
                        <a:pt x="292" y="393"/>
                      </a:lnTo>
                      <a:lnTo>
                        <a:pt x="265" y="384"/>
                      </a:lnTo>
                      <a:lnTo>
                        <a:pt x="243" y="367"/>
                      </a:lnTo>
                      <a:lnTo>
                        <a:pt x="239" y="389"/>
                      </a:lnTo>
                      <a:lnTo>
                        <a:pt x="243" y="428"/>
                      </a:lnTo>
                      <a:lnTo>
                        <a:pt x="199" y="411"/>
                      </a:lnTo>
                      <a:lnTo>
                        <a:pt x="195" y="450"/>
                      </a:lnTo>
                      <a:lnTo>
                        <a:pt x="168" y="455"/>
                      </a:lnTo>
                      <a:lnTo>
                        <a:pt x="137" y="446"/>
                      </a:lnTo>
                      <a:lnTo>
                        <a:pt x="97" y="428"/>
                      </a:lnTo>
                      <a:lnTo>
                        <a:pt x="66" y="402"/>
                      </a:lnTo>
                      <a:lnTo>
                        <a:pt x="48" y="380"/>
                      </a:lnTo>
                      <a:lnTo>
                        <a:pt x="0" y="0"/>
                      </a:lnTo>
                      <a:lnTo>
                        <a:pt x="384" y="3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78" name=""/>
                <p:cNvGrpSpPr/>
                <p:nvPr/>
              </p:nvGrpSpPr>
              <p:grpSpPr>
                <a:xfrm>
                  <a:off x="973080" y="1552680"/>
                  <a:ext cx="606960" cy="756000"/>
                  <a:chOff x="973080" y="1552680"/>
                  <a:chExt cx="606960" cy="756000"/>
                </a:xfrm>
              </p:grpSpPr>
              <p:grpSp>
                <p:nvGrpSpPr>
                  <p:cNvPr id="979" name=""/>
                  <p:cNvGrpSpPr/>
                  <p:nvPr/>
                </p:nvGrpSpPr>
                <p:grpSpPr>
                  <a:xfrm>
                    <a:off x="973080" y="1552680"/>
                    <a:ext cx="606960" cy="756000"/>
                    <a:chOff x="973080" y="1552680"/>
                    <a:chExt cx="606960" cy="756000"/>
                  </a:xfrm>
                </p:grpSpPr>
                <p:sp>
                  <p:nvSpPr>
                    <p:cNvPr id="980" name=""/>
                    <p:cNvSpPr/>
                    <p:nvPr/>
                  </p:nvSpPr>
                  <p:spPr>
                    <a:xfrm>
                      <a:off x="973080" y="1552680"/>
                      <a:ext cx="606960" cy="756000"/>
                    </a:xfrm>
                    <a:custGeom>
                      <a:avLst/>
                      <a:gdLst/>
                      <a:ahLst/>
                      <a:rect l="0" t="0" r="r" b="b"/>
                      <a:pathLst>
                        <a:path w="1686" h="2100">
                          <a:moveTo>
                            <a:pt x="1373" y="0"/>
                          </a:moveTo>
                          <a:lnTo>
                            <a:pt x="1545" y="92"/>
                          </a:lnTo>
                          <a:lnTo>
                            <a:pt x="1646" y="220"/>
                          </a:lnTo>
                          <a:lnTo>
                            <a:pt x="1686" y="383"/>
                          </a:lnTo>
                          <a:lnTo>
                            <a:pt x="1677" y="507"/>
                          </a:lnTo>
                          <a:lnTo>
                            <a:pt x="1668" y="568"/>
                          </a:lnTo>
                          <a:lnTo>
                            <a:pt x="1655" y="590"/>
                          </a:lnTo>
                          <a:lnTo>
                            <a:pt x="1642" y="617"/>
                          </a:lnTo>
                          <a:lnTo>
                            <a:pt x="1615" y="643"/>
                          </a:lnTo>
                          <a:lnTo>
                            <a:pt x="1611" y="674"/>
                          </a:lnTo>
                          <a:lnTo>
                            <a:pt x="1615" y="718"/>
                          </a:lnTo>
                          <a:lnTo>
                            <a:pt x="1646" y="767"/>
                          </a:lnTo>
                          <a:lnTo>
                            <a:pt x="1673" y="798"/>
                          </a:lnTo>
                          <a:lnTo>
                            <a:pt x="1686" y="842"/>
                          </a:lnTo>
                          <a:lnTo>
                            <a:pt x="1673" y="873"/>
                          </a:lnTo>
                          <a:lnTo>
                            <a:pt x="1655" y="881"/>
                          </a:lnTo>
                          <a:lnTo>
                            <a:pt x="1646" y="908"/>
                          </a:lnTo>
                          <a:lnTo>
                            <a:pt x="1655" y="956"/>
                          </a:lnTo>
                          <a:lnTo>
                            <a:pt x="1646" y="1001"/>
                          </a:lnTo>
                          <a:lnTo>
                            <a:pt x="1615" y="1031"/>
                          </a:lnTo>
                          <a:lnTo>
                            <a:pt x="1593" y="1059"/>
                          </a:lnTo>
                          <a:lnTo>
                            <a:pt x="1563" y="1090"/>
                          </a:lnTo>
                          <a:lnTo>
                            <a:pt x="1598" y="1138"/>
                          </a:lnTo>
                          <a:lnTo>
                            <a:pt x="1576" y="1191"/>
                          </a:lnTo>
                          <a:lnTo>
                            <a:pt x="1571" y="1209"/>
                          </a:lnTo>
                          <a:lnTo>
                            <a:pt x="1580" y="1266"/>
                          </a:lnTo>
                          <a:lnTo>
                            <a:pt x="1593" y="1306"/>
                          </a:lnTo>
                          <a:lnTo>
                            <a:pt x="1580" y="1341"/>
                          </a:lnTo>
                          <a:lnTo>
                            <a:pt x="1567" y="1354"/>
                          </a:lnTo>
                          <a:lnTo>
                            <a:pt x="1527" y="1363"/>
                          </a:lnTo>
                          <a:lnTo>
                            <a:pt x="1501" y="1372"/>
                          </a:lnTo>
                          <a:lnTo>
                            <a:pt x="1329" y="1363"/>
                          </a:lnTo>
                          <a:lnTo>
                            <a:pt x="1187" y="1363"/>
                          </a:lnTo>
                          <a:lnTo>
                            <a:pt x="1125" y="1372"/>
                          </a:lnTo>
                          <a:lnTo>
                            <a:pt x="1085" y="1390"/>
                          </a:lnTo>
                          <a:lnTo>
                            <a:pt x="1059" y="1434"/>
                          </a:lnTo>
                          <a:lnTo>
                            <a:pt x="1050" y="1491"/>
                          </a:lnTo>
                          <a:lnTo>
                            <a:pt x="1054" y="1570"/>
                          </a:lnTo>
                          <a:lnTo>
                            <a:pt x="1076" y="1659"/>
                          </a:lnTo>
                          <a:lnTo>
                            <a:pt x="1107" y="1720"/>
                          </a:lnTo>
                          <a:lnTo>
                            <a:pt x="1134" y="1756"/>
                          </a:lnTo>
                          <a:lnTo>
                            <a:pt x="1222" y="1778"/>
                          </a:lnTo>
                          <a:lnTo>
                            <a:pt x="583" y="2100"/>
                          </a:lnTo>
                          <a:lnTo>
                            <a:pt x="123" y="1919"/>
                          </a:lnTo>
                          <a:lnTo>
                            <a:pt x="0" y="1808"/>
                          </a:lnTo>
                          <a:lnTo>
                            <a:pt x="136" y="1734"/>
                          </a:lnTo>
                          <a:lnTo>
                            <a:pt x="202" y="1654"/>
                          </a:lnTo>
                          <a:lnTo>
                            <a:pt x="273" y="1544"/>
                          </a:lnTo>
                          <a:lnTo>
                            <a:pt x="330" y="1442"/>
                          </a:lnTo>
                          <a:lnTo>
                            <a:pt x="441" y="1063"/>
                          </a:lnTo>
                          <a:lnTo>
                            <a:pt x="335" y="529"/>
                          </a:lnTo>
                          <a:lnTo>
                            <a:pt x="490" y="335"/>
                          </a:lnTo>
                          <a:lnTo>
                            <a:pt x="719" y="383"/>
                          </a:lnTo>
                          <a:lnTo>
                            <a:pt x="834" y="427"/>
                          </a:lnTo>
                          <a:lnTo>
                            <a:pt x="975" y="171"/>
                          </a:lnTo>
                          <a:lnTo>
                            <a:pt x="1107" y="61"/>
                          </a:lnTo>
                          <a:lnTo>
                            <a:pt x="1373"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1" name=""/>
                    <p:cNvSpPr/>
                    <p:nvPr/>
                  </p:nvSpPr>
                  <p:spPr>
                    <a:xfrm>
                      <a:off x="1166760" y="1863720"/>
                      <a:ext cx="194040" cy="171720"/>
                    </a:xfrm>
                    <a:custGeom>
                      <a:avLst/>
                      <a:gdLst/>
                      <a:ahLst/>
                      <a:rect l="0" t="0" r="r" b="b"/>
                      <a:pathLst>
                        <a:path w="539" h="477">
                          <a:moveTo>
                            <a:pt x="539" y="477"/>
                          </a:moveTo>
                          <a:lnTo>
                            <a:pt x="473" y="455"/>
                          </a:lnTo>
                          <a:lnTo>
                            <a:pt x="412" y="437"/>
                          </a:lnTo>
                          <a:lnTo>
                            <a:pt x="367" y="411"/>
                          </a:lnTo>
                          <a:lnTo>
                            <a:pt x="322" y="362"/>
                          </a:lnTo>
                          <a:lnTo>
                            <a:pt x="287" y="305"/>
                          </a:lnTo>
                          <a:lnTo>
                            <a:pt x="247" y="243"/>
                          </a:lnTo>
                          <a:lnTo>
                            <a:pt x="221" y="189"/>
                          </a:lnTo>
                          <a:lnTo>
                            <a:pt x="225" y="145"/>
                          </a:lnTo>
                          <a:lnTo>
                            <a:pt x="239" y="92"/>
                          </a:lnTo>
                          <a:lnTo>
                            <a:pt x="239" y="44"/>
                          </a:lnTo>
                          <a:lnTo>
                            <a:pt x="101" y="110"/>
                          </a:lnTo>
                          <a:lnTo>
                            <a:pt x="26" y="30"/>
                          </a:lnTo>
                          <a:lnTo>
                            <a:pt x="0" y="0"/>
                          </a:lnTo>
                          <a:lnTo>
                            <a:pt x="8" y="79"/>
                          </a:lnTo>
                          <a:lnTo>
                            <a:pt x="30" y="136"/>
                          </a:lnTo>
                          <a:lnTo>
                            <a:pt x="74" y="171"/>
                          </a:lnTo>
                          <a:lnTo>
                            <a:pt x="137" y="189"/>
                          </a:lnTo>
                          <a:lnTo>
                            <a:pt x="168" y="265"/>
                          </a:lnTo>
                          <a:lnTo>
                            <a:pt x="195" y="327"/>
                          </a:lnTo>
                          <a:lnTo>
                            <a:pt x="230" y="375"/>
                          </a:lnTo>
                          <a:lnTo>
                            <a:pt x="278" y="411"/>
                          </a:lnTo>
                          <a:lnTo>
                            <a:pt x="353" y="441"/>
                          </a:lnTo>
                          <a:lnTo>
                            <a:pt x="442" y="464"/>
                          </a:lnTo>
                          <a:lnTo>
                            <a:pt x="539" y="477"/>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2" name=""/>
                    <p:cNvSpPr/>
                    <p:nvPr/>
                  </p:nvSpPr>
                  <p:spPr>
                    <a:xfrm>
                      <a:off x="1165320" y="2062080"/>
                      <a:ext cx="66960" cy="198720"/>
                    </a:xfrm>
                    <a:custGeom>
                      <a:avLst/>
                      <a:gdLst/>
                      <a:ahLst/>
                      <a:rect l="0" t="0" r="r" b="b"/>
                      <a:pathLst>
                        <a:path w="186" h="552">
                          <a:moveTo>
                            <a:pt x="186" y="525"/>
                          </a:moveTo>
                          <a:lnTo>
                            <a:pt x="146" y="428"/>
                          </a:lnTo>
                          <a:lnTo>
                            <a:pt x="120" y="336"/>
                          </a:lnTo>
                          <a:lnTo>
                            <a:pt x="102" y="255"/>
                          </a:lnTo>
                          <a:lnTo>
                            <a:pt x="79" y="154"/>
                          </a:lnTo>
                          <a:lnTo>
                            <a:pt x="61" y="0"/>
                          </a:lnTo>
                          <a:lnTo>
                            <a:pt x="13" y="114"/>
                          </a:lnTo>
                          <a:lnTo>
                            <a:pt x="35" y="224"/>
                          </a:lnTo>
                          <a:lnTo>
                            <a:pt x="48" y="344"/>
                          </a:lnTo>
                          <a:lnTo>
                            <a:pt x="35" y="450"/>
                          </a:lnTo>
                          <a:lnTo>
                            <a:pt x="0" y="552"/>
                          </a:lnTo>
                          <a:lnTo>
                            <a:pt x="186" y="525"/>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83" name=""/>
                    <p:cNvGrpSpPr/>
                    <p:nvPr/>
                  </p:nvGrpSpPr>
                  <p:grpSpPr>
                    <a:xfrm>
                      <a:off x="1160640" y="1593720"/>
                      <a:ext cx="414360" cy="451080"/>
                      <a:chOff x="1160640" y="1593720"/>
                      <a:chExt cx="414360" cy="451080"/>
                    </a:xfrm>
                  </p:grpSpPr>
                  <p:grpSp>
                    <p:nvGrpSpPr>
                      <p:cNvPr id="984" name=""/>
                      <p:cNvGrpSpPr/>
                      <p:nvPr/>
                    </p:nvGrpSpPr>
                    <p:grpSpPr>
                      <a:xfrm>
                        <a:off x="1160640" y="1593720"/>
                        <a:ext cx="414360" cy="451080"/>
                        <a:chOff x="1160640" y="1593720"/>
                        <a:chExt cx="414360" cy="451080"/>
                      </a:xfrm>
                    </p:grpSpPr>
                    <p:sp>
                      <p:nvSpPr>
                        <p:cNvPr id="985" name=""/>
                        <p:cNvSpPr/>
                        <p:nvPr/>
                      </p:nvSpPr>
                      <p:spPr>
                        <a:xfrm>
                          <a:off x="1160640" y="1593720"/>
                          <a:ext cx="368640" cy="451080"/>
                        </a:xfrm>
                        <a:custGeom>
                          <a:avLst/>
                          <a:gdLst/>
                          <a:ahLst/>
                          <a:rect l="0" t="0" r="r" b="b"/>
                          <a:pathLst>
                            <a:path w="1024" h="1253">
                              <a:moveTo>
                                <a:pt x="666" y="0"/>
                              </a:moveTo>
                              <a:lnTo>
                                <a:pt x="772" y="70"/>
                              </a:lnTo>
                              <a:lnTo>
                                <a:pt x="807" y="127"/>
                              </a:lnTo>
                              <a:lnTo>
                                <a:pt x="706" y="127"/>
                              </a:lnTo>
                              <a:lnTo>
                                <a:pt x="649" y="163"/>
                              </a:lnTo>
                              <a:lnTo>
                                <a:pt x="613" y="229"/>
                              </a:lnTo>
                              <a:lnTo>
                                <a:pt x="666" y="282"/>
                              </a:lnTo>
                              <a:lnTo>
                                <a:pt x="688" y="348"/>
                              </a:lnTo>
                              <a:lnTo>
                                <a:pt x="636" y="414"/>
                              </a:lnTo>
                              <a:lnTo>
                                <a:pt x="609" y="485"/>
                              </a:lnTo>
                              <a:lnTo>
                                <a:pt x="587" y="533"/>
                              </a:lnTo>
                              <a:lnTo>
                                <a:pt x="627" y="564"/>
                              </a:lnTo>
                              <a:lnTo>
                                <a:pt x="653" y="612"/>
                              </a:lnTo>
                              <a:lnTo>
                                <a:pt x="728" y="671"/>
                              </a:lnTo>
                              <a:lnTo>
                                <a:pt x="777" y="697"/>
                              </a:lnTo>
                              <a:lnTo>
                                <a:pt x="812" y="746"/>
                              </a:lnTo>
                              <a:lnTo>
                                <a:pt x="825" y="794"/>
                              </a:lnTo>
                              <a:lnTo>
                                <a:pt x="825" y="852"/>
                              </a:lnTo>
                              <a:lnTo>
                                <a:pt x="803" y="909"/>
                              </a:lnTo>
                              <a:lnTo>
                                <a:pt x="772" y="940"/>
                              </a:lnTo>
                              <a:lnTo>
                                <a:pt x="733" y="962"/>
                              </a:lnTo>
                              <a:lnTo>
                                <a:pt x="680" y="984"/>
                              </a:lnTo>
                              <a:lnTo>
                                <a:pt x="649" y="1015"/>
                              </a:lnTo>
                              <a:lnTo>
                                <a:pt x="631" y="1046"/>
                              </a:lnTo>
                              <a:lnTo>
                                <a:pt x="636" y="1094"/>
                              </a:lnTo>
                              <a:lnTo>
                                <a:pt x="658" y="1134"/>
                              </a:lnTo>
                              <a:lnTo>
                                <a:pt x="702" y="1156"/>
                              </a:lnTo>
                              <a:lnTo>
                                <a:pt x="755" y="1165"/>
                              </a:lnTo>
                              <a:lnTo>
                                <a:pt x="807" y="1187"/>
                              </a:lnTo>
                              <a:lnTo>
                                <a:pt x="856" y="1204"/>
                              </a:lnTo>
                              <a:lnTo>
                                <a:pt x="918" y="1226"/>
                              </a:lnTo>
                              <a:lnTo>
                                <a:pt x="971" y="1240"/>
                              </a:lnTo>
                              <a:lnTo>
                                <a:pt x="1024" y="1248"/>
                              </a:lnTo>
                              <a:lnTo>
                                <a:pt x="984" y="1253"/>
                              </a:lnTo>
                              <a:lnTo>
                                <a:pt x="922" y="1248"/>
                              </a:lnTo>
                              <a:lnTo>
                                <a:pt x="825" y="1248"/>
                              </a:lnTo>
                              <a:lnTo>
                                <a:pt x="755" y="1248"/>
                              </a:lnTo>
                              <a:lnTo>
                                <a:pt x="684" y="1240"/>
                              </a:lnTo>
                              <a:lnTo>
                                <a:pt x="600" y="1231"/>
                              </a:lnTo>
                              <a:lnTo>
                                <a:pt x="516" y="1213"/>
                              </a:lnTo>
                              <a:lnTo>
                                <a:pt x="449" y="1191"/>
                              </a:lnTo>
                              <a:lnTo>
                                <a:pt x="388" y="1160"/>
                              </a:lnTo>
                              <a:lnTo>
                                <a:pt x="343" y="1129"/>
                              </a:lnTo>
                              <a:lnTo>
                                <a:pt x="304" y="1063"/>
                              </a:lnTo>
                              <a:lnTo>
                                <a:pt x="220" y="913"/>
                              </a:lnTo>
                              <a:lnTo>
                                <a:pt x="141" y="750"/>
                              </a:lnTo>
                              <a:lnTo>
                                <a:pt x="0" y="432"/>
                              </a:lnTo>
                              <a:lnTo>
                                <a:pt x="83" y="335"/>
                              </a:lnTo>
                              <a:lnTo>
                                <a:pt x="277" y="414"/>
                              </a:lnTo>
                              <a:lnTo>
                                <a:pt x="383" y="260"/>
                              </a:lnTo>
                              <a:lnTo>
                                <a:pt x="449" y="57"/>
                              </a:lnTo>
                              <a:lnTo>
                                <a:pt x="666"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6" name=""/>
                        <p:cNvSpPr/>
                        <p:nvPr/>
                      </p:nvSpPr>
                      <p:spPr>
                        <a:xfrm>
                          <a:off x="1363680" y="1735200"/>
                          <a:ext cx="182880" cy="143280"/>
                        </a:xfrm>
                        <a:custGeom>
                          <a:avLst/>
                          <a:gdLst/>
                          <a:ahLst/>
                          <a:rect l="0" t="0" r="r" b="b"/>
                          <a:pathLst>
                            <a:path w="508" h="398">
                              <a:moveTo>
                                <a:pt x="194" y="0"/>
                              </a:moveTo>
                              <a:lnTo>
                                <a:pt x="216" y="4"/>
                              </a:lnTo>
                              <a:lnTo>
                                <a:pt x="256" y="17"/>
                              </a:lnTo>
                              <a:lnTo>
                                <a:pt x="296" y="22"/>
                              </a:lnTo>
                              <a:lnTo>
                                <a:pt x="371" y="35"/>
                              </a:lnTo>
                              <a:lnTo>
                                <a:pt x="419" y="35"/>
                              </a:lnTo>
                              <a:lnTo>
                                <a:pt x="415" y="83"/>
                              </a:lnTo>
                              <a:lnTo>
                                <a:pt x="428" y="133"/>
                              </a:lnTo>
                              <a:lnTo>
                                <a:pt x="446" y="168"/>
                              </a:lnTo>
                              <a:lnTo>
                                <a:pt x="468" y="208"/>
                              </a:lnTo>
                              <a:lnTo>
                                <a:pt x="508" y="265"/>
                              </a:lnTo>
                              <a:lnTo>
                                <a:pt x="508" y="306"/>
                              </a:lnTo>
                              <a:lnTo>
                                <a:pt x="477" y="301"/>
                              </a:lnTo>
                              <a:lnTo>
                                <a:pt x="437" y="310"/>
                              </a:lnTo>
                              <a:lnTo>
                                <a:pt x="415" y="328"/>
                              </a:lnTo>
                              <a:lnTo>
                                <a:pt x="406" y="354"/>
                              </a:lnTo>
                              <a:lnTo>
                                <a:pt x="419" y="381"/>
                              </a:lnTo>
                              <a:lnTo>
                                <a:pt x="459" y="390"/>
                              </a:lnTo>
                              <a:lnTo>
                                <a:pt x="428" y="398"/>
                              </a:lnTo>
                              <a:lnTo>
                                <a:pt x="397" y="385"/>
                              </a:lnTo>
                              <a:lnTo>
                                <a:pt x="380" y="368"/>
                              </a:lnTo>
                              <a:lnTo>
                                <a:pt x="380" y="332"/>
                              </a:lnTo>
                              <a:lnTo>
                                <a:pt x="393" y="306"/>
                              </a:lnTo>
                              <a:lnTo>
                                <a:pt x="419" y="278"/>
                              </a:lnTo>
                              <a:lnTo>
                                <a:pt x="446" y="278"/>
                              </a:lnTo>
                              <a:lnTo>
                                <a:pt x="406" y="212"/>
                              </a:lnTo>
                              <a:lnTo>
                                <a:pt x="380" y="164"/>
                              </a:lnTo>
                              <a:lnTo>
                                <a:pt x="305" y="172"/>
                              </a:lnTo>
                              <a:lnTo>
                                <a:pt x="242" y="172"/>
                              </a:lnTo>
                              <a:lnTo>
                                <a:pt x="167" y="164"/>
                              </a:lnTo>
                              <a:lnTo>
                                <a:pt x="123" y="142"/>
                              </a:lnTo>
                              <a:lnTo>
                                <a:pt x="88" y="111"/>
                              </a:lnTo>
                              <a:lnTo>
                                <a:pt x="44" y="88"/>
                              </a:lnTo>
                              <a:lnTo>
                                <a:pt x="0" y="70"/>
                              </a:lnTo>
                              <a:lnTo>
                                <a:pt x="110" y="22"/>
                              </a:lnTo>
                              <a:lnTo>
                                <a:pt x="194"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7" name=""/>
                        <p:cNvSpPr/>
                        <p:nvPr/>
                      </p:nvSpPr>
                      <p:spPr>
                        <a:xfrm>
                          <a:off x="1539720" y="1744560"/>
                          <a:ext cx="35280" cy="66960"/>
                        </a:xfrm>
                        <a:custGeom>
                          <a:avLst/>
                          <a:gdLst/>
                          <a:ahLst/>
                          <a:rect l="0" t="0" r="r" b="b"/>
                          <a:pathLst>
                            <a:path w="98" h="186">
                              <a:moveTo>
                                <a:pt x="98" y="0"/>
                              </a:moveTo>
                              <a:lnTo>
                                <a:pt x="71" y="8"/>
                              </a:lnTo>
                              <a:lnTo>
                                <a:pt x="44" y="13"/>
                              </a:lnTo>
                              <a:lnTo>
                                <a:pt x="17" y="26"/>
                              </a:lnTo>
                              <a:lnTo>
                                <a:pt x="0" y="39"/>
                              </a:lnTo>
                              <a:lnTo>
                                <a:pt x="0" y="66"/>
                              </a:lnTo>
                              <a:lnTo>
                                <a:pt x="4" y="115"/>
                              </a:lnTo>
                              <a:lnTo>
                                <a:pt x="17" y="146"/>
                              </a:lnTo>
                              <a:lnTo>
                                <a:pt x="39" y="186"/>
                              </a:lnTo>
                              <a:lnTo>
                                <a:pt x="35" y="146"/>
                              </a:lnTo>
                              <a:lnTo>
                                <a:pt x="39" y="115"/>
                              </a:lnTo>
                              <a:lnTo>
                                <a:pt x="44" y="106"/>
                              </a:lnTo>
                              <a:lnTo>
                                <a:pt x="62" y="88"/>
                              </a:lnTo>
                              <a:lnTo>
                                <a:pt x="80" y="61"/>
                              </a:lnTo>
                              <a:lnTo>
                                <a:pt x="98" y="35"/>
                              </a:lnTo>
                              <a:lnTo>
                                <a:pt x="98" y="0"/>
                              </a:lnTo>
                              <a:close/>
                            </a:path>
                          </a:pathLst>
                        </a:custGeom>
                        <a:solidFill>
                          <a:srgbClr val="ff8f6a"/>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988" name=""/>
                      <p:cNvGrpSpPr/>
                      <p:nvPr/>
                    </p:nvGrpSpPr>
                    <p:grpSpPr>
                      <a:xfrm>
                        <a:off x="1531800" y="1865160"/>
                        <a:ext cx="37080" cy="59400"/>
                        <a:chOff x="1531800" y="1865160"/>
                        <a:chExt cx="37080" cy="59400"/>
                      </a:xfrm>
                    </p:grpSpPr>
                    <p:sp>
                      <p:nvSpPr>
                        <p:cNvPr id="989" name=""/>
                        <p:cNvSpPr/>
                        <p:nvPr/>
                      </p:nvSpPr>
                      <p:spPr>
                        <a:xfrm>
                          <a:off x="1531800" y="1865160"/>
                          <a:ext cx="30240" cy="25560"/>
                        </a:xfrm>
                        <a:prstGeom prst="ellipse">
                          <a:avLst/>
                        </a:prstGeom>
                        <a:solidFill>
                          <a:srgbClr val="ff7f3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90" name=""/>
                        <p:cNvSpPr/>
                        <p:nvPr/>
                      </p:nvSpPr>
                      <p:spPr>
                        <a:xfrm>
                          <a:off x="1538280" y="1879560"/>
                          <a:ext cx="25920" cy="27360"/>
                        </a:xfrm>
                        <a:custGeom>
                          <a:avLst/>
                          <a:gdLst/>
                          <a:ahLst/>
                          <a:rect l="0" t="0" r="r" b="b"/>
                          <a:pathLst>
                            <a:path w="72" h="76">
                              <a:moveTo>
                                <a:pt x="72" y="0"/>
                              </a:moveTo>
                              <a:lnTo>
                                <a:pt x="49" y="23"/>
                              </a:lnTo>
                              <a:lnTo>
                                <a:pt x="40" y="49"/>
                              </a:lnTo>
                              <a:lnTo>
                                <a:pt x="31" y="76"/>
                              </a:lnTo>
                              <a:lnTo>
                                <a:pt x="17" y="45"/>
                              </a:lnTo>
                              <a:lnTo>
                                <a:pt x="0" y="17"/>
                              </a:lnTo>
                              <a:lnTo>
                                <a:pt x="36" y="17"/>
                              </a:lnTo>
                              <a:lnTo>
                                <a:pt x="72" y="0"/>
                              </a:lnTo>
                              <a:close/>
                            </a:path>
                          </a:pathLst>
                        </a:custGeom>
                        <a:solidFill>
                          <a:srgbClr val="ff7f3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91" name=""/>
                        <p:cNvSpPr/>
                        <p:nvPr/>
                      </p:nvSpPr>
                      <p:spPr>
                        <a:xfrm>
                          <a:off x="1542960" y="1889280"/>
                          <a:ext cx="25920" cy="35280"/>
                        </a:xfrm>
                        <a:custGeom>
                          <a:avLst/>
                          <a:gdLst/>
                          <a:ahLst/>
                          <a:rect l="0" t="0" r="r" b="b"/>
                          <a:pathLst>
                            <a:path w="72" h="98">
                              <a:moveTo>
                                <a:pt x="63" y="0"/>
                              </a:moveTo>
                              <a:lnTo>
                                <a:pt x="45" y="39"/>
                              </a:lnTo>
                              <a:lnTo>
                                <a:pt x="8" y="53"/>
                              </a:lnTo>
                              <a:lnTo>
                                <a:pt x="0" y="71"/>
                              </a:lnTo>
                              <a:lnTo>
                                <a:pt x="8" y="98"/>
                              </a:lnTo>
                              <a:lnTo>
                                <a:pt x="45" y="75"/>
                              </a:lnTo>
                              <a:lnTo>
                                <a:pt x="59" y="58"/>
                              </a:lnTo>
                              <a:lnTo>
                                <a:pt x="72" y="30"/>
                              </a:lnTo>
                              <a:lnTo>
                                <a:pt x="63" y="0"/>
                              </a:lnTo>
                              <a:close/>
                            </a:path>
                          </a:pathLst>
                        </a:custGeom>
                        <a:solidFill>
                          <a:srgbClr val="ff7f3f"/>
                        </a:solidFill>
                        <a:ln w="0">
                          <a:noFill/>
                        </a:ln>
                      </p:spPr>
                      <p:txBody>
                        <a:bodyPr lIns="90000" rIns="90000" tIns="-9720" bIns="-9720" anchor="t">
                          <a:noAutofit/>
                        </a:bodyPr>
                        <a:p>
                          <a:endParaRPr b="0" lang="en-US" sz="1800" spc="-1" strike="noStrike">
                            <a:solidFill>
                              <a:srgbClr val="000000"/>
                            </a:solidFill>
                            <a:latin typeface="Arial"/>
                          </a:endParaRPr>
                        </a:p>
                      </p:txBody>
                    </p:sp>
                  </p:grpSp>
                </p:grpSp>
              </p:grpSp>
              <p:sp>
                <p:nvSpPr>
                  <p:cNvPr id="992" name=""/>
                  <p:cNvSpPr/>
                  <p:nvPr/>
                </p:nvSpPr>
                <p:spPr>
                  <a:xfrm>
                    <a:off x="1413000" y="1736640"/>
                    <a:ext cx="84600" cy="25920"/>
                  </a:xfrm>
                  <a:custGeom>
                    <a:avLst/>
                    <a:gdLst/>
                    <a:ahLst/>
                    <a:rect l="0" t="0" r="r" b="b"/>
                    <a:pathLst>
                      <a:path w="235" h="72">
                        <a:moveTo>
                          <a:pt x="222" y="31"/>
                        </a:moveTo>
                        <a:lnTo>
                          <a:pt x="235" y="49"/>
                        </a:lnTo>
                        <a:lnTo>
                          <a:pt x="200" y="31"/>
                        </a:lnTo>
                        <a:lnTo>
                          <a:pt x="133" y="17"/>
                        </a:lnTo>
                        <a:lnTo>
                          <a:pt x="84" y="31"/>
                        </a:lnTo>
                        <a:lnTo>
                          <a:pt x="44" y="49"/>
                        </a:lnTo>
                        <a:lnTo>
                          <a:pt x="0" y="72"/>
                        </a:lnTo>
                        <a:lnTo>
                          <a:pt x="44" y="40"/>
                        </a:lnTo>
                        <a:lnTo>
                          <a:pt x="80" y="17"/>
                        </a:lnTo>
                        <a:lnTo>
                          <a:pt x="124" y="8"/>
                        </a:lnTo>
                        <a:lnTo>
                          <a:pt x="150" y="0"/>
                        </a:lnTo>
                        <a:lnTo>
                          <a:pt x="200" y="13"/>
                        </a:lnTo>
                        <a:lnTo>
                          <a:pt x="222" y="31"/>
                        </a:lnTo>
                        <a:close/>
                      </a:path>
                    </a:pathLst>
                  </a:custGeom>
                  <a:solidFill>
                    <a:srgbClr val="ff9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993" name=""/>
                <p:cNvGrpSpPr/>
                <p:nvPr/>
              </p:nvGrpSpPr>
              <p:grpSpPr>
                <a:xfrm>
                  <a:off x="1414440" y="1752480"/>
                  <a:ext cx="158760" cy="222840"/>
                  <a:chOff x="1414440" y="1752480"/>
                  <a:chExt cx="158760" cy="222840"/>
                </a:xfrm>
              </p:grpSpPr>
              <p:grpSp>
                <p:nvGrpSpPr>
                  <p:cNvPr id="994" name=""/>
                  <p:cNvGrpSpPr/>
                  <p:nvPr/>
                </p:nvGrpSpPr>
                <p:grpSpPr>
                  <a:xfrm>
                    <a:off x="1455840" y="1917720"/>
                    <a:ext cx="98640" cy="57600"/>
                    <a:chOff x="1455840" y="1917720"/>
                    <a:chExt cx="98640" cy="57600"/>
                  </a:xfrm>
                </p:grpSpPr>
                <p:sp>
                  <p:nvSpPr>
                    <p:cNvPr id="995" name=""/>
                    <p:cNvSpPr/>
                    <p:nvPr/>
                  </p:nvSpPr>
                  <p:spPr>
                    <a:xfrm>
                      <a:off x="1455840" y="1917720"/>
                      <a:ext cx="98640" cy="57600"/>
                    </a:xfrm>
                    <a:custGeom>
                      <a:avLst/>
                      <a:gdLst/>
                      <a:ahLst/>
                      <a:rect l="0" t="0" r="r" b="b"/>
                      <a:pathLst>
                        <a:path w="274" h="160">
                          <a:moveTo>
                            <a:pt x="274" y="13"/>
                          </a:moveTo>
                          <a:lnTo>
                            <a:pt x="256" y="0"/>
                          </a:lnTo>
                          <a:lnTo>
                            <a:pt x="225" y="0"/>
                          </a:lnTo>
                          <a:lnTo>
                            <a:pt x="181" y="13"/>
                          </a:lnTo>
                          <a:lnTo>
                            <a:pt x="132" y="22"/>
                          </a:lnTo>
                          <a:lnTo>
                            <a:pt x="0" y="39"/>
                          </a:lnTo>
                          <a:lnTo>
                            <a:pt x="79" y="75"/>
                          </a:lnTo>
                          <a:lnTo>
                            <a:pt x="123" y="111"/>
                          </a:lnTo>
                          <a:lnTo>
                            <a:pt x="177" y="138"/>
                          </a:lnTo>
                          <a:lnTo>
                            <a:pt x="212" y="160"/>
                          </a:lnTo>
                          <a:lnTo>
                            <a:pt x="239" y="160"/>
                          </a:lnTo>
                          <a:lnTo>
                            <a:pt x="256" y="147"/>
                          </a:lnTo>
                          <a:lnTo>
                            <a:pt x="261" y="115"/>
                          </a:lnTo>
                          <a:lnTo>
                            <a:pt x="252" y="93"/>
                          </a:lnTo>
                          <a:lnTo>
                            <a:pt x="239" y="71"/>
                          </a:lnTo>
                          <a:lnTo>
                            <a:pt x="256" y="62"/>
                          </a:lnTo>
                          <a:lnTo>
                            <a:pt x="269" y="39"/>
                          </a:lnTo>
                          <a:lnTo>
                            <a:pt x="274" y="13"/>
                          </a:lnTo>
                          <a:close/>
                        </a:path>
                      </a:pathLst>
                    </a:custGeom>
                    <a:solidFill>
                      <a:srgbClr val="ff00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996" name=""/>
                    <p:cNvSpPr/>
                    <p:nvPr/>
                  </p:nvSpPr>
                  <p:spPr>
                    <a:xfrm>
                      <a:off x="1459080" y="1933560"/>
                      <a:ext cx="89280" cy="25920"/>
                    </a:xfrm>
                    <a:custGeom>
                      <a:avLst/>
                      <a:gdLst/>
                      <a:ahLst/>
                      <a:rect l="0" t="0" r="r" b="b"/>
                      <a:pathLst>
                        <a:path w="248" h="72">
                          <a:moveTo>
                            <a:pt x="244" y="72"/>
                          </a:moveTo>
                          <a:lnTo>
                            <a:pt x="222" y="49"/>
                          </a:lnTo>
                          <a:lnTo>
                            <a:pt x="181" y="36"/>
                          </a:lnTo>
                          <a:lnTo>
                            <a:pt x="133" y="31"/>
                          </a:lnTo>
                          <a:lnTo>
                            <a:pt x="102" y="36"/>
                          </a:lnTo>
                          <a:lnTo>
                            <a:pt x="44" y="31"/>
                          </a:lnTo>
                          <a:lnTo>
                            <a:pt x="0" y="0"/>
                          </a:lnTo>
                          <a:lnTo>
                            <a:pt x="22" y="13"/>
                          </a:lnTo>
                          <a:lnTo>
                            <a:pt x="80" y="13"/>
                          </a:lnTo>
                          <a:lnTo>
                            <a:pt x="115" y="27"/>
                          </a:lnTo>
                          <a:lnTo>
                            <a:pt x="150" y="13"/>
                          </a:lnTo>
                          <a:lnTo>
                            <a:pt x="218" y="31"/>
                          </a:lnTo>
                          <a:lnTo>
                            <a:pt x="248" y="31"/>
                          </a:lnTo>
                          <a:lnTo>
                            <a:pt x="231" y="45"/>
                          </a:lnTo>
                          <a:lnTo>
                            <a:pt x="244" y="72"/>
                          </a:lnTo>
                          <a:close/>
                        </a:path>
                      </a:pathLst>
                    </a:custGeom>
                    <a:solidFill>
                      <a:srgbClr val="8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97" name=""/>
                    <p:cNvSpPr/>
                    <p:nvPr/>
                  </p:nvSpPr>
                  <p:spPr>
                    <a:xfrm>
                      <a:off x="1503360" y="1940040"/>
                      <a:ext cx="38520" cy="25920"/>
                    </a:xfrm>
                    <a:custGeom>
                      <a:avLst/>
                      <a:gdLst/>
                      <a:ahLst/>
                      <a:rect l="0" t="0" r="r" b="b"/>
                      <a:pathLst>
                        <a:path w="107" h="72">
                          <a:moveTo>
                            <a:pt x="94" y="17"/>
                          </a:moveTo>
                          <a:lnTo>
                            <a:pt x="107" y="40"/>
                          </a:lnTo>
                          <a:lnTo>
                            <a:pt x="103" y="68"/>
                          </a:lnTo>
                          <a:lnTo>
                            <a:pt x="90" y="72"/>
                          </a:lnTo>
                          <a:lnTo>
                            <a:pt x="67" y="59"/>
                          </a:lnTo>
                          <a:lnTo>
                            <a:pt x="40" y="17"/>
                          </a:lnTo>
                          <a:lnTo>
                            <a:pt x="0" y="0"/>
                          </a:lnTo>
                          <a:lnTo>
                            <a:pt x="26" y="0"/>
                          </a:lnTo>
                          <a:lnTo>
                            <a:pt x="67" y="4"/>
                          </a:lnTo>
                          <a:lnTo>
                            <a:pt x="94" y="17"/>
                          </a:lnTo>
                          <a:close/>
                        </a:path>
                      </a:pathLst>
                    </a:custGeom>
                    <a:solidFill>
                      <a:srgbClr val="ff1f3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998" name=""/>
                  <p:cNvGrpSpPr/>
                  <p:nvPr/>
                </p:nvGrpSpPr>
                <p:grpSpPr>
                  <a:xfrm>
                    <a:off x="1414440" y="1752480"/>
                    <a:ext cx="158760" cy="45000"/>
                    <a:chOff x="1414440" y="1752480"/>
                    <a:chExt cx="158760" cy="45000"/>
                  </a:xfrm>
                </p:grpSpPr>
                <p:grpSp>
                  <p:nvGrpSpPr>
                    <p:cNvPr id="999" name=""/>
                    <p:cNvGrpSpPr/>
                    <p:nvPr/>
                  </p:nvGrpSpPr>
                  <p:grpSpPr>
                    <a:xfrm>
                      <a:off x="1414440" y="1752480"/>
                      <a:ext cx="87840" cy="45000"/>
                      <a:chOff x="1414440" y="1752480"/>
                      <a:chExt cx="87840" cy="45000"/>
                    </a:xfrm>
                  </p:grpSpPr>
                  <p:sp>
                    <p:nvSpPr>
                      <p:cNvPr id="1000" name=""/>
                      <p:cNvSpPr/>
                      <p:nvPr/>
                    </p:nvSpPr>
                    <p:spPr>
                      <a:xfrm>
                        <a:off x="1422360" y="1760400"/>
                        <a:ext cx="65520" cy="25920"/>
                      </a:xfrm>
                      <a:custGeom>
                        <a:avLst/>
                        <a:gdLst/>
                        <a:ahLst/>
                        <a:rect l="0" t="0" r="r" b="b"/>
                        <a:pathLst>
                          <a:path w="182" h="72">
                            <a:moveTo>
                              <a:pt x="143" y="0"/>
                            </a:moveTo>
                            <a:lnTo>
                              <a:pt x="102" y="0"/>
                            </a:lnTo>
                            <a:lnTo>
                              <a:pt x="49" y="8"/>
                            </a:lnTo>
                            <a:lnTo>
                              <a:pt x="0" y="27"/>
                            </a:lnTo>
                            <a:lnTo>
                              <a:pt x="26" y="27"/>
                            </a:lnTo>
                            <a:lnTo>
                              <a:pt x="53" y="45"/>
                            </a:lnTo>
                            <a:lnTo>
                              <a:pt x="93" y="59"/>
                            </a:lnTo>
                            <a:lnTo>
                              <a:pt x="173" y="72"/>
                            </a:lnTo>
                            <a:lnTo>
                              <a:pt x="182" y="45"/>
                            </a:lnTo>
                            <a:lnTo>
                              <a:pt x="182" y="17"/>
                            </a:lnTo>
                            <a:lnTo>
                              <a:pt x="143" y="0"/>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01" name=""/>
                      <p:cNvSpPr/>
                      <p:nvPr/>
                    </p:nvSpPr>
                    <p:spPr>
                      <a:xfrm>
                        <a:off x="1455840" y="1765440"/>
                        <a:ext cx="2844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002" name=""/>
                      <p:cNvGrpSpPr/>
                      <p:nvPr/>
                    </p:nvGrpSpPr>
                    <p:grpSpPr>
                      <a:xfrm>
                        <a:off x="1442880" y="1757520"/>
                        <a:ext cx="44280" cy="28440"/>
                        <a:chOff x="1442880" y="1757520"/>
                        <a:chExt cx="44280" cy="28440"/>
                      </a:xfrm>
                    </p:grpSpPr>
                    <p:sp>
                      <p:nvSpPr>
                        <p:cNvPr id="1003" name=""/>
                        <p:cNvSpPr/>
                        <p:nvPr/>
                      </p:nvSpPr>
                      <p:spPr>
                        <a:xfrm>
                          <a:off x="1442880" y="1757520"/>
                          <a:ext cx="44280" cy="27000"/>
                        </a:xfrm>
                        <a:prstGeom prst="ellipse">
                          <a:avLst/>
                        </a:prstGeom>
                        <a:solidFill>
                          <a:srgbClr val="001f9f"/>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1004" name=""/>
                        <p:cNvSpPr/>
                        <p:nvPr/>
                      </p:nvSpPr>
                      <p:spPr>
                        <a:xfrm>
                          <a:off x="1457280" y="1760400"/>
                          <a:ext cx="2700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005" name=""/>
                      <p:cNvSpPr/>
                      <p:nvPr/>
                    </p:nvSpPr>
                    <p:spPr>
                      <a:xfrm>
                        <a:off x="1465200" y="176220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006" name=""/>
                      <p:cNvGrpSpPr/>
                      <p:nvPr/>
                    </p:nvGrpSpPr>
                    <p:grpSpPr>
                      <a:xfrm>
                        <a:off x="1414440" y="1752480"/>
                        <a:ext cx="87840" cy="45000"/>
                        <a:chOff x="1414440" y="1752480"/>
                        <a:chExt cx="87840" cy="45000"/>
                      </a:xfrm>
                    </p:grpSpPr>
                    <p:sp>
                      <p:nvSpPr>
                        <p:cNvPr id="1007" name=""/>
                        <p:cNvSpPr/>
                        <p:nvPr/>
                      </p:nvSpPr>
                      <p:spPr>
                        <a:xfrm>
                          <a:off x="1414440" y="1752480"/>
                          <a:ext cx="87840" cy="25920"/>
                        </a:xfrm>
                        <a:custGeom>
                          <a:avLst/>
                          <a:gdLst/>
                          <a:ahLst/>
                          <a:rect l="0" t="0" r="r" b="b"/>
                          <a:pathLst>
                            <a:path w="244" h="72">
                              <a:moveTo>
                                <a:pt x="244" y="27"/>
                              </a:moveTo>
                              <a:lnTo>
                                <a:pt x="213" y="49"/>
                              </a:lnTo>
                              <a:lnTo>
                                <a:pt x="196" y="45"/>
                              </a:lnTo>
                              <a:lnTo>
                                <a:pt x="155" y="31"/>
                              </a:lnTo>
                              <a:lnTo>
                                <a:pt x="133" y="23"/>
                              </a:lnTo>
                              <a:lnTo>
                                <a:pt x="120" y="31"/>
                              </a:lnTo>
                              <a:lnTo>
                                <a:pt x="89" y="31"/>
                              </a:lnTo>
                              <a:lnTo>
                                <a:pt x="67" y="45"/>
                              </a:lnTo>
                              <a:lnTo>
                                <a:pt x="48" y="49"/>
                              </a:lnTo>
                              <a:lnTo>
                                <a:pt x="22" y="63"/>
                              </a:lnTo>
                              <a:lnTo>
                                <a:pt x="0" y="72"/>
                              </a:lnTo>
                              <a:lnTo>
                                <a:pt x="22" y="49"/>
                              </a:lnTo>
                              <a:lnTo>
                                <a:pt x="52" y="40"/>
                              </a:lnTo>
                              <a:lnTo>
                                <a:pt x="80" y="23"/>
                              </a:lnTo>
                              <a:lnTo>
                                <a:pt x="106" y="13"/>
                              </a:lnTo>
                              <a:lnTo>
                                <a:pt x="142" y="0"/>
                              </a:lnTo>
                              <a:lnTo>
                                <a:pt x="164" y="13"/>
                              </a:lnTo>
                              <a:lnTo>
                                <a:pt x="213" y="31"/>
                              </a:lnTo>
                              <a:lnTo>
                                <a:pt x="244" y="27"/>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08" name=""/>
                        <p:cNvSpPr/>
                        <p:nvPr/>
                      </p:nvSpPr>
                      <p:spPr>
                        <a:xfrm>
                          <a:off x="1428840" y="1771560"/>
                          <a:ext cx="62280" cy="25920"/>
                        </a:xfrm>
                        <a:custGeom>
                          <a:avLst/>
                          <a:gdLst/>
                          <a:ahLst/>
                          <a:rect l="0" t="0" r="r" b="b"/>
                          <a:pathLst>
                            <a:path w="173" h="72">
                              <a:moveTo>
                                <a:pt x="165" y="23"/>
                              </a:moveTo>
                              <a:lnTo>
                                <a:pt x="128" y="31"/>
                              </a:lnTo>
                              <a:lnTo>
                                <a:pt x="111" y="40"/>
                              </a:lnTo>
                              <a:lnTo>
                                <a:pt x="75" y="27"/>
                              </a:lnTo>
                              <a:lnTo>
                                <a:pt x="53" y="23"/>
                              </a:lnTo>
                              <a:lnTo>
                                <a:pt x="30" y="4"/>
                              </a:lnTo>
                              <a:lnTo>
                                <a:pt x="8" y="0"/>
                              </a:lnTo>
                              <a:lnTo>
                                <a:pt x="0" y="0"/>
                              </a:lnTo>
                              <a:lnTo>
                                <a:pt x="30" y="23"/>
                              </a:lnTo>
                              <a:lnTo>
                                <a:pt x="49" y="27"/>
                              </a:lnTo>
                              <a:lnTo>
                                <a:pt x="67" y="40"/>
                              </a:lnTo>
                              <a:lnTo>
                                <a:pt x="89" y="53"/>
                              </a:lnTo>
                              <a:lnTo>
                                <a:pt x="106" y="53"/>
                              </a:lnTo>
                              <a:lnTo>
                                <a:pt x="124" y="59"/>
                              </a:lnTo>
                              <a:lnTo>
                                <a:pt x="173" y="72"/>
                              </a:lnTo>
                              <a:lnTo>
                                <a:pt x="156" y="49"/>
                              </a:lnTo>
                              <a:lnTo>
                                <a:pt x="165" y="2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nvGrpSpPr>
                    <p:cNvPr id="1009" name=""/>
                    <p:cNvGrpSpPr/>
                    <p:nvPr/>
                  </p:nvGrpSpPr>
                  <p:grpSpPr>
                    <a:xfrm>
                      <a:off x="1530360" y="1766880"/>
                      <a:ext cx="42840" cy="30240"/>
                      <a:chOff x="1530360" y="1766880"/>
                      <a:chExt cx="42840" cy="30240"/>
                    </a:xfrm>
                  </p:grpSpPr>
                  <p:sp>
                    <p:nvSpPr>
                      <p:cNvPr id="1010" name=""/>
                      <p:cNvSpPr/>
                      <p:nvPr/>
                    </p:nvSpPr>
                    <p:spPr>
                      <a:xfrm>
                        <a:off x="1546200" y="1768320"/>
                        <a:ext cx="2556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011" name=""/>
                      <p:cNvGrpSpPr/>
                      <p:nvPr/>
                    </p:nvGrpSpPr>
                    <p:grpSpPr>
                      <a:xfrm>
                        <a:off x="1536840" y="1768320"/>
                        <a:ext cx="34920" cy="28800"/>
                        <a:chOff x="1536840" y="1768320"/>
                        <a:chExt cx="34920" cy="28800"/>
                      </a:xfrm>
                    </p:grpSpPr>
                    <p:sp>
                      <p:nvSpPr>
                        <p:cNvPr id="1012" name=""/>
                        <p:cNvSpPr/>
                        <p:nvPr/>
                      </p:nvSpPr>
                      <p:spPr>
                        <a:xfrm>
                          <a:off x="1536840" y="1768320"/>
                          <a:ext cx="25920" cy="25920"/>
                        </a:xfrm>
                        <a:custGeom>
                          <a:avLst/>
                          <a:gdLst/>
                          <a:ahLst/>
                          <a:rect l="0" t="0" r="r" b="b"/>
                          <a:pathLst>
                            <a:path w="72" h="72">
                              <a:moveTo>
                                <a:pt x="68" y="8"/>
                              </a:moveTo>
                              <a:lnTo>
                                <a:pt x="72" y="4"/>
                              </a:lnTo>
                              <a:lnTo>
                                <a:pt x="40" y="0"/>
                              </a:lnTo>
                              <a:lnTo>
                                <a:pt x="17" y="4"/>
                              </a:lnTo>
                              <a:lnTo>
                                <a:pt x="0" y="27"/>
                              </a:lnTo>
                              <a:lnTo>
                                <a:pt x="17" y="53"/>
                              </a:lnTo>
                              <a:lnTo>
                                <a:pt x="40" y="72"/>
                              </a:lnTo>
                              <a:lnTo>
                                <a:pt x="49" y="53"/>
                              </a:lnTo>
                              <a:lnTo>
                                <a:pt x="68" y="31"/>
                              </a:lnTo>
                              <a:lnTo>
                                <a:pt x="68" y="8"/>
                              </a:lnTo>
                              <a:close/>
                            </a:path>
                          </a:pathLst>
                        </a:custGeom>
                        <a:solidFill>
                          <a:srgbClr val="001f9f"/>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13" name=""/>
                        <p:cNvSpPr/>
                        <p:nvPr/>
                      </p:nvSpPr>
                      <p:spPr>
                        <a:xfrm>
                          <a:off x="1546200" y="17715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014" name=""/>
                      <p:cNvSpPr/>
                      <p:nvPr/>
                    </p:nvSpPr>
                    <p:spPr>
                      <a:xfrm>
                        <a:off x="1547640" y="17715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015" name=""/>
                      <p:cNvGrpSpPr/>
                      <p:nvPr/>
                    </p:nvGrpSpPr>
                    <p:grpSpPr>
                      <a:xfrm>
                        <a:off x="1530360" y="1766880"/>
                        <a:ext cx="41760" cy="28800"/>
                        <a:chOff x="1530360" y="1766880"/>
                        <a:chExt cx="41760" cy="28800"/>
                      </a:xfrm>
                    </p:grpSpPr>
                    <p:sp>
                      <p:nvSpPr>
                        <p:cNvPr id="1016" name=""/>
                        <p:cNvSpPr/>
                        <p:nvPr/>
                      </p:nvSpPr>
                      <p:spPr>
                        <a:xfrm>
                          <a:off x="1530360" y="1768320"/>
                          <a:ext cx="25920" cy="27360"/>
                        </a:xfrm>
                        <a:custGeom>
                          <a:avLst/>
                          <a:gdLst/>
                          <a:ahLst/>
                          <a:rect l="0" t="0" r="r" b="b"/>
                          <a:pathLst>
                            <a:path w="72" h="76">
                              <a:moveTo>
                                <a:pt x="72" y="76"/>
                              </a:moveTo>
                              <a:lnTo>
                                <a:pt x="59" y="63"/>
                              </a:lnTo>
                              <a:lnTo>
                                <a:pt x="27" y="49"/>
                              </a:lnTo>
                              <a:lnTo>
                                <a:pt x="8" y="27"/>
                              </a:lnTo>
                              <a:lnTo>
                                <a:pt x="0" y="0"/>
                              </a:lnTo>
                              <a:lnTo>
                                <a:pt x="0" y="27"/>
                              </a:lnTo>
                              <a:lnTo>
                                <a:pt x="23" y="49"/>
                              </a:lnTo>
                              <a:lnTo>
                                <a:pt x="72" y="76"/>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017" name=""/>
                        <p:cNvSpPr/>
                        <p:nvPr/>
                      </p:nvSpPr>
                      <p:spPr>
                        <a:xfrm>
                          <a:off x="1536840" y="1766880"/>
                          <a:ext cx="35280" cy="25920"/>
                        </a:xfrm>
                        <a:custGeom>
                          <a:avLst/>
                          <a:gdLst/>
                          <a:ahLst/>
                          <a:rect l="0" t="0" r="r" b="b"/>
                          <a:pathLst>
                            <a:path w="98" h="72">
                              <a:moveTo>
                                <a:pt x="0" y="13"/>
                              </a:moveTo>
                              <a:lnTo>
                                <a:pt x="26" y="0"/>
                              </a:lnTo>
                              <a:lnTo>
                                <a:pt x="53" y="0"/>
                              </a:lnTo>
                              <a:lnTo>
                                <a:pt x="80" y="13"/>
                              </a:lnTo>
                              <a:lnTo>
                                <a:pt x="98" y="36"/>
                              </a:lnTo>
                              <a:lnTo>
                                <a:pt x="75" y="72"/>
                              </a:lnTo>
                              <a:lnTo>
                                <a:pt x="53" y="36"/>
                              </a:lnTo>
                              <a:lnTo>
                                <a:pt x="26" y="13"/>
                              </a:lnTo>
                              <a:lnTo>
                                <a:pt x="0" y="1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grpSp>
            <p:grpSp>
              <p:nvGrpSpPr>
                <p:cNvPr id="1018" name=""/>
                <p:cNvGrpSpPr/>
                <p:nvPr/>
              </p:nvGrpSpPr>
              <p:grpSpPr>
                <a:xfrm>
                  <a:off x="942840" y="1446120"/>
                  <a:ext cx="684720" cy="692640"/>
                  <a:chOff x="942840" y="1446120"/>
                  <a:chExt cx="684720" cy="692640"/>
                </a:xfrm>
              </p:grpSpPr>
              <p:sp>
                <p:nvSpPr>
                  <p:cNvPr id="1019" name=""/>
                  <p:cNvSpPr/>
                  <p:nvPr/>
                </p:nvSpPr>
                <p:spPr>
                  <a:xfrm>
                    <a:off x="1389240" y="1714680"/>
                    <a:ext cx="128880" cy="35280"/>
                  </a:xfrm>
                  <a:custGeom>
                    <a:avLst/>
                    <a:gdLst/>
                    <a:ahLst/>
                    <a:rect l="0" t="0" r="r" b="b"/>
                    <a:pathLst>
                      <a:path w="358" h="98">
                        <a:moveTo>
                          <a:pt x="358" y="98"/>
                        </a:moveTo>
                        <a:lnTo>
                          <a:pt x="349" y="53"/>
                        </a:lnTo>
                        <a:lnTo>
                          <a:pt x="340" y="30"/>
                        </a:lnTo>
                        <a:lnTo>
                          <a:pt x="318" y="13"/>
                        </a:lnTo>
                        <a:lnTo>
                          <a:pt x="274" y="4"/>
                        </a:lnTo>
                        <a:lnTo>
                          <a:pt x="199" y="0"/>
                        </a:lnTo>
                        <a:lnTo>
                          <a:pt x="127" y="8"/>
                        </a:lnTo>
                        <a:lnTo>
                          <a:pt x="74" y="35"/>
                        </a:lnTo>
                        <a:lnTo>
                          <a:pt x="44" y="53"/>
                        </a:lnTo>
                        <a:lnTo>
                          <a:pt x="0" y="71"/>
                        </a:lnTo>
                        <a:lnTo>
                          <a:pt x="30" y="71"/>
                        </a:lnTo>
                        <a:lnTo>
                          <a:pt x="52" y="80"/>
                        </a:lnTo>
                        <a:lnTo>
                          <a:pt x="92" y="62"/>
                        </a:lnTo>
                        <a:lnTo>
                          <a:pt x="136" y="53"/>
                        </a:lnTo>
                        <a:lnTo>
                          <a:pt x="203" y="44"/>
                        </a:lnTo>
                        <a:lnTo>
                          <a:pt x="287" y="53"/>
                        </a:lnTo>
                        <a:lnTo>
                          <a:pt x="318" y="71"/>
                        </a:lnTo>
                        <a:lnTo>
                          <a:pt x="336" y="98"/>
                        </a:lnTo>
                        <a:lnTo>
                          <a:pt x="358" y="98"/>
                        </a:lnTo>
                        <a:close/>
                      </a:path>
                    </a:pathLst>
                  </a:custGeom>
                  <a:solidFill>
                    <a:srgbClr val="5f3f1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020" name=""/>
                  <p:cNvSpPr/>
                  <p:nvPr/>
                </p:nvSpPr>
                <p:spPr>
                  <a:xfrm>
                    <a:off x="1539720" y="1733400"/>
                    <a:ext cx="39960" cy="27360"/>
                  </a:xfrm>
                  <a:custGeom>
                    <a:avLst/>
                    <a:gdLst/>
                    <a:ahLst/>
                    <a:rect l="0" t="0" r="r" b="b"/>
                    <a:pathLst>
                      <a:path w="111" h="76">
                        <a:moveTo>
                          <a:pt x="111" y="0"/>
                        </a:moveTo>
                        <a:lnTo>
                          <a:pt x="80" y="0"/>
                        </a:lnTo>
                        <a:lnTo>
                          <a:pt x="48" y="17"/>
                        </a:lnTo>
                        <a:lnTo>
                          <a:pt x="26" y="31"/>
                        </a:lnTo>
                        <a:lnTo>
                          <a:pt x="0" y="76"/>
                        </a:lnTo>
                        <a:lnTo>
                          <a:pt x="44" y="49"/>
                        </a:lnTo>
                        <a:lnTo>
                          <a:pt x="75" y="45"/>
                        </a:lnTo>
                        <a:lnTo>
                          <a:pt x="102" y="40"/>
                        </a:lnTo>
                        <a:lnTo>
                          <a:pt x="111" y="0"/>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grpSp>
                <p:nvGrpSpPr>
                  <p:cNvPr id="1021" name=""/>
                  <p:cNvGrpSpPr/>
                  <p:nvPr/>
                </p:nvGrpSpPr>
                <p:grpSpPr>
                  <a:xfrm>
                    <a:off x="942840" y="1446120"/>
                    <a:ext cx="684720" cy="692640"/>
                    <a:chOff x="942840" y="1446120"/>
                    <a:chExt cx="684720" cy="692640"/>
                  </a:xfrm>
                </p:grpSpPr>
                <p:sp>
                  <p:nvSpPr>
                    <p:cNvPr id="1022" name=""/>
                    <p:cNvSpPr/>
                    <p:nvPr/>
                  </p:nvSpPr>
                  <p:spPr>
                    <a:xfrm>
                      <a:off x="942840" y="1446120"/>
                      <a:ext cx="684720" cy="692640"/>
                    </a:xfrm>
                    <a:custGeom>
                      <a:avLst/>
                      <a:gdLst/>
                      <a:ahLst/>
                      <a:rect l="0" t="0" r="r" b="b"/>
                      <a:pathLst>
                        <a:path w="1902" h="1924">
                          <a:moveTo>
                            <a:pt x="1779" y="583"/>
                          </a:moveTo>
                          <a:lnTo>
                            <a:pt x="1796" y="653"/>
                          </a:lnTo>
                          <a:lnTo>
                            <a:pt x="1801" y="702"/>
                          </a:lnTo>
                          <a:lnTo>
                            <a:pt x="1796" y="746"/>
                          </a:lnTo>
                          <a:lnTo>
                            <a:pt x="1787" y="781"/>
                          </a:lnTo>
                          <a:lnTo>
                            <a:pt x="1832" y="750"/>
                          </a:lnTo>
                          <a:lnTo>
                            <a:pt x="1871" y="702"/>
                          </a:lnTo>
                          <a:lnTo>
                            <a:pt x="1893" y="662"/>
                          </a:lnTo>
                          <a:lnTo>
                            <a:pt x="1902" y="583"/>
                          </a:lnTo>
                          <a:lnTo>
                            <a:pt x="1880" y="494"/>
                          </a:lnTo>
                          <a:lnTo>
                            <a:pt x="1845" y="427"/>
                          </a:lnTo>
                          <a:lnTo>
                            <a:pt x="1796" y="357"/>
                          </a:lnTo>
                          <a:lnTo>
                            <a:pt x="1735" y="286"/>
                          </a:lnTo>
                          <a:lnTo>
                            <a:pt x="1664" y="224"/>
                          </a:lnTo>
                          <a:lnTo>
                            <a:pt x="1598" y="180"/>
                          </a:lnTo>
                          <a:lnTo>
                            <a:pt x="1532" y="145"/>
                          </a:lnTo>
                          <a:lnTo>
                            <a:pt x="1430" y="101"/>
                          </a:lnTo>
                          <a:lnTo>
                            <a:pt x="1359" y="74"/>
                          </a:lnTo>
                          <a:lnTo>
                            <a:pt x="1332" y="35"/>
                          </a:lnTo>
                          <a:lnTo>
                            <a:pt x="1306" y="22"/>
                          </a:lnTo>
                          <a:lnTo>
                            <a:pt x="1262" y="4"/>
                          </a:lnTo>
                          <a:lnTo>
                            <a:pt x="1213" y="4"/>
                          </a:lnTo>
                          <a:lnTo>
                            <a:pt x="1134" y="22"/>
                          </a:lnTo>
                          <a:lnTo>
                            <a:pt x="1068" y="4"/>
                          </a:lnTo>
                          <a:lnTo>
                            <a:pt x="1024" y="0"/>
                          </a:lnTo>
                          <a:lnTo>
                            <a:pt x="984" y="4"/>
                          </a:lnTo>
                          <a:lnTo>
                            <a:pt x="927" y="8"/>
                          </a:lnTo>
                          <a:lnTo>
                            <a:pt x="882" y="44"/>
                          </a:lnTo>
                          <a:lnTo>
                            <a:pt x="825" y="26"/>
                          </a:lnTo>
                          <a:lnTo>
                            <a:pt x="768" y="22"/>
                          </a:lnTo>
                          <a:lnTo>
                            <a:pt x="710" y="44"/>
                          </a:lnTo>
                          <a:lnTo>
                            <a:pt x="622" y="83"/>
                          </a:lnTo>
                          <a:lnTo>
                            <a:pt x="565" y="141"/>
                          </a:lnTo>
                          <a:lnTo>
                            <a:pt x="503" y="211"/>
                          </a:lnTo>
                          <a:lnTo>
                            <a:pt x="449" y="273"/>
                          </a:lnTo>
                          <a:lnTo>
                            <a:pt x="396" y="326"/>
                          </a:lnTo>
                          <a:lnTo>
                            <a:pt x="357" y="396"/>
                          </a:lnTo>
                          <a:lnTo>
                            <a:pt x="326" y="480"/>
                          </a:lnTo>
                          <a:lnTo>
                            <a:pt x="277" y="587"/>
                          </a:lnTo>
                          <a:lnTo>
                            <a:pt x="229" y="733"/>
                          </a:lnTo>
                          <a:lnTo>
                            <a:pt x="180" y="887"/>
                          </a:lnTo>
                          <a:lnTo>
                            <a:pt x="145" y="1059"/>
                          </a:lnTo>
                          <a:lnTo>
                            <a:pt x="114" y="1165"/>
                          </a:lnTo>
                          <a:lnTo>
                            <a:pt x="97" y="1288"/>
                          </a:lnTo>
                          <a:lnTo>
                            <a:pt x="61" y="1425"/>
                          </a:lnTo>
                          <a:lnTo>
                            <a:pt x="26" y="1554"/>
                          </a:lnTo>
                          <a:lnTo>
                            <a:pt x="8" y="1624"/>
                          </a:lnTo>
                          <a:lnTo>
                            <a:pt x="0" y="1704"/>
                          </a:lnTo>
                          <a:lnTo>
                            <a:pt x="8" y="1770"/>
                          </a:lnTo>
                          <a:lnTo>
                            <a:pt x="26" y="1818"/>
                          </a:lnTo>
                          <a:lnTo>
                            <a:pt x="35" y="1809"/>
                          </a:lnTo>
                          <a:lnTo>
                            <a:pt x="61" y="1858"/>
                          </a:lnTo>
                          <a:lnTo>
                            <a:pt x="88" y="1889"/>
                          </a:lnTo>
                          <a:lnTo>
                            <a:pt x="127" y="1902"/>
                          </a:lnTo>
                          <a:lnTo>
                            <a:pt x="145" y="1889"/>
                          </a:lnTo>
                          <a:lnTo>
                            <a:pt x="154" y="1911"/>
                          </a:lnTo>
                          <a:lnTo>
                            <a:pt x="171" y="1924"/>
                          </a:lnTo>
                          <a:lnTo>
                            <a:pt x="207" y="1911"/>
                          </a:lnTo>
                          <a:lnTo>
                            <a:pt x="242" y="1889"/>
                          </a:lnTo>
                          <a:lnTo>
                            <a:pt x="277" y="1867"/>
                          </a:lnTo>
                          <a:lnTo>
                            <a:pt x="304" y="1858"/>
                          </a:lnTo>
                          <a:lnTo>
                            <a:pt x="366" y="1876"/>
                          </a:lnTo>
                          <a:lnTo>
                            <a:pt x="423" y="1880"/>
                          </a:lnTo>
                          <a:lnTo>
                            <a:pt x="467" y="1867"/>
                          </a:lnTo>
                          <a:lnTo>
                            <a:pt x="454" y="1854"/>
                          </a:lnTo>
                          <a:lnTo>
                            <a:pt x="516" y="1880"/>
                          </a:lnTo>
                          <a:lnTo>
                            <a:pt x="574" y="1889"/>
                          </a:lnTo>
                          <a:lnTo>
                            <a:pt x="640" y="1880"/>
                          </a:lnTo>
                          <a:lnTo>
                            <a:pt x="693" y="1854"/>
                          </a:lnTo>
                          <a:lnTo>
                            <a:pt x="746" y="1814"/>
                          </a:lnTo>
                          <a:lnTo>
                            <a:pt x="763" y="1770"/>
                          </a:lnTo>
                          <a:lnTo>
                            <a:pt x="768" y="1717"/>
                          </a:lnTo>
                          <a:lnTo>
                            <a:pt x="816" y="1735"/>
                          </a:lnTo>
                          <a:lnTo>
                            <a:pt x="777" y="1686"/>
                          </a:lnTo>
                          <a:lnTo>
                            <a:pt x="750" y="1633"/>
                          </a:lnTo>
                          <a:lnTo>
                            <a:pt x="710" y="1523"/>
                          </a:lnTo>
                          <a:lnTo>
                            <a:pt x="671" y="1416"/>
                          </a:lnTo>
                          <a:lnTo>
                            <a:pt x="644" y="1284"/>
                          </a:lnTo>
                          <a:lnTo>
                            <a:pt x="618" y="1138"/>
                          </a:lnTo>
                          <a:lnTo>
                            <a:pt x="596" y="843"/>
                          </a:lnTo>
                          <a:lnTo>
                            <a:pt x="719" y="843"/>
                          </a:lnTo>
                          <a:lnTo>
                            <a:pt x="759" y="887"/>
                          </a:lnTo>
                          <a:lnTo>
                            <a:pt x="777" y="935"/>
                          </a:lnTo>
                          <a:lnTo>
                            <a:pt x="825" y="957"/>
                          </a:lnTo>
                          <a:lnTo>
                            <a:pt x="869" y="966"/>
                          </a:lnTo>
                          <a:lnTo>
                            <a:pt x="896" y="944"/>
                          </a:lnTo>
                          <a:lnTo>
                            <a:pt x="944" y="900"/>
                          </a:lnTo>
                          <a:lnTo>
                            <a:pt x="975" y="838"/>
                          </a:lnTo>
                          <a:lnTo>
                            <a:pt x="1010" y="772"/>
                          </a:lnTo>
                          <a:lnTo>
                            <a:pt x="1059" y="702"/>
                          </a:lnTo>
                          <a:lnTo>
                            <a:pt x="1112" y="680"/>
                          </a:lnTo>
                          <a:lnTo>
                            <a:pt x="1134" y="662"/>
                          </a:lnTo>
                          <a:lnTo>
                            <a:pt x="1129" y="631"/>
                          </a:lnTo>
                          <a:lnTo>
                            <a:pt x="1121" y="600"/>
                          </a:lnTo>
                          <a:lnTo>
                            <a:pt x="1143" y="543"/>
                          </a:lnTo>
                          <a:lnTo>
                            <a:pt x="1178" y="490"/>
                          </a:lnTo>
                          <a:lnTo>
                            <a:pt x="1213" y="454"/>
                          </a:lnTo>
                          <a:lnTo>
                            <a:pt x="1262" y="414"/>
                          </a:lnTo>
                          <a:lnTo>
                            <a:pt x="1337" y="374"/>
                          </a:lnTo>
                          <a:lnTo>
                            <a:pt x="1407" y="366"/>
                          </a:lnTo>
                          <a:lnTo>
                            <a:pt x="1466" y="374"/>
                          </a:lnTo>
                          <a:lnTo>
                            <a:pt x="1567" y="396"/>
                          </a:lnTo>
                          <a:lnTo>
                            <a:pt x="1611" y="432"/>
                          </a:lnTo>
                          <a:lnTo>
                            <a:pt x="1664" y="490"/>
                          </a:lnTo>
                          <a:lnTo>
                            <a:pt x="1699" y="556"/>
                          </a:lnTo>
                          <a:lnTo>
                            <a:pt x="1721" y="613"/>
                          </a:lnTo>
                          <a:lnTo>
                            <a:pt x="1739" y="680"/>
                          </a:lnTo>
                          <a:lnTo>
                            <a:pt x="1735" y="759"/>
                          </a:lnTo>
                          <a:lnTo>
                            <a:pt x="1761" y="728"/>
                          </a:lnTo>
                          <a:lnTo>
                            <a:pt x="1774" y="693"/>
                          </a:lnTo>
                          <a:lnTo>
                            <a:pt x="1783" y="649"/>
                          </a:lnTo>
                          <a:lnTo>
                            <a:pt x="1779" y="583"/>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23" name=""/>
                    <p:cNvGrpSpPr/>
                    <p:nvPr/>
                  </p:nvGrpSpPr>
                  <p:grpSpPr>
                    <a:xfrm>
                      <a:off x="955800" y="1484280"/>
                      <a:ext cx="544680" cy="605520"/>
                      <a:chOff x="955800" y="1484280"/>
                      <a:chExt cx="544680" cy="605520"/>
                    </a:xfrm>
                  </p:grpSpPr>
                  <p:sp>
                    <p:nvSpPr>
                      <p:cNvPr id="1024" name=""/>
                      <p:cNvSpPr/>
                      <p:nvPr/>
                    </p:nvSpPr>
                    <p:spPr>
                      <a:xfrm>
                        <a:off x="1114560" y="1827360"/>
                        <a:ext cx="68760" cy="241560"/>
                      </a:xfrm>
                      <a:custGeom>
                        <a:avLst/>
                        <a:gdLst/>
                        <a:ahLst/>
                        <a:rect l="0" t="0" r="r" b="b"/>
                        <a:pathLst>
                          <a:path w="191" h="671">
                            <a:moveTo>
                              <a:pt x="111" y="35"/>
                            </a:moveTo>
                            <a:lnTo>
                              <a:pt x="115" y="141"/>
                            </a:lnTo>
                            <a:lnTo>
                              <a:pt x="124" y="264"/>
                            </a:lnTo>
                            <a:lnTo>
                              <a:pt x="147" y="367"/>
                            </a:lnTo>
                            <a:lnTo>
                              <a:pt x="191" y="543"/>
                            </a:lnTo>
                            <a:lnTo>
                              <a:pt x="142" y="477"/>
                            </a:lnTo>
                            <a:lnTo>
                              <a:pt x="115" y="397"/>
                            </a:lnTo>
                            <a:lnTo>
                              <a:pt x="98" y="344"/>
                            </a:lnTo>
                            <a:lnTo>
                              <a:pt x="71" y="264"/>
                            </a:lnTo>
                            <a:lnTo>
                              <a:pt x="53" y="384"/>
                            </a:lnTo>
                            <a:lnTo>
                              <a:pt x="53" y="490"/>
                            </a:lnTo>
                            <a:lnTo>
                              <a:pt x="62" y="565"/>
                            </a:lnTo>
                            <a:lnTo>
                              <a:pt x="26" y="671"/>
                            </a:lnTo>
                            <a:lnTo>
                              <a:pt x="13" y="389"/>
                            </a:lnTo>
                            <a:lnTo>
                              <a:pt x="0" y="242"/>
                            </a:lnTo>
                            <a:lnTo>
                              <a:pt x="4" y="101"/>
                            </a:lnTo>
                            <a:lnTo>
                              <a:pt x="17" y="0"/>
                            </a:lnTo>
                            <a:lnTo>
                              <a:pt x="49" y="83"/>
                            </a:lnTo>
                            <a:lnTo>
                              <a:pt x="71" y="163"/>
                            </a:lnTo>
                            <a:lnTo>
                              <a:pt x="89" y="97"/>
                            </a:lnTo>
                            <a:lnTo>
                              <a:pt x="111" y="35"/>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5" name=""/>
                      <p:cNvSpPr/>
                      <p:nvPr/>
                    </p:nvSpPr>
                    <p:spPr>
                      <a:xfrm>
                        <a:off x="955800" y="1676520"/>
                        <a:ext cx="181440" cy="413280"/>
                      </a:xfrm>
                      <a:custGeom>
                        <a:avLst/>
                        <a:gdLst/>
                        <a:ahLst/>
                        <a:rect l="0" t="0" r="r" b="b"/>
                        <a:pathLst>
                          <a:path w="504" h="1148">
                            <a:moveTo>
                              <a:pt x="265" y="1077"/>
                            </a:moveTo>
                            <a:lnTo>
                              <a:pt x="296" y="897"/>
                            </a:lnTo>
                            <a:lnTo>
                              <a:pt x="309" y="755"/>
                            </a:lnTo>
                            <a:lnTo>
                              <a:pt x="336" y="583"/>
                            </a:lnTo>
                            <a:lnTo>
                              <a:pt x="340" y="671"/>
                            </a:lnTo>
                            <a:lnTo>
                              <a:pt x="349" y="785"/>
                            </a:lnTo>
                            <a:lnTo>
                              <a:pt x="385" y="658"/>
                            </a:lnTo>
                            <a:lnTo>
                              <a:pt x="394" y="561"/>
                            </a:lnTo>
                            <a:lnTo>
                              <a:pt x="385" y="455"/>
                            </a:lnTo>
                            <a:lnTo>
                              <a:pt x="412" y="353"/>
                            </a:lnTo>
                            <a:lnTo>
                              <a:pt x="442" y="238"/>
                            </a:lnTo>
                            <a:lnTo>
                              <a:pt x="504" y="70"/>
                            </a:lnTo>
                            <a:lnTo>
                              <a:pt x="425" y="198"/>
                            </a:lnTo>
                            <a:lnTo>
                              <a:pt x="362" y="305"/>
                            </a:lnTo>
                            <a:lnTo>
                              <a:pt x="300" y="450"/>
                            </a:lnTo>
                            <a:lnTo>
                              <a:pt x="318" y="296"/>
                            </a:lnTo>
                            <a:lnTo>
                              <a:pt x="336" y="158"/>
                            </a:lnTo>
                            <a:lnTo>
                              <a:pt x="362" y="0"/>
                            </a:lnTo>
                            <a:lnTo>
                              <a:pt x="314" y="136"/>
                            </a:lnTo>
                            <a:lnTo>
                              <a:pt x="274" y="251"/>
                            </a:lnTo>
                            <a:lnTo>
                              <a:pt x="243" y="375"/>
                            </a:lnTo>
                            <a:lnTo>
                              <a:pt x="221" y="455"/>
                            </a:lnTo>
                            <a:lnTo>
                              <a:pt x="177" y="521"/>
                            </a:lnTo>
                            <a:lnTo>
                              <a:pt x="119" y="609"/>
                            </a:lnTo>
                            <a:lnTo>
                              <a:pt x="79" y="693"/>
                            </a:lnTo>
                            <a:lnTo>
                              <a:pt x="52" y="790"/>
                            </a:lnTo>
                            <a:lnTo>
                              <a:pt x="26" y="883"/>
                            </a:lnTo>
                            <a:lnTo>
                              <a:pt x="17" y="963"/>
                            </a:lnTo>
                            <a:lnTo>
                              <a:pt x="13" y="1020"/>
                            </a:lnTo>
                            <a:lnTo>
                              <a:pt x="0" y="1073"/>
                            </a:lnTo>
                            <a:lnTo>
                              <a:pt x="13" y="1148"/>
                            </a:lnTo>
                            <a:lnTo>
                              <a:pt x="48" y="1073"/>
                            </a:lnTo>
                            <a:lnTo>
                              <a:pt x="70" y="1148"/>
                            </a:lnTo>
                            <a:lnTo>
                              <a:pt x="92" y="1091"/>
                            </a:lnTo>
                            <a:lnTo>
                              <a:pt x="92" y="1042"/>
                            </a:lnTo>
                            <a:lnTo>
                              <a:pt x="88" y="945"/>
                            </a:lnTo>
                            <a:lnTo>
                              <a:pt x="92" y="856"/>
                            </a:lnTo>
                            <a:lnTo>
                              <a:pt x="110" y="763"/>
                            </a:lnTo>
                            <a:lnTo>
                              <a:pt x="159" y="671"/>
                            </a:lnTo>
                            <a:lnTo>
                              <a:pt x="199" y="583"/>
                            </a:lnTo>
                            <a:lnTo>
                              <a:pt x="190" y="777"/>
                            </a:lnTo>
                            <a:lnTo>
                              <a:pt x="269" y="538"/>
                            </a:lnTo>
                            <a:lnTo>
                              <a:pt x="247" y="746"/>
                            </a:lnTo>
                            <a:lnTo>
                              <a:pt x="243" y="883"/>
                            </a:lnTo>
                            <a:lnTo>
                              <a:pt x="265" y="1077"/>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6" name=""/>
                      <p:cNvSpPr/>
                      <p:nvPr/>
                    </p:nvSpPr>
                    <p:spPr>
                      <a:xfrm>
                        <a:off x="1208160" y="1484280"/>
                        <a:ext cx="292320" cy="101880"/>
                      </a:xfrm>
                      <a:custGeom>
                        <a:avLst/>
                        <a:gdLst/>
                        <a:ahLst/>
                        <a:rect l="0" t="0" r="r" b="b"/>
                        <a:pathLst>
                          <a:path w="812" h="283">
                            <a:moveTo>
                              <a:pt x="812" y="283"/>
                            </a:moveTo>
                            <a:lnTo>
                              <a:pt x="777" y="278"/>
                            </a:lnTo>
                            <a:lnTo>
                              <a:pt x="719" y="265"/>
                            </a:lnTo>
                            <a:lnTo>
                              <a:pt x="680" y="261"/>
                            </a:lnTo>
                            <a:lnTo>
                              <a:pt x="640" y="261"/>
                            </a:lnTo>
                            <a:lnTo>
                              <a:pt x="627" y="203"/>
                            </a:lnTo>
                            <a:lnTo>
                              <a:pt x="596" y="146"/>
                            </a:lnTo>
                            <a:lnTo>
                              <a:pt x="552" y="105"/>
                            </a:lnTo>
                            <a:lnTo>
                              <a:pt x="503" y="74"/>
                            </a:lnTo>
                            <a:lnTo>
                              <a:pt x="459" y="66"/>
                            </a:lnTo>
                            <a:lnTo>
                              <a:pt x="411" y="66"/>
                            </a:lnTo>
                            <a:lnTo>
                              <a:pt x="304" y="83"/>
                            </a:lnTo>
                            <a:lnTo>
                              <a:pt x="211" y="88"/>
                            </a:lnTo>
                            <a:lnTo>
                              <a:pt x="123" y="66"/>
                            </a:lnTo>
                            <a:lnTo>
                              <a:pt x="0" y="0"/>
                            </a:lnTo>
                            <a:lnTo>
                              <a:pt x="158" y="39"/>
                            </a:lnTo>
                            <a:lnTo>
                              <a:pt x="238" y="39"/>
                            </a:lnTo>
                            <a:lnTo>
                              <a:pt x="304" y="26"/>
                            </a:lnTo>
                            <a:lnTo>
                              <a:pt x="357" y="39"/>
                            </a:lnTo>
                            <a:lnTo>
                              <a:pt x="392" y="22"/>
                            </a:lnTo>
                            <a:lnTo>
                              <a:pt x="424" y="17"/>
                            </a:lnTo>
                            <a:lnTo>
                              <a:pt x="468" y="22"/>
                            </a:lnTo>
                            <a:lnTo>
                              <a:pt x="503" y="26"/>
                            </a:lnTo>
                            <a:lnTo>
                              <a:pt x="547" y="39"/>
                            </a:lnTo>
                            <a:lnTo>
                              <a:pt x="583" y="66"/>
                            </a:lnTo>
                            <a:lnTo>
                              <a:pt x="622" y="110"/>
                            </a:lnTo>
                            <a:lnTo>
                              <a:pt x="649" y="146"/>
                            </a:lnTo>
                            <a:lnTo>
                              <a:pt x="680" y="155"/>
                            </a:lnTo>
                            <a:lnTo>
                              <a:pt x="719" y="168"/>
                            </a:lnTo>
                            <a:lnTo>
                              <a:pt x="777" y="203"/>
                            </a:lnTo>
                            <a:lnTo>
                              <a:pt x="799" y="243"/>
                            </a:lnTo>
                            <a:lnTo>
                              <a:pt x="812" y="283"/>
                            </a:lnTo>
                            <a:close/>
                          </a:path>
                        </a:pathLst>
                      </a:custGeom>
                      <a:solidFill>
                        <a:srgbClr val="3f1f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027" name=""/>
                <p:cNvGrpSpPr/>
                <p:nvPr/>
              </p:nvGrpSpPr>
              <p:grpSpPr>
                <a:xfrm>
                  <a:off x="1138320" y="1733400"/>
                  <a:ext cx="115920" cy="200520"/>
                  <a:chOff x="1138320" y="1733400"/>
                  <a:chExt cx="115920" cy="200520"/>
                </a:xfrm>
              </p:grpSpPr>
              <p:grpSp>
                <p:nvGrpSpPr>
                  <p:cNvPr id="1028" name=""/>
                  <p:cNvGrpSpPr/>
                  <p:nvPr/>
                </p:nvGrpSpPr>
                <p:grpSpPr>
                  <a:xfrm>
                    <a:off x="1138320" y="1733400"/>
                    <a:ext cx="92520" cy="157680"/>
                    <a:chOff x="1138320" y="1733400"/>
                    <a:chExt cx="92520" cy="157680"/>
                  </a:xfrm>
                </p:grpSpPr>
                <p:sp>
                  <p:nvSpPr>
                    <p:cNvPr id="1029" name=""/>
                    <p:cNvSpPr/>
                    <p:nvPr/>
                  </p:nvSpPr>
                  <p:spPr>
                    <a:xfrm>
                      <a:off x="1138320" y="1733400"/>
                      <a:ext cx="92520" cy="157680"/>
                    </a:xfrm>
                    <a:custGeom>
                      <a:avLst/>
                      <a:gdLst/>
                      <a:ahLst/>
                      <a:rect l="0" t="0" r="r" b="b"/>
                      <a:pathLst>
                        <a:path w="257" h="438">
                          <a:moveTo>
                            <a:pt x="235" y="120"/>
                          </a:moveTo>
                          <a:lnTo>
                            <a:pt x="200" y="52"/>
                          </a:lnTo>
                          <a:lnTo>
                            <a:pt x="168" y="26"/>
                          </a:lnTo>
                          <a:lnTo>
                            <a:pt x="128" y="8"/>
                          </a:lnTo>
                          <a:lnTo>
                            <a:pt x="98" y="0"/>
                          </a:lnTo>
                          <a:lnTo>
                            <a:pt x="52" y="17"/>
                          </a:lnTo>
                          <a:lnTo>
                            <a:pt x="22" y="48"/>
                          </a:lnTo>
                          <a:lnTo>
                            <a:pt x="0" y="105"/>
                          </a:lnTo>
                          <a:lnTo>
                            <a:pt x="4" y="168"/>
                          </a:lnTo>
                          <a:lnTo>
                            <a:pt x="22" y="225"/>
                          </a:lnTo>
                          <a:lnTo>
                            <a:pt x="44" y="292"/>
                          </a:lnTo>
                          <a:lnTo>
                            <a:pt x="71" y="345"/>
                          </a:lnTo>
                          <a:lnTo>
                            <a:pt x="111" y="403"/>
                          </a:lnTo>
                          <a:lnTo>
                            <a:pt x="146" y="429"/>
                          </a:lnTo>
                          <a:lnTo>
                            <a:pt x="181" y="438"/>
                          </a:lnTo>
                          <a:lnTo>
                            <a:pt x="222" y="434"/>
                          </a:lnTo>
                          <a:lnTo>
                            <a:pt x="248" y="416"/>
                          </a:lnTo>
                          <a:lnTo>
                            <a:pt x="257" y="381"/>
                          </a:lnTo>
                          <a:lnTo>
                            <a:pt x="244" y="309"/>
                          </a:lnTo>
                          <a:lnTo>
                            <a:pt x="235" y="256"/>
                          </a:lnTo>
                          <a:lnTo>
                            <a:pt x="248" y="190"/>
                          </a:lnTo>
                          <a:lnTo>
                            <a:pt x="235" y="12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0" name=""/>
                    <p:cNvSpPr/>
                    <p:nvPr/>
                  </p:nvSpPr>
                  <p:spPr>
                    <a:xfrm>
                      <a:off x="1154160" y="1749600"/>
                      <a:ext cx="66960" cy="111600"/>
                    </a:xfrm>
                    <a:custGeom>
                      <a:avLst/>
                      <a:gdLst/>
                      <a:ahLst/>
                      <a:rect l="0" t="0" r="r" b="b"/>
                      <a:pathLst>
                        <a:path w="186" h="310">
                          <a:moveTo>
                            <a:pt x="0" y="30"/>
                          </a:moveTo>
                          <a:lnTo>
                            <a:pt x="44" y="22"/>
                          </a:lnTo>
                          <a:lnTo>
                            <a:pt x="79" y="26"/>
                          </a:lnTo>
                          <a:lnTo>
                            <a:pt x="92" y="35"/>
                          </a:lnTo>
                          <a:lnTo>
                            <a:pt x="106" y="61"/>
                          </a:lnTo>
                          <a:lnTo>
                            <a:pt x="106" y="84"/>
                          </a:lnTo>
                          <a:lnTo>
                            <a:pt x="83" y="115"/>
                          </a:lnTo>
                          <a:lnTo>
                            <a:pt x="52" y="124"/>
                          </a:lnTo>
                          <a:lnTo>
                            <a:pt x="30" y="133"/>
                          </a:lnTo>
                          <a:lnTo>
                            <a:pt x="26" y="168"/>
                          </a:lnTo>
                          <a:lnTo>
                            <a:pt x="39" y="199"/>
                          </a:lnTo>
                          <a:lnTo>
                            <a:pt x="61" y="225"/>
                          </a:lnTo>
                          <a:lnTo>
                            <a:pt x="92" y="240"/>
                          </a:lnTo>
                          <a:lnTo>
                            <a:pt x="128" y="248"/>
                          </a:lnTo>
                          <a:lnTo>
                            <a:pt x="150" y="262"/>
                          </a:lnTo>
                          <a:lnTo>
                            <a:pt x="155" y="279"/>
                          </a:lnTo>
                          <a:lnTo>
                            <a:pt x="159" y="310"/>
                          </a:lnTo>
                          <a:lnTo>
                            <a:pt x="177" y="310"/>
                          </a:lnTo>
                          <a:lnTo>
                            <a:pt x="186" y="279"/>
                          </a:lnTo>
                          <a:lnTo>
                            <a:pt x="177" y="253"/>
                          </a:lnTo>
                          <a:lnTo>
                            <a:pt x="164" y="225"/>
                          </a:lnTo>
                          <a:lnTo>
                            <a:pt x="164" y="199"/>
                          </a:lnTo>
                          <a:lnTo>
                            <a:pt x="159" y="168"/>
                          </a:lnTo>
                          <a:lnTo>
                            <a:pt x="142" y="177"/>
                          </a:lnTo>
                          <a:lnTo>
                            <a:pt x="124" y="177"/>
                          </a:lnTo>
                          <a:lnTo>
                            <a:pt x="115" y="164"/>
                          </a:lnTo>
                          <a:lnTo>
                            <a:pt x="133" y="133"/>
                          </a:lnTo>
                          <a:lnTo>
                            <a:pt x="124" y="106"/>
                          </a:lnTo>
                          <a:lnTo>
                            <a:pt x="133" y="80"/>
                          </a:lnTo>
                          <a:lnTo>
                            <a:pt x="124" y="48"/>
                          </a:lnTo>
                          <a:lnTo>
                            <a:pt x="106" y="13"/>
                          </a:lnTo>
                          <a:lnTo>
                            <a:pt x="79" y="0"/>
                          </a:lnTo>
                          <a:lnTo>
                            <a:pt x="44" y="0"/>
                          </a:lnTo>
                          <a:lnTo>
                            <a:pt x="13" y="8"/>
                          </a:lnTo>
                          <a:lnTo>
                            <a:pt x="0"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31" name=""/>
                  <p:cNvGrpSpPr/>
                  <p:nvPr/>
                </p:nvGrpSpPr>
                <p:grpSpPr>
                  <a:xfrm>
                    <a:off x="1174680" y="1846440"/>
                    <a:ext cx="79560" cy="87480"/>
                    <a:chOff x="1174680" y="1846440"/>
                    <a:chExt cx="79560" cy="87480"/>
                  </a:xfrm>
                </p:grpSpPr>
                <p:grpSp>
                  <p:nvGrpSpPr>
                    <p:cNvPr id="1032" name=""/>
                    <p:cNvGrpSpPr/>
                    <p:nvPr/>
                  </p:nvGrpSpPr>
                  <p:grpSpPr>
                    <a:xfrm>
                      <a:off x="1174680" y="1846440"/>
                      <a:ext cx="79560" cy="75960"/>
                      <a:chOff x="1174680" y="1846440"/>
                      <a:chExt cx="79560" cy="75960"/>
                    </a:xfrm>
                  </p:grpSpPr>
                  <p:sp>
                    <p:nvSpPr>
                      <p:cNvPr id="1033" name=""/>
                      <p:cNvSpPr/>
                      <p:nvPr/>
                    </p:nvSpPr>
                    <p:spPr>
                      <a:xfrm>
                        <a:off x="1174680" y="1847880"/>
                        <a:ext cx="71280" cy="74520"/>
                      </a:xfrm>
                      <a:prstGeom prst="ellipse">
                        <a:avLst/>
                      </a:prstGeom>
                      <a:solidFill>
                        <a:srgbClr val="9f3f0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1034" name=""/>
                      <p:cNvSpPr/>
                      <p:nvPr/>
                    </p:nvSpPr>
                    <p:spPr>
                      <a:xfrm>
                        <a:off x="1177920" y="1846440"/>
                        <a:ext cx="76320" cy="71280"/>
                      </a:xfrm>
                      <a:prstGeom prst="ellipse">
                        <a:avLst/>
                      </a:prstGeom>
                      <a:solidFill>
                        <a:srgbClr val="ffff9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1035" name=""/>
                    <p:cNvGrpSpPr/>
                    <p:nvPr/>
                  </p:nvGrpSpPr>
                  <p:grpSpPr>
                    <a:xfrm>
                      <a:off x="1177920" y="1847880"/>
                      <a:ext cx="71280" cy="86040"/>
                      <a:chOff x="1177920" y="1847880"/>
                      <a:chExt cx="71280" cy="86040"/>
                    </a:xfrm>
                  </p:grpSpPr>
                  <p:sp>
                    <p:nvSpPr>
                      <p:cNvPr id="1036" name=""/>
                      <p:cNvSpPr/>
                      <p:nvPr/>
                    </p:nvSpPr>
                    <p:spPr>
                      <a:xfrm>
                        <a:off x="1177920" y="1847880"/>
                        <a:ext cx="71280" cy="73080"/>
                      </a:xfrm>
                      <a:prstGeom prst="ellipse">
                        <a:avLst/>
                      </a:prstGeom>
                      <a:solidFill>
                        <a:srgbClr val="ff9f0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1037" name=""/>
                      <p:cNvSpPr/>
                      <p:nvPr/>
                    </p:nvSpPr>
                    <p:spPr>
                      <a:xfrm>
                        <a:off x="1198440" y="1878120"/>
                        <a:ext cx="20160" cy="55800"/>
                      </a:xfrm>
                      <a:custGeom>
                        <a:avLst/>
                        <a:gdLst/>
                        <a:ahLst/>
                        <a:rect l="0" t="0" r="r" b="b"/>
                        <a:pathLst>
                          <a:path w="56" h="155">
                            <a:moveTo>
                              <a:pt x="56" y="77"/>
                            </a:moveTo>
                            <a:lnTo>
                              <a:pt x="51" y="0"/>
                            </a:lnTo>
                            <a:lnTo>
                              <a:pt x="51" y="0"/>
                            </a:lnTo>
                            <a:cubicBezTo>
                              <a:pt x="43" y="1"/>
                              <a:pt x="36" y="5"/>
                              <a:pt x="29" y="10"/>
                            </a:cubicBezTo>
                            <a:cubicBezTo>
                              <a:pt x="20" y="17"/>
                              <a:pt x="13" y="27"/>
                              <a:pt x="8" y="38"/>
                            </a:cubicBezTo>
                            <a:cubicBezTo>
                              <a:pt x="3" y="50"/>
                              <a:pt x="0" y="64"/>
                              <a:pt x="0" y="77"/>
                            </a:cubicBezTo>
                            <a:cubicBezTo>
                              <a:pt x="0" y="91"/>
                              <a:pt x="3" y="105"/>
                              <a:pt x="8" y="116"/>
                            </a:cubicBezTo>
                            <a:cubicBezTo>
                              <a:pt x="13" y="128"/>
                              <a:pt x="20" y="138"/>
                              <a:pt x="29" y="145"/>
                            </a:cubicBezTo>
                            <a:cubicBezTo>
                              <a:pt x="36" y="150"/>
                              <a:pt x="44" y="154"/>
                              <a:pt x="52" y="155"/>
                            </a:cubicBezTo>
                            <a:lnTo>
                              <a:pt x="56" y="77"/>
                            </a:lnTo>
                            <a:close/>
                          </a:path>
                        </a:pathLst>
                      </a:custGeom>
                      <a:solidFill>
                        <a:srgbClr val="ffbf1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038" name=""/>
                      <p:cNvSpPr/>
                      <p:nvPr/>
                    </p:nvSpPr>
                    <p:spPr>
                      <a:xfrm>
                        <a:off x="1220760" y="1878120"/>
                        <a:ext cx="12960" cy="49320"/>
                      </a:xfrm>
                      <a:custGeom>
                        <a:avLst/>
                        <a:gdLst/>
                        <a:ahLst/>
                        <a:rect l="0" t="0" r="r" b="b"/>
                        <a:pathLst>
                          <a:path w="36" h="137">
                            <a:moveTo>
                              <a:pt x="36" y="68"/>
                            </a:moveTo>
                            <a:lnTo>
                              <a:pt x="31" y="0"/>
                            </a:lnTo>
                            <a:lnTo>
                              <a:pt x="31" y="0"/>
                            </a:lnTo>
                            <a:cubicBezTo>
                              <a:pt x="26" y="1"/>
                              <a:pt x="22" y="4"/>
                              <a:pt x="18" y="9"/>
                            </a:cubicBezTo>
                            <a:cubicBezTo>
                              <a:pt x="12" y="15"/>
                              <a:pt x="8" y="23"/>
                              <a:pt x="5" y="34"/>
                            </a:cubicBezTo>
                            <a:cubicBezTo>
                              <a:pt x="1" y="44"/>
                              <a:pt x="0" y="56"/>
                              <a:pt x="0" y="68"/>
                            </a:cubicBezTo>
                            <a:cubicBezTo>
                              <a:pt x="0" y="80"/>
                              <a:pt x="1" y="92"/>
                              <a:pt x="5" y="103"/>
                            </a:cubicBezTo>
                            <a:cubicBezTo>
                              <a:pt x="8" y="113"/>
                              <a:pt x="12" y="122"/>
                              <a:pt x="18" y="128"/>
                            </a:cubicBezTo>
                            <a:cubicBezTo>
                              <a:pt x="22" y="133"/>
                              <a:pt x="27" y="136"/>
                              <a:pt x="32" y="137"/>
                            </a:cubicBezTo>
                            <a:lnTo>
                              <a:pt x="36" y="68"/>
                            </a:lnTo>
                            <a:close/>
                          </a:path>
                        </a:pathLst>
                      </a:custGeom>
                      <a:solidFill>
                        <a:srgbClr val="bf7f1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1039" name=""/>
                      <p:cNvSpPr/>
                      <p:nvPr/>
                    </p:nvSpPr>
                    <p:spPr>
                      <a:xfrm>
                        <a:off x="1216080" y="1855800"/>
                        <a:ext cx="25560" cy="31680"/>
                      </a:xfrm>
                      <a:prstGeom prst="ellipse">
                        <a:avLst/>
                      </a:prstGeom>
                      <a:solidFill>
                        <a:srgbClr val="ffff9f"/>
                      </a:solidFill>
                      <a:ln w="0">
                        <a:noFill/>
                      </a:ln>
                    </p:spPr>
                    <p:txBody>
                      <a:bodyPr lIns="90000" rIns="90000" tIns="-13320" bIns="-13320" anchor="t">
                        <a:noAutofit/>
                      </a:bodyPr>
                      <a:p>
                        <a:endParaRPr b="0" lang="en-US" sz="1800" spc="-1" strike="noStrike">
                          <a:solidFill>
                            <a:srgbClr val="000000"/>
                          </a:solidFill>
                          <a:latin typeface="Arial"/>
                        </a:endParaRPr>
                      </a:p>
                    </p:txBody>
                  </p:sp>
                </p:grpSp>
              </p:grpSp>
            </p:grpSp>
          </p:grpSp>
          <p:grpSp>
            <p:nvGrpSpPr>
              <p:cNvPr id="1040" name=""/>
              <p:cNvGrpSpPr/>
              <p:nvPr/>
            </p:nvGrpSpPr>
            <p:grpSpPr>
              <a:xfrm>
                <a:off x="720720" y="1935000"/>
                <a:ext cx="1497240" cy="1806840"/>
                <a:chOff x="720720" y="1935000"/>
                <a:chExt cx="1497240" cy="1806840"/>
              </a:xfrm>
            </p:grpSpPr>
            <p:grpSp>
              <p:nvGrpSpPr>
                <p:cNvPr id="1041" name=""/>
                <p:cNvGrpSpPr/>
                <p:nvPr/>
              </p:nvGrpSpPr>
              <p:grpSpPr>
                <a:xfrm>
                  <a:off x="720720" y="2178000"/>
                  <a:ext cx="1394280" cy="1563840"/>
                  <a:chOff x="720720" y="2178000"/>
                  <a:chExt cx="1394280" cy="1563840"/>
                </a:xfrm>
              </p:grpSpPr>
              <p:grpSp>
                <p:nvGrpSpPr>
                  <p:cNvPr id="1042" name=""/>
                  <p:cNvGrpSpPr/>
                  <p:nvPr/>
                </p:nvGrpSpPr>
                <p:grpSpPr>
                  <a:xfrm>
                    <a:off x="739800" y="2682720"/>
                    <a:ext cx="1375200" cy="1059120"/>
                    <a:chOff x="739800" y="2682720"/>
                    <a:chExt cx="1375200" cy="1059120"/>
                  </a:xfrm>
                </p:grpSpPr>
                <p:grpSp>
                  <p:nvGrpSpPr>
                    <p:cNvPr id="1043" name=""/>
                    <p:cNvGrpSpPr/>
                    <p:nvPr/>
                  </p:nvGrpSpPr>
                  <p:grpSpPr>
                    <a:xfrm>
                      <a:off x="1627200" y="2682720"/>
                      <a:ext cx="487800" cy="476640"/>
                      <a:chOff x="1627200" y="2682720"/>
                      <a:chExt cx="487800" cy="476640"/>
                    </a:xfrm>
                  </p:grpSpPr>
                  <p:sp>
                    <p:nvSpPr>
                      <p:cNvPr id="1044" name=""/>
                      <p:cNvSpPr/>
                      <p:nvPr/>
                    </p:nvSpPr>
                    <p:spPr>
                      <a:xfrm>
                        <a:off x="1627200" y="2682720"/>
                        <a:ext cx="487800" cy="476640"/>
                      </a:xfrm>
                      <a:custGeom>
                        <a:avLst/>
                        <a:gdLst/>
                        <a:ahLst/>
                        <a:rect l="0" t="0" r="r" b="b"/>
                        <a:pathLst>
                          <a:path w="1355" h="1324">
                            <a:moveTo>
                              <a:pt x="1091" y="79"/>
                            </a:moveTo>
                            <a:lnTo>
                              <a:pt x="935" y="273"/>
                            </a:lnTo>
                            <a:lnTo>
                              <a:pt x="878" y="340"/>
                            </a:lnTo>
                            <a:lnTo>
                              <a:pt x="785" y="415"/>
                            </a:lnTo>
                            <a:lnTo>
                              <a:pt x="746" y="441"/>
                            </a:lnTo>
                            <a:lnTo>
                              <a:pt x="688" y="446"/>
                            </a:lnTo>
                            <a:lnTo>
                              <a:pt x="688" y="57"/>
                            </a:lnTo>
                            <a:lnTo>
                              <a:pt x="0" y="389"/>
                            </a:lnTo>
                            <a:lnTo>
                              <a:pt x="299" y="1197"/>
                            </a:lnTo>
                            <a:lnTo>
                              <a:pt x="543" y="1324"/>
                            </a:lnTo>
                            <a:lnTo>
                              <a:pt x="631" y="1214"/>
                            </a:lnTo>
                            <a:lnTo>
                              <a:pt x="746" y="1095"/>
                            </a:lnTo>
                            <a:lnTo>
                              <a:pt x="856" y="1011"/>
                            </a:lnTo>
                            <a:lnTo>
                              <a:pt x="953" y="874"/>
                            </a:lnTo>
                            <a:lnTo>
                              <a:pt x="1038" y="728"/>
                            </a:lnTo>
                            <a:lnTo>
                              <a:pt x="1104" y="565"/>
                            </a:lnTo>
                            <a:lnTo>
                              <a:pt x="1205" y="415"/>
                            </a:lnTo>
                            <a:lnTo>
                              <a:pt x="1258" y="340"/>
                            </a:lnTo>
                            <a:lnTo>
                              <a:pt x="1289" y="282"/>
                            </a:lnTo>
                            <a:lnTo>
                              <a:pt x="1355" y="0"/>
                            </a:lnTo>
                            <a:lnTo>
                              <a:pt x="1091"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5" name=""/>
                      <p:cNvSpPr/>
                      <p:nvPr/>
                    </p:nvSpPr>
                    <p:spPr>
                      <a:xfrm>
                        <a:off x="1782720" y="2832120"/>
                        <a:ext cx="111600" cy="189360"/>
                      </a:xfrm>
                      <a:custGeom>
                        <a:avLst/>
                        <a:gdLst/>
                        <a:ahLst/>
                        <a:rect l="0" t="0" r="r" b="b"/>
                        <a:pathLst>
                          <a:path w="310" h="526">
                            <a:moveTo>
                              <a:pt x="275" y="0"/>
                            </a:moveTo>
                            <a:lnTo>
                              <a:pt x="310" y="35"/>
                            </a:lnTo>
                            <a:lnTo>
                              <a:pt x="240" y="133"/>
                            </a:lnTo>
                            <a:lnTo>
                              <a:pt x="164" y="234"/>
                            </a:lnTo>
                            <a:lnTo>
                              <a:pt x="106" y="322"/>
                            </a:lnTo>
                            <a:lnTo>
                              <a:pt x="52" y="416"/>
                            </a:lnTo>
                            <a:lnTo>
                              <a:pt x="0" y="526"/>
                            </a:lnTo>
                            <a:lnTo>
                              <a:pt x="13" y="438"/>
                            </a:lnTo>
                            <a:lnTo>
                              <a:pt x="61" y="331"/>
                            </a:lnTo>
                            <a:lnTo>
                              <a:pt x="133" y="199"/>
                            </a:lnTo>
                            <a:lnTo>
                              <a:pt x="217" y="79"/>
                            </a:lnTo>
                            <a:lnTo>
                              <a:pt x="275"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46" name=""/>
                    <p:cNvGrpSpPr/>
                    <p:nvPr/>
                  </p:nvGrpSpPr>
                  <p:grpSpPr>
                    <a:xfrm>
                      <a:off x="739800" y="2814480"/>
                      <a:ext cx="371880" cy="927360"/>
                      <a:chOff x="739800" y="2814480"/>
                      <a:chExt cx="371880" cy="927360"/>
                    </a:xfrm>
                  </p:grpSpPr>
                  <p:sp>
                    <p:nvSpPr>
                      <p:cNvPr id="1047" name=""/>
                      <p:cNvSpPr/>
                      <p:nvPr/>
                    </p:nvSpPr>
                    <p:spPr>
                      <a:xfrm>
                        <a:off x="739800" y="2814480"/>
                        <a:ext cx="371880" cy="927360"/>
                      </a:xfrm>
                      <a:custGeom>
                        <a:avLst/>
                        <a:gdLst/>
                        <a:ahLst/>
                        <a:rect l="0" t="0" r="r" b="b"/>
                        <a:pathLst>
                          <a:path w="1033" h="2576">
                            <a:moveTo>
                              <a:pt x="455" y="366"/>
                            </a:moveTo>
                            <a:lnTo>
                              <a:pt x="446" y="427"/>
                            </a:lnTo>
                            <a:lnTo>
                              <a:pt x="468" y="507"/>
                            </a:lnTo>
                            <a:lnTo>
                              <a:pt x="490" y="674"/>
                            </a:lnTo>
                            <a:lnTo>
                              <a:pt x="512" y="780"/>
                            </a:lnTo>
                            <a:lnTo>
                              <a:pt x="530" y="868"/>
                            </a:lnTo>
                            <a:lnTo>
                              <a:pt x="556" y="970"/>
                            </a:lnTo>
                            <a:lnTo>
                              <a:pt x="587" y="1075"/>
                            </a:lnTo>
                            <a:lnTo>
                              <a:pt x="627" y="1159"/>
                            </a:lnTo>
                            <a:lnTo>
                              <a:pt x="671" y="1239"/>
                            </a:lnTo>
                            <a:lnTo>
                              <a:pt x="697" y="1319"/>
                            </a:lnTo>
                            <a:lnTo>
                              <a:pt x="710" y="1394"/>
                            </a:lnTo>
                            <a:lnTo>
                              <a:pt x="741" y="1491"/>
                            </a:lnTo>
                            <a:lnTo>
                              <a:pt x="786" y="1592"/>
                            </a:lnTo>
                            <a:lnTo>
                              <a:pt x="822" y="1685"/>
                            </a:lnTo>
                            <a:lnTo>
                              <a:pt x="848" y="1738"/>
                            </a:lnTo>
                            <a:lnTo>
                              <a:pt x="897" y="1800"/>
                            </a:lnTo>
                            <a:lnTo>
                              <a:pt x="1033" y="1919"/>
                            </a:lnTo>
                            <a:lnTo>
                              <a:pt x="1033" y="2576"/>
                            </a:lnTo>
                            <a:lnTo>
                              <a:pt x="972" y="2527"/>
                            </a:lnTo>
                            <a:lnTo>
                              <a:pt x="923" y="2448"/>
                            </a:lnTo>
                            <a:lnTo>
                              <a:pt x="883" y="2364"/>
                            </a:lnTo>
                            <a:lnTo>
                              <a:pt x="844" y="2307"/>
                            </a:lnTo>
                            <a:lnTo>
                              <a:pt x="813" y="2280"/>
                            </a:lnTo>
                            <a:lnTo>
                              <a:pt x="786" y="2241"/>
                            </a:lnTo>
                            <a:lnTo>
                              <a:pt x="750" y="2201"/>
                            </a:lnTo>
                            <a:lnTo>
                              <a:pt x="719" y="2188"/>
                            </a:lnTo>
                            <a:lnTo>
                              <a:pt x="702" y="2161"/>
                            </a:lnTo>
                            <a:lnTo>
                              <a:pt x="693" y="2122"/>
                            </a:lnTo>
                            <a:lnTo>
                              <a:pt x="671" y="2077"/>
                            </a:lnTo>
                            <a:lnTo>
                              <a:pt x="635" y="2007"/>
                            </a:lnTo>
                            <a:lnTo>
                              <a:pt x="587" y="1906"/>
                            </a:lnTo>
                            <a:lnTo>
                              <a:pt x="503" y="1769"/>
                            </a:lnTo>
                            <a:lnTo>
                              <a:pt x="419" y="1641"/>
                            </a:lnTo>
                            <a:lnTo>
                              <a:pt x="300" y="1491"/>
                            </a:lnTo>
                            <a:lnTo>
                              <a:pt x="211" y="1372"/>
                            </a:lnTo>
                            <a:lnTo>
                              <a:pt x="119" y="1234"/>
                            </a:lnTo>
                            <a:lnTo>
                              <a:pt x="83" y="1186"/>
                            </a:lnTo>
                            <a:lnTo>
                              <a:pt x="70" y="1155"/>
                            </a:lnTo>
                            <a:lnTo>
                              <a:pt x="61" y="1089"/>
                            </a:lnTo>
                            <a:lnTo>
                              <a:pt x="48" y="917"/>
                            </a:lnTo>
                            <a:lnTo>
                              <a:pt x="30" y="771"/>
                            </a:lnTo>
                            <a:lnTo>
                              <a:pt x="8" y="608"/>
                            </a:lnTo>
                            <a:lnTo>
                              <a:pt x="0" y="396"/>
                            </a:lnTo>
                            <a:lnTo>
                              <a:pt x="0" y="264"/>
                            </a:lnTo>
                            <a:lnTo>
                              <a:pt x="13" y="0"/>
                            </a:lnTo>
                            <a:lnTo>
                              <a:pt x="455" y="36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8" name=""/>
                      <p:cNvSpPr/>
                      <p:nvPr/>
                    </p:nvSpPr>
                    <p:spPr>
                      <a:xfrm>
                        <a:off x="849240" y="3068640"/>
                        <a:ext cx="160560" cy="294120"/>
                      </a:xfrm>
                      <a:custGeom>
                        <a:avLst/>
                        <a:gdLst/>
                        <a:ahLst/>
                        <a:rect l="0" t="0" r="r" b="b"/>
                        <a:pathLst>
                          <a:path w="446" h="817">
                            <a:moveTo>
                              <a:pt x="446" y="817"/>
                            </a:moveTo>
                            <a:lnTo>
                              <a:pt x="384" y="786"/>
                            </a:lnTo>
                            <a:lnTo>
                              <a:pt x="318" y="734"/>
                            </a:lnTo>
                            <a:lnTo>
                              <a:pt x="274" y="676"/>
                            </a:lnTo>
                            <a:lnTo>
                              <a:pt x="243" y="605"/>
                            </a:lnTo>
                            <a:lnTo>
                              <a:pt x="225" y="543"/>
                            </a:lnTo>
                            <a:lnTo>
                              <a:pt x="225" y="468"/>
                            </a:lnTo>
                            <a:lnTo>
                              <a:pt x="216" y="380"/>
                            </a:lnTo>
                            <a:lnTo>
                              <a:pt x="207" y="318"/>
                            </a:lnTo>
                            <a:lnTo>
                              <a:pt x="185" y="283"/>
                            </a:lnTo>
                            <a:lnTo>
                              <a:pt x="158" y="256"/>
                            </a:lnTo>
                            <a:lnTo>
                              <a:pt x="145" y="202"/>
                            </a:lnTo>
                            <a:lnTo>
                              <a:pt x="123" y="158"/>
                            </a:lnTo>
                            <a:lnTo>
                              <a:pt x="92" y="119"/>
                            </a:lnTo>
                            <a:lnTo>
                              <a:pt x="52" y="92"/>
                            </a:lnTo>
                            <a:lnTo>
                              <a:pt x="13" y="83"/>
                            </a:lnTo>
                            <a:lnTo>
                              <a:pt x="17" y="48"/>
                            </a:lnTo>
                            <a:lnTo>
                              <a:pt x="0" y="0"/>
                            </a:lnTo>
                            <a:lnTo>
                              <a:pt x="35" y="22"/>
                            </a:lnTo>
                            <a:lnTo>
                              <a:pt x="70" y="39"/>
                            </a:lnTo>
                            <a:lnTo>
                              <a:pt x="123" y="44"/>
                            </a:lnTo>
                            <a:lnTo>
                              <a:pt x="163" y="26"/>
                            </a:lnTo>
                            <a:lnTo>
                              <a:pt x="194" y="0"/>
                            </a:lnTo>
                            <a:lnTo>
                              <a:pt x="216" y="119"/>
                            </a:lnTo>
                            <a:lnTo>
                              <a:pt x="243" y="212"/>
                            </a:lnTo>
                            <a:lnTo>
                              <a:pt x="265" y="309"/>
                            </a:lnTo>
                            <a:lnTo>
                              <a:pt x="283" y="371"/>
                            </a:lnTo>
                            <a:lnTo>
                              <a:pt x="318" y="437"/>
                            </a:lnTo>
                            <a:lnTo>
                              <a:pt x="349" y="494"/>
                            </a:lnTo>
                            <a:lnTo>
                              <a:pt x="375" y="565"/>
                            </a:lnTo>
                            <a:lnTo>
                              <a:pt x="406" y="650"/>
                            </a:lnTo>
                            <a:lnTo>
                              <a:pt x="424" y="738"/>
                            </a:lnTo>
                            <a:lnTo>
                              <a:pt x="446" y="817"/>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049" name=""/>
                  <p:cNvGrpSpPr/>
                  <p:nvPr/>
                </p:nvGrpSpPr>
                <p:grpSpPr>
                  <a:xfrm>
                    <a:off x="720720" y="2178000"/>
                    <a:ext cx="1173600" cy="1329120"/>
                    <a:chOff x="720720" y="2178000"/>
                    <a:chExt cx="1173600" cy="1329120"/>
                  </a:xfrm>
                </p:grpSpPr>
                <p:sp>
                  <p:nvSpPr>
                    <p:cNvPr id="1050" name=""/>
                    <p:cNvSpPr/>
                    <p:nvPr/>
                  </p:nvSpPr>
                  <p:spPr>
                    <a:xfrm>
                      <a:off x="720720" y="2178000"/>
                      <a:ext cx="1173600" cy="1329120"/>
                    </a:xfrm>
                    <a:custGeom>
                      <a:avLst/>
                      <a:gdLst/>
                      <a:ahLst/>
                      <a:rect l="0" t="0" r="r" b="b"/>
                      <a:pathLst>
                        <a:path w="3260" h="3692">
                          <a:moveTo>
                            <a:pt x="3238" y="1844"/>
                          </a:moveTo>
                          <a:lnTo>
                            <a:pt x="3168" y="1659"/>
                          </a:lnTo>
                          <a:lnTo>
                            <a:pt x="2780" y="418"/>
                          </a:lnTo>
                          <a:lnTo>
                            <a:pt x="2426" y="167"/>
                          </a:lnTo>
                          <a:lnTo>
                            <a:pt x="2316" y="141"/>
                          </a:lnTo>
                          <a:lnTo>
                            <a:pt x="2223" y="127"/>
                          </a:lnTo>
                          <a:lnTo>
                            <a:pt x="2148" y="105"/>
                          </a:lnTo>
                          <a:lnTo>
                            <a:pt x="2060" y="79"/>
                          </a:lnTo>
                          <a:lnTo>
                            <a:pt x="1994" y="44"/>
                          </a:lnTo>
                          <a:lnTo>
                            <a:pt x="1928" y="22"/>
                          </a:lnTo>
                          <a:lnTo>
                            <a:pt x="1861" y="8"/>
                          </a:lnTo>
                          <a:lnTo>
                            <a:pt x="1831" y="8"/>
                          </a:lnTo>
                          <a:lnTo>
                            <a:pt x="1848" y="35"/>
                          </a:lnTo>
                          <a:lnTo>
                            <a:pt x="1835" y="61"/>
                          </a:lnTo>
                          <a:lnTo>
                            <a:pt x="1804" y="79"/>
                          </a:lnTo>
                          <a:lnTo>
                            <a:pt x="1738" y="110"/>
                          </a:lnTo>
                          <a:lnTo>
                            <a:pt x="1628" y="141"/>
                          </a:lnTo>
                          <a:lnTo>
                            <a:pt x="1535" y="158"/>
                          </a:lnTo>
                          <a:lnTo>
                            <a:pt x="1442" y="176"/>
                          </a:lnTo>
                          <a:lnTo>
                            <a:pt x="1328" y="180"/>
                          </a:lnTo>
                          <a:lnTo>
                            <a:pt x="1218" y="180"/>
                          </a:lnTo>
                          <a:lnTo>
                            <a:pt x="1134" y="176"/>
                          </a:lnTo>
                          <a:lnTo>
                            <a:pt x="1041" y="163"/>
                          </a:lnTo>
                          <a:lnTo>
                            <a:pt x="966" y="145"/>
                          </a:lnTo>
                          <a:lnTo>
                            <a:pt x="918" y="127"/>
                          </a:lnTo>
                          <a:lnTo>
                            <a:pt x="874" y="105"/>
                          </a:lnTo>
                          <a:lnTo>
                            <a:pt x="838" y="79"/>
                          </a:lnTo>
                          <a:lnTo>
                            <a:pt x="816" y="48"/>
                          </a:lnTo>
                          <a:lnTo>
                            <a:pt x="811" y="30"/>
                          </a:lnTo>
                          <a:lnTo>
                            <a:pt x="838" y="0"/>
                          </a:lnTo>
                          <a:lnTo>
                            <a:pt x="793" y="8"/>
                          </a:lnTo>
                          <a:lnTo>
                            <a:pt x="740" y="22"/>
                          </a:lnTo>
                          <a:lnTo>
                            <a:pt x="674" y="48"/>
                          </a:lnTo>
                          <a:lnTo>
                            <a:pt x="621" y="83"/>
                          </a:lnTo>
                          <a:lnTo>
                            <a:pt x="568" y="127"/>
                          </a:lnTo>
                          <a:lnTo>
                            <a:pt x="520" y="163"/>
                          </a:lnTo>
                          <a:lnTo>
                            <a:pt x="476" y="198"/>
                          </a:lnTo>
                          <a:lnTo>
                            <a:pt x="423" y="216"/>
                          </a:lnTo>
                          <a:lnTo>
                            <a:pt x="361" y="238"/>
                          </a:lnTo>
                          <a:lnTo>
                            <a:pt x="308" y="255"/>
                          </a:lnTo>
                          <a:lnTo>
                            <a:pt x="251" y="273"/>
                          </a:lnTo>
                          <a:lnTo>
                            <a:pt x="185" y="299"/>
                          </a:lnTo>
                          <a:lnTo>
                            <a:pt x="127" y="326"/>
                          </a:lnTo>
                          <a:lnTo>
                            <a:pt x="79" y="370"/>
                          </a:lnTo>
                          <a:lnTo>
                            <a:pt x="57" y="405"/>
                          </a:lnTo>
                          <a:lnTo>
                            <a:pt x="39" y="463"/>
                          </a:lnTo>
                          <a:lnTo>
                            <a:pt x="35" y="542"/>
                          </a:lnTo>
                          <a:lnTo>
                            <a:pt x="26" y="639"/>
                          </a:lnTo>
                          <a:lnTo>
                            <a:pt x="26" y="833"/>
                          </a:lnTo>
                          <a:lnTo>
                            <a:pt x="26" y="1222"/>
                          </a:lnTo>
                          <a:lnTo>
                            <a:pt x="0" y="1659"/>
                          </a:lnTo>
                          <a:lnTo>
                            <a:pt x="35" y="1817"/>
                          </a:lnTo>
                          <a:lnTo>
                            <a:pt x="48" y="2016"/>
                          </a:lnTo>
                          <a:lnTo>
                            <a:pt x="39" y="2148"/>
                          </a:lnTo>
                          <a:lnTo>
                            <a:pt x="26" y="2223"/>
                          </a:lnTo>
                          <a:lnTo>
                            <a:pt x="61" y="2227"/>
                          </a:lnTo>
                          <a:lnTo>
                            <a:pt x="101" y="2236"/>
                          </a:lnTo>
                          <a:lnTo>
                            <a:pt x="136" y="2249"/>
                          </a:lnTo>
                          <a:lnTo>
                            <a:pt x="207" y="2245"/>
                          </a:lnTo>
                          <a:lnTo>
                            <a:pt x="282" y="2249"/>
                          </a:lnTo>
                          <a:lnTo>
                            <a:pt x="348" y="2258"/>
                          </a:lnTo>
                          <a:lnTo>
                            <a:pt x="436" y="2280"/>
                          </a:lnTo>
                          <a:lnTo>
                            <a:pt x="564" y="2316"/>
                          </a:lnTo>
                          <a:lnTo>
                            <a:pt x="582" y="2452"/>
                          </a:lnTo>
                          <a:lnTo>
                            <a:pt x="608" y="2585"/>
                          </a:lnTo>
                          <a:lnTo>
                            <a:pt x="630" y="2668"/>
                          </a:lnTo>
                          <a:lnTo>
                            <a:pt x="670" y="2788"/>
                          </a:lnTo>
                          <a:lnTo>
                            <a:pt x="745" y="2881"/>
                          </a:lnTo>
                          <a:lnTo>
                            <a:pt x="771" y="2921"/>
                          </a:lnTo>
                          <a:lnTo>
                            <a:pt x="789" y="2969"/>
                          </a:lnTo>
                          <a:lnTo>
                            <a:pt x="793" y="3022"/>
                          </a:lnTo>
                          <a:lnTo>
                            <a:pt x="789" y="3062"/>
                          </a:lnTo>
                          <a:lnTo>
                            <a:pt x="825" y="3088"/>
                          </a:lnTo>
                          <a:lnTo>
                            <a:pt x="869" y="3137"/>
                          </a:lnTo>
                          <a:lnTo>
                            <a:pt x="913" y="3194"/>
                          </a:lnTo>
                          <a:lnTo>
                            <a:pt x="944" y="3269"/>
                          </a:lnTo>
                          <a:lnTo>
                            <a:pt x="966" y="3622"/>
                          </a:lnTo>
                          <a:lnTo>
                            <a:pt x="1134" y="3653"/>
                          </a:lnTo>
                          <a:lnTo>
                            <a:pt x="1363" y="3675"/>
                          </a:lnTo>
                          <a:lnTo>
                            <a:pt x="1588" y="3688"/>
                          </a:lnTo>
                          <a:lnTo>
                            <a:pt x="1870" y="3692"/>
                          </a:lnTo>
                          <a:lnTo>
                            <a:pt x="2152" y="3675"/>
                          </a:lnTo>
                          <a:lnTo>
                            <a:pt x="2417" y="3631"/>
                          </a:lnTo>
                          <a:lnTo>
                            <a:pt x="2625" y="3582"/>
                          </a:lnTo>
                          <a:lnTo>
                            <a:pt x="2881" y="3512"/>
                          </a:lnTo>
                          <a:lnTo>
                            <a:pt x="3084" y="3410"/>
                          </a:lnTo>
                          <a:lnTo>
                            <a:pt x="3260" y="3309"/>
                          </a:lnTo>
                          <a:lnTo>
                            <a:pt x="3251" y="3238"/>
                          </a:lnTo>
                          <a:lnTo>
                            <a:pt x="3234" y="3168"/>
                          </a:lnTo>
                          <a:lnTo>
                            <a:pt x="3199" y="3088"/>
                          </a:lnTo>
                          <a:lnTo>
                            <a:pt x="3137" y="3005"/>
                          </a:lnTo>
                          <a:lnTo>
                            <a:pt x="3084" y="2921"/>
                          </a:lnTo>
                          <a:lnTo>
                            <a:pt x="3005" y="2833"/>
                          </a:lnTo>
                          <a:lnTo>
                            <a:pt x="2982" y="2810"/>
                          </a:lnTo>
                          <a:lnTo>
                            <a:pt x="3018" y="2802"/>
                          </a:lnTo>
                          <a:lnTo>
                            <a:pt x="3053" y="2780"/>
                          </a:lnTo>
                          <a:lnTo>
                            <a:pt x="3062" y="2730"/>
                          </a:lnTo>
                          <a:lnTo>
                            <a:pt x="3040" y="2646"/>
                          </a:lnTo>
                          <a:lnTo>
                            <a:pt x="2982" y="2558"/>
                          </a:lnTo>
                          <a:lnTo>
                            <a:pt x="2841" y="2395"/>
                          </a:lnTo>
                          <a:lnTo>
                            <a:pt x="2810" y="2298"/>
                          </a:lnTo>
                          <a:lnTo>
                            <a:pt x="2788" y="2232"/>
                          </a:lnTo>
                          <a:lnTo>
                            <a:pt x="2784" y="2174"/>
                          </a:lnTo>
                          <a:lnTo>
                            <a:pt x="2806" y="2108"/>
                          </a:lnTo>
                          <a:lnTo>
                            <a:pt x="2833" y="2055"/>
                          </a:lnTo>
                          <a:lnTo>
                            <a:pt x="2912" y="2020"/>
                          </a:lnTo>
                          <a:lnTo>
                            <a:pt x="3027" y="1967"/>
                          </a:lnTo>
                          <a:lnTo>
                            <a:pt x="3141" y="1919"/>
                          </a:lnTo>
                          <a:lnTo>
                            <a:pt x="3238" y="1844"/>
                          </a:lnTo>
                          <a:close/>
                        </a:path>
                      </a:pathLst>
                    </a:custGeom>
                    <a:solidFill>
                      <a:srgbClr val="ef0c07"/>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51" name=""/>
                    <p:cNvGrpSpPr/>
                    <p:nvPr/>
                  </p:nvGrpSpPr>
                  <p:grpSpPr>
                    <a:xfrm>
                      <a:off x="720720" y="2203560"/>
                      <a:ext cx="1102320" cy="1281600"/>
                      <a:chOff x="720720" y="2203560"/>
                      <a:chExt cx="1102320" cy="1281600"/>
                    </a:xfrm>
                  </p:grpSpPr>
                  <p:sp>
                    <p:nvSpPr>
                      <p:cNvPr id="1052" name=""/>
                      <p:cNvSpPr/>
                      <p:nvPr/>
                    </p:nvSpPr>
                    <p:spPr>
                      <a:xfrm>
                        <a:off x="720720" y="2359080"/>
                        <a:ext cx="392400" cy="873360"/>
                      </a:xfrm>
                      <a:custGeom>
                        <a:avLst/>
                        <a:gdLst/>
                        <a:ahLst/>
                        <a:rect l="0" t="0" r="r" b="b"/>
                        <a:pathLst>
                          <a:path w="1090" h="2426">
                            <a:moveTo>
                              <a:pt x="35" y="26"/>
                            </a:moveTo>
                            <a:lnTo>
                              <a:pt x="92" y="13"/>
                            </a:lnTo>
                            <a:lnTo>
                              <a:pt x="158" y="0"/>
                            </a:lnTo>
                            <a:lnTo>
                              <a:pt x="229" y="0"/>
                            </a:lnTo>
                            <a:lnTo>
                              <a:pt x="295" y="22"/>
                            </a:lnTo>
                            <a:lnTo>
                              <a:pt x="361" y="74"/>
                            </a:lnTo>
                            <a:lnTo>
                              <a:pt x="423" y="145"/>
                            </a:lnTo>
                            <a:lnTo>
                              <a:pt x="480" y="229"/>
                            </a:lnTo>
                            <a:lnTo>
                              <a:pt x="533" y="330"/>
                            </a:lnTo>
                            <a:lnTo>
                              <a:pt x="583" y="423"/>
                            </a:lnTo>
                            <a:lnTo>
                              <a:pt x="644" y="537"/>
                            </a:lnTo>
                            <a:lnTo>
                              <a:pt x="706" y="643"/>
                            </a:lnTo>
                            <a:lnTo>
                              <a:pt x="799" y="762"/>
                            </a:lnTo>
                            <a:lnTo>
                              <a:pt x="900" y="859"/>
                            </a:lnTo>
                            <a:lnTo>
                              <a:pt x="975" y="934"/>
                            </a:lnTo>
                            <a:lnTo>
                              <a:pt x="1032" y="996"/>
                            </a:lnTo>
                            <a:lnTo>
                              <a:pt x="1072" y="1058"/>
                            </a:lnTo>
                            <a:lnTo>
                              <a:pt x="1090" y="1115"/>
                            </a:lnTo>
                            <a:lnTo>
                              <a:pt x="1076" y="1177"/>
                            </a:lnTo>
                            <a:lnTo>
                              <a:pt x="1046" y="1240"/>
                            </a:lnTo>
                            <a:lnTo>
                              <a:pt x="1015" y="1301"/>
                            </a:lnTo>
                            <a:lnTo>
                              <a:pt x="997" y="1447"/>
                            </a:lnTo>
                            <a:lnTo>
                              <a:pt x="993" y="1513"/>
                            </a:lnTo>
                            <a:lnTo>
                              <a:pt x="984" y="1610"/>
                            </a:lnTo>
                            <a:lnTo>
                              <a:pt x="953" y="1707"/>
                            </a:lnTo>
                            <a:lnTo>
                              <a:pt x="918" y="1813"/>
                            </a:lnTo>
                            <a:lnTo>
                              <a:pt x="869" y="1888"/>
                            </a:lnTo>
                            <a:lnTo>
                              <a:pt x="825" y="1976"/>
                            </a:lnTo>
                            <a:lnTo>
                              <a:pt x="794" y="2077"/>
                            </a:lnTo>
                            <a:lnTo>
                              <a:pt x="772" y="2166"/>
                            </a:lnTo>
                            <a:lnTo>
                              <a:pt x="763" y="2236"/>
                            </a:lnTo>
                            <a:lnTo>
                              <a:pt x="755" y="2320"/>
                            </a:lnTo>
                            <a:lnTo>
                              <a:pt x="768" y="2377"/>
                            </a:lnTo>
                            <a:lnTo>
                              <a:pt x="781" y="2426"/>
                            </a:lnTo>
                            <a:lnTo>
                              <a:pt x="750" y="2391"/>
                            </a:lnTo>
                            <a:lnTo>
                              <a:pt x="706" y="2333"/>
                            </a:lnTo>
                            <a:lnTo>
                              <a:pt x="671" y="2280"/>
                            </a:lnTo>
                            <a:lnTo>
                              <a:pt x="644" y="2214"/>
                            </a:lnTo>
                            <a:lnTo>
                              <a:pt x="618" y="2113"/>
                            </a:lnTo>
                            <a:lnTo>
                              <a:pt x="596" y="2038"/>
                            </a:lnTo>
                            <a:lnTo>
                              <a:pt x="578" y="1963"/>
                            </a:lnTo>
                            <a:lnTo>
                              <a:pt x="569" y="1879"/>
                            </a:lnTo>
                            <a:lnTo>
                              <a:pt x="565" y="1813"/>
                            </a:lnTo>
                            <a:lnTo>
                              <a:pt x="515" y="1795"/>
                            </a:lnTo>
                            <a:lnTo>
                              <a:pt x="449" y="1782"/>
                            </a:lnTo>
                            <a:lnTo>
                              <a:pt x="370" y="1769"/>
                            </a:lnTo>
                            <a:lnTo>
                              <a:pt x="304" y="1751"/>
                            </a:lnTo>
                            <a:lnTo>
                              <a:pt x="238" y="1742"/>
                            </a:lnTo>
                            <a:lnTo>
                              <a:pt x="189" y="1742"/>
                            </a:lnTo>
                            <a:lnTo>
                              <a:pt x="163" y="1694"/>
                            </a:lnTo>
                            <a:lnTo>
                              <a:pt x="136" y="1623"/>
                            </a:lnTo>
                            <a:lnTo>
                              <a:pt x="123" y="1531"/>
                            </a:lnTo>
                            <a:lnTo>
                              <a:pt x="114" y="1416"/>
                            </a:lnTo>
                            <a:lnTo>
                              <a:pt x="105" y="1315"/>
                            </a:lnTo>
                            <a:lnTo>
                              <a:pt x="79" y="1226"/>
                            </a:lnTo>
                            <a:lnTo>
                              <a:pt x="57" y="1155"/>
                            </a:lnTo>
                            <a:lnTo>
                              <a:pt x="0" y="1084"/>
                            </a:lnTo>
                            <a:lnTo>
                              <a:pt x="26" y="912"/>
                            </a:lnTo>
                            <a:lnTo>
                              <a:pt x="26" y="718"/>
                            </a:lnTo>
                            <a:lnTo>
                              <a:pt x="26" y="520"/>
                            </a:lnTo>
                            <a:lnTo>
                              <a:pt x="26" y="339"/>
                            </a:lnTo>
                            <a:lnTo>
                              <a:pt x="26" y="167"/>
                            </a:lnTo>
                            <a:lnTo>
                              <a:pt x="35" y="2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3" name=""/>
                      <p:cNvSpPr/>
                      <p:nvPr/>
                    </p:nvSpPr>
                    <p:spPr>
                      <a:xfrm>
                        <a:off x="1459080" y="2243160"/>
                        <a:ext cx="268560" cy="346320"/>
                      </a:xfrm>
                      <a:custGeom>
                        <a:avLst/>
                        <a:gdLst/>
                        <a:ahLst/>
                        <a:rect l="0" t="0" r="r" b="b"/>
                        <a:pathLst>
                          <a:path w="746" h="962">
                            <a:moveTo>
                              <a:pt x="547" y="229"/>
                            </a:moveTo>
                            <a:lnTo>
                              <a:pt x="402" y="127"/>
                            </a:lnTo>
                            <a:lnTo>
                              <a:pt x="321" y="97"/>
                            </a:lnTo>
                            <a:lnTo>
                              <a:pt x="251" y="70"/>
                            </a:lnTo>
                            <a:lnTo>
                              <a:pt x="189" y="44"/>
                            </a:lnTo>
                            <a:lnTo>
                              <a:pt x="123" y="22"/>
                            </a:lnTo>
                            <a:lnTo>
                              <a:pt x="0" y="0"/>
                            </a:lnTo>
                            <a:lnTo>
                              <a:pt x="39" y="52"/>
                            </a:lnTo>
                            <a:lnTo>
                              <a:pt x="97" y="119"/>
                            </a:lnTo>
                            <a:lnTo>
                              <a:pt x="114" y="189"/>
                            </a:lnTo>
                            <a:lnTo>
                              <a:pt x="127" y="268"/>
                            </a:lnTo>
                            <a:lnTo>
                              <a:pt x="123" y="370"/>
                            </a:lnTo>
                            <a:lnTo>
                              <a:pt x="145" y="454"/>
                            </a:lnTo>
                            <a:lnTo>
                              <a:pt x="176" y="525"/>
                            </a:lnTo>
                            <a:lnTo>
                              <a:pt x="216" y="578"/>
                            </a:lnTo>
                            <a:lnTo>
                              <a:pt x="251" y="622"/>
                            </a:lnTo>
                            <a:lnTo>
                              <a:pt x="291" y="649"/>
                            </a:lnTo>
                            <a:lnTo>
                              <a:pt x="348" y="693"/>
                            </a:lnTo>
                            <a:lnTo>
                              <a:pt x="746" y="962"/>
                            </a:lnTo>
                            <a:lnTo>
                              <a:pt x="547" y="229"/>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4" name=""/>
                      <p:cNvSpPr/>
                      <p:nvPr/>
                    </p:nvSpPr>
                    <p:spPr>
                      <a:xfrm>
                        <a:off x="1230480" y="3160800"/>
                        <a:ext cx="351360" cy="111600"/>
                      </a:xfrm>
                      <a:custGeom>
                        <a:avLst/>
                        <a:gdLst/>
                        <a:ahLst/>
                        <a:rect l="0" t="0" r="r" b="b"/>
                        <a:pathLst>
                          <a:path w="976" h="310">
                            <a:moveTo>
                              <a:pt x="976" y="225"/>
                            </a:moveTo>
                            <a:lnTo>
                              <a:pt x="950" y="262"/>
                            </a:lnTo>
                            <a:lnTo>
                              <a:pt x="905" y="288"/>
                            </a:lnTo>
                            <a:lnTo>
                              <a:pt x="853" y="301"/>
                            </a:lnTo>
                            <a:lnTo>
                              <a:pt x="800" y="310"/>
                            </a:lnTo>
                            <a:lnTo>
                              <a:pt x="751" y="301"/>
                            </a:lnTo>
                            <a:lnTo>
                              <a:pt x="715" y="275"/>
                            </a:lnTo>
                            <a:lnTo>
                              <a:pt x="640" y="262"/>
                            </a:lnTo>
                            <a:lnTo>
                              <a:pt x="538" y="240"/>
                            </a:lnTo>
                            <a:lnTo>
                              <a:pt x="389" y="221"/>
                            </a:lnTo>
                            <a:lnTo>
                              <a:pt x="283" y="195"/>
                            </a:lnTo>
                            <a:lnTo>
                              <a:pt x="198" y="177"/>
                            </a:lnTo>
                            <a:lnTo>
                              <a:pt x="136" y="155"/>
                            </a:lnTo>
                            <a:lnTo>
                              <a:pt x="83" y="124"/>
                            </a:lnTo>
                            <a:lnTo>
                              <a:pt x="39" y="93"/>
                            </a:lnTo>
                            <a:lnTo>
                              <a:pt x="4" y="35"/>
                            </a:lnTo>
                            <a:lnTo>
                              <a:pt x="0" y="8"/>
                            </a:lnTo>
                            <a:lnTo>
                              <a:pt x="35" y="0"/>
                            </a:lnTo>
                            <a:lnTo>
                              <a:pt x="61" y="8"/>
                            </a:lnTo>
                            <a:lnTo>
                              <a:pt x="97" y="35"/>
                            </a:lnTo>
                            <a:lnTo>
                              <a:pt x="145" y="70"/>
                            </a:lnTo>
                            <a:lnTo>
                              <a:pt x="189" y="80"/>
                            </a:lnTo>
                            <a:lnTo>
                              <a:pt x="247" y="74"/>
                            </a:lnTo>
                            <a:lnTo>
                              <a:pt x="309" y="61"/>
                            </a:lnTo>
                            <a:lnTo>
                              <a:pt x="362" y="61"/>
                            </a:lnTo>
                            <a:lnTo>
                              <a:pt x="428" y="74"/>
                            </a:lnTo>
                            <a:lnTo>
                              <a:pt x="464" y="102"/>
                            </a:lnTo>
                            <a:lnTo>
                              <a:pt x="516" y="133"/>
                            </a:lnTo>
                            <a:lnTo>
                              <a:pt x="583" y="164"/>
                            </a:lnTo>
                            <a:lnTo>
                              <a:pt x="658" y="172"/>
                            </a:lnTo>
                            <a:lnTo>
                              <a:pt x="764" y="181"/>
                            </a:lnTo>
                            <a:lnTo>
                              <a:pt x="839" y="177"/>
                            </a:lnTo>
                            <a:lnTo>
                              <a:pt x="883" y="203"/>
                            </a:lnTo>
                            <a:lnTo>
                              <a:pt x="932" y="221"/>
                            </a:lnTo>
                            <a:lnTo>
                              <a:pt x="976" y="225"/>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5" name=""/>
                      <p:cNvSpPr/>
                      <p:nvPr/>
                    </p:nvSpPr>
                    <p:spPr>
                      <a:xfrm>
                        <a:off x="1192320" y="2700360"/>
                        <a:ext cx="630720" cy="503640"/>
                      </a:xfrm>
                      <a:custGeom>
                        <a:avLst/>
                        <a:gdLst/>
                        <a:ahLst/>
                        <a:rect l="0" t="0" r="r" b="b"/>
                        <a:pathLst>
                          <a:path w="1752" h="1399">
                            <a:moveTo>
                              <a:pt x="1187" y="0"/>
                            </a:moveTo>
                            <a:lnTo>
                              <a:pt x="1173" y="57"/>
                            </a:lnTo>
                            <a:lnTo>
                              <a:pt x="1160" y="132"/>
                            </a:lnTo>
                            <a:lnTo>
                              <a:pt x="1156" y="220"/>
                            </a:lnTo>
                            <a:lnTo>
                              <a:pt x="1165" y="313"/>
                            </a:lnTo>
                            <a:lnTo>
                              <a:pt x="1187" y="402"/>
                            </a:lnTo>
                            <a:lnTo>
                              <a:pt x="1235" y="534"/>
                            </a:lnTo>
                            <a:lnTo>
                              <a:pt x="1279" y="640"/>
                            </a:lnTo>
                            <a:lnTo>
                              <a:pt x="1316" y="728"/>
                            </a:lnTo>
                            <a:lnTo>
                              <a:pt x="1333" y="807"/>
                            </a:lnTo>
                            <a:lnTo>
                              <a:pt x="1351" y="882"/>
                            </a:lnTo>
                            <a:lnTo>
                              <a:pt x="1351" y="944"/>
                            </a:lnTo>
                            <a:lnTo>
                              <a:pt x="1338" y="993"/>
                            </a:lnTo>
                            <a:lnTo>
                              <a:pt x="1316" y="1037"/>
                            </a:lnTo>
                            <a:lnTo>
                              <a:pt x="1284" y="1015"/>
                            </a:lnTo>
                            <a:lnTo>
                              <a:pt x="1257" y="1002"/>
                            </a:lnTo>
                            <a:lnTo>
                              <a:pt x="1240" y="953"/>
                            </a:lnTo>
                            <a:lnTo>
                              <a:pt x="1213" y="904"/>
                            </a:lnTo>
                            <a:lnTo>
                              <a:pt x="1187" y="865"/>
                            </a:lnTo>
                            <a:lnTo>
                              <a:pt x="1138" y="812"/>
                            </a:lnTo>
                            <a:lnTo>
                              <a:pt x="1107" y="772"/>
                            </a:lnTo>
                            <a:lnTo>
                              <a:pt x="1090" y="715"/>
                            </a:lnTo>
                            <a:lnTo>
                              <a:pt x="1085" y="662"/>
                            </a:lnTo>
                            <a:lnTo>
                              <a:pt x="1090" y="600"/>
                            </a:lnTo>
                            <a:lnTo>
                              <a:pt x="1076" y="569"/>
                            </a:lnTo>
                            <a:lnTo>
                              <a:pt x="1046" y="600"/>
                            </a:lnTo>
                            <a:lnTo>
                              <a:pt x="1019" y="649"/>
                            </a:lnTo>
                            <a:lnTo>
                              <a:pt x="1002" y="706"/>
                            </a:lnTo>
                            <a:lnTo>
                              <a:pt x="993" y="772"/>
                            </a:lnTo>
                            <a:lnTo>
                              <a:pt x="1002" y="847"/>
                            </a:lnTo>
                            <a:lnTo>
                              <a:pt x="1019" y="940"/>
                            </a:lnTo>
                            <a:lnTo>
                              <a:pt x="1037" y="993"/>
                            </a:lnTo>
                            <a:lnTo>
                              <a:pt x="1037" y="1037"/>
                            </a:lnTo>
                            <a:lnTo>
                              <a:pt x="1019" y="1073"/>
                            </a:lnTo>
                            <a:lnTo>
                              <a:pt x="984" y="1091"/>
                            </a:lnTo>
                            <a:lnTo>
                              <a:pt x="931" y="1100"/>
                            </a:lnTo>
                            <a:lnTo>
                              <a:pt x="882" y="1086"/>
                            </a:lnTo>
                            <a:lnTo>
                              <a:pt x="856" y="1060"/>
                            </a:lnTo>
                            <a:lnTo>
                              <a:pt x="772" y="975"/>
                            </a:lnTo>
                            <a:lnTo>
                              <a:pt x="724" y="913"/>
                            </a:lnTo>
                            <a:lnTo>
                              <a:pt x="684" y="852"/>
                            </a:lnTo>
                            <a:lnTo>
                              <a:pt x="627" y="781"/>
                            </a:lnTo>
                            <a:lnTo>
                              <a:pt x="552" y="688"/>
                            </a:lnTo>
                            <a:lnTo>
                              <a:pt x="472" y="591"/>
                            </a:lnTo>
                            <a:lnTo>
                              <a:pt x="401" y="508"/>
                            </a:lnTo>
                            <a:lnTo>
                              <a:pt x="321" y="437"/>
                            </a:lnTo>
                            <a:lnTo>
                              <a:pt x="277" y="415"/>
                            </a:lnTo>
                            <a:lnTo>
                              <a:pt x="229" y="397"/>
                            </a:lnTo>
                            <a:lnTo>
                              <a:pt x="176" y="389"/>
                            </a:lnTo>
                            <a:lnTo>
                              <a:pt x="97" y="393"/>
                            </a:lnTo>
                            <a:lnTo>
                              <a:pt x="44" y="402"/>
                            </a:lnTo>
                            <a:lnTo>
                              <a:pt x="0" y="415"/>
                            </a:lnTo>
                            <a:lnTo>
                              <a:pt x="405" y="1108"/>
                            </a:lnTo>
                            <a:lnTo>
                              <a:pt x="966" y="1399"/>
                            </a:lnTo>
                            <a:lnTo>
                              <a:pt x="1085" y="1360"/>
                            </a:lnTo>
                            <a:lnTo>
                              <a:pt x="1187" y="1333"/>
                            </a:lnTo>
                            <a:lnTo>
                              <a:pt x="1279" y="1302"/>
                            </a:lnTo>
                            <a:lnTo>
                              <a:pt x="1373" y="1280"/>
                            </a:lnTo>
                            <a:lnTo>
                              <a:pt x="1479" y="1254"/>
                            </a:lnTo>
                            <a:lnTo>
                              <a:pt x="1554" y="1245"/>
                            </a:lnTo>
                            <a:lnTo>
                              <a:pt x="1629" y="1263"/>
                            </a:lnTo>
                            <a:lnTo>
                              <a:pt x="1677" y="1280"/>
                            </a:lnTo>
                            <a:lnTo>
                              <a:pt x="1721" y="1316"/>
                            </a:lnTo>
                            <a:lnTo>
                              <a:pt x="1743" y="1333"/>
                            </a:lnTo>
                            <a:lnTo>
                              <a:pt x="1748" y="1307"/>
                            </a:lnTo>
                            <a:lnTo>
                              <a:pt x="1752" y="1276"/>
                            </a:lnTo>
                            <a:lnTo>
                              <a:pt x="1752" y="1236"/>
                            </a:lnTo>
                            <a:lnTo>
                              <a:pt x="1730" y="1192"/>
                            </a:lnTo>
                            <a:lnTo>
                              <a:pt x="1699" y="1139"/>
                            </a:lnTo>
                            <a:lnTo>
                              <a:pt x="1655" y="1086"/>
                            </a:lnTo>
                            <a:lnTo>
                              <a:pt x="1620" y="1037"/>
                            </a:lnTo>
                            <a:lnTo>
                              <a:pt x="1576" y="988"/>
                            </a:lnTo>
                            <a:lnTo>
                              <a:pt x="1532" y="940"/>
                            </a:lnTo>
                            <a:lnTo>
                              <a:pt x="1501" y="882"/>
                            </a:lnTo>
                            <a:lnTo>
                              <a:pt x="1470" y="834"/>
                            </a:lnTo>
                            <a:lnTo>
                              <a:pt x="1430" y="772"/>
                            </a:lnTo>
                            <a:lnTo>
                              <a:pt x="1386" y="715"/>
                            </a:lnTo>
                            <a:lnTo>
                              <a:pt x="1346" y="658"/>
                            </a:lnTo>
                            <a:lnTo>
                              <a:pt x="1306" y="587"/>
                            </a:lnTo>
                            <a:lnTo>
                              <a:pt x="1279" y="512"/>
                            </a:lnTo>
                            <a:lnTo>
                              <a:pt x="1253" y="441"/>
                            </a:lnTo>
                            <a:lnTo>
                              <a:pt x="1226" y="367"/>
                            </a:lnTo>
                            <a:lnTo>
                              <a:pt x="1213" y="291"/>
                            </a:lnTo>
                            <a:lnTo>
                              <a:pt x="1209" y="216"/>
                            </a:lnTo>
                            <a:lnTo>
                              <a:pt x="1209" y="145"/>
                            </a:lnTo>
                            <a:lnTo>
                              <a:pt x="1187"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6" name=""/>
                      <p:cNvSpPr/>
                      <p:nvPr/>
                    </p:nvSpPr>
                    <p:spPr>
                      <a:xfrm>
                        <a:off x="1154160" y="2838600"/>
                        <a:ext cx="475200" cy="403560"/>
                      </a:xfrm>
                      <a:custGeom>
                        <a:avLst/>
                        <a:gdLst/>
                        <a:ahLst/>
                        <a:rect l="0" t="0" r="r" b="b"/>
                        <a:pathLst>
                          <a:path w="1320" h="1121">
                            <a:moveTo>
                              <a:pt x="1126" y="1116"/>
                            </a:moveTo>
                            <a:lnTo>
                              <a:pt x="1183" y="1121"/>
                            </a:lnTo>
                            <a:lnTo>
                              <a:pt x="1236" y="1116"/>
                            </a:lnTo>
                            <a:lnTo>
                              <a:pt x="1280" y="1107"/>
                            </a:lnTo>
                            <a:lnTo>
                              <a:pt x="1311" y="1076"/>
                            </a:lnTo>
                            <a:lnTo>
                              <a:pt x="1320" y="1041"/>
                            </a:lnTo>
                            <a:lnTo>
                              <a:pt x="1316" y="997"/>
                            </a:lnTo>
                            <a:lnTo>
                              <a:pt x="1294" y="949"/>
                            </a:lnTo>
                            <a:lnTo>
                              <a:pt x="1258" y="922"/>
                            </a:lnTo>
                            <a:lnTo>
                              <a:pt x="1197" y="904"/>
                            </a:lnTo>
                            <a:lnTo>
                              <a:pt x="1135" y="909"/>
                            </a:lnTo>
                            <a:lnTo>
                              <a:pt x="1064" y="896"/>
                            </a:lnTo>
                            <a:lnTo>
                              <a:pt x="1011" y="860"/>
                            </a:lnTo>
                            <a:lnTo>
                              <a:pt x="966" y="812"/>
                            </a:lnTo>
                            <a:lnTo>
                              <a:pt x="891" y="772"/>
                            </a:lnTo>
                            <a:lnTo>
                              <a:pt x="830" y="728"/>
                            </a:lnTo>
                            <a:lnTo>
                              <a:pt x="763" y="702"/>
                            </a:lnTo>
                            <a:lnTo>
                              <a:pt x="697" y="680"/>
                            </a:lnTo>
                            <a:lnTo>
                              <a:pt x="622" y="640"/>
                            </a:lnTo>
                            <a:lnTo>
                              <a:pt x="569" y="605"/>
                            </a:lnTo>
                            <a:lnTo>
                              <a:pt x="521" y="533"/>
                            </a:lnTo>
                            <a:lnTo>
                              <a:pt x="472" y="463"/>
                            </a:lnTo>
                            <a:lnTo>
                              <a:pt x="411" y="361"/>
                            </a:lnTo>
                            <a:lnTo>
                              <a:pt x="340" y="264"/>
                            </a:lnTo>
                            <a:lnTo>
                              <a:pt x="277" y="180"/>
                            </a:lnTo>
                            <a:lnTo>
                              <a:pt x="216" y="123"/>
                            </a:lnTo>
                            <a:lnTo>
                              <a:pt x="163" y="74"/>
                            </a:lnTo>
                            <a:lnTo>
                              <a:pt x="105" y="26"/>
                            </a:lnTo>
                            <a:lnTo>
                              <a:pt x="52" y="4"/>
                            </a:lnTo>
                            <a:lnTo>
                              <a:pt x="0" y="0"/>
                            </a:lnTo>
                            <a:lnTo>
                              <a:pt x="35" y="35"/>
                            </a:lnTo>
                            <a:lnTo>
                              <a:pt x="57" y="79"/>
                            </a:lnTo>
                            <a:lnTo>
                              <a:pt x="79" y="158"/>
                            </a:lnTo>
                            <a:lnTo>
                              <a:pt x="88" y="229"/>
                            </a:lnTo>
                            <a:lnTo>
                              <a:pt x="92" y="299"/>
                            </a:lnTo>
                            <a:lnTo>
                              <a:pt x="79" y="370"/>
                            </a:lnTo>
                            <a:lnTo>
                              <a:pt x="57" y="440"/>
                            </a:lnTo>
                            <a:lnTo>
                              <a:pt x="30" y="515"/>
                            </a:lnTo>
                            <a:lnTo>
                              <a:pt x="52" y="555"/>
                            </a:lnTo>
                            <a:lnTo>
                              <a:pt x="79" y="587"/>
                            </a:lnTo>
                            <a:lnTo>
                              <a:pt x="123" y="627"/>
                            </a:lnTo>
                            <a:lnTo>
                              <a:pt x="180" y="653"/>
                            </a:lnTo>
                            <a:lnTo>
                              <a:pt x="246" y="666"/>
                            </a:lnTo>
                            <a:lnTo>
                              <a:pt x="308" y="666"/>
                            </a:lnTo>
                            <a:lnTo>
                              <a:pt x="362" y="662"/>
                            </a:lnTo>
                            <a:lnTo>
                              <a:pt x="380" y="688"/>
                            </a:lnTo>
                            <a:lnTo>
                              <a:pt x="384" y="724"/>
                            </a:lnTo>
                            <a:lnTo>
                              <a:pt x="362" y="759"/>
                            </a:lnTo>
                            <a:lnTo>
                              <a:pt x="349" y="807"/>
                            </a:lnTo>
                            <a:lnTo>
                              <a:pt x="349" y="852"/>
                            </a:lnTo>
                            <a:lnTo>
                              <a:pt x="375" y="896"/>
                            </a:lnTo>
                            <a:lnTo>
                              <a:pt x="411" y="918"/>
                            </a:lnTo>
                            <a:lnTo>
                              <a:pt x="450" y="904"/>
                            </a:lnTo>
                            <a:lnTo>
                              <a:pt x="494" y="918"/>
                            </a:lnTo>
                            <a:lnTo>
                              <a:pt x="534" y="944"/>
                            </a:lnTo>
                            <a:lnTo>
                              <a:pt x="596" y="971"/>
                            </a:lnTo>
                            <a:lnTo>
                              <a:pt x="666" y="988"/>
                            </a:lnTo>
                            <a:lnTo>
                              <a:pt x="750" y="1002"/>
                            </a:lnTo>
                            <a:lnTo>
                              <a:pt x="816" y="1010"/>
                            </a:lnTo>
                            <a:lnTo>
                              <a:pt x="878" y="1002"/>
                            </a:lnTo>
                            <a:lnTo>
                              <a:pt x="962" y="1015"/>
                            </a:lnTo>
                            <a:lnTo>
                              <a:pt x="998" y="1041"/>
                            </a:lnTo>
                            <a:lnTo>
                              <a:pt x="1069" y="1085"/>
                            </a:lnTo>
                            <a:lnTo>
                              <a:pt x="1126" y="111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7" name=""/>
                      <p:cNvSpPr/>
                      <p:nvPr/>
                    </p:nvSpPr>
                    <p:spPr>
                      <a:xfrm>
                        <a:off x="1668600" y="3137040"/>
                        <a:ext cx="143280" cy="52920"/>
                      </a:xfrm>
                      <a:custGeom>
                        <a:avLst/>
                        <a:gdLst/>
                        <a:ahLst/>
                        <a:rect l="0" t="0" r="r" b="b"/>
                        <a:pathLst>
                          <a:path w="398" h="147">
                            <a:moveTo>
                              <a:pt x="398" y="93"/>
                            </a:moveTo>
                            <a:lnTo>
                              <a:pt x="385" y="49"/>
                            </a:lnTo>
                            <a:lnTo>
                              <a:pt x="359" y="22"/>
                            </a:lnTo>
                            <a:lnTo>
                              <a:pt x="319" y="4"/>
                            </a:lnTo>
                            <a:lnTo>
                              <a:pt x="274" y="0"/>
                            </a:lnTo>
                            <a:lnTo>
                              <a:pt x="221" y="13"/>
                            </a:lnTo>
                            <a:lnTo>
                              <a:pt x="146" y="30"/>
                            </a:lnTo>
                            <a:lnTo>
                              <a:pt x="83" y="49"/>
                            </a:lnTo>
                            <a:lnTo>
                              <a:pt x="0" y="71"/>
                            </a:lnTo>
                            <a:lnTo>
                              <a:pt x="102" y="89"/>
                            </a:lnTo>
                            <a:lnTo>
                              <a:pt x="159" y="112"/>
                            </a:lnTo>
                            <a:lnTo>
                              <a:pt x="221" y="129"/>
                            </a:lnTo>
                            <a:lnTo>
                              <a:pt x="261" y="143"/>
                            </a:lnTo>
                            <a:lnTo>
                              <a:pt x="319" y="147"/>
                            </a:lnTo>
                            <a:lnTo>
                              <a:pt x="354" y="143"/>
                            </a:lnTo>
                            <a:lnTo>
                              <a:pt x="385" y="121"/>
                            </a:lnTo>
                            <a:lnTo>
                              <a:pt x="398" y="93"/>
                            </a:lnTo>
                            <a:close/>
                          </a:path>
                        </a:pathLst>
                      </a:custGeom>
                      <a:solidFill>
                        <a:srgbClr val="99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058" name=""/>
                      <p:cNvSpPr/>
                      <p:nvPr/>
                    </p:nvSpPr>
                    <p:spPr>
                      <a:xfrm>
                        <a:off x="1492200" y="2703600"/>
                        <a:ext cx="179640" cy="370080"/>
                      </a:xfrm>
                      <a:custGeom>
                        <a:avLst/>
                        <a:gdLst/>
                        <a:ahLst/>
                        <a:rect l="0" t="0" r="r" b="b"/>
                        <a:pathLst>
                          <a:path w="499" h="1028">
                            <a:moveTo>
                              <a:pt x="283" y="0"/>
                            </a:moveTo>
                            <a:lnTo>
                              <a:pt x="296" y="141"/>
                            </a:lnTo>
                            <a:lnTo>
                              <a:pt x="309" y="291"/>
                            </a:lnTo>
                            <a:lnTo>
                              <a:pt x="344" y="427"/>
                            </a:lnTo>
                            <a:lnTo>
                              <a:pt x="375" y="502"/>
                            </a:lnTo>
                            <a:lnTo>
                              <a:pt x="402" y="578"/>
                            </a:lnTo>
                            <a:lnTo>
                              <a:pt x="433" y="644"/>
                            </a:lnTo>
                            <a:lnTo>
                              <a:pt x="455" y="702"/>
                            </a:lnTo>
                            <a:lnTo>
                              <a:pt x="490" y="799"/>
                            </a:lnTo>
                            <a:lnTo>
                              <a:pt x="499" y="865"/>
                            </a:lnTo>
                            <a:lnTo>
                              <a:pt x="499" y="944"/>
                            </a:lnTo>
                            <a:lnTo>
                              <a:pt x="494" y="988"/>
                            </a:lnTo>
                            <a:lnTo>
                              <a:pt x="481" y="1028"/>
                            </a:lnTo>
                            <a:lnTo>
                              <a:pt x="455" y="1010"/>
                            </a:lnTo>
                            <a:lnTo>
                              <a:pt x="433" y="993"/>
                            </a:lnTo>
                            <a:lnTo>
                              <a:pt x="402" y="1028"/>
                            </a:lnTo>
                            <a:lnTo>
                              <a:pt x="419" y="988"/>
                            </a:lnTo>
                            <a:lnTo>
                              <a:pt x="415" y="953"/>
                            </a:lnTo>
                            <a:lnTo>
                              <a:pt x="393" y="904"/>
                            </a:lnTo>
                            <a:lnTo>
                              <a:pt x="367" y="865"/>
                            </a:lnTo>
                            <a:lnTo>
                              <a:pt x="327" y="821"/>
                            </a:lnTo>
                            <a:lnTo>
                              <a:pt x="296" y="794"/>
                            </a:lnTo>
                            <a:lnTo>
                              <a:pt x="274" y="763"/>
                            </a:lnTo>
                            <a:lnTo>
                              <a:pt x="256" y="706"/>
                            </a:lnTo>
                            <a:lnTo>
                              <a:pt x="246" y="640"/>
                            </a:lnTo>
                            <a:lnTo>
                              <a:pt x="252" y="591"/>
                            </a:lnTo>
                            <a:lnTo>
                              <a:pt x="229" y="547"/>
                            </a:lnTo>
                            <a:lnTo>
                              <a:pt x="185" y="521"/>
                            </a:lnTo>
                            <a:lnTo>
                              <a:pt x="136" y="498"/>
                            </a:lnTo>
                            <a:lnTo>
                              <a:pt x="101" y="485"/>
                            </a:lnTo>
                            <a:lnTo>
                              <a:pt x="57" y="476"/>
                            </a:lnTo>
                            <a:lnTo>
                              <a:pt x="22" y="454"/>
                            </a:lnTo>
                            <a:lnTo>
                              <a:pt x="0" y="436"/>
                            </a:lnTo>
                            <a:lnTo>
                              <a:pt x="35" y="432"/>
                            </a:lnTo>
                            <a:lnTo>
                              <a:pt x="74" y="427"/>
                            </a:lnTo>
                            <a:lnTo>
                              <a:pt x="110" y="414"/>
                            </a:lnTo>
                            <a:lnTo>
                              <a:pt x="149" y="392"/>
                            </a:lnTo>
                            <a:lnTo>
                              <a:pt x="180" y="374"/>
                            </a:lnTo>
                            <a:lnTo>
                              <a:pt x="202" y="313"/>
                            </a:lnTo>
                            <a:lnTo>
                              <a:pt x="211" y="220"/>
                            </a:lnTo>
                            <a:lnTo>
                              <a:pt x="229" y="119"/>
                            </a:lnTo>
                            <a:lnTo>
                              <a:pt x="283"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9" name=""/>
                      <p:cNvSpPr/>
                      <p:nvPr/>
                    </p:nvSpPr>
                    <p:spPr>
                      <a:xfrm>
                        <a:off x="1714680" y="2832120"/>
                        <a:ext cx="38520" cy="206640"/>
                      </a:xfrm>
                      <a:custGeom>
                        <a:avLst/>
                        <a:gdLst/>
                        <a:ahLst/>
                        <a:rect l="0" t="0" r="r" b="b"/>
                        <a:pathLst>
                          <a:path w="107" h="574">
                            <a:moveTo>
                              <a:pt x="45" y="362"/>
                            </a:moveTo>
                            <a:lnTo>
                              <a:pt x="31" y="419"/>
                            </a:lnTo>
                            <a:lnTo>
                              <a:pt x="49" y="468"/>
                            </a:lnTo>
                            <a:lnTo>
                              <a:pt x="62" y="512"/>
                            </a:lnTo>
                            <a:lnTo>
                              <a:pt x="81" y="574"/>
                            </a:lnTo>
                            <a:lnTo>
                              <a:pt x="53" y="534"/>
                            </a:lnTo>
                            <a:lnTo>
                              <a:pt x="26" y="486"/>
                            </a:lnTo>
                            <a:lnTo>
                              <a:pt x="0" y="433"/>
                            </a:lnTo>
                            <a:lnTo>
                              <a:pt x="0" y="371"/>
                            </a:lnTo>
                            <a:lnTo>
                              <a:pt x="36" y="309"/>
                            </a:lnTo>
                            <a:lnTo>
                              <a:pt x="75" y="224"/>
                            </a:lnTo>
                            <a:lnTo>
                              <a:pt x="75" y="171"/>
                            </a:lnTo>
                            <a:lnTo>
                              <a:pt x="62" y="97"/>
                            </a:lnTo>
                            <a:lnTo>
                              <a:pt x="31" y="0"/>
                            </a:lnTo>
                            <a:lnTo>
                              <a:pt x="75" y="57"/>
                            </a:lnTo>
                            <a:lnTo>
                              <a:pt x="103" y="119"/>
                            </a:lnTo>
                            <a:lnTo>
                              <a:pt x="107" y="211"/>
                            </a:lnTo>
                            <a:lnTo>
                              <a:pt x="94" y="282"/>
                            </a:lnTo>
                            <a:lnTo>
                              <a:pt x="45" y="362"/>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0" name=""/>
                      <p:cNvSpPr/>
                      <p:nvPr/>
                    </p:nvSpPr>
                    <p:spPr>
                      <a:xfrm>
                        <a:off x="1562040" y="2475000"/>
                        <a:ext cx="168480" cy="536760"/>
                      </a:xfrm>
                      <a:custGeom>
                        <a:avLst/>
                        <a:gdLst/>
                        <a:ahLst/>
                        <a:rect l="0" t="0" r="r" b="b"/>
                        <a:pathLst>
                          <a:path w="468" h="1491">
                            <a:moveTo>
                              <a:pt x="468" y="1491"/>
                            </a:moveTo>
                            <a:lnTo>
                              <a:pt x="441" y="1460"/>
                            </a:lnTo>
                            <a:lnTo>
                              <a:pt x="362" y="1354"/>
                            </a:lnTo>
                            <a:lnTo>
                              <a:pt x="300" y="1253"/>
                            </a:lnTo>
                            <a:lnTo>
                              <a:pt x="239" y="1121"/>
                            </a:lnTo>
                            <a:lnTo>
                              <a:pt x="198" y="993"/>
                            </a:lnTo>
                            <a:lnTo>
                              <a:pt x="180" y="891"/>
                            </a:lnTo>
                            <a:lnTo>
                              <a:pt x="171" y="746"/>
                            </a:lnTo>
                            <a:lnTo>
                              <a:pt x="158" y="617"/>
                            </a:lnTo>
                            <a:lnTo>
                              <a:pt x="211" y="643"/>
                            </a:lnTo>
                            <a:lnTo>
                              <a:pt x="278" y="687"/>
                            </a:lnTo>
                            <a:lnTo>
                              <a:pt x="331" y="746"/>
                            </a:lnTo>
                            <a:lnTo>
                              <a:pt x="336" y="687"/>
                            </a:lnTo>
                            <a:lnTo>
                              <a:pt x="327" y="612"/>
                            </a:lnTo>
                            <a:lnTo>
                              <a:pt x="305" y="555"/>
                            </a:lnTo>
                            <a:lnTo>
                              <a:pt x="269" y="485"/>
                            </a:lnTo>
                            <a:lnTo>
                              <a:pt x="224" y="414"/>
                            </a:lnTo>
                            <a:lnTo>
                              <a:pt x="180" y="348"/>
                            </a:lnTo>
                            <a:lnTo>
                              <a:pt x="145" y="282"/>
                            </a:lnTo>
                            <a:lnTo>
                              <a:pt x="105" y="207"/>
                            </a:lnTo>
                            <a:lnTo>
                              <a:pt x="83" y="149"/>
                            </a:lnTo>
                            <a:lnTo>
                              <a:pt x="52" y="79"/>
                            </a:lnTo>
                            <a:lnTo>
                              <a:pt x="30" y="39"/>
                            </a:lnTo>
                            <a:lnTo>
                              <a:pt x="0" y="0"/>
                            </a:lnTo>
                            <a:lnTo>
                              <a:pt x="52" y="26"/>
                            </a:lnTo>
                            <a:lnTo>
                              <a:pt x="105" y="52"/>
                            </a:lnTo>
                            <a:lnTo>
                              <a:pt x="171" y="101"/>
                            </a:lnTo>
                            <a:lnTo>
                              <a:pt x="211" y="145"/>
                            </a:lnTo>
                            <a:lnTo>
                              <a:pt x="252" y="180"/>
                            </a:lnTo>
                            <a:lnTo>
                              <a:pt x="300" y="321"/>
                            </a:lnTo>
                            <a:lnTo>
                              <a:pt x="433" y="555"/>
                            </a:lnTo>
                            <a:lnTo>
                              <a:pt x="411" y="847"/>
                            </a:lnTo>
                            <a:lnTo>
                              <a:pt x="455" y="1010"/>
                            </a:lnTo>
                            <a:lnTo>
                              <a:pt x="424" y="1143"/>
                            </a:lnTo>
                            <a:lnTo>
                              <a:pt x="406" y="1262"/>
                            </a:lnTo>
                            <a:lnTo>
                              <a:pt x="424" y="1363"/>
                            </a:lnTo>
                            <a:lnTo>
                              <a:pt x="468" y="149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1" name=""/>
                      <p:cNvSpPr/>
                      <p:nvPr/>
                    </p:nvSpPr>
                    <p:spPr>
                      <a:xfrm>
                        <a:off x="741240" y="2424240"/>
                        <a:ext cx="192600" cy="614880"/>
                      </a:xfrm>
                      <a:custGeom>
                        <a:avLst/>
                        <a:gdLst/>
                        <a:ahLst/>
                        <a:rect l="0" t="0" r="r" b="b"/>
                        <a:pathLst>
                          <a:path w="535" h="1708">
                            <a:moveTo>
                              <a:pt x="509" y="1633"/>
                            </a:moveTo>
                            <a:lnTo>
                              <a:pt x="517" y="1708"/>
                            </a:lnTo>
                            <a:lnTo>
                              <a:pt x="535" y="1624"/>
                            </a:lnTo>
                            <a:lnTo>
                              <a:pt x="535" y="1549"/>
                            </a:lnTo>
                            <a:lnTo>
                              <a:pt x="522" y="1470"/>
                            </a:lnTo>
                            <a:lnTo>
                              <a:pt x="517" y="1369"/>
                            </a:lnTo>
                            <a:lnTo>
                              <a:pt x="509" y="1307"/>
                            </a:lnTo>
                            <a:lnTo>
                              <a:pt x="465" y="1160"/>
                            </a:lnTo>
                            <a:lnTo>
                              <a:pt x="451" y="1068"/>
                            </a:lnTo>
                            <a:lnTo>
                              <a:pt x="465" y="962"/>
                            </a:lnTo>
                            <a:lnTo>
                              <a:pt x="451" y="865"/>
                            </a:lnTo>
                            <a:lnTo>
                              <a:pt x="429" y="777"/>
                            </a:lnTo>
                            <a:lnTo>
                              <a:pt x="403" y="702"/>
                            </a:lnTo>
                            <a:lnTo>
                              <a:pt x="380" y="622"/>
                            </a:lnTo>
                            <a:lnTo>
                              <a:pt x="371" y="521"/>
                            </a:lnTo>
                            <a:lnTo>
                              <a:pt x="353" y="418"/>
                            </a:lnTo>
                            <a:lnTo>
                              <a:pt x="336" y="335"/>
                            </a:lnTo>
                            <a:lnTo>
                              <a:pt x="300" y="207"/>
                            </a:lnTo>
                            <a:lnTo>
                              <a:pt x="274" y="105"/>
                            </a:lnTo>
                            <a:lnTo>
                              <a:pt x="221" y="0"/>
                            </a:lnTo>
                            <a:lnTo>
                              <a:pt x="225" y="48"/>
                            </a:lnTo>
                            <a:lnTo>
                              <a:pt x="221" y="123"/>
                            </a:lnTo>
                            <a:lnTo>
                              <a:pt x="221" y="202"/>
                            </a:lnTo>
                            <a:lnTo>
                              <a:pt x="225" y="317"/>
                            </a:lnTo>
                            <a:lnTo>
                              <a:pt x="252" y="446"/>
                            </a:lnTo>
                            <a:lnTo>
                              <a:pt x="199" y="361"/>
                            </a:lnTo>
                            <a:lnTo>
                              <a:pt x="155" y="299"/>
                            </a:lnTo>
                            <a:lnTo>
                              <a:pt x="101" y="229"/>
                            </a:lnTo>
                            <a:lnTo>
                              <a:pt x="52" y="167"/>
                            </a:lnTo>
                            <a:lnTo>
                              <a:pt x="0" y="123"/>
                            </a:lnTo>
                            <a:lnTo>
                              <a:pt x="74" y="238"/>
                            </a:lnTo>
                            <a:lnTo>
                              <a:pt x="119" y="313"/>
                            </a:lnTo>
                            <a:lnTo>
                              <a:pt x="195" y="418"/>
                            </a:lnTo>
                            <a:lnTo>
                              <a:pt x="243" y="516"/>
                            </a:lnTo>
                            <a:lnTo>
                              <a:pt x="239" y="574"/>
                            </a:lnTo>
                            <a:lnTo>
                              <a:pt x="243" y="662"/>
                            </a:lnTo>
                            <a:lnTo>
                              <a:pt x="274" y="759"/>
                            </a:lnTo>
                            <a:lnTo>
                              <a:pt x="300" y="825"/>
                            </a:lnTo>
                            <a:lnTo>
                              <a:pt x="340" y="896"/>
                            </a:lnTo>
                            <a:lnTo>
                              <a:pt x="322" y="1002"/>
                            </a:lnTo>
                            <a:lnTo>
                              <a:pt x="336" y="1103"/>
                            </a:lnTo>
                            <a:lnTo>
                              <a:pt x="367" y="1226"/>
                            </a:lnTo>
                            <a:lnTo>
                              <a:pt x="416" y="1355"/>
                            </a:lnTo>
                            <a:lnTo>
                              <a:pt x="447" y="1457"/>
                            </a:lnTo>
                            <a:lnTo>
                              <a:pt x="403" y="1421"/>
                            </a:lnTo>
                            <a:lnTo>
                              <a:pt x="367" y="1369"/>
                            </a:lnTo>
                            <a:lnTo>
                              <a:pt x="371" y="1421"/>
                            </a:lnTo>
                            <a:lnTo>
                              <a:pt x="403" y="1496"/>
                            </a:lnTo>
                            <a:lnTo>
                              <a:pt x="438" y="1540"/>
                            </a:lnTo>
                            <a:lnTo>
                              <a:pt x="460" y="1580"/>
                            </a:lnTo>
                            <a:lnTo>
                              <a:pt x="416" y="1589"/>
                            </a:lnTo>
                            <a:lnTo>
                              <a:pt x="344" y="1589"/>
                            </a:lnTo>
                            <a:lnTo>
                              <a:pt x="412" y="1602"/>
                            </a:lnTo>
                            <a:lnTo>
                              <a:pt x="473" y="1620"/>
                            </a:lnTo>
                            <a:lnTo>
                              <a:pt x="509" y="1633"/>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2" name=""/>
                      <p:cNvSpPr/>
                      <p:nvPr/>
                    </p:nvSpPr>
                    <p:spPr>
                      <a:xfrm>
                        <a:off x="950760" y="2203560"/>
                        <a:ext cx="500400" cy="87840"/>
                      </a:xfrm>
                      <a:custGeom>
                        <a:avLst/>
                        <a:gdLst/>
                        <a:ahLst/>
                        <a:rect l="0" t="0" r="r" b="b"/>
                        <a:pathLst>
                          <a:path w="1390" h="244">
                            <a:moveTo>
                              <a:pt x="1390" y="0"/>
                            </a:moveTo>
                            <a:lnTo>
                              <a:pt x="1354" y="44"/>
                            </a:lnTo>
                            <a:lnTo>
                              <a:pt x="1297" y="89"/>
                            </a:lnTo>
                            <a:lnTo>
                              <a:pt x="1222" y="128"/>
                            </a:lnTo>
                            <a:lnTo>
                              <a:pt x="1156" y="164"/>
                            </a:lnTo>
                            <a:lnTo>
                              <a:pt x="1072" y="191"/>
                            </a:lnTo>
                            <a:lnTo>
                              <a:pt x="988" y="218"/>
                            </a:lnTo>
                            <a:lnTo>
                              <a:pt x="874" y="235"/>
                            </a:lnTo>
                            <a:lnTo>
                              <a:pt x="777" y="244"/>
                            </a:lnTo>
                            <a:lnTo>
                              <a:pt x="630" y="244"/>
                            </a:lnTo>
                            <a:lnTo>
                              <a:pt x="529" y="240"/>
                            </a:lnTo>
                            <a:lnTo>
                              <a:pt x="423" y="226"/>
                            </a:lnTo>
                            <a:lnTo>
                              <a:pt x="321" y="196"/>
                            </a:lnTo>
                            <a:lnTo>
                              <a:pt x="229" y="164"/>
                            </a:lnTo>
                            <a:lnTo>
                              <a:pt x="141" y="115"/>
                            </a:lnTo>
                            <a:lnTo>
                              <a:pt x="57" y="62"/>
                            </a:lnTo>
                            <a:lnTo>
                              <a:pt x="0" y="17"/>
                            </a:lnTo>
                            <a:lnTo>
                              <a:pt x="1390" y="0"/>
                            </a:lnTo>
                            <a:close/>
                          </a:path>
                        </a:pathLst>
                      </a:custGeom>
                      <a:solidFill>
                        <a:srgbClr val="990000"/>
                      </a:solidFill>
                      <a:ln w="12600">
                        <a:solidFill>
                          <a:srgbClr val="df3f5f"/>
                        </a:solidFill>
                        <a:round/>
                      </a:ln>
                    </p:spPr>
                    <p:txBody>
                      <a:bodyPr lIns="96120" rIns="96120" tIns="36720" bIns="36720" anchor="t">
                        <a:noAutofit/>
                      </a:bodyPr>
                      <a:p>
                        <a:endParaRPr b="0" lang="en-US" sz="1800" spc="-1" strike="noStrike">
                          <a:solidFill>
                            <a:srgbClr val="ffffff"/>
                          </a:solidFill>
                          <a:latin typeface="Arial"/>
                        </a:endParaRPr>
                      </a:p>
                    </p:txBody>
                  </p:sp>
                  <p:sp>
                    <p:nvSpPr>
                      <p:cNvPr id="1063" name=""/>
                      <p:cNvSpPr/>
                      <p:nvPr/>
                    </p:nvSpPr>
                    <p:spPr>
                      <a:xfrm>
                        <a:off x="1001880" y="3225960"/>
                        <a:ext cx="511560" cy="259200"/>
                      </a:xfrm>
                      <a:custGeom>
                        <a:avLst/>
                        <a:gdLst/>
                        <a:ahLst/>
                        <a:rect l="0" t="0" r="r" b="b"/>
                        <a:pathLst>
                          <a:path w="1421" h="720">
                            <a:moveTo>
                              <a:pt x="1421" y="181"/>
                            </a:moveTo>
                            <a:lnTo>
                              <a:pt x="1404" y="149"/>
                            </a:lnTo>
                            <a:lnTo>
                              <a:pt x="1386" y="119"/>
                            </a:lnTo>
                            <a:lnTo>
                              <a:pt x="1351" y="97"/>
                            </a:lnTo>
                            <a:lnTo>
                              <a:pt x="1280" y="83"/>
                            </a:lnTo>
                            <a:lnTo>
                              <a:pt x="1227" y="66"/>
                            </a:lnTo>
                            <a:lnTo>
                              <a:pt x="1091" y="44"/>
                            </a:lnTo>
                            <a:lnTo>
                              <a:pt x="949" y="17"/>
                            </a:lnTo>
                            <a:lnTo>
                              <a:pt x="834" y="13"/>
                            </a:lnTo>
                            <a:lnTo>
                              <a:pt x="733" y="0"/>
                            </a:lnTo>
                            <a:lnTo>
                              <a:pt x="631" y="0"/>
                            </a:lnTo>
                            <a:lnTo>
                              <a:pt x="552" y="17"/>
                            </a:lnTo>
                            <a:lnTo>
                              <a:pt x="455" y="39"/>
                            </a:lnTo>
                            <a:lnTo>
                              <a:pt x="384" y="61"/>
                            </a:lnTo>
                            <a:lnTo>
                              <a:pt x="308" y="92"/>
                            </a:lnTo>
                            <a:lnTo>
                              <a:pt x="238" y="127"/>
                            </a:lnTo>
                            <a:lnTo>
                              <a:pt x="171" y="158"/>
                            </a:lnTo>
                            <a:lnTo>
                              <a:pt x="110" y="167"/>
                            </a:lnTo>
                            <a:lnTo>
                              <a:pt x="57" y="158"/>
                            </a:lnTo>
                            <a:lnTo>
                              <a:pt x="0" y="149"/>
                            </a:lnTo>
                            <a:lnTo>
                              <a:pt x="44" y="181"/>
                            </a:lnTo>
                            <a:lnTo>
                              <a:pt x="88" y="230"/>
                            </a:lnTo>
                            <a:lnTo>
                              <a:pt x="132" y="283"/>
                            </a:lnTo>
                            <a:lnTo>
                              <a:pt x="154" y="336"/>
                            </a:lnTo>
                            <a:lnTo>
                              <a:pt x="163" y="384"/>
                            </a:lnTo>
                            <a:lnTo>
                              <a:pt x="167" y="450"/>
                            </a:lnTo>
                            <a:lnTo>
                              <a:pt x="167" y="538"/>
                            </a:lnTo>
                            <a:lnTo>
                              <a:pt x="180" y="720"/>
                            </a:lnTo>
                            <a:lnTo>
                              <a:pt x="189" y="645"/>
                            </a:lnTo>
                            <a:lnTo>
                              <a:pt x="194" y="562"/>
                            </a:lnTo>
                            <a:lnTo>
                              <a:pt x="207" y="468"/>
                            </a:lnTo>
                            <a:lnTo>
                              <a:pt x="220" y="393"/>
                            </a:lnTo>
                            <a:lnTo>
                              <a:pt x="251" y="327"/>
                            </a:lnTo>
                            <a:lnTo>
                              <a:pt x="304" y="261"/>
                            </a:lnTo>
                            <a:lnTo>
                              <a:pt x="380" y="208"/>
                            </a:lnTo>
                            <a:lnTo>
                              <a:pt x="481" y="176"/>
                            </a:lnTo>
                            <a:lnTo>
                              <a:pt x="596" y="154"/>
                            </a:lnTo>
                            <a:lnTo>
                              <a:pt x="688" y="163"/>
                            </a:lnTo>
                            <a:lnTo>
                              <a:pt x="772" y="181"/>
                            </a:lnTo>
                            <a:lnTo>
                              <a:pt x="834" y="199"/>
                            </a:lnTo>
                            <a:lnTo>
                              <a:pt x="896" y="208"/>
                            </a:lnTo>
                            <a:lnTo>
                              <a:pt x="975" y="203"/>
                            </a:lnTo>
                            <a:lnTo>
                              <a:pt x="1073" y="199"/>
                            </a:lnTo>
                            <a:lnTo>
                              <a:pt x="1144" y="203"/>
                            </a:lnTo>
                            <a:lnTo>
                              <a:pt x="1219" y="212"/>
                            </a:lnTo>
                            <a:lnTo>
                              <a:pt x="1294" y="230"/>
                            </a:lnTo>
                            <a:lnTo>
                              <a:pt x="1369" y="234"/>
                            </a:lnTo>
                            <a:lnTo>
                              <a:pt x="1413" y="212"/>
                            </a:lnTo>
                            <a:lnTo>
                              <a:pt x="1421" y="18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064" name=""/>
                <p:cNvGrpSpPr/>
                <p:nvPr/>
              </p:nvGrpSpPr>
              <p:grpSpPr>
                <a:xfrm>
                  <a:off x="1554120" y="1935000"/>
                  <a:ext cx="663840" cy="908280"/>
                  <a:chOff x="1554120" y="1935000"/>
                  <a:chExt cx="663840" cy="908280"/>
                </a:xfrm>
              </p:grpSpPr>
              <p:grpSp>
                <p:nvGrpSpPr>
                  <p:cNvPr id="1065" name=""/>
                  <p:cNvGrpSpPr/>
                  <p:nvPr/>
                </p:nvGrpSpPr>
                <p:grpSpPr>
                  <a:xfrm>
                    <a:off x="1554120" y="1935000"/>
                    <a:ext cx="613080" cy="908280"/>
                    <a:chOff x="1554120" y="1935000"/>
                    <a:chExt cx="613080" cy="908280"/>
                  </a:xfrm>
                </p:grpSpPr>
                <p:grpSp>
                  <p:nvGrpSpPr>
                    <p:cNvPr id="1066" name=""/>
                    <p:cNvGrpSpPr/>
                    <p:nvPr/>
                  </p:nvGrpSpPr>
                  <p:grpSpPr>
                    <a:xfrm>
                      <a:off x="1554120" y="1935000"/>
                      <a:ext cx="613080" cy="908280"/>
                      <a:chOff x="1554120" y="1935000"/>
                      <a:chExt cx="613080" cy="908280"/>
                    </a:xfrm>
                  </p:grpSpPr>
                  <p:sp>
                    <p:nvSpPr>
                      <p:cNvPr id="1067" name=""/>
                      <p:cNvSpPr/>
                      <p:nvPr/>
                    </p:nvSpPr>
                    <p:spPr>
                      <a:xfrm>
                        <a:off x="1735200" y="2682720"/>
                        <a:ext cx="408240" cy="140040"/>
                      </a:xfrm>
                      <a:custGeom>
                        <a:avLst/>
                        <a:gdLst/>
                        <a:ahLst/>
                        <a:rect l="0" t="0" r="r" b="b"/>
                        <a:pathLst>
                          <a:path w="1134" h="389">
                            <a:moveTo>
                              <a:pt x="1076" y="0"/>
                            </a:moveTo>
                            <a:lnTo>
                              <a:pt x="1134" y="171"/>
                            </a:lnTo>
                            <a:lnTo>
                              <a:pt x="904" y="252"/>
                            </a:lnTo>
                            <a:lnTo>
                              <a:pt x="551" y="322"/>
                            </a:lnTo>
                            <a:lnTo>
                              <a:pt x="264" y="367"/>
                            </a:lnTo>
                            <a:lnTo>
                              <a:pt x="0" y="389"/>
                            </a:lnTo>
                            <a:lnTo>
                              <a:pt x="10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8" name=""/>
                      <p:cNvSpPr/>
                      <p:nvPr/>
                    </p:nvSpPr>
                    <p:spPr>
                      <a:xfrm>
                        <a:off x="1554120" y="1935000"/>
                        <a:ext cx="613080" cy="908280"/>
                      </a:xfrm>
                      <a:custGeom>
                        <a:avLst/>
                        <a:gdLst/>
                        <a:ahLst/>
                        <a:rect l="0" t="0" r="r" b="b"/>
                        <a:pathLst>
                          <a:path w="1703" h="2523">
                            <a:moveTo>
                              <a:pt x="1703" y="2157"/>
                            </a:moveTo>
                            <a:lnTo>
                              <a:pt x="1676" y="2179"/>
                            </a:lnTo>
                            <a:lnTo>
                              <a:pt x="1279" y="2258"/>
                            </a:lnTo>
                            <a:lnTo>
                              <a:pt x="900" y="2373"/>
                            </a:lnTo>
                            <a:lnTo>
                              <a:pt x="586" y="2470"/>
                            </a:lnTo>
                            <a:lnTo>
                              <a:pt x="463" y="2523"/>
                            </a:lnTo>
                            <a:lnTo>
                              <a:pt x="366" y="2095"/>
                            </a:lnTo>
                            <a:lnTo>
                              <a:pt x="260" y="1606"/>
                            </a:lnTo>
                            <a:lnTo>
                              <a:pt x="136" y="1115"/>
                            </a:lnTo>
                            <a:lnTo>
                              <a:pt x="39" y="608"/>
                            </a:lnTo>
                            <a:lnTo>
                              <a:pt x="8" y="432"/>
                            </a:lnTo>
                            <a:lnTo>
                              <a:pt x="0" y="264"/>
                            </a:lnTo>
                            <a:lnTo>
                              <a:pt x="621" y="97"/>
                            </a:lnTo>
                            <a:lnTo>
                              <a:pt x="1178" y="0"/>
                            </a:lnTo>
                            <a:lnTo>
                              <a:pt x="1315" y="507"/>
                            </a:lnTo>
                            <a:lnTo>
                              <a:pt x="1703" y="21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69" name=""/>
                    <p:cNvGrpSpPr/>
                    <p:nvPr/>
                  </p:nvGrpSpPr>
                  <p:grpSpPr>
                    <a:xfrm>
                      <a:off x="1562040" y="1998720"/>
                      <a:ext cx="578160" cy="785880"/>
                      <a:chOff x="1562040" y="1998720"/>
                      <a:chExt cx="578160" cy="785880"/>
                    </a:xfrm>
                  </p:grpSpPr>
                  <p:sp>
                    <p:nvSpPr>
                      <p:cNvPr id="1070" name=""/>
                      <p:cNvSpPr/>
                      <p:nvPr/>
                    </p:nvSpPr>
                    <p:spPr>
                      <a:xfrm>
                        <a:off x="1665360" y="2581200"/>
                        <a:ext cx="111600" cy="203400"/>
                      </a:xfrm>
                      <a:custGeom>
                        <a:avLst/>
                        <a:gdLst/>
                        <a:ahLst/>
                        <a:rect l="0" t="0" r="r" b="b"/>
                        <a:pathLst>
                          <a:path w="310" h="565">
                            <a:moveTo>
                              <a:pt x="0" y="48"/>
                            </a:moveTo>
                            <a:lnTo>
                              <a:pt x="172" y="0"/>
                            </a:lnTo>
                            <a:lnTo>
                              <a:pt x="310" y="499"/>
                            </a:lnTo>
                            <a:lnTo>
                              <a:pt x="120" y="565"/>
                            </a:lnTo>
                            <a:lnTo>
                              <a:pt x="44" y="260"/>
                            </a:lnTo>
                            <a:lnTo>
                              <a:pt x="0" y="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1" name=""/>
                      <p:cNvSpPr/>
                      <p:nvPr/>
                    </p:nvSpPr>
                    <p:spPr>
                      <a:xfrm>
                        <a:off x="2046240" y="2581200"/>
                        <a:ext cx="93960" cy="125640"/>
                      </a:xfrm>
                      <a:custGeom>
                        <a:avLst/>
                        <a:gdLst/>
                        <a:ahLst/>
                        <a:rect l="0" t="0" r="r" b="b"/>
                        <a:pathLst>
                          <a:path w="261" h="349">
                            <a:moveTo>
                              <a:pt x="190" y="0"/>
                            </a:moveTo>
                            <a:lnTo>
                              <a:pt x="0" y="44"/>
                            </a:lnTo>
                            <a:lnTo>
                              <a:pt x="70" y="349"/>
                            </a:lnTo>
                            <a:lnTo>
                              <a:pt x="261" y="309"/>
                            </a:lnTo>
                            <a:lnTo>
                              <a:pt x="19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2" name=""/>
                      <p:cNvSpPr/>
                      <p:nvPr/>
                    </p:nvSpPr>
                    <p:spPr>
                      <a:xfrm>
                        <a:off x="1562040" y="1998720"/>
                        <a:ext cx="410040" cy="92520"/>
                      </a:xfrm>
                      <a:custGeom>
                        <a:avLst/>
                        <a:gdLst/>
                        <a:ahLst/>
                        <a:rect l="0" t="0" r="r" b="b"/>
                        <a:pathLst>
                          <a:path fill="none" w="1139" h="257">
                            <a:moveTo>
                              <a:pt x="1139" y="0"/>
                            </a:moveTo>
                            <a:lnTo>
                              <a:pt x="627" y="98"/>
                            </a:lnTo>
                            <a:lnTo>
                              <a:pt x="0" y="25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1073" name=""/>
                      <p:cNvSpPr/>
                      <p:nvPr/>
                    </p:nvSpPr>
                    <p:spPr>
                      <a:xfrm>
                        <a:off x="1590840" y="2135160"/>
                        <a:ext cx="449640" cy="154440"/>
                      </a:xfrm>
                      <a:custGeom>
                        <a:avLst/>
                        <a:gdLst/>
                        <a:ahLst/>
                        <a:rect l="0" t="0" r="r" b="b"/>
                        <a:pathLst>
                          <a:path w="1249" h="429">
                            <a:moveTo>
                              <a:pt x="1232" y="0"/>
                            </a:moveTo>
                            <a:lnTo>
                              <a:pt x="684" y="150"/>
                            </a:lnTo>
                            <a:lnTo>
                              <a:pt x="0" y="354"/>
                            </a:lnTo>
                            <a:lnTo>
                              <a:pt x="8" y="429"/>
                            </a:lnTo>
                            <a:lnTo>
                              <a:pt x="706" y="225"/>
                            </a:lnTo>
                            <a:lnTo>
                              <a:pt x="1249" y="79"/>
                            </a:lnTo>
                            <a:lnTo>
                              <a:pt x="123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4" name=""/>
                      <p:cNvSpPr/>
                      <p:nvPr/>
                    </p:nvSpPr>
                    <p:spPr>
                      <a:xfrm>
                        <a:off x="1647720" y="2452680"/>
                        <a:ext cx="206640" cy="89280"/>
                      </a:xfrm>
                      <a:custGeom>
                        <a:avLst/>
                        <a:gdLst/>
                        <a:ahLst/>
                        <a:rect l="0" t="0" r="r" b="b"/>
                        <a:pathLst>
                          <a:path w="574" h="248">
                            <a:moveTo>
                              <a:pt x="547" y="0"/>
                            </a:moveTo>
                            <a:lnTo>
                              <a:pt x="574" y="80"/>
                            </a:lnTo>
                            <a:lnTo>
                              <a:pt x="22" y="248"/>
                            </a:lnTo>
                            <a:lnTo>
                              <a:pt x="0" y="168"/>
                            </a:lnTo>
                            <a:lnTo>
                              <a:pt x="547"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075" name=""/>
                      <p:cNvSpPr/>
                      <p:nvPr/>
                    </p:nvSpPr>
                    <p:spPr>
                      <a:xfrm flipH="1">
                        <a:off x="1735200" y="2549520"/>
                        <a:ext cx="149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76" name=""/>
                      <p:cNvSpPr/>
                      <p:nvPr/>
                    </p:nvSpPr>
                    <p:spPr>
                      <a:xfrm flipH="1">
                        <a:off x="1746360" y="2583000"/>
                        <a:ext cx="145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77" name=""/>
                      <p:cNvSpPr/>
                      <p:nvPr/>
                    </p:nvSpPr>
                    <p:spPr>
                      <a:xfrm flipH="1">
                        <a:off x="1757520" y="2616120"/>
                        <a:ext cx="145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078" name=""/>
                      <p:cNvSpPr/>
                      <p:nvPr/>
                    </p:nvSpPr>
                    <p:spPr>
                      <a:xfrm flipH="1">
                        <a:off x="1905120" y="2536920"/>
                        <a:ext cx="209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79" name=""/>
                      <p:cNvSpPr/>
                      <p:nvPr/>
                    </p:nvSpPr>
                    <p:spPr>
                      <a:xfrm flipH="1">
                        <a:off x="1911240" y="2562120"/>
                        <a:ext cx="214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080" name=""/>
                      <p:cNvSpPr/>
                      <p:nvPr/>
                    </p:nvSpPr>
                    <p:spPr>
                      <a:xfrm flipH="1">
                        <a:off x="1739880" y="2243160"/>
                        <a:ext cx="250920" cy="14400"/>
                      </a:xfrm>
                      <a:prstGeom prst="line">
                        <a:avLst/>
                      </a:prstGeom>
                      <a:ln w="12600">
                        <a:solidFill>
                          <a:srgbClr val="000000"/>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grpSp>
              </p:grpSp>
              <p:grpSp>
                <p:nvGrpSpPr>
                  <p:cNvPr id="1081" name=""/>
                  <p:cNvGrpSpPr/>
                  <p:nvPr/>
                </p:nvGrpSpPr>
                <p:grpSpPr>
                  <a:xfrm>
                    <a:off x="1868400" y="2235240"/>
                    <a:ext cx="349560" cy="433800"/>
                    <a:chOff x="1868400" y="2235240"/>
                    <a:chExt cx="349560" cy="433800"/>
                  </a:xfrm>
                </p:grpSpPr>
                <p:grpSp>
                  <p:nvGrpSpPr>
                    <p:cNvPr id="1082" name=""/>
                    <p:cNvGrpSpPr/>
                    <p:nvPr/>
                  </p:nvGrpSpPr>
                  <p:grpSpPr>
                    <a:xfrm>
                      <a:off x="1890720" y="2278080"/>
                      <a:ext cx="313200" cy="390960"/>
                      <a:chOff x="1890720" y="2278080"/>
                      <a:chExt cx="313200" cy="390960"/>
                    </a:xfrm>
                  </p:grpSpPr>
                  <p:sp>
                    <p:nvSpPr>
                      <p:cNvPr id="1083" name=""/>
                      <p:cNvSpPr/>
                      <p:nvPr/>
                    </p:nvSpPr>
                    <p:spPr>
                      <a:xfrm>
                        <a:off x="1890720" y="2278080"/>
                        <a:ext cx="313200" cy="390960"/>
                      </a:xfrm>
                      <a:custGeom>
                        <a:avLst/>
                        <a:gdLst/>
                        <a:ahLst/>
                        <a:rect l="0" t="0" r="r" b="b"/>
                        <a:pathLst>
                          <a:path w="870" h="1086">
                            <a:moveTo>
                              <a:pt x="738" y="1086"/>
                            </a:moveTo>
                            <a:lnTo>
                              <a:pt x="760" y="1064"/>
                            </a:lnTo>
                            <a:lnTo>
                              <a:pt x="778" y="1047"/>
                            </a:lnTo>
                            <a:lnTo>
                              <a:pt x="822" y="994"/>
                            </a:lnTo>
                            <a:lnTo>
                              <a:pt x="848" y="936"/>
                            </a:lnTo>
                            <a:lnTo>
                              <a:pt x="866" y="844"/>
                            </a:lnTo>
                            <a:lnTo>
                              <a:pt x="870" y="733"/>
                            </a:lnTo>
                            <a:lnTo>
                              <a:pt x="857" y="574"/>
                            </a:lnTo>
                            <a:lnTo>
                              <a:pt x="826" y="428"/>
                            </a:lnTo>
                            <a:lnTo>
                              <a:pt x="808" y="349"/>
                            </a:lnTo>
                            <a:lnTo>
                              <a:pt x="786" y="287"/>
                            </a:lnTo>
                            <a:lnTo>
                              <a:pt x="747" y="202"/>
                            </a:lnTo>
                            <a:lnTo>
                              <a:pt x="694" y="127"/>
                            </a:lnTo>
                            <a:lnTo>
                              <a:pt x="622" y="66"/>
                            </a:lnTo>
                            <a:lnTo>
                              <a:pt x="596" y="44"/>
                            </a:lnTo>
                            <a:lnTo>
                              <a:pt x="556" y="26"/>
                            </a:lnTo>
                            <a:lnTo>
                              <a:pt x="477" y="8"/>
                            </a:lnTo>
                            <a:lnTo>
                              <a:pt x="397" y="0"/>
                            </a:lnTo>
                            <a:lnTo>
                              <a:pt x="300" y="4"/>
                            </a:lnTo>
                            <a:lnTo>
                              <a:pt x="180" y="26"/>
                            </a:lnTo>
                            <a:lnTo>
                              <a:pt x="132" y="48"/>
                            </a:lnTo>
                            <a:lnTo>
                              <a:pt x="101" y="74"/>
                            </a:lnTo>
                            <a:lnTo>
                              <a:pt x="105" y="101"/>
                            </a:lnTo>
                            <a:lnTo>
                              <a:pt x="123" y="123"/>
                            </a:lnTo>
                            <a:lnTo>
                              <a:pt x="194" y="119"/>
                            </a:lnTo>
                            <a:lnTo>
                              <a:pt x="252" y="114"/>
                            </a:lnTo>
                            <a:lnTo>
                              <a:pt x="318" y="105"/>
                            </a:lnTo>
                            <a:lnTo>
                              <a:pt x="380" y="101"/>
                            </a:lnTo>
                            <a:lnTo>
                              <a:pt x="441" y="105"/>
                            </a:lnTo>
                            <a:lnTo>
                              <a:pt x="503" y="123"/>
                            </a:lnTo>
                            <a:lnTo>
                              <a:pt x="516" y="246"/>
                            </a:lnTo>
                            <a:lnTo>
                              <a:pt x="481" y="264"/>
                            </a:lnTo>
                            <a:lnTo>
                              <a:pt x="419" y="300"/>
                            </a:lnTo>
                            <a:lnTo>
                              <a:pt x="358" y="331"/>
                            </a:lnTo>
                            <a:lnTo>
                              <a:pt x="278" y="371"/>
                            </a:lnTo>
                            <a:lnTo>
                              <a:pt x="221" y="397"/>
                            </a:lnTo>
                            <a:lnTo>
                              <a:pt x="154" y="441"/>
                            </a:lnTo>
                            <a:lnTo>
                              <a:pt x="97" y="481"/>
                            </a:lnTo>
                            <a:lnTo>
                              <a:pt x="48" y="525"/>
                            </a:lnTo>
                            <a:lnTo>
                              <a:pt x="4" y="565"/>
                            </a:lnTo>
                            <a:lnTo>
                              <a:pt x="0" y="600"/>
                            </a:lnTo>
                            <a:lnTo>
                              <a:pt x="13" y="627"/>
                            </a:lnTo>
                            <a:lnTo>
                              <a:pt x="44" y="631"/>
                            </a:lnTo>
                            <a:lnTo>
                              <a:pt x="88" y="613"/>
                            </a:lnTo>
                            <a:lnTo>
                              <a:pt x="105" y="609"/>
                            </a:lnTo>
                            <a:lnTo>
                              <a:pt x="110" y="644"/>
                            </a:lnTo>
                            <a:lnTo>
                              <a:pt x="136" y="653"/>
                            </a:lnTo>
                            <a:lnTo>
                              <a:pt x="171" y="649"/>
                            </a:lnTo>
                            <a:lnTo>
                              <a:pt x="202" y="636"/>
                            </a:lnTo>
                            <a:lnTo>
                              <a:pt x="269" y="600"/>
                            </a:lnTo>
                            <a:lnTo>
                              <a:pt x="344" y="574"/>
                            </a:lnTo>
                            <a:lnTo>
                              <a:pt x="433" y="556"/>
                            </a:lnTo>
                            <a:lnTo>
                              <a:pt x="547" y="574"/>
                            </a:lnTo>
                            <a:lnTo>
                              <a:pt x="596" y="605"/>
                            </a:lnTo>
                            <a:lnTo>
                              <a:pt x="627" y="653"/>
                            </a:lnTo>
                            <a:lnTo>
                              <a:pt x="654" y="724"/>
                            </a:lnTo>
                            <a:lnTo>
                              <a:pt x="738" y="108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4" name=""/>
                      <p:cNvSpPr/>
                      <p:nvPr/>
                    </p:nvSpPr>
                    <p:spPr>
                      <a:xfrm>
                        <a:off x="1930320" y="2432160"/>
                        <a:ext cx="113040" cy="66960"/>
                      </a:xfrm>
                      <a:custGeom>
                        <a:avLst/>
                        <a:gdLst/>
                        <a:ahLst/>
                        <a:rect l="0" t="0" r="r" b="b"/>
                        <a:pathLst>
                          <a:path w="314" h="186">
                            <a:moveTo>
                              <a:pt x="0" y="186"/>
                            </a:moveTo>
                            <a:lnTo>
                              <a:pt x="13" y="155"/>
                            </a:lnTo>
                            <a:lnTo>
                              <a:pt x="39" y="133"/>
                            </a:lnTo>
                            <a:lnTo>
                              <a:pt x="83" y="106"/>
                            </a:lnTo>
                            <a:lnTo>
                              <a:pt x="149" y="61"/>
                            </a:lnTo>
                            <a:lnTo>
                              <a:pt x="234" y="13"/>
                            </a:lnTo>
                            <a:lnTo>
                              <a:pt x="314" y="0"/>
                            </a:lnTo>
                            <a:lnTo>
                              <a:pt x="247" y="4"/>
                            </a:lnTo>
                            <a:lnTo>
                              <a:pt x="212" y="22"/>
                            </a:lnTo>
                            <a:lnTo>
                              <a:pt x="141" y="57"/>
                            </a:lnTo>
                            <a:lnTo>
                              <a:pt x="70" y="106"/>
                            </a:lnTo>
                            <a:lnTo>
                              <a:pt x="13" y="146"/>
                            </a:lnTo>
                            <a:lnTo>
                              <a:pt x="0" y="186"/>
                            </a:lnTo>
                            <a:close/>
                          </a:path>
                        </a:pathLst>
                      </a:custGeom>
                      <a:solidFill>
                        <a:srgbClr val="ff7f3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085" name=""/>
                      <p:cNvSpPr/>
                      <p:nvPr/>
                    </p:nvSpPr>
                    <p:spPr>
                      <a:xfrm>
                        <a:off x="2122560" y="2523960"/>
                        <a:ext cx="46440" cy="106560"/>
                      </a:xfrm>
                      <a:custGeom>
                        <a:avLst/>
                        <a:gdLst/>
                        <a:ahLst/>
                        <a:rect l="0" t="0" r="r" b="b"/>
                        <a:pathLst>
                          <a:path w="129" h="296">
                            <a:moveTo>
                              <a:pt x="71" y="296"/>
                            </a:moveTo>
                            <a:lnTo>
                              <a:pt x="75" y="252"/>
                            </a:lnTo>
                            <a:lnTo>
                              <a:pt x="93" y="225"/>
                            </a:lnTo>
                            <a:lnTo>
                              <a:pt x="116" y="195"/>
                            </a:lnTo>
                            <a:lnTo>
                              <a:pt x="129" y="186"/>
                            </a:lnTo>
                            <a:lnTo>
                              <a:pt x="103" y="155"/>
                            </a:lnTo>
                            <a:lnTo>
                              <a:pt x="53" y="83"/>
                            </a:lnTo>
                            <a:lnTo>
                              <a:pt x="22" y="35"/>
                            </a:lnTo>
                            <a:lnTo>
                              <a:pt x="0" y="0"/>
                            </a:lnTo>
                            <a:lnTo>
                              <a:pt x="71" y="29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86" name=""/>
                    <p:cNvGrpSpPr/>
                    <p:nvPr/>
                  </p:nvGrpSpPr>
                  <p:grpSpPr>
                    <a:xfrm>
                      <a:off x="1868400" y="2235240"/>
                      <a:ext cx="349560" cy="286200"/>
                      <a:chOff x="1868400" y="2235240"/>
                      <a:chExt cx="349560" cy="286200"/>
                    </a:xfrm>
                  </p:grpSpPr>
                  <p:sp>
                    <p:nvSpPr>
                      <p:cNvPr id="1087" name=""/>
                      <p:cNvSpPr/>
                      <p:nvPr/>
                    </p:nvSpPr>
                    <p:spPr>
                      <a:xfrm>
                        <a:off x="2041560" y="2255760"/>
                        <a:ext cx="160560" cy="59040"/>
                      </a:xfrm>
                      <a:custGeom>
                        <a:avLst/>
                        <a:gdLst/>
                        <a:ahLst/>
                        <a:rect l="0" t="0" r="r" b="b"/>
                        <a:pathLst>
                          <a:path fill="none" w="446" h="164">
                            <a:moveTo>
                              <a:pt x="446" y="0"/>
                            </a:moveTo>
                            <a:lnTo>
                              <a:pt x="48" y="164"/>
                            </a:lnTo>
                            <a:lnTo>
                              <a:pt x="4" y="142"/>
                            </a:lnTo>
                            <a:lnTo>
                              <a:pt x="0" y="8"/>
                            </a:lnTo>
                          </a:path>
                        </a:pathLst>
                      </a:custGeom>
                      <a:ln w="12600">
                        <a:solidFill>
                          <a:srgbClr val="9f3f00"/>
                        </a:solidFill>
                        <a:round/>
                      </a:ln>
                    </p:spPr>
                    <p:txBody>
                      <a:bodyPr lIns="96120" rIns="96120" tIns="7920" bIns="7920" anchor="t">
                        <a:noAutofit/>
                      </a:bodyPr>
                      <a:p>
                        <a:endParaRPr b="0" lang="en-US" sz="1800" spc="-1" strike="noStrike">
                          <a:solidFill>
                            <a:srgbClr val="ffffff"/>
                          </a:solidFill>
                          <a:latin typeface="Arial"/>
                        </a:endParaRPr>
                      </a:p>
                    </p:txBody>
                  </p:sp>
                  <p:sp>
                    <p:nvSpPr>
                      <p:cNvPr id="1088" name=""/>
                      <p:cNvSpPr/>
                      <p:nvPr/>
                    </p:nvSpPr>
                    <p:spPr>
                      <a:xfrm>
                        <a:off x="1868400" y="2347920"/>
                        <a:ext cx="127440" cy="41760"/>
                      </a:xfrm>
                      <a:custGeom>
                        <a:avLst/>
                        <a:gdLst/>
                        <a:ahLst/>
                        <a:rect l="0" t="0" r="r" b="b"/>
                        <a:pathLst>
                          <a:path fill="none" w="354" h="116">
                            <a:moveTo>
                              <a:pt x="354" y="0"/>
                            </a:moveTo>
                            <a:lnTo>
                              <a:pt x="195" y="80"/>
                            </a:lnTo>
                            <a:lnTo>
                              <a:pt x="150" y="103"/>
                            </a:lnTo>
                            <a:lnTo>
                              <a:pt x="137" y="116"/>
                            </a:lnTo>
                            <a:lnTo>
                              <a:pt x="115" y="116"/>
                            </a:lnTo>
                            <a:lnTo>
                              <a:pt x="89" y="107"/>
                            </a:lnTo>
                            <a:lnTo>
                              <a:pt x="0" y="17"/>
                            </a:lnTo>
                          </a:path>
                        </a:pathLst>
                      </a:custGeom>
                      <a:ln w="12600">
                        <a:solidFill>
                          <a:srgbClr val="9f3f00"/>
                        </a:solidFill>
                        <a:round/>
                      </a:ln>
                    </p:spPr>
                    <p:txBody>
                      <a:bodyPr lIns="96120" rIns="96120" tIns="-9360" bIns="-9360" anchor="t">
                        <a:noAutofit/>
                      </a:bodyPr>
                      <a:p>
                        <a:endParaRPr b="0" lang="en-US" sz="1800" spc="-1" strike="noStrike">
                          <a:solidFill>
                            <a:srgbClr val="ffffff"/>
                          </a:solidFill>
                          <a:latin typeface="Arial"/>
                        </a:endParaRPr>
                      </a:p>
                    </p:txBody>
                  </p:sp>
                  <p:sp>
                    <p:nvSpPr>
                      <p:cNvPr id="1089" name=""/>
                      <p:cNvSpPr/>
                      <p:nvPr/>
                    </p:nvSpPr>
                    <p:spPr>
                      <a:xfrm>
                        <a:off x="2049480" y="2336760"/>
                        <a:ext cx="81360" cy="184680"/>
                      </a:xfrm>
                      <a:custGeom>
                        <a:avLst/>
                        <a:gdLst/>
                        <a:ahLst/>
                        <a:rect l="0" t="0" r="r" b="b"/>
                        <a:pathLst>
                          <a:path fill="none" w="226" h="513">
                            <a:moveTo>
                              <a:pt x="0" y="0"/>
                            </a:moveTo>
                            <a:lnTo>
                              <a:pt x="8" y="110"/>
                            </a:lnTo>
                            <a:lnTo>
                              <a:pt x="35" y="225"/>
                            </a:lnTo>
                            <a:lnTo>
                              <a:pt x="75" y="353"/>
                            </a:lnTo>
                            <a:lnTo>
                              <a:pt x="111" y="491"/>
                            </a:lnTo>
                            <a:lnTo>
                              <a:pt x="137" y="500"/>
                            </a:lnTo>
                            <a:lnTo>
                              <a:pt x="226" y="51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0" name=""/>
                      <p:cNvSpPr/>
                      <p:nvPr/>
                    </p:nvSpPr>
                    <p:spPr>
                      <a:xfrm>
                        <a:off x="2085840" y="2235240"/>
                        <a:ext cx="132120" cy="286200"/>
                      </a:xfrm>
                      <a:custGeom>
                        <a:avLst/>
                        <a:gdLst/>
                        <a:ahLst/>
                        <a:rect l="0" t="0" r="r" b="b"/>
                        <a:pathLst>
                          <a:path fill="none" w="367" h="795">
                            <a:moveTo>
                              <a:pt x="234" y="503"/>
                            </a:moveTo>
                            <a:lnTo>
                              <a:pt x="252" y="530"/>
                            </a:lnTo>
                            <a:lnTo>
                              <a:pt x="269" y="583"/>
                            </a:lnTo>
                            <a:lnTo>
                              <a:pt x="269" y="628"/>
                            </a:lnTo>
                            <a:lnTo>
                              <a:pt x="256" y="685"/>
                            </a:lnTo>
                            <a:lnTo>
                              <a:pt x="243" y="734"/>
                            </a:lnTo>
                            <a:lnTo>
                              <a:pt x="208" y="773"/>
                            </a:lnTo>
                            <a:lnTo>
                              <a:pt x="171" y="791"/>
                            </a:lnTo>
                            <a:lnTo>
                              <a:pt x="123" y="795"/>
                            </a:lnTo>
                            <a:lnTo>
                              <a:pt x="79" y="773"/>
                            </a:lnTo>
                            <a:lnTo>
                              <a:pt x="52" y="734"/>
                            </a:lnTo>
                            <a:lnTo>
                              <a:pt x="22" y="681"/>
                            </a:lnTo>
                            <a:lnTo>
                              <a:pt x="8" y="632"/>
                            </a:lnTo>
                            <a:lnTo>
                              <a:pt x="0" y="561"/>
                            </a:lnTo>
                            <a:lnTo>
                              <a:pt x="8" y="503"/>
                            </a:lnTo>
                            <a:lnTo>
                              <a:pt x="35" y="455"/>
                            </a:lnTo>
                            <a:lnTo>
                              <a:pt x="70" y="428"/>
                            </a:lnTo>
                            <a:lnTo>
                              <a:pt x="132" y="415"/>
                            </a:lnTo>
                            <a:lnTo>
                              <a:pt x="176" y="428"/>
                            </a:lnTo>
                            <a:lnTo>
                              <a:pt x="217" y="459"/>
                            </a:lnTo>
                            <a:lnTo>
                              <a:pt x="234" y="499"/>
                            </a:lnTo>
                            <a:lnTo>
                              <a:pt x="252" y="464"/>
                            </a:lnTo>
                            <a:lnTo>
                              <a:pt x="256" y="428"/>
                            </a:lnTo>
                            <a:lnTo>
                              <a:pt x="256" y="393"/>
                            </a:lnTo>
                            <a:lnTo>
                              <a:pt x="225" y="384"/>
                            </a:lnTo>
                            <a:lnTo>
                              <a:pt x="186" y="358"/>
                            </a:lnTo>
                            <a:lnTo>
                              <a:pt x="158" y="322"/>
                            </a:lnTo>
                            <a:lnTo>
                              <a:pt x="145" y="287"/>
                            </a:lnTo>
                            <a:lnTo>
                              <a:pt x="127" y="247"/>
                            </a:lnTo>
                            <a:lnTo>
                              <a:pt x="123" y="198"/>
                            </a:lnTo>
                            <a:lnTo>
                              <a:pt x="123" y="154"/>
                            </a:lnTo>
                            <a:lnTo>
                              <a:pt x="132" y="105"/>
                            </a:lnTo>
                            <a:lnTo>
                              <a:pt x="141" y="66"/>
                            </a:lnTo>
                            <a:lnTo>
                              <a:pt x="154" y="26"/>
                            </a:lnTo>
                            <a:lnTo>
                              <a:pt x="186" y="8"/>
                            </a:lnTo>
                            <a:lnTo>
                              <a:pt x="225" y="0"/>
                            </a:lnTo>
                            <a:lnTo>
                              <a:pt x="278" y="4"/>
                            </a:lnTo>
                            <a:lnTo>
                              <a:pt x="305" y="26"/>
                            </a:lnTo>
                            <a:lnTo>
                              <a:pt x="327" y="48"/>
                            </a:lnTo>
                            <a:lnTo>
                              <a:pt x="344" y="92"/>
                            </a:lnTo>
                            <a:lnTo>
                              <a:pt x="358" y="141"/>
                            </a:lnTo>
                            <a:lnTo>
                              <a:pt x="367" y="203"/>
                            </a:lnTo>
                            <a:lnTo>
                              <a:pt x="358" y="269"/>
                            </a:lnTo>
                            <a:lnTo>
                              <a:pt x="349" y="322"/>
                            </a:lnTo>
                            <a:lnTo>
                              <a:pt x="322" y="358"/>
                            </a:lnTo>
                            <a:lnTo>
                              <a:pt x="292" y="384"/>
                            </a:lnTo>
                            <a:lnTo>
                              <a:pt x="256" y="39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091" name=""/>
                    <p:cNvSpPr/>
                    <p:nvPr/>
                  </p:nvSpPr>
                  <p:spPr>
                    <a:xfrm>
                      <a:off x="1919160" y="2301840"/>
                      <a:ext cx="228960" cy="97200"/>
                    </a:xfrm>
                    <a:custGeom>
                      <a:avLst/>
                      <a:gdLst/>
                      <a:ahLst/>
                      <a:rect l="0" t="0" r="r" b="b"/>
                      <a:pathLst>
                        <a:path w="636" h="270">
                          <a:moveTo>
                            <a:pt x="636" y="199"/>
                          </a:moveTo>
                          <a:lnTo>
                            <a:pt x="556" y="106"/>
                          </a:lnTo>
                          <a:lnTo>
                            <a:pt x="494" y="52"/>
                          </a:lnTo>
                          <a:lnTo>
                            <a:pt x="450" y="26"/>
                          </a:lnTo>
                          <a:lnTo>
                            <a:pt x="384" y="4"/>
                          </a:lnTo>
                          <a:lnTo>
                            <a:pt x="349" y="0"/>
                          </a:lnTo>
                          <a:lnTo>
                            <a:pt x="327" y="8"/>
                          </a:lnTo>
                          <a:lnTo>
                            <a:pt x="273" y="35"/>
                          </a:lnTo>
                          <a:lnTo>
                            <a:pt x="211" y="80"/>
                          </a:lnTo>
                          <a:lnTo>
                            <a:pt x="145" y="120"/>
                          </a:lnTo>
                          <a:lnTo>
                            <a:pt x="70" y="150"/>
                          </a:lnTo>
                          <a:lnTo>
                            <a:pt x="22" y="177"/>
                          </a:lnTo>
                          <a:lnTo>
                            <a:pt x="0" y="209"/>
                          </a:lnTo>
                          <a:lnTo>
                            <a:pt x="0" y="235"/>
                          </a:lnTo>
                          <a:lnTo>
                            <a:pt x="17" y="257"/>
                          </a:lnTo>
                          <a:lnTo>
                            <a:pt x="48" y="270"/>
                          </a:lnTo>
                          <a:lnTo>
                            <a:pt x="114" y="253"/>
                          </a:lnTo>
                          <a:lnTo>
                            <a:pt x="171" y="226"/>
                          </a:lnTo>
                          <a:lnTo>
                            <a:pt x="242" y="199"/>
                          </a:lnTo>
                          <a:lnTo>
                            <a:pt x="299" y="159"/>
                          </a:lnTo>
                          <a:lnTo>
                            <a:pt x="362" y="133"/>
                          </a:lnTo>
                          <a:lnTo>
                            <a:pt x="397" y="168"/>
                          </a:lnTo>
                          <a:lnTo>
                            <a:pt x="450" y="199"/>
                          </a:lnTo>
                          <a:lnTo>
                            <a:pt x="477" y="235"/>
                          </a:lnTo>
                          <a:lnTo>
                            <a:pt x="556" y="199"/>
                          </a:lnTo>
                          <a:lnTo>
                            <a:pt x="636" y="19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92" name=""/>
          <p:cNvSpPr/>
          <p:nvPr/>
        </p:nvSpPr>
        <p:spPr>
          <a:xfrm>
            <a:off x="2735280" y="1809720"/>
            <a:ext cx="5952960" cy="247644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1093" name=""/>
          <p:cNvSpPr txBox="1"/>
          <p:nvPr/>
        </p:nvSpPr>
        <p:spPr>
          <a:xfrm>
            <a:off x="2952720" y="2046240"/>
            <a:ext cx="5638680" cy="284148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a:ea typeface="Arial"/>
              </a:rPr>
              <a:t>6.</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pare multistep and single-step classified income statement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7.</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valuate liquidity and profitability using classified financial statements.</a:t>
            </a:r>
            <a:endParaRPr b="0" lang="en-US" sz="2400" spc="-1" strike="noStrike">
              <a:solidFill>
                <a:srgbClr val="ffffff"/>
              </a:solidFill>
              <a:latin typeface="Arial"/>
            </a:endParaRPr>
          </a:p>
        </p:txBody>
      </p:sp>
      <p:pic>
        <p:nvPicPr>
          <p:cNvPr id="1094" name="" descr=""/>
          <p:cNvPicPr/>
          <p:nvPr/>
        </p:nvPicPr>
        <p:blipFill>
          <a:blip r:embed="rId1"/>
          <a:stretch/>
        </p:blipFill>
        <p:spPr>
          <a:xfrm>
            <a:off x="1333440" y="422280"/>
            <a:ext cx="5567400" cy="1584360"/>
          </a:xfrm>
          <a:prstGeom prst="rect">
            <a:avLst/>
          </a:prstGeom>
          <a:ln w="0">
            <a:noFill/>
          </a:ln>
        </p:spPr>
      </p:pic>
      <p:sp>
        <p:nvSpPr>
          <p:cNvPr id="1095" name=""/>
          <p:cNvSpPr txBox="1"/>
          <p:nvPr/>
        </p:nvSpPr>
        <p:spPr>
          <a:xfrm>
            <a:off x="2344680" y="657360"/>
            <a:ext cx="314496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ND FINALLY . . .</a:t>
            </a:r>
            <a:endParaRPr b="0" lang="en-US" sz="2800" spc="-1" strike="noStrike">
              <a:solidFill>
                <a:srgbClr val="ffffff"/>
              </a:solidFill>
              <a:latin typeface="Arial"/>
            </a:endParaRPr>
          </a:p>
        </p:txBody>
      </p:sp>
      <p:grpSp>
        <p:nvGrpSpPr>
          <p:cNvPr id="1096" name=""/>
          <p:cNvGrpSpPr/>
          <p:nvPr/>
        </p:nvGrpSpPr>
        <p:grpSpPr>
          <a:xfrm>
            <a:off x="720720" y="1446120"/>
            <a:ext cx="1497240" cy="4789800"/>
            <a:chOff x="720720" y="1446120"/>
            <a:chExt cx="1497240" cy="4789800"/>
          </a:xfrm>
        </p:grpSpPr>
        <p:grpSp>
          <p:nvGrpSpPr>
            <p:cNvPr id="1097" name=""/>
            <p:cNvGrpSpPr/>
            <p:nvPr/>
          </p:nvGrpSpPr>
          <p:grpSpPr>
            <a:xfrm>
              <a:off x="1071720" y="3367080"/>
              <a:ext cx="892440" cy="2868840"/>
              <a:chOff x="1071720" y="3367080"/>
              <a:chExt cx="892440" cy="2868840"/>
            </a:xfrm>
          </p:grpSpPr>
          <p:grpSp>
            <p:nvGrpSpPr>
              <p:cNvPr id="1098" name=""/>
              <p:cNvGrpSpPr/>
              <p:nvPr/>
            </p:nvGrpSpPr>
            <p:grpSpPr>
              <a:xfrm>
                <a:off x="1149480" y="5654520"/>
                <a:ext cx="797400" cy="581400"/>
                <a:chOff x="1149480" y="5654520"/>
                <a:chExt cx="797400" cy="581400"/>
              </a:xfrm>
            </p:grpSpPr>
            <p:grpSp>
              <p:nvGrpSpPr>
                <p:cNvPr id="1099" name=""/>
                <p:cNvGrpSpPr/>
                <p:nvPr/>
              </p:nvGrpSpPr>
              <p:grpSpPr>
                <a:xfrm>
                  <a:off x="1517760" y="5654520"/>
                  <a:ext cx="429120" cy="337320"/>
                  <a:chOff x="1517760" y="5654520"/>
                  <a:chExt cx="429120" cy="337320"/>
                </a:xfrm>
              </p:grpSpPr>
              <p:grpSp>
                <p:nvGrpSpPr>
                  <p:cNvPr id="1100" name=""/>
                  <p:cNvGrpSpPr/>
                  <p:nvPr/>
                </p:nvGrpSpPr>
                <p:grpSpPr>
                  <a:xfrm>
                    <a:off x="1536840" y="5654520"/>
                    <a:ext cx="332280" cy="251280"/>
                    <a:chOff x="1536840" y="5654520"/>
                    <a:chExt cx="332280" cy="251280"/>
                  </a:xfrm>
                </p:grpSpPr>
                <p:sp>
                  <p:nvSpPr>
                    <p:cNvPr id="1101" name=""/>
                    <p:cNvSpPr/>
                    <p:nvPr/>
                  </p:nvSpPr>
                  <p:spPr>
                    <a:xfrm>
                      <a:off x="1536840" y="5654520"/>
                      <a:ext cx="332280" cy="251280"/>
                    </a:xfrm>
                    <a:custGeom>
                      <a:avLst/>
                      <a:gdLst/>
                      <a:ahLst/>
                      <a:rect l="0" t="0" r="r" b="b"/>
                      <a:pathLst>
                        <a:path w="923" h="698">
                          <a:moveTo>
                            <a:pt x="587" y="70"/>
                          </a:moveTo>
                          <a:lnTo>
                            <a:pt x="591" y="177"/>
                          </a:lnTo>
                          <a:lnTo>
                            <a:pt x="662" y="252"/>
                          </a:lnTo>
                          <a:lnTo>
                            <a:pt x="738" y="340"/>
                          </a:lnTo>
                          <a:lnTo>
                            <a:pt x="866" y="464"/>
                          </a:lnTo>
                          <a:lnTo>
                            <a:pt x="923" y="535"/>
                          </a:lnTo>
                          <a:lnTo>
                            <a:pt x="914" y="685"/>
                          </a:lnTo>
                          <a:lnTo>
                            <a:pt x="565" y="698"/>
                          </a:lnTo>
                          <a:lnTo>
                            <a:pt x="149" y="464"/>
                          </a:lnTo>
                          <a:lnTo>
                            <a:pt x="0" y="234"/>
                          </a:lnTo>
                          <a:lnTo>
                            <a:pt x="105" y="0"/>
                          </a:lnTo>
                          <a:lnTo>
                            <a:pt x="587" y="7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2" name=""/>
                    <p:cNvSpPr/>
                    <p:nvPr/>
                  </p:nvSpPr>
                  <p:spPr>
                    <a:xfrm>
                      <a:off x="1565280" y="5684760"/>
                      <a:ext cx="194040" cy="195480"/>
                    </a:xfrm>
                    <a:custGeom>
                      <a:avLst/>
                      <a:gdLst/>
                      <a:ahLst/>
                      <a:rect l="0" t="0" r="r" b="b"/>
                      <a:pathLst>
                        <a:path w="539" h="543">
                          <a:moveTo>
                            <a:pt x="265" y="30"/>
                          </a:moveTo>
                          <a:lnTo>
                            <a:pt x="336" y="83"/>
                          </a:lnTo>
                          <a:lnTo>
                            <a:pt x="371" y="149"/>
                          </a:lnTo>
                          <a:lnTo>
                            <a:pt x="434" y="251"/>
                          </a:lnTo>
                          <a:lnTo>
                            <a:pt x="473" y="336"/>
                          </a:lnTo>
                          <a:lnTo>
                            <a:pt x="509" y="424"/>
                          </a:lnTo>
                          <a:lnTo>
                            <a:pt x="539" y="543"/>
                          </a:lnTo>
                          <a:lnTo>
                            <a:pt x="142" y="402"/>
                          </a:lnTo>
                          <a:lnTo>
                            <a:pt x="8" y="207"/>
                          </a:lnTo>
                          <a:lnTo>
                            <a:pt x="0" y="0"/>
                          </a:lnTo>
                          <a:lnTo>
                            <a:pt x="265"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3" name=""/>
                    <p:cNvSpPr/>
                    <p:nvPr/>
                  </p:nvSpPr>
                  <p:spPr>
                    <a:xfrm>
                      <a:off x="1785960" y="5762520"/>
                      <a:ext cx="74880" cy="116280"/>
                    </a:xfrm>
                    <a:custGeom>
                      <a:avLst/>
                      <a:gdLst/>
                      <a:ahLst/>
                      <a:rect l="0" t="0" r="r" b="b"/>
                      <a:pathLst>
                        <a:path w="208" h="323">
                          <a:moveTo>
                            <a:pt x="0" y="0"/>
                          </a:moveTo>
                          <a:lnTo>
                            <a:pt x="44" y="39"/>
                          </a:lnTo>
                          <a:lnTo>
                            <a:pt x="79" y="79"/>
                          </a:lnTo>
                          <a:lnTo>
                            <a:pt x="120" y="120"/>
                          </a:lnTo>
                          <a:lnTo>
                            <a:pt x="155" y="159"/>
                          </a:lnTo>
                          <a:lnTo>
                            <a:pt x="181" y="199"/>
                          </a:lnTo>
                          <a:lnTo>
                            <a:pt x="208" y="239"/>
                          </a:lnTo>
                          <a:lnTo>
                            <a:pt x="208" y="279"/>
                          </a:lnTo>
                          <a:lnTo>
                            <a:pt x="199" y="306"/>
                          </a:lnTo>
                          <a:lnTo>
                            <a:pt x="172" y="323"/>
                          </a:lnTo>
                          <a:lnTo>
                            <a:pt x="115" y="315"/>
                          </a:lnTo>
                          <a:lnTo>
                            <a:pt x="155" y="306"/>
                          </a:lnTo>
                          <a:lnTo>
                            <a:pt x="177" y="297"/>
                          </a:lnTo>
                          <a:lnTo>
                            <a:pt x="181" y="279"/>
                          </a:lnTo>
                          <a:lnTo>
                            <a:pt x="190" y="262"/>
                          </a:lnTo>
                          <a:lnTo>
                            <a:pt x="177" y="225"/>
                          </a:lnTo>
                          <a:lnTo>
                            <a:pt x="155" y="181"/>
                          </a:lnTo>
                          <a:lnTo>
                            <a:pt x="120" y="137"/>
                          </a:lnTo>
                          <a:lnTo>
                            <a:pt x="52" y="66"/>
                          </a:lnTo>
                          <a:lnTo>
                            <a:pt x="0" y="0"/>
                          </a:lnTo>
                          <a:close/>
                        </a:path>
                      </a:pathLst>
                    </a:custGeom>
                    <a:solidFill>
                      <a:srgbClr val="b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04" name=""/>
                  <p:cNvGrpSpPr/>
                  <p:nvPr/>
                </p:nvGrpSpPr>
                <p:grpSpPr>
                  <a:xfrm>
                    <a:off x="1517760" y="5675400"/>
                    <a:ext cx="429120" cy="316440"/>
                    <a:chOff x="1517760" y="5675400"/>
                    <a:chExt cx="429120" cy="316440"/>
                  </a:xfrm>
                </p:grpSpPr>
                <p:sp>
                  <p:nvSpPr>
                    <p:cNvPr id="1105" name=""/>
                    <p:cNvSpPr/>
                    <p:nvPr/>
                  </p:nvSpPr>
                  <p:spPr>
                    <a:xfrm>
                      <a:off x="1517760" y="5675400"/>
                      <a:ext cx="429120" cy="316440"/>
                    </a:xfrm>
                    <a:custGeom>
                      <a:avLst/>
                      <a:gdLst/>
                      <a:ahLst/>
                      <a:rect l="0" t="0" r="r" b="b"/>
                      <a:pathLst>
                        <a:path w="1192" h="879">
                          <a:moveTo>
                            <a:pt x="750" y="252"/>
                          </a:moveTo>
                          <a:lnTo>
                            <a:pt x="865" y="375"/>
                          </a:lnTo>
                          <a:lnTo>
                            <a:pt x="919" y="424"/>
                          </a:lnTo>
                          <a:lnTo>
                            <a:pt x="945" y="459"/>
                          </a:lnTo>
                          <a:lnTo>
                            <a:pt x="954" y="499"/>
                          </a:lnTo>
                          <a:lnTo>
                            <a:pt x="950" y="538"/>
                          </a:lnTo>
                          <a:lnTo>
                            <a:pt x="928" y="552"/>
                          </a:lnTo>
                          <a:lnTo>
                            <a:pt x="891" y="556"/>
                          </a:lnTo>
                          <a:lnTo>
                            <a:pt x="803" y="547"/>
                          </a:lnTo>
                          <a:lnTo>
                            <a:pt x="706" y="530"/>
                          </a:lnTo>
                          <a:lnTo>
                            <a:pt x="591" y="499"/>
                          </a:lnTo>
                          <a:lnTo>
                            <a:pt x="433" y="441"/>
                          </a:lnTo>
                          <a:lnTo>
                            <a:pt x="309" y="371"/>
                          </a:lnTo>
                          <a:lnTo>
                            <a:pt x="238" y="309"/>
                          </a:lnTo>
                          <a:lnTo>
                            <a:pt x="198" y="252"/>
                          </a:lnTo>
                          <a:lnTo>
                            <a:pt x="176" y="154"/>
                          </a:lnTo>
                          <a:lnTo>
                            <a:pt x="141" y="83"/>
                          </a:lnTo>
                          <a:lnTo>
                            <a:pt x="105" y="0"/>
                          </a:lnTo>
                          <a:lnTo>
                            <a:pt x="52" y="83"/>
                          </a:lnTo>
                          <a:lnTo>
                            <a:pt x="13" y="185"/>
                          </a:lnTo>
                          <a:lnTo>
                            <a:pt x="0" y="256"/>
                          </a:lnTo>
                          <a:lnTo>
                            <a:pt x="4" y="353"/>
                          </a:lnTo>
                          <a:lnTo>
                            <a:pt x="35" y="459"/>
                          </a:lnTo>
                          <a:lnTo>
                            <a:pt x="88" y="547"/>
                          </a:lnTo>
                          <a:lnTo>
                            <a:pt x="114" y="613"/>
                          </a:lnTo>
                          <a:lnTo>
                            <a:pt x="123" y="658"/>
                          </a:lnTo>
                          <a:lnTo>
                            <a:pt x="171" y="667"/>
                          </a:lnTo>
                          <a:lnTo>
                            <a:pt x="309" y="640"/>
                          </a:lnTo>
                          <a:lnTo>
                            <a:pt x="375" y="711"/>
                          </a:lnTo>
                          <a:lnTo>
                            <a:pt x="459" y="822"/>
                          </a:lnTo>
                          <a:lnTo>
                            <a:pt x="486" y="857"/>
                          </a:lnTo>
                          <a:lnTo>
                            <a:pt x="530" y="870"/>
                          </a:lnTo>
                          <a:lnTo>
                            <a:pt x="591" y="879"/>
                          </a:lnTo>
                          <a:lnTo>
                            <a:pt x="963" y="857"/>
                          </a:lnTo>
                          <a:lnTo>
                            <a:pt x="1108" y="839"/>
                          </a:lnTo>
                          <a:lnTo>
                            <a:pt x="1166" y="831"/>
                          </a:lnTo>
                          <a:lnTo>
                            <a:pt x="1188" y="813"/>
                          </a:lnTo>
                          <a:lnTo>
                            <a:pt x="1192" y="773"/>
                          </a:lnTo>
                          <a:lnTo>
                            <a:pt x="1183" y="725"/>
                          </a:lnTo>
                          <a:lnTo>
                            <a:pt x="1144" y="663"/>
                          </a:lnTo>
                          <a:lnTo>
                            <a:pt x="1073" y="565"/>
                          </a:lnTo>
                          <a:lnTo>
                            <a:pt x="1003" y="490"/>
                          </a:lnTo>
                          <a:lnTo>
                            <a:pt x="936" y="411"/>
                          </a:lnTo>
                          <a:lnTo>
                            <a:pt x="852" y="336"/>
                          </a:lnTo>
                          <a:lnTo>
                            <a:pt x="750" y="25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6" name=""/>
                    <p:cNvSpPr/>
                    <p:nvPr/>
                  </p:nvSpPr>
                  <p:spPr>
                    <a:xfrm>
                      <a:off x="1584360" y="5869080"/>
                      <a:ext cx="51120" cy="44640"/>
                    </a:xfrm>
                    <a:custGeom>
                      <a:avLst/>
                      <a:gdLst/>
                      <a:ahLst/>
                      <a:rect l="0" t="0" r="r" b="b"/>
                      <a:pathLst>
                        <a:path w="142" h="124">
                          <a:moveTo>
                            <a:pt x="142" y="124"/>
                          </a:moveTo>
                          <a:lnTo>
                            <a:pt x="111" y="67"/>
                          </a:lnTo>
                          <a:lnTo>
                            <a:pt x="89" y="39"/>
                          </a:lnTo>
                          <a:lnTo>
                            <a:pt x="52" y="17"/>
                          </a:lnTo>
                          <a:lnTo>
                            <a:pt x="0" y="0"/>
                          </a:lnTo>
                          <a:lnTo>
                            <a:pt x="22" y="30"/>
                          </a:lnTo>
                          <a:lnTo>
                            <a:pt x="52" y="35"/>
                          </a:lnTo>
                          <a:lnTo>
                            <a:pt x="89" y="61"/>
                          </a:lnTo>
                          <a:lnTo>
                            <a:pt x="142" y="124"/>
                          </a:lnTo>
                          <a:close/>
                        </a:path>
                      </a:pathLst>
                    </a:custGeom>
                    <a:solidFill>
                      <a:srgbClr val="5f3f1f"/>
                    </a:solidFill>
                    <a:ln w="0">
                      <a:noFill/>
                    </a:ln>
                  </p:spPr>
                  <p:txBody>
                    <a:bodyPr lIns="90000" rIns="90000" tIns="-360" bIns="-360" anchor="t">
                      <a:noAutofit/>
                    </a:bodyPr>
                    <a:p>
                      <a:endParaRPr b="0" lang="en-US" sz="1800" spc="-1" strike="noStrike">
                        <a:solidFill>
                          <a:srgbClr val="000000"/>
                        </a:solidFill>
                        <a:latin typeface="Arial"/>
                      </a:endParaRPr>
                    </a:p>
                  </p:txBody>
                </p:sp>
              </p:grpSp>
            </p:grpSp>
            <p:grpSp>
              <p:nvGrpSpPr>
                <p:cNvPr id="1107" name=""/>
                <p:cNvGrpSpPr/>
                <p:nvPr/>
              </p:nvGrpSpPr>
              <p:grpSpPr>
                <a:xfrm>
                  <a:off x="1149480" y="5800680"/>
                  <a:ext cx="282600" cy="435240"/>
                  <a:chOff x="1149480" y="5800680"/>
                  <a:chExt cx="282600" cy="435240"/>
                </a:xfrm>
              </p:grpSpPr>
              <p:grpSp>
                <p:nvGrpSpPr>
                  <p:cNvPr id="1108" name=""/>
                  <p:cNvGrpSpPr/>
                  <p:nvPr/>
                </p:nvGrpSpPr>
                <p:grpSpPr>
                  <a:xfrm>
                    <a:off x="1182600" y="5800680"/>
                    <a:ext cx="249480" cy="287640"/>
                    <a:chOff x="1182600" y="5800680"/>
                    <a:chExt cx="249480" cy="287640"/>
                  </a:xfrm>
                </p:grpSpPr>
                <p:sp>
                  <p:nvSpPr>
                    <p:cNvPr id="1109" name=""/>
                    <p:cNvSpPr/>
                    <p:nvPr/>
                  </p:nvSpPr>
                  <p:spPr>
                    <a:xfrm>
                      <a:off x="1182600" y="5800680"/>
                      <a:ext cx="248040" cy="270360"/>
                    </a:xfrm>
                    <a:custGeom>
                      <a:avLst/>
                      <a:gdLst/>
                      <a:ahLst/>
                      <a:rect l="0" t="0" r="r" b="b"/>
                      <a:pathLst>
                        <a:path w="689" h="751">
                          <a:moveTo>
                            <a:pt x="689" y="79"/>
                          </a:moveTo>
                          <a:lnTo>
                            <a:pt x="654" y="230"/>
                          </a:lnTo>
                          <a:lnTo>
                            <a:pt x="645" y="274"/>
                          </a:lnTo>
                          <a:lnTo>
                            <a:pt x="654" y="327"/>
                          </a:lnTo>
                          <a:lnTo>
                            <a:pt x="645" y="393"/>
                          </a:lnTo>
                          <a:lnTo>
                            <a:pt x="628" y="437"/>
                          </a:lnTo>
                          <a:lnTo>
                            <a:pt x="619" y="516"/>
                          </a:lnTo>
                          <a:lnTo>
                            <a:pt x="628" y="588"/>
                          </a:lnTo>
                          <a:lnTo>
                            <a:pt x="597" y="720"/>
                          </a:lnTo>
                          <a:lnTo>
                            <a:pt x="57" y="751"/>
                          </a:lnTo>
                          <a:lnTo>
                            <a:pt x="0" y="566"/>
                          </a:lnTo>
                          <a:lnTo>
                            <a:pt x="30" y="406"/>
                          </a:lnTo>
                          <a:lnTo>
                            <a:pt x="92" y="314"/>
                          </a:lnTo>
                          <a:lnTo>
                            <a:pt x="123" y="199"/>
                          </a:lnTo>
                          <a:lnTo>
                            <a:pt x="158" y="30"/>
                          </a:lnTo>
                          <a:lnTo>
                            <a:pt x="252" y="0"/>
                          </a:lnTo>
                          <a:lnTo>
                            <a:pt x="689"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0" name=""/>
                    <p:cNvSpPr/>
                    <p:nvPr/>
                  </p:nvSpPr>
                  <p:spPr>
                    <a:xfrm>
                      <a:off x="1353960" y="5827680"/>
                      <a:ext cx="78120" cy="228960"/>
                    </a:xfrm>
                    <a:custGeom>
                      <a:avLst/>
                      <a:gdLst/>
                      <a:ahLst/>
                      <a:rect l="0" t="0" r="r" b="b"/>
                      <a:pathLst>
                        <a:path w="217" h="636">
                          <a:moveTo>
                            <a:pt x="217" y="0"/>
                          </a:moveTo>
                          <a:lnTo>
                            <a:pt x="186" y="149"/>
                          </a:lnTo>
                          <a:lnTo>
                            <a:pt x="172" y="194"/>
                          </a:lnTo>
                          <a:lnTo>
                            <a:pt x="186" y="246"/>
                          </a:lnTo>
                          <a:lnTo>
                            <a:pt x="172" y="313"/>
                          </a:lnTo>
                          <a:lnTo>
                            <a:pt x="150" y="349"/>
                          </a:lnTo>
                          <a:lnTo>
                            <a:pt x="146" y="433"/>
                          </a:lnTo>
                          <a:lnTo>
                            <a:pt x="150" y="508"/>
                          </a:lnTo>
                          <a:lnTo>
                            <a:pt x="124" y="636"/>
                          </a:lnTo>
                          <a:lnTo>
                            <a:pt x="0" y="631"/>
                          </a:lnTo>
                          <a:lnTo>
                            <a:pt x="88" y="525"/>
                          </a:lnTo>
                          <a:lnTo>
                            <a:pt x="83" y="433"/>
                          </a:lnTo>
                          <a:lnTo>
                            <a:pt x="92" y="344"/>
                          </a:lnTo>
                          <a:lnTo>
                            <a:pt x="101" y="273"/>
                          </a:lnTo>
                          <a:lnTo>
                            <a:pt x="120" y="180"/>
                          </a:lnTo>
                          <a:lnTo>
                            <a:pt x="164" y="44"/>
                          </a:lnTo>
                          <a:lnTo>
                            <a:pt x="217"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1" name=""/>
                    <p:cNvSpPr/>
                    <p:nvPr/>
                  </p:nvSpPr>
                  <p:spPr>
                    <a:xfrm>
                      <a:off x="1192320" y="5803920"/>
                      <a:ext cx="84600" cy="284400"/>
                    </a:xfrm>
                    <a:custGeom>
                      <a:avLst/>
                      <a:gdLst/>
                      <a:ahLst/>
                      <a:rect l="0" t="0" r="r" b="b"/>
                      <a:pathLst>
                        <a:path w="235" h="790">
                          <a:moveTo>
                            <a:pt x="159" y="216"/>
                          </a:moveTo>
                          <a:lnTo>
                            <a:pt x="120" y="339"/>
                          </a:lnTo>
                          <a:lnTo>
                            <a:pt x="98" y="433"/>
                          </a:lnTo>
                          <a:lnTo>
                            <a:pt x="98" y="508"/>
                          </a:lnTo>
                          <a:lnTo>
                            <a:pt x="111" y="600"/>
                          </a:lnTo>
                          <a:lnTo>
                            <a:pt x="128" y="697"/>
                          </a:lnTo>
                          <a:lnTo>
                            <a:pt x="80" y="790"/>
                          </a:lnTo>
                          <a:lnTo>
                            <a:pt x="0" y="494"/>
                          </a:lnTo>
                          <a:lnTo>
                            <a:pt x="71" y="282"/>
                          </a:lnTo>
                          <a:lnTo>
                            <a:pt x="102" y="163"/>
                          </a:lnTo>
                          <a:lnTo>
                            <a:pt x="133" y="0"/>
                          </a:lnTo>
                          <a:lnTo>
                            <a:pt x="235" y="39"/>
                          </a:lnTo>
                          <a:lnTo>
                            <a:pt x="159" y="21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112" name=""/>
                  <p:cNvSpPr/>
                  <p:nvPr/>
                </p:nvSpPr>
                <p:spPr>
                  <a:xfrm>
                    <a:off x="1149480" y="5913360"/>
                    <a:ext cx="259200" cy="322560"/>
                  </a:xfrm>
                  <a:custGeom>
                    <a:avLst/>
                    <a:gdLst/>
                    <a:ahLst/>
                    <a:rect l="0" t="0" r="r" b="b"/>
                    <a:pathLst>
                      <a:path w="720" h="896">
                        <a:moveTo>
                          <a:pt x="716" y="242"/>
                        </a:moveTo>
                        <a:lnTo>
                          <a:pt x="667" y="313"/>
                        </a:lnTo>
                        <a:lnTo>
                          <a:pt x="606" y="361"/>
                        </a:lnTo>
                        <a:lnTo>
                          <a:pt x="494" y="396"/>
                        </a:lnTo>
                        <a:lnTo>
                          <a:pt x="402" y="410"/>
                        </a:lnTo>
                        <a:lnTo>
                          <a:pt x="336" y="383"/>
                        </a:lnTo>
                        <a:lnTo>
                          <a:pt x="230" y="317"/>
                        </a:lnTo>
                        <a:lnTo>
                          <a:pt x="190" y="229"/>
                        </a:lnTo>
                        <a:lnTo>
                          <a:pt x="167" y="123"/>
                        </a:lnTo>
                        <a:lnTo>
                          <a:pt x="186" y="0"/>
                        </a:lnTo>
                        <a:lnTo>
                          <a:pt x="127" y="70"/>
                        </a:lnTo>
                        <a:lnTo>
                          <a:pt x="101" y="171"/>
                        </a:lnTo>
                        <a:lnTo>
                          <a:pt x="52" y="313"/>
                        </a:lnTo>
                        <a:lnTo>
                          <a:pt x="17" y="418"/>
                        </a:lnTo>
                        <a:lnTo>
                          <a:pt x="0" y="486"/>
                        </a:lnTo>
                        <a:lnTo>
                          <a:pt x="22" y="561"/>
                        </a:lnTo>
                        <a:lnTo>
                          <a:pt x="97" y="662"/>
                        </a:lnTo>
                        <a:lnTo>
                          <a:pt x="221" y="799"/>
                        </a:lnTo>
                        <a:lnTo>
                          <a:pt x="314" y="865"/>
                        </a:lnTo>
                        <a:lnTo>
                          <a:pt x="353" y="896"/>
                        </a:lnTo>
                        <a:lnTo>
                          <a:pt x="402" y="865"/>
                        </a:lnTo>
                        <a:lnTo>
                          <a:pt x="481" y="821"/>
                        </a:lnTo>
                        <a:lnTo>
                          <a:pt x="610" y="737"/>
                        </a:lnTo>
                        <a:lnTo>
                          <a:pt x="672" y="684"/>
                        </a:lnTo>
                        <a:lnTo>
                          <a:pt x="694" y="649"/>
                        </a:lnTo>
                        <a:lnTo>
                          <a:pt x="711" y="534"/>
                        </a:lnTo>
                        <a:lnTo>
                          <a:pt x="720" y="423"/>
                        </a:lnTo>
                        <a:lnTo>
                          <a:pt x="716" y="24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113" name=""/>
              <p:cNvGrpSpPr/>
              <p:nvPr/>
            </p:nvGrpSpPr>
            <p:grpSpPr>
              <a:xfrm>
                <a:off x="1071720" y="3367080"/>
                <a:ext cx="892440" cy="2521440"/>
                <a:chOff x="1071720" y="3367080"/>
                <a:chExt cx="892440" cy="2521440"/>
              </a:xfrm>
            </p:grpSpPr>
            <p:sp>
              <p:nvSpPr>
                <p:cNvPr id="1114" name=""/>
                <p:cNvSpPr/>
                <p:nvPr/>
              </p:nvSpPr>
              <p:spPr>
                <a:xfrm>
                  <a:off x="1071720" y="3367080"/>
                  <a:ext cx="892440" cy="2521440"/>
                </a:xfrm>
                <a:custGeom>
                  <a:avLst/>
                  <a:gdLst/>
                  <a:ahLst/>
                  <a:rect l="0" t="0" r="r" b="b"/>
                  <a:pathLst>
                    <a:path w="2479" h="7004">
                      <a:moveTo>
                        <a:pt x="2276" y="0"/>
                      </a:moveTo>
                      <a:lnTo>
                        <a:pt x="1164" y="101"/>
                      </a:lnTo>
                      <a:lnTo>
                        <a:pt x="22" y="317"/>
                      </a:lnTo>
                      <a:lnTo>
                        <a:pt x="13" y="493"/>
                      </a:lnTo>
                      <a:lnTo>
                        <a:pt x="0" y="652"/>
                      </a:lnTo>
                      <a:lnTo>
                        <a:pt x="22" y="851"/>
                      </a:lnTo>
                      <a:lnTo>
                        <a:pt x="66" y="996"/>
                      </a:lnTo>
                      <a:lnTo>
                        <a:pt x="39" y="974"/>
                      </a:lnTo>
                      <a:lnTo>
                        <a:pt x="17" y="930"/>
                      </a:lnTo>
                      <a:lnTo>
                        <a:pt x="35" y="1058"/>
                      </a:lnTo>
                      <a:lnTo>
                        <a:pt x="57" y="1137"/>
                      </a:lnTo>
                      <a:lnTo>
                        <a:pt x="70" y="1234"/>
                      </a:lnTo>
                      <a:lnTo>
                        <a:pt x="74" y="1358"/>
                      </a:lnTo>
                      <a:lnTo>
                        <a:pt x="66" y="1446"/>
                      </a:lnTo>
                      <a:lnTo>
                        <a:pt x="74" y="1552"/>
                      </a:lnTo>
                      <a:lnTo>
                        <a:pt x="88" y="1636"/>
                      </a:lnTo>
                      <a:lnTo>
                        <a:pt x="110" y="1724"/>
                      </a:lnTo>
                      <a:lnTo>
                        <a:pt x="141" y="1857"/>
                      </a:lnTo>
                      <a:lnTo>
                        <a:pt x="171" y="1954"/>
                      </a:lnTo>
                      <a:lnTo>
                        <a:pt x="198" y="2060"/>
                      </a:lnTo>
                      <a:lnTo>
                        <a:pt x="189" y="2104"/>
                      </a:lnTo>
                      <a:lnTo>
                        <a:pt x="194" y="2152"/>
                      </a:lnTo>
                      <a:lnTo>
                        <a:pt x="207" y="2263"/>
                      </a:lnTo>
                      <a:lnTo>
                        <a:pt x="233" y="2395"/>
                      </a:lnTo>
                      <a:lnTo>
                        <a:pt x="282" y="2541"/>
                      </a:lnTo>
                      <a:lnTo>
                        <a:pt x="339" y="2743"/>
                      </a:lnTo>
                      <a:lnTo>
                        <a:pt x="352" y="2796"/>
                      </a:lnTo>
                      <a:lnTo>
                        <a:pt x="366" y="2862"/>
                      </a:lnTo>
                      <a:lnTo>
                        <a:pt x="392" y="2933"/>
                      </a:lnTo>
                      <a:lnTo>
                        <a:pt x="432" y="3017"/>
                      </a:lnTo>
                      <a:lnTo>
                        <a:pt x="476" y="3087"/>
                      </a:lnTo>
                      <a:lnTo>
                        <a:pt x="454" y="3273"/>
                      </a:lnTo>
                      <a:lnTo>
                        <a:pt x="432" y="3625"/>
                      </a:lnTo>
                      <a:lnTo>
                        <a:pt x="440" y="3925"/>
                      </a:lnTo>
                      <a:lnTo>
                        <a:pt x="432" y="4256"/>
                      </a:lnTo>
                      <a:lnTo>
                        <a:pt x="392" y="4939"/>
                      </a:lnTo>
                      <a:lnTo>
                        <a:pt x="392" y="5333"/>
                      </a:lnTo>
                      <a:lnTo>
                        <a:pt x="388" y="5589"/>
                      </a:lnTo>
                      <a:lnTo>
                        <a:pt x="392" y="5880"/>
                      </a:lnTo>
                      <a:lnTo>
                        <a:pt x="405" y="6382"/>
                      </a:lnTo>
                      <a:lnTo>
                        <a:pt x="414" y="6435"/>
                      </a:lnTo>
                      <a:lnTo>
                        <a:pt x="427" y="6488"/>
                      </a:lnTo>
                      <a:lnTo>
                        <a:pt x="445" y="6629"/>
                      </a:lnTo>
                      <a:lnTo>
                        <a:pt x="445" y="6748"/>
                      </a:lnTo>
                      <a:lnTo>
                        <a:pt x="436" y="6907"/>
                      </a:lnTo>
                      <a:lnTo>
                        <a:pt x="485" y="6889"/>
                      </a:lnTo>
                      <a:lnTo>
                        <a:pt x="537" y="6881"/>
                      </a:lnTo>
                      <a:lnTo>
                        <a:pt x="648" y="6889"/>
                      </a:lnTo>
                      <a:lnTo>
                        <a:pt x="754" y="6912"/>
                      </a:lnTo>
                      <a:lnTo>
                        <a:pt x="886" y="6938"/>
                      </a:lnTo>
                      <a:lnTo>
                        <a:pt x="952" y="6969"/>
                      </a:lnTo>
                      <a:lnTo>
                        <a:pt x="1005" y="6991"/>
                      </a:lnTo>
                      <a:lnTo>
                        <a:pt x="1053" y="7004"/>
                      </a:lnTo>
                      <a:lnTo>
                        <a:pt x="1098" y="7004"/>
                      </a:lnTo>
                      <a:lnTo>
                        <a:pt x="1150" y="7000"/>
                      </a:lnTo>
                      <a:lnTo>
                        <a:pt x="1164" y="6920"/>
                      </a:lnTo>
                      <a:lnTo>
                        <a:pt x="1172" y="6841"/>
                      </a:lnTo>
                      <a:lnTo>
                        <a:pt x="1181" y="6740"/>
                      </a:lnTo>
                      <a:lnTo>
                        <a:pt x="1168" y="6651"/>
                      </a:lnTo>
                      <a:lnTo>
                        <a:pt x="1172" y="6528"/>
                      </a:lnTo>
                      <a:lnTo>
                        <a:pt x="1164" y="6065"/>
                      </a:lnTo>
                      <a:lnTo>
                        <a:pt x="1172" y="5690"/>
                      </a:lnTo>
                      <a:lnTo>
                        <a:pt x="1190" y="5267"/>
                      </a:lnTo>
                      <a:lnTo>
                        <a:pt x="1230" y="4886"/>
                      </a:lnTo>
                      <a:lnTo>
                        <a:pt x="1253" y="4498"/>
                      </a:lnTo>
                      <a:lnTo>
                        <a:pt x="1271" y="4701"/>
                      </a:lnTo>
                      <a:lnTo>
                        <a:pt x="1315" y="4895"/>
                      </a:lnTo>
                      <a:lnTo>
                        <a:pt x="1271" y="5058"/>
                      </a:lnTo>
                      <a:lnTo>
                        <a:pt x="1253" y="5230"/>
                      </a:lnTo>
                      <a:lnTo>
                        <a:pt x="1230" y="5518"/>
                      </a:lnTo>
                      <a:lnTo>
                        <a:pt x="1221" y="5809"/>
                      </a:lnTo>
                      <a:lnTo>
                        <a:pt x="1266" y="6175"/>
                      </a:lnTo>
                      <a:lnTo>
                        <a:pt x="1315" y="6382"/>
                      </a:lnTo>
                      <a:lnTo>
                        <a:pt x="1319" y="6435"/>
                      </a:lnTo>
                      <a:lnTo>
                        <a:pt x="1372" y="6488"/>
                      </a:lnTo>
                      <a:lnTo>
                        <a:pt x="1522" y="6510"/>
                      </a:lnTo>
                      <a:lnTo>
                        <a:pt x="1707" y="6501"/>
                      </a:lnTo>
                      <a:lnTo>
                        <a:pt x="1879" y="6523"/>
                      </a:lnTo>
                      <a:lnTo>
                        <a:pt x="2069" y="6488"/>
                      </a:lnTo>
                      <a:lnTo>
                        <a:pt x="2091" y="6479"/>
                      </a:lnTo>
                      <a:lnTo>
                        <a:pt x="2091" y="6440"/>
                      </a:lnTo>
                      <a:lnTo>
                        <a:pt x="2077" y="6254"/>
                      </a:lnTo>
                      <a:lnTo>
                        <a:pt x="2082" y="6109"/>
                      </a:lnTo>
                      <a:lnTo>
                        <a:pt x="2086" y="5946"/>
                      </a:lnTo>
                      <a:lnTo>
                        <a:pt x="2104" y="5800"/>
                      </a:lnTo>
                      <a:lnTo>
                        <a:pt x="2130" y="5474"/>
                      </a:lnTo>
                      <a:lnTo>
                        <a:pt x="2161" y="5067"/>
                      </a:lnTo>
                      <a:lnTo>
                        <a:pt x="2214" y="4507"/>
                      </a:lnTo>
                      <a:lnTo>
                        <a:pt x="2276" y="4119"/>
                      </a:lnTo>
                      <a:lnTo>
                        <a:pt x="2298" y="3639"/>
                      </a:lnTo>
                      <a:lnTo>
                        <a:pt x="2307" y="3211"/>
                      </a:lnTo>
                      <a:lnTo>
                        <a:pt x="2377" y="2730"/>
                      </a:lnTo>
                      <a:lnTo>
                        <a:pt x="2421" y="2254"/>
                      </a:lnTo>
                      <a:lnTo>
                        <a:pt x="2443" y="1910"/>
                      </a:lnTo>
                      <a:lnTo>
                        <a:pt x="2479" y="1481"/>
                      </a:lnTo>
                      <a:lnTo>
                        <a:pt x="2461" y="1036"/>
                      </a:lnTo>
                      <a:lnTo>
                        <a:pt x="2448" y="701"/>
                      </a:lnTo>
                      <a:lnTo>
                        <a:pt x="2408" y="423"/>
                      </a:lnTo>
                      <a:lnTo>
                        <a:pt x="2351" y="194"/>
                      </a:lnTo>
                      <a:lnTo>
                        <a:pt x="2276" y="0"/>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15" name=""/>
                <p:cNvGrpSpPr/>
                <p:nvPr/>
              </p:nvGrpSpPr>
              <p:grpSpPr>
                <a:xfrm>
                  <a:off x="1076400" y="3406680"/>
                  <a:ext cx="754560" cy="2458080"/>
                  <a:chOff x="1076400" y="3406680"/>
                  <a:chExt cx="754560" cy="2458080"/>
                </a:xfrm>
              </p:grpSpPr>
              <p:sp>
                <p:nvSpPr>
                  <p:cNvPr id="1116" name=""/>
                  <p:cNvSpPr/>
                  <p:nvPr/>
                </p:nvSpPr>
                <p:spPr>
                  <a:xfrm>
                    <a:off x="1363680" y="3502080"/>
                    <a:ext cx="394200" cy="2211840"/>
                  </a:xfrm>
                  <a:custGeom>
                    <a:avLst/>
                    <a:gdLst/>
                    <a:ahLst/>
                    <a:rect l="0" t="0" r="r" b="b"/>
                    <a:pathLst>
                      <a:path w="1095" h="6144">
                        <a:moveTo>
                          <a:pt x="455" y="4234"/>
                        </a:moveTo>
                        <a:lnTo>
                          <a:pt x="441" y="4124"/>
                        </a:lnTo>
                        <a:lnTo>
                          <a:pt x="530" y="3436"/>
                        </a:lnTo>
                        <a:lnTo>
                          <a:pt x="552" y="3070"/>
                        </a:lnTo>
                        <a:lnTo>
                          <a:pt x="530" y="2682"/>
                        </a:lnTo>
                        <a:lnTo>
                          <a:pt x="508" y="2276"/>
                        </a:lnTo>
                        <a:lnTo>
                          <a:pt x="468" y="1870"/>
                        </a:lnTo>
                        <a:lnTo>
                          <a:pt x="428" y="1419"/>
                        </a:lnTo>
                        <a:lnTo>
                          <a:pt x="260" y="1239"/>
                        </a:lnTo>
                        <a:lnTo>
                          <a:pt x="145" y="1115"/>
                        </a:lnTo>
                        <a:lnTo>
                          <a:pt x="0" y="996"/>
                        </a:lnTo>
                        <a:lnTo>
                          <a:pt x="136" y="1018"/>
                        </a:lnTo>
                        <a:lnTo>
                          <a:pt x="268" y="1080"/>
                        </a:lnTo>
                        <a:lnTo>
                          <a:pt x="389" y="1155"/>
                        </a:lnTo>
                        <a:lnTo>
                          <a:pt x="508" y="1296"/>
                        </a:lnTo>
                        <a:lnTo>
                          <a:pt x="516" y="961"/>
                        </a:lnTo>
                        <a:lnTo>
                          <a:pt x="530" y="758"/>
                        </a:lnTo>
                        <a:lnTo>
                          <a:pt x="516" y="621"/>
                        </a:lnTo>
                        <a:lnTo>
                          <a:pt x="468" y="489"/>
                        </a:lnTo>
                        <a:lnTo>
                          <a:pt x="428" y="370"/>
                        </a:lnTo>
                        <a:lnTo>
                          <a:pt x="397" y="238"/>
                        </a:lnTo>
                        <a:lnTo>
                          <a:pt x="389" y="97"/>
                        </a:lnTo>
                        <a:lnTo>
                          <a:pt x="406" y="0"/>
                        </a:lnTo>
                        <a:lnTo>
                          <a:pt x="468" y="123"/>
                        </a:lnTo>
                        <a:lnTo>
                          <a:pt x="534" y="233"/>
                        </a:lnTo>
                        <a:lnTo>
                          <a:pt x="613" y="361"/>
                        </a:lnTo>
                        <a:lnTo>
                          <a:pt x="658" y="471"/>
                        </a:lnTo>
                        <a:lnTo>
                          <a:pt x="724" y="626"/>
                        </a:lnTo>
                        <a:lnTo>
                          <a:pt x="759" y="740"/>
                        </a:lnTo>
                        <a:lnTo>
                          <a:pt x="772" y="851"/>
                        </a:lnTo>
                        <a:lnTo>
                          <a:pt x="763" y="1005"/>
                        </a:lnTo>
                        <a:lnTo>
                          <a:pt x="737" y="1155"/>
                        </a:lnTo>
                        <a:lnTo>
                          <a:pt x="710" y="1322"/>
                        </a:lnTo>
                        <a:lnTo>
                          <a:pt x="666" y="1584"/>
                        </a:lnTo>
                        <a:lnTo>
                          <a:pt x="812" y="1292"/>
                        </a:lnTo>
                        <a:lnTo>
                          <a:pt x="945" y="956"/>
                        </a:lnTo>
                        <a:lnTo>
                          <a:pt x="1033" y="626"/>
                        </a:lnTo>
                        <a:lnTo>
                          <a:pt x="1082" y="1124"/>
                        </a:lnTo>
                        <a:lnTo>
                          <a:pt x="1095" y="1548"/>
                        </a:lnTo>
                        <a:lnTo>
                          <a:pt x="1047" y="2280"/>
                        </a:lnTo>
                        <a:lnTo>
                          <a:pt x="994" y="3233"/>
                        </a:lnTo>
                        <a:lnTo>
                          <a:pt x="954" y="4203"/>
                        </a:lnTo>
                        <a:lnTo>
                          <a:pt x="994" y="4658"/>
                        </a:lnTo>
                        <a:lnTo>
                          <a:pt x="932" y="4782"/>
                        </a:lnTo>
                        <a:lnTo>
                          <a:pt x="853" y="5187"/>
                        </a:lnTo>
                        <a:lnTo>
                          <a:pt x="958" y="5765"/>
                        </a:lnTo>
                        <a:lnTo>
                          <a:pt x="1011" y="5985"/>
                        </a:lnTo>
                        <a:lnTo>
                          <a:pt x="1069" y="6144"/>
                        </a:lnTo>
                        <a:lnTo>
                          <a:pt x="958" y="6131"/>
                        </a:lnTo>
                        <a:lnTo>
                          <a:pt x="879" y="6127"/>
                        </a:lnTo>
                        <a:lnTo>
                          <a:pt x="812" y="6131"/>
                        </a:lnTo>
                        <a:lnTo>
                          <a:pt x="706" y="6135"/>
                        </a:lnTo>
                        <a:lnTo>
                          <a:pt x="631" y="6131"/>
                        </a:lnTo>
                        <a:lnTo>
                          <a:pt x="561" y="6122"/>
                        </a:lnTo>
                        <a:lnTo>
                          <a:pt x="516" y="6100"/>
                        </a:lnTo>
                        <a:lnTo>
                          <a:pt x="490" y="6078"/>
                        </a:lnTo>
                        <a:lnTo>
                          <a:pt x="503" y="6012"/>
                        </a:lnTo>
                        <a:lnTo>
                          <a:pt x="486" y="5955"/>
                        </a:lnTo>
                        <a:lnTo>
                          <a:pt x="455" y="5814"/>
                        </a:lnTo>
                        <a:lnTo>
                          <a:pt x="433" y="5686"/>
                        </a:lnTo>
                        <a:lnTo>
                          <a:pt x="419" y="5549"/>
                        </a:lnTo>
                        <a:lnTo>
                          <a:pt x="411" y="5412"/>
                        </a:lnTo>
                        <a:lnTo>
                          <a:pt x="415" y="5302"/>
                        </a:lnTo>
                        <a:lnTo>
                          <a:pt x="419" y="5183"/>
                        </a:lnTo>
                        <a:lnTo>
                          <a:pt x="428" y="5046"/>
                        </a:lnTo>
                        <a:lnTo>
                          <a:pt x="437" y="4861"/>
                        </a:lnTo>
                        <a:lnTo>
                          <a:pt x="455" y="4738"/>
                        </a:lnTo>
                        <a:lnTo>
                          <a:pt x="464" y="4663"/>
                        </a:lnTo>
                        <a:lnTo>
                          <a:pt x="481" y="4604"/>
                        </a:lnTo>
                        <a:lnTo>
                          <a:pt x="503" y="4520"/>
                        </a:lnTo>
                        <a:lnTo>
                          <a:pt x="494" y="4485"/>
                        </a:lnTo>
                        <a:lnTo>
                          <a:pt x="477" y="4401"/>
                        </a:lnTo>
                        <a:lnTo>
                          <a:pt x="459" y="4322"/>
                        </a:lnTo>
                        <a:lnTo>
                          <a:pt x="455" y="423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7" name=""/>
                  <p:cNvSpPr/>
                  <p:nvPr/>
                </p:nvSpPr>
                <p:spPr>
                  <a:xfrm>
                    <a:off x="1076400" y="3575160"/>
                    <a:ext cx="443160" cy="2289600"/>
                  </a:xfrm>
                  <a:custGeom>
                    <a:avLst/>
                    <a:gdLst/>
                    <a:ahLst/>
                    <a:rect l="0" t="0" r="r" b="b"/>
                    <a:pathLst>
                      <a:path w="1231" h="6360">
                        <a:moveTo>
                          <a:pt x="97" y="0"/>
                        </a:moveTo>
                        <a:lnTo>
                          <a:pt x="167" y="30"/>
                        </a:lnTo>
                        <a:lnTo>
                          <a:pt x="251" y="74"/>
                        </a:lnTo>
                        <a:lnTo>
                          <a:pt x="339" y="136"/>
                        </a:lnTo>
                        <a:lnTo>
                          <a:pt x="418" y="220"/>
                        </a:lnTo>
                        <a:lnTo>
                          <a:pt x="463" y="291"/>
                        </a:lnTo>
                        <a:lnTo>
                          <a:pt x="498" y="335"/>
                        </a:lnTo>
                        <a:lnTo>
                          <a:pt x="524" y="352"/>
                        </a:lnTo>
                        <a:lnTo>
                          <a:pt x="573" y="374"/>
                        </a:lnTo>
                        <a:lnTo>
                          <a:pt x="636" y="388"/>
                        </a:lnTo>
                        <a:lnTo>
                          <a:pt x="715" y="396"/>
                        </a:lnTo>
                        <a:lnTo>
                          <a:pt x="768" y="418"/>
                        </a:lnTo>
                        <a:lnTo>
                          <a:pt x="799" y="432"/>
                        </a:lnTo>
                        <a:lnTo>
                          <a:pt x="790" y="471"/>
                        </a:lnTo>
                        <a:lnTo>
                          <a:pt x="759" y="529"/>
                        </a:lnTo>
                        <a:lnTo>
                          <a:pt x="710" y="577"/>
                        </a:lnTo>
                        <a:lnTo>
                          <a:pt x="636" y="626"/>
                        </a:lnTo>
                        <a:lnTo>
                          <a:pt x="515" y="657"/>
                        </a:lnTo>
                        <a:lnTo>
                          <a:pt x="418" y="665"/>
                        </a:lnTo>
                        <a:lnTo>
                          <a:pt x="330" y="661"/>
                        </a:lnTo>
                        <a:lnTo>
                          <a:pt x="233" y="652"/>
                        </a:lnTo>
                        <a:lnTo>
                          <a:pt x="348" y="687"/>
                        </a:lnTo>
                        <a:lnTo>
                          <a:pt x="423" y="727"/>
                        </a:lnTo>
                        <a:lnTo>
                          <a:pt x="502" y="802"/>
                        </a:lnTo>
                        <a:lnTo>
                          <a:pt x="573" y="855"/>
                        </a:lnTo>
                        <a:lnTo>
                          <a:pt x="662" y="921"/>
                        </a:lnTo>
                        <a:lnTo>
                          <a:pt x="724" y="974"/>
                        </a:lnTo>
                        <a:lnTo>
                          <a:pt x="777" y="1018"/>
                        </a:lnTo>
                        <a:lnTo>
                          <a:pt x="816" y="1067"/>
                        </a:lnTo>
                        <a:lnTo>
                          <a:pt x="821" y="1098"/>
                        </a:lnTo>
                        <a:lnTo>
                          <a:pt x="794" y="1128"/>
                        </a:lnTo>
                        <a:lnTo>
                          <a:pt x="724" y="1155"/>
                        </a:lnTo>
                        <a:lnTo>
                          <a:pt x="644" y="1168"/>
                        </a:lnTo>
                        <a:lnTo>
                          <a:pt x="537" y="1177"/>
                        </a:lnTo>
                        <a:lnTo>
                          <a:pt x="432" y="1164"/>
                        </a:lnTo>
                        <a:lnTo>
                          <a:pt x="330" y="1137"/>
                        </a:lnTo>
                        <a:lnTo>
                          <a:pt x="242" y="1106"/>
                        </a:lnTo>
                        <a:lnTo>
                          <a:pt x="110" y="1040"/>
                        </a:lnTo>
                        <a:lnTo>
                          <a:pt x="246" y="1142"/>
                        </a:lnTo>
                        <a:lnTo>
                          <a:pt x="339" y="1208"/>
                        </a:lnTo>
                        <a:lnTo>
                          <a:pt x="427" y="1274"/>
                        </a:lnTo>
                        <a:lnTo>
                          <a:pt x="511" y="1331"/>
                        </a:lnTo>
                        <a:lnTo>
                          <a:pt x="599" y="1406"/>
                        </a:lnTo>
                        <a:lnTo>
                          <a:pt x="684" y="1494"/>
                        </a:lnTo>
                        <a:lnTo>
                          <a:pt x="763" y="1592"/>
                        </a:lnTo>
                        <a:lnTo>
                          <a:pt x="825" y="1672"/>
                        </a:lnTo>
                        <a:lnTo>
                          <a:pt x="900" y="1769"/>
                        </a:lnTo>
                        <a:lnTo>
                          <a:pt x="834" y="1773"/>
                        </a:lnTo>
                        <a:lnTo>
                          <a:pt x="728" y="1769"/>
                        </a:lnTo>
                        <a:lnTo>
                          <a:pt x="627" y="1747"/>
                        </a:lnTo>
                        <a:lnTo>
                          <a:pt x="537" y="1720"/>
                        </a:lnTo>
                        <a:lnTo>
                          <a:pt x="445" y="1689"/>
                        </a:lnTo>
                        <a:lnTo>
                          <a:pt x="339" y="1628"/>
                        </a:lnTo>
                        <a:lnTo>
                          <a:pt x="423" y="1738"/>
                        </a:lnTo>
                        <a:lnTo>
                          <a:pt x="498" y="1857"/>
                        </a:lnTo>
                        <a:lnTo>
                          <a:pt x="599" y="1998"/>
                        </a:lnTo>
                        <a:lnTo>
                          <a:pt x="724" y="2152"/>
                        </a:lnTo>
                        <a:lnTo>
                          <a:pt x="882" y="2346"/>
                        </a:lnTo>
                        <a:lnTo>
                          <a:pt x="935" y="2421"/>
                        </a:lnTo>
                        <a:lnTo>
                          <a:pt x="971" y="2501"/>
                        </a:lnTo>
                        <a:lnTo>
                          <a:pt x="988" y="2602"/>
                        </a:lnTo>
                        <a:lnTo>
                          <a:pt x="984" y="2686"/>
                        </a:lnTo>
                        <a:lnTo>
                          <a:pt x="896" y="2677"/>
                        </a:lnTo>
                        <a:lnTo>
                          <a:pt x="807" y="2668"/>
                        </a:lnTo>
                        <a:lnTo>
                          <a:pt x="697" y="2646"/>
                        </a:lnTo>
                        <a:lnTo>
                          <a:pt x="627" y="2620"/>
                        </a:lnTo>
                        <a:lnTo>
                          <a:pt x="551" y="2589"/>
                        </a:lnTo>
                        <a:lnTo>
                          <a:pt x="662" y="2783"/>
                        </a:lnTo>
                        <a:lnTo>
                          <a:pt x="710" y="2924"/>
                        </a:lnTo>
                        <a:lnTo>
                          <a:pt x="777" y="3118"/>
                        </a:lnTo>
                        <a:lnTo>
                          <a:pt x="860" y="3303"/>
                        </a:lnTo>
                        <a:lnTo>
                          <a:pt x="935" y="3489"/>
                        </a:lnTo>
                        <a:lnTo>
                          <a:pt x="984" y="3634"/>
                        </a:lnTo>
                        <a:lnTo>
                          <a:pt x="1032" y="3762"/>
                        </a:lnTo>
                        <a:lnTo>
                          <a:pt x="1085" y="3885"/>
                        </a:lnTo>
                        <a:lnTo>
                          <a:pt x="1156" y="3996"/>
                        </a:lnTo>
                        <a:lnTo>
                          <a:pt x="1231" y="4124"/>
                        </a:lnTo>
                        <a:lnTo>
                          <a:pt x="1213" y="4393"/>
                        </a:lnTo>
                        <a:lnTo>
                          <a:pt x="1187" y="4626"/>
                        </a:lnTo>
                        <a:lnTo>
                          <a:pt x="1165" y="5077"/>
                        </a:lnTo>
                        <a:lnTo>
                          <a:pt x="1143" y="5514"/>
                        </a:lnTo>
                        <a:lnTo>
                          <a:pt x="1094" y="5655"/>
                        </a:lnTo>
                        <a:lnTo>
                          <a:pt x="1063" y="5800"/>
                        </a:lnTo>
                        <a:lnTo>
                          <a:pt x="1028" y="5933"/>
                        </a:lnTo>
                        <a:lnTo>
                          <a:pt x="979" y="6091"/>
                        </a:lnTo>
                        <a:lnTo>
                          <a:pt x="922" y="6246"/>
                        </a:lnTo>
                        <a:lnTo>
                          <a:pt x="874" y="6360"/>
                        </a:lnTo>
                        <a:lnTo>
                          <a:pt x="785" y="6343"/>
                        </a:lnTo>
                        <a:lnTo>
                          <a:pt x="693" y="6325"/>
                        </a:lnTo>
                        <a:lnTo>
                          <a:pt x="599" y="6312"/>
                        </a:lnTo>
                        <a:lnTo>
                          <a:pt x="564" y="6307"/>
                        </a:lnTo>
                        <a:lnTo>
                          <a:pt x="524" y="6307"/>
                        </a:lnTo>
                        <a:lnTo>
                          <a:pt x="463" y="6316"/>
                        </a:lnTo>
                        <a:lnTo>
                          <a:pt x="418" y="6334"/>
                        </a:lnTo>
                        <a:lnTo>
                          <a:pt x="432" y="6157"/>
                        </a:lnTo>
                        <a:lnTo>
                          <a:pt x="432" y="6047"/>
                        </a:lnTo>
                        <a:lnTo>
                          <a:pt x="405" y="5906"/>
                        </a:lnTo>
                        <a:lnTo>
                          <a:pt x="392" y="5809"/>
                        </a:lnTo>
                        <a:lnTo>
                          <a:pt x="388" y="5659"/>
                        </a:lnTo>
                        <a:lnTo>
                          <a:pt x="374" y="5007"/>
                        </a:lnTo>
                        <a:lnTo>
                          <a:pt x="379" y="4547"/>
                        </a:lnTo>
                        <a:lnTo>
                          <a:pt x="374" y="4384"/>
                        </a:lnTo>
                        <a:lnTo>
                          <a:pt x="392" y="4137"/>
                        </a:lnTo>
                        <a:lnTo>
                          <a:pt x="405" y="3828"/>
                        </a:lnTo>
                        <a:lnTo>
                          <a:pt x="427" y="3347"/>
                        </a:lnTo>
                        <a:lnTo>
                          <a:pt x="418" y="3140"/>
                        </a:lnTo>
                        <a:lnTo>
                          <a:pt x="418" y="2995"/>
                        </a:lnTo>
                        <a:lnTo>
                          <a:pt x="427" y="2818"/>
                        </a:lnTo>
                        <a:lnTo>
                          <a:pt x="440" y="2655"/>
                        </a:lnTo>
                        <a:lnTo>
                          <a:pt x="463" y="2514"/>
                        </a:lnTo>
                        <a:lnTo>
                          <a:pt x="405" y="2421"/>
                        </a:lnTo>
                        <a:lnTo>
                          <a:pt x="379" y="2364"/>
                        </a:lnTo>
                        <a:lnTo>
                          <a:pt x="352" y="2276"/>
                        </a:lnTo>
                        <a:lnTo>
                          <a:pt x="339" y="2223"/>
                        </a:lnTo>
                        <a:lnTo>
                          <a:pt x="326" y="2166"/>
                        </a:lnTo>
                        <a:lnTo>
                          <a:pt x="299" y="2077"/>
                        </a:lnTo>
                        <a:lnTo>
                          <a:pt x="273" y="1980"/>
                        </a:lnTo>
                        <a:lnTo>
                          <a:pt x="242" y="1892"/>
                        </a:lnTo>
                        <a:lnTo>
                          <a:pt x="216" y="1817"/>
                        </a:lnTo>
                        <a:lnTo>
                          <a:pt x="198" y="1698"/>
                        </a:lnTo>
                        <a:lnTo>
                          <a:pt x="180" y="1601"/>
                        </a:lnTo>
                        <a:lnTo>
                          <a:pt x="176" y="1525"/>
                        </a:lnTo>
                        <a:lnTo>
                          <a:pt x="185" y="1481"/>
                        </a:lnTo>
                        <a:lnTo>
                          <a:pt x="158" y="1380"/>
                        </a:lnTo>
                        <a:lnTo>
                          <a:pt x="123" y="1274"/>
                        </a:lnTo>
                        <a:lnTo>
                          <a:pt x="97" y="1155"/>
                        </a:lnTo>
                        <a:lnTo>
                          <a:pt x="74" y="1067"/>
                        </a:lnTo>
                        <a:lnTo>
                          <a:pt x="57" y="965"/>
                        </a:lnTo>
                        <a:lnTo>
                          <a:pt x="52" y="855"/>
                        </a:lnTo>
                        <a:lnTo>
                          <a:pt x="61" y="776"/>
                        </a:lnTo>
                        <a:lnTo>
                          <a:pt x="57" y="665"/>
                        </a:lnTo>
                        <a:lnTo>
                          <a:pt x="48" y="604"/>
                        </a:lnTo>
                        <a:lnTo>
                          <a:pt x="35" y="533"/>
                        </a:lnTo>
                        <a:lnTo>
                          <a:pt x="13" y="463"/>
                        </a:lnTo>
                        <a:lnTo>
                          <a:pt x="8" y="388"/>
                        </a:lnTo>
                        <a:lnTo>
                          <a:pt x="0" y="348"/>
                        </a:lnTo>
                        <a:lnTo>
                          <a:pt x="35" y="396"/>
                        </a:lnTo>
                        <a:lnTo>
                          <a:pt x="97" y="458"/>
                        </a:lnTo>
                        <a:lnTo>
                          <a:pt x="97"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8" name=""/>
                  <p:cNvSpPr/>
                  <p:nvPr/>
                </p:nvSpPr>
                <p:spPr>
                  <a:xfrm>
                    <a:off x="1749600" y="3406680"/>
                    <a:ext cx="81360" cy="195480"/>
                  </a:xfrm>
                  <a:custGeom>
                    <a:avLst/>
                    <a:gdLst/>
                    <a:ahLst/>
                    <a:rect l="0" t="0" r="r" b="b"/>
                    <a:pathLst>
                      <a:path w="226" h="543">
                        <a:moveTo>
                          <a:pt x="209" y="0"/>
                        </a:moveTo>
                        <a:lnTo>
                          <a:pt x="137" y="35"/>
                        </a:lnTo>
                        <a:lnTo>
                          <a:pt x="58" y="74"/>
                        </a:lnTo>
                        <a:lnTo>
                          <a:pt x="0" y="105"/>
                        </a:lnTo>
                        <a:lnTo>
                          <a:pt x="26" y="185"/>
                        </a:lnTo>
                        <a:lnTo>
                          <a:pt x="80" y="314"/>
                        </a:lnTo>
                        <a:lnTo>
                          <a:pt x="150" y="441"/>
                        </a:lnTo>
                        <a:lnTo>
                          <a:pt x="222" y="543"/>
                        </a:lnTo>
                        <a:lnTo>
                          <a:pt x="226" y="494"/>
                        </a:lnTo>
                        <a:lnTo>
                          <a:pt x="209" y="428"/>
                        </a:lnTo>
                        <a:lnTo>
                          <a:pt x="196" y="340"/>
                        </a:lnTo>
                        <a:lnTo>
                          <a:pt x="200" y="229"/>
                        </a:lnTo>
                        <a:lnTo>
                          <a:pt x="222" y="110"/>
                        </a:lnTo>
                        <a:lnTo>
                          <a:pt x="209"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9" name=""/>
                  <p:cNvSpPr/>
                  <p:nvPr/>
                </p:nvSpPr>
                <p:spPr>
                  <a:xfrm>
                    <a:off x="1590840" y="3463920"/>
                    <a:ext cx="208440" cy="295560"/>
                  </a:xfrm>
                  <a:custGeom>
                    <a:avLst/>
                    <a:gdLst/>
                    <a:ahLst/>
                    <a:rect l="0" t="0" r="r" b="b"/>
                    <a:pathLst>
                      <a:path w="579" h="821">
                        <a:moveTo>
                          <a:pt x="221" y="0"/>
                        </a:moveTo>
                        <a:lnTo>
                          <a:pt x="265" y="154"/>
                        </a:lnTo>
                        <a:lnTo>
                          <a:pt x="327" y="299"/>
                        </a:lnTo>
                        <a:lnTo>
                          <a:pt x="415" y="446"/>
                        </a:lnTo>
                        <a:lnTo>
                          <a:pt x="495" y="552"/>
                        </a:lnTo>
                        <a:lnTo>
                          <a:pt x="579" y="627"/>
                        </a:lnTo>
                        <a:lnTo>
                          <a:pt x="562" y="644"/>
                        </a:lnTo>
                        <a:lnTo>
                          <a:pt x="500" y="658"/>
                        </a:lnTo>
                        <a:lnTo>
                          <a:pt x="393" y="649"/>
                        </a:lnTo>
                        <a:lnTo>
                          <a:pt x="300" y="631"/>
                        </a:lnTo>
                        <a:lnTo>
                          <a:pt x="278" y="719"/>
                        </a:lnTo>
                        <a:lnTo>
                          <a:pt x="252" y="821"/>
                        </a:lnTo>
                        <a:lnTo>
                          <a:pt x="225" y="622"/>
                        </a:lnTo>
                        <a:lnTo>
                          <a:pt x="203" y="477"/>
                        </a:lnTo>
                        <a:lnTo>
                          <a:pt x="155" y="339"/>
                        </a:lnTo>
                        <a:lnTo>
                          <a:pt x="92" y="189"/>
                        </a:lnTo>
                        <a:lnTo>
                          <a:pt x="0" y="52"/>
                        </a:lnTo>
                        <a:lnTo>
                          <a:pt x="79" y="35"/>
                        </a:lnTo>
                        <a:lnTo>
                          <a:pt x="141" y="22"/>
                        </a:lnTo>
                        <a:lnTo>
                          <a:pt x="221"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20" name=""/>
                  <p:cNvSpPr/>
                  <p:nvPr/>
                </p:nvSpPr>
                <p:spPr>
                  <a:xfrm>
                    <a:off x="1333440" y="3505320"/>
                    <a:ext cx="101880" cy="211320"/>
                  </a:xfrm>
                  <a:custGeom>
                    <a:avLst/>
                    <a:gdLst/>
                    <a:ahLst/>
                    <a:rect l="0" t="0" r="r" b="b"/>
                    <a:pathLst>
                      <a:path w="283" h="587">
                        <a:moveTo>
                          <a:pt x="101" y="4"/>
                        </a:moveTo>
                        <a:lnTo>
                          <a:pt x="155" y="88"/>
                        </a:lnTo>
                        <a:lnTo>
                          <a:pt x="208" y="180"/>
                        </a:lnTo>
                        <a:lnTo>
                          <a:pt x="247" y="291"/>
                        </a:lnTo>
                        <a:lnTo>
                          <a:pt x="274" y="419"/>
                        </a:lnTo>
                        <a:lnTo>
                          <a:pt x="283" y="587"/>
                        </a:lnTo>
                        <a:lnTo>
                          <a:pt x="256" y="534"/>
                        </a:lnTo>
                        <a:lnTo>
                          <a:pt x="225" y="494"/>
                        </a:lnTo>
                        <a:lnTo>
                          <a:pt x="177" y="464"/>
                        </a:lnTo>
                        <a:lnTo>
                          <a:pt x="155" y="441"/>
                        </a:lnTo>
                        <a:lnTo>
                          <a:pt x="127" y="393"/>
                        </a:lnTo>
                        <a:lnTo>
                          <a:pt x="92" y="314"/>
                        </a:lnTo>
                        <a:lnTo>
                          <a:pt x="52" y="229"/>
                        </a:lnTo>
                        <a:lnTo>
                          <a:pt x="13" y="114"/>
                        </a:lnTo>
                        <a:lnTo>
                          <a:pt x="0" y="48"/>
                        </a:lnTo>
                        <a:lnTo>
                          <a:pt x="0" y="0"/>
                        </a:lnTo>
                        <a:lnTo>
                          <a:pt x="101" y="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21" name=""/>
                  <p:cNvSpPr/>
                  <p:nvPr/>
                </p:nvSpPr>
                <p:spPr>
                  <a:xfrm>
                    <a:off x="1087560" y="3483000"/>
                    <a:ext cx="200520" cy="141480"/>
                  </a:xfrm>
                  <a:custGeom>
                    <a:avLst/>
                    <a:gdLst/>
                    <a:ahLst/>
                    <a:rect l="0" t="0" r="r" b="b"/>
                    <a:pathLst>
                      <a:path w="557" h="393">
                        <a:moveTo>
                          <a:pt x="371" y="48"/>
                        </a:moveTo>
                        <a:lnTo>
                          <a:pt x="402" y="79"/>
                        </a:lnTo>
                        <a:lnTo>
                          <a:pt x="442" y="119"/>
                        </a:lnTo>
                        <a:lnTo>
                          <a:pt x="465" y="158"/>
                        </a:lnTo>
                        <a:lnTo>
                          <a:pt x="491" y="208"/>
                        </a:lnTo>
                        <a:lnTo>
                          <a:pt x="513" y="256"/>
                        </a:lnTo>
                        <a:lnTo>
                          <a:pt x="535" y="318"/>
                        </a:lnTo>
                        <a:lnTo>
                          <a:pt x="557" y="393"/>
                        </a:lnTo>
                        <a:lnTo>
                          <a:pt x="517" y="389"/>
                        </a:lnTo>
                        <a:lnTo>
                          <a:pt x="460" y="367"/>
                        </a:lnTo>
                        <a:lnTo>
                          <a:pt x="402" y="327"/>
                        </a:lnTo>
                        <a:lnTo>
                          <a:pt x="349" y="287"/>
                        </a:lnTo>
                        <a:lnTo>
                          <a:pt x="292" y="243"/>
                        </a:lnTo>
                        <a:lnTo>
                          <a:pt x="225" y="199"/>
                        </a:lnTo>
                        <a:lnTo>
                          <a:pt x="155" y="171"/>
                        </a:lnTo>
                        <a:lnTo>
                          <a:pt x="88" y="141"/>
                        </a:lnTo>
                        <a:lnTo>
                          <a:pt x="66" y="127"/>
                        </a:lnTo>
                        <a:lnTo>
                          <a:pt x="52" y="88"/>
                        </a:lnTo>
                        <a:lnTo>
                          <a:pt x="57" y="61"/>
                        </a:lnTo>
                        <a:lnTo>
                          <a:pt x="30" y="39"/>
                        </a:lnTo>
                        <a:lnTo>
                          <a:pt x="0" y="0"/>
                        </a:lnTo>
                        <a:lnTo>
                          <a:pt x="57" y="13"/>
                        </a:lnTo>
                        <a:lnTo>
                          <a:pt x="127" y="22"/>
                        </a:lnTo>
                        <a:lnTo>
                          <a:pt x="203" y="30"/>
                        </a:lnTo>
                        <a:lnTo>
                          <a:pt x="278" y="39"/>
                        </a:lnTo>
                        <a:lnTo>
                          <a:pt x="371" y="48"/>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122" name=""/>
            <p:cNvGrpSpPr/>
            <p:nvPr/>
          </p:nvGrpSpPr>
          <p:grpSpPr>
            <a:xfrm>
              <a:off x="720720" y="1446120"/>
              <a:ext cx="1497240" cy="2295720"/>
              <a:chOff x="720720" y="1446120"/>
              <a:chExt cx="1497240" cy="2295720"/>
            </a:xfrm>
          </p:grpSpPr>
          <p:grpSp>
            <p:nvGrpSpPr>
              <p:cNvPr id="1123" name=""/>
              <p:cNvGrpSpPr/>
              <p:nvPr/>
            </p:nvGrpSpPr>
            <p:grpSpPr>
              <a:xfrm>
                <a:off x="942840" y="1446120"/>
                <a:ext cx="843120" cy="862560"/>
                <a:chOff x="942840" y="1446120"/>
                <a:chExt cx="843120" cy="862560"/>
              </a:xfrm>
            </p:grpSpPr>
            <p:sp>
              <p:nvSpPr>
                <p:cNvPr id="1124" name=""/>
                <p:cNvSpPr/>
                <p:nvPr/>
              </p:nvSpPr>
              <p:spPr>
                <a:xfrm>
                  <a:off x="1760400" y="22287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125" name=""/>
                <p:cNvSpPr/>
                <p:nvPr/>
              </p:nvSpPr>
              <p:spPr>
                <a:xfrm>
                  <a:off x="1317600" y="1994040"/>
                  <a:ext cx="192600" cy="163800"/>
                </a:xfrm>
                <a:custGeom>
                  <a:avLst/>
                  <a:gdLst/>
                  <a:ahLst/>
                  <a:rect l="0" t="0" r="r" b="b"/>
                  <a:pathLst>
                    <a:path w="535" h="455">
                      <a:moveTo>
                        <a:pt x="384" y="30"/>
                      </a:moveTo>
                      <a:lnTo>
                        <a:pt x="397" y="158"/>
                      </a:lnTo>
                      <a:lnTo>
                        <a:pt x="403" y="198"/>
                      </a:lnTo>
                      <a:lnTo>
                        <a:pt x="434" y="261"/>
                      </a:lnTo>
                      <a:lnTo>
                        <a:pt x="487" y="305"/>
                      </a:lnTo>
                      <a:lnTo>
                        <a:pt x="535" y="344"/>
                      </a:lnTo>
                      <a:lnTo>
                        <a:pt x="491" y="336"/>
                      </a:lnTo>
                      <a:lnTo>
                        <a:pt x="500" y="375"/>
                      </a:lnTo>
                      <a:lnTo>
                        <a:pt x="465" y="362"/>
                      </a:lnTo>
                      <a:lnTo>
                        <a:pt x="425" y="358"/>
                      </a:lnTo>
                      <a:lnTo>
                        <a:pt x="434" y="402"/>
                      </a:lnTo>
                      <a:lnTo>
                        <a:pt x="389" y="384"/>
                      </a:lnTo>
                      <a:lnTo>
                        <a:pt x="344" y="367"/>
                      </a:lnTo>
                      <a:lnTo>
                        <a:pt x="309" y="344"/>
                      </a:lnTo>
                      <a:lnTo>
                        <a:pt x="322" y="406"/>
                      </a:lnTo>
                      <a:lnTo>
                        <a:pt x="292" y="393"/>
                      </a:lnTo>
                      <a:lnTo>
                        <a:pt x="265" y="384"/>
                      </a:lnTo>
                      <a:lnTo>
                        <a:pt x="243" y="367"/>
                      </a:lnTo>
                      <a:lnTo>
                        <a:pt x="239" y="389"/>
                      </a:lnTo>
                      <a:lnTo>
                        <a:pt x="243" y="428"/>
                      </a:lnTo>
                      <a:lnTo>
                        <a:pt x="199" y="411"/>
                      </a:lnTo>
                      <a:lnTo>
                        <a:pt x="195" y="450"/>
                      </a:lnTo>
                      <a:lnTo>
                        <a:pt x="168" y="455"/>
                      </a:lnTo>
                      <a:lnTo>
                        <a:pt x="137" y="446"/>
                      </a:lnTo>
                      <a:lnTo>
                        <a:pt x="97" y="428"/>
                      </a:lnTo>
                      <a:lnTo>
                        <a:pt x="66" y="402"/>
                      </a:lnTo>
                      <a:lnTo>
                        <a:pt x="48" y="380"/>
                      </a:lnTo>
                      <a:lnTo>
                        <a:pt x="0" y="0"/>
                      </a:lnTo>
                      <a:lnTo>
                        <a:pt x="384" y="3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26" name=""/>
                <p:cNvGrpSpPr/>
                <p:nvPr/>
              </p:nvGrpSpPr>
              <p:grpSpPr>
                <a:xfrm>
                  <a:off x="973080" y="1552680"/>
                  <a:ext cx="606960" cy="756000"/>
                  <a:chOff x="973080" y="1552680"/>
                  <a:chExt cx="606960" cy="756000"/>
                </a:xfrm>
              </p:grpSpPr>
              <p:grpSp>
                <p:nvGrpSpPr>
                  <p:cNvPr id="1127" name=""/>
                  <p:cNvGrpSpPr/>
                  <p:nvPr/>
                </p:nvGrpSpPr>
                <p:grpSpPr>
                  <a:xfrm>
                    <a:off x="973080" y="1552680"/>
                    <a:ext cx="606960" cy="756000"/>
                    <a:chOff x="973080" y="1552680"/>
                    <a:chExt cx="606960" cy="756000"/>
                  </a:xfrm>
                </p:grpSpPr>
                <p:sp>
                  <p:nvSpPr>
                    <p:cNvPr id="1128" name=""/>
                    <p:cNvSpPr/>
                    <p:nvPr/>
                  </p:nvSpPr>
                  <p:spPr>
                    <a:xfrm>
                      <a:off x="973080" y="1552680"/>
                      <a:ext cx="606960" cy="756000"/>
                    </a:xfrm>
                    <a:custGeom>
                      <a:avLst/>
                      <a:gdLst/>
                      <a:ahLst/>
                      <a:rect l="0" t="0" r="r" b="b"/>
                      <a:pathLst>
                        <a:path w="1686" h="2100">
                          <a:moveTo>
                            <a:pt x="1373" y="0"/>
                          </a:moveTo>
                          <a:lnTo>
                            <a:pt x="1545" y="92"/>
                          </a:lnTo>
                          <a:lnTo>
                            <a:pt x="1646" y="220"/>
                          </a:lnTo>
                          <a:lnTo>
                            <a:pt x="1686" y="383"/>
                          </a:lnTo>
                          <a:lnTo>
                            <a:pt x="1677" y="507"/>
                          </a:lnTo>
                          <a:lnTo>
                            <a:pt x="1668" y="568"/>
                          </a:lnTo>
                          <a:lnTo>
                            <a:pt x="1655" y="590"/>
                          </a:lnTo>
                          <a:lnTo>
                            <a:pt x="1642" y="617"/>
                          </a:lnTo>
                          <a:lnTo>
                            <a:pt x="1615" y="643"/>
                          </a:lnTo>
                          <a:lnTo>
                            <a:pt x="1611" y="674"/>
                          </a:lnTo>
                          <a:lnTo>
                            <a:pt x="1615" y="718"/>
                          </a:lnTo>
                          <a:lnTo>
                            <a:pt x="1646" y="767"/>
                          </a:lnTo>
                          <a:lnTo>
                            <a:pt x="1673" y="798"/>
                          </a:lnTo>
                          <a:lnTo>
                            <a:pt x="1686" y="842"/>
                          </a:lnTo>
                          <a:lnTo>
                            <a:pt x="1673" y="873"/>
                          </a:lnTo>
                          <a:lnTo>
                            <a:pt x="1655" y="881"/>
                          </a:lnTo>
                          <a:lnTo>
                            <a:pt x="1646" y="908"/>
                          </a:lnTo>
                          <a:lnTo>
                            <a:pt x="1655" y="956"/>
                          </a:lnTo>
                          <a:lnTo>
                            <a:pt x="1646" y="1001"/>
                          </a:lnTo>
                          <a:lnTo>
                            <a:pt x="1615" y="1031"/>
                          </a:lnTo>
                          <a:lnTo>
                            <a:pt x="1593" y="1059"/>
                          </a:lnTo>
                          <a:lnTo>
                            <a:pt x="1563" y="1090"/>
                          </a:lnTo>
                          <a:lnTo>
                            <a:pt x="1598" y="1138"/>
                          </a:lnTo>
                          <a:lnTo>
                            <a:pt x="1576" y="1191"/>
                          </a:lnTo>
                          <a:lnTo>
                            <a:pt x="1571" y="1209"/>
                          </a:lnTo>
                          <a:lnTo>
                            <a:pt x="1580" y="1266"/>
                          </a:lnTo>
                          <a:lnTo>
                            <a:pt x="1593" y="1306"/>
                          </a:lnTo>
                          <a:lnTo>
                            <a:pt x="1580" y="1341"/>
                          </a:lnTo>
                          <a:lnTo>
                            <a:pt x="1567" y="1354"/>
                          </a:lnTo>
                          <a:lnTo>
                            <a:pt x="1527" y="1363"/>
                          </a:lnTo>
                          <a:lnTo>
                            <a:pt x="1501" y="1372"/>
                          </a:lnTo>
                          <a:lnTo>
                            <a:pt x="1329" y="1363"/>
                          </a:lnTo>
                          <a:lnTo>
                            <a:pt x="1187" y="1363"/>
                          </a:lnTo>
                          <a:lnTo>
                            <a:pt x="1125" y="1372"/>
                          </a:lnTo>
                          <a:lnTo>
                            <a:pt x="1085" y="1390"/>
                          </a:lnTo>
                          <a:lnTo>
                            <a:pt x="1059" y="1434"/>
                          </a:lnTo>
                          <a:lnTo>
                            <a:pt x="1050" y="1491"/>
                          </a:lnTo>
                          <a:lnTo>
                            <a:pt x="1054" y="1570"/>
                          </a:lnTo>
                          <a:lnTo>
                            <a:pt x="1076" y="1659"/>
                          </a:lnTo>
                          <a:lnTo>
                            <a:pt x="1107" y="1720"/>
                          </a:lnTo>
                          <a:lnTo>
                            <a:pt x="1134" y="1756"/>
                          </a:lnTo>
                          <a:lnTo>
                            <a:pt x="1222" y="1778"/>
                          </a:lnTo>
                          <a:lnTo>
                            <a:pt x="583" y="2100"/>
                          </a:lnTo>
                          <a:lnTo>
                            <a:pt x="123" y="1919"/>
                          </a:lnTo>
                          <a:lnTo>
                            <a:pt x="0" y="1808"/>
                          </a:lnTo>
                          <a:lnTo>
                            <a:pt x="136" y="1734"/>
                          </a:lnTo>
                          <a:lnTo>
                            <a:pt x="202" y="1654"/>
                          </a:lnTo>
                          <a:lnTo>
                            <a:pt x="273" y="1544"/>
                          </a:lnTo>
                          <a:lnTo>
                            <a:pt x="330" y="1442"/>
                          </a:lnTo>
                          <a:lnTo>
                            <a:pt x="441" y="1063"/>
                          </a:lnTo>
                          <a:lnTo>
                            <a:pt x="335" y="529"/>
                          </a:lnTo>
                          <a:lnTo>
                            <a:pt x="490" y="335"/>
                          </a:lnTo>
                          <a:lnTo>
                            <a:pt x="719" y="383"/>
                          </a:lnTo>
                          <a:lnTo>
                            <a:pt x="834" y="427"/>
                          </a:lnTo>
                          <a:lnTo>
                            <a:pt x="975" y="171"/>
                          </a:lnTo>
                          <a:lnTo>
                            <a:pt x="1107" y="61"/>
                          </a:lnTo>
                          <a:lnTo>
                            <a:pt x="1373"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9" name=""/>
                    <p:cNvSpPr/>
                    <p:nvPr/>
                  </p:nvSpPr>
                  <p:spPr>
                    <a:xfrm>
                      <a:off x="1166760" y="1863720"/>
                      <a:ext cx="194040" cy="171720"/>
                    </a:xfrm>
                    <a:custGeom>
                      <a:avLst/>
                      <a:gdLst/>
                      <a:ahLst/>
                      <a:rect l="0" t="0" r="r" b="b"/>
                      <a:pathLst>
                        <a:path w="539" h="477">
                          <a:moveTo>
                            <a:pt x="539" y="477"/>
                          </a:moveTo>
                          <a:lnTo>
                            <a:pt x="473" y="455"/>
                          </a:lnTo>
                          <a:lnTo>
                            <a:pt x="412" y="437"/>
                          </a:lnTo>
                          <a:lnTo>
                            <a:pt x="367" y="411"/>
                          </a:lnTo>
                          <a:lnTo>
                            <a:pt x="322" y="362"/>
                          </a:lnTo>
                          <a:lnTo>
                            <a:pt x="287" y="305"/>
                          </a:lnTo>
                          <a:lnTo>
                            <a:pt x="247" y="243"/>
                          </a:lnTo>
                          <a:lnTo>
                            <a:pt x="221" y="189"/>
                          </a:lnTo>
                          <a:lnTo>
                            <a:pt x="225" y="145"/>
                          </a:lnTo>
                          <a:lnTo>
                            <a:pt x="239" y="92"/>
                          </a:lnTo>
                          <a:lnTo>
                            <a:pt x="239" y="44"/>
                          </a:lnTo>
                          <a:lnTo>
                            <a:pt x="101" y="110"/>
                          </a:lnTo>
                          <a:lnTo>
                            <a:pt x="26" y="30"/>
                          </a:lnTo>
                          <a:lnTo>
                            <a:pt x="0" y="0"/>
                          </a:lnTo>
                          <a:lnTo>
                            <a:pt x="8" y="79"/>
                          </a:lnTo>
                          <a:lnTo>
                            <a:pt x="30" y="136"/>
                          </a:lnTo>
                          <a:lnTo>
                            <a:pt x="74" y="171"/>
                          </a:lnTo>
                          <a:lnTo>
                            <a:pt x="137" y="189"/>
                          </a:lnTo>
                          <a:lnTo>
                            <a:pt x="168" y="265"/>
                          </a:lnTo>
                          <a:lnTo>
                            <a:pt x="195" y="327"/>
                          </a:lnTo>
                          <a:lnTo>
                            <a:pt x="230" y="375"/>
                          </a:lnTo>
                          <a:lnTo>
                            <a:pt x="278" y="411"/>
                          </a:lnTo>
                          <a:lnTo>
                            <a:pt x="353" y="441"/>
                          </a:lnTo>
                          <a:lnTo>
                            <a:pt x="442" y="464"/>
                          </a:lnTo>
                          <a:lnTo>
                            <a:pt x="539" y="477"/>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0" name=""/>
                    <p:cNvSpPr/>
                    <p:nvPr/>
                  </p:nvSpPr>
                  <p:spPr>
                    <a:xfrm>
                      <a:off x="1165320" y="2062080"/>
                      <a:ext cx="66960" cy="198720"/>
                    </a:xfrm>
                    <a:custGeom>
                      <a:avLst/>
                      <a:gdLst/>
                      <a:ahLst/>
                      <a:rect l="0" t="0" r="r" b="b"/>
                      <a:pathLst>
                        <a:path w="186" h="552">
                          <a:moveTo>
                            <a:pt x="186" y="525"/>
                          </a:moveTo>
                          <a:lnTo>
                            <a:pt x="146" y="428"/>
                          </a:lnTo>
                          <a:lnTo>
                            <a:pt x="120" y="336"/>
                          </a:lnTo>
                          <a:lnTo>
                            <a:pt x="102" y="255"/>
                          </a:lnTo>
                          <a:lnTo>
                            <a:pt x="79" y="154"/>
                          </a:lnTo>
                          <a:lnTo>
                            <a:pt x="61" y="0"/>
                          </a:lnTo>
                          <a:lnTo>
                            <a:pt x="13" y="114"/>
                          </a:lnTo>
                          <a:lnTo>
                            <a:pt x="35" y="224"/>
                          </a:lnTo>
                          <a:lnTo>
                            <a:pt x="48" y="344"/>
                          </a:lnTo>
                          <a:lnTo>
                            <a:pt x="35" y="450"/>
                          </a:lnTo>
                          <a:lnTo>
                            <a:pt x="0" y="552"/>
                          </a:lnTo>
                          <a:lnTo>
                            <a:pt x="186" y="525"/>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31" name=""/>
                    <p:cNvGrpSpPr/>
                    <p:nvPr/>
                  </p:nvGrpSpPr>
                  <p:grpSpPr>
                    <a:xfrm>
                      <a:off x="1160640" y="1593720"/>
                      <a:ext cx="414360" cy="451080"/>
                      <a:chOff x="1160640" y="1593720"/>
                      <a:chExt cx="414360" cy="451080"/>
                    </a:xfrm>
                  </p:grpSpPr>
                  <p:grpSp>
                    <p:nvGrpSpPr>
                      <p:cNvPr id="1132" name=""/>
                      <p:cNvGrpSpPr/>
                      <p:nvPr/>
                    </p:nvGrpSpPr>
                    <p:grpSpPr>
                      <a:xfrm>
                        <a:off x="1160640" y="1593720"/>
                        <a:ext cx="414360" cy="451080"/>
                        <a:chOff x="1160640" y="1593720"/>
                        <a:chExt cx="414360" cy="451080"/>
                      </a:xfrm>
                    </p:grpSpPr>
                    <p:sp>
                      <p:nvSpPr>
                        <p:cNvPr id="1133" name=""/>
                        <p:cNvSpPr/>
                        <p:nvPr/>
                      </p:nvSpPr>
                      <p:spPr>
                        <a:xfrm>
                          <a:off x="1160640" y="1593720"/>
                          <a:ext cx="368640" cy="451080"/>
                        </a:xfrm>
                        <a:custGeom>
                          <a:avLst/>
                          <a:gdLst/>
                          <a:ahLst/>
                          <a:rect l="0" t="0" r="r" b="b"/>
                          <a:pathLst>
                            <a:path w="1024" h="1253">
                              <a:moveTo>
                                <a:pt x="666" y="0"/>
                              </a:moveTo>
                              <a:lnTo>
                                <a:pt x="772" y="70"/>
                              </a:lnTo>
                              <a:lnTo>
                                <a:pt x="807" y="127"/>
                              </a:lnTo>
                              <a:lnTo>
                                <a:pt x="706" y="127"/>
                              </a:lnTo>
                              <a:lnTo>
                                <a:pt x="649" y="163"/>
                              </a:lnTo>
                              <a:lnTo>
                                <a:pt x="613" y="229"/>
                              </a:lnTo>
                              <a:lnTo>
                                <a:pt x="666" y="282"/>
                              </a:lnTo>
                              <a:lnTo>
                                <a:pt x="688" y="348"/>
                              </a:lnTo>
                              <a:lnTo>
                                <a:pt x="636" y="414"/>
                              </a:lnTo>
                              <a:lnTo>
                                <a:pt x="609" y="485"/>
                              </a:lnTo>
                              <a:lnTo>
                                <a:pt x="587" y="533"/>
                              </a:lnTo>
                              <a:lnTo>
                                <a:pt x="627" y="564"/>
                              </a:lnTo>
                              <a:lnTo>
                                <a:pt x="653" y="612"/>
                              </a:lnTo>
                              <a:lnTo>
                                <a:pt x="728" y="671"/>
                              </a:lnTo>
                              <a:lnTo>
                                <a:pt x="777" y="697"/>
                              </a:lnTo>
                              <a:lnTo>
                                <a:pt x="812" y="746"/>
                              </a:lnTo>
                              <a:lnTo>
                                <a:pt x="825" y="794"/>
                              </a:lnTo>
                              <a:lnTo>
                                <a:pt x="825" y="852"/>
                              </a:lnTo>
                              <a:lnTo>
                                <a:pt x="803" y="909"/>
                              </a:lnTo>
                              <a:lnTo>
                                <a:pt x="772" y="940"/>
                              </a:lnTo>
                              <a:lnTo>
                                <a:pt x="733" y="962"/>
                              </a:lnTo>
                              <a:lnTo>
                                <a:pt x="680" y="984"/>
                              </a:lnTo>
                              <a:lnTo>
                                <a:pt x="649" y="1015"/>
                              </a:lnTo>
                              <a:lnTo>
                                <a:pt x="631" y="1046"/>
                              </a:lnTo>
                              <a:lnTo>
                                <a:pt x="636" y="1094"/>
                              </a:lnTo>
                              <a:lnTo>
                                <a:pt x="658" y="1134"/>
                              </a:lnTo>
                              <a:lnTo>
                                <a:pt x="702" y="1156"/>
                              </a:lnTo>
                              <a:lnTo>
                                <a:pt x="755" y="1165"/>
                              </a:lnTo>
                              <a:lnTo>
                                <a:pt x="807" y="1187"/>
                              </a:lnTo>
                              <a:lnTo>
                                <a:pt x="856" y="1204"/>
                              </a:lnTo>
                              <a:lnTo>
                                <a:pt x="918" y="1226"/>
                              </a:lnTo>
                              <a:lnTo>
                                <a:pt x="971" y="1240"/>
                              </a:lnTo>
                              <a:lnTo>
                                <a:pt x="1024" y="1248"/>
                              </a:lnTo>
                              <a:lnTo>
                                <a:pt x="984" y="1253"/>
                              </a:lnTo>
                              <a:lnTo>
                                <a:pt x="922" y="1248"/>
                              </a:lnTo>
                              <a:lnTo>
                                <a:pt x="825" y="1248"/>
                              </a:lnTo>
                              <a:lnTo>
                                <a:pt x="755" y="1248"/>
                              </a:lnTo>
                              <a:lnTo>
                                <a:pt x="684" y="1240"/>
                              </a:lnTo>
                              <a:lnTo>
                                <a:pt x="600" y="1231"/>
                              </a:lnTo>
                              <a:lnTo>
                                <a:pt x="516" y="1213"/>
                              </a:lnTo>
                              <a:lnTo>
                                <a:pt x="449" y="1191"/>
                              </a:lnTo>
                              <a:lnTo>
                                <a:pt x="388" y="1160"/>
                              </a:lnTo>
                              <a:lnTo>
                                <a:pt x="343" y="1129"/>
                              </a:lnTo>
                              <a:lnTo>
                                <a:pt x="304" y="1063"/>
                              </a:lnTo>
                              <a:lnTo>
                                <a:pt x="220" y="913"/>
                              </a:lnTo>
                              <a:lnTo>
                                <a:pt x="141" y="750"/>
                              </a:lnTo>
                              <a:lnTo>
                                <a:pt x="0" y="432"/>
                              </a:lnTo>
                              <a:lnTo>
                                <a:pt x="83" y="335"/>
                              </a:lnTo>
                              <a:lnTo>
                                <a:pt x="277" y="414"/>
                              </a:lnTo>
                              <a:lnTo>
                                <a:pt x="383" y="260"/>
                              </a:lnTo>
                              <a:lnTo>
                                <a:pt x="449" y="57"/>
                              </a:lnTo>
                              <a:lnTo>
                                <a:pt x="666"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4" name=""/>
                        <p:cNvSpPr/>
                        <p:nvPr/>
                      </p:nvSpPr>
                      <p:spPr>
                        <a:xfrm>
                          <a:off x="1363680" y="1735200"/>
                          <a:ext cx="182880" cy="143280"/>
                        </a:xfrm>
                        <a:custGeom>
                          <a:avLst/>
                          <a:gdLst/>
                          <a:ahLst/>
                          <a:rect l="0" t="0" r="r" b="b"/>
                          <a:pathLst>
                            <a:path w="508" h="398">
                              <a:moveTo>
                                <a:pt x="194" y="0"/>
                              </a:moveTo>
                              <a:lnTo>
                                <a:pt x="216" y="4"/>
                              </a:lnTo>
                              <a:lnTo>
                                <a:pt x="256" y="17"/>
                              </a:lnTo>
                              <a:lnTo>
                                <a:pt x="296" y="22"/>
                              </a:lnTo>
                              <a:lnTo>
                                <a:pt x="371" y="35"/>
                              </a:lnTo>
                              <a:lnTo>
                                <a:pt x="419" y="35"/>
                              </a:lnTo>
                              <a:lnTo>
                                <a:pt x="415" y="83"/>
                              </a:lnTo>
                              <a:lnTo>
                                <a:pt x="428" y="133"/>
                              </a:lnTo>
                              <a:lnTo>
                                <a:pt x="446" y="168"/>
                              </a:lnTo>
                              <a:lnTo>
                                <a:pt x="468" y="208"/>
                              </a:lnTo>
                              <a:lnTo>
                                <a:pt x="508" y="265"/>
                              </a:lnTo>
                              <a:lnTo>
                                <a:pt x="508" y="306"/>
                              </a:lnTo>
                              <a:lnTo>
                                <a:pt x="477" y="301"/>
                              </a:lnTo>
                              <a:lnTo>
                                <a:pt x="437" y="310"/>
                              </a:lnTo>
                              <a:lnTo>
                                <a:pt x="415" y="328"/>
                              </a:lnTo>
                              <a:lnTo>
                                <a:pt x="406" y="354"/>
                              </a:lnTo>
                              <a:lnTo>
                                <a:pt x="419" y="381"/>
                              </a:lnTo>
                              <a:lnTo>
                                <a:pt x="459" y="390"/>
                              </a:lnTo>
                              <a:lnTo>
                                <a:pt x="428" y="398"/>
                              </a:lnTo>
                              <a:lnTo>
                                <a:pt x="397" y="385"/>
                              </a:lnTo>
                              <a:lnTo>
                                <a:pt x="380" y="368"/>
                              </a:lnTo>
                              <a:lnTo>
                                <a:pt x="380" y="332"/>
                              </a:lnTo>
                              <a:lnTo>
                                <a:pt x="393" y="306"/>
                              </a:lnTo>
                              <a:lnTo>
                                <a:pt x="419" y="278"/>
                              </a:lnTo>
                              <a:lnTo>
                                <a:pt x="446" y="278"/>
                              </a:lnTo>
                              <a:lnTo>
                                <a:pt x="406" y="212"/>
                              </a:lnTo>
                              <a:lnTo>
                                <a:pt x="380" y="164"/>
                              </a:lnTo>
                              <a:lnTo>
                                <a:pt x="305" y="172"/>
                              </a:lnTo>
                              <a:lnTo>
                                <a:pt x="242" y="172"/>
                              </a:lnTo>
                              <a:lnTo>
                                <a:pt x="167" y="164"/>
                              </a:lnTo>
                              <a:lnTo>
                                <a:pt x="123" y="142"/>
                              </a:lnTo>
                              <a:lnTo>
                                <a:pt x="88" y="111"/>
                              </a:lnTo>
                              <a:lnTo>
                                <a:pt x="44" y="88"/>
                              </a:lnTo>
                              <a:lnTo>
                                <a:pt x="0" y="70"/>
                              </a:lnTo>
                              <a:lnTo>
                                <a:pt x="110" y="22"/>
                              </a:lnTo>
                              <a:lnTo>
                                <a:pt x="194"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5" name=""/>
                        <p:cNvSpPr/>
                        <p:nvPr/>
                      </p:nvSpPr>
                      <p:spPr>
                        <a:xfrm>
                          <a:off x="1539720" y="1744560"/>
                          <a:ext cx="35280" cy="66960"/>
                        </a:xfrm>
                        <a:custGeom>
                          <a:avLst/>
                          <a:gdLst/>
                          <a:ahLst/>
                          <a:rect l="0" t="0" r="r" b="b"/>
                          <a:pathLst>
                            <a:path w="98" h="186">
                              <a:moveTo>
                                <a:pt x="98" y="0"/>
                              </a:moveTo>
                              <a:lnTo>
                                <a:pt x="71" y="8"/>
                              </a:lnTo>
                              <a:lnTo>
                                <a:pt x="44" y="13"/>
                              </a:lnTo>
                              <a:lnTo>
                                <a:pt x="17" y="26"/>
                              </a:lnTo>
                              <a:lnTo>
                                <a:pt x="0" y="39"/>
                              </a:lnTo>
                              <a:lnTo>
                                <a:pt x="0" y="66"/>
                              </a:lnTo>
                              <a:lnTo>
                                <a:pt x="4" y="115"/>
                              </a:lnTo>
                              <a:lnTo>
                                <a:pt x="17" y="146"/>
                              </a:lnTo>
                              <a:lnTo>
                                <a:pt x="39" y="186"/>
                              </a:lnTo>
                              <a:lnTo>
                                <a:pt x="35" y="146"/>
                              </a:lnTo>
                              <a:lnTo>
                                <a:pt x="39" y="115"/>
                              </a:lnTo>
                              <a:lnTo>
                                <a:pt x="44" y="106"/>
                              </a:lnTo>
                              <a:lnTo>
                                <a:pt x="62" y="88"/>
                              </a:lnTo>
                              <a:lnTo>
                                <a:pt x="80" y="61"/>
                              </a:lnTo>
                              <a:lnTo>
                                <a:pt x="98" y="35"/>
                              </a:lnTo>
                              <a:lnTo>
                                <a:pt x="98" y="0"/>
                              </a:lnTo>
                              <a:close/>
                            </a:path>
                          </a:pathLst>
                        </a:custGeom>
                        <a:solidFill>
                          <a:srgbClr val="ff8f6a"/>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1136" name=""/>
                      <p:cNvGrpSpPr/>
                      <p:nvPr/>
                    </p:nvGrpSpPr>
                    <p:grpSpPr>
                      <a:xfrm>
                        <a:off x="1531800" y="1865160"/>
                        <a:ext cx="37080" cy="59400"/>
                        <a:chOff x="1531800" y="1865160"/>
                        <a:chExt cx="37080" cy="59400"/>
                      </a:xfrm>
                    </p:grpSpPr>
                    <p:sp>
                      <p:nvSpPr>
                        <p:cNvPr id="1137" name=""/>
                        <p:cNvSpPr/>
                        <p:nvPr/>
                      </p:nvSpPr>
                      <p:spPr>
                        <a:xfrm>
                          <a:off x="1531800" y="1865160"/>
                          <a:ext cx="30240" cy="25560"/>
                        </a:xfrm>
                        <a:prstGeom prst="ellipse">
                          <a:avLst/>
                        </a:prstGeom>
                        <a:solidFill>
                          <a:srgbClr val="ff7f3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138" name=""/>
                        <p:cNvSpPr/>
                        <p:nvPr/>
                      </p:nvSpPr>
                      <p:spPr>
                        <a:xfrm>
                          <a:off x="1538280" y="1879560"/>
                          <a:ext cx="25920" cy="27360"/>
                        </a:xfrm>
                        <a:custGeom>
                          <a:avLst/>
                          <a:gdLst/>
                          <a:ahLst/>
                          <a:rect l="0" t="0" r="r" b="b"/>
                          <a:pathLst>
                            <a:path w="72" h="76">
                              <a:moveTo>
                                <a:pt x="72" y="0"/>
                              </a:moveTo>
                              <a:lnTo>
                                <a:pt x="49" y="23"/>
                              </a:lnTo>
                              <a:lnTo>
                                <a:pt x="40" y="49"/>
                              </a:lnTo>
                              <a:lnTo>
                                <a:pt x="31" y="76"/>
                              </a:lnTo>
                              <a:lnTo>
                                <a:pt x="17" y="45"/>
                              </a:lnTo>
                              <a:lnTo>
                                <a:pt x="0" y="17"/>
                              </a:lnTo>
                              <a:lnTo>
                                <a:pt x="36" y="17"/>
                              </a:lnTo>
                              <a:lnTo>
                                <a:pt x="72" y="0"/>
                              </a:lnTo>
                              <a:close/>
                            </a:path>
                          </a:pathLst>
                        </a:custGeom>
                        <a:solidFill>
                          <a:srgbClr val="ff7f3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139" name=""/>
                        <p:cNvSpPr/>
                        <p:nvPr/>
                      </p:nvSpPr>
                      <p:spPr>
                        <a:xfrm>
                          <a:off x="1542960" y="1889280"/>
                          <a:ext cx="25920" cy="35280"/>
                        </a:xfrm>
                        <a:custGeom>
                          <a:avLst/>
                          <a:gdLst/>
                          <a:ahLst/>
                          <a:rect l="0" t="0" r="r" b="b"/>
                          <a:pathLst>
                            <a:path w="72" h="98">
                              <a:moveTo>
                                <a:pt x="63" y="0"/>
                              </a:moveTo>
                              <a:lnTo>
                                <a:pt x="45" y="39"/>
                              </a:lnTo>
                              <a:lnTo>
                                <a:pt x="8" y="53"/>
                              </a:lnTo>
                              <a:lnTo>
                                <a:pt x="0" y="71"/>
                              </a:lnTo>
                              <a:lnTo>
                                <a:pt x="8" y="98"/>
                              </a:lnTo>
                              <a:lnTo>
                                <a:pt x="45" y="75"/>
                              </a:lnTo>
                              <a:lnTo>
                                <a:pt x="59" y="58"/>
                              </a:lnTo>
                              <a:lnTo>
                                <a:pt x="72" y="30"/>
                              </a:lnTo>
                              <a:lnTo>
                                <a:pt x="63" y="0"/>
                              </a:lnTo>
                              <a:close/>
                            </a:path>
                          </a:pathLst>
                        </a:custGeom>
                        <a:solidFill>
                          <a:srgbClr val="ff7f3f"/>
                        </a:solidFill>
                        <a:ln w="0">
                          <a:noFill/>
                        </a:ln>
                      </p:spPr>
                      <p:txBody>
                        <a:bodyPr lIns="90000" rIns="90000" tIns="-9720" bIns="-9720" anchor="t">
                          <a:noAutofit/>
                        </a:bodyPr>
                        <a:p>
                          <a:endParaRPr b="0" lang="en-US" sz="1800" spc="-1" strike="noStrike">
                            <a:solidFill>
                              <a:srgbClr val="000000"/>
                            </a:solidFill>
                            <a:latin typeface="Arial"/>
                          </a:endParaRPr>
                        </a:p>
                      </p:txBody>
                    </p:sp>
                  </p:grpSp>
                </p:grpSp>
              </p:grpSp>
              <p:sp>
                <p:nvSpPr>
                  <p:cNvPr id="1140" name=""/>
                  <p:cNvSpPr/>
                  <p:nvPr/>
                </p:nvSpPr>
                <p:spPr>
                  <a:xfrm>
                    <a:off x="1413000" y="1736640"/>
                    <a:ext cx="84600" cy="25920"/>
                  </a:xfrm>
                  <a:custGeom>
                    <a:avLst/>
                    <a:gdLst/>
                    <a:ahLst/>
                    <a:rect l="0" t="0" r="r" b="b"/>
                    <a:pathLst>
                      <a:path w="235" h="72">
                        <a:moveTo>
                          <a:pt x="222" y="31"/>
                        </a:moveTo>
                        <a:lnTo>
                          <a:pt x="235" y="49"/>
                        </a:lnTo>
                        <a:lnTo>
                          <a:pt x="200" y="31"/>
                        </a:lnTo>
                        <a:lnTo>
                          <a:pt x="133" y="17"/>
                        </a:lnTo>
                        <a:lnTo>
                          <a:pt x="84" y="31"/>
                        </a:lnTo>
                        <a:lnTo>
                          <a:pt x="44" y="49"/>
                        </a:lnTo>
                        <a:lnTo>
                          <a:pt x="0" y="72"/>
                        </a:lnTo>
                        <a:lnTo>
                          <a:pt x="44" y="40"/>
                        </a:lnTo>
                        <a:lnTo>
                          <a:pt x="80" y="17"/>
                        </a:lnTo>
                        <a:lnTo>
                          <a:pt x="124" y="8"/>
                        </a:lnTo>
                        <a:lnTo>
                          <a:pt x="150" y="0"/>
                        </a:lnTo>
                        <a:lnTo>
                          <a:pt x="200" y="13"/>
                        </a:lnTo>
                        <a:lnTo>
                          <a:pt x="222" y="31"/>
                        </a:lnTo>
                        <a:close/>
                      </a:path>
                    </a:pathLst>
                  </a:custGeom>
                  <a:solidFill>
                    <a:srgbClr val="ff9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1141" name=""/>
                <p:cNvGrpSpPr/>
                <p:nvPr/>
              </p:nvGrpSpPr>
              <p:grpSpPr>
                <a:xfrm>
                  <a:off x="1414440" y="1752480"/>
                  <a:ext cx="158760" cy="222840"/>
                  <a:chOff x="1414440" y="1752480"/>
                  <a:chExt cx="158760" cy="222840"/>
                </a:xfrm>
              </p:grpSpPr>
              <p:grpSp>
                <p:nvGrpSpPr>
                  <p:cNvPr id="1142" name=""/>
                  <p:cNvGrpSpPr/>
                  <p:nvPr/>
                </p:nvGrpSpPr>
                <p:grpSpPr>
                  <a:xfrm>
                    <a:off x="1455840" y="1917720"/>
                    <a:ext cx="98640" cy="57600"/>
                    <a:chOff x="1455840" y="1917720"/>
                    <a:chExt cx="98640" cy="57600"/>
                  </a:xfrm>
                </p:grpSpPr>
                <p:sp>
                  <p:nvSpPr>
                    <p:cNvPr id="1143" name=""/>
                    <p:cNvSpPr/>
                    <p:nvPr/>
                  </p:nvSpPr>
                  <p:spPr>
                    <a:xfrm>
                      <a:off x="1455840" y="1917720"/>
                      <a:ext cx="98640" cy="57600"/>
                    </a:xfrm>
                    <a:custGeom>
                      <a:avLst/>
                      <a:gdLst/>
                      <a:ahLst/>
                      <a:rect l="0" t="0" r="r" b="b"/>
                      <a:pathLst>
                        <a:path w="274" h="160">
                          <a:moveTo>
                            <a:pt x="274" y="13"/>
                          </a:moveTo>
                          <a:lnTo>
                            <a:pt x="256" y="0"/>
                          </a:lnTo>
                          <a:lnTo>
                            <a:pt x="225" y="0"/>
                          </a:lnTo>
                          <a:lnTo>
                            <a:pt x="181" y="13"/>
                          </a:lnTo>
                          <a:lnTo>
                            <a:pt x="132" y="22"/>
                          </a:lnTo>
                          <a:lnTo>
                            <a:pt x="0" y="39"/>
                          </a:lnTo>
                          <a:lnTo>
                            <a:pt x="79" y="75"/>
                          </a:lnTo>
                          <a:lnTo>
                            <a:pt x="123" y="111"/>
                          </a:lnTo>
                          <a:lnTo>
                            <a:pt x="177" y="138"/>
                          </a:lnTo>
                          <a:lnTo>
                            <a:pt x="212" y="160"/>
                          </a:lnTo>
                          <a:lnTo>
                            <a:pt x="239" y="160"/>
                          </a:lnTo>
                          <a:lnTo>
                            <a:pt x="256" y="147"/>
                          </a:lnTo>
                          <a:lnTo>
                            <a:pt x="261" y="115"/>
                          </a:lnTo>
                          <a:lnTo>
                            <a:pt x="252" y="93"/>
                          </a:lnTo>
                          <a:lnTo>
                            <a:pt x="239" y="71"/>
                          </a:lnTo>
                          <a:lnTo>
                            <a:pt x="256" y="62"/>
                          </a:lnTo>
                          <a:lnTo>
                            <a:pt x="269" y="39"/>
                          </a:lnTo>
                          <a:lnTo>
                            <a:pt x="274" y="13"/>
                          </a:lnTo>
                          <a:close/>
                        </a:path>
                      </a:pathLst>
                    </a:custGeom>
                    <a:solidFill>
                      <a:srgbClr val="ff00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144" name=""/>
                    <p:cNvSpPr/>
                    <p:nvPr/>
                  </p:nvSpPr>
                  <p:spPr>
                    <a:xfrm>
                      <a:off x="1459080" y="1933560"/>
                      <a:ext cx="89280" cy="25920"/>
                    </a:xfrm>
                    <a:custGeom>
                      <a:avLst/>
                      <a:gdLst/>
                      <a:ahLst/>
                      <a:rect l="0" t="0" r="r" b="b"/>
                      <a:pathLst>
                        <a:path w="248" h="72">
                          <a:moveTo>
                            <a:pt x="244" y="72"/>
                          </a:moveTo>
                          <a:lnTo>
                            <a:pt x="222" y="49"/>
                          </a:lnTo>
                          <a:lnTo>
                            <a:pt x="181" y="36"/>
                          </a:lnTo>
                          <a:lnTo>
                            <a:pt x="133" y="31"/>
                          </a:lnTo>
                          <a:lnTo>
                            <a:pt x="102" y="36"/>
                          </a:lnTo>
                          <a:lnTo>
                            <a:pt x="44" y="31"/>
                          </a:lnTo>
                          <a:lnTo>
                            <a:pt x="0" y="0"/>
                          </a:lnTo>
                          <a:lnTo>
                            <a:pt x="22" y="13"/>
                          </a:lnTo>
                          <a:lnTo>
                            <a:pt x="80" y="13"/>
                          </a:lnTo>
                          <a:lnTo>
                            <a:pt x="115" y="27"/>
                          </a:lnTo>
                          <a:lnTo>
                            <a:pt x="150" y="13"/>
                          </a:lnTo>
                          <a:lnTo>
                            <a:pt x="218" y="31"/>
                          </a:lnTo>
                          <a:lnTo>
                            <a:pt x="248" y="31"/>
                          </a:lnTo>
                          <a:lnTo>
                            <a:pt x="231" y="45"/>
                          </a:lnTo>
                          <a:lnTo>
                            <a:pt x="244" y="72"/>
                          </a:lnTo>
                          <a:close/>
                        </a:path>
                      </a:pathLst>
                    </a:custGeom>
                    <a:solidFill>
                      <a:srgbClr val="8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45" name=""/>
                    <p:cNvSpPr/>
                    <p:nvPr/>
                  </p:nvSpPr>
                  <p:spPr>
                    <a:xfrm>
                      <a:off x="1503360" y="1940040"/>
                      <a:ext cx="38520" cy="25920"/>
                    </a:xfrm>
                    <a:custGeom>
                      <a:avLst/>
                      <a:gdLst/>
                      <a:ahLst/>
                      <a:rect l="0" t="0" r="r" b="b"/>
                      <a:pathLst>
                        <a:path w="107" h="72">
                          <a:moveTo>
                            <a:pt x="94" y="17"/>
                          </a:moveTo>
                          <a:lnTo>
                            <a:pt x="107" y="40"/>
                          </a:lnTo>
                          <a:lnTo>
                            <a:pt x="103" y="68"/>
                          </a:lnTo>
                          <a:lnTo>
                            <a:pt x="90" y="72"/>
                          </a:lnTo>
                          <a:lnTo>
                            <a:pt x="67" y="59"/>
                          </a:lnTo>
                          <a:lnTo>
                            <a:pt x="40" y="17"/>
                          </a:lnTo>
                          <a:lnTo>
                            <a:pt x="0" y="0"/>
                          </a:lnTo>
                          <a:lnTo>
                            <a:pt x="26" y="0"/>
                          </a:lnTo>
                          <a:lnTo>
                            <a:pt x="67" y="4"/>
                          </a:lnTo>
                          <a:lnTo>
                            <a:pt x="94" y="17"/>
                          </a:lnTo>
                          <a:close/>
                        </a:path>
                      </a:pathLst>
                    </a:custGeom>
                    <a:solidFill>
                      <a:srgbClr val="ff1f3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1146" name=""/>
                  <p:cNvGrpSpPr/>
                  <p:nvPr/>
                </p:nvGrpSpPr>
                <p:grpSpPr>
                  <a:xfrm>
                    <a:off x="1414440" y="1752480"/>
                    <a:ext cx="158760" cy="45000"/>
                    <a:chOff x="1414440" y="1752480"/>
                    <a:chExt cx="158760" cy="45000"/>
                  </a:xfrm>
                </p:grpSpPr>
                <p:grpSp>
                  <p:nvGrpSpPr>
                    <p:cNvPr id="1147" name=""/>
                    <p:cNvGrpSpPr/>
                    <p:nvPr/>
                  </p:nvGrpSpPr>
                  <p:grpSpPr>
                    <a:xfrm>
                      <a:off x="1414440" y="1752480"/>
                      <a:ext cx="87840" cy="45000"/>
                      <a:chOff x="1414440" y="1752480"/>
                      <a:chExt cx="87840" cy="45000"/>
                    </a:xfrm>
                  </p:grpSpPr>
                  <p:sp>
                    <p:nvSpPr>
                      <p:cNvPr id="1148" name=""/>
                      <p:cNvSpPr/>
                      <p:nvPr/>
                    </p:nvSpPr>
                    <p:spPr>
                      <a:xfrm>
                        <a:off x="1422360" y="1760400"/>
                        <a:ext cx="65520" cy="25920"/>
                      </a:xfrm>
                      <a:custGeom>
                        <a:avLst/>
                        <a:gdLst/>
                        <a:ahLst/>
                        <a:rect l="0" t="0" r="r" b="b"/>
                        <a:pathLst>
                          <a:path w="182" h="72">
                            <a:moveTo>
                              <a:pt x="143" y="0"/>
                            </a:moveTo>
                            <a:lnTo>
                              <a:pt x="102" y="0"/>
                            </a:lnTo>
                            <a:lnTo>
                              <a:pt x="49" y="8"/>
                            </a:lnTo>
                            <a:lnTo>
                              <a:pt x="0" y="27"/>
                            </a:lnTo>
                            <a:lnTo>
                              <a:pt x="26" y="27"/>
                            </a:lnTo>
                            <a:lnTo>
                              <a:pt x="53" y="45"/>
                            </a:lnTo>
                            <a:lnTo>
                              <a:pt x="93" y="59"/>
                            </a:lnTo>
                            <a:lnTo>
                              <a:pt x="173" y="72"/>
                            </a:lnTo>
                            <a:lnTo>
                              <a:pt x="182" y="45"/>
                            </a:lnTo>
                            <a:lnTo>
                              <a:pt x="182" y="17"/>
                            </a:lnTo>
                            <a:lnTo>
                              <a:pt x="143" y="0"/>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49" name=""/>
                      <p:cNvSpPr/>
                      <p:nvPr/>
                    </p:nvSpPr>
                    <p:spPr>
                      <a:xfrm>
                        <a:off x="1455840" y="1765440"/>
                        <a:ext cx="2844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150" name=""/>
                      <p:cNvGrpSpPr/>
                      <p:nvPr/>
                    </p:nvGrpSpPr>
                    <p:grpSpPr>
                      <a:xfrm>
                        <a:off x="1442880" y="1757520"/>
                        <a:ext cx="44280" cy="28440"/>
                        <a:chOff x="1442880" y="1757520"/>
                        <a:chExt cx="44280" cy="28440"/>
                      </a:xfrm>
                    </p:grpSpPr>
                    <p:sp>
                      <p:nvSpPr>
                        <p:cNvPr id="1151" name=""/>
                        <p:cNvSpPr/>
                        <p:nvPr/>
                      </p:nvSpPr>
                      <p:spPr>
                        <a:xfrm>
                          <a:off x="1442880" y="1757520"/>
                          <a:ext cx="44280" cy="27000"/>
                        </a:xfrm>
                        <a:prstGeom prst="ellipse">
                          <a:avLst/>
                        </a:prstGeom>
                        <a:solidFill>
                          <a:srgbClr val="001f9f"/>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1152" name=""/>
                        <p:cNvSpPr/>
                        <p:nvPr/>
                      </p:nvSpPr>
                      <p:spPr>
                        <a:xfrm>
                          <a:off x="1457280" y="1760400"/>
                          <a:ext cx="2700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153" name=""/>
                      <p:cNvSpPr/>
                      <p:nvPr/>
                    </p:nvSpPr>
                    <p:spPr>
                      <a:xfrm>
                        <a:off x="1465200" y="176220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154" name=""/>
                      <p:cNvGrpSpPr/>
                      <p:nvPr/>
                    </p:nvGrpSpPr>
                    <p:grpSpPr>
                      <a:xfrm>
                        <a:off x="1414440" y="1752480"/>
                        <a:ext cx="87840" cy="45000"/>
                        <a:chOff x="1414440" y="1752480"/>
                        <a:chExt cx="87840" cy="45000"/>
                      </a:xfrm>
                    </p:grpSpPr>
                    <p:sp>
                      <p:nvSpPr>
                        <p:cNvPr id="1155" name=""/>
                        <p:cNvSpPr/>
                        <p:nvPr/>
                      </p:nvSpPr>
                      <p:spPr>
                        <a:xfrm>
                          <a:off x="1414440" y="1752480"/>
                          <a:ext cx="87840" cy="25920"/>
                        </a:xfrm>
                        <a:custGeom>
                          <a:avLst/>
                          <a:gdLst/>
                          <a:ahLst/>
                          <a:rect l="0" t="0" r="r" b="b"/>
                          <a:pathLst>
                            <a:path w="244" h="72">
                              <a:moveTo>
                                <a:pt x="244" y="27"/>
                              </a:moveTo>
                              <a:lnTo>
                                <a:pt x="213" y="49"/>
                              </a:lnTo>
                              <a:lnTo>
                                <a:pt x="196" y="45"/>
                              </a:lnTo>
                              <a:lnTo>
                                <a:pt x="155" y="31"/>
                              </a:lnTo>
                              <a:lnTo>
                                <a:pt x="133" y="23"/>
                              </a:lnTo>
                              <a:lnTo>
                                <a:pt x="120" y="31"/>
                              </a:lnTo>
                              <a:lnTo>
                                <a:pt x="89" y="31"/>
                              </a:lnTo>
                              <a:lnTo>
                                <a:pt x="67" y="45"/>
                              </a:lnTo>
                              <a:lnTo>
                                <a:pt x="48" y="49"/>
                              </a:lnTo>
                              <a:lnTo>
                                <a:pt x="22" y="63"/>
                              </a:lnTo>
                              <a:lnTo>
                                <a:pt x="0" y="72"/>
                              </a:lnTo>
                              <a:lnTo>
                                <a:pt x="22" y="49"/>
                              </a:lnTo>
                              <a:lnTo>
                                <a:pt x="52" y="40"/>
                              </a:lnTo>
                              <a:lnTo>
                                <a:pt x="80" y="23"/>
                              </a:lnTo>
                              <a:lnTo>
                                <a:pt x="106" y="13"/>
                              </a:lnTo>
                              <a:lnTo>
                                <a:pt x="142" y="0"/>
                              </a:lnTo>
                              <a:lnTo>
                                <a:pt x="164" y="13"/>
                              </a:lnTo>
                              <a:lnTo>
                                <a:pt x="213" y="31"/>
                              </a:lnTo>
                              <a:lnTo>
                                <a:pt x="244" y="27"/>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56" name=""/>
                        <p:cNvSpPr/>
                        <p:nvPr/>
                      </p:nvSpPr>
                      <p:spPr>
                        <a:xfrm>
                          <a:off x="1428840" y="1771560"/>
                          <a:ext cx="62280" cy="25920"/>
                        </a:xfrm>
                        <a:custGeom>
                          <a:avLst/>
                          <a:gdLst/>
                          <a:ahLst/>
                          <a:rect l="0" t="0" r="r" b="b"/>
                          <a:pathLst>
                            <a:path w="173" h="72">
                              <a:moveTo>
                                <a:pt x="165" y="23"/>
                              </a:moveTo>
                              <a:lnTo>
                                <a:pt x="128" y="31"/>
                              </a:lnTo>
                              <a:lnTo>
                                <a:pt x="111" y="40"/>
                              </a:lnTo>
                              <a:lnTo>
                                <a:pt x="75" y="27"/>
                              </a:lnTo>
                              <a:lnTo>
                                <a:pt x="53" y="23"/>
                              </a:lnTo>
                              <a:lnTo>
                                <a:pt x="30" y="4"/>
                              </a:lnTo>
                              <a:lnTo>
                                <a:pt x="8" y="0"/>
                              </a:lnTo>
                              <a:lnTo>
                                <a:pt x="0" y="0"/>
                              </a:lnTo>
                              <a:lnTo>
                                <a:pt x="30" y="23"/>
                              </a:lnTo>
                              <a:lnTo>
                                <a:pt x="49" y="27"/>
                              </a:lnTo>
                              <a:lnTo>
                                <a:pt x="67" y="40"/>
                              </a:lnTo>
                              <a:lnTo>
                                <a:pt x="89" y="53"/>
                              </a:lnTo>
                              <a:lnTo>
                                <a:pt x="106" y="53"/>
                              </a:lnTo>
                              <a:lnTo>
                                <a:pt x="124" y="59"/>
                              </a:lnTo>
                              <a:lnTo>
                                <a:pt x="173" y="72"/>
                              </a:lnTo>
                              <a:lnTo>
                                <a:pt x="156" y="49"/>
                              </a:lnTo>
                              <a:lnTo>
                                <a:pt x="165" y="2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nvGrpSpPr>
                    <p:cNvPr id="1157" name=""/>
                    <p:cNvGrpSpPr/>
                    <p:nvPr/>
                  </p:nvGrpSpPr>
                  <p:grpSpPr>
                    <a:xfrm>
                      <a:off x="1530360" y="1766880"/>
                      <a:ext cx="42840" cy="30240"/>
                      <a:chOff x="1530360" y="1766880"/>
                      <a:chExt cx="42840" cy="30240"/>
                    </a:xfrm>
                  </p:grpSpPr>
                  <p:sp>
                    <p:nvSpPr>
                      <p:cNvPr id="1158" name=""/>
                      <p:cNvSpPr/>
                      <p:nvPr/>
                    </p:nvSpPr>
                    <p:spPr>
                      <a:xfrm>
                        <a:off x="1546200" y="1768320"/>
                        <a:ext cx="2556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159" name=""/>
                      <p:cNvGrpSpPr/>
                      <p:nvPr/>
                    </p:nvGrpSpPr>
                    <p:grpSpPr>
                      <a:xfrm>
                        <a:off x="1536840" y="1768320"/>
                        <a:ext cx="34920" cy="28800"/>
                        <a:chOff x="1536840" y="1768320"/>
                        <a:chExt cx="34920" cy="28800"/>
                      </a:xfrm>
                    </p:grpSpPr>
                    <p:sp>
                      <p:nvSpPr>
                        <p:cNvPr id="1160" name=""/>
                        <p:cNvSpPr/>
                        <p:nvPr/>
                      </p:nvSpPr>
                      <p:spPr>
                        <a:xfrm>
                          <a:off x="1536840" y="1768320"/>
                          <a:ext cx="25920" cy="25920"/>
                        </a:xfrm>
                        <a:custGeom>
                          <a:avLst/>
                          <a:gdLst/>
                          <a:ahLst/>
                          <a:rect l="0" t="0" r="r" b="b"/>
                          <a:pathLst>
                            <a:path w="72" h="72">
                              <a:moveTo>
                                <a:pt x="68" y="8"/>
                              </a:moveTo>
                              <a:lnTo>
                                <a:pt x="72" y="4"/>
                              </a:lnTo>
                              <a:lnTo>
                                <a:pt x="40" y="0"/>
                              </a:lnTo>
                              <a:lnTo>
                                <a:pt x="17" y="4"/>
                              </a:lnTo>
                              <a:lnTo>
                                <a:pt x="0" y="27"/>
                              </a:lnTo>
                              <a:lnTo>
                                <a:pt x="17" y="53"/>
                              </a:lnTo>
                              <a:lnTo>
                                <a:pt x="40" y="72"/>
                              </a:lnTo>
                              <a:lnTo>
                                <a:pt x="49" y="53"/>
                              </a:lnTo>
                              <a:lnTo>
                                <a:pt x="68" y="31"/>
                              </a:lnTo>
                              <a:lnTo>
                                <a:pt x="68" y="8"/>
                              </a:lnTo>
                              <a:close/>
                            </a:path>
                          </a:pathLst>
                        </a:custGeom>
                        <a:solidFill>
                          <a:srgbClr val="001f9f"/>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61" name=""/>
                        <p:cNvSpPr/>
                        <p:nvPr/>
                      </p:nvSpPr>
                      <p:spPr>
                        <a:xfrm>
                          <a:off x="1546200" y="17715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162" name=""/>
                      <p:cNvSpPr/>
                      <p:nvPr/>
                    </p:nvSpPr>
                    <p:spPr>
                      <a:xfrm>
                        <a:off x="1547640" y="17715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163" name=""/>
                      <p:cNvGrpSpPr/>
                      <p:nvPr/>
                    </p:nvGrpSpPr>
                    <p:grpSpPr>
                      <a:xfrm>
                        <a:off x="1530360" y="1766880"/>
                        <a:ext cx="41760" cy="28800"/>
                        <a:chOff x="1530360" y="1766880"/>
                        <a:chExt cx="41760" cy="28800"/>
                      </a:xfrm>
                    </p:grpSpPr>
                    <p:sp>
                      <p:nvSpPr>
                        <p:cNvPr id="1164" name=""/>
                        <p:cNvSpPr/>
                        <p:nvPr/>
                      </p:nvSpPr>
                      <p:spPr>
                        <a:xfrm>
                          <a:off x="1530360" y="1768320"/>
                          <a:ext cx="25920" cy="27360"/>
                        </a:xfrm>
                        <a:custGeom>
                          <a:avLst/>
                          <a:gdLst/>
                          <a:ahLst/>
                          <a:rect l="0" t="0" r="r" b="b"/>
                          <a:pathLst>
                            <a:path w="72" h="76">
                              <a:moveTo>
                                <a:pt x="72" y="76"/>
                              </a:moveTo>
                              <a:lnTo>
                                <a:pt x="59" y="63"/>
                              </a:lnTo>
                              <a:lnTo>
                                <a:pt x="27" y="49"/>
                              </a:lnTo>
                              <a:lnTo>
                                <a:pt x="8" y="27"/>
                              </a:lnTo>
                              <a:lnTo>
                                <a:pt x="0" y="0"/>
                              </a:lnTo>
                              <a:lnTo>
                                <a:pt x="0" y="27"/>
                              </a:lnTo>
                              <a:lnTo>
                                <a:pt x="23" y="49"/>
                              </a:lnTo>
                              <a:lnTo>
                                <a:pt x="72" y="76"/>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165" name=""/>
                        <p:cNvSpPr/>
                        <p:nvPr/>
                      </p:nvSpPr>
                      <p:spPr>
                        <a:xfrm>
                          <a:off x="1536840" y="1766880"/>
                          <a:ext cx="35280" cy="25920"/>
                        </a:xfrm>
                        <a:custGeom>
                          <a:avLst/>
                          <a:gdLst/>
                          <a:ahLst/>
                          <a:rect l="0" t="0" r="r" b="b"/>
                          <a:pathLst>
                            <a:path w="98" h="72">
                              <a:moveTo>
                                <a:pt x="0" y="13"/>
                              </a:moveTo>
                              <a:lnTo>
                                <a:pt x="26" y="0"/>
                              </a:lnTo>
                              <a:lnTo>
                                <a:pt x="53" y="0"/>
                              </a:lnTo>
                              <a:lnTo>
                                <a:pt x="80" y="13"/>
                              </a:lnTo>
                              <a:lnTo>
                                <a:pt x="98" y="36"/>
                              </a:lnTo>
                              <a:lnTo>
                                <a:pt x="75" y="72"/>
                              </a:lnTo>
                              <a:lnTo>
                                <a:pt x="53" y="36"/>
                              </a:lnTo>
                              <a:lnTo>
                                <a:pt x="26" y="13"/>
                              </a:lnTo>
                              <a:lnTo>
                                <a:pt x="0" y="1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grpSp>
            <p:grpSp>
              <p:nvGrpSpPr>
                <p:cNvPr id="1166" name=""/>
                <p:cNvGrpSpPr/>
                <p:nvPr/>
              </p:nvGrpSpPr>
              <p:grpSpPr>
                <a:xfrm>
                  <a:off x="942840" y="1446120"/>
                  <a:ext cx="684720" cy="692640"/>
                  <a:chOff x="942840" y="1446120"/>
                  <a:chExt cx="684720" cy="692640"/>
                </a:xfrm>
              </p:grpSpPr>
              <p:sp>
                <p:nvSpPr>
                  <p:cNvPr id="1167" name=""/>
                  <p:cNvSpPr/>
                  <p:nvPr/>
                </p:nvSpPr>
                <p:spPr>
                  <a:xfrm>
                    <a:off x="1389240" y="1714680"/>
                    <a:ext cx="128880" cy="35280"/>
                  </a:xfrm>
                  <a:custGeom>
                    <a:avLst/>
                    <a:gdLst/>
                    <a:ahLst/>
                    <a:rect l="0" t="0" r="r" b="b"/>
                    <a:pathLst>
                      <a:path w="358" h="98">
                        <a:moveTo>
                          <a:pt x="358" y="98"/>
                        </a:moveTo>
                        <a:lnTo>
                          <a:pt x="349" y="53"/>
                        </a:lnTo>
                        <a:lnTo>
                          <a:pt x="340" y="30"/>
                        </a:lnTo>
                        <a:lnTo>
                          <a:pt x="318" y="13"/>
                        </a:lnTo>
                        <a:lnTo>
                          <a:pt x="274" y="4"/>
                        </a:lnTo>
                        <a:lnTo>
                          <a:pt x="199" y="0"/>
                        </a:lnTo>
                        <a:lnTo>
                          <a:pt x="127" y="8"/>
                        </a:lnTo>
                        <a:lnTo>
                          <a:pt x="74" y="35"/>
                        </a:lnTo>
                        <a:lnTo>
                          <a:pt x="44" y="53"/>
                        </a:lnTo>
                        <a:lnTo>
                          <a:pt x="0" y="71"/>
                        </a:lnTo>
                        <a:lnTo>
                          <a:pt x="30" y="71"/>
                        </a:lnTo>
                        <a:lnTo>
                          <a:pt x="52" y="80"/>
                        </a:lnTo>
                        <a:lnTo>
                          <a:pt x="92" y="62"/>
                        </a:lnTo>
                        <a:lnTo>
                          <a:pt x="136" y="53"/>
                        </a:lnTo>
                        <a:lnTo>
                          <a:pt x="203" y="44"/>
                        </a:lnTo>
                        <a:lnTo>
                          <a:pt x="287" y="53"/>
                        </a:lnTo>
                        <a:lnTo>
                          <a:pt x="318" y="71"/>
                        </a:lnTo>
                        <a:lnTo>
                          <a:pt x="336" y="98"/>
                        </a:lnTo>
                        <a:lnTo>
                          <a:pt x="358" y="98"/>
                        </a:lnTo>
                        <a:close/>
                      </a:path>
                    </a:pathLst>
                  </a:custGeom>
                  <a:solidFill>
                    <a:srgbClr val="5f3f1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168" name=""/>
                  <p:cNvSpPr/>
                  <p:nvPr/>
                </p:nvSpPr>
                <p:spPr>
                  <a:xfrm>
                    <a:off x="1539720" y="1733400"/>
                    <a:ext cx="39960" cy="27360"/>
                  </a:xfrm>
                  <a:custGeom>
                    <a:avLst/>
                    <a:gdLst/>
                    <a:ahLst/>
                    <a:rect l="0" t="0" r="r" b="b"/>
                    <a:pathLst>
                      <a:path w="111" h="76">
                        <a:moveTo>
                          <a:pt x="111" y="0"/>
                        </a:moveTo>
                        <a:lnTo>
                          <a:pt x="80" y="0"/>
                        </a:lnTo>
                        <a:lnTo>
                          <a:pt x="48" y="17"/>
                        </a:lnTo>
                        <a:lnTo>
                          <a:pt x="26" y="31"/>
                        </a:lnTo>
                        <a:lnTo>
                          <a:pt x="0" y="76"/>
                        </a:lnTo>
                        <a:lnTo>
                          <a:pt x="44" y="49"/>
                        </a:lnTo>
                        <a:lnTo>
                          <a:pt x="75" y="45"/>
                        </a:lnTo>
                        <a:lnTo>
                          <a:pt x="102" y="40"/>
                        </a:lnTo>
                        <a:lnTo>
                          <a:pt x="111" y="0"/>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grpSp>
                <p:nvGrpSpPr>
                  <p:cNvPr id="1169" name=""/>
                  <p:cNvGrpSpPr/>
                  <p:nvPr/>
                </p:nvGrpSpPr>
                <p:grpSpPr>
                  <a:xfrm>
                    <a:off x="942840" y="1446120"/>
                    <a:ext cx="684720" cy="692640"/>
                    <a:chOff x="942840" y="1446120"/>
                    <a:chExt cx="684720" cy="692640"/>
                  </a:xfrm>
                </p:grpSpPr>
                <p:sp>
                  <p:nvSpPr>
                    <p:cNvPr id="1170" name=""/>
                    <p:cNvSpPr/>
                    <p:nvPr/>
                  </p:nvSpPr>
                  <p:spPr>
                    <a:xfrm>
                      <a:off x="942840" y="1446120"/>
                      <a:ext cx="684720" cy="692640"/>
                    </a:xfrm>
                    <a:custGeom>
                      <a:avLst/>
                      <a:gdLst/>
                      <a:ahLst/>
                      <a:rect l="0" t="0" r="r" b="b"/>
                      <a:pathLst>
                        <a:path w="1902" h="1924">
                          <a:moveTo>
                            <a:pt x="1779" y="583"/>
                          </a:moveTo>
                          <a:lnTo>
                            <a:pt x="1796" y="653"/>
                          </a:lnTo>
                          <a:lnTo>
                            <a:pt x="1801" y="702"/>
                          </a:lnTo>
                          <a:lnTo>
                            <a:pt x="1796" y="746"/>
                          </a:lnTo>
                          <a:lnTo>
                            <a:pt x="1787" y="781"/>
                          </a:lnTo>
                          <a:lnTo>
                            <a:pt x="1832" y="750"/>
                          </a:lnTo>
                          <a:lnTo>
                            <a:pt x="1871" y="702"/>
                          </a:lnTo>
                          <a:lnTo>
                            <a:pt x="1893" y="662"/>
                          </a:lnTo>
                          <a:lnTo>
                            <a:pt x="1902" y="583"/>
                          </a:lnTo>
                          <a:lnTo>
                            <a:pt x="1880" y="494"/>
                          </a:lnTo>
                          <a:lnTo>
                            <a:pt x="1845" y="427"/>
                          </a:lnTo>
                          <a:lnTo>
                            <a:pt x="1796" y="357"/>
                          </a:lnTo>
                          <a:lnTo>
                            <a:pt x="1735" y="286"/>
                          </a:lnTo>
                          <a:lnTo>
                            <a:pt x="1664" y="224"/>
                          </a:lnTo>
                          <a:lnTo>
                            <a:pt x="1598" y="180"/>
                          </a:lnTo>
                          <a:lnTo>
                            <a:pt x="1532" y="145"/>
                          </a:lnTo>
                          <a:lnTo>
                            <a:pt x="1430" y="101"/>
                          </a:lnTo>
                          <a:lnTo>
                            <a:pt x="1359" y="74"/>
                          </a:lnTo>
                          <a:lnTo>
                            <a:pt x="1332" y="35"/>
                          </a:lnTo>
                          <a:lnTo>
                            <a:pt x="1306" y="22"/>
                          </a:lnTo>
                          <a:lnTo>
                            <a:pt x="1262" y="4"/>
                          </a:lnTo>
                          <a:lnTo>
                            <a:pt x="1213" y="4"/>
                          </a:lnTo>
                          <a:lnTo>
                            <a:pt x="1134" y="22"/>
                          </a:lnTo>
                          <a:lnTo>
                            <a:pt x="1068" y="4"/>
                          </a:lnTo>
                          <a:lnTo>
                            <a:pt x="1024" y="0"/>
                          </a:lnTo>
                          <a:lnTo>
                            <a:pt x="984" y="4"/>
                          </a:lnTo>
                          <a:lnTo>
                            <a:pt x="927" y="8"/>
                          </a:lnTo>
                          <a:lnTo>
                            <a:pt x="882" y="44"/>
                          </a:lnTo>
                          <a:lnTo>
                            <a:pt x="825" y="26"/>
                          </a:lnTo>
                          <a:lnTo>
                            <a:pt x="768" y="22"/>
                          </a:lnTo>
                          <a:lnTo>
                            <a:pt x="710" y="44"/>
                          </a:lnTo>
                          <a:lnTo>
                            <a:pt x="622" y="83"/>
                          </a:lnTo>
                          <a:lnTo>
                            <a:pt x="565" y="141"/>
                          </a:lnTo>
                          <a:lnTo>
                            <a:pt x="503" y="211"/>
                          </a:lnTo>
                          <a:lnTo>
                            <a:pt x="449" y="273"/>
                          </a:lnTo>
                          <a:lnTo>
                            <a:pt x="396" y="326"/>
                          </a:lnTo>
                          <a:lnTo>
                            <a:pt x="357" y="396"/>
                          </a:lnTo>
                          <a:lnTo>
                            <a:pt x="326" y="480"/>
                          </a:lnTo>
                          <a:lnTo>
                            <a:pt x="277" y="587"/>
                          </a:lnTo>
                          <a:lnTo>
                            <a:pt x="229" y="733"/>
                          </a:lnTo>
                          <a:lnTo>
                            <a:pt x="180" y="887"/>
                          </a:lnTo>
                          <a:lnTo>
                            <a:pt x="145" y="1059"/>
                          </a:lnTo>
                          <a:lnTo>
                            <a:pt x="114" y="1165"/>
                          </a:lnTo>
                          <a:lnTo>
                            <a:pt x="97" y="1288"/>
                          </a:lnTo>
                          <a:lnTo>
                            <a:pt x="61" y="1425"/>
                          </a:lnTo>
                          <a:lnTo>
                            <a:pt x="26" y="1554"/>
                          </a:lnTo>
                          <a:lnTo>
                            <a:pt x="8" y="1624"/>
                          </a:lnTo>
                          <a:lnTo>
                            <a:pt x="0" y="1704"/>
                          </a:lnTo>
                          <a:lnTo>
                            <a:pt x="8" y="1770"/>
                          </a:lnTo>
                          <a:lnTo>
                            <a:pt x="26" y="1818"/>
                          </a:lnTo>
                          <a:lnTo>
                            <a:pt x="35" y="1809"/>
                          </a:lnTo>
                          <a:lnTo>
                            <a:pt x="61" y="1858"/>
                          </a:lnTo>
                          <a:lnTo>
                            <a:pt x="88" y="1889"/>
                          </a:lnTo>
                          <a:lnTo>
                            <a:pt x="127" y="1902"/>
                          </a:lnTo>
                          <a:lnTo>
                            <a:pt x="145" y="1889"/>
                          </a:lnTo>
                          <a:lnTo>
                            <a:pt x="154" y="1911"/>
                          </a:lnTo>
                          <a:lnTo>
                            <a:pt x="171" y="1924"/>
                          </a:lnTo>
                          <a:lnTo>
                            <a:pt x="207" y="1911"/>
                          </a:lnTo>
                          <a:lnTo>
                            <a:pt x="242" y="1889"/>
                          </a:lnTo>
                          <a:lnTo>
                            <a:pt x="277" y="1867"/>
                          </a:lnTo>
                          <a:lnTo>
                            <a:pt x="304" y="1858"/>
                          </a:lnTo>
                          <a:lnTo>
                            <a:pt x="366" y="1876"/>
                          </a:lnTo>
                          <a:lnTo>
                            <a:pt x="423" y="1880"/>
                          </a:lnTo>
                          <a:lnTo>
                            <a:pt x="467" y="1867"/>
                          </a:lnTo>
                          <a:lnTo>
                            <a:pt x="454" y="1854"/>
                          </a:lnTo>
                          <a:lnTo>
                            <a:pt x="516" y="1880"/>
                          </a:lnTo>
                          <a:lnTo>
                            <a:pt x="574" y="1889"/>
                          </a:lnTo>
                          <a:lnTo>
                            <a:pt x="640" y="1880"/>
                          </a:lnTo>
                          <a:lnTo>
                            <a:pt x="693" y="1854"/>
                          </a:lnTo>
                          <a:lnTo>
                            <a:pt x="746" y="1814"/>
                          </a:lnTo>
                          <a:lnTo>
                            <a:pt x="763" y="1770"/>
                          </a:lnTo>
                          <a:lnTo>
                            <a:pt x="768" y="1717"/>
                          </a:lnTo>
                          <a:lnTo>
                            <a:pt x="816" y="1735"/>
                          </a:lnTo>
                          <a:lnTo>
                            <a:pt x="777" y="1686"/>
                          </a:lnTo>
                          <a:lnTo>
                            <a:pt x="750" y="1633"/>
                          </a:lnTo>
                          <a:lnTo>
                            <a:pt x="710" y="1523"/>
                          </a:lnTo>
                          <a:lnTo>
                            <a:pt x="671" y="1416"/>
                          </a:lnTo>
                          <a:lnTo>
                            <a:pt x="644" y="1284"/>
                          </a:lnTo>
                          <a:lnTo>
                            <a:pt x="618" y="1138"/>
                          </a:lnTo>
                          <a:lnTo>
                            <a:pt x="596" y="843"/>
                          </a:lnTo>
                          <a:lnTo>
                            <a:pt x="719" y="843"/>
                          </a:lnTo>
                          <a:lnTo>
                            <a:pt x="759" y="887"/>
                          </a:lnTo>
                          <a:lnTo>
                            <a:pt x="777" y="935"/>
                          </a:lnTo>
                          <a:lnTo>
                            <a:pt x="825" y="957"/>
                          </a:lnTo>
                          <a:lnTo>
                            <a:pt x="869" y="966"/>
                          </a:lnTo>
                          <a:lnTo>
                            <a:pt x="896" y="944"/>
                          </a:lnTo>
                          <a:lnTo>
                            <a:pt x="944" y="900"/>
                          </a:lnTo>
                          <a:lnTo>
                            <a:pt x="975" y="838"/>
                          </a:lnTo>
                          <a:lnTo>
                            <a:pt x="1010" y="772"/>
                          </a:lnTo>
                          <a:lnTo>
                            <a:pt x="1059" y="702"/>
                          </a:lnTo>
                          <a:lnTo>
                            <a:pt x="1112" y="680"/>
                          </a:lnTo>
                          <a:lnTo>
                            <a:pt x="1134" y="662"/>
                          </a:lnTo>
                          <a:lnTo>
                            <a:pt x="1129" y="631"/>
                          </a:lnTo>
                          <a:lnTo>
                            <a:pt x="1121" y="600"/>
                          </a:lnTo>
                          <a:lnTo>
                            <a:pt x="1143" y="543"/>
                          </a:lnTo>
                          <a:lnTo>
                            <a:pt x="1178" y="490"/>
                          </a:lnTo>
                          <a:lnTo>
                            <a:pt x="1213" y="454"/>
                          </a:lnTo>
                          <a:lnTo>
                            <a:pt x="1262" y="414"/>
                          </a:lnTo>
                          <a:lnTo>
                            <a:pt x="1337" y="374"/>
                          </a:lnTo>
                          <a:lnTo>
                            <a:pt x="1407" y="366"/>
                          </a:lnTo>
                          <a:lnTo>
                            <a:pt x="1466" y="374"/>
                          </a:lnTo>
                          <a:lnTo>
                            <a:pt x="1567" y="396"/>
                          </a:lnTo>
                          <a:lnTo>
                            <a:pt x="1611" y="432"/>
                          </a:lnTo>
                          <a:lnTo>
                            <a:pt x="1664" y="490"/>
                          </a:lnTo>
                          <a:lnTo>
                            <a:pt x="1699" y="556"/>
                          </a:lnTo>
                          <a:lnTo>
                            <a:pt x="1721" y="613"/>
                          </a:lnTo>
                          <a:lnTo>
                            <a:pt x="1739" y="680"/>
                          </a:lnTo>
                          <a:lnTo>
                            <a:pt x="1735" y="759"/>
                          </a:lnTo>
                          <a:lnTo>
                            <a:pt x="1761" y="728"/>
                          </a:lnTo>
                          <a:lnTo>
                            <a:pt x="1774" y="693"/>
                          </a:lnTo>
                          <a:lnTo>
                            <a:pt x="1783" y="649"/>
                          </a:lnTo>
                          <a:lnTo>
                            <a:pt x="1779" y="583"/>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71" name=""/>
                    <p:cNvGrpSpPr/>
                    <p:nvPr/>
                  </p:nvGrpSpPr>
                  <p:grpSpPr>
                    <a:xfrm>
                      <a:off x="955800" y="1484280"/>
                      <a:ext cx="544680" cy="605520"/>
                      <a:chOff x="955800" y="1484280"/>
                      <a:chExt cx="544680" cy="605520"/>
                    </a:xfrm>
                  </p:grpSpPr>
                  <p:sp>
                    <p:nvSpPr>
                      <p:cNvPr id="1172" name=""/>
                      <p:cNvSpPr/>
                      <p:nvPr/>
                    </p:nvSpPr>
                    <p:spPr>
                      <a:xfrm>
                        <a:off x="1114560" y="1827360"/>
                        <a:ext cx="68760" cy="241560"/>
                      </a:xfrm>
                      <a:custGeom>
                        <a:avLst/>
                        <a:gdLst/>
                        <a:ahLst/>
                        <a:rect l="0" t="0" r="r" b="b"/>
                        <a:pathLst>
                          <a:path w="191" h="671">
                            <a:moveTo>
                              <a:pt x="111" y="35"/>
                            </a:moveTo>
                            <a:lnTo>
                              <a:pt x="115" y="141"/>
                            </a:lnTo>
                            <a:lnTo>
                              <a:pt x="124" y="264"/>
                            </a:lnTo>
                            <a:lnTo>
                              <a:pt x="147" y="367"/>
                            </a:lnTo>
                            <a:lnTo>
                              <a:pt x="191" y="543"/>
                            </a:lnTo>
                            <a:lnTo>
                              <a:pt x="142" y="477"/>
                            </a:lnTo>
                            <a:lnTo>
                              <a:pt x="115" y="397"/>
                            </a:lnTo>
                            <a:lnTo>
                              <a:pt x="98" y="344"/>
                            </a:lnTo>
                            <a:lnTo>
                              <a:pt x="71" y="264"/>
                            </a:lnTo>
                            <a:lnTo>
                              <a:pt x="53" y="384"/>
                            </a:lnTo>
                            <a:lnTo>
                              <a:pt x="53" y="490"/>
                            </a:lnTo>
                            <a:lnTo>
                              <a:pt x="62" y="565"/>
                            </a:lnTo>
                            <a:lnTo>
                              <a:pt x="26" y="671"/>
                            </a:lnTo>
                            <a:lnTo>
                              <a:pt x="13" y="389"/>
                            </a:lnTo>
                            <a:lnTo>
                              <a:pt x="0" y="242"/>
                            </a:lnTo>
                            <a:lnTo>
                              <a:pt x="4" y="101"/>
                            </a:lnTo>
                            <a:lnTo>
                              <a:pt x="17" y="0"/>
                            </a:lnTo>
                            <a:lnTo>
                              <a:pt x="49" y="83"/>
                            </a:lnTo>
                            <a:lnTo>
                              <a:pt x="71" y="163"/>
                            </a:lnTo>
                            <a:lnTo>
                              <a:pt x="89" y="97"/>
                            </a:lnTo>
                            <a:lnTo>
                              <a:pt x="111" y="35"/>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3" name=""/>
                      <p:cNvSpPr/>
                      <p:nvPr/>
                    </p:nvSpPr>
                    <p:spPr>
                      <a:xfrm>
                        <a:off x="955800" y="1676520"/>
                        <a:ext cx="181440" cy="413280"/>
                      </a:xfrm>
                      <a:custGeom>
                        <a:avLst/>
                        <a:gdLst/>
                        <a:ahLst/>
                        <a:rect l="0" t="0" r="r" b="b"/>
                        <a:pathLst>
                          <a:path w="504" h="1148">
                            <a:moveTo>
                              <a:pt x="265" y="1077"/>
                            </a:moveTo>
                            <a:lnTo>
                              <a:pt x="296" y="897"/>
                            </a:lnTo>
                            <a:lnTo>
                              <a:pt x="309" y="755"/>
                            </a:lnTo>
                            <a:lnTo>
                              <a:pt x="336" y="583"/>
                            </a:lnTo>
                            <a:lnTo>
                              <a:pt x="340" y="671"/>
                            </a:lnTo>
                            <a:lnTo>
                              <a:pt x="349" y="785"/>
                            </a:lnTo>
                            <a:lnTo>
                              <a:pt x="385" y="658"/>
                            </a:lnTo>
                            <a:lnTo>
                              <a:pt x="394" y="561"/>
                            </a:lnTo>
                            <a:lnTo>
                              <a:pt x="385" y="455"/>
                            </a:lnTo>
                            <a:lnTo>
                              <a:pt x="412" y="353"/>
                            </a:lnTo>
                            <a:lnTo>
                              <a:pt x="442" y="238"/>
                            </a:lnTo>
                            <a:lnTo>
                              <a:pt x="504" y="70"/>
                            </a:lnTo>
                            <a:lnTo>
                              <a:pt x="425" y="198"/>
                            </a:lnTo>
                            <a:lnTo>
                              <a:pt x="362" y="305"/>
                            </a:lnTo>
                            <a:lnTo>
                              <a:pt x="300" y="450"/>
                            </a:lnTo>
                            <a:lnTo>
                              <a:pt x="318" y="296"/>
                            </a:lnTo>
                            <a:lnTo>
                              <a:pt x="336" y="158"/>
                            </a:lnTo>
                            <a:lnTo>
                              <a:pt x="362" y="0"/>
                            </a:lnTo>
                            <a:lnTo>
                              <a:pt x="314" y="136"/>
                            </a:lnTo>
                            <a:lnTo>
                              <a:pt x="274" y="251"/>
                            </a:lnTo>
                            <a:lnTo>
                              <a:pt x="243" y="375"/>
                            </a:lnTo>
                            <a:lnTo>
                              <a:pt x="221" y="455"/>
                            </a:lnTo>
                            <a:lnTo>
                              <a:pt x="177" y="521"/>
                            </a:lnTo>
                            <a:lnTo>
                              <a:pt x="119" y="609"/>
                            </a:lnTo>
                            <a:lnTo>
                              <a:pt x="79" y="693"/>
                            </a:lnTo>
                            <a:lnTo>
                              <a:pt x="52" y="790"/>
                            </a:lnTo>
                            <a:lnTo>
                              <a:pt x="26" y="883"/>
                            </a:lnTo>
                            <a:lnTo>
                              <a:pt x="17" y="963"/>
                            </a:lnTo>
                            <a:lnTo>
                              <a:pt x="13" y="1020"/>
                            </a:lnTo>
                            <a:lnTo>
                              <a:pt x="0" y="1073"/>
                            </a:lnTo>
                            <a:lnTo>
                              <a:pt x="13" y="1148"/>
                            </a:lnTo>
                            <a:lnTo>
                              <a:pt x="48" y="1073"/>
                            </a:lnTo>
                            <a:lnTo>
                              <a:pt x="70" y="1148"/>
                            </a:lnTo>
                            <a:lnTo>
                              <a:pt x="92" y="1091"/>
                            </a:lnTo>
                            <a:lnTo>
                              <a:pt x="92" y="1042"/>
                            </a:lnTo>
                            <a:lnTo>
                              <a:pt x="88" y="945"/>
                            </a:lnTo>
                            <a:lnTo>
                              <a:pt x="92" y="856"/>
                            </a:lnTo>
                            <a:lnTo>
                              <a:pt x="110" y="763"/>
                            </a:lnTo>
                            <a:lnTo>
                              <a:pt x="159" y="671"/>
                            </a:lnTo>
                            <a:lnTo>
                              <a:pt x="199" y="583"/>
                            </a:lnTo>
                            <a:lnTo>
                              <a:pt x="190" y="777"/>
                            </a:lnTo>
                            <a:lnTo>
                              <a:pt x="269" y="538"/>
                            </a:lnTo>
                            <a:lnTo>
                              <a:pt x="247" y="746"/>
                            </a:lnTo>
                            <a:lnTo>
                              <a:pt x="243" y="883"/>
                            </a:lnTo>
                            <a:lnTo>
                              <a:pt x="265" y="1077"/>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4" name=""/>
                      <p:cNvSpPr/>
                      <p:nvPr/>
                    </p:nvSpPr>
                    <p:spPr>
                      <a:xfrm>
                        <a:off x="1208160" y="1484280"/>
                        <a:ext cx="292320" cy="101880"/>
                      </a:xfrm>
                      <a:custGeom>
                        <a:avLst/>
                        <a:gdLst/>
                        <a:ahLst/>
                        <a:rect l="0" t="0" r="r" b="b"/>
                        <a:pathLst>
                          <a:path w="812" h="283">
                            <a:moveTo>
                              <a:pt x="812" y="283"/>
                            </a:moveTo>
                            <a:lnTo>
                              <a:pt x="777" y="278"/>
                            </a:lnTo>
                            <a:lnTo>
                              <a:pt x="719" y="265"/>
                            </a:lnTo>
                            <a:lnTo>
                              <a:pt x="680" y="261"/>
                            </a:lnTo>
                            <a:lnTo>
                              <a:pt x="640" y="261"/>
                            </a:lnTo>
                            <a:lnTo>
                              <a:pt x="627" y="203"/>
                            </a:lnTo>
                            <a:lnTo>
                              <a:pt x="596" y="146"/>
                            </a:lnTo>
                            <a:lnTo>
                              <a:pt x="552" y="105"/>
                            </a:lnTo>
                            <a:lnTo>
                              <a:pt x="503" y="74"/>
                            </a:lnTo>
                            <a:lnTo>
                              <a:pt x="459" y="66"/>
                            </a:lnTo>
                            <a:lnTo>
                              <a:pt x="411" y="66"/>
                            </a:lnTo>
                            <a:lnTo>
                              <a:pt x="304" y="83"/>
                            </a:lnTo>
                            <a:lnTo>
                              <a:pt x="211" y="88"/>
                            </a:lnTo>
                            <a:lnTo>
                              <a:pt x="123" y="66"/>
                            </a:lnTo>
                            <a:lnTo>
                              <a:pt x="0" y="0"/>
                            </a:lnTo>
                            <a:lnTo>
                              <a:pt x="158" y="39"/>
                            </a:lnTo>
                            <a:lnTo>
                              <a:pt x="238" y="39"/>
                            </a:lnTo>
                            <a:lnTo>
                              <a:pt x="304" y="26"/>
                            </a:lnTo>
                            <a:lnTo>
                              <a:pt x="357" y="39"/>
                            </a:lnTo>
                            <a:lnTo>
                              <a:pt x="392" y="22"/>
                            </a:lnTo>
                            <a:lnTo>
                              <a:pt x="424" y="17"/>
                            </a:lnTo>
                            <a:lnTo>
                              <a:pt x="468" y="22"/>
                            </a:lnTo>
                            <a:lnTo>
                              <a:pt x="503" y="26"/>
                            </a:lnTo>
                            <a:lnTo>
                              <a:pt x="547" y="39"/>
                            </a:lnTo>
                            <a:lnTo>
                              <a:pt x="583" y="66"/>
                            </a:lnTo>
                            <a:lnTo>
                              <a:pt x="622" y="110"/>
                            </a:lnTo>
                            <a:lnTo>
                              <a:pt x="649" y="146"/>
                            </a:lnTo>
                            <a:lnTo>
                              <a:pt x="680" y="155"/>
                            </a:lnTo>
                            <a:lnTo>
                              <a:pt x="719" y="168"/>
                            </a:lnTo>
                            <a:lnTo>
                              <a:pt x="777" y="203"/>
                            </a:lnTo>
                            <a:lnTo>
                              <a:pt x="799" y="243"/>
                            </a:lnTo>
                            <a:lnTo>
                              <a:pt x="812" y="283"/>
                            </a:lnTo>
                            <a:close/>
                          </a:path>
                        </a:pathLst>
                      </a:custGeom>
                      <a:solidFill>
                        <a:srgbClr val="3f1f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175" name=""/>
                <p:cNvGrpSpPr/>
                <p:nvPr/>
              </p:nvGrpSpPr>
              <p:grpSpPr>
                <a:xfrm>
                  <a:off x="1138320" y="1733400"/>
                  <a:ext cx="115920" cy="200520"/>
                  <a:chOff x="1138320" y="1733400"/>
                  <a:chExt cx="115920" cy="200520"/>
                </a:xfrm>
              </p:grpSpPr>
              <p:grpSp>
                <p:nvGrpSpPr>
                  <p:cNvPr id="1176" name=""/>
                  <p:cNvGrpSpPr/>
                  <p:nvPr/>
                </p:nvGrpSpPr>
                <p:grpSpPr>
                  <a:xfrm>
                    <a:off x="1138320" y="1733400"/>
                    <a:ext cx="92520" cy="157680"/>
                    <a:chOff x="1138320" y="1733400"/>
                    <a:chExt cx="92520" cy="157680"/>
                  </a:xfrm>
                </p:grpSpPr>
                <p:sp>
                  <p:nvSpPr>
                    <p:cNvPr id="1177" name=""/>
                    <p:cNvSpPr/>
                    <p:nvPr/>
                  </p:nvSpPr>
                  <p:spPr>
                    <a:xfrm>
                      <a:off x="1138320" y="1733400"/>
                      <a:ext cx="92520" cy="157680"/>
                    </a:xfrm>
                    <a:custGeom>
                      <a:avLst/>
                      <a:gdLst/>
                      <a:ahLst/>
                      <a:rect l="0" t="0" r="r" b="b"/>
                      <a:pathLst>
                        <a:path w="257" h="438">
                          <a:moveTo>
                            <a:pt x="235" y="120"/>
                          </a:moveTo>
                          <a:lnTo>
                            <a:pt x="200" y="52"/>
                          </a:lnTo>
                          <a:lnTo>
                            <a:pt x="168" y="26"/>
                          </a:lnTo>
                          <a:lnTo>
                            <a:pt x="128" y="8"/>
                          </a:lnTo>
                          <a:lnTo>
                            <a:pt x="98" y="0"/>
                          </a:lnTo>
                          <a:lnTo>
                            <a:pt x="52" y="17"/>
                          </a:lnTo>
                          <a:lnTo>
                            <a:pt x="22" y="48"/>
                          </a:lnTo>
                          <a:lnTo>
                            <a:pt x="0" y="105"/>
                          </a:lnTo>
                          <a:lnTo>
                            <a:pt x="4" y="168"/>
                          </a:lnTo>
                          <a:lnTo>
                            <a:pt x="22" y="225"/>
                          </a:lnTo>
                          <a:lnTo>
                            <a:pt x="44" y="292"/>
                          </a:lnTo>
                          <a:lnTo>
                            <a:pt x="71" y="345"/>
                          </a:lnTo>
                          <a:lnTo>
                            <a:pt x="111" y="403"/>
                          </a:lnTo>
                          <a:lnTo>
                            <a:pt x="146" y="429"/>
                          </a:lnTo>
                          <a:lnTo>
                            <a:pt x="181" y="438"/>
                          </a:lnTo>
                          <a:lnTo>
                            <a:pt x="222" y="434"/>
                          </a:lnTo>
                          <a:lnTo>
                            <a:pt x="248" y="416"/>
                          </a:lnTo>
                          <a:lnTo>
                            <a:pt x="257" y="381"/>
                          </a:lnTo>
                          <a:lnTo>
                            <a:pt x="244" y="309"/>
                          </a:lnTo>
                          <a:lnTo>
                            <a:pt x="235" y="256"/>
                          </a:lnTo>
                          <a:lnTo>
                            <a:pt x="248" y="190"/>
                          </a:lnTo>
                          <a:lnTo>
                            <a:pt x="235" y="12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8" name=""/>
                    <p:cNvSpPr/>
                    <p:nvPr/>
                  </p:nvSpPr>
                  <p:spPr>
                    <a:xfrm>
                      <a:off x="1154160" y="1749600"/>
                      <a:ext cx="66960" cy="111600"/>
                    </a:xfrm>
                    <a:custGeom>
                      <a:avLst/>
                      <a:gdLst/>
                      <a:ahLst/>
                      <a:rect l="0" t="0" r="r" b="b"/>
                      <a:pathLst>
                        <a:path w="186" h="310">
                          <a:moveTo>
                            <a:pt x="0" y="30"/>
                          </a:moveTo>
                          <a:lnTo>
                            <a:pt x="44" y="22"/>
                          </a:lnTo>
                          <a:lnTo>
                            <a:pt x="79" y="26"/>
                          </a:lnTo>
                          <a:lnTo>
                            <a:pt x="92" y="35"/>
                          </a:lnTo>
                          <a:lnTo>
                            <a:pt x="106" y="61"/>
                          </a:lnTo>
                          <a:lnTo>
                            <a:pt x="106" y="84"/>
                          </a:lnTo>
                          <a:lnTo>
                            <a:pt x="83" y="115"/>
                          </a:lnTo>
                          <a:lnTo>
                            <a:pt x="52" y="124"/>
                          </a:lnTo>
                          <a:lnTo>
                            <a:pt x="30" y="133"/>
                          </a:lnTo>
                          <a:lnTo>
                            <a:pt x="26" y="168"/>
                          </a:lnTo>
                          <a:lnTo>
                            <a:pt x="39" y="199"/>
                          </a:lnTo>
                          <a:lnTo>
                            <a:pt x="61" y="225"/>
                          </a:lnTo>
                          <a:lnTo>
                            <a:pt x="92" y="240"/>
                          </a:lnTo>
                          <a:lnTo>
                            <a:pt x="128" y="248"/>
                          </a:lnTo>
                          <a:lnTo>
                            <a:pt x="150" y="262"/>
                          </a:lnTo>
                          <a:lnTo>
                            <a:pt x="155" y="279"/>
                          </a:lnTo>
                          <a:lnTo>
                            <a:pt x="159" y="310"/>
                          </a:lnTo>
                          <a:lnTo>
                            <a:pt x="177" y="310"/>
                          </a:lnTo>
                          <a:lnTo>
                            <a:pt x="186" y="279"/>
                          </a:lnTo>
                          <a:lnTo>
                            <a:pt x="177" y="253"/>
                          </a:lnTo>
                          <a:lnTo>
                            <a:pt x="164" y="225"/>
                          </a:lnTo>
                          <a:lnTo>
                            <a:pt x="164" y="199"/>
                          </a:lnTo>
                          <a:lnTo>
                            <a:pt x="159" y="168"/>
                          </a:lnTo>
                          <a:lnTo>
                            <a:pt x="142" y="177"/>
                          </a:lnTo>
                          <a:lnTo>
                            <a:pt x="124" y="177"/>
                          </a:lnTo>
                          <a:lnTo>
                            <a:pt x="115" y="164"/>
                          </a:lnTo>
                          <a:lnTo>
                            <a:pt x="133" y="133"/>
                          </a:lnTo>
                          <a:lnTo>
                            <a:pt x="124" y="106"/>
                          </a:lnTo>
                          <a:lnTo>
                            <a:pt x="133" y="80"/>
                          </a:lnTo>
                          <a:lnTo>
                            <a:pt x="124" y="48"/>
                          </a:lnTo>
                          <a:lnTo>
                            <a:pt x="106" y="13"/>
                          </a:lnTo>
                          <a:lnTo>
                            <a:pt x="79" y="0"/>
                          </a:lnTo>
                          <a:lnTo>
                            <a:pt x="44" y="0"/>
                          </a:lnTo>
                          <a:lnTo>
                            <a:pt x="13" y="8"/>
                          </a:lnTo>
                          <a:lnTo>
                            <a:pt x="0"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79" name=""/>
                  <p:cNvGrpSpPr/>
                  <p:nvPr/>
                </p:nvGrpSpPr>
                <p:grpSpPr>
                  <a:xfrm>
                    <a:off x="1174680" y="1846440"/>
                    <a:ext cx="79560" cy="87480"/>
                    <a:chOff x="1174680" y="1846440"/>
                    <a:chExt cx="79560" cy="87480"/>
                  </a:xfrm>
                </p:grpSpPr>
                <p:grpSp>
                  <p:nvGrpSpPr>
                    <p:cNvPr id="1180" name=""/>
                    <p:cNvGrpSpPr/>
                    <p:nvPr/>
                  </p:nvGrpSpPr>
                  <p:grpSpPr>
                    <a:xfrm>
                      <a:off x="1174680" y="1846440"/>
                      <a:ext cx="79560" cy="75960"/>
                      <a:chOff x="1174680" y="1846440"/>
                      <a:chExt cx="79560" cy="75960"/>
                    </a:xfrm>
                  </p:grpSpPr>
                  <p:sp>
                    <p:nvSpPr>
                      <p:cNvPr id="1181" name=""/>
                      <p:cNvSpPr/>
                      <p:nvPr/>
                    </p:nvSpPr>
                    <p:spPr>
                      <a:xfrm>
                        <a:off x="1174680" y="1847880"/>
                        <a:ext cx="71280" cy="74520"/>
                      </a:xfrm>
                      <a:prstGeom prst="ellipse">
                        <a:avLst/>
                      </a:prstGeom>
                      <a:solidFill>
                        <a:srgbClr val="9f3f0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1182" name=""/>
                      <p:cNvSpPr/>
                      <p:nvPr/>
                    </p:nvSpPr>
                    <p:spPr>
                      <a:xfrm>
                        <a:off x="1177920" y="1846440"/>
                        <a:ext cx="76320" cy="71280"/>
                      </a:xfrm>
                      <a:prstGeom prst="ellipse">
                        <a:avLst/>
                      </a:prstGeom>
                      <a:solidFill>
                        <a:srgbClr val="ffff9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1183" name=""/>
                    <p:cNvGrpSpPr/>
                    <p:nvPr/>
                  </p:nvGrpSpPr>
                  <p:grpSpPr>
                    <a:xfrm>
                      <a:off x="1177920" y="1847880"/>
                      <a:ext cx="71280" cy="86040"/>
                      <a:chOff x="1177920" y="1847880"/>
                      <a:chExt cx="71280" cy="86040"/>
                    </a:xfrm>
                  </p:grpSpPr>
                  <p:sp>
                    <p:nvSpPr>
                      <p:cNvPr id="1184" name=""/>
                      <p:cNvSpPr/>
                      <p:nvPr/>
                    </p:nvSpPr>
                    <p:spPr>
                      <a:xfrm>
                        <a:off x="1177920" y="1847880"/>
                        <a:ext cx="71280" cy="73080"/>
                      </a:xfrm>
                      <a:prstGeom prst="ellipse">
                        <a:avLst/>
                      </a:prstGeom>
                      <a:solidFill>
                        <a:srgbClr val="ff9f0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1185" name=""/>
                      <p:cNvSpPr/>
                      <p:nvPr/>
                    </p:nvSpPr>
                    <p:spPr>
                      <a:xfrm>
                        <a:off x="1198440" y="1878120"/>
                        <a:ext cx="20160" cy="55800"/>
                      </a:xfrm>
                      <a:custGeom>
                        <a:avLst/>
                        <a:gdLst/>
                        <a:ahLst/>
                        <a:rect l="0" t="0" r="r" b="b"/>
                        <a:pathLst>
                          <a:path w="56" h="155">
                            <a:moveTo>
                              <a:pt x="56" y="77"/>
                            </a:moveTo>
                            <a:lnTo>
                              <a:pt x="51" y="0"/>
                            </a:lnTo>
                            <a:lnTo>
                              <a:pt x="51" y="0"/>
                            </a:lnTo>
                            <a:cubicBezTo>
                              <a:pt x="43" y="1"/>
                              <a:pt x="36" y="5"/>
                              <a:pt x="29" y="10"/>
                            </a:cubicBezTo>
                            <a:cubicBezTo>
                              <a:pt x="20" y="17"/>
                              <a:pt x="13" y="27"/>
                              <a:pt x="8" y="38"/>
                            </a:cubicBezTo>
                            <a:cubicBezTo>
                              <a:pt x="3" y="50"/>
                              <a:pt x="0" y="64"/>
                              <a:pt x="0" y="77"/>
                            </a:cubicBezTo>
                            <a:cubicBezTo>
                              <a:pt x="0" y="91"/>
                              <a:pt x="3" y="105"/>
                              <a:pt x="8" y="116"/>
                            </a:cubicBezTo>
                            <a:cubicBezTo>
                              <a:pt x="13" y="128"/>
                              <a:pt x="20" y="138"/>
                              <a:pt x="29" y="145"/>
                            </a:cubicBezTo>
                            <a:cubicBezTo>
                              <a:pt x="36" y="150"/>
                              <a:pt x="44" y="154"/>
                              <a:pt x="52" y="155"/>
                            </a:cubicBezTo>
                            <a:lnTo>
                              <a:pt x="56" y="77"/>
                            </a:lnTo>
                            <a:close/>
                          </a:path>
                        </a:pathLst>
                      </a:custGeom>
                      <a:solidFill>
                        <a:srgbClr val="ffbf1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186" name=""/>
                      <p:cNvSpPr/>
                      <p:nvPr/>
                    </p:nvSpPr>
                    <p:spPr>
                      <a:xfrm>
                        <a:off x="1220760" y="1878120"/>
                        <a:ext cx="12960" cy="49320"/>
                      </a:xfrm>
                      <a:custGeom>
                        <a:avLst/>
                        <a:gdLst/>
                        <a:ahLst/>
                        <a:rect l="0" t="0" r="r" b="b"/>
                        <a:pathLst>
                          <a:path w="36" h="137">
                            <a:moveTo>
                              <a:pt x="36" y="68"/>
                            </a:moveTo>
                            <a:lnTo>
                              <a:pt x="31" y="0"/>
                            </a:lnTo>
                            <a:lnTo>
                              <a:pt x="31" y="0"/>
                            </a:lnTo>
                            <a:cubicBezTo>
                              <a:pt x="26" y="1"/>
                              <a:pt x="22" y="4"/>
                              <a:pt x="18" y="9"/>
                            </a:cubicBezTo>
                            <a:cubicBezTo>
                              <a:pt x="12" y="15"/>
                              <a:pt x="8" y="23"/>
                              <a:pt x="5" y="34"/>
                            </a:cubicBezTo>
                            <a:cubicBezTo>
                              <a:pt x="1" y="44"/>
                              <a:pt x="0" y="56"/>
                              <a:pt x="0" y="68"/>
                            </a:cubicBezTo>
                            <a:cubicBezTo>
                              <a:pt x="0" y="80"/>
                              <a:pt x="1" y="92"/>
                              <a:pt x="5" y="103"/>
                            </a:cubicBezTo>
                            <a:cubicBezTo>
                              <a:pt x="8" y="113"/>
                              <a:pt x="12" y="122"/>
                              <a:pt x="18" y="128"/>
                            </a:cubicBezTo>
                            <a:cubicBezTo>
                              <a:pt x="22" y="133"/>
                              <a:pt x="27" y="136"/>
                              <a:pt x="32" y="137"/>
                            </a:cubicBezTo>
                            <a:lnTo>
                              <a:pt x="36" y="68"/>
                            </a:lnTo>
                            <a:close/>
                          </a:path>
                        </a:pathLst>
                      </a:custGeom>
                      <a:solidFill>
                        <a:srgbClr val="bf7f1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1187" name=""/>
                      <p:cNvSpPr/>
                      <p:nvPr/>
                    </p:nvSpPr>
                    <p:spPr>
                      <a:xfrm>
                        <a:off x="1216080" y="1855800"/>
                        <a:ext cx="25560" cy="31680"/>
                      </a:xfrm>
                      <a:prstGeom prst="ellipse">
                        <a:avLst/>
                      </a:prstGeom>
                      <a:solidFill>
                        <a:srgbClr val="ffff9f"/>
                      </a:solidFill>
                      <a:ln w="0">
                        <a:noFill/>
                      </a:ln>
                    </p:spPr>
                    <p:txBody>
                      <a:bodyPr lIns="90000" rIns="90000" tIns="-13320" bIns="-13320" anchor="t">
                        <a:noAutofit/>
                      </a:bodyPr>
                      <a:p>
                        <a:endParaRPr b="0" lang="en-US" sz="1800" spc="-1" strike="noStrike">
                          <a:solidFill>
                            <a:srgbClr val="000000"/>
                          </a:solidFill>
                          <a:latin typeface="Arial"/>
                        </a:endParaRPr>
                      </a:p>
                    </p:txBody>
                  </p:sp>
                </p:grpSp>
              </p:grpSp>
            </p:grpSp>
          </p:grpSp>
          <p:grpSp>
            <p:nvGrpSpPr>
              <p:cNvPr id="1188" name=""/>
              <p:cNvGrpSpPr/>
              <p:nvPr/>
            </p:nvGrpSpPr>
            <p:grpSpPr>
              <a:xfrm>
                <a:off x="720720" y="1935000"/>
                <a:ext cx="1497240" cy="1806840"/>
                <a:chOff x="720720" y="1935000"/>
                <a:chExt cx="1497240" cy="1806840"/>
              </a:xfrm>
            </p:grpSpPr>
            <p:grpSp>
              <p:nvGrpSpPr>
                <p:cNvPr id="1189" name=""/>
                <p:cNvGrpSpPr/>
                <p:nvPr/>
              </p:nvGrpSpPr>
              <p:grpSpPr>
                <a:xfrm>
                  <a:off x="720720" y="2178000"/>
                  <a:ext cx="1394280" cy="1563840"/>
                  <a:chOff x="720720" y="2178000"/>
                  <a:chExt cx="1394280" cy="1563840"/>
                </a:xfrm>
              </p:grpSpPr>
              <p:grpSp>
                <p:nvGrpSpPr>
                  <p:cNvPr id="1190" name=""/>
                  <p:cNvGrpSpPr/>
                  <p:nvPr/>
                </p:nvGrpSpPr>
                <p:grpSpPr>
                  <a:xfrm>
                    <a:off x="739800" y="2682720"/>
                    <a:ext cx="1375200" cy="1059120"/>
                    <a:chOff x="739800" y="2682720"/>
                    <a:chExt cx="1375200" cy="1059120"/>
                  </a:xfrm>
                </p:grpSpPr>
                <p:grpSp>
                  <p:nvGrpSpPr>
                    <p:cNvPr id="1191" name=""/>
                    <p:cNvGrpSpPr/>
                    <p:nvPr/>
                  </p:nvGrpSpPr>
                  <p:grpSpPr>
                    <a:xfrm>
                      <a:off x="1627200" y="2682720"/>
                      <a:ext cx="487800" cy="476640"/>
                      <a:chOff x="1627200" y="2682720"/>
                      <a:chExt cx="487800" cy="476640"/>
                    </a:xfrm>
                  </p:grpSpPr>
                  <p:sp>
                    <p:nvSpPr>
                      <p:cNvPr id="1192" name=""/>
                      <p:cNvSpPr/>
                      <p:nvPr/>
                    </p:nvSpPr>
                    <p:spPr>
                      <a:xfrm>
                        <a:off x="1627200" y="2682720"/>
                        <a:ext cx="487800" cy="476640"/>
                      </a:xfrm>
                      <a:custGeom>
                        <a:avLst/>
                        <a:gdLst/>
                        <a:ahLst/>
                        <a:rect l="0" t="0" r="r" b="b"/>
                        <a:pathLst>
                          <a:path w="1355" h="1324">
                            <a:moveTo>
                              <a:pt x="1091" y="79"/>
                            </a:moveTo>
                            <a:lnTo>
                              <a:pt x="935" y="273"/>
                            </a:lnTo>
                            <a:lnTo>
                              <a:pt x="878" y="340"/>
                            </a:lnTo>
                            <a:lnTo>
                              <a:pt x="785" y="415"/>
                            </a:lnTo>
                            <a:lnTo>
                              <a:pt x="746" y="441"/>
                            </a:lnTo>
                            <a:lnTo>
                              <a:pt x="688" y="446"/>
                            </a:lnTo>
                            <a:lnTo>
                              <a:pt x="688" y="57"/>
                            </a:lnTo>
                            <a:lnTo>
                              <a:pt x="0" y="389"/>
                            </a:lnTo>
                            <a:lnTo>
                              <a:pt x="299" y="1197"/>
                            </a:lnTo>
                            <a:lnTo>
                              <a:pt x="543" y="1324"/>
                            </a:lnTo>
                            <a:lnTo>
                              <a:pt x="631" y="1214"/>
                            </a:lnTo>
                            <a:lnTo>
                              <a:pt x="746" y="1095"/>
                            </a:lnTo>
                            <a:lnTo>
                              <a:pt x="856" y="1011"/>
                            </a:lnTo>
                            <a:lnTo>
                              <a:pt x="953" y="874"/>
                            </a:lnTo>
                            <a:lnTo>
                              <a:pt x="1038" y="728"/>
                            </a:lnTo>
                            <a:lnTo>
                              <a:pt x="1104" y="565"/>
                            </a:lnTo>
                            <a:lnTo>
                              <a:pt x="1205" y="415"/>
                            </a:lnTo>
                            <a:lnTo>
                              <a:pt x="1258" y="340"/>
                            </a:lnTo>
                            <a:lnTo>
                              <a:pt x="1289" y="282"/>
                            </a:lnTo>
                            <a:lnTo>
                              <a:pt x="1355" y="0"/>
                            </a:lnTo>
                            <a:lnTo>
                              <a:pt x="1091"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3" name=""/>
                      <p:cNvSpPr/>
                      <p:nvPr/>
                    </p:nvSpPr>
                    <p:spPr>
                      <a:xfrm>
                        <a:off x="1782720" y="2832120"/>
                        <a:ext cx="111600" cy="189360"/>
                      </a:xfrm>
                      <a:custGeom>
                        <a:avLst/>
                        <a:gdLst/>
                        <a:ahLst/>
                        <a:rect l="0" t="0" r="r" b="b"/>
                        <a:pathLst>
                          <a:path w="310" h="526">
                            <a:moveTo>
                              <a:pt x="275" y="0"/>
                            </a:moveTo>
                            <a:lnTo>
                              <a:pt x="310" y="35"/>
                            </a:lnTo>
                            <a:lnTo>
                              <a:pt x="240" y="133"/>
                            </a:lnTo>
                            <a:lnTo>
                              <a:pt x="164" y="234"/>
                            </a:lnTo>
                            <a:lnTo>
                              <a:pt x="106" y="322"/>
                            </a:lnTo>
                            <a:lnTo>
                              <a:pt x="52" y="416"/>
                            </a:lnTo>
                            <a:lnTo>
                              <a:pt x="0" y="526"/>
                            </a:lnTo>
                            <a:lnTo>
                              <a:pt x="13" y="438"/>
                            </a:lnTo>
                            <a:lnTo>
                              <a:pt x="61" y="331"/>
                            </a:lnTo>
                            <a:lnTo>
                              <a:pt x="133" y="199"/>
                            </a:lnTo>
                            <a:lnTo>
                              <a:pt x="217" y="79"/>
                            </a:lnTo>
                            <a:lnTo>
                              <a:pt x="275"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94" name=""/>
                    <p:cNvGrpSpPr/>
                    <p:nvPr/>
                  </p:nvGrpSpPr>
                  <p:grpSpPr>
                    <a:xfrm>
                      <a:off x="739800" y="2814480"/>
                      <a:ext cx="371880" cy="927360"/>
                      <a:chOff x="739800" y="2814480"/>
                      <a:chExt cx="371880" cy="927360"/>
                    </a:xfrm>
                  </p:grpSpPr>
                  <p:sp>
                    <p:nvSpPr>
                      <p:cNvPr id="1195" name=""/>
                      <p:cNvSpPr/>
                      <p:nvPr/>
                    </p:nvSpPr>
                    <p:spPr>
                      <a:xfrm>
                        <a:off x="739800" y="2814480"/>
                        <a:ext cx="371880" cy="927360"/>
                      </a:xfrm>
                      <a:custGeom>
                        <a:avLst/>
                        <a:gdLst/>
                        <a:ahLst/>
                        <a:rect l="0" t="0" r="r" b="b"/>
                        <a:pathLst>
                          <a:path w="1033" h="2576">
                            <a:moveTo>
                              <a:pt x="455" y="366"/>
                            </a:moveTo>
                            <a:lnTo>
                              <a:pt x="446" y="427"/>
                            </a:lnTo>
                            <a:lnTo>
                              <a:pt x="468" y="507"/>
                            </a:lnTo>
                            <a:lnTo>
                              <a:pt x="490" y="674"/>
                            </a:lnTo>
                            <a:lnTo>
                              <a:pt x="512" y="780"/>
                            </a:lnTo>
                            <a:lnTo>
                              <a:pt x="530" y="868"/>
                            </a:lnTo>
                            <a:lnTo>
                              <a:pt x="556" y="970"/>
                            </a:lnTo>
                            <a:lnTo>
                              <a:pt x="587" y="1075"/>
                            </a:lnTo>
                            <a:lnTo>
                              <a:pt x="627" y="1159"/>
                            </a:lnTo>
                            <a:lnTo>
                              <a:pt x="671" y="1239"/>
                            </a:lnTo>
                            <a:lnTo>
                              <a:pt x="697" y="1319"/>
                            </a:lnTo>
                            <a:lnTo>
                              <a:pt x="710" y="1394"/>
                            </a:lnTo>
                            <a:lnTo>
                              <a:pt x="741" y="1491"/>
                            </a:lnTo>
                            <a:lnTo>
                              <a:pt x="786" y="1592"/>
                            </a:lnTo>
                            <a:lnTo>
                              <a:pt x="822" y="1685"/>
                            </a:lnTo>
                            <a:lnTo>
                              <a:pt x="848" y="1738"/>
                            </a:lnTo>
                            <a:lnTo>
                              <a:pt x="897" y="1800"/>
                            </a:lnTo>
                            <a:lnTo>
                              <a:pt x="1033" y="1919"/>
                            </a:lnTo>
                            <a:lnTo>
                              <a:pt x="1033" y="2576"/>
                            </a:lnTo>
                            <a:lnTo>
                              <a:pt x="972" y="2527"/>
                            </a:lnTo>
                            <a:lnTo>
                              <a:pt x="923" y="2448"/>
                            </a:lnTo>
                            <a:lnTo>
                              <a:pt x="883" y="2364"/>
                            </a:lnTo>
                            <a:lnTo>
                              <a:pt x="844" y="2307"/>
                            </a:lnTo>
                            <a:lnTo>
                              <a:pt x="813" y="2280"/>
                            </a:lnTo>
                            <a:lnTo>
                              <a:pt x="786" y="2241"/>
                            </a:lnTo>
                            <a:lnTo>
                              <a:pt x="750" y="2201"/>
                            </a:lnTo>
                            <a:lnTo>
                              <a:pt x="719" y="2188"/>
                            </a:lnTo>
                            <a:lnTo>
                              <a:pt x="702" y="2161"/>
                            </a:lnTo>
                            <a:lnTo>
                              <a:pt x="693" y="2122"/>
                            </a:lnTo>
                            <a:lnTo>
                              <a:pt x="671" y="2077"/>
                            </a:lnTo>
                            <a:lnTo>
                              <a:pt x="635" y="2007"/>
                            </a:lnTo>
                            <a:lnTo>
                              <a:pt x="587" y="1906"/>
                            </a:lnTo>
                            <a:lnTo>
                              <a:pt x="503" y="1769"/>
                            </a:lnTo>
                            <a:lnTo>
                              <a:pt x="419" y="1641"/>
                            </a:lnTo>
                            <a:lnTo>
                              <a:pt x="300" y="1491"/>
                            </a:lnTo>
                            <a:lnTo>
                              <a:pt x="211" y="1372"/>
                            </a:lnTo>
                            <a:lnTo>
                              <a:pt x="119" y="1234"/>
                            </a:lnTo>
                            <a:lnTo>
                              <a:pt x="83" y="1186"/>
                            </a:lnTo>
                            <a:lnTo>
                              <a:pt x="70" y="1155"/>
                            </a:lnTo>
                            <a:lnTo>
                              <a:pt x="61" y="1089"/>
                            </a:lnTo>
                            <a:lnTo>
                              <a:pt x="48" y="917"/>
                            </a:lnTo>
                            <a:lnTo>
                              <a:pt x="30" y="771"/>
                            </a:lnTo>
                            <a:lnTo>
                              <a:pt x="8" y="608"/>
                            </a:lnTo>
                            <a:lnTo>
                              <a:pt x="0" y="396"/>
                            </a:lnTo>
                            <a:lnTo>
                              <a:pt x="0" y="264"/>
                            </a:lnTo>
                            <a:lnTo>
                              <a:pt x="13" y="0"/>
                            </a:lnTo>
                            <a:lnTo>
                              <a:pt x="455" y="36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6" name=""/>
                      <p:cNvSpPr/>
                      <p:nvPr/>
                    </p:nvSpPr>
                    <p:spPr>
                      <a:xfrm>
                        <a:off x="849240" y="3068640"/>
                        <a:ext cx="160560" cy="294120"/>
                      </a:xfrm>
                      <a:custGeom>
                        <a:avLst/>
                        <a:gdLst/>
                        <a:ahLst/>
                        <a:rect l="0" t="0" r="r" b="b"/>
                        <a:pathLst>
                          <a:path w="446" h="817">
                            <a:moveTo>
                              <a:pt x="446" y="817"/>
                            </a:moveTo>
                            <a:lnTo>
                              <a:pt x="384" y="786"/>
                            </a:lnTo>
                            <a:lnTo>
                              <a:pt x="318" y="734"/>
                            </a:lnTo>
                            <a:lnTo>
                              <a:pt x="274" y="676"/>
                            </a:lnTo>
                            <a:lnTo>
                              <a:pt x="243" y="605"/>
                            </a:lnTo>
                            <a:lnTo>
                              <a:pt x="225" y="543"/>
                            </a:lnTo>
                            <a:lnTo>
                              <a:pt x="225" y="468"/>
                            </a:lnTo>
                            <a:lnTo>
                              <a:pt x="216" y="380"/>
                            </a:lnTo>
                            <a:lnTo>
                              <a:pt x="207" y="318"/>
                            </a:lnTo>
                            <a:lnTo>
                              <a:pt x="185" y="283"/>
                            </a:lnTo>
                            <a:lnTo>
                              <a:pt x="158" y="256"/>
                            </a:lnTo>
                            <a:lnTo>
                              <a:pt x="145" y="202"/>
                            </a:lnTo>
                            <a:lnTo>
                              <a:pt x="123" y="158"/>
                            </a:lnTo>
                            <a:lnTo>
                              <a:pt x="92" y="119"/>
                            </a:lnTo>
                            <a:lnTo>
                              <a:pt x="52" y="92"/>
                            </a:lnTo>
                            <a:lnTo>
                              <a:pt x="13" y="83"/>
                            </a:lnTo>
                            <a:lnTo>
                              <a:pt x="17" y="48"/>
                            </a:lnTo>
                            <a:lnTo>
                              <a:pt x="0" y="0"/>
                            </a:lnTo>
                            <a:lnTo>
                              <a:pt x="35" y="22"/>
                            </a:lnTo>
                            <a:lnTo>
                              <a:pt x="70" y="39"/>
                            </a:lnTo>
                            <a:lnTo>
                              <a:pt x="123" y="44"/>
                            </a:lnTo>
                            <a:lnTo>
                              <a:pt x="163" y="26"/>
                            </a:lnTo>
                            <a:lnTo>
                              <a:pt x="194" y="0"/>
                            </a:lnTo>
                            <a:lnTo>
                              <a:pt x="216" y="119"/>
                            </a:lnTo>
                            <a:lnTo>
                              <a:pt x="243" y="212"/>
                            </a:lnTo>
                            <a:lnTo>
                              <a:pt x="265" y="309"/>
                            </a:lnTo>
                            <a:lnTo>
                              <a:pt x="283" y="371"/>
                            </a:lnTo>
                            <a:lnTo>
                              <a:pt x="318" y="437"/>
                            </a:lnTo>
                            <a:lnTo>
                              <a:pt x="349" y="494"/>
                            </a:lnTo>
                            <a:lnTo>
                              <a:pt x="375" y="565"/>
                            </a:lnTo>
                            <a:lnTo>
                              <a:pt x="406" y="650"/>
                            </a:lnTo>
                            <a:lnTo>
                              <a:pt x="424" y="738"/>
                            </a:lnTo>
                            <a:lnTo>
                              <a:pt x="446" y="817"/>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197" name=""/>
                  <p:cNvGrpSpPr/>
                  <p:nvPr/>
                </p:nvGrpSpPr>
                <p:grpSpPr>
                  <a:xfrm>
                    <a:off x="720720" y="2178000"/>
                    <a:ext cx="1173600" cy="1329120"/>
                    <a:chOff x="720720" y="2178000"/>
                    <a:chExt cx="1173600" cy="1329120"/>
                  </a:xfrm>
                </p:grpSpPr>
                <p:sp>
                  <p:nvSpPr>
                    <p:cNvPr id="1198" name=""/>
                    <p:cNvSpPr/>
                    <p:nvPr/>
                  </p:nvSpPr>
                  <p:spPr>
                    <a:xfrm>
                      <a:off x="720720" y="2178000"/>
                      <a:ext cx="1173600" cy="1329120"/>
                    </a:xfrm>
                    <a:custGeom>
                      <a:avLst/>
                      <a:gdLst/>
                      <a:ahLst/>
                      <a:rect l="0" t="0" r="r" b="b"/>
                      <a:pathLst>
                        <a:path w="3260" h="3692">
                          <a:moveTo>
                            <a:pt x="3238" y="1844"/>
                          </a:moveTo>
                          <a:lnTo>
                            <a:pt x="3168" y="1659"/>
                          </a:lnTo>
                          <a:lnTo>
                            <a:pt x="2780" y="418"/>
                          </a:lnTo>
                          <a:lnTo>
                            <a:pt x="2426" y="167"/>
                          </a:lnTo>
                          <a:lnTo>
                            <a:pt x="2316" y="141"/>
                          </a:lnTo>
                          <a:lnTo>
                            <a:pt x="2223" y="127"/>
                          </a:lnTo>
                          <a:lnTo>
                            <a:pt x="2148" y="105"/>
                          </a:lnTo>
                          <a:lnTo>
                            <a:pt x="2060" y="79"/>
                          </a:lnTo>
                          <a:lnTo>
                            <a:pt x="1994" y="44"/>
                          </a:lnTo>
                          <a:lnTo>
                            <a:pt x="1928" y="22"/>
                          </a:lnTo>
                          <a:lnTo>
                            <a:pt x="1861" y="8"/>
                          </a:lnTo>
                          <a:lnTo>
                            <a:pt x="1831" y="8"/>
                          </a:lnTo>
                          <a:lnTo>
                            <a:pt x="1848" y="35"/>
                          </a:lnTo>
                          <a:lnTo>
                            <a:pt x="1835" y="61"/>
                          </a:lnTo>
                          <a:lnTo>
                            <a:pt x="1804" y="79"/>
                          </a:lnTo>
                          <a:lnTo>
                            <a:pt x="1738" y="110"/>
                          </a:lnTo>
                          <a:lnTo>
                            <a:pt x="1628" y="141"/>
                          </a:lnTo>
                          <a:lnTo>
                            <a:pt x="1535" y="158"/>
                          </a:lnTo>
                          <a:lnTo>
                            <a:pt x="1442" y="176"/>
                          </a:lnTo>
                          <a:lnTo>
                            <a:pt x="1328" y="180"/>
                          </a:lnTo>
                          <a:lnTo>
                            <a:pt x="1218" y="180"/>
                          </a:lnTo>
                          <a:lnTo>
                            <a:pt x="1134" y="176"/>
                          </a:lnTo>
                          <a:lnTo>
                            <a:pt x="1041" y="163"/>
                          </a:lnTo>
                          <a:lnTo>
                            <a:pt x="966" y="145"/>
                          </a:lnTo>
                          <a:lnTo>
                            <a:pt x="918" y="127"/>
                          </a:lnTo>
                          <a:lnTo>
                            <a:pt x="874" y="105"/>
                          </a:lnTo>
                          <a:lnTo>
                            <a:pt x="838" y="79"/>
                          </a:lnTo>
                          <a:lnTo>
                            <a:pt x="816" y="48"/>
                          </a:lnTo>
                          <a:lnTo>
                            <a:pt x="811" y="30"/>
                          </a:lnTo>
                          <a:lnTo>
                            <a:pt x="838" y="0"/>
                          </a:lnTo>
                          <a:lnTo>
                            <a:pt x="793" y="8"/>
                          </a:lnTo>
                          <a:lnTo>
                            <a:pt x="740" y="22"/>
                          </a:lnTo>
                          <a:lnTo>
                            <a:pt x="674" y="48"/>
                          </a:lnTo>
                          <a:lnTo>
                            <a:pt x="621" y="83"/>
                          </a:lnTo>
                          <a:lnTo>
                            <a:pt x="568" y="127"/>
                          </a:lnTo>
                          <a:lnTo>
                            <a:pt x="520" y="163"/>
                          </a:lnTo>
                          <a:lnTo>
                            <a:pt x="476" y="198"/>
                          </a:lnTo>
                          <a:lnTo>
                            <a:pt x="423" y="216"/>
                          </a:lnTo>
                          <a:lnTo>
                            <a:pt x="361" y="238"/>
                          </a:lnTo>
                          <a:lnTo>
                            <a:pt x="308" y="255"/>
                          </a:lnTo>
                          <a:lnTo>
                            <a:pt x="251" y="273"/>
                          </a:lnTo>
                          <a:lnTo>
                            <a:pt x="185" y="299"/>
                          </a:lnTo>
                          <a:lnTo>
                            <a:pt x="127" y="326"/>
                          </a:lnTo>
                          <a:lnTo>
                            <a:pt x="79" y="370"/>
                          </a:lnTo>
                          <a:lnTo>
                            <a:pt x="57" y="405"/>
                          </a:lnTo>
                          <a:lnTo>
                            <a:pt x="39" y="463"/>
                          </a:lnTo>
                          <a:lnTo>
                            <a:pt x="35" y="542"/>
                          </a:lnTo>
                          <a:lnTo>
                            <a:pt x="26" y="639"/>
                          </a:lnTo>
                          <a:lnTo>
                            <a:pt x="26" y="833"/>
                          </a:lnTo>
                          <a:lnTo>
                            <a:pt x="26" y="1222"/>
                          </a:lnTo>
                          <a:lnTo>
                            <a:pt x="0" y="1659"/>
                          </a:lnTo>
                          <a:lnTo>
                            <a:pt x="35" y="1817"/>
                          </a:lnTo>
                          <a:lnTo>
                            <a:pt x="48" y="2016"/>
                          </a:lnTo>
                          <a:lnTo>
                            <a:pt x="39" y="2148"/>
                          </a:lnTo>
                          <a:lnTo>
                            <a:pt x="26" y="2223"/>
                          </a:lnTo>
                          <a:lnTo>
                            <a:pt x="61" y="2227"/>
                          </a:lnTo>
                          <a:lnTo>
                            <a:pt x="101" y="2236"/>
                          </a:lnTo>
                          <a:lnTo>
                            <a:pt x="136" y="2249"/>
                          </a:lnTo>
                          <a:lnTo>
                            <a:pt x="207" y="2245"/>
                          </a:lnTo>
                          <a:lnTo>
                            <a:pt x="282" y="2249"/>
                          </a:lnTo>
                          <a:lnTo>
                            <a:pt x="348" y="2258"/>
                          </a:lnTo>
                          <a:lnTo>
                            <a:pt x="436" y="2280"/>
                          </a:lnTo>
                          <a:lnTo>
                            <a:pt x="564" y="2316"/>
                          </a:lnTo>
                          <a:lnTo>
                            <a:pt x="582" y="2452"/>
                          </a:lnTo>
                          <a:lnTo>
                            <a:pt x="608" y="2585"/>
                          </a:lnTo>
                          <a:lnTo>
                            <a:pt x="630" y="2668"/>
                          </a:lnTo>
                          <a:lnTo>
                            <a:pt x="670" y="2788"/>
                          </a:lnTo>
                          <a:lnTo>
                            <a:pt x="745" y="2881"/>
                          </a:lnTo>
                          <a:lnTo>
                            <a:pt x="771" y="2921"/>
                          </a:lnTo>
                          <a:lnTo>
                            <a:pt x="789" y="2969"/>
                          </a:lnTo>
                          <a:lnTo>
                            <a:pt x="793" y="3022"/>
                          </a:lnTo>
                          <a:lnTo>
                            <a:pt x="789" y="3062"/>
                          </a:lnTo>
                          <a:lnTo>
                            <a:pt x="825" y="3088"/>
                          </a:lnTo>
                          <a:lnTo>
                            <a:pt x="869" y="3137"/>
                          </a:lnTo>
                          <a:lnTo>
                            <a:pt x="913" y="3194"/>
                          </a:lnTo>
                          <a:lnTo>
                            <a:pt x="944" y="3269"/>
                          </a:lnTo>
                          <a:lnTo>
                            <a:pt x="966" y="3622"/>
                          </a:lnTo>
                          <a:lnTo>
                            <a:pt x="1134" y="3653"/>
                          </a:lnTo>
                          <a:lnTo>
                            <a:pt x="1363" y="3675"/>
                          </a:lnTo>
                          <a:lnTo>
                            <a:pt x="1588" y="3688"/>
                          </a:lnTo>
                          <a:lnTo>
                            <a:pt x="1870" y="3692"/>
                          </a:lnTo>
                          <a:lnTo>
                            <a:pt x="2152" y="3675"/>
                          </a:lnTo>
                          <a:lnTo>
                            <a:pt x="2417" y="3631"/>
                          </a:lnTo>
                          <a:lnTo>
                            <a:pt x="2625" y="3582"/>
                          </a:lnTo>
                          <a:lnTo>
                            <a:pt x="2881" y="3512"/>
                          </a:lnTo>
                          <a:lnTo>
                            <a:pt x="3084" y="3410"/>
                          </a:lnTo>
                          <a:lnTo>
                            <a:pt x="3260" y="3309"/>
                          </a:lnTo>
                          <a:lnTo>
                            <a:pt x="3251" y="3238"/>
                          </a:lnTo>
                          <a:lnTo>
                            <a:pt x="3234" y="3168"/>
                          </a:lnTo>
                          <a:lnTo>
                            <a:pt x="3199" y="3088"/>
                          </a:lnTo>
                          <a:lnTo>
                            <a:pt x="3137" y="3005"/>
                          </a:lnTo>
                          <a:lnTo>
                            <a:pt x="3084" y="2921"/>
                          </a:lnTo>
                          <a:lnTo>
                            <a:pt x="3005" y="2833"/>
                          </a:lnTo>
                          <a:lnTo>
                            <a:pt x="2982" y="2810"/>
                          </a:lnTo>
                          <a:lnTo>
                            <a:pt x="3018" y="2802"/>
                          </a:lnTo>
                          <a:lnTo>
                            <a:pt x="3053" y="2780"/>
                          </a:lnTo>
                          <a:lnTo>
                            <a:pt x="3062" y="2730"/>
                          </a:lnTo>
                          <a:lnTo>
                            <a:pt x="3040" y="2646"/>
                          </a:lnTo>
                          <a:lnTo>
                            <a:pt x="2982" y="2558"/>
                          </a:lnTo>
                          <a:lnTo>
                            <a:pt x="2841" y="2395"/>
                          </a:lnTo>
                          <a:lnTo>
                            <a:pt x="2810" y="2298"/>
                          </a:lnTo>
                          <a:lnTo>
                            <a:pt x="2788" y="2232"/>
                          </a:lnTo>
                          <a:lnTo>
                            <a:pt x="2784" y="2174"/>
                          </a:lnTo>
                          <a:lnTo>
                            <a:pt x="2806" y="2108"/>
                          </a:lnTo>
                          <a:lnTo>
                            <a:pt x="2833" y="2055"/>
                          </a:lnTo>
                          <a:lnTo>
                            <a:pt x="2912" y="2020"/>
                          </a:lnTo>
                          <a:lnTo>
                            <a:pt x="3027" y="1967"/>
                          </a:lnTo>
                          <a:lnTo>
                            <a:pt x="3141" y="1919"/>
                          </a:lnTo>
                          <a:lnTo>
                            <a:pt x="3238" y="1844"/>
                          </a:lnTo>
                          <a:close/>
                        </a:path>
                      </a:pathLst>
                    </a:custGeom>
                    <a:solidFill>
                      <a:srgbClr val="ef0c07"/>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99" name=""/>
                    <p:cNvGrpSpPr/>
                    <p:nvPr/>
                  </p:nvGrpSpPr>
                  <p:grpSpPr>
                    <a:xfrm>
                      <a:off x="720720" y="2203560"/>
                      <a:ext cx="1102320" cy="1281600"/>
                      <a:chOff x="720720" y="2203560"/>
                      <a:chExt cx="1102320" cy="1281600"/>
                    </a:xfrm>
                  </p:grpSpPr>
                  <p:sp>
                    <p:nvSpPr>
                      <p:cNvPr id="1200" name=""/>
                      <p:cNvSpPr/>
                      <p:nvPr/>
                    </p:nvSpPr>
                    <p:spPr>
                      <a:xfrm>
                        <a:off x="720720" y="2359080"/>
                        <a:ext cx="392400" cy="873360"/>
                      </a:xfrm>
                      <a:custGeom>
                        <a:avLst/>
                        <a:gdLst/>
                        <a:ahLst/>
                        <a:rect l="0" t="0" r="r" b="b"/>
                        <a:pathLst>
                          <a:path w="1090" h="2426">
                            <a:moveTo>
                              <a:pt x="35" y="26"/>
                            </a:moveTo>
                            <a:lnTo>
                              <a:pt x="92" y="13"/>
                            </a:lnTo>
                            <a:lnTo>
                              <a:pt x="158" y="0"/>
                            </a:lnTo>
                            <a:lnTo>
                              <a:pt x="229" y="0"/>
                            </a:lnTo>
                            <a:lnTo>
                              <a:pt x="295" y="22"/>
                            </a:lnTo>
                            <a:lnTo>
                              <a:pt x="361" y="74"/>
                            </a:lnTo>
                            <a:lnTo>
                              <a:pt x="423" y="145"/>
                            </a:lnTo>
                            <a:lnTo>
                              <a:pt x="480" y="229"/>
                            </a:lnTo>
                            <a:lnTo>
                              <a:pt x="533" y="330"/>
                            </a:lnTo>
                            <a:lnTo>
                              <a:pt x="583" y="423"/>
                            </a:lnTo>
                            <a:lnTo>
                              <a:pt x="644" y="537"/>
                            </a:lnTo>
                            <a:lnTo>
                              <a:pt x="706" y="643"/>
                            </a:lnTo>
                            <a:lnTo>
                              <a:pt x="799" y="762"/>
                            </a:lnTo>
                            <a:lnTo>
                              <a:pt x="900" y="859"/>
                            </a:lnTo>
                            <a:lnTo>
                              <a:pt x="975" y="934"/>
                            </a:lnTo>
                            <a:lnTo>
                              <a:pt x="1032" y="996"/>
                            </a:lnTo>
                            <a:lnTo>
                              <a:pt x="1072" y="1058"/>
                            </a:lnTo>
                            <a:lnTo>
                              <a:pt x="1090" y="1115"/>
                            </a:lnTo>
                            <a:lnTo>
                              <a:pt x="1076" y="1177"/>
                            </a:lnTo>
                            <a:lnTo>
                              <a:pt x="1046" y="1240"/>
                            </a:lnTo>
                            <a:lnTo>
                              <a:pt x="1015" y="1301"/>
                            </a:lnTo>
                            <a:lnTo>
                              <a:pt x="997" y="1447"/>
                            </a:lnTo>
                            <a:lnTo>
                              <a:pt x="993" y="1513"/>
                            </a:lnTo>
                            <a:lnTo>
                              <a:pt x="984" y="1610"/>
                            </a:lnTo>
                            <a:lnTo>
                              <a:pt x="953" y="1707"/>
                            </a:lnTo>
                            <a:lnTo>
                              <a:pt x="918" y="1813"/>
                            </a:lnTo>
                            <a:lnTo>
                              <a:pt x="869" y="1888"/>
                            </a:lnTo>
                            <a:lnTo>
                              <a:pt x="825" y="1976"/>
                            </a:lnTo>
                            <a:lnTo>
                              <a:pt x="794" y="2077"/>
                            </a:lnTo>
                            <a:lnTo>
                              <a:pt x="772" y="2166"/>
                            </a:lnTo>
                            <a:lnTo>
                              <a:pt x="763" y="2236"/>
                            </a:lnTo>
                            <a:lnTo>
                              <a:pt x="755" y="2320"/>
                            </a:lnTo>
                            <a:lnTo>
                              <a:pt x="768" y="2377"/>
                            </a:lnTo>
                            <a:lnTo>
                              <a:pt x="781" y="2426"/>
                            </a:lnTo>
                            <a:lnTo>
                              <a:pt x="750" y="2391"/>
                            </a:lnTo>
                            <a:lnTo>
                              <a:pt x="706" y="2333"/>
                            </a:lnTo>
                            <a:lnTo>
                              <a:pt x="671" y="2280"/>
                            </a:lnTo>
                            <a:lnTo>
                              <a:pt x="644" y="2214"/>
                            </a:lnTo>
                            <a:lnTo>
                              <a:pt x="618" y="2113"/>
                            </a:lnTo>
                            <a:lnTo>
                              <a:pt x="596" y="2038"/>
                            </a:lnTo>
                            <a:lnTo>
                              <a:pt x="578" y="1963"/>
                            </a:lnTo>
                            <a:lnTo>
                              <a:pt x="569" y="1879"/>
                            </a:lnTo>
                            <a:lnTo>
                              <a:pt x="565" y="1813"/>
                            </a:lnTo>
                            <a:lnTo>
                              <a:pt x="515" y="1795"/>
                            </a:lnTo>
                            <a:lnTo>
                              <a:pt x="449" y="1782"/>
                            </a:lnTo>
                            <a:lnTo>
                              <a:pt x="370" y="1769"/>
                            </a:lnTo>
                            <a:lnTo>
                              <a:pt x="304" y="1751"/>
                            </a:lnTo>
                            <a:lnTo>
                              <a:pt x="238" y="1742"/>
                            </a:lnTo>
                            <a:lnTo>
                              <a:pt x="189" y="1742"/>
                            </a:lnTo>
                            <a:lnTo>
                              <a:pt x="163" y="1694"/>
                            </a:lnTo>
                            <a:lnTo>
                              <a:pt x="136" y="1623"/>
                            </a:lnTo>
                            <a:lnTo>
                              <a:pt x="123" y="1531"/>
                            </a:lnTo>
                            <a:lnTo>
                              <a:pt x="114" y="1416"/>
                            </a:lnTo>
                            <a:lnTo>
                              <a:pt x="105" y="1315"/>
                            </a:lnTo>
                            <a:lnTo>
                              <a:pt x="79" y="1226"/>
                            </a:lnTo>
                            <a:lnTo>
                              <a:pt x="57" y="1155"/>
                            </a:lnTo>
                            <a:lnTo>
                              <a:pt x="0" y="1084"/>
                            </a:lnTo>
                            <a:lnTo>
                              <a:pt x="26" y="912"/>
                            </a:lnTo>
                            <a:lnTo>
                              <a:pt x="26" y="718"/>
                            </a:lnTo>
                            <a:lnTo>
                              <a:pt x="26" y="520"/>
                            </a:lnTo>
                            <a:lnTo>
                              <a:pt x="26" y="339"/>
                            </a:lnTo>
                            <a:lnTo>
                              <a:pt x="26" y="167"/>
                            </a:lnTo>
                            <a:lnTo>
                              <a:pt x="35" y="2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1" name=""/>
                      <p:cNvSpPr/>
                      <p:nvPr/>
                    </p:nvSpPr>
                    <p:spPr>
                      <a:xfrm>
                        <a:off x="1459080" y="2243160"/>
                        <a:ext cx="268560" cy="346320"/>
                      </a:xfrm>
                      <a:custGeom>
                        <a:avLst/>
                        <a:gdLst/>
                        <a:ahLst/>
                        <a:rect l="0" t="0" r="r" b="b"/>
                        <a:pathLst>
                          <a:path w="746" h="962">
                            <a:moveTo>
                              <a:pt x="547" y="229"/>
                            </a:moveTo>
                            <a:lnTo>
                              <a:pt x="402" y="127"/>
                            </a:lnTo>
                            <a:lnTo>
                              <a:pt x="321" y="97"/>
                            </a:lnTo>
                            <a:lnTo>
                              <a:pt x="251" y="70"/>
                            </a:lnTo>
                            <a:lnTo>
                              <a:pt x="189" y="44"/>
                            </a:lnTo>
                            <a:lnTo>
                              <a:pt x="123" y="22"/>
                            </a:lnTo>
                            <a:lnTo>
                              <a:pt x="0" y="0"/>
                            </a:lnTo>
                            <a:lnTo>
                              <a:pt x="39" y="52"/>
                            </a:lnTo>
                            <a:lnTo>
                              <a:pt x="97" y="119"/>
                            </a:lnTo>
                            <a:lnTo>
                              <a:pt x="114" y="189"/>
                            </a:lnTo>
                            <a:lnTo>
                              <a:pt x="127" y="268"/>
                            </a:lnTo>
                            <a:lnTo>
                              <a:pt x="123" y="370"/>
                            </a:lnTo>
                            <a:lnTo>
                              <a:pt x="145" y="454"/>
                            </a:lnTo>
                            <a:lnTo>
                              <a:pt x="176" y="525"/>
                            </a:lnTo>
                            <a:lnTo>
                              <a:pt x="216" y="578"/>
                            </a:lnTo>
                            <a:lnTo>
                              <a:pt x="251" y="622"/>
                            </a:lnTo>
                            <a:lnTo>
                              <a:pt x="291" y="649"/>
                            </a:lnTo>
                            <a:lnTo>
                              <a:pt x="348" y="693"/>
                            </a:lnTo>
                            <a:lnTo>
                              <a:pt x="746" y="962"/>
                            </a:lnTo>
                            <a:lnTo>
                              <a:pt x="547" y="229"/>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2" name=""/>
                      <p:cNvSpPr/>
                      <p:nvPr/>
                    </p:nvSpPr>
                    <p:spPr>
                      <a:xfrm>
                        <a:off x="1230480" y="3160800"/>
                        <a:ext cx="351360" cy="111600"/>
                      </a:xfrm>
                      <a:custGeom>
                        <a:avLst/>
                        <a:gdLst/>
                        <a:ahLst/>
                        <a:rect l="0" t="0" r="r" b="b"/>
                        <a:pathLst>
                          <a:path w="976" h="310">
                            <a:moveTo>
                              <a:pt x="976" y="225"/>
                            </a:moveTo>
                            <a:lnTo>
                              <a:pt x="950" y="262"/>
                            </a:lnTo>
                            <a:lnTo>
                              <a:pt x="905" y="288"/>
                            </a:lnTo>
                            <a:lnTo>
                              <a:pt x="853" y="301"/>
                            </a:lnTo>
                            <a:lnTo>
                              <a:pt x="800" y="310"/>
                            </a:lnTo>
                            <a:lnTo>
                              <a:pt x="751" y="301"/>
                            </a:lnTo>
                            <a:lnTo>
                              <a:pt x="715" y="275"/>
                            </a:lnTo>
                            <a:lnTo>
                              <a:pt x="640" y="262"/>
                            </a:lnTo>
                            <a:lnTo>
                              <a:pt x="538" y="240"/>
                            </a:lnTo>
                            <a:lnTo>
                              <a:pt x="389" y="221"/>
                            </a:lnTo>
                            <a:lnTo>
                              <a:pt x="283" y="195"/>
                            </a:lnTo>
                            <a:lnTo>
                              <a:pt x="198" y="177"/>
                            </a:lnTo>
                            <a:lnTo>
                              <a:pt x="136" y="155"/>
                            </a:lnTo>
                            <a:lnTo>
                              <a:pt x="83" y="124"/>
                            </a:lnTo>
                            <a:lnTo>
                              <a:pt x="39" y="93"/>
                            </a:lnTo>
                            <a:lnTo>
                              <a:pt x="4" y="35"/>
                            </a:lnTo>
                            <a:lnTo>
                              <a:pt x="0" y="8"/>
                            </a:lnTo>
                            <a:lnTo>
                              <a:pt x="35" y="0"/>
                            </a:lnTo>
                            <a:lnTo>
                              <a:pt x="61" y="8"/>
                            </a:lnTo>
                            <a:lnTo>
                              <a:pt x="97" y="35"/>
                            </a:lnTo>
                            <a:lnTo>
                              <a:pt x="145" y="70"/>
                            </a:lnTo>
                            <a:lnTo>
                              <a:pt x="189" y="80"/>
                            </a:lnTo>
                            <a:lnTo>
                              <a:pt x="247" y="74"/>
                            </a:lnTo>
                            <a:lnTo>
                              <a:pt x="309" y="61"/>
                            </a:lnTo>
                            <a:lnTo>
                              <a:pt x="362" y="61"/>
                            </a:lnTo>
                            <a:lnTo>
                              <a:pt x="428" y="74"/>
                            </a:lnTo>
                            <a:lnTo>
                              <a:pt x="464" y="102"/>
                            </a:lnTo>
                            <a:lnTo>
                              <a:pt x="516" y="133"/>
                            </a:lnTo>
                            <a:lnTo>
                              <a:pt x="583" y="164"/>
                            </a:lnTo>
                            <a:lnTo>
                              <a:pt x="658" y="172"/>
                            </a:lnTo>
                            <a:lnTo>
                              <a:pt x="764" y="181"/>
                            </a:lnTo>
                            <a:lnTo>
                              <a:pt x="839" y="177"/>
                            </a:lnTo>
                            <a:lnTo>
                              <a:pt x="883" y="203"/>
                            </a:lnTo>
                            <a:lnTo>
                              <a:pt x="932" y="221"/>
                            </a:lnTo>
                            <a:lnTo>
                              <a:pt x="976" y="225"/>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3" name=""/>
                      <p:cNvSpPr/>
                      <p:nvPr/>
                    </p:nvSpPr>
                    <p:spPr>
                      <a:xfrm>
                        <a:off x="1192320" y="2700360"/>
                        <a:ext cx="630720" cy="503640"/>
                      </a:xfrm>
                      <a:custGeom>
                        <a:avLst/>
                        <a:gdLst/>
                        <a:ahLst/>
                        <a:rect l="0" t="0" r="r" b="b"/>
                        <a:pathLst>
                          <a:path w="1752" h="1399">
                            <a:moveTo>
                              <a:pt x="1187" y="0"/>
                            </a:moveTo>
                            <a:lnTo>
                              <a:pt x="1173" y="57"/>
                            </a:lnTo>
                            <a:lnTo>
                              <a:pt x="1160" y="132"/>
                            </a:lnTo>
                            <a:lnTo>
                              <a:pt x="1156" y="220"/>
                            </a:lnTo>
                            <a:lnTo>
                              <a:pt x="1165" y="313"/>
                            </a:lnTo>
                            <a:lnTo>
                              <a:pt x="1187" y="402"/>
                            </a:lnTo>
                            <a:lnTo>
                              <a:pt x="1235" y="534"/>
                            </a:lnTo>
                            <a:lnTo>
                              <a:pt x="1279" y="640"/>
                            </a:lnTo>
                            <a:lnTo>
                              <a:pt x="1316" y="728"/>
                            </a:lnTo>
                            <a:lnTo>
                              <a:pt x="1333" y="807"/>
                            </a:lnTo>
                            <a:lnTo>
                              <a:pt x="1351" y="882"/>
                            </a:lnTo>
                            <a:lnTo>
                              <a:pt x="1351" y="944"/>
                            </a:lnTo>
                            <a:lnTo>
                              <a:pt x="1338" y="993"/>
                            </a:lnTo>
                            <a:lnTo>
                              <a:pt x="1316" y="1037"/>
                            </a:lnTo>
                            <a:lnTo>
                              <a:pt x="1284" y="1015"/>
                            </a:lnTo>
                            <a:lnTo>
                              <a:pt x="1257" y="1002"/>
                            </a:lnTo>
                            <a:lnTo>
                              <a:pt x="1240" y="953"/>
                            </a:lnTo>
                            <a:lnTo>
                              <a:pt x="1213" y="904"/>
                            </a:lnTo>
                            <a:lnTo>
                              <a:pt x="1187" y="865"/>
                            </a:lnTo>
                            <a:lnTo>
                              <a:pt x="1138" y="812"/>
                            </a:lnTo>
                            <a:lnTo>
                              <a:pt x="1107" y="772"/>
                            </a:lnTo>
                            <a:lnTo>
                              <a:pt x="1090" y="715"/>
                            </a:lnTo>
                            <a:lnTo>
                              <a:pt x="1085" y="662"/>
                            </a:lnTo>
                            <a:lnTo>
                              <a:pt x="1090" y="600"/>
                            </a:lnTo>
                            <a:lnTo>
                              <a:pt x="1076" y="569"/>
                            </a:lnTo>
                            <a:lnTo>
                              <a:pt x="1046" y="600"/>
                            </a:lnTo>
                            <a:lnTo>
                              <a:pt x="1019" y="649"/>
                            </a:lnTo>
                            <a:lnTo>
                              <a:pt x="1002" y="706"/>
                            </a:lnTo>
                            <a:lnTo>
                              <a:pt x="993" y="772"/>
                            </a:lnTo>
                            <a:lnTo>
                              <a:pt x="1002" y="847"/>
                            </a:lnTo>
                            <a:lnTo>
                              <a:pt x="1019" y="940"/>
                            </a:lnTo>
                            <a:lnTo>
                              <a:pt x="1037" y="993"/>
                            </a:lnTo>
                            <a:lnTo>
                              <a:pt x="1037" y="1037"/>
                            </a:lnTo>
                            <a:lnTo>
                              <a:pt x="1019" y="1073"/>
                            </a:lnTo>
                            <a:lnTo>
                              <a:pt x="984" y="1091"/>
                            </a:lnTo>
                            <a:lnTo>
                              <a:pt x="931" y="1100"/>
                            </a:lnTo>
                            <a:lnTo>
                              <a:pt x="882" y="1086"/>
                            </a:lnTo>
                            <a:lnTo>
                              <a:pt x="856" y="1060"/>
                            </a:lnTo>
                            <a:lnTo>
                              <a:pt x="772" y="975"/>
                            </a:lnTo>
                            <a:lnTo>
                              <a:pt x="724" y="913"/>
                            </a:lnTo>
                            <a:lnTo>
                              <a:pt x="684" y="852"/>
                            </a:lnTo>
                            <a:lnTo>
                              <a:pt x="627" y="781"/>
                            </a:lnTo>
                            <a:lnTo>
                              <a:pt x="552" y="688"/>
                            </a:lnTo>
                            <a:lnTo>
                              <a:pt x="472" y="591"/>
                            </a:lnTo>
                            <a:lnTo>
                              <a:pt x="401" y="508"/>
                            </a:lnTo>
                            <a:lnTo>
                              <a:pt x="321" y="437"/>
                            </a:lnTo>
                            <a:lnTo>
                              <a:pt x="277" y="415"/>
                            </a:lnTo>
                            <a:lnTo>
                              <a:pt x="229" y="397"/>
                            </a:lnTo>
                            <a:lnTo>
                              <a:pt x="176" y="389"/>
                            </a:lnTo>
                            <a:lnTo>
                              <a:pt x="97" y="393"/>
                            </a:lnTo>
                            <a:lnTo>
                              <a:pt x="44" y="402"/>
                            </a:lnTo>
                            <a:lnTo>
                              <a:pt x="0" y="415"/>
                            </a:lnTo>
                            <a:lnTo>
                              <a:pt x="405" y="1108"/>
                            </a:lnTo>
                            <a:lnTo>
                              <a:pt x="966" y="1399"/>
                            </a:lnTo>
                            <a:lnTo>
                              <a:pt x="1085" y="1360"/>
                            </a:lnTo>
                            <a:lnTo>
                              <a:pt x="1187" y="1333"/>
                            </a:lnTo>
                            <a:lnTo>
                              <a:pt x="1279" y="1302"/>
                            </a:lnTo>
                            <a:lnTo>
                              <a:pt x="1373" y="1280"/>
                            </a:lnTo>
                            <a:lnTo>
                              <a:pt x="1479" y="1254"/>
                            </a:lnTo>
                            <a:lnTo>
                              <a:pt x="1554" y="1245"/>
                            </a:lnTo>
                            <a:lnTo>
                              <a:pt x="1629" y="1263"/>
                            </a:lnTo>
                            <a:lnTo>
                              <a:pt x="1677" y="1280"/>
                            </a:lnTo>
                            <a:lnTo>
                              <a:pt x="1721" y="1316"/>
                            </a:lnTo>
                            <a:lnTo>
                              <a:pt x="1743" y="1333"/>
                            </a:lnTo>
                            <a:lnTo>
                              <a:pt x="1748" y="1307"/>
                            </a:lnTo>
                            <a:lnTo>
                              <a:pt x="1752" y="1276"/>
                            </a:lnTo>
                            <a:lnTo>
                              <a:pt x="1752" y="1236"/>
                            </a:lnTo>
                            <a:lnTo>
                              <a:pt x="1730" y="1192"/>
                            </a:lnTo>
                            <a:lnTo>
                              <a:pt x="1699" y="1139"/>
                            </a:lnTo>
                            <a:lnTo>
                              <a:pt x="1655" y="1086"/>
                            </a:lnTo>
                            <a:lnTo>
                              <a:pt x="1620" y="1037"/>
                            </a:lnTo>
                            <a:lnTo>
                              <a:pt x="1576" y="988"/>
                            </a:lnTo>
                            <a:lnTo>
                              <a:pt x="1532" y="940"/>
                            </a:lnTo>
                            <a:lnTo>
                              <a:pt x="1501" y="882"/>
                            </a:lnTo>
                            <a:lnTo>
                              <a:pt x="1470" y="834"/>
                            </a:lnTo>
                            <a:lnTo>
                              <a:pt x="1430" y="772"/>
                            </a:lnTo>
                            <a:lnTo>
                              <a:pt x="1386" y="715"/>
                            </a:lnTo>
                            <a:lnTo>
                              <a:pt x="1346" y="658"/>
                            </a:lnTo>
                            <a:lnTo>
                              <a:pt x="1306" y="587"/>
                            </a:lnTo>
                            <a:lnTo>
                              <a:pt x="1279" y="512"/>
                            </a:lnTo>
                            <a:lnTo>
                              <a:pt x="1253" y="441"/>
                            </a:lnTo>
                            <a:lnTo>
                              <a:pt x="1226" y="367"/>
                            </a:lnTo>
                            <a:lnTo>
                              <a:pt x="1213" y="291"/>
                            </a:lnTo>
                            <a:lnTo>
                              <a:pt x="1209" y="216"/>
                            </a:lnTo>
                            <a:lnTo>
                              <a:pt x="1209" y="145"/>
                            </a:lnTo>
                            <a:lnTo>
                              <a:pt x="1187"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4" name=""/>
                      <p:cNvSpPr/>
                      <p:nvPr/>
                    </p:nvSpPr>
                    <p:spPr>
                      <a:xfrm>
                        <a:off x="1154160" y="2838600"/>
                        <a:ext cx="475200" cy="403560"/>
                      </a:xfrm>
                      <a:custGeom>
                        <a:avLst/>
                        <a:gdLst/>
                        <a:ahLst/>
                        <a:rect l="0" t="0" r="r" b="b"/>
                        <a:pathLst>
                          <a:path w="1320" h="1121">
                            <a:moveTo>
                              <a:pt x="1126" y="1116"/>
                            </a:moveTo>
                            <a:lnTo>
                              <a:pt x="1183" y="1121"/>
                            </a:lnTo>
                            <a:lnTo>
                              <a:pt x="1236" y="1116"/>
                            </a:lnTo>
                            <a:lnTo>
                              <a:pt x="1280" y="1107"/>
                            </a:lnTo>
                            <a:lnTo>
                              <a:pt x="1311" y="1076"/>
                            </a:lnTo>
                            <a:lnTo>
                              <a:pt x="1320" y="1041"/>
                            </a:lnTo>
                            <a:lnTo>
                              <a:pt x="1316" y="997"/>
                            </a:lnTo>
                            <a:lnTo>
                              <a:pt x="1294" y="949"/>
                            </a:lnTo>
                            <a:lnTo>
                              <a:pt x="1258" y="922"/>
                            </a:lnTo>
                            <a:lnTo>
                              <a:pt x="1197" y="904"/>
                            </a:lnTo>
                            <a:lnTo>
                              <a:pt x="1135" y="909"/>
                            </a:lnTo>
                            <a:lnTo>
                              <a:pt x="1064" y="896"/>
                            </a:lnTo>
                            <a:lnTo>
                              <a:pt x="1011" y="860"/>
                            </a:lnTo>
                            <a:lnTo>
                              <a:pt x="966" y="812"/>
                            </a:lnTo>
                            <a:lnTo>
                              <a:pt x="891" y="772"/>
                            </a:lnTo>
                            <a:lnTo>
                              <a:pt x="830" y="728"/>
                            </a:lnTo>
                            <a:lnTo>
                              <a:pt x="763" y="702"/>
                            </a:lnTo>
                            <a:lnTo>
                              <a:pt x="697" y="680"/>
                            </a:lnTo>
                            <a:lnTo>
                              <a:pt x="622" y="640"/>
                            </a:lnTo>
                            <a:lnTo>
                              <a:pt x="569" y="605"/>
                            </a:lnTo>
                            <a:lnTo>
                              <a:pt x="521" y="533"/>
                            </a:lnTo>
                            <a:lnTo>
                              <a:pt x="472" y="463"/>
                            </a:lnTo>
                            <a:lnTo>
                              <a:pt x="411" y="361"/>
                            </a:lnTo>
                            <a:lnTo>
                              <a:pt x="340" y="264"/>
                            </a:lnTo>
                            <a:lnTo>
                              <a:pt x="277" y="180"/>
                            </a:lnTo>
                            <a:lnTo>
                              <a:pt x="216" y="123"/>
                            </a:lnTo>
                            <a:lnTo>
                              <a:pt x="163" y="74"/>
                            </a:lnTo>
                            <a:lnTo>
                              <a:pt x="105" y="26"/>
                            </a:lnTo>
                            <a:lnTo>
                              <a:pt x="52" y="4"/>
                            </a:lnTo>
                            <a:lnTo>
                              <a:pt x="0" y="0"/>
                            </a:lnTo>
                            <a:lnTo>
                              <a:pt x="35" y="35"/>
                            </a:lnTo>
                            <a:lnTo>
                              <a:pt x="57" y="79"/>
                            </a:lnTo>
                            <a:lnTo>
                              <a:pt x="79" y="158"/>
                            </a:lnTo>
                            <a:lnTo>
                              <a:pt x="88" y="229"/>
                            </a:lnTo>
                            <a:lnTo>
                              <a:pt x="92" y="299"/>
                            </a:lnTo>
                            <a:lnTo>
                              <a:pt x="79" y="370"/>
                            </a:lnTo>
                            <a:lnTo>
                              <a:pt x="57" y="440"/>
                            </a:lnTo>
                            <a:lnTo>
                              <a:pt x="30" y="515"/>
                            </a:lnTo>
                            <a:lnTo>
                              <a:pt x="52" y="555"/>
                            </a:lnTo>
                            <a:lnTo>
                              <a:pt x="79" y="587"/>
                            </a:lnTo>
                            <a:lnTo>
                              <a:pt x="123" y="627"/>
                            </a:lnTo>
                            <a:lnTo>
                              <a:pt x="180" y="653"/>
                            </a:lnTo>
                            <a:lnTo>
                              <a:pt x="246" y="666"/>
                            </a:lnTo>
                            <a:lnTo>
                              <a:pt x="308" y="666"/>
                            </a:lnTo>
                            <a:lnTo>
                              <a:pt x="362" y="662"/>
                            </a:lnTo>
                            <a:lnTo>
                              <a:pt x="380" y="688"/>
                            </a:lnTo>
                            <a:lnTo>
                              <a:pt x="384" y="724"/>
                            </a:lnTo>
                            <a:lnTo>
                              <a:pt x="362" y="759"/>
                            </a:lnTo>
                            <a:lnTo>
                              <a:pt x="349" y="807"/>
                            </a:lnTo>
                            <a:lnTo>
                              <a:pt x="349" y="852"/>
                            </a:lnTo>
                            <a:lnTo>
                              <a:pt x="375" y="896"/>
                            </a:lnTo>
                            <a:lnTo>
                              <a:pt x="411" y="918"/>
                            </a:lnTo>
                            <a:lnTo>
                              <a:pt x="450" y="904"/>
                            </a:lnTo>
                            <a:lnTo>
                              <a:pt x="494" y="918"/>
                            </a:lnTo>
                            <a:lnTo>
                              <a:pt x="534" y="944"/>
                            </a:lnTo>
                            <a:lnTo>
                              <a:pt x="596" y="971"/>
                            </a:lnTo>
                            <a:lnTo>
                              <a:pt x="666" y="988"/>
                            </a:lnTo>
                            <a:lnTo>
                              <a:pt x="750" y="1002"/>
                            </a:lnTo>
                            <a:lnTo>
                              <a:pt x="816" y="1010"/>
                            </a:lnTo>
                            <a:lnTo>
                              <a:pt x="878" y="1002"/>
                            </a:lnTo>
                            <a:lnTo>
                              <a:pt x="962" y="1015"/>
                            </a:lnTo>
                            <a:lnTo>
                              <a:pt x="998" y="1041"/>
                            </a:lnTo>
                            <a:lnTo>
                              <a:pt x="1069" y="1085"/>
                            </a:lnTo>
                            <a:lnTo>
                              <a:pt x="1126" y="111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5" name=""/>
                      <p:cNvSpPr/>
                      <p:nvPr/>
                    </p:nvSpPr>
                    <p:spPr>
                      <a:xfrm>
                        <a:off x="1668600" y="3137040"/>
                        <a:ext cx="143280" cy="52920"/>
                      </a:xfrm>
                      <a:custGeom>
                        <a:avLst/>
                        <a:gdLst/>
                        <a:ahLst/>
                        <a:rect l="0" t="0" r="r" b="b"/>
                        <a:pathLst>
                          <a:path w="398" h="147">
                            <a:moveTo>
                              <a:pt x="398" y="93"/>
                            </a:moveTo>
                            <a:lnTo>
                              <a:pt x="385" y="49"/>
                            </a:lnTo>
                            <a:lnTo>
                              <a:pt x="359" y="22"/>
                            </a:lnTo>
                            <a:lnTo>
                              <a:pt x="319" y="4"/>
                            </a:lnTo>
                            <a:lnTo>
                              <a:pt x="274" y="0"/>
                            </a:lnTo>
                            <a:lnTo>
                              <a:pt x="221" y="13"/>
                            </a:lnTo>
                            <a:lnTo>
                              <a:pt x="146" y="30"/>
                            </a:lnTo>
                            <a:lnTo>
                              <a:pt x="83" y="49"/>
                            </a:lnTo>
                            <a:lnTo>
                              <a:pt x="0" y="71"/>
                            </a:lnTo>
                            <a:lnTo>
                              <a:pt x="102" y="89"/>
                            </a:lnTo>
                            <a:lnTo>
                              <a:pt x="159" y="112"/>
                            </a:lnTo>
                            <a:lnTo>
                              <a:pt x="221" y="129"/>
                            </a:lnTo>
                            <a:lnTo>
                              <a:pt x="261" y="143"/>
                            </a:lnTo>
                            <a:lnTo>
                              <a:pt x="319" y="147"/>
                            </a:lnTo>
                            <a:lnTo>
                              <a:pt x="354" y="143"/>
                            </a:lnTo>
                            <a:lnTo>
                              <a:pt x="385" y="121"/>
                            </a:lnTo>
                            <a:lnTo>
                              <a:pt x="398" y="93"/>
                            </a:lnTo>
                            <a:close/>
                          </a:path>
                        </a:pathLst>
                      </a:custGeom>
                      <a:solidFill>
                        <a:srgbClr val="99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206" name=""/>
                      <p:cNvSpPr/>
                      <p:nvPr/>
                    </p:nvSpPr>
                    <p:spPr>
                      <a:xfrm>
                        <a:off x="1492200" y="2703600"/>
                        <a:ext cx="179640" cy="370080"/>
                      </a:xfrm>
                      <a:custGeom>
                        <a:avLst/>
                        <a:gdLst/>
                        <a:ahLst/>
                        <a:rect l="0" t="0" r="r" b="b"/>
                        <a:pathLst>
                          <a:path w="499" h="1028">
                            <a:moveTo>
                              <a:pt x="283" y="0"/>
                            </a:moveTo>
                            <a:lnTo>
                              <a:pt x="296" y="141"/>
                            </a:lnTo>
                            <a:lnTo>
                              <a:pt x="309" y="291"/>
                            </a:lnTo>
                            <a:lnTo>
                              <a:pt x="344" y="427"/>
                            </a:lnTo>
                            <a:lnTo>
                              <a:pt x="375" y="502"/>
                            </a:lnTo>
                            <a:lnTo>
                              <a:pt x="402" y="578"/>
                            </a:lnTo>
                            <a:lnTo>
                              <a:pt x="433" y="644"/>
                            </a:lnTo>
                            <a:lnTo>
                              <a:pt x="455" y="702"/>
                            </a:lnTo>
                            <a:lnTo>
                              <a:pt x="490" y="799"/>
                            </a:lnTo>
                            <a:lnTo>
                              <a:pt x="499" y="865"/>
                            </a:lnTo>
                            <a:lnTo>
                              <a:pt x="499" y="944"/>
                            </a:lnTo>
                            <a:lnTo>
                              <a:pt x="494" y="988"/>
                            </a:lnTo>
                            <a:lnTo>
                              <a:pt x="481" y="1028"/>
                            </a:lnTo>
                            <a:lnTo>
                              <a:pt x="455" y="1010"/>
                            </a:lnTo>
                            <a:lnTo>
                              <a:pt x="433" y="993"/>
                            </a:lnTo>
                            <a:lnTo>
                              <a:pt x="402" y="1028"/>
                            </a:lnTo>
                            <a:lnTo>
                              <a:pt x="419" y="988"/>
                            </a:lnTo>
                            <a:lnTo>
                              <a:pt x="415" y="953"/>
                            </a:lnTo>
                            <a:lnTo>
                              <a:pt x="393" y="904"/>
                            </a:lnTo>
                            <a:lnTo>
                              <a:pt x="367" y="865"/>
                            </a:lnTo>
                            <a:lnTo>
                              <a:pt x="327" y="821"/>
                            </a:lnTo>
                            <a:lnTo>
                              <a:pt x="296" y="794"/>
                            </a:lnTo>
                            <a:lnTo>
                              <a:pt x="274" y="763"/>
                            </a:lnTo>
                            <a:lnTo>
                              <a:pt x="256" y="706"/>
                            </a:lnTo>
                            <a:lnTo>
                              <a:pt x="246" y="640"/>
                            </a:lnTo>
                            <a:lnTo>
                              <a:pt x="252" y="591"/>
                            </a:lnTo>
                            <a:lnTo>
                              <a:pt x="229" y="547"/>
                            </a:lnTo>
                            <a:lnTo>
                              <a:pt x="185" y="521"/>
                            </a:lnTo>
                            <a:lnTo>
                              <a:pt x="136" y="498"/>
                            </a:lnTo>
                            <a:lnTo>
                              <a:pt x="101" y="485"/>
                            </a:lnTo>
                            <a:lnTo>
                              <a:pt x="57" y="476"/>
                            </a:lnTo>
                            <a:lnTo>
                              <a:pt x="22" y="454"/>
                            </a:lnTo>
                            <a:lnTo>
                              <a:pt x="0" y="436"/>
                            </a:lnTo>
                            <a:lnTo>
                              <a:pt x="35" y="432"/>
                            </a:lnTo>
                            <a:lnTo>
                              <a:pt x="74" y="427"/>
                            </a:lnTo>
                            <a:lnTo>
                              <a:pt x="110" y="414"/>
                            </a:lnTo>
                            <a:lnTo>
                              <a:pt x="149" y="392"/>
                            </a:lnTo>
                            <a:lnTo>
                              <a:pt x="180" y="374"/>
                            </a:lnTo>
                            <a:lnTo>
                              <a:pt x="202" y="313"/>
                            </a:lnTo>
                            <a:lnTo>
                              <a:pt x="211" y="220"/>
                            </a:lnTo>
                            <a:lnTo>
                              <a:pt x="229" y="119"/>
                            </a:lnTo>
                            <a:lnTo>
                              <a:pt x="283"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7" name=""/>
                      <p:cNvSpPr/>
                      <p:nvPr/>
                    </p:nvSpPr>
                    <p:spPr>
                      <a:xfrm>
                        <a:off x="1714680" y="2832120"/>
                        <a:ext cx="38520" cy="206640"/>
                      </a:xfrm>
                      <a:custGeom>
                        <a:avLst/>
                        <a:gdLst/>
                        <a:ahLst/>
                        <a:rect l="0" t="0" r="r" b="b"/>
                        <a:pathLst>
                          <a:path w="107" h="574">
                            <a:moveTo>
                              <a:pt x="45" y="362"/>
                            </a:moveTo>
                            <a:lnTo>
                              <a:pt x="31" y="419"/>
                            </a:lnTo>
                            <a:lnTo>
                              <a:pt x="49" y="468"/>
                            </a:lnTo>
                            <a:lnTo>
                              <a:pt x="62" y="512"/>
                            </a:lnTo>
                            <a:lnTo>
                              <a:pt x="81" y="574"/>
                            </a:lnTo>
                            <a:lnTo>
                              <a:pt x="53" y="534"/>
                            </a:lnTo>
                            <a:lnTo>
                              <a:pt x="26" y="486"/>
                            </a:lnTo>
                            <a:lnTo>
                              <a:pt x="0" y="433"/>
                            </a:lnTo>
                            <a:lnTo>
                              <a:pt x="0" y="371"/>
                            </a:lnTo>
                            <a:lnTo>
                              <a:pt x="36" y="309"/>
                            </a:lnTo>
                            <a:lnTo>
                              <a:pt x="75" y="224"/>
                            </a:lnTo>
                            <a:lnTo>
                              <a:pt x="75" y="171"/>
                            </a:lnTo>
                            <a:lnTo>
                              <a:pt x="62" y="97"/>
                            </a:lnTo>
                            <a:lnTo>
                              <a:pt x="31" y="0"/>
                            </a:lnTo>
                            <a:lnTo>
                              <a:pt x="75" y="57"/>
                            </a:lnTo>
                            <a:lnTo>
                              <a:pt x="103" y="119"/>
                            </a:lnTo>
                            <a:lnTo>
                              <a:pt x="107" y="211"/>
                            </a:lnTo>
                            <a:lnTo>
                              <a:pt x="94" y="282"/>
                            </a:lnTo>
                            <a:lnTo>
                              <a:pt x="45" y="362"/>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8" name=""/>
                      <p:cNvSpPr/>
                      <p:nvPr/>
                    </p:nvSpPr>
                    <p:spPr>
                      <a:xfrm>
                        <a:off x="1562040" y="2475000"/>
                        <a:ext cx="168480" cy="536760"/>
                      </a:xfrm>
                      <a:custGeom>
                        <a:avLst/>
                        <a:gdLst/>
                        <a:ahLst/>
                        <a:rect l="0" t="0" r="r" b="b"/>
                        <a:pathLst>
                          <a:path w="468" h="1491">
                            <a:moveTo>
                              <a:pt x="468" y="1491"/>
                            </a:moveTo>
                            <a:lnTo>
                              <a:pt x="441" y="1460"/>
                            </a:lnTo>
                            <a:lnTo>
                              <a:pt x="362" y="1354"/>
                            </a:lnTo>
                            <a:lnTo>
                              <a:pt x="300" y="1253"/>
                            </a:lnTo>
                            <a:lnTo>
                              <a:pt x="239" y="1121"/>
                            </a:lnTo>
                            <a:lnTo>
                              <a:pt x="198" y="993"/>
                            </a:lnTo>
                            <a:lnTo>
                              <a:pt x="180" y="891"/>
                            </a:lnTo>
                            <a:lnTo>
                              <a:pt x="171" y="746"/>
                            </a:lnTo>
                            <a:lnTo>
                              <a:pt x="158" y="617"/>
                            </a:lnTo>
                            <a:lnTo>
                              <a:pt x="211" y="643"/>
                            </a:lnTo>
                            <a:lnTo>
                              <a:pt x="278" y="687"/>
                            </a:lnTo>
                            <a:lnTo>
                              <a:pt x="331" y="746"/>
                            </a:lnTo>
                            <a:lnTo>
                              <a:pt x="336" y="687"/>
                            </a:lnTo>
                            <a:lnTo>
                              <a:pt x="327" y="612"/>
                            </a:lnTo>
                            <a:lnTo>
                              <a:pt x="305" y="555"/>
                            </a:lnTo>
                            <a:lnTo>
                              <a:pt x="269" y="485"/>
                            </a:lnTo>
                            <a:lnTo>
                              <a:pt x="224" y="414"/>
                            </a:lnTo>
                            <a:lnTo>
                              <a:pt x="180" y="348"/>
                            </a:lnTo>
                            <a:lnTo>
                              <a:pt x="145" y="282"/>
                            </a:lnTo>
                            <a:lnTo>
                              <a:pt x="105" y="207"/>
                            </a:lnTo>
                            <a:lnTo>
                              <a:pt x="83" y="149"/>
                            </a:lnTo>
                            <a:lnTo>
                              <a:pt x="52" y="79"/>
                            </a:lnTo>
                            <a:lnTo>
                              <a:pt x="30" y="39"/>
                            </a:lnTo>
                            <a:lnTo>
                              <a:pt x="0" y="0"/>
                            </a:lnTo>
                            <a:lnTo>
                              <a:pt x="52" y="26"/>
                            </a:lnTo>
                            <a:lnTo>
                              <a:pt x="105" y="52"/>
                            </a:lnTo>
                            <a:lnTo>
                              <a:pt x="171" y="101"/>
                            </a:lnTo>
                            <a:lnTo>
                              <a:pt x="211" y="145"/>
                            </a:lnTo>
                            <a:lnTo>
                              <a:pt x="252" y="180"/>
                            </a:lnTo>
                            <a:lnTo>
                              <a:pt x="300" y="321"/>
                            </a:lnTo>
                            <a:lnTo>
                              <a:pt x="433" y="555"/>
                            </a:lnTo>
                            <a:lnTo>
                              <a:pt x="411" y="847"/>
                            </a:lnTo>
                            <a:lnTo>
                              <a:pt x="455" y="1010"/>
                            </a:lnTo>
                            <a:lnTo>
                              <a:pt x="424" y="1143"/>
                            </a:lnTo>
                            <a:lnTo>
                              <a:pt x="406" y="1262"/>
                            </a:lnTo>
                            <a:lnTo>
                              <a:pt x="424" y="1363"/>
                            </a:lnTo>
                            <a:lnTo>
                              <a:pt x="468" y="149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9" name=""/>
                      <p:cNvSpPr/>
                      <p:nvPr/>
                    </p:nvSpPr>
                    <p:spPr>
                      <a:xfrm>
                        <a:off x="741240" y="2424240"/>
                        <a:ext cx="192600" cy="614880"/>
                      </a:xfrm>
                      <a:custGeom>
                        <a:avLst/>
                        <a:gdLst/>
                        <a:ahLst/>
                        <a:rect l="0" t="0" r="r" b="b"/>
                        <a:pathLst>
                          <a:path w="535" h="1708">
                            <a:moveTo>
                              <a:pt x="509" y="1633"/>
                            </a:moveTo>
                            <a:lnTo>
                              <a:pt x="517" y="1708"/>
                            </a:lnTo>
                            <a:lnTo>
                              <a:pt x="535" y="1624"/>
                            </a:lnTo>
                            <a:lnTo>
                              <a:pt x="535" y="1549"/>
                            </a:lnTo>
                            <a:lnTo>
                              <a:pt x="522" y="1470"/>
                            </a:lnTo>
                            <a:lnTo>
                              <a:pt x="517" y="1369"/>
                            </a:lnTo>
                            <a:lnTo>
                              <a:pt x="509" y="1307"/>
                            </a:lnTo>
                            <a:lnTo>
                              <a:pt x="465" y="1160"/>
                            </a:lnTo>
                            <a:lnTo>
                              <a:pt x="451" y="1068"/>
                            </a:lnTo>
                            <a:lnTo>
                              <a:pt x="465" y="962"/>
                            </a:lnTo>
                            <a:lnTo>
                              <a:pt x="451" y="865"/>
                            </a:lnTo>
                            <a:lnTo>
                              <a:pt x="429" y="777"/>
                            </a:lnTo>
                            <a:lnTo>
                              <a:pt x="403" y="702"/>
                            </a:lnTo>
                            <a:lnTo>
                              <a:pt x="380" y="622"/>
                            </a:lnTo>
                            <a:lnTo>
                              <a:pt x="371" y="521"/>
                            </a:lnTo>
                            <a:lnTo>
                              <a:pt x="353" y="418"/>
                            </a:lnTo>
                            <a:lnTo>
                              <a:pt x="336" y="335"/>
                            </a:lnTo>
                            <a:lnTo>
                              <a:pt x="300" y="207"/>
                            </a:lnTo>
                            <a:lnTo>
                              <a:pt x="274" y="105"/>
                            </a:lnTo>
                            <a:lnTo>
                              <a:pt x="221" y="0"/>
                            </a:lnTo>
                            <a:lnTo>
                              <a:pt x="225" y="48"/>
                            </a:lnTo>
                            <a:lnTo>
                              <a:pt x="221" y="123"/>
                            </a:lnTo>
                            <a:lnTo>
                              <a:pt x="221" y="202"/>
                            </a:lnTo>
                            <a:lnTo>
                              <a:pt x="225" y="317"/>
                            </a:lnTo>
                            <a:lnTo>
                              <a:pt x="252" y="446"/>
                            </a:lnTo>
                            <a:lnTo>
                              <a:pt x="199" y="361"/>
                            </a:lnTo>
                            <a:lnTo>
                              <a:pt x="155" y="299"/>
                            </a:lnTo>
                            <a:lnTo>
                              <a:pt x="101" y="229"/>
                            </a:lnTo>
                            <a:lnTo>
                              <a:pt x="52" y="167"/>
                            </a:lnTo>
                            <a:lnTo>
                              <a:pt x="0" y="123"/>
                            </a:lnTo>
                            <a:lnTo>
                              <a:pt x="74" y="238"/>
                            </a:lnTo>
                            <a:lnTo>
                              <a:pt x="119" y="313"/>
                            </a:lnTo>
                            <a:lnTo>
                              <a:pt x="195" y="418"/>
                            </a:lnTo>
                            <a:lnTo>
                              <a:pt x="243" y="516"/>
                            </a:lnTo>
                            <a:lnTo>
                              <a:pt x="239" y="574"/>
                            </a:lnTo>
                            <a:lnTo>
                              <a:pt x="243" y="662"/>
                            </a:lnTo>
                            <a:lnTo>
                              <a:pt x="274" y="759"/>
                            </a:lnTo>
                            <a:lnTo>
                              <a:pt x="300" y="825"/>
                            </a:lnTo>
                            <a:lnTo>
                              <a:pt x="340" y="896"/>
                            </a:lnTo>
                            <a:lnTo>
                              <a:pt x="322" y="1002"/>
                            </a:lnTo>
                            <a:lnTo>
                              <a:pt x="336" y="1103"/>
                            </a:lnTo>
                            <a:lnTo>
                              <a:pt x="367" y="1226"/>
                            </a:lnTo>
                            <a:lnTo>
                              <a:pt x="416" y="1355"/>
                            </a:lnTo>
                            <a:lnTo>
                              <a:pt x="447" y="1457"/>
                            </a:lnTo>
                            <a:lnTo>
                              <a:pt x="403" y="1421"/>
                            </a:lnTo>
                            <a:lnTo>
                              <a:pt x="367" y="1369"/>
                            </a:lnTo>
                            <a:lnTo>
                              <a:pt x="371" y="1421"/>
                            </a:lnTo>
                            <a:lnTo>
                              <a:pt x="403" y="1496"/>
                            </a:lnTo>
                            <a:lnTo>
                              <a:pt x="438" y="1540"/>
                            </a:lnTo>
                            <a:lnTo>
                              <a:pt x="460" y="1580"/>
                            </a:lnTo>
                            <a:lnTo>
                              <a:pt x="416" y="1589"/>
                            </a:lnTo>
                            <a:lnTo>
                              <a:pt x="344" y="1589"/>
                            </a:lnTo>
                            <a:lnTo>
                              <a:pt x="412" y="1602"/>
                            </a:lnTo>
                            <a:lnTo>
                              <a:pt x="473" y="1620"/>
                            </a:lnTo>
                            <a:lnTo>
                              <a:pt x="509" y="1633"/>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0" name=""/>
                      <p:cNvSpPr/>
                      <p:nvPr/>
                    </p:nvSpPr>
                    <p:spPr>
                      <a:xfrm>
                        <a:off x="950760" y="2203560"/>
                        <a:ext cx="500400" cy="87840"/>
                      </a:xfrm>
                      <a:custGeom>
                        <a:avLst/>
                        <a:gdLst/>
                        <a:ahLst/>
                        <a:rect l="0" t="0" r="r" b="b"/>
                        <a:pathLst>
                          <a:path w="1390" h="244">
                            <a:moveTo>
                              <a:pt x="1390" y="0"/>
                            </a:moveTo>
                            <a:lnTo>
                              <a:pt x="1354" y="44"/>
                            </a:lnTo>
                            <a:lnTo>
                              <a:pt x="1297" y="89"/>
                            </a:lnTo>
                            <a:lnTo>
                              <a:pt x="1222" y="128"/>
                            </a:lnTo>
                            <a:lnTo>
                              <a:pt x="1156" y="164"/>
                            </a:lnTo>
                            <a:lnTo>
                              <a:pt x="1072" y="191"/>
                            </a:lnTo>
                            <a:lnTo>
                              <a:pt x="988" y="218"/>
                            </a:lnTo>
                            <a:lnTo>
                              <a:pt x="874" y="235"/>
                            </a:lnTo>
                            <a:lnTo>
                              <a:pt x="777" y="244"/>
                            </a:lnTo>
                            <a:lnTo>
                              <a:pt x="630" y="244"/>
                            </a:lnTo>
                            <a:lnTo>
                              <a:pt x="529" y="240"/>
                            </a:lnTo>
                            <a:lnTo>
                              <a:pt x="423" y="226"/>
                            </a:lnTo>
                            <a:lnTo>
                              <a:pt x="321" y="196"/>
                            </a:lnTo>
                            <a:lnTo>
                              <a:pt x="229" y="164"/>
                            </a:lnTo>
                            <a:lnTo>
                              <a:pt x="141" y="115"/>
                            </a:lnTo>
                            <a:lnTo>
                              <a:pt x="57" y="62"/>
                            </a:lnTo>
                            <a:lnTo>
                              <a:pt x="0" y="17"/>
                            </a:lnTo>
                            <a:lnTo>
                              <a:pt x="1390" y="0"/>
                            </a:lnTo>
                            <a:close/>
                          </a:path>
                        </a:pathLst>
                      </a:custGeom>
                      <a:solidFill>
                        <a:srgbClr val="990000"/>
                      </a:solidFill>
                      <a:ln w="12600">
                        <a:solidFill>
                          <a:srgbClr val="df3f5f"/>
                        </a:solidFill>
                        <a:round/>
                      </a:ln>
                    </p:spPr>
                    <p:txBody>
                      <a:bodyPr lIns="96120" rIns="96120" tIns="36720" bIns="36720" anchor="t">
                        <a:noAutofit/>
                      </a:bodyPr>
                      <a:p>
                        <a:endParaRPr b="0" lang="en-US" sz="1800" spc="-1" strike="noStrike">
                          <a:solidFill>
                            <a:srgbClr val="ffffff"/>
                          </a:solidFill>
                          <a:latin typeface="Arial"/>
                        </a:endParaRPr>
                      </a:p>
                    </p:txBody>
                  </p:sp>
                  <p:sp>
                    <p:nvSpPr>
                      <p:cNvPr id="1211" name=""/>
                      <p:cNvSpPr/>
                      <p:nvPr/>
                    </p:nvSpPr>
                    <p:spPr>
                      <a:xfrm>
                        <a:off x="1001880" y="3225960"/>
                        <a:ext cx="511560" cy="259200"/>
                      </a:xfrm>
                      <a:custGeom>
                        <a:avLst/>
                        <a:gdLst/>
                        <a:ahLst/>
                        <a:rect l="0" t="0" r="r" b="b"/>
                        <a:pathLst>
                          <a:path w="1421" h="720">
                            <a:moveTo>
                              <a:pt x="1421" y="181"/>
                            </a:moveTo>
                            <a:lnTo>
                              <a:pt x="1404" y="149"/>
                            </a:lnTo>
                            <a:lnTo>
                              <a:pt x="1386" y="119"/>
                            </a:lnTo>
                            <a:lnTo>
                              <a:pt x="1351" y="97"/>
                            </a:lnTo>
                            <a:lnTo>
                              <a:pt x="1280" y="83"/>
                            </a:lnTo>
                            <a:lnTo>
                              <a:pt x="1227" y="66"/>
                            </a:lnTo>
                            <a:lnTo>
                              <a:pt x="1091" y="44"/>
                            </a:lnTo>
                            <a:lnTo>
                              <a:pt x="949" y="17"/>
                            </a:lnTo>
                            <a:lnTo>
                              <a:pt x="834" y="13"/>
                            </a:lnTo>
                            <a:lnTo>
                              <a:pt x="733" y="0"/>
                            </a:lnTo>
                            <a:lnTo>
                              <a:pt x="631" y="0"/>
                            </a:lnTo>
                            <a:lnTo>
                              <a:pt x="552" y="17"/>
                            </a:lnTo>
                            <a:lnTo>
                              <a:pt x="455" y="39"/>
                            </a:lnTo>
                            <a:lnTo>
                              <a:pt x="384" y="61"/>
                            </a:lnTo>
                            <a:lnTo>
                              <a:pt x="308" y="92"/>
                            </a:lnTo>
                            <a:lnTo>
                              <a:pt x="238" y="127"/>
                            </a:lnTo>
                            <a:lnTo>
                              <a:pt x="171" y="158"/>
                            </a:lnTo>
                            <a:lnTo>
                              <a:pt x="110" y="167"/>
                            </a:lnTo>
                            <a:lnTo>
                              <a:pt x="57" y="158"/>
                            </a:lnTo>
                            <a:lnTo>
                              <a:pt x="0" y="149"/>
                            </a:lnTo>
                            <a:lnTo>
                              <a:pt x="44" y="181"/>
                            </a:lnTo>
                            <a:lnTo>
                              <a:pt x="88" y="230"/>
                            </a:lnTo>
                            <a:lnTo>
                              <a:pt x="132" y="283"/>
                            </a:lnTo>
                            <a:lnTo>
                              <a:pt x="154" y="336"/>
                            </a:lnTo>
                            <a:lnTo>
                              <a:pt x="163" y="384"/>
                            </a:lnTo>
                            <a:lnTo>
                              <a:pt x="167" y="450"/>
                            </a:lnTo>
                            <a:lnTo>
                              <a:pt x="167" y="538"/>
                            </a:lnTo>
                            <a:lnTo>
                              <a:pt x="180" y="720"/>
                            </a:lnTo>
                            <a:lnTo>
                              <a:pt x="189" y="645"/>
                            </a:lnTo>
                            <a:lnTo>
                              <a:pt x="194" y="562"/>
                            </a:lnTo>
                            <a:lnTo>
                              <a:pt x="207" y="468"/>
                            </a:lnTo>
                            <a:lnTo>
                              <a:pt x="220" y="393"/>
                            </a:lnTo>
                            <a:lnTo>
                              <a:pt x="251" y="327"/>
                            </a:lnTo>
                            <a:lnTo>
                              <a:pt x="304" y="261"/>
                            </a:lnTo>
                            <a:lnTo>
                              <a:pt x="380" y="208"/>
                            </a:lnTo>
                            <a:lnTo>
                              <a:pt x="481" y="176"/>
                            </a:lnTo>
                            <a:lnTo>
                              <a:pt x="596" y="154"/>
                            </a:lnTo>
                            <a:lnTo>
                              <a:pt x="688" y="163"/>
                            </a:lnTo>
                            <a:lnTo>
                              <a:pt x="772" y="181"/>
                            </a:lnTo>
                            <a:lnTo>
                              <a:pt x="834" y="199"/>
                            </a:lnTo>
                            <a:lnTo>
                              <a:pt x="896" y="208"/>
                            </a:lnTo>
                            <a:lnTo>
                              <a:pt x="975" y="203"/>
                            </a:lnTo>
                            <a:lnTo>
                              <a:pt x="1073" y="199"/>
                            </a:lnTo>
                            <a:lnTo>
                              <a:pt x="1144" y="203"/>
                            </a:lnTo>
                            <a:lnTo>
                              <a:pt x="1219" y="212"/>
                            </a:lnTo>
                            <a:lnTo>
                              <a:pt x="1294" y="230"/>
                            </a:lnTo>
                            <a:lnTo>
                              <a:pt x="1369" y="234"/>
                            </a:lnTo>
                            <a:lnTo>
                              <a:pt x="1413" y="212"/>
                            </a:lnTo>
                            <a:lnTo>
                              <a:pt x="1421" y="18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212" name=""/>
                <p:cNvGrpSpPr/>
                <p:nvPr/>
              </p:nvGrpSpPr>
              <p:grpSpPr>
                <a:xfrm>
                  <a:off x="1554120" y="1935000"/>
                  <a:ext cx="663840" cy="908280"/>
                  <a:chOff x="1554120" y="1935000"/>
                  <a:chExt cx="663840" cy="908280"/>
                </a:xfrm>
              </p:grpSpPr>
              <p:grpSp>
                <p:nvGrpSpPr>
                  <p:cNvPr id="1213" name=""/>
                  <p:cNvGrpSpPr/>
                  <p:nvPr/>
                </p:nvGrpSpPr>
                <p:grpSpPr>
                  <a:xfrm>
                    <a:off x="1554120" y="1935000"/>
                    <a:ext cx="613080" cy="908280"/>
                    <a:chOff x="1554120" y="1935000"/>
                    <a:chExt cx="613080" cy="908280"/>
                  </a:xfrm>
                </p:grpSpPr>
                <p:grpSp>
                  <p:nvGrpSpPr>
                    <p:cNvPr id="1214" name=""/>
                    <p:cNvGrpSpPr/>
                    <p:nvPr/>
                  </p:nvGrpSpPr>
                  <p:grpSpPr>
                    <a:xfrm>
                      <a:off x="1554120" y="1935000"/>
                      <a:ext cx="613080" cy="908280"/>
                      <a:chOff x="1554120" y="1935000"/>
                      <a:chExt cx="613080" cy="908280"/>
                    </a:xfrm>
                  </p:grpSpPr>
                  <p:sp>
                    <p:nvSpPr>
                      <p:cNvPr id="1215" name=""/>
                      <p:cNvSpPr/>
                      <p:nvPr/>
                    </p:nvSpPr>
                    <p:spPr>
                      <a:xfrm>
                        <a:off x="1735200" y="2682720"/>
                        <a:ext cx="408240" cy="140040"/>
                      </a:xfrm>
                      <a:custGeom>
                        <a:avLst/>
                        <a:gdLst/>
                        <a:ahLst/>
                        <a:rect l="0" t="0" r="r" b="b"/>
                        <a:pathLst>
                          <a:path w="1134" h="389">
                            <a:moveTo>
                              <a:pt x="1076" y="0"/>
                            </a:moveTo>
                            <a:lnTo>
                              <a:pt x="1134" y="171"/>
                            </a:lnTo>
                            <a:lnTo>
                              <a:pt x="904" y="252"/>
                            </a:lnTo>
                            <a:lnTo>
                              <a:pt x="551" y="322"/>
                            </a:lnTo>
                            <a:lnTo>
                              <a:pt x="264" y="367"/>
                            </a:lnTo>
                            <a:lnTo>
                              <a:pt x="0" y="389"/>
                            </a:lnTo>
                            <a:lnTo>
                              <a:pt x="10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6" name=""/>
                      <p:cNvSpPr/>
                      <p:nvPr/>
                    </p:nvSpPr>
                    <p:spPr>
                      <a:xfrm>
                        <a:off x="1554120" y="1935000"/>
                        <a:ext cx="613080" cy="908280"/>
                      </a:xfrm>
                      <a:custGeom>
                        <a:avLst/>
                        <a:gdLst/>
                        <a:ahLst/>
                        <a:rect l="0" t="0" r="r" b="b"/>
                        <a:pathLst>
                          <a:path w="1703" h="2523">
                            <a:moveTo>
                              <a:pt x="1703" y="2157"/>
                            </a:moveTo>
                            <a:lnTo>
                              <a:pt x="1676" y="2179"/>
                            </a:lnTo>
                            <a:lnTo>
                              <a:pt x="1279" y="2258"/>
                            </a:lnTo>
                            <a:lnTo>
                              <a:pt x="900" y="2373"/>
                            </a:lnTo>
                            <a:lnTo>
                              <a:pt x="586" y="2470"/>
                            </a:lnTo>
                            <a:lnTo>
                              <a:pt x="463" y="2523"/>
                            </a:lnTo>
                            <a:lnTo>
                              <a:pt x="366" y="2095"/>
                            </a:lnTo>
                            <a:lnTo>
                              <a:pt x="260" y="1606"/>
                            </a:lnTo>
                            <a:lnTo>
                              <a:pt x="136" y="1115"/>
                            </a:lnTo>
                            <a:lnTo>
                              <a:pt x="39" y="608"/>
                            </a:lnTo>
                            <a:lnTo>
                              <a:pt x="8" y="432"/>
                            </a:lnTo>
                            <a:lnTo>
                              <a:pt x="0" y="264"/>
                            </a:lnTo>
                            <a:lnTo>
                              <a:pt x="621" y="97"/>
                            </a:lnTo>
                            <a:lnTo>
                              <a:pt x="1178" y="0"/>
                            </a:lnTo>
                            <a:lnTo>
                              <a:pt x="1315" y="507"/>
                            </a:lnTo>
                            <a:lnTo>
                              <a:pt x="1703" y="21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217" name=""/>
                    <p:cNvGrpSpPr/>
                    <p:nvPr/>
                  </p:nvGrpSpPr>
                  <p:grpSpPr>
                    <a:xfrm>
                      <a:off x="1562040" y="1998720"/>
                      <a:ext cx="578160" cy="785880"/>
                      <a:chOff x="1562040" y="1998720"/>
                      <a:chExt cx="578160" cy="785880"/>
                    </a:xfrm>
                  </p:grpSpPr>
                  <p:sp>
                    <p:nvSpPr>
                      <p:cNvPr id="1218" name=""/>
                      <p:cNvSpPr/>
                      <p:nvPr/>
                    </p:nvSpPr>
                    <p:spPr>
                      <a:xfrm>
                        <a:off x="1665360" y="2581200"/>
                        <a:ext cx="111600" cy="203400"/>
                      </a:xfrm>
                      <a:custGeom>
                        <a:avLst/>
                        <a:gdLst/>
                        <a:ahLst/>
                        <a:rect l="0" t="0" r="r" b="b"/>
                        <a:pathLst>
                          <a:path w="310" h="565">
                            <a:moveTo>
                              <a:pt x="0" y="48"/>
                            </a:moveTo>
                            <a:lnTo>
                              <a:pt x="172" y="0"/>
                            </a:lnTo>
                            <a:lnTo>
                              <a:pt x="310" y="499"/>
                            </a:lnTo>
                            <a:lnTo>
                              <a:pt x="120" y="565"/>
                            </a:lnTo>
                            <a:lnTo>
                              <a:pt x="44" y="260"/>
                            </a:lnTo>
                            <a:lnTo>
                              <a:pt x="0" y="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9" name=""/>
                      <p:cNvSpPr/>
                      <p:nvPr/>
                    </p:nvSpPr>
                    <p:spPr>
                      <a:xfrm>
                        <a:off x="2046240" y="2581200"/>
                        <a:ext cx="93960" cy="125640"/>
                      </a:xfrm>
                      <a:custGeom>
                        <a:avLst/>
                        <a:gdLst/>
                        <a:ahLst/>
                        <a:rect l="0" t="0" r="r" b="b"/>
                        <a:pathLst>
                          <a:path w="261" h="349">
                            <a:moveTo>
                              <a:pt x="190" y="0"/>
                            </a:moveTo>
                            <a:lnTo>
                              <a:pt x="0" y="44"/>
                            </a:lnTo>
                            <a:lnTo>
                              <a:pt x="70" y="349"/>
                            </a:lnTo>
                            <a:lnTo>
                              <a:pt x="261" y="309"/>
                            </a:lnTo>
                            <a:lnTo>
                              <a:pt x="19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0" name=""/>
                      <p:cNvSpPr/>
                      <p:nvPr/>
                    </p:nvSpPr>
                    <p:spPr>
                      <a:xfrm>
                        <a:off x="1562040" y="1998720"/>
                        <a:ext cx="410040" cy="92520"/>
                      </a:xfrm>
                      <a:custGeom>
                        <a:avLst/>
                        <a:gdLst/>
                        <a:ahLst/>
                        <a:rect l="0" t="0" r="r" b="b"/>
                        <a:pathLst>
                          <a:path fill="none" w="1139" h="257">
                            <a:moveTo>
                              <a:pt x="1139" y="0"/>
                            </a:moveTo>
                            <a:lnTo>
                              <a:pt x="627" y="98"/>
                            </a:lnTo>
                            <a:lnTo>
                              <a:pt x="0" y="25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1221" name=""/>
                      <p:cNvSpPr/>
                      <p:nvPr/>
                    </p:nvSpPr>
                    <p:spPr>
                      <a:xfrm>
                        <a:off x="1590840" y="2135160"/>
                        <a:ext cx="449640" cy="154440"/>
                      </a:xfrm>
                      <a:custGeom>
                        <a:avLst/>
                        <a:gdLst/>
                        <a:ahLst/>
                        <a:rect l="0" t="0" r="r" b="b"/>
                        <a:pathLst>
                          <a:path w="1249" h="429">
                            <a:moveTo>
                              <a:pt x="1232" y="0"/>
                            </a:moveTo>
                            <a:lnTo>
                              <a:pt x="684" y="150"/>
                            </a:lnTo>
                            <a:lnTo>
                              <a:pt x="0" y="354"/>
                            </a:lnTo>
                            <a:lnTo>
                              <a:pt x="8" y="429"/>
                            </a:lnTo>
                            <a:lnTo>
                              <a:pt x="706" y="225"/>
                            </a:lnTo>
                            <a:lnTo>
                              <a:pt x="1249" y="79"/>
                            </a:lnTo>
                            <a:lnTo>
                              <a:pt x="123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2" name=""/>
                      <p:cNvSpPr/>
                      <p:nvPr/>
                    </p:nvSpPr>
                    <p:spPr>
                      <a:xfrm>
                        <a:off x="1647720" y="2452680"/>
                        <a:ext cx="206640" cy="89280"/>
                      </a:xfrm>
                      <a:custGeom>
                        <a:avLst/>
                        <a:gdLst/>
                        <a:ahLst/>
                        <a:rect l="0" t="0" r="r" b="b"/>
                        <a:pathLst>
                          <a:path w="574" h="248">
                            <a:moveTo>
                              <a:pt x="547" y="0"/>
                            </a:moveTo>
                            <a:lnTo>
                              <a:pt x="574" y="80"/>
                            </a:lnTo>
                            <a:lnTo>
                              <a:pt x="22" y="248"/>
                            </a:lnTo>
                            <a:lnTo>
                              <a:pt x="0" y="168"/>
                            </a:lnTo>
                            <a:lnTo>
                              <a:pt x="547"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223" name=""/>
                      <p:cNvSpPr/>
                      <p:nvPr/>
                    </p:nvSpPr>
                    <p:spPr>
                      <a:xfrm flipH="1">
                        <a:off x="1735200" y="2549520"/>
                        <a:ext cx="149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224" name=""/>
                      <p:cNvSpPr/>
                      <p:nvPr/>
                    </p:nvSpPr>
                    <p:spPr>
                      <a:xfrm flipH="1">
                        <a:off x="1746360" y="2583000"/>
                        <a:ext cx="145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225" name=""/>
                      <p:cNvSpPr/>
                      <p:nvPr/>
                    </p:nvSpPr>
                    <p:spPr>
                      <a:xfrm flipH="1">
                        <a:off x="1757520" y="2616120"/>
                        <a:ext cx="145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226" name=""/>
                      <p:cNvSpPr/>
                      <p:nvPr/>
                    </p:nvSpPr>
                    <p:spPr>
                      <a:xfrm flipH="1">
                        <a:off x="1905120" y="2536920"/>
                        <a:ext cx="209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227" name=""/>
                      <p:cNvSpPr/>
                      <p:nvPr/>
                    </p:nvSpPr>
                    <p:spPr>
                      <a:xfrm flipH="1">
                        <a:off x="1911240" y="2562120"/>
                        <a:ext cx="214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228" name=""/>
                      <p:cNvSpPr/>
                      <p:nvPr/>
                    </p:nvSpPr>
                    <p:spPr>
                      <a:xfrm flipH="1">
                        <a:off x="1739880" y="2243160"/>
                        <a:ext cx="250920" cy="14400"/>
                      </a:xfrm>
                      <a:prstGeom prst="line">
                        <a:avLst/>
                      </a:prstGeom>
                      <a:ln w="12600">
                        <a:solidFill>
                          <a:srgbClr val="000000"/>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grpSp>
              </p:grpSp>
              <p:grpSp>
                <p:nvGrpSpPr>
                  <p:cNvPr id="1229" name=""/>
                  <p:cNvGrpSpPr/>
                  <p:nvPr/>
                </p:nvGrpSpPr>
                <p:grpSpPr>
                  <a:xfrm>
                    <a:off x="1868400" y="2235240"/>
                    <a:ext cx="349560" cy="433800"/>
                    <a:chOff x="1868400" y="2235240"/>
                    <a:chExt cx="349560" cy="433800"/>
                  </a:xfrm>
                </p:grpSpPr>
                <p:grpSp>
                  <p:nvGrpSpPr>
                    <p:cNvPr id="1230" name=""/>
                    <p:cNvGrpSpPr/>
                    <p:nvPr/>
                  </p:nvGrpSpPr>
                  <p:grpSpPr>
                    <a:xfrm>
                      <a:off x="1890720" y="2278080"/>
                      <a:ext cx="313200" cy="390960"/>
                      <a:chOff x="1890720" y="2278080"/>
                      <a:chExt cx="313200" cy="390960"/>
                    </a:xfrm>
                  </p:grpSpPr>
                  <p:sp>
                    <p:nvSpPr>
                      <p:cNvPr id="1231" name=""/>
                      <p:cNvSpPr/>
                      <p:nvPr/>
                    </p:nvSpPr>
                    <p:spPr>
                      <a:xfrm>
                        <a:off x="1890720" y="2278080"/>
                        <a:ext cx="313200" cy="390960"/>
                      </a:xfrm>
                      <a:custGeom>
                        <a:avLst/>
                        <a:gdLst/>
                        <a:ahLst/>
                        <a:rect l="0" t="0" r="r" b="b"/>
                        <a:pathLst>
                          <a:path w="870" h="1086">
                            <a:moveTo>
                              <a:pt x="738" y="1086"/>
                            </a:moveTo>
                            <a:lnTo>
                              <a:pt x="760" y="1064"/>
                            </a:lnTo>
                            <a:lnTo>
                              <a:pt x="778" y="1047"/>
                            </a:lnTo>
                            <a:lnTo>
                              <a:pt x="822" y="994"/>
                            </a:lnTo>
                            <a:lnTo>
                              <a:pt x="848" y="936"/>
                            </a:lnTo>
                            <a:lnTo>
                              <a:pt x="866" y="844"/>
                            </a:lnTo>
                            <a:lnTo>
                              <a:pt x="870" y="733"/>
                            </a:lnTo>
                            <a:lnTo>
                              <a:pt x="857" y="574"/>
                            </a:lnTo>
                            <a:lnTo>
                              <a:pt x="826" y="428"/>
                            </a:lnTo>
                            <a:lnTo>
                              <a:pt x="808" y="349"/>
                            </a:lnTo>
                            <a:lnTo>
                              <a:pt x="786" y="287"/>
                            </a:lnTo>
                            <a:lnTo>
                              <a:pt x="747" y="202"/>
                            </a:lnTo>
                            <a:lnTo>
                              <a:pt x="694" y="127"/>
                            </a:lnTo>
                            <a:lnTo>
                              <a:pt x="622" y="66"/>
                            </a:lnTo>
                            <a:lnTo>
                              <a:pt x="596" y="44"/>
                            </a:lnTo>
                            <a:lnTo>
                              <a:pt x="556" y="26"/>
                            </a:lnTo>
                            <a:lnTo>
                              <a:pt x="477" y="8"/>
                            </a:lnTo>
                            <a:lnTo>
                              <a:pt x="397" y="0"/>
                            </a:lnTo>
                            <a:lnTo>
                              <a:pt x="300" y="4"/>
                            </a:lnTo>
                            <a:lnTo>
                              <a:pt x="180" y="26"/>
                            </a:lnTo>
                            <a:lnTo>
                              <a:pt x="132" y="48"/>
                            </a:lnTo>
                            <a:lnTo>
                              <a:pt x="101" y="74"/>
                            </a:lnTo>
                            <a:lnTo>
                              <a:pt x="105" y="101"/>
                            </a:lnTo>
                            <a:lnTo>
                              <a:pt x="123" y="123"/>
                            </a:lnTo>
                            <a:lnTo>
                              <a:pt x="194" y="119"/>
                            </a:lnTo>
                            <a:lnTo>
                              <a:pt x="252" y="114"/>
                            </a:lnTo>
                            <a:lnTo>
                              <a:pt x="318" y="105"/>
                            </a:lnTo>
                            <a:lnTo>
                              <a:pt x="380" y="101"/>
                            </a:lnTo>
                            <a:lnTo>
                              <a:pt x="441" y="105"/>
                            </a:lnTo>
                            <a:lnTo>
                              <a:pt x="503" y="123"/>
                            </a:lnTo>
                            <a:lnTo>
                              <a:pt x="516" y="246"/>
                            </a:lnTo>
                            <a:lnTo>
                              <a:pt x="481" y="264"/>
                            </a:lnTo>
                            <a:lnTo>
                              <a:pt x="419" y="300"/>
                            </a:lnTo>
                            <a:lnTo>
                              <a:pt x="358" y="331"/>
                            </a:lnTo>
                            <a:lnTo>
                              <a:pt x="278" y="371"/>
                            </a:lnTo>
                            <a:lnTo>
                              <a:pt x="221" y="397"/>
                            </a:lnTo>
                            <a:lnTo>
                              <a:pt x="154" y="441"/>
                            </a:lnTo>
                            <a:lnTo>
                              <a:pt x="97" y="481"/>
                            </a:lnTo>
                            <a:lnTo>
                              <a:pt x="48" y="525"/>
                            </a:lnTo>
                            <a:lnTo>
                              <a:pt x="4" y="565"/>
                            </a:lnTo>
                            <a:lnTo>
                              <a:pt x="0" y="600"/>
                            </a:lnTo>
                            <a:lnTo>
                              <a:pt x="13" y="627"/>
                            </a:lnTo>
                            <a:lnTo>
                              <a:pt x="44" y="631"/>
                            </a:lnTo>
                            <a:lnTo>
                              <a:pt x="88" y="613"/>
                            </a:lnTo>
                            <a:lnTo>
                              <a:pt x="105" y="609"/>
                            </a:lnTo>
                            <a:lnTo>
                              <a:pt x="110" y="644"/>
                            </a:lnTo>
                            <a:lnTo>
                              <a:pt x="136" y="653"/>
                            </a:lnTo>
                            <a:lnTo>
                              <a:pt x="171" y="649"/>
                            </a:lnTo>
                            <a:lnTo>
                              <a:pt x="202" y="636"/>
                            </a:lnTo>
                            <a:lnTo>
                              <a:pt x="269" y="600"/>
                            </a:lnTo>
                            <a:lnTo>
                              <a:pt x="344" y="574"/>
                            </a:lnTo>
                            <a:lnTo>
                              <a:pt x="433" y="556"/>
                            </a:lnTo>
                            <a:lnTo>
                              <a:pt x="547" y="574"/>
                            </a:lnTo>
                            <a:lnTo>
                              <a:pt x="596" y="605"/>
                            </a:lnTo>
                            <a:lnTo>
                              <a:pt x="627" y="653"/>
                            </a:lnTo>
                            <a:lnTo>
                              <a:pt x="654" y="724"/>
                            </a:lnTo>
                            <a:lnTo>
                              <a:pt x="738" y="108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2" name=""/>
                      <p:cNvSpPr/>
                      <p:nvPr/>
                    </p:nvSpPr>
                    <p:spPr>
                      <a:xfrm>
                        <a:off x="1930320" y="2432160"/>
                        <a:ext cx="113040" cy="66960"/>
                      </a:xfrm>
                      <a:custGeom>
                        <a:avLst/>
                        <a:gdLst/>
                        <a:ahLst/>
                        <a:rect l="0" t="0" r="r" b="b"/>
                        <a:pathLst>
                          <a:path w="314" h="186">
                            <a:moveTo>
                              <a:pt x="0" y="186"/>
                            </a:moveTo>
                            <a:lnTo>
                              <a:pt x="13" y="155"/>
                            </a:lnTo>
                            <a:lnTo>
                              <a:pt x="39" y="133"/>
                            </a:lnTo>
                            <a:lnTo>
                              <a:pt x="83" y="106"/>
                            </a:lnTo>
                            <a:lnTo>
                              <a:pt x="149" y="61"/>
                            </a:lnTo>
                            <a:lnTo>
                              <a:pt x="234" y="13"/>
                            </a:lnTo>
                            <a:lnTo>
                              <a:pt x="314" y="0"/>
                            </a:lnTo>
                            <a:lnTo>
                              <a:pt x="247" y="4"/>
                            </a:lnTo>
                            <a:lnTo>
                              <a:pt x="212" y="22"/>
                            </a:lnTo>
                            <a:lnTo>
                              <a:pt x="141" y="57"/>
                            </a:lnTo>
                            <a:lnTo>
                              <a:pt x="70" y="106"/>
                            </a:lnTo>
                            <a:lnTo>
                              <a:pt x="13" y="146"/>
                            </a:lnTo>
                            <a:lnTo>
                              <a:pt x="0" y="186"/>
                            </a:lnTo>
                            <a:close/>
                          </a:path>
                        </a:pathLst>
                      </a:custGeom>
                      <a:solidFill>
                        <a:srgbClr val="ff7f3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233" name=""/>
                      <p:cNvSpPr/>
                      <p:nvPr/>
                    </p:nvSpPr>
                    <p:spPr>
                      <a:xfrm>
                        <a:off x="2122560" y="2523960"/>
                        <a:ext cx="46440" cy="106560"/>
                      </a:xfrm>
                      <a:custGeom>
                        <a:avLst/>
                        <a:gdLst/>
                        <a:ahLst/>
                        <a:rect l="0" t="0" r="r" b="b"/>
                        <a:pathLst>
                          <a:path w="129" h="296">
                            <a:moveTo>
                              <a:pt x="71" y="296"/>
                            </a:moveTo>
                            <a:lnTo>
                              <a:pt x="75" y="252"/>
                            </a:lnTo>
                            <a:lnTo>
                              <a:pt x="93" y="225"/>
                            </a:lnTo>
                            <a:lnTo>
                              <a:pt x="116" y="195"/>
                            </a:lnTo>
                            <a:lnTo>
                              <a:pt x="129" y="186"/>
                            </a:lnTo>
                            <a:lnTo>
                              <a:pt x="103" y="155"/>
                            </a:lnTo>
                            <a:lnTo>
                              <a:pt x="53" y="83"/>
                            </a:lnTo>
                            <a:lnTo>
                              <a:pt x="22" y="35"/>
                            </a:lnTo>
                            <a:lnTo>
                              <a:pt x="0" y="0"/>
                            </a:lnTo>
                            <a:lnTo>
                              <a:pt x="71" y="29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234" name=""/>
                    <p:cNvGrpSpPr/>
                    <p:nvPr/>
                  </p:nvGrpSpPr>
                  <p:grpSpPr>
                    <a:xfrm>
                      <a:off x="1868400" y="2235240"/>
                      <a:ext cx="349560" cy="286200"/>
                      <a:chOff x="1868400" y="2235240"/>
                      <a:chExt cx="349560" cy="286200"/>
                    </a:xfrm>
                  </p:grpSpPr>
                  <p:sp>
                    <p:nvSpPr>
                      <p:cNvPr id="1235" name=""/>
                      <p:cNvSpPr/>
                      <p:nvPr/>
                    </p:nvSpPr>
                    <p:spPr>
                      <a:xfrm>
                        <a:off x="2041560" y="2255760"/>
                        <a:ext cx="160560" cy="59040"/>
                      </a:xfrm>
                      <a:custGeom>
                        <a:avLst/>
                        <a:gdLst/>
                        <a:ahLst/>
                        <a:rect l="0" t="0" r="r" b="b"/>
                        <a:pathLst>
                          <a:path fill="none" w="446" h="164">
                            <a:moveTo>
                              <a:pt x="446" y="0"/>
                            </a:moveTo>
                            <a:lnTo>
                              <a:pt x="48" y="164"/>
                            </a:lnTo>
                            <a:lnTo>
                              <a:pt x="4" y="142"/>
                            </a:lnTo>
                            <a:lnTo>
                              <a:pt x="0" y="8"/>
                            </a:lnTo>
                          </a:path>
                        </a:pathLst>
                      </a:custGeom>
                      <a:ln w="12600">
                        <a:solidFill>
                          <a:srgbClr val="9f3f00"/>
                        </a:solidFill>
                        <a:round/>
                      </a:ln>
                    </p:spPr>
                    <p:txBody>
                      <a:bodyPr lIns="96120" rIns="96120" tIns="7920" bIns="7920" anchor="t">
                        <a:noAutofit/>
                      </a:bodyPr>
                      <a:p>
                        <a:endParaRPr b="0" lang="en-US" sz="1800" spc="-1" strike="noStrike">
                          <a:solidFill>
                            <a:srgbClr val="ffffff"/>
                          </a:solidFill>
                          <a:latin typeface="Arial"/>
                        </a:endParaRPr>
                      </a:p>
                    </p:txBody>
                  </p:sp>
                  <p:sp>
                    <p:nvSpPr>
                      <p:cNvPr id="1236" name=""/>
                      <p:cNvSpPr/>
                      <p:nvPr/>
                    </p:nvSpPr>
                    <p:spPr>
                      <a:xfrm>
                        <a:off x="1868400" y="2347920"/>
                        <a:ext cx="127440" cy="41760"/>
                      </a:xfrm>
                      <a:custGeom>
                        <a:avLst/>
                        <a:gdLst/>
                        <a:ahLst/>
                        <a:rect l="0" t="0" r="r" b="b"/>
                        <a:pathLst>
                          <a:path fill="none" w="354" h="116">
                            <a:moveTo>
                              <a:pt x="354" y="0"/>
                            </a:moveTo>
                            <a:lnTo>
                              <a:pt x="195" y="80"/>
                            </a:lnTo>
                            <a:lnTo>
                              <a:pt x="150" y="103"/>
                            </a:lnTo>
                            <a:lnTo>
                              <a:pt x="137" y="116"/>
                            </a:lnTo>
                            <a:lnTo>
                              <a:pt x="115" y="116"/>
                            </a:lnTo>
                            <a:lnTo>
                              <a:pt x="89" y="107"/>
                            </a:lnTo>
                            <a:lnTo>
                              <a:pt x="0" y="17"/>
                            </a:lnTo>
                          </a:path>
                        </a:pathLst>
                      </a:custGeom>
                      <a:ln w="12600">
                        <a:solidFill>
                          <a:srgbClr val="9f3f00"/>
                        </a:solidFill>
                        <a:round/>
                      </a:ln>
                    </p:spPr>
                    <p:txBody>
                      <a:bodyPr lIns="96120" rIns="96120" tIns="-9360" bIns="-9360" anchor="t">
                        <a:noAutofit/>
                      </a:bodyPr>
                      <a:p>
                        <a:endParaRPr b="0" lang="en-US" sz="1800" spc="-1" strike="noStrike">
                          <a:solidFill>
                            <a:srgbClr val="ffffff"/>
                          </a:solidFill>
                          <a:latin typeface="Arial"/>
                        </a:endParaRPr>
                      </a:p>
                    </p:txBody>
                  </p:sp>
                  <p:sp>
                    <p:nvSpPr>
                      <p:cNvPr id="1237" name=""/>
                      <p:cNvSpPr/>
                      <p:nvPr/>
                    </p:nvSpPr>
                    <p:spPr>
                      <a:xfrm>
                        <a:off x="2049480" y="2336760"/>
                        <a:ext cx="81360" cy="184680"/>
                      </a:xfrm>
                      <a:custGeom>
                        <a:avLst/>
                        <a:gdLst/>
                        <a:ahLst/>
                        <a:rect l="0" t="0" r="r" b="b"/>
                        <a:pathLst>
                          <a:path fill="none" w="226" h="513">
                            <a:moveTo>
                              <a:pt x="0" y="0"/>
                            </a:moveTo>
                            <a:lnTo>
                              <a:pt x="8" y="110"/>
                            </a:lnTo>
                            <a:lnTo>
                              <a:pt x="35" y="225"/>
                            </a:lnTo>
                            <a:lnTo>
                              <a:pt x="75" y="353"/>
                            </a:lnTo>
                            <a:lnTo>
                              <a:pt x="111" y="491"/>
                            </a:lnTo>
                            <a:lnTo>
                              <a:pt x="137" y="500"/>
                            </a:lnTo>
                            <a:lnTo>
                              <a:pt x="226" y="51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38" name=""/>
                      <p:cNvSpPr/>
                      <p:nvPr/>
                    </p:nvSpPr>
                    <p:spPr>
                      <a:xfrm>
                        <a:off x="2085840" y="2235240"/>
                        <a:ext cx="132120" cy="286200"/>
                      </a:xfrm>
                      <a:custGeom>
                        <a:avLst/>
                        <a:gdLst/>
                        <a:ahLst/>
                        <a:rect l="0" t="0" r="r" b="b"/>
                        <a:pathLst>
                          <a:path fill="none" w="367" h="795">
                            <a:moveTo>
                              <a:pt x="234" y="503"/>
                            </a:moveTo>
                            <a:lnTo>
                              <a:pt x="252" y="530"/>
                            </a:lnTo>
                            <a:lnTo>
                              <a:pt x="269" y="583"/>
                            </a:lnTo>
                            <a:lnTo>
                              <a:pt x="269" y="628"/>
                            </a:lnTo>
                            <a:lnTo>
                              <a:pt x="256" y="685"/>
                            </a:lnTo>
                            <a:lnTo>
                              <a:pt x="243" y="734"/>
                            </a:lnTo>
                            <a:lnTo>
                              <a:pt x="208" y="773"/>
                            </a:lnTo>
                            <a:lnTo>
                              <a:pt x="171" y="791"/>
                            </a:lnTo>
                            <a:lnTo>
                              <a:pt x="123" y="795"/>
                            </a:lnTo>
                            <a:lnTo>
                              <a:pt x="79" y="773"/>
                            </a:lnTo>
                            <a:lnTo>
                              <a:pt x="52" y="734"/>
                            </a:lnTo>
                            <a:lnTo>
                              <a:pt x="22" y="681"/>
                            </a:lnTo>
                            <a:lnTo>
                              <a:pt x="8" y="632"/>
                            </a:lnTo>
                            <a:lnTo>
                              <a:pt x="0" y="561"/>
                            </a:lnTo>
                            <a:lnTo>
                              <a:pt x="8" y="503"/>
                            </a:lnTo>
                            <a:lnTo>
                              <a:pt x="35" y="455"/>
                            </a:lnTo>
                            <a:lnTo>
                              <a:pt x="70" y="428"/>
                            </a:lnTo>
                            <a:lnTo>
                              <a:pt x="132" y="415"/>
                            </a:lnTo>
                            <a:lnTo>
                              <a:pt x="176" y="428"/>
                            </a:lnTo>
                            <a:lnTo>
                              <a:pt x="217" y="459"/>
                            </a:lnTo>
                            <a:lnTo>
                              <a:pt x="234" y="499"/>
                            </a:lnTo>
                            <a:lnTo>
                              <a:pt x="252" y="464"/>
                            </a:lnTo>
                            <a:lnTo>
                              <a:pt x="256" y="428"/>
                            </a:lnTo>
                            <a:lnTo>
                              <a:pt x="256" y="393"/>
                            </a:lnTo>
                            <a:lnTo>
                              <a:pt x="225" y="384"/>
                            </a:lnTo>
                            <a:lnTo>
                              <a:pt x="186" y="358"/>
                            </a:lnTo>
                            <a:lnTo>
                              <a:pt x="158" y="322"/>
                            </a:lnTo>
                            <a:lnTo>
                              <a:pt x="145" y="287"/>
                            </a:lnTo>
                            <a:lnTo>
                              <a:pt x="127" y="247"/>
                            </a:lnTo>
                            <a:lnTo>
                              <a:pt x="123" y="198"/>
                            </a:lnTo>
                            <a:lnTo>
                              <a:pt x="123" y="154"/>
                            </a:lnTo>
                            <a:lnTo>
                              <a:pt x="132" y="105"/>
                            </a:lnTo>
                            <a:lnTo>
                              <a:pt x="141" y="66"/>
                            </a:lnTo>
                            <a:lnTo>
                              <a:pt x="154" y="26"/>
                            </a:lnTo>
                            <a:lnTo>
                              <a:pt x="186" y="8"/>
                            </a:lnTo>
                            <a:lnTo>
                              <a:pt x="225" y="0"/>
                            </a:lnTo>
                            <a:lnTo>
                              <a:pt x="278" y="4"/>
                            </a:lnTo>
                            <a:lnTo>
                              <a:pt x="305" y="26"/>
                            </a:lnTo>
                            <a:lnTo>
                              <a:pt x="327" y="48"/>
                            </a:lnTo>
                            <a:lnTo>
                              <a:pt x="344" y="92"/>
                            </a:lnTo>
                            <a:lnTo>
                              <a:pt x="358" y="141"/>
                            </a:lnTo>
                            <a:lnTo>
                              <a:pt x="367" y="203"/>
                            </a:lnTo>
                            <a:lnTo>
                              <a:pt x="358" y="269"/>
                            </a:lnTo>
                            <a:lnTo>
                              <a:pt x="349" y="322"/>
                            </a:lnTo>
                            <a:lnTo>
                              <a:pt x="322" y="358"/>
                            </a:lnTo>
                            <a:lnTo>
                              <a:pt x="292" y="384"/>
                            </a:lnTo>
                            <a:lnTo>
                              <a:pt x="256" y="39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239" name=""/>
                    <p:cNvSpPr/>
                    <p:nvPr/>
                  </p:nvSpPr>
                  <p:spPr>
                    <a:xfrm>
                      <a:off x="1919160" y="2301840"/>
                      <a:ext cx="228960" cy="97200"/>
                    </a:xfrm>
                    <a:custGeom>
                      <a:avLst/>
                      <a:gdLst/>
                      <a:ahLst/>
                      <a:rect l="0" t="0" r="r" b="b"/>
                      <a:pathLst>
                        <a:path w="636" h="270">
                          <a:moveTo>
                            <a:pt x="636" y="199"/>
                          </a:moveTo>
                          <a:lnTo>
                            <a:pt x="556" y="106"/>
                          </a:lnTo>
                          <a:lnTo>
                            <a:pt x="494" y="52"/>
                          </a:lnTo>
                          <a:lnTo>
                            <a:pt x="450" y="26"/>
                          </a:lnTo>
                          <a:lnTo>
                            <a:pt x="384" y="4"/>
                          </a:lnTo>
                          <a:lnTo>
                            <a:pt x="349" y="0"/>
                          </a:lnTo>
                          <a:lnTo>
                            <a:pt x="327" y="8"/>
                          </a:lnTo>
                          <a:lnTo>
                            <a:pt x="273" y="35"/>
                          </a:lnTo>
                          <a:lnTo>
                            <a:pt x="211" y="80"/>
                          </a:lnTo>
                          <a:lnTo>
                            <a:pt x="145" y="120"/>
                          </a:lnTo>
                          <a:lnTo>
                            <a:pt x="70" y="150"/>
                          </a:lnTo>
                          <a:lnTo>
                            <a:pt x="22" y="177"/>
                          </a:lnTo>
                          <a:lnTo>
                            <a:pt x="0" y="209"/>
                          </a:lnTo>
                          <a:lnTo>
                            <a:pt x="0" y="235"/>
                          </a:lnTo>
                          <a:lnTo>
                            <a:pt x="17" y="257"/>
                          </a:lnTo>
                          <a:lnTo>
                            <a:pt x="48" y="270"/>
                          </a:lnTo>
                          <a:lnTo>
                            <a:pt x="114" y="253"/>
                          </a:lnTo>
                          <a:lnTo>
                            <a:pt x="171" y="226"/>
                          </a:lnTo>
                          <a:lnTo>
                            <a:pt x="242" y="199"/>
                          </a:lnTo>
                          <a:lnTo>
                            <a:pt x="299" y="159"/>
                          </a:lnTo>
                          <a:lnTo>
                            <a:pt x="362" y="133"/>
                          </a:lnTo>
                          <a:lnTo>
                            <a:pt x="397" y="168"/>
                          </a:lnTo>
                          <a:lnTo>
                            <a:pt x="450" y="199"/>
                          </a:lnTo>
                          <a:lnTo>
                            <a:pt x="477" y="235"/>
                          </a:lnTo>
                          <a:lnTo>
                            <a:pt x="556" y="199"/>
                          </a:lnTo>
                          <a:lnTo>
                            <a:pt x="636" y="19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 name=""/>
          <p:cNvSpPr txBox="1"/>
          <p:nvPr/>
        </p:nvSpPr>
        <p:spPr>
          <a:xfrm>
            <a:off x="744480" y="1752480"/>
            <a:ext cx="8381880" cy="469116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are the three objectives of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financial reporting? </a:t>
            </a:r>
            <a:endParaRPr b="0" lang="en-US" sz="3200" spc="-1" strike="noStrike">
              <a:solidFill>
                <a:srgbClr val="ffffff"/>
              </a:solidFill>
              <a:latin typeface="Arial"/>
            </a:endParaRPr>
          </a:p>
          <a:p>
            <a:pPr marL="343080" indent="-343080">
              <a:lnSpc>
                <a:spcPct val="90000"/>
              </a:lnSpc>
              <a:spcBef>
                <a:spcPts val="479"/>
              </a:spcBef>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1) To furnish information useful in</a:t>
            </a:r>
            <a:br>
              <a:rPr sz="3200"/>
            </a:br>
            <a:r>
              <a:rPr b="1" lang="en-US" sz="3200" spc="-1" strike="noStrike">
                <a:solidFill>
                  <a:srgbClr val="fcffd8"/>
                </a:solidFill>
                <a:latin typeface="Arial"/>
                <a:ea typeface="Arial"/>
              </a:rPr>
              <a:t>	</a:t>
            </a:r>
            <a:r>
              <a:rPr b="1" lang="en-US" sz="3200" spc="-1" strike="noStrike">
                <a:solidFill>
                  <a:srgbClr val="fcffd8"/>
                </a:solidFill>
                <a:latin typeface="Arial"/>
                <a:ea typeface="Arial"/>
              </a:rPr>
              <a:t>making investment and credi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decisions; (2) To provide information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useful in assessing cash flow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rospects; and (3) To provid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formation about busines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resources, claims to thos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resources, and changes in them.</a:t>
            </a:r>
            <a:endParaRPr b="0" lang="en-US" sz="3200" spc="-1" strike="noStrike">
              <a:solidFill>
                <a:srgbClr val="ffffff"/>
              </a:solidFill>
              <a:latin typeface="Arial"/>
            </a:endParaRPr>
          </a:p>
        </p:txBody>
      </p:sp>
      <p:sp>
        <p:nvSpPr>
          <p:cNvPr id="59" name=""/>
          <p:cNvSpPr txBox="1"/>
          <p:nvPr/>
        </p:nvSpPr>
        <p:spPr>
          <a:xfrm>
            <a:off x="1996920" y="568440"/>
            <a:ext cx="56386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60" name=""/>
          <p:cNvGrpSpPr/>
          <p:nvPr/>
        </p:nvGrpSpPr>
        <p:grpSpPr>
          <a:xfrm>
            <a:off x="7142040" y="264960"/>
            <a:ext cx="1734120" cy="1551240"/>
            <a:chOff x="7142040" y="264960"/>
            <a:chExt cx="1734120" cy="1551240"/>
          </a:xfrm>
        </p:grpSpPr>
        <p:sp>
          <p:nvSpPr>
            <p:cNvPr id="61" name=""/>
            <p:cNvSpPr/>
            <p:nvPr/>
          </p:nvSpPr>
          <p:spPr>
            <a:xfrm>
              <a:off x="7147080" y="1025640"/>
              <a:ext cx="421200" cy="541800"/>
            </a:xfrm>
            <a:custGeom>
              <a:avLst/>
              <a:gdLst/>
              <a:ahLst/>
              <a:rect l="0" t="0" r="r" b="b"/>
              <a:pathLst>
                <a:path w="1170" h="1505">
                  <a:moveTo>
                    <a:pt x="468" y="0"/>
                  </a:moveTo>
                  <a:lnTo>
                    <a:pt x="406" y="66"/>
                  </a:lnTo>
                  <a:lnTo>
                    <a:pt x="406" y="260"/>
                  </a:lnTo>
                  <a:lnTo>
                    <a:pt x="468" y="406"/>
                  </a:lnTo>
                  <a:lnTo>
                    <a:pt x="534" y="472"/>
                  </a:lnTo>
                  <a:lnTo>
                    <a:pt x="433" y="574"/>
                  </a:lnTo>
                  <a:lnTo>
                    <a:pt x="291" y="790"/>
                  </a:lnTo>
                  <a:lnTo>
                    <a:pt x="22" y="1135"/>
                  </a:lnTo>
                  <a:lnTo>
                    <a:pt x="0" y="1223"/>
                  </a:lnTo>
                  <a:lnTo>
                    <a:pt x="22" y="1289"/>
                  </a:lnTo>
                  <a:lnTo>
                    <a:pt x="105" y="1289"/>
                  </a:lnTo>
                  <a:lnTo>
                    <a:pt x="180" y="1210"/>
                  </a:lnTo>
                  <a:lnTo>
                    <a:pt x="291" y="1010"/>
                  </a:lnTo>
                  <a:lnTo>
                    <a:pt x="367" y="931"/>
                  </a:lnTo>
                  <a:lnTo>
                    <a:pt x="406" y="1059"/>
                  </a:lnTo>
                  <a:lnTo>
                    <a:pt x="375" y="1197"/>
                  </a:lnTo>
                  <a:lnTo>
                    <a:pt x="260" y="1395"/>
                  </a:lnTo>
                  <a:lnTo>
                    <a:pt x="291" y="1443"/>
                  </a:lnTo>
                  <a:lnTo>
                    <a:pt x="367" y="1430"/>
                  </a:lnTo>
                  <a:lnTo>
                    <a:pt x="512" y="1324"/>
                  </a:lnTo>
                  <a:lnTo>
                    <a:pt x="622" y="1152"/>
                  </a:lnTo>
                  <a:lnTo>
                    <a:pt x="622" y="1457"/>
                  </a:lnTo>
                  <a:lnTo>
                    <a:pt x="763" y="1505"/>
                  </a:lnTo>
                  <a:lnTo>
                    <a:pt x="843" y="1316"/>
                  </a:lnTo>
                  <a:lnTo>
                    <a:pt x="919" y="1496"/>
                  </a:lnTo>
                  <a:lnTo>
                    <a:pt x="972" y="1443"/>
                  </a:lnTo>
                  <a:lnTo>
                    <a:pt x="998" y="1094"/>
                  </a:lnTo>
                  <a:lnTo>
                    <a:pt x="1170" y="768"/>
                  </a:lnTo>
                  <a:lnTo>
                    <a:pt x="1130" y="574"/>
                  </a:lnTo>
                  <a:lnTo>
                    <a:pt x="1011" y="503"/>
                  </a:lnTo>
                  <a:lnTo>
                    <a:pt x="888" y="512"/>
                  </a:lnTo>
                  <a:lnTo>
                    <a:pt x="843" y="352"/>
                  </a:lnTo>
                  <a:lnTo>
                    <a:pt x="715" y="321"/>
                  </a:lnTo>
                  <a:lnTo>
                    <a:pt x="605" y="273"/>
                  </a:lnTo>
                  <a:lnTo>
                    <a:pt x="534" y="35"/>
                  </a:lnTo>
                  <a:lnTo>
                    <a:pt x="46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7499520" y="1247760"/>
              <a:ext cx="125640" cy="262440"/>
            </a:xfrm>
            <a:custGeom>
              <a:avLst/>
              <a:gdLst/>
              <a:ahLst/>
              <a:rect l="0" t="0" r="r" b="b"/>
              <a:pathLst>
                <a:path w="349" h="729">
                  <a:moveTo>
                    <a:pt x="177" y="0"/>
                  </a:moveTo>
                  <a:lnTo>
                    <a:pt x="349" y="190"/>
                  </a:lnTo>
                  <a:lnTo>
                    <a:pt x="265" y="597"/>
                  </a:lnTo>
                  <a:lnTo>
                    <a:pt x="0" y="729"/>
                  </a:lnTo>
                  <a:lnTo>
                    <a:pt x="0" y="525"/>
                  </a:lnTo>
                  <a:lnTo>
                    <a:pt x="105" y="314"/>
                  </a:lnTo>
                  <a:lnTo>
                    <a:pt x="177" y="149"/>
                  </a:lnTo>
                  <a:lnTo>
                    <a:pt x="17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8307360" y="1095480"/>
              <a:ext cx="309960" cy="236880"/>
            </a:xfrm>
            <a:custGeom>
              <a:avLst/>
              <a:gdLst/>
              <a:ahLst/>
              <a:rect l="0" t="0" r="r" b="b"/>
              <a:pathLst>
                <a:path w="861" h="658">
                  <a:moveTo>
                    <a:pt x="358" y="0"/>
                  </a:moveTo>
                  <a:lnTo>
                    <a:pt x="358" y="105"/>
                  </a:lnTo>
                  <a:lnTo>
                    <a:pt x="384" y="198"/>
                  </a:lnTo>
                  <a:lnTo>
                    <a:pt x="552" y="353"/>
                  </a:lnTo>
                  <a:lnTo>
                    <a:pt x="861" y="446"/>
                  </a:lnTo>
                  <a:lnTo>
                    <a:pt x="817" y="649"/>
                  </a:lnTo>
                  <a:lnTo>
                    <a:pt x="552" y="658"/>
                  </a:lnTo>
                  <a:lnTo>
                    <a:pt x="163" y="516"/>
                  </a:lnTo>
                  <a:lnTo>
                    <a:pt x="0" y="260"/>
                  </a:lnTo>
                  <a:lnTo>
                    <a:pt x="194" y="13"/>
                  </a:lnTo>
                  <a:lnTo>
                    <a:pt x="35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8431200" y="828720"/>
              <a:ext cx="433800" cy="519480"/>
            </a:xfrm>
            <a:custGeom>
              <a:avLst/>
              <a:gdLst/>
              <a:ahLst/>
              <a:rect l="0" t="0" r="r" b="b"/>
              <a:pathLst>
                <a:path w="1205" h="1443">
                  <a:moveTo>
                    <a:pt x="105" y="609"/>
                  </a:moveTo>
                  <a:lnTo>
                    <a:pt x="0" y="715"/>
                  </a:lnTo>
                  <a:lnTo>
                    <a:pt x="22" y="949"/>
                  </a:lnTo>
                  <a:lnTo>
                    <a:pt x="194" y="1059"/>
                  </a:lnTo>
                  <a:lnTo>
                    <a:pt x="207" y="1421"/>
                  </a:lnTo>
                  <a:lnTo>
                    <a:pt x="380" y="1421"/>
                  </a:lnTo>
                  <a:lnTo>
                    <a:pt x="367" y="1117"/>
                  </a:lnTo>
                  <a:lnTo>
                    <a:pt x="490" y="1435"/>
                  </a:lnTo>
                  <a:lnTo>
                    <a:pt x="574" y="1443"/>
                  </a:lnTo>
                  <a:lnTo>
                    <a:pt x="636" y="1338"/>
                  </a:lnTo>
                  <a:lnTo>
                    <a:pt x="649" y="1135"/>
                  </a:lnTo>
                  <a:lnTo>
                    <a:pt x="830" y="1324"/>
                  </a:lnTo>
                  <a:lnTo>
                    <a:pt x="905" y="1316"/>
                  </a:lnTo>
                  <a:lnTo>
                    <a:pt x="887" y="1183"/>
                  </a:lnTo>
                  <a:lnTo>
                    <a:pt x="821" y="997"/>
                  </a:lnTo>
                  <a:lnTo>
                    <a:pt x="746" y="878"/>
                  </a:lnTo>
                  <a:lnTo>
                    <a:pt x="772" y="799"/>
                  </a:lnTo>
                  <a:lnTo>
                    <a:pt x="821" y="812"/>
                  </a:lnTo>
                  <a:lnTo>
                    <a:pt x="985" y="997"/>
                  </a:lnTo>
                  <a:lnTo>
                    <a:pt x="1166" y="1050"/>
                  </a:lnTo>
                  <a:lnTo>
                    <a:pt x="1205" y="988"/>
                  </a:lnTo>
                  <a:lnTo>
                    <a:pt x="1179" y="896"/>
                  </a:lnTo>
                  <a:lnTo>
                    <a:pt x="843" y="600"/>
                  </a:lnTo>
                  <a:lnTo>
                    <a:pt x="574" y="512"/>
                  </a:lnTo>
                  <a:lnTo>
                    <a:pt x="538" y="343"/>
                  </a:lnTo>
                  <a:lnTo>
                    <a:pt x="636" y="202"/>
                  </a:lnTo>
                  <a:lnTo>
                    <a:pt x="636" y="44"/>
                  </a:lnTo>
                  <a:lnTo>
                    <a:pt x="556" y="0"/>
                  </a:lnTo>
                  <a:lnTo>
                    <a:pt x="367" y="393"/>
                  </a:lnTo>
                  <a:lnTo>
                    <a:pt x="194" y="450"/>
                  </a:lnTo>
                  <a:lnTo>
                    <a:pt x="149" y="552"/>
                  </a:lnTo>
                  <a:lnTo>
                    <a:pt x="105" y="60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7719840" y="376200"/>
              <a:ext cx="473400" cy="665640"/>
            </a:xfrm>
            <a:custGeom>
              <a:avLst/>
              <a:gdLst/>
              <a:ahLst/>
              <a:rect l="0" t="0" r="r" b="b"/>
              <a:pathLst>
                <a:path w="1315" h="1849">
                  <a:moveTo>
                    <a:pt x="330" y="255"/>
                  </a:moveTo>
                  <a:lnTo>
                    <a:pt x="229" y="613"/>
                  </a:lnTo>
                  <a:lnTo>
                    <a:pt x="13" y="680"/>
                  </a:lnTo>
                  <a:lnTo>
                    <a:pt x="74" y="794"/>
                  </a:lnTo>
                  <a:lnTo>
                    <a:pt x="0" y="865"/>
                  </a:lnTo>
                  <a:lnTo>
                    <a:pt x="0" y="993"/>
                  </a:lnTo>
                  <a:lnTo>
                    <a:pt x="105" y="1112"/>
                  </a:lnTo>
                  <a:lnTo>
                    <a:pt x="207" y="1112"/>
                  </a:lnTo>
                  <a:lnTo>
                    <a:pt x="273" y="1523"/>
                  </a:lnTo>
                  <a:lnTo>
                    <a:pt x="357" y="1699"/>
                  </a:lnTo>
                  <a:lnTo>
                    <a:pt x="626" y="1849"/>
                  </a:lnTo>
                  <a:lnTo>
                    <a:pt x="896" y="1827"/>
                  </a:lnTo>
                  <a:lnTo>
                    <a:pt x="1024" y="1523"/>
                  </a:lnTo>
                  <a:lnTo>
                    <a:pt x="1054" y="1054"/>
                  </a:lnTo>
                  <a:lnTo>
                    <a:pt x="1315" y="821"/>
                  </a:lnTo>
                  <a:lnTo>
                    <a:pt x="1301" y="728"/>
                  </a:lnTo>
                  <a:lnTo>
                    <a:pt x="1271" y="680"/>
                  </a:lnTo>
                  <a:lnTo>
                    <a:pt x="1134" y="671"/>
                  </a:lnTo>
                  <a:lnTo>
                    <a:pt x="1178" y="552"/>
                  </a:lnTo>
                  <a:lnTo>
                    <a:pt x="1041" y="468"/>
                  </a:lnTo>
                  <a:lnTo>
                    <a:pt x="979" y="202"/>
                  </a:lnTo>
                  <a:lnTo>
                    <a:pt x="568" y="0"/>
                  </a:lnTo>
                  <a:lnTo>
                    <a:pt x="357" y="189"/>
                  </a:lnTo>
                  <a:lnTo>
                    <a:pt x="330" y="25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7753320" y="932040"/>
              <a:ext cx="435240" cy="795600"/>
            </a:xfrm>
            <a:custGeom>
              <a:avLst/>
              <a:gdLst/>
              <a:ahLst/>
              <a:rect l="0" t="0" r="r" b="b"/>
              <a:pathLst>
                <a:path w="1209" h="2210">
                  <a:moveTo>
                    <a:pt x="246" y="114"/>
                  </a:moveTo>
                  <a:lnTo>
                    <a:pt x="418" y="220"/>
                  </a:lnTo>
                  <a:lnTo>
                    <a:pt x="507" y="339"/>
                  </a:lnTo>
                  <a:lnTo>
                    <a:pt x="988" y="0"/>
                  </a:lnTo>
                  <a:lnTo>
                    <a:pt x="1138" y="70"/>
                  </a:lnTo>
                  <a:lnTo>
                    <a:pt x="1209" y="418"/>
                  </a:lnTo>
                  <a:lnTo>
                    <a:pt x="856" y="1438"/>
                  </a:lnTo>
                  <a:lnTo>
                    <a:pt x="975" y="1998"/>
                  </a:lnTo>
                  <a:lnTo>
                    <a:pt x="515" y="2210"/>
                  </a:lnTo>
                  <a:lnTo>
                    <a:pt x="163" y="2091"/>
                  </a:lnTo>
                  <a:lnTo>
                    <a:pt x="163" y="1495"/>
                  </a:lnTo>
                  <a:lnTo>
                    <a:pt x="0" y="917"/>
                  </a:lnTo>
                  <a:lnTo>
                    <a:pt x="163" y="220"/>
                  </a:lnTo>
                  <a:lnTo>
                    <a:pt x="246" y="11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7772400" y="287280"/>
              <a:ext cx="405000" cy="209880"/>
            </a:xfrm>
            <a:custGeom>
              <a:avLst/>
              <a:gdLst/>
              <a:ahLst/>
              <a:rect l="0" t="0" r="r" b="b"/>
              <a:pathLst>
                <a:path w="1125" h="583">
                  <a:moveTo>
                    <a:pt x="136" y="561"/>
                  </a:moveTo>
                  <a:lnTo>
                    <a:pt x="304" y="397"/>
                  </a:lnTo>
                  <a:lnTo>
                    <a:pt x="410" y="380"/>
                  </a:lnTo>
                  <a:lnTo>
                    <a:pt x="410" y="393"/>
                  </a:lnTo>
                  <a:lnTo>
                    <a:pt x="463" y="380"/>
                  </a:lnTo>
                  <a:lnTo>
                    <a:pt x="529" y="428"/>
                  </a:lnTo>
                  <a:lnTo>
                    <a:pt x="662" y="450"/>
                  </a:lnTo>
                  <a:lnTo>
                    <a:pt x="777" y="583"/>
                  </a:lnTo>
                  <a:lnTo>
                    <a:pt x="949" y="525"/>
                  </a:lnTo>
                  <a:lnTo>
                    <a:pt x="949" y="459"/>
                  </a:lnTo>
                  <a:lnTo>
                    <a:pt x="1125" y="393"/>
                  </a:lnTo>
                  <a:lnTo>
                    <a:pt x="1072" y="277"/>
                  </a:lnTo>
                  <a:lnTo>
                    <a:pt x="909" y="273"/>
                  </a:lnTo>
                  <a:lnTo>
                    <a:pt x="931" y="149"/>
                  </a:lnTo>
                  <a:lnTo>
                    <a:pt x="785" y="167"/>
                  </a:lnTo>
                  <a:lnTo>
                    <a:pt x="763" y="79"/>
                  </a:lnTo>
                  <a:lnTo>
                    <a:pt x="662" y="79"/>
                  </a:lnTo>
                  <a:lnTo>
                    <a:pt x="596" y="132"/>
                  </a:lnTo>
                  <a:lnTo>
                    <a:pt x="529" y="132"/>
                  </a:lnTo>
                  <a:lnTo>
                    <a:pt x="542" y="0"/>
                  </a:lnTo>
                  <a:lnTo>
                    <a:pt x="410" y="61"/>
                  </a:lnTo>
                  <a:lnTo>
                    <a:pt x="220" y="273"/>
                  </a:lnTo>
                  <a:lnTo>
                    <a:pt x="211" y="132"/>
                  </a:lnTo>
                  <a:lnTo>
                    <a:pt x="110" y="198"/>
                  </a:lnTo>
                  <a:lnTo>
                    <a:pt x="83" y="380"/>
                  </a:lnTo>
                  <a:lnTo>
                    <a:pt x="0" y="344"/>
                  </a:lnTo>
                  <a:lnTo>
                    <a:pt x="13" y="459"/>
                  </a:lnTo>
                  <a:lnTo>
                    <a:pt x="136" y="56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7881840" y="1079640"/>
              <a:ext cx="128880" cy="601920"/>
            </a:xfrm>
            <a:custGeom>
              <a:avLst/>
              <a:gdLst/>
              <a:ahLst/>
              <a:rect l="0" t="0" r="r" b="b"/>
              <a:pathLst>
                <a:path w="358" h="1672">
                  <a:moveTo>
                    <a:pt x="181" y="8"/>
                  </a:moveTo>
                  <a:lnTo>
                    <a:pt x="61" y="79"/>
                  </a:lnTo>
                  <a:lnTo>
                    <a:pt x="61" y="224"/>
                  </a:lnTo>
                  <a:lnTo>
                    <a:pt x="149" y="268"/>
                  </a:lnTo>
                  <a:lnTo>
                    <a:pt x="35" y="489"/>
                  </a:lnTo>
                  <a:lnTo>
                    <a:pt x="0" y="784"/>
                  </a:lnTo>
                  <a:lnTo>
                    <a:pt x="88" y="1169"/>
                  </a:lnTo>
                  <a:lnTo>
                    <a:pt x="88" y="1332"/>
                  </a:lnTo>
                  <a:lnTo>
                    <a:pt x="44" y="1456"/>
                  </a:lnTo>
                  <a:lnTo>
                    <a:pt x="225" y="1672"/>
                  </a:lnTo>
                  <a:lnTo>
                    <a:pt x="344" y="1345"/>
                  </a:lnTo>
                  <a:lnTo>
                    <a:pt x="344" y="1125"/>
                  </a:lnTo>
                  <a:lnTo>
                    <a:pt x="256" y="918"/>
                  </a:lnTo>
                  <a:lnTo>
                    <a:pt x="212" y="630"/>
                  </a:lnTo>
                  <a:lnTo>
                    <a:pt x="300" y="352"/>
                  </a:lnTo>
                  <a:lnTo>
                    <a:pt x="274" y="246"/>
                  </a:lnTo>
                  <a:lnTo>
                    <a:pt x="358" y="189"/>
                  </a:lnTo>
                  <a:lnTo>
                    <a:pt x="344" y="114"/>
                  </a:lnTo>
                  <a:lnTo>
                    <a:pt x="239" y="0"/>
                  </a:lnTo>
                  <a:lnTo>
                    <a:pt x="181"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7877160" y="876240"/>
              <a:ext cx="105120" cy="54360"/>
            </a:xfrm>
            <a:custGeom>
              <a:avLst/>
              <a:gdLst/>
              <a:ahLst/>
              <a:rect l="0" t="0" r="r" b="b"/>
              <a:pathLst>
                <a:path w="292" h="151">
                  <a:moveTo>
                    <a:pt x="0" y="49"/>
                  </a:moveTo>
                  <a:lnTo>
                    <a:pt x="114" y="151"/>
                  </a:lnTo>
                  <a:lnTo>
                    <a:pt x="230" y="143"/>
                  </a:lnTo>
                  <a:lnTo>
                    <a:pt x="292" y="13"/>
                  </a:lnTo>
                  <a:lnTo>
                    <a:pt x="164" y="0"/>
                  </a:lnTo>
                  <a:lnTo>
                    <a:pt x="30" y="13"/>
                  </a:lnTo>
                  <a:lnTo>
                    <a:pt x="0" y="49"/>
                  </a:lnTo>
                  <a:close/>
                </a:path>
              </a:pathLst>
            </a:custGeom>
            <a:solidFill>
              <a:srgbClr val="ffffff"/>
            </a:solidFill>
            <a:ln w="12600">
              <a:solidFill>
                <a:srgbClr val="ffffff"/>
              </a:solidFill>
              <a:round/>
            </a:ln>
          </p:spPr>
          <p:txBody>
            <a:bodyPr lIns="96120" rIns="96120" tIns="3240" bIns="3240" anchor="t">
              <a:noAutofit/>
            </a:bodyPr>
            <a:p>
              <a:endParaRPr b="0" lang="en-US" sz="1800" spc="-1" strike="noStrike">
                <a:solidFill>
                  <a:srgbClr val="000000"/>
                </a:solidFill>
                <a:latin typeface="Arial"/>
              </a:endParaRPr>
            </a:p>
          </p:txBody>
        </p:sp>
        <p:sp>
          <p:nvSpPr>
            <p:cNvPr id="70" name=""/>
            <p:cNvSpPr/>
            <p:nvPr/>
          </p:nvSpPr>
          <p:spPr>
            <a:xfrm>
              <a:off x="7763040" y="598320"/>
              <a:ext cx="130680" cy="117720"/>
            </a:xfrm>
            <a:custGeom>
              <a:avLst/>
              <a:gdLst/>
              <a:ahLst/>
              <a:rect l="0" t="0" r="r" b="b"/>
              <a:pathLst>
                <a:path w="363" h="327">
                  <a:moveTo>
                    <a:pt x="0" y="39"/>
                  </a:moveTo>
                  <a:lnTo>
                    <a:pt x="252" y="327"/>
                  </a:lnTo>
                  <a:lnTo>
                    <a:pt x="363" y="305"/>
                  </a:lnTo>
                  <a:lnTo>
                    <a:pt x="98"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7991640" y="573120"/>
              <a:ext cx="111600" cy="117720"/>
            </a:xfrm>
            <a:custGeom>
              <a:avLst/>
              <a:gdLst/>
              <a:ahLst/>
              <a:rect l="0" t="0" r="r" b="b"/>
              <a:pathLst>
                <a:path w="310" h="327">
                  <a:moveTo>
                    <a:pt x="0" y="48"/>
                  </a:moveTo>
                  <a:lnTo>
                    <a:pt x="217" y="327"/>
                  </a:lnTo>
                  <a:lnTo>
                    <a:pt x="310" y="256"/>
                  </a:lnTo>
                  <a:lnTo>
                    <a:pt x="8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7716960" y="422280"/>
              <a:ext cx="451080" cy="294120"/>
            </a:xfrm>
            <a:custGeom>
              <a:avLst/>
              <a:gdLst/>
              <a:ahLst/>
              <a:rect l="0" t="0" r="r" b="b"/>
              <a:pathLst>
                <a:path w="1253" h="817">
                  <a:moveTo>
                    <a:pt x="577" y="486"/>
                  </a:moveTo>
                  <a:lnTo>
                    <a:pt x="463" y="455"/>
                  </a:lnTo>
                  <a:lnTo>
                    <a:pt x="560" y="384"/>
                  </a:lnTo>
                  <a:lnTo>
                    <a:pt x="520" y="344"/>
                  </a:lnTo>
                  <a:lnTo>
                    <a:pt x="392" y="437"/>
                  </a:lnTo>
                  <a:lnTo>
                    <a:pt x="158" y="464"/>
                  </a:lnTo>
                  <a:lnTo>
                    <a:pt x="0" y="472"/>
                  </a:lnTo>
                  <a:lnTo>
                    <a:pt x="0" y="578"/>
                  </a:lnTo>
                  <a:lnTo>
                    <a:pt x="149" y="813"/>
                  </a:lnTo>
                  <a:lnTo>
                    <a:pt x="189" y="817"/>
                  </a:lnTo>
                  <a:lnTo>
                    <a:pt x="52" y="561"/>
                  </a:lnTo>
                  <a:lnTo>
                    <a:pt x="260" y="486"/>
                  </a:lnTo>
                  <a:lnTo>
                    <a:pt x="392" y="486"/>
                  </a:lnTo>
                  <a:lnTo>
                    <a:pt x="493" y="534"/>
                  </a:lnTo>
                  <a:lnTo>
                    <a:pt x="520" y="605"/>
                  </a:lnTo>
                  <a:lnTo>
                    <a:pt x="520" y="760"/>
                  </a:lnTo>
                  <a:lnTo>
                    <a:pt x="520" y="813"/>
                  </a:lnTo>
                  <a:lnTo>
                    <a:pt x="582" y="742"/>
                  </a:lnTo>
                  <a:lnTo>
                    <a:pt x="582" y="574"/>
                  </a:lnTo>
                  <a:lnTo>
                    <a:pt x="671" y="574"/>
                  </a:lnTo>
                  <a:lnTo>
                    <a:pt x="715" y="760"/>
                  </a:lnTo>
                  <a:lnTo>
                    <a:pt x="768" y="773"/>
                  </a:lnTo>
                  <a:lnTo>
                    <a:pt x="913" y="773"/>
                  </a:lnTo>
                  <a:lnTo>
                    <a:pt x="1068" y="747"/>
                  </a:lnTo>
                  <a:lnTo>
                    <a:pt x="1182" y="676"/>
                  </a:lnTo>
                  <a:lnTo>
                    <a:pt x="1191" y="508"/>
                  </a:lnTo>
                  <a:lnTo>
                    <a:pt x="1253" y="437"/>
                  </a:lnTo>
                  <a:lnTo>
                    <a:pt x="1218" y="397"/>
                  </a:lnTo>
                  <a:lnTo>
                    <a:pt x="1076" y="349"/>
                  </a:lnTo>
                  <a:lnTo>
                    <a:pt x="1054" y="185"/>
                  </a:lnTo>
                  <a:lnTo>
                    <a:pt x="922" y="185"/>
                  </a:lnTo>
                  <a:lnTo>
                    <a:pt x="768" y="0"/>
                  </a:lnTo>
                  <a:lnTo>
                    <a:pt x="909" y="202"/>
                  </a:lnTo>
                  <a:lnTo>
                    <a:pt x="957" y="202"/>
                  </a:lnTo>
                  <a:lnTo>
                    <a:pt x="988" y="344"/>
                  </a:lnTo>
                  <a:lnTo>
                    <a:pt x="807" y="397"/>
                  </a:lnTo>
                  <a:lnTo>
                    <a:pt x="680" y="353"/>
                  </a:lnTo>
                  <a:lnTo>
                    <a:pt x="662" y="397"/>
                  </a:lnTo>
                  <a:lnTo>
                    <a:pt x="733" y="437"/>
                  </a:lnTo>
                  <a:lnTo>
                    <a:pt x="733" y="477"/>
                  </a:lnTo>
                  <a:lnTo>
                    <a:pt x="882" y="415"/>
                  </a:lnTo>
                  <a:lnTo>
                    <a:pt x="1010" y="406"/>
                  </a:lnTo>
                  <a:lnTo>
                    <a:pt x="1151" y="419"/>
                  </a:lnTo>
                  <a:lnTo>
                    <a:pt x="1151" y="441"/>
                  </a:lnTo>
                  <a:lnTo>
                    <a:pt x="1081" y="499"/>
                  </a:lnTo>
                  <a:lnTo>
                    <a:pt x="1054" y="574"/>
                  </a:lnTo>
                  <a:lnTo>
                    <a:pt x="1050" y="676"/>
                  </a:lnTo>
                  <a:lnTo>
                    <a:pt x="966" y="711"/>
                  </a:lnTo>
                  <a:lnTo>
                    <a:pt x="847" y="729"/>
                  </a:lnTo>
                  <a:lnTo>
                    <a:pt x="768" y="729"/>
                  </a:lnTo>
                  <a:lnTo>
                    <a:pt x="737" y="698"/>
                  </a:lnTo>
                  <a:lnTo>
                    <a:pt x="715" y="508"/>
                  </a:lnTo>
                  <a:lnTo>
                    <a:pt x="582" y="508"/>
                  </a:lnTo>
                  <a:lnTo>
                    <a:pt x="577" y="4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 name=""/>
            <p:cNvSpPr/>
            <p:nvPr/>
          </p:nvSpPr>
          <p:spPr>
            <a:xfrm>
              <a:off x="7870680" y="762120"/>
              <a:ext cx="146520" cy="59040"/>
            </a:xfrm>
            <a:custGeom>
              <a:avLst/>
              <a:gdLst/>
              <a:ahLst/>
              <a:rect l="0" t="0" r="r" b="b"/>
              <a:pathLst>
                <a:path w="407" h="164">
                  <a:moveTo>
                    <a:pt x="0" y="0"/>
                  </a:moveTo>
                  <a:lnTo>
                    <a:pt x="66" y="70"/>
                  </a:lnTo>
                  <a:lnTo>
                    <a:pt x="243" y="70"/>
                  </a:lnTo>
                  <a:lnTo>
                    <a:pt x="319" y="22"/>
                  </a:lnTo>
                  <a:lnTo>
                    <a:pt x="407" y="22"/>
                  </a:lnTo>
                  <a:lnTo>
                    <a:pt x="390" y="48"/>
                  </a:lnTo>
                  <a:lnTo>
                    <a:pt x="390" y="70"/>
                  </a:lnTo>
                  <a:lnTo>
                    <a:pt x="225" y="164"/>
                  </a:lnTo>
                  <a:lnTo>
                    <a:pt x="137" y="164"/>
                  </a:lnTo>
                  <a:lnTo>
                    <a:pt x="83" y="128"/>
                  </a:lnTo>
                  <a:lnTo>
                    <a:pt x="39" y="128"/>
                  </a:lnTo>
                  <a:lnTo>
                    <a:pt x="0" y="0"/>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74" name=""/>
            <p:cNvSpPr/>
            <p:nvPr/>
          </p:nvSpPr>
          <p:spPr>
            <a:xfrm>
              <a:off x="7709040" y="665280"/>
              <a:ext cx="221040" cy="317880"/>
            </a:xfrm>
            <a:custGeom>
              <a:avLst/>
              <a:gdLst/>
              <a:ahLst/>
              <a:rect l="0" t="0" r="r" b="b"/>
              <a:pathLst>
                <a:path w="614" h="883">
                  <a:moveTo>
                    <a:pt x="614" y="61"/>
                  </a:moveTo>
                  <a:lnTo>
                    <a:pt x="614" y="74"/>
                  </a:lnTo>
                  <a:lnTo>
                    <a:pt x="509" y="167"/>
                  </a:lnTo>
                  <a:lnTo>
                    <a:pt x="415" y="185"/>
                  </a:lnTo>
                  <a:lnTo>
                    <a:pt x="243" y="163"/>
                  </a:lnTo>
                  <a:lnTo>
                    <a:pt x="278" y="481"/>
                  </a:lnTo>
                  <a:lnTo>
                    <a:pt x="318" y="742"/>
                  </a:lnTo>
                  <a:lnTo>
                    <a:pt x="389" y="883"/>
                  </a:lnTo>
                  <a:lnTo>
                    <a:pt x="318" y="782"/>
                  </a:lnTo>
                  <a:lnTo>
                    <a:pt x="287" y="672"/>
                  </a:lnTo>
                  <a:lnTo>
                    <a:pt x="234" y="371"/>
                  </a:lnTo>
                  <a:lnTo>
                    <a:pt x="190" y="389"/>
                  </a:lnTo>
                  <a:lnTo>
                    <a:pt x="127" y="358"/>
                  </a:lnTo>
                  <a:lnTo>
                    <a:pt x="13" y="198"/>
                  </a:lnTo>
                  <a:lnTo>
                    <a:pt x="0" y="114"/>
                  </a:lnTo>
                  <a:lnTo>
                    <a:pt x="0" y="52"/>
                  </a:lnTo>
                  <a:lnTo>
                    <a:pt x="26" y="13"/>
                  </a:lnTo>
                  <a:lnTo>
                    <a:pt x="92" y="0"/>
                  </a:lnTo>
                  <a:lnTo>
                    <a:pt x="105" y="22"/>
                  </a:lnTo>
                  <a:lnTo>
                    <a:pt x="52" y="44"/>
                  </a:lnTo>
                  <a:lnTo>
                    <a:pt x="35" y="105"/>
                  </a:lnTo>
                  <a:lnTo>
                    <a:pt x="44" y="189"/>
                  </a:lnTo>
                  <a:lnTo>
                    <a:pt x="119" y="261"/>
                  </a:lnTo>
                  <a:lnTo>
                    <a:pt x="159" y="247"/>
                  </a:lnTo>
                  <a:lnTo>
                    <a:pt x="159" y="83"/>
                  </a:lnTo>
                  <a:lnTo>
                    <a:pt x="230" y="119"/>
                  </a:lnTo>
                  <a:lnTo>
                    <a:pt x="344" y="141"/>
                  </a:lnTo>
                  <a:lnTo>
                    <a:pt x="446" y="132"/>
                  </a:lnTo>
                  <a:lnTo>
                    <a:pt x="544" y="83"/>
                  </a:lnTo>
                  <a:lnTo>
                    <a:pt x="614" y="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5" name=""/>
            <p:cNvSpPr/>
            <p:nvPr/>
          </p:nvSpPr>
          <p:spPr>
            <a:xfrm>
              <a:off x="7767720" y="412920"/>
              <a:ext cx="66960" cy="170280"/>
            </a:xfrm>
            <a:custGeom>
              <a:avLst/>
              <a:gdLst/>
              <a:ahLst/>
              <a:rect l="0" t="0" r="r" b="b"/>
              <a:pathLst>
                <a:path w="186" h="473">
                  <a:moveTo>
                    <a:pt x="92" y="473"/>
                  </a:moveTo>
                  <a:lnTo>
                    <a:pt x="186" y="195"/>
                  </a:lnTo>
                  <a:lnTo>
                    <a:pt x="22" y="97"/>
                  </a:lnTo>
                  <a:lnTo>
                    <a:pt x="0" y="0"/>
                  </a:lnTo>
                  <a:lnTo>
                    <a:pt x="13" y="114"/>
                  </a:lnTo>
                  <a:lnTo>
                    <a:pt x="66" y="164"/>
                  </a:lnTo>
                  <a:lnTo>
                    <a:pt x="74" y="305"/>
                  </a:lnTo>
                  <a:lnTo>
                    <a:pt x="111" y="359"/>
                  </a:lnTo>
                  <a:lnTo>
                    <a:pt x="92" y="47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 name=""/>
            <p:cNvSpPr/>
            <p:nvPr/>
          </p:nvSpPr>
          <p:spPr>
            <a:xfrm>
              <a:off x="7765920" y="264960"/>
              <a:ext cx="495720" cy="221040"/>
            </a:xfrm>
            <a:custGeom>
              <a:avLst/>
              <a:gdLst/>
              <a:ahLst/>
              <a:rect l="0" t="0" r="r" b="b"/>
              <a:pathLst>
                <a:path w="1377" h="614">
                  <a:moveTo>
                    <a:pt x="13" y="415"/>
                  </a:moveTo>
                  <a:lnTo>
                    <a:pt x="132" y="482"/>
                  </a:lnTo>
                  <a:lnTo>
                    <a:pt x="119" y="397"/>
                  </a:lnTo>
                  <a:lnTo>
                    <a:pt x="141" y="261"/>
                  </a:lnTo>
                  <a:lnTo>
                    <a:pt x="220" y="230"/>
                  </a:lnTo>
                  <a:lnTo>
                    <a:pt x="229" y="375"/>
                  </a:lnTo>
                  <a:lnTo>
                    <a:pt x="464" y="119"/>
                  </a:lnTo>
                  <a:lnTo>
                    <a:pt x="521" y="105"/>
                  </a:lnTo>
                  <a:lnTo>
                    <a:pt x="477" y="203"/>
                  </a:lnTo>
                  <a:lnTo>
                    <a:pt x="618" y="256"/>
                  </a:lnTo>
                  <a:lnTo>
                    <a:pt x="724" y="149"/>
                  </a:lnTo>
                  <a:lnTo>
                    <a:pt x="781" y="186"/>
                  </a:lnTo>
                  <a:lnTo>
                    <a:pt x="733" y="274"/>
                  </a:lnTo>
                  <a:lnTo>
                    <a:pt x="803" y="221"/>
                  </a:lnTo>
                  <a:lnTo>
                    <a:pt x="904" y="261"/>
                  </a:lnTo>
                  <a:lnTo>
                    <a:pt x="821" y="336"/>
                  </a:lnTo>
                  <a:lnTo>
                    <a:pt x="1104" y="375"/>
                  </a:lnTo>
                  <a:lnTo>
                    <a:pt x="913" y="428"/>
                  </a:lnTo>
                  <a:lnTo>
                    <a:pt x="1152" y="465"/>
                  </a:lnTo>
                  <a:lnTo>
                    <a:pt x="869" y="522"/>
                  </a:lnTo>
                  <a:lnTo>
                    <a:pt x="931" y="570"/>
                  </a:lnTo>
                  <a:lnTo>
                    <a:pt x="847" y="614"/>
                  </a:lnTo>
                  <a:lnTo>
                    <a:pt x="993" y="614"/>
                  </a:lnTo>
                  <a:lnTo>
                    <a:pt x="979" y="575"/>
                  </a:lnTo>
                  <a:lnTo>
                    <a:pt x="1130" y="610"/>
                  </a:lnTo>
                  <a:lnTo>
                    <a:pt x="1104" y="513"/>
                  </a:lnTo>
                  <a:lnTo>
                    <a:pt x="1245" y="469"/>
                  </a:lnTo>
                  <a:lnTo>
                    <a:pt x="1148" y="424"/>
                  </a:lnTo>
                  <a:lnTo>
                    <a:pt x="1377" y="411"/>
                  </a:lnTo>
                  <a:lnTo>
                    <a:pt x="1174" y="305"/>
                  </a:lnTo>
                  <a:lnTo>
                    <a:pt x="949" y="287"/>
                  </a:lnTo>
                  <a:lnTo>
                    <a:pt x="1130" y="190"/>
                  </a:lnTo>
                  <a:lnTo>
                    <a:pt x="803" y="190"/>
                  </a:lnTo>
                  <a:lnTo>
                    <a:pt x="957" y="92"/>
                  </a:lnTo>
                  <a:lnTo>
                    <a:pt x="719" y="119"/>
                  </a:lnTo>
                  <a:lnTo>
                    <a:pt x="605" y="164"/>
                  </a:lnTo>
                  <a:lnTo>
                    <a:pt x="702" y="0"/>
                  </a:lnTo>
                  <a:lnTo>
                    <a:pt x="415" y="92"/>
                  </a:lnTo>
                  <a:lnTo>
                    <a:pt x="255" y="292"/>
                  </a:lnTo>
                  <a:lnTo>
                    <a:pt x="229" y="186"/>
                  </a:lnTo>
                  <a:lnTo>
                    <a:pt x="101" y="261"/>
                  </a:lnTo>
                  <a:lnTo>
                    <a:pt x="83" y="411"/>
                  </a:lnTo>
                  <a:lnTo>
                    <a:pt x="0" y="375"/>
                  </a:lnTo>
                  <a:lnTo>
                    <a:pt x="30" y="513"/>
                  </a:lnTo>
                  <a:lnTo>
                    <a:pt x="13" y="41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 name=""/>
            <p:cNvSpPr/>
            <p:nvPr/>
          </p:nvSpPr>
          <p:spPr>
            <a:xfrm>
              <a:off x="7873920" y="384120"/>
              <a:ext cx="138600" cy="66960"/>
            </a:xfrm>
            <a:custGeom>
              <a:avLst/>
              <a:gdLst/>
              <a:ahLst/>
              <a:rect l="0" t="0" r="r" b="b"/>
              <a:pathLst>
                <a:path w="385" h="186">
                  <a:moveTo>
                    <a:pt x="0" y="186"/>
                  </a:moveTo>
                  <a:lnTo>
                    <a:pt x="146" y="0"/>
                  </a:lnTo>
                  <a:lnTo>
                    <a:pt x="146" y="124"/>
                  </a:lnTo>
                  <a:lnTo>
                    <a:pt x="195" y="74"/>
                  </a:lnTo>
                  <a:lnTo>
                    <a:pt x="243" y="142"/>
                  </a:lnTo>
                  <a:lnTo>
                    <a:pt x="385" y="177"/>
                  </a:lnTo>
                  <a:lnTo>
                    <a:pt x="230" y="150"/>
                  </a:lnTo>
                  <a:lnTo>
                    <a:pt x="190" y="111"/>
                  </a:lnTo>
                  <a:lnTo>
                    <a:pt x="120" y="150"/>
                  </a:lnTo>
                  <a:lnTo>
                    <a:pt x="120" y="92"/>
                  </a:lnTo>
                  <a:lnTo>
                    <a:pt x="0" y="186"/>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78" name=""/>
            <p:cNvSpPr/>
            <p:nvPr/>
          </p:nvSpPr>
          <p:spPr>
            <a:xfrm>
              <a:off x="7859880" y="839880"/>
              <a:ext cx="168480" cy="98640"/>
            </a:xfrm>
            <a:custGeom>
              <a:avLst/>
              <a:gdLst/>
              <a:ahLst/>
              <a:rect l="0" t="0" r="r" b="b"/>
              <a:pathLst>
                <a:path w="468" h="274">
                  <a:moveTo>
                    <a:pt x="88" y="97"/>
                  </a:moveTo>
                  <a:lnTo>
                    <a:pt x="278" y="79"/>
                  </a:lnTo>
                  <a:lnTo>
                    <a:pt x="375" y="101"/>
                  </a:lnTo>
                  <a:lnTo>
                    <a:pt x="419" y="61"/>
                  </a:lnTo>
                  <a:lnTo>
                    <a:pt x="468" y="155"/>
                  </a:lnTo>
                  <a:lnTo>
                    <a:pt x="437" y="168"/>
                  </a:lnTo>
                  <a:lnTo>
                    <a:pt x="393" y="132"/>
                  </a:lnTo>
                  <a:lnTo>
                    <a:pt x="336" y="203"/>
                  </a:lnTo>
                  <a:lnTo>
                    <a:pt x="220" y="274"/>
                  </a:lnTo>
                  <a:lnTo>
                    <a:pt x="163" y="274"/>
                  </a:lnTo>
                  <a:lnTo>
                    <a:pt x="88" y="234"/>
                  </a:lnTo>
                  <a:lnTo>
                    <a:pt x="176" y="269"/>
                  </a:lnTo>
                  <a:lnTo>
                    <a:pt x="207" y="269"/>
                  </a:lnTo>
                  <a:lnTo>
                    <a:pt x="278" y="217"/>
                  </a:lnTo>
                  <a:lnTo>
                    <a:pt x="331" y="123"/>
                  </a:lnTo>
                  <a:lnTo>
                    <a:pt x="252" y="114"/>
                  </a:lnTo>
                  <a:lnTo>
                    <a:pt x="207" y="101"/>
                  </a:lnTo>
                  <a:lnTo>
                    <a:pt x="79" y="119"/>
                  </a:lnTo>
                  <a:lnTo>
                    <a:pt x="79" y="190"/>
                  </a:lnTo>
                  <a:lnTo>
                    <a:pt x="35" y="150"/>
                  </a:lnTo>
                  <a:lnTo>
                    <a:pt x="0" y="208"/>
                  </a:lnTo>
                  <a:lnTo>
                    <a:pt x="4" y="70"/>
                  </a:lnTo>
                  <a:lnTo>
                    <a:pt x="52" y="0"/>
                  </a:lnTo>
                  <a:lnTo>
                    <a:pt x="88" y="70"/>
                  </a:lnTo>
                  <a:lnTo>
                    <a:pt x="88" y="97"/>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79" name=""/>
            <p:cNvSpPr/>
            <p:nvPr/>
          </p:nvSpPr>
          <p:spPr>
            <a:xfrm>
              <a:off x="7840800" y="622440"/>
              <a:ext cx="359280" cy="462240"/>
            </a:xfrm>
            <a:custGeom>
              <a:avLst/>
              <a:gdLst/>
              <a:ahLst/>
              <a:rect l="0" t="0" r="r" b="b"/>
              <a:pathLst>
                <a:path w="998" h="1284">
                  <a:moveTo>
                    <a:pt x="839" y="0"/>
                  </a:moveTo>
                  <a:lnTo>
                    <a:pt x="936" y="0"/>
                  </a:lnTo>
                  <a:lnTo>
                    <a:pt x="998" y="66"/>
                  </a:lnTo>
                  <a:lnTo>
                    <a:pt x="998" y="132"/>
                  </a:lnTo>
                  <a:lnTo>
                    <a:pt x="919" y="335"/>
                  </a:lnTo>
                  <a:lnTo>
                    <a:pt x="835" y="432"/>
                  </a:lnTo>
                  <a:lnTo>
                    <a:pt x="751" y="445"/>
                  </a:lnTo>
                  <a:lnTo>
                    <a:pt x="728" y="445"/>
                  </a:lnTo>
                  <a:lnTo>
                    <a:pt x="728" y="702"/>
                  </a:lnTo>
                  <a:lnTo>
                    <a:pt x="769" y="882"/>
                  </a:lnTo>
                  <a:lnTo>
                    <a:pt x="769" y="1032"/>
                  </a:lnTo>
                  <a:lnTo>
                    <a:pt x="613" y="1182"/>
                  </a:lnTo>
                  <a:lnTo>
                    <a:pt x="406" y="1284"/>
                  </a:lnTo>
                  <a:lnTo>
                    <a:pt x="274" y="1284"/>
                  </a:lnTo>
                  <a:lnTo>
                    <a:pt x="211" y="1253"/>
                  </a:lnTo>
                  <a:lnTo>
                    <a:pt x="119" y="1081"/>
                  </a:lnTo>
                  <a:lnTo>
                    <a:pt x="35" y="1015"/>
                  </a:lnTo>
                  <a:lnTo>
                    <a:pt x="0" y="971"/>
                  </a:lnTo>
                  <a:lnTo>
                    <a:pt x="110" y="1032"/>
                  </a:lnTo>
                  <a:lnTo>
                    <a:pt x="194" y="1094"/>
                  </a:lnTo>
                  <a:lnTo>
                    <a:pt x="353" y="1103"/>
                  </a:lnTo>
                  <a:lnTo>
                    <a:pt x="499" y="1041"/>
                  </a:lnTo>
                  <a:lnTo>
                    <a:pt x="569" y="971"/>
                  </a:lnTo>
                  <a:lnTo>
                    <a:pt x="653" y="838"/>
                  </a:lnTo>
                  <a:lnTo>
                    <a:pt x="666" y="684"/>
                  </a:lnTo>
                  <a:lnTo>
                    <a:pt x="697" y="194"/>
                  </a:lnTo>
                  <a:lnTo>
                    <a:pt x="733" y="260"/>
                  </a:lnTo>
                  <a:lnTo>
                    <a:pt x="831" y="171"/>
                  </a:lnTo>
                  <a:lnTo>
                    <a:pt x="932" y="132"/>
                  </a:lnTo>
                  <a:lnTo>
                    <a:pt x="958" y="79"/>
                  </a:lnTo>
                  <a:lnTo>
                    <a:pt x="945" y="26"/>
                  </a:lnTo>
                  <a:lnTo>
                    <a:pt x="905" y="8"/>
                  </a:lnTo>
                  <a:lnTo>
                    <a:pt x="8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0" name=""/>
            <p:cNvSpPr/>
            <p:nvPr/>
          </p:nvSpPr>
          <p:spPr>
            <a:xfrm>
              <a:off x="7280280" y="1020600"/>
              <a:ext cx="290880" cy="424080"/>
            </a:xfrm>
            <a:custGeom>
              <a:avLst/>
              <a:gdLst/>
              <a:ahLst/>
              <a:rect l="0" t="0" r="r" b="b"/>
              <a:pathLst>
                <a:path w="808" h="1178">
                  <a:moveTo>
                    <a:pt x="101" y="0"/>
                  </a:moveTo>
                  <a:lnTo>
                    <a:pt x="194" y="52"/>
                  </a:lnTo>
                  <a:lnTo>
                    <a:pt x="261" y="291"/>
                  </a:lnTo>
                  <a:lnTo>
                    <a:pt x="472" y="343"/>
                  </a:lnTo>
                  <a:lnTo>
                    <a:pt x="534" y="410"/>
                  </a:lnTo>
                  <a:lnTo>
                    <a:pt x="543" y="502"/>
                  </a:lnTo>
                  <a:lnTo>
                    <a:pt x="645" y="485"/>
                  </a:lnTo>
                  <a:lnTo>
                    <a:pt x="769" y="564"/>
                  </a:lnTo>
                  <a:lnTo>
                    <a:pt x="808" y="662"/>
                  </a:lnTo>
                  <a:lnTo>
                    <a:pt x="808" y="825"/>
                  </a:lnTo>
                  <a:lnTo>
                    <a:pt x="645" y="1076"/>
                  </a:lnTo>
                  <a:lnTo>
                    <a:pt x="587" y="1178"/>
                  </a:lnTo>
                  <a:lnTo>
                    <a:pt x="619" y="1046"/>
                  </a:lnTo>
                  <a:lnTo>
                    <a:pt x="587" y="988"/>
                  </a:lnTo>
                  <a:lnTo>
                    <a:pt x="490" y="904"/>
                  </a:lnTo>
                  <a:lnTo>
                    <a:pt x="331" y="803"/>
                  </a:lnTo>
                  <a:lnTo>
                    <a:pt x="521" y="860"/>
                  </a:lnTo>
                  <a:lnTo>
                    <a:pt x="637" y="935"/>
                  </a:lnTo>
                  <a:lnTo>
                    <a:pt x="694" y="927"/>
                  </a:lnTo>
                  <a:lnTo>
                    <a:pt x="729" y="882"/>
                  </a:lnTo>
                  <a:lnTo>
                    <a:pt x="769" y="768"/>
                  </a:lnTo>
                  <a:lnTo>
                    <a:pt x="756" y="649"/>
                  </a:lnTo>
                  <a:lnTo>
                    <a:pt x="698" y="582"/>
                  </a:lnTo>
                  <a:lnTo>
                    <a:pt x="596" y="564"/>
                  </a:lnTo>
                  <a:lnTo>
                    <a:pt x="490" y="564"/>
                  </a:lnTo>
                  <a:lnTo>
                    <a:pt x="450" y="388"/>
                  </a:lnTo>
                  <a:lnTo>
                    <a:pt x="274" y="326"/>
                  </a:lnTo>
                  <a:lnTo>
                    <a:pt x="274" y="379"/>
                  </a:lnTo>
                  <a:lnTo>
                    <a:pt x="194" y="251"/>
                  </a:lnTo>
                  <a:lnTo>
                    <a:pt x="149" y="52"/>
                  </a:lnTo>
                  <a:lnTo>
                    <a:pt x="79" y="35"/>
                  </a:lnTo>
                  <a:lnTo>
                    <a:pt x="39" y="92"/>
                  </a:lnTo>
                  <a:lnTo>
                    <a:pt x="39" y="224"/>
                  </a:lnTo>
                  <a:lnTo>
                    <a:pt x="74" y="379"/>
                  </a:lnTo>
                  <a:lnTo>
                    <a:pt x="167" y="502"/>
                  </a:lnTo>
                  <a:lnTo>
                    <a:pt x="66" y="423"/>
                  </a:lnTo>
                  <a:lnTo>
                    <a:pt x="8" y="291"/>
                  </a:lnTo>
                  <a:lnTo>
                    <a:pt x="0" y="127"/>
                  </a:lnTo>
                  <a:lnTo>
                    <a:pt x="39" y="35"/>
                  </a:lnTo>
                  <a:lnTo>
                    <a:pt x="10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 name=""/>
            <p:cNvSpPr/>
            <p:nvPr/>
          </p:nvSpPr>
          <p:spPr>
            <a:xfrm>
              <a:off x="7142040" y="1208160"/>
              <a:ext cx="190800" cy="341640"/>
            </a:xfrm>
            <a:custGeom>
              <a:avLst/>
              <a:gdLst/>
              <a:ahLst/>
              <a:rect l="0" t="0" r="r" b="b"/>
              <a:pathLst>
                <a:path w="530" h="949">
                  <a:moveTo>
                    <a:pt x="530" y="0"/>
                  </a:moveTo>
                  <a:lnTo>
                    <a:pt x="419" y="61"/>
                  </a:lnTo>
                  <a:lnTo>
                    <a:pt x="292" y="295"/>
                  </a:lnTo>
                  <a:lnTo>
                    <a:pt x="167" y="445"/>
                  </a:lnTo>
                  <a:lnTo>
                    <a:pt x="13" y="627"/>
                  </a:lnTo>
                  <a:lnTo>
                    <a:pt x="0" y="715"/>
                  </a:lnTo>
                  <a:lnTo>
                    <a:pt x="30" y="803"/>
                  </a:lnTo>
                  <a:lnTo>
                    <a:pt x="105" y="803"/>
                  </a:lnTo>
                  <a:lnTo>
                    <a:pt x="202" y="715"/>
                  </a:lnTo>
                  <a:lnTo>
                    <a:pt x="283" y="547"/>
                  </a:lnTo>
                  <a:lnTo>
                    <a:pt x="389" y="445"/>
                  </a:lnTo>
                  <a:lnTo>
                    <a:pt x="389" y="578"/>
                  </a:lnTo>
                  <a:lnTo>
                    <a:pt x="371" y="706"/>
                  </a:lnTo>
                  <a:lnTo>
                    <a:pt x="260" y="878"/>
                  </a:lnTo>
                  <a:lnTo>
                    <a:pt x="260" y="931"/>
                  </a:lnTo>
                  <a:lnTo>
                    <a:pt x="371" y="949"/>
                  </a:lnTo>
                  <a:lnTo>
                    <a:pt x="292" y="904"/>
                  </a:lnTo>
                  <a:lnTo>
                    <a:pt x="305" y="878"/>
                  </a:lnTo>
                  <a:lnTo>
                    <a:pt x="384" y="755"/>
                  </a:lnTo>
                  <a:lnTo>
                    <a:pt x="441" y="525"/>
                  </a:lnTo>
                  <a:lnTo>
                    <a:pt x="402" y="396"/>
                  </a:lnTo>
                  <a:lnTo>
                    <a:pt x="318" y="471"/>
                  </a:lnTo>
                  <a:lnTo>
                    <a:pt x="123" y="755"/>
                  </a:lnTo>
                  <a:lnTo>
                    <a:pt x="74" y="768"/>
                  </a:lnTo>
                  <a:lnTo>
                    <a:pt x="30" y="737"/>
                  </a:lnTo>
                  <a:lnTo>
                    <a:pt x="30" y="649"/>
                  </a:lnTo>
                  <a:lnTo>
                    <a:pt x="105" y="534"/>
                  </a:lnTo>
                  <a:lnTo>
                    <a:pt x="318" y="308"/>
                  </a:lnTo>
                  <a:lnTo>
                    <a:pt x="441" y="83"/>
                  </a:lnTo>
                  <a:lnTo>
                    <a:pt x="5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 name=""/>
            <p:cNvSpPr/>
            <p:nvPr/>
          </p:nvSpPr>
          <p:spPr>
            <a:xfrm>
              <a:off x="7283520" y="1401840"/>
              <a:ext cx="119520" cy="162360"/>
            </a:xfrm>
            <a:custGeom>
              <a:avLst/>
              <a:gdLst/>
              <a:ahLst/>
              <a:rect l="0" t="0" r="r" b="b"/>
              <a:pathLst>
                <a:path w="332" h="451">
                  <a:moveTo>
                    <a:pt x="0" y="398"/>
                  </a:moveTo>
                  <a:lnTo>
                    <a:pt x="106" y="283"/>
                  </a:lnTo>
                  <a:lnTo>
                    <a:pt x="128" y="168"/>
                  </a:lnTo>
                  <a:lnTo>
                    <a:pt x="253" y="0"/>
                  </a:lnTo>
                  <a:lnTo>
                    <a:pt x="284" y="115"/>
                  </a:lnTo>
                  <a:lnTo>
                    <a:pt x="266" y="412"/>
                  </a:lnTo>
                  <a:lnTo>
                    <a:pt x="332" y="451"/>
                  </a:lnTo>
                  <a:lnTo>
                    <a:pt x="239" y="416"/>
                  </a:lnTo>
                  <a:lnTo>
                    <a:pt x="186" y="252"/>
                  </a:lnTo>
                  <a:lnTo>
                    <a:pt x="106" y="331"/>
                  </a:lnTo>
                  <a:lnTo>
                    <a:pt x="0" y="39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 name=""/>
            <p:cNvSpPr/>
            <p:nvPr/>
          </p:nvSpPr>
          <p:spPr>
            <a:xfrm>
              <a:off x="7431120" y="1409760"/>
              <a:ext cx="78120" cy="146520"/>
            </a:xfrm>
            <a:custGeom>
              <a:avLst/>
              <a:gdLst/>
              <a:ahLst/>
              <a:rect l="0" t="0" r="r" b="b"/>
              <a:pathLst>
                <a:path w="217" h="407">
                  <a:moveTo>
                    <a:pt x="0" y="306"/>
                  </a:moveTo>
                  <a:lnTo>
                    <a:pt x="8" y="155"/>
                  </a:lnTo>
                  <a:lnTo>
                    <a:pt x="52" y="66"/>
                  </a:lnTo>
                  <a:lnTo>
                    <a:pt x="105" y="390"/>
                  </a:lnTo>
                  <a:lnTo>
                    <a:pt x="168" y="390"/>
                  </a:lnTo>
                  <a:lnTo>
                    <a:pt x="199" y="44"/>
                  </a:lnTo>
                  <a:lnTo>
                    <a:pt x="217" y="0"/>
                  </a:lnTo>
                  <a:lnTo>
                    <a:pt x="199" y="265"/>
                  </a:lnTo>
                  <a:lnTo>
                    <a:pt x="168" y="407"/>
                  </a:lnTo>
                  <a:lnTo>
                    <a:pt x="83" y="407"/>
                  </a:lnTo>
                  <a:lnTo>
                    <a:pt x="52" y="128"/>
                  </a:lnTo>
                  <a:lnTo>
                    <a:pt x="26" y="164"/>
                  </a:lnTo>
                  <a:lnTo>
                    <a:pt x="0" y="3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4" name=""/>
            <p:cNvSpPr/>
            <p:nvPr/>
          </p:nvSpPr>
          <p:spPr>
            <a:xfrm>
              <a:off x="8429760" y="831960"/>
              <a:ext cx="190800" cy="392400"/>
            </a:xfrm>
            <a:custGeom>
              <a:avLst/>
              <a:gdLst/>
              <a:ahLst/>
              <a:rect l="0" t="0" r="r" b="b"/>
              <a:pathLst>
                <a:path w="530" h="1090">
                  <a:moveTo>
                    <a:pt x="136" y="591"/>
                  </a:moveTo>
                  <a:lnTo>
                    <a:pt x="180" y="423"/>
                  </a:lnTo>
                  <a:lnTo>
                    <a:pt x="358" y="374"/>
                  </a:lnTo>
                  <a:lnTo>
                    <a:pt x="530" y="0"/>
                  </a:lnTo>
                  <a:lnTo>
                    <a:pt x="530" y="110"/>
                  </a:lnTo>
                  <a:lnTo>
                    <a:pt x="384" y="396"/>
                  </a:lnTo>
                  <a:lnTo>
                    <a:pt x="194" y="454"/>
                  </a:lnTo>
                  <a:lnTo>
                    <a:pt x="167" y="591"/>
                  </a:lnTo>
                  <a:lnTo>
                    <a:pt x="238" y="591"/>
                  </a:lnTo>
                  <a:lnTo>
                    <a:pt x="70" y="653"/>
                  </a:lnTo>
                  <a:lnTo>
                    <a:pt x="30" y="768"/>
                  </a:lnTo>
                  <a:lnTo>
                    <a:pt x="39" y="918"/>
                  </a:lnTo>
                  <a:lnTo>
                    <a:pt x="216" y="1090"/>
                  </a:lnTo>
                  <a:lnTo>
                    <a:pt x="30" y="940"/>
                  </a:lnTo>
                  <a:lnTo>
                    <a:pt x="0" y="816"/>
                  </a:lnTo>
                  <a:lnTo>
                    <a:pt x="13" y="688"/>
                  </a:lnTo>
                  <a:lnTo>
                    <a:pt x="79" y="596"/>
                  </a:lnTo>
                  <a:lnTo>
                    <a:pt x="136" y="59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5" name=""/>
            <p:cNvSpPr/>
            <p:nvPr/>
          </p:nvSpPr>
          <p:spPr>
            <a:xfrm>
              <a:off x="8558280" y="831960"/>
              <a:ext cx="317880" cy="379800"/>
            </a:xfrm>
            <a:custGeom>
              <a:avLst/>
              <a:gdLst/>
              <a:ahLst/>
              <a:rect l="0" t="0" r="r" b="b"/>
              <a:pathLst>
                <a:path w="883" h="1055">
                  <a:moveTo>
                    <a:pt x="243" y="0"/>
                  </a:moveTo>
                  <a:lnTo>
                    <a:pt x="296" y="30"/>
                  </a:lnTo>
                  <a:lnTo>
                    <a:pt x="314" y="123"/>
                  </a:lnTo>
                  <a:lnTo>
                    <a:pt x="314" y="207"/>
                  </a:lnTo>
                  <a:lnTo>
                    <a:pt x="216" y="358"/>
                  </a:lnTo>
                  <a:lnTo>
                    <a:pt x="234" y="472"/>
                  </a:lnTo>
                  <a:lnTo>
                    <a:pt x="530" y="596"/>
                  </a:lnTo>
                  <a:lnTo>
                    <a:pt x="879" y="928"/>
                  </a:lnTo>
                  <a:lnTo>
                    <a:pt x="883" y="1016"/>
                  </a:lnTo>
                  <a:lnTo>
                    <a:pt x="866" y="1055"/>
                  </a:lnTo>
                  <a:lnTo>
                    <a:pt x="738" y="1055"/>
                  </a:lnTo>
                  <a:lnTo>
                    <a:pt x="622" y="994"/>
                  </a:lnTo>
                  <a:lnTo>
                    <a:pt x="521" y="883"/>
                  </a:lnTo>
                  <a:lnTo>
                    <a:pt x="472" y="817"/>
                  </a:lnTo>
                  <a:lnTo>
                    <a:pt x="406" y="808"/>
                  </a:lnTo>
                  <a:lnTo>
                    <a:pt x="486" y="808"/>
                  </a:lnTo>
                  <a:lnTo>
                    <a:pt x="631" y="985"/>
                  </a:lnTo>
                  <a:lnTo>
                    <a:pt x="813" y="1033"/>
                  </a:lnTo>
                  <a:lnTo>
                    <a:pt x="853" y="985"/>
                  </a:lnTo>
                  <a:lnTo>
                    <a:pt x="835" y="905"/>
                  </a:lnTo>
                  <a:lnTo>
                    <a:pt x="512" y="662"/>
                  </a:lnTo>
                  <a:lnTo>
                    <a:pt x="468" y="596"/>
                  </a:lnTo>
                  <a:lnTo>
                    <a:pt x="216" y="534"/>
                  </a:lnTo>
                  <a:lnTo>
                    <a:pt x="171" y="596"/>
                  </a:lnTo>
                  <a:lnTo>
                    <a:pt x="0" y="688"/>
                  </a:lnTo>
                  <a:lnTo>
                    <a:pt x="163" y="578"/>
                  </a:lnTo>
                  <a:lnTo>
                    <a:pt x="171" y="508"/>
                  </a:lnTo>
                  <a:lnTo>
                    <a:pt x="171" y="336"/>
                  </a:lnTo>
                  <a:lnTo>
                    <a:pt x="283" y="207"/>
                  </a:lnTo>
                  <a:lnTo>
                    <a:pt x="283" y="44"/>
                  </a:lnTo>
                  <a:lnTo>
                    <a:pt x="24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8499600" y="1131840"/>
              <a:ext cx="271800" cy="224280"/>
            </a:xfrm>
            <a:custGeom>
              <a:avLst/>
              <a:gdLst/>
              <a:ahLst/>
              <a:rect l="0" t="0" r="r" b="b"/>
              <a:pathLst>
                <a:path w="755" h="623">
                  <a:moveTo>
                    <a:pt x="565" y="0"/>
                  </a:moveTo>
                  <a:lnTo>
                    <a:pt x="547" y="52"/>
                  </a:lnTo>
                  <a:lnTo>
                    <a:pt x="662" y="261"/>
                  </a:lnTo>
                  <a:lnTo>
                    <a:pt x="715" y="473"/>
                  </a:lnTo>
                  <a:lnTo>
                    <a:pt x="649" y="473"/>
                  </a:lnTo>
                  <a:lnTo>
                    <a:pt x="534" y="375"/>
                  </a:lnTo>
                  <a:lnTo>
                    <a:pt x="433" y="186"/>
                  </a:lnTo>
                  <a:lnTo>
                    <a:pt x="357" y="149"/>
                  </a:lnTo>
                  <a:lnTo>
                    <a:pt x="370" y="261"/>
                  </a:lnTo>
                  <a:lnTo>
                    <a:pt x="441" y="336"/>
                  </a:lnTo>
                  <a:lnTo>
                    <a:pt x="441" y="487"/>
                  </a:lnTo>
                  <a:lnTo>
                    <a:pt x="384" y="597"/>
                  </a:lnTo>
                  <a:lnTo>
                    <a:pt x="317" y="553"/>
                  </a:lnTo>
                  <a:lnTo>
                    <a:pt x="229" y="375"/>
                  </a:lnTo>
                  <a:lnTo>
                    <a:pt x="211" y="261"/>
                  </a:lnTo>
                  <a:lnTo>
                    <a:pt x="163" y="221"/>
                  </a:lnTo>
                  <a:lnTo>
                    <a:pt x="149" y="531"/>
                  </a:lnTo>
                  <a:lnTo>
                    <a:pt x="79" y="570"/>
                  </a:lnTo>
                  <a:lnTo>
                    <a:pt x="22" y="531"/>
                  </a:lnTo>
                  <a:lnTo>
                    <a:pt x="8" y="269"/>
                  </a:lnTo>
                  <a:lnTo>
                    <a:pt x="0" y="526"/>
                  </a:lnTo>
                  <a:lnTo>
                    <a:pt x="52" y="614"/>
                  </a:lnTo>
                  <a:lnTo>
                    <a:pt x="149" y="614"/>
                  </a:lnTo>
                  <a:lnTo>
                    <a:pt x="185" y="544"/>
                  </a:lnTo>
                  <a:lnTo>
                    <a:pt x="202" y="305"/>
                  </a:lnTo>
                  <a:lnTo>
                    <a:pt x="220" y="402"/>
                  </a:lnTo>
                  <a:lnTo>
                    <a:pt x="304" y="601"/>
                  </a:lnTo>
                  <a:lnTo>
                    <a:pt x="397" y="623"/>
                  </a:lnTo>
                  <a:lnTo>
                    <a:pt x="468" y="544"/>
                  </a:lnTo>
                  <a:lnTo>
                    <a:pt x="468" y="344"/>
                  </a:lnTo>
                  <a:lnTo>
                    <a:pt x="649" y="509"/>
                  </a:lnTo>
                  <a:lnTo>
                    <a:pt x="746" y="509"/>
                  </a:lnTo>
                  <a:lnTo>
                    <a:pt x="755" y="402"/>
                  </a:lnTo>
                  <a:lnTo>
                    <a:pt x="684" y="203"/>
                  </a:lnTo>
                  <a:lnTo>
                    <a:pt x="565" y="44"/>
                  </a:lnTo>
                  <a:lnTo>
                    <a:pt x="56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 name=""/>
            <p:cNvSpPr/>
            <p:nvPr/>
          </p:nvSpPr>
          <p:spPr>
            <a:xfrm>
              <a:off x="7407360" y="896760"/>
              <a:ext cx="1203840" cy="919440"/>
            </a:xfrm>
            <a:custGeom>
              <a:avLst/>
              <a:gdLst/>
              <a:ahLst/>
              <a:rect l="0" t="0" r="r" b="b"/>
              <a:pathLst>
                <a:path w="3344" h="2554">
                  <a:moveTo>
                    <a:pt x="1204" y="216"/>
                  </a:moveTo>
                  <a:lnTo>
                    <a:pt x="1143" y="224"/>
                  </a:lnTo>
                  <a:lnTo>
                    <a:pt x="1050" y="348"/>
                  </a:lnTo>
                  <a:lnTo>
                    <a:pt x="1015" y="255"/>
                  </a:lnTo>
                  <a:lnTo>
                    <a:pt x="909" y="202"/>
                  </a:lnTo>
                  <a:lnTo>
                    <a:pt x="824" y="246"/>
                  </a:lnTo>
                  <a:lnTo>
                    <a:pt x="798" y="410"/>
                  </a:lnTo>
                  <a:lnTo>
                    <a:pt x="498" y="612"/>
                  </a:lnTo>
                  <a:lnTo>
                    <a:pt x="511" y="705"/>
                  </a:lnTo>
                  <a:lnTo>
                    <a:pt x="440" y="776"/>
                  </a:lnTo>
                  <a:lnTo>
                    <a:pt x="440" y="846"/>
                  </a:lnTo>
                  <a:lnTo>
                    <a:pt x="524" y="1040"/>
                  </a:lnTo>
                  <a:lnTo>
                    <a:pt x="533" y="1274"/>
                  </a:lnTo>
                  <a:lnTo>
                    <a:pt x="480" y="1495"/>
                  </a:lnTo>
                  <a:lnTo>
                    <a:pt x="264" y="1632"/>
                  </a:lnTo>
                  <a:lnTo>
                    <a:pt x="233" y="1817"/>
                  </a:lnTo>
                  <a:lnTo>
                    <a:pt x="167" y="1817"/>
                  </a:lnTo>
                  <a:lnTo>
                    <a:pt x="136" y="1663"/>
                  </a:lnTo>
                  <a:lnTo>
                    <a:pt x="70" y="1663"/>
                  </a:lnTo>
                  <a:lnTo>
                    <a:pt x="39" y="1822"/>
                  </a:lnTo>
                  <a:lnTo>
                    <a:pt x="0" y="1866"/>
                  </a:lnTo>
                  <a:lnTo>
                    <a:pt x="149" y="2086"/>
                  </a:lnTo>
                  <a:lnTo>
                    <a:pt x="251" y="2095"/>
                  </a:lnTo>
                  <a:lnTo>
                    <a:pt x="440" y="2258"/>
                  </a:lnTo>
                  <a:lnTo>
                    <a:pt x="612" y="2280"/>
                  </a:lnTo>
                  <a:lnTo>
                    <a:pt x="709" y="2188"/>
                  </a:lnTo>
                  <a:lnTo>
                    <a:pt x="944" y="1879"/>
                  </a:lnTo>
                  <a:lnTo>
                    <a:pt x="957" y="2302"/>
                  </a:lnTo>
                  <a:lnTo>
                    <a:pt x="944" y="2554"/>
                  </a:lnTo>
                  <a:lnTo>
                    <a:pt x="2872" y="2554"/>
                  </a:lnTo>
                  <a:lnTo>
                    <a:pt x="2731" y="2280"/>
                  </a:lnTo>
                  <a:lnTo>
                    <a:pt x="2665" y="2042"/>
                  </a:lnTo>
                  <a:lnTo>
                    <a:pt x="2647" y="1694"/>
                  </a:lnTo>
                  <a:lnTo>
                    <a:pt x="2758" y="1769"/>
                  </a:lnTo>
                  <a:lnTo>
                    <a:pt x="2872" y="1769"/>
                  </a:lnTo>
                  <a:lnTo>
                    <a:pt x="3031" y="1676"/>
                  </a:lnTo>
                  <a:lnTo>
                    <a:pt x="3137" y="1663"/>
                  </a:lnTo>
                  <a:lnTo>
                    <a:pt x="3203" y="1570"/>
                  </a:lnTo>
                  <a:lnTo>
                    <a:pt x="3251" y="1328"/>
                  </a:lnTo>
                  <a:lnTo>
                    <a:pt x="3344" y="1230"/>
                  </a:lnTo>
                  <a:lnTo>
                    <a:pt x="3296" y="1159"/>
                  </a:lnTo>
                  <a:lnTo>
                    <a:pt x="3225" y="1159"/>
                  </a:lnTo>
                  <a:lnTo>
                    <a:pt x="3168" y="1203"/>
                  </a:lnTo>
                  <a:lnTo>
                    <a:pt x="3115" y="1221"/>
                  </a:lnTo>
                  <a:lnTo>
                    <a:pt x="3040" y="1159"/>
                  </a:lnTo>
                  <a:lnTo>
                    <a:pt x="2960" y="1150"/>
                  </a:lnTo>
                  <a:lnTo>
                    <a:pt x="2810" y="1058"/>
                  </a:lnTo>
                  <a:lnTo>
                    <a:pt x="2709" y="961"/>
                  </a:lnTo>
                  <a:lnTo>
                    <a:pt x="2691" y="846"/>
                  </a:lnTo>
                  <a:lnTo>
                    <a:pt x="2709" y="732"/>
                  </a:lnTo>
                  <a:lnTo>
                    <a:pt x="2775" y="639"/>
                  </a:lnTo>
                  <a:lnTo>
                    <a:pt x="2855" y="560"/>
                  </a:lnTo>
                  <a:lnTo>
                    <a:pt x="2850" y="405"/>
                  </a:lnTo>
                  <a:lnTo>
                    <a:pt x="2850" y="304"/>
                  </a:lnTo>
                  <a:lnTo>
                    <a:pt x="2810" y="224"/>
                  </a:lnTo>
                  <a:lnTo>
                    <a:pt x="2691" y="194"/>
                  </a:lnTo>
                  <a:lnTo>
                    <a:pt x="2656" y="171"/>
                  </a:lnTo>
                  <a:lnTo>
                    <a:pt x="2577" y="48"/>
                  </a:lnTo>
                  <a:lnTo>
                    <a:pt x="2511" y="8"/>
                  </a:lnTo>
                  <a:lnTo>
                    <a:pt x="2439" y="0"/>
                  </a:lnTo>
                  <a:lnTo>
                    <a:pt x="2382" y="22"/>
                  </a:lnTo>
                  <a:lnTo>
                    <a:pt x="2333" y="88"/>
                  </a:lnTo>
                  <a:lnTo>
                    <a:pt x="2258" y="132"/>
                  </a:lnTo>
                  <a:lnTo>
                    <a:pt x="2174" y="141"/>
                  </a:lnTo>
                  <a:lnTo>
                    <a:pt x="2086" y="141"/>
                  </a:lnTo>
                  <a:lnTo>
                    <a:pt x="2104" y="268"/>
                  </a:lnTo>
                  <a:lnTo>
                    <a:pt x="2104" y="423"/>
                  </a:lnTo>
                  <a:lnTo>
                    <a:pt x="2086" y="529"/>
                  </a:lnTo>
                  <a:lnTo>
                    <a:pt x="2003" y="657"/>
                  </a:lnTo>
                  <a:lnTo>
                    <a:pt x="1897" y="851"/>
                  </a:lnTo>
                  <a:lnTo>
                    <a:pt x="1817" y="1084"/>
                  </a:lnTo>
                  <a:lnTo>
                    <a:pt x="1808" y="1221"/>
                  </a:lnTo>
                  <a:lnTo>
                    <a:pt x="1769" y="1337"/>
                  </a:lnTo>
                  <a:lnTo>
                    <a:pt x="1716" y="1456"/>
                  </a:lnTo>
                  <a:lnTo>
                    <a:pt x="1694" y="1641"/>
                  </a:lnTo>
                  <a:lnTo>
                    <a:pt x="1707" y="1791"/>
                  </a:lnTo>
                  <a:lnTo>
                    <a:pt x="1769" y="1972"/>
                  </a:lnTo>
                  <a:lnTo>
                    <a:pt x="1808" y="2042"/>
                  </a:lnTo>
                  <a:lnTo>
                    <a:pt x="1694" y="2108"/>
                  </a:lnTo>
                  <a:lnTo>
                    <a:pt x="1557" y="2152"/>
                  </a:lnTo>
                  <a:lnTo>
                    <a:pt x="1412" y="2161"/>
                  </a:lnTo>
                  <a:lnTo>
                    <a:pt x="1319" y="2161"/>
                  </a:lnTo>
                  <a:lnTo>
                    <a:pt x="1257" y="2139"/>
                  </a:lnTo>
                  <a:lnTo>
                    <a:pt x="1257" y="1985"/>
                  </a:lnTo>
                  <a:lnTo>
                    <a:pt x="1257" y="1760"/>
                  </a:lnTo>
                  <a:lnTo>
                    <a:pt x="1226" y="1535"/>
                  </a:lnTo>
                  <a:lnTo>
                    <a:pt x="1165" y="1337"/>
                  </a:lnTo>
                  <a:lnTo>
                    <a:pt x="1134" y="1177"/>
                  </a:lnTo>
                  <a:lnTo>
                    <a:pt x="1125" y="948"/>
                  </a:lnTo>
                  <a:lnTo>
                    <a:pt x="1165" y="758"/>
                  </a:lnTo>
                  <a:lnTo>
                    <a:pt x="1226" y="595"/>
                  </a:lnTo>
                  <a:lnTo>
                    <a:pt x="1231" y="502"/>
                  </a:lnTo>
                  <a:lnTo>
                    <a:pt x="1204" y="370"/>
                  </a:lnTo>
                  <a:lnTo>
                    <a:pt x="1204" y="255"/>
                  </a:lnTo>
                  <a:lnTo>
                    <a:pt x="1226" y="224"/>
                  </a:lnTo>
                  <a:lnTo>
                    <a:pt x="1204" y="2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 name=""/>
            <p:cNvSpPr/>
            <p:nvPr/>
          </p:nvSpPr>
          <p:spPr>
            <a:xfrm>
              <a:off x="7875720" y="1081080"/>
              <a:ext cx="152640" cy="597240"/>
            </a:xfrm>
            <a:custGeom>
              <a:avLst/>
              <a:gdLst/>
              <a:ahLst/>
              <a:rect l="0" t="0" r="r" b="b"/>
              <a:pathLst>
                <a:path w="424" h="1659">
                  <a:moveTo>
                    <a:pt x="171" y="17"/>
                  </a:moveTo>
                  <a:lnTo>
                    <a:pt x="57" y="74"/>
                  </a:lnTo>
                  <a:lnTo>
                    <a:pt x="70" y="229"/>
                  </a:lnTo>
                  <a:lnTo>
                    <a:pt x="149" y="277"/>
                  </a:lnTo>
                  <a:lnTo>
                    <a:pt x="52" y="454"/>
                  </a:lnTo>
                  <a:lnTo>
                    <a:pt x="0" y="648"/>
                  </a:lnTo>
                  <a:lnTo>
                    <a:pt x="0" y="829"/>
                  </a:lnTo>
                  <a:lnTo>
                    <a:pt x="52" y="993"/>
                  </a:lnTo>
                  <a:lnTo>
                    <a:pt x="88" y="1196"/>
                  </a:lnTo>
                  <a:lnTo>
                    <a:pt x="88" y="1315"/>
                  </a:lnTo>
                  <a:lnTo>
                    <a:pt x="52" y="1460"/>
                  </a:lnTo>
                  <a:lnTo>
                    <a:pt x="217" y="1659"/>
                  </a:lnTo>
                  <a:lnTo>
                    <a:pt x="292" y="1623"/>
                  </a:lnTo>
                  <a:lnTo>
                    <a:pt x="340" y="1487"/>
                  </a:lnTo>
                  <a:lnTo>
                    <a:pt x="419" y="1306"/>
                  </a:lnTo>
                  <a:lnTo>
                    <a:pt x="424" y="1204"/>
                  </a:lnTo>
                  <a:lnTo>
                    <a:pt x="358" y="1024"/>
                  </a:lnTo>
                  <a:lnTo>
                    <a:pt x="278" y="852"/>
                  </a:lnTo>
                  <a:lnTo>
                    <a:pt x="247" y="723"/>
                  </a:lnTo>
                  <a:lnTo>
                    <a:pt x="247" y="599"/>
                  </a:lnTo>
                  <a:lnTo>
                    <a:pt x="278" y="493"/>
                  </a:lnTo>
                  <a:lnTo>
                    <a:pt x="340" y="361"/>
                  </a:lnTo>
                  <a:lnTo>
                    <a:pt x="340" y="313"/>
                  </a:lnTo>
                  <a:lnTo>
                    <a:pt x="309" y="255"/>
                  </a:lnTo>
                  <a:lnTo>
                    <a:pt x="389" y="189"/>
                  </a:lnTo>
                  <a:lnTo>
                    <a:pt x="389" y="127"/>
                  </a:lnTo>
                  <a:lnTo>
                    <a:pt x="278" y="0"/>
                  </a:lnTo>
                  <a:lnTo>
                    <a:pt x="367" y="127"/>
                  </a:lnTo>
                  <a:lnTo>
                    <a:pt x="367" y="180"/>
                  </a:lnTo>
                  <a:lnTo>
                    <a:pt x="287" y="229"/>
                  </a:lnTo>
                  <a:lnTo>
                    <a:pt x="318" y="313"/>
                  </a:lnTo>
                  <a:lnTo>
                    <a:pt x="309" y="361"/>
                  </a:lnTo>
                  <a:lnTo>
                    <a:pt x="225" y="515"/>
                  </a:lnTo>
                  <a:lnTo>
                    <a:pt x="217" y="665"/>
                  </a:lnTo>
                  <a:lnTo>
                    <a:pt x="239" y="802"/>
                  </a:lnTo>
                  <a:lnTo>
                    <a:pt x="292" y="1006"/>
                  </a:lnTo>
                  <a:lnTo>
                    <a:pt x="358" y="1160"/>
                  </a:lnTo>
                  <a:lnTo>
                    <a:pt x="358" y="1293"/>
                  </a:lnTo>
                  <a:lnTo>
                    <a:pt x="318" y="1460"/>
                  </a:lnTo>
                  <a:lnTo>
                    <a:pt x="239" y="1623"/>
                  </a:lnTo>
                  <a:lnTo>
                    <a:pt x="141" y="1531"/>
                  </a:lnTo>
                  <a:lnTo>
                    <a:pt x="97" y="1460"/>
                  </a:lnTo>
                  <a:lnTo>
                    <a:pt x="110" y="1293"/>
                  </a:lnTo>
                  <a:lnTo>
                    <a:pt x="97" y="1134"/>
                  </a:lnTo>
                  <a:lnTo>
                    <a:pt x="52" y="913"/>
                  </a:lnTo>
                  <a:lnTo>
                    <a:pt x="30" y="758"/>
                  </a:lnTo>
                  <a:lnTo>
                    <a:pt x="52" y="590"/>
                  </a:lnTo>
                  <a:lnTo>
                    <a:pt x="88" y="427"/>
                  </a:lnTo>
                  <a:lnTo>
                    <a:pt x="180" y="264"/>
                  </a:lnTo>
                  <a:lnTo>
                    <a:pt x="97" y="198"/>
                  </a:lnTo>
                  <a:lnTo>
                    <a:pt x="88" y="79"/>
                  </a:lnTo>
                  <a:lnTo>
                    <a:pt x="171"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9" name=""/>
            <p:cNvSpPr/>
            <p:nvPr/>
          </p:nvSpPr>
          <p:spPr>
            <a:xfrm>
              <a:off x="8308800" y="384120"/>
              <a:ext cx="240120" cy="289440"/>
            </a:xfrm>
            <a:custGeom>
              <a:avLst/>
              <a:gdLst/>
              <a:ahLst/>
              <a:rect l="0" t="0" r="r" b="b"/>
              <a:pathLst>
                <a:path w="667" h="804">
                  <a:moveTo>
                    <a:pt x="110" y="203"/>
                  </a:moveTo>
                  <a:lnTo>
                    <a:pt x="208" y="189"/>
                  </a:lnTo>
                  <a:lnTo>
                    <a:pt x="305" y="194"/>
                  </a:lnTo>
                  <a:lnTo>
                    <a:pt x="384" y="225"/>
                  </a:lnTo>
                  <a:lnTo>
                    <a:pt x="428" y="274"/>
                  </a:lnTo>
                  <a:lnTo>
                    <a:pt x="446" y="314"/>
                  </a:lnTo>
                  <a:lnTo>
                    <a:pt x="446" y="353"/>
                  </a:lnTo>
                  <a:lnTo>
                    <a:pt x="424" y="380"/>
                  </a:lnTo>
                  <a:lnTo>
                    <a:pt x="380" y="402"/>
                  </a:lnTo>
                  <a:lnTo>
                    <a:pt x="331" y="402"/>
                  </a:lnTo>
                  <a:lnTo>
                    <a:pt x="269" y="393"/>
                  </a:lnTo>
                  <a:lnTo>
                    <a:pt x="208" y="358"/>
                  </a:lnTo>
                  <a:lnTo>
                    <a:pt x="168" y="327"/>
                  </a:lnTo>
                  <a:lnTo>
                    <a:pt x="149" y="428"/>
                  </a:lnTo>
                  <a:lnTo>
                    <a:pt x="110" y="499"/>
                  </a:lnTo>
                  <a:lnTo>
                    <a:pt x="0" y="672"/>
                  </a:lnTo>
                  <a:lnTo>
                    <a:pt x="163" y="804"/>
                  </a:lnTo>
                  <a:lnTo>
                    <a:pt x="287" y="587"/>
                  </a:lnTo>
                  <a:lnTo>
                    <a:pt x="424" y="606"/>
                  </a:lnTo>
                  <a:lnTo>
                    <a:pt x="509" y="587"/>
                  </a:lnTo>
                  <a:lnTo>
                    <a:pt x="592" y="538"/>
                  </a:lnTo>
                  <a:lnTo>
                    <a:pt x="641" y="477"/>
                  </a:lnTo>
                  <a:lnTo>
                    <a:pt x="667" y="397"/>
                  </a:lnTo>
                  <a:lnTo>
                    <a:pt x="667" y="309"/>
                  </a:lnTo>
                  <a:lnTo>
                    <a:pt x="641" y="217"/>
                  </a:lnTo>
                  <a:lnTo>
                    <a:pt x="592" y="123"/>
                  </a:lnTo>
                  <a:lnTo>
                    <a:pt x="517" y="57"/>
                  </a:lnTo>
                  <a:lnTo>
                    <a:pt x="437" y="17"/>
                  </a:lnTo>
                  <a:lnTo>
                    <a:pt x="340" y="0"/>
                  </a:lnTo>
                  <a:lnTo>
                    <a:pt x="221" y="0"/>
                  </a:lnTo>
                  <a:lnTo>
                    <a:pt x="88" y="22"/>
                  </a:lnTo>
                  <a:lnTo>
                    <a:pt x="110" y="20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8267760" y="666720"/>
              <a:ext cx="86040" cy="57600"/>
            </a:xfrm>
            <a:custGeom>
              <a:avLst/>
              <a:gdLst/>
              <a:ahLst/>
              <a:rect l="0" t="0" r="r" b="b"/>
              <a:pathLst>
                <a:path w="239" h="160">
                  <a:moveTo>
                    <a:pt x="92" y="0"/>
                  </a:moveTo>
                  <a:lnTo>
                    <a:pt x="35" y="0"/>
                  </a:lnTo>
                  <a:lnTo>
                    <a:pt x="0" y="22"/>
                  </a:lnTo>
                  <a:lnTo>
                    <a:pt x="0" y="80"/>
                  </a:lnTo>
                  <a:lnTo>
                    <a:pt x="52" y="134"/>
                  </a:lnTo>
                  <a:lnTo>
                    <a:pt x="146" y="160"/>
                  </a:lnTo>
                  <a:lnTo>
                    <a:pt x="217" y="156"/>
                  </a:lnTo>
                  <a:lnTo>
                    <a:pt x="239" y="121"/>
                  </a:lnTo>
                  <a:lnTo>
                    <a:pt x="225" y="89"/>
                  </a:lnTo>
                  <a:lnTo>
                    <a:pt x="190" y="39"/>
                  </a:lnTo>
                  <a:lnTo>
                    <a:pt x="137" y="8"/>
                  </a:lnTo>
                  <a:lnTo>
                    <a:pt x="92" y="0"/>
                  </a:lnTo>
                  <a:close/>
                </a:path>
              </a:pathLst>
            </a:custGeom>
            <a:solidFill>
              <a:srgbClr val="fc0128"/>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91" name=""/>
          <p:cNvSpPr txBox="1"/>
          <p:nvPr/>
        </p:nvSpPr>
        <p:spPr>
          <a:xfrm>
            <a:off x="838080" y="609480"/>
            <a:ext cx="8001000" cy="1752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ative Characteristics of Accounting Information</a:t>
            </a:r>
            <a:endParaRPr b="0" lang="en-US" sz="4400" spc="-1" strike="noStrike">
              <a:solidFill>
                <a:srgbClr val="ffffff"/>
              </a:solidFill>
              <a:latin typeface="Arial"/>
            </a:endParaRPr>
          </a:p>
        </p:txBody>
      </p:sp>
      <p:sp>
        <p:nvSpPr>
          <p:cNvPr id="92" name=""/>
          <p:cNvSpPr txBox="1"/>
          <p:nvPr/>
        </p:nvSpPr>
        <p:spPr>
          <a:xfrm>
            <a:off x="1382760" y="2479680"/>
            <a:ext cx="7162920" cy="281952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OBJECTIVE 2</a:t>
            </a:r>
            <a:endParaRPr b="0" lang="en-US" sz="36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State the qualitative characteristics</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of accounting information and </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describe their interrelationships.</a:t>
            </a:r>
            <a:endParaRPr b="0" lang="en-US" sz="3200" spc="-1" strike="noStrike">
              <a:solidFill>
                <a:srgbClr val="ffffff"/>
              </a:solidFill>
              <a:latin typeface="Arial"/>
            </a:endParaRPr>
          </a:p>
        </p:txBody>
      </p:sp>
      <p:pic>
        <p:nvPicPr>
          <p:cNvPr id="93"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94" name=""/>
          <p:cNvSpPr txBox="1"/>
          <p:nvPr/>
        </p:nvSpPr>
        <p:spPr>
          <a:xfrm>
            <a:off x="527040" y="85680"/>
            <a:ext cx="8572680" cy="106380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Qualitative Characteristics and the Conventions of Accounting Information</a:t>
            </a:r>
            <a:endParaRPr b="0" lang="en-US" sz="3200" spc="-1" strike="noStrike">
              <a:solidFill>
                <a:srgbClr val="ffffff"/>
              </a:solidFill>
              <a:latin typeface="Arial"/>
            </a:endParaRPr>
          </a:p>
        </p:txBody>
      </p:sp>
      <p:grpSp>
        <p:nvGrpSpPr>
          <p:cNvPr id="95" name=""/>
          <p:cNvGrpSpPr/>
          <p:nvPr/>
        </p:nvGrpSpPr>
        <p:grpSpPr>
          <a:xfrm>
            <a:off x="747720" y="1125360"/>
            <a:ext cx="8188200" cy="5192640"/>
            <a:chOff x="747720" y="1125360"/>
            <a:chExt cx="8188200" cy="5192640"/>
          </a:xfrm>
        </p:grpSpPr>
        <p:sp>
          <p:nvSpPr>
            <p:cNvPr id="96" name=""/>
            <p:cNvSpPr/>
            <p:nvPr/>
          </p:nvSpPr>
          <p:spPr>
            <a:xfrm>
              <a:off x="747720" y="1125360"/>
              <a:ext cx="8188200" cy="51926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flipV="1">
              <a:off x="5375160" y="4087800"/>
              <a:ext cx="0" cy="1467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flipV="1">
              <a:off x="7870680" y="2435400"/>
              <a:ext cx="0" cy="2728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a:off x="7815240" y="2279520"/>
              <a:ext cx="108360" cy="178200"/>
            </a:xfrm>
            <a:custGeom>
              <a:avLst/>
              <a:gdLst/>
              <a:ahLst/>
              <a:rect l="0" t="0" r="r" b="b"/>
              <a:pathLst>
                <a:path w="301" h="495">
                  <a:moveTo>
                    <a:pt x="155" y="442"/>
                  </a:moveTo>
                  <a:lnTo>
                    <a:pt x="172" y="442"/>
                  </a:lnTo>
                  <a:lnTo>
                    <a:pt x="195" y="442"/>
                  </a:lnTo>
                  <a:lnTo>
                    <a:pt x="212" y="451"/>
                  </a:lnTo>
                  <a:lnTo>
                    <a:pt x="231" y="451"/>
                  </a:lnTo>
                  <a:lnTo>
                    <a:pt x="244" y="456"/>
                  </a:lnTo>
                  <a:lnTo>
                    <a:pt x="257" y="456"/>
                  </a:lnTo>
                  <a:lnTo>
                    <a:pt x="270" y="465"/>
                  </a:lnTo>
                  <a:lnTo>
                    <a:pt x="275" y="469"/>
                  </a:lnTo>
                  <a:lnTo>
                    <a:pt x="279" y="478"/>
                  </a:lnTo>
                  <a:lnTo>
                    <a:pt x="288" y="478"/>
                  </a:lnTo>
                  <a:lnTo>
                    <a:pt x="288" y="482"/>
                  </a:lnTo>
                  <a:lnTo>
                    <a:pt x="293" y="482"/>
                  </a:lnTo>
                  <a:lnTo>
                    <a:pt x="293" y="491"/>
                  </a:lnTo>
                  <a:lnTo>
                    <a:pt x="293" y="495"/>
                  </a:lnTo>
                  <a:lnTo>
                    <a:pt x="301" y="495"/>
                  </a:lnTo>
                  <a:lnTo>
                    <a:pt x="155" y="0"/>
                  </a:lnTo>
                  <a:lnTo>
                    <a:pt x="0" y="495"/>
                  </a:lnTo>
                  <a:lnTo>
                    <a:pt x="8" y="491"/>
                  </a:lnTo>
                  <a:lnTo>
                    <a:pt x="8" y="482"/>
                  </a:lnTo>
                  <a:lnTo>
                    <a:pt x="13" y="482"/>
                  </a:lnTo>
                  <a:lnTo>
                    <a:pt x="13" y="478"/>
                  </a:lnTo>
                  <a:lnTo>
                    <a:pt x="22" y="478"/>
                  </a:lnTo>
                  <a:lnTo>
                    <a:pt x="26" y="469"/>
                  </a:lnTo>
                  <a:lnTo>
                    <a:pt x="39" y="465"/>
                  </a:lnTo>
                  <a:lnTo>
                    <a:pt x="44" y="456"/>
                  </a:lnTo>
                  <a:lnTo>
                    <a:pt x="57" y="456"/>
                  </a:lnTo>
                  <a:lnTo>
                    <a:pt x="70" y="451"/>
                  </a:lnTo>
                  <a:lnTo>
                    <a:pt x="89" y="451"/>
                  </a:lnTo>
                  <a:lnTo>
                    <a:pt x="106" y="442"/>
                  </a:lnTo>
                  <a:lnTo>
                    <a:pt x="128" y="442"/>
                  </a:lnTo>
                  <a:lnTo>
                    <a:pt x="155" y="442"/>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p:nvPr/>
          </p:nvSpPr>
          <p:spPr>
            <a:xfrm flipV="1">
              <a:off x="3922560" y="2435400"/>
              <a:ext cx="0" cy="2617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a:off x="3868560" y="2279520"/>
              <a:ext cx="105120" cy="178200"/>
            </a:xfrm>
            <a:custGeom>
              <a:avLst/>
              <a:gdLst/>
              <a:ahLst/>
              <a:rect l="0" t="0" r="r" b="b"/>
              <a:pathLst>
                <a:path w="292" h="495">
                  <a:moveTo>
                    <a:pt x="145" y="442"/>
                  </a:moveTo>
                  <a:lnTo>
                    <a:pt x="168" y="442"/>
                  </a:lnTo>
                  <a:lnTo>
                    <a:pt x="190" y="442"/>
                  </a:lnTo>
                  <a:lnTo>
                    <a:pt x="208" y="451"/>
                  </a:lnTo>
                  <a:lnTo>
                    <a:pt x="230" y="451"/>
                  </a:lnTo>
                  <a:lnTo>
                    <a:pt x="239" y="456"/>
                  </a:lnTo>
                  <a:lnTo>
                    <a:pt x="252" y="456"/>
                  </a:lnTo>
                  <a:lnTo>
                    <a:pt x="261" y="465"/>
                  </a:lnTo>
                  <a:lnTo>
                    <a:pt x="274" y="469"/>
                  </a:lnTo>
                  <a:lnTo>
                    <a:pt x="274" y="478"/>
                  </a:lnTo>
                  <a:lnTo>
                    <a:pt x="278" y="478"/>
                  </a:lnTo>
                  <a:lnTo>
                    <a:pt x="283" y="482"/>
                  </a:lnTo>
                  <a:lnTo>
                    <a:pt x="292" y="482"/>
                  </a:lnTo>
                  <a:lnTo>
                    <a:pt x="292" y="491"/>
                  </a:lnTo>
                  <a:lnTo>
                    <a:pt x="292" y="495"/>
                  </a:lnTo>
                  <a:lnTo>
                    <a:pt x="145" y="0"/>
                  </a:lnTo>
                  <a:lnTo>
                    <a:pt x="0" y="495"/>
                  </a:lnTo>
                  <a:lnTo>
                    <a:pt x="0" y="491"/>
                  </a:lnTo>
                  <a:lnTo>
                    <a:pt x="0" y="482"/>
                  </a:lnTo>
                  <a:lnTo>
                    <a:pt x="8" y="482"/>
                  </a:lnTo>
                  <a:lnTo>
                    <a:pt x="13" y="478"/>
                  </a:lnTo>
                  <a:lnTo>
                    <a:pt x="17" y="478"/>
                  </a:lnTo>
                  <a:lnTo>
                    <a:pt x="22" y="469"/>
                  </a:lnTo>
                  <a:lnTo>
                    <a:pt x="30" y="465"/>
                  </a:lnTo>
                  <a:lnTo>
                    <a:pt x="44" y="456"/>
                  </a:lnTo>
                  <a:lnTo>
                    <a:pt x="48" y="456"/>
                  </a:lnTo>
                  <a:lnTo>
                    <a:pt x="70" y="451"/>
                  </a:lnTo>
                  <a:lnTo>
                    <a:pt x="83" y="451"/>
                  </a:lnTo>
                  <a:lnTo>
                    <a:pt x="101" y="442"/>
                  </a:lnTo>
                  <a:lnTo>
                    <a:pt x="127" y="442"/>
                  </a:lnTo>
                  <a:lnTo>
                    <a:pt x="145" y="442"/>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2" name=""/>
            <p:cNvGrpSpPr/>
            <p:nvPr/>
          </p:nvGrpSpPr>
          <p:grpSpPr>
            <a:xfrm>
              <a:off x="890640" y="1673280"/>
              <a:ext cx="7816680" cy="577800"/>
              <a:chOff x="890640" y="1673280"/>
              <a:chExt cx="7816680" cy="577800"/>
            </a:xfrm>
          </p:grpSpPr>
          <p:sp>
            <p:nvSpPr>
              <p:cNvPr id="103" name=""/>
              <p:cNvSpPr/>
              <p:nvPr/>
            </p:nvSpPr>
            <p:spPr>
              <a:xfrm>
                <a:off x="890640" y="1731960"/>
                <a:ext cx="7750080" cy="51912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958680" y="1673280"/>
                <a:ext cx="7748640" cy="517680"/>
              </a:xfrm>
              <a:prstGeom prst="rect">
                <a:avLst/>
              </a:prstGeom>
              <a:solidFill>
                <a:srgbClr val="9fff9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3693960" y="1798560"/>
                <a:ext cx="2073240" cy="244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FINANCIAL STATEMENTS</a:t>
                </a:r>
                <a:endParaRPr b="0" lang="en-US" sz="1600" spc="-1" strike="noStrike">
                  <a:solidFill>
                    <a:srgbClr val="ffffff"/>
                  </a:solidFill>
                  <a:latin typeface="Arial"/>
                </a:endParaRPr>
              </a:p>
            </p:txBody>
          </p:sp>
        </p:grpSp>
        <p:sp>
          <p:nvSpPr>
            <p:cNvPr id="106" name=""/>
            <p:cNvSpPr/>
            <p:nvPr/>
          </p:nvSpPr>
          <p:spPr>
            <a:xfrm>
              <a:off x="7007400" y="2782800"/>
              <a:ext cx="1633680" cy="288936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 name=""/>
            <p:cNvSpPr/>
            <p:nvPr/>
          </p:nvSpPr>
          <p:spPr>
            <a:xfrm>
              <a:off x="7075440" y="2724120"/>
              <a:ext cx="1631880" cy="2887560"/>
            </a:xfrm>
            <a:prstGeom prst="rect">
              <a:avLst/>
            </a:prstGeom>
            <a:solidFill>
              <a:srgbClr val="bff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7167600" y="2844720"/>
              <a:ext cx="1461960" cy="73332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Narrow"/>
                  <a:ea typeface="Arial Narrow"/>
                </a:rPr>
                <a:t>CONVENTIONS</a:t>
              </a:r>
              <a:endParaRPr b="0" lang="en-US" sz="1600" spc="-1" strike="noStrike">
                <a:solidFill>
                  <a:srgbClr val="ffffff"/>
                </a:solidFill>
                <a:latin typeface="Arial"/>
              </a:endParaRPr>
            </a:p>
            <a:p>
              <a:pPr algn="ctr">
                <a:lnSpc>
                  <a:spcPct val="100000"/>
                </a:lnSpc>
              </a:pPr>
              <a:r>
                <a:rPr b="1" lang="en-US" sz="1600" spc="-1" strike="noStrike">
                  <a:solidFill>
                    <a:srgbClr val="000000"/>
                  </a:solidFill>
                  <a:latin typeface="Arial Narrow"/>
                  <a:ea typeface="Arial Narrow"/>
                </a:rPr>
                <a:t>THAT HELP IN</a:t>
              </a:r>
              <a:endParaRPr b="0" lang="en-US" sz="1600" spc="-1" strike="noStrike">
                <a:solidFill>
                  <a:srgbClr val="ffffff"/>
                </a:solidFill>
                <a:latin typeface="Arial"/>
              </a:endParaRPr>
            </a:p>
            <a:p>
              <a:pPr algn="ctr">
                <a:lnSpc>
                  <a:spcPct val="100000"/>
                </a:lnSpc>
              </a:pPr>
              <a:r>
                <a:rPr b="1" lang="en-US" sz="1600" spc="-1" strike="noStrike">
                  <a:solidFill>
                    <a:srgbClr val="000000"/>
                  </a:solidFill>
                  <a:latin typeface="Arial Narrow"/>
                  <a:ea typeface="Arial Narrow"/>
                </a:rPr>
                <a:t>INTERPRETATION</a:t>
              </a:r>
              <a:endParaRPr b="0" lang="en-US" sz="1600" spc="-1" strike="noStrike">
                <a:solidFill>
                  <a:srgbClr val="ffffff"/>
                </a:solidFill>
                <a:latin typeface="Arial"/>
              </a:endParaRPr>
            </a:p>
          </p:txBody>
        </p:sp>
        <p:grpSp>
          <p:nvGrpSpPr>
            <p:cNvPr id="109" name=""/>
            <p:cNvGrpSpPr/>
            <p:nvPr/>
          </p:nvGrpSpPr>
          <p:grpSpPr>
            <a:xfrm>
              <a:off x="890640" y="2708280"/>
              <a:ext cx="5656320" cy="2885040"/>
              <a:chOff x="890640" y="2708280"/>
              <a:chExt cx="5656320" cy="2885040"/>
            </a:xfrm>
          </p:grpSpPr>
          <p:sp>
            <p:nvSpPr>
              <p:cNvPr id="110" name=""/>
              <p:cNvSpPr/>
              <p:nvPr/>
            </p:nvSpPr>
            <p:spPr>
              <a:xfrm>
                <a:off x="890640" y="2765520"/>
                <a:ext cx="5588280" cy="2827800"/>
              </a:xfrm>
              <a:custGeom>
                <a:avLst/>
                <a:gdLst/>
                <a:ahLst/>
                <a:rect l="0" t="0" r="r" b="b"/>
                <a:pathLst>
                  <a:path w="15523" h="7855">
                    <a:moveTo>
                      <a:pt x="0" y="0"/>
                    </a:moveTo>
                    <a:lnTo>
                      <a:pt x="0" y="3744"/>
                    </a:lnTo>
                    <a:lnTo>
                      <a:pt x="7784" y="3744"/>
                    </a:lnTo>
                    <a:lnTo>
                      <a:pt x="7784" y="7855"/>
                    </a:lnTo>
                    <a:lnTo>
                      <a:pt x="15523" y="7855"/>
                    </a:lnTo>
                    <a:lnTo>
                      <a:pt x="15523" y="17"/>
                    </a:lnTo>
                    <a:lnTo>
                      <a:pt x="0" y="17"/>
                    </a:lnTo>
                    <a:lnTo>
                      <a:pt x="0" y="0"/>
                    </a:lnTo>
                    <a:close/>
                  </a:path>
                </a:pathLst>
              </a:cu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890640" y="2765520"/>
                <a:ext cx="5588280" cy="2827800"/>
              </a:xfrm>
              <a:custGeom>
                <a:avLst/>
                <a:gdLst/>
                <a:ahLst/>
                <a:rect l="0" t="0" r="r" b="b"/>
                <a:pathLst>
                  <a:path fill="none" w="15523" h="7855">
                    <a:moveTo>
                      <a:pt x="0" y="0"/>
                    </a:moveTo>
                    <a:lnTo>
                      <a:pt x="0" y="3744"/>
                    </a:lnTo>
                    <a:lnTo>
                      <a:pt x="7784" y="3744"/>
                    </a:lnTo>
                    <a:lnTo>
                      <a:pt x="7784" y="7855"/>
                    </a:lnTo>
                    <a:lnTo>
                      <a:pt x="15523" y="7855"/>
                    </a:lnTo>
                    <a:lnTo>
                      <a:pt x="15523" y="17"/>
                    </a:lnTo>
                    <a:lnTo>
                      <a:pt x="0" y="17"/>
                    </a:lnTo>
                  </a:path>
                </a:pathLst>
              </a:custGeom>
              <a:ln w="12600">
                <a:solidFill>
                  <a:srgbClr val="3f7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958680" y="2708280"/>
                <a:ext cx="5588280" cy="2827800"/>
              </a:xfrm>
              <a:custGeom>
                <a:avLst/>
                <a:gdLst/>
                <a:ahLst/>
                <a:rect l="0" t="0" r="r" b="b"/>
                <a:pathLst>
                  <a:path w="15523" h="7855">
                    <a:moveTo>
                      <a:pt x="0" y="0"/>
                    </a:moveTo>
                    <a:lnTo>
                      <a:pt x="0" y="3744"/>
                    </a:lnTo>
                    <a:lnTo>
                      <a:pt x="7784" y="3744"/>
                    </a:lnTo>
                    <a:lnTo>
                      <a:pt x="7784" y="7855"/>
                    </a:lnTo>
                    <a:lnTo>
                      <a:pt x="15523" y="7855"/>
                    </a:lnTo>
                    <a:lnTo>
                      <a:pt x="15523" y="13"/>
                    </a:lnTo>
                    <a:lnTo>
                      <a:pt x="0" y="13"/>
                    </a:lnTo>
                    <a:lnTo>
                      <a:pt x="0" y="0"/>
                    </a:lnTo>
                    <a:close/>
                  </a:path>
                </a:pathLst>
              </a:custGeom>
              <a:solidFill>
                <a:srgbClr val="ffbfd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 name=""/>
              <p:cNvSpPr/>
              <p:nvPr/>
            </p:nvSpPr>
            <p:spPr>
              <a:xfrm>
                <a:off x="958680" y="2708280"/>
                <a:ext cx="5588280" cy="2827800"/>
              </a:xfrm>
              <a:custGeom>
                <a:avLst/>
                <a:gdLst/>
                <a:ahLst/>
                <a:rect l="0" t="0" r="r" b="b"/>
                <a:pathLst>
                  <a:path fill="none" w="15523" h="7855">
                    <a:moveTo>
                      <a:pt x="0" y="0"/>
                    </a:moveTo>
                    <a:lnTo>
                      <a:pt x="0" y="3744"/>
                    </a:lnTo>
                    <a:lnTo>
                      <a:pt x="7784" y="3744"/>
                    </a:lnTo>
                    <a:lnTo>
                      <a:pt x="7784" y="7855"/>
                    </a:lnTo>
                    <a:lnTo>
                      <a:pt x="15523" y="7855"/>
                    </a:lnTo>
                    <a:lnTo>
                      <a:pt x="15523" y="13"/>
                    </a:lnTo>
                    <a:lnTo>
                      <a:pt x="0" y="13"/>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4" name=""/>
            <p:cNvSpPr txBox="1"/>
            <p:nvPr/>
          </p:nvSpPr>
          <p:spPr>
            <a:xfrm>
              <a:off x="2406600" y="2813040"/>
              <a:ext cx="2749680" cy="244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QUALITATIVE CHARACTERISTICS</a:t>
              </a:r>
              <a:endParaRPr b="0" lang="en-US" sz="1600" spc="-1" strike="noStrike">
                <a:solidFill>
                  <a:srgbClr val="ffffff"/>
                </a:solidFill>
                <a:latin typeface="Arial"/>
              </a:endParaRPr>
            </a:p>
          </p:txBody>
        </p:sp>
        <p:sp>
          <p:nvSpPr>
            <p:cNvPr id="115" name=""/>
            <p:cNvSpPr txBox="1"/>
            <p:nvPr/>
          </p:nvSpPr>
          <p:spPr>
            <a:xfrm>
              <a:off x="1461960" y="3218040"/>
              <a:ext cx="1814400" cy="244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UNDERSTANDABILITY</a:t>
              </a:r>
              <a:endParaRPr b="0" lang="en-US" sz="1600" spc="-1" strike="noStrike">
                <a:solidFill>
                  <a:srgbClr val="ffffff"/>
                </a:solidFill>
                <a:latin typeface="Arial"/>
              </a:endParaRPr>
            </a:p>
          </p:txBody>
        </p:sp>
        <p:sp>
          <p:nvSpPr>
            <p:cNvPr id="116" name=""/>
            <p:cNvSpPr txBox="1"/>
            <p:nvPr/>
          </p:nvSpPr>
          <p:spPr>
            <a:xfrm>
              <a:off x="3963960" y="4165560"/>
              <a:ext cx="1027080" cy="244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RELEVANCE</a:t>
              </a:r>
              <a:endParaRPr b="0" lang="en-US" sz="1600" spc="-1" strike="noStrike">
                <a:solidFill>
                  <a:srgbClr val="ffffff"/>
                </a:solidFill>
                <a:latin typeface="Arial"/>
              </a:endParaRPr>
            </a:p>
          </p:txBody>
        </p:sp>
        <p:sp>
          <p:nvSpPr>
            <p:cNvPr id="117" name=""/>
            <p:cNvSpPr txBox="1"/>
            <p:nvPr/>
          </p:nvSpPr>
          <p:spPr>
            <a:xfrm>
              <a:off x="5369040" y="4165560"/>
              <a:ext cx="1027080" cy="464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RELIABILITY</a:t>
              </a:r>
              <a:endParaRPr b="0" lang="en-US" sz="1600" spc="-1" strike="noStrike">
                <a:solidFill>
                  <a:srgbClr val="ffffff"/>
                </a:solidFill>
                <a:latin typeface="Arial"/>
              </a:endParaRPr>
            </a:p>
          </p:txBody>
        </p:sp>
        <p:grpSp>
          <p:nvGrpSpPr>
            <p:cNvPr id="118" name=""/>
            <p:cNvGrpSpPr/>
            <p:nvPr/>
          </p:nvGrpSpPr>
          <p:grpSpPr>
            <a:xfrm>
              <a:off x="1182600" y="3535200"/>
              <a:ext cx="2322360" cy="408600"/>
              <a:chOff x="1182600" y="3535200"/>
              <a:chExt cx="2322360" cy="408600"/>
            </a:xfrm>
          </p:grpSpPr>
          <p:sp>
            <p:nvSpPr>
              <p:cNvPr id="119" name=""/>
              <p:cNvSpPr/>
              <p:nvPr/>
            </p:nvSpPr>
            <p:spPr>
              <a:xfrm>
                <a:off x="1182600" y="3535200"/>
                <a:ext cx="2322360" cy="3873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txBox="1"/>
              <p:nvPr/>
            </p:nvSpPr>
            <p:spPr>
              <a:xfrm>
                <a:off x="1182600" y="3535200"/>
                <a:ext cx="2268360" cy="40860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Narrow"/>
                    <a:ea typeface="Arial Narrow"/>
                  </a:rPr>
                  <a:t>Decision makers must be able to</a:t>
                </a:r>
                <a:endParaRPr b="0" lang="en-US" sz="1400" spc="-1" strike="noStrike">
                  <a:solidFill>
                    <a:srgbClr val="ffffff"/>
                  </a:solidFill>
                  <a:latin typeface="Arial"/>
                </a:endParaRPr>
              </a:p>
            </p:txBody>
          </p:sp>
          <p:sp>
            <p:nvSpPr>
              <p:cNvPr id="121" name=""/>
              <p:cNvSpPr txBox="1"/>
              <p:nvPr/>
            </p:nvSpPr>
            <p:spPr>
              <a:xfrm>
                <a:off x="1182600" y="3697200"/>
                <a:ext cx="2292480" cy="2127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Narrow"/>
                    <a:ea typeface="Arial Narrow"/>
                  </a:rPr>
                  <a:t>interpret accounting information </a:t>
                </a:r>
                <a:endParaRPr b="0" lang="en-US" sz="1400" spc="-1" strike="noStrike">
                  <a:solidFill>
                    <a:srgbClr val="ffffff"/>
                  </a:solidFill>
                  <a:latin typeface="Arial"/>
                </a:endParaRPr>
              </a:p>
            </p:txBody>
          </p:sp>
        </p:grpSp>
        <p:grpSp>
          <p:nvGrpSpPr>
            <p:cNvPr id="122" name=""/>
            <p:cNvGrpSpPr/>
            <p:nvPr/>
          </p:nvGrpSpPr>
          <p:grpSpPr>
            <a:xfrm>
              <a:off x="3902040" y="4492800"/>
              <a:ext cx="1255680" cy="258840"/>
              <a:chOff x="3902040" y="4492800"/>
              <a:chExt cx="1255680" cy="258840"/>
            </a:xfrm>
          </p:grpSpPr>
          <p:sp>
            <p:nvSpPr>
              <p:cNvPr id="123" name=""/>
              <p:cNvSpPr/>
              <p:nvPr/>
            </p:nvSpPr>
            <p:spPr>
              <a:xfrm>
                <a:off x="3902040" y="4492800"/>
                <a:ext cx="1219320" cy="258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 name=""/>
              <p:cNvSpPr txBox="1"/>
              <p:nvPr/>
            </p:nvSpPr>
            <p:spPr>
              <a:xfrm>
                <a:off x="3940200" y="4492800"/>
                <a:ext cx="1217520" cy="21276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Feedback value </a:t>
                </a:r>
                <a:endParaRPr b="0" lang="en-US" sz="1400" spc="-1" strike="noStrike">
                  <a:solidFill>
                    <a:srgbClr val="ffffff"/>
                  </a:solidFill>
                  <a:latin typeface="Arial"/>
                </a:endParaRPr>
              </a:p>
            </p:txBody>
          </p:sp>
        </p:grpSp>
        <p:sp>
          <p:nvSpPr>
            <p:cNvPr id="125" name=""/>
            <p:cNvSpPr/>
            <p:nvPr/>
          </p:nvSpPr>
          <p:spPr>
            <a:xfrm>
              <a:off x="3770280" y="4052880"/>
              <a:ext cx="27702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26" name=""/>
            <p:cNvSpPr/>
            <p:nvPr/>
          </p:nvSpPr>
          <p:spPr>
            <a:xfrm>
              <a:off x="973080" y="3102120"/>
              <a:ext cx="55771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27" name=""/>
            <p:cNvSpPr/>
            <p:nvPr/>
          </p:nvSpPr>
          <p:spPr>
            <a:xfrm>
              <a:off x="3757680" y="3111480"/>
              <a:ext cx="1440" cy="95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a:off x="5207040" y="4064040"/>
              <a:ext cx="1440" cy="1477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29" name=""/>
            <p:cNvGrpSpPr/>
            <p:nvPr/>
          </p:nvGrpSpPr>
          <p:grpSpPr>
            <a:xfrm>
              <a:off x="3813120" y="3519360"/>
              <a:ext cx="2681280" cy="570600"/>
              <a:chOff x="3813120" y="3519360"/>
              <a:chExt cx="2681280" cy="570600"/>
            </a:xfrm>
          </p:grpSpPr>
          <p:sp>
            <p:nvSpPr>
              <p:cNvPr id="130" name=""/>
              <p:cNvSpPr/>
              <p:nvPr/>
            </p:nvSpPr>
            <p:spPr>
              <a:xfrm>
                <a:off x="3813120" y="3519360"/>
                <a:ext cx="2676600" cy="3859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txBox="1"/>
              <p:nvPr/>
            </p:nvSpPr>
            <p:spPr>
              <a:xfrm>
                <a:off x="3813120" y="3519360"/>
                <a:ext cx="2681280" cy="40860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Narrow"/>
                    <a:ea typeface="Arial Narrow"/>
                  </a:rPr>
                  <a:t>Accountants must provide information</a:t>
                </a:r>
                <a:endParaRPr b="0" lang="en-US" sz="1400" spc="-1" strike="noStrike">
                  <a:solidFill>
                    <a:srgbClr val="ffffff"/>
                  </a:solidFill>
                  <a:latin typeface="Arial"/>
                </a:endParaRPr>
              </a:p>
            </p:txBody>
          </p:sp>
          <p:sp>
            <p:nvSpPr>
              <p:cNvPr id="132" name=""/>
              <p:cNvSpPr txBox="1"/>
              <p:nvPr/>
            </p:nvSpPr>
            <p:spPr>
              <a:xfrm>
                <a:off x="3813120" y="3681360"/>
                <a:ext cx="2333520" cy="40860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Narrow"/>
                    <a:ea typeface="Arial Narrow"/>
                  </a:rPr>
                  <a:t>that is useful in making decisions</a:t>
                </a:r>
                <a:endParaRPr b="0" lang="en-US" sz="1400" spc="-1" strike="noStrike">
                  <a:solidFill>
                    <a:srgbClr val="ffffff"/>
                  </a:solidFill>
                  <a:latin typeface="Arial"/>
                </a:endParaRPr>
              </a:p>
            </p:txBody>
          </p:sp>
        </p:grpSp>
        <p:sp>
          <p:nvSpPr>
            <p:cNvPr id="133" name=""/>
            <p:cNvSpPr txBox="1"/>
            <p:nvPr/>
          </p:nvSpPr>
          <p:spPr>
            <a:xfrm>
              <a:off x="4576680" y="3227400"/>
              <a:ext cx="1120680" cy="464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USEFULNESS</a:t>
              </a:r>
              <a:endParaRPr b="0" lang="en-US" sz="1600" spc="-1" strike="noStrike">
                <a:solidFill>
                  <a:srgbClr val="ffffff"/>
                </a:solidFill>
                <a:latin typeface="Arial"/>
              </a:endParaRPr>
            </a:p>
          </p:txBody>
        </p:sp>
        <p:grpSp>
          <p:nvGrpSpPr>
            <p:cNvPr id="134" name=""/>
            <p:cNvGrpSpPr/>
            <p:nvPr/>
          </p:nvGrpSpPr>
          <p:grpSpPr>
            <a:xfrm>
              <a:off x="3876840" y="4822920"/>
              <a:ext cx="1271520" cy="425880"/>
              <a:chOff x="3876840" y="4822920"/>
              <a:chExt cx="1271520" cy="425880"/>
            </a:xfrm>
          </p:grpSpPr>
          <p:sp>
            <p:nvSpPr>
              <p:cNvPr id="135" name=""/>
              <p:cNvSpPr/>
              <p:nvPr/>
            </p:nvSpPr>
            <p:spPr>
              <a:xfrm>
                <a:off x="3876840" y="4822920"/>
                <a:ext cx="1271520" cy="2761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 name=""/>
              <p:cNvSpPr txBox="1"/>
              <p:nvPr/>
            </p:nvSpPr>
            <p:spPr>
              <a:xfrm>
                <a:off x="3932280" y="4840200"/>
                <a:ext cx="120168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Predictive value</a:t>
                </a:r>
                <a:endParaRPr b="0" lang="en-US" sz="1400" spc="-1" strike="noStrike">
                  <a:solidFill>
                    <a:srgbClr val="ffffff"/>
                  </a:solidFill>
                  <a:latin typeface="Arial"/>
                </a:endParaRPr>
              </a:p>
            </p:txBody>
          </p:sp>
        </p:grpSp>
        <p:grpSp>
          <p:nvGrpSpPr>
            <p:cNvPr id="137" name=""/>
            <p:cNvGrpSpPr/>
            <p:nvPr/>
          </p:nvGrpSpPr>
          <p:grpSpPr>
            <a:xfrm>
              <a:off x="3905280" y="5186520"/>
              <a:ext cx="1060560" cy="241200"/>
              <a:chOff x="3905280" y="5186520"/>
              <a:chExt cx="1060560" cy="241200"/>
            </a:xfrm>
          </p:grpSpPr>
          <p:sp>
            <p:nvSpPr>
              <p:cNvPr id="138" name=""/>
              <p:cNvSpPr/>
              <p:nvPr/>
            </p:nvSpPr>
            <p:spPr>
              <a:xfrm>
                <a:off x="3905280" y="5186520"/>
                <a:ext cx="1060560" cy="2412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 name=""/>
              <p:cNvSpPr txBox="1"/>
              <p:nvPr/>
            </p:nvSpPr>
            <p:spPr>
              <a:xfrm>
                <a:off x="3938760" y="5186520"/>
                <a:ext cx="844560" cy="21276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Timeliness</a:t>
                </a:r>
                <a:endParaRPr b="0" lang="en-US" sz="1400" spc="-1" strike="noStrike">
                  <a:solidFill>
                    <a:srgbClr val="ffffff"/>
                  </a:solidFill>
                  <a:latin typeface="Arial"/>
                </a:endParaRPr>
              </a:p>
            </p:txBody>
          </p:sp>
        </p:grpSp>
        <p:grpSp>
          <p:nvGrpSpPr>
            <p:cNvPr id="140" name=""/>
            <p:cNvGrpSpPr/>
            <p:nvPr/>
          </p:nvGrpSpPr>
          <p:grpSpPr>
            <a:xfrm>
              <a:off x="5254560" y="4451400"/>
              <a:ext cx="1219320" cy="334800"/>
              <a:chOff x="5254560" y="4451400"/>
              <a:chExt cx="1219320" cy="334800"/>
            </a:xfrm>
          </p:grpSpPr>
          <p:sp>
            <p:nvSpPr>
              <p:cNvPr id="141" name=""/>
              <p:cNvSpPr/>
              <p:nvPr/>
            </p:nvSpPr>
            <p:spPr>
              <a:xfrm>
                <a:off x="5254560" y="4451400"/>
                <a:ext cx="1219320" cy="3286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 name=""/>
              <p:cNvSpPr txBox="1"/>
              <p:nvPr/>
            </p:nvSpPr>
            <p:spPr>
              <a:xfrm>
                <a:off x="5310360" y="4487760"/>
                <a:ext cx="1150920" cy="298440"/>
              </a:xfrm>
              <a:prstGeom prst="rect">
                <a:avLst/>
              </a:prstGeom>
              <a:noFill/>
              <a:ln w="0">
                <a:noFill/>
              </a:ln>
            </p:spPr>
            <p:txBody>
              <a:bodyPr lIns="0" rIns="0" tIns="0" bIns="0" anchor="t">
                <a:noAutofit/>
              </a:bodyPr>
              <a:p>
                <a:pPr marL="91440" indent="-91440">
                  <a:lnSpc>
                    <a:spcPct val="70000"/>
                  </a:lnSpc>
                  <a:buClr>
                    <a:srgbClr val="000000"/>
                  </a:buClr>
                  <a:buFont typeface="Monotype Sorts"/>
                  <a:buChar char=""/>
                </a:pPr>
                <a:r>
                  <a:rPr b="1" lang="en-US" sz="1400" spc="-1" strike="noStrike">
                    <a:solidFill>
                      <a:srgbClr val="000000"/>
                    </a:solidFill>
                    <a:latin typeface="Arial Narrow"/>
                    <a:ea typeface="Arial Narrow"/>
                  </a:rPr>
                  <a:t>Faithful</a:t>
                </a:r>
                <a:endParaRPr b="0" lang="en-US" sz="1400" spc="-1" strike="noStrike">
                  <a:solidFill>
                    <a:srgbClr val="ffffff"/>
                  </a:solidFill>
                  <a:latin typeface="Arial"/>
                </a:endParaRPr>
              </a:p>
              <a:p>
                <a:pPr>
                  <a:lnSpc>
                    <a:spcPct val="70000"/>
                  </a:lnSpc>
                </a:pPr>
                <a:r>
                  <a:rPr b="1" lang="en-US" sz="1400" spc="-1" strike="noStrike">
                    <a:solidFill>
                      <a:srgbClr val="000000"/>
                    </a:solidFill>
                    <a:latin typeface="Arial Narrow"/>
                    <a:ea typeface="Arial Narrow"/>
                  </a:rPr>
                  <a:t> </a:t>
                </a:r>
                <a:r>
                  <a:rPr b="1" lang="en-US" sz="1400" spc="-1" strike="noStrike">
                    <a:solidFill>
                      <a:srgbClr val="000000"/>
                    </a:solidFill>
                    <a:latin typeface="Arial Narrow"/>
                    <a:ea typeface="Arial Narrow"/>
                  </a:rPr>
                  <a:t>representation</a:t>
                </a:r>
                <a:endParaRPr b="0" lang="en-US" sz="1400" spc="-1" strike="noStrike">
                  <a:solidFill>
                    <a:srgbClr val="ffffff"/>
                  </a:solidFill>
                  <a:latin typeface="Arial"/>
                </a:endParaRPr>
              </a:p>
            </p:txBody>
          </p:sp>
        </p:grpSp>
        <p:grpSp>
          <p:nvGrpSpPr>
            <p:cNvPr id="143" name=""/>
            <p:cNvGrpSpPr/>
            <p:nvPr/>
          </p:nvGrpSpPr>
          <p:grpSpPr>
            <a:xfrm>
              <a:off x="5257800" y="4827600"/>
              <a:ext cx="1096920" cy="258840"/>
              <a:chOff x="5257800" y="4827600"/>
              <a:chExt cx="1096920" cy="258840"/>
            </a:xfrm>
          </p:grpSpPr>
          <p:sp>
            <p:nvSpPr>
              <p:cNvPr id="144" name=""/>
              <p:cNvSpPr/>
              <p:nvPr/>
            </p:nvSpPr>
            <p:spPr>
              <a:xfrm>
                <a:off x="5257800" y="4827600"/>
                <a:ext cx="1096920" cy="258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 name=""/>
              <p:cNvSpPr txBox="1"/>
              <p:nvPr/>
            </p:nvSpPr>
            <p:spPr>
              <a:xfrm>
                <a:off x="5292720" y="4827600"/>
                <a:ext cx="878040" cy="21276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Verifiability</a:t>
                </a:r>
                <a:endParaRPr b="0" lang="en-US" sz="1400" spc="-1" strike="noStrike">
                  <a:solidFill>
                    <a:srgbClr val="ffffff"/>
                  </a:solidFill>
                  <a:latin typeface="Arial"/>
                </a:endParaRPr>
              </a:p>
            </p:txBody>
          </p:sp>
        </p:grpSp>
        <p:grpSp>
          <p:nvGrpSpPr>
            <p:cNvPr id="146" name=""/>
            <p:cNvGrpSpPr/>
            <p:nvPr/>
          </p:nvGrpSpPr>
          <p:grpSpPr>
            <a:xfrm>
              <a:off x="5251320" y="5173560"/>
              <a:ext cx="1060560" cy="408600"/>
              <a:chOff x="5251320" y="5173560"/>
              <a:chExt cx="1060560" cy="408600"/>
            </a:xfrm>
          </p:grpSpPr>
          <p:sp>
            <p:nvSpPr>
              <p:cNvPr id="147" name=""/>
              <p:cNvSpPr/>
              <p:nvPr/>
            </p:nvSpPr>
            <p:spPr>
              <a:xfrm>
                <a:off x="5251320" y="5173560"/>
                <a:ext cx="1060560" cy="258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 name=""/>
              <p:cNvSpPr txBox="1"/>
              <p:nvPr/>
            </p:nvSpPr>
            <p:spPr>
              <a:xfrm>
                <a:off x="5284800" y="5173560"/>
                <a:ext cx="76356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Neutrality</a:t>
                </a:r>
                <a:endParaRPr b="0" lang="en-US" sz="1400" spc="-1" strike="noStrike">
                  <a:solidFill>
                    <a:srgbClr val="ffffff"/>
                  </a:solidFill>
                  <a:latin typeface="Arial"/>
                </a:endParaRPr>
              </a:p>
            </p:txBody>
          </p:sp>
        </p:grpSp>
        <p:grpSp>
          <p:nvGrpSpPr>
            <p:cNvPr id="149" name=""/>
            <p:cNvGrpSpPr/>
            <p:nvPr/>
          </p:nvGrpSpPr>
          <p:grpSpPr>
            <a:xfrm>
              <a:off x="7205760" y="4078440"/>
              <a:ext cx="1096920" cy="408600"/>
              <a:chOff x="7205760" y="4078440"/>
              <a:chExt cx="1096920" cy="408600"/>
            </a:xfrm>
          </p:grpSpPr>
          <p:sp>
            <p:nvSpPr>
              <p:cNvPr id="150" name=""/>
              <p:cNvSpPr/>
              <p:nvPr/>
            </p:nvSpPr>
            <p:spPr>
              <a:xfrm>
                <a:off x="7205760" y="4078440"/>
                <a:ext cx="1096920" cy="258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 name=""/>
              <p:cNvSpPr txBox="1"/>
              <p:nvPr/>
            </p:nvSpPr>
            <p:spPr>
              <a:xfrm>
                <a:off x="7240680" y="4078440"/>
                <a:ext cx="81288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Materiality</a:t>
                </a:r>
                <a:endParaRPr b="0" lang="en-US" sz="1400" spc="-1" strike="noStrike">
                  <a:solidFill>
                    <a:srgbClr val="ffffff"/>
                  </a:solidFill>
                  <a:latin typeface="Arial"/>
                </a:endParaRPr>
              </a:p>
            </p:txBody>
          </p:sp>
        </p:grpSp>
        <p:grpSp>
          <p:nvGrpSpPr>
            <p:cNvPr id="152" name=""/>
            <p:cNvGrpSpPr/>
            <p:nvPr/>
          </p:nvGrpSpPr>
          <p:grpSpPr>
            <a:xfrm>
              <a:off x="7205760" y="3668760"/>
              <a:ext cx="1378080" cy="345960"/>
              <a:chOff x="7205760" y="3668760"/>
              <a:chExt cx="1378080" cy="345960"/>
            </a:xfrm>
          </p:grpSpPr>
          <p:sp>
            <p:nvSpPr>
              <p:cNvPr id="153" name=""/>
              <p:cNvSpPr/>
              <p:nvPr/>
            </p:nvSpPr>
            <p:spPr>
              <a:xfrm>
                <a:off x="7205760" y="3668760"/>
                <a:ext cx="1378080" cy="3459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txBox="1"/>
              <p:nvPr/>
            </p:nvSpPr>
            <p:spPr>
              <a:xfrm>
                <a:off x="7269120" y="3706920"/>
                <a:ext cx="1300320" cy="298440"/>
              </a:xfrm>
              <a:prstGeom prst="rect">
                <a:avLst/>
              </a:prstGeom>
              <a:noFill/>
              <a:ln w="0">
                <a:noFill/>
              </a:ln>
            </p:spPr>
            <p:txBody>
              <a:bodyPr lIns="0" rIns="0" tIns="0" bIns="0" anchor="t">
                <a:noAutofit/>
              </a:bodyPr>
              <a:p>
                <a:pPr marL="91440" indent="-91440">
                  <a:lnSpc>
                    <a:spcPct val="70000"/>
                  </a:lnSpc>
                  <a:buClr>
                    <a:srgbClr val="000000"/>
                  </a:buClr>
                  <a:buFont typeface="Monotype Sorts"/>
                  <a:buChar char=""/>
                </a:pPr>
                <a:r>
                  <a:rPr b="1" lang="en-US" sz="1400" spc="-1" strike="noStrike">
                    <a:solidFill>
                      <a:srgbClr val="000000"/>
                    </a:solidFill>
                    <a:latin typeface="Arial Narrow"/>
                    <a:ea typeface="Arial Narrow"/>
                  </a:rPr>
                  <a:t>Comparability</a:t>
                </a:r>
                <a:endParaRPr b="0" lang="en-US" sz="1400" spc="-1" strike="noStrike">
                  <a:solidFill>
                    <a:srgbClr val="ffffff"/>
                  </a:solidFill>
                  <a:latin typeface="Arial"/>
                </a:endParaRPr>
              </a:p>
              <a:p>
                <a:pPr>
                  <a:lnSpc>
                    <a:spcPct val="70000"/>
                  </a:lnSpc>
                </a:pPr>
                <a:r>
                  <a:rPr b="1" lang="en-US" sz="1400" spc="-1" strike="noStrike">
                    <a:solidFill>
                      <a:srgbClr val="000000"/>
                    </a:solidFill>
                    <a:latin typeface="Arial Narrow"/>
                    <a:ea typeface="Arial Narrow"/>
                  </a:rPr>
                  <a:t>  </a:t>
                </a:r>
                <a:r>
                  <a:rPr b="1" lang="en-US" sz="1400" spc="-1" strike="noStrike">
                    <a:solidFill>
                      <a:srgbClr val="000000"/>
                    </a:solidFill>
                    <a:latin typeface="Arial Narrow"/>
                    <a:ea typeface="Arial Narrow"/>
                  </a:rPr>
                  <a:t>and consistency</a:t>
                </a:r>
                <a:endParaRPr b="0" lang="en-US" sz="1400" spc="-1" strike="noStrike">
                  <a:solidFill>
                    <a:srgbClr val="ffffff"/>
                  </a:solidFill>
                  <a:latin typeface="Arial"/>
                </a:endParaRPr>
              </a:p>
            </p:txBody>
          </p:sp>
        </p:grpSp>
        <p:grpSp>
          <p:nvGrpSpPr>
            <p:cNvPr id="155" name=""/>
            <p:cNvGrpSpPr/>
            <p:nvPr/>
          </p:nvGrpSpPr>
          <p:grpSpPr>
            <a:xfrm>
              <a:off x="7205760" y="4389480"/>
              <a:ext cx="1204920" cy="408600"/>
              <a:chOff x="7205760" y="4389480"/>
              <a:chExt cx="1204920" cy="408600"/>
            </a:xfrm>
          </p:grpSpPr>
          <p:sp>
            <p:nvSpPr>
              <p:cNvPr id="156" name=""/>
              <p:cNvSpPr/>
              <p:nvPr/>
            </p:nvSpPr>
            <p:spPr>
              <a:xfrm>
                <a:off x="7205760" y="4389480"/>
                <a:ext cx="1204920" cy="258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txBox="1"/>
              <p:nvPr/>
            </p:nvSpPr>
            <p:spPr>
              <a:xfrm>
                <a:off x="7243920" y="4389480"/>
                <a:ext cx="105552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Conservatism</a:t>
                </a:r>
                <a:endParaRPr b="0" lang="en-US" sz="1400" spc="-1" strike="noStrike">
                  <a:solidFill>
                    <a:srgbClr val="ffffff"/>
                  </a:solidFill>
                  <a:latin typeface="Arial"/>
                </a:endParaRPr>
              </a:p>
            </p:txBody>
          </p:sp>
        </p:grpSp>
        <p:grpSp>
          <p:nvGrpSpPr>
            <p:cNvPr id="158" name=""/>
            <p:cNvGrpSpPr/>
            <p:nvPr/>
          </p:nvGrpSpPr>
          <p:grpSpPr>
            <a:xfrm>
              <a:off x="7205760" y="4753080"/>
              <a:ext cx="1197000" cy="408600"/>
              <a:chOff x="7205760" y="4753080"/>
              <a:chExt cx="1197000" cy="408600"/>
            </a:xfrm>
          </p:grpSpPr>
          <p:sp>
            <p:nvSpPr>
              <p:cNvPr id="159" name=""/>
              <p:cNvSpPr/>
              <p:nvPr/>
            </p:nvSpPr>
            <p:spPr>
              <a:xfrm>
                <a:off x="7205760" y="4753080"/>
                <a:ext cx="1197000" cy="2412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 name=""/>
              <p:cNvSpPr txBox="1"/>
              <p:nvPr/>
            </p:nvSpPr>
            <p:spPr>
              <a:xfrm>
                <a:off x="7243920" y="4753080"/>
                <a:ext cx="112068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Full disclosure</a:t>
                </a:r>
                <a:endParaRPr b="0" lang="en-US" sz="1400" spc="-1" strike="noStrike">
                  <a:solidFill>
                    <a:srgbClr val="ffffff"/>
                  </a:solidFill>
                  <a:latin typeface="Arial"/>
                </a:endParaRPr>
              </a:p>
            </p:txBody>
          </p:sp>
        </p:grpSp>
        <p:grpSp>
          <p:nvGrpSpPr>
            <p:cNvPr id="161" name=""/>
            <p:cNvGrpSpPr/>
            <p:nvPr/>
          </p:nvGrpSpPr>
          <p:grpSpPr>
            <a:xfrm>
              <a:off x="7205760" y="5100480"/>
              <a:ext cx="1197000" cy="408600"/>
              <a:chOff x="7205760" y="5100480"/>
              <a:chExt cx="1197000" cy="408600"/>
            </a:xfrm>
          </p:grpSpPr>
          <p:sp>
            <p:nvSpPr>
              <p:cNvPr id="162" name=""/>
              <p:cNvSpPr/>
              <p:nvPr/>
            </p:nvSpPr>
            <p:spPr>
              <a:xfrm>
                <a:off x="7205760" y="5100480"/>
                <a:ext cx="1197000" cy="2412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 name=""/>
              <p:cNvSpPr txBox="1"/>
              <p:nvPr/>
            </p:nvSpPr>
            <p:spPr>
              <a:xfrm>
                <a:off x="7243920" y="5100480"/>
                <a:ext cx="94140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Cost-benefit</a:t>
                </a:r>
                <a:endParaRPr b="0" lang="en-US" sz="1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edles &amp; Powers</dc:creator>
  <dc:description>chap 1 slides of financial acctg book</dc:description>
  <dc:language>en-US</dc:language>
  <cp:lastModifiedBy>HMCo User</cp:lastModifiedBy>
  <cp:revision>0</cp:revision>
  <dc:subject/>
  <dc:title>Chapter 1 Uses of Accounting Information and the Basic Financial Statements</dc:title>
</cp:coreProperties>
</file>