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  <p:custShowLst>
    <p:custShow name="Lecture 1" id="0">
      <p:sldLst>
        <p:sld r:id="rId4"/>
        <p:sld r:id="rId14"/>
        <p:sld r:id="rId5"/>
        <p:sld r:id="rId6"/>
        <p:sld r:id="rId16"/>
        <p:sld r:id="rId17"/>
        <p:sld r:id="rId12"/>
        <p:sld r:id="rId8"/>
        <p:sld r:id="rId7"/>
        <p:sld r:id="rId13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5134-031B-4A4A-A048-8F4B968250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CE08-00F1-44CA-BA62-B976A1E8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0780-D9E7-40DD-A549-D0835880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67031-B68F-438E-BED6-1F13994164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43A61-1CB7-4785-A882-8345D1337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97A7E-C3E0-43C5-B097-31A82E5E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86F9D-6C2B-487B-9831-04CE93FA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C2EB7-3281-4295-8DD3-F8460AAB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1DD68-880A-4566-BC70-CDEF5768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C50E6-580E-40F4-B460-219CB162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F34C1-5692-4E6F-BC2A-B30DE5F4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F8D6-A5BB-42D3-AC1C-16323442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CA583-E11E-49DE-A741-FB97A2B1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6FF60-8476-4EAB-8E3C-144C40A2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18C14-9387-4A16-B012-60856A6F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9E918-5B7A-4950-B904-E68B961E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3178C-DCB1-40E2-8F0A-372713E6D6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FD0B-FA7A-4A28-BFC4-34145EB3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B640-11EE-4C00-8770-3AB40752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8D88-AEF7-449E-B560-54CA91B3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CD24-EDF5-4437-9884-8F33599D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74FE-5C81-4136-B7C0-E0A1727B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1A75-5EF7-4C35-ADF6-0080ABCC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EF29-2269-43E5-B13D-05C692F9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35800"/>
            <a:ext cx="9144000" cy="3286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niel Trefler, Rotman School of Management, MGT 2118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19120"/>
          </a:xfrm>
          <a:prstGeom prst="rect">
            <a:avLst/>
          </a:prstGeom>
          <a:solidFill>
            <a:srgbClr val="313739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a9dc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a9dc6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a9dc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4A4-BA36-412A-BDFB-17B01CEE7317}" type="datetime3">
              <a:rPr b="1" lang="en-US" sz="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0818-02A1-42A8-A6DD-D4FE715030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35800"/>
            <a:ext cx="9144000" cy="3286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niel Trefler, Rotman School of Management, MGT 2118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66B9-5D24-4E89-984D-7883E9506658}" type="datetime3">
              <a:rPr b="1" lang="en-US" sz="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37335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751D-5BF3-4739-8557-A932A28D2A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7720" y="1143000"/>
            <a:ext cx="820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de Inequality in Developing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General Equilibriu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05320"/>
            <a:ext cx="82090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an Zhu (Michigan State Universi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Trefler (University of Toronto and CIA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460D-654C-4921-8356-B473716F4316}" type="datetime3">
              <a:rPr b="1" i="1" lang="en-US" sz="2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2900-376C-4969-BBEA-925F5BAF68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28600" y="685800"/>
          <a:ext cx="876312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7631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1AAC-0D2D-486E-BB4E-31FB92D71B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981080" y="457200"/>
          <a:ext cx="479592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57200"/>
                    <a:ext cx="47959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A99C-38C0-48B8-ABFA-A977EB89E7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685800"/>
          <a:ext cx="845820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4582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F142-37A5-4744-BFBF-9D51592A36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28600" y="914400"/>
          <a:ext cx="8631360" cy="46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313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713A-6346-4E89-8AE3-BE61CFE758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rts by themselves have no impact on inequality. I devised a novel measure of the changing skill intensity of expor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catch-up shifts the South's export shares towards more skill-intensive good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ulting shift in export shares increases the level of wage inequalit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aken together, these conclusions mean that Southern catch-up has contributed to rising wage inequality in the South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del's exclusion restrictions are accepted by the data i.e., Southern catch-up raises wage inequality only indirectly by shifting export sha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84FE-D7DA-41EC-92C6-65B1B76A4C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low Dornbusch, Fischer and Samuelson (1980) as closely as possib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regions, Nor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ou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factors, unskilled lab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killed lab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 pr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H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 of ine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tinuum of goods indexed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&l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&l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factor intensity reversals so that a lar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indexes a more skill-intensive go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S, perfect competition, no international barriers to trade in goods, Cobb-Douglas preferences, balanced tra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7440" y="5335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E16A-B8B7-4F3B-AAE0-AF6DD4B906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0666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53341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371600" y="1295280"/>
            <a:ext cx="4648320" cy="335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19320" y="3124080"/>
            <a:ext cx="487656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62320" y="1371240"/>
            <a:ext cx="4647960" cy="33526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505320"/>
            <a:ext cx="0" cy="18288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3352680"/>
            <a:ext cx="0" cy="19814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1080" y="54864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uth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20080" y="5410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rth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1280" y="2901960"/>
            <a:ext cx="10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0" y="1149480"/>
            <a:ext cx="9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03760" y="541008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CF62-78C8-4ED3-A06E-24C043DBD6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Demand for Skilled Lab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676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676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Demand for Un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13716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4382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Supply of 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819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Supply of Un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8195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2590920"/>
            <a:ext cx="3352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040" y="3886200"/>
            <a:ext cx="75502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thern Ine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e Cut-Of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ow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18360" y="37944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he Southern Wage Inequality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290C-A9EE-48BC-A07D-6D7BCE437F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 equilibrium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re endogeno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ly differentiate the 3 g.e. equations to solve f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d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pendent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ndependent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thern Catch-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ow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5640" y="4557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he Export Share Shift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C2BD-21D7-406D-B644-5CA171842C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man and Oostendorp (2001) NBER database on wages by occupation and industry for 1983-9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hanges over the four periods 1983-86, 1986-89, 1990-93, and 1993-9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on for inclusion in data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capita GDP below $14,000 in 198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y had observations on a fixed set of manufacturing occupations for at least two perio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t data for both non-production occupations (managers, professionals, technicians, and clerks) and production occupations (craft workers, operators, and laborer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countries and 58 observ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47720" y="330120"/>
            <a:ext cx="394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easuring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  =  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HS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 / 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E396C-92FF-4932-934B-1AD8C267AB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76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685800"/>
          <a:ext cx="42577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4257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76920" y="762120"/>
          <a:ext cx="4267080" cy="57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762120"/>
                    <a:ext cx="4267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514320" y="380880"/>
            <a:ext cx="22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easuring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dz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4B7A-563E-44F6-94A6-55E4A0006D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685800"/>
          <a:ext cx="42577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4257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863960" y="685800"/>
          <a:ext cx="4280040" cy="586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3960" y="685800"/>
                    <a:ext cx="42800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812B-6332-4C0E-A434-BC9D82E0FA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371600" y="380880"/>
          <a:ext cx="6781680" cy="607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6781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B4920-0298-4280-973D-8022736F68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7:27:34Z</dcterms:created>
  <dc:creator>Dtrefler</dc:creator>
  <dc:description/>
  <dc:language>en-US</dc:language>
  <cp:lastModifiedBy> </cp:lastModifiedBy>
  <dcterms:modified xsi:type="dcterms:W3CDTF">2004-06-20T12:57:06Z</dcterms:modified>
  <cp:revision>52</cp:revision>
  <dc:subject/>
  <dc:title>PowerPoint Presentation</dc:title>
</cp:coreProperties>
</file>