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  <p:custShowLst>
    <p:custShow name="Lecture 1" id="0">
      <p:sldLst>
        <p:sld r:id="rId4"/>
        <p:sld r:id="rId14"/>
        <p:sld r:id="rId5"/>
        <p:sld r:id="rId6"/>
        <p:sld r:id="rId16"/>
        <p:sld r:id="rId17"/>
        <p:sld r:id="rId12"/>
        <p:sld r:id="rId8"/>
        <p:sld r:id="rId7"/>
        <p:sld r:id="rId13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ED38-6AAB-4F59-AFAC-E1C8A55846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25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0DDBA-AE5D-4E59-97C0-088B3F89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FCB04-39C3-4B5B-9C15-76CB508C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63C3-8B0E-4445-B875-3EFCE2DEB0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65032-608D-4A09-A858-E50F839B21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F4C39-3268-4D72-B837-715F39A6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FCFCE-341A-49F3-8515-189AFB12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EC962-CC38-4AD3-92A3-73D456AD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8A049-5C02-4684-9797-13F7969F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5A25F-651C-4B6D-8E82-85D6A62C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8F90E-8FF7-4BFC-A903-CC837F33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7561B-318F-4809-A72D-3CF1010D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83A34-08E6-4F23-9BC0-5E3F8D3E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BFA1C-4A34-46C3-9F6F-66175E7A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25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83CB6-7210-4615-9458-B32B92B9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FD53E-DE2C-4A8E-8825-710D89A7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25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472C1-B35F-4E14-B396-0844DA3CA2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980B-91EE-4FC5-A275-BBAF80C3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F7BA3-E13C-4E43-AFC9-6DBA507B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24320-A9C6-43DE-AB30-8A4D9717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CF393-55A5-4589-83BB-077B3365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4F1D6-FCDA-48BB-A4E6-E2A9B4B4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25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396DB-D89A-48B0-B694-25E9B462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156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25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AA912-B056-48A5-8DE1-C38E5694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35800"/>
            <a:ext cx="9144000" cy="328680"/>
          </a:xfrm>
          <a:prstGeom prst="rect">
            <a:avLst/>
          </a:prstGeom>
          <a:solidFill>
            <a:srgbClr val="9a9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niel Trefler, Rotman School of Management, MGT 2118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9a9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19120"/>
          </a:xfrm>
          <a:prstGeom prst="rect">
            <a:avLst/>
          </a:prstGeom>
          <a:solidFill>
            <a:srgbClr val="313739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a9dc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a9dc6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a9dc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7A4B-4759-4CE7-B6AF-FCD56310A473}" type="datetime3">
              <a:rPr b="1" lang="en-US" sz="8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5682-6A78-4A17-A688-CB68EF90CB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535800"/>
            <a:ext cx="9144000" cy="328680"/>
          </a:xfrm>
          <a:prstGeom prst="rect">
            <a:avLst/>
          </a:prstGeom>
          <a:solidFill>
            <a:srgbClr val="9a9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niel Trefler, Rotman School of Management, MGT 2118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9a9d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7162560" y="65527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B2D7-DEF4-48BD-84E3-960B9674C958}" type="datetime3">
              <a:rPr b="1" lang="en-US" sz="8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4"/>
          </p:nvPr>
        </p:nvSpPr>
        <p:spPr>
          <a:xfrm>
            <a:off x="37335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6EC7-6229-4A49-ABB6-54B79E7B29F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7720" y="1143000"/>
            <a:ext cx="820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rade Inequality in Developing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 General Equilibriu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05320"/>
            <a:ext cx="82090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an Zhu (Michigan State Universi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 Trefler (University of Toronto and CIA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03E4-DAE5-4525-AFDC-4B3C260B0AC0}" type="datetime3">
              <a:rPr b="1" i="1" lang="en-US" sz="2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8A93D-FB0F-44F4-A64D-2E77D25318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28600" y="685800"/>
          <a:ext cx="876312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7631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26E32-130B-4208-8FF5-B4B52AA437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981080" y="457200"/>
          <a:ext cx="479592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57200"/>
                    <a:ext cx="47959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5DF39-67DB-4008-A36A-8BEB147914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28600" y="685800"/>
          <a:ext cx="8458200" cy="50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4582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1DE7-8594-4004-BEC3-1636008945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28600" y="914400"/>
          <a:ext cx="8631360" cy="46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313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FA5E1-C46E-4532-9881-D9A7958BF3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nclu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rts by themselves have no impact on inequality. I devised a novel measure of the changing skill intensity of expor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catch-up shifts the South's export shares towards more skill-intensive good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ulting shift in export shares increases the level of wage inequalit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aken together, these conclusions mean that Southern catch-up has contributed to rising wage inequality in the South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del's exclusion restrictions are accepted by the data i.e., Southern catch-up raises wage inequality only indirectly by shifting export sha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BE05A-2D38-4237-A786-9092DC69BE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llow Dornbusch, Fischer and Samuelson (1980) as closely as possib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regions, Nor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Sou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factors, unskilled lab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skilled lab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 pr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H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 of inequa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ntinuum of goods indexed b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&l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&l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factor intensity reversals so that a larg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indexes a more skill-intensive goo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S, perfect competition, no international barriers to trade in goods, Cobb-Douglas preferences, balanced tra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7440" y="5335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3EC4-A2FF-4C02-A1A3-AF97D4D406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6680" y="1066680"/>
            <a:ext cx="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533412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371600" y="1295280"/>
            <a:ext cx="4648320" cy="335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19320" y="3124080"/>
            <a:ext cx="487656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362320" y="1371240"/>
            <a:ext cx="4647960" cy="33526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505320"/>
            <a:ext cx="0" cy="18288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3352680"/>
            <a:ext cx="0" cy="198144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1080" y="54864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uth 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20080" y="5410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rth 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91280" y="2901960"/>
            <a:ext cx="102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0" y="1149480"/>
            <a:ext cx="9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cc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cc33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03760" y="541008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A8F08-9487-4B95-9A36-F9FCFB59FF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4343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Demand for Skilled Labo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676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676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Demand for Unskilled Lab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137160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4382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Supply of Skilled Lab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819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ern Supply of Unskilled Lab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81952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2590920"/>
            <a:ext cx="3352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7040" y="3886200"/>
            <a:ext cx="755028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thern Inequa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l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penden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de Cut-Of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l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ow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l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18360" y="379440"/>
            <a:ext cx="55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he Southern Wage Inequality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9971E-973E-429B-92F7-A35D6CADA4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 equilibrium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re endogeno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ly differentiate the 3 g.e. equations to solve fo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d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ependent 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Independent Variab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thern Catch-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ow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55640" y="4557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The Export Share Shift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C635E-23D2-41FA-AE6E-B1C50E5004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man and Oostendorp (2001) NBER database on wages by occupation and industry for 1983-97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hanges over the four periods 1983-86, 1986-89, 1990-93, and 1993-97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9d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on for inclusion in datas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capita GDP below $14,000 in 198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ry had observations on a fixed set of manufacturing occupations for at least two perio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ent data for both non-production occupations (managers, professionals, technicians, and clerks) and production occupations (craft workers, operators, and laborer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9dc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countries and 58 observ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47720" y="330120"/>
            <a:ext cx="394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easuring 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  =  w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Times New Roman"/>
              </a:rPr>
              <a:t>HS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 / w</a:t>
            </a:r>
            <a:r>
              <a:rPr b="0" i="1" lang="en-US" sz="2800" spc="-1" strike="noStrike" baseline="-25000">
                <a:solidFill>
                  <a:srgbClr val="cc3300"/>
                </a:solidFill>
                <a:latin typeface="Times New Roman"/>
              </a:rPr>
              <a:t>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4B9B-6E04-404A-BEAE-E9F255A842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176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685800"/>
          <a:ext cx="42577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4257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876920" y="762120"/>
          <a:ext cx="4267080" cy="5715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762120"/>
                    <a:ext cx="4267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514320" y="380880"/>
            <a:ext cx="22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easuring 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dz</a:t>
            </a:r>
            <a:r>
              <a:rPr b="0" lang="en-US" sz="2800" spc="-1" strike="noStrike" baseline="30000">
                <a:solidFill>
                  <a:srgbClr val="cc33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8694-F08C-4553-A28D-A6C199B4D4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685800"/>
          <a:ext cx="42577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4257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863960" y="685800"/>
          <a:ext cx="4280040" cy="586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3960" y="685800"/>
                    <a:ext cx="42800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06BC-93BD-4286-B7C3-20AF159955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371600" y="380880"/>
          <a:ext cx="6781680" cy="607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678168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25B9-4A0B-47C5-8476-B635DD37F3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7:27:34Z</dcterms:created>
  <dc:creator>Dtrefler</dc:creator>
  <dc:description/>
  <dc:language>en-US</dc:language>
  <cp:lastModifiedBy> </cp:lastModifiedBy>
  <dcterms:modified xsi:type="dcterms:W3CDTF">2004-06-20T12:57:06Z</dcterms:modified>
  <cp:revision>52</cp:revision>
  <dc:subject/>
  <dc:title>PowerPoint Presentation</dc:title>
</cp:coreProperties>
</file>