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  <p:custShowLst>
    <p:custShow name="Lecture 1" id="0">
      <p:sldLst>
        <p:sld r:id="rId4"/>
        <p:sld r:id="rId14"/>
        <p:sld r:id="rId5"/>
        <p:sld r:id="rId6"/>
        <p:sld r:id="rId16"/>
        <p:sld r:id="rId17"/>
        <p:sld r:id="rId12"/>
        <p:sld r:id="rId8"/>
        <p:sld r:id="rId7"/>
        <p:sld r:id="rId13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3260-2A2E-4527-B344-A13BFADAE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187B-53D0-4903-95AE-371DBD2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9482-3684-4584-AD3B-2B780B40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11E8-5D51-405A-92EF-20586431F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A85DB-658E-403F-97E2-8A884FF41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8EA13-D628-45D9-B658-FFFDFA3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2D7E-E347-48E4-8D74-8CB87DA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BD17-4D82-4B08-925C-0337B92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211FA-933E-4B92-B40C-42BBFF6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20D5F-5DC4-4B54-A763-6C3467DC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6E3D7-46DB-423B-A6C8-768C5C87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3863-82A8-489D-9949-46C1DB7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9880A-27F9-4CB5-A195-F883217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467A-A039-4B03-8D89-7D636B7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409F2-BA21-404D-9F27-2DAFA77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9A1DE-7DD9-4ABB-AC2A-6990E9E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28DE6-45A8-4764-8411-DADC4E0DB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27B8-FC21-42EE-AACB-6E5E4E3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635B-6D45-48D3-A567-7FB984D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73A3-E3AA-4A76-A7A3-0F4F4B7F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3409-9B0C-4A62-9F2C-8887E847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6EE2-31C2-4F76-A1AA-EF75977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9D6A-01DD-4F03-972F-BEF4923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A495-A6DF-48C5-9B22-2B62F0E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19120"/>
          </a:xfrm>
          <a:prstGeom prst="rect">
            <a:avLst/>
          </a:prstGeom>
          <a:solidFill>
            <a:srgbClr val="313739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9d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44E-9AE2-47D1-ADDE-CB0A325E9CE6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5F01-4A09-453D-A969-296E1E8505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561-1AA9-4CD2-91E7-8124086CD1C3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7335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308-08C5-40F0-9CC7-21345E11B8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7720" y="114300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e Inequality in Developing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General Equilibriu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05320"/>
            <a:ext cx="820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Zhu (Michigan State Univers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Trefler (University of Toronto and CIA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4B7-041E-43A2-B01B-FA990D6B6DA9}" type="datetime3">
              <a:rPr b="1" i="1" lang="en-US" sz="2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4C90-9EEF-4CD4-8303-17C2F2DFED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8600" y="685800"/>
          <a:ext cx="876312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5CDD-D5E3-4B9B-AB01-CA3C4E77BA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981080" y="457200"/>
          <a:ext cx="47959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7200"/>
                    <a:ext cx="47959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295A-512F-4F76-A127-642B0089CB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85800"/>
          <a:ext cx="845820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4582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8EE9-4DE8-4891-989A-757122414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914400"/>
          <a:ext cx="863136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31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F18C-3829-4D23-8A77-9EA04B6D1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by themselves have no impact on inequality. I devised a novel measure of the changing skill intensity of ex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catch-up shifts the South's export shares towards more skill-intensive good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ing shift in export shares increases the level of wage inequal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aken together, these conclusions mean that Southern catch-up has contributed to rising wage inequality in the Sou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's exclusion restrictions are accepted by the data i.e., Southern catch-up raises wage inequality only indirectly by shifting export sha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99AA-FA11-4F51-928F-DDB4084FE2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 Dornbusch, Fischer and Samuelson (1980) as closely as possi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regions, No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factors, un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 pr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of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tinuum of goods index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factor intensity reversals so that a lar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ndexes a more skill-intensive go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S, perfect competition, no international barriers to trade in goods, Cobb-Douglas preferences, balanced tra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7440" y="533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035E-0A40-40BE-853D-F9EF74FBBD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3341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1295280"/>
            <a:ext cx="4648320" cy="335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19320" y="3124080"/>
            <a:ext cx="487656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62320" y="1371240"/>
            <a:ext cx="4647960" cy="3352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05320"/>
            <a:ext cx="0" cy="1828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352680"/>
            <a:ext cx="0" cy="198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1080" y="5486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u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0080" y="541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1280" y="290196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1149480"/>
            <a:ext cx="9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3760" y="541008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0493-8452-48CE-9C4A-EAF5C22FC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Skilled Lab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3716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19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590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040" y="3886200"/>
            <a:ext cx="75502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 Cut-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8360" y="3794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Southern Wage Inequality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CEA0-486C-43F6-867A-5D30DF524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equilibrium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endogeno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ifferentiate the 3 g.e. equations to solve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pendent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Catch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5640" y="455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Export Share Shif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1D7D-7664-42AD-AD41-AAC11054D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man and Oostendorp (2001) NBER database on wages by occupation and industry for 198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hanges over the four periods 1983-86, 1986-89, 1990-93, and 199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n for inclusion in data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capita GDP below $14,000 in 198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 had observations on a fixed set of manufacturing occupations for at least two perio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data for both non-production occupations (managers, professionals, technicians, and clerks) and production occupations (craft workers, operators, and labore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countries and 58 ob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7720" y="330120"/>
            <a:ext cx="394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 = 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H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/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2994-116D-420F-9654-AEB5706A6D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76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762120"/>
          <a:ext cx="426708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762120"/>
                    <a:ext cx="4267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514320" y="3808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dz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7DE1-D671-4090-B200-529644CBD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63960" y="685800"/>
          <a:ext cx="428004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3960" y="685800"/>
                    <a:ext cx="42800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FDF5-5351-47A8-868F-57CA77670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371600" y="380880"/>
          <a:ext cx="6781680" cy="607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781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3891-EDB4-44F4-8692-2D63340BC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7:27:34Z</dcterms:created>
  <dc:creator>Dtrefler</dc:creator>
  <dc:description/>
  <dc:language>en-US</dc:language>
  <cp:lastModifiedBy> </cp:lastModifiedBy>
  <dcterms:modified xsi:type="dcterms:W3CDTF">2004-06-20T12:57:06Z</dcterms:modified>
  <cp:revision>52</cp:revision>
  <dc:subject/>
  <dc:title>PowerPoint Presentation</dc:title>
</cp:coreProperties>
</file>