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  <p:custShowLst>
    <p:custShow name="Lecture 1" id="0">
      <p:sldLst>
        <p:sld r:id="rId4"/>
        <p:sld r:id="rId14"/>
        <p:sld r:id="rId5"/>
        <p:sld r:id="rId6"/>
        <p:sld r:id="rId16"/>
        <p:sld r:id="rId17"/>
        <p:sld r:id="rId12"/>
        <p:sld r:id="rId8"/>
        <p:sld r:id="rId7"/>
        <p:sld r:id="rId13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1237-A6D4-4C06-AC51-1F0376E5A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D1F3-EE83-49D7-984D-62AD444A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4F0C-9C38-49F2-BFF3-86B6F52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3288-6AAE-4084-B26D-46C41FDAC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888BF-FEAD-4A40-A49D-DDA26918E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9DD71-545D-42FE-85BF-0D9F482E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C9A0D-8E4F-4515-BAA6-BD12633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D406D-3323-4F3D-8C52-BE0BFD8F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8A7BE-A3DC-4C9D-BD57-ADC2FEC6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37C59-EBA4-42AD-AD53-3898EAC7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0D465-0AB0-485A-A737-EF7207A1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9724-A8B3-4A11-8F50-8FC7F94C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A4D34-B5F8-428E-BFD1-D7C0C93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38623-FC9F-4D38-9AA9-C5F30F8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4FF7B-8B35-4030-B318-7D5DFB1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BD4C2-DF08-4E6D-A4C2-E6641B7E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D6DE6-7ED6-44E1-BA98-F90B2F056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DDBD-D538-4B94-AD20-13E0040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1760-EB0E-49E1-8C5F-5589FFB8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896E-9727-471E-9923-6D5C885B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D814-F26E-4CF3-89D7-0AB43162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0F93-491A-4724-898B-135981D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DF54-3856-4F26-924C-114609C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64BD-7399-4E20-9D5A-1CC0528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19120"/>
          </a:xfrm>
          <a:prstGeom prst="rect">
            <a:avLst/>
          </a:prstGeom>
          <a:solidFill>
            <a:srgbClr val="313739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9d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A47-501C-4741-A3AD-30FB629134C3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22F-79F7-46CC-AE6A-35C69EA067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4C11-69C8-48A1-8917-903DC1F86BD4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37335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9604-9186-454E-A40A-70E0B5CF3F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7720" y="1143000"/>
            <a:ext cx="82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de Inequality in Developing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General Equilibriu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05320"/>
            <a:ext cx="8209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Zhu (Michigan State Universi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Trefler (University of Toronto and CIA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C1C-CE99-4335-91B1-330929E7DF4B}" type="datetime3">
              <a:rPr b="1" i="1" lang="en-US" sz="2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E0A2-1006-4FC0-A3AF-7C75580B42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8600" y="685800"/>
          <a:ext cx="876312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D50F-FFBB-449B-BBFC-F2500F232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981080" y="457200"/>
          <a:ext cx="47959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7200"/>
                    <a:ext cx="47959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DA95-E3B9-44F5-8D1E-049E1BC5EA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685800"/>
          <a:ext cx="845820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4582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B077-CB2D-4106-9A10-4ECB146C1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" y="914400"/>
          <a:ext cx="8631360" cy="46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313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9C2D-F7B0-4709-A1CB-D38600C41C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s by themselves have no impact on inequality. I devised a novel measure of the changing skill intensity of ex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catch-up shifts the South's export shares towards more skill-intensive good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ing shift in export shares increases the level of wage inequal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aken together, these conclusions mean that Southern catch-up has contributed to rising wage inequality in the Sou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del's exclusion restrictions are accepted by the data i.e., Southern catch-up raises wage inequality only indirectly by shifting export sha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6D6C-C01B-4F5F-A4A7-4779E55106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 Dornbusch, Fischer and Samuelson (1980) as closely as possib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regions, No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ou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factors, un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 pr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 of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tinuum of goods index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factor intensity reversals so that a lar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indexes a more skill-intensive go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S, perfect competition, no international barriers to trade in goods, Cobb-Douglas preferences, balanced tra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7440" y="533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CE16-2AF7-435C-A603-6048FD3BC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3341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1295280"/>
            <a:ext cx="4648320" cy="335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19320" y="3124080"/>
            <a:ext cx="487656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62320" y="1371240"/>
            <a:ext cx="4647960" cy="33526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505320"/>
            <a:ext cx="0" cy="1828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352680"/>
            <a:ext cx="0" cy="198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1080" y="5486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u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0080" y="541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r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1280" y="2901960"/>
            <a:ext cx="10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1149480"/>
            <a:ext cx="9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3760" y="541008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7BF8-C91C-4B43-B28A-364FFD0CB0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Skilled Lab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76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3716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438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819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8195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5909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040" y="3886200"/>
            <a:ext cx="75502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e Cut-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18360" y="3794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Southern Wage Inequality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4856-55C1-4B96-A0B6-D53125D62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 equilibrium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endogeno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ifferentiate the 3 g.e. equations to solve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pendent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ndependent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Catch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5640" y="4557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Export Share Shif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73EE-6825-4494-BF4D-87F58DA25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man and Oostendorp (2001) NBER database on wages by occupation and industry for 198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hanges over the four periods 1983-86, 1986-89, 1990-93, and 199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n for inclusion in data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capita GDP below $14,000 in 198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 had observations on a fixed set of manufacturing occupations for at least two perio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data for both non-production occupations (managers, professionals, technicians, and clerks) and production occupations (craft workers, operators, and labore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countries and 58 ob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7720" y="330120"/>
            <a:ext cx="394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 = 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H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/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80D4-68E8-4A4F-9150-CA13E9FF3A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76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762120"/>
          <a:ext cx="426708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762120"/>
                    <a:ext cx="4267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514320" y="38088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dz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B1EF-1886-46C9-A1A0-EC2000C21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63960" y="685800"/>
          <a:ext cx="4280040" cy="58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3960" y="685800"/>
                    <a:ext cx="42800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6E8C-CB65-4949-AEAD-A4D42410F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371600" y="380880"/>
          <a:ext cx="6781680" cy="607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781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11EC-4FC8-4B5E-9FA6-2FBBF8FC12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7:27:34Z</dcterms:created>
  <dc:creator>Dtrefler</dc:creator>
  <dc:description/>
  <dc:language>en-US</dc:language>
  <cp:lastModifiedBy> </cp:lastModifiedBy>
  <dcterms:modified xsi:type="dcterms:W3CDTF">2004-06-20T12:57:06Z</dcterms:modified>
  <cp:revision>52</cp:revision>
  <dc:subject/>
  <dc:title>PowerPoint Presentation</dc:title>
</cp:coreProperties>
</file>