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2.wmf" ContentType="image/x-wmf"/>
  <Override PartName="/ppt/media/image20.png" ContentType="image/png"/>
  <Override PartName="/ppt/media/image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0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8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8229600" y="6324480"/>
            <a:ext cx="700200" cy="4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cffd8"/>
                </a:solidFill>
                <a:latin typeface="Arial"/>
                <a:ea typeface="Arial"/>
              </a:rPr>
              <a:t>11-</a:t>
            </a:r>
            <a:fld id="{754BF03B-07E9-4CA3-B4AA-76BF8087DCCB}" type="slidenum">
              <a:rPr b="0" lang="en-US" sz="1600" spc="-1" strike="noStrike">
                <a:solidFill>
                  <a:srgbClr val="fcffd8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3276720" y="6629400"/>
            <a:ext cx="2895480" cy="25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900" spc="-1" strike="noStrike">
                <a:solidFill>
                  <a:srgbClr val="ffcc66"/>
                </a:solidFill>
                <a:latin typeface="Arial"/>
                <a:ea typeface="Arial"/>
              </a:rPr>
              <a:t>Copyright</a:t>
            </a:r>
            <a:r>
              <a:rPr b="0" lang="en-US" sz="900" spc="-1" strike="noStrike">
                <a:solidFill>
                  <a:srgbClr val="ffcc66"/>
                </a:solidFill>
                <a:latin typeface="Symbol"/>
                <a:ea typeface="Symbol"/>
              </a:rPr>
              <a:t> ©</a:t>
            </a:r>
            <a:r>
              <a:rPr b="0" lang="en-US" sz="900" spc="-1" strike="noStrike">
                <a:solidFill>
                  <a:srgbClr val="ffcc66"/>
                </a:solidFill>
                <a:latin typeface="Arial"/>
                <a:ea typeface="Arial"/>
              </a:rPr>
              <a:t> Houghton Mifflin Company. 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74760" y="146160"/>
            <a:ext cx="8623440" cy="6489720"/>
          </a:xfrm>
          <a:prstGeom prst="rect">
            <a:avLst/>
          </a:prstGeom>
          <a:noFill/>
          <a:ln w="12600">
            <a:solidFill>
              <a:srgbClr val="3333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-6480" y="-6480"/>
            <a:ext cx="622440" cy="687060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3333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029200" y="3200400"/>
            <a:ext cx="3873600" cy="29541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990720" y="2514600"/>
            <a:ext cx="42670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Belverd E. Needles, J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Marian Pow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Sherry K. Mi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Henry R. Ander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bc3700"/>
                </a:solidFill>
                <a:latin typeface="Arial"/>
                <a:ea typeface="Arial"/>
              </a:rPr>
              <a:t>- - - - - - - - - - 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Multimedia Slides b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Dr. Paul J. Roberts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cffd8"/>
                </a:solidFill>
                <a:latin typeface="Arial"/>
                <a:ea typeface="Arial"/>
              </a:rPr>
              <a:t>New Mexico State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cffd8"/>
                </a:solidFill>
                <a:latin typeface="Arial"/>
                <a:ea typeface="Arial"/>
              </a:rPr>
              <a:t>Steve Leas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cffd8"/>
                </a:solidFill>
                <a:latin typeface="Arial"/>
                <a:ea typeface="Arial"/>
              </a:rPr>
              <a:t>New Mexico State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066680" y="533520"/>
            <a:ext cx="762012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hapter 11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Long-Term Asse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8080" y="3808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Financing Long-Term Asse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752480" y="1981080"/>
            <a:ext cx="67816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Use cash flows from opera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ake a long-term lo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ake a short-term lo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ssue common stoc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ssue long-term no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ssue bon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Lease instead of purcha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295280" y="1371600"/>
            <a:ext cx="49449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inancing alternativ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914400" y="380880"/>
            <a:ext cx="79167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pplying the Matching Rule to Long-Term Asse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914400" y="2666880"/>
            <a:ext cx="7848720" cy="35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 How much of the total cost to</a:t>
            </a:r>
            <a:br>
              <a:rPr sz="3200"/>
            </a:b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   allocate to expense in the current</a:t>
            </a:r>
            <a:br>
              <a:rPr sz="3200"/>
            </a:b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   accounting peri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 How much to retain on the balance</a:t>
            </a:r>
            <a:br>
              <a:rPr sz="3200"/>
            </a:b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   sheet as an asset to benefit future</a:t>
            </a:r>
            <a:br>
              <a:rPr sz="3200"/>
            </a:b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   perio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09480" y="1981080"/>
            <a:ext cx="826452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wo important issues must be resolve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066680" y="251460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65200" indent="-56520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How is the cost of the long-term asset determin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200" indent="-56520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How should the expired portion of the cost of the long-term asset be allocated against revenues over tim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85800" y="380880"/>
            <a:ext cx="83059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Questions about the Acquisition, Use, and Disposal of Each 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Long-Term Ass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219320" y="2590920"/>
            <a:ext cx="746280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11200" indent="-51120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3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How should subsequent expenditures, such as repairs and additions, be treat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4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How should disposal of the long-term asset be record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85800" y="457200"/>
            <a:ext cx="830592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Questions about the Acquisition, Use, and Disposal of Each 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Long-Term Ass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600120" y="158760"/>
            <a:ext cx="853128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  <a:ea typeface="Arial"/>
              </a:rPr>
              <a:t>Issues of Accounting for Long-Term As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704880" y="755640"/>
            <a:ext cx="8217000" cy="5575320"/>
            <a:chOff x="704880" y="755640"/>
            <a:chExt cx="8217000" cy="5575320"/>
          </a:xfrm>
        </p:grpSpPr>
        <p:sp>
          <p:nvSpPr>
            <p:cNvPr id="137" name=""/>
            <p:cNvSpPr/>
            <p:nvPr/>
          </p:nvSpPr>
          <p:spPr>
            <a:xfrm>
              <a:off x="704880" y="755640"/>
              <a:ext cx="8217000" cy="5575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376360" y="1201680"/>
              <a:ext cx="493884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283520" y="1139760"/>
              <a:ext cx="219600" cy="103680"/>
            </a:xfrm>
            <a:custGeom>
              <a:avLst/>
              <a:gdLst/>
              <a:ahLst/>
              <a:rect l="0" t="0" r="r" b="b"/>
              <a:pathLst>
                <a:path w="610" h="288">
                  <a:moveTo>
                    <a:pt x="66" y="146"/>
                  </a:moveTo>
                  <a:lnTo>
                    <a:pt x="66" y="164"/>
                  </a:lnTo>
                  <a:lnTo>
                    <a:pt x="66" y="181"/>
                  </a:lnTo>
                  <a:lnTo>
                    <a:pt x="57" y="199"/>
                  </a:lnTo>
                  <a:lnTo>
                    <a:pt x="48" y="222"/>
                  </a:lnTo>
                  <a:lnTo>
                    <a:pt x="48" y="235"/>
                  </a:lnTo>
                  <a:lnTo>
                    <a:pt x="39" y="244"/>
                  </a:lnTo>
                  <a:lnTo>
                    <a:pt x="39" y="253"/>
                  </a:lnTo>
                  <a:lnTo>
                    <a:pt x="35" y="262"/>
                  </a:lnTo>
                  <a:lnTo>
                    <a:pt x="26" y="270"/>
                  </a:lnTo>
                  <a:lnTo>
                    <a:pt x="17" y="275"/>
                  </a:lnTo>
                  <a:lnTo>
                    <a:pt x="8" y="279"/>
                  </a:lnTo>
                  <a:lnTo>
                    <a:pt x="0" y="279"/>
                  </a:lnTo>
                  <a:lnTo>
                    <a:pt x="0" y="288"/>
                  </a:lnTo>
                  <a:lnTo>
                    <a:pt x="610" y="146"/>
                  </a:lnTo>
                  <a:lnTo>
                    <a:pt x="0" y="0"/>
                  </a:lnTo>
                  <a:lnTo>
                    <a:pt x="8" y="8"/>
                  </a:lnTo>
                  <a:lnTo>
                    <a:pt x="17" y="8"/>
                  </a:lnTo>
                  <a:lnTo>
                    <a:pt x="17" y="17"/>
                  </a:lnTo>
                  <a:lnTo>
                    <a:pt x="26" y="22"/>
                  </a:lnTo>
                  <a:lnTo>
                    <a:pt x="35" y="26"/>
                  </a:lnTo>
                  <a:lnTo>
                    <a:pt x="39" y="35"/>
                  </a:lnTo>
                  <a:lnTo>
                    <a:pt x="39" y="44"/>
                  </a:lnTo>
                  <a:lnTo>
                    <a:pt x="48" y="52"/>
                  </a:lnTo>
                  <a:lnTo>
                    <a:pt x="48" y="66"/>
                  </a:lnTo>
                  <a:lnTo>
                    <a:pt x="57" y="89"/>
                  </a:lnTo>
                  <a:lnTo>
                    <a:pt x="66" y="102"/>
                  </a:lnTo>
                  <a:lnTo>
                    <a:pt x="66" y="124"/>
                  </a:lnTo>
                  <a:lnTo>
                    <a:pt x="66" y="14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130480" y="1139760"/>
              <a:ext cx="219600" cy="103680"/>
            </a:xfrm>
            <a:custGeom>
              <a:avLst/>
              <a:gdLst/>
              <a:ahLst/>
              <a:rect l="0" t="0" r="r" b="b"/>
              <a:pathLst>
                <a:path w="610" h="288">
                  <a:moveTo>
                    <a:pt x="544" y="146"/>
                  </a:moveTo>
                  <a:lnTo>
                    <a:pt x="544" y="164"/>
                  </a:lnTo>
                  <a:lnTo>
                    <a:pt x="544" y="181"/>
                  </a:lnTo>
                  <a:lnTo>
                    <a:pt x="553" y="199"/>
                  </a:lnTo>
                  <a:lnTo>
                    <a:pt x="553" y="222"/>
                  </a:lnTo>
                  <a:lnTo>
                    <a:pt x="562" y="235"/>
                  </a:lnTo>
                  <a:lnTo>
                    <a:pt x="562" y="244"/>
                  </a:lnTo>
                  <a:lnTo>
                    <a:pt x="570" y="253"/>
                  </a:lnTo>
                  <a:lnTo>
                    <a:pt x="575" y="262"/>
                  </a:lnTo>
                  <a:lnTo>
                    <a:pt x="584" y="270"/>
                  </a:lnTo>
                  <a:lnTo>
                    <a:pt x="592" y="275"/>
                  </a:lnTo>
                  <a:lnTo>
                    <a:pt x="601" y="279"/>
                  </a:lnTo>
                  <a:lnTo>
                    <a:pt x="610" y="279"/>
                  </a:lnTo>
                  <a:lnTo>
                    <a:pt x="610" y="288"/>
                  </a:lnTo>
                  <a:lnTo>
                    <a:pt x="0" y="146"/>
                  </a:lnTo>
                  <a:lnTo>
                    <a:pt x="610" y="0"/>
                  </a:lnTo>
                  <a:lnTo>
                    <a:pt x="601" y="8"/>
                  </a:lnTo>
                  <a:lnTo>
                    <a:pt x="592" y="8"/>
                  </a:lnTo>
                  <a:lnTo>
                    <a:pt x="592" y="17"/>
                  </a:lnTo>
                  <a:lnTo>
                    <a:pt x="584" y="22"/>
                  </a:lnTo>
                  <a:lnTo>
                    <a:pt x="575" y="26"/>
                  </a:lnTo>
                  <a:lnTo>
                    <a:pt x="570" y="35"/>
                  </a:lnTo>
                  <a:lnTo>
                    <a:pt x="562" y="44"/>
                  </a:lnTo>
                  <a:lnTo>
                    <a:pt x="562" y="52"/>
                  </a:lnTo>
                  <a:lnTo>
                    <a:pt x="553" y="66"/>
                  </a:lnTo>
                  <a:lnTo>
                    <a:pt x="553" y="89"/>
                  </a:lnTo>
                  <a:lnTo>
                    <a:pt x="544" y="102"/>
                  </a:lnTo>
                  <a:lnTo>
                    <a:pt x="544" y="124"/>
                  </a:lnTo>
                  <a:lnTo>
                    <a:pt x="544" y="14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90880" y="1195560"/>
              <a:ext cx="5469120" cy="1634040"/>
            </a:xfrm>
            <a:custGeom>
              <a:avLst/>
              <a:gdLst/>
              <a:ahLst/>
              <a:rect l="0" t="0" r="r" b="b"/>
              <a:pathLst>
                <a:path fill="none" w="15192" h="4539">
                  <a:moveTo>
                    <a:pt x="0" y="0"/>
                  </a:moveTo>
                  <a:lnTo>
                    <a:pt x="0" y="4539"/>
                  </a:lnTo>
                  <a:lnTo>
                    <a:pt x="15192" y="4539"/>
                  </a:lnTo>
                  <a:lnTo>
                    <a:pt x="15192" y="0"/>
                  </a:lnTo>
                </a:path>
              </a:pathLst>
            </a:custGeom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909720" y="3173400"/>
              <a:ext cx="7807680" cy="2873880"/>
              <a:chOff x="909720" y="3173400"/>
              <a:chExt cx="7807680" cy="2873880"/>
            </a:xfrm>
          </p:grpSpPr>
          <p:sp>
            <p:nvSpPr>
              <p:cNvPr id="143" name=""/>
              <p:cNvSpPr/>
              <p:nvPr/>
            </p:nvSpPr>
            <p:spPr>
              <a:xfrm>
                <a:off x="909720" y="3173400"/>
                <a:ext cx="7795080" cy="2860920"/>
              </a:xfrm>
              <a:custGeom>
                <a:avLst/>
                <a:gdLst/>
                <a:ahLst/>
                <a:rect l="0" t="0" r="r" b="b"/>
                <a:pathLst>
                  <a:path w="21653" h="7947">
                    <a:moveTo>
                      <a:pt x="21653" y="7947"/>
                    </a:moveTo>
                    <a:lnTo>
                      <a:pt x="21653" y="0"/>
                    </a:lnTo>
                    <a:lnTo>
                      <a:pt x="0" y="0"/>
                    </a:lnTo>
                    <a:lnTo>
                      <a:pt x="0" y="7947"/>
                    </a:lnTo>
                    <a:lnTo>
                      <a:pt x="21653" y="7947"/>
                    </a:lnTo>
                    <a:close/>
                  </a:path>
                </a:pathLst>
              </a:custGeom>
              <a:solidFill>
                <a:srgbClr val="bfb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9720" y="3173400"/>
                <a:ext cx="7807680" cy="2873880"/>
              </a:xfrm>
              <a:custGeom>
                <a:avLst/>
                <a:gdLst/>
                <a:ahLst/>
                <a:rect l="0" t="0" r="r" b="b"/>
                <a:pathLst>
                  <a:path fill="none" w="21688" h="7983">
                    <a:moveTo>
                      <a:pt x="21688" y="7983"/>
                    </a:moveTo>
                    <a:lnTo>
                      <a:pt x="21688" y="0"/>
                    </a:lnTo>
                    <a:lnTo>
                      <a:pt x="0" y="0"/>
                    </a:lnTo>
                    <a:lnTo>
                      <a:pt x="0" y="7983"/>
                    </a:lnTo>
                    <a:lnTo>
                      <a:pt x="21688" y="7983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5" name=""/>
            <p:cNvSpPr txBox="1"/>
            <p:nvPr/>
          </p:nvSpPr>
          <p:spPr>
            <a:xfrm>
              <a:off x="822240" y="1019160"/>
              <a:ext cx="128736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quisiti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 txBox="1"/>
            <p:nvPr/>
          </p:nvSpPr>
          <p:spPr>
            <a:xfrm>
              <a:off x="7651800" y="2549520"/>
              <a:ext cx="102888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sposa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 txBox="1"/>
            <p:nvPr/>
          </p:nvSpPr>
          <p:spPr>
            <a:xfrm>
              <a:off x="2257560" y="861840"/>
              <a:ext cx="505764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eful life or holding period of the long-term asse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00200" y="1344600"/>
              <a:ext cx="4840560" cy="138276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292880" y="2692440"/>
              <a:ext cx="228960" cy="108360"/>
            </a:xfrm>
            <a:custGeom>
              <a:avLst/>
              <a:gdLst/>
              <a:ahLst/>
              <a:rect l="0" t="0" r="r" b="b"/>
              <a:pathLst>
                <a:path w="636" h="301">
                  <a:moveTo>
                    <a:pt x="127" y="150"/>
                  </a:moveTo>
                  <a:lnTo>
                    <a:pt x="114" y="177"/>
                  </a:lnTo>
                  <a:lnTo>
                    <a:pt x="105" y="195"/>
                  </a:lnTo>
                  <a:lnTo>
                    <a:pt x="88" y="208"/>
                  </a:lnTo>
                  <a:lnTo>
                    <a:pt x="79" y="225"/>
                  </a:lnTo>
                  <a:lnTo>
                    <a:pt x="74" y="231"/>
                  </a:lnTo>
                  <a:lnTo>
                    <a:pt x="57" y="244"/>
                  </a:lnTo>
                  <a:lnTo>
                    <a:pt x="48" y="248"/>
                  </a:lnTo>
                  <a:lnTo>
                    <a:pt x="39" y="257"/>
                  </a:lnTo>
                  <a:lnTo>
                    <a:pt x="35" y="262"/>
                  </a:lnTo>
                  <a:lnTo>
                    <a:pt x="26" y="266"/>
                  </a:lnTo>
                  <a:lnTo>
                    <a:pt x="17" y="266"/>
                  </a:lnTo>
                  <a:lnTo>
                    <a:pt x="8" y="266"/>
                  </a:lnTo>
                  <a:lnTo>
                    <a:pt x="0" y="266"/>
                  </a:lnTo>
                  <a:lnTo>
                    <a:pt x="0" y="275"/>
                  </a:lnTo>
                  <a:lnTo>
                    <a:pt x="636" y="301"/>
                  </a:lnTo>
                  <a:lnTo>
                    <a:pt x="127" y="0"/>
                  </a:lnTo>
                  <a:lnTo>
                    <a:pt x="127" y="8"/>
                  </a:lnTo>
                  <a:lnTo>
                    <a:pt x="136" y="8"/>
                  </a:lnTo>
                  <a:lnTo>
                    <a:pt x="145" y="17"/>
                  </a:lnTo>
                  <a:lnTo>
                    <a:pt x="145" y="26"/>
                  </a:lnTo>
                  <a:lnTo>
                    <a:pt x="145" y="35"/>
                  </a:lnTo>
                  <a:lnTo>
                    <a:pt x="145" y="39"/>
                  </a:lnTo>
                  <a:lnTo>
                    <a:pt x="154" y="52"/>
                  </a:lnTo>
                  <a:lnTo>
                    <a:pt x="154" y="61"/>
                  </a:lnTo>
                  <a:lnTo>
                    <a:pt x="154" y="74"/>
                  </a:lnTo>
                  <a:lnTo>
                    <a:pt x="145" y="93"/>
                  </a:lnTo>
                  <a:lnTo>
                    <a:pt x="145" y="115"/>
                  </a:lnTo>
                  <a:lnTo>
                    <a:pt x="136" y="133"/>
                  </a:lnTo>
                  <a:lnTo>
                    <a:pt x="127" y="15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297320" y="1644480"/>
              <a:ext cx="1074960" cy="646560"/>
            </a:xfrm>
            <a:custGeom>
              <a:avLst/>
              <a:gdLst/>
              <a:ahLst/>
              <a:rect l="0" t="0" r="r" b="b"/>
              <a:pathLst>
                <a:path w="2986" h="1796">
                  <a:moveTo>
                    <a:pt x="2986" y="1796"/>
                  </a:moveTo>
                  <a:lnTo>
                    <a:pt x="2986" y="0"/>
                  </a:lnTo>
                  <a:lnTo>
                    <a:pt x="0" y="0"/>
                  </a:lnTo>
                  <a:lnTo>
                    <a:pt x="0" y="1796"/>
                  </a:lnTo>
                  <a:lnTo>
                    <a:pt x="2986" y="17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 txBox="1"/>
            <p:nvPr/>
          </p:nvSpPr>
          <p:spPr>
            <a:xfrm>
              <a:off x="4314960" y="1573200"/>
              <a:ext cx="119700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cline in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 txBox="1"/>
            <p:nvPr/>
          </p:nvSpPr>
          <p:spPr>
            <a:xfrm>
              <a:off x="4314960" y="1776240"/>
              <a:ext cx="120816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unexpired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 txBox="1"/>
            <p:nvPr/>
          </p:nvSpPr>
          <p:spPr>
            <a:xfrm>
              <a:off x="4567320" y="1986120"/>
              <a:ext cx="59832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s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7559640" y="2973240"/>
              <a:ext cx="0" cy="54324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86560" y="2847960"/>
              <a:ext cx="124200" cy="176400"/>
            </a:xfrm>
            <a:custGeom>
              <a:avLst/>
              <a:gdLst/>
              <a:ahLst/>
              <a:rect l="0" t="0" r="r" b="b"/>
              <a:pathLst>
                <a:path w="345" h="490">
                  <a:moveTo>
                    <a:pt x="172" y="433"/>
                  </a:moveTo>
                  <a:lnTo>
                    <a:pt x="195" y="433"/>
                  </a:lnTo>
                  <a:lnTo>
                    <a:pt x="217" y="433"/>
                  </a:lnTo>
                  <a:lnTo>
                    <a:pt x="234" y="441"/>
                  </a:lnTo>
                  <a:lnTo>
                    <a:pt x="262" y="441"/>
                  </a:lnTo>
                  <a:lnTo>
                    <a:pt x="279" y="450"/>
                  </a:lnTo>
                  <a:lnTo>
                    <a:pt x="293" y="450"/>
                  </a:lnTo>
                  <a:lnTo>
                    <a:pt x="301" y="455"/>
                  </a:lnTo>
                  <a:lnTo>
                    <a:pt x="315" y="459"/>
                  </a:lnTo>
                  <a:lnTo>
                    <a:pt x="323" y="468"/>
                  </a:lnTo>
                  <a:lnTo>
                    <a:pt x="328" y="472"/>
                  </a:lnTo>
                  <a:lnTo>
                    <a:pt x="337" y="481"/>
                  </a:lnTo>
                  <a:lnTo>
                    <a:pt x="345" y="490"/>
                  </a:lnTo>
                  <a:lnTo>
                    <a:pt x="172" y="0"/>
                  </a:lnTo>
                  <a:lnTo>
                    <a:pt x="0" y="490"/>
                  </a:lnTo>
                  <a:lnTo>
                    <a:pt x="0" y="481"/>
                  </a:lnTo>
                  <a:lnTo>
                    <a:pt x="8" y="472"/>
                  </a:lnTo>
                  <a:lnTo>
                    <a:pt x="17" y="468"/>
                  </a:lnTo>
                  <a:lnTo>
                    <a:pt x="22" y="459"/>
                  </a:lnTo>
                  <a:lnTo>
                    <a:pt x="30" y="455"/>
                  </a:lnTo>
                  <a:lnTo>
                    <a:pt x="44" y="450"/>
                  </a:lnTo>
                  <a:lnTo>
                    <a:pt x="61" y="450"/>
                  </a:lnTo>
                  <a:lnTo>
                    <a:pt x="74" y="441"/>
                  </a:lnTo>
                  <a:lnTo>
                    <a:pt x="102" y="441"/>
                  </a:lnTo>
                  <a:lnTo>
                    <a:pt x="124" y="433"/>
                  </a:lnTo>
                  <a:lnTo>
                    <a:pt x="146" y="433"/>
                  </a:lnTo>
                  <a:lnTo>
                    <a:pt x="172" y="43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4876920" y="2973240"/>
              <a:ext cx="0" cy="54324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803840" y="2847960"/>
              <a:ext cx="128880" cy="176400"/>
            </a:xfrm>
            <a:custGeom>
              <a:avLst/>
              <a:gdLst/>
              <a:ahLst/>
              <a:rect l="0" t="0" r="r" b="b"/>
              <a:pathLst>
                <a:path w="358" h="490">
                  <a:moveTo>
                    <a:pt x="176" y="441"/>
                  </a:moveTo>
                  <a:lnTo>
                    <a:pt x="203" y="441"/>
                  </a:lnTo>
                  <a:lnTo>
                    <a:pt x="225" y="441"/>
                  </a:lnTo>
                  <a:lnTo>
                    <a:pt x="247" y="441"/>
                  </a:lnTo>
                  <a:lnTo>
                    <a:pt x="274" y="450"/>
                  </a:lnTo>
                  <a:lnTo>
                    <a:pt x="292" y="450"/>
                  </a:lnTo>
                  <a:lnTo>
                    <a:pt x="305" y="455"/>
                  </a:lnTo>
                  <a:lnTo>
                    <a:pt x="314" y="455"/>
                  </a:lnTo>
                  <a:lnTo>
                    <a:pt x="327" y="459"/>
                  </a:lnTo>
                  <a:lnTo>
                    <a:pt x="336" y="468"/>
                  </a:lnTo>
                  <a:lnTo>
                    <a:pt x="340" y="472"/>
                  </a:lnTo>
                  <a:lnTo>
                    <a:pt x="349" y="481"/>
                  </a:lnTo>
                  <a:lnTo>
                    <a:pt x="349" y="490"/>
                  </a:lnTo>
                  <a:lnTo>
                    <a:pt x="358" y="490"/>
                  </a:lnTo>
                  <a:lnTo>
                    <a:pt x="176" y="0"/>
                  </a:lnTo>
                  <a:lnTo>
                    <a:pt x="0" y="490"/>
                  </a:lnTo>
                  <a:lnTo>
                    <a:pt x="8" y="481"/>
                  </a:lnTo>
                  <a:lnTo>
                    <a:pt x="8" y="472"/>
                  </a:lnTo>
                  <a:lnTo>
                    <a:pt x="17" y="472"/>
                  </a:lnTo>
                  <a:lnTo>
                    <a:pt x="22" y="468"/>
                  </a:lnTo>
                  <a:lnTo>
                    <a:pt x="30" y="459"/>
                  </a:lnTo>
                  <a:lnTo>
                    <a:pt x="39" y="455"/>
                  </a:lnTo>
                  <a:lnTo>
                    <a:pt x="52" y="455"/>
                  </a:lnTo>
                  <a:lnTo>
                    <a:pt x="61" y="450"/>
                  </a:lnTo>
                  <a:lnTo>
                    <a:pt x="83" y="450"/>
                  </a:lnTo>
                  <a:lnTo>
                    <a:pt x="101" y="441"/>
                  </a:lnTo>
                  <a:lnTo>
                    <a:pt x="123" y="441"/>
                  </a:lnTo>
                  <a:lnTo>
                    <a:pt x="145" y="441"/>
                  </a:lnTo>
                  <a:lnTo>
                    <a:pt x="176" y="44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2090880" y="2973240"/>
              <a:ext cx="0" cy="54000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1133640" y="3478320"/>
              <a:ext cx="1849320" cy="1036440"/>
              <a:chOff x="1133640" y="3478320"/>
              <a:chExt cx="1849320" cy="1036440"/>
            </a:xfrm>
          </p:grpSpPr>
          <p:sp>
            <p:nvSpPr>
              <p:cNvPr id="160" name=""/>
              <p:cNvSpPr/>
              <p:nvPr/>
            </p:nvSpPr>
            <p:spPr>
              <a:xfrm>
                <a:off x="1133640" y="3562200"/>
                <a:ext cx="1751040" cy="95256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233360" y="3478320"/>
                <a:ext cx="1749600" cy="954000"/>
              </a:xfrm>
              <a:prstGeom prst="rect">
                <a:avLst/>
              </a:prstGeom>
              <a:solidFill>
                <a:srgbClr val="bfdfdf"/>
              </a:solidFill>
              <a:ln w="12600">
                <a:solidFill>
                  <a:srgbClr val="ff00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1235160" y="3897360"/>
              <a:ext cx="1717560" cy="538200"/>
              <a:chOff x="1235160" y="3897360"/>
              <a:chExt cx="1717560" cy="538200"/>
            </a:xfrm>
          </p:grpSpPr>
          <p:sp>
            <p:nvSpPr>
              <p:cNvPr id="163" name=""/>
              <p:cNvSpPr txBox="1"/>
              <p:nvPr/>
            </p:nvSpPr>
            <p:spPr>
              <a:xfrm>
                <a:off x="1235160" y="3897360"/>
                <a:ext cx="1717560" cy="333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. Measuremen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 txBox="1"/>
              <p:nvPr/>
            </p:nvSpPr>
            <p:spPr>
              <a:xfrm>
                <a:off x="1235160" y="4102200"/>
                <a:ext cx="1073160" cy="333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 cos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5" name=""/>
            <p:cNvSpPr txBox="1"/>
            <p:nvPr/>
          </p:nvSpPr>
          <p:spPr>
            <a:xfrm>
              <a:off x="1311120" y="3557520"/>
              <a:ext cx="153036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QUISITI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002120" y="4944960"/>
              <a:ext cx="125640" cy="182880"/>
            </a:xfrm>
            <a:custGeom>
              <a:avLst/>
              <a:gdLst/>
              <a:ahLst/>
              <a:rect l="0" t="0" r="r" b="b"/>
              <a:pathLst>
                <a:path w="349" h="508">
                  <a:moveTo>
                    <a:pt x="177" y="446"/>
                  </a:moveTo>
                  <a:lnTo>
                    <a:pt x="195" y="446"/>
                  </a:lnTo>
                  <a:lnTo>
                    <a:pt x="217" y="446"/>
                  </a:lnTo>
                  <a:lnTo>
                    <a:pt x="239" y="450"/>
                  </a:lnTo>
                  <a:lnTo>
                    <a:pt x="265" y="450"/>
                  </a:lnTo>
                  <a:lnTo>
                    <a:pt x="283" y="459"/>
                  </a:lnTo>
                  <a:lnTo>
                    <a:pt x="296" y="468"/>
                  </a:lnTo>
                  <a:lnTo>
                    <a:pt x="305" y="468"/>
                  </a:lnTo>
                  <a:lnTo>
                    <a:pt x="318" y="472"/>
                  </a:lnTo>
                  <a:lnTo>
                    <a:pt x="327" y="477"/>
                  </a:lnTo>
                  <a:lnTo>
                    <a:pt x="331" y="486"/>
                  </a:lnTo>
                  <a:lnTo>
                    <a:pt x="340" y="486"/>
                  </a:lnTo>
                  <a:lnTo>
                    <a:pt x="340" y="490"/>
                  </a:lnTo>
                  <a:lnTo>
                    <a:pt x="349" y="499"/>
                  </a:lnTo>
                  <a:lnTo>
                    <a:pt x="349" y="508"/>
                  </a:lnTo>
                  <a:lnTo>
                    <a:pt x="177" y="0"/>
                  </a:lnTo>
                  <a:lnTo>
                    <a:pt x="0" y="508"/>
                  </a:lnTo>
                  <a:lnTo>
                    <a:pt x="0" y="499"/>
                  </a:lnTo>
                  <a:lnTo>
                    <a:pt x="0" y="490"/>
                  </a:lnTo>
                  <a:lnTo>
                    <a:pt x="8" y="486"/>
                  </a:lnTo>
                  <a:lnTo>
                    <a:pt x="17" y="486"/>
                  </a:lnTo>
                  <a:lnTo>
                    <a:pt x="17" y="477"/>
                  </a:lnTo>
                  <a:lnTo>
                    <a:pt x="22" y="472"/>
                  </a:lnTo>
                  <a:lnTo>
                    <a:pt x="39" y="468"/>
                  </a:lnTo>
                  <a:lnTo>
                    <a:pt x="44" y="468"/>
                  </a:lnTo>
                  <a:lnTo>
                    <a:pt x="61" y="459"/>
                  </a:lnTo>
                  <a:lnTo>
                    <a:pt x="74" y="450"/>
                  </a:lnTo>
                  <a:lnTo>
                    <a:pt x="101" y="450"/>
                  </a:lnTo>
                  <a:lnTo>
                    <a:pt x="123" y="446"/>
                  </a:lnTo>
                  <a:lnTo>
                    <a:pt x="145" y="446"/>
                  </a:lnTo>
                  <a:lnTo>
                    <a:pt x="177" y="44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3166920" y="3486240"/>
              <a:ext cx="3154680" cy="1982520"/>
              <a:chOff x="3166920" y="3486240"/>
              <a:chExt cx="3154680" cy="1982520"/>
            </a:xfrm>
          </p:grpSpPr>
          <p:sp>
            <p:nvSpPr>
              <p:cNvPr id="168" name=""/>
              <p:cNvSpPr/>
              <p:nvPr/>
            </p:nvSpPr>
            <p:spPr>
              <a:xfrm>
                <a:off x="3166920" y="3570120"/>
                <a:ext cx="3052800" cy="189864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268800" y="3486240"/>
                <a:ext cx="3052800" cy="1898640"/>
              </a:xfrm>
              <a:prstGeom prst="rect">
                <a:avLst/>
              </a:prstGeom>
              <a:solidFill>
                <a:srgbClr val="bfdfdf"/>
              </a:solidFill>
              <a:ln w="12600">
                <a:solidFill>
                  <a:srgbClr val="ff00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"/>
            <p:cNvSpPr txBox="1"/>
            <p:nvPr/>
          </p:nvSpPr>
          <p:spPr>
            <a:xfrm>
              <a:off x="3282840" y="3852720"/>
              <a:ext cx="3035160" cy="577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 Allocation of expired cos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 periods benefite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3270240" y="4227480"/>
              <a:ext cx="3105000" cy="1211400"/>
              <a:chOff x="3270240" y="4227480"/>
              <a:chExt cx="3105000" cy="1211400"/>
            </a:xfrm>
          </p:grpSpPr>
          <p:sp>
            <p:nvSpPr>
              <p:cNvPr id="172" name=""/>
              <p:cNvSpPr txBox="1"/>
              <p:nvPr/>
            </p:nvSpPr>
            <p:spPr>
              <a:xfrm>
                <a:off x="3270240" y="4227480"/>
                <a:ext cx="3105000" cy="577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. Accounting for subsequent 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 txBox="1"/>
              <p:nvPr/>
            </p:nvSpPr>
            <p:spPr>
              <a:xfrm>
                <a:off x="3270240" y="4437000"/>
                <a:ext cx="2597040" cy="577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xpenditures, such as 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 txBox="1"/>
              <p:nvPr/>
            </p:nvSpPr>
            <p:spPr>
              <a:xfrm>
                <a:off x="3270240" y="4648320"/>
                <a:ext cx="2552760" cy="577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pairs, maintenance, 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 txBox="1"/>
              <p:nvPr/>
            </p:nvSpPr>
            <p:spPr>
              <a:xfrm>
                <a:off x="3270240" y="4861080"/>
                <a:ext cx="1727280" cy="577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nd additions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6" name=""/>
            <p:cNvSpPr txBox="1"/>
            <p:nvPr/>
          </p:nvSpPr>
          <p:spPr>
            <a:xfrm>
              <a:off x="4562640" y="3511440"/>
              <a:ext cx="60480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7" name=""/>
            <p:cNvGrpSpPr/>
            <p:nvPr/>
          </p:nvGrpSpPr>
          <p:grpSpPr>
            <a:xfrm>
              <a:off x="6632640" y="3494160"/>
              <a:ext cx="1851120" cy="1035000"/>
              <a:chOff x="6632640" y="3494160"/>
              <a:chExt cx="1851120" cy="1035000"/>
            </a:xfrm>
          </p:grpSpPr>
          <p:sp>
            <p:nvSpPr>
              <p:cNvPr id="178" name=""/>
              <p:cNvSpPr/>
              <p:nvPr/>
            </p:nvSpPr>
            <p:spPr>
              <a:xfrm>
                <a:off x="6632640" y="3576600"/>
                <a:ext cx="1752480" cy="952560"/>
              </a:xfrm>
              <a:prstGeom prst="rect">
                <a:avLst/>
              </a:prstGeom>
              <a:solidFill>
                <a:srgbClr val="3f7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732720" y="3494160"/>
                <a:ext cx="1751040" cy="952560"/>
              </a:xfrm>
              <a:prstGeom prst="rect">
                <a:avLst/>
              </a:prstGeom>
              <a:solidFill>
                <a:srgbClr val="bfdfdf"/>
              </a:solidFill>
              <a:ln w="12600">
                <a:solidFill>
                  <a:srgbClr val="ff00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"/>
            <p:cNvSpPr txBox="1"/>
            <p:nvPr/>
          </p:nvSpPr>
          <p:spPr>
            <a:xfrm>
              <a:off x="6983280" y="3511440"/>
              <a:ext cx="121932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SPOSA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6799320" y="3859200"/>
              <a:ext cx="1649520" cy="531720"/>
              <a:chOff x="6799320" y="3859200"/>
              <a:chExt cx="1649520" cy="531720"/>
            </a:xfrm>
          </p:grpSpPr>
          <p:sp>
            <p:nvSpPr>
              <p:cNvPr id="182" name=""/>
              <p:cNvSpPr txBox="1"/>
              <p:nvPr/>
            </p:nvSpPr>
            <p:spPr>
              <a:xfrm>
                <a:off x="6799320" y="3859200"/>
                <a:ext cx="1411200" cy="333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. Recording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 txBox="1"/>
              <p:nvPr/>
            </p:nvSpPr>
            <p:spPr>
              <a:xfrm>
                <a:off x="6799320" y="4057560"/>
                <a:ext cx="1649520" cy="333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 disposals 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2025720" y="2824200"/>
              <a:ext cx="128880" cy="178200"/>
            </a:xfrm>
            <a:custGeom>
              <a:avLst/>
              <a:gdLst/>
              <a:ahLst/>
              <a:rect l="0" t="0" r="r" b="b"/>
              <a:pathLst>
                <a:path w="358" h="495">
                  <a:moveTo>
                    <a:pt x="176" y="447"/>
                  </a:moveTo>
                  <a:lnTo>
                    <a:pt x="203" y="447"/>
                  </a:lnTo>
                  <a:lnTo>
                    <a:pt x="225" y="447"/>
                  </a:lnTo>
                  <a:lnTo>
                    <a:pt x="247" y="447"/>
                  </a:lnTo>
                  <a:lnTo>
                    <a:pt x="274" y="456"/>
                  </a:lnTo>
                  <a:lnTo>
                    <a:pt x="292" y="456"/>
                  </a:lnTo>
                  <a:lnTo>
                    <a:pt x="305" y="460"/>
                  </a:lnTo>
                  <a:lnTo>
                    <a:pt x="314" y="460"/>
                  </a:lnTo>
                  <a:lnTo>
                    <a:pt x="327" y="465"/>
                  </a:lnTo>
                  <a:lnTo>
                    <a:pt x="336" y="473"/>
                  </a:lnTo>
                  <a:lnTo>
                    <a:pt x="340" y="478"/>
                  </a:lnTo>
                  <a:lnTo>
                    <a:pt x="349" y="487"/>
                  </a:lnTo>
                  <a:lnTo>
                    <a:pt x="349" y="495"/>
                  </a:lnTo>
                  <a:lnTo>
                    <a:pt x="358" y="495"/>
                  </a:lnTo>
                  <a:lnTo>
                    <a:pt x="176" y="0"/>
                  </a:lnTo>
                  <a:lnTo>
                    <a:pt x="0" y="495"/>
                  </a:lnTo>
                  <a:lnTo>
                    <a:pt x="8" y="487"/>
                  </a:lnTo>
                  <a:lnTo>
                    <a:pt x="8" y="478"/>
                  </a:lnTo>
                  <a:lnTo>
                    <a:pt x="17" y="478"/>
                  </a:lnTo>
                  <a:lnTo>
                    <a:pt x="22" y="473"/>
                  </a:lnTo>
                  <a:lnTo>
                    <a:pt x="30" y="465"/>
                  </a:lnTo>
                  <a:lnTo>
                    <a:pt x="39" y="460"/>
                  </a:lnTo>
                  <a:lnTo>
                    <a:pt x="52" y="460"/>
                  </a:lnTo>
                  <a:lnTo>
                    <a:pt x="61" y="456"/>
                  </a:lnTo>
                  <a:lnTo>
                    <a:pt x="83" y="456"/>
                  </a:lnTo>
                  <a:lnTo>
                    <a:pt x="101" y="447"/>
                  </a:lnTo>
                  <a:lnTo>
                    <a:pt x="123" y="447"/>
                  </a:lnTo>
                  <a:lnTo>
                    <a:pt x="145" y="447"/>
                  </a:lnTo>
                  <a:lnTo>
                    <a:pt x="176" y="44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 txBox="1"/>
            <p:nvPr/>
          </p:nvSpPr>
          <p:spPr>
            <a:xfrm>
              <a:off x="3246480" y="5551560"/>
              <a:ext cx="3063960" cy="363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COUNTING ISSU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2362320" y="990720"/>
            <a:ext cx="4521240" cy="11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838080" y="22860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are the characteristics of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long-term asse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Long-term assets have a useful lif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of more than one year, they ar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quired for use in the operation of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business, and they are not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tended for resale to custom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6705720" y="304920"/>
            <a:ext cx="2056320" cy="2055960"/>
            <a:chOff x="6705720" y="304920"/>
            <a:chExt cx="2056320" cy="2055960"/>
          </a:xfrm>
        </p:grpSpPr>
        <p:sp>
          <p:nvSpPr>
            <p:cNvPr id="189" name=""/>
            <p:cNvSpPr/>
            <p:nvPr/>
          </p:nvSpPr>
          <p:spPr>
            <a:xfrm>
              <a:off x="6710400" y="1314360"/>
              <a:ext cx="500400" cy="717840"/>
            </a:xfrm>
            <a:custGeom>
              <a:avLst/>
              <a:gdLst/>
              <a:ahLst/>
              <a:rect l="0" t="0" r="r" b="b"/>
              <a:pathLst>
                <a:path w="1390" h="1994">
                  <a:moveTo>
                    <a:pt x="555" y="0"/>
                  </a:moveTo>
                  <a:lnTo>
                    <a:pt x="480" y="88"/>
                  </a:lnTo>
                  <a:lnTo>
                    <a:pt x="480" y="348"/>
                  </a:lnTo>
                  <a:lnTo>
                    <a:pt x="555" y="533"/>
                  </a:lnTo>
                  <a:lnTo>
                    <a:pt x="643" y="630"/>
                  </a:lnTo>
                  <a:lnTo>
                    <a:pt x="507" y="758"/>
                  </a:lnTo>
                  <a:lnTo>
                    <a:pt x="348" y="1046"/>
                  </a:lnTo>
                  <a:lnTo>
                    <a:pt x="26" y="1509"/>
                  </a:lnTo>
                  <a:lnTo>
                    <a:pt x="0" y="1614"/>
                  </a:lnTo>
                  <a:lnTo>
                    <a:pt x="26" y="1711"/>
                  </a:lnTo>
                  <a:lnTo>
                    <a:pt x="127" y="1711"/>
                  </a:lnTo>
                  <a:lnTo>
                    <a:pt x="216" y="1601"/>
                  </a:lnTo>
                  <a:lnTo>
                    <a:pt x="348" y="1345"/>
                  </a:lnTo>
                  <a:lnTo>
                    <a:pt x="432" y="1235"/>
                  </a:lnTo>
                  <a:lnTo>
                    <a:pt x="480" y="1403"/>
                  </a:lnTo>
                  <a:lnTo>
                    <a:pt x="445" y="1588"/>
                  </a:lnTo>
                  <a:lnTo>
                    <a:pt x="308" y="1848"/>
                  </a:lnTo>
                  <a:lnTo>
                    <a:pt x="348" y="1910"/>
                  </a:lnTo>
                  <a:lnTo>
                    <a:pt x="432" y="1892"/>
                  </a:lnTo>
                  <a:lnTo>
                    <a:pt x="604" y="1756"/>
                  </a:lnTo>
                  <a:lnTo>
                    <a:pt x="737" y="1522"/>
                  </a:lnTo>
                  <a:lnTo>
                    <a:pt x="737" y="1923"/>
                  </a:lnTo>
                  <a:lnTo>
                    <a:pt x="904" y="1994"/>
                  </a:lnTo>
                  <a:lnTo>
                    <a:pt x="1006" y="1747"/>
                  </a:lnTo>
                  <a:lnTo>
                    <a:pt x="1085" y="1976"/>
                  </a:lnTo>
                  <a:lnTo>
                    <a:pt x="1156" y="1910"/>
                  </a:lnTo>
                  <a:lnTo>
                    <a:pt x="1187" y="1447"/>
                  </a:lnTo>
                  <a:lnTo>
                    <a:pt x="1390" y="1010"/>
                  </a:lnTo>
                  <a:lnTo>
                    <a:pt x="1345" y="758"/>
                  </a:lnTo>
                  <a:lnTo>
                    <a:pt x="1200" y="665"/>
                  </a:lnTo>
                  <a:lnTo>
                    <a:pt x="1050" y="674"/>
                  </a:lnTo>
                  <a:lnTo>
                    <a:pt x="1006" y="471"/>
                  </a:lnTo>
                  <a:lnTo>
                    <a:pt x="847" y="427"/>
                  </a:lnTo>
                  <a:lnTo>
                    <a:pt x="715" y="361"/>
                  </a:lnTo>
                  <a:lnTo>
                    <a:pt x="643" y="44"/>
                  </a:lnTo>
                  <a:lnTo>
                    <a:pt x="555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130880" y="1604880"/>
              <a:ext cx="146520" cy="346320"/>
            </a:xfrm>
            <a:custGeom>
              <a:avLst/>
              <a:gdLst/>
              <a:ahLst/>
              <a:rect l="0" t="0" r="r" b="b"/>
              <a:pathLst>
                <a:path w="407" h="962">
                  <a:moveTo>
                    <a:pt x="199" y="0"/>
                  </a:moveTo>
                  <a:lnTo>
                    <a:pt x="407" y="246"/>
                  </a:lnTo>
                  <a:lnTo>
                    <a:pt x="306" y="794"/>
                  </a:lnTo>
                  <a:lnTo>
                    <a:pt x="0" y="962"/>
                  </a:lnTo>
                  <a:lnTo>
                    <a:pt x="0" y="688"/>
                  </a:lnTo>
                  <a:lnTo>
                    <a:pt x="124" y="405"/>
                  </a:lnTo>
                  <a:lnTo>
                    <a:pt x="199" y="202"/>
                  </a:lnTo>
                  <a:lnTo>
                    <a:pt x="199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086680" y="1406520"/>
              <a:ext cx="368640" cy="313200"/>
            </a:xfrm>
            <a:custGeom>
              <a:avLst/>
              <a:gdLst/>
              <a:ahLst/>
              <a:rect l="0" t="0" r="r" b="b"/>
              <a:pathLst>
                <a:path w="1024" h="870">
                  <a:moveTo>
                    <a:pt x="423" y="0"/>
                  </a:moveTo>
                  <a:lnTo>
                    <a:pt x="423" y="141"/>
                  </a:lnTo>
                  <a:lnTo>
                    <a:pt x="458" y="265"/>
                  </a:lnTo>
                  <a:lnTo>
                    <a:pt x="658" y="472"/>
                  </a:lnTo>
                  <a:lnTo>
                    <a:pt x="1024" y="591"/>
                  </a:lnTo>
                  <a:lnTo>
                    <a:pt x="975" y="853"/>
                  </a:lnTo>
                  <a:lnTo>
                    <a:pt x="658" y="870"/>
                  </a:lnTo>
                  <a:lnTo>
                    <a:pt x="198" y="681"/>
                  </a:lnTo>
                  <a:lnTo>
                    <a:pt x="0" y="349"/>
                  </a:lnTo>
                  <a:lnTo>
                    <a:pt x="233" y="13"/>
                  </a:lnTo>
                  <a:lnTo>
                    <a:pt x="423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234280" y="1049400"/>
              <a:ext cx="514800" cy="694080"/>
            </a:xfrm>
            <a:custGeom>
              <a:avLst/>
              <a:gdLst/>
              <a:ahLst/>
              <a:rect l="0" t="0" r="r" b="b"/>
              <a:pathLst>
                <a:path w="1430" h="1928">
                  <a:moveTo>
                    <a:pt x="127" y="815"/>
                  </a:moveTo>
                  <a:lnTo>
                    <a:pt x="0" y="952"/>
                  </a:lnTo>
                  <a:lnTo>
                    <a:pt x="26" y="1266"/>
                  </a:lnTo>
                  <a:lnTo>
                    <a:pt x="229" y="1412"/>
                  </a:lnTo>
                  <a:lnTo>
                    <a:pt x="242" y="1892"/>
                  </a:lnTo>
                  <a:lnTo>
                    <a:pt x="446" y="1892"/>
                  </a:lnTo>
                  <a:lnTo>
                    <a:pt x="433" y="1491"/>
                  </a:lnTo>
                  <a:lnTo>
                    <a:pt x="578" y="1910"/>
                  </a:lnTo>
                  <a:lnTo>
                    <a:pt x="680" y="1928"/>
                  </a:lnTo>
                  <a:lnTo>
                    <a:pt x="750" y="1786"/>
                  </a:lnTo>
                  <a:lnTo>
                    <a:pt x="763" y="1522"/>
                  </a:lnTo>
                  <a:lnTo>
                    <a:pt x="984" y="1773"/>
                  </a:lnTo>
                  <a:lnTo>
                    <a:pt x="1073" y="1747"/>
                  </a:lnTo>
                  <a:lnTo>
                    <a:pt x="1054" y="1579"/>
                  </a:lnTo>
                  <a:lnTo>
                    <a:pt x="971" y="1337"/>
                  </a:lnTo>
                  <a:lnTo>
                    <a:pt x="882" y="1173"/>
                  </a:lnTo>
                  <a:lnTo>
                    <a:pt x="918" y="1063"/>
                  </a:lnTo>
                  <a:lnTo>
                    <a:pt x="971" y="1090"/>
                  </a:lnTo>
                  <a:lnTo>
                    <a:pt x="1170" y="1337"/>
                  </a:lnTo>
                  <a:lnTo>
                    <a:pt x="1386" y="1394"/>
                  </a:lnTo>
                  <a:lnTo>
                    <a:pt x="1430" y="1319"/>
                  </a:lnTo>
                  <a:lnTo>
                    <a:pt x="1399" y="1187"/>
                  </a:lnTo>
                  <a:lnTo>
                    <a:pt x="997" y="798"/>
                  </a:lnTo>
                  <a:lnTo>
                    <a:pt x="680" y="679"/>
                  </a:lnTo>
                  <a:lnTo>
                    <a:pt x="640" y="463"/>
                  </a:lnTo>
                  <a:lnTo>
                    <a:pt x="750" y="268"/>
                  </a:lnTo>
                  <a:lnTo>
                    <a:pt x="750" y="66"/>
                  </a:lnTo>
                  <a:lnTo>
                    <a:pt x="666" y="0"/>
                  </a:lnTo>
                  <a:lnTo>
                    <a:pt x="433" y="520"/>
                  </a:lnTo>
                  <a:lnTo>
                    <a:pt x="229" y="599"/>
                  </a:lnTo>
                  <a:lnTo>
                    <a:pt x="176" y="745"/>
                  </a:lnTo>
                  <a:lnTo>
                    <a:pt x="127" y="815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391520" y="449280"/>
              <a:ext cx="560880" cy="884520"/>
            </a:xfrm>
            <a:custGeom>
              <a:avLst/>
              <a:gdLst/>
              <a:ahLst/>
              <a:rect l="0" t="0" r="r" b="b"/>
              <a:pathLst>
                <a:path w="1558" h="2457">
                  <a:moveTo>
                    <a:pt x="388" y="343"/>
                  </a:moveTo>
                  <a:lnTo>
                    <a:pt x="268" y="811"/>
                  </a:lnTo>
                  <a:lnTo>
                    <a:pt x="13" y="908"/>
                  </a:lnTo>
                  <a:lnTo>
                    <a:pt x="83" y="1049"/>
                  </a:lnTo>
                  <a:lnTo>
                    <a:pt x="0" y="1146"/>
                  </a:lnTo>
                  <a:lnTo>
                    <a:pt x="0" y="1319"/>
                  </a:lnTo>
                  <a:lnTo>
                    <a:pt x="123" y="1473"/>
                  </a:lnTo>
                  <a:lnTo>
                    <a:pt x="242" y="1473"/>
                  </a:lnTo>
                  <a:lnTo>
                    <a:pt x="326" y="2020"/>
                  </a:lnTo>
                  <a:lnTo>
                    <a:pt x="424" y="2254"/>
                  </a:lnTo>
                  <a:lnTo>
                    <a:pt x="741" y="2457"/>
                  </a:lnTo>
                  <a:lnTo>
                    <a:pt x="1059" y="2426"/>
                  </a:lnTo>
                  <a:lnTo>
                    <a:pt x="1210" y="2020"/>
                  </a:lnTo>
                  <a:lnTo>
                    <a:pt x="1245" y="1398"/>
                  </a:lnTo>
                  <a:lnTo>
                    <a:pt x="1558" y="1084"/>
                  </a:lnTo>
                  <a:lnTo>
                    <a:pt x="1545" y="961"/>
                  </a:lnTo>
                  <a:lnTo>
                    <a:pt x="1510" y="908"/>
                  </a:lnTo>
                  <a:lnTo>
                    <a:pt x="1346" y="890"/>
                  </a:lnTo>
                  <a:lnTo>
                    <a:pt x="1395" y="727"/>
                  </a:lnTo>
                  <a:lnTo>
                    <a:pt x="1232" y="621"/>
                  </a:lnTo>
                  <a:lnTo>
                    <a:pt x="1165" y="268"/>
                  </a:lnTo>
                  <a:lnTo>
                    <a:pt x="680" y="0"/>
                  </a:lnTo>
                  <a:lnTo>
                    <a:pt x="424" y="251"/>
                  </a:lnTo>
                  <a:lnTo>
                    <a:pt x="388" y="343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431120" y="1189080"/>
              <a:ext cx="516240" cy="1054440"/>
            </a:xfrm>
            <a:custGeom>
              <a:avLst/>
              <a:gdLst/>
              <a:ahLst/>
              <a:rect l="0" t="0" r="r" b="b"/>
              <a:pathLst>
                <a:path w="1434" h="2929">
                  <a:moveTo>
                    <a:pt x="291" y="154"/>
                  </a:moveTo>
                  <a:lnTo>
                    <a:pt x="493" y="291"/>
                  </a:lnTo>
                  <a:lnTo>
                    <a:pt x="599" y="449"/>
                  </a:lnTo>
                  <a:lnTo>
                    <a:pt x="1173" y="0"/>
                  </a:lnTo>
                  <a:lnTo>
                    <a:pt x="1354" y="92"/>
                  </a:lnTo>
                  <a:lnTo>
                    <a:pt x="1434" y="555"/>
                  </a:lnTo>
                  <a:lnTo>
                    <a:pt x="1015" y="1906"/>
                  </a:lnTo>
                  <a:lnTo>
                    <a:pt x="1151" y="2651"/>
                  </a:lnTo>
                  <a:lnTo>
                    <a:pt x="608" y="2929"/>
                  </a:lnTo>
                  <a:lnTo>
                    <a:pt x="194" y="2770"/>
                  </a:lnTo>
                  <a:lnTo>
                    <a:pt x="194" y="1980"/>
                  </a:lnTo>
                  <a:lnTo>
                    <a:pt x="0" y="1217"/>
                  </a:lnTo>
                  <a:lnTo>
                    <a:pt x="194" y="291"/>
                  </a:lnTo>
                  <a:lnTo>
                    <a:pt x="291" y="154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451640" y="333360"/>
              <a:ext cx="483120" cy="279720"/>
            </a:xfrm>
            <a:custGeom>
              <a:avLst/>
              <a:gdLst/>
              <a:ahLst/>
              <a:rect l="0" t="0" r="r" b="b"/>
              <a:pathLst>
                <a:path w="1342" h="777">
                  <a:moveTo>
                    <a:pt x="163" y="741"/>
                  </a:moveTo>
                  <a:lnTo>
                    <a:pt x="362" y="534"/>
                  </a:lnTo>
                  <a:lnTo>
                    <a:pt x="486" y="503"/>
                  </a:lnTo>
                  <a:lnTo>
                    <a:pt x="486" y="521"/>
                  </a:lnTo>
                  <a:lnTo>
                    <a:pt x="552" y="503"/>
                  </a:lnTo>
                  <a:lnTo>
                    <a:pt x="636" y="561"/>
                  </a:lnTo>
                  <a:lnTo>
                    <a:pt x="790" y="596"/>
                  </a:lnTo>
                  <a:lnTo>
                    <a:pt x="918" y="777"/>
                  </a:lnTo>
                  <a:lnTo>
                    <a:pt x="1126" y="697"/>
                  </a:lnTo>
                  <a:lnTo>
                    <a:pt x="1126" y="618"/>
                  </a:lnTo>
                  <a:lnTo>
                    <a:pt x="1342" y="521"/>
                  </a:lnTo>
                  <a:lnTo>
                    <a:pt x="1280" y="379"/>
                  </a:lnTo>
                  <a:lnTo>
                    <a:pt x="1082" y="361"/>
                  </a:lnTo>
                  <a:lnTo>
                    <a:pt x="1108" y="202"/>
                  </a:lnTo>
                  <a:lnTo>
                    <a:pt x="935" y="224"/>
                  </a:lnTo>
                  <a:lnTo>
                    <a:pt x="909" y="110"/>
                  </a:lnTo>
                  <a:lnTo>
                    <a:pt x="790" y="110"/>
                  </a:lnTo>
                  <a:lnTo>
                    <a:pt x="710" y="167"/>
                  </a:lnTo>
                  <a:lnTo>
                    <a:pt x="636" y="167"/>
                  </a:lnTo>
                  <a:lnTo>
                    <a:pt x="653" y="0"/>
                  </a:lnTo>
                  <a:lnTo>
                    <a:pt x="486" y="79"/>
                  </a:lnTo>
                  <a:lnTo>
                    <a:pt x="260" y="361"/>
                  </a:lnTo>
                  <a:lnTo>
                    <a:pt x="251" y="167"/>
                  </a:lnTo>
                  <a:lnTo>
                    <a:pt x="132" y="264"/>
                  </a:lnTo>
                  <a:lnTo>
                    <a:pt x="105" y="503"/>
                  </a:lnTo>
                  <a:lnTo>
                    <a:pt x="0" y="464"/>
                  </a:lnTo>
                  <a:lnTo>
                    <a:pt x="13" y="618"/>
                  </a:lnTo>
                  <a:lnTo>
                    <a:pt x="163" y="741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81960" y="1384200"/>
              <a:ext cx="154440" cy="797400"/>
            </a:xfrm>
            <a:custGeom>
              <a:avLst/>
              <a:gdLst/>
              <a:ahLst/>
              <a:rect l="0" t="0" r="r" b="b"/>
              <a:pathLst>
                <a:path w="429" h="2215">
                  <a:moveTo>
                    <a:pt x="221" y="13"/>
                  </a:moveTo>
                  <a:lnTo>
                    <a:pt x="74" y="110"/>
                  </a:lnTo>
                  <a:lnTo>
                    <a:pt x="74" y="295"/>
                  </a:lnTo>
                  <a:lnTo>
                    <a:pt x="181" y="357"/>
                  </a:lnTo>
                  <a:lnTo>
                    <a:pt x="39" y="653"/>
                  </a:lnTo>
                  <a:lnTo>
                    <a:pt x="0" y="1041"/>
                  </a:lnTo>
                  <a:lnTo>
                    <a:pt x="105" y="1548"/>
                  </a:lnTo>
                  <a:lnTo>
                    <a:pt x="105" y="1765"/>
                  </a:lnTo>
                  <a:lnTo>
                    <a:pt x="48" y="1933"/>
                  </a:lnTo>
                  <a:lnTo>
                    <a:pt x="274" y="2215"/>
                  </a:lnTo>
                  <a:lnTo>
                    <a:pt x="416" y="1783"/>
                  </a:lnTo>
                  <a:lnTo>
                    <a:pt x="416" y="1491"/>
                  </a:lnTo>
                  <a:lnTo>
                    <a:pt x="309" y="1209"/>
                  </a:lnTo>
                  <a:lnTo>
                    <a:pt x="252" y="838"/>
                  </a:lnTo>
                  <a:lnTo>
                    <a:pt x="363" y="471"/>
                  </a:lnTo>
                  <a:lnTo>
                    <a:pt x="328" y="326"/>
                  </a:lnTo>
                  <a:lnTo>
                    <a:pt x="429" y="251"/>
                  </a:lnTo>
                  <a:lnTo>
                    <a:pt x="416" y="154"/>
                  </a:lnTo>
                  <a:lnTo>
                    <a:pt x="292" y="0"/>
                  </a:lnTo>
                  <a:lnTo>
                    <a:pt x="221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577280" y="1116000"/>
              <a:ext cx="124200" cy="73440"/>
            </a:xfrm>
            <a:custGeom>
              <a:avLst/>
              <a:gdLst/>
              <a:ahLst/>
              <a:rect l="0" t="0" r="r" b="b"/>
              <a:pathLst>
                <a:path w="345" h="204">
                  <a:moveTo>
                    <a:pt x="0" y="62"/>
                  </a:moveTo>
                  <a:lnTo>
                    <a:pt x="137" y="204"/>
                  </a:lnTo>
                  <a:lnTo>
                    <a:pt x="275" y="187"/>
                  </a:lnTo>
                  <a:lnTo>
                    <a:pt x="345" y="13"/>
                  </a:lnTo>
                  <a:lnTo>
                    <a:pt x="195" y="0"/>
                  </a:lnTo>
                  <a:lnTo>
                    <a:pt x="35" y="13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442280" y="746280"/>
              <a:ext cx="154440" cy="157680"/>
            </a:xfrm>
            <a:custGeom>
              <a:avLst/>
              <a:gdLst/>
              <a:ahLst/>
              <a:rect l="0" t="0" r="r" b="b"/>
              <a:pathLst>
                <a:path w="429" h="438">
                  <a:moveTo>
                    <a:pt x="0" y="44"/>
                  </a:moveTo>
                  <a:lnTo>
                    <a:pt x="296" y="438"/>
                  </a:lnTo>
                  <a:lnTo>
                    <a:pt x="429" y="407"/>
                  </a:lnTo>
                  <a:lnTo>
                    <a:pt x="120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713720" y="716040"/>
              <a:ext cx="132120" cy="154440"/>
            </a:xfrm>
            <a:custGeom>
              <a:avLst/>
              <a:gdLst/>
              <a:ahLst/>
              <a:rect l="0" t="0" r="r" b="b"/>
              <a:pathLst>
                <a:path w="367" h="429">
                  <a:moveTo>
                    <a:pt x="0" y="61"/>
                  </a:moveTo>
                  <a:lnTo>
                    <a:pt x="252" y="429"/>
                  </a:lnTo>
                  <a:lnTo>
                    <a:pt x="367" y="328"/>
                  </a:lnTo>
                  <a:lnTo>
                    <a:pt x="105" y="0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385040" y="514440"/>
              <a:ext cx="535320" cy="389160"/>
            </a:xfrm>
            <a:custGeom>
              <a:avLst/>
              <a:gdLst/>
              <a:ahLst/>
              <a:rect l="0" t="0" r="r" b="b"/>
              <a:pathLst>
                <a:path w="1487" h="1081">
                  <a:moveTo>
                    <a:pt x="679" y="640"/>
                  </a:moveTo>
                  <a:lnTo>
                    <a:pt x="546" y="600"/>
                  </a:lnTo>
                  <a:lnTo>
                    <a:pt x="661" y="507"/>
                  </a:lnTo>
                  <a:lnTo>
                    <a:pt x="621" y="454"/>
                  </a:lnTo>
                  <a:lnTo>
                    <a:pt x="471" y="578"/>
                  </a:lnTo>
                  <a:lnTo>
                    <a:pt x="189" y="609"/>
                  </a:lnTo>
                  <a:lnTo>
                    <a:pt x="0" y="618"/>
                  </a:lnTo>
                  <a:lnTo>
                    <a:pt x="0" y="768"/>
                  </a:lnTo>
                  <a:lnTo>
                    <a:pt x="176" y="1072"/>
                  </a:lnTo>
                  <a:lnTo>
                    <a:pt x="224" y="1081"/>
                  </a:lnTo>
                  <a:lnTo>
                    <a:pt x="66" y="750"/>
                  </a:lnTo>
                  <a:lnTo>
                    <a:pt x="304" y="640"/>
                  </a:lnTo>
                  <a:lnTo>
                    <a:pt x="471" y="640"/>
                  </a:lnTo>
                  <a:lnTo>
                    <a:pt x="586" y="710"/>
                  </a:lnTo>
                  <a:lnTo>
                    <a:pt x="621" y="803"/>
                  </a:lnTo>
                  <a:lnTo>
                    <a:pt x="621" y="1006"/>
                  </a:lnTo>
                  <a:lnTo>
                    <a:pt x="621" y="1072"/>
                  </a:lnTo>
                  <a:lnTo>
                    <a:pt x="692" y="975"/>
                  </a:lnTo>
                  <a:lnTo>
                    <a:pt x="692" y="759"/>
                  </a:lnTo>
                  <a:lnTo>
                    <a:pt x="794" y="759"/>
                  </a:lnTo>
                  <a:lnTo>
                    <a:pt x="852" y="1006"/>
                  </a:lnTo>
                  <a:lnTo>
                    <a:pt x="904" y="1032"/>
                  </a:lnTo>
                  <a:lnTo>
                    <a:pt x="1085" y="1032"/>
                  </a:lnTo>
                  <a:lnTo>
                    <a:pt x="1266" y="979"/>
                  </a:lnTo>
                  <a:lnTo>
                    <a:pt x="1394" y="891"/>
                  </a:lnTo>
                  <a:lnTo>
                    <a:pt x="1416" y="675"/>
                  </a:lnTo>
                  <a:lnTo>
                    <a:pt x="1487" y="578"/>
                  </a:lnTo>
                  <a:lnTo>
                    <a:pt x="1447" y="520"/>
                  </a:lnTo>
                  <a:lnTo>
                    <a:pt x="1279" y="458"/>
                  </a:lnTo>
                  <a:lnTo>
                    <a:pt x="1253" y="242"/>
                  </a:lnTo>
                  <a:lnTo>
                    <a:pt x="1099" y="242"/>
                  </a:lnTo>
                  <a:lnTo>
                    <a:pt x="913" y="0"/>
                  </a:lnTo>
                  <a:lnTo>
                    <a:pt x="1081" y="268"/>
                  </a:lnTo>
                  <a:lnTo>
                    <a:pt x="1134" y="268"/>
                  </a:lnTo>
                  <a:lnTo>
                    <a:pt x="1169" y="454"/>
                  </a:lnTo>
                  <a:lnTo>
                    <a:pt x="957" y="520"/>
                  </a:lnTo>
                  <a:lnTo>
                    <a:pt x="812" y="471"/>
                  </a:lnTo>
                  <a:lnTo>
                    <a:pt x="785" y="520"/>
                  </a:lnTo>
                  <a:lnTo>
                    <a:pt x="869" y="578"/>
                  </a:lnTo>
                  <a:lnTo>
                    <a:pt x="869" y="631"/>
                  </a:lnTo>
                  <a:lnTo>
                    <a:pt x="1046" y="552"/>
                  </a:lnTo>
                  <a:lnTo>
                    <a:pt x="1196" y="533"/>
                  </a:lnTo>
                  <a:lnTo>
                    <a:pt x="1363" y="561"/>
                  </a:lnTo>
                  <a:lnTo>
                    <a:pt x="1363" y="591"/>
                  </a:lnTo>
                  <a:lnTo>
                    <a:pt x="1284" y="658"/>
                  </a:lnTo>
                  <a:lnTo>
                    <a:pt x="1253" y="759"/>
                  </a:lnTo>
                  <a:lnTo>
                    <a:pt x="1244" y="891"/>
                  </a:lnTo>
                  <a:lnTo>
                    <a:pt x="1143" y="949"/>
                  </a:lnTo>
                  <a:lnTo>
                    <a:pt x="1002" y="962"/>
                  </a:lnTo>
                  <a:lnTo>
                    <a:pt x="904" y="962"/>
                  </a:lnTo>
                  <a:lnTo>
                    <a:pt x="869" y="927"/>
                  </a:lnTo>
                  <a:lnTo>
                    <a:pt x="852" y="675"/>
                  </a:lnTo>
                  <a:lnTo>
                    <a:pt x="692" y="675"/>
                  </a:lnTo>
                  <a:lnTo>
                    <a:pt x="679" y="64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570800" y="961920"/>
              <a:ext cx="171720" cy="81360"/>
            </a:xfrm>
            <a:custGeom>
              <a:avLst/>
              <a:gdLst/>
              <a:ahLst/>
              <a:rect l="0" t="0" r="r" b="b"/>
              <a:pathLst>
                <a:path w="477" h="226">
                  <a:moveTo>
                    <a:pt x="0" y="0"/>
                  </a:moveTo>
                  <a:lnTo>
                    <a:pt x="79" y="106"/>
                  </a:lnTo>
                  <a:lnTo>
                    <a:pt x="283" y="106"/>
                  </a:lnTo>
                  <a:lnTo>
                    <a:pt x="367" y="30"/>
                  </a:lnTo>
                  <a:lnTo>
                    <a:pt x="477" y="30"/>
                  </a:lnTo>
                  <a:lnTo>
                    <a:pt x="459" y="71"/>
                  </a:lnTo>
                  <a:lnTo>
                    <a:pt x="459" y="106"/>
                  </a:lnTo>
                  <a:lnTo>
                    <a:pt x="265" y="226"/>
                  </a:lnTo>
                  <a:lnTo>
                    <a:pt x="154" y="226"/>
                  </a:lnTo>
                  <a:lnTo>
                    <a:pt x="101" y="187"/>
                  </a:lnTo>
                  <a:lnTo>
                    <a:pt x="44" y="1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0240" bIns="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378560" y="833400"/>
              <a:ext cx="260640" cy="422640"/>
            </a:xfrm>
            <a:custGeom>
              <a:avLst/>
              <a:gdLst/>
              <a:ahLst/>
              <a:rect l="0" t="0" r="r" b="b"/>
              <a:pathLst>
                <a:path w="724" h="1174">
                  <a:moveTo>
                    <a:pt x="724" y="83"/>
                  </a:moveTo>
                  <a:lnTo>
                    <a:pt x="724" y="105"/>
                  </a:lnTo>
                  <a:lnTo>
                    <a:pt x="596" y="224"/>
                  </a:lnTo>
                  <a:lnTo>
                    <a:pt x="490" y="242"/>
                  </a:lnTo>
                  <a:lnTo>
                    <a:pt x="286" y="211"/>
                  </a:lnTo>
                  <a:lnTo>
                    <a:pt x="326" y="631"/>
                  </a:lnTo>
                  <a:lnTo>
                    <a:pt x="371" y="980"/>
                  </a:lnTo>
                  <a:lnTo>
                    <a:pt x="464" y="1174"/>
                  </a:lnTo>
                  <a:lnTo>
                    <a:pt x="371" y="1038"/>
                  </a:lnTo>
                  <a:lnTo>
                    <a:pt x="339" y="897"/>
                  </a:lnTo>
                  <a:lnTo>
                    <a:pt x="282" y="499"/>
                  </a:lnTo>
                  <a:lnTo>
                    <a:pt x="224" y="516"/>
                  </a:lnTo>
                  <a:lnTo>
                    <a:pt x="154" y="472"/>
                  </a:lnTo>
                  <a:lnTo>
                    <a:pt x="13" y="264"/>
                  </a:lnTo>
                  <a:lnTo>
                    <a:pt x="0" y="149"/>
                  </a:lnTo>
                  <a:lnTo>
                    <a:pt x="0" y="74"/>
                  </a:lnTo>
                  <a:lnTo>
                    <a:pt x="26" y="22"/>
                  </a:lnTo>
                  <a:lnTo>
                    <a:pt x="114" y="0"/>
                  </a:lnTo>
                  <a:lnTo>
                    <a:pt x="123" y="30"/>
                  </a:lnTo>
                  <a:lnTo>
                    <a:pt x="57" y="48"/>
                  </a:lnTo>
                  <a:lnTo>
                    <a:pt x="44" y="141"/>
                  </a:lnTo>
                  <a:lnTo>
                    <a:pt x="48" y="251"/>
                  </a:lnTo>
                  <a:lnTo>
                    <a:pt x="141" y="349"/>
                  </a:lnTo>
                  <a:lnTo>
                    <a:pt x="189" y="327"/>
                  </a:lnTo>
                  <a:lnTo>
                    <a:pt x="189" y="114"/>
                  </a:lnTo>
                  <a:lnTo>
                    <a:pt x="268" y="158"/>
                  </a:lnTo>
                  <a:lnTo>
                    <a:pt x="406" y="194"/>
                  </a:lnTo>
                  <a:lnTo>
                    <a:pt x="525" y="185"/>
                  </a:lnTo>
                  <a:lnTo>
                    <a:pt x="644" y="114"/>
                  </a:lnTo>
                  <a:lnTo>
                    <a:pt x="724" y="8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446960" y="503280"/>
              <a:ext cx="79560" cy="221040"/>
            </a:xfrm>
            <a:custGeom>
              <a:avLst/>
              <a:gdLst/>
              <a:ahLst/>
              <a:rect l="0" t="0" r="r" b="b"/>
              <a:pathLst>
                <a:path w="221" h="614">
                  <a:moveTo>
                    <a:pt x="115" y="614"/>
                  </a:moveTo>
                  <a:lnTo>
                    <a:pt x="221" y="252"/>
                  </a:lnTo>
                  <a:lnTo>
                    <a:pt x="30" y="123"/>
                  </a:lnTo>
                  <a:lnTo>
                    <a:pt x="0" y="0"/>
                  </a:lnTo>
                  <a:lnTo>
                    <a:pt x="13" y="149"/>
                  </a:lnTo>
                  <a:lnTo>
                    <a:pt x="79" y="212"/>
                  </a:lnTo>
                  <a:lnTo>
                    <a:pt x="88" y="389"/>
                  </a:lnTo>
                  <a:lnTo>
                    <a:pt x="133" y="465"/>
                  </a:lnTo>
                  <a:lnTo>
                    <a:pt x="115" y="61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445520" y="304920"/>
              <a:ext cx="587880" cy="295560"/>
            </a:xfrm>
            <a:custGeom>
              <a:avLst/>
              <a:gdLst/>
              <a:ahLst/>
              <a:rect l="0" t="0" r="r" b="b"/>
              <a:pathLst>
                <a:path w="1633" h="821">
                  <a:moveTo>
                    <a:pt x="13" y="556"/>
                  </a:moveTo>
                  <a:lnTo>
                    <a:pt x="158" y="636"/>
                  </a:lnTo>
                  <a:lnTo>
                    <a:pt x="136" y="538"/>
                  </a:lnTo>
                  <a:lnTo>
                    <a:pt x="167" y="348"/>
                  </a:lnTo>
                  <a:lnTo>
                    <a:pt x="260" y="313"/>
                  </a:lnTo>
                  <a:lnTo>
                    <a:pt x="268" y="508"/>
                  </a:lnTo>
                  <a:lnTo>
                    <a:pt x="552" y="158"/>
                  </a:lnTo>
                  <a:lnTo>
                    <a:pt x="613" y="132"/>
                  </a:lnTo>
                  <a:lnTo>
                    <a:pt x="565" y="273"/>
                  </a:lnTo>
                  <a:lnTo>
                    <a:pt x="737" y="339"/>
                  </a:lnTo>
                  <a:lnTo>
                    <a:pt x="860" y="202"/>
                  </a:lnTo>
                  <a:lnTo>
                    <a:pt x="927" y="242"/>
                  </a:lnTo>
                  <a:lnTo>
                    <a:pt x="865" y="361"/>
                  </a:lnTo>
                  <a:lnTo>
                    <a:pt x="949" y="299"/>
                  </a:lnTo>
                  <a:lnTo>
                    <a:pt x="1068" y="348"/>
                  </a:lnTo>
                  <a:lnTo>
                    <a:pt x="971" y="446"/>
                  </a:lnTo>
                  <a:lnTo>
                    <a:pt x="1311" y="508"/>
                  </a:lnTo>
                  <a:lnTo>
                    <a:pt x="1081" y="578"/>
                  </a:lnTo>
                  <a:lnTo>
                    <a:pt x="1369" y="618"/>
                  </a:lnTo>
                  <a:lnTo>
                    <a:pt x="1032" y="697"/>
                  </a:lnTo>
                  <a:lnTo>
                    <a:pt x="1103" y="755"/>
                  </a:lnTo>
                  <a:lnTo>
                    <a:pt x="1006" y="821"/>
                  </a:lnTo>
                  <a:lnTo>
                    <a:pt x="1178" y="821"/>
                  </a:lnTo>
                  <a:lnTo>
                    <a:pt x="1160" y="777"/>
                  </a:lnTo>
                  <a:lnTo>
                    <a:pt x="1333" y="816"/>
                  </a:lnTo>
                  <a:lnTo>
                    <a:pt x="1311" y="684"/>
                  </a:lnTo>
                  <a:lnTo>
                    <a:pt x="1474" y="627"/>
                  </a:lnTo>
                  <a:lnTo>
                    <a:pt x="1360" y="565"/>
                  </a:lnTo>
                  <a:lnTo>
                    <a:pt x="1633" y="547"/>
                  </a:lnTo>
                  <a:lnTo>
                    <a:pt x="1395" y="419"/>
                  </a:lnTo>
                  <a:lnTo>
                    <a:pt x="1125" y="383"/>
                  </a:lnTo>
                  <a:lnTo>
                    <a:pt x="1333" y="246"/>
                  </a:lnTo>
                  <a:lnTo>
                    <a:pt x="949" y="246"/>
                  </a:lnTo>
                  <a:lnTo>
                    <a:pt x="1134" y="123"/>
                  </a:lnTo>
                  <a:lnTo>
                    <a:pt x="852" y="158"/>
                  </a:lnTo>
                  <a:lnTo>
                    <a:pt x="715" y="224"/>
                  </a:lnTo>
                  <a:lnTo>
                    <a:pt x="830" y="0"/>
                  </a:lnTo>
                  <a:lnTo>
                    <a:pt x="494" y="123"/>
                  </a:lnTo>
                  <a:lnTo>
                    <a:pt x="308" y="392"/>
                  </a:lnTo>
                  <a:lnTo>
                    <a:pt x="268" y="242"/>
                  </a:lnTo>
                  <a:lnTo>
                    <a:pt x="119" y="348"/>
                  </a:lnTo>
                  <a:lnTo>
                    <a:pt x="105" y="547"/>
                  </a:lnTo>
                  <a:lnTo>
                    <a:pt x="0" y="508"/>
                  </a:lnTo>
                  <a:lnTo>
                    <a:pt x="35" y="684"/>
                  </a:lnTo>
                  <a:lnTo>
                    <a:pt x="13" y="55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574040" y="461880"/>
              <a:ext cx="165600" cy="89280"/>
            </a:xfrm>
            <a:custGeom>
              <a:avLst/>
              <a:gdLst/>
              <a:ahLst/>
              <a:rect l="0" t="0" r="r" b="b"/>
              <a:pathLst>
                <a:path w="460" h="248">
                  <a:moveTo>
                    <a:pt x="0" y="248"/>
                  </a:moveTo>
                  <a:lnTo>
                    <a:pt x="177" y="0"/>
                  </a:lnTo>
                  <a:lnTo>
                    <a:pt x="177" y="164"/>
                  </a:lnTo>
                  <a:lnTo>
                    <a:pt x="230" y="98"/>
                  </a:lnTo>
                  <a:lnTo>
                    <a:pt x="283" y="196"/>
                  </a:lnTo>
                  <a:lnTo>
                    <a:pt x="460" y="240"/>
                  </a:lnTo>
                  <a:lnTo>
                    <a:pt x="274" y="209"/>
                  </a:lnTo>
                  <a:lnTo>
                    <a:pt x="221" y="142"/>
                  </a:lnTo>
                  <a:lnTo>
                    <a:pt x="142" y="209"/>
                  </a:lnTo>
                  <a:lnTo>
                    <a:pt x="142" y="128"/>
                  </a:lnTo>
                  <a:lnTo>
                    <a:pt x="0" y="24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558200" y="1066680"/>
              <a:ext cx="200520" cy="132120"/>
            </a:xfrm>
            <a:custGeom>
              <a:avLst/>
              <a:gdLst/>
              <a:ahLst/>
              <a:rect l="0" t="0" r="r" b="b"/>
              <a:pathLst>
                <a:path w="557" h="367">
                  <a:moveTo>
                    <a:pt x="105" y="132"/>
                  </a:moveTo>
                  <a:lnTo>
                    <a:pt x="331" y="110"/>
                  </a:lnTo>
                  <a:lnTo>
                    <a:pt x="442" y="136"/>
                  </a:lnTo>
                  <a:lnTo>
                    <a:pt x="495" y="83"/>
                  </a:lnTo>
                  <a:lnTo>
                    <a:pt x="557" y="203"/>
                  </a:lnTo>
                  <a:lnTo>
                    <a:pt x="517" y="225"/>
                  </a:lnTo>
                  <a:lnTo>
                    <a:pt x="473" y="180"/>
                  </a:lnTo>
                  <a:lnTo>
                    <a:pt x="397" y="265"/>
                  </a:lnTo>
                  <a:lnTo>
                    <a:pt x="256" y="367"/>
                  </a:lnTo>
                  <a:lnTo>
                    <a:pt x="199" y="367"/>
                  </a:lnTo>
                  <a:lnTo>
                    <a:pt x="105" y="314"/>
                  </a:lnTo>
                  <a:lnTo>
                    <a:pt x="208" y="358"/>
                  </a:lnTo>
                  <a:lnTo>
                    <a:pt x="247" y="358"/>
                  </a:lnTo>
                  <a:lnTo>
                    <a:pt x="331" y="292"/>
                  </a:lnTo>
                  <a:lnTo>
                    <a:pt x="389" y="167"/>
                  </a:lnTo>
                  <a:lnTo>
                    <a:pt x="305" y="149"/>
                  </a:lnTo>
                  <a:lnTo>
                    <a:pt x="243" y="136"/>
                  </a:lnTo>
                  <a:lnTo>
                    <a:pt x="97" y="154"/>
                  </a:lnTo>
                  <a:lnTo>
                    <a:pt x="88" y="256"/>
                  </a:lnTo>
                  <a:lnTo>
                    <a:pt x="44" y="195"/>
                  </a:lnTo>
                  <a:lnTo>
                    <a:pt x="0" y="274"/>
                  </a:lnTo>
                  <a:lnTo>
                    <a:pt x="4" y="101"/>
                  </a:lnTo>
                  <a:lnTo>
                    <a:pt x="61" y="0"/>
                  </a:lnTo>
                  <a:lnTo>
                    <a:pt x="105" y="101"/>
                  </a:lnTo>
                  <a:lnTo>
                    <a:pt x="105" y="13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532640" y="779400"/>
              <a:ext cx="427320" cy="609840"/>
            </a:xfrm>
            <a:custGeom>
              <a:avLst/>
              <a:gdLst/>
              <a:ahLst/>
              <a:rect l="0" t="0" r="r" b="b"/>
              <a:pathLst>
                <a:path w="1187" h="1694">
                  <a:moveTo>
                    <a:pt x="997" y="0"/>
                  </a:moveTo>
                  <a:lnTo>
                    <a:pt x="1116" y="0"/>
                  </a:lnTo>
                  <a:lnTo>
                    <a:pt x="1187" y="83"/>
                  </a:lnTo>
                  <a:lnTo>
                    <a:pt x="1187" y="171"/>
                  </a:lnTo>
                  <a:lnTo>
                    <a:pt x="1085" y="440"/>
                  </a:lnTo>
                  <a:lnTo>
                    <a:pt x="993" y="568"/>
                  </a:lnTo>
                  <a:lnTo>
                    <a:pt x="887" y="586"/>
                  </a:lnTo>
                  <a:lnTo>
                    <a:pt x="865" y="586"/>
                  </a:lnTo>
                  <a:lnTo>
                    <a:pt x="865" y="922"/>
                  </a:lnTo>
                  <a:lnTo>
                    <a:pt x="913" y="1160"/>
                  </a:lnTo>
                  <a:lnTo>
                    <a:pt x="913" y="1359"/>
                  </a:lnTo>
                  <a:lnTo>
                    <a:pt x="733" y="1557"/>
                  </a:lnTo>
                  <a:lnTo>
                    <a:pt x="485" y="1694"/>
                  </a:lnTo>
                  <a:lnTo>
                    <a:pt x="326" y="1694"/>
                  </a:lnTo>
                  <a:lnTo>
                    <a:pt x="251" y="1659"/>
                  </a:lnTo>
                  <a:lnTo>
                    <a:pt x="136" y="1420"/>
                  </a:lnTo>
                  <a:lnTo>
                    <a:pt x="39" y="1337"/>
                  </a:lnTo>
                  <a:lnTo>
                    <a:pt x="0" y="1271"/>
                  </a:lnTo>
                  <a:lnTo>
                    <a:pt x="132" y="1359"/>
                  </a:lnTo>
                  <a:lnTo>
                    <a:pt x="233" y="1447"/>
                  </a:lnTo>
                  <a:lnTo>
                    <a:pt x="423" y="1456"/>
                  </a:lnTo>
                  <a:lnTo>
                    <a:pt x="586" y="1372"/>
                  </a:lnTo>
                  <a:lnTo>
                    <a:pt x="680" y="1271"/>
                  </a:lnTo>
                  <a:lnTo>
                    <a:pt x="772" y="1103"/>
                  </a:lnTo>
                  <a:lnTo>
                    <a:pt x="794" y="900"/>
                  </a:lnTo>
                  <a:lnTo>
                    <a:pt x="830" y="246"/>
                  </a:lnTo>
                  <a:lnTo>
                    <a:pt x="869" y="343"/>
                  </a:lnTo>
                  <a:lnTo>
                    <a:pt x="988" y="224"/>
                  </a:lnTo>
                  <a:lnTo>
                    <a:pt x="1107" y="171"/>
                  </a:lnTo>
                  <a:lnTo>
                    <a:pt x="1143" y="105"/>
                  </a:lnTo>
                  <a:lnTo>
                    <a:pt x="1125" y="39"/>
                  </a:lnTo>
                  <a:lnTo>
                    <a:pt x="1072" y="8"/>
                  </a:lnTo>
                  <a:lnTo>
                    <a:pt x="99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869160" y="1305000"/>
              <a:ext cx="346320" cy="567000"/>
            </a:xfrm>
            <a:custGeom>
              <a:avLst/>
              <a:gdLst/>
              <a:ahLst/>
              <a:rect l="0" t="0" r="r" b="b"/>
              <a:pathLst>
                <a:path w="962" h="1575">
                  <a:moveTo>
                    <a:pt x="123" y="0"/>
                  </a:moveTo>
                  <a:lnTo>
                    <a:pt x="233" y="74"/>
                  </a:lnTo>
                  <a:lnTo>
                    <a:pt x="313" y="392"/>
                  </a:lnTo>
                  <a:lnTo>
                    <a:pt x="561" y="463"/>
                  </a:lnTo>
                  <a:lnTo>
                    <a:pt x="636" y="551"/>
                  </a:lnTo>
                  <a:lnTo>
                    <a:pt x="644" y="670"/>
                  </a:lnTo>
                  <a:lnTo>
                    <a:pt x="768" y="648"/>
                  </a:lnTo>
                  <a:lnTo>
                    <a:pt x="918" y="754"/>
                  </a:lnTo>
                  <a:lnTo>
                    <a:pt x="962" y="878"/>
                  </a:lnTo>
                  <a:lnTo>
                    <a:pt x="962" y="1103"/>
                  </a:lnTo>
                  <a:lnTo>
                    <a:pt x="768" y="1438"/>
                  </a:lnTo>
                  <a:lnTo>
                    <a:pt x="702" y="1575"/>
                  </a:lnTo>
                  <a:lnTo>
                    <a:pt x="733" y="1390"/>
                  </a:lnTo>
                  <a:lnTo>
                    <a:pt x="702" y="1328"/>
                  </a:lnTo>
                  <a:lnTo>
                    <a:pt x="583" y="1209"/>
                  </a:lnTo>
                  <a:lnTo>
                    <a:pt x="388" y="1068"/>
                  </a:lnTo>
                  <a:lnTo>
                    <a:pt x="618" y="1147"/>
                  </a:lnTo>
                  <a:lnTo>
                    <a:pt x="750" y="1253"/>
                  </a:lnTo>
                  <a:lnTo>
                    <a:pt x="825" y="1235"/>
                  </a:lnTo>
                  <a:lnTo>
                    <a:pt x="860" y="1178"/>
                  </a:lnTo>
                  <a:lnTo>
                    <a:pt x="918" y="1024"/>
                  </a:lnTo>
                  <a:lnTo>
                    <a:pt x="900" y="869"/>
                  </a:lnTo>
                  <a:lnTo>
                    <a:pt x="830" y="780"/>
                  </a:lnTo>
                  <a:lnTo>
                    <a:pt x="710" y="754"/>
                  </a:lnTo>
                  <a:lnTo>
                    <a:pt x="583" y="754"/>
                  </a:lnTo>
                  <a:lnTo>
                    <a:pt x="538" y="520"/>
                  </a:lnTo>
                  <a:lnTo>
                    <a:pt x="326" y="436"/>
                  </a:lnTo>
                  <a:lnTo>
                    <a:pt x="326" y="502"/>
                  </a:lnTo>
                  <a:lnTo>
                    <a:pt x="233" y="339"/>
                  </a:lnTo>
                  <a:lnTo>
                    <a:pt x="176" y="74"/>
                  </a:lnTo>
                  <a:lnTo>
                    <a:pt x="97" y="44"/>
                  </a:lnTo>
                  <a:lnTo>
                    <a:pt x="48" y="123"/>
                  </a:lnTo>
                  <a:lnTo>
                    <a:pt x="48" y="308"/>
                  </a:lnTo>
                  <a:lnTo>
                    <a:pt x="83" y="502"/>
                  </a:lnTo>
                  <a:lnTo>
                    <a:pt x="198" y="670"/>
                  </a:lnTo>
                  <a:lnTo>
                    <a:pt x="74" y="564"/>
                  </a:lnTo>
                  <a:lnTo>
                    <a:pt x="8" y="392"/>
                  </a:lnTo>
                  <a:lnTo>
                    <a:pt x="0" y="163"/>
                  </a:lnTo>
                  <a:lnTo>
                    <a:pt x="48" y="44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705720" y="1555920"/>
              <a:ext cx="227520" cy="451080"/>
            </a:xfrm>
            <a:custGeom>
              <a:avLst/>
              <a:gdLst/>
              <a:ahLst/>
              <a:rect l="0" t="0" r="r" b="b"/>
              <a:pathLst>
                <a:path w="632" h="1253">
                  <a:moveTo>
                    <a:pt x="632" y="0"/>
                  </a:moveTo>
                  <a:lnTo>
                    <a:pt x="500" y="83"/>
                  </a:lnTo>
                  <a:lnTo>
                    <a:pt x="344" y="388"/>
                  </a:lnTo>
                  <a:lnTo>
                    <a:pt x="199" y="582"/>
                  </a:lnTo>
                  <a:lnTo>
                    <a:pt x="13" y="821"/>
                  </a:lnTo>
                  <a:lnTo>
                    <a:pt x="0" y="944"/>
                  </a:lnTo>
                  <a:lnTo>
                    <a:pt x="35" y="1054"/>
                  </a:lnTo>
                  <a:lnTo>
                    <a:pt x="123" y="1054"/>
                  </a:lnTo>
                  <a:lnTo>
                    <a:pt x="243" y="944"/>
                  </a:lnTo>
                  <a:lnTo>
                    <a:pt x="336" y="719"/>
                  </a:lnTo>
                  <a:lnTo>
                    <a:pt x="464" y="582"/>
                  </a:lnTo>
                  <a:lnTo>
                    <a:pt x="464" y="768"/>
                  </a:lnTo>
                  <a:lnTo>
                    <a:pt x="441" y="931"/>
                  </a:lnTo>
                  <a:lnTo>
                    <a:pt x="309" y="1151"/>
                  </a:lnTo>
                  <a:lnTo>
                    <a:pt x="309" y="1222"/>
                  </a:lnTo>
                  <a:lnTo>
                    <a:pt x="441" y="1253"/>
                  </a:lnTo>
                  <a:lnTo>
                    <a:pt x="344" y="1187"/>
                  </a:lnTo>
                  <a:lnTo>
                    <a:pt x="367" y="1151"/>
                  </a:lnTo>
                  <a:lnTo>
                    <a:pt x="459" y="988"/>
                  </a:lnTo>
                  <a:lnTo>
                    <a:pt x="522" y="693"/>
                  </a:lnTo>
                  <a:lnTo>
                    <a:pt x="482" y="529"/>
                  </a:lnTo>
                  <a:lnTo>
                    <a:pt x="375" y="621"/>
                  </a:lnTo>
                  <a:lnTo>
                    <a:pt x="145" y="1002"/>
                  </a:lnTo>
                  <a:lnTo>
                    <a:pt x="88" y="1010"/>
                  </a:lnTo>
                  <a:lnTo>
                    <a:pt x="35" y="975"/>
                  </a:lnTo>
                  <a:lnTo>
                    <a:pt x="35" y="860"/>
                  </a:lnTo>
                  <a:lnTo>
                    <a:pt x="123" y="706"/>
                  </a:lnTo>
                  <a:lnTo>
                    <a:pt x="375" y="405"/>
                  </a:lnTo>
                  <a:lnTo>
                    <a:pt x="522" y="114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875640" y="1809720"/>
              <a:ext cx="140040" cy="217800"/>
            </a:xfrm>
            <a:custGeom>
              <a:avLst/>
              <a:gdLst/>
              <a:ahLst/>
              <a:rect l="0" t="0" r="r" b="b"/>
              <a:pathLst>
                <a:path w="389" h="605">
                  <a:moveTo>
                    <a:pt x="0" y="534"/>
                  </a:moveTo>
                  <a:lnTo>
                    <a:pt x="127" y="380"/>
                  </a:lnTo>
                  <a:lnTo>
                    <a:pt x="149" y="224"/>
                  </a:lnTo>
                  <a:lnTo>
                    <a:pt x="300" y="0"/>
                  </a:lnTo>
                  <a:lnTo>
                    <a:pt x="331" y="149"/>
                  </a:lnTo>
                  <a:lnTo>
                    <a:pt x="309" y="543"/>
                  </a:lnTo>
                  <a:lnTo>
                    <a:pt x="389" y="605"/>
                  </a:lnTo>
                  <a:lnTo>
                    <a:pt x="274" y="565"/>
                  </a:lnTo>
                  <a:lnTo>
                    <a:pt x="217" y="336"/>
                  </a:lnTo>
                  <a:lnTo>
                    <a:pt x="127" y="450"/>
                  </a:lnTo>
                  <a:lnTo>
                    <a:pt x="0" y="53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7000" y="1820880"/>
              <a:ext cx="92520" cy="195480"/>
            </a:xfrm>
            <a:custGeom>
              <a:avLst/>
              <a:gdLst/>
              <a:ahLst/>
              <a:rect l="0" t="0" r="r" b="b"/>
              <a:pathLst>
                <a:path w="257" h="543">
                  <a:moveTo>
                    <a:pt x="0" y="406"/>
                  </a:moveTo>
                  <a:lnTo>
                    <a:pt x="8" y="207"/>
                  </a:lnTo>
                  <a:lnTo>
                    <a:pt x="61" y="88"/>
                  </a:lnTo>
                  <a:lnTo>
                    <a:pt x="124" y="516"/>
                  </a:lnTo>
                  <a:lnTo>
                    <a:pt x="204" y="516"/>
                  </a:lnTo>
                  <a:lnTo>
                    <a:pt x="240" y="66"/>
                  </a:lnTo>
                  <a:lnTo>
                    <a:pt x="257" y="0"/>
                  </a:lnTo>
                  <a:lnTo>
                    <a:pt x="240" y="353"/>
                  </a:lnTo>
                  <a:lnTo>
                    <a:pt x="204" y="543"/>
                  </a:lnTo>
                  <a:lnTo>
                    <a:pt x="106" y="543"/>
                  </a:lnTo>
                  <a:lnTo>
                    <a:pt x="57" y="167"/>
                  </a:lnTo>
                  <a:lnTo>
                    <a:pt x="26" y="220"/>
                  </a:lnTo>
                  <a:lnTo>
                    <a:pt x="0" y="40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232840" y="1057320"/>
              <a:ext cx="224280" cy="519480"/>
            </a:xfrm>
            <a:custGeom>
              <a:avLst/>
              <a:gdLst/>
              <a:ahLst/>
              <a:rect l="0" t="0" r="r" b="b"/>
              <a:pathLst>
                <a:path w="623" h="1443">
                  <a:moveTo>
                    <a:pt x="164" y="777"/>
                  </a:moveTo>
                  <a:lnTo>
                    <a:pt x="212" y="556"/>
                  </a:lnTo>
                  <a:lnTo>
                    <a:pt x="419" y="494"/>
                  </a:lnTo>
                  <a:lnTo>
                    <a:pt x="623" y="0"/>
                  </a:lnTo>
                  <a:lnTo>
                    <a:pt x="623" y="145"/>
                  </a:lnTo>
                  <a:lnTo>
                    <a:pt x="455" y="525"/>
                  </a:lnTo>
                  <a:lnTo>
                    <a:pt x="234" y="600"/>
                  </a:lnTo>
                  <a:lnTo>
                    <a:pt x="199" y="777"/>
                  </a:lnTo>
                  <a:lnTo>
                    <a:pt x="274" y="777"/>
                  </a:lnTo>
                  <a:lnTo>
                    <a:pt x="83" y="860"/>
                  </a:lnTo>
                  <a:lnTo>
                    <a:pt x="35" y="1015"/>
                  </a:lnTo>
                  <a:lnTo>
                    <a:pt x="44" y="1214"/>
                  </a:lnTo>
                  <a:lnTo>
                    <a:pt x="252" y="1443"/>
                  </a:lnTo>
                  <a:lnTo>
                    <a:pt x="35" y="1241"/>
                  </a:lnTo>
                  <a:lnTo>
                    <a:pt x="0" y="1076"/>
                  </a:lnTo>
                  <a:lnTo>
                    <a:pt x="13" y="900"/>
                  </a:lnTo>
                  <a:lnTo>
                    <a:pt x="92" y="790"/>
                  </a:lnTo>
                  <a:lnTo>
                    <a:pt x="164" y="77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383680" y="1057320"/>
              <a:ext cx="378360" cy="501840"/>
            </a:xfrm>
            <a:custGeom>
              <a:avLst/>
              <a:gdLst/>
              <a:ahLst/>
              <a:rect l="0" t="0" r="r" b="b"/>
              <a:pathLst>
                <a:path w="1051" h="1394">
                  <a:moveTo>
                    <a:pt x="296" y="0"/>
                  </a:moveTo>
                  <a:lnTo>
                    <a:pt x="353" y="39"/>
                  </a:lnTo>
                  <a:lnTo>
                    <a:pt x="371" y="158"/>
                  </a:lnTo>
                  <a:lnTo>
                    <a:pt x="371" y="273"/>
                  </a:lnTo>
                  <a:lnTo>
                    <a:pt x="251" y="476"/>
                  </a:lnTo>
                  <a:lnTo>
                    <a:pt x="274" y="626"/>
                  </a:lnTo>
                  <a:lnTo>
                    <a:pt x="627" y="785"/>
                  </a:lnTo>
                  <a:lnTo>
                    <a:pt x="1047" y="1226"/>
                  </a:lnTo>
                  <a:lnTo>
                    <a:pt x="1051" y="1345"/>
                  </a:lnTo>
                  <a:lnTo>
                    <a:pt x="1029" y="1394"/>
                  </a:lnTo>
                  <a:lnTo>
                    <a:pt x="875" y="1394"/>
                  </a:lnTo>
                  <a:lnTo>
                    <a:pt x="737" y="1310"/>
                  </a:lnTo>
                  <a:lnTo>
                    <a:pt x="622" y="1165"/>
                  </a:lnTo>
                  <a:lnTo>
                    <a:pt x="561" y="1085"/>
                  </a:lnTo>
                  <a:lnTo>
                    <a:pt x="486" y="1068"/>
                  </a:lnTo>
                  <a:lnTo>
                    <a:pt x="574" y="1068"/>
                  </a:lnTo>
                  <a:lnTo>
                    <a:pt x="746" y="1293"/>
                  </a:lnTo>
                  <a:lnTo>
                    <a:pt x="972" y="1363"/>
                  </a:lnTo>
                  <a:lnTo>
                    <a:pt x="1016" y="1293"/>
                  </a:lnTo>
                  <a:lnTo>
                    <a:pt x="989" y="1191"/>
                  </a:lnTo>
                  <a:lnTo>
                    <a:pt x="609" y="878"/>
                  </a:lnTo>
                  <a:lnTo>
                    <a:pt x="556" y="785"/>
                  </a:lnTo>
                  <a:lnTo>
                    <a:pt x="251" y="710"/>
                  </a:lnTo>
                  <a:lnTo>
                    <a:pt x="202" y="785"/>
                  </a:lnTo>
                  <a:lnTo>
                    <a:pt x="0" y="918"/>
                  </a:lnTo>
                  <a:lnTo>
                    <a:pt x="194" y="763"/>
                  </a:lnTo>
                  <a:lnTo>
                    <a:pt x="202" y="665"/>
                  </a:lnTo>
                  <a:lnTo>
                    <a:pt x="202" y="440"/>
                  </a:lnTo>
                  <a:lnTo>
                    <a:pt x="336" y="273"/>
                  </a:lnTo>
                  <a:lnTo>
                    <a:pt x="336" y="52"/>
                  </a:lnTo>
                  <a:lnTo>
                    <a:pt x="296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317080" y="1450800"/>
              <a:ext cx="319320" cy="298800"/>
            </a:xfrm>
            <a:custGeom>
              <a:avLst/>
              <a:gdLst/>
              <a:ahLst/>
              <a:rect l="0" t="0" r="r" b="b"/>
              <a:pathLst>
                <a:path w="887" h="830">
                  <a:moveTo>
                    <a:pt x="662" y="0"/>
                  </a:moveTo>
                  <a:lnTo>
                    <a:pt x="640" y="74"/>
                  </a:lnTo>
                  <a:lnTo>
                    <a:pt x="772" y="343"/>
                  </a:lnTo>
                  <a:lnTo>
                    <a:pt x="843" y="627"/>
                  </a:lnTo>
                  <a:lnTo>
                    <a:pt x="763" y="627"/>
                  </a:lnTo>
                  <a:lnTo>
                    <a:pt x="631" y="503"/>
                  </a:lnTo>
                  <a:lnTo>
                    <a:pt x="512" y="242"/>
                  </a:lnTo>
                  <a:lnTo>
                    <a:pt x="418" y="202"/>
                  </a:lnTo>
                  <a:lnTo>
                    <a:pt x="432" y="343"/>
                  </a:lnTo>
                  <a:lnTo>
                    <a:pt x="516" y="446"/>
                  </a:lnTo>
                  <a:lnTo>
                    <a:pt x="516" y="640"/>
                  </a:lnTo>
                  <a:lnTo>
                    <a:pt x="455" y="790"/>
                  </a:lnTo>
                  <a:lnTo>
                    <a:pt x="374" y="728"/>
                  </a:lnTo>
                  <a:lnTo>
                    <a:pt x="268" y="503"/>
                  </a:lnTo>
                  <a:lnTo>
                    <a:pt x="251" y="343"/>
                  </a:lnTo>
                  <a:lnTo>
                    <a:pt x="194" y="304"/>
                  </a:lnTo>
                  <a:lnTo>
                    <a:pt x="176" y="702"/>
                  </a:lnTo>
                  <a:lnTo>
                    <a:pt x="92" y="759"/>
                  </a:lnTo>
                  <a:lnTo>
                    <a:pt x="22" y="702"/>
                  </a:lnTo>
                  <a:lnTo>
                    <a:pt x="8" y="357"/>
                  </a:lnTo>
                  <a:lnTo>
                    <a:pt x="0" y="693"/>
                  </a:lnTo>
                  <a:lnTo>
                    <a:pt x="57" y="821"/>
                  </a:lnTo>
                  <a:lnTo>
                    <a:pt x="176" y="821"/>
                  </a:lnTo>
                  <a:lnTo>
                    <a:pt x="211" y="719"/>
                  </a:lnTo>
                  <a:lnTo>
                    <a:pt x="238" y="401"/>
                  </a:lnTo>
                  <a:lnTo>
                    <a:pt x="255" y="525"/>
                  </a:lnTo>
                  <a:lnTo>
                    <a:pt x="361" y="799"/>
                  </a:lnTo>
                  <a:lnTo>
                    <a:pt x="468" y="830"/>
                  </a:lnTo>
                  <a:lnTo>
                    <a:pt x="547" y="719"/>
                  </a:lnTo>
                  <a:lnTo>
                    <a:pt x="547" y="464"/>
                  </a:lnTo>
                  <a:lnTo>
                    <a:pt x="763" y="675"/>
                  </a:lnTo>
                  <a:lnTo>
                    <a:pt x="878" y="675"/>
                  </a:lnTo>
                  <a:lnTo>
                    <a:pt x="887" y="525"/>
                  </a:lnTo>
                  <a:lnTo>
                    <a:pt x="807" y="268"/>
                  </a:lnTo>
                  <a:lnTo>
                    <a:pt x="662" y="52"/>
                  </a:lnTo>
                  <a:lnTo>
                    <a:pt x="66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020000" y="1143000"/>
              <a:ext cx="1427400" cy="1217880"/>
            </a:xfrm>
            <a:custGeom>
              <a:avLst/>
              <a:gdLst/>
              <a:ahLst/>
              <a:rect l="0" t="0" r="r" b="b"/>
              <a:pathLst>
                <a:path w="3965" h="3383">
                  <a:moveTo>
                    <a:pt x="1424" y="282"/>
                  </a:moveTo>
                  <a:lnTo>
                    <a:pt x="1353" y="299"/>
                  </a:lnTo>
                  <a:lnTo>
                    <a:pt x="1243" y="467"/>
                  </a:lnTo>
                  <a:lnTo>
                    <a:pt x="1199" y="343"/>
                  </a:lnTo>
                  <a:lnTo>
                    <a:pt x="1071" y="273"/>
                  </a:lnTo>
                  <a:lnTo>
                    <a:pt x="978" y="326"/>
                  </a:lnTo>
                  <a:lnTo>
                    <a:pt x="939" y="551"/>
                  </a:lnTo>
                  <a:lnTo>
                    <a:pt x="586" y="820"/>
                  </a:lnTo>
                  <a:lnTo>
                    <a:pt x="608" y="930"/>
                  </a:lnTo>
                  <a:lnTo>
                    <a:pt x="520" y="1031"/>
                  </a:lnTo>
                  <a:lnTo>
                    <a:pt x="520" y="1115"/>
                  </a:lnTo>
                  <a:lnTo>
                    <a:pt x="621" y="1375"/>
                  </a:lnTo>
                  <a:lnTo>
                    <a:pt x="630" y="1684"/>
                  </a:lnTo>
                  <a:lnTo>
                    <a:pt x="568" y="1980"/>
                  </a:lnTo>
                  <a:lnTo>
                    <a:pt x="313" y="2157"/>
                  </a:lnTo>
                  <a:lnTo>
                    <a:pt x="273" y="2399"/>
                  </a:lnTo>
                  <a:lnTo>
                    <a:pt x="198" y="2399"/>
                  </a:lnTo>
                  <a:lnTo>
                    <a:pt x="158" y="2201"/>
                  </a:lnTo>
                  <a:lnTo>
                    <a:pt x="83" y="2201"/>
                  </a:lnTo>
                  <a:lnTo>
                    <a:pt x="44" y="2417"/>
                  </a:lnTo>
                  <a:lnTo>
                    <a:pt x="0" y="2470"/>
                  </a:lnTo>
                  <a:lnTo>
                    <a:pt x="180" y="2761"/>
                  </a:lnTo>
                  <a:lnTo>
                    <a:pt x="304" y="2779"/>
                  </a:lnTo>
                  <a:lnTo>
                    <a:pt x="520" y="2990"/>
                  </a:lnTo>
                  <a:lnTo>
                    <a:pt x="727" y="3017"/>
                  </a:lnTo>
                  <a:lnTo>
                    <a:pt x="842" y="2902"/>
                  </a:lnTo>
                  <a:lnTo>
                    <a:pt x="1115" y="2483"/>
                  </a:lnTo>
                  <a:lnTo>
                    <a:pt x="1137" y="3043"/>
                  </a:lnTo>
                  <a:lnTo>
                    <a:pt x="1115" y="3383"/>
                  </a:lnTo>
                  <a:lnTo>
                    <a:pt x="3405" y="3383"/>
                  </a:lnTo>
                  <a:lnTo>
                    <a:pt x="3237" y="3017"/>
                  </a:lnTo>
                  <a:lnTo>
                    <a:pt x="3158" y="2704"/>
                  </a:lnTo>
                  <a:lnTo>
                    <a:pt x="3140" y="2241"/>
                  </a:lnTo>
                  <a:lnTo>
                    <a:pt x="3273" y="2342"/>
                  </a:lnTo>
                  <a:lnTo>
                    <a:pt x="3405" y="2342"/>
                  </a:lnTo>
                  <a:lnTo>
                    <a:pt x="3594" y="2219"/>
                  </a:lnTo>
                  <a:lnTo>
                    <a:pt x="3718" y="2201"/>
                  </a:lnTo>
                  <a:lnTo>
                    <a:pt x="3797" y="2077"/>
                  </a:lnTo>
                  <a:lnTo>
                    <a:pt x="3850" y="1760"/>
                  </a:lnTo>
                  <a:lnTo>
                    <a:pt x="3965" y="1627"/>
                  </a:lnTo>
                  <a:lnTo>
                    <a:pt x="3903" y="1530"/>
                  </a:lnTo>
                  <a:lnTo>
                    <a:pt x="3824" y="1530"/>
                  </a:lnTo>
                  <a:lnTo>
                    <a:pt x="3758" y="1596"/>
                  </a:lnTo>
                  <a:lnTo>
                    <a:pt x="3687" y="1618"/>
                  </a:lnTo>
                  <a:lnTo>
                    <a:pt x="3608" y="1530"/>
                  </a:lnTo>
                  <a:lnTo>
                    <a:pt x="3511" y="1521"/>
                  </a:lnTo>
                  <a:lnTo>
                    <a:pt x="3330" y="1402"/>
                  </a:lnTo>
                  <a:lnTo>
                    <a:pt x="3220" y="1274"/>
                  </a:lnTo>
                  <a:lnTo>
                    <a:pt x="3198" y="1115"/>
                  </a:lnTo>
                  <a:lnTo>
                    <a:pt x="3220" y="965"/>
                  </a:lnTo>
                  <a:lnTo>
                    <a:pt x="3290" y="846"/>
                  </a:lnTo>
                  <a:lnTo>
                    <a:pt x="3387" y="732"/>
                  </a:lnTo>
                  <a:lnTo>
                    <a:pt x="3383" y="546"/>
                  </a:lnTo>
                  <a:lnTo>
                    <a:pt x="3383" y="401"/>
                  </a:lnTo>
                  <a:lnTo>
                    <a:pt x="3330" y="299"/>
                  </a:lnTo>
                  <a:lnTo>
                    <a:pt x="3198" y="251"/>
                  </a:lnTo>
                  <a:lnTo>
                    <a:pt x="3149" y="229"/>
                  </a:lnTo>
                  <a:lnTo>
                    <a:pt x="3052" y="66"/>
                  </a:lnTo>
                  <a:lnTo>
                    <a:pt x="2973" y="13"/>
                  </a:lnTo>
                  <a:lnTo>
                    <a:pt x="2898" y="0"/>
                  </a:lnTo>
                  <a:lnTo>
                    <a:pt x="2818" y="30"/>
                  </a:lnTo>
                  <a:lnTo>
                    <a:pt x="2770" y="119"/>
                  </a:lnTo>
                  <a:lnTo>
                    <a:pt x="2677" y="167"/>
                  </a:lnTo>
                  <a:lnTo>
                    <a:pt x="2580" y="194"/>
                  </a:lnTo>
                  <a:lnTo>
                    <a:pt x="2470" y="194"/>
                  </a:lnTo>
                  <a:lnTo>
                    <a:pt x="2488" y="357"/>
                  </a:lnTo>
                  <a:lnTo>
                    <a:pt x="2488" y="564"/>
                  </a:lnTo>
                  <a:lnTo>
                    <a:pt x="2470" y="705"/>
                  </a:lnTo>
                  <a:lnTo>
                    <a:pt x="2373" y="873"/>
                  </a:lnTo>
                  <a:lnTo>
                    <a:pt x="2245" y="1124"/>
                  </a:lnTo>
                  <a:lnTo>
                    <a:pt x="2152" y="1433"/>
                  </a:lnTo>
                  <a:lnTo>
                    <a:pt x="2144" y="1618"/>
                  </a:lnTo>
                  <a:lnTo>
                    <a:pt x="2100" y="1769"/>
                  </a:lnTo>
                  <a:lnTo>
                    <a:pt x="2038" y="1923"/>
                  </a:lnTo>
                  <a:lnTo>
                    <a:pt x="2007" y="2174"/>
                  </a:lnTo>
                  <a:lnTo>
                    <a:pt x="2025" y="2377"/>
                  </a:lnTo>
                  <a:lnTo>
                    <a:pt x="2100" y="2615"/>
                  </a:lnTo>
                  <a:lnTo>
                    <a:pt x="2144" y="2704"/>
                  </a:lnTo>
                  <a:lnTo>
                    <a:pt x="2007" y="2792"/>
                  </a:lnTo>
                  <a:lnTo>
                    <a:pt x="1852" y="2840"/>
                  </a:lnTo>
                  <a:lnTo>
                    <a:pt x="1671" y="2867"/>
                  </a:lnTo>
                  <a:lnTo>
                    <a:pt x="1561" y="2867"/>
                  </a:lnTo>
                  <a:lnTo>
                    <a:pt x="1494" y="2832"/>
                  </a:lnTo>
                  <a:lnTo>
                    <a:pt x="1494" y="2629"/>
                  </a:lnTo>
                  <a:lnTo>
                    <a:pt x="1494" y="2333"/>
                  </a:lnTo>
                  <a:lnTo>
                    <a:pt x="1446" y="2038"/>
                  </a:lnTo>
                  <a:lnTo>
                    <a:pt x="1380" y="1769"/>
                  </a:lnTo>
                  <a:lnTo>
                    <a:pt x="1349" y="1561"/>
                  </a:lnTo>
                  <a:lnTo>
                    <a:pt x="1327" y="1261"/>
                  </a:lnTo>
                  <a:lnTo>
                    <a:pt x="1380" y="996"/>
                  </a:lnTo>
                  <a:lnTo>
                    <a:pt x="1446" y="789"/>
                  </a:lnTo>
                  <a:lnTo>
                    <a:pt x="1464" y="670"/>
                  </a:lnTo>
                  <a:lnTo>
                    <a:pt x="1424" y="485"/>
                  </a:lnTo>
                  <a:lnTo>
                    <a:pt x="1424" y="343"/>
                  </a:lnTo>
                  <a:lnTo>
                    <a:pt x="1446" y="299"/>
                  </a:lnTo>
                  <a:lnTo>
                    <a:pt x="1424" y="28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575480" y="1387440"/>
              <a:ext cx="181440" cy="790920"/>
            </a:xfrm>
            <a:custGeom>
              <a:avLst/>
              <a:gdLst/>
              <a:ahLst/>
              <a:rect l="0" t="0" r="r" b="b"/>
              <a:pathLst>
                <a:path w="504" h="2197">
                  <a:moveTo>
                    <a:pt x="199" y="26"/>
                  </a:moveTo>
                  <a:lnTo>
                    <a:pt x="66" y="97"/>
                  </a:lnTo>
                  <a:lnTo>
                    <a:pt x="79" y="308"/>
                  </a:lnTo>
                  <a:lnTo>
                    <a:pt x="181" y="366"/>
                  </a:lnTo>
                  <a:lnTo>
                    <a:pt x="61" y="599"/>
                  </a:lnTo>
                  <a:lnTo>
                    <a:pt x="0" y="851"/>
                  </a:lnTo>
                  <a:lnTo>
                    <a:pt x="0" y="1093"/>
                  </a:lnTo>
                  <a:lnTo>
                    <a:pt x="61" y="1315"/>
                  </a:lnTo>
                  <a:lnTo>
                    <a:pt x="105" y="1588"/>
                  </a:lnTo>
                  <a:lnTo>
                    <a:pt x="105" y="1738"/>
                  </a:lnTo>
                  <a:lnTo>
                    <a:pt x="61" y="1928"/>
                  </a:lnTo>
                  <a:lnTo>
                    <a:pt x="261" y="2197"/>
                  </a:lnTo>
                  <a:lnTo>
                    <a:pt x="344" y="2157"/>
                  </a:lnTo>
                  <a:lnTo>
                    <a:pt x="403" y="1967"/>
                  </a:lnTo>
                  <a:lnTo>
                    <a:pt x="500" y="1725"/>
                  </a:lnTo>
                  <a:lnTo>
                    <a:pt x="504" y="1601"/>
                  </a:lnTo>
                  <a:lnTo>
                    <a:pt x="425" y="1359"/>
                  </a:lnTo>
                  <a:lnTo>
                    <a:pt x="327" y="1125"/>
                  </a:lnTo>
                  <a:lnTo>
                    <a:pt x="296" y="952"/>
                  </a:lnTo>
                  <a:lnTo>
                    <a:pt x="296" y="798"/>
                  </a:lnTo>
                  <a:lnTo>
                    <a:pt x="327" y="657"/>
                  </a:lnTo>
                  <a:lnTo>
                    <a:pt x="403" y="480"/>
                  </a:lnTo>
                  <a:lnTo>
                    <a:pt x="403" y="410"/>
                  </a:lnTo>
                  <a:lnTo>
                    <a:pt x="371" y="335"/>
                  </a:lnTo>
                  <a:lnTo>
                    <a:pt x="465" y="246"/>
                  </a:lnTo>
                  <a:lnTo>
                    <a:pt x="465" y="163"/>
                  </a:lnTo>
                  <a:lnTo>
                    <a:pt x="327" y="0"/>
                  </a:lnTo>
                  <a:lnTo>
                    <a:pt x="438" y="163"/>
                  </a:lnTo>
                  <a:lnTo>
                    <a:pt x="438" y="238"/>
                  </a:lnTo>
                  <a:lnTo>
                    <a:pt x="340" y="308"/>
                  </a:lnTo>
                  <a:lnTo>
                    <a:pt x="381" y="410"/>
                  </a:lnTo>
                  <a:lnTo>
                    <a:pt x="371" y="480"/>
                  </a:lnTo>
                  <a:lnTo>
                    <a:pt x="274" y="683"/>
                  </a:lnTo>
                  <a:lnTo>
                    <a:pt x="261" y="881"/>
                  </a:lnTo>
                  <a:lnTo>
                    <a:pt x="283" y="1067"/>
                  </a:lnTo>
                  <a:lnTo>
                    <a:pt x="344" y="1328"/>
                  </a:lnTo>
                  <a:lnTo>
                    <a:pt x="425" y="1535"/>
                  </a:lnTo>
                  <a:lnTo>
                    <a:pt x="425" y="1716"/>
                  </a:lnTo>
                  <a:lnTo>
                    <a:pt x="381" y="1928"/>
                  </a:lnTo>
                  <a:lnTo>
                    <a:pt x="283" y="2157"/>
                  </a:lnTo>
                  <a:lnTo>
                    <a:pt x="168" y="2033"/>
                  </a:lnTo>
                  <a:lnTo>
                    <a:pt x="119" y="1928"/>
                  </a:lnTo>
                  <a:lnTo>
                    <a:pt x="128" y="1716"/>
                  </a:lnTo>
                  <a:lnTo>
                    <a:pt x="119" y="1495"/>
                  </a:lnTo>
                  <a:lnTo>
                    <a:pt x="61" y="1204"/>
                  </a:lnTo>
                  <a:lnTo>
                    <a:pt x="35" y="1009"/>
                  </a:lnTo>
                  <a:lnTo>
                    <a:pt x="61" y="784"/>
                  </a:lnTo>
                  <a:lnTo>
                    <a:pt x="105" y="568"/>
                  </a:lnTo>
                  <a:lnTo>
                    <a:pt x="212" y="352"/>
                  </a:lnTo>
                  <a:lnTo>
                    <a:pt x="119" y="264"/>
                  </a:lnTo>
                  <a:lnTo>
                    <a:pt x="105" y="110"/>
                  </a:lnTo>
                  <a:lnTo>
                    <a:pt x="199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089920" y="461880"/>
              <a:ext cx="284400" cy="386280"/>
            </a:xfrm>
            <a:custGeom>
              <a:avLst/>
              <a:gdLst/>
              <a:ahLst/>
              <a:rect l="0" t="0" r="r" b="b"/>
              <a:pathLst>
                <a:path w="790" h="1073">
                  <a:moveTo>
                    <a:pt x="132" y="274"/>
                  </a:moveTo>
                  <a:lnTo>
                    <a:pt x="246" y="251"/>
                  </a:lnTo>
                  <a:lnTo>
                    <a:pt x="361" y="255"/>
                  </a:lnTo>
                  <a:lnTo>
                    <a:pt x="450" y="309"/>
                  </a:lnTo>
                  <a:lnTo>
                    <a:pt x="503" y="362"/>
                  </a:lnTo>
                  <a:lnTo>
                    <a:pt x="530" y="424"/>
                  </a:lnTo>
                  <a:lnTo>
                    <a:pt x="530" y="472"/>
                  </a:lnTo>
                  <a:lnTo>
                    <a:pt x="499" y="508"/>
                  </a:lnTo>
                  <a:lnTo>
                    <a:pt x="450" y="530"/>
                  </a:lnTo>
                  <a:lnTo>
                    <a:pt x="388" y="534"/>
                  </a:lnTo>
                  <a:lnTo>
                    <a:pt x="321" y="521"/>
                  </a:lnTo>
                  <a:lnTo>
                    <a:pt x="246" y="477"/>
                  </a:lnTo>
                  <a:lnTo>
                    <a:pt x="198" y="437"/>
                  </a:lnTo>
                  <a:lnTo>
                    <a:pt x="176" y="574"/>
                  </a:lnTo>
                  <a:lnTo>
                    <a:pt x="132" y="675"/>
                  </a:lnTo>
                  <a:lnTo>
                    <a:pt x="0" y="892"/>
                  </a:lnTo>
                  <a:lnTo>
                    <a:pt x="194" y="1073"/>
                  </a:lnTo>
                  <a:lnTo>
                    <a:pt x="339" y="785"/>
                  </a:lnTo>
                  <a:lnTo>
                    <a:pt x="499" y="808"/>
                  </a:lnTo>
                  <a:lnTo>
                    <a:pt x="600" y="790"/>
                  </a:lnTo>
                  <a:lnTo>
                    <a:pt x="697" y="719"/>
                  </a:lnTo>
                  <a:lnTo>
                    <a:pt x="759" y="636"/>
                  </a:lnTo>
                  <a:lnTo>
                    <a:pt x="790" y="521"/>
                  </a:lnTo>
                  <a:lnTo>
                    <a:pt x="790" y="406"/>
                  </a:lnTo>
                  <a:lnTo>
                    <a:pt x="759" y="283"/>
                  </a:lnTo>
                  <a:lnTo>
                    <a:pt x="693" y="163"/>
                  </a:lnTo>
                  <a:lnTo>
                    <a:pt x="613" y="74"/>
                  </a:lnTo>
                  <a:lnTo>
                    <a:pt x="516" y="26"/>
                  </a:lnTo>
                  <a:lnTo>
                    <a:pt x="406" y="0"/>
                  </a:lnTo>
                  <a:lnTo>
                    <a:pt x="260" y="0"/>
                  </a:lnTo>
                  <a:lnTo>
                    <a:pt x="105" y="30"/>
                  </a:lnTo>
                  <a:lnTo>
                    <a:pt x="132" y="274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039160" y="835200"/>
              <a:ext cx="103680" cy="78120"/>
            </a:xfrm>
            <a:custGeom>
              <a:avLst/>
              <a:gdLst/>
              <a:ahLst/>
              <a:rect l="0" t="0" r="r" b="b"/>
              <a:pathLst>
                <a:path w="288" h="217">
                  <a:moveTo>
                    <a:pt x="115" y="0"/>
                  </a:moveTo>
                  <a:lnTo>
                    <a:pt x="39" y="0"/>
                  </a:lnTo>
                  <a:lnTo>
                    <a:pt x="0" y="30"/>
                  </a:lnTo>
                  <a:lnTo>
                    <a:pt x="0" y="111"/>
                  </a:lnTo>
                  <a:lnTo>
                    <a:pt x="61" y="186"/>
                  </a:lnTo>
                  <a:lnTo>
                    <a:pt x="172" y="217"/>
                  </a:lnTo>
                  <a:lnTo>
                    <a:pt x="266" y="212"/>
                  </a:lnTo>
                  <a:lnTo>
                    <a:pt x="288" y="159"/>
                  </a:lnTo>
                  <a:lnTo>
                    <a:pt x="275" y="115"/>
                  </a:lnTo>
                  <a:lnTo>
                    <a:pt x="231" y="48"/>
                  </a:lnTo>
                  <a:lnTo>
                    <a:pt x="164" y="8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1143000" y="2514600"/>
            <a:ext cx="7391520" cy="31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2 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istinguish between capital and revenue expenditures, and account for the cost of property, plant, and equip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914400" y="609480"/>
            <a:ext cx="79246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quisition Cost of Property, Plant, and Equip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-177840"/>
            <a:ext cx="863640" cy="703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1143000" y="12193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n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xpenditure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is a payment or an obligation to make future payment for an asset or a servi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capital expenditur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s made for the purchase or expansion of a long-term ass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revenue expenditur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s related to the repair, maintenance, and operation of a long-term ass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9144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Expendit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1066680" y="12193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reful distinction between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revenue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and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pital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expenditures is important to the proper application of the matching ru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Understatements and overstatements of income can occu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termining when a payment is an expense and when it is an asset is a matter of management judg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9907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Expendit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1219320" y="15238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urchase pri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mmissions to real estate ag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Lawyers’ fe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crued taxes paid by the purchas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rain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1492200" y="533520"/>
            <a:ext cx="6737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sts of Lan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63640" cy="70358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838080" y="121932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8640" indent="-44136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dentify the types of long-term assets and explain the management issues related to accounting for th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8640" indent="-44136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istinguish between capital and revenue expenditures, and account for the cost of property, plant, and equip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8640" indent="-44136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3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fin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preciation,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state the factors that affect its computation, and show how to record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9907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LEARNING OBJEC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1219320" y="1600200"/>
            <a:ext cx="73915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earing down old building(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learing and grad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ssessments for improve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Landscap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Land is not subject to depreci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3880" y="609480"/>
            <a:ext cx="66610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sts of Lan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1066680" y="152388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clude driveways, parking lots, and fen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Have limited lives and are deprecia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hould be recorded in an account called Land Improvements rather than in the Land accou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33520" y="457200"/>
            <a:ext cx="86104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sts of Land Improv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838080" y="1219320"/>
            <a:ext cx="7924680" cy="469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urchase pri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Repairs and other expenses required to put it in usable condi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Buildings are subject to depreciation because they have a limited useful lif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en a business constructs its own building, all costs of construction are includ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066680" y="304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sts of Building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914400" y="1828800"/>
            <a:ext cx="784872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urchase pri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Other expenditures required to prepare it for u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quipment is subject to depreci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99072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sts of Equip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83808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s a lump sum purchase of land and other asse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Requires apportionment of the purchase price to Land and other asset accou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Land must have a separate ledger account because it is nondepreci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990720" y="533520"/>
            <a:ext cx="7626240" cy="9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sts of Group Purcha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609480" y="1981080"/>
            <a:ext cx="830592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00200" indent="-228600">
              <a:lnSpc>
                <a:spcPct val="12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Appraisal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Percentage    Apportion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Land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$  10,000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  10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$  8,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Building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 u="sng">
                <a:solidFill>
                  <a:srgbClr val="fcffd8"/>
                </a:solidFill>
                <a:uFillTx/>
                <a:latin typeface="Arial"/>
                <a:ea typeface="Arial"/>
              </a:rPr>
              <a:t>    90,000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</a:t>
            </a:r>
            <a:r>
              <a:rPr b="1" lang="en-US" sz="2400" spc="-1" strike="noStrike" u="sng">
                <a:solidFill>
                  <a:srgbClr val="fcffd8"/>
                </a:solidFill>
                <a:uFillTx/>
                <a:latin typeface="Arial"/>
                <a:ea typeface="Arial"/>
              </a:rPr>
              <a:t>  90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 u="sng">
                <a:solidFill>
                  <a:srgbClr val="fcffd8"/>
                </a:solidFill>
                <a:uFillTx/>
                <a:latin typeface="Arial"/>
                <a:ea typeface="Arial"/>
              </a:rPr>
              <a:t>  76,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Total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$100,000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100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$8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143000" y="83808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sts of Group Purcha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2519280" y="4572000"/>
            <a:ext cx="5699160" cy="76320"/>
            <a:chOff x="2519280" y="4572000"/>
            <a:chExt cx="5699160" cy="76320"/>
          </a:xfrm>
        </p:grpSpPr>
        <p:sp>
          <p:nvSpPr>
            <p:cNvPr id="241" name=""/>
            <p:cNvSpPr/>
            <p:nvPr/>
          </p:nvSpPr>
          <p:spPr>
            <a:xfrm>
              <a:off x="2519280" y="4572000"/>
              <a:ext cx="1279440" cy="0"/>
            </a:xfrm>
            <a:prstGeom prst="line">
              <a:avLst/>
            </a:prstGeom>
            <a:ln w="2556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519280" y="4648320"/>
              <a:ext cx="1279440" cy="0"/>
            </a:xfrm>
            <a:prstGeom prst="line">
              <a:avLst/>
            </a:prstGeom>
            <a:ln w="2556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091280" y="4572000"/>
              <a:ext cx="1127160" cy="0"/>
            </a:xfrm>
            <a:prstGeom prst="line">
              <a:avLst/>
            </a:prstGeom>
            <a:ln w="2556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091280" y="4648320"/>
              <a:ext cx="1127160" cy="0"/>
            </a:xfrm>
            <a:prstGeom prst="line">
              <a:avLst/>
            </a:prstGeom>
            <a:ln w="2556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033880" y="4572000"/>
              <a:ext cx="517680" cy="0"/>
            </a:xfrm>
            <a:prstGeom prst="line">
              <a:avLst/>
            </a:prstGeom>
            <a:ln w="2556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033880" y="4648320"/>
              <a:ext cx="517680" cy="0"/>
            </a:xfrm>
            <a:prstGeom prst="line">
              <a:avLst/>
            </a:prstGeom>
            <a:ln w="25560">
              <a:solidFill>
                <a:srgbClr val="fcff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2133720" y="838080"/>
            <a:ext cx="4454640" cy="9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85800" y="205740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yeing a carpet may make it look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lmost new. Why isn’t it a capital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xpenditur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lthough the carpet looks better, it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ibers are not stronger, and it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obably will not last significantly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longer than it would have before th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lor was chang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6629400" y="228600"/>
            <a:ext cx="1980000" cy="1827360"/>
            <a:chOff x="6629400" y="228600"/>
            <a:chExt cx="1980000" cy="1827360"/>
          </a:xfrm>
        </p:grpSpPr>
        <p:sp>
          <p:nvSpPr>
            <p:cNvPr id="250" name=""/>
            <p:cNvSpPr/>
            <p:nvPr/>
          </p:nvSpPr>
          <p:spPr>
            <a:xfrm>
              <a:off x="6634080" y="1125360"/>
              <a:ext cx="481320" cy="638640"/>
            </a:xfrm>
            <a:custGeom>
              <a:avLst/>
              <a:gdLst/>
              <a:ahLst/>
              <a:rect l="0" t="0" r="r" b="b"/>
              <a:pathLst>
                <a:path w="1337" h="1774">
                  <a:moveTo>
                    <a:pt x="533" y="0"/>
                  </a:moveTo>
                  <a:lnTo>
                    <a:pt x="463" y="79"/>
                  </a:lnTo>
                  <a:lnTo>
                    <a:pt x="463" y="308"/>
                  </a:lnTo>
                  <a:lnTo>
                    <a:pt x="533" y="477"/>
                  </a:lnTo>
                  <a:lnTo>
                    <a:pt x="617" y="561"/>
                  </a:lnTo>
                  <a:lnTo>
                    <a:pt x="489" y="675"/>
                  </a:lnTo>
                  <a:lnTo>
                    <a:pt x="335" y="931"/>
                  </a:lnTo>
                  <a:lnTo>
                    <a:pt x="26" y="1342"/>
                  </a:lnTo>
                  <a:lnTo>
                    <a:pt x="0" y="1439"/>
                  </a:lnTo>
                  <a:lnTo>
                    <a:pt x="26" y="1523"/>
                  </a:lnTo>
                  <a:lnTo>
                    <a:pt x="123" y="1523"/>
                  </a:lnTo>
                  <a:lnTo>
                    <a:pt x="202" y="1426"/>
                  </a:lnTo>
                  <a:lnTo>
                    <a:pt x="335" y="1196"/>
                  </a:lnTo>
                  <a:lnTo>
                    <a:pt x="414" y="1099"/>
                  </a:lnTo>
                  <a:lnTo>
                    <a:pt x="463" y="1248"/>
                  </a:lnTo>
                  <a:lnTo>
                    <a:pt x="432" y="1413"/>
                  </a:lnTo>
                  <a:lnTo>
                    <a:pt x="299" y="1646"/>
                  </a:lnTo>
                  <a:lnTo>
                    <a:pt x="335" y="1699"/>
                  </a:lnTo>
                  <a:lnTo>
                    <a:pt x="414" y="1686"/>
                  </a:lnTo>
                  <a:lnTo>
                    <a:pt x="577" y="1563"/>
                  </a:lnTo>
                  <a:lnTo>
                    <a:pt x="710" y="1355"/>
                  </a:lnTo>
                  <a:lnTo>
                    <a:pt x="710" y="1712"/>
                  </a:lnTo>
                  <a:lnTo>
                    <a:pt x="869" y="1774"/>
                  </a:lnTo>
                  <a:lnTo>
                    <a:pt x="966" y="1554"/>
                  </a:lnTo>
                  <a:lnTo>
                    <a:pt x="1046" y="1761"/>
                  </a:lnTo>
                  <a:lnTo>
                    <a:pt x="1112" y="1699"/>
                  </a:lnTo>
                  <a:lnTo>
                    <a:pt x="1143" y="1288"/>
                  </a:lnTo>
                  <a:lnTo>
                    <a:pt x="1337" y="900"/>
                  </a:lnTo>
                  <a:lnTo>
                    <a:pt x="1293" y="675"/>
                  </a:lnTo>
                  <a:lnTo>
                    <a:pt x="1156" y="591"/>
                  </a:lnTo>
                  <a:lnTo>
                    <a:pt x="1015" y="600"/>
                  </a:lnTo>
                  <a:lnTo>
                    <a:pt x="966" y="418"/>
                  </a:lnTo>
                  <a:lnTo>
                    <a:pt x="816" y="379"/>
                  </a:lnTo>
                  <a:lnTo>
                    <a:pt x="688" y="321"/>
                  </a:lnTo>
                  <a:lnTo>
                    <a:pt x="617" y="39"/>
                  </a:lnTo>
                  <a:lnTo>
                    <a:pt x="533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039080" y="1384200"/>
              <a:ext cx="141480" cy="308160"/>
            </a:xfrm>
            <a:custGeom>
              <a:avLst/>
              <a:gdLst/>
              <a:ahLst/>
              <a:rect l="0" t="0" r="r" b="b"/>
              <a:pathLst>
                <a:path w="393" h="856">
                  <a:moveTo>
                    <a:pt x="194" y="0"/>
                  </a:moveTo>
                  <a:lnTo>
                    <a:pt x="393" y="220"/>
                  </a:lnTo>
                  <a:lnTo>
                    <a:pt x="296" y="706"/>
                  </a:lnTo>
                  <a:lnTo>
                    <a:pt x="0" y="856"/>
                  </a:lnTo>
                  <a:lnTo>
                    <a:pt x="0" y="613"/>
                  </a:lnTo>
                  <a:lnTo>
                    <a:pt x="119" y="361"/>
                  </a:lnTo>
                  <a:lnTo>
                    <a:pt x="194" y="180"/>
                  </a:lnTo>
                  <a:lnTo>
                    <a:pt x="194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958160" y="1208160"/>
              <a:ext cx="356040" cy="278280"/>
            </a:xfrm>
            <a:custGeom>
              <a:avLst/>
              <a:gdLst/>
              <a:ahLst/>
              <a:rect l="0" t="0" r="r" b="b"/>
              <a:pathLst>
                <a:path w="989" h="773">
                  <a:moveTo>
                    <a:pt x="411" y="0"/>
                  </a:moveTo>
                  <a:lnTo>
                    <a:pt x="411" y="123"/>
                  </a:lnTo>
                  <a:lnTo>
                    <a:pt x="441" y="234"/>
                  </a:lnTo>
                  <a:lnTo>
                    <a:pt x="636" y="419"/>
                  </a:lnTo>
                  <a:lnTo>
                    <a:pt x="989" y="525"/>
                  </a:lnTo>
                  <a:lnTo>
                    <a:pt x="945" y="760"/>
                  </a:lnTo>
                  <a:lnTo>
                    <a:pt x="636" y="773"/>
                  </a:lnTo>
                  <a:lnTo>
                    <a:pt x="189" y="606"/>
                  </a:lnTo>
                  <a:lnTo>
                    <a:pt x="0" y="309"/>
                  </a:lnTo>
                  <a:lnTo>
                    <a:pt x="220" y="13"/>
                  </a:lnTo>
                  <a:lnTo>
                    <a:pt x="411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102520" y="890640"/>
              <a:ext cx="495720" cy="616320"/>
            </a:xfrm>
            <a:custGeom>
              <a:avLst/>
              <a:gdLst/>
              <a:ahLst/>
              <a:rect l="0" t="0" r="r" b="b"/>
              <a:pathLst>
                <a:path w="1377" h="1712">
                  <a:moveTo>
                    <a:pt x="123" y="724"/>
                  </a:moveTo>
                  <a:lnTo>
                    <a:pt x="0" y="847"/>
                  </a:lnTo>
                  <a:lnTo>
                    <a:pt x="26" y="1125"/>
                  </a:lnTo>
                  <a:lnTo>
                    <a:pt x="220" y="1253"/>
                  </a:lnTo>
                  <a:lnTo>
                    <a:pt x="233" y="1682"/>
                  </a:lnTo>
                  <a:lnTo>
                    <a:pt x="428" y="1682"/>
                  </a:lnTo>
                  <a:lnTo>
                    <a:pt x="415" y="1324"/>
                  </a:lnTo>
                  <a:lnTo>
                    <a:pt x="556" y="1699"/>
                  </a:lnTo>
                  <a:lnTo>
                    <a:pt x="658" y="1712"/>
                  </a:lnTo>
                  <a:lnTo>
                    <a:pt x="719" y="1589"/>
                  </a:lnTo>
                  <a:lnTo>
                    <a:pt x="737" y="1351"/>
                  </a:lnTo>
                  <a:lnTo>
                    <a:pt x="949" y="1576"/>
                  </a:lnTo>
                  <a:lnTo>
                    <a:pt x="1032" y="1554"/>
                  </a:lnTo>
                  <a:lnTo>
                    <a:pt x="1015" y="1404"/>
                  </a:lnTo>
                  <a:lnTo>
                    <a:pt x="931" y="1187"/>
                  </a:lnTo>
                  <a:lnTo>
                    <a:pt x="847" y="1041"/>
                  </a:lnTo>
                  <a:lnTo>
                    <a:pt x="882" y="944"/>
                  </a:lnTo>
                  <a:lnTo>
                    <a:pt x="931" y="966"/>
                  </a:lnTo>
                  <a:lnTo>
                    <a:pt x="1126" y="1187"/>
                  </a:lnTo>
                  <a:lnTo>
                    <a:pt x="1333" y="1240"/>
                  </a:lnTo>
                  <a:lnTo>
                    <a:pt x="1377" y="1173"/>
                  </a:lnTo>
                  <a:lnTo>
                    <a:pt x="1351" y="1054"/>
                  </a:lnTo>
                  <a:lnTo>
                    <a:pt x="962" y="710"/>
                  </a:lnTo>
                  <a:lnTo>
                    <a:pt x="658" y="605"/>
                  </a:lnTo>
                  <a:lnTo>
                    <a:pt x="618" y="410"/>
                  </a:lnTo>
                  <a:lnTo>
                    <a:pt x="719" y="238"/>
                  </a:lnTo>
                  <a:lnTo>
                    <a:pt x="719" y="57"/>
                  </a:lnTo>
                  <a:lnTo>
                    <a:pt x="640" y="0"/>
                  </a:lnTo>
                  <a:lnTo>
                    <a:pt x="415" y="464"/>
                  </a:lnTo>
                  <a:lnTo>
                    <a:pt x="220" y="534"/>
                  </a:lnTo>
                  <a:lnTo>
                    <a:pt x="167" y="662"/>
                  </a:lnTo>
                  <a:lnTo>
                    <a:pt x="123" y="724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288200" y="357120"/>
              <a:ext cx="541800" cy="786240"/>
            </a:xfrm>
            <a:custGeom>
              <a:avLst/>
              <a:gdLst/>
              <a:ahLst/>
              <a:rect l="0" t="0" r="r" b="b"/>
              <a:pathLst>
                <a:path w="1505" h="2184">
                  <a:moveTo>
                    <a:pt x="374" y="304"/>
                  </a:moveTo>
                  <a:lnTo>
                    <a:pt x="264" y="724"/>
                  </a:lnTo>
                  <a:lnTo>
                    <a:pt x="13" y="807"/>
                  </a:lnTo>
                  <a:lnTo>
                    <a:pt x="83" y="935"/>
                  </a:lnTo>
                  <a:lnTo>
                    <a:pt x="0" y="1019"/>
                  </a:lnTo>
                  <a:lnTo>
                    <a:pt x="0" y="1173"/>
                  </a:lnTo>
                  <a:lnTo>
                    <a:pt x="119" y="1310"/>
                  </a:lnTo>
                  <a:lnTo>
                    <a:pt x="233" y="1310"/>
                  </a:lnTo>
                  <a:lnTo>
                    <a:pt x="313" y="1796"/>
                  </a:lnTo>
                  <a:lnTo>
                    <a:pt x="411" y="2004"/>
                  </a:lnTo>
                  <a:lnTo>
                    <a:pt x="715" y="2184"/>
                  </a:lnTo>
                  <a:lnTo>
                    <a:pt x="1024" y="2158"/>
                  </a:lnTo>
                  <a:lnTo>
                    <a:pt x="1170" y="1796"/>
                  </a:lnTo>
                  <a:lnTo>
                    <a:pt x="1201" y="1244"/>
                  </a:lnTo>
                  <a:lnTo>
                    <a:pt x="1505" y="966"/>
                  </a:lnTo>
                  <a:lnTo>
                    <a:pt x="1492" y="856"/>
                  </a:lnTo>
                  <a:lnTo>
                    <a:pt x="1457" y="807"/>
                  </a:lnTo>
                  <a:lnTo>
                    <a:pt x="1298" y="794"/>
                  </a:lnTo>
                  <a:lnTo>
                    <a:pt x="1351" y="649"/>
                  </a:lnTo>
                  <a:lnTo>
                    <a:pt x="1188" y="552"/>
                  </a:lnTo>
                  <a:lnTo>
                    <a:pt x="1121" y="238"/>
                  </a:lnTo>
                  <a:lnTo>
                    <a:pt x="653" y="0"/>
                  </a:lnTo>
                  <a:lnTo>
                    <a:pt x="411" y="224"/>
                  </a:lnTo>
                  <a:lnTo>
                    <a:pt x="374" y="304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327800" y="1014480"/>
              <a:ext cx="495720" cy="937080"/>
            </a:xfrm>
            <a:custGeom>
              <a:avLst/>
              <a:gdLst/>
              <a:ahLst/>
              <a:rect l="0" t="0" r="r" b="b"/>
              <a:pathLst>
                <a:path w="1377" h="2603">
                  <a:moveTo>
                    <a:pt x="282" y="136"/>
                  </a:moveTo>
                  <a:lnTo>
                    <a:pt x="477" y="260"/>
                  </a:lnTo>
                  <a:lnTo>
                    <a:pt x="574" y="401"/>
                  </a:lnTo>
                  <a:lnTo>
                    <a:pt x="1126" y="0"/>
                  </a:lnTo>
                  <a:lnTo>
                    <a:pt x="1298" y="83"/>
                  </a:lnTo>
                  <a:lnTo>
                    <a:pt x="1377" y="493"/>
                  </a:lnTo>
                  <a:lnTo>
                    <a:pt x="975" y="1694"/>
                  </a:lnTo>
                  <a:lnTo>
                    <a:pt x="1108" y="2356"/>
                  </a:lnTo>
                  <a:lnTo>
                    <a:pt x="587" y="2603"/>
                  </a:lnTo>
                  <a:lnTo>
                    <a:pt x="185" y="2462"/>
                  </a:lnTo>
                  <a:lnTo>
                    <a:pt x="185" y="1760"/>
                  </a:lnTo>
                  <a:lnTo>
                    <a:pt x="0" y="1081"/>
                  </a:lnTo>
                  <a:lnTo>
                    <a:pt x="185" y="260"/>
                  </a:lnTo>
                  <a:lnTo>
                    <a:pt x="282" y="136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348680" y="254160"/>
              <a:ext cx="464040" cy="248040"/>
            </a:xfrm>
            <a:custGeom>
              <a:avLst/>
              <a:gdLst/>
              <a:ahLst/>
              <a:rect l="0" t="0" r="r" b="b"/>
              <a:pathLst>
                <a:path w="1289" h="689">
                  <a:moveTo>
                    <a:pt x="158" y="659"/>
                  </a:moveTo>
                  <a:lnTo>
                    <a:pt x="349" y="472"/>
                  </a:lnTo>
                  <a:lnTo>
                    <a:pt x="468" y="446"/>
                  </a:lnTo>
                  <a:lnTo>
                    <a:pt x="468" y="464"/>
                  </a:lnTo>
                  <a:lnTo>
                    <a:pt x="530" y="446"/>
                  </a:lnTo>
                  <a:lnTo>
                    <a:pt x="609" y="499"/>
                  </a:lnTo>
                  <a:lnTo>
                    <a:pt x="759" y="531"/>
                  </a:lnTo>
                  <a:lnTo>
                    <a:pt x="882" y="689"/>
                  </a:lnTo>
                  <a:lnTo>
                    <a:pt x="1086" y="619"/>
                  </a:lnTo>
                  <a:lnTo>
                    <a:pt x="1086" y="548"/>
                  </a:lnTo>
                  <a:lnTo>
                    <a:pt x="1289" y="464"/>
                  </a:lnTo>
                  <a:lnTo>
                    <a:pt x="1227" y="336"/>
                  </a:lnTo>
                  <a:lnTo>
                    <a:pt x="1038" y="322"/>
                  </a:lnTo>
                  <a:lnTo>
                    <a:pt x="1069" y="181"/>
                  </a:lnTo>
                  <a:lnTo>
                    <a:pt x="900" y="199"/>
                  </a:lnTo>
                  <a:lnTo>
                    <a:pt x="874" y="97"/>
                  </a:lnTo>
                  <a:lnTo>
                    <a:pt x="759" y="97"/>
                  </a:lnTo>
                  <a:lnTo>
                    <a:pt x="680" y="149"/>
                  </a:lnTo>
                  <a:lnTo>
                    <a:pt x="609" y="149"/>
                  </a:lnTo>
                  <a:lnTo>
                    <a:pt x="627" y="0"/>
                  </a:lnTo>
                  <a:lnTo>
                    <a:pt x="468" y="70"/>
                  </a:lnTo>
                  <a:lnTo>
                    <a:pt x="251" y="322"/>
                  </a:lnTo>
                  <a:lnTo>
                    <a:pt x="242" y="149"/>
                  </a:lnTo>
                  <a:lnTo>
                    <a:pt x="127" y="234"/>
                  </a:lnTo>
                  <a:lnTo>
                    <a:pt x="97" y="446"/>
                  </a:lnTo>
                  <a:lnTo>
                    <a:pt x="0" y="411"/>
                  </a:lnTo>
                  <a:lnTo>
                    <a:pt x="13" y="548"/>
                  </a:lnTo>
                  <a:lnTo>
                    <a:pt x="158" y="659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473960" y="1187280"/>
              <a:ext cx="147960" cy="709920"/>
            </a:xfrm>
            <a:custGeom>
              <a:avLst/>
              <a:gdLst/>
              <a:ahLst/>
              <a:rect l="0" t="0" r="r" b="b"/>
              <a:pathLst>
                <a:path w="411" h="1972">
                  <a:moveTo>
                    <a:pt x="212" y="13"/>
                  </a:moveTo>
                  <a:lnTo>
                    <a:pt x="74" y="97"/>
                  </a:lnTo>
                  <a:lnTo>
                    <a:pt x="74" y="264"/>
                  </a:lnTo>
                  <a:lnTo>
                    <a:pt x="171" y="317"/>
                  </a:lnTo>
                  <a:lnTo>
                    <a:pt x="35" y="582"/>
                  </a:lnTo>
                  <a:lnTo>
                    <a:pt x="0" y="926"/>
                  </a:lnTo>
                  <a:lnTo>
                    <a:pt x="101" y="1381"/>
                  </a:lnTo>
                  <a:lnTo>
                    <a:pt x="101" y="1570"/>
                  </a:lnTo>
                  <a:lnTo>
                    <a:pt x="48" y="1720"/>
                  </a:lnTo>
                  <a:lnTo>
                    <a:pt x="256" y="1972"/>
                  </a:lnTo>
                  <a:lnTo>
                    <a:pt x="397" y="1588"/>
                  </a:lnTo>
                  <a:lnTo>
                    <a:pt x="397" y="1328"/>
                  </a:lnTo>
                  <a:lnTo>
                    <a:pt x="296" y="1076"/>
                  </a:lnTo>
                  <a:lnTo>
                    <a:pt x="243" y="745"/>
                  </a:lnTo>
                  <a:lnTo>
                    <a:pt x="344" y="418"/>
                  </a:lnTo>
                  <a:lnTo>
                    <a:pt x="314" y="291"/>
                  </a:lnTo>
                  <a:lnTo>
                    <a:pt x="411" y="224"/>
                  </a:lnTo>
                  <a:lnTo>
                    <a:pt x="397" y="136"/>
                  </a:lnTo>
                  <a:lnTo>
                    <a:pt x="278" y="0"/>
                  </a:lnTo>
                  <a:lnTo>
                    <a:pt x="212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469280" y="949320"/>
              <a:ext cx="119520" cy="65520"/>
            </a:xfrm>
            <a:custGeom>
              <a:avLst/>
              <a:gdLst/>
              <a:ahLst/>
              <a:rect l="0" t="0" r="r" b="b"/>
              <a:pathLst>
                <a:path w="332" h="182">
                  <a:moveTo>
                    <a:pt x="0" y="58"/>
                  </a:moveTo>
                  <a:lnTo>
                    <a:pt x="133" y="182"/>
                  </a:lnTo>
                  <a:lnTo>
                    <a:pt x="262" y="169"/>
                  </a:lnTo>
                  <a:lnTo>
                    <a:pt x="332" y="13"/>
                  </a:lnTo>
                  <a:lnTo>
                    <a:pt x="186" y="0"/>
                  </a:lnTo>
                  <a:lnTo>
                    <a:pt x="30" y="13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338960" y="620640"/>
              <a:ext cx="147960" cy="140040"/>
            </a:xfrm>
            <a:custGeom>
              <a:avLst/>
              <a:gdLst/>
              <a:ahLst/>
              <a:rect l="0" t="0" r="r" b="b"/>
              <a:pathLst>
                <a:path w="411" h="389">
                  <a:moveTo>
                    <a:pt x="0" y="39"/>
                  </a:moveTo>
                  <a:lnTo>
                    <a:pt x="283" y="389"/>
                  </a:lnTo>
                  <a:lnTo>
                    <a:pt x="411" y="362"/>
                  </a:lnTo>
                  <a:lnTo>
                    <a:pt x="114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597800" y="593640"/>
              <a:ext cx="128880" cy="136800"/>
            </a:xfrm>
            <a:custGeom>
              <a:avLst/>
              <a:gdLst/>
              <a:ahLst/>
              <a:rect l="0" t="0" r="r" b="b"/>
              <a:pathLst>
                <a:path w="358" h="380">
                  <a:moveTo>
                    <a:pt x="0" y="52"/>
                  </a:moveTo>
                  <a:lnTo>
                    <a:pt x="247" y="380"/>
                  </a:lnTo>
                  <a:lnTo>
                    <a:pt x="358" y="292"/>
                  </a:lnTo>
                  <a:lnTo>
                    <a:pt x="97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84960" y="414360"/>
              <a:ext cx="514800" cy="346320"/>
            </a:xfrm>
            <a:custGeom>
              <a:avLst/>
              <a:gdLst/>
              <a:ahLst/>
              <a:rect l="0" t="0" r="r" b="b"/>
              <a:pathLst>
                <a:path w="1430" h="962">
                  <a:moveTo>
                    <a:pt x="653" y="569"/>
                  </a:moveTo>
                  <a:lnTo>
                    <a:pt x="525" y="534"/>
                  </a:lnTo>
                  <a:lnTo>
                    <a:pt x="636" y="449"/>
                  </a:lnTo>
                  <a:lnTo>
                    <a:pt x="596" y="405"/>
                  </a:lnTo>
                  <a:lnTo>
                    <a:pt x="450" y="516"/>
                  </a:lnTo>
                  <a:lnTo>
                    <a:pt x="176" y="543"/>
                  </a:lnTo>
                  <a:lnTo>
                    <a:pt x="0" y="552"/>
                  </a:lnTo>
                  <a:lnTo>
                    <a:pt x="0" y="684"/>
                  </a:lnTo>
                  <a:lnTo>
                    <a:pt x="171" y="953"/>
                  </a:lnTo>
                  <a:lnTo>
                    <a:pt x="216" y="962"/>
                  </a:lnTo>
                  <a:lnTo>
                    <a:pt x="57" y="666"/>
                  </a:lnTo>
                  <a:lnTo>
                    <a:pt x="295" y="569"/>
                  </a:lnTo>
                  <a:lnTo>
                    <a:pt x="450" y="569"/>
                  </a:lnTo>
                  <a:lnTo>
                    <a:pt x="569" y="631"/>
                  </a:lnTo>
                  <a:lnTo>
                    <a:pt x="596" y="715"/>
                  </a:lnTo>
                  <a:lnTo>
                    <a:pt x="596" y="896"/>
                  </a:lnTo>
                  <a:lnTo>
                    <a:pt x="596" y="953"/>
                  </a:lnTo>
                  <a:lnTo>
                    <a:pt x="666" y="869"/>
                  </a:lnTo>
                  <a:lnTo>
                    <a:pt x="666" y="675"/>
                  </a:lnTo>
                  <a:lnTo>
                    <a:pt x="763" y="675"/>
                  </a:lnTo>
                  <a:lnTo>
                    <a:pt x="816" y="896"/>
                  </a:lnTo>
                  <a:lnTo>
                    <a:pt x="869" y="918"/>
                  </a:lnTo>
                  <a:lnTo>
                    <a:pt x="1046" y="918"/>
                  </a:lnTo>
                  <a:lnTo>
                    <a:pt x="1219" y="874"/>
                  </a:lnTo>
                  <a:lnTo>
                    <a:pt x="1342" y="794"/>
                  </a:lnTo>
                  <a:lnTo>
                    <a:pt x="1360" y="600"/>
                  </a:lnTo>
                  <a:lnTo>
                    <a:pt x="1430" y="516"/>
                  </a:lnTo>
                  <a:lnTo>
                    <a:pt x="1391" y="463"/>
                  </a:lnTo>
                  <a:lnTo>
                    <a:pt x="1232" y="410"/>
                  </a:lnTo>
                  <a:lnTo>
                    <a:pt x="1205" y="216"/>
                  </a:lnTo>
                  <a:lnTo>
                    <a:pt x="1054" y="216"/>
                  </a:lnTo>
                  <a:lnTo>
                    <a:pt x="878" y="0"/>
                  </a:lnTo>
                  <a:lnTo>
                    <a:pt x="1041" y="238"/>
                  </a:lnTo>
                  <a:lnTo>
                    <a:pt x="1091" y="238"/>
                  </a:lnTo>
                  <a:lnTo>
                    <a:pt x="1126" y="405"/>
                  </a:lnTo>
                  <a:lnTo>
                    <a:pt x="927" y="463"/>
                  </a:lnTo>
                  <a:lnTo>
                    <a:pt x="781" y="418"/>
                  </a:lnTo>
                  <a:lnTo>
                    <a:pt x="755" y="463"/>
                  </a:lnTo>
                  <a:lnTo>
                    <a:pt x="834" y="516"/>
                  </a:lnTo>
                  <a:lnTo>
                    <a:pt x="834" y="561"/>
                  </a:lnTo>
                  <a:lnTo>
                    <a:pt x="1006" y="490"/>
                  </a:lnTo>
                  <a:lnTo>
                    <a:pt x="1152" y="476"/>
                  </a:lnTo>
                  <a:lnTo>
                    <a:pt x="1311" y="499"/>
                  </a:lnTo>
                  <a:lnTo>
                    <a:pt x="1311" y="525"/>
                  </a:lnTo>
                  <a:lnTo>
                    <a:pt x="1236" y="587"/>
                  </a:lnTo>
                  <a:lnTo>
                    <a:pt x="1205" y="675"/>
                  </a:lnTo>
                  <a:lnTo>
                    <a:pt x="1197" y="794"/>
                  </a:lnTo>
                  <a:lnTo>
                    <a:pt x="1104" y="843"/>
                  </a:lnTo>
                  <a:lnTo>
                    <a:pt x="966" y="856"/>
                  </a:lnTo>
                  <a:lnTo>
                    <a:pt x="869" y="856"/>
                  </a:lnTo>
                  <a:lnTo>
                    <a:pt x="838" y="825"/>
                  </a:lnTo>
                  <a:lnTo>
                    <a:pt x="816" y="600"/>
                  </a:lnTo>
                  <a:lnTo>
                    <a:pt x="666" y="600"/>
                  </a:lnTo>
                  <a:lnTo>
                    <a:pt x="653" y="56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461360" y="812880"/>
              <a:ext cx="167040" cy="71640"/>
            </a:xfrm>
            <a:custGeom>
              <a:avLst/>
              <a:gdLst/>
              <a:ahLst/>
              <a:rect l="0" t="0" r="r" b="b"/>
              <a:pathLst>
                <a:path w="464" h="199">
                  <a:moveTo>
                    <a:pt x="0" y="0"/>
                  </a:moveTo>
                  <a:lnTo>
                    <a:pt x="74" y="92"/>
                  </a:lnTo>
                  <a:lnTo>
                    <a:pt x="274" y="92"/>
                  </a:lnTo>
                  <a:lnTo>
                    <a:pt x="358" y="26"/>
                  </a:lnTo>
                  <a:lnTo>
                    <a:pt x="464" y="26"/>
                  </a:lnTo>
                  <a:lnTo>
                    <a:pt x="446" y="61"/>
                  </a:lnTo>
                  <a:lnTo>
                    <a:pt x="446" y="92"/>
                  </a:lnTo>
                  <a:lnTo>
                    <a:pt x="256" y="199"/>
                  </a:lnTo>
                  <a:lnTo>
                    <a:pt x="154" y="199"/>
                  </a:lnTo>
                  <a:lnTo>
                    <a:pt x="97" y="164"/>
                  </a:lnTo>
                  <a:lnTo>
                    <a:pt x="39" y="16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0520" bIns="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277040" y="698400"/>
              <a:ext cx="251280" cy="375120"/>
            </a:xfrm>
            <a:custGeom>
              <a:avLst/>
              <a:gdLst/>
              <a:ahLst/>
              <a:rect l="0" t="0" r="r" b="b"/>
              <a:pathLst>
                <a:path w="698" h="1042">
                  <a:moveTo>
                    <a:pt x="698" y="74"/>
                  </a:moveTo>
                  <a:lnTo>
                    <a:pt x="698" y="92"/>
                  </a:lnTo>
                  <a:lnTo>
                    <a:pt x="575" y="198"/>
                  </a:lnTo>
                  <a:lnTo>
                    <a:pt x="472" y="216"/>
                  </a:lnTo>
                  <a:lnTo>
                    <a:pt x="278" y="189"/>
                  </a:lnTo>
                  <a:lnTo>
                    <a:pt x="318" y="561"/>
                  </a:lnTo>
                  <a:lnTo>
                    <a:pt x="362" y="870"/>
                  </a:lnTo>
                  <a:lnTo>
                    <a:pt x="446" y="1042"/>
                  </a:lnTo>
                  <a:lnTo>
                    <a:pt x="362" y="923"/>
                  </a:lnTo>
                  <a:lnTo>
                    <a:pt x="327" y="795"/>
                  </a:lnTo>
                  <a:lnTo>
                    <a:pt x="269" y="441"/>
                  </a:lnTo>
                  <a:lnTo>
                    <a:pt x="217" y="459"/>
                  </a:lnTo>
                  <a:lnTo>
                    <a:pt x="145" y="419"/>
                  </a:lnTo>
                  <a:lnTo>
                    <a:pt x="13" y="233"/>
                  </a:lnTo>
                  <a:lnTo>
                    <a:pt x="0" y="132"/>
                  </a:lnTo>
                  <a:lnTo>
                    <a:pt x="0" y="66"/>
                  </a:lnTo>
                  <a:lnTo>
                    <a:pt x="30" y="17"/>
                  </a:lnTo>
                  <a:lnTo>
                    <a:pt x="110" y="0"/>
                  </a:lnTo>
                  <a:lnTo>
                    <a:pt x="119" y="26"/>
                  </a:lnTo>
                  <a:lnTo>
                    <a:pt x="52" y="44"/>
                  </a:lnTo>
                  <a:lnTo>
                    <a:pt x="39" y="123"/>
                  </a:lnTo>
                  <a:lnTo>
                    <a:pt x="48" y="224"/>
                  </a:lnTo>
                  <a:lnTo>
                    <a:pt x="136" y="309"/>
                  </a:lnTo>
                  <a:lnTo>
                    <a:pt x="181" y="292"/>
                  </a:lnTo>
                  <a:lnTo>
                    <a:pt x="181" y="101"/>
                  </a:lnTo>
                  <a:lnTo>
                    <a:pt x="261" y="141"/>
                  </a:lnTo>
                  <a:lnTo>
                    <a:pt x="389" y="171"/>
                  </a:lnTo>
                  <a:lnTo>
                    <a:pt x="503" y="163"/>
                  </a:lnTo>
                  <a:lnTo>
                    <a:pt x="619" y="101"/>
                  </a:lnTo>
                  <a:lnTo>
                    <a:pt x="698" y="7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343640" y="404640"/>
              <a:ext cx="76680" cy="197280"/>
            </a:xfrm>
            <a:custGeom>
              <a:avLst/>
              <a:gdLst/>
              <a:ahLst/>
              <a:rect l="0" t="0" r="r" b="b"/>
              <a:pathLst>
                <a:path w="213" h="548">
                  <a:moveTo>
                    <a:pt x="111" y="548"/>
                  </a:moveTo>
                  <a:lnTo>
                    <a:pt x="213" y="225"/>
                  </a:lnTo>
                  <a:lnTo>
                    <a:pt x="26" y="110"/>
                  </a:lnTo>
                  <a:lnTo>
                    <a:pt x="0" y="0"/>
                  </a:lnTo>
                  <a:lnTo>
                    <a:pt x="13" y="132"/>
                  </a:lnTo>
                  <a:lnTo>
                    <a:pt x="75" y="190"/>
                  </a:lnTo>
                  <a:lnTo>
                    <a:pt x="84" y="349"/>
                  </a:lnTo>
                  <a:lnTo>
                    <a:pt x="128" y="416"/>
                  </a:lnTo>
                  <a:lnTo>
                    <a:pt x="111" y="54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340760" y="228600"/>
              <a:ext cx="567000" cy="262440"/>
            </a:xfrm>
            <a:custGeom>
              <a:avLst/>
              <a:gdLst/>
              <a:ahLst/>
              <a:rect l="0" t="0" r="r" b="b"/>
              <a:pathLst>
                <a:path w="1575" h="729">
                  <a:moveTo>
                    <a:pt x="13" y="494"/>
                  </a:moveTo>
                  <a:lnTo>
                    <a:pt x="149" y="566"/>
                  </a:lnTo>
                  <a:lnTo>
                    <a:pt x="136" y="477"/>
                  </a:lnTo>
                  <a:lnTo>
                    <a:pt x="158" y="309"/>
                  </a:lnTo>
                  <a:lnTo>
                    <a:pt x="251" y="278"/>
                  </a:lnTo>
                  <a:lnTo>
                    <a:pt x="260" y="450"/>
                  </a:lnTo>
                  <a:lnTo>
                    <a:pt x="529" y="141"/>
                  </a:lnTo>
                  <a:lnTo>
                    <a:pt x="590" y="119"/>
                  </a:lnTo>
                  <a:lnTo>
                    <a:pt x="542" y="243"/>
                  </a:lnTo>
                  <a:lnTo>
                    <a:pt x="705" y="300"/>
                  </a:lnTo>
                  <a:lnTo>
                    <a:pt x="830" y="180"/>
                  </a:lnTo>
                  <a:lnTo>
                    <a:pt x="896" y="217"/>
                  </a:lnTo>
                  <a:lnTo>
                    <a:pt x="834" y="322"/>
                  </a:lnTo>
                  <a:lnTo>
                    <a:pt x="918" y="265"/>
                  </a:lnTo>
                  <a:lnTo>
                    <a:pt x="1032" y="309"/>
                  </a:lnTo>
                  <a:lnTo>
                    <a:pt x="935" y="397"/>
                  </a:lnTo>
                  <a:lnTo>
                    <a:pt x="1262" y="450"/>
                  </a:lnTo>
                  <a:lnTo>
                    <a:pt x="1041" y="512"/>
                  </a:lnTo>
                  <a:lnTo>
                    <a:pt x="1319" y="548"/>
                  </a:lnTo>
                  <a:lnTo>
                    <a:pt x="997" y="619"/>
                  </a:lnTo>
                  <a:lnTo>
                    <a:pt x="1063" y="672"/>
                  </a:lnTo>
                  <a:lnTo>
                    <a:pt x="971" y="729"/>
                  </a:lnTo>
                  <a:lnTo>
                    <a:pt x="1134" y="729"/>
                  </a:lnTo>
                  <a:lnTo>
                    <a:pt x="1121" y="689"/>
                  </a:lnTo>
                  <a:lnTo>
                    <a:pt x="1288" y="725"/>
                  </a:lnTo>
                  <a:lnTo>
                    <a:pt x="1262" y="610"/>
                  </a:lnTo>
                  <a:lnTo>
                    <a:pt x="1425" y="557"/>
                  </a:lnTo>
                  <a:lnTo>
                    <a:pt x="1310" y="503"/>
                  </a:lnTo>
                  <a:lnTo>
                    <a:pt x="1575" y="486"/>
                  </a:lnTo>
                  <a:lnTo>
                    <a:pt x="1345" y="371"/>
                  </a:lnTo>
                  <a:lnTo>
                    <a:pt x="1085" y="340"/>
                  </a:lnTo>
                  <a:lnTo>
                    <a:pt x="1288" y="221"/>
                  </a:lnTo>
                  <a:lnTo>
                    <a:pt x="918" y="221"/>
                  </a:lnTo>
                  <a:lnTo>
                    <a:pt x="1094" y="110"/>
                  </a:lnTo>
                  <a:lnTo>
                    <a:pt x="821" y="141"/>
                  </a:lnTo>
                  <a:lnTo>
                    <a:pt x="692" y="199"/>
                  </a:lnTo>
                  <a:lnTo>
                    <a:pt x="803" y="0"/>
                  </a:lnTo>
                  <a:lnTo>
                    <a:pt x="471" y="110"/>
                  </a:lnTo>
                  <a:lnTo>
                    <a:pt x="295" y="349"/>
                  </a:lnTo>
                  <a:lnTo>
                    <a:pt x="260" y="217"/>
                  </a:lnTo>
                  <a:lnTo>
                    <a:pt x="114" y="309"/>
                  </a:lnTo>
                  <a:lnTo>
                    <a:pt x="97" y="486"/>
                  </a:lnTo>
                  <a:lnTo>
                    <a:pt x="0" y="450"/>
                  </a:lnTo>
                  <a:lnTo>
                    <a:pt x="30" y="610"/>
                  </a:lnTo>
                  <a:lnTo>
                    <a:pt x="13" y="49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464600" y="368280"/>
              <a:ext cx="160560" cy="79560"/>
            </a:xfrm>
            <a:custGeom>
              <a:avLst/>
              <a:gdLst/>
              <a:ahLst/>
              <a:rect l="0" t="0" r="r" b="b"/>
              <a:pathLst>
                <a:path w="446" h="221">
                  <a:moveTo>
                    <a:pt x="0" y="221"/>
                  </a:moveTo>
                  <a:lnTo>
                    <a:pt x="163" y="0"/>
                  </a:lnTo>
                  <a:lnTo>
                    <a:pt x="163" y="146"/>
                  </a:lnTo>
                  <a:lnTo>
                    <a:pt x="225" y="88"/>
                  </a:lnTo>
                  <a:lnTo>
                    <a:pt x="278" y="172"/>
                  </a:lnTo>
                  <a:lnTo>
                    <a:pt x="446" y="212"/>
                  </a:lnTo>
                  <a:lnTo>
                    <a:pt x="265" y="186"/>
                  </a:lnTo>
                  <a:lnTo>
                    <a:pt x="216" y="128"/>
                  </a:lnTo>
                  <a:lnTo>
                    <a:pt x="136" y="186"/>
                  </a:lnTo>
                  <a:lnTo>
                    <a:pt x="136" y="115"/>
                  </a:lnTo>
                  <a:lnTo>
                    <a:pt x="0" y="22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450200" y="906480"/>
              <a:ext cx="192600" cy="116280"/>
            </a:xfrm>
            <a:custGeom>
              <a:avLst/>
              <a:gdLst/>
              <a:ahLst/>
              <a:rect l="0" t="0" r="r" b="b"/>
              <a:pathLst>
                <a:path w="535" h="323">
                  <a:moveTo>
                    <a:pt x="101" y="115"/>
                  </a:moveTo>
                  <a:lnTo>
                    <a:pt x="322" y="98"/>
                  </a:lnTo>
                  <a:lnTo>
                    <a:pt x="425" y="120"/>
                  </a:lnTo>
                  <a:lnTo>
                    <a:pt x="478" y="74"/>
                  </a:lnTo>
                  <a:lnTo>
                    <a:pt x="535" y="181"/>
                  </a:lnTo>
                  <a:lnTo>
                    <a:pt x="500" y="199"/>
                  </a:lnTo>
                  <a:lnTo>
                    <a:pt x="451" y="159"/>
                  </a:lnTo>
                  <a:lnTo>
                    <a:pt x="384" y="234"/>
                  </a:lnTo>
                  <a:lnTo>
                    <a:pt x="247" y="323"/>
                  </a:lnTo>
                  <a:lnTo>
                    <a:pt x="190" y="323"/>
                  </a:lnTo>
                  <a:lnTo>
                    <a:pt x="101" y="279"/>
                  </a:lnTo>
                  <a:lnTo>
                    <a:pt x="199" y="315"/>
                  </a:lnTo>
                  <a:lnTo>
                    <a:pt x="239" y="315"/>
                  </a:lnTo>
                  <a:lnTo>
                    <a:pt x="322" y="257"/>
                  </a:lnTo>
                  <a:lnTo>
                    <a:pt x="380" y="146"/>
                  </a:lnTo>
                  <a:lnTo>
                    <a:pt x="292" y="133"/>
                  </a:lnTo>
                  <a:lnTo>
                    <a:pt x="234" y="120"/>
                  </a:lnTo>
                  <a:lnTo>
                    <a:pt x="92" y="137"/>
                  </a:lnTo>
                  <a:lnTo>
                    <a:pt x="88" y="225"/>
                  </a:lnTo>
                  <a:lnTo>
                    <a:pt x="39" y="172"/>
                  </a:lnTo>
                  <a:lnTo>
                    <a:pt x="0" y="244"/>
                  </a:lnTo>
                  <a:lnTo>
                    <a:pt x="4" y="89"/>
                  </a:lnTo>
                  <a:lnTo>
                    <a:pt x="57" y="0"/>
                  </a:lnTo>
                  <a:lnTo>
                    <a:pt x="101" y="89"/>
                  </a:lnTo>
                  <a:lnTo>
                    <a:pt x="101" y="11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424640" y="650880"/>
              <a:ext cx="411480" cy="541800"/>
            </a:xfrm>
            <a:custGeom>
              <a:avLst/>
              <a:gdLst/>
              <a:ahLst/>
              <a:rect l="0" t="0" r="r" b="b"/>
              <a:pathLst>
                <a:path w="1143" h="1505">
                  <a:moveTo>
                    <a:pt x="962" y="0"/>
                  </a:moveTo>
                  <a:lnTo>
                    <a:pt x="1072" y="0"/>
                  </a:lnTo>
                  <a:lnTo>
                    <a:pt x="1143" y="74"/>
                  </a:lnTo>
                  <a:lnTo>
                    <a:pt x="1143" y="154"/>
                  </a:lnTo>
                  <a:lnTo>
                    <a:pt x="1050" y="393"/>
                  </a:lnTo>
                  <a:lnTo>
                    <a:pt x="953" y="508"/>
                  </a:lnTo>
                  <a:lnTo>
                    <a:pt x="856" y="521"/>
                  </a:lnTo>
                  <a:lnTo>
                    <a:pt x="830" y="521"/>
                  </a:lnTo>
                  <a:lnTo>
                    <a:pt x="830" y="821"/>
                  </a:lnTo>
                  <a:lnTo>
                    <a:pt x="878" y="1032"/>
                  </a:lnTo>
                  <a:lnTo>
                    <a:pt x="878" y="1210"/>
                  </a:lnTo>
                  <a:lnTo>
                    <a:pt x="702" y="1386"/>
                  </a:lnTo>
                  <a:lnTo>
                    <a:pt x="467" y="1505"/>
                  </a:lnTo>
                  <a:lnTo>
                    <a:pt x="317" y="1505"/>
                  </a:lnTo>
                  <a:lnTo>
                    <a:pt x="238" y="1474"/>
                  </a:lnTo>
                  <a:lnTo>
                    <a:pt x="136" y="1263"/>
                  </a:lnTo>
                  <a:lnTo>
                    <a:pt x="35" y="1188"/>
                  </a:lnTo>
                  <a:lnTo>
                    <a:pt x="0" y="1130"/>
                  </a:lnTo>
                  <a:lnTo>
                    <a:pt x="127" y="1210"/>
                  </a:lnTo>
                  <a:lnTo>
                    <a:pt x="220" y="1285"/>
                  </a:lnTo>
                  <a:lnTo>
                    <a:pt x="405" y="1294"/>
                  </a:lnTo>
                  <a:lnTo>
                    <a:pt x="568" y="1219"/>
                  </a:lnTo>
                  <a:lnTo>
                    <a:pt x="658" y="1130"/>
                  </a:lnTo>
                  <a:lnTo>
                    <a:pt x="750" y="979"/>
                  </a:lnTo>
                  <a:lnTo>
                    <a:pt x="763" y="799"/>
                  </a:lnTo>
                  <a:lnTo>
                    <a:pt x="799" y="220"/>
                  </a:lnTo>
                  <a:lnTo>
                    <a:pt x="838" y="304"/>
                  </a:lnTo>
                  <a:lnTo>
                    <a:pt x="949" y="198"/>
                  </a:lnTo>
                  <a:lnTo>
                    <a:pt x="1068" y="154"/>
                  </a:lnTo>
                  <a:lnTo>
                    <a:pt x="1099" y="92"/>
                  </a:lnTo>
                  <a:lnTo>
                    <a:pt x="1081" y="35"/>
                  </a:lnTo>
                  <a:lnTo>
                    <a:pt x="1032" y="8"/>
                  </a:lnTo>
                  <a:lnTo>
                    <a:pt x="96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788160" y="1117440"/>
              <a:ext cx="332280" cy="503640"/>
            </a:xfrm>
            <a:custGeom>
              <a:avLst/>
              <a:gdLst/>
              <a:ahLst/>
              <a:rect l="0" t="0" r="r" b="b"/>
              <a:pathLst>
                <a:path w="923" h="1399">
                  <a:moveTo>
                    <a:pt x="114" y="0"/>
                  </a:moveTo>
                  <a:lnTo>
                    <a:pt x="220" y="66"/>
                  </a:lnTo>
                  <a:lnTo>
                    <a:pt x="305" y="348"/>
                  </a:lnTo>
                  <a:lnTo>
                    <a:pt x="538" y="411"/>
                  </a:lnTo>
                  <a:lnTo>
                    <a:pt x="605" y="490"/>
                  </a:lnTo>
                  <a:lnTo>
                    <a:pt x="618" y="596"/>
                  </a:lnTo>
                  <a:lnTo>
                    <a:pt x="734" y="578"/>
                  </a:lnTo>
                  <a:lnTo>
                    <a:pt x="879" y="671"/>
                  </a:lnTo>
                  <a:lnTo>
                    <a:pt x="923" y="781"/>
                  </a:lnTo>
                  <a:lnTo>
                    <a:pt x="923" y="979"/>
                  </a:lnTo>
                  <a:lnTo>
                    <a:pt x="734" y="1280"/>
                  </a:lnTo>
                  <a:lnTo>
                    <a:pt x="671" y="1399"/>
                  </a:lnTo>
                  <a:lnTo>
                    <a:pt x="707" y="1236"/>
                  </a:lnTo>
                  <a:lnTo>
                    <a:pt x="671" y="1179"/>
                  </a:lnTo>
                  <a:lnTo>
                    <a:pt x="561" y="1073"/>
                  </a:lnTo>
                  <a:lnTo>
                    <a:pt x="375" y="949"/>
                  </a:lnTo>
                  <a:lnTo>
                    <a:pt x="596" y="1019"/>
                  </a:lnTo>
                  <a:lnTo>
                    <a:pt x="725" y="1113"/>
                  </a:lnTo>
                  <a:lnTo>
                    <a:pt x="791" y="1100"/>
                  </a:lnTo>
                  <a:lnTo>
                    <a:pt x="831" y="1046"/>
                  </a:lnTo>
                  <a:lnTo>
                    <a:pt x="879" y="909"/>
                  </a:lnTo>
                  <a:lnTo>
                    <a:pt x="861" y="772"/>
                  </a:lnTo>
                  <a:lnTo>
                    <a:pt x="795" y="693"/>
                  </a:lnTo>
                  <a:lnTo>
                    <a:pt x="684" y="671"/>
                  </a:lnTo>
                  <a:lnTo>
                    <a:pt x="561" y="671"/>
                  </a:lnTo>
                  <a:lnTo>
                    <a:pt x="512" y="464"/>
                  </a:lnTo>
                  <a:lnTo>
                    <a:pt x="314" y="389"/>
                  </a:lnTo>
                  <a:lnTo>
                    <a:pt x="314" y="446"/>
                  </a:lnTo>
                  <a:lnTo>
                    <a:pt x="220" y="299"/>
                  </a:lnTo>
                  <a:lnTo>
                    <a:pt x="167" y="66"/>
                  </a:lnTo>
                  <a:lnTo>
                    <a:pt x="92" y="39"/>
                  </a:lnTo>
                  <a:lnTo>
                    <a:pt x="44" y="110"/>
                  </a:lnTo>
                  <a:lnTo>
                    <a:pt x="44" y="273"/>
                  </a:lnTo>
                  <a:lnTo>
                    <a:pt x="83" y="446"/>
                  </a:lnTo>
                  <a:lnTo>
                    <a:pt x="194" y="596"/>
                  </a:lnTo>
                  <a:lnTo>
                    <a:pt x="74" y="503"/>
                  </a:lnTo>
                  <a:lnTo>
                    <a:pt x="8" y="348"/>
                  </a:lnTo>
                  <a:lnTo>
                    <a:pt x="0" y="145"/>
                  </a:lnTo>
                  <a:lnTo>
                    <a:pt x="44" y="39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629400" y="1339920"/>
              <a:ext cx="219600" cy="402120"/>
            </a:xfrm>
            <a:custGeom>
              <a:avLst/>
              <a:gdLst/>
              <a:ahLst/>
              <a:rect l="0" t="0" r="r" b="b"/>
              <a:pathLst>
                <a:path w="610" h="1117">
                  <a:moveTo>
                    <a:pt x="610" y="0"/>
                  </a:moveTo>
                  <a:lnTo>
                    <a:pt x="482" y="74"/>
                  </a:lnTo>
                  <a:lnTo>
                    <a:pt x="336" y="344"/>
                  </a:lnTo>
                  <a:lnTo>
                    <a:pt x="195" y="521"/>
                  </a:lnTo>
                  <a:lnTo>
                    <a:pt x="13" y="733"/>
                  </a:lnTo>
                  <a:lnTo>
                    <a:pt x="0" y="844"/>
                  </a:lnTo>
                  <a:lnTo>
                    <a:pt x="30" y="941"/>
                  </a:lnTo>
                  <a:lnTo>
                    <a:pt x="119" y="941"/>
                  </a:lnTo>
                  <a:lnTo>
                    <a:pt x="234" y="844"/>
                  </a:lnTo>
                  <a:lnTo>
                    <a:pt x="327" y="640"/>
                  </a:lnTo>
                  <a:lnTo>
                    <a:pt x="450" y="521"/>
                  </a:lnTo>
                  <a:lnTo>
                    <a:pt x="450" y="684"/>
                  </a:lnTo>
                  <a:lnTo>
                    <a:pt x="433" y="830"/>
                  </a:lnTo>
                  <a:lnTo>
                    <a:pt x="296" y="1029"/>
                  </a:lnTo>
                  <a:lnTo>
                    <a:pt x="296" y="1091"/>
                  </a:lnTo>
                  <a:lnTo>
                    <a:pt x="433" y="1117"/>
                  </a:lnTo>
                  <a:lnTo>
                    <a:pt x="336" y="1060"/>
                  </a:lnTo>
                  <a:lnTo>
                    <a:pt x="349" y="1029"/>
                  </a:lnTo>
                  <a:lnTo>
                    <a:pt x="441" y="883"/>
                  </a:lnTo>
                  <a:lnTo>
                    <a:pt x="504" y="618"/>
                  </a:lnTo>
                  <a:lnTo>
                    <a:pt x="460" y="472"/>
                  </a:lnTo>
                  <a:lnTo>
                    <a:pt x="362" y="556"/>
                  </a:lnTo>
                  <a:lnTo>
                    <a:pt x="141" y="892"/>
                  </a:lnTo>
                  <a:lnTo>
                    <a:pt x="88" y="901"/>
                  </a:lnTo>
                  <a:lnTo>
                    <a:pt x="30" y="870"/>
                  </a:lnTo>
                  <a:lnTo>
                    <a:pt x="30" y="768"/>
                  </a:lnTo>
                  <a:lnTo>
                    <a:pt x="119" y="631"/>
                  </a:lnTo>
                  <a:lnTo>
                    <a:pt x="362" y="362"/>
                  </a:lnTo>
                  <a:lnTo>
                    <a:pt x="504" y="101"/>
                  </a:lnTo>
                  <a:lnTo>
                    <a:pt x="61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791400" y="1566720"/>
              <a:ext cx="135360" cy="192600"/>
            </a:xfrm>
            <a:custGeom>
              <a:avLst/>
              <a:gdLst/>
              <a:ahLst/>
              <a:rect l="0" t="0" r="r" b="b"/>
              <a:pathLst>
                <a:path w="376" h="535">
                  <a:moveTo>
                    <a:pt x="0" y="473"/>
                  </a:moveTo>
                  <a:lnTo>
                    <a:pt x="124" y="336"/>
                  </a:lnTo>
                  <a:lnTo>
                    <a:pt x="146" y="199"/>
                  </a:lnTo>
                  <a:lnTo>
                    <a:pt x="288" y="0"/>
                  </a:lnTo>
                  <a:lnTo>
                    <a:pt x="323" y="132"/>
                  </a:lnTo>
                  <a:lnTo>
                    <a:pt x="301" y="482"/>
                  </a:lnTo>
                  <a:lnTo>
                    <a:pt x="376" y="535"/>
                  </a:lnTo>
                  <a:lnTo>
                    <a:pt x="265" y="500"/>
                  </a:lnTo>
                  <a:lnTo>
                    <a:pt x="212" y="296"/>
                  </a:lnTo>
                  <a:lnTo>
                    <a:pt x="124" y="397"/>
                  </a:lnTo>
                  <a:lnTo>
                    <a:pt x="0" y="47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958080" y="1576440"/>
              <a:ext cx="89280" cy="173520"/>
            </a:xfrm>
            <a:custGeom>
              <a:avLst/>
              <a:gdLst/>
              <a:ahLst/>
              <a:rect l="0" t="0" r="r" b="b"/>
              <a:pathLst>
                <a:path w="248" h="482">
                  <a:moveTo>
                    <a:pt x="0" y="363"/>
                  </a:moveTo>
                  <a:lnTo>
                    <a:pt x="8" y="186"/>
                  </a:lnTo>
                  <a:lnTo>
                    <a:pt x="67" y="79"/>
                  </a:lnTo>
                  <a:lnTo>
                    <a:pt x="120" y="460"/>
                  </a:lnTo>
                  <a:lnTo>
                    <a:pt x="200" y="460"/>
                  </a:lnTo>
                  <a:lnTo>
                    <a:pt x="231" y="57"/>
                  </a:lnTo>
                  <a:lnTo>
                    <a:pt x="248" y="0"/>
                  </a:lnTo>
                  <a:lnTo>
                    <a:pt x="231" y="314"/>
                  </a:lnTo>
                  <a:lnTo>
                    <a:pt x="200" y="482"/>
                  </a:lnTo>
                  <a:lnTo>
                    <a:pt x="98" y="482"/>
                  </a:lnTo>
                  <a:lnTo>
                    <a:pt x="52" y="150"/>
                  </a:lnTo>
                  <a:lnTo>
                    <a:pt x="30" y="195"/>
                  </a:lnTo>
                  <a:lnTo>
                    <a:pt x="0" y="36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101080" y="896760"/>
              <a:ext cx="216360" cy="462240"/>
            </a:xfrm>
            <a:custGeom>
              <a:avLst/>
              <a:gdLst/>
              <a:ahLst/>
              <a:rect l="0" t="0" r="r" b="b"/>
              <a:pathLst>
                <a:path w="601" h="1284">
                  <a:moveTo>
                    <a:pt x="155" y="693"/>
                  </a:moveTo>
                  <a:lnTo>
                    <a:pt x="203" y="493"/>
                  </a:lnTo>
                  <a:lnTo>
                    <a:pt x="406" y="440"/>
                  </a:lnTo>
                  <a:lnTo>
                    <a:pt x="601" y="0"/>
                  </a:lnTo>
                  <a:lnTo>
                    <a:pt x="601" y="127"/>
                  </a:lnTo>
                  <a:lnTo>
                    <a:pt x="437" y="467"/>
                  </a:lnTo>
                  <a:lnTo>
                    <a:pt x="221" y="533"/>
                  </a:lnTo>
                  <a:lnTo>
                    <a:pt x="195" y="693"/>
                  </a:lnTo>
                  <a:lnTo>
                    <a:pt x="265" y="693"/>
                  </a:lnTo>
                  <a:lnTo>
                    <a:pt x="79" y="768"/>
                  </a:lnTo>
                  <a:lnTo>
                    <a:pt x="30" y="904"/>
                  </a:lnTo>
                  <a:lnTo>
                    <a:pt x="44" y="1081"/>
                  </a:lnTo>
                  <a:lnTo>
                    <a:pt x="243" y="1284"/>
                  </a:lnTo>
                  <a:lnTo>
                    <a:pt x="30" y="1103"/>
                  </a:lnTo>
                  <a:lnTo>
                    <a:pt x="0" y="957"/>
                  </a:lnTo>
                  <a:lnTo>
                    <a:pt x="13" y="803"/>
                  </a:lnTo>
                  <a:lnTo>
                    <a:pt x="92" y="702"/>
                  </a:lnTo>
                  <a:lnTo>
                    <a:pt x="155" y="69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245440" y="896760"/>
              <a:ext cx="363960" cy="446400"/>
            </a:xfrm>
            <a:custGeom>
              <a:avLst/>
              <a:gdLst/>
              <a:ahLst/>
              <a:rect l="0" t="0" r="r" b="b"/>
              <a:pathLst>
                <a:path w="1011" h="1240">
                  <a:moveTo>
                    <a:pt x="278" y="0"/>
                  </a:moveTo>
                  <a:lnTo>
                    <a:pt x="340" y="35"/>
                  </a:lnTo>
                  <a:lnTo>
                    <a:pt x="358" y="141"/>
                  </a:lnTo>
                  <a:lnTo>
                    <a:pt x="358" y="242"/>
                  </a:lnTo>
                  <a:lnTo>
                    <a:pt x="242" y="423"/>
                  </a:lnTo>
                  <a:lnTo>
                    <a:pt x="265" y="555"/>
                  </a:lnTo>
                  <a:lnTo>
                    <a:pt x="605" y="697"/>
                  </a:lnTo>
                  <a:lnTo>
                    <a:pt x="1007" y="1090"/>
                  </a:lnTo>
                  <a:lnTo>
                    <a:pt x="1011" y="1196"/>
                  </a:lnTo>
                  <a:lnTo>
                    <a:pt x="989" y="1240"/>
                  </a:lnTo>
                  <a:lnTo>
                    <a:pt x="839" y="1240"/>
                  </a:lnTo>
                  <a:lnTo>
                    <a:pt x="706" y="1165"/>
                  </a:lnTo>
                  <a:lnTo>
                    <a:pt x="600" y="1037"/>
                  </a:lnTo>
                  <a:lnTo>
                    <a:pt x="538" y="966"/>
                  </a:lnTo>
                  <a:lnTo>
                    <a:pt x="468" y="949"/>
                  </a:lnTo>
                  <a:lnTo>
                    <a:pt x="556" y="949"/>
                  </a:lnTo>
                  <a:lnTo>
                    <a:pt x="719" y="1151"/>
                  </a:lnTo>
                  <a:lnTo>
                    <a:pt x="932" y="1213"/>
                  </a:lnTo>
                  <a:lnTo>
                    <a:pt x="980" y="1151"/>
                  </a:lnTo>
                  <a:lnTo>
                    <a:pt x="954" y="1059"/>
                  </a:lnTo>
                  <a:lnTo>
                    <a:pt x="583" y="781"/>
                  </a:lnTo>
                  <a:lnTo>
                    <a:pt x="534" y="697"/>
                  </a:lnTo>
                  <a:lnTo>
                    <a:pt x="242" y="631"/>
                  </a:lnTo>
                  <a:lnTo>
                    <a:pt x="198" y="697"/>
                  </a:lnTo>
                  <a:lnTo>
                    <a:pt x="0" y="816"/>
                  </a:lnTo>
                  <a:lnTo>
                    <a:pt x="185" y="680"/>
                  </a:lnTo>
                  <a:lnTo>
                    <a:pt x="198" y="590"/>
                  </a:lnTo>
                  <a:lnTo>
                    <a:pt x="198" y="392"/>
                  </a:lnTo>
                  <a:lnTo>
                    <a:pt x="327" y="242"/>
                  </a:lnTo>
                  <a:lnTo>
                    <a:pt x="327" y="48"/>
                  </a:lnTo>
                  <a:lnTo>
                    <a:pt x="27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180280" y="1247760"/>
              <a:ext cx="308160" cy="265320"/>
            </a:xfrm>
            <a:custGeom>
              <a:avLst/>
              <a:gdLst/>
              <a:ahLst/>
              <a:rect l="0" t="0" r="r" b="b"/>
              <a:pathLst>
                <a:path w="856" h="737">
                  <a:moveTo>
                    <a:pt x="640" y="0"/>
                  </a:moveTo>
                  <a:lnTo>
                    <a:pt x="618" y="66"/>
                  </a:lnTo>
                  <a:lnTo>
                    <a:pt x="746" y="304"/>
                  </a:lnTo>
                  <a:lnTo>
                    <a:pt x="812" y="556"/>
                  </a:lnTo>
                  <a:lnTo>
                    <a:pt x="737" y="556"/>
                  </a:lnTo>
                  <a:lnTo>
                    <a:pt x="609" y="446"/>
                  </a:lnTo>
                  <a:lnTo>
                    <a:pt x="494" y="216"/>
                  </a:lnTo>
                  <a:lnTo>
                    <a:pt x="401" y="180"/>
                  </a:lnTo>
                  <a:lnTo>
                    <a:pt x="414" y="304"/>
                  </a:lnTo>
                  <a:lnTo>
                    <a:pt x="499" y="397"/>
                  </a:lnTo>
                  <a:lnTo>
                    <a:pt x="499" y="569"/>
                  </a:lnTo>
                  <a:lnTo>
                    <a:pt x="441" y="702"/>
                  </a:lnTo>
                  <a:lnTo>
                    <a:pt x="361" y="649"/>
                  </a:lnTo>
                  <a:lnTo>
                    <a:pt x="260" y="446"/>
                  </a:lnTo>
                  <a:lnTo>
                    <a:pt x="242" y="304"/>
                  </a:lnTo>
                  <a:lnTo>
                    <a:pt x="180" y="268"/>
                  </a:lnTo>
                  <a:lnTo>
                    <a:pt x="167" y="622"/>
                  </a:lnTo>
                  <a:lnTo>
                    <a:pt x="92" y="675"/>
                  </a:lnTo>
                  <a:lnTo>
                    <a:pt x="22" y="622"/>
                  </a:lnTo>
                  <a:lnTo>
                    <a:pt x="8" y="317"/>
                  </a:lnTo>
                  <a:lnTo>
                    <a:pt x="0" y="618"/>
                  </a:lnTo>
                  <a:lnTo>
                    <a:pt x="52" y="728"/>
                  </a:lnTo>
                  <a:lnTo>
                    <a:pt x="167" y="728"/>
                  </a:lnTo>
                  <a:lnTo>
                    <a:pt x="207" y="640"/>
                  </a:lnTo>
                  <a:lnTo>
                    <a:pt x="229" y="357"/>
                  </a:lnTo>
                  <a:lnTo>
                    <a:pt x="246" y="468"/>
                  </a:lnTo>
                  <a:lnTo>
                    <a:pt x="348" y="710"/>
                  </a:lnTo>
                  <a:lnTo>
                    <a:pt x="455" y="737"/>
                  </a:lnTo>
                  <a:lnTo>
                    <a:pt x="530" y="640"/>
                  </a:lnTo>
                  <a:lnTo>
                    <a:pt x="530" y="411"/>
                  </a:lnTo>
                  <a:lnTo>
                    <a:pt x="737" y="600"/>
                  </a:lnTo>
                  <a:lnTo>
                    <a:pt x="847" y="600"/>
                  </a:lnTo>
                  <a:lnTo>
                    <a:pt x="856" y="468"/>
                  </a:lnTo>
                  <a:lnTo>
                    <a:pt x="777" y="238"/>
                  </a:lnTo>
                  <a:lnTo>
                    <a:pt x="640" y="48"/>
                  </a:lnTo>
                  <a:lnTo>
                    <a:pt x="64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932520" y="973080"/>
              <a:ext cx="1373400" cy="1082880"/>
            </a:xfrm>
            <a:custGeom>
              <a:avLst/>
              <a:gdLst/>
              <a:ahLst/>
              <a:rect l="0" t="0" r="r" b="b"/>
              <a:pathLst>
                <a:path w="3815" h="3008">
                  <a:moveTo>
                    <a:pt x="1371" y="251"/>
                  </a:moveTo>
                  <a:lnTo>
                    <a:pt x="1305" y="264"/>
                  </a:lnTo>
                  <a:lnTo>
                    <a:pt x="1199" y="414"/>
                  </a:lnTo>
                  <a:lnTo>
                    <a:pt x="1155" y="304"/>
                  </a:lnTo>
                  <a:lnTo>
                    <a:pt x="1031" y="242"/>
                  </a:lnTo>
                  <a:lnTo>
                    <a:pt x="943" y="291"/>
                  </a:lnTo>
                  <a:lnTo>
                    <a:pt x="908" y="489"/>
                  </a:lnTo>
                  <a:lnTo>
                    <a:pt x="564" y="727"/>
                  </a:lnTo>
                  <a:lnTo>
                    <a:pt x="586" y="829"/>
                  </a:lnTo>
                  <a:lnTo>
                    <a:pt x="502" y="917"/>
                  </a:lnTo>
                  <a:lnTo>
                    <a:pt x="502" y="992"/>
                  </a:lnTo>
                  <a:lnTo>
                    <a:pt x="599" y="1221"/>
                  </a:lnTo>
                  <a:lnTo>
                    <a:pt x="608" y="1499"/>
                  </a:lnTo>
                  <a:lnTo>
                    <a:pt x="546" y="1760"/>
                  </a:lnTo>
                  <a:lnTo>
                    <a:pt x="304" y="1919"/>
                  </a:lnTo>
                  <a:lnTo>
                    <a:pt x="264" y="2135"/>
                  </a:lnTo>
                  <a:lnTo>
                    <a:pt x="194" y="2135"/>
                  </a:lnTo>
                  <a:lnTo>
                    <a:pt x="154" y="1958"/>
                  </a:lnTo>
                  <a:lnTo>
                    <a:pt x="79" y="1958"/>
                  </a:lnTo>
                  <a:lnTo>
                    <a:pt x="44" y="2148"/>
                  </a:lnTo>
                  <a:lnTo>
                    <a:pt x="0" y="2197"/>
                  </a:lnTo>
                  <a:lnTo>
                    <a:pt x="171" y="2457"/>
                  </a:lnTo>
                  <a:lnTo>
                    <a:pt x="291" y="2470"/>
                  </a:lnTo>
                  <a:lnTo>
                    <a:pt x="502" y="2660"/>
                  </a:lnTo>
                  <a:lnTo>
                    <a:pt x="696" y="2682"/>
                  </a:lnTo>
                  <a:lnTo>
                    <a:pt x="806" y="2580"/>
                  </a:lnTo>
                  <a:lnTo>
                    <a:pt x="1075" y="2210"/>
                  </a:lnTo>
                  <a:lnTo>
                    <a:pt x="1098" y="2708"/>
                  </a:lnTo>
                  <a:lnTo>
                    <a:pt x="1075" y="3008"/>
                  </a:lnTo>
                  <a:lnTo>
                    <a:pt x="3277" y="3008"/>
                  </a:lnTo>
                  <a:lnTo>
                    <a:pt x="3118" y="2682"/>
                  </a:lnTo>
                  <a:lnTo>
                    <a:pt x="3039" y="2404"/>
                  </a:lnTo>
                  <a:lnTo>
                    <a:pt x="3017" y="1994"/>
                  </a:lnTo>
                  <a:lnTo>
                    <a:pt x="3145" y="2082"/>
                  </a:lnTo>
                  <a:lnTo>
                    <a:pt x="3277" y="2082"/>
                  </a:lnTo>
                  <a:lnTo>
                    <a:pt x="3458" y="1972"/>
                  </a:lnTo>
                  <a:lnTo>
                    <a:pt x="3581" y="1958"/>
                  </a:lnTo>
                  <a:lnTo>
                    <a:pt x="3656" y="1848"/>
                  </a:lnTo>
                  <a:lnTo>
                    <a:pt x="3705" y="1566"/>
                  </a:lnTo>
                  <a:lnTo>
                    <a:pt x="3815" y="1446"/>
                  </a:lnTo>
                  <a:lnTo>
                    <a:pt x="3758" y="1362"/>
                  </a:lnTo>
                  <a:lnTo>
                    <a:pt x="3678" y="1362"/>
                  </a:lnTo>
                  <a:lnTo>
                    <a:pt x="3612" y="1419"/>
                  </a:lnTo>
                  <a:lnTo>
                    <a:pt x="3550" y="1437"/>
                  </a:lnTo>
                  <a:lnTo>
                    <a:pt x="3471" y="1362"/>
                  </a:lnTo>
                  <a:lnTo>
                    <a:pt x="3374" y="1353"/>
                  </a:lnTo>
                  <a:lnTo>
                    <a:pt x="3206" y="1247"/>
                  </a:lnTo>
                  <a:lnTo>
                    <a:pt x="3096" y="1133"/>
                  </a:lnTo>
                  <a:lnTo>
                    <a:pt x="3074" y="992"/>
                  </a:lnTo>
                  <a:lnTo>
                    <a:pt x="3096" y="859"/>
                  </a:lnTo>
                  <a:lnTo>
                    <a:pt x="3162" y="754"/>
                  </a:lnTo>
                  <a:lnTo>
                    <a:pt x="3259" y="652"/>
                  </a:lnTo>
                  <a:lnTo>
                    <a:pt x="3250" y="480"/>
                  </a:lnTo>
                  <a:lnTo>
                    <a:pt x="3250" y="357"/>
                  </a:lnTo>
                  <a:lnTo>
                    <a:pt x="3206" y="264"/>
                  </a:lnTo>
                  <a:lnTo>
                    <a:pt x="3074" y="224"/>
                  </a:lnTo>
                  <a:lnTo>
                    <a:pt x="3030" y="202"/>
                  </a:lnTo>
                  <a:lnTo>
                    <a:pt x="2937" y="57"/>
                  </a:lnTo>
                  <a:lnTo>
                    <a:pt x="2862" y="13"/>
                  </a:lnTo>
                  <a:lnTo>
                    <a:pt x="2787" y="0"/>
                  </a:lnTo>
                  <a:lnTo>
                    <a:pt x="2717" y="26"/>
                  </a:lnTo>
                  <a:lnTo>
                    <a:pt x="2664" y="105"/>
                  </a:lnTo>
                  <a:lnTo>
                    <a:pt x="2576" y="149"/>
                  </a:lnTo>
                  <a:lnTo>
                    <a:pt x="2483" y="171"/>
                  </a:lnTo>
                  <a:lnTo>
                    <a:pt x="2377" y="171"/>
                  </a:lnTo>
                  <a:lnTo>
                    <a:pt x="2395" y="317"/>
                  </a:lnTo>
                  <a:lnTo>
                    <a:pt x="2395" y="502"/>
                  </a:lnTo>
                  <a:lnTo>
                    <a:pt x="2377" y="626"/>
                  </a:lnTo>
                  <a:lnTo>
                    <a:pt x="2285" y="776"/>
                  </a:lnTo>
                  <a:lnTo>
                    <a:pt x="2161" y="1001"/>
                  </a:lnTo>
                  <a:lnTo>
                    <a:pt x="2069" y="1274"/>
                  </a:lnTo>
                  <a:lnTo>
                    <a:pt x="2060" y="1437"/>
                  </a:lnTo>
                  <a:lnTo>
                    <a:pt x="2016" y="1575"/>
                  </a:lnTo>
                  <a:lnTo>
                    <a:pt x="1958" y="1711"/>
                  </a:lnTo>
                  <a:lnTo>
                    <a:pt x="1932" y="1932"/>
                  </a:lnTo>
                  <a:lnTo>
                    <a:pt x="1950" y="2113"/>
                  </a:lnTo>
                  <a:lnTo>
                    <a:pt x="2016" y="2324"/>
                  </a:lnTo>
                  <a:lnTo>
                    <a:pt x="2060" y="2404"/>
                  </a:lnTo>
                  <a:lnTo>
                    <a:pt x="1932" y="2483"/>
                  </a:lnTo>
                  <a:lnTo>
                    <a:pt x="1781" y="2532"/>
                  </a:lnTo>
                  <a:lnTo>
                    <a:pt x="1609" y="2549"/>
                  </a:lnTo>
                  <a:lnTo>
                    <a:pt x="1503" y="2549"/>
                  </a:lnTo>
                  <a:lnTo>
                    <a:pt x="1437" y="2518"/>
                  </a:lnTo>
                  <a:lnTo>
                    <a:pt x="1437" y="2338"/>
                  </a:lnTo>
                  <a:lnTo>
                    <a:pt x="1437" y="2073"/>
                  </a:lnTo>
                  <a:lnTo>
                    <a:pt x="1393" y="1813"/>
                  </a:lnTo>
                  <a:lnTo>
                    <a:pt x="1327" y="1575"/>
                  </a:lnTo>
                  <a:lnTo>
                    <a:pt x="1296" y="1389"/>
                  </a:lnTo>
                  <a:lnTo>
                    <a:pt x="1283" y="1120"/>
                  </a:lnTo>
                  <a:lnTo>
                    <a:pt x="1327" y="886"/>
                  </a:lnTo>
                  <a:lnTo>
                    <a:pt x="1393" y="696"/>
                  </a:lnTo>
                  <a:lnTo>
                    <a:pt x="1406" y="595"/>
                  </a:lnTo>
                  <a:lnTo>
                    <a:pt x="1371" y="432"/>
                  </a:lnTo>
                  <a:lnTo>
                    <a:pt x="1371" y="304"/>
                  </a:lnTo>
                  <a:lnTo>
                    <a:pt x="1393" y="264"/>
                  </a:lnTo>
                  <a:lnTo>
                    <a:pt x="1371" y="25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467480" y="1190520"/>
              <a:ext cx="174960" cy="703800"/>
            </a:xfrm>
            <a:custGeom>
              <a:avLst/>
              <a:gdLst/>
              <a:ahLst/>
              <a:rect l="0" t="0" r="r" b="b"/>
              <a:pathLst>
                <a:path w="486" h="1955">
                  <a:moveTo>
                    <a:pt x="194" y="22"/>
                  </a:moveTo>
                  <a:lnTo>
                    <a:pt x="66" y="88"/>
                  </a:lnTo>
                  <a:lnTo>
                    <a:pt x="74" y="273"/>
                  </a:lnTo>
                  <a:lnTo>
                    <a:pt x="171" y="326"/>
                  </a:lnTo>
                  <a:lnTo>
                    <a:pt x="57" y="534"/>
                  </a:lnTo>
                  <a:lnTo>
                    <a:pt x="0" y="759"/>
                  </a:lnTo>
                  <a:lnTo>
                    <a:pt x="0" y="975"/>
                  </a:lnTo>
                  <a:lnTo>
                    <a:pt x="57" y="1169"/>
                  </a:lnTo>
                  <a:lnTo>
                    <a:pt x="101" y="1412"/>
                  </a:lnTo>
                  <a:lnTo>
                    <a:pt x="101" y="1549"/>
                  </a:lnTo>
                  <a:lnTo>
                    <a:pt x="57" y="1717"/>
                  </a:lnTo>
                  <a:lnTo>
                    <a:pt x="252" y="1955"/>
                  </a:lnTo>
                  <a:lnTo>
                    <a:pt x="331" y="1920"/>
                  </a:lnTo>
                  <a:lnTo>
                    <a:pt x="389" y="1752"/>
                  </a:lnTo>
                  <a:lnTo>
                    <a:pt x="481" y="1536"/>
                  </a:lnTo>
                  <a:lnTo>
                    <a:pt x="486" y="1425"/>
                  </a:lnTo>
                  <a:lnTo>
                    <a:pt x="411" y="1209"/>
                  </a:lnTo>
                  <a:lnTo>
                    <a:pt x="318" y="1002"/>
                  </a:lnTo>
                  <a:lnTo>
                    <a:pt x="287" y="847"/>
                  </a:lnTo>
                  <a:lnTo>
                    <a:pt x="287" y="710"/>
                  </a:lnTo>
                  <a:lnTo>
                    <a:pt x="318" y="587"/>
                  </a:lnTo>
                  <a:lnTo>
                    <a:pt x="389" y="427"/>
                  </a:lnTo>
                  <a:lnTo>
                    <a:pt x="389" y="366"/>
                  </a:lnTo>
                  <a:lnTo>
                    <a:pt x="353" y="299"/>
                  </a:lnTo>
                  <a:lnTo>
                    <a:pt x="446" y="220"/>
                  </a:lnTo>
                  <a:lnTo>
                    <a:pt x="446" y="145"/>
                  </a:lnTo>
                  <a:lnTo>
                    <a:pt x="318" y="0"/>
                  </a:lnTo>
                  <a:lnTo>
                    <a:pt x="419" y="145"/>
                  </a:lnTo>
                  <a:lnTo>
                    <a:pt x="419" y="211"/>
                  </a:lnTo>
                  <a:lnTo>
                    <a:pt x="327" y="273"/>
                  </a:lnTo>
                  <a:lnTo>
                    <a:pt x="367" y="366"/>
                  </a:lnTo>
                  <a:lnTo>
                    <a:pt x="353" y="427"/>
                  </a:lnTo>
                  <a:lnTo>
                    <a:pt x="265" y="609"/>
                  </a:lnTo>
                  <a:lnTo>
                    <a:pt x="252" y="785"/>
                  </a:lnTo>
                  <a:lnTo>
                    <a:pt x="274" y="949"/>
                  </a:lnTo>
                  <a:lnTo>
                    <a:pt x="331" y="1182"/>
                  </a:lnTo>
                  <a:lnTo>
                    <a:pt x="411" y="1368"/>
                  </a:lnTo>
                  <a:lnTo>
                    <a:pt x="411" y="1527"/>
                  </a:lnTo>
                  <a:lnTo>
                    <a:pt x="367" y="1717"/>
                  </a:lnTo>
                  <a:lnTo>
                    <a:pt x="274" y="1920"/>
                  </a:lnTo>
                  <a:lnTo>
                    <a:pt x="163" y="1809"/>
                  </a:lnTo>
                  <a:lnTo>
                    <a:pt x="114" y="1717"/>
                  </a:lnTo>
                  <a:lnTo>
                    <a:pt x="123" y="1527"/>
                  </a:lnTo>
                  <a:lnTo>
                    <a:pt x="114" y="1332"/>
                  </a:lnTo>
                  <a:lnTo>
                    <a:pt x="57" y="1072"/>
                  </a:lnTo>
                  <a:lnTo>
                    <a:pt x="30" y="900"/>
                  </a:lnTo>
                  <a:lnTo>
                    <a:pt x="57" y="697"/>
                  </a:lnTo>
                  <a:lnTo>
                    <a:pt x="101" y="508"/>
                  </a:lnTo>
                  <a:lnTo>
                    <a:pt x="202" y="313"/>
                  </a:lnTo>
                  <a:lnTo>
                    <a:pt x="114" y="233"/>
                  </a:lnTo>
                  <a:lnTo>
                    <a:pt x="101" y="97"/>
                  </a:lnTo>
                  <a:lnTo>
                    <a:pt x="194" y="2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961400" y="368280"/>
              <a:ext cx="275040" cy="343440"/>
            </a:xfrm>
            <a:custGeom>
              <a:avLst/>
              <a:gdLst/>
              <a:ahLst/>
              <a:rect l="0" t="0" r="r" b="b"/>
              <a:pathLst>
                <a:path w="764" h="954">
                  <a:moveTo>
                    <a:pt x="127" y="243"/>
                  </a:moveTo>
                  <a:lnTo>
                    <a:pt x="239" y="224"/>
                  </a:lnTo>
                  <a:lnTo>
                    <a:pt x="349" y="229"/>
                  </a:lnTo>
                  <a:lnTo>
                    <a:pt x="437" y="274"/>
                  </a:lnTo>
                  <a:lnTo>
                    <a:pt x="486" y="322"/>
                  </a:lnTo>
                  <a:lnTo>
                    <a:pt x="512" y="375"/>
                  </a:lnTo>
                  <a:lnTo>
                    <a:pt x="512" y="419"/>
                  </a:lnTo>
                  <a:lnTo>
                    <a:pt x="481" y="450"/>
                  </a:lnTo>
                  <a:lnTo>
                    <a:pt x="437" y="472"/>
                  </a:lnTo>
                  <a:lnTo>
                    <a:pt x="375" y="477"/>
                  </a:lnTo>
                  <a:lnTo>
                    <a:pt x="309" y="464"/>
                  </a:lnTo>
                  <a:lnTo>
                    <a:pt x="243" y="424"/>
                  </a:lnTo>
                  <a:lnTo>
                    <a:pt x="195" y="389"/>
                  </a:lnTo>
                  <a:lnTo>
                    <a:pt x="171" y="512"/>
                  </a:lnTo>
                  <a:lnTo>
                    <a:pt x="127" y="600"/>
                  </a:lnTo>
                  <a:lnTo>
                    <a:pt x="0" y="795"/>
                  </a:lnTo>
                  <a:lnTo>
                    <a:pt x="185" y="954"/>
                  </a:lnTo>
                  <a:lnTo>
                    <a:pt x="327" y="697"/>
                  </a:lnTo>
                  <a:lnTo>
                    <a:pt x="481" y="720"/>
                  </a:lnTo>
                  <a:lnTo>
                    <a:pt x="584" y="702"/>
                  </a:lnTo>
                  <a:lnTo>
                    <a:pt x="676" y="640"/>
                  </a:lnTo>
                  <a:lnTo>
                    <a:pt x="738" y="565"/>
                  </a:lnTo>
                  <a:lnTo>
                    <a:pt x="764" y="464"/>
                  </a:lnTo>
                  <a:lnTo>
                    <a:pt x="764" y="362"/>
                  </a:lnTo>
                  <a:lnTo>
                    <a:pt x="738" y="252"/>
                  </a:lnTo>
                  <a:lnTo>
                    <a:pt x="672" y="145"/>
                  </a:lnTo>
                  <a:lnTo>
                    <a:pt x="592" y="66"/>
                  </a:lnTo>
                  <a:lnTo>
                    <a:pt x="503" y="22"/>
                  </a:lnTo>
                  <a:lnTo>
                    <a:pt x="393" y="0"/>
                  </a:lnTo>
                  <a:lnTo>
                    <a:pt x="252" y="0"/>
                  </a:lnTo>
                  <a:lnTo>
                    <a:pt x="101" y="26"/>
                  </a:lnTo>
                  <a:lnTo>
                    <a:pt x="127" y="243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913520" y="700200"/>
              <a:ext cx="98640" cy="68760"/>
            </a:xfrm>
            <a:custGeom>
              <a:avLst/>
              <a:gdLst/>
              <a:ahLst/>
              <a:rect l="0" t="0" r="r" b="b"/>
              <a:pathLst>
                <a:path w="274" h="191">
                  <a:moveTo>
                    <a:pt x="110" y="0"/>
                  </a:moveTo>
                  <a:lnTo>
                    <a:pt x="35" y="0"/>
                  </a:lnTo>
                  <a:lnTo>
                    <a:pt x="0" y="26"/>
                  </a:lnTo>
                  <a:lnTo>
                    <a:pt x="0" y="98"/>
                  </a:lnTo>
                  <a:lnTo>
                    <a:pt x="57" y="165"/>
                  </a:lnTo>
                  <a:lnTo>
                    <a:pt x="168" y="191"/>
                  </a:lnTo>
                  <a:lnTo>
                    <a:pt x="252" y="187"/>
                  </a:lnTo>
                  <a:lnTo>
                    <a:pt x="274" y="142"/>
                  </a:lnTo>
                  <a:lnTo>
                    <a:pt x="261" y="102"/>
                  </a:lnTo>
                  <a:lnTo>
                    <a:pt x="221" y="44"/>
                  </a:lnTo>
                  <a:lnTo>
                    <a:pt x="155" y="8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1295280" y="2362320"/>
            <a:ext cx="73152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3 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fine 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preciation,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tate the factors that affect its computation, and show how to record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1066680" y="114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counting for Depreci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63640" cy="703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99072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efinition of Depreci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838080" y="129528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preciation accounting is described by the AICPA as:</a:t>
            </a:r>
            <a:br>
              <a:rPr sz="3200"/>
            </a:b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. . . a system of accounting which aims to distribute the cost or other basic value of tangible capital assets, less salvage (if any), over the estimated useful life of the unit . . . in a systematic and rational manner. It is a process of allocation, not of valu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99072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Features of Depreci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990720" y="1447920"/>
            <a:ext cx="769608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ll tangible assets except land have a limited useful lif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preciation means the allocation of the cost of a plant asset to the periods that benefit from the service of that ass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preciation is not a process of valu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838080" y="137160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8640" indent="-45864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4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mpute periodic depreciation under the (a) straight-line method, (b) production method, and (c) declining-balance meth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8640" indent="-45864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5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count for disposal of depreciable assets not involving exchang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8640" indent="-45864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6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count for the disposal of depreciable assets involving exchang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63640" cy="703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1066680" y="22860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LEARNING OBJEC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914400" y="228600"/>
            <a:ext cx="7907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Four Factors That Affect the Computation of Depreci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76212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8640" indent="-45864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5896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Net purchase pri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5896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ll reasonable and necessary expenditures to get the asset in place and ready for u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8640" indent="-45864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Residual value (salvage or disposal value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5896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n asset’s estimated net scrap, salvage, or trade-in value as of the estimated date of dispos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152280"/>
            <a:ext cx="8577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Four Factors That Affect the Computation of Depreci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990720" y="152388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3. Depreciable co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ost less residual valu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preciable cost is allocated over the useful life of an as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4. Estimated useful lif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otal number of service units expected from a long-term as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May be measured in years, miles, units, or similar measur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762120" y="1371600"/>
            <a:ext cx="83818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preciation is recorded at the end of the accounting period by an adjusting entry in the following form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Depreciation Expense, Asset Name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xx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Accumulated Depreciation,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Asset Name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xx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To record depreciation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    for the peri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9144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counting for Depreci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2286000" y="762120"/>
            <a:ext cx="5527800" cy="110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838080" y="198108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Q.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 company purchased a building fiv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years ago. The market value of th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building is now greater than it was when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building was purchased. Explain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why the company should continu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preciating the build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A.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company should continu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preciating the building becaus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preciation is an allocation of cost and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not a valuation proc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914400" y="228600"/>
            <a:ext cx="1751400" cy="1751400"/>
            <a:chOff x="914400" y="228600"/>
            <a:chExt cx="1751400" cy="1751400"/>
          </a:xfrm>
        </p:grpSpPr>
        <p:sp>
          <p:nvSpPr>
            <p:cNvPr id="296" name=""/>
            <p:cNvSpPr/>
            <p:nvPr/>
          </p:nvSpPr>
          <p:spPr>
            <a:xfrm>
              <a:off x="919080" y="1089000"/>
              <a:ext cx="425880" cy="609840"/>
            </a:xfrm>
            <a:custGeom>
              <a:avLst/>
              <a:gdLst/>
              <a:ahLst/>
              <a:rect l="0" t="0" r="r" b="b"/>
              <a:pathLst>
                <a:path w="1183" h="1694">
                  <a:moveTo>
                    <a:pt x="472" y="0"/>
                  </a:moveTo>
                  <a:lnTo>
                    <a:pt x="411" y="74"/>
                  </a:lnTo>
                  <a:lnTo>
                    <a:pt x="411" y="295"/>
                  </a:lnTo>
                  <a:lnTo>
                    <a:pt x="472" y="454"/>
                  </a:lnTo>
                  <a:lnTo>
                    <a:pt x="543" y="533"/>
                  </a:lnTo>
                  <a:lnTo>
                    <a:pt x="437" y="643"/>
                  </a:lnTo>
                  <a:lnTo>
                    <a:pt x="295" y="887"/>
                  </a:lnTo>
                  <a:lnTo>
                    <a:pt x="22" y="1279"/>
                  </a:lnTo>
                  <a:lnTo>
                    <a:pt x="0" y="1372"/>
                  </a:lnTo>
                  <a:lnTo>
                    <a:pt x="22" y="1451"/>
                  </a:lnTo>
                  <a:lnTo>
                    <a:pt x="110" y="1451"/>
                  </a:lnTo>
                  <a:lnTo>
                    <a:pt x="180" y="1363"/>
                  </a:lnTo>
                  <a:lnTo>
                    <a:pt x="295" y="1143"/>
                  </a:lnTo>
                  <a:lnTo>
                    <a:pt x="367" y="1050"/>
                  </a:lnTo>
                  <a:lnTo>
                    <a:pt x="411" y="1191"/>
                  </a:lnTo>
                  <a:lnTo>
                    <a:pt x="380" y="1350"/>
                  </a:lnTo>
                  <a:lnTo>
                    <a:pt x="264" y="1570"/>
                  </a:lnTo>
                  <a:lnTo>
                    <a:pt x="295" y="1623"/>
                  </a:lnTo>
                  <a:lnTo>
                    <a:pt x="367" y="1606"/>
                  </a:lnTo>
                  <a:lnTo>
                    <a:pt x="512" y="1491"/>
                  </a:lnTo>
                  <a:lnTo>
                    <a:pt x="631" y="1293"/>
                  </a:lnTo>
                  <a:lnTo>
                    <a:pt x="631" y="1637"/>
                  </a:lnTo>
                  <a:lnTo>
                    <a:pt x="772" y="1694"/>
                  </a:lnTo>
                  <a:lnTo>
                    <a:pt x="852" y="1482"/>
                  </a:lnTo>
                  <a:lnTo>
                    <a:pt x="928" y="1681"/>
                  </a:lnTo>
                  <a:lnTo>
                    <a:pt x="985" y="1623"/>
                  </a:lnTo>
                  <a:lnTo>
                    <a:pt x="1011" y="1231"/>
                  </a:lnTo>
                  <a:lnTo>
                    <a:pt x="1183" y="860"/>
                  </a:lnTo>
                  <a:lnTo>
                    <a:pt x="1144" y="643"/>
                  </a:lnTo>
                  <a:lnTo>
                    <a:pt x="1025" y="564"/>
                  </a:lnTo>
                  <a:lnTo>
                    <a:pt x="897" y="573"/>
                  </a:lnTo>
                  <a:lnTo>
                    <a:pt x="852" y="401"/>
                  </a:lnTo>
                  <a:lnTo>
                    <a:pt x="724" y="361"/>
                  </a:lnTo>
                  <a:lnTo>
                    <a:pt x="609" y="308"/>
                  </a:lnTo>
                  <a:lnTo>
                    <a:pt x="543" y="35"/>
                  </a:lnTo>
                  <a:lnTo>
                    <a:pt x="472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276200" y="1336680"/>
              <a:ext cx="125640" cy="297360"/>
            </a:xfrm>
            <a:custGeom>
              <a:avLst/>
              <a:gdLst/>
              <a:ahLst/>
              <a:rect l="0" t="0" r="r" b="b"/>
              <a:pathLst>
                <a:path w="349" h="826">
                  <a:moveTo>
                    <a:pt x="177" y="0"/>
                  </a:moveTo>
                  <a:lnTo>
                    <a:pt x="349" y="212"/>
                  </a:lnTo>
                  <a:lnTo>
                    <a:pt x="265" y="676"/>
                  </a:lnTo>
                  <a:lnTo>
                    <a:pt x="0" y="826"/>
                  </a:lnTo>
                  <a:lnTo>
                    <a:pt x="0" y="591"/>
                  </a:lnTo>
                  <a:lnTo>
                    <a:pt x="105" y="353"/>
                  </a:lnTo>
                  <a:lnTo>
                    <a:pt x="177" y="171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090880" y="1166760"/>
              <a:ext cx="313200" cy="267120"/>
            </a:xfrm>
            <a:custGeom>
              <a:avLst/>
              <a:gdLst/>
              <a:ahLst/>
              <a:rect l="0" t="0" r="r" b="b"/>
              <a:pathLst>
                <a:path w="870" h="742">
                  <a:moveTo>
                    <a:pt x="358" y="0"/>
                  </a:moveTo>
                  <a:lnTo>
                    <a:pt x="358" y="119"/>
                  </a:lnTo>
                  <a:lnTo>
                    <a:pt x="389" y="225"/>
                  </a:lnTo>
                  <a:lnTo>
                    <a:pt x="556" y="402"/>
                  </a:lnTo>
                  <a:lnTo>
                    <a:pt x="870" y="503"/>
                  </a:lnTo>
                  <a:lnTo>
                    <a:pt x="826" y="729"/>
                  </a:lnTo>
                  <a:lnTo>
                    <a:pt x="556" y="742"/>
                  </a:lnTo>
                  <a:lnTo>
                    <a:pt x="167" y="579"/>
                  </a:lnTo>
                  <a:lnTo>
                    <a:pt x="0" y="296"/>
                  </a:lnTo>
                  <a:lnTo>
                    <a:pt x="194" y="13"/>
                  </a:lnTo>
                  <a:lnTo>
                    <a:pt x="358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216160" y="863640"/>
              <a:ext cx="438480" cy="589320"/>
            </a:xfrm>
            <a:custGeom>
              <a:avLst/>
              <a:gdLst/>
              <a:ahLst/>
              <a:rect l="0" t="0" r="r" b="b"/>
              <a:pathLst>
                <a:path w="1218" h="1637">
                  <a:moveTo>
                    <a:pt x="110" y="692"/>
                  </a:moveTo>
                  <a:lnTo>
                    <a:pt x="0" y="806"/>
                  </a:lnTo>
                  <a:lnTo>
                    <a:pt x="22" y="1076"/>
                  </a:lnTo>
                  <a:lnTo>
                    <a:pt x="194" y="1200"/>
                  </a:lnTo>
                  <a:lnTo>
                    <a:pt x="207" y="1610"/>
                  </a:lnTo>
                  <a:lnTo>
                    <a:pt x="379" y="1610"/>
                  </a:lnTo>
                  <a:lnTo>
                    <a:pt x="366" y="1266"/>
                  </a:lnTo>
                  <a:lnTo>
                    <a:pt x="493" y="1623"/>
                  </a:lnTo>
                  <a:lnTo>
                    <a:pt x="577" y="1637"/>
                  </a:lnTo>
                  <a:lnTo>
                    <a:pt x="640" y="1517"/>
                  </a:lnTo>
                  <a:lnTo>
                    <a:pt x="653" y="1288"/>
                  </a:lnTo>
                  <a:lnTo>
                    <a:pt x="838" y="1504"/>
                  </a:lnTo>
                  <a:lnTo>
                    <a:pt x="913" y="1487"/>
                  </a:lnTo>
                  <a:lnTo>
                    <a:pt x="896" y="1341"/>
                  </a:lnTo>
                  <a:lnTo>
                    <a:pt x="825" y="1134"/>
                  </a:lnTo>
                  <a:lnTo>
                    <a:pt x="755" y="997"/>
                  </a:lnTo>
                  <a:lnTo>
                    <a:pt x="781" y="904"/>
                  </a:lnTo>
                  <a:lnTo>
                    <a:pt x="825" y="922"/>
                  </a:lnTo>
                  <a:lnTo>
                    <a:pt x="997" y="1134"/>
                  </a:lnTo>
                  <a:lnTo>
                    <a:pt x="1178" y="1187"/>
                  </a:lnTo>
                  <a:lnTo>
                    <a:pt x="1218" y="1121"/>
                  </a:lnTo>
                  <a:lnTo>
                    <a:pt x="1191" y="1010"/>
                  </a:lnTo>
                  <a:lnTo>
                    <a:pt x="852" y="679"/>
                  </a:lnTo>
                  <a:lnTo>
                    <a:pt x="577" y="577"/>
                  </a:lnTo>
                  <a:lnTo>
                    <a:pt x="546" y="392"/>
                  </a:lnTo>
                  <a:lnTo>
                    <a:pt x="640" y="229"/>
                  </a:lnTo>
                  <a:lnTo>
                    <a:pt x="640" y="52"/>
                  </a:lnTo>
                  <a:lnTo>
                    <a:pt x="564" y="0"/>
                  </a:lnTo>
                  <a:lnTo>
                    <a:pt x="366" y="445"/>
                  </a:lnTo>
                  <a:lnTo>
                    <a:pt x="194" y="507"/>
                  </a:lnTo>
                  <a:lnTo>
                    <a:pt x="149" y="630"/>
                  </a:lnTo>
                  <a:lnTo>
                    <a:pt x="110" y="692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496880" y="352440"/>
              <a:ext cx="478080" cy="752760"/>
            </a:xfrm>
            <a:custGeom>
              <a:avLst/>
              <a:gdLst/>
              <a:ahLst/>
              <a:rect l="0" t="0" r="r" b="b"/>
              <a:pathLst>
                <a:path w="1328" h="2091">
                  <a:moveTo>
                    <a:pt x="330" y="291"/>
                  </a:moveTo>
                  <a:lnTo>
                    <a:pt x="233" y="692"/>
                  </a:lnTo>
                  <a:lnTo>
                    <a:pt x="13" y="771"/>
                  </a:lnTo>
                  <a:lnTo>
                    <a:pt x="74" y="895"/>
                  </a:lnTo>
                  <a:lnTo>
                    <a:pt x="0" y="978"/>
                  </a:lnTo>
                  <a:lnTo>
                    <a:pt x="0" y="1121"/>
                  </a:lnTo>
                  <a:lnTo>
                    <a:pt x="105" y="1257"/>
                  </a:lnTo>
                  <a:lnTo>
                    <a:pt x="207" y="1257"/>
                  </a:lnTo>
                  <a:lnTo>
                    <a:pt x="277" y="1720"/>
                  </a:lnTo>
                  <a:lnTo>
                    <a:pt x="361" y="1919"/>
                  </a:lnTo>
                  <a:lnTo>
                    <a:pt x="630" y="2091"/>
                  </a:lnTo>
                  <a:lnTo>
                    <a:pt x="904" y="2064"/>
                  </a:lnTo>
                  <a:lnTo>
                    <a:pt x="1032" y="1720"/>
                  </a:lnTo>
                  <a:lnTo>
                    <a:pt x="1063" y="1191"/>
                  </a:lnTo>
                  <a:lnTo>
                    <a:pt x="1328" y="926"/>
                  </a:lnTo>
                  <a:lnTo>
                    <a:pt x="1315" y="820"/>
                  </a:lnTo>
                  <a:lnTo>
                    <a:pt x="1284" y="771"/>
                  </a:lnTo>
                  <a:lnTo>
                    <a:pt x="1147" y="758"/>
                  </a:lnTo>
                  <a:lnTo>
                    <a:pt x="1191" y="621"/>
                  </a:lnTo>
                  <a:lnTo>
                    <a:pt x="1050" y="529"/>
                  </a:lnTo>
                  <a:lnTo>
                    <a:pt x="988" y="229"/>
                  </a:lnTo>
                  <a:lnTo>
                    <a:pt x="577" y="0"/>
                  </a:lnTo>
                  <a:lnTo>
                    <a:pt x="361" y="211"/>
                  </a:lnTo>
                  <a:lnTo>
                    <a:pt x="330" y="291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531800" y="982800"/>
              <a:ext cx="438480" cy="897120"/>
            </a:xfrm>
            <a:custGeom>
              <a:avLst/>
              <a:gdLst/>
              <a:ahLst/>
              <a:rect l="0" t="0" r="r" b="b"/>
              <a:pathLst>
                <a:path w="1218" h="2492">
                  <a:moveTo>
                    <a:pt x="251" y="127"/>
                  </a:moveTo>
                  <a:lnTo>
                    <a:pt x="423" y="251"/>
                  </a:lnTo>
                  <a:lnTo>
                    <a:pt x="507" y="383"/>
                  </a:lnTo>
                  <a:lnTo>
                    <a:pt x="997" y="0"/>
                  </a:lnTo>
                  <a:lnTo>
                    <a:pt x="1147" y="79"/>
                  </a:lnTo>
                  <a:lnTo>
                    <a:pt x="1218" y="476"/>
                  </a:lnTo>
                  <a:lnTo>
                    <a:pt x="865" y="1623"/>
                  </a:lnTo>
                  <a:lnTo>
                    <a:pt x="979" y="2254"/>
                  </a:lnTo>
                  <a:lnTo>
                    <a:pt x="520" y="2492"/>
                  </a:lnTo>
                  <a:lnTo>
                    <a:pt x="163" y="2360"/>
                  </a:lnTo>
                  <a:lnTo>
                    <a:pt x="163" y="1685"/>
                  </a:lnTo>
                  <a:lnTo>
                    <a:pt x="0" y="1036"/>
                  </a:lnTo>
                  <a:lnTo>
                    <a:pt x="163" y="251"/>
                  </a:lnTo>
                  <a:lnTo>
                    <a:pt x="251" y="127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550880" y="254160"/>
              <a:ext cx="410040" cy="236880"/>
            </a:xfrm>
            <a:custGeom>
              <a:avLst/>
              <a:gdLst/>
              <a:ahLst/>
              <a:rect l="0" t="0" r="r" b="b"/>
              <a:pathLst>
                <a:path w="1139" h="658">
                  <a:moveTo>
                    <a:pt x="141" y="631"/>
                  </a:moveTo>
                  <a:lnTo>
                    <a:pt x="309" y="450"/>
                  </a:lnTo>
                  <a:lnTo>
                    <a:pt x="415" y="428"/>
                  </a:lnTo>
                  <a:lnTo>
                    <a:pt x="415" y="441"/>
                  </a:lnTo>
                  <a:lnTo>
                    <a:pt x="468" y="428"/>
                  </a:lnTo>
                  <a:lnTo>
                    <a:pt x="538" y="477"/>
                  </a:lnTo>
                  <a:lnTo>
                    <a:pt x="671" y="508"/>
                  </a:lnTo>
                  <a:lnTo>
                    <a:pt x="781" y="658"/>
                  </a:lnTo>
                  <a:lnTo>
                    <a:pt x="958" y="591"/>
                  </a:lnTo>
                  <a:lnTo>
                    <a:pt x="958" y="521"/>
                  </a:lnTo>
                  <a:lnTo>
                    <a:pt x="1139" y="441"/>
                  </a:lnTo>
                  <a:lnTo>
                    <a:pt x="1086" y="317"/>
                  </a:lnTo>
                  <a:lnTo>
                    <a:pt x="919" y="308"/>
                  </a:lnTo>
                  <a:lnTo>
                    <a:pt x="945" y="171"/>
                  </a:lnTo>
                  <a:lnTo>
                    <a:pt x="799" y="189"/>
                  </a:lnTo>
                  <a:lnTo>
                    <a:pt x="772" y="92"/>
                  </a:lnTo>
                  <a:lnTo>
                    <a:pt x="671" y="92"/>
                  </a:lnTo>
                  <a:lnTo>
                    <a:pt x="600" y="145"/>
                  </a:lnTo>
                  <a:lnTo>
                    <a:pt x="538" y="145"/>
                  </a:lnTo>
                  <a:lnTo>
                    <a:pt x="552" y="0"/>
                  </a:lnTo>
                  <a:lnTo>
                    <a:pt x="415" y="70"/>
                  </a:lnTo>
                  <a:lnTo>
                    <a:pt x="224" y="308"/>
                  </a:lnTo>
                  <a:lnTo>
                    <a:pt x="211" y="145"/>
                  </a:lnTo>
                  <a:lnTo>
                    <a:pt x="114" y="224"/>
                  </a:lnTo>
                  <a:lnTo>
                    <a:pt x="88" y="428"/>
                  </a:lnTo>
                  <a:lnTo>
                    <a:pt x="0" y="393"/>
                  </a:lnTo>
                  <a:lnTo>
                    <a:pt x="13" y="521"/>
                  </a:lnTo>
                  <a:lnTo>
                    <a:pt x="141" y="631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662120" y="1147680"/>
              <a:ext cx="130680" cy="679680"/>
            </a:xfrm>
            <a:custGeom>
              <a:avLst/>
              <a:gdLst/>
              <a:ahLst/>
              <a:rect l="0" t="0" r="r" b="b"/>
              <a:pathLst>
                <a:path w="363" h="1888">
                  <a:moveTo>
                    <a:pt x="186" y="8"/>
                  </a:moveTo>
                  <a:lnTo>
                    <a:pt x="61" y="92"/>
                  </a:lnTo>
                  <a:lnTo>
                    <a:pt x="61" y="255"/>
                  </a:lnTo>
                  <a:lnTo>
                    <a:pt x="150" y="304"/>
                  </a:lnTo>
                  <a:lnTo>
                    <a:pt x="35" y="555"/>
                  </a:lnTo>
                  <a:lnTo>
                    <a:pt x="0" y="886"/>
                  </a:lnTo>
                  <a:lnTo>
                    <a:pt x="88" y="1319"/>
                  </a:lnTo>
                  <a:lnTo>
                    <a:pt x="88" y="1504"/>
                  </a:lnTo>
                  <a:lnTo>
                    <a:pt x="44" y="1641"/>
                  </a:lnTo>
                  <a:lnTo>
                    <a:pt x="230" y="1888"/>
                  </a:lnTo>
                  <a:lnTo>
                    <a:pt x="350" y="1517"/>
                  </a:lnTo>
                  <a:lnTo>
                    <a:pt x="350" y="1271"/>
                  </a:lnTo>
                  <a:lnTo>
                    <a:pt x="261" y="1032"/>
                  </a:lnTo>
                  <a:lnTo>
                    <a:pt x="217" y="714"/>
                  </a:lnTo>
                  <a:lnTo>
                    <a:pt x="306" y="401"/>
                  </a:lnTo>
                  <a:lnTo>
                    <a:pt x="279" y="277"/>
                  </a:lnTo>
                  <a:lnTo>
                    <a:pt x="363" y="211"/>
                  </a:lnTo>
                  <a:lnTo>
                    <a:pt x="350" y="127"/>
                  </a:lnTo>
                  <a:lnTo>
                    <a:pt x="243" y="0"/>
                  </a:lnTo>
                  <a:lnTo>
                    <a:pt x="186" y="8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657440" y="919080"/>
              <a:ext cx="105120" cy="62280"/>
            </a:xfrm>
            <a:custGeom>
              <a:avLst/>
              <a:gdLst/>
              <a:ahLst/>
              <a:rect l="0" t="0" r="r" b="b"/>
              <a:pathLst>
                <a:path w="292" h="173">
                  <a:moveTo>
                    <a:pt x="0" y="53"/>
                  </a:moveTo>
                  <a:lnTo>
                    <a:pt x="114" y="173"/>
                  </a:lnTo>
                  <a:lnTo>
                    <a:pt x="234" y="160"/>
                  </a:lnTo>
                  <a:lnTo>
                    <a:pt x="292" y="13"/>
                  </a:lnTo>
                  <a:lnTo>
                    <a:pt x="164" y="0"/>
                  </a:lnTo>
                  <a:lnTo>
                    <a:pt x="30" y="1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541520" y="604800"/>
              <a:ext cx="130680" cy="133560"/>
            </a:xfrm>
            <a:custGeom>
              <a:avLst/>
              <a:gdLst/>
              <a:ahLst/>
              <a:rect l="0" t="0" r="r" b="b"/>
              <a:pathLst>
                <a:path w="363" h="371">
                  <a:moveTo>
                    <a:pt x="0" y="39"/>
                  </a:moveTo>
                  <a:lnTo>
                    <a:pt x="252" y="371"/>
                  </a:lnTo>
                  <a:lnTo>
                    <a:pt x="363" y="344"/>
                  </a:lnTo>
                  <a:lnTo>
                    <a:pt x="102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771560" y="577800"/>
              <a:ext cx="113040" cy="132120"/>
            </a:xfrm>
            <a:custGeom>
              <a:avLst/>
              <a:gdLst/>
              <a:ahLst/>
              <a:rect l="0" t="0" r="r" b="b"/>
              <a:pathLst>
                <a:path w="314" h="367">
                  <a:moveTo>
                    <a:pt x="0" y="48"/>
                  </a:moveTo>
                  <a:lnTo>
                    <a:pt x="217" y="367"/>
                  </a:lnTo>
                  <a:lnTo>
                    <a:pt x="314" y="283"/>
                  </a:lnTo>
                  <a:lnTo>
                    <a:pt x="88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494000" y="406440"/>
              <a:ext cx="456120" cy="332280"/>
            </a:xfrm>
            <a:custGeom>
              <a:avLst/>
              <a:gdLst/>
              <a:ahLst/>
              <a:rect l="0" t="0" r="r" b="b"/>
              <a:pathLst>
                <a:path w="1267" h="923">
                  <a:moveTo>
                    <a:pt x="583" y="547"/>
                  </a:moveTo>
                  <a:lnTo>
                    <a:pt x="468" y="512"/>
                  </a:lnTo>
                  <a:lnTo>
                    <a:pt x="565" y="433"/>
                  </a:lnTo>
                  <a:lnTo>
                    <a:pt x="530" y="389"/>
                  </a:lnTo>
                  <a:lnTo>
                    <a:pt x="397" y="494"/>
                  </a:lnTo>
                  <a:lnTo>
                    <a:pt x="158" y="521"/>
                  </a:lnTo>
                  <a:lnTo>
                    <a:pt x="0" y="530"/>
                  </a:lnTo>
                  <a:lnTo>
                    <a:pt x="0" y="653"/>
                  </a:lnTo>
                  <a:lnTo>
                    <a:pt x="154" y="919"/>
                  </a:lnTo>
                  <a:lnTo>
                    <a:pt x="189" y="923"/>
                  </a:lnTo>
                  <a:lnTo>
                    <a:pt x="52" y="636"/>
                  </a:lnTo>
                  <a:lnTo>
                    <a:pt x="264" y="547"/>
                  </a:lnTo>
                  <a:lnTo>
                    <a:pt x="397" y="547"/>
                  </a:lnTo>
                  <a:lnTo>
                    <a:pt x="503" y="605"/>
                  </a:lnTo>
                  <a:lnTo>
                    <a:pt x="530" y="684"/>
                  </a:lnTo>
                  <a:lnTo>
                    <a:pt x="530" y="857"/>
                  </a:lnTo>
                  <a:lnTo>
                    <a:pt x="530" y="919"/>
                  </a:lnTo>
                  <a:lnTo>
                    <a:pt x="587" y="835"/>
                  </a:lnTo>
                  <a:lnTo>
                    <a:pt x="587" y="649"/>
                  </a:lnTo>
                  <a:lnTo>
                    <a:pt x="680" y="649"/>
                  </a:lnTo>
                  <a:lnTo>
                    <a:pt x="724" y="857"/>
                  </a:lnTo>
                  <a:lnTo>
                    <a:pt x="772" y="879"/>
                  </a:lnTo>
                  <a:lnTo>
                    <a:pt x="927" y="879"/>
                  </a:lnTo>
                  <a:lnTo>
                    <a:pt x="1082" y="839"/>
                  </a:lnTo>
                  <a:lnTo>
                    <a:pt x="1192" y="760"/>
                  </a:lnTo>
                  <a:lnTo>
                    <a:pt x="1210" y="578"/>
                  </a:lnTo>
                  <a:lnTo>
                    <a:pt x="1267" y="494"/>
                  </a:lnTo>
                  <a:lnTo>
                    <a:pt x="1232" y="446"/>
                  </a:lnTo>
                  <a:lnTo>
                    <a:pt x="1091" y="393"/>
                  </a:lnTo>
                  <a:lnTo>
                    <a:pt x="1069" y="207"/>
                  </a:lnTo>
                  <a:lnTo>
                    <a:pt x="935" y="207"/>
                  </a:lnTo>
                  <a:lnTo>
                    <a:pt x="777" y="0"/>
                  </a:lnTo>
                  <a:lnTo>
                    <a:pt x="922" y="229"/>
                  </a:lnTo>
                  <a:lnTo>
                    <a:pt x="967" y="229"/>
                  </a:lnTo>
                  <a:lnTo>
                    <a:pt x="998" y="389"/>
                  </a:lnTo>
                  <a:lnTo>
                    <a:pt x="816" y="446"/>
                  </a:lnTo>
                  <a:lnTo>
                    <a:pt x="688" y="402"/>
                  </a:lnTo>
                  <a:lnTo>
                    <a:pt x="671" y="446"/>
                  </a:lnTo>
                  <a:lnTo>
                    <a:pt x="737" y="494"/>
                  </a:lnTo>
                  <a:lnTo>
                    <a:pt x="737" y="538"/>
                  </a:lnTo>
                  <a:lnTo>
                    <a:pt x="891" y="472"/>
                  </a:lnTo>
                  <a:lnTo>
                    <a:pt x="1020" y="455"/>
                  </a:lnTo>
                  <a:lnTo>
                    <a:pt x="1161" y="477"/>
                  </a:lnTo>
                  <a:lnTo>
                    <a:pt x="1161" y="503"/>
                  </a:lnTo>
                  <a:lnTo>
                    <a:pt x="1095" y="569"/>
                  </a:lnTo>
                  <a:lnTo>
                    <a:pt x="1069" y="649"/>
                  </a:lnTo>
                  <a:lnTo>
                    <a:pt x="1064" y="760"/>
                  </a:lnTo>
                  <a:lnTo>
                    <a:pt x="980" y="808"/>
                  </a:lnTo>
                  <a:lnTo>
                    <a:pt x="856" y="822"/>
                  </a:lnTo>
                  <a:lnTo>
                    <a:pt x="772" y="822"/>
                  </a:lnTo>
                  <a:lnTo>
                    <a:pt x="741" y="791"/>
                  </a:lnTo>
                  <a:lnTo>
                    <a:pt x="724" y="578"/>
                  </a:lnTo>
                  <a:lnTo>
                    <a:pt x="587" y="578"/>
                  </a:lnTo>
                  <a:lnTo>
                    <a:pt x="583" y="54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650960" y="789120"/>
              <a:ext cx="147960" cy="66960"/>
            </a:xfrm>
            <a:custGeom>
              <a:avLst/>
              <a:gdLst/>
              <a:ahLst/>
              <a:rect l="0" t="0" r="r" b="b"/>
              <a:pathLst>
                <a:path w="411" h="186">
                  <a:moveTo>
                    <a:pt x="0" y="0"/>
                  </a:moveTo>
                  <a:lnTo>
                    <a:pt x="66" y="83"/>
                  </a:lnTo>
                  <a:lnTo>
                    <a:pt x="243" y="83"/>
                  </a:lnTo>
                  <a:lnTo>
                    <a:pt x="318" y="26"/>
                  </a:lnTo>
                  <a:lnTo>
                    <a:pt x="411" y="26"/>
                  </a:lnTo>
                  <a:lnTo>
                    <a:pt x="393" y="57"/>
                  </a:lnTo>
                  <a:lnTo>
                    <a:pt x="393" y="83"/>
                  </a:lnTo>
                  <a:lnTo>
                    <a:pt x="230" y="186"/>
                  </a:lnTo>
                  <a:lnTo>
                    <a:pt x="136" y="186"/>
                  </a:lnTo>
                  <a:lnTo>
                    <a:pt x="88" y="150"/>
                  </a:lnTo>
                  <a:lnTo>
                    <a:pt x="35" y="1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487520" y="679320"/>
              <a:ext cx="222480" cy="359280"/>
            </a:xfrm>
            <a:custGeom>
              <a:avLst/>
              <a:gdLst/>
              <a:ahLst/>
              <a:rect l="0" t="0" r="r" b="b"/>
              <a:pathLst>
                <a:path w="618" h="998">
                  <a:moveTo>
                    <a:pt x="618" y="70"/>
                  </a:moveTo>
                  <a:lnTo>
                    <a:pt x="618" y="88"/>
                  </a:lnTo>
                  <a:lnTo>
                    <a:pt x="508" y="189"/>
                  </a:lnTo>
                  <a:lnTo>
                    <a:pt x="419" y="207"/>
                  </a:lnTo>
                  <a:lnTo>
                    <a:pt x="246" y="180"/>
                  </a:lnTo>
                  <a:lnTo>
                    <a:pt x="277" y="538"/>
                  </a:lnTo>
                  <a:lnTo>
                    <a:pt x="318" y="835"/>
                  </a:lnTo>
                  <a:lnTo>
                    <a:pt x="393" y="998"/>
                  </a:lnTo>
                  <a:lnTo>
                    <a:pt x="318" y="883"/>
                  </a:lnTo>
                  <a:lnTo>
                    <a:pt x="291" y="760"/>
                  </a:lnTo>
                  <a:lnTo>
                    <a:pt x="238" y="419"/>
                  </a:lnTo>
                  <a:lnTo>
                    <a:pt x="189" y="437"/>
                  </a:lnTo>
                  <a:lnTo>
                    <a:pt x="127" y="402"/>
                  </a:lnTo>
                  <a:lnTo>
                    <a:pt x="13" y="224"/>
                  </a:lnTo>
                  <a:lnTo>
                    <a:pt x="0" y="127"/>
                  </a:lnTo>
                  <a:lnTo>
                    <a:pt x="0" y="61"/>
                  </a:lnTo>
                  <a:lnTo>
                    <a:pt x="26" y="17"/>
                  </a:lnTo>
                  <a:lnTo>
                    <a:pt x="97" y="0"/>
                  </a:lnTo>
                  <a:lnTo>
                    <a:pt x="105" y="26"/>
                  </a:lnTo>
                  <a:lnTo>
                    <a:pt x="48" y="44"/>
                  </a:lnTo>
                  <a:lnTo>
                    <a:pt x="35" y="119"/>
                  </a:lnTo>
                  <a:lnTo>
                    <a:pt x="44" y="211"/>
                  </a:lnTo>
                  <a:lnTo>
                    <a:pt x="123" y="296"/>
                  </a:lnTo>
                  <a:lnTo>
                    <a:pt x="158" y="278"/>
                  </a:lnTo>
                  <a:lnTo>
                    <a:pt x="158" y="97"/>
                  </a:lnTo>
                  <a:lnTo>
                    <a:pt x="233" y="132"/>
                  </a:lnTo>
                  <a:lnTo>
                    <a:pt x="344" y="163"/>
                  </a:lnTo>
                  <a:lnTo>
                    <a:pt x="450" y="154"/>
                  </a:lnTo>
                  <a:lnTo>
                    <a:pt x="547" y="97"/>
                  </a:lnTo>
                  <a:lnTo>
                    <a:pt x="618" y="7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546200" y="396720"/>
              <a:ext cx="66960" cy="190800"/>
            </a:xfrm>
            <a:custGeom>
              <a:avLst/>
              <a:gdLst/>
              <a:ahLst/>
              <a:rect l="0" t="0" r="r" b="b"/>
              <a:pathLst>
                <a:path w="186" h="530">
                  <a:moveTo>
                    <a:pt x="98" y="530"/>
                  </a:moveTo>
                  <a:lnTo>
                    <a:pt x="186" y="216"/>
                  </a:lnTo>
                  <a:lnTo>
                    <a:pt x="22" y="105"/>
                  </a:lnTo>
                  <a:lnTo>
                    <a:pt x="0" y="0"/>
                  </a:lnTo>
                  <a:lnTo>
                    <a:pt x="13" y="127"/>
                  </a:lnTo>
                  <a:lnTo>
                    <a:pt x="66" y="180"/>
                  </a:lnTo>
                  <a:lnTo>
                    <a:pt x="74" y="340"/>
                  </a:lnTo>
                  <a:lnTo>
                    <a:pt x="115" y="402"/>
                  </a:lnTo>
                  <a:lnTo>
                    <a:pt x="98" y="53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544760" y="228600"/>
              <a:ext cx="500400" cy="251280"/>
            </a:xfrm>
            <a:custGeom>
              <a:avLst/>
              <a:gdLst/>
              <a:ahLst/>
              <a:rect l="0" t="0" r="r" b="b"/>
              <a:pathLst>
                <a:path w="1390" h="698">
                  <a:moveTo>
                    <a:pt x="13" y="472"/>
                  </a:moveTo>
                  <a:lnTo>
                    <a:pt x="132" y="544"/>
                  </a:lnTo>
                  <a:lnTo>
                    <a:pt x="119" y="455"/>
                  </a:lnTo>
                  <a:lnTo>
                    <a:pt x="141" y="296"/>
                  </a:lnTo>
                  <a:lnTo>
                    <a:pt x="224" y="265"/>
                  </a:lnTo>
                  <a:lnTo>
                    <a:pt x="233" y="428"/>
                  </a:lnTo>
                  <a:lnTo>
                    <a:pt x="467" y="132"/>
                  </a:lnTo>
                  <a:lnTo>
                    <a:pt x="520" y="114"/>
                  </a:lnTo>
                  <a:lnTo>
                    <a:pt x="480" y="230"/>
                  </a:lnTo>
                  <a:lnTo>
                    <a:pt x="626" y="292"/>
                  </a:lnTo>
                  <a:lnTo>
                    <a:pt x="733" y="171"/>
                  </a:lnTo>
                  <a:lnTo>
                    <a:pt x="790" y="208"/>
                  </a:lnTo>
                  <a:lnTo>
                    <a:pt x="737" y="309"/>
                  </a:lnTo>
                  <a:lnTo>
                    <a:pt x="807" y="247"/>
                  </a:lnTo>
                  <a:lnTo>
                    <a:pt x="913" y="296"/>
                  </a:lnTo>
                  <a:lnTo>
                    <a:pt x="830" y="380"/>
                  </a:lnTo>
                  <a:lnTo>
                    <a:pt x="1116" y="428"/>
                  </a:lnTo>
                  <a:lnTo>
                    <a:pt x="922" y="490"/>
                  </a:lnTo>
                  <a:lnTo>
                    <a:pt x="1160" y="526"/>
                  </a:lnTo>
                  <a:lnTo>
                    <a:pt x="878" y="592"/>
                  </a:lnTo>
                  <a:lnTo>
                    <a:pt x="940" y="645"/>
                  </a:lnTo>
                  <a:lnTo>
                    <a:pt x="856" y="698"/>
                  </a:lnTo>
                  <a:lnTo>
                    <a:pt x="1002" y="698"/>
                  </a:lnTo>
                  <a:lnTo>
                    <a:pt x="988" y="659"/>
                  </a:lnTo>
                  <a:lnTo>
                    <a:pt x="1138" y="694"/>
                  </a:lnTo>
                  <a:lnTo>
                    <a:pt x="1116" y="584"/>
                  </a:lnTo>
                  <a:lnTo>
                    <a:pt x="1253" y="531"/>
                  </a:lnTo>
                  <a:lnTo>
                    <a:pt x="1156" y="481"/>
                  </a:lnTo>
                  <a:lnTo>
                    <a:pt x="1390" y="468"/>
                  </a:lnTo>
                  <a:lnTo>
                    <a:pt x="1187" y="349"/>
                  </a:lnTo>
                  <a:lnTo>
                    <a:pt x="953" y="327"/>
                  </a:lnTo>
                  <a:lnTo>
                    <a:pt x="1138" y="212"/>
                  </a:lnTo>
                  <a:lnTo>
                    <a:pt x="807" y="212"/>
                  </a:lnTo>
                  <a:lnTo>
                    <a:pt x="966" y="105"/>
                  </a:lnTo>
                  <a:lnTo>
                    <a:pt x="724" y="132"/>
                  </a:lnTo>
                  <a:lnTo>
                    <a:pt x="612" y="190"/>
                  </a:lnTo>
                  <a:lnTo>
                    <a:pt x="710" y="0"/>
                  </a:lnTo>
                  <a:lnTo>
                    <a:pt x="418" y="105"/>
                  </a:lnTo>
                  <a:lnTo>
                    <a:pt x="260" y="331"/>
                  </a:lnTo>
                  <a:lnTo>
                    <a:pt x="233" y="208"/>
                  </a:lnTo>
                  <a:lnTo>
                    <a:pt x="101" y="296"/>
                  </a:lnTo>
                  <a:lnTo>
                    <a:pt x="88" y="468"/>
                  </a:lnTo>
                  <a:lnTo>
                    <a:pt x="0" y="428"/>
                  </a:lnTo>
                  <a:lnTo>
                    <a:pt x="30" y="584"/>
                  </a:lnTo>
                  <a:lnTo>
                    <a:pt x="13" y="47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654200" y="363600"/>
              <a:ext cx="140040" cy="74880"/>
            </a:xfrm>
            <a:custGeom>
              <a:avLst/>
              <a:gdLst/>
              <a:ahLst/>
              <a:rect l="0" t="0" r="r" b="b"/>
              <a:pathLst>
                <a:path w="389" h="208">
                  <a:moveTo>
                    <a:pt x="0" y="208"/>
                  </a:moveTo>
                  <a:lnTo>
                    <a:pt x="145" y="0"/>
                  </a:lnTo>
                  <a:lnTo>
                    <a:pt x="145" y="137"/>
                  </a:lnTo>
                  <a:lnTo>
                    <a:pt x="199" y="83"/>
                  </a:lnTo>
                  <a:lnTo>
                    <a:pt x="243" y="164"/>
                  </a:lnTo>
                  <a:lnTo>
                    <a:pt x="389" y="199"/>
                  </a:lnTo>
                  <a:lnTo>
                    <a:pt x="234" y="172"/>
                  </a:lnTo>
                  <a:lnTo>
                    <a:pt x="189" y="120"/>
                  </a:lnTo>
                  <a:lnTo>
                    <a:pt x="123" y="172"/>
                  </a:lnTo>
                  <a:lnTo>
                    <a:pt x="123" y="106"/>
                  </a:lnTo>
                  <a:lnTo>
                    <a:pt x="0" y="20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3760" bIns="23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639800" y="878040"/>
              <a:ext cx="170280" cy="111600"/>
            </a:xfrm>
            <a:custGeom>
              <a:avLst/>
              <a:gdLst/>
              <a:ahLst/>
              <a:rect l="0" t="0" r="r" b="b"/>
              <a:pathLst>
                <a:path w="473" h="310">
                  <a:moveTo>
                    <a:pt x="88" y="106"/>
                  </a:moveTo>
                  <a:lnTo>
                    <a:pt x="283" y="93"/>
                  </a:lnTo>
                  <a:lnTo>
                    <a:pt x="376" y="115"/>
                  </a:lnTo>
                  <a:lnTo>
                    <a:pt x="425" y="70"/>
                  </a:lnTo>
                  <a:lnTo>
                    <a:pt x="473" y="172"/>
                  </a:lnTo>
                  <a:lnTo>
                    <a:pt x="442" y="190"/>
                  </a:lnTo>
                  <a:lnTo>
                    <a:pt x="403" y="150"/>
                  </a:lnTo>
                  <a:lnTo>
                    <a:pt x="336" y="225"/>
                  </a:lnTo>
                  <a:lnTo>
                    <a:pt x="221" y="310"/>
                  </a:lnTo>
                  <a:lnTo>
                    <a:pt x="168" y="310"/>
                  </a:lnTo>
                  <a:lnTo>
                    <a:pt x="88" y="266"/>
                  </a:lnTo>
                  <a:lnTo>
                    <a:pt x="177" y="306"/>
                  </a:lnTo>
                  <a:lnTo>
                    <a:pt x="212" y="306"/>
                  </a:lnTo>
                  <a:lnTo>
                    <a:pt x="283" y="244"/>
                  </a:lnTo>
                  <a:lnTo>
                    <a:pt x="336" y="142"/>
                  </a:lnTo>
                  <a:lnTo>
                    <a:pt x="256" y="128"/>
                  </a:lnTo>
                  <a:lnTo>
                    <a:pt x="208" y="115"/>
                  </a:lnTo>
                  <a:lnTo>
                    <a:pt x="79" y="133"/>
                  </a:lnTo>
                  <a:lnTo>
                    <a:pt x="74" y="217"/>
                  </a:lnTo>
                  <a:lnTo>
                    <a:pt x="35" y="168"/>
                  </a:lnTo>
                  <a:lnTo>
                    <a:pt x="0" y="235"/>
                  </a:lnTo>
                  <a:lnTo>
                    <a:pt x="4" y="84"/>
                  </a:lnTo>
                  <a:lnTo>
                    <a:pt x="48" y="0"/>
                  </a:lnTo>
                  <a:lnTo>
                    <a:pt x="88" y="84"/>
                  </a:lnTo>
                  <a:lnTo>
                    <a:pt x="88" y="10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619280" y="631800"/>
              <a:ext cx="363960" cy="520920"/>
            </a:xfrm>
            <a:custGeom>
              <a:avLst/>
              <a:gdLst/>
              <a:ahLst/>
              <a:rect l="0" t="0" r="r" b="b"/>
              <a:pathLst>
                <a:path w="1011" h="1447">
                  <a:moveTo>
                    <a:pt x="853" y="0"/>
                  </a:moveTo>
                  <a:lnTo>
                    <a:pt x="954" y="0"/>
                  </a:lnTo>
                  <a:lnTo>
                    <a:pt x="1011" y="74"/>
                  </a:lnTo>
                  <a:lnTo>
                    <a:pt x="1011" y="149"/>
                  </a:lnTo>
                  <a:lnTo>
                    <a:pt x="928" y="379"/>
                  </a:lnTo>
                  <a:lnTo>
                    <a:pt x="848" y="485"/>
                  </a:lnTo>
                  <a:lnTo>
                    <a:pt x="760" y="502"/>
                  </a:lnTo>
                  <a:lnTo>
                    <a:pt x="737" y="502"/>
                  </a:lnTo>
                  <a:lnTo>
                    <a:pt x="737" y="790"/>
                  </a:lnTo>
                  <a:lnTo>
                    <a:pt x="778" y="993"/>
                  </a:lnTo>
                  <a:lnTo>
                    <a:pt x="778" y="1160"/>
                  </a:lnTo>
                  <a:lnTo>
                    <a:pt x="622" y="1332"/>
                  </a:lnTo>
                  <a:lnTo>
                    <a:pt x="415" y="1447"/>
                  </a:lnTo>
                  <a:lnTo>
                    <a:pt x="278" y="1447"/>
                  </a:lnTo>
                  <a:lnTo>
                    <a:pt x="211" y="1416"/>
                  </a:lnTo>
                  <a:lnTo>
                    <a:pt x="119" y="1218"/>
                  </a:lnTo>
                  <a:lnTo>
                    <a:pt x="35" y="1143"/>
                  </a:lnTo>
                  <a:lnTo>
                    <a:pt x="0" y="1094"/>
                  </a:lnTo>
                  <a:lnTo>
                    <a:pt x="114" y="1160"/>
                  </a:lnTo>
                  <a:lnTo>
                    <a:pt x="194" y="1235"/>
                  </a:lnTo>
                  <a:lnTo>
                    <a:pt x="358" y="1244"/>
                  </a:lnTo>
                  <a:lnTo>
                    <a:pt x="503" y="1173"/>
                  </a:lnTo>
                  <a:lnTo>
                    <a:pt x="578" y="1094"/>
                  </a:lnTo>
                  <a:lnTo>
                    <a:pt x="662" y="944"/>
                  </a:lnTo>
                  <a:lnTo>
                    <a:pt x="675" y="768"/>
                  </a:lnTo>
                  <a:lnTo>
                    <a:pt x="706" y="216"/>
                  </a:lnTo>
                  <a:lnTo>
                    <a:pt x="741" y="295"/>
                  </a:lnTo>
                  <a:lnTo>
                    <a:pt x="844" y="194"/>
                  </a:lnTo>
                  <a:lnTo>
                    <a:pt x="945" y="149"/>
                  </a:lnTo>
                  <a:lnTo>
                    <a:pt x="972" y="92"/>
                  </a:lnTo>
                  <a:lnTo>
                    <a:pt x="958" y="30"/>
                  </a:lnTo>
                  <a:lnTo>
                    <a:pt x="914" y="8"/>
                  </a:lnTo>
                  <a:lnTo>
                    <a:pt x="85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054080" y="1081080"/>
              <a:ext cx="294120" cy="481320"/>
            </a:xfrm>
            <a:custGeom>
              <a:avLst/>
              <a:gdLst/>
              <a:ahLst/>
              <a:rect l="0" t="0" r="r" b="b"/>
              <a:pathLst>
                <a:path w="817" h="1337">
                  <a:moveTo>
                    <a:pt x="101" y="0"/>
                  </a:moveTo>
                  <a:lnTo>
                    <a:pt x="198" y="61"/>
                  </a:lnTo>
                  <a:lnTo>
                    <a:pt x="265" y="330"/>
                  </a:lnTo>
                  <a:lnTo>
                    <a:pt x="477" y="392"/>
                  </a:lnTo>
                  <a:lnTo>
                    <a:pt x="538" y="467"/>
                  </a:lnTo>
                  <a:lnTo>
                    <a:pt x="547" y="568"/>
                  </a:lnTo>
                  <a:lnTo>
                    <a:pt x="650" y="551"/>
                  </a:lnTo>
                  <a:lnTo>
                    <a:pt x="778" y="639"/>
                  </a:lnTo>
                  <a:lnTo>
                    <a:pt x="817" y="750"/>
                  </a:lnTo>
                  <a:lnTo>
                    <a:pt x="817" y="935"/>
                  </a:lnTo>
                  <a:lnTo>
                    <a:pt x="650" y="1222"/>
                  </a:lnTo>
                  <a:lnTo>
                    <a:pt x="596" y="1337"/>
                  </a:lnTo>
                  <a:lnTo>
                    <a:pt x="623" y="1182"/>
                  </a:lnTo>
                  <a:lnTo>
                    <a:pt x="596" y="1125"/>
                  </a:lnTo>
                  <a:lnTo>
                    <a:pt x="494" y="1028"/>
                  </a:lnTo>
                  <a:lnTo>
                    <a:pt x="336" y="913"/>
                  </a:lnTo>
                  <a:lnTo>
                    <a:pt x="525" y="975"/>
                  </a:lnTo>
                  <a:lnTo>
                    <a:pt x="641" y="1063"/>
                  </a:lnTo>
                  <a:lnTo>
                    <a:pt x="698" y="1050"/>
                  </a:lnTo>
                  <a:lnTo>
                    <a:pt x="734" y="1002"/>
                  </a:lnTo>
                  <a:lnTo>
                    <a:pt x="778" y="869"/>
                  </a:lnTo>
                  <a:lnTo>
                    <a:pt x="764" y="737"/>
                  </a:lnTo>
                  <a:lnTo>
                    <a:pt x="707" y="661"/>
                  </a:lnTo>
                  <a:lnTo>
                    <a:pt x="605" y="639"/>
                  </a:lnTo>
                  <a:lnTo>
                    <a:pt x="494" y="639"/>
                  </a:lnTo>
                  <a:lnTo>
                    <a:pt x="459" y="440"/>
                  </a:lnTo>
                  <a:lnTo>
                    <a:pt x="278" y="370"/>
                  </a:lnTo>
                  <a:lnTo>
                    <a:pt x="278" y="427"/>
                  </a:lnTo>
                  <a:lnTo>
                    <a:pt x="198" y="286"/>
                  </a:lnTo>
                  <a:lnTo>
                    <a:pt x="149" y="61"/>
                  </a:lnTo>
                  <a:lnTo>
                    <a:pt x="79" y="35"/>
                  </a:lnTo>
                  <a:lnTo>
                    <a:pt x="39" y="105"/>
                  </a:lnTo>
                  <a:lnTo>
                    <a:pt x="39" y="260"/>
                  </a:lnTo>
                  <a:lnTo>
                    <a:pt x="74" y="427"/>
                  </a:lnTo>
                  <a:lnTo>
                    <a:pt x="171" y="568"/>
                  </a:lnTo>
                  <a:lnTo>
                    <a:pt x="61" y="480"/>
                  </a:lnTo>
                  <a:lnTo>
                    <a:pt x="8" y="330"/>
                  </a:lnTo>
                  <a:lnTo>
                    <a:pt x="0" y="141"/>
                  </a:lnTo>
                  <a:lnTo>
                    <a:pt x="39" y="35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914400" y="1293840"/>
              <a:ext cx="194040" cy="384480"/>
            </a:xfrm>
            <a:custGeom>
              <a:avLst/>
              <a:gdLst/>
              <a:ahLst/>
              <a:rect l="0" t="0" r="r" b="b"/>
              <a:pathLst>
                <a:path w="539" h="1068">
                  <a:moveTo>
                    <a:pt x="539" y="0"/>
                  </a:moveTo>
                  <a:lnTo>
                    <a:pt x="429" y="70"/>
                  </a:lnTo>
                  <a:lnTo>
                    <a:pt x="296" y="326"/>
                  </a:lnTo>
                  <a:lnTo>
                    <a:pt x="168" y="498"/>
                  </a:lnTo>
                  <a:lnTo>
                    <a:pt x="13" y="702"/>
                  </a:lnTo>
                  <a:lnTo>
                    <a:pt x="0" y="803"/>
                  </a:lnTo>
                  <a:lnTo>
                    <a:pt x="30" y="900"/>
                  </a:lnTo>
                  <a:lnTo>
                    <a:pt x="105" y="900"/>
                  </a:lnTo>
                  <a:lnTo>
                    <a:pt x="208" y="803"/>
                  </a:lnTo>
                  <a:lnTo>
                    <a:pt x="287" y="613"/>
                  </a:lnTo>
                  <a:lnTo>
                    <a:pt x="397" y="498"/>
                  </a:lnTo>
                  <a:lnTo>
                    <a:pt x="397" y="653"/>
                  </a:lnTo>
                  <a:lnTo>
                    <a:pt x="380" y="794"/>
                  </a:lnTo>
                  <a:lnTo>
                    <a:pt x="265" y="984"/>
                  </a:lnTo>
                  <a:lnTo>
                    <a:pt x="265" y="1046"/>
                  </a:lnTo>
                  <a:lnTo>
                    <a:pt x="380" y="1068"/>
                  </a:lnTo>
                  <a:lnTo>
                    <a:pt x="296" y="1015"/>
                  </a:lnTo>
                  <a:lnTo>
                    <a:pt x="309" y="984"/>
                  </a:lnTo>
                  <a:lnTo>
                    <a:pt x="389" y="847"/>
                  </a:lnTo>
                  <a:lnTo>
                    <a:pt x="447" y="591"/>
                  </a:lnTo>
                  <a:lnTo>
                    <a:pt x="407" y="449"/>
                  </a:lnTo>
                  <a:lnTo>
                    <a:pt x="318" y="529"/>
                  </a:lnTo>
                  <a:lnTo>
                    <a:pt x="127" y="852"/>
                  </a:lnTo>
                  <a:lnTo>
                    <a:pt x="74" y="865"/>
                  </a:lnTo>
                  <a:lnTo>
                    <a:pt x="30" y="825"/>
                  </a:lnTo>
                  <a:lnTo>
                    <a:pt x="30" y="728"/>
                  </a:lnTo>
                  <a:lnTo>
                    <a:pt x="105" y="605"/>
                  </a:lnTo>
                  <a:lnTo>
                    <a:pt x="318" y="348"/>
                  </a:lnTo>
                  <a:lnTo>
                    <a:pt x="447" y="97"/>
                  </a:lnTo>
                  <a:lnTo>
                    <a:pt x="53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058760" y="1511280"/>
              <a:ext cx="119520" cy="184680"/>
            </a:xfrm>
            <a:custGeom>
              <a:avLst/>
              <a:gdLst/>
              <a:ahLst/>
              <a:rect l="0" t="0" r="r" b="b"/>
              <a:pathLst>
                <a:path w="332" h="513">
                  <a:moveTo>
                    <a:pt x="0" y="451"/>
                  </a:moveTo>
                  <a:lnTo>
                    <a:pt x="111" y="322"/>
                  </a:lnTo>
                  <a:lnTo>
                    <a:pt x="128" y="190"/>
                  </a:lnTo>
                  <a:lnTo>
                    <a:pt x="257" y="0"/>
                  </a:lnTo>
                  <a:lnTo>
                    <a:pt x="284" y="127"/>
                  </a:lnTo>
                  <a:lnTo>
                    <a:pt x="266" y="469"/>
                  </a:lnTo>
                  <a:lnTo>
                    <a:pt x="332" y="513"/>
                  </a:lnTo>
                  <a:lnTo>
                    <a:pt x="234" y="478"/>
                  </a:lnTo>
                  <a:lnTo>
                    <a:pt x="186" y="287"/>
                  </a:lnTo>
                  <a:lnTo>
                    <a:pt x="111" y="380"/>
                  </a:lnTo>
                  <a:lnTo>
                    <a:pt x="0" y="45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204920" y="1519200"/>
              <a:ext cx="79560" cy="167040"/>
            </a:xfrm>
            <a:custGeom>
              <a:avLst/>
              <a:gdLst/>
              <a:ahLst/>
              <a:rect l="0" t="0" r="r" b="b"/>
              <a:pathLst>
                <a:path w="221" h="464">
                  <a:moveTo>
                    <a:pt x="0" y="349"/>
                  </a:moveTo>
                  <a:lnTo>
                    <a:pt x="8" y="176"/>
                  </a:lnTo>
                  <a:lnTo>
                    <a:pt x="57" y="74"/>
                  </a:lnTo>
                  <a:lnTo>
                    <a:pt x="105" y="441"/>
                  </a:lnTo>
                  <a:lnTo>
                    <a:pt x="177" y="441"/>
                  </a:lnTo>
                  <a:lnTo>
                    <a:pt x="203" y="52"/>
                  </a:lnTo>
                  <a:lnTo>
                    <a:pt x="221" y="0"/>
                  </a:lnTo>
                  <a:lnTo>
                    <a:pt x="203" y="300"/>
                  </a:lnTo>
                  <a:lnTo>
                    <a:pt x="177" y="464"/>
                  </a:lnTo>
                  <a:lnTo>
                    <a:pt x="88" y="464"/>
                  </a:lnTo>
                  <a:lnTo>
                    <a:pt x="48" y="145"/>
                  </a:lnTo>
                  <a:lnTo>
                    <a:pt x="26" y="189"/>
                  </a:lnTo>
                  <a:lnTo>
                    <a:pt x="0" y="34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216160" y="868320"/>
              <a:ext cx="190800" cy="443160"/>
            </a:xfrm>
            <a:custGeom>
              <a:avLst/>
              <a:gdLst/>
              <a:ahLst/>
              <a:rect l="0" t="0" r="r" b="b"/>
              <a:pathLst>
                <a:path w="530" h="1231">
                  <a:moveTo>
                    <a:pt x="141" y="666"/>
                  </a:moveTo>
                  <a:lnTo>
                    <a:pt x="180" y="476"/>
                  </a:lnTo>
                  <a:lnTo>
                    <a:pt x="358" y="423"/>
                  </a:lnTo>
                  <a:lnTo>
                    <a:pt x="530" y="0"/>
                  </a:lnTo>
                  <a:lnTo>
                    <a:pt x="530" y="123"/>
                  </a:lnTo>
                  <a:lnTo>
                    <a:pt x="384" y="449"/>
                  </a:lnTo>
                  <a:lnTo>
                    <a:pt x="194" y="511"/>
                  </a:lnTo>
                  <a:lnTo>
                    <a:pt x="167" y="666"/>
                  </a:lnTo>
                  <a:lnTo>
                    <a:pt x="233" y="666"/>
                  </a:lnTo>
                  <a:lnTo>
                    <a:pt x="70" y="737"/>
                  </a:lnTo>
                  <a:lnTo>
                    <a:pt x="30" y="865"/>
                  </a:lnTo>
                  <a:lnTo>
                    <a:pt x="39" y="1037"/>
                  </a:lnTo>
                  <a:lnTo>
                    <a:pt x="216" y="1231"/>
                  </a:lnTo>
                  <a:lnTo>
                    <a:pt x="30" y="1059"/>
                  </a:lnTo>
                  <a:lnTo>
                    <a:pt x="0" y="918"/>
                  </a:lnTo>
                  <a:lnTo>
                    <a:pt x="13" y="777"/>
                  </a:lnTo>
                  <a:lnTo>
                    <a:pt x="79" y="675"/>
                  </a:lnTo>
                  <a:lnTo>
                    <a:pt x="141" y="66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344680" y="868320"/>
              <a:ext cx="321120" cy="428760"/>
            </a:xfrm>
            <a:custGeom>
              <a:avLst/>
              <a:gdLst/>
              <a:ahLst/>
              <a:rect l="0" t="0" r="r" b="b"/>
              <a:pathLst>
                <a:path w="892" h="1191">
                  <a:moveTo>
                    <a:pt x="247" y="0"/>
                  </a:moveTo>
                  <a:lnTo>
                    <a:pt x="300" y="35"/>
                  </a:lnTo>
                  <a:lnTo>
                    <a:pt x="318" y="136"/>
                  </a:lnTo>
                  <a:lnTo>
                    <a:pt x="318" y="233"/>
                  </a:lnTo>
                  <a:lnTo>
                    <a:pt x="216" y="405"/>
                  </a:lnTo>
                  <a:lnTo>
                    <a:pt x="239" y="533"/>
                  </a:lnTo>
                  <a:lnTo>
                    <a:pt x="534" y="671"/>
                  </a:lnTo>
                  <a:lnTo>
                    <a:pt x="888" y="1046"/>
                  </a:lnTo>
                  <a:lnTo>
                    <a:pt x="892" y="1147"/>
                  </a:lnTo>
                  <a:lnTo>
                    <a:pt x="875" y="1191"/>
                  </a:lnTo>
                  <a:lnTo>
                    <a:pt x="742" y="1191"/>
                  </a:lnTo>
                  <a:lnTo>
                    <a:pt x="627" y="1121"/>
                  </a:lnTo>
                  <a:lnTo>
                    <a:pt x="530" y="997"/>
                  </a:lnTo>
                  <a:lnTo>
                    <a:pt x="477" y="927"/>
                  </a:lnTo>
                  <a:lnTo>
                    <a:pt x="415" y="913"/>
                  </a:lnTo>
                  <a:lnTo>
                    <a:pt x="490" y="913"/>
                  </a:lnTo>
                  <a:lnTo>
                    <a:pt x="636" y="1107"/>
                  </a:lnTo>
                  <a:lnTo>
                    <a:pt x="822" y="1165"/>
                  </a:lnTo>
                  <a:lnTo>
                    <a:pt x="861" y="1107"/>
                  </a:lnTo>
                  <a:lnTo>
                    <a:pt x="844" y="1019"/>
                  </a:lnTo>
                  <a:lnTo>
                    <a:pt x="516" y="750"/>
                  </a:lnTo>
                  <a:lnTo>
                    <a:pt x="468" y="671"/>
                  </a:lnTo>
                  <a:lnTo>
                    <a:pt x="216" y="605"/>
                  </a:lnTo>
                  <a:lnTo>
                    <a:pt x="171" y="671"/>
                  </a:lnTo>
                  <a:lnTo>
                    <a:pt x="0" y="781"/>
                  </a:lnTo>
                  <a:lnTo>
                    <a:pt x="163" y="653"/>
                  </a:lnTo>
                  <a:lnTo>
                    <a:pt x="171" y="568"/>
                  </a:lnTo>
                  <a:lnTo>
                    <a:pt x="171" y="374"/>
                  </a:lnTo>
                  <a:lnTo>
                    <a:pt x="287" y="233"/>
                  </a:lnTo>
                  <a:lnTo>
                    <a:pt x="287" y="48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286000" y="1206360"/>
              <a:ext cx="273240" cy="254520"/>
            </a:xfrm>
            <a:custGeom>
              <a:avLst/>
              <a:gdLst/>
              <a:ahLst/>
              <a:rect l="0" t="0" r="r" b="b"/>
              <a:pathLst>
                <a:path w="759" h="707">
                  <a:moveTo>
                    <a:pt x="569" y="0"/>
                  </a:moveTo>
                  <a:lnTo>
                    <a:pt x="552" y="61"/>
                  </a:lnTo>
                  <a:lnTo>
                    <a:pt x="662" y="296"/>
                  </a:lnTo>
                  <a:lnTo>
                    <a:pt x="719" y="535"/>
                  </a:lnTo>
                  <a:lnTo>
                    <a:pt x="653" y="535"/>
                  </a:lnTo>
                  <a:lnTo>
                    <a:pt x="538" y="428"/>
                  </a:lnTo>
                  <a:lnTo>
                    <a:pt x="437" y="208"/>
                  </a:lnTo>
                  <a:lnTo>
                    <a:pt x="357" y="171"/>
                  </a:lnTo>
                  <a:lnTo>
                    <a:pt x="370" y="296"/>
                  </a:lnTo>
                  <a:lnTo>
                    <a:pt x="441" y="380"/>
                  </a:lnTo>
                  <a:lnTo>
                    <a:pt x="441" y="548"/>
                  </a:lnTo>
                  <a:lnTo>
                    <a:pt x="389" y="676"/>
                  </a:lnTo>
                  <a:lnTo>
                    <a:pt x="321" y="623"/>
                  </a:lnTo>
                  <a:lnTo>
                    <a:pt x="233" y="428"/>
                  </a:lnTo>
                  <a:lnTo>
                    <a:pt x="211" y="296"/>
                  </a:lnTo>
                  <a:lnTo>
                    <a:pt x="163" y="252"/>
                  </a:lnTo>
                  <a:lnTo>
                    <a:pt x="149" y="601"/>
                  </a:lnTo>
                  <a:lnTo>
                    <a:pt x="79" y="645"/>
                  </a:lnTo>
                  <a:lnTo>
                    <a:pt x="22" y="601"/>
                  </a:lnTo>
                  <a:lnTo>
                    <a:pt x="8" y="305"/>
                  </a:lnTo>
                  <a:lnTo>
                    <a:pt x="0" y="592"/>
                  </a:lnTo>
                  <a:lnTo>
                    <a:pt x="48" y="698"/>
                  </a:lnTo>
                  <a:lnTo>
                    <a:pt x="149" y="698"/>
                  </a:lnTo>
                  <a:lnTo>
                    <a:pt x="185" y="614"/>
                  </a:lnTo>
                  <a:lnTo>
                    <a:pt x="202" y="344"/>
                  </a:lnTo>
                  <a:lnTo>
                    <a:pt x="220" y="450"/>
                  </a:lnTo>
                  <a:lnTo>
                    <a:pt x="308" y="681"/>
                  </a:lnTo>
                  <a:lnTo>
                    <a:pt x="402" y="707"/>
                  </a:lnTo>
                  <a:lnTo>
                    <a:pt x="472" y="614"/>
                  </a:lnTo>
                  <a:lnTo>
                    <a:pt x="472" y="393"/>
                  </a:lnTo>
                  <a:lnTo>
                    <a:pt x="653" y="579"/>
                  </a:lnTo>
                  <a:lnTo>
                    <a:pt x="750" y="579"/>
                  </a:lnTo>
                  <a:lnTo>
                    <a:pt x="759" y="450"/>
                  </a:lnTo>
                  <a:lnTo>
                    <a:pt x="688" y="230"/>
                  </a:lnTo>
                  <a:lnTo>
                    <a:pt x="569" y="48"/>
                  </a:lnTo>
                  <a:lnTo>
                    <a:pt x="56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182600" y="942840"/>
              <a:ext cx="1214640" cy="1037160"/>
            </a:xfrm>
            <a:custGeom>
              <a:avLst/>
              <a:gdLst/>
              <a:ahLst/>
              <a:rect l="0" t="0" r="r" b="b"/>
              <a:pathLst>
                <a:path w="3374" h="2881">
                  <a:moveTo>
                    <a:pt x="1212" y="242"/>
                  </a:moveTo>
                  <a:lnTo>
                    <a:pt x="1150" y="251"/>
                  </a:lnTo>
                  <a:lnTo>
                    <a:pt x="1058" y="396"/>
                  </a:lnTo>
                  <a:lnTo>
                    <a:pt x="1023" y="291"/>
                  </a:lnTo>
                  <a:lnTo>
                    <a:pt x="917" y="229"/>
                  </a:lnTo>
                  <a:lnTo>
                    <a:pt x="833" y="277"/>
                  </a:lnTo>
                  <a:lnTo>
                    <a:pt x="802" y="467"/>
                  </a:lnTo>
                  <a:lnTo>
                    <a:pt x="498" y="696"/>
                  </a:lnTo>
                  <a:lnTo>
                    <a:pt x="520" y="794"/>
                  </a:lnTo>
                  <a:lnTo>
                    <a:pt x="445" y="874"/>
                  </a:lnTo>
                  <a:lnTo>
                    <a:pt x="445" y="953"/>
                  </a:lnTo>
                  <a:lnTo>
                    <a:pt x="533" y="1169"/>
                  </a:lnTo>
                  <a:lnTo>
                    <a:pt x="537" y="1438"/>
                  </a:lnTo>
                  <a:lnTo>
                    <a:pt x="480" y="1685"/>
                  </a:lnTo>
                  <a:lnTo>
                    <a:pt x="264" y="1839"/>
                  </a:lnTo>
                  <a:lnTo>
                    <a:pt x="238" y="2047"/>
                  </a:lnTo>
                  <a:lnTo>
                    <a:pt x="167" y="2047"/>
                  </a:lnTo>
                  <a:lnTo>
                    <a:pt x="136" y="1875"/>
                  </a:lnTo>
                  <a:lnTo>
                    <a:pt x="70" y="1875"/>
                  </a:lnTo>
                  <a:lnTo>
                    <a:pt x="39" y="2055"/>
                  </a:lnTo>
                  <a:lnTo>
                    <a:pt x="0" y="2104"/>
                  </a:lnTo>
                  <a:lnTo>
                    <a:pt x="149" y="2352"/>
                  </a:lnTo>
                  <a:lnTo>
                    <a:pt x="255" y="2365"/>
                  </a:lnTo>
                  <a:lnTo>
                    <a:pt x="445" y="2550"/>
                  </a:lnTo>
                  <a:lnTo>
                    <a:pt x="617" y="2572"/>
                  </a:lnTo>
                  <a:lnTo>
                    <a:pt x="714" y="2471"/>
                  </a:lnTo>
                  <a:lnTo>
                    <a:pt x="948" y="2117"/>
                  </a:lnTo>
                  <a:lnTo>
                    <a:pt x="970" y="2594"/>
                  </a:lnTo>
                  <a:lnTo>
                    <a:pt x="948" y="2881"/>
                  </a:lnTo>
                  <a:lnTo>
                    <a:pt x="2898" y="2881"/>
                  </a:lnTo>
                  <a:lnTo>
                    <a:pt x="2757" y="2572"/>
                  </a:lnTo>
                  <a:lnTo>
                    <a:pt x="2686" y="2303"/>
                  </a:lnTo>
                  <a:lnTo>
                    <a:pt x="2668" y="1910"/>
                  </a:lnTo>
                  <a:lnTo>
                    <a:pt x="2783" y="1994"/>
                  </a:lnTo>
                  <a:lnTo>
                    <a:pt x="2898" y="1994"/>
                  </a:lnTo>
                  <a:lnTo>
                    <a:pt x="3061" y="1888"/>
                  </a:lnTo>
                  <a:lnTo>
                    <a:pt x="3167" y="1875"/>
                  </a:lnTo>
                  <a:lnTo>
                    <a:pt x="3233" y="1769"/>
                  </a:lnTo>
                  <a:lnTo>
                    <a:pt x="3277" y="1500"/>
                  </a:lnTo>
                  <a:lnTo>
                    <a:pt x="3374" y="1385"/>
                  </a:lnTo>
                  <a:lnTo>
                    <a:pt x="3325" y="1306"/>
                  </a:lnTo>
                  <a:lnTo>
                    <a:pt x="3250" y="1306"/>
                  </a:lnTo>
                  <a:lnTo>
                    <a:pt x="3193" y="1359"/>
                  </a:lnTo>
                  <a:lnTo>
                    <a:pt x="3140" y="1376"/>
                  </a:lnTo>
                  <a:lnTo>
                    <a:pt x="3070" y="1306"/>
                  </a:lnTo>
                  <a:lnTo>
                    <a:pt x="2986" y="1297"/>
                  </a:lnTo>
                  <a:lnTo>
                    <a:pt x="2832" y="1196"/>
                  </a:lnTo>
                  <a:lnTo>
                    <a:pt x="2735" y="1085"/>
                  </a:lnTo>
                  <a:lnTo>
                    <a:pt x="2721" y="953"/>
                  </a:lnTo>
                  <a:lnTo>
                    <a:pt x="2735" y="825"/>
                  </a:lnTo>
                  <a:lnTo>
                    <a:pt x="2801" y="718"/>
                  </a:lnTo>
                  <a:lnTo>
                    <a:pt x="2884" y="626"/>
                  </a:lnTo>
                  <a:lnTo>
                    <a:pt x="2876" y="458"/>
                  </a:lnTo>
                  <a:lnTo>
                    <a:pt x="2876" y="339"/>
                  </a:lnTo>
                  <a:lnTo>
                    <a:pt x="2832" y="251"/>
                  </a:lnTo>
                  <a:lnTo>
                    <a:pt x="2721" y="216"/>
                  </a:lnTo>
                  <a:lnTo>
                    <a:pt x="2682" y="194"/>
                  </a:lnTo>
                  <a:lnTo>
                    <a:pt x="2598" y="48"/>
                  </a:lnTo>
                  <a:lnTo>
                    <a:pt x="2532" y="8"/>
                  </a:lnTo>
                  <a:lnTo>
                    <a:pt x="2461" y="0"/>
                  </a:lnTo>
                  <a:lnTo>
                    <a:pt x="2404" y="26"/>
                  </a:lnTo>
                  <a:lnTo>
                    <a:pt x="2355" y="101"/>
                  </a:lnTo>
                  <a:lnTo>
                    <a:pt x="2280" y="145"/>
                  </a:lnTo>
                  <a:lnTo>
                    <a:pt x="2197" y="163"/>
                  </a:lnTo>
                  <a:lnTo>
                    <a:pt x="2104" y="163"/>
                  </a:lnTo>
                  <a:lnTo>
                    <a:pt x="2122" y="304"/>
                  </a:lnTo>
                  <a:lnTo>
                    <a:pt x="2122" y="480"/>
                  </a:lnTo>
                  <a:lnTo>
                    <a:pt x="2104" y="599"/>
                  </a:lnTo>
                  <a:lnTo>
                    <a:pt x="2020" y="741"/>
                  </a:lnTo>
                  <a:lnTo>
                    <a:pt x="1914" y="957"/>
                  </a:lnTo>
                  <a:lnTo>
                    <a:pt x="1831" y="1222"/>
                  </a:lnTo>
                  <a:lnTo>
                    <a:pt x="1826" y="1376"/>
                  </a:lnTo>
                  <a:lnTo>
                    <a:pt x="1786" y="1509"/>
                  </a:lnTo>
                  <a:lnTo>
                    <a:pt x="1734" y="1641"/>
                  </a:lnTo>
                  <a:lnTo>
                    <a:pt x="1711" y="1848"/>
                  </a:lnTo>
                  <a:lnTo>
                    <a:pt x="1725" y="2025"/>
                  </a:lnTo>
                  <a:lnTo>
                    <a:pt x="1786" y="2228"/>
                  </a:lnTo>
                  <a:lnTo>
                    <a:pt x="1826" y="2303"/>
                  </a:lnTo>
                  <a:lnTo>
                    <a:pt x="1711" y="2378"/>
                  </a:lnTo>
                  <a:lnTo>
                    <a:pt x="1574" y="2427"/>
                  </a:lnTo>
                  <a:lnTo>
                    <a:pt x="1424" y="2440"/>
                  </a:lnTo>
                  <a:lnTo>
                    <a:pt x="1331" y="2440"/>
                  </a:lnTo>
                  <a:lnTo>
                    <a:pt x="1270" y="2409"/>
                  </a:lnTo>
                  <a:lnTo>
                    <a:pt x="1270" y="2242"/>
                  </a:lnTo>
                  <a:lnTo>
                    <a:pt x="1270" y="1985"/>
                  </a:lnTo>
                  <a:lnTo>
                    <a:pt x="1234" y="1734"/>
                  </a:lnTo>
                  <a:lnTo>
                    <a:pt x="1172" y="1509"/>
                  </a:lnTo>
                  <a:lnTo>
                    <a:pt x="1146" y="1328"/>
                  </a:lnTo>
                  <a:lnTo>
                    <a:pt x="1133" y="1072"/>
                  </a:lnTo>
                  <a:lnTo>
                    <a:pt x="1172" y="852"/>
                  </a:lnTo>
                  <a:lnTo>
                    <a:pt x="1234" y="674"/>
                  </a:lnTo>
                  <a:lnTo>
                    <a:pt x="1239" y="568"/>
                  </a:lnTo>
                  <a:lnTo>
                    <a:pt x="1212" y="414"/>
                  </a:lnTo>
                  <a:lnTo>
                    <a:pt x="1212" y="291"/>
                  </a:lnTo>
                  <a:lnTo>
                    <a:pt x="1234" y="251"/>
                  </a:lnTo>
                  <a:lnTo>
                    <a:pt x="1212" y="24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655640" y="1149480"/>
              <a:ext cx="152640" cy="675000"/>
            </a:xfrm>
            <a:custGeom>
              <a:avLst/>
              <a:gdLst/>
              <a:ahLst/>
              <a:rect l="0" t="0" r="r" b="b"/>
              <a:pathLst>
                <a:path w="424" h="1875">
                  <a:moveTo>
                    <a:pt x="167" y="22"/>
                  </a:moveTo>
                  <a:lnTo>
                    <a:pt x="57" y="83"/>
                  </a:lnTo>
                  <a:lnTo>
                    <a:pt x="66" y="264"/>
                  </a:lnTo>
                  <a:lnTo>
                    <a:pt x="149" y="313"/>
                  </a:lnTo>
                  <a:lnTo>
                    <a:pt x="48" y="511"/>
                  </a:lnTo>
                  <a:lnTo>
                    <a:pt x="0" y="727"/>
                  </a:lnTo>
                  <a:lnTo>
                    <a:pt x="0" y="934"/>
                  </a:lnTo>
                  <a:lnTo>
                    <a:pt x="48" y="1121"/>
                  </a:lnTo>
                  <a:lnTo>
                    <a:pt x="88" y="1354"/>
                  </a:lnTo>
                  <a:lnTo>
                    <a:pt x="88" y="1487"/>
                  </a:lnTo>
                  <a:lnTo>
                    <a:pt x="48" y="1650"/>
                  </a:lnTo>
                  <a:lnTo>
                    <a:pt x="221" y="1875"/>
                  </a:lnTo>
                  <a:lnTo>
                    <a:pt x="292" y="1839"/>
                  </a:lnTo>
                  <a:lnTo>
                    <a:pt x="340" y="1681"/>
                  </a:lnTo>
                  <a:lnTo>
                    <a:pt x="419" y="1473"/>
                  </a:lnTo>
                  <a:lnTo>
                    <a:pt x="424" y="1363"/>
                  </a:lnTo>
                  <a:lnTo>
                    <a:pt x="358" y="1160"/>
                  </a:lnTo>
                  <a:lnTo>
                    <a:pt x="278" y="962"/>
                  </a:lnTo>
                  <a:lnTo>
                    <a:pt x="247" y="815"/>
                  </a:lnTo>
                  <a:lnTo>
                    <a:pt x="247" y="679"/>
                  </a:lnTo>
                  <a:lnTo>
                    <a:pt x="278" y="560"/>
                  </a:lnTo>
                  <a:lnTo>
                    <a:pt x="340" y="410"/>
                  </a:lnTo>
                  <a:lnTo>
                    <a:pt x="340" y="352"/>
                  </a:lnTo>
                  <a:lnTo>
                    <a:pt x="309" y="291"/>
                  </a:lnTo>
                  <a:lnTo>
                    <a:pt x="389" y="211"/>
                  </a:lnTo>
                  <a:lnTo>
                    <a:pt x="389" y="141"/>
                  </a:lnTo>
                  <a:lnTo>
                    <a:pt x="278" y="0"/>
                  </a:lnTo>
                  <a:lnTo>
                    <a:pt x="367" y="141"/>
                  </a:lnTo>
                  <a:lnTo>
                    <a:pt x="367" y="202"/>
                  </a:lnTo>
                  <a:lnTo>
                    <a:pt x="287" y="264"/>
                  </a:lnTo>
                  <a:lnTo>
                    <a:pt x="318" y="352"/>
                  </a:lnTo>
                  <a:lnTo>
                    <a:pt x="309" y="410"/>
                  </a:lnTo>
                  <a:lnTo>
                    <a:pt x="230" y="582"/>
                  </a:lnTo>
                  <a:lnTo>
                    <a:pt x="221" y="754"/>
                  </a:lnTo>
                  <a:lnTo>
                    <a:pt x="239" y="908"/>
                  </a:lnTo>
                  <a:lnTo>
                    <a:pt x="292" y="1134"/>
                  </a:lnTo>
                  <a:lnTo>
                    <a:pt x="358" y="1315"/>
                  </a:lnTo>
                  <a:lnTo>
                    <a:pt x="358" y="1465"/>
                  </a:lnTo>
                  <a:lnTo>
                    <a:pt x="318" y="1650"/>
                  </a:lnTo>
                  <a:lnTo>
                    <a:pt x="239" y="1839"/>
                  </a:lnTo>
                  <a:lnTo>
                    <a:pt x="141" y="1734"/>
                  </a:lnTo>
                  <a:lnTo>
                    <a:pt x="101" y="1650"/>
                  </a:lnTo>
                  <a:lnTo>
                    <a:pt x="110" y="1465"/>
                  </a:lnTo>
                  <a:lnTo>
                    <a:pt x="101" y="1279"/>
                  </a:lnTo>
                  <a:lnTo>
                    <a:pt x="48" y="1028"/>
                  </a:lnTo>
                  <a:lnTo>
                    <a:pt x="30" y="859"/>
                  </a:lnTo>
                  <a:lnTo>
                    <a:pt x="48" y="670"/>
                  </a:lnTo>
                  <a:lnTo>
                    <a:pt x="88" y="485"/>
                  </a:lnTo>
                  <a:lnTo>
                    <a:pt x="180" y="299"/>
                  </a:lnTo>
                  <a:lnTo>
                    <a:pt x="101" y="224"/>
                  </a:lnTo>
                  <a:lnTo>
                    <a:pt x="88" y="92"/>
                  </a:lnTo>
                  <a:lnTo>
                    <a:pt x="167" y="2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093760" y="363600"/>
              <a:ext cx="241560" cy="327240"/>
            </a:xfrm>
            <a:custGeom>
              <a:avLst/>
              <a:gdLst/>
              <a:ahLst/>
              <a:rect l="0" t="0" r="r" b="b"/>
              <a:pathLst>
                <a:path w="671" h="909">
                  <a:moveTo>
                    <a:pt x="114" y="229"/>
                  </a:moveTo>
                  <a:lnTo>
                    <a:pt x="207" y="211"/>
                  </a:lnTo>
                  <a:lnTo>
                    <a:pt x="304" y="220"/>
                  </a:lnTo>
                  <a:lnTo>
                    <a:pt x="384" y="260"/>
                  </a:lnTo>
                  <a:lnTo>
                    <a:pt x="428" y="308"/>
                  </a:lnTo>
                  <a:lnTo>
                    <a:pt x="450" y="352"/>
                  </a:lnTo>
                  <a:lnTo>
                    <a:pt x="450" y="401"/>
                  </a:lnTo>
                  <a:lnTo>
                    <a:pt x="424" y="427"/>
                  </a:lnTo>
                  <a:lnTo>
                    <a:pt x="384" y="449"/>
                  </a:lnTo>
                  <a:lnTo>
                    <a:pt x="330" y="455"/>
                  </a:lnTo>
                  <a:lnTo>
                    <a:pt x="273" y="440"/>
                  </a:lnTo>
                  <a:lnTo>
                    <a:pt x="211" y="405"/>
                  </a:lnTo>
                  <a:lnTo>
                    <a:pt x="167" y="370"/>
                  </a:lnTo>
                  <a:lnTo>
                    <a:pt x="149" y="486"/>
                  </a:lnTo>
                  <a:lnTo>
                    <a:pt x="114" y="569"/>
                  </a:lnTo>
                  <a:lnTo>
                    <a:pt x="0" y="759"/>
                  </a:lnTo>
                  <a:lnTo>
                    <a:pt x="163" y="909"/>
                  </a:lnTo>
                  <a:lnTo>
                    <a:pt x="286" y="666"/>
                  </a:lnTo>
                  <a:lnTo>
                    <a:pt x="424" y="684"/>
                  </a:lnTo>
                  <a:lnTo>
                    <a:pt x="512" y="666"/>
                  </a:lnTo>
                  <a:lnTo>
                    <a:pt x="596" y="609"/>
                  </a:lnTo>
                  <a:lnTo>
                    <a:pt x="644" y="538"/>
                  </a:lnTo>
                  <a:lnTo>
                    <a:pt x="671" y="445"/>
                  </a:lnTo>
                  <a:lnTo>
                    <a:pt x="671" y="343"/>
                  </a:lnTo>
                  <a:lnTo>
                    <a:pt x="644" y="242"/>
                  </a:lnTo>
                  <a:lnTo>
                    <a:pt x="591" y="136"/>
                  </a:lnTo>
                  <a:lnTo>
                    <a:pt x="521" y="66"/>
                  </a:lnTo>
                  <a:lnTo>
                    <a:pt x="437" y="22"/>
                  </a:lnTo>
                  <a:lnTo>
                    <a:pt x="344" y="0"/>
                  </a:lnTo>
                  <a:lnTo>
                    <a:pt x="220" y="0"/>
                  </a:lnTo>
                  <a:lnTo>
                    <a:pt x="88" y="26"/>
                  </a:lnTo>
                  <a:lnTo>
                    <a:pt x="114" y="229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049480" y="681120"/>
              <a:ext cx="87840" cy="65520"/>
            </a:xfrm>
            <a:custGeom>
              <a:avLst/>
              <a:gdLst/>
              <a:ahLst/>
              <a:rect l="0" t="0" r="r" b="b"/>
              <a:pathLst>
                <a:path w="244" h="182">
                  <a:moveTo>
                    <a:pt x="98" y="0"/>
                  </a:moveTo>
                  <a:lnTo>
                    <a:pt x="35" y="0"/>
                  </a:lnTo>
                  <a:lnTo>
                    <a:pt x="0" y="26"/>
                  </a:lnTo>
                  <a:lnTo>
                    <a:pt x="0" y="93"/>
                  </a:lnTo>
                  <a:lnTo>
                    <a:pt x="48" y="156"/>
                  </a:lnTo>
                  <a:lnTo>
                    <a:pt x="146" y="182"/>
                  </a:lnTo>
                  <a:lnTo>
                    <a:pt x="222" y="178"/>
                  </a:lnTo>
                  <a:lnTo>
                    <a:pt x="244" y="133"/>
                  </a:lnTo>
                  <a:lnTo>
                    <a:pt x="231" y="98"/>
                  </a:lnTo>
                  <a:lnTo>
                    <a:pt x="200" y="44"/>
                  </a:lnTo>
                  <a:lnTo>
                    <a:pt x="137" y="8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1600200" y="2590920"/>
            <a:ext cx="70866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4a 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mpute periodic depreciation under the straight-line meth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838080" y="914400"/>
            <a:ext cx="80010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Methods of Computing Depreci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63640" cy="703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914400" y="1447920"/>
            <a:ext cx="7848720" cy="28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is method spreads the depreciable costs evenly over the asset’s estimated useful lif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nnual depreciation is computed as follow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Straight-Line Metho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1143000" y="4572000"/>
            <a:ext cx="7548480" cy="1187280"/>
            <a:chOff x="1143000" y="4572000"/>
            <a:chExt cx="7548480" cy="1187280"/>
          </a:xfrm>
        </p:grpSpPr>
        <p:sp>
          <p:nvSpPr>
            <p:cNvPr id="332" name=""/>
            <p:cNvSpPr txBox="1"/>
            <p:nvPr/>
          </p:nvSpPr>
          <p:spPr>
            <a:xfrm>
              <a:off x="7315200" y="4724280"/>
              <a:ext cx="137628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eb9"/>
                  </a:solidFill>
                  <a:latin typeface="Arial"/>
                  <a:ea typeface="Arial"/>
                </a:rPr>
                <a:t>= $1,8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 txBox="1"/>
            <p:nvPr/>
          </p:nvSpPr>
          <p:spPr>
            <a:xfrm>
              <a:off x="4495680" y="4724280"/>
              <a:ext cx="35892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eb9"/>
                  </a:solidFill>
                  <a:latin typeface="Arial"/>
                  <a:ea typeface="Arial"/>
                </a:rPr>
                <a:t>=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 txBox="1"/>
            <p:nvPr/>
          </p:nvSpPr>
          <p:spPr>
            <a:xfrm>
              <a:off x="1143000" y="4572000"/>
              <a:ext cx="6197760" cy="1187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 u="sng">
                  <a:solidFill>
                    <a:srgbClr val="fcfeb9"/>
                  </a:solidFill>
                  <a:uFillTx/>
                  <a:latin typeface="Arial"/>
                  <a:ea typeface="Arial"/>
                </a:rPr>
                <a:t>Cost - Residual Value</a:t>
              </a:r>
              <a:r>
                <a:rPr b="1" lang="en-US" sz="2400" spc="-1" strike="noStrike">
                  <a:solidFill>
                    <a:srgbClr val="fcfeb9"/>
                  </a:solidFill>
                  <a:latin typeface="Arial"/>
                  <a:ea typeface="Arial"/>
                </a:rPr>
                <a:t>       </a:t>
              </a:r>
              <a:r>
                <a:rPr b="1" lang="en-US" sz="2400" spc="-1" strike="noStrike" u="sng">
                  <a:solidFill>
                    <a:srgbClr val="fcfeb9"/>
                  </a:solidFill>
                  <a:uFillTx/>
                  <a:latin typeface="Arial"/>
                  <a:ea typeface="Arial"/>
                </a:rPr>
                <a:t>$10,000 - $1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eb9"/>
                  </a:solidFill>
                  <a:latin typeface="Arial"/>
                  <a:ea typeface="Arial"/>
                </a:rPr>
                <a:t>Estimated Useful Life</a:t>
              </a:r>
              <a:r>
                <a:rPr b="1" lang="en-US" sz="2400" spc="-1" strike="noStrike">
                  <a:solidFill>
                    <a:srgbClr val="fcfeb9"/>
                  </a:solidFill>
                  <a:latin typeface="Arial"/>
                  <a:ea typeface="Arial"/>
                </a:rPr>
                <a:t>	</a:t>
              </a:r>
              <a:r>
                <a:rPr b="1" lang="en-US" sz="2400" spc="-1" strike="noStrike">
                  <a:solidFill>
                    <a:srgbClr val="fcfeb9"/>
                  </a:solidFill>
                  <a:latin typeface="Arial"/>
                  <a:ea typeface="Arial"/>
                </a:rPr>
                <a:t>        5 year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1471680" y="344520"/>
            <a:ext cx="6894360" cy="119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Depreciation Schedule,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 Straight-Line Method</a:t>
            </a:r>
            <a:r>
              <a:rPr b="1" lang="en-US" sz="4400" spc="-1" strike="noStrike">
                <a:solidFill>
                  <a:srgbClr val="618ffd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731880" y="1447920"/>
            <a:ext cx="8386920" cy="500364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 flipV="1">
            <a:off x="2370240" y="4503600"/>
            <a:ext cx="5502240" cy="843120"/>
          </a:xfrm>
          <a:prstGeom prst="line">
            <a:avLst/>
          </a:prstGeom>
          <a:ln w="255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1523880" y="2666880"/>
            <a:ext cx="693432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4b 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mpute periodic depreciation under the production meth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066680" y="838080"/>
            <a:ext cx="7467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Methods of Computing Depreci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63640" cy="703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838080" y="1066680"/>
            <a:ext cx="807732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is method is based on the assumption that depreciation is solely the result of use and that the passage of time plays no role in the depreciation proc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nnual depreciation is computed as follow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06668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Units of Production Metho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914400" y="4800600"/>
            <a:ext cx="7850160" cy="1187280"/>
            <a:chOff x="914400" y="4800600"/>
            <a:chExt cx="7850160" cy="1187280"/>
          </a:xfrm>
        </p:grpSpPr>
        <p:sp>
          <p:nvSpPr>
            <p:cNvPr id="344" name=""/>
            <p:cNvSpPr txBox="1"/>
            <p:nvPr/>
          </p:nvSpPr>
          <p:spPr>
            <a:xfrm>
              <a:off x="7032600" y="4983120"/>
              <a:ext cx="173196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eb9"/>
                  </a:solidFill>
                  <a:latin typeface="Arial"/>
                  <a:ea typeface="Arial"/>
                </a:rPr>
                <a:t>= $.10/mi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 txBox="1"/>
            <p:nvPr/>
          </p:nvSpPr>
          <p:spPr>
            <a:xfrm>
              <a:off x="4267080" y="4983120"/>
              <a:ext cx="35892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feb9"/>
                  </a:solidFill>
                  <a:latin typeface="Arial"/>
                  <a:ea typeface="Arial"/>
                </a:rPr>
                <a:t>=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 txBox="1"/>
            <p:nvPr/>
          </p:nvSpPr>
          <p:spPr>
            <a:xfrm>
              <a:off x="914400" y="4800600"/>
              <a:ext cx="6197760" cy="1187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10000"/>
                </a:lnSpc>
              </a:pPr>
              <a:r>
                <a:rPr b="1" lang="en-US" sz="2400" spc="-1" strike="noStrike" u="sng">
                  <a:solidFill>
                    <a:srgbClr val="fcfeb9"/>
                  </a:solidFill>
                  <a:uFillTx/>
                  <a:latin typeface="Arial"/>
                  <a:ea typeface="Arial"/>
                </a:rPr>
                <a:t>Cost - Residual Value</a:t>
              </a:r>
              <a:r>
                <a:rPr b="1" lang="en-US" sz="2400" spc="-1" strike="noStrike">
                  <a:solidFill>
                    <a:srgbClr val="fcfeb9"/>
                  </a:solidFill>
                  <a:latin typeface="Arial"/>
                  <a:ea typeface="Arial"/>
                </a:rPr>
                <a:t>       </a:t>
              </a:r>
              <a:r>
                <a:rPr b="1" lang="en-US" sz="2400" spc="-1" strike="noStrike" u="sng">
                  <a:solidFill>
                    <a:srgbClr val="fcfeb9"/>
                  </a:solidFill>
                  <a:uFillTx/>
                  <a:latin typeface="Arial"/>
                  <a:ea typeface="Arial"/>
                </a:rPr>
                <a:t>$10,000 - $1,0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10000"/>
                </a:lnSpc>
              </a:pPr>
              <a:r>
                <a:rPr b="1" lang="en-US" sz="2400" spc="-1" strike="noStrike">
                  <a:solidFill>
                    <a:srgbClr val="fcfeb9"/>
                  </a:solidFill>
                  <a:latin typeface="Arial"/>
                  <a:ea typeface="Arial"/>
                </a:rPr>
                <a:t>   </a:t>
              </a:r>
              <a:r>
                <a:rPr b="1" lang="en-US" sz="2400" spc="-1" strike="noStrike">
                  <a:solidFill>
                    <a:srgbClr val="fcfeb9"/>
                  </a:solidFill>
                  <a:latin typeface="Arial"/>
                  <a:ea typeface="Arial"/>
                </a:rPr>
                <a:t>Estimated Units                90,000 mil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</a:pPr>
              <a:r>
                <a:rPr b="1" lang="en-US" sz="2400" spc="-1" strike="noStrike">
                  <a:solidFill>
                    <a:srgbClr val="fcfeb9"/>
                  </a:solidFill>
                  <a:latin typeface="Arial"/>
                  <a:ea typeface="Arial"/>
                </a:rPr>
                <a:t>     </a:t>
              </a:r>
              <a:r>
                <a:rPr b="1" lang="en-US" sz="2400" spc="-1" strike="noStrike">
                  <a:solidFill>
                    <a:srgbClr val="fcfeb9"/>
                  </a:solidFill>
                  <a:latin typeface="Arial"/>
                  <a:ea typeface="Arial"/>
                </a:rPr>
                <a:t>of Useful Lif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1481040" y="460440"/>
            <a:ext cx="6953400" cy="113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Depreciation Schedule, Production Metho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765000" y="1447920"/>
            <a:ext cx="8277120" cy="50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838080" y="99072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8640" indent="-458640">
              <a:lnSpc>
                <a:spcPct val="9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7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dentify the issues related to accounting for natural resources and compute deple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8640" indent="-45864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8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pply the matching rule to intangible assets, including research and development costs and goodwil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8640" indent="-45864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9.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pply depreciation methods to problems of partial years, revised rates, groups of similar items, special types of capital expenditures, and cost recove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066680" y="22860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LEARNING OBJEC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63640" cy="703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1676520" y="2666880"/>
            <a:ext cx="6629400" cy="28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4c 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mpute periodic depreciation under the declining-balance meth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914400" y="91440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Methods of Computing Depreci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63640" cy="703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782640" y="304920"/>
            <a:ext cx="790416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eclining-Balance Metho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06668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Results in relatively large amounts of depreciation in the early years of an asset’s life and smaller amounts in later yea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s an accelerated meth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ssumes that plant assets are most efficient when ne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s consistent with the matching ru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914400" y="304920"/>
            <a:ext cx="769608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mputation of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eclining-Balance Metho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762120" y="198108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nnual depreciation is computed as follow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Number of years = Depreciation Rate (D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5 year asset = 20% per y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R x Carrying Value (CV) = Depreciation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Expen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V = Cost - Accumulated Depreci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533520" y="0"/>
            <a:ext cx="861048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Depreciation Schedule,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Double-Declining-Balance Metho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8280360" cy="49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914400" y="152280"/>
            <a:ext cx="769608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Depreciation Methods Used b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600 Large Compan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679320" y="1212840"/>
            <a:ext cx="8242200" cy="5118120"/>
            <a:chOff x="679320" y="1212840"/>
            <a:chExt cx="8242200" cy="5118120"/>
          </a:xfrm>
        </p:grpSpPr>
        <p:sp>
          <p:nvSpPr>
            <p:cNvPr id="360" name=""/>
            <p:cNvSpPr/>
            <p:nvPr/>
          </p:nvSpPr>
          <p:spPr>
            <a:xfrm>
              <a:off x="679320" y="1212840"/>
              <a:ext cx="8242200" cy="5118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 txBox="1"/>
            <p:nvPr/>
          </p:nvSpPr>
          <p:spPr>
            <a:xfrm>
              <a:off x="3276720" y="5410080"/>
              <a:ext cx="407664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rcentage of Companies Using Metho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 txBox="1"/>
            <p:nvPr/>
          </p:nvSpPr>
          <p:spPr>
            <a:xfrm>
              <a:off x="843120" y="2351160"/>
              <a:ext cx="136692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raight-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 txBox="1"/>
            <p:nvPr/>
          </p:nvSpPr>
          <p:spPr>
            <a:xfrm>
              <a:off x="1019160" y="3963960"/>
              <a:ext cx="125424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ducti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 txBox="1"/>
            <p:nvPr/>
          </p:nvSpPr>
          <p:spPr>
            <a:xfrm>
              <a:off x="907920" y="3006720"/>
              <a:ext cx="138924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celerated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 txBox="1"/>
            <p:nvPr/>
          </p:nvSpPr>
          <p:spPr>
            <a:xfrm>
              <a:off x="1328760" y="3317760"/>
              <a:ext cx="91440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etho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6" name=""/>
            <p:cNvGrpSpPr/>
            <p:nvPr/>
          </p:nvGrpSpPr>
          <p:grpSpPr>
            <a:xfrm>
              <a:off x="2241720" y="2222640"/>
              <a:ext cx="6670800" cy="2879640"/>
              <a:chOff x="2241720" y="2222640"/>
              <a:chExt cx="6670800" cy="2879640"/>
            </a:xfrm>
          </p:grpSpPr>
          <p:sp>
            <p:nvSpPr>
              <p:cNvPr id="367" name=""/>
              <p:cNvSpPr txBox="1"/>
              <p:nvPr/>
            </p:nvSpPr>
            <p:spPr>
              <a:xfrm>
                <a:off x="2241720" y="4768920"/>
                <a:ext cx="293760" cy="333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 txBox="1"/>
              <p:nvPr/>
            </p:nvSpPr>
            <p:spPr>
              <a:xfrm>
                <a:off x="2755800" y="4768920"/>
                <a:ext cx="406440" cy="333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 txBox="1"/>
              <p:nvPr/>
            </p:nvSpPr>
            <p:spPr>
              <a:xfrm>
                <a:off x="3330720" y="4768920"/>
                <a:ext cx="406440" cy="333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 txBox="1"/>
              <p:nvPr/>
            </p:nvSpPr>
            <p:spPr>
              <a:xfrm>
                <a:off x="3908520" y="4768920"/>
                <a:ext cx="406440" cy="333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 txBox="1"/>
              <p:nvPr/>
            </p:nvSpPr>
            <p:spPr>
              <a:xfrm>
                <a:off x="4468680" y="4768920"/>
                <a:ext cx="406440" cy="333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 txBox="1"/>
              <p:nvPr/>
            </p:nvSpPr>
            <p:spPr>
              <a:xfrm>
                <a:off x="5043600" y="4768920"/>
                <a:ext cx="406440" cy="333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 txBox="1"/>
              <p:nvPr/>
            </p:nvSpPr>
            <p:spPr>
              <a:xfrm>
                <a:off x="5608800" y="4768920"/>
                <a:ext cx="406440" cy="333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6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 txBox="1"/>
              <p:nvPr/>
            </p:nvSpPr>
            <p:spPr>
              <a:xfrm>
                <a:off x="6173640" y="4768920"/>
                <a:ext cx="406440" cy="333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7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 txBox="1"/>
              <p:nvPr/>
            </p:nvSpPr>
            <p:spPr>
              <a:xfrm>
                <a:off x="6743880" y="4768920"/>
                <a:ext cx="406440" cy="333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8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 txBox="1"/>
              <p:nvPr/>
            </p:nvSpPr>
            <p:spPr>
              <a:xfrm>
                <a:off x="7311960" y="4768920"/>
                <a:ext cx="406440" cy="333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9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 txBox="1"/>
              <p:nvPr/>
            </p:nvSpPr>
            <p:spPr>
              <a:xfrm>
                <a:off x="7819920" y="4768920"/>
                <a:ext cx="520560" cy="333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0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8075520" y="2222640"/>
                <a:ext cx="0" cy="249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7504200" y="2222640"/>
                <a:ext cx="0" cy="249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937200" y="2222640"/>
                <a:ext cx="0" cy="249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370560" y="2222640"/>
                <a:ext cx="0" cy="249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800680" y="2222640"/>
                <a:ext cx="0" cy="249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5230800" y="2222640"/>
                <a:ext cx="0" cy="249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660920" y="2222640"/>
                <a:ext cx="0" cy="249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089240" y="2222640"/>
                <a:ext cx="0" cy="249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524400" y="2222640"/>
                <a:ext cx="0" cy="249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2952720" y="2222640"/>
                <a:ext cx="0" cy="249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354800" y="2637000"/>
                <a:ext cx="903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171960" y="3443400"/>
                <a:ext cx="5086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644920" y="4245120"/>
                <a:ext cx="5613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 txBox="1"/>
              <p:nvPr/>
            </p:nvSpPr>
            <p:spPr>
              <a:xfrm>
                <a:off x="8325000" y="2322360"/>
                <a:ext cx="587520" cy="333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96%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 txBox="1"/>
              <p:nvPr/>
            </p:nvSpPr>
            <p:spPr>
              <a:xfrm>
                <a:off x="8325000" y="3124080"/>
                <a:ext cx="587520" cy="333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5%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 txBox="1"/>
              <p:nvPr/>
            </p:nvSpPr>
            <p:spPr>
              <a:xfrm>
                <a:off x="8325000" y="3932280"/>
                <a:ext cx="587520" cy="333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7%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394000" y="2363760"/>
                <a:ext cx="5453280" cy="530640"/>
              </a:xfrm>
              <a:custGeom>
                <a:avLst/>
                <a:gdLst/>
                <a:ahLst/>
                <a:rect l="0" t="0" r="r" b="b"/>
                <a:pathLst>
                  <a:path w="15148" h="1474">
                    <a:moveTo>
                      <a:pt x="15148" y="1474"/>
                    </a:moveTo>
                    <a:lnTo>
                      <a:pt x="15148" y="0"/>
                    </a:lnTo>
                    <a:lnTo>
                      <a:pt x="0" y="0"/>
                    </a:lnTo>
                    <a:lnTo>
                      <a:pt x="0" y="1474"/>
                    </a:lnTo>
                    <a:lnTo>
                      <a:pt x="15148" y="1474"/>
                    </a:lnTo>
                    <a:close/>
                  </a:path>
                </a:pathLst>
              </a:custGeom>
              <a:solidFill>
                <a:srgbClr val="ff7fb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386080" y="3162240"/>
                <a:ext cx="856080" cy="536760"/>
              </a:xfrm>
              <a:custGeom>
                <a:avLst/>
                <a:gdLst/>
                <a:ahLst/>
                <a:rect l="0" t="0" r="r" b="b"/>
                <a:pathLst>
                  <a:path w="2378" h="1491">
                    <a:moveTo>
                      <a:pt x="2378" y="0"/>
                    </a:moveTo>
                    <a:lnTo>
                      <a:pt x="2378" y="1491"/>
                    </a:lnTo>
                    <a:lnTo>
                      <a:pt x="0" y="1491"/>
                    </a:lnTo>
                    <a:lnTo>
                      <a:pt x="0" y="0"/>
                    </a:lnTo>
                    <a:lnTo>
                      <a:pt x="2378" y="0"/>
                    </a:lnTo>
                    <a:close/>
                  </a:path>
                </a:pathLst>
              </a:custGeom>
              <a:solidFill>
                <a:srgbClr val="5fff5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2386080" y="3968640"/>
                <a:ext cx="373320" cy="530640"/>
              </a:xfrm>
              <a:custGeom>
                <a:avLst/>
                <a:gdLst/>
                <a:ahLst/>
                <a:rect l="0" t="0" r="r" b="b"/>
                <a:pathLst>
                  <a:path w="1037" h="1474">
                    <a:moveTo>
                      <a:pt x="1037" y="0"/>
                    </a:moveTo>
                    <a:lnTo>
                      <a:pt x="1037" y="1474"/>
                    </a:lnTo>
                    <a:lnTo>
                      <a:pt x="0" y="1474"/>
                    </a:lnTo>
                    <a:lnTo>
                      <a:pt x="0" y="0"/>
                    </a:lnTo>
                    <a:lnTo>
                      <a:pt x="1037" y="0"/>
                    </a:lnTo>
                    <a:close/>
                  </a:path>
                </a:pathLst>
              </a:custGeom>
              <a:solidFill>
                <a:srgbClr val="4f7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2386080" y="2222640"/>
                <a:ext cx="0" cy="249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8" name=""/>
            <p:cNvSpPr txBox="1"/>
            <p:nvPr/>
          </p:nvSpPr>
          <p:spPr>
            <a:xfrm>
              <a:off x="781200" y="1525680"/>
              <a:ext cx="1628640" cy="638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c0128"/>
                  </a:solidFill>
                  <a:latin typeface="Arial"/>
                  <a:ea typeface="Arial"/>
                </a:rPr>
                <a:t>Depreciation </a:t>
              </a:r>
              <a:br>
                <a:rPr sz="1800"/>
              </a:br>
              <a:r>
                <a:rPr b="1" lang="en-US" sz="1800" spc="-1" strike="noStrike">
                  <a:solidFill>
                    <a:srgbClr val="fc0128"/>
                  </a:solidFill>
                  <a:latin typeface="Arial"/>
                  <a:ea typeface="Arial"/>
                </a:rPr>
                <a:t>Metho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2133720" y="914400"/>
            <a:ext cx="4605480" cy="10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838080" y="21337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Q.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ontrast the assumptions underlying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straight-line depreciation method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with the assumptions underlying th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roduction depreciation meth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A.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straight-line method assumes that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preciation is associated with the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passage of time, whereas the production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method assumes that depreciation is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ssociated with u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6705720" y="228600"/>
            <a:ext cx="1979640" cy="1903680"/>
            <a:chOff x="6705720" y="228600"/>
            <a:chExt cx="1979640" cy="1903680"/>
          </a:xfrm>
        </p:grpSpPr>
        <p:sp>
          <p:nvSpPr>
            <p:cNvPr id="402" name=""/>
            <p:cNvSpPr/>
            <p:nvPr/>
          </p:nvSpPr>
          <p:spPr>
            <a:xfrm>
              <a:off x="6711840" y="1162080"/>
              <a:ext cx="479880" cy="667080"/>
            </a:xfrm>
            <a:custGeom>
              <a:avLst/>
              <a:gdLst/>
              <a:ahLst/>
              <a:rect l="0" t="0" r="r" b="b"/>
              <a:pathLst>
                <a:path w="1333" h="1853">
                  <a:moveTo>
                    <a:pt x="534" y="0"/>
                  </a:moveTo>
                  <a:lnTo>
                    <a:pt x="464" y="79"/>
                  </a:lnTo>
                  <a:lnTo>
                    <a:pt x="464" y="321"/>
                  </a:lnTo>
                  <a:lnTo>
                    <a:pt x="534" y="498"/>
                  </a:lnTo>
                  <a:lnTo>
                    <a:pt x="613" y="586"/>
                  </a:lnTo>
                  <a:lnTo>
                    <a:pt x="494" y="705"/>
                  </a:lnTo>
                  <a:lnTo>
                    <a:pt x="336" y="975"/>
                  </a:lnTo>
                  <a:lnTo>
                    <a:pt x="26" y="1398"/>
                  </a:lnTo>
                  <a:lnTo>
                    <a:pt x="0" y="1500"/>
                  </a:lnTo>
                  <a:lnTo>
                    <a:pt x="26" y="1584"/>
                  </a:lnTo>
                  <a:lnTo>
                    <a:pt x="123" y="1584"/>
                  </a:lnTo>
                  <a:lnTo>
                    <a:pt x="202" y="1487"/>
                  </a:lnTo>
                  <a:lnTo>
                    <a:pt x="336" y="1248"/>
                  </a:lnTo>
                  <a:lnTo>
                    <a:pt x="411" y="1147"/>
                  </a:lnTo>
                  <a:lnTo>
                    <a:pt x="464" y="1306"/>
                  </a:lnTo>
                  <a:lnTo>
                    <a:pt x="428" y="1473"/>
                  </a:lnTo>
                  <a:lnTo>
                    <a:pt x="295" y="1716"/>
                  </a:lnTo>
                  <a:lnTo>
                    <a:pt x="336" y="1778"/>
                  </a:lnTo>
                  <a:lnTo>
                    <a:pt x="411" y="1760"/>
                  </a:lnTo>
                  <a:lnTo>
                    <a:pt x="578" y="1632"/>
                  </a:lnTo>
                  <a:lnTo>
                    <a:pt x="710" y="1416"/>
                  </a:lnTo>
                  <a:lnTo>
                    <a:pt x="710" y="1795"/>
                  </a:lnTo>
                  <a:lnTo>
                    <a:pt x="865" y="1853"/>
                  </a:lnTo>
                  <a:lnTo>
                    <a:pt x="962" y="1619"/>
                  </a:lnTo>
                  <a:lnTo>
                    <a:pt x="1047" y="1835"/>
                  </a:lnTo>
                  <a:lnTo>
                    <a:pt x="1108" y="1778"/>
                  </a:lnTo>
                  <a:lnTo>
                    <a:pt x="1139" y="1345"/>
                  </a:lnTo>
                  <a:lnTo>
                    <a:pt x="1333" y="940"/>
                  </a:lnTo>
                  <a:lnTo>
                    <a:pt x="1285" y="705"/>
                  </a:lnTo>
                  <a:lnTo>
                    <a:pt x="1157" y="617"/>
                  </a:lnTo>
                  <a:lnTo>
                    <a:pt x="1011" y="630"/>
                  </a:lnTo>
                  <a:lnTo>
                    <a:pt x="962" y="436"/>
                  </a:lnTo>
                  <a:lnTo>
                    <a:pt x="816" y="396"/>
                  </a:lnTo>
                  <a:lnTo>
                    <a:pt x="688" y="335"/>
                  </a:lnTo>
                  <a:lnTo>
                    <a:pt x="613" y="44"/>
                  </a:lnTo>
                  <a:lnTo>
                    <a:pt x="534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115040" y="1433520"/>
              <a:ext cx="141480" cy="322560"/>
            </a:xfrm>
            <a:custGeom>
              <a:avLst/>
              <a:gdLst/>
              <a:ahLst/>
              <a:rect l="0" t="0" r="r" b="b"/>
              <a:pathLst>
                <a:path w="393" h="896">
                  <a:moveTo>
                    <a:pt x="199" y="0"/>
                  </a:moveTo>
                  <a:lnTo>
                    <a:pt x="393" y="233"/>
                  </a:lnTo>
                  <a:lnTo>
                    <a:pt x="296" y="733"/>
                  </a:lnTo>
                  <a:lnTo>
                    <a:pt x="0" y="896"/>
                  </a:lnTo>
                  <a:lnTo>
                    <a:pt x="0" y="640"/>
                  </a:lnTo>
                  <a:lnTo>
                    <a:pt x="119" y="383"/>
                  </a:lnTo>
                  <a:lnTo>
                    <a:pt x="199" y="185"/>
                  </a:lnTo>
                  <a:lnTo>
                    <a:pt x="199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35920" y="1247760"/>
              <a:ext cx="354240" cy="290880"/>
            </a:xfrm>
            <a:custGeom>
              <a:avLst/>
              <a:gdLst/>
              <a:ahLst/>
              <a:rect l="0" t="0" r="r" b="b"/>
              <a:pathLst>
                <a:path w="984" h="808">
                  <a:moveTo>
                    <a:pt x="405" y="0"/>
                  </a:moveTo>
                  <a:lnTo>
                    <a:pt x="405" y="132"/>
                  </a:lnTo>
                  <a:lnTo>
                    <a:pt x="440" y="247"/>
                  </a:lnTo>
                  <a:lnTo>
                    <a:pt x="631" y="437"/>
                  </a:lnTo>
                  <a:lnTo>
                    <a:pt x="984" y="547"/>
                  </a:lnTo>
                  <a:lnTo>
                    <a:pt x="935" y="791"/>
                  </a:lnTo>
                  <a:lnTo>
                    <a:pt x="631" y="808"/>
                  </a:lnTo>
                  <a:lnTo>
                    <a:pt x="185" y="637"/>
                  </a:lnTo>
                  <a:lnTo>
                    <a:pt x="0" y="322"/>
                  </a:lnTo>
                  <a:lnTo>
                    <a:pt x="220" y="17"/>
                  </a:lnTo>
                  <a:lnTo>
                    <a:pt x="405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8177040" y="919080"/>
              <a:ext cx="495720" cy="640080"/>
            </a:xfrm>
            <a:custGeom>
              <a:avLst/>
              <a:gdLst/>
              <a:ahLst/>
              <a:rect l="0" t="0" r="r" b="b"/>
              <a:pathLst>
                <a:path w="1377" h="1778">
                  <a:moveTo>
                    <a:pt x="123" y="754"/>
                  </a:moveTo>
                  <a:lnTo>
                    <a:pt x="0" y="881"/>
                  </a:lnTo>
                  <a:lnTo>
                    <a:pt x="26" y="1169"/>
                  </a:lnTo>
                  <a:lnTo>
                    <a:pt x="216" y="1306"/>
                  </a:lnTo>
                  <a:lnTo>
                    <a:pt x="233" y="1742"/>
                  </a:lnTo>
                  <a:lnTo>
                    <a:pt x="428" y="1742"/>
                  </a:lnTo>
                  <a:lnTo>
                    <a:pt x="411" y="1376"/>
                  </a:lnTo>
                  <a:lnTo>
                    <a:pt x="556" y="1760"/>
                  </a:lnTo>
                  <a:lnTo>
                    <a:pt x="653" y="1778"/>
                  </a:lnTo>
                  <a:lnTo>
                    <a:pt x="724" y="1645"/>
                  </a:lnTo>
                  <a:lnTo>
                    <a:pt x="741" y="1403"/>
                  </a:lnTo>
                  <a:lnTo>
                    <a:pt x="949" y="1628"/>
                  </a:lnTo>
                  <a:lnTo>
                    <a:pt x="1032" y="1619"/>
                  </a:lnTo>
                  <a:lnTo>
                    <a:pt x="1010" y="1456"/>
                  </a:lnTo>
                  <a:lnTo>
                    <a:pt x="935" y="1231"/>
                  </a:lnTo>
                  <a:lnTo>
                    <a:pt x="852" y="1085"/>
                  </a:lnTo>
                  <a:lnTo>
                    <a:pt x="878" y="984"/>
                  </a:lnTo>
                  <a:lnTo>
                    <a:pt x="935" y="997"/>
                  </a:lnTo>
                  <a:lnTo>
                    <a:pt x="1126" y="1231"/>
                  </a:lnTo>
                  <a:lnTo>
                    <a:pt x="1329" y="1288"/>
                  </a:lnTo>
                  <a:lnTo>
                    <a:pt x="1377" y="1213"/>
                  </a:lnTo>
                  <a:lnTo>
                    <a:pt x="1346" y="1099"/>
                  </a:lnTo>
                  <a:lnTo>
                    <a:pt x="966" y="736"/>
                  </a:lnTo>
                  <a:lnTo>
                    <a:pt x="653" y="626"/>
                  </a:lnTo>
                  <a:lnTo>
                    <a:pt x="618" y="427"/>
                  </a:lnTo>
                  <a:lnTo>
                    <a:pt x="724" y="251"/>
                  </a:lnTo>
                  <a:lnTo>
                    <a:pt x="724" y="52"/>
                  </a:lnTo>
                  <a:lnTo>
                    <a:pt x="636" y="0"/>
                  </a:lnTo>
                  <a:lnTo>
                    <a:pt x="411" y="480"/>
                  </a:lnTo>
                  <a:lnTo>
                    <a:pt x="216" y="555"/>
                  </a:lnTo>
                  <a:lnTo>
                    <a:pt x="171" y="683"/>
                  </a:lnTo>
                  <a:lnTo>
                    <a:pt x="123" y="754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364520" y="365040"/>
              <a:ext cx="541800" cy="816480"/>
            </a:xfrm>
            <a:custGeom>
              <a:avLst/>
              <a:gdLst/>
              <a:ahLst/>
              <a:rect l="0" t="0" r="r" b="b"/>
              <a:pathLst>
                <a:path w="1505" h="2268">
                  <a:moveTo>
                    <a:pt x="380" y="313"/>
                  </a:moveTo>
                  <a:lnTo>
                    <a:pt x="264" y="750"/>
                  </a:lnTo>
                  <a:lnTo>
                    <a:pt x="17" y="834"/>
                  </a:lnTo>
                  <a:lnTo>
                    <a:pt x="83" y="975"/>
                  </a:lnTo>
                  <a:lnTo>
                    <a:pt x="0" y="1059"/>
                  </a:lnTo>
                  <a:lnTo>
                    <a:pt x="0" y="1218"/>
                  </a:lnTo>
                  <a:lnTo>
                    <a:pt x="119" y="1359"/>
                  </a:lnTo>
                  <a:lnTo>
                    <a:pt x="233" y="1359"/>
                  </a:lnTo>
                  <a:lnTo>
                    <a:pt x="313" y="1867"/>
                  </a:lnTo>
                  <a:lnTo>
                    <a:pt x="406" y="2083"/>
                  </a:lnTo>
                  <a:lnTo>
                    <a:pt x="719" y="2268"/>
                  </a:lnTo>
                  <a:lnTo>
                    <a:pt x="1024" y="2237"/>
                  </a:lnTo>
                  <a:lnTo>
                    <a:pt x="1170" y="1867"/>
                  </a:lnTo>
                  <a:lnTo>
                    <a:pt x="1205" y="1293"/>
                  </a:lnTo>
                  <a:lnTo>
                    <a:pt x="1505" y="1006"/>
                  </a:lnTo>
                  <a:lnTo>
                    <a:pt x="1492" y="891"/>
                  </a:lnTo>
                  <a:lnTo>
                    <a:pt x="1457" y="834"/>
                  </a:lnTo>
                  <a:lnTo>
                    <a:pt x="1298" y="821"/>
                  </a:lnTo>
                  <a:lnTo>
                    <a:pt x="1346" y="675"/>
                  </a:lnTo>
                  <a:lnTo>
                    <a:pt x="1192" y="574"/>
                  </a:lnTo>
                  <a:lnTo>
                    <a:pt x="1121" y="251"/>
                  </a:lnTo>
                  <a:lnTo>
                    <a:pt x="653" y="0"/>
                  </a:lnTo>
                  <a:lnTo>
                    <a:pt x="406" y="233"/>
                  </a:lnTo>
                  <a:lnTo>
                    <a:pt x="380" y="313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404120" y="1046160"/>
              <a:ext cx="495720" cy="978120"/>
            </a:xfrm>
            <a:custGeom>
              <a:avLst/>
              <a:gdLst/>
              <a:ahLst/>
              <a:rect l="0" t="0" r="r" b="b"/>
              <a:pathLst>
                <a:path w="1377" h="2717">
                  <a:moveTo>
                    <a:pt x="282" y="145"/>
                  </a:moveTo>
                  <a:lnTo>
                    <a:pt x="477" y="273"/>
                  </a:lnTo>
                  <a:lnTo>
                    <a:pt x="574" y="414"/>
                  </a:lnTo>
                  <a:lnTo>
                    <a:pt x="1126" y="0"/>
                  </a:lnTo>
                  <a:lnTo>
                    <a:pt x="1302" y="83"/>
                  </a:lnTo>
                  <a:lnTo>
                    <a:pt x="1377" y="511"/>
                  </a:lnTo>
                  <a:lnTo>
                    <a:pt x="979" y="1764"/>
                  </a:lnTo>
                  <a:lnTo>
                    <a:pt x="1104" y="2452"/>
                  </a:lnTo>
                  <a:lnTo>
                    <a:pt x="587" y="2717"/>
                  </a:lnTo>
                  <a:lnTo>
                    <a:pt x="180" y="2567"/>
                  </a:lnTo>
                  <a:lnTo>
                    <a:pt x="180" y="1839"/>
                  </a:lnTo>
                  <a:lnTo>
                    <a:pt x="0" y="1128"/>
                  </a:lnTo>
                  <a:lnTo>
                    <a:pt x="180" y="273"/>
                  </a:lnTo>
                  <a:lnTo>
                    <a:pt x="282" y="145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426440" y="254160"/>
              <a:ext cx="460800" cy="260640"/>
            </a:xfrm>
            <a:custGeom>
              <a:avLst/>
              <a:gdLst/>
              <a:ahLst/>
              <a:rect l="0" t="0" r="r" b="b"/>
              <a:pathLst>
                <a:path w="1280" h="724">
                  <a:moveTo>
                    <a:pt x="158" y="688"/>
                  </a:moveTo>
                  <a:lnTo>
                    <a:pt x="349" y="499"/>
                  </a:lnTo>
                  <a:lnTo>
                    <a:pt x="468" y="468"/>
                  </a:lnTo>
                  <a:lnTo>
                    <a:pt x="468" y="486"/>
                  </a:lnTo>
                  <a:lnTo>
                    <a:pt x="525" y="468"/>
                  </a:lnTo>
                  <a:lnTo>
                    <a:pt x="605" y="530"/>
                  </a:lnTo>
                  <a:lnTo>
                    <a:pt x="755" y="552"/>
                  </a:lnTo>
                  <a:lnTo>
                    <a:pt x="878" y="724"/>
                  </a:lnTo>
                  <a:lnTo>
                    <a:pt x="1077" y="653"/>
                  </a:lnTo>
                  <a:lnTo>
                    <a:pt x="1077" y="569"/>
                  </a:lnTo>
                  <a:lnTo>
                    <a:pt x="1280" y="486"/>
                  </a:lnTo>
                  <a:lnTo>
                    <a:pt x="1223" y="348"/>
                  </a:lnTo>
                  <a:lnTo>
                    <a:pt x="1029" y="335"/>
                  </a:lnTo>
                  <a:lnTo>
                    <a:pt x="1060" y="185"/>
                  </a:lnTo>
                  <a:lnTo>
                    <a:pt x="900" y="202"/>
                  </a:lnTo>
                  <a:lnTo>
                    <a:pt x="869" y="101"/>
                  </a:lnTo>
                  <a:lnTo>
                    <a:pt x="755" y="101"/>
                  </a:lnTo>
                  <a:lnTo>
                    <a:pt x="675" y="163"/>
                  </a:lnTo>
                  <a:lnTo>
                    <a:pt x="605" y="163"/>
                  </a:lnTo>
                  <a:lnTo>
                    <a:pt x="618" y="0"/>
                  </a:lnTo>
                  <a:lnTo>
                    <a:pt x="468" y="70"/>
                  </a:lnTo>
                  <a:lnTo>
                    <a:pt x="251" y="335"/>
                  </a:lnTo>
                  <a:lnTo>
                    <a:pt x="242" y="163"/>
                  </a:lnTo>
                  <a:lnTo>
                    <a:pt x="127" y="246"/>
                  </a:lnTo>
                  <a:lnTo>
                    <a:pt x="97" y="468"/>
                  </a:lnTo>
                  <a:lnTo>
                    <a:pt x="0" y="424"/>
                  </a:lnTo>
                  <a:lnTo>
                    <a:pt x="17" y="569"/>
                  </a:lnTo>
                  <a:lnTo>
                    <a:pt x="158" y="688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551720" y="1227240"/>
              <a:ext cx="146520" cy="738720"/>
            </a:xfrm>
            <a:custGeom>
              <a:avLst/>
              <a:gdLst/>
              <a:ahLst/>
              <a:rect l="0" t="0" r="r" b="b"/>
              <a:pathLst>
                <a:path w="407" h="2052">
                  <a:moveTo>
                    <a:pt x="208" y="13"/>
                  </a:moveTo>
                  <a:lnTo>
                    <a:pt x="70" y="101"/>
                  </a:lnTo>
                  <a:lnTo>
                    <a:pt x="70" y="268"/>
                  </a:lnTo>
                  <a:lnTo>
                    <a:pt x="168" y="330"/>
                  </a:lnTo>
                  <a:lnTo>
                    <a:pt x="39" y="600"/>
                  </a:lnTo>
                  <a:lnTo>
                    <a:pt x="0" y="962"/>
                  </a:lnTo>
                  <a:lnTo>
                    <a:pt x="101" y="1438"/>
                  </a:lnTo>
                  <a:lnTo>
                    <a:pt x="101" y="1638"/>
                  </a:lnTo>
                  <a:lnTo>
                    <a:pt x="48" y="1787"/>
                  </a:lnTo>
                  <a:lnTo>
                    <a:pt x="256" y="2052"/>
                  </a:lnTo>
                  <a:lnTo>
                    <a:pt x="394" y="1655"/>
                  </a:lnTo>
                  <a:lnTo>
                    <a:pt x="394" y="1376"/>
                  </a:lnTo>
                  <a:lnTo>
                    <a:pt x="292" y="1125"/>
                  </a:lnTo>
                  <a:lnTo>
                    <a:pt x="243" y="777"/>
                  </a:lnTo>
                  <a:lnTo>
                    <a:pt x="345" y="436"/>
                  </a:lnTo>
                  <a:lnTo>
                    <a:pt x="310" y="299"/>
                  </a:lnTo>
                  <a:lnTo>
                    <a:pt x="407" y="233"/>
                  </a:lnTo>
                  <a:lnTo>
                    <a:pt x="394" y="145"/>
                  </a:lnTo>
                  <a:lnTo>
                    <a:pt x="269" y="0"/>
                  </a:lnTo>
                  <a:lnTo>
                    <a:pt x="208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545240" y="979560"/>
              <a:ext cx="119520" cy="66960"/>
            </a:xfrm>
            <a:custGeom>
              <a:avLst/>
              <a:gdLst/>
              <a:ahLst/>
              <a:rect l="0" t="0" r="r" b="b"/>
              <a:pathLst>
                <a:path w="332" h="186">
                  <a:moveTo>
                    <a:pt x="0" y="52"/>
                  </a:moveTo>
                  <a:lnTo>
                    <a:pt x="133" y="186"/>
                  </a:lnTo>
                  <a:lnTo>
                    <a:pt x="266" y="168"/>
                  </a:lnTo>
                  <a:lnTo>
                    <a:pt x="332" y="17"/>
                  </a:lnTo>
                  <a:lnTo>
                    <a:pt x="181" y="0"/>
                  </a:lnTo>
                  <a:lnTo>
                    <a:pt x="35" y="17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415280" y="638280"/>
              <a:ext cx="147960" cy="144720"/>
            </a:xfrm>
            <a:custGeom>
              <a:avLst/>
              <a:gdLst/>
              <a:ahLst/>
              <a:rect l="0" t="0" r="r" b="b"/>
              <a:pathLst>
                <a:path w="411" h="402">
                  <a:moveTo>
                    <a:pt x="0" y="48"/>
                  </a:moveTo>
                  <a:lnTo>
                    <a:pt x="283" y="402"/>
                  </a:lnTo>
                  <a:lnTo>
                    <a:pt x="411" y="371"/>
                  </a:lnTo>
                  <a:lnTo>
                    <a:pt x="114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675560" y="606600"/>
              <a:ext cx="125640" cy="146520"/>
            </a:xfrm>
            <a:custGeom>
              <a:avLst/>
              <a:gdLst/>
              <a:ahLst/>
              <a:rect l="0" t="0" r="r" b="b"/>
              <a:pathLst>
                <a:path w="349" h="407">
                  <a:moveTo>
                    <a:pt x="0" y="61"/>
                  </a:moveTo>
                  <a:lnTo>
                    <a:pt x="239" y="407"/>
                  </a:lnTo>
                  <a:lnTo>
                    <a:pt x="349" y="319"/>
                  </a:lnTo>
                  <a:lnTo>
                    <a:pt x="97" y="0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361280" y="420840"/>
              <a:ext cx="516240" cy="362160"/>
            </a:xfrm>
            <a:custGeom>
              <a:avLst/>
              <a:gdLst/>
              <a:ahLst/>
              <a:rect l="0" t="0" r="r" b="b"/>
              <a:pathLst>
                <a:path w="1434" h="1006">
                  <a:moveTo>
                    <a:pt x="657" y="600"/>
                  </a:moveTo>
                  <a:lnTo>
                    <a:pt x="529" y="561"/>
                  </a:lnTo>
                  <a:lnTo>
                    <a:pt x="639" y="471"/>
                  </a:lnTo>
                  <a:lnTo>
                    <a:pt x="599" y="418"/>
                  </a:lnTo>
                  <a:lnTo>
                    <a:pt x="449" y="538"/>
                  </a:lnTo>
                  <a:lnTo>
                    <a:pt x="180" y="569"/>
                  </a:lnTo>
                  <a:lnTo>
                    <a:pt x="0" y="578"/>
                  </a:lnTo>
                  <a:lnTo>
                    <a:pt x="0" y="719"/>
                  </a:lnTo>
                  <a:lnTo>
                    <a:pt x="176" y="997"/>
                  </a:lnTo>
                  <a:lnTo>
                    <a:pt x="211" y="1006"/>
                  </a:lnTo>
                  <a:lnTo>
                    <a:pt x="61" y="697"/>
                  </a:lnTo>
                  <a:lnTo>
                    <a:pt x="299" y="600"/>
                  </a:lnTo>
                  <a:lnTo>
                    <a:pt x="449" y="600"/>
                  </a:lnTo>
                  <a:lnTo>
                    <a:pt x="568" y="658"/>
                  </a:lnTo>
                  <a:lnTo>
                    <a:pt x="599" y="741"/>
                  </a:lnTo>
                  <a:lnTo>
                    <a:pt x="599" y="940"/>
                  </a:lnTo>
                  <a:lnTo>
                    <a:pt x="599" y="997"/>
                  </a:lnTo>
                  <a:lnTo>
                    <a:pt x="665" y="909"/>
                  </a:lnTo>
                  <a:lnTo>
                    <a:pt x="665" y="710"/>
                  </a:lnTo>
                  <a:lnTo>
                    <a:pt x="772" y="710"/>
                  </a:lnTo>
                  <a:lnTo>
                    <a:pt x="816" y="940"/>
                  </a:lnTo>
                  <a:lnTo>
                    <a:pt x="874" y="953"/>
                  </a:lnTo>
                  <a:lnTo>
                    <a:pt x="1046" y="953"/>
                  </a:lnTo>
                  <a:lnTo>
                    <a:pt x="1226" y="918"/>
                  </a:lnTo>
                  <a:lnTo>
                    <a:pt x="1350" y="834"/>
                  </a:lnTo>
                  <a:lnTo>
                    <a:pt x="1368" y="622"/>
                  </a:lnTo>
                  <a:lnTo>
                    <a:pt x="1434" y="538"/>
                  </a:lnTo>
                  <a:lnTo>
                    <a:pt x="1390" y="489"/>
                  </a:lnTo>
                  <a:lnTo>
                    <a:pt x="1235" y="427"/>
                  </a:lnTo>
                  <a:lnTo>
                    <a:pt x="1209" y="224"/>
                  </a:lnTo>
                  <a:lnTo>
                    <a:pt x="1059" y="224"/>
                  </a:lnTo>
                  <a:lnTo>
                    <a:pt x="882" y="0"/>
                  </a:lnTo>
                  <a:lnTo>
                    <a:pt x="1041" y="251"/>
                  </a:lnTo>
                  <a:lnTo>
                    <a:pt x="1094" y="251"/>
                  </a:lnTo>
                  <a:lnTo>
                    <a:pt x="1129" y="418"/>
                  </a:lnTo>
                  <a:lnTo>
                    <a:pt x="927" y="489"/>
                  </a:lnTo>
                  <a:lnTo>
                    <a:pt x="781" y="436"/>
                  </a:lnTo>
                  <a:lnTo>
                    <a:pt x="759" y="489"/>
                  </a:lnTo>
                  <a:lnTo>
                    <a:pt x="834" y="538"/>
                  </a:lnTo>
                  <a:lnTo>
                    <a:pt x="834" y="591"/>
                  </a:lnTo>
                  <a:lnTo>
                    <a:pt x="1010" y="508"/>
                  </a:lnTo>
                  <a:lnTo>
                    <a:pt x="1151" y="502"/>
                  </a:lnTo>
                  <a:lnTo>
                    <a:pt x="1315" y="516"/>
                  </a:lnTo>
                  <a:lnTo>
                    <a:pt x="1315" y="547"/>
                  </a:lnTo>
                  <a:lnTo>
                    <a:pt x="1240" y="618"/>
                  </a:lnTo>
                  <a:lnTo>
                    <a:pt x="1209" y="710"/>
                  </a:lnTo>
                  <a:lnTo>
                    <a:pt x="1200" y="834"/>
                  </a:lnTo>
                  <a:lnTo>
                    <a:pt x="1107" y="878"/>
                  </a:lnTo>
                  <a:lnTo>
                    <a:pt x="966" y="896"/>
                  </a:lnTo>
                  <a:lnTo>
                    <a:pt x="874" y="896"/>
                  </a:lnTo>
                  <a:lnTo>
                    <a:pt x="838" y="856"/>
                  </a:lnTo>
                  <a:lnTo>
                    <a:pt x="816" y="622"/>
                  </a:lnTo>
                  <a:lnTo>
                    <a:pt x="665" y="622"/>
                  </a:lnTo>
                  <a:lnTo>
                    <a:pt x="657" y="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539120" y="838080"/>
              <a:ext cx="167040" cy="73440"/>
            </a:xfrm>
            <a:custGeom>
              <a:avLst/>
              <a:gdLst/>
              <a:ahLst/>
              <a:rect l="0" t="0" r="r" b="b"/>
              <a:pathLst>
                <a:path w="464" h="204">
                  <a:moveTo>
                    <a:pt x="0" y="0"/>
                  </a:moveTo>
                  <a:lnTo>
                    <a:pt x="74" y="93"/>
                  </a:lnTo>
                  <a:lnTo>
                    <a:pt x="278" y="93"/>
                  </a:lnTo>
                  <a:lnTo>
                    <a:pt x="358" y="30"/>
                  </a:lnTo>
                  <a:lnTo>
                    <a:pt x="464" y="30"/>
                  </a:lnTo>
                  <a:lnTo>
                    <a:pt x="446" y="58"/>
                  </a:lnTo>
                  <a:lnTo>
                    <a:pt x="446" y="93"/>
                  </a:lnTo>
                  <a:lnTo>
                    <a:pt x="256" y="204"/>
                  </a:lnTo>
                  <a:lnTo>
                    <a:pt x="154" y="204"/>
                  </a:lnTo>
                  <a:lnTo>
                    <a:pt x="97" y="160"/>
                  </a:lnTo>
                  <a:lnTo>
                    <a:pt x="44" y="1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2320" bIns="22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351560" y="719280"/>
              <a:ext cx="252720" cy="389160"/>
            </a:xfrm>
            <a:custGeom>
              <a:avLst/>
              <a:gdLst/>
              <a:ahLst/>
              <a:rect l="0" t="0" r="r" b="b"/>
              <a:pathLst>
                <a:path w="702" h="1081">
                  <a:moveTo>
                    <a:pt x="702" y="74"/>
                  </a:moveTo>
                  <a:lnTo>
                    <a:pt x="702" y="92"/>
                  </a:lnTo>
                  <a:lnTo>
                    <a:pt x="578" y="202"/>
                  </a:lnTo>
                  <a:lnTo>
                    <a:pt x="477" y="224"/>
                  </a:lnTo>
                  <a:lnTo>
                    <a:pt x="282" y="194"/>
                  </a:lnTo>
                  <a:lnTo>
                    <a:pt x="317" y="587"/>
                  </a:lnTo>
                  <a:lnTo>
                    <a:pt x="362" y="909"/>
                  </a:lnTo>
                  <a:lnTo>
                    <a:pt x="446" y="1081"/>
                  </a:lnTo>
                  <a:lnTo>
                    <a:pt x="362" y="953"/>
                  </a:lnTo>
                  <a:lnTo>
                    <a:pt x="326" y="816"/>
                  </a:lnTo>
                  <a:lnTo>
                    <a:pt x="273" y="458"/>
                  </a:lnTo>
                  <a:lnTo>
                    <a:pt x="216" y="480"/>
                  </a:lnTo>
                  <a:lnTo>
                    <a:pt x="149" y="436"/>
                  </a:lnTo>
                  <a:lnTo>
                    <a:pt x="17" y="246"/>
                  </a:lnTo>
                  <a:lnTo>
                    <a:pt x="0" y="141"/>
                  </a:lnTo>
                  <a:lnTo>
                    <a:pt x="0" y="61"/>
                  </a:lnTo>
                  <a:lnTo>
                    <a:pt x="30" y="22"/>
                  </a:lnTo>
                  <a:lnTo>
                    <a:pt x="110" y="0"/>
                  </a:lnTo>
                  <a:lnTo>
                    <a:pt x="119" y="30"/>
                  </a:lnTo>
                  <a:lnTo>
                    <a:pt x="57" y="52"/>
                  </a:lnTo>
                  <a:lnTo>
                    <a:pt x="44" y="132"/>
                  </a:lnTo>
                  <a:lnTo>
                    <a:pt x="52" y="233"/>
                  </a:lnTo>
                  <a:lnTo>
                    <a:pt x="141" y="321"/>
                  </a:lnTo>
                  <a:lnTo>
                    <a:pt x="180" y="299"/>
                  </a:lnTo>
                  <a:lnTo>
                    <a:pt x="180" y="105"/>
                  </a:lnTo>
                  <a:lnTo>
                    <a:pt x="264" y="149"/>
                  </a:lnTo>
                  <a:lnTo>
                    <a:pt x="393" y="171"/>
                  </a:lnTo>
                  <a:lnTo>
                    <a:pt x="512" y="163"/>
                  </a:lnTo>
                  <a:lnTo>
                    <a:pt x="622" y="105"/>
                  </a:lnTo>
                  <a:lnTo>
                    <a:pt x="702" y="7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421400" y="409680"/>
              <a:ext cx="74880" cy="208440"/>
            </a:xfrm>
            <a:custGeom>
              <a:avLst/>
              <a:gdLst/>
              <a:ahLst/>
              <a:rect l="0" t="0" r="r" b="b"/>
              <a:pathLst>
                <a:path w="208" h="579">
                  <a:moveTo>
                    <a:pt x="106" y="579"/>
                  </a:moveTo>
                  <a:lnTo>
                    <a:pt x="208" y="239"/>
                  </a:lnTo>
                  <a:lnTo>
                    <a:pt x="26" y="114"/>
                  </a:lnTo>
                  <a:lnTo>
                    <a:pt x="0" y="0"/>
                  </a:lnTo>
                  <a:lnTo>
                    <a:pt x="17" y="141"/>
                  </a:lnTo>
                  <a:lnTo>
                    <a:pt x="74" y="195"/>
                  </a:lnTo>
                  <a:lnTo>
                    <a:pt x="79" y="371"/>
                  </a:lnTo>
                  <a:lnTo>
                    <a:pt x="128" y="438"/>
                  </a:lnTo>
                  <a:lnTo>
                    <a:pt x="106" y="57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418520" y="228600"/>
              <a:ext cx="565560" cy="273240"/>
            </a:xfrm>
            <a:custGeom>
              <a:avLst/>
              <a:gdLst/>
              <a:ahLst/>
              <a:rect l="0" t="0" r="r" b="b"/>
              <a:pathLst>
                <a:path w="1571" h="759">
                  <a:moveTo>
                    <a:pt x="17" y="512"/>
                  </a:moveTo>
                  <a:lnTo>
                    <a:pt x="149" y="596"/>
                  </a:lnTo>
                  <a:lnTo>
                    <a:pt x="136" y="490"/>
                  </a:lnTo>
                  <a:lnTo>
                    <a:pt x="163" y="321"/>
                  </a:lnTo>
                  <a:lnTo>
                    <a:pt x="251" y="282"/>
                  </a:lnTo>
                  <a:lnTo>
                    <a:pt x="264" y="472"/>
                  </a:lnTo>
                  <a:lnTo>
                    <a:pt x="525" y="149"/>
                  </a:lnTo>
                  <a:lnTo>
                    <a:pt x="591" y="127"/>
                  </a:lnTo>
                  <a:lnTo>
                    <a:pt x="543" y="255"/>
                  </a:lnTo>
                  <a:lnTo>
                    <a:pt x="706" y="313"/>
                  </a:lnTo>
                  <a:lnTo>
                    <a:pt x="830" y="185"/>
                  </a:lnTo>
                  <a:lnTo>
                    <a:pt x="891" y="224"/>
                  </a:lnTo>
                  <a:lnTo>
                    <a:pt x="838" y="335"/>
                  </a:lnTo>
                  <a:lnTo>
                    <a:pt x="913" y="273"/>
                  </a:lnTo>
                  <a:lnTo>
                    <a:pt x="1032" y="321"/>
                  </a:lnTo>
                  <a:lnTo>
                    <a:pt x="935" y="411"/>
                  </a:lnTo>
                  <a:lnTo>
                    <a:pt x="1263" y="472"/>
                  </a:lnTo>
                  <a:lnTo>
                    <a:pt x="1041" y="534"/>
                  </a:lnTo>
                  <a:lnTo>
                    <a:pt x="1311" y="574"/>
                  </a:lnTo>
                  <a:lnTo>
                    <a:pt x="993" y="644"/>
                  </a:lnTo>
                  <a:lnTo>
                    <a:pt x="1063" y="706"/>
                  </a:lnTo>
                  <a:lnTo>
                    <a:pt x="966" y="759"/>
                  </a:lnTo>
                  <a:lnTo>
                    <a:pt x="1134" y="759"/>
                  </a:lnTo>
                  <a:lnTo>
                    <a:pt x="1116" y="710"/>
                  </a:lnTo>
                  <a:lnTo>
                    <a:pt x="1289" y="755"/>
                  </a:lnTo>
                  <a:lnTo>
                    <a:pt x="1263" y="631"/>
                  </a:lnTo>
                  <a:lnTo>
                    <a:pt x="1417" y="583"/>
                  </a:lnTo>
                  <a:lnTo>
                    <a:pt x="1302" y="521"/>
                  </a:lnTo>
                  <a:lnTo>
                    <a:pt x="1571" y="503"/>
                  </a:lnTo>
                  <a:lnTo>
                    <a:pt x="1342" y="380"/>
                  </a:lnTo>
                  <a:lnTo>
                    <a:pt x="1076" y="357"/>
                  </a:lnTo>
                  <a:lnTo>
                    <a:pt x="1289" y="233"/>
                  </a:lnTo>
                  <a:lnTo>
                    <a:pt x="913" y="233"/>
                  </a:lnTo>
                  <a:lnTo>
                    <a:pt x="1090" y="114"/>
                  </a:lnTo>
                  <a:lnTo>
                    <a:pt x="821" y="149"/>
                  </a:lnTo>
                  <a:lnTo>
                    <a:pt x="693" y="202"/>
                  </a:lnTo>
                  <a:lnTo>
                    <a:pt x="803" y="0"/>
                  </a:lnTo>
                  <a:lnTo>
                    <a:pt x="477" y="114"/>
                  </a:lnTo>
                  <a:lnTo>
                    <a:pt x="291" y="366"/>
                  </a:lnTo>
                  <a:lnTo>
                    <a:pt x="264" y="224"/>
                  </a:lnTo>
                  <a:lnTo>
                    <a:pt x="114" y="321"/>
                  </a:lnTo>
                  <a:lnTo>
                    <a:pt x="97" y="503"/>
                  </a:lnTo>
                  <a:lnTo>
                    <a:pt x="0" y="472"/>
                  </a:lnTo>
                  <a:lnTo>
                    <a:pt x="35" y="631"/>
                  </a:lnTo>
                  <a:lnTo>
                    <a:pt x="17" y="51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542360" y="372960"/>
              <a:ext cx="159120" cy="82800"/>
            </a:xfrm>
            <a:custGeom>
              <a:avLst/>
              <a:gdLst/>
              <a:ahLst/>
              <a:rect l="0" t="0" r="r" b="b"/>
              <a:pathLst>
                <a:path w="442" h="230">
                  <a:moveTo>
                    <a:pt x="0" y="230"/>
                  </a:moveTo>
                  <a:lnTo>
                    <a:pt x="168" y="0"/>
                  </a:lnTo>
                  <a:lnTo>
                    <a:pt x="168" y="155"/>
                  </a:lnTo>
                  <a:lnTo>
                    <a:pt x="225" y="88"/>
                  </a:lnTo>
                  <a:lnTo>
                    <a:pt x="278" y="177"/>
                  </a:lnTo>
                  <a:lnTo>
                    <a:pt x="442" y="217"/>
                  </a:lnTo>
                  <a:lnTo>
                    <a:pt x="269" y="186"/>
                  </a:lnTo>
                  <a:lnTo>
                    <a:pt x="212" y="133"/>
                  </a:lnTo>
                  <a:lnTo>
                    <a:pt x="142" y="186"/>
                  </a:lnTo>
                  <a:lnTo>
                    <a:pt x="142" y="120"/>
                  </a:lnTo>
                  <a:lnTo>
                    <a:pt x="0" y="23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526160" y="933480"/>
              <a:ext cx="192600" cy="122760"/>
            </a:xfrm>
            <a:custGeom>
              <a:avLst/>
              <a:gdLst/>
              <a:ahLst/>
              <a:rect l="0" t="0" r="r" b="b"/>
              <a:pathLst>
                <a:path w="535" h="341">
                  <a:moveTo>
                    <a:pt x="101" y="120"/>
                  </a:moveTo>
                  <a:lnTo>
                    <a:pt x="318" y="102"/>
                  </a:lnTo>
                  <a:lnTo>
                    <a:pt x="425" y="128"/>
                  </a:lnTo>
                  <a:lnTo>
                    <a:pt x="482" y="74"/>
                  </a:lnTo>
                  <a:lnTo>
                    <a:pt x="535" y="186"/>
                  </a:lnTo>
                  <a:lnTo>
                    <a:pt x="495" y="208"/>
                  </a:lnTo>
                  <a:lnTo>
                    <a:pt x="456" y="172"/>
                  </a:lnTo>
                  <a:lnTo>
                    <a:pt x="380" y="247"/>
                  </a:lnTo>
                  <a:lnTo>
                    <a:pt x="252" y="341"/>
                  </a:lnTo>
                  <a:lnTo>
                    <a:pt x="186" y="341"/>
                  </a:lnTo>
                  <a:lnTo>
                    <a:pt x="101" y="288"/>
                  </a:lnTo>
                  <a:lnTo>
                    <a:pt x="199" y="332"/>
                  </a:lnTo>
                  <a:lnTo>
                    <a:pt x="239" y="332"/>
                  </a:lnTo>
                  <a:lnTo>
                    <a:pt x="318" y="275"/>
                  </a:lnTo>
                  <a:lnTo>
                    <a:pt x="375" y="159"/>
                  </a:lnTo>
                  <a:lnTo>
                    <a:pt x="287" y="142"/>
                  </a:lnTo>
                  <a:lnTo>
                    <a:pt x="234" y="128"/>
                  </a:lnTo>
                  <a:lnTo>
                    <a:pt x="88" y="150"/>
                  </a:lnTo>
                  <a:lnTo>
                    <a:pt x="83" y="239"/>
                  </a:lnTo>
                  <a:lnTo>
                    <a:pt x="44" y="177"/>
                  </a:lnTo>
                  <a:lnTo>
                    <a:pt x="0" y="262"/>
                  </a:lnTo>
                  <a:lnTo>
                    <a:pt x="4" y="89"/>
                  </a:lnTo>
                  <a:lnTo>
                    <a:pt x="52" y="0"/>
                  </a:lnTo>
                  <a:lnTo>
                    <a:pt x="101" y="89"/>
                  </a:lnTo>
                  <a:lnTo>
                    <a:pt x="101" y="12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502400" y="668160"/>
              <a:ext cx="411480" cy="565560"/>
            </a:xfrm>
            <a:custGeom>
              <a:avLst/>
              <a:gdLst/>
              <a:ahLst/>
              <a:rect l="0" t="0" r="r" b="b"/>
              <a:pathLst>
                <a:path w="1143" h="1571">
                  <a:moveTo>
                    <a:pt x="966" y="0"/>
                  </a:moveTo>
                  <a:lnTo>
                    <a:pt x="1076" y="0"/>
                  </a:lnTo>
                  <a:lnTo>
                    <a:pt x="1143" y="74"/>
                  </a:lnTo>
                  <a:lnTo>
                    <a:pt x="1143" y="163"/>
                  </a:lnTo>
                  <a:lnTo>
                    <a:pt x="1050" y="406"/>
                  </a:lnTo>
                  <a:lnTo>
                    <a:pt x="957" y="525"/>
                  </a:lnTo>
                  <a:lnTo>
                    <a:pt x="860" y="543"/>
                  </a:lnTo>
                  <a:lnTo>
                    <a:pt x="834" y="543"/>
                  </a:lnTo>
                  <a:lnTo>
                    <a:pt x="834" y="852"/>
                  </a:lnTo>
                  <a:lnTo>
                    <a:pt x="874" y="1076"/>
                  </a:lnTo>
                  <a:lnTo>
                    <a:pt x="874" y="1263"/>
                  </a:lnTo>
                  <a:lnTo>
                    <a:pt x="706" y="1443"/>
                  </a:lnTo>
                  <a:lnTo>
                    <a:pt x="467" y="1571"/>
                  </a:lnTo>
                  <a:lnTo>
                    <a:pt x="313" y="1571"/>
                  </a:lnTo>
                  <a:lnTo>
                    <a:pt x="242" y="1532"/>
                  </a:lnTo>
                  <a:lnTo>
                    <a:pt x="136" y="1316"/>
                  </a:lnTo>
                  <a:lnTo>
                    <a:pt x="39" y="1241"/>
                  </a:lnTo>
                  <a:lnTo>
                    <a:pt x="0" y="1183"/>
                  </a:lnTo>
                  <a:lnTo>
                    <a:pt x="127" y="1263"/>
                  </a:lnTo>
                  <a:lnTo>
                    <a:pt x="220" y="1338"/>
                  </a:lnTo>
                  <a:lnTo>
                    <a:pt x="401" y="1351"/>
                  </a:lnTo>
                  <a:lnTo>
                    <a:pt x="568" y="1276"/>
                  </a:lnTo>
                  <a:lnTo>
                    <a:pt x="653" y="1183"/>
                  </a:lnTo>
                  <a:lnTo>
                    <a:pt x="746" y="1024"/>
                  </a:lnTo>
                  <a:lnTo>
                    <a:pt x="763" y="838"/>
                  </a:lnTo>
                  <a:lnTo>
                    <a:pt x="799" y="233"/>
                  </a:lnTo>
                  <a:lnTo>
                    <a:pt x="838" y="317"/>
                  </a:lnTo>
                  <a:lnTo>
                    <a:pt x="953" y="207"/>
                  </a:lnTo>
                  <a:lnTo>
                    <a:pt x="1068" y="163"/>
                  </a:lnTo>
                  <a:lnTo>
                    <a:pt x="1094" y="97"/>
                  </a:lnTo>
                  <a:lnTo>
                    <a:pt x="1085" y="39"/>
                  </a:lnTo>
                  <a:lnTo>
                    <a:pt x="1032" y="8"/>
                  </a:lnTo>
                  <a:lnTo>
                    <a:pt x="966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864480" y="1155600"/>
              <a:ext cx="332280" cy="522720"/>
            </a:xfrm>
            <a:custGeom>
              <a:avLst/>
              <a:gdLst/>
              <a:ahLst/>
              <a:rect l="0" t="0" r="r" b="b"/>
              <a:pathLst>
                <a:path w="923" h="1452">
                  <a:moveTo>
                    <a:pt x="114" y="0"/>
                  </a:moveTo>
                  <a:lnTo>
                    <a:pt x="220" y="61"/>
                  </a:lnTo>
                  <a:lnTo>
                    <a:pt x="300" y="361"/>
                  </a:lnTo>
                  <a:lnTo>
                    <a:pt x="538" y="428"/>
                  </a:lnTo>
                  <a:lnTo>
                    <a:pt x="609" y="503"/>
                  </a:lnTo>
                  <a:lnTo>
                    <a:pt x="618" y="618"/>
                  </a:lnTo>
                  <a:lnTo>
                    <a:pt x="738" y="600"/>
                  </a:lnTo>
                  <a:lnTo>
                    <a:pt x="875" y="693"/>
                  </a:lnTo>
                  <a:lnTo>
                    <a:pt x="923" y="812"/>
                  </a:lnTo>
                  <a:lnTo>
                    <a:pt x="923" y="1015"/>
                  </a:lnTo>
                  <a:lnTo>
                    <a:pt x="738" y="1324"/>
                  </a:lnTo>
                  <a:lnTo>
                    <a:pt x="671" y="1452"/>
                  </a:lnTo>
                  <a:lnTo>
                    <a:pt x="707" y="1289"/>
                  </a:lnTo>
                  <a:lnTo>
                    <a:pt x="671" y="1219"/>
                  </a:lnTo>
                  <a:lnTo>
                    <a:pt x="556" y="1113"/>
                  </a:lnTo>
                  <a:lnTo>
                    <a:pt x="380" y="988"/>
                  </a:lnTo>
                  <a:lnTo>
                    <a:pt x="596" y="1063"/>
                  </a:lnTo>
                  <a:lnTo>
                    <a:pt x="725" y="1157"/>
                  </a:lnTo>
                  <a:lnTo>
                    <a:pt x="786" y="1144"/>
                  </a:lnTo>
                  <a:lnTo>
                    <a:pt x="831" y="1091"/>
                  </a:lnTo>
                  <a:lnTo>
                    <a:pt x="875" y="944"/>
                  </a:lnTo>
                  <a:lnTo>
                    <a:pt x="866" y="799"/>
                  </a:lnTo>
                  <a:lnTo>
                    <a:pt x="795" y="719"/>
                  </a:lnTo>
                  <a:lnTo>
                    <a:pt x="680" y="693"/>
                  </a:lnTo>
                  <a:lnTo>
                    <a:pt x="556" y="693"/>
                  </a:lnTo>
                  <a:lnTo>
                    <a:pt x="516" y="477"/>
                  </a:lnTo>
                  <a:lnTo>
                    <a:pt x="314" y="402"/>
                  </a:lnTo>
                  <a:lnTo>
                    <a:pt x="314" y="468"/>
                  </a:lnTo>
                  <a:lnTo>
                    <a:pt x="220" y="308"/>
                  </a:lnTo>
                  <a:lnTo>
                    <a:pt x="171" y="61"/>
                  </a:lnTo>
                  <a:lnTo>
                    <a:pt x="88" y="44"/>
                  </a:lnTo>
                  <a:lnTo>
                    <a:pt x="48" y="114"/>
                  </a:lnTo>
                  <a:lnTo>
                    <a:pt x="48" y="277"/>
                  </a:lnTo>
                  <a:lnTo>
                    <a:pt x="79" y="468"/>
                  </a:lnTo>
                  <a:lnTo>
                    <a:pt x="189" y="618"/>
                  </a:lnTo>
                  <a:lnTo>
                    <a:pt x="70" y="521"/>
                  </a:lnTo>
                  <a:lnTo>
                    <a:pt x="13" y="361"/>
                  </a:lnTo>
                  <a:lnTo>
                    <a:pt x="0" y="154"/>
                  </a:lnTo>
                  <a:lnTo>
                    <a:pt x="48" y="44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705720" y="1386000"/>
              <a:ext cx="219600" cy="417960"/>
            </a:xfrm>
            <a:custGeom>
              <a:avLst/>
              <a:gdLst/>
              <a:ahLst/>
              <a:rect l="0" t="0" r="r" b="b"/>
              <a:pathLst>
                <a:path w="610" h="1161">
                  <a:moveTo>
                    <a:pt x="610" y="0"/>
                  </a:moveTo>
                  <a:lnTo>
                    <a:pt x="482" y="74"/>
                  </a:lnTo>
                  <a:lnTo>
                    <a:pt x="336" y="362"/>
                  </a:lnTo>
                  <a:lnTo>
                    <a:pt x="190" y="543"/>
                  </a:lnTo>
                  <a:lnTo>
                    <a:pt x="17" y="763"/>
                  </a:lnTo>
                  <a:lnTo>
                    <a:pt x="0" y="879"/>
                  </a:lnTo>
                  <a:lnTo>
                    <a:pt x="35" y="980"/>
                  </a:lnTo>
                  <a:lnTo>
                    <a:pt x="119" y="980"/>
                  </a:lnTo>
                  <a:lnTo>
                    <a:pt x="234" y="879"/>
                  </a:lnTo>
                  <a:lnTo>
                    <a:pt x="322" y="671"/>
                  </a:lnTo>
                  <a:lnTo>
                    <a:pt x="446" y="543"/>
                  </a:lnTo>
                  <a:lnTo>
                    <a:pt x="446" y="706"/>
                  </a:lnTo>
                  <a:lnTo>
                    <a:pt x="428" y="865"/>
                  </a:lnTo>
                  <a:lnTo>
                    <a:pt x="300" y="1069"/>
                  </a:lnTo>
                  <a:lnTo>
                    <a:pt x="300" y="1130"/>
                  </a:lnTo>
                  <a:lnTo>
                    <a:pt x="428" y="1161"/>
                  </a:lnTo>
                  <a:lnTo>
                    <a:pt x="336" y="1108"/>
                  </a:lnTo>
                  <a:lnTo>
                    <a:pt x="349" y="1069"/>
                  </a:lnTo>
                  <a:lnTo>
                    <a:pt x="437" y="914"/>
                  </a:lnTo>
                  <a:lnTo>
                    <a:pt x="504" y="644"/>
                  </a:lnTo>
                  <a:lnTo>
                    <a:pt x="460" y="486"/>
                  </a:lnTo>
                  <a:lnTo>
                    <a:pt x="362" y="583"/>
                  </a:lnTo>
                  <a:lnTo>
                    <a:pt x="145" y="923"/>
                  </a:lnTo>
                  <a:lnTo>
                    <a:pt x="83" y="936"/>
                  </a:lnTo>
                  <a:lnTo>
                    <a:pt x="35" y="901"/>
                  </a:lnTo>
                  <a:lnTo>
                    <a:pt x="35" y="794"/>
                  </a:lnTo>
                  <a:lnTo>
                    <a:pt x="119" y="658"/>
                  </a:lnTo>
                  <a:lnTo>
                    <a:pt x="362" y="371"/>
                  </a:lnTo>
                  <a:lnTo>
                    <a:pt x="504" y="105"/>
                  </a:lnTo>
                  <a:lnTo>
                    <a:pt x="61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867360" y="1622520"/>
              <a:ext cx="136800" cy="201960"/>
            </a:xfrm>
            <a:custGeom>
              <a:avLst/>
              <a:gdLst/>
              <a:ahLst/>
              <a:rect l="0" t="0" r="r" b="b"/>
              <a:pathLst>
                <a:path w="380" h="561">
                  <a:moveTo>
                    <a:pt x="0" y="499"/>
                  </a:moveTo>
                  <a:lnTo>
                    <a:pt x="123" y="353"/>
                  </a:lnTo>
                  <a:lnTo>
                    <a:pt x="149" y="207"/>
                  </a:lnTo>
                  <a:lnTo>
                    <a:pt x="296" y="0"/>
                  </a:lnTo>
                  <a:lnTo>
                    <a:pt x="322" y="141"/>
                  </a:lnTo>
                  <a:lnTo>
                    <a:pt x="305" y="508"/>
                  </a:lnTo>
                  <a:lnTo>
                    <a:pt x="380" y="561"/>
                  </a:lnTo>
                  <a:lnTo>
                    <a:pt x="269" y="516"/>
                  </a:lnTo>
                  <a:lnTo>
                    <a:pt x="212" y="309"/>
                  </a:lnTo>
                  <a:lnTo>
                    <a:pt x="123" y="411"/>
                  </a:lnTo>
                  <a:lnTo>
                    <a:pt x="0" y="49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034040" y="1633680"/>
              <a:ext cx="90720" cy="179640"/>
            </a:xfrm>
            <a:custGeom>
              <a:avLst/>
              <a:gdLst/>
              <a:ahLst/>
              <a:rect l="0" t="0" r="r" b="b"/>
              <a:pathLst>
                <a:path w="252" h="499">
                  <a:moveTo>
                    <a:pt x="0" y="371"/>
                  </a:moveTo>
                  <a:lnTo>
                    <a:pt x="13" y="189"/>
                  </a:lnTo>
                  <a:lnTo>
                    <a:pt x="61" y="79"/>
                  </a:lnTo>
                  <a:lnTo>
                    <a:pt x="123" y="472"/>
                  </a:lnTo>
                  <a:lnTo>
                    <a:pt x="199" y="472"/>
                  </a:lnTo>
                  <a:lnTo>
                    <a:pt x="234" y="52"/>
                  </a:lnTo>
                  <a:lnTo>
                    <a:pt x="252" y="0"/>
                  </a:lnTo>
                  <a:lnTo>
                    <a:pt x="234" y="327"/>
                  </a:lnTo>
                  <a:lnTo>
                    <a:pt x="199" y="499"/>
                  </a:lnTo>
                  <a:lnTo>
                    <a:pt x="97" y="499"/>
                  </a:lnTo>
                  <a:lnTo>
                    <a:pt x="57" y="149"/>
                  </a:lnTo>
                  <a:lnTo>
                    <a:pt x="30" y="202"/>
                  </a:lnTo>
                  <a:lnTo>
                    <a:pt x="0" y="37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175600" y="923760"/>
              <a:ext cx="217800" cy="481320"/>
            </a:xfrm>
            <a:custGeom>
              <a:avLst/>
              <a:gdLst/>
              <a:ahLst/>
              <a:rect l="0" t="0" r="r" b="b"/>
              <a:pathLst>
                <a:path w="605" h="1337">
                  <a:moveTo>
                    <a:pt x="158" y="728"/>
                  </a:moveTo>
                  <a:lnTo>
                    <a:pt x="202" y="511"/>
                  </a:lnTo>
                  <a:lnTo>
                    <a:pt x="411" y="463"/>
                  </a:lnTo>
                  <a:lnTo>
                    <a:pt x="605" y="0"/>
                  </a:lnTo>
                  <a:lnTo>
                    <a:pt x="605" y="136"/>
                  </a:lnTo>
                  <a:lnTo>
                    <a:pt x="437" y="489"/>
                  </a:lnTo>
                  <a:lnTo>
                    <a:pt x="220" y="555"/>
                  </a:lnTo>
                  <a:lnTo>
                    <a:pt x="189" y="728"/>
                  </a:lnTo>
                  <a:lnTo>
                    <a:pt x="268" y="728"/>
                  </a:lnTo>
                  <a:lnTo>
                    <a:pt x="79" y="799"/>
                  </a:lnTo>
                  <a:lnTo>
                    <a:pt x="35" y="944"/>
                  </a:lnTo>
                  <a:lnTo>
                    <a:pt x="48" y="1125"/>
                  </a:lnTo>
                  <a:lnTo>
                    <a:pt x="246" y="1337"/>
                  </a:lnTo>
                  <a:lnTo>
                    <a:pt x="35" y="1151"/>
                  </a:lnTo>
                  <a:lnTo>
                    <a:pt x="0" y="993"/>
                  </a:lnTo>
                  <a:lnTo>
                    <a:pt x="17" y="838"/>
                  </a:lnTo>
                  <a:lnTo>
                    <a:pt x="88" y="728"/>
                  </a:lnTo>
                  <a:lnTo>
                    <a:pt x="158" y="72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323200" y="923760"/>
              <a:ext cx="362160" cy="466920"/>
            </a:xfrm>
            <a:custGeom>
              <a:avLst/>
              <a:gdLst/>
              <a:ahLst/>
              <a:rect l="0" t="0" r="r" b="b"/>
              <a:pathLst>
                <a:path w="1006" h="1297">
                  <a:moveTo>
                    <a:pt x="277" y="0"/>
                  </a:moveTo>
                  <a:lnTo>
                    <a:pt x="339" y="44"/>
                  </a:lnTo>
                  <a:lnTo>
                    <a:pt x="357" y="154"/>
                  </a:lnTo>
                  <a:lnTo>
                    <a:pt x="357" y="255"/>
                  </a:lnTo>
                  <a:lnTo>
                    <a:pt x="246" y="440"/>
                  </a:lnTo>
                  <a:lnTo>
                    <a:pt x="268" y="582"/>
                  </a:lnTo>
                  <a:lnTo>
                    <a:pt x="605" y="728"/>
                  </a:lnTo>
                  <a:lnTo>
                    <a:pt x="997" y="1138"/>
                  </a:lnTo>
                  <a:lnTo>
                    <a:pt x="1006" y="1248"/>
                  </a:lnTo>
                  <a:lnTo>
                    <a:pt x="984" y="1297"/>
                  </a:lnTo>
                  <a:lnTo>
                    <a:pt x="838" y="1297"/>
                  </a:lnTo>
                  <a:lnTo>
                    <a:pt x="706" y="1222"/>
                  </a:lnTo>
                  <a:lnTo>
                    <a:pt x="600" y="1085"/>
                  </a:lnTo>
                  <a:lnTo>
                    <a:pt x="538" y="1010"/>
                  </a:lnTo>
                  <a:lnTo>
                    <a:pt x="467" y="997"/>
                  </a:lnTo>
                  <a:lnTo>
                    <a:pt x="552" y="997"/>
                  </a:lnTo>
                  <a:lnTo>
                    <a:pt x="719" y="1209"/>
                  </a:lnTo>
                  <a:lnTo>
                    <a:pt x="931" y="1266"/>
                  </a:lnTo>
                  <a:lnTo>
                    <a:pt x="971" y="1209"/>
                  </a:lnTo>
                  <a:lnTo>
                    <a:pt x="953" y="1112"/>
                  </a:lnTo>
                  <a:lnTo>
                    <a:pt x="583" y="812"/>
                  </a:lnTo>
                  <a:lnTo>
                    <a:pt x="530" y="728"/>
                  </a:lnTo>
                  <a:lnTo>
                    <a:pt x="246" y="658"/>
                  </a:lnTo>
                  <a:lnTo>
                    <a:pt x="194" y="728"/>
                  </a:lnTo>
                  <a:lnTo>
                    <a:pt x="0" y="852"/>
                  </a:lnTo>
                  <a:lnTo>
                    <a:pt x="180" y="706"/>
                  </a:lnTo>
                  <a:lnTo>
                    <a:pt x="194" y="617"/>
                  </a:lnTo>
                  <a:lnTo>
                    <a:pt x="194" y="410"/>
                  </a:lnTo>
                  <a:lnTo>
                    <a:pt x="321" y="255"/>
                  </a:lnTo>
                  <a:lnTo>
                    <a:pt x="321" y="52"/>
                  </a:lnTo>
                  <a:lnTo>
                    <a:pt x="27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8255160" y="1290600"/>
              <a:ext cx="309960" cy="276480"/>
            </a:xfrm>
            <a:custGeom>
              <a:avLst/>
              <a:gdLst/>
              <a:ahLst/>
              <a:rect l="0" t="0" r="r" b="b"/>
              <a:pathLst>
                <a:path w="861" h="768">
                  <a:moveTo>
                    <a:pt x="650" y="0"/>
                  </a:moveTo>
                  <a:lnTo>
                    <a:pt x="622" y="61"/>
                  </a:lnTo>
                  <a:lnTo>
                    <a:pt x="751" y="317"/>
                  </a:lnTo>
                  <a:lnTo>
                    <a:pt x="813" y="583"/>
                  </a:lnTo>
                  <a:lnTo>
                    <a:pt x="742" y="583"/>
                  </a:lnTo>
                  <a:lnTo>
                    <a:pt x="613" y="468"/>
                  </a:lnTo>
                  <a:lnTo>
                    <a:pt x="494" y="224"/>
                  </a:lnTo>
                  <a:lnTo>
                    <a:pt x="406" y="185"/>
                  </a:lnTo>
                  <a:lnTo>
                    <a:pt x="419" y="317"/>
                  </a:lnTo>
                  <a:lnTo>
                    <a:pt x="503" y="411"/>
                  </a:lnTo>
                  <a:lnTo>
                    <a:pt x="503" y="600"/>
                  </a:lnTo>
                  <a:lnTo>
                    <a:pt x="441" y="728"/>
                  </a:lnTo>
                  <a:lnTo>
                    <a:pt x="362" y="680"/>
                  </a:lnTo>
                  <a:lnTo>
                    <a:pt x="265" y="468"/>
                  </a:lnTo>
                  <a:lnTo>
                    <a:pt x="243" y="317"/>
                  </a:lnTo>
                  <a:lnTo>
                    <a:pt x="185" y="273"/>
                  </a:lnTo>
                  <a:lnTo>
                    <a:pt x="171" y="649"/>
                  </a:lnTo>
                  <a:lnTo>
                    <a:pt x="88" y="706"/>
                  </a:lnTo>
                  <a:lnTo>
                    <a:pt x="22" y="649"/>
                  </a:lnTo>
                  <a:lnTo>
                    <a:pt x="13" y="330"/>
                  </a:lnTo>
                  <a:lnTo>
                    <a:pt x="0" y="640"/>
                  </a:lnTo>
                  <a:lnTo>
                    <a:pt x="57" y="755"/>
                  </a:lnTo>
                  <a:lnTo>
                    <a:pt x="171" y="755"/>
                  </a:lnTo>
                  <a:lnTo>
                    <a:pt x="207" y="666"/>
                  </a:lnTo>
                  <a:lnTo>
                    <a:pt x="230" y="379"/>
                  </a:lnTo>
                  <a:lnTo>
                    <a:pt x="252" y="494"/>
                  </a:lnTo>
                  <a:lnTo>
                    <a:pt x="349" y="737"/>
                  </a:lnTo>
                  <a:lnTo>
                    <a:pt x="450" y="768"/>
                  </a:lnTo>
                  <a:lnTo>
                    <a:pt x="534" y="666"/>
                  </a:lnTo>
                  <a:lnTo>
                    <a:pt x="534" y="424"/>
                  </a:lnTo>
                  <a:lnTo>
                    <a:pt x="742" y="622"/>
                  </a:lnTo>
                  <a:lnTo>
                    <a:pt x="848" y="622"/>
                  </a:lnTo>
                  <a:lnTo>
                    <a:pt x="861" y="494"/>
                  </a:lnTo>
                  <a:lnTo>
                    <a:pt x="782" y="251"/>
                  </a:lnTo>
                  <a:lnTo>
                    <a:pt x="650" y="52"/>
                  </a:lnTo>
                  <a:lnTo>
                    <a:pt x="65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008840" y="1003320"/>
              <a:ext cx="1373400" cy="1128960"/>
            </a:xfrm>
            <a:custGeom>
              <a:avLst/>
              <a:gdLst/>
              <a:ahLst/>
              <a:rect l="0" t="0" r="r" b="b"/>
              <a:pathLst>
                <a:path w="3815" h="3136">
                  <a:moveTo>
                    <a:pt x="1375" y="268"/>
                  </a:moveTo>
                  <a:lnTo>
                    <a:pt x="1300" y="277"/>
                  </a:lnTo>
                  <a:lnTo>
                    <a:pt x="1195" y="432"/>
                  </a:lnTo>
                  <a:lnTo>
                    <a:pt x="1159" y="317"/>
                  </a:lnTo>
                  <a:lnTo>
                    <a:pt x="1036" y="255"/>
                  </a:lnTo>
                  <a:lnTo>
                    <a:pt x="948" y="299"/>
                  </a:lnTo>
                  <a:lnTo>
                    <a:pt x="908" y="502"/>
                  </a:lnTo>
                  <a:lnTo>
                    <a:pt x="564" y="754"/>
                  </a:lnTo>
                  <a:lnTo>
                    <a:pt x="586" y="859"/>
                  </a:lnTo>
                  <a:lnTo>
                    <a:pt x="507" y="952"/>
                  </a:lnTo>
                  <a:lnTo>
                    <a:pt x="507" y="1036"/>
                  </a:lnTo>
                  <a:lnTo>
                    <a:pt x="604" y="1274"/>
                  </a:lnTo>
                  <a:lnTo>
                    <a:pt x="612" y="1565"/>
                  </a:lnTo>
                  <a:lnTo>
                    <a:pt x="546" y="1839"/>
                  </a:lnTo>
                  <a:lnTo>
                    <a:pt x="299" y="2003"/>
                  </a:lnTo>
                  <a:lnTo>
                    <a:pt x="268" y="2223"/>
                  </a:lnTo>
                  <a:lnTo>
                    <a:pt x="189" y="2223"/>
                  </a:lnTo>
                  <a:lnTo>
                    <a:pt x="154" y="2042"/>
                  </a:lnTo>
                  <a:lnTo>
                    <a:pt x="79" y="2042"/>
                  </a:lnTo>
                  <a:lnTo>
                    <a:pt x="48" y="2236"/>
                  </a:lnTo>
                  <a:lnTo>
                    <a:pt x="0" y="2294"/>
                  </a:lnTo>
                  <a:lnTo>
                    <a:pt x="167" y="2558"/>
                  </a:lnTo>
                  <a:lnTo>
                    <a:pt x="286" y="2571"/>
                  </a:lnTo>
                  <a:lnTo>
                    <a:pt x="507" y="2770"/>
                  </a:lnTo>
                  <a:lnTo>
                    <a:pt x="701" y="2796"/>
                  </a:lnTo>
                  <a:lnTo>
                    <a:pt x="811" y="2690"/>
                  </a:lnTo>
                  <a:lnTo>
                    <a:pt x="1071" y="2302"/>
                  </a:lnTo>
                  <a:lnTo>
                    <a:pt x="1093" y="2827"/>
                  </a:lnTo>
                  <a:lnTo>
                    <a:pt x="1071" y="3136"/>
                  </a:lnTo>
                  <a:lnTo>
                    <a:pt x="3277" y="3136"/>
                  </a:lnTo>
                  <a:lnTo>
                    <a:pt x="3114" y="2796"/>
                  </a:lnTo>
                  <a:lnTo>
                    <a:pt x="3039" y="2510"/>
                  </a:lnTo>
                  <a:lnTo>
                    <a:pt x="3017" y="2073"/>
                  </a:lnTo>
                  <a:lnTo>
                    <a:pt x="3145" y="2174"/>
                  </a:lnTo>
                  <a:lnTo>
                    <a:pt x="3277" y="2174"/>
                  </a:lnTo>
                  <a:lnTo>
                    <a:pt x="3458" y="2060"/>
                  </a:lnTo>
                  <a:lnTo>
                    <a:pt x="3577" y="2042"/>
                  </a:lnTo>
                  <a:lnTo>
                    <a:pt x="3652" y="1928"/>
                  </a:lnTo>
                  <a:lnTo>
                    <a:pt x="3705" y="1628"/>
                  </a:lnTo>
                  <a:lnTo>
                    <a:pt x="3815" y="1512"/>
                  </a:lnTo>
                  <a:lnTo>
                    <a:pt x="3762" y="1419"/>
                  </a:lnTo>
                  <a:lnTo>
                    <a:pt x="3674" y="1419"/>
                  </a:lnTo>
                  <a:lnTo>
                    <a:pt x="3612" y="1481"/>
                  </a:lnTo>
                  <a:lnTo>
                    <a:pt x="3546" y="1499"/>
                  </a:lnTo>
                  <a:lnTo>
                    <a:pt x="3471" y="1419"/>
                  </a:lnTo>
                  <a:lnTo>
                    <a:pt x="3374" y="1406"/>
                  </a:lnTo>
                  <a:lnTo>
                    <a:pt x="3202" y="1296"/>
                  </a:lnTo>
                  <a:lnTo>
                    <a:pt x="3092" y="1177"/>
                  </a:lnTo>
                  <a:lnTo>
                    <a:pt x="3074" y="1036"/>
                  </a:lnTo>
                  <a:lnTo>
                    <a:pt x="3092" y="899"/>
                  </a:lnTo>
                  <a:lnTo>
                    <a:pt x="3167" y="784"/>
                  </a:lnTo>
                  <a:lnTo>
                    <a:pt x="3259" y="683"/>
                  </a:lnTo>
                  <a:lnTo>
                    <a:pt x="3250" y="502"/>
                  </a:lnTo>
                  <a:lnTo>
                    <a:pt x="3250" y="374"/>
                  </a:lnTo>
                  <a:lnTo>
                    <a:pt x="3202" y="277"/>
                  </a:lnTo>
                  <a:lnTo>
                    <a:pt x="3074" y="238"/>
                  </a:lnTo>
                  <a:lnTo>
                    <a:pt x="3030" y="211"/>
                  </a:lnTo>
                  <a:lnTo>
                    <a:pt x="2942" y="57"/>
                  </a:lnTo>
                  <a:lnTo>
                    <a:pt x="2862" y="13"/>
                  </a:lnTo>
                  <a:lnTo>
                    <a:pt x="2783" y="0"/>
                  </a:lnTo>
                  <a:lnTo>
                    <a:pt x="2717" y="30"/>
                  </a:lnTo>
                  <a:lnTo>
                    <a:pt x="2660" y="110"/>
                  </a:lnTo>
                  <a:lnTo>
                    <a:pt x="2576" y="163"/>
                  </a:lnTo>
                  <a:lnTo>
                    <a:pt x="2483" y="171"/>
                  </a:lnTo>
                  <a:lnTo>
                    <a:pt x="2377" y="171"/>
                  </a:lnTo>
                  <a:lnTo>
                    <a:pt x="2399" y="330"/>
                  </a:lnTo>
                  <a:lnTo>
                    <a:pt x="2399" y="520"/>
                  </a:lnTo>
                  <a:lnTo>
                    <a:pt x="2377" y="652"/>
                  </a:lnTo>
                  <a:lnTo>
                    <a:pt x="2285" y="811"/>
                  </a:lnTo>
                  <a:lnTo>
                    <a:pt x="2166" y="1045"/>
                  </a:lnTo>
                  <a:lnTo>
                    <a:pt x="2073" y="1327"/>
                  </a:lnTo>
                  <a:lnTo>
                    <a:pt x="2064" y="1499"/>
                  </a:lnTo>
                  <a:lnTo>
                    <a:pt x="2016" y="1641"/>
                  </a:lnTo>
                  <a:lnTo>
                    <a:pt x="1963" y="1786"/>
                  </a:lnTo>
                  <a:lnTo>
                    <a:pt x="1936" y="2011"/>
                  </a:lnTo>
                  <a:lnTo>
                    <a:pt x="1950" y="2201"/>
                  </a:lnTo>
                  <a:lnTo>
                    <a:pt x="2016" y="2421"/>
                  </a:lnTo>
                  <a:lnTo>
                    <a:pt x="2064" y="2510"/>
                  </a:lnTo>
                  <a:lnTo>
                    <a:pt x="1936" y="2589"/>
                  </a:lnTo>
                  <a:lnTo>
                    <a:pt x="1777" y="2638"/>
                  </a:lnTo>
                  <a:lnTo>
                    <a:pt x="1613" y="2651"/>
                  </a:lnTo>
                  <a:lnTo>
                    <a:pt x="1508" y="2651"/>
                  </a:lnTo>
                  <a:lnTo>
                    <a:pt x="1437" y="2629"/>
                  </a:lnTo>
                  <a:lnTo>
                    <a:pt x="1437" y="2435"/>
                  </a:lnTo>
                  <a:lnTo>
                    <a:pt x="1437" y="2161"/>
                  </a:lnTo>
                  <a:lnTo>
                    <a:pt x="1397" y="1888"/>
                  </a:lnTo>
                  <a:lnTo>
                    <a:pt x="1327" y="1641"/>
                  </a:lnTo>
                  <a:lnTo>
                    <a:pt x="1292" y="1446"/>
                  </a:lnTo>
                  <a:lnTo>
                    <a:pt x="1283" y="1168"/>
                  </a:lnTo>
                  <a:lnTo>
                    <a:pt x="1327" y="926"/>
                  </a:lnTo>
                  <a:lnTo>
                    <a:pt x="1397" y="727"/>
                  </a:lnTo>
                  <a:lnTo>
                    <a:pt x="1402" y="617"/>
                  </a:lnTo>
                  <a:lnTo>
                    <a:pt x="1375" y="449"/>
                  </a:lnTo>
                  <a:lnTo>
                    <a:pt x="1375" y="317"/>
                  </a:lnTo>
                  <a:lnTo>
                    <a:pt x="1397" y="277"/>
                  </a:lnTo>
                  <a:lnTo>
                    <a:pt x="1375" y="26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543800" y="1230480"/>
              <a:ext cx="173520" cy="732240"/>
            </a:xfrm>
            <a:custGeom>
              <a:avLst/>
              <a:gdLst/>
              <a:ahLst/>
              <a:rect l="0" t="0" r="r" b="b"/>
              <a:pathLst>
                <a:path w="482" h="2034">
                  <a:moveTo>
                    <a:pt x="190" y="26"/>
                  </a:moveTo>
                  <a:lnTo>
                    <a:pt x="61" y="88"/>
                  </a:lnTo>
                  <a:lnTo>
                    <a:pt x="74" y="282"/>
                  </a:lnTo>
                  <a:lnTo>
                    <a:pt x="168" y="343"/>
                  </a:lnTo>
                  <a:lnTo>
                    <a:pt x="52" y="556"/>
                  </a:lnTo>
                  <a:lnTo>
                    <a:pt x="0" y="794"/>
                  </a:lnTo>
                  <a:lnTo>
                    <a:pt x="0" y="1019"/>
                  </a:lnTo>
                  <a:lnTo>
                    <a:pt x="52" y="1222"/>
                  </a:lnTo>
                  <a:lnTo>
                    <a:pt x="101" y="1465"/>
                  </a:lnTo>
                  <a:lnTo>
                    <a:pt x="101" y="1611"/>
                  </a:lnTo>
                  <a:lnTo>
                    <a:pt x="52" y="1783"/>
                  </a:lnTo>
                  <a:lnTo>
                    <a:pt x="247" y="2034"/>
                  </a:lnTo>
                  <a:lnTo>
                    <a:pt x="331" y="1990"/>
                  </a:lnTo>
                  <a:lnTo>
                    <a:pt x="385" y="1823"/>
                  </a:lnTo>
                  <a:lnTo>
                    <a:pt x="473" y="1598"/>
                  </a:lnTo>
                  <a:lnTo>
                    <a:pt x="482" y="1478"/>
                  </a:lnTo>
                  <a:lnTo>
                    <a:pt x="407" y="1253"/>
                  </a:lnTo>
                  <a:lnTo>
                    <a:pt x="318" y="1037"/>
                  </a:lnTo>
                  <a:lnTo>
                    <a:pt x="283" y="887"/>
                  </a:lnTo>
                  <a:lnTo>
                    <a:pt x="283" y="737"/>
                  </a:lnTo>
                  <a:lnTo>
                    <a:pt x="318" y="605"/>
                  </a:lnTo>
                  <a:lnTo>
                    <a:pt x="385" y="445"/>
                  </a:lnTo>
                  <a:lnTo>
                    <a:pt x="385" y="374"/>
                  </a:lnTo>
                  <a:lnTo>
                    <a:pt x="349" y="313"/>
                  </a:lnTo>
                  <a:lnTo>
                    <a:pt x="438" y="233"/>
                  </a:lnTo>
                  <a:lnTo>
                    <a:pt x="438" y="158"/>
                  </a:lnTo>
                  <a:lnTo>
                    <a:pt x="318" y="0"/>
                  </a:lnTo>
                  <a:lnTo>
                    <a:pt x="420" y="158"/>
                  </a:lnTo>
                  <a:lnTo>
                    <a:pt x="420" y="220"/>
                  </a:lnTo>
                  <a:lnTo>
                    <a:pt x="331" y="282"/>
                  </a:lnTo>
                  <a:lnTo>
                    <a:pt x="363" y="374"/>
                  </a:lnTo>
                  <a:lnTo>
                    <a:pt x="349" y="445"/>
                  </a:lnTo>
                  <a:lnTo>
                    <a:pt x="261" y="631"/>
                  </a:lnTo>
                  <a:lnTo>
                    <a:pt x="247" y="812"/>
                  </a:lnTo>
                  <a:lnTo>
                    <a:pt x="269" y="988"/>
                  </a:lnTo>
                  <a:lnTo>
                    <a:pt x="331" y="1235"/>
                  </a:lnTo>
                  <a:lnTo>
                    <a:pt x="407" y="1429"/>
                  </a:lnTo>
                  <a:lnTo>
                    <a:pt x="407" y="1585"/>
                  </a:lnTo>
                  <a:lnTo>
                    <a:pt x="363" y="1783"/>
                  </a:lnTo>
                  <a:lnTo>
                    <a:pt x="269" y="1990"/>
                  </a:lnTo>
                  <a:lnTo>
                    <a:pt x="155" y="1880"/>
                  </a:lnTo>
                  <a:lnTo>
                    <a:pt x="114" y="1783"/>
                  </a:lnTo>
                  <a:lnTo>
                    <a:pt x="124" y="1585"/>
                  </a:lnTo>
                  <a:lnTo>
                    <a:pt x="114" y="1385"/>
                  </a:lnTo>
                  <a:lnTo>
                    <a:pt x="52" y="1121"/>
                  </a:lnTo>
                  <a:lnTo>
                    <a:pt x="35" y="931"/>
                  </a:lnTo>
                  <a:lnTo>
                    <a:pt x="52" y="724"/>
                  </a:lnTo>
                  <a:lnTo>
                    <a:pt x="101" y="525"/>
                  </a:lnTo>
                  <a:lnTo>
                    <a:pt x="203" y="326"/>
                  </a:lnTo>
                  <a:lnTo>
                    <a:pt x="114" y="246"/>
                  </a:lnTo>
                  <a:lnTo>
                    <a:pt x="101" y="101"/>
                  </a:lnTo>
                  <a:lnTo>
                    <a:pt x="190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039160" y="372960"/>
              <a:ext cx="273240" cy="357480"/>
            </a:xfrm>
            <a:custGeom>
              <a:avLst/>
              <a:gdLst/>
              <a:ahLst/>
              <a:rect l="0" t="0" r="r" b="b"/>
              <a:pathLst>
                <a:path w="759" h="993">
                  <a:moveTo>
                    <a:pt x="127" y="255"/>
                  </a:moveTo>
                  <a:lnTo>
                    <a:pt x="238" y="233"/>
                  </a:lnTo>
                  <a:lnTo>
                    <a:pt x="348" y="242"/>
                  </a:lnTo>
                  <a:lnTo>
                    <a:pt x="437" y="277"/>
                  </a:lnTo>
                  <a:lnTo>
                    <a:pt x="486" y="335"/>
                  </a:lnTo>
                  <a:lnTo>
                    <a:pt x="508" y="388"/>
                  </a:lnTo>
                  <a:lnTo>
                    <a:pt x="508" y="436"/>
                  </a:lnTo>
                  <a:lnTo>
                    <a:pt x="481" y="471"/>
                  </a:lnTo>
                  <a:lnTo>
                    <a:pt x="433" y="499"/>
                  </a:lnTo>
                  <a:lnTo>
                    <a:pt x="380" y="499"/>
                  </a:lnTo>
                  <a:lnTo>
                    <a:pt x="308" y="485"/>
                  </a:lnTo>
                  <a:lnTo>
                    <a:pt x="242" y="440"/>
                  </a:lnTo>
                  <a:lnTo>
                    <a:pt x="189" y="401"/>
                  </a:lnTo>
                  <a:lnTo>
                    <a:pt x="167" y="530"/>
                  </a:lnTo>
                  <a:lnTo>
                    <a:pt x="127" y="618"/>
                  </a:lnTo>
                  <a:lnTo>
                    <a:pt x="0" y="830"/>
                  </a:lnTo>
                  <a:lnTo>
                    <a:pt x="180" y="993"/>
                  </a:lnTo>
                  <a:lnTo>
                    <a:pt x="321" y="719"/>
                  </a:lnTo>
                  <a:lnTo>
                    <a:pt x="481" y="746"/>
                  </a:lnTo>
                  <a:lnTo>
                    <a:pt x="583" y="724"/>
                  </a:lnTo>
                  <a:lnTo>
                    <a:pt x="675" y="666"/>
                  </a:lnTo>
                  <a:lnTo>
                    <a:pt x="728" y="591"/>
                  </a:lnTo>
                  <a:lnTo>
                    <a:pt x="759" y="489"/>
                  </a:lnTo>
                  <a:lnTo>
                    <a:pt x="759" y="383"/>
                  </a:lnTo>
                  <a:lnTo>
                    <a:pt x="728" y="268"/>
                  </a:lnTo>
                  <a:lnTo>
                    <a:pt x="671" y="154"/>
                  </a:lnTo>
                  <a:lnTo>
                    <a:pt x="591" y="66"/>
                  </a:lnTo>
                  <a:lnTo>
                    <a:pt x="494" y="26"/>
                  </a:lnTo>
                  <a:lnTo>
                    <a:pt x="384" y="0"/>
                  </a:lnTo>
                  <a:lnTo>
                    <a:pt x="251" y="0"/>
                  </a:lnTo>
                  <a:lnTo>
                    <a:pt x="101" y="30"/>
                  </a:lnTo>
                  <a:lnTo>
                    <a:pt x="127" y="255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989840" y="720720"/>
              <a:ext cx="97200" cy="70200"/>
            </a:xfrm>
            <a:custGeom>
              <a:avLst/>
              <a:gdLst/>
              <a:ahLst/>
              <a:rect l="0" t="0" r="r" b="b"/>
              <a:pathLst>
                <a:path w="270" h="195">
                  <a:moveTo>
                    <a:pt x="106" y="0"/>
                  </a:moveTo>
                  <a:lnTo>
                    <a:pt x="39" y="0"/>
                  </a:lnTo>
                  <a:lnTo>
                    <a:pt x="0" y="30"/>
                  </a:lnTo>
                  <a:lnTo>
                    <a:pt x="0" y="98"/>
                  </a:lnTo>
                  <a:lnTo>
                    <a:pt x="52" y="164"/>
                  </a:lnTo>
                  <a:lnTo>
                    <a:pt x="164" y="195"/>
                  </a:lnTo>
                  <a:lnTo>
                    <a:pt x="244" y="190"/>
                  </a:lnTo>
                  <a:lnTo>
                    <a:pt x="270" y="150"/>
                  </a:lnTo>
                  <a:lnTo>
                    <a:pt x="257" y="106"/>
                  </a:lnTo>
                  <a:lnTo>
                    <a:pt x="222" y="48"/>
                  </a:lnTo>
                  <a:lnTo>
                    <a:pt x="150" y="8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1981080" y="274320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5 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count for the disposal of depreciable assets not involving exchang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1371600" y="1143000"/>
            <a:ext cx="69343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posal of Depreciable Asse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63640" cy="703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990720" y="380880"/>
            <a:ext cx="7748640" cy="9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epreciation for Partial Yea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914400" y="1295280"/>
            <a:ext cx="796284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t is necessary to record depreciation expense for the partial year up to the date of dispos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Sept. 30  Depreciation Expense,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Machiner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4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Accumulated Depreciation,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Machiner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 4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To record depreciation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up to date of disposal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$6,500 - $500 / 10 x 9/12 = $4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1066680" y="4572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arded Plant Asse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838080" y="1676520"/>
            <a:ext cx="807732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Sept. 30   Accumulated Depreciation,  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Machiner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4,6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Loss on Disposal of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Machiner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1,8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Machiner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6,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Discarded machine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      no longer used in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      the busi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990720" y="457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lant Assets Sold for Cash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No Gain or Lo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609480" y="2057400"/>
            <a:ext cx="853452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Sept. 30   Cash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1,8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Accumulated Depreciation,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Machiner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4,6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Machiner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6,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Sale of machine for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     carrying value,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     no gain or lo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1600200" y="2895480"/>
            <a:ext cx="685800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1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dentify the types of long-term assets and explain the management issues related to accounting for th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295280" y="609480"/>
            <a:ext cx="71629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Management Issues Related to Accounting for Long-Term Asse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63640" cy="703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990720" y="3808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lant Assets Sold for Cash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Loss Record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609480" y="198108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Sept. 30   Cash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1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Accumulated Depreciation,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Machiner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   4,6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Loss on Sale of Machiner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8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Machiner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6,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Sale of machine at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       less than carrying value;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       loss of $850 ($1,850 - $1,000)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       recor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1066680" y="457200"/>
            <a:ext cx="7604280" cy="14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lant Assets Sold for Cash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Gain Record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60948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Sept. 30   Cash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Accumulated Depreciation,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Machiner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4,6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Gain on Sale of Machiner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       1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Machinery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6,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Sale of machine at more than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    carrying value; gain of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    $150 ($2,000 - $1,850)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    recor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 txBox="1"/>
          <p:nvPr/>
        </p:nvSpPr>
        <p:spPr>
          <a:xfrm>
            <a:off x="2971800" y="990720"/>
            <a:ext cx="4343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838080" y="220968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f a plant asset is discarded befor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end of its useful life, how is th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mount of loss measur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f a plant asset is discarded befor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end of its useful life, th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mount of loss is equal to it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rrying value (cost les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cumulated depreciation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838080" y="228600"/>
            <a:ext cx="1903680" cy="1903680"/>
            <a:chOff x="838080" y="228600"/>
            <a:chExt cx="1903680" cy="1903680"/>
          </a:xfrm>
        </p:grpSpPr>
        <p:sp>
          <p:nvSpPr>
            <p:cNvPr id="448" name=""/>
            <p:cNvSpPr/>
            <p:nvPr/>
          </p:nvSpPr>
          <p:spPr>
            <a:xfrm>
              <a:off x="843120" y="1162080"/>
              <a:ext cx="462240" cy="667080"/>
            </a:xfrm>
            <a:custGeom>
              <a:avLst/>
              <a:gdLst/>
              <a:ahLst/>
              <a:rect l="0" t="0" r="r" b="b"/>
              <a:pathLst>
                <a:path w="1284" h="1853">
                  <a:moveTo>
                    <a:pt x="515" y="0"/>
                  </a:moveTo>
                  <a:lnTo>
                    <a:pt x="445" y="79"/>
                  </a:lnTo>
                  <a:lnTo>
                    <a:pt x="445" y="321"/>
                  </a:lnTo>
                  <a:lnTo>
                    <a:pt x="515" y="498"/>
                  </a:lnTo>
                  <a:lnTo>
                    <a:pt x="586" y="586"/>
                  </a:lnTo>
                  <a:lnTo>
                    <a:pt x="471" y="705"/>
                  </a:lnTo>
                  <a:lnTo>
                    <a:pt x="321" y="975"/>
                  </a:lnTo>
                  <a:lnTo>
                    <a:pt x="26" y="1403"/>
                  </a:lnTo>
                  <a:lnTo>
                    <a:pt x="0" y="1500"/>
                  </a:lnTo>
                  <a:lnTo>
                    <a:pt x="26" y="1588"/>
                  </a:lnTo>
                  <a:lnTo>
                    <a:pt x="119" y="1588"/>
                  </a:lnTo>
                  <a:lnTo>
                    <a:pt x="194" y="1487"/>
                  </a:lnTo>
                  <a:lnTo>
                    <a:pt x="321" y="1248"/>
                  </a:lnTo>
                  <a:lnTo>
                    <a:pt x="401" y="1147"/>
                  </a:lnTo>
                  <a:lnTo>
                    <a:pt x="445" y="1306"/>
                  </a:lnTo>
                  <a:lnTo>
                    <a:pt x="414" y="1473"/>
                  </a:lnTo>
                  <a:lnTo>
                    <a:pt x="286" y="1716"/>
                  </a:lnTo>
                  <a:lnTo>
                    <a:pt x="321" y="1778"/>
                  </a:lnTo>
                  <a:lnTo>
                    <a:pt x="401" y="1760"/>
                  </a:lnTo>
                  <a:lnTo>
                    <a:pt x="555" y="1632"/>
                  </a:lnTo>
                  <a:lnTo>
                    <a:pt x="684" y="1416"/>
                  </a:lnTo>
                  <a:lnTo>
                    <a:pt x="684" y="1791"/>
                  </a:lnTo>
                  <a:lnTo>
                    <a:pt x="838" y="1853"/>
                  </a:lnTo>
                  <a:lnTo>
                    <a:pt x="927" y="1623"/>
                  </a:lnTo>
                  <a:lnTo>
                    <a:pt x="1006" y="1839"/>
                  </a:lnTo>
                  <a:lnTo>
                    <a:pt x="1068" y="1778"/>
                  </a:lnTo>
                  <a:lnTo>
                    <a:pt x="1094" y="1345"/>
                  </a:lnTo>
                  <a:lnTo>
                    <a:pt x="1284" y="940"/>
                  </a:lnTo>
                  <a:lnTo>
                    <a:pt x="1244" y="705"/>
                  </a:lnTo>
                  <a:lnTo>
                    <a:pt x="1107" y="617"/>
                  </a:lnTo>
                  <a:lnTo>
                    <a:pt x="975" y="630"/>
                  </a:lnTo>
                  <a:lnTo>
                    <a:pt x="927" y="436"/>
                  </a:lnTo>
                  <a:lnTo>
                    <a:pt x="785" y="396"/>
                  </a:lnTo>
                  <a:lnTo>
                    <a:pt x="662" y="335"/>
                  </a:lnTo>
                  <a:lnTo>
                    <a:pt x="586" y="44"/>
                  </a:lnTo>
                  <a:lnTo>
                    <a:pt x="515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231920" y="1433520"/>
              <a:ext cx="135360" cy="321120"/>
            </a:xfrm>
            <a:custGeom>
              <a:avLst/>
              <a:gdLst/>
              <a:ahLst/>
              <a:rect l="0" t="0" r="r" b="b"/>
              <a:pathLst>
                <a:path w="376" h="892">
                  <a:moveTo>
                    <a:pt x="186" y="0"/>
                  </a:moveTo>
                  <a:lnTo>
                    <a:pt x="376" y="230"/>
                  </a:lnTo>
                  <a:lnTo>
                    <a:pt x="284" y="734"/>
                  </a:lnTo>
                  <a:lnTo>
                    <a:pt x="0" y="892"/>
                  </a:lnTo>
                  <a:lnTo>
                    <a:pt x="0" y="636"/>
                  </a:lnTo>
                  <a:lnTo>
                    <a:pt x="115" y="380"/>
                  </a:lnTo>
                  <a:lnTo>
                    <a:pt x="186" y="185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116080" y="1247760"/>
              <a:ext cx="341640" cy="290880"/>
            </a:xfrm>
            <a:custGeom>
              <a:avLst/>
              <a:gdLst/>
              <a:ahLst/>
              <a:rect l="0" t="0" r="r" b="b"/>
              <a:pathLst>
                <a:path w="949" h="808">
                  <a:moveTo>
                    <a:pt x="392" y="0"/>
                  </a:moveTo>
                  <a:lnTo>
                    <a:pt x="392" y="127"/>
                  </a:lnTo>
                  <a:lnTo>
                    <a:pt x="423" y="247"/>
                  </a:lnTo>
                  <a:lnTo>
                    <a:pt x="609" y="437"/>
                  </a:lnTo>
                  <a:lnTo>
                    <a:pt x="949" y="547"/>
                  </a:lnTo>
                  <a:lnTo>
                    <a:pt x="904" y="795"/>
                  </a:lnTo>
                  <a:lnTo>
                    <a:pt x="609" y="808"/>
                  </a:lnTo>
                  <a:lnTo>
                    <a:pt x="180" y="637"/>
                  </a:lnTo>
                  <a:lnTo>
                    <a:pt x="0" y="322"/>
                  </a:lnTo>
                  <a:lnTo>
                    <a:pt x="211" y="13"/>
                  </a:lnTo>
                  <a:lnTo>
                    <a:pt x="392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254320" y="919080"/>
              <a:ext cx="476640" cy="640080"/>
            </a:xfrm>
            <a:custGeom>
              <a:avLst/>
              <a:gdLst/>
              <a:ahLst/>
              <a:rect l="0" t="0" r="r" b="b"/>
              <a:pathLst>
                <a:path w="1324" h="1778">
                  <a:moveTo>
                    <a:pt x="119" y="754"/>
                  </a:moveTo>
                  <a:lnTo>
                    <a:pt x="0" y="881"/>
                  </a:lnTo>
                  <a:lnTo>
                    <a:pt x="26" y="1169"/>
                  </a:lnTo>
                  <a:lnTo>
                    <a:pt x="211" y="1301"/>
                  </a:lnTo>
                  <a:lnTo>
                    <a:pt x="224" y="1742"/>
                  </a:lnTo>
                  <a:lnTo>
                    <a:pt x="415" y="1742"/>
                  </a:lnTo>
                  <a:lnTo>
                    <a:pt x="402" y="1376"/>
                  </a:lnTo>
                  <a:lnTo>
                    <a:pt x="538" y="1764"/>
                  </a:lnTo>
                  <a:lnTo>
                    <a:pt x="631" y="1778"/>
                  </a:lnTo>
                  <a:lnTo>
                    <a:pt x="693" y="1650"/>
                  </a:lnTo>
                  <a:lnTo>
                    <a:pt x="706" y="1403"/>
                  </a:lnTo>
                  <a:lnTo>
                    <a:pt x="909" y="1632"/>
                  </a:lnTo>
                  <a:lnTo>
                    <a:pt x="994" y="1614"/>
                  </a:lnTo>
                  <a:lnTo>
                    <a:pt x="975" y="1456"/>
                  </a:lnTo>
                  <a:lnTo>
                    <a:pt x="896" y="1231"/>
                  </a:lnTo>
                  <a:lnTo>
                    <a:pt x="816" y="1081"/>
                  </a:lnTo>
                  <a:lnTo>
                    <a:pt x="847" y="984"/>
                  </a:lnTo>
                  <a:lnTo>
                    <a:pt x="896" y="1002"/>
                  </a:lnTo>
                  <a:lnTo>
                    <a:pt x="1082" y="1231"/>
                  </a:lnTo>
                  <a:lnTo>
                    <a:pt x="1285" y="1288"/>
                  </a:lnTo>
                  <a:lnTo>
                    <a:pt x="1324" y="1218"/>
                  </a:lnTo>
                  <a:lnTo>
                    <a:pt x="1298" y="1099"/>
                  </a:lnTo>
                  <a:lnTo>
                    <a:pt x="927" y="736"/>
                  </a:lnTo>
                  <a:lnTo>
                    <a:pt x="631" y="626"/>
                  </a:lnTo>
                  <a:lnTo>
                    <a:pt x="591" y="427"/>
                  </a:lnTo>
                  <a:lnTo>
                    <a:pt x="693" y="246"/>
                  </a:lnTo>
                  <a:lnTo>
                    <a:pt x="693" y="57"/>
                  </a:lnTo>
                  <a:lnTo>
                    <a:pt x="613" y="0"/>
                  </a:lnTo>
                  <a:lnTo>
                    <a:pt x="402" y="480"/>
                  </a:lnTo>
                  <a:lnTo>
                    <a:pt x="211" y="555"/>
                  </a:lnTo>
                  <a:lnTo>
                    <a:pt x="158" y="683"/>
                  </a:lnTo>
                  <a:lnTo>
                    <a:pt x="119" y="754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471680" y="363600"/>
              <a:ext cx="519480" cy="817920"/>
            </a:xfrm>
            <a:custGeom>
              <a:avLst/>
              <a:gdLst/>
              <a:ahLst/>
              <a:rect l="0" t="0" r="r" b="b"/>
              <a:pathLst>
                <a:path w="1443" h="2272">
                  <a:moveTo>
                    <a:pt x="362" y="317"/>
                  </a:moveTo>
                  <a:lnTo>
                    <a:pt x="251" y="754"/>
                  </a:lnTo>
                  <a:lnTo>
                    <a:pt x="13" y="837"/>
                  </a:lnTo>
                  <a:lnTo>
                    <a:pt x="79" y="974"/>
                  </a:lnTo>
                  <a:lnTo>
                    <a:pt x="0" y="1058"/>
                  </a:lnTo>
                  <a:lnTo>
                    <a:pt x="0" y="1222"/>
                  </a:lnTo>
                  <a:lnTo>
                    <a:pt x="114" y="1363"/>
                  </a:lnTo>
                  <a:lnTo>
                    <a:pt x="224" y="1363"/>
                  </a:lnTo>
                  <a:lnTo>
                    <a:pt x="299" y="1870"/>
                  </a:lnTo>
                  <a:lnTo>
                    <a:pt x="393" y="2086"/>
                  </a:lnTo>
                  <a:lnTo>
                    <a:pt x="688" y="2272"/>
                  </a:lnTo>
                  <a:lnTo>
                    <a:pt x="979" y="2241"/>
                  </a:lnTo>
                  <a:lnTo>
                    <a:pt x="1122" y="1870"/>
                  </a:lnTo>
                  <a:lnTo>
                    <a:pt x="1152" y="1293"/>
                  </a:lnTo>
                  <a:lnTo>
                    <a:pt x="1443" y="1005"/>
                  </a:lnTo>
                  <a:lnTo>
                    <a:pt x="1430" y="890"/>
                  </a:lnTo>
                  <a:lnTo>
                    <a:pt x="1399" y="837"/>
                  </a:lnTo>
                  <a:lnTo>
                    <a:pt x="1245" y="824"/>
                  </a:lnTo>
                  <a:lnTo>
                    <a:pt x="1294" y="674"/>
                  </a:lnTo>
                  <a:lnTo>
                    <a:pt x="1139" y="573"/>
                  </a:lnTo>
                  <a:lnTo>
                    <a:pt x="1076" y="246"/>
                  </a:lnTo>
                  <a:lnTo>
                    <a:pt x="627" y="0"/>
                  </a:lnTo>
                  <a:lnTo>
                    <a:pt x="393" y="233"/>
                  </a:lnTo>
                  <a:lnTo>
                    <a:pt x="362" y="317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509840" y="1046160"/>
              <a:ext cx="476640" cy="978120"/>
            </a:xfrm>
            <a:custGeom>
              <a:avLst/>
              <a:gdLst/>
              <a:ahLst/>
              <a:rect l="0" t="0" r="r" b="b"/>
              <a:pathLst>
                <a:path w="1324" h="2717">
                  <a:moveTo>
                    <a:pt x="268" y="145"/>
                  </a:moveTo>
                  <a:lnTo>
                    <a:pt x="459" y="273"/>
                  </a:lnTo>
                  <a:lnTo>
                    <a:pt x="552" y="418"/>
                  </a:lnTo>
                  <a:lnTo>
                    <a:pt x="1082" y="0"/>
                  </a:lnTo>
                  <a:lnTo>
                    <a:pt x="1249" y="88"/>
                  </a:lnTo>
                  <a:lnTo>
                    <a:pt x="1324" y="511"/>
                  </a:lnTo>
                  <a:lnTo>
                    <a:pt x="944" y="1764"/>
                  </a:lnTo>
                  <a:lnTo>
                    <a:pt x="1069" y="2457"/>
                  </a:lnTo>
                  <a:lnTo>
                    <a:pt x="565" y="2717"/>
                  </a:lnTo>
                  <a:lnTo>
                    <a:pt x="180" y="2567"/>
                  </a:lnTo>
                  <a:lnTo>
                    <a:pt x="180" y="1839"/>
                  </a:lnTo>
                  <a:lnTo>
                    <a:pt x="0" y="1128"/>
                  </a:lnTo>
                  <a:lnTo>
                    <a:pt x="180" y="273"/>
                  </a:lnTo>
                  <a:lnTo>
                    <a:pt x="268" y="145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530360" y="254160"/>
              <a:ext cx="444960" cy="259200"/>
            </a:xfrm>
            <a:custGeom>
              <a:avLst/>
              <a:gdLst/>
              <a:ahLst/>
              <a:rect l="0" t="0" r="r" b="b"/>
              <a:pathLst>
                <a:path w="1236" h="720">
                  <a:moveTo>
                    <a:pt x="149" y="685"/>
                  </a:moveTo>
                  <a:lnTo>
                    <a:pt x="331" y="494"/>
                  </a:lnTo>
                  <a:lnTo>
                    <a:pt x="450" y="464"/>
                  </a:lnTo>
                  <a:lnTo>
                    <a:pt x="450" y="486"/>
                  </a:lnTo>
                  <a:lnTo>
                    <a:pt x="508" y="464"/>
                  </a:lnTo>
                  <a:lnTo>
                    <a:pt x="587" y="521"/>
                  </a:lnTo>
                  <a:lnTo>
                    <a:pt x="728" y="553"/>
                  </a:lnTo>
                  <a:lnTo>
                    <a:pt x="847" y="720"/>
                  </a:lnTo>
                  <a:lnTo>
                    <a:pt x="1042" y="650"/>
                  </a:lnTo>
                  <a:lnTo>
                    <a:pt x="1042" y="570"/>
                  </a:lnTo>
                  <a:lnTo>
                    <a:pt x="1236" y="486"/>
                  </a:lnTo>
                  <a:lnTo>
                    <a:pt x="1179" y="349"/>
                  </a:lnTo>
                  <a:lnTo>
                    <a:pt x="998" y="336"/>
                  </a:lnTo>
                  <a:lnTo>
                    <a:pt x="1025" y="186"/>
                  </a:lnTo>
                  <a:lnTo>
                    <a:pt x="865" y="208"/>
                  </a:lnTo>
                  <a:lnTo>
                    <a:pt x="838" y="101"/>
                  </a:lnTo>
                  <a:lnTo>
                    <a:pt x="728" y="101"/>
                  </a:lnTo>
                  <a:lnTo>
                    <a:pt x="653" y="158"/>
                  </a:lnTo>
                  <a:lnTo>
                    <a:pt x="587" y="158"/>
                  </a:lnTo>
                  <a:lnTo>
                    <a:pt x="600" y="0"/>
                  </a:lnTo>
                  <a:lnTo>
                    <a:pt x="450" y="70"/>
                  </a:lnTo>
                  <a:lnTo>
                    <a:pt x="242" y="336"/>
                  </a:lnTo>
                  <a:lnTo>
                    <a:pt x="229" y="158"/>
                  </a:lnTo>
                  <a:lnTo>
                    <a:pt x="123" y="243"/>
                  </a:lnTo>
                  <a:lnTo>
                    <a:pt x="92" y="464"/>
                  </a:lnTo>
                  <a:lnTo>
                    <a:pt x="0" y="428"/>
                  </a:lnTo>
                  <a:lnTo>
                    <a:pt x="13" y="570"/>
                  </a:lnTo>
                  <a:lnTo>
                    <a:pt x="149" y="685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649520" y="1227240"/>
              <a:ext cx="143280" cy="740160"/>
            </a:xfrm>
            <a:custGeom>
              <a:avLst/>
              <a:gdLst/>
              <a:ahLst/>
              <a:rect l="0" t="0" r="r" b="b"/>
              <a:pathLst>
                <a:path w="398" h="2056">
                  <a:moveTo>
                    <a:pt x="203" y="13"/>
                  </a:moveTo>
                  <a:lnTo>
                    <a:pt x="70" y="101"/>
                  </a:lnTo>
                  <a:lnTo>
                    <a:pt x="70" y="273"/>
                  </a:lnTo>
                  <a:lnTo>
                    <a:pt x="168" y="330"/>
                  </a:lnTo>
                  <a:lnTo>
                    <a:pt x="35" y="605"/>
                  </a:lnTo>
                  <a:lnTo>
                    <a:pt x="0" y="966"/>
                  </a:lnTo>
                  <a:lnTo>
                    <a:pt x="97" y="1442"/>
                  </a:lnTo>
                  <a:lnTo>
                    <a:pt x="97" y="1638"/>
                  </a:lnTo>
                  <a:lnTo>
                    <a:pt x="44" y="1792"/>
                  </a:lnTo>
                  <a:lnTo>
                    <a:pt x="256" y="2056"/>
                  </a:lnTo>
                  <a:lnTo>
                    <a:pt x="385" y="1660"/>
                  </a:lnTo>
                  <a:lnTo>
                    <a:pt x="385" y="1385"/>
                  </a:lnTo>
                  <a:lnTo>
                    <a:pt x="287" y="1125"/>
                  </a:lnTo>
                  <a:lnTo>
                    <a:pt x="234" y="777"/>
                  </a:lnTo>
                  <a:lnTo>
                    <a:pt x="337" y="436"/>
                  </a:lnTo>
                  <a:lnTo>
                    <a:pt x="306" y="304"/>
                  </a:lnTo>
                  <a:lnTo>
                    <a:pt x="398" y="233"/>
                  </a:lnTo>
                  <a:lnTo>
                    <a:pt x="385" y="145"/>
                  </a:lnTo>
                  <a:lnTo>
                    <a:pt x="269" y="0"/>
                  </a:lnTo>
                  <a:lnTo>
                    <a:pt x="203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644480" y="979560"/>
              <a:ext cx="114840" cy="66960"/>
            </a:xfrm>
            <a:custGeom>
              <a:avLst/>
              <a:gdLst/>
              <a:ahLst/>
              <a:rect l="0" t="0" r="r" b="b"/>
              <a:pathLst>
                <a:path w="319" h="186">
                  <a:moveTo>
                    <a:pt x="0" y="57"/>
                  </a:moveTo>
                  <a:lnTo>
                    <a:pt x="128" y="186"/>
                  </a:lnTo>
                  <a:lnTo>
                    <a:pt x="253" y="172"/>
                  </a:lnTo>
                  <a:lnTo>
                    <a:pt x="319" y="13"/>
                  </a:lnTo>
                  <a:lnTo>
                    <a:pt x="181" y="0"/>
                  </a:lnTo>
                  <a:lnTo>
                    <a:pt x="30" y="13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521000" y="638280"/>
              <a:ext cx="141480" cy="144720"/>
            </a:xfrm>
            <a:custGeom>
              <a:avLst/>
              <a:gdLst/>
              <a:ahLst/>
              <a:rect l="0" t="0" r="r" b="b"/>
              <a:pathLst>
                <a:path w="393" h="402">
                  <a:moveTo>
                    <a:pt x="0" y="44"/>
                  </a:moveTo>
                  <a:lnTo>
                    <a:pt x="274" y="402"/>
                  </a:lnTo>
                  <a:lnTo>
                    <a:pt x="393" y="371"/>
                  </a:lnTo>
                  <a:lnTo>
                    <a:pt x="105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771560" y="608040"/>
              <a:ext cx="122760" cy="143280"/>
            </a:xfrm>
            <a:custGeom>
              <a:avLst/>
              <a:gdLst/>
              <a:ahLst/>
              <a:rect l="0" t="0" r="r" b="b"/>
              <a:pathLst>
                <a:path w="341" h="398">
                  <a:moveTo>
                    <a:pt x="0" y="57"/>
                  </a:moveTo>
                  <a:lnTo>
                    <a:pt x="234" y="398"/>
                  </a:lnTo>
                  <a:lnTo>
                    <a:pt x="341" y="306"/>
                  </a:lnTo>
                  <a:lnTo>
                    <a:pt x="98" y="0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468440" y="422280"/>
              <a:ext cx="495720" cy="360720"/>
            </a:xfrm>
            <a:custGeom>
              <a:avLst/>
              <a:gdLst/>
              <a:ahLst/>
              <a:rect l="0" t="0" r="r" b="b"/>
              <a:pathLst>
                <a:path w="1377" h="1002">
                  <a:moveTo>
                    <a:pt x="636" y="596"/>
                  </a:moveTo>
                  <a:lnTo>
                    <a:pt x="503" y="556"/>
                  </a:lnTo>
                  <a:lnTo>
                    <a:pt x="613" y="467"/>
                  </a:lnTo>
                  <a:lnTo>
                    <a:pt x="574" y="423"/>
                  </a:lnTo>
                  <a:lnTo>
                    <a:pt x="437" y="538"/>
                  </a:lnTo>
                  <a:lnTo>
                    <a:pt x="176" y="565"/>
                  </a:lnTo>
                  <a:lnTo>
                    <a:pt x="0" y="574"/>
                  </a:lnTo>
                  <a:lnTo>
                    <a:pt x="0" y="715"/>
                  </a:lnTo>
                  <a:lnTo>
                    <a:pt x="163" y="993"/>
                  </a:lnTo>
                  <a:lnTo>
                    <a:pt x="207" y="1002"/>
                  </a:lnTo>
                  <a:lnTo>
                    <a:pt x="61" y="693"/>
                  </a:lnTo>
                  <a:lnTo>
                    <a:pt x="282" y="596"/>
                  </a:lnTo>
                  <a:lnTo>
                    <a:pt x="437" y="596"/>
                  </a:lnTo>
                  <a:lnTo>
                    <a:pt x="547" y="658"/>
                  </a:lnTo>
                  <a:lnTo>
                    <a:pt x="574" y="741"/>
                  </a:lnTo>
                  <a:lnTo>
                    <a:pt x="574" y="935"/>
                  </a:lnTo>
                  <a:lnTo>
                    <a:pt x="574" y="993"/>
                  </a:lnTo>
                  <a:lnTo>
                    <a:pt x="640" y="904"/>
                  </a:lnTo>
                  <a:lnTo>
                    <a:pt x="640" y="706"/>
                  </a:lnTo>
                  <a:lnTo>
                    <a:pt x="737" y="706"/>
                  </a:lnTo>
                  <a:lnTo>
                    <a:pt x="785" y="935"/>
                  </a:lnTo>
                  <a:lnTo>
                    <a:pt x="838" y="953"/>
                  </a:lnTo>
                  <a:lnTo>
                    <a:pt x="1006" y="953"/>
                  </a:lnTo>
                  <a:lnTo>
                    <a:pt x="1174" y="909"/>
                  </a:lnTo>
                  <a:lnTo>
                    <a:pt x="1294" y="830"/>
                  </a:lnTo>
                  <a:lnTo>
                    <a:pt x="1311" y="622"/>
                  </a:lnTo>
                  <a:lnTo>
                    <a:pt x="1377" y="538"/>
                  </a:lnTo>
                  <a:lnTo>
                    <a:pt x="1342" y="485"/>
                  </a:lnTo>
                  <a:lnTo>
                    <a:pt x="1183" y="427"/>
                  </a:lnTo>
                  <a:lnTo>
                    <a:pt x="1161" y="224"/>
                  </a:lnTo>
                  <a:lnTo>
                    <a:pt x="1015" y="224"/>
                  </a:lnTo>
                  <a:lnTo>
                    <a:pt x="843" y="0"/>
                  </a:lnTo>
                  <a:lnTo>
                    <a:pt x="1002" y="246"/>
                  </a:lnTo>
                  <a:lnTo>
                    <a:pt x="1051" y="246"/>
                  </a:lnTo>
                  <a:lnTo>
                    <a:pt x="1082" y="423"/>
                  </a:lnTo>
                  <a:lnTo>
                    <a:pt x="891" y="485"/>
                  </a:lnTo>
                  <a:lnTo>
                    <a:pt x="746" y="436"/>
                  </a:lnTo>
                  <a:lnTo>
                    <a:pt x="724" y="485"/>
                  </a:lnTo>
                  <a:lnTo>
                    <a:pt x="803" y="538"/>
                  </a:lnTo>
                  <a:lnTo>
                    <a:pt x="803" y="583"/>
                  </a:lnTo>
                  <a:lnTo>
                    <a:pt x="966" y="508"/>
                  </a:lnTo>
                  <a:lnTo>
                    <a:pt x="1108" y="498"/>
                  </a:lnTo>
                  <a:lnTo>
                    <a:pt x="1263" y="516"/>
                  </a:lnTo>
                  <a:lnTo>
                    <a:pt x="1263" y="547"/>
                  </a:lnTo>
                  <a:lnTo>
                    <a:pt x="1188" y="613"/>
                  </a:lnTo>
                  <a:lnTo>
                    <a:pt x="1161" y="706"/>
                  </a:lnTo>
                  <a:lnTo>
                    <a:pt x="1152" y="830"/>
                  </a:lnTo>
                  <a:lnTo>
                    <a:pt x="1064" y="878"/>
                  </a:lnTo>
                  <a:lnTo>
                    <a:pt x="931" y="891"/>
                  </a:lnTo>
                  <a:lnTo>
                    <a:pt x="838" y="891"/>
                  </a:lnTo>
                  <a:lnTo>
                    <a:pt x="807" y="856"/>
                  </a:lnTo>
                  <a:lnTo>
                    <a:pt x="785" y="622"/>
                  </a:lnTo>
                  <a:lnTo>
                    <a:pt x="640" y="622"/>
                  </a:lnTo>
                  <a:lnTo>
                    <a:pt x="636" y="59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638360" y="838080"/>
              <a:ext cx="160560" cy="74880"/>
            </a:xfrm>
            <a:custGeom>
              <a:avLst/>
              <a:gdLst/>
              <a:ahLst/>
              <a:rect l="0" t="0" r="r" b="b"/>
              <a:pathLst>
                <a:path w="446" h="208">
                  <a:moveTo>
                    <a:pt x="0" y="0"/>
                  </a:moveTo>
                  <a:lnTo>
                    <a:pt x="74" y="97"/>
                  </a:lnTo>
                  <a:lnTo>
                    <a:pt x="265" y="97"/>
                  </a:lnTo>
                  <a:lnTo>
                    <a:pt x="344" y="30"/>
                  </a:lnTo>
                  <a:lnTo>
                    <a:pt x="446" y="30"/>
                  </a:lnTo>
                  <a:lnTo>
                    <a:pt x="428" y="61"/>
                  </a:lnTo>
                  <a:lnTo>
                    <a:pt x="428" y="97"/>
                  </a:lnTo>
                  <a:lnTo>
                    <a:pt x="247" y="208"/>
                  </a:lnTo>
                  <a:lnTo>
                    <a:pt x="145" y="208"/>
                  </a:lnTo>
                  <a:lnTo>
                    <a:pt x="97" y="168"/>
                  </a:lnTo>
                  <a:lnTo>
                    <a:pt x="39" y="1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3760" bIns="23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460520" y="719280"/>
              <a:ext cx="243360" cy="389160"/>
            </a:xfrm>
            <a:custGeom>
              <a:avLst/>
              <a:gdLst/>
              <a:ahLst/>
              <a:rect l="0" t="0" r="r" b="b"/>
              <a:pathLst>
                <a:path w="676" h="1081">
                  <a:moveTo>
                    <a:pt x="676" y="74"/>
                  </a:moveTo>
                  <a:lnTo>
                    <a:pt x="676" y="97"/>
                  </a:lnTo>
                  <a:lnTo>
                    <a:pt x="557" y="207"/>
                  </a:lnTo>
                  <a:lnTo>
                    <a:pt x="459" y="224"/>
                  </a:lnTo>
                  <a:lnTo>
                    <a:pt x="269" y="194"/>
                  </a:lnTo>
                  <a:lnTo>
                    <a:pt x="305" y="583"/>
                  </a:lnTo>
                  <a:lnTo>
                    <a:pt x="349" y="904"/>
                  </a:lnTo>
                  <a:lnTo>
                    <a:pt x="428" y="1081"/>
                  </a:lnTo>
                  <a:lnTo>
                    <a:pt x="349" y="957"/>
                  </a:lnTo>
                  <a:lnTo>
                    <a:pt x="318" y="821"/>
                  </a:lnTo>
                  <a:lnTo>
                    <a:pt x="261" y="458"/>
                  </a:lnTo>
                  <a:lnTo>
                    <a:pt x="208" y="476"/>
                  </a:lnTo>
                  <a:lnTo>
                    <a:pt x="141" y="436"/>
                  </a:lnTo>
                  <a:lnTo>
                    <a:pt x="13" y="242"/>
                  </a:lnTo>
                  <a:lnTo>
                    <a:pt x="0" y="136"/>
                  </a:lnTo>
                  <a:lnTo>
                    <a:pt x="0" y="66"/>
                  </a:lnTo>
                  <a:lnTo>
                    <a:pt x="26" y="17"/>
                  </a:lnTo>
                  <a:lnTo>
                    <a:pt x="105" y="0"/>
                  </a:lnTo>
                  <a:lnTo>
                    <a:pt x="114" y="30"/>
                  </a:lnTo>
                  <a:lnTo>
                    <a:pt x="52" y="48"/>
                  </a:lnTo>
                  <a:lnTo>
                    <a:pt x="39" y="127"/>
                  </a:lnTo>
                  <a:lnTo>
                    <a:pt x="44" y="233"/>
                  </a:lnTo>
                  <a:lnTo>
                    <a:pt x="132" y="321"/>
                  </a:lnTo>
                  <a:lnTo>
                    <a:pt x="177" y="299"/>
                  </a:lnTo>
                  <a:lnTo>
                    <a:pt x="177" y="105"/>
                  </a:lnTo>
                  <a:lnTo>
                    <a:pt x="252" y="149"/>
                  </a:lnTo>
                  <a:lnTo>
                    <a:pt x="375" y="176"/>
                  </a:lnTo>
                  <a:lnTo>
                    <a:pt x="490" y="167"/>
                  </a:lnTo>
                  <a:lnTo>
                    <a:pt x="601" y="105"/>
                  </a:lnTo>
                  <a:lnTo>
                    <a:pt x="676" y="7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5680" y="411120"/>
              <a:ext cx="73440" cy="206640"/>
            </a:xfrm>
            <a:custGeom>
              <a:avLst/>
              <a:gdLst/>
              <a:ahLst/>
              <a:rect l="0" t="0" r="r" b="b"/>
              <a:pathLst>
                <a:path w="204" h="574">
                  <a:moveTo>
                    <a:pt x="106" y="574"/>
                  </a:moveTo>
                  <a:lnTo>
                    <a:pt x="204" y="233"/>
                  </a:lnTo>
                  <a:lnTo>
                    <a:pt x="26" y="114"/>
                  </a:lnTo>
                  <a:lnTo>
                    <a:pt x="0" y="0"/>
                  </a:lnTo>
                  <a:lnTo>
                    <a:pt x="13" y="141"/>
                  </a:lnTo>
                  <a:lnTo>
                    <a:pt x="75" y="198"/>
                  </a:lnTo>
                  <a:lnTo>
                    <a:pt x="80" y="367"/>
                  </a:lnTo>
                  <a:lnTo>
                    <a:pt x="124" y="433"/>
                  </a:lnTo>
                  <a:lnTo>
                    <a:pt x="106" y="57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522440" y="228600"/>
              <a:ext cx="545040" cy="273240"/>
            </a:xfrm>
            <a:custGeom>
              <a:avLst/>
              <a:gdLst/>
              <a:ahLst/>
              <a:rect l="0" t="0" r="r" b="b"/>
              <a:pathLst>
                <a:path w="1514" h="759">
                  <a:moveTo>
                    <a:pt x="13" y="512"/>
                  </a:moveTo>
                  <a:lnTo>
                    <a:pt x="145" y="591"/>
                  </a:lnTo>
                  <a:lnTo>
                    <a:pt x="127" y="494"/>
                  </a:lnTo>
                  <a:lnTo>
                    <a:pt x="154" y="321"/>
                  </a:lnTo>
                  <a:lnTo>
                    <a:pt x="242" y="286"/>
                  </a:lnTo>
                  <a:lnTo>
                    <a:pt x="251" y="472"/>
                  </a:lnTo>
                  <a:lnTo>
                    <a:pt x="508" y="149"/>
                  </a:lnTo>
                  <a:lnTo>
                    <a:pt x="569" y="123"/>
                  </a:lnTo>
                  <a:lnTo>
                    <a:pt x="521" y="255"/>
                  </a:lnTo>
                  <a:lnTo>
                    <a:pt x="680" y="313"/>
                  </a:lnTo>
                  <a:lnTo>
                    <a:pt x="794" y="185"/>
                  </a:lnTo>
                  <a:lnTo>
                    <a:pt x="860" y="224"/>
                  </a:lnTo>
                  <a:lnTo>
                    <a:pt x="803" y="335"/>
                  </a:lnTo>
                  <a:lnTo>
                    <a:pt x="878" y="273"/>
                  </a:lnTo>
                  <a:lnTo>
                    <a:pt x="993" y="321"/>
                  </a:lnTo>
                  <a:lnTo>
                    <a:pt x="900" y="415"/>
                  </a:lnTo>
                  <a:lnTo>
                    <a:pt x="1214" y="472"/>
                  </a:lnTo>
                  <a:lnTo>
                    <a:pt x="1002" y="534"/>
                  </a:lnTo>
                  <a:lnTo>
                    <a:pt x="1267" y="569"/>
                  </a:lnTo>
                  <a:lnTo>
                    <a:pt x="957" y="644"/>
                  </a:lnTo>
                  <a:lnTo>
                    <a:pt x="1019" y="702"/>
                  </a:lnTo>
                  <a:lnTo>
                    <a:pt x="931" y="759"/>
                  </a:lnTo>
                  <a:lnTo>
                    <a:pt x="1090" y="759"/>
                  </a:lnTo>
                  <a:lnTo>
                    <a:pt x="1076" y="715"/>
                  </a:lnTo>
                  <a:lnTo>
                    <a:pt x="1236" y="755"/>
                  </a:lnTo>
                  <a:lnTo>
                    <a:pt x="1214" y="636"/>
                  </a:lnTo>
                  <a:lnTo>
                    <a:pt x="1369" y="583"/>
                  </a:lnTo>
                  <a:lnTo>
                    <a:pt x="1258" y="525"/>
                  </a:lnTo>
                  <a:lnTo>
                    <a:pt x="1514" y="503"/>
                  </a:lnTo>
                  <a:lnTo>
                    <a:pt x="1294" y="384"/>
                  </a:lnTo>
                  <a:lnTo>
                    <a:pt x="1041" y="357"/>
                  </a:lnTo>
                  <a:lnTo>
                    <a:pt x="1236" y="229"/>
                  </a:lnTo>
                  <a:lnTo>
                    <a:pt x="878" y="229"/>
                  </a:lnTo>
                  <a:lnTo>
                    <a:pt x="1050" y="114"/>
                  </a:lnTo>
                  <a:lnTo>
                    <a:pt x="790" y="149"/>
                  </a:lnTo>
                  <a:lnTo>
                    <a:pt x="666" y="207"/>
                  </a:lnTo>
                  <a:lnTo>
                    <a:pt x="772" y="0"/>
                  </a:lnTo>
                  <a:lnTo>
                    <a:pt x="455" y="114"/>
                  </a:lnTo>
                  <a:lnTo>
                    <a:pt x="282" y="366"/>
                  </a:lnTo>
                  <a:lnTo>
                    <a:pt x="251" y="224"/>
                  </a:lnTo>
                  <a:lnTo>
                    <a:pt x="110" y="321"/>
                  </a:lnTo>
                  <a:lnTo>
                    <a:pt x="92" y="503"/>
                  </a:lnTo>
                  <a:lnTo>
                    <a:pt x="0" y="472"/>
                  </a:lnTo>
                  <a:lnTo>
                    <a:pt x="30" y="636"/>
                  </a:lnTo>
                  <a:lnTo>
                    <a:pt x="13" y="51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641600" y="372960"/>
              <a:ext cx="154440" cy="84600"/>
            </a:xfrm>
            <a:custGeom>
              <a:avLst/>
              <a:gdLst/>
              <a:ahLst/>
              <a:rect l="0" t="0" r="r" b="b"/>
              <a:pathLst>
                <a:path w="429" h="235">
                  <a:moveTo>
                    <a:pt x="0" y="235"/>
                  </a:moveTo>
                  <a:lnTo>
                    <a:pt x="159" y="0"/>
                  </a:lnTo>
                  <a:lnTo>
                    <a:pt x="159" y="155"/>
                  </a:lnTo>
                  <a:lnTo>
                    <a:pt x="217" y="93"/>
                  </a:lnTo>
                  <a:lnTo>
                    <a:pt x="265" y="182"/>
                  </a:lnTo>
                  <a:lnTo>
                    <a:pt x="429" y="226"/>
                  </a:lnTo>
                  <a:lnTo>
                    <a:pt x="256" y="196"/>
                  </a:lnTo>
                  <a:lnTo>
                    <a:pt x="208" y="137"/>
                  </a:lnTo>
                  <a:lnTo>
                    <a:pt x="133" y="196"/>
                  </a:lnTo>
                  <a:lnTo>
                    <a:pt x="133" y="124"/>
                  </a:lnTo>
                  <a:lnTo>
                    <a:pt x="0" y="23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3480" bIns="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627200" y="934920"/>
              <a:ext cx="186120" cy="120960"/>
            </a:xfrm>
            <a:custGeom>
              <a:avLst/>
              <a:gdLst/>
              <a:ahLst/>
              <a:rect l="0" t="0" r="r" b="b"/>
              <a:pathLst>
                <a:path w="517" h="336">
                  <a:moveTo>
                    <a:pt x="97" y="119"/>
                  </a:moveTo>
                  <a:lnTo>
                    <a:pt x="309" y="101"/>
                  </a:lnTo>
                  <a:lnTo>
                    <a:pt x="412" y="123"/>
                  </a:lnTo>
                  <a:lnTo>
                    <a:pt x="460" y="74"/>
                  </a:lnTo>
                  <a:lnTo>
                    <a:pt x="517" y="186"/>
                  </a:lnTo>
                  <a:lnTo>
                    <a:pt x="482" y="208"/>
                  </a:lnTo>
                  <a:lnTo>
                    <a:pt x="438" y="167"/>
                  </a:lnTo>
                  <a:lnTo>
                    <a:pt x="371" y="243"/>
                  </a:lnTo>
                  <a:lnTo>
                    <a:pt x="239" y="336"/>
                  </a:lnTo>
                  <a:lnTo>
                    <a:pt x="186" y="336"/>
                  </a:lnTo>
                  <a:lnTo>
                    <a:pt x="97" y="287"/>
                  </a:lnTo>
                  <a:lnTo>
                    <a:pt x="195" y="327"/>
                  </a:lnTo>
                  <a:lnTo>
                    <a:pt x="230" y="327"/>
                  </a:lnTo>
                  <a:lnTo>
                    <a:pt x="309" y="269"/>
                  </a:lnTo>
                  <a:lnTo>
                    <a:pt x="362" y="154"/>
                  </a:lnTo>
                  <a:lnTo>
                    <a:pt x="283" y="136"/>
                  </a:lnTo>
                  <a:lnTo>
                    <a:pt x="225" y="123"/>
                  </a:lnTo>
                  <a:lnTo>
                    <a:pt x="88" y="145"/>
                  </a:lnTo>
                  <a:lnTo>
                    <a:pt x="83" y="234"/>
                  </a:lnTo>
                  <a:lnTo>
                    <a:pt x="39" y="177"/>
                  </a:lnTo>
                  <a:lnTo>
                    <a:pt x="0" y="252"/>
                  </a:lnTo>
                  <a:lnTo>
                    <a:pt x="4" y="92"/>
                  </a:lnTo>
                  <a:lnTo>
                    <a:pt x="57" y="0"/>
                  </a:lnTo>
                  <a:lnTo>
                    <a:pt x="97" y="92"/>
                  </a:lnTo>
                  <a:lnTo>
                    <a:pt x="97" y="11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603440" y="668160"/>
              <a:ext cx="395640" cy="565560"/>
            </a:xfrm>
            <a:custGeom>
              <a:avLst/>
              <a:gdLst/>
              <a:ahLst/>
              <a:rect l="0" t="0" r="r" b="b"/>
              <a:pathLst>
                <a:path w="1099" h="1571">
                  <a:moveTo>
                    <a:pt x="922" y="0"/>
                  </a:moveTo>
                  <a:lnTo>
                    <a:pt x="1032" y="0"/>
                  </a:lnTo>
                  <a:lnTo>
                    <a:pt x="1099" y="74"/>
                  </a:lnTo>
                  <a:lnTo>
                    <a:pt x="1099" y="163"/>
                  </a:lnTo>
                  <a:lnTo>
                    <a:pt x="1010" y="411"/>
                  </a:lnTo>
                  <a:lnTo>
                    <a:pt x="918" y="530"/>
                  </a:lnTo>
                  <a:lnTo>
                    <a:pt x="821" y="543"/>
                  </a:lnTo>
                  <a:lnTo>
                    <a:pt x="799" y="543"/>
                  </a:lnTo>
                  <a:lnTo>
                    <a:pt x="799" y="856"/>
                  </a:lnTo>
                  <a:lnTo>
                    <a:pt x="843" y="1076"/>
                  </a:lnTo>
                  <a:lnTo>
                    <a:pt x="843" y="1263"/>
                  </a:lnTo>
                  <a:lnTo>
                    <a:pt x="675" y="1448"/>
                  </a:lnTo>
                  <a:lnTo>
                    <a:pt x="449" y="1571"/>
                  </a:lnTo>
                  <a:lnTo>
                    <a:pt x="304" y="1571"/>
                  </a:lnTo>
                  <a:lnTo>
                    <a:pt x="229" y="1536"/>
                  </a:lnTo>
                  <a:lnTo>
                    <a:pt x="127" y="1316"/>
                  </a:lnTo>
                  <a:lnTo>
                    <a:pt x="35" y="1241"/>
                  </a:lnTo>
                  <a:lnTo>
                    <a:pt x="0" y="1183"/>
                  </a:lnTo>
                  <a:lnTo>
                    <a:pt x="123" y="1263"/>
                  </a:lnTo>
                  <a:lnTo>
                    <a:pt x="211" y="1342"/>
                  </a:lnTo>
                  <a:lnTo>
                    <a:pt x="383" y="1351"/>
                  </a:lnTo>
                  <a:lnTo>
                    <a:pt x="546" y="1271"/>
                  </a:lnTo>
                  <a:lnTo>
                    <a:pt x="631" y="1183"/>
                  </a:lnTo>
                  <a:lnTo>
                    <a:pt x="724" y="1024"/>
                  </a:lnTo>
                  <a:lnTo>
                    <a:pt x="737" y="834"/>
                  </a:lnTo>
                  <a:lnTo>
                    <a:pt x="768" y="229"/>
                  </a:lnTo>
                  <a:lnTo>
                    <a:pt x="803" y="317"/>
                  </a:lnTo>
                  <a:lnTo>
                    <a:pt x="913" y="207"/>
                  </a:lnTo>
                  <a:lnTo>
                    <a:pt x="1024" y="163"/>
                  </a:lnTo>
                  <a:lnTo>
                    <a:pt x="1059" y="97"/>
                  </a:lnTo>
                  <a:lnTo>
                    <a:pt x="1041" y="39"/>
                  </a:lnTo>
                  <a:lnTo>
                    <a:pt x="993" y="8"/>
                  </a:lnTo>
                  <a:lnTo>
                    <a:pt x="92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90720" y="1155600"/>
              <a:ext cx="319320" cy="522720"/>
            </a:xfrm>
            <a:custGeom>
              <a:avLst/>
              <a:gdLst/>
              <a:ahLst/>
              <a:rect l="0" t="0" r="r" b="b"/>
              <a:pathLst>
                <a:path w="887" h="1452">
                  <a:moveTo>
                    <a:pt x="110" y="0"/>
                  </a:moveTo>
                  <a:lnTo>
                    <a:pt x="216" y="66"/>
                  </a:lnTo>
                  <a:lnTo>
                    <a:pt x="291" y="361"/>
                  </a:lnTo>
                  <a:lnTo>
                    <a:pt x="521" y="428"/>
                  </a:lnTo>
                  <a:lnTo>
                    <a:pt x="583" y="508"/>
                  </a:lnTo>
                  <a:lnTo>
                    <a:pt x="591" y="618"/>
                  </a:lnTo>
                  <a:lnTo>
                    <a:pt x="706" y="600"/>
                  </a:lnTo>
                  <a:lnTo>
                    <a:pt x="847" y="693"/>
                  </a:lnTo>
                  <a:lnTo>
                    <a:pt x="887" y="807"/>
                  </a:lnTo>
                  <a:lnTo>
                    <a:pt x="887" y="1015"/>
                  </a:lnTo>
                  <a:lnTo>
                    <a:pt x="706" y="1329"/>
                  </a:lnTo>
                  <a:lnTo>
                    <a:pt x="644" y="1452"/>
                  </a:lnTo>
                  <a:lnTo>
                    <a:pt x="675" y="1285"/>
                  </a:lnTo>
                  <a:lnTo>
                    <a:pt x="644" y="1223"/>
                  </a:lnTo>
                  <a:lnTo>
                    <a:pt x="538" y="1113"/>
                  </a:lnTo>
                  <a:lnTo>
                    <a:pt x="361" y="988"/>
                  </a:lnTo>
                  <a:lnTo>
                    <a:pt x="574" y="1059"/>
                  </a:lnTo>
                  <a:lnTo>
                    <a:pt x="693" y="1157"/>
                  </a:lnTo>
                  <a:lnTo>
                    <a:pt x="759" y="1139"/>
                  </a:lnTo>
                  <a:lnTo>
                    <a:pt x="794" y="1085"/>
                  </a:lnTo>
                  <a:lnTo>
                    <a:pt x="847" y="944"/>
                  </a:lnTo>
                  <a:lnTo>
                    <a:pt x="830" y="799"/>
                  </a:lnTo>
                  <a:lnTo>
                    <a:pt x="763" y="719"/>
                  </a:lnTo>
                  <a:lnTo>
                    <a:pt x="658" y="693"/>
                  </a:lnTo>
                  <a:lnTo>
                    <a:pt x="538" y="693"/>
                  </a:lnTo>
                  <a:lnTo>
                    <a:pt x="494" y="481"/>
                  </a:lnTo>
                  <a:lnTo>
                    <a:pt x="299" y="402"/>
                  </a:lnTo>
                  <a:lnTo>
                    <a:pt x="299" y="464"/>
                  </a:lnTo>
                  <a:lnTo>
                    <a:pt x="216" y="313"/>
                  </a:lnTo>
                  <a:lnTo>
                    <a:pt x="158" y="66"/>
                  </a:lnTo>
                  <a:lnTo>
                    <a:pt x="88" y="44"/>
                  </a:lnTo>
                  <a:lnTo>
                    <a:pt x="39" y="114"/>
                  </a:lnTo>
                  <a:lnTo>
                    <a:pt x="39" y="282"/>
                  </a:lnTo>
                  <a:lnTo>
                    <a:pt x="79" y="464"/>
                  </a:lnTo>
                  <a:lnTo>
                    <a:pt x="185" y="618"/>
                  </a:lnTo>
                  <a:lnTo>
                    <a:pt x="70" y="521"/>
                  </a:lnTo>
                  <a:lnTo>
                    <a:pt x="8" y="361"/>
                  </a:lnTo>
                  <a:lnTo>
                    <a:pt x="0" y="154"/>
                  </a:lnTo>
                  <a:lnTo>
                    <a:pt x="39" y="44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38080" y="1386000"/>
              <a:ext cx="209880" cy="417960"/>
            </a:xfrm>
            <a:custGeom>
              <a:avLst/>
              <a:gdLst/>
              <a:ahLst/>
              <a:rect l="0" t="0" r="r" b="b"/>
              <a:pathLst>
                <a:path w="583" h="1161">
                  <a:moveTo>
                    <a:pt x="583" y="0"/>
                  </a:moveTo>
                  <a:lnTo>
                    <a:pt x="464" y="74"/>
                  </a:lnTo>
                  <a:lnTo>
                    <a:pt x="322" y="358"/>
                  </a:lnTo>
                  <a:lnTo>
                    <a:pt x="185" y="543"/>
                  </a:lnTo>
                  <a:lnTo>
                    <a:pt x="13" y="763"/>
                  </a:lnTo>
                  <a:lnTo>
                    <a:pt x="0" y="879"/>
                  </a:lnTo>
                  <a:lnTo>
                    <a:pt x="30" y="980"/>
                  </a:lnTo>
                  <a:lnTo>
                    <a:pt x="114" y="980"/>
                  </a:lnTo>
                  <a:lnTo>
                    <a:pt x="224" y="879"/>
                  </a:lnTo>
                  <a:lnTo>
                    <a:pt x="314" y="666"/>
                  </a:lnTo>
                  <a:lnTo>
                    <a:pt x="428" y="543"/>
                  </a:lnTo>
                  <a:lnTo>
                    <a:pt x="428" y="710"/>
                  </a:lnTo>
                  <a:lnTo>
                    <a:pt x="415" y="865"/>
                  </a:lnTo>
                  <a:lnTo>
                    <a:pt x="282" y="1069"/>
                  </a:lnTo>
                  <a:lnTo>
                    <a:pt x="282" y="1130"/>
                  </a:lnTo>
                  <a:lnTo>
                    <a:pt x="415" y="1161"/>
                  </a:lnTo>
                  <a:lnTo>
                    <a:pt x="322" y="1104"/>
                  </a:lnTo>
                  <a:lnTo>
                    <a:pt x="336" y="1069"/>
                  </a:lnTo>
                  <a:lnTo>
                    <a:pt x="424" y="919"/>
                  </a:lnTo>
                  <a:lnTo>
                    <a:pt x="481" y="644"/>
                  </a:lnTo>
                  <a:lnTo>
                    <a:pt x="441" y="490"/>
                  </a:lnTo>
                  <a:lnTo>
                    <a:pt x="344" y="578"/>
                  </a:lnTo>
                  <a:lnTo>
                    <a:pt x="136" y="928"/>
                  </a:lnTo>
                  <a:lnTo>
                    <a:pt x="83" y="936"/>
                  </a:lnTo>
                  <a:lnTo>
                    <a:pt x="30" y="901"/>
                  </a:lnTo>
                  <a:lnTo>
                    <a:pt x="30" y="794"/>
                  </a:lnTo>
                  <a:lnTo>
                    <a:pt x="114" y="658"/>
                  </a:lnTo>
                  <a:lnTo>
                    <a:pt x="344" y="375"/>
                  </a:lnTo>
                  <a:lnTo>
                    <a:pt x="481" y="105"/>
                  </a:lnTo>
                  <a:lnTo>
                    <a:pt x="58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993600" y="1622520"/>
              <a:ext cx="130680" cy="200520"/>
            </a:xfrm>
            <a:custGeom>
              <a:avLst/>
              <a:gdLst/>
              <a:ahLst/>
              <a:rect l="0" t="0" r="r" b="b"/>
              <a:pathLst>
                <a:path w="363" h="557">
                  <a:moveTo>
                    <a:pt x="0" y="495"/>
                  </a:moveTo>
                  <a:lnTo>
                    <a:pt x="120" y="349"/>
                  </a:lnTo>
                  <a:lnTo>
                    <a:pt x="142" y="208"/>
                  </a:lnTo>
                  <a:lnTo>
                    <a:pt x="279" y="0"/>
                  </a:lnTo>
                  <a:lnTo>
                    <a:pt x="310" y="136"/>
                  </a:lnTo>
                  <a:lnTo>
                    <a:pt x="288" y="504"/>
                  </a:lnTo>
                  <a:lnTo>
                    <a:pt x="363" y="557"/>
                  </a:lnTo>
                  <a:lnTo>
                    <a:pt x="256" y="517"/>
                  </a:lnTo>
                  <a:lnTo>
                    <a:pt x="203" y="305"/>
                  </a:lnTo>
                  <a:lnTo>
                    <a:pt x="120" y="411"/>
                  </a:lnTo>
                  <a:lnTo>
                    <a:pt x="0" y="49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154160" y="1633680"/>
              <a:ext cx="86040" cy="179640"/>
            </a:xfrm>
            <a:custGeom>
              <a:avLst/>
              <a:gdLst/>
              <a:ahLst/>
              <a:rect l="0" t="0" r="r" b="b"/>
              <a:pathLst>
                <a:path w="239" h="499">
                  <a:moveTo>
                    <a:pt x="0" y="375"/>
                  </a:moveTo>
                  <a:lnTo>
                    <a:pt x="8" y="189"/>
                  </a:lnTo>
                  <a:lnTo>
                    <a:pt x="57" y="79"/>
                  </a:lnTo>
                  <a:lnTo>
                    <a:pt x="114" y="472"/>
                  </a:lnTo>
                  <a:lnTo>
                    <a:pt x="190" y="472"/>
                  </a:lnTo>
                  <a:lnTo>
                    <a:pt x="221" y="57"/>
                  </a:lnTo>
                  <a:lnTo>
                    <a:pt x="239" y="0"/>
                  </a:lnTo>
                  <a:lnTo>
                    <a:pt x="221" y="327"/>
                  </a:lnTo>
                  <a:lnTo>
                    <a:pt x="190" y="499"/>
                  </a:lnTo>
                  <a:lnTo>
                    <a:pt x="97" y="499"/>
                  </a:lnTo>
                  <a:lnTo>
                    <a:pt x="52" y="154"/>
                  </a:lnTo>
                  <a:lnTo>
                    <a:pt x="26" y="202"/>
                  </a:lnTo>
                  <a:lnTo>
                    <a:pt x="0" y="37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252520" y="923760"/>
              <a:ext cx="208440" cy="481320"/>
            </a:xfrm>
            <a:custGeom>
              <a:avLst/>
              <a:gdLst/>
              <a:ahLst/>
              <a:rect l="0" t="0" r="r" b="b"/>
              <a:pathLst>
                <a:path w="579" h="1337">
                  <a:moveTo>
                    <a:pt x="150" y="724"/>
                  </a:moveTo>
                  <a:lnTo>
                    <a:pt x="199" y="511"/>
                  </a:lnTo>
                  <a:lnTo>
                    <a:pt x="389" y="458"/>
                  </a:lnTo>
                  <a:lnTo>
                    <a:pt x="579" y="0"/>
                  </a:lnTo>
                  <a:lnTo>
                    <a:pt x="579" y="132"/>
                  </a:lnTo>
                  <a:lnTo>
                    <a:pt x="424" y="489"/>
                  </a:lnTo>
                  <a:lnTo>
                    <a:pt x="217" y="555"/>
                  </a:lnTo>
                  <a:lnTo>
                    <a:pt x="186" y="724"/>
                  </a:lnTo>
                  <a:lnTo>
                    <a:pt x="256" y="724"/>
                  </a:lnTo>
                  <a:lnTo>
                    <a:pt x="79" y="799"/>
                  </a:lnTo>
                  <a:lnTo>
                    <a:pt x="30" y="944"/>
                  </a:lnTo>
                  <a:lnTo>
                    <a:pt x="39" y="1125"/>
                  </a:lnTo>
                  <a:lnTo>
                    <a:pt x="234" y="1337"/>
                  </a:lnTo>
                  <a:lnTo>
                    <a:pt x="30" y="1151"/>
                  </a:lnTo>
                  <a:lnTo>
                    <a:pt x="0" y="997"/>
                  </a:lnTo>
                  <a:lnTo>
                    <a:pt x="13" y="838"/>
                  </a:lnTo>
                  <a:lnTo>
                    <a:pt x="88" y="728"/>
                  </a:lnTo>
                  <a:lnTo>
                    <a:pt x="150" y="72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392200" y="923760"/>
              <a:ext cx="349560" cy="466920"/>
            </a:xfrm>
            <a:custGeom>
              <a:avLst/>
              <a:gdLst/>
              <a:ahLst/>
              <a:rect l="0" t="0" r="r" b="b"/>
              <a:pathLst>
                <a:path w="971" h="1297">
                  <a:moveTo>
                    <a:pt x="264" y="0"/>
                  </a:moveTo>
                  <a:lnTo>
                    <a:pt x="326" y="39"/>
                  </a:lnTo>
                  <a:lnTo>
                    <a:pt x="343" y="149"/>
                  </a:lnTo>
                  <a:lnTo>
                    <a:pt x="343" y="255"/>
                  </a:lnTo>
                  <a:lnTo>
                    <a:pt x="233" y="440"/>
                  </a:lnTo>
                  <a:lnTo>
                    <a:pt x="255" y="582"/>
                  </a:lnTo>
                  <a:lnTo>
                    <a:pt x="583" y="728"/>
                  </a:lnTo>
                  <a:lnTo>
                    <a:pt x="966" y="1138"/>
                  </a:lnTo>
                  <a:lnTo>
                    <a:pt x="971" y="1248"/>
                  </a:lnTo>
                  <a:lnTo>
                    <a:pt x="949" y="1297"/>
                  </a:lnTo>
                  <a:lnTo>
                    <a:pt x="807" y="1297"/>
                  </a:lnTo>
                  <a:lnTo>
                    <a:pt x="680" y="1218"/>
                  </a:lnTo>
                  <a:lnTo>
                    <a:pt x="574" y="1085"/>
                  </a:lnTo>
                  <a:lnTo>
                    <a:pt x="521" y="1010"/>
                  </a:lnTo>
                  <a:lnTo>
                    <a:pt x="449" y="993"/>
                  </a:lnTo>
                  <a:lnTo>
                    <a:pt x="534" y="993"/>
                  </a:lnTo>
                  <a:lnTo>
                    <a:pt x="693" y="1204"/>
                  </a:lnTo>
                  <a:lnTo>
                    <a:pt x="896" y="1266"/>
                  </a:lnTo>
                  <a:lnTo>
                    <a:pt x="940" y="1204"/>
                  </a:lnTo>
                  <a:lnTo>
                    <a:pt x="913" y="1107"/>
                  </a:lnTo>
                  <a:lnTo>
                    <a:pt x="561" y="816"/>
                  </a:lnTo>
                  <a:lnTo>
                    <a:pt x="512" y="728"/>
                  </a:lnTo>
                  <a:lnTo>
                    <a:pt x="233" y="658"/>
                  </a:lnTo>
                  <a:lnTo>
                    <a:pt x="189" y="728"/>
                  </a:lnTo>
                  <a:lnTo>
                    <a:pt x="0" y="856"/>
                  </a:lnTo>
                  <a:lnTo>
                    <a:pt x="180" y="710"/>
                  </a:lnTo>
                  <a:lnTo>
                    <a:pt x="189" y="617"/>
                  </a:lnTo>
                  <a:lnTo>
                    <a:pt x="189" y="414"/>
                  </a:lnTo>
                  <a:lnTo>
                    <a:pt x="313" y="255"/>
                  </a:lnTo>
                  <a:lnTo>
                    <a:pt x="313" y="52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330280" y="1289160"/>
              <a:ext cx="295560" cy="276480"/>
            </a:xfrm>
            <a:custGeom>
              <a:avLst/>
              <a:gdLst/>
              <a:ahLst/>
              <a:rect l="0" t="0" r="r" b="b"/>
              <a:pathLst>
                <a:path w="821" h="768">
                  <a:moveTo>
                    <a:pt x="613" y="0"/>
                  </a:moveTo>
                  <a:lnTo>
                    <a:pt x="596" y="66"/>
                  </a:lnTo>
                  <a:lnTo>
                    <a:pt x="715" y="317"/>
                  </a:lnTo>
                  <a:lnTo>
                    <a:pt x="781" y="583"/>
                  </a:lnTo>
                  <a:lnTo>
                    <a:pt x="706" y="583"/>
                  </a:lnTo>
                  <a:lnTo>
                    <a:pt x="583" y="464"/>
                  </a:lnTo>
                  <a:lnTo>
                    <a:pt x="472" y="224"/>
                  </a:lnTo>
                  <a:lnTo>
                    <a:pt x="383" y="185"/>
                  </a:lnTo>
                  <a:lnTo>
                    <a:pt x="396" y="317"/>
                  </a:lnTo>
                  <a:lnTo>
                    <a:pt x="481" y="411"/>
                  </a:lnTo>
                  <a:lnTo>
                    <a:pt x="481" y="596"/>
                  </a:lnTo>
                  <a:lnTo>
                    <a:pt x="424" y="728"/>
                  </a:lnTo>
                  <a:lnTo>
                    <a:pt x="343" y="675"/>
                  </a:lnTo>
                  <a:lnTo>
                    <a:pt x="251" y="464"/>
                  </a:lnTo>
                  <a:lnTo>
                    <a:pt x="229" y="317"/>
                  </a:lnTo>
                  <a:lnTo>
                    <a:pt x="180" y="277"/>
                  </a:lnTo>
                  <a:lnTo>
                    <a:pt x="158" y="649"/>
                  </a:lnTo>
                  <a:lnTo>
                    <a:pt x="88" y="706"/>
                  </a:lnTo>
                  <a:lnTo>
                    <a:pt x="22" y="649"/>
                  </a:lnTo>
                  <a:lnTo>
                    <a:pt x="8" y="330"/>
                  </a:lnTo>
                  <a:lnTo>
                    <a:pt x="0" y="644"/>
                  </a:lnTo>
                  <a:lnTo>
                    <a:pt x="52" y="759"/>
                  </a:lnTo>
                  <a:lnTo>
                    <a:pt x="158" y="759"/>
                  </a:lnTo>
                  <a:lnTo>
                    <a:pt x="198" y="666"/>
                  </a:lnTo>
                  <a:lnTo>
                    <a:pt x="220" y="374"/>
                  </a:lnTo>
                  <a:lnTo>
                    <a:pt x="238" y="490"/>
                  </a:lnTo>
                  <a:lnTo>
                    <a:pt x="330" y="737"/>
                  </a:lnTo>
                  <a:lnTo>
                    <a:pt x="433" y="768"/>
                  </a:lnTo>
                  <a:lnTo>
                    <a:pt x="508" y="666"/>
                  </a:lnTo>
                  <a:lnTo>
                    <a:pt x="508" y="428"/>
                  </a:lnTo>
                  <a:lnTo>
                    <a:pt x="706" y="622"/>
                  </a:lnTo>
                  <a:lnTo>
                    <a:pt x="812" y="622"/>
                  </a:lnTo>
                  <a:lnTo>
                    <a:pt x="821" y="490"/>
                  </a:lnTo>
                  <a:lnTo>
                    <a:pt x="746" y="251"/>
                  </a:lnTo>
                  <a:lnTo>
                    <a:pt x="613" y="52"/>
                  </a:lnTo>
                  <a:lnTo>
                    <a:pt x="61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128600" y="1003320"/>
              <a:ext cx="1322640" cy="1128960"/>
            </a:xfrm>
            <a:custGeom>
              <a:avLst/>
              <a:gdLst/>
              <a:ahLst/>
              <a:rect l="0" t="0" r="r" b="b"/>
              <a:pathLst>
                <a:path w="3674" h="3136">
                  <a:moveTo>
                    <a:pt x="1322" y="264"/>
                  </a:moveTo>
                  <a:lnTo>
                    <a:pt x="1256" y="277"/>
                  </a:lnTo>
                  <a:lnTo>
                    <a:pt x="1155" y="432"/>
                  </a:lnTo>
                  <a:lnTo>
                    <a:pt x="1115" y="317"/>
                  </a:lnTo>
                  <a:lnTo>
                    <a:pt x="996" y="255"/>
                  </a:lnTo>
                  <a:lnTo>
                    <a:pt x="908" y="299"/>
                  </a:lnTo>
                  <a:lnTo>
                    <a:pt x="873" y="507"/>
                  </a:lnTo>
                  <a:lnTo>
                    <a:pt x="542" y="758"/>
                  </a:lnTo>
                  <a:lnTo>
                    <a:pt x="564" y="864"/>
                  </a:lnTo>
                  <a:lnTo>
                    <a:pt x="489" y="952"/>
                  </a:lnTo>
                  <a:lnTo>
                    <a:pt x="489" y="1036"/>
                  </a:lnTo>
                  <a:lnTo>
                    <a:pt x="577" y="1274"/>
                  </a:lnTo>
                  <a:lnTo>
                    <a:pt x="586" y="1561"/>
                  </a:lnTo>
                  <a:lnTo>
                    <a:pt x="524" y="1835"/>
                  </a:lnTo>
                  <a:lnTo>
                    <a:pt x="291" y="1998"/>
                  </a:lnTo>
                  <a:lnTo>
                    <a:pt x="255" y="2223"/>
                  </a:lnTo>
                  <a:lnTo>
                    <a:pt x="185" y="2223"/>
                  </a:lnTo>
                  <a:lnTo>
                    <a:pt x="145" y="2042"/>
                  </a:lnTo>
                  <a:lnTo>
                    <a:pt x="79" y="2042"/>
                  </a:lnTo>
                  <a:lnTo>
                    <a:pt x="39" y="2241"/>
                  </a:lnTo>
                  <a:lnTo>
                    <a:pt x="0" y="2294"/>
                  </a:lnTo>
                  <a:lnTo>
                    <a:pt x="158" y="2558"/>
                  </a:lnTo>
                  <a:lnTo>
                    <a:pt x="282" y="2576"/>
                  </a:lnTo>
                  <a:lnTo>
                    <a:pt x="489" y="2770"/>
                  </a:lnTo>
                  <a:lnTo>
                    <a:pt x="674" y="2796"/>
                  </a:lnTo>
                  <a:lnTo>
                    <a:pt x="776" y="2690"/>
                  </a:lnTo>
                  <a:lnTo>
                    <a:pt x="1036" y="2302"/>
                  </a:lnTo>
                  <a:lnTo>
                    <a:pt x="1053" y="2823"/>
                  </a:lnTo>
                  <a:lnTo>
                    <a:pt x="1036" y="3136"/>
                  </a:lnTo>
                  <a:lnTo>
                    <a:pt x="3158" y="3136"/>
                  </a:lnTo>
                  <a:lnTo>
                    <a:pt x="3004" y="2796"/>
                  </a:lnTo>
                  <a:lnTo>
                    <a:pt x="2924" y="2510"/>
                  </a:lnTo>
                  <a:lnTo>
                    <a:pt x="2907" y="2077"/>
                  </a:lnTo>
                  <a:lnTo>
                    <a:pt x="3030" y="2170"/>
                  </a:lnTo>
                  <a:lnTo>
                    <a:pt x="3158" y="2170"/>
                  </a:lnTo>
                  <a:lnTo>
                    <a:pt x="3330" y="2055"/>
                  </a:lnTo>
                  <a:lnTo>
                    <a:pt x="3449" y="2042"/>
                  </a:lnTo>
                  <a:lnTo>
                    <a:pt x="3519" y="1928"/>
                  </a:lnTo>
                  <a:lnTo>
                    <a:pt x="3568" y="1632"/>
                  </a:lnTo>
                  <a:lnTo>
                    <a:pt x="3674" y="1508"/>
                  </a:lnTo>
                  <a:lnTo>
                    <a:pt x="3616" y="1419"/>
                  </a:lnTo>
                  <a:lnTo>
                    <a:pt x="3542" y="1419"/>
                  </a:lnTo>
                  <a:lnTo>
                    <a:pt x="3480" y="1481"/>
                  </a:lnTo>
                  <a:lnTo>
                    <a:pt x="3418" y="1499"/>
                  </a:lnTo>
                  <a:lnTo>
                    <a:pt x="3343" y="1419"/>
                  </a:lnTo>
                  <a:lnTo>
                    <a:pt x="3250" y="1411"/>
                  </a:lnTo>
                  <a:lnTo>
                    <a:pt x="3087" y="1300"/>
                  </a:lnTo>
                  <a:lnTo>
                    <a:pt x="2981" y="1177"/>
                  </a:lnTo>
                  <a:lnTo>
                    <a:pt x="2959" y="1036"/>
                  </a:lnTo>
                  <a:lnTo>
                    <a:pt x="2981" y="895"/>
                  </a:lnTo>
                  <a:lnTo>
                    <a:pt x="3048" y="784"/>
                  </a:lnTo>
                  <a:lnTo>
                    <a:pt x="3140" y="679"/>
                  </a:lnTo>
                  <a:lnTo>
                    <a:pt x="3131" y="502"/>
                  </a:lnTo>
                  <a:lnTo>
                    <a:pt x="3131" y="374"/>
                  </a:lnTo>
                  <a:lnTo>
                    <a:pt x="3087" y="277"/>
                  </a:lnTo>
                  <a:lnTo>
                    <a:pt x="2959" y="233"/>
                  </a:lnTo>
                  <a:lnTo>
                    <a:pt x="2915" y="211"/>
                  </a:lnTo>
                  <a:lnTo>
                    <a:pt x="2832" y="57"/>
                  </a:lnTo>
                  <a:lnTo>
                    <a:pt x="2757" y="13"/>
                  </a:lnTo>
                  <a:lnTo>
                    <a:pt x="2682" y="0"/>
                  </a:lnTo>
                  <a:lnTo>
                    <a:pt x="2615" y="30"/>
                  </a:lnTo>
                  <a:lnTo>
                    <a:pt x="2563" y="110"/>
                  </a:lnTo>
                  <a:lnTo>
                    <a:pt x="2483" y="158"/>
                  </a:lnTo>
                  <a:lnTo>
                    <a:pt x="2391" y="176"/>
                  </a:lnTo>
                  <a:lnTo>
                    <a:pt x="2289" y="176"/>
                  </a:lnTo>
                  <a:lnTo>
                    <a:pt x="2307" y="330"/>
                  </a:lnTo>
                  <a:lnTo>
                    <a:pt x="2307" y="520"/>
                  </a:lnTo>
                  <a:lnTo>
                    <a:pt x="2289" y="652"/>
                  </a:lnTo>
                  <a:lnTo>
                    <a:pt x="2197" y="811"/>
                  </a:lnTo>
                  <a:lnTo>
                    <a:pt x="2082" y="1045"/>
                  </a:lnTo>
                  <a:lnTo>
                    <a:pt x="1989" y="1327"/>
                  </a:lnTo>
                  <a:lnTo>
                    <a:pt x="1985" y="1499"/>
                  </a:lnTo>
                  <a:lnTo>
                    <a:pt x="1941" y="1641"/>
                  </a:lnTo>
                  <a:lnTo>
                    <a:pt x="1888" y="1782"/>
                  </a:lnTo>
                  <a:lnTo>
                    <a:pt x="1861" y="2016"/>
                  </a:lnTo>
                  <a:lnTo>
                    <a:pt x="1875" y="2201"/>
                  </a:lnTo>
                  <a:lnTo>
                    <a:pt x="1941" y="2421"/>
                  </a:lnTo>
                  <a:lnTo>
                    <a:pt x="1985" y="2510"/>
                  </a:lnTo>
                  <a:lnTo>
                    <a:pt x="1861" y="2589"/>
                  </a:lnTo>
                  <a:lnTo>
                    <a:pt x="1715" y="2638"/>
                  </a:lnTo>
                  <a:lnTo>
                    <a:pt x="1547" y="2655"/>
                  </a:lnTo>
                  <a:lnTo>
                    <a:pt x="1446" y="2655"/>
                  </a:lnTo>
                  <a:lnTo>
                    <a:pt x="1384" y="2629"/>
                  </a:lnTo>
                  <a:lnTo>
                    <a:pt x="1384" y="2435"/>
                  </a:lnTo>
                  <a:lnTo>
                    <a:pt x="1384" y="2161"/>
                  </a:lnTo>
                  <a:lnTo>
                    <a:pt x="1340" y="1888"/>
                  </a:lnTo>
                  <a:lnTo>
                    <a:pt x="1278" y="1641"/>
                  </a:lnTo>
                  <a:lnTo>
                    <a:pt x="1247" y="1446"/>
                  </a:lnTo>
                  <a:lnTo>
                    <a:pt x="1234" y="1168"/>
                  </a:lnTo>
                  <a:lnTo>
                    <a:pt x="1278" y="926"/>
                  </a:lnTo>
                  <a:lnTo>
                    <a:pt x="1340" y="727"/>
                  </a:lnTo>
                  <a:lnTo>
                    <a:pt x="1349" y="617"/>
                  </a:lnTo>
                  <a:lnTo>
                    <a:pt x="1322" y="449"/>
                  </a:lnTo>
                  <a:lnTo>
                    <a:pt x="1322" y="317"/>
                  </a:lnTo>
                  <a:lnTo>
                    <a:pt x="1340" y="277"/>
                  </a:lnTo>
                  <a:lnTo>
                    <a:pt x="1322" y="26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643040" y="1231920"/>
              <a:ext cx="168480" cy="730440"/>
            </a:xfrm>
            <a:custGeom>
              <a:avLst/>
              <a:gdLst/>
              <a:ahLst/>
              <a:rect l="0" t="0" r="r" b="b"/>
              <a:pathLst>
                <a:path w="468" h="2029">
                  <a:moveTo>
                    <a:pt x="185" y="22"/>
                  </a:moveTo>
                  <a:lnTo>
                    <a:pt x="61" y="92"/>
                  </a:lnTo>
                  <a:lnTo>
                    <a:pt x="74" y="282"/>
                  </a:lnTo>
                  <a:lnTo>
                    <a:pt x="167" y="339"/>
                  </a:lnTo>
                  <a:lnTo>
                    <a:pt x="57" y="555"/>
                  </a:lnTo>
                  <a:lnTo>
                    <a:pt x="0" y="789"/>
                  </a:lnTo>
                  <a:lnTo>
                    <a:pt x="0" y="1015"/>
                  </a:lnTo>
                  <a:lnTo>
                    <a:pt x="57" y="1218"/>
                  </a:lnTo>
                  <a:lnTo>
                    <a:pt x="97" y="1465"/>
                  </a:lnTo>
                  <a:lnTo>
                    <a:pt x="97" y="1606"/>
                  </a:lnTo>
                  <a:lnTo>
                    <a:pt x="57" y="1782"/>
                  </a:lnTo>
                  <a:lnTo>
                    <a:pt x="243" y="2029"/>
                  </a:lnTo>
                  <a:lnTo>
                    <a:pt x="322" y="1989"/>
                  </a:lnTo>
                  <a:lnTo>
                    <a:pt x="375" y="1817"/>
                  </a:lnTo>
                  <a:lnTo>
                    <a:pt x="464" y="1592"/>
                  </a:lnTo>
                  <a:lnTo>
                    <a:pt x="468" y="1478"/>
                  </a:lnTo>
                  <a:lnTo>
                    <a:pt x="393" y="1253"/>
                  </a:lnTo>
                  <a:lnTo>
                    <a:pt x="305" y="1037"/>
                  </a:lnTo>
                  <a:lnTo>
                    <a:pt x="274" y="881"/>
                  </a:lnTo>
                  <a:lnTo>
                    <a:pt x="274" y="736"/>
                  </a:lnTo>
                  <a:lnTo>
                    <a:pt x="305" y="608"/>
                  </a:lnTo>
                  <a:lnTo>
                    <a:pt x="375" y="445"/>
                  </a:lnTo>
                  <a:lnTo>
                    <a:pt x="375" y="379"/>
                  </a:lnTo>
                  <a:lnTo>
                    <a:pt x="344" y="313"/>
                  </a:lnTo>
                  <a:lnTo>
                    <a:pt x="433" y="229"/>
                  </a:lnTo>
                  <a:lnTo>
                    <a:pt x="433" y="154"/>
                  </a:lnTo>
                  <a:lnTo>
                    <a:pt x="305" y="0"/>
                  </a:lnTo>
                  <a:lnTo>
                    <a:pt x="406" y="154"/>
                  </a:lnTo>
                  <a:lnTo>
                    <a:pt x="406" y="220"/>
                  </a:lnTo>
                  <a:lnTo>
                    <a:pt x="318" y="282"/>
                  </a:lnTo>
                  <a:lnTo>
                    <a:pt x="353" y="379"/>
                  </a:lnTo>
                  <a:lnTo>
                    <a:pt x="344" y="445"/>
                  </a:lnTo>
                  <a:lnTo>
                    <a:pt x="256" y="630"/>
                  </a:lnTo>
                  <a:lnTo>
                    <a:pt x="243" y="811"/>
                  </a:lnTo>
                  <a:lnTo>
                    <a:pt x="265" y="983"/>
                  </a:lnTo>
                  <a:lnTo>
                    <a:pt x="322" y="1231"/>
                  </a:lnTo>
                  <a:lnTo>
                    <a:pt x="393" y="1420"/>
                  </a:lnTo>
                  <a:lnTo>
                    <a:pt x="393" y="1584"/>
                  </a:lnTo>
                  <a:lnTo>
                    <a:pt x="353" y="1782"/>
                  </a:lnTo>
                  <a:lnTo>
                    <a:pt x="265" y="1989"/>
                  </a:lnTo>
                  <a:lnTo>
                    <a:pt x="154" y="1875"/>
                  </a:lnTo>
                  <a:lnTo>
                    <a:pt x="110" y="1782"/>
                  </a:lnTo>
                  <a:lnTo>
                    <a:pt x="119" y="1584"/>
                  </a:lnTo>
                  <a:lnTo>
                    <a:pt x="110" y="1381"/>
                  </a:lnTo>
                  <a:lnTo>
                    <a:pt x="57" y="1116"/>
                  </a:lnTo>
                  <a:lnTo>
                    <a:pt x="30" y="934"/>
                  </a:lnTo>
                  <a:lnTo>
                    <a:pt x="57" y="723"/>
                  </a:lnTo>
                  <a:lnTo>
                    <a:pt x="97" y="524"/>
                  </a:lnTo>
                  <a:lnTo>
                    <a:pt x="198" y="326"/>
                  </a:lnTo>
                  <a:lnTo>
                    <a:pt x="110" y="242"/>
                  </a:lnTo>
                  <a:lnTo>
                    <a:pt x="97" y="101"/>
                  </a:lnTo>
                  <a:lnTo>
                    <a:pt x="185" y="2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119320" y="372960"/>
              <a:ext cx="263880" cy="357480"/>
            </a:xfrm>
            <a:custGeom>
              <a:avLst/>
              <a:gdLst/>
              <a:ahLst/>
              <a:rect l="0" t="0" r="r" b="b"/>
              <a:pathLst>
                <a:path w="733" h="993">
                  <a:moveTo>
                    <a:pt x="123" y="255"/>
                  </a:moveTo>
                  <a:lnTo>
                    <a:pt x="229" y="233"/>
                  </a:lnTo>
                  <a:lnTo>
                    <a:pt x="335" y="238"/>
                  </a:lnTo>
                  <a:lnTo>
                    <a:pt x="419" y="282"/>
                  </a:lnTo>
                  <a:lnTo>
                    <a:pt x="468" y="335"/>
                  </a:lnTo>
                  <a:lnTo>
                    <a:pt x="490" y="388"/>
                  </a:lnTo>
                  <a:lnTo>
                    <a:pt x="490" y="436"/>
                  </a:lnTo>
                  <a:lnTo>
                    <a:pt x="464" y="467"/>
                  </a:lnTo>
                  <a:lnTo>
                    <a:pt x="419" y="493"/>
                  </a:lnTo>
                  <a:lnTo>
                    <a:pt x="361" y="499"/>
                  </a:lnTo>
                  <a:lnTo>
                    <a:pt x="299" y="485"/>
                  </a:lnTo>
                  <a:lnTo>
                    <a:pt x="229" y="440"/>
                  </a:lnTo>
                  <a:lnTo>
                    <a:pt x="185" y="401"/>
                  </a:lnTo>
                  <a:lnTo>
                    <a:pt x="163" y="534"/>
                  </a:lnTo>
                  <a:lnTo>
                    <a:pt x="123" y="622"/>
                  </a:lnTo>
                  <a:lnTo>
                    <a:pt x="0" y="830"/>
                  </a:lnTo>
                  <a:lnTo>
                    <a:pt x="180" y="993"/>
                  </a:lnTo>
                  <a:lnTo>
                    <a:pt x="313" y="724"/>
                  </a:lnTo>
                  <a:lnTo>
                    <a:pt x="464" y="746"/>
                  </a:lnTo>
                  <a:lnTo>
                    <a:pt x="556" y="728"/>
                  </a:lnTo>
                  <a:lnTo>
                    <a:pt x="649" y="666"/>
                  </a:lnTo>
                  <a:lnTo>
                    <a:pt x="706" y="591"/>
                  </a:lnTo>
                  <a:lnTo>
                    <a:pt x="733" y="485"/>
                  </a:lnTo>
                  <a:lnTo>
                    <a:pt x="733" y="379"/>
                  </a:lnTo>
                  <a:lnTo>
                    <a:pt x="706" y="264"/>
                  </a:lnTo>
                  <a:lnTo>
                    <a:pt x="644" y="154"/>
                  </a:lnTo>
                  <a:lnTo>
                    <a:pt x="569" y="66"/>
                  </a:lnTo>
                  <a:lnTo>
                    <a:pt x="481" y="22"/>
                  </a:lnTo>
                  <a:lnTo>
                    <a:pt x="375" y="0"/>
                  </a:lnTo>
                  <a:lnTo>
                    <a:pt x="242" y="0"/>
                  </a:lnTo>
                  <a:lnTo>
                    <a:pt x="97" y="30"/>
                  </a:lnTo>
                  <a:lnTo>
                    <a:pt x="123" y="255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071800" y="720720"/>
              <a:ext cx="97200" cy="70200"/>
            </a:xfrm>
            <a:custGeom>
              <a:avLst/>
              <a:gdLst/>
              <a:ahLst/>
              <a:rect l="0" t="0" r="r" b="b"/>
              <a:pathLst>
                <a:path w="270" h="195">
                  <a:moveTo>
                    <a:pt x="106" y="0"/>
                  </a:moveTo>
                  <a:lnTo>
                    <a:pt x="35" y="0"/>
                  </a:lnTo>
                  <a:lnTo>
                    <a:pt x="0" y="26"/>
                  </a:lnTo>
                  <a:lnTo>
                    <a:pt x="0" y="98"/>
                  </a:lnTo>
                  <a:lnTo>
                    <a:pt x="57" y="164"/>
                  </a:lnTo>
                  <a:lnTo>
                    <a:pt x="164" y="195"/>
                  </a:lnTo>
                  <a:lnTo>
                    <a:pt x="248" y="190"/>
                  </a:lnTo>
                  <a:lnTo>
                    <a:pt x="270" y="146"/>
                  </a:lnTo>
                  <a:lnTo>
                    <a:pt x="257" y="106"/>
                  </a:lnTo>
                  <a:lnTo>
                    <a:pt x="218" y="48"/>
                  </a:lnTo>
                  <a:lnTo>
                    <a:pt x="155" y="8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 txBox="1"/>
          <p:nvPr/>
        </p:nvSpPr>
        <p:spPr>
          <a:xfrm>
            <a:off x="1828800" y="2362320"/>
            <a:ext cx="647712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6 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ccount for the disposal of depreciable assets involving exchang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990720" y="114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Exchanges of Plant Asse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63640" cy="703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1523880" y="304920"/>
            <a:ext cx="6765840" cy="13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Recognizing Gains and Losses on Exchang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685800" y="3762360"/>
            <a:ext cx="822960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Of dissimilar asset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     Ye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Y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Of similar asset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Ye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ccff33"/>
                </a:solidFill>
                <a:latin typeface="Arial"/>
                <a:ea typeface="Arial"/>
              </a:rPr>
              <a:t>For income tax purpo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Of dissimilar asset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     Ye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Y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Of similar asset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No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        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685800" y="175248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8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Losse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Ga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9"/>
              </a:spcBef>
            </a:pPr>
            <a:r>
              <a:rPr b="1" lang="en-US" sz="2400" spc="-1" strike="noStrike" u="sng">
                <a:solidFill>
                  <a:srgbClr val="fcffd8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2400" spc="-1" strike="noStrike" u="sng">
                <a:solidFill>
                  <a:srgbClr val="fcffd8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2400" spc="-1" strike="noStrike" u="sng">
                <a:solidFill>
                  <a:srgbClr val="fcffd8"/>
                </a:solidFill>
                <a:uFillTx/>
                <a:latin typeface="Arial"/>
                <a:ea typeface="Arial"/>
              </a:rPr>
              <a:t>Exchange</a:t>
            </a:r>
            <a:r>
              <a:rPr b="1" lang="en-US" sz="2400" spc="-1" strike="noStrike" u="sng">
                <a:solidFill>
                  <a:srgbClr val="fcffd8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2400" spc="-1" strike="noStrike" u="sng">
                <a:solidFill>
                  <a:srgbClr val="fcffd8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</a:t>
            </a:r>
            <a:r>
              <a:rPr b="1" lang="en-US" sz="2400" spc="-1" strike="noStrike" u="sng">
                <a:solidFill>
                  <a:srgbClr val="fcffd8"/>
                </a:solidFill>
                <a:uFillTx/>
                <a:latin typeface="Arial"/>
                <a:ea typeface="Arial"/>
              </a:rPr>
              <a:t>Recognized    Recogn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ccff33"/>
                </a:solidFill>
                <a:latin typeface="Arial"/>
                <a:ea typeface="Arial"/>
              </a:rPr>
              <a:t>For financial account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ccff33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Arial"/>
                <a:ea typeface="Arial"/>
              </a:rPr>
              <a:t>purpo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 txBox="1"/>
          <p:nvPr/>
        </p:nvSpPr>
        <p:spPr>
          <a:xfrm>
            <a:off x="1447920" y="1066680"/>
            <a:ext cx="5850000" cy="12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762120" y="2362320"/>
            <a:ext cx="815328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re gains on similar asset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mpletely unrecogniz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No. Since the basis of the new asset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s reduced by the unrecognized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gain, there will be less depreciation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xpense over the life of the new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ss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6553080" y="228600"/>
            <a:ext cx="2208600" cy="2132280"/>
            <a:chOff x="6553080" y="228600"/>
            <a:chExt cx="2208600" cy="2132280"/>
          </a:xfrm>
        </p:grpSpPr>
        <p:sp>
          <p:nvSpPr>
            <p:cNvPr id="487" name=""/>
            <p:cNvSpPr/>
            <p:nvPr/>
          </p:nvSpPr>
          <p:spPr>
            <a:xfrm>
              <a:off x="6559560" y="1274760"/>
              <a:ext cx="536760" cy="744840"/>
            </a:xfrm>
            <a:custGeom>
              <a:avLst/>
              <a:gdLst/>
              <a:ahLst/>
              <a:rect l="0" t="0" r="r" b="b"/>
              <a:pathLst>
                <a:path w="1491" h="2069">
                  <a:moveTo>
                    <a:pt x="595" y="0"/>
                  </a:moveTo>
                  <a:lnTo>
                    <a:pt x="515" y="92"/>
                  </a:lnTo>
                  <a:lnTo>
                    <a:pt x="515" y="361"/>
                  </a:lnTo>
                  <a:lnTo>
                    <a:pt x="595" y="555"/>
                  </a:lnTo>
                  <a:lnTo>
                    <a:pt x="683" y="652"/>
                  </a:lnTo>
                  <a:lnTo>
                    <a:pt x="551" y="784"/>
                  </a:lnTo>
                  <a:lnTo>
                    <a:pt x="374" y="1085"/>
                  </a:lnTo>
                  <a:lnTo>
                    <a:pt x="30" y="1562"/>
                  </a:lnTo>
                  <a:lnTo>
                    <a:pt x="0" y="1676"/>
                  </a:lnTo>
                  <a:lnTo>
                    <a:pt x="30" y="1773"/>
                  </a:lnTo>
                  <a:lnTo>
                    <a:pt x="136" y="1773"/>
                  </a:lnTo>
                  <a:lnTo>
                    <a:pt x="224" y="1663"/>
                  </a:lnTo>
                  <a:lnTo>
                    <a:pt x="374" y="1394"/>
                  </a:lnTo>
                  <a:lnTo>
                    <a:pt x="463" y="1279"/>
                  </a:lnTo>
                  <a:lnTo>
                    <a:pt x="515" y="1456"/>
                  </a:lnTo>
                  <a:lnTo>
                    <a:pt x="480" y="1645"/>
                  </a:lnTo>
                  <a:lnTo>
                    <a:pt x="330" y="1919"/>
                  </a:lnTo>
                  <a:lnTo>
                    <a:pt x="374" y="1980"/>
                  </a:lnTo>
                  <a:lnTo>
                    <a:pt x="463" y="1963"/>
                  </a:lnTo>
                  <a:lnTo>
                    <a:pt x="648" y="1822"/>
                  </a:lnTo>
                  <a:lnTo>
                    <a:pt x="794" y="1579"/>
                  </a:lnTo>
                  <a:lnTo>
                    <a:pt x="794" y="1998"/>
                  </a:lnTo>
                  <a:lnTo>
                    <a:pt x="971" y="2069"/>
                  </a:lnTo>
                  <a:lnTo>
                    <a:pt x="1076" y="1808"/>
                  </a:lnTo>
                  <a:lnTo>
                    <a:pt x="1169" y="2051"/>
                  </a:lnTo>
                  <a:lnTo>
                    <a:pt x="1240" y="1980"/>
                  </a:lnTo>
                  <a:lnTo>
                    <a:pt x="1275" y="1504"/>
                  </a:lnTo>
                  <a:lnTo>
                    <a:pt x="1491" y="1050"/>
                  </a:lnTo>
                  <a:lnTo>
                    <a:pt x="1442" y="784"/>
                  </a:lnTo>
                  <a:lnTo>
                    <a:pt x="1288" y="687"/>
                  </a:lnTo>
                  <a:lnTo>
                    <a:pt x="1129" y="701"/>
                  </a:lnTo>
                  <a:lnTo>
                    <a:pt x="1076" y="489"/>
                  </a:lnTo>
                  <a:lnTo>
                    <a:pt x="913" y="440"/>
                  </a:lnTo>
                  <a:lnTo>
                    <a:pt x="768" y="374"/>
                  </a:lnTo>
                  <a:lnTo>
                    <a:pt x="683" y="44"/>
                  </a:lnTo>
                  <a:lnTo>
                    <a:pt x="595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008840" y="1577880"/>
              <a:ext cx="159120" cy="360720"/>
            </a:xfrm>
            <a:custGeom>
              <a:avLst/>
              <a:gdLst/>
              <a:ahLst/>
              <a:rect l="0" t="0" r="r" b="b"/>
              <a:pathLst>
                <a:path w="442" h="1002">
                  <a:moveTo>
                    <a:pt x="221" y="0"/>
                  </a:moveTo>
                  <a:lnTo>
                    <a:pt x="442" y="260"/>
                  </a:lnTo>
                  <a:lnTo>
                    <a:pt x="332" y="825"/>
                  </a:lnTo>
                  <a:lnTo>
                    <a:pt x="0" y="1002"/>
                  </a:lnTo>
                  <a:lnTo>
                    <a:pt x="0" y="719"/>
                  </a:lnTo>
                  <a:lnTo>
                    <a:pt x="133" y="423"/>
                  </a:lnTo>
                  <a:lnTo>
                    <a:pt x="221" y="211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8035920" y="1370160"/>
              <a:ext cx="397080" cy="325800"/>
            </a:xfrm>
            <a:custGeom>
              <a:avLst/>
              <a:gdLst/>
              <a:ahLst/>
              <a:rect l="0" t="0" r="r" b="b"/>
              <a:pathLst>
                <a:path w="1103" h="905">
                  <a:moveTo>
                    <a:pt x="454" y="0"/>
                  </a:moveTo>
                  <a:lnTo>
                    <a:pt x="454" y="145"/>
                  </a:lnTo>
                  <a:lnTo>
                    <a:pt x="493" y="274"/>
                  </a:lnTo>
                  <a:lnTo>
                    <a:pt x="706" y="490"/>
                  </a:lnTo>
                  <a:lnTo>
                    <a:pt x="1103" y="613"/>
                  </a:lnTo>
                  <a:lnTo>
                    <a:pt x="1050" y="888"/>
                  </a:lnTo>
                  <a:lnTo>
                    <a:pt x="706" y="905"/>
                  </a:lnTo>
                  <a:lnTo>
                    <a:pt x="211" y="707"/>
                  </a:lnTo>
                  <a:lnTo>
                    <a:pt x="0" y="362"/>
                  </a:lnTo>
                  <a:lnTo>
                    <a:pt x="246" y="17"/>
                  </a:lnTo>
                  <a:lnTo>
                    <a:pt x="454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8194680" y="1001880"/>
              <a:ext cx="552960" cy="717840"/>
            </a:xfrm>
            <a:custGeom>
              <a:avLst/>
              <a:gdLst/>
              <a:ahLst/>
              <a:rect l="0" t="0" r="r" b="b"/>
              <a:pathLst>
                <a:path w="1536" h="1994">
                  <a:moveTo>
                    <a:pt x="136" y="846"/>
                  </a:moveTo>
                  <a:lnTo>
                    <a:pt x="0" y="987"/>
                  </a:lnTo>
                  <a:lnTo>
                    <a:pt x="30" y="1315"/>
                  </a:lnTo>
                  <a:lnTo>
                    <a:pt x="242" y="1465"/>
                  </a:lnTo>
                  <a:lnTo>
                    <a:pt x="260" y="1958"/>
                  </a:lnTo>
                  <a:lnTo>
                    <a:pt x="477" y="1958"/>
                  </a:lnTo>
                  <a:lnTo>
                    <a:pt x="464" y="1539"/>
                  </a:lnTo>
                  <a:lnTo>
                    <a:pt x="622" y="1976"/>
                  </a:lnTo>
                  <a:lnTo>
                    <a:pt x="728" y="1994"/>
                  </a:lnTo>
                  <a:lnTo>
                    <a:pt x="807" y="1848"/>
                  </a:lnTo>
                  <a:lnTo>
                    <a:pt x="821" y="1575"/>
                  </a:lnTo>
                  <a:lnTo>
                    <a:pt x="1059" y="1831"/>
                  </a:lnTo>
                  <a:lnTo>
                    <a:pt x="1151" y="1808"/>
                  </a:lnTo>
                  <a:lnTo>
                    <a:pt x="1129" y="1632"/>
                  </a:lnTo>
                  <a:lnTo>
                    <a:pt x="1041" y="1381"/>
                  </a:lnTo>
                  <a:lnTo>
                    <a:pt x="949" y="1218"/>
                  </a:lnTo>
                  <a:lnTo>
                    <a:pt x="984" y="1103"/>
                  </a:lnTo>
                  <a:lnTo>
                    <a:pt x="1041" y="1121"/>
                  </a:lnTo>
                  <a:lnTo>
                    <a:pt x="1254" y="1381"/>
                  </a:lnTo>
                  <a:lnTo>
                    <a:pt x="1488" y="1447"/>
                  </a:lnTo>
                  <a:lnTo>
                    <a:pt x="1536" y="1363"/>
                  </a:lnTo>
                  <a:lnTo>
                    <a:pt x="1501" y="1231"/>
                  </a:lnTo>
                  <a:lnTo>
                    <a:pt x="1072" y="829"/>
                  </a:lnTo>
                  <a:lnTo>
                    <a:pt x="728" y="705"/>
                  </a:lnTo>
                  <a:lnTo>
                    <a:pt x="688" y="480"/>
                  </a:lnTo>
                  <a:lnTo>
                    <a:pt x="807" y="277"/>
                  </a:lnTo>
                  <a:lnTo>
                    <a:pt x="807" y="66"/>
                  </a:lnTo>
                  <a:lnTo>
                    <a:pt x="710" y="0"/>
                  </a:lnTo>
                  <a:lnTo>
                    <a:pt x="464" y="537"/>
                  </a:lnTo>
                  <a:lnTo>
                    <a:pt x="242" y="621"/>
                  </a:lnTo>
                  <a:lnTo>
                    <a:pt x="189" y="767"/>
                  </a:lnTo>
                  <a:lnTo>
                    <a:pt x="136" y="846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288200" y="379440"/>
              <a:ext cx="603720" cy="918000"/>
            </a:xfrm>
            <a:custGeom>
              <a:avLst/>
              <a:gdLst/>
              <a:ahLst/>
              <a:rect l="0" t="0" r="r" b="b"/>
              <a:pathLst>
                <a:path w="1677" h="2550">
                  <a:moveTo>
                    <a:pt x="418" y="352"/>
                  </a:moveTo>
                  <a:lnTo>
                    <a:pt x="295" y="843"/>
                  </a:lnTo>
                  <a:lnTo>
                    <a:pt x="17" y="940"/>
                  </a:lnTo>
                  <a:lnTo>
                    <a:pt x="92" y="1094"/>
                  </a:lnTo>
                  <a:lnTo>
                    <a:pt x="0" y="1191"/>
                  </a:lnTo>
                  <a:lnTo>
                    <a:pt x="0" y="1368"/>
                  </a:lnTo>
                  <a:lnTo>
                    <a:pt x="132" y="1531"/>
                  </a:lnTo>
                  <a:lnTo>
                    <a:pt x="260" y="1531"/>
                  </a:lnTo>
                  <a:lnTo>
                    <a:pt x="348" y="2096"/>
                  </a:lnTo>
                  <a:lnTo>
                    <a:pt x="455" y="2339"/>
                  </a:lnTo>
                  <a:lnTo>
                    <a:pt x="799" y="2550"/>
                  </a:lnTo>
                  <a:lnTo>
                    <a:pt x="1138" y="2519"/>
                  </a:lnTo>
                  <a:lnTo>
                    <a:pt x="1302" y="2096"/>
                  </a:lnTo>
                  <a:lnTo>
                    <a:pt x="1342" y="1451"/>
                  </a:lnTo>
                  <a:lnTo>
                    <a:pt x="1677" y="1129"/>
                  </a:lnTo>
                  <a:lnTo>
                    <a:pt x="1660" y="1002"/>
                  </a:lnTo>
                  <a:lnTo>
                    <a:pt x="1624" y="940"/>
                  </a:lnTo>
                  <a:lnTo>
                    <a:pt x="1448" y="927"/>
                  </a:lnTo>
                  <a:lnTo>
                    <a:pt x="1501" y="759"/>
                  </a:lnTo>
                  <a:lnTo>
                    <a:pt x="1324" y="644"/>
                  </a:lnTo>
                  <a:lnTo>
                    <a:pt x="1248" y="277"/>
                  </a:lnTo>
                  <a:lnTo>
                    <a:pt x="728" y="0"/>
                  </a:lnTo>
                  <a:lnTo>
                    <a:pt x="455" y="260"/>
                  </a:lnTo>
                  <a:lnTo>
                    <a:pt x="418" y="352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332840" y="1144440"/>
              <a:ext cx="552960" cy="1094040"/>
            </a:xfrm>
            <a:custGeom>
              <a:avLst/>
              <a:gdLst/>
              <a:ahLst/>
              <a:rect l="0" t="0" r="r" b="b"/>
              <a:pathLst>
                <a:path w="1536" h="3039">
                  <a:moveTo>
                    <a:pt x="313" y="158"/>
                  </a:moveTo>
                  <a:lnTo>
                    <a:pt x="534" y="304"/>
                  </a:lnTo>
                  <a:lnTo>
                    <a:pt x="640" y="467"/>
                  </a:lnTo>
                  <a:lnTo>
                    <a:pt x="1254" y="0"/>
                  </a:lnTo>
                  <a:lnTo>
                    <a:pt x="1448" y="97"/>
                  </a:lnTo>
                  <a:lnTo>
                    <a:pt x="1536" y="577"/>
                  </a:lnTo>
                  <a:lnTo>
                    <a:pt x="1090" y="1976"/>
                  </a:lnTo>
                  <a:lnTo>
                    <a:pt x="1236" y="2748"/>
                  </a:lnTo>
                  <a:lnTo>
                    <a:pt x="653" y="3039"/>
                  </a:lnTo>
                  <a:lnTo>
                    <a:pt x="207" y="2876"/>
                  </a:lnTo>
                  <a:lnTo>
                    <a:pt x="207" y="2055"/>
                  </a:lnTo>
                  <a:lnTo>
                    <a:pt x="0" y="1261"/>
                  </a:lnTo>
                  <a:lnTo>
                    <a:pt x="207" y="304"/>
                  </a:lnTo>
                  <a:lnTo>
                    <a:pt x="313" y="158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356600" y="258840"/>
              <a:ext cx="516240" cy="289440"/>
            </a:xfrm>
            <a:custGeom>
              <a:avLst/>
              <a:gdLst/>
              <a:ahLst/>
              <a:rect l="0" t="0" r="r" b="b"/>
              <a:pathLst>
                <a:path w="1434" h="804">
                  <a:moveTo>
                    <a:pt x="176" y="769"/>
                  </a:moveTo>
                  <a:lnTo>
                    <a:pt x="388" y="552"/>
                  </a:lnTo>
                  <a:lnTo>
                    <a:pt x="520" y="521"/>
                  </a:lnTo>
                  <a:lnTo>
                    <a:pt x="520" y="538"/>
                  </a:lnTo>
                  <a:lnTo>
                    <a:pt x="586" y="521"/>
                  </a:lnTo>
                  <a:lnTo>
                    <a:pt x="674" y="583"/>
                  </a:lnTo>
                  <a:lnTo>
                    <a:pt x="847" y="619"/>
                  </a:lnTo>
                  <a:lnTo>
                    <a:pt x="984" y="804"/>
                  </a:lnTo>
                  <a:lnTo>
                    <a:pt x="1209" y="720"/>
                  </a:lnTo>
                  <a:lnTo>
                    <a:pt x="1209" y="637"/>
                  </a:lnTo>
                  <a:lnTo>
                    <a:pt x="1434" y="538"/>
                  </a:lnTo>
                  <a:lnTo>
                    <a:pt x="1368" y="389"/>
                  </a:lnTo>
                  <a:lnTo>
                    <a:pt x="1151" y="375"/>
                  </a:lnTo>
                  <a:lnTo>
                    <a:pt x="1187" y="212"/>
                  </a:lnTo>
                  <a:lnTo>
                    <a:pt x="1006" y="230"/>
                  </a:lnTo>
                  <a:lnTo>
                    <a:pt x="971" y="114"/>
                  </a:lnTo>
                  <a:lnTo>
                    <a:pt x="847" y="114"/>
                  </a:lnTo>
                  <a:lnTo>
                    <a:pt x="759" y="176"/>
                  </a:lnTo>
                  <a:lnTo>
                    <a:pt x="674" y="176"/>
                  </a:lnTo>
                  <a:lnTo>
                    <a:pt x="692" y="0"/>
                  </a:lnTo>
                  <a:lnTo>
                    <a:pt x="520" y="83"/>
                  </a:lnTo>
                  <a:lnTo>
                    <a:pt x="282" y="375"/>
                  </a:lnTo>
                  <a:lnTo>
                    <a:pt x="268" y="176"/>
                  </a:lnTo>
                  <a:lnTo>
                    <a:pt x="141" y="274"/>
                  </a:lnTo>
                  <a:lnTo>
                    <a:pt x="110" y="521"/>
                  </a:lnTo>
                  <a:lnTo>
                    <a:pt x="0" y="477"/>
                  </a:lnTo>
                  <a:lnTo>
                    <a:pt x="17" y="637"/>
                  </a:lnTo>
                  <a:lnTo>
                    <a:pt x="176" y="769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496280" y="1347840"/>
              <a:ext cx="163800" cy="827280"/>
            </a:xfrm>
            <a:custGeom>
              <a:avLst/>
              <a:gdLst/>
              <a:ahLst/>
              <a:rect l="0" t="0" r="r" b="b"/>
              <a:pathLst>
                <a:path w="455" h="2298">
                  <a:moveTo>
                    <a:pt x="234" y="13"/>
                  </a:moveTo>
                  <a:lnTo>
                    <a:pt x="79" y="114"/>
                  </a:lnTo>
                  <a:lnTo>
                    <a:pt x="79" y="304"/>
                  </a:lnTo>
                  <a:lnTo>
                    <a:pt x="189" y="370"/>
                  </a:lnTo>
                  <a:lnTo>
                    <a:pt x="39" y="674"/>
                  </a:lnTo>
                  <a:lnTo>
                    <a:pt x="0" y="1075"/>
                  </a:lnTo>
                  <a:lnTo>
                    <a:pt x="114" y="1610"/>
                  </a:lnTo>
                  <a:lnTo>
                    <a:pt x="114" y="1831"/>
                  </a:lnTo>
                  <a:lnTo>
                    <a:pt x="52" y="2003"/>
                  </a:lnTo>
                  <a:lnTo>
                    <a:pt x="287" y="2298"/>
                  </a:lnTo>
                  <a:lnTo>
                    <a:pt x="437" y="1848"/>
                  </a:lnTo>
                  <a:lnTo>
                    <a:pt x="437" y="1544"/>
                  </a:lnTo>
                  <a:lnTo>
                    <a:pt x="327" y="1257"/>
                  </a:lnTo>
                  <a:lnTo>
                    <a:pt x="269" y="868"/>
                  </a:lnTo>
                  <a:lnTo>
                    <a:pt x="384" y="489"/>
                  </a:lnTo>
                  <a:lnTo>
                    <a:pt x="344" y="339"/>
                  </a:lnTo>
                  <a:lnTo>
                    <a:pt x="455" y="260"/>
                  </a:lnTo>
                  <a:lnTo>
                    <a:pt x="437" y="158"/>
                  </a:lnTo>
                  <a:lnTo>
                    <a:pt x="305" y="0"/>
                  </a:lnTo>
                  <a:lnTo>
                    <a:pt x="234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489800" y="1069920"/>
              <a:ext cx="133560" cy="74880"/>
            </a:xfrm>
            <a:custGeom>
              <a:avLst/>
              <a:gdLst/>
              <a:ahLst/>
              <a:rect l="0" t="0" r="r" b="b"/>
              <a:pathLst>
                <a:path w="371" h="208">
                  <a:moveTo>
                    <a:pt x="0" y="61"/>
                  </a:moveTo>
                  <a:lnTo>
                    <a:pt x="145" y="208"/>
                  </a:lnTo>
                  <a:lnTo>
                    <a:pt x="296" y="190"/>
                  </a:lnTo>
                  <a:lnTo>
                    <a:pt x="371" y="17"/>
                  </a:lnTo>
                  <a:lnTo>
                    <a:pt x="208" y="0"/>
                  </a:lnTo>
                  <a:lnTo>
                    <a:pt x="39" y="17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345440" y="687240"/>
              <a:ext cx="163800" cy="162360"/>
            </a:xfrm>
            <a:custGeom>
              <a:avLst/>
              <a:gdLst/>
              <a:ahLst/>
              <a:rect l="0" t="0" r="r" b="b"/>
              <a:pathLst>
                <a:path w="455" h="451">
                  <a:moveTo>
                    <a:pt x="0" y="48"/>
                  </a:moveTo>
                  <a:lnTo>
                    <a:pt x="314" y="451"/>
                  </a:lnTo>
                  <a:lnTo>
                    <a:pt x="455" y="420"/>
                  </a:lnTo>
                  <a:lnTo>
                    <a:pt x="123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634160" y="652320"/>
              <a:ext cx="143280" cy="162360"/>
            </a:xfrm>
            <a:custGeom>
              <a:avLst/>
              <a:gdLst/>
              <a:ahLst/>
              <a:rect l="0" t="0" r="r" b="b"/>
              <a:pathLst>
                <a:path w="398" h="451">
                  <a:moveTo>
                    <a:pt x="0" y="66"/>
                  </a:moveTo>
                  <a:lnTo>
                    <a:pt x="274" y="451"/>
                  </a:lnTo>
                  <a:lnTo>
                    <a:pt x="398" y="350"/>
                  </a:lnTo>
                  <a:lnTo>
                    <a:pt x="111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284960" y="444600"/>
              <a:ext cx="574920" cy="405000"/>
            </a:xfrm>
            <a:custGeom>
              <a:avLst/>
              <a:gdLst/>
              <a:ahLst/>
              <a:rect l="0" t="0" r="r" b="b"/>
              <a:pathLst>
                <a:path w="1597" h="1125">
                  <a:moveTo>
                    <a:pt x="732" y="666"/>
                  </a:moveTo>
                  <a:lnTo>
                    <a:pt x="586" y="627"/>
                  </a:lnTo>
                  <a:lnTo>
                    <a:pt x="714" y="524"/>
                  </a:lnTo>
                  <a:lnTo>
                    <a:pt x="665" y="471"/>
                  </a:lnTo>
                  <a:lnTo>
                    <a:pt x="502" y="605"/>
                  </a:lnTo>
                  <a:lnTo>
                    <a:pt x="202" y="636"/>
                  </a:lnTo>
                  <a:lnTo>
                    <a:pt x="0" y="644"/>
                  </a:lnTo>
                  <a:lnTo>
                    <a:pt x="0" y="799"/>
                  </a:lnTo>
                  <a:lnTo>
                    <a:pt x="194" y="1116"/>
                  </a:lnTo>
                  <a:lnTo>
                    <a:pt x="238" y="1125"/>
                  </a:lnTo>
                  <a:lnTo>
                    <a:pt x="66" y="777"/>
                  </a:lnTo>
                  <a:lnTo>
                    <a:pt x="330" y="666"/>
                  </a:lnTo>
                  <a:lnTo>
                    <a:pt x="502" y="666"/>
                  </a:lnTo>
                  <a:lnTo>
                    <a:pt x="630" y="737"/>
                  </a:lnTo>
                  <a:lnTo>
                    <a:pt x="665" y="834"/>
                  </a:lnTo>
                  <a:lnTo>
                    <a:pt x="665" y="1046"/>
                  </a:lnTo>
                  <a:lnTo>
                    <a:pt x="665" y="1116"/>
                  </a:lnTo>
                  <a:lnTo>
                    <a:pt x="740" y="1015"/>
                  </a:lnTo>
                  <a:lnTo>
                    <a:pt x="740" y="790"/>
                  </a:lnTo>
                  <a:lnTo>
                    <a:pt x="856" y="790"/>
                  </a:lnTo>
                  <a:lnTo>
                    <a:pt x="909" y="1046"/>
                  </a:lnTo>
                  <a:lnTo>
                    <a:pt x="971" y="1072"/>
                  </a:lnTo>
                  <a:lnTo>
                    <a:pt x="1165" y="1072"/>
                  </a:lnTo>
                  <a:lnTo>
                    <a:pt x="1363" y="1024"/>
                  </a:lnTo>
                  <a:lnTo>
                    <a:pt x="1500" y="927"/>
                  </a:lnTo>
                  <a:lnTo>
                    <a:pt x="1522" y="702"/>
                  </a:lnTo>
                  <a:lnTo>
                    <a:pt x="1597" y="605"/>
                  </a:lnTo>
                  <a:lnTo>
                    <a:pt x="1553" y="542"/>
                  </a:lnTo>
                  <a:lnTo>
                    <a:pt x="1376" y="480"/>
                  </a:lnTo>
                  <a:lnTo>
                    <a:pt x="1345" y="251"/>
                  </a:lnTo>
                  <a:lnTo>
                    <a:pt x="1178" y="251"/>
                  </a:lnTo>
                  <a:lnTo>
                    <a:pt x="979" y="0"/>
                  </a:lnTo>
                  <a:lnTo>
                    <a:pt x="1160" y="277"/>
                  </a:lnTo>
                  <a:lnTo>
                    <a:pt x="1222" y="277"/>
                  </a:lnTo>
                  <a:lnTo>
                    <a:pt x="1257" y="471"/>
                  </a:lnTo>
                  <a:lnTo>
                    <a:pt x="1032" y="542"/>
                  </a:lnTo>
                  <a:lnTo>
                    <a:pt x="869" y="489"/>
                  </a:lnTo>
                  <a:lnTo>
                    <a:pt x="843" y="542"/>
                  </a:lnTo>
                  <a:lnTo>
                    <a:pt x="931" y="605"/>
                  </a:lnTo>
                  <a:lnTo>
                    <a:pt x="931" y="658"/>
                  </a:lnTo>
                  <a:lnTo>
                    <a:pt x="1125" y="574"/>
                  </a:lnTo>
                  <a:lnTo>
                    <a:pt x="1284" y="555"/>
                  </a:lnTo>
                  <a:lnTo>
                    <a:pt x="1465" y="583"/>
                  </a:lnTo>
                  <a:lnTo>
                    <a:pt x="1465" y="613"/>
                  </a:lnTo>
                  <a:lnTo>
                    <a:pt x="1381" y="693"/>
                  </a:lnTo>
                  <a:lnTo>
                    <a:pt x="1345" y="790"/>
                  </a:lnTo>
                  <a:lnTo>
                    <a:pt x="1337" y="927"/>
                  </a:lnTo>
                  <a:lnTo>
                    <a:pt x="1231" y="984"/>
                  </a:lnTo>
                  <a:lnTo>
                    <a:pt x="1076" y="1002"/>
                  </a:lnTo>
                  <a:lnTo>
                    <a:pt x="971" y="1002"/>
                  </a:lnTo>
                  <a:lnTo>
                    <a:pt x="935" y="962"/>
                  </a:lnTo>
                  <a:lnTo>
                    <a:pt x="909" y="702"/>
                  </a:lnTo>
                  <a:lnTo>
                    <a:pt x="740" y="702"/>
                  </a:lnTo>
                  <a:lnTo>
                    <a:pt x="732" y="66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481880" y="911160"/>
              <a:ext cx="186120" cy="82800"/>
            </a:xfrm>
            <a:custGeom>
              <a:avLst/>
              <a:gdLst/>
              <a:ahLst/>
              <a:rect l="0" t="0" r="r" b="b"/>
              <a:pathLst>
                <a:path w="517" h="230">
                  <a:moveTo>
                    <a:pt x="0" y="0"/>
                  </a:moveTo>
                  <a:lnTo>
                    <a:pt x="83" y="105"/>
                  </a:lnTo>
                  <a:lnTo>
                    <a:pt x="305" y="105"/>
                  </a:lnTo>
                  <a:lnTo>
                    <a:pt x="398" y="30"/>
                  </a:lnTo>
                  <a:lnTo>
                    <a:pt x="517" y="30"/>
                  </a:lnTo>
                  <a:lnTo>
                    <a:pt x="495" y="70"/>
                  </a:lnTo>
                  <a:lnTo>
                    <a:pt x="495" y="105"/>
                  </a:lnTo>
                  <a:lnTo>
                    <a:pt x="287" y="230"/>
                  </a:lnTo>
                  <a:lnTo>
                    <a:pt x="172" y="230"/>
                  </a:lnTo>
                  <a:lnTo>
                    <a:pt x="110" y="186"/>
                  </a:lnTo>
                  <a:lnTo>
                    <a:pt x="44" y="1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275600" y="777960"/>
              <a:ext cx="281520" cy="437040"/>
            </a:xfrm>
            <a:custGeom>
              <a:avLst/>
              <a:gdLst/>
              <a:ahLst/>
              <a:rect l="0" t="0" r="r" b="b"/>
              <a:pathLst>
                <a:path w="782" h="1214">
                  <a:moveTo>
                    <a:pt x="782" y="88"/>
                  </a:moveTo>
                  <a:lnTo>
                    <a:pt x="782" y="105"/>
                  </a:lnTo>
                  <a:lnTo>
                    <a:pt x="645" y="229"/>
                  </a:lnTo>
                  <a:lnTo>
                    <a:pt x="530" y="251"/>
                  </a:lnTo>
                  <a:lnTo>
                    <a:pt x="309" y="220"/>
                  </a:lnTo>
                  <a:lnTo>
                    <a:pt x="353" y="653"/>
                  </a:lnTo>
                  <a:lnTo>
                    <a:pt x="402" y="1016"/>
                  </a:lnTo>
                  <a:lnTo>
                    <a:pt x="494" y="1214"/>
                  </a:lnTo>
                  <a:lnTo>
                    <a:pt x="402" y="1073"/>
                  </a:lnTo>
                  <a:lnTo>
                    <a:pt x="367" y="923"/>
                  </a:lnTo>
                  <a:lnTo>
                    <a:pt x="305" y="512"/>
                  </a:lnTo>
                  <a:lnTo>
                    <a:pt x="239" y="534"/>
                  </a:lnTo>
                  <a:lnTo>
                    <a:pt x="163" y="490"/>
                  </a:lnTo>
                  <a:lnTo>
                    <a:pt x="17" y="273"/>
                  </a:lnTo>
                  <a:lnTo>
                    <a:pt x="0" y="154"/>
                  </a:lnTo>
                  <a:lnTo>
                    <a:pt x="0" y="74"/>
                  </a:lnTo>
                  <a:lnTo>
                    <a:pt x="35" y="22"/>
                  </a:lnTo>
                  <a:lnTo>
                    <a:pt x="123" y="0"/>
                  </a:lnTo>
                  <a:lnTo>
                    <a:pt x="132" y="30"/>
                  </a:lnTo>
                  <a:lnTo>
                    <a:pt x="61" y="52"/>
                  </a:lnTo>
                  <a:lnTo>
                    <a:pt x="44" y="145"/>
                  </a:lnTo>
                  <a:lnTo>
                    <a:pt x="52" y="260"/>
                  </a:lnTo>
                  <a:lnTo>
                    <a:pt x="154" y="362"/>
                  </a:lnTo>
                  <a:lnTo>
                    <a:pt x="203" y="340"/>
                  </a:lnTo>
                  <a:lnTo>
                    <a:pt x="203" y="119"/>
                  </a:lnTo>
                  <a:lnTo>
                    <a:pt x="296" y="163"/>
                  </a:lnTo>
                  <a:lnTo>
                    <a:pt x="437" y="198"/>
                  </a:lnTo>
                  <a:lnTo>
                    <a:pt x="569" y="189"/>
                  </a:lnTo>
                  <a:lnTo>
                    <a:pt x="694" y="119"/>
                  </a:lnTo>
                  <a:lnTo>
                    <a:pt x="782" y="8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350120" y="431640"/>
              <a:ext cx="86040" cy="233640"/>
            </a:xfrm>
            <a:custGeom>
              <a:avLst/>
              <a:gdLst/>
              <a:ahLst/>
              <a:rect l="0" t="0" r="r" b="b"/>
              <a:pathLst>
                <a:path w="239" h="649">
                  <a:moveTo>
                    <a:pt x="124" y="649"/>
                  </a:moveTo>
                  <a:lnTo>
                    <a:pt x="239" y="264"/>
                  </a:lnTo>
                  <a:lnTo>
                    <a:pt x="30" y="127"/>
                  </a:lnTo>
                  <a:lnTo>
                    <a:pt x="0" y="0"/>
                  </a:lnTo>
                  <a:lnTo>
                    <a:pt x="17" y="154"/>
                  </a:lnTo>
                  <a:lnTo>
                    <a:pt x="83" y="220"/>
                  </a:lnTo>
                  <a:lnTo>
                    <a:pt x="92" y="415"/>
                  </a:lnTo>
                  <a:lnTo>
                    <a:pt x="146" y="494"/>
                  </a:lnTo>
                  <a:lnTo>
                    <a:pt x="124" y="64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346880" y="228600"/>
              <a:ext cx="632160" cy="306720"/>
            </a:xfrm>
            <a:custGeom>
              <a:avLst/>
              <a:gdLst/>
              <a:ahLst/>
              <a:rect l="0" t="0" r="r" b="b"/>
              <a:pathLst>
                <a:path w="1756" h="852">
                  <a:moveTo>
                    <a:pt x="17" y="578"/>
                  </a:moveTo>
                  <a:lnTo>
                    <a:pt x="167" y="662"/>
                  </a:lnTo>
                  <a:lnTo>
                    <a:pt x="149" y="556"/>
                  </a:lnTo>
                  <a:lnTo>
                    <a:pt x="180" y="361"/>
                  </a:lnTo>
                  <a:lnTo>
                    <a:pt x="282" y="321"/>
                  </a:lnTo>
                  <a:lnTo>
                    <a:pt x="295" y="525"/>
                  </a:lnTo>
                  <a:lnTo>
                    <a:pt x="586" y="163"/>
                  </a:lnTo>
                  <a:lnTo>
                    <a:pt x="661" y="141"/>
                  </a:lnTo>
                  <a:lnTo>
                    <a:pt x="604" y="282"/>
                  </a:lnTo>
                  <a:lnTo>
                    <a:pt x="789" y="352"/>
                  </a:lnTo>
                  <a:lnTo>
                    <a:pt x="922" y="211"/>
                  </a:lnTo>
                  <a:lnTo>
                    <a:pt x="997" y="251"/>
                  </a:lnTo>
                  <a:lnTo>
                    <a:pt x="931" y="374"/>
                  </a:lnTo>
                  <a:lnTo>
                    <a:pt x="1019" y="308"/>
                  </a:lnTo>
                  <a:lnTo>
                    <a:pt x="1151" y="361"/>
                  </a:lnTo>
                  <a:lnTo>
                    <a:pt x="1046" y="464"/>
                  </a:lnTo>
                  <a:lnTo>
                    <a:pt x="1407" y="525"/>
                  </a:lnTo>
                  <a:lnTo>
                    <a:pt x="1165" y="600"/>
                  </a:lnTo>
                  <a:lnTo>
                    <a:pt x="1465" y="640"/>
                  </a:lnTo>
                  <a:lnTo>
                    <a:pt x="1107" y="724"/>
                  </a:lnTo>
                  <a:lnTo>
                    <a:pt x="1187" y="785"/>
                  </a:lnTo>
                  <a:lnTo>
                    <a:pt x="1081" y="852"/>
                  </a:lnTo>
                  <a:lnTo>
                    <a:pt x="1266" y="852"/>
                  </a:lnTo>
                  <a:lnTo>
                    <a:pt x="1248" y="803"/>
                  </a:lnTo>
                  <a:lnTo>
                    <a:pt x="1438" y="847"/>
                  </a:lnTo>
                  <a:lnTo>
                    <a:pt x="1407" y="710"/>
                  </a:lnTo>
                  <a:lnTo>
                    <a:pt x="1584" y="649"/>
                  </a:lnTo>
                  <a:lnTo>
                    <a:pt x="1456" y="587"/>
                  </a:lnTo>
                  <a:lnTo>
                    <a:pt x="1756" y="569"/>
                  </a:lnTo>
                  <a:lnTo>
                    <a:pt x="1500" y="433"/>
                  </a:lnTo>
                  <a:lnTo>
                    <a:pt x="1204" y="396"/>
                  </a:lnTo>
                  <a:lnTo>
                    <a:pt x="1438" y="260"/>
                  </a:lnTo>
                  <a:lnTo>
                    <a:pt x="1019" y="260"/>
                  </a:lnTo>
                  <a:lnTo>
                    <a:pt x="1218" y="127"/>
                  </a:lnTo>
                  <a:lnTo>
                    <a:pt x="918" y="163"/>
                  </a:lnTo>
                  <a:lnTo>
                    <a:pt x="771" y="229"/>
                  </a:lnTo>
                  <a:lnTo>
                    <a:pt x="896" y="0"/>
                  </a:lnTo>
                  <a:lnTo>
                    <a:pt x="529" y="127"/>
                  </a:lnTo>
                  <a:lnTo>
                    <a:pt x="326" y="405"/>
                  </a:lnTo>
                  <a:lnTo>
                    <a:pt x="295" y="251"/>
                  </a:lnTo>
                  <a:lnTo>
                    <a:pt x="132" y="361"/>
                  </a:lnTo>
                  <a:lnTo>
                    <a:pt x="110" y="569"/>
                  </a:lnTo>
                  <a:lnTo>
                    <a:pt x="0" y="525"/>
                  </a:lnTo>
                  <a:lnTo>
                    <a:pt x="39" y="710"/>
                  </a:lnTo>
                  <a:lnTo>
                    <a:pt x="17" y="57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485120" y="392040"/>
              <a:ext cx="178200" cy="92520"/>
            </a:xfrm>
            <a:custGeom>
              <a:avLst/>
              <a:gdLst/>
              <a:ahLst/>
              <a:rect l="0" t="0" r="r" b="b"/>
              <a:pathLst>
                <a:path w="495" h="257">
                  <a:moveTo>
                    <a:pt x="0" y="257"/>
                  </a:moveTo>
                  <a:lnTo>
                    <a:pt x="186" y="0"/>
                  </a:lnTo>
                  <a:lnTo>
                    <a:pt x="186" y="168"/>
                  </a:lnTo>
                  <a:lnTo>
                    <a:pt x="252" y="102"/>
                  </a:lnTo>
                  <a:lnTo>
                    <a:pt x="309" y="200"/>
                  </a:lnTo>
                  <a:lnTo>
                    <a:pt x="495" y="244"/>
                  </a:lnTo>
                  <a:lnTo>
                    <a:pt x="296" y="213"/>
                  </a:lnTo>
                  <a:lnTo>
                    <a:pt x="239" y="146"/>
                  </a:lnTo>
                  <a:lnTo>
                    <a:pt x="155" y="213"/>
                  </a:lnTo>
                  <a:lnTo>
                    <a:pt x="155" y="133"/>
                  </a:lnTo>
                  <a:lnTo>
                    <a:pt x="0" y="25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1400" bIns="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469280" y="1017720"/>
              <a:ext cx="214560" cy="136800"/>
            </a:xfrm>
            <a:custGeom>
              <a:avLst/>
              <a:gdLst/>
              <a:ahLst/>
              <a:rect l="0" t="0" r="r" b="b"/>
              <a:pathLst>
                <a:path w="596" h="380">
                  <a:moveTo>
                    <a:pt x="114" y="132"/>
                  </a:moveTo>
                  <a:lnTo>
                    <a:pt x="358" y="114"/>
                  </a:lnTo>
                  <a:lnTo>
                    <a:pt x="472" y="141"/>
                  </a:lnTo>
                  <a:lnTo>
                    <a:pt x="534" y="88"/>
                  </a:lnTo>
                  <a:lnTo>
                    <a:pt x="596" y="212"/>
                  </a:lnTo>
                  <a:lnTo>
                    <a:pt x="556" y="234"/>
                  </a:lnTo>
                  <a:lnTo>
                    <a:pt x="503" y="185"/>
                  </a:lnTo>
                  <a:lnTo>
                    <a:pt x="424" y="274"/>
                  </a:lnTo>
                  <a:lnTo>
                    <a:pt x="277" y="380"/>
                  </a:lnTo>
                  <a:lnTo>
                    <a:pt x="211" y="380"/>
                  </a:lnTo>
                  <a:lnTo>
                    <a:pt x="114" y="327"/>
                  </a:lnTo>
                  <a:lnTo>
                    <a:pt x="220" y="371"/>
                  </a:lnTo>
                  <a:lnTo>
                    <a:pt x="264" y="371"/>
                  </a:lnTo>
                  <a:lnTo>
                    <a:pt x="358" y="300"/>
                  </a:lnTo>
                  <a:lnTo>
                    <a:pt x="419" y="171"/>
                  </a:lnTo>
                  <a:lnTo>
                    <a:pt x="322" y="154"/>
                  </a:lnTo>
                  <a:lnTo>
                    <a:pt x="260" y="141"/>
                  </a:lnTo>
                  <a:lnTo>
                    <a:pt x="101" y="163"/>
                  </a:lnTo>
                  <a:lnTo>
                    <a:pt x="97" y="265"/>
                  </a:lnTo>
                  <a:lnTo>
                    <a:pt x="44" y="203"/>
                  </a:lnTo>
                  <a:lnTo>
                    <a:pt x="0" y="287"/>
                  </a:lnTo>
                  <a:lnTo>
                    <a:pt x="4" y="101"/>
                  </a:lnTo>
                  <a:lnTo>
                    <a:pt x="61" y="0"/>
                  </a:lnTo>
                  <a:lnTo>
                    <a:pt x="114" y="101"/>
                  </a:lnTo>
                  <a:lnTo>
                    <a:pt x="114" y="13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440480" y="720720"/>
              <a:ext cx="460800" cy="633600"/>
            </a:xfrm>
            <a:custGeom>
              <a:avLst/>
              <a:gdLst/>
              <a:ahLst/>
              <a:rect l="0" t="0" r="r" b="b"/>
              <a:pathLst>
                <a:path w="1280" h="1760">
                  <a:moveTo>
                    <a:pt x="1077" y="0"/>
                  </a:moveTo>
                  <a:lnTo>
                    <a:pt x="1205" y="0"/>
                  </a:lnTo>
                  <a:lnTo>
                    <a:pt x="1280" y="88"/>
                  </a:lnTo>
                  <a:lnTo>
                    <a:pt x="1280" y="180"/>
                  </a:lnTo>
                  <a:lnTo>
                    <a:pt x="1174" y="458"/>
                  </a:lnTo>
                  <a:lnTo>
                    <a:pt x="1069" y="590"/>
                  </a:lnTo>
                  <a:lnTo>
                    <a:pt x="963" y="608"/>
                  </a:lnTo>
                  <a:lnTo>
                    <a:pt x="931" y="608"/>
                  </a:lnTo>
                  <a:lnTo>
                    <a:pt x="931" y="957"/>
                  </a:lnTo>
                  <a:lnTo>
                    <a:pt x="980" y="1209"/>
                  </a:lnTo>
                  <a:lnTo>
                    <a:pt x="980" y="1412"/>
                  </a:lnTo>
                  <a:lnTo>
                    <a:pt x="785" y="1619"/>
                  </a:lnTo>
                  <a:lnTo>
                    <a:pt x="521" y="1760"/>
                  </a:lnTo>
                  <a:lnTo>
                    <a:pt x="353" y="1760"/>
                  </a:lnTo>
                  <a:lnTo>
                    <a:pt x="268" y="1720"/>
                  </a:lnTo>
                  <a:lnTo>
                    <a:pt x="149" y="1478"/>
                  </a:lnTo>
                  <a:lnTo>
                    <a:pt x="44" y="1390"/>
                  </a:lnTo>
                  <a:lnTo>
                    <a:pt x="0" y="1328"/>
                  </a:lnTo>
                  <a:lnTo>
                    <a:pt x="141" y="1412"/>
                  </a:lnTo>
                  <a:lnTo>
                    <a:pt x="246" y="1500"/>
                  </a:lnTo>
                  <a:lnTo>
                    <a:pt x="450" y="1513"/>
                  </a:lnTo>
                  <a:lnTo>
                    <a:pt x="636" y="1425"/>
                  </a:lnTo>
                  <a:lnTo>
                    <a:pt x="733" y="1328"/>
                  </a:lnTo>
                  <a:lnTo>
                    <a:pt x="838" y="1147"/>
                  </a:lnTo>
                  <a:lnTo>
                    <a:pt x="856" y="935"/>
                  </a:lnTo>
                  <a:lnTo>
                    <a:pt x="891" y="260"/>
                  </a:lnTo>
                  <a:lnTo>
                    <a:pt x="940" y="357"/>
                  </a:lnTo>
                  <a:lnTo>
                    <a:pt x="1064" y="233"/>
                  </a:lnTo>
                  <a:lnTo>
                    <a:pt x="1197" y="180"/>
                  </a:lnTo>
                  <a:lnTo>
                    <a:pt x="1232" y="110"/>
                  </a:lnTo>
                  <a:lnTo>
                    <a:pt x="1214" y="39"/>
                  </a:lnTo>
                  <a:lnTo>
                    <a:pt x="1157" y="8"/>
                  </a:lnTo>
                  <a:lnTo>
                    <a:pt x="107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729480" y="1266840"/>
              <a:ext cx="370080" cy="586080"/>
            </a:xfrm>
            <a:custGeom>
              <a:avLst/>
              <a:gdLst/>
              <a:ahLst/>
              <a:rect l="0" t="0" r="r" b="b"/>
              <a:pathLst>
                <a:path w="1028" h="1628">
                  <a:moveTo>
                    <a:pt x="127" y="0"/>
                  </a:moveTo>
                  <a:lnTo>
                    <a:pt x="246" y="74"/>
                  </a:lnTo>
                  <a:lnTo>
                    <a:pt x="335" y="405"/>
                  </a:lnTo>
                  <a:lnTo>
                    <a:pt x="600" y="480"/>
                  </a:lnTo>
                  <a:lnTo>
                    <a:pt x="675" y="568"/>
                  </a:lnTo>
                  <a:lnTo>
                    <a:pt x="688" y="687"/>
                  </a:lnTo>
                  <a:lnTo>
                    <a:pt x="816" y="670"/>
                  </a:lnTo>
                  <a:lnTo>
                    <a:pt x="979" y="776"/>
                  </a:lnTo>
                  <a:lnTo>
                    <a:pt x="1028" y="909"/>
                  </a:lnTo>
                  <a:lnTo>
                    <a:pt x="1028" y="1138"/>
                  </a:lnTo>
                  <a:lnTo>
                    <a:pt x="816" y="1487"/>
                  </a:lnTo>
                  <a:lnTo>
                    <a:pt x="746" y="1628"/>
                  </a:lnTo>
                  <a:lnTo>
                    <a:pt x="785" y="1438"/>
                  </a:lnTo>
                  <a:lnTo>
                    <a:pt x="746" y="1368"/>
                  </a:lnTo>
                  <a:lnTo>
                    <a:pt x="622" y="1248"/>
                  </a:lnTo>
                  <a:lnTo>
                    <a:pt x="418" y="1107"/>
                  </a:lnTo>
                  <a:lnTo>
                    <a:pt x="662" y="1187"/>
                  </a:lnTo>
                  <a:lnTo>
                    <a:pt x="807" y="1293"/>
                  </a:lnTo>
                  <a:lnTo>
                    <a:pt x="878" y="1279"/>
                  </a:lnTo>
                  <a:lnTo>
                    <a:pt x="922" y="1222"/>
                  </a:lnTo>
                  <a:lnTo>
                    <a:pt x="979" y="1054"/>
                  </a:lnTo>
                  <a:lnTo>
                    <a:pt x="962" y="896"/>
                  </a:lnTo>
                  <a:lnTo>
                    <a:pt x="887" y="802"/>
                  </a:lnTo>
                  <a:lnTo>
                    <a:pt x="759" y="776"/>
                  </a:lnTo>
                  <a:lnTo>
                    <a:pt x="622" y="776"/>
                  </a:lnTo>
                  <a:lnTo>
                    <a:pt x="574" y="533"/>
                  </a:lnTo>
                  <a:lnTo>
                    <a:pt x="348" y="454"/>
                  </a:lnTo>
                  <a:lnTo>
                    <a:pt x="348" y="520"/>
                  </a:lnTo>
                  <a:lnTo>
                    <a:pt x="246" y="348"/>
                  </a:lnTo>
                  <a:lnTo>
                    <a:pt x="189" y="74"/>
                  </a:lnTo>
                  <a:lnTo>
                    <a:pt x="101" y="44"/>
                  </a:lnTo>
                  <a:lnTo>
                    <a:pt x="48" y="127"/>
                  </a:lnTo>
                  <a:lnTo>
                    <a:pt x="48" y="317"/>
                  </a:lnTo>
                  <a:lnTo>
                    <a:pt x="92" y="520"/>
                  </a:lnTo>
                  <a:lnTo>
                    <a:pt x="216" y="687"/>
                  </a:lnTo>
                  <a:lnTo>
                    <a:pt x="79" y="586"/>
                  </a:lnTo>
                  <a:lnTo>
                    <a:pt x="13" y="405"/>
                  </a:lnTo>
                  <a:lnTo>
                    <a:pt x="0" y="171"/>
                  </a:lnTo>
                  <a:lnTo>
                    <a:pt x="48" y="44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553080" y="1525680"/>
              <a:ext cx="244800" cy="468720"/>
            </a:xfrm>
            <a:custGeom>
              <a:avLst/>
              <a:gdLst/>
              <a:ahLst/>
              <a:rect l="0" t="0" r="r" b="b"/>
              <a:pathLst>
                <a:path w="680" h="1302">
                  <a:moveTo>
                    <a:pt x="680" y="0"/>
                  </a:moveTo>
                  <a:lnTo>
                    <a:pt x="538" y="88"/>
                  </a:lnTo>
                  <a:lnTo>
                    <a:pt x="375" y="402"/>
                  </a:lnTo>
                  <a:lnTo>
                    <a:pt x="211" y="609"/>
                  </a:lnTo>
                  <a:lnTo>
                    <a:pt x="17" y="856"/>
                  </a:lnTo>
                  <a:lnTo>
                    <a:pt x="0" y="985"/>
                  </a:lnTo>
                  <a:lnTo>
                    <a:pt x="39" y="1095"/>
                  </a:lnTo>
                  <a:lnTo>
                    <a:pt x="132" y="1095"/>
                  </a:lnTo>
                  <a:lnTo>
                    <a:pt x="260" y="985"/>
                  </a:lnTo>
                  <a:lnTo>
                    <a:pt x="362" y="750"/>
                  </a:lnTo>
                  <a:lnTo>
                    <a:pt x="499" y="609"/>
                  </a:lnTo>
                  <a:lnTo>
                    <a:pt x="499" y="794"/>
                  </a:lnTo>
                  <a:lnTo>
                    <a:pt x="477" y="966"/>
                  </a:lnTo>
                  <a:lnTo>
                    <a:pt x="330" y="1197"/>
                  </a:lnTo>
                  <a:lnTo>
                    <a:pt x="330" y="1272"/>
                  </a:lnTo>
                  <a:lnTo>
                    <a:pt x="477" y="1302"/>
                  </a:lnTo>
                  <a:lnTo>
                    <a:pt x="375" y="1236"/>
                  </a:lnTo>
                  <a:lnTo>
                    <a:pt x="389" y="1197"/>
                  </a:lnTo>
                  <a:lnTo>
                    <a:pt x="490" y="1029"/>
                  </a:lnTo>
                  <a:lnTo>
                    <a:pt x="561" y="724"/>
                  </a:lnTo>
                  <a:lnTo>
                    <a:pt x="512" y="547"/>
                  </a:lnTo>
                  <a:lnTo>
                    <a:pt x="402" y="649"/>
                  </a:lnTo>
                  <a:lnTo>
                    <a:pt x="158" y="1038"/>
                  </a:lnTo>
                  <a:lnTo>
                    <a:pt x="97" y="1051"/>
                  </a:lnTo>
                  <a:lnTo>
                    <a:pt x="39" y="1011"/>
                  </a:lnTo>
                  <a:lnTo>
                    <a:pt x="39" y="891"/>
                  </a:lnTo>
                  <a:lnTo>
                    <a:pt x="132" y="737"/>
                  </a:lnTo>
                  <a:lnTo>
                    <a:pt x="402" y="419"/>
                  </a:lnTo>
                  <a:lnTo>
                    <a:pt x="561" y="119"/>
                  </a:lnTo>
                  <a:lnTo>
                    <a:pt x="68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734160" y="1789200"/>
              <a:ext cx="151200" cy="225720"/>
            </a:xfrm>
            <a:custGeom>
              <a:avLst/>
              <a:gdLst/>
              <a:ahLst/>
              <a:rect l="0" t="0" r="r" b="b"/>
              <a:pathLst>
                <a:path w="420" h="627">
                  <a:moveTo>
                    <a:pt x="0" y="552"/>
                  </a:moveTo>
                  <a:lnTo>
                    <a:pt x="137" y="393"/>
                  </a:lnTo>
                  <a:lnTo>
                    <a:pt x="164" y="233"/>
                  </a:lnTo>
                  <a:lnTo>
                    <a:pt x="323" y="0"/>
                  </a:lnTo>
                  <a:lnTo>
                    <a:pt x="359" y="154"/>
                  </a:lnTo>
                  <a:lnTo>
                    <a:pt x="337" y="565"/>
                  </a:lnTo>
                  <a:lnTo>
                    <a:pt x="420" y="627"/>
                  </a:lnTo>
                  <a:lnTo>
                    <a:pt x="296" y="583"/>
                  </a:lnTo>
                  <a:lnTo>
                    <a:pt x="234" y="349"/>
                  </a:lnTo>
                  <a:lnTo>
                    <a:pt x="137" y="464"/>
                  </a:lnTo>
                  <a:lnTo>
                    <a:pt x="0" y="55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919920" y="1801800"/>
              <a:ext cx="100440" cy="201960"/>
            </a:xfrm>
            <a:custGeom>
              <a:avLst/>
              <a:gdLst/>
              <a:ahLst/>
              <a:rect l="0" t="0" r="r" b="b"/>
              <a:pathLst>
                <a:path w="279" h="561">
                  <a:moveTo>
                    <a:pt x="0" y="419"/>
                  </a:moveTo>
                  <a:lnTo>
                    <a:pt x="13" y="216"/>
                  </a:lnTo>
                  <a:lnTo>
                    <a:pt x="71" y="92"/>
                  </a:lnTo>
                  <a:lnTo>
                    <a:pt x="137" y="534"/>
                  </a:lnTo>
                  <a:lnTo>
                    <a:pt x="222" y="534"/>
                  </a:lnTo>
                  <a:lnTo>
                    <a:pt x="257" y="61"/>
                  </a:lnTo>
                  <a:lnTo>
                    <a:pt x="279" y="0"/>
                  </a:lnTo>
                  <a:lnTo>
                    <a:pt x="257" y="367"/>
                  </a:lnTo>
                  <a:lnTo>
                    <a:pt x="222" y="561"/>
                  </a:lnTo>
                  <a:lnTo>
                    <a:pt x="111" y="561"/>
                  </a:lnTo>
                  <a:lnTo>
                    <a:pt x="61" y="171"/>
                  </a:lnTo>
                  <a:lnTo>
                    <a:pt x="35" y="229"/>
                  </a:lnTo>
                  <a:lnTo>
                    <a:pt x="0" y="41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8193240" y="1006560"/>
              <a:ext cx="241560" cy="540000"/>
            </a:xfrm>
            <a:custGeom>
              <a:avLst/>
              <a:gdLst/>
              <a:ahLst/>
              <a:rect l="0" t="0" r="r" b="b"/>
              <a:pathLst>
                <a:path w="671" h="1500">
                  <a:moveTo>
                    <a:pt x="176" y="812"/>
                  </a:moveTo>
                  <a:lnTo>
                    <a:pt x="224" y="577"/>
                  </a:lnTo>
                  <a:lnTo>
                    <a:pt x="455" y="515"/>
                  </a:lnTo>
                  <a:lnTo>
                    <a:pt x="671" y="0"/>
                  </a:lnTo>
                  <a:lnTo>
                    <a:pt x="671" y="149"/>
                  </a:lnTo>
                  <a:lnTo>
                    <a:pt x="486" y="546"/>
                  </a:lnTo>
                  <a:lnTo>
                    <a:pt x="246" y="621"/>
                  </a:lnTo>
                  <a:lnTo>
                    <a:pt x="211" y="812"/>
                  </a:lnTo>
                  <a:lnTo>
                    <a:pt x="295" y="812"/>
                  </a:lnTo>
                  <a:lnTo>
                    <a:pt x="88" y="896"/>
                  </a:lnTo>
                  <a:lnTo>
                    <a:pt x="39" y="1054"/>
                  </a:lnTo>
                  <a:lnTo>
                    <a:pt x="48" y="1262"/>
                  </a:lnTo>
                  <a:lnTo>
                    <a:pt x="273" y="1500"/>
                  </a:lnTo>
                  <a:lnTo>
                    <a:pt x="39" y="1288"/>
                  </a:lnTo>
                  <a:lnTo>
                    <a:pt x="0" y="1116"/>
                  </a:lnTo>
                  <a:lnTo>
                    <a:pt x="17" y="944"/>
                  </a:lnTo>
                  <a:lnTo>
                    <a:pt x="101" y="821"/>
                  </a:lnTo>
                  <a:lnTo>
                    <a:pt x="176" y="81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8356680" y="1006560"/>
              <a:ext cx="405000" cy="524160"/>
            </a:xfrm>
            <a:custGeom>
              <a:avLst/>
              <a:gdLst/>
              <a:ahLst/>
              <a:rect l="0" t="0" r="r" b="b"/>
              <a:pathLst>
                <a:path w="1125" h="1456">
                  <a:moveTo>
                    <a:pt x="308" y="0"/>
                  </a:moveTo>
                  <a:lnTo>
                    <a:pt x="379" y="44"/>
                  </a:lnTo>
                  <a:lnTo>
                    <a:pt x="396" y="167"/>
                  </a:lnTo>
                  <a:lnTo>
                    <a:pt x="396" y="282"/>
                  </a:lnTo>
                  <a:lnTo>
                    <a:pt x="273" y="493"/>
                  </a:lnTo>
                  <a:lnTo>
                    <a:pt x="299" y="648"/>
                  </a:lnTo>
                  <a:lnTo>
                    <a:pt x="675" y="821"/>
                  </a:lnTo>
                  <a:lnTo>
                    <a:pt x="1116" y="1275"/>
                  </a:lnTo>
                  <a:lnTo>
                    <a:pt x="1125" y="1403"/>
                  </a:lnTo>
                  <a:lnTo>
                    <a:pt x="1099" y="1456"/>
                  </a:lnTo>
                  <a:lnTo>
                    <a:pt x="935" y="1456"/>
                  </a:lnTo>
                  <a:lnTo>
                    <a:pt x="790" y="1368"/>
                  </a:lnTo>
                  <a:lnTo>
                    <a:pt x="666" y="1218"/>
                  </a:lnTo>
                  <a:lnTo>
                    <a:pt x="600" y="1129"/>
                  </a:lnTo>
                  <a:lnTo>
                    <a:pt x="520" y="1116"/>
                  </a:lnTo>
                  <a:lnTo>
                    <a:pt x="618" y="1116"/>
                  </a:lnTo>
                  <a:lnTo>
                    <a:pt x="803" y="1354"/>
                  </a:lnTo>
                  <a:lnTo>
                    <a:pt x="1037" y="1425"/>
                  </a:lnTo>
                  <a:lnTo>
                    <a:pt x="1085" y="1354"/>
                  </a:lnTo>
                  <a:lnTo>
                    <a:pt x="1063" y="1244"/>
                  </a:lnTo>
                  <a:lnTo>
                    <a:pt x="653" y="918"/>
                  </a:lnTo>
                  <a:lnTo>
                    <a:pt x="591" y="821"/>
                  </a:lnTo>
                  <a:lnTo>
                    <a:pt x="273" y="737"/>
                  </a:lnTo>
                  <a:lnTo>
                    <a:pt x="216" y="821"/>
                  </a:lnTo>
                  <a:lnTo>
                    <a:pt x="0" y="957"/>
                  </a:lnTo>
                  <a:lnTo>
                    <a:pt x="207" y="799"/>
                  </a:lnTo>
                  <a:lnTo>
                    <a:pt x="216" y="696"/>
                  </a:lnTo>
                  <a:lnTo>
                    <a:pt x="216" y="463"/>
                  </a:lnTo>
                  <a:lnTo>
                    <a:pt x="361" y="282"/>
                  </a:lnTo>
                  <a:lnTo>
                    <a:pt x="361" y="57"/>
                  </a:lnTo>
                  <a:lnTo>
                    <a:pt x="30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8282160" y="1417680"/>
              <a:ext cx="344880" cy="309960"/>
            </a:xfrm>
            <a:custGeom>
              <a:avLst/>
              <a:gdLst/>
              <a:ahLst/>
              <a:rect l="0" t="0" r="r" b="b"/>
              <a:pathLst>
                <a:path w="958" h="861">
                  <a:moveTo>
                    <a:pt x="720" y="0"/>
                  </a:moveTo>
                  <a:lnTo>
                    <a:pt x="693" y="74"/>
                  </a:lnTo>
                  <a:lnTo>
                    <a:pt x="835" y="358"/>
                  </a:lnTo>
                  <a:lnTo>
                    <a:pt x="910" y="650"/>
                  </a:lnTo>
                  <a:lnTo>
                    <a:pt x="826" y="650"/>
                  </a:lnTo>
                  <a:lnTo>
                    <a:pt x="680" y="521"/>
                  </a:lnTo>
                  <a:lnTo>
                    <a:pt x="552" y="252"/>
                  </a:lnTo>
                  <a:lnTo>
                    <a:pt x="450" y="211"/>
                  </a:lnTo>
                  <a:lnTo>
                    <a:pt x="468" y="358"/>
                  </a:lnTo>
                  <a:lnTo>
                    <a:pt x="561" y="464"/>
                  </a:lnTo>
                  <a:lnTo>
                    <a:pt x="561" y="667"/>
                  </a:lnTo>
                  <a:lnTo>
                    <a:pt x="490" y="822"/>
                  </a:lnTo>
                  <a:lnTo>
                    <a:pt x="402" y="760"/>
                  </a:lnTo>
                  <a:lnTo>
                    <a:pt x="296" y="521"/>
                  </a:lnTo>
                  <a:lnTo>
                    <a:pt x="269" y="358"/>
                  </a:lnTo>
                  <a:lnTo>
                    <a:pt x="207" y="314"/>
                  </a:lnTo>
                  <a:lnTo>
                    <a:pt x="189" y="729"/>
                  </a:lnTo>
                  <a:lnTo>
                    <a:pt x="101" y="786"/>
                  </a:lnTo>
                  <a:lnTo>
                    <a:pt x="26" y="729"/>
                  </a:lnTo>
                  <a:lnTo>
                    <a:pt x="13" y="371"/>
                  </a:lnTo>
                  <a:lnTo>
                    <a:pt x="0" y="720"/>
                  </a:lnTo>
                  <a:lnTo>
                    <a:pt x="61" y="848"/>
                  </a:lnTo>
                  <a:lnTo>
                    <a:pt x="189" y="848"/>
                  </a:lnTo>
                  <a:lnTo>
                    <a:pt x="229" y="747"/>
                  </a:lnTo>
                  <a:lnTo>
                    <a:pt x="256" y="419"/>
                  </a:lnTo>
                  <a:lnTo>
                    <a:pt x="278" y="547"/>
                  </a:lnTo>
                  <a:lnTo>
                    <a:pt x="389" y="831"/>
                  </a:lnTo>
                  <a:lnTo>
                    <a:pt x="503" y="861"/>
                  </a:lnTo>
                  <a:lnTo>
                    <a:pt x="591" y="747"/>
                  </a:lnTo>
                  <a:lnTo>
                    <a:pt x="591" y="477"/>
                  </a:lnTo>
                  <a:lnTo>
                    <a:pt x="826" y="703"/>
                  </a:lnTo>
                  <a:lnTo>
                    <a:pt x="945" y="703"/>
                  </a:lnTo>
                  <a:lnTo>
                    <a:pt x="958" y="547"/>
                  </a:lnTo>
                  <a:lnTo>
                    <a:pt x="870" y="278"/>
                  </a:lnTo>
                  <a:lnTo>
                    <a:pt x="720" y="57"/>
                  </a:lnTo>
                  <a:lnTo>
                    <a:pt x="72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891480" y="1096920"/>
              <a:ext cx="1532160" cy="1263960"/>
            </a:xfrm>
            <a:custGeom>
              <a:avLst/>
              <a:gdLst/>
              <a:ahLst/>
              <a:rect l="0" t="0" r="r" b="b"/>
              <a:pathLst>
                <a:path w="4256" h="3511">
                  <a:moveTo>
                    <a:pt x="1530" y="295"/>
                  </a:moveTo>
                  <a:lnTo>
                    <a:pt x="1450" y="308"/>
                  </a:lnTo>
                  <a:lnTo>
                    <a:pt x="1336" y="485"/>
                  </a:lnTo>
                  <a:lnTo>
                    <a:pt x="1292" y="357"/>
                  </a:lnTo>
                  <a:lnTo>
                    <a:pt x="1155" y="282"/>
                  </a:lnTo>
                  <a:lnTo>
                    <a:pt x="1053" y="339"/>
                  </a:lnTo>
                  <a:lnTo>
                    <a:pt x="1009" y="568"/>
                  </a:lnTo>
                  <a:lnTo>
                    <a:pt x="630" y="846"/>
                  </a:lnTo>
                  <a:lnTo>
                    <a:pt x="652" y="965"/>
                  </a:lnTo>
                  <a:lnTo>
                    <a:pt x="564" y="1071"/>
                  </a:lnTo>
                  <a:lnTo>
                    <a:pt x="564" y="1159"/>
                  </a:lnTo>
                  <a:lnTo>
                    <a:pt x="670" y="1424"/>
                  </a:lnTo>
                  <a:lnTo>
                    <a:pt x="679" y="1750"/>
                  </a:lnTo>
                  <a:lnTo>
                    <a:pt x="608" y="2055"/>
                  </a:lnTo>
                  <a:lnTo>
                    <a:pt x="335" y="2241"/>
                  </a:lnTo>
                  <a:lnTo>
                    <a:pt x="299" y="2492"/>
                  </a:lnTo>
                  <a:lnTo>
                    <a:pt x="216" y="2492"/>
                  </a:lnTo>
                  <a:lnTo>
                    <a:pt x="171" y="2285"/>
                  </a:lnTo>
                  <a:lnTo>
                    <a:pt x="88" y="2285"/>
                  </a:lnTo>
                  <a:lnTo>
                    <a:pt x="48" y="2505"/>
                  </a:lnTo>
                  <a:lnTo>
                    <a:pt x="0" y="2563"/>
                  </a:lnTo>
                  <a:lnTo>
                    <a:pt x="189" y="2867"/>
                  </a:lnTo>
                  <a:lnTo>
                    <a:pt x="321" y="2880"/>
                  </a:lnTo>
                  <a:lnTo>
                    <a:pt x="564" y="3105"/>
                  </a:lnTo>
                  <a:lnTo>
                    <a:pt x="780" y="3131"/>
                  </a:lnTo>
                  <a:lnTo>
                    <a:pt x="903" y="3012"/>
                  </a:lnTo>
                  <a:lnTo>
                    <a:pt x="1195" y="2580"/>
                  </a:lnTo>
                  <a:lnTo>
                    <a:pt x="1221" y="3162"/>
                  </a:lnTo>
                  <a:lnTo>
                    <a:pt x="1195" y="3511"/>
                  </a:lnTo>
                  <a:lnTo>
                    <a:pt x="3656" y="3511"/>
                  </a:lnTo>
                  <a:lnTo>
                    <a:pt x="3475" y="3131"/>
                  </a:lnTo>
                  <a:lnTo>
                    <a:pt x="3387" y="2805"/>
                  </a:lnTo>
                  <a:lnTo>
                    <a:pt x="3365" y="2320"/>
                  </a:lnTo>
                  <a:lnTo>
                    <a:pt x="3511" y="2430"/>
                  </a:lnTo>
                  <a:lnTo>
                    <a:pt x="3656" y="2430"/>
                  </a:lnTo>
                  <a:lnTo>
                    <a:pt x="3859" y="2302"/>
                  </a:lnTo>
                  <a:lnTo>
                    <a:pt x="3991" y="2285"/>
                  </a:lnTo>
                  <a:lnTo>
                    <a:pt x="4075" y="2157"/>
                  </a:lnTo>
                  <a:lnTo>
                    <a:pt x="4132" y="1826"/>
                  </a:lnTo>
                  <a:lnTo>
                    <a:pt x="4256" y="1688"/>
                  </a:lnTo>
                  <a:lnTo>
                    <a:pt x="4194" y="1591"/>
                  </a:lnTo>
                  <a:lnTo>
                    <a:pt x="4102" y="1591"/>
                  </a:lnTo>
                  <a:lnTo>
                    <a:pt x="4031" y="1658"/>
                  </a:lnTo>
                  <a:lnTo>
                    <a:pt x="3956" y="1675"/>
                  </a:lnTo>
                  <a:lnTo>
                    <a:pt x="3868" y="1591"/>
                  </a:lnTo>
                  <a:lnTo>
                    <a:pt x="3766" y="1578"/>
                  </a:lnTo>
                  <a:lnTo>
                    <a:pt x="3572" y="1455"/>
                  </a:lnTo>
                  <a:lnTo>
                    <a:pt x="3449" y="1322"/>
                  </a:lnTo>
                  <a:lnTo>
                    <a:pt x="3431" y="1159"/>
                  </a:lnTo>
                  <a:lnTo>
                    <a:pt x="3449" y="1005"/>
                  </a:lnTo>
                  <a:lnTo>
                    <a:pt x="3528" y="877"/>
                  </a:lnTo>
                  <a:lnTo>
                    <a:pt x="3634" y="762"/>
                  </a:lnTo>
                  <a:lnTo>
                    <a:pt x="3625" y="560"/>
                  </a:lnTo>
                  <a:lnTo>
                    <a:pt x="3625" y="414"/>
                  </a:lnTo>
                  <a:lnTo>
                    <a:pt x="3572" y="308"/>
                  </a:lnTo>
                  <a:lnTo>
                    <a:pt x="3431" y="264"/>
                  </a:lnTo>
                  <a:lnTo>
                    <a:pt x="3378" y="238"/>
                  </a:lnTo>
                  <a:lnTo>
                    <a:pt x="3277" y="66"/>
                  </a:lnTo>
                  <a:lnTo>
                    <a:pt x="3193" y="13"/>
                  </a:lnTo>
                  <a:lnTo>
                    <a:pt x="3105" y="0"/>
                  </a:lnTo>
                  <a:lnTo>
                    <a:pt x="3030" y="30"/>
                  </a:lnTo>
                  <a:lnTo>
                    <a:pt x="2968" y="123"/>
                  </a:lnTo>
                  <a:lnTo>
                    <a:pt x="2876" y="176"/>
                  </a:lnTo>
                  <a:lnTo>
                    <a:pt x="2770" y="198"/>
                  </a:lnTo>
                  <a:lnTo>
                    <a:pt x="2651" y="198"/>
                  </a:lnTo>
                  <a:lnTo>
                    <a:pt x="2673" y="370"/>
                  </a:lnTo>
                  <a:lnTo>
                    <a:pt x="2673" y="586"/>
                  </a:lnTo>
                  <a:lnTo>
                    <a:pt x="2651" y="732"/>
                  </a:lnTo>
                  <a:lnTo>
                    <a:pt x="2549" y="903"/>
                  </a:lnTo>
                  <a:lnTo>
                    <a:pt x="2413" y="1168"/>
                  </a:lnTo>
                  <a:lnTo>
                    <a:pt x="2307" y="1486"/>
                  </a:lnTo>
                  <a:lnTo>
                    <a:pt x="2302" y="1675"/>
                  </a:lnTo>
                  <a:lnTo>
                    <a:pt x="2249" y="1839"/>
                  </a:lnTo>
                  <a:lnTo>
                    <a:pt x="2188" y="1998"/>
                  </a:lnTo>
                  <a:lnTo>
                    <a:pt x="2157" y="2254"/>
                  </a:lnTo>
                  <a:lnTo>
                    <a:pt x="2174" y="2466"/>
                  </a:lnTo>
                  <a:lnTo>
                    <a:pt x="2249" y="2712"/>
                  </a:lnTo>
                  <a:lnTo>
                    <a:pt x="2302" y="2805"/>
                  </a:lnTo>
                  <a:lnTo>
                    <a:pt x="2157" y="2898"/>
                  </a:lnTo>
                  <a:lnTo>
                    <a:pt x="1984" y="2955"/>
                  </a:lnTo>
                  <a:lnTo>
                    <a:pt x="1794" y="2973"/>
                  </a:lnTo>
                  <a:lnTo>
                    <a:pt x="1680" y="2973"/>
                  </a:lnTo>
                  <a:lnTo>
                    <a:pt x="1605" y="2937"/>
                  </a:lnTo>
                  <a:lnTo>
                    <a:pt x="1605" y="2730"/>
                  </a:lnTo>
                  <a:lnTo>
                    <a:pt x="1605" y="2417"/>
                  </a:lnTo>
                  <a:lnTo>
                    <a:pt x="1556" y="2113"/>
                  </a:lnTo>
                  <a:lnTo>
                    <a:pt x="1481" y="1839"/>
                  </a:lnTo>
                  <a:lnTo>
                    <a:pt x="1441" y="1618"/>
                  </a:lnTo>
                  <a:lnTo>
                    <a:pt x="1433" y="1305"/>
                  </a:lnTo>
                  <a:lnTo>
                    <a:pt x="1481" y="1036"/>
                  </a:lnTo>
                  <a:lnTo>
                    <a:pt x="1556" y="820"/>
                  </a:lnTo>
                  <a:lnTo>
                    <a:pt x="1565" y="687"/>
                  </a:lnTo>
                  <a:lnTo>
                    <a:pt x="1530" y="502"/>
                  </a:lnTo>
                  <a:lnTo>
                    <a:pt x="1530" y="357"/>
                  </a:lnTo>
                  <a:lnTo>
                    <a:pt x="1556" y="308"/>
                  </a:lnTo>
                  <a:lnTo>
                    <a:pt x="1530" y="29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488360" y="1351080"/>
              <a:ext cx="194040" cy="821160"/>
            </a:xfrm>
            <a:custGeom>
              <a:avLst/>
              <a:gdLst/>
              <a:ahLst/>
              <a:rect l="0" t="0" r="r" b="b"/>
              <a:pathLst>
                <a:path w="539" h="2281">
                  <a:moveTo>
                    <a:pt x="217" y="26"/>
                  </a:moveTo>
                  <a:lnTo>
                    <a:pt x="70" y="101"/>
                  </a:lnTo>
                  <a:lnTo>
                    <a:pt x="83" y="321"/>
                  </a:lnTo>
                  <a:lnTo>
                    <a:pt x="190" y="383"/>
                  </a:lnTo>
                  <a:lnTo>
                    <a:pt x="61" y="622"/>
                  </a:lnTo>
                  <a:lnTo>
                    <a:pt x="0" y="887"/>
                  </a:lnTo>
                  <a:lnTo>
                    <a:pt x="0" y="1138"/>
                  </a:lnTo>
                  <a:lnTo>
                    <a:pt x="61" y="1368"/>
                  </a:lnTo>
                  <a:lnTo>
                    <a:pt x="114" y="1645"/>
                  </a:lnTo>
                  <a:lnTo>
                    <a:pt x="114" y="1805"/>
                  </a:lnTo>
                  <a:lnTo>
                    <a:pt x="61" y="2004"/>
                  </a:lnTo>
                  <a:lnTo>
                    <a:pt x="278" y="2281"/>
                  </a:lnTo>
                  <a:lnTo>
                    <a:pt x="371" y="2237"/>
                  </a:lnTo>
                  <a:lnTo>
                    <a:pt x="429" y="2043"/>
                  </a:lnTo>
                  <a:lnTo>
                    <a:pt x="531" y="1792"/>
                  </a:lnTo>
                  <a:lnTo>
                    <a:pt x="539" y="1659"/>
                  </a:lnTo>
                  <a:lnTo>
                    <a:pt x="456" y="1407"/>
                  </a:lnTo>
                  <a:lnTo>
                    <a:pt x="353" y="1165"/>
                  </a:lnTo>
                  <a:lnTo>
                    <a:pt x="318" y="993"/>
                  </a:lnTo>
                  <a:lnTo>
                    <a:pt x="318" y="830"/>
                  </a:lnTo>
                  <a:lnTo>
                    <a:pt x="353" y="680"/>
                  </a:lnTo>
                  <a:lnTo>
                    <a:pt x="429" y="498"/>
                  </a:lnTo>
                  <a:lnTo>
                    <a:pt x="429" y="423"/>
                  </a:lnTo>
                  <a:lnTo>
                    <a:pt x="393" y="352"/>
                  </a:lnTo>
                  <a:lnTo>
                    <a:pt x="495" y="260"/>
                  </a:lnTo>
                  <a:lnTo>
                    <a:pt x="495" y="171"/>
                  </a:lnTo>
                  <a:lnTo>
                    <a:pt x="353" y="0"/>
                  </a:lnTo>
                  <a:lnTo>
                    <a:pt x="469" y="171"/>
                  </a:lnTo>
                  <a:lnTo>
                    <a:pt x="469" y="246"/>
                  </a:lnTo>
                  <a:lnTo>
                    <a:pt x="367" y="321"/>
                  </a:lnTo>
                  <a:lnTo>
                    <a:pt x="407" y="423"/>
                  </a:lnTo>
                  <a:lnTo>
                    <a:pt x="393" y="498"/>
                  </a:lnTo>
                  <a:lnTo>
                    <a:pt x="292" y="710"/>
                  </a:lnTo>
                  <a:lnTo>
                    <a:pt x="278" y="913"/>
                  </a:lnTo>
                  <a:lnTo>
                    <a:pt x="305" y="1107"/>
                  </a:lnTo>
                  <a:lnTo>
                    <a:pt x="371" y="1381"/>
                  </a:lnTo>
                  <a:lnTo>
                    <a:pt x="456" y="1601"/>
                  </a:lnTo>
                  <a:lnTo>
                    <a:pt x="456" y="1779"/>
                  </a:lnTo>
                  <a:lnTo>
                    <a:pt x="407" y="2004"/>
                  </a:lnTo>
                  <a:lnTo>
                    <a:pt x="305" y="2237"/>
                  </a:lnTo>
                  <a:lnTo>
                    <a:pt x="177" y="2109"/>
                  </a:lnTo>
                  <a:lnTo>
                    <a:pt x="127" y="2004"/>
                  </a:lnTo>
                  <a:lnTo>
                    <a:pt x="137" y="1779"/>
                  </a:lnTo>
                  <a:lnTo>
                    <a:pt x="127" y="1553"/>
                  </a:lnTo>
                  <a:lnTo>
                    <a:pt x="61" y="1253"/>
                  </a:lnTo>
                  <a:lnTo>
                    <a:pt x="39" y="1046"/>
                  </a:lnTo>
                  <a:lnTo>
                    <a:pt x="61" y="812"/>
                  </a:lnTo>
                  <a:lnTo>
                    <a:pt x="114" y="591"/>
                  </a:lnTo>
                  <a:lnTo>
                    <a:pt x="225" y="366"/>
                  </a:lnTo>
                  <a:lnTo>
                    <a:pt x="127" y="273"/>
                  </a:lnTo>
                  <a:lnTo>
                    <a:pt x="114" y="114"/>
                  </a:lnTo>
                  <a:lnTo>
                    <a:pt x="217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039160" y="392040"/>
              <a:ext cx="305280" cy="398880"/>
            </a:xfrm>
            <a:custGeom>
              <a:avLst/>
              <a:gdLst/>
              <a:ahLst/>
              <a:rect l="0" t="0" r="r" b="b"/>
              <a:pathLst>
                <a:path w="848" h="1108">
                  <a:moveTo>
                    <a:pt x="141" y="283"/>
                  </a:moveTo>
                  <a:lnTo>
                    <a:pt x="265" y="260"/>
                  </a:lnTo>
                  <a:lnTo>
                    <a:pt x="384" y="268"/>
                  </a:lnTo>
                  <a:lnTo>
                    <a:pt x="486" y="314"/>
                  </a:lnTo>
                  <a:lnTo>
                    <a:pt x="543" y="375"/>
                  </a:lnTo>
                  <a:lnTo>
                    <a:pt x="565" y="433"/>
                  </a:lnTo>
                  <a:lnTo>
                    <a:pt x="565" y="490"/>
                  </a:lnTo>
                  <a:lnTo>
                    <a:pt x="538" y="525"/>
                  </a:lnTo>
                  <a:lnTo>
                    <a:pt x="481" y="552"/>
                  </a:lnTo>
                  <a:lnTo>
                    <a:pt x="419" y="556"/>
                  </a:lnTo>
                  <a:lnTo>
                    <a:pt x="344" y="538"/>
                  </a:lnTo>
                  <a:lnTo>
                    <a:pt x="269" y="494"/>
                  </a:lnTo>
                  <a:lnTo>
                    <a:pt x="211" y="450"/>
                  </a:lnTo>
                  <a:lnTo>
                    <a:pt x="189" y="591"/>
                  </a:lnTo>
                  <a:lnTo>
                    <a:pt x="141" y="693"/>
                  </a:lnTo>
                  <a:lnTo>
                    <a:pt x="0" y="928"/>
                  </a:lnTo>
                  <a:lnTo>
                    <a:pt x="207" y="1108"/>
                  </a:lnTo>
                  <a:lnTo>
                    <a:pt x="362" y="807"/>
                  </a:lnTo>
                  <a:lnTo>
                    <a:pt x="538" y="835"/>
                  </a:lnTo>
                  <a:lnTo>
                    <a:pt x="645" y="812"/>
                  </a:lnTo>
                  <a:lnTo>
                    <a:pt x="751" y="741"/>
                  </a:lnTo>
                  <a:lnTo>
                    <a:pt x="813" y="658"/>
                  </a:lnTo>
                  <a:lnTo>
                    <a:pt x="848" y="543"/>
                  </a:lnTo>
                  <a:lnTo>
                    <a:pt x="848" y="424"/>
                  </a:lnTo>
                  <a:lnTo>
                    <a:pt x="813" y="296"/>
                  </a:lnTo>
                  <a:lnTo>
                    <a:pt x="747" y="167"/>
                  </a:lnTo>
                  <a:lnTo>
                    <a:pt x="659" y="79"/>
                  </a:lnTo>
                  <a:lnTo>
                    <a:pt x="552" y="26"/>
                  </a:lnTo>
                  <a:lnTo>
                    <a:pt x="433" y="0"/>
                  </a:lnTo>
                  <a:lnTo>
                    <a:pt x="283" y="0"/>
                  </a:lnTo>
                  <a:lnTo>
                    <a:pt x="114" y="30"/>
                  </a:lnTo>
                  <a:lnTo>
                    <a:pt x="141" y="283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985160" y="779400"/>
              <a:ext cx="109800" cy="79560"/>
            </a:xfrm>
            <a:custGeom>
              <a:avLst/>
              <a:gdLst/>
              <a:ahLst/>
              <a:rect l="0" t="0" r="r" b="b"/>
              <a:pathLst>
                <a:path w="305" h="221">
                  <a:moveTo>
                    <a:pt x="119" y="0"/>
                  </a:moveTo>
                  <a:lnTo>
                    <a:pt x="39" y="0"/>
                  </a:lnTo>
                  <a:lnTo>
                    <a:pt x="0" y="30"/>
                  </a:lnTo>
                  <a:lnTo>
                    <a:pt x="0" y="111"/>
                  </a:lnTo>
                  <a:lnTo>
                    <a:pt x="61" y="190"/>
                  </a:lnTo>
                  <a:lnTo>
                    <a:pt x="186" y="221"/>
                  </a:lnTo>
                  <a:lnTo>
                    <a:pt x="274" y="217"/>
                  </a:lnTo>
                  <a:lnTo>
                    <a:pt x="305" y="164"/>
                  </a:lnTo>
                  <a:lnTo>
                    <a:pt x="287" y="120"/>
                  </a:lnTo>
                  <a:lnTo>
                    <a:pt x="247" y="52"/>
                  </a:lnTo>
                  <a:lnTo>
                    <a:pt x="172" y="8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1523880" y="2666880"/>
            <a:ext cx="69343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7 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dentify the issues related to accounting for natural resources and compute deple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1371600" y="83808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counting for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Natural Resour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63640" cy="703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 txBox="1"/>
          <p:nvPr/>
        </p:nvSpPr>
        <p:spPr>
          <a:xfrm>
            <a:off x="1905120" y="228600"/>
            <a:ext cx="601992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counting for Natural Asse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914400" y="16765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Natural resources are shown on the balance sheet as long-term asse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se assets are converted into inventory by cutting, pumping, or min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y are recorded at acquisition co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s the asset is converted to inventory, the asset account must be proportionally reduc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 txBox="1"/>
          <p:nvPr/>
        </p:nvSpPr>
        <p:spPr>
          <a:xfrm>
            <a:off x="9144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eple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1066680" y="1523880"/>
            <a:ext cx="76788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pletion is used to describe not only the exhaustion of a natural resource but also the proportional allocation of the cost of a natural resource to the units extrac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sts are allocated much like the production method of depreci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 txBox="1"/>
          <p:nvPr/>
        </p:nvSpPr>
        <p:spPr>
          <a:xfrm>
            <a:off x="914400" y="38088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eple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380880" y="1676520"/>
            <a:ext cx="876312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Dec. 31   Depletion Expense,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Coal Deposit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11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Accumulated Depletion,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Coal Deposits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11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To record depletion of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coal mine: $1 per ton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for 115,000 tons mined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and so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1216080" y="380880"/>
            <a:ext cx="708984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haracteristics of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Long-Term Asse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143000" y="2514600"/>
            <a:ext cx="75438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upport the operating cycle instead of being part of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re reported at carrying (book) valu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arrying value is the unexpired part of the cost of an asse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838080" y="1905120"/>
            <a:ext cx="700092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Long-term asset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re assets tha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 txBox="1"/>
          <p:nvPr/>
        </p:nvSpPr>
        <p:spPr>
          <a:xfrm>
            <a:off x="650880" y="533520"/>
            <a:ext cx="81882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epreciation of Closely Related Plant Asse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990720" y="1828800"/>
            <a:ext cx="767088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losely related plant assets are those assets necessary to extract the resour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f the life of the asset is longer than the life of the resource, it is depreciated on the same basis as the depletion is compu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f the life of the asset is shorter than the life of the resource, it is depreciated over a shorter lif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 txBox="1"/>
          <p:nvPr/>
        </p:nvSpPr>
        <p:spPr>
          <a:xfrm>
            <a:off x="1371600" y="304920"/>
            <a:ext cx="7016760" cy="19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evelopment and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Exploration Costs in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Oil and Gas Indust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914400" y="2362320"/>
            <a:ext cx="776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uccessful efforts account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st recorded as an asset and depleted over the estimated life of the resour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or an unsuccessful exploration, write off immediately as a lo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ore conservative meth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1295280" y="380880"/>
            <a:ext cx="716292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evelopment and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Exploration Costs in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Oil and Gas Indust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1143000" y="243828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ull-costing meth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ll costs are recorded as assets and depleted over the estimated life of the producing resour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mproves earnings performance in the early yea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ither method is GAA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1219320" y="914400"/>
            <a:ext cx="6892920" cy="8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838080" y="20574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Q.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Under what circumstances can a mining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company depreciate its plant assets over a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period of time that is less than their useful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live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A.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A mining company may depreciate its plant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assets over a period of time that is less than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their useful lives when the plant assets are so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closely associated with the natural resource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that they cannot be used after the resource is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depleted and the depletion period is shorter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than the useful lives of the asse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6858000" y="304920"/>
            <a:ext cx="1904040" cy="1827360"/>
            <a:chOff x="6858000" y="304920"/>
            <a:chExt cx="1904040" cy="1827360"/>
          </a:xfrm>
        </p:grpSpPr>
        <p:sp>
          <p:nvSpPr>
            <p:cNvPr id="535" name=""/>
            <p:cNvSpPr/>
            <p:nvPr/>
          </p:nvSpPr>
          <p:spPr>
            <a:xfrm>
              <a:off x="6862680" y="1201680"/>
              <a:ext cx="462240" cy="638640"/>
            </a:xfrm>
            <a:custGeom>
              <a:avLst/>
              <a:gdLst/>
              <a:ahLst/>
              <a:rect l="0" t="0" r="r" b="b"/>
              <a:pathLst>
                <a:path w="1284" h="1774">
                  <a:moveTo>
                    <a:pt x="511" y="0"/>
                  </a:moveTo>
                  <a:lnTo>
                    <a:pt x="445" y="74"/>
                  </a:lnTo>
                  <a:lnTo>
                    <a:pt x="445" y="308"/>
                  </a:lnTo>
                  <a:lnTo>
                    <a:pt x="511" y="472"/>
                  </a:lnTo>
                  <a:lnTo>
                    <a:pt x="586" y="561"/>
                  </a:lnTo>
                  <a:lnTo>
                    <a:pt x="471" y="675"/>
                  </a:lnTo>
                  <a:lnTo>
                    <a:pt x="321" y="931"/>
                  </a:lnTo>
                  <a:lnTo>
                    <a:pt x="26" y="1346"/>
                  </a:lnTo>
                  <a:lnTo>
                    <a:pt x="0" y="1435"/>
                  </a:lnTo>
                  <a:lnTo>
                    <a:pt x="26" y="1518"/>
                  </a:lnTo>
                  <a:lnTo>
                    <a:pt x="114" y="1518"/>
                  </a:lnTo>
                  <a:lnTo>
                    <a:pt x="194" y="1426"/>
                  </a:lnTo>
                  <a:lnTo>
                    <a:pt x="321" y="1196"/>
                  </a:lnTo>
                  <a:lnTo>
                    <a:pt x="401" y="1099"/>
                  </a:lnTo>
                  <a:lnTo>
                    <a:pt x="445" y="1248"/>
                  </a:lnTo>
                  <a:lnTo>
                    <a:pt x="410" y="1413"/>
                  </a:lnTo>
                  <a:lnTo>
                    <a:pt x="286" y="1642"/>
                  </a:lnTo>
                  <a:lnTo>
                    <a:pt x="321" y="1704"/>
                  </a:lnTo>
                  <a:lnTo>
                    <a:pt x="401" y="1682"/>
                  </a:lnTo>
                  <a:lnTo>
                    <a:pt x="555" y="1563"/>
                  </a:lnTo>
                  <a:lnTo>
                    <a:pt x="684" y="1355"/>
                  </a:lnTo>
                  <a:lnTo>
                    <a:pt x="684" y="1717"/>
                  </a:lnTo>
                  <a:lnTo>
                    <a:pt x="838" y="1774"/>
                  </a:lnTo>
                  <a:lnTo>
                    <a:pt x="927" y="1554"/>
                  </a:lnTo>
                  <a:lnTo>
                    <a:pt x="1002" y="1765"/>
                  </a:lnTo>
                  <a:lnTo>
                    <a:pt x="1063" y="1704"/>
                  </a:lnTo>
                  <a:lnTo>
                    <a:pt x="1094" y="1293"/>
                  </a:lnTo>
                  <a:lnTo>
                    <a:pt x="1284" y="896"/>
                  </a:lnTo>
                  <a:lnTo>
                    <a:pt x="1244" y="675"/>
                  </a:lnTo>
                  <a:lnTo>
                    <a:pt x="1107" y="587"/>
                  </a:lnTo>
                  <a:lnTo>
                    <a:pt x="971" y="605"/>
                  </a:lnTo>
                  <a:lnTo>
                    <a:pt x="927" y="418"/>
                  </a:lnTo>
                  <a:lnTo>
                    <a:pt x="781" y="374"/>
                  </a:lnTo>
                  <a:lnTo>
                    <a:pt x="662" y="321"/>
                  </a:lnTo>
                  <a:lnTo>
                    <a:pt x="586" y="39"/>
                  </a:lnTo>
                  <a:lnTo>
                    <a:pt x="511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251840" y="1460520"/>
              <a:ext cx="135360" cy="311400"/>
            </a:xfrm>
            <a:custGeom>
              <a:avLst/>
              <a:gdLst/>
              <a:ahLst/>
              <a:rect l="0" t="0" r="r" b="b"/>
              <a:pathLst>
                <a:path w="376" h="865">
                  <a:moveTo>
                    <a:pt x="186" y="0"/>
                  </a:moveTo>
                  <a:lnTo>
                    <a:pt x="376" y="224"/>
                  </a:lnTo>
                  <a:lnTo>
                    <a:pt x="288" y="706"/>
                  </a:lnTo>
                  <a:lnTo>
                    <a:pt x="0" y="865"/>
                  </a:lnTo>
                  <a:lnTo>
                    <a:pt x="0" y="613"/>
                  </a:lnTo>
                  <a:lnTo>
                    <a:pt x="115" y="370"/>
                  </a:lnTo>
                  <a:lnTo>
                    <a:pt x="186" y="18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8136000" y="1282680"/>
              <a:ext cx="343440" cy="279720"/>
            </a:xfrm>
            <a:custGeom>
              <a:avLst/>
              <a:gdLst/>
              <a:ahLst/>
              <a:rect l="0" t="0" r="r" b="b"/>
              <a:pathLst>
                <a:path w="954" h="777">
                  <a:moveTo>
                    <a:pt x="397" y="0"/>
                  </a:moveTo>
                  <a:lnTo>
                    <a:pt x="397" y="119"/>
                  </a:lnTo>
                  <a:lnTo>
                    <a:pt x="428" y="229"/>
                  </a:lnTo>
                  <a:lnTo>
                    <a:pt x="618" y="419"/>
                  </a:lnTo>
                  <a:lnTo>
                    <a:pt x="954" y="525"/>
                  </a:lnTo>
                  <a:lnTo>
                    <a:pt x="910" y="768"/>
                  </a:lnTo>
                  <a:lnTo>
                    <a:pt x="618" y="777"/>
                  </a:lnTo>
                  <a:lnTo>
                    <a:pt x="180" y="609"/>
                  </a:lnTo>
                  <a:lnTo>
                    <a:pt x="0" y="308"/>
                  </a:lnTo>
                  <a:lnTo>
                    <a:pt x="216" y="13"/>
                  </a:lnTo>
                  <a:lnTo>
                    <a:pt x="397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8273880" y="966960"/>
              <a:ext cx="475200" cy="616320"/>
            </a:xfrm>
            <a:custGeom>
              <a:avLst/>
              <a:gdLst/>
              <a:ahLst/>
              <a:rect l="0" t="0" r="r" b="b"/>
              <a:pathLst>
                <a:path w="1320" h="1712">
                  <a:moveTo>
                    <a:pt x="119" y="733"/>
                  </a:moveTo>
                  <a:lnTo>
                    <a:pt x="0" y="847"/>
                  </a:lnTo>
                  <a:lnTo>
                    <a:pt x="26" y="1125"/>
                  </a:lnTo>
                  <a:lnTo>
                    <a:pt x="211" y="1253"/>
                  </a:lnTo>
                  <a:lnTo>
                    <a:pt x="224" y="1677"/>
                  </a:lnTo>
                  <a:lnTo>
                    <a:pt x="411" y="1677"/>
                  </a:lnTo>
                  <a:lnTo>
                    <a:pt x="397" y="1324"/>
                  </a:lnTo>
                  <a:lnTo>
                    <a:pt x="538" y="1704"/>
                  </a:lnTo>
                  <a:lnTo>
                    <a:pt x="627" y="1712"/>
                  </a:lnTo>
                  <a:lnTo>
                    <a:pt x="693" y="1593"/>
                  </a:lnTo>
                  <a:lnTo>
                    <a:pt x="702" y="1346"/>
                  </a:lnTo>
                  <a:lnTo>
                    <a:pt x="909" y="1571"/>
                  </a:lnTo>
                  <a:lnTo>
                    <a:pt x="988" y="1554"/>
                  </a:lnTo>
                  <a:lnTo>
                    <a:pt x="966" y="1404"/>
                  </a:lnTo>
                  <a:lnTo>
                    <a:pt x="891" y="1187"/>
                  </a:lnTo>
                  <a:lnTo>
                    <a:pt x="812" y="1050"/>
                  </a:lnTo>
                  <a:lnTo>
                    <a:pt x="843" y="949"/>
                  </a:lnTo>
                  <a:lnTo>
                    <a:pt x="891" y="962"/>
                  </a:lnTo>
                  <a:lnTo>
                    <a:pt x="1077" y="1187"/>
                  </a:lnTo>
                  <a:lnTo>
                    <a:pt x="1280" y="1235"/>
                  </a:lnTo>
                  <a:lnTo>
                    <a:pt x="1320" y="1173"/>
                  </a:lnTo>
                  <a:lnTo>
                    <a:pt x="1289" y="1054"/>
                  </a:lnTo>
                  <a:lnTo>
                    <a:pt x="922" y="706"/>
                  </a:lnTo>
                  <a:lnTo>
                    <a:pt x="627" y="600"/>
                  </a:lnTo>
                  <a:lnTo>
                    <a:pt x="591" y="414"/>
                  </a:lnTo>
                  <a:lnTo>
                    <a:pt x="693" y="233"/>
                  </a:lnTo>
                  <a:lnTo>
                    <a:pt x="693" y="57"/>
                  </a:lnTo>
                  <a:lnTo>
                    <a:pt x="613" y="0"/>
                  </a:lnTo>
                  <a:lnTo>
                    <a:pt x="397" y="468"/>
                  </a:lnTo>
                  <a:lnTo>
                    <a:pt x="211" y="534"/>
                  </a:lnTo>
                  <a:lnTo>
                    <a:pt x="158" y="662"/>
                  </a:lnTo>
                  <a:lnTo>
                    <a:pt x="119" y="733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491240" y="434880"/>
              <a:ext cx="519480" cy="783000"/>
            </a:xfrm>
            <a:custGeom>
              <a:avLst/>
              <a:gdLst/>
              <a:ahLst/>
              <a:rect l="0" t="0" r="r" b="b"/>
              <a:pathLst>
                <a:path w="1443" h="2175">
                  <a:moveTo>
                    <a:pt x="362" y="304"/>
                  </a:moveTo>
                  <a:lnTo>
                    <a:pt x="251" y="724"/>
                  </a:lnTo>
                  <a:lnTo>
                    <a:pt x="13" y="803"/>
                  </a:lnTo>
                  <a:lnTo>
                    <a:pt x="79" y="935"/>
                  </a:lnTo>
                  <a:lnTo>
                    <a:pt x="0" y="1015"/>
                  </a:lnTo>
                  <a:lnTo>
                    <a:pt x="0" y="1165"/>
                  </a:lnTo>
                  <a:lnTo>
                    <a:pt x="114" y="1310"/>
                  </a:lnTo>
                  <a:lnTo>
                    <a:pt x="224" y="1310"/>
                  </a:lnTo>
                  <a:lnTo>
                    <a:pt x="304" y="1787"/>
                  </a:lnTo>
                  <a:lnTo>
                    <a:pt x="384" y="1999"/>
                  </a:lnTo>
                  <a:lnTo>
                    <a:pt x="688" y="2175"/>
                  </a:lnTo>
                  <a:lnTo>
                    <a:pt x="979" y="2145"/>
                  </a:lnTo>
                  <a:lnTo>
                    <a:pt x="1117" y="1787"/>
                  </a:lnTo>
                  <a:lnTo>
                    <a:pt x="1152" y="1235"/>
                  </a:lnTo>
                  <a:lnTo>
                    <a:pt x="1443" y="962"/>
                  </a:lnTo>
                  <a:lnTo>
                    <a:pt x="1435" y="852"/>
                  </a:lnTo>
                  <a:lnTo>
                    <a:pt x="1399" y="803"/>
                  </a:lnTo>
                  <a:lnTo>
                    <a:pt x="1249" y="790"/>
                  </a:lnTo>
                  <a:lnTo>
                    <a:pt x="1294" y="644"/>
                  </a:lnTo>
                  <a:lnTo>
                    <a:pt x="1144" y="547"/>
                  </a:lnTo>
                  <a:lnTo>
                    <a:pt x="1076" y="242"/>
                  </a:lnTo>
                  <a:lnTo>
                    <a:pt x="627" y="0"/>
                  </a:lnTo>
                  <a:lnTo>
                    <a:pt x="384" y="220"/>
                  </a:lnTo>
                  <a:lnTo>
                    <a:pt x="362" y="304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529400" y="1090440"/>
              <a:ext cx="478080" cy="938520"/>
            </a:xfrm>
            <a:custGeom>
              <a:avLst/>
              <a:gdLst/>
              <a:ahLst/>
              <a:rect l="0" t="0" r="r" b="b"/>
              <a:pathLst>
                <a:path w="1328" h="2607">
                  <a:moveTo>
                    <a:pt x="268" y="141"/>
                  </a:moveTo>
                  <a:lnTo>
                    <a:pt x="458" y="260"/>
                  </a:lnTo>
                  <a:lnTo>
                    <a:pt x="555" y="405"/>
                  </a:lnTo>
                  <a:lnTo>
                    <a:pt x="1085" y="0"/>
                  </a:lnTo>
                  <a:lnTo>
                    <a:pt x="1253" y="88"/>
                  </a:lnTo>
                  <a:lnTo>
                    <a:pt x="1328" y="502"/>
                  </a:lnTo>
                  <a:lnTo>
                    <a:pt x="949" y="1689"/>
                  </a:lnTo>
                  <a:lnTo>
                    <a:pt x="1068" y="2355"/>
                  </a:lnTo>
                  <a:lnTo>
                    <a:pt x="564" y="2607"/>
                  </a:lnTo>
                  <a:lnTo>
                    <a:pt x="180" y="2466"/>
                  </a:lnTo>
                  <a:lnTo>
                    <a:pt x="180" y="1764"/>
                  </a:lnTo>
                  <a:lnTo>
                    <a:pt x="0" y="1084"/>
                  </a:lnTo>
                  <a:lnTo>
                    <a:pt x="180" y="260"/>
                  </a:lnTo>
                  <a:lnTo>
                    <a:pt x="268" y="141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550280" y="328680"/>
              <a:ext cx="444960" cy="248040"/>
            </a:xfrm>
            <a:custGeom>
              <a:avLst/>
              <a:gdLst/>
              <a:ahLst/>
              <a:rect l="0" t="0" r="r" b="b"/>
              <a:pathLst>
                <a:path w="1236" h="689">
                  <a:moveTo>
                    <a:pt x="149" y="654"/>
                  </a:moveTo>
                  <a:lnTo>
                    <a:pt x="331" y="472"/>
                  </a:lnTo>
                  <a:lnTo>
                    <a:pt x="446" y="441"/>
                  </a:lnTo>
                  <a:lnTo>
                    <a:pt x="446" y="468"/>
                  </a:lnTo>
                  <a:lnTo>
                    <a:pt x="508" y="441"/>
                  </a:lnTo>
                  <a:lnTo>
                    <a:pt x="587" y="499"/>
                  </a:lnTo>
                  <a:lnTo>
                    <a:pt x="728" y="531"/>
                  </a:lnTo>
                  <a:lnTo>
                    <a:pt x="847" y="689"/>
                  </a:lnTo>
                  <a:lnTo>
                    <a:pt x="1042" y="619"/>
                  </a:lnTo>
                  <a:lnTo>
                    <a:pt x="1042" y="544"/>
                  </a:lnTo>
                  <a:lnTo>
                    <a:pt x="1236" y="468"/>
                  </a:lnTo>
                  <a:lnTo>
                    <a:pt x="1174" y="331"/>
                  </a:lnTo>
                  <a:lnTo>
                    <a:pt x="994" y="322"/>
                  </a:lnTo>
                  <a:lnTo>
                    <a:pt x="1020" y="181"/>
                  </a:lnTo>
                  <a:lnTo>
                    <a:pt x="865" y="199"/>
                  </a:lnTo>
                  <a:lnTo>
                    <a:pt x="834" y="97"/>
                  </a:lnTo>
                  <a:lnTo>
                    <a:pt x="728" y="97"/>
                  </a:lnTo>
                  <a:lnTo>
                    <a:pt x="649" y="154"/>
                  </a:lnTo>
                  <a:lnTo>
                    <a:pt x="587" y="154"/>
                  </a:lnTo>
                  <a:lnTo>
                    <a:pt x="596" y="0"/>
                  </a:lnTo>
                  <a:lnTo>
                    <a:pt x="446" y="70"/>
                  </a:lnTo>
                  <a:lnTo>
                    <a:pt x="242" y="322"/>
                  </a:lnTo>
                  <a:lnTo>
                    <a:pt x="229" y="154"/>
                  </a:lnTo>
                  <a:lnTo>
                    <a:pt x="119" y="230"/>
                  </a:lnTo>
                  <a:lnTo>
                    <a:pt x="88" y="441"/>
                  </a:lnTo>
                  <a:lnTo>
                    <a:pt x="0" y="411"/>
                  </a:lnTo>
                  <a:lnTo>
                    <a:pt x="8" y="544"/>
                  </a:lnTo>
                  <a:lnTo>
                    <a:pt x="149" y="654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667640" y="1262160"/>
              <a:ext cx="143280" cy="713160"/>
            </a:xfrm>
            <a:custGeom>
              <a:avLst/>
              <a:gdLst/>
              <a:ahLst/>
              <a:rect l="0" t="0" r="r" b="b"/>
              <a:pathLst>
                <a:path w="398" h="1981">
                  <a:moveTo>
                    <a:pt x="199" y="8"/>
                  </a:moveTo>
                  <a:lnTo>
                    <a:pt x="70" y="97"/>
                  </a:lnTo>
                  <a:lnTo>
                    <a:pt x="70" y="268"/>
                  </a:lnTo>
                  <a:lnTo>
                    <a:pt x="164" y="317"/>
                  </a:lnTo>
                  <a:lnTo>
                    <a:pt x="35" y="587"/>
                  </a:lnTo>
                  <a:lnTo>
                    <a:pt x="0" y="931"/>
                  </a:lnTo>
                  <a:lnTo>
                    <a:pt x="97" y="1390"/>
                  </a:lnTo>
                  <a:lnTo>
                    <a:pt x="97" y="1576"/>
                  </a:lnTo>
                  <a:lnTo>
                    <a:pt x="44" y="1721"/>
                  </a:lnTo>
                  <a:lnTo>
                    <a:pt x="256" y="1981"/>
                  </a:lnTo>
                  <a:lnTo>
                    <a:pt x="390" y="1598"/>
                  </a:lnTo>
                  <a:lnTo>
                    <a:pt x="390" y="1328"/>
                  </a:lnTo>
                  <a:lnTo>
                    <a:pt x="283" y="1081"/>
                  </a:lnTo>
                  <a:lnTo>
                    <a:pt x="239" y="746"/>
                  </a:lnTo>
                  <a:lnTo>
                    <a:pt x="332" y="418"/>
                  </a:lnTo>
                  <a:lnTo>
                    <a:pt x="306" y="295"/>
                  </a:lnTo>
                  <a:lnTo>
                    <a:pt x="398" y="220"/>
                  </a:lnTo>
                  <a:lnTo>
                    <a:pt x="390" y="141"/>
                  </a:lnTo>
                  <a:lnTo>
                    <a:pt x="265" y="0"/>
                  </a:lnTo>
                  <a:lnTo>
                    <a:pt x="199" y="8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666200" y="1025640"/>
              <a:ext cx="114840" cy="65520"/>
            </a:xfrm>
            <a:custGeom>
              <a:avLst/>
              <a:gdLst/>
              <a:ahLst/>
              <a:rect l="0" t="0" r="r" b="b"/>
              <a:pathLst>
                <a:path w="319" h="182">
                  <a:moveTo>
                    <a:pt x="0" y="58"/>
                  </a:moveTo>
                  <a:lnTo>
                    <a:pt x="128" y="182"/>
                  </a:lnTo>
                  <a:lnTo>
                    <a:pt x="253" y="173"/>
                  </a:lnTo>
                  <a:lnTo>
                    <a:pt x="319" y="13"/>
                  </a:lnTo>
                  <a:lnTo>
                    <a:pt x="177" y="0"/>
                  </a:lnTo>
                  <a:lnTo>
                    <a:pt x="30" y="13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540560" y="700200"/>
              <a:ext cx="141480" cy="138600"/>
            </a:xfrm>
            <a:custGeom>
              <a:avLst/>
              <a:gdLst/>
              <a:ahLst/>
              <a:rect l="0" t="0" r="r" b="b"/>
              <a:pathLst>
                <a:path w="393" h="385">
                  <a:moveTo>
                    <a:pt x="0" y="44"/>
                  </a:moveTo>
                  <a:lnTo>
                    <a:pt x="274" y="385"/>
                  </a:lnTo>
                  <a:lnTo>
                    <a:pt x="393" y="354"/>
                  </a:lnTo>
                  <a:lnTo>
                    <a:pt x="110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792920" y="668160"/>
              <a:ext cx="122760" cy="136800"/>
            </a:xfrm>
            <a:custGeom>
              <a:avLst/>
              <a:gdLst/>
              <a:ahLst/>
              <a:rect l="0" t="0" r="r" b="b"/>
              <a:pathLst>
                <a:path w="341" h="380">
                  <a:moveTo>
                    <a:pt x="0" y="52"/>
                  </a:moveTo>
                  <a:lnTo>
                    <a:pt x="234" y="380"/>
                  </a:lnTo>
                  <a:lnTo>
                    <a:pt x="341" y="292"/>
                  </a:lnTo>
                  <a:lnTo>
                    <a:pt x="93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488360" y="490680"/>
              <a:ext cx="495720" cy="348120"/>
            </a:xfrm>
            <a:custGeom>
              <a:avLst/>
              <a:gdLst/>
              <a:ahLst/>
              <a:rect l="0" t="0" r="r" b="b"/>
              <a:pathLst>
                <a:path w="1377" h="967">
                  <a:moveTo>
                    <a:pt x="636" y="574"/>
                  </a:moveTo>
                  <a:lnTo>
                    <a:pt x="508" y="538"/>
                  </a:lnTo>
                  <a:lnTo>
                    <a:pt x="618" y="446"/>
                  </a:lnTo>
                  <a:lnTo>
                    <a:pt x="569" y="411"/>
                  </a:lnTo>
                  <a:lnTo>
                    <a:pt x="437" y="525"/>
                  </a:lnTo>
                  <a:lnTo>
                    <a:pt x="176" y="547"/>
                  </a:lnTo>
                  <a:lnTo>
                    <a:pt x="0" y="552"/>
                  </a:lnTo>
                  <a:lnTo>
                    <a:pt x="0" y="688"/>
                  </a:lnTo>
                  <a:lnTo>
                    <a:pt x="163" y="958"/>
                  </a:lnTo>
                  <a:lnTo>
                    <a:pt x="202" y="967"/>
                  </a:lnTo>
                  <a:lnTo>
                    <a:pt x="61" y="662"/>
                  </a:lnTo>
                  <a:lnTo>
                    <a:pt x="282" y="574"/>
                  </a:lnTo>
                  <a:lnTo>
                    <a:pt x="437" y="574"/>
                  </a:lnTo>
                  <a:lnTo>
                    <a:pt x="547" y="636"/>
                  </a:lnTo>
                  <a:lnTo>
                    <a:pt x="569" y="715"/>
                  </a:lnTo>
                  <a:lnTo>
                    <a:pt x="569" y="901"/>
                  </a:lnTo>
                  <a:lnTo>
                    <a:pt x="569" y="958"/>
                  </a:lnTo>
                  <a:lnTo>
                    <a:pt x="640" y="870"/>
                  </a:lnTo>
                  <a:lnTo>
                    <a:pt x="640" y="680"/>
                  </a:lnTo>
                  <a:lnTo>
                    <a:pt x="737" y="680"/>
                  </a:lnTo>
                  <a:lnTo>
                    <a:pt x="785" y="901"/>
                  </a:lnTo>
                  <a:lnTo>
                    <a:pt x="834" y="914"/>
                  </a:lnTo>
                  <a:lnTo>
                    <a:pt x="1006" y="914"/>
                  </a:lnTo>
                  <a:lnTo>
                    <a:pt x="1179" y="879"/>
                  </a:lnTo>
                  <a:lnTo>
                    <a:pt x="1294" y="800"/>
                  </a:lnTo>
                  <a:lnTo>
                    <a:pt x="1311" y="600"/>
                  </a:lnTo>
                  <a:lnTo>
                    <a:pt x="1377" y="525"/>
                  </a:lnTo>
                  <a:lnTo>
                    <a:pt x="1342" y="468"/>
                  </a:lnTo>
                  <a:lnTo>
                    <a:pt x="1183" y="419"/>
                  </a:lnTo>
                  <a:lnTo>
                    <a:pt x="1157" y="216"/>
                  </a:lnTo>
                  <a:lnTo>
                    <a:pt x="1015" y="216"/>
                  </a:lnTo>
                  <a:lnTo>
                    <a:pt x="843" y="0"/>
                  </a:lnTo>
                  <a:lnTo>
                    <a:pt x="1002" y="233"/>
                  </a:lnTo>
                  <a:lnTo>
                    <a:pt x="1051" y="233"/>
                  </a:lnTo>
                  <a:lnTo>
                    <a:pt x="1082" y="411"/>
                  </a:lnTo>
                  <a:lnTo>
                    <a:pt x="891" y="468"/>
                  </a:lnTo>
                  <a:lnTo>
                    <a:pt x="746" y="419"/>
                  </a:lnTo>
                  <a:lnTo>
                    <a:pt x="724" y="468"/>
                  </a:lnTo>
                  <a:lnTo>
                    <a:pt x="807" y="525"/>
                  </a:lnTo>
                  <a:lnTo>
                    <a:pt x="807" y="561"/>
                  </a:lnTo>
                  <a:lnTo>
                    <a:pt x="966" y="490"/>
                  </a:lnTo>
                  <a:lnTo>
                    <a:pt x="1108" y="481"/>
                  </a:lnTo>
                  <a:lnTo>
                    <a:pt x="1263" y="499"/>
                  </a:lnTo>
                  <a:lnTo>
                    <a:pt x="1263" y="525"/>
                  </a:lnTo>
                  <a:lnTo>
                    <a:pt x="1188" y="596"/>
                  </a:lnTo>
                  <a:lnTo>
                    <a:pt x="1157" y="680"/>
                  </a:lnTo>
                  <a:lnTo>
                    <a:pt x="1157" y="800"/>
                  </a:lnTo>
                  <a:lnTo>
                    <a:pt x="1060" y="848"/>
                  </a:lnTo>
                  <a:lnTo>
                    <a:pt x="927" y="861"/>
                  </a:lnTo>
                  <a:lnTo>
                    <a:pt x="834" y="861"/>
                  </a:lnTo>
                  <a:lnTo>
                    <a:pt x="807" y="826"/>
                  </a:lnTo>
                  <a:lnTo>
                    <a:pt x="785" y="600"/>
                  </a:lnTo>
                  <a:lnTo>
                    <a:pt x="640" y="600"/>
                  </a:lnTo>
                  <a:lnTo>
                    <a:pt x="636" y="57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659720" y="890640"/>
              <a:ext cx="159120" cy="71640"/>
            </a:xfrm>
            <a:custGeom>
              <a:avLst/>
              <a:gdLst/>
              <a:ahLst/>
              <a:rect l="0" t="0" r="r" b="b"/>
              <a:pathLst>
                <a:path w="442" h="199">
                  <a:moveTo>
                    <a:pt x="0" y="0"/>
                  </a:moveTo>
                  <a:lnTo>
                    <a:pt x="70" y="92"/>
                  </a:lnTo>
                  <a:lnTo>
                    <a:pt x="261" y="92"/>
                  </a:lnTo>
                  <a:lnTo>
                    <a:pt x="341" y="30"/>
                  </a:lnTo>
                  <a:lnTo>
                    <a:pt x="442" y="30"/>
                  </a:lnTo>
                  <a:lnTo>
                    <a:pt x="425" y="57"/>
                  </a:lnTo>
                  <a:lnTo>
                    <a:pt x="425" y="92"/>
                  </a:lnTo>
                  <a:lnTo>
                    <a:pt x="247" y="199"/>
                  </a:lnTo>
                  <a:lnTo>
                    <a:pt x="146" y="199"/>
                  </a:lnTo>
                  <a:lnTo>
                    <a:pt x="88" y="159"/>
                  </a:lnTo>
                  <a:lnTo>
                    <a:pt x="35" y="15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0520" bIns="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481880" y="776160"/>
              <a:ext cx="240120" cy="371880"/>
            </a:xfrm>
            <a:custGeom>
              <a:avLst/>
              <a:gdLst/>
              <a:ahLst/>
              <a:rect l="0" t="0" r="r" b="b"/>
              <a:pathLst>
                <a:path w="667" h="1033">
                  <a:moveTo>
                    <a:pt x="667" y="70"/>
                  </a:moveTo>
                  <a:lnTo>
                    <a:pt x="667" y="92"/>
                  </a:lnTo>
                  <a:lnTo>
                    <a:pt x="553" y="198"/>
                  </a:lnTo>
                  <a:lnTo>
                    <a:pt x="450" y="216"/>
                  </a:lnTo>
                  <a:lnTo>
                    <a:pt x="265" y="185"/>
                  </a:lnTo>
                  <a:lnTo>
                    <a:pt x="300" y="556"/>
                  </a:lnTo>
                  <a:lnTo>
                    <a:pt x="344" y="866"/>
                  </a:lnTo>
                  <a:lnTo>
                    <a:pt x="424" y="1033"/>
                  </a:lnTo>
                  <a:lnTo>
                    <a:pt x="344" y="919"/>
                  </a:lnTo>
                  <a:lnTo>
                    <a:pt x="314" y="782"/>
                  </a:lnTo>
                  <a:lnTo>
                    <a:pt x="256" y="433"/>
                  </a:lnTo>
                  <a:lnTo>
                    <a:pt x="203" y="450"/>
                  </a:lnTo>
                  <a:lnTo>
                    <a:pt x="141" y="419"/>
                  </a:lnTo>
                  <a:lnTo>
                    <a:pt x="8" y="229"/>
                  </a:lnTo>
                  <a:lnTo>
                    <a:pt x="0" y="127"/>
                  </a:lnTo>
                  <a:lnTo>
                    <a:pt x="0" y="61"/>
                  </a:lnTo>
                  <a:lnTo>
                    <a:pt x="30" y="13"/>
                  </a:lnTo>
                  <a:lnTo>
                    <a:pt x="105" y="0"/>
                  </a:lnTo>
                  <a:lnTo>
                    <a:pt x="114" y="30"/>
                  </a:lnTo>
                  <a:lnTo>
                    <a:pt x="48" y="48"/>
                  </a:lnTo>
                  <a:lnTo>
                    <a:pt x="35" y="119"/>
                  </a:lnTo>
                  <a:lnTo>
                    <a:pt x="44" y="220"/>
                  </a:lnTo>
                  <a:lnTo>
                    <a:pt x="132" y="309"/>
                  </a:lnTo>
                  <a:lnTo>
                    <a:pt x="163" y="287"/>
                  </a:lnTo>
                  <a:lnTo>
                    <a:pt x="163" y="101"/>
                  </a:lnTo>
                  <a:lnTo>
                    <a:pt x="252" y="141"/>
                  </a:lnTo>
                  <a:lnTo>
                    <a:pt x="371" y="167"/>
                  </a:lnTo>
                  <a:lnTo>
                    <a:pt x="481" y="158"/>
                  </a:lnTo>
                  <a:lnTo>
                    <a:pt x="592" y="101"/>
                  </a:lnTo>
                  <a:lnTo>
                    <a:pt x="667" y="7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545240" y="479520"/>
              <a:ext cx="73440" cy="200520"/>
            </a:xfrm>
            <a:custGeom>
              <a:avLst/>
              <a:gdLst/>
              <a:ahLst/>
              <a:rect l="0" t="0" r="r" b="b"/>
              <a:pathLst>
                <a:path w="204" h="557">
                  <a:moveTo>
                    <a:pt x="106" y="557"/>
                  </a:moveTo>
                  <a:lnTo>
                    <a:pt x="204" y="234"/>
                  </a:lnTo>
                  <a:lnTo>
                    <a:pt x="26" y="110"/>
                  </a:lnTo>
                  <a:lnTo>
                    <a:pt x="0" y="0"/>
                  </a:lnTo>
                  <a:lnTo>
                    <a:pt x="8" y="136"/>
                  </a:lnTo>
                  <a:lnTo>
                    <a:pt x="71" y="195"/>
                  </a:lnTo>
                  <a:lnTo>
                    <a:pt x="80" y="353"/>
                  </a:lnTo>
                  <a:lnTo>
                    <a:pt x="124" y="420"/>
                  </a:lnTo>
                  <a:lnTo>
                    <a:pt x="106" y="55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542360" y="304920"/>
              <a:ext cx="545040" cy="262440"/>
            </a:xfrm>
            <a:custGeom>
              <a:avLst/>
              <a:gdLst/>
              <a:ahLst/>
              <a:rect l="0" t="0" r="r" b="b"/>
              <a:pathLst>
                <a:path w="1514" h="729">
                  <a:moveTo>
                    <a:pt x="13" y="490"/>
                  </a:moveTo>
                  <a:lnTo>
                    <a:pt x="145" y="570"/>
                  </a:lnTo>
                  <a:lnTo>
                    <a:pt x="132" y="468"/>
                  </a:lnTo>
                  <a:lnTo>
                    <a:pt x="149" y="309"/>
                  </a:lnTo>
                  <a:lnTo>
                    <a:pt x="242" y="274"/>
                  </a:lnTo>
                  <a:lnTo>
                    <a:pt x="251" y="450"/>
                  </a:lnTo>
                  <a:lnTo>
                    <a:pt x="512" y="141"/>
                  </a:lnTo>
                  <a:lnTo>
                    <a:pt x="569" y="119"/>
                  </a:lnTo>
                  <a:lnTo>
                    <a:pt x="521" y="243"/>
                  </a:lnTo>
                  <a:lnTo>
                    <a:pt x="675" y="305"/>
                  </a:lnTo>
                  <a:lnTo>
                    <a:pt x="799" y="176"/>
                  </a:lnTo>
                  <a:lnTo>
                    <a:pt x="860" y="217"/>
                  </a:lnTo>
                  <a:lnTo>
                    <a:pt x="803" y="322"/>
                  </a:lnTo>
                  <a:lnTo>
                    <a:pt x="882" y="265"/>
                  </a:lnTo>
                  <a:lnTo>
                    <a:pt x="993" y="309"/>
                  </a:lnTo>
                  <a:lnTo>
                    <a:pt x="900" y="402"/>
                  </a:lnTo>
                  <a:lnTo>
                    <a:pt x="1214" y="450"/>
                  </a:lnTo>
                  <a:lnTo>
                    <a:pt x="1002" y="512"/>
                  </a:lnTo>
                  <a:lnTo>
                    <a:pt x="1267" y="543"/>
                  </a:lnTo>
                  <a:lnTo>
                    <a:pt x="957" y="619"/>
                  </a:lnTo>
                  <a:lnTo>
                    <a:pt x="1024" y="676"/>
                  </a:lnTo>
                  <a:lnTo>
                    <a:pt x="931" y="729"/>
                  </a:lnTo>
                  <a:lnTo>
                    <a:pt x="1085" y="729"/>
                  </a:lnTo>
                  <a:lnTo>
                    <a:pt x="1076" y="685"/>
                  </a:lnTo>
                  <a:lnTo>
                    <a:pt x="1236" y="725"/>
                  </a:lnTo>
                  <a:lnTo>
                    <a:pt x="1214" y="614"/>
                  </a:lnTo>
                  <a:lnTo>
                    <a:pt x="1369" y="557"/>
                  </a:lnTo>
                  <a:lnTo>
                    <a:pt x="1258" y="508"/>
                  </a:lnTo>
                  <a:lnTo>
                    <a:pt x="1514" y="486"/>
                  </a:lnTo>
                  <a:lnTo>
                    <a:pt x="1294" y="362"/>
                  </a:lnTo>
                  <a:lnTo>
                    <a:pt x="1041" y="344"/>
                  </a:lnTo>
                  <a:lnTo>
                    <a:pt x="1236" y="221"/>
                  </a:lnTo>
                  <a:lnTo>
                    <a:pt x="882" y="221"/>
                  </a:lnTo>
                  <a:lnTo>
                    <a:pt x="1050" y="110"/>
                  </a:lnTo>
                  <a:lnTo>
                    <a:pt x="785" y="141"/>
                  </a:lnTo>
                  <a:lnTo>
                    <a:pt x="666" y="199"/>
                  </a:lnTo>
                  <a:lnTo>
                    <a:pt x="772" y="0"/>
                  </a:lnTo>
                  <a:lnTo>
                    <a:pt x="455" y="110"/>
                  </a:lnTo>
                  <a:lnTo>
                    <a:pt x="282" y="349"/>
                  </a:lnTo>
                  <a:lnTo>
                    <a:pt x="251" y="217"/>
                  </a:lnTo>
                  <a:lnTo>
                    <a:pt x="114" y="309"/>
                  </a:lnTo>
                  <a:lnTo>
                    <a:pt x="97" y="486"/>
                  </a:lnTo>
                  <a:lnTo>
                    <a:pt x="0" y="450"/>
                  </a:lnTo>
                  <a:lnTo>
                    <a:pt x="30" y="614"/>
                  </a:lnTo>
                  <a:lnTo>
                    <a:pt x="13" y="49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661160" y="444600"/>
              <a:ext cx="152640" cy="81360"/>
            </a:xfrm>
            <a:custGeom>
              <a:avLst/>
              <a:gdLst/>
              <a:ahLst/>
              <a:rect l="0" t="0" r="r" b="b"/>
              <a:pathLst>
                <a:path w="424" h="226">
                  <a:moveTo>
                    <a:pt x="0" y="226"/>
                  </a:moveTo>
                  <a:lnTo>
                    <a:pt x="154" y="0"/>
                  </a:lnTo>
                  <a:lnTo>
                    <a:pt x="154" y="146"/>
                  </a:lnTo>
                  <a:lnTo>
                    <a:pt x="211" y="89"/>
                  </a:lnTo>
                  <a:lnTo>
                    <a:pt x="265" y="178"/>
                  </a:lnTo>
                  <a:lnTo>
                    <a:pt x="424" y="218"/>
                  </a:lnTo>
                  <a:lnTo>
                    <a:pt x="256" y="187"/>
                  </a:lnTo>
                  <a:lnTo>
                    <a:pt x="202" y="128"/>
                  </a:lnTo>
                  <a:lnTo>
                    <a:pt x="127" y="187"/>
                  </a:lnTo>
                  <a:lnTo>
                    <a:pt x="127" y="111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0240" bIns="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648560" y="979560"/>
              <a:ext cx="184680" cy="120960"/>
            </a:xfrm>
            <a:custGeom>
              <a:avLst/>
              <a:gdLst/>
              <a:ahLst/>
              <a:rect l="0" t="0" r="r" b="b"/>
              <a:pathLst>
                <a:path w="513" h="336">
                  <a:moveTo>
                    <a:pt x="97" y="114"/>
                  </a:moveTo>
                  <a:lnTo>
                    <a:pt x="305" y="97"/>
                  </a:lnTo>
                  <a:lnTo>
                    <a:pt x="407" y="127"/>
                  </a:lnTo>
                  <a:lnTo>
                    <a:pt x="456" y="83"/>
                  </a:lnTo>
                  <a:lnTo>
                    <a:pt x="513" y="190"/>
                  </a:lnTo>
                  <a:lnTo>
                    <a:pt x="482" y="208"/>
                  </a:lnTo>
                  <a:lnTo>
                    <a:pt x="434" y="163"/>
                  </a:lnTo>
                  <a:lnTo>
                    <a:pt x="367" y="243"/>
                  </a:lnTo>
                  <a:lnTo>
                    <a:pt x="234" y="336"/>
                  </a:lnTo>
                  <a:lnTo>
                    <a:pt x="181" y="336"/>
                  </a:lnTo>
                  <a:lnTo>
                    <a:pt x="97" y="287"/>
                  </a:lnTo>
                  <a:lnTo>
                    <a:pt x="195" y="327"/>
                  </a:lnTo>
                  <a:lnTo>
                    <a:pt x="225" y="327"/>
                  </a:lnTo>
                  <a:lnTo>
                    <a:pt x="305" y="261"/>
                  </a:lnTo>
                  <a:lnTo>
                    <a:pt x="358" y="149"/>
                  </a:lnTo>
                  <a:lnTo>
                    <a:pt x="274" y="136"/>
                  </a:lnTo>
                  <a:lnTo>
                    <a:pt x="221" y="127"/>
                  </a:lnTo>
                  <a:lnTo>
                    <a:pt x="88" y="141"/>
                  </a:lnTo>
                  <a:lnTo>
                    <a:pt x="83" y="239"/>
                  </a:lnTo>
                  <a:lnTo>
                    <a:pt x="35" y="181"/>
                  </a:lnTo>
                  <a:lnTo>
                    <a:pt x="0" y="252"/>
                  </a:lnTo>
                  <a:lnTo>
                    <a:pt x="4" y="92"/>
                  </a:lnTo>
                  <a:lnTo>
                    <a:pt x="48" y="0"/>
                  </a:lnTo>
                  <a:lnTo>
                    <a:pt x="97" y="92"/>
                  </a:lnTo>
                  <a:lnTo>
                    <a:pt x="97" y="11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623000" y="727200"/>
              <a:ext cx="395640" cy="541800"/>
            </a:xfrm>
            <a:custGeom>
              <a:avLst/>
              <a:gdLst/>
              <a:ahLst/>
              <a:rect l="0" t="0" r="r" b="b"/>
              <a:pathLst>
                <a:path w="1099" h="1505">
                  <a:moveTo>
                    <a:pt x="922" y="0"/>
                  </a:moveTo>
                  <a:lnTo>
                    <a:pt x="1032" y="0"/>
                  </a:lnTo>
                  <a:lnTo>
                    <a:pt x="1099" y="70"/>
                  </a:lnTo>
                  <a:lnTo>
                    <a:pt x="1099" y="154"/>
                  </a:lnTo>
                  <a:lnTo>
                    <a:pt x="1006" y="397"/>
                  </a:lnTo>
                  <a:lnTo>
                    <a:pt x="918" y="508"/>
                  </a:lnTo>
                  <a:lnTo>
                    <a:pt x="821" y="521"/>
                  </a:lnTo>
                  <a:lnTo>
                    <a:pt x="799" y="521"/>
                  </a:lnTo>
                  <a:lnTo>
                    <a:pt x="799" y="821"/>
                  </a:lnTo>
                  <a:lnTo>
                    <a:pt x="843" y="1037"/>
                  </a:lnTo>
                  <a:lnTo>
                    <a:pt x="843" y="1205"/>
                  </a:lnTo>
                  <a:lnTo>
                    <a:pt x="671" y="1391"/>
                  </a:lnTo>
                  <a:lnTo>
                    <a:pt x="445" y="1505"/>
                  </a:lnTo>
                  <a:lnTo>
                    <a:pt x="299" y="1505"/>
                  </a:lnTo>
                  <a:lnTo>
                    <a:pt x="229" y="1470"/>
                  </a:lnTo>
                  <a:lnTo>
                    <a:pt x="132" y="1263"/>
                  </a:lnTo>
                  <a:lnTo>
                    <a:pt x="35" y="1188"/>
                  </a:lnTo>
                  <a:lnTo>
                    <a:pt x="0" y="1139"/>
                  </a:lnTo>
                  <a:lnTo>
                    <a:pt x="119" y="1205"/>
                  </a:lnTo>
                  <a:lnTo>
                    <a:pt x="216" y="1289"/>
                  </a:lnTo>
                  <a:lnTo>
                    <a:pt x="379" y="1294"/>
                  </a:lnTo>
                  <a:lnTo>
                    <a:pt x="546" y="1214"/>
                  </a:lnTo>
                  <a:lnTo>
                    <a:pt x="631" y="1139"/>
                  </a:lnTo>
                  <a:lnTo>
                    <a:pt x="724" y="979"/>
                  </a:lnTo>
                  <a:lnTo>
                    <a:pt x="737" y="799"/>
                  </a:lnTo>
                  <a:lnTo>
                    <a:pt x="768" y="220"/>
                  </a:lnTo>
                  <a:lnTo>
                    <a:pt x="803" y="304"/>
                  </a:lnTo>
                  <a:lnTo>
                    <a:pt x="913" y="198"/>
                  </a:lnTo>
                  <a:lnTo>
                    <a:pt x="1024" y="154"/>
                  </a:lnTo>
                  <a:lnTo>
                    <a:pt x="1059" y="97"/>
                  </a:lnTo>
                  <a:lnTo>
                    <a:pt x="1037" y="35"/>
                  </a:lnTo>
                  <a:lnTo>
                    <a:pt x="993" y="8"/>
                  </a:lnTo>
                  <a:lnTo>
                    <a:pt x="92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012080" y="1193760"/>
              <a:ext cx="319320" cy="503640"/>
            </a:xfrm>
            <a:custGeom>
              <a:avLst/>
              <a:gdLst/>
              <a:ahLst/>
              <a:rect l="0" t="0" r="r" b="b"/>
              <a:pathLst>
                <a:path w="887" h="1399">
                  <a:moveTo>
                    <a:pt x="114" y="0"/>
                  </a:moveTo>
                  <a:lnTo>
                    <a:pt x="216" y="61"/>
                  </a:lnTo>
                  <a:lnTo>
                    <a:pt x="291" y="343"/>
                  </a:lnTo>
                  <a:lnTo>
                    <a:pt x="521" y="415"/>
                  </a:lnTo>
                  <a:lnTo>
                    <a:pt x="583" y="486"/>
                  </a:lnTo>
                  <a:lnTo>
                    <a:pt x="591" y="591"/>
                  </a:lnTo>
                  <a:lnTo>
                    <a:pt x="706" y="583"/>
                  </a:lnTo>
                  <a:lnTo>
                    <a:pt x="847" y="666"/>
                  </a:lnTo>
                  <a:lnTo>
                    <a:pt x="887" y="790"/>
                  </a:lnTo>
                  <a:lnTo>
                    <a:pt x="887" y="979"/>
                  </a:lnTo>
                  <a:lnTo>
                    <a:pt x="706" y="1285"/>
                  </a:lnTo>
                  <a:lnTo>
                    <a:pt x="644" y="1399"/>
                  </a:lnTo>
                  <a:lnTo>
                    <a:pt x="675" y="1236"/>
                  </a:lnTo>
                  <a:lnTo>
                    <a:pt x="644" y="1179"/>
                  </a:lnTo>
                  <a:lnTo>
                    <a:pt x="534" y="1073"/>
                  </a:lnTo>
                  <a:lnTo>
                    <a:pt x="361" y="957"/>
                  </a:lnTo>
                  <a:lnTo>
                    <a:pt x="569" y="1024"/>
                  </a:lnTo>
                  <a:lnTo>
                    <a:pt x="693" y="1113"/>
                  </a:lnTo>
                  <a:lnTo>
                    <a:pt x="755" y="1100"/>
                  </a:lnTo>
                  <a:lnTo>
                    <a:pt x="794" y="1041"/>
                  </a:lnTo>
                  <a:lnTo>
                    <a:pt x="847" y="909"/>
                  </a:lnTo>
                  <a:lnTo>
                    <a:pt x="825" y="768"/>
                  </a:lnTo>
                  <a:lnTo>
                    <a:pt x="768" y="693"/>
                  </a:lnTo>
                  <a:lnTo>
                    <a:pt x="658" y="666"/>
                  </a:lnTo>
                  <a:lnTo>
                    <a:pt x="534" y="666"/>
                  </a:lnTo>
                  <a:lnTo>
                    <a:pt x="494" y="468"/>
                  </a:lnTo>
                  <a:lnTo>
                    <a:pt x="299" y="389"/>
                  </a:lnTo>
                  <a:lnTo>
                    <a:pt x="299" y="441"/>
                  </a:lnTo>
                  <a:lnTo>
                    <a:pt x="216" y="304"/>
                  </a:lnTo>
                  <a:lnTo>
                    <a:pt x="158" y="61"/>
                  </a:lnTo>
                  <a:lnTo>
                    <a:pt x="88" y="39"/>
                  </a:lnTo>
                  <a:lnTo>
                    <a:pt x="39" y="110"/>
                  </a:lnTo>
                  <a:lnTo>
                    <a:pt x="39" y="268"/>
                  </a:lnTo>
                  <a:lnTo>
                    <a:pt x="79" y="441"/>
                  </a:lnTo>
                  <a:lnTo>
                    <a:pt x="185" y="591"/>
                  </a:lnTo>
                  <a:lnTo>
                    <a:pt x="70" y="503"/>
                  </a:lnTo>
                  <a:lnTo>
                    <a:pt x="8" y="343"/>
                  </a:lnTo>
                  <a:lnTo>
                    <a:pt x="0" y="154"/>
                  </a:lnTo>
                  <a:lnTo>
                    <a:pt x="39" y="39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858000" y="1414440"/>
              <a:ext cx="211320" cy="402120"/>
            </a:xfrm>
            <a:custGeom>
              <a:avLst/>
              <a:gdLst/>
              <a:ahLst/>
              <a:rect l="0" t="0" r="r" b="b"/>
              <a:pathLst>
                <a:path w="587" h="1117">
                  <a:moveTo>
                    <a:pt x="587" y="0"/>
                  </a:moveTo>
                  <a:lnTo>
                    <a:pt x="468" y="70"/>
                  </a:lnTo>
                  <a:lnTo>
                    <a:pt x="327" y="340"/>
                  </a:lnTo>
                  <a:lnTo>
                    <a:pt x="185" y="521"/>
                  </a:lnTo>
                  <a:lnTo>
                    <a:pt x="13" y="733"/>
                  </a:lnTo>
                  <a:lnTo>
                    <a:pt x="0" y="844"/>
                  </a:lnTo>
                  <a:lnTo>
                    <a:pt x="30" y="941"/>
                  </a:lnTo>
                  <a:lnTo>
                    <a:pt x="114" y="941"/>
                  </a:lnTo>
                  <a:lnTo>
                    <a:pt x="224" y="844"/>
                  </a:lnTo>
                  <a:lnTo>
                    <a:pt x="309" y="644"/>
                  </a:lnTo>
                  <a:lnTo>
                    <a:pt x="433" y="521"/>
                  </a:lnTo>
                  <a:lnTo>
                    <a:pt x="433" y="684"/>
                  </a:lnTo>
                  <a:lnTo>
                    <a:pt x="411" y="834"/>
                  </a:lnTo>
                  <a:lnTo>
                    <a:pt x="282" y="1025"/>
                  </a:lnTo>
                  <a:lnTo>
                    <a:pt x="282" y="1086"/>
                  </a:lnTo>
                  <a:lnTo>
                    <a:pt x="411" y="1117"/>
                  </a:lnTo>
                  <a:lnTo>
                    <a:pt x="327" y="1064"/>
                  </a:lnTo>
                  <a:lnTo>
                    <a:pt x="336" y="1025"/>
                  </a:lnTo>
                  <a:lnTo>
                    <a:pt x="424" y="888"/>
                  </a:lnTo>
                  <a:lnTo>
                    <a:pt x="486" y="622"/>
                  </a:lnTo>
                  <a:lnTo>
                    <a:pt x="446" y="477"/>
                  </a:lnTo>
                  <a:lnTo>
                    <a:pt x="344" y="552"/>
                  </a:lnTo>
                  <a:lnTo>
                    <a:pt x="136" y="897"/>
                  </a:lnTo>
                  <a:lnTo>
                    <a:pt x="83" y="901"/>
                  </a:lnTo>
                  <a:lnTo>
                    <a:pt x="30" y="861"/>
                  </a:lnTo>
                  <a:lnTo>
                    <a:pt x="30" y="759"/>
                  </a:lnTo>
                  <a:lnTo>
                    <a:pt x="114" y="631"/>
                  </a:lnTo>
                  <a:lnTo>
                    <a:pt x="344" y="367"/>
                  </a:lnTo>
                  <a:lnTo>
                    <a:pt x="486" y="101"/>
                  </a:lnTo>
                  <a:lnTo>
                    <a:pt x="58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015320" y="1641600"/>
              <a:ext cx="128880" cy="192600"/>
            </a:xfrm>
            <a:custGeom>
              <a:avLst/>
              <a:gdLst/>
              <a:ahLst/>
              <a:rect l="0" t="0" r="r" b="b"/>
              <a:pathLst>
                <a:path w="358" h="535">
                  <a:moveTo>
                    <a:pt x="0" y="473"/>
                  </a:moveTo>
                  <a:lnTo>
                    <a:pt x="114" y="331"/>
                  </a:lnTo>
                  <a:lnTo>
                    <a:pt x="141" y="203"/>
                  </a:lnTo>
                  <a:lnTo>
                    <a:pt x="274" y="0"/>
                  </a:lnTo>
                  <a:lnTo>
                    <a:pt x="305" y="127"/>
                  </a:lnTo>
                  <a:lnTo>
                    <a:pt x="287" y="482"/>
                  </a:lnTo>
                  <a:lnTo>
                    <a:pt x="358" y="535"/>
                  </a:lnTo>
                  <a:lnTo>
                    <a:pt x="252" y="495"/>
                  </a:lnTo>
                  <a:lnTo>
                    <a:pt x="203" y="292"/>
                  </a:lnTo>
                  <a:lnTo>
                    <a:pt x="114" y="393"/>
                  </a:lnTo>
                  <a:lnTo>
                    <a:pt x="0" y="47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174080" y="1652760"/>
              <a:ext cx="87840" cy="173520"/>
            </a:xfrm>
            <a:custGeom>
              <a:avLst/>
              <a:gdLst/>
              <a:ahLst/>
              <a:rect l="0" t="0" r="r" b="b"/>
              <a:pathLst>
                <a:path w="244" h="482">
                  <a:moveTo>
                    <a:pt x="0" y="368"/>
                  </a:moveTo>
                  <a:lnTo>
                    <a:pt x="13" y="181"/>
                  </a:lnTo>
                  <a:lnTo>
                    <a:pt x="67" y="74"/>
                  </a:lnTo>
                  <a:lnTo>
                    <a:pt x="120" y="456"/>
                  </a:lnTo>
                  <a:lnTo>
                    <a:pt x="191" y="456"/>
                  </a:lnTo>
                  <a:lnTo>
                    <a:pt x="226" y="52"/>
                  </a:lnTo>
                  <a:lnTo>
                    <a:pt x="244" y="0"/>
                  </a:lnTo>
                  <a:lnTo>
                    <a:pt x="226" y="314"/>
                  </a:lnTo>
                  <a:lnTo>
                    <a:pt x="191" y="482"/>
                  </a:lnTo>
                  <a:lnTo>
                    <a:pt x="98" y="482"/>
                  </a:lnTo>
                  <a:lnTo>
                    <a:pt x="57" y="155"/>
                  </a:lnTo>
                  <a:lnTo>
                    <a:pt x="30" y="199"/>
                  </a:lnTo>
                  <a:lnTo>
                    <a:pt x="0" y="36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8272440" y="973080"/>
              <a:ext cx="208440" cy="459000"/>
            </a:xfrm>
            <a:custGeom>
              <a:avLst/>
              <a:gdLst/>
              <a:ahLst/>
              <a:rect l="0" t="0" r="r" b="b"/>
              <a:pathLst>
                <a:path w="579" h="1275">
                  <a:moveTo>
                    <a:pt x="150" y="688"/>
                  </a:moveTo>
                  <a:lnTo>
                    <a:pt x="199" y="489"/>
                  </a:lnTo>
                  <a:lnTo>
                    <a:pt x="389" y="436"/>
                  </a:lnTo>
                  <a:lnTo>
                    <a:pt x="579" y="0"/>
                  </a:lnTo>
                  <a:lnTo>
                    <a:pt x="579" y="123"/>
                  </a:lnTo>
                  <a:lnTo>
                    <a:pt x="424" y="467"/>
                  </a:lnTo>
                  <a:lnTo>
                    <a:pt x="217" y="529"/>
                  </a:lnTo>
                  <a:lnTo>
                    <a:pt x="186" y="688"/>
                  </a:lnTo>
                  <a:lnTo>
                    <a:pt x="256" y="688"/>
                  </a:lnTo>
                  <a:lnTo>
                    <a:pt x="74" y="759"/>
                  </a:lnTo>
                  <a:lnTo>
                    <a:pt x="30" y="896"/>
                  </a:lnTo>
                  <a:lnTo>
                    <a:pt x="39" y="1072"/>
                  </a:lnTo>
                  <a:lnTo>
                    <a:pt x="234" y="1275"/>
                  </a:lnTo>
                  <a:lnTo>
                    <a:pt x="30" y="1099"/>
                  </a:lnTo>
                  <a:lnTo>
                    <a:pt x="0" y="953"/>
                  </a:lnTo>
                  <a:lnTo>
                    <a:pt x="13" y="803"/>
                  </a:lnTo>
                  <a:lnTo>
                    <a:pt x="88" y="697"/>
                  </a:lnTo>
                  <a:lnTo>
                    <a:pt x="150" y="68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8413920" y="973080"/>
              <a:ext cx="348120" cy="448200"/>
            </a:xfrm>
            <a:custGeom>
              <a:avLst/>
              <a:gdLst/>
              <a:ahLst/>
              <a:rect l="0" t="0" r="r" b="b"/>
              <a:pathLst>
                <a:path w="967" h="1245">
                  <a:moveTo>
                    <a:pt x="265" y="0"/>
                  </a:moveTo>
                  <a:lnTo>
                    <a:pt x="327" y="39"/>
                  </a:lnTo>
                  <a:lnTo>
                    <a:pt x="340" y="145"/>
                  </a:lnTo>
                  <a:lnTo>
                    <a:pt x="340" y="242"/>
                  </a:lnTo>
                  <a:lnTo>
                    <a:pt x="233" y="424"/>
                  </a:lnTo>
                  <a:lnTo>
                    <a:pt x="256" y="561"/>
                  </a:lnTo>
                  <a:lnTo>
                    <a:pt x="583" y="697"/>
                  </a:lnTo>
                  <a:lnTo>
                    <a:pt x="958" y="1095"/>
                  </a:lnTo>
                  <a:lnTo>
                    <a:pt x="967" y="1201"/>
                  </a:lnTo>
                  <a:lnTo>
                    <a:pt x="945" y="1245"/>
                  </a:lnTo>
                  <a:lnTo>
                    <a:pt x="804" y="1245"/>
                  </a:lnTo>
                  <a:lnTo>
                    <a:pt x="675" y="1166"/>
                  </a:lnTo>
                  <a:lnTo>
                    <a:pt x="569" y="1042"/>
                  </a:lnTo>
                  <a:lnTo>
                    <a:pt x="516" y="972"/>
                  </a:lnTo>
                  <a:lnTo>
                    <a:pt x="446" y="950"/>
                  </a:lnTo>
                  <a:lnTo>
                    <a:pt x="530" y="950"/>
                  </a:lnTo>
                  <a:lnTo>
                    <a:pt x="693" y="1157"/>
                  </a:lnTo>
                  <a:lnTo>
                    <a:pt x="892" y="1214"/>
                  </a:lnTo>
                  <a:lnTo>
                    <a:pt x="936" y="1157"/>
                  </a:lnTo>
                  <a:lnTo>
                    <a:pt x="910" y="1060"/>
                  </a:lnTo>
                  <a:lnTo>
                    <a:pt x="561" y="781"/>
                  </a:lnTo>
                  <a:lnTo>
                    <a:pt x="512" y="697"/>
                  </a:lnTo>
                  <a:lnTo>
                    <a:pt x="233" y="631"/>
                  </a:lnTo>
                  <a:lnTo>
                    <a:pt x="189" y="697"/>
                  </a:lnTo>
                  <a:lnTo>
                    <a:pt x="0" y="816"/>
                  </a:lnTo>
                  <a:lnTo>
                    <a:pt x="176" y="680"/>
                  </a:lnTo>
                  <a:lnTo>
                    <a:pt x="189" y="591"/>
                  </a:lnTo>
                  <a:lnTo>
                    <a:pt x="189" y="402"/>
                  </a:lnTo>
                  <a:lnTo>
                    <a:pt x="309" y="242"/>
                  </a:lnTo>
                  <a:lnTo>
                    <a:pt x="309" y="48"/>
                  </a:lnTo>
                  <a:lnTo>
                    <a:pt x="265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8348760" y="1322280"/>
              <a:ext cx="295560" cy="270360"/>
            </a:xfrm>
            <a:custGeom>
              <a:avLst/>
              <a:gdLst/>
              <a:ahLst/>
              <a:rect l="0" t="0" r="r" b="b"/>
              <a:pathLst>
                <a:path w="821" h="751">
                  <a:moveTo>
                    <a:pt x="613" y="0"/>
                  </a:moveTo>
                  <a:lnTo>
                    <a:pt x="596" y="61"/>
                  </a:lnTo>
                  <a:lnTo>
                    <a:pt x="715" y="309"/>
                  </a:lnTo>
                  <a:lnTo>
                    <a:pt x="781" y="561"/>
                  </a:lnTo>
                  <a:lnTo>
                    <a:pt x="706" y="561"/>
                  </a:lnTo>
                  <a:lnTo>
                    <a:pt x="587" y="450"/>
                  </a:lnTo>
                  <a:lnTo>
                    <a:pt x="472" y="217"/>
                  </a:lnTo>
                  <a:lnTo>
                    <a:pt x="383" y="190"/>
                  </a:lnTo>
                  <a:lnTo>
                    <a:pt x="401" y="309"/>
                  </a:lnTo>
                  <a:lnTo>
                    <a:pt x="481" y="406"/>
                  </a:lnTo>
                  <a:lnTo>
                    <a:pt x="481" y="588"/>
                  </a:lnTo>
                  <a:lnTo>
                    <a:pt x="419" y="716"/>
                  </a:lnTo>
                  <a:lnTo>
                    <a:pt x="343" y="663"/>
                  </a:lnTo>
                  <a:lnTo>
                    <a:pt x="251" y="450"/>
                  </a:lnTo>
                  <a:lnTo>
                    <a:pt x="229" y="309"/>
                  </a:lnTo>
                  <a:lnTo>
                    <a:pt x="171" y="265"/>
                  </a:lnTo>
                  <a:lnTo>
                    <a:pt x="158" y="637"/>
                  </a:lnTo>
                  <a:lnTo>
                    <a:pt x="88" y="689"/>
                  </a:lnTo>
                  <a:lnTo>
                    <a:pt x="22" y="637"/>
                  </a:lnTo>
                  <a:lnTo>
                    <a:pt x="8" y="318"/>
                  </a:lnTo>
                  <a:lnTo>
                    <a:pt x="0" y="637"/>
                  </a:lnTo>
                  <a:lnTo>
                    <a:pt x="48" y="742"/>
                  </a:lnTo>
                  <a:lnTo>
                    <a:pt x="158" y="742"/>
                  </a:lnTo>
                  <a:lnTo>
                    <a:pt x="198" y="654"/>
                  </a:lnTo>
                  <a:lnTo>
                    <a:pt x="220" y="362"/>
                  </a:lnTo>
                  <a:lnTo>
                    <a:pt x="233" y="481"/>
                  </a:lnTo>
                  <a:lnTo>
                    <a:pt x="335" y="720"/>
                  </a:lnTo>
                  <a:lnTo>
                    <a:pt x="437" y="751"/>
                  </a:lnTo>
                  <a:lnTo>
                    <a:pt x="508" y="654"/>
                  </a:lnTo>
                  <a:lnTo>
                    <a:pt x="508" y="411"/>
                  </a:lnTo>
                  <a:lnTo>
                    <a:pt x="706" y="610"/>
                  </a:lnTo>
                  <a:lnTo>
                    <a:pt x="812" y="610"/>
                  </a:lnTo>
                  <a:lnTo>
                    <a:pt x="821" y="481"/>
                  </a:lnTo>
                  <a:lnTo>
                    <a:pt x="746" y="243"/>
                  </a:lnTo>
                  <a:lnTo>
                    <a:pt x="613" y="57"/>
                  </a:lnTo>
                  <a:lnTo>
                    <a:pt x="61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148520" y="1049400"/>
              <a:ext cx="1322640" cy="1082880"/>
            </a:xfrm>
            <a:custGeom>
              <a:avLst/>
              <a:gdLst/>
              <a:ahLst/>
              <a:rect l="0" t="0" r="r" b="b"/>
              <a:pathLst>
                <a:path w="3674" h="3008">
                  <a:moveTo>
                    <a:pt x="1322" y="255"/>
                  </a:moveTo>
                  <a:lnTo>
                    <a:pt x="1252" y="260"/>
                  </a:lnTo>
                  <a:lnTo>
                    <a:pt x="1150" y="414"/>
                  </a:lnTo>
                  <a:lnTo>
                    <a:pt x="1111" y="308"/>
                  </a:lnTo>
                  <a:lnTo>
                    <a:pt x="996" y="246"/>
                  </a:lnTo>
                  <a:lnTo>
                    <a:pt x="908" y="286"/>
                  </a:lnTo>
                  <a:lnTo>
                    <a:pt x="873" y="480"/>
                  </a:lnTo>
                  <a:lnTo>
                    <a:pt x="546" y="727"/>
                  </a:lnTo>
                  <a:lnTo>
                    <a:pt x="564" y="829"/>
                  </a:lnTo>
                  <a:lnTo>
                    <a:pt x="480" y="917"/>
                  </a:lnTo>
                  <a:lnTo>
                    <a:pt x="480" y="996"/>
                  </a:lnTo>
                  <a:lnTo>
                    <a:pt x="577" y="1217"/>
                  </a:lnTo>
                  <a:lnTo>
                    <a:pt x="586" y="1494"/>
                  </a:lnTo>
                  <a:lnTo>
                    <a:pt x="524" y="1760"/>
                  </a:lnTo>
                  <a:lnTo>
                    <a:pt x="291" y="1914"/>
                  </a:lnTo>
                  <a:lnTo>
                    <a:pt x="255" y="2130"/>
                  </a:lnTo>
                  <a:lnTo>
                    <a:pt x="185" y="2130"/>
                  </a:lnTo>
                  <a:lnTo>
                    <a:pt x="145" y="1958"/>
                  </a:lnTo>
                  <a:lnTo>
                    <a:pt x="74" y="1958"/>
                  </a:lnTo>
                  <a:lnTo>
                    <a:pt x="39" y="2152"/>
                  </a:lnTo>
                  <a:lnTo>
                    <a:pt x="0" y="2197"/>
                  </a:lnTo>
                  <a:lnTo>
                    <a:pt x="158" y="2452"/>
                  </a:lnTo>
                  <a:lnTo>
                    <a:pt x="282" y="2470"/>
                  </a:lnTo>
                  <a:lnTo>
                    <a:pt x="480" y="2655"/>
                  </a:lnTo>
                  <a:lnTo>
                    <a:pt x="670" y="2682"/>
                  </a:lnTo>
                  <a:lnTo>
                    <a:pt x="776" y="2580"/>
                  </a:lnTo>
                  <a:lnTo>
                    <a:pt x="1036" y="2214"/>
                  </a:lnTo>
                  <a:lnTo>
                    <a:pt x="1058" y="2708"/>
                  </a:lnTo>
                  <a:lnTo>
                    <a:pt x="1036" y="3008"/>
                  </a:lnTo>
                  <a:lnTo>
                    <a:pt x="3153" y="3008"/>
                  </a:lnTo>
                  <a:lnTo>
                    <a:pt x="3004" y="2682"/>
                  </a:lnTo>
                  <a:lnTo>
                    <a:pt x="2920" y="2395"/>
                  </a:lnTo>
                  <a:lnTo>
                    <a:pt x="2907" y="1994"/>
                  </a:lnTo>
                  <a:lnTo>
                    <a:pt x="3026" y="2077"/>
                  </a:lnTo>
                  <a:lnTo>
                    <a:pt x="3153" y="2077"/>
                  </a:lnTo>
                  <a:lnTo>
                    <a:pt x="3334" y="1972"/>
                  </a:lnTo>
                  <a:lnTo>
                    <a:pt x="3449" y="1958"/>
                  </a:lnTo>
                  <a:lnTo>
                    <a:pt x="3524" y="1848"/>
                  </a:lnTo>
                  <a:lnTo>
                    <a:pt x="3568" y="1566"/>
                  </a:lnTo>
                  <a:lnTo>
                    <a:pt x="3674" y="1446"/>
                  </a:lnTo>
                  <a:lnTo>
                    <a:pt x="3616" y="1367"/>
                  </a:lnTo>
                  <a:lnTo>
                    <a:pt x="3537" y="1367"/>
                  </a:lnTo>
                  <a:lnTo>
                    <a:pt x="3480" y="1419"/>
                  </a:lnTo>
                  <a:lnTo>
                    <a:pt x="3418" y="1433"/>
                  </a:lnTo>
                  <a:lnTo>
                    <a:pt x="3343" y="1367"/>
                  </a:lnTo>
                  <a:lnTo>
                    <a:pt x="3250" y="1340"/>
                  </a:lnTo>
                  <a:lnTo>
                    <a:pt x="3087" y="1234"/>
                  </a:lnTo>
                  <a:lnTo>
                    <a:pt x="2981" y="1133"/>
                  </a:lnTo>
                  <a:lnTo>
                    <a:pt x="2964" y="996"/>
                  </a:lnTo>
                  <a:lnTo>
                    <a:pt x="2981" y="855"/>
                  </a:lnTo>
                  <a:lnTo>
                    <a:pt x="3048" y="749"/>
                  </a:lnTo>
                  <a:lnTo>
                    <a:pt x="3136" y="648"/>
                  </a:lnTo>
                  <a:lnTo>
                    <a:pt x="3127" y="476"/>
                  </a:lnTo>
                  <a:lnTo>
                    <a:pt x="3127" y="357"/>
                  </a:lnTo>
                  <a:lnTo>
                    <a:pt x="3087" y="260"/>
                  </a:lnTo>
                  <a:lnTo>
                    <a:pt x="2964" y="224"/>
                  </a:lnTo>
                  <a:lnTo>
                    <a:pt x="2915" y="202"/>
                  </a:lnTo>
                  <a:lnTo>
                    <a:pt x="2832" y="48"/>
                  </a:lnTo>
                  <a:lnTo>
                    <a:pt x="2752" y="8"/>
                  </a:lnTo>
                  <a:lnTo>
                    <a:pt x="2682" y="0"/>
                  </a:lnTo>
                  <a:lnTo>
                    <a:pt x="2615" y="30"/>
                  </a:lnTo>
                  <a:lnTo>
                    <a:pt x="2567" y="105"/>
                  </a:lnTo>
                  <a:lnTo>
                    <a:pt x="2488" y="154"/>
                  </a:lnTo>
                  <a:lnTo>
                    <a:pt x="2391" y="167"/>
                  </a:lnTo>
                  <a:lnTo>
                    <a:pt x="2289" y="167"/>
                  </a:lnTo>
                  <a:lnTo>
                    <a:pt x="2307" y="317"/>
                  </a:lnTo>
                  <a:lnTo>
                    <a:pt x="2307" y="498"/>
                  </a:lnTo>
                  <a:lnTo>
                    <a:pt x="2289" y="626"/>
                  </a:lnTo>
                  <a:lnTo>
                    <a:pt x="2197" y="776"/>
                  </a:lnTo>
                  <a:lnTo>
                    <a:pt x="2082" y="1001"/>
                  </a:lnTo>
                  <a:lnTo>
                    <a:pt x="1989" y="1274"/>
                  </a:lnTo>
                  <a:lnTo>
                    <a:pt x="1985" y="1433"/>
                  </a:lnTo>
                  <a:lnTo>
                    <a:pt x="1945" y="1579"/>
                  </a:lnTo>
                  <a:lnTo>
                    <a:pt x="1888" y="1707"/>
                  </a:lnTo>
                  <a:lnTo>
                    <a:pt x="1866" y="1936"/>
                  </a:lnTo>
                  <a:lnTo>
                    <a:pt x="1875" y="2113"/>
                  </a:lnTo>
                  <a:lnTo>
                    <a:pt x="1945" y="2324"/>
                  </a:lnTo>
                  <a:lnTo>
                    <a:pt x="1985" y="2395"/>
                  </a:lnTo>
                  <a:lnTo>
                    <a:pt x="1866" y="2483"/>
                  </a:lnTo>
                  <a:lnTo>
                    <a:pt x="1715" y="2536"/>
                  </a:lnTo>
                  <a:lnTo>
                    <a:pt x="1547" y="2545"/>
                  </a:lnTo>
                  <a:lnTo>
                    <a:pt x="1446" y="2545"/>
                  </a:lnTo>
                  <a:lnTo>
                    <a:pt x="1384" y="2518"/>
                  </a:lnTo>
                  <a:lnTo>
                    <a:pt x="1384" y="2338"/>
                  </a:lnTo>
                  <a:lnTo>
                    <a:pt x="1384" y="2069"/>
                  </a:lnTo>
                  <a:lnTo>
                    <a:pt x="1344" y="1808"/>
                  </a:lnTo>
                  <a:lnTo>
                    <a:pt x="1278" y="1579"/>
                  </a:lnTo>
                  <a:lnTo>
                    <a:pt x="1252" y="1384"/>
                  </a:lnTo>
                  <a:lnTo>
                    <a:pt x="1234" y="1115"/>
                  </a:lnTo>
                  <a:lnTo>
                    <a:pt x="1278" y="890"/>
                  </a:lnTo>
                  <a:lnTo>
                    <a:pt x="1344" y="696"/>
                  </a:lnTo>
                  <a:lnTo>
                    <a:pt x="1358" y="586"/>
                  </a:lnTo>
                  <a:lnTo>
                    <a:pt x="1322" y="432"/>
                  </a:lnTo>
                  <a:lnTo>
                    <a:pt x="1322" y="308"/>
                  </a:lnTo>
                  <a:lnTo>
                    <a:pt x="1344" y="260"/>
                  </a:lnTo>
                  <a:lnTo>
                    <a:pt x="1322" y="25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664400" y="1268280"/>
              <a:ext cx="167040" cy="705240"/>
            </a:xfrm>
            <a:custGeom>
              <a:avLst/>
              <a:gdLst/>
              <a:ahLst/>
              <a:rect l="0" t="0" r="r" b="b"/>
              <a:pathLst>
                <a:path w="464" h="1959">
                  <a:moveTo>
                    <a:pt x="185" y="17"/>
                  </a:moveTo>
                  <a:lnTo>
                    <a:pt x="66" y="92"/>
                  </a:lnTo>
                  <a:lnTo>
                    <a:pt x="70" y="273"/>
                  </a:lnTo>
                  <a:lnTo>
                    <a:pt x="167" y="330"/>
                  </a:lnTo>
                  <a:lnTo>
                    <a:pt x="52" y="534"/>
                  </a:lnTo>
                  <a:lnTo>
                    <a:pt x="0" y="755"/>
                  </a:lnTo>
                  <a:lnTo>
                    <a:pt x="0" y="971"/>
                  </a:lnTo>
                  <a:lnTo>
                    <a:pt x="52" y="1173"/>
                  </a:lnTo>
                  <a:lnTo>
                    <a:pt x="97" y="1420"/>
                  </a:lnTo>
                  <a:lnTo>
                    <a:pt x="97" y="1549"/>
                  </a:lnTo>
                  <a:lnTo>
                    <a:pt x="52" y="1717"/>
                  </a:lnTo>
                  <a:lnTo>
                    <a:pt x="243" y="1959"/>
                  </a:lnTo>
                  <a:lnTo>
                    <a:pt x="318" y="1920"/>
                  </a:lnTo>
                  <a:lnTo>
                    <a:pt x="371" y="1757"/>
                  </a:lnTo>
                  <a:lnTo>
                    <a:pt x="459" y="1540"/>
                  </a:lnTo>
                  <a:lnTo>
                    <a:pt x="464" y="1425"/>
                  </a:lnTo>
                  <a:lnTo>
                    <a:pt x="393" y="1213"/>
                  </a:lnTo>
                  <a:lnTo>
                    <a:pt x="300" y="1002"/>
                  </a:lnTo>
                  <a:lnTo>
                    <a:pt x="274" y="852"/>
                  </a:lnTo>
                  <a:lnTo>
                    <a:pt x="274" y="710"/>
                  </a:lnTo>
                  <a:lnTo>
                    <a:pt x="300" y="587"/>
                  </a:lnTo>
                  <a:lnTo>
                    <a:pt x="371" y="427"/>
                  </a:lnTo>
                  <a:lnTo>
                    <a:pt x="371" y="370"/>
                  </a:lnTo>
                  <a:lnTo>
                    <a:pt x="336" y="304"/>
                  </a:lnTo>
                  <a:lnTo>
                    <a:pt x="428" y="220"/>
                  </a:lnTo>
                  <a:lnTo>
                    <a:pt x="428" y="149"/>
                  </a:lnTo>
                  <a:lnTo>
                    <a:pt x="300" y="0"/>
                  </a:lnTo>
                  <a:lnTo>
                    <a:pt x="402" y="149"/>
                  </a:lnTo>
                  <a:lnTo>
                    <a:pt x="402" y="211"/>
                  </a:lnTo>
                  <a:lnTo>
                    <a:pt x="314" y="273"/>
                  </a:lnTo>
                  <a:lnTo>
                    <a:pt x="353" y="370"/>
                  </a:lnTo>
                  <a:lnTo>
                    <a:pt x="336" y="427"/>
                  </a:lnTo>
                  <a:lnTo>
                    <a:pt x="252" y="605"/>
                  </a:lnTo>
                  <a:lnTo>
                    <a:pt x="243" y="790"/>
                  </a:lnTo>
                  <a:lnTo>
                    <a:pt x="261" y="949"/>
                  </a:lnTo>
                  <a:lnTo>
                    <a:pt x="318" y="1178"/>
                  </a:lnTo>
                  <a:lnTo>
                    <a:pt x="393" y="1372"/>
                  </a:lnTo>
                  <a:lnTo>
                    <a:pt x="393" y="1527"/>
                  </a:lnTo>
                  <a:lnTo>
                    <a:pt x="353" y="1717"/>
                  </a:lnTo>
                  <a:lnTo>
                    <a:pt x="261" y="1920"/>
                  </a:lnTo>
                  <a:lnTo>
                    <a:pt x="149" y="1805"/>
                  </a:lnTo>
                  <a:lnTo>
                    <a:pt x="110" y="1717"/>
                  </a:lnTo>
                  <a:lnTo>
                    <a:pt x="114" y="1527"/>
                  </a:lnTo>
                  <a:lnTo>
                    <a:pt x="110" y="1332"/>
                  </a:lnTo>
                  <a:lnTo>
                    <a:pt x="52" y="1068"/>
                  </a:lnTo>
                  <a:lnTo>
                    <a:pt x="30" y="900"/>
                  </a:lnTo>
                  <a:lnTo>
                    <a:pt x="52" y="697"/>
                  </a:lnTo>
                  <a:lnTo>
                    <a:pt x="97" y="512"/>
                  </a:lnTo>
                  <a:lnTo>
                    <a:pt x="194" y="313"/>
                  </a:lnTo>
                  <a:lnTo>
                    <a:pt x="110" y="229"/>
                  </a:lnTo>
                  <a:lnTo>
                    <a:pt x="97" y="97"/>
                  </a:lnTo>
                  <a:lnTo>
                    <a:pt x="185" y="1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8137440" y="444600"/>
              <a:ext cx="265320" cy="343440"/>
            </a:xfrm>
            <a:custGeom>
              <a:avLst/>
              <a:gdLst/>
              <a:ahLst/>
              <a:rect l="0" t="0" r="r" b="b"/>
              <a:pathLst>
                <a:path w="737" h="954">
                  <a:moveTo>
                    <a:pt x="119" y="247"/>
                  </a:moveTo>
                  <a:lnTo>
                    <a:pt x="229" y="220"/>
                  </a:lnTo>
                  <a:lnTo>
                    <a:pt x="335" y="224"/>
                  </a:lnTo>
                  <a:lnTo>
                    <a:pt x="424" y="269"/>
                  </a:lnTo>
                  <a:lnTo>
                    <a:pt x="472" y="322"/>
                  </a:lnTo>
                  <a:lnTo>
                    <a:pt x="494" y="375"/>
                  </a:lnTo>
                  <a:lnTo>
                    <a:pt x="494" y="419"/>
                  </a:lnTo>
                  <a:lnTo>
                    <a:pt x="468" y="446"/>
                  </a:lnTo>
                  <a:lnTo>
                    <a:pt x="419" y="477"/>
                  </a:lnTo>
                  <a:lnTo>
                    <a:pt x="366" y="477"/>
                  </a:lnTo>
                  <a:lnTo>
                    <a:pt x="299" y="464"/>
                  </a:lnTo>
                  <a:lnTo>
                    <a:pt x="229" y="424"/>
                  </a:lnTo>
                  <a:lnTo>
                    <a:pt x="185" y="389"/>
                  </a:lnTo>
                  <a:lnTo>
                    <a:pt x="163" y="516"/>
                  </a:lnTo>
                  <a:lnTo>
                    <a:pt x="119" y="596"/>
                  </a:lnTo>
                  <a:lnTo>
                    <a:pt x="0" y="795"/>
                  </a:lnTo>
                  <a:lnTo>
                    <a:pt x="180" y="954"/>
                  </a:lnTo>
                  <a:lnTo>
                    <a:pt x="317" y="688"/>
                  </a:lnTo>
                  <a:lnTo>
                    <a:pt x="468" y="716"/>
                  </a:lnTo>
                  <a:lnTo>
                    <a:pt x="561" y="697"/>
                  </a:lnTo>
                  <a:lnTo>
                    <a:pt x="653" y="640"/>
                  </a:lnTo>
                  <a:lnTo>
                    <a:pt x="706" y="565"/>
                  </a:lnTo>
                  <a:lnTo>
                    <a:pt x="737" y="468"/>
                  </a:lnTo>
                  <a:lnTo>
                    <a:pt x="737" y="367"/>
                  </a:lnTo>
                  <a:lnTo>
                    <a:pt x="706" y="256"/>
                  </a:lnTo>
                  <a:lnTo>
                    <a:pt x="644" y="145"/>
                  </a:lnTo>
                  <a:lnTo>
                    <a:pt x="569" y="66"/>
                  </a:lnTo>
                  <a:lnTo>
                    <a:pt x="481" y="17"/>
                  </a:lnTo>
                  <a:lnTo>
                    <a:pt x="375" y="0"/>
                  </a:lnTo>
                  <a:lnTo>
                    <a:pt x="242" y="0"/>
                  </a:lnTo>
                  <a:lnTo>
                    <a:pt x="97" y="30"/>
                  </a:lnTo>
                  <a:lnTo>
                    <a:pt x="119" y="247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8091360" y="777960"/>
              <a:ext cx="97200" cy="65520"/>
            </a:xfrm>
            <a:custGeom>
              <a:avLst/>
              <a:gdLst/>
              <a:ahLst/>
              <a:rect l="0" t="0" r="r" b="b"/>
              <a:pathLst>
                <a:path w="270" h="182">
                  <a:moveTo>
                    <a:pt x="106" y="0"/>
                  </a:moveTo>
                  <a:lnTo>
                    <a:pt x="35" y="0"/>
                  </a:lnTo>
                  <a:lnTo>
                    <a:pt x="0" y="22"/>
                  </a:lnTo>
                  <a:lnTo>
                    <a:pt x="0" y="89"/>
                  </a:lnTo>
                  <a:lnTo>
                    <a:pt x="57" y="151"/>
                  </a:lnTo>
                  <a:lnTo>
                    <a:pt x="164" y="182"/>
                  </a:lnTo>
                  <a:lnTo>
                    <a:pt x="244" y="178"/>
                  </a:lnTo>
                  <a:lnTo>
                    <a:pt x="270" y="133"/>
                  </a:lnTo>
                  <a:lnTo>
                    <a:pt x="262" y="102"/>
                  </a:lnTo>
                  <a:lnTo>
                    <a:pt x="213" y="44"/>
                  </a:lnTo>
                  <a:lnTo>
                    <a:pt x="150" y="8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 txBox="1"/>
          <p:nvPr/>
        </p:nvSpPr>
        <p:spPr>
          <a:xfrm>
            <a:off x="1600200" y="2514600"/>
            <a:ext cx="68580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8 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pply the matching rule to intangible assets, including research and development costs and goodwi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1066680" y="838080"/>
            <a:ext cx="75438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Accounting for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Intangible Asse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63640" cy="703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 txBox="1"/>
          <p:nvPr/>
        </p:nvSpPr>
        <p:spPr>
          <a:xfrm>
            <a:off x="990720" y="38088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Intangible Asse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9144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ntangible assets are long term but have no physical subst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Value comes from the long-term rights or advantages that it offers to its own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Intangible assets include patents, copyrights, leaseholds, leasehold improvements, trademarks and brand names, franchises, licenses, and goodwi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y are accounted for at acquisition co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 txBox="1"/>
          <p:nvPr/>
        </p:nvSpPr>
        <p:spPr>
          <a:xfrm>
            <a:off x="914400" y="60948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Intangible Asse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990720" y="167652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Goodwill and trademarks should not appear on the balance sheet unless they have been purchased from another party at a price established in the marketpla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 txBox="1"/>
          <p:nvPr/>
        </p:nvSpPr>
        <p:spPr>
          <a:xfrm>
            <a:off x="1066680" y="304920"/>
            <a:ext cx="7543800" cy="113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Accounting Issues for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Intangible Asse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76212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ccounting issues</a:t>
            </a:r>
            <a:r>
              <a:rPr b="1" i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re similar to other long-term assets. APB Opinion #17 lists them as follow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etermining an initial carrying amou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ccounting for periodic write-off or amortiz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Accounting for that amount if the value declines substantially and permanent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Because of its intangibility, its value and useful life may be quite hard to estim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 txBox="1"/>
          <p:nvPr/>
        </p:nvSpPr>
        <p:spPr>
          <a:xfrm>
            <a:off x="1447920" y="344520"/>
            <a:ext cx="6894360" cy="113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Related Journal Entries 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for Intangible Asse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914400" y="129528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Patent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18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Cash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     18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Purchase of pat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Amortization Expense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3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Patent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3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Annual amortization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$18,000 / 6 years = $3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Loss on Patent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1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Patent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1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Loss resulting from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patent’s becoming worthl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 txBox="1"/>
          <p:nvPr/>
        </p:nvSpPr>
        <p:spPr>
          <a:xfrm>
            <a:off x="1143000" y="304920"/>
            <a:ext cx="7545240" cy="113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Research and 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Development Cos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1066680" y="198108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8640" indent="-45864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R&amp;D expenditures should be treated as  revenue expenditures and charged to expense in the period when incurr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8640" indent="-45864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osts of R&amp;D are continuous and necessary for the success of a business and should be treated as current expen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8640" indent="-458640">
              <a:lnSpc>
                <a:spcPct val="11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3.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R&amp;D costs do not necessarily result in future benefits (assets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762120" y="1447920"/>
            <a:ext cx="5576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FASB has stated tha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1066680" y="228600"/>
            <a:ext cx="7558200" cy="94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  <a:ea typeface="Arial"/>
              </a:rPr>
              <a:t>Long-Term Assets as a Percentage o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  <a:ea typeface="Arial"/>
              </a:rPr>
              <a:t>Total Assets for Selected Indust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685800" y="1136520"/>
            <a:ext cx="8458200" cy="5173560"/>
            <a:chOff x="685800" y="1136520"/>
            <a:chExt cx="8458200" cy="5173560"/>
          </a:xfrm>
        </p:grpSpPr>
        <p:sp>
          <p:nvSpPr>
            <p:cNvPr id="62" name=""/>
            <p:cNvSpPr/>
            <p:nvPr/>
          </p:nvSpPr>
          <p:spPr>
            <a:xfrm>
              <a:off x="755640" y="1136520"/>
              <a:ext cx="8197920" cy="5173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125880" y="1836720"/>
              <a:ext cx="5259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3125880" y="4368960"/>
              <a:ext cx="5259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125880" y="3862440"/>
              <a:ext cx="5259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3125880" y="3355920"/>
              <a:ext cx="5259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3125880" y="2847960"/>
              <a:ext cx="5259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3125880" y="2343240"/>
              <a:ext cx="5259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 txBox="1"/>
            <p:nvPr/>
          </p:nvSpPr>
          <p:spPr>
            <a:xfrm>
              <a:off x="8325000" y="1631880"/>
              <a:ext cx="61272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2.6%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 txBox="1"/>
            <p:nvPr/>
          </p:nvSpPr>
          <p:spPr>
            <a:xfrm>
              <a:off x="8325000" y="2138400"/>
              <a:ext cx="61272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5.8%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 txBox="1"/>
            <p:nvPr/>
          </p:nvSpPr>
          <p:spPr>
            <a:xfrm>
              <a:off x="8325000" y="2643120"/>
              <a:ext cx="61272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4.2%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 txBox="1"/>
            <p:nvPr/>
          </p:nvSpPr>
          <p:spPr>
            <a:xfrm>
              <a:off x="8325000" y="3147840"/>
              <a:ext cx="61272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3.1%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 txBox="1"/>
            <p:nvPr/>
          </p:nvSpPr>
          <p:spPr>
            <a:xfrm>
              <a:off x="8325000" y="3657600"/>
              <a:ext cx="61272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5.3%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 txBox="1"/>
            <p:nvPr/>
          </p:nvSpPr>
          <p:spPr>
            <a:xfrm>
              <a:off x="8325000" y="4164120"/>
              <a:ext cx="65556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3.8%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685800" y="1589040"/>
              <a:ext cx="1390680" cy="2940120"/>
              <a:chOff x="685800" y="1589040"/>
              <a:chExt cx="1390680" cy="2940120"/>
            </a:xfrm>
          </p:grpSpPr>
          <p:sp>
            <p:nvSpPr>
              <p:cNvPr id="76" name=""/>
              <p:cNvSpPr txBox="1"/>
              <p:nvPr/>
            </p:nvSpPr>
            <p:spPr>
              <a:xfrm>
                <a:off x="903240" y="1589040"/>
                <a:ext cx="1173240" cy="27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dvertising 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 txBox="1"/>
              <p:nvPr/>
            </p:nvSpPr>
            <p:spPr>
              <a:xfrm>
                <a:off x="1073160" y="1749600"/>
                <a:ext cx="942840" cy="27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gencies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 txBox="1"/>
              <p:nvPr/>
            </p:nvSpPr>
            <p:spPr>
              <a:xfrm>
                <a:off x="1063800" y="2095560"/>
                <a:ext cx="998640" cy="27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nterstate 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 txBox="1"/>
              <p:nvPr/>
            </p:nvSpPr>
            <p:spPr>
              <a:xfrm>
                <a:off x="1066680" y="2260440"/>
                <a:ext cx="905040" cy="27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rucking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 txBox="1"/>
              <p:nvPr/>
            </p:nvSpPr>
            <p:spPr>
              <a:xfrm>
                <a:off x="1039680" y="2598840"/>
                <a:ext cx="1017720" cy="27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uto and  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 txBox="1"/>
              <p:nvPr/>
            </p:nvSpPr>
            <p:spPr>
              <a:xfrm>
                <a:off x="685800" y="2755800"/>
                <a:ext cx="1279440" cy="27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ome Supply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 txBox="1"/>
              <p:nvPr/>
            </p:nvSpPr>
            <p:spPr>
              <a:xfrm>
                <a:off x="1171440" y="3106800"/>
                <a:ext cx="887400" cy="27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Grocery 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 txBox="1"/>
              <p:nvPr/>
            </p:nvSpPr>
            <p:spPr>
              <a:xfrm>
                <a:off x="1295280" y="3263760"/>
                <a:ext cx="655560" cy="27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tores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 txBox="1"/>
              <p:nvPr/>
            </p:nvSpPr>
            <p:spPr>
              <a:xfrm>
                <a:off x="1128600" y="3613320"/>
                <a:ext cx="833400" cy="27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harma- 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 txBox="1"/>
              <p:nvPr/>
            </p:nvSpPr>
            <p:spPr>
              <a:xfrm>
                <a:off x="1116000" y="3770280"/>
                <a:ext cx="833400" cy="27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euticals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 txBox="1"/>
              <p:nvPr/>
            </p:nvSpPr>
            <p:spPr>
              <a:xfrm>
                <a:off x="982800" y="4257720"/>
                <a:ext cx="927000" cy="27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ablewar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7" name=""/>
            <p:cNvSpPr txBox="1"/>
            <p:nvPr/>
          </p:nvSpPr>
          <p:spPr>
            <a:xfrm>
              <a:off x="1855800" y="4689360"/>
              <a:ext cx="26496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2000160" y="1563840"/>
              <a:ext cx="6161040" cy="3381120"/>
              <a:chOff x="2000160" y="1563840"/>
              <a:chExt cx="6161040" cy="3381120"/>
            </a:xfrm>
          </p:grpSpPr>
          <p:sp>
            <p:nvSpPr>
              <p:cNvPr id="89" name=""/>
              <p:cNvSpPr/>
              <p:nvPr/>
            </p:nvSpPr>
            <p:spPr>
              <a:xfrm>
                <a:off x="2000160" y="1563840"/>
                <a:ext cx="0" cy="3092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161200" y="1563840"/>
                <a:ext cx="0" cy="3092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1" name=""/>
              <p:cNvGrpSpPr/>
              <p:nvPr/>
            </p:nvGrpSpPr>
            <p:grpSpPr>
              <a:xfrm>
                <a:off x="2847960" y="1563840"/>
                <a:ext cx="351000" cy="3379680"/>
                <a:chOff x="2847960" y="1563840"/>
                <a:chExt cx="351000" cy="337968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2998800" y="1563840"/>
                  <a:ext cx="0" cy="3092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" name=""/>
                <p:cNvSpPr txBox="1"/>
                <p:nvPr/>
              </p:nvSpPr>
              <p:spPr>
                <a:xfrm>
                  <a:off x="2847960" y="4672080"/>
                  <a:ext cx="351000" cy="27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0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" name=""/>
              <p:cNvGrpSpPr/>
              <p:nvPr/>
            </p:nvGrpSpPr>
            <p:grpSpPr>
              <a:xfrm>
                <a:off x="3781440" y="1563840"/>
                <a:ext cx="351000" cy="3381120"/>
                <a:chOff x="3781440" y="1563840"/>
                <a:chExt cx="351000" cy="338112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4014720" y="1563840"/>
                  <a:ext cx="0" cy="3092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" name=""/>
                <p:cNvSpPr txBox="1"/>
                <p:nvPr/>
              </p:nvSpPr>
              <p:spPr>
                <a:xfrm>
                  <a:off x="3781440" y="4673520"/>
                  <a:ext cx="351000" cy="27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0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" name=""/>
              <p:cNvGrpSpPr/>
              <p:nvPr/>
            </p:nvGrpSpPr>
            <p:grpSpPr>
              <a:xfrm>
                <a:off x="4851360" y="1563840"/>
                <a:ext cx="351000" cy="3381120"/>
                <a:chOff x="4851360" y="1563840"/>
                <a:chExt cx="351000" cy="338112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5057640" y="1563840"/>
                  <a:ext cx="0" cy="3092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" name=""/>
                <p:cNvSpPr txBox="1"/>
                <p:nvPr/>
              </p:nvSpPr>
              <p:spPr>
                <a:xfrm>
                  <a:off x="4851360" y="4673520"/>
                  <a:ext cx="351000" cy="27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0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" name=""/>
              <p:cNvGrpSpPr/>
              <p:nvPr/>
            </p:nvGrpSpPr>
            <p:grpSpPr>
              <a:xfrm>
                <a:off x="5904000" y="1563840"/>
                <a:ext cx="351000" cy="3381120"/>
                <a:chOff x="5904000" y="1563840"/>
                <a:chExt cx="351000" cy="338112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6100920" y="1563840"/>
                  <a:ext cx="0" cy="3092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 txBox="1"/>
                <p:nvPr/>
              </p:nvSpPr>
              <p:spPr>
                <a:xfrm>
                  <a:off x="5904000" y="4673520"/>
                  <a:ext cx="351000" cy="27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0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6877080" y="1563840"/>
                <a:ext cx="351000" cy="3381120"/>
                <a:chOff x="6877080" y="1563840"/>
                <a:chExt cx="351000" cy="338112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7107120" y="1563840"/>
                  <a:ext cx="0" cy="3092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 txBox="1"/>
                <p:nvPr/>
              </p:nvSpPr>
              <p:spPr>
                <a:xfrm>
                  <a:off x="6877080" y="4673520"/>
                  <a:ext cx="351000" cy="27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0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6" name=""/>
            <p:cNvSpPr/>
            <p:nvPr/>
          </p:nvSpPr>
          <p:spPr>
            <a:xfrm>
              <a:off x="7191360" y="4699080"/>
              <a:ext cx="35712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 txBox="1"/>
            <p:nvPr/>
          </p:nvSpPr>
          <p:spPr>
            <a:xfrm>
              <a:off x="7966080" y="4689360"/>
              <a:ext cx="35100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006640" y="5681520"/>
              <a:ext cx="338400" cy="165600"/>
            </a:xfrm>
            <a:custGeom>
              <a:avLst/>
              <a:gdLst/>
              <a:ahLst/>
              <a:rect l="0" t="0" r="r" b="b"/>
              <a:pathLst>
                <a:path w="940" h="460">
                  <a:moveTo>
                    <a:pt x="940" y="460"/>
                  </a:moveTo>
                  <a:lnTo>
                    <a:pt x="940" y="0"/>
                  </a:lnTo>
                  <a:lnTo>
                    <a:pt x="0" y="0"/>
                  </a:lnTo>
                  <a:lnTo>
                    <a:pt x="0" y="460"/>
                  </a:lnTo>
                  <a:lnTo>
                    <a:pt x="940" y="460"/>
                  </a:lnTo>
                  <a:close/>
                </a:path>
              </a:pathLst>
            </a:custGeom>
            <a:solidFill>
              <a:srgbClr val="b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006640" y="5419800"/>
              <a:ext cx="338400" cy="163800"/>
            </a:xfrm>
            <a:custGeom>
              <a:avLst/>
              <a:gdLst/>
              <a:ahLst/>
              <a:rect l="0" t="0" r="r" b="b"/>
              <a:pathLst>
                <a:path w="940" h="455">
                  <a:moveTo>
                    <a:pt x="940" y="0"/>
                  </a:moveTo>
                  <a:lnTo>
                    <a:pt x="940" y="455"/>
                  </a:lnTo>
                  <a:lnTo>
                    <a:pt x="0" y="455"/>
                  </a:lnTo>
                  <a:lnTo>
                    <a:pt x="0" y="0"/>
                  </a:lnTo>
                  <a:lnTo>
                    <a:pt x="940" y="0"/>
                  </a:lnTo>
                  <a:close/>
                </a:path>
              </a:pathLst>
            </a:custGeom>
            <a:solidFill>
              <a:srgbClr val="4fd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006640" y="5156280"/>
              <a:ext cx="338400" cy="167040"/>
            </a:xfrm>
            <a:custGeom>
              <a:avLst/>
              <a:gdLst/>
              <a:ahLst/>
              <a:rect l="0" t="0" r="r" b="b"/>
              <a:pathLst>
                <a:path w="940" h="464">
                  <a:moveTo>
                    <a:pt x="940" y="464"/>
                  </a:moveTo>
                  <a:lnTo>
                    <a:pt x="940" y="0"/>
                  </a:lnTo>
                  <a:lnTo>
                    <a:pt x="0" y="0"/>
                  </a:lnTo>
                  <a:lnTo>
                    <a:pt x="0" y="464"/>
                  </a:lnTo>
                  <a:lnTo>
                    <a:pt x="940" y="464"/>
                  </a:lnTo>
                  <a:close/>
                </a:path>
              </a:pathLst>
            </a:custGeom>
            <a:solidFill>
              <a:srgbClr val="ff5f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 txBox="1"/>
            <p:nvPr/>
          </p:nvSpPr>
          <p:spPr>
            <a:xfrm>
              <a:off x="2463840" y="5100480"/>
              <a:ext cx="149400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ice Industri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 txBox="1"/>
            <p:nvPr/>
          </p:nvSpPr>
          <p:spPr>
            <a:xfrm>
              <a:off x="2463840" y="5361120"/>
              <a:ext cx="202716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erchandising Industri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 txBox="1"/>
            <p:nvPr/>
          </p:nvSpPr>
          <p:spPr>
            <a:xfrm>
              <a:off x="2463840" y="5630760"/>
              <a:ext cx="200196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ufacturing Industri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006640" y="1654200"/>
              <a:ext cx="2259360" cy="363960"/>
            </a:xfrm>
            <a:custGeom>
              <a:avLst/>
              <a:gdLst/>
              <a:ahLst/>
              <a:rect l="0" t="0" r="r" b="b"/>
              <a:pathLst>
                <a:path w="6276" h="1011">
                  <a:moveTo>
                    <a:pt x="0" y="0"/>
                  </a:moveTo>
                  <a:lnTo>
                    <a:pt x="6276" y="0"/>
                  </a:lnTo>
                  <a:lnTo>
                    <a:pt x="6276" y="1011"/>
                  </a:lnTo>
                  <a:lnTo>
                    <a:pt x="0" y="10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5f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006640" y="2162160"/>
              <a:ext cx="5764680" cy="351360"/>
            </a:xfrm>
            <a:custGeom>
              <a:avLst/>
              <a:gdLst/>
              <a:ahLst/>
              <a:rect l="0" t="0" r="r" b="b"/>
              <a:pathLst>
                <a:path w="16013" h="976">
                  <a:moveTo>
                    <a:pt x="0" y="976"/>
                  </a:moveTo>
                  <a:lnTo>
                    <a:pt x="16013" y="976"/>
                  </a:lnTo>
                  <a:lnTo>
                    <a:pt x="16013" y="0"/>
                  </a:lnTo>
                  <a:lnTo>
                    <a:pt x="0" y="0"/>
                  </a:lnTo>
                  <a:lnTo>
                    <a:pt x="0" y="976"/>
                  </a:lnTo>
                  <a:close/>
                </a:path>
              </a:pathLst>
            </a:custGeom>
            <a:solidFill>
              <a:srgbClr val="ff5f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006640" y="2668680"/>
              <a:ext cx="2510280" cy="351360"/>
            </a:xfrm>
            <a:custGeom>
              <a:avLst/>
              <a:gdLst/>
              <a:ahLst/>
              <a:rect l="0" t="0" r="r" b="b"/>
              <a:pathLst>
                <a:path w="6973" h="976">
                  <a:moveTo>
                    <a:pt x="0" y="0"/>
                  </a:moveTo>
                  <a:lnTo>
                    <a:pt x="6973" y="0"/>
                  </a:lnTo>
                  <a:lnTo>
                    <a:pt x="6973" y="976"/>
                  </a:lnTo>
                  <a:lnTo>
                    <a:pt x="0" y="9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d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006640" y="3174840"/>
              <a:ext cx="4393080" cy="329040"/>
            </a:xfrm>
            <a:custGeom>
              <a:avLst/>
              <a:gdLst/>
              <a:ahLst/>
              <a:rect l="0" t="0" r="r" b="b"/>
              <a:pathLst>
                <a:path w="12203" h="914">
                  <a:moveTo>
                    <a:pt x="0" y="914"/>
                  </a:moveTo>
                  <a:lnTo>
                    <a:pt x="12203" y="914"/>
                  </a:lnTo>
                  <a:lnTo>
                    <a:pt x="12203" y="0"/>
                  </a:lnTo>
                  <a:lnTo>
                    <a:pt x="0" y="0"/>
                  </a:lnTo>
                  <a:lnTo>
                    <a:pt x="0" y="914"/>
                  </a:lnTo>
                  <a:close/>
                </a:path>
              </a:pathLst>
            </a:custGeom>
            <a:solidFill>
              <a:srgbClr val="4fd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06640" y="3679920"/>
              <a:ext cx="3630960" cy="357480"/>
            </a:xfrm>
            <a:custGeom>
              <a:avLst/>
              <a:gdLst/>
              <a:ahLst/>
              <a:rect l="0" t="0" r="r" b="b"/>
              <a:pathLst>
                <a:path w="10086" h="993">
                  <a:moveTo>
                    <a:pt x="0" y="0"/>
                  </a:moveTo>
                  <a:lnTo>
                    <a:pt x="10086" y="0"/>
                  </a:lnTo>
                  <a:lnTo>
                    <a:pt x="10086" y="993"/>
                  </a:lnTo>
                  <a:lnTo>
                    <a:pt x="0" y="9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006640" y="4187880"/>
              <a:ext cx="2411640" cy="306720"/>
            </a:xfrm>
            <a:custGeom>
              <a:avLst/>
              <a:gdLst/>
              <a:ahLst/>
              <a:rect l="0" t="0" r="r" b="b"/>
              <a:pathLst>
                <a:path w="6699" h="852">
                  <a:moveTo>
                    <a:pt x="0" y="852"/>
                  </a:moveTo>
                  <a:lnTo>
                    <a:pt x="6699" y="852"/>
                  </a:lnTo>
                  <a:lnTo>
                    <a:pt x="6699" y="0"/>
                  </a:lnTo>
                  <a:lnTo>
                    <a:pt x="0" y="0"/>
                  </a:lnTo>
                  <a:lnTo>
                    <a:pt x="0" y="852"/>
                  </a:lnTo>
                  <a:close/>
                </a:path>
              </a:pathLst>
            </a:custGeom>
            <a:solidFill>
              <a:srgbClr val="bf7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 txBox="1"/>
            <p:nvPr/>
          </p:nvSpPr>
          <p:spPr>
            <a:xfrm>
              <a:off x="8920080" y="4322880"/>
              <a:ext cx="223920" cy="337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 txBox="1"/>
          <p:nvPr/>
        </p:nvSpPr>
        <p:spPr>
          <a:xfrm>
            <a:off x="1066680" y="38088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mputer Software Cos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990720" y="1600200"/>
            <a:ext cx="760716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sts incurred in creating computer software are considered R&amp;D until the product has been proved to be technologically feasi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sts incurred up to this point are expensed as incurr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 txBox="1"/>
          <p:nvPr/>
        </p:nvSpPr>
        <p:spPr>
          <a:xfrm>
            <a:off x="1219320" y="347760"/>
            <a:ext cx="7210440" cy="11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mputer Software Cos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990720" y="129528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fter the working program has been developed, all software production costs are recorded as assets and amortized over the estimated economic life of the product using the straight-line metho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Software developed for internal use by a company may be amortized over its estimated useful lif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 txBox="1"/>
          <p:nvPr/>
        </p:nvSpPr>
        <p:spPr>
          <a:xfrm>
            <a:off x="1295280" y="533520"/>
            <a:ext cx="697716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Goodwi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1143000" y="1523880"/>
            <a:ext cx="75438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Goodwill</a:t>
            </a:r>
            <a:r>
              <a:rPr b="1" i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xists when a purchaser pays more for a business than the fair market value of the net assets if purchased separate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payment above and beyond the fair market value is recorded in the Goodwill accou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 txBox="1"/>
          <p:nvPr/>
        </p:nvSpPr>
        <p:spPr>
          <a:xfrm>
            <a:off x="1295280" y="380880"/>
            <a:ext cx="7053120" cy="8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Goodwi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1066680" y="1219320"/>
            <a:ext cx="78231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PB #17 states that goodwill should be amortized over a reasonable number of future periods, but not longer than 40 years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Goodwill should not be recorded unless it is paid for in connection with the purchase of a whole busi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mount = Purchase price - FMV of identifiable asse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 txBox="1"/>
          <p:nvPr/>
        </p:nvSpPr>
        <p:spPr>
          <a:xfrm>
            <a:off x="2057400" y="1143000"/>
            <a:ext cx="4457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914400" y="2590920"/>
            <a:ext cx="792468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y would a company spend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ousands of dollars on goodwil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company is paying for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nticipated superior earnings and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probably feels it will more than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recoup the goodwill purchas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6477120" y="380880"/>
            <a:ext cx="2360880" cy="2208960"/>
            <a:chOff x="6477120" y="380880"/>
            <a:chExt cx="2360880" cy="2208960"/>
          </a:xfrm>
        </p:grpSpPr>
        <p:sp>
          <p:nvSpPr>
            <p:cNvPr id="590" name=""/>
            <p:cNvSpPr/>
            <p:nvPr/>
          </p:nvSpPr>
          <p:spPr>
            <a:xfrm>
              <a:off x="6483240" y="1465200"/>
              <a:ext cx="573480" cy="771840"/>
            </a:xfrm>
            <a:custGeom>
              <a:avLst/>
              <a:gdLst/>
              <a:ahLst/>
              <a:rect l="0" t="0" r="r" b="b"/>
              <a:pathLst>
                <a:path w="1593" h="2144">
                  <a:moveTo>
                    <a:pt x="636" y="0"/>
                  </a:moveTo>
                  <a:lnTo>
                    <a:pt x="552" y="92"/>
                  </a:lnTo>
                  <a:lnTo>
                    <a:pt x="552" y="374"/>
                  </a:lnTo>
                  <a:lnTo>
                    <a:pt x="636" y="577"/>
                  </a:lnTo>
                  <a:lnTo>
                    <a:pt x="733" y="674"/>
                  </a:lnTo>
                  <a:lnTo>
                    <a:pt x="587" y="815"/>
                  </a:lnTo>
                  <a:lnTo>
                    <a:pt x="396" y="1125"/>
                  </a:lnTo>
                  <a:lnTo>
                    <a:pt x="30" y="1619"/>
                  </a:lnTo>
                  <a:lnTo>
                    <a:pt x="0" y="1738"/>
                  </a:lnTo>
                  <a:lnTo>
                    <a:pt x="30" y="1835"/>
                  </a:lnTo>
                  <a:lnTo>
                    <a:pt x="149" y="1835"/>
                  </a:lnTo>
                  <a:lnTo>
                    <a:pt x="242" y="1720"/>
                  </a:lnTo>
                  <a:lnTo>
                    <a:pt x="396" y="1442"/>
                  </a:lnTo>
                  <a:lnTo>
                    <a:pt x="494" y="1323"/>
                  </a:lnTo>
                  <a:lnTo>
                    <a:pt x="552" y="1509"/>
                  </a:lnTo>
                  <a:lnTo>
                    <a:pt x="512" y="1703"/>
                  </a:lnTo>
                  <a:lnTo>
                    <a:pt x="352" y="1989"/>
                  </a:lnTo>
                  <a:lnTo>
                    <a:pt x="396" y="2055"/>
                  </a:lnTo>
                  <a:lnTo>
                    <a:pt x="494" y="2033"/>
                  </a:lnTo>
                  <a:lnTo>
                    <a:pt x="693" y="1888"/>
                  </a:lnTo>
                  <a:lnTo>
                    <a:pt x="847" y="1637"/>
                  </a:lnTo>
                  <a:lnTo>
                    <a:pt x="847" y="2073"/>
                  </a:lnTo>
                  <a:lnTo>
                    <a:pt x="1037" y="2144"/>
                  </a:lnTo>
                  <a:lnTo>
                    <a:pt x="1147" y="1875"/>
                  </a:lnTo>
                  <a:lnTo>
                    <a:pt x="1249" y="2126"/>
                  </a:lnTo>
                  <a:lnTo>
                    <a:pt x="1324" y="2055"/>
                  </a:lnTo>
                  <a:lnTo>
                    <a:pt x="1360" y="1557"/>
                  </a:lnTo>
                  <a:lnTo>
                    <a:pt x="1593" y="1090"/>
                  </a:lnTo>
                  <a:lnTo>
                    <a:pt x="1540" y="815"/>
                  </a:lnTo>
                  <a:lnTo>
                    <a:pt x="1377" y="714"/>
                  </a:lnTo>
                  <a:lnTo>
                    <a:pt x="1210" y="727"/>
                  </a:lnTo>
                  <a:lnTo>
                    <a:pt x="1147" y="507"/>
                  </a:lnTo>
                  <a:lnTo>
                    <a:pt x="975" y="458"/>
                  </a:lnTo>
                  <a:lnTo>
                    <a:pt x="821" y="388"/>
                  </a:lnTo>
                  <a:lnTo>
                    <a:pt x="733" y="48"/>
                  </a:lnTo>
                  <a:lnTo>
                    <a:pt x="636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964200" y="1778040"/>
              <a:ext cx="170280" cy="373320"/>
            </a:xfrm>
            <a:custGeom>
              <a:avLst/>
              <a:gdLst/>
              <a:ahLst/>
              <a:rect l="0" t="0" r="r" b="b"/>
              <a:pathLst>
                <a:path w="473" h="1037">
                  <a:moveTo>
                    <a:pt x="239" y="0"/>
                  </a:moveTo>
                  <a:lnTo>
                    <a:pt x="473" y="268"/>
                  </a:lnTo>
                  <a:lnTo>
                    <a:pt x="353" y="852"/>
                  </a:lnTo>
                  <a:lnTo>
                    <a:pt x="0" y="1037"/>
                  </a:lnTo>
                  <a:lnTo>
                    <a:pt x="0" y="741"/>
                  </a:lnTo>
                  <a:lnTo>
                    <a:pt x="146" y="440"/>
                  </a:lnTo>
                  <a:lnTo>
                    <a:pt x="239" y="216"/>
                  </a:lnTo>
                  <a:lnTo>
                    <a:pt x="239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8062920" y="1563840"/>
              <a:ext cx="422640" cy="336960"/>
            </a:xfrm>
            <a:custGeom>
              <a:avLst/>
              <a:gdLst/>
              <a:ahLst/>
              <a:rect l="0" t="0" r="r" b="b"/>
              <a:pathLst>
                <a:path w="1174" h="936">
                  <a:moveTo>
                    <a:pt x="486" y="0"/>
                  </a:moveTo>
                  <a:lnTo>
                    <a:pt x="486" y="149"/>
                  </a:lnTo>
                  <a:lnTo>
                    <a:pt x="525" y="283"/>
                  </a:lnTo>
                  <a:lnTo>
                    <a:pt x="755" y="508"/>
                  </a:lnTo>
                  <a:lnTo>
                    <a:pt x="1174" y="631"/>
                  </a:lnTo>
                  <a:lnTo>
                    <a:pt x="1117" y="919"/>
                  </a:lnTo>
                  <a:lnTo>
                    <a:pt x="755" y="936"/>
                  </a:lnTo>
                  <a:lnTo>
                    <a:pt x="224" y="734"/>
                  </a:lnTo>
                  <a:lnTo>
                    <a:pt x="0" y="375"/>
                  </a:lnTo>
                  <a:lnTo>
                    <a:pt x="264" y="17"/>
                  </a:lnTo>
                  <a:lnTo>
                    <a:pt x="486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8232840" y="1181160"/>
              <a:ext cx="590760" cy="743400"/>
            </a:xfrm>
            <a:custGeom>
              <a:avLst/>
              <a:gdLst/>
              <a:ahLst/>
              <a:rect l="0" t="0" r="r" b="b"/>
              <a:pathLst>
                <a:path w="1641" h="2065">
                  <a:moveTo>
                    <a:pt x="149" y="878"/>
                  </a:moveTo>
                  <a:lnTo>
                    <a:pt x="0" y="1024"/>
                  </a:lnTo>
                  <a:lnTo>
                    <a:pt x="30" y="1359"/>
                  </a:lnTo>
                  <a:lnTo>
                    <a:pt x="260" y="1513"/>
                  </a:lnTo>
                  <a:lnTo>
                    <a:pt x="277" y="2026"/>
                  </a:lnTo>
                  <a:lnTo>
                    <a:pt x="511" y="2026"/>
                  </a:lnTo>
                  <a:lnTo>
                    <a:pt x="493" y="1598"/>
                  </a:lnTo>
                  <a:lnTo>
                    <a:pt x="661" y="2048"/>
                  </a:lnTo>
                  <a:lnTo>
                    <a:pt x="780" y="2065"/>
                  </a:lnTo>
                  <a:lnTo>
                    <a:pt x="860" y="1915"/>
                  </a:lnTo>
                  <a:lnTo>
                    <a:pt x="878" y="1629"/>
                  </a:lnTo>
                  <a:lnTo>
                    <a:pt x="1129" y="1893"/>
                  </a:lnTo>
                  <a:lnTo>
                    <a:pt x="1226" y="1876"/>
                  </a:lnTo>
                  <a:lnTo>
                    <a:pt x="1204" y="1690"/>
                  </a:lnTo>
                  <a:lnTo>
                    <a:pt x="1112" y="1429"/>
                  </a:lnTo>
                  <a:lnTo>
                    <a:pt x="1015" y="1257"/>
                  </a:lnTo>
                  <a:lnTo>
                    <a:pt x="1050" y="1143"/>
                  </a:lnTo>
                  <a:lnTo>
                    <a:pt x="1112" y="1160"/>
                  </a:lnTo>
                  <a:lnTo>
                    <a:pt x="1341" y="1429"/>
                  </a:lnTo>
                  <a:lnTo>
                    <a:pt x="1588" y="1495"/>
                  </a:lnTo>
                  <a:lnTo>
                    <a:pt x="1641" y="1412"/>
                  </a:lnTo>
                  <a:lnTo>
                    <a:pt x="1606" y="1275"/>
                  </a:lnTo>
                  <a:lnTo>
                    <a:pt x="1147" y="856"/>
                  </a:lnTo>
                  <a:lnTo>
                    <a:pt x="780" y="728"/>
                  </a:lnTo>
                  <a:lnTo>
                    <a:pt x="736" y="498"/>
                  </a:lnTo>
                  <a:lnTo>
                    <a:pt x="860" y="286"/>
                  </a:lnTo>
                  <a:lnTo>
                    <a:pt x="860" y="66"/>
                  </a:lnTo>
                  <a:lnTo>
                    <a:pt x="758" y="0"/>
                  </a:lnTo>
                  <a:lnTo>
                    <a:pt x="493" y="561"/>
                  </a:lnTo>
                  <a:lnTo>
                    <a:pt x="260" y="644"/>
                  </a:lnTo>
                  <a:lnTo>
                    <a:pt x="202" y="794"/>
                  </a:lnTo>
                  <a:lnTo>
                    <a:pt x="149" y="878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262640" y="538200"/>
              <a:ext cx="644760" cy="949680"/>
            </a:xfrm>
            <a:custGeom>
              <a:avLst/>
              <a:gdLst/>
              <a:ahLst/>
              <a:rect l="0" t="0" r="r" b="b"/>
              <a:pathLst>
                <a:path w="1791" h="2638">
                  <a:moveTo>
                    <a:pt x="449" y="366"/>
                  </a:moveTo>
                  <a:lnTo>
                    <a:pt x="313" y="873"/>
                  </a:lnTo>
                  <a:lnTo>
                    <a:pt x="17" y="970"/>
                  </a:lnTo>
                  <a:lnTo>
                    <a:pt x="97" y="1133"/>
                  </a:lnTo>
                  <a:lnTo>
                    <a:pt x="0" y="1230"/>
                  </a:lnTo>
                  <a:lnTo>
                    <a:pt x="0" y="1416"/>
                  </a:lnTo>
                  <a:lnTo>
                    <a:pt x="145" y="1584"/>
                  </a:lnTo>
                  <a:lnTo>
                    <a:pt x="277" y="1584"/>
                  </a:lnTo>
                  <a:lnTo>
                    <a:pt x="370" y="2170"/>
                  </a:lnTo>
                  <a:lnTo>
                    <a:pt x="485" y="2421"/>
                  </a:lnTo>
                  <a:lnTo>
                    <a:pt x="851" y="2638"/>
                  </a:lnTo>
                  <a:lnTo>
                    <a:pt x="1218" y="2602"/>
                  </a:lnTo>
                  <a:lnTo>
                    <a:pt x="1390" y="2170"/>
                  </a:lnTo>
                  <a:lnTo>
                    <a:pt x="1434" y="1500"/>
                  </a:lnTo>
                  <a:lnTo>
                    <a:pt x="1791" y="1168"/>
                  </a:lnTo>
                  <a:lnTo>
                    <a:pt x="1773" y="1036"/>
                  </a:lnTo>
                  <a:lnTo>
                    <a:pt x="1734" y="970"/>
                  </a:lnTo>
                  <a:lnTo>
                    <a:pt x="1544" y="956"/>
                  </a:lnTo>
                  <a:lnTo>
                    <a:pt x="1601" y="784"/>
                  </a:lnTo>
                  <a:lnTo>
                    <a:pt x="1416" y="665"/>
                  </a:lnTo>
                  <a:lnTo>
                    <a:pt x="1332" y="286"/>
                  </a:lnTo>
                  <a:lnTo>
                    <a:pt x="776" y="0"/>
                  </a:lnTo>
                  <a:lnTo>
                    <a:pt x="485" y="268"/>
                  </a:lnTo>
                  <a:lnTo>
                    <a:pt x="449" y="366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310520" y="1330200"/>
              <a:ext cx="590760" cy="1134000"/>
            </a:xfrm>
            <a:custGeom>
              <a:avLst/>
              <a:gdLst/>
              <a:ahLst/>
              <a:rect l="0" t="0" r="r" b="b"/>
              <a:pathLst>
                <a:path w="1641" h="3150">
                  <a:moveTo>
                    <a:pt x="335" y="167"/>
                  </a:moveTo>
                  <a:lnTo>
                    <a:pt x="568" y="317"/>
                  </a:lnTo>
                  <a:lnTo>
                    <a:pt x="687" y="485"/>
                  </a:lnTo>
                  <a:lnTo>
                    <a:pt x="1341" y="0"/>
                  </a:lnTo>
                  <a:lnTo>
                    <a:pt x="1548" y="101"/>
                  </a:lnTo>
                  <a:lnTo>
                    <a:pt x="1641" y="595"/>
                  </a:lnTo>
                  <a:lnTo>
                    <a:pt x="1165" y="2047"/>
                  </a:lnTo>
                  <a:lnTo>
                    <a:pt x="1319" y="2846"/>
                  </a:lnTo>
                  <a:lnTo>
                    <a:pt x="701" y="3150"/>
                  </a:lnTo>
                  <a:lnTo>
                    <a:pt x="220" y="2978"/>
                  </a:lnTo>
                  <a:lnTo>
                    <a:pt x="220" y="2130"/>
                  </a:lnTo>
                  <a:lnTo>
                    <a:pt x="0" y="1306"/>
                  </a:lnTo>
                  <a:lnTo>
                    <a:pt x="220" y="317"/>
                  </a:lnTo>
                  <a:lnTo>
                    <a:pt x="335" y="167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335720" y="411120"/>
              <a:ext cx="551160" cy="300240"/>
            </a:xfrm>
            <a:custGeom>
              <a:avLst/>
              <a:gdLst/>
              <a:ahLst/>
              <a:rect l="0" t="0" r="r" b="b"/>
              <a:pathLst>
                <a:path w="1531" h="834">
                  <a:moveTo>
                    <a:pt x="189" y="794"/>
                  </a:moveTo>
                  <a:lnTo>
                    <a:pt x="414" y="574"/>
                  </a:lnTo>
                  <a:lnTo>
                    <a:pt x="555" y="538"/>
                  </a:lnTo>
                  <a:lnTo>
                    <a:pt x="555" y="561"/>
                  </a:lnTo>
                  <a:lnTo>
                    <a:pt x="626" y="538"/>
                  </a:lnTo>
                  <a:lnTo>
                    <a:pt x="723" y="605"/>
                  </a:lnTo>
                  <a:lnTo>
                    <a:pt x="904" y="640"/>
                  </a:lnTo>
                  <a:lnTo>
                    <a:pt x="1050" y="834"/>
                  </a:lnTo>
                  <a:lnTo>
                    <a:pt x="1288" y="750"/>
                  </a:lnTo>
                  <a:lnTo>
                    <a:pt x="1288" y="658"/>
                  </a:lnTo>
                  <a:lnTo>
                    <a:pt x="1531" y="561"/>
                  </a:lnTo>
                  <a:lnTo>
                    <a:pt x="1460" y="401"/>
                  </a:lnTo>
                  <a:lnTo>
                    <a:pt x="1231" y="388"/>
                  </a:lnTo>
                  <a:lnTo>
                    <a:pt x="1266" y="216"/>
                  </a:lnTo>
                  <a:lnTo>
                    <a:pt x="1072" y="238"/>
                  </a:lnTo>
                  <a:lnTo>
                    <a:pt x="1037" y="119"/>
                  </a:lnTo>
                  <a:lnTo>
                    <a:pt x="904" y="119"/>
                  </a:lnTo>
                  <a:lnTo>
                    <a:pt x="807" y="185"/>
                  </a:lnTo>
                  <a:lnTo>
                    <a:pt x="723" y="185"/>
                  </a:lnTo>
                  <a:lnTo>
                    <a:pt x="740" y="0"/>
                  </a:lnTo>
                  <a:lnTo>
                    <a:pt x="555" y="83"/>
                  </a:lnTo>
                  <a:lnTo>
                    <a:pt x="299" y="388"/>
                  </a:lnTo>
                  <a:lnTo>
                    <a:pt x="286" y="185"/>
                  </a:lnTo>
                  <a:lnTo>
                    <a:pt x="154" y="282"/>
                  </a:lnTo>
                  <a:lnTo>
                    <a:pt x="114" y="538"/>
                  </a:lnTo>
                  <a:lnTo>
                    <a:pt x="0" y="494"/>
                  </a:lnTo>
                  <a:lnTo>
                    <a:pt x="17" y="658"/>
                  </a:lnTo>
                  <a:lnTo>
                    <a:pt x="189" y="794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485120" y="1539720"/>
              <a:ext cx="176400" cy="857520"/>
            </a:xfrm>
            <a:custGeom>
              <a:avLst/>
              <a:gdLst/>
              <a:ahLst/>
              <a:rect l="0" t="0" r="r" b="b"/>
              <a:pathLst>
                <a:path w="490" h="2382">
                  <a:moveTo>
                    <a:pt x="252" y="13"/>
                  </a:moveTo>
                  <a:lnTo>
                    <a:pt x="83" y="119"/>
                  </a:lnTo>
                  <a:lnTo>
                    <a:pt x="83" y="317"/>
                  </a:lnTo>
                  <a:lnTo>
                    <a:pt x="202" y="383"/>
                  </a:lnTo>
                  <a:lnTo>
                    <a:pt x="44" y="701"/>
                  </a:lnTo>
                  <a:lnTo>
                    <a:pt x="0" y="1115"/>
                  </a:lnTo>
                  <a:lnTo>
                    <a:pt x="119" y="1667"/>
                  </a:lnTo>
                  <a:lnTo>
                    <a:pt x="119" y="1897"/>
                  </a:lnTo>
                  <a:lnTo>
                    <a:pt x="57" y="2073"/>
                  </a:lnTo>
                  <a:lnTo>
                    <a:pt x="309" y="2382"/>
                  </a:lnTo>
                  <a:lnTo>
                    <a:pt x="472" y="1919"/>
                  </a:lnTo>
                  <a:lnTo>
                    <a:pt x="472" y="1601"/>
                  </a:lnTo>
                  <a:lnTo>
                    <a:pt x="349" y="1301"/>
                  </a:lnTo>
                  <a:lnTo>
                    <a:pt x="292" y="899"/>
                  </a:lnTo>
                  <a:lnTo>
                    <a:pt x="415" y="507"/>
                  </a:lnTo>
                  <a:lnTo>
                    <a:pt x="375" y="348"/>
                  </a:lnTo>
                  <a:lnTo>
                    <a:pt x="490" y="268"/>
                  </a:lnTo>
                  <a:lnTo>
                    <a:pt x="472" y="167"/>
                  </a:lnTo>
                  <a:lnTo>
                    <a:pt x="327" y="0"/>
                  </a:lnTo>
                  <a:lnTo>
                    <a:pt x="252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478640" y="1251000"/>
              <a:ext cx="141480" cy="79560"/>
            </a:xfrm>
            <a:custGeom>
              <a:avLst/>
              <a:gdLst/>
              <a:ahLst/>
              <a:rect l="0" t="0" r="r" b="b"/>
              <a:pathLst>
                <a:path w="393" h="221">
                  <a:moveTo>
                    <a:pt x="0" y="66"/>
                  </a:moveTo>
                  <a:lnTo>
                    <a:pt x="154" y="221"/>
                  </a:lnTo>
                  <a:lnTo>
                    <a:pt x="314" y="203"/>
                  </a:lnTo>
                  <a:lnTo>
                    <a:pt x="393" y="17"/>
                  </a:lnTo>
                  <a:lnTo>
                    <a:pt x="221" y="0"/>
                  </a:lnTo>
                  <a:lnTo>
                    <a:pt x="39" y="17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323120" y="855720"/>
              <a:ext cx="176400" cy="168480"/>
            </a:xfrm>
            <a:custGeom>
              <a:avLst/>
              <a:gdLst/>
              <a:ahLst/>
              <a:rect l="0" t="0" r="r" b="b"/>
              <a:pathLst>
                <a:path w="490" h="468">
                  <a:moveTo>
                    <a:pt x="0" y="52"/>
                  </a:moveTo>
                  <a:lnTo>
                    <a:pt x="336" y="468"/>
                  </a:lnTo>
                  <a:lnTo>
                    <a:pt x="490" y="433"/>
                  </a:lnTo>
                  <a:lnTo>
                    <a:pt x="136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632720" y="820800"/>
              <a:ext cx="152640" cy="167040"/>
            </a:xfrm>
            <a:custGeom>
              <a:avLst/>
              <a:gdLst/>
              <a:ahLst/>
              <a:rect l="0" t="0" r="r" b="b"/>
              <a:pathLst>
                <a:path w="424" h="464">
                  <a:moveTo>
                    <a:pt x="0" y="66"/>
                  </a:moveTo>
                  <a:lnTo>
                    <a:pt x="292" y="464"/>
                  </a:lnTo>
                  <a:lnTo>
                    <a:pt x="424" y="358"/>
                  </a:lnTo>
                  <a:lnTo>
                    <a:pt x="119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257960" y="604800"/>
              <a:ext cx="616320" cy="419400"/>
            </a:xfrm>
            <a:custGeom>
              <a:avLst/>
              <a:gdLst/>
              <a:ahLst/>
              <a:rect l="0" t="0" r="r" b="b"/>
              <a:pathLst>
                <a:path w="1712" h="1165">
                  <a:moveTo>
                    <a:pt x="785" y="693"/>
                  </a:moveTo>
                  <a:lnTo>
                    <a:pt x="631" y="649"/>
                  </a:lnTo>
                  <a:lnTo>
                    <a:pt x="763" y="542"/>
                  </a:lnTo>
                  <a:lnTo>
                    <a:pt x="715" y="489"/>
                  </a:lnTo>
                  <a:lnTo>
                    <a:pt x="538" y="627"/>
                  </a:lnTo>
                  <a:lnTo>
                    <a:pt x="216" y="658"/>
                  </a:lnTo>
                  <a:lnTo>
                    <a:pt x="0" y="666"/>
                  </a:lnTo>
                  <a:lnTo>
                    <a:pt x="0" y="830"/>
                  </a:lnTo>
                  <a:lnTo>
                    <a:pt x="207" y="1156"/>
                  </a:lnTo>
                  <a:lnTo>
                    <a:pt x="255" y="1165"/>
                  </a:lnTo>
                  <a:lnTo>
                    <a:pt x="70" y="803"/>
                  </a:lnTo>
                  <a:lnTo>
                    <a:pt x="352" y="693"/>
                  </a:lnTo>
                  <a:lnTo>
                    <a:pt x="538" y="693"/>
                  </a:lnTo>
                  <a:lnTo>
                    <a:pt x="680" y="763"/>
                  </a:lnTo>
                  <a:lnTo>
                    <a:pt x="715" y="860"/>
                  </a:lnTo>
                  <a:lnTo>
                    <a:pt x="715" y="1085"/>
                  </a:lnTo>
                  <a:lnTo>
                    <a:pt x="715" y="1156"/>
                  </a:lnTo>
                  <a:lnTo>
                    <a:pt x="794" y="1050"/>
                  </a:lnTo>
                  <a:lnTo>
                    <a:pt x="794" y="821"/>
                  </a:lnTo>
                  <a:lnTo>
                    <a:pt x="918" y="821"/>
                  </a:lnTo>
                  <a:lnTo>
                    <a:pt x="975" y="1085"/>
                  </a:lnTo>
                  <a:lnTo>
                    <a:pt x="1041" y="1107"/>
                  </a:lnTo>
                  <a:lnTo>
                    <a:pt x="1248" y="1107"/>
                  </a:lnTo>
                  <a:lnTo>
                    <a:pt x="1461" y="1059"/>
                  </a:lnTo>
                  <a:lnTo>
                    <a:pt x="1611" y="962"/>
                  </a:lnTo>
                  <a:lnTo>
                    <a:pt x="1633" y="724"/>
                  </a:lnTo>
                  <a:lnTo>
                    <a:pt x="1712" y="627"/>
                  </a:lnTo>
                  <a:lnTo>
                    <a:pt x="1664" y="564"/>
                  </a:lnTo>
                  <a:lnTo>
                    <a:pt x="1474" y="498"/>
                  </a:lnTo>
                  <a:lnTo>
                    <a:pt x="1443" y="260"/>
                  </a:lnTo>
                  <a:lnTo>
                    <a:pt x="1262" y="260"/>
                  </a:lnTo>
                  <a:lnTo>
                    <a:pt x="1050" y="0"/>
                  </a:lnTo>
                  <a:lnTo>
                    <a:pt x="1244" y="286"/>
                  </a:lnTo>
                  <a:lnTo>
                    <a:pt x="1307" y="286"/>
                  </a:lnTo>
                  <a:lnTo>
                    <a:pt x="1346" y="489"/>
                  </a:lnTo>
                  <a:lnTo>
                    <a:pt x="1107" y="564"/>
                  </a:lnTo>
                  <a:lnTo>
                    <a:pt x="931" y="507"/>
                  </a:lnTo>
                  <a:lnTo>
                    <a:pt x="904" y="564"/>
                  </a:lnTo>
                  <a:lnTo>
                    <a:pt x="997" y="627"/>
                  </a:lnTo>
                  <a:lnTo>
                    <a:pt x="997" y="680"/>
                  </a:lnTo>
                  <a:lnTo>
                    <a:pt x="1204" y="591"/>
                  </a:lnTo>
                  <a:lnTo>
                    <a:pt x="1377" y="577"/>
                  </a:lnTo>
                  <a:lnTo>
                    <a:pt x="1567" y="600"/>
                  </a:lnTo>
                  <a:lnTo>
                    <a:pt x="1567" y="636"/>
                  </a:lnTo>
                  <a:lnTo>
                    <a:pt x="1479" y="715"/>
                  </a:lnTo>
                  <a:lnTo>
                    <a:pt x="1443" y="821"/>
                  </a:lnTo>
                  <a:lnTo>
                    <a:pt x="1435" y="962"/>
                  </a:lnTo>
                  <a:lnTo>
                    <a:pt x="1320" y="1019"/>
                  </a:lnTo>
                  <a:lnTo>
                    <a:pt x="1156" y="1037"/>
                  </a:lnTo>
                  <a:lnTo>
                    <a:pt x="1041" y="1037"/>
                  </a:lnTo>
                  <a:lnTo>
                    <a:pt x="1002" y="993"/>
                  </a:lnTo>
                  <a:lnTo>
                    <a:pt x="975" y="724"/>
                  </a:lnTo>
                  <a:lnTo>
                    <a:pt x="794" y="724"/>
                  </a:lnTo>
                  <a:lnTo>
                    <a:pt x="785" y="69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470720" y="1087560"/>
              <a:ext cx="198720" cy="86040"/>
            </a:xfrm>
            <a:custGeom>
              <a:avLst/>
              <a:gdLst/>
              <a:ahLst/>
              <a:rect l="0" t="0" r="r" b="b"/>
              <a:pathLst>
                <a:path w="552" h="239">
                  <a:moveTo>
                    <a:pt x="0" y="0"/>
                  </a:moveTo>
                  <a:lnTo>
                    <a:pt x="88" y="110"/>
                  </a:lnTo>
                  <a:lnTo>
                    <a:pt x="327" y="110"/>
                  </a:lnTo>
                  <a:lnTo>
                    <a:pt x="428" y="35"/>
                  </a:lnTo>
                  <a:lnTo>
                    <a:pt x="552" y="35"/>
                  </a:lnTo>
                  <a:lnTo>
                    <a:pt x="530" y="70"/>
                  </a:lnTo>
                  <a:lnTo>
                    <a:pt x="530" y="110"/>
                  </a:lnTo>
                  <a:lnTo>
                    <a:pt x="305" y="239"/>
                  </a:lnTo>
                  <a:lnTo>
                    <a:pt x="185" y="239"/>
                  </a:lnTo>
                  <a:lnTo>
                    <a:pt x="114" y="190"/>
                  </a:lnTo>
                  <a:lnTo>
                    <a:pt x="48" y="1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248600" y="949320"/>
              <a:ext cx="300240" cy="452880"/>
            </a:xfrm>
            <a:custGeom>
              <a:avLst/>
              <a:gdLst/>
              <a:ahLst/>
              <a:rect l="0" t="0" r="r" b="b"/>
              <a:pathLst>
                <a:path w="834" h="1258">
                  <a:moveTo>
                    <a:pt x="834" y="88"/>
                  </a:moveTo>
                  <a:lnTo>
                    <a:pt x="834" y="110"/>
                  </a:lnTo>
                  <a:lnTo>
                    <a:pt x="684" y="238"/>
                  </a:lnTo>
                  <a:lnTo>
                    <a:pt x="565" y="260"/>
                  </a:lnTo>
                  <a:lnTo>
                    <a:pt x="330" y="229"/>
                  </a:lnTo>
                  <a:lnTo>
                    <a:pt x="374" y="680"/>
                  </a:lnTo>
                  <a:lnTo>
                    <a:pt x="433" y="1055"/>
                  </a:lnTo>
                  <a:lnTo>
                    <a:pt x="530" y="1258"/>
                  </a:lnTo>
                  <a:lnTo>
                    <a:pt x="433" y="1113"/>
                  </a:lnTo>
                  <a:lnTo>
                    <a:pt x="388" y="954"/>
                  </a:lnTo>
                  <a:lnTo>
                    <a:pt x="321" y="530"/>
                  </a:lnTo>
                  <a:lnTo>
                    <a:pt x="255" y="556"/>
                  </a:lnTo>
                  <a:lnTo>
                    <a:pt x="176" y="508"/>
                  </a:lnTo>
                  <a:lnTo>
                    <a:pt x="17" y="286"/>
                  </a:lnTo>
                  <a:lnTo>
                    <a:pt x="0" y="163"/>
                  </a:lnTo>
                  <a:lnTo>
                    <a:pt x="0" y="74"/>
                  </a:lnTo>
                  <a:lnTo>
                    <a:pt x="35" y="22"/>
                  </a:lnTo>
                  <a:lnTo>
                    <a:pt x="127" y="0"/>
                  </a:lnTo>
                  <a:lnTo>
                    <a:pt x="145" y="35"/>
                  </a:lnTo>
                  <a:lnTo>
                    <a:pt x="66" y="57"/>
                  </a:lnTo>
                  <a:lnTo>
                    <a:pt x="48" y="149"/>
                  </a:lnTo>
                  <a:lnTo>
                    <a:pt x="57" y="268"/>
                  </a:lnTo>
                  <a:lnTo>
                    <a:pt x="167" y="375"/>
                  </a:lnTo>
                  <a:lnTo>
                    <a:pt x="216" y="353"/>
                  </a:lnTo>
                  <a:lnTo>
                    <a:pt x="216" y="123"/>
                  </a:lnTo>
                  <a:lnTo>
                    <a:pt x="313" y="171"/>
                  </a:lnTo>
                  <a:lnTo>
                    <a:pt x="468" y="202"/>
                  </a:lnTo>
                  <a:lnTo>
                    <a:pt x="605" y="194"/>
                  </a:lnTo>
                  <a:lnTo>
                    <a:pt x="741" y="123"/>
                  </a:lnTo>
                  <a:lnTo>
                    <a:pt x="834" y="8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329600" y="592200"/>
              <a:ext cx="90720" cy="240120"/>
            </a:xfrm>
            <a:custGeom>
              <a:avLst/>
              <a:gdLst/>
              <a:ahLst/>
              <a:rect l="0" t="0" r="r" b="b"/>
              <a:pathLst>
                <a:path w="252" h="667">
                  <a:moveTo>
                    <a:pt x="133" y="667"/>
                  </a:moveTo>
                  <a:lnTo>
                    <a:pt x="252" y="274"/>
                  </a:lnTo>
                  <a:lnTo>
                    <a:pt x="30" y="132"/>
                  </a:lnTo>
                  <a:lnTo>
                    <a:pt x="0" y="0"/>
                  </a:lnTo>
                  <a:lnTo>
                    <a:pt x="17" y="158"/>
                  </a:lnTo>
                  <a:lnTo>
                    <a:pt x="88" y="225"/>
                  </a:lnTo>
                  <a:lnTo>
                    <a:pt x="97" y="424"/>
                  </a:lnTo>
                  <a:lnTo>
                    <a:pt x="155" y="509"/>
                  </a:lnTo>
                  <a:lnTo>
                    <a:pt x="133" y="66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326360" y="380880"/>
              <a:ext cx="675000" cy="317880"/>
            </a:xfrm>
            <a:custGeom>
              <a:avLst/>
              <a:gdLst/>
              <a:ahLst/>
              <a:rect l="0" t="0" r="r" b="b"/>
              <a:pathLst>
                <a:path w="1875" h="883">
                  <a:moveTo>
                    <a:pt x="17" y="596"/>
                  </a:moveTo>
                  <a:lnTo>
                    <a:pt x="180" y="689"/>
                  </a:lnTo>
                  <a:lnTo>
                    <a:pt x="163" y="574"/>
                  </a:lnTo>
                  <a:lnTo>
                    <a:pt x="194" y="375"/>
                  </a:lnTo>
                  <a:lnTo>
                    <a:pt x="299" y="331"/>
                  </a:lnTo>
                  <a:lnTo>
                    <a:pt x="313" y="547"/>
                  </a:lnTo>
                  <a:lnTo>
                    <a:pt x="626" y="171"/>
                  </a:lnTo>
                  <a:lnTo>
                    <a:pt x="705" y="145"/>
                  </a:lnTo>
                  <a:lnTo>
                    <a:pt x="643" y="296"/>
                  </a:lnTo>
                  <a:lnTo>
                    <a:pt x="842" y="367"/>
                  </a:lnTo>
                  <a:lnTo>
                    <a:pt x="988" y="216"/>
                  </a:lnTo>
                  <a:lnTo>
                    <a:pt x="1063" y="261"/>
                  </a:lnTo>
                  <a:lnTo>
                    <a:pt x="997" y="389"/>
                  </a:lnTo>
                  <a:lnTo>
                    <a:pt x="1090" y="318"/>
                  </a:lnTo>
                  <a:lnTo>
                    <a:pt x="1231" y="375"/>
                  </a:lnTo>
                  <a:lnTo>
                    <a:pt x="1116" y="481"/>
                  </a:lnTo>
                  <a:lnTo>
                    <a:pt x="1504" y="547"/>
                  </a:lnTo>
                  <a:lnTo>
                    <a:pt x="1244" y="622"/>
                  </a:lnTo>
                  <a:lnTo>
                    <a:pt x="1566" y="663"/>
                  </a:lnTo>
                  <a:lnTo>
                    <a:pt x="1182" y="751"/>
                  </a:lnTo>
                  <a:lnTo>
                    <a:pt x="1266" y="817"/>
                  </a:lnTo>
                  <a:lnTo>
                    <a:pt x="1151" y="883"/>
                  </a:lnTo>
                  <a:lnTo>
                    <a:pt x="1350" y="883"/>
                  </a:lnTo>
                  <a:lnTo>
                    <a:pt x="1332" y="831"/>
                  </a:lnTo>
                  <a:lnTo>
                    <a:pt x="1535" y="879"/>
                  </a:lnTo>
                  <a:lnTo>
                    <a:pt x="1504" y="738"/>
                  </a:lnTo>
                  <a:lnTo>
                    <a:pt x="1689" y="676"/>
                  </a:lnTo>
                  <a:lnTo>
                    <a:pt x="1557" y="609"/>
                  </a:lnTo>
                  <a:lnTo>
                    <a:pt x="1875" y="587"/>
                  </a:lnTo>
                  <a:lnTo>
                    <a:pt x="1601" y="446"/>
                  </a:lnTo>
                  <a:lnTo>
                    <a:pt x="1288" y="415"/>
                  </a:lnTo>
                  <a:lnTo>
                    <a:pt x="1535" y="269"/>
                  </a:lnTo>
                  <a:lnTo>
                    <a:pt x="1090" y="269"/>
                  </a:lnTo>
                  <a:lnTo>
                    <a:pt x="1301" y="132"/>
                  </a:lnTo>
                  <a:lnTo>
                    <a:pt x="979" y="171"/>
                  </a:lnTo>
                  <a:lnTo>
                    <a:pt x="824" y="239"/>
                  </a:lnTo>
                  <a:lnTo>
                    <a:pt x="957" y="0"/>
                  </a:lnTo>
                  <a:lnTo>
                    <a:pt x="564" y="132"/>
                  </a:lnTo>
                  <a:lnTo>
                    <a:pt x="348" y="424"/>
                  </a:lnTo>
                  <a:lnTo>
                    <a:pt x="313" y="261"/>
                  </a:lnTo>
                  <a:lnTo>
                    <a:pt x="141" y="375"/>
                  </a:lnTo>
                  <a:lnTo>
                    <a:pt x="114" y="587"/>
                  </a:lnTo>
                  <a:lnTo>
                    <a:pt x="0" y="547"/>
                  </a:lnTo>
                  <a:lnTo>
                    <a:pt x="39" y="738"/>
                  </a:lnTo>
                  <a:lnTo>
                    <a:pt x="17" y="59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473960" y="549360"/>
              <a:ext cx="190800" cy="95760"/>
            </a:xfrm>
            <a:custGeom>
              <a:avLst/>
              <a:gdLst/>
              <a:ahLst/>
              <a:rect l="0" t="0" r="r" b="b"/>
              <a:pathLst>
                <a:path w="530" h="266">
                  <a:moveTo>
                    <a:pt x="0" y="266"/>
                  </a:moveTo>
                  <a:lnTo>
                    <a:pt x="198" y="0"/>
                  </a:lnTo>
                  <a:lnTo>
                    <a:pt x="198" y="177"/>
                  </a:lnTo>
                  <a:lnTo>
                    <a:pt x="269" y="106"/>
                  </a:lnTo>
                  <a:lnTo>
                    <a:pt x="331" y="204"/>
                  </a:lnTo>
                  <a:lnTo>
                    <a:pt x="530" y="253"/>
                  </a:lnTo>
                  <a:lnTo>
                    <a:pt x="318" y="218"/>
                  </a:lnTo>
                  <a:lnTo>
                    <a:pt x="255" y="150"/>
                  </a:lnTo>
                  <a:lnTo>
                    <a:pt x="167" y="218"/>
                  </a:lnTo>
                  <a:lnTo>
                    <a:pt x="167" y="137"/>
                  </a:lnTo>
                  <a:lnTo>
                    <a:pt x="0" y="26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454880" y="1198440"/>
              <a:ext cx="230400" cy="141480"/>
            </a:xfrm>
            <a:custGeom>
              <a:avLst/>
              <a:gdLst/>
              <a:ahLst/>
              <a:rect l="0" t="0" r="r" b="b"/>
              <a:pathLst>
                <a:path w="640" h="393">
                  <a:moveTo>
                    <a:pt x="123" y="136"/>
                  </a:moveTo>
                  <a:lnTo>
                    <a:pt x="384" y="119"/>
                  </a:lnTo>
                  <a:lnTo>
                    <a:pt x="508" y="145"/>
                  </a:lnTo>
                  <a:lnTo>
                    <a:pt x="574" y="88"/>
                  </a:lnTo>
                  <a:lnTo>
                    <a:pt x="640" y="217"/>
                  </a:lnTo>
                  <a:lnTo>
                    <a:pt x="596" y="243"/>
                  </a:lnTo>
                  <a:lnTo>
                    <a:pt x="543" y="194"/>
                  </a:lnTo>
                  <a:lnTo>
                    <a:pt x="455" y="283"/>
                  </a:lnTo>
                  <a:lnTo>
                    <a:pt x="295" y="393"/>
                  </a:lnTo>
                  <a:lnTo>
                    <a:pt x="224" y="393"/>
                  </a:lnTo>
                  <a:lnTo>
                    <a:pt x="123" y="336"/>
                  </a:lnTo>
                  <a:lnTo>
                    <a:pt x="238" y="384"/>
                  </a:lnTo>
                  <a:lnTo>
                    <a:pt x="282" y="384"/>
                  </a:lnTo>
                  <a:lnTo>
                    <a:pt x="384" y="314"/>
                  </a:lnTo>
                  <a:lnTo>
                    <a:pt x="450" y="180"/>
                  </a:lnTo>
                  <a:lnTo>
                    <a:pt x="349" y="158"/>
                  </a:lnTo>
                  <a:lnTo>
                    <a:pt x="277" y="145"/>
                  </a:lnTo>
                  <a:lnTo>
                    <a:pt x="110" y="171"/>
                  </a:lnTo>
                  <a:lnTo>
                    <a:pt x="101" y="274"/>
                  </a:lnTo>
                  <a:lnTo>
                    <a:pt x="48" y="208"/>
                  </a:lnTo>
                  <a:lnTo>
                    <a:pt x="0" y="296"/>
                  </a:lnTo>
                  <a:lnTo>
                    <a:pt x="4" y="105"/>
                  </a:lnTo>
                  <a:lnTo>
                    <a:pt x="66" y="0"/>
                  </a:lnTo>
                  <a:lnTo>
                    <a:pt x="123" y="105"/>
                  </a:lnTo>
                  <a:lnTo>
                    <a:pt x="123" y="13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426440" y="890640"/>
              <a:ext cx="491040" cy="655920"/>
            </a:xfrm>
            <a:custGeom>
              <a:avLst/>
              <a:gdLst/>
              <a:ahLst/>
              <a:rect l="0" t="0" r="r" b="b"/>
              <a:pathLst>
                <a:path w="1364" h="1822">
                  <a:moveTo>
                    <a:pt x="1148" y="0"/>
                  </a:moveTo>
                  <a:lnTo>
                    <a:pt x="1285" y="0"/>
                  </a:lnTo>
                  <a:lnTo>
                    <a:pt x="1364" y="88"/>
                  </a:lnTo>
                  <a:lnTo>
                    <a:pt x="1364" y="189"/>
                  </a:lnTo>
                  <a:lnTo>
                    <a:pt x="1254" y="471"/>
                  </a:lnTo>
                  <a:lnTo>
                    <a:pt x="1139" y="608"/>
                  </a:lnTo>
                  <a:lnTo>
                    <a:pt x="1025" y="630"/>
                  </a:lnTo>
                  <a:lnTo>
                    <a:pt x="993" y="630"/>
                  </a:lnTo>
                  <a:lnTo>
                    <a:pt x="993" y="988"/>
                  </a:lnTo>
                  <a:lnTo>
                    <a:pt x="1047" y="1248"/>
                  </a:lnTo>
                  <a:lnTo>
                    <a:pt x="1047" y="1460"/>
                  </a:lnTo>
                  <a:lnTo>
                    <a:pt x="838" y="1676"/>
                  </a:lnTo>
                  <a:lnTo>
                    <a:pt x="556" y="1822"/>
                  </a:lnTo>
                  <a:lnTo>
                    <a:pt x="375" y="1822"/>
                  </a:lnTo>
                  <a:lnTo>
                    <a:pt x="286" y="1778"/>
                  </a:lnTo>
                  <a:lnTo>
                    <a:pt x="163" y="1526"/>
                  </a:lnTo>
                  <a:lnTo>
                    <a:pt x="44" y="1438"/>
                  </a:lnTo>
                  <a:lnTo>
                    <a:pt x="0" y="1372"/>
                  </a:lnTo>
                  <a:lnTo>
                    <a:pt x="154" y="1460"/>
                  </a:lnTo>
                  <a:lnTo>
                    <a:pt x="264" y="1553"/>
                  </a:lnTo>
                  <a:lnTo>
                    <a:pt x="481" y="1566"/>
                  </a:lnTo>
                  <a:lnTo>
                    <a:pt x="675" y="1478"/>
                  </a:lnTo>
                  <a:lnTo>
                    <a:pt x="781" y="1372"/>
                  </a:lnTo>
                  <a:lnTo>
                    <a:pt x="891" y="1187"/>
                  </a:lnTo>
                  <a:lnTo>
                    <a:pt x="909" y="971"/>
                  </a:lnTo>
                  <a:lnTo>
                    <a:pt x="949" y="268"/>
                  </a:lnTo>
                  <a:lnTo>
                    <a:pt x="1002" y="370"/>
                  </a:lnTo>
                  <a:lnTo>
                    <a:pt x="1135" y="242"/>
                  </a:lnTo>
                  <a:lnTo>
                    <a:pt x="1276" y="189"/>
                  </a:lnTo>
                  <a:lnTo>
                    <a:pt x="1311" y="114"/>
                  </a:lnTo>
                  <a:lnTo>
                    <a:pt x="1294" y="44"/>
                  </a:lnTo>
                  <a:lnTo>
                    <a:pt x="1236" y="8"/>
                  </a:lnTo>
                  <a:lnTo>
                    <a:pt x="1148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665760" y="1455840"/>
              <a:ext cx="395640" cy="606960"/>
            </a:xfrm>
            <a:custGeom>
              <a:avLst/>
              <a:gdLst/>
              <a:ahLst/>
              <a:rect l="0" t="0" r="r" b="b"/>
              <a:pathLst>
                <a:path w="1099" h="1686">
                  <a:moveTo>
                    <a:pt x="141" y="0"/>
                  </a:moveTo>
                  <a:lnTo>
                    <a:pt x="264" y="74"/>
                  </a:lnTo>
                  <a:lnTo>
                    <a:pt x="357" y="418"/>
                  </a:lnTo>
                  <a:lnTo>
                    <a:pt x="640" y="499"/>
                  </a:lnTo>
                  <a:lnTo>
                    <a:pt x="724" y="587"/>
                  </a:lnTo>
                  <a:lnTo>
                    <a:pt x="737" y="715"/>
                  </a:lnTo>
                  <a:lnTo>
                    <a:pt x="874" y="697"/>
                  </a:lnTo>
                  <a:lnTo>
                    <a:pt x="1046" y="803"/>
                  </a:lnTo>
                  <a:lnTo>
                    <a:pt x="1099" y="940"/>
                  </a:lnTo>
                  <a:lnTo>
                    <a:pt x="1099" y="1178"/>
                  </a:lnTo>
                  <a:lnTo>
                    <a:pt x="874" y="1540"/>
                  </a:lnTo>
                  <a:lnTo>
                    <a:pt x="799" y="1686"/>
                  </a:lnTo>
                  <a:lnTo>
                    <a:pt x="838" y="1492"/>
                  </a:lnTo>
                  <a:lnTo>
                    <a:pt x="799" y="1417"/>
                  </a:lnTo>
                  <a:lnTo>
                    <a:pt x="662" y="1294"/>
                  </a:lnTo>
                  <a:lnTo>
                    <a:pt x="449" y="1147"/>
                  </a:lnTo>
                  <a:lnTo>
                    <a:pt x="710" y="1231"/>
                  </a:lnTo>
                  <a:lnTo>
                    <a:pt x="860" y="1342"/>
                  </a:lnTo>
                  <a:lnTo>
                    <a:pt x="935" y="1324"/>
                  </a:lnTo>
                  <a:lnTo>
                    <a:pt x="988" y="1262"/>
                  </a:lnTo>
                  <a:lnTo>
                    <a:pt x="1046" y="1094"/>
                  </a:lnTo>
                  <a:lnTo>
                    <a:pt x="1028" y="927"/>
                  </a:lnTo>
                  <a:lnTo>
                    <a:pt x="944" y="834"/>
                  </a:lnTo>
                  <a:lnTo>
                    <a:pt x="812" y="803"/>
                  </a:lnTo>
                  <a:lnTo>
                    <a:pt x="662" y="803"/>
                  </a:lnTo>
                  <a:lnTo>
                    <a:pt x="613" y="556"/>
                  </a:lnTo>
                  <a:lnTo>
                    <a:pt x="370" y="468"/>
                  </a:lnTo>
                  <a:lnTo>
                    <a:pt x="370" y="538"/>
                  </a:lnTo>
                  <a:lnTo>
                    <a:pt x="264" y="361"/>
                  </a:lnTo>
                  <a:lnTo>
                    <a:pt x="202" y="74"/>
                  </a:lnTo>
                  <a:lnTo>
                    <a:pt x="105" y="48"/>
                  </a:lnTo>
                  <a:lnTo>
                    <a:pt x="52" y="132"/>
                  </a:lnTo>
                  <a:lnTo>
                    <a:pt x="52" y="326"/>
                  </a:lnTo>
                  <a:lnTo>
                    <a:pt x="97" y="538"/>
                  </a:lnTo>
                  <a:lnTo>
                    <a:pt x="229" y="715"/>
                  </a:lnTo>
                  <a:lnTo>
                    <a:pt x="83" y="605"/>
                  </a:lnTo>
                  <a:lnTo>
                    <a:pt x="13" y="418"/>
                  </a:lnTo>
                  <a:lnTo>
                    <a:pt x="0" y="180"/>
                  </a:lnTo>
                  <a:lnTo>
                    <a:pt x="52" y="48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477120" y="1724040"/>
              <a:ext cx="262440" cy="486000"/>
            </a:xfrm>
            <a:custGeom>
              <a:avLst/>
              <a:gdLst/>
              <a:ahLst/>
              <a:rect l="0" t="0" r="r" b="b"/>
              <a:pathLst>
                <a:path w="729" h="1350">
                  <a:moveTo>
                    <a:pt x="729" y="0"/>
                  </a:moveTo>
                  <a:lnTo>
                    <a:pt x="575" y="88"/>
                  </a:lnTo>
                  <a:lnTo>
                    <a:pt x="402" y="414"/>
                  </a:lnTo>
                  <a:lnTo>
                    <a:pt x="230" y="630"/>
                  </a:lnTo>
                  <a:lnTo>
                    <a:pt x="17" y="887"/>
                  </a:lnTo>
                  <a:lnTo>
                    <a:pt x="0" y="1019"/>
                  </a:lnTo>
                  <a:lnTo>
                    <a:pt x="39" y="1138"/>
                  </a:lnTo>
                  <a:lnTo>
                    <a:pt x="145" y="1138"/>
                  </a:lnTo>
                  <a:lnTo>
                    <a:pt x="278" y="1019"/>
                  </a:lnTo>
                  <a:lnTo>
                    <a:pt x="389" y="777"/>
                  </a:lnTo>
                  <a:lnTo>
                    <a:pt x="534" y="630"/>
                  </a:lnTo>
                  <a:lnTo>
                    <a:pt x="534" y="825"/>
                  </a:lnTo>
                  <a:lnTo>
                    <a:pt x="512" y="1006"/>
                  </a:lnTo>
                  <a:lnTo>
                    <a:pt x="353" y="1240"/>
                  </a:lnTo>
                  <a:lnTo>
                    <a:pt x="353" y="1315"/>
                  </a:lnTo>
                  <a:lnTo>
                    <a:pt x="512" y="1350"/>
                  </a:lnTo>
                  <a:lnTo>
                    <a:pt x="402" y="1284"/>
                  </a:lnTo>
                  <a:lnTo>
                    <a:pt x="419" y="1240"/>
                  </a:lnTo>
                  <a:lnTo>
                    <a:pt x="525" y="1068"/>
                  </a:lnTo>
                  <a:lnTo>
                    <a:pt x="601" y="750"/>
                  </a:lnTo>
                  <a:lnTo>
                    <a:pt x="548" y="568"/>
                  </a:lnTo>
                  <a:lnTo>
                    <a:pt x="433" y="670"/>
                  </a:lnTo>
                  <a:lnTo>
                    <a:pt x="171" y="1076"/>
                  </a:lnTo>
                  <a:lnTo>
                    <a:pt x="101" y="1090"/>
                  </a:lnTo>
                  <a:lnTo>
                    <a:pt x="39" y="1046"/>
                  </a:lnTo>
                  <a:lnTo>
                    <a:pt x="39" y="922"/>
                  </a:lnTo>
                  <a:lnTo>
                    <a:pt x="145" y="763"/>
                  </a:lnTo>
                  <a:lnTo>
                    <a:pt x="433" y="436"/>
                  </a:lnTo>
                  <a:lnTo>
                    <a:pt x="601" y="123"/>
                  </a:lnTo>
                  <a:lnTo>
                    <a:pt x="729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670800" y="1998720"/>
              <a:ext cx="162360" cy="233640"/>
            </a:xfrm>
            <a:custGeom>
              <a:avLst/>
              <a:gdLst/>
              <a:ahLst/>
              <a:rect l="0" t="0" r="r" b="b"/>
              <a:pathLst>
                <a:path w="451" h="649">
                  <a:moveTo>
                    <a:pt x="0" y="574"/>
                  </a:moveTo>
                  <a:lnTo>
                    <a:pt x="150" y="406"/>
                  </a:lnTo>
                  <a:lnTo>
                    <a:pt x="177" y="242"/>
                  </a:lnTo>
                  <a:lnTo>
                    <a:pt x="350" y="0"/>
                  </a:lnTo>
                  <a:lnTo>
                    <a:pt x="385" y="158"/>
                  </a:lnTo>
                  <a:lnTo>
                    <a:pt x="363" y="587"/>
                  </a:lnTo>
                  <a:lnTo>
                    <a:pt x="451" y="649"/>
                  </a:lnTo>
                  <a:lnTo>
                    <a:pt x="318" y="600"/>
                  </a:lnTo>
                  <a:lnTo>
                    <a:pt x="252" y="362"/>
                  </a:lnTo>
                  <a:lnTo>
                    <a:pt x="150" y="477"/>
                  </a:lnTo>
                  <a:lnTo>
                    <a:pt x="0" y="57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869160" y="2009880"/>
              <a:ext cx="106560" cy="209880"/>
            </a:xfrm>
            <a:custGeom>
              <a:avLst/>
              <a:gdLst/>
              <a:ahLst/>
              <a:rect l="0" t="0" r="r" b="b"/>
              <a:pathLst>
                <a:path w="296" h="583">
                  <a:moveTo>
                    <a:pt x="0" y="437"/>
                  </a:moveTo>
                  <a:lnTo>
                    <a:pt x="13" y="220"/>
                  </a:lnTo>
                  <a:lnTo>
                    <a:pt x="74" y="92"/>
                  </a:lnTo>
                  <a:lnTo>
                    <a:pt x="141" y="552"/>
                  </a:lnTo>
                  <a:lnTo>
                    <a:pt x="234" y="552"/>
                  </a:lnTo>
                  <a:lnTo>
                    <a:pt x="274" y="66"/>
                  </a:lnTo>
                  <a:lnTo>
                    <a:pt x="296" y="0"/>
                  </a:lnTo>
                  <a:lnTo>
                    <a:pt x="274" y="380"/>
                  </a:lnTo>
                  <a:lnTo>
                    <a:pt x="234" y="583"/>
                  </a:lnTo>
                  <a:lnTo>
                    <a:pt x="114" y="583"/>
                  </a:lnTo>
                  <a:lnTo>
                    <a:pt x="66" y="180"/>
                  </a:lnTo>
                  <a:lnTo>
                    <a:pt x="35" y="238"/>
                  </a:lnTo>
                  <a:lnTo>
                    <a:pt x="0" y="43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8231040" y="1187280"/>
              <a:ext cx="257400" cy="559080"/>
            </a:xfrm>
            <a:custGeom>
              <a:avLst/>
              <a:gdLst/>
              <a:ahLst/>
              <a:rect l="0" t="0" r="r" b="b"/>
              <a:pathLst>
                <a:path w="715" h="1553">
                  <a:moveTo>
                    <a:pt x="189" y="843"/>
                  </a:moveTo>
                  <a:lnTo>
                    <a:pt x="242" y="595"/>
                  </a:lnTo>
                  <a:lnTo>
                    <a:pt x="481" y="533"/>
                  </a:lnTo>
                  <a:lnTo>
                    <a:pt x="715" y="0"/>
                  </a:lnTo>
                  <a:lnTo>
                    <a:pt x="715" y="154"/>
                  </a:lnTo>
                  <a:lnTo>
                    <a:pt x="516" y="568"/>
                  </a:lnTo>
                  <a:lnTo>
                    <a:pt x="264" y="643"/>
                  </a:lnTo>
                  <a:lnTo>
                    <a:pt x="229" y="843"/>
                  </a:lnTo>
                  <a:lnTo>
                    <a:pt x="317" y="843"/>
                  </a:lnTo>
                  <a:lnTo>
                    <a:pt x="92" y="927"/>
                  </a:lnTo>
                  <a:lnTo>
                    <a:pt x="39" y="1094"/>
                  </a:lnTo>
                  <a:lnTo>
                    <a:pt x="52" y="1306"/>
                  </a:lnTo>
                  <a:lnTo>
                    <a:pt x="291" y="1553"/>
                  </a:lnTo>
                  <a:lnTo>
                    <a:pt x="39" y="1337"/>
                  </a:lnTo>
                  <a:lnTo>
                    <a:pt x="0" y="1156"/>
                  </a:lnTo>
                  <a:lnTo>
                    <a:pt x="17" y="975"/>
                  </a:lnTo>
                  <a:lnTo>
                    <a:pt x="105" y="847"/>
                  </a:lnTo>
                  <a:lnTo>
                    <a:pt x="189" y="84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8404200" y="1187280"/>
              <a:ext cx="433800" cy="541800"/>
            </a:xfrm>
            <a:custGeom>
              <a:avLst/>
              <a:gdLst/>
              <a:ahLst/>
              <a:rect l="0" t="0" r="r" b="b"/>
              <a:pathLst>
                <a:path w="1205" h="1505">
                  <a:moveTo>
                    <a:pt x="331" y="0"/>
                  </a:moveTo>
                  <a:lnTo>
                    <a:pt x="406" y="48"/>
                  </a:lnTo>
                  <a:lnTo>
                    <a:pt x="428" y="176"/>
                  </a:lnTo>
                  <a:lnTo>
                    <a:pt x="428" y="291"/>
                  </a:lnTo>
                  <a:lnTo>
                    <a:pt x="291" y="512"/>
                  </a:lnTo>
                  <a:lnTo>
                    <a:pt x="318" y="671"/>
                  </a:lnTo>
                  <a:lnTo>
                    <a:pt x="724" y="847"/>
                  </a:lnTo>
                  <a:lnTo>
                    <a:pt x="1197" y="1320"/>
                  </a:lnTo>
                  <a:lnTo>
                    <a:pt x="1205" y="1448"/>
                  </a:lnTo>
                  <a:lnTo>
                    <a:pt x="1179" y="1505"/>
                  </a:lnTo>
                  <a:lnTo>
                    <a:pt x="1003" y="1505"/>
                  </a:lnTo>
                  <a:lnTo>
                    <a:pt x="843" y="1417"/>
                  </a:lnTo>
                  <a:lnTo>
                    <a:pt x="715" y="1258"/>
                  </a:lnTo>
                  <a:lnTo>
                    <a:pt x="644" y="1170"/>
                  </a:lnTo>
                  <a:lnTo>
                    <a:pt x="556" y="1157"/>
                  </a:lnTo>
                  <a:lnTo>
                    <a:pt x="662" y="1157"/>
                  </a:lnTo>
                  <a:lnTo>
                    <a:pt x="860" y="1399"/>
                  </a:lnTo>
                  <a:lnTo>
                    <a:pt x="1113" y="1470"/>
                  </a:lnTo>
                  <a:lnTo>
                    <a:pt x="1166" y="1399"/>
                  </a:lnTo>
                  <a:lnTo>
                    <a:pt x="1139" y="1289"/>
                  </a:lnTo>
                  <a:lnTo>
                    <a:pt x="697" y="944"/>
                  </a:lnTo>
                  <a:lnTo>
                    <a:pt x="636" y="847"/>
                  </a:lnTo>
                  <a:lnTo>
                    <a:pt x="291" y="763"/>
                  </a:lnTo>
                  <a:lnTo>
                    <a:pt x="233" y="847"/>
                  </a:lnTo>
                  <a:lnTo>
                    <a:pt x="0" y="988"/>
                  </a:lnTo>
                  <a:lnTo>
                    <a:pt x="220" y="825"/>
                  </a:lnTo>
                  <a:lnTo>
                    <a:pt x="233" y="719"/>
                  </a:lnTo>
                  <a:lnTo>
                    <a:pt x="233" y="477"/>
                  </a:lnTo>
                  <a:lnTo>
                    <a:pt x="389" y="291"/>
                  </a:lnTo>
                  <a:lnTo>
                    <a:pt x="389" y="61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8326440" y="1612800"/>
              <a:ext cx="367200" cy="321120"/>
            </a:xfrm>
            <a:custGeom>
              <a:avLst/>
              <a:gdLst/>
              <a:ahLst/>
              <a:rect l="0" t="0" r="r" b="b"/>
              <a:pathLst>
                <a:path w="1020" h="892">
                  <a:moveTo>
                    <a:pt x="763" y="0"/>
                  </a:moveTo>
                  <a:lnTo>
                    <a:pt x="737" y="74"/>
                  </a:lnTo>
                  <a:lnTo>
                    <a:pt x="892" y="371"/>
                  </a:lnTo>
                  <a:lnTo>
                    <a:pt x="967" y="676"/>
                  </a:lnTo>
                  <a:lnTo>
                    <a:pt x="879" y="676"/>
                  </a:lnTo>
                  <a:lnTo>
                    <a:pt x="724" y="538"/>
                  </a:lnTo>
                  <a:lnTo>
                    <a:pt x="587" y="261"/>
                  </a:lnTo>
                  <a:lnTo>
                    <a:pt x="477" y="216"/>
                  </a:lnTo>
                  <a:lnTo>
                    <a:pt x="494" y="371"/>
                  </a:lnTo>
                  <a:lnTo>
                    <a:pt x="596" y="477"/>
                  </a:lnTo>
                  <a:lnTo>
                    <a:pt x="596" y="694"/>
                  </a:lnTo>
                  <a:lnTo>
                    <a:pt x="525" y="848"/>
                  </a:lnTo>
                  <a:lnTo>
                    <a:pt x="428" y="786"/>
                  </a:lnTo>
                  <a:lnTo>
                    <a:pt x="314" y="538"/>
                  </a:lnTo>
                  <a:lnTo>
                    <a:pt x="287" y="371"/>
                  </a:lnTo>
                  <a:lnTo>
                    <a:pt x="220" y="322"/>
                  </a:lnTo>
                  <a:lnTo>
                    <a:pt x="202" y="756"/>
                  </a:lnTo>
                  <a:lnTo>
                    <a:pt x="105" y="817"/>
                  </a:lnTo>
                  <a:lnTo>
                    <a:pt x="26" y="756"/>
                  </a:lnTo>
                  <a:lnTo>
                    <a:pt x="13" y="384"/>
                  </a:lnTo>
                  <a:lnTo>
                    <a:pt x="0" y="747"/>
                  </a:lnTo>
                  <a:lnTo>
                    <a:pt x="66" y="879"/>
                  </a:lnTo>
                  <a:lnTo>
                    <a:pt x="202" y="879"/>
                  </a:lnTo>
                  <a:lnTo>
                    <a:pt x="246" y="773"/>
                  </a:lnTo>
                  <a:lnTo>
                    <a:pt x="274" y="437"/>
                  </a:lnTo>
                  <a:lnTo>
                    <a:pt x="296" y="569"/>
                  </a:lnTo>
                  <a:lnTo>
                    <a:pt x="411" y="857"/>
                  </a:lnTo>
                  <a:lnTo>
                    <a:pt x="538" y="892"/>
                  </a:lnTo>
                  <a:lnTo>
                    <a:pt x="631" y="773"/>
                  </a:lnTo>
                  <a:lnTo>
                    <a:pt x="631" y="494"/>
                  </a:lnTo>
                  <a:lnTo>
                    <a:pt x="879" y="725"/>
                  </a:lnTo>
                  <a:lnTo>
                    <a:pt x="1007" y="725"/>
                  </a:lnTo>
                  <a:lnTo>
                    <a:pt x="1020" y="569"/>
                  </a:lnTo>
                  <a:lnTo>
                    <a:pt x="928" y="292"/>
                  </a:lnTo>
                  <a:lnTo>
                    <a:pt x="763" y="61"/>
                  </a:lnTo>
                  <a:lnTo>
                    <a:pt x="76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838920" y="1281240"/>
              <a:ext cx="1636920" cy="1308600"/>
            </a:xfrm>
            <a:custGeom>
              <a:avLst/>
              <a:gdLst/>
              <a:ahLst/>
              <a:rect l="0" t="0" r="r" b="b"/>
              <a:pathLst>
                <a:path w="4547" h="3635">
                  <a:moveTo>
                    <a:pt x="1636" y="308"/>
                  </a:moveTo>
                  <a:lnTo>
                    <a:pt x="1552" y="321"/>
                  </a:lnTo>
                  <a:lnTo>
                    <a:pt x="1424" y="502"/>
                  </a:lnTo>
                  <a:lnTo>
                    <a:pt x="1380" y="370"/>
                  </a:lnTo>
                  <a:lnTo>
                    <a:pt x="1234" y="295"/>
                  </a:lnTo>
                  <a:lnTo>
                    <a:pt x="1124" y="348"/>
                  </a:lnTo>
                  <a:lnTo>
                    <a:pt x="1080" y="586"/>
                  </a:lnTo>
                  <a:lnTo>
                    <a:pt x="674" y="873"/>
                  </a:lnTo>
                  <a:lnTo>
                    <a:pt x="701" y="997"/>
                  </a:lnTo>
                  <a:lnTo>
                    <a:pt x="599" y="1107"/>
                  </a:lnTo>
                  <a:lnTo>
                    <a:pt x="599" y="1200"/>
                  </a:lnTo>
                  <a:lnTo>
                    <a:pt x="718" y="1478"/>
                  </a:lnTo>
                  <a:lnTo>
                    <a:pt x="727" y="1813"/>
                  </a:lnTo>
                  <a:lnTo>
                    <a:pt x="648" y="2130"/>
                  </a:lnTo>
                  <a:lnTo>
                    <a:pt x="357" y="2320"/>
                  </a:lnTo>
                  <a:lnTo>
                    <a:pt x="317" y="2580"/>
                  </a:lnTo>
                  <a:lnTo>
                    <a:pt x="229" y="2580"/>
                  </a:lnTo>
                  <a:lnTo>
                    <a:pt x="185" y="2364"/>
                  </a:lnTo>
                  <a:lnTo>
                    <a:pt x="92" y="2364"/>
                  </a:lnTo>
                  <a:lnTo>
                    <a:pt x="52" y="2593"/>
                  </a:lnTo>
                  <a:lnTo>
                    <a:pt x="0" y="2655"/>
                  </a:lnTo>
                  <a:lnTo>
                    <a:pt x="202" y="2969"/>
                  </a:lnTo>
                  <a:lnTo>
                    <a:pt x="343" y="2982"/>
                  </a:lnTo>
                  <a:lnTo>
                    <a:pt x="599" y="3212"/>
                  </a:lnTo>
                  <a:lnTo>
                    <a:pt x="833" y="3243"/>
                  </a:lnTo>
                  <a:lnTo>
                    <a:pt x="965" y="3119"/>
                  </a:lnTo>
                  <a:lnTo>
                    <a:pt x="1278" y="2668"/>
                  </a:lnTo>
                  <a:lnTo>
                    <a:pt x="1305" y="3274"/>
                  </a:lnTo>
                  <a:lnTo>
                    <a:pt x="1278" y="3635"/>
                  </a:lnTo>
                  <a:lnTo>
                    <a:pt x="3908" y="3635"/>
                  </a:lnTo>
                  <a:lnTo>
                    <a:pt x="3713" y="3243"/>
                  </a:lnTo>
                  <a:lnTo>
                    <a:pt x="3621" y="2908"/>
                  </a:lnTo>
                  <a:lnTo>
                    <a:pt x="3594" y="2404"/>
                  </a:lnTo>
                  <a:lnTo>
                    <a:pt x="3749" y="2518"/>
                  </a:lnTo>
                  <a:lnTo>
                    <a:pt x="3908" y="2518"/>
                  </a:lnTo>
                  <a:lnTo>
                    <a:pt x="4119" y="2386"/>
                  </a:lnTo>
                  <a:lnTo>
                    <a:pt x="4265" y="2364"/>
                  </a:lnTo>
                  <a:lnTo>
                    <a:pt x="4353" y="2232"/>
                  </a:lnTo>
                  <a:lnTo>
                    <a:pt x="4415" y="1888"/>
                  </a:lnTo>
                  <a:lnTo>
                    <a:pt x="4547" y="1751"/>
                  </a:lnTo>
                  <a:lnTo>
                    <a:pt x="4481" y="1645"/>
                  </a:lnTo>
                  <a:lnTo>
                    <a:pt x="4379" y="1645"/>
                  </a:lnTo>
                  <a:lnTo>
                    <a:pt x="4304" y="1716"/>
                  </a:lnTo>
                  <a:lnTo>
                    <a:pt x="4229" y="1738"/>
                  </a:lnTo>
                  <a:lnTo>
                    <a:pt x="4132" y="1645"/>
                  </a:lnTo>
                  <a:lnTo>
                    <a:pt x="4022" y="1632"/>
                  </a:lnTo>
                  <a:lnTo>
                    <a:pt x="3815" y="1504"/>
                  </a:lnTo>
                  <a:lnTo>
                    <a:pt x="3687" y="1368"/>
                  </a:lnTo>
                  <a:lnTo>
                    <a:pt x="3665" y="1200"/>
                  </a:lnTo>
                  <a:lnTo>
                    <a:pt x="3687" y="1041"/>
                  </a:lnTo>
                  <a:lnTo>
                    <a:pt x="3771" y="908"/>
                  </a:lnTo>
                  <a:lnTo>
                    <a:pt x="3885" y="789"/>
                  </a:lnTo>
                  <a:lnTo>
                    <a:pt x="3872" y="582"/>
                  </a:lnTo>
                  <a:lnTo>
                    <a:pt x="3872" y="432"/>
                  </a:lnTo>
                  <a:lnTo>
                    <a:pt x="3815" y="321"/>
                  </a:lnTo>
                  <a:lnTo>
                    <a:pt x="3665" y="273"/>
                  </a:lnTo>
                  <a:lnTo>
                    <a:pt x="3608" y="246"/>
                  </a:lnTo>
                  <a:lnTo>
                    <a:pt x="3502" y="66"/>
                  </a:lnTo>
                  <a:lnTo>
                    <a:pt x="3414" y="13"/>
                  </a:lnTo>
                  <a:lnTo>
                    <a:pt x="3317" y="0"/>
                  </a:lnTo>
                  <a:lnTo>
                    <a:pt x="3237" y="35"/>
                  </a:lnTo>
                  <a:lnTo>
                    <a:pt x="3171" y="127"/>
                  </a:lnTo>
                  <a:lnTo>
                    <a:pt x="3070" y="185"/>
                  </a:lnTo>
                  <a:lnTo>
                    <a:pt x="2959" y="202"/>
                  </a:lnTo>
                  <a:lnTo>
                    <a:pt x="2836" y="202"/>
                  </a:lnTo>
                  <a:lnTo>
                    <a:pt x="2858" y="383"/>
                  </a:lnTo>
                  <a:lnTo>
                    <a:pt x="2858" y="604"/>
                  </a:lnTo>
                  <a:lnTo>
                    <a:pt x="2836" y="758"/>
                  </a:lnTo>
                  <a:lnTo>
                    <a:pt x="2721" y="935"/>
                  </a:lnTo>
                  <a:lnTo>
                    <a:pt x="2580" y="1213"/>
                  </a:lnTo>
                  <a:lnTo>
                    <a:pt x="2466" y="1539"/>
                  </a:lnTo>
                  <a:lnTo>
                    <a:pt x="2457" y="1738"/>
                  </a:lnTo>
                  <a:lnTo>
                    <a:pt x="2404" y="1901"/>
                  </a:lnTo>
                  <a:lnTo>
                    <a:pt x="2338" y="2069"/>
                  </a:lnTo>
                  <a:lnTo>
                    <a:pt x="2307" y="2333"/>
                  </a:lnTo>
                  <a:lnTo>
                    <a:pt x="2324" y="2549"/>
                  </a:lnTo>
                  <a:lnTo>
                    <a:pt x="2404" y="2806"/>
                  </a:lnTo>
                  <a:lnTo>
                    <a:pt x="2457" y="2908"/>
                  </a:lnTo>
                  <a:lnTo>
                    <a:pt x="2307" y="3000"/>
                  </a:lnTo>
                  <a:lnTo>
                    <a:pt x="2121" y="3057"/>
                  </a:lnTo>
                  <a:lnTo>
                    <a:pt x="1918" y="3075"/>
                  </a:lnTo>
                  <a:lnTo>
                    <a:pt x="1794" y="3075"/>
                  </a:lnTo>
                  <a:lnTo>
                    <a:pt x="1710" y="3044"/>
                  </a:lnTo>
                  <a:lnTo>
                    <a:pt x="1710" y="2824"/>
                  </a:lnTo>
                  <a:lnTo>
                    <a:pt x="1710" y="2505"/>
                  </a:lnTo>
                  <a:lnTo>
                    <a:pt x="1662" y="2188"/>
                  </a:lnTo>
                  <a:lnTo>
                    <a:pt x="1583" y="1901"/>
                  </a:lnTo>
                  <a:lnTo>
                    <a:pt x="1543" y="1676"/>
                  </a:lnTo>
                  <a:lnTo>
                    <a:pt x="1530" y="1354"/>
                  </a:lnTo>
                  <a:lnTo>
                    <a:pt x="1583" y="1076"/>
                  </a:lnTo>
                  <a:lnTo>
                    <a:pt x="1662" y="846"/>
                  </a:lnTo>
                  <a:lnTo>
                    <a:pt x="1671" y="714"/>
                  </a:lnTo>
                  <a:lnTo>
                    <a:pt x="1636" y="520"/>
                  </a:lnTo>
                  <a:lnTo>
                    <a:pt x="1636" y="370"/>
                  </a:lnTo>
                  <a:lnTo>
                    <a:pt x="1662" y="321"/>
                  </a:lnTo>
                  <a:lnTo>
                    <a:pt x="1636" y="30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477200" y="1542960"/>
              <a:ext cx="206640" cy="851400"/>
            </a:xfrm>
            <a:custGeom>
              <a:avLst/>
              <a:gdLst/>
              <a:ahLst/>
              <a:rect l="0" t="0" r="r" b="b"/>
              <a:pathLst>
                <a:path w="574" h="2365">
                  <a:moveTo>
                    <a:pt x="229" y="26"/>
                  </a:moveTo>
                  <a:lnTo>
                    <a:pt x="74" y="105"/>
                  </a:lnTo>
                  <a:lnTo>
                    <a:pt x="88" y="330"/>
                  </a:lnTo>
                  <a:lnTo>
                    <a:pt x="202" y="396"/>
                  </a:lnTo>
                  <a:lnTo>
                    <a:pt x="66" y="644"/>
                  </a:lnTo>
                  <a:lnTo>
                    <a:pt x="0" y="918"/>
                  </a:lnTo>
                  <a:lnTo>
                    <a:pt x="0" y="1178"/>
                  </a:lnTo>
                  <a:lnTo>
                    <a:pt x="66" y="1416"/>
                  </a:lnTo>
                  <a:lnTo>
                    <a:pt x="119" y="1707"/>
                  </a:lnTo>
                  <a:lnTo>
                    <a:pt x="119" y="1871"/>
                  </a:lnTo>
                  <a:lnTo>
                    <a:pt x="66" y="2074"/>
                  </a:lnTo>
                  <a:lnTo>
                    <a:pt x="296" y="2365"/>
                  </a:lnTo>
                  <a:lnTo>
                    <a:pt x="393" y="2317"/>
                  </a:lnTo>
                  <a:lnTo>
                    <a:pt x="459" y="2118"/>
                  </a:lnTo>
                  <a:lnTo>
                    <a:pt x="565" y="1858"/>
                  </a:lnTo>
                  <a:lnTo>
                    <a:pt x="574" y="1720"/>
                  </a:lnTo>
                  <a:lnTo>
                    <a:pt x="486" y="1460"/>
                  </a:lnTo>
                  <a:lnTo>
                    <a:pt x="375" y="1209"/>
                  </a:lnTo>
                  <a:lnTo>
                    <a:pt x="336" y="1028"/>
                  </a:lnTo>
                  <a:lnTo>
                    <a:pt x="336" y="856"/>
                  </a:lnTo>
                  <a:lnTo>
                    <a:pt x="375" y="706"/>
                  </a:lnTo>
                  <a:lnTo>
                    <a:pt x="459" y="515"/>
                  </a:lnTo>
                  <a:lnTo>
                    <a:pt x="459" y="440"/>
                  </a:lnTo>
                  <a:lnTo>
                    <a:pt x="415" y="366"/>
                  </a:lnTo>
                  <a:lnTo>
                    <a:pt x="525" y="268"/>
                  </a:lnTo>
                  <a:lnTo>
                    <a:pt x="525" y="180"/>
                  </a:lnTo>
                  <a:lnTo>
                    <a:pt x="375" y="0"/>
                  </a:lnTo>
                  <a:lnTo>
                    <a:pt x="499" y="180"/>
                  </a:lnTo>
                  <a:lnTo>
                    <a:pt x="499" y="255"/>
                  </a:lnTo>
                  <a:lnTo>
                    <a:pt x="389" y="330"/>
                  </a:lnTo>
                  <a:lnTo>
                    <a:pt x="428" y="440"/>
                  </a:lnTo>
                  <a:lnTo>
                    <a:pt x="415" y="515"/>
                  </a:lnTo>
                  <a:lnTo>
                    <a:pt x="309" y="733"/>
                  </a:lnTo>
                  <a:lnTo>
                    <a:pt x="296" y="949"/>
                  </a:lnTo>
                  <a:lnTo>
                    <a:pt x="322" y="1147"/>
                  </a:lnTo>
                  <a:lnTo>
                    <a:pt x="393" y="1429"/>
                  </a:lnTo>
                  <a:lnTo>
                    <a:pt x="486" y="1659"/>
                  </a:lnTo>
                  <a:lnTo>
                    <a:pt x="486" y="1845"/>
                  </a:lnTo>
                  <a:lnTo>
                    <a:pt x="428" y="2074"/>
                  </a:lnTo>
                  <a:lnTo>
                    <a:pt x="322" y="2317"/>
                  </a:lnTo>
                  <a:lnTo>
                    <a:pt x="189" y="2184"/>
                  </a:lnTo>
                  <a:lnTo>
                    <a:pt x="132" y="2074"/>
                  </a:lnTo>
                  <a:lnTo>
                    <a:pt x="149" y="1845"/>
                  </a:lnTo>
                  <a:lnTo>
                    <a:pt x="132" y="1610"/>
                  </a:lnTo>
                  <a:lnTo>
                    <a:pt x="66" y="1297"/>
                  </a:lnTo>
                  <a:lnTo>
                    <a:pt x="39" y="1085"/>
                  </a:lnTo>
                  <a:lnTo>
                    <a:pt x="66" y="843"/>
                  </a:lnTo>
                  <a:lnTo>
                    <a:pt x="119" y="613"/>
                  </a:lnTo>
                  <a:lnTo>
                    <a:pt x="242" y="379"/>
                  </a:lnTo>
                  <a:lnTo>
                    <a:pt x="132" y="282"/>
                  </a:lnTo>
                  <a:lnTo>
                    <a:pt x="119" y="119"/>
                  </a:lnTo>
                  <a:lnTo>
                    <a:pt x="229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8066160" y="549360"/>
              <a:ext cx="325800" cy="414720"/>
            </a:xfrm>
            <a:custGeom>
              <a:avLst/>
              <a:gdLst/>
              <a:ahLst/>
              <a:rect l="0" t="0" r="r" b="b"/>
              <a:pathLst>
                <a:path w="905" h="1152">
                  <a:moveTo>
                    <a:pt x="154" y="296"/>
                  </a:moveTo>
                  <a:lnTo>
                    <a:pt x="283" y="268"/>
                  </a:lnTo>
                  <a:lnTo>
                    <a:pt x="411" y="277"/>
                  </a:lnTo>
                  <a:lnTo>
                    <a:pt x="521" y="327"/>
                  </a:lnTo>
                  <a:lnTo>
                    <a:pt x="578" y="389"/>
                  </a:lnTo>
                  <a:lnTo>
                    <a:pt x="605" y="450"/>
                  </a:lnTo>
                  <a:lnTo>
                    <a:pt x="605" y="508"/>
                  </a:lnTo>
                  <a:lnTo>
                    <a:pt x="574" y="543"/>
                  </a:lnTo>
                  <a:lnTo>
                    <a:pt x="516" y="574"/>
                  </a:lnTo>
                  <a:lnTo>
                    <a:pt x="446" y="578"/>
                  </a:lnTo>
                  <a:lnTo>
                    <a:pt x="367" y="561"/>
                  </a:lnTo>
                  <a:lnTo>
                    <a:pt x="287" y="512"/>
                  </a:lnTo>
                  <a:lnTo>
                    <a:pt x="230" y="468"/>
                  </a:lnTo>
                  <a:lnTo>
                    <a:pt x="202" y="618"/>
                  </a:lnTo>
                  <a:lnTo>
                    <a:pt x="154" y="719"/>
                  </a:lnTo>
                  <a:lnTo>
                    <a:pt x="0" y="963"/>
                  </a:lnTo>
                  <a:lnTo>
                    <a:pt x="220" y="1152"/>
                  </a:lnTo>
                  <a:lnTo>
                    <a:pt x="384" y="838"/>
                  </a:lnTo>
                  <a:lnTo>
                    <a:pt x="574" y="866"/>
                  </a:lnTo>
                  <a:lnTo>
                    <a:pt x="689" y="843"/>
                  </a:lnTo>
                  <a:lnTo>
                    <a:pt x="804" y="772"/>
                  </a:lnTo>
                  <a:lnTo>
                    <a:pt x="870" y="684"/>
                  </a:lnTo>
                  <a:lnTo>
                    <a:pt x="905" y="565"/>
                  </a:lnTo>
                  <a:lnTo>
                    <a:pt x="905" y="441"/>
                  </a:lnTo>
                  <a:lnTo>
                    <a:pt x="870" y="309"/>
                  </a:lnTo>
                  <a:lnTo>
                    <a:pt x="800" y="176"/>
                  </a:lnTo>
                  <a:lnTo>
                    <a:pt x="703" y="79"/>
                  </a:lnTo>
                  <a:lnTo>
                    <a:pt x="591" y="26"/>
                  </a:lnTo>
                  <a:lnTo>
                    <a:pt x="464" y="0"/>
                  </a:lnTo>
                  <a:lnTo>
                    <a:pt x="300" y="0"/>
                  </a:lnTo>
                  <a:lnTo>
                    <a:pt x="119" y="35"/>
                  </a:lnTo>
                  <a:lnTo>
                    <a:pt x="154" y="296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8007480" y="952560"/>
              <a:ext cx="117720" cy="81360"/>
            </a:xfrm>
            <a:custGeom>
              <a:avLst/>
              <a:gdLst/>
              <a:ahLst/>
              <a:rect l="0" t="0" r="r" b="b"/>
              <a:pathLst>
                <a:path w="327" h="226">
                  <a:moveTo>
                    <a:pt x="127" y="0"/>
                  </a:moveTo>
                  <a:lnTo>
                    <a:pt x="44" y="0"/>
                  </a:lnTo>
                  <a:lnTo>
                    <a:pt x="0" y="30"/>
                  </a:lnTo>
                  <a:lnTo>
                    <a:pt x="0" y="111"/>
                  </a:lnTo>
                  <a:lnTo>
                    <a:pt x="66" y="196"/>
                  </a:lnTo>
                  <a:lnTo>
                    <a:pt x="199" y="226"/>
                  </a:lnTo>
                  <a:lnTo>
                    <a:pt x="296" y="222"/>
                  </a:lnTo>
                  <a:lnTo>
                    <a:pt x="327" y="168"/>
                  </a:lnTo>
                  <a:lnTo>
                    <a:pt x="309" y="124"/>
                  </a:lnTo>
                  <a:lnTo>
                    <a:pt x="265" y="58"/>
                  </a:lnTo>
                  <a:lnTo>
                    <a:pt x="186" y="8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 txBox="1"/>
          <p:nvPr/>
        </p:nvSpPr>
        <p:spPr>
          <a:xfrm>
            <a:off x="1219320" y="2362320"/>
            <a:ext cx="739152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OBJECTIVE 9  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pply depreciation methods to problems of partial years, revised rates, groups of similar items, special types of capital expenditures, and cost recove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990720" y="609480"/>
            <a:ext cx="784872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Special Problems of 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epreciating Plant Asse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63640" cy="703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 txBox="1"/>
          <p:nvPr/>
        </p:nvSpPr>
        <p:spPr>
          <a:xfrm>
            <a:off x="685800" y="38088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epreciation for Partial Yea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838080" y="1371600"/>
            <a:ext cx="830592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ssume an asset is purchased on September 5 and the yearly accounting period ends on December 3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1905120" y="3581280"/>
            <a:ext cx="6140160" cy="2209680"/>
            <a:chOff x="1905120" y="3581280"/>
            <a:chExt cx="6140160" cy="2209680"/>
          </a:xfrm>
        </p:grpSpPr>
        <p:sp>
          <p:nvSpPr>
            <p:cNvPr id="626" name=""/>
            <p:cNvSpPr txBox="1"/>
            <p:nvPr/>
          </p:nvSpPr>
          <p:spPr>
            <a:xfrm>
              <a:off x="1905120" y="3581280"/>
              <a:ext cx="2295360" cy="942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 u="sng">
                  <a:solidFill>
                    <a:srgbClr val="fcffd8"/>
                  </a:solidFill>
                  <a:uFillTx/>
                  <a:latin typeface="Arial"/>
                  <a:ea typeface="Arial"/>
                </a:rPr>
                <a:t>Cost - Scrap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Arial"/>
                  <a:ea typeface="Arial"/>
                </a:rPr>
                <a:t>Life in Years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 txBox="1"/>
            <p:nvPr/>
          </p:nvSpPr>
          <p:spPr>
            <a:xfrm>
              <a:off x="4724280" y="3581280"/>
              <a:ext cx="3321000" cy="942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 u="sng">
                  <a:solidFill>
                    <a:srgbClr val="fcffd8"/>
                  </a:solidFill>
                  <a:uFillTx/>
                  <a:latin typeface="Arial"/>
                  <a:ea typeface="Arial"/>
                </a:rPr>
                <a:t>Number of Months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Arial"/>
                  <a:ea typeface="Arial"/>
                </a:rPr>
                <a:t>             </a:t>
              </a:r>
              <a:r>
                <a:rPr b="1" lang="en-US" sz="2800" spc="-1" strike="noStrike">
                  <a:solidFill>
                    <a:srgbClr val="fcffd8"/>
                  </a:solidFill>
                  <a:latin typeface="Arial"/>
                  <a:ea typeface="Arial"/>
                </a:rPr>
                <a:t>12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 txBox="1"/>
            <p:nvPr/>
          </p:nvSpPr>
          <p:spPr>
            <a:xfrm>
              <a:off x="4343400" y="3809880"/>
              <a:ext cx="379440" cy="515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Arial"/>
                  <a:ea typeface="Arial"/>
                </a:rPr>
                <a:t>x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 txBox="1"/>
            <p:nvPr/>
          </p:nvSpPr>
          <p:spPr>
            <a:xfrm>
              <a:off x="1982880" y="4848120"/>
              <a:ext cx="2376360" cy="942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 u="sng">
                  <a:solidFill>
                    <a:srgbClr val="fcffd8"/>
                  </a:solidFill>
                  <a:uFillTx/>
                  <a:latin typeface="Arial"/>
                  <a:ea typeface="Arial"/>
                </a:rPr>
                <a:t>$3,600 - $60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Arial"/>
                  <a:ea typeface="Arial"/>
                </a:rPr>
                <a:t>    </a:t>
              </a:r>
              <a:r>
                <a:rPr b="1" lang="en-US" sz="2800" spc="-1" strike="noStrike">
                  <a:solidFill>
                    <a:srgbClr val="fcffd8"/>
                  </a:solidFill>
                  <a:latin typeface="Arial"/>
                  <a:ea typeface="Arial"/>
                </a:rPr>
                <a:t>6 years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 txBox="1"/>
            <p:nvPr/>
          </p:nvSpPr>
          <p:spPr>
            <a:xfrm>
              <a:off x="4343400" y="4952880"/>
              <a:ext cx="379440" cy="515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Arial"/>
                  <a:ea typeface="Arial"/>
                </a:rPr>
                <a:t>x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 txBox="1"/>
            <p:nvPr/>
          </p:nvSpPr>
          <p:spPr>
            <a:xfrm>
              <a:off x="5257800" y="5029200"/>
              <a:ext cx="1378080" cy="515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Arial"/>
                  <a:ea typeface="Arial"/>
                </a:rPr>
                <a:t>=  $167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 txBox="1"/>
            <p:nvPr/>
          </p:nvSpPr>
          <p:spPr>
            <a:xfrm>
              <a:off x="4724280" y="4800600"/>
              <a:ext cx="762120" cy="942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 u="sng">
                  <a:solidFill>
                    <a:srgbClr val="fcffd8"/>
                  </a:solidFill>
                  <a:uFillTx/>
                  <a:latin typeface="Arial"/>
                  <a:ea typeface="Arial"/>
                </a:rPr>
                <a:t>4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ffd8"/>
                  </a:solidFill>
                  <a:latin typeface="Arial"/>
                  <a:ea typeface="Arial"/>
                </a:rPr>
                <a:t>12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 txBox="1"/>
          <p:nvPr/>
        </p:nvSpPr>
        <p:spPr>
          <a:xfrm>
            <a:off x="1752480" y="228600"/>
            <a:ext cx="62485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Revision of Depreciation Rat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685800" y="17524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Revision is made when it is determined that an asset will last for a longer or shorter period than originally though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remaining depreciable cost of the asset is spread over the remaining years of useful life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preciation expense is increased or decreased to reflect the asset’s changed lif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 txBox="1"/>
          <p:nvPr/>
        </p:nvSpPr>
        <p:spPr>
          <a:xfrm>
            <a:off x="1447920" y="228600"/>
            <a:ext cx="6910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Example Computation of Revised Depreciation Ra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838080" y="144792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Cost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  $7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(Depreciation Already Taken)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   (2,00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(Residual Value)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   </a:t>
            </a:r>
            <a:r>
              <a:rPr b="1" lang="en-US" sz="2800" spc="-1" strike="noStrike" u="sng">
                <a:solidFill>
                  <a:srgbClr val="fcffd8"/>
                </a:solidFill>
                <a:uFillTx/>
                <a:latin typeface="Arial"/>
                <a:ea typeface="Arial"/>
              </a:rPr>
              <a:t>(1,00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Remaining Depreciable Amount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  $4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Divide by remaining useful life  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           2 y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Dec. 31  Dep. Exp., Delivery Truck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Accum. Dep., Delivery Truck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     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fd8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To record expense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  for the ye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7331040" y="3809880"/>
            <a:ext cx="1127160" cy="0"/>
          </a:xfrm>
          <a:prstGeom prst="line">
            <a:avLst/>
          </a:prstGeom>
          <a:ln w="25560">
            <a:solidFill>
              <a:srgbClr val="fcff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7331040" y="3886200"/>
            <a:ext cx="1127160" cy="0"/>
          </a:xfrm>
          <a:prstGeom prst="line">
            <a:avLst/>
          </a:prstGeom>
          <a:ln w="25560">
            <a:solidFill>
              <a:srgbClr val="fcff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 txBox="1"/>
          <p:nvPr/>
        </p:nvSpPr>
        <p:spPr>
          <a:xfrm>
            <a:off x="99072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Group Depreci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1143000" y="167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Group depreciation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s widely used when like assets are grouped and depreciated toget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is approach is convenient and includes assets such as trucks and office equip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490760" y="380880"/>
            <a:ext cx="689148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eciding to Acquire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Long-Term Asse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990720" y="1828800"/>
            <a:ext cx="792468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 capital budgeting decis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Decision is based on analyz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Future positive and negative cash flow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costs of training and maintena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he possibility that the expected savings may not occu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 txBox="1"/>
          <p:nvPr/>
        </p:nvSpPr>
        <p:spPr>
          <a:xfrm>
            <a:off x="990720" y="304920"/>
            <a:ext cx="769608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Special Types of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apital Expendit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914400" y="152388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n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addition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s an enlargement of the physical layout of a plant ass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amount is debited to the asset accou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</a:t>
            </a: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 betterment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s an improvement that does not add to the physical layout of a plant ass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The cost is charged to the asset accou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 txBox="1"/>
          <p:nvPr/>
        </p:nvSpPr>
        <p:spPr>
          <a:xfrm>
            <a:off x="838080" y="152280"/>
            <a:ext cx="79596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Special Types of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apital Expendit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9144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Ordinary repair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re expenditures necessary to keep an asset in good operating condi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Such repairs are a current expen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i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xtraordinary repair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re repairs of a more significant nature that affect the estimated residual value or estimated useful life of an ass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Recorded by debiting the Accumulated Depreciation accou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 txBox="1"/>
          <p:nvPr/>
        </p:nvSpPr>
        <p:spPr>
          <a:xfrm>
            <a:off x="990720" y="22096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odified Accelerated Cost Recovery System (MACRS) discards the concepts of estimated useful life and residual valu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914400" y="380880"/>
            <a:ext cx="79246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Modified Accelerated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st Recovery 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 txBox="1"/>
          <p:nvPr/>
        </p:nvSpPr>
        <p:spPr>
          <a:xfrm>
            <a:off x="838080" y="198108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MACRS requires that a cost recovery allowance be comput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On the unadjusted cost of property being recover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Symbol"/>
              <a:buChar char=""/>
            </a:pPr>
            <a:r>
              <a:rPr b="1" lang="en-US" sz="2800" spc="-1" strike="noStrike">
                <a:solidFill>
                  <a:srgbClr val="fcffd8"/>
                </a:solidFill>
                <a:latin typeface="Arial"/>
                <a:ea typeface="Arial"/>
              </a:rPr>
              <a:t>Over a period of years prescribed by the law for all property of similar typ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990720" y="3049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Modified Accelerated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st Recovery 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"/>
          <p:cNvSpPr txBox="1"/>
          <p:nvPr/>
        </p:nvSpPr>
        <p:spPr>
          <a:xfrm>
            <a:off x="457200" y="533520"/>
            <a:ext cx="8686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Cost Recovery for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Federal Income Tax Purpo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1066680" y="1905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ongress hoped to encourage businesses to invest in new plant and equipment by allowing them to write off assets rapid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Tax methods of depreciation are not usually acceptable for financial reporting under GAA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 txBox="1"/>
          <p:nvPr/>
        </p:nvSpPr>
        <p:spPr>
          <a:xfrm>
            <a:off x="2438280" y="838080"/>
            <a:ext cx="458460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914400" y="22096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Q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What will be the effect on futur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years’ income of charging an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ddition to a building to repair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expens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f an addition to a building is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charged to repair expense, future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years’ income will be overstated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and the current year’s income will 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be understa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3" name=""/>
          <p:cNvGrpSpPr/>
          <p:nvPr/>
        </p:nvGrpSpPr>
        <p:grpSpPr>
          <a:xfrm>
            <a:off x="6781680" y="304920"/>
            <a:ext cx="1980000" cy="1903680"/>
            <a:chOff x="6781680" y="304920"/>
            <a:chExt cx="1980000" cy="1903680"/>
          </a:xfrm>
        </p:grpSpPr>
        <p:sp>
          <p:nvSpPr>
            <p:cNvPr id="654" name=""/>
            <p:cNvSpPr/>
            <p:nvPr/>
          </p:nvSpPr>
          <p:spPr>
            <a:xfrm>
              <a:off x="6786720" y="1239840"/>
              <a:ext cx="481320" cy="663840"/>
            </a:xfrm>
            <a:custGeom>
              <a:avLst/>
              <a:gdLst/>
              <a:ahLst/>
              <a:rect l="0" t="0" r="r" b="b"/>
              <a:pathLst>
                <a:path w="1337" h="1844">
                  <a:moveTo>
                    <a:pt x="533" y="0"/>
                  </a:moveTo>
                  <a:lnTo>
                    <a:pt x="463" y="83"/>
                  </a:lnTo>
                  <a:lnTo>
                    <a:pt x="463" y="321"/>
                  </a:lnTo>
                  <a:lnTo>
                    <a:pt x="533" y="493"/>
                  </a:lnTo>
                  <a:lnTo>
                    <a:pt x="612" y="582"/>
                  </a:lnTo>
                  <a:lnTo>
                    <a:pt x="493" y="701"/>
                  </a:lnTo>
                  <a:lnTo>
                    <a:pt x="335" y="966"/>
                  </a:lnTo>
                  <a:lnTo>
                    <a:pt x="26" y="1394"/>
                  </a:lnTo>
                  <a:lnTo>
                    <a:pt x="0" y="1495"/>
                  </a:lnTo>
                  <a:lnTo>
                    <a:pt x="26" y="1584"/>
                  </a:lnTo>
                  <a:lnTo>
                    <a:pt x="123" y="1584"/>
                  </a:lnTo>
                  <a:lnTo>
                    <a:pt x="202" y="1482"/>
                  </a:lnTo>
                  <a:lnTo>
                    <a:pt x="335" y="1244"/>
                  </a:lnTo>
                  <a:lnTo>
                    <a:pt x="414" y="1143"/>
                  </a:lnTo>
                  <a:lnTo>
                    <a:pt x="463" y="1297"/>
                  </a:lnTo>
                  <a:lnTo>
                    <a:pt x="427" y="1469"/>
                  </a:lnTo>
                  <a:lnTo>
                    <a:pt x="295" y="1711"/>
                  </a:lnTo>
                  <a:lnTo>
                    <a:pt x="335" y="1764"/>
                  </a:lnTo>
                  <a:lnTo>
                    <a:pt x="414" y="1751"/>
                  </a:lnTo>
                  <a:lnTo>
                    <a:pt x="582" y="1623"/>
                  </a:lnTo>
                  <a:lnTo>
                    <a:pt x="710" y="1407"/>
                  </a:lnTo>
                  <a:lnTo>
                    <a:pt x="710" y="1778"/>
                  </a:lnTo>
                  <a:lnTo>
                    <a:pt x="869" y="1844"/>
                  </a:lnTo>
                  <a:lnTo>
                    <a:pt x="966" y="1614"/>
                  </a:lnTo>
                  <a:lnTo>
                    <a:pt x="1046" y="1831"/>
                  </a:lnTo>
                  <a:lnTo>
                    <a:pt x="1112" y="1764"/>
                  </a:lnTo>
                  <a:lnTo>
                    <a:pt x="1143" y="1341"/>
                  </a:lnTo>
                  <a:lnTo>
                    <a:pt x="1337" y="935"/>
                  </a:lnTo>
                  <a:lnTo>
                    <a:pt x="1293" y="701"/>
                  </a:lnTo>
                  <a:lnTo>
                    <a:pt x="1156" y="612"/>
                  </a:lnTo>
                  <a:lnTo>
                    <a:pt x="1015" y="621"/>
                  </a:lnTo>
                  <a:lnTo>
                    <a:pt x="966" y="436"/>
                  </a:lnTo>
                  <a:lnTo>
                    <a:pt x="816" y="392"/>
                  </a:lnTo>
                  <a:lnTo>
                    <a:pt x="688" y="335"/>
                  </a:lnTo>
                  <a:lnTo>
                    <a:pt x="612" y="39"/>
                  </a:lnTo>
                  <a:lnTo>
                    <a:pt x="533" y="0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191360" y="1508040"/>
              <a:ext cx="141480" cy="321120"/>
            </a:xfrm>
            <a:custGeom>
              <a:avLst/>
              <a:gdLst/>
              <a:ahLst/>
              <a:rect l="0" t="0" r="r" b="b"/>
              <a:pathLst>
                <a:path w="393" h="892">
                  <a:moveTo>
                    <a:pt x="199" y="0"/>
                  </a:moveTo>
                  <a:lnTo>
                    <a:pt x="393" y="230"/>
                  </a:lnTo>
                  <a:lnTo>
                    <a:pt x="296" y="738"/>
                  </a:lnTo>
                  <a:lnTo>
                    <a:pt x="0" y="892"/>
                  </a:lnTo>
                  <a:lnTo>
                    <a:pt x="0" y="640"/>
                  </a:lnTo>
                  <a:lnTo>
                    <a:pt x="119" y="375"/>
                  </a:lnTo>
                  <a:lnTo>
                    <a:pt x="199" y="189"/>
                  </a:lnTo>
                  <a:lnTo>
                    <a:pt x="199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8112240" y="1325520"/>
              <a:ext cx="354240" cy="289440"/>
            </a:xfrm>
            <a:custGeom>
              <a:avLst/>
              <a:gdLst/>
              <a:ahLst/>
              <a:rect l="0" t="0" r="r" b="b"/>
              <a:pathLst>
                <a:path w="984" h="804">
                  <a:moveTo>
                    <a:pt x="405" y="0"/>
                  </a:moveTo>
                  <a:lnTo>
                    <a:pt x="405" y="127"/>
                  </a:lnTo>
                  <a:lnTo>
                    <a:pt x="440" y="243"/>
                  </a:lnTo>
                  <a:lnTo>
                    <a:pt x="631" y="437"/>
                  </a:lnTo>
                  <a:lnTo>
                    <a:pt x="984" y="547"/>
                  </a:lnTo>
                  <a:lnTo>
                    <a:pt x="935" y="791"/>
                  </a:lnTo>
                  <a:lnTo>
                    <a:pt x="631" y="804"/>
                  </a:lnTo>
                  <a:lnTo>
                    <a:pt x="189" y="628"/>
                  </a:lnTo>
                  <a:lnTo>
                    <a:pt x="0" y="322"/>
                  </a:lnTo>
                  <a:lnTo>
                    <a:pt x="220" y="13"/>
                  </a:lnTo>
                  <a:lnTo>
                    <a:pt x="405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8253360" y="993600"/>
              <a:ext cx="495720" cy="643320"/>
            </a:xfrm>
            <a:custGeom>
              <a:avLst/>
              <a:gdLst/>
              <a:ahLst/>
              <a:rect l="0" t="0" r="r" b="b"/>
              <a:pathLst>
                <a:path w="1377" h="1787">
                  <a:moveTo>
                    <a:pt x="123" y="755"/>
                  </a:moveTo>
                  <a:lnTo>
                    <a:pt x="0" y="882"/>
                  </a:lnTo>
                  <a:lnTo>
                    <a:pt x="26" y="1173"/>
                  </a:lnTo>
                  <a:lnTo>
                    <a:pt x="216" y="1306"/>
                  </a:lnTo>
                  <a:lnTo>
                    <a:pt x="233" y="1757"/>
                  </a:lnTo>
                  <a:lnTo>
                    <a:pt x="428" y="1757"/>
                  </a:lnTo>
                  <a:lnTo>
                    <a:pt x="415" y="1382"/>
                  </a:lnTo>
                  <a:lnTo>
                    <a:pt x="556" y="1774"/>
                  </a:lnTo>
                  <a:lnTo>
                    <a:pt x="653" y="1787"/>
                  </a:lnTo>
                  <a:lnTo>
                    <a:pt x="724" y="1660"/>
                  </a:lnTo>
                  <a:lnTo>
                    <a:pt x="737" y="1408"/>
                  </a:lnTo>
                  <a:lnTo>
                    <a:pt x="949" y="1646"/>
                  </a:lnTo>
                  <a:lnTo>
                    <a:pt x="1032" y="1620"/>
                  </a:lnTo>
                  <a:lnTo>
                    <a:pt x="1010" y="1466"/>
                  </a:lnTo>
                  <a:lnTo>
                    <a:pt x="935" y="1240"/>
                  </a:lnTo>
                  <a:lnTo>
                    <a:pt x="852" y="1085"/>
                  </a:lnTo>
                  <a:lnTo>
                    <a:pt x="882" y="984"/>
                  </a:lnTo>
                  <a:lnTo>
                    <a:pt x="935" y="1010"/>
                  </a:lnTo>
                  <a:lnTo>
                    <a:pt x="1126" y="1240"/>
                  </a:lnTo>
                  <a:lnTo>
                    <a:pt x="1333" y="1293"/>
                  </a:lnTo>
                  <a:lnTo>
                    <a:pt x="1377" y="1226"/>
                  </a:lnTo>
                  <a:lnTo>
                    <a:pt x="1346" y="1099"/>
                  </a:lnTo>
                  <a:lnTo>
                    <a:pt x="962" y="741"/>
                  </a:lnTo>
                  <a:lnTo>
                    <a:pt x="653" y="631"/>
                  </a:lnTo>
                  <a:lnTo>
                    <a:pt x="618" y="427"/>
                  </a:lnTo>
                  <a:lnTo>
                    <a:pt x="724" y="246"/>
                  </a:lnTo>
                  <a:lnTo>
                    <a:pt x="724" y="61"/>
                  </a:lnTo>
                  <a:lnTo>
                    <a:pt x="636" y="0"/>
                  </a:lnTo>
                  <a:lnTo>
                    <a:pt x="415" y="486"/>
                  </a:lnTo>
                  <a:lnTo>
                    <a:pt x="216" y="556"/>
                  </a:lnTo>
                  <a:lnTo>
                    <a:pt x="167" y="693"/>
                  </a:lnTo>
                  <a:lnTo>
                    <a:pt x="123" y="755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440480" y="438120"/>
              <a:ext cx="541800" cy="819360"/>
            </a:xfrm>
            <a:custGeom>
              <a:avLst/>
              <a:gdLst/>
              <a:ahLst/>
              <a:rect l="0" t="0" r="r" b="b"/>
              <a:pathLst>
                <a:path w="1505" h="2276">
                  <a:moveTo>
                    <a:pt x="374" y="317"/>
                  </a:moveTo>
                  <a:lnTo>
                    <a:pt x="264" y="754"/>
                  </a:lnTo>
                  <a:lnTo>
                    <a:pt x="13" y="842"/>
                  </a:lnTo>
                  <a:lnTo>
                    <a:pt x="83" y="974"/>
                  </a:lnTo>
                  <a:lnTo>
                    <a:pt x="0" y="1062"/>
                  </a:lnTo>
                  <a:lnTo>
                    <a:pt x="0" y="1222"/>
                  </a:lnTo>
                  <a:lnTo>
                    <a:pt x="119" y="1368"/>
                  </a:lnTo>
                  <a:lnTo>
                    <a:pt x="233" y="1368"/>
                  </a:lnTo>
                  <a:lnTo>
                    <a:pt x="313" y="1870"/>
                  </a:lnTo>
                  <a:lnTo>
                    <a:pt x="406" y="2086"/>
                  </a:lnTo>
                  <a:lnTo>
                    <a:pt x="715" y="2276"/>
                  </a:lnTo>
                  <a:lnTo>
                    <a:pt x="1024" y="2249"/>
                  </a:lnTo>
                  <a:lnTo>
                    <a:pt x="1170" y="1870"/>
                  </a:lnTo>
                  <a:lnTo>
                    <a:pt x="1205" y="1297"/>
                  </a:lnTo>
                  <a:lnTo>
                    <a:pt x="1505" y="1005"/>
                  </a:lnTo>
                  <a:lnTo>
                    <a:pt x="1492" y="890"/>
                  </a:lnTo>
                  <a:lnTo>
                    <a:pt x="1457" y="842"/>
                  </a:lnTo>
                  <a:lnTo>
                    <a:pt x="1298" y="829"/>
                  </a:lnTo>
                  <a:lnTo>
                    <a:pt x="1346" y="674"/>
                  </a:lnTo>
                  <a:lnTo>
                    <a:pt x="1188" y="573"/>
                  </a:lnTo>
                  <a:lnTo>
                    <a:pt x="1121" y="246"/>
                  </a:lnTo>
                  <a:lnTo>
                    <a:pt x="653" y="0"/>
                  </a:lnTo>
                  <a:lnTo>
                    <a:pt x="406" y="233"/>
                  </a:lnTo>
                  <a:lnTo>
                    <a:pt x="374" y="317"/>
                  </a:lnTo>
                  <a:close/>
                </a:path>
              </a:pathLst>
            </a:custGeom>
            <a:solidFill>
              <a:srgbClr val="ffc281"/>
            </a:solidFill>
            <a:ln w="12600">
              <a:solidFill>
                <a:srgbClr val="ffc28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480440" y="1123920"/>
              <a:ext cx="495720" cy="975240"/>
            </a:xfrm>
            <a:custGeom>
              <a:avLst/>
              <a:gdLst/>
              <a:ahLst/>
              <a:rect l="0" t="0" r="r" b="b"/>
              <a:pathLst>
                <a:path w="1377" h="2709">
                  <a:moveTo>
                    <a:pt x="282" y="141"/>
                  </a:moveTo>
                  <a:lnTo>
                    <a:pt x="477" y="268"/>
                  </a:lnTo>
                  <a:lnTo>
                    <a:pt x="574" y="418"/>
                  </a:lnTo>
                  <a:lnTo>
                    <a:pt x="1126" y="0"/>
                  </a:lnTo>
                  <a:lnTo>
                    <a:pt x="1298" y="88"/>
                  </a:lnTo>
                  <a:lnTo>
                    <a:pt x="1377" y="515"/>
                  </a:lnTo>
                  <a:lnTo>
                    <a:pt x="979" y="1764"/>
                  </a:lnTo>
                  <a:lnTo>
                    <a:pt x="1108" y="2453"/>
                  </a:lnTo>
                  <a:lnTo>
                    <a:pt x="587" y="2709"/>
                  </a:lnTo>
                  <a:lnTo>
                    <a:pt x="185" y="2564"/>
                  </a:lnTo>
                  <a:lnTo>
                    <a:pt x="185" y="1831"/>
                  </a:lnTo>
                  <a:lnTo>
                    <a:pt x="0" y="1125"/>
                  </a:lnTo>
                  <a:lnTo>
                    <a:pt x="185" y="268"/>
                  </a:lnTo>
                  <a:lnTo>
                    <a:pt x="282" y="141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502400" y="331920"/>
              <a:ext cx="462240" cy="257400"/>
            </a:xfrm>
            <a:custGeom>
              <a:avLst/>
              <a:gdLst/>
              <a:ahLst/>
              <a:rect l="0" t="0" r="r" b="b"/>
              <a:pathLst>
                <a:path w="1284" h="715">
                  <a:moveTo>
                    <a:pt x="158" y="684"/>
                  </a:moveTo>
                  <a:lnTo>
                    <a:pt x="348" y="490"/>
                  </a:lnTo>
                  <a:lnTo>
                    <a:pt x="467" y="464"/>
                  </a:lnTo>
                  <a:lnTo>
                    <a:pt x="467" y="481"/>
                  </a:lnTo>
                  <a:lnTo>
                    <a:pt x="529" y="464"/>
                  </a:lnTo>
                  <a:lnTo>
                    <a:pt x="604" y="516"/>
                  </a:lnTo>
                  <a:lnTo>
                    <a:pt x="759" y="552"/>
                  </a:lnTo>
                  <a:lnTo>
                    <a:pt x="882" y="715"/>
                  </a:lnTo>
                  <a:lnTo>
                    <a:pt x="1081" y="640"/>
                  </a:lnTo>
                  <a:lnTo>
                    <a:pt x="1081" y="569"/>
                  </a:lnTo>
                  <a:lnTo>
                    <a:pt x="1284" y="481"/>
                  </a:lnTo>
                  <a:lnTo>
                    <a:pt x="1222" y="348"/>
                  </a:lnTo>
                  <a:lnTo>
                    <a:pt x="1032" y="335"/>
                  </a:lnTo>
                  <a:lnTo>
                    <a:pt x="1063" y="189"/>
                  </a:lnTo>
                  <a:lnTo>
                    <a:pt x="900" y="207"/>
                  </a:lnTo>
                  <a:lnTo>
                    <a:pt x="869" y="101"/>
                  </a:lnTo>
                  <a:lnTo>
                    <a:pt x="759" y="101"/>
                  </a:lnTo>
                  <a:lnTo>
                    <a:pt x="680" y="154"/>
                  </a:lnTo>
                  <a:lnTo>
                    <a:pt x="604" y="154"/>
                  </a:lnTo>
                  <a:lnTo>
                    <a:pt x="621" y="0"/>
                  </a:lnTo>
                  <a:lnTo>
                    <a:pt x="467" y="74"/>
                  </a:lnTo>
                  <a:lnTo>
                    <a:pt x="251" y="335"/>
                  </a:lnTo>
                  <a:lnTo>
                    <a:pt x="242" y="154"/>
                  </a:lnTo>
                  <a:lnTo>
                    <a:pt x="127" y="242"/>
                  </a:lnTo>
                  <a:lnTo>
                    <a:pt x="97" y="464"/>
                  </a:lnTo>
                  <a:lnTo>
                    <a:pt x="0" y="428"/>
                  </a:lnTo>
                  <a:lnTo>
                    <a:pt x="13" y="569"/>
                  </a:lnTo>
                  <a:lnTo>
                    <a:pt x="158" y="684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6240" y="1303200"/>
              <a:ext cx="147960" cy="740160"/>
            </a:xfrm>
            <a:custGeom>
              <a:avLst/>
              <a:gdLst/>
              <a:ahLst/>
              <a:rect l="0" t="0" r="r" b="b"/>
              <a:pathLst>
                <a:path w="411" h="2056">
                  <a:moveTo>
                    <a:pt x="212" y="13"/>
                  </a:moveTo>
                  <a:lnTo>
                    <a:pt x="70" y="101"/>
                  </a:lnTo>
                  <a:lnTo>
                    <a:pt x="70" y="277"/>
                  </a:lnTo>
                  <a:lnTo>
                    <a:pt x="167" y="330"/>
                  </a:lnTo>
                  <a:lnTo>
                    <a:pt x="39" y="609"/>
                  </a:lnTo>
                  <a:lnTo>
                    <a:pt x="0" y="966"/>
                  </a:lnTo>
                  <a:lnTo>
                    <a:pt x="101" y="1438"/>
                  </a:lnTo>
                  <a:lnTo>
                    <a:pt x="101" y="1638"/>
                  </a:lnTo>
                  <a:lnTo>
                    <a:pt x="48" y="1796"/>
                  </a:lnTo>
                  <a:lnTo>
                    <a:pt x="261" y="2056"/>
                  </a:lnTo>
                  <a:lnTo>
                    <a:pt x="397" y="1655"/>
                  </a:lnTo>
                  <a:lnTo>
                    <a:pt x="397" y="1385"/>
                  </a:lnTo>
                  <a:lnTo>
                    <a:pt x="296" y="1121"/>
                  </a:lnTo>
                  <a:lnTo>
                    <a:pt x="247" y="777"/>
                  </a:lnTo>
                  <a:lnTo>
                    <a:pt x="349" y="436"/>
                  </a:lnTo>
                  <a:lnTo>
                    <a:pt x="314" y="304"/>
                  </a:lnTo>
                  <a:lnTo>
                    <a:pt x="411" y="233"/>
                  </a:lnTo>
                  <a:lnTo>
                    <a:pt x="397" y="141"/>
                  </a:lnTo>
                  <a:lnTo>
                    <a:pt x="274" y="0"/>
                  </a:lnTo>
                  <a:lnTo>
                    <a:pt x="212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621560" y="1055520"/>
              <a:ext cx="119520" cy="68760"/>
            </a:xfrm>
            <a:custGeom>
              <a:avLst/>
              <a:gdLst/>
              <a:ahLst/>
              <a:rect l="0" t="0" r="r" b="b"/>
              <a:pathLst>
                <a:path w="332" h="191">
                  <a:moveTo>
                    <a:pt x="0" y="62"/>
                  </a:moveTo>
                  <a:lnTo>
                    <a:pt x="133" y="191"/>
                  </a:lnTo>
                  <a:lnTo>
                    <a:pt x="266" y="178"/>
                  </a:lnTo>
                  <a:lnTo>
                    <a:pt x="332" y="13"/>
                  </a:lnTo>
                  <a:lnTo>
                    <a:pt x="186" y="0"/>
                  </a:lnTo>
                  <a:lnTo>
                    <a:pt x="35" y="13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491240" y="712800"/>
              <a:ext cx="147960" cy="146520"/>
            </a:xfrm>
            <a:custGeom>
              <a:avLst/>
              <a:gdLst/>
              <a:ahLst/>
              <a:rect l="0" t="0" r="r" b="b"/>
              <a:pathLst>
                <a:path w="411" h="407">
                  <a:moveTo>
                    <a:pt x="0" y="39"/>
                  </a:moveTo>
                  <a:lnTo>
                    <a:pt x="283" y="407"/>
                  </a:lnTo>
                  <a:lnTo>
                    <a:pt x="411" y="381"/>
                  </a:lnTo>
                  <a:lnTo>
                    <a:pt x="114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751880" y="685800"/>
              <a:ext cx="127440" cy="141480"/>
            </a:xfrm>
            <a:custGeom>
              <a:avLst/>
              <a:gdLst/>
              <a:ahLst/>
              <a:rect l="0" t="0" r="r" b="b"/>
              <a:pathLst>
                <a:path w="354" h="393">
                  <a:moveTo>
                    <a:pt x="0" y="52"/>
                  </a:moveTo>
                  <a:lnTo>
                    <a:pt x="243" y="393"/>
                  </a:lnTo>
                  <a:lnTo>
                    <a:pt x="354" y="300"/>
                  </a:lnTo>
                  <a:lnTo>
                    <a:pt x="98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437600" y="498600"/>
              <a:ext cx="516240" cy="360720"/>
            </a:xfrm>
            <a:custGeom>
              <a:avLst/>
              <a:gdLst/>
              <a:ahLst/>
              <a:rect l="0" t="0" r="r" b="b"/>
              <a:pathLst>
                <a:path w="1434" h="1002">
                  <a:moveTo>
                    <a:pt x="657" y="591"/>
                  </a:moveTo>
                  <a:lnTo>
                    <a:pt x="524" y="556"/>
                  </a:lnTo>
                  <a:lnTo>
                    <a:pt x="639" y="467"/>
                  </a:lnTo>
                  <a:lnTo>
                    <a:pt x="599" y="423"/>
                  </a:lnTo>
                  <a:lnTo>
                    <a:pt x="449" y="538"/>
                  </a:lnTo>
                  <a:lnTo>
                    <a:pt x="180" y="565"/>
                  </a:lnTo>
                  <a:lnTo>
                    <a:pt x="0" y="574"/>
                  </a:lnTo>
                  <a:lnTo>
                    <a:pt x="0" y="710"/>
                  </a:lnTo>
                  <a:lnTo>
                    <a:pt x="171" y="993"/>
                  </a:lnTo>
                  <a:lnTo>
                    <a:pt x="216" y="1002"/>
                  </a:lnTo>
                  <a:lnTo>
                    <a:pt x="61" y="693"/>
                  </a:lnTo>
                  <a:lnTo>
                    <a:pt x="295" y="591"/>
                  </a:lnTo>
                  <a:lnTo>
                    <a:pt x="449" y="591"/>
                  </a:lnTo>
                  <a:lnTo>
                    <a:pt x="568" y="658"/>
                  </a:lnTo>
                  <a:lnTo>
                    <a:pt x="599" y="746"/>
                  </a:lnTo>
                  <a:lnTo>
                    <a:pt x="599" y="931"/>
                  </a:lnTo>
                  <a:lnTo>
                    <a:pt x="599" y="993"/>
                  </a:lnTo>
                  <a:lnTo>
                    <a:pt x="665" y="904"/>
                  </a:lnTo>
                  <a:lnTo>
                    <a:pt x="665" y="702"/>
                  </a:lnTo>
                  <a:lnTo>
                    <a:pt x="768" y="702"/>
                  </a:lnTo>
                  <a:lnTo>
                    <a:pt x="816" y="931"/>
                  </a:lnTo>
                  <a:lnTo>
                    <a:pt x="874" y="957"/>
                  </a:lnTo>
                  <a:lnTo>
                    <a:pt x="1046" y="957"/>
                  </a:lnTo>
                  <a:lnTo>
                    <a:pt x="1222" y="909"/>
                  </a:lnTo>
                  <a:lnTo>
                    <a:pt x="1350" y="825"/>
                  </a:lnTo>
                  <a:lnTo>
                    <a:pt x="1368" y="627"/>
                  </a:lnTo>
                  <a:lnTo>
                    <a:pt x="1434" y="538"/>
                  </a:lnTo>
                  <a:lnTo>
                    <a:pt x="1394" y="480"/>
                  </a:lnTo>
                  <a:lnTo>
                    <a:pt x="1235" y="427"/>
                  </a:lnTo>
                  <a:lnTo>
                    <a:pt x="1209" y="224"/>
                  </a:lnTo>
                  <a:lnTo>
                    <a:pt x="1059" y="224"/>
                  </a:lnTo>
                  <a:lnTo>
                    <a:pt x="882" y="0"/>
                  </a:lnTo>
                  <a:lnTo>
                    <a:pt x="1041" y="246"/>
                  </a:lnTo>
                  <a:lnTo>
                    <a:pt x="1094" y="246"/>
                  </a:lnTo>
                  <a:lnTo>
                    <a:pt x="1129" y="423"/>
                  </a:lnTo>
                  <a:lnTo>
                    <a:pt x="927" y="480"/>
                  </a:lnTo>
                  <a:lnTo>
                    <a:pt x="781" y="436"/>
                  </a:lnTo>
                  <a:lnTo>
                    <a:pt x="759" y="480"/>
                  </a:lnTo>
                  <a:lnTo>
                    <a:pt x="834" y="538"/>
                  </a:lnTo>
                  <a:lnTo>
                    <a:pt x="834" y="583"/>
                  </a:lnTo>
                  <a:lnTo>
                    <a:pt x="1010" y="512"/>
                  </a:lnTo>
                  <a:lnTo>
                    <a:pt x="1151" y="493"/>
                  </a:lnTo>
                  <a:lnTo>
                    <a:pt x="1315" y="521"/>
                  </a:lnTo>
                  <a:lnTo>
                    <a:pt x="1315" y="547"/>
                  </a:lnTo>
                  <a:lnTo>
                    <a:pt x="1240" y="609"/>
                  </a:lnTo>
                  <a:lnTo>
                    <a:pt x="1209" y="702"/>
                  </a:lnTo>
                  <a:lnTo>
                    <a:pt x="1200" y="825"/>
                  </a:lnTo>
                  <a:lnTo>
                    <a:pt x="1107" y="878"/>
                  </a:lnTo>
                  <a:lnTo>
                    <a:pt x="966" y="891"/>
                  </a:lnTo>
                  <a:lnTo>
                    <a:pt x="874" y="891"/>
                  </a:lnTo>
                  <a:lnTo>
                    <a:pt x="838" y="860"/>
                  </a:lnTo>
                  <a:lnTo>
                    <a:pt x="816" y="627"/>
                  </a:lnTo>
                  <a:lnTo>
                    <a:pt x="665" y="627"/>
                  </a:lnTo>
                  <a:lnTo>
                    <a:pt x="657" y="59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615080" y="912960"/>
              <a:ext cx="165600" cy="74880"/>
            </a:xfrm>
            <a:custGeom>
              <a:avLst/>
              <a:gdLst/>
              <a:ahLst/>
              <a:rect l="0" t="0" r="r" b="b"/>
              <a:pathLst>
                <a:path w="460" h="208">
                  <a:moveTo>
                    <a:pt x="0" y="0"/>
                  </a:moveTo>
                  <a:lnTo>
                    <a:pt x="74" y="97"/>
                  </a:lnTo>
                  <a:lnTo>
                    <a:pt x="274" y="97"/>
                  </a:lnTo>
                  <a:lnTo>
                    <a:pt x="354" y="26"/>
                  </a:lnTo>
                  <a:lnTo>
                    <a:pt x="460" y="26"/>
                  </a:lnTo>
                  <a:lnTo>
                    <a:pt x="442" y="66"/>
                  </a:lnTo>
                  <a:lnTo>
                    <a:pt x="442" y="97"/>
                  </a:lnTo>
                  <a:lnTo>
                    <a:pt x="256" y="208"/>
                  </a:lnTo>
                  <a:lnTo>
                    <a:pt x="155" y="208"/>
                  </a:lnTo>
                  <a:lnTo>
                    <a:pt x="97" y="172"/>
                  </a:lnTo>
                  <a:lnTo>
                    <a:pt x="39" y="1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3760" bIns="23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429680" y="793800"/>
              <a:ext cx="251280" cy="390960"/>
            </a:xfrm>
            <a:custGeom>
              <a:avLst/>
              <a:gdLst/>
              <a:ahLst/>
              <a:rect l="0" t="0" r="r" b="b"/>
              <a:pathLst>
                <a:path w="698" h="1086">
                  <a:moveTo>
                    <a:pt x="698" y="79"/>
                  </a:moveTo>
                  <a:lnTo>
                    <a:pt x="698" y="97"/>
                  </a:lnTo>
                  <a:lnTo>
                    <a:pt x="575" y="207"/>
                  </a:lnTo>
                  <a:lnTo>
                    <a:pt x="472" y="224"/>
                  </a:lnTo>
                  <a:lnTo>
                    <a:pt x="278" y="198"/>
                  </a:lnTo>
                  <a:lnTo>
                    <a:pt x="314" y="583"/>
                  </a:lnTo>
                  <a:lnTo>
                    <a:pt x="362" y="905"/>
                  </a:lnTo>
                  <a:lnTo>
                    <a:pt x="441" y="1086"/>
                  </a:lnTo>
                  <a:lnTo>
                    <a:pt x="362" y="963"/>
                  </a:lnTo>
                  <a:lnTo>
                    <a:pt x="327" y="831"/>
                  </a:lnTo>
                  <a:lnTo>
                    <a:pt x="269" y="459"/>
                  </a:lnTo>
                  <a:lnTo>
                    <a:pt x="212" y="477"/>
                  </a:lnTo>
                  <a:lnTo>
                    <a:pt x="145" y="437"/>
                  </a:lnTo>
                  <a:lnTo>
                    <a:pt x="13" y="242"/>
                  </a:lnTo>
                  <a:lnTo>
                    <a:pt x="0" y="136"/>
                  </a:lnTo>
                  <a:lnTo>
                    <a:pt x="0" y="70"/>
                  </a:lnTo>
                  <a:lnTo>
                    <a:pt x="30" y="17"/>
                  </a:lnTo>
                  <a:lnTo>
                    <a:pt x="110" y="0"/>
                  </a:lnTo>
                  <a:lnTo>
                    <a:pt x="119" y="26"/>
                  </a:lnTo>
                  <a:lnTo>
                    <a:pt x="57" y="44"/>
                  </a:lnTo>
                  <a:lnTo>
                    <a:pt x="39" y="127"/>
                  </a:lnTo>
                  <a:lnTo>
                    <a:pt x="48" y="233"/>
                  </a:lnTo>
                  <a:lnTo>
                    <a:pt x="136" y="322"/>
                  </a:lnTo>
                  <a:lnTo>
                    <a:pt x="181" y="305"/>
                  </a:lnTo>
                  <a:lnTo>
                    <a:pt x="181" y="105"/>
                  </a:lnTo>
                  <a:lnTo>
                    <a:pt x="265" y="145"/>
                  </a:lnTo>
                  <a:lnTo>
                    <a:pt x="389" y="180"/>
                  </a:lnTo>
                  <a:lnTo>
                    <a:pt x="508" y="171"/>
                  </a:lnTo>
                  <a:lnTo>
                    <a:pt x="619" y="105"/>
                  </a:lnTo>
                  <a:lnTo>
                    <a:pt x="698" y="7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496280" y="488880"/>
              <a:ext cx="76680" cy="205200"/>
            </a:xfrm>
            <a:custGeom>
              <a:avLst/>
              <a:gdLst/>
              <a:ahLst/>
              <a:rect l="0" t="0" r="r" b="b"/>
              <a:pathLst>
                <a:path w="213" h="570">
                  <a:moveTo>
                    <a:pt x="111" y="570"/>
                  </a:moveTo>
                  <a:lnTo>
                    <a:pt x="213" y="234"/>
                  </a:lnTo>
                  <a:lnTo>
                    <a:pt x="26" y="114"/>
                  </a:lnTo>
                  <a:lnTo>
                    <a:pt x="0" y="0"/>
                  </a:lnTo>
                  <a:lnTo>
                    <a:pt x="13" y="136"/>
                  </a:lnTo>
                  <a:lnTo>
                    <a:pt x="75" y="199"/>
                  </a:lnTo>
                  <a:lnTo>
                    <a:pt x="84" y="362"/>
                  </a:lnTo>
                  <a:lnTo>
                    <a:pt x="128" y="434"/>
                  </a:lnTo>
                  <a:lnTo>
                    <a:pt x="111" y="57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494480" y="304920"/>
              <a:ext cx="565560" cy="273240"/>
            </a:xfrm>
            <a:custGeom>
              <a:avLst/>
              <a:gdLst/>
              <a:ahLst/>
              <a:rect l="0" t="0" r="r" b="b"/>
              <a:pathLst>
                <a:path w="1571" h="759">
                  <a:moveTo>
                    <a:pt x="13" y="516"/>
                  </a:moveTo>
                  <a:lnTo>
                    <a:pt x="149" y="587"/>
                  </a:lnTo>
                  <a:lnTo>
                    <a:pt x="136" y="499"/>
                  </a:lnTo>
                  <a:lnTo>
                    <a:pt x="163" y="321"/>
                  </a:lnTo>
                  <a:lnTo>
                    <a:pt x="251" y="291"/>
                  </a:lnTo>
                  <a:lnTo>
                    <a:pt x="264" y="468"/>
                  </a:lnTo>
                  <a:lnTo>
                    <a:pt x="525" y="145"/>
                  </a:lnTo>
                  <a:lnTo>
                    <a:pt x="591" y="123"/>
                  </a:lnTo>
                  <a:lnTo>
                    <a:pt x="543" y="251"/>
                  </a:lnTo>
                  <a:lnTo>
                    <a:pt x="706" y="313"/>
                  </a:lnTo>
                  <a:lnTo>
                    <a:pt x="825" y="189"/>
                  </a:lnTo>
                  <a:lnTo>
                    <a:pt x="891" y="224"/>
                  </a:lnTo>
                  <a:lnTo>
                    <a:pt x="834" y="335"/>
                  </a:lnTo>
                  <a:lnTo>
                    <a:pt x="913" y="277"/>
                  </a:lnTo>
                  <a:lnTo>
                    <a:pt x="1028" y="321"/>
                  </a:lnTo>
                  <a:lnTo>
                    <a:pt x="935" y="415"/>
                  </a:lnTo>
                  <a:lnTo>
                    <a:pt x="1258" y="468"/>
                  </a:lnTo>
                  <a:lnTo>
                    <a:pt x="1041" y="534"/>
                  </a:lnTo>
                  <a:lnTo>
                    <a:pt x="1311" y="569"/>
                  </a:lnTo>
                  <a:lnTo>
                    <a:pt x="993" y="644"/>
                  </a:lnTo>
                  <a:lnTo>
                    <a:pt x="1059" y="697"/>
                  </a:lnTo>
                  <a:lnTo>
                    <a:pt x="966" y="759"/>
                  </a:lnTo>
                  <a:lnTo>
                    <a:pt x="1129" y="759"/>
                  </a:lnTo>
                  <a:lnTo>
                    <a:pt x="1116" y="719"/>
                  </a:lnTo>
                  <a:lnTo>
                    <a:pt x="1285" y="755"/>
                  </a:lnTo>
                  <a:lnTo>
                    <a:pt x="1258" y="636"/>
                  </a:lnTo>
                  <a:lnTo>
                    <a:pt x="1417" y="578"/>
                  </a:lnTo>
                  <a:lnTo>
                    <a:pt x="1307" y="525"/>
                  </a:lnTo>
                  <a:lnTo>
                    <a:pt x="1571" y="508"/>
                  </a:lnTo>
                  <a:lnTo>
                    <a:pt x="1342" y="389"/>
                  </a:lnTo>
                  <a:lnTo>
                    <a:pt x="1081" y="352"/>
                  </a:lnTo>
                  <a:lnTo>
                    <a:pt x="1285" y="229"/>
                  </a:lnTo>
                  <a:lnTo>
                    <a:pt x="913" y="229"/>
                  </a:lnTo>
                  <a:lnTo>
                    <a:pt x="1090" y="114"/>
                  </a:lnTo>
                  <a:lnTo>
                    <a:pt x="821" y="145"/>
                  </a:lnTo>
                  <a:lnTo>
                    <a:pt x="693" y="207"/>
                  </a:lnTo>
                  <a:lnTo>
                    <a:pt x="799" y="0"/>
                  </a:lnTo>
                  <a:lnTo>
                    <a:pt x="472" y="114"/>
                  </a:lnTo>
                  <a:lnTo>
                    <a:pt x="291" y="361"/>
                  </a:lnTo>
                  <a:lnTo>
                    <a:pt x="264" y="224"/>
                  </a:lnTo>
                  <a:lnTo>
                    <a:pt x="114" y="321"/>
                  </a:lnTo>
                  <a:lnTo>
                    <a:pt x="97" y="508"/>
                  </a:lnTo>
                  <a:lnTo>
                    <a:pt x="0" y="468"/>
                  </a:lnTo>
                  <a:lnTo>
                    <a:pt x="35" y="636"/>
                  </a:lnTo>
                  <a:lnTo>
                    <a:pt x="13" y="51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616880" y="450720"/>
              <a:ext cx="160560" cy="82800"/>
            </a:xfrm>
            <a:custGeom>
              <a:avLst/>
              <a:gdLst/>
              <a:ahLst/>
              <a:rect l="0" t="0" r="r" b="b"/>
              <a:pathLst>
                <a:path w="446" h="230">
                  <a:moveTo>
                    <a:pt x="0" y="230"/>
                  </a:moveTo>
                  <a:lnTo>
                    <a:pt x="167" y="0"/>
                  </a:lnTo>
                  <a:lnTo>
                    <a:pt x="167" y="150"/>
                  </a:lnTo>
                  <a:lnTo>
                    <a:pt x="225" y="92"/>
                  </a:lnTo>
                  <a:lnTo>
                    <a:pt x="278" y="181"/>
                  </a:lnTo>
                  <a:lnTo>
                    <a:pt x="446" y="221"/>
                  </a:lnTo>
                  <a:lnTo>
                    <a:pt x="269" y="195"/>
                  </a:lnTo>
                  <a:lnTo>
                    <a:pt x="216" y="133"/>
                  </a:lnTo>
                  <a:lnTo>
                    <a:pt x="141" y="195"/>
                  </a:lnTo>
                  <a:lnTo>
                    <a:pt x="141" y="120"/>
                  </a:lnTo>
                  <a:lnTo>
                    <a:pt x="0" y="23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02480" y="1011240"/>
              <a:ext cx="192600" cy="120960"/>
            </a:xfrm>
            <a:custGeom>
              <a:avLst/>
              <a:gdLst/>
              <a:ahLst/>
              <a:rect l="0" t="0" r="r" b="b"/>
              <a:pathLst>
                <a:path w="535" h="336">
                  <a:moveTo>
                    <a:pt x="101" y="119"/>
                  </a:moveTo>
                  <a:lnTo>
                    <a:pt x="322" y="101"/>
                  </a:lnTo>
                  <a:lnTo>
                    <a:pt x="425" y="123"/>
                  </a:lnTo>
                  <a:lnTo>
                    <a:pt x="478" y="79"/>
                  </a:lnTo>
                  <a:lnTo>
                    <a:pt x="535" y="190"/>
                  </a:lnTo>
                  <a:lnTo>
                    <a:pt x="500" y="208"/>
                  </a:lnTo>
                  <a:lnTo>
                    <a:pt x="451" y="163"/>
                  </a:lnTo>
                  <a:lnTo>
                    <a:pt x="380" y="243"/>
                  </a:lnTo>
                  <a:lnTo>
                    <a:pt x="247" y="336"/>
                  </a:lnTo>
                  <a:lnTo>
                    <a:pt x="190" y="336"/>
                  </a:lnTo>
                  <a:lnTo>
                    <a:pt x="101" y="292"/>
                  </a:lnTo>
                  <a:lnTo>
                    <a:pt x="199" y="327"/>
                  </a:lnTo>
                  <a:lnTo>
                    <a:pt x="239" y="327"/>
                  </a:lnTo>
                  <a:lnTo>
                    <a:pt x="322" y="265"/>
                  </a:lnTo>
                  <a:lnTo>
                    <a:pt x="375" y="149"/>
                  </a:lnTo>
                  <a:lnTo>
                    <a:pt x="292" y="136"/>
                  </a:lnTo>
                  <a:lnTo>
                    <a:pt x="234" y="123"/>
                  </a:lnTo>
                  <a:lnTo>
                    <a:pt x="88" y="141"/>
                  </a:lnTo>
                  <a:lnTo>
                    <a:pt x="88" y="234"/>
                  </a:lnTo>
                  <a:lnTo>
                    <a:pt x="39" y="181"/>
                  </a:lnTo>
                  <a:lnTo>
                    <a:pt x="0" y="252"/>
                  </a:lnTo>
                  <a:lnTo>
                    <a:pt x="4" y="92"/>
                  </a:lnTo>
                  <a:lnTo>
                    <a:pt x="57" y="0"/>
                  </a:lnTo>
                  <a:lnTo>
                    <a:pt x="101" y="92"/>
                  </a:lnTo>
                  <a:lnTo>
                    <a:pt x="101" y="11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578720" y="744480"/>
              <a:ext cx="411480" cy="563760"/>
            </a:xfrm>
            <a:custGeom>
              <a:avLst/>
              <a:gdLst/>
              <a:ahLst/>
              <a:rect l="0" t="0" r="r" b="b"/>
              <a:pathLst>
                <a:path w="1143" h="1566">
                  <a:moveTo>
                    <a:pt x="962" y="0"/>
                  </a:moveTo>
                  <a:lnTo>
                    <a:pt x="1076" y="0"/>
                  </a:lnTo>
                  <a:lnTo>
                    <a:pt x="1143" y="79"/>
                  </a:lnTo>
                  <a:lnTo>
                    <a:pt x="1143" y="158"/>
                  </a:lnTo>
                  <a:lnTo>
                    <a:pt x="1050" y="410"/>
                  </a:lnTo>
                  <a:lnTo>
                    <a:pt x="957" y="529"/>
                  </a:lnTo>
                  <a:lnTo>
                    <a:pt x="856" y="542"/>
                  </a:lnTo>
                  <a:lnTo>
                    <a:pt x="830" y="542"/>
                  </a:lnTo>
                  <a:lnTo>
                    <a:pt x="830" y="856"/>
                  </a:lnTo>
                  <a:lnTo>
                    <a:pt x="878" y="1076"/>
                  </a:lnTo>
                  <a:lnTo>
                    <a:pt x="878" y="1257"/>
                  </a:lnTo>
                  <a:lnTo>
                    <a:pt x="702" y="1442"/>
                  </a:lnTo>
                  <a:lnTo>
                    <a:pt x="467" y="1566"/>
                  </a:lnTo>
                  <a:lnTo>
                    <a:pt x="317" y="1566"/>
                  </a:lnTo>
                  <a:lnTo>
                    <a:pt x="242" y="1535"/>
                  </a:lnTo>
                  <a:lnTo>
                    <a:pt x="136" y="1315"/>
                  </a:lnTo>
                  <a:lnTo>
                    <a:pt x="39" y="1235"/>
                  </a:lnTo>
                  <a:lnTo>
                    <a:pt x="0" y="1173"/>
                  </a:lnTo>
                  <a:lnTo>
                    <a:pt x="127" y="1257"/>
                  </a:lnTo>
                  <a:lnTo>
                    <a:pt x="220" y="1337"/>
                  </a:lnTo>
                  <a:lnTo>
                    <a:pt x="401" y="1345"/>
                  </a:lnTo>
                  <a:lnTo>
                    <a:pt x="568" y="1266"/>
                  </a:lnTo>
                  <a:lnTo>
                    <a:pt x="653" y="1173"/>
                  </a:lnTo>
                  <a:lnTo>
                    <a:pt x="750" y="1019"/>
                  </a:lnTo>
                  <a:lnTo>
                    <a:pt x="763" y="830"/>
                  </a:lnTo>
                  <a:lnTo>
                    <a:pt x="799" y="229"/>
                  </a:lnTo>
                  <a:lnTo>
                    <a:pt x="838" y="317"/>
                  </a:lnTo>
                  <a:lnTo>
                    <a:pt x="953" y="207"/>
                  </a:lnTo>
                  <a:lnTo>
                    <a:pt x="1068" y="158"/>
                  </a:lnTo>
                  <a:lnTo>
                    <a:pt x="1099" y="97"/>
                  </a:lnTo>
                  <a:lnTo>
                    <a:pt x="1085" y="35"/>
                  </a:lnTo>
                  <a:lnTo>
                    <a:pt x="1032" y="8"/>
                  </a:lnTo>
                  <a:lnTo>
                    <a:pt x="962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940440" y="1230480"/>
              <a:ext cx="332280" cy="525960"/>
            </a:xfrm>
            <a:custGeom>
              <a:avLst/>
              <a:gdLst/>
              <a:ahLst/>
              <a:rect l="0" t="0" r="r" b="b"/>
              <a:pathLst>
                <a:path w="923" h="1461">
                  <a:moveTo>
                    <a:pt x="114" y="0"/>
                  </a:moveTo>
                  <a:lnTo>
                    <a:pt x="220" y="70"/>
                  </a:lnTo>
                  <a:lnTo>
                    <a:pt x="300" y="361"/>
                  </a:lnTo>
                  <a:lnTo>
                    <a:pt x="538" y="428"/>
                  </a:lnTo>
                  <a:lnTo>
                    <a:pt x="605" y="512"/>
                  </a:lnTo>
                  <a:lnTo>
                    <a:pt x="618" y="622"/>
                  </a:lnTo>
                  <a:lnTo>
                    <a:pt x="734" y="605"/>
                  </a:lnTo>
                  <a:lnTo>
                    <a:pt x="879" y="702"/>
                  </a:lnTo>
                  <a:lnTo>
                    <a:pt x="923" y="816"/>
                  </a:lnTo>
                  <a:lnTo>
                    <a:pt x="923" y="1024"/>
                  </a:lnTo>
                  <a:lnTo>
                    <a:pt x="734" y="1338"/>
                  </a:lnTo>
                  <a:lnTo>
                    <a:pt x="671" y="1461"/>
                  </a:lnTo>
                  <a:lnTo>
                    <a:pt x="707" y="1289"/>
                  </a:lnTo>
                  <a:lnTo>
                    <a:pt x="671" y="1232"/>
                  </a:lnTo>
                  <a:lnTo>
                    <a:pt x="556" y="1122"/>
                  </a:lnTo>
                  <a:lnTo>
                    <a:pt x="375" y="988"/>
                  </a:lnTo>
                  <a:lnTo>
                    <a:pt x="596" y="1063"/>
                  </a:lnTo>
                  <a:lnTo>
                    <a:pt x="725" y="1161"/>
                  </a:lnTo>
                  <a:lnTo>
                    <a:pt x="786" y="1148"/>
                  </a:lnTo>
                  <a:lnTo>
                    <a:pt x="831" y="1090"/>
                  </a:lnTo>
                  <a:lnTo>
                    <a:pt x="879" y="949"/>
                  </a:lnTo>
                  <a:lnTo>
                    <a:pt x="861" y="807"/>
                  </a:lnTo>
                  <a:lnTo>
                    <a:pt x="795" y="724"/>
                  </a:lnTo>
                  <a:lnTo>
                    <a:pt x="684" y="702"/>
                  </a:lnTo>
                  <a:lnTo>
                    <a:pt x="556" y="702"/>
                  </a:lnTo>
                  <a:lnTo>
                    <a:pt x="516" y="486"/>
                  </a:lnTo>
                  <a:lnTo>
                    <a:pt x="314" y="406"/>
                  </a:lnTo>
                  <a:lnTo>
                    <a:pt x="314" y="464"/>
                  </a:lnTo>
                  <a:lnTo>
                    <a:pt x="220" y="313"/>
                  </a:lnTo>
                  <a:lnTo>
                    <a:pt x="167" y="70"/>
                  </a:lnTo>
                  <a:lnTo>
                    <a:pt x="88" y="39"/>
                  </a:lnTo>
                  <a:lnTo>
                    <a:pt x="44" y="114"/>
                  </a:lnTo>
                  <a:lnTo>
                    <a:pt x="44" y="286"/>
                  </a:lnTo>
                  <a:lnTo>
                    <a:pt x="83" y="464"/>
                  </a:lnTo>
                  <a:lnTo>
                    <a:pt x="194" y="622"/>
                  </a:lnTo>
                  <a:lnTo>
                    <a:pt x="70" y="525"/>
                  </a:lnTo>
                  <a:lnTo>
                    <a:pt x="13" y="361"/>
                  </a:lnTo>
                  <a:lnTo>
                    <a:pt x="0" y="149"/>
                  </a:lnTo>
                  <a:lnTo>
                    <a:pt x="44" y="39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781680" y="1461960"/>
              <a:ext cx="219600" cy="419400"/>
            </a:xfrm>
            <a:custGeom>
              <a:avLst/>
              <a:gdLst/>
              <a:ahLst/>
              <a:rect l="0" t="0" r="r" b="b"/>
              <a:pathLst>
                <a:path w="610" h="1165">
                  <a:moveTo>
                    <a:pt x="610" y="0"/>
                  </a:moveTo>
                  <a:lnTo>
                    <a:pt x="482" y="79"/>
                  </a:lnTo>
                  <a:lnTo>
                    <a:pt x="336" y="357"/>
                  </a:lnTo>
                  <a:lnTo>
                    <a:pt x="190" y="542"/>
                  </a:lnTo>
                  <a:lnTo>
                    <a:pt x="13" y="763"/>
                  </a:lnTo>
                  <a:lnTo>
                    <a:pt x="0" y="878"/>
                  </a:lnTo>
                  <a:lnTo>
                    <a:pt x="35" y="979"/>
                  </a:lnTo>
                  <a:lnTo>
                    <a:pt x="119" y="979"/>
                  </a:lnTo>
                  <a:lnTo>
                    <a:pt x="234" y="878"/>
                  </a:lnTo>
                  <a:lnTo>
                    <a:pt x="322" y="666"/>
                  </a:lnTo>
                  <a:lnTo>
                    <a:pt x="446" y="542"/>
                  </a:lnTo>
                  <a:lnTo>
                    <a:pt x="446" y="715"/>
                  </a:lnTo>
                  <a:lnTo>
                    <a:pt x="428" y="865"/>
                  </a:lnTo>
                  <a:lnTo>
                    <a:pt x="296" y="1072"/>
                  </a:lnTo>
                  <a:lnTo>
                    <a:pt x="296" y="1138"/>
                  </a:lnTo>
                  <a:lnTo>
                    <a:pt x="428" y="1165"/>
                  </a:lnTo>
                  <a:lnTo>
                    <a:pt x="336" y="1103"/>
                  </a:lnTo>
                  <a:lnTo>
                    <a:pt x="349" y="1072"/>
                  </a:lnTo>
                  <a:lnTo>
                    <a:pt x="441" y="922"/>
                  </a:lnTo>
                  <a:lnTo>
                    <a:pt x="504" y="644"/>
                  </a:lnTo>
                  <a:lnTo>
                    <a:pt x="460" y="493"/>
                  </a:lnTo>
                  <a:lnTo>
                    <a:pt x="362" y="577"/>
                  </a:lnTo>
                  <a:lnTo>
                    <a:pt x="141" y="931"/>
                  </a:lnTo>
                  <a:lnTo>
                    <a:pt x="88" y="940"/>
                  </a:lnTo>
                  <a:lnTo>
                    <a:pt x="35" y="909"/>
                  </a:lnTo>
                  <a:lnTo>
                    <a:pt x="35" y="803"/>
                  </a:lnTo>
                  <a:lnTo>
                    <a:pt x="119" y="658"/>
                  </a:lnTo>
                  <a:lnTo>
                    <a:pt x="362" y="379"/>
                  </a:lnTo>
                  <a:lnTo>
                    <a:pt x="504" y="105"/>
                  </a:lnTo>
                  <a:lnTo>
                    <a:pt x="61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943680" y="1698480"/>
              <a:ext cx="136800" cy="200520"/>
            </a:xfrm>
            <a:custGeom>
              <a:avLst/>
              <a:gdLst/>
              <a:ahLst/>
              <a:rect l="0" t="0" r="r" b="b"/>
              <a:pathLst>
                <a:path w="380" h="557">
                  <a:moveTo>
                    <a:pt x="0" y="491"/>
                  </a:moveTo>
                  <a:lnTo>
                    <a:pt x="123" y="349"/>
                  </a:lnTo>
                  <a:lnTo>
                    <a:pt x="149" y="208"/>
                  </a:lnTo>
                  <a:lnTo>
                    <a:pt x="292" y="0"/>
                  </a:lnTo>
                  <a:lnTo>
                    <a:pt x="322" y="136"/>
                  </a:lnTo>
                  <a:lnTo>
                    <a:pt x="305" y="500"/>
                  </a:lnTo>
                  <a:lnTo>
                    <a:pt x="380" y="557"/>
                  </a:lnTo>
                  <a:lnTo>
                    <a:pt x="269" y="522"/>
                  </a:lnTo>
                  <a:lnTo>
                    <a:pt x="212" y="309"/>
                  </a:lnTo>
                  <a:lnTo>
                    <a:pt x="123" y="415"/>
                  </a:lnTo>
                  <a:lnTo>
                    <a:pt x="0" y="49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110360" y="1708200"/>
              <a:ext cx="89280" cy="181440"/>
            </a:xfrm>
            <a:custGeom>
              <a:avLst/>
              <a:gdLst/>
              <a:ahLst/>
              <a:rect l="0" t="0" r="r" b="b"/>
              <a:pathLst>
                <a:path w="248" h="504">
                  <a:moveTo>
                    <a:pt x="0" y="381"/>
                  </a:moveTo>
                  <a:lnTo>
                    <a:pt x="13" y="195"/>
                  </a:lnTo>
                  <a:lnTo>
                    <a:pt x="61" y="83"/>
                  </a:lnTo>
                  <a:lnTo>
                    <a:pt x="120" y="482"/>
                  </a:lnTo>
                  <a:lnTo>
                    <a:pt x="196" y="482"/>
                  </a:lnTo>
                  <a:lnTo>
                    <a:pt x="231" y="61"/>
                  </a:lnTo>
                  <a:lnTo>
                    <a:pt x="248" y="0"/>
                  </a:lnTo>
                  <a:lnTo>
                    <a:pt x="231" y="327"/>
                  </a:lnTo>
                  <a:lnTo>
                    <a:pt x="196" y="504"/>
                  </a:lnTo>
                  <a:lnTo>
                    <a:pt x="98" y="504"/>
                  </a:lnTo>
                  <a:lnTo>
                    <a:pt x="57" y="159"/>
                  </a:lnTo>
                  <a:lnTo>
                    <a:pt x="30" y="203"/>
                  </a:lnTo>
                  <a:lnTo>
                    <a:pt x="0" y="38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8251920" y="1001880"/>
              <a:ext cx="217800" cy="481320"/>
            </a:xfrm>
            <a:custGeom>
              <a:avLst/>
              <a:gdLst/>
              <a:ahLst/>
              <a:rect l="0" t="0" r="r" b="b"/>
              <a:pathLst>
                <a:path w="605" h="1337">
                  <a:moveTo>
                    <a:pt x="158" y="719"/>
                  </a:moveTo>
                  <a:lnTo>
                    <a:pt x="202" y="515"/>
                  </a:lnTo>
                  <a:lnTo>
                    <a:pt x="411" y="458"/>
                  </a:lnTo>
                  <a:lnTo>
                    <a:pt x="605" y="0"/>
                  </a:lnTo>
                  <a:lnTo>
                    <a:pt x="605" y="132"/>
                  </a:lnTo>
                  <a:lnTo>
                    <a:pt x="437" y="485"/>
                  </a:lnTo>
                  <a:lnTo>
                    <a:pt x="224" y="555"/>
                  </a:lnTo>
                  <a:lnTo>
                    <a:pt x="194" y="719"/>
                  </a:lnTo>
                  <a:lnTo>
                    <a:pt x="268" y="719"/>
                  </a:lnTo>
                  <a:lnTo>
                    <a:pt x="79" y="799"/>
                  </a:lnTo>
                  <a:lnTo>
                    <a:pt x="35" y="940"/>
                  </a:lnTo>
                  <a:lnTo>
                    <a:pt x="44" y="1125"/>
                  </a:lnTo>
                  <a:lnTo>
                    <a:pt x="246" y="1337"/>
                  </a:lnTo>
                  <a:lnTo>
                    <a:pt x="35" y="1147"/>
                  </a:lnTo>
                  <a:lnTo>
                    <a:pt x="0" y="997"/>
                  </a:lnTo>
                  <a:lnTo>
                    <a:pt x="13" y="834"/>
                  </a:lnTo>
                  <a:lnTo>
                    <a:pt x="92" y="733"/>
                  </a:lnTo>
                  <a:lnTo>
                    <a:pt x="158" y="71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8399520" y="1001880"/>
              <a:ext cx="362160" cy="464040"/>
            </a:xfrm>
            <a:custGeom>
              <a:avLst/>
              <a:gdLst/>
              <a:ahLst/>
              <a:rect l="0" t="0" r="r" b="b"/>
              <a:pathLst>
                <a:path w="1006" h="1289">
                  <a:moveTo>
                    <a:pt x="277" y="0"/>
                  </a:moveTo>
                  <a:lnTo>
                    <a:pt x="339" y="35"/>
                  </a:lnTo>
                  <a:lnTo>
                    <a:pt x="357" y="145"/>
                  </a:lnTo>
                  <a:lnTo>
                    <a:pt x="357" y="251"/>
                  </a:lnTo>
                  <a:lnTo>
                    <a:pt x="242" y="441"/>
                  </a:lnTo>
                  <a:lnTo>
                    <a:pt x="264" y="578"/>
                  </a:lnTo>
                  <a:lnTo>
                    <a:pt x="605" y="724"/>
                  </a:lnTo>
                  <a:lnTo>
                    <a:pt x="997" y="1135"/>
                  </a:lnTo>
                  <a:lnTo>
                    <a:pt x="1006" y="1245"/>
                  </a:lnTo>
                  <a:lnTo>
                    <a:pt x="984" y="1289"/>
                  </a:lnTo>
                  <a:lnTo>
                    <a:pt x="838" y="1289"/>
                  </a:lnTo>
                  <a:lnTo>
                    <a:pt x="706" y="1210"/>
                  </a:lnTo>
                  <a:lnTo>
                    <a:pt x="596" y="1077"/>
                  </a:lnTo>
                  <a:lnTo>
                    <a:pt x="538" y="1007"/>
                  </a:lnTo>
                  <a:lnTo>
                    <a:pt x="467" y="985"/>
                  </a:lnTo>
                  <a:lnTo>
                    <a:pt x="552" y="985"/>
                  </a:lnTo>
                  <a:lnTo>
                    <a:pt x="719" y="1197"/>
                  </a:lnTo>
                  <a:lnTo>
                    <a:pt x="927" y="1263"/>
                  </a:lnTo>
                  <a:lnTo>
                    <a:pt x="971" y="1197"/>
                  </a:lnTo>
                  <a:lnTo>
                    <a:pt x="949" y="1100"/>
                  </a:lnTo>
                  <a:lnTo>
                    <a:pt x="583" y="812"/>
                  </a:lnTo>
                  <a:lnTo>
                    <a:pt x="530" y="724"/>
                  </a:lnTo>
                  <a:lnTo>
                    <a:pt x="242" y="658"/>
                  </a:lnTo>
                  <a:lnTo>
                    <a:pt x="194" y="724"/>
                  </a:lnTo>
                  <a:lnTo>
                    <a:pt x="0" y="847"/>
                  </a:lnTo>
                  <a:lnTo>
                    <a:pt x="185" y="706"/>
                  </a:lnTo>
                  <a:lnTo>
                    <a:pt x="194" y="613"/>
                  </a:lnTo>
                  <a:lnTo>
                    <a:pt x="194" y="406"/>
                  </a:lnTo>
                  <a:lnTo>
                    <a:pt x="321" y="251"/>
                  </a:lnTo>
                  <a:lnTo>
                    <a:pt x="321" y="48"/>
                  </a:lnTo>
                  <a:lnTo>
                    <a:pt x="277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332920" y="1366920"/>
              <a:ext cx="308160" cy="276480"/>
            </a:xfrm>
            <a:custGeom>
              <a:avLst/>
              <a:gdLst/>
              <a:ahLst/>
              <a:rect l="0" t="0" r="r" b="b"/>
              <a:pathLst>
                <a:path w="856" h="768">
                  <a:moveTo>
                    <a:pt x="644" y="0"/>
                  </a:moveTo>
                  <a:lnTo>
                    <a:pt x="622" y="70"/>
                  </a:lnTo>
                  <a:lnTo>
                    <a:pt x="746" y="317"/>
                  </a:lnTo>
                  <a:lnTo>
                    <a:pt x="812" y="578"/>
                  </a:lnTo>
                  <a:lnTo>
                    <a:pt x="737" y="578"/>
                  </a:lnTo>
                  <a:lnTo>
                    <a:pt x="609" y="464"/>
                  </a:lnTo>
                  <a:lnTo>
                    <a:pt x="494" y="224"/>
                  </a:lnTo>
                  <a:lnTo>
                    <a:pt x="401" y="189"/>
                  </a:lnTo>
                  <a:lnTo>
                    <a:pt x="418" y="317"/>
                  </a:lnTo>
                  <a:lnTo>
                    <a:pt x="499" y="415"/>
                  </a:lnTo>
                  <a:lnTo>
                    <a:pt x="499" y="591"/>
                  </a:lnTo>
                  <a:lnTo>
                    <a:pt x="441" y="733"/>
                  </a:lnTo>
                  <a:lnTo>
                    <a:pt x="361" y="675"/>
                  </a:lnTo>
                  <a:lnTo>
                    <a:pt x="264" y="464"/>
                  </a:lnTo>
                  <a:lnTo>
                    <a:pt x="238" y="317"/>
                  </a:lnTo>
                  <a:lnTo>
                    <a:pt x="185" y="282"/>
                  </a:lnTo>
                  <a:lnTo>
                    <a:pt x="167" y="649"/>
                  </a:lnTo>
                  <a:lnTo>
                    <a:pt x="88" y="702"/>
                  </a:lnTo>
                  <a:lnTo>
                    <a:pt x="22" y="649"/>
                  </a:lnTo>
                  <a:lnTo>
                    <a:pt x="13" y="330"/>
                  </a:lnTo>
                  <a:lnTo>
                    <a:pt x="0" y="644"/>
                  </a:lnTo>
                  <a:lnTo>
                    <a:pt x="57" y="759"/>
                  </a:lnTo>
                  <a:lnTo>
                    <a:pt x="167" y="759"/>
                  </a:lnTo>
                  <a:lnTo>
                    <a:pt x="207" y="666"/>
                  </a:lnTo>
                  <a:lnTo>
                    <a:pt x="229" y="370"/>
                  </a:lnTo>
                  <a:lnTo>
                    <a:pt x="246" y="486"/>
                  </a:lnTo>
                  <a:lnTo>
                    <a:pt x="343" y="741"/>
                  </a:lnTo>
                  <a:lnTo>
                    <a:pt x="450" y="768"/>
                  </a:lnTo>
                  <a:lnTo>
                    <a:pt x="530" y="666"/>
                  </a:lnTo>
                  <a:lnTo>
                    <a:pt x="530" y="428"/>
                  </a:lnTo>
                  <a:lnTo>
                    <a:pt x="737" y="627"/>
                  </a:lnTo>
                  <a:lnTo>
                    <a:pt x="847" y="627"/>
                  </a:lnTo>
                  <a:lnTo>
                    <a:pt x="856" y="486"/>
                  </a:lnTo>
                  <a:lnTo>
                    <a:pt x="777" y="246"/>
                  </a:lnTo>
                  <a:lnTo>
                    <a:pt x="644" y="48"/>
                  </a:lnTo>
                  <a:lnTo>
                    <a:pt x="64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085160" y="1081080"/>
              <a:ext cx="1373400" cy="1127520"/>
            </a:xfrm>
            <a:custGeom>
              <a:avLst/>
              <a:gdLst/>
              <a:ahLst/>
              <a:rect l="0" t="0" r="r" b="b"/>
              <a:pathLst>
                <a:path w="3815" h="3132">
                  <a:moveTo>
                    <a:pt x="1371" y="260"/>
                  </a:moveTo>
                  <a:lnTo>
                    <a:pt x="1300" y="273"/>
                  </a:lnTo>
                  <a:lnTo>
                    <a:pt x="1195" y="432"/>
                  </a:lnTo>
                  <a:lnTo>
                    <a:pt x="1159" y="317"/>
                  </a:lnTo>
                  <a:lnTo>
                    <a:pt x="1036" y="251"/>
                  </a:lnTo>
                  <a:lnTo>
                    <a:pt x="943" y="304"/>
                  </a:lnTo>
                  <a:lnTo>
                    <a:pt x="908" y="511"/>
                  </a:lnTo>
                  <a:lnTo>
                    <a:pt x="564" y="758"/>
                  </a:lnTo>
                  <a:lnTo>
                    <a:pt x="586" y="865"/>
                  </a:lnTo>
                  <a:lnTo>
                    <a:pt x="502" y="957"/>
                  </a:lnTo>
                  <a:lnTo>
                    <a:pt x="502" y="1032"/>
                  </a:lnTo>
                  <a:lnTo>
                    <a:pt x="604" y="1271"/>
                  </a:lnTo>
                  <a:lnTo>
                    <a:pt x="608" y="1562"/>
                  </a:lnTo>
                  <a:lnTo>
                    <a:pt x="546" y="1831"/>
                  </a:lnTo>
                  <a:lnTo>
                    <a:pt x="299" y="1998"/>
                  </a:lnTo>
                  <a:lnTo>
                    <a:pt x="268" y="2223"/>
                  </a:lnTo>
                  <a:lnTo>
                    <a:pt x="194" y="2223"/>
                  </a:lnTo>
                  <a:lnTo>
                    <a:pt x="154" y="2038"/>
                  </a:lnTo>
                  <a:lnTo>
                    <a:pt x="79" y="2038"/>
                  </a:lnTo>
                  <a:lnTo>
                    <a:pt x="44" y="2236"/>
                  </a:lnTo>
                  <a:lnTo>
                    <a:pt x="0" y="2285"/>
                  </a:lnTo>
                  <a:lnTo>
                    <a:pt x="167" y="2559"/>
                  </a:lnTo>
                  <a:lnTo>
                    <a:pt x="291" y="2572"/>
                  </a:lnTo>
                  <a:lnTo>
                    <a:pt x="502" y="2771"/>
                  </a:lnTo>
                  <a:lnTo>
                    <a:pt x="701" y="2793"/>
                  </a:lnTo>
                  <a:lnTo>
                    <a:pt x="806" y="2687"/>
                  </a:lnTo>
                  <a:lnTo>
                    <a:pt x="1071" y="2302"/>
                  </a:lnTo>
                  <a:lnTo>
                    <a:pt x="1093" y="2819"/>
                  </a:lnTo>
                  <a:lnTo>
                    <a:pt x="1071" y="3132"/>
                  </a:lnTo>
                  <a:lnTo>
                    <a:pt x="3277" y="3132"/>
                  </a:lnTo>
                  <a:lnTo>
                    <a:pt x="3114" y="2793"/>
                  </a:lnTo>
                  <a:lnTo>
                    <a:pt x="3039" y="2502"/>
                  </a:lnTo>
                  <a:lnTo>
                    <a:pt x="3017" y="2077"/>
                  </a:lnTo>
                  <a:lnTo>
                    <a:pt x="3145" y="2166"/>
                  </a:lnTo>
                  <a:lnTo>
                    <a:pt x="3277" y="2166"/>
                  </a:lnTo>
                  <a:lnTo>
                    <a:pt x="3458" y="2051"/>
                  </a:lnTo>
                  <a:lnTo>
                    <a:pt x="3577" y="2038"/>
                  </a:lnTo>
                  <a:lnTo>
                    <a:pt x="3652" y="1923"/>
                  </a:lnTo>
                  <a:lnTo>
                    <a:pt x="3705" y="1632"/>
                  </a:lnTo>
                  <a:lnTo>
                    <a:pt x="3815" y="1504"/>
                  </a:lnTo>
                  <a:lnTo>
                    <a:pt x="3758" y="1420"/>
                  </a:lnTo>
                  <a:lnTo>
                    <a:pt x="3678" y="1420"/>
                  </a:lnTo>
                  <a:lnTo>
                    <a:pt x="3612" y="1478"/>
                  </a:lnTo>
                  <a:lnTo>
                    <a:pt x="3550" y="1495"/>
                  </a:lnTo>
                  <a:lnTo>
                    <a:pt x="3471" y="1420"/>
                  </a:lnTo>
                  <a:lnTo>
                    <a:pt x="3374" y="1412"/>
                  </a:lnTo>
                  <a:lnTo>
                    <a:pt x="3202" y="1301"/>
                  </a:lnTo>
                  <a:lnTo>
                    <a:pt x="3092" y="1182"/>
                  </a:lnTo>
                  <a:lnTo>
                    <a:pt x="3074" y="1032"/>
                  </a:lnTo>
                  <a:lnTo>
                    <a:pt x="3092" y="896"/>
                  </a:lnTo>
                  <a:lnTo>
                    <a:pt x="3167" y="785"/>
                  </a:lnTo>
                  <a:lnTo>
                    <a:pt x="3259" y="679"/>
                  </a:lnTo>
                  <a:lnTo>
                    <a:pt x="3250" y="498"/>
                  </a:lnTo>
                  <a:lnTo>
                    <a:pt x="3250" y="370"/>
                  </a:lnTo>
                  <a:lnTo>
                    <a:pt x="3202" y="273"/>
                  </a:lnTo>
                  <a:lnTo>
                    <a:pt x="3074" y="233"/>
                  </a:lnTo>
                  <a:lnTo>
                    <a:pt x="3030" y="211"/>
                  </a:lnTo>
                  <a:lnTo>
                    <a:pt x="2937" y="61"/>
                  </a:lnTo>
                  <a:lnTo>
                    <a:pt x="2862" y="13"/>
                  </a:lnTo>
                  <a:lnTo>
                    <a:pt x="2783" y="0"/>
                  </a:lnTo>
                  <a:lnTo>
                    <a:pt x="2717" y="26"/>
                  </a:lnTo>
                  <a:lnTo>
                    <a:pt x="2660" y="110"/>
                  </a:lnTo>
                  <a:lnTo>
                    <a:pt x="2576" y="154"/>
                  </a:lnTo>
                  <a:lnTo>
                    <a:pt x="2483" y="180"/>
                  </a:lnTo>
                  <a:lnTo>
                    <a:pt x="2377" y="180"/>
                  </a:lnTo>
                  <a:lnTo>
                    <a:pt x="2395" y="330"/>
                  </a:lnTo>
                  <a:lnTo>
                    <a:pt x="2395" y="524"/>
                  </a:lnTo>
                  <a:lnTo>
                    <a:pt x="2377" y="652"/>
                  </a:lnTo>
                  <a:lnTo>
                    <a:pt x="2285" y="807"/>
                  </a:lnTo>
                  <a:lnTo>
                    <a:pt x="2166" y="1041"/>
                  </a:lnTo>
                  <a:lnTo>
                    <a:pt x="2069" y="1328"/>
                  </a:lnTo>
                  <a:lnTo>
                    <a:pt x="2064" y="1495"/>
                  </a:lnTo>
                  <a:lnTo>
                    <a:pt x="2016" y="1641"/>
                  </a:lnTo>
                  <a:lnTo>
                    <a:pt x="1963" y="1782"/>
                  </a:lnTo>
                  <a:lnTo>
                    <a:pt x="1936" y="2011"/>
                  </a:lnTo>
                  <a:lnTo>
                    <a:pt x="1950" y="2201"/>
                  </a:lnTo>
                  <a:lnTo>
                    <a:pt x="2016" y="2422"/>
                  </a:lnTo>
                  <a:lnTo>
                    <a:pt x="2064" y="2502"/>
                  </a:lnTo>
                  <a:lnTo>
                    <a:pt x="1936" y="2586"/>
                  </a:lnTo>
                  <a:lnTo>
                    <a:pt x="1781" y="2639"/>
                  </a:lnTo>
                  <a:lnTo>
                    <a:pt x="1609" y="2656"/>
                  </a:lnTo>
                  <a:lnTo>
                    <a:pt x="1503" y="2656"/>
                  </a:lnTo>
                  <a:lnTo>
                    <a:pt x="1437" y="2621"/>
                  </a:lnTo>
                  <a:lnTo>
                    <a:pt x="1437" y="2436"/>
                  </a:lnTo>
                  <a:lnTo>
                    <a:pt x="1437" y="2157"/>
                  </a:lnTo>
                  <a:lnTo>
                    <a:pt x="1397" y="1888"/>
                  </a:lnTo>
                  <a:lnTo>
                    <a:pt x="1327" y="1641"/>
                  </a:lnTo>
                  <a:lnTo>
                    <a:pt x="1296" y="1447"/>
                  </a:lnTo>
                  <a:lnTo>
                    <a:pt x="1283" y="1165"/>
                  </a:lnTo>
                  <a:lnTo>
                    <a:pt x="1327" y="922"/>
                  </a:lnTo>
                  <a:lnTo>
                    <a:pt x="1397" y="723"/>
                  </a:lnTo>
                  <a:lnTo>
                    <a:pt x="1402" y="621"/>
                  </a:lnTo>
                  <a:lnTo>
                    <a:pt x="1371" y="449"/>
                  </a:lnTo>
                  <a:lnTo>
                    <a:pt x="1371" y="317"/>
                  </a:lnTo>
                  <a:lnTo>
                    <a:pt x="1397" y="273"/>
                  </a:lnTo>
                  <a:lnTo>
                    <a:pt x="1371" y="26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620120" y="1306440"/>
              <a:ext cx="173520" cy="733680"/>
            </a:xfrm>
            <a:custGeom>
              <a:avLst/>
              <a:gdLst/>
              <a:ahLst/>
              <a:rect l="0" t="0" r="r" b="b"/>
              <a:pathLst>
                <a:path w="482" h="2038">
                  <a:moveTo>
                    <a:pt x="190" y="22"/>
                  </a:moveTo>
                  <a:lnTo>
                    <a:pt x="61" y="92"/>
                  </a:lnTo>
                  <a:lnTo>
                    <a:pt x="74" y="286"/>
                  </a:lnTo>
                  <a:lnTo>
                    <a:pt x="168" y="339"/>
                  </a:lnTo>
                  <a:lnTo>
                    <a:pt x="57" y="555"/>
                  </a:lnTo>
                  <a:lnTo>
                    <a:pt x="0" y="789"/>
                  </a:lnTo>
                  <a:lnTo>
                    <a:pt x="0" y="1014"/>
                  </a:lnTo>
                  <a:lnTo>
                    <a:pt x="57" y="1218"/>
                  </a:lnTo>
                  <a:lnTo>
                    <a:pt x="101" y="1473"/>
                  </a:lnTo>
                  <a:lnTo>
                    <a:pt x="101" y="1614"/>
                  </a:lnTo>
                  <a:lnTo>
                    <a:pt x="57" y="1791"/>
                  </a:lnTo>
                  <a:lnTo>
                    <a:pt x="247" y="2038"/>
                  </a:lnTo>
                  <a:lnTo>
                    <a:pt x="331" y="2003"/>
                  </a:lnTo>
                  <a:lnTo>
                    <a:pt x="385" y="1826"/>
                  </a:lnTo>
                  <a:lnTo>
                    <a:pt x="473" y="1601"/>
                  </a:lnTo>
                  <a:lnTo>
                    <a:pt x="482" y="1487"/>
                  </a:lnTo>
                  <a:lnTo>
                    <a:pt x="407" y="1262"/>
                  </a:lnTo>
                  <a:lnTo>
                    <a:pt x="318" y="1046"/>
                  </a:lnTo>
                  <a:lnTo>
                    <a:pt x="283" y="881"/>
                  </a:lnTo>
                  <a:lnTo>
                    <a:pt x="283" y="740"/>
                  </a:lnTo>
                  <a:lnTo>
                    <a:pt x="318" y="612"/>
                  </a:lnTo>
                  <a:lnTo>
                    <a:pt x="385" y="445"/>
                  </a:lnTo>
                  <a:lnTo>
                    <a:pt x="385" y="383"/>
                  </a:lnTo>
                  <a:lnTo>
                    <a:pt x="349" y="313"/>
                  </a:lnTo>
                  <a:lnTo>
                    <a:pt x="442" y="229"/>
                  </a:lnTo>
                  <a:lnTo>
                    <a:pt x="442" y="149"/>
                  </a:lnTo>
                  <a:lnTo>
                    <a:pt x="318" y="0"/>
                  </a:lnTo>
                  <a:lnTo>
                    <a:pt x="420" y="149"/>
                  </a:lnTo>
                  <a:lnTo>
                    <a:pt x="420" y="220"/>
                  </a:lnTo>
                  <a:lnTo>
                    <a:pt x="327" y="286"/>
                  </a:lnTo>
                  <a:lnTo>
                    <a:pt x="363" y="383"/>
                  </a:lnTo>
                  <a:lnTo>
                    <a:pt x="349" y="445"/>
                  </a:lnTo>
                  <a:lnTo>
                    <a:pt x="261" y="635"/>
                  </a:lnTo>
                  <a:lnTo>
                    <a:pt x="247" y="820"/>
                  </a:lnTo>
                  <a:lnTo>
                    <a:pt x="269" y="987"/>
                  </a:lnTo>
                  <a:lnTo>
                    <a:pt x="331" y="1231"/>
                  </a:lnTo>
                  <a:lnTo>
                    <a:pt x="407" y="1425"/>
                  </a:lnTo>
                  <a:lnTo>
                    <a:pt x="407" y="1592"/>
                  </a:lnTo>
                  <a:lnTo>
                    <a:pt x="363" y="1791"/>
                  </a:lnTo>
                  <a:lnTo>
                    <a:pt x="269" y="2003"/>
                  </a:lnTo>
                  <a:lnTo>
                    <a:pt x="159" y="1888"/>
                  </a:lnTo>
                  <a:lnTo>
                    <a:pt x="114" y="1791"/>
                  </a:lnTo>
                  <a:lnTo>
                    <a:pt x="124" y="1592"/>
                  </a:lnTo>
                  <a:lnTo>
                    <a:pt x="114" y="1390"/>
                  </a:lnTo>
                  <a:lnTo>
                    <a:pt x="57" y="1116"/>
                  </a:lnTo>
                  <a:lnTo>
                    <a:pt x="35" y="939"/>
                  </a:lnTo>
                  <a:lnTo>
                    <a:pt x="57" y="727"/>
                  </a:lnTo>
                  <a:lnTo>
                    <a:pt x="101" y="529"/>
                  </a:lnTo>
                  <a:lnTo>
                    <a:pt x="203" y="326"/>
                  </a:lnTo>
                  <a:lnTo>
                    <a:pt x="114" y="242"/>
                  </a:lnTo>
                  <a:lnTo>
                    <a:pt x="101" y="101"/>
                  </a:lnTo>
                  <a:lnTo>
                    <a:pt x="190" y="2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113680" y="450720"/>
              <a:ext cx="275040" cy="357480"/>
            </a:xfrm>
            <a:custGeom>
              <a:avLst/>
              <a:gdLst/>
              <a:ahLst/>
              <a:rect l="0" t="0" r="r" b="b"/>
              <a:pathLst>
                <a:path w="764" h="993">
                  <a:moveTo>
                    <a:pt x="127" y="251"/>
                  </a:moveTo>
                  <a:lnTo>
                    <a:pt x="239" y="233"/>
                  </a:lnTo>
                  <a:lnTo>
                    <a:pt x="349" y="238"/>
                  </a:lnTo>
                  <a:lnTo>
                    <a:pt x="437" y="286"/>
                  </a:lnTo>
                  <a:lnTo>
                    <a:pt x="490" y="335"/>
                  </a:lnTo>
                  <a:lnTo>
                    <a:pt x="512" y="392"/>
                  </a:lnTo>
                  <a:lnTo>
                    <a:pt x="512" y="436"/>
                  </a:lnTo>
                  <a:lnTo>
                    <a:pt x="486" y="467"/>
                  </a:lnTo>
                  <a:lnTo>
                    <a:pt x="437" y="489"/>
                  </a:lnTo>
                  <a:lnTo>
                    <a:pt x="380" y="493"/>
                  </a:lnTo>
                  <a:lnTo>
                    <a:pt x="309" y="480"/>
                  </a:lnTo>
                  <a:lnTo>
                    <a:pt x="243" y="440"/>
                  </a:lnTo>
                  <a:lnTo>
                    <a:pt x="195" y="405"/>
                  </a:lnTo>
                  <a:lnTo>
                    <a:pt x="171" y="534"/>
                  </a:lnTo>
                  <a:lnTo>
                    <a:pt x="127" y="627"/>
                  </a:lnTo>
                  <a:lnTo>
                    <a:pt x="0" y="825"/>
                  </a:lnTo>
                  <a:lnTo>
                    <a:pt x="185" y="993"/>
                  </a:lnTo>
                  <a:lnTo>
                    <a:pt x="327" y="728"/>
                  </a:lnTo>
                  <a:lnTo>
                    <a:pt x="486" y="750"/>
                  </a:lnTo>
                  <a:lnTo>
                    <a:pt x="584" y="733"/>
                  </a:lnTo>
                  <a:lnTo>
                    <a:pt x="676" y="666"/>
                  </a:lnTo>
                  <a:lnTo>
                    <a:pt x="734" y="587"/>
                  </a:lnTo>
                  <a:lnTo>
                    <a:pt x="764" y="480"/>
                  </a:lnTo>
                  <a:lnTo>
                    <a:pt x="764" y="374"/>
                  </a:lnTo>
                  <a:lnTo>
                    <a:pt x="734" y="260"/>
                  </a:lnTo>
                  <a:lnTo>
                    <a:pt x="676" y="149"/>
                  </a:lnTo>
                  <a:lnTo>
                    <a:pt x="597" y="70"/>
                  </a:lnTo>
                  <a:lnTo>
                    <a:pt x="499" y="22"/>
                  </a:lnTo>
                  <a:lnTo>
                    <a:pt x="389" y="0"/>
                  </a:lnTo>
                  <a:lnTo>
                    <a:pt x="252" y="0"/>
                  </a:lnTo>
                  <a:lnTo>
                    <a:pt x="101" y="26"/>
                  </a:lnTo>
                  <a:lnTo>
                    <a:pt x="127" y="251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066160" y="795240"/>
              <a:ext cx="98640" cy="71640"/>
            </a:xfrm>
            <a:custGeom>
              <a:avLst/>
              <a:gdLst/>
              <a:ahLst/>
              <a:rect l="0" t="0" r="r" b="b"/>
              <a:pathLst>
                <a:path w="274" h="199">
                  <a:moveTo>
                    <a:pt x="110" y="0"/>
                  </a:moveTo>
                  <a:lnTo>
                    <a:pt x="39" y="0"/>
                  </a:lnTo>
                  <a:lnTo>
                    <a:pt x="0" y="26"/>
                  </a:lnTo>
                  <a:lnTo>
                    <a:pt x="0" y="102"/>
                  </a:lnTo>
                  <a:lnTo>
                    <a:pt x="57" y="172"/>
                  </a:lnTo>
                  <a:lnTo>
                    <a:pt x="164" y="199"/>
                  </a:lnTo>
                  <a:lnTo>
                    <a:pt x="247" y="195"/>
                  </a:lnTo>
                  <a:lnTo>
                    <a:pt x="274" y="146"/>
                  </a:lnTo>
                  <a:lnTo>
                    <a:pt x="261" y="106"/>
                  </a:lnTo>
                  <a:lnTo>
                    <a:pt x="221" y="44"/>
                  </a:lnTo>
                  <a:lnTo>
                    <a:pt x="155" y="8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/>
          <p:nvPr/>
        </p:nvSpPr>
        <p:spPr>
          <a:xfrm>
            <a:off x="2400480" y="1871640"/>
            <a:ext cx="6248520" cy="3886200"/>
          </a:xfrm>
          <a:prstGeom prst="rect">
            <a:avLst/>
          </a:prstGeom>
          <a:solidFill>
            <a:srgbClr val="ffffff"/>
          </a:solidFill>
          <a:ln w="152280">
            <a:solidFill>
              <a:srgbClr val="996633"/>
            </a:solidFill>
            <a:round/>
          </a:ln>
        </p:spPr>
        <p:txBody>
          <a:bodyPr lIns="165960" rIns="165960" tIns="120960" bIns="12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2628720" y="2087640"/>
            <a:ext cx="586728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dentify the types of long-term assets and explain the management issues related to accounting for them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istinguish between capital and revenue expenditures, and account for the cost of property, plant, and equipmen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epreciation,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tate the factors that affect its computation, and show how to record i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6" name="" descr=""/>
          <p:cNvPicPr/>
          <p:nvPr/>
        </p:nvPicPr>
        <p:blipFill>
          <a:blip r:embed="rId1"/>
          <a:stretch/>
        </p:blipFill>
        <p:spPr>
          <a:xfrm>
            <a:off x="1819440" y="298440"/>
            <a:ext cx="5618160" cy="1635120"/>
          </a:xfrm>
          <a:prstGeom prst="rect">
            <a:avLst/>
          </a:prstGeom>
          <a:ln w="0">
            <a:noFill/>
          </a:ln>
        </p:spPr>
      </p:pic>
      <p:sp>
        <p:nvSpPr>
          <p:cNvPr id="687" name=""/>
          <p:cNvSpPr txBox="1"/>
          <p:nvPr/>
        </p:nvSpPr>
        <p:spPr>
          <a:xfrm>
            <a:off x="2379600" y="519120"/>
            <a:ext cx="401328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K, LET’S REVIEW . .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682560" y="1243080"/>
            <a:ext cx="1525680" cy="4901040"/>
            <a:chOff x="682560" y="1243080"/>
            <a:chExt cx="1525680" cy="4901040"/>
          </a:xfrm>
        </p:grpSpPr>
        <p:grpSp>
          <p:nvGrpSpPr>
            <p:cNvPr id="689" name=""/>
            <p:cNvGrpSpPr/>
            <p:nvPr/>
          </p:nvGrpSpPr>
          <p:grpSpPr>
            <a:xfrm>
              <a:off x="1162080" y="1243080"/>
              <a:ext cx="506880" cy="1373400"/>
              <a:chOff x="1162080" y="1243080"/>
              <a:chExt cx="506880" cy="1373400"/>
            </a:xfrm>
          </p:grpSpPr>
          <p:sp>
            <p:nvSpPr>
              <p:cNvPr id="690" name=""/>
              <p:cNvSpPr/>
              <p:nvPr/>
            </p:nvSpPr>
            <p:spPr>
              <a:xfrm>
                <a:off x="1227240" y="1811160"/>
                <a:ext cx="343440" cy="805320"/>
              </a:xfrm>
              <a:custGeom>
                <a:avLst/>
                <a:gdLst/>
                <a:ahLst/>
                <a:rect l="0" t="0" r="r" b="b"/>
                <a:pathLst>
                  <a:path w="954" h="2237">
                    <a:moveTo>
                      <a:pt x="171" y="0"/>
                    </a:moveTo>
                    <a:lnTo>
                      <a:pt x="158" y="101"/>
                    </a:lnTo>
                    <a:lnTo>
                      <a:pt x="132" y="207"/>
                    </a:lnTo>
                    <a:lnTo>
                      <a:pt x="0" y="471"/>
                    </a:lnTo>
                    <a:lnTo>
                      <a:pt x="441" y="2237"/>
                    </a:lnTo>
                    <a:lnTo>
                      <a:pt x="954" y="529"/>
                    </a:lnTo>
                    <a:lnTo>
                      <a:pt x="844" y="295"/>
                    </a:lnTo>
                    <a:lnTo>
                      <a:pt x="808" y="207"/>
                    </a:lnTo>
                    <a:lnTo>
                      <a:pt x="791" y="149"/>
                    </a:lnTo>
                    <a:lnTo>
                      <a:pt x="786" y="17"/>
                    </a:lnTo>
                    <a:lnTo>
                      <a:pt x="17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1295280" y="1827360"/>
                <a:ext cx="282960" cy="294120"/>
              </a:xfrm>
              <a:custGeom>
                <a:avLst/>
                <a:gdLst/>
                <a:ahLst/>
                <a:rect l="0" t="0" r="r" b="b"/>
                <a:pathLst>
                  <a:path w="786" h="817">
                    <a:moveTo>
                      <a:pt x="0" y="0"/>
                    </a:moveTo>
                    <a:lnTo>
                      <a:pt x="8" y="44"/>
                    </a:lnTo>
                    <a:lnTo>
                      <a:pt x="17" y="74"/>
                    </a:lnTo>
                    <a:lnTo>
                      <a:pt x="35" y="114"/>
                    </a:lnTo>
                    <a:lnTo>
                      <a:pt x="52" y="158"/>
                    </a:lnTo>
                    <a:lnTo>
                      <a:pt x="79" y="189"/>
                    </a:lnTo>
                    <a:lnTo>
                      <a:pt x="101" y="230"/>
                    </a:lnTo>
                    <a:lnTo>
                      <a:pt x="136" y="261"/>
                    </a:lnTo>
                    <a:lnTo>
                      <a:pt x="176" y="292"/>
                    </a:lnTo>
                    <a:lnTo>
                      <a:pt x="234" y="314"/>
                    </a:lnTo>
                    <a:lnTo>
                      <a:pt x="287" y="327"/>
                    </a:lnTo>
                    <a:lnTo>
                      <a:pt x="322" y="349"/>
                    </a:lnTo>
                    <a:lnTo>
                      <a:pt x="340" y="362"/>
                    </a:lnTo>
                    <a:lnTo>
                      <a:pt x="349" y="384"/>
                    </a:lnTo>
                    <a:lnTo>
                      <a:pt x="349" y="415"/>
                    </a:lnTo>
                    <a:lnTo>
                      <a:pt x="371" y="402"/>
                    </a:lnTo>
                    <a:lnTo>
                      <a:pt x="397" y="389"/>
                    </a:lnTo>
                    <a:lnTo>
                      <a:pt x="415" y="393"/>
                    </a:lnTo>
                    <a:lnTo>
                      <a:pt x="424" y="415"/>
                    </a:lnTo>
                    <a:lnTo>
                      <a:pt x="424" y="446"/>
                    </a:lnTo>
                    <a:lnTo>
                      <a:pt x="424" y="472"/>
                    </a:lnTo>
                    <a:lnTo>
                      <a:pt x="358" y="817"/>
                    </a:lnTo>
                    <a:lnTo>
                      <a:pt x="525" y="419"/>
                    </a:lnTo>
                    <a:lnTo>
                      <a:pt x="556" y="419"/>
                    </a:lnTo>
                    <a:lnTo>
                      <a:pt x="587" y="424"/>
                    </a:lnTo>
                    <a:lnTo>
                      <a:pt x="614" y="437"/>
                    </a:lnTo>
                    <a:lnTo>
                      <a:pt x="663" y="455"/>
                    </a:lnTo>
                    <a:lnTo>
                      <a:pt x="698" y="459"/>
                    </a:lnTo>
                    <a:lnTo>
                      <a:pt x="747" y="472"/>
                    </a:lnTo>
                    <a:lnTo>
                      <a:pt x="786" y="472"/>
                    </a:lnTo>
                    <a:lnTo>
                      <a:pt x="760" y="419"/>
                    </a:lnTo>
                    <a:lnTo>
                      <a:pt x="725" y="371"/>
                    </a:lnTo>
                    <a:lnTo>
                      <a:pt x="703" y="322"/>
                    </a:lnTo>
                    <a:lnTo>
                      <a:pt x="676" y="283"/>
                    </a:lnTo>
                    <a:lnTo>
                      <a:pt x="663" y="252"/>
                    </a:lnTo>
                    <a:lnTo>
                      <a:pt x="645" y="217"/>
                    </a:lnTo>
                    <a:lnTo>
                      <a:pt x="597" y="26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2"/>
                <a:tile tx="0" ty="0" sx="133018" sy="133018" algn="ctr"/>
              </a:blipFill>
              <a:ln w="12600">
                <a:solidFill>
                  <a:srgbClr val="fc5853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1235160" y="1270080"/>
                <a:ext cx="360720" cy="619560"/>
              </a:xfrm>
              <a:custGeom>
                <a:avLst/>
                <a:gdLst/>
                <a:ahLst/>
                <a:rect l="0" t="0" r="r" b="b"/>
                <a:pathLst>
                  <a:path w="1002" h="1721">
                    <a:moveTo>
                      <a:pt x="971" y="922"/>
                    </a:moveTo>
                    <a:lnTo>
                      <a:pt x="962" y="1028"/>
                    </a:lnTo>
                    <a:lnTo>
                      <a:pt x="935" y="1121"/>
                    </a:lnTo>
                    <a:lnTo>
                      <a:pt x="931" y="1182"/>
                    </a:lnTo>
                    <a:lnTo>
                      <a:pt x="927" y="1240"/>
                    </a:lnTo>
                    <a:lnTo>
                      <a:pt x="904" y="1316"/>
                    </a:lnTo>
                    <a:lnTo>
                      <a:pt x="887" y="1408"/>
                    </a:lnTo>
                    <a:lnTo>
                      <a:pt x="865" y="1474"/>
                    </a:lnTo>
                    <a:lnTo>
                      <a:pt x="830" y="1523"/>
                    </a:lnTo>
                    <a:lnTo>
                      <a:pt x="790" y="1567"/>
                    </a:lnTo>
                    <a:lnTo>
                      <a:pt x="755" y="1624"/>
                    </a:lnTo>
                    <a:lnTo>
                      <a:pt x="688" y="1664"/>
                    </a:lnTo>
                    <a:lnTo>
                      <a:pt x="644" y="1699"/>
                    </a:lnTo>
                    <a:lnTo>
                      <a:pt x="578" y="1712"/>
                    </a:lnTo>
                    <a:lnTo>
                      <a:pt x="489" y="1721"/>
                    </a:lnTo>
                    <a:lnTo>
                      <a:pt x="410" y="1712"/>
                    </a:lnTo>
                    <a:lnTo>
                      <a:pt x="366" y="1690"/>
                    </a:lnTo>
                    <a:lnTo>
                      <a:pt x="299" y="1646"/>
                    </a:lnTo>
                    <a:lnTo>
                      <a:pt x="260" y="1607"/>
                    </a:lnTo>
                    <a:lnTo>
                      <a:pt x="211" y="1571"/>
                    </a:lnTo>
                    <a:lnTo>
                      <a:pt x="176" y="1536"/>
                    </a:lnTo>
                    <a:lnTo>
                      <a:pt x="132" y="1479"/>
                    </a:lnTo>
                    <a:lnTo>
                      <a:pt x="105" y="1435"/>
                    </a:lnTo>
                    <a:lnTo>
                      <a:pt x="97" y="1386"/>
                    </a:lnTo>
                    <a:lnTo>
                      <a:pt x="74" y="1338"/>
                    </a:lnTo>
                    <a:lnTo>
                      <a:pt x="70" y="1279"/>
                    </a:lnTo>
                    <a:lnTo>
                      <a:pt x="66" y="1226"/>
                    </a:lnTo>
                    <a:lnTo>
                      <a:pt x="52" y="1182"/>
                    </a:lnTo>
                    <a:lnTo>
                      <a:pt x="48" y="1125"/>
                    </a:lnTo>
                    <a:lnTo>
                      <a:pt x="30" y="1041"/>
                    </a:lnTo>
                    <a:lnTo>
                      <a:pt x="4" y="944"/>
                    </a:lnTo>
                    <a:lnTo>
                      <a:pt x="0" y="794"/>
                    </a:lnTo>
                    <a:lnTo>
                      <a:pt x="0" y="662"/>
                    </a:lnTo>
                    <a:lnTo>
                      <a:pt x="4" y="525"/>
                    </a:lnTo>
                    <a:lnTo>
                      <a:pt x="17" y="401"/>
                    </a:lnTo>
                    <a:lnTo>
                      <a:pt x="39" y="317"/>
                    </a:lnTo>
                    <a:lnTo>
                      <a:pt x="66" y="229"/>
                    </a:lnTo>
                    <a:lnTo>
                      <a:pt x="114" y="136"/>
                    </a:lnTo>
                    <a:lnTo>
                      <a:pt x="163" y="83"/>
                    </a:lnTo>
                    <a:lnTo>
                      <a:pt x="229" y="48"/>
                    </a:lnTo>
                    <a:lnTo>
                      <a:pt x="339" y="17"/>
                    </a:lnTo>
                    <a:lnTo>
                      <a:pt x="449" y="0"/>
                    </a:lnTo>
                    <a:lnTo>
                      <a:pt x="574" y="0"/>
                    </a:lnTo>
                    <a:lnTo>
                      <a:pt x="728" y="8"/>
                    </a:lnTo>
                    <a:lnTo>
                      <a:pt x="812" y="30"/>
                    </a:lnTo>
                    <a:lnTo>
                      <a:pt x="865" y="74"/>
                    </a:lnTo>
                    <a:lnTo>
                      <a:pt x="927" y="136"/>
                    </a:lnTo>
                    <a:lnTo>
                      <a:pt x="953" y="229"/>
                    </a:lnTo>
                    <a:lnTo>
                      <a:pt x="988" y="343"/>
                    </a:lnTo>
                    <a:lnTo>
                      <a:pt x="1002" y="472"/>
                    </a:lnTo>
                    <a:lnTo>
                      <a:pt x="1002" y="565"/>
                    </a:lnTo>
                    <a:lnTo>
                      <a:pt x="1002" y="737"/>
                    </a:lnTo>
                    <a:lnTo>
                      <a:pt x="988" y="856"/>
                    </a:lnTo>
                    <a:lnTo>
                      <a:pt x="971" y="922"/>
                    </a:lnTo>
                    <a:close/>
                  </a:path>
                </a:pathLst>
              </a:custGeom>
              <a:solidFill>
                <a:srgbClr val="ffdfb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496880" y="1301760"/>
                <a:ext cx="95760" cy="563760"/>
              </a:xfrm>
              <a:custGeom>
                <a:avLst/>
                <a:gdLst/>
                <a:ahLst/>
                <a:rect l="0" t="0" r="r" b="b"/>
                <a:pathLst>
                  <a:path w="266" h="1566">
                    <a:moveTo>
                      <a:pt x="240" y="847"/>
                    </a:moveTo>
                    <a:lnTo>
                      <a:pt x="231" y="944"/>
                    </a:lnTo>
                    <a:lnTo>
                      <a:pt x="209" y="1041"/>
                    </a:lnTo>
                    <a:lnTo>
                      <a:pt x="204" y="1103"/>
                    </a:lnTo>
                    <a:lnTo>
                      <a:pt x="195" y="1165"/>
                    </a:lnTo>
                    <a:lnTo>
                      <a:pt x="181" y="1240"/>
                    </a:lnTo>
                    <a:lnTo>
                      <a:pt x="172" y="1306"/>
                    </a:lnTo>
                    <a:lnTo>
                      <a:pt x="159" y="1368"/>
                    </a:lnTo>
                    <a:lnTo>
                      <a:pt x="133" y="1398"/>
                    </a:lnTo>
                    <a:lnTo>
                      <a:pt x="111" y="1447"/>
                    </a:lnTo>
                    <a:lnTo>
                      <a:pt x="61" y="1509"/>
                    </a:lnTo>
                    <a:lnTo>
                      <a:pt x="0" y="1566"/>
                    </a:lnTo>
                    <a:lnTo>
                      <a:pt x="35" y="1535"/>
                    </a:lnTo>
                    <a:lnTo>
                      <a:pt x="61" y="1478"/>
                    </a:lnTo>
                    <a:lnTo>
                      <a:pt x="80" y="1429"/>
                    </a:lnTo>
                    <a:lnTo>
                      <a:pt x="93" y="1385"/>
                    </a:lnTo>
                    <a:lnTo>
                      <a:pt x="93" y="1328"/>
                    </a:lnTo>
                    <a:lnTo>
                      <a:pt x="93" y="1293"/>
                    </a:lnTo>
                    <a:lnTo>
                      <a:pt x="75" y="1231"/>
                    </a:lnTo>
                    <a:lnTo>
                      <a:pt x="93" y="1218"/>
                    </a:lnTo>
                    <a:lnTo>
                      <a:pt x="124" y="1169"/>
                    </a:lnTo>
                    <a:lnTo>
                      <a:pt x="142" y="1129"/>
                    </a:lnTo>
                    <a:lnTo>
                      <a:pt x="159" y="1081"/>
                    </a:lnTo>
                    <a:lnTo>
                      <a:pt x="168" y="1015"/>
                    </a:lnTo>
                    <a:lnTo>
                      <a:pt x="177" y="957"/>
                    </a:lnTo>
                    <a:lnTo>
                      <a:pt x="177" y="913"/>
                    </a:lnTo>
                    <a:lnTo>
                      <a:pt x="177" y="878"/>
                    </a:lnTo>
                    <a:lnTo>
                      <a:pt x="168" y="847"/>
                    </a:lnTo>
                    <a:lnTo>
                      <a:pt x="146" y="816"/>
                    </a:lnTo>
                    <a:lnTo>
                      <a:pt x="159" y="790"/>
                    </a:lnTo>
                    <a:lnTo>
                      <a:pt x="168" y="762"/>
                    </a:lnTo>
                    <a:lnTo>
                      <a:pt x="177" y="709"/>
                    </a:lnTo>
                    <a:lnTo>
                      <a:pt x="137" y="670"/>
                    </a:lnTo>
                    <a:lnTo>
                      <a:pt x="120" y="661"/>
                    </a:lnTo>
                    <a:lnTo>
                      <a:pt x="133" y="630"/>
                    </a:lnTo>
                    <a:lnTo>
                      <a:pt x="142" y="586"/>
                    </a:lnTo>
                    <a:lnTo>
                      <a:pt x="146" y="551"/>
                    </a:lnTo>
                    <a:lnTo>
                      <a:pt x="142" y="493"/>
                    </a:lnTo>
                    <a:lnTo>
                      <a:pt x="133" y="463"/>
                    </a:lnTo>
                    <a:lnTo>
                      <a:pt x="120" y="414"/>
                    </a:lnTo>
                    <a:lnTo>
                      <a:pt x="67" y="343"/>
                    </a:lnTo>
                    <a:lnTo>
                      <a:pt x="35" y="299"/>
                    </a:lnTo>
                    <a:lnTo>
                      <a:pt x="0" y="242"/>
                    </a:lnTo>
                    <a:lnTo>
                      <a:pt x="8" y="171"/>
                    </a:lnTo>
                    <a:lnTo>
                      <a:pt x="35" y="105"/>
                    </a:lnTo>
                    <a:lnTo>
                      <a:pt x="75" y="22"/>
                    </a:lnTo>
                    <a:lnTo>
                      <a:pt x="137" y="0"/>
                    </a:lnTo>
                    <a:lnTo>
                      <a:pt x="186" y="52"/>
                    </a:lnTo>
                    <a:lnTo>
                      <a:pt x="222" y="145"/>
                    </a:lnTo>
                    <a:lnTo>
                      <a:pt x="253" y="264"/>
                    </a:lnTo>
                    <a:lnTo>
                      <a:pt x="262" y="388"/>
                    </a:lnTo>
                    <a:lnTo>
                      <a:pt x="266" y="485"/>
                    </a:lnTo>
                    <a:lnTo>
                      <a:pt x="262" y="652"/>
                    </a:lnTo>
                    <a:lnTo>
                      <a:pt x="253" y="771"/>
                    </a:lnTo>
                    <a:lnTo>
                      <a:pt x="240" y="847"/>
                    </a:lnTo>
                    <a:close/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1344600" y="1776240"/>
                <a:ext cx="149760" cy="32040"/>
              </a:xfrm>
              <a:custGeom>
                <a:avLst/>
                <a:gdLst/>
                <a:ahLst/>
                <a:rect l="0" t="0" r="r" b="b"/>
                <a:pathLst>
                  <a:path w="416" h="89">
                    <a:moveTo>
                      <a:pt x="0" y="4"/>
                    </a:moveTo>
                    <a:lnTo>
                      <a:pt x="22" y="8"/>
                    </a:lnTo>
                    <a:lnTo>
                      <a:pt x="57" y="8"/>
                    </a:lnTo>
                    <a:lnTo>
                      <a:pt x="92" y="4"/>
                    </a:lnTo>
                    <a:lnTo>
                      <a:pt x="115" y="4"/>
                    </a:lnTo>
                    <a:lnTo>
                      <a:pt x="137" y="4"/>
                    </a:lnTo>
                    <a:lnTo>
                      <a:pt x="164" y="4"/>
                    </a:lnTo>
                    <a:lnTo>
                      <a:pt x="186" y="4"/>
                    </a:lnTo>
                    <a:lnTo>
                      <a:pt x="212" y="4"/>
                    </a:lnTo>
                    <a:lnTo>
                      <a:pt x="225" y="4"/>
                    </a:lnTo>
                    <a:lnTo>
                      <a:pt x="247" y="4"/>
                    </a:lnTo>
                    <a:lnTo>
                      <a:pt x="283" y="0"/>
                    </a:lnTo>
                    <a:lnTo>
                      <a:pt x="309" y="0"/>
                    </a:lnTo>
                    <a:lnTo>
                      <a:pt x="328" y="0"/>
                    </a:lnTo>
                    <a:lnTo>
                      <a:pt x="363" y="4"/>
                    </a:lnTo>
                    <a:lnTo>
                      <a:pt x="381" y="4"/>
                    </a:lnTo>
                    <a:lnTo>
                      <a:pt x="416" y="4"/>
                    </a:lnTo>
                    <a:lnTo>
                      <a:pt x="372" y="26"/>
                    </a:lnTo>
                    <a:lnTo>
                      <a:pt x="354" y="39"/>
                    </a:lnTo>
                    <a:lnTo>
                      <a:pt x="328" y="62"/>
                    </a:lnTo>
                    <a:lnTo>
                      <a:pt x="305" y="71"/>
                    </a:lnTo>
                    <a:lnTo>
                      <a:pt x="292" y="80"/>
                    </a:lnTo>
                    <a:lnTo>
                      <a:pt x="269" y="89"/>
                    </a:lnTo>
                    <a:lnTo>
                      <a:pt x="234" y="89"/>
                    </a:lnTo>
                    <a:lnTo>
                      <a:pt x="199" y="89"/>
                    </a:lnTo>
                    <a:lnTo>
                      <a:pt x="159" y="80"/>
                    </a:lnTo>
                    <a:lnTo>
                      <a:pt x="128" y="71"/>
                    </a:lnTo>
                    <a:lnTo>
                      <a:pt x="97" y="62"/>
                    </a:lnTo>
                    <a:lnTo>
                      <a:pt x="66" y="45"/>
                    </a:lnTo>
                    <a:lnTo>
                      <a:pt x="30" y="26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001f"/>
              </a:solidFill>
              <a:ln w="0">
                <a:noFill/>
              </a:ln>
            </p:spPr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1344600" y="1776240"/>
                <a:ext cx="149760" cy="8280"/>
              </a:xfrm>
              <a:custGeom>
                <a:avLst/>
                <a:gdLst/>
                <a:ahLst/>
                <a:rect l="0" t="0" r="r" b="b"/>
                <a:pathLst>
                  <a:path w="416" h="23">
                    <a:moveTo>
                      <a:pt x="0" y="0"/>
                    </a:moveTo>
                    <a:lnTo>
                      <a:pt x="22" y="4"/>
                    </a:lnTo>
                    <a:lnTo>
                      <a:pt x="57" y="4"/>
                    </a:lnTo>
                    <a:lnTo>
                      <a:pt x="92" y="0"/>
                    </a:lnTo>
                    <a:lnTo>
                      <a:pt x="115" y="0"/>
                    </a:lnTo>
                    <a:lnTo>
                      <a:pt x="137" y="0"/>
                    </a:lnTo>
                    <a:lnTo>
                      <a:pt x="164" y="0"/>
                    </a:lnTo>
                    <a:lnTo>
                      <a:pt x="186" y="0"/>
                    </a:lnTo>
                    <a:lnTo>
                      <a:pt x="212" y="0"/>
                    </a:lnTo>
                    <a:lnTo>
                      <a:pt x="225" y="0"/>
                    </a:lnTo>
                    <a:lnTo>
                      <a:pt x="247" y="0"/>
                    </a:lnTo>
                    <a:lnTo>
                      <a:pt x="283" y="0"/>
                    </a:lnTo>
                    <a:lnTo>
                      <a:pt x="309" y="0"/>
                    </a:lnTo>
                    <a:lnTo>
                      <a:pt x="328" y="0"/>
                    </a:lnTo>
                    <a:lnTo>
                      <a:pt x="363" y="0"/>
                    </a:lnTo>
                    <a:lnTo>
                      <a:pt x="381" y="0"/>
                    </a:lnTo>
                    <a:lnTo>
                      <a:pt x="416" y="0"/>
                    </a:lnTo>
                    <a:lnTo>
                      <a:pt x="376" y="14"/>
                    </a:lnTo>
                    <a:lnTo>
                      <a:pt x="363" y="14"/>
                    </a:lnTo>
                    <a:lnTo>
                      <a:pt x="337" y="14"/>
                    </a:lnTo>
                    <a:lnTo>
                      <a:pt x="309" y="14"/>
                    </a:lnTo>
                    <a:lnTo>
                      <a:pt x="283" y="23"/>
                    </a:lnTo>
                    <a:lnTo>
                      <a:pt x="261" y="23"/>
                    </a:lnTo>
                    <a:lnTo>
                      <a:pt x="225" y="23"/>
                    </a:lnTo>
                    <a:lnTo>
                      <a:pt x="199" y="23"/>
                    </a:lnTo>
                    <a:lnTo>
                      <a:pt x="168" y="23"/>
                    </a:lnTo>
                    <a:lnTo>
                      <a:pt x="128" y="14"/>
                    </a:lnTo>
                    <a:lnTo>
                      <a:pt x="97" y="14"/>
                    </a:lnTo>
                    <a:lnTo>
                      <a:pt x="61" y="14"/>
                    </a:lnTo>
                    <a:lnTo>
                      <a:pt x="35" y="14"/>
                    </a:lnTo>
                    <a:lnTo>
                      <a:pt x="22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1398600" y="1805040"/>
                <a:ext cx="49680" cy="5040"/>
              </a:xfrm>
              <a:custGeom>
                <a:avLst/>
                <a:gdLst/>
                <a:ahLst/>
                <a:rect l="0" t="0" r="r" b="b"/>
                <a:pathLst>
                  <a:path w="138" h="14">
                    <a:moveTo>
                      <a:pt x="0" y="9"/>
                    </a:moveTo>
                    <a:lnTo>
                      <a:pt x="17" y="9"/>
                    </a:lnTo>
                    <a:lnTo>
                      <a:pt x="36" y="0"/>
                    </a:lnTo>
                    <a:lnTo>
                      <a:pt x="53" y="0"/>
                    </a:lnTo>
                    <a:lnTo>
                      <a:pt x="71" y="0"/>
                    </a:lnTo>
                    <a:lnTo>
                      <a:pt x="89" y="0"/>
                    </a:lnTo>
                    <a:lnTo>
                      <a:pt x="112" y="9"/>
                    </a:lnTo>
                    <a:lnTo>
                      <a:pt x="129" y="9"/>
                    </a:lnTo>
                    <a:lnTo>
                      <a:pt x="138" y="14"/>
                    </a:lnTo>
                    <a:lnTo>
                      <a:pt x="125" y="9"/>
                    </a:lnTo>
                    <a:lnTo>
                      <a:pt x="102" y="9"/>
                    </a:lnTo>
                    <a:lnTo>
                      <a:pt x="89" y="9"/>
                    </a:lnTo>
                    <a:lnTo>
                      <a:pt x="71" y="9"/>
                    </a:lnTo>
                    <a:lnTo>
                      <a:pt x="62" y="9"/>
                    </a:lnTo>
                    <a:lnTo>
                      <a:pt x="49" y="9"/>
                    </a:lnTo>
                    <a:lnTo>
                      <a:pt x="30" y="9"/>
                    </a:lnTo>
                    <a:lnTo>
                      <a:pt x="17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1378080" y="1538280"/>
                <a:ext cx="179640" cy="200520"/>
              </a:xfrm>
              <a:custGeom>
                <a:avLst/>
                <a:gdLst/>
                <a:ahLst/>
                <a:rect l="0" t="0" r="r" b="b"/>
                <a:pathLst>
                  <a:path w="499" h="557">
                    <a:moveTo>
                      <a:pt x="4" y="456"/>
                    </a:moveTo>
                    <a:lnTo>
                      <a:pt x="4" y="478"/>
                    </a:lnTo>
                    <a:lnTo>
                      <a:pt x="8" y="491"/>
                    </a:lnTo>
                    <a:lnTo>
                      <a:pt x="26" y="504"/>
                    </a:lnTo>
                    <a:lnTo>
                      <a:pt x="35" y="504"/>
                    </a:lnTo>
                    <a:lnTo>
                      <a:pt x="52" y="504"/>
                    </a:lnTo>
                    <a:lnTo>
                      <a:pt x="66" y="504"/>
                    </a:lnTo>
                    <a:lnTo>
                      <a:pt x="74" y="509"/>
                    </a:lnTo>
                    <a:lnTo>
                      <a:pt x="79" y="531"/>
                    </a:lnTo>
                    <a:lnTo>
                      <a:pt x="88" y="531"/>
                    </a:lnTo>
                    <a:lnTo>
                      <a:pt x="110" y="531"/>
                    </a:lnTo>
                    <a:lnTo>
                      <a:pt x="132" y="531"/>
                    </a:lnTo>
                    <a:lnTo>
                      <a:pt x="141" y="531"/>
                    </a:lnTo>
                    <a:lnTo>
                      <a:pt x="158" y="517"/>
                    </a:lnTo>
                    <a:lnTo>
                      <a:pt x="158" y="504"/>
                    </a:lnTo>
                    <a:lnTo>
                      <a:pt x="185" y="491"/>
                    </a:lnTo>
                    <a:lnTo>
                      <a:pt x="207" y="491"/>
                    </a:lnTo>
                    <a:lnTo>
                      <a:pt x="220" y="491"/>
                    </a:lnTo>
                    <a:lnTo>
                      <a:pt x="229" y="478"/>
                    </a:lnTo>
                    <a:lnTo>
                      <a:pt x="229" y="465"/>
                    </a:lnTo>
                    <a:lnTo>
                      <a:pt x="224" y="429"/>
                    </a:lnTo>
                    <a:lnTo>
                      <a:pt x="220" y="397"/>
                    </a:lnTo>
                    <a:lnTo>
                      <a:pt x="207" y="384"/>
                    </a:lnTo>
                    <a:lnTo>
                      <a:pt x="185" y="469"/>
                    </a:lnTo>
                    <a:lnTo>
                      <a:pt x="185" y="438"/>
                    </a:lnTo>
                    <a:lnTo>
                      <a:pt x="185" y="429"/>
                    </a:lnTo>
                    <a:lnTo>
                      <a:pt x="171" y="406"/>
                    </a:lnTo>
                    <a:lnTo>
                      <a:pt x="158" y="397"/>
                    </a:lnTo>
                    <a:lnTo>
                      <a:pt x="158" y="384"/>
                    </a:lnTo>
                    <a:lnTo>
                      <a:pt x="145" y="199"/>
                    </a:lnTo>
                    <a:lnTo>
                      <a:pt x="158" y="159"/>
                    </a:lnTo>
                    <a:lnTo>
                      <a:pt x="163" y="127"/>
                    </a:lnTo>
                    <a:lnTo>
                      <a:pt x="176" y="114"/>
                    </a:lnTo>
                    <a:lnTo>
                      <a:pt x="189" y="88"/>
                    </a:lnTo>
                    <a:lnTo>
                      <a:pt x="211" y="61"/>
                    </a:lnTo>
                    <a:lnTo>
                      <a:pt x="233" y="35"/>
                    </a:lnTo>
                    <a:lnTo>
                      <a:pt x="261" y="26"/>
                    </a:lnTo>
                    <a:lnTo>
                      <a:pt x="287" y="8"/>
                    </a:lnTo>
                    <a:lnTo>
                      <a:pt x="340" y="0"/>
                    </a:lnTo>
                    <a:lnTo>
                      <a:pt x="305" y="26"/>
                    </a:lnTo>
                    <a:lnTo>
                      <a:pt x="287" y="61"/>
                    </a:lnTo>
                    <a:lnTo>
                      <a:pt x="283" y="74"/>
                    </a:lnTo>
                    <a:lnTo>
                      <a:pt x="292" y="92"/>
                    </a:lnTo>
                    <a:lnTo>
                      <a:pt x="305" y="114"/>
                    </a:lnTo>
                    <a:lnTo>
                      <a:pt x="340" y="83"/>
                    </a:lnTo>
                    <a:lnTo>
                      <a:pt x="367" y="88"/>
                    </a:lnTo>
                    <a:lnTo>
                      <a:pt x="393" y="83"/>
                    </a:lnTo>
                    <a:lnTo>
                      <a:pt x="428" y="88"/>
                    </a:lnTo>
                    <a:lnTo>
                      <a:pt x="455" y="88"/>
                    </a:lnTo>
                    <a:lnTo>
                      <a:pt x="477" y="83"/>
                    </a:lnTo>
                    <a:lnTo>
                      <a:pt x="499" y="61"/>
                    </a:lnTo>
                    <a:lnTo>
                      <a:pt x="499" y="83"/>
                    </a:lnTo>
                    <a:lnTo>
                      <a:pt x="486" y="114"/>
                    </a:lnTo>
                    <a:lnTo>
                      <a:pt x="468" y="142"/>
                    </a:lnTo>
                    <a:lnTo>
                      <a:pt x="446" y="159"/>
                    </a:lnTo>
                    <a:lnTo>
                      <a:pt x="428" y="177"/>
                    </a:lnTo>
                    <a:lnTo>
                      <a:pt x="229" y="168"/>
                    </a:lnTo>
                    <a:lnTo>
                      <a:pt x="220" y="168"/>
                    </a:lnTo>
                    <a:lnTo>
                      <a:pt x="198" y="186"/>
                    </a:lnTo>
                    <a:lnTo>
                      <a:pt x="189" y="199"/>
                    </a:lnTo>
                    <a:lnTo>
                      <a:pt x="185" y="208"/>
                    </a:lnTo>
                    <a:lnTo>
                      <a:pt x="185" y="239"/>
                    </a:lnTo>
                    <a:lnTo>
                      <a:pt x="185" y="252"/>
                    </a:lnTo>
                    <a:lnTo>
                      <a:pt x="189" y="261"/>
                    </a:lnTo>
                    <a:lnTo>
                      <a:pt x="198" y="269"/>
                    </a:lnTo>
                    <a:lnTo>
                      <a:pt x="211" y="278"/>
                    </a:lnTo>
                    <a:lnTo>
                      <a:pt x="233" y="300"/>
                    </a:lnTo>
                    <a:lnTo>
                      <a:pt x="252" y="300"/>
                    </a:lnTo>
                    <a:lnTo>
                      <a:pt x="185" y="269"/>
                    </a:lnTo>
                    <a:lnTo>
                      <a:pt x="185" y="300"/>
                    </a:lnTo>
                    <a:lnTo>
                      <a:pt x="185" y="331"/>
                    </a:lnTo>
                    <a:lnTo>
                      <a:pt x="189" y="380"/>
                    </a:lnTo>
                    <a:lnTo>
                      <a:pt x="198" y="380"/>
                    </a:lnTo>
                    <a:lnTo>
                      <a:pt x="211" y="389"/>
                    </a:lnTo>
                    <a:lnTo>
                      <a:pt x="224" y="411"/>
                    </a:lnTo>
                    <a:lnTo>
                      <a:pt x="233" y="447"/>
                    </a:lnTo>
                    <a:lnTo>
                      <a:pt x="233" y="469"/>
                    </a:lnTo>
                    <a:lnTo>
                      <a:pt x="233" y="491"/>
                    </a:lnTo>
                    <a:lnTo>
                      <a:pt x="224" y="504"/>
                    </a:lnTo>
                    <a:lnTo>
                      <a:pt x="216" y="504"/>
                    </a:lnTo>
                    <a:lnTo>
                      <a:pt x="211" y="509"/>
                    </a:lnTo>
                    <a:lnTo>
                      <a:pt x="189" y="509"/>
                    </a:lnTo>
                    <a:lnTo>
                      <a:pt x="176" y="513"/>
                    </a:lnTo>
                    <a:lnTo>
                      <a:pt x="158" y="531"/>
                    </a:lnTo>
                    <a:lnTo>
                      <a:pt x="154" y="553"/>
                    </a:lnTo>
                    <a:lnTo>
                      <a:pt x="136" y="557"/>
                    </a:lnTo>
                    <a:lnTo>
                      <a:pt x="123" y="557"/>
                    </a:lnTo>
                    <a:lnTo>
                      <a:pt x="114" y="557"/>
                    </a:lnTo>
                    <a:lnTo>
                      <a:pt x="88" y="557"/>
                    </a:lnTo>
                    <a:lnTo>
                      <a:pt x="83" y="548"/>
                    </a:lnTo>
                    <a:lnTo>
                      <a:pt x="66" y="531"/>
                    </a:lnTo>
                    <a:lnTo>
                      <a:pt x="57" y="517"/>
                    </a:lnTo>
                    <a:lnTo>
                      <a:pt x="44" y="517"/>
                    </a:lnTo>
                    <a:lnTo>
                      <a:pt x="26" y="517"/>
                    </a:lnTo>
                    <a:lnTo>
                      <a:pt x="13" y="509"/>
                    </a:lnTo>
                    <a:lnTo>
                      <a:pt x="4" y="504"/>
                    </a:lnTo>
                    <a:lnTo>
                      <a:pt x="0" y="491"/>
                    </a:lnTo>
                    <a:lnTo>
                      <a:pt x="4" y="456"/>
                    </a:lnTo>
                    <a:close/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1411200" y="1704960"/>
                <a:ext cx="1440" cy="1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1162080" y="1243080"/>
                <a:ext cx="506880" cy="435240"/>
              </a:xfrm>
              <a:custGeom>
                <a:avLst/>
                <a:gdLst/>
                <a:ahLst/>
                <a:rect l="0" t="0" r="r" b="b"/>
                <a:pathLst>
                  <a:path w="1408" h="1209">
                    <a:moveTo>
                      <a:pt x="242" y="1209"/>
                    </a:moveTo>
                    <a:lnTo>
                      <a:pt x="224" y="1187"/>
                    </a:lnTo>
                    <a:lnTo>
                      <a:pt x="202" y="1151"/>
                    </a:lnTo>
                    <a:lnTo>
                      <a:pt x="194" y="1134"/>
                    </a:lnTo>
                    <a:lnTo>
                      <a:pt x="185" y="1112"/>
                    </a:lnTo>
                    <a:lnTo>
                      <a:pt x="176" y="1099"/>
                    </a:lnTo>
                    <a:lnTo>
                      <a:pt x="149" y="1085"/>
                    </a:lnTo>
                    <a:lnTo>
                      <a:pt x="127" y="1076"/>
                    </a:lnTo>
                    <a:lnTo>
                      <a:pt x="92" y="1050"/>
                    </a:lnTo>
                    <a:lnTo>
                      <a:pt x="88" y="1028"/>
                    </a:lnTo>
                    <a:lnTo>
                      <a:pt x="57" y="1006"/>
                    </a:lnTo>
                    <a:lnTo>
                      <a:pt x="48" y="988"/>
                    </a:lnTo>
                    <a:lnTo>
                      <a:pt x="39" y="949"/>
                    </a:lnTo>
                    <a:lnTo>
                      <a:pt x="35" y="922"/>
                    </a:lnTo>
                    <a:lnTo>
                      <a:pt x="26" y="887"/>
                    </a:lnTo>
                    <a:lnTo>
                      <a:pt x="13" y="852"/>
                    </a:lnTo>
                    <a:lnTo>
                      <a:pt x="13" y="759"/>
                    </a:lnTo>
                    <a:lnTo>
                      <a:pt x="8" y="666"/>
                    </a:lnTo>
                    <a:lnTo>
                      <a:pt x="0" y="577"/>
                    </a:lnTo>
                    <a:lnTo>
                      <a:pt x="13" y="542"/>
                    </a:lnTo>
                    <a:lnTo>
                      <a:pt x="26" y="498"/>
                    </a:lnTo>
                    <a:lnTo>
                      <a:pt x="35" y="454"/>
                    </a:lnTo>
                    <a:lnTo>
                      <a:pt x="48" y="401"/>
                    </a:lnTo>
                    <a:lnTo>
                      <a:pt x="88" y="317"/>
                    </a:lnTo>
                    <a:lnTo>
                      <a:pt x="132" y="255"/>
                    </a:lnTo>
                    <a:lnTo>
                      <a:pt x="167" y="220"/>
                    </a:lnTo>
                    <a:lnTo>
                      <a:pt x="198" y="180"/>
                    </a:lnTo>
                    <a:lnTo>
                      <a:pt x="273" y="136"/>
                    </a:lnTo>
                    <a:lnTo>
                      <a:pt x="343" y="92"/>
                    </a:lnTo>
                    <a:lnTo>
                      <a:pt x="428" y="44"/>
                    </a:lnTo>
                    <a:lnTo>
                      <a:pt x="521" y="17"/>
                    </a:lnTo>
                    <a:lnTo>
                      <a:pt x="618" y="13"/>
                    </a:lnTo>
                    <a:lnTo>
                      <a:pt x="702" y="0"/>
                    </a:lnTo>
                    <a:lnTo>
                      <a:pt x="781" y="0"/>
                    </a:lnTo>
                    <a:lnTo>
                      <a:pt x="887" y="4"/>
                    </a:lnTo>
                    <a:lnTo>
                      <a:pt x="944" y="44"/>
                    </a:lnTo>
                    <a:lnTo>
                      <a:pt x="993" y="57"/>
                    </a:lnTo>
                    <a:lnTo>
                      <a:pt x="1060" y="74"/>
                    </a:lnTo>
                    <a:lnTo>
                      <a:pt x="1108" y="92"/>
                    </a:lnTo>
                    <a:lnTo>
                      <a:pt x="1166" y="127"/>
                    </a:lnTo>
                    <a:lnTo>
                      <a:pt x="1223" y="194"/>
                    </a:lnTo>
                    <a:lnTo>
                      <a:pt x="1267" y="246"/>
                    </a:lnTo>
                    <a:lnTo>
                      <a:pt x="1298" y="286"/>
                    </a:lnTo>
                    <a:lnTo>
                      <a:pt x="1324" y="330"/>
                    </a:lnTo>
                    <a:lnTo>
                      <a:pt x="1360" y="388"/>
                    </a:lnTo>
                    <a:lnTo>
                      <a:pt x="1391" y="449"/>
                    </a:lnTo>
                    <a:lnTo>
                      <a:pt x="1399" y="542"/>
                    </a:lnTo>
                    <a:lnTo>
                      <a:pt x="1408" y="666"/>
                    </a:lnTo>
                    <a:lnTo>
                      <a:pt x="1399" y="719"/>
                    </a:lnTo>
                    <a:lnTo>
                      <a:pt x="1391" y="799"/>
                    </a:lnTo>
                    <a:lnTo>
                      <a:pt x="1373" y="860"/>
                    </a:lnTo>
                    <a:lnTo>
                      <a:pt x="1351" y="904"/>
                    </a:lnTo>
                    <a:lnTo>
                      <a:pt x="1311" y="957"/>
                    </a:lnTo>
                    <a:lnTo>
                      <a:pt x="1298" y="988"/>
                    </a:lnTo>
                    <a:lnTo>
                      <a:pt x="1236" y="1041"/>
                    </a:lnTo>
                    <a:lnTo>
                      <a:pt x="1201" y="1090"/>
                    </a:lnTo>
                    <a:lnTo>
                      <a:pt x="1174" y="1151"/>
                    </a:lnTo>
                    <a:lnTo>
                      <a:pt x="1139" y="1200"/>
                    </a:lnTo>
                    <a:lnTo>
                      <a:pt x="1166" y="1107"/>
                    </a:lnTo>
                    <a:lnTo>
                      <a:pt x="1166" y="1028"/>
                    </a:lnTo>
                    <a:lnTo>
                      <a:pt x="1174" y="927"/>
                    </a:lnTo>
                    <a:lnTo>
                      <a:pt x="1157" y="904"/>
                    </a:lnTo>
                    <a:lnTo>
                      <a:pt x="1144" y="860"/>
                    </a:lnTo>
                    <a:lnTo>
                      <a:pt x="1157" y="816"/>
                    </a:lnTo>
                    <a:lnTo>
                      <a:pt x="1157" y="781"/>
                    </a:lnTo>
                    <a:lnTo>
                      <a:pt x="1139" y="706"/>
                    </a:lnTo>
                    <a:lnTo>
                      <a:pt x="1135" y="662"/>
                    </a:lnTo>
                    <a:lnTo>
                      <a:pt x="1135" y="627"/>
                    </a:lnTo>
                    <a:lnTo>
                      <a:pt x="1113" y="577"/>
                    </a:lnTo>
                    <a:lnTo>
                      <a:pt x="1095" y="542"/>
                    </a:lnTo>
                    <a:lnTo>
                      <a:pt x="1077" y="502"/>
                    </a:lnTo>
                    <a:lnTo>
                      <a:pt x="1060" y="471"/>
                    </a:lnTo>
                    <a:lnTo>
                      <a:pt x="1006" y="449"/>
                    </a:lnTo>
                    <a:lnTo>
                      <a:pt x="971" y="401"/>
                    </a:lnTo>
                    <a:lnTo>
                      <a:pt x="927" y="388"/>
                    </a:lnTo>
                    <a:lnTo>
                      <a:pt x="887" y="388"/>
                    </a:lnTo>
                    <a:lnTo>
                      <a:pt x="896" y="348"/>
                    </a:lnTo>
                    <a:lnTo>
                      <a:pt x="852" y="357"/>
                    </a:lnTo>
                    <a:lnTo>
                      <a:pt x="816" y="374"/>
                    </a:lnTo>
                    <a:lnTo>
                      <a:pt x="781" y="388"/>
                    </a:lnTo>
                    <a:lnTo>
                      <a:pt x="733" y="396"/>
                    </a:lnTo>
                    <a:lnTo>
                      <a:pt x="693" y="388"/>
                    </a:lnTo>
                    <a:lnTo>
                      <a:pt x="653" y="379"/>
                    </a:lnTo>
                    <a:lnTo>
                      <a:pt x="618" y="361"/>
                    </a:lnTo>
                    <a:lnTo>
                      <a:pt x="569" y="357"/>
                    </a:lnTo>
                    <a:lnTo>
                      <a:pt x="543" y="357"/>
                    </a:lnTo>
                    <a:lnTo>
                      <a:pt x="521" y="379"/>
                    </a:lnTo>
                    <a:lnTo>
                      <a:pt x="499" y="401"/>
                    </a:lnTo>
                    <a:lnTo>
                      <a:pt x="472" y="436"/>
                    </a:lnTo>
                    <a:lnTo>
                      <a:pt x="459" y="485"/>
                    </a:lnTo>
                    <a:lnTo>
                      <a:pt x="428" y="524"/>
                    </a:lnTo>
                    <a:lnTo>
                      <a:pt x="415" y="586"/>
                    </a:lnTo>
                    <a:lnTo>
                      <a:pt x="393" y="693"/>
                    </a:lnTo>
                    <a:lnTo>
                      <a:pt x="371" y="799"/>
                    </a:lnTo>
                    <a:lnTo>
                      <a:pt x="343" y="860"/>
                    </a:lnTo>
                    <a:lnTo>
                      <a:pt x="268" y="1028"/>
                    </a:lnTo>
                    <a:lnTo>
                      <a:pt x="273" y="988"/>
                    </a:lnTo>
                    <a:lnTo>
                      <a:pt x="273" y="957"/>
                    </a:lnTo>
                    <a:lnTo>
                      <a:pt x="277" y="931"/>
                    </a:lnTo>
                    <a:lnTo>
                      <a:pt x="291" y="878"/>
                    </a:lnTo>
                    <a:lnTo>
                      <a:pt x="264" y="918"/>
                    </a:lnTo>
                    <a:lnTo>
                      <a:pt x="246" y="940"/>
                    </a:lnTo>
                    <a:lnTo>
                      <a:pt x="238" y="962"/>
                    </a:lnTo>
                    <a:lnTo>
                      <a:pt x="224" y="997"/>
                    </a:lnTo>
                    <a:lnTo>
                      <a:pt x="224" y="1015"/>
                    </a:lnTo>
                    <a:lnTo>
                      <a:pt x="216" y="1041"/>
                    </a:lnTo>
                    <a:lnTo>
                      <a:pt x="216" y="1085"/>
                    </a:lnTo>
                    <a:lnTo>
                      <a:pt x="224" y="1112"/>
                    </a:lnTo>
                    <a:lnTo>
                      <a:pt x="224" y="1138"/>
                    </a:lnTo>
                    <a:lnTo>
                      <a:pt x="233" y="1147"/>
                    </a:lnTo>
                    <a:lnTo>
                      <a:pt x="238" y="1187"/>
                    </a:lnTo>
                    <a:lnTo>
                      <a:pt x="242" y="1209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1252440" y="1243080"/>
                <a:ext cx="416160" cy="430560"/>
              </a:xfrm>
              <a:custGeom>
                <a:avLst/>
                <a:gdLst/>
                <a:ahLst/>
                <a:rect l="0" t="0" r="r" b="b"/>
                <a:pathLst>
                  <a:path w="1156" h="1196">
                    <a:moveTo>
                      <a:pt x="35" y="825"/>
                    </a:moveTo>
                    <a:lnTo>
                      <a:pt x="22" y="763"/>
                    </a:lnTo>
                    <a:lnTo>
                      <a:pt x="17" y="693"/>
                    </a:lnTo>
                    <a:lnTo>
                      <a:pt x="4" y="627"/>
                    </a:lnTo>
                    <a:lnTo>
                      <a:pt x="0" y="560"/>
                    </a:lnTo>
                    <a:lnTo>
                      <a:pt x="0" y="471"/>
                    </a:lnTo>
                    <a:lnTo>
                      <a:pt x="4" y="388"/>
                    </a:lnTo>
                    <a:lnTo>
                      <a:pt x="48" y="273"/>
                    </a:lnTo>
                    <a:lnTo>
                      <a:pt x="79" y="207"/>
                    </a:lnTo>
                    <a:lnTo>
                      <a:pt x="127" y="136"/>
                    </a:lnTo>
                    <a:lnTo>
                      <a:pt x="185" y="97"/>
                    </a:lnTo>
                    <a:lnTo>
                      <a:pt x="273" y="30"/>
                    </a:lnTo>
                    <a:lnTo>
                      <a:pt x="357" y="0"/>
                    </a:lnTo>
                    <a:lnTo>
                      <a:pt x="454" y="0"/>
                    </a:lnTo>
                    <a:lnTo>
                      <a:pt x="533" y="0"/>
                    </a:lnTo>
                    <a:lnTo>
                      <a:pt x="640" y="4"/>
                    </a:lnTo>
                    <a:lnTo>
                      <a:pt x="697" y="44"/>
                    </a:lnTo>
                    <a:lnTo>
                      <a:pt x="741" y="119"/>
                    </a:lnTo>
                    <a:lnTo>
                      <a:pt x="741" y="194"/>
                    </a:lnTo>
                    <a:lnTo>
                      <a:pt x="733" y="264"/>
                    </a:lnTo>
                    <a:lnTo>
                      <a:pt x="706" y="326"/>
                    </a:lnTo>
                    <a:lnTo>
                      <a:pt x="768" y="291"/>
                    </a:lnTo>
                    <a:lnTo>
                      <a:pt x="821" y="273"/>
                    </a:lnTo>
                    <a:lnTo>
                      <a:pt x="887" y="255"/>
                    </a:lnTo>
                    <a:lnTo>
                      <a:pt x="953" y="273"/>
                    </a:lnTo>
                    <a:lnTo>
                      <a:pt x="1015" y="308"/>
                    </a:lnTo>
                    <a:lnTo>
                      <a:pt x="1046" y="299"/>
                    </a:lnTo>
                    <a:lnTo>
                      <a:pt x="1072" y="326"/>
                    </a:lnTo>
                    <a:lnTo>
                      <a:pt x="1107" y="388"/>
                    </a:lnTo>
                    <a:lnTo>
                      <a:pt x="1138" y="445"/>
                    </a:lnTo>
                    <a:lnTo>
                      <a:pt x="1147" y="537"/>
                    </a:lnTo>
                    <a:lnTo>
                      <a:pt x="1156" y="666"/>
                    </a:lnTo>
                    <a:lnTo>
                      <a:pt x="1147" y="715"/>
                    </a:lnTo>
                    <a:lnTo>
                      <a:pt x="1138" y="794"/>
                    </a:lnTo>
                    <a:lnTo>
                      <a:pt x="1121" y="860"/>
                    </a:lnTo>
                    <a:lnTo>
                      <a:pt x="1099" y="900"/>
                    </a:lnTo>
                    <a:lnTo>
                      <a:pt x="1059" y="957"/>
                    </a:lnTo>
                    <a:lnTo>
                      <a:pt x="1046" y="984"/>
                    </a:lnTo>
                    <a:lnTo>
                      <a:pt x="988" y="1037"/>
                    </a:lnTo>
                    <a:lnTo>
                      <a:pt x="949" y="1085"/>
                    </a:lnTo>
                    <a:lnTo>
                      <a:pt x="922" y="1151"/>
                    </a:lnTo>
                    <a:lnTo>
                      <a:pt x="891" y="1196"/>
                    </a:lnTo>
                    <a:lnTo>
                      <a:pt x="913" y="1103"/>
                    </a:lnTo>
                    <a:lnTo>
                      <a:pt x="913" y="1024"/>
                    </a:lnTo>
                    <a:lnTo>
                      <a:pt x="922" y="922"/>
                    </a:lnTo>
                    <a:lnTo>
                      <a:pt x="904" y="900"/>
                    </a:lnTo>
                    <a:lnTo>
                      <a:pt x="896" y="860"/>
                    </a:lnTo>
                    <a:lnTo>
                      <a:pt x="904" y="812"/>
                    </a:lnTo>
                    <a:lnTo>
                      <a:pt x="904" y="781"/>
                    </a:lnTo>
                    <a:lnTo>
                      <a:pt x="891" y="702"/>
                    </a:lnTo>
                    <a:lnTo>
                      <a:pt x="887" y="662"/>
                    </a:lnTo>
                    <a:lnTo>
                      <a:pt x="887" y="622"/>
                    </a:lnTo>
                    <a:lnTo>
                      <a:pt x="860" y="577"/>
                    </a:lnTo>
                    <a:lnTo>
                      <a:pt x="847" y="537"/>
                    </a:lnTo>
                    <a:lnTo>
                      <a:pt x="825" y="502"/>
                    </a:lnTo>
                    <a:lnTo>
                      <a:pt x="807" y="471"/>
                    </a:lnTo>
                    <a:lnTo>
                      <a:pt x="759" y="445"/>
                    </a:lnTo>
                    <a:lnTo>
                      <a:pt x="719" y="401"/>
                    </a:lnTo>
                    <a:lnTo>
                      <a:pt x="675" y="388"/>
                    </a:lnTo>
                    <a:lnTo>
                      <a:pt x="618" y="366"/>
                    </a:lnTo>
                    <a:lnTo>
                      <a:pt x="636" y="330"/>
                    </a:lnTo>
                    <a:lnTo>
                      <a:pt x="658" y="255"/>
                    </a:lnTo>
                    <a:lnTo>
                      <a:pt x="666" y="189"/>
                    </a:lnTo>
                    <a:lnTo>
                      <a:pt x="666" y="145"/>
                    </a:lnTo>
                    <a:lnTo>
                      <a:pt x="649" y="110"/>
                    </a:lnTo>
                    <a:lnTo>
                      <a:pt x="609" y="74"/>
                    </a:lnTo>
                    <a:lnTo>
                      <a:pt x="573" y="57"/>
                    </a:lnTo>
                    <a:lnTo>
                      <a:pt x="533" y="44"/>
                    </a:lnTo>
                    <a:lnTo>
                      <a:pt x="480" y="52"/>
                    </a:lnTo>
                    <a:lnTo>
                      <a:pt x="423" y="74"/>
                    </a:lnTo>
                    <a:lnTo>
                      <a:pt x="396" y="110"/>
                    </a:lnTo>
                    <a:lnTo>
                      <a:pt x="370" y="145"/>
                    </a:lnTo>
                    <a:lnTo>
                      <a:pt x="348" y="185"/>
                    </a:lnTo>
                    <a:lnTo>
                      <a:pt x="343" y="229"/>
                    </a:lnTo>
                    <a:lnTo>
                      <a:pt x="321" y="273"/>
                    </a:lnTo>
                    <a:lnTo>
                      <a:pt x="313" y="308"/>
                    </a:lnTo>
                    <a:lnTo>
                      <a:pt x="295" y="357"/>
                    </a:lnTo>
                    <a:lnTo>
                      <a:pt x="273" y="379"/>
                    </a:lnTo>
                    <a:lnTo>
                      <a:pt x="251" y="401"/>
                    </a:lnTo>
                    <a:lnTo>
                      <a:pt x="229" y="432"/>
                    </a:lnTo>
                    <a:lnTo>
                      <a:pt x="211" y="485"/>
                    </a:lnTo>
                    <a:lnTo>
                      <a:pt x="185" y="520"/>
                    </a:lnTo>
                    <a:lnTo>
                      <a:pt x="167" y="586"/>
                    </a:lnTo>
                    <a:lnTo>
                      <a:pt x="149" y="693"/>
                    </a:lnTo>
                    <a:lnTo>
                      <a:pt x="127" y="794"/>
                    </a:lnTo>
                    <a:lnTo>
                      <a:pt x="101" y="860"/>
                    </a:lnTo>
                    <a:lnTo>
                      <a:pt x="22" y="1024"/>
                    </a:lnTo>
                    <a:lnTo>
                      <a:pt x="30" y="984"/>
                    </a:lnTo>
                    <a:lnTo>
                      <a:pt x="30" y="957"/>
                    </a:lnTo>
                    <a:lnTo>
                      <a:pt x="35" y="927"/>
                    </a:lnTo>
                    <a:lnTo>
                      <a:pt x="48" y="878"/>
                    </a:lnTo>
                    <a:lnTo>
                      <a:pt x="35" y="825"/>
                    </a:lnTo>
                    <a:close/>
                  </a:path>
                </a:pathLst>
              </a:custGeom>
              <a:solidFill>
                <a:srgbClr val="ff9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1571760" y="1628640"/>
                <a:ext cx="27360" cy="70200"/>
              </a:xfrm>
              <a:custGeom>
                <a:avLst/>
                <a:gdLst/>
                <a:ahLst/>
                <a:rect l="0" t="0" r="r" b="b"/>
                <a:pathLst>
                  <a:path w="76" h="195">
                    <a:moveTo>
                      <a:pt x="76" y="22"/>
                    </a:moveTo>
                    <a:lnTo>
                      <a:pt x="76" y="70"/>
                    </a:lnTo>
                    <a:lnTo>
                      <a:pt x="68" y="98"/>
                    </a:lnTo>
                    <a:lnTo>
                      <a:pt x="45" y="146"/>
                    </a:lnTo>
                    <a:lnTo>
                      <a:pt x="31" y="172"/>
                    </a:lnTo>
                    <a:lnTo>
                      <a:pt x="23" y="186"/>
                    </a:lnTo>
                    <a:lnTo>
                      <a:pt x="17" y="195"/>
                    </a:lnTo>
                    <a:lnTo>
                      <a:pt x="0" y="195"/>
                    </a:lnTo>
                    <a:lnTo>
                      <a:pt x="17" y="57"/>
                    </a:lnTo>
                    <a:lnTo>
                      <a:pt x="45" y="0"/>
                    </a:lnTo>
                    <a:lnTo>
                      <a:pt x="76" y="22"/>
                    </a:lnTo>
                    <a:close/>
                  </a:path>
                </a:pathLst>
              </a:custGeom>
              <a:solidFill>
                <a:srgbClr val="ffdfbf"/>
              </a:solidFill>
              <a:ln w="0">
                <a:noFill/>
              </a:ln>
            </p:spPr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1214280" y="1623960"/>
                <a:ext cx="28800" cy="66960"/>
              </a:xfrm>
              <a:custGeom>
                <a:avLst/>
                <a:gdLst/>
                <a:ahLst/>
                <a:rect l="0" t="0" r="r" b="b"/>
                <a:pathLst>
                  <a:path w="80" h="186">
                    <a:moveTo>
                      <a:pt x="0" y="22"/>
                    </a:moveTo>
                    <a:lnTo>
                      <a:pt x="8" y="66"/>
                    </a:lnTo>
                    <a:lnTo>
                      <a:pt x="13" y="92"/>
                    </a:lnTo>
                    <a:lnTo>
                      <a:pt x="35" y="142"/>
                    </a:lnTo>
                    <a:lnTo>
                      <a:pt x="49" y="168"/>
                    </a:lnTo>
                    <a:lnTo>
                      <a:pt x="58" y="177"/>
                    </a:lnTo>
                    <a:lnTo>
                      <a:pt x="71" y="186"/>
                    </a:lnTo>
                    <a:lnTo>
                      <a:pt x="80" y="186"/>
                    </a:lnTo>
                    <a:lnTo>
                      <a:pt x="62" y="57"/>
                    </a:lnTo>
                    <a:lnTo>
                      <a:pt x="35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ffdfbf"/>
              </a:solidFill>
              <a:ln w="0">
                <a:noFill/>
              </a:ln>
            </p:spPr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1494000" y="1765440"/>
                <a:ext cx="8280" cy="5040"/>
              </a:xfrm>
              <a:custGeom>
                <a:avLst/>
                <a:gdLst/>
                <a:ahLst/>
                <a:rect l="0" t="0" r="r" b="b"/>
                <a:pathLst>
                  <a:path w="23" h="14">
                    <a:moveTo>
                      <a:pt x="23" y="0"/>
                    </a:moveTo>
                    <a:lnTo>
                      <a:pt x="0" y="4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347840" y="1550880"/>
                <a:ext cx="38520" cy="44640"/>
              </a:xfrm>
              <a:custGeom>
                <a:avLst/>
                <a:gdLst/>
                <a:ahLst/>
                <a:rect l="0" t="0" r="r" b="b"/>
                <a:pathLst>
                  <a:path w="107" h="124">
                    <a:moveTo>
                      <a:pt x="67" y="26"/>
                    </a:moveTo>
                    <a:lnTo>
                      <a:pt x="85" y="39"/>
                    </a:lnTo>
                    <a:lnTo>
                      <a:pt x="99" y="71"/>
                    </a:lnTo>
                    <a:lnTo>
                      <a:pt x="103" y="84"/>
                    </a:lnTo>
                    <a:lnTo>
                      <a:pt x="107" y="111"/>
                    </a:lnTo>
                    <a:lnTo>
                      <a:pt x="107" y="124"/>
                    </a:lnTo>
                    <a:lnTo>
                      <a:pt x="85" y="111"/>
                    </a:lnTo>
                    <a:lnTo>
                      <a:pt x="75" y="102"/>
                    </a:lnTo>
                    <a:lnTo>
                      <a:pt x="53" y="102"/>
                    </a:lnTo>
                    <a:lnTo>
                      <a:pt x="31" y="89"/>
                    </a:lnTo>
                    <a:lnTo>
                      <a:pt x="0" y="80"/>
                    </a:lnTo>
                    <a:lnTo>
                      <a:pt x="0" y="71"/>
                    </a:lnTo>
                    <a:lnTo>
                      <a:pt x="8" y="57"/>
                    </a:lnTo>
                    <a:lnTo>
                      <a:pt x="13" y="44"/>
                    </a:lnTo>
                    <a:lnTo>
                      <a:pt x="17" y="17"/>
                    </a:lnTo>
                    <a:lnTo>
                      <a:pt x="8" y="0"/>
                    </a:lnTo>
                    <a:lnTo>
                      <a:pt x="67" y="26"/>
                    </a:lnTo>
                    <a:close/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05" name=""/>
              <p:cNvGrpSpPr/>
              <p:nvPr/>
            </p:nvGrpSpPr>
            <p:grpSpPr>
              <a:xfrm>
                <a:off x="1265400" y="1533600"/>
                <a:ext cx="295560" cy="38520"/>
                <a:chOff x="1265400" y="1533600"/>
                <a:chExt cx="295560" cy="38520"/>
              </a:xfrm>
            </p:grpSpPr>
            <p:sp>
              <p:nvSpPr>
                <p:cNvPr id="706" name=""/>
                <p:cNvSpPr/>
                <p:nvPr/>
              </p:nvSpPr>
              <p:spPr>
                <a:xfrm>
                  <a:off x="1452600" y="1533600"/>
                  <a:ext cx="108360" cy="25920"/>
                </a:xfrm>
                <a:custGeom>
                  <a:avLst/>
                  <a:gdLst/>
                  <a:ahLst/>
                  <a:rect l="0" t="0" r="r" b="b"/>
                  <a:pathLst>
                    <a:path w="301" h="72">
                      <a:moveTo>
                        <a:pt x="22" y="53"/>
                      </a:moveTo>
                      <a:lnTo>
                        <a:pt x="39" y="40"/>
                      </a:lnTo>
                      <a:lnTo>
                        <a:pt x="57" y="31"/>
                      </a:lnTo>
                      <a:lnTo>
                        <a:pt x="74" y="23"/>
                      </a:lnTo>
                      <a:lnTo>
                        <a:pt x="102" y="8"/>
                      </a:lnTo>
                      <a:lnTo>
                        <a:pt x="137" y="8"/>
                      </a:lnTo>
                      <a:lnTo>
                        <a:pt x="168" y="0"/>
                      </a:lnTo>
                      <a:lnTo>
                        <a:pt x="190" y="0"/>
                      </a:lnTo>
                      <a:lnTo>
                        <a:pt x="221" y="8"/>
                      </a:lnTo>
                      <a:lnTo>
                        <a:pt x="235" y="8"/>
                      </a:lnTo>
                      <a:lnTo>
                        <a:pt x="262" y="23"/>
                      </a:lnTo>
                      <a:lnTo>
                        <a:pt x="284" y="40"/>
                      </a:lnTo>
                      <a:lnTo>
                        <a:pt x="301" y="63"/>
                      </a:lnTo>
                      <a:lnTo>
                        <a:pt x="275" y="45"/>
                      </a:lnTo>
                      <a:lnTo>
                        <a:pt x="248" y="36"/>
                      </a:lnTo>
                      <a:lnTo>
                        <a:pt x="203" y="27"/>
                      </a:lnTo>
                      <a:lnTo>
                        <a:pt x="186" y="27"/>
                      </a:lnTo>
                      <a:lnTo>
                        <a:pt x="168" y="27"/>
                      </a:lnTo>
                      <a:lnTo>
                        <a:pt x="146" y="27"/>
                      </a:lnTo>
                      <a:lnTo>
                        <a:pt x="124" y="31"/>
                      </a:lnTo>
                      <a:lnTo>
                        <a:pt x="98" y="40"/>
                      </a:lnTo>
                      <a:lnTo>
                        <a:pt x="84" y="53"/>
                      </a:lnTo>
                      <a:lnTo>
                        <a:pt x="61" y="63"/>
                      </a:lnTo>
                      <a:lnTo>
                        <a:pt x="44" y="68"/>
                      </a:lnTo>
                      <a:lnTo>
                        <a:pt x="39" y="72"/>
                      </a:lnTo>
                      <a:lnTo>
                        <a:pt x="22" y="72"/>
                      </a:lnTo>
                      <a:lnTo>
                        <a:pt x="0" y="68"/>
                      </a:lnTo>
                      <a:lnTo>
                        <a:pt x="22" y="53"/>
                      </a:lnTo>
                      <a:close/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1265400" y="1538280"/>
                  <a:ext cx="106560" cy="33840"/>
                </a:xfrm>
                <a:custGeom>
                  <a:avLst/>
                  <a:gdLst/>
                  <a:ahLst/>
                  <a:rect l="0" t="0" r="r" b="b"/>
                  <a:pathLst>
                    <a:path w="296" h="94">
                      <a:moveTo>
                        <a:pt x="296" y="58"/>
                      </a:moveTo>
                      <a:lnTo>
                        <a:pt x="283" y="27"/>
                      </a:lnTo>
                      <a:lnTo>
                        <a:pt x="265" y="13"/>
                      </a:lnTo>
                      <a:lnTo>
                        <a:pt x="239" y="8"/>
                      </a:lnTo>
                      <a:lnTo>
                        <a:pt x="203" y="0"/>
                      </a:lnTo>
                      <a:lnTo>
                        <a:pt x="159" y="0"/>
                      </a:lnTo>
                      <a:lnTo>
                        <a:pt x="114" y="0"/>
                      </a:lnTo>
                      <a:lnTo>
                        <a:pt x="66" y="8"/>
                      </a:lnTo>
                      <a:lnTo>
                        <a:pt x="22" y="58"/>
                      </a:lnTo>
                      <a:lnTo>
                        <a:pt x="0" y="94"/>
                      </a:lnTo>
                      <a:lnTo>
                        <a:pt x="39" y="49"/>
                      </a:lnTo>
                      <a:lnTo>
                        <a:pt x="83" y="36"/>
                      </a:lnTo>
                      <a:lnTo>
                        <a:pt x="123" y="27"/>
                      </a:lnTo>
                      <a:lnTo>
                        <a:pt x="177" y="27"/>
                      </a:lnTo>
                      <a:lnTo>
                        <a:pt x="217" y="40"/>
                      </a:lnTo>
                      <a:lnTo>
                        <a:pt x="252" y="49"/>
                      </a:lnTo>
                      <a:lnTo>
                        <a:pt x="296" y="58"/>
                      </a:lnTo>
                      <a:close/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8" name=""/>
              <p:cNvGrpSpPr/>
              <p:nvPr/>
            </p:nvGrpSpPr>
            <p:grpSpPr>
              <a:xfrm>
                <a:off x="1461960" y="1573200"/>
                <a:ext cx="72000" cy="36720"/>
                <a:chOff x="1461960" y="1573200"/>
                <a:chExt cx="72000" cy="36720"/>
              </a:xfrm>
            </p:grpSpPr>
            <p:sp>
              <p:nvSpPr>
                <p:cNvPr id="709" name=""/>
                <p:cNvSpPr/>
                <p:nvPr/>
              </p:nvSpPr>
              <p:spPr>
                <a:xfrm>
                  <a:off x="1461960" y="1601640"/>
                  <a:ext cx="68760" cy="8280"/>
                </a:xfrm>
                <a:custGeom>
                  <a:avLst/>
                  <a:gdLst/>
                  <a:ahLst/>
                  <a:rect l="0" t="0" r="r" b="b"/>
                  <a:pathLst>
                    <a:path w="191" h="23">
                      <a:moveTo>
                        <a:pt x="8" y="4"/>
                      </a:moveTo>
                      <a:lnTo>
                        <a:pt x="26" y="8"/>
                      </a:lnTo>
                      <a:lnTo>
                        <a:pt x="58" y="8"/>
                      </a:lnTo>
                      <a:lnTo>
                        <a:pt x="93" y="8"/>
                      </a:lnTo>
                      <a:lnTo>
                        <a:pt x="111" y="8"/>
                      </a:lnTo>
                      <a:lnTo>
                        <a:pt x="137" y="8"/>
                      </a:lnTo>
                      <a:lnTo>
                        <a:pt x="156" y="8"/>
                      </a:lnTo>
                      <a:lnTo>
                        <a:pt x="173" y="8"/>
                      </a:lnTo>
                      <a:lnTo>
                        <a:pt x="191" y="0"/>
                      </a:lnTo>
                      <a:lnTo>
                        <a:pt x="173" y="14"/>
                      </a:lnTo>
                      <a:lnTo>
                        <a:pt x="160" y="18"/>
                      </a:lnTo>
                      <a:lnTo>
                        <a:pt x="151" y="23"/>
                      </a:lnTo>
                      <a:lnTo>
                        <a:pt x="133" y="23"/>
                      </a:lnTo>
                      <a:lnTo>
                        <a:pt x="111" y="23"/>
                      </a:lnTo>
                      <a:lnTo>
                        <a:pt x="98" y="23"/>
                      </a:lnTo>
                      <a:lnTo>
                        <a:pt x="80" y="18"/>
                      </a:lnTo>
                      <a:lnTo>
                        <a:pt x="67" y="14"/>
                      </a:lnTo>
                      <a:lnTo>
                        <a:pt x="44" y="14"/>
                      </a:lnTo>
                      <a:lnTo>
                        <a:pt x="30" y="14"/>
                      </a:lnTo>
                      <a:lnTo>
                        <a:pt x="17" y="8"/>
                      </a:lnTo>
                      <a:lnTo>
                        <a:pt x="8" y="8"/>
                      </a:lnTo>
                      <a:lnTo>
                        <a:pt x="0" y="8"/>
                      </a:lnTo>
                      <a:lnTo>
                        <a:pt x="8" y="4"/>
                      </a:lnTo>
                      <a:close/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10" name=""/>
                <p:cNvGrpSpPr/>
                <p:nvPr/>
              </p:nvGrpSpPr>
              <p:grpSpPr>
                <a:xfrm>
                  <a:off x="1468440" y="1573200"/>
                  <a:ext cx="65520" cy="28800"/>
                  <a:chOff x="1468440" y="1573200"/>
                  <a:chExt cx="65520" cy="28800"/>
                </a:xfrm>
              </p:grpSpPr>
              <p:sp>
                <p:nvSpPr>
                  <p:cNvPr id="711" name=""/>
                  <p:cNvSpPr/>
                  <p:nvPr/>
                </p:nvSpPr>
                <p:spPr>
                  <a:xfrm>
                    <a:off x="1468440" y="1577880"/>
                    <a:ext cx="62280" cy="18000"/>
                  </a:xfrm>
                  <a:custGeom>
                    <a:avLst/>
                    <a:gdLst/>
                    <a:ahLst/>
                    <a:rect l="0" t="0" r="r" b="b"/>
                    <a:pathLst>
                      <a:path w="173" h="50">
                        <a:moveTo>
                          <a:pt x="0" y="41"/>
                        </a:moveTo>
                        <a:lnTo>
                          <a:pt x="17" y="27"/>
                        </a:lnTo>
                        <a:lnTo>
                          <a:pt x="30" y="18"/>
                        </a:lnTo>
                        <a:lnTo>
                          <a:pt x="45" y="8"/>
                        </a:lnTo>
                        <a:lnTo>
                          <a:pt x="58" y="0"/>
                        </a:lnTo>
                        <a:lnTo>
                          <a:pt x="75" y="0"/>
                        </a:lnTo>
                        <a:lnTo>
                          <a:pt x="98" y="0"/>
                        </a:lnTo>
                        <a:lnTo>
                          <a:pt x="106" y="8"/>
                        </a:lnTo>
                        <a:lnTo>
                          <a:pt x="120" y="8"/>
                        </a:lnTo>
                        <a:lnTo>
                          <a:pt x="134" y="18"/>
                        </a:lnTo>
                        <a:lnTo>
                          <a:pt x="143" y="18"/>
                        </a:lnTo>
                        <a:lnTo>
                          <a:pt x="156" y="27"/>
                        </a:lnTo>
                        <a:lnTo>
                          <a:pt x="173" y="31"/>
                        </a:lnTo>
                        <a:lnTo>
                          <a:pt x="173" y="41"/>
                        </a:lnTo>
                        <a:lnTo>
                          <a:pt x="156" y="50"/>
                        </a:lnTo>
                        <a:lnTo>
                          <a:pt x="134" y="50"/>
                        </a:lnTo>
                        <a:lnTo>
                          <a:pt x="106" y="50"/>
                        </a:lnTo>
                        <a:lnTo>
                          <a:pt x="71" y="50"/>
                        </a:lnTo>
                        <a:lnTo>
                          <a:pt x="39" y="50"/>
                        </a:lnTo>
                        <a:lnTo>
                          <a:pt x="22" y="50"/>
                        </a:lnTo>
                        <a:lnTo>
                          <a:pt x="0" y="41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12" name=""/>
                  <p:cNvGrpSpPr/>
                  <p:nvPr/>
                </p:nvGrpSpPr>
                <p:grpSpPr>
                  <a:xfrm>
                    <a:off x="1486080" y="1576440"/>
                    <a:ext cx="30240" cy="25560"/>
                    <a:chOff x="1486080" y="1576440"/>
                    <a:chExt cx="30240" cy="25560"/>
                  </a:xfrm>
                </p:grpSpPr>
                <p:sp>
                  <p:nvSpPr>
                    <p:cNvPr id="713" name=""/>
                    <p:cNvSpPr/>
                    <p:nvPr/>
                  </p:nvSpPr>
                  <p:spPr>
                    <a:xfrm>
                      <a:off x="1486080" y="1576440"/>
                      <a:ext cx="30240" cy="25560"/>
                    </a:xfrm>
                    <a:prstGeom prst="ellipse">
                      <a:avLst/>
                    </a:prstGeom>
                    <a:solidFill>
                      <a:srgbClr val="005f7f"/>
                    </a:solidFill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4" name=""/>
                    <p:cNvSpPr/>
                    <p:nvPr/>
                  </p:nvSpPr>
                  <p:spPr>
                    <a:xfrm>
                      <a:off x="1487520" y="1577880"/>
                      <a:ext cx="25560" cy="23760"/>
                    </a:xfrm>
                    <a:prstGeom prst="ellipse">
                      <a:avLst/>
                    </a:prstGeom>
                    <a:solidFill>
                      <a:srgbClr val="00a4bb"/>
                    </a:solidFill>
                    <a:ln w="0">
                      <a:noFill/>
                    </a:ln>
                  </p:spPr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5" name=""/>
                    <p:cNvSpPr/>
                    <p:nvPr/>
                  </p:nvSpPr>
                  <p:spPr>
                    <a:xfrm>
                      <a:off x="1495440" y="1579680"/>
                      <a:ext cx="12600" cy="158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6" name=""/>
                    <p:cNvSpPr/>
                    <p:nvPr/>
                  </p:nvSpPr>
                  <p:spPr>
                    <a:xfrm>
                      <a:off x="1488960" y="1581120"/>
                      <a:ext cx="4680" cy="3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17" name=""/>
                  <p:cNvSpPr/>
                  <p:nvPr/>
                </p:nvSpPr>
                <p:spPr>
                  <a:xfrm>
                    <a:off x="1492200" y="1601640"/>
                    <a:ext cx="4104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114" h="0">
                        <a:moveTo>
                          <a:pt x="0" y="0"/>
                        </a:moveTo>
                        <a:lnTo>
                          <a:pt x="17" y="0"/>
                        </a:lnTo>
                        <a:lnTo>
                          <a:pt x="35" y="0"/>
                        </a:lnTo>
                        <a:lnTo>
                          <a:pt x="57" y="0"/>
                        </a:lnTo>
                        <a:lnTo>
                          <a:pt x="74" y="0"/>
                        </a:lnTo>
                        <a:lnTo>
                          <a:pt x="88" y="0"/>
                        </a:lnTo>
                        <a:lnTo>
                          <a:pt x="105" y="0"/>
                        </a:lnTo>
                        <a:lnTo>
                          <a:pt x="110" y="0"/>
                        </a:lnTo>
                        <a:lnTo>
                          <a:pt x="114" y="0"/>
                        </a:lnTo>
                        <a:lnTo>
                          <a:pt x="110" y="0"/>
                        </a:lnTo>
                        <a:lnTo>
                          <a:pt x="114" y="0"/>
                        </a:lnTo>
                        <a:lnTo>
                          <a:pt x="101" y="0"/>
                        </a:lnTo>
                        <a:lnTo>
                          <a:pt x="110" y="0"/>
                        </a:lnTo>
                        <a:lnTo>
                          <a:pt x="88" y="0"/>
                        </a:lnTo>
                        <a:lnTo>
                          <a:pt x="97" y="0"/>
                        </a:lnTo>
                        <a:lnTo>
                          <a:pt x="83" y="0"/>
                        </a:lnTo>
                        <a:lnTo>
                          <a:pt x="88" y="0"/>
                        </a:lnTo>
                        <a:lnTo>
                          <a:pt x="74" y="0"/>
                        </a:lnTo>
                        <a:lnTo>
                          <a:pt x="61" y="0"/>
                        </a:lnTo>
                        <a:lnTo>
                          <a:pt x="39" y="0"/>
                        </a:lnTo>
                        <a:lnTo>
                          <a:pt x="1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" name=""/>
                  <p:cNvSpPr/>
                  <p:nvPr/>
                </p:nvSpPr>
                <p:spPr>
                  <a:xfrm>
                    <a:off x="1474920" y="1577880"/>
                    <a:ext cx="55800" cy="14760"/>
                  </a:xfrm>
                  <a:custGeom>
                    <a:avLst/>
                    <a:gdLst/>
                    <a:ahLst/>
                    <a:rect l="0" t="0" r="r" b="b"/>
                    <a:pathLst>
                      <a:path w="155" h="41">
                        <a:moveTo>
                          <a:pt x="0" y="27"/>
                        </a:moveTo>
                        <a:lnTo>
                          <a:pt x="17" y="18"/>
                        </a:lnTo>
                        <a:lnTo>
                          <a:pt x="26" y="14"/>
                        </a:lnTo>
                        <a:lnTo>
                          <a:pt x="39" y="8"/>
                        </a:lnTo>
                        <a:lnTo>
                          <a:pt x="57" y="8"/>
                        </a:lnTo>
                        <a:lnTo>
                          <a:pt x="70" y="8"/>
                        </a:lnTo>
                        <a:lnTo>
                          <a:pt x="80" y="8"/>
                        </a:lnTo>
                        <a:lnTo>
                          <a:pt x="98" y="14"/>
                        </a:lnTo>
                        <a:lnTo>
                          <a:pt x="115" y="23"/>
                        </a:lnTo>
                        <a:lnTo>
                          <a:pt x="124" y="27"/>
                        </a:lnTo>
                        <a:lnTo>
                          <a:pt x="137" y="32"/>
                        </a:lnTo>
                        <a:lnTo>
                          <a:pt x="155" y="41"/>
                        </a:lnTo>
                        <a:lnTo>
                          <a:pt x="146" y="32"/>
                        </a:lnTo>
                        <a:lnTo>
                          <a:pt x="133" y="27"/>
                        </a:lnTo>
                        <a:lnTo>
                          <a:pt x="115" y="14"/>
                        </a:lnTo>
                        <a:lnTo>
                          <a:pt x="98" y="8"/>
                        </a:lnTo>
                        <a:lnTo>
                          <a:pt x="80" y="8"/>
                        </a:lnTo>
                        <a:lnTo>
                          <a:pt x="66" y="0"/>
                        </a:lnTo>
                        <a:lnTo>
                          <a:pt x="48" y="0"/>
                        </a:lnTo>
                        <a:lnTo>
                          <a:pt x="39" y="8"/>
                        </a:lnTo>
                        <a:lnTo>
                          <a:pt x="26" y="8"/>
                        </a:lnTo>
                        <a:lnTo>
                          <a:pt x="17" y="14"/>
                        </a:lnTo>
                        <a:lnTo>
                          <a:pt x="0" y="27"/>
                        </a:lnTo>
                        <a:close/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9" name=""/>
                  <p:cNvSpPr/>
                  <p:nvPr/>
                </p:nvSpPr>
                <p:spPr>
                  <a:xfrm>
                    <a:off x="1476360" y="1577880"/>
                    <a:ext cx="57600" cy="9720"/>
                  </a:xfrm>
                  <a:custGeom>
                    <a:avLst/>
                    <a:gdLst/>
                    <a:ahLst/>
                    <a:rect l="0" t="0" r="r" b="b"/>
                    <a:pathLst>
                      <a:path w="160" h="27">
                        <a:moveTo>
                          <a:pt x="0" y="18"/>
                        </a:moveTo>
                        <a:lnTo>
                          <a:pt x="13" y="14"/>
                        </a:lnTo>
                        <a:lnTo>
                          <a:pt x="26" y="8"/>
                        </a:lnTo>
                        <a:lnTo>
                          <a:pt x="35" y="4"/>
                        </a:lnTo>
                        <a:lnTo>
                          <a:pt x="58" y="4"/>
                        </a:lnTo>
                        <a:lnTo>
                          <a:pt x="80" y="4"/>
                        </a:lnTo>
                        <a:lnTo>
                          <a:pt x="89" y="4"/>
                        </a:lnTo>
                        <a:lnTo>
                          <a:pt x="102" y="14"/>
                        </a:lnTo>
                        <a:lnTo>
                          <a:pt x="121" y="14"/>
                        </a:lnTo>
                        <a:lnTo>
                          <a:pt x="134" y="18"/>
                        </a:lnTo>
                        <a:lnTo>
                          <a:pt x="147" y="23"/>
                        </a:lnTo>
                        <a:lnTo>
                          <a:pt x="160" y="27"/>
                        </a:lnTo>
                        <a:lnTo>
                          <a:pt x="156" y="23"/>
                        </a:lnTo>
                        <a:lnTo>
                          <a:pt x="138" y="14"/>
                        </a:lnTo>
                        <a:lnTo>
                          <a:pt x="121" y="14"/>
                        </a:lnTo>
                        <a:lnTo>
                          <a:pt x="102" y="4"/>
                        </a:lnTo>
                        <a:lnTo>
                          <a:pt x="89" y="0"/>
                        </a:lnTo>
                        <a:lnTo>
                          <a:pt x="71" y="0"/>
                        </a:lnTo>
                        <a:lnTo>
                          <a:pt x="58" y="0"/>
                        </a:lnTo>
                        <a:lnTo>
                          <a:pt x="35" y="0"/>
                        </a:lnTo>
                        <a:lnTo>
                          <a:pt x="30" y="4"/>
                        </a:lnTo>
                        <a:lnTo>
                          <a:pt x="22" y="8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0" name=""/>
                  <p:cNvSpPr/>
                  <p:nvPr/>
                </p:nvSpPr>
                <p:spPr>
                  <a:xfrm>
                    <a:off x="1469880" y="1573200"/>
                    <a:ext cx="59040" cy="8280"/>
                  </a:xfrm>
                  <a:custGeom>
                    <a:avLst/>
                    <a:gdLst/>
                    <a:ahLst/>
                    <a:rect l="0" t="0" r="r" b="b"/>
                    <a:pathLst>
                      <a:path w="164" h="23">
                        <a:moveTo>
                          <a:pt x="0" y="23"/>
                        </a:moveTo>
                        <a:lnTo>
                          <a:pt x="26" y="14"/>
                        </a:lnTo>
                        <a:lnTo>
                          <a:pt x="39" y="4"/>
                        </a:lnTo>
                        <a:lnTo>
                          <a:pt x="52" y="4"/>
                        </a:lnTo>
                        <a:lnTo>
                          <a:pt x="70" y="0"/>
                        </a:lnTo>
                        <a:lnTo>
                          <a:pt x="93" y="4"/>
                        </a:lnTo>
                        <a:lnTo>
                          <a:pt x="115" y="4"/>
                        </a:lnTo>
                        <a:lnTo>
                          <a:pt x="128" y="8"/>
                        </a:lnTo>
                        <a:lnTo>
                          <a:pt x="142" y="14"/>
                        </a:lnTo>
                        <a:lnTo>
                          <a:pt x="164" y="23"/>
                        </a:lnTo>
                        <a:lnTo>
                          <a:pt x="142" y="14"/>
                        </a:lnTo>
                        <a:lnTo>
                          <a:pt x="133" y="8"/>
                        </a:lnTo>
                        <a:lnTo>
                          <a:pt x="115" y="4"/>
                        </a:lnTo>
                        <a:lnTo>
                          <a:pt x="102" y="0"/>
                        </a:lnTo>
                        <a:lnTo>
                          <a:pt x="84" y="0"/>
                        </a:lnTo>
                        <a:lnTo>
                          <a:pt x="70" y="0"/>
                        </a:lnTo>
                        <a:lnTo>
                          <a:pt x="52" y="4"/>
                        </a:lnTo>
                        <a:lnTo>
                          <a:pt x="44" y="4"/>
                        </a:lnTo>
                        <a:lnTo>
                          <a:pt x="35" y="8"/>
                        </a:lnTo>
                        <a:lnTo>
                          <a:pt x="22" y="14"/>
                        </a:lnTo>
                        <a:lnTo>
                          <a:pt x="0" y="23"/>
                        </a:lnTo>
                        <a:close/>
                      </a:path>
                    </a:pathLst>
                  </a:custGeom>
                  <a:solidFill>
                    <a:srgbClr val="bf7f3f"/>
                  </a:solidFill>
                  <a:ln w="0">
                    <a:noFill/>
                  </a:ln>
                </p:spPr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21" name=""/>
              <p:cNvGrpSpPr/>
              <p:nvPr/>
            </p:nvGrpSpPr>
            <p:grpSpPr>
              <a:xfrm>
                <a:off x="1292400" y="1571760"/>
                <a:ext cx="69840" cy="38160"/>
                <a:chOff x="1292400" y="1571760"/>
                <a:chExt cx="69840" cy="38160"/>
              </a:xfrm>
            </p:grpSpPr>
            <p:sp>
              <p:nvSpPr>
                <p:cNvPr id="722" name=""/>
                <p:cNvSpPr/>
                <p:nvPr/>
              </p:nvSpPr>
              <p:spPr>
                <a:xfrm>
                  <a:off x="1295280" y="1600200"/>
                  <a:ext cx="66960" cy="9720"/>
                </a:xfrm>
                <a:custGeom>
                  <a:avLst/>
                  <a:gdLst/>
                  <a:ahLst/>
                  <a:rect l="0" t="0" r="r" b="b"/>
                  <a:pathLst>
                    <a:path w="186" h="27">
                      <a:moveTo>
                        <a:pt x="186" y="0"/>
                      </a:moveTo>
                      <a:lnTo>
                        <a:pt x="168" y="4"/>
                      </a:lnTo>
                      <a:lnTo>
                        <a:pt x="128" y="8"/>
                      </a:lnTo>
                      <a:lnTo>
                        <a:pt x="92" y="8"/>
                      </a:lnTo>
                      <a:lnTo>
                        <a:pt x="83" y="8"/>
                      </a:lnTo>
                      <a:lnTo>
                        <a:pt x="52" y="8"/>
                      </a:lnTo>
                      <a:lnTo>
                        <a:pt x="35" y="8"/>
                      </a:lnTo>
                      <a:lnTo>
                        <a:pt x="17" y="4"/>
                      </a:lnTo>
                      <a:lnTo>
                        <a:pt x="0" y="0"/>
                      </a:lnTo>
                      <a:lnTo>
                        <a:pt x="17" y="18"/>
                      </a:lnTo>
                      <a:lnTo>
                        <a:pt x="30" y="23"/>
                      </a:lnTo>
                      <a:lnTo>
                        <a:pt x="44" y="27"/>
                      </a:lnTo>
                      <a:lnTo>
                        <a:pt x="57" y="27"/>
                      </a:lnTo>
                      <a:lnTo>
                        <a:pt x="79" y="27"/>
                      </a:lnTo>
                      <a:lnTo>
                        <a:pt x="88" y="23"/>
                      </a:lnTo>
                      <a:lnTo>
                        <a:pt x="106" y="18"/>
                      </a:lnTo>
                      <a:lnTo>
                        <a:pt x="128" y="14"/>
                      </a:lnTo>
                      <a:lnTo>
                        <a:pt x="137" y="14"/>
                      </a:lnTo>
                      <a:lnTo>
                        <a:pt x="155" y="8"/>
                      </a:lnTo>
                      <a:lnTo>
                        <a:pt x="186" y="0"/>
                      </a:lnTo>
                      <a:close/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23" name=""/>
                <p:cNvGrpSpPr/>
                <p:nvPr/>
              </p:nvGrpSpPr>
              <p:grpSpPr>
                <a:xfrm>
                  <a:off x="1292400" y="1571760"/>
                  <a:ext cx="66600" cy="30240"/>
                  <a:chOff x="1292400" y="1571760"/>
                  <a:chExt cx="66600" cy="30240"/>
                </a:xfrm>
              </p:grpSpPr>
              <p:sp>
                <p:nvSpPr>
                  <p:cNvPr id="724" name=""/>
                  <p:cNvSpPr/>
                  <p:nvPr/>
                </p:nvSpPr>
                <p:spPr>
                  <a:xfrm>
                    <a:off x="1295280" y="1577880"/>
                    <a:ext cx="63720" cy="18000"/>
                  </a:xfrm>
                  <a:custGeom>
                    <a:avLst/>
                    <a:gdLst/>
                    <a:ahLst/>
                    <a:rect l="0" t="0" r="r" b="b"/>
                    <a:pathLst>
                      <a:path w="177" h="50">
                        <a:moveTo>
                          <a:pt x="177" y="31"/>
                        </a:moveTo>
                        <a:lnTo>
                          <a:pt x="164" y="23"/>
                        </a:lnTo>
                        <a:lnTo>
                          <a:pt x="142" y="14"/>
                        </a:lnTo>
                        <a:lnTo>
                          <a:pt x="133" y="8"/>
                        </a:lnTo>
                        <a:lnTo>
                          <a:pt x="120" y="0"/>
                        </a:lnTo>
                        <a:lnTo>
                          <a:pt x="93" y="0"/>
                        </a:lnTo>
                        <a:lnTo>
                          <a:pt x="83" y="0"/>
                        </a:lnTo>
                        <a:lnTo>
                          <a:pt x="57" y="0"/>
                        </a:lnTo>
                        <a:lnTo>
                          <a:pt x="48" y="8"/>
                        </a:lnTo>
                        <a:lnTo>
                          <a:pt x="35" y="14"/>
                        </a:lnTo>
                        <a:lnTo>
                          <a:pt x="30" y="18"/>
                        </a:lnTo>
                        <a:lnTo>
                          <a:pt x="17" y="23"/>
                        </a:lnTo>
                        <a:lnTo>
                          <a:pt x="0" y="31"/>
                        </a:lnTo>
                        <a:lnTo>
                          <a:pt x="0" y="41"/>
                        </a:lnTo>
                        <a:lnTo>
                          <a:pt x="17" y="50"/>
                        </a:lnTo>
                        <a:lnTo>
                          <a:pt x="35" y="50"/>
                        </a:lnTo>
                        <a:lnTo>
                          <a:pt x="70" y="50"/>
                        </a:lnTo>
                        <a:lnTo>
                          <a:pt x="102" y="50"/>
                        </a:lnTo>
                        <a:lnTo>
                          <a:pt x="137" y="50"/>
                        </a:lnTo>
                        <a:lnTo>
                          <a:pt x="150" y="50"/>
                        </a:lnTo>
                        <a:lnTo>
                          <a:pt x="177" y="31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25" name=""/>
                  <p:cNvGrpSpPr/>
                  <p:nvPr/>
                </p:nvGrpSpPr>
                <p:grpSpPr>
                  <a:xfrm>
                    <a:off x="1309680" y="1576440"/>
                    <a:ext cx="33480" cy="23760"/>
                    <a:chOff x="1309680" y="1576440"/>
                    <a:chExt cx="33480" cy="23760"/>
                  </a:xfrm>
                </p:grpSpPr>
                <p:sp>
                  <p:nvSpPr>
                    <p:cNvPr id="726" name=""/>
                    <p:cNvSpPr/>
                    <p:nvPr/>
                  </p:nvSpPr>
                  <p:spPr>
                    <a:xfrm>
                      <a:off x="1309680" y="1576440"/>
                      <a:ext cx="33480" cy="23760"/>
                    </a:xfrm>
                    <a:prstGeom prst="ellipse">
                      <a:avLst/>
                    </a:prstGeom>
                    <a:solidFill>
                      <a:srgbClr val="005f7f"/>
                    </a:solidFill>
                    <a:ln w="0">
                      <a:noFill/>
                    </a:ln>
                  </p:spPr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7" name=""/>
                    <p:cNvSpPr/>
                    <p:nvPr/>
                  </p:nvSpPr>
                  <p:spPr>
                    <a:xfrm>
                      <a:off x="1312920" y="1577880"/>
                      <a:ext cx="23760" cy="22320"/>
                    </a:xfrm>
                    <a:prstGeom prst="ellipse">
                      <a:avLst/>
                    </a:prstGeom>
                    <a:solidFill>
                      <a:srgbClr val="00a4bb"/>
                    </a:solidFill>
                    <a:ln w="0">
                      <a:noFill/>
                    </a:ln>
                  </p:spPr>
                  <p:txBody>
                    <a:bodyPr lIns="90000" rIns="90000" tIns="-22680" bIns="-22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8" name=""/>
                    <p:cNvSpPr/>
                    <p:nvPr/>
                  </p:nvSpPr>
                  <p:spPr>
                    <a:xfrm>
                      <a:off x="1319040" y="1577880"/>
                      <a:ext cx="12600" cy="17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9" name=""/>
                    <p:cNvSpPr/>
                    <p:nvPr/>
                  </p:nvSpPr>
                  <p:spPr>
                    <a:xfrm>
                      <a:off x="1316160" y="1579680"/>
                      <a:ext cx="1440" cy="46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0" name=""/>
                  <p:cNvSpPr/>
                  <p:nvPr/>
                </p:nvSpPr>
                <p:spPr>
                  <a:xfrm>
                    <a:off x="1292400" y="1600200"/>
                    <a:ext cx="4464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124" h="5">
                        <a:moveTo>
                          <a:pt x="124" y="0"/>
                        </a:moveTo>
                        <a:lnTo>
                          <a:pt x="106" y="0"/>
                        </a:lnTo>
                        <a:lnTo>
                          <a:pt x="84" y="0"/>
                        </a:lnTo>
                        <a:lnTo>
                          <a:pt x="61" y="0"/>
                        </a:lnTo>
                        <a:lnTo>
                          <a:pt x="39" y="0"/>
                        </a:lnTo>
                        <a:lnTo>
                          <a:pt x="26" y="0"/>
                        </a:lnTo>
                        <a:lnTo>
                          <a:pt x="13" y="5"/>
                        </a:lnTo>
                        <a:lnTo>
                          <a:pt x="8" y="5"/>
                        </a:lnTo>
                        <a:lnTo>
                          <a:pt x="0" y="5"/>
                        </a:lnTo>
                        <a:lnTo>
                          <a:pt x="8" y="5"/>
                        </a:lnTo>
                        <a:lnTo>
                          <a:pt x="4" y="0"/>
                        </a:lnTo>
                        <a:lnTo>
                          <a:pt x="13" y="0"/>
                        </a:lnTo>
                        <a:lnTo>
                          <a:pt x="8" y="0"/>
                        </a:lnTo>
                        <a:lnTo>
                          <a:pt x="22" y="0"/>
                        </a:lnTo>
                        <a:lnTo>
                          <a:pt x="35" y="0"/>
                        </a:lnTo>
                        <a:lnTo>
                          <a:pt x="26" y="0"/>
                        </a:lnTo>
                        <a:lnTo>
                          <a:pt x="39" y="0"/>
                        </a:lnTo>
                        <a:lnTo>
                          <a:pt x="48" y="0"/>
                        </a:lnTo>
                        <a:lnTo>
                          <a:pt x="57" y="0"/>
                        </a:lnTo>
                        <a:lnTo>
                          <a:pt x="84" y="0"/>
                        </a:lnTo>
                        <a:lnTo>
                          <a:pt x="102" y="0"/>
                        </a:lnTo>
                        <a:lnTo>
                          <a:pt x="12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1" name=""/>
                  <p:cNvSpPr/>
                  <p:nvPr/>
                </p:nvSpPr>
                <p:spPr>
                  <a:xfrm>
                    <a:off x="1295280" y="1577880"/>
                    <a:ext cx="57600" cy="9720"/>
                  </a:xfrm>
                  <a:custGeom>
                    <a:avLst/>
                    <a:gdLst/>
                    <a:ahLst/>
                    <a:rect l="0" t="0" r="r" b="b"/>
                    <a:pathLst>
                      <a:path w="160" h="27">
                        <a:moveTo>
                          <a:pt x="160" y="14"/>
                        </a:moveTo>
                        <a:lnTo>
                          <a:pt x="147" y="14"/>
                        </a:lnTo>
                        <a:lnTo>
                          <a:pt x="129" y="8"/>
                        </a:lnTo>
                        <a:lnTo>
                          <a:pt x="115" y="4"/>
                        </a:lnTo>
                        <a:lnTo>
                          <a:pt x="102" y="4"/>
                        </a:lnTo>
                        <a:lnTo>
                          <a:pt x="84" y="4"/>
                        </a:lnTo>
                        <a:lnTo>
                          <a:pt x="71" y="4"/>
                        </a:lnTo>
                        <a:lnTo>
                          <a:pt x="58" y="8"/>
                        </a:lnTo>
                        <a:lnTo>
                          <a:pt x="39" y="14"/>
                        </a:lnTo>
                        <a:lnTo>
                          <a:pt x="35" y="18"/>
                        </a:lnTo>
                        <a:lnTo>
                          <a:pt x="17" y="23"/>
                        </a:lnTo>
                        <a:lnTo>
                          <a:pt x="0" y="27"/>
                        </a:lnTo>
                        <a:lnTo>
                          <a:pt x="13" y="23"/>
                        </a:lnTo>
                        <a:lnTo>
                          <a:pt x="22" y="14"/>
                        </a:lnTo>
                        <a:lnTo>
                          <a:pt x="35" y="14"/>
                        </a:lnTo>
                        <a:lnTo>
                          <a:pt x="58" y="4"/>
                        </a:lnTo>
                        <a:lnTo>
                          <a:pt x="71" y="0"/>
                        </a:lnTo>
                        <a:lnTo>
                          <a:pt x="84" y="0"/>
                        </a:lnTo>
                        <a:lnTo>
                          <a:pt x="102" y="0"/>
                        </a:lnTo>
                        <a:lnTo>
                          <a:pt x="115" y="0"/>
                        </a:lnTo>
                        <a:lnTo>
                          <a:pt x="125" y="4"/>
                        </a:lnTo>
                        <a:lnTo>
                          <a:pt x="138" y="8"/>
                        </a:lnTo>
                        <a:lnTo>
                          <a:pt x="160" y="14"/>
                        </a:lnTo>
                        <a:close/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" name=""/>
                  <p:cNvSpPr/>
                  <p:nvPr/>
                </p:nvSpPr>
                <p:spPr>
                  <a:xfrm>
                    <a:off x="1293840" y="1577880"/>
                    <a:ext cx="54360" cy="8280"/>
                  </a:xfrm>
                  <a:custGeom>
                    <a:avLst/>
                    <a:gdLst/>
                    <a:ahLst/>
                    <a:rect l="0" t="0" r="r" b="b"/>
                    <a:pathLst>
                      <a:path w="151" h="23">
                        <a:moveTo>
                          <a:pt x="151" y="14"/>
                        </a:moveTo>
                        <a:lnTo>
                          <a:pt x="138" y="8"/>
                        </a:lnTo>
                        <a:lnTo>
                          <a:pt x="129" y="4"/>
                        </a:lnTo>
                        <a:lnTo>
                          <a:pt x="116" y="4"/>
                        </a:lnTo>
                        <a:lnTo>
                          <a:pt x="93" y="0"/>
                        </a:lnTo>
                        <a:lnTo>
                          <a:pt x="84" y="0"/>
                        </a:lnTo>
                        <a:lnTo>
                          <a:pt x="71" y="4"/>
                        </a:lnTo>
                        <a:lnTo>
                          <a:pt x="58" y="8"/>
                        </a:lnTo>
                        <a:lnTo>
                          <a:pt x="40" y="8"/>
                        </a:lnTo>
                        <a:lnTo>
                          <a:pt x="26" y="14"/>
                        </a:lnTo>
                        <a:lnTo>
                          <a:pt x="17" y="23"/>
                        </a:lnTo>
                        <a:lnTo>
                          <a:pt x="0" y="23"/>
                        </a:lnTo>
                        <a:lnTo>
                          <a:pt x="4" y="18"/>
                        </a:lnTo>
                        <a:lnTo>
                          <a:pt x="17" y="14"/>
                        </a:lnTo>
                        <a:lnTo>
                          <a:pt x="40" y="8"/>
                        </a:lnTo>
                        <a:lnTo>
                          <a:pt x="58" y="0"/>
                        </a:lnTo>
                        <a:lnTo>
                          <a:pt x="71" y="0"/>
                        </a:lnTo>
                        <a:lnTo>
                          <a:pt x="84" y="0"/>
                        </a:lnTo>
                        <a:lnTo>
                          <a:pt x="93" y="0"/>
                        </a:lnTo>
                        <a:lnTo>
                          <a:pt x="111" y="0"/>
                        </a:lnTo>
                        <a:lnTo>
                          <a:pt x="129" y="0"/>
                        </a:lnTo>
                        <a:lnTo>
                          <a:pt x="134" y="4"/>
                        </a:lnTo>
                        <a:lnTo>
                          <a:pt x="151" y="1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" name=""/>
                  <p:cNvSpPr/>
                  <p:nvPr/>
                </p:nvSpPr>
                <p:spPr>
                  <a:xfrm>
                    <a:off x="1298520" y="1571760"/>
                    <a:ext cx="59040" cy="6840"/>
                  </a:xfrm>
                  <a:custGeom>
                    <a:avLst/>
                    <a:gdLst/>
                    <a:ahLst/>
                    <a:rect l="0" t="0" r="r" b="b"/>
                    <a:pathLst>
                      <a:path w="164" h="19">
                        <a:moveTo>
                          <a:pt x="164" y="19"/>
                        </a:moveTo>
                        <a:lnTo>
                          <a:pt x="137" y="9"/>
                        </a:lnTo>
                        <a:lnTo>
                          <a:pt x="120" y="4"/>
                        </a:lnTo>
                        <a:lnTo>
                          <a:pt x="111" y="4"/>
                        </a:lnTo>
                        <a:lnTo>
                          <a:pt x="84" y="0"/>
                        </a:lnTo>
                        <a:lnTo>
                          <a:pt x="74" y="0"/>
                        </a:lnTo>
                        <a:lnTo>
                          <a:pt x="44" y="4"/>
                        </a:lnTo>
                        <a:lnTo>
                          <a:pt x="26" y="9"/>
                        </a:lnTo>
                        <a:lnTo>
                          <a:pt x="8" y="15"/>
                        </a:lnTo>
                        <a:lnTo>
                          <a:pt x="0" y="19"/>
                        </a:lnTo>
                        <a:lnTo>
                          <a:pt x="13" y="15"/>
                        </a:lnTo>
                        <a:lnTo>
                          <a:pt x="26" y="9"/>
                        </a:lnTo>
                        <a:lnTo>
                          <a:pt x="44" y="4"/>
                        </a:lnTo>
                        <a:lnTo>
                          <a:pt x="61" y="0"/>
                        </a:lnTo>
                        <a:lnTo>
                          <a:pt x="74" y="0"/>
                        </a:lnTo>
                        <a:lnTo>
                          <a:pt x="84" y="0"/>
                        </a:lnTo>
                        <a:lnTo>
                          <a:pt x="111" y="0"/>
                        </a:lnTo>
                        <a:lnTo>
                          <a:pt x="120" y="4"/>
                        </a:lnTo>
                        <a:lnTo>
                          <a:pt x="133" y="4"/>
                        </a:lnTo>
                        <a:lnTo>
                          <a:pt x="142" y="15"/>
                        </a:lnTo>
                        <a:lnTo>
                          <a:pt x="164" y="19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734" name=""/>
            <p:cNvGrpSpPr/>
            <p:nvPr/>
          </p:nvGrpSpPr>
          <p:grpSpPr>
            <a:xfrm>
              <a:off x="682560" y="1825560"/>
              <a:ext cx="1525680" cy="4318560"/>
              <a:chOff x="682560" y="1825560"/>
              <a:chExt cx="1525680" cy="4318560"/>
            </a:xfrm>
          </p:grpSpPr>
          <p:sp>
            <p:nvSpPr>
              <p:cNvPr id="735" name=""/>
              <p:cNvSpPr/>
              <p:nvPr/>
            </p:nvSpPr>
            <p:spPr>
              <a:xfrm flipV="1">
                <a:off x="1366920" y="3240000"/>
                <a:ext cx="0" cy="67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36" name=""/>
              <p:cNvGrpSpPr/>
              <p:nvPr/>
            </p:nvGrpSpPr>
            <p:grpSpPr>
              <a:xfrm>
                <a:off x="1141560" y="4622760"/>
                <a:ext cx="443160" cy="1521360"/>
                <a:chOff x="1141560" y="4622760"/>
                <a:chExt cx="443160" cy="1521360"/>
              </a:xfrm>
            </p:grpSpPr>
            <p:grpSp>
              <p:nvGrpSpPr>
                <p:cNvPr id="737" name=""/>
                <p:cNvGrpSpPr/>
                <p:nvPr/>
              </p:nvGrpSpPr>
              <p:grpSpPr>
                <a:xfrm>
                  <a:off x="1141560" y="4622760"/>
                  <a:ext cx="284400" cy="1394280"/>
                  <a:chOff x="1141560" y="4622760"/>
                  <a:chExt cx="284400" cy="1394280"/>
                </a:xfrm>
              </p:grpSpPr>
              <p:grpSp>
                <p:nvGrpSpPr>
                  <p:cNvPr id="738" name=""/>
                  <p:cNvGrpSpPr/>
                  <p:nvPr/>
                </p:nvGrpSpPr>
                <p:grpSpPr>
                  <a:xfrm>
                    <a:off x="1141560" y="4622760"/>
                    <a:ext cx="284400" cy="1244880"/>
                    <a:chOff x="1141560" y="4622760"/>
                    <a:chExt cx="284400" cy="1244880"/>
                  </a:xfrm>
                </p:grpSpPr>
                <p:sp>
                  <p:nvSpPr>
                    <p:cNvPr id="739" name=""/>
                    <p:cNvSpPr/>
                    <p:nvPr/>
                  </p:nvSpPr>
                  <p:spPr>
                    <a:xfrm>
                      <a:off x="1141560" y="4622760"/>
                      <a:ext cx="284400" cy="124488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790" h="3458">
                          <a:moveTo>
                            <a:pt x="0" y="22"/>
                          </a:moveTo>
                          <a:lnTo>
                            <a:pt x="0" y="277"/>
                          </a:lnTo>
                          <a:lnTo>
                            <a:pt x="22" y="489"/>
                          </a:lnTo>
                          <a:lnTo>
                            <a:pt x="35" y="696"/>
                          </a:lnTo>
                          <a:lnTo>
                            <a:pt x="57" y="864"/>
                          </a:lnTo>
                          <a:lnTo>
                            <a:pt x="79" y="1014"/>
                          </a:lnTo>
                          <a:lnTo>
                            <a:pt x="114" y="1172"/>
                          </a:lnTo>
                          <a:lnTo>
                            <a:pt x="141" y="1340"/>
                          </a:lnTo>
                          <a:lnTo>
                            <a:pt x="167" y="1446"/>
                          </a:lnTo>
                          <a:lnTo>
                            <a:pt x="194" y="1583"/>
                          </a:lnTo>
                          <a:lnTo>
                            <a:pt x="229" y="1734"/>
                          </a:lnTo>
                          <a:lnTo>
                            <a:pt x="251" y="1853"/>
                          </a:lnTo>
                          <a:lnTo>
                            <a:pt x="277" y="1954"/>
                          </a:lnTo>
                          <a:lnTo>
                            <a:pt x="299" y="2051"/>
                          </a:lnTo>
                          <a:lnTo>
                            <a:pt x="321" y="2179"/>
                          </a:lnTo>
                          <a:lnTo>
                            <a:pt x="352" y="2316"/>
                          </a:lnTo>
                          <a:lnTo>
                            <a:pt x="357" y="2413"/>
                          </a:lnTo>
                          <a:lnTo>
                            <a:pt x="370" y="2545"/>
                          </a:lnTo>
                          <a:lnTo>
                            <a:pt x="370" y="2668"/>
                          </a:lnTo>
                          <a:lnTo>
                            <a:pt x="370" y="2757"/>
                          </a:lnTo>
                          <a:lnTo>
                            <a:pt x="313" y="2920"/>
                          </a:lnTo>
                          <a:lnTo>
                            <a:pt x="286" y="3021"/>
                          </a:lnTo>
                          <a:lnTo>
                            <a:pt x="246" y="3158"/>
                          </a:lnTo>
                          <a:lnTo>
                            <a:pt x="229" y="3255"/>
                          </a:lnTo>
                          <a:lnTo>
                            <a:pt x="238" y="3370"/>
                          </a:lnTo>
                          <a:lnTo>
                            <a:pt x="291" y="3440"/>
                          </a:lnTo>
                          <a:lnTo>
                            <a:pt x="370" y="3453"/>
                          </a:lnTo>
                          <a:lnTo>
                            <a:pt x="499" y="3458"/>
                          </a:lnTo>
                          <a:lnTo>
                            <a:pt x="587" y="3436"/>
                          </a:lnTo>
                          <a:lnTo>
                            <a:pt x="636" y="3352"/>
                          </a:lnTo>
                          <a:lnTo>
                            <a:pt x="662" y="3264"/>
                          </a:lnTo>
                          <a:lnTo>
                            <a:pt x="671" y="3162"/>
                          </a:lnTo>
                          <a:lnTo>
                            <a:pt x="715" y="3065"/>
                          </a:lnTo>
                          <a:lnTo>
                            <a:pt x="733" y="2959"/>
                          </a:lnTo>
                          <a:lnTo>
                            <a:pt x="755" y="2862"/>
                          </a:lnTo>
                          <a:lnTo>
                            <a:pt x="741" y="2735"/>
                          </a:lnTo>
                          <a:lnTo>
                            <a:pt x="715" y="2633"/>
                          </a:lnTo>
                          <a:lnTo>
                            <a:pt x="693" y="2492"/>
                          </a:lnTo>
                          <a:lnTo>
                            <a:pt x="675" y="2373"/>
                          </a:lnTo>
                          <a:lnTo>
                            <a:pt x="671" y="2280"/>
                          </a:lnTo>
                          <a:lnTo>
                            <a:pt x="671" y="2170"/>
                          </a:lnTo>
                          <a:lnTo>
                            <a:pt x="666" y="2038"/>
                          </a:lnTo>
                          <a:lnTo>
                            <a:pt x="671" y="1950"/>
                          </a:lnTo>
                          <a:lnTo>
                            <a:pt x="671" y="1844"/>
                          </a:lnTo>
                          <a:lnTo>
                            <a:pt x="675" y="1715"/>
                          </a:lnTo>
                          <a:lnTo>
                            <a:pt x="684" y="1605"/>
                          </a:lnTo>
                          <a:lnTo>
                            <a:pt x="710" y="1508"/>
                          </a:lnTo>
                          <a:lnTo>
                            <a:pt x="724" y="1384"/>
                          </a:lnTo>
                          <a:lnTo>
                            <a:pt x="733" y="1300"/>
                          </a:lnTo>
                          <a:lnTo>
                            <a:pt x="746" y="1172"/>
                          </a:lnTo>
                          <a:lnTo>
                            <a:pt x="746" y="1067"/>
                          </a:lnTo>
                          <a:lnTo>
                            <a:pt x="746" y="952"/>
                          </a:lnTo>
                          <a:lnTo>
                            <a:pt x="746" y="745"/>
                          </a:lnTo>
                          <a:lnTo>
                            <a:pt x="746" y="626"/>
                          </a:lnTo>
                          <a:lnTo>
                            <a:pt x="755" y="533"/>
                          </a:lnTo>
                          <a:lnTo>
                            <a:pt x="781" y="436"/>
                          </a:lnTo>
                          <a:lnTo>
                            <a:pt x="790" y="352"/>
                          </a:lnTo>
                          <a:lnTo>
                            <a:pt x="781" y="251"/>
                          </a:lnTo>
                          <a:lnTo>
                            <a:pt x="772" y="0"/>
                          </a:lnTo>
                          <a:lnTo>
                            <a:pt x="0" y="22"/>
                          </a:lnTo>
                          <a:close/>
                        </a:path>
                      </a:pathLst>
                    </a:custGeom>
                    <a:solidFill>
                      <a:srgbClr val="ffdfb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0" name=""/>
                    <p:cNvSpPr/>
                    <p:nvPr/>
                  </p:nvSpPr>
                  <p:spPr>
                    <a:xfrm>
                      <a:off x="1144440" y="4740120"/>
                      <a:ext cx="157680" cy="1908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438" h="530">
                          <a:moveTo>
                            <a:pt x="61" y="530"/>
                          </a:moveTo>
                          <a:lnTo>
                            <a:pt x="105" y="499"/>
                          </a:lnTo>
                          <a:lnTo>
                            <a:pt x="181" y="459"/>
                          </a:lnTo>
                          <a:lnTo>
                            <a:pt x="247" y="428"/>
                          </a:lnTo>
                          <a:lnTo>
                            <a:pt x="314" y="411"/>
                          </a:lnTo>
                          <a:lnTo>
                            <a:pt x="403" y="397"/>
                          </a:lnTo>
                          <a:lnTo>
                            <a:pt x="438" y="17"/>
                          </a:lnTo>
                          <a:lnTo>
                            <a:pt x="0" y="0"/>
                          </a:lnTo>
                          <a:lnTo>
                            <a:pt x="22" y="185"/>
                          </a:lnTo>
                          <a:lnTo>
                            <a:pt x="30" y="362"/>
                          </a:lnTo>
                          <a:lnTo>
                            <a:pt x="61" y="530"/>
                          </a:lnTo>
                          <a:close/>
                        </a:path>
                      </a:pathLst>
                    </a:custGeom>
                    <a:solidFill>
                      <a:srgbClr val="ff9f7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1" name=""/>
                  <p:cNvGrpSpPr/>
                  <p:nvPr/>
                </p:nvGrpSpPr>
                <p:grpSpPr>
                  <a:xfrm>
                    <a:off x="1168560" y="5672160"/>
                    <a:ext cx="240120" cy="344880"/>
                    <a:chOff x="1168560" y="5672160"/>
                    <a:chExt cx="240120" cy="344880"/>
                  </a:xfrm>
                </p:grpSpPr>
                <p:sp>
                  <p:nvSpPr>
                    <p:cNvPr id="742" name=""/>
                    <p:cNvSpPr/>
                    <p:nvPr/>
                  </p:nvSpPr>
                  <p:spPr>
                    <a:xfrm>
                      <a:off x="1168560" y="5672160"/>
                      <a:ext cx="240120" cy="34488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667" h="958">
                          <a:moveTo>
                            <a:pt x="190" y="207"/>
                          </a:moveTo>
                          <a:lnTo>
                            <a:pt x="114" y="353"/>
                          </a:lnTo>
                          <a:lnTo>
                            <a:pt x="92" y="415"/>
                          </a:lnTo>
                          <a:lnTo>
                            <a:pt x="70" y="459"/>
                          </a:lnTo>
                          <a:lnTo>
                            <a:pt x="44" y="494"/>
                          </a:lnTo>
                          <a:lnTo>
                            <a:pt x="22" y="547"/>
                          </a:lnTo>
                          <a:lnTo>
                            <a:pt x="17" y="583"/>
                          </a:lnTo>
                          <a:lnTo>
                            <a:pt x="0" y="636"/>
                          </a:lnTo>
                          <a:lnTo>
                            <a:pt x="8" y="715"/>
                          </a:lnTo>
                          <a:lnTo>
                            <a:pt x="22" y="756"/>
                          </a:lnTo>
                          <a:lnTo>
                            <a:pt x="70" y="835"/>
                          </a:lnTo>
                          <a:lnTo>
                            <a:pt x="123" y="888"/>
                          </a:lnTo>
                          <a:lnTo>
                            <a:pt x="181" y="936"/>
                          </a:lnTo>
                          <a:lnTo>
                            <a:pt x="278" y="958"/>
                          </a:lnTo>
                          <a:lnTo>
                            <a:pt x="353" y="919"/>
                          </a:lnTo>
                          <a:lnTo>
                            <a:pt x="424" y="883"/>
                          </a:lnTo>
                          <a:lnTo>
                            <a:pt x="477" y="826"/>
                          </a:lnTo>
                          <a:lnTo>
                            <a:pt x="522" y="782"/>
                          </a:lnTo>
                          <a:lnTo>
                            <a:pt x="535" y="734"/>
                          </a:lnTo>
                          <a:lnTo>
                            <a:pt x="553" y="644"/>
                          </a:lnTo>
                          <a:lnTo>
                            <a:pt x="570" y="569"/>
                          </a:lnTo>
                          <a:lnTo>
                            <a:pt x="579" y="508"/>
                          </a:lnTo>
                          <a:lnTo>
                            <a:pt x="588" y="450"/>
                          </a:lnTo>
                          <a:lnTo>
                            <a:pt x="597" y="406"/>
                          </a:lnTo>
                          <a:lnTo>
                            <a:pt x="601" y="327"/>
                          </a:lnTo>
                          <a:lnTo>
                            <a:pt x="614" y="269"/>
                          </a:lnTo>
                          <a:lnTo>
                            <a:pt x="637" y="224"/>
                          </a:lnTo>
                          <a:lnTo>
                            <a:pt x="654" y="176"/>
                          </a:lnTo>
                          <a:lnTo>
                            <a:pt x="667" y="97"/>
                          </a:lnTo>
                          <a:lnTo>
                            <a:pt x="667" y="0"/>
                          </a:lnTo>
                          <a:lnTo>
                            <a:pt x="645" y="83"/>
                          </a:lnTo>
                          <a:lnTo>
                            <a:pt x="637" y="171"/>
                          </a:lnTo>
                          <a:lnTo>
                            <a:pt x="601" y="224"/>
                          </a:lnTo>
                          <a:lnTo>
                            <a:pt x="588" y="292"/>
                          </a:lnTo>
                          <a:lnTo>
                            <a:pt x="579" y="380"/>
                          </a:lnTo>
                          <a:lnTo>
                            <a:pt x="566" y="450"/>
                          </a:lnTo>
                          <a:lnTo>
                            <a:pt x="535" y="481"/>
                          </a:lnTo>
                          <a:lnTo>
                            <a:pt x="494" y="525"/>
                          </a:lnTo>
                          <a:lnTo>
                            <a:pt x="459" y="534"/>
                          </a:lnTo>
                          <a:lnTo>
                            <a:pt x="415" y="543"/>
                          </a:lnTo>
                          <a:lnTo>
                            <a:pt x="336" y="534"/>
                          </a:lnTo>
                          <a:lnTo>
                            <a:pt x="278" y="508"/>
                          </a:lnTo>
                          <a:lnTo>
                            <a:pt x="225" y="494"/>
                          </a:lnTo>
                          <a:lnTo>
                            <a:pt x="195" y="472"/>
                          </a:lnTo>
                          <a:lnTo>
                            <a:pt x="154" y="424"/>
                          </a:lnTo>
                          <a:lnTo>
                            <a:pt x="154" y="362"/>
                          </a:lnTo>
                          <a:lnTo>
                            <a:pt x="190" y="20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3" name=""/>
                    <p:cNvSpPr/>
                    <p:nvPr/>
                  </p:nvSpPr>
                  <p:spPr>
                    <a:xfrm>
                      <a:off x="1230480" y="5840280"/>
                      <a:ext cx="74520" cy="68400"/>
                    </a:xfrm>
                    <a:prstGeom prst="ellipse">
                      <a:avLst/>
                    </a:prstGeom>
                    <a:solidFill>
                      <a:srgbClr val="5f5f7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17280" bIns="17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44" name=""/>
                <p:cNvGrpSpPr/>
                <p:nvPr/>
              </p:nvGrpSpPr>
              <p:grpSpPr>
                <a:xfrm>
                  <a:off x="1293840" y="4738680"/>
                  <a:ext cx="290880" cy="1405440"/>
                  <a:chOff x="1293840" y="4738680"/>
                  <a:chExt cx="290880" cy="1405440"/>
                </a:xfrm>
              </p:grpSpPr>
              <p:sp>
                <p:nvSpPr>
                  <p:cNvPr id="745" name=""/>
                  <p:cNvSpPr/>
                  <p:nvPr/>
                </p:nvSpPr>
                <p:spPr>
                  <a:xfrm>
                    <a:off x="1298520" y="4738680"/>
                    <a:ext cx="286200" cy="1249560"/>
                  </a:xfrm>
                  <a:custGeom>
                    <a:avLst/>
                    <a:gdLst/>
                    <a:ahLst/>
                    <a:rect l="0" t="0" r="r" b="b"/>
                    <a:pathLst>
                      <a:path w="795" h="3471">
                        <a:moveTo>
                          <a:pt x="795" y="22"/>
                        </a:moveTo>
                        <a:lnTo>
                          <a:pt x="747" y="286"/>
                        </a:lnTo>
                        <a:lnTo>
                          <a:pt x="725" y="480"/>
                        </a:lnTo>
                        <a:lnTo>
                          <a:pt x="711" y="709"/>
                        </a:lnTo>
                        <a:lnTo>
                          <a:pt x="689" y="881"/>
                        </a:lnTo>
                        <a:lnTo>
                          <a:pt x="659" y="1067"/>
                        </a:lnTo>
                        <a:lnTo>
                          <a:pt x="645" y="1199"/>
                        </a:lnTo>
                        <a:lnTo>
                          <a:pt x="619" y="1340"/>
                        </a:lnTo>
                        <a:lnTo>
                          <a:pt x="591" y="1494"/>
                        </a:lnTo>
                        <a:lnTo>
                          <a:pt x="561" y="1605"/>
                        </a:lnTo>
                        <a:lnTo>
                          <a:pt x="538" y="1742"/>
                        </a:lnTo>
                        <a:lnTo>
                          <a:pt x="512" y="1857"/>
                        </a:lnTo>
                        <a:lnTo>
                          <a:pt x="499" y="1976"/>
                        </a:lnTo>
                        <a:lnTo>
                          <a:pt x="494" y="2064"/>
                        </a:lnTo>
                        <a:lnTo>
                          <a:pt x="472" y="2192"/>
                        </a:lnTo>
                        <a:lnTo>
                          <a:pt x="446" y="2324"/>
                        </a:lnTo>
                        <a:lnTo>
                          <a:pt x="437" y="2421"/>
                        </a:lnTo>
                        <a:lnTo>
                          <a:pt x="428" y="2545"/>
                        </a:lnTo>
                        <a:lnTo>
                          <a:pt x="428" y="2682"/>
                        </a:lnTo>
                        <a:lnTo>
                          <a:pt x="428" y="2761"/>
                        </a:lnTo>
                        <a:lnTo>
                          <a:pt x="477" y="2929"/>
                        </a:lnTo>
                        <a:lnTo>
                          <a:pt x="508" y="3026"/>
                        </a:lnTo>
                        <a:lnTo>
                          <a:pt x="543" y="3176"/>
                        </a:lnTo>
                        <a:lnTo>
                          <a:pt x="561" y="3264"/>
                        </a:lnTo>
                        <a:lnTo>
                          <a:pt x="552" y="3383"/>
                        </a:lnTo>
                        <a:lnTo>
                          <a:pt x="499" y="3449"/>
                        </a:lnTo>
                        <a:lnTo>
                          <a:pt x="428" y="3462"/>
                        </a:lnTo>
                        <a:lnTo>
                          <a:pt x="296" y="3471"/>
                        </a:lnTo>
                        <a:lnTo>
                          <a:pt x="203" y="3440"/>
                        </a:lnTo>
                        <a:lnTo>
                          <a:pt x="149" y="3356"/>
                        </a:lnTo>
                        <a:lnTo>
                          <a:pt x="127" y="3273"/>
                        </a:lnTo>
                        <a:lnTo>
                          <a:pt x="119" y="3176"/>
                        </a:lnTo>
                        <a:lnTo>
                          <a:pt x="74" y="3074"/>
                        </a:lnTo>
                        <a:lnTo>
                          <a:pt x="52" y="2964"/>
                        </a:lnTo>
                        <a:lnTo>
                          <a:pt x="35" y="2867"/>
                        </a:lnTo>
                        <a:lnTo>
                          <a:pt x="48" y="2743"/>
                        </a:lnTo>
                        <a:lnTo>
                          <a:pt x="74" y="2642"/>
                        </a:lnTo>
                        <a:lnTo>
                          <a:pt x="88" y="2496"/>
                        </a:lnTo>
                        <a:lnTo>
                          <a:pt x="114" y="2377"/>
                        </a:lnTo>
                        <a:lnTo>
                          <a:pt x="119" y="2289"/>
                        </a:lnTo>
                        <a:lnTo>
                          <a:pt x="119" y="2174"/>
                        </a:lnTo>
                        <a:lnTo>
                          <a:pt x="119" y="2042"/>
                        </a:lnTo>
                        <a:lnTo>
                          <a:pt x="119" y="1950"/>
                        </a:lnTo>
                        <a:lnTo>
                          <a:pt x="119" y="1853"/>
                        </a:lnTo>
                        <a:lnTo>
                          <a:pt x="114" y="1724"/>
                        </a:lnTo>
                        <a:lnTo>
                          <a:pt x="101" y="1613"/>
                        </a:lnTo>
                        <a:lnTo>
                          <a:pt x="83" y="1516"/>
                        </a:lnTo>
                        <a:lnTo>
                          <a:pt x="57" y="1397"/>
                        </a:lnTo>
                        <a:lnTo>
                          <a:pt x="52" y="1314"/>
                        </a:lnTo>
                        <a:lnTo>
                          <a:pt x="39" y="1177"/>
                        </a:lnTo>
                        <a:lnTo>
                          <a:pt x="39" y="1071"/>
                        </a:lnTo>
                        <a:lnTo>
                          <a:pt x="39" y="952"/>
                        </a:lnTo>
                        <a:lnTo>
                          <a:pt x="39" y="749"/>
                        </a:lnTo>
                        <a:lnTo>
                          <a:pt x="39" y="643"/>
                        </a:lnTo>
                        <a:lnTo>
                          <a:pt x="35" y="542"/>
                        </a:lnTo>
                        <a:lnTo>
                          <a:pt x="8" y="445"/>
                        </a:lnTo>
                        <a:lnTo>
                          <a:pt x="0" y="357"/>
                        </a:lnTo>
                        <a:lnTo>
                          <a:pt x="8" y="255"/>
                        </a:lnTo>
                        <a:lnTo>
                          <a:pt x="17" y="0"/>
                        </a:lnTo>
                        <a:lnTo>
                          <a:pt x="795" y="22"/>
                        </a:lnTo>
                        <a:close/>
                      </a:path>
                    </a:pathLst>
                  </a:custGeom>
                  <a:solidFill>
                    <a:srgbClr val="ffdfb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" name=""/>
                  <p:cNvSpPr/>
                  <p:nvPr/>
                </p:nvSpPr>
                <p:spPr>
                  <a:xfrm>
                    <a:off x="1293840" y="4754520"/>
                    <a:ext cx="276480" cy="146520"/>
                  </a:xfrm>
                  <a:custGeom>
                    <a:avLst/>
                    <a:gdLst/>
                    <a:ahLst/>
                    <a:rect l="0" t="0" r="r" b="b"/>
                    <a:pathLst>
                      <a:path w="768" h="407">
                        <a:moveTo>
                          <a:pt x="13" y="407"/>
                        </a:moveTo>
                        <a:lnTo>
                          <a:pt x="57" y="376"/>
                        </a:lnTo>
                        <a:lnTo>
                          <a:pt x="114" y="341"/>
                        </a:lnTo>
                        <a:lnTo>
                          <a:pt x="202" y="296"/>
                        </a:lnTo>
                        <a:lnTo>
                          <a:pt x="277" y="278"/>
                        </a:lnTo>
                        <a:lnTo>
                          <a:pt x="374" y="265"/>
                        </a:lnTo>
                        <a:lnTo>
                          <a:pt x="464" y="265"/>
                        </a:lnTo>
                        <a:lnTo>
                          <a:pt x="596" y="265"/>
                        </a:lnTo>
                        <a:lnTo>
                          <a:pt x="763" y="265"/>
                        </a:lnTo>
                        <a:lnTo>
                          <a:pt x="768" y="133"/>
                        </a:lnTo>
                        <a:lnTo>
                          <a:pt x="768" y="0"/>
                        </a:lnTo>
                        <a:lnTo>
                          <a:pt x="22" y="0"/>
                        </a:lnTo>
                        <a:lnTo>
                          <a:pt x="4" y="186"/>
                        </a:lnTo>
                        <a:lnTo>
                          <a:pt x="0" y="265"/>
                        </a:lnTo>
                        <a:lnTo>
                          <a:pt x="0" y="332"/>
                        </a:lnTo>
                        <a:lnTo>
                          <a:pt x="13" y="407"/>
                        </a:lnTo>
                        <a:close/>
                      </a:path>
                    </a:pathLst>
                  </a:custGeom>
                  <a:solidFill>
                    <a:srgbClr val="ff9f7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47" name=""/>
                  <p:cNvGrpSpPr/>
                  <p:nvPr/>
                </p:nvGrpSpPr>
                <p:grpSpPr>
                  <a:xfrm>
                    <a:off x="1311120" y="5788080"/>
                    <a:ext cx="244800" cy="356040"/>
                    <a:chOff x="1311120" y="5788080"/>
                    <a:chExt cx="244800" cy="356040"/>
                  </a:xfrm>
                </p:grpSpPr>
                <p:sp>
                  <p:nvSpPr>
                    <p:cNvPr id="748" name=""/>
                    <p:cNvSpPr/>
                    <p:nvPr/>
                  </p:nvSpPr>
                  <p:spPr>
                    <a:xfrm>
                      <a:off x="1311120" y="5788080"/>
                      <a:ext cx="244800" cy="3560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680" h="989">
                          <a:moveTo>
                            <a:pt x="494" y="229"/>
                          </a:moveTo>
                          <a:lnTo>
                            <a:pt x="569" y="358"/>
                          </a:lnTo>
                          <a:lnTo>
                            <a:pt x="596" y="419"/>
                          </a:lnTo>
                          <a:lnTo>
                            <a:pt x="613" y="459"/>
                          </a:lnTo>
                          <a:lnTo>
                            <a:pt x="636" y="508"/>
                          </a:lnTo>
                          <a:lnTo>
                            <a:pt x="662" y="547"/>
                          </a:lnTo>
                          <a:lnTo>
                            <a:pt x="662" y="583"/>
                          </a:lnTo>
                          <a:lnTo>
                            <a:pt x="680" y="640"/>
                          </a:lnTo>
                          <a:lnTo>
                            <a:pt x="680" y="706"/>
                          </a:lnTo>
                          <a:lnTo>
                            <a:pt x="662" y="769"/>
                          </a:lnTo>
                          <a:lnTo>
                            <a:pt x="627" y="866"/>
                          </a:lnTo>
                          <a:lnTo>
                            <a:pt x="587" y="919"/>
                          </a:lnTo>
                          <a:lnTo>
                            <a:pt x="538" y="963"/>
                          </a:lnTo>
                          <a:lnTo>
                            <a:pt x="486" y="989"/>
                          </a:lnTo>
                          <a:lnTo>
                            <a:pt x="402" y="954"/>
                          </a:lnTo>
                          <a:lnTo>
                            <a:pt x="295" y="910"/>
                          </a:lnTo>
                          <a:lnTo>
                            <a:pt x="202" y="835"/>
                          </a:lnTo>
                          <a:lnTo>
                            <a:pt x="154" y="786"/>
                          </a:lnTo>
                          <a:lnTo>
                            <a:pt x="132" y="737"/>
                          </a:lnTo>
                          <a:lnTo>
                            <a:pt x="132" y="662"/>
                          </a:lnTo>
                          <a:lnTo>
                            <a:pt x="110" y="578"/>
                          </a:lnTo>
                          <a:lnTo>
                            <a:pt x="105" y="516"/>
                          </a:lnTo>
                          <a:lnTo>
                            <a:pt x="83" y="455"/>
                          </a:lnTo>
                          <a:lnTo>
                            <a:pt x="79" y="411"/>
                          </a:lnTo>
                          <a:lnTo>
                            <a:pt x="66" y="331"/>
                          </a:lnTo>
                          <a:lnTo>
                            <a:pt x="57" y="283"/>
                          </a:lnTo>
                          <a:lnTo>
                            <a:pt x="48" y="233"/>
                          </a:lnTo>
                          <a:lnTo>
                            <a:pt x="17" y="185"/>
                          </a:lnTo>
                          <a:lnTo>
                            <a:pt x="0" y="105"/>
                          </a:lnTo>
                          <a:lnTo>
                            <a:pt x="0" y="0"/>
                          </a:lnTo>
                          <a:lnTo>
                            <a:pt x="22" y="83"/>
                          </a:lnTo>
                          <a:lnTo>
                            <a:pt x="44" y="180"/>
                          </a:lnTo>
                          <a:lnTo>
                            <a:pt x="66" y="233"/>
                          </a:lnTo>
                          <a:lnTo>
                            <a:pt x="83" y="305"/>
                          </a:lnTo>
                          <a:lnTo>
                            <a:pt x="105" y="380"/>
                          </a:lnTo>
                          <a:lnTo>
                            <a:pt x="114" y="455"/>
                          </a:lnTo>
                          <a:lnTo>
                            <a:pt x="132" y="490"/>
                          </a:lnTo>
                          <a:lnTo>
                            <a:pt x="180" y="525"/>
                          </a:lnTo>
                          <a:lnTo>
                            <a:pt x="216" y="538"/>
                          </a:lnTo>
                          <a:lnTo>
                            <a:pt x="264" y="547"/>
                          </a:lnTo>
                          <a:lnTo>
                            <a:pt x="335" y="538"/>
                          </a:lnTo>
                          <a:lnTo>
                            <a:pt x="402" y="516"/>
                          </a:lnTo>
                          <a:lnTo>
                            <a:pt x="459" y="499"/>
                          </a:lnTo>
                          <a:lnTo>
                            <a:pt x="486" y="481"/>
                          </a:lnTo>
                          <a:lnTo>
                            <a:pt x="525" y="424"/>
                          </a:lnTo>
                          <a:lnTo>
                            <a:pt x="525" y="367"/>
                          </a:lnTo>
                          <a:lnTo>
                            <a:pt x="494" y="229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9" name=""/>
                    <p:cNvSpPr/>
                    <p:nvPr/>
                  </p:nvSpPr>
                  <p:spPr>
                    <a:xfrm>
                      <a:off x="1420920" y="5969160"/>
                      <a:ext cx="79200" cy="84240"/>
                    </a:xfrm>
                    <a:prstGeom prst="ellipse">
                      <a:avLst/>
                    </a:prstGeom>
                    <a:solidFill>
                      <a:srgbClr val="5f5f7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33120" bIns="33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750" name=""/>
                <p:cNvSpPr/>
                <p:nvPr/>
              </p:nvSpPr>
              <p:spPr>
                <a:xfrm>
                  <a:off x="1328760" y="4933800"/>
                  <a:ext cx="1440" cy="800280"/>
                </a:xfrm>
                <a:prstGeom prst="line">
                  <a:avLst/>
                </a:prstGeom>
                <a:ln w="12600">
                  <a:solidFill>
                    <a:srgbClr val="ff9f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1" name=""/>
              <p:cNvGrpSpPr/>
              <p:nvPr/>
            </p:nvGrpSpPr>
            <p:grpSpPr>
              <a:xfrm>
                <a:off x="682560" y="1825560"/>
                <a:ext cx="1325880" cy="3011760"/>
                <a:chOff x="682560" y="1825560"/>
                <a:chExt cx="1325880" cy="3011760"/>
              </a:xfrm>
            </p:grpSpPr>
            <p:grpSp>
              <p:nvGrpSpPr>
                <p:cNvPr id="752" name=""/>
                <p:cNvGrpSpPr/>
                <p:nvPr/>
              </p:nvGrpSpPr>
              <p:grpSpPr>
                <a:xfrm>
                  <a:off x="682560" y="1825560"/>
                  <a:ext cx="1325880" cy="3011760"/>
                  <a:chOff x="682560" y="1825560"/>
                  <a:chExt cx="1325880" cy="3011760"/>
                </a:xfrm>
              </p:grpSpPr>
              <p:grpSp>
                <p:nvGrpSpPr>
                  <p:cNvPr id="753" name=""/>
                  <p:cNvGrpSpPr/>
                  <p:nvPr/>
                </p:nvGrpSpPr>
                <p:grpSpPr>
                  <a:xfrm>
                    <a:off x="941400" y="3433680"/>
                    <a:ext cx="817920" cy="1403640"/>
                    <a:chOff x="941400" y="3433680"/>
                    <a:chExt cx="817920" cy="1403640"/>
                  </a:xfrm>
                </p:grpSpPr>
                <p:sp>
                  <p:nvSpPr>
                    <p:cNvPr id="754" name=""/>
                    <p:cNvSpPr/>
                    <p:nvPr/>
                  </p:nvSpPr>
                  <p:spPr>
                    <a:xfrm>
                      <a:off x="941400" y="3433680"/>
                      <a:ext cx="817920" cy="14036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2272" h="3899">
                          <a:moveTo>
                            <a:pt x="0" y="0"/>
                          </a:moveTo>
                          <a:lnTo>
                            <a:pt x="17" y="1389"/>
                          </a:lnTo>
                          <a:lnTo>
                            <a:pt x="79" y="1838"/>
                          </a:lnTo>
                          <a:lnTo>
                            <a:pt x="145" y="2302"/>
                          </a:lnTo>
                          <a:lnTo>
                            <a:pt x="202" y="2642"/>
                          </a:lnTo>
                          <a:lnTo>
                            <a:pt x="268" y="3078"/>
                          </a:lnTo>
                          <a:lnTo>
                            <a:pt x="321" y="3511"/>
                          </a:lnTo>
                          <a:lnTo>
                            <a:pt x="427" y="3559"/>
                          </a:lnTo>
                          <a:lnTo>
                            <a:pt x="533" y="3625"/>
                          </a:lnTo>
                          <a:lnTo>
                            <a:pt x="661" y="3696"/>
                          </a:lnTo>
                          <a:lnTo>
                            <a:pt x="802" y="3775"/>
                          </a:lnTo>
                          <a:lnTo>
                            <a:pt x="1009" y="3824"/>
                          </a:lnTo>
                          <a:lnTo>
                            <a:pt x="1098" y="3824"/>
                          </a:lnTo>
                          <a:lnTo>
                            <a:pt x="1147" y="3833"/>
                          </a:lnTo>
                          <a:lnTo>
                            <a:pt x="1209" y="3850"/>
                          </a:lnTo>
                          <a:lnTo>
                            <a:pt x="1262" y="3899"/>
                          </a:lnTo>
                          <a:lnTo>
                            <a:pt x="1416" y="3899"/>
                          </a:lnTo>
                          <a:lnTo>
                            <a:pt x="1685" y="3850"/>
                          </a:lnTo>
                          <a:lnTo>
                            <a:pt x="1888" y="3775"/>
                          </a:lnTo>
                          <a:lnTo>
                            <a:pt x="2011" y="3683"/>
                          </a:lnTo>
                          <a:lnTo>
                            <a:pt x="2069" y="3145"/>
                          </a:lnTo>
                          <a:lnTo>
                            <a:pt x="2122" y="2585"/>
                          </a:lnTo>
                          <a:lnTo>
                            <a:pt x="2219" y="2069"/>
                          </a:lnTo>
                          <a:lnTo>
                            <a:pt x="2258" y="1561"/>
                          </a:lnTo>
                          <a:lnTo>
                            <a:pt x="2272" y="1049"/>
                          </a:lnTo>
                          <a:lnTo>
                            <a:pt x="2236" y="202"/>
                          </a:lnTo>
                          <a:lnTo>
                            <a:pt x="2232" y="17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5f5f7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5" name=""/>
                    <p:cNvSpPr/>
                    <p:nvPr/>
                  </p:nvSpPr>
                  <p:spPr>
                    <a:xfrm>
                      <a:off x="1312920" y="3873600"/>
                      <a:ext cx="343440" cy="7765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954" h="2157">
                          <a:moveTo>
                            <a:pt x="261" y="405"/>
                          </a:moveTo>
                          <a:lnTo>
                            <a:pt x="202" y="533"/>
                          </a:lnTo>
                          <a:lnTo>
                            <a:pt x="158" y="661"/>
                          </a:lnTo>
                          <a:lnTo>
                            <a:pt x="145" y="820"/>
                          </a:lnTo>
                          <a:lnTo>
                            <a:pt x="22" y="2157"/>
                          </a:lnTo>
                          <a:lnTo>
                            <a:pt x="39" y="590"/>
                          </a:lnTo>
                          <a:lnTo>
                            <a:pt x="0" y="0"/>
                          </a:lnTo>
                          <a:lnTo>
                            <a:pt x="835" y="22"/>
                          </a:lnTo>
                          <a:lnTo>
                            <a:pt x="954" y="101"/>
                          </a:lnTo>
                          <a:lnTo>
                            <a:pt x="760" y="119"/>
                          </a:lnTo>
                          <a:lnTo>
                            <a:pt x="583" y="149"/>
                          </a:lnTo>
                          <a:lnTo>
                            <a:pt x="490" y="194"/>
                          </a:lnTo>
                          <a:lnTo>
                            <a:pt x="411" y="251"/>
                          </a:lnTo>
                          <a:lnTo>
                            <a:pt x="314" y="317"/>
                          </a:lnTo>
                          <a:lnTo>
                            <a:pt x="261" y="40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56" name=""/>
                  <p:cNvSpPr/>
                  <p:nvPr/>
                </p:nvSpPr>
                <p:spPr>
                  <a:xfrm>
                    <a:off x="682560" y="1825560"/>
                    <a:ext cx="1325880" cy="2092680"/>
                  </a:xfrm>
                  <a:custGeom>
                    <a:avLst/>
                    <a:gdLst/>
                    <a:ahLst/>
                    <a:rect l="0" t="0" r="r" b="b"/>
                    <a:pathLst>
                      <a:path w="3683" h="5813">
                        <a:moveTo>
                          <a:pt x="1680" y="0"/>
                        </a:moveTo>
                        <a:lnTo>
                          <a:pt x="1618" y="92"/>
                        </a:lnTo>
                        <a:lnTo>
                          <a:pt x="1569" y="145"/>
                        </a:lnTo>
                        <a:lnTo>
                          <a:pt x="1516" y="202"/>
                        </a:lnTo>
                        <a:lnTo>
                          <a:pt x="1441" y="273"/>
                        </a:lnTo>
                        <a:lnTo>
                          <a:pt x="1367" y="339"/>
                        </a:lnTo>
                        <a:lnTo>
                          <a:pt x="1212" y="392"/>
                        </a:lnTo>
                        <a:lnTo>
                          <a:pt x="1067" y="436"/>
                        </a:lnTo>
                        <a:lnTo>
                          <a:pt x="934" y="449"/>
                        </a:lnTo>
                        <a:lnTo>
                          <a:pt x="780" y="498"/>
                        </a:lnTo>
                        <a:lnTo>
                          <a:pt x="652" y="537"/>
                        </a:lnTo>
                        <a:lnTo>
                          <a:pt x="568" y="582"/>
                        </a:lnTo>
                        <a:lnTo>
                          <a:pt x="502" y="604"/>
                        </a:lnTo>
                        <a:lnTo>
                          <a:pt x="357" y="701"/>
                        </a:lnTo>
                        <a:lnTo>
                          <a:pt x="326" y="718"/>
                        </a:lnTo>
                        <a:lnTo>
                          <a:pt x="304" y="745"/>
                        </a:lnTo>
                        <a:lnTo>
                          <a:pt x="291" y="789"/>
                        </a:lnTo>
                        <a:lnTo>
                          <a:pt x="233" y="1018"/>
                        </a:lnTo>
                        <a:lnTo>
                          <a:pt x="207" y="1168"/>
                        </a:lnTo>
                        <a:lnTo>
                          <a:pt x="163" y="1380"/>
                        </a:lnTo>
                        <a:lnTo>
                          <a:pt x="123" y="1750"/>
                        </a:lnTo>
                        <a:lnTo>
                          <a:pt x="70" y="2046"/>
                        </a:lnTo>
                        <a:lnTo>
                          <a:pt x="48" y="2465"/>
                        </a:lnTo>
                        <a:lnTo>
                          <a:pt x="39" y="2610"/>
                        </a:lnTo>
                        <a:lnTo>
                          <a:pt x="0" y="2747"/>
                        </a:lnTo>
                        <a:lnTo>
                          <a:pt x="0" y="2848"/>
                        </a:lnTo>
                        <a:lnTo>
                          <a:pt x="0" y="2920"/>
                        </a:lnTo>
                        <a:lnTo>
                          <a:pt x="88" y="3092"/>
                        </a:lnTo>
                        <a:lnTo>
                          <a:pt x="216" y="3299"/>
                        </a:lnTo>
                        <a:lnTo>
                          <a:pt x="326" y="3361"/>
                        </a:lnTo>
                        <a:lnTo>
                          <a:pt x="608" y="3542"/>
                        </a:lnTo>
                        <a:lnTo>
                          <a:pt x="780" y="3630"/>
                        </a:lnTo>
                        <a:lnTo>
                          <a:pt x="701" y="4031"/>
                        </a:lnTo>
                        <a:lnTo>
                          <a:pt x="665" y="4304"/>
                        </a:lnTo>
                        <a:lnTo>
                          <a:pt x="648" y="4573"/>
                        </a:lnTo>
                        <a:lnTo>
                          <a:pt x="648" y="4900"/>
                        </a:lnTo>
                        <a:lnTo>
                          <a:pt x="665" y="5385"/>
                        </a:lnTo>
                        <a:lnTo>
                          <a:pt x="679" y="5746"/>
                        </a:lnTo>
                        <a:lnTo>
                          <a:pt x="1870" y="5813"/>
                        </a:lnTo>
                        <a:lnTo>
                          <a:pt x="1870" y="5746"/>
                        </a:lnTo>
                        <a:lnTo>
                          <a:pt x="2020" y="5764"/>
                        </a:lnTo>
                        <a:lnTo>
                          <a:pt x="2554" y="5804"/>
                        </a:lnTo>
                        <a:lnTo>
                          <a:pt x="2907" y="5764"/>
                        </a:lnTo>
                        <a:lnTo>
                          <a:pt x="3039" y="5689"/>
                        </a:lnTo>
                        <a:lnTo>
                          <a:pt x="3039" y="4900"/>
                        </a:lnTo>
                        <a:lnTo>
                          <a:pt x="3021" y="4613"/>
                        </a:lnTo>
                        <a:lnTo>
                          <a:pt x="2981" y="4304"/>
                        </a:lnTo>
                        <a:lnTo>
                          <a:pt x="2981" y="4128"/>
                        </a:lnTo>
                        <a:lnTo>
                          <a:pt x="2959" y="3877"/>
                        </a:lnTo>
                        <a:lnTo>
                          <a:pt x="3127" y="3806"/>
                        </a:lnTo>
                        <a:lnTo>
                          <a:pt x="3268" y="3696"/>
                        </a:lnTo>
                        <a:lnTo>
                          <a:pt x="3506" y="3497"/>
                        </a:lnTo>
                        <a:lnTo>
                          <a:pt x="3616" y="3449"/>
                        </a:lnTo>
                        <a:lnTo>
                          <a:pt x="3665" y="3343"/>
                        </a:lnTo>
                        <a:lnTo>
                          <a:pt x="3683" y="3184"/>
                        </a:lnTo>
                        <a:lnTo>
                          <a:pt x="3683" y="2920"/>
                        </a:lnTo>
                        <a:lnTo>
                          <a:pt x="3683" y="2222"/>
                        </a:lnTo>
                        <a:lnTo>
                          <a:pt x="3665" y="1746"/>
                        </a:lnTo>
                        <a:lnTo>
                          <a:pt x="3674" y="1283"/>
                        </a:lnTo>
                        <a:lnTo>
                          <a:pt x="3665" y="1146"/>
                        </a:lnTo>
                        <a:lnTo>
                          <a:pt x="3647" y="1075"/>
                        </a:lnTo>
                        <a:lnTo>
                          <a:pt x="3612" y="1031"/>
                        </a:lnTo>
                        <a:lnTo>
                          <a:pt x="3586" y="996"/>
                        </a:lnTo>
                        <a:lnTo>
                          <a:pt x="3409" y="886"/>
                        </a:lnTo>
                        <a:lnTo>
                          <a:pt x="3184" y="745"/>
                        </a:lnTo>
                        <a:lnTo>
                          <a:pt x="2959" y="630"/>
                        </a:lnTo>
                        <a:lnTo>
                          <a:pt x="2752" y="537"/>
                        </a:lnTo>
                        <a:lnTo>
                          <a:pt x="2615" y="485"/>
                        </a:lnTo>
                        <a:lnTo>
                          <a:pt x="2377" y="202"/>
                        </a:lnTo>
                        <a:lnTo>
                          <a:pt x="2302" y="92"/>
                        </a:lnTo>
                        <a:lnTo>
                          <a:pt x="2377" y="308"/>
                        </a:lnTo>
                        <a:lnTo>
                          <a:pt x="2404" y="348"/>
                        </a:lnTo>
                        <a:lnTo>
                          <a:pt x="2413" y="401"/>
                        </a:lnTo>
                        <a:lnTo>
                          <a:pt x="2430" y="454"/>
                        </a:lnTo>
                        <a:lnTo>
                          <a:pt x="2439" y="515"/>
                        </a:lnTo>
                        <a:lnTo>
                          <a:pt x="2413" y="626"/>
                        </a:lnTo>
                        <a:lnTo>
                          <a:pt x="2342" y="789"/>
                        </a:lnTo>
                        <a:lnTo>
                          <a:pt x="1932" y="2116"/>
                        </a:lnTo>
                        <a:lnTo>
                          <a:pt x="1728" y="1031"/>
                        </a:lnTo>
                        <a:lnTo>
                          <a:pt x="1591" y="573"/>
                        </a:lnTo>
                        <a:lnTo>
                          <a:pt x="1569" y="458"/>
                        </a:lnTo>
                        <a:lnTo>
                          <a:pt x="1569" y="348"/>
                        </a:lnTo>
                        <a:lnTo>
                          <a:pt x="1600" y="273"/>
                        </a:lnTo>
                        <a:lnTo>
                          <a:pt x="1680" y="0"/>
                        </a:lnTo>
                        <a:close/>
                      </a:path>
                    </a:pathLst>
                  </a:custGeom>
                  <a:solidFill>
                    <a:srgbClr val="5f5f7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7" name=""/>
                <p:cNvGrpSpPr/>
                <p:nvPr/>
              </p:nvGrpSpPr>
              <p:grpSpPr>
                <a:xfrm>
                  <a:off x="1147680" y="2816280"/>
                  <a:ext cx="457200" cy="766440"/>
                  <a:chOff x="1147680" y="2816280"/>
                  <a:chExt cx="457200" cy="766440"/>
                </a:xfrm>
              </p:grpSpPr>
              <p:sp>
                <p:nvSpPr>
                  <p:cNvPr id="758" name=""/>
                  <p:cNvSpPr/>
                  <p:nvPr/>
                </p:nvSpPr>
                <p:spPr>
                  <a:xfrm>
                    <a:off x="1467000" y="3533760"/>
                    <a:ext cx="30240" cy="39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9" name=""/>
                  <p:cNvSpPr/>
                  <p:nvPr/>
                </p:nvSpPr>
                <p:spPr>
                  <a:xfrm>
                    <a:off x="1568520" y="2816280"/>
                    <a:ext cx="36360" cy="381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2960" bIns="-12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0" name=""/>
                  <p:cNvSpPr/>
                  <p:nvPr/>
                </p:nvSpPr>
                <p:spPr>
                  <a:xfrm>
                    <a:off x="1147680" y="3543120"/>
                    <a:ext cx="33480" cy="39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61" name=""/>
              <p:cNvGrpSpPr/>
              <p:nvPr/>
            </p:nvGrpSpPr>
            <p:grpSpPr>
              <a:xfrm>
                <a:off x="1077840" y="1936800"/>
                <a:ext cx="624240" cy="914760"/>
                <a:chOff x="1077840" y="1936800"/>
                <a:chExt cx="624240" cy="914760"/>
              </a:xfrm>
            </p:grpSpPr>
            <p:sp>
              <p:nvSpPr>
                <p:cNvPr id="762" name=""/>
                <p:cNvSpPr/>
                <p:nvPr/>
              </p:nvSpPr>
              <p:spPr>
                <a:xfrm>
                  <a:off x="1077840" y="1936800"/>
                  <a:ext cx="321120" cy="914760"/>
                </a:xfrm>
                <a:custGeom>
                  <a:avLst/>
                  <a:gdLst/>
                  <a:ahLst/>
                  <a:rect l="0" t="0" r="r" b="b"/>
                  <a:pathLst>
                    <a:path w="892" h="2541">
                      <a:moveTo>
                        <a:pt x="322" y="0"/>
                      </a:moveTo>
                      <a:lnTo>
                        <a:pt x="52" y="304"/>
                      </a:lnTo>
                      <a:lnTo>
                        <a:pt x="8" y="418"/>
                      </a:lnTo>
                      <a:lnTo>
                        <a:pt x="296" y="515"/>
                      </a:lnTo>
                      <a:lnTo>
                        <a:pt x="22" y="776"/>
                      </a:lnTo>
                      <a:lnTo>
                        <a:pt x="167" y="1071"/>
                      </a:lnTo>
                      <a:lnTo>
                        <a:pt x="397" y="1553"/>
                      </a:lnTo>
                      <a:lnTo>
                        <a:pt x="892" y="2541"/>
                      </a:lnTo>
                      <a:lnTo>
                        <a:pt x="0" y="789"/>
                      </a:lnTo>
                      <a:lnTo>
                        <a:pt x="265" y="529"/>
                      </a:lnTo>
                      <a:lnTo>
                        <a:pt x="0" y="432"/>
                      </a:lnTo>
                      <a:lnTo>
                        <a:pt x="52" y="304"/>
                      </a:lnTo>
                      <a:lnTo>
                        <a:pt x="32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1366920" y="2022480"/>
                  <a:ext cx="335160" cy="810000"/>
                </a:xfrm>
                <a:custGeom>
                  <a:avLst/>
                  <a:gdLst/>
                  <a:ahLst/>
                  <a:rect l="0" t="0" r="r" b="b"/>
                  <a:pathLst>
                    <a:path w="931" h="2250">
                      <a:moveTo>
                        <a:pt x="755" y="0"/>
                      </a:moveTo>
                      <a:lnTo>
                        <a:pt x="909" y="304"/>
                      </a:lnTo>
                      <a:lnTo>
                        <a:pt x="688" y="405"/>
                      </a:lnTo>
                      <a:lnTo>
                        <a:pt x="931" y="574"/>
                      </a:lnTo>
                      <a:lnTo>
                        <a:pt x="0" y="2250"/>
                      </a:lnTo>
                      <a:lnTo>
                        <a:pt x="900" y="574"/>
                      </a:lnTo>
                      <a:lnTo>
                        <a:pt x="671" y="405"/>
                      </a:lnTo>
                      <a:lnTo>
                        <a:pt x="900" y="299"/>
                      </a:lnTo>
                      <a:lnTo>
                        <a:pt x="75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4" name=""/>
              <p:cNvGrpSpPr/>
              <p:nvPr/>
            </p:nvGrpSpPr>
            <p:grpSpPr>
              <a:xfrm>
                <a:off x="819000" y="2484360"/>
                <a:ext cx="1389240" cy="775440"/>
                <a:chOff x="819000" y="2484360"/>
                <a:chExt cx="1389240" cy="775440"/>
              </a:xfrm>
            </p:grpSpPr>
            <p:grpSp>
              <p:nvGrpSpPr>
                <p:cNvPr id="765" name=""/>
                <p:cNvGrpSpPr/>
                <p:nvPr/>
              </p:nvGrpSpPr>
              <p:grpSpPr>
                <a:xfrm>
                  <a:off x="819000" y="2484360"/>
                  <a:ext cx="1389240" cy="732240"/>
                  <a:chOff x="819000" y="2484360"/>
                  <a:chExt cx="1389240" cy="732240"/>
                </a:xfrm>
              </p:grpSpPr>
              <p:sp>
                <p:nvSpPr>
                  <p:cNvPr id="766" name=""/>
                  <p:cNvSpPr/>
                  <p:nvPr/>
                </p:nvSpPr>
                <p:spPr>
                  <a:xfrm>
                    <a:off x="819000" y="2484360"/>
                    <a:ext cx="1368720" cy="732240"/>
                  </a:xfrm>
                  <a:custGeom>
                    <a:avLst/>
                    <a:gdLst/>
                    <a:ahLst/>
                    <a:rect l="0" t="0" r="r" b="b"/>
                    <a:pathLst>
                      <a:path w="3802" h="2034">
                        <a:moveTo>
                          <a:pt x="0" y="680"/>
                        </a:moveTo>
                        <a:lnTo>
                          <a:pt x="868" y="0"/>
                        </a:lnTo>
                        <a:lnTo>
                          <a:pt x="917" y="0"/>
                        </a:lnTo>
                        <a:lnTo>
                          <a:pt x="2055" y="1465"/>
                        </a:lnTo>
                        <a:lnTo>
                          <a:pt x="2404" y="1341"/>
                        </a:lnTo>
                        <a:lnTo>
                          <a:pt x="2435" y="1288"/>
                        </a:lnTo>
                        <a:lnTo>
                          <a:pt x="2452" y="1235"/>
                        </a:lnTo>
                        <a:lnTo>
                          <a:pt x="3643" y="741"/>
                        </a:lnTo>
                        <a:lnTo>
                          <a:pt x="3722" y="706"/>
                        </a:lnTo>
                        <a:lnTo>
                          <a:pt x="3766" y="706"/>
                        </a:lnTo>
                        <a:lnTo>
                          <a:pt x="3775" y="719"/>
                        </a:lnTo>
                        <a:lnTo>
                          <a:pt x="3793" y="728"/>
                        </a:lnTo>
                        <a:lnTo>
                          <a:pt x="3802" y="750"/>
                        </a:lnTo>
                        <a:lnTo>
                          <a:pt x="3802" y="772"/>
                        </a:lnTo>
                        <a:lnTo>
                          <a:pt x="3802" y="816"/>
                        </a:lnTo>
                        <a:lnTo>
                          <a:pt x="3775" y="838"/>
                        </a:lnTo>
                        <a:lnTo>
                          <a:pt x="3722" y="878"/>
                        </a:lnTo>
                        <a:lnTo>
                          <a:pt x="3458" y="1019"/>
                        </a:lnTo>
                        <a:lnTo>
                          <a:pt x="2047" y="1571"/>
                        </a:lnTo>
                        <a:lnTo>
                          <a:pt x="1075" y="2034"/>
                        </a:lnTo>
                        <a:lnTo>
                          <a:pt x="1018" y="2017"/>
                        </a:lnTo>
                        <a:lnTo>
                          <a:pt x="970" y="1977"/>
                        </a:lnTo>
                        <a:lnTo>
                          <a:pt x="0" y="68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67" name=""/>
                  <p:cNvGrpSpPr/>
                  <p:nvPr/>
                </p:nvGrpSpPr>
                <p:grpSpPr>
                  <a:xfrm>
                    <a:off x="1200240" y="2546280"/>
                    <a:ext cx="1008000" cy="525600"/>
                    <a:chOff x="1200240" y="2546280"/>
                    <a:chExt cx="1008000" cy="525600"/>
                  </a:xfrm>
                </p:grpSpPr>
                <p:sp>
                  <p:nvSpPr>
                    <p:cNvPr id="768" name=""/>
                    <p:cNvSpPr/>
                    <p:nvPr/>
                  </p:nvSpPr>
                  <p:spPr>
                    <a:xfrm>
                      <a:off x="1200240" y="2546280"/>
                      <a:ext cx="325440" cy="459000"/>
                    </a:xfrm>
                    <a:prstGeom prst="line">
                      <a:avLst/>
                    </a:prstGeom>
                    <a:ln w="25560">
                      <a:solidFill>
                        <a:srgbClr val="3f3f3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769" name=""/>
                    <p:cNvGrpSpPr/>
                    <p:nvPr/>
                  </p:nvGrpSpPr>
                  <p:grpSpPr>
                    <a:xfrm>
                      <a:off x="1611360" y="2746440"/>
                      <a:ext cx="596880" cy="325440"/>
                      <a:chOff x="1611360" y="2746440"/>
                      <a:chExt cx="596880" cy="325440"/>
                    </a:xfrm>
                  </p:grpSpPr>
                  <p:sp>
                    <p:nvSpPr>
                      <p:cNvPr id="770" name=""/>
                      <p:cNvSpPr/>
                      <p:nvPr/>
                    </p:nvSpPr>
                    <p:spPr>
                      <a:xfrm flipV="1">
                        <a:off x="1611360" y="2813040"/>
                        <a:ext cx="412560" cy="258840"/>
                      </a:xfrm>
                      <a:prstGeom prst="line">
                        <a:avLst/>
                      </a:prstGeom>
                      <a:ln w="25560">
                        <a:solidFill>
                          <a:srgbClr val="3f3f3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102600" rIns="102600" tIns="57600" bIns="57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71" name=""/>
                      <p:cNvSpPr/>
                      <p:nvPr/>
                    </p:nvSpPr>
                    <p:spPr>
                      <a:xfrm flipV="1">
                        <a:off x="2122560" y="2746440"/>
                        <a:ext cx="20520" cy="120600"/>
                      </a:xfrm>
                      <a:prstGeom prst="line">
                        <a:avLst/>
                      </a:prstGeom>
                      <a:ln w="25560">
                        <a:solidFill>
                          <a:srgbClr val="3f3f3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102600" rIns="102600" tIns="57600" bIns="57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72" name=""/>
                      <p:cNvSpPr/>
                      <p:nvPr/>
                    </p:nvSpPr>
                    <p:spPr>
                      <a:xfrm flipH="1">
                        <a:off x="1704960" y="2803680"/>
                        <a:ext cx="503280" cy="139680"/>
                      </a:xfrm>
                      <a:prstGeom prst="line">
                        <a:avLst/>
                      </a:prstGeom>
                      <a:ln w="12600">
                        <a:solidFill>
                          <a:srgbClr val="3f3f3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6120" rIns="96120" tIns="51120" bIns="51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773" name=""/>
                <p:cNvGrpSpPr/>
                <p:nvPr/>
              </p:nvGrpSpPr>
              <p:grpSpPr>
                <a:xfrm>
                  <a:off x="1171440" y="2871720"/>
                  <a:ext cx="421200" cy="388080"/>
                  <a:chOff x="1171440" y="2871720"/>
                  <a:chExt cx="421200" cy="388080"/>
                </a:xfrm>
              </p:grpSpPr>
              <p:sp>
                <p:nvSpPr>
                  <p:cNvPr id="774" name=""/>
                  <p:cNvSpPr/>
                  <p:nvPr/>
                </p:nvSpPr>
                <p:spPr>
                  <a:xfrm>
                    <a:off x="1171440" y="2962440"/>
                    <a:ext cx="421200" cy="297360"/>
                  </a:xfrm>
                  <a:custGeom>
                    <a:avLst/>
                    <a:gdLst/>
                    <a:ahLst/>
                    <a:rect l="0" t="0" r="r" b="b"/>
                    <a:pathLst>
                      <a:path w="1170" h="826">
                        <a:moveTo>
                          <a:pt x="1108" y="499"/>
                        </a:moveTo>
                        <a:lnTo>
                          <a:pt x="1055" y="512"/>
                        </a:lnTo>
                        <a:lnTo>
                          <a:pt x="1011" y="499"/>
                        </a:lnTo>
                        <a:lnTo>
                          <a:pt x="976" y="472"/>
                        </a:lnTo>
                        <a:lnTo>
                          <a:pt x="928" y="464"/>
                        </a:lnTo>
                        <a:lnTo>
                          <a:pt x="888" y="393"/>
                        </a:lnTo>
                        <a:lnTo>
                          <a:pt x="856" y="367"/>
                        </a:lnTo>
                        <a:lnTo>
                          <a:pt x="834" y="375"/>
                        </a:lnTo>
                        <a:lnTo>
                          <a:pt x="812" y="389"/>
                        </a:lnTo>
                        <a:lnTo>
                          <a:pt x="794" y="402"/>
                        </a:lnTo>
                        <a:lnTo>
                          <a:pt x="781" y="428"/>
                        </a:lnTo>
                        <a:lnTo>
                          <a:pt x="777" y="450"/>
                        </a:lnTo>
                        <a:lnTo>
                          <a:pt x="750" y="464"/>
                        </a:lnTo>
                        <a:lnTo>
                          <a:pt x="680" y="490"/>
                        </a:lnTo>
                        <a:lnTo>
                          <a:pt x="605" y="499"/>
                        </a:lnTo>
                        <a:lnTo>
                          <a:pt x="569" y="486"/>
                        </a:lnTo>
                        <a:lnTo>
                          <a:pt x="538" y="464"/>
                        </a:lnTo>
                        <a:lnTo>
                          <a:pt x="512" y="464"/>
                        </a:lnTo>
                        <a:lnTo>
                          <a:pt x="464" y="402"/>
                        </a:lnTo>
                        <a:lnTo>
                          <a:pt x="428" y="375"/>
                        </a:lnTo>
                        <a:lnTo>
                          <a:pt x="375" y="269"/>
                        </a:lnTo>
                        <a:lnTo>
                          <a:pt x="336" y="194"/>
                        </a:lnTo>
                        <a:lnTo>
                          <a:pt x="314" y="145"/>
                        </a:lnTo>
                        <a:lnTo>
                          <a:pt x="282" y="74"/>
                        </a:lnTo>
                        <a:lnTo>
                          <a:pt x="264" y="44"/>
                        </a:lnTo>
                        <a:lnTo>
                          <a:pt x="238" y="35"/>
                        </a:lnTo>
                        <a:lnTo>
                          <a:pt x="211" y="35"/>
                        </a:lnTo>
                        <a:lnTo>
                          <a:pt x="198" y="57"/>
                        </a:lnTo>
                        <a:lnTo>
                          <a:pt x="207" y="105"/>
                        </a:lnTo>
                        <a:lnTo>
                          <a:pt x="220" y="145"/>
                        </a:lnTo>
                        <a:lnTo>
                          <a:pt x="238" y="194"/>
                        </a:lnTo>
                        <a:lnTo>
                          <a:pt x="238" y="234"/>
                        </a:lnTo>
                        <a:lnTo>
                          <a:pt x="189" y="149"/>
                        </a:lnTo>
                        <a:lnTo>
                          <a:pt x="180" y="105"/>
                        </a:lnTo>
                        <a:lnTo>
                          <a:pt x="158" y="52"/>
                        </a:lnTo>
                        <a:lnTo>
                          <a:pt x="141" y="17"/>
                        </a:lnTo>
                        <a:lnTo>
                          <a:pt x="114" y="0"/>
                        </a:lnTo>
                        <a:lnTo>
                          <a:pt x="88" y="0"/>
                        </a:lnTo>
                        <a:lnTo>
                          <a:pt x="61" y="13"/>
                        </a:lnTo>
                        <a:lnTo>
                          <a:pt x="48" y="30"/>
                        </a:lnTo>
                        <a:lnTo>
                          <a:pt x="88" y="114"/>
                        </a:lnTo>
                        <a:lnTo>
                          <a:pt x="61" y="101"/>
                        </a:lnTo>
                        <a:lnTo>
                          <a:pt x="35" y="101"/>
                        </a:lnTo>
                        <a:lnTo>
                          <a:pt x="13" y="110"/>
                        </a:lnTo>
                        <a:lnTo>
                          <a:pt x="0" y="123"/>
                        </a:lnTo>
                        <a:lnTo>
                          <a:pt x="61" y="239"/>
                        </a:lnTo>
                        <a:lnTo>
                          <a:pt x="88" y="331"/>
                        </a:lnTo>
                        <a:lnTo>
                          <a:pt x="61" y="309"/>
                        </a:lnTo>
                        <a:lnTo>
                          <a:pt x="35" y="300"/>
                        </a:lnTo>
                        <a:lnTo>
                          <a:pt x="8" y="309"/>
                        </a:lnTo>
                        <a:lnTo>
                          <a:pt x="0" y="331"/>
                        </a:lnTo>
                        <a:lnTo>
                          <a:pt x="48" y="397"/>
                        </a:lnTo>
                        <a:lnTo>
                          <a:pt x="61" y="433"/>
                        </a:lnTo>
                        <a:lnTo>
                          <a:pt x="61" y="464"/>
                        </a:lnTo>
                        <a:lnTo>
                          <a:pt x="88" y="499"/>
                        </a:lnTo>
                        <a:lnTo>
                          <a:pt x="105" y="538"/>
                        </a:lnTo>
                        <a:lnTo>
                          <a:pt x="123" y="587"/>
                        </a:lnTo>
                        <a:lnTo>
                          <a:pt x="141" y="609"/>
                        </a:lnTo>
                        <a:lnTo>
                          <a:pt x="149" y="623"/>
                        </a:lnTo>
                        <a:lnTo>
                          <a:pt x="167" y="637"/>
                        </a:lnTo>
                        <a:lnTo>
                          <a:pt x="336" y="729"/>
                        </a:lnTo>
                        <a:lnTo>
                          <a:pt x="389" y="769"/>
                        </a:lnTo>
                        <a:lnTo>
                          <a:pt x="406" y="791"/>
                        </a:lnTo>
                        <a:lnTo>
                          <a:pt x="446" y="808"/>
                        </a:lnTo>
                        <a:lnTo>
                          <a:pt x="472" y="822"/>
                        </a:lnTo>
                        <a:lnTo>
                          <a:pt x="499" y="826"/>
                        </a:lnTo>
                        <a:lnTo>
                          <a:pt x="631" y="808"/>
                        </a:lnTo>
                        <a:lnTo>
                          <a:pt x="750" y="800"/>
                        </a:lnTo>
                        <a:lnTo>
                          <a:pt x="860" y="786"/>
                        </a:lnTo>
                        <a:lnTo>
                          <a:pt x="972" y="769"/>
                        </a:lnTo>
                        <a:lnTo>
                          <a:pt x="1073" y="738"/>
                        </a:lnTo>
                        <a:lnTo>
                          <a:pt x="1170" y="659"/>
                        </a:lnTo>
                        <a:lnTo>
                          <a:pt x="1108" y="499"/>
                        </a:lnTo>
                        <a:close/>
                      </a:path>
                    </a:pathLst>
                  </a:custGeom>
                  <a:solidFill>
                    <a:srgbClr val="ffdfb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5" name=""/>
                  <p:cNvSpPr/>
                  <p:nvPr/>
                </p:nvSpPr>
                <p:spPr>
                  <a:xfrm>
                    <a:off x="1258920" y="3051000"/>
                    <a:ext cx="71640" cy="127440"/>
                  </a:xfrm>
                  <a:custGeom>
                    <a:avLst/>
                    <a:gdLst/>
                    <a:ahLst/>
                    <a:rect l="0" t="0" r="r" b="b"/>
                    <a:pathLst>
                      <a:path w="199" h="354">
                        <a:moveTo>
                          <a:pt x="0" y="0"/>
                        </a:moveTo>
                        <a:lnTo>
                          <a:pt x="57" y="146"/>
                        </a:lnTo>
                        <a:lnTo>
                          <a:pt x="115" y="243"/>
                        </a:lnTo>
                        <a:lnTo>
                          <a:pt x="155" y="284"/>
                        </a:lnTo>
                        <a:lnTo>
                          <a:pt x="168" y="332"/>
                        </a:lnTo>
                        <a:lnTo>
                          <a:pt x="172" y="350"/>
                        </a:lnTo>
                        <a:lnTo>
                          <a:pt x="199" y="354"/>
                        </a:lnTo>
                        <a:lnTo>
                          <a:pt x="172" y="354"/>
                        </a:lnTo>
                        <a:lnTo>
                          <a:pt x="164" y="332"/>
                        </a:lnTo>
                        <a:lnTo>
                          <a:pt x="155" y="301"/>
                        </a:lnTo>
                        <a:lnTo>
                          <a:pt x="79" y="195"/>
                        </a:lnTo>
                        <a:lnTo>
                          <a:pt x="48" y="12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6" name=""/>
                  <p:cNvSpPr/>
                  <p:nvPr/>
                </p:nvSpPr>
                <p:spPr>
                  <a:xfrm>
                    <a:off x="1203480" y="3008160"/>
                    <a:ext cx="109800" cy="194040"/>
                  </a:xfrm>
                  <a:custGeom>
                    <a:avLst/>
                    <a:gdLst/>
                    <a:ahLst/>
                    <a:rect l="0" t="0" r="r" b="b"/>
                    <a:pathLst>
                      <a:path w="305" h="539">
                        <a:moveTo>
                          <a:pt x="0" y="0"/>
                        </a:moveTo>
                        <a:lnTo>
                          <a:pt x="66" y="217"/>
                        </a:lnTo>
                        <a:lnTo>
                          <a:pt x="74" y="256"/>
                        </a:lnTo>
                        <a:lnTo>
                          <a:pt x="92" y="278"/>
                        </a:lnTo>
                        <a:lnTo>
                          <a:pt x="190" y="425"/>
                        </a:lnTo>
                        <a:lnTo>
                          <a:pt x="221" y="456"/>
                        </a:lnTo>
                        <a:lnTo>
                          <a:pt x="234" y="478"/>
                        </a:lnTo>
                        <a:lnTo>
                          <a:pt x="247" y="513"/>
                        </a:lnTo>
                        <a:lnTo>
                          <a:pt x="274" y="539"/>
                        </a:lnTo>
                        <a:lnTo>
                          <a:pt x="305" y="539"/>
                        </a:lnTo>
                        <a:lnTo>
                          <a:pt x="274" y="539"/>
                        </a:lnTo>
                        <a:lnTo>
                          <a:pt x="243" y="517"/>
                        </a:lnTo>
                        <a:lnTo>
                          <a:pt x="234" y="487"/>
                        </a:lnTo>
                        <a:lnTo>
                          <a:pt x="225" y="469"/>
                        </a:lnTo>
                        <a:lnTo>
                          <a:pt x="172" y="397"/>
                        </a:lnTo>
                        <a:lnTo>
                          <a:pt x="123" y="336"/>
                        </a:lnTo>
                        <a:lnTo>
                          <a:pt x="92" y="292"/>
                        </a:lnTo>
                        <a:lnTo>
                          <a:pt x="74" y="261"/>
                        </a:lnTo>
                        <a:lnTo>
                          <a:pt x="26" y="10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7" name=""/>
                  <p:cNvSpPr/>
                  <p:nvPr/>
                </p:nvSpPr>
                <p:spPr>
                  <a:xfrm>
                    <a:off x="1298520" y="3110040"/>
                    <a:ext cx="294120" cy="149760"/>
                  </a:xfrm>
                  <a:custGeom>
                    <a:avLst/>
                    <a:gdLst/>
                    <a:ahLst/>
                    <a:rect l="0" t="0" r="r" b="b"/>
                    <a:pathLst>
                      <a:path w="817" h="416">
                        <a:moveTo>
                          <a:pt x="756" y="101"/>
                        </a:moveTo>
                        <a:lnTo>
                          <a:pt x="703" y="115"/>
                        </a:lnTo>
                        <a:lnTo>
                          <a:pt x="659" y="101"/>
                        </a:lnTo>
                        <a:lnTo>
                          <a:pt x="628" y="79"/>
                        </a:lnTo>
                        <a:lnTo>
                          <a:pt x="578" y="70"/>
                        </a:lnTo>
                        <a:lnTo>
                          <a:pt x="538" y="0"/>
                        </a:lnTo>
                        <a:lnTo>
                          <a:pt x="525" y="13"/>
                        </a:lnTo>
                        <a:lnTo>
                          <a:pt x="516" y="26"/>
                        </a:lnTo>
                        <a:lnTo>
                          <a:pt x="503" y="48"/>
                        </a:lnTo>
                        <a:lnTo>
                          <a:pt x="472" y="52"/>
                        </a:lnTo>
                        <a:lnTo>
                          <a:pt x="455" y="52"/>
                        </a:lnTo>
                        <a:lnTo>
                          <a:pt x="433" y="35"/>
                        </a:lnTo>
                        <a:lnTo>
                          <a:pt x="428" y="57"/>
                        </a:lnTo>
                        <a:lnTo>
                          <a:pt x="402" y="70"/>
                        </a:lnTo>
                        <a:lnTo>
                          <a:pt x="336" y="92"/>
                        </a:lnTo>
                        <a:lnTo>
                          <a:pt x="371" y="97"/>
                        </a:lnTo>
                        <a:lnTo>
                          <a:pt x="428" y="79"/>
                        </a:lnTo>
                        <a:lnTo>
                          <a:pt x="450" y="92"/>
                        </a:lnTo>
                        <a:lnTo>
                          <a:pt x="464" y="115"/>
                        </a:lnTo>
                        <a:lnTo>
                          <a:pt x="441" y="124"/>
                        </a:lnTo>
                        <a:lnTo>
                          <a:pt x="486" y="133"/>
                        </a:lnTo>
                        <a:lnTo>
                          <a:pt x="450" y="142"/>
                        </a:lnTo>
                        <a:lnTo>
                          <a:pt x="486" y="142"/>
                        </a:lnTo>
                        <a:lnTo>
                          <a:pt x="468" y="159"/>
                        </a:lnTo>
                        <a:lnTo>
                          <a:pt x="486" y="155"/>
                        </a:lnTo>
                        <a:lnTo>
                          <a:pt x="503" y="159"/>
                        </a:lnTo>
                        <a:lnTo>
                          <a:pt x="503" y="181"/>
                        </a:lnTo>
                        <a:lnTo>
                          <a:pt x="472" y="208"/>
                        </a:lnTo>
                        <a:lnTo>
                          <a:pt x="446" y="212"/>
                        </a:lnTo>
                        <a:lnTo>
                          <a:pt x="393" y="230"/>
                        </a:lnTo>
                        <a:lnTo>
                          <a:pt x="349" y="230"/>
                        </a:lnTo>
                        <a:lnTo>
                          <a:pt x="300" y="230"/>
                        </a:lnTo>
                        <a:lnTo>
                          <a:pt x="256" y="212"/>
                        </a:lnTo>
                        <a:lnTo>
                          <a:pt x="217" y="199"/>
                        </a:lnTo>
                        <a:lnTo>
                          <a:pt x="189" y="208"/>
                        </a:lnTo>
                        <a:lnTo>
                          <a:pt x="167" y="217"/>
                        </a:lnTo>
                        <a:lnTo>
                          <a:pt x="136" y="230"/>
                        </a:lnTo>
                        <a:lnTo>
                          <a:pt x="101" y="212"/>
                        </a:lnTo>
                        <a:lnTo>
                          <a:pt x="114" y="239"/>
                        </a:lnTo>
                        <a:lnTo>
                          <a:pt x="101" y="256"/>
                        </a:lnTo>
                        <a:lnTo>
                          <a:pt x="101" y="269"/>
                        </a:lnTo>
                        <a:lnTo>
                          <a:pt x="83" y="296"/>
                        </a:lnTo>
                        <a:lnTo>
                          <a:pt x="57" y="305"/>
                        </a:lnTo>
                        <a:lnTo>
                          <a:pt x="35" y="296"/>
                        </a:lnTo>
                        <a:lnTo>
                          <a:pt x="22" y="315"/>
                        </a:lnTo>
                        <a:lnTo>
                          <a:pt x="0" y="323"/>
                        </a:lnTo>
                        <a:lnTo>
                          <a:pt x="44" y="359"/>
                        </a:lnTo>
                        <a:lnTo>
                          <a:pt x="61" y="381"/>
                        </a:lnTo>
                        <a:lnTo>
                          <a:pt x="101" y="398"/>
                        </a:lnTo>
                        <a:lnTo>
                          <a:pt x="127" y="412"/>
                        </a:lnTo>
                        <a:lnTo>
                          <a:pt x="154" y="416"/>
                        </a:lnTo>
                        <a:lnTo>
                          <a:pt x="287" y="398"/>
                        </a:lnTo>
                        <a:lnTo>
                          <a:pt x="402" y="390"/>
                        </a:lnTo>
                        <a:lnTo>
                          <a:pt x="512" y="376"/>
                        </a:lnTo>
                        <a:lnTo>
                          <a:pt x="623" y="359"/>
                        </a:lnTo>
                        <a:lnTo>
                          <a:pt x="720" y="332"/>
                        </a:lnTo>
                        <a:lnTo>
                          <a:pt x="817" y="252"/>
                        </a:lnTo>
                        <a:lnTo>
                          <a:pt x="756" y="101"/>
                        </a:lnTo>
                        <a:close/>
                      </a:path>
                    </a:pathLst>
                  </a:custGeom>
                  <a:solidFill>
                    <a:srgbClr val="ff9f7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8" name=""/>
                  <p:cNvSpPr/>
                  <p:nvPr/>
                </p:nvSpPr>
                <p:spPr>
                  <a:xfrm>
                    <a:off x="1203480" y="3087720"/>
                    <a:ext cx="89280" cy="127440"/>
                  </a:xfrm>
                  <a:custGeom>
                    <a:avLst/>
                    <a:gdLst/>
                    <a:ahLst/>
                    <a:rect l="0" t="0" r="r" b="b"/>
                    <a:pathLst>
                      <a:path w="248" h="354">
                        <a:moveTo>
                          <a:pt x="0" y="0"/>
                        </a:moveTo>
                        <a:lnTo>
                          <a:pt x="44" y="124"/>
                        </a:lnTo>
                        <a:lnTo>
                          <a:pt x="57" y="168"/>
                        </a:lnTo>
                        <a:lnTo>
                          <a:pt x="80" y="186"/>
                        </a:lnTo>
                        <a:lnTo>
                          <a:pt x="124" y="243"/>
                        </a:lnTo>
                        <a:lnTo>
                          <a:pt x="146" y="270"/>
                        </a:lnTo>
                        <a:lnTo>
                          <a:pt x="222" y="345"/>
                        </a:lnTo>
                        <a:lnTo>
                          <a:pt x="248" y="354"/>
                        </a:lnTo>
                        <a:lnTo>
                          <a:pt x="187" y="315"/>
                        </a:lnTo>
                        <a:lnTo>
                          <a:pt x="124" y="252"/>
                        </a:lnTo>
                        <a:lnTo>
                          <a:pt x="80" y="199"/>
                        </a:lnTo>
                        <a:lnTo>
                          <a:pt x="57" y="155"/>
                        </a:lnTo>
                        <a:lnTo>
                          <a:pt x="17" y="7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9" name=""/>
                  <p:cNvSpPr/>
                  <p:nvPr/>
                </p:nvSpPr>
                <p:spPr>
                  <a:xfrm>
                    <a:off x="1449360" y="2871720"/>
                    <a:ext cx="133560" cy="143280"/>
                  </a:xfrm>
                  <a:custGeom>
                    <a:avLst/>
                    <a:gdLst/>
                    <a:ahLst/>
                    <a:rect l="0" t="0" r="r" b="b"/>
                    <a:pathLst>
                      <a:path w="371" h="398">
                        <a:moveTo>
                          <a:pt x="0" y="0"/>
                        </a:moveTo>
                        <a:lnTo>
                          <a:pt x="119" y="17"/>
                        </a:lnTo>
                        <a:lnTo>
                          <a:pt x="186" y="39"/>
                        </a:lnTo>
                        <a:lnTo>
                          <a:pt x="239" y="61"/>
                        </a:lnTo>
                        <a:lnTo>
                          <a:pt x="269" y="88"/>
                        </a:lnTo>
                        <a:lnTo>
                          <a:pt x="287" y="102"/>
                        </a:lnTo>
                        <a:lnTo>
                          <a:pt x="300" y="120"/>
                        </a:lnTo>
                        <a:lnTo>
                          <a:pt x="305" y="137"/>
                        </a:lnTo>
                        <a:lnTo>
                          <a:pt x="300" y="159"/>
                        </a:lnTo>
                        <a:lnTo>
                          <a:pt x="296" y="177"/>
                        </a:lnTo>
                        <a:lnTo>
                          <a:pt x="274" y="190"/>
                        </a:lnTo>
                        <a:lnTo>
                          <a:pt x="256" y="190"/>
                        </a:lnTo>
                        <a:lnTo>
                          <a:pt x="243" y="199"/>
                        </a:lnTo>
                        <a:lnTo>
                          <a:pt x="256" y="203"/>
                        </a:lnTo>
                        <a:lnTo>
                          <a:pt x="274" y="212"/>
                        </a:lnTo>
                        <a:lnTo>
                          <a:pt x="305" y="225"/>
                        </a:lnTo>
                        <a:lnTo>
                          <a:pt x="314" y="247"/>
                        </a:lnTo>
                        <a:lnTo>
                          <a:pt x="327" y="261"/>
                        </a:lnTo>
                        <a:lnTo>
                          <a:pt x="331" y="269"/>
                        </a:lnTo>
                        <a:lnTo>
                          <a:pt x="322" y="292"/>
                        </a:lnTo>
                        <a:lnTo>
                          <a:pt x="349" y="306"/>
                        </a:lnTo>
                        <a:lnTo>
                          <a:pt x="367" y="323"/>
                        </a:lnTo>
                        <a:lnTo>
                          <a:pt x="371" y="328"/>
                        </a:lnTo>
                        <a:lnTo>
                          <a:pt x="371" y="359"/>
                        </a:lnTo>
                        <a:lnTo>
                          <a:pt x="367" y="372"/>
                        </a:lnTo>
                        <a:lnTo>
                          <a:pt x="305" y="39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dfb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0" name=""/>
                  <p:cNvSpPr/>
                  <p:nvPr/>
                </p:nvSpPr>
                <p:spPr>
                  <a:xfrm>
                    <a:off x="1511280" y="2935440"/>
                    <a:ext cx="2268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63" h="10">
                        <a:moveTo>
                          <a:pt x="0" y="10"/>
                        </a:moveTo>
                        <a:lnTo>
                          <a:pt x="18" y="5"/>
                        </a:lnTo>
                        <a:lnTo>
                          <a:pt x="40" y="5"/>
                        </a:lnTo>
                        <a:lnTo>
                          <a:pt x="59" y="5"/>
                        </a:lnTo>
                        <a:lnTo>
                          <a:pt x="63" y="5"/>
                        </a:lnTo>
                        <a:lnTo>
                          <a:pt x="50" y="0"/>
                        </a:lnTo>
                        <a:lnTo>
                          <a:pt x="31" y="0"/>
                        </a:lnTo>
                        <a:lnTo>
                          <a:pt x="18" y="5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47520" bIns="-47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81" name=""/>
              <p:cNvSpPr/>
              <p:nvPr/>
            </p:nvSpPr>
            <p:spPr>
              <a:xfrm>
                <a:off x="981000" y="3917880"/>
                <a:ext cx="766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/>
          <p:nvPr/>
        </p:nvSpPr>
        <p:spPr>
          <a:xfrm>
            <a:off x="2616120" y="2082960"/>
            <a:ext cx="6121440" cy="3606840"/>
          </a:xfrm>
          <a:prstGeom prst="rect">
            <a:avLst/>
          </a:prstGeom>
          <a:solidFill>
            <a:srgbClr val="ffffff"/>
          </a:solidFill>
          <a:ln w="152280">
            <a:solidFill>
              <a:srgbClr val="996633"/>
            </a:solidFill>
            <a:round/>
          </a:ln>
        </p:spPr>
        <p:txBody>
          <a:bodyPr lIns="165960" rIns="165960" tIns="120960" bIns="12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2819520" y="2286000"/>
            <a:ext cx="5715000" cy="293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ompute periodic depreciation under the (a) straight-line method, (b) production method, and (c) declining-balance method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ccount for disposal of depreciable assets not involving exchang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6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ccount for the disposal of depreciable assets involving exchang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4" name="" descr=""/>
          <p:cNvPicPr/>
          <p:nvPr/>
        </p:nvPicPr>
        <p:blipFill>
          <a:blip r:embed="rId1"/>
          <a:stretch/>
        </p:blipFill>
        <p:spPr>
          <a:xfrm>
            <a:off x="1371600" y="304920"/>
            <a:ext cx="5168880" cy="2019240"/>
          </a:xfrm>
          <a:prstGeom prst="rect">
            <a:avLst/>
          </a:prstGeom>
          <a:ln w="0">
            <a:noFill/>
          </a:ln>
        </p:spPr>
      </p:pic>
      <p:sp>
        <p:nvSpPr>
          <p:cNvPr id="785" name=""/>
          <p:cNvSpPr txBox="1"/>
          <p:nvPr/>
        </p:nvSpPr>
        <p:spPr>
          <a:xfrm>
            <a:off x="2133720" y="457200"/>
            <a:ext cx="3421080" cy="94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TINUING OUR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VIEW . .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6" name=""/>
          <p:cNvGrpSpPr/>
          <p:nvPr/>
        </p:nvGrpSpPr>
        <p:grpSpPr>
          <a:xfrm>
            <a:off x="762120" y="1676520"/>
            <a:ext cx="1525320" cy="4901040"/>
            <a:chOff x="762120" y="1676520"/>
            <a:chExt cx="1525320" cy="4901040"/>
          </a:xfrm>
        </p:grpSpPr>
        <p:grpSp>
          <p:nvGrpSpPr>
            <p:cNvPr id="787" name=""/>
            <p:cNvGrpSpPr/>
            <p:nvPr/>
          </p:nvGrpSpPr>
          <p:grpSpPr>
            <a:xfrm>
              <a:off x="1241280" y="1676520"/>
              <a:ext cx="506880" cy="1373400"/>
              <a:chOff x="1241280" y="1676520"/>
              <a:chExt cx="506880" cy="1373400"/>
            </a:xfrm>
          </p:grpSpPr>
          <p:sp>
            <p:nvSpPr>
              <p:cNvPr id="788" name=""/>
              <p:cNvSpPr/>
              <p:nvPr/>
            </p:nvSpPr>
            <p:spPr>
              <a:xfrm>
                <a:off x="1306440" y="2244600"/>
                <a:ext cx="343440" cy="805320"/>
              </a:xfrm>
              <a:custGeom>
                <a:avLst/>
                <a:gdLst/>
                <a:ahLst/>
                <a:rect l="0" t="0" r="r" b="b"/>
                <a:pathLst>
                  <a:path w="954" h="2237">
                    <a:moveTo>
                      <a:pt x="171" y="0"/>
                    </a:moveTo>
                    <a:lnTo>
                      <a:pt x="158" y="101"/>
                    </a:lnTo>
                    <a:lnTo>
                      <a:pt x="132" y="207"/>
                    </a:lnTo>
                    <a:lnTo>
                      <a:pt x="0" y="471"/>
                    </a:lnTo>
                    <a:lnTo>
                      <a:pt x="441" y="2237"/>
                    </a:lnTo>
                    <a:lnTo>
                      <a:pt x="954" y="529"/>
                    </a:lnTo>
                    <a:lnTo>
                      <a:pt x="844" y="295"/>
                    </a:lnTo>
                    <a:lnTo>
                      <a:pt x="808" y="207"/>
                    </a:lnTo>
                    <a:lnTo>
                      <a:pt x="791" y="149"/>
                    </a:lnTo>
                    <a:lnTo>
                      <a:pt x="786" y="17"/>
                    </a:lnTo>
                    <a:lnTo>
                      <a:pt x="17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1374840" y="2260440"/>
                <a:ext cx="282960" cy="294120"/>
              </a:xfrm>
              <a:custGeom>
                <a:avLst/>
                <a:gdLst/>
                <a:ahLst/>
                <a:rect l="0" t="0" r="r" b="b"/>
                <a:pathLst>
                  <a:path w="786" h="817">
                    <a:moveTo>
                      <a:pt x="0" y="0"/>
                    </a:moveTo>
                    <a:lnTo>
                      <a:pt x="8" y="44"/>
                    </a:lnTo>
                    <a:lnTo>
                      <a:pt x="17" y="74"/>
                    </a:lnTo>
                    <a:lnTo>
                      <a:pt x="35" y="114"/>
                    </a:lnTo>
                    <a:lnTo>
                      <a:pt x="52" y="158"/>
                    </a:lnTo>
                    <a:lnTo>
                      <a:pt x="79" y="189"/>
                    </a:lnTo>
                    <a:lnTo>
                      <a:pt x="101" y="230"/>
                    </a:lnTo>
                    <a:lnTo>
                      <a:pt x="136" y="261"/>
                    </a:lnTo>
                    <a:lnTo>
                      <a:pt x="176" y="292"/>
                    </a:lnTo>
                    <a:lnTo>
                      <a:pt x="234" y="314"/>
                    </a:lnTo>
                    <a:lnTo>
                      <a:pt x="287" y="327"/>
                    </a:lnTo>
                    <a:lnTo>
                      <a:pt x="322" y="349"/>
                    </a:lnTo>
                    <a:lnTo>
                      <a:pt x="340" y="362"/>
                    </a:lnTo>
                    <a:lnTo>
                      <a:pt x="349" y="384"/>
                    </a:lnTo>
                    <a:lnTo>
                      <a:pt x="349" y="415"/>
                    </a:lnTo>
                    <a:lnTo>
                      <a:pt x="371" y="402"/>
                    </a:lnTo>
                    <a:lnTo>
                      <a:pt x="397" y="389"/>
                    </a:lnTo>
                    <a:lnTo>
                      <a:pt x="415" y="393"/>
                    </a:lnTo>
                    <a:lnTo>
                      <a:pt x="424" y="415"/>
                    </a:lnTo>
                    <a:lnTo>
                      <a:pt x="424" y="446"/>
                    </a:lnTo>
                    <a:lnTo>
                      <a:pt x="424" y="472"/>
                    </a:lnTo>
                    <a:lnTo>
                      <a:pt x="358" y="817"/>
                    </a:lnTo>
                    <a:lnTo>
                      <a:pt x="525" y="419"/>
                    </a:lnTo>
                    <a:lnTo>
                      <a:pt x="556" y="419"/>
                    </a:lnTo>
                    <a:lnTo>
                      <a:pt x="587" y="424"/>
                    </a:lnTo>
                    <a:lnTo>
                      <a:pt x="614" y="437"/>
                    </a:lnTo>
                    <a:lnTo>
                      <a:pt x="663" y="455"/>
                    </a:lnTo>
                    <a:lnTo>
                      <a:pt x="698" y="459"/>
                    </a:lnTo>
                    <a:lnTo>
                      <a:pt x="747" y="472"/>
                    </a:lnTo>
                    <a:lnTo>
                      <a:pt x="786" y="472"/>
                    </a:lnTo>
                    <a:lnTo>
                      <a:pt x="760" y="419"/>
                    </a:lnTo>
                    <a:lnTo>
                      <a:pt x="725" y="371"/>
                    </a:lnTo>
                    <a:lnTo>
                      <a:pt x="703" y="322"/>
                    </a:lnTo>
                    <a:lnTo>
                      <a:pt x="676" y="283"/>
                    </a:lnTo>
                    <a:lnTo>
                      <a:pt x="663" y="252"/>
                    </a:lnTo>
                    <a:lnTo>
                      <a:pt x="645" y="217"/>
                    </a:lnTo>
                    <a:lnTo>
                      <a:pt x="597" y="26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2"/>
                <a:tile tx="0" ty="0" sx="133018" sy="133018" algn="ctr"/>
              </a:blipFill>
              <a:ln w="12600">
                <a:solidFill>
                  <a:srgbClr val="fc5853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1314360" y="1703520"/>
                <a:ext cx="360720" cy="619560"/>
              </a:xfrm>
              <a:custGeom>
                <a:avLst/>
                <a:gdLst/>
                <a:ahLst/>
                <a:rect l="0" t="0" r="r" b="b"/>
                <a:pathLst>
                  <a:path w="1002" h="1721">
                    <a:moveTo>
                      <a:pt x="971" y="922"/>
                    </a:moveTo>
                    <a:lnTo>
                      <a:pt x="962" y="1028"/>
                    </a:lnTo>
                    <a:lnTo>
                      <a:pt x="935" y="1121"/>
                    </a:lnTo>
                    <a:lnTo>
                      <a:pt x="931" y="1182"/>
                    </a:lnTo>
                    <a:lnTo>
                      <a:pt x="927" y="1240"/>
                    </a:lnTo>
                    <a:lnTo>
                      <a:pt x="904" y="1316"/>
                    </a:lnTo>
                    <a:lnTo>
                      <a:pt x="887" y="1408"/>
                    </a:lnTo>
                    <a:lnTo>
                      <a:pt x="865" y="1474"/>
                    </a:lnTo>
                    <a:lnTo>
                      <a:pt x="830" y="1523"/>
                    </a:lnTo>
                    <a:lnTo>
                      <a:pt x="790" y="1567"/>
                    </a:lnTo>
                    <a:lnTo>
                      <a:pt x="755" y="1624"/>
                    </a:lnTo>
                    <a:lnTo>
                      <a:pt x="688" y="1664"/>
                    </a:lnTo>
                    <a:lnTo>
                      <a:pt x="644" y="1699"/>
                    </a:lnTo>
                    <a:lnTo>
                      <a:pt x="578" y="1712"/>
                    </a:lnTo>
                    <a:lnTo>
                      <a:pt x="489" y="1721"/>
                    </a:lnTo>
                    <a:lnTo>
                      <a:pt x="410" y="1712"/>
                    </a:lnTo>
                    <a:lnTo>
                      <a:pt x="366" y="1690"/>
                    </a:lnTo>
                    <a:lnTo>
                      <a:pt x="299" y="1646"/>
                    </a:lnTo>
                    <a:lnTo>
                      <a:pt x="260" y="1607"/>
                    </a:lnTo>
                    <a:lnTo>
                      <a:pt x="211" y="1571"/>
                    </a:lnTo>
                    <a:lnTo>
                      <a:pt x="176" y="1536"/>
                    </a:lnTo>
                    <a:lnTo>
                      <a:pt x="132" y="1479"/>
                    </a:lnTo>
                    <a:lnTo>
                      <a:pt x="105" y="1435"/>
                    </a:lnTo>
                    <a:lnTo>
                      <a:pt x="97" y="1386"/>
                    </a:lnTo>
                    <a:lnTo>
                      <a:pt x="74" y="1338"/>
                    </a:lnTo>
                    <a:lnTo>
                      <a:pt x="70" y="1279"/>
                    </a:lnTo>
                    <a:lnTo>
                      <a:pt x="66" y="1226"/>
                    </a:lnTo>
                    <a:lnTo>
                      <a:pt x="52" y="1182"/>
                    </a:lnTo>
                    <a:lnTo>
                      <a:pt x="48" y="1125"/>
                    </a:lnTo>
                    <a:lnTo>
                      <a:pt x="30" y="1041"/>
                    </a:lnTo>
                    <a:lnTo>
                      <a:pt x="4" y="944"/>
                    </a:lnTo>
                    <a:lnTo>
                      <a:pt x="0" y="794"/>
                    </a:lnTo>
                    <a:lnTo>
                      <a:pt x="0" y="662"/>
                    </a:lnTo>
                    <a:lnTo>
                      <a:pt x="4" y="525"/>
                    </a:lnTo>
                    <a:lnTo>
                      <a:pt x="17" y="401"/>
                    </a:lnTo>
                    <a:lnTo>
                      <a:pt x="39" y="317"/>
                    </a:lnTo>
                    <a:lnTo>
                      <a:pt x="66" y="229"/>
                    </a:lnTo>
                    <a:lnTo>
                      <a:pt x="114" y="136"/>
                    </a:lnTo>
                    <a:lnTo>
                      <a:pt x="163" y="83"/>
                    </a:lnTo>
                    <a:lnTo>
                      <a:pt x="229" y="48"/>
                    </a:lnTo>
                    <a:lnTo>
                      <a:pt x="339" y="17"/>
                    </a:lnTo>
                    <a:lnTo>
                      <a:pt x="449" y="0"/>
                    </a:lnTo>
                    <a:lnTo>
                      <a:pt x="574" y="0"/>
                    </a:lnTo>
                    <a:lnTo>
                      <a:pt x="728" y="8"/>
                    </a:lnTo>
                    <a:lnTo>
                      <a:pt x="812" y="30"/>
                    </a:lnTo>
                    <a:lnTo>
                      <a:pt x="865" y="74"/>
                    </a:lnTo>
                    <a:lnTo>
                      <a:pt x="927" y="136"/>
                    </a:lnTo>
                    <a:lnTo>
                      <a:pt x="953" y="229"/>
                    </a:lnTo>
                    <a:lnTo>
                      <a:pt x="988" y="343"/>
                    </a:lnTo>
                    <a:lnTo>
                      <a:pt x="1002" y="472"/>
                    </a:lnTo>
                    <a:lnTo>
                      <a:pt x="1002" y="565"/>
                    </a:lnTo>
                    <a:lnTo>
                      <a:pt x="1002" y="737"/>
                    </a:lnTo>
                    <a:lnTo>
                      <a:pt x="988" y="856"/>
                    </a:lnTo>
                    <a:lnTo>
                      <a:pt x="971" y="922"/>
                    </a:lnTo>
                    <a:close/>
                  </a:path>
                </a:pathLst>
              </a:custGeom>
              <a:solidFill>
                <a:srgbClr val="ffdfb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1576440" y="1735200"/>
                <a:ext cx="95760" cy="563760"/>
              </a:xfrm>
              <a:custGeom>
                <a:avLst/>
                <a:gdLst/>
                <a:ahLst/>
                <a:rect l="0" t="0" r="r" b="b"/>
                <a:pathLst>
                  <a:path w="266" h="1566">
                    <a:moveTo>
                      <a:pt x="240" y="847"/>
                    </a:moveTo>
                    <a:lnTo>
                      <a:pt x="231" y="944"/>
                    </a:lnTo>
                    <a:lnTo>
                      <a:pt x="209" y="1041"/>
                    </a:lnTo>
                    <a:lnTo>
                      <a:pt x="204" y="1103"/>
                    </a:lnTo>
                    <a:lnTo>
                      <a:pt x="195" y="1165"/>
                    </a:lnTo>
                    <a:lnTo>
                      <a:pt x="181" y="1240"/>
                    </a:lnTo>
                    <a:lnTo>
                      <a:pt x="172" y="1306"/>
                    </a:lnTo>
                    <a:lnTo>
                      <a:pt x="159" y="1368"/>
                    </a:lnTo>
                    <a:lnTo>
                      <a:pt x="133" y="1398"/>
                    </a:lnTo>
                    <a:lnTo>
                      <a:pt x="111" y="1447"/>
                    </a:lnTo>
                    <a:lnTo>
                      <a:pt x="61" y="1509"/>
                    </a:lnTo>
                    <a:lnTo>
                      <a:pt x="0" y="1566"/>
                    </a:lnTo>
                    <a:lnTo>
                      <a:pt x="35" y="1535"/>
                    </a:lnTo>
                    <a:lnTo>
                      <a:pt x="61" y="1478"/>
                    </a:lnTo>
                    <a:lnTo>
                      <a:pt x="80" y="1429"/>
                    </a:lnTo>
                    <a:lnTo>
                      <a:pt x="93" y="1385"/>
                    </a:lnTo>
                    <a:lnTo>
                      <a:pt x="93" y="1328"/>
                    </a:lnTo>
                    <a:lnTo>
                      <a:pt x="93" y="1293"/>
                    </a:lnTo>
                    <a:lnTo>
                      <a:pt x="75" y="1231"/>
                    </a:lnTo>
                    <a:lnTo>
                      <a:pt x="93" y="1218"/>
                    </a:lnTo>
                    <a:lnTo>
                      <a:pt x="124" y="1169"/>
                    </a:lnTo>
                    <a:lnTo>
                      <a:pt x="142" y="1129"/>
                    </a:lnTo>
                    <a:lnTo>
                      <a:pt x="159" y="1081"/>
                    </a:lnTo>
                    <a:lnTo>
                      <a:pt x="168" y="1015"/>
                    </a:lnTo>
                    <a:lnTo>
                      <a:pt x="177" y="957"/>
                    </a:lnTo>
                    <a:lnTo>
                      <a:pt x="177" y="913"/>
                    </a:lnTo>
                    <a:lnTo>
                      <a:pt x="177" y="878"/>
                    </a:lnTo>
                    <a:lnTo>
                      <a:pt x="168" y="847"/>
                    </a:lnTo>
                    <a:lnTo>
                      <a:pt x="146" y="816"/>
                    </a:lnTo>
                    <a:lnTo>
                      <a:pt x="159" y="790"/>
                    </a:lnTo>
                    <a:lnTo>
                      <a:pt x="168" y="762"/>
                    </a:lnTo>
                    <a:lnTo>
                      <a:pt x="177" y="709"/>
                    </a:lnTo>
                    <a:lnTo>
                      <a:pt x="137" y="670"/>
                    </a:lnTo>
                    <a:lnTo>
                      <a:pt x="120" y="661"/>
                    </a:lnTo>
                    <a:lnTo>
                      <a:pt x="133" y="630"/>
                    </a:lnTo>
                    <a:lnTo>
                      <a:pt x="142" y="586"/>
                    </a:lnTo>
                    <a:lnTo>
                      <a:pt x="146" y="551"/>
                    </a:lnTo>
                    <a:lnTo>
                      <a:pt x="142" y="493"/>
                    </a:lnTo>
                    <a:lnTo>
                      <a:pt x="133" y="463"/>
                    </a:lnTo>
                    <a:lnTo>
                      <a:pt x="120" y="414"/>
                    </a:lnTo>
                    <a:lnTo>
                      <a:pt x="67" y="343"/>
                    </a:lnTo>
                    <a:lnTo>
                      <a:pt x="35" y="299"/>
                    </a:lnTo>
                    <a:lnTo>
                      <a:pt x="0" y="242"/>
                    </a:lnTo>
                    <a:lnTo>
                      <a:pt x="8" y="171"/>
                    </a:lnTo>
                    <a:lnTo>
                      <a:pt x="35" y="105"/>
                    </a:lnTo>
                    <a:lnTo>
                      <a:pt x="75" y="22"/>
                    </a:lnTo>
                    <a:lnTo>
                      <a:pt x="137" y="0"/>
                    </a:lnTo>
                    <a:lnTo>
                      <a:pt x="186" y="52"/>
                    </a:lnTo>
                    <a:lnTo>
                      <a:pt x="222" y="145"/>
                    </a:lnTo>
                    <a:lnTo>
                      <a:pt x="253" y="264"/>
                    </a:lnTo>
                    <a:lnTo>
                      <a:pt x="262" y="388"/>
                    </a:lnTo>
                    <a:lnTo>
                      <a:pt x="266" y="485"/>
                    </a:lnTo>
                    <a:lnTo>
                      <a:pt x="262" y="652"/>
                    </a:lnTo>
                    <a:lnTo>
                      <a:pt x="253" y="771"/>
                    </a:lnTo>
                    <a:lnTo>
                      <a:pt x="240" y="847"/>
                    </a:lnTo>
                    <a:close/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1424160" y="2209680"/>
                <a:ext cx="149760" cy="32040"/>
              </a:xfrm>
              <a:custGeom>
                <a:avLst/>
                <a:gdLst/>
                <a:ahLst/>
                <a:rect l="0" t="0" r="r" b="b"/>
                <a:pathLst>
                  <a:path w="416" h="89">
                    <a:moveTo>
                      <a:pt x="0" y="4"/>
                    </a:moveTo>
                    <a:lnTo>
                      <a:pt x="22" y="8"/>
                    </a:lnTo>
                    <a:lnTo>
                      <a:pt x="57" y="8"/>
                    </a:lnTo>
                    <a:lnTo>
                      <a:pt x="92" y="4"/>
                    </a:lnTo>
                    <a:lnTo>
                      <a:pt x="115" y="4"/>
                    </a:lnTo>
                    <a:lnTo>
                      <a:pt x="137" y="4"/>
                    </a:lnTo>
                    <a:lnTo>
                      <a:pt x="164" y="4"/>
                    </a:lnTo>
                    <a:lnTo>
                      <a:pt x="186" y="4"/>
                    </a:lnTo>
                    <a:lnTo>
                      <a:pt x="212" y="4"/>
                    </a:lnTo>
                    <a:lnTo>
                      <a:pt x="225" y="4"/>
                    </a:lnTo>
                    <a:lnTo>
                      <a:pt x="247" y="4"/>
                    </a:lnTo>
                    <a:lnTo>
                      <a:pt x="283" y="0"/>
                    </a:lnTo>
                    <a:lnTo>
                      <a:pt x="309" y="0"/>
                    </a:lnTo>
                    <a:lnTo>
                      <a:pt x="328" y="0"/>
                    </a:lnTo>
                    <a:lnTo>
                      <a:pt x="363" y="4"/>
                    </a:lnTo>
                    <a:lnTo>
                      <a:pt x="381" y="4"/>
                    </a:lnTo>
                    <a:lnTo>
                      <a:pt x="416" y="4"/>
                    </a:lnTo>
                    <a:lnTo>
                      <a:pt x="372" y="26"/>
                    </a:lnTo>
                    <a:lnTo>
                      <a:pt x="354" y="39"/>
                    </a:lnTo>
                    <a:lnTo>
                      <a:pt x="328" y="62"/>
                    </a:lnTo>
                    <a:lnTo>
                      <a:pt x="305" y="71"/>
                    </a:lnTo>
                    <a:lnTo>
                      <a:pt x="292" y="80"/>
                    </a:lnTo>
                    <a:lnTo>
                      <a:pt x="269" y="89"/>
                    </a:lnTo>
                    <a:lnTo>
                      <a:pt x="234" y="89"/>
                    </a:lnTo>
                    <a:lnTo>
                      <a:pt x="199" y="89"/>
                    </a:lnTo>
                    <a:lnTo>
                      <a:pt x="159" y="80"/>
                    </a:lnTo>
                    <a:lnTo>
                      <a:pt x="128" y="71"/>
                    </a:lnTo>
                    <a:lnTo>
                      <a:pt x="97" y="62"/>
                    </a:lnTo>
                    <a:lnTo>
                      <a:pt x="66" y="45"/>
                    </a:lnTo>
                    <a:lnTo>
                      <a:pt x="30" y="26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001f"/>
              </a:solidFill>
              <a:ln w="0">
                <a:noFill/>
              </a:ln>
            </p:spPr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424160" y="2209680"/>
                <a:ext cx="149760" cy="8280"/>
              </a:xfrm>
              <a:custGeom>
                <a:avLst/>
                <a:gdLst/>
                <a:ahLst/>
                <a:rect l="0" t="0" r="r" b="b"/>
                <a:pathLst>
                  <a:path w="416" h="23">
                    <a:moveTo>
                      <a:pt x="0" y="0"/>
                    </a:moveTo>
                    <a:lnTo>
                      <a:pt x="22" y="4"/>
                    </a:lnTo>
                    <a:lnTo>
                      <a:pt x="57" y="4"/>
                    </a:lnTo>
                    <a:lnTo>
                      <a:pt x="92" y="0"/>
                    </a:lnTo>
                    <a:lnTo>
                      <a:pt x="115" y="0"/>
                    </a:lnTo>
                    <a:lnTo>
                      <a:pt x="137" y="0"/>
                    </a:lnTo>
                    <a:lnTo>
                      <a:pt x="164" y="0"/>
                    </a:lnTo>
                    <a:lnTo>
                      <a:pt x="186" y="0"/>
                    </a:lnTo>
                    <a:lnTo>
                      <a:pt x="212" y="0"/>
                    </a:lnTo>
                    <a:lnTo>
                      <a:pt x="225" y="0"/>
                    </a:lnTo>
                    <a:lnTo>
                      <a:pt x="247" y="0"/>
                    </a:lnTo>
                    <a:lnTo>
                      <a:pt x="283" y="0"/>
                    </a:lnTo>
                    <a:lnTo>
                      <a:pt x="309" y="0"/>
                    </a:lnTo>
                    <a:lnTo>
                      <a:pt x="328" y="0"/>
                    </a:lnTo>
                    <a:lnTo>
                      <a:pt x="363" y="0"/>
                    </a:lnTo>
                    <a:lnTo>
                      <a:pt x="381" y="0"/>
                    </a:lnTo>
                    <a:lnTo>
                      <a:pt x="416" y="0"/>
                    </a:lnTo>
                    <a:lnTo>
                      <a:pt x="376" y="14"/>
                    </a:lnTo>
                    <a:lnTo>
                      <a:pt x="363" y="14"/>
                    </a:lnTo>
                    <a:lnTo>
                      <a:pt x="337" y="14"/>
                    </a:lnTo>
                    <a:lnTo>
                      <a:pt x="309" y="14"/>
                    </a:lnTo>
                    <a:lnTo>
                      <a:pt x="283" y="23"/>
                    </a:lnTo>
                    <a:lnTo>
                      <a:pt x="261" y="23"/>
                    </a:lnTo>
                    <a:lnTo>
                      <a:pt x="225" y="23"/>
                    </a:lnTo>
                    <a:lnTo>
                      <a:pt x="199" y="23"/>
                    </a:lnTo>
                    <a:lnTo>
                      <a:pt x="168" y="23"/>
                    </a:lnTo>
                    <a:lnTo>
                      <a:pt x="128" y="14"/>
                    </a:lnTo>
                    <a:lnTo>
                      <a:pt x="97" y="14"/>
                    </a:lnTo>
                    <a:lnTo>
                      <a:pt x="61" y="14"/>
                    </a:lnTo>
                    <a:lnTo>
                      <a:pt x="35" y="14"/>
                    </a:lnTo>
                    <a:lnTo>
                      <a:pt x="22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1477800" y="2238480"/>
                <a:ext cx="49680" cy="5040"/>
              </a:xfrm>
              <a:custGeom>
                <a:avLst/>
                <a:gdLst/>
                <a:ahLst/>
                <a:rect l="0" t="0" r="r" b="b"/>
                <a:pathLst>
                  <a:path w="138" h="14">
                    <a:moveTo>
                      <a:pt x="0" y="9"/>
                    </a:moveTo>
                    <a:lnTo>
                      <a:pt x="17" y="9"/>
                    </a:lnTo>
                    <a:lnTo>
                      <a:pt x="36" y="0"/>
                    </a:lnTo>
                    <a:lnTo>
                      <a:pt x="53" y="0"/>
                    </a:lnTo>
                    <a:lnTo>
                      <a:pt x="71" y="0"/>
                    </a:lnTo>
                    <a:lnTo>
                      <a:pt x="89" y="0"/>
                    </a:lnTo>
                    <a:lnTo>
                      <a:pt x="112" y="9"/>
                    </a:lnTo>
                    <a:lnTo>
                      <a:pt x="129" y="9"/>
                    </a:lnTo>
                    <a:lnTo>
                      <a:pt x="138" y="14"/>
                    </a:lnTo>
                    <a:lnTo>
                      <a:pt x="125" y="9"/>
                    </a:lnTo>
                    <a:lnTo>
                      <a:pt x="102" y="9"/>
                    </a:lnTo>
                    <a:lnTo>
                      <a:pt x="89" y="9"/>
                    </a:lnTo>
                    <a:lnTo>
                      <a:pt x="71" y="9"/>
                    </a:lnTo>
                    <a:lnTo>
                      <a:pt x="62" y="9"/>
                    </a:lnTo>
                    <a:lnTo>
                      <a:pt x="49" y="9"/>
                    </a:lnTo>
                    <a:lnTo>
                      <a:pt x="30" y="9"/>
                    </a:lnTo>
                    <a:lnTo>
                      <a:pt x="17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1457280" y="1971720"/>
                <a:ext cx="179640" cy="200520"/>
              </a:xfrm>
              <a:custGeom>
                <a:avLst/>
                <a:gdLst/>
                <a:ahLst/>
                <a:rect l="0" t="0" r="r" b="b"/>
                <a:pathLst>
                  <a:path w="499" h="557">
                    <a:moveTo>
                      <a:pt x="4" y="456"/>
                    </a:moveTo>
                    <a:lnTo>
                      <a:pt x="4" y="478"/>
                    </a:lnTo>
                    <a:lnTo>
                      <a:pt x="8" y="491"/>
                    </a:lnTo>
                    <a:lnTo>
                      <a:pt x="26" y="504"/>
                    </a:lnTo>
                    <a:lnTo>
                      <a:pt x="35" y="504"/>
                    </a:lnTo>
                    <a:lnTo>
                      <a:pt x="52" y="504"/>
                    </a:lnTo>
                    <a:lnTo>
                      <a:pt x="66" y="504"/>
                    </a:lnTo>
                    <a:lnTo>
                      <a:pt x="74" y="509"/>
                    </a:lnTo>
                    <a:lnTo>
                      <a:pt x="79" y="531"/>
                    </a:lnTo>
                    <a:lnTo>
                      <a:pt x="88" y="531"/>
                    </a:lnTo>
                    <a:lnTo>
                      <a:pt x="110" y="531"/>
                    </a:lnTo>
                    <a:lnTo>
                      <a:pt x="132" y="531"/>
                    </a:lnTo>
                    <a:lnTo>
                      <a:pt x="141" y="531"/>
                    </a:lnTo>
                    <a:lnTo>
                      <a:pt x="158" y="517"/>
                    </a:lnTo>
                    <a:lnTo>
                      <a:pt x="158" y="504"/>
                    </a:lnTo>
                    <a:lnTo>
                      <a:pt x="185" y="491"/>
                    </a:lnTo>
                    <a:lnTo>
                      <a:pt x="207" y="491"/>
                    </a:lnTo>
                    <a:lnTo>
                      <a:pt x="220" y="491"/>
                    </a:lnTo>
                    <a:lnTo>
                      <a:pt x="229" y="478"/>
                    </a:lnTo>
                    <a:lnTo>
                      <a:pt x="229" y="465"/>
                    </a:lnTo>
                    <a:lnTo>
                      <a:pt x="224" y="429"/>
                    </a:lnTo>
                    <a:lnTo>
                      <a:pt x="220" y="397"/>
                    </a:lnTo>
                    <a:lnTo>
                      <a:pt x="207" y="384"/>
                    </a:lnTo>
                    <a:lnTo>
                      <a:pt x="185" y="469"/>
                    </a:lnTo>
                    <a:lnTo>
                      <a:pt x="185" y="438"/>
                    </a:lnTo>
                    <a:lnTo>
                      <a:pt x="185" y="429"/>
                    </a:lnTo>
                    <a:lnTo>
                      <a:pt x="171" y="406"/>
                    </a:lnTo>
                    <a:lnTo>
                      <a:pt x="158" y="397"/>
                    </a:lnTo>
                    <a:lnTo>
                      <a:pt x="158" y="384"/>
                    </a:lnTo>
                    <a:lnTo>
                      <a:pt x="145" y="199"/>
                    </a:lnTo>
                    <a:lnTo>
                      <a:pt x="158" y="159"/>
                    </a:lnTo>
                    <a:lnTo>
                      <a:pt x="163" y="127"/>
                    </a:lnTo>
                    <a:lnTo>
                      <a:pt x="176" y="114"/>
                    </a:lnTo>
                    <a:lnTo>
                      <a:pt x="189" y="88"/>
                    </a:lnTo>
                    <a:lnTo>
                      <a:pt x="211" y="61"/>
                    </a:lnTo>
                    <a:lnTo>
                      <a:pt x="233" y="35"/>
                    </a:lnTo>
                    <a:lnTo>
                      <a:pt x="261" y="26"/>
                    </a:lnTo>
                    <a:lnTo>
                      <a:pt x="287" y="8"/>
                    </a:lnTo>
                    <a:lnTo>
                      <a:pt x="340" y="0"/>
                    </a:lnTo>
                    <a:lnTo>
                      <a:pt x="305" y="26"/>
                    </a:lnTo>
                    <a:lnTo>
                      <a:pt x="287" y="61"/>
                    </a:lnTo>
                    <a:lnTo>
                      <a:pt x="283" y="74"/>
                    </a:lnTo>
                    <a:lnTo>
                      <a:pt x="292" y="92"/>
                    </a:lnTo>
                    <a:lnTo>
                      <a:pt x="305" y="114"/>
                    </a:lnTo>
                    <a:lnTo>
                      <a:pt x="340" y="83"/>
                    </a:lnTo>
                    <a:lnTo>
                      <a:pt x="367" y="88"/>
                    </a:lnTo>
                    <a:lnTo>
                      <a:pt x="393" y="83"/>
                    </a:lnTo>
                    <a:lnTo>
                      <a:pt x="428" y="88"/>
                    </a:lnTo>
                    <a:lnTo>
                      <a:pt x="455" y="88"/>
                    </a:lnTo>
                    <a:lnTo>
                      <a:pt x="477" y="83"/>
                    </a:lnTo>
                    <a:lnTo>
                      <a:pt x="499" y="61"/>
                    </a:lnTo>
                    <a:lnTo>
                      <a:pt x="499" y="83"/>
                    </a:lnTo>
                    <a:lnTo>
                      <a:pt x="486" y="114"/>
                    </a:lnTo>
                    <a:lnTo>
                      <a:pt x="468" y="142"/>
                    </a:lnTo>
                    <a:lnTo>
                      <a:pt x="446" y="159"/>
                    </a:lnTo>
                    <a:lnTo>
                      <a:pt x="428" y="177"/>
                    </a:lnTo>
                    <a:lnTo>
                      <a:pt x="229" y="168"/>
                    </a:lnTo>
                    <a:lnTo>
                      <a:pt x="220" y="168"/>
                    </a:lnTo>
                    <a:lnTo>
                      <a:pt x="198" y="186"/>
                    </a:lnTo>
                    <a:lnTo>
                      <a:pt x="189" y="199"/>
                    </a:lnTo>
                    <a:lnTo>
                      <a:pt x="185" y="208"/>
                    </a:lnTo>
                    <a:lnTo>
                      <a:pt x="185" y="239"/>
                    </a:lnTo>
                    <a:lnTo>
                      <a:pt x="185" y="252"/>
                    </a:lnTo>
                    <a:lnTo>
                      <a:pt x="189" y="261"/>
                    </a:lnTo>
                    <a:lnTo>
                      <a:pt x="198" y="269"/>
                    </a:lnTo>
                    <a:lnTo>
                      <a:pt x="211" y="278"/>
                    </a:lnTo>
                    <a:lnTo>
                      <a:pt x="233" y="300"/>
                    </a:lnTo>
                    <a:lnTo>
                      <a:pt x="252" y="300"/>
                    </a:lnTo>
                    <a:lnTo>
                      <a:pt x="185" y="269"/>
                    </a:lnTo>
                    <a:lnTo>
                      <a:pt x="185" y="300"/>
                    </a:lnTo>
                    <a:lnTo>
                      <a:pt x="185" y="331"/>
                    </a:lnTo>
                    <a:lnTo>
                      <a:pt x="189" y="380"/>
                    </a:lnTo>
                    <a:lnTo>
                      <a:pt x="198" y="380"/>
                    </a:lnTo>
                    <a:lnTo>
                      <a:pt x="211" y="389"/>
                    </a:lnTo>
                    <a:lnTo>
                      <a:pt x="224" y="411"/>
                    </a:lnTo>
                    <a:lnTo>
                      <a:pt x="233" y="447"/>
                    </a:lnTo>
                    <a:lnTo>
                      <a:pt x="233" y="469"/>
                    </a:lnTo>
                    <a:lnTo>
                      <a:pt x="233" y="491"/>
                    </a:lnTo>
                    <a:lnTo>
                      <a:pt x="224" y="504"/>
                    </a:lnTo>
                    <a:lnTo>
                      <a:pt x="216" y="504"/>
                    </a:lnTo>
                    <a:lnTo>
                      <a:pt x="211" y="509"/>
                    </a:lnTo>
                    <a:lnTo>
                      <a:pt x="189" y="509"/>
                    </a:lnTo>
                    <a:lnTo>
                      <a:pt x="176" y="513"/>
                    </a:lnTo>
                    <a:lnTo>
                      <a:pt x="158" y="531"/>
                    </a:lnTo>
                    <a:lnTo>
                      <a:pt x="154" y="553"/>
                    </a:lnTo>
                    <a:lnTo>
                      <a:pt x="136" y="557"/>
                    </a:lnTo>
                    <a:lnTo>
                      <a:pt x="123" y="557"/>
                    </a:lnTo>
                    <a:lnTo>
                      <a:pt x="114" y="557"/>
                    </a:lnTo>
                    <a:lnTo>
                      <a:pt x="88" y="557"/>
                    </a:lnTo>
                    <a:lnTo>
                      <a:pt x="83" y="548"/>
                    </a:lnTo>
                    <a:lnTo>
                      <a:pt x="66" y="531"/>
                    </a:lnTo>
                    <a:lnTo>
                      <a:pt x="57" y="517"/>
                    </a:lnTo>
                    <a:lnTo>
                      <a:pt x="44" y="517"/>
                    </a:lnTo>
                    <a:lnTo>
                      <a:pt x="26" y="517"/>
                    </a:lnTo>
                    <a:lnTo>
                      <a:pt x="13" y="509"/>
                    </a:lnTo>
                    <a:lnTo>
                      <a:pt x="4" y="504"/>
                    </a:lnTo>
                    <a:lnTo>
                      <a:pt x="0" y="491"/>
                    </a:lnTo>
                    <a:lnTo>
                      <a:pt x="4" y="456"/>
                    </a:lnTo>
                    <a:close/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1490760" y="2138400"/>
                <a:ext cx="1440" cy="1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1241280" y="1676520"/>
                <a:ext cx="506880" cy="435240"/>
              </a:xfrm>
              <a:custGeom>
                <a:avLst/>
                <a:gdLst/>
                <a:ahLst/>
                <a:rect l="0" t="0" r="r" b="b"/>
                <a:pathLst>
                  <a:path w="1408" h="1209">
                    <a:moveTo>
                      <a:pt x="242" y="1209"/>
                    </a:moveTo>
                    <a:lnTo>
                      <a:pt x="224" y="1187"/>
                    </a:lnTo>
                    <a:lnTo>
                      <a:pt x="202" y="1151"/>
                    </a:lnTo>
                    <a:lnTo>
                      <a:pt x="194" y="1134"/>
                    </a:lnTo>
                    <a:lnTo>
                      <a:pt x="185" y="1112"/>
                    </a:lnTo>
                    <a:lnTo>
                      <a:pt x="176" y="1099"/>
                    </a:lnTo>
                    <a:lnTo>
                      <a:pt x="149" y="1085"/>
                    </a:lnTo>
                    <a:lnTo>
                      <a:pt x="127" y="1076"/>
                    </a:lnTo>
                    <a:lnTo>
                      <a:pt x="92" y="1050"/>
                    </a:lnTo>
                    <a:lnTo>
                      <a:pt x="88" y="1028"/>
                    </a:lnTo>
                    <a:lnTo>
                      <a:pt x="57" y="1006"/>
                    </a:lnTo>
                    <a:lnTo>
                      <a:pt x="48" y="988"/>
                    </a:lnTo>
                    <a:lnTo>
                      <a:pt x="39" y="949"/>
                    </a:lnTo>
                    <a:lnTo>
                      <a:pt x="35" y="922"/>
                    </a:lnTo>
                    <a:lnTo>
                      <a:pt x="26" y="887"/>
                    </a:lnTo>
                    <a:lnTo>
                      <a:pt x="13" y="852"/>
                    </a:lnTo>
                    <a:lnTo>
                      <a:pt x="13" y="759"/>
                    </a:lnTo>
                    <a:lnTo>
                      <a:pt x="8" y="666"/>
                    </a:lnTo>
                    <a:lnTo>
                      <a:pt x="0" y="577"/>
                    </a:lnTo>
                    <a:lnTo>
                      <a:pt x="13" y="542"/>
                    </a:lnTo>
                    <a:lnTo>
                      <a:pt x="26" y="498"/>
                    </a:lnTo>
                    <a:lnTo>
                      <a:pt x="35" y="454"/>
                    </a:lnTo>
                    <a:lnTo>
                      <a:pt x="48" y="401"/>
                    </a:lnTo>
                    <a:lnTo>
                      <a:pt x="88" y="317"/>
                    </a:lnTo>
                    <a:lnTo>
                      <a:pt x="132" y="255"/>
                    </a:lnTo>
                    <a:lnTo>
                      <a:pt x="167" y="220"/>
                    </a:lnTo>
                    <a:lnTo>
                      <a:pt x="198" y="180"/>
                    </a:lnTo>
                    <a:lnTo>
                      <a:pt x="273" y="136"/>
                    </a:lnTo>
                    <a:lnTo>
                      <a:pt x="343" y="92"/>
                    </a:lnTo>
                    <a:lnTo>
                      <a:pt x="428" y="44"/>
                    </a:lnTo>
                    <a:lnTo>
                      <a:pt x="521" y="17"/>
                    </a:lnTo>
                    <a:lnTo>
                      <a:pt x="618" y="13"/>
                    </a:lnTo>
                    <a:lnTo>
                      <a:pt x="702" y="0"/>
                    </a:lnTo>
                    <a:lnTo>
                      <a:pt x="781" y="0"/>
                    </a:lnTo>
                    <a:lnTo>
                      <a:pt x="887" y="4"/>
                    </a:lnTo>
                    <a:lnTo>
                      <a:pt x="944" y="44"/>
                    </a:lnTo>
                    <a:lnTo>
                      <a:pt x="993" y="57"/>
                    </a:lnTo>
                    <a:lnTo>
                      <a:pt x="1060" y="74"/>
                    </a:lnTo>
                    <a:lnTo>
                      <a:pt x="1108" y="92"/>
                    </a:lnTo>
                    <a:lnTo>
                      <a:pt x="1166" y="127"/>
                    </a:lnTo>
                    <a:lnTo>
                      <a:pt x="1223" y="194"/>
                    </a:lnTo>
                    <a:lnTo>
                      <a:pt x="1267" y="246"/>
                    </a:lnTo>
                    <a:lnTo>
                      <a:pt x="1298" y="286"/>
                    </a:lnTo>
                    <a:lnTo>
                      <a:pt x="1324" y="330"/>
                    </a:lnTo>
                    <a:lnTo>
                      <a:pt x="1360" y="388"/>
                    </a:lnTo>
                    <a:lnTo>
                      <a:pt x="1391" y="449"/>
                    </a:lnTo>
                    <a:lnTo>
                      <a:pt x="1399" y="542"/>
                    </a:lnTo>
                    <a:lnTo>
                      <a:pt x="1408" y="666"/>
                    </a:lnTo>
                    <a:lnTo>
                      <a:pt x="1399" y="719"/>
                    </a:lnTo>
                    <a:lnTo>
                      <a:pt x="1391" y="799"/>
                    </a:lnTo>
                    <a:lnTo>
                      <a:pt x="1373" y="860"/>
                    </a:lnTo>
                    <a:lnTo>
                      <a:pt x="1351" y="904"/>
                    </a:lnTo>
                    <a:lnTo>
                      <a:pt x="1311" y="957"/>
                    </a:lnTo>
                    <a:lnTo>
                      <a:pt x="1298" y="988"/>
                    </a:lnTo>
                    <a:lnTo>
                      <a:pt x="1236" y="1041"/>
                    </a:lnTo>
                    <a:lnTo>
                      <a:pt x="1201" y="1090"/>
                    </a:lnTo>
                    <a:lnTo>
                      <a:pt x="1174" y="1151"/>
                    </a:lnTo>
                    <a:lnTo>
                      <a:pt x="1139" y="1200"/>
                    </a:lnTo>
                    <a:lnTo>
                      <a:pt x="1166" y="1107"/>
                    </a:lnTo>
                    <a:lnTo>
                      <a:pt x="1166" y="1028"/>
                    </a:lnTo>
                    <a:lnTo>
                      <a:pt x="1174" y="927"/>
                    </a:lnTo>
                    <a:lnTo>
                      <a:pt x="1157" y="904"/>
                    </a:lnTo>
                    <a:lnTo>
                      <a:pt x="1144" y="860"/>
                    </a:lnTo>
                    <a:lnTo>
                      <a:pt x="1157" y="816"/>
                    </a:lnTo>
                    <a:lnTo>
                      <a:pt x="1157" y="781"/>
                    </a:lnTo>
                    <a:lnTo>
                      <a:pt x="1139" y="706"/>
                    </a:lnTo>
                    <a:lnTo>
                      <a:pt x="1135" y="662"/>
                    </a:lnTo>
                    <a:lnTo>
                      <a:pt x="1135" y="627"/>
                    </a:lnTo>
                    <a:lnTo>
                      <a:pt x="1113" y="577"/>
                    </a:lnTo>
                    <a:lnTo>
                      <a:pt x="1095" y="542"/>
                    </a:lnTo>
                    <a:lnTo>
                      <a:pt x="1077" y="502"/>
                    </a:lnTo>
                    <a:lnTo>
                      <a:pt x="1060" y="471"/>
                    </a:lnTo>
                    <a:lnTo>
                      <a:pt x="1006" y="449"/>
                    </a:lnTo>
                    <a:lnTo>
                      <a:pt x="971" y="401"/>
                    </a:lnTo>
                    <a:lnTo>
                      <a:pt x="927" y="388"/>
                    </a:lnTo>
                    <a:lnTo>
                      <a:pt x="887" y="388"/>
                    </a:lnTo>
                    <a:lnTo>
                      <a:pt x="896" y="348"/>
                    </a:lnTo>
                    <a:lnTo>
                      <a:pt x="852" y="357"/>
                    </a:lnTo>
                    <a:lnTo>
                      <a:pt x="816" y="374"/>
                    </a:lnTo>
                    <a:lnTo>
                      <a:pt x="781" y="388"/>
                    </a:lnTo>
                    <a:lnTo>
                      <a:pt x="733" y="396"/>
                    </a:lnTo>
                    <a:lnTo>
                      <a:pt x="693" y="388"/>
                    </a:lnTo>
                    <a:lnTo>
                      <a:pt x="653" y="379"/>
                    </a:lnTo>
                    <a:lnTo>
                      <a:pt x="618" y="361"/>
                    </a:lnTo>
                    <a:lnTo>
                      <a:pt x="569" y="357"/>
                    </a:lnTo>
                    <a:lnTo>
                      <a:pt x="543" y="357"/>
                    </a:lnTo>
                    <a:lnTo>
                      <a:pt x="521" y="379"/>
                    </a:lnTo>
                    <a:lnTo>
                      <a:pt x="499" y="401"/>
                    </a:lnTo>
                    <a:lnTo>
                      <a:pt x="472" y="436"/>
                    </a:lnTo>
                    <a:lnTo>
                      <a:pt x="459" y="485"/>
                    </a:lnTo>
                    <a:lnTo>
                      <a:pt x="428" y="524"/>
                    </a:lnTo>
                    <a:lnTo>
                      <a:pt x="415" y="586"/>
                    </a:lnTo>
                    <a:lnTo>
                      <a:pt x="393" y="693"/>
                    </a:lnTo>
                    <a:lnTo>
                      <a:pt x="371" y="799"/>
                    </a:lnTo>
                    <a:lnTo>
                      <a:pt x="343" y="860"/>
                    </a:lnTo>
                    <a:lnTo>
                      <a:pt x="268" y="1028"/>
                    </a:lnTo>
                    <a:lnTo>
                      <a:pt x="273" y="988"/>
                    </a:lnTo>
                    <a:lnTo>
                      <a:pt x="273" y="957"/>
                    </a:lnTo>
                    <a:lnTo>
                      <a:pt x="277" y="931"/>
                    </a:lnTo>
                    <a:lnTo>
                      <a:pt x="291" y="878"/>
                    </a:lnTo>
                    <a:lnTo>
                      <a:pt x="264" y="918"/>
                    </a:lnTo>
                    <a:lnTo>
                      <a:pt x="246" y="940"/>
                    </a:lnTo>
                    <a:lnTo>
                      <a:pt x="238" y="962"/>
                    </a:lnTo>
                    <a:lnTo>
                      <a:pt x="224" y="997"/>
                    </a:lnTo>
                    <a:lnTo>
                      <a:pt x="224" y="1015"/>
                    </a:lnTo>
                    <a:lnTo>
                      <a:pt x="216" y="1041"/>
                    </a:lnTo>
                    <a:lnTo>
                      <a:pt x="216" y="1085"/>
                    </a:lnTo>
                    <a:lnTo>
                      <a:pt x="224" y="1112"/>
                    </a:lnTo>
                    <a:lnTo>
                      <a:pt x="224" y="1138"/>
                    </a:lnTo>
                    <a:lnTo>
                      <a:pt x="233" y="1147"/>
                    </a:lnTo>
                    <a:lnTo>
                      <a:pt x="238" y="1187"/>
                    </a:lnTo>
                    <a:lnTo>
                      <a:pt x="242" y="1209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332000" y="1676520"/>
                <a:ext cx="416160" cy="430560"/>
              </a:xfrm>
              <a:custGeom>
                <a:avLst/>
                <a:gdLst/>
                <a:ahLst/>
                <a:rect l="0" t="0" r="r" b="b"/>
                <a:pathLst>
                  <a:path w="1156" h="1196">
                    <a:moveTo>
                      <a:pt x="35" y="825"/>
                    </a:moveTo>
                    <a:lnTo>
                      <a:pt x="22" y="763"/>
                    </a:lnTo>
                    <a:lnTo>
                      <a:pt x="17" y="693"/>
                    </a:lnTo>
                    <a:lnTo>
                      <a:pt x="4" y="627"/>
                    </a:lnTo>
                    <a:lnTo>
                      <a:pt x="0" y="560"/>
                    </a:lnTo>
                    <a:lnTo>
                      <a:pt x="0" y="471"/>
                    </a:lnTo>
                    <a:lnTo>
                      <a:pt x="4" y="388"/>
                    </a:lnTo>
                    <a:lnTo>
                      <a:pt x="48" y="273"/>
                    </a:lnTo>
                    <a:lnTo>
                      <a:pt x="79" y="207"/>
                    </a:lnTo>
                    <a:lnTo>
                      <a:pt x="127" y="136"/>
                    </a:lnTo>
                    <a:lnTo>
                      <a:pt x="185" y="97"/>
                    </a:lnTo>
                    <a:lnTo>
                      <a:pt x="273" y="30"/>
                    </a:lnTo>
                    <a:lnTo>
                      <a:pt x="357" y="0"/>
                    </a:lnTo>
                    <a:lnTo>
                      <a:pt x="454" y="0"/>
                    </a:lnTo>
                    <a:lnTo>
                      <a:pt x="533" y="0"/>
                    </a:lnTo>
                    <a:lnTo>
                      <a:pt x="640" y="4"/>
                    </a:lnTo>
                    <a:lnTo>
                      <a:pt x="697" y="44"/>
                    </a:lnTo>
                    <a:lnTo>
                      <a:pt x="741" y="119"/>
                    </a:lnTo>
                    <a:lnTo>
                      <a:pt x="741" y="194"/>
                    </a:lnTo>
                    <a:lnTo>
                      <a:pt x="733" y="264"/>
                    </a:lnTo>
                    <a:lnTo>
                      <a:pt x="706" y="326"/>
                    </a:lnTo>
                    <a:lnTo>
                      <a:pt x="768" y="291"/>
                    </a:lnTo>
                    <a:lnTo>
                      <a:pt x="821" y="273"/>
                    </a:lnTo>
                    <a:lnTo>
                      <a:pt x="887" y="255"/>
                    </a:lnTo>
                    <a:lnTo>
                      <a:pt x="953" y="273"/>
                    </a:lnTo>
                    <a:lnTo>
                      <a:pt x="1015" y="308"/>
                    </a:lnTo>
                    <a:lnTo>
                      <a:pt x="1046" y="299"/>
                    </a:lnTo>
                    <a:lnTo>
                      <a:pt x="1072" y="326"/>
                    </a:lnTo>
                    <a:lnTo>
                      <a:pt x="1107" y="388"/>
                    </a:lnTo>
                    <a:lnTo>
                      <a:pt x="1138" y="445"/>
                    </a:lnTo>
                    <a:lnTo>
                      <a:pt x="1147" y="537"/>
                    </a:lnTo>
                    <a:lnTo>
                      <a:pt x="1156" y="666"/>
                    </a:lnTo>
                    <a:lnTo>
                      <a:pt x="1147" y="715"/>
                    </a:lnTo>
                    <a:lnTo>
                      <a:pt x="1138" y="794"/>
                    </a:lnTo>
                    <a:lnTo>
                      <a:pt x="1121" y="860"/>
                    </a:lnTo>
                    <a:lnTo>
                      <a:pt x="1099" y="900"/>
                    </a:lnTo>
                    <a:lnTo>
                      <a:pt x="1059" y="957"/>
                    </a:lnTo>
                    <a:lnTo>
                      <a:pt x="1046" y="984"/>
                    </a:lnTo>
                    <a:lnTo>
                      <a:pt x="988" y="1037"/>
                    </a:lnTo>
                    <a:lnTo>
                      <a:pt x="949" y="1085"/>
                    </a:lnTo>
                    <a:lnTo>
                      <a:pt x="922" y="1151"/>
                    </a:lnTo>
                    <a:lnTo>
                      <a:pt x="891" y="1196"/>
                    </a:lnTo>
                    <a:lnTo>
                      <a:pt x="913" y="1103"/>
                    </a:lnTo>
                    <a:lnTo>
                      <a:pt x="913" y="1024"/>
                    </a:lnTo>
                    <a:lnTo>
                      <a:pt x="922" y="922"/>
                    </a:lnTo>
                    <a:lnTo>
                      <a:pt x="904" y="900"/>
                    </a:lnTo>
                    <a:lnTo>
                      <a:pt x="896" y="860"/>
                    </a:lnTo>
                    <a:lnTo>
                      <a:pt x="904" y="812"/>
                    </a:lnTo>
                    <a:lnTo>
                      <a:pt x="904" y="781"/>
                    </a:lnTo>
                    <a:lnTo>
                      <a:pt x="891" y="702"/>
                    </a:lnTo>
                    <a:lnTo>
                      <a:pt x="887" y="662"/>
                    </a:lnTo>
                    <a:lnTo>
                      <a:pt x="887" y="622"/>
                    </a:lnTo>
                    <a:lnTo>
                      <a:pt x="860" y="577"/>
                    </a:lnTo>
                    <a:lnTo>
                      <a:pt x="847" y="537"/>
                    </a:lnTo>
                    <a:lnTo>
                      <a:pt x="825" y="502"/>
                    </a:lnTo>
                    <a:lnTo>
                      <a:pt x="807" y="471"/>
                    </a:lnTo>
                    <a:lnTo>
                      <a:pt x="759" y="445"/>
                    </a:lnTo>
                    <a:lnTo>
                      <a:pt x="719" y="401"/>
                    </a:lnTo>
                    <a:lnTo>
                      <a:pt x="675" y="388"/>
                    </a:lnTo>
                    <a:lnTo>
                      <a:pt x="618" y="366"/>
                    </a:lnTo>
                    <a:lnTo>
                      <a:pt x="636" y="330"/>
                    </a:lnTo>
                    <a:lnTo>
                      <a:pt x="658" y="255"/>
                    </a:lnTo>
                    <a:lnTo>
                      <a:pt x="666" y="189"/>
                    </a:lnTo>
                    <a:lnTo>
                      <a:pt x="666" y="145"/>
                    </a:lnTo>
                    <a:lnTo>
                      <a:pt x="649" y="110"/>
                    </a:lnTo>
                    <a:lnTo>
                      <a:pt x="609" y="74"/>
                    </a:lnTo>
                    <a:lnTo>
                      <a:pt x="573" y="57"/>
                    </a:lnTo>
                    <a:lnTo>
                      <a:pt x="533" y="44"/>
                    </a:lnTo>
                    <a:lnTo>
                      <a:pt x="480" y="52"/>
                    </a:lnTo>
                    <a:lnTo>
                      <a:pt x="423" y="74"/>
                    </a:lnTo>
                    <a:lnTo>
                      <a:pt x="396" y="110"/>
                    </a:lnTo>
                    <a:lnTo>
                      <a:pt x="370" y="145"/>
                    </a:lnTo>
                    <a:lnTo>
                      <a:pt x="348" y="185"/>
                    </a:lnTo>
                    <a:lnTo>
                      <a:pt x="343" y="229"/>
                    </a:lnTo>
                    <a:lnTo>
                      <a:pt x="321" y="273"/>
                    </a:lnTo>
                    <a:lnTo>
                      <a:pt x="313" y="308"/>
                    </a:lnTo>
                    <a:lnTo>
                      <a:pt x="295" y="357"/>
                    </a:lnTo>
                    <a:lnTo>
                      <a:pt x="273" y="379"/>
                    </a:lnTo>
                    <a:lnTo>
                      <a:pt x="251" y="401"/>
                    </a:lnTo>
                    <a:lnTo>
                      <a:pt x="229" y="432"/>
                    </a:lnTo>
                    <a:lnTo>
                      <a:pt x="211" y="485"/>
                    </a:lnTo>
                    <a:lnTo>
                      <a:pt x="185" y="520"/>
                    </a:lnTo>
                    <a:lnTo>
                      <a:pt x="167" y="586"/>
                    </a:lnTo>
                    <a:lnTo>
                      <a:pt x="149" y="693"/>
                    </a:lnTo>
                    <a:lnTo>
                      <a:pt x="127" y="794"/>
                    </a:lnTo>
                    <a:lnTo>
                      <a:pt x="101" y="860"/>
                    </a:lnTo>
                    <a:lnTo>
                      <a:pt x="22" y="1024"/>
                    </a:lnTo>
                    <a:lnTo>
                      <a:pt x="30" y="984"/>
                    </a:lnTo>
                    <a:lnTo>
                      <a:pt x="30" y="957"/>
                    </a:lnTo>
                    <a:lnTo>
                      <a:pt x="35" y="927"/>
                    </a:lnTo>
                    <a:lnTo>
                      <a:pt x="48" y="878"/>
                    </a:lnTo>
                    <a:lnTo>
                      <a:pt x="35" y="825"/>
                    </a:lnTo>
                    <a:close/>
                  </a:path>
                </a:pathLst>
              </a:custGeom>
              <a:solidFill>
                <a:srgbClr val="ff9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1650960" y="2062080"/>
                <a:ext cx="27360" cy="70200"/>
              </a:xfrm>
              <a:custGeom>
                <a:avLst/>
                <a:gdLst/>
                <a:ahLst/>
                <a:rect l="0" t="0" r="r" b="b"/>
                <a:pathLst>
                  <a:path w="76" h="195">
                    <a:moveTo>
                      <a:pt x="76" y="22"/>
                    </a:moveTo>
                    <a:lnTo>
                      <a:pt x="76" y="70"/>
                    </a:lnTo>
                    <a:lnTo>
                      <a:pt x="68" y="98"/>
                    </a:lnTo>
                    <a:lnTo>
                      <a:pt x="45" y="146"/>
                    </a:lnTo>
                    <a:lnTo>
                      <a:pt x="31" y="172"/>
                    </a:lnTo>
                    <a:lnTo>
                      <a:pt x="23" y="186"/>
                    </a:lnTo>
                    <a:lnTo>
                      <a:pt x="17" y="195"/>
                    </a:lnTo>
                    <a:lnTo>
                      <a:pt x="0" y="195"/>
                    </a:lnTo>
                    <a:lnTo>
                      <a:pt x="17" y="57"/>
                    </a:lnTo>
                    <a:lnTo>
                      <a:pt x="45" y="0"/>
                    </a:lnTo>
                    <a:lnTo>
                      <a:pt x="76" y="22"/>
                    </a:lnTo>
                    <a:close/>
                  </a:path>
                </a:pathLst>
              </a:custGeom>
              <a:solidFill>
                <a:srgbClr val="ffdfbf"/>
              </a:solidFill>
              <a:ln w="0">
                <a:noFill/>
              </a:ln>
            </p:spPr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1293840" y="2057400"/>
                <a:ext cx="28800" cy="66960"/>
              </a:xfrm>
              <a:custGeom>
                <a:avLst/>
                <a:gdLst/>
                <a:ahLst/>
                <a:rect l="0" t="0" r="r" b="b"/>
                <a:pathLst>
                  <a:path w="80" h="186">
                    <a:moveTo>
                      <a:pt x="0" y="22"/>
                    </a:moveTo>
                    <a:lnTo>
                      <a:pt x="8" y="66"/>
                    </a:lnTo>
                    <a:lnTo>
                      <a:pt x="13" y="92"/>
                    </a:lnTo>
                    <a:lnTo>
                      <a:pt x="35" y="142"/>
                    </a:lnTo>
                    <a:lnTo>
                      <a:pt x="49" y="168"/>
                    </a:lnTo>
                    <a:lnTo>
                      <a:pt x="58" y="177"/>
                    </a:lnTo>
                    <a:lnTo>
                      <a:pt x="71" y="186"/>
                    </a:lnTo>
                    <a:lnTo>
                      <a:pt x="80" y="186"/>
                    </a:lnTo>
                    <a:lnTo>
                      <a:pt x="62" y="57"/>
                    </a:lnTo>
                    <a:lnTo>
                      <a:pt x="35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ffdfbf"/>
              </a:solidFill>
              <a:ln w="0">
                <a:noFill/>
              </a:ln>
            </p:spPr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1573200" y="2198520"/>
                <a:ext cx="8280" cy="5040"/>
              </a:xfrm>
              <a:custGeom>
                <a:avLst/>
                <a:gdLst/>
                <a:ahLst/>
                <a:rect l="0" t="0" r="r" b="b"/>
                <a:pathLst>
                  <a:path w="23" h="14">
                    <a:moveTo>
                      <a:pt x="23" y="0"/>
                    </a:moveTo>
                    <a:lnTo>
                      <a:pt x="0" y="4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1427040" y="1984320"/>
                <a:ext cx="38520" cy="44640"/>
              </a:xfrm>
              <a:custGeom>
                <a:avLst/>
                <a:gdLst/>
                <a:ahLst/>
                <a:rect l="0" t="0" r="r" b="b"/>
                <a:pathLst>
                  <a:path w="107" h="124">
                    <a:moveTo>
                      <a:pt x="67" y="26"/>
                    </a:moveTo>
                    <a:lnTo>
                      <a:pt x="85" y="39"/>
                    </a:lnTo>
                    <a:lnTo>
                      <a:pt x="99" y="71"/>
                    </a:lnTo>
                    <a:lnTo>
                      <a:pt x="103" y="84"/>
                    </a:lnTo>
                    <a:lnTo>
                      <a:pt x="107" y="111"/>
                    </a:lnTo>
                    <a:lnTo>
                      <a:pt x="107" y="124"/>
                    </a:lnTo>
                    <a:lnTo>
                      <a:pt x="85" y="111"/>
                    </a:lnTo>
                    <a:lnTo>
                      <a:pt x="75" y="102"/>
                    </a:lnTo>
                    <a:lnTo>
                      <a:pt x="53" y="102"/>
                    </a:lnTo>
                    <a:lnTo>
                      <a:pt x="31" y="89"/>
                    </a:lnTo>
                    <a:lnTo>
                      <a:pt x="0" y="80"/>
                    </a:lnTo>
                    <a:lnTo>
                      <a:pt x="0" y="71"/>
                    </a:lnTo>
                    <a:lnTo>
                      <a:pt x="8" y="57"/>
                    </a:lnTo>
                    <a:lnTo>
                      <a:pt x="13" y="44"/>
                    </a:lnTo>
                    <a:lnTo>
                      <a:pt x="17" y="17"/>
                    </a:lnTo>
                    <a:lnTo>
                      <a:pt x="8" y="0"/>
                    </a:lnTo>
                    <a:lnTo>
                      <a:pt x="67" y="26"/>
                    </a:lnTo>
                    <a:close/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3" name=""/>
              <p:cNvGrpSpPr/>
              <p:nvPr/>
            </p:nvGrpSpPr>
            <p:grpSpPr>
              <a:xfrm>
                <a:off x="1344600" y="1967040"/>
                <a:ext cx="295560" cy="38520"/>
                <a:chOff x="1344600" y="1967040"/>
                <a:chExt cx="295560" cy="38520"/>
              </a:xfrm>
            </p:grpSpPr>
            <p:sp>
              <p:nvSpPr>
                <p:cNvPr id="804" name=""/>
                <p:cNvSpPr/>
                <p:nvPr/>
              </p:nvSpPr>
              <p:spPr>
                <a:xfrm>
                  <a:off x="1531800" y="1967040"/>
                  <a:ext cx="108360" cy="25920"/>
                </a:xfrm>
                <a:custGeom>
                  <a:avLst/>
                  <a:gdLst/>
                  <a:ahLst/>
                  <a:rect l="0" t="0" r="r" b="b"/>
                  <a:pathLst>
                    <a:path w="301" h="72">
                      <a:moveTo>
                        <a:pt x="22" y="53"/>
                      </a:moveTo>
                      <a:lnTo>
                        <a:pt x="39" y="40"/>
                      </a:lnTo>
                      <a:lnTo>
                        <a:pt x="57" y="31"/>
                      </a:lnTo>
                      <a:lnTo>
                        <a:pt x="74" y="23"/>
                      </a:lnTo>
                      <a:lnTo>
                        <a:pt x="102" y="8"/>
                      </a:lnTo>
                      <a:lnTo>
                        <a:pt x="137" y="8"/>
                      </a:lnTo>
                      <a:lnTo>
                        <a:pt x="168" y="0"/>
                      </a:lnTo>
                      <a:lnTo>
                        <a:pt x="190" y="0"/>
                      </a:lnTo>
                      <a:lnTo>
                        <a:pt x="221" y="8"/>
                      </a:lnTo>
                      <a:lnTo>
                        <a:pt x="235" y="8"/>
                      </a:lnTo>
                      <a:lnTo>
                        <a:pt x="262" y="23"/>
                      </a:lnTo>
                      <a:lnTo>
                        <a:pt x="284" y="40"/>
                      </a:lnTo>
                      <a:lnTo>
                        <a:pt x="301" y="63"/>
                      </a:lnTo>
                      <a:lnTo>
                        <a:pt x="275" y="45"/>
                      </a:lnTo>
                      <a:lnTo>
                        <a:pt x="248" y="36"/>
                      </a:lnTo>
                      <a:lnTo>
                        <a:pt x="203" y="27"/>
                      </a:lnTo>
                      <a:lnTo>
                        <a:pt x="186" y="27"/>
                      </a:lnTo>
                      <a:lnTo>
                        <a:pt x="168" y="27"/>
                      </a:lnTo>
                      <a:lnTo>
                        <a:pt x="146" y="27"/>
                      </a:lnTo>
                      <a:lnTo>
                        <a:pt x="124" y="31"/>
                      </a:lnTo>
                      <a:lnTo>
                        <a:pt x="98" y="40"/>
                      </a:lnTo>
                      <a:lnTo>
                        <a:pt x="84" y="53"/>
                      </a:lnTo>
                      <a:lnTo>
                        <a:pt x="61" y="63"/>
                      </a:lnTo>
                      <a:lnTo>
                        <a:pt x="44" y="68"/>
                      </a:lnTo>
                      <a:lnTo>
                        <a:pt x="39" y="72"/>
                      </a:lnTo>
                      <a:lnTo>
                        <a:pt x="22" y="72"/>
                      </a:lnTo>
                      <a:lnTo>
                        <a:pt x="0" y="68"/>
                      </a:lnTo>
                      <a:lnTo>
                        <a:pt x="22" y="53"/>
                      </a:lnTo>
                      <a:close/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1344600" y="1971720"/>
                  <a:ext cx="106560" cy="33840"/>
                </a:xfrm>
                <a:custGeom>
                  <a:avLst/>
                  <a:gdLst/>
                  <a:ahLst/>
                  <a:rect l="0" t="0" r="r" b="b"/>
                  <a:pathLst>
                    <a:path w="296" h="94">
                      <a:moveTo>
                        <a:pt x="296" y="58"/>
                      </a:moveTo>
                      <a:lnTo>
                        <a:pt x="283" y="27"/>
                      </a:lnTo>
                      <a:lnTo>
                        <a:pt x="265" y="13"/>
                      </a:lnTo>
                      <a:lnTo>
                        <a:pt x="239" y="8"/>
                      </a:lnTo>
                      <a:lnTo>
                        <a:pt x="203" y="0"/>
                      </a:lnTo>
                      <a:lnTo>
                        <a:pt x="159" y="0"/>
                      </a:lnTo>
                      <a:lnTo>
                        <a:pt x="114" y="0"/>
                      </a:lnTo>
                      <a:lnTo>
                        <a:pt x="66" y="8"/>
                      </a:lnTo>
                      <a:lnTo>
                        <a:pt x="22" y="58"/>
                      </a:lnTo>
                      <a:lnTo>
                        <a:pt x="0" y="94"/>
                      </a:lnTo>
                      <a:lnTo>
                        <a:pt x="39" y="49"/>
                      </a:lnTo>
                      <a:lnTo>
                        <a:pt x="83" y="36"/>
                      </a:lnTo>
                      <a:lnTo>
                        <a:pt x="123" y="27"/>
                      </a:lnTo>
                      <a:lnTo>
                        <a:pt x="177" y="27"/>
                      </a:lnTo>
                      <a:lnTo>
                        <a:pt x="217" y="40"/>
                      </a:lnTo>
                      <a:lnTo>
                        <a:pt x="252" y="49"/>
                      </a:lnTo>
                      <a:lnTo>
                        <a:pt x="296" y="58"/>
                      </a:lnTo>
                      <a:close/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6" name=""/>
              <p:cNvGrpSpPr/>
              <p:nvPr/>
            </p:nvGrpSpPr>
            <p:grpSpPr>
              <a:xfrm>
                <a:off x="1541520" y="2006640"/>
                <a:ext cx="72000" cy="36720"/>
                <a:chOff x="1541520" y="2006640"/>
                <a:chExt cx="72000" cy="36720"/>
              </a:xfrm>
            </p:grpSpPr>
            <p:sp>
              <p:nvSpPr>
                <p:cNvPr id="807" name=""/>
                <p:cNvSpPr/>
                <p:nvPr/>
              </p:nvSpPr>
              <p:spPr>
                <a:xfrm>
                  <a:off x="1541520" y="2035080"/>
                  <a:ext cx="68760" cy="8280"/>
                </a:xfrm>
                <a:custGeom>
                  <a:avLst/>
                  <a:gdLst/>
                  <a:ahLst/>
                  <a:rect l="0" t="0" r="r" b="b"/>
                  <a:pathLst>
                    <a:path w="191" h="23">
                      <a:moveTo>
                        <a:pt x="8" y="4"/>
                      </a:moveTo>
                      <a:lnTo>
                        <a:pt x="26" y="8"/>
                      </a:lnTo>
                      <a:lnTo>
                        <a:pt x="58" y="8"/>
                      </a:lnTo>
                      <a:lnTo>
                        <a:pt x="93" y="8"/>
                      </a:lnTo>
                      <a:lnTo>
                        <a:pt x="111" y="8"/>
                      </a:lnTo>
                      <a:lnTo>
                        <a:pt x="137" y="8"/>
                      </a:lnTo>
                      <a:lnTo>
                        <a:pt x="156" y="8"/>
                      </a:lnTo>
                      <a:lnTo>
                        <a:pt x="173" y="8"/>
                      </a:lnTo>
                      <a:lnTo>
                        <a:pt x="191" y="0"/>
                      </a:lnTo>
                      <a:lnTo>
                        <a:pt x="173" y="14"/>
                      </a:lnTo>
                      <a:lnTo>
                        <a:pt x="160" y="18"/>
                      </a:lnTo>
                      <a:lnTo>
                        <a:pt x="151" y="23"/>
                      </a:lnTo>
                      <a:lnTo>
                        <a:pt x="133" y="23"/>
                      </a:lnTo>
                      <a:lnTo>
                        <a:pt x="111" y="23"/>
                      </a:lnTo>
                      <a:lnTo>
                        <a:pt x="98" y="23"/>
                      </a:lnTo>
                      <a:lnTo>
                        <a:pt x="80" y="18"/>
                      </a:lnTo>
                      <a:lnTo>
                        <a:pt x="67" y="14"/>
                      </a:lnTo>
                      <a:lnTo>
                        <a:pt x="44" y="14"/>
                      </a:lnTo>
                      <a:lnTo>
                        <a:pt x="30" y="14"/>
                      </a:lnTo>
                      <a:lnTo>
                        <a:pt x="17" y="8"/>
                      </a:lnTo>
                      <a:lnTo>
                        <a:pt x="8" y="8"/>
                      </a:lnTo>
                      <a:lnTo>
                        <a:pt x="0" y="8"/>
                      </a:lnTo>
                      <a:lnTo>
                        <a:pt x="8" y="4"/>
                      </a:lnTo>
                      <a:close/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08" name=""/>
                <p:cNvGrpSpPr/>
                <p:nvPr/>
              </p:nvGrpSpPr>
              <p:grpSpPr>
                <a:xfrm>
                  <a:off x="1547640" y="2006640"/>
                  <a:ext cx="65880" cy="28800"/>
                  <a:chOff x="1547640" y="2006640"/>
                  <a:chExt cx="65880" cy="28800"/>
                </a:xfrm>
              </p:grpSpPr>
              <p:sp>
                <p:nvSpPr>
                  <p:cNvPr id="809" name=""/>
                  <p:cNvSpPr/>
                  <p:nvPr/>
                </p:nvSpPr>
                <p:spPr>
                  <a:xfrm>
                    <a:off x="1547640" y="2011320"/>
                    <a:ext cx="62280" cy="18000"/>
                  </a:xfrm>
                  <a:custGeom>
                    <a:avLst/>
                    <a:gdLst/>
                    <a:ahLst/>
                    <a:rect l="0" t="0" r="r" b="b"/>
                    <a:pathLst>
                      <a:path w="173" h="50">
                        <a:moveTo>
                          <a:pt x="0" y="41"/>
                        </a:moveTo>
                        <a:lnTo>
                          <a:pt x="17" y="27"/>
                        </a:lnTo>
                        <a:lnTo>
                          <a:pt x="30" y="18"/>
                        </a:lnTo>
                        <a:lnTo>
                          <a:pt x="45" y="8"/>
                        </a:lnTo>
                        <a:lnTo>
                          <a:pt x="58" y="0"/>
                        </a:lnTo>
                        <a:lnTo>
                          <a:pt x="75" y="0"/>
                        </a:lnTo>
                        <a:lnTo>
                          <a:pt x="98" y="0"/>
                        </a:lnTo>
                        <a:lnTo>
                          <a:pt x="106" y="8"/>
                        </a:lnTo>
                        <a:lnTo>
                          <a:pt x="120" y="8"/>
                        </a:lnTo>
                        <a:lnTo>
                          <a:pt x="134" y="18"/>
                        </a:lnTo>
                        <a:lnTo>
                          <a:pt x="143" y="18"/>
                        </a:lnTo>
                        <a:lnTo>
                          <a:pt x="156" y="27"/>
                        </a:lnTo>
                        <a:lnTo>
                          <a:pt x="173" y="31"/>
                        </a:lnTo>
                        <a:lnTo>
                          <a:pt x="173" y="41"/>
                        </a:lnTo>
                        <a:lnTo>
                          <a:pt x="156" y="50"/>
                        </a:lnTo>
                        <a:lnTo>
                          <a:pt x="134" y="50"/>
                        </a:lnTo>
                        <a:lnTo>
                          <a:pt x="106" y="50"/>
                        </a:lnTo>
                        <a:lnTo>
                          <a:pt x="71" y="50"/>
                        </a:lnTo>
                        <a:lnTo>
                          <a:pt x="39" y="50"/>
                        </a:lnTo>
                        <a:lnTo>
                          <a:pt x="22" y="50"/>
                        </a:lnTo>
                        <a:lnTo>
                          <a:pt x="0" y="41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10" name=""/>
                  <p:cNvGrpSpPr/>
                  <p:nvPr/>
                </p:nvGrpSpPr>
                <p:grpSpPr>
                  <a:xfrm>
                    <a:off x="1565280" y="2009880"/>
                    <a:ext cx="30240" cy="25560"/>
                    <a:chOff x="1565280" y="2009880"/>
                    <a:chExt cx="30240" cy="25560"/>
                  </a:xfrm>
                </p:grpSpPr>
                <p:sp>
                  <p:nvSpPr>
                    <p:cNvPr id="811" name=""/>
                    <p:cNvSpPr/>
                    <p:nvPr/>
                  </p:nvSpPr>
                  <p:spPr>
                    <a:xfrm>
                      <a:off x="1565280" y="2009880"/>
                      <a:ext cx="30240" cy="25560"/>
                    </a:xfrm>
                    <a:prstGeom prst="ellipse">
                      <a:avLst/>
                    </a:prstGeom>
                    <a:solidFill>
                      <a:srgbClr val="005f7f"/>
                    </a:solidFill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2" name=""/>
                    <p:cNvSpPr/>
                    <p:nvPr/>
                  </p:nvSpPr>
                  <p:spPr>
                    <a:xfrm>
                      <a:off x="1566720" y="2011320"/>
                      <a:ext cx="25560" cy="23760"/>
                    </a:xfrm>
                    <a:prstGeom prst="ellipse">
                      <a:avLst/>
                    </a:prstGeom>
                    <a:solidFill>
                      <a:srgbClr val="00a4bb"/>
                    </a:solidFill>
                    <a:ln w="0">
                      <a:noFill/>
                    </a:ln>
                  </p:spPr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3" name=""/>
                    <p:cNvSpPr/>
                    <p:nvPr/>
                  </p:nvSpPr>
                  <p:spPr>
                    <a:xfrm>
                      <a:off x="1574640" y="2013120"/>
                      <a:ext cx="12600" cy="158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4" name=""/>
                    <p:cNvSpPr/>
                    <p:nvPr/>
                  </p:nvSpPr>
                  <p:spPr>
                    <a:xfrm>
                      <a:off x="1568520" y="2014560"/>
                      <a:ext cx="4680" cy="3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15" name=""/>
                  <p:cNvSpPr/>
                  <p:nvPr/>
                </p:nvSpPr>
                <p:spPr>
                  <a:xfrm>
                    <a:off x="1571760" y="2035080"/>
                    <a:ext cx="4104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114" h="0">
                        <a:moveTo>
                          <a:pt x="0" y="0"/>
                        </a:moveTo>
                        <a:lnTo>
                          <a:pt x="17" y="0"/>
                        </a:lnTo>
                        <a:lnTo>
                          <a:pt x="35" y="0"/>
                        </a:lnTo>
                        <a:lnTo>
                          <a:pt x="57" y="0"/>
                        </a:lnTo>
                        <a:lnTo>
                          <a:pt x="74" y="0"/>
                        </a:lnTo>
                        <a:lnTo>
                          <a:pt x="88" y="0"/>
                        </a:lnTo>
                        <a:lnTo>
                          <a:pt x="105" y="0"/>
                        </a:lnTo>
                        <a:lnTo>
                          <a:pt x="110" y="0"/>
                        </a:lnTo>
                        <a:lnTo>
                          <a:pt x="114" y="0"/>
                        </a:lnTo>
                        <a:lnTo>
                          <a:pt x="110" y="0"/>
                        </a:lnTo>
                        <a:lnTo>
                          <a:pt x="114" y="0"/>
                        </a:lnTo>
                        <a:lnTo>
                          <a:pt x="101" y="0"/>
                        </a:lnTo>
                        <a:lnTo>
                          <a:pt x="110" y="0"/>
                        </a:lnTo>
                        <a:lnTo>
                          <a:pt x="88" y="0"/>
                        </a:lnTo>
                        <a:lnTo>
                          <a:pt x="97" y="0"/>
                        </a:lnTo>
                        <a:lnTo>
                          <a:pt x="83" y="0"/>
                        </a:lnTo>
                        <a:lnTo>
                          <a:pt x="88" y="0"/>
                        </a:lnTo>
                        <a:lnTo>
                          <a:pt x="74" y="0"/>
                        </a:lnTo>
                        <a:lnTo>
                          <a:pt x="61" y="0"/>
                        </a:lnTo>
                        <a:lnTo>
                          <a:pt x="39" y="0"/>
                        </a:lnTo>
                        <a:lnTo>
                          <a:pt x="1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6" name=""/>
                  <p:cNvSpPr/>
                  <p:nvPr/>
                </p:nvSpPr>
                <p:spPr>
                  <a:xfrm>
                    <a:off x="1554120" y="2011320"/>
                    <a:ext cx="55800" cy="14760"/>
                  </a:xfrm>
                  <a:custGeom>
                    <a:avLst/>
                    <a:gdLst/>
                    <a:ahLst/>
                    <a:rect l="0" t="0" r="r" b="b"/>
                    <a:pathLst>
                      <a:path w="155" h="41">
                        <a:moveTo>
                          <a:pt x="0" y="27"/>
                        </a:moveTo>
                        <a:lnTo>
                          <a:pt x="17" y="18"/>
                        </a:lnTo>
                        <a:lnTo>
                          <a:pt x="26" y="14"/>
                        </a:lnTo>
                        <a:lnTo>
                          <a:pt x="39" y="8"/>
                        </a:lnTo>
                        <a:lnTo>
                          <a:pt x="57" y="8"/>
                        </a:lnTo>
                        <a:lnTo>
                          <a:pt x="70" y="8"/>
                        </a:lnTo>
                        <a:lnTo>
                          <a:pt x="80" y="8"/>
                        </a:lnTo>
                        <a:lnTo>
                          <a:pt x="98" y="14"/>
                        </a:lnTo>
                        <a:lnTo>
                          <a:pt x="115" y="23"/>
                        </a:lnTo>
                        <a:lnTo>
                          <a:pt x="124" y="27"/>
                        </a:lnTo>
                        <a:lnTo>
                          <a:pt x="137" y="32"/>
                        </a:lnTo>
                        <a:lnTo>
                          <a:pt x="155" y="41"/>
                        </a:lnTo>
                        <a:lnTo>
                          <a:pt x="146" y="32"/>
                        </a:lnTo>
                        <a:lnTo>
                          <a:pt x="133" y="27"/>
                        </a:lnTo>
                        <a:lnTo>
                          <a:pt x="115" y="14"/>
                        </a:lnTo>
                        <a:lnTo>
                          <a:pt x="98" y="8"/>
                        </a:lnTo>
                        <a:lnTo>
                          <a:pt x="80" y="8"/>
                        </a:lnTo>
                        <a:lnTo>
                          <a:pt x="66" y="0"/>
                        </a:lnTo>
                        <a:lnTo>
                          <a:pt x="48" y="0"/>
                        </a:lnTo>
                        <a:lnTo>
                          <a:pt x="39" y="8"/>
                        </a:lnTo>
                        <a:lnTo>
                          <a:pt x="26" y="8"/>
                        </a:lnTo>
                        <a:lnTo>
                          <a:pt x="17" y="14"/>
                        </a:lnTo>
                        <a:lnTo>
                          <a:pt x="0" y="27"/>
                        </a:lnTo>
                        <a:close/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7" name=""/>
                  <p:cNvSpPr/>
                  <p:nvPr/>
                </p:nvSpPr>
                <p:spPr>
                  <a:xfrm>
                    <a:off x="1555920" y="2011320"/>
                    <a:ext cx="57600" cy="9720"/>
                  </a:xfrm>
                  <a:custGeom>
                    <a:avLst/>
                    <a:gdLst/>
                    <a:ahLst/>
                    <a:rect l="0" t="0" r="r" b="b"/>
                    <a:pathLst>
                      <a:path w="160" h="27">
                        <a:moveTo>
                          <a:pt x="0" y="18"/>
                        </a:moveTo>
                        <a:lnTo>
                          <a:pt x="13" y="14"/>
                        </a:lnTo>
                        <a:lnTo>
                          <a:pt x="26" y="8"/>
                        </a:lnTo>
                        <a:lnTo>
                          <a:pt x="35" y="4"/>
                        </a:lnTo>
                        <a:lnTo>
                          <a:pt x="58" y="4"/>
                        </a:lnTo>
                        <a:lnTo>
                          <a:pt x="80" y="4"/>
                        </a:lnTo>
                        <a:lnTo>
                          <a:pt x="89" y="4"/>
                        </a:lnTo>
                        <a:lnTo>
                          <a:pt x="102" y="14"/>
                        </a:lnTo>
                        <a:lnTo>
                          <a:pt x="121" y="14"/>
                        </a:lnTo>
                        <a:lnTo>
                          <a:pt x="134" y="18"/>
                        </a:lnTo>
                        <a:lnTo>
                          <a:pt x="147" y="23"/>
                        </a:lnTo>
                        <a:lnTo>
                          <a:pt x="160" y="27"/>
                        </a:lnTo>
                        <a:lnTo>
                          <a:pt x="156" y="23"/>
                        </a:lnTo>
                        <a:lnTo>
                          <a:pt x="138" y="14"/>
                        </a:lnTo>
                        <a:lnTo>
                          <a:pt x="121" y="14"/>
                        </a:lnTo>
                        <a:lnTo>
                          <a:pt x="102" y="4"/>
                        </a:lnTo>
                        <a:lnTo>
                          <a:pt x="89" y="0"/>
                        </a:lnTo>
                        <a:lnTo>
                          <a:pt x="71" y="0"/>
                        </a:lnTo>
                        <a:lnTo>
                          <a:pt x="58" y="0"/>
                        </a:lnTo>
                        <a:lnTo>
                          <a:pt x="35" y="0"/>
                        </a:lnTo>
                        <a:lnTo>
                          <a:pt x="30" y="4"/>
                        </a:lnTo>
                        <a:lnTo>
                          <a:pt x="22" y="8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8" name=""/>
                  <p:cNvSpPr/>
                  <p:nvPr/>
                </p:nvSpPr>
                <p:spPr>
                  <a:xfrm>
                    <a:off x="1549440" y="2006640"/>
                    <a:ext cx="59040" cy="8280"/>
                  </a:xfrm>
                  <a:custGeom>
                    <a:avLst/>
                    <a:gdLst/>
                    <a:ahLst/>
                    <a:rect l="0" t="0" r="r" b="b"/>
                    <a:pathLst>
                      <a:path w="164" h="23">
                        <a:moveTo>
                          <a:pt x="0" y="23"/>
                        </a:moveTo>
                        <a:lnTo>
                          <a:pt x="26" y="14"/>
                        </a:lnTo>
                        <a:lnTo>
                          <a:pt x="39" y="4"/>
                        </a:lnTo>
                        <a:lnTo>
                          <a:pt x="52" y="4"/>
                        </a:lnTo>
                        <a:lnTo>
                          <a:pt x="70" y="0"/>
                        </a:lnTo>
                        <a:lnTo>
                          <a:pt x="93" y="4"/>
                        </a:lnTo>
                        <a:lnTo>
                          <a:pt x="115" y="4"/>
                        </a:lnTo>
                        <a:lnTo>
                          <a:pt x="128" y="8"/>
                        </a:lnTo>
                        <a:lnTo>
                          <a:pt x="142" y="14"/>
                        </a:lnTo>
                        <a:lnTo>
                          <a:pt x="164" y="23"/>
                        </a:lnTo>
                        <a:lnTo>
                          <a:pt x="142" y="14"/>
                        </a:lnTo>
                        <a:lnTo>
                          <a:pt x="133" y="8"/>
                        </a:lnTo>
                        <a:lnTo>
                          <a:pt x="115" y="4"/>
                        </a:lnTo>
                        <a:lnTo>
                          <a:pt x="102" y="0"/>
                        </a:lnTo>
                        <a:lnTo>
                          <a:pt x="84" y="0"/>
                        </a:lnTo>
                        <a:lnTo>
                          <a:pt x="70" y="0"/>
                        </a:lnTo>
                        <a:lnTo>
                          <a:pt x="52" y="4"/>
                        </a:lnTo>
                        <a:lnTo>
                          <a:pt x="44" y="4"/>
                        </a:lnTo>
                        <a:lnTo>
                          <a:pt x="35" y="8"/>
                        </a:lnTo>
                        <a:lnTo>
                          <a:pt x="22" y="14"/>
                        </a:lnTo>
                        <a:lnTo>
                          <a:pt x="0" y="23"/>
                        </a:lnTo>
                        <a:close/>
                      </a:path>
                    </a:pathLst>
                  </a:custGeom>
                  <a:solidFill>
                    <a:srgbClr val="bf7f3f"/>
                  </a:solidFill>
                  <a:ln w="0">
                    <a:noFill/>
                  </a:ln>
                </p:spPr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19" name=""/>
              <p:cNvGrpSpPr/>
              <p:nvPr/>
            </p:nvGrpSpPr>
            <p:grpSpPr>
              <a:xfrm>
                <a:off x="1371600" y="2004840"/>
                <a:ext cx="70200" cy="38520"/>
                <a:chOff x="1371600" y="2004840"/>
                <a:chExt cx="70200" cy="38520"/>
              </a:xfrm>
            </p:grpSpPr>
            <p:sp>
              <p:nvSpPr>
                <p:cNvPr id="820" name=""/>
                <p:cNvSpPr/>
                <p:nvPr/>
              </p:nvSpPr>
              <p:spPr>
                <a:xfrm>
                  <a:off x="1374840" y="2033640"/>
                  <a:ext cx="66960" cy="9720"/>
                </a:xfrm>
                <a:custGeom>
                  <a:avLst/>
                  <a:gdLst/>
                  <a:ahLst/>
                  <a:rect l="0" t="0" r="r" b="b"/>
                  <a:pathLst>
                    <a:path w="186" h="27">
                      <a:moveTo>
                        <a:pt x="186" y="0"/>
                      </a:moveTo>
                      <a:lnTo>
                        <a:pt x="168" y="4"/>
                      </a:lnTo>
                      <a:lnTo>
                        <a:pt x="128" y="8"/>
                      </a:lnTo>
                      <a:lnTo>
                        <a:pt x="92" y="8"/>
                      </a:lnTo>
                      <a:lnTo>
                        <a:pt x="83" y="8"/>
                      </a:lnTo>
                      <a:lnTo>
                        <a:pt x="52" y="8"/>
                      </a:lnTo>
                      <a:lnTo>
                        <a:pt x="35" y="8"/>
                      </a:lnTo>
                      <a:lnTo>
                        <a:pt x="17" y="4"/>
                      </a:lnTo>
                      <a:lnTo>
                        <a:pt x="0" y="0"/>
                      </a:lnTo>
                      <a:lnTo>
                        <a:pt x="17" y="18"/>
                      </a:lnTo>
                      <a:lnTo>
                        <a:pt x="30" y="23"/>
                      </a:lnTo>
                      <a:lnTo>
                        <a:pt x="44" y="27"/>
                      </a:lnTo>
                      <a:lnTo>
                        <a:pt x="57" y="27"/>
                      </a:lnTo>
                      <a:lnTo>
                        <a:pt x="79" y="27"/>
                      </a:lnTo>
                      <a:lnTo>
                        <a:pt x="88" y="23"/>
                      </a:lnTo>
                      <a:lnTo>
                        <a:pt x="106" y="18"/>
                      </a:lnTo>
                      <a:lnTo>
                        <a:pt x="128" y="14"/>
                      </a:lnTo>
                      <a:lnTo>
                        <a:pt x="137" y="14"/>
                      </a:lnTo>
                      <a:lnTo>
                        <a:pt x="155" y="8"/>
                      </a:lnTo>
                      <a:lnTo>
                        <a:pt x="186" y="0"/>
                      </a:lnTo>
                      <a:close/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21" name=""/>
                <p:cNvGrpSpPr/>
                <p:nvPr/>
              </p:nvGrpSpPr>
              <p:grpSpPr>
                <a:xfrm>
                  <a:off x="1371600" y="2004840"/>
                  <a:ext cx="66960" cy="30600"/>
                  <a:chOff x="1371600" y="2004840"/>
                  <a:chExt cx="66960" cy="30600"/>
                </a:xfrm>
              </p:grpSpPr>
              <p:sp>
                <p:nvSpPr>
                  <p:cNvPr id="822" name=""/>
                  <p:cNvSpPr/>
                  <p:nvPr/>
                </p:nvSpPr>
                <p:spPr>
                  <a:xfrm>
                    <a:off x="1374840" y="2011320"/>
                    <a:ext cx="63720" cy="18000"/>
                  </a:xfrm>
                  <a:custGeom>
                    <a:avLst/>
                    <a:gdLst/>
                    <a:ahLst/>
                    <a:rect l="0" t="0" r="r" b="b"/>
                    <a:pathLst>
                      <a:path w="177" h="50">
                        <a:moveTo>
                          <a:pt x="177" y="31"/>
                        </a:moveTo>
                        <a:lnTo>
                          <a:pt x="164" y="23"/>
                        </a:lnTo>
                        <a:lnTo>
                          <a:pt x="142" y="14"/>
                        </a:lnTo>
                        <a:lnTo>
                          <a:pt x="133" y="8"/>
                        </a:lnTo>
                        <a:lnTo>
                          <a:pt x="120" y="0"/>
                        </a:lnTo>
                        <a:lnTo>
                          <a:pt x="93" y="0"/>
                        </a:lnTo>
                        <a:lnTo>
                          <a:pt x="83" y="0"/>
                        </a:lnTo>
                        <a:lnTo>
                          <a:pt x="57" y="0"/>
                        </a:lnTo>
                        <a:lnTo>
                          <a:pt x="48" y="8"/>
                        </a:lnTo>
                        <a:lnTo>
                          <a:pt x="35" y="14"/>
                        </a:lnTo>
                        <a:lnTo>
                          <a:pt x="30" y="18"/>
                        </a:lnTo>
                        <a:lnTo>
                          <a:pt x="17" y="23"/>
                        </a:lnTo>
                        <a:lnTo>
                          <a:pt x="0" y="31"/>
                        </a:lnTo>
                        <a:lnTo>
                          <a:pt x="0" y="41"/>
                        </a:lnTo>
                        <a:lnTo>
                          <a:pt x="17" y="50"/>
                        </a:lnTo>
                        <a:lnTo>
                          <a:pt x="35" y="50"/>
                        </a:lnTo>
                        <a:lnTo>
                          <a:pt x="70" y="50"/>
                        </a:lnTo>
                        <a:lnTo>
                          <a:pt x="102" y="50"/>
                        </a:lnTo>
                        <a:lnTo>
                          <a:pt x="137" y="50"/>
                        </a:lnTo>
                        <a:lnTo>
                          <a:pt x="150" y="50"/>
                        </a:lnTo>
                        <a:lnTo>
                          <a:pt x="177" y="31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23" name=""/>
                  <p:cNvGrpSpPr/>
                  <p:nvPr/>
                </p:nvGrpSpPr>
                <p:grpSpPr>
                  <a:xfrm>
                    <a:off x="1389240" y="2009880"/>
                    <a:ext cx="33480" cy="23760"/>
                    <a:chOff x="1389240" y="2009880"/>
                    <a:chExt cx="33480" cy="23760"/>
                  </a:xfrm>
                </p:grpSpPr>
                <p:sp>
                  <p:nvSpPr>
                    <p:cNvPr id="824" name=""/>
                    <p:cNvSpPr/>
                    <p:nvPr/>
                  </p:nvSpPr>
                  <p:spPr>
                    <a:xfrm>
                      <a:off x="1389240" y="2009880"/>
                      <a:ext cx="33480" cy="23760"/>
                    </a:xfrm>
                    <a:prstGeom prst="ellipse">
                      <a:avLst/>
                    </a:prstGeom>
                    <a:solidFill>
                      <a:srgbClr val="005f7f"/>
                    </a:solidFill>
                    <a:ln w="0">
                      <a:noFill/>
                    </a:ln>
                  </p:spPr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5" name=""/>
                    <p:cNvSpPr/>
                    <p:nvPr/>
                  </p:nvSpPr>
                  <p:spPr>
                    <a:xfrm>
                      <a:off x="1392120" y="2011320"/>
                      <a:ext cx="23760" cy="22320"/>
                    </a:xfrm>
                    <a:prstGeom prst="ellipse">
                      <a:avLst/>
                    </a:prstGeom>
                    <a:solidFill>
                      <a:srgbClr val="00a4bb"/>
                    </a:solidFill>
                    <a:ln w="0">
                      <a:noFill/>
                    </a:ln>
                  </p:spPr>
                  <p:txBody>
                    <a:bodyPr lIns="90000" rIns="90000" tIns="-22680" bIns="-22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6" name=""/>
                    <p:cNvSpPr/>
                    <p:nvPr/>
                  </p:nvSpPr>
                  <p:spPr>
                    <a:xfrm>
                      <a:off x="1398600" y="2011320"/>
                      <a:ext cx="12600" cy="17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7" name=""/>
                    <p:cNvSpPr/>
                    <p:nvPr/>
                  </p:nvSpPr>
                  <p:spPr>
                    <a:xfrm>
                      <a:off x="1395360" y="2013120"/>
                      <a:ext cx="1440" cy="46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8" name=""/>
                  <p:cNvSpPr/>
                  <p:nvPr/>
                </p:nvSpPr>
                <p:spPr>
                  <a:xfrm>
                    <a:off x="1371600" y="2033640"/>
                    <a:ext cx="4464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124" h="5">
                        <a:moveTo>
                          <a:pt x="124" y="0"/>
                        </a:moveTo>
                        <a:lnTo>
                          <a:pt x="106" y="0"/>
                        </a:lnTo>
                        <a:lnTo>
                          <a:pt x="84" y="0"/>
                        </a:lnTo>
                        <a:lnTo>
                          <a:pt x="61" y="0"/>
                        </a:lnTo>
                        <a:lnTo>
                          <a:pt x="39" y="0"/>
                        </a:lnTo>
                        <a:lnTo>
                          <a:pt x="26" y="0"/>
                        </a:lnTo>
                        <a:lnTo>
                          <a:pt x="13" y="5"/>
                        </a:lnTo>
                        <a:lnTo>
                          <a:pt x="8" y="5"/>
                        </a:lnTo>
                        <a:lnTo>
                          <a:pt x="0" y="5"/>
                        </a:lnTo>
                        <a:lnTo>
                          <a:pt x="8" y="5"/>
                        </a:lnTo>
                        <a:lnTo>
                          <a:pt x="4" y="0"/>
                        </a:lnTo>
                        <a:lnTo>
                          <a:pt x="13" y="0"/>
                        </a:lnTo>
                        <a:lnTo>
                          <a:pt x="8" y="0"/>
                        </a:lnTo>
                        <a:lnTo>
                          <a:pt x="22" y="0"/>
                        </a:lnTo>
                        <a:lnTo>
                          <a:pt x="35" y="0"/>
                        </a:lnTo>
                        <a:lnTo>
                          <a:pt x="26" y="0"/>
                        </a:lnTo>
                        <a:lnTo>
                          <a:pt x="39" y="0"/>
                        </a:lnTo>
                        <a:lnTo>
                          <a:pt x="48" y="0"/>
                        </a:lnTo>
                        <a:lnTo>
                          <a:pt x="57" y="0"/>
                        </a:lnTo>
                        <a:lnTo>
                          <a:pt x="84" y="0"/>
                        </a:lnTo>
                        <a:lnTo>
                          <a:pt x="102" y="0"/>
                        </a:lnTo>
                        <a:lnTo>
                          <a:pt x="12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9" name=""/>
                  <p:cNvSpPr/>
                  <p:nvPr/>
                </p:nvSpPr>
                <p:spPr>
                  <a:xfrm>
                    <a:off x="1374840" y="2011320"/>
                    <a:ext cx="57600" cy="9720"/>
                  </a:xfrm>
                  <a:custGeom>
                    <a:avLst/>
                    <a:gdLst/>
                    <a:ahLst/>
                    <a:rect l="0" t="0" r="r" b="b"/>
                    <a:pathLst>
                      <a:path w="160" h="27">
                        <a:moveTo>
                          <a:pt x="160" y="14"/>
                        </a:moveTo>
                        <a:lnTo>
                          <a:pt x="147" y="14"/>
                        </a:lnTo>
                        <a:lnTo>
                          <a:pt x="129" y="8"/>
                        </a:lnTo>
                        <a:lnTo>
                          <a:pt x="115" y="4"/>
                        </a:lnTo>
                        <a:lnTo>
                          <a:pt x="102" y="4"/>
                        </a:lnTo>
                        <a:lnTo>
                          <a:pt x="84" y="4"/>
                        </a:lnTo>
                        <a:lnTo>
                          <a:pt x="71" y="4"/>
                        </a:lnTo>
                        <a:lnTo>
                          <a:pt x="58" y="8"/>
                        </a:lnTo>
                        <a:lnTo>
                          <a:pt x="39" y="14"/>
                        </a:lnTo>
                        <a:lnTo>
                          <a:pt x="35" y="18"/>
                        </a:lnTo>
                        <a:lnTo>
                          <a:pt x="17" y="23"/>
                        </a:lnTo>
                        <a:lnTo>
                          <a:pt x="0" y="27"/>
                        </a:lnTo>
                        <a:lnTo>
                          <a:pt x="13" y="23"/>
                        </a:lnTo>
                        <a:lnTo>
                          <a:pt x="22" y="14"/>
                        </a:lnTo>
                        <a:lnTo>
                          <a:pt x="35" y="14"/>
                        </a:lnTo>
                        <a:lnTo>
                          <a:pt x="58" y="4"/>
                        </a:lnTo>
                        <a:lnTo>
                          <a:pt x="71" y="0"/>
                        </a:lnTo>
                        <a:lnTo>
                          <a:pt x="84" y="0"/>
                        </a:lnTo>
                        <a:lnTo>
                          <a:pt x="102" y="0"/>
                        </a:lnTo>
                        <a:lnTo>
                          <a:pt x="115" y="0"/>
                        </a:lnTo>
                        <a:lnTo>
                          <a:pt x="125" y="4"/>
                        </a:lnTo>
                        <a:lnTo>
                          <a:pt x="138" y="8"/>
                        </a:lnTo>
                        <a:lnTo>
                          <a:pt x="160" y="14"/>
                        </a:lnTo>
                        <a:close/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0" name=""/>
                  <p:cNvSpPr/>
                  <p:nvPr/>
                </p:nvSpPr>
                <p:spPr>
                  <a:xfrm>
                    <a:off x="1373040" y="2011320"/>
                    <a:ext cx="54360" cy="8280"/>
                  </a:xfrm>
                  <a:custGeom>
                    <a:avLst/>
                    <a:gdLst/>
                    <a:ahLst/>
                    <a:rect l="0" t="0" r="r" b="b"/>
                    <a:pathLst>
                      <a:path w="151" h="23">
                        <a:moveTo>
                          <a:pt x="151" y="14"/>
                        </a:moveTo>
                        <a:lnTo>
                          <a:pt x="138" y="8"/>
                        </a:lnTo>
                        <a:lnTo>
                          <a:pt x="129" y="4"/>
                        </a:lnTo>
                        <a:lnTo>
                          <a:pt x="116" y="4"/>
                        </a:lnTo>
                        <a:lnTo>
                          <a:pt x="93" y="0"/>
                        </a:lnTo>
                        <a:lnTo>
                          <a:pt x="84" y="0"/>
                        </a:lnTo>
                        <a:lnTo>
                          <a:pt x="71" y="4"/>
                        </a:lnTo>
                        <a:lnTo>
                          <a:pt x="58" y="8"/>
                        </a:lnTo>
                        <a:lnTo>
                          <a:pt x="40" y="8"/>
                        </a:lnTo>
                        <a:lnTo>
                          <a:pt x="26" y="14"/>
                        </a:lnTo>
                        <a:lnTo>
                          <a:pt x="17" y="23"/>
                        </a:lnTo>
                        <a:lnTo>
                          <a:pt x="0" y="23"/>
                        </a:lnTo>
                        <a:lnTo>
                          <a:pt x="4" y="18"/>
                        </a:lnTo>
                        <a:lnTo>
                          <a:pt x="17" y="14"/>
                        </a:lnTo>
                        <a:lnTo>
                          <a:pt x="40" y="8"/>
                        </a:lnTo>
                        <a:lnTo>
                          <a:pt x="58" y="0"/>
                        </a:lnTo>
                        <a:lnTo>
                          <a:pt x="71" y="0"/>
                        </a:lnTo>
                        <a:lnTo>
                          <a:pt x="84" y="0"/>
                        </a:lnTo>
                        <a:lnTo>
                          <a:pt x="93" y="0"/>
                        </a:lnTo>
                        <a:lnTo>
                          <a:pt x="111" y="0"/>
                        </a:lnTo>
                        <a:lnTo>
                          <a:pt x="129" y="0"/>
                        </a:lnTo>
                        <a:lnTo>
                          <a:pt x="134" y="4"/>
                        </a:lnTo>
                        <a:lnTo>
                          <a:pt x="151" y="1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1" name=""/>
                  <p:cNvSpPr/>
                  <p:nvPr/>
                </p:nvSpPr>
                <p:spPr>
                  <a:xfrm>
                    <a:off x="1378080" y="2004840"/>
                    <a:ext cx="59040" cy="6840"/>
                  </a:xfrm>
                  <a:custGeom>
                    <a:avLst/>
                    <a:gdLst/>
                    <a:ahLst/>
                    <a:rect l="0" t="0" r="r" b="b"/>
                    <a:pathLst>
                      <a:path w="164" h="19">
                        <a:moveTo>
                          <a:pt x="164" y="19"/>
                        </a:moveTo>
                        <a:lnTo>
                          <a:pt x="137" y="9"/>
                        </a:lnTo>
                        <a:lnTo>
                          <a:pt x="120" y="4"/>
                        </a:lnTo>
                        <a:lnTo>
                          <a:pt x="111" y="4"/>
                        </a:lnTo>
                        <a:lnTo>
                          <a:pt x="84" y="0"/>
                        </a:lnTo>
                        <a:lnTo>
                          <a:pt x="74" y="0"/>
                        </a:lnTo>
                        <a:lnTo>
                          <a:pt x="44" y="4"/>
                        </a:lnTo>
                        <a:lnTo>
                          <a:pt x="26" y="9"/>
                        </a:lnTo>
                        <a:lnTo>
                          <a:pt x="8" y="15"/>
                        </a:lnTo>
                        <a:lnTo>
                          <a:pt x="0" y="19"/>
                        </a:lnTo>
                        <a:lnTo>
                          <a:pt x="13" y="15"/>
                        </a:lnTo>
                        <a:lnTo>
                          <a:pt x="26" y="9"/>
                        </a:lnTo>
                        <a:lnTo>
                          <a:pt x="44" y="4"/>
                        </a:lnTo>
                        <a:lnTo>
                          <a:pt x="61" y="0"/>
                        </a:lnTo>
                        <a:lnTo>
                          <a:pt x="74" y="0"/>
                        </a:lnTo>
                        <a:lnTo>
                          <a:pt x="84" y="0"/>
                        </a:lnTo>
                        <a:lnTo>
                          <a:pt x="111" y="0"/>
                        </a:lnTo>
                        <a:lnTo>
                          <a:pt x="120" y="4"/>
                        </a:lnTo>
                        <a:lnTo>
                          <a:pt x="133" y="4"/>
                        </a:lnTo>
                        <a:lnTo>
                          <a:pt x="142" y="15"/>
                        </a:lnTo>
                        <a:lnTo>
                          <a:pt x="164" y="19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832" name=""/>
            <p:cNvGrpSpPr/>
            <p:nvPr/>
          </p:nvGrpSpPr>
          <p:grpSpPr>
            <a:xfrm>
              <a:off x="762120" y="2259000"/>
              <a:ext cx="1525320" cy="4318560"/>
              <a:chOff x="762120" y="2259000"/>
              <a:chExt cx="1525320" cy="4318560"/>
            </a:xfrm>
          </p:grpSpPr>
          <p:sp>
            <p:nvSpPr>
              <p:cNvPr id="833" name=""/>
              <p:cNvSpPr/>
              <p:nvPr/>
            </p:nvSpPr>
            <p:spPr>
              <a:xfrm flipV="1">
                <a:off x="1446120" y="3673440"/>
                <a:ext cx="0" cy="67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34" name=""/>
              <p:cNvGrpSpPr/>
              <p:nvPr/>
            </p:nvGrpSpPr>
            <p:grpSpPr>
              <a:xfrm>
                <a:off x="1220760" y="5056200"/>
                <a:ext cx="443520" cy="1521360"/>
                <a:chOff x="1220760" y="5056200"/>
                <a:chExt cx="443520" cy="1521360"/>
              </a:xfrm>
            </p:grpSpPr>
            <p:grpSp>
              <p:nvGrpSpPr>
                <p:cNvPr id="835" name=""/>
                <p:cNvGrpSpPr/>
                <p:nvPr/>
              </p:nvGrpSpPr>
              <p:grpSpPr>
                <a:xfrm>
                  <a:off x="1220760" y="5056200"/>
                  <a:ext cx="284400" cy="1394280"/>
                  <a:chOff x="1220760" y="5056200"/>
                  <a:chExt cx="284400" cy="1394280"/>
                </a:xfrm>
              </p:grpSpPr>
              <p:grpSp>
                <p:nvGrpSpPr>
                  <p:cNvPr id="836" name=""/>
                  <p:cNvGrpSpPr/>
                  <p:nvPr/>
                </p:nvGrpSpPr>
                <p:grpSpPr>
                  <a:xfrm>
                    <a:off x="1220760" y="5056200"/>
                    <a:ext cx="284400" cy="1244880"/>
                    <a:chOff x="1220760" y="5056200"/>
                    <a:chExt cx="284400" cy="1244880"/>
                  </a:xfrm>
                </p:grpSpPr>
                <p:sp>
                  <p:nvSpPr>
                    <p:cNvPr id="837" name=""/>
                    <p:cNvSpPr/>
                    <p:nvPr/>
                  </p:nvSpPr>
                  <p:spPr>
                    <a:xfrm>
                      <a:off x="1220760" y="5056200"/>
                      <a:ext cx="284400" cy="124488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790" h="3458">
                          <a:moveTo>
                            <a:pt x="0" y="22"/>
                          </a:moveTo>
                          <a:lnTo>
                            <a:pt x="0" y="277"/>
                          </a:lnTo>
                          <a:lnTo>
                            <a:pt x="22" y="489"/>
                          </a:lnTo>
                          <a:lnTo>
                            <a:pt x="35" y="696"/>
                          </a:lnTo>
                          <a:lnTo>
                            <a:pt x="57" y="864"/>
                          </a:lnTo>
                          <a:lnTo>
                            <a:pt x="79" y="1014"/>
                          </a:lnTo>
                          <a:lnTo>
                            <a:pt x="114" y="1172"/>
                          </a:lnTo>
                          <a:lnTo>
                            <a:pt x="141" y="1340"/>
                          </a:lnTo>
                          <a:lnTo>
                            <a:pt x="167" y="1446"/>
                          </a:lnTo>
                          <a:lnTo>
                            <a:pt x="194" y="1583"/>
                          </a:lnTo>
                          <a:lnTo>
                            <a:pt x="229" y="1734"/>
                          </a:lnTo>
                          <a:lnTo>
                            <a:pt x="251" y="1853"/>
                          </a:lnTo>
                          <a:lnTo>
                            <a:pt x="277" y="1954"/>
                          </a:lnTo>
                          <a:lnTo>
                            <a:pt x="299" y="2051"/>
                          </a:lnTo>
                          <a:lnTo>
                            <a:pt x="321" y="2179"/>
                          </a:lnTo>
                          <a:lnTo>
                            <a:pt x="352" y="2316"/>
                          </a:lnTo>
                          <a:lnTo>
                            <a:pt x="357" y="2413"/>
                          </a:lnTo>
                          <a:lnTo>
                            <a:pt x="370" y="2545"/>
                          </a:lnTo>
                          <a:lnTo>
                            <a:pt x="370" y="2668"/>
                          </a:lnTo>
                          <a:lnTo>
                            <a:pt x="370" y="2757"/>
                          </a:lnTo>
                          <a:lnTo>
                            <a:pt x="313" y="2920"/>
                          </a:lnTo>
                          <a:lnTo>
                            <a:pt x="286" y="3021"/>
                          </a:lnTo>
                          <a:lnTo>
                            <a:pt x="246" y="3158"/>
                          </a:lnTo>
                          <a:lnTo>
                            <a:pt x="229" y="3255"/>
                          </a:lnTo>
                          <a:lnTo>
                            <a:pt x="238" y="3370"/>
                          </a:lnTo>
                          <a:lnTo>
                            <a:pt x="291" y="3440"/>
                          </a:lnTo>
                          <a:lnTo>
                            <a:pt x="370" y="3453"/>
                          </a:lnTo>
                          <a:lnTo>
                            <a:pt x="499" y="3458"/>
                          </a:lnTo>
                          <a:lnTo>
                            <a:pt x="587" y="3436"/>
                          </a:lnTo>
                          <a:lnTo>
                            <a:pt x="636" y="3352"/>
                          </a:lnTo>
                          <a:lnTo>
                            <a:pt x="662" y="3264"/>
                          </a:lnTo>
                          <a:lnTo>
                            <a:pt x="671" y="3162"/>
                          </a:lnTo>
                          <a:lnTo>
                            <a:pt x="715" y="3065"/>
                          </a:lnTo>
                          <a:lnTo>
                            <a:pt x="733" y="2959"/>
                          </a:lnTo>
                          <a:lnTo>
                            <a:pt x="755" y="2862"/>
                          </a:lnTo>
                          <a:lnTo>
                            <a:pt x="741" y="2735"/>
                          </a:lnTo>
                          <a:lnTo>
                            <a:pt x="715" y="2633"/>
                          </a:lnTo>
                          <a:lnTo>
                            <a:pt x="693" y="2492"/>
                          </a:lnTo>
                          <a:lnTo>
                            <a:pt x="675" y="2373"/>
                          </a:lnTo>
                          <a:lnTo>
                            <a:pt x="671" y="2280"/>
                          </a:lnTo>
                          <a:lnTo>
                            <a:pt x="671" y="2170"/>
                          </a:lnTo>
                          <a:lnTo>
                            <a:pt x="666" y="2038"/>
                          </a:lnTo>
                          <a:lnTo>
                            <a:pt x="671" y="1950"/>
                          </a:lnTo>
                          <a:lnTo>
                            <a:pt x="671" y="1844"/>
                          </a:lnTo>
                          <a:lnTo>
                            <a:pt x="675" y="1715"/>
                          </a:lnTo>
                          <a:lnTo>
                            <a:pt x="684" y="1605"/>
                          </a:lnTo>
                          <a:lnTo>
                            <a:pt x="710" y="1508"/>
                          </a:lnTo>
                          <a:lnTo>
                            <a:pt x="724" y="1384"/>
                          </a:lnTo>
                          <a:lnTo>
                            <a:pt x="733" y="1300"/>
                          </a:lnTo>
                          <a:lnTo>
                            <a:pt x="746" y="1172"/>
                          </a:lnTo>
                          <a:lnTo>
                            <a:pt x="746" y="1067"/>
                          </a:lnTo>
                          <a:lnTo>
                            <a:pt x="746" y="952"/>
                          </a:lnTo>
                          <a:lnTo>
                            <a:pt x="746" y="745"/>
                          </a:lnTo>
                          <a:lnTo>
                            <a:pt x="746" y="626"/>
                          </a:lnTo>
                          <a:lnTo>
                            <a:pt x="755" y="533"/>
                          </a:lnTo>
                          <a:lnTo>
                            <a:pt x="781" y="436"/>
                          </a:lnTo>
                          <a:lnTo>
                            <a:pt x="790" y="352"/>
                          </a:lnTo>
                          <a:lnTo>
                            <a:pt x="781" y="251"/>
                          </a:lnTo>
                          <a:lnTo>
                            <a:pt x="772" y="0"/>
                          </a:lnTo>
                          <a:lnTo>
                            <a:pt x="0" y="22"/>
                          </a:lnTo>
                          <a:close/>
                        </a:path>
                      </a:pathLst>
                    </a:custGeom>
                    <a:solidFill>
                      <a:srgbClr val="ffdfb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8" name=""/>
                    <p:cNvSpPr/>
                    <p:nvPr/>
                  </p:nvSpPr>
                  <p:spPr>
                    <a:xfrm>
                      <a:off x="1224000" y="5173560"/>
                      <a:ext cx="157680" cy="1908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438" h="530">
                          <a:moveTo>
                            <a:pt x="61" y="530"/>
                          </a:moveTo>
                          <a:lnTo>
                            <a:pt x="105" y="499"/>
                          </a:lnTo>
                          <a:lnTo>
                            <a:pt x="181" y="459"/>
                          </a:lnTo>
                          <a:lnTo>
                            <a:pt x="247" y="428"/>
                          </a:lnTo>
                          <a:lnTo>
                            <a:pt x="314" y="411"/>
                          </a:lnTo>
                          <a:lnTo>
                            <a:pt x="403" y="397"/>
                          </a:lnTo>
                          <a:lnTo>
                            <a:pt x="438" y="17"/>
                          </a:lnTo>
                          <a:lnTo>
                            <a:pt x="0" y="0"/>
                          </a:lnTo>
                          <a:lnTo>
                            <a:pt x="22" y="185"/>
                          </a:lnTo>
                          <a:lnTo>
                            <a:pt x="30" y="362"/>
                          </a:lnTo>
                          <a:lnTo>
                            <a:pt x="61" y="530"/>
                          </a:lnTo>
                          <a:close/>
                        </a:path>
                      </a:pathLst>
                    </a:custGeom>
                    <a:solidFill>
                      <a:srgbClr val="ff9f7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39" name=""/>
                  <p:cNvGrpSpPr/>
                  <p:nvPr/>
                </p:nvGrpSpPr>
                <p:grpSpPr>
                  <a:xfrm>
                    <a:off x="1247760" y="6105600"/>
                    <a:ext cx="240120" cy="344880"/>
                    <a:chOff x="1247760" y="6105600"/>
                    <a:chExt cx="240120" cy="344880"/>
                  </a:xfrm>
                </p:grpSpPr>
                <p:sp>
                  <p:nvSpPr>
                    <p:cNvPr id="840" name=""/>
                    <p:cNvSpPr/>
                    <p:nvPr/>
                  </p:nvSpPr>
                  <p:spPr>
                    <a:xfrm>
                      <a:off x="1247760" y="6105600"/>
                      <a:ext cx="240120" cy="34488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667" h="958">
                          <a:moveTo>
                            <a:pt x="190" y="207"/>
                          </a:moveTo>
                          <a:lnTo>
                            <a:pt x="114" y="353"/>
                          </a:lnTo>
                          <a:lnTo>
                            <a:pt x="92" y="415"/>
                          </a:lnTo>
                          <a:lnTo>
                            <a:pt x="70" y="459"/>
                          </a:lnTo>
                          <a:lnTo>
                            <a:pt x="44" y="494"/>
                          </a:lnTo>
                          <a:lnTo>
                            <a:pt x="22" y="547"/>
                          </a:lnTo>
                          <a:lnTo>
                            <a:pt x="17" y="583"/>
                          </a:lnTo>
                          <a:lnTo>
                            <a:pt x="0" y="636"/>
                          </a:lnTo>
                          <a:lnTo>
                            <a:pt x="8" y="715"/>
                          </a:lnTo>
                          <a:lnTo>
                            <a:pt x="22" y="756"/>
                          </a:lnTo>
                          <a:lnTo>
                            <a:pt x="70" y="835"/>
                          </a:lnTo>
                          <a:lnTo>
                            <a:pt x="123" y="888"/>
                          </a:lnTo>
                          <a:lnTo>
                            <a:pt x="181" y="936"/>
                          </a:lnTo>
                          <a:lnTo>
                            <a:pt x="278" y="958"/>
                          </a:lnTo>
                          <a:lnTo>
                            <a:pt x="353" y="919"/>
                          </a:lnTo>
                          <a:lnTo>
                            <a:pt x="424" y="883"/>
                          </a:lnTo>
                          <a:lnTo>
                            <a:pt x="477" y="826"/>
                          </a:lnTo>
                          <a:lnTo>
                            <a:pt x="522" y="782"/>
                          </a:lnTo>
                          <a:lnTo>
                            <a:pt x="535" y="734"/>
                          </a:lnTo>
                          <a:lnTo>
                            <a:pt x="553" y="644"/>
                          </a:lnTo>
                          <a:lnTo>
                            <a:pt x="570" y="569"/>
                          </a:lnTo>
                          <a:lnTo>
                            <a:pt x="579" y="508"/>
                          </a:lnTo>
                          <a:lnTo>
                            <a:pt x="588" y="450"/>
                          </a:lnTo>
                          <a:lnTo>
                            <a:pt x="597" y="406"/>
                          </a:lnTo>
                          <a:lnTo>
                            <a:pt x="601" y="327"/>
                          </a:lnTo>
                          <a:lnTo>
                            <a:pt x="614" y="269"/>
                          </a:lnTo>
                          <a:lnTo>
                            <a:pt x="637" y="224"/>
                          </a:lnTo>
                          <a:lnTo>
                            <a:pt x="654" y="176"/>
                          </a:lnTo>
                          <a:lnTo>
                            <a:pt x="667" y="97"/>
                          </a:lnTo>
                          <a:lnTo>
                            <a:pt x="667" y="0"/>
                          </a:lnTo>
                          <a:lnTo>
                            <a:pt x="645" y="83"/>
                          </a:lnTo>
                          <a:lnTo>
                            <a:pt x="637" y="171"/>
                          </a:lnTo>
                          <a:lnTo>
                            <a:pt x="601" y="224"/>
                          </a:lnTo>
                          <a:lnTo>
                            <a:pt x="588" y="292"/>
                          </a:lnTo>
                          <a:lnTo>
                            <a:pt x="579" y="380"/>
                          </a:lnTo>
                          <a:lnTo>
                            <a:pt x="566" y="450"/>
                          </a:lnTo>
                          <a:lnTo>
                            <a:pt x="535" y="481"/>
                          </a:lnTo>
                          <a:lnTo>
                            <a:pt x="494" y="525"/>
                          </a:lnTo>
                          <a:lnTo>
                            <a:pt x="459" y="534"/>
                          </a:lnTo>
                          <a:lnTo>
                            <a:pt x="415" y="543"/>
                          </a:lnTo>
                          <a:lnTo>
                            <a:pt x="336" y="534"/>
                          </a:lnTo>
                          <a:lnTo>
                            <a:pt x="278" y="508"/>
                          </a:lnTo>
                          <a:lnTo>
                            <a:pt x="225" y="494"/>
                          </a:lnTo>
                          <a:lnTo>
                            <a:pt x="195" y="472"/>
                          </a:lnTo>
                          <a:lnTo>
                            <a:pt x="154" y="424"/>
                          </a:lnTo>
                          <a:lnTo>
                            <a:pt x="154" y="362"/>
                          </a:lnTo>
                          <a:lnTo>
                            <a:pt x="190" y="20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1" name=""/>
                    <p:cNvSpPr/>
                    <p:nvPr/>
                  </p:nvSpPr>
                  <p:spPr>
                    <a:xfrm>
                      <a:off x="1309680" y="6273720"/>
                      <a:ext cx="74520" cy="68400"/>
                    </a:xfrm>
                    <a:prstGeom prst="ellipse">
                      <a:avLst/>
                    </a:prstGeom>
                    <a:solidFill>
                      <a:srgbClr val="5f5f7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17280" bIns="17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842" name=""/>
                <p:cNvGrpSpPr/>
                <p:nvPr/>
              </p:nvGrpSpPr>
              <p:grpSpPr>
                <a:xfrm>
                  <a:off x="1373040" y="5172120"/>
                  <a:ext cx="291240" cy="1405440"/>
                  <a:chOff x="1373040" y="5172120"/>
                  <a:chExt cx="291240" cy="1405440"/>
                </a:xfrm>
              </p:grpSpPr>
              <p:sp>
                <p:nvSpPr>
                  <p:cNvPr id="843" name=""/>
                  <p:cNvSpPr/>
                  <p:nvPr/>
                </p:nvSpPr>
                <p:spPr>
                  <a:xfrm>
                    <a:off x="1378080" y="5172120"/>
                    <a:ext cx="286200" cy="1249560"/>
                  </a:xfrm>
                  <a:custGeom>
                    <a:avLst/>
                    <a:gdLst/>
                    <a:ahLst/>
                    <a:rect l="0" t="0" r="r" b="b"/>
                    <a:pathLst>
                      <a:path w="795" h="3471">
                        <a:moveTo>
                          <a:pt x="795" y="22"/>
                        </a:moveTo>
                        <a:lnTo>
                          <a:pt x="747" y="286"/>
                        </a:lnTo>
                        <a:lnTo>
                          <a:pt x="725" y="480"/>
                        </a:lnTo>
                        <a:lnTo>
                          <a:pt x="711" y="709"/>
                        </a:lnTo>
                        <a:lnTo>
                          <a:pt x="689" y="881"/>
                        </a:lnTo>
                        <a:lnTo>
                          <a:pt x="659" y="1067"/>
                        </a:lnTo>
                        <a:lnTo>
                          <a:pt x="645" y="1199"/>
                        </a:lnTo>
                        <a:lnTo>
                          <a:pt x="619" y="1340"/>
                        </a:lnTo>
                        <a:lnTo>
                          <a:pt x="591" y="1494"/>
                        </a:lnTo>
                        <a:lnTo>
                          <a:pt x="561" y="1605"/>
                        </a:lnTo>
                        <a:lnTo>
                          <a:pt x="538" y="1742"/>
                        </a:lnTo>
                        <a:lnTo>
                          <a:pt x="512" y="1857"/>
                        </a:lnTo>
                        <a:lnTo>
                          <a:pt x="499" y="1976"/>
                        </a:lnTo>
                        <a:lnTo>
                          <a:pt x="494" y="2064"/>
                        </a:lnTo>
                        <a:lnTo>
                          <a:pt x="472" y="2192"/>
                        </a:lnTo>
                        <a:lnTo>
                          <a:pt x="446" y="2324"/>
                        </a:lnTo>
                        <a:lnTo>
                          <a:pt x="437" y="2421"/>
                        </a:lnTo>
                        <a:lnTo>
                          <a:pt x="428" y="2545"/>
                        </a:lnTo>
                        <a:lnTo>
                          <a:pt x="428" y="2682"/>
                        </a:lnTo>
                        <a:lnTo>
                          <a:pt x="428" y="2761"/>
                        </a:lnTo>
                        <a:lnTo>
                          <a:pt x="477" y="2929"/>
                        </a:lnTo>
                        <a:lnTo>
                          <a:pt x="508" y="3026"/>
                        </a:lnTo>
                        <a:lnTo>
                          <a:pt x="543" y="3176"/>
                        </a:lnTo>
                        <a:lnTo>
                          <a:pt x="561" y="3264"/>
                        </a:lnTo>
                        <a:lnTo>
                          <a:pt x="552" y="3383"/>
                        </a:lnTo>
                        <a:lnTo>
                          <a:pt x="499" y="3449"/>
                        </a:lnTo>
                        <a:lnTo>
                          <a:pt x="428" y="3462"/>
                        </a:lnTo>
                        <a:lnTo>
                          <a:pt x="296" y="3471"/>
                        </a:lnTo>
                        <a:lnTo>
                          <a:pt x="203" y="3440"/>
                        </a:lnTo>
                        <a:lnTo>
                          <a:pt x="149" y="3356"/>
                        </a:lnTo>
                        <a:lnTo>
                          <a:pt x="127" y="3273"/>
                        </a:lnTo>
                        <a:lnTo>
                          <a:pt x="119" y="3176"/>
                        </a:lnTo>
                        <a:lnTo>
                          <a:pt x="74" y="3074"/>
                        </a:lnTo>
                        <a:lnTo>
                          <a:pt x="52" y="2964"/>
                        </a:lnTo>
                        <a:lnTo>
                          <a:pt x="35" y="2867"/>
                        </a:lnTo>
                        <a:lnTo>
                          <a:pt x="48" y="2743"/>
                        </a:lnTo>
                        <a:lnTo>
                          <a:pt x="74" y="2642"/>
                        </a:lnTo>
                        <a:lnTo>
                          <a:pt x="88" y="2496"/>
                        </a:lnTo>
                        <a:lnTo>
                          <a:pt x="114" y="2377"/>
                        </a:lnTo>
                        <a:lnTo>
                          <a:pt x="119" y="2289"/>
                        </a:lnTo>
                        <a:lnTo>
                          <a:pt x="119" y="2174"/>
                        </a:lnTo>
                        <a:lnTo>
                          <a:pt x="119" y="2042"/>
                        </a:lnTo>
                        <a:lnTo>
                          <a:pt x="119" y="1950"/>
                        </a:lnTo>
                        <a:lnTo>
                          <a:pt x="119" y="1853"/>
                        </a:lnTo>
                        <a:lnTo>
                          <a:pt x="114" y="1724"/>
                        </a:lnTo>
                        <a:lnTo>
                          <a:pt x="101" y="1613"/>
                        </a:lnTo>
                        <a:lnTo>
                          <a:pt x="83" y="1516"/>
                        </a:lnTo>
                        <a:lnTo>
                          <a:pt x="57" y="1397"/>
                        </a:lnTo>
                        <a:lnTo>
                          <a:pt x="52" y="1314"/>
                        </a:lnTo>
                        <a:lnTo>
                          <a:pt x="39" y="1177"/>
                        </a:lnTo>
                        <a:lnTo>
                          <a:pt x="39" y="1071"/>
                        </a:lnTo>
                        <a:lnTo>
                          <a:pt x="39" y="952"/>
                        </a:lnTo>
                        <a:lnTo>
                          <a:pt x="39" y="749"/>
                        </a:lnTo>
                        <a:lnTo>
                          <a:pt x="39" y="643"/>
                        </a:lnTo>
                        <a:lnTo>
                          <a:pt x="35" y="542"/>
                        </a:lnTo>
                        <a:lnTo>
                          <a:pt x="8" y="445"/>
                        </a:lnTo>
                        <a:lnTo>
                          <a:pt x="0" y="357"/>
                        </a:lnTo>
                        <a:lnTo>
                          <a:pt x="8" y="255"/>
                        </a:lnTo>
                        <a:lnTo>
                          <a:pt x="17" y="0"/>
                        </a:lnTo>
                        <a:lnTo>
                          <a:pt x="795" y="22"/>
                        </a:lnTo>
                        <a:close/>
                      </a:path>
                    </a:pathLst>
                  </a:custGeom>
                  <a:solidFill>
                    <a:srgbClr val="ffdfb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4" name=""/>
                  <p:cNvSpPr/>
                  <p:nvPr/>
                </p:nvSpPr>
                <p:spPr>
                  <a:xfrm>
                    <a:off x="1373040" y="5187960"/>
                    <a:ext cx="276480" cy="146520"/>
                  </a:xfrm>
                  <a:custGeom>
                    <a:avLst/>
                    <a:gdLst/>
                    <a:ahLst/>
                    <a:rect l="0" t="0" r="r" b="b"/>
                    <a:pathLst>
                      <a:path w="768" h="407">
                        <a:moveTo>
                          <a:pt x="13" y="407"/>
                        </a:moveTo>
                        <a:lnTo>
                          <a:pt x="57" y="376"/>
                        </a:lnTo>
                        <a:lnTo>
                          <a:pt x="114" y="341"/>
                        </a:lnTo>
                        <a:lnTo>
                          <a:pt x="202" y="296"/>
                        </a:lnTo>
                        <a:lnTo>
                          <a:pt x="277" y="278"/>
                        </a:lnTo>
                        <a:lnTo>
                          <a:pt x="374" y="265"/>
                        </a:lnTo>
                        <a:lnTo>
                          <a:pt x="464" y="265"/>
                        </a:lnTo>
                        <a:lnTo>
                          <a:pt x="596" y="265"/>
                        </a:lnTo>
                        <a:lnTo>
                          <a:pt x="763" y="265"/>
                        </a:lnTo>
                        <a:lnTo>
                          <a:pt x="768" y="133"/>
                        </a:lnTo>
                        <a:lnTo>
                          <a:pt x="768" y="0"/>
                        </a:lnTo>
                        <a:lnTo>
                          <a:pt x="22" y="0"/>
                        </a:lnTo>
                        <a:lnTo>
                          <a:pt x="4" y="186"/>
                        </a:lnTo>
                        <a:lnTo>
                          <a:pt x="0" y="265"/>
                        </a:lnTo>
                        <a:lnTo>
                          <a:pt x="0" y="332"/>
                        </a:lnTo>
                        <a:lnTo>
                          <a:pt x="13" y="407"/>
                        </a:lnTo>
                        <a:close/>
                      </a:path>
                    </a:pathLst>
                  </a:custGeom>
                  <a:solidFill>
                    <a:srgbClr val="ff9f7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45" name=""/>
                  <p:cNvGrpSpPr/>
                  <p:nvPr/>
                </p:nvGrpSpPr>
                <p:grpSpPr>
                  <a:xfrm>
                    <a:off x="1390680" y="6221520"/>
                    <a:ext cx="244800" cy="356040"/>
                    <a:chOff x="1390680" y="6221520"/>
                    <a:chExt cx="244800" cy="356040"/>
                  </a:xfrm>
                </p:grpSpPr>
                <p:sp>
                  <p:nvSpPr>
                    <p:cNvPr id="846" name=""/>
                    <p:cNvSpPr/>
                    <p:nvPr/>
                  </p:nvSpPr>
                  <p:spPr>
                    <a:xfrm>
                      <a:off x="1390680" y="6221520"/>
                      <a:ext cx="244800" cy="3560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680" h="989">
                          <a:moveTo>
                            <a:pt x="494" y="229"/>
                          </a:moveTo>
                          <a:lnTo>
                            <a:pt x="569" y="358"/>
                          </a:lnTo>
                          <a:lnTo>
                            <a:pt x="596" y="419"/>
                          </a:lnTo>
                          <a:lnTo>
                            <a:pt x="613" y="459"/>
                          </a:lnTo>
                          <a:lnTo>
                            <a:pt x="636" y="508"/>
                          </a:lnTo>
                          <a:lnTo>
                            <a:pt x="662" y="547"/>
                          </a:lnTo>
                          <a:lnTo>
                            <a:pt x="662" y="583"/>
                          </a:lnTo>
                          <a:lnTo>
                            <a:pt x="680" y="640"/>
                          </a:lnTo>
                          <a:lnTo>
                            <a:pt x="680" y="706"/>
                          </a:lnTo>
                          <a:lnTo>
                            <a:pt x="662" y="769"/>
                          </a:lnTo>
                          <a:lnTo>
                            <a:pt x="627" y="866"/>
                          </a:lnTo>
                          <a:lnTo>
                            <a:pt x="587" y="919"/>
                          </a:lnTo>
                          <a:lnTo>
                            <a:pt x="538" y="963"/>
                          </a:lnTo>
                          <a:lnTo>
                            <a:pt x="486" y="989"/>
                          </a:lnTo>
                          <a:lnTo>
                            <a:pt x="402" y="954"/>
                          </a:lnTo>
                          <a:lnTo>
                            <a:pt x="295" y="910"/>
                          </a:lnTo>
                          <a:lnTo>
                            <a:pt x="202" y="835"/>
                          </a:lnTo>
                          <a:lnTo>
                            <a:pt x="154" y="786"/>
                          </a:lnTo>
                          <a:lnTo>
                            <a:pt x="132" y="737"/>
                          </a:lnTo>
                          <a:lnTo>
                            <a:pt x="132" y="662"/>
                          </a:lnTo>
                          <a:lnTo>
                            <a:pt x="110" y="578"/>
                          </a:lnTo>
                          <a:lnTo>
                            <a:pt x="105" y="516"/>
                          </a:lnTo>
                          <a:lnTo>
                            <a:pt x="83" y="455"/>
                          </a:lnTo>
                          <a:lnTo>
                            <a:pt x="79" y="411"/>
                          </a:lnTo>
                          <a:lnTo>
                            <a:pt x="66" y="331"/>
                          </a:lnTo>
                          <a:lnTo>
                            <a:pt x="57" y="283"/>
                          </a:lnTo>
                          <a:lnTo>
                            <a:pt x="48" y="233"/>
                          </a:lnTo>
                          <a:lnTo>
                            <a:pt x="17" y="185"/>
                          </a:lnTo>
                          <a:lnTo>
                            <a:pt x="0" y="105"/>
                          </a:lnTo>
                          <a:lnTo>
                            <a:pt x="0" y="0"/>
                          </a:lnTo>
                          <a:lnTo>
                            <a:pt x="22" y="83"/>
                          </a:lnTo>
                          <a:lnTo>
                            <a:pt x="44" y="180"/>
                          </a:lnTo>
                          <a:lnTo>
                            <a:pt x="66" y="233"/>
                          </a:lnTo>
                          <a:lnTo>
                            <a:pt x="83" y="305"/>
                          </a:lnTo>
                          <a:lnTo>
                            <a:pt x="105" y="380"/>
                          </a:lnTo>
                          <a:lnTo>
                            <a:pt x="114" y="455"/>
                          </a:lnTo>
                          <a:lnTo>
                            <a:pt x="132" y="490"/>
                          </a:lnTo>
                          <a:lnTo>
                            <a:pt x="180" y="525"/>
                          </a:lnTo>
                          <a:lnTo>
                            <a:pt x="216" y="538"/>
                          </a:lnTo>
                          <a:lnTo>
                            <a:pt x="264" y="547"/>
                          </a:lnTo>
                          <a:lnTo>
                            <a:pt x="335" y="538"/>
                          </a:lnTo>
                          <a:lnTo>
                            <a:pt x="402" y="516"/>
                          </a:lnTo>
                          <a:lnTo>
                            <a:pt x="459" y="499"/>
                          </a:lnTo>
                          <a:lnTo>
                            <a:pt x="486" y="481"/>
                          </a:lnTo>
                          <a:lnTo>
                            <a:pt x="525" y="424"/>
                          </a:lnTo>
                          <a:lnTo>
                            <a:pt x="525" y="367"/>
                          </a:lnTo>
                          <a:lnTo>
                            <a:pt x="494" y="229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7" name=""/>
                    <p:cNvSpPr/>
                    <p:nvPr/>
                  </p:nvSpPr>
                  <p:spPr>
                    <a:xfrm>
                      <a:off x="1500120" y="6402240"/>
                      <a:ext cx="79200" cy="84240"/>
                    </a:xfrm>
                    <a:prstGeom prst="ellipse">
                      <a:avLst/>
                    </a:prstGeom>
                    <a:solidFill>
                      <a:srgbClr val="5f5f7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33120" bIns="33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848" name=""/>
                <p:cNvSpPr/>
                <p:nvPr/>
              </p:nvSpPr>
              <p:spPr>
                <a:xfrm>
                  <a:off x="1407960" y="5367240"/>
                  <a:ext cx="1800" cy="800280"/>
                </a:xfrm>
                <a:prstGeom prst="line">
                  <a:avLst/>
                </a:prstGeom>
                <a:ln w="12600">
                  <a:solidFill>
                    <a:srgbClr val="ff9f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9" name=""/>
              <p:cNvGrpSpPr/>
              <p:nvPr/>
            </p:nvGrpSpPr>
            <p:grpSpPr>
              <a:xfrm>
                <a:off x="762120" y="2259000"/>
                <a:ext cx="1325880" cy="3011760"/>
                <a:chOff x="762120" y="2259000"/>
                <a:chExt cx="1325880" cy="3011760"/>
              </a:xfrm>
            </p:grpSpPr>
            <p:grpSp>
              <p:nvGrpSpPr>
                <p:cNvPr id="850" name=""/>
                <p:cNvGrpSpPr/>
                <p:nvPr/>
              </p:nvGrpSpPr>
              <p:grpSpPr>
                <a:xfrm>
                  <a:off x="762120" y="2259000"/>
                  <a:ext cx="1325880" cy="3011760"/>
                  <a:chOff x="762120" y="2259000"/>
                  <a:chExt cx="1325880" cy="3011760"/>
                </a:xfrm>
              </p:grpSpPr>
              <p:grpSp>
                <p:nvGrpSpPr>
                  <p:cNvPr id="851" name=""/>
                  <p:cNvGrpSpPr/>
                  <p:nvPr/>
                </p:nvGrpSpPr>
                <p:grpSpPr>
                  <a:xfrm>
                    <a:off x="1020600" y="3867120"/>
                    <a:ext cx="817920" cy="1403640"/>
                    <a:chOff x="1020600" y="3867120"/>
                    <a:chExt cx="817920" cy="1403640"/>
                  </a:xfrm>
                </p:grpSpPr>
                <p:sp>
                  <p:nvSpPr>
                    <p:cNvPr id="852" name=""/>
                    <p:cNvSpPr/>
                    <p:nvPr/>
                  </p:nvSpPr>
                  <p:spPr>
                    <a:xfrm>
                      <a:off x="1020600" y="3867120"/>
                      <a:ext cx="817920" cy="14036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2272" h="3899">
                          <a:moveTo>
                            <a:pt x="0" y="0"/>
                          </a:moveTo>
                          <a:lnTo>
                            <a:pt x="17" y="1389"/>
                          </a:lnTo>
                          <a:lnTo>
                            <a:pt x="79" y="1838"/>
                          </a:lnTo>
                          <a:lnTo>
                            <a:pt x="145" y="2302"/>
                          </a:lnTo>
                          <a:lnTo>
                            <a:pt x="202" y="2642"/>
                          </a:lnTo>
                          <a:lnTo>
                            <a:pt x="268" y="3078"/>
                          </a:lnTo>
                          <a:lnTo>
                            <a:pt x="321" y="3511"/>
                          </a:lnTo>
                          <a:lnTo>
                            <a:pt x="427" y="3559"/>
                          </a:lnTo>
                          <a:lnTo>
                            <a:pt x="533" y="3625"/>
                          </a:lnTo>
                          <a:lnTo>
                            <a:pt x="661" y="3696"/>
                          </a:lnTo>
                          <a:lnTo>
                            <a:pt x="802" y="3775"/>
                          </a:lnTo>
                          <a:lnTo>
                            <a:pt x="1009" y="3824"/>
                          </a:lnTo>
                          <a:lnTo>
                            <a:pt x="1098" y="3824"/>
                          </a:lnTo>
                          <a:lnTo>
                            <a:pt x="1147" y="3833"/>
                          </a:lnTo>
                          <a:lnTo>
                            <a:pt x="1209" y="3850"/>
                          </a:lnTo>
                          <a:lnTo>
                            <a:pt x="1262" y="3899"/>
                          </a:lnTo>
                          <a:lnTo>
                            <a:pt x="1416" y="3899"/>
                          </a:lnTo>
                          <a:lnTo>
                            <a:pt x="1685" y="3850"/>
                          </a:lnTo>
                          <a:lnTo>
                            <a:pt x="1888" y="3775"/>
                          </a:lnTo>
                          <a:lnTo>
                            <a:pt x="2011" y="3683"/>
                          </a:lnTo>
                          <a:lnTo>
                            <a:pt x="2069" y="3145"/>
                          </a:lnTo>
                          <a:lnTo>
                            <a:pt x="2122" y="2585"/>
                          </a:lnTo>
                          <a:lnTo>
                            <a:pt x="2219" y="2069"/>
                          </a:lnTo>
                          <a:lnTo>
                            <a:pt x="2258" y="1561"/>
                          </a:lnTo>
                          <a:lnTo>
                            <a:pt x="2272" y="1049"/>
                          </a:lnTo>
                          <a:lnTo>
                            <a:pt x="2236" y="202"/>
                          </a:lnTo>
                          <a:lnTo>
                            <a:pt x="2232" y="17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5f5f7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3" name=""/>
                    <p:cNvSpPr/>
                    <p:nvPr/>
                  </p:nvSpPr>
                  <p:spPr>
                    <a:xfrm>
                      <a:off x="1392120" y="4307040"/>
                      <a:ext cx="343440" cy="7765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954" h="2157">
                          <a:moveTo>
                            <a:pt x="261" y="405"/>
                          </a:moveTo>
                          <a:lnTo>
                            <a:pt x="202" y="533"/>
                          </a:lnTo>
                          <a:lnTo>
                            <a:pt x="158" y="661"/>
                          </a:lnTo>
                          <a:lnTo>
                            <a:pt x="145" y="820"/>
                          </a:lnTo>
                          <a:lnTo>
                            <a:pt x="22" y="2157"/>
                          </a:lnTo>
                          <a:lnTo>
                            <a:pt x="39" y="590"/>
                          </a:lnTo>
                          <a:lnTo>
                            <a:pt x="0" y="0"/>
                          </a:lnTo>
                          <a:lnTo>
                            <a:pt x="835" y="22"/>
                          </a:lnTo>
                          <a:lnTo>
                            <a:pt x="954" y="101"/>
                          </a:lnTo>
                          <a:lnTo>
                            <a:pt x="760" y="119"/>
                          </a:lnTo>
                          <a:lnTo>
                            <a:pt x="583" y="149"/>
                          </a:lnTo>
                          <a:lnTo>
                            <a:pt x="490" y="194"/>
                          </a:lnTo>
                          <a:lnTo>
                            <a:pt x="411" y="251"/>
                          </a:lnTo>
                          <a:lnTo>
                            <a:pt x="314" y="317"/>
                          </a:lnTo>
                          <a:lnTo>
                            <a:pt x="261" y="40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54" name=""/>
                  <p:cNvSpPr/>
                  <p:nvPr/>
                </p:nvSpPr>
                <p:spPr>
                  <a:xfrm>
                    <a:off x="762120" y="2259000"/>
                    <a:ext cx="1325880" cy="2092680"/>
                  </a:xfrm>
                  <a:custGeom>
                    <a:avLst/>
                    <a:gdLst/>
                    <a:ahLst/>
                    <a:rect l="0" t="0" r="r" b="b"/>
                    <a:pathLst>
                      <a:path w="3683" h="5813">
                        <a:moveTo>
                          <a:pt x="1680" y="0"/>
                        </a:moveTo>
                        <a:lnTo>
                          <a:pt x="1618" y="92"/>
                        </a:lnTo>
                        <a:lnTo>
                          <a:pt x="1569" y="145"/>
                        </a:lnTo>
                        <a:lnTo>
                          <a:pt x="1516" y="202"/>
                        </a:lnTo>
                        <a:lnTo>
                          <a:pt x="1441" y="273"/>
                        </a:lnTo>
                        <a:lnTo>
                          <a:pt x="1367" y="339"/>
                        </a:lnTo>
                        <a:lnTo>
                          <a:pt x="1212" y="392"/>
                        </a:lnTo>
                        <a:lnTo>
                          <a:pt x="1067" y="436"/>
                        </a:lnTo>
                        <a:lnTo>
                          <a:pt x="934" y="449"/>
                        </a:lnTo>
                        <a:lnTo>
                          <a:pt x="780" y="498"/>
                        </a:lnTo>
                        <a:lnTo>
                          <a:pt x="652" y="537"/>
                        </a:lnTo>
                        <a:lnTo>
                          <a:pt x="568" y="582"/>
                        </a:lnTo>
                        <a:lnTo>
                          <a:pt x="502" y="604"/>
                        </a:lnTo>
                        <a:lnTo>
                          <a:pt x="357" y="701"/>
                        </a:lnTo>
                        <a:lnTo>
                          <a:pt x="326" y="718"/>
                        </a:lnTo>
                        <a:lnTo>
                          <a:pt x="304" y="745"/>
                        </a:lnTo>
                        <a:lnTo>
                          <a:pt x="291" y="789"/>
                        </a:lnTo>
                        <a:lnTo>
                          <a:pt x="233" y="1018"/>
                        </a:lnTo>
                        <a:lnTo>
                          <a:pt x="207" y="1168"/>
                        </a:lnTo>
                        <a:lnTo>
                          <a:pt x="163" y="1380"/>
                        </a:lnTo>
                        <a:lnTo>
                          <a:pt x="123" y="1750"/>
                        </a:lnTo>
                        <a:lnTo>
                          <a:pt x="70" y="2046"/>
                        </a:lnTo>
                        <a:lnTo>
                          <a:pt x="48" y="2465"/>
                        </a:lnTo>
                        <a:lnTo>
                          <a:pt x="39" y="2610"/>
                        </a:lnTo>
                        <a:lnTo>
                          <a:pt x="0" y="2747"/>
                        </a:lnTo>
                        <a:lnTo>
                          <a:pt x="0" y="2848"/>
                        </a:lnTo>
                        <a:lnTo>
                          <a:pt x="0" y="2920"/>
                        </a:lnTo>
                        <a:lnTo>
                          <a:pt x="88" y="3092"/>
                        </a:lnTo>
                        <a:lnTo>
                          <a:pt x="216" y="3299"/>
                        </a:lnTo>
                        <a:lnTo>
                          <a:pt x="326" y="3361"/>
                        </a:lnTo>
                        <a:lnTo>
                          <a:pt x="608" y="3542"/>
                        </a:lnTo>
                        <a:lnTo>
                          <a:pt x="780" y="3630"/>
                        </a:lnTo>
                        <a:lnTo>
                          <a:pt x="701" y="4031"/>
                        </a:lnTo>
                        <a:lnTo>
                          <a:pt x="665" y="4304"/>
                        </a:lnTo>
                        <a:lnTo>
                          <a:pt x="648" y="4573"/>
                        </a:lnTo>
                        <a:lnTo>
                          <a:pt x="648" y="4900"/>
                        </a:lnTo>
                        <a:lnTo>
                          <a:pt x="665" y="5385"/>
                        </a:lnTo>
                        <a:lnTo>
                          <a:pt x="679" y="5746"/>
                        </a:lnTo>
                        <a:lnTo>
                          <a:pt x="1870" y="5813"/>
                        </a:lnTo>
                        <a:lnTo>
                          <a:pt x="1870" y="5746"/>
                        </a:lnTo>
                        <a:lnTo>
                          <a:pt x="2020" y="5764"/>
                        </a:lnTo>
                        <a:lnTo>
                          <a:pt x="2554" y="5804"/>
                        </a:lnTo>
                        <a:lnTo>
                          <a:pt x="2907" y="5764"/>
                        </a:lnTo>
                        <a:lnTo>
                          <a:pt x="3039" y="5689"/>
                        </a:lnTo>
                        <a:lnTo>
                          <a:pt x="3039" y="4900"/>
                        </a:lnTo>
                        <a:lnTo>
                          <a:pt x="3021" y="4613"/>
                        </a:lnTo>
                        <a:lnTo>
                          <a:pt x="2981" y="4304"/>
                        </a:lnTo>
                        <a:lnTo>
                          <a:pt x="2981" y="4128"/>
                        </a:lnTo>
                        <a:lnTo>
                          <a:pt x="2959" y="3877"/>
                        </a:lnTo>
                        <a:lnTo>
                          <a:pt x="3127" y="3806"/>
                        </a:lnTo>
                        <a:lnTo>
                          <a:pt x="3268" y="3696"/>
                        </a:lnTo>
                        <a:lnTo>
                          <a:pt x="3506" y="3497"/>
                        </a:lnTo>
                        <a:lnTo>
                          <a:pt x="3616" y="3449"/>
                        </a:lnTo>
                        <a:lnTo>
                          <a:pt x="3665" y="3343"/>
                        </a:lnTo>
                        <a:lnTo>
                          <a:pt x="3683" y="3184"/>
                        </a:lnTo>
                        <a:lnTo>
                          <a:pt x="3683" y="2920"/>
                        </a:lnTo>
                        <a:lnTo>
                          <a:pt x="3683" y="2222"/>
                        </a:lnTo>
                        <a:lnTo>
                          <a:pt x="3665" y="1746"/>
                        </a:lnTo>
                        <a:lnTo>
                          <a:pt x="3674" y="1283"/>
                        </a:lnTo>
                        <a:lnTo>
                          <a:pt x="3665" y="1146"/>
                        </a:lnTo>
                        <a:lnTo>
                          <a:pt x="3647" y="1075"/>
                        </a:lnTo>
                        <a:lnTo>
                          <a:pt x="3612" y="1031"/>
                        </a:lnTo>
                        <a:lnTo>
                          <a:pt x="3586" y="996"/>
                        </a:lnTo>
                        <a:lnTo>
                          <a:pt x="3409" y="886"/>
                        </a:lnTo>
                        <a:lnTo>
                          <a:pt x="3184" y="745"/>
                        </a:lnTo>
                        <a:lnTo>
                          <a:pt x="2959" y="630"/>
                        </a:lnTo>
                        <a:lnTo>
                          <a:pt x="2752" y="537"/>
                        </a:lnTo>
                        <a:lnTo>
                          <a:pt x="2615" y="485"/>
                        </a:lnTo>
                        <a:lnTo>
                          <a:pt x="2377" y="202"/>
                        </a:lnTo>
                        <a:lnTo>
                          <a:pt x="2302" y="92"/>
                        </a:lnTo>
                        <a:lnTo>
                          <a:pt x="2377" y="308"/>
                        </a:lnTo>
                        <a:lnTo>
                          <a:pt x="2404" y="348"/>
                        </a:lnTo>
                        <a:lnTo>
                          <a:pt x="2413" y="401"/>
                        </a:lnTo>
                        <a:lnTo>
                          <a:pt x="2430" y="454"/>
                        </a:lnTo>
                        <a:lnTo>
                          <a:pt x="2439" y="515"/>
                        </a:lnTo>
                        <a:lnTo>
                          <a:pt x="2413" y="626"/>
                        </a:lnTo>
                        <a:lnTo>
                          <a:pt x="2342" y="789"/>
                        </a:lnTo>
                        <a:lnTo>
                          <a:pt x="1932" y="2116"/>
                        </a:lnTo>
                        <a:lnTo>
                          <a:pt x="1728" y="1031"/>
                        </a:lnTo>
                        <a:lnTo>
                          <a:pt x="1591" y="573"/>
                        </a:lnTo>
                        <a:lnTo>
                          <a:pt x="1569" y="458"/>
                        </a:lnTo>
                        <a:lnTo>
                          <a:pt x="1569" y="348"/>
                        </a:lnTo>
                        <a:lnTo>
                          <a:pt x="1600" y="273"/>
                        </a:lnTo>
                        <a:lnTo>
                          <a:pt x="1680" y="0"/>
                        </a:lnTo>
                        <a:close/>
                      </a:path>
                    </a:pathLst>
                  </a:custGeom>
                  <a:solidFill>
                    <a:srgbClr val="5f5f7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5" name=""/>
                <p:cNvGrpSpPr/>
                <p:nvPr/>
              </p:nvGrpSpPr>
              <p:grpSpPr>
                <a:xfrm>
                  <a:off x="1227240" y="3249720"/>
                  <a:ext cx="456840" cy="766440"/>
                  <a:chOff x="1227240" y="3249720"/>
                  <a:chExt cx="456840" cy="766440"/>
                </a:xfrm>
              </p:grpSpPr>
              <p:sp>
                <p:nvSpPr>
                  <p:cNvPr id="856" name=""/>
                  <p:cNvSpPr/>
                  <p:nvPr/>
                </p:nvSpPr>
                <p:spPr>
                  <a:xfrm>
                    <a:off x="1546200" y="3967200"/>
                    <a:ext cx="30240" cy="39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7" name=""/>
                  <p:cNvSpPr/>
                  <p:nvPr/>
                </p:nvSpPr>
                <p:spPr>
                  <a:xfrm>
                    <a:off x="1647720" y="3249720"/>
                    <a:ext cx="36360" cy="381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2960" bIns="-12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8" name=""/>
                  <p:cNvSpPr/>
                  <p:nvPr/>
                </p:nvSpPr>
                <p:spPr>
                  <a:xfrm>
                    <a:off x="1227240" y="3976560"/>
                    <a:ext cx="33480" cy="39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59" name=""/>
              <p:cNvGrpSpPr/>
              <p:nvPr/>
            </p:nvGrpSpPr>
            <p:grpSpPr>
              <a:xfrm>
                <a:off x="1157400" y="2370240"/>
                <a:ext cx="623880" cy="914760"/>
                <a:chOff x="1157400" y="2370240"/>
                <a:chExt cx="623880" cy="914760"/>
              </a:xfrm>
            </p:grpSpPr>
            <p:sp>
              <p:nvSpPr>
                <p:cNvPr id="860" name=""/>
                <p:cNvSpPr/>
                <p:nvPr/>
              </p:nvSpPr>
              <p:spPr>
                <a:xfrm>
                  <a:off x="1157400" y="2370240"/>
                  <a:ext cx="321120" cy="914760"/>
                </a:xfrm>
                <a:custGeom>
                  <a:avLst/>
                  <a:gdLst/>
                  <a:ahLst/>
                  <a:rect l="0" t="0" r="r" b="b"/>
                  <a:pathLst>
                    <a:path w="892" h="2541">
                      <a:moveTo>
                        <a:pt x="322" y="0"/>
                      </a:moveTo>
                      <a:lnTo>
                        <a:pt x="52" y="304"/>
                      </a:lnTo>
                      <a:lnTo>
                        <a:pt x="8" y="418"/>
                      </a:lnTo>
                      <a:lnTo>
                        <a:pt x="296" y="515"/>
                      </a:lnTo>
                      <a:lnTo>
                        <a:pt x="22" y="776"/>
                      </a:lnTo>
                      <a:lnTo>
                        <a:pt x="167" y="1071"/>
                      </a:lnTo>
                      <a:lnTo>
                        <a:pt x="397" y="1553"/>
                      </a:lnTo>
                      <a:lnTo>
                        <a:pt x="892" y="2541"/>
                      </a:lnTo>
                      <a:lnTo>
                        <a:pt x="0" y="789"/>
                      </a:lnTo>
                      <a:lnTo>
                        <a:pt x="265" y="529"/>
                      </a:lnTo>
                      <a:lnTo>
                        <a:pt x="0" y="432"/>
                      </a:lnTo>
                      <a:lnTo>
                        <a:pt x="52" y="304"/>
                      </a:lnTo>
                      <a:lnTo>
                        <a:pt x="32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1446120" y="2455920"/>
                  <a:ext cx="335160" cy="810000"/>
                </a:xfrm>
                <a:custGeom>
                  <a:avLst/>
                  <a:gdLst/>
                  <a:ahLst/>
                  <a:rect l="0" t="0" r="r" b="b"/>
                  <a:pathLst>
                    <a:path w="931" h="2250">
                      <a:moveTo>
                        <a:pt x="755" y="0"/>
                      </a:moveTo>
                      <a:lnTo>
                        <a:pt x="909" y="304"/>
                      </a:lnTo>
                      <a:lnTo>
                        <a:pt x="688" y="405"/>
                      </a:lnTo>
                      <a:lnTo>
                        <a:pt x="931" y="574"/>
                      </a:lnTo>
                      <a:lnTo>
                        <a:pt x="0" y="2250"/>
                      </a:lnTo>
                      <a:lnTo>
                        <a:pt x="900" y="574"/>
                      </a:lnTo>
                      <a:lnTo>
                        <a:pt x="671" y="405"/>
                      </a:lnTo>
                      <a:lnTo>
                        <a:pt x="900" y="299"/>
                      </a:lnTo>
                      <a:lnTo>
                        <a:pt x="75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2" name=""/>
              <p:cNvGrpSpPr/>
              <p:nvPr/>
            </p:nvGrpSpPr>
            <p:grpSpPr>
              <a:xfrm>
                <a:off x="898560" y="2917800"/>
                <a:ext cx="1388880" cy="775080"/>
                <a:chOff x="898560" y="2917800"/>
                <a:chExt cx="1388880" cy="775080"/>
              </a:xfrm>
            </p:grpSpPr>
            <p:grpSp>
              <p:nvGrpSpPr>
                <p:cNvPr id="863" name=""/>
                <p:cNvGrpSpPr/>
                <p:nvPr/>
              </p:nvGrpSpPr>
              <p:grpSpPr>
                <a:xfrm>
                  <a:off x="898560" y="2917800"/>
                  <a:ext cx="1388880" cy="732240"/>
                  <a:chOff x="898560" y="2917800"/>
                  <a:chExt cx="1388880" cy="732240"/>
                </a:xfrm>
              </p:grpSpPr>
              <p:sp>
                <p:nvSpPr>
                  <p:cNvPr id="864" name=""/>
                  <p:cNvSpPr/>
                  <p:nvPr/>
                </p:nvSpPr>
                <p:spPr>
                  <a:xfrm>
                    <a:off x="898560" y="2917800"/>
                    <a:ext cx="1368720" cy="732240"/>
                  </a:xfrm>
                  <a:custGeom>
                    <a:avLst/>
                    <a:gdLst/>
                    <a:ahLst/>
                    <a:rect l="0" t="0" r="r" b="b"/>
                    <a:pathLst>
                      <a:path w="3802" h="2034">
                        <a:moveTo>
                          <a:pt x="0" y="680"/>
                        </a:moveTo>
                        <a:lnTo>
                          <a:pt x="868" y="0"/>
                        </a:lnTo>
                        <a:lnTo>
                          <a:pt x="917" y="0"/>
                        </a:lnTo>
                        <a:lnTo>
                          <a:pt x="2055" y="1465"/>
                        </a:lnTo>
                        <a:lnTo>
                          <a:pt x="2404" y="1341"/>
                        </a:lnTo>
                        <a:lnTo>
                          <a:pt x="2435" y="1288"/>
                        </a:lnTo>
                        <a:lnTo>
                          <a:pt x="2452" y="1235"/>
                        </a:lnTo>
                        <a:lnTo>
                          <a:pt x="3643" y="741"/>
                        </a:lnTo>
                        <a:lnTo>
                          <a:pt x="3722" y="706"/>
                        </a:lnTo>
                        <a:lnTo>
                          <a:pt x="3766" y="706"/>
                        </a:lnTo>
                        <a:lnTo>
                          <a:pt x="3775" y="719"/>
                        </a:lnTo>
                        <a:lnTo>
                          <a:pt x="3793" y="728"/>
                        </a:lnTo>
                        <a:lnTo>
                          <a:pt x="3802" y="750"/>
                        </a:lnTo>
                        <a:lnTo>
                          <a:pt x="3802" y="772"/>
                        </a:lnTo>
                        <a:lnTo>
                          <a:pt x="3802" y="816"/>
                        </a:lnTo>
                        <a:lnTo>
                          <a:pt x="3775" y="838"/>
                        </a:lnTo>
                        <a:lnTo>
                          <a:pt x="3722" y="878"/>
                        </a:lnTo>
                        <a:lnTo>
                          <a:pt x="3458" y="1019"/>
                        </a:lnTo>
                        <a:lnTo>
                          <a:pt x="2047" y="1571"/>
                        </a:lnTo>
                        <a:lnTo>
                          <a:pt x="1075" y="2034"/>
                        </a:lnTo>
                        <a:lnTo>
                          <a:pt x="1018" y="2017"/>
                        </a:lnTo>
                        <a:lnTo>
                          <a:pt x="970" y="1977"/>
                        </a:lnTo>
                        <a:lnTo>
                          <a:pt x="0" y="68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65" name=""/>
                  <p:cNvGrpSpPr/>
                  <p:nvPr/>
                </p:nvGrpSpPr>
                <p:grpSpPr>
                  <a:xfrm>
                    <a:off x="1279440" y="2979720"/>
                    <a:ext cx="1008000" cy="525600"/>
                    <a:chOff x="1279440" y="2979720"/>
                    <a:chExt cx="1008000" cy="525600"/>
                  </a:xfrm>
                </p:grpSpPr>
                <p:sp>
                  <p:nvSpPr>
                    <p:cNvPr id="866" name=""/>
                    <p:cNvSpPr/>
                    <p:nvPr/>
                  </p:nvSpPr>
                  <p:spPr>
                    <a:xfrm>
                      <a:off x="1279440" y="2979720"/>
                      <a:ext cx="325440" cy="458640"/>
                    </a:xfrm>
                    <a:prstGeom prst="line">
                      <a:avLst/>
                    </a:prstGeom>
                    <a:ln w="25560">
                      <a:solidFill>
                        <a:srgbClr val="3f3f3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867" name=""/>
                    <p:cNvGrpSpPr/>
                    <p:nvPr/>
                  </p:nvGrpSpPr>
                  <p:grpSpPr>
                    <a:xfrm>
                      <a:off x="1690560" y="3179880"/>
                      <a:ext cx="596880" cy="325440"/>
                      <a:chOff x="1690560" y="3179880"/>
                      <a:chExt cx="596880" cy="325440"/>
                    </a:xfrm>
                  </p:grpSpPr>
                  <p:sp>
                    <p:nvSpPr>
                      <p:cNvPr id="868" name=""/>
                      <p:cNvSpPr/>
                      <p:nvPr/>
                    </p:nvSpPr>
                    <p:spPr>
                      <a:xfrm flipV="1">
                        <a:off x="1690560" y="3246480"/>
                        <a:ext cx="412920" cy="258840"/>
                      </a:xfrm>
                      <a:prstGeom prst="line">
                        <a:avLst/>
                      </a:prstGeom>
                      <a:ln w="25560">
                        <a:solidFill>
                          <a:srgbClr val="3f3f3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102600" rIns="102600" tIns="57600" bIns="57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69" name=""/>
                      <p:cNvSpPr/>
                      <p:nvPr/>
                    </p:nvSpPr>
                    <p:spPr>
                      <a:xfrm flipV="1">
                        <a:off x="2201760" y="3179880"/>
                        <a:ext cx="20880" cy="120600"/>
                      </a:xfrm>
                      <a:prstGeom prst="line">
                        <a:avLst/>
                      </a:prstGeom>
                      <a:ln w="25560">
                        <a:solidFill>
                          <a:srgbClr val="3f3f3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102600" rIns="102600" tIns="57600" bIns="57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70" name=""/>
                      <p:cNvSpPr/>
                      <p:nvPr/>
                    </p:nvSpPr>
                    <p:spPr>
                      <a:xfrm flipH="1">
                        <a:off x="1784520" y="3236760"/>
                        <a:ext cx="502920" cy="139680"/>
                      </a:xfrm>
                      <a:prstGeom prst="line">
                        <a:avLst/>
                      </a:prstGeom>
                      <a:ln w="12600">
                        <a:solidFill>
                          <a:srgbClr val="3f3f3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6120" rIns="96120" tIns="51120" bIns="51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871" name=""/>
                <p:cNvGrpSpPr/>
                <p:nvPr/>
              </p:nvGrpSpPr>
              <p:grpSpPr>
                <a:xfrm>
                  <a:off x="1251000" y="3305160"/>
                  <a:ext cx="421200" cy="387720"/>
                  <a:chOff x="1251000" y="3305160"/>
                  <a:chExt cx="421200" cy="387720"/>
                </a:xfrm>
              </p:grpSpPr>
              <p:sp>
                <p:nvSpPr>
                  <p:cNvPr id="872" name=""/>
                  <p:cNvSpPr/>
                  <p:nvPr/>
                </p:nvSpPr>
                <p:spPr>
                  <a:xfrm>
                    <a:off x="1251000" y="3395520"/>
                    <a:ext cx="421200" cy="297360"/>
                  </a:xfrm>
                  <a:custGeom>
                    <a:avLst/>
                    <a:gdLst/>
                    <a:ahLst/>
                    <a:rect l="0" t="0" r="r" b="b"/>
                    <a:pathLst>
                      <a:path w="1170" h="826">
                        <a:moveTo>
                          <a:pt x="1108" y="499"/>
                        </a:moveTo>
                        <a:lnTo>
                          <a:pt x="1055" y="512"/>
                        </a:lnTo>
                        <a:lnTo>
                          <a:pt x="1011" y="499"/>
                        </a:lnTo>
                        <a:lnTo>
                          <a:pt x="976" y="472"/>
                        </a:lnTo>
                        <a:lnTo>
                          <a:pt x="928" y="464"/>
                        </a:lnTo>
                        <a:lnTo>
                          <a:pt x="888" y="393"/>
                        </a:lnTo>
                        <a:lnTo>
                          <a:pt x="856" y="367"/>
                        </a:lnTo>
                        <a:lnTo>
                          <a:pt x="834" y="375"/>
                        </a:lnTo>
                        <a:lnTo>
                          <a:pt x="812" y="389"/>
                        </a:lnTo>
                        <a:lnTo>
                          <a:pt x="794" y="402"/>
                        </a:lnTo>
                        <a:lnTo>
                          <a:pt x="781" y="428"/>
                        </a:lnTo>
                        <a:lnTo>
                          <a:pt x="777" y="450"/>
                        </a:lnTo>
                        <a:lnTo>
                          <a:pt x="750" y="464"/>
                        </a:lnTo>
                        <a:lnTo>
                          <a:pt x="680" y="490"/>
                        </a:lnTo>
                        <a:lnTo>
                          <a:pt x="605" y="499"/>
                        </a:lnTo>
                        <a:lnTo>
                          <a:pt x="569" y="486"/>
                        </a:lnTo>
                        <a:lnTo>
                          <a:pt x="538" y="464"/>
                        </a:lnTo>
                        <a:lnTo>
                          <a:pt x="512" y="464"/>
                        </a:lnTo>
                        <a:lnTo>
                          <a:pt x="464" y="402"/>
                        </a:lnTo>
                        <a:lnTo>
                          <a:pt x="428" y="375"/>
                        </a:lnTo>
                        <a:lnTo>
                          <a:pt x="375" y="269"/>
                        </a:lnTo>
                        <a:lnTo>
                          <a:pt x="336" y="194"/>
                        </a:lnTo>
                        <a:lnTo>
                          <a:pt x="314" y="145"/>
                        </a:lnTo>
                        <a:lnTo>
                          <a:pt x="282" y="74"/>
                        </a:lnTo>
                        <a:lnTo>
                          <a:pt x="264" y="44"/>
                        </a:lnTo>
                        <a:lnTo>
                          <a:pt x="238" y="35"/>
                        </a:lnTo>
                        <a:lnTo>
                          <a:pt x="211" y="35"/>
                        </a:lnTo>
                        <a:lnTo>
                          <a:pt x="198" y="57"/>
                        </a:lnTo>
                        <a:lnTo>
                          <a:pt x="207" y="105"/>
                        </a:lnTo>
                        <a:lnTo>
                          <a:pt x="220" y="145"/>
                        </a:lnTo>
                        <a:lnTo>
                          <a:pt x="238" y="194"/>
                        </a:lnTo>
                        <a:lnTo>
                          <a:pt x="238" y="234"/>
                        </a:lnTo>
                        <a:lnTo>
                          <a:pt x="189" y="149"/>
                        </a:lnTo>
                        <a:lnTo>
                          <a:pt x="180" y="105"/>
                        </a:lnTo>
                        <a:lnTo>
                          <a:pt x="158" y="52"/>
                        </a:lnTo>
                        <a:lnTo>
                          <a:pt x="141" y="17"/>
                        </a:lnTo>
                        <a:lnTo>
                          <a:pt x="114" y="0"/>
                        </a:lnTo>
                        <a:lnTo>
                          <a:pt x="88" y="0"/>
                        </a:lnTo>
                        <a:lnTo>
                          <a:pt x="61" y="13"/>
                        </a:lnTo>
                        <a:lnTo>
                          <a:pt x="48" y="30"/>
                        </a:lnTo>
                        <a:lnTo>
                          <a:pt x="88" y="114"/>
                        </a:lnTo>
                        <a:lnTo>
                          <a:pt x="61" y="101"/>
                        </a:lnTo>
                        <a:lnTo>
                          <a:pt x="35" y="101"/>
                        </a:lnTo>
                        <a:lnTo>
                          <a:pt x="13" y="110"/>
                        </a:lnTo>
                        <a:lnTo>
                          <a:pt x="0" y="123"/>
                        </a:lnTo>
                        <a:lnTo>
                          <a:pt x="61" y="239"/>
                        </a:lnTo>
                        <a:lnTo>
                          <a:pt x="88" y="331"/>
                        </a:lnTo>
                        <a:lnTo>
                          <a:pt x="61" y="309"/>
                        </a:lnTo>
                        <a:lnTo>
                          <a:pt x="35" y="300"/>
                        </a:lnTo>
                        <a:lnTo>
                          <a:pt x="8" y="309"/>
                        </a:lnTo>
                        <a:lnTo>
                          <a:pt x="0" y="331"/>
                        </a:lnTo>
                        <a:lnTo>
                          <a:pt x="48" y="397"/>
                        </a:lnTo>
                        <a:lnTo>
                          <a:pt x="61" y="433"/>
                        </a:lnTo>
                        <a:lnTo>
                          <a:pt x="61" y="464"/>
                        </a:lnTo>
                        <a:lnTo>
                          <a:pt x="88" y="499"/>
                        </a:lnTo>
                        <a:lnTo>
                          <a:pt x="105" y="538"/>
                        </a:lnTo>
                        <a:lnTo>
                          <a:pt x="123" y="587"/>
                        </a:lnTo>
                        <a:lnTo>
                          <a:pt x="141" y="609"/>
                        </a:lnTo>
                        <a:lnTo>
                          <a:pt x="149" y="623"/>
                        </a:lnTo>
                        <a:lnTo>
                          <a:pt x="167" y="637"/>
                        </a:lnTo>
                        <a:lnTo>
                          <a:pt x="336" y="729"/>
                        </a:lnTo>
                        <a:lnTo>
                          <a:pt x="389" y="769"/>
                        </a:lnTo>
                        <a:lnTo>
                          <a:pt x="406" y="791"/>
                        </a:lnTo>
                        <a:lnTo>
                          <a:pt x="446" y="808"/>
                        </a:lnTo>
                        <a:lnTo>
                          <a:pt x="472" y="822"/>
                        </a:lnTo>
                        <a:lnTo>
                          <a:pt x="499" y="826"/>
                        </a:lnTo>
                        <a:lnTo>
                          <a:pt x="631" y="808"/>
                        </a:lnTo>
                        <a:lnTo>
                          <a:pt x="750" y="800"/>
                        </a:lnTo>
                        <a:lnTo>
                          <a:pt x="860" y="786"/>
                        </a:lnTo>
                        <a:lnTo>
                          <a:pt x="972" y="769"/>
                        </a:lnTo>
                        <a:lnTo>
                          <a:pt x="1073" y="738"/>
                        </a:lnTo>
                        <a:lnTo>
                          <a:pt x="1170" y="659"/>
                        </a:lnTo>
                        <a:lnTo>
                          <a:pt x="1108" y="499"/>
                        </a:lnTo>
                        <a:close/>
                      </a:path>
                    </a:pathLst>
                  </a:custGeom>
                  <a:solidFill>
                    <a:srgbClr val="ffdfb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3" name=""/>
                  <p:cNvSpPr/>
                  <p:nvPr/>
                </p:nvSpPr>
                <p:spPr>
                  <a:xfrm>
                    <a:off x="1338120" y="3484440"/>
                    <a:ext cx="71640" cy="127440"/>
                  </a:xfrm>
                  <a:custGeom>
                    <a:avLst/>
                    <a:gdLst/>
                    <a:ahLst/>
                    <a:rect l="0" t="0" r="r" b="b"/>
                    <a:pathLst>
                      <a:path w="199" h="354">
                        <a:moveTo>
                          <a:pt x="0" y="0"/>
                        </a:moveTo>
                        <a:lnTo>
                          <a:pt x="57" y="146"/>
                        </a:lnTo>
                        <a:lnTo>
                          <a:pt x="115" y="243"/>
                        </a:lnTo>
                        <a:lnTo>
                          <a:pt x="155" y="284"/>
                        </a:lnTo>
                        <a:lnTo>
                          <a:pt x="168" y="332"/>
                        </a:lnTo>
                        <a:lnTo>
                          <a:pt x="172" y="350"/>
                        </a:lnTo>
                        <a:lnTo>
                          <a:pt x="199" y="354"/>
                        </a:lnTo>
                        <a:lnTo>
                          <a:pt x="172" y="354"/>
                        </a:lnTo>
                        <a:lnTo>
                          <a:pt x="164" y="332"/>
                        </a:lnTo>
                        <a:lnTo>
                          <a:pt x="155" y="301"/>
                        </a:lnTo>
                        <a:lnTo>
                          <a:pt x="79" y="195"/>
                        </a:lnTo>
                        <a:lnTo>
                          <a:pt x="48" y="12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4" name=""/>
                  <p:cNvSpPr/>
                  <p:nvPr/>
                </p:nvSpPr>
                <p:spPr>
                  <a:xfrm>
                    <a:off x="1282680" y="3441600"/>
                    <a:ext cx="109800" cy="194040"/>
                  </a:xfrm>
                  <a:custGeom>
                    <a:avLst/>
                    <a:gdLst/>
                    <a:ahLst/>
                    <a:rect l="0" t="0" r="r" b="b"/>
                    <a:pathLst>
                      <a:path w="305" h="539">
                        <a:moveTo>
                          <a:pt x="0" y="0"/>
                        </a:moveTo>
                        <a:lnTo>
                          <a:pt x="66" y="217"/>
                        </a:lnTo>
                        <a:lnTo>
                          <a:pt x="74" y="256"/>
                        </a:lnTo>
                        <a:lnTo>
                          <a:pt x="92" y="278"/>
                        </a:lnTo>
                        <a:lnTo>
                          <a:pt x="190" y="425"/>
                        </a:lnTo>
                        <a:lnTo>
                          <a:pt x="221" y="456"/>
                        </a:lnTo>
                        <a:lnTo>
                          <a:pt x="234" y="478"/>
                        </a:lnTo>
                        <a:lnTo>
                          <a:pt x="247" y="513"/>
                        </a:lnTo>
                        <a:lnTo>
                          <a:pt x="274" y="539"/>
                        </a:lnTo>
                        <a:lnTo>
                          <a:pt x="305" y="539"/>
                        </a:lnTo>
                        <a:lnTo>
                          <a:pt x="274" y="539"/>
                        </a:lnTo>
                        <a:lnTo>
                          <a:pt x="243" y="517"/>
                        </a:lnTo>
                        <a:lnTo>
                          <a:pt x="234" y="487"/>
                        </a:lnTo>
                        <a:lnTo>
                          <a:pt x="225" y="469"/>
                        </a:lnTo>
                        <a:lnTo>
                          <a:pt x="172" y="397"/>
                        </a:lnTo>
                        <a:lnTo>
                          <a:pt x="123" y="336"/>
                        </a:lnTo>
                        <a:lnTo>
                          <a:pt x="92" y="292"/>
                        </a:lnTo>
                        <a:lnTo>
                          <a:pt x="74" y="261"/>
                        </a:lnTo>
                        <a:lnTo>
                          <a:pt x="26" y="10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5" name=""/>
                  <p:cNvSpPr/>
                  <p:nvPr/>
                </p:nvSpPr>
                <p:spPr>
                  <a:xfrm>
                    <a:off x="1378080" y="3543120"/>
                    <a:ext cx="294120" cy="149760"/>
                  </a:xfrm>
                  <a:custGeom>
                    <a:avLst/>
                    <a:gdLst/>
                    <a:ahLst/>
                    <a:rect l="0" t="0" r="r" b="b"/>
                    <a:pathLst>
                      <a:path w="817" h="416">
                        <a:moveTo>
                          <a:pt x="756" y="101"/>
                        </a:moveTo>
                        <a:lnTo>
                          <a:pt x="703" y="115"/>
                        </a:lnTo>
                        <a:lnTo>
                          <a:pt x="659" y="101"/>
                        </a:lnTo>
                        <a:lnTo>
                          <a:pt x="628" y="79"/>
                        </a:lnTo>
                        <a:lnTo>
                          <a:pt x="578" y="70"/>
                        </a:lnTo>
                        <a:lnTo>
                          <a:pt x="538" y="0"/>
                        </a:lnTo>
                        <a:lnTo>
                          <a:pt x="525" y="13"/>
                        </a:lnTo>
                        <a:lnTo>
                          <a:pt x="516" y="26"/>
                        </a:lnTo>
                        <a:lnTo>
                          <a:pt x="503" y="48"/>
                        </a:lnTo>
                        <a:lnTo>
                          <a:pt x="472" y="52"/>
                        </a:lnTo>
                        <a:lnTo>
                          <a:pt x="455" y="52"/>
                        </a:lnTo>
                        <a:lnTo>
                          <a:pt x="433" y="35"/>
                        </a:lnTo>
                        <a:lnTo>
                          <a:pt x="428" y="57"/>
                        </a:lnTo>
                        <a:lnTo>
                          <a:pt x="402" y="70"/>
                        </a:lnTo>
                        <a:lnTo>
                          <a:pt x="336" y="92"/>
                        </a:lnTo>
                        <a:lnTo>
                          <a:pt x="371" y="97"/>
                        </a:lnTo>
                        <a:lnTo>
                          <a:pt x="428" y="79"/>
                        </a:lnTo>
                        <a:lnTo>
                          <a:pt x="450" y="92"/>
                        </a:lnTo>
                        <a:lnTo>
                          <a:pt x="464" y="115"/>
                        </a:lnTo>
                        <a:lnTo>
                          <a:pt x="441" y="124"/>
                        </a:lnTo>
                        <a:lnTo>
                          <a:pt x="486" y="133"/>
                        </a:lnTo>
                        <a:lnTo>
                          <a:pt x="450" y="142"/>
                        </a:lnTo>
                        <a:lnTo>
                          <a:pt x="486" y="142"/>
                        </a:lnTo>
                        <a:lnTo>
                          <a:pt x="468" y="159"/>
                        </a:lnTo>
                        <a:lnTo>
                          <a:pt x="486" y="155"/>
                        </a:lnTo>
                        <a:lnTo>
                          <a:pt x="503" y="159"/>
                        </a:lnTo>
                        <a:lnTo>
                          <a:pt x="503" y="181"/>
                        </a:lnTo>
                        <a:lnTo>
                          <a:pt x="472" y="208"/>
                        </a:lnTo>
                        <a:lnTo>
                          <a:pt x="446" y="212"/>
                        </a:lnTo>
                        <a:lnTo>
                          <a:pt x="393" y="230"/>
                        </a:lnTo>
                        <a:lnTo>
                          <a:pt x="349" y="230"/>
                        </a:lnTo>
                        <a:lnTo>
                          <a:pt x="300" y="230"/>
                        </a:lnTo>
                        <a:lnTo>
                          <a:pt x="256" y="212"/>
                        </a:lnTo>
                        <a:lnTo>
                          <a:pt x="217" y="199"/>
                        </a:lnTo>
                        <a:lnTo>
                          <a:pt x="189" y="208"/>
                        </a:lnTo>
                        <a:lnTo>
                          <a:pt x="167" y="217"/>
                        </a:lnTo>
                        <a:lnTo>
                          <a:pt x="136" y="230"/>
                        </a:lnTo>
                        <a:lnTo>
                          <a:pt x="101" y="212"/>
                        </a:lnTo>
                        <a:lnTo>
                          <a:pt x="114" y="239"/>
                        </a:lnTo>
                        <a:lnTo>
                          <a:pt x="101" y="256"/>
                        </a:lnTo>
                        <a:lnTo>
                          <a:pt x="101" y="269"/>
                        </a:lnTo>
                        <a:lnTo>
                          <a:pt x="83" y="296"/>
                        </a:lnTo>
                        <a:lnTo>
                          <a:pt x="57" y="305"/>
                        </a:lnTo>
                        <a:lnTo>
                          <a:pt x="35" y="296"/>
                        </a:lnTo>
                        <a:lnTo>
                          <a:pt x="22" y="315"/>
                        </a:lnTo>
                        <a:lnTo>
                          <a:pt x="0" y="323"/>
                        </a:lnTo>
                        <a:lnTo>
                          <a:pt x="44" y="359"/>
                        </a:lnTo>
                        <a:lnTo>
                          <a:pt x="61" y="381"/>
                        </a:lnTo>
                        <a:lnTo>
                          <a:pt x="101" y="398"/>
                        </a:lnTo>
                        <a:lnTo>
                          <a:pt x="127" y="412"/>
                        </a:lnTo>
                        <a:lnTo>
                          <a:pt x="154" y="416"/>
                        </a:lnTo>
                        <a:lnTo>
                          <a:pt x="287" y="398"/>
                        </a:lnTo>
                        <a:lnTo>
                          <a:pt x="402" y="390"/>
                        </a:lnTo>
                        <a:lnTo>
                          <a:pt x="512" y="376"/>
                        </a:lnTo>
                        <a:lnTo>
                          <a:pt x="623" y="359"/>
                        </a:lnTo>
                        <a:lnTo>
                          <a:pt x="720" y="332"/>
                        </a:lnTo>
                        <a:lnTo>
                          <a:pt x="817" y="252"/>
                        </a:lnTo>
                        <a:lnTo>
                          <a:pt x="756" y="101"/>
                        </a:lnTo>
                        <a:close/>
                      </a:path>
                    </a:pathLst>
                  </a:custGeom>
                  <a:solidFill>
                    <a:srgbClr val="ff9f7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6" name=""/>
                  <p:cNvSpPr/>
                  <p:nvPr/>
                </p:nvSpPr>
                <p:spPr>
                  <a:xfrm>
                    <a:off x="1282680" y="3521160"/>
                    <a:ext cx="89280" cy="127440"/>
                  </a:xfrm>
                  <a:custGeom>
                    <a:avLst/>
                    <a:gdLst/>
                    <a:ahLst/>
                    <a:rect l="0" t="0" r="r" b="b"/>
                    <a:pathLst>
                      <a:path w="248" h="354">
                        <a:moveTo>
                          <a:pt x="0" y="0"/>
                        </a:moveTo>
                        <a:lnTo>
                          <a:pt x="44" y="124"/>
                        </a:lnTo>
                        <a:lnTo>
                          <a:pt x="57" y="168"/>
                        </a:lnTo>
                        <a:lnTo>
                          <a:pt x="80" y="186"/>
                        </a:lnTo>
                        <a:lnTo>
                          <a:pt x="124" y="243"/>
                        </a:lnTo>
                        <a:lnTo>
                          <a:pt x="146" y="270"/>
                        </a:lnTo>
                        <a:lnTo>
                          <a:pt x="222" y="345"/>
                        </a:lnTo>
                        <a:lnTo>
                          <a:pt x="248" y="354"/>
                        </a:lnTo>
                        <a:lnTo>
                          <a:pt x="187" y="315"/>
                        </a:lnTo>
                        <a:lnTo>
                          <a:pt x="124" y="252"/>
                        </a:lnTo>
                        <a:lnTo>
                          <a:pt x="80" y="199"/>
                        </a:lnTo>
                        <a:lnTo>
                          <a:pt x="57" y="155"/>
                        </a:lnTo>
                        <a:lnTo>
                          <a:pt x="17" y="7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7" name=""/>
                  <p:cNvSpPr/>
                  <p:nvPr/>
                </p:nvSpPr>
                <p:spPr>
                  <a:xfrm>
                    <a:off x="1528920" y="3305160"/>
                    <a:ext cx="133560" cy="143280"/>
                  </a:xfrm>
                  <a:custGeom>
                    <a:avLst/>
                    <a:gdLst/>
                    <a:ahLst/>
                    <a:rect l="0" t="0" r="r" b="b"/>
                    <a:pathLst>
                      <a:path w="371" h="398">
                        <a:moveTo>
                          <a:pt x="0" y="0"/>
                        </a:moveTo>
                        <a:lnTo>
                          <a:pt x="119" y="17"/>
                        </a:lnTo>
                        <a:lnTo>
                          <a:pt x="186" y="39"/>
                        </a:lnTo>
                        <a:lnTo>
                          <a:pt x="239" y="61"/>
                        </a:lnTo>
                        <a:lnTo>
                          <a:pt x="269" y="88"/>
                        </a:lnTo>
                        <a:lnTo>
                          <a:pt x="287" y="102"/>
                        </a:lnTo>
                        <a:lnTo>
                          <a:pt x="300" y="120"/>
                        </a:lnTo>
                        <a:lnTo>
                          <a:pt x="305" y="137"/>
                        </a:lnTo>
                        <a:lnTo>
                          <a:pt x="300" y="159"/>
                        </a:lnTo>
                        <a:lnTo>
                          <a:pt x="296" y="177"/>
                        </a:lnTo>
                        <a:lnTo>
                          <a:pt x="274" y="190"/>
                        </a:lnTo>
                        <a:lnTo>
                          <a:pt x="256" y="190"/>
                        </a:lnTo>
                        <a:lnTo>
                          <a:pt x="243" y="199"/>
                        </a:lnTo>
                        <a:lnTo>
                          <a:pt x="256" y="203"/>
                        </a:lnTo>
                        <a:lnTo>
                          <a:pt x="274" y="212"/>
                        </a:lnTo>
                        <a:lnTo>
                          <a:pt x="305" y="225"/>
                        </a:lnTo>
                        <a:lnTo>
                          <a:pt x="314" y="247"/>
                        </a:lnTo>
                        <a:lnTo>
                          <a:pt x="327" y="261"/>
                        </a:lnTo>
                        <a:lnTo>
                          <a:pt x="331" y="269"/>
                        </a:lnTo>
                        <a:lnTo>
                          <a:pt x="322" y="292"/>
                        </a:lnTo>
                        <a:lnTo>
                          <a:pt x="349" y="306"/>
                        </a:lnTo>
                        <a:lnTo>
                          <a:pt x="367" y="323"/>
                        </a:lnTo>
                        <a:lnTo>
                          <a:pt x="371" y="328"/>
                        </a:lnTo>
                        <a:lnTo>
                          <a:pt x="371" y="359"/>
                        </a:lnTo>
                        <a:lnTo>
                          <a:pt x="367" y="372"/>
                        </a:lnTo>
                        <a:lnTo>
                          <a:pt x="305" y="39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dfb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8" name=""/>
                  <p:cNvSpPr/>
                  <p:nvPr/>
                </p:nvSpPr>
                <p:spPr>
                  <a:xfrm>
                    <a:off x="1590840" y="3368520"/>
                    <a:ext cx="2268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63" h="10">
                        <a:moveTo>
                          <a:pt x="0" y="10"/>
                        </a:moveTo>
                        <a:lnTo>
                          <a:pt x="18" y="5"/>
                        </a:lnTo>
                        <a:lnTo>
                          <a:pt x="40" y="5"/>
                        </a:lnTo>
                        <a:lnTo>
                          <a:pt x="59" y="5"/>
                        </a:lnTo>
                        <a:lnTo>
                          <a:pt x="63" y="5"/>
                        </a:lnTo>
                        <a:lnTo>
                          <a:pt x="50" y="0"/>
                        </a:lnTo>
                        <a:lnTo>
                          <a:pt x="31" y="0"/>
                        </a:lnTo>
                        <a:lnTo>
                          <a:pt x="18" y="5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47520" bIns="-47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79" name=""/>
              <p:cNvSpPr/>
              <p:nvPr/>
            </p:nvSpPr>
            <p:spPr>
              <a:xfrm>
                <a:off x="1060560" y="4351320"/>
                <a:ext cx="766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"/>
          <p:cNvSpPr/>
          <p:nvPr/>
        </p:nvSpPr>
        <p:spPr>
          <a:xfrm>
            <a:off x="2571840" y="1716120"/>
            <a:ext cx="5952960" cy="4191120"/>
          </a:xfrm>
          <a:prstGeom prst="rect">
            <a:avLst/>
          </a:prstGeom>
          <a:solidFill>
            <a:srgbClr val="ffffff"/>
          </a:solidFill>
          <a:ln w="152280">
            <a:solidFill>
              <a:srgbClr val="996633"/>
            </a:solidFill>
            <a:round/>
          </a:ln>
        </p:spPr>
        <p:txBody>
          <a:bodyPr lIns="165960" rIns="165960" tIns="120960" bIns="12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 txBox="1"/>
          <p:nvPr/>
        </p:nvSpPr>
        <p:spPr>
          <a:xfrm>
            <a:off x="2789280" y="1868400"/>
            <a:ext cx="5638680" cy="35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7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dentify the issues related to accounting for natural resources and compute depletion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8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pply the matching rule to intangible assets, including research and development costs and goodwill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9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pply depreciation methods to problems of partial years, revised rates, groups of similar items, special types of capital expenditures, and cost recovery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2" name="" descr=""/>
          <p:cNvPicPr/>
          <p:nvPr/>
        </p:nvPicPr>
        <p:blipFill>
          <a:blip r:embed="rId1"/>
          <a:stretch/>
        </p:blipFill>
        <p:spPr>
          <a:xfrm>
            <a:off x="1655640" y="333360"/>
            <a:ext cx="5618160" cy="1635120"/>
          </a:xfrm>
          <a:prstGeom prst="rect">
            <a:avLst/>
          </a:prstGeom>
          <a:ln w="0">
            <a:noFill/>
          </a:ln>
        </p:spPr>
      </p:pic>
      <p:sp>
        <p:nvSpPr>
          <p:cNvPr id="883" name=""/>
          <p:cNvSpPr txBox="1"/>
          <p:nvPr/>
        </p:nvSpPr>
        <p:spPr>
          <a:xfrm>
            <a:off x="2673360" y="574560"/>
            <a:ext cx="314496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D FINALLY . .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4" name=""/>
          <p:cNvGrpSpPr/>
          <p:nvPr/>
        </p:nvGrpSpPr>
        <p:grpSpPr>
          <a:xfrm>
            <a:off x="682560" y="1243080"/>
            <a:ext cx="1525680" cy="4901040"/>
            <a:chOff x="682560" y="1243080"/>
            <a:chExt cx="1525680" cy="4901040"/>
          </a:xfrm>
        </p:grpSpPr>
        <p:grpSp>
          <p:nvGrpSpPr>
            <p:cNvPr id="885" name=""/>
            <p:cNvGrpSpPr/>
            <p:nvPr/>
          </p:nvGrpSpPr>
          <p:grpSpPr>
            <a:xfrm>
              <a:off x="1162080" y="1243080"/>
              <a:ext cx="506880" cy="1373400"/>
              <a:chOff x="1162080" y="1243080"/>
              <a:chExt cx="506880" cy="1373400"/>
            </a:xfrm>
          </p:grpSpPr>
          <p:sp>
            <p:nvSpPr>
              <p:cNvPr id="886" name=""/>
              <p:cNvSpPr/>
              <p:nvPr/>
            </p:nvSpPr>
            <p:spPr>
              <a:xfrm>
                <a:off x="1227240" y="1811160"/>
                <a:ext cx="343440" cy="805320"/>
              </a:xfrm>
              <a:custGeom>
                <a:avLst/>
                <a:gdLst/>
                <a:ahLst/>
                <a:rect l="0" t="0" r="r" b="b"/>
                <a:pathLst>
                  <a:path w="954" h="2237">
                    <a:moveTo>
                      <a:pt x="171" y="0"/>
                    </a:moveTo>
                    <a:lnTo>
                      <a:pt x="158" y="101"/>
                    </a:lnTo>
                    <a:lnTo>
                      <a:pt x="132" y="207"/>
                    </a:lnTo>
                    <a:lnTo>
                      <a:pt x="0" y="471"/>
                    </a:lnTo>
                    <a:lnTo>
                      <a:pt x="441" y="2237"/>
                    </a:lnTo>
                    <a:lnTo>
                      <a:pt x="954" y="529"/>
                    </a:lnTo>
                    <a:lnTo>
                      <a:pt x="844" y="295"/>
                    </a:lnTo>
                    <a:lnTo>
                      <a:pt x="808" y="207"/>
                    </a:lnTo>
                    <a:lnTo>
                      <a:pt x="791" y="149"/>
                    </a:lnTo>
                    <a:lnTo>
                      <a:pt x="786" y="17"/>
                    </a:lnTo>
                    <a:lnTo>
                      <a:pt x="17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1295280" y="1827360"/>
                <a:ext cx="282960" cy="294120"/>
              </a:xfrm>
              <a:custGeom>
                <a:avLst/>
                <a:gdLst/>
                <a:ahLst/>
                <a:rect l="0" t="0" r="r" b="b"/>
                <a:pathLst>
                  <a:path w="786" h="817">
                    <a:moveTo>
                      <a:pt x="0" y="0"/>
                    </a:moveTo>
                    <a:lnTo>
                      <a:pt x="8" y="44"/>
                    </a:lnTo>
                    <a:lnTo>
                      <a:pt x="17" y="74"/>
                    </a:lnTo>
                    <a:lnTo>
                      <a:pt x="35" y="114"/>
                    </a:lnTo>
                    <a:lnTo>
                      <a:pt x="52" y="158"/>
                    </a:lnTo>
                    <a:lnTo>
                      <a:pt x="79" y="189"/>
                    </a:lnTo>
                    <a:lnTo>
                      <a:pt x="101" y="230"/>
                    </a:lnTo>
                    <a:lnTo>
                      <a:pt x="136" y="261"/>
                    </a:lnTo>
                    <a:lnTo>
                      <a:pt x="176" y="292"/>
                    </a:lnTo>
                    <a:lnTo>
                      <a:pt x="234" y="314"/>
                    </a:lnTo>
                    <a:lnTo>
                      <a:pt x="287" y="327"/>
                    </a:lnTo>
                    <a:lnTo>
                      <a:pt x="322" y="349"/>
                    </a:lnTo>
                    <a:lnTo>
                      <a:pt x="340" y="362"/>
                    </a:lnTo>
                    <a:lnTo>
                      <a:pt x="349" y="384"/>
                    </a:lnTo>
                    <a:lnTo>
                      <a:pt x="349" y="415"/>
                    </a:lnTo>
                    <a:lnTo>
                      <a:pt x="371" y="402"/>
                    </a:lnTo>
                    <a:lnTo>
                      <a:pt x="397" y="389"/>
                    </a:lnTo>
                    <a:lnTo>
                      <a:pt x="415" y="393"/>
                    </a:lnTo>
                    <a:lnTo>
                      <a:pt x="424" y="415"/>
                    </a:lnTo>
                    <a:lnTo>
                      <a:pt x="424" y="446"/>
                    </a:lnTo>
                    <a:lnTo>
                      <a:pt x="424" y="472"/>
                    </a:lnTo>
                    <a:lnTo>
                      <a:pt x="358" y="817"/>
                    </a:lnTo>
                    <a:lnTo>
                      <a:pt x="525" y="419"/>
                    </a:lnTo>
                    <a:lnTo>
                      <a:pt x="556" y="419"/>
                    </a:lnTo>
                    <a:lnTo>
                      <a:pt x="587" y="424"/>
                    </a:lnTo>
                    <a:lnTo>
                      <a:pt x="614" y="437"/>
                    </a:lnTo>
                    <a:lnTo>
                      <a:pt x="663" y="455"/>
                    </a:lnTo>
                    <a:lnTo>
                      <a:pt x="698" y="459"/>
                    </a:lnTo>
                    <a:lnTo>
                      <a:pt x="747" y="472"/>
                    </a:lnTo>
                    <a:lnTo>
                      <a:pt x="786" y="472"/>
                    </a:lnTo>
                    <a:lnTo>
                      <a:pt x="760" y="419"/>
                    </a:lnTo>
                    <a:lnTo>
                      <a:pt x="725" y="371"/>
                    </a:lnTo>
                    <a:lnTo>
                      <a:pt x="703" y="322"/>
                    </a:lnTo>
                    <a:lnTo>
                      <a:pt x="676" y="283"/>
                    </a:lnTo>
                    <a:lnTo>
                      <a:pt x="663" y="252"/>
                    </a:lnTo>
                    <a:lnTo>
                      <a:pt x="645" y="217"/>
                    </a:lnTo>
                    <a:lnTo>
                      <a:pt x="597" y="26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2"/>
                <a:tile tx="0" ty="0" sx="133018" sy="133018" algn="ctr"/>
              </a:blipFill>
              <a:ln w="12600">
                <a:solidFill>
                  <a:srgbClr val="fc5853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1235160" y="1270080"/>
                <a:ext cx="360720" cy="619560"/>
              </a:xfrm>
              <a:custGeom>
                <a:avLst/>
                <a:gdLst/>
                <a:ahLst/>
                <a:rect l="0" t="0" r="r" b="b"/>
                <a:pathLst>
                  <a:path w="1002" h="1721">
                    <a:moveTo>
                      <a:pt x="971" y="922"/>
                    </a:moveTo>
                    <a:lnTo>
                      <a:pt x="962" y="1028"/>
                    </a:lnTo>
                    <a:lnTo>
                      <a:pt x="935" y="1121"/>
                    </a:lnTo>
                    <a:lnTo>
                      <a:pt x="931" y="1182"/>
                    </a:lnTo>
                    <a:lnTo>
                      <a:pt x="927" y="1240"/>
                    </a:lnTo>
                    <a:lnTo>
                      <a:pt x="904" y="1316"/>
                    </a:lnTo>
                    <a:lnTo>
                      <a:pt x="887" y="1408"/>
                    </a:lnTo>
                    <a:lnTo>
                      <a:pt x="865" y="1474"/>
                    </a:lnTo>
                    <a:lnTo>
                      <a:pt x="830" y="1523"/>
                    </a:lnTo>
                    <a:lnTo>
                      <a:pt x="790" y="1567"/>
                    </a:lnTo>
                    <a:lnTo>
                      <a:pt x="755" y="1624"/>
                    </a:lnTo>
                    <a:lnTo>
                      <a:pt x="688" y="1664"/>
                    </a:lnTo>
                    <a:lnTo>
                      <a:pt x="644" y="1699"/>
                    </a:lnTo>
                    <a:lnTo>
                      <a:pt x="578" y="1712"/>
                    </a:lnTo>
                    <a:lnTo>
                      <a:pt x="489" y="1721"/>
                    </a:lnTo>
                    <a:lnTo>
                      <a:pt x="410" y="1712"/>
                    </a:lnTo>
                    <a:lnTo>
                      <a:pt x="366" y="1690"/>
                    </a:lnTo>
                    <a:lnTo>
                      <a:pt x="299" y="1646"/>
                    </a:lnTo>
                    <a:lnTo>
                      <a:pt x="260" y="1607"/>
                    </a:lnTo>
                    <a:lnTo>
                      <a:pt x="211" y="1571"/>
                    </a:lnTo>
                    <a:lnTo>
                      <a:pt x="176" y="1536"/>
                    </a:lnTo>
                    <a:lnTo>
                      <a:pt x="132" y="1479"/>
                    </a:lnTo>
                    <a:lnTo>
                      <a:pt x="105" y="1435"/>
                    </a:lnTo>
                    <a:lnTo>
                      <a:pt x="97" y="1386"/>
                    </a:lnTo>
                    <a:lnTo>
                      <a:pt x="74" y="1338"/>
                    </a:lnTo>
                    <a:lnTo>
                      <a:pt x="70" y="1279"/>
                    </a:lnTo>
                    <a:lnTo>
                      <a:pt x="66" y="1226"/>
                    </a:lnTo>
                    <a:lnTo>
                      <a:pt x="52" y="1182"/>
                    </a:lnTo>
                    <a:lnTo>
                      <a:pt x="48" y="1125"/>
                    </a:lnTo>
                    <a:lnTo>
                      <a:pt x="30" y="1041"/>
                    </a:lnTo>
                    <a:lnTo>
                      <a:pt x="4" y="944"/>
                    </a:lnTo>
                    <a:lnTo>
                      <a:pt x="0" y="794"/>
                    </a:lnTo>
                    <a:lnTo>
                      <a:pt x="0" y="662"/>
                    </a:lnTo>
                    <a:lnTo>
                      <a:pt x="4" y="525"/>
                    </a:lnTo>
                    <a:lnTo>
                      <a:pt x="17" y="401"/>
                    </a:lnTo>
                    <a:lnTo>
                      <a:pt x="39" y="317"/>
                    </a:lnTo>
                    <a:lnTo>
                      <a:pt x="66" y="229"/>
                    </a:lnTo>
                    <a:lnTo>
                      <a:pt x="114" y="136"/>
                    </a:lnTo>
                    <a:lnTo>
                      <a:pt x="163" y="83"/>
                    </a:lnTo>
                    <a:lnTo>
                      <a:pt x="229" y="48"/>
                    </a:lnTo>
                    <a:lnTo>
                      <a:pt x="339" y="17"/>
                    </a:lnTo>
                    <a:lnTo>
                      <a:pt x="449" y="0"/>
                    </a:lnTo>
                    <a:lnTo>
                      <a:pt x="574" y="0"/>
                    </a:lnTo>
                    <a:lnTo>
                      <a:pt x="728" y="8"/>
                    </a:lnTo>
                    <a:lnTo>
                      <a:pt x="812" y="30"/>
                    </a:lnTo>
                    <a:lnTo>
                      <a:pt x="865" y="74"/>
                    </a:lnTo>
                    <a:lnTo>
                      <a:pt x="927" y="136"/>
                    </a:lnTo>
                    <a:lnTo>
                      <a:pt x="953" y="229"/>
                    </a:lnTo>
                    <a:lnTo>
                      <a:pt x="988" y="343"/>
                    </a:lnTo>
                    <a:lnTo>
                      <a:pt x="1002" y="472"/>
                    </a:lnTo>
                    <a:lnTo>
                      <a:pt x="1002" y="565"/>
                    </a:lnTo>
                    <a:lnTo>
                      <a:pt x="1002" y="737"/>
                    </a:lnTo>
                    <a:lnTo>
                      <a:pt x="988" y="856"/>
                    </a:lnTo>
                    <a:lnTo>
                      <a:pt x="971" y="922"/>
                    </a:lnTo>
                    <a:close/>
                  </a:path>
                </a:pathLst>
              </a:custGeom>
              <a:solidFill>
                <a:srgbClr val="ffdfb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1496880" y="1301760"/>
                <a:ext cx="95760" cy="563760"/>
              </a:xfrm>
              <a:custGeom>
                <a:avLst/>
                <a:gdLst/>
                <a:ahLst/>
                <a:rect l="0" t="0" r="r" b="b"/>
                <a:pathLst>
                  <a:path w="266" h="1566">
                    <a:moveTo>
                      <a:pt x="240" y="847"/>
                    </a:moveTo>
                    <a:lnTo>
                      <a:pt x="231" y="944"/>
                    </a:lnTo>
                    <a:lnTo>
                      <a:pt x="209" y="1041"/>
                    </a:lnTo>
                    <a:lnTo>
                      <a:pt x="204" y="1103"/>
                    </a:lnTo>
                    <a:lnTo>
                      <a:pt x="195" y="1165"/>
                    </a:lnTo>
                    <a:lnTo>
                      <a:pt x="181" y="1240"/>
                    </a:lnTo>
                    <a:lnTo>
                      <a:pt x="172" y="1306"/>
                    </a:lnTo>
                    <a:lnTo>
                      <a:pt x="159" y="1368"/>
                    </a:lnTo>
                    <a:lnTo>
                      <a:pt x="133" y="1398"/>
                    </a:lnTo>
                    <a:lnTo>
                      <a:pt x="111" y="1447"/>
                    </a:lnTo>
                    <a:lnTo>
                      <a:pt x="61" y="1509"/>
                    </a:lnTo>
                    <a:lnTo>
                      <a:pt x="0" y="1566"/>
                    </a:lnTo>
                    <a:lnTo>
                      <a:pt x="35" y="1535"/>
                    </a:lnTo>
                    <a:lnTo>
                      <a:pt x="61" y="1478"/>
                    </a:lnTo>
                    <a:lnTo>
                      <a:pt x="80" y="1429"/>
                    </a:lnTo>
                    <a:lnTo>
                      <a:pt x="93" y="1385"/>
                    </a:lnTo>
                    <a:lnTo>
                      <a:pt x="93" y="1328"/>
                    </a:lnTo>
                    <a:lnTo>
                      <a:pt x="93" y="1293"/>
                    </a:lnTo>
                    <a:lnTo>
                      <a:pt x="75" y="1231"/>
                    </a:lnTo>
                    <a:lnTo>
                      <a:pt x="93" y="1218"/>
                    </a:lnTo>
                    <a:lnTo>
                      <a:pt x="124" y="1169"/>
                    </a:lnTo>
                    <a:lnTo>
                      <a:pt x="142" y="1129"/>
                    </a:lnTo>
                    <a:lnTo>
                      <a:pt x="159" y="1081"/>
                    </a:lnTo>
                    <a:lnTo>
                      <a:pt x="168" y="1015"/>
                    </a:lnTo>
                    <a:lnTo>
                      <a:pt x="177" y="957"/>
                    </a:lnTo>
                    <a:lnTo>
                      <a:pt x="177" y="913"/>
                    </a:lnTo>
                    <a:lnTo>
                      <a:pt x="177" y="878"/>
                    </a:lnTo>
                    <a:lnTo>
                      <a:pt x="168" y="847"/>
                    </a:lnTo>
                    <a:lnTo>
                      <a:pt x="146" y="816"/>
                    </a:lnTo>
                    <a:lnTo>
                      <a:pt x="159" y="790"/>
                    </a:lnTo>
                    <a:lnTo>
                      <a:pt x="168" y="762"/>
                    </a:lnTo>
                    <a:lnTo>
                      <a:pt x="177" y="709"/>
                    </a:lnTo>
                    <a:lnTo>
                      <a:pt x="137" y="670"/>
                    </a:lnTo>
                    <a:lnTo>
                      <a:pt x="120" y="661"/>
                    </a:lnTo>
                    <a:lnTo>
                      <a:pt x="133" y="630"/>
                    </a:lnTo>
                    <a:lnTo>
                      <a:pt x="142" y="586"/>
                    </a:lnTo>
                    <a:lnTo>
                      <a:pt x="146" y="551"/>
                    </a:lnTo>
                    <a:lnTo>
                      <a:pt x="142" y="493"/>
                    </a:lnTo>
                    <a:lnTo>
                      <a:pt x="133" y="463"/>
                    </a:lnTo>
                    <a:lnTo>
                      <a:pt x="120" y="414"/>
                    </a:lnTo>
                    <a:lnTo>
                      <a:pt x="67" y="343"/>
                    </a:lnTo>
                    <a:lnTo>
                      <a:pt x="35" y="299"/>
                    </a:lnTo>
                    <a:lnTo>
                      <a:pt x="0" y="242"/>
                    </a:lnTo>
                    <a:lnTo>
                      <a:pt x="8" y="171"/>
                    </a:lnTo>
                    <a:lnTo>
                      <a:pt x="35" y="105"/>
                    </a:lnTo>
                    <a:lnTo>
                      <a:pt x="75" y="22"/>
                    </a:lnTo>
                    <a:lnTo>
                      <a:pt x="137" y="0"/>
                    </a:lnTo>
                    <a:lnTo>
                      <a:pt x="186" y="52"/>
                    </a:lnTo>
                    <a:lnTo>
                      <a:pt x="222" y="145"/>
                    </a:lnTo>
                    <a:lnTo>
                      <a:pt x="253" y="264"/>
                    </a:lnTo>
                    <a:lnTo>
                      <a:pt x="262" y="388"/>
                    </a:lnTo>
                    <a:lnTo>
                      <a:pt x="266" y="485"/>
                    </a:lnTo>
                    <a:lnTo>
                      <a:pt x="262" y="652"/>
                    </a:lnTo>
                    <a:lnTo>
                      <a:pt x="253" y="771"/>
                    </a:lnTo>
                    <a:lnTo>
                      <a:pt x="240" y="847"/>
                    </a:lnTo>
                    <a:close/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344600" y="1776240"/>
                <a:ext cx="149760" cy="32040"/>
              </a:xfrm>
              <a:custGeom>
                <a:avLst/>
                <a:gdLst/>
                <a:ahLst/>
                <a:rect l="0" t="0" r="r" b="b"/>
                <a:pathLst>
                  <a:path w="416" h="89">
                    <a:moveTo>
                      <a:pt x="0" y="4"/>
                    </a:moveTo>
                    <a:lnTo>
                      <a:pt x="22" y="8"/>
                    </a:lnTo>
                    <a:lnTo>
                      <a:pt x="57" y="8"/>
                    </a:lnTo>
                    <a:lnTo>
                      <a:pt x="92" y="4"/>
                    </a:lnTo>
                    <a:lnTo>
                      <a:pt x="115" y="4"/>
                    </a:lnTo>
                    <a:lnTo>
                      <a:pt x="137" y="4"/>
                    </a:lnTo>
                    <a:lnTo>
                      <a:pt x="164" y="4"/>
                    </a:lnTo>
                    <a:lnTo>
                      <a:pt x="186" y="4"/>
                    </a:lnTo>
                    <a:lnTo>
                      <a:pt x="212" y="4"/>
                    </a:lnTo>
                    <a:lnTo>
                      <a:pt x="225" y="4"/>
                    </a:lnTo>
                    <a:lnTo>
                      <a:pt x="247" y="4"/>
                    </a:lnTo>
                    <a:lnTo>
                      <a:pt x="283" y="0"/>
                    </a:lnTo>
                    <a:lnTo>
                      <a:pt x="309" y="0"/>
                    </a:lnTo>
                    <a:lnTo>
                      <a:pt x="328" y="0"/>
                    </a:lnTo>
                    <a:lnTo>
                      <a:pt x="363" y="4"/>
                    </a:lnTo>
                    <a:lnTo>
                      <a:pt x="381" y="4"/>
                    </a:lnTo>
                    <a:lnTo>
                      <a:pt x="416" y="4"/>
                    </a:lnTo>
                    <a:lnTo>
                      <a:pt x="372" y="26"/>
                    </a:lnTo>
                    <a:lnTo>
                      <a:pt x="354" y="39"/>
                    </a:lnTo>
                    <a:lnTo>
                      <a:pt x="328" y="62"/>
                    </a:lnTo>
                    <a:lnTo>
                      <a:pt x="305" y="71"/>
                    </a:lnTo>
                    <a:lnTo>
                      <a:pt x="292" y="80"/>
                    </a:lnTo>
                    <a:lnTo>
                      <a:pt x="269" y="89"/>
                    </a:lnTo>
                    <a:lnTo>
                      <a:pt x="234" y="89"/>
                    </a:lnTo>
                    <a:lnTo>
                      <a:pt x="199" y="89"/>
                    </a:lnTo>
                    <a:lnTo>
                      <a:pt x="159" y="80"/>
                    </a:lnTo>
                    <a:lnTo>
                      <a:pt x="128" y="71"/>
                    </a:lnTo>
                    <a:lnTo>
                      <a:pt x="97" y="62"/>
                    </a:lnTo>
                    <a:lnTo>
                      <a:pt x="66" y="45"/>
                    </a:lnTo>
                    <a:lnTo>
                      <a:pt x="30" y="26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001f"/>
              </a:solidFill>
              <a:ln w="0">
                <a:noFill/>
              </a:ln>
            </p:spPr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1344600" y="1776240"/>
                <a:ext cx="149760" cy="8280"/>
              </a:xfrm>
              <a:custGeom>
                <a:avLst/>
                <a:gdLst/>
                <a:ahLst/>
                <a:rect l="0" t="0" r="r" b="b"/>
                <a:pathLst>
                  <a:path w="416" h="23">
                    <a:moveTo>
                      <a:pt x="0" y="0"/>
                    </a:moveTo>
                    <a:lnTo>
                      <a:pt x="22" y="4"/>
                    </a:lnTo>
                    <a:lnTo>
                      <a:pt x="57" y="4"/>
                    </a:lnTo>
                    <a:lnTo>
                      <a:pt x="92" y="0"/>
                    </a:lnTo>
                    <a:lnTo>
                      <a:pt x="115" y="0"/>
                    </a:lnTo>
                    <a:lnTo>
                      <a:pt x="137" y="0"/>
                    </a:lnTo>
                    <a:lnTo>
                      <a:pt x="164" y="0"/>
                    </a:lnTo>
                    <a:lnTo>
                      <a:pt x="186" y="0"/>
                    </a:lnTo>
                    <a:lnTo>
                      <a:pt x="212" y="0"/>
                    </a:lnTo>
                    <a:lnTo>
                      <a:pt x="225" y="0"/>
                    </a:lnTo>
                    <a:lnTo>
                      <a:pt x="247" y="0"/>
                    </a:lnTo>
                    <a:lnTo>
                      <a:pt x="283" y="0"/>
                    </a:lnTo>
                    <a:lnTo>
                      <a:pt x="309" y="0"/>
                    </a:lnTo>
                    <a:lnTo>
                      <a:pt x="328" y="0"/>
                    </a:lnTo>
                    <a:lnTo>
                      <a:pt x="363" y="0"/>
                    </a:lnTo>
                    <a:lnTo>
                      <a:pt x="381" y="0"/>
                    </a:lnTo>
                    <a:lnTo>
                      <a:pt x="416" y="0"/>
                    </a:lnTo>
                    <a:lnTo>
                      <a:pt x="376" y="14"/>
                    </a:lnTo>
                    <a:lnTo>
                      <a:pt x="363" y="14"/>
                    </a:lnTo>
                    <a:lnTo>
                      <a:pt x="337" y="14"/>
                    </a:lnTo>
                    <a:lnTo>
                      <a:pt x="309" y="14"/>
                    </a:lnTo>
                    <a:lnTo>
                      <a:pt x="283" y="23"/>
                    </a:lnTo>
                    <a:lnTo>
                      <a:pt x="261" y="23"/>
                    </a:lnTo>
                    <a:lnTo>
                      <a:pt x="225" y="23"/>
                    </a:lnTo>
                    <a:lnTo>
                      <a:pt x="199" y="23"/>
                    </a:lnTo>
                    <a:lnTo>
                      <a:pt x="168" y="23"/>
                    </a:lnTo>
                    <a:lnTo>
                      <a:pt x="128" y="14"/>
                    </a:lnTo>
                    <a:lnTo>
                      <a:pt x="97" y="14"/>
                    </a:lnTo>
                    <a:lnTo>
                      <a:pt x="61" y="14"/>
                    </a:lnTo>
                    <a:lnTo>
                      <a:pt x="35" y="14"/>
                    </a:lnTo>
                    <a:lnTo>
                      <a:pt x="22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1398600" y="1805040"/>
                <a:ext cx="49680" cy="5040"/>
              </a:xfrm>
              <a:custGeom>
                <a:avLst/>
                <a:gdLst/>
                <a:ahLst/>
                <a:rect l="0" t="0" r="r" b="b"/>
                <a:pathLst>
                  <a:path w="138" h="14">
                    <a:moveTo>
                      <a:pt x="0" y="9"/>
                    </a:moveTo>
                    <a:lnTo>
                      <a:pt x="17" y="9"/>
                    </a:lnTo>
                    <a:lnTo>
                      <a:pt x="36" y="0"/>
                    </a:lnTo>
                    <a:lnTo>
                      <a:pt x="53" y="0"/>
                    </a:lnTo>
                    <a:lnTo>
                      <a:pt x="71" y="0"/>
                    </a:lnTo>
                    <a:lnTo>
                      <a:pt x="89" y="0"/>
                    </a:lnTo>
                    <a:lnTo>
                      <a:pt x="112" y="9"/>
                    </a:lnTo>
                    <a:lnTo>
                      <a:pt x="129" y="9"/>
                    </a:lnTo>
                    <a:lnTo>
                      <a:pt x="138" y="14"/>
                    </a:lnTo>
                    <a:lnTo>
                      <a:pt x="125" y="9"/>
                    </a:lnTo>
                    <a:lnTo>
                      <a:pt x="102" y="9"/>
                    </a:lnTo>
                    <a:lnTo>
                      <a:pt x="89" y="9"/>
                    </a:lnTo>
                    <a:lnTo>
                      <a:pt x="71" y="9"/>
                    </a:lnTo>
                    <a:lnTo>
                      <a:pt x="62" y="9"/>
                    </a:lnTo>
                    <a:lnTo>
                      <a:pt x="49" y="9"/>
                    </a:lnTo>
                    <a:lnTo>
                      <a:pt x="30" y="9"/>
                    </a:lnTo>
                    <a:lnTo>
                      <a:pt x="17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1378080" y="1538280"/>
                <a:ext cx="179640" cy="200520"/>
              </a:xfrm>
              <a:custGeom>
                <a:avLst/>
                <a:gdLst/>
                <a:ahLst/>
                <a:rect l="0" t="0" r="r" b="b"/>
                <a:pathLst>
                  <a:path w="499" h="557">
                    <a:moveTo>
                      <a:pt x="4" y="456"/>
                    </a:moveTo>
                    <a:lnTo>
                      <a:pt x="4" y="478"/>
                    </a:lnTo>
                    <a:lnTo>
                      <a:pt x="8" y="491"/>
                    </a:lnTo>
                    <a:lnTo>
                      <a:pt x="26" y="504"/>
                    </a:lnTo>
                    <a:lnTo>
                      <a:pt x="35" y="504"/>
                    </a:lnTo>
                    <a:lnTo>
                      <a:pt x="52" y="504"/>
                    </a:lnTo>
                    <a:lnTo>
                      <a:pt x="66" y="504"/>
                    </a:lnTo>
                    <a:lnTo>
                      <a:pt x="74" y="509"/>
                    </a:lnTo>
                    <a:lnTo>
                      <a:pt x="79" y="531"/>
                    </a:lnTo>
                    <a:lnTo>
                      <a:pt x="88" y="531"/>
                    </a:lnTo>
                    <a:lnTo>
                      <a:pt x="110" y="531"/>
                    </a:lnTo>
                    <a:lnTo>
                      <a:pt x="132" y="531"/>
                    </a:lnTo>
                    <a:lnTo>
                      <a:pt x="141" y="531"/>
                    </a:lnTo>
                    <a:lnTo>
                      <a:pt x="158" y="517"/>
                    </a:lnTo>
                    <a:lnTo>
                      <a:pt x="158" y="504"/>
                    </a:lnTo>
                    <a:lnTo>
                      <a:pt x="185" y="491"/>
                    </a:lnTo>
                    <a:lnTo>
                      <a:pt x="207" y="491"/>
                    </a:lnTo>
                    <a:lnTo>
                      <a:pt x="220" y="491"/>
                    </a:lnTo>
                    <a:lnTo>
                      <a:pt x="229" y="478"/>
                    </a:lnTo>
                    <a:lnTo>
                      <a:pt x="229" y="465"/>
                    </a:lnTo>
                    <a:lnTo>
                      <a:pt x="224" y="429"/>
                    </a:lnTo>
                    <a:lnTo>
                      <a:pt x="220" y="397"/>
                    </a:lnTo>
                    <a:lnTo>
                      <a:pt x="207" y="384"/>
                    </a:lnTo>
                    <a:lnTo>
                      <a:pt x="185" y="469"/>
                    </a:lnTo>
                    <a:lnTo>
                      <a:pt x="185" y="438"/>
                    </a:lnTo>
                    <a:lnTo>
                      <a:pt x="185" y="429"/>
                    </a:lnTo>
                    <a:lnTo>
                      <a:pt x="171" y="406"/>
                    </a:lnTo>
                    <a:lnTo>
                      <a:pt x="158" y="397"/>
                    </a:lnTo>
                    <a:lnTo>
                      <a:pt x="158" y="384"/>
                    </a:lnTo>
                    <a:lnTo>
                      <a:pt x="145" y="199"/>
                    </a:lnTo>
                    <a:lnTo>
                      <a:pt x="158" y="159"/>
                    </a:lnTo>
                    <a:lnTo>
                      <a:pt x="163" y="127"/>
                    </a:lnTo>
                    <a:lnTo>
                      <a:pt x="176" y="114"/>
                    </a:lnTo>
                    <a:lnTo>
                      <a:pt x="189" y="88"/>
                    </a:lnTo>
                    <a:lnTo>
                      <a:pt x="211" y="61"/>
                    </a:lnTo>
                    <a:lnTo>
                      <a:pt x="233" y="35"/>
                    </a:lnTo>
                    <a:lnTo>
                      <a:pt x="261" y="26"/>
                    </a:lnTo>
                    <a:lnTo>
                      <a:pt x="287" y="8"/>
                    </a:lnTo>
                    <a:lnTo>
                      <a:pt x="340" y="0"/>
                    </a:lnTo>
                    <a:lnTo>
                      <a:pt x="305" y="26"/>
                    </a:lnTo>
                    <a:lnTo>
                      <a:pt x="287" y="61"/>
                    </a:lnTo>
                    <a:lnTo>
                      <a:pt x="283" y="74"/>
                    </a:lnTo>
                    <a:lnTo>
                      <a:pt x="292" y="92"/>
                    </a:lnTo>
                    <a:lnTo>
                      <a:pt x="305" y="114"/>
                    </a:lnTo>
                    <a:lnTo>
                      <a:pt x="340" y="83"/>
                    </a:lnTo>
                    <a:lnTo>
                      <a:pt x="367" y="88"/>
                    </a:lnTo>
                    <a:lnTo>
                      <a:pt x="393" y="83"/>
                    </a:lnTo>
                    <a:lnTo>
                      <a:pt x="428" y="88"/>
                    </a:lnTo>
                    <a:lnTo>
                      <a:pt x="455" y="88"/>
                    </a:lnTo>
                    <a:lnTo>
                      <a:pt x="477" y="83"/>
                    </a:lnTo>
                    <a:lnTo>
                      <a:pt x="499" y="61"/>
                    </a:lnTo>
                    <a:lnTo>
                      <a:pt x="499" y="83"/>
                    </a:lnTo>
                    <a:lnTo>
                      <a:pt x="486" y="114"/>
                    </a:lnTo>
                    <a:lnTo>
                      <a:pt x="468" y="142"/>
                    </a:lnTo>
                    <a:lnTo>
                      <a:pt x="446" y="159"/>
                    </a:lnTo>
                    <a:lnTo>
                      <a:pt x="428" y="177"/>
                    </a:lnTo>
                    <a:lnTo>
                      <a:pt x="229" y="168"/>
                    </a:lnTo>
                    <a:lnTo>
                      <a:pt x="220" y="168"/>
                    </a:lnTo>
                    <a:lnTo>
                      <a:pt x="198" y="186"/>
                    </a:lnTo>
                    <a:lnTo>
                      <a:pt x="189" y="199"/>
                    </a:lnTo>
                    <a:lnTo>
                      <a:pt x="185" y="208"/>
                    </a:lnTo>
                    <a:lnTo>
                      <a:pt x="185" y="239"/>
                    </a:lnTo>
                    <a:lnTo>
                      <a:pt x="185" y="252"/>
                    </a:lnTo>
                    <a:lnTo>
                      <a:pt x="189" y="261"/>
                    </a:lnTo>
                    <a:lnTo>
                      <a:pt x="198" y="269"/>
                    </a:lnTo>
                    <a:lnTo>
                      <a:pt x="211" y="278"/>
                    </a:lnTo>
                    <a:lnTo>
                      <a:pt x="233" y="300"/>
                    </a:lnTo>
                    <a:lnTo>
                      <a:pt x="252" y="300"/>
                    </a:lnTo>
                    <a:lnTo>
                      <a:pt x="185" y="269"/>
                    </a:lnTo>
                    <a:lnTo>
                      <a:pt x="185" y="300"/>
                    </a:lnTo>
                    <a:lnTo>
                      <a:pt x="185" y="331"/>
                    </a:lnTo>
                    <a:lnTo>
                      <a:pt x="189" y="380"/>
                    </a:lnTo>
                    <a:lnTo>
                      <a:pt x="198" y="380"/>
                    </a:lnTo>
                    <a:lnTo>
                      <a:pt x="211" y="389"/>
                    </a:lnTo>
                    <a:lnTo>
                      <a:pt x="224" y="411"/>
                    </a:lnTo>
                    <a:lnTo>
                      <a:pt x="233" y="447"/>
                    </a:lnTo>
                    <a:lnTo>
                      <a:pt x="233" y="469"/>
                    </a:lnTo>
                    <a:lnTo>
                      <a:pt x="233" y="491"/>
                    </a:lnTo>
                    <a:lnTo>
                      <a:pt x="224" y="504"/>
                    </a:lnTo>
                    <a:lnTo>
                      <a:pt x="216" y="504"/>
                    </a:lnTo>
                    <a:lnTo>
                      <a:pt x="211" y="509"/>
                    </a:lnTo>
                    <a:lnTo>
                      <a:pt x="189" y="509"/>
                    </a:lnTo>
                    <a:lnTo>
                      <a:pt x="176" y="513"/>
                    </a:lnTo>
                    <a:lnTo>
                      <a:pt x="158" y="531"/>
                    </a:lnTo>
                    <a:lnTo>
                      <a:pt x="154" y="553"/>
                    </a:lnTo>
                    <a:lnTo>
                      <a:pt x="136" y="557"/>
                    </a:lnTo>
                    <a:lnTo>
                      <a:pt x="123" y="557"/>
                    </a:lnTo>
                    <a:lnTo>
                      <a:pt x="114" y="557"/>
                    </a:lnTo>
                    <a:lnTo>
                      <a:pt x="88" y="557"/>
                    </a:lnTo>
                    <a:lnTo>
                      <a:pt x="83" y="548"/>
                    </a:lnTo>
                    <a:lnTo>
                      <a:pt x="66" y="531"/>
                    </a:lnTo>
                    <a:lnTo>
                      <a:pt x="57" y="517"/>
                    </a:lnTo>
                    <a:lnTo>
                      <a:pt x="44" y="517"/>
                    </a:lnTo>
                    <a:lnTo>
                      <a:pt x="26" y="517"/>
                    </a:lnTo>
                    <a:lnTo>
                      <a:pt x="13" y="509"/>
                    </a:lnTo>
                    <a:lnTo>
                      <a:pt x="4" y="504"/>
                    </a:lnTo>
                    <a:lnTo>
                      <a:pt x="0" y="491"/>
                    </a:lnTo>
                    <a:lnTo>
                      <a:pt x="4" y="456"/>
                    </a:lnTo>
                    <a:close/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1411200" y="1704960"/>
                <a:ext cx="1440" cy="1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162080" y="1243080"/>
                <a:ext cx="506880" cy="435240"/>
              </a:xfrm>
              <a:custGeom>
                <a:avLst/>
                <a:gdLst/>
                <a:ahLst/>
                <a:rect l="0" t="0" r="r" b="b"/>
                <a:pathLst>
                  <a:path w="1408" h="1209">
                    <a:moveTo>
                      <a:pt x="242" y="1209"/>
                    </a:moveTo>
                    <a:lnTo>
                      <a:pt x="224" y="1187"/>
                    </a:lnTo>
                    <a:lnTo>
                      <a:pt x="202" y="1151"/>
                    </a:lnTo>
                    <a:lnTo>
                      <a:pt x="194" y="1134"/>
                    </a:lnTo>
                    <a:lnTo>
                      <a:pt x="185" y="1112"/>
                    </a:lnTo>
                    <a:lnTo>
                      <a:pt x="176" y="1099"/>
                    </a:lnTo>
                    <a:lnTo>
                      <a:pt x="149" y="1085"/>
                    </a:lnTo>
                    <a:lnTo>
                      <a:pt x="127" y="1076"/>
                    </a:lnTo>
                    <a:lnTo>
                      <a:pt x="92" y="1050"/>
                    </a:lnTo>
                    <a:lnTo>
                      <a:pt x="88" y="1028"/>
                    </a:lnTo>
                    <a:lnTo>
                      <a:pt x="57" y="1006"/>
                    </a:lnTo>
                    <a:lnTo>
                      <a:pt x="48" y="988"/>
                    </a:lnTo>
                    <a:lnTo>
                      <a:pt x="39" y="949"/>
                    </a:lnTo>
                    <a:lnTo>
                      <a:pt x="35" y="922"/>
                    </a:lnTo>
                    <a:lnTo>
                      <a:pt x="26" y="887"/>
                    </a:lnTo>
                    <a:lnTo>
                      <a:pt x="13" y="852"/>
                    </a:lnTo>
                    <a:lnTo>
                      <a:pt x="13" y="759"/>
                    </a:lnTo>
                    <a:lnTo>
                      <a:pt x="8" y="666"/>
                    </a:lnTo>
                    <a:lnTo>
                      <a:pt x="0" y="577"/>
                    </a:lnTo>
                    <a:lnTo>
                      <a:pt x="13" y="542"/>
                    </a:lnTo>
                    <a:lnTo>
                      <a:pt x="26" y="498"/>
                    </a:lnTo>
                    <a:lnTo>
                      <a:pt x="35" y="454"/>
                    </a:lnTo>
                    <a:lnTo>
                      <a:pt x="48" y="401"/>
                    </a:lnTo>
                    <a:lnTo>
                      <a:pt x="88" y="317"/>
                    </a:lnTo>
                    <a:lnTo>
                      <a:pt x="132" y="255"/>
                    </a:lnTo>
                    <a:lnTo>
                      <a:pt x="167" y="220"/>
                    </a:lnTo>
                    <a:lnTo>
                      <a:pt x="198" y="180"/>
                    </a:lnTo>
                    <a:lnTo>
                      <a:pt x="273" y="136"/>
                    </a:lnTo>
                    <a:lnTo>
                      <a:pt x="343" y="92"/>
                    </a:lnTo>
                    <a:lnTo>
                      <a:pt x="428" y="44"/>
                    </a:lnTo>
                    <a:lnTo>
                      <a:pt x="521" y="17"/>
                    </a:lnTo>
                    <a:lnTo>
                      <a:pt x="618" y="13"/>
                    </a:lnTo>
                    <a:lnTo>
                      <a:pt x="702" y="0"/>
                    </a:lnTo>
                    <a:lnTo>
                      <a:pt x="781" y="0"/>
                    </a:lnTo>
                    <a:lnTo>
                      <a:pt x="887" y="4"/>
                    </a:lnTo>
                    <a:lnTo>
                      <a:pt x="944" y="44"/>
                    </a:lnTo>
                    <a:lnTo>
                      <a:pt x="993" y="57"/>
                    </a:lnTo>
                    <a:lnTo>
                      <a:pt x="1060" y="74"/>
                    </a:lnTo>
                    <a:lnTo>
                      <a:pt x="1108" y="92"/>
                    </a:lnTo>
                    <a:lnTo>
                      <a:pt x="1166" y="127"/>
                    </a:lnTo>
                    <a:lnTo>
                      <a:pt x="1223" y="194"/>
                    </a:lnTo>
                    <a:lnTo>
                      <a:pt x="1267" y="246"/>
                    </a:lnTo>
                    <a:lnTo>
                      <a:pt x="1298" y="286"/>
                    </a:lnTo>
                    <a:lnTo>
                      <a:pt x="1324" y="330"/>
                    </a:lnTo>
                    <a:lnTo>
                      <a:pt x="1360" y="388"/>
                    </a:lnTo>
                    <a:lnTo>
                      <a:pt x="1391" y="449"/>
                    </a:lnTo>
                    <a:lnTo>
                      <a:pt x="1399" y="542"/>
                    </a:lnTo>
                    <a:lnTo>
                      <a:pt x="1408" y="666"/>
                    </a:lnTo>
                    <a:lnTo>
                      <a:pt x="1399" y="719"/>
                    </a:lnTo>
                    <a:lnTo>
                      <a:pt x="1391" y="799"/>
                    </a:lnTo>
                    <a:lnTo>
                      <a:pt x="1373" y="860"/>
                    </a:lnTo>
                    <a:lnTo>
                      <a:pt x="1351" y="904"/>
                    </a:lnTo>
                    <a:lnTo>
                      <a:pt x="1311" y="957"/>
                    </a:lnTo>
                    <a:lnTo>
                      <a:pt x="1298" y="988"/>
                    </a:lnTo>
                    <a:lnTo>
                      <a:pt x="1236" y="1041"/>
                    </a:lnTo>
                    <a:lnTo>
                      <a:pt x="1201" y="1090"/>
                    </a:lnTo>
                    <a:lnTo>
                      <a:pt x="1174" y="1151"/>
                    </a:lnTo>
                    <a:lnTo>
                      <a:pt x="1139" y="1200"/>
                    </a:lnTo>
                    <a:lnTo>
                      <a:pt x="1166" y="1107"/>
                    </a:lnTo>
                    <a:lnTo>
                      <a:pt x="1166" y="1028"/>
                    </a:lnTo>
                    <a:lnTo>
                      <a:pt x="1174" y="927"/>
                    </a:lnTo>
                    <a:lnTo>
                      <a:pt x="1157" y="904"/>
                    </a:lnTo>
                    <a:lnTo>
                      <a:pt x="1144" y="860"/>
                    </a:lnTo>
                    <a:lnTo>
                      <a:pt x="1157" y="816"/>
                    </a:lnTo>
                    <a:lnTo>
                      <a:pt x="1157" y="781"/>
                    </a:lnTo>
                    <a:lnTo>
                      <a:pt x="1139" y="706"/>
                    </a:lnTo>
                    <a:lnTo>
                      <a:pt x="1135" y="662"/>
                    </a:lnTo>
                    <a:lnTo>
                      <a:pt x="1135" y="627"/>
                    </a:lnTo>
                    <a:lnTo>
                      <a:pt x="1113" y="577"/>
                    </a:lnTo>
                    <a:lnTo>
                      <a:pt x="1095" y="542"/>
                    </a:lnTo>
                    <a:lnTo>
                      <a:pt x="1077" y="502"/>
                    </a:lnTo>
                    <a:lnTo>
                      <a:pt x="1060" y="471"/>
                    </a:lnTo>
                    <a:lnTo>
                      <a:pt x="1006" y="449"/>
                    </a:lnTo>
                    <a:lnTo>
                      <a:pt x="971" y="401"/>
                    </a:lnTo>
                    <a:lnTo>
                      <a:pt x="927" y="388"/>
                    </a:lnTo>
                    <a:lnTo>
                      <a:pt x="887" y="388"/>
                    </a:lnTo>
                    <a:lnTo>
                      <a:pt x="896" y="348"/>
                    </a:lnTo>
                    <a:lnTo>
                      <a:pt x="852" y="357"/>
                    </a:lnTo>
                    <a:lnTo>
                      <a:pt x="816" y="374"/>
                    </a:lnTo>
                    <a:lnTo>
                      <a:pt x="781" y="388"/>
                    </a:lnTo>
                    <a:lnTo>
                      <a:pt x="733" y="396"/>
                    </a:lnTo>
                    <a:lnTo>
                      <a:pt x="693" y="388"/>
                    </a:lnTo>
                    <a:lnTo>
                      <a:pt x="653" y="379"/>
                    </a:lnTo>
                    <a:lnTo>
                      <a:pt x="618" y="361"/>
                    </a:lnTo>
                    <a:lnTo>
                      <a:pt x="569" y="357"/>
                    </a:lnTo>
                    <a:lnTo>
                      <a:pt x="543" y="357"/>
                    </a:lnTo>
                    <a:lnTo>
                      <a:pt x="521" y="379"/>
                    </a:lnTo>
                    <a:lnTo>
                      <a:pt x="499" y="401"/>
                    </a:lnTo>
                    <a:lnTo>
                      <a:pt x="472" y="436"/>
                    </a:lnTo>
                    <a:lnTo>
                      <a:pt x="459" y="485"/>
                    </a:lnTo>
                    <a:lnTo>
                      <a:pt x="428" y="524"/>
                    </a:lnTo>
                    <a:lnTo>
                      <a:pt x="415" y="586"/>
                    </a:lnTo>
                    <a:lnTo>
                      <a:pt x="393" y="693"/>
                    </a:lnTo>
                    <a:lnTo>
                      <a:pt x="371" y="799"/>
                    </a:lnTo>
                    <a:lnTo>
                      <a:pt x="343" y="860"/>
                    </a:lnTo>
                    <a:lnTo>
                      <a:pt x="268" y="1028"/>
                    </a:lnTo>
                    <a:lnTo>
                      <a:pt x="273" y="988"/>
                    </a:lnTo>
                    <a:lnTo>
                      <a:pt x="273" y="957"/>
                    </a:lnTo>
                    <a:lnTo>
                      <a:pt x="277" y="931"/>
                    </a:lnTo>
                    <a:lnTo>
                      <a:pt x="291" y="878"/>
                    </a:lnTo>
                    <a:lnTo>
                      <a:pt x="264" y="918"/>
                    </a:lnTo>
                    <a:lnTo>
                      <a:pt x="246" y="940"/>
                    </a:lnTo>
                    <a:lnTo>
                      <a:pt x="238" y="962"/>
                    </a:lnTo>
                    <a:lnTo>
                      <a:pt x="224" y="997"/>
                    </a:lnTo>
                    <a:lnTo>
                      <a:pt x="224" y="1015"/>
                    </a:lnTo>
                    <a:lnTo>
                      <a:pt x="216" y="1041"/>
                    </a:lnTo>
                    <a:lnTo>
                      <a:pt x="216" y="1085"/>
                    </a:lnTo>
                    <a:lnTo>
                      <a:pt x="224" y="1112"/>
                    </a:lnTo>
                    <a:lnTo>
                      <a:pt x="224" y="1138"/>
                    </a:lnTo>
                    <a:lnTo>
                      <a:pt x="233" y="1147"/>
                    </a:lnTo>
                    <a:lnTo>
                      <a:pt x="238" y="1187"/>
                    </a:lnTo>
                    <a:lnTo>
                      <a:pt x="242" y="1209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1252440" y="1243080"/>
                <a:ext cx="416160" cy="430560"/>
              </a:xfrm>
              <a:custGeom>
                <a:avLst/>
                <a:gdLst/>
                <a:ahLst/>
                <a:rect l="0" t="0" r="r" b="b"/>
                <a:pathLst>
                  <a:path w="1156" h="1196">
                    <a:moveTo>
                      <a:pt x="35" y="825"/>
                    </a:moveTo>
                    <a:lnTo>
                      <a:pt x="22" y="763"/>
                    </a:lnTo>
                    <a:lnTo>
                      <a:pt x="17" y="693"/>
                    </a:lnTo>
                    <a:lnTo>
                      <a:pt x="4" y="627"/>
                    </a:lnTo>
                    <a:lnTo>
                      <a:pt x="0" y="560"/>
                    </a:lnTo>
                    <a:lnTo>
                      <a:pt x="0" y="471"/>
                    </a:lnTo>
                    <a:lnTo>
                      <a:pt x="4" y="388"/>
                    </a:lnTo>
                    <a:lnTo>
                      <a:pt x="48" y="273"/>
                    </a:lnTo>
                    <a:lnTo>
                      <a:pt x="79" y="207"/>
                    </a:lnTo>
                    <a:lnTo>
                      <a:pt x="127" y="136"/>
                    </a:lnTo>
                    <a:lnTo>
                      <a:pt x="185" y="97"/>
                    </a:lnTo>
                    <a:lnTo>
                      <a:pt x="273" y="30"/>
                    </a:lnTo>
                    <a:lnTo>
                      <a:pt x="357" y="0"/>
                    </a:lnTo>
                    <a:lnTo>
                      <a:pt x="454" y="0"/>
                    </a:lnTo>
                    <a:lnTo>
                      <a:pt x="533" y="0"/>
                    </a:lnTo>
                    <a:lnTo>
                      <a:pt x="640" y="4"/>
                    </a:lnTo>
                    <a:lnTo>
                      <a:pt x="697" y="44"/>
                    </a:lnTo>
                    <a:lnTo>
                      <a:pt x="741" y="119"/>
                    </a:lnTo>
                    <a:lnTo>
                      <a:pt x="741" y="194"/>
                    </a:lnTo>
                    <a:lnTo>
                      <a:pt x="733" y="264"/>
                    </a:lnTo>
                    <a:lnTo>
                      <a:pt x="706" y="326"/>
                    </a:lnTo>
                    <a:lnTo>
                      <a:pt x="768" y="291"/>
                    </a:lnTo>
                    <a:lnTo>
                      <a:pt x="821" y="273"/>
                    </a:lnTo>
                    <a:lnTo>
                      <a:pt x="887" y="255"/>
                    </a:lnTo>
                    <a:lnTo>
                      <a:pt x="953" y="273"/>
                    </a:lnTo>
                    <a:lnTo>
                      <a:pt x="1015" y="308"/>
                    </a:lnTo>
                    <a:lnTo>
                      <a:pt x="1046" y="299"/>
                    </a:lnTo>
                    <a:lnTo>
                      <a:pt x="1072" y="326"/>
                    </a:lnTo>
                    <a:lnTo>
                      <a:pt x="1107" y="388"/>
                    </a:lnTo>
                    <a:lnTo>
                      <a:pt x="1138" y="445"/>
                    </a:lnTo>
                    <a:lnTo>
                      <a:pt x="1147" y="537"/>
                    </a:lnTo>
                    <a:lnTo>
                      <a:pt x="1156" y="666"/>
                    </a:lnTo>
                    <a:lnTo>
                      <a:pt x="1147" y="715"/>
                    </a:lnTo>
                    <a:lnTo>
                      <a:pt x="1138" y="794"/>
                    </a:lnTo>
                    <a:lnTo>
                      <a:pt x="1121" y="860"/>
                    </a:lnTo>
                    <a:lnTo>
                      <a:pt x="1099" y="900"/>
                    </a:lnTo>
                    <a:lnTo>
                      <a:pt x="1059" y="957"/>
                    </a:lnTo>
                    <a:lnTo>
                      <a:pt x="1046" y="984"/>
                    </a:lnTo>
                    <a:lnTo>
                      <a:pt x="988" y="1037"/>
                    </a:lnTo>
                    <a:lnTo>
                      <a:pt x="949" y="1085"/>
                    </a:lnTo>
                    <a:lnTo>
                      <a:pt x="922" y="1151"/>
                    </a:lnTo>
                    <a:lnTo>
                      <a:pt x="891" y="1196"/>
                    </a:lnTo>
                    <a:lnTo>
                      <a:pt x="913" y="1103"/>
                    </a:lnTo>
                    <a:lnTo>
                      <a:pt x="913" y="1024"/>
                    </a:lnTo>
                    <a:lnTo>
                      <a:pt x="922" y="922"/>
                    </a:lnTo>
                    <a:lnTo>
                      <a:pt x="904" y="900"/>
                    </a:lnTo>
                    <a:lnTo>
                      <a:pt x="896" y="860"/>
                    </a:lnTo>
                    <a:lnTo>
                      <a:pt x="904" y="812"/>
                    </a:lnTo>
                    <a:lnTo>
                      <a:pt x="904" y="781"/>
                    </a:lnTo>
                    <a:lnTo>
                      <a:pt x="891" y="702"/>
                    </a:lnTo>
                    <a:lnTo>
                      <a:pt x="887" y="662"/>
                    </a:lnTo>
                    <a:lnTo>
                      <a:pt x="887" y="622"/>
                    </a:lnTo>
                    <a:lnTo>
                      <a:pt x="860" y="577"/>
                    </a:lnTo>
                    <a:lnTo>
                      <a:pt x="847" y="537"/>
                    </a:lnTo>
                    <a:lnTo>
                      <a:pt x="825" y="502"/>
                    </a:lnTo>
                    <a:lnTo>
                      <a:pt x="807" y="471"/>
                    </a:lnTo>
                    <a:lnTo>
                      <a:pt x="759" y="445"/>
                    </a:lnTo>
                    <a:lnTo>
                      <a:pt x="719" y="401"/>
                    </a:lnTo>
                    <a:lnTo>
                      <a:pt x="675" y="388"/>
                    </a:lnTo>
                    <a:lnTo>
                      <a:pt x="618" y="366"/>
                    </a:lnTo>
                    <a:lnTo>
                      <a:pt x="636" y="330"/>
                    </a:lnTo>
                    <a:lnTo>
                      <a:pt x="658" y="255"/>
                    </a:lnTo>
                    <a:lnTo>
                      <a:pt x="666" y="189"/>
                    </a:lnTo>
                    <a:lnTo>
                      <a:pt x="666" y="145"/>
                    </a:lnTo>
                    <a:lnTo>
                      <a:pt x="649" y="110"/>
                    </a:lnTo>
                    <a:lnTo>
                      <a:pt x="609" y="74"/>
                    </a:lnTo>
                    <a:lnTo>
                      <a:pt x="573" y="57"/>
                    </a:lnTo>
                    <a:lnTo>
                      <a:pt x="533" y="44"/>
                    </a:lnTo>
                    <a:lnTo>
                      <a:pt x="480" y="52"/>
                    </a:lnTo>
                    <a:lnTo>
                      <a:pt x="423" y="74"/>
                    </a:lnTo>
                    <a:lnTo>
                      <a:pt x="396" y="110"/>
                    </a:lnTo>
                    <a:lnTo>
                      <a:pt x="370" y="145"/>
                    </a:lnTo>
                    <a:lnTo>
                      <a:pt x="348" y="185"/>
                    </a:lnTo>
                    <a:lnTo>
                      <a:pt x="343" y="229"/>
                    </a:lnTo>
                    <a:lnTo>
                      <a:pt x="321" y="273"/>
                    </a:lnTo>
                    <a:lnTo>
                      <a:pt x="313" y="308"/>
                    </a:lnTo>
                    <a:lnTo>
                      <a:pt x="295" y="357"/>
                    </a:lnTo>
                    <a:lnTo>
                      <a:pt x="273" y="379"/>
                    </a:lnTo>
                    <a:lnTo>
                      <a:pt x="251" y="401"/>
                    </a:lnTo>
                    <a:lnTo>
                      <a:pt x="229" y="432"/>
                    </a:lnTo>
                    <a:lnTo>
                      <a:pt x="211" y="485"/>
                    </a:lnTo>
                    <a:lnTo>
                      <a:pt x="185" y="520"/>
                    </a:lnTo>
                    <a:lnTo>
                      <a:pt x="167" y="586"/>
                    </a:lnTo>
                    <a:lnTo>
                      <a:pt x="149" y="693"/>
                    </a:lnTo>
                    <a:lnTo>
                      <a:pt x="127" y="794"/>
                    </a:lnTo>
                    <a:lnTo>
                      <a:pt x="101" y="860"/>
                    </a:lnTo>
                    <a:lnTo>
                      <a:pt x="22" y="1024"/>
                    </a:lnTo>
                    <a:lnTo>
                      <a:pt x="30" y="984"/>
                    </a:lnTo>
                    <a:lnTo>
                      <a:pt x="30" y="957"/>
                    </a:lnTo>
                    <a:lnTo>
                      <a:pt x="35" y="927"/>
                    </a:lnTo>
                    <a:lnTo>
                      <a:pt x="48" y="878"/>
                    </a:lnTo>
                    <a:lnTo>
                      <a:pt x="35" y="825"/>
                    </a:lnTo>
                    <a:close/>
                  </a:path>
                </a:pathLst>
              </a:custGeom>
              <a:solidFill>
                <a:srgbClr val="ff9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1571760" y="1628640"/>
                <a:ext cx="27360" cy="70200"/>
              </a:xfrm>
              <a:custGeom>
                <a:avLst/>
                <a:gdLst/>
                <a:ahLst/>
                <a:rect l="0" t="0" r="r" b="b"/>
                <a:pathLst>
                  <a:path w="76" h="195">
                    <a:moveTo>
                      <a:pt x="76" y="22"/>
                    </a:moveTo>
                    <a:lnTo>
                      <a:pt x="76" y="70"/>
                    </a:lnTo>
                    <a:lnTo>
                      <a:pt x="68" y="98"/>
                    </a:lnTo>
                    <a:lnTo>
                      <a:pt x="45" y="146"/>
                    </a:lnTo>
                    <a:lnTo>
                      <a:pt x="31" y="172"/>
                    </a:lnTo>
                    <a:lnTo>
                      <a:pt x="23" y="186"/>
                    </a:lnTo>
                    <a:lnTo>
                      <a:pt x="17" y="195"/>
                    </a:lnTo>
                    <a:lnTo>
                      <a:pt x="0" y="195"/>
                    </a:lnTo>
                    <a:lnTo>
                      <a:pt x="17" y="57"/>
                    </a:lnTo>
                    <a:lnTo>
                      <a:pt x="45" y="0"/>
                    </a:lnTo>
                    <a:lnTo>
                      <a:pt x="76" y="22"/>
                    </a:lnTo>
                    <a:close/>
                  </a:path>
                </a:pathLst>
              </a:custGeom>
              <a:solidFill>
                <a:srgbClr val="ffdfbf"/>
              </a:solidFill>
              <a:ln w="0">
                <a:noFill/>
              </a:ln>
            </p:spPr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1214280" y="1623960"/>
                <a:ext cx="28800" cy="66960"/>
              </a:xfrm>
              <a:custGeom>
                <a:avLst/>
                <a:gdLst/>
                <a:ahLst/>
                <a:rect l="0" t="0" r="r" b="b"/>
                <a:pathLst>
                  <a:path w="80" h="186">
                    <a:moveTo>
                      <a:pt x="0" y="22"/>
                    </a:moveTo>
                    <a:lnTo>
                      <a:pt x="8" y="66"/>
                    </a:lnTo>
                    <a:lnTo>
                      <a:pt x="13" y="92"/>
                    </a:lnTo>
                    <a:lnTo>
                      <a:pt x="35" y="142"/>
                    </a:lnTo>
                    <a:lnTo>
                      <a:pt x="49" y="168"/>
                    </a:lnTo>
                    <a:lnTo>
                      <a:pt x="58" y="177"/>
                    </a:lnTo>
                    <a:lnTo>
                      <a:pt x="71" y="186"/>
                    </a:lnTo>
                    <a:lnTo>
                      <a:pt x="80" y="186"/>
                    </a:lnTo>
                    <a:lnTo>
                      <a:pt x="62" y="57"/>
                    </a:lnTo>
                    <a:lnTo>
                      <a:pt x="35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ffdfbf"/>
              </a:solidFill>
              <a:ln w="0">
                <a:noFill/>
              </a:ln>
            </p:spPr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1494000" y="1765440"/>
                <a:ext cx="8280" cy="5040"/>
              </a:xfrm>
              <a:custGeom>
                <a:avLst/>
                <a:gdLst/>
                <a:ahLst/>
                <a:rect l="0" t="0" r="r" b="b"/>
                <a:pathLst>
                  <a:path w="23" h="14">
                    <a:moveTo>
                      <a:pt x="23" y="0"/>
                    </a:moveTo>
                    <a:lnTo>
                      <a:pt x="0" y="4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347840" y="1550880"/>
                <a:ext cx="38520" cy="44640"/>
              </a:xfrm>
              <a:custGeom>
                <a:avLst/>
                <a:gdLst/>
                <a:ahLst/>
                <a:rect l="0" t="0" r="r" b="b"/>
                <a:pathLst>
                  <a:path w="107" h="124">
                    <a:moveTo>
                      <a:pt x="67" y="26"/>
                    </a:moveTo>
                    <a:lnTo>
                      <a:pt x="85" y="39"/>
                    </a:lnTo>
                    <a:lnTo>
                      <a:pt x="99" y="71"/>
                    </a:lnTo>
                    <a:lnTo>
                      <a:pt x="103" y="84"/>
                    </a:lnTo>
                    <a:lnTo>
                      <a:pt x="107" y="111"/>
                    </a:lnTo>
                    <a:lnTo>
                      <a:pt x="107" y="124"/>
                    </a:lnTo>
                    <a:lnTo>
                      <a:pt x="85" y="111"/>
                    </a:lnTo>
                    <a:lnTo>
                      <a:pt x="75" y="102"/>
                    </a:lnTo>
                    <a:lnTo>
                      <a:pt x="53" y="102"/>
                    </a:lnTo>
                    <a:lnTo>
                      <a:pt x="31" y="89"/>
                    </a:lnTo>
                    <a:lnTo>
                      <a:pt x="0" y="80"/>
                    </a:lnTo>
                    <a:lnTo>
                      <a:pt x="0" y="71"/>
                    </a:lnTo>
                    <a:lnTo>
                      <a:pt x="8" y="57"/>
                    </a:lnTo>
                    <a:lnTo>
                      <a:pt x="13" y="44"/>
                    </a:lnTo>
                    <a:lnTo>
                      <a:pt x="17" y="17"/>
                    </a:lnTo>
                    <a:lnTo>
                      <a:pt x="8" y="0"/>
                    </a:lnTo>
                    <a:lnTo>
                      <a:pt x="67" y="26"/>
                    </a:lnTo>
                    <a:close/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1" name=""/>
              <p:cNvGrpSpPr/>
              <p:nvPr/>
            </p:nvGrpSpPr>
            <p:grpSpPr>
              <a:xfrm>
                <a:off x="1265400" y="1533600"/>
                <a:ext cx="295560" cy="38520"/>
                <a:chOff x="1265400" y="1533600"/>
                <a:chExt cx="295560" cy="38520"/>
              </a:xfrm>
            </p:grpSpPr>
            <p:sp>
              <p:nvSpPr>
                <p:cNvPr id="902" name=""/>
                <p:cNvSpPr/>
                <p:nvPr/>
              </p:nvSpPr>
              <p:spPr>
                <a:xfrm>
                  <a:off x="1452600" y="1533600"/>
                  <a:ext cx="108360" cy="25920"/>
                </a:xfrm>
                <a:custGeom>
                  <a:avLst/>
                  <a:gdLst/>
                  <a:ahLst/>
                  <a:rect l="0" t="0" r="r" b="b"/>
                  <a:pathLst>
                    <a:path w="301" h="72">
                      <a:moveTo>
                        <a:pt x="22" y="53"/>
                      </a:moveTo>
                      <a:lnTo>
                        <a:pt x="39" y="40"/>
                      </a:lnTo>
                      <a:lnTo>
                        <a:pt x="57" y="31"/>
                      </a:lnTo>
                      <a:lnTo>
                        <a:pt x="74" y="23"/>
                      </a:lnTo>
                      <a:lnTo>
                        <a:pt x="102" y="8"/>
                      </a:lnTo>
                      <a:lnTo>
                        <a:pt x="137" y="8"/>
                      </a:lnTo>
                      <a:lnTo>
                        <a:pt x="168" y="0"/>
                      </a:lnTo>
                      <a:lnTo>
                        <a:pt x="190" y="0"/>
                      </a:lnTo>
                      <a:lnTo>
                        <a:pt x="221" y="8"/>
                      </a:lnTo>
                      <a:lnTo>
                        <a:pt x="235" y="8"/>
                      </a:lnTo>
                      <a:lnTo>
                        <a:pt x="262" y="23"/>
                      </a:lnTo>
                      <a:lnTo>
                        <a:pt x="284" y="40"/>
                      </a:lnTo>
                      <a:lnTo>
                        <a:pt x="301" y="63"/>
                      </a:lnTo>
                      <a:lnTo>
                        <a:pt x="275" y="45"/>
                      </a:lnTo>
                      <a:lnTo>
                        <a:pt x="248" y="36"/>
                      </a:lnTo>
                      <a:lnTo>
                        <a:pt x="203" y="27"/>
                      </a:lnTo>
                      <a:lnTo>
                        <a:pt x="186" y="27"/>
                      </a:lnTo>
                      <a:lnTo>
                        <a:pt x="168" y="27"/>
                      </a:lnTo>
                      <a:lnTo>
                        <a:pt x="146" y="27"/>
                      </a:lnTo>
                      <a:lnTo>
                        <a:pt x="124" y="31"/>
                      </a:lnTo>
                      <a:lnTo>
                        <a:pt x="98" y="40"/>
                      </a:lnTo>
                      <a:lnTo>
                        <a:pt x="84" y="53"/>
                      </a:lnTo>
                      <a:lnTo>
                        <a:pt x="61" y="63"/>
                      </a:lnTo>
                      <a:lnTo>
                        <a:pt x="44" y="68"/>
                      </a:lnTo>
                      <a:lnTo>
                        <a:pt x="39" y="72"/>
                      </a:lnTo>
                      <a:lnTo>
                        <a:pt x="22" y="72"/>
                      </a:lnTo>
                      <a:lnTo>
                        <a:pt x="0" y="68"/>
                      </a:lnTo>
                      <a:lnTo>
                        <a:pt x="22" y="53"/>
                      </a:lnTo>
                      <a:close/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1265400" y="1538280"/>
                  <a:ext cx="106560" cy="33840"/>
                </a:xfrm>
                <a:custGeom>
                  <a:avLst/>
                  <a:gdLst/>
                  <a:ahLst/>
                  <a:rect l="0" t="0" r="r" b="b"/>
                  <a:pathLst>
                    <a:path w="296" h="94">
                      <a:moveTo>
                        <a:pt x="296" y="58"/>
                      </a:moveTo>
                      <a:lnTo>
                        <a:pt x="283" y="27"/>
                      </a:lnTo>
                      <a:lnTo>
                        <a:pt x="265" y="13"/>
                      </a:lnTo>
                      <a:lnTo>
                        <a:pt x="239" y="8"/>
                      </a:lnTo>
                      <a:lnTo>
                        <a:pt x="203" y="0"/>
                      </a:lnTo>
                      <a:lnTo>
                        <a:pt x="159" y="0"/>
                      </a:lnTo>
                      <a:lnTo>
                        <a:pt x="114" y="0"/>
                      </a:lnTo>
                      <a:lnTo>
                        <a:pt x="66" y="8"/>
                      </a:lnTo>
                      <a:lnTo>
                        <a:pt x="22" y="58"/>
                      </a:lnTo>
                      <a:lnTo>
                        <a:pt x="0" y="94"/>
                      </a:lnTo>
                      <a:lnTo>
                        <a:pt x="39" y="49"/>
                      </a:lnTo>
                      <a:lnTo>
                        <a:pt x="83" y="36"/>
                      </a:lnTo>
                      <a:lnTo>
                        <a:pt x="123" y="27"/>
                      </a:lnTo>
                      <a:lnTo>
                        <a:pt x="177" y="27"/>
                      </a:lnTo>
                      <a:lnTo>
                        <a:pt x="217" y="40"/>
                      </a:lnTo>
                      <a:lnTo>
                        <a:pt x="252" y="49"/>
                      </a:lnTo>
                      <a:lnTo>
                        <a:pt x="296" y="58"/>
                      </a:lnTo>
                      <a:close/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4" name=""/>
              <p:cNvGrpSpPr/>
              <p:nvPr/>
            </p:nvGrpSpPr>
            <p:grpSpPr>
              <a:xfrm>
                <a:off x="1461960" y="1573200"/>
                <a:ext cx="72000" cy="36720"/>
                <a:chOff x="1461960" y="1573200"/>
                <a:chExt cx="72000" cy="36720"/>
              </a:xfrm>
            </p:grpSpPr>
            <p:sp>
              <p:nvSpPr>
                <p:cNvPr id="905" name=""/>
                <p:cNvSpPr/>
                <p:nvPr/>
              </p:nvSpPr>
              <p:spPr>
                <a:xfrm>
                  <a:off x="1461960" y="1601640"/>
                  <a:ext cx="68760" cy="8280"/>
                </a:xfrm>
                <a:custGeom>
                  <a:avLst/>
                  <a:gdLst/>
                  <a:ahLst/>
                  <a:rect l="0" t="0" r="r" b="b"/>
                  <a:pathLst>
                    <a:path w="191" h="23">
                      <a:moveTo>
                        <a:pt x="8" y="4"/>
                      </a:moveTo>
                      <a:lnTo>
                        <a:pt x="26" y="8"/>
                      </a:lnTo>
                      <a:lnTo>
                        <a:pt x="58" y="8"/>
                      </a:lnTo>
                      <a:lnTo>
                        <a:pt x="93" y="8"/>
                      </a:lnTo>
                      <a:lnTo>
                        <a:pt x="111" y="8"/>
                      </a:lnTo>
                      <a:lnTo>
                        <a:pt x="137" y="8"/>
                      </a:lnTo>
                      <a:lnTo>
                        <a:pt x="156" y="8"/>
                      </a:lnTo>
                      <a:lnTo>
                        <a:pt x="173" y="8"/>
                      </a:lnTo>
                      <a:lnTo>
                        <a:pt x="191" y="0"/>
                      </a:lnTo>
                      <a:lnTo>
                        <a:pt x="173" y="14"/>
                      </a:lnTo>
                      <a:lnTo>
                        <a:pt x="160" y="18"/>
                      </a:lnTo>
                      <a:lnTo>
                        <a:pt x="151" y="23"/>
                      </a:lnTo>
                      <a:lnTo>
                        <a:pt x="133" y="23"/>
                      </a:lnTo>
                      <a:lnTo>
                        <a:pt x="111" y="23"/>
                      </a:lnTo>
                      <a:lnTo>
                        <a:pt x="98" y="23"/>
                      </a:lnTo>
                      <a:lnTo>
                        <a:pt x="80" y="18"/>
                      </a:lnTo>
                      <a:lnTo>
                        <a:pt x="67" y="14"/>
                      </a:lnTo>
                      <a:lnTo>
                        <a:pt x="44" y="14"/>
                      </a:lnTo>
                      <a:lnTo>
                        <a:pt x="30" y="14"/>
                      </a:lnTo>
                      <a:lnTo>
                        <a:pt x="17" y="8"/>
                      </a:lnTo>
                      <a:lnTo>
                        <a:pt x="8" y="8"/>
                      </a:lnTo>
                      <a:lnTo>
                        <a:pt x="0" y="8"/>
                      </a:lnTo>
                      <a:lnTo>
                        <a:pt x="8" y="4"/>
                      </a:lnTo>
                      <a:close/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06" name=""/>
                <p:cNvGrpSpPr/>
                <p:nvPr/>
              </p:nvGrpSpPr>
              <p:grpSpPr>
                <a:xfrm>
                  <a:off x="1468440" y="1573200"/>
                  <a:ext cx="65520" cy="28800"/>
                  <a:chOff x="1468440" y="1573200"/>
                  <a:chExt cx="65520" cy="28800"/>
                </a:xfrm>
              </p:grpSpPr>
              <p:sp>
                <p:nvSpPr>
                  <p:cNvPr id="907" name=""/>
                  <p:cNvSpPr/>
                  <p:nvPr/>
                </p:nvSpPr>
                <p:spPr>
                  <a:xfrm>
                    <a:off x="1468440" y="1577880"/>
                    <a:ext cx="62280" cy="18000"/>
                  </a:xfrm>
                  <a:custGeom>
                    <a:avLst/>
                    <a:gdLst/>
                    <a:ahLst/>
                    <a:rect l="0" t="0" r="r" b="b"/>
                    <a:pathLst>
                      <a:path w="173" h="50">
                        <a:moveTo>
                          <a:pt x="0" y="41"/>
                        </a:moveTo>
                        <a:lnTo>
                          <a:pt x="17" y="27"/>
                        </a:lnTo>
                        <a:lnTo>
                          <a:pt x="30" y="18"/>
                        </a:lnTo>
                        <a:lnTo>
                          <a:pt x="45" y="8"/>
                        </a:lnTo>
                        <a:lnTo>
                          <a:pt x="58" y="0"/>
                        </a:lnTo>
                        <a:lnTo>
                          <a:pt x="75" y="0"/>
                        </a:lnTo>
                        <a:lnTo>
                          <a:pt x="98" y="0"/>
                        </a:lnTo>
                        <a:lnTo>
                          <a:pt x="106" y="8"/>
                        </a:lnTo>
                        <a:lnTo>
                          <a:pt x="120" y="8"/>
                        </a:lnTo>
                        <a:lnTo>
                          <a:pt x="134" y="18"/>
                        </a:lnTo>
                        <a:lnTo>
                          <a:pt x="143" y="18"/>
                        </a:lnTo>
                        <a:lnTo>
                          <a:pt x="156" y="27"/>
                        </a:lnTo>
                        <a:lnTo>
                          <a:pt x="173" y="31"/>
                        </a:lnTo>
                        <a:lnTo>
                          <a:pt x="173" y="41"/>
                        </a:lnTo>
                        <a:lnTo>
                          <a:pt x="156" y="50"/>
                        </a:lnTo>
                        <a:lnTo>
                          <a:pt x="134" y="50"/>
                        </a:lnTo>
                        <a:lnTo>
                          <a:pt x="106" y="50"/>
                        </a:lnTo>
                        <a:lnTo>
                          <a:pt x="71" y="50"/>
                        </a:lnTo>
                        <a:lnTo>
                          <a:pt x="39" y="50"/>
                        </a:lnTo>
                        <a:lnTo>
                          <a:pt x="22" y="50"/>
                        </a:lnTo>
                        <a:lnTo>
                          <a:pt x="0" y="41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08" name=""/>
                  <p:cNvGrpSpPr/>
                  <p:nvPr/>
                </p:nvGrpSpPr>
                <p:grpSpPr>
                  <a:xfrm>
                    <a:off x="1486080" y="1576440"/>
                    <a:ext cx="30240" cy="25560"/>
                    <a:chOff x="1486080" y="1576440"/>
                    <a:chExt cx="30240" cy="25560"/>
                  </a:xfrm>
                </p:grpSpPr>
                <p:sp>
                  <p:nvSpPr>
                    <p:cNvPr id="909" name=""/>
                    <p:cNvSpPr/>
                    <p:nvPr/>
                  </p:nvSpPr>
                  <p:spPr>
                    <a:xfrm>
                      <a:off x="1486080" y="1576440"/>
                      <a:ext cx="30240" cy="25560"/>
                    </a:xfrm>
                    <a:prstGeom prst="ellipse">
                      <a:avLst/>
                    </a:prstGeom>
                    <a:solidFill>
                      <a:srgbClr val="005f7f"/>
                    </a:solidFill>
                    <a:ln w="0">
                      <a:noFill/>
                    </a:ln>
                  </p:spPr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0" name=""/>
                    <p:cNvSpPr/>
                    <p:nvPr/>
                  </p:nvSpPr>
                  <p:spPr>
                    <a:xfrm>
                      <a:off x="1487520" y="1577880"/>
                      <a:ext cx="25560" cy="23760"/>
                    </a:xfrm>
                    <a:prstGeom prst="ellipse">
                      <a:avLst/>
                    </a:prstGeom>
                    <a:solidFill>
                      <a:srgbClr val="00a4bb"/>
                    </a:solidFill>
                    <a:ln w="0">
                      <a:noFill/>
                    </a:ln>
                  </p:spPr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1" name=""/>
                    <p:cNvSpPr/>
                    <p:nvPr/>
                  </p:nvSpPr>
                  <p:spPr>
                    <a:xfrm>
                      <a:off x="1495440" y="1579680"/>
                      <a:ext cx="12600" cy="158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2" name=""/>
                    <p:cNvSpPr/>
                    <p:nvPr/>
                  </p:nvSpPr>
                  <p:spPr>
                    <a:xfrm>
                      <a:off x="1488960" y="1581120"/>
                      <a:ext cx="4680" cy="3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13" name=""/>
                  <p:cNvSpPr/>
                  <p:nvPr/>
                </p:nvSpPr>
                <p:spPr>
                  <a:xfrm>
                    <a:off x="1492200" y="1601640"/>
                    <a:ext cx="4104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114" h="0">
                        <a:moveTo>
                          <a:pt x="0" y="0"/>
                        </a:moveTo>
                        <a:lnTo>
                          <a:pt x="17" y="0"/>
                        </a:lnTo>
                        <a:lnTo>
                          <a:pt x="35" y="0"/>
                        </a:lnTo>
                        <a:lnTo>
                          <a:pt x="57" y="0"/>
                        </a:lnTo>
                        <a:lnTo>
                          <a:pt x="74" y="0"/>
                        </a:lnTo>
                        <a:lnTo>
                          <a:pt x="88" y="0"/>
                        </a:lnTo>
                        <a:lnTo>
                          <a:pt x="105" y="0"/>
                        </a:lnTo>
                        <a:lnTo>
                          <a:pt x="110" y="0"/>
                        </a:lnTo>
                        <a:lnTo>
                          <a:pt x="114" y="0"/>
                        </a:lnTo>
                        <a:lnTo>
                          <a:pt x="110" y="0"/>
                        </a:lnTo>
                        <a:lnTo>
                          <a:pt x="114" y="0"/>
                        </a:lnTo>
                        <a:lnTo>
                          <a:pt x="101" y="0"/>
                        </a:lnTo>
                        <a:lnTo>
                          <a:pt x="110" y="0"/>
                        </a:lnTo>
                        <a:lnTo>
                          <a:pt x="88" y="0"/>
                        </a:lnTo>
                        <a:lnTo>
                          <a:pt x="97" y="0"/>
                        </a:lnTo>
                        <a:lnTo>
                          <a:pt x="83" y="0"/>
                        </a:lnTo>
                        <a:lnTo>
                          <a:pt x="88" y="0"/>
                        </a:lnTo>
                        <a:lnTo>
                          <a:pt x="74" y="0"/>
                        </a:lnTo>
                        <a:lnTo>
                          <a:pt x="61" y="0"/>
                        </a:lnTo>
                        <a:lnTo>
                          <a:pt x="39" y="0"/>
                        </a:lnTo>
                        <a:lnTo>
                          <a:pt x="1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4" name=""/>
                  <p:cNvSpPr/>
                  <p:nvPr/>
                </p:nvSpPr>
                <p:spPr>
                  <a:xfrm>
                    <a:off x="1474920" y="1577880"/>
                    <a:ext cx="55800" cy="14760"/>
                  </a:xfrm>
                  <a:custGeom>
                    <a:avLst/>
                    <a:gdLst/>
                    <a:ahLst/>
                    <a:rect l="0" t="0" r="r" b="b"/>
                    <a:pathLst>
                      <a:path w="155" h="41">
                        <a:moveTo>
                          <a:pt x="0" y="27"/>
                        </a:moveTo>
                        <a:lnTo>
                          <a:pt x="17" y="18"/>
                        </a:lnTo>
                        <a:lnTo>
                          <a:pt x="26" y="14"/>
                        </a:lnTo>
                        <a:lnTo>
                          <a:pt x="39" y="8"/>
                        </a:lnTo>
                        <a:lnTo>
                          <a:pt x="57" y="8"/>
                        </a:lnTo>
                        <a:lnTo>
                          <a:pt x="70" y="8"/>
                        </a:lnTo>
                        <a:lnTo>
                          <a:pt x="80" y="8"/>
                        </a:lnTo>
                        <a:lnTo>
                          <a:pt x="98" y="14"/>
                        </a:lnTo>
                        <a:lnTo>
                          <a:pt x="115" y="23"/>
                        </a:lnTo>
                        <a:lnTo>
                          <a:pt x="124" y="27"/>
                        </a:lnTo>
                        <a:lnTo>
                          <a:pt x="137" y="32"/>
                        </a:lnTo>
                        <a:lnTo>
                          <a:pt x="155" y="41"/>
                        </a:lnTo>
                        <a:lnTo>
                          <a:pt x="146" y="32"/>
                        </a:lnTo>
                        <a:lnTo>
                          <a:pt x="133" y="27"/>
                        </a:lnTo>
                        <a:lnTo>
                          <a:pt x="115" y="14"/>
                        </a:lnTo>
                        <a:lnTo>
                          <a:pt x="98" y="8"/>
                        </a:lnTo>
                        <a:lnTo>
                          <a:pt x="80" y="8"/>
                        </a:lnTo>
                        <a:lnTo>
                          <a:pt x="66" y="0"/>
                        </a:lnTo>
                        <a:lnTo>
                          <a:pt x="48" y="0"/>
                        </a:lnTo>
                        <a:lnTo>
                          <a:pt x="39" y="8"/>
                        </a:lnTo>
                        <a:lnTo>
                          <a:pt x="26" y="8"/>
                        </a:lnTo>
                        <a:lnTo>
                          <a:pt x="17" y="14"/>
                        </a:lnTo>
                        <a:lnTo>
                          <a:pt x="0" y="27"/>
                        </a:lnTo>
                        <a:close/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5" name=""/>
                  <p:cNvSpPr/>
                  <p:nvPr/>
                </p:nvSpPr>
                <p:spPr>
                  <a:xfrm>
                    <a:off x="1476360" y="1577880"/>
                    <a:ext cx="57600" cy="9720"/>
                  </a:xfrm>
                  <a:custGeom>
                    <a:avLst/>
                    <a:gdLst/>
                    <a:ahLst/>
                    <a:rect l="0" t="0" r="r" b="b"/>
                    <a:pathLst>
                      <a:path w="160" h="27">
                        <a:moveTo>
                          <a:pt x="0" y="18"/>
                        </a:moveTo>
                        <a:lnTo>
                          <a:pt x="13" y="14"/>
                        </a:lnTo>
                        <a:lnTo>
                          <a:pt x="26" y="8"/>
                        </a:lnTo>
                        <a:lnTo>
                          <a:pt x="35" y="4"/>
                        </a:lnTo>
                        <a:lnTo>
                          <a:pt x="58" y="4"/>
                        </a:lnTo>
                        <a:lnTo>
                          <a:pt x="80" y="4"/>
                        </a:lnTo>
                        <a:lnTo>
                          <a:pt x="89" y="4"/>
                        </a:lnTo>
                        <a:lnTo>
                          <a:pt x="102" y="14"/>
                        </a:lnTo>
                        <a:lnTo>
                          <a:pt x="121" y="14"/>
                        </a:lnTo>
                        <a:lnTo>
                          <a:pt x="134" y="18"/>
                        </a:lnTo>
                        <a:lnTo>
                          <a:pt x="147" y="23"/>
                        </a:lnTo>
                        <a:lnTo>
                          <a:pt x="160" y="27"/>
                        </a:lnTo>
                        <a:lnTo>
                          <a:pt x="156" y="23"/>
                        </a:lnTo>
                        <a:lnTo>
                          <a:pt x="138" y="14"/>
                        </a:lnTo>
                        <a:lnTo>
                          <a:pt x="121" y="14"/>
                        </a:lnTo>
                        <a:lnTo>
                          <a:pt x="102" y="4"/>
                        </a:lnTo>
                        <a:lnTo>
                          <a:pt x="89" y="0"/>
                        </a:lnTo>
                        <a:lnTo>
                          <a:pt x="71" y="0"/>
                        </a:lnTo>
                        <a:lnTo>
                          <a:pt x="58" y="0"/>
                        </a:lnTo>
                        <a:lnTo>
                          <a:pt x="35" y="0"/>
                        </a:lnTo>
                        <a:lnTo>
                          <a:pt x="30" y="4"/>
                        </a:lnTo>
                        <a:lnTo>
                          <a:pt x="22" y="8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6" name=""/>
                  <p:cNvSpPr/>
                  <p:nvPr/>
                </p:nvSpPr>
                <p:spPr>
                  <a:xfrm>
                    <a:off x="1469880" y="1573200"/>
                    <a:ext cx="59040" cy="8280"/>
                  </a:xfrm>
                  <a:custGeom>
                    <a:avLst/>
                    <a:gdLst/>
                    <a:ahLst/>
                    <a:rect l="0" t="0" r="r" b="b"/>
                    <a:pathLst>
                      <a:path w="164" h="23">
                        <a:moveTo>
                          <a:pt x="0" y="23"/>
                        </a:moveTo>
                        <a:lnTo>
                          <a:pt x="26" y="14"/>
                        </a:lnTo>
                        <a:lnTo>
                          <a:pt x="39" y="4"/>
                        </a:lnTo>
                        <a:lnTo>
                          <a:pt x="52" y="4"/>
                        </a:lnTo>
                        <a:lnTo>
                          <a:pt x="70" y="0"/>
                        </a:lnTo>
                        <a:lnTo>
                          <a:pt x="93" y="4"/>
                        </a:lnTo>
                        <a:lnTo>
                          <a:pt x="115" y="4"/>
                        </a:lnTo>
                        <a:lnTo>
                          <a:pt x="128" y="8"/>
                        </a:lnTo>
                        <a:lnTo>
                          <a:pt x="142" y="14"/>
                        </a:lnTo>
                        <a:lnTo>
                          <a:pt x="164" y="23"/>
                        </a:lnTo>
                        <a:lnTo>
                          <a:pt x="142" y="14"/>
                        </a:lnTo>
                        <a:lnTo>
                          <a:pt x="133" y="8"/>
                        </a:lnTo>
                        <a:lnTo>
                          <a:pt x="115" y="4"/>
                        </a:lnTo>
                        <a:lnTo>
                          <a:pt x="102" y="0"/>
                        </a:lnTo>
                        <a:lnTo>
                          <a:pt x="84" y="0"/>
                        </a:lnTo>
                        <a:lnTo>
                          <a:pt x="70" y="0"/>
                        </a:lnTo>
                        <a:lnTo>
                          <a:pt x="52" y="4"/>
                        </a:lnTo>
                        <a:lnTo>
                          <a:pt x="44" y="4"/>
                        </a:lnTo>
                        <a:lnTo>
                          <a:pt x="35" y="8"/>
                        </a:lnTo>
                        <a:lnTo>
                          <a:pt x="22" y="14"/>
                        </a:lnTo>
                        <a:lnTo>
                          <a:pt x="0" y="23"/>
                        </a:lnTo>
                        <a:close/>
                      </a:path>
                    </a:pathLst>
                  </a:custGeom>
                  <a:solidFill>
                    <a:srgbClr val="bf7f3f"/>
                  </a:solidFill>
                  <a:ln w="0">
                    <a:noFill/>
                  </a:ln>
                </p:spPr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17" name=""/>
              <p:cNvGrpSpPr/>
              <p:nvPr/>
            </p:nvGrpSpPr>
            <p:grpSpPr>
              <a:xfrm>
                <a:off x="1292400" y="1571760"/>
                <a:ext cx="69840" cy="38160"/>
                <a:chOff x="1292400" y="1571760"/>
                <a:chExt cx="69840" cy="38160"/>
              </a:xfrm>
            </p:grpSpPr>
            <p:sp>
              <p:nvSpPr>
                <p:cNvPr id="918" name=""/>
                <p:cNvSpPr/>
                <p:nvPr/>
              </p:nvSpPr>
              <p:spPr>
                <a:xfrm>
                  <a:off x="1295280" y="1600200"/>
                  <a:ext cx="66960" cy="9720"/>
                </a:xfrm>
                <a:custGeom>
                  <a:avLst/>
                  <a:gdLst/>
                  <a:ahLst/>
                  <a:rect l="0" t="0" r="r" b="b"/>
                  <a:pathLst>
                    <a:path w="186" h="27">
                      <a:moveTo>
                        <a:pt x="186" y="0"/>
                      </a:moveTo>
                      <a:lnTo>
                        <a:pt x="168" y="4"/>
                      </a:lnTo>
                      <a:lnTo>
                        <a:pt x="128" y="8"/>
                      </a:lnTo>
                      <a:lnTo>
                        <a:pt x="92" y="8"/>
                      </a:lnTo>
                      <a:lnTo>
                        <a:pt x="83" y="8"/>
                      </a:lnTo>
                      <a:lnTo>
                        <a:pt x="52" y="8"/>
                      </a:lnTo>
                      <a:lnTo>
                        <a:pt x="35" y="8"/>
                      </a:lnTo>
                      <a:lnTo>
                        <a:pt x="17" y="4"/>
                      </a:lnTo>
                      <a:lnTo>
                        <a:pt x="0" y="0"/>
                      </a:lnTo>
                      <a:lnTo>
                        <a:pt x="17" y="18"/>
                      </a:lnTo>
                      <a:lnTo>
                        <a:pt x="30" y="23"/>
                      </a:lnTo>
                      <a:lnTo>
                        <a:pt x="44" y="27"/>
                      </a:lnTo>
                      <a:lnTo>
                        <a:pt x="57" y="27"/>
                      </a:lnTo>
                      <a:lnTo>
                        <a:pt x="79" y="27"/>
                      </a:lnTo>
                      <a:lnTo>
                        <a:pt x="88" y="23"/>
                      </a:lnTo>
                      <a:lnTo>
                        <a:pt x="106" y="18"/>
                      </a:lnTo>
                      <a:lnTo>
                        <a:pt x="128" y="14"/>
                      </a:lnTo>
                      <a:lnTo>
                        <a:pt x="137" y="14"/>
                      </a:lnTo>
                      <a:lnTo>
                        <a:pt x="155" y="8"/>
                      </a:lnTo>
                      <a:lnTo>
                        <a:pt x="186" y="0"/>
                      </a:lnTo>
                      <a:close/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19" name=""/>
                <p:cNvGrpSpPr/>
                <p:nvPr/>
              </p:nvGrpSpPr>
              <p:grpSpPr>
                <a:xfrm>
                  <a:off x="1292400" y="1571760"/>
                  <a:ext cx="66600" cy="30240"/>
                  <a:chOff x="1292400" y="1571760"/>
                  <a:chExt cx="66600" cy="30240"/>
                </a:xfrm>
              </p:grpSpPr>
              <p:sp>
                <p:nvSpPr>
                  <p:cNvPr id="920" name=""/>
                  <p:cNvSpPr/>
                  <p:nvPr/>
                </p:nvSpPr>
                <p:spPr>
                  <a:xfrm>
                    <a:off x="1295280" y="1577880"/>
                    <a:ext cx="63720" cy="18000"/>
                  </a:xfrm>
                  <a:custGeom>
                    <a:avLst/>
                    <a:gdLst/>
                    <a:ahLst/>
                    <a:rect l="0" t="0" r="r" b="b"/>
                    <a:pathLst>
                      <a:path w="177" h="50">
                        <a:moveTo>
                          <a:pt x="177" y="31"/>
                        </a:moveTo>
                        <a:lnTo>
                          <a:pt x="164" y="23"/>
                        </a:lnTo>
                        <a:lnTo>
                          <a:pt x="142" y="14"/>
                        </a:lnTo>
                        <a:lnTo>
                          <a:pt x="133" y="8"/>
                        </a:lnTo>
                        <a:lnTo>
                          <a:pt x="120" y="0"/>
                        </a:lnTo>
                        <a:lnTo>
                          <a:pt x="93" y="0"/>
                        </a:lnTo>
                        <a:lnTo>
                          <a:pt x="83" y="0"/>
                        </a:lnTo>
                        <a:lnTo>
                          <a:pt x="57" y="0"/>
                        </a:lnTo>
                        <a:lnTo>
                          <a:pt x="48" y="8"/>
                        </a:lnTo>
                        <a:lnTo>
                          <a:pt x="35" y="14"/>
                        </a:lnTo>
                        <a:lnTo>
                          <a:pt x="30" y="18"/>
                        </a:lnTo>
                        <a:lnTo>
                          <a:pt x="17" y="23"/>
                        </a:lnTo>
                        <a:lnTo>
                          <a:pt x="0" y="31"/>
                        </a:lnTo>
                        <a:lnTo>
                          <a:pt x="0" y="41"/>
                        </a:lnTo>
                        <a:lnTo>
                          <a:pt x="17" y="50"/>
                        </a:lnTo>
                        <a:lnTo>
                          <a:pt x="35" y="50"/>
                        </a:lnTo>
                        <a:lnTo>
                          <a:pt x="70" y="50"/>
                        </a:lnTo>
                        <a:lnTo>
                          <a:pt x="102" y="50"/>
                        </a:lnTo>
                        <a:lnTo>
                          <a:pt x="137" y="50"/>
                        </a:lnTo>
                        <a:lnTo>
                          <a:pt x="150" y="50"/>
                        </a:lnTo>
                        <a:lnTo>
                          <a:pt x="177" y="31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21" name=""/>
                  <p:cNvGrpSpPr/>
                  <p:nvPr/>
                </p:nvGrpSpPr>
                <p:grpSpPr>
                  <a:xfrm>
                    <a:off x="1309680" y="1576440"/>
                    <a:ext cx="33480" cy="23760"/>
                    <a:chOff x="1309680" y="1576440"/>
                    <a:chExt cx="33480" cy="23760"/>
                  </a:xfrm>
                </p:grpSpPr>
                <p:sp>
                  <p:nvSpPr>
                    <p:cNvPr id="922" name=""/>
                    <p:cNvSpPr/>
                    <p:nvPr/>
                  </p:nvSpPr>
                  <p:spPr>
                    <a:xfrm>
                      <a:off x="1309680" y="1576440"/>
                      <a:ext cx="33480" cy="23760"/>
                    </a:xfrm>
                    <a:prstGeom prst="ellipse">
                      <a:avLst/>
                    </a:prstGeom>
                    <a:solidFill>
                      <a:srgbClr val="005f7f"/>
                    </a:solidFill>
                    <a:ln w="0">
                      <a:noFill/>
                    </a:ln>
                  </p:spPr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3" name=""/>
                    <p:cNvSpPr/>
                    <p:nvPr/>
                  </p:nvSpPr>
                  <p:spPr>
                    <a:xfrm>
                      <a:off x="1312920" y="1577880"/>
                      <a:ext cx="23760" cy="22320"/>
                    </a:xfrm>
                    <a:prstGeom prst="ellipse">
                      <a:avLst/>
                    </a:prstGeom>
                    <a:solidFill>
                      <a:srgbClr val="00a4bb"/>
                    </a:solidFill>
                    <a:ln w="0">
                      <a:noFill/>
                    </a:ln>
                  </p:spPr>
                  <p:txBody>
                    <a:bodyPr lIns="90000" rIns="90000" tIns="-22680" bIns="-22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4" name=""/>
                    <p:cNvSpPr/>
                    <p:nvPr/>
                  </p:nvSpPr>
                  <p:spPr>
                    <a:xfrm>
                      <a:off x="1319040" y="1577880"/>
                      <a:ext cx="12600" cy="17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5" name=""/>
                    <p:cNvSpPr/>
                    <p:nvPr/>
                  </p:nvSpPr>
                  <p:spPr>
                    <a:xfrm>
                      <a:off x="1316160" y="1579680"/>
                      <a:ext cx="1440" cy="46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26" name=""/>
                  <p:cNvSpPr/>
                  <p:nvPr/>
                </p:nvSpPr>
                <p:spPr>
                  <a:xfrm>
                    <a:off x="1292400" y="1600200"/>
                    <a:ext cx="4464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124" h="5">
                        <a:moveTo>
                          <a:pt x="124" y="0"/>
                        </a:moveTo>
                        <a:lnTo>
                          <a:pt x="106" y="0"/>
                        </a:lnTo>
                        <a:lnTo>
                          <a:pt x="84" y="0"/>
                        </a:lnTo>
                        <a:lnTo>
                          <a:pt x="61" y="0"/>
                        </a:lnTo>
                        <a:lnTo>
                          <a:pt x="39" y="0"/>
                        </a:lnTo>
                        <a:lnTo>
                          <a:pt x="26" y="0"/>
                        </a:lnTo>
                        <a:lnTo>
                          <a:pt x="13" y="5"/>
                        </a:lnTo>
                        <a:lnTo>
                          <a:pt x="8" y="5"/>
                        </a:lnTo>
                        <a:lnTo>
                          <a:pt x="0" y="5"/>
                        </a:lnTo>
                        <a:lnTo>
                          <a:pt x="8" y="5"/>
                        </a:lnTo>
                        <a:lnTo>
                          <a:pt x="4" y="0"/>
                        </a:lnTo>
                        <a:lnTo>
                          <a:pt x="13" y="0"/>
                        </a:lnTo>
                        <a:lnTo>
                          <a:pt x="8" y="0"/>
                        </a:lnTo>
                        <a:lnTo>
                          <a:pt x="22" y="0"/>
                        </a:lnTo>
                        <a:lnTo>
                          <a:pt x="35" y="0"/>
                        </a:lnTo>
                        <a:lnTo>
                          <a:pt x="26" y="0"/>
                        </a:lnTo>
                        <a:lnTo>
                          <a:pt x="39" y="0"/>
                        </a:lnTo>
                        <a:lnTo>
                          <a:pt x="48" y="0"/>
                        </a:lnTo>
                        <a:lnTo>
                          <a:pt x="57" y="0"/>
                        </a:lnTo>
                        <a:lnTo>
                          <a:pt x="84" y="0"/>
                        </a:lnTo>
                        <a:lnTo>
                          <a:pt x="102" y="0"/>
                        </a:lnTo>
                        <a:lnTo>
                          <a:pt x="12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7" name=""/>
                  <p:cNvSpPr/>
                  <p:nvPr/>
                </p:nvSpPr>
                <p:spPr>
                  <a:xfrm>
                    <a:off x="1295280" y="1577880"/>
                    <a:ext cx="57600" cy="9720"/>
                  </a:xfrm>
                  <a:custGeom>
                    <a:avLst/>
                    <a:gdLst/>
                    <a:ahLst/>
                    <a:rect l="0" t="0" r="r" b="b"/>
                    <a:pathLst>
                      <a:path w="160" h="27">
                        <a:moveTo>
                          <a:pt x="160" y="14"/>
                        </a:moveTo>
                        <a:lnTo>
                          <a:pt x="147" y="14"/>
                        </a:lnTo>
                        <a:lnTo>
                          <a:pt x="129" y="8"/>
                        </a:lnTo>
                        <a:lnTo>
                          <a:pt x="115" y="4"/>
                        </a:lnTo>
                        <a:lnTo>
                          <a:pt x="102" y="4"/>
                        </a:lnTo>
                        <a:lnTo>
                          <a:pt x="84" y="4"/>
                        </a:lnTo>
                        <a:lnTo>
                          <a:pt x="71" y="4"/>
                        </a:lnTo>
                        <a:lnTo>
                          <a:pt x="58" y="8"/>
                        </a:lnTo>
                        <a:lnTo>
                          <a:pt x="39" y="14"/>
                        </a:lnTo>
                        <a:lnTo>
                          <a:pt x="35" y="18"/>
                        </a:lnTo>
                        <a:lnTo>
                          <a:pt x="17" y="23"/>
                        </a:lnTo>
                        <a:lnTo>
                          <a:pt x="0" y="27"/>
                        </a:lnTo>
                        <a:lnTo>
                          <a:pt x="13" y="23"/>
                        </a:lnTo>
                        <a:lnTo>
                          <a:pt x="22" y="14"/>
                        </a:lnTo>
                        <a:lnTo>
                          <a:pt x="35" y="14"/>
                        </a:lnTo>
                        <a:lnTo>
                          <a:pt x="58" y="4"/>
                        </a:lnTo>
                        <a:lnTo>
                          <a:pt x="71" y="0"/>
                        </a:lnTo>
                        <a:lnTo>
                          <a:pt x="84" y="0"/>
                        </a:lnTo>
                        <a:lnTo>
                          <a:pt x="102" y="0"/>
                        </a:lnTo>
                        <a:lnTo>
                          <a:pt x="115" y="0"/>
                        </a:lnTo>
                        <a:lnTo>
                          <a:pt x="125" y="4"/>
                        </a:lnTo>
                        <a:lnTo>
                          <a:pt x="138" y="8"/>
                        </a:lnTo>
                        <a:lnTo>
                          <a:pt x="160" y="14"/>
                        </a:lnTo>
                        <a:close/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8" name=""/>
                  <p:cNvSpPr/>
                  <p:nvPr/>
                </p:nvSpPr>
                <p:spPr>
                  <a:xfrm>
                    <a:off x="1293840" y="1577880"/>
                    <a:ext cx="54360" cy="8280"/>
                  </a:xfrm>
                  <a:custGeom>
                    <a:avLst/>
                    <a:gdLst/>
                    <a:ahLst/>
                    <a:rect l="0" t="0" r="r" b="b"/>
                    <a:pathLst>
                      <a:path w="151" h="23">
                        <a:moveTo>
                          <a:pt x="151" y="14"/>
                        </a:moveTo>
                        <a:lnTo>
                          <a:pt x="138" y="8"/>
                        </a:lnTo>
                        <a:lnTo>
                          <a:pt x="129" y="4"/>
                        </a:lnTo>
                        <a:lnTo>
                          <a:pt x="116" y="4"/>
                        </a:lnTo>
                        <a:lnTo>
                          <a:pt x="93" y="0"/>
                        </a:lnTo>
                        <a:lnTo>
                          <a:pt x="84" y="0"/>
                        </a:lnTo>
                        <a:lnTo>
                          <a:pt x="71" y="4"/>
                        </a:lnTo>
                        <a:lnTo>
                          <a:pt x="58" y="8"/>
                        </a:lnTo>
                        <a:lnTo>
                          <a:pt x="40" y="8"/>
                        </a:lnTo>
                        <a:lnTo>
                          <a:pt x="26" y="14"/>
                        </a:lnTo>
                        <a:lnTo>
                          <a:pt x="17" y="23"/>
                        </a:lnTo>
                        <a:lnTo>
                          <a:pt x="0" y="23"/>
                        </a:lnTo>
                        <a:lnTo>
                          <a:pt x="4" y="18"/>
                        </a:lnTo>
                        <a:lnTo>
                          <a:pt x="17" y="14"/>
                        </a:lnTo>
                        <a:lnTo>
                          <a:pt x="40" y="8"/>
                        </a:lnTo>
                        <a:lnTo>
                          <a:pt x="58" y="0"/>
                        </a:lnTo>
                        <a:lnTo>
                          <a:pt x="71" y="0"/>
                        </a:lnTo>
                        <a:lnTo>
                          <a:pt x="84" y="0"/>
                        </a:lnTo>
                        <a:lnTo>
                          <a:pt x="93" y="0"/>
                        </a:lnTo>
                        <a:lnTo>
                          <a:pt x="111" y="0"/>
                        </a:lnTo>
                        <a:lnTo>
                          <a:pt x="129" y="0"/>
                        </a:lnTo>
                        <a:lnTo>
                          <a:pt x="134" y="4"/>
                        </a:lnTo>
                        <a:lnTo>
                          <a:pt x="151" y="1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9" name=""/>
                  <p:cNvSpPr/>
                  <p:nvPr/>
                </p:nvSpPr>
                <p:spPr>
                  <a:xfrm>
                    <a:off x="1298520" y="1571760"/>
                    <a:ext cx="59040" cy="6840"/>
                  </a:xfrm>
                  <a:custGeom>
                    <a:avLst/>
                    <a:gdLst/>
                    <a:ahLst/>
                    <a:rect l="0" t="0" r="r" b="b"/>
                    <a:pathLst>
                      <a:path w="164" h="19">
                        <a:moveTo>
                          <a:pt x="164" y="19"/>
                        </a:moveTo>
                        <a:lnTo>
                          <a:pt x="137" y="9"/>
                        </a:lnTo>
                        <a:lnTo>
                          <a:pt x="120" y="4"/>
                        </a:lnTo>
                        <a:lnTo>
                          <a:pt x="111" y="4"/>
                        </a:lnTo>
                        <a:lnTo>
                          <a:pt x="84" y="0"/>
                        </a:lnTo>
                        <a:lnTo>
                          <a:pt x="74" y="0"/>
                        </a:lnTo>
                        <a:lnTo>
                          <a:pt x="44" y="4"/>
                        </a:lnTo>
                        <a:lnTo>
                          <a:pt x="26" y="9"/>
                        </a:lnTo>
                        <a:lnTo>
                          <a:pt x="8" y="15"/>
                        </a:lnTo>
                        <a:lnTo>
                          <a:pt x="0" y="19"/>
                        </a:lnTo>
                        <a:lnTo>
                          <a:pt x="13" y="15"/>
                        </a:lnTo>
                        <a:lnTo>
                          <a:pt x="26" y="9"/>
                        </a:lnTo>
                        <a:lnTo>
                          <a:pt x="44" y="4"/>
                        </a:lnTo>
                        <a:lnTo>
                          <a:pt x="61" y="0"/>
                        </a:lnTo>
                        <a:lnTo>
                          <a:pt x="74" y="0"/>
                        </a:lnTo>
                        <a:lnTo>
                          <a:pt x="84" y="0"/>
                        </a:lnTo>
                        <a:lnTo>
                          <a:pt x="111" y="0"/>
                        </a:lnTo>
                        <a:lnTo>
                          <a:pt x="120" y="4"/>
                        </a:lnTo>
                        <a:lnTo>
                          <a:pt x="133" y="4"/>
                        </a:lnTo>
                        <a:lnTo>
                          <a:pt x="142" y="15"/>
                        </a:lnTo>
                        <a:lnTo>
                          <a:pt x="164" y="19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930" name=""/>
            <p:cNvGrpSpPr/>
            <p:nvPr/>
          </p:nvGrpSpPr>
          <p:grpSpPr>
            <a:xfrm>
              <a:off x="682560" y="1825560"/>
              <a:ext cx="1525680" cy="4318560"/>
              <a:chOff x="682560" y="1825560"/>
              <a:chExt cx="1525680" cy="4318560"/>
            </a:xfrm>
          </p:grpSpPr>
          <p:sp>
            <p:nvSpPr>
              <p:cNvPr id="931" name=""/>
              <p:cNvSpPr/>
              <p:nvPr/>
            </p:nvSpPr>
            <p:spPr>
              <a:xfrm flipV="1">
                <a:off x="1366920" y="3240000"/>
                <a:ext cx="0" cy="67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32" name=""/>
              <p:cNvGrpSpPr/>
              <p:nvPr/>
            </p:nvGrpSpPr>
            <p:grpSpPr>
              <a:xfrm>
                <a:off x="1141560" y="4622760"/>
                <a:ext cx="443160" cy="1521360"/>
                <a:chOff x="1141560" y="4622760"/>
                <a:chExt cx="443160" cy="1521360"/>
              </a:xfrm>
            </p:grpSpPr>
            <p:grpSp>
              <p:nvGrpSpPr>
                <p:cNvPr id="933" name=""/>
                <p:cNvGrpSpPr/>
                <p:nvPr/>
              </p:nvGrpSpPr>
              <p:grpSpPr>
                <a:xfrm>
                  <a:off x="1141560" y="4622760"/>
                  <a:ext cx="284400" cy="1394280"/>
                  <a:chOff x="1141560" y="4622760"/>
                  <a:chExt cx="284400" cy="1394280"/>
                </a:xfrm>
              </p:grpSpPr>
              <p:grpSp>
                <p:nvGrpSpPr>
                  <p:cNvPr id="934" name=""/>
                  <p:cNvGrpSpPr/>
                  <p:nvPr/>
                </p:nvGrpSpPr>
                <p:grpSpPr>
                  <a:xfrm>
                    <a:off x="1141560" y="4622760"/>
                    <a:ext cx="284400" cy="1244880"/>
                    <a:chOff x="1141560" y="4622760"/>
                    <a:chExt cx="284400" cy="1244880"/>
                  </a:xfrm>
                </p:grpSpPr>
                <p:sp>
                  <p:nvSpPr>
                    <p:cNvPr id="935" name=""/>
                    <p:cNvSpPr/>
                    <p:nvPr/>
                  </p:nvSpPr>
                  <p:spPr>
                    <a:xfrm>
                      <a:off x="1141560" y="4622760"/>
                      <a:ext cx="284400" cy="124488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790" h="3458">
                          <a:moveTo>
                            <a:pt x="0" y="22"/>
                          </a:moveTo>
                          <a:lnTo>
                            <a:pt x="0" y="277"/>
                          </a:lnTo>
                          <a:lnTo>
                            <a:pt x="22" y="489"/>
                          </a:lnTo>
                          <a:lnTo>
                            <a:pt x="35" y="696"/>
                          </a:lnTo>
                          <a:lnTo>
                            <a:pt x="57" y="864"/>
                          </a:lnTo>
                          <a:lnTo>
                            <a:pt x="79" y="1014"/>
                          </a:lnTo>
                          <a:lnTo>
                            <a:pt x="114" y="1172"/>
                          </a:lnTo>
                          <a:lnTo>
                            <a:pt x="141" y="1340"/>
                          </a:lnTo>
                          <a:lnTo>
                            <a:pt x="167" y="1446"/>
                          </a:lnTo>
                          <a:lnTo>
                            <a:pt x="194" y="1583"/>
                          </a:lnTo>
                          <a:lnTo>
                            <a:pt x="229" y="1734"/>
                          </a:lnTo>
                          <a:lnTo>
                            <a:pt x="251" y="1853"/>
                          </a:lnTo>
                          <a:lnTo>
                            <a:pt x="277" y="1954"/>
                          </a:lnTo>
                          <a:lnTo>
                            <a:pt x="299" y="2051"/>
                          </a:lnTo>
                          <a:lnTo>
                            <a:pt x="321" y="2179"/>
                          </a:lnTo>
                          <a:lnTo>
                            <a:pt x="352" y="2316"/>
                          </a:lnTo>
                          <a:lnTo>
                            <a:pt x="357" y="2413"/>
                          </a:lnTo>
                          <a:lnTo>
                            <a:pt x="370" y="2545"/>
                          </a:lnTo>
                          <a:lnTo>
                            <a:pt x="370" y="2668"/>
                          </a:lnTo>
                          <a:lnTo>
                            <a:pt x="370" y="2757"/>
                          </a:lnTo>
                          <a:lnTo>
                            <a:pt x="313" y="2920"/>
                          </a:lnTo>
                          <a:lnTo>
                            <a:pt x="286" y="3021"/>
                          </a:lnTo>
                          <a:lnTo>
                            <a:pt x="246" y="3158"/>
                          </a:lnTo>
                          <a:lnTo>
                            <a:pt x="229" y="3255"/>
                          </a:lnTo>
                          <a:lnTo>
                            <a:pt x="238" y="3370"/>
                          </a:lnTo>
                          <a:lnTo>
                            <a:pt x="291" y="3440"/>
                          </a:lnTo>
                          <a:lnTo>
                            <a:pt x="370" y="3453"/>
                          </a:lnTo>
                          <a:lnTo>
                            <a:pt x="499" y="3458"/>
                          </a:lnTo>
                          <a:lnTo>
                            <a:pt x="587" y="3436"/>
                          </a:lnTo>
                          <a:lnTo>
                            <a:pt x="636" y="3352"/>
                          </a:lnTo>
                          <a:lnTo>
                            <a:pt x="662" y="3264"/>
                          </a:lnTo>
                          <a:lnTo>
                            <a:pt x="671" y="3162"/>
                          </a:lnTo>
                          <a:lnTo>
                            <a:pt x="715" y="3065"/>
                          </a:lnTo>
                          <a:lnTo>
                            <a:pt x="733" y="2959"/>
                          </a:lnTo>
                          <a:lnTo>
                            <a:pt x="755" y="2862"/>
                          </a:lnTo>
                          <a:lnTo>
                            <a:pt x="741" y="2735"/>
                          </a:lnTo>
                          <a:lnTo>
                            <a:pt x="715" y="2633"/>
                          </a:lnTo>
                          <a:lnTo>
                            <a:pt x="693" y="2492"/>
                          </a:lnTo>
                          <a:lnTo>
                            <a:pt x="675" y="2373"/>
                          </a:lnTo>
                          <a:lnTo>
                            <a:pt x="671" y="2280"/>
                          </a:lnTo>
                          <a:lnTo>
                            <a:pt x="671" y="2170"/>
                          </a:lnTo>
                          <a:lnTo>
                            <a:pt x="666" y="2038"/>
                          </a:lnTo>
                          <a:lnTo>
                            <a:pt x="671" y="1950"/>
                          </a:lnTo>
                          <a:lnTo>
                            <a:pt x="671" y="1844"/>
                          </a:lnTo>
                          <a:lnTo>
                            <a:pt x="675" y="1715"/>
                          </a:lnTo>
                          <a:lnTo>
                            <a:pt x="684" y="1605"/>
                          </a:lnTo>
                          <a:lnTo>
                            <a:pt x="710" y="1508"/>
                          </a:lnTo>
                          <a:lnTo>
                            <a:pt x="724" y="1384"/>
                          </a:lnTo>
                          <a:lnTo>
                            <a:pt x="733" y="1300"/>
                          </a:lnTo>
                          <a:lnTo>
                            <a:pt x="746" y="1172"/>
                          </a:lnTo>
                          <a:lnTo>
                            <a:pt x="746" y="1067"/>
                          </a:lnTo>
                          <a:lnTo>
                            <a:pt x="746" y="952"/>
                          </a:lnTo>
                          <a:lnTo>
                            <a:pt x="746" y="745"/>
                          </a:lnTo>
                          <a:lnTo>
                            <a:pt x="746" y="626"/>
                          </a:lnTo>
                          <a:lnTo>
                            <a:pt x="755" y="533"/>
                          </a:lnTo>
                          <a:lnTo>
                            <a:pt x="781" y="436"/>
                          </a:lnTo>
                          <a:lnTo>
                            <a:pt x="790" y="352"/>
                          </a:lnTo>
                          <a:lnTo>
                            <a:pt x="781" y="251"/>
                          </a:lnTo>
                          <a:lnTo>
                            <a:pt x="772" y="0"/>
                          </a:lnTo>
                          <a:lnTo>
                            <a:pt x="0" y="22"/>
                          </a:lnTo>
                          <a:close/>
                        </a:path>
                      </a:pathLst>
                    </a:custGeom>
                    <a:solidFill>
                      <a:srgbClr val="ffdfb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6" name=""/>
                    <p:cNvSpPr/>
                    <p:nvPr/>
                  </p:nvSpPr>
                  <p:spPr>
                    <a:xfrm>
                      <a:off x="1144440" y="4740120"/>
                      <a:ext cx="157680" cy="1908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438" h="530">
                          <a:moveTo>
                            <a:pt x="61" y="530"/>
                          </a:moveTo>
                          <a:lnTo>
                            <a:pt x="105" y="499"/>
                          </a:lnTo>
                          <a:lnTo>
                            <a:pt x="181" y="459"/>
                          </a:lnTo>
                          <a:lnTo>
                            <a:pt x="247" y="428"/>
                          </a:lnTo>
                          <a:lnTo>
                            <a:pt x="314" y="411"/>
                          </a:lnTo>
                          <a:lnTo>
                            <a:pt x="403" y="397"/>
                          </a:lnTo>
                          <a:lnTo>
                            <a:pt x="438" y="17"/>
                          </a:lnTo>
                          <a:lnTo>
                            <a:pt x="0" y="0"/>
                          </a:lnTo>
                          <a:lnTo>
                            <a:pt x="22" y="185"/>
                          </a:lnTo>
                          <a:lnTo>
                            <a:pt x="30" y="362"/>
                          </a:lnTo>
                          <a:lnTo>
                            <a:pt x="61" y="530"/>
                          </a:lnTo>
                          <a:close/>
                        </a:path>
                      </a:pathLst>
                    </a:custGeom>
                    <a:solidFill>
                      <a:srgbClr val="ff9f7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7" name=""/>
                  <p:cNvGrpSpPr/>
                  <p:nvPr/>
                </p:nvGrpSpPr>
                <p:grpSpPr>
                  <a:xfrm>
                    <a:off x="1168560" y="5672160"/>
                    <a:ext cx="240120" cy="344880"/>
                    <a:chOff x="1168560" y="5672160"/>
                    <a:chExt cx="240120" cy="344880"/>
                  </a:xfrm>
                </p:grpSpPr>
                <p:sp>
                  <p:nvSpPr>
                    <p:cNvPr id="938" name=""/>
                    <p:cNvSpPr/>
                    <p:nvPr/>
                  </p:nvSpPr>
                  <p:spPr>
                    <a:xfrm>
                      <a:off x="1168560" y="5672160"/>
                      <a:ext cx="240120" cy="34488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667" h="958">
                          <a:moveTo>
                            <a:pt x="190" y="207"/>
                          </a:moveTo>
                          <a:lnTo>
                            <a:pt x="114" y="353"/>
                          </a:lnTo>
                          <a:lnTo>
                            <a:pt x="92" y="415"/>
                          </a:lnTo>
                          <a:lnTo>
                            <a:pt x="70" y="459"/>
                          </a:lnTo>
                          <a:lnTo>
                            <a:pt x="44" y="494"/>
                          </a:lnTo>
                          <a:lnTo>
                            <a:pt x="22" y="547"/>
                          </a:lnTo>
                          <a:lnTo>
                            <a:pt x="17" y="583"/>
                          </a:lnTo>
                          <a:lnTo>
                            <a:pt x="0" y="636"/>
                          </a:lnTo>
                          <a:lnTo>
                            <a:pt x="8" y="715"/>
                          </a:lnTo>
                          <a:lnTo>
                            <a:pt x="22" y="756"/>
                          </a:lnTo>
                          <a:lnTo>
                            <a:pt x="70" y="835"/>
                          </a:lnTo>
                          <a:lnTo>
                            <a:pt x="123" y="888"/>
                          </a:lnTo>
                          <a:lnTo>
                            <a:pt x="181" y="936"/>
                          </a:lnTo>
                          <a:lnTo>
                            <a:pt x="278" y="958"/>
                          </a:lnTo>
                          <a:lnTo>
                            <a:pt x="353" y="919"/>
                          </a:lnTo>
                          <a:lnTo>
                            <a:pt x="424" y="883"/>
                          </a:lnTo>
                          <a:lnTo>
                            <a:pt x="477" y="826"/>
                          </a:lnTo>
                          <a:lnTo>
                            <a:pt x="522" y="782"/>
                          </a:lnTo>
                          <a:lnTo>
                            <a:pt x="535" y="734"/>
                          </a:lnTo>
                          <a:lnTo>
                            <a:pt x="553" y="644"/>
                          </a:lnTo>
                          <a:lnTo>
                            <a:pt x="570" y="569"/>
                          </a:lnTo>
                          <a:lnTo>
                            <a:pt x="579" y="508"/>
                          </a:lnTo>
                          <a:lnTo>
                            <a:pt x="588" y="450"/>
                          </a:lnTo>
                          <a:lnTo>
                            <a:pt x="597" y="406"/>
                          </a:lnTo>
                          <a:lnTo>
                            <a:pt x="601" y="327"/>
                          </a:lnTo>
                          <a:lnTo>
                            <a:pt x="614" y="269"/>
                          </a:lnTo>
                          <a:lnTo>
                            <a:pt x="637" y="224"/>
                          </a:lnTo>
                          <a:lnTo>
                            <a:pt x="654" y="176"/>
                          </a:lnTo>
                          <a:lnTo>
                            <a:pt x="667" y="97"/>
                          </a:lnTo>
                          <a:lnTo>
                            <a:pt x="667" y="0"/>
                          </a:lnTo>
                          <a:lnTo>
                            <a:pt x="645" y="83"/>
                          </a:lnTo>
                          <a:lnTo>
                            <a:pt x="637" y="171"/>
                          </a:lnTo>
                          <a:lnTo>
                            <a:pt x="601" y="224"/>
                          </a:lnTo>
                          <a:lnTo>
                            <a:pt x="588" y="292"/>
                          </a:lnTo>
                          <a:lnTo>
                            <a:pt x="579" y="380"/>
                          </a:lnTo>
                          <a:lnTo>
                            <a:pt x="566" y="450"/>
                          </a:lnTo>
                          <a:lnTo>
                            <a:pt x="535" y="481"/>
                          </a:lnTo>
                          <a:lnTo>
                            <a:pt x="494" y="525"/>
                          </a:lnTo>
                          <a:lnTo>
                            <a:pt x="459" y="534"/>
                          </a:lnTo>
                          <a:lnTo>
                            <a:pt x="415" y="543"/>
                          </a:lnTo>
                          <a:lnTo>
                            <a:pt x="336" y="534"/>
                          </a:lnTo>
                          <a:lnTo>
                            <a:pt x="278" y="508"/>
                          </a:lnTo>
                          <a:lnTo>
                            <a:pt x="225" y="494"/>
                          </a:lnTo>
                          <a:lnTo>
                            <a:pt x="195" y="472"/>
                          </a:lnTo>
                          <a:lnTo>
                            <a:pt x="154" y="424"/>
                          </a:lnTo>
                          <a:lnTo>
                            <a:pt x="154" y="362"/>
                          </a:lnTo>
                          <a:lnTo>
                            <a:pt x="190" y="20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9" name=""/>
                    <p:cNvSpPr/>
                    <p:nvPr/>
                  </p:nvSpPr>
                  <p:spPr>
                    <a:xfrm>
                      <a:off x="1230480" y="5840280"/>
                      <a:ext cx="74520" cy="68400"/>
                    </a:xfrm>
                    <a:prstGeom prst="ellipse">
                      <a:avLst/>
                    </a:prstGeom>
                    <a:solidFill>
                      <a:srgbClr val="5f5f7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17280" bIns="17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940" name=""/>
                <p:cNvGrpSpPr/>
                <p:nvPr/>
              </p:nvGrpSpPr>
              <p:grpSpPr>
                <a:xfrm>
                  <a:off x="1293840" y="4738680"/>
                  <a:ext cx="290880" cy="1405440"/>
                  <a:chOff x="1293840" y="4738680"/>
                  <a:chExt cx="290880" cy="1405440"/>
                </a:xfrm>
              </p:grpSpPr>
              <p:sp>
                <p:nvSpPr>
                  <p:cNvPr id="941" name=""/>
                  <p:cNvSpPr/>
                  <p:nvPr/>
                </p:nvSpPr>
                <p:spPr>
                  <a:xfrm>
                    <a:off x="1298520" y="4738680"/>
                    <a:ext cx="286200" cy="1249560"/>
                  </a:xfrm>
                  <a:custGeom>
                    <a:avLst/>
                    <a:gdLst/>
                    <a:ahLst/>
                    <a:rect l="0" t="0" r="r" b="b"/>
                    <a:pathLst>
                      <a:path w="795" h="3471">
                        <a:moveTo>
                          <a:pt x="795" y="22"/>
                        </a:moveTo>
                        <a:lnTo>
                          <a:pt x="747" y="286"/>
                        </a:lnTo>
                        <a:lnTo>
                          <a:pt x="725" y="480"/>
                        </a:lnTo>
                        <a:lnTo>
                          <a:pt x="711" y="709"/>
                        </a:lnTo>
                        <a:lnTo>
                          <a:pt x="689" y="881"/>
                        </a:lnTo>
                        <a:lnTo>
                          <a:pt x="659" y="1067"/>
                        </a:lnTo>
                        <a:lnTo>
                          <a:pt x="645" y="1199"/>
                        </a:lnTo>
                        <a:lnTo>
                          <a:pt x="619" y="1340"/>
                        </a:lnTo>
                        <a:lnTo>
                          <a:pt x="591" y="1494"/>
                        </a:lnTo>
                        <a:lnTo>
                          <a:pt x="561" y="1605"/>
                        </a:lnTo>
                        <a:lnTo>
                          <a:pt x="538" y="1742"/>
                        </a:lnTo>
                        <a:lnTo>
                          <a:pt x="512" y="1857"/>
                        </a:lnTo>
                        <a:lnTo>
                          <a:pt x="499" y="1976"/>
                        </a:lnTo>
                        <a:lnTo>
                          <a:pt x="494" y="2064"/>
                        </a:lnTo>
                        <a:lnTo>
                          <a:pt x="472" y="2192"/>
                        </a:lnTo>
                        <a:lnTo>
                          <a:pt x="446" y="2324"/>
                        </a:lnTo>
                        <a:lnTo>
                          <a:pt x="437" y="2421"/>
                        </a:lnTo>
                        <a:lnTo>
                          <a:pt x="428" y="2545"/>
                        </a:lnTo>
                        <a:lnTo>
                          <a:pt x="428" y="2682"/>
                        </a:lnTo>
                        <a:lnTo>
                          <a:pt x="428" y="2761"/>
                        </a:lnTo>
                        <a:lnTo>
                          <a:pt x="477" y="2929"/>
                        </a:lnTo>
                        <a:lnTo>
                          <a:pt x="508" y="3026"/>
                        </a:lnTo>
                        <a:lnTo>
                          <a:pt x="543" y="3176"/>
                        </a:lnTo>
                        <a:lnTo>
                          <a:pt x="561" y="3264"/>
                        </a:lnTo>
                        <a:lnTo>
                          <a:pt x="552" y="3383"/>
                        </a:lnTo>
                        <a:lnTo>
                          <a:pt x="499" y="3449"/>
                        </a:lnTo>
                        <a:lnTo>
                          <a:pt x="428" y="3462"/>
                        </a:lnTo>
                        <a:lnTo>
                          <a:pt x="296" y="3471"/>
                        </a:lnTo>
                        <a:lnTo>
                          <a:pt x="203" y="3440"/>
                        </a:lnTo>
                        <a:lnTo>
                          <a:pt x="149" y="3356"/>
                        </a:lnTo>
                        <a:lnTo>
                          <a:pt x="127" y="3273"/>
                        </a:lnTo>
                        <a:lnTo>
                          <a:pt x="119" y="3176"/>
                        </a:lnTo>
                        <a:lnTo>
                          <a:pt x="74" y="3074"/>
                        </a:lnTo>
                        <a:lnTo>
                          <a:pt x="52" y="2964"/>
                        </a:lnTo>
                        <a:lnTo>
                          <a:pt x="35" y="2867"/>
                        </a:lnTo>
                        <a:lnTo>
                          <a:pt x="48" y="2743"/>
                        </a:lnTo>
                        <a:lnTo>
                          <a:pt x="74" y="2642"/>
                        </a:lnTo>
                        <a:lnTo>
                          <a:pt x="88" y="2496"/>
                        </a:lnTo>
                        <a:lnTo>
                          <a:pt x="114" y="2377"/>
                        </a:lnTo>
                        <a:lnTo>
                          <a:pt x="119" y="2289"/>
                        </a:lnTo>
                        <a:lnTo>
                          <a:pt x="119" y="2174"/>
                        </a:lnTo>
                        <a:lnTo>
                          <a:pt x="119" y="2042"/>
                        </a:lnTo>
                        <a:lnTo>
                          <a:pt x="119" y="1950"/>
                        </a:lnTo>
                        <a:lnTo>
                          <a:pt x="119" y="1853"/>
                        </a:lnTo>
                        <a:lnTo>
                          <a:pt x="114" y="1724"/>
                        </a:lnTo>
                        <a:lnTo>
                          <a:pt x="101" y="1613"/>
                        </a:lnTo>
                        <a:lnTo>
                          <a:pt x="83" y="1516"/>
                        </a:lnTo>
                        <a:lnTo>
                          <a:pt x="57" y="1397"/>
                        </a:lnTo>
                        <a:lnTo>
                          <a:pt x="52" y="1314"/>
                        </a:lnTo>
                        <a:lnTo>
                          <a:pt x="39" y="1177"/>
                        </a:lnTo>
                        <a:lnTo>
                          <a:pt x="39" y="1071"/>
                        </a:lnTo>
                        <a:lnTo>
                          <a:pt x="39" y="952"/>
                        </a:lnTo>
                        <a:lnTo>
                          <a:pt x="39" y="749"/>
                        </a:lnTo>
                        <a:lnTo>
                          <a:pt x="39" y="643"/>
                        </a:lnTo>
                        <a:lnTo>
                          <a:pt x="35" y="542"/>
                        </a:lnTo>
                        <a:lnTo>
                          <a:pt x="8" y="445"/>
                        </a:lnTo>
                        <a:lnTo>
                          <a:pt x="0" y="357"/>
                        </a:lnTo>
                        <a:lnTo>
                          <a:pt x="8" y="255"/>
                        </a:lnTo>
                        <a:lnTo>
                          <a:pt x="17" y="0"/>
                        </a:lnTo>
                        <a:lnTo>
                          <a:pt x="795" y="22"/>
                        </a:lnTo>
                        <a:close/>
                      </a:path>
                    </a:pathLst>
                  </a:custGeom>
                  <a:solidFill>
                    <a:srgbClr val="ffdfb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2" name=""/>
                  <p:cNvSpPr/>
                  <p:nvPr/>
                </p:nvSpPr>
                <p:spPr>
                  <a:xfrm>
                    <a:off x="1293840" y="4754520"/>
                    <a:ext cx="276480" cy="146520"/>
                  </a:xfrm>
                  <a:custGeom>
                    <a:avLst/>
                    <a:gdLst/>
                    <a:ahLst/>
                    <a:rect l="0" t="0" r="r" b="b"/>
                    <a:pathLst>
                      <a:path w="768" h="407">
                        <a:moveTo>
                          <a:pt x="13" y="407"/>
                        </a:moveTo>
                        <a:lnTo>
                          <a:pt x="57" y="376"/>
                        </a:lnTo>
                        <a:lnTo>
                          <a:pt x="114" y="341"/>
                        </a:lnTo>
                        <a:lnTo>
                          <a:pt x="202" y="296"/>
                        </a:lnTo>
                        <a:lnTo>
                          <a:pt x="277" y="278"/>
                        </a:lnTo>
                        <a:lnTo>
                          <a:pt x="374" y="265"/>
                        </a:lnTo>
                        <a:lnTo>
                          <a:pt x="464" y="265"/>
                        </a:lnTo>
                        <a:lnTo>
                          <a:pt x="596" y="265"/>
                        </a:lnTo>
                        <a:lnTo>
                          <a:pt x="763" y="265"/>
                        </a:lnTo>
                        <a:lnTo>
                          <a:pt x="768" y="133"/>
                        </a:lnTo>
                        <a:lnTo>
                          <a:pt x="768" y="0"/>
                        </a:lnTo>
                        <a:lnTo>
                          <a:pt x="22" y="0"/>
                        </a:lnTo>
                        <a:lnTo>
                          <a:pt x="4" y="186"/>
                        </a:lnTo>
                        <a:lnTo>
                          <a:pt x="0" y="265"/>
                        </a:lnTo>
                        <a:lnTo>
                          <a:pt x="0" y="332"/>
                        </a:lnTo>
                        <a:lnTo>
                          <a:pt x="13" y="407"/>
                        </a:lnTo>
                        <a:close/>
                      </a:path>
                    </a:pathLst>
                  </a:custGeom>
                  <a:solidFill>
                    <a:srgbClr val="ff9f7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43" name=""/>
                  <p:cNvGrpSpPr/>
                  <p:nvPr/>
                </p:nvGrpSpPr>
                <p:grpSpPr>
                  <a:xfrm>
                    <a:off x="1311120" y="5788080"/>
                    <a:ext cx="244800" cy="356040"/>
                    <a:chOff x="1311120" y="5788080"/>
                    <a:chExt cx="244800" cy="356040"/>
                  </a:xfrm>
                </p:grpSpPr>
                <p:sp>
                  <p:nvSpPr>
                    <p:cNvPr id="944" name=""/>
                    <p:cNvSpPr/>
                    <p:nvPr/>
                  </p:nvSpPr>
                  <p:spPr>
                    <a:xfrm>
                      <a:off x="1311120" y="5788080"/>
                      <a:ext cx="244800" cy="3560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680" h="989">
                          <a:moveTo>
                            <a:pt x="494" y="229"/>
                          </a:moveTo>
                          <a:lnTo>
                            <a:pt x="569" y="358"/>
                          </a:lnTo>
                          <a:lnTo>
                            <a:pt x="596" y="419"/>
                          </a:lnTo>
                          <a:lnTo>
                            <a:pt x="613" y="459"/>
                          </a:lnTo>
                          <a:lnTo>
                            <a:pt x="636" y="508"/>
                          </a:lnTo>
                          <a:lnTo>
                            <a:pt x="662" y="547"/>
                          </a:lnTo>
                          <a:lnTo>
                            <a:pt x="662" y="583"/>
                          </a:lnTo>
                          <a:lnTo>
                            <a:pt x="680" y="640"/>
                          </a:lnTo>
                          <a:lnTo>
                            <a:pt x="680" y="706"/>
                          </a:lnTo>
                          <a:lnTo>
                            <a:pt x="662" y="769"/>
                          </a:lnTo>
                          <a:lnTo>
                            <a:pt x="627" y="866"/>
                          </a:lnTo>
                          <a:lnTo>
                            <a:pt x="587" y="919"/>
                          </a:lnTo>
                          <a:lnTo>
                            <a:pt x="538" y="963"/>
                          </a:lnTo>
                          <a:lnTo>
                            <a:pt x="486" y="989"/>
                          </a:lnTo>
                          <a:lnTo>
                            <a:pt x="402" y="954"/>
                          </a:lnTo>
                          <a:lnTo>
                            <a:pt x="295" y="910"/>
                          </a:lnTo>
                          <a:lnTo>
                            <a:pt x="202" y="835"/>
                          </a:lnTo>
                          <a:lnTo>
                            <a:pt x="154" y="786"/>
                          </a:lnTo>
                          <a:lnTo>
                            <a:pt x="132" y="737"/>
                          </a:lnTo>
                          <a:lnTo>
                            <a:pt x="132" y="662"/>
                          </a:lnTo>
                          <a:lnTo>
                            <a:pt x="110" y="578"/>
                          </a:lnTo>
                          <a:lnTo>
                            <a:pt x="105" y="516"/>
                          </a:lnTo>
                          <a:lnTo>
                            <a:pt x="83" y="455"/>
                          </a:lnTo>
                          <a:lnTo>
                            <a:pt x="79" y="411"/>
                          </a:lnTo>
                          <a:lnTo>
                            <a:pt x="66" y="331"/>
                          </a:lnTo>
                          <a:lnTo>
                            <a:pt x="57" y="283"/>
                          </a:lnTo>
                          <a:lnTo>
                            <a:pt x="48" y="233"/>
                          </a:lnTo>
                          <a:lnTo>
                            <a:pt x="17" y="185"/>
                          </a:lnTo>
                          <a:lnTo>
                            <a:pt x="0" y="105"/>
                          </a:lnTo>
                          <a:lnTo>
                            <a:pt x="0" y="0"/>
                          </a:lnTo>
                          <a:lnTo>
                            <a:pt x="22" y="83"/>
                          </a:lnTo>
                          <a:lnTo>
                            <a:pt x="44" y="180"/>
                          </a:lnTo>
                          <a:lnTo>
                            <a:pt x="66" y="233"/>
                          </a:lnTo>
                          <a:lnTo>
                            <a:pt x="83" y="305"/>
                          </a:lnTo>
                          <a:lnTo>
                            <a:pt x="105" y="380"/>
                          </a:lnTo>
                          <a:lnTo>
                            <a:pt x="114" y="455"/>
                          </a:lnTo>
                          <a:lnTo>
                            <a:pt x="132" y="490"/>
                          </a:lnTo>
                          <a:lnTo>
                            <a:pt x="180" y="525"/>
                          </a:lnTo>
                          <a:lnTo>
                            <a:pt x="216" y="538"/>
                          </a:lnTo>
                          <a:lnTo>
                            <a:pt x="264" y="547"/>
                          </a:lnTo>
                          <a:lnTo>
                            <a:pt x="335" y="538"/>
                          </a:lnTo>
                          <a:lnTo>
                            <a:pt x="402" y="516"/>
                          </a:lnTo>
                          <a:lnTo>
                            <a:pt x="459" y="499"/>
                          </a:lnTo>
                          <a:lnTo>
                            <a:pt x="486" y="481"/>
                          </a:lnTo>
                          <a:lnTo>
                            <a:pt x="525" y="424"/>
                          </a:lnTo>
                          <a:lnTo>
                            <a:pt x="525" y="367"/>
                          </a:lnTo>
                          <a:lnTo>
                            <a:pt x="494" y="229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5" name=""/>
                    <p:cNvSpPr/>
                    <p:nvPr/>
                  </p:nvSpPr>
                  <p:spPr>
                    <a:xfrm>
                      <a:off x="1420920" y="5969160"/>
                      <a:ext cx="79200" cy="84240"/>
                    </a:xfrm>
                    <a:prstGeom prst="ellipse">
                      <a:avLst/>
                    </a:prstGeom>
                    <a:solidFill>
                      <a:srgbClr val="5f5f7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33120" bIns="33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46" name=""/>
                <p:cNvSpPr/>
                <p:nvPr/>
              </p:nvSpPr>
              <p:spPr>
                <a:xfrm>
                  <a:off x="1328760" y="4933800"/>
                  <a:ext cx="1440" cy="800280"/>
                </a:xfrm>
                <a:prstGeom prst="line">
                  <a:avLst/>
                </a:prstGeom>
                <a:ln w="12600">
                  <a:solidFill>
                    <a:srgbClr val="ff9f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7" name=""/>
              <p:cNvGrpSpPr/>
              <p:nvPr/>
            </p:nvGrpSpPr>
            <p:grpSpPr>
              <a:xfrm>
                <a:off x="682560" y="1825560"/>
                <a:ext cx="1325880" cy="3011760"/>
                <a:chOff x="682560" y="1825560"/>
                <a:chExt cx="1325880" cy="3011760"/>
              </a:xfrm>
            </p:grpSpPr>
            <p:grpSp>
              <p:nvGrpSpPr>
                <p:cNvPr id="948" name=""/>
                <p:cNvGrpSpPr/>
                <p:nvPr/>
              </p:nvGrpSpPr>
              <p:grpSpPr>
                <a:xfrm>
                  <a:off x="682560" y="1825560"/>
                  <a:ext cx="1325880" cy="3011760"/>
                  <a:chOff x="682560" y="1825560"/>
                  <a:chExt cx="1325880" cy="3011760"/>
                </a:xfrm>
              </p:grpSpPr>
              <p:grpSp>
                <p:nvGrpSpPr>
                  <p:cNvPr id="949" name=""/>
                  <p:cNvGrpSpPr/>
                  <p:nvPr/>
                </p:nvGrpSpPr>
                <p:grpSpPr>
                  <a:xfrm>
                    <a:off x="941400" y="3433680"/>
                    <a:ext cx="817920" cy="1403640"/>
                    <a:chOff x="941400" y="3433680"/>
                    <a:chExt cx="817920" cy="1403640"/>
                  </a:xfrm>
                </p:grpSpPr>
                <p:sp>
                  <p:nvSpPr>
                    <p:cNvPr id="950" name=""/>
                    <p:cNvSpPr/>
                    <p:nvPr/>
                  </p:nvSpPr>
                  <p:spPr>
                    <a:xfrm>
                      <a:off x="941400" y="3433680"/>
                      <a:ext cx="817920" cy="14036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2272" h="3899">
                          <a:moveTo>
                            <a:pt x="0" y="0"/>
                          </a:moveTo>
                          <a:lnTo>
                            <a:pt x="17" y="1389"/>
                          </a:lnTo>
                          <a:lnTo>
                            <a:pt x="79" y="1838"/>
                          </a:lnTo>
                          <a:lnTo>
                            <a:pt x="145" y="2302"/>
                          </a:lnTo>
                          <a:lnTo>
                            <a:pt x="202" y="2642"/>
                          </a:lnTo>
                          <a:lnTo>
                            <a:pt x="268" y="3078"/>
                          </a:lnTo>
                          <a:lnTo>
                            <a:pt x="321" y="3511"/>
                          </a:lnTo>
                          <a:lnTo>
                            <a:pt x="427" y="3559"/>
                          </a:lnTo>
                          <a:lnTo>
                            <a:pt x="533" y="3625"/>
                          </a:lnTo>
                          <a:lnTo>
                            <a:pt x="661" y="3696"/>
                          </a:lnTo>
                          <a:lnTo>
                            <a:pt x="802" y="3775"/>
                          </a:lnTo>
                          <a:lnTo>
                            <a:pt x="1009" y="3824"/>
                          </a:lnTo>
                          <a:lnTo>
                            <a:pt x="1098" y="3824"/>
                          </a:lnTo>
                          <a:lnTo>
                            <a:pt x="1147" y="3833"/>
                          </a:lnTo>
                          <a:lnTo>
                            <a:pt x="1209" y="3850"/>
                          </a:lnTo>
                          <a:lnTo>
                            <a:pt x="1262" y="3899"/>
                          </a:lnTo>
                          <a:lnTo>
                            <a:pt x="1416" y="3899"/>
                          </a:lnTo>
                          <a:lnTo>
                            <a:pt x="1685" y="3850"/>
                          </a:lnTo>
                          <a:lnTo>
                            <a:pt x="1888" y="3775"/>
                          </a:lnTo>
                          <a:lnTo>
                            <a:pt x="2011" y="3683"/>
                          </a:lnTo>
                          <a:lnTo>
                            <a:pt x="2069" y="3145"/>
                          </a:lnTo>
                          <a:lnTo>
                            <a:pt x="2122" y="2585"/>
                          </a:lnTo>
                          <a:lnTo>
                            <a:pt x="2219" y="2069"/>
                          </a:lnTo>
                          <a:lnTo>
                            <a:pt x="2258" y="1561"/>
                          </a:lnTo>
                          <a:lnTo>
                            <a:pt x="2272" y="1049"/>
                          </a:lnTo>
                          <a:lnTo>
                            <a:pt x="2236" y="202"/>
                          </a:lnTo>
                          <a:lnTo>
                            <a:pt x="2232" y="17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5f5f7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1" name=""/>
                    <p:cNvSpPr/>
                    <p:nvPr/>
                  </p:nvSpPr>
                  <p:spPr>
                    <a:xfrm>
                      <a:off x="1312920" y="3873600"/>
                      <a:ext cx="343440" cy="7765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954" h="2157">
                          <a:moveTo>
                            <a:pt x="261" y="405"/>
                          </a:moveTo>
                          <a:lnTo>
                            <a:pt x="202" y="533"/>
                          </a:lnTo>
                          <a:lnTo>
                            <a:pt x="158" y="661"/>
                          </a:lnTo>
                          <a:lnTo>
                            <a:pt x="145" y="820"/>
                          </a:lnTo>
                          <a:lnTo>
                            <a:pt x="22" y="2157"/>
                          </a:lnTo>
                          <a:lnTo>
                            <a:pt x="39" y="590"/>
                          </a:lnTo>
                          <a:lnTo>
                            <a:pt x="0" y="0"/>
                          </a:lnTo>
                          <a:lnTo>
                            <a:pt x="835" y="22"/>
                          </a:lnTo>
                          <a:lnTo>
                            <a:pt x="954" y="101"/>
                          </a:lnTo>
                          <a:lnTo>
                            <a:pt x="760" y="119"/>
                          </a:lnTo>
                          <a:lnTo>
                            <a:pt x="583" y="149"/>
                          </a:lnTo>
                          <a:lnTo>
                            <a:pt x="490" y="194"/>
                          </a:lnTo>
                          <a:lnTo>
                            <a:pt x="411" y="251"/>
                          </a:lnTo>
                          <a:lnTo>
                            <a:pt x="314" y="317"/>
                          </a:lnTo>
                          <a:lnTo>
                            <a:pt x="261" y="40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52" name=""/>
                  <p:cNvSpPr/>
                  <p:nvPr/>
                </p:nvSpPr>
                <p:spPr>
                  <a:xfrm>
                    <a:off x="682560" y="1825560"/>
                    <a:ext cx="1325880" cy="2092680"/>
                  </a:xfrm>
                  <a:custGeom>
                    <a:avLst/>
                    <a:gdLst/>
                    <a:ahLst/>
                    <a:rect l="0" t="0" r="r" b="b"/>
                    <a:pathLst>
                      <a:path w="3683" h="5813">
                        <a:moveTo>
                          <a:pt x="1680" y="0"/>
                        </a:moveTo>
                        <a:lnTo>
                          <a:pt x="1618" y="92"/>
                        </a:lnTo>
                        <a:lnTo>
                          <a:pt x="1569" y="145"/>
                        </a:lnTo>
                        <a:lnTo>
                          <a:pt x="1516" y="202"/>
                        </a:lnTo>
                        <a:lnTo>
                          <a:pt x="1441" y="273"/>
                        </a:lnTo>
                        <a:lnTo>
                          <a:pt x="1367" y="339"/>
                        </a:lnTo>
                        <a:lnTo>
                          <a:pt x="1212" y="392"/>
                        </a:lnTo>
                        <a:lnTo>
                          <a:pt x="1067" y="436"/>
                        </a:lnTo>
                        <a:lnTo>
                          <a:pt x="934" y="449"/>
                        </a:lnTo>
                        <a:lnTo>
                          <a:pt x="780" y="498"/>
                        </a:lnTo>
                        <a:lnTo>
                          <a:pt x="652" y="537"/>
                        </a:lnTo>
                        <a:lnTo>
                          <a:pt x="568" y="582"/>
                        </a:lnTo>
                        <a:lnTo>
                          <a:pt x="502" y="604"/>
                        </a:lnTo>
                        <a:lnTo>
                          <a:pt x="357" y="701"/>
                        </a:lnTo>
                        <a:lnTo>
                          <a:pt x="326" y="718"/>
                        </a:lnTo>
                        <a:lnTo>
                          <a:pt x="304" y="745"/>
                        </a:lnTo>
                        <a:lnTo>
                          <a:pt x="291" y="789"/>
                        </a:lnTo>
                        <a:lnTo>
                          <a:pt x="233" y="1018"/>
                        </a:lnTo>
                        <a:lnTo>
                          <a:pt x="207" y="1168"/>
                        </a:lnTo>
                        <a:lnTo>
                          <a:pt x="163" y="1380"/>
                        </a:lnTo>
                        <a:lnTo>
                          <a:pt x="123" y="1750"/>
                        </a:lnTo>
                        <a:lnTo>
                          <a:pt x="70" y="2046"/>
                        </a:lnTo>
                        <a:lnTo>
                          <a:pt x="48" y="2465"/>
                        </a:lnTo>
                        <a:lnTo>
                          <a:pt x="39" y="2610"/>
                        </a:lnTo>
                        <a:lnTo>
                          <a:pt x="0" y="2747"/>
                        </a:lnTo>
                        <a:lnTo>
                          <a:pt x="0" y="2848"/>
                        </a:lnTo>
                        <a:lnTo>
                          <a:pt x="0" y="2920"/>
                        </a:lnTo>
                        <a:lnTo>
                          <a:pt x="88" y="3092"/>
                        </a:lnTo>
                        <a:lnTo>
                          <a:pt x="216" y="3299"/>
                        </a:lnTo>
                        <a:lnTo>
                          <a:pt x="326" y="3361"/>
                        </a:lnTo>
                        <a:lnTo>
                          <a:pt x="608" y="3542"/>
                        </a:lnTo>
                        <a:lnTo>
                          <a:pt x="780" y="3630"/>
                        </a:lnTo>
                        <a:lnTo>
                          <a:pt x="701" y="4031"/>
                        </a:lnTo>
                        <a:lnTo>
                          <a:pt x="665" y="4304"/>
                        </a:lnTo>
                        <a:lnTo>
                          <a:pt x="648" y="4573"/>
                        </a:lnTo>
                        <a:lnTo>
                          <a:pt x="648" y="4900"/>
                        </a:lnTo>
                        <a:lnTo>
                          <a:pt x="665" y="5385"/>
                        </a:lnTo>
                        <a:lnTo>
                          <a:pt x="679" y="5746"/>
                        </a:lnTo>
                        <a:lnTo>
                          <a:pt x="1870" y="5813"/>
                        </a:lnTo>
                        <a:lnTo>
                          <a:pt x="1870" y="5746"/>
                        </a:lnTo>
                        <a:lnTo>
                          <a:pt x="2020" y="5764"/>
                        </a:lnTo>
                        <a:lnTo>
                          <a:pt x="2554" y="5804"/>
                        </a:lnTo>
                        <a:lnTo>
                          <a:pt x="2907" y="5764"/>
                        </a:lnTo>
                        <a:lnTo>
                          <a:pt x="3039" y="5689"/>
                        </a:lnTo>
                        <a:lnTo>
                          <a:pt x="3039" y="4900"/>
                        </a:lnTo>
                        <a:lnTo>
                          <a:pt x="3021" y="4613"/>
                        </a:lnTo>
                        <a:lnTo>
                          <a:pt x="2981" y="4304"/>
                        </a:lnTo>
                        <a:lnTo>
                          <a:pt x="2981" y="4128"/>
                        </a:lnTo>
                        <a:lnTo>
                          <a:pt x="2959" y="3877"/>
                        </a:lnTo>
                        <a:lnTo>
                          <a:pt x="3127" y="3806"/>
                        </a:lnTo>
                        <a:lnTo>
                          <a:pt x="3268" y="3696"/>
                        </a:lnTo>
                        <a:lnTo>
                          <a:pt x="3506" y="3497"/>
                        </a:lnTo>
                        <a:lnTo>
                          <a:pt x="3616" y="3449"/>
                        </a:lnTo>
                        <a:lnTo>
                          <a:pt x="3665" y="3343"/>
                        </a:lnTo>
                        <a:lnTo>
                          <a:pt x="3683" y="3184"/>
                        </a:lnTo>
                        <a:lnTo>
                          <a:pt x="3683" y="2920"/>
                        </a:lnTo>
                        <a:lnTo>
                          <a:pt x="3683" y="2222"/>
                        </a:lnTo>
                        <a:lnTo>
                          <a:pt x="3665" y="1746"/>
                        </a:lnTo>
                        <a:lnTo>
                          <a:pt x="3674" y="1283"/>
                        </a:lnTo>
                        <a:lnTo>
                          <a:pt x="3665" y="1146"/>
                        </a:lnTo>
                        <a:lnTo>
                          <a:pt x="3647" y="1075"/>
                        </a:lnTo>
                        <a:lnTo>
                          <a:pt x="3612" y="1031"/>
                        </a:lnTo>
                        <a:lnTo>
                          <a:pt x="3586" y="996"/>
                        </a:lnTo>
                        <a:lnTo>
                          <a:pt x="3409" y="886"/>
                        </a:lnTo>
                        <a:lnTo>
                          <a:pt x="3184" y="745"/>
                        </a:lnTo>
                        <a:lnTo>
                          <a:pt x="2959" y="630"/>
                        </a:lnTo>
                        <a:lnTo>
                          <a:pt x="2752" y="537"/>
                        </a:lnTo>
                        <a:lnTo>
                          <a:pt x="2615" y="485"/>
                        </a:lnTo>
                        <a:lnTo>
                          <a:pt x="2377" y="202"/>
                        </a:lnTo>
                        <a:lnTo>
                          <a:pt x="2302" y="92"/>
                        </a:lnTo>
                        <a:lnTo>
                          <a:pt x="2377" y="308"/>
                        </a:lnTo>
                        <a:lnTo>
                          <a:pt x="2404" y="348"/>
                        </a:lnTo>
                        <a:lnTo>
                          <a:pt x="2413" y="401"/>
                        </a:lnTo>
                        <a:lnTo>
                          <a:pt x="2430" y="454"/>
                        </a:lnTo>
                        <a:lnTo>
                          <a:pt x="2439" y="515"/>
                        </a:lnTo>
                        <a:lnTo>
                          <a:pt x="2413" y="626"/>
                        </a:lnTo>
                        <a:lnTo>
                          <a:pt x="2342" y="789"/>
                        </a:lnTo>
                        <a:lnTo>
                          <a:pt x="1932" y="2116"/>
                        </a:lnTo>
                        <a:lnTo>
                          <a:pt x="1728" y="1031"/>
                        </a:lnTo>
                        <a:lnTo>
                          <a:pt x="1591" y="573"/>
                        </a:lnTo>
                        <a:lnTo>
                          <a:pt x="1569" y="458"/>
                        </a:lnTo>
                        <a:lnTo>
                          <a:pt x="1569" y="348"/>
                        </a:lnTo>
                        <a:lnTo>
                          <a:pt x="1600" y="273"/>
                        </a:lnTo>
                        <a:lnTo>
                          <a:pt x="1680" y="0"/>
                        </a:lnTo>
                        <a:close/>
                      </a:path>
                    </a:pathLst>
                  </a:custGeom>
                  <a:solidFill>
                    <a:srgbClr val="5f5f7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3" name=""/>
                <p:cNvGrpSpPr/>
                <p:nvPr/>
              </p:nvGrpSpPr>
              <p:grpSpPr>
                <a:xfrm>
                  <a:off x="1147680" y="2816280"/>
                  <a:ext cx="457200" cy="766440"/>
                  <a:chOff x="1147680" y="2816280"/>
                  <a:chExt cx="457200" cy="766440"/>
                </a:xfrm>
              </p:grpSpPr>
              <p:sp>
                <p:nvSpPr>
                  <p:cNvPr id="954" name=""/>
                  <p:cNvSpPr/>
                  <p:nvPr/>
                </p:nvSpPr>
                <p:spPr>
                  <a:xfrm>
                    <a:off x="1467000" y="3533760"/>
                    <a:ext cx="30240" cy="39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5" name=""/>
                  <p:cNvSpPr/>
                  <p:nvPr/>
                </p:nvSpPr>
                <p:spPr>
                  <a:xfrm>
                    <a:off x="1568520" y="2816280"/>
                    <a:ext cx="36360" cy="381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2960" bIns="-12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6" name=""/>
                  <p:cNvSpPr/>
                  <p:nvPr/>
                </p:nvSpPr>
                <p:spPr>
                  <a:xfrm>
                    <a:off x="1147680" y="3543120"/>
                    <a:ext cx="33480" cy="39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57" name=""/>
              <p:cNvGrpSpPr/>
              <p:nvPr/>
            </p:nvGrpSpPr>
            <p:grpSpPr>
              <a:xfrm>
                <a:off x="1077840" y="1936800"/>
                <a:ext cx="624240" cy="914760"/>
                <a:chOff x="1077840" y="1936800"/>
                <a:chExt cx="624240" cy="914760"/>
              </a:xfrm>
            </p:grpSpPr>
            <p:sp>
              <p:nvSpPr>
                <p:cNvPr id="958" name=""/>
                <p:cNvSpPr/>
                <p:nvPr/>
              </p:nvSpPr>
              <p:spPr>
                <a:xfrm>
                  <a:off x="1077840" y="1936800"/>
                  <a:ext cx="321120" cy="914760"/>
                </a:xfrm>
                <a:custGeom>
                  <a:avLst/>
                  <a:gdLst/>
                  <a:ahLst/>
                  <a:rect l="0" t="0" r="r" b="b"/>
                  <a:pathLst>
                    <a:path w="892" h="2541">
                      <a:moveTo>
                        <a:pt x="322" y="0"/>
                      </a:moveTo>
                      <a:lnTo>
                        <a:pt x="52" y="304"/>
                      </a:lnTo>
                      <a:lnTo>
                        <a:pt x="8" y="418"/>
                      </a:lnTo>
                      <a:lnTo>
                        <a:pt x="296" y="515"/>
                      </a:lnTo>
                      <a:lnTo>
                        <a:pt x="22" y="776"/>
                      </a:lnTo>
                      <a:lnTo>
                        <a:pt x="167" y="1071"/>
                      </a:lnTo>
                      <a:lnTo>
                        <a:pt x="397" y="1553"/>
                      </a:lnTo>
                      <a:lnTo>
                        <a:pt x="892" y="2541"/>
                      </a:lnTo>
                      <a:lnTo>
                        <a:pt x="0" y="789"/>
                      </a:lnTo>
                      <a:lnTo>
                        <a:pt x="265" y="529"/>
                      </a:lnTo>
                      <a:lnTo>
                        <a:pt x="0" y="432"/>
                      </a:lnTo>
                      <a:lnTo>
                        <a:pt x="52" y="304"/>
                      </a:lnTo>
                      <a:lnTo>
                        <a:pt x="32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1366920" y="2022480"/>
                  <a:ext cx="335160" cy="810000"/>
                </a:xfrm>
                <a:custGeom>
                  <a:avLst/>
                  <a:gdLst/>
                  <a:ahLst/>
                  <a:rect l="0" t="0" r="r" b="b"/>
                  <a:pathLst>
                    <a:path w="931" h="2250">
                      <a:moveTo>
                        <a:pt x="755" y="0"/>
                      </a:moveTo>
                      <a:lnTo>
                        <a:pt x="909" y="304"/>
                      </a:lnTo>
                      <a:lnTo>
                        <a:pt x="688" y="405"/>
                      </a:lnTo>
                      <a:lnTo>
                        <a:pt x="931" y="574"/>
                      </a:lnTo>
                      <a:lnTo>
                        <a:pt x="0" y="2250"/>
                      </a:lnTo>
                      <a:lnTo>
                        <a:pt x="900" y="574"/>
                      </a:lnTo>
                      <a:lnTo>
                        <a:pt x="671" y="405"/>
                      </a:lnTo>
                      <a:lnTo>
                        <a:pt x="900" y="299"/>
                      </a:lnTo>
                      <a:lnTo>
                        <a:pt x="75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0" name=""/>
              <p:cNvGrpSpPr/>
              <p:nvPr/>
            </p:nvGrpSpPr>
            <p:grpSpPr>
              <a:xfrm>
                <a:off x="819000" y="2484360"/>
                <a:ext cx="1389240" cy="775440"/>
                <a:chOff x="819000" y="2484360"/>
                <a:chExt cx="1389240" cy="775440"/>
              </a:xfrm>
            </p:grpSpPr>
            <p:grpSp>
              <p:nvGrpSpPr>
                <p:cNvPr id="961" name=""/>
                <p:cNvGrpSpPr/>
                <p:nvPr/>
              </p:nvGrpSpPr>
              <p:grpSpPr>
                <a:xfrm>
                  <a:off x="819000" y="2484360"/>
                  <a:ext cx="1389240" cy="732240"/>
                  <a:chOff x="819000" y="2484360"/>
                  <a:chExt cx="1389240" cy="732240"/>
                </a:xfrm>
              </p:grpSpPr>
              <p:sp>
                <p:nvSpPr>
                  <p:cNvPr id="962" name=""/>
                  <p:cNvSpPr/>
                  <p:nvPr/>
                </p:nvSpPr>
                <p:spPr>
                  <a:xfrm>
                    <a:off x="819000" y="2484360"/>
                    <a:ext cx="1368720" cy="732240"/>
                  </a:xfrm>
                  <a:custGeom>
                    <a:avLst/>
                    <a:gdLst/>
                    <a:ahLst/>
                    <a:rect l="0" t="0" r="r" b="b"/>
                    <a:pathLst>
                      <a:path w="3802" h="2034">
                        <a:moveTo>
                          <a:pt x="0" y="680"/>
                        </a:moveTo>
                        <a:lnTo>
                          <a:pt x="868" y="0"/>
                        </a:lnTo>
                        <a:lnTo>
                          <a:pt x="917" y="0"/>
                        </a:lnTo>
                        <a:lnTo>
                          <a:pt x="2055" y="1465"/>
                        </a:lnTo>
                        <a:lnTo>
                          <a:pt x="2404" y="1341"/>
                        </a:lnTo>
                        <a:lnTo>
                          <a:pt x="2435" y="1288"/>
                        </a:lnTo>
                        <a:lnTo>
                          <a:pt x="2452" y="1235"/>
                        </a:lnTo>
                        <a:lnTo>
                          <a:pt x="3643" y="741"/>
                        </a:lnTo>
                        <a:lnTo>
                          <a:pt x="3722" y="706"/>
                        </a:lnTo>
                        <a:lnTo>
                          <a:pt x="3766" y="706"/>
                        </a:lnTo>
                        <a:lnTo>
                          <a:pt x="3775" y="719"/>
                        </a:lnTo>
                        <a:lnTo>
                          <a:pt x="3793" y="728"/>
                        </a:lnTo>
                        <a:lnTo>
                          <a:pt x="3802" y="750"/>
                        </a:lnTo>
                        <a:lnTo>
                          <a:pt x="3802" y="772"/>
                        </a:lnTo>
                        <a:lnTo>
                          <a:pt x="3802" y="816"/>
                        </a:lnTo>
                        <a:lnTo>
                          <a:pt x="3775" y="838"/>
                        </a:lnTo>
                        <a:lnTo>
                          <a:pt x="3722" y="878"/>
                        </a:lnTo>
                        <a:lnTo>
                          <a:pt x="3458" y="1019"/>
                        </a:lnTo>
                        <a:lnTo>
                          <a:pt x="2047" y="1571"/>
                        </a:lnTo>
                        <a:lnTo>
                          <a:pt x="1075" y="2034"/>
                        </a:lnTo>
                        <a:lnTo>
                          <a:pt x="1018" y="2017"/>
                        </a:lnTo>
                        <a:lnTo>
                          <a:pt x="970" y="1977"/>
                        </a:lnTo>
                        <a:lnTo>
                          <a:pt x="0" y="68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63" name=""/>
                  <p:cNvGrpSpPr/>
                  <p:nvPr/>
                </p:nvGrpSpPr>
                <p:grpSpPr>
                  <a:xfrm>
                    <a:off x="1200240" y="2546280"/>
                    <a:ext cx="1008000" cy="525600"/>
                    <a:chOff x="1200240" y="2546280"/>
                    <a:chExt cx="1008000" cy="525600"/>
                  </a:xfrm>
                </p:grpSpPr>
                <p:sp>
                  <p:nvSpPr>
                    <p:cNvPr id="964" name=""/>
                    <p:cNvSpPr/>
                    <p:nvPr/>
                  </p:nvSpPr>
                  <p:spPr>
                    <a:xfrm>
                      <a:off x="1200240" y="2546280"/>
                      <a:ext cx="325440" cy="459000"/>
                    </a:xfrm>
                    <a:prstGeom prst="line">
                      <a:avLst/>
                    </a:prstGeom>
                    <a:ln w="25560">
                      <a:solidFill>
                        <a:srgbClr val="3f3f3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965" name=""/>
                    <p:cNvGrpSpPr/>
                    <p:nvPr/>
                  </p:nvGrpSpPr>
                  <p:grpSpPr>
                    <a:xfrm>
                      <a:off x="1611360" y="2746440"/>
                      <a:ext cx="596880" cy="325440"/>
                      <a:chOff x="1611360" y="2746440"/>
                      <a:chExt cx="596880" cy="325440"/>
                    </a:xfrm>
                  </p:grpSpPr>
                  <p:sp>
                    <p:nvSpPr>
                      <p:cNvPr id="966" name=""/>
                      <p:cNvSpPr/>
                      <p:nvPr/>
                    </p:nvSpPr>
                    <p:spPr>
                      <a:xfrm flipV="1">
                        <a:off x="1611360" y="2813040"/>
                        <a:ext cx="412560" cy="258840"/>
                      </a:xfrm>
                      <a:prstGeom prst="line">
                        <a:avLst/>
                      </a:prstGeom>
                      <a:ln w="25560">
                        <a:solidFill>
                          <a:srgbClr val="3f3f3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102600" rIns="102600" tIns="57600" bIns="57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67" name=""/>
                      <p:cNvSpPr/>
                      <p:nvPr/>
                    </p:nvSpPr>
                    <p:spPr>
                      <a:xfrm flipV="1">
                        <a:off x="2122560" y="2746440"/>
                        <a:ext cx="20520" cy="120600"/>
                      </a:xfrm>
                      <a:prstGeom prst="line">
                        <a:avLst/>
                      </a:prstGeom>
                      <a:ln w="25560">
                        <a:solidFill>
                          <a:srgbClr val="3f3f3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102600" rIns="102600" tIns="57600" bIns="57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68" name=""/>
                      <p:cNvSpPr/>
                      <p:nvPr/>
                    </p:nvSpPr>
                    <p:spPr>
                      <a:xfrm flipH="1">
                        <a:off x="1704960" y="2803680"/>
                        <a:ext cx="503280" cy="139680"/>
                      </a:xfrm>
                      <a:prstGeom prst="line">
                        <a:avLst/>
                      </a:prstGeom>
                      <a:ln w="12600">
                        <a:solidFill>
                          <a:srgbClr val="3f3f3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6120" rIns="96120" tIns="51120" bIns="51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969" name=""/>
                <p:cNvGrpSpPr/>
                <p:nvPr/>
              </p:nvGrpSpPr>
              <p:grpSpPr>
                <a:xfrm>
                  <a:off x="1171440" y="2871720"/>
                  <a:ext cx="421200" cy="388080"/>
                  <a:chOff x="1171440" y="2871720"/>
                  <a:chExt cx="421200" cy="388080"/>
                </a:xfrm>
              </p:grpSpPr>
              <p:sp>
                <p:nvSpPr>
                  <p:cNvPr id="970" name=""/>
                  <p:cNvSpPr/>
                  <p:nvPr/>
                </p:nvSpPr>
                <p:spPr>
                  <a:xfrm>
                    <a:off x="1171440" y="2962440"/>
                    <a:ext cx="421200" cy="297360"/>
                  </a:xfrm>
                  <a:custGeom>
                    <a:avLst/>
                    <a:gdLst/>
                    <a:ahLst/>
                    <a:rect l="0" t="0" r="r" b="b"/>
                    <a:pathLst>
                      <a:path w="1170" h="826">
                        <a:moveTo>
                          <a:pt x="1108" y="499"/>
                        </a:moveTo>
                        <a:lnTo>
                          <a:pt x="1055" y="512"/>
                        </a:lnTo>
                        <a:lnTo>
                          <a:pt x="1011" y="499"/>
                        </a:lnTo>
                        <a:lnTo>
                          <a:pt x="976" y="472"/>
                        </a:lnTo>
                        <a:lnTo>
                          <a:pt x="928" y="464"/>
                        </a:lnTo>
                        <a:lnTo>
                          <a:pt x="888" y="393"/>
                        </a:lnTo>
                        <a:lnTo>
                          <a:pt x="856" y="367"/>
                        </a:lnTo>
                        <a:lnTo>
                          <a:pt x="834" y="375"/>
                        </a:lnTo>
                        <a:lnTo>
                          <a:pt x="812" y="389"/>
                        </a:lnTo>
                        <a:lnTo>
                          <a:pt x="794" y="402"/>
                        </a:lnTo>
                        <a:lnTo>
                          <a:pt x="781" y="428"/>
                        </a:lnTo>
                        <a:lnTo>
                          <a:pt x="777" y="450"/>
                        </a:lnTo>
                        <a:lnTo>
                          <a:pt x="750" y="464"/>
                        </a:lnTo>
                        <a:lnTo>
                          <a:pt x="680" y="490"/>
                        </a:lnTo>
                        <a:lnTo>
                          <a:pt x="605" y="499"/>
                        </a:lnTo>
                        <a:lnTo>
                          <a:pt x="569" y="486"/>
                        </a:lnTo>
                        <a:lnTo>
                          <a:pt x="538" y="464"/>
                        </a:lnTo>
                        <a:lnTo>
                          <a:pt x="512" y="464"/>
                        </a:lnTo>
                        <a:lnTo>
                          <a:pt x="464" y="402"/>
                        </a:lnTo>
                        <a:lnTo>
                          <a:pt x="428" y="375"/>
                        </a:lnTo>
                        <a:lnTo>
                          <a:pt x="375" y="269"/>
                        </a:lnTo>
                        <a:lnTo>
                          <a:pt x="336" y="194"/>
                        </a:lnTo>
                        <a:lnTo>
                          <a:pt x="314" y="145"/>
                        </a:lnTo>
                        <a:lnTo>
                          <a:pt x="282" y="74"/>
                        </a:lnTo>
                        <a:lnTo>
                          <a:pt x="264" y="44"/>
                        </a:lnTo>
                        <a:lnTo>
                          <a:pt x="238" y="35"/>
                        </a:lnTo>
                        <a:lnTo>
                          <a:pt x="211" y="35"/>
                        </a:lnTo>
                        <a:lnTo>
                          <a:pt x="198" y="57"/>
                        </a:lnTo>
                        <a:lnTo>
                          <a:pt x="207" y="105"/>
                        </a:lnTo>
                        <a:lnTo>
                          <a:pt x="220" y="145"/>
                        </a:lnTo>
                        <a:lnTo>
                          <a:pt x="238" y="194"/>
                        </a:lnTo>
                        <a:lnTo>
                          <a:pt x="238" y="234"/>
                        </a:lnTo>
                        <a:lnTo>
                          <a:pt x="189" y="149"/>
                        </a:lnTo>
                        <a:lnTo>
                          <a:pt x="180" y="105"/>
                        </a:lnTo>
                        <a:lnTo>
                          <a:pt x="158" y="52"/>
                        </a:lnTo>
                        <a:lnTo>
                          <a:pt x="141" y="17"/>
                        </a:lnTo>
                        <a:lnTo>
                          <a:pt x="114" y="0"/>
                        </a:lnTo>
                        <a:lnTo>
                          <a:pt x="88" y="0"/>
                        </a:lnTo>
                        <a:lnTo>
                          <a:pt x="61" y="13"/>
                        </a:lnTo>
                        <a:lnTo>
                          <a:pt x="48" y="30"/>
                        </a:lnTo>
                        <a:lnTo>
                          <a:pt x="88" y="114"/>
                        </a:lnTo>
                        <a:lnTo>
                          <a:pt x="61" y="101"/>
                        </a:lnTo>
                        <a:lnTo>
                          <a:pt x="35" y="101"/>
                        </a:lnTo>
                        <a:lnTo>
                          <a:pt x="13" y="110"/>
                        </a:lnTo>
                        <a:lnTo>
                          <a:pt x="0" y="123"/>
                        </a:lnTo>
                        <a:lnTo>
                          <a:pt x="61" y="239"/>
                        </a:lnTo>
                        <a:lnTo>
                          <a:pt x="88" y="331"/>
                        </a:lnTo>
                        <a:lnTo>
                          <a:pt x="61" y="309"/>
                        </a:lnTo>
                        <a:lnTo>
                          <a:pt x="35" y="300"/>
                        </a:lnTo>
                        <a:lnTo>
                          <a:pt x="8" y="309"/>
                        </a:lnTo>
                        <a:lnTo>
                          <a:pt x="0" y="331"/>
                        </a:lnTo>
                        <a:lnTo>
                          <a:pt x="48" y="397"/>
                        </a:lnTo>
                        <a:lnTo>
                          <a:pt x="61" y="433"/>
                        </a:lnTo>
                        <a:lnTo>
                          <a:pt x="61" y="464"/>
                        </a:lnTo>
                        <a:lnTo>
                          <a:pt x="88" y="499"/>
                        </a:lnTo>
                        <a:lnTo>
                          <a:pt x="105" y="538"/>
                        </a:lnTo>
                        <a:lnTo>
                          <a:pt x="123" y="587"/>
                        </a:lnTo>
                        <a:lnTo>
                          <a:pt x="141" y="609"/>
                        </a:lnTo>
                        <a:lnTo>
                          <a:pt x="149" y="623"/>
                        </a:lnTo>
                        <a:lnTo>
                          <a:pt x="167" y="637"/>
                        </a:lnTo>
                        <a:lnTo>
                          <a:pt x="336" y="729"/>
                        </a:lnTo>
                        <a:lnTo>
                          <a:pt x="389" y="769"/>
                        </a:lnTo>
                        <a:lnTo>
                          <a:pt x="406" y="791"/>
                        </a:lnTo>
                        <a:lnTo>
                          <a:pt x="446" y="808"/>
                        </a:lnTo>
                        <a:lnTo>
                          <a:pt x="472" y="822"/>
                        </a:lnTo>
                        <a:lnTo>
                          <a:pt x="499" y="826"/>
                        </a:lnTo>
                        <a:lnTo>
                          <a:pt x="631" y="808"/>
                        </a:lnTo>
                        <a:lnTo>
                          <a:pt x="750" y="800"/>
                        </a:lnTo>
                        <a:lnTo>
                          <a:pt x="860" y="786"/>
                        </a:lnTo>
                        <a:lnTo>
                          <a:pt x="972" y="769"/>
                        </a:lnTo>
                        <a:lnTo>
                          <a:pt x="1073" y="738"/>
                        </a:lnTo>
                        <a:lnTo>
                          <a:pt x="1170" y="659"/>
                        </a:lnTo>
                        <a:lnTo>
                          <a:pt x="1108" y="499"/>
                        </a:lnTo>
                        <a:close/>
                      </a:path>
                    </a:pathLst>
                  </a:custGeom>
                  <a:solidFill>
                    <a:srgbClr val="ffdfb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1" name=""/>
                  <p:cNvSpPr/>
                  <p:nvPr/>
                </p:nvSpPr>
                <p:spPr>
                  <a:xfrm>
                    <a:off x="1258920" y="3051000"/>
                    <a:ext cx="71640" cy="127440"/>
                  </a:xfrm>
                  <a:custGeom>
                    <a:avLst/>
                    <a:gdLst/>
                    <a:ahLst/>
                    <a:rect l="0" t="0" r="r" b="b"/>
                    <a:pathLst>
                      <a:path w="199" h="354">
                        <a:moveTo>
                          <a:pt x="0" y="0"/>
                        </a:moveTo>
                        <a:lnTo>
                          <a:pt x="57" y="146"/>
                        </a:lnTo>
                        <a:lnTo>
                          <a:pt x="115" y="243"/>
                        </a:lnTo>
                        <a:lnTo>
                          <a:pt x="155" y="284"/>
                        </a:lnTo>
                        <a:lnTo>
                          <a:pt x="168" y="332"/>
                        </a:lnTo>
                        <a:lnTo>
                          <a:pt x="172" y="350"/>
                        </a:lnTo>
                        <a:lnTo>
                          <a:pt x="199" y="354"/>
                        </a:lnTo>
                        <a:lnTo>
                          <a:pt x="172" y="354"/>
                        </a:lnTo>
                        <a:lnTo>
                          <a:pt x="164" y="332"/>
                        </a:lnTo>
                        <a:lnTo>
                          <a:pt x="155" y="301"/>
                        </a:lnTo>
                        <a:lnTo>
                          <a:pt x="79" y="195"/>
                        </a:lnTo>
                        <a:lnTo>
                          <a:pt x="48" y="12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2" name=""/>
                  <p:cNvSpPr/>
                  <p:nvPr/>
                </p:nvSpPr>
                <p:spPr>
                  <a:xfrm>
                    <a:off x="1203480" y="3008160"/>
                    <a:ext cx="109800" cy="194040"/>
                  </a:xfrm>
                  <a:custGeom>
                    <a:avLst/>
                    <a:gdLst/>
                    <a:ahLst/>
                    <a:rect l="0" t="0" r="r" b="b"/>
                    <a:pathLst>
                      <a:path w="305" h="539">
                        <a:moveTo>
                          <a:pt x="0" y="0"/>
                        </a:moveTo>
                        <a:lnTo>
                          <a:pt x="66" y="217"/>
                        </a:lnTo>
                        <a:lnTo>
                          <a:pt x="74" y="256"/>
                        </a:lnTo>
                        <a:lnTo>
                          <a:pt x="92" y="278"/>
                        </a:lnTo>
                        <a:lnTo>
                          <a:pt x="190" y="425"/>
                        </a:lnTo>
                        <a:lnTo>
                          <a:pt x="221" y="456"/>
                        </a:lnTo>
                        <a:lnTo>
                          <a:pt x="234" y="478"/>
                        </a:lnTo>
                        <a:lnTo>
                          <a:pt x="247" y="513"/>
                        </a:lnTo>
                        <a:lnTo>
                          <a:pt x="274" y="539"/>
                        </a:lnTo>
                        <a:lnTo>
                          <a:pt x="305" y="539"/>
                        </a:lnTo>
                        <a:lnTo>
                          <a:pt x="274" y="539"/>
                        </a:lnTo>
                        <a:lnTo>
                          <a:pt x="243" y="517"/>
                        </a:lnTo>
                        <a:lnTo>
                          <a:pt x="234" y="487"/>
                        </a:lnTo>
                        <a:lnTo>
                          <a:pt x="225" y="469"/>
                        </a:lnTo>
                        <a:lnTo>
                          <a:pt x="172" y="397"/>
                        </a:lnTo>
                        <a:lnTo>
                          <a:pt x="123" y="336"/>
                        </a:lnTo>
                        <a:lnTo>
                          <a:pt x="92" y="292"/>
                        </a:lnTo>
                        <a:lnTo>
                          <a:pt x="74" y="261"/>
                        </a:lnTo>
                        <a:lnTo>
                          <a:pt x="26" y="10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3" name=""/>
                  <p:cNvSpPr/>
                  <p:nvPr/>
                </p:nvSpPr>
                <p:spPr>
                  <a:xfrm>
                    <a:off x="1298520" y="3110040"/>
                    <a:ext cx="294120" cy="149760"/>
                  </a:xfrm>
                  <a:custGeom>
                    <a:avLst/>
                    <a:gdLst/>
                    <a:ahLst/>
                    <a:rect l="0" t="0" r="r" b="b"/>
                    <a:pathLst>
                      <a:path w="817" h="416">
                        <a:moveTo>
                          <a:pt x="756" y="101"/>
                        </a:moveTo>
                        <a:lnTo>
                          <a:pt x="703" y="115"/>
                        </a:lnTo>
                        <a:lnTo>
                          <a:pt x="659" y="101"/>
                        </a:lnTo>
                        <a:lnTo>
                          <a:pt x="628" y="79"/>
                        </a:lnTo>
                        <a:lnTo>
                          <a:pt x="578" y="70"/>
                        </a:lnTo>
                        <a:lnTo>
                          <a:pt x="538" y="0"/>
                        </a:lnTo>
                        <a:lnTo>
                          <a:pt x="525" y="13"/>
                        </a:lnTo>
                        <a:lnTo>
                          <a:pt x="516" y="26"/>
                        </a:lnTo>
                        <a:lnTo>
                          <a:pt x="503" y="48"/>
                        </a:lnTo>
                        <a:lnTo>
                          <a:pt x="472" y="52"/>
                        </a:lnTo>
                        <a:lnTo>
                          <a:pt x="455" y="52"/>
                        </a:lnTo>
                        <a:lnTo>
                          <a:pt x="433" y="35"/>
                        </a:lnTo>
                        <a:lnTo>
                          <a:pt x="428" y="57"/>
                        </a:lnTo>
                        <a:lnTo>
                          <a:pt x="402" y="70"/>
                        </a:lnTo>
                        <a:lnTo>
                          <a:pt x="336" y="92"/>
                        </a:lnTo>
                        <a:lnTo>
                          <a:pt x="371" y="97"/>
                        </a:lnTo>
                        <a:lnTo>
                          <a:pt x="428" y="79"/>
                        </a:lnTo>
                        <a:lnTo>
                          <a:pt x="450" y="92"/>
                        </a:lnTo>
                        <a:lnTo>
                          <a:pt x="464" y="115"/>
                        </a:lnTo>
                        <a:lnTo>
                          <a:pt x="441" y="124"/>
                        </a:lnTo>
                        <a:lnTo>
                          <a:pt x="486" y="133"/>
                        </a:lnTo>
                        <a:lnTo>
                          <a:pt x="450" y="142"/>
                        </a:lnTo>
                        <a:lnTo>
                          <a:pt x="486" y="142"/>
                        </a:lnTo>
                        <a:lnTo>
                          <a:pt x="468" y="159"/>
                        </a:lnTo>
                        <a:lnTo>
                          <a:pt x="486" y="155"/>
                        </a:lnTo>
                        <a:lnTo>
                          <a:pt x="503" y="159"/>
                        </a:lnTo>
                        <a:lnTo>
                          <a:pt x="503" y="181"/>
                        </a:lnTo>
                        <a:lnTo>
                          <a:pt x="472" y="208"/>
                        </a:lnTo>
                        <a:lnTo>
                          <a:pt x="446" y="212"/>
                        </a:lnTo>
                        <a:lnTo>
                          <a:pt x="393" y="230"/>
                        </a:lnTo>
                        <a:lnTo>
                          <a:pt x="349" y="230"/>
                        </a:lnTo>
                        <a:lnTo>
                          <a:pt x="300" y="230"/>
                        </a:lnTo>
                        <a:lnTo>
                          <a:pt x="256" y="212"/>
                        </a:lnTo>
                        <a:lnTo>
                          <a:pt x="217" y="199"/>
                        </a:lnTo>
                        <a:lnTo>
                          <a:pt x="189" y="208"/>
                        </a:lnTo>
                        <a:lnTo>
                          <a:pt x="167" y="217"/>
                        </a:lnTo>
                        <a:lnTo>
                          <a:pt x="136" y="230"/>
                        </a:lnTo>
                        <a:lnTo>
                          <a:pt x="101" y="212"/>
                        </a:lnTo>
                        <a:lnTo>
                          <a:pt x="114" y="239"/>
                        </a:lnTo>
                        <a:lnTo>
                          <a:pt x="101" y="256"/>
                        </a:lnTo>
                        <a:lnTo>
                          <a:pt x="101" y="269"/>
                        </a:lnTo>
                        <a:lnTo>
                          <a:pt x="83" y="296"/>
                        </a:lnTo>
                        <a:lnTo>
                          <a:pt x="57" y="305"/>
                        </a:lnTo>
                        <a:lnTo>
                          <a:pt x="35" y="296"/>
                        </a:lnTo>
                        <a:lnTo>
                          <a:pt x="22" y="315"/>
                        </a:lnTo>
                        <a:lnTo>
                          <a:pt x="0" y="323"/>
                        </a:lnTo>
                        <a:lnTo>
                          <a:pt x="44" y="359"/>
                        </a:lnTo>
                        <a:lnTo>
                          <a:pt x="61" y="381"/>
                        </a:lnTo>
                        <a:lnTo>
                          <a:pt x="101" y="398"/>
                        </a:lnTo>
                        <a:lnTo>
                          <a:pt x="127" y="412"/>
                        </a:lnTo>
                        <a:lnTo>
                          <a:pt x="154" y="416"/>
                        </a:lnTo>
                        <a:lnTo>
                          <a:pt x="287" y="398"/>
                        </a:lnTo>
                        <a:lnTo>
                          <a:pt x="402" y="390"/>
                        </a:lnTo>
                        <a:lnTo>
                          <a:pt x="512" y="376"/>
                        </a:lnTo>
                        <a:lnTo>
                          <a:pt x="623" y="359"/>
                        </a:lnTo>
                        <a:lnTo>
                          <a:pt x="720" y="332"/>
                        </a:lnTo>
                        <a:lnTo>
                          <a:pt x="817" y="252"/>
                        </a:lnTo>
                        <a:lnTo>
                          <a:pt x="756" y="101"/>
                        </a:lnTo>
                        <a:close/>
                      </a:path>
                    </a:pathLst>
                  </a:custGeom>
                  <a:solidFill>
                    <a:srgbClr val="ff9f7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4" name=""/>
                  <p:cNvSpPr/>
                  <p:nvPr/>
                </p:nvSpPr>
                <p:spPr>
                  <a:xfrm>
                    <a:off x="1203480" y="3087720"/>
                    <a:ext cx="89280" cy="127440"/>
                  </a:xfrm>
                  <a:custGeom>
                    <a:avLst/>
                    <a:gdLst/>
                    <a:ahLst/>
                    <a:rect l="0" t="0" r="r" b="b"/>
                    <a:pathLst>
                      <a:path w="248" h="354">
                        <a:moveTo>
                          <a:pt x="0" y="0"/>
                        </a:moveTo>
                        <a:lnTo>
                          <a:pt x="44" y="124"/>
                        </a:lnTo>
                        <a:lnTo>
                          <a:pt x="57" y="168"/>
                        </a:lnTo>
                        <a:lnTo>
                          <a:pt x="80" y="186"/>
                        </a:lnTo>
                        <a:lnTo>
                          <a:pt x="124" y="243"/>
                        </a:lnTo>
                        <a:lnTo>
                          <a:pt x="146" y="270"/>
                        </a:lnTo>
                        <a:lnTo>
                          <a:pt x="222" y="345"/>
                        </a:lnTo>
                        <a:lnTo>
                          <a:pt x="248" y="354"/>
                        </a:lnTo>
                        <a:lnTo>
                          <a:pt x="187" y="315"/>
                        </a:lnTo>
                        <a:lnTo>
                          <a:pt x="124" y="252"/>
                        </a:lnTo>
                        <a:lnTo>
                          <a:pt x="80" y="199"/>
                        </a:lnTo>
                        <a:lnTo>
                          <a:pt x="57" y="155"/>
                        </a:lnTo>
                        <a:lnTo>
                          <a:pt x="17" y="7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5" name=""/>
                  <p:cNvSpPr/>
                  <p:nvPr/>
                </p:nvSpPr>
                <p:spPr>
                  <a:xfrm>
                    <a:off x="1449360" y="2871720"/>
                    <a:ext cx="133560" cy="143280"/>
                  </a:xfrm>
                  <a:custGeom>
                    <a:avLst/>
                    <a:gdLst/>
                    <a:ahLst/>
                    <a:rect l="0" t="0" r="r" b="b"/>
                    <a:pathLst>
                      <a:path w="371" h="398">
                        <a:moveTo>
                          <a:pt x="0" y="0"/>
                        </a:moveTo>
                        <a:lnTo>
                          <a:pt x="119" y="17"/>
                        </a:lnTo>
                        <a:lnTo>
                          <a:pt x="186" y="39"/>
                        </a:lnTo>
                        <a:lnTo>
                          <a:pt x="239" y="61"/>
                        </a:lnTo>
                        <a:lnTo>
                          <a:pt x="269" y="88"/>
                        </a:lnTo>
                        <a:lnTo>
                          <a:pt x="287" y="102"/>
                        </a:lnTo>
                        <a:lnTo>
                          <a:pt x="300" y="120"/>
                        </a:lnTo>
                        <a:lnTo>
                          <a:pt x="305" y="137"/>
                        </a:lnTo>
                        <a:lnTo>
                          <a:pt x="300" y="159"/>
                        </a:lnTo>
                        <a:lnTo>
                          <a:pt x="296" y="177"/>
                        </a:lnTo>
                        <a:lnTo>
                          <a:pt x="274" y="190"/>
                        </a:lnTo>
                        <a:lnTo>
                          <a:pt x="256" y="190"/>
                        </a:lnTo>
                        <a:lnTo>
                          <a:pt x="243" y="199"/>
                        </a:lnTo>
                        <a:lnTo>
                          <a:pt x="256" y="203"/>
                        </a:lnTo>
                        <a:lnTo>
                          <a:pt x="274" y="212"/>
                        </a:lnTo>
                        <a:lnTo>
                          <a:pt x="305" y="225"/>
                        </a:lnTo>
                        <a:lnTo>
                          <a:pt x="314" y="247"/>
                        </a:lnTo>
                        <a:lnTo>
                          <a:pt x="327" y="261"/>
                        </a:lnTo>
                        <a:lnTo>
                          <a:pt x="331" y="269"/>
                        </a:lnTo>
                        <a:lnTo>
                          <a:pt x="322" y="292"/>
                        </a:lnTo>
                        <a:lnTo>
                          <a:pt x="349" y="306"/>
                        </a:lnTo>
                        <a:lnTo>
                          <a:pt x="367" y="323"/>
                        </a:lnTo>
                        <a:lnTo>
                          <a:pt x="371" y="328"/>
                        </a:lnTo>
                        <a:lnTo>
                          <a:pt x="371" y="359"/>
                        </a:lnTo>
                        <a:lnTo>
                          <a:pt x="367" y="372"/>
                        </a:lnTo>
                        <a:lnTo>
                          <a:pt x="305" y="39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dfb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6" name=""/>
                  <p:cNvSpPr/>
                  <p:nvPr/>
                </p:nvSpPr>
                <p:spPr>
                  <a:xfrm>
                    <a:off x="1511280" y="2935440"/>
                    <a:ext cx="2268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63" h="10">
                        <a:moveTo>
                          <a:pt x="0" y="10"/>
                        </a:moveTo>
                        <a:lnTo>
                          <a:pt x="18" y="5"/>
                        </a:lnTo>
                        <a:lnTo>
                          <a:pt x="40" y="5"/>
                        </a:lnTo>
                        <a:lnTo>
                          <a:pt x="59" y="5"/>
                        </a:lnTo>
                        <a:lnTo>
                          <a:pt x="63" y="5"/>
                        </a:lnTo>
                        <a:lnTo>
                          <a:pt x="50" y="0"/>
                        </a:lnTo>
                        <a:lnTo>
                          <a:pt x="31" y="0"/>
                        </a:lnTo>
                        <a:lnTo>
                          <a:pt x="18" y="5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47520" bIns="-47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77" name=""/>
              <p:cNvSpPr/>
              <p:nvPr/>
            </p:nvSpPr>
            <p:spPr>
              <a:xfrm>
                <a:off x="981000" y="3917880"/>
                <a:ext cx="766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490760" y="527040"/>
            <a:ext cx="6738840" cy="13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Deciding to Acquire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Long-Term Asse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447920" y="2133720"/>
            <a:ext cx="723888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fcc66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fcffd8"/>
                </a:solidFill>
                <a:latin typeface="Arial"/>
                <a:ea typeface="Arial"/>
              </a:rPr>
              <a:t>Information on acquisitions of long-term assets is found under investing activities in the statement of cash flow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edles &amp; Powers</dc:creator>
  <dc:description>chap 1 slides of financial acctg book</dc:description>
  <dc:language>en-US</dc:language>
  <cp:lastModifiedBy>HMCo User</cp:lastModifiedBy>
  <cp:revision>0</cp:revision>
  <dc:subject/>
  <dc:title>Chapter 1 Uses of Accounting Information and the Basic Financial Statements</dc:title>
</cp:coreProperties>
</file>