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1-</a:t>
            </a:r>
            <a:fld id="{D86C88D7-E98E-4F8C-BDBD-5E8E009B588C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73600" cy="29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5335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98108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long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short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common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long-term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ase instead of purc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371600"/>
            <a:ext cx="4944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lterna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38088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the Matching Rule to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666880"/>
            <a:ext cx="7848720" cy="35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981080"/>
            <a:ext cx="8264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251460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is the cost of the long-term asset determ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the expired portion of the cost of the long-term asset be allocated against revenues over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19320" y="2590920"/>
            <a:ext cx="7462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subsequent expenditures, such as repairs and additions, be tre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disposal of the long-term asset be recor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4572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00120" y="158760"/>
            <a:ext cx="8531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ssues of Accounting for Long-Term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4880" y="755640"/>
            <a:ext cx="8217000" cy="5575320"/>
            <a:chOff x="704880" y="755640"/>
            <a:chExt cx="8217000" cy="5575320"/>
          </a:xfrm>
        </p:grpSpPr>
        <p:sp>
          <p:nvSpPr>
            <p:cNvPr id="137" name=""/>
            <p:cNvSpPr/>
            <p:nvPr/>
          </p:nvSpPr>
          <p:spPr>
            <a:xfrm>
              <a:off x="704880" y="755640"/>
              <a:ext cx="821700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352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66" y="146"/>
                  </a:moveTo>
                  <a:lnTo>
                    <a:pt x="66" y="164"/>
                  </a:lnTo>
                  <a:lnTo>
                    <a:pt x="66" y="181"/>
                  </a:lnTo>
                  <a:lnTo>
                    <a:pt x="57" y="199"/>
                  </a:lnTo>
                  <a:lnTo>
                    <a:pt x="48" y="222"/>
                  </a:lnTo>
                  <a:lnTo>
                    <a:pt x="48" y="235"/>
                  </a:lnTo>
                  <a:lnTo>
                    <a:pt x="39" y="244"/>
                  </a:lnTo>
                  <a:lnTo>
                    <a:pt x="39" y="253"/>
                  </a:lnTo>
                  <a:lnTo>
                    <a:pt x="35" y="262"/>
                  </a:lnTo>
                  <a:lnTo>
                    <a:pt x="26" y="270"/>
                  </a:lnTo>
                  <a:lnTo>
                    <a:pt x="17" y="275"/>
                  </a:lnTo>
                  <a:lnTo>
                    <a:pt x="8" y="279"/>
                  </a:lnTo>
                  <a:lnTo>
                    <a:pt x="0" y="279"/>
                  </a:lnTo>
                  <a:lnTo>
                    <a:pt x="0" y="288"/>
                  </a:lnTo>
                  <a:lnTo>
                    <a:pt x="610" y="146"/>
                  </a:lnTo>
                  <a:lnTo>
                    <a:pt x="0" y="0"/>
                  </a:lnTo>
                  <a:lnTo>
                    <a:pt x="8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5"/>
                  </a:lnTo>
                  <a:lnTo>
                    <a:pt x="39" y="44"/>
                  </a:lnTo>
                  <a:lnTo>
                    <a:pt x="48" y="52"/>
                  </a:lnTo>
                  <a:lnTo>
                    <a:pt x="48" y="66"/>
                  </a:lnTo>
                  <a:lnTo>
                    <a:pt x="57" y="89"/>
                  </a:lnTo>
                  <a:lnTo>
                    <a:pt x="66" y="102"/>
                  </a:lnTo>
                  <a:lnTo>
                    <a:pt x="66" y="124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048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544" y="146"/>
                  </a:moveTo>
                  <a:lnTo>
                    <a:pt x="544" y="164"/>
                  </a:lnTo>
                  <a:lnTo>
                    <a:pt x="544" y="181"/>
                  </a:lnTo>
                  <a:lnTo>
                    <a:pt x="553" y="199"/>
                  </a:lnTo>
                  <a:lnTo>
                    <a:pt x="553" y="222"/>
                  </a:lnTo>
                  <a:lnTo>
                    <a:pt x="562" y="235"/>
                  </a:lnTo>
                  <a:lnTo>
                    <a:pt x="562" y="244"/>
                  </a:lnTo>
                  <a:lnTo>
                    <a:pt x="570" y="253"/>
                  </a:lnTo>
                  <a:lnTo>
                    <a:pt x="575" y="262"/>
                  </a:lnTo>
                  <a:lnTo>
                    <a:pt x="584" y="270"/>
                  </a:lnTo>
                  <a:lnTo>
                    <a:pt x="592" y="275"/>
                  </a:lnTo>
                  <a:lnTo>
                    <a:pt x="601" y="279"/>
                  </a:lnTo>
                  <a:lnTo>
                    <a:pt x="610" y="279"/>
                  </a:lnTo>
                  <a:lnTo>
                    <a:pt x="610" y="288"/>
                  </a:lnTo>
                  <a:lnTo>
                    <a:pt x="0" y="146"/>
                  </a:lnTo>
                  <a:lnTo>
                    <a:pt x="610" y="0"/>
                  </a:lnTo>
                  <a:lnTo>
                    <a:pt x="601" y="8"/>
                  </a:lnTo>
                  <a:lnTo>
                    <a:pt x="592" y="8"/>
                  </a:lnTo>
                  <a:lnTo>
                    <a:pt x="592" y="17"/>
                  </a:lnTo>
                  <a:lnTo>
                    <a:pt x="584" y="22"/>
                  </a:lnTo>
                  <a:lnTo>
                    <a:pt x="575" y="26"/>
                  </a:lnTo>
                  <a:lnTo>
                    <a:pt x="570" y="35"/>
                  </a:lnTo>
                  <a:lnTo>
                    <a:pt x="562" y="44"/>
                  </a:lnTo>
                  <a:lnTo>
                    <a:pt x="562" y="52"/>
                  </a:lnTo>
                  <a:lnTo>
                    <a:pt x="553" y="66"/>
                  </a:lnTo>
                  <a:lnTo>
                    <a:pt x="553" y="89"/>
                  </a:lnTo>
                  <a:lnTo>
                    <a:pt x="544" y="102"/>
                  </a:lnTo>
                  <a:lnTo>
                    <a:pt x="544" y="124"/>
                  </a:lnTo>
                  <a:lnTo>
                    <a:pt x="544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1195560"/>
              <a:ext cx="5469120" cy="1634040"/>
            </a:xfrm>
            <a:custGeom>
              <a:avLst/>
              <a:gdLst/>
              <a:ahLst/>
              <a:rect l="0" t="0" r="r" b="b"/>
              <a:pathLst>
                <a:path fill="none" w="15192" h="4539">
                  <a:moveTo>
                    <a:pt x="0" y="0"/>
                  </a:moveTo>
                  <a:lnTo>
                    <a:pt x="0" y="4539"/>
                  </a:lnTo>
                  <a:lnTo>
                    <a:pt x="15192" y="4539"/>
                  </a:lnTo>
                  <a:lnTo>
                    <a:pt x="15192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09720" y="3173400"/>
              <a:ext cx="7807680" cy="2873880"/>
              <a:chOff x="909720" y="3173400"/>
              <a:chExt cx="7807680" cy="287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909720" y="3173400"/>
                <a:ext cx="7795080" cy="2860920"/>
              </a:xfrm>
              <a:custGeom>
                <a:avLst/>
                <a:gdLst/>
                <a:ahLst/>
                <a:rect l="0" t="0" r="r" b="b"/>
                <a:pathLst>
                  <a:path w="21653" h="7947">
                    <a:moveTo>
                      <a:pt x="21653" y="7947"/>
                    </a:moveTo>
                    <a:lnTo>
                      <a:pt x="21653" y="0"/>
                    </a:lnTo>
                    <a:lnTo>
                      <a:pt x="0" y="0"/>
                    </a:lnTo>
                    <a:lnTo>
                      <a:pt x="0" y="7947"/>
                    </a:lnTo>
                    <a:lnTo>
                      <a:pt x="21653" y="7947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720" y="3173400"/>
                <a:ext cx="7807680" cy="2873880"/>
              </a:xfrm>
              <a:custGeom>
                <a:avLst/>
                <a:gdLst/>
                <a:ahLst/>
                <a:rect l="0" t="0" r="r" b="b"/>
                <a:pathLst>
                  <a:path fill="none" w="21688" h="7983">
                    <a:moveTo>
                      <a:pt x="21688" y="7983"/>
                    </a:moveTo>
                    <a:lnTo>
                      <a:pt x="21688" y="0"/>
                    </a:lnTo>
                    <a:lnTo>
                      <a:pt x="0" y="0"/>
                    </a:lnTo>
                    <a:lnTo>
                      <a:pt x="0" y="7983"/>
                    </a:lnTo>
                    <a:lnTo>
                      <a:pt x="21688" y="798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 txBox="1"/>
            <p:nvPr/>
          </p:nvSpPr>
          <p:spPr>
            <a:xfrm>
              <a:off x="822240" y="101916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7651800" y="2549520"/>
              <a:ext cx="1028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257560" y="861840"/>
              <a:ext cx="5057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2880" y="2692440"/>
              <a:ext cx="228960" cy="108360"/>
            </a:xfrm>
            <a:custGeom>
              <a:avLst/>
              <a:gdLst/>
              <a:ahLst/>
              <a:rect l="0" t="0" r="r" b="b"/>
              <a:pathLst>
                <a:path w="636" h="301">
                  <a:moveTo>
                    <a:pt x="127" y="150"/>
                  </a:moveTo>
                  <a:lnTo>
                    <a:pt x="114" y="177"/>
                  </a:lnTo>
                  <a:lnTo>
                    <a:pt x="105" y="195"/>
                  </a:lnTo>
                  <a:lnTo>
                    <a:pt x="88" y="208"/>
                  </a:lnTo>
                  <a:lnTo>
                    <a:pt x="79" y="225"/>
                  </a:lnTo>
                  <a:lnTo>
                    <a:pt x="74" y="231"/>
                  </a:lnTo>
                  <a:lnTo>
                    <a:pt x="57" y="244"/>
                  </a:lnTo>
                  <a:lnTo>
                    <a:pt x="48" y="248"/>
                  </a:lnTo>
                  <a:lnTo>
                    <a:pt x="39" y="257"/>
                  </a:lnTo>
                  <a:lnTo>
                    <a:pt x="35" y="262"/>
                  </a:lnTo>
                  <a:lnTo>
                    <a:pt x="26" y="266"/>
                  </a:lnTo>
                  <a:lnTo>
                    <a:pt x="17" y="266"/>
                  </a:lnTo>
                  <a:lnTo>
                    <a:pt x="8" y="266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636" y="301"/>
                  </a:lnTo>
                  <a:lnTo>
                    <a:pt x="127" y="0"/>
                  </a:lnTo>
                  <a:lnTo>
                    <a:pt x="127" y="8"/>
                  </a:lnTo>
                  <a:lnTo>
                    <a:pt x="136" y="8"/>
                  </a:lnTo>
                  <a:lnTo>
                    <a:pt x="145" y="17"/>
                  </a:lnTo>
                  <a:lnTo>
                    <a:pt x="145" y="26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54" y="52"/>
                  </a:lnTo>
                  <a:lnTo>
                    <a:pt x="154" y="61"/>
                  </a:lnTo>
                  <a:lnTo>
                    <a:pt x="154" y="74"/>
                  </a:lnTo>
                  <a:lnTo>
                    <a:pt x="145" y="93"/>
                  </a:lnTo>
                  <a:lnTo>
                    <a:pt x="145" y="115"/>
                  </a:lnTo>
                  <a:lnTo>
                    <a:pt x="136" y="133"/>
                  </a:lnTo>
                  <a:lnTo>
                    <a:pt x="127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320" y="1644480"/>
              <a:ext cx="1074960" cy="646560"/>
            </a:xfrm>
            <a:custGeom>
              <a:avLst/>
              <a:gdLst/>
              <a:ahLst/>
              <a:rect l="0" t="0" r="r" b="b"/>
              <a:pathLst>
                <a:path w="2986" h="1796">
                  <a:moveTo>
                    <a:pt x="2986" y="1796"/>
                  </a:moveTo>
                  <a:lnTo>
                    <a:pt x="2986" y="0"/>
                  </a:lnTo>
                  <a:lnTo>
                    <a:pt x="0" y="0"/>
                  </a:lnTo>
                  <a:lnTo>
                    <a:pt x="0" y="1796"/>
                  </a:lnTo>
                  <a:lnTo>
                    <a:pt x="2986" y="17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14960" y="1573200"/>
              <a:ext cx="11970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ine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14960" y="1776240"/>
              <a:ext cx="1208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xpir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67320" y="1986120"/>
              <a:ext cx="598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55964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6560" y="2847960"/>
              <a:ext cx="124200" cy="176400"/>
            </a:xfrm>
            <a:custGeom>
              <a:avLst/>
              <a:gdLst/>
              <a:ahLst/>
              <a:rect l="0" t="0" r="r" b="b"/>
              <a:pathLst>
                <a:path w="345" h="490">
                  <a:moveTo>
                    <a:pt x="172" y="433"/>
                  </a:moveTo>
                  <a:lnTo>
                    <a:pt x="195" y="433"/>
                  </a:lnTo>
                  <a:lnTo>
                    <a:pt x="217" y="433"/>
                  </a:lnTo>
                  <a:lnTo>
                    <a:pt x="234" y="441"/>
                  </a:lnTo>
                  <a:lnTo>
                    <a:pt x="262" y="441"/>
                  </a:lnTo>
                  <a:lnTo>
                    <a:pt x="279" y="450"/>
                  </a:lnTo>
                  <a:lnTo>
                    <a:pt x="293" y="450"/>
                  </a:lnTo>
                  <a:lnTo>
                    <a:pt x="301" y="455"/>
                  </a:lnTo>
                  <a:lnTo>
                    <a:pt x="315" y="459"/>
                  </a:lnTo>
                  <a:lnTo>
                    <a:pt x="323" y="468"/>
                  </a:lnTo>
                  <a:lnTo>
                    <a:pt x="328" y="472"/>
                  </a:lnTo>
                  <a:lnTo>
                    <a:pt x="337" y="481"/>
                  </a:lnTo>
                  <a:lnTo>
                    <a:pt x="345" y="490"/>
                  </a:lnTo>
                  <a:lnTo>
                    <a:pt x="172" y="0"/>
                  </a:lnTo>
                  <a:lnTo>
                    <a:pt x="0" y="490"/>
                  </a:lnTo>
                  <a:lnTo>
                    <a:pt x="0" y="481"/>
                  </a:lnTo>
                  <a:lnTo>
                    <a:pt x="8" y="472"/>
                  </a:lnTo>
                  <a:lnTo>
                    <a:pt x="17" y="468"/>
                  </a:lnTo>
                  <a:lnTo>
                    <a:pt x="22" y="459"/>
                  </a:lnTo>
                  <a:lnTo>
                    <a:pt x="30" y="455"/>
                  </a:lnTo>
                  <a:lnTo>
                    <a:pt x="44" y="450"/>
                  </a:lnTo>
                  <a:lnTo>
                    <a:pt x="61" y="450"/>
                  </a:lnTo>
                  <a:lnTo>
                    <a:pt x="74" y="441"/>
                  </a:lnTo>
                  <a:lnTo>
                    <a:pt x="102" y="441"/>
                  </a:lnTo>
                  <a:lnTo>
                    <a:pt x="124" y="433"/>
                  </a:lnTo>
                  <a:lnTo>
                    <a:pt x="146" y="433"/>
                  </a:lnTo>
                  <a:lnTo>
                    <a:pt x="172" y="4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3840" y="2847960"/>
              <a:ext cx="128880" cy="176400"/>
            </a:xfrm>
            <a:custGeom>
              <a:avLst/>
              <a:gdLst/>
              <a:ahLst/>
              <a:rect l="0" t="0" r="r" b="b"/>
              <a:pathLst>
                <a:path w="358" h="490">
                  <a:moveTo>
                    <a:pt x="176" y="441"/>
                  </a:moveTo>
                  <a:lnTo>
                    <a:pt x="203" y="441"/>
                  </a:lnTo>
                  <a:lnTo>
                    <a:pt x="225" y="441"/>
                  </a:lnTo>
                  <a:lnTo>
                    <a:pt x="247" y="441"/>
                  </a:lnTo>
                  <a:lnTo>
                    <a:pt x="274" y="450"/>
                  </a:lnTo>
                  <a:lnTo>
                    <a:pt x="292" y="450"/>
                  </a:lnTo>
                  <a:lnTo>
                    <a:pt x="305" y="455"/>
                  </a:lnTo>
                  <a:lnTo>
                    <a:pt x="314" y="455"/>
                  </a:lnTo>
                  <a:lnTo>
                    <a:pt x="327" y="459"/>
                  </a:lnTo>
                  <a:lnTo>
                    <a:pt x="336" y="468"/>
                  </a:lnTo>
                  <a:lnTo>
                    <a:pt x="340" y="472"/>
                  </a:lnTo>
                  <a:lnTo>
                    <a:pt x="349" y="481"/>
                  </a:lnTo>
                  <a:lnTo>
                    <a:pt x="349" y="490"/>
                  </a:lnTo>
                  <a:lnTo>
                    <a:pt x="358" y="490"/>
                  </a:lnTo>
                  <a:lnTo>
                    <a:pt x="176" y="0"/>
                  </a:lnTo>
                  <a:lnTo>
                    <a:pt x="0" y="490"/>
                  </a:lnTo>
                  <a:lnTo>
                    <a:pt x="8" y="481"/>
                  </a:lnTo>
                  <a:lnTo>
                    <a:pt x="8" y="472"/>
                  </a:lnTo>
                  <a:lnTo>
                    <a:pt x="17" y="472"/>
                  </a:lnTo>
                  <a:lnTo>
                    <a:pt x="22" y="468"/>
                  </a:lnTo>
                  <a:lnTo>
                    <a:pt x="30" y="459"/>
                  </a:lnTo>
                  <a:lnTo>
                    <a:pt x="39" y="455"/>
                  </a:lnTo>
                  <a:lnTo>
                    <a:pt x="52" y="455"/>
                  </a:lnTo>
                  <a:lnTo>
                    <a:pt x="61" y="450"/>
                  </a:lnTo>
                  <a:lnTo>
                    <a:pt x="83" y="450"/>
                  </a:lnTo>
                  <a:lnTo>
                    <a:pt x="101" y="441"/>
                  </a:lnTo>
                  <a:lnTo>
                    <a:pt x="123" y="441"/>
                  </a:lnTo>
                  <a:lnTo>
                    <a:pt x="145" y="441"/>
                  </a:lnTo>
                  <a:lnTo>
                    <a:pt x="176" y="4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33640" y="3478320"/>
              <a:ext cx="1849320" cy="1036440"/>
              <a:chOff x="1133640" y="3478320"/>
              <a:chExt cx="1849320" cy="10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33640" y="3562200"/>
                <a:ext cx="175104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3360" y="3478320"/>
                <a:ext cx="1749600" cy="9540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235160" y="3897360"/>
              <a:ext cx="1717560" cy="538200"/>
              <a:chOff x="1235160" y="3897360"/>
              <a:chExt cx="1717560" cy="53820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235160" y="3897360"/>
                <a:ext cx="1717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 Measur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235160" y="4102200"/>
                <a:ext cx="10731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cos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 txBox="1"/>
            <p:nvPr/>
          </p:nvSpPr>
          <p:spPr>
            <a:xfrm>
              <a:off x="1311120" y="3557520"/>
              <a:ext cx="1530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02120" y="4944960"/>
              <a:ext cx="125640" cy="182880"/>
            </a:xfrm>
            <a:custGeom>
              <a:avLst/>
              <a:gdLst/>
              <a:ahLst/>
              <a:rect l="0" t="0" r="r" b="b"/>
              <a:pathLst>
                <a:path w="349" h="508">
                  <a:moveTo>
                    <a:pt x="177" y="446"/>
                  </a:moveTo>
                  <a:lnTo>
                    <a:pt x="195" y="446"/>
                  </a:lnTo>
                  <a:lnTo>
                    <a:pt x="217" y="446"/>
                  </a:lnTo>
                  <a:lnTo>
                    <a:pt x="239" y="450"/>
                  </a:lnTo>
                  <a:lnTo>
                    <a:pt x="265" y="450"/>
                  </a:lnTo>
                  <a:lnTo>
                    <a:pt x="283" y="459"/>
                  </a:lnTo>
                  <a:lnTo>
                    <a:pt x="296" y="468"/>
                  </a:lnTo>
                  <a:lnTo>
                    <a:pt x="305" y="468"/>
                  </a:lnTo>
                  <a:lnTo>
                    <a:pt x="318" y="472"/>
                  </a:lnTo>
                  <a:lnTo>
                    <a:pt x="327" y="477"/>
                  </a:lnTo>
                  <a:lnTo>
                    <a:pt x="331" y="486"/>
                  </a:lnTo>
                  <a:lnTo>
                    <a:pt x="340" y="486"/>
                  </a:lnTo>
                  <a:lnTo>
                    <a:pt x="340" y="490"/>
                  </a:lnTo>
                  <a:lnTo>
                    <a:pt x="349" y="499"/>
                  </a:lnTo>
                  <a:lnTo>
                    <a:pt x="349" y="508"/>
                  </a:lnTo>
                  <a:lnTo>
                    <a:pt x="177" y="0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8" y="486"/>
                  </a:lnTo>
                  <a:lnTo>
                    <a:pt x="17" y="486"/>
                  </a:lnTo>
                  <a:lnTo>
                    <a:pt x="17" y="477"/>
                  </a:lnTo>
                  <a:lnTo>
                    <a:pt x="22" y="472"/>
                  </a:lnTo>
                  <a:lnTo>
                    <a:pt x="39" y="468"/>
                  </a:lnTo>
                  <a:lnTo>
                    <a:pt x="44" y="468"/>
                  </a:lnTo>
                  <a:lnTo>
                    <a:pt x="61" y="459"/>
                  </a:lnTo>
                  <a:lnTo>
                    <a:pt x="74" y="450"/>
                  </a:lnTo>
                  <a:lnTo>
                    <a:pt x="101" y="450"/>
                  </a:lnTo>
                  <a:lnTo>
                    <a:pt x="123" y="446"/>
                  </a:lnTo>
                  <a:lnTo>
                    <a:pt x="145" y="446"/>
                  </a:lnTo>
                  <a:lnTo>
                    <a:pt x="177" y="4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66920" y="3486240"/>
              <a:ext cx="3154680" cy="1982520"/>
              <a:chOff x="3166920" y="3486240"/>
              <a:chExt cx="3154680" cy="19825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8800" y="3486240"/>
                <a:ext cx="3052800" cy="18986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3282840" y="3852720"/>
              <a:ext cx="303516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Allocation of expired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eriods benefi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270240" y="4227480"/>
              <a:ext cx="3105000" cy="1211400"/>
              <a:chOff x="3270240" y="4227480"/>
              <a:chExt cx="3105000" cy="1211400"/>
            </a:xfrm>
          </p:grpSpPr>
          <p:sp>
            <p:nvSpPr>
              <p:cNvPr id="172" name=""/>
              <p:cNvSpPr txBox="1"/>
              <p:nvPr/>
            </p:nvSpPr>
            <p:spPr>
              <a:xfrm>
                <a:off x="3270240" y="4227480"/>
                <a:ext cx="310500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270240" y="4437000"/>
                <a:ext cx="259704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ditures, such a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270240" y="4648320"/>
                <a:ext cx="25527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airs, maintenance,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270240" y="4861080"/>
                <a:ext cx="172728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addition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 txBox="1"/>
            <p:nvPr/>
          </p:nvSpPr>
          <p:spPr>
            <a:xfrm>
              <a:off x="4562640" y="3511440"/>
              <a:ext cx="6048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32640" y="3494160"/>
              <a:ext cx="1851120" cy="1035000"/>
              <a:chOff x="6632640" y="3494160"/>
              <a:chExt cx="1851120" cy="1035000"/>
            </a:xfrm>
          </p:grpSpPr>
          <p:sp>
            <p:nvSpPr>
              <p:cNvPr id="178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32720" y="3494160"/>
                <a:ext cx="1751040" cy="9525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>
              <a:off x="6983280" y="3511440"/>
              <a:ext cx="1219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799320" y="3859200"/>
              <a:ext cx="1649520" cy="531720"/>
              <a:chOff x="6799320" y="3859200"/>
              <a:chExt cx="1649520" cy="531720"/>
            </a:xfrm>
          </p:grpSpPr>
          <p:sp>
            <p:nvSpPr>
              <p:cNvPr id="182" name=""/>
              <p:cNvSpPr txBox="1"/>
              <p:nvPr/>
            </p:nvSpPr>
            <p:spPr>
              <a:xfrm>
                <a:off x="6799320" y="3859200"/>
                <a:ext cx="141120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 Record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799320" y="4057560"/>
                <a:ext cx="1649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disposal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025720" y="2824200"/>
              <a:ext cx="128880" cy="178200"/>
            </a:xfrm>
            <a:custGeom>
              <a:avLst/>
              <a:gdLst/>
              <a:ahLst/>
              <a:rect l="0" t="0" r="r" b="b"/>
              <a:pathLst>
                <a:path w="358" h="495">
                  <a:moveTo>
                    <a:pt x="176" y="447"/>
                  </a:moveTo>
                  <a:lnTo>
                    <a:pt x="203" y="447"/>
                  </a:lnTo>
                  <a:lnTo>
                    <a:pt x="225" y="447"/>
                  </a:lnTo>
                  <a:lnTo>
                    <a:pt x="247" y="447"/>
                  </a:lnTo>
                  <a:lnTo>
                    <a:pt x="274" y="456"/>
                  </a:lnTo>
                  <a:lnTo>
                    <a:pt x="292" y="456"/>
                  </a:lnTo>
                  <a:lnTo>
                    <a:pt x="305" y="460"/>
                  </a:lnTo>
                  <a:lnTo>
                    <a:pt x="314" y="460"/>
                  </a:lnTo>
                  <a:lnTo>
                    <a:pt x="327" y="465"/>
                  </a:lnTo>
                  <a:lnTo>
                    <a:pt x="336" y="473"/>
                  </a:lnTo>
                  <a:lnTo>
                    <a:pt x="340" y="478"/>
                  </a:lnTo>
                  <a:lnTo>
                    <a:pt x="349" y="487"/>
                  </a:lnTo>
                  <a:lnTo>
                    <a:pt x="349" y="495"/>
                  </a:lnTo>
                  <a:lnTo>
                    <a:pt x="358" y="495"/>
                  </a:lnTo>
                  <a:lnTo>
                    <a:pt x="176" y="0"/>
                  </a:lnTo>
                  <a:lnTo>
                    <a:pt x="0" y="495"/>
                  </a:lnTo>
                  <a:lnTo>
                    <a:pt x="8" y="487"/>
                  </a:lnTo>
                  <a:lnTo>
                    <a:pt x="8" y="478"/>
                  </a:lnTo>
                  <a:lnTo>
                    <a:pt x="17" y="478"/>
                  </a:lnTo>
                  <a:lnTo>
                    <a:pt x="22" y="473"/>
                  </a:lnTo>
                  <a:lnTo>
                    <a:pt x="30" y="465"/>
                  </a:lnTo>
                  <a:lnTo>
                    <a:pt x="39" y="460"/>
                  </a:lnTo>
                  <a:lnTo>
                    <a:pt x="52" y="460"/>
                  </a:lnTo>
                  <a:lnTo>
                    <a:pt x="61" y="456"/>
                  </a:lnTo>
                  <a:lnTo>
                    <a:pt x="83" y="456"/>
                  </a:lnTo>
                  <a:lnTo>
                    <a:pt x="101" y="447"/>
                  </a:lnTo>
                  <a:lnTo>
                    <a:pt x="123" y="447"/>
                  </a:lnTo>
                  <a:lnTo>
                    <a:pt x="145" y="447"/>
                  </a:lnTo>
                  <a:lnTo>
                    <a:pt x="176" y="4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246480" y="5551560"/>
              <a:ext cx="30639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6232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for resale to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05720" y="304920"/>
            <a:ext cx="2056320" cy="2055960"/>
            <a:chOff x="6705720" y="304920"/>
            <a:chExt cx="2056320" cy="2055960"/>
          </a:xfrm>
        </p:grpSpPr>
        <p:sp>
          <p:nvSpPr>
            <p:cNvPr id="189" name=""/>
            <p:cNvSpPr/>
            <p:nvPr/>
          </p:nvSpPr>
          <p:spPr>
            <a:xfrm>
              <a:off x="6710400" y="131436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43" y="630"/>
                  </a:lnTo>
                  <a:lnTo>
                    <a:pt x="507" y="758"/>
                  </a:lnTo>
                  <a:lnTo>
                    <a:pt x="348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11"/>
                  </a:lnTo>
                  <a:lnTo>
                    <a:pt x="127" y="1711"/>
                  </a:lnTo>
                  <a:lnTo>
                    <a:pt x="216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3"/>
                  </a:lnTo>
                  <a:lnTo>
                    <a:pt x="904" y="1994"/>
                  </a:lnTo>
                  <a:lnTo>
                    <a:pt x="1006" y="1747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47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5"/>
                  </a:lnTo>
                  <a:lnTo>
                    <a:pt x="1050" y="674"/>
                  </a:lnTo>
                  <a:lnTo>
                    <a:pt x="1006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43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1604880"/>
              <a:ext cx="146520" cy="346320"/>
            </a:xfrm>
            <a:custGeom>
              <a:avLst/>
              <a:gdLst/>
              <a:ahLst/>
              <a:rect l="0" t="0" r="r" b="b"/>
              <a:pathLst>
                <a:path w="407" h="962">
                  <a:moveTo>
                    <a:pt x="199" y="0"/>
                  </a:moveTo>
                  <a:lnTo>
                    <a:pt x="407" y="246"/>
                  </a:lnTo>
                  <a:lnTo>
                    <a:pt x="306" y="794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24" y="405"/>
                  </a:lnTo>
                  <a:lnTo>
                    <a:pt x="199" y="20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6680" y="140652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33" y="1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34280" y="104940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9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22"/>
                  </a:lnTo>
                  <a:lnTo>
                    <a:pt x="984" y="1773"/>
                  </a:lnTo>
                  <a:lnTo>
                    <a:pt x="1073" y="1747"/>
                  </a:lnTo>
                  <a:lnTo>
                    <a:pt x="1054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90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6"/>
                  </a:lnTo>
                  <a:lnTo>
                    <a:pt x="666" y="0"/>
                  </a:lnTo>
                  <a:lnTo>
                    <a:pt x="433" y="520"/>
                  </a:lnTo>
                  <a:lnTo>
                    <a:pt x="229" y="599"/>
                  </a:lnTo>
                  <a:lnTo>
                    <a:pt x="176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449280"/>
              <a:ext cx="560880" cy="884520"/>
            </a:xfrm>
            <a:custGeom>
              <a:avLst/>
              <a:gdLst/>
              <a:ahLst/>
              <a:rect l="0" t="0" r="r" b="b"/>
              <a:pathLst>
                <a:path w="1558" h="2457">
                  <a:moveTo>
                    <a:pt x="388" y="343"/>
                  </a:moveTo>
                  <a:lnTo>
                    <a:pt x="268" y="811"/>
                  </a:lnTo>
                  <a:lnTo>
                    <a:pt x="13" y="908"/>
                  </a:lnTo>
                  <a:lnTo>
                    <a:pt x="83" y="1049"/>
                  </a:lnTo>
                  <a:lnTo>
                    <a:pt x="0" y="1146"/>
                  </a:lnTo>
                  <a:lnTo>
                    <a:pt x="0" y="1319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20"/>
                  </a:lnTo>
                  <a:lnTo>
                    <a:pt x="424" y="2254"/>
                  </a:lnTo>
                  <a:lnTo>
                    <a:pt x="741" y="2457"/>
                  </a:lnTo>
                  <a:lnTo>
                    <a:pt x="1059" y="2426"/>
                  </a:lnTo>
                  <a:lnTo>
                    <a:pt x="1210" y="2020"/>
                  </a:lnTo>
                  <a:lnTo>
                    <a:pt x="1245" y="1398"/>
                  </a:lnTo>
                  <a:lnTo>
                    <a:pt x="1558" y="1084"/>
                  </a:lnTo>
                  <a:lnTo>
                    <a:pt x="1545" y="961"/>
                  </a:lnTo>
                  <a:lnTo>
                    <a:pt x="1510" y="908"/>
                  </a:lnTo>
                  <a:lnTo>
                    <a:pt x="1346" y="890"/>
                  </a:lnTo>
                  <a:lnTo>
                    <a:pt x="1395" y="727"/>
                  </a:lnTo>
                  <a:lnTo>
                    <a:pt x="1232" y="621"/>
                  </a:lnTo>
                  <a:lnTo>
                    <a:pt x="1165" y="268"/>
                  </a:lnTo>
                  <a:lnTo>
                    <a:pt x="680" y="0"/>
                  </a:lnTo>
                  <a:lnTo>
                    <a:pt x="424" y="251"/>
                  </a:lnTo>
                  <a:lnTo>
                    <a:pt x="388" y="34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1120" y="1189080"/>
              <a:ext cx="516240" cy="1054440"/>
            </a:xfrm>
            <a:custGeom>
              <a:avLst/>
              <a:gdLst/>
              <a:ahLst/>
              <a:rect l="0" t="0" r="r" b="b"/>
              <a:pathLst>
                <a:path w="1434" h="2929">
                  <a:moveTo>
                    <a:pt x="291" y="154"/>
                  </a:moveTo>
                  <a:lnTo>
                    <a:pt x="493" y="291"/>
                  </a:lnTo>
                  <a:lnTo>
                    <a:pt x="599" y="449"/>
                  </a:lnTo>
                  <a:lnTo>
                    <a:pt x="1173" y="0"/>
                  </a:lnTo>
                  <a:lnTo>
                    <a:pt x="1354" y="92"/>
                  </a:lnTo>
                  <a:lnTo>
                    <a:pt x="1434" y="555"/>
                  </a:lnTo>
                  <a:lnTo>
                    <a:pt x="1015" y="1906"/>
                  </a:lnTo>
                  <a:lnTo>
                    <a:pt x="1151" y="2651"/>
                  </a:lnTo>
                  <a:lnTo>
                    <a:pt x="608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333360"/>
              <a:ext cx="483120" cy="279720"/>
            </a:xfrm>
            <a:custGeom>
              <a:avLst/>
              <a:gdLst/>
              <a:ahLst/>
              <a:rect l="0" t="0" r="r" b="b"/>
              <a:pathLst>
                <a:path w="1342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52" y="503"/>
                  </a:lnTo>
                  <a:lnTo>
                    <a:pt x="636" y="561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6" y="697"/>
                  </a:lnTo>
                  <a:lnTo>
                    <a:pt x="1126" y="618"/>
                  </a:lnTo>
                  <a:lnTo>
                    <a:pt x="1342" y="521"/>
                  </a:lnTo>
                  <a:lnTo>
                    <a:pt x="1280" y="379"/>
                  </a:lnTo>
                  <a:lnTo>
                    <a:pt x="1082" y="361"/>
                  </a:lnTo>
                  <a:lnTo>
                    <a:pt x="1108" y="202"/>
                  </a:lnTo>
                  <a:lnTo>
                    <a:pt x="935" y="224"/>
                  </a:lnTo>
                  <a:lnTo>
                    <a:pt x="909" y="110"/>
                  </a:lnTo>
                  <a:lnTo>
                    <a:pt x="790" y="110"/>
                  </a:lnTo>
                  <a:lnTo>
                    <a:pt x="710" y="167"/>
                  </a:lnTo>
                  <a:lnTo>
                    <a:pt x="636" y="167"/>
                  </a:lnTo>
                  <a:lnTo>
                    <a:pt x="653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67"/>
                  </a:lnTo>
                  <a:lnTo>
                    <a:pt x="132" y="264"/>
                  </a:lnTo>
                  <a:lnTo>
                    <a:pt x="105" y="503"/>
                  </a:lnTo>
                  <a:lnTo>
                    <a:pt x="0" y="464"/>
                  </a:lnTo>
                  <a:lnTo>
                    <a:pt x="13" y="618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1960" y="1384200"/>
              <a:ext cx="154440" cy="797400"/>
            </a:xfrm>
            <a:custGeom>
              <a:avLst/>
              <a:gdLst/>
              <a:ahLst/>
              <a:rect l="0" t="0" r="r" b="b"/>
              <a:pathLst>
                <a:path w="429" h="2215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05" y="1548"/>
                  </a:lnTo>
                  <a:lnTo>
                    <a:pt x="105" y="1765"/>
                  </a:lnTo>
                  <a:lnTo>
                    <a:pt x="48" y="1933"/>
                  </a:lnTo>
                  <a:lnTo>
                    <a:pt x="274" y="2215"/>
                  </a:lnTo>
                  <a:lnTo>
                    <a:pt x="416" y="1783"/>
                  </a:lnTo>
                  <a:lnTo>
                    <a:pt x="416" y="1491"/>
                  </a:lnTo>
                  <a:lnTo>
                    <a:pt x="309" y="1209"/>
                  </a:lnTo>
                  <a:lnTo>
                    <a:pt x="252" y="838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92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72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3"/>
                  </a:lnTo>
                  <a:lnTo>
                    <a:pt x="195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2280" y="74628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4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3720" y="716040"/>
              <a:ext cx="132120" cy="154440"/>
            </a:xfrm>
            <a:custGeom>
              <a:avLst/>
              <a:gdLst/>
              <a:ahLst/>
              <a:rect l="0" t="0" r="r" b="b"/>
              <a:pathLst>
                <a:path w="367" h="429">
                  <a:moveTo>
                    <a:pt x="0" y="61"/>
                  </a:moveTo>
                  <a:lnTo>
                    <a:pt x="252" y="429"/>
                  </a:lnTo>
                  <a:lnTo>
                    <a:pt x="367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5040" y="514440"/>
              <a:ext cx="535320" cy="389160"/>
            </a:xfrm>
            <a:custGeom>
              <a:avLst/>
              <a:gdLst/>
              <a:ahLst/>
              <a:rect l="0" t="0" r="r" b="b"/>
              <a:pathLst>
                <a:path w="1487" h="1081">
                  <a:moveTo>
                    <a:pt x="679" y="640"/>
                  </a:moveTo>
                  <a:lnTo>
                    <a:pt x="546" y="600"/>
                  </a:lnTo>
                  <a:lnTo>
                    <a:pt x="661" y="507"/>
                  </a:lnTo>
                  <a:lnTo>
                    <a:pt x="621" y="454"/>
                  </a:lnTo>
                  <a:lnTo>
                    <a:pt x="471" y="578"/>
                  </a:lnTo>
                  <a:lnTo>
                    <a:pt x="189" y="609"/>
                  </a:lnTo>
                  <a:lnTo>
                    <a:pt x="0" y="618"/>
                  </a:lnTo>
                  <a:lnTo>
                    <a:pt x="0" y="768"/>
                  </a:lnTo>
                  <a:lnTo>
                    <a:pt x="176" y="1072"/>
                  </a:lnTo>
                  <a:lnTo>
                    <a:pt x="224" y="1081"/>
                  </a:lnTo>
                  <a:lnTo>
                    <a:pt x="66" y="750"/>
                  </a:lnTo>
                  <a:lnTo>
                    <a:pt x="304" y="640"/>
                  </a:lnTo>
                  <a:lnTo>
                    <a:pt x="471" y="640"/>
                  </a:lnTo>
                  <a:lnTo>
                    <a:pt x="586" y="710"/>
                  </a:lnTo>
                  <a:lnTo>
                    <a:pt x="621" y="803"/>
                  </a:lnTo>
                  <a:lnTo>
                    <a:pt x="621" y="1006"/>
                  </a:lnTo>
                  <a:lnTo>
                    <a:pt x="621" y="1072"/>
                  </a:lnTo>
                  <a:lnTo>
                    <a:pt x="692" y="975"/>
                  </a:lnTo>
                  <a:lnTo>
                    <a:pt x="692" y="759"/>
                  </a:lnTo>
                  <a:lnTo>
                    <a:pt x="794" y="759"/>
                  </a:lnTo>
                  <a:lnTo>
                    <a:pt x="852" y="1006"/>
                  </a:lnTo>
                  <a:lnTo>
                    <a:pt x="904" y="1032"/>
                  </a:lnTo>
                  <a:lnTo>
                    <a:pt x="1085" y="1032"/>
                  </a:lnTo>
                  <a:lnTo>
                    <a:pt x="1266" y="979"/>
                  </a:lnTo>
                  <a:lnTo>
                    <a:pt x="1394" y="891"/>
                  </a:lnTo>
                  <a:lnTo>
                    <a:pt x="1416" y="675"/>
                  </a:lnTo>
                  <a:lnTo>
                    <a:pt x="1487" y="578"/>
                  </a:lnTo>
                  <a:lnTo>
                    <a:pt x="1447" y="520"/>
                  </a:lnTo>
                  <a:lnTo>
                    <a:pt x="1279" y="458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4"/>
                  </a:lnTo>
                  <a:lnTo>
                    <a:pt x="957" y="520"/>
                  </a:lnTo>
                  <a:lnTo>
                    <a:pt x="812" y="471"/>
                  </a:lnTo>
                  <a:lnTo>
                    <a:pt x="785" y="520"/>
                  </a:lnTo>
                  <a:lnTo>
                    <a:pt x="869" y="578"/>
                  </a:lnTo>
                  <a:lnTo>
                    <a:pt x="869" y="631"/>
                  </a:lnTo>
                  <a:lnTo>
                    <a:pt x="1046" y="552"/>
                  </a:lnTo>
                  <a:lnTo>
                    <a:pt x="1196" y="533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58"/>
                  </a:lnTo>
                  <a:lnTo>
                    <a:pt x="1253" y="759"/>
                  </a:lnTo>
                  <a:lnTo>
                    <a:pt x="1244" y="891"/>
                  </a:lnTo>
                  <a:lnTo>
                    <a:pt x="1143" y="949"/>
                  </a:lnTo>
                  <a:lnTo>
                    <a:pt x="1002" y="962"/>
                  </a:lnTo>
                  <a:lnTo>
                    <a:pt x="904" y="962"/>
                  </a:lnTo>
                  <a:lnTo>
                    <a:pt x="869" y="927"/>
                  </a:lnTo>
                  <a:lnTo>
                    <a:pt x="852" y="675"/>
                  </a:lnTo>
                  <a:lnTo>
                    <a:pt x="692" y="675"/>
                  </a:lnTo>
                  <a:lnTo>
                    <a:pt x="679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70800" y="96192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0" y="0"/>
                  </a:moveTo>
                  <a:lnTo>
                    <a:pt x="79" y="106"/>
                  </a:lnTo>
                  <a:lnTo>
                    <a:pt x="283" y="106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71"/>
                  </a:lnTo>
                  <a:lnTo>
                    <a:pt x="459" y="106"/>
                  </a:lnTo>
                  <a:lnTo>
                    <a:pt x="265" y="226"/>
                  </a:lnTo>
                  <a:lnTo>
                    <a:pt x="154" y="226"/>
                  </a:lnTo>
                  <a:lnTo>
                    <a:pt x="101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8560" y="833400"/>
              <a:ext cx="260640" cy="422640"/>
            </a:xfrm>
            <a:custGeom>
              <a:avLst/>
              <a:gdLst/>
              <a:ahLst/>
              <a:rect l="0" t="0" r="r" b="b"/>
              <a:pathLst>
                <a:path w="724" h="1174">
                  <a:moveTo>
                    <a:pt x="724" y="83"/>
                  </a:moveTo>
                  <a:lnTo>
                    <a:pt x="724" y="105"/>
                  </a:lnTo>
                  <a:lnTo>
                    <a:pt x="596" y="224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1" y="980"/>
                  </a:lnTo>
                  <a:lnTo>
                    <a:pt x="464" y="1174"/>
                  </a:lnTo>
                  <a:lnTo>
                    <a:pt x="371" y="1038"/>
                  </a:lnTo>
                  <a:lnTo>
                    <a:pt x="339" y="897"/>
                  </a:lnTo>
                  <a:lnTo>
                    <a:pt x="282" y="499"/>
                  </a:lnTo>
                  <a:lnTo>
                    <a:pt x="224" y="516"/>
                  </a:lnTo>
                  <a:lnTo>
                    <a:pt x="154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26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48"/>
                  </a:lnTo>
                  <a:lnTo>
                    <a:pt x="44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68" y="158"/>
                  </a:lnTo>
                  <a:lnTo>
                    <a:pt x="406" y="194"/>
                  </a:lnTo>
                  <a:lnTo>
                    <a:pt x="525" y="185"/>
                  </a:lnTo>
                  <a:lnTo>
                    <a:pt x="644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6960" y="503280"/>
              <a:ext cx="79560" cy="221040"/>
            </a:xfrm>
            <a:custGeom>
              <a:avLst/>
              <a:gdLst/>
              <a:ahLst/>
              <a:rect l="0" t="0" r="r" b="b"/>
              <a:pathLst>
                <a:path w="221" h="614">
                  <a:moveTo>
                    <a:pt x="115" y="614"/>
                  </a:moveTo>
                  <a:lnTo>
                    <a:pt x="221" y="252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89"/>
                  </a:lnTo>
                  <a:lnTo>
                    <a:pt x="133" y="465"/>
                  </a:lnTo>
                  <a:lnTo>
                    <a:pt x="115" y="6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455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8" y="636"/>
                  </a:lnTo>
                  <a:lnTo>
                    <a:pt x="136" y="538"/>
                  </a:lnTo>
                  <a:lnTo>
                    <a:pt x="167" y="348"/>
                  </a:lnTo>
                  <a:lnTo>
                    <a:pt x="260" y="313"/>
                  </a:lnTo>
                  <a:lnTo>
                    <a:pt x="268" y="508"/>
                  </a:lnTo>
                  <a:lnTo>
                    <a:pt x="552" y="158"/>
                  </a:lnTo>
                  <a:lnTo>
                    <a:pt x="613" y="132"/>
                  </a:lnTo>
                  <a:lnTo>
                    <a:pt x="565" y="273"/>
                  </a:lnTo>
                  <a:lnTo>
                    <a:pt x="737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9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9" y="618"/>
                  </a:lnTo>
                  <a:lnTo>
                    <a:pt x="1032" y="697"/>
                  </a:lnTo>
                  <a:lnTo>
                    <a:pt x="1103" y="755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7"/>
                  </a:lnTo>
                  <a:lnTo>
                    <a:pt x="1333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9"/>
                  </a:lnTo>
                  <a:lnTo>
                    <a:pt x="1125" y="383"/>
                  </a:lnTo>
                  <a:lnTo>
                    <a:pt x="1333" y="246"/>
                  </a:lnTo>
                  <a:lnTo>
                    <a:pt x="949" y="246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5" y="224"/>
                  </a:lnTo>
                  <a:lnTo>
                    <a:pt x="830" y="0"/>
                  </a:lnTo>
                  <a:lnTo>
                    <a:pt x="494" y="123"/>
                  </a:lnTo>
                  <a:lnTo>
                    <a:pt x="308" y="392"/>
                  </a:lnTo>
                  <a:lnTo>
                    <a:pt x="268" y="242"/>
                  </a:lnTo>
                  <a:lnTo>
                    <a:pt x="119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40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7" y="0"/>
                  </a:lnTo>
                  <a:lnTo>
                    <a:pt x="177" y="164"/>
                  </a:lnTo>
                  <a:lnTo>
                    <a:pt x="230" y="98"/>
                  </a:lnTo>
                  <a:lnTo>
                    <a:pt x="283" y="196"/>
                  </a:lnTo>
                  <a:lnTo>
                    <a:pt x="460" y="240"/>
                  </a:lnTo>
                  <a:lnTo>
                    <a:pt x="274" y="209"/>
                  </a:lnTo>
                  <a:lnTo>
                    <a:pt x="221" y="142"/>
                  </a:lnTo>
                  <a:lnTo>
                    <a:pt x="142" y="209"/>
                  </a:lnTo>
                  <a:lnTo>
                    <a:pt x="142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582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32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7" y="154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4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326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85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5" y="586"/>
                  </a:lnTo>
                  <a:lnTo>
                    <a:pt x="865" y="922"/>
                  </a:lnTo>
                  <a:lnTo>
                    <a:pt x="913" y="1160"/>
                  </a:lnTo>
                  <a:lnTo>
                    <a:pt x="913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9"/>
                  </a:lnTo>
                  <a:lnTo>
                    <a:pt x="136" y="1420"/>
                  </a:lnTo>
                  <a:lnTo>
                    <a:pt x="39" y="1337"/>
                  </a:lnTo>
                  <a:lnTo>
                    <a:pt x="0" y="1271"/>
                  </a:lnTo>
                  <a:lnTo>
                    <a:pt x="132" y="1359"/>
                  </a:lnTo>
                  <a:lnTo>
                    <a:pt x="233" y="1447"/>
                  </a:lnTo>
                  <a:lnTo>
                    <a:pt x="423" y="1456"/>
                  </a:lnTo>
                  <a:lnTo>
                    <a:pt x="586" y="1372"/>
                  </a:lnTo>
                  <a:lnTo>
                    <a:pt x="680" y="1271"/>
                  </a:lnTo>
                  <a:lnTo>
                    <a:pt x="772" y="1103"/>
                  </a:lnTo>
                  <a:lnTo>
                    <a:pt x="794" y="900"/>
                  </a:lnTo>
                  <a:lnTo>
                    <a:pt x="830" y="246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9160" y="1305000"/>
              <a:ext cx="346320" cy="567000"/>
            </a:xfrm>
            <a:custGeom>
              <a:avLst/>
              <a:gdLst/>
              <a:ahLst/>
              <a:rect l="0" t="0" r="r" b="b"/>
              <a:pathLst>
                <a:path w="962" h="1575">
                  <a:moveTo>
                    <a:pt x="123" y="0"/>
                  </a:moveTo>
                  <a:lnTo>
                    <a:pt x="233" y="74"/>
                  </a:lnTo>
                  <a:lnTo>
                    <a:pt x="313" y="392"/>
                  </a:lnTo>
                  <a:lnTo>
                    <a:pt x="561" y="463"/>
                  </a:lnTo>
                  <a:lnTo>
                    <a:pt x="636" y="551"/>
                  </a:lnTo>
                  <a:lnTo>
                    <a:pt x="644" y="670"/>
                  </a:lnTo>
                  <a:lnTo>
                    <a:pt x="768" y="648"/>
                  </a:lnTo>
                  <a:lnTo>
                    <a:pt x="918" y="754"/>
                  </a:lnTo>
                  <a:lnTo>
                    <a:pt x="962" y="878"/>
                  </a:lnTo>
                  <a:lnTo>
                    <a:pt x="962" y="1103"/>
                  </a:lnTo>
                  <a:lnTo>
                    <a:pt x="768" y="1438"/>
                  </a:lnTo>
                  <a:lnTo>
                    <a:pt x="702" y="1575"/>
                  </a:lnTo>
                  <a:lnTo>
                    <a:pt x="733" y="1390"/>
                  </a:lnTo>
                  <a:lnTo>
                    <a:pt x="702" y="1328"/>
                  </a:lnTo>
                  <a:lnTo>
                    <a:pt x="583" y="1209"/>
                  </a:lnTo>
                  <a:lnTo>
                    <a:pt x="388" y="1068"/>
                  </a:lnTo>
                  <a:lnTo>
                    <a:pt x="618" y="1147"/>
                  </a:lnTo>
                  <a:lnTo>
                    <a:pt x="750" y="1253"/>
                  </a:lnTo>
                  <a:lnTo>
                    <a:pt x="825" y="1235"/>
                  </a:lnTo>
                  <a:lnTo>
                    <a:pt x="860" y="1178"/>
                  </a:lnTo>
                  <a:lnTo>
                    <a:pt x="918" y="1024"/>
                  </a:lnTo>
                  <a:lnTo>
                    <a:pt x="900" y="869"/>
                  </a:lnTo>
                  <a:lnTo>
                    <a:pt x="830" y="780"/>
                  </a:lnTo>
                  <a:lnTo>
                    <a:pt x="710" y="754"/>
                  </a:lnTo>
                  <a:lnTo>
                    <a:pt x="583" y="754"/>
                  </a:lnTo>
                  <a:lnTo>
                    <a:pt x="538" y="520"/>
                  </a:lnTo>
                  <a:lnTo>
                    <a:pt x="326" y="436"/>
                  </a:lnTo>
                  <a:lnTo>
                    <a:pt x="326" y="502"/>
                  </a:lnTo>
                  <a:lnTo>
                    <a:pt x="233" y="339"/>
                  </a:lnTo>
                  <a:lnTo>
                    <a:pt x="176" y="74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8"/>
                  </a:lnTo>
                  <a:lnTo>
                    <a:pt x="83" y="502"/>
                  </a:lnTo>
                  <a:lnTo>
                    <a:pt x="198" y="670"/>
                  </a:lnTo>
                  <a:lnTo>
                    <a:pt x="74" y="564"/>
                  </a:lnTo>
                  <a:lnTo>
                    <a:pt x="8" y="392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1555920"/>
              <a:ext cx="227520" cy="451080"/>
            </a:xfrm>
            <a:custGeom>
              <a:avLst/>
              <a:gdLst/>
              <a:ahLst/>
              <a:rect l="0" t="0" r="r" b="b"/>
              <a:pathLst>
                <a:path w="632" h="1253">
                  <a:moveTo>
                    <a:pt x="632" y="0"/>
                  </a:moveTo>
                  <a:lnTo>
                    <a:pt x="500" y="83"/>
                  </a:lnTo>
                  <a:lnTo>
                    <a:pt x="344" y="388"/>
                  </a:lnTo>
                  <a:lnTo>
                    <a:pt x="199" y="582"/>
                  </a:lnTo>
                  <a:lnTo>
                    <a:pt x="13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3" y="1054"/>
                  </a:lnTo>
                  <a:lnTo>
                    <a:pt x="243" y="944"/>
                  </a:lnTo>
                  <a:lnTo>
                    <a:pt x="336" y="719"/>
                  </a:lnTo>
                  <a:lnTo>
                    <a:pt x="464" y="582"/>
                  </a:lnTo>
                  <a:lnTo>
                    <a:pt x="464" y="768"/>
                  </a:lnTo>
                  <a:lnTo>
                    <a:pt x="441" y="931"/>
                  </a:lnTo>
                  <a:lnTo>
                    <a:pt x="309" y="1151"/>
                  </a:lnTo>
                  <a:lnTo>
                    <a:pt x="309" y="1222"/>
                  </a:lnTo>
                  <a:lnTo>
                    <a:pt x="441" y="1253"/>
                  </a:lnTo>
                  <a:lnTo>
                    <a:pt x="344" y="1187"/>
                  </a:lnTo>
                  <a:lnTo>
                    <a:pt x="367" y="1151"/>
                  </a:lnTo>
                  <a:lnTo>
                    <a:pt x="459" y="988"/>
                  </a:lnTo>
                  <a:lnTo>
                    <a:pt x="522" y="693"/>
                  </a:lnTo>
                  <a:lnTo>
                    <a:pt x="482" y="529"/>
                  </a:lnTo>
                  <a:lnTo>
                    <a:pt x="375" y="621"/>
                  </a:lnTo>
                  <a:lnTo>
                    <a:pt x="145" y="1002"/>
                  </a:lnTo>
                  <a:lnTo>
                    <a:pt x="88" y="1010"/>
                  </a:lnTo>
                  <a:lnTo>
                    <a:pt x="35" y="975"/>
                  </a:lnTo>
                  <a:lnTo>
                    <a:pt x="35" y="860"/>
                  </a:lnTo>
                  <a:lnTo>
                    <a:pt x="123" y="706"/>
                  </a:lnTo>
                  <a:lnTo>
                    <a:pt x="375" y="405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5640" y="1809720"/>
              <a:ext cx="140040" cy="217800"/>
            </a:xfrm>
            <a:custGeom>
              <a:avLst/>
              <a:gdLst/>
              <a:ahLst/>
              <a:rect l="0" t="0" r="r" b="b"/>
              <a:pathLst>
                <a:path w="389" h="605">
                  <a:moveTo>
                    <a:pt x="0" y="534"/>
                  </a:moveTo>
                  <a:lnTo>
                    <a:pt x="127" y="380"/>
                  </a:lnTo>
                  <a:lnTo>
                    <a:pt x="149" y="224"/>
                  </a:lnTo>
                  <a:lnTo>
                    <a:pt x="300" y="0"/>
                  </a:lnTo>
                  <a:lnTo>
                    <a:pt x="331" y="149"/>
                  </a:lnTo>
                  <a:lnTo>
                    <a:pt x="309" y="543"/>
                  </a:lnTo>
                  <a:lnTo>
                    <a:pt x="389" y="605"/>
                  </a:lnTo>
                  <a:lnTo>
                    <a:pt x="274" y="565"/>
                  </a:lnTo>
                  <a:lnTo>
                    <a:pt x="217" y="336"/>
                  </a:lnTo>
                  <a:lnTo>
                    <a:pt x="127" y="45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000" y="182088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8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6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26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2840" y="1057320"/>
              <a:ext cx="224280" cy="519480"/>
            </a:xfrm>
            <a:custGeom>
              <a:avLst/>
              <a:gdLst/>
              <a:ahLst/>
              <a:rect l="0" t="0" r="r" b="b"/>
              <a:pathLst>
                <a:path w="623" h="1443">
                  <a:moveTo>
                    <a:pt x="164" y="777"/>
                  </a:moveTo>
                  <a:lnTo>
                    <a:pt x="212" y="556"/>
                  </a:lnTo>
                  <a:lnTo>
                    <a:pt x="419" y="494"/>
                  </a:lnTo>
                  <a:lnTo>
                    <a:pt x="623" y="0"/>
                  </a:lnTo>
                  <a:lnTo>
                    <a:pt x="623" y="145"/>
                  </a:lnTo>
                  <a:lnTo>
                    <a:pt x="455" y="525"/>
                  </a:lnTo>
                  <a:lnTo>
                    <a:pt x="234" y="600"/>
                  </a:lnTo>
                  <a:lnTo>
                    <a:pt x="199" y="777"/>
                  </a:lnTo>
                  <a:lnTo>
                    <a:pt x="274" y="777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4" y="1214"/>
                  </a:lnTo>
                  <a:lnTo>
                    <a:pt x="252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3" y="900"/>
                  </a:lnTo>
                  <a:lnTo>
                    <a:pt x="92" y="790"/>
                  </a:lnTo>
                  <a:lnTo>
                    <a:pt x="164" y="7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3680" y="1057320"/>
              <a:ext cx="378360" cy="501840"/>
            </a:xfrm>
            <a:custGeom>
              <a:avLst/>
              <a:gdLst/>
              <a:ahLst/>
              <a:rect l="0" t="0" r="r" b="b"/>
              <a:pathLst>
                <a:path w="1051" h="1394">
                  <a:moveTo>
                    <a:pt x="296" y="0"/>
                  </a:moveTo>
                  <a:lnTo>
                    <a:pt x="353" y="39"/>
                  </a:lnTo>
                  <a:lnTo>
                    <a:pt x="371" y="158"/>
                  </a:lnTo>
                  <a:lnTo>
                    <a:pt x="371" y="273"/>
                  </a:lnTo>
                  <a:lnTo>
                    <a:pt x="251" y="476"/>
                  </a:lnTo>
                  <a:lnTo>
                    <a:pt x="274" y="626"/>
                  </a:lnTo>
                  <a:lnTo>
                    <a:pt x="627" y="785"/>
                  </a:lnTo>
                  <a:lnTo>
                    <a:pt x="1047" y="1226"/>
                  </a:lnTo>
                  <a:lnTo>
                    <a:pt x="1051" y="1345"/>
                  </a:lnTo>
                  <a:lnTo>
                    <a:pt x="1029" y="1394"/>
                  </a:lnTo>
                  <a:lnTo>
                    <a:pt x="875" y="1394"/>
                  </a:lnTo>
                  <a:lnTo>
                    <a:pt x="737" y="1310"/>
                  </a:lnTo>
                  <a:lnTo>
                    <a:pt x="622" y="1165"/>
                  </a:lnTo>
                  <a:lnTo>
                    <a:pt x="561" y="1085"/>
                  </a:lnTo>
                  <a:lnTo>
                    <a:pt x="486" y="1068"/>
                  </a:lnTo>
                  <a:lnTo>
                    <a:pt x="574" y="1068"/>
                  </a:lnTo>
                  <a:lnTo>
                    <a:pt x="746" y="1293"/>
                  </a:lnTo>
                  <a:lnTo>
                    <a:pt x="972" y="1363"/>
                  </a:lnTo>
                  <a:lnTo>
                    <a:pt x="1016" y="1293"/>
                  </a:lnTo>
                  <a:lnTo>
                    <a:pt x="989" y="1191"/>
                  </a:lnTo>
                  <a:lnTo>
                    <a:pt x="609" y="878"/>
                  </a:lnTo>
                  <a:lnTo>
                    <a:pt x="556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5"/>
                  </a:lnTo>
                  <a:lnTo>
                    <a:pt x="202" y="440"/>
                  </a:lnTo>
                  <a:lnTo>
                    <a:pt x="336" y="273"/>
                  </a:lnTo>
                  <a:lnTo>
                    <a:pt x="336" y="5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17080" y="145080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2" y="0"/>
                  </a:moveTo>
                  <a:lnTo>
                    <a:pt x="640" y="74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8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0"/>
                  </a:lnTo>
                  <a:lnTo>
                    <a:pt x="455" y="790"/>
                  </a:lnTo>
                  <a:lnTo>
                    <a:pt x="374" y="728"/>
                  </a:lnTo>
                  <a:lnTo>
                    <a:pt x="268" y="503"/>
                  </a:lnTo>
                  <a:lnTo>
                    <a:pt x="251" y="343"/>
                  </a:lnTo>
                  <a:lnTo>
                    <a:pt x="194" y="304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8" y="357"/>
                  </a:lnTo>
                  <a:lnTo>
                    <a:pt x="0" y="693"/>
                  </a:lnTo>
                  <a:lnTo>
                    <a:pt x="57" y="821"/>
                  </a:lnTo>
                  <a:lnTo>
                    <a:pt x="176" y="821"/>
                  </a:lnTo>
                  <a:lnTo>
                    <a:pt x="211" y="719"/>
                  </a:lnTo>
                  <a:lnTo>
                    <a:pt x="238" y="401"/>
                  </a:lnTo>
                  <a:lnTo>
                    <a:pt x="255" y="525"/>
                  </a:lnTo>
                  <a:lnTo>
                    <a:pt x="361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64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25"/>
                  </a:lnTo>
                  <a:lnTo>
                    <a:pt x="807" y="268"/>
                  </a:lnTo>
                  <a:lnTo>
                    <a:pt x="662" y="52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2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199" y="343"/>
                  </a:lnTo>
                  <a:lnTo>
                    <a:pt x="1071" y="273"/>
                  </a:lnTo>
                  <a:lnTo>
                    <a:pt x="978" y="326"/>
                  </a:lnTo>
                  <a:lnTo>
                    <a:pt x="939" y="551"/>
                  </a:lnTo>
                  <a:lnTo>
                    <a:pt x="586" y="820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1" y="1375"/>
                  </a:lnTo>
                  <a:lnTo>
                    <a:pt x="630" y="1684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3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7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04" y="2779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3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40" y="2241"/>
                  </a:lnTo>
                  <a:lnTo>
                    <a:pt x="3273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0"/>
                  </a:lnTo>
                  <a:lnTo>
                    <a:pt x="3824" y="1530"/>
                  </a:lnTo>
                  <a:lnTo>
                    <a:pt x="3758" y="1596"/>
                  </a:lnTo>
                  <a:lnTo>
                    <a:pt x="3687" y="1618"/>
                  </a:lnTo>
                  <a:lnTo>
                    <a:pt x="3608" y="1530"/>
                  </a:lnTo>
                  <a:lnTo>
                    <a:pt x="3511" y="1521"/>
                  </a:lnTo>
                  <a:lnTo>
                    <a:pt x="3330" y="1402"/>
                  </a:lnTo>
                  <a:lnTo>
                    <a:pt x="3220" y="1274"/>
                  </a:lnTo>
                  <a:lnTo>
                    <a:pt x="3198" y="1115"/>
                  </a:lnTo>
                  <a:lnTo>
                    <a:pt x="3220" y="965"/>
                  </a:lnTo>
                  <a:lnTo>
                    <a:pt x="3290" y="846"/>
                  </a:lnTo>
                  <a:lnTo>
                    <a:pt x="3387" y="732"/>
                  </a:lnTo>
                  <a:lnTo>
                    <a:pt x="3383" y="546"/>
                  </a:lnTo>
                  <a:lnTo>
                    <a:pt x="3383" y="401"/>
                  </a:lnTo>
                  <a:lnTo>
                    <a:pt x="3330" y="299"/>
                  </a:lnTo>
                  <a:lnTo>
                    <a:pt x="3198" y="251"/>
                  </a:lnTo>
                  <a:lnTo>
                    <a:pt x="3149" y="229"/>
                  </a:lnTo>
                  <a:lnTo>
                    <a:pt x="3052" y="66"/>
                  </a:lnTo>
                  <a:lnTo>
                    <a:pt x="2973" y="13"/>
                  </a:lnTo>
                  <a:lnTo>
                    <a:pt x="2898" y="0"/>
                  </a:lnTo>
                  <a:lnTo>
                    <a:pt x="2818" y="30"/>
                  </a:lnTo>
                  <a:lnTo>
                    <a:pt x="2770" y="119"/>
                  </a:lnTo>
                  <a:lnTo>
                    <a:pt x="2677" y="167"/>
                  </a:lnTo>
                  <a:lnTo>
                    <a:pt x="2580" y="194"/>
                  </a:lnTo>
                  <a:lnTo>
                    <a:pt x="2470" y="194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5" y="1124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100" y="1769"/>
                  </a:lnTo>
                  <a:lnTo>
                    <a:pt x="2038" y="1923"/>
                  </a:lnTo>
                  <a:lnTo>
                    <a:pt x="2007" y="2174"/>
                  </a:lnTo>
                  <a:lnTo>
                    <a:pt x="2025" y="2377"/>
                  </a:lnTo>
                  <a:lnTo>
                    <a:pt x="2100" y="2615"/>
                  </a:lnTo>
                  <a:lnTo>
                    <a:pt x="2144" y="2704"/>
                  </a:lnTo>
                  <a:lnTo>
                    <a:pt x="2007" y="2792"/>
                  </a:lnTo>
                  <a:lnTo>
                    <a:pt x="1852" y="2840"/>
                  </a:lnTo>
                  <a:lnTo>
                    <a:pt x="1671" y="2867"/>
                  </a:lnTo>
                  <a:lnTo>
                    <a:pt x="1561" y="2867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33"/>
                  </a:lnTo>
                  <a:lnTo>
                    <a:pt x="1446" y="2038"/>
                  </a:lnTo>
                  <a:lnTo>
                    <a:pt x="1380" y="1769"/>
                  </a:lnTo>
                  <a:lnTo>
                    <a:pt x="1349" y="1561"/>
                  </a:lnTo>
                  <a:lnTo>
                    <a:pt x="1327" y="1261"/>
                  </a:lnTo>
                  <a:lnTo>
                    <a:pt x="1380" y="996"/>
                  </a:lnTo>
                  <a:lnTo>
                    <a:pt x="1446" y="789"/>
                  </a:lnTo>
                  <a:lnTo>
                    <a:pt x="1464" y="670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46" y="299"/>
                  </a:lnTo>
                  <a:lnTo>
                    <a:pt x="1424" y="2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5480" y="1387440"/>
              <a:ext cx="181440" cy="790920"/>
            </a:xfrm>
            <a:custGeom>
              <a:avLst/>
              <a:gdLst/>
              <a:ahLst/>
              <a:rect l="0" t="0" r="r" b="b"/>
              <a:pathLst>
                <a:path w="504" h="2197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81" y="366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5"/>
                  </a:lnTo>
                  <a:lnTo>
                    <a:pt x="105" y="1588"/>
                  </a:lnTo>
                  <a:lnTo>
                    <a:pt x="105" y="1738"/>
                  </a:lnTo>
                  <a:lnTo>
                    <a:pt x="61" y="1928"/>
                  </a:lnTo>
                  <a:lnTo>
                    <a:pt x="261" y="2197"/>
                  </a:lnTo>
                  <a:lnTo>
                    <a:pt x="344" y="2157"/>
                  </a:lnTo>
                  <a:lnTo>
                    <a:pt x="403" y="1967"/>
                  </a:lnTo>
                  <a:lnTo>
                    <a:pt x="500" y="1725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27" y="1125"/>
                  </a:lnTo>
                  <a:lnTo>
                    <a:pt x="296" y="952"/>
                  </a:lnTo>
                  <a:lnTo>
                    <a:pt x="296" y="798"/>
                  </a:lnTo>
                  <a:lnTo>
                    <a:pt x="327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71" y="335"/>
                  </a:lnTo>
                  <a:lnTo>
                    <a:pt x="465" y="246"/>
                  </a:lnTo>
                  <a:lnTo>
                    <a:pt x="465" y="163"/>
                  </a:lnTo>
                  <a:lnTo>
                    <a:pt x="327" y="0"/>
                  </a:lnTo>
                  <a:lnTo>
                    <a:pt x="438" y="163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71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28"/>
                  </a:lnTo>
                  <a:lnTo>
                    <a:pt x="425" y="1535"/>
                  </a:lnTo>
                  <a:lnTo>
                    <a:pt x="425" y="1716"/>
                  </a:lnTo>
                  <a:lnTo>
                    <a:pt x="381" y="1928"/>
                  </a:lnTo>
                  <a:lnTo>
                    <a:pt x="283" y="2157"/>
                  </a:lnTo>
                  <a:lnTo>
                    <a:pt x="168" y="2033"/>
                  </a:lnTo>
                  <a:lnTo>
                    <a:pt x="119" y="1928"/>
                  </a:lnTo>
                  <a:lnTo>
                    <a:pt x="128" y="1716"/>
                  </a:lnTo>
                  <a:lnTo>
                    <a:pt x="119" y="1495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99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55"/>
                  </a:lnTo>
                  <a:lnTo>
                    <a:pt x="450" y="309"/>
                  </a:lnTo>
                  <a:lnTo>
                    <a:pt x="503" y="362"/>
                  </a:lnTo>
                  <a:lnTo>
                    <a:pt x="530" y="424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0"/>
                  </a:lnTo>
                  <a:lnTo>
                    <a:pt x="388" y="534"/>
                  </a:lnTo>
                  <a:lnTo>
                    <a:pt x="321" y="521"/>
                  </a:lnTo>
                  <a:lnTo>
                    <a:pt x="246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5"/>
                  </a:lnTo>
                  <a:lnTo>
                    <a:pt x="0" y="892"/>
                  </a:lnTo>
                  <a:lnTo>
                    <a:pt x="194" y="1073"/>
                  </a:lnTo>
                  <a:lnTo>
                    <a:pt x="339" y="785"/>
                  </a:lnTo>
                  <a:lnTo>
                    <a:pt x="499" y="808"/>
                  </a:lnTo>
                  <a:lnTo>
                    <a:pt x="600" y="790"/>
                  </a:lnTo>
                  <a:lnTo>
                    <a:pt x="697" y="719"/>
                  </a:lnTo>
                  <a:lnTo>
                    <a:pt x="759" y="636"/>
                  </a:lnTo>
                  <a:lnTo>
                    <a:pt x="790" y="521"/>
                  </a:lnTo>
                  <a:lnTo>
                    <a:pt x="790" y="406"/>
                  </a:lnTo>
                  <a:lnTo>
                    <a:pt x="759" y="283"/>
                  </a:lnTo>
                  <a:lnTo>
                    <a:pt x="693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39160" y="835200"/>
              <a:ext cx="103680" cy="78120"/>
            </a:xfrm>
            <a:custGeom>
              <a:avLst/>
              <a:gdLst/>
              <a:ahLst/>
              <a:rect l="0" t="0" r="r" b="b"/>
              <a:pathLst>
                <a:path w="288" h="217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72" y="217"/>
                  </a:lnTo>
                  <a:lnTo>
                    <a:pt x="266" y="212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quisition Cost of Property, Plant, and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17784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 payment or an obligation to make future payment for an asset or a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made for the purchase or expans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lated to the repair, maintenance, and operat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066680" y="121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penditures is important to the proper application of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statements and overstatements of income can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when a payment is an expense and when it is an asset is a matter of management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issions to real estate ag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wyers’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taxes paid by the purch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92200" y="53352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121932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9320" y="160020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aring down old building(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earing and gr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ssments for improv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sca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is not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609480"/>
            <a:ext cx="6661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lude driveways, parking lots, and f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ve limited lives and are depre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uld be recorded in an account called Land Improvements rather than in the Land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45720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8080" y="1219320"/>
            <a:ext cx="792468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irs and other expenses required to put it in usable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ildings are subject to depreciation because they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 business constructs its own building, all costs of construction a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6668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Buil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 expenditures required to prepare it for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quipment is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 lump sum purchase of land and other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apportionment of the purchase price to Land and other asse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must have a separate ledger account because it is nondeprec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533520"/>
            <a:ext cx="762624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praisal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Percentage    Apporti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1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8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9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9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7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tal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8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8380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1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33720" y="838080"/>
            <a:ext cx="4454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yeing a carpet may make it loo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most new. Why isn’t it a capi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carpet looks better,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bers are not stronger, and 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will not last significant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er than it would have befor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or was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29400" y="228600"/>
            <a:ext cx="1980000" cy="1827360"/>
            <a:chOff x="6629400" y="228600"/>
            <a:chExt cx="1980000" cy="1827360"/>
          </a:xfrm>
        </p:grpSpPr>
        <p:sp>
          <p:nvSpPr>
            <p:cNvPr id="250" name=""/>
            <p:cNvSpPr/>
            <p:nvPr/>
          </p:nvSpPr>
          <p:spPr>
            <a:xfrm>
              <a:off x="6634080" y="1125360"/>
              <a:ext cx="481320" cy="638640"/>
            </a:xfrm>
            <a:custGeom>
              <a:avLst/>
              <a:gdLst/>
              <a:ahLst/>
              <a:rect l="0" t="0" r="r" b="b"/>
              <a:pathLst>
                <a:path w="1337" h="1774">
                  <a:moveTo>
                    <a:pt x="533" y="0"/>
                  </a:moveTo>
                  <a:lnTo>
                    <a:pt x="463" y="79"/>
                  </a:lnTo>
                  <a:lnTo>
                    <a:pt x="463" y="308"/>
                  </a:lnTo>
                  <a:lnTo>
                    <a:pt x="533" y="477"/>
                  </a:lnTo>
                  <a:lnTo>
                    <a:pt x="617" y="561"/>
                  </a:lnTo>
                  <a:lnTo>
                    <a:pt x="489" y="675"/>
                  </a:lnTo>
                  <a:lnTo>
                    <a:pt x="335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23"/>
                  </a:lnTo>
                  <a:lnTo>
                    <a:pt x="123" y="1523"/>
                  </a:lnTo>
                  <a:lnTo>
                    <a:pt x="202" y="1426"/>
                  </a:lnTo>
                  <a:lnTo>
                    <a:pt x="335" y="1196"/>
                  </a:lnTo>
                  <a:lnTo>
                    <a:pt x="414" y="1099"/>
                  </a:lnTo>
                  <a:lnTo>
                    <a:pt x="463" y="1248"/>
                  </a:lnTo>
                  <a:lnTo>
                    <a:pt x="432" y="1413"/>
                  </a:lnTo>
                  <a:lnTo>
                    <a:pt x="299" y="1646"/>
                  </a:lnTo>
                  <a:lnTo>
                    <a:pt x="335" y="1699"/>
                  </a:lnTo>
                  <a:lnTo>
                    <a:pt x="414" y="1686"/>
                  </a:lnTo>
                  <a:lnTo>
                    <a:pt x="577" y="1563"/>
                  </a:lnTo>
                  <a:lnTo>
                    <a:pt x="710" y="1355"/>
                  </a:lnTo>
                  <a:lnTo>
                    <a:pt x="710" y="1712"/>
                  </a:lnTo>
                  <a:lnTo>
                    <a:pt x="869" y="1774"/>
                  </a:lnTo>
                  <a:lnTo>
                    <a:pt x="966" y="1554"/>
                  </a:lnTo>
                  <a:lnTo>
                    <a:pt x="1046" y="1761"/>
                  </a:lnTo>
                  <a:lnTo>
                    <a:pt x="1112" y="1699"/>
                  </a:lnTo>
                  <a:lnTo>
                    <a:pt x="1143" y="1288"/>
                  </a:lnTo>
                  <a:lnTo>
                    <a:pt x="1337" y="900"/>
                  </a:lnTo>
                  <a:lnTo>
                    <a:pt x="1293" y="675"/>
                  </a:lnTo>
                  <a:lnTo>
                    <a:pt x="1156" y="591"/>
                  </a:lnTo>
                  <a:lnTo>
                    <a:pt x="1015" y="600"/>
                  </a:lnTo>
                  <a:lnTo>
                    <a:pt x="966" y="418"/>
                  </a:lnTo>
                  <a:lnTo>
                    <a:pt x="816" y="379"/>
                  </a:lnTo>
                  <a:lnTo>
                    <a:pt x="688" y="321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9080" y="1384200"/>
              <a:ext cx="141480" cy="308160"/>
            </a:xfrm>
            <a:custGeom>
              <a:avLst/>
              <a:gdLst/>
              <a:ahLst/>
              <a:rect l="0" t="0" r="r" b="b"/>
              <a:pathLst>
                <a:path w="393" h="856">
                  <a:moveTo>
                    <a:pt x="194" y="0"/>
                  </a:moveTo>
                  <a:lnTo>
                    <a:pt x="393" y="220"/>
                  </a:lnTo>
                  <a:lnTo>
                    <a:pt x="296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9" y="361"/>
                  </a:lnTo>
                  <a:lnTo>
                    <a:pt x="194" y="18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58160" y="1208160"/>
              <a:ext cx="356040" cy="278280"/>
            </a:xfrm>
            <a:custGeom>
              <a:avLst/>
              <a:gdLst/>
              <a:ahLst/>
              <a:rect l="0" t="0" r="r" b="b"/>
              <a:pathLst>
                <a:path w="989" h="773">
                  <a:moveTo>
                    <a:pt x="411" y="0"/>
                  </a:moveTo>
                  <a:lnTo>
                    <a:pt x="411" y="123"/>
                  </a:lnTo>
                  <a:lnTo>
                    <a:pt x="441" y="234"/>
                  </a:lnTo>
                  <a:lnTo>
                    <a:pt x="636" y="419"/>
                  </a:lnTo>
                  <a:lnTo>
                    <a:pt x="989" y="525"/>
                  </a:lnTo>
                  <a:lnTo>
                    <a:pt x="945" y="760"/>
                  </a:lnTo>
                  <a:lnTo>
                    <a:pt x="636" y="773"/>
                  </a:lnTo>
                  <a:lnTo>
                    <a:pt x="189" y="606"/>
                  </a:lnTo>
                  <a:lnTo>
                    <a:pt x="0" y="309"/>
                  </a:lnTo>
                  <a:lnTo>
                    <a:pt x="220" y="13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2520" y="890640"/>
              <a:ext cx="495720" cy="616320"/>
            </a:xfrm>
            <a:custGeom>
              <a:avLst/>
              <a:gdLst/>
              <a:ahLst/>
              <a:rect l="0" t="0" r="r" b="b"/>
              <a:pathLst>
                <a:path w="1377" h="1712">
                  <a:moveTo>
                    <a:pt x="123" y="724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20" y="1253"/>
                  </a:lnTo>
                  <a:lnTo>
                    <a:pt x="233" y="1682"/>
                  </a:lnTo>
                  <a:lnTo>
                    <a:pt x="428" y="1682"/>
                  </a:lnTo>
                  <a:lnTo>
                    <a:pt x="415" y="1324"/>
                  </a:lnTo>
                  <a:lnTo>
                    <a:pt x="556" y="1699"/>
                  </a:lnTo>
                  <a:lnTo>
                    <a:pt x="658" y="1712"/>
                  </a:lnTo>
                  <a:lnTo>
                    <a:pt x="719" y="1589"/>
                  </a:lnTo>
                  <a:lnTo>
                    <a:pt x="737" y="1351"/>
                  </a:lnTo>
                  <a:lnTo>
                    <a:pt x="949" y="1576"/>
                  </a:lnTo>
                  <a:lnTo>
                    <a:pt x="1032" y="1554"/>
                  </a:lnTo>
                  <a:lnTo>
                    <a:pt x="1015" y="1404"/>
                  </a:lnTo>
                  <a:lnTo>
                    <a:pt x="931" y="1187"/>
                  </a:lnTo>
                  <a:lnTo>
                    <a:pt x="847" y="1041"/>
                  </a:lnTo>
                  <a:lnTo>
                    <a:pt x="882" y="944"/>
                  </a:lnTo>
                  <a:lnTo>
                    <a:pt x="931" y="966"/>
                  </a:lnTo>
                  <a:lnTo>
                    <a:pt x="1126" y="1187"/>
                  </a:lnTo>
                  <a:lnTo>
                    <a:pt x="1333" y="1240"/>
                  </a:lnTo>
                  <a:lnTo>
                    <a:pt x="1377" y="1173"/>
                  </a:lnTo>
                  <a:lnTo>
                    <a:pt x="1351" y="1054"/>
                  </a:lnTo>
                  <a:lnTo>
                    <a:pt x="962" y="710"/>
                  </a:lnTo>
                  <a:lnTo>
                    <a:pt x="658" y="605"/>
                  </a:lnTo>
                  <a:lnTo>
                    <a:pt x="618" y="410"/>
                  </a:lnTo>
                  <a:lnTo>
                    <a:pt x="719" y="238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64"/>
                  </a:lnTo>
                  <a:lnTo>
                    <a:pt x="220" y="534"/>
                  </a:lnTo>
                  <a:lnTo>
                    <a:pt x="167" y="662"/>
                  </a:lnTo>
                  <a:lnTo>
                    <a:pt x="123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8200" y="357120"/>
              <a:ext cx="541800" cy="786240"/>
            </a:xfrm>
            <a:custGeom>
              <a:avLst/>
              <a:gdLst/>
              <a:ahLst/>
              <a:rect l="0" t="0" r="r" b="b"/>
              <a:pathLst>
                <a:path w="1505" h="2184">
                  <a:moveTo>
                    <a:pt x="374" y="304"/>
                  </a:moveTo>
                  <a:lnTo>
                    <a:pt x="264" y="724"/>
                  </a:lnTo>
                  <a:lnTo>
                    <a:pt x="13" y="807"/>
                  </a:lnTo>
                  <a:lnTo>
                    <a:pt x="83" y="935"/>
                  </a:lnTo>
                  <a:lnTo>
                    <a:pt x="0" y="1019"/>
                  </a:lnTo>
                  <a:lnTo>
                    <a:pt x="0" y="1173"/>
                  </a:lnTo>
                  <a:lnTo>
                    <a:pt x="119" y="1310"/>
                  </a:lnTo>
                  <a:lnTo>
                    <a:pt x="233" y="1310"/>
                  </a:lnTo>
                  <a:lnTo>
                    <a:pt x="313" y="1796"/>
                  </a:lnTo>
                  <a:lnTo>
                    <a:pt x="411" y="2004"/>
                  </a:lnTo>
                  <a:lnTo>
                    <a:pt x="715" y="2184"/>
                  </a:lnTo>
                  <a:lnTo>
                    <a:pt x="1024" y="2158"/>
                  </a:lnTo>
                  <a:lnTo>
                    <a:pt x="1170" y="1796"/>
                  </a:lnTo>
                  <a:lnTo>
                    <a:pt x="1201" y="1244"/>
                  </a:lnTo>
                  <a:lnTo>
                    <a:pt x="1505" y="966"/>
                  </a:lnTo>
                  <a:lnTo>
                    <a:pt x="1492" y="856"/>
                  </a:lnTo>
                  <a:lnTo>
                    <a:pt x="1457" y="807"/>
                  </a:lnTo>
                  <a:lnTo>
                    <a:pt x="1298" y="794"/>
                  </a:lnTo>
                  <a:lnTo>
                    <a:pt x="1351" y="649"/>
                  </a:lnTo>
                  <a:lnTo>
                    <a:pt x="1188" y="552"/>
                  </a:lnTo>
                  <a:lnTo>
                    <a:pt x="1121" y="238"/>
                  </a:lnTo>
                  <a:lnTo>
                    <a:pt x="653" y="0"/>
                  </a:lnTo>
                  <a:lnTo>
                    <a:pt x="411" y="224"/>
                  </a:lnTo>
                  <a:lnTo>
                    <a:pt x="374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7800" y="1014480"/>
              <a:ext cx="495720" cy="937080"/>
            </a:xfrm>
            <a:custGeom>
              <a:avLst/>
              <a:gdLst/>
              <a:ahLst/>
              <a:rect l="0" t="0" r="r" b="b"/>
              <a:pathLst>
                <a:path w="1377" h="2603">
                  <a:moveTo>
                    <a:pt x="282" y="136"/>
                  </a:moveTo>
                  <a:lnTo>
                    <a:pt x="477" y="260"/>
                  </a:lnTo>
                  <a:lnTo>
                    <a:pt x="574" y="401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493"/>
                  </a:lnTo>
                  <a:lnTo>
                    <a:pt x="975" y="1694"/>
                  </a:lnTo>
                  <a:lnTo>
                    <a:pt x="1108" y="2356"/>
                  </a:lnTo>
                  <a:lnTo>
                    <a:pt x="587" y="2603"/>
                  </a:lnTo>
                  <a:lnTo>
                    <a:pt x="185" y="2462"/>
                  </a:lnTo>
                  <a:lnTo>
                    <a:pt x="185" y="1760"/>
                  </a:lnTo>
                  <a:lnTo>
                    <a:pt x="0" y="1081"/>
                  </a:lnTo>
                  <a:lnTo>
                    <a:pt x="185" y="260"/>
                  </a:lnTo>
                  <a:lnTo>
                    <a:pt x="282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8680" y="254160"/>
              <a:ext cx="464040" cy="248040"/>
            </a:xfrm>
            <a:custGeom>
              <a:avLst/>
              <a:gdLst/>
              <a:ahLst/>
              <a:rect l="0" t="0" r="r" b="b"/>
              <a:pathLst>
                <a:path w="1289" h="689">
                  <a:moveTo>
                    <a:pt x="158" y="659"/>
                  </a:moveTo>
                  <a:lnTo>
                    <a:pt x="349" y="472"/>
                  </a:lnTo>
                  <a:lnTo>
                    <a:pt x="468" y="446"/>
                  </a:lnTo>
                  <a:lnTo>
                    <a:pt x="468" y="464"/>
                  </a:lnTo>
                  <a:lnTo>
                    <a:pt x="530" y="446"/>
                  </a:lnTo>
                  <a:lnTo>
                    <a:pt x="609" y="499"/>
                  </a:lnTo>
                  <a:lnTo>
                    <a:pt x="759" y="531"/>
                  </a:lnTo>
                  <a:lnTo>
                    <a:pt x="882" y="689"/>
                  </a:lnTo>
                  <a:lnTo>
                    <a:pt x="1086" y="619"/>
                  </a:lnTo>
                  <a:lnTo>
                    <a:pt x="1086" y="548"/>
                  </a:lnTo>
                  <a:lnTo>
                    <a:pt x="1289" y="464"/>
                  </a:lnTo>
                  <a:lnTo>
                    <a:pt x="1227" y="336"/>
                  </a:lnTo>
                  <a:lnTo>
                    <a:pt x="1038" y="322"/>
                  </a:lnTo>
                  <a:lnTo>
                    <a:pt x="1069" y="181"/>
                  </a:lnTo>
                  <a:lnTo>
                    <a:pt x="900" y="199"/>
                  </a:lnTo>
                  <a:lnTo>
                    <a:pt x="874" y="97"/>
                  </a:lnTo>
                  <a:lnTo>
                    <a:pt x="759" y="97"/>
                  </a:lnTo>
                  <a:lnTo>
                    <a:pt x="680" y="149"/>
                  </a:lnTo>
                  <a:lnTo>
                    <a:pt x="609" y="149"/>
                  </a:lnTo>
                  <a:lnTo>
                    <a:pt x="627" y="0"/>
                  </a:lnTo>
                  <a:lnTo>
                    <a:pt x="468" y="70"/>
                  </a:lnTo>
                  <a:lnTo>
                    <a:pt x="251" y="322"/>
                  </a:lnTo>
                  <a:lnTo>
                    <a:pt x="242" y="149"/>
                  </a:lnTo>
                  <a:lnTo>
                    <a:pt x="127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8"/>
                  </a:lnTo>
                  <a:lnTo>
                    <a:pt x="158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3960" y="1187280"/>
              <a:ext cx="147960" cy="709920"/>
            </a:xfrm>
            <a:custGeom>
              <a:avLst/>
              <a:gdLst/>
              <a:ahLst/>
              <a:rect l="0" t="0" r="r" b="b"/>
              <a:pathLst>
                <a:path w="411" h="1972">
                  <a:moveTo>
                    <a:pt x="212" y="13"/>
                  </a:moveTo>
                  <a:lnTo>
                    <a:pt x="74" y="97"/>
                  </a:lnTo>
                  <a:lnTo>
                    <a:pt x="74" y="264"/>
                  </a:lnTo>
                  <a:lnTo>
                    <a:pt x="171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101" y="1381"/>
                  </a:lnTo>
                  <a:lnTo>
                    <a:pt x="101" y="1570"/>
                  </a:lnTo>
                  <a:lnTo>
                    <a:pt x="48" y="1720"/>
                  </a:lnTo>
                  <a:lnTo>
                    <a:pt x="256" y="1972"/>
                  </a:lnTo>
                  <a:lnTo>
                    <a:pt x="397" y="1588"/>
                  </a:lnTo>
                  <a:lnTo>
                    <a:pt x="397" y="1328"/>
                  </a:lnTo>
                  <a:lnTo>
                    <a:pt x="296" y="1076"/>
                  </a:lnTo>
                  <a:lnTo>
                    <a:pt x="243" y="745"/>
                  </a:lnTo>
                  <a:lnTo>
                    <a:pt x="344" y="418"/>
                  </a:lnTo>
                  <a:lnTo>
                    <a:pt x="314" y="291"/>
                  </a:lnTo>
                  <a:lnTo>
                    <a:pt x="411" y="224"/>
                  </a:lnTo>
                  <a:lnTo>
                    <a:pt x="397" y="136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9280" y="949320"/>
              <a:ext cx="119520" cy="65520"/>
            </a:xfrm>
            <a:custGeom>
              <a:avLst/>
              <a:gdLst/>
              <a:ahLst/>
              <a:rect l="0" t="0" r="r" b="b"/>
              <a:pathLst>
                <a:path w="332" h="182">
                  <a:moveTo>
                    <a:pt x="0" y="58"/>
                  </a:moveTo>
                  <a:lnTo>
                    <a:pt x="133" y="182"/>
                  </a:lnTo>
                  <a:lnTo>
                    <a:pt x="262" y="169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8960" y="620640"/>
              <a:ext cx="147960" cy="140040"/>
            </a:xfrm>
            <a:custGeom>
              <a:avLst/>
              <a:gdLst/>
              <a:ahLst/>
              <a:rect l="0" t="0" r="r" b="b"/>
              <a:pathLst>
                <a:path w="411" h="389">
                  <a:moveTo>
                    <a:pt x="0" y="39"/>
                  </a:moveTo>
                  <a:lnTo>
                    <a:pt x="283" y="389"/>
                  </a:lnTo>
                  <a:lnTo>
                    <a:pt x="411" y="362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7800" y="593640"/>
              <a:ext cx="128880" cy="136800"/>
            </a:xfrm>
            <a:custGeom>
              <a:avLst/>
              <a:gdLst/>
              <a:ahLst/>
              <a:rect l="0" t="0" r="r" b="b"/>
              <a:pathLst>
                <a:path w="358" h="380">
                  <a:moveTo>
                    <a:pt x="0" y="52"/>
                  </a:moveTo>
                  <a:lnTo>
                    <a:pt x="247" y="380"/>
                  </a:lnTo>
                  <a:lnTo>
                    <a:pt x="358" y="292"/>
                  </a:lnTo>
                  <a:lnTo>
                    <a:pt x="9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4960" y="414360"/>
              <a:ext cx="514800" cy="346320"/>
            </a:xfrm>
            <a:custGeom>
              <a:avLst/>
              <a:gdLst/>
              <a:ahLst/>
              <a:rect l="0" t="0" r="r" b="b"/>
              <a:pathLst>
                <a:path w="1430" h="962">
                  <a:moveTo>
                    <a:pt x="653" y="569"/>
                  </a:moveTo>
                  <a:lnTo>
                    <a:pt x="525" y="534"/>
                  </a:lnTo>
                  <a:lnTo>
                    <a:pt x="636" y="449"/>
                  </a:lnTo>
                  <a:lnTo>
                    <a:pt x="596" y="405"/>
                  </a:lnTo>
                  <a:lnTo>
                    <a:pt x="450" y="516"/>
                  </a:lnTo>
                  <a:lnTo>
                    <a:pt x="176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71" y="953"/>
                  </a:lnTo>
                  <a:lnTo>
                    <a:pt x="216" y="962"/>
                  </a:lnTo>
                  <a:lnTo>
                    <a:pt x="57" y="666"/>
                  </a:lnTo>
                  <a:lnTo>
                    <a:pt x="295" y="569"/>
                  </a:lnTo>
                  <a:lnTo>
                    <a:pt x="450" y="569"/>
                  </a:lnTo>
                  <a:lnTo>
                    <a:pt x="569" y="631"/>
                  </a:lnTo>
                  <a:lnTo>
                    <a:pt x="596" y="715"/>
                  </a:lnTo>
                  <a:lnTo>
                    <a:pt x="596" y="896"/>
                  </a:lnTo>
                  <a:lnTo>
                    <a:pt x="596" y="953"/>
                  </a:lnTo>
                  <a:lnTo>
                    <a:pt x="666" y="869"/>
                  </a:lnTo>
                  <a:lnTo>
                    <a:pt x="666" y="675"/>
                  </a:lnTo>
                  <a:lnTo>
                    <a:pt x="763" y="675"/>
                  </a:lnTo>
                  <a:lnTo>
                    <a:pt x="816" y="896"/>
                  </a:lnTo>
                  <a:lnTo>
                    <a:pt x="869" y="918"/>
                  </a:lnTo>
                  <a:lnTo>
                    <a:pt x="1046" y="918"/>
                  </a:lnTo>
                  <a:lnTo>
                    <a:pt x="1219" y="874"/>
                  </a:lnTo>
                  <a:lnTo>
                    <a:pt x="1342" y="794"/>
                  </a:lnTo>
                  <a:lnTo>
                    <a:pt x="1360" y="600"/>
                  </a:lnTo>
                  <a:lnTo>
                    <a:pt x="1430" y="516"/>
                  </a:lnTo>
                  <a:lnTo>
                    <a:pt x="1391" y="463"/>
                  </a:lnTo>
                  <a:lnTo>
                    <a:pt x="1232" y="410"/>
                  </a:lnTo>
                  <a:lnTo>
                    <a:pt x="1205" y="216"/>
                  </a:lnTo>
                  <a:lnTo>
                    <a:pt x="1054" y="216"/>
                  </a:lnTo>
                  <a:lnTo>
                    <a:pt x="878" y="0"/>
                  </a:lnTo>
                  <a:lnTo>
                    <a:pt x="1041" y="238"/>
                  </a:lnTo>
                  <a:lnTo>
                    <a:pt x="1091" y="238"/>
                  </a:lnTo>
                  <a:lnTo>
                    <a:pt x="1126" y="405"/>
                  </a:lnTo>
                  <a:lnTo>
                    <a:pt x="927" y="463"/>
                  </a:lnTo>
                  <a:lnTo>
                    <a:pt x="781" y="418"/>
                  </a:lnTo>
                  <a:lnTo>
                    <a:pt x="755" y="463"/>
                  </a:lnTo>
                  <a:lnTo>
                    <a:pt x="834" y="516"/>
                  </a:lnTo>
                  <a:lnTo>
                    <a:pt x="834" y="561"/>
                  </a:lnTo>
                  <a:lnTo>
                    <a:pt x="1006" y="490"/>
                  </a:lnTo>
                  <a:lnTo>
                    <a:pt x="1152" y="476"/>
                  </a:lnTo>
                  <a:lnTo>
                    <a:pt x="1311" y="499"/>
                  </a:lnTo>
                  <a:lnTo>
                    <a:pt x="1311" y="525"/>
                  </a:lnTo>
                  <a:lnTo>
                    <a:pt x="1236" y="587"/>
                  </a:lnTo>
                  <a:lnTo>
                    <a:pt x="1205" y="675"/>
                  </a:lnTo>
                  <a:lnTo>
                    <a:pt x="1197" y="794"/>
                  </a:lnTo>
                  <a:lnTo>
                    <a:pt x="1104" y="843"/>
                  </a:lnTo>
                  <a:lnTo>
                    <a:pt x="966" y="856"/>
                  </a:lnTo>
                  <a:lnTo>
                    <a:pt x="869" y="856"/>
                  </a:lnTo>
                  <a:lnTo>
                    <a:pt x="838" y="825"/>
                  </a:lnTo>
                  <a:lnTo>
                    <a:pt x="816" y="600"/>
                  </a:lnTo>
                  <a:lnTo>
                    <a:pt x="666" y="600"/>
                  </a:lnTo>
                  <a:lnTo>
                    <a:pt x="653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1360" y="812880"/>
              <a:ext cx="167040" cy="71640"/>
            </a:xfrm>
            <a:custGeom>
              <a:avLst/>
              <a:gdLst/>
              <a:ahLst/>
              <a:rect l="0" t="0" r="r" b="b"/>
              <a:pathLst>
                <a:path w="464" h="199">
                  <a:moveTo>
                    <a:pt x="0" y="0"/>
                  </a:moveTo>
                  <a:lnTo>
                    <a:pt x="74" y="92"/>
                  </a:lnTo>
                  <a:lnTo>
                    <a:pt x="274" y="92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1"/>
                  </a:lnTo>
                  <a:lnTo>
                    <a:pt x="446" y="92"/>
                  </a:lnTo>
                  <a:lnTo>
                    <a:pt x="256" y="199"/>
                  </a:lnTo>
                  <a:lnTo>
                    <a:pt x="154" y="199"/>
                  </a:lnTo>
                  <a:lnTo>
                    <a:pt x="97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77040" y="698400"/>
              <a:ext cx="251280" cy="375120"/>
            </a:xfrm>
            <a:custGeom>
              <a:avLst/>
              <a:gdLst/>
              <a:ahLst/>
              <a:rect l="0" t="0" r="r" b="b"/>
              <a:pathLst>
                <a:path w="698" h="1042">
                  <a:moveTo>
                    <a:pt x="698" y="74"/>
                  </a:moveTo>
                  <a:lnTo>
                    <a:pt x="698" y="92"/>
                  </a:lnTo>
                  <a:lnTo>
                    <a:pt x="575" y="198"/>
                  </a:lnTo>
                  <a:lnTo>
                    <a:pt x="472" y="216"/>
                  </a:lnTo>
                  <a:lnTo>
                    <a:pt x="278" y="189"/>
                  </a:lnTo>
                  <a:lnTo>
                    <a:pt x="318" y="561"/>
                  </a:lnTo>
                  <a:lnTo>
                    <a:pt x="362" y="870"/>
                  </a:lnTo>
                  <a:lnTo>
                    <a:pt x="446" y="1042"/>
                  </a:lnTo>
                  <a:lnTo>
                    <a:pt x="362" y="923"/>
                  </a:lnTo>
                  <a:lnTo>
                    <a:pt x="327" y="795"/>
                  </a:lnTo>
                  <a:lnTo>
                    <a:pt x="269" y="441"/>
                  </a:lnTo>
                  <a:lnTo>
                    <a:pt x="217" y="459"/>
                  </a:lnTo>
                  <a:lnTo>
                    <a:pt x="145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4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6" y="309"/>
                  </a:lnTo>
                  <a:lnTo>
                    <a:pt x="181" y="292"/>
                  </a:lnTo>
                  <a:lnTo>
                    <a:pt x="181" y="101"/>
                  </a:lnTo>
                  <a:lnTo>
                    <a:pt x="261" y="141"/>
                  </a:lnTo>
                  <a:lnTo>
                    <a:pt x="389" y="171"/>
                  </a:lnTo>
                  <a:lnTo>
                    <a:pt x="503" y="163"/>
                  </a:lnTo>
                  <a:lnTo>
                    <a:pt x="619" y="101"/>
                  </a:lnTo>
                  <a:lnTo>
                    <a:pt x="69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43640" y="404640"/>
              <a:ext cx="76680" cy="197280"/>
            </a:xfrm>
            <a:custGeom>
              <a:avLst/>
              <a:gdLst/>
              <a:ahLst/>
              <a:rect l="0" t="0" r="r" b="b"/>
              <a:pathLst>
                <a:path w="213" h="548">
                  <a:moveTo>
                    <a:pt x="111" y="548"/>
                  </a:moveTo>
                  <a:lnTo>
                    <a:pt x="213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5" y="190"/>
                  </a:lnTo>
                  <a:lnTo>
                    <a:pt x="84" y="349"/>
                  </a:lnTo>
                  <a:lnTo>
                    <a:pt x="128" y="416"/>
                  </a:lnTo>
                  <a:lnTo>
                    <a:pt x="111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228600"/>
              <a:ext cx="567000" cy="262440"/>
            </a:xfrm>
            <a:custGeom>
              <a:avLst/>
              <a:gdLst/>
              <a:ahLst/>
              <a:rect l="0" t="0" r="r" b="b"/>
              <a:pathLst>
                <a:path w="1575" h="729">
                  <a:moveTo>
                    <a:pt x="13" y="494"/>
                  </a:moveTo>
                  <a:lnTo>
                    <a:pt x="149" y="566"/>
                  </a:lnTo>
                  <a:lnTo>
                    <a:pt x="136" y="477"/>
                  </a:lnTo>
                  <a:lnTo>
                    <a:pt x="158" y="309"/>
                  </a:lnTo>
                  <a:lnTo>
                    <a:pt x="251" y="278"/>
                  </a:lnTo>
                  <a:lnTo>
                    <a:pt x="260" y="450"/>
                  </a:lnTo>
                  <a:lnTo>
                    <a:pt x="529" y="141"/>
                  </a:lnTo>
                  <a:lnTo>
                    <a:pt x="590" y="119"/>
                  </a:lnTo>
                  <a:lnTo>
                    <a:pt x="542" y="243"/>
                  </a:lnTo>
                  <a:lnTo>
                    <a:pt x="705" y="300"/>
                  </a:lnTo>
                  <a:lnTo>
                    <a:pt x="830" y="180"/>
                  </a:lnTo>
                  <a:lnTo>
                    <a:pt x="896" y="217"/>
                  </a:lnTo>
                  <a:lnTo>
                    <a:pt x="834" y="322"/>
                  </a:lnTo>
                  <a:lnTo>
                    <a:pt x="918" y="265"/>
                  </a:lnTo>
                  <a:lnTo>
                    <a:pt x="1032" y="309"/>
                  </a:lnTo>
                  <a:lnTo>
                    <a:pt x="935" y="397"/>
                  </a:lnTo>
                  <a:lnTo>
                    <a:pt x="1262" y="450"/>
                  </a:lnTo>
                  <a:lnTo>
                    <a:pt x="1041" y="512"/>
                  </a:lnTo>
                  <a:lnTo>
                    <a:pt x="1319" y="548"/>
                  </a:lnTo>
                  <a:lnTo>
                    <a:pt x="997" y="619"/>
                  </a:lnTo>
                  <a:lnTo>
                    <a:pt x="1063" y="672"/>
                  </a:lnTo>
                  <a:lnTo>
                    <a:pt x="971" y="729"/>
                  </a:lnTo>
                  <a:lnTo>
                    <a:pt x="1134" y="729"/>
                  </a:lnTo>
                  <a:lnTo>
                    <a:pt x="1121" y="689"/>
                  </a:lnTo>
                  <a:lnTo>
                    <a:pt x="1288" y="725"/>
                  </a:lnTo>
                  <a:lnTo>
                    <a:pt x="1262" y="610"/>
                  </a:lnTo>
                  <a:lnTo>
                    <a:pt x="1425" y="557"/>
                  </a:lnTo>
                  <a:lnTo>
                    <a:pt x="1310" y="503"/>
                  </a:lnTo>
                  <a:lnTo>
                    <a:pt x="1575" y="486"/>
                  </a:lnTo>
                  <a:lnTo>
                    <a:pt x="1345" y="371"/>
                  </a:lnTo>
                  <a:lnTo>
                    <a:pt x="1085" y="340"/>
                  </a:lnTo>
                  <a:lnTo>
                    <a:pt x="1288" y="221"/>
                  </a:lnTo>
                  <a:lnTo>
                    <a:pt x="918" y="221"/>
                  </a:lnTo>
                  <a:lnTo>
                    <a:pt x="1094" y="110"/>
                  </a:lnTo>
                  <a:lnTo>
                    <a:pt x="821" y="141"/>
                  </a:lnTo>
                  <a:lnTo>
                    <a:pt x="692" y="199"/>
                  </a:lnTo>
                  <a:lnTo>
                    <a:pt x="803" y="0"/>
                  </a:lnTo>
                  <a:lnTo>
                    <a:pt x="471" y="110"/>
                  </a:lnTo>
                  <a:lnTo>
                    <a:pt x="295" y="349"/>
                  </a:lnTo>
                  <a:lnTo>
                    <a:pt x="260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64600" y="368280"/>
              <a:ext cx="160560" cy="79560"/>
            </a:xfrm>
            <a:custGeom>
              <a:avLst/>
              <a:gdLst/>
              <a:ahLst/>
              <a:rect l="0" t="0" r="r" b="b"/>
              <a:pathLst>
                <a:path w="446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5" y="88"/>
                  </a:lnTo>
                  <a:lnTo>
                    <a:pt x="278" y="172"/>
                  </a:lnTo>
                  <a:lnTo>
                    <a:pt x="446" y="212"/>
                  </a:lnTo>
                  <a:lnTo>
                    <a:pt x="265" y="186"/>
                  </a:lnTo>
                  <a:lnTo>
                    <a:pt x="216" y="128"/>
                  </a:lnTo>
                  <a:lnTo>
                    <a:pt x="136" y="186"/>
                  </a:lnTo>
                  <a:lnTo>
                    <a:pt x="136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50200" y="906480"/>
              <a:ext cx="192600" cy="116280"/>
            </a:xfrm>
            <a:custGeom>
              <a:avLst/>
              <a:gdLst/>
              <a:ahLst/>
              <a:rect l="0" t="0" r="r" b="b"/>
              <a:pathLst>
                <a:path w="535" h="323">
                  <a:moveTo>
                    <a:pt x="101" y="115"/>
                  </a:moveTo>
                  <a:lnTo>
                    <a:pt x="322" y="98"/>
                  </a:lnTo>
                  <a:lnTo>
                    <a:pt x="425" y="120"/>
                  </a:lnTo>
                  <a:lnTo>
                    <a:pt x="478" y="74"/>
                  </a:lnTo>
                  <a:lnTo>
                    <a:pt x="535" y="181"/>
                  </a:lnTo>
                  <a:lnTo>
                    <a:pt x="500" y="199"/>
                  </a:lnTo>
                  <a:lnTo>
                    <a:pt x="451" y="159"/>
                  </a:lnTo>
                  <a:lnTo>
                    <a:pt x="384" y="234"/>
                  </a:lnTo>
                  <a:lnTo>
                    <a:pt x="247" y="323"/>
                  </a:lnTo>
                  <a:lnTo>
                    <a:pt x="190" y="323"/>
                  </a:lnTo>
                  <a:lnTo>
                    <a:pt x="101" y="279"/>
                  </a:lnTo>
                  <a:lnTo>
                    <a:pt x="199" y="315"/>
                  </a:lnTo>
                  <a:lnTo>
                    <a:pt x="239" y="315"/>
                  </a:lnTo>
                  <a:lnTo>
                    <a:pt x="322" y="257"/>
                  </a:lnTo>
                  <a:lnTo>
                    <a:pt x="380" y="146"/>
                  </a:lnTo>
                  <a:lnTo>
                    <a:pt x="292" y="133"/>
                  </a:lnTo>
                  <a:lnTo>
                    <a:pt x="234" y="120"/>
                  </a:lnTo>
                  <a:lnTo>
                    <a:pt x="92" y="137"/>
                  </a:lnTo>
                  <a:lnTo>
                    <a:pt x="88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24640" y="650880"/>
              <a:ext cx="411480" cy="541800"/>
            </a:xfrm>
            <a:custGeom>
              <a:avLst/>
              <a:gdLst/>
              <a:ahLst/>
              <a:rect l="0" t="0" r="r" b="b"/>
              <a:pathLst>
                <a:path w="1143" h="1505">
                  <a:moveTo>
                    <a:pt x="962" y="0"/>
                  </a:moveTo>
                  <a:lnTo>
                    <a:pt x="1072" y="0"/>
                  </a:lnTo>
                  <a:lnTo>
                    <a:pt x="1143" y="74"/>
                  </a:lnTo>
                  <a:lnTo>
                    <a:pt x="1143" y="154"/>
                  </a:lnTo>
                  <a:lnTo>
                    <a:pt x="1050" y="393"/>
                  </a:lnTo>
                  <a:lnTo>
                    <a:pt x="953" y="508"/>
                  </a:lnTo>
                  <a:lnTo>
                    <a:pt x="856" y="521"/>
                  </a:lnTo>
                  <a:lnTo>
                    <a:pt x="830" y="521"/>
                  </a:lnTo>
                  <a:lnTo>
                    <a:pt x="830" y="821"/>
                  </a:lnTo>
                  <a:lnTo>
                    <a:pt x="878" y="1032"/>
                  </a:lnTo>
                  <a:lnTo>
                    <a:pt x="878" y="1210"/>
                  </a:lnTo>
                  <a:lnTo>
                    <a:pt x="702" y="1386"/>
                  </a:lnTo>
                  <a:lnTo>
                    <a:pt x="467" y="1505"/>
                  </a:lnTo>
                  <a:lnTo>
                    <a:pt x="317" y="1505"/>
                  </a:lnTo>
                  <a:lnTo>
                    <a:pt x="238" y="1474"/>
                  </a:lnTo>
                  <a:lnTo>
                    <a:pt x="136" y="1263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7" y="1210"/>
                  </a:lnTo>
                  <a:lnTo>
                    <a:pt x="220" y="1285"/>
                  </a:lnTo>
                  <a:lnTo>
                    <a:pt x="405" y="1294"/>
                  </a:lnTo>
                  <a:lnTo>
                    <a:pt x="568" y="1219"/>
                  </a:lnTo>
                  <a:lnTo>
                    <a:pt x="658" y="1130"/>
                  </a:lnTo>
                  <a:lnTo>
                    <a:pt x="750" y="979"/>
                  </a:lnTo>
                  <a:lnTo>
                    <a:pt x="763" y="799"/>
                  </a:lnTo>
                  <a:lnTo>
                    <a:pt x="799" y="220"/>
                  </a:lnTo>
                  <a:lnTo>
                    <a:pt x="838" y="304"/>
                  </a:lnTo>
                  <a:lnTo>
                    <a:pt x="949" y="198"/>
                  </a:lnTo>
                  <a:lnTo>
                    <a:pt x="1068" y="154"/>
                  </a:lnTo>
                  <a:lnTo>
                    <a:pt x="1099" y="92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1117440"/>
              <a:ext cx="332280" cy="503640"/>
            </a:xfrm>
            <a:custGeom>
              <a:avLst/>
              <a:gdLst/>
              <a:ahLst/>
              <a:rect l="0" t="0" r="r" b="b"/>
              <a:pathLst>
                <a:path w="923" h="1399">
                  <a:moveTo>
                    <a:pt x="114" y="0"/>
                  </a:moveTo>
                  <a:lnTo>
                    <a:pt x="220" y="66"/>
                  </a:lnTo>
                  <a:lnTo>
                    <a:pt x="305" y="348"/>
                  </a:lnTo>
                  <a:lnTo>
                    <a:pt x="538" y="411"/>
                  </a:lnTo>
                  <a:lnTo>
                    <a:pt x="605" y="490"/>
                  </a:lnTo>
                  <a:lnTo>
                    <a:pt x="618" y="596"/>
                  </a:lnTo>
                  <a:lnTo>
                    <a:pt x="734" y="578"/>
                  </a:lnTo>
                  <a:lnTo>
                    <a:pt x="879" y="671"/>
                  </a:lnTo>
                  <a:lnTo>
                    <a:pt x="923" y="781"/>
                  </a:lnTo>
                  <a:lnTo>
                    <a:pt x="923" y="979"/>
                  </a:lnTo>
                  <a:lnTo>
                    <a:pt x="734" y="1280"/>
                  </a:lnTo>
                  <a:lnTo>
                    <a:pt x="671" y="1399"/>
                  </a:lnTo>
                  <a:lnTo>
                    <a:pt x="707" y="1236"/>
                  </a:lnTo>
                  <a:lnTo>
                    <a:pt x="671" y="1179"/>
                  </a:lnTo>
                  <a:lnTo>
                    <a:pt x="561" y="1073"/>
                  </a:lnTo>
                  <a:lnTo>
                    <a:pt x="375" y="949"/>
                  </a:lnTo>
                  <a:lnTo>
                    <a:pt x="596" y="1019"/>
                  </a:lnTo>
                  <a:lnTo>
                    <a:pt x="725" y="1113"/>
                  </a:lnTo>
                  <a:lnTo>
                    <a:pt x="791" y="1100"/>
                  </a:lnTo>
                  <a:lnTo>
                    <a:pt x="831" y="1046"/>
                  </a:lnTo>
                  <a:lnTo>
                    <a:pt x="879" y="909"/>
                  </a:lnTo>
                  <a:lnTo>
                    <a:pt x="861" y="772"/>
                  </a:lnTo>
                  <a:lnTo>
                    <a:pt x="795" y="693"/>
                  </a:lnTo>
                  <a:lnTo>
                    <a:pt x="684" y="671"/>
                  </a:lnTo>
                  <a:lnTo>
                    <a:pt x="561" y="671"/>
                  </a:lnTo>
                  <a:lnTo>
                    <a:pt x="512" y="464"/>
                  </a:lnTo>
                  <a:lnTo>
                    <a:pt x="314" y="389"/>
                  </a:lnTo>
                  <a:lnTo>
                    <a:pt x="314" y="446"/>
                  </a:lnTo>
                  <a:lnTo>
                    <a:pt x="220" y="299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83" y="446"/>
                  </a:lnTo>
                  <a:lnTo>
                    <a:pt x="194" y="596"/>
                  </a:lnTo>
                  <a:lnTo>
                    <a:pt x="74" y="503"/>
                  </a:lnTo>
                  <a:lnTo>
                    <a:pt x="8" y="348"/>
                  </a:lnTo>
                  <a:lnTo>
                    <a:pt x="0" y="145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9400" y="1339920"/>
              <a:ext cx="219600" cy="402120"/>
            </a:xfrm>
            <a:custGeom>
              <a:avLst/>
              <a:gdLst/>
              <a:ahLst/>
              <a:rect l="0" t="0" r="r" b="b"/>
              <a:pathLst>
                <a:path w="610" h="1117">
                  <a:moveTo>
                    <a:pt x="610" y="0"/>
                  </a:moveTo>
                  <a:lnTo>
                    <a:pt x="482" y="74"/>
                  </a:lnTo>
                  <a:lnTo>
                    <a:pt x="336" y="344"/>
                  </a:lnTo>
                  <a:lnTo>
                    <a:pt x="19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9" y="941"/>
                  </a:lnTo>
                  <a:lnTo>
                    <a:pt x="234" y="844"/>
                  </a:lnTo>
                  <a:lnTo>
                    <a:pt x="327" y="640"/>
                  </a:lnTo>
                  <a:lnTo>
                    <a:pt x="450" y="521"/>
                  </a:lnTo>
                  <a:lnTo>
                    <a:pt x="450" y="684"/>
                  </a:lnTo>
                  <a:lnTo>
                    <a:pt x="433" y="830"/>
                  </a:lnTo>
                  <a:lnTo>
                    <a:pt x="296" y="1029"/>
                  </a:lnTo>
                  <a:lnTo>
                    <a:pt x="296" y="1091"/>
                  </a:lnTo>
                  <a:lnTo>
                    <a:pt x="433" y="1117"/>
                  </a:lnTo>
                  <a:lnTo>
                    <a:pt x="336" y="1060"/>
                  </a:lnTo>
                  <a:lnTo>
                    <a:pt x="349" y="1029"/>
                  </a:lnTo>
                  <a:lnTo>
                    <a:pt x="441" y="883"/>
                  </a:lnTo>
                  <a:lnTo>
                    <a:pt x="504" y="618"/>
                  </a:lnTo>
                  <a:lnTo>
                    <a:pt x="460" y="472"/>
                  </a:lnTo>
                  <a:lnTo>
                    <a:pt x="362" y="556"/>
                  </a:lnTo>
                  <a:lnTo>
                    <a:pt x="141" y="892"/>
                  </a:lnTo>
                  <a:lnTo>
                    <a:pt x="88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9" y="631"/>
                  </a:lnTo>
                  <a:lnTo>
                    <a:pt x="362" y="362"/>
                  </a:lnTo>
                  <a:lnTo>
                    <a:pt x="504" y="101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91400" y="1566720"/>
              <a:ext cx="135360" cy="192600"/>
            </a:xfrm>
            <a:custGeom>
              <a:avLst/>
              <a:gdLst/>
              <a:ahLst/>
              <a:rect l="0" t="0" r="r" b="b"/>
              <a:pathLst>
                <a:path w="376" h="535">
                  <a:moveTo>
                    <a:pt x="0" y="473"/>
                  </a:moveTo>
                  <a:lnTo>
                    <a:pt x="124" y="336"/>
                  </a:lnTo>
                  <a:lnTo>
                    <a:pt x="146" y="199"/>
                  </a:lnTo>
                  <a:lnTo>
                    <a:pt x="288" y="0"/>
                  </a:lnTo>
                  <a:lnTo>
                    <a:pt x="323" y="132"/>
                  </a:lnTo>
                  <a:lnTo>
                    <a:pt x="301" y="482"/>
                  </a:lnTo>
                  <a:lnTo>
                    <a:pt x="376" y="535"/>
                  </a:lnTo>
                  <a:lnTo>
                    <a:pt x="265" y="500"/>
                  </a:lnTo>
                  <a:lnTo>
                    <a:pt x="212" y="296"/>
                  </a:lnTo>
                  <a:lnTo>
                    <a:pt x="124" y="397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1576440"/>
              <a:ext cx="89280" cy="173520"/>
            </a:xfrm>
            <a:custGeom>
              <a:avLst/>
              <a:gdLst/>
              <a:ahLst/>
              <a:rect l="0" t="0" r="r" b="b"/>
              <a:pathLst>
                <a:path w="248" h="482">
                  <a:moveTo>
                    <a:pt x="0" y="363"/>
                  </a:moveTo>
                  <a:lnTo>
                    <a:pt x="8" y="186"/>
                  </a:lnTo>
                  <a:lnTo>
                    <a:pt x="67" y="79"/>
                  </a:lnTo>
                  <a:lnTo>
                    <a:pt x="120" y="460"/>
                  </a:lnTo>
                  <a:lnTo>
                    <a:pt x="200" y="46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14"/>
                  </a:lnTo>
                  <a:lnTo>
                    <a:pt x="200" y="482"/>
                  </a:lnTo>
                  <a:lnTo>
                    <a:pt x="98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01080" y="896760"/>
              <a:ext cx="216360" cy="462240"/>
            </a:xfrm>
            <a:custGeom>
              <a:avLst/>
              <a:gdLst/>
              <a:ahLst/>
              <a:rect l="0" t="0" r="r" b="b"/>
              <a:pathLst>
                <a:path w="601" h="1284">
                  <a:moveTo>
                    <a:pt x="155" y="693"/>
                  </a:moveTo>
                  <a:lnTo>
                    <a:pt x="203" y="493"/>
                  </a:lnTo>
                  <a:lnTo>
                    <a:pt x="406" y="440"/>
                  </a:lnTo>
                  <a:lnTo>
                    <a:pt x="601" y="0"/>
                  </a:lnTo>
                  <a:lnTo>
                    <a:pt x="601" y="127"/>
                  </a:lnTo>
                  <a:lnTo>
                    <a:pt x="437" y="467"/>
                  </a:lnTo>
                  <a:lnTo>
                    <a:pt x="221" y="533"/>
                  </a:lnTo>
                  <a:lnTo>
                    <a:pt x="195" y="693"/>
                  </a:lnTo>
                  <a:lnTo>
                    <a:pt x="265" y="693"/>
                  </a:lnTo>
                  <a:lnTo>
                    <a:pt x="79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43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3"/>
                  </a:lnTo>
                  <a:lnTo>
                    <a:pt x="92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5440" y="896760"/>
              <a:ext cx="363960" cy="446400"/>
            </a:xfrm>
            <a:custGeom>
              <a:avLst/>
              <a:gdLst/>
              <a:ahLst/>
              <a:rect l="0" t="0" r="r" b="b"/>
              <a:pathLst>
                <a:path w="1011" h="1240">
                  <a:moveTo>
                    <a:pt x="278" y="0"/>
                  </a:moveTo>
                  <a:lnTo>
                    <a:pt x="340" y="35"/>
                  </a:lnTo>
                  <a:lnTo>
                    <a:pt x="358" y="141"/>
                  </a:lnTo>
                  <a:lnTo>
                    <a:pt x="358" y="242"/>
                  </a:lnTo>
                  <a:lnTo>
                    <a:pt x="242" y="423"/>
                  </a:lnTo>
                  <a:lnTo>
                    <a:pt x="265" y="555"/>
                  </a:lnTo>
                  <a:lnTo>
                    <a:pt x="605" y="697"/>
                  </a:lnTo>
                  <a:lnTo>
                    <a:pt x="1007" y="1090"/>
                  </a:lnTo>
                  <a:lnTo>
                    <a:pt x="1011" y="1196"/>
                  </a:lnTo>
                  <a:lnTo>
                    <a:pt x="989" y="1240"/>
                  </a:lnTo>
                  <a:lnTo>
                    <a:pt x="839" y="1240"/>
                  </a:lnTo>
                  <a:lnTo>
                    <a:pt x="706" y="1165"/>
                  </a:lnTo>
                  <a:lnTo>
                    <a:pt x="600" y="1037"/>
                  </a:lnTo>
                  <a:lnTo>
                    <a:pt x="538" y="966"/>
                  </a:lnTo>
                  <a:lnTo>
                    <a:pt x="468" y="949"/>
                  </a:lnTo>
                  <a:lnTo>
                    <a:pt x="556" y="949"/>
                  </a:lnTo>
                  <a:lnTo>
                    <a:pt x="719" y="1151"/>
                  </a:lnTo>
                  <a:lnTo>
                    <a:pt x="932" y="1213"/>
                  </a:lnTo>
                  <a:lnTo>
                    <a:pt x="980" y="1151"/>
                  </a:lnTo>
                  <a:lnTo>
                    <a:pt x="954" y="1059"/>
                  </a:lnTo>
                  <a:lnTo>
                    <a:pt x="583" y="781"/>
                  </a:lnTo>
                  <a:lnTo>
                    <a:pt x="534" y="697"/>
                  </a:lnTo>
                  <a:lnTo>
                    <a:pt x="242" y="631"/>
                  </a:lnTo>
                  <a:lnTo>
                    <a:pt x="198" y="697"/>
                  </a:lnTo>
                  <a:lnTo>
                    <a:pt x="0" y="816"/>
                  </a:lnTo>
                  <a:lnTo>
                    <a:pt x="185" y="680"/>
                  </a:lnTo>
                  <a:lnTo>
                    <a:pt x="198" y="590"/>
                  </a:lnTo>
                  <a:lnTo>
                    <a:pt x="198" y="392"/>
                  </a:lnTo>
                  <a:lnTo>
                    <a:pt x="327" y="242"/>
                  </a:lnTo>
                  <a:lnTo>
                    <a:pt x="327" y="4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0280" y="1247760"/>
              <a:ext cx="308160" cy="265320"/>
            </a:xfrm>
            <a:custGeom>
              <a:avLst/>
              <a:gdLst/>
              <a:ahLst/>
              <a:rect l="0" t="0" r="r" b="b"/>
              <a:pathLst>
                <a:path w="856" h="737">
                  <a:moveTo>
                    <a:pt x="640" y="0"/>
                  </a:moveTo>
                  <a:lnTo>
                    <a:pt x="618" y="66"/>
                  </a:lnTo>
                  <a:lnTo>
                    <a:pt x="746" y="304"/>
                  </a:lnTo>
                  <a:lnTo>
                    <a:pt x="812" y="556"/>
                  </a:lnTo>
                  <a:lnTo>
                    <a:pt x="737" y="556"/>
                  </a:lnTo>
                  <a:lnTo>
                    <a:pt x="609" y="446"/>
                  </a:lnTo>
                  <a:lnTo>
                    <a:pt x="494" y="216"/>
                  </a:lnTo>
                  <a:lnTo>
                    <a:pt x="401" y="180"/>
                  </a:lnTo>
                  <a:lnTo>
                    <a:pt x="414" y="304"/>
                  </a:lnTo>
                  <a:lnTo>
                    <a:pt x="499" y="397"/>
                  </a:lnTo>
                  <a:lnTo>
                    <a:pt x="499" y="569"/>
                  </a:lnTo>
                  <a:lnTo>
                    <a:pt x="441" y="702"/>
                  </a:lnTo>
                  <a:lnTo>
                    <a:pt x="361" y="649"/>
                  </a:lnTo>
                  <a:lnTo>
                    <a:pt x="260" y="446"/>
                  </a:lnTo>
                  <a:lnTo>
                    <a:pt x="242" y="304"/>
                  </a:lnTo>
                  <a:lnTo>
                    <a:pt x="180" y="268"/>
                  </a:lnTo>
                  <a:lnTo>
                    <a:pt x="167" y="622"/>
                  </a:lnTo>
                  <a:lnTo>
                    <a:pt x="92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8"/>
                  </a:lnTo>
                  <a:lnTo>
                    <a:pt x="167" y="728"/>
                  </a:lnTo>
                  <a:lnTo>
                    <a:pt x="207" y="640"/>
                  </a:lnTo>
                  <a:lnTo>
                    <a:pt x="229" y="357"/>
                  </a:lnTo>
                  <a:lnTo>
                    <a:pt x="246" y="468"/>
                  </a:lnTo>
                  <a:lnTo>
                    <a:pt x="348" y="710"/>
                  </a:lnTo>
                  <a:lnTo>
                    <a:pt x="455" y="737"/>
                  </a:lnTo>
                  <a:lnTo>
                    <a:pt x="530" y="640"/>
                  </a:lnTo>
                  <a:lnTo>
                    <a:pt x="530" y="411"/>
                  </a:lnTo>
                  <a:lnTo>
                    <a:pt x="737" y="600"/>
                  </a:lnTo>
                  <a:lnTo>
                    <a:pt x="847" y="600"/>
                  </a:lnTo>
                  <a:lnTo>
                    <a:pt x="856" y="468"/>
                  </a:lnTo>
                  <a:lnTo>
                    <a:pt x="777" y="238"/>
                  </a:lnTo>
                  <a:lnTo>
                    <a:pt x="640" y="48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2520" y="973080"/>
              <a:ext cx="1373400" cy="1082880"/>
            </a:xfrm>
            <a:custGeom>
              <a:avLst/>
              <a:gdLst/>
              <a:ahLst/>
              <a:rect l="0" t="0" r="r" b="b"/>
              <a:pathLst>
                <a:path w="3815" h="3008">
                  <a:moveTo>
                    <a:pt x="1371" y="251"/>
                  </a:moveTo>
                  <a:lnTo>
                    <a:pt x="1305" y="264"/>
                  </a:lnTo>
                  <a:lnTo>
                    <a:pt x="1199" y="414"/>
                  </a:lnTo>
                  <a:lnTo>
                    <a:pt x="1155" y="304"/>
                  </a:lnTo>
                  <a:lnTo>
                    <a:pt x="1031" y="242"/>
                  </a:lnTo>
                  <a:lnTo>
                    <a:pt x="943" y="291"/>
                  </a:lnTo>
                  <a:lnTo>
                    <a:pt x="908" y="489"/>
                  </a:lnTo>
                  <a:lnTo>
                    <a:pt x="564" y="727"/>
                  </a:lnTo>
                  <a:lnTo>
                    <a:pt x="586" y="829"/>
                  </a:lnTo>
                  <a:lnTo>
                    <a:pt x="502" y="917"/>
                  </a:lnTo>
                  <a:lnTo>
                    <a:pt x="502" y="992"/>
                  </a:lnTo>
                  <a:lnTo>
                    <a:pt x="599" y="1221"/>
                  </a:lnTo>
                  <a:lnTo>
                    <a:pt x="608" y="1499"/>
                  </a:lnTo>
                  <a:lnTo>
                    <a:pt x="546" y="1760"/>
                  </a:lnTo>
                  <a:lnTo>
                    <a:pt x="304" y="1919"/>
                  </a:lnTo>
                  <a:lnTo>
                    <a:pt x="264" y="2135"/>
                  </a:lnTo>
                  <a:lnTo>
                    <a:pt x="194" y="2135"/>
                  </a:lnTo>
                  <a:lnTo>
                    <a:pt x="154" y="1958"/>
                  </a:lnTo>
                  <a:lnTo>
                    <a:pt x="79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71" y="2457"/>
                  </a:lnTo>
                  <a:lnTo>
                    <a:pt x="291" y="2470"/>
                  </a:lnTo>
                  <a:lnTo>
                    <a:pt x="502" y="2660"/>
                  </a:lnTo>
                  <a:lnTo>
                    <a:pt x="696" y="2682"/>
                  </a:lnTo>
                  <a:lnTo>
                    <a:pt x="806" y="2580"/>
                  </a:lnTo>
                  <a:lnTo>
                    <a:pt x="1075" y="2210"/>
                  </a:lnTo>
                  <a:lnTo>
                    <a:pt x="1098" y="2708"/>
                  </a:lnTo>
                  <a:lnTo>
                    <a:pt x="1075" y="3008"/>
                  </a:lnTo>
                  <a:lnTo>
                    <a:pt x="3277" y="3008"/>
                  </a:lnTo>
                  <a:lnTo>
                    <a:pt x="3118" y="2682"/>
                  </a:lnTo>
                  <a:lnTo>
                    <a:pt x="3039" y="2404"/>
                  </a:lnTo>
                  <a:lnTo>
                    <a:pt x="3017" y="1994"/>
                  </a:lnTo>
                  <a:lnTo>
                    <a:pt x="3145" y="2082"/>
                  </a:lnTo>
                  <a:lnTo>
                    <a:pt x="3277" y="2082"/>
                  </a:lnTo>
                  <a:lnTo>
                    <a:pt x="3458" y="1972"/>
                  </a:lnTo>
                  <a:lnTo>
                    <a:pt x="3581" y="1958"/>
                  </a:lnTo>
                  <a:lnTo>
                    <a:pt x="3656" y="1848"/>
                  </a:lnTo>
                  <a:lnTo>
                    <a:pt x="3705" y="1566"/>
                  </a:lnTo>
                  <a:lnTo>
                    <a:pt x="3815" y="1446"/>
                  </a:lnTo>
                  <a:lnTo>
                    <a:pt x="3758" y="1362"/>
                  </a:lnTo>
                  <a:lnTo>
                    <a:pt x="3678" y="1362"/>
                  </a:lnTo>
                  <a:lnTo>
                    <a:pt x="3612" y="1419"/>
                  </a:lnTo>
                  <a:lnTo>
                    <a:pt x="3550" y="1437"/>
                  </a:lnTo>
                  <a:lnTo>
                    <a:pt x="3471" y="1362"/>
                  </a:lnTo>
                  <a:lnTo>
                    <a:pt x="3374" y="1353"/>
                  </a:lnTo>
                  <a:lnTo>
                    <a:pt x="3206" y="1247"/>
                  </a:lnTo>
                  <a:lnTo>
                    <a:pt x="3096" y="1133"/>
                  </a:lnTo>
                  <a:lnTo>
                    <a:pt x="3074" y="992"/>
                  </a:lnTo>
                  <a:lnTo>
                    <a:pt x="3096" y="859"/>
                  </a:lnTo>
                  <a:lnTo>
                    <a:pt x="3162" y="754"/>
                  </a:lnTo>
                  <a:lnTo>
                    <a:pt x="3259" y="652"/>
                  </a:lnTo>
                  <a:lnTo>
                    <a:pt x="3250" y="480"/>
                  </a:lnTo>
                  <a:lnTo>
                    <a:pt x="3250" y="357"/>
                  </a:lnTo>
                  <a:lnTo>
                    <a:pt x="3206" y="264"/>
                  </a:lnTo>
                  <a:lnTo>
                    <a:pt x="3074" y="224"/>
                  </a:lnTo>
                  <a:lnTo>
                    <a:pt x="3030" y="202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05"/>
                  </a:lnTo>
                  <a:lnTo>
                    <a:pt x="2576" y="149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5" y="317"/>
                  </a:lnTo>
                  <a:lnTo>
                    <a:pt x="2395" y="502"/>
                  </a:lnTo>
                  <a:lnTo>
                    <a:pt x="2377" y="626"/>
                  </a:lnTo>
                  <a:lnTo>
                    <a:pt x="2285" y="776"/>
                  </a:lnTo>
                  <a:lnTo>
                    <a:pt x="2161" y="1001"/>
                  </a:lnTo>
                  <a:lnTo>
                    <a:pt x="2069" y="1274"/>
                  </a:lnTo>
                  <a:lnTo>
                    <a:pt x="2060" y="1437"/>
                  </a:lnTo>
                  <a:lnTo>
                    <a:pt x="2016" y="1575"/>
                  </a:lnTo>
                  <a:lnTo>
                    <a:pt x="1958" y="1711"/>
                  </a:lnTo>
                  <a:lnTo>
                    <a:pt x="1932" y="1932"/>
                  </a:lnTo>
                  <a:lnTo>
                    <a:pt x="1950" y="2113"/>
                  </a:lnTo>
                  <a:lnTo>
                    <a:pt x="2016" y="2324"/>
                  </a:lnTo>
                  <a:lnTo>
                    <a:pt x="2060" y="2404"/>
                  </a:lnTo>
                  <a:lnTo>
                    <a:pt x="1932" y="2483"/>
                  </a:lnTo>
                  <a:lnTo>
                    <a:pt x="1781" y="2532"/>
                  </a:lnTo>
                  <a:lnTo>
                    <a:pt x="1609" y="2549"/>
                  </a:lnTo>
                  <a:lnTo>
                    <a:pt x="1503" y="2549"/>
                  </a:lnTo>
                  <a:lnTo>
                    <a:pt x="1437" y="2518"/>
                  </a:lnTo>
                  <a:lnTo>
                    <a:pt x="1437" y="2338"/>
                  </a:lnTo>
                  <a:lnTo>
                    <a:pt x="1437" y="2073"/>
                  </a:lnTo>
                  <a:lnTo>
                    <a:pt x="1393" y="1813"/>
                  </a:lnTo>
                  <a:lnTo>
                    <a:pt x="1327" y="1575"/>
                  </a:lnTo>
                  <a:lnTo>
                    <a:pt x="1296" y="1389"/>
                  </a:lnTo>
                  <a:lnTo>
                    <a:pt x="1283" y="1120"/>
                  </a:lnTo>
                  <a:lnTo>
                    <a:pt x="1327" y="886"/>
                  </a:lnTo>
                  <a:lnTo>
                    <a:pt x="1393" y="696"/>
                  </a:lnTo>
                  <a:lnTo>
                    <a:pt x="1406" y="595"/>
                  </a:lnTo>
                  <a:lnTo>
                    <a:pt x="1371" y="432"/>
                  </a:lnTo>
                  <a:lnTo>
                    <a:pt x="1371" y="304"/>
                  </a:lnTo>
                  <a:lnTo>
                    <a:pt x="1393" y="264"/>
                  </a:lnTo>
                  <a:lnTo>
                    <a:pt x="1371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1190520"/>
              <a:ext cx="174960" cy="703800"/>
            </a:xfrm>
            <a:custGeom>
              <a:avLst/>
              <a:gdLst/>
              <a:ahLst/>
              <a:rect l="0" t="0" r="r" b="b"/>
              <a:pathLst>
                <a:path w="486" h="1955">
                  <a:moveTo>
                    <a:pt x="194" y="22"/>
                  </a:moveTo>
                  <a:lnTo>
                    <a:pt x="66" y="88"/>
                  </a:lnTo>
                  <a:lnTo>
                    <a:pt x="74" y="273"/>
                  </a:lnTo>
                  <a:lnTo>
                    <a:pt x="171" y="326"/>
                  </a:lnTo>
                  <a:lnTo>
                    <a:pt x="57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7" y="1169"/>
                  </a:lnTo>
                  <a:lnTo>
                    <a:pt x="101" y="1412"/>
                  </a:lnTo>
                  <a:lnTo>
                    <a:pt x="101" y="1549"/>
                  </a:lnTo>
                  <a:lnTo>
                    <a:pt x="57" y="1717"/>
                  </a:lnTo>
                  <a:lnTo>
                    <a:pt x="252" y="1955"/>
                  </a:lnTo>
                  <a:lnTo>
                    <a:pt x="331" y="1920"/>
                  </a:lnTo>
                  <a:lnTo>
                    <a:pt x="389" y="1752"/>
                  </a:lnTo>
                  <a:lnTo>
                    <a:pt x="481" y="1536"/>
                  </a:lnTo>
                  <a:lnTo>
                    <a:pt x="486" y="1425"/>
                  </a:lnTo>
                  <a:lnTo>
                    <a:pt x="411" y="1209"/>
                  </a:lnTo>
                  <a:lnTo>
                    <a:pt x="318" y="1002"/>
                  </a:lnTo>
                  <a:lnTo>
                    <a:pt x="287" y="847"/>
                  </a:lnTo>
                  <a:lnTo>
                    <a:pt x="287" y="710"/>
                  </a:lnTo>
                  <a:lnTo>
                    <a:pt x="318" y="587"/>
                  </a:lnTo>
                  <a:lnTo>
                    <a:pt x="389" y="427"/>
                  </a:lnTo>
                  <a:lnTo>
                    <a:pt x="389" y="366"/>
                  </a:lnTo>
                  <a:lnTo>
                    <a:pt x="353" y="299"/>
                  </a:lnTo>
                  <a:lnTo>
                    <a:pt x="446" y="220"/>
                  </a:lnTo>
                  <a:lnTo>
                    <a:pt x="446" y="145"/>
                  </a:lnTo>
                  <a:lnTo>
                    <a:pt x="318" y="0"/>
                  </a:lnTo>
                  <a:lnTo>
                    <a:pt x="419" y="145"/>
                  </a:lnTo>
                  <a:lnTo>
                    <a:pt x="419" y="211"/>
                  </a:lnTo>
                  <a:lnTo>
                    <a:pt x="327" y="273"/>
                  </a:lnTo>
                  <a:lnTo>
                    <a:pt x="367" y="366"/>
                  </a:lnTo>
                  <a:lnTo>
                    <a:pt x="353" y="427"/>
                  </a:lnTo>
                  <a:lnTo>
                    <a:pt x="265" y="609"/>
                  </a:lnTo>
                  <a:lnTo>
                    <a:pt x="252" y="785"/>
                  </a:lnTo>
                  <a:lnTo>
                    <a:pt x="274" y="949"/>
                  </a:lnTo>
                  <a:lnTo>
                    <a:pt x="331" y="1182"/>
                  </a:lnTo>
                  <a:lnTo>
                    <a:pt x="411" y="1368"/>
                  </a:lnTo>
                  <a:lnTo>
                    <a:pt x="411" y="1527"/>
                  </a:lnTo>
                  <a:lnTo>
                    <a:pt x="367" y="1717"/>
                  </a:lnTo>
                  <a:lnTo>
                    <a:pt x="274" y="1920"/>
                  </a:lnTo>
                  <a:lnTo>
                    <a:pt x="163" y="1809"/>
                  </a:lnTo>
                  <a:lnTo>
                    <a:pt x="114" y="1717"/>
                  </a:lnTo>
                  <a:lnTo>
                    <a:pt x="123" y="1527"/>
                  </a:lnTo>
                  <a:lnTo>
                    <a:pt x="114" y="1332"/>
                  </a:lnTo>
                  <a:lnTo>
                    <a:pt x="57" y="1072"/>
                  </a:lnTo>
                  <a:lnTo>
                    <a:pt x="30" y="900"/>
                  </a:lnTo>
                  <a:lnTo>
                    <a:pt x="57" y="697"/>
                  </a:lnTo>
                  <a:lnTo>
                    <a:pt x="101" y="508"/>
                  </a:lnTo>
                  <a:lnTo>
                    <a:pt x="202" y="313"/>
                  </a:lnTo>
                  <a:lnTo>
                    <a:pt x="114" y="233"/>
                  </a:lnTo>
                  <a:lnTo>
                    <a:pt x="101" y="97"/>
                  </a:lnTo>
                  <a:lnTo>
                    <a:pt x="19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1400" y="368280"/>
              <a:ext cx="275040" cy="343440"/>
            </a:xfrm>
            <a:custGeom>
              <a:avLst/>
              <a:gdLst/>
              <a:ahLst/>
              <a:rect l="0" t="0" r="r" b="b"/>
              <a:pathLst>
                <a:path w="764" h="954">
                  <a:moveTo>
                    <a:pt x="127" y="243"/>
                  </a:moveTo>
                  <a:lnTo>
                    <a:pt x="239" y="224"/>
                  </a:lnTo>
                  <a:lnTo>
                    <a:pt x="349" y="229"/>
                  </a:lnTo>
                  <a:lnTo>
                    <a:pt x="437" y="274"/>
                  </a:lnTo>
                  <a:lnTo>
                    <a:pt x="486" y="322"/>
                  </a:lnTo>
                  <a:lnTo>
                    <a:pt x="512" y="375"/>
                  </a:lnTo>
                  <a:lnTo>
                    <a:pt x="512" y="419"/>
                  </a:lnTo>
                  <a:lnTo>
                    <a:pt x="481" y="450"/>
                  </a:lnTo>
                  <a:lnTo>
                    <a:pt x="437" y="472"/>
                  </a:lnTo>
                  <a:lnTo>
                    <a:pt x="375" y="477"/>
                  </a:lnTo>
                  <a:lnTo>
                    <a:pt x="309" y="464"/>
                  </a:lnTo>
                  <a:lnTo>
                    <a:pt x="243" y="424"/>
                  </a:lnTo>
                  <a:lnTo>
                    <a:pt x="195" y="389"/>
                  </a:lnTo>
                  <a:lnTo>
                    <a:pt x="171" y="512"/>
                  </a:lnTo>
                  <a:lnTo>
                    <a:pt x="127" y="600"/>
                  </a:lnTo>
                  <a:lnTo>
                    <a:pt x="0" y="795"/>
                  </a:lnTo>
                  <a:lnTo>
                    <a:pt x="185" y="954"/>
                  </a:lnTo>
                  <a:lnTo>
                    <a:pt x="327" y="697"/>
                  </a:lnTo>
                  <a:lnTo>
                    <a:pt x="481" y="720"/>
                  </a:lnTo>
                  <a:lnTo>
                    <a:pt x="584" y="702"/>
                  </a:lnTo>
                  <a:lnTo>
                    <a:pt x="676" y="640"/>
                  </a:lnTo>
                  <a:lnTo>
                    <a:pt x="738" y="565"/>
                  </a:lnTo>
                  <a:lnTo>
                    <a:pt x="764" y="464"/>
                  </a:lnTo>
                  <a:lnTo>
                    <a:pt x="764" y="362"/>
                  </a:lnTo>
                  <a:lnTo>
                    <a:pt x="738" y="252"/>
                  </a:lnTo>
                  <a:lnTo>
                    <a:pt x="672" y="145"/>
                  </a:lnTo>
                  <a:lnTo>
                    <a:pt x="592" y="66"/>
                  </a:lnTo>
                  <a:lnTo>
                    <a:pt x="503" y="22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13520" y="700200"/>
              <a:ext cx="98640" cy="68760"/>
            </a:xfrm>
            <a:custGeom>
              <a:avLst/>
              <a:gdLst/>
              <a:ahLst/>
              <a:rect l="0" t="0" r="r" b="b"/>
              <a:pathLst>
                <a:path w="274" h="191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5"/>
                  </a:lnTo>
                  <a:lnTo>
                    <a:pt x="168" y="191"/>
                  </a:lnTo>
                  <a:lnTo>
                    <a:pt x="252" y="187"/>
                  </a:lnTo>
                  <a:lnTo>
                    <a:pt x="274" y="142"/>
                  </a:lnTo>
                  <a:lnTo>
                    <a:pt x="261" y="102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ion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12952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accounting is described by the AICPA a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atures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tangible assets except land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means the allocation of the cost of a plant asset to the periods that benefit from the service of tha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not a process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3716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 reasonable and necessary expenditures to get the asset in place and ready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idual value (salvage or disposal valu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asset’s estimated net scrap, salvage, or trade-in value as of the estimated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152280"/>
            <a:ext cx="8577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52388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Depreciabl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less residual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ble cost is allocated over the useful life of an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number of service units expected from a long-term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y be measured in years, miles, units, or similar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76212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recorded at the end of the accounting period by an adjusting entry in the following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, 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any purchased a building fi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years ago. The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 is now greater than it was whe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building was purchased. Expl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 becaus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n allocation of cost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valu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296" name=""/>
            <p:cNvSpPr/>
            <p:nvPr/>
          </p:nvSpPr>
          <p:spPr>
            <a:xfrm>
              <a:off x="919080" y="1089000"/>
              <a:ext cx="425880" cy="609840"/>
            </a:xfrm>
            <a:custGeom>
              <a:avLst/>
              <a:gdLst/>
              <a:ahLst/>
              <a:rect l="0" t="0" r="r" b="b"/>
              <a:pathLst>
                <a:path w="1183" h="1694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4"/>
                  </a:lnTo>
                  <a:lnTo>
                    <a:pt x="543" y="533"/>
                  </a:lnTo>
                  <a:lnTo>
                    <a:pt x="437" y="643"/>
                  </a:lnTo>
                  <a:lnTo>
                    <a:pt x="295" y="887"/>
                  </a:lnTo>
                  <a:lnTo>
                    <a:pt x="22" y="1279"/>
                  </a:lnTo>
                  <a:lnTo>
                    <a:pt x="0" y="1372"/>
                  </a:lnTo>
                  <a:lnTo>
                    <a:pt x="22" y="1451"/>
                  </a:lnTo>
                  <a:lnTo>
                    <a:pt x="110" y="1451"/>
                  </a:lnTo>
                  <a:lnTo>
                    <a:pt x="180" y="1363"/>
                  </a:lnTo>
                  <a:lnTo>
                    <a:pt x="295" y="1143"/>
                  </a:lnTo>
                  <a:lnTo>
                    <a:pt x="367" y="1050"/>
                  </a:lnTo>
                  <a:lnTo>
                    <a:pt x="411" y="1191"/>
                  </a:lnTo>
                  <a:lnTo>
                    <a:pt x="380" y="1350"/>
                  </a:lnTo>
                  <a:lnTo>
                    <a:pt x="264" y="1570"/>
                  </a:lnTo>
                  <a:lnTo>
                    <a:pt x="295" y="1623"/>
                  </a:lnTo>
                  <a:lnTo>
                    <a:pt x="367" y="1606"/>
                  </a:lnTo>
                  <a:lnTo>
                    <a:pt x="512" y="1491"/>
                  </a:lnTo>
                  <a:lnTo>
                    <a:pt x="631" y="1293"/>
                  </a:lnTo>
                  <a:lnTo>
                    <a:pt x="631" y="1637"/>
                  </a:lnTo>
                  <a:lnTo>
                    <a:pt x="772" y="1694"/>
                  </a:lnTo>
                  <a:lnTo>
                    <a:pt x="852" y="1482"/>
                  </a:lnTo>
                  <a:lnTo>
                    <a:pt x="928" y="1681"/>
                  </a:lnTo>
                  <a:lnTo>
                    <a:pt x="985" y="1623"/>
                  </a:lnTo>
                  <a:lnTo>
                    <a:pt x="1011" y="1231"/>
                  </a:lnTo>
                  <a:lnTo>
                    <a:pt x="1183" y="860"/>
                  </a:lnTo>
                  <a:lnTo>
                    <a:pt x="1144" y="643"/>
                  </a:lnTo>
                  <a:lnTo>
                    <a:pt x="1025" y="564"/>
                  </a:lnTo>
                  <a:lnTo>
                    <a:pt x="897" y="573"/>
                  </a:lnTo>
                  <a:lnTo>
                    <a:pt x="852" y="401"/>
                  </a:lnTo>
                  <a:lnTo>
                    <a:pt x="724" y="361"/>
                  </a:lnTo>
                  <a:lnTo>
                    <a:pt x="609" y="308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2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088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79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06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10"/>
                  </a:lnTo>
                  <a:lnTo>
                    <a:pt x="379" y="1610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88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5"/>
                  </a:lnTo>
                  <a:lnTo>
                    <a:pt x="194" y="507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9688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8"/>
                  </a:lnTo>
                  <a:lnTo>
                    <a:pt x="0" y="1121"/>
                  </a:lnTo>
                  <a:lnTo>
                    <a:pt x="105" y="1257"/>
                  </a:lnTo>
                  <a:lnTo>
                    <a:pt x="207" y="1257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1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982800"/>
              <a:ext cx="438480" cy="897120"/>
            </a:xfrm>
            <a:custGeom>
              <a:avLst/>
              <a:gdLst/>
              <a:ahLst/>
              <a:rect l="0" t="0" r="r" b="b"/>
              <a:pathLst>
                <a:path w="1218" h="2492">
                  <a:moveTo>
                    <a:pt x="251" y="127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6"/>
                  </a:lnTo>
                  <a:lnTo>
                    <a:pt x="865" y="1623"/>
                  </a:lnTo>
                  <a:lnTo>
                    <a:pt x="979" y="2254"/>
                  </a:lnTo>
                  <a:lnTo>
                    <a:pt x="520" y="2492"/>
                  </a:lnTo>
                  <a:lnTo>
                    <a:pt x="163" y="2360"/>
                  </a:lnTo>
                  <a:lnTo>
                    <a:pt x="163" y="1685"/>
                  </a:lnTo>
                  <a:lnTo>
                    <a:pt x="0" y="1036"/>
                  </a:lnTo>
                  <a:lnTo>
                    <a:pt x="163" y="251"/>
                  </a:lnTo>
                  <a:lnTo>
                    <a:pt x="251" y="12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0880" y="254160"/>
              <a:ext cx="410040" cy="236880"/>
            </a:xfrm>
            <a:custGeom>
              <a:avLst/>
              <a:gdLst/>
              <a:ahLst/>
              <a:rect l="0" t="0" r="r" b="b"/>
              <a:pathLst>
                <a:path w="1139" h="658">
                  <a:moveTo>
                    <a:pt x="141" y="631"/>
                  </a:moveTo>
                  <a:lnTo>
                    <a:pt x="309" y="450"/>
                  </a:lnTo>
                  <a:lnTo>
                    <a:pt x="415" y="428"/>
                  </a:lnTo>
                  <a:lnTo>
                    <a:pt x="415" y="441"/>
                  </a:lnTo>
                  <a:lnTo>
                    <a:pt x="468" y="428"/>
                  </a:lnTo>
                  <a:lnTo>
                    <a:pt x="538" y="477"/>
                  </a:lnTo>
                  <a:lnTo>
                    <a:pt x="671" y="508"/>
                  </a:lnTo>
                  <a:lnTo>
                    <a:pt x="781" y="658"/>
                  </a:lnTo>
                  <a:lnTo>
                    <a:pt x="958" y="591"/>
                  </a:lnTo>
                  <a:lnTo>
                    <a:pt x="958" y="521"/>
                  </a:lnTo>
                  <a:lnTo>
                    <a:pt x="1139" y="441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8"/>
                  </a:moveTo>
                  <a:lnTo>
                    <a:pt x="61" y="92"/>
                  </a:lnTo>
                  <a:lnTo>
                    <a:pt x="61" y="255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19"/>
                  </a:lnTo>
                  <a:lnTo>
                    <a:pt x="88" y="1504"/>
                  </a:lnTo>
                  <a:lnTo>
                    <a:pt x="44" y="1641"/>
                  </a:lnTo>
                  <a:lnTo>
                    <a:pt x="230" y="1888"/>
                  </a:lnTo>
                  <a:lnTo>
                    <a:pt x="350" y="1517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1"/>
                  </a:lnTo>
                  <a:lnTo>
                    <a:pt x="350" y="127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4152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156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48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400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3"/>
                  </a:lnTo>
                  <a:lnTo>
                    <a:pt x="154" y="919"/>
                  </a:lnTo>
                  <a:lnTo>
                    <a:pt x="189" y="923"/>
                  </a:lnTo>
                  <a:lnTo>
                    <a:pt x="52" y="636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57"/>
                  </a:lnTo>
                  <a:lnTo>
                    <a:pt x="530" y="919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57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0"/>
                  </a:lnTo>
                  <a:lnTo>
                    <a:pt x="1210" y="578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72"/>
                  </a:lnTo>
                  <a:lnTo>
                    <a:pt x="1020" y="455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49"/>
                  </a:lnTo>
                  <a:lnTo>
                    <a:pt x="1064" y="760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8"/>
                  </a:lnTo>
                  <a:lnTo>
                    <a:pt x="587" y="578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0960" y="78912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7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50"/>
                  </a:lnTo>
                  <a:lnTo>
                    <a:pt x="35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752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19"/>
                  </a:lnTo>
                  <a:lnTo>
                    <a:pt x="189" y="437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1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2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6200" y="39672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28"/>
                  </a:lnTo>
                  <a:lnTo>
                    <a:pt x="467" y="132"/>
                  </a:lnTo>
                  <a:lnTo>
                    <a:pt x="520" y="114"/>
                  </a:lnTo>
                  <a:lnTo>
                    <a:pt x="480" y="230"/>
                  </a:lnTo>
                  <a:lnTo>
                    <a:pt x="626" y="292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47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28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1"/>
                  </a:lnTo>
                  <a:lnTo>
                    <a:pt x="1156" y="481"/>
                  </a:lnTo>
                  <a:lnTo>
                    <a:pt x="1390" y="468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2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1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8"/>
                  </a:lnTo>
                  <a:lnTo>
                    <a:pt x="0" y="428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4200" y="363600"/>
              <a:ext cx="140040" cy="74880"/>
            </a:xfrm>
            <a:custGeom>
              <a:avLst/>
              <a:gdLst/>
              <a:ahLst/>
              <a:rect l="0" t="0" r="r" b="b"/>
              <a:pathLst>
                <a:path w="389" h="208">
                  <a:moveTo>
                    <a:pt x="0" y="208"/>
                  </a:moveTo>
                  <a:lnTo>
                    <a:pt x="145" y="0"/>
                  </a:lnTo>
                  <a:lnTo>
                    <a:pt x="145" y="137"/>
                  </a:lnTo>
                  <a:lnTo>
                    <a:pt x="199" y="83"/>
                  </a:lnTo>
                  <a:lnTo>
                    <a:pt x="243" y="164"/>
                  </a:lnTo>
                  <a:lnTo>
                    <a:pt x="389" y="199"/>
                  </a:lnTo>
                  <a:lnTo>
                    <a:pt x="234" y="172"/>
                  </a:lnTo>
                  <a:lnTo>
                    <a:pt x="189" y="120"/>
                  </a:lnTo>
                  <a:lnTo>
                    <a:pt x="123" y="172"/>
                  </a:lnTo>
                  <a:lnTo>
                    <a:pt x="123" y="106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3980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06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0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6"/>
                  </a:lnTo>
                  <a:lnTo>
                    <a:pt x="212" y="306"/>
                  </a:lnTo>
                  <a:lnTo>
                    <a:pt x="283" y="244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8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631800"/>
              <a:ext cx="363960" cy="520920"/>
            </a:xfrm>
            <a:custGeom>
              <a:avLst/>
              <a:gdLst/>
              <a:ahLst/>
              <a:rect l="0" t="0" r="r" b="b"/>
              <a:pathLst>
                <a:path w="1011" h="1447">
                  <a:moveTo>
                    <a:pt x="853" y="0"/>
                  </a:moveTo>
                  <a:lnTo>
                    <a:pt x="954" y="0"/>
                  </a:lnTo>
                  <a:lnTo>
                    <a:pt x="1011" y="74"/>
                  </a:lnTo>
                  <a:lnTo>
                    <a:pt x="1011" y="149"/>
                  </a:lnTo>
                  <a:lnTo>
                    <a:pt x="928" y="379"/>
                  </a:lnTo>
                  <a:lnTo>
                    <a:pt x="848" y="485"/>
                  </a:lnTo>
                  <a:lnTo>
                    <a:pt x="760" y="502"/>
                  </a:lnTo>
                  <a:lnTo>
                    <a:pt x="737" y="502"/>
                  </a:lnTo>
                  <a:lnTo>
                    <a:pt x="737" y="790"/>
                  </a:lnTo>
                  <a:lnTo>
                    <a:pt x="778" y="993"/>
                  </a:lnTo>
                  <a:lnTo>
                    <a:pt x="778" y="1160"/>
                  </a:lnTo>
                  <a:lnTo>
                    <a:pt x="622" y="1332"/>
                  </a:lnTo>
                  <a:lnTo>
                    <a:pt x="415" y="1447"/>
                  </a:lnTo>
                  <a:lnTo>
                    <a:pt x="278" y="1447"/>
                  </a:lnTo>
                  <a:lnTo>
                    <a:pt x="211" y="1416"/>
                  </a:lnTo>
                  <a:lnTo>
                    <a:pt x="119" y="1218"/>
                  </a:lnTo>
                  <a:lnTo>
                    <a:pt x="35" y="1143"/>
                  </a:lnTo>
                  <a:lnTo>
                    <a:pt x="0" y="1094"/>
                  </a:lnTo>
                  <a:lnTo>
                    <a:pt x="114" y="1160"/>
                  </a:lnTo>
                  <a:lnTo>
                    <a:pt x="194" y="1235"/>
                  </a:lnTo>
                  <a:lnTo>
                    <a:pt x="358" y="1244"/>
                  </a:lnTo>
                  <a:lnTo>
                    <a:pt x="503" y="1173"/>
                  </a:lnTo>
                  <a:lnTo>
                    <a:pt x="578" y="1094"/>
                  </a:lnTo>
                  <a:lnTo>
                    <a:pt x="662" y="944"/>
                  </a:lnTo>
                  <a:lnTo>
                    <a:pt x="675" y="768"/>
                  </a:lnTo>
                  <a:lnTo>
                    <a:pt x="706" y="216"/>
                  </a:lnTo>
                  <a:lnTo>
                    <a:pt x="741" y="295"/>
                  </a:lnTo>
                  <a:lnTo>
                    <a:pt x="844" y="194"/>
                  </a:lnTo>
                  <a:lnTo>
                    <a:pt x="945" y="149"/>
                  </a:lnTo>
                  <a:lnTo>
                    <a:pt x="972" y="92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0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50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8"/>
                  </a:lnTo>
                  <a:lnTo>
                    <a:pt x="336" y="913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5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0"/>
                  </a:lnTo>
                  <a:lnTo>
                    <a:pt x="0" y="141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26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3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3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6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7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29"/>
                  </a:lnTo>
                  <a:lnTo>
                    <a:pt x="127" y="852"/>
                  </a:lnTo>
                  <a:lnTo>
                    <a:pt x="74" y="865"/>
                  </a:lnTo>
                  <a:lnTo>
                    <a:pt x="30" y="825"/>
                  </a:lnTo>
                  <a:lnTo>
                    <a:pt x="30" y="728"/>
                  </a:lnTo>
                  <a:lnTo>
                    <a:pt x="105" y="605"/>
                  </a:lnTo>
                  <a:lnTo>
                    <a:pt x="318" y="348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1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9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7"/>
                  </a:lnTo>
                  <a:lnTo>
                    <a:pt x="111" y="38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4920" y="1519200"/>
              <a:ext cx="79560" cy="167040"/>
            </a:xfrm>
            <a:custGeom>
              <a:avLst/>
              <a:gdLst/>
              <a:ahLst/>
              <a:rect l="0" t="0" r="r" b="b"/>
              <a:pathLst>
                <a:path w="221" h="464">
                  <a:moveTo>
                    <a:pt x="0" y="349"/>
                  </a:moveTo>
                  <a:lnTo>
                    <a:pt x="8" y="176"/>
                  </a:lnTo>
                  <a:lnTo>
                    <a:pt x="57" y="74"/>
                  </a:lnTo>
                  <a:lnTo>
                    <a:pt x="105" y="441"/>
                  </a:lnTo>
                  <a:lnTo>
                    <a:pt x="177" y="441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4"/>
                  </a:lnTo>
                  <a:lnTo>
                    <a:pt x="88" y="464"/>
                  </a:lnTo>
                  <a:lnTo>
                    <a:pt x="48" y="145"/>
                  </a:lnTo>
                  <a:lnTo>
                    <a:pt x="26" y="18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616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6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5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7"/>
                  </a:lnTo>
                  <a:lnTo>
                    <a:pt x="79" y="675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4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120636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6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6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6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6"/>
                  </a:lnTo>
                  <a:lnTo>
                    <a:pt x="163" y="252"/>
                  </a:lnTo>
                  <a:lnTo>
                    <a:pt x="149" y="601"/>
                  </a:lnTo>
                  <a:lnTo>
                    <a:pt x="79" y="645"/>
                  </a:lnTo>
                  <a:lnTo>
                    <a:pt x="22" y="601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9"/>
                  </a:lnTo>
                  <a:lnTo>
                    <a:pt x="750" y="579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82600" y="942840"/>
              <a:ext cx="1214640" cy="1037160"/>
            </a:xfrm>
            <a:custGeom>
              <a:avLst/>
              <a:gdLst/>
              <a:ahLst/>
              <a:rect l="0" t="0" r="r" b="b"/>
              <a:pathLst>
                <a:path w="3374" h="2881">
                  <a:moveTo>
                    <a:pt x="1212" y="242"/>
                  </a:moveTo>
                  <a:lnTo>
                    <a:pt x="1150" y="251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29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4"/>
                  </a:lnTo>
                  <a:lnTo>
                    <a:pt x="445" y="953"/>
                  </a:lnTo>
                  <a:lnTo>
                    <a:pt x="533" y="1169"/>
                  </a:lnTo>
                  <a:lnTo>
                    <a:pt x="537" y="1438"/>
                  </a:lnTo>
                  <a:lnTo>
                    <a:pt x="480" y="1685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5"/>
                  </a:lnTo>
                  <a:lnTo>
                    <a:pt x="70" y="1875"/>
                  </a:lnTo>
                  <a:lnTo>
                    <a:pt x="39" y="2055"/>
                  </a:lnTo>
                  <a:lnTo>
                    <a:pt x="0" y="2104"/>
                  </a:lnTo>
                  <a:lnTo>
                    <a:pt x="149" y="2352"/>
                  </a:lnTo>
                  <a:lnTo>
                    <a:pt x="255" y="2365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1"/>
                  </a:lnTo>
                  <a:lnTo>
                    <a:pt x="948" y="2117"/>
                  </a:lnTo>
                  <a:lnTo>
                    <a:pt x="970" y="2594"/>
                  </a:lnTo>
                  <a:lnTo>
                    <a:pt x="948" y="2881"/>
                  </a:lnTo>
                  <a:lnTo>
                    <a:pt x="2898" y="2881"/>
                  </a:lnTo>
                  <a:lnTo>
                    <a:pt x="2757" y="2572"/>
                  </a:lnTo>
                  <a:lnTo>
                    <a:pt x="2686" y="2303"/>
                  </a:lnTo>
                  <a:lnTo>
                    <a:pt x="2668" y="1910"/>
                  </a:lnTo>
                  <a:lnTo>
                    <a:pt x="2783" y="1994"/>
                  </a:lnTo>
                  <a:lnTo>
                    <a:pt x="2898" y="1994"/>
                  </a:lnTo>
                  <a:lnTo>
                    <a:pt x="3061" y="1888"/>
                  </a:lnTo>
                  <a:lnTo>
                    <a:pt x="3167" y="1875"/>
                  </a:lnTo>
                  <a:lnTo>
                    <a:pt x="3233" y="1769"/>
                  </a:lnTo>
                  <a:lnTo>
                    <a:pt x="3277" y="1500"/>
                  </a:lnTo>
                  <a:lnTo>
                    <a:pt x="3374" y="1385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59"/>
                  </a:lnTo>
                  <a:lnTo>
                    <a:pt x="3140" y="1376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18"/>
                  </a:lnTo>
                  <a:lnTo>
                    <a:pt x="2884" y="626"/>
                  </a:lnTo>
                  <a:lnTo>
                    <a:pt x="2876" y="458"/>
                  </a:lnTo>
                  <a:lnTo>
                    <a:pt x="2876" y="339"/>
                  </a:lnTo>
                  <a:lnTo>
                    <a:pt x="2832" y="251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1"/>
                  </a:lnTo>
                  <a:lnTo>
                    <a:pt x="1914" y="957"/>
                  </a:lnTo>
                  <a:lnTo>
                    <a:pt x="1831" y="1222"/>
                  </a:lnTo>
                  <a:lnTo>
                    <a:pt x="1826" y="1376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48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3"/>
                  </a:lnTo>
                  <a:lnTo>
                    <a:pt x="1711" y="2378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09"/>
                  </a:lnTo>
                  <a:lnTo>
                    <a:pt x="1270" y="2242"/>
                  </a:lnTo>
                  <a:lnTo>
                    <a:pt x="1270" y="1985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2"/>
                  </a:lnTo>
                  <a:lnTo>
                    <a:pt x="1172" y="852"/>
                  </a:lnTo>
                  <a:lnTo>
                    <a:pt x="1234" y="674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1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5640" y="1149480"/>
              <a:ext cx="152640" cy="675000"/>
            </a:xfrm>
            <a:custGeom>
              <a:avLst/>
              <a:gdLst/>
              <a:ahLst/>
              <a:rect l="0" t="0" r="r" b="b"/>
              <a:pathLst>
                <a:path w="424" h="1875">
                  <a:moveTo>
                    <a:pt x="167" y="22"/>
                  </a:moveTo>
                  <a:lnTo>
                    <a:pt x="57" y="83"/>
                  </a:lnTo>
                  <a:lnTo>
                    <a:pt x="66" y="264"/>
                  </a:lnTo>
                  <a:lnTo>
                    <a:pt x="149" y="313"/>
                  </a:lnTo>
                  <a:lnTo>
                    <a:pt x="48" y="511"/>
                  </a:lnTo>
                  <a:lnTo>
                    <a:pt x="0" y="727"/>
                  </a:lnTo>
                  <a:lnTo>
                    <a:pt x="0" y="934"/>
                  </a:lnTo>
                  <a:lnTo>
                    <a:pt x="48" y="1121"/>
                  </a:lnTo>
                  <a:lnTo>
                    <a:pt x="88" y="1354"/>
                  </a:lnTo>
                  <a:lnTo>
                    <a:pt x="88" y="1487"/>
                  </a:lnTo>
                  <a:lnTo>
                    <a:pt x="48" y="1650"/>
                  </a:lnTo>
                  <a:lnTo>
                    <a:pt x="221" y="1875"/>
                  </a:lnTo>
                  <a:lnTo>
                    <a:pt x="292" y="1839"/>
                  </a:lnTo>
                  <a:lnTo>
                    <a:pt x="340" y="1681"/>
                  </a:lnTo>
                  <a:lnTo>
                    <a:pt x="419" y="1473"/>
                  </a:lnTo>
                  <a:lnTo>
                    <a:pt x="424" y="1363"/>
                  </a:lnTo>
                  <a:lnTo>
                    <a:pt x="358" y="1160"/>
                  </a:lnTo>
                  <a:lnTo>
                    <a:pt x="278" y="962"/>
                  </a:lnTo>
                  <a:lnTo>
                    <a:pt x="247" y="815"/>
                  </a:lnTo>
                  <a:lnTo>
                    <a:pt x="247" y="679"/>
                  </a:lnTo>
                  <a:lnTo>
                    <a:pt x="278" y="560"/>
                  </a:lnTo>
                  <a:lnTo>
                    <a:pt x="340" y="410"/>
                  </a:lnTo>
                  <a:lnTo>
                    <a:pt x="340" y="352"/>
                  </a:lnTo>
                  <a:lnTo>
                    <a:pt x="309" y="291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4"/>
                  </a:lnTo>
                  <a:lnTo>
                    <a:pt x="318" y="352"/>
                  </a:lnTo>
                  <a:lnTo>
                    <a:pt x="309" y="410"/>
                  </a:lnTo>
                  <a:lnTo>
                    <a:pt x="230" y="582"/>
                  </a:lnTo>
                  <a:lnTo>
                    <a:pt x="221" y="754"/>
                  </a:lnTo>
                  <a:lnTo>
                    <a:pt x="239" y="908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65"/>
                  </a:lnTo>
                  <a:lnTo>
                    <a:pt x="318" y="1650"/>
                  </a:lnTo>
                  <a:lnTo>
                    <a:pt x="239" y="1839"/>
                  </a:lnTo>
                  <a:lnTo>
                    <a:pt x="141" y="1734"/>
                  </a:lnTo>
                  <a:lnTo>
                    <a:pt x="101" y="1650"/>
                  </a:lnTo>
                  <a:lnTo>
                    <a:pt x="110" y="1465"/>
                  </a:lnTo>
                  <a:lnTo>
                    <a:pt x="101" y="1279"/>
                  </a:lnTo>
                  <a:lnTo>
                    <a:pt x="48" y="1028"/>
                  </a:lnTo>
                  <a:lnTo>
                    <a:pt x="30" y="859"/>
                  </a:lnTo>
                  <a:lnTo>
                    <a:pt x="48" y="670"/>
                  </a:lnTo>
                  <a:lnTo>
                    <a:pt x="88" y="485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3760" y="363600"/>
              <a:ext cx="241560" cy="327240"/>
            </a:xfrm>
            <a:custGeom>
              <a:avLst/>
              <a:gdLst/>
              <a:ahLst/>
              <a:rect l="0" t="0" r="r" b="b"/>
              <a:pathLst>
                <a:path w="671" h="909">
                  <a:moveTo>
                    <a:pt x="114" y="229"/>
                  </a:moveTo>
                  <a:lnTo>
                    <a:pt x="207" y="211"/>
                  </a:lnTo>
                  <a:lnTo>
                    <a:pt x="304" y="220"/>
                  </a:lnTo>
                  <a:lnTo>
                    <a:pt x="384" y="260"/>
                  </a:lnTo>
                  <a:lnTo>
                    <a:pt x="428" y="308"/>
                  </a:lnTo>
                  <a:lnTo>
                    <a:pt x="450" y="352"/>
                  </a:lnTo>
                  <a:lnTo>
                    <a:pt x="450" y="401"/>
                  </a:lnTo>
                  <a:lnTo>
                    <a:pt x="424" y="427"/>
                  </a:lnTo>
                  <a:lnTo>
                    <a:pt x="384" y="449"/>
                  </a:lnTo>
                  <a:lnTo>
                    <a:pt x="330" y="455"/>
                  </a:lnTo>
                  <a:lnTo>
                    <a:pt x="273" y="440"/>
                  </a:lnTo>
                  <a:lnTo>
                    <a:pt x="211" y="405"/>
                  </a:lnTo>
                  <a:lnTo>
                    <a:pt x="167" y="370"/>
                  </a:lnTo>
                  <a:lnTo>
                    <a:pt x="149" y="486"/>
                  </a:lnTo>
                  <a:lnTo>
                    <a:pt x="114" y="569"/>
                  </a:lnTo>
                  <a:lnTo>
                    <a:pt x="0" y="759"/>
                  </a:lnTo>
                  <a:lnTo>
                    <a:pt x="163" y="909"/>
                  </a:lnTo>
                  <a:lnTo>
                    <a:pt x="286" y="666"/>
                  </a:lnTo>
                  <a:lnTo>
                    <a:pt x="424" y="684"/>
                  </a:lnTo>
                  <a:lnTo>
                    <a:pt x="512" y="666"/>
                  </a:lnTo>
                  <a:lnTo>
                    <a:pt x="596" y="609"/>
                  </a:lnTo>
                  <a:lnTo>
                    <a:pt x="644" y="538"/>
                  </a:lnTo>
                  <a:lnTo>
                    <a:pt x="671" y="445"/>
                  </a:lnTo>
                  <a:lnTo>
                    <a:pt x="671" y="343"/>
                  </a:lnTo>
                  <a:lnTo>
                    <a:pt x="644" y="242"/>
                  </a:lnTo>
                  <a:lnTo>
                    <a:pt x="591" y="136"/>
                  </a:lnTo>
                  <a:lnTo>
                    <a:pt x="521" y="66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948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3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600200" y="259092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straight-lin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9144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144792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spreads the depreciable costs evenly over the asset’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raight-Lin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43000" y="4572000"/>
            <a:ext cx="7548480" cy="1187280"/>
            <a:chOff x="1143000" y="4572000"/>
            <a:chExt cx="7548480" cy="1187280"/>
          </a:xfrm>
        </p:grpSpPr>
        <p:sp>
          <p:nvSpPr>
            <p:cNvPr id="332" name=""/>
            <p:cNvSpPr txBox="1"/>
            <p:nvPr/>
          </p:nvSpPr>
          <p:spPr>
            <a:xfrm>
              <a:off x="7315200" y="4724280"/>
              <a:ext cx="1376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495680" y="472428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143000" y="45720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seful Lif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5 yea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71680" y="344520"/>
            <a:ext cx="689436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Straight-Line Method</a:t>
            </a: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31880" y="1447920"/>
            <a:ext cx="8386920" cy="5003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523880" y="266688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productio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83808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808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is based on the assumption that depreciation is solely the result of use and that the passage of time plays no role in the depreciatio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its of Productio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4800600"/>
            <a:ext cx="7850160" cy="1187280"/>
            <a:chOff x="914400" y="4800600"/>
            <a:chExt cx="7850160" cy="1187280"/>
          </a:xfrm>
        </p:grpSpPr>
        <p:sp>
          <p:nvSpPr>
            <p:cNvPr id="344" name=""/>
            <p:cNvSpPr txBox="1"/>
            <p:nvPr/>
          </p:nvSpPr>
          <p:spPr>
            <a:xfrm>
              <a:off x="7032600" y="4983120"/>
              <a:ext cx="17319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.10/m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267080" y="498312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914400" y="48006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of Useful Lif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81040" y="460440"/>
            <a:ext cx="69534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 Production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5000" y="1447920"/>
            <a:ext cx="8277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990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ults in relatively large amounts of depreciation in the early years of an asset’s life and smaller amounts in later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accelerate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s that plant assets are most efficient when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stent with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14400" y="30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62120" y="198108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umber of years = Depreciation Rate (D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 year asset = 20%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R x Carrying Value (CV) = Depreci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V = Cost - Accumulated De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ouble-Declining-Bal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2803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14400" y="152280"/>
            <a:ext cx="769608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preciation Methods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600 Larg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360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3276720" y="5410080"/>
              <a:ext cx="4076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ntage of Companies Using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843120" y="2351160"/>
              <a:ext cx="13669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ght-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019160" y="3963960"/>
              <a:ext cx="1254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907920" y="3006720"/>
              <a:ext cx="1389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lera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1328760" y="3317760"/>
              <a:ext cx="91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241720" y="2222640"/>
              <a:ext cx="6670800" cy="2879640"/>
              <a:chOff x="2241720" y="2222640"/>
              <a:chExt cx="6670800" cy="2879640"/>
            </a:xfrm>
          </p:grpSpPr>
          <p:sp>
            <p:nvSpPr>
              <p:cNvPr id="367" name=""/>
              <p:cNvSpPr txBox="1"/>
              <p:nvPr/>
            </p:nvSpPr>
            <p:spPr>
              <a:xfrm>
                <a:off x="2241720" y="4768920"/>
                <a:ext cx="2937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2755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3307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39085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4686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0436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5608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17364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67438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1196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819920" y="4768920"/>
                <a:ext cx="520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8325000" y="232236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8325000" y="31240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8325000" y="39322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94000" y="2363760"/>
                <a:ext cx="5453280" cy="530640"/>
              </a:xfrm>
              <a:custGeom>
                <a:avLst/>
                <a:gdLst/>
                <a:ahLst/>
                <a:rect l="0" t="0" r="r" b="b"/>
                <a:pathLst>
                  <a:path w="15148" h="1474">
                    <a:moveTo>
                      <a:pt x="15148" y="1474"/>
                    </a:moveTo>
                    <a:lnTo>
                      <a:pt x="15148" y="0"/>
                    </a:lnTo>
                    <a:lnTo>
                      <a:pt x="0" y="0"/>
                    </a:lnTo>
                    <a:lnTo>
                      <a:pt x="0" y="1474"/>
                    </a:lnTo>
                    <a:lnTo>
                      <a:pt x="15148" y="1474"/>
                    </a:lnTo>
                    <a:close/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86080" y="3162240"/>
                <a:ext cx="856080" cy="536760"/>
              </a:xfrm>
              <a:custGeom>
                <a:avLst/>
                <a:gdLst/>
                <a:ahLst/>
                <a:rect l="0" t="0" r="r" b="b"/>
                <a:pathLst>
                  <a:path w="2378" h="1491">
                    <a:moveTo>
                      <a:pt x="2378" y="0"/>
                    </a:moveTo>
                    <a:lnTo>
                      <a:pt x="2378" y="1491"/>
                    </a:lnTo>
                    <a:lnTo>
                      <a:pt x="0" y="1491"/>
                    </a:lnTo>
                    <a:lnTo>
                      <a:pt x="0" y="0"/>
                    </a:lnTo>
                    <a:lnTo>
                      <a:pt x="2378" y="0"/>
                    </a:lnTo>
                    <a:close/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86080" y="3968640"/>
                <a:ext cx="373320" cy="530640"/>
              </a:xfrm>
              <a:custGeom>
                <a:avLst/>
                <a:gdLst/>
                <a:ahLst/>
                <a:rect l="0" t="0" r="r" b="b"/>
                <a:pathLst>
                  <a:path w="1037" h="1474">
                    <a:moveTo>
                      <a:pt x="1037" y="0"/>
                    </a:moveTo>
                    <a:lnTo>
                      <a:pt x="1037" y="1474"/>
                    </a:lnTo>
                    <a:lnTo>
                      <a:pt x="0" y="1474"/>
                    </a:lnTo>
                    <a:lnTo>
                      <a:pt x="0" y="0"/>
                    </a:lnTo>
                    <a:lnTo>
                      <a:pt x="1037" y="0"/>
                    </a:lnTo>
                    <a:close/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781200" y="1525680"/>
              <a:ext cx="162864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Depreciation </a:t>
              </a:r>
              <a:br>
                <a:rPr sz="1800"/>
              </a:b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Meth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914400"/>
            <a:ext cx="46054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ast the assumptions underly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depreciation metho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assumptions underlying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depreciation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method assum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ssociated with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ssage of time, whereas the produc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thod assumes that depreciation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ociated with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705720" y="228600"/>
            <a:ext cx="1979640" cy="1903680"/>
            <a:chOff x="6705720" y="228600"/>
            <a:chExt cx="1979640" cy="1903680"/>
          </a:xfrm>
        </p:grpSpPr>
        <p:sp>
          <p:nvSpPr>
            <p:cNvPr id="402" name=""/>
            <p:cNvSpPr/>
            <p:nvPr/>
          </p:nvSpPr>
          <p:spPr>
            <a:xfrm>
              <a:off x="6711840" y="1162080"/>
              <a:ext cx="479880" cy="667080"/>
            </a:xfrm>
            <a:custGeom>
              <a:avLst/>
              <a:gdLst/>
              <a:ahLst/>
              <a:rect l="0" t="0" r="r" b="b"/>
              <a:pathLst>
                <a:path w="1333" h="1853">
                  <a:moveTo>
                    <a:pt x="534" y="0"/>
                  </a:moveTo>
                  <a:lnTo>
                    <a:pt x="464" y="79"/>
                  </a:lnTo>
                  <a:lnTo>
                    <a:pt x="464" y="321"/>
                  </a:lnTo>
                  <a:lnTo>
                    <a:pt x="534" y="498"/>
                  </a:lnTo>
                  <a:lnTo>
                    <a:pt x="613" y="586"/>
                  </a:lnTo>
                  <a:lnTo>
                    <a:pt x="494" y="705"/>
                  </a:lnTo>
                  <a:lnTo>
                    <a:pt x="336" y="975"/>
                  </a:lnTo>
                  <a:lnTo>
                    <a:pt x="26" y="1398"/>
                  </a:lnTo>
                  <a:lnTo>
                    <a:pt x="0" y="1500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7"/>
                  </a:lnTo>
                  <a:lnTo>
                    <a:pt x="336" y="1248"/>
                  </a:lnTo>
                  <a:lnTo>
                    <a:pt x="411" y="1147"/>
                  </a:lnTo>
                  <a:lnTo>
                    <a:pt x="464" y="1306"/>
                  </a:lnTo>
                  <a:lnTo>
                    <a:pt x="428" y="1473"/>
                  </a:lnTo>
                  <a:lnTo>
                    <a:pt x="295" y="1716"/>
                  </a:lnTo>
                  <a:lnTo>
                    <a:pt x="336" y="1778"/>
                  </a:lnTo>
                  <a:lnTo>
                    <a:pt x="411" y="1760"/>
                  </a:lnTo>
                  <a:lnTo>
                    <a:pt x="578" y="1632"/>
                  </a:lnTo>
                  <a:lnTo>
                    <a:pt x="710" y="1416"/>
                  </a:lnTo>
                  <a:lnTo>
                    <a:pt x="710" y="1795"/>
                  </a:lnTo>
                  <a:lnTo>
                    <a:pt x="865" y="1853"/>
                  </a:lnTo>
                  <a:lnTo>
                    <a:pt x="962" y="1619"/>
                  </a:lnTo>
                  <a:lnTo>
                    <a:pt x="1047" y="1835"/>
                  </a:lnTo>
                  <a:lnTo>
                    <a:pt x="1108" y="1778"/>
                  </a:lnTo>
                  <a:lnTo>
                    <a:pt x="1139" y="1345"/>
                  </a:lnTo>
                  <a:lnTo>
                    <a:pt x="1333" y="940"/>
                  </a:lnTo>
                  <a:lnTo>
                    <a:pt x="1285" y="705"/>
                  </a:lnTo>
                  <a:lnTo>
                    <a:pt x="1157" y="617"/>
                  </a:lnTo>
                  <a:lnTo>
                    <a:pt x="1011" y="630"/>
                  </a:lnTo>
                  <a:lnTo>
                    <a:pt x="962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3" y="44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15040" y="1433520"/>
              <a:ext cx="141480" cy="322560"/>
            </a:xfrm>
            <a:custGeom>
              <a:avLst/>
              <a:gdLst/>
              <a:ahLst/>
              <a:rect l="0" t="0" r="r" b="b"/>
              <a:pathLst>
                <a:path w="393" h="896">
                  <a:moveTo>
                    <a:pt x="199" y="0"/>
                  </a:moveTo>
                  <a:lnTo>
                    <a:pt x="393" y="233"/>
                  </a:lnTo>
                  <a:lnTo>
                    <a:pt x="296" y="733"/>
                  </a:lnTo>
                  <a:lnTo>
                    <a:pt x="0" y="896"/>
                  </a:lnTo>
                  <a:lnTo>
                    <a:pt x="0" y="640"/>
                  </a:lnTo>
                  <a:lnTo>
                    <a:pt x="119" y="383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592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7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5" y="637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704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2"/>
                  </a:lnTo>
                  <a:lnTo>
                    <a:pt x="428" y="1742"/>
                  </a:lnTo>
                  <a:lnTo>
                    <a:pt x="411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41" y="1403"/>
                  </a:lnTo>
                  <a:lnTo>
                    <a:pt x="949" y="1628"/>
                  </a:lnTo>
                  <a:lnTo>
                    <a:pt x="1032" y="1619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78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29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6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51"/>
                  </a:lnTo>
                  <a:lnTo>
                    <a:pt x="724" y="52"/>
                  </a:lnTo>
                  <a:lnTo>
                    <a:pt x="636" y="0"/>
                  </a:lnTo>
                  <a:lnTo>
                    <a:pt x="411" y="480"/>
                  </a:lnTo>
                  <a:lnTo>
                    <a:pt x="216" y="555"/>
                  </a:lnTo>
                  <a:lnTo>
                    <a:pt x="171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4520" y="365040"/>
              <a:ext cx="541800" cy="816480"/>
            </a:xfrm>
            <a:custGeom>
              <a:avLst/>
              <a:gdLst/>
              <a:ahLst/>
              <a:rect l="0" t="0" r="r" b="b"/>
              <a:pathLst>
                <a:path w="1505" h="2268">
                  <a:moveTo>
                    <a:pt x="380" y="313"/>
                  </a:moveTo>
                  <a:lnTo>
                    <a:pt x="264" y="750"/>
                  </a:lnTo>
                  <a:lnTo>
                    <a:pt x="17" y="834"/>
                  </a:lnTo>
                  <a:lnTo>
                    <a:pt x="83" y="975"/>
                  </a:lnTo>
                  <a:lnTo>
                    <a:pt x="0" y="1059"/>
                  </a:lnTo>
                  <a:lnTo>
                    <a:pt x="0" y="1218"/>
                  </a:lnTo>
                  <a:lnTo>
                    <a:pt x="119" y="1359"/>
                  </a:lnTo>
                  <a:lnTo>
                    <a:pt x="233" y="1359"/>
                  </a:lnTo>
                  <a:lnTo>
                    <a:pt x="313" y="1867"/>
                  </a:lnTo>
                  <a:lnTo>
                    <a:pt x="406" y="2083"/>
                  </a:lnTo>
                  <a:lnTo>
                    <a:pt x="719" y="2268"/>
                  </a:lnTo>
                  <a:lnTo>
                    <a:pt x="1024" y="2237"/>
                  </a:lnTo>
                  <a:lnTo>
                    <a:pt x="1170" y="1867"/>
                  </a:lnTo>
                  <a:lnTo>
                    <a:pt x="1205" y="1293"/>
                  </a:lnTo>
                  <a:lnTo>
                    <a:pt x="1505" y="1006"/>
                  </a:lnTo>
                  <a:lnTo>
                    <a:pt x="1492" y="891"/>
                  </a:lnTo>
                  <a:lnTo>
                    <a:pt x="1457" y="834"/>
                  </a:lnTo>
                  <a:lnTo>
                    <a:pt x="1298" y="821"/>
                  </a:lnTo>
                  <a:lnTo>
                    <a:pt x="1346" y="675"/>
                  </a:lnTo>
                  <a:lnTo>
                    <a:pt x="1192" y="574"/>
                  </a:lnTo>
                  <a:lnTo>
                    <a:pt x="1121" y="251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80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0412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5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302" y="83"/>
                  </a:lnTo>
                  <a:lnTo>
                    <a:pt x="1377" y="511"/>
                  </a:lnTo>
                  <a:lnTo>
                    <a:pt x="979" y="1764"/>
                  </a:lnTo>
                  <a:lnTo>
                    <a:pt x="1104" y="2452"/>
                  </a:lnTo>
                  <a:lnTo>
                    <a:pt x="587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26440" y="254160"/>
              <a:ext cx="460800" cy="260640"/>
            </a:xfrm>
            <a:custGeom>
              <a:avLst/>
              <a:gdLst/>
              <a:ahLst/>
              <a:rect l="0" t="0" r="r" b="b"/>
              <a:pathLst>
                <a:path w="1280" h="724">
                  <a:moveTo>
                    <a:pt x="158" y="688"/>
                  </a:moveTo>
                  <a:lnTo>
                    <a:pt x="349" y="499"/>
                  </a:lnTo>
                  <a:lnTo>
                    <a:pt x="468" y="468"/>
                  </a:lnTo>
                  <a:lnTo>
                    <a:pt x="468" y="486"/>
                  </a:lnTo>
                  <a:lnTo>
                    <a:pt x="525" y="468"/>
                  </a:lnTo>
                  <a:lnTo>
                    <a:pt x="605" y="530"/>
                  </a:lnTo>
                  <a:lnTo>
                    <a:pt x="755" y="552"/>
                  </a:lnTo>
                  <a:lnTo>
                    <a:pt x="878" y="724"/>
                  </a:lnTo>
                  <a:lnTo>
                    <a:pt x="1077" y="653"/>
                  </a:lnTo>
                  <a:lnTo>
                    <a:pt x="1077" y="569"/>
                  </a:lnTo>
                  <a:lnTo>
                    <a:pt x="1280" y="486"/>
                  </a:lnTo>
                  <a:lnTo>
                    <a:pt x="1223" y="348"/>
                  </a:lnTo>
                  <a:lnTo>
                    <a:pt x="1029" y="335"/>
                  </a:lnTo>
                  <a:lnTo>
                    <a:pt x="1060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5" y="101"/>
                  </a:lnTo>
                  <a:lnTo>
                    <a:pt x="675" y="163"/>
                  </a:lnTo>
                  <a:lnTo>
                    <a:pt x="605" y="163"/>
                  </a:lnTo>
                  <a:lnTo>
                    <a:pt x="618" y="0"/>
                  </a:lnTo>
                  <a:lnTo>
                    <a:pt x="468" y="70"/>
                  </a:lnTo>
                  <a:lnTo>
                    <a:pt x="251" y="335"/>
                  </a:lnTo>
                  <a:lnTo>
                    <a:pt x="242" y="163"/>
                  </a:lnTo>
                  <a:lnTo>
                    <a:pt x="127" y="246"/>
                  </a:lnTo>
                  <a:lnTo>
                    <a:pt x="97" y="468"/>
                  </a:lnTo>
                  <a:lnTo>
                    <a:pt x="0" y="424"/>
                  </a:lnTo>
                  <a:lnTo>
                    <a:pt x="17" y="569"/>
                  </a:lnTo>
                  <a:lnTo>
                    <a:pt x="158" y="68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1720" y="1227240"/>
              <a:ext cx="146520" cy="738720"/>
            </a:xfrm>
            <a:custGeom>
              <a:avLst/>
              <a:gdLst/>
              <a:ahLst/>
              <a:rect l="0" t="0" r="r" b="b"/>
              <a:pathLst>
                <a:path w="407" h="2052">
                  <a:moveTo>
                    <a:pt x="208" y="13"/>
                  </a:moveTo>
                  <a:lnTo>
                    <a:pt x="70" y="101"/>
                  </a:lnTo>
                  <a:lnTo>
                    <a:pt x="70" y="268"/>
                  </a:lnTo>
                  <a:lnTo>
                    <a:pt x="168" y="330"/>
                  </a:lnTo>
                  <a:lnTo>
                    <a:pt x="39" y="600"/>
                  </a:lnTo>
                  <a:lnTo>
                    <a:pt x="0" y="962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4" y="1655"/>
                  </a:lnTo>
                  <a:lnTo>
                    <a:pt x="394" y="1376"/>
                  </a:lnTo>
                  <a:lnTo>
                    <a:pt x="292" y="1125"/>
                  </a:lnTo>
                  <a:lnTo>
                    <a:pt x="243" y="777"/>
                  </a:lnTo>
                  <a:lnTo>
                    <a:pt x="345" y="436"/>
                  </a:lnTo>
                  <a:lnTo>
                    <a:pt x="310" y="299"/>
                  </a:lnTo>
                  <a:lnTo>
                    <a:pt x="407" y="233"/>
                  </a:lnTo>
                  <a:lnTo>
                    <a:pt x="394" y="145"/>
                  </a:lnTo>
                  <a:lnTo>
                    <a:pt x="269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524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2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1528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8"/>
                  </a:moveTo>
                  <a:lnTo>
                    <a:pt x="283" y="402"/>
                  </a:lnTo>
                  <a:lnTo>
                    <a:pt x="411" y="371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5560" y="606600"/>
              <a:ext cx="125640" cy="146520"/>
            </a:xfrm>
            <a:custGeom>
              <a:avLst/>
              <a:gdLst/>
              <a:ahLst/>
              <a:rect l="0" t="0" r="r" b="b"/>
              <a:pathLst>
                <a:path w="349" h="407">
                  <a:moveTo>
                    <a:pt x="0" y="61"/>
                  </a:moveTo>
                  <a:lnTo>
                    <a:pt x="239" y="407"/>
                  </a:lnTo>
                  <a:lnTo>
                    <a:pt x="349" y="319"/>
                  </a:lnTo>
                  <a:lnTo>
                    <a:pt x="97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128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600"/>
                  </a:moveTo>
                  <a:lnTo>
                    <a:pt x="529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9"/>
                  </a:lnTo>
                  <a:lnTo>
                    <a:pt x="176" y="997"/>
                  </a:lnTo>
                  <a:lnTo>
                    <a:pt x="211" y="1006"/>
                  </a:lnTo>
                  <a:lnTo>
                    <a:pt x="61" y="697"/>
                  </a:lnTo>
                  <a:lnTo>
                    <a:pt x="299" y="600"/>
                  </a:lnTo>
                  <a:lnTo>
                    <a:pt x="449" y="600"/>
                  </a:lnTo>
                  <a:lnTo>
                    <a:pt x="568" y="658"/>
                  </a:lnTo>
                  <a:lnTo>
                    <a:pt x="599" y="741"/>
                  </a:lnTo>
                  <a:lnTo>
                    <a:pt x="599" y="940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10"/>
                  </a:lnTo>
                  <a:lnTo>
                    <a:pt x="772" y="710"/>
                  </a:lnTo>
                  <a:lnTo>
                    <a:pt x="816" y="940"/>
                  </a:lnTo>
                  <a:lnTo>
                    <a:pt x="874" y="953"/>
                  </a:lnTo>
                  <a:lnTo>
                    <a:pt x="1046" y="953"/>
                  </a:lnTo>
                  <a:lnTo>
                    <a:pt x="1226" y="918"/>
                  </a:lnTo>
                  <a:lnTo>
                    <a:pt x="1350" y="834"/>
                  </a:lnTo>
                  <a:lnTo>
                    <a:pt x="1368" y="622"/>
                  </a:lnTo>
                  <a:lnTo>
                    <a:pt x="1434" y="538"/>
                  </a:lnTo>
                  <a:lnTo>
                    <a:pt x="1390" y="489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9"/>
                  </a:lnTo>
                  <a:lnTo>
                    <a:pt x="781" y="436"/>
                  </a:lnTo>
                  <a:lnTo>
                    <a:pt x="759" y="489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08"/>
                  </a:lnTo>
                  <a:lnTo>
                    <a:pt x="1151" y="502"/>
                  </a:lnTo>
                  <a:lnTo>
                    <a:pt x="1315" y="516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10"/>
                  </a:lnTo>
                  <a:lnTo>
                    <a:pt x="1200" y="834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56"/>
                  </a:lnTo>
                  <a:lnTo>
                    <a:pt x="816" y="622"/>
                  </a:lnTo>
                  <a:lnTo>
                    <a:pt x="665" y="622"/>
                  </a:lnTo>
                  <a:lnTo>
                    <a:pt x="65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3912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8" y="93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58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0"/>
                  </a:lnTo>
                  <a:lnTo>
                    <a:pt x="44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1560" y="719280"/>
              <a:ext cx="252720" cy="389160"/>
            </a:xfrm>
            <a:custGeom>
              <a:avLst/>
              <a:gdLst/>
              <a:ahLst/>
              <a:rect l="0" t="0" r="r" b="b"/>
              <a:pathLst>
                <a:path w="702" h="1081">
                  <a:moveTo>
                    <a:pt x="702" y="74"/>
                  </a:moveTo>
                  <a:lnTo>
                    <a:pt x="702" y="92"/>
                  </a:lnTo>
                  <a:lnTo>
                    <a:pt x="578" y="202"/>
                  </a:lnTo>
                  <a:lnTo>
                    <a:pt x="477" y="224"/>
                  </a:lnTo>
                  <a:lnTo>
                    <a:pt x="282" y="194"/>
                  </a:lnTo>
                  <a:lnTo>
                    <a:pt x="317" y="587"/>
                  </a:lnTo>
                  <a:lnTo>
                    <a:pt x="362" y="909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6" y="816"/>
                  </a:lnTo>
                  <a:lnTo>
                    <a:pt x="273" y="458"/>
                  </a:lnTo>
                  <a:lnTo>
                    <a:pt x="216" y="480"/>
                  </a:lnTo>
                  <a:lnTo>
                    <a:pt x="149" y="436"/>
                  </a:lnTo>
                  <a:lnTo>
                    <a:pt x="17" y="246"/>
                  </a:lnTo>
                  <a:lnTo>
                    <a:pt x="0" y="141"/>
                  </a:lnTo>
                  <a:lnTo>
                    <a:pt x="0" y="61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44" y="132"/>
                  </a:lnTo>
                  <a:lnTo>
                    <a:pt x="52" y="233"/>
                  </a:lnTo>
                  <a:lnTo>
                    <a:pt x="141" y="321"/>
                  </a:lnTo>
                  <a:lnTo>
                    <a:pt x="180" y="299"/>
                  </a:lnTo>
                  <a:lnTo>
                    <a:pt x="180" y="105"/>
                  </a:lnTo>
                  <a:lnTo>
                    <a:pt x="264" y="149"/>
                  </a:lnTo>
                  <a:lnTo>
                    <a:pt x="393" y="171"/>
                  </a:lnTo>
                  <a:lnTo>
                    <a:pt x="512" y="163"/>
                  </a:lnTo>
                  <a:lnTo>
                    <a:pt x="622" y="105"/>
                  </a:lnTo>
                  <a:lnTo>
                    <a:pt x="702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21400" y="409680"/>
              <a:ext cx="74880" cy="208440"/>
            </a:xfrm>
            <a:custGeom>
              <a:avLst/>
              <a:gdLst/>
              <a:ahLst/>
              <a:rect l="0" t="0" r="r" b="b"/>
              <a:pathLst>
                <a:path w="208" h="579">
                  <a:moveTo>
                    <a:pt x="106" y="579"/>
                  </a:moveTo>
                  <a:lnTo>
                    <a:pt x="208" y="239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4" y="195"/>
                  </a:lnTo>
                  <a:lnTo>
                    <a:pt x="79" y="371"/>
                  </a:lnTo>
                  <a:lnTo>
                    <a:pt x="128" y="438"/>
                  </a:lnTo>
                  <a:lnTo>
                    <a:pt x="106" y="5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1852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7" y="512"/>
                  </a:moveTo>
                  <a:lnTo>
                    <a:pt x="149" y="596"/>
                  </a:lnTo>
                  <a:lnTo>
                    <a:pt x="136" y="490"/>
                  </a:lnTo>
                  <a:lnTo>
                    <a:pt x="163" y="321"/>
                  </a:lnTo>
                  <a:lnTo>
                    <a:pt x="251" y="282"/>
                  </a:lnTo>
                  <a:lnTo>
                    <a:pt x="264" y="472"/>
                  </a:lnTo>
                  <a:lnTo>
                    <a:pt x="525" y="149"/>
                  </a:lnTo>
                  <a:lnTo>
                    <a:pt x="591" y="127"/>
                  </a:lnTo>
                  <a:lnTo>
                    <a:pt x="543" y="255"/>
                  </a:lnTo>
                  <a:lnTo>
                    <a:pt x="706" y="313"/>
                  </a:lnTo>
                  <a:lnTo>
                    <a:pt x="830" y="185"/>
                  </a:lnTo>
                  <a:lnTo>
                    <a:pt x="891" y="224"/>
                  </a:lnTo>
                  <a:lnTo>
                    <a:pt x="838" y="335"/>
                  </a:lnTo>
                  <a:lnTo>
                    <a:pt x="913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3" y="472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63" y="706"/>
                  </a:lnTo>
                  <a:lnTo>
                    <a:pt x="966" y="759"/>
                  </a:lnTo>
                  <a:lnTo>
                    <a:pt x="1134" y="759"/>
                  </a:lnTo>
                  <a:lnTo>
                    <a:pt x="1116" y="710"/>
                  </a:lnTo>
                  <a:lnTo>
                    <a:pt x="1289" y="755"/>
                  </a:lnTo>
                  <a:lnTo>
                    <a:pt x="1263" y="631"/>
                  </a:lnTo>
                  <a:lnTo>
                    <a:pt x="1417" y="583"/>
                  </a:lnTo>
                  <a:lnTo>
                    <a:pt x="1302" y="521"/>
                  </a:lnTo>
                  <a:lnTo>
                    <a:pt x="1571" y="503"/>
                  </a:lnTo>
                  <a:lnTo>
                    <a:pt x="1342" y="380"/>
                  </a:lnTo>
                  <a:lnTo>
                    <a:pt x="1076" y="357"/>
                  </a:lnTo>
                  <a:lnTo>
                    <a:pt x="1289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9"/>
                  </a:lnTo>
                  <a:lnTo>
                    <a:pt x="693" y="202"/>
                  </a:lnTo>
                  <a:lnTo>
                    <a:pt x="803" y="0"/>
                  </a:lnTo>
                  <a:lnTo>
                    <a:pt x="477" y="114"/>
                  </a:lnTo>
                  <a:lnTo>
                    <a:pt x="291" y="366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3"/>
                  </a:lnTo>
                  <a:lnTo>
                    <a:pt x="0" y="472"/>
                  </a:lnTo>
                  <a:lnTo>
                    <a:pt x="35" y="631"/>
                  </a:lnTo>
                  <a:lnTo>
                    <a:pt x="17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2360" y="372960"/>
              <a:ext cx="159120" cy="82800"/>
            </a:xfrm>
            <a:custGeom>
              <a:avLst/>
              <a:gdLst/>
              <a:ahLst/>
              <a:rect l="0" t="0" r="r" b="b"/>
              <a:pathLst>
                <a:path w="442" h="230">
                  <a:moveTo>
                    <a:pt x="0" y="230"/>
                  </a:moveTo>
                  <a:lnTo>
                    <a:pt x="168" y="0"/>
                  </a:lnTo>
                  <a:lnTo>
                    <a:pt x="168" y="155"/>
                  </a:lnTo>
                  <a:lnTo>
                    <a:pt x="225" y="88"/>
                  </a:lnTo>
                  <a:lnTo>
                    <a:pt x="278" y="177"/>
                  </a:lnTo>
                  <a:lnTo>
                    <a:pt x="442" y="217"/>
                  </a:lnTo>
                  <a:lnTo>
                    <a:pt x="269" y="186"/>
                  </a:lnTo>
                  <a:lnTo>
                    <a:pt x="212" y="133"/>
                  </a:lnTo>
                  <a:lnTo>
                    <a:pt x="142" y="186"/>
                  </a:lnTo>
                  <a:lnTo>
                    <a:pt x="142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2616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18" y="102"/>
                  </a:lnTo>
                  <a:lnTo>
                    <a:pt x="425" y="128"/>
                  </a:lnTo>
                  <a:lnTo>
                    <a:pt x="482" y="74"/>
                  </a:lnTo>
                  <a:lnTo>
                    <a:pt x="535" y="186"/>
                  </a:lnTo>
                  <a:lnTo>
                    <a:pt x="495" y="208"/>
                  </a:lnTo>
                  <a:lnTo>
                    <a:pt x="456" y="172"/>
                  </a:lnTo>
                  <a:lnTo>
                    <a:pt x="380" y="247"/>
                  </a:lnTo>
                  <a:lnTo>
                    <a:pt x="252" y="341"/>
                  </a:lnTo>
                  <a:lnTo>
                    <a:pt x="186" y="341"/>
                  </a:lnTo>
                  <a:lnTo>
                    <a:pt x="101" y="288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18" y="275"/>
                  </a:lnTo>
                  <a:lnTo>
                    <a:pt x="375" y="159"/>
                  </a:lnTo>
                  <a:lnTo>
                    <a:pt x="287" y="142"/>
                  </a:lnTo>
                  <a:lnTo>
                    <a:pt x="234" y="128"/>
                  </a:lnTo>
                  <a:lnTo>
                    <a:pt x="88" y="150"/>
                  </a:lnTo>
                  <a:lnTo>
                    <a:pt x="83" y="239"/>
                  </a:lnTo>
                  <a:lnTo>
                    <a:pt x="44" y="177"/>
                  </a:lnTo>
                  <a:lnTo>
                    <a:pt x="0" y="262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0240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6" y="0"/>
                  </a:moveTo>
                  <a:lnTo>
                    <a:pt x="1076" y="0"/>
                  </a:lnTo>
                  <a:lnTo>
                    <a:pt x="1143" y="74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60" y="543"/>
                  </a:lnTo>
                  <a:lnTo>
                    <a:pt x="834" y="543"/>
                  </a:lnTo>
                  <a:lnTo>
                    <a:pt x="834" y="852"/>
                  </a:lnTo>
                  <a:lnTo>
                    <a:pt x="874" y="1076"/>
                  </a:lnTo>
                  <a:lnTo>
                    <a:pt x="874" y="1263"/>
                  </a:lnTo>
                  <a:lnTo>
                    <a:pt x="706" y="1443"/>
                  </a:lnTo>
                  <a:lnTo>
                    <a:pt x="467" y="1571"/>
                  </a:lnTo>
                  <a:lnTo>
                    <a:pt x="313" y="1571"/>
                  </a:lnTo>
                  <a:lnTo>
                    <a:pt x="242" y="1532"/>
                  </a:lnTo>
                  <a:lnTo>
                    <a:pt x="136" y="1316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46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4" y="97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6448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1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9" y="503"/>
                  </a:lnTo>
                  <a:lnTo>
                    <a:pt x="618" y="618"/>
                  </a:lnTo>
                  <a:lnTo>
                    <a:pt x="738" y="600"/>
                  </a:lnTo>
                  <a:lnTo>
                    <a:pt x="875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8" y="1324"/>
                  </a:lnTo>
                  <a:lnTo>
                    <a:pt x="671" y="1452"/>
                  </a:lnTo>
                  <a:lnTo>
                    <a:pt x="707" y="1289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80" y="988"/>
                  </a:lnTo>
                  <a:lnTo>
                    <a:pt x="596" y="1063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5" y="944"/>
                  </a:lnTo>
                  <a:lnTo>
                    <a:pt x="866" y="799"/>
                  </a:lnTo>
                  <a:lnTo>
                    <a:pt x="795" y="719"/>
                  </a:lnTo>
                  <a:lnTo>
                    <a:pt x="680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2"/>
                  </a:lnTo>
                  <a:lnTo>
                    <a:pt x="314" y="468"/>
                  </a:lnTo>
                  <a:lnTo>
                    <a:pt x="220" y="308"/>
                  </a:lnTo>
                  <a:lnTo>
                    <a:pt x="171" y="61"/>
                  </a:lnTo>
                  <a:lnTo>
                    <a:pt x="88" y="44"/>
                  </a:lnTo>
                  <a:lnTo>
                    <a:pt x="48" y="114"/>
                  </a:lnTo>
                  <a:lnTo>
                    <a:pt x="48" y="277"/>
                  </a:lnTo>
                  <a:lnTo>
                    <a:pt x="79" y="468"/>
                  </a:lnTo>
                  <a:lnTo>
                    <a:pt x="189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8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5720" y="1386000"/>
              <a:ext cx="219600" cy="417960"/>
            </a:xfrm>
            <a:custGeom>
              <a:avLst/>
              <a:gdLst/>
              <a:ahLst/>
              <a:rect l="0" t="0" r="r" b="b"/>
              <a:pathLst>
                <a:path w="610" h="1161">
                  <a:moveTo>
                    <a:pt x="610" y="0"/>
                  </a:moveTo>
                  <a:lnTo>
                    <a:pt x="482" y="74"/>
                  </a:lnTo>
                  <a:lnTo>
                    <a:pt x="336" y="362"/>
                  </a:lnTo>
                  <a:lnTo>
                    <a:pt x="190" y="543"/>
                  </a:lnTo>
                  <a:lnTo>
                    <a:pt x="17" y="763"/>
                  </a:lnTo>
                  <a:lnTo>
                    <a:pt x="0" y="879"/>
                  </a:lnTo>
                  <a:lnTo>
                    <a:pt x="35" y="980"/>
                  </a:lnTo>
                  <a:lnTo>
                    <a:pt x="119" y="980"/>
                  </a:lnTo>
                  <a:lnTo>
                    <a:pt x="234" y="879"/>
                  </a:lnTo>
                  <a:lnTo>
                    <a:pt x="322" y="671"/>
                  </a:lnTo>
                  <a:lnTo>
                    <a:pt x="446" y="543"/>
                  </a:lnTo>
                  <a:lnTo>
                    <a:pt x="446" y="706"/>
                  </a:lnTo>
                  <a:lnTo>
                    <a:pt x="428" y="865"/>
                  </a:lnTo>
                  <a:lnTo>
                    <a:pt x="300" y="1069"/>
                  </a:lnTo>
                  <a:lnTo>
                    <a:pt x="300" y="1130"/>
                  </a:lnTo>
                  <a:lnTo>
                    <a:pt x="428" y="1161"/>
                  </a:lnTo>
                  <a:lnTo>
                    <a:pt x="336" y="1108"/>
                  </a:lnTo>
                  <a:lnTo>
                    <a:pt x="349" y="1069"/>
                  </a:lnTo>
                  <a:lnTo>
                    <a:pt x="437" y="914"/>
                  </a:lnTo>
                  <a:lnTo>
                    <a:pt x="504" y="644"/>
                  </a:lnTo>
                  <a:lnTo>
                    <a:pt x="460" y="486"/>
                  </a:lnTo>
                  <a:lnTo>
                    <a:pt x="362" y="583"/>
                  </a:lnTo>
                  <a:lnTo>
                    <a:pt x="145" y="923"/>
                  </a:lnTo>
                  <a:lnTo>
                    <a:pt x="83" y="936"/>
                  </a:lnTo>
                  <a:lnTo>
                    <a:pt x="35" y="901"/>
                  </a:lnTo>
                  <a:lnTo>
                    <a:pt x="35" y="794"/>
                  </a:lnTo>
                  <a:lnTo>
                    <a:pt x="119" y="658"/>
                  </a:lnTo>
                  <a:lnTo>
                    <a:pt x="362" y="371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9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6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16"/>
                  </a:lnTo>
                  <a:lnTo>
                    <a:pt x="212" y="309"/>
                  </a:lnTo>
                  <a:lnTo>
                    <a:pt x="123" y="411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34040" y="1633680"/>
              <a:ext cx="90720" cy="179640"/>
            </a:xfrm>
            <a:custGeom>
              <a:avLst/>
              <a:gdLst/>
              <a:ahLst/>
              <a:rect l="0" t="0" r="r" b="b"/>
              <a:pathLst>
                <a:path w="252" h="499">
                  <a:moveTo>
                    <a:pt x="0" y="371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3" y="472"/>
                  </a:lnTo>
                  <a:lnTo>
                    <a:pt x="199" y="472"/>
                  </a:lnTo>
                  <a:lnTo>
                    <a:pt x="234" y="52"/>
                  </a:lnTo>
                  <a:lnTo>
                    <a:pt x="252" y="0"/>
                  </a:lnTo>
                  <a:lnTo>
                    <a:pt x="234" y="327"/>
                  </a:lnTo>
                  <a:lnTo>
                    <a:pt x="199" y="499"/>
                  </a:lnTo>
                  <a:lnTo>
                    <a:pt x="97" y="499"/>
                  </a:lnTo>
                  <a:lnTo>
                    <a:pt x="57" y="149"/>
                  </a:lnTo>
                  <a:lnTo>
                    <a:pt x="30" y="202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7560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8"/>
                  </a:moveTo>
                  <a:lnTo>
                    <a:pt x="202" y="511"/>
                  </a:lnTo>
                  <a:lnTo>
                    <a:pt x="411" y="463"/>
                  </a:lnTo>
                  <a:lnTo>
                    <a:pt x="605" y="0"/>
                  </a:lnTo>
                  <a:lnTo>
                    <a:pt x="605" y="136"/>
                  </a:lnTo>
                  <a:lnTo>
                    <a:pt x="437" y="489"/>
                  </a:lnTo>
                  <a:lnTo>
                    <a:pt x="220" y="555"/>
                  </a:lnTo>
                  <a:lnTo>
                    <a:pt x="189" y="728"/>
                  </a:lnTo>
                  <a:lnTo>
                    <a:pt x="268" y="728"/>
                  </a:lnTo>
                  <a:lnTo>
                    <a:pt x="79" y="799"/>
                  </a:lnTo>
                  <a:lnTo>
                    <a:pt x="35" y="944"/>
                  </a:lnTo>
                  <a:lnTo>
                    <a:pt x="48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7" y="838"/>
                  </a:lnTo>
                  <a:lnTo>
                    <a:pt x="88" y="728"/>
                  </a:lnTo>
                  <a:lnTo>
                    <a:pt x="158" y="7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2320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44"/>
                  </a:lnTo>
                  <a:lnTo>
                    <a:pt x="357" y="154"/>
                  </a:lnTo>
                  <a:lnTo>
                    <a:pt x="357" y="255"/>
                  </a:lnTo>
                  <a:lnTo>
                    <a:pt x="246" y="440"/>
                  </a:lnTo>
                  <a:lnTo>
                    <a:pt x="268" y="582"/>
                  </a:lnTo>
                  <a:lnTo>
                    <a:pt x="605" y="728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10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31" y="1266"/>
                  </a:lnTo>
                  <a:lnTo>
                    <a:pt x="971" y="1209"/>
                  </a:lnTo>
                  <a:lnTo>
                    <a:pt x="953" y="1112"/>
                  </a:lnTo>
                  <a:lnTo>
                    <a:pt x="583" y="812"/>
                  </a:lnTo>
                  <a:lnTo>
                    <a:pt x="530" y="728"/>
                  </a:lnTo>
                  <a:lnTo>
                    <a:pt x="246" y="658"/>
                  </a:lnTo>
                  <a:lnTo>
                    <a:pt x="194" y="728"/>
                  </a:lnTo>
                  <a:lnTo>
                    <a:pt x="0" y="852"/>
                  </a:lnTo>
                  <a:lnTo>
                    <a:pt x="180" y="706"/>
                  </a:lnTo>
                  <a:lnTo>
                    <a:pt x="194" y="617"/>
                  </a:lnTo>
                  <a:lnTo>
                    <a:pt x="194" y="410"/>
                  </a:lnTo>
                  <a:lnTo>
                    <a:pt x="321" y="255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5160" y="1290600"/>
              <a:ext cx="309960" cy="276480"/>
            </a:xfrm>
            <a:custGeom>
              <a:avLst/>
              <a:gdLst/>
              <a:ahLst/>
              <a:rect l="0" t="0" r="r" b="b"/>
              <a:pathLst>
                <a:path w="861" h="768">
                  <a:moveTo>
                    <a:pt x="650" y="0"/>
                  </a:moveTo>
                  <a:lnTo>
                    <a:pt x="622" y="61"/>
                  </a:lnTo>
                  <a:lnTo>
                    <a:pt x="751" y="317"/>
                  </a:lnTo>
                  <a:lnTo>
                    <a:pt x="813" y="583"/>
                  </a:lnTo>
                  <a:lnTo>
                    <a:pt x="742" y="583"/>
                  </a:lnTo>
                  <a:lnTo>
                    <a:pt x="613" y="468"/>
                  </a:lnTo>
                  <a:lnTo>
                    <a:pt x="494" y="224"/>
                  </a:lnTo>
                  <a:lnTo>
                    <a:pt x="406" y="185"/>
                  </a:lnTo>
                  <a:lnTo>
                    <a:pt x="419" y="317"/>
                  </a:lnTo>
                  <a:lnTo>
                    <a:pt x="503" y="411"/>
                  </a:lnTo>
                  <a:lnTo>
                    <a:pt x="503" y="600"/>
                  </a:lnTo>
                  <a:lnTo>
                    <a:pt x="441" y="728"/>
                  </a:lnTo>
                  <a:lnTo>
                    <a:pt x="362" y="680"/>
                  </a:lnTo>
                  <a:lnTo>
                    <a:pt x="265" y="468"/>
                  </a:lnTo>
                  <a:lnTo>
                    <a:pt x="243" y="317"/>
                  </a:lnTo>
                  <a:lnTo>
                    <a:pt x="185" y="273"/>
                  </a:lnTo>
                  <a:lnTo>
                    <a:pt x="171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71" y="755"/>
                  </a:lnTo>
                  <a:lnTo>
                    <a:pt x="207" y="666"/>
                  </a:lnTo>
                  <a:lnTo>
                    <a:pt x="230" y="379"/>
                  </a:lnTo>
                  <a:lnTo>
                    <a:pt x="252" y="494"/>
                  </a:lnTo>
                  <a:lnTo>
                    <a:pt x="349" y="737"/>
                  </a:lnTo>
                  <a:lnTo>
                    <a:pt x="450" y="768"/>
                  </a:lnTo>
                  <a:lnTo>
                    <a:pt x="534" y="666"/>
                  </a:lnTo>
                  <a:lnTo>
                    <a:pt x="534" y="424"/>
                  </a:lnTo>
                  <a:lnTo>
                    <a:pt x="742" y="622"/>
                  </a:lnTo>
                  <a:lnTo>
                    <a:pt x="848" y="622"/>
                  </a:lnTo>
                  <a:lnTo>
                    <a:pt x="861" y="494"/>
                  </a:lnTo>
                  <a:lnTo>
                    <a:pt x="782" y="251"/>
                  </a:lnTo>
                  <a:lnTo>
                    <a:pt x="650" y="52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8840" y="1003320"/>
              <a:ext cx="1373400" cy="1128960"/>
            </a:xfrm>
            <a:custGeom>
              <a:avLst/>
              <a:gdLst/>
              <a:ahLst/>
              <a:rect l="0" t="0" r="r" b="b"/>
              <a:pathLst>
                <a:path w="3815" h="3136">
                  <a:moveTo>
                    <a:pt x="1375" y="268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5"/>
                  </a:lnTo>
                  <a:lnTo>
                    <a:pt x="948" y="299"/>
                  </a:lnTo>
                  <a:lnTo>
                    <a:pt x="908" y="502"/>
                  </a:lnTo>
                  <a:lnTo>
                    <a:pt x="564" y="754"/>
                  </a:lnTo>
                  <a:lnTo>
                    <a:pt x="586" y="859"/>
                  </a:lnTo>
                  <a:lnTo>
                    <a:pt x="507" y="952"/>
                  </a:lnTo>
                  <a:lnTo>
                    <a:pt x="507" y="1036"/>
                  </a:lnTo>
                  <a:lnTo>
                    <a:pt x="604" y="1274"/>
                  </a:lnTo>
                  <a:lnTo>
                    <a:pt x="612" y="1565"/>
                  </a:lnTo>
                  <a:lnTo>
                    <a:pt x="546" y="1839"/>
                  </a:lnTo>
                  <a:lnTo>
                    <a:pt x="299" y="2003"/>
                  </a:lnTo>
                  <a:lnTo>
                    <a:pt x="268" y="2223"/>
                  </a:lnTo>
                  <a:lnTo>
                    <a:pt x="189" y="2223"/>
                  </a:lnTo>
                  <a:lnTo>
                    <a:pt x="154" y="2042"/>
                  </a:lnTo>
                  <a:lnTo>
                    <a:pt x="79" y="2042"/>
                  </a:lnTo>
                  <a:lnTo>
                    <a:pt x="48" y="2236"/>
                  </a:lnTo>
                  <a:lnTo>
                    <a:pt x="0" y="2294"/>
                  </a:lnTo>
                  <a:lnTo>
                    <a:pt x="167" y="2558"/>
                  </a:lnTo>
                  <a:lnTo>
                    <a:pt x="286" y="2571"/>
                  </a:lnTo>
                  <a:lnTo>
                    <a:pt x="507" y="2770"/>
                  </a:lnTo>
                  <a:lnTo>
                    <a:pt x="701" y="2796"/>
                  </a:lnTo>
                  <a:lnTo>
                    <a:pt x="811" y="2690"/>
                  </a:lnTo>
                  <a:lnTo>
                    <a:pt x="1071" y="2302"/>
                  </a:lnTo>
                  <a:lnTo>
                    <a:pt x="1093" y="2827"/>
                  </a:lnTo>
                  <a:lnTo>
                    <a:pt x="1071" y="3136"/>
                  </a:lnTo>
                  <a:lnTo>
                    <a:pt x="3277" y="3136"/>
                  </a:lnTo>
                  <a:lnTo>
                    <a:pt x="3114" y="2796"/>
                  </a:lnTo>
                  <a:lnTo>
                    <a:pt x="3039" y="2510"/>
                  </a:lnTo>
                  <a:lnTo>
                    <a:pt x="3017" y="2073"/>
                  </a:lnTo>
                  <a:lnTo>
                    <a:pt x="3145" y="2174"/>
                  </a:lnTo>
                  <a:lnTo>
                    <a:pt x="3277" y="2174"/>
                  </a:lnTo>
                  <a:lnTo>
                    <a:pt x="3458" y="2060"/>
                  </a:lnTo>
                  <a:lnTo>
                    <a:pt x="3577" y="2042"/>
                  </a:lnTo>
                  <a:lnTo>
                    <a:pt x="3652" y="1928"/>
                  </a:lnTo>
                  <a:lnTo>
                    <a:pt x="3705" y="1628"/>
                  </a:lnTo>
                  <a:lnTo>
                    <a:pt x="3815" y="1512"/>
                  </a:lnTo>
                  <a:lnTo>
                    <a:pt x="3762" y="1419"/>
                  </a:lnTo>
                  <a:lnTo>
                    <a:pt x="3674" y="1419"/>
                  </a:lnTo>
                  <a:lnTo>
                    <a:pt x="3612" y="1481"/>
                  </a:lnTo>
                  <a:lnTo>
                    <a:pt x="3546" y="1499"/>
                  </a:lnTo>
                  <a:lnTo>
                    <a:pt x="3471" y="1419"/>
                  </a:lnTo>
                  <a:lnTo>
                    <a:pt x="3374" y="1406"/>
                  </a:lnTo>
                  <a:lnTo>
                    <a:pt x="3202" y="1296"/>
                  </a:lnTo>
                  <a:lnTo>
                    <a:pt x="3092" y="1177"/>
                  </a:lnTo>
                  <a:lnTo>
                    <a:pt x="3074" y="1036"/>
                  </a:lnTo>
                  <a:lnTo>
                    <a:pt x="3092" y="899"/>
                  </a:lnTo>
                  <a:lnTo>
                    <a:pt x="3167" y="784"/>
                  </a:lnTo>
                  <a:lnTo>
                    <a:pt x="3259" y="683"/>
                  </a:lnTo>
                  <a:lnTo>
                    <a:pt x="3250" y="502"/>
                  </a:lnTo>
                  <a:lnTo>
                    <a:pt x="3250" y="374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42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0"/>
                  </a:lnTo>
                  <a:lnTo>
                    <a:pt x="2576" y="163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9" y="330"/>
                  </a:lnTo>
                  <a:lnTo>
                    <a:pt x="2399" y="520"/>
                  </a:lnTo>
                  <a:lnTo>
                    <a:pt x="2377" y="652"/>
                  </a:lnTo>
                  <a:lnTo>
                    <a:pt x="2285" y="811"/>
                  </a:lnTo>
                  <a:lnTo>
                    <a:pt x="2166" y="1045"/>
                  </a:lnTo>
                  <a:lnTo>
                    <a:pt x="2073" y="1327"/>
                  </a:lnTo>
                  <a:lnTo>
                    <a:pt x="2064" y="1499"/>
                  </a:lnTo>
                  <a:lnTo>
                    <a:pt x="2016" y="1641"/>
                  </a:lnTo>
                  <a:lnTo>
                    <a:pt x="1963" y="1786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1"/>
                  </a:lnTo>
                  <a:lnTo>
                    <a:pt x="2064" y="2510"/>
                  </a:lnTo>
                  <a:lnTo>
                    <a:pt x="1936" y="2589"/>
                  </a:lnTo>
                  <a:lnTo>
                    <a:pt x="1777" y="2638"/>
                  </a:lnTo>
                  <a:lnTo>
                    <a:pt x="1613" y="2651"/>
                  </a:lnTo>
                  <a:lnTo>
                    <a:pt x="1508" y="2651"/>
                  </a:lnTo>
                  <a:lnTo>
                    <a:pt x="1437" y="2629"/>
                  </a:lnTo>
                  <a:lnTo>
                    <a:pt x="1437" y="2435"/>
                  </a:lnTo>
                  <a:lnTo>
                    <a:pt x="1437" y="2161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2" y="1446"/>
                  </a:lnTo>
                  <a:lnTo>
                    <a:pt x="1283" y="1168"/>
                  </a:lnTo>
                  <a:lnTo>
                    <a:pt x="1327" y="926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5" y="449"/>
                  </a:lnTo>
                  <a:lnTo>
                    <a:pt x="1375" y="317"/>
                  </a:lnTo>
                  <a:lnTo>
                    <a:pt x="1397" y="277"/>
                  </a:lnTo>
                  <a:lnTo>
                    <a:pt x="1375" y="2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3800" y="1230480"/>
              <a:ext cx="173520" cy="732240"/>
            </a:xfrm>
            <a:custGeom>
              <a:avLst/>
              <a:gdLst/>
              <a:ahLst/>
              <a:rect l="0" t="0" r="r" b="b"/>
              <a:pathLst>
                <a:path w="482" h="2034">
                  <a:moveTo>
                    <a:pt x="190" y="26"/>
                  </a:moveTo>
                  <a:lnTo>
                    <a:pt x="61" y="88"/>
                  </a:lnTo>
                  <a:lnTo>
                    <a:pt x="74" y="282"/>
                  </a:lnTo>
                  <a:lnTo>
                    <a:pt x="168" y="343"/>
                  </a:lnTo>
                  <a:lnTo>
                    <a:pt x="52" y="556"/>
                  </a:lnTo>
                  <a:lnTo>
                    <a:pt x="0" y="794"/>
                  </a:lnTo>
                  <a:lnTo>
                    <a:pt x="0" y="1019"/>
                  </a:lnTo>
                  <a:lnTo>
                    <a:pt x="52" y="1222"/>
                  </a:lnTo>
                  <a:lnTo>
                    <a:pt x="101" y="1465"/>
                  </a:lnTo>
                  <a:lnTo>
                    <a:pt x="101" y="1611"/>
                  </a:lnTo>
                  <a:lnTo>
                    <a:pt x="52" y="1783"/>
                  </a:lnTo>
                  <a:lnTo>
                    <a:pt x="247" y="2034"/>
                  </a:lnTo>
                  <a:lnTo>
                    <a:pt x="331" y="1990"/>
                  </a:lnTo>
                  <a:lnTo>
                    <a:pt x="385" y="1823"/>
                  </a:lnTo>
                  <a:lnTo>
                    <a:pt x="473" y="1598"/>
                  </a:lnTo>
                  <a:lnTo>
                    <a:pt x="482" y="1478"/>
                  </a:lnTo>
                  <a:lnTo>
                    <a:pt x="407" y="1253"/>
                  </a:lnTo>
                  <a:lnTo>
                    <a:pt x="318" y="1037"/>
                  </a:lnTo>
                  <a:lnTo>
                    <a:pt x="283" y="887"/>
                  </a:lnTo>
                  <a:lnTo>
                    <a:pt x="283" y="737"/>
                  </a:lnTo>
                  <a:lnTo>
                    <a:pt x="318" y="605"/>
                  </a:lnTo>
                  <a:lnTo>
                    <a:pt x="385" y="445"/>
                  </a:lnTo>
                  <a:lnTo>
                    <a:pt x="385" y="374"/>
                  </a:lnTo>
                  <a:lnTo>
                    <a:pt x="349" y="313"/>
                  </a:lnTo>
                  <a:lnTo>
                    <a:pt x="438" y="233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0"/>
                  </a:lnTo>
                  <a:lnTo>
                    <a:pt x="331" y="282"/>
                  </a:lnTo>
                  <a:lnTo>
                    <a:pt x="363" y="374"/>
                  </a:lnTo>
                  <a:lnTo>
                    <a:pt x="349" y="445"/>
                  </a:lnTo>
                  <a:lnTo>
                    <a:pt x="261" y="631"/>
                  </a:lnTo>
                  <a:lnTo>
                    <a:pt x="247" y="812"/>
                  </a:lnTo>
                  <a:lnTo>
                    <a:pt x="269" y="988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5"/>
                  </a:lnTo>
                  <a:lnTo>
                    <a:pt x="363" y="1783"/>
                  </a:lnTo>
                  <a:lnTo>
                    <a:pt x="269" y="1990"/>
                  </a:lnTo>
                  <a:lnTo>
                    <a:pt x="155" y="1880"/>
                  </a:lnTo>
                  <a:lnTo>
                    <a:pt x="114" y="1783"/>
                  </a:lnTo>
                  <a:lnTo>
                    <a:pt x="124" y="1585"/>
                  </a:lnTo>
                  <a:lnTo>
                    <a:pt x="114" y="1385"/>
                  </a:lnTo>
                  <a:lnTo>
                    <a:pt x="52" y="1121"/>
                  </a:lnTo>
                  <a:lnTo>
                    <a:pt x="35" y="931"/>
                  </a:lnTo>
                  <a:lnTo>
                    <a:pt x="52" y="724"/>
                  </a:lnTo>
                  <a:lnTo>
                    <a:pt x="101" y="525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9160" y="372960"/>
              <a:ext cx="273240" cy="357480"/>
            </a:xfrm>
            <a:custGeom>
              <a:avLst/>
              <a:gdLst/>
              <a:ahLst/>
              <a:rect l="0" t="0" r="r" b="b"/>
              <a:pathLst>
                <a:path w="759" h="993">
                  <a:moveTo>
                    <a:pt x="127" y="255"/>
                  </a:moveTo>
                  <a:lnTo>
                    <a:pt x="238" y="233"/>
                  </a:lnTo>
                  <a:lnTo>
                    <a:pt x="348" y="242"/>
                  </a:lnTo>
                  <a:lnTo>
                    <a:pt x="437" y="277"/>
                  </a:lnTo>
                  <a:lnTo>
                    <a:pt x="486" y="335"/>
                  </a:lnTo>
                  <a:lnTo>
                    <a:pt x="508" y="388"/>
                  </a:lnTo>
                  <a:lnTo>
                    <a:pt x="508" y="436"/>
                  </a:lnTo>
                  <a:lnTo>
                    <a:pt x="481" y="471"/>
                  </a:lnTo>
                  <a:lnTo>
                    <a:pt x="433" y="499"/>
                  </a:lnTo>
                  <a:lnTo>
                    <a:pt x="380" y="499"/>
                  </a:lnTo>
                  <a:lnTo>
                    <a:pt x="308" y="485"/>
                  </a:lnTo>
                  <a:lnTo>
                    <a:pt x="242" y="440"/>
                  </a:lnTo>
                  <a:lnTo>
                    <a:pt x="189" y="401"/>
                  </a:lnTo>
                  <a:lnTo>
                    <a:pt x="167" y="530"/>
                  </a:lnTo>
                  <a:lnTo>
                    <a:pt x="127" y="618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21" y="719"/>
                  </a:lnTo>
                  <a:lnTo>
                    <a:pt x="481" y="746"/>
                  </a:lnTo>
                  <a:lnTo>
                    <a:pt x="583" y="724"/>
                  </a:lnTo>
                  <a:lnTo>
                    <a:pt x="675" y="666"/>
                  </a:lnTo>
                  <a:lnTo>
                    <a:pt x="728" y="591"/>
                  </a:lnTo>
                  <a:lnTo>
                    <a:pt x="759" y="489"/>
                  </a:lnTo>
                  <a:lnTo>
                    <a:pt x="759" y="383"/>
                  </a:lnTo>
                  <a:lnTo>
                    <a:pt x="728" y="268"/>
                  </a:lnTo>
                  <a:lnTo>
                    <a:pt x="671" y="154"/>
                  </a:lnTo>
                  <a:lnTo>
                    <a:pt x="591" y="66"/>
                  </a:lnTo>
                  <a:lnTo>
                    <a:pt x="494" y="26"/>
                  </a:lnTo>
                  <a:lnTo>
                    <a:pt x="384" y="0"/>
                  </a:lnTo>
                  <a:lnTo>
                    <a:pt x="251" y="0"/>
                  </a:lnTo>
                  <a:lnTo>
                    <a:pt x="101" y="30"/>
                  </a:lnTo>
                  <a:lnTo>
                    <a:pt x="127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8984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44" y="190"/>
                  </a:lnTo>
                  <a:lnTo>
                    <a:pt x="270" y="150"/>
                  </a:lnTo>
                  <a:lnTo>
                    <a:pt x="257" y="106"/>
                  </a:lnTo>
                  <a:lnTo>
                    <a:pt x="222" y="48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981080" y="274320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371600" y="114300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posal of Deprecia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9528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record depreciation expense for the partial year up to the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Depreciation Expense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up to date of disposal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6,500 - $500 / 10 x 9/12 = $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066680" y="4572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ard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67652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th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 Gain or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205740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no gain 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289548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609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ss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9480" y="198108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66680" y="45720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48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97180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28600"/>
            <a:ext cx="1903680" cy="1903680"/>
            <a:chOff x="838080" y="228600"/>
            <a:chExt cx="1903680" cy="1903680"/>
          </a:xfrm>
        </p:grpSpPr>
        <p:sp>
          <p:nvSpPr>
            <p:cNvPr id="448" name=""/>
            <p:cNvSpPr/>
            <p:nvPr/>
          </p:nvSpPr>
          <p:spPr>
            <a:xfrm>
              <a:off x="843120" y="1162080"/>
              <a:ext cx="462240" cy="667080"/>
            </a:xfrm>
            <a:custGeom>
              <a:avLst/>
              <a:gdLst/>
              <a:ahLst/>
              <a:rect l="0" t="0" r="r" b="b"/>
              <a:pathLst>
                <a:path w="1284" h="1853">
                  <a:moveTo>
                    <a:pt x="515" y="0"/>
                  </a:moveTo>
                  <a:lnTo>
                    <a:pt x="445" y="79"/>
                  </a:lnTo>
                  <a:lnTo>
                    <a:pt x="445" y="321"/>
                  </a:lnTo>
                  <a:lnTo>
                    <a:pt x="515" y="498"/>
                  </a:lnTo>
                  <a:lnTo>
                    <a:pt x="586" y="586"/>
                  </a:lnTo>
                  <a:lnTo>
                    <a:pt x="471" y="705"/>
                  </a:lnTo>
                  <a:lnTo>
                    <a:pt x="321" y="975"/>
                  </a:lnTo>
                  <a:lnTo>
                    <a:pt x="26" y="1403"/>
                  </a:lnTo>
                  <a:lnTo>
                    <a:pt x="0" y="1500"/>
                  </a:lnTo>
                  <a:lnTo>
                    <a:pt x="26" y="1588"/>
                  </a:lnTo>
                  <a:lnTo>
                    <a:pt x="119" y="1588"/>
                  </a:lnTo>
                  <a:lnTo>
                    <a:pt x="194" y="1487"/>
                  </a:lnTo>
                  <a:lnTo>
                    <a:pt x="321" y="1248"/>
                  </a:lnTo>
                  <a:lnTo>
                    <a:pt x="401" y="1147"/>
                  </a:lnTo>
                  <a:lnTo>
                    <a:pt x="445" y="1306"/>
                  </a:lnTo>
                  <a:lnTo>
                    <a:pt x="414" y="1473"/>
                  </a:lnTo>
                  <a:lnTo>
                    <a:pt x="286" y="1716"/>
                  </a:lnTo>
                  <a:lnTo>
                    <a:pt x="321" y="1778"/>
                  </a:lnTo>
                  <a:lnTo>
                    <a:pt x="401" y="1760"/>
                  </a:lnTo>
                  <a:lnTo>
                    <a:pt x="555" y="1632"/>
                  </a:lnTo>
                  <a:lnTo>
                    <a:pt x="684" y="1416"/>
                  </a:lnTo>
                  <a:lnTo>
                    <a:pt x="684" y="1791"/>
                  </a:lnTo>
                  <a:lnTo>
                    <a:pt x="838" y="1853"/>
                  </a:lnTo>
                  <a:lnTo>
                    <a:pt x="927" y="1623"/>
                  </a:lnTo>
                  <a:lnTo>
                    <a:pt x="1006" y="1839"/>
                  </a:lnTo>
                  <a:lnTo>
                    <a:pt x="1068" y="1778"/>
                  </a:lnTo>
                  <a:lnTo>
                    <a:pt x="1094" y="1345"/>
                  </a:lnTo>
                  <a:lnTo>
                    <a:pt x="1284" y="940"/>
                  </a:lnTo>
                  <a:lnTo>
                    <a:pt x="1244" y="705"/>
                  </a:lnTo>
                  <a:lnTo>
                    <a:pt x="1107" y="617"/>
                  </a:lnTo>
                  <a:lnTo>
                    <a:pt x="975" y="630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86" y="44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31920" y="1433520"/>
              <a:ext cx="135360" cy="321120"/>
            </a:xfrm>
            <a:custGeom>
              <a:avLst/>
              <a:gdLst/>
              <a:ahLst/>
              <a:rect l="0" t="0" r="r" b="b"/>
              <a:pathLst>
                <a:path w="376" h="892">
                  <a:moveTo>
                    <a:pt x="186" y="0"/>
                  </a:moveTo>
                  <a:lnTo>
                    <a:pt x="376" y="230"/>
                  </a:lnTo>
                  <a:lnTo>
                    <a:pt x="284" y="734"/>
                  </a:lnTo>
                  <a:lnTo>
                    <a:pt x="0" y="892"/>
                  </a:lnTo>
                  <a:lnTo>
                    <a:pt x="0" y="636"/>
                  </a:lnTo>
                  <a:lnTo>
                    <a:pt x="115" y="380"/>
                  </a:lnTo>
                  <a:lnTo>
                    <a:pt x="186" y="18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6080" y="124776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27"/>
                  </a:lnTo>
                  <a:lnTo>
                    <a:pt x="423" y="247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5"/>
                  </a:lnTo>
                  <a:lnTo>
                    <a:pt x="609" y="808"/>
                  </a:lnTo>
                  <a:lnTo>
                    <a:pt x="180" y="637"/>
                  </a:lnTo>
                  <a:lnTo>
                    <a:pt x="0" y="322"/>
                  </a:lnTo>
                  <a:lnTo>
                    <a:pt x="211" y="1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54320" y="91908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1"/>
                  </a:lnTo>
                  <a:lnTo>
                    <a:pt x="224" y="1742"/>
                  </a:lnTo>
                  <a:lnTo>
                    <a:pt x="415" y="1742"/>
                  </a:lnTo>
                  <a:lnTo>
                    <a:pt x="402" y="1376"/>
                  </a:lnTo>
                  <a:lnTo>
                    <a:pt x="538" y="1764"/>
                  </a:lnTo>
                  <a:lnTo>
                    <a:pt x="631" y="1778"/>
                  </a:lnTo>
                  <a:lnTo>
                    <a:pt x="693" y="1650"/>
                  </a:lnTo>
                  <a:lnTo>
                    <a:pt x="706" y="1403"/>
                  </a:lnTo>
                  <a:lnTo>
                    <a:pt x="909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1"/>
                  </a:lnTo>
                  <a:lnTo>
                    <a:pt x="847" y="984"/>
                  </a:lnTo>
                  <a:lnTo>
                    <a:pt x="896" y="1002"/>
                  </a:lnTo>
                  <a:lnTo>
                    <a:pt x="1082" y="1231"/>
                  </a:lnTo>
                  <a:lnTo>
                    <a:pt x="1285" y="1288"/>
                  </a:lnTo>
                  <a:lnTo>
                    <a:pt x="1324" y="1218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1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402" y="480"/>
                  </a:lnTo>
                  <a:lnTo>
                    <a:pt x="211" y="555"/>
                  </a:lnTo>
                  <a:lnTo>
                    <a:pt x="158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1680" y="363600"/>
              <a:ext cx="519480" cy="817920"/>
            </a:xfrm>
            <a:custGeom>
              <a:avLst/>
              <a:gdLst/>
              <a:ahLst/>
              <a:rect l="0" t="0" r="r" b="b"/>
              <a:pathLst>
                <a:path w="1443" h="2272">
                  <a:moveTo>
                    <a:pt x="362" y="317"/>
                  </a:moveTo>
                  <a:lnTo>
                    <a:pt x="251" y="754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22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3" y="2086"/>
                  </a:lnTo>
                  <a:lnTo>
                    <a:pt x="688" y="2272"/>
                  </a:lnTo>
                  <a:lnTo>
                    <a:pt x="979" y="2241"/>
                  </a:lnTo>
                  <a:lnTo>
                    <a:pt x="1122" y="1870"/>
                  </a:lnTo>
                  <a:lnTo>
                    <a:pt x="1152" y="1293"/>
                  </a:lnTo>
                  <a:lnTo>
                    <a:pt x="1443" y="1005"/>
                  </a:lnTo>
                  <a:lnTo>
                    <a:pt x="1430" y="890"/>
                  </a:lnTo>
                  <a:lnTo>
                    <a:pt x="1399" y="837"/>
                  </a:lnTo>
                  <a:lnTo>
                    <a:pt x="1245" y="824"/>
                  </a:lnTo>
                  <a:lnTo>
                    <a:pt x="1294" y="674"/>
                  </a:lnTo>
                  <a:lnTo>
                    <a:pt x="1139" y="573"/>
                  </a:lnTo>
                  <a:lnTo>
                    <a:pt x="1076" y="246"/>
                  </a:lnTo>
                  <a:lnTo>
                    <a:pt x="627" y="0"/>
                  </a:lnTo>
                  <a:lnTo>
                    <a:pt x="393" y="233"/>
                  </a:lnTo>
                  <a:lnTo>
                    <a:pt x="362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09840" y="104616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68" y="145"/>
                  </a:moveTo>
                  <a:lnTo>
                    <a:pt x="459" y="273"/>
                  </a:lnTo>
                  <a:lnTo>
                    <a:pt x="552" y="418"/>
                  </a:lnTo>
                  <a:lnTo>
                    <a:pt x="1082" y="0"/>
                  </a:lnTo>
                  <a:lnTo>
                    <a:pt x="1249" y="88"/>
                  </a:lnTo>
                  <a:lnTo>
                    <a:pt x="1324" y="511"/>
                  </a:lnTo>
                  <a:lnTo>
                    <a:pt x="944" y="1764"/>
                  </a:lnTo>
                  <a:lnTo>
                    <a:pt x="1069" y="2457"/>
                  </a:lnTo>
                  <a:lnTo>
                    <a:pt x="565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68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30360" y="254160"/>
              <a:ext cx="444960" cy="259200"/>
            </a:xfrm>
            <a:custGeom>
              <a:avLst/>
              <a:gdLst/>
              <a:ahLst/>
              <a:rect l="0" t="0" r="r" b="b"/>
              <a:pathLst>
                <a:path w="1236" h="720">
                  <a:moveTo>
                    <a:pt x="149" y="685"/>
                  </a:moveTo>
                  <a:lnTo>
                    <a:pt x="331" y="494"/>
                  </a:lnTo>
                  <a:lnTo>
                    <a:pt x="450" y="464"/>
                  </a:lnTo>
                  <a:lnTo>
                    <a:pt x="450" y="486"/>
                  </a:lnTo>
                  <a:lnTo>
                    <a:pt x="508" y="464"/>
                  </a:lnTo>
                  <a:lnTo>
                    <a:pt x="587" y="521"/>
                  </a:lnTo>
                  <a:lnTo>
                    <a:pt x="728" y="553"/>
                  </a:lnTo>
                  <a:lnTo>
                    <a:pt x="847" y="720"/>
                  </a:lnTo>
                  <a:lnTo>
                    <a:pt x="1042" y="650"/>
                  </a:lnTo>
                  <a:lnTo>
                    <a:pt x="1042" y="570"/>
                  </a:lnTo>
                  <a:lnTo>
                    <a:pt x="1236" y="486"/>
                  </a:lnTo>
                  <a:lnTo>
                    <a:pt x="1179" y="349"/>
                  </a:lnTo>
                  <a:lnTo>
                    <a:pt x="998" y="336"/>
                  </a:lnTo>
                  <a:lnTo>
                    <a:pt x="1025" y="186"/>
                  </a:lnTo>
                  <a:lnTo>
                    <a:pt x="865" y="208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7" y="158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36"/>
                  </a:lnTo>
                  <a:lnTo>
                    <a:pt x="229" y="158"/>
                  </a:lnTo>
                  <a:lnTo>
                    <a:pt x="123" y="243"/>
                  </a:lnTo>
                  <a:lnTo>
                    <a:pt x="92" y="464"/>
                  </a:lnTo>
                  <a:lnTo>
                    <a:pt x="0" y="428"/>
                  </a:lnTo>
                  <a:lnTo>
                    <a:pt x="13" y="570"/>
                  </a:lnTo>
                  <a:lnTo>
                    <a:pt x="149" y="68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9520" y="1227240"/>
              <a:ext cx="143280" cy="740160"/>
            </a:xfrm>
            <a:custGeom>
              <a:avLst/>
              <a:gdLst/>
              <a:ahLst/>
              <a:rect l="0" t="0" r="r" b="b"/>
              <a:pathLst>
                <a:path w="398" h="2056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8" y="330"/>
                  </a:lnTo>
                  <a:lnTo>
                    <a:pt x="35" y="605"/>
                  </a:lnTo>
                  <a:lnTo>
                    <a:pt x="0" y="966"/>
                  </a:lnTo>
                  <a:lnTo>
                    <a:pt x="97" y="1442"/>
                  </a:lnTo>
                  <a:lnTo>
                    <a:pt x="97" y="1638"/>
                  </a:lnTo>
                  <a:lnTo>
                    <a:pt x="44" y="1792"/>
                  </a:lnTo>
                  <a:lnTo>
                    <a:pt x="256" y="2056"/>
                  </a:lnTo>
                  <a:lnTo>
                    <a:pt x="385" y="1660"/>
                  </a:lnTo>
                  <a:lnTo>
                    <a:pt x="385" y="1385"/>
                  </a:lnTo>
                  <a:lnTo>
                    <a:pt x="287" y="1125"/>
                  </a:lnTo>
                  <a:lnTo>
                    <a:pt x="234" y="777"/>
                  </a:lnTo>
                  <a:lnTo>
                    <a:pt x="337" y="436"/>
                  </a:lnTo>
                  <a:lnTo>
                    <a:pt x="306" y="304"/>
                  </a:lnTo>
                  <a:lnTo>
                    <a:pt x="398" y="233"/>
                  </a:lnTo>
                  <a:lnTo>
                    <a:pt x="385" y="145"/>
                  </a:lnTo>
                  <a:lnTo>
                    <a:pt x="269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4480" y="97956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72"/>
                  </a:lnTo>
                  <a:lnTo>
                    <a:pt x="319" y="13"/>
                  </a:lnTo>
                  <a:lnTo>
                    <a:pt x="181" y="0"/>
                  </a:lnTo>
                  <a:lnTo>
                    <a:pt x="3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1000" y="63828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74" y="402"/>
                  </a:lnTo>
                  <a:lnTo>
                    <a:pt x="393" y="371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71560" y="60804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06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68440" y="422280"/>
              <a:ext cx="495720" cy="360720"/>
            </a:xfrm>
            <a:custGeom>
              <a:avLst/>
              <a:gdLst/>
              <a:ahLst/>
              <a:rect l="0" t="0" r="r" b="b"/>
              <a:pathLst>
                <a:path w="1377" h="1002">
                  <a:moveTo>
                    <a:pt x="636" y="596"/>
                  </a:moveTo>
                  <a:lnTo>
                    <a:pt x="503" y="556"/>
                  </a:lnTo>
                  <a:lnTo>
                    <a:pt x="613" y="467"/>
                  </a:lnTo>
                  <a:lnTo>
                    <a:pt x="574" y="423"/>
                  </a:lnTo>
                  <a:lnTo>
                    <a:pt x="437" y="538"/>
                  </a:lnTo>
                  <a:lnTo>
                    <a:pt x="176" y="565"/>
                  </a:lnTo>
                  <a:lnTo>
                    <a:pt x="0" y="574"/>
                  </a:lnTo>
                  <a:lnTo>
                    <a:pt x="0" y="715"/>
                  </a:lnTo>
                  <a:lnTo>
                    <a:pt x="163" y="993"/>
                  </a:lnTo>
                  <a:lnTo>
                    <a:pt x="207" y="1002"/>
                  </a:lnTo>
                  <a:lnTo>
                    <a:pt x="61" y="693"/>
                  </a:lnTo>
                  <a:lnTo>
                    <a:pt x="282" y="596"/>
                  </a:lnTo>
                  <a:lnTo>
                    <a:pt x="437" y="596"/>
                  </a:lnTo>
                  <a:lnTo>
                    <a:pt x="547" y="658"/>
                  </a:lnTo>
                  <a:lnTo>
                    <a:pt x="574" y="741"/>
                  </a:lnTo>
                  <a:lnTo>
                    <a:pt x="574" y="935"/>
                  </a:lnTo>
                  <a:lnTo>
                    <a:pt x="574" y="993"/>
                  </a:lnTo>
                  <a:lnTo>
                    <a:pt x="640" y="904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3"/>
                  </a:lnTo>
                  <a:lnTo>
                    <a:pt x="1006" y="953"/>
                  </a:lnTo>
                  <a:lnTo>
                    <a:pt x="1174" y="909"/>
                  </a:lnTo>
                  <a:lnTo>
                    <a:pt x="1294" y="830"/>
                  </a:lnTo>
                  <a:lnTo>
                    <a:pt x="1311" y="622"/>
                  </a:lnTo>
                  <a:lnTo>
                    <a:pt x="1377" y="538"/>
                  </a:lnTo>
                  <a:lnTo>
                    <a:pt x="1342" y="485"/>
                  </a:lnTo>
                  <a:lnTo>
                    <a:pt x="1183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3" y="0"/>
                  </a:lnTo>
                  <a:lnTo>
                    <a:pt x="1002" y="246"/>
                  </a:lnTo>
                  <a:lnTo>
                    <a:pt x="1051" y="246"/>
                  </a:lnTo>
                  <a:lnTo>
                    <a:pt x="1082" y="423"/>
                  </a:lnTo>
                  <a:lnTo>
                    <a:pt x="891" y="485"/>
                  </a:lnTo>
                  <a:lnTo>
                    <a:pt x="746" y="436"/>
                  </a:lnTo>
                  <a:lnTo>
                    <a:pt x="724" y="485"/>
                  </a:lnTo>
                  <a:lnTo>
                    <a:pt x="803" y="538"/>
                  </a:lnTo>
                  <a:lnTo>
                    <a:pt x="803" y="583"/>
                  </a:lnTo>
                  <a:lnTo>
                    <a:pt x="966" y="508"/>
                  </a:lnTo>
                  <a:lnTo>
                    <a:pt x="1108" y="498"/>
                  </a:lnTo>
                  <a:lnTo>
                    <a:pt x="1263" y="516"/>
                  </a:lnTo>
                  <a:lnTo>
                    <a:pt x="1263" y="547"/>
                  </a:lnTo>
                  <a:lnTo>
                    <a:pt x="1188" y="613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1"/>
                  </a:lnTo>
                  <a:lnTo>
                    <a:pt x="838" y="891"/>
                  </a:lnTo>
                  <a:lnTo>
                    <a:pt x="807" y="856"/>
                  </a:lnTo>
                  <a:lnTo>
                    <a:pt x="785" y="622"/>
                  </a:lnTo>
                  <a:lnTo>
                    <a:pt x="640" y="622"/>
                  </a:lnTo>
                  <a:lnTo>
                    <a:pt x="636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38360" y="838080"/>
              <a:ext cx="160560" cy="74880"/>
            </a:xfrm>
            <a:custGeom>
              <a:avLst/>
              <a:gdLst/>
              <a:ahLst/>
              <a:rect l="0" t="0" r="r" b="b"/>
              <a:pathLst>
                <a:path w="446" h="208">
                  <a:moveTo>
                    <a:pt x="0" y="0"/>
                  </a:moveTo>
                  <a:lnTo>
                    <a:pt x="74" y="97"/>
                  </a:lnTo>
                  <a:lnTo>
                    <a:pt x="265" y="97"/>
                  </a:lnTo>
                  <a:lnTo>
                    <a:pt x="344" y="30"/>
                  </a:lnTo>
                  <a:lnTo>
                    <a:pt x="446" y="30"/>
                  </a:lnTo>
                  <a:lnTo>
                    <a:pt x="428" y="61"/>
                  </a:lnTo>
                  <a:lnTo>
                    <a:pt x="428" y="97"/>
                  </a:lnTo>
                  <a:lnTo>
                    <a:pt x="247" y="208"/>
                  </a:lnTo>
                  <a:lnTo>
                    <a:pt x="145" y="208"/>
                  </a:lnTo>
                  <a:lnTo>
                    <a:pt x="97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0520" y="719280"/>
              <a:ext cx="243360" cy="389160"/>
            </a:xfrm>
            <a:custGeom>
              <a:avLst/>
              <a:gdLst/>
              <a:ahLst/>
              <a:rect l="0" t="0" r="r" b="b"/>
              <a:pathLst>
                <a:path w="676" h="1081">
                  <a:moveTo>
                    <a:pt x="676" y="74"/>
                  </a:moveTo>
                  <a:lnTo>
                    <a:pt x="676" y="97"/>
                  </a:lnTo>
                  <a:lnTo>
                    <a:pt x="557" y="207"/>
                  </a:lnTo>
                  <a:lnTo>
                    <a:pt x="459" y="224"/>
                  </a:lnTo>
                  <a:lnTo>
                    <a:pt x="269" y="194"/>
                  </a:lnTo>
                  <a:lnTo>
                    <a:pt x="305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7"/>
                  </a:lnTo>
                  <a:lnTo>
                    <a:pt x="318" y="821"/>
                  </a:lnTo>
                  <a:lnTo>
                    <a:pt x="261" y="458"/>
                  </a:lnTo>
                  <a:lnTo>
                    <a:pt x="208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26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33"/>
                  </a:lnTo>
                  <a:lnTo>
                    <a:pt x="132" y="321"/>
                  </a:lnTo>
                  <a:lnTo>
                    <a:pt x="177" y="299"/>
                  </a:lnTo>
                  <a:lnTo>
                    <a:pt x="177" y="105"/>
                  </a:lnTo>
                  <a:lnTo>
                    <a:pt x="252" y="149"/>
                  </a:lnTo>
                  <a:lnTo>
                    <a:pt x="375" y="176"/>
                  </a:lnTo>
                  <a:lnTo>
                    <a:pt x="490" y="167"/>
                  </a:lnTo>
                  <a:lnTo>
                    <a:pt x="601" y="105"/>
                  </a:lnTo>
                  <a:lnTo>
                    <a:pt x="676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5680" y="41112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3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41"/>
                  </a:lnTo>
                  <a:lnTo>
                    <a:pt x="75" y="198"/>
                  </a:lnTo>
                  <a:lnTo>
                    <a:pt x="80" y="367"/>
                  </a:lnTo>
                  <a:lnTo>
                    <a:pt x="124" y="433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440" y="22860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2"/>
                  </a:moveTo>
                  <a:lnTo>
                    <a:pt x="145" y="591"/>
                  </a:lnTo>
                  <a:lnTo>
                    <a:pt x="127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72"/>
                  </a:lnTo>
                  <a:lnTo>
                    <a:pt x="508" y="149"/>
                  </a:lnTo>
                  <a:lnTo>
                    <a:pt x="569" y="123"/>
                  </a:lnTo>
                  <a:lnTo>
                    <a:pt x="521" y="255"/>
                  </a:lnTo>
                  <a:lnTo>
                    <a:pt x="680" y="313"/>
                  </a:lnTo>
                  <a:lnTo>
                    <a:pt x="794" y="185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78" y="273"/>
                  </a:lnTo>
                  <a:lnTo>
                    <a:pt x="993" y="321"/>
                  </a:lnTo>
                  <a:lnTo>
                    <a:pt x="900" y="415"/>
                  </a:lnTo>
                  <a:lnTo>
                    <a:pt x="1214" y="472"/>
                  </a:lnTo>
                  <a:lnTo>
                    <a:pt x="1002" y="534"/>
                  </a:lnTo>
                  <a:lnTo>
                    <a:pt x="1267" y="569"/>
                  </a:lnTo>
                  <a:lnTo>
                    <a:pt x="957" y="644"/>
                  </a:lnTo>
                  <a:lnTo>
                    <a:pt x="1019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36" y="755"/>
                  </a:lnTo>
                  <a:lnTo>
                    <a:pt x="1214" y="636"/>
                  </a:lnTo>
                  <a:lnTo>
                    <a:pt x="1369" y="583"/>
                  </a:lnTo>
                  <a:lnTo>
                    <a:pt x="1258" y="525"/>
                  </a:lnTo>
                  <a:lnTo>
                    <a:pt x="1514" y="503"/>
                  </a:lnTo>
                  <a:lnTo>
                    <a:pt x="1294" y="384"/>
                  </a:lnTo>
                  <a:lnTo>
                    <a:pt x="1041" y="357"/>
                  </a:lnTo>
                  <a:lnTo>
                    <a:pt x="1236" y="229"/>
                  </a:lnTo>
                  <a:lnTo>
                    <a:pt x="878" y="229"/>
                  </a:lnTo>
                  <a:lnTo>
                    <a:pt x="1050" y="114"/>
                  </a:lnTo>
                  <a:lnTo>
                    <a:pt x="790" y="149"/>
                  </a:lnTo>
                  <a:lnTo>
                    <a:pt x="666" y="207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6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3"/>
                  </a:lnTo>
                  <a:lnTo>
                    <a:pt x="0" y="472"/>
                  </a:lnTo>
                  <a:lnTo>
                    <a:pt x="30" y="636"/>
                  </a:lnTo>
                  <a:lnTo>
                    <a:pt x="13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1600" y="372960"/>
              <a:ext cx="154440" cy="84600"/>
            </a:xfrm>
            <a:custGeom>
              <a:avLst/>
              <a:gdLst/>
              <a:ahLst/>
              <a:rect l="0" t="0" r="r" b="b"/>
              <a:pathLst>
                <a:path w="429" h="235">
                  <a:moveTo>
                    <a:pt x="0" y="235"/>
                  </a:moveTo>
                  <a:lnTo>
                    <a:pt x="159" y="0"/>
                  </a:lnTo>
                  <a:lnTo>
                    <a:pt x="159" y="155"/>
                  </a:lnTo>
                  <a:lnTo>
                    <a:pt x="217" y="93"/>
                  </a:lnTo>
                  <a:lnTo>
                    <a:pt x="265" y="182"/>
                  </a:lnTo>
                  <a:lnTo>
                    <a:pt x="429" y="226"/>
                  </a:lnTo>
                  <a:lnTo>
                    <a:pt x="256" y="196"/>
                  </a:lnTo>
                  <a:lnTo>
                    <a:pt x="208" y="137"/>
                  </a:lnTo>
                  <a:lnTo>
                    <a:pt x="133" y="196"/>
                  </a:lnTo>
                  <a:lnTo>
                    <a:pt x="133" y="12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7200" y="934920"/>
              <a:ext cx="186120" cy="120960"/>
            </a:xfrm>
            <a:custGeom>
              <a:avLst/>
              <a:gdLst/>
              <a:ahLst/>
              <a:rect l="0" t="0" r="r" b="b"/>
              <a:pathLst>
                <a:path w="517" h="336">
                  <a:moveTo>
                    <a:pt x="97" y="119"/>
                  </a:moveTo>
                  <a:lnTo>
                    <a:pt x="309" y="101"/>
                  </a:lnTo>
                  <a:lnTo>
                    <a:pt x="412" y="123"/>
                  </a:lnTo>
                  <a:lnTo>
                    <a:pt x="460" y="74"/>
                  </a:lnTo>
                  <a:lnTo>
                    <a:pt x="517" y="186"/>
                  </a:lnTo>
                  <a:lnTo>
                    <a:pt x="482" y="208"/>
                  </a:lnTo>
                  <a:lnTo>
                    <a:pt x="438" y="167"/>
                  </a:lnTo>
                  <a:lnTo>
                    <a:pt x="371" y="243"/>
                  </a:lnTo>
                  <a:lnTo>
                    <a:pt x="239" y="336"/>
                  </a:lnTo>
                  <a:lnTo>
                    <a:pt x="186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30" y="327"/>
                  </a:lnTo>
                  <a:lnTo>
                    <a:pt x="309" y="269"/>
                  </a:lnTo>
                  <a:lnTo>
                    <a:pt x="362" y="154"/>
                  </a:lnTo>
                  <a:lnTo>
                    <a:pt x="283" y="136"/>
                  </a:lnTo>
                  <a:lnTo>
                    <a:pt x="225" y="123"/>
                  </a:lnTo>
                  <a:lnTo>
                    <a:pt x="88" y="145"/>
                  </a:lnTo>
                  <a:lnTo>
                    <a:pt x="83" y="234"/>
                  </a:lnTo>
                  <a:lnTo>
                    <a:pt x="39" y="177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97" y="92"/>
                  </a:lnTo>
                  <a:lnTo>
                    <a:pt x="97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3440" y="66816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2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63"/>
                  </a:lnTo>
                  <a:lnTo>
                    <a:pt x="1010" y="411"/>
                  </a:lnTo>
                  <a:lnTo>
                    <a:pt x="918" y="530"/>
                  </a:lnTo>
                  <a:lnTo>
                    <a:pt x="821" y="543"/>
                  </a:lnTo>
                  <a:lnTo>
                    <a:pt x="799" y="543"/>
                  </a:lnTo>
                  <a:lnTo>
                    <a:pt x="799" y="856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8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27" y="1316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42"/>
                  </a:lnTo>
                  <a:lnTo>
                    <a:pt x="383" y="1351"/>
                  </a:lnTo>
                  <a:lnTo>
                    <a:pt x="546" y="1271"/>
                  </a:lnTo>
                  <a:lnTo>
                    <a:pt x="631" y="1183"/>
                  </a:lnTo>
                  <a:lnTo>
                    <a:pt x="724" y="1024"/>
                  </a:lnTo>
                  <a:lnTo>
                    <a:pt x="737" y="834"/>
                  </a:lnTo>
                  <a:lnTo>
                    <a:pt x="768" y="229"/>
                  </a:lnTo>
                  <a:lnTo>
                    <a:pt x="803" y="317"/>
                  </a:lnTo>
                  <a:lnTo>
                    <a:pt x="913" y="207"/>
                  </a:lnTo>
                  <a:lnTo>
                    <a:pt x="1024" y="163"/>
                  </a:lnTo>
                  <a:lnTo>
                    <a:pt x="1059" y="97"/>
                  </a:lnTo>
                  <a:lnTo>
                    <a:pt x="1041" y="39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720" y="115560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6" y="66"/>
                  </a:lnTo>
                  <a:lnTo>
                    <a:pt x="291" y="361"/>
                  </a:lnTo>
                  <a:lnTo>
                    <a:pt x="521" y="428"/>
                  </a:lnTo>
                  <a:lnTo>
                    <a:pt x="583" y="508"/>
                  </a:lnTo>
                  <a:lnTo>
                    <a:pt x="591" y="618"/>
                  </a:lnTo>
                  <a:lnTo>
                    <a:pt x="706" y="600"/>
                  </a:lnTo>
                  <a:lnTo>
                    <a:pt x="847" y="693"/>
                  </a:lnTo>
                  <a:lnTo>
                    <a:pt x="887" y="807"/>
                  </a:lnTo>
                  <a:lnTo>
                    <a:pt x="887" y="1015"/>
                  </a:lnTo>
                  <a:lnTo>
                    <a:pt x="706" y="1329"/>
                  </a:lnTo>
                  <a:lnTo>
                    <a:pt x="644" y="1452"/>
                  </a:lnTo>
                  <a:lnTo>
                    <a:pt x="675" y="1285"/>
                  </a:lnTo>
                  <a:lnTo>
                    <a:pt x="644" y="1223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3" y="1157"/>
                  </a:lnTo>
                  <a:lnTo>
                    <a:pt x="759" y="1139"/>
                  </a:lnTo>
                  <a:lnTo>
                    <a:pt x="794" y="1085"/>
                  </a:lnTo>
                  <a:lnTo>
                    <a:pt x="847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81"/>
                  </a:lnTo>
                  <a:lnTo>
                    <a:pt x="299" y="402"/>
                  </a:lnTo>
                  <a:lnTo>
                    <a:pt x="299" y="464"/>
                  </a:lnTo>
                  <a:lnTo>
                    <a:pt x="216" y="313"/>
                  </a:lnTo>
                  <a:lnTo>
                    <a:pt x="158" y="66"/>
                  </a:lnTo>
                  <a:lnTo>
                    <a:pt x="88" y="44"/>
                  </a:lnTo>
                  <a:lnTo>
                    <a:pt x="39" y="114"/>
                  </a:lnTo>
                  <a:lnTo>
                    <a:pt x="39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39" y="4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8080" y="1386000"/>
              <a:ext cx="209880" cy="417960"/>
            </a:xfrm>
            <a:custGeom>
              <a:avLst/>
              <a:gdLst/>
              <a:ahLst/>
              <a:rect l="0" t="0" r="r" b="b"/>
              <a:pathLst>
                <a:path w="583" h="1161">
                  <a:moveTo>
                    <a:pt x="583" y="0"/>
                  </a:moveTo>
                  <a:lnTo>
                    <a:pt x="464" y="74"/>
                  </a:lnTo>
                  <a:lnTo>
                    <a:pt x="322" y="358"/>
                  </a:lnTo>
                  <a:lnTo>
                    <a:pt x="185" y="543"/>
                  </a:lnTo>
                  <a:lnTo>
                    <a:pt x="13" y="763"/>
                  </a:lnTo>
                  <a:lnTo>
                    <a:pt x="0" y="879"/>
                  </a:lnTo>
                  <a:lnTo>
                    <a:pt x="30" y="980"/>
                  </a:lnTo>
                  <a:lnTo>
                    <a:pt x="114" y="980"/>
                  </a:lnTo>
                  <a:lnTo>
                    <a:pt x="224" y="879"/>
                  </a:lnTo>
                  <a:lnTo>
                    <a:pt x="314" y="666"/>
                  </a:lnTo>
                  <a:lnTo>
                    <a:pt x="428" y="543"/>
                  </a:lnTo>
                  <a:lnTo>
                    <a:pt x="428" y="710"/>
                  </a:lnTo>
                  <a:lnTo>
                    <a:pt x="415" y="865"/>
                  </a:lnTo>
                  <a:lnTo>
                    <a:pt x="282" y="1069"/>
                  </a:lnTo>
                  <a:lnTo>
                    <a:pt x="282" y="1130"/>
                  </a:lnTo>
                  <a:lnTo>
                    <a:pt x="415" y="1161"/>
                  </a:lnTo>
                  <a:lnTo>
                    <a:pt x="322" y="1104"/>
                  </a:lnTo>
                  <a:lnTo>
                    <a:pt x="336" y="1069"/>
                  </a:lnTo>
                  <a:lnTo>
                    <a:pt x="424" y="919"/>
                  </a:lnTo>
                  <a:lnTo>
                    <a:pt x="481" y="644"/>
                  </a:lnTo>
                  <a:lnTo>
                    <a:pt x="441" y="490"/>
                  </a:lnTo>
                  <a:lnTo>
                    <a:pt x="344" y="578"/>
                  </a:lnTo>
                  <a:lnTo>
                    <a:pt x="136" y="928"/>
                  </a:lnTo>
                  <a:lnTo>
                    <a:pt x="83" y="936"/>
                  </a:lnTo>
                  <a:lnTo>
                    <a:pt x="30" y="901"/>
                  </a:lnTo>
                  <a:lnTo>
                    <a:pt x="30" y="794"/>
                  </a:lnTo>
                  <a:lnTo>
                    <a:pt x="114" y="658"/>
                  </a:lnTo>
                  <a:lnTo>
                    <a:pt x="344" y="375"/>
                  </a:lnTo>
                  <a:lnTo>
                    <a:pt x="481" y="10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3600" y="1622520"/>
              <a:ext cx="130680" cy="200520"/>
            </a:xfrm>
            <a:custGeom>
              <a:avLst/>
              <a:gdLst/>
              <a:ahLst/>
              <a:rect l="0" t="0" r="r" b="b"/>
              <a:pathLst>
                <a:path w="363" h="557">
                  <a:moveTo>
                    <a:pt x="0" y="495"/>
                  </a:moveTo>
                  <a:lnTo>
                    <a:pt x="120" y="349"/>
                  </a:lnTo>
                  <a:lnTo>
                    <a:pt x="142" y="208"/>
                  </a:lnTo>
                  <a:lnTo>
                    <a:pt x="279" y="0"/>
                  </a:lnTo>
                  <a:lnTo>
                    <a:pt x="310" y="136"/>
                  </a:lnTo>
                  <a:lnTo>
                    <a:pt x="288" y="504"/>
                  </a:lnTo>
                  <a:lnTo>
                    <a:pt x="363" y="557"/>
                  </a:lnTo>
                  <a:lnTo>
                    <a:pt x="256" y="517"/>
                  </a:lnTo>
                  <a:lnTo>
                    <a:pt x="203" y="305"/>
                  </a:lnTo>
                  <a:lnTo>
                    <a:pt x="120" y="411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4160" y="163368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57" y="79"/>
                  </a:lnTo>
                  <a:lnTo>
                    <a:pt x="114" y="472"/>
                  </a:lnTo>
                  <a:lnTo>
                    <a:pt x="190" y="472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7" y="499"/>
                  </a:lnTo>
                  <a:lnTo>
                    <a:pt x="52" y="154"/>
                  </a:lnTo>
                  <a:lnTo>
                    <a:pt x="26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52520" y="92376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9" y="511"/>
                  </a:lnTo>
                  <a:lnTo>
                    <a:pt x="389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24" y="489"/>
                  </a:lnTo>
                  <a:lnTo>
                    <a:pt x="217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9" y="799"/>
                  </a:lnTo>
                  <a:lnTo>
                    <a:pt x="30" y="944"/>
                  </a:lnTo>
                  <a:lnTo>
                    <a:pt x="39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7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92200" y="92376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4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5"/>
                  </a:lnTo>
                  <a:lnTo>
                    <a:pt x="233" y="440"/>
                  </a:lnTo>
                  <a:lnTo>
                    <a:pt x="255" y="582"/>
                  </a:lnTo>
                  <a:lnTo>
                    <a:pt x="583" y="728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18"/>
                  </a:lnTo>
                  <a:lnTo>
                    <a:pt x="574" y="1085"/>
                  </a:lnTo>
                  <a:lnTo>
                    <a:pt x="521" y="1010"/>
                  </a:lnTo>
                  <a:lnTo>
                    <a:pt x="449" y="993"/>
                  </a:lnTo>
                  <a:lnTo>
                    <a:pt x="534" y="993"/>
                  </a:lnTo>
                  <a:lnTo>
                    <a:pt x="693" y="1204"/>
                  </a:lnTo>
                  <a:lnTo>
                    <a:pt x="896" y="1266"/>
                  </a:lnTo>
                  <a:lnTo>
                    <a:pt x="940" y="1204"/>
                  </a:lnTo>
                  <a:lnTo>
                    <a:pt x="913" y="1107"/>
                  </a:lnTo>
                  <a:lnTo>
                    <a:pt x="561" y="816"/>
                  </a:lnTo>
                  <a:lnTo>
                    <a:pt x="512" y="728"/>
                  </a:lnTo>
                  <a:lnTo>
                    <a:pt x="233" y="658"/>
                  </a:lnTo>
                  <a:lnTo>
                    <a:pt x="189" y="728"/>
                  </a:lnTo>
                  <a:lnTo>
                    <a:pt x="0" y="856"/>
                  </a:lnTo>
                  <a:lnTo>
                    <a:pt x="180" y="710"/>
                  </a:lnTo>
                  <a:lnTo>
                    <a:pt x="189" y="617"/>
                  </a:lnTo>
                  <a:lnTo>
                    <a:pt x="189" y="414"/>
                  </a:lnTo>
                  <a:lnTo>
                    <a:pt x="313" y="255"/>
                  </a:lnTo>
                  <a:lnTo>
                    <a:pt x="313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0280" y="1289160"/>
              <a:ext cx="295560" cy="276480"/>
            </a:xfrm>
            <a:custGeom>
              <a:avLst/>
              <a:gdLst/>
              <a:ahLst/>
              <a:rect l="0" t="0" r="r" b="b"/>
              <a:pathLst>
                <a:path w="821" h="768">
                  <a:moveTo>
                    <a:pt x="613" y="0"/>
                  </a:moveTo>
                  <a:lnTo>
                    <a:pt x="596" y="66"/>
                  </a:lnTo>
                  <a:lnTo>
                    <a:pt x="715" y="317"/>
                  </a:lnTo>
                  <a:lnTo>
                    <a:pt x="781" y="583"/>
                  </a:lnTo>
                  <a:lnTo>
                    <a:pt x="706" y="583"/>
                  </a:lnTo>
                  <a:lnTo>
                    <a:pt x="583" y="464"/>
                  </a:lnTo>
                  <a:lnTo>
                    <a:pt x="472" y="224"/>
                  </a:lnTo>
                  <a:lnTo>
                    <a:pt x="383" y="185"/>
                  </a:lnTo>
                  <a:lnTo>
                    <a:pt x="396" y="317"/>
                  </a:lnTo>
                  <a:lnTo>
                    <a:pt x="481" y="411"/>
                  </a:lnTo>
                  <a:lnTo>
                    <a:pt x="481" y="596"/>
                  </a:lnTo>
                  <a:lnTo>
                    <a:pt x="424" y="728"/>
                  </a:lnTo>
                  <a:lnTo>
                    <a:pt x="343" y="675"/>
                  </a:lnTo>
                  <a:lnTo>
                    <a:pt x="251" y="464"/>
                  </a:lnTo>
                  <a:lnTo>
                    <a:pt x="229" y="317"/>
                  </a:lnTo>
                  <a:lnTo>
                    <a:pt x="180" y="277"/>
                  </a:lnTo>
                  <a:lnTo>
                    <a:pt x="158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4"/>
                  </a:lnTo>
                  <a:lnTo>
                    <a:pt x="52" y="759"/>
                  </a:lnTo>
                  <a:lnTo>
                    <a:pt x="158" y="759"/>
                  </a:lnTo>
                  <a:lnTo>
                    <a:pt x="198" y="666"/>
                  </a:lnTo>
                  <a:lnTo>
                    <a:pt x="220" y="374"/>
                  </a:lnTo>
                  <a:lnTo>
                    <a:pt x="238" y="490"/>
                  </a:lnTo>
                  <a:lnTo>
                    <a:pt x="330" y="737"/>
                  </a:lnTo>
                  <a:lnTo>
                    <a:pt x="433" y="768"/>
                  </a:lnTo>
                  <a:lnTo>
                    <a:pt x="508" y="666"/>
                  </a:lnTo>
                  <a:lnTo>
                    <a:pt x="508" y="428"/>
                  </a:lnTo>
                  <a:lnTo>
                    <a:pt x="706" y="622"/>
                  </a:lnTo>
                  <a:lnTo>
                    <a:pt x="812" y="622"/>
                  </a:lnTo>
                  <a:lnTo>
                    <a:pt x="821" y="490"/>
                  </a:lnTo>
                  <a:lnTo>
                    <a:pt x="746" y="251"/>
                  </a:lnTo>
                  <a:lnTo>
                    <a:pt x="613" y="52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600" y="1003320"/>
              <a:ext cx="1322640" cy="1128960"/>
            </a:xfrm>
            <a:custGeom>
              <a:avLst/>
              <a:gdLst/>
              <a:ahLst/>
              <a:rect l="0" t="0" r="r" b="b"/>
              <a:pathLst>
                <a:path w="3674" h="3136">
                  <a:moveTo>
                    <a:pt x="1322" y="264"/>
                  </a:moveTo>
                  <a:lnTo>
                    <a:pt x="1256" y="277"/>
                  </a:lnTo>
                  <a:lnTo>
                    <a:pt x="1155" y="432"/>
                  </a:lnTo>
                  <a:lnTo>
                    <a:pt x="1115" y="317"/>
                  </a:lnTo>
                  <a:lnTo>
                    <a:pt x="996" y="255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8"/>
                  </a:lnTo>
                  <a:lnTo>
                    <a:pt x="564" y="864"/>
                  </a:lnTo>
                  <a:lnTo>
                    <a:pt x="489" y="952"/>
                  </a:lnTo>
                  <a:lnTo>
                    <a:pt x="489" y="1036"/>
                  </a:lnTo>
                  <a:lnTo>
                    <a:pt x="577" y="1274"/>
                  </a:lnTo>
                  <a:lnTo>
                    <a:pt x="586" y="1561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5" y="2042"/>
                  </a:lnTo>
                  <a:lnTo>
                    <a:pt x="79" y="2042"/>
                  </a:lnTo>
                  <a:lnTo>
                    <a:pt x="39" y="2241"/>
                  </a:lnTo>
                  <a:lnTo>
                    <a:pt x="0" y="2294"/>
                  </a:lnTo>
                  <a:lnTo>
                    <a:pt x="158" y="2558"/>
                  </a:lnTo>
                  <a:lnTo>
                    <a:pt x="282" y="2576"/>
                  </a:lnTo>
                  <a:lnTo>
                    <a:pt x="489" y="2770"/>
                  </a:lnTo>
                  <a:lnTo>
                    <a:pt x="674" y="2796"/>
                  </a:lnTo>
                  <a:lnTo>
                    <a:pt x="776" y="2690"/>
                  </a:lnTo>
                  <a:lnTo>
                    <a:pt x="1036" y="2302"/>
                  </a:lnTo>
                  <a:lnTo>
                    <a:pt x="1053" y="2823"/>
                  </a:lnTo>
                  <a:lnTo>
                    <a:pt x="1036" y="3136"/>
                  </a:lnTo>
                  <a:lnTo>
                    <a:pt x="3158" y="3136"/>
                  </a:lnTo>
                  <a:lnTo>
                    <a:pt x="3004" y="2796"/>
                  </a:lnTo>
                  <a:lnTo>
                    <a:pt x="2924" y="2510"/>
                  </a:lnTo>
                  <a:lnTo>
                    <a:pt x="2907" y="2077"/>
                  </a:lnTo>
                  <a:lnTo>
                    <a:pt x="3030" y="2170"/>
                  </a:lnTo>
                  <a:lnTo>
                    <a:pt x="3158" y="2170"/>
                  </a:lnTo>
                  <a:lnTo>
                    <a:pt x="3330" y="2055"/>
                  </a:lnTo>
                  <a:lnTo>
                    <a:pt x="3449" y="2042"/>
                  </a:lnTo>
                  <a:lnTo>
                    <a:pt x="3519" y="1928"/>
                  </a:lnTo>
                  <a:lnTo>
                    <a:pt x="3568" y="1632"/>
                  </a:lnTo>
                  <a:lnTo>
                    <a:pt x="3674" y="1508"/>
                  </a:lnTo>
                  <a:lnTo>
                    <a:pt x="3616" y="1419"/>
                  </a:lnTo>
                  <a:lnTo>
                    <a:pt x="3542" y="1419"/>
                  </a:lnTo>
                  <a:lnTo>
                    <a:pt x="3480" y="1481"/>
                  </a:lnTo>
                  <a:lnTo>
                    <a:pt x="3418" y="1499"/>
                  </a:lnTo>
                  <a:lnTo>
                    <a:pt x="3343" y="1419"/>
                  </a:lnTo>
                  <a:lnTo>
                    <a:pt x="3250" y="1411"/>
                  </a:lnTo>
                  <a:lnTo>
                    <a:pt x="3087" y="1300"/>
                  </a:lnTo>
                  <a:lnTo>
                    <a:pt x="2981" y="1177"/>
                  </a:lnTo>
                  <a:lnTo>
                    <a:pt x="2959" y="1036"/>
                  </a:lnTo>
                  <a:lnTo>
                    <a:pt x="2981" y="895"/>
                  </a:lnTo>
                  <a:lnTo>
                    <a:pt x="3048" y="784"/>
                  </a:lnTo>
                  <a:lnTo>
                    <a:pt x="3140" y="679"/>
                  </a:lnTo>
                  <a:lnTo>
                    <a:pt x="3131" y="502"/>
                  </a:lnTo>
                  <a:lnTo>
                    <a:pt x="3131" y="374"/>
                  </a:lnTo>
                  <a:lnTo>
                    <a:pt x="3087" y="277"/>
                  </a:lnTo>
                  <a:lnTo>
                    <a:pt x="2959" y="233"/>
                  </a:lnTo>
                  <a:lnTo>
                    <a:pt x="2915" y="211"/>
                  </a:lnTo>
                  <a:lnTo>
                    <a:pt x="2832" y="57"/>
                  </a:lnTo>
                  <a:lnTo>
                    <a:pt x="2757" y="13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10"/>
                  </a:lnTo>
                  <a:lnTo>
                    <a:pt x="2483" y="158"/>
                  </a:lnTo>
                  <a:lnTo>
                    <a:pt x="2391" y="176"/>
                  </a:lnTo>
                  <a:lnTo>
                    <a:pt x="2289" y="176"/>
                  </a:lnTo>
                  <a:lnTo>
                    <a:pt x="2307" y="330"/>
                  </a:lnTo>
                  <a:lnTo>
                    <a:pt x="2307" y="520"/>
                  </a:lnTo>
                  <a:lnTo>
                    <a:pt x="2289" y="652"/>
                  </a:lnTo>
                  <a:lnTo>
                    <a:pt x="2197" y="811"/>
                  </a:lnTo>
                  <a:lnTo>
                    <a:pt x="2082" y="1045"/>
                  </a:lnTo>
                  <a:lnTo>
                    <a:pt x="1989" y="1327"/>
                  </a:lnTo>
                  <a:lnTo>
                    <a:pt x="1985" y="1499"/>
                  </a:lnTo>
                  <a:lnTo>
                    <a:pt x="1941" y="1641"/>
                  </a:lnTo>
                  <a:lnTo>
                    <a:pt x="1888" y="1782"/>
                  </a:lnTo>
                  <a:lnTo>
                    <a:pt x="1861" y="2016"/>
                  </a:lnTo>
                  <a:lnTo>
                    <a:pt x="1875" y="2201"/>
                  </a:lnTo>
                  <a:lnTo>
                    <a:pt x="1941" y="2421"/>
                  </a:lnTo>
                  <a:lnTo>
                    <a:pt x="1985" y="2510"/>
                  </a:lnTo>
                  <a:lnTo>
                    <a:pt x="1861" y="2589"/>
                  </a:lnTo>
                  <a:lnTo>
                    <a:pt x="1715" y="2638"/>
                  </a:lnTo>
                  <a:lnTo>
                    <a:pt x="1547" y="2655"/>
                  </a:lnTo>
                  <a:lnTo>
                    <a:pt x="1446" y="2655"/>
                  </a:lnTo>
                  <a:lnTo>
                    <a:pt x="1384" y="2629"/>
                  </a:lnTo>
                  <a:lnTo>
                    <a:pt x="1384" y="2435"/>
                  </a:lnTo>
                  <a:lnTo>
                    <a:pt x="1384" y="2161"/>
                  </a:lnTo>
                  <a:lnTo>
                    <a:pt x="1340" y="1888"/>
                  </a:lnTo>
                  <a:lnTo>
                    <a:pt x="1278" y="1641"/>
                  </a:lnTo>
                  <a:lnTo>
                    <a:pt x="1247" y="1446"/>
                  </a:lnTo>
                  <a:lnTo>
                    <a:pt x="1234" y="1168"/>
                  </a:lnTo>
                  <a:lnTo>
                    <a:pt x="1278" y="926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22" y="449"/>
                  </a:lnTo>
                  <a:lnTo>
                    <a:pt x="1322" y="317"/>
                  </a:lnTo>
                  <a:lnTo>
                    <a:pt x="1340" y="277"/>
                  </a:lnTo>
                  <a:lnTo>
                    <a:pt x="1322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3040" y="1231920"/>
              <a:ext cx="168480" cy="730440"/>
            </a:xfrm>
            <a:custGeom>
              <a:avLst/>
              <a:gdLst/>
              <a:ahLst/>
              <a:rect l="0" t="0" r="r" b="b"/>
              <a:pathLst>
                <a:path w="468" h="2029">
                  <a:moveTo>
                    <a:pt x="185" y="22"/>
                  </a:moveTo>
                  <a:lnTo>
                    <a:pt x="61" y="92"/>
                  </a:lnTo>
                  <a:lnTo>
                    <a:pt x="74" y="282"/>
                  </a:lnTo>
                  <a:lnTo>
                    <a:pt x="167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5"/>
                  </a:lnTo>
                  <a:lnTo>
                    <a:pt x="57" y="1218"/>
                  </a:lnTo>
                  <a:lnTo>
                    <a:pt x="97" y="1465"/>
                  </a:lnTo>
                  <a:lnTo>
                    <a:pt x="97" y="1606"/>
                  </a:lnTo>
                  <a:lnTo>
                    <a:pt x="57" y="1782"/>
                  </a:lnTo>
                  <a:lnTo>
                    <a:pt x="243" y="2029"/>
                  </a:lnTo>
                  <a:lnTo>
                    <a:pt x="322" y="1989"/>
                  </a:lnTo>
                  <a:lnTo>
                    <a:pt x="375" y="1817"/>
                  </a:lnTo>
                  <a:lnTo>
                    <a:pt x="464" y="1592"/>
                  </a:lnTo>
                  <a:lnTo>
                    <a:pt x="468" y="1478"/>
                  </a:lnTo>
                  <a:lnTo>
                    <a:pt x="393" y="1253"/>
                  </a:lnTo>
                  <a:lnTo>
                    <a:pt x="305" y="1037"/>
                  </a:lnTo>
                  <a:lnTo>
                    <a:pt x="274" y="881"/>
                  </a:lnTo>
                  <a:lnTo>
                    <a:pt x="274" y="736"/>
                  </a:lnTo>
                  <a:lnTo>
                    <a:pt x="305" y="608"/>
                  </a:lnTo>
                  <a:lnTo>
                    <a:pt x="375" y="445"/>
                  </a:lnTo>
                  <a:lnTo>
                    <a:pt x="375" y="379"/>
                  </a:lnTo>
                  <a:lnTo>
                    <a:pt x="344" y="313"/>
                  </a:lnTo>
                  <a:lnTo>
                    <a:pt x="433" y="229"/>
                  </a:lnTo>
                  <a:lnTo>
                    <a:pt x="433" y="154"/>
                  </a:lnTo>
                  <a:lnTo>
                    <a:pt x="305" y="0"/>
                  </a:lnTo>
                  <a:lnTo>
                    <a:pt x="406" y="154"/>
                  </a:lnTo>
                  <a:lnTo>
                    <a:pt x="406" y="220"/>
                  </a:lnTo>
                  <a:lnTo>
                    <a:pt x="318" y="282"/>
                  </a:lnTo>
                  <a:lnTo>
                    <a:pt x="353" y="379"/>
                  </a:lnTo>
                  <a:lnTo>
                    <a:pt x="344" y="445"/>
                  </a:lnTo>
                  <a:lnTo>
                    <a:pt x="256" y="630"/>
                  </a:lnTo>
                  <a:lnTo>
                    <a:pt x="243" y="811"/>
                  </a:lnTo>
                  <a:lnTo>
                    <a:pt x="265" y="983"/>
                  </a:lnTo>
                  <a:lnTo>
                    <a:pt x="322" y="1231"/>
                  </a:lnTo>
                  <a:lnTo>
                    <a:pt x="393" y="1420"/>
                  </a:lnTo>
                  <a:lnTo>
                    <a:pt x="393" y="1584"/>
                  </a:lnTo>
                  <a:lnTo>
                    <a:pt x="353" y="1782"/>
                  </a:lnTo>
                  <a:lnTo>
                    <a:pt x="265" y="1989"/>
                  </a:lnTo>
                  <a:lnTo>
                    <a:pt x="154" y="1875"/>
                  </a:lnTo>
                  <a:lnTo>
                    <a:pt x="110" y="1782"/>
                  </a:lnTo>
                  <a:lnTo>
                    <a:pt x="119" y="1584"/>
                  </a:lnTo>
                  <a:lnTo>
                    <a:pt x="110" y="1381"/>
                  </a:lnTo>
                  <a:lnTo>
                    <a:pt x="57" y="1116"/>
                  </a:lnTo>
                  <a:lnTo>
                    <a:pt x="30" y="934"/>
                  </a:lnTo>
                  <a:lnTo>
                    <a:pt x="57" y="723"/>
                  </a:lnTo>
                  <a:lnTo>
                    <a:pt x="97" y="524"/>
                  </a:lnTo>
                  <a:lnTo>
                    <a:pt x="198" y="326"/>
                  </a:lnTo>
                  <a:lnTo>
                    <a:pt x="110" y="242"/>
                  </a:lnTo>
                  <a:lnTo>
                    <a:pt x="97" y="10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9320" y="372960"/>
              <a:ext cx="263880" cy="357480"/>
            </a:xfrm>
            <a:custGeom>
              <a:avLst/>
              <a:gdLst/>
              <a:ahLst/>
              <a:rect l="0" t="0" r="r" b="b"/>
              <a:pathLst>
                <a:path w="733" h="993">
                  <a:moveTo>
                    <a:pt x="123" y="255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2"/>
                  </a:lnTo>
                  <a:lnTo>
                    <a:pt x="468" y="335"/>
                  </a:lnTo>
                  <a:lnTo>
                    <a:pt x="490" y="388"/>
                  </a:lnTo>
                  <a:lnTo>
                    <a:pt x="490" y="436"/>
                  </a:lnTo>
                  <a:lnTo>
                    <a:pt x="464" y="467"/>
                  </a:lnTo>
                  <a:lnTo>
                    <a:pt x="419" y="493"/>
                  </a:lnTo>
                  <a:lnTo>
                    <a:pt x="361" y="499"/>
                  </a:lnTo>
                  <a:lnTo>
                    <a:pt x="299" y="485"/>
                  </a:lnTo>
                  <a:lnTo>
                    <a:pt x="229" y="440"/>
                  </a:lnTo>
                  <a:lnTo>
                    <a:pt x="185" y="401"/>
                  </a:lnTo>
                  <a:lnTo>
                    <a:pt x="163" y="534"/>
                  </a:lnTo>
                  <a:lnTo>
                    <a:pt x="123" y="622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13" y="724"/>
                  </a:lnTo>
                  <a:lnTo>
                    <a:pt x="464" y="746"/>
                  </a:lnTo>
                  <a:lnTo>
                    <a:pt x="556" y="728"/>
                  </a:lnTo>
                  <a:lnTo>
                    <a:pt x="649" y="666"/>
                  </a:lnTo>
                  <a:lnTo>
                    <a:pt x="706" y="591"/>
                  </a:lnTo>
                  <a:lnTo>
                    <a:pt x="733" y="485"/>
                  </a:lnTo>
                  <a:lnTo>
                    <a:pt x="733" y="379"/>
                  </a:lnTo>
                  <a:lnTo>
                    <a:pt x="706" y="264"/>
                  </a:lnTo>
                  <a:lnTo>
                    <a:pt x="644" y="154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23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180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4"/>
                  </a:lnTo>
                  <a:lnTo>
                    <a:pt x="164" y="195"/>
                  </a:lnTo>
                  <a:lnTo>
                    <a:pt x="248" y="190"/>
                  </a:lnTo>
                  <a:lnTo>
                    <a:pt x="270" y="146"/>
                  </a:lnTo>
                  <a:lnTo>
                    <a:pt x="257" y="106"/>
                  </a:lnTo>
                  <a:lnTo>
                    <a:pt x="218" y="48"/>
                  </a:lnTo>
                  <a:lnTo>
                    <a:pt x="155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828800" y="236232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907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hanges of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523880" y="304920"/>
            <a:ext cx="676584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zing Gains and Losses on Ex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income tax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No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Exchange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Recognized    Recogn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financial accou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447920" y="1066680"/>
            <a:ext cx="58500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62120" y="23623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letely unrecog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487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523880" y="266688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371600" y="83808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90512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Natural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676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tural resources are shown on the balance sheet as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assets are converted into inventory by cutting, pumping, or m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recorded at acquisition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the asset is converted to inventory, the asset account must be proportionally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66680" y="1523880"/>
            <a:ext cx="7678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re allocated much like the production method of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14400" y="3808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d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25146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ort the operating cycle instead of being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orted at carrying (book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is the unexpired part of the cost of an as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905120"/>
            <a:ext cx="7000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asset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50880" y="533520"/>
            <a:ext cx="8188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of Closely Relat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90720" y="1828800"/>
            <a:ext cx="76708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osely related plant assets are those assets necessary to extract th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longer than the life of the resource, it is depreciated on the same basis as the depletion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shorter than the life of the resource, it is depreciated over a shorte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71600" y="304920"/>
            <a:ext cx="7016760" cy="19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914400" y="236232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ccessful efforts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recorded as an asset and depleted over the estimated life of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an unsuccessful exploration, write off immediately as a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re conservativ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29528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3000" y="243828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ll-cost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costs are recorded as assets and depleted over the estimated life of the producing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oves earnings performance in the earl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ither method is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219320" y="91440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2057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n the useful lives of the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858000" y="304920"/>
            <a:ext cx="1904040" cy="1827360"/>
            <a:chOff x="6858000" y="304920"/>
            <a:chExt cx="1904040" cy="1827360"/>
          </a:xfrm>
        </p:grpSpPr>
        <p:sp>
          <p:nvSpPr>
            <p:cNvPr id="535" name=""/>
            <p:cNvSpPr/>
            <p:nvPr/>
          </p:nvSpPr>
          <p:spPr>
            <a:xfrm>
              <a:off x="6862680" y="120168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4"/>
                  </a:lnTo>
                  <a:lnTo>
                    <a:pt x="445" y="308"/>
                  </a:lnTo>
                  <a:lnTo>
                    <a:pt x="511" y="472"/>
                  </a:lnTo>
                  <a:lnTo>
                    <a:pt x="586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6"/>
                  </a:lnTo>
                  <a:lnTo>
                    <a:pt x="0" y="1435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401" y="1099"/>
                  </a:lnTo>
                  <a:lnTo>
                    <a:pt x="445" y="1248"/>
                  </a:lnTo>
                  <a:lnTo>
                    <a:pt x="410" y="1413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401" y="1682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27" y="1554"/>
                  </a:lnTo>
                  <a:lnTo>
                    <a:pt x="1002" y="1765"/>
                  </a:lnTo>
                  <a:lnTo>
                    <a:pt x="1063" y="1704"/>
                  </a:lnTo>
                  <a:lnTo>
                    <a:pt x="1094" y="1293"/>
                  </a:lnTo>
                  <a:lnTo>
                    <a:pt x="1284" y="896"/>
                  </a:lnTo>
                  <a:lnTo>
                    <a:pt x="1244" y="675"/>
                  </a:lnTo>
                  <a:lnTo>
                    <a:pt x="1107" y="587"/>
                  </a:lnTo>
                  <a:lnTo>
                    <a:pt x="971" y="605"/>
                  </a:lnTo>
                  <a:lnTo>
                    <a:pt x="927" y="418"/>
                  </a:lnTo>
                  <a:lnTo>
                    <a:pt x="781" y="374"/>
                  </a:lnTo>
                  <a:lnTo>
                    <a:pt x="662" y="321"/>
                  </a:lnTo>
                  <a:lnTo>
                    <a:pt x="586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1840" y="1460520"/>
              <a:ext cx="135360" cy="311400"/>
            </a:xfrm>
            <a:custGeom>
              <a:avLst/>
              <a:gdLst/>
              <a:ahLst/>
              <a:rect l="0" t="0" r="r" b="b"/>
              <a:pathLst>
                <a:path w="376" h="865">
                  <a:moveTo>
                    <a:pt x="186" y="0"/>
                  </a:moveTo>
                  <a:lnTo>
                    <a:pt x="376" y="224"/>
                  </a:lnTo>
                  <a:lnTo>
                    <a:pt x="288" y="706"/>
                  </a:lnTo>
                  <a:lnTo>
                    <a:pt x="0" y="865"/>
                  </a:lnTo>
                  <a:lnTo>
                    <a:pt x="0" y="613"/>
                  </a:lnTo>
                  <a:lnTo>
                    <a:pt x="115" y="370"/>
                  </a:lnTo>
                  <a:lnTo>
                    <a:pt x="186" y="18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6000" y="1282680"/>
              <a:ext cx="343440" cy="279720"/>
            </a:xfrm>
            <a:custGeom>
              <a:avLst/>
              <a:gdLst/>
              <a:ahLst/>
              <a:rect l="0" t="0" r="r" b="b"/>
              <a:pathLst>
                <a:path w="954" h="777">
                  <a:moveTo>
                    <a:pt x="397" y="0"/>
                  </a:moveTo>
                  <a:lnTo>
                    <a:pt x="397" y="119"/>
                  </a:lnTo>
                  <a:lnTo>
                    <a:pt x="428" y="229"/>
                  </a:lnTo>
                  <a:lnTo>
                    <a:pt x="618" y="419"/>
                  </a:lnTo>
                  <a:lnTo>
                    <a:pt x="954" y="525"/>
                  </a:lnTo>
                  <a:lnTo>
                    <a:pt x="910" y="768"/>
                  </a:lnTo>
                  <a:lnTo>
                    <a:pt x="618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6" y="13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73880" y="966960"/>
              <a:ext cx="475200" cy="616320"/>
            </a:xfrm>
            <a:custGeom>
              <a:avLst/>
              <a:gdLst/>
              <a:ahLst/>
              <a:rect l="0" t="0" r="r" b="b"/>
              <a:pathLst>
                <a:path w="1320" h="1712">
                  <a:moveTo>
                    <a:pt x="119" y="733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4"/>
                  </a:lnTo>
                  <a:lnTo>
                    <a:pt x="538" y="1704"/>
                  </a:lnTo>
                  <a:lnTo>
                    <a:pt x="627" y="1712"/>
                  </a:lnTo>
                  <a:lnTo>
                    <a:pt x="693" y="1593"/>
                  </a:lnTo>
                  <a:lnTo>
                    <a:pt x="702" y="1346"/>
                  </a:lnTo>
                  <a:lnTo>
                    <a:pt x="909" y="1571"/>
                  </a:lnTo>
                  <a:lnTo>
                    <a:pt x="988" y="1554"/>
                  </a:lnTo>
                  <a:lnTo>
                    <a:pt x="966" y="1404"/>
                  </a:lnTo>
                  <a:lnTo>
                    <a:pt x="891" y="1187"/>
                  </a:lnTo>
                  <a:lnTo>
                    <a:pt x="812" y="1050"/>
                  </a:lnTo>
                  <a:lnTo>
                    <a:pt x="843" y="949"/>
                  </a:lnTo>
                  <a:lnTo>
                    <a:pt x="891" y="962"/>
                  </a:lnTo>
                  <a:lnTo>
                    <a:pt x="1077" y="1187"/>
                  </a:lnTo>
                  <a:lnTo>
                    <a:pt x="1280" y="1235"/>
                  </a:lnTo>
                  <a:lnTo>
                    <a:pt x="1320" y="1173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0"/>
                  </a:lnTo>
                  <a:lnTo>
                    <a:pt x="591" y="414"/>
                  </a:lnTo>
                  <a:lnTo>
                    <a:pt x="693" y="233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68"/>
                  </a:lnTo>
                  <a:lnTo>
                    <a:pt x="211" y="534"/>
                  </a:lnTo>
                  <a:lnTo>
                    <a:pt x="158" y="662"/>
                  </a:lnTo>
                  <a:lnTo>
                    <a:pt x="119" y="73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91240" y="434880"/>
              <a:ext cx="519480" cy="783000"/>
            </a:xfrm>
            <a:custGeom>
              <a:avLst/>
              <a:gdLst/>
              <a:ahLst/>
              <a:rect l="0" t="0" r="r" b="b"/>
              <a:pathLst>
                <a:path w="1443" h="2175">
                  <a:moveTo>
                    <a:pt x="362" y="304"/>
                  </a:moveTo>
                  <a:lnTo>
                    <a:pt x="251" y="724"/>
                  </a:lnTo>
                  <a:lnTo>
                    <a:pt x="13" y="803"/>
                  </a:lnTo>
                  <a:lnTo>
                    <a:pt x="79" y="935"/>
                  </a:lnTo>
                  <a:lnTo>
                    <a:pt x="0" y="1015"/>
                  </a:lnTo>
                  <a:lnTo>
                    <a:pt x="0" y="1165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304" y="1787"/>
                  </a:lnTo>
                  <a:lnTo>
                    <a:pt x="384" y="1999"/>
                  </a:lnTo>
                  <a:lnTo>
                    <a:pt x="688" y="2175"/>
                  </a:lnTo>
                  <a:lnTo>
                    <a:pt x="979" y="2145"/>
                  </a:lnTo>
                  <a:lnTo>
                    <a:pt x="1117" y="1787"/>
                  </a:lnTo>
                  <a:lnTo>
                    <a:pt x="1152" y="1235"/>
                  </a:lnTo>
                  <a:lnTo>
                    <a:pt x="1443" y="962"/>
                  </a:lnTo>
                  <a:lnTo>
                    <a:pt x="1435" y="852"/>
                  </a:lnTo>
                  <a:lnTo>
                    <a:pt x="1399" y="803"/>
                  </a:lnTo>
                  <a:lnTo>
                    <a:pt x="1249" y="790"/>
                  </a:lnTo>
                  <a:lnTo>
                    <a:pt x="1294" y="644"/>
                  </a:lnTo>
                  <a:lnTo>
                    <a:pt x="1144" y="547"/>
                  </a:lnTo>
                  <a:lnTo>
                    <a:pt x="1076" y="242"/>
                  </a:lnTo>
                  <a:lnTo>
                    <a:pt x="627" y="0"/>
                  </a:lnTo>
                  <a:lnTo>
                    <a:pt x="384" y="220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29400" y="1090440"/>
              <a:ext cx="478080" cy="938520"/>
            </a:xfrm>
            <a:custGeom>
              <a:avLst/>
              <a:gdLst/>
              <a:ahLst/>
              <a:rect l="0" t="0" r="r" b="b"/>
              <a:pathLst>
                <a:path w="1328" h="2607">
                  <a:moveTo>
                    <a:pt x="268" y="141"/>
                  </a:moveTo>
                  <a:lnTo>
                    <a:pt x="458" y="260"/>
                  </a:lnTo>
                  <a:lnTo>
                    <a:pt x="555" y="405"/>
                  </a:lnTo>
                  <a:lnTo>
                    <a:pt x="1085" y="0"/>
                  </a:lnTo>
                  <a:lnTo>
                    <a:pt x="1253" y="88"/>
                  </a:lnTo>
                  <a:lnTo>
                    <a:pt x="1328" y="502"/>
                  </a:lnTo>
                  <a:lnTo>
                    <a:pt x="949" y="1689"/>
                  </a:lnTo>
                  <a:lnTo>
                    <a:pt x="1068" y="2355"/>
                  </a:lnTo>
                  <a:lnTo>
                    <a:pt x="564" y="2607"/>
                  </a:lnTo>
                  <a:lnTo>
                    <a:pt x="180" y="2466"/>
                  </a:lnTo>
                  <a:lnTo>
                    <a:pt x="180" y="1764"/>
                  </a:lnTo>
                  <a:lnTo>
                    <a:pt x="0" y="1084"/>
                  </a:lnTo>
                  <a:lnTo>
                    <a:pt x="180" y="260"/>
                  </a:lnTo>
                  <a:lnTo>
                    <a:pt x="268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32868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49" y="654"/>
                  </a:moveTo>
                  <a:lnTo>
                    <a:pt x="331" y="472"/>
                  </a:lnTo>
                  <a:lnTo>
                    <a:pt x="446" y="441"/>
                  </a:lnTo>
                  <a:lnTo>
                    <a:pt x="446" y="468"/>
                  </a:lnTo>
                  <a:lnTo>
                    <a:pt x="508" y="441"/>
                  </a:lnTo>
                  <a:lnTo>
                    <a:pt x="587" y="499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8"/>
                  </a:lnTo>
                  <a:lnTo>
                    <a:pt x="1174" y="331"/>
                  </a:lnTo>
                  <a:lnTo>
                    <a:pt x="994" y="322"/>
                  </a:lnTo>
                  <a:lnTo>
                    <a:pt x="1020" y="181"/>
                  </a:lnTo>
                  <a:lnTo>
                    <a:pt x="865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54"/>
                  </a:lnTo>
                  <a:lnTo>
                    <a:pt x="587" y="154"/>
                  </a:lnTo>
                  <a:lnTo>
                    <a:pt x="596" y="0"/>
                  </a:lnTo>
                  <a:lnTo>
                    <a:pt x="446" y="70"/>
                  </a:lnTo>
                  <a:lnTo>
                    <a:pt x="242" y="322"/>
                  </a:lnTo>
                  <a:lnTo>
                    <a:pt x="229" y="154"/>
                  </a:lnTo>
                  <a:lnTo>
                    <a:pt x="119" y="230"/>
                  </a:lnTo>
                  <a:lnTo>
                    <a:pt x="88" y="441"/>
                  </a:lnTo>
                  <a:lnTo>
                    <a:pt x="0" y="411"/>
                  </a:lnTo>
                  <a:lnTo>
                    <a:pt x="8" y="544"/>
                  </a:lnTo>
                  <a:lnTo>
                    <a:pt x="149" y="6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67640" y="1262160"/>
              <a:ext cx="143280" cy="713160"/>
            </a:xfrm>
            <a:custGeom>
              <a:avLst/>
              <a:gdLst/>
              <a:ahLst/>
              <a:rect l="0" t="0" r="r" b="b"/>
              <a:pathLst>
                <a:path w="398" h="1981">
                  <a:moveTo>
                    <a:pt x="199" y="8"/>
                  </a:moveTo>
                  <a:lnTo>
                    <a:pt x="70" y="97"/>
                  </a:lnTo>
                  <a:lnTo>
                    <a:pt x="70" y="268"/>
                  </a:lnTo>
                  <a:lnTo>
                    <a:pt x="164" y="317"/>
                  </a:lnTo>
                  <a:lnTo>
                    <a:pt x="35" y="587"/>
                  </a:lnTo>
                  <a:lnTo>
                    <a:pt x="0" y="931"/>
                  </a:lnTo>
                  <a:lnTo>
                    <a:pt x="97" y="1390"/>
                  </a:lnTo>
                  <a:lnTo>
                    <a:pt x="97" y="1576"/>
                  </a:lnTo>
                  <a:lnTo>
                    <a:pt x="44" y="1721"/>
                  </a:lnTo>
                  <a:lnTo>
                    <a:pt x="256" y="1981"/>
                  </a:lnTo>
                  <a:lnTo>
                    <a:pt x="390" y="1598"/>
                  </a:lnTo>
                  <a:lnTo>
                    <a:pt x="390" y="1328"/>
                  </a:lnTo>
                  <a:lnTo>
                    <a:pt x="283" y="1081"/>
                  </a:lnTo>
                  <a:lnTo>
                    <a:pt x="239" y="746"/>
                  </a:lnTo>
                  <a:lnTo>
                    <a:pt x="332" y="418"/>
                  </a:lnTo>
                  <a:lnTo>
                    <a:pt x="306" y="295"/>
                  </a:lnTo>
                  <a:lnTo>
                    <a:pt x="398" y="220"/>
                  </a:lnTo>
                  <a:lnTo>
                    <a:pt x="390" y="141"/>
                  </a:lnTo>
                  <a:lnTo>
                    <a:pt x="265" y="0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66200" y="102564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73"/>
                  </a:lnTo>
                  <a:lnTo>
                    <a:pt x="319" y="13"/>
                  </a:lnTo>
                  <a:lnTo>
                    <a:pt x="177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70020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74" y="385"/>
                  </a:lnTo>
                  <a:lnTo>
                    <a:pt x="393" y="354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92920" y="66816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4" y="380"/>
                  </a:lnTo>
                  <a:lnTo>
                    <a:pt x="341" y="292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8360" y="49068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6" y="574"/>
                  </a:moveTo>
                  <a:lnTo>
                    <a:pt x="508" y="538"/>
                  </a:lnTo>
                  <a:lnTo>
                    <a:pt x="618" y="446"/>
                  </a:lnTo>
                  <a:lnTo>
                    <a:pt x="569" y="411"/>
                  </a:lnTo>
                  <a:lnTo>
                    <a:pt x="437" y="525"/>
                  </a:lnTo>
                  <a:lnTo>
                    <a:pt x="176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2" y="967"/>
                  </a:lnTo>
                  <a:lnTo>
                    <a:pt x="61" y="662"/>
                  </a:lnTo>
                  <a:lnTo>
                    <a:pt x="282" y="574"/>
                  </a:lnTo>
                  <a:lnTo>
                    <a:pt x="437" y="574"/>
                  </a:lnTo>
                  <a:lnTo>
                    <a:pt x="547" y="636"/>
                  </a:lnTo>
                  <a:lnTo>
                    <a:pt x="569" y="715"/>
                  </a:lnTo>
                  <a:lnTo>
                    <a:pt x="569" y="901"/>
                  </a:lnTo>
                  <a:lnTo>
                    <a:pt x="569" y="958"/>
                  </a:lnTo>
                  <a:lnTo>
                    <a:pt x="640" y="870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4" y="914"/>
                  </a:lnTo>
                  <a:lnTo>
                    <a:pt x="1006" y="914"/>
                  </a:lnTo>
                  <a:lnTo>
                    <a:pt x="1179" y="879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5"/>
                  </a:lnTo>
                  <a:lnTo>
                    <a:pt x="1342" y="468"/>
                  </a:lnTo>
                  <a:lnTo>
                    <a:pt x="1183" y="419"/>
                  </a:lnTo>
                  <a:lnTo>
                    <a:pt x="1157" y="216"/>
                  </a:lnTo>
                  <a:lnTo>
                    <a:pt x="1015" y="216"/>
                  </a:lnTo>
                  <a:lnTo>
                    <a:pt x="843" y="0"/>
                  </a:lnTo>
                  <a:lnTo>
                    <a:pt x="1002" y="233"/>
                  </a:lnTo>
                  <a:lnTo>
                    <a:pt x="1051" y="233"/>
                  </a:lnTo>
                  <a:lnTo>
                    <a:pt x="1082" y="411"/>
                  </a:lnTo>
                  <a:lnTo>
                    <a:pt x="891" y="468"/>
                  </a:lnTo>
                  <a:lnTo>
                    <a:pt x="746" y="419"/>
                  </a:lnTo>
                  <a:lnTo>
                    <a:pt x="724" y="468"/>
                  </a:lnTo>
                  <a:lnTo>
                    <a:pt x="807" y="525"/>
                  </a:lnTo>
                  <a:lnTo>
                    <a:pt x="807" y="561"/>
                  </a:lnTo>
                  <a:lnTo>
                    <a:pt x="966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88" y="596"/>
                  </a:lnTo>
                  <a:lnTo>
                    <a:pt x="1157" y="680"/>
                  </a:lnTo>
                  <a:lnTo>
                    <a:pt x="1157" y="800"/>
                  </a:lnTo>
                  <a:lnTo>
                    <a:pt x="1060" y="848"/>
                  </a:lnTo>
                  <a:lnTo>
                    <a:pt x="927" y="861"/>
                  </a:lnTo>
                  <a:lnTo>
                    <a:pt x="834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59720" y="890640"/>
              <a:ext cx="159120" cy="71640"/>
            </a:xfrm>
            <a:custGeom>
              <a:avLst/>
              <a:gdLst/>
              <a:ahLst/>
              <a:rect l="0" t="0" r="r" b="b"/>
              <a:pathLst>
                <a:path w="442" h="199">
                  <a:moveTo>
                    <a:pt x="0" y="0"/>
                  </a:moveTo>
                  <a:lnTo>
                    <a:pt x="70" y="92"/>
                  </a:lnTo>
                  <a:lnTo>
                    <a:pt x="261" y="92"/>
                  </a:lnTo>
                  <a:lnTo>
                    <a:pt x="341" y="30"/>
                  </a:lnTo>
                  <a:lnTo>
                    <a:pt x="442" y="30"/>
                  </a:lnTo>
                  <a:lnTo>
                    <a:pt x="425" y="57"/>
                  </a:lnTo>
                  <a:lnTo>
                    <a:pt x="425" y="92"/>
                  </a:lnTo>
                  <a:lnTo>
                    <a:pt x="247" y="199"/>
                  </a:lnTo>
                  <a:lnTo>
                    <a:pt x="146" y="199"/>
                  </a:lnTo>
                  <a:lnTo>
                    <a:pt x="88" y="159"/>
                  </a:lnTo>
                  <a:lnTo>
                    <a:pt x="3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1880" y="776160"/>
              <a:ext cx="240120" cy="371880"/>
            </a:xfrm>
            <a:custGeom>
              <a:avLst/>
              <a:gdLst/>
              <a:ahLst/>
              <a:rect l="0" t="0" r="r" b="b"/>
              <a:pathLst>
                <a:path w="667" h="1033">
                  <a:moveTo>
                    <a:pt x="667" y="70"/>
                  </a:moveTo>
                  <a:lnTo>
                    <a:pt x="667" y="92"/>
                  </a:lnTo>
                  <a:lnTo>
                    <a:pt x="553" y="198"/>
                  </a:lnTo>
                  <a:lnTo>
                    <a:pt x="450" y="216"/>
                  </a:lnTo>
                  <a:lnTo>
                    <a:pt x="265" y="185"/>
                  </a:lnTo>
                  <a:lnTo>
                    <a:pt x="300" y="556"/>
                  </a:lnTo>
                  <a:lnTo>
                    <a:pt x="344" y="866"/>
                  </a:lnTo>
                  <a:lnTo>
                    <a:pt x="424" y="1033"/>
                  </a:lnTo>
                  <a:lnTo>
                    <a:pt x="344" y="919"/>
                  </a:lnTo>
                  <a:lnTo>
                    <a:pt x="314" y="782"/>
                  </a:lnTo>
                  <a:lnTo>
                    <a:pt x="256" y="433"/>
                  </a:lnTo>
                  <a:lnTo>
                    <a:pt x="203" y="450"/>
                  </a:lnTo>
                  <a:lnTo>
                    <a:pt x="141" y="419"/>
                  </a:lnTo>
                  <a:lnTo>
                    <a:pt x="8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30" y="13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20"/>
                  </a:lnTo>
                  <a:lnTo>
                    <a:pt x="132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52" y="141"/>
                  </a:lnTo>
                  <a:lnTo>
                    <a:pt x="371" y="167"/>
                  </a:lnTo>
                  <a:lnTo>
                    <a:pt x="481" y="158"/>
                  </a:lnTo>
                  <a:lnTo>
                    <a:pt x="592" y="101"/>
                  </a:lnTo>
                  <a:lnTo>
                    <a:pt x="667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5240" y="479520"/>
              <a:ext cx="73440" cy="200520"/>
            </a:xfrm>
            <a:custGeom>
              <a:avLst/>
              <a:gdLst/>
              <a:ahLst/>
              <a:rect l="0" t="0" r="r" b="b"/>
              <a:pathLst>
                <a:path w="204" h="557">
                  <a:moveTo>
                    <a:pt x="106" y="557"/>
                  </a:moveTo>
                  <a:lnTo>
                    <a:pt x="204" y="23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8" y="136"/>
                  </a:lnTo>
                  <a:lnTo>
                    <a:pt x="71" y="195"/>
                  </a:lnTo>
                  <a:lnTo>
                    <a:pt x="80" y="353"/>
                  </a:lnTo>
                  <a:lnTo>
                    <a:pt x="124" y="420"/>
                  </a:lnTo>
                  <a:lnTo>
                    <a:pt x="106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2360" y="30492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0"/>
                  </a:moveTo>
                  <a:lnTo>
                    <a:pt x="145" y="570"/>
                  </a:lnTo>
                  <a:lnTo>
                    <a:pt x="132" y="468"/>
                  </a:lnTo>
                  <a:lnTo>
                    <a:pt x="149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12" y="141"/>
                  </a:lnTo>
                  <a:lnTo>
                    <a:pt x="569" y="119"/>
                  </a:lnTo>
                  <a:lnTo>
                    <a:pt x="521" y="243"/>
                  </a:lnTo>
                  <a:lnTo>
                    <a:pt x="675" y="305"/>
                  </a:lnTo>
                  <a:lnTo>
                    <a:pt x="799" y="17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5"/>
                  </a:lnTo>
                  <a:lnTo>
                    <a:pt x="993" y="309"/>
                  </a:lnTo>
                  <a:lnTo>
                    <a:pt x="900" y="402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3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6" y="685"/>
                  </a:lnTo>
                  <a:lnTo>
                    <a:pt x="1236" y="725"/>
                  </a:lnTo>
                  <a:lnTo>
                    <a:pt x="1214" y="614"/>
                  </a:lnTo>
                  <a:lnTo>
                    <a:pt x="1369" y="557"/>
                  </a:lnTo>
                  <a:lnTo>
                    <a:pt x="1258" y="508"/>
                  </a:lnTo>
                  <a:lnTo>
                    <a:pt x="1514" y="486"/>
                  </a:lnTo>
                  <a:lnTo>
                    <a:pt x="1294" y="362"/>
                  </a:lnTo>
                  <a:lnTo>
                    <a:pt x="1041" y="344"/>
                  </a:lnTo>
                  <a:lnTo>
                    <a:pt x="1236" y="221"/>
                  </a:lnTo>
                  <a:lnTo>
                    <a:pt x="882" y="221"/>
                  </a:lnTo>
                  <a:lnTo>
                    <a:pt x="1050" y="110"/>
                  </a:lnTo>
                  <a:lnTo>
                    <a:pt x="785" y="141"/>
                  </a:lnTo>
                  <a:lnTo>
                    <a:pt x="666" y="199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4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61160" y="444600"/>
              <a:ext cx="152640" cy="81360"/>
            </a:xfrm>
            <a:custGeom>
              <a:avLst/>
              <a:gdLst/>
              <a:ahLst/>
              <a:rect l="0" t="0" r="r" b="b"/>
              <a:pathLst>
                <a:path w="424" h="226">
                  <a:moveTo>
                    <a:pt x="0" y="226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11" y="89"/>
                  </a:lnTo>
                  <a:lnTo>
                    <a:pt x="265" y="178"/>
                  </a:lnTo>
                  <a:lnTo>
                    <a:pt x="424" y="218"/>
                  </a:lnTo>
                  <a:lnTo>
                    <a:pt x="256" y="187"/>
                  </a:lnTo>
                  <a:lnTo>
                    <a:pt x="202" y="128"/>
                  </a:lnTo>
                  <a:lnTo>
                    <a:pt x="127" y="187"/>
                  </a:lnTo>
                  <a:lnTo>
                    <a:pt x="127" y="111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48560" y="979560"/>
              <a:ext cx="184680" cy="120960"/>
            </a:xfrm>
            <a:custGeom>
              <a:avLst/>
              <a:gdLst/>
              <a:ahLst/>
              <a:rect l="0" t="0" r="r" b="b"/>
              <a:pathLst>
                <a:path w="513" h="336">
                  <a:moveTo>
                    <a:pt x="97" y="114"/>
                  </a:moveTo>
                  <a:lnTo>
                    <a:pt x="305" y="97"/>
                  </a:lnTo>
                  <a:lnTo>
                    <a:pt x="407" y="127"/>
                  </a:lnTo>
                  <a:lnTo>
                    <a:pt x="456" y="83"/>
                  </a:lnTo>
                  <a:lnTo>
                    <a:pt x="513" y="190"/>
                  </a:lnTo>
                  <a:lnTo>
                    <a:pt x="482" y="208"/>
                  </a:lnTo>
                  <a:lnTo>
                    <a:pt x="434" y="163"/>
                  </a:lnTo>
                  <a:lnTo>
                    <a:pt x="367" y="243"/>
                  </a:lnTo>
                  <a:lnTo>
                    <a:pt x="234" y="336"/>
                  </a:lnTo>
                  <a:lnTo>
                    <a:pt x="181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25" y="327"/>
                  </a:lnTo>
                  <a:lnTo>
                    <a:pt x="305" y="261"/>
                  </a:lnTo>
                  <a:lnTo>
                    <a:pt x="358" y="149"/>
                  </a:lnTo>
                  <a:lnTo>
                    <a:pt x="274" y="136"/>
                  </a:lnTo>
                  <a:lnTo>
                    <a:pt x="221" y="127"/>
                  </a:lnTo>
                  <a:lnTo>
                    <a:pt x="88" y="141"/>
                  </a:lnTo>
                  <a:lnTo>
                    <a:pt x="83" y="239"/>
                  </a:lnTo>
                  <a:lnTo>
                    <a:pt x="35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48" y="0"/>
                  </a:lnTo>
                  <a:lnTo>
                    <a:pt x="97" y="92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3000" y="72720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2" y="0"/>
                  </a:moveTo>
                  <a:lnTo>
                    <a:pt x="1032" y="0"/>
                  </a:lnTo>
                  <a:lnTo>
                    <a:pt x="1099" y="70"/>
                  </a:lnTo>
                  <a:lnTo>
                    <a:pt x="1099" y="154"/>
                  </a:lnTo>
                  <a:lnTo>
                    <a:pt x="1006" y="397"/>
                  </a:lnTo>
                  <a:lnTo>
                    <a:pt x="918" y="508"/>
                  </a:lnTo>
                  <a:lnTo>
                    <a:pt x="821" y="521"/>
                  </a:lnTo>
                  <a:lnTo>
                    <a:pt x="799" y="521"/>
                  </a:lnTo>
                  <a:lnTo>
                    <a:pt x="799" y="821"/>
                  </a:lnTo>
                  <a:lnTo>
                    <a:pt x="843" y="1037"/>
                  </a:lnTo>
                  <a:lnTo>
                    <a:pt x="843" y="1205"/>
                  </a:lnTo>
                  <a:lnTo>
                    <a:pt x="671" y="1391"/>
                  </a:lnTo>
                  <a:lnTo>
                    <a:pt x="445" y="1505"/>
                  </a:lnTo>
                  <a:lnTo>
                    <a:pt x="299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9"/>
                  </a:lnTo>
                  <a:lnTo>
                    <a:pt x="119" y="1205"/>
                  </a:lnTo>
                  <a:lnTo>
                    <a:pt x="216" y="1289"/>
                  </a:lnTo>
                  <a:lnTo>
                    <a:pt x="379" y="1294"/>
                  </a:lnTo>
                  <a:lnTo>
                    <a:pt x="546" y="1214"/>
                  </a:lnTo>
                  <a:lnTo>
                    <a:pt x="631" y="1139"/>
                  </a:lnTo>
                  <a:lnTo>
                    <a:pt x="724" y="979"/>
                  </a:lnTo>
                  <a:lnTo>
                    <a:pt x="737" y="799"/>
                  </a:lnTo>
                  <a:lnTo>
                    <a:pt x="768" y="220"/>
                  </a:lnTo>
                  <a:lnTo>
                    <a:pt x="803" y="304"/>
                  </a:lnTo>
                  <a:lnTo>
                    <a:pt x="913" y="198"/>
                  </a:lnTo>
                  <a:lnTo>
                    <a:pt x="1024" y="154"/>
                  </a:lnTo>
                  <a:lnTo>
                    <a:pt x="1059" y="97"/>
                  </a:lnTo>
                  <a:lnTo>
                    <a:pt x="1037" y="35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2080" y="119376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4" y="0"/>
                  </a:moveTo>
                  <a:lnTo>
                    <a:pt x="216" y="61"/>
                  </a:lnTo>
                  <a:lnTo>
                    <a:pt x="291" y="343"/>
                  </a:lnTo>
                  <a:lnTo>
                    <a:pt x="521" y="415"/>
                  </a:lnTo>
                  <a:lnTo>
                    <a:pt x="583" y="486"/>
                  </a:lnTo>
                  <a:lnTo>
                    <a:pt x="591" y="591"/>
                  </a:lnTo>
                  <a:lnTo>
                    <a:pt x="706" y="583"/>
                  </a:lnTo>
                  <a:lnTo>
                    <a:pt x="847" y="666"/>
                  </a:lnTo>
                  <a:lnTo>
                    <a:pt x="887" y="790"/>
                  </a:lnTo>
                  <a:lnTo>
                    <a:pt x="887" y="979"/>
                  </a:lnTo>
                  <a:lnTo>
                    <a:pt x="706" y="1285"/>
                  </a:lnTo>
                  <a:lnTo>
                    <a:pt x="644" y="1399"/>
                  </a:lnTo>
                  <a:lnTo>
                    <a:pt x="675" y="1236"/>
                  </a:lnTo>
                  <a:lnTo>
                    <a:pt x="644" y="1179"/>
                  </a:lnTo>
                  <a:lnTo>
                    <a:pt x="534" y="1073"/>
                  </a:lnTo>
                  <a:lnTo>
                    <a:pt x="361" y="957"/>
                  </a:lnTo>
                  <a:lnTo>
                    <a:pt x="569" y="1024"/>
                  </a:lnTo>
                  <a:lnTo>
                    <a:pt x="693" y="1113"/>
                  </a:lnTo>
                  <a:lnTo>
                    <a:pt x="755" y="1100"/>
                  </a:lnTo>
                  <a:lnTo>
                    <a:pt x="794" y="1041"/>
                  </a:lnTo>
                  <a:lnTo>
                    <a:pt x="847" y="909"/>
                  </a:lnTo>
                  <a:lnTo>
                    <a:pt x="825" y="768"/>
                  </a:lnTo>
                  <a:lnTo>
                    <a:pt x="768" y="693"/>
                  </a:lnTo>
                  <a:lnTo>
                    <a:pt x="658" y="666"/>
                  </a:lnTo>
                  <a:lnTo>
                    <a:pt x="534" y="666"/>
                  </a:lnTo>
                  <a:lnTo>
                    <a:pt x="494" y="468"/>
                  </a:lnTo>
                  <a:lnTo>
                    <a:pt x="299" y="389"/>
                  </a:lnTo>
                  <a:lnTo>
                    <a:pt x="299" y="441"/>
                  </a:lnTo>
                  <a:lnTo>
                    <a:pt x="216" y="304"/>
                  </a:lnTo>
                  <a:lnTo>
                    <a:pt x="158" y="61"/>
                  </a:lnTo>
                  <a:lnTo>
                    <a:pt x="88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9" y="441"/>
                  </a:lnTo>
                  <a:lnTo>
                    <a:pt x="185" y="591"/>
                  </a:lnTo>
                  <a:lnTo>
                    <a:pt x="70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0" y="141444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8" y="70"/>
                  </a:lnTo>
                  <a:lnTo>
                    <a:pt x="327" y="340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09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1" y="834"/>
                  </a:lnTo>
                  <a:lnTo>
                    <a:pt x="282" y="1025"/>
                  </a:lnTo>
                  <a:lnTo>
                    <a:pt x="282" y="1086"/>
                  </a:lnTo>
                  <a:lnTo>
                    <a:pt x="411" y="1117"/>
                  </a:lnTo>
                  <a:lnTo>
                    <a:pt x="327" y="1064"/>
                  </a:lnTo>
                  <a:lnTo>
                    <a:pt x="336" y="1025"/>
                  </a:lnTo>
                  <a:lnTo>
                    <a:pt x="424" y="888"/>
                  </a:lnTo>
                  <a:lnTo>
                    <a:pt x="486" y="622"/>
                  </a:lnTo>
                  <a:lnTo>
                    <a:pt x="446" y="477"/>
                  </a:lnTo>
                  <a:lnTo>
                    <a:pt x="344" y="552"/>
                  </a:lnTo>
                  <a:lnTo>
                    <a:pt x="136" y="897"/>
                  </a:lnTo>
                  <a:lnTo>
                    <a:pt x="83" y="901"/>
                  </a:lnTo>
                  <a:lnTo>
                    <a:pt x="30" y="861"/>
                  </a:lnTo>
                  <a:lnTo>
                    <a:pt x="30" y="759"/>
                  </a:lnTo>
                  <a:lnTo>
                    <a:pt x="114" y="631"/>
                  </a:lnTo>
                  <a:lnTo>
                    <a:pt x="344" y="367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15320" y="1641600"/>
              <a:ext cx="128880" cy="192600"/>
            </a:xfrm>
            <a:custGeom>
              <a:avLst/>
              <a:gdLst/>
              <a:ahLst/>
              <a:rect l="0" t="0" r="r" b="b"/>
              <a:pathLst>
                <a:path w="358" h="535">
                  <a:moveTo>
                    <a:pt x="0" y="473"/>
                  </a:moveTo>
                  <a:lnTo>
                    <a:pt x="114" y="331"/>
                  </a:lnTo>
                  <a:lnTo>
                    <a:pt x="141" y="203"/>
                  </a:lnTo>
                  <a:lnTo>
                    <a:pt x="274" y="0"/>
                  </a:lnTo>
                  <a:lnTo>
                    <a:pt x="305" y="127"/>
                  </a:lnTo>
                  <a:lnTo>
                    <a:pt x="287" y="482"/>
                  </a:lnTo>
                  <a:lnTo>
                    <a:pt x="358" y="535"/>
                  </a:lnTo>
                  <a:lnTo>
                    <a:pt x="252" y="495"/>
                  </a:lnTo>
                  <a:lnTo>
                    <a:pt x="203" y="292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74080" y="1652760"/>
              <a:ext cx="87840" cy="173520"/>
            </a:xfrm>
            <a:custGeom>
              <a:avLst/>
              <a:gdLst/>
              <a:ahLst/>
              <a:rect l="0" t="0" r="r" b="b"/>
              <a:pathLst>
                <a:path w="244" h="482">
                  <a:moveTo>
                    <a:pt x="0" y="368"/>
                  </a:moveTo>
                  <a:lnTo>
                    <a:pt x="13" y="181"/>
                  </a:lnTo>
                  <a:lnTo>
                    <a:pt x="67" y="74"/>
                  </a:lnTo>
                  <a:lnTo>
                    <a:pt x="120" y="456"/>
                  </a:lnTo>
                  <a:lnTo>
                    <a:pt x="191" y="456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14"/>
                  </a:lnTo>
                  <a:lnTo>
                    <a:pt x="191" y="482"/>
                  </a:lnTo>
                  <a:lnTo>
                    <a:pt x="98" y="482"/>
                  </a:lnTo>
                  <a:lnTo>
                    <a:pt x="57" y="155"/>
                  </a:lnTo>
                  <a:lnTo>
                    <a:pt x="30" y="19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72440" y="973080"/>
              <a:ext cx="208440" cy="459000"/>
            </a:xfrm>
            <a:custGeom>
              <a:avLst/>
              <a:gdLst/>
              <a:ahLst/>
              <a:rect l="0" t="0" r="r" b="b"/>
              <a:pathLst>
                <a:path w="579" h="1275">
                  <a:moveTo>
                    <a:pt x="150" y="688"/>
                  </a:moveTo>
                  <a:lnTo>
                    <a:pt x="199" y="489"/>
                  </a:lnTo>
                  <a:lnTo>
                    <a:pt x="389" y="436"/>
                  </a:lnTo>
                  <a:lnTo>
                    <a:pt x="579" y="0"/>
                  </a:lnTo>
                  <a:lnTo>
                    <a:pt x="579" y="123"/>
                  </a:lnTo>
                  <a:lnTo>
                    <a:pt x="424" y="467"/>
                  </a:lnTo>
                  <a:lnTo>
                    <a:pt x="217" y="529"/>
                  </a:lnTo>
                  <a:lnTo>
                    <a:pt x="186" y="688"/>
                  </a:lnTo>
                  <a:lnTo>
                    <a:pt x="256" y="688"/>
                  </a:lnTo>
                  <a:lnTo>
                    <a:pt x="74" y="759"/>
                  </a:lnTo>
                  <a:lnTo>
                    <a:pt x="30" y="896"/>
                  </a:lnTo>
                  <a:lnTo>
                    <a:pt x="39" y="1072"/>
                  </a:lnTo>
                  <a:lnTo>
                    <a:pt x="234" y="1275"/>
                  </a:lnTo>
                  <a:lnTo>
                    <a:pt x="30" y="1099"/>
                  </a:lnTo>
                  <a:lnTo>
                    <a:pt x="0" y="953"/>
                  </a:lnTo>
                  <a:lnTo>
                    <a:pt x="13" y="803"/>
                  </a:lnTo>
                  <a:lnTo>
                    <a:pt x="88" y="697"/>
                  </a:lnTo>
                  <a:lnTo>
                    <a:pt x="150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973080"/>
              <a:ext cx="348120" cy="448200"/>
            </a:xfrm>
            <a:custGeom>
              <a:avLst/>
              <a:gdLst/>
              <a:ahLst/>
              <a:rect l="0" t="0" r="r" b="b"/>
              <a:pathLst>
                <a:path w="967" h="1245">
                  <a:moveTo>
                    <a:pt x="265" y="0"/>
                  </a:moveTo>
                  <a:lnTo>
                    <a:pt x="327" y="39"/>
                  </a:lnTo>
                  <a:lnTo>
                    <a:pt x="340" y="145"/>
                  </a:lnTo>
                  <a:lnTo>
                    <a:pt x="340" y="242"/>
                  </a:lnTo>
                  <a:lnTo>
                    <a:pt x="233" y="424"/>
                  </a:lnTo>
                  <a:lnTo>
                    <a:pt x="256" y="561"/>
                  </a:lnTo>
                  <a:lnTo>
                    <a:pt x="583" y="697"/>
                  </a:lnTo>
                  <a:lnTo>
                    <a:pt x="958" y="1095"/>
                  </a:lnTo>
                  <a:lnTo>
                    <a:pt x="967" y="1201"/>
                  </a:lnTo>
                  <a:lnTo>
                    <a:pt x="945" y="1245"/>
                  </a:lnTo>
                  <a:lnTo>
                    <a:pt x="804" y="1245"/>
                  </a:lnTo>
                  <a:lnTo>
                    <a:pt x="675" y="1166"/>
                  </a:lnTo>
                  <a:lnTo>
                    <a:pt x="569" y="1042"/>
                  </a:lnTo>
                  <a:lnTo>
                    <a:pt x="516" y="972"/>
                  </a:lnTo>
                  <a:lnTo>
                    <a:pt x="446" y="950"/>
                  </a:lnTo>
                  <a:lnTo>
                    <a:pt x="530" y="950"/>
                  </a:lnTo>
                  <a:lnTo>
                    <a:pt x="693" y="1157"/>
                  </a:lnTo>
                  <a:lnTo>
                    <a:pt x="892" y="1214"/>
                  </a:lnTo>
                  <a:lnTo>
                    <a:pt x="936" y="1157"/>
                  </a:lnTo>
                  <a:lnTo>
                    <a:pt x="910" y="1060"/>
                  </a:lnTo>
                  <a:lnTo>
                    <a:pt x="561" y="781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9" y="697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1"/>
                  </a:lnTo>
                  <a:lnTo>
                    <a:pt x="189" y="402"/>
                  </a:lnTo>
                  <a:lnTo>
                    <a:pt x="309" y="242"/>
                  </a:lnTo>
                  <a:lnTo>
                    <a:pt x="309" y="4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48760" y="1322280"/>
              <a:ext cx="295560" cy="270360"/>
            </a:xfrm>
            <a:custGeom>
              <a:avLst/>
              <a:gdLst/>
              <a:ahLst/>
              <a:rect l="0" t="0" r="r" b="b"/>
              <a:pathLst>
                <a:path w="821" h="751">
                  <a:moveTo>
                    <a:pt x="613" y="0"/>
                  </a:moveTo>
                  <a:lnTo>
                    <a:pt x="596" y="61"/>
                  </a:lnTo>
                  <a:lnTo>
                    <a:pt x="715" y="309"/>
                  </a:lnTo>
                  <a:lnTo>
                    <a:pt x="781" y="561"/>
                  </a:lnTo>
                  <a:lnTo>
                    <a:pt x="706" y="561"/>
                  </a:lnTo>
                  <a:lnTo>
                    <a:pt x="587" y="450"/>
                  </a:lnTo>
                  <a:lnTo>
                    <a:pt x="472" y="217"/>
                  </a:lnTo>
                  <a:lnTo>
                    <a:pt x="383" y="190"/>
                  </a:lnTo>
                  <a:lnTo>
                    <a:pt x="401" y="309"/>
                  </a:lnTo>
                  <a:lnTo>
                    <a:pt x="481" y="406"/>
                  </a:lnTo>
                  <a:lnTo>
                    <a:pt x="481" y="588"/>
                  </a:lnTo>
                  <a:lnTo>
                    <a:pt x="419" y="716"/>
                  </a:lnTo>
                  <a:lnTo>
                    <a:pt x="343" y="663"/>
                  </a:lnTo>
                  <a:lnTo>
                    <a:pt x="251" y="450"/>
                  </a:lnTo>
                  <a:lnTo>
                    <a:pt x="229" y="309"/>
                  </a:lnTo>
                  <a:lnTo>
                    <a:pt x="171" y="265"/>
                  </a:lnTo>
                  <a:lnTo>
                    <a:pt x="158" y="637"/>
                  </a:lnTo>
                  <a:lnTo>
                    <a:pt x="88" y="689"/>
                  </a:lnTo>
                  <a:lnTo>
                    <a:pt x="22" y="637"/>
                  </a:lnTo>
                  <a:lnTo>
                    <a:pt x="8" y="318"/>
                  </a:lnTo>
                  <a:lnTo>
                    <a:pt x="0" y="637"/>
                  </a:lnTo>
                  <a:lnTo>
                    <a:pt x="48" y="742"/>
                  </a:lnTo>
                  <a:lnTo>
                    <a:pt x="158" y="742"/>
                  </a:lnTo>
                  <a:lnTo>
                    <a:pt x="198" y="654"/>
                  </a:lnTo>
                  <a:lnTo>
                    <a:pt x="220" y="362"/>
                  </a:lnTo>
                  <a:lnTo>
                    <a:pt x="233" y="481"/>
                  </a:lnTo>
                  <a:lnTo>
                    <a:pt x="335" y="720"/>
                  </a:lnTo>
                  <a:lnTo>
                    <a:pt x="437" y="751"/>
                  </a:lnTo>
                  <a:lnTo>
                    <a:pt x="508" y="654"/>
                  </a:lnTo>
                  <a:lnTo>
                    <a:pt x="508" y="411"/>
                  </a:lnTo>
                  <a:lnTo>
                    <a:pt x="706" y="610"/>
                  </a:lnTo>
                  <a:lnTo>
                    <a:pt x="812" y="610"/>
                  </a:lnTo>
                  <a:lnTo>
                    <a:pt x="821" y="481"/>
                  </a:lnTo>
                  <a:lnTo>
                    <a:pt x="746" y="243"/>
                  </a:lnTo>
                  <a:lnTo>
                    <a:pt x="613" y="57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104940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2" y="260"/>
                  </a:lnTo>
                  <a:lnTo>
                    <a:pt x="1150" y="414"/>
                  </a:lnTo>
                  <a:lnTo>
                    <a:pt x="1111" y="308"/>
                  </a:lnTo>
                  <a:lnTo>
                    <a:pt x="996" y="246"/>
                  </a:lnTo>
                  <a:lnTo>
                    <a:pt x="908" y="286"/>
                  </a:lnTo>
                  <a:lnTo>
                    <a:pt x="873" y="480"/>
                  </a:lnTo>
                  <a:lnTo>
                    <a:pt x="546" y="727"/>
                  </a:lnTo>
                  <a:lnTo>
                    <a:pt x="564" y="829"/>
                  </a:lnTo>
                  <a:lnTo>
                    <a:pt x="480" y="917"/>
                  </a:lnTo>
                  <a:lnTo>
                    <a:pt x="480" y="996"/>
                  </a:lnTo>
                  <a:lnTo>
                    <a:pt x="577" y="1217"/>
                  </a:lnTo>
                  <a:lnTo>
                    <a:pt x="586" y="1494"/>
                  </a:lnTo>
                  <a:lnTo>
                    <a:pt x="524" y="1760"/>
                  </a:lnTo>
                  <a:lnTo>
                    <a:pt x="291" y="1914"/>
                  </a:lnTo>
                  <a:lnTo>
                    <a:pt x="255" y="2130"/>
                  </a:lnTo>
                  <a:lnTo>
                    <a:pt x="185" y="2130"/>
                  </a:lnTo>
                  <a:lnTo>
                    <a:pt x="145" y="1958"/>
                  </a:lnTo>
                  <a:lnTo>
                    <a:pt x="74" y="1958"/>
                  </a:lnTo>
                  <a:lnTo>
                    <a:pt x="39" y="2152"/>
                  </a:lnTo>
                  <a:lnTo>
                    <a:pt x="0" y="2197"/>
                  </a:lnTo>
                  <a:lnTo>
                    <a:pt x="158" y="2452"/>
                  </a:lnTo>
                  <a:lnTo>
                    <a:pt x="282" y="2470"/>
                  </a:lnTo>
                  <a:lnTo>
                    <a:pt x="480" y="2655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6" y="2214"/>
                  </a:lnTo>
                  <a:lnTo>
                    <a:pt x="1058" y="2708"/>
                  </a:lnTo>
                  <a:lnTo>
                    <a:pt x="1036" y="3008"/>
                  </a:lnTo>
                  <a:lnTo>
                    <a:pt x="3153" y="3008"/>
                  </a:lnTo>
                  <a:lnTo>
                    <a:pt x="3004" y="2682"/>
                  </a:lnTo>
                  <a:lnTo>
                    <a:pt x="2920" y="2395"/>
                  </a:lnTo>
                  <a:lnTo>
                    <a:pt x="2907" y="1994"/>
                  </a:lnTo>
                  <a:lnTo>
                    <a:pt x="3026" y="2077"/>
                  </a:lnTo>
                  <a:lnTo>
                    <a:pt x="3153" y="2077"/>
                  </a:lnTo>
                  <a:lnTo>
                    <a:pt x="3334" y="1972"/>
                  </a:lnTo>
                  <a:lnTo>
                    <a:pt x="3449" y="1958"/>
                  </a:lnTo>
                  <a:lnTo>
                    <a:pt x="3524" y="1848"/>
                  </a:lnTo>
                  <a:lnTo>
                    <a:pt x="3568" y="1566"/>
                  </a:lnTo>
                  <a:lnTo>
                    <a:pt x="3674" y="1446"/>
                  </a:lnTo>
                  <a:lnTo>
                    <a:pt x="3616" y="1367"/>
                  </a:lnTo>
                  <a:lnTo>
                    <a:pt x="3537" y="1367"/>
                  </a:lnTo>
                  <a:lnTo>
                    <a:pt x="3480" y="1419"/>
                  </a:lnTo>
                  <a:lnTo>
                    <a:pt x="3418" y="1433"/>
                  </a:lnTo>
                  <a:lnTo>
                    <a:pt x="3343" y="1367"/>
                  </a:lnTo>
                  <a:lnTo>
                    <a:pt x="3250" y="1340"/>
                  </a:lnTo>
                  <a:lnTo>
                    <a:pt x="3087" y="1234"/>
                  </a:lnTo>
                  <a:lnTo>
                    <a:pt x="2981" y="1133"/>
                  </a:lnTo>
                  <a:lnTo>
                    <a:pt x="2964" y="996"/>
                  </a:lnTo>
                  <a:lnTo>
                    <a:pt x="2981" y="855"/>
                  </a:lnTo>
                  <a:lnTo>
                    <a:pt x="3048" y="749"/>
                  </a:lnTo>
                  <a:lnTo>
                    <a:pt x="3136" y="648"/>
                  </a:lnTo>
                  <a:lnTo>
                    <a:pt x="3127" y="476"/>
                  </a:lnTo>
                  <a:lnTo>
                    <a:pt x="3127" y="357"/>
                  </a:lnTo>
                  <a:lnTo>
                    <a:pt x="3087" y="260"/>
                  </a:lnTo>
                  <a:lnTo>
                    <a:pt x="2964" y="224"/>
                  </a:lnTo>
                  <a:lnTo>
                    <a:pt x="2915" y="202"/>
                  </a:lnTo>
                  <a:lnTo>
                    <a:pt x="2832" y="48"/>
                  </a:lnTo>
                  <a:lnTo>
                    <a:pt x="2752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7" y="105"/>
                  </a:lnTo>
                  <a:lnTo>
                    <a:pt x="2488" y="154"/>
                  </a:lnTo>
                  <a:lnTo>
                    <a:pt x="2391" y="167"/>
                  </a:lnTo>
                  <a:lnTo>
                    <a:pt x="2289" y="167"/>
                  </a:lnTo>
                  <a:lnTo>
                    <a:pt x="2307" y="317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76"/>
                  </a:lnTo>
                  <a:lnTo>
                    <a:pt x="2082" y="1001"/>
                  </a:lnTo>
                  <a:lnTo>
                    <a:pt x="1989" y="1274"/>
                  </a:lnTo>
                  <a:lnTo>
                    <a:pt x="1985" y="1433"/>
                  </a:lnTo>
                  <a:lnTo>
                    <a:pt x="1945" y="1579"/>
                  </a:lnTo>
                  <a:lnTo>
                    <a:pt x="1888" y="1707"/>
                  </a:lnTo>
                  <a:lnTo>
                    <a:pt x="1866" y="1936"/>
                  </a:lnTo>
                  <a:lnTo>
                    <a:pt x="1875" y="2113"/>
                  </a:lnTo>
                  <a:lnTo>
                    <a:pt x="1945" y="2324"/>
                  </a:lnTo>
                  <a:lnTo>
                    <a:pt x="1985" y="2395"/>
                  </a:lnTo>
                  <a:lnTo>
                    <a:pt x="1866" y="2483"/>
                  </a:lnTo>
                  <a:lnTo>
                    <a:pt x="1715" y="2536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4" y="2518"/>
                  </a:lnTo>
                  <a:lnTo>
                    <a:pt x="1384" y="2338"/>
                  </a:lnTo>
                  <a:lnTo>
                    <a:pt x="1384" y="2069"/>
                  </a:lnTo>
                  <a:lnTo>
                    <a:pt x="1344" y="1808"/>
                  </a:lnTo>
                  <a:lnTo>
                    <a:pt x="1278" y="1579"/>
                  </a:lnTo>
                  <a:lnTo>
                    <a:pt x="1252" y="1384"/>
                  </a:lnTo>
                  <a:lnTo>
                    <a:pt x="1234" y="1115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58" y="586"/>
                  </a:lnTo>
                  <a:lnTo>
                    <a:pt x="1322" y="432"/>
                  </a:lnTo>
                  <a:lnTo>
                    <a:pt x="1322" y="308"/>
                  </a:lnTo>
                  <a:lnTo>
                    <a:pt x="1344" y="260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64400" y="1268280"/>
              <a:ext cx="167040" cy="705240"/>
            </a:xfrm>
            <a:custGeom>
              <a:avLst/>
              <a:gdLst/>
              <a:ahLst/>
              <a:rect l="0" t="0" r="r" b="b"/>
              <a:pathLst>
                <a:path w="464" h="1959">
                  <a:moveTo>
                    <a:pt x="185" y="17"/>
                  </a:moveTo>
                  <a:lnTo>
                    <a:pt x="66" y="92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4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73"/>
                  </a:lnTo>
                  <a:lnTo>
                    <a:pt x="97" y="1420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43" y="1959"/>
                  </a:lnTo>
                  <a:lnTo>
                    <a:pt x="318" y="1920"/>
                  </a:lnTo>
                  <a:lnTo>
                    <a:pt x="371" y="1757"/>
                  </a:lnTo>
                  <a:lnTo>
                    <a:pt x="459" y="1540"/>
                  </a:lnTo>
                  <a:lnTo>
                    <a:pt x="464" y="1425"/>
                  </a:lnTo>
                  <a:lnTo>
                    <a:pt x="393" y="1213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0" y="587"/>
                  </a:lnTo>
                  <a:lnTo>
                    <a:pt x="371" y="427"/>
                  </a:lnTo>
                  <a:lnTo>
                    <a:pt x="371" y="370"/>
                  </a:lnTo>
                  <a:lnTo>
                    <a:pt x="336" y="304"/>
                  </a:lnTo>
                  <a:lnTo>
                    <a:pt x="428" y="220"/>
                  </a:lnTo>
                  <a:lnTo>
                    <a:pt x="428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53" y="370"/>
                  </a:lnTo>
                  <a:lnTo>
                    <a:pt x="336" y="427"/>
                  </a:lnTo>
                  <a:lnTo>
                    <a:pt x="252" y="605"/>
                  </a:lnTo>
                  <a:lnTo>
                    <a:pt x="243" y="790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72"/>
                  </a:lnTo>
                  <a:lnTo>
                    <a:pt x="393" y="1527"/>
                  </a:lnTo>
                  <a:lnTo>
                    <a:pt x="353" y="1717"/>
                  </a:lnTo>
                  <a:lnTo>
                    <a:pt x="261" y="1920"/>
                  </a:lnTo>
                  <a:lnTo>
                    <a:pt x="149" y="1805"/>
                  </a:lnTo>
                  <a:lnTo>
                    <a:pt x="110" y="1717"/>
                  </a:lnTo>
                  <a:lnTo>
                    <a:pt x="114" y="1527"/>
                  </a:lnTo>
                  <a:lnTo>
                    <a:pt x="110" y="1332"/>
                  </a:lnTo>
                  <a:lnTo>
                    <a:pt x="52" y="1068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12"/>
                  </a:lnTo>
                  <a:lnTo>
                    <a:pt x="194" y="313"/>
                  </a:lnTo>
                  <a:lnTo>
                    <a:pt x="110" y="229"/>
                  </a:lnTo>
                  <a:lnTo>
                    <a:pt x="97" y="97"/>
                  </a:lnTo>
                  <a:lnTo>
                    <a:pt x="1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7440" y="444600"/>
              <a:ext cx="265320" cy="343440"/>
            </a:xfrm>
            <a:custGeom>
              <a:avLst/>
              <a:gdLst/>
              <a:ahLst/>
              <a:rect l="0" t="0" r="r" b="b"/>
              <a:pathLst>
                <a:path w="737" h="954">
                  <a:moveTo>
                    <a:pt x="119" y="247"/>
                  </a:moveTo>
                  <a:lnTo>
                    <a:pt x="229" y="220"/>
                  </a:lnTo>
                  <a:lnTo>
                    <a:pt x="335" y="224"/>
                  </a:lnTo>
                  <a:lnTo>
                    <a:pt x="424" y="269"/>
                  </a:lnTo>
                  <a:lnTo>
                    <a:pt x="472" y="322"/>
                  </a:lnTo>
                  <a:lnTo>
                    <a:pt x="494" y="375"/>
                  </a:lnTo>
                  <a:lnTo>
                    <a:pt x="494" y="419"/>
                  </a:lnTo>
                  <a:lnTo>
                    <a:pt x="468" y="446"/>
                  </a:lnTo>
                  <a:lnTo>
                    <a:pt x="419" y="477"/>
                  </a:lnTo>
                  <a:lnTo>
                    <a:pt x="366" y="477"/>
                  </a:lnTo>
                  <a:lnTo>
                    <a:pt x="299" y="464"/>
                  </a:lnTo>
                  <a:lnTo>
                    <a:pt x="229" y="424"/>
                  </a:lnTo>
                  <a:lnTo>
                    <a:pt x="185" y="389"/>
                  </a:lnTo>
                  <a:lnTo>
                    <a:pt x="163" y="516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80" y="954"/>
                  </a:lnTo>
                  <a:lnTo>
                    <a:pt x="317" y="688"/>
                  </a:lnTo>
                  <a:lnTo>
                    <a:pt x="468" y="716"/>
                  </a:lnTo>
                  <a:lnTo>
                    <a:pt x="561" y="697"/>
                  </a:lnTo>
                  <a:lnTo>
                    <a:pt x="653" y="640"/>
                  </a:lnTo>
                  <a:lnTo>
                    <a:pt x="706" y="565"/>
                  </a:lnTo>
                  <a:lnTo>
                    <a:pt x="737" y="468"/>
                  </a:lnTo>
                  <a:lnTo>
                    <a:pt x="737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17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19" y="247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1360" y="777960"/>
              <a:ext cx="97200" cy="65520"/>
            </a:xfrm>
            <a:custGeom>
              <a:avLst/>
              <a:gdLst/>
              <a:ahLst/>
              <a:rect l="0" t="0" r="r" b="b"/>
              <a:pathLst>
                <a:path w="270" h="182">
                  <a:moveTo>
                    <a:pt x="106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9"/>
                  </a:lnTo>
                  <a:lnTo>
                    <a:pt x="57" y="151"/>
                  </a:lnTo>
                  <a:lnTo>
                    <a:pt x="164" y="182"/>
                  </a:lnTo>
                  <a:lnTo>
                    <a:pt x="244" y="178"/>
                  </a:lnTo>
                  <a:lnTo>
                    <a:pt x="270" y="133"/>
                  </a:lnTo>
                  <a:lnTo>
                    <a:pt x="262" y="102"/>
                  </a:lnTo>
                  <a:lnTo>
                    <a:pt x="213" y="44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600200" y="251460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6668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are long term but have no physical sub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ue comes from the long-term rights or advantages that it offers to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include patents, copyrights, leaseholds, leasehold improvements, trademarks and brand names, franchises, licenses, and goodw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y are accounted for at acquisition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14400" y="60948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90720" y="16765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and trademarks should not appear on the balance sheet unless they have been purchased from another party at a price established in the market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066680" y="304920"/>
            <a:ext cx="75438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62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similar to other long-term assets. APB Opinion #17 lists them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ing an initial carrying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periodic write-off or amort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that amount if the value declines substantially and perman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of its intangibility, its value and useful life may be quite hard to est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47920" y="344520"/>
            <a:ext cx="68943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r 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95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a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18,000 / 6 years = $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tent’s becoming worth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3000" y="304920"/>
            <a:ext cx="754524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velopment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66680" y="198108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expenditures should be treated as  revenue expenditures and charged to expense in the period when in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R&amp;D are continuous and necessary for the success of a business and should be treated as current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costs do not necessarily result in future benefits (asset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447920"/>
            <a:ext cx="557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stated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228600"/>
            <a:ext cx="7558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36520"/>
            <a:ext cx="8458200" cy="5173560"/>
            <a:chOff x="685800" y="1136520"/>
            <a:chExt cx="8458200" cy="5173560"/>
          </a:xfrm>
        </p:grpSpPr>
        <p:sp>
          <p:nvSpPr>
            <p:cNvPr id="62" name=""/>
            <p:cNvSpPr/>
            <p:nvPr/>
          </p:nvSpPr>
          <p:spPr>
            <a:xfrm>
              <a:off x="755640" y="1136520"/>
              <a:ext cx="8197920" cy="51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12588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12588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588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12588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2588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88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8325000" y="1631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325000" y="21384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8325000" y="26431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.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325000" y="314784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1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325000" y="36576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325000" y="4164120"/>
              <a:ext cx="655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8%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85800" y="1589040"/>
              <a:ext cx="1390680" cy="2940120"/>
              <a:chOff x="685800" y="1589040"/>
              <a:chExt cx="1390680" cy="2940120"/>
            </a:xfrm>
          </p:grpSpPr>
          <p:sp>
            <p:nvSpPr>
              <p:cNvPr id="76" name=""/>
              <p:cNvSpPr txBox="1"/>
              <p:nvPr/>
            </p:nvSpPr>
            <p:spPr>
              <a:xfrm>
                <a:off x="903240" y="1589040"/>
                <a:ext cx="11732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1073160" y="1749600"/>
                <a:ext cx="9428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1063800" y="2095560"/>
                <a:ext cx="99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066680" y="2260440"/>
                <a:ext cx="9050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039680" y="2598840"/>
                <a:ext cx="10177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685800" y="2755800"/>
                <a:ext cx="12794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171440" y="3106800"/>
                <a:ext cx="887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295280" y="3263760"/>
                <a:ext cx="655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128600" y="361332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116000" y="377028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982800" y="4257720"/>
                <a:ext cx="9270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1855800" y="468936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89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847960" y="1563840"/>
                <a:ext cx="351000" cy="3379680"/>
                <a:chOff x="2847960" y="1563840"/>
                <a:chExt cx="351000" cy="3379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2847960" y="467208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781440" y="1563840"/>
                <a:ext cx="351000" cy="3381120"/>
                <a:chOff x="3781440" y="1563840"/>
                <a:chExt cx="351000" cy="3381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 txBox="1"/>
                <p:nvPr/>
              </p:nvSpPr>
              <p:spPr>
                <a:xfrm>
                  <a:off x="378144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851360" y="1563840"/>
                <a:ext cx="351000" cy="3381120"/>
                <a:chOff x="4851360" y="1563840"/>
                <a:chExt cx="351000" cy="3381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 txBox="1"/>
                <p:nvPr/>
              </p:nvSpPr>
              <p:spPr>
                <a:xfrm>
                  <a:off x="485136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04000" y="1563840"/>
                <a:ext cx="351000" cy="3381120"/>
                <a:chOff x="5904000" y="1563840"/>
                <a:chExt cx="351000" cy="3381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 txBox="1"/>
                <p:nvPr/>
              </p:nvSpPr>
              <p:spPr>
                <a:xfrm>
                  <a:off x="590400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877080" y="1563840"/>
                <a:ext cx="351000" cy="3381120"/>
                <a:chOff x="6877080" y="1563840"/>
                <a:chExt cx="351000" cy="3381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687708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7191360" y="4699080"/>
              <a:ext cx="35712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966080" y="4689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6640" y="5681520"/>
              <a:ext cx="338400" cy="165600"/>
            </a:xfrm>
            <a:custGeom>
              <a:avLst/>
              <a:gdLst/>
              <a:ahLst/>
              <a:rect l="0" t="0" r="r" b="b"/>
              <a:pathLst>
                <a:path w="940" h="460">
                  <a:moveTo>
                    <a:pt x="940" y="460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0"/>
                  </a:lnTo>
                  <a:lnTo>
                    <a:pt x="940" y="46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6640" y="5419800"/>
              <a:ext cx="338400" cy="163800"/>
            </a:xfrm>
            <a:custGeom>
              <a:avLst/>
              <a:gdLst/>
              <a:ahLst/>
              <a:rect l="0" t="0" r="r" b="b"/>
              <a:pathLst>
                <a:path w="940" h="455">
                  <a:moveTo>
                    <a:pt x="940" y="0"/>
                  </a:moveTo>
                  <a:lnTo>
                    <a:pt x="940" y="455"/>
                  </a:lnTo>
                  <a:lnTo>
                    <a:pt x="0" y="455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6640" y="5156280"/>
              <a:ext cx="338400" cy="167040"/>
            </a:xfrm>
            <a:custGeom>
              <a:avLst/>
              <a:gdLst/>
              <a:ahLst/>
              <a:rect l="0" t="0" r="r" b="b"/>
              <a:pathLst>
                <a:path w="940" h="464">
                  <a:moveTo>
                    <a:pt x="940" y="464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4"/>
                  </a:lnTo>
                  <a:lnTo>
                    <a:pt x="940" y="46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463840" y="5100480"/>
              <a:ext cx="1494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463840" y="5361120"/>
              <a:ext cx="2027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463840" y="5630760"/>
              <a:ext cx="200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1654200"/>
              <a:ext cx="2259360" cy="363960"/>
            </a:xfrm>
            <a:custGeom>
              <a:avLst/>
              <a:gdLst/>
              <a:ahLst/>
              <a:rect l="0" t="0" r="r" b="b"/>
              <a:pathLst>
                <a:path w="6276" h="1011">
                  <a:moveTo>
                    <a:pt x="0" y="0"/>
                  </a:moveTo>
                  <a:lnTo>
                    <a:pt x="6276" y="0"/>
                  </a:lnTo>
                  <a:lnTo>
                    <a:pt x="6276" y="1011"/>
                  </a:lnTo>
                  <a:lnTo>
                    <a:pt x="0" y="1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2162160"/>
              <a:ext cx="5764680" cy="351360"/>
            </a:xfrm>
            <a:custGeom>
              <a:avLst/>
              <a:gdLst/>
              <a:ahLst/>
              <a:rect l="0" t="0" r="r" b="b"/>
              <a:pathLst>
                <a:path w="16013" h="976">
                  <a:moveTo>
                    <a:pt x="0" y="976"/>
                  </a:moveTo>
                  <a:lnTo>
                    <a:pt x="16013" y="976"/>
                  </a:lnTo>
                  <a:lnTo>
                    <a:pt x="16013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2668680"/>
              <a:ext cx="2510280" cy="351360"/>
            </a:xfrm>
            <a:custGeom>
              <a:avLst/>
              <a:gdLst/>
              <a:ahLst/>
              <a:rect l="0" t="0" r="r" b="b"/>
              <a:pathLst>
                <a:path w="6973" h="976">
                  <a:moveTo>
                    <a:pt x="0" y="0"/>
                  </a:moveTo>
                  <a:lnTo>
                    <a:pt x="6973" y="0"/>
                  </a:lnTo>
                  <a:lnTo>
                    <a:pt x="6973" y="976"/>
                  </a:lnTo>
                  <a:lnTo>
                    <a:pt x="0" y="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6640" y="3174840"/>
              <a:ext cx="4393080" cy="329040"/>
            </a:xfrm>
            <a:custGeom>
              <a:avLst/>
              <a:gdLst/>
              <a:ahLst/>
              <a:rect l="0" t="0" r="r" b="b"/>
              <a:pathLst>
                <a:path w="12203" h="914">
                  <a:moveTo>
                    <a:pt x="0" y="914"/>
                  </a:moveTo>
                  <a:lnTo>
                    <a:pt x="12203" y="914"/>
                  </a:lnTo>
                  <a:lnTo>
                    <a:pt x="12203" y="0"/>
                  </a:lnTo>
                  <a:lnTo>
                    <a:pt x="0" y="0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3679920"/>
              <a:ext cx="3630960" cy="357480"/>
            </a:xfrm>
            <a:custGeom>
              <a:avLst/>
              <a:gdLst/>
              <a:ahLst/>
              <a:rect l="0" t="0" r="r" b="b"/>
              <a:pathLst>
                <a:path w="10086" h="993">
                  <a:moveTo>
                    <a:pt x="0" y="0"/>
                  </a:moveTo>
                  <a:lnTo>
                    <a:pt x="10086" y="0"/>
                  </a:lnTo>
                  <a:lnTo>
                    <a:pt x="10086" y="993"/>
                  </a:lnTo>
                  <a:lnTo>
                    <a:pt x="0" y="9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4187880"/>
              <a:ext cx="2411640" cy="306720"/>
            </a:xfrm>
            <a:custGeom>
              <a:avLst/>
              <a:gdLst/>
              <a:ahLst/>
              <a:rect l="0" t="0" r="r" b="b"/>
              <a:pathLst>
                <a:path w="6699" h="852">
                  <a:moveTo>
                    <a:pt x="0" y="852"/>
                  </a:moveTo>
                  <a:lnTo>
                    <a:pt x="6699" y="852"/>
                  </a:lnTo>
                  <a:lnTo>
                    <a:pt x="6699" y="0"/>
                  </a:lnTo>
                  <a:lnTo>
                    <a:pt x="0" y="0"/>
                  </a:lnTo>
                  <a:lnTo>
                    <a:pt x="0" y="8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920080" y="432288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066680" y="38088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9072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in creating computer software are considered R&amp;D until the product has been proved to be technologically fea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up to this point are expensed as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21932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90720" y="1295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ftware developed for internal use by a company may be amortized over it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95280" y="53352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143000" y="152388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ists when a purchaser pays more for a business than the fair market value of the net assets if purchased sepa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ment above and beyond the fair market value is recorded in the Goodwill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295280" y="380880"/>
            <a:ext cx="705312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should not be recorded unless it is paid for in connection with the purchase of a whol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= Purchase price - FMV of identifiabl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57400" y="114300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25909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usands of dollars on goodw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up the goodwill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477120" y="380880"/>
            <a:ext cx="2360880" cy="2208960"/>
            <a:chOff x="6477120" y="380880"/>
            <a:chExt cx="2360880" cy="2208960"/>
          </a:xfrm>
        </p:grpSpPr>
        <p:sp>
          <p:nvSpPr>
            <p:cNvPr id="590" name=""/>
            <p:cNvSpPr/>
            <p:nvPr/>
          </p:nvSpPr>
          <p:spPr>
            <a:xfrm>
              <a:off x="6483240" y="1465200"/>
              <a:ext cx="573480" cy="771840"/>
            </a:xfrm>
            <a:custGeom>
              <a:avLst/>
              <a:gdLst/>
              <a:ahLst/>
              <a:rect l="0" t="0" r="r" b="b"/>
              <a:pathLst>
                <a:path w="1593" h="2144">
                  <a:moveTo>
                    <a:pt x="636" y="0"/>
                  </a:moveTo>
                  <a:lnTo>
                    <a:pt x="552" y="92"/>
                  </a:lnTo>
                  <a:lnTo>
                    <a:pt x="552" y="374"/>
                  </a:lnTo>
                  <a:lnTo>
                    <a:pt x="636" y="577"/>
                  </a:lnTo>
                  <a:lnTo>
                    <a:pt x="733" y="674"/>
                  </a:lnTo>
                  <a:lnTo>
                    <a:pt x="587" y="815"/>
                  </a:lnTo>
                  <a:lnTo>
                    <a:pt x="396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9" y="1835"/>
                  </a:lnTo>
                  <a:lnTo>
                    <a:pt x="242" y="1720"/>
                  </a:lnTo>
                  <a:lnTo>
                    <a:pt x="396" y="1442"/>
                  </a:lnTo>
                  <a:lnTo>
                    <a:pt x="494" y="1323"/>
                  </a:lnTo>
                  <a:lnTo>
                    <a:pt x="552" y="1509"/>
                  </a:lnTo>
                  <a:lnTo>
                    <a:pt x="512" y="1703"/>
                  </a:lnTo>
                  <a:lnTo>
                    <a:pt x="352" y="1989"/>
                  </a:lnTo>
                  <a:lnTo>
                    <a:pt x="396" y="2055"/>
                  </a:lnTo>
                  <a:lnTo>
                    <a:pt x="494" y="2033"/>
                  </a:lnTo>
                  <a:lnTo>
                    <a:pt x="693" y="1888"/>
                  </a:lnTo>
                  <a:lnTo>
                    <a:pt x="847" y="1637"/>
                  </a:lnTo>
                  <a:lnTo>
                    <a:pt x="847" y="2073"/>
                  </a:lnTo>
                  <a:lnTo>
                    <a:pt x="1037" y="2144"/>
                  </a:lnTo>
                  <a:lnTo>
                    <a:pt x="1147" y="1875"/>
                  </a:lnTo>
                  <a:lnTo>
                    <a:pt x="1249" y="2126"/>
                  </a:lnTo>
                  <a:lnTo>
                    <a:pt x="1324" y="2055"/>
                  </a:lnTo>
                  <a:lnTo>
                    <a:pt x="1360" y="1557"/>
                  </a:lnTo>
                  <a:lnTo>
                    <a:pt x="1593" y="1090"/>
                  </a:lnTo>
                  <a:lnTo>
                    <a:pt x="1540" y="815"/>
                  </a:lnTo>
                  <a:lnTo>
                    <a:pt x="1377" y="714"/>
                  </a:lnTo>
                  <a:lnTo>
                    <a:pt x="1210" y="727"/>
                  </a:lnTo>
                  <a:lnTo>
                    <a:pt x="1147" y="507"/>
                  </a:lnTo>
                  <a:lnTo>
                    <a:pt x="975" y="458"/>
                  </a:lnTo>
                  <a:lnTo>
                    <a:pt x="821" y="388"/>
                  </a:lnTo>
                  <a:lnTo>
                    <a:pt x="733" y="48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64200" y="1778040"/>
              <a:ext cx="170280" cy="373320"/>
            </a:xfrm>
            <a:custGeom>
              <a:avLst/>
              <a:gdLst/>
              <a:ahLst/>
              <a:rect l="0" t="0" r="r" b="b"/>
              <a:pathLst>
                <a:path w="473" h="1037">
                  <a:moveTo>
                    <a:pt x="239" y="0"/>
                  </a:moveTo>
                  <a:lnTo>
                    <a:pt x="473" y="268"/>
                  </a:lnTo>
                  <a:lnTo>
                    <a:pt x="353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6" y="440"/>
                  </a:lnTo>
                  <a:lnTo>
                    <a:pt x="239" y="21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62920" y="1563840"/>
              <a:ext cx="422640" cy="336960"/>
            </a:xfrm>
            <a:custGeom>
              <a:avLst/>
              <a:gdLst/>
              <a:ahLst/>
              <a:rect l="0" t="0" r="r" b="b"/>
              <a:pathLst>
                <a:path w="1174" h="936">
                  <a:moveTo>
                    <a:pt x="486" y="0"/>
                  </a:moveTo>
                  <a:lnTo>
                    <a:pt x="486" y="149"/>
                  </a:lnTo>
                  <a:lnTo>
                    <a:pt x="525" y="283"/>
                  </a:lnTo>
                  <a:lnTo>
                    <a:pt x="755" y="508"/>
                  </a:lnTo>
                  <a:lnTo>
                    <a:pt x="1174" y="631"/>
                  </a:lnTo>
                  <a:lnTo>
                    <a:pt x="1117" y="919"/>
                  </a:lnTo>
                  <a:lnTo>
                    <a:pt x="755" y="936"/>
                  </a:lnTo>
                  <a:lnTo>
                    <a:pt x="224" y="734"/>
                  </a:lnTo>
                  <a:lnTo>
                    <a:pt x="0" y="375"/>
                  </a:lnTo>
                  <a:lnTo>
                    <a:pt x="264" y="17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2840" y="1181160"/>
              <a:ext cx="590760" cy="743400"/>
            </a:xfrm>
            <a:custGeom>
              <a:avLst/>
              <a:gdLst/>
              <a:ahLst/>
              <a:rect l="0" t="0" r="r" b="b"/>
              <a:pathLst>
                <a:path w="1641" h="2065">
                  <a:moveTo>
                    <a:pt x="149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60" y="1513"/>
                  </a:lnTo>
                  <a:lnTo>
                    <a:pt x="277" y="2026"/>
                  </a:lnTo>
                  <a:lnTo>
                    <a:pt x="511" y="2026"/>
                  </a:lnTo>
                  <a:lnTo>
                    <a:pt x="493" y="1598"/>
                  </a:lnTo>
                  <a:lnTo>
                    <a:pt x="661" y="2048"/>
                  </a:lnTo>
                  <a:lnTo>
                    <a:pt x="780" y="2065"/>
                  </a:lnTo>
                  <a:lnTo>
                    <a:pt x="860" y="1915"/>
                  </a:lnTo>
                  <a:lnTo>
                    <a:pt x="878" y="1629"/>
                  </a:lnTo>
                  <a:lnTo>
                    <a:pt x="1129" y="1893"/>
                  </a:lnTo>
                  <a:lnTo>
                    <a:pt x="1226" y="1876"/>
                  </a:lnTo>
                  <a:lnTo>
                    <a:pt x="1204" y="1690"/>
                  </a:lnTo>
                  <a:lnTo>
                    <a:pt x="1112" y="1429"/>
                  </a:lnTo>
                  <a:lnTo>
                    <a:pt x="1015" y="1257"/>
                  </a:lnTo>
                  <a:lnTo>
                    <a:pt x="1050" y="1143"/>
                  </a:lnTo>
                  <a:lnTo>
                    <a:pt x="1112" y="1160"/>
                  </a:lnTo>
                  <a:lnTo>
                    <a:pt x="1341" y="1429"/>
                  </a:lnTo>
                  <a:lnTo>
                    <a:pt x="1588" y="1495"/>
                  </a:lnTo>
                  <a:lnTo>
                    <a:pt x="1641" y="1412"/>
                  </a:lnTo>
                  <a:lnTo>
                    <a:pt x="1606" y="1275"/>
                  </a:lnTo>
                  <a:lnTo>
                    <a:pt x="1147" y="856"/>
                  </a:lnTo>
                  <a:lnTo>
                    <a:pt x="780" y="728"/>
                  </a:lnTo>
                  <a:lnTo>
                    <a:pt x="736" y="498"/>
                  </a:lnTo>
                  <a:lnTo>
                    <a:pt x="860" y="286"/>
                  </a:lnTo>
                  <a:lnTo>
                    <a:pt x="860" y="66"/>
                  </a:lnTo>
                  <a:lnTo>
                    <a:pt x="758" y="0"/>
                  </a:lnTo>
                  <a:lnTo>
                    <a:pt x="493" y="561"/>
                  </a:lnTo>
                  <a:lnTo>
                    <a:pt x="260" y="644"/>
                  </a:lnTo>
                  <a:lnTo>
                    <a:pt x="202" y="794"/>
                  </a:lnTo>
                  <a:lnTo>
                    <a:pt x="149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62640" y="538200"/>
              <a:ext cx="644760" cy="949680"/>
            </a:xfrm>
            <a:custGeom>
              <a:avLst/>
              <a:gdLst/>
              <a:ahLst/>
              <a:rect l="0" t="0" r="r" b="b"/>
              <a:pathLst>
                <a:path w="1791" h="2638">
                  <a:moveTo>
                    <a:pt x="449" y="366"/>
                  </a:moveTo>
                  <a:lnTo>
                    <a:pt x="313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5" y="1584"/>
                  </a:lnTo>
                  <a:lnTo>
                    <a:pt x="277" y="1584"/>
                  </a:lnTo>
                  <a:lnTo>
                    <a:pt x="370" y="2170"/>
                  </a:lnTo>
                  <a:lnTo>
                    <a:pt x="485" y="2421"/>
                  </a:lnTo>
                  <a:lnTo>
                    <a:pt x="851" y="2638"/>
                  </a:lnTo>
                  <a:lnTo>
                    <a:pt x="1218" y="2602"/>
                  </a:lnTo>
                  <a:lnTo>
                    <a:pt x="1390" y="2170"/>
                  </a:lnTo>
                  <a:lnTo>
                    <a:pt x="1434" y="1500"/>
                  </a:lnTo>
                  <a:lnTo>
                    <a:pt x="1791" y="1168"/>
                  </a:lnTo>
                  <a:lnTo>
                    <a:pt x="1773" y="1036"/>
                  </a:lnTo>
                  <a:lnTo>
                    <a:pt x="1734" y="970"/>
                  </a:lnTo>
                  <a:lnTo>
                    <a:pt x="1544" y="956"/>
                  </a:lnTo>
                  <a:lnTo>
                    <a:pt x="1601" y="784"/>
                  </a:lnTo>
                  <a:lnTo>
                    <a:pt x="1416" y="665"/>
                  </a:lnTo>
                  <a:lnTo>
                    <a:pt x="1332" y="286"/>
                  </a:lnTo>
                  <a:lnTo>
                    <a:pt x="776" y="0"/>
                  </a:lnTo>
                  <a:lnTo>
                    <a:pt x="485" y="268"/>
                  </a:lnTo>
                  <a:lnTo>
                    <a:pt x="449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10520" y="1330200"/>
              <a:ext cx="590760" cy="1134000"/>
            </a:xfrm>
            <a:custGeom>
              <a:avLst/>
              <a:gdLst/>
              <a:ahLst/>
              <a:rect l="0" t="0" r="r" b="b"/>
              <a:pathLst>
                <a:path w="1641" h="3150">
                  <a:moveTo>
                    <a:pt x="335" y="167"/>
                  </a:moveTo>
                  <a:lnTo>
                    <a:pt x="568" y="317"/>
                  </a:lnTo>
                  <a:lnTo>
                    <a:pt x="687" y="485"/>
                  </a:lnTo>
                  <a:lnTo>
                    <a:pt x="1341" y="0"/>
                  </a:lnTo>
                  <a:lnTo>
                    <a:pt x="1548" y="101"/>
                  </a:lnTo>
                  <a:lnTo>
                    <a:pt x="1641" y="595"/>
                  </a:lnTo>
                  <a:lnTo>
                    <a:pt x="1165" y="2047"/>
                  </a:lnTo>
                  <a:lnTo>
                    <a:pt x="1319" y="2846"/>
                  </a:lnTo>
                  <a:lnTo>
                    <a:pt x="701" y="3150"/>
                  </a:lnTo>
                  <a:lnTo>
                    <a:pt x="220" y="2978"/>
                  </a:lnTo>
                  <a:lnTo>
                    <a:pt x="220" y="2130"/>
                  </a:lnTo>
                  <a:lnTo>
                    <a:pt x="0" y="1306"/>
                  </a:lnTo>
                  <a:lnTo>
                    <a:pt x="220" y="317"/>
                  </a:lnTo>
                  <a:lnTo>
                    <a:pt x="335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35720" y="411120"/>
              <a:ext cx="551160" cy="300240"/>
            </a:xfrm>
            <a:custGeom>
              <a:avLst/>
              <a:gdLst/>
              <a:ahLst/>
              <a:rect l="0" t="0" r="r" b="b"/>
              <a:pathLst>
                <a:path w="1531" h="834">
                  <a:moveTo>
                    <a:pt x="189" y="794"/>
                  </a:moveTo>
                  <a:lnTo>
                    <a:pt x="414" y="574"/>
                  </a:lnTo>
                  <a:lnTo>
                    <a:pt x="555" y="538"/>
                  </a:lnTo>
                  <a:lnTo>
                    <a:pt x="555" y="561"/>
                  </a:lnTo>
                  <a:lnTo>
                    <a:pt x="626" y="538"/>
                  </a:lnTo>
                  <a:lnTo>
                    <a:pt x="723" y="605"/>
                  </a:lnTo>
                  <a:lnTo>
                    <a:pt x="904" y="640"/>
                  </a:lnTo>
                  <a:lnTo>
                    <a:pt x="1050" y="834"/>
                  </a:lnTo>
                  <a:lnTo>
                    <a:pt x="1288" y="750"/>
                  </a:lnTo>
                  <a:lnTo>
                    <a:pt x="1288" y="658"/>
                  </a:lnTo>
                  <a:lnTo>
                    <a:pt x="1531" y="561"/>
                  </a:lnTo>
                  <a:lnTo>
                    <a:pt x="1460" y="401"/>
                  </a:lnTo>
                  <a:lnTo>
                    <a:pt x="1231" y="388"/>
                  </a:lnTo>
                  <a:lnTo>
                    <a:pt x="1266" y="216"/>
                  </a:lnTo>
                  <a:lnTo>
                    <a:pt x="1072" y="238"/>
                  </a:lnTo>
                  <a:lnTo>
                    <a:pt x="1037" y="119"/>
                  </a:lnTo>
                  <a:lnTo>
                    <a:pt x="904" y="119"/>
                  </a:lnTo>
                  <a:lnTo>
                    <a:pt x="807" y="185"/>
                  </a:lnTo>
                  <a:lnTo>
                    <a:pt x="723" y="185"/>
                  </a:lnTo>
                  <a:lnTo>
                    <a:pt x="740" y="0"/>
                  </a:lnTo>
                  <a:lnTo>
                    <a:pt x="555" y="83"/>
                  </a:lnTo>
                  <a:lnTo>
                    <a:pt x="299" y="388"/>
                  </a:lnTo>
                  <a:lnTo>
                    <a:pt x="286" y="185"/>
                  </a:lnTo>
                  <a:lnTo>
                    <a:pt x="154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9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85120" y="1539720"/>
              <a:ext cx="176400" cy="857520"/>
            </a:xfrm>
            <a:custGeom>
              <a:avLst/>
              <a:gdLst/>
              <a:ahLst/>
              <a:rect l="0" t="0" r="r" b="b"/>
              <a:pathLst>
                <a:path w="490" h="2382">
                  <a:moveTo>
                    <a:pt x="252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202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19" y="1667"/>
                  </a:lnTo>
                  <a:lnTo>
                    <a:pt x="119" y="1897"/>
                  </a:lnTo>
                  <a:lnTo>
                    <a:pt x="57" y="2073"/>
                  </a:lnTo>
                  <a:lnTo>
                    <a:pt x="309" y="2382"/>
                  </a:lnTo>
                  <a:lnTo>
                    <a:pt x="472" y="1919"/>
                  </a:lnTo>
                  <a:lnTo>
                    <a:pt x="472" y="1601"/>
                  </a:lnTo>
                  <a:lnTo>
                    <a:pt x="349" y="1301"/>
                  </a:lnTo>
                  <a:lnTo>
                    <a:pt x="292" y="899"/>
                  </a:lnTo>
                  <a:lnTo>
                    <a:pt x="415" y="507"/>
                  </a:lnTo>
                  <a:lnTo>
                    <a:pt x="375" y="348"/>
                  </a:lnTo>
                  <a:lnTo>
                    <a:pt x="490" y="268"/>
                  </a:lnTo>
                  <a:lnTo>
                    <a:pt x="472" y="167"/>
                  </a:lnTo>
                  <a:lnTo>
                    <a:pt x="327" y="0"/>
                  </a:lnTo>
                  <a:lnTo>
                    <a:pt x="25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8640" y="125100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66"/>
                  </a:moveTo>
                  <a:lnTo>
                    <a:pt x="154" y="221"/>
                  </a:lnTo>
                  <a:lnTo>
                    <a:pt x="314" y="203"/>
                  </a:lnTo>
                  <a:lnTo>
                    <a:pt x="393" y="17"/>
                  </a:lnTo>
                  <a:lnTo>
                    <a:pt x="221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23120" y="855720"/>
              <a:ext cx="176400" cy="168480"/>
            </a:xfrm>
            <a:custGeom>
              <a:avLst/>
              <a:gdLst/>
              <a:ahLst/>
              <a:rect l="0" t="0" r="r" b="b"/>
              <a:pathLst>
                <a:path w="490" h="468">
                  <a:moveTo>
                    <a:pt x="0" y="52"/>
                  </a:moveTo>
                  <a:lnTo>
                    <a:pt x="336" y="468"/>
                  </a:lnTo>
                  <a:lnTo>
                    <a:pt x="490" y="433"/>
                  </a:lnTo>
                  <a:lnTo>
                    <a:pt x="13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32720" y="820800"/>
              <a:ext cx="152640" cy="167040"/>
            </a:xfrm>
            <a:custGeom>
              <a:avLst/>
              <a:gdLst/>
              <a:ahLst/>
              <a:rect l="0" t="0" r="r" b="b"/>
              <a:pathLst>
                <a:path w="424" h="464">
                  <a:moveTo>
                    <a:pt x="0" y="66"/>
                  </a:moveTo>
                  <a:lnTo>
                    <a:pt x="292" y="464"/>
                  </a:lnTo>
                  <a:lnTo>
                    <a:pt x="424" y="358"/>
                  </a:lnTo>
                  <a:lnTo>
                    <a:pt x="11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7960" y="604800"/>
              <a:ext cx="616320" cy="419400"/>
            </a:xfrm>
            <a:custGeom>
              <a:avLst/>
              <a:gdLst/>
              <a:ahLst/>
              <a:rect l="0" t="0" r="r" b="b"/>
              <a:pathLst>
                <a:path w="1712" h="1165">
                  <a:moveTo>
                    <a:pt x="785" y="693"/>
                  </a:moveTo>
                  <a:lnTo>
                    <a:pt x="631" y="649"/>
                  </a:lnTo>
                  <a:lnTo>
                    <a:pt x="763" y="542"/>
                  </a:lnTo>
                  <a:lnTo>
                    <a:pt x="715" y="489"/>
                  </a:lnTo>
                  <a:lnTo>
                    <a:pt x="538" y="627"/>
                  </a:lnTo>
                  <a:lnTo>
                    <a:pt x="216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207" y="1156"/>
                  </a:lnTo>
                  <a:lnTo>
                    <a:pt x="255" y="1165"/>
                  </a:lnTo>
                  <a:lnTo>
                    <a:pt x="70" y="803"/>
                  </a:lnTo>
                  <a:lnTo>
                    <a:pt x="352" y="693"/>
                  </a:lnTo>
                  <a:lnTo>
                    <a:pt x="538" y="693"/>
                  </a:lnTo>
                  <a:lnTo>
                    <a:pt x="680" y="763"/>
                  </a:lnTo>
                  <a:lnTo>
                    <a:pt x="715" y="860"/>
                  </a:lnTo>
                  <a:lnTo>
                    <a:pt x="715" y="1085"/>
                  </a:lnTo>
                  <a:lnTo>
                    <a:pt x="715" y="1156"/>
                  </a:lnTo>
                  <a:lnTo>
                    <a:pt x="794" y="1050"/>
                  </a:lnTo>
                  <a:lnTo>
                    <a:pt x="794" y="821"/>
                  </a:lnTo>
                  <a:lnTo>
                    <a:pt x="918" y="821"/>
                  </a:lnTo>
                  <a:lnTo>
                    <a:pt x="975" y="1085"/>
                  </a:lnTo>
                  <a:lnTo>
                    <a:pt x="1041" y="1107"/>
                  </a:lnTo>
                  <a:lnTo>
                    <a:pt x="1248" y="1107"/>
                  </a:lnTo>
                  <a:lnTo>
                    <a:pt x="1461" y="1059"/>
                  </a:lnTo>
                  <a:lnTo>
                    <a:pt x="1611" y="962"/>
                  </a:lnTo>
                  <a:lnTo>
                    <a:pt x="1633" y="724"/>
                  </a:lnTo>
                  <a:lnTo>
                    <a:pt x="1712" y="627"/>
                  </a:lnTo>
                  <a:lnTo>
                    <a:pt x="1664" y="564"/>
                  </a:lnTo>
                  <a:lnTo>
                    <a:pt x="1474" y="498"/>
                  </a:lnTo>
                  <a:lnTo>
                    <a:pt x="1443" y="260"/>
                  </a:lnTo>
                  <a:lnTo>
                    <a:pt x="1262" y="260"/>
                  </a:lnTo>
                  <a:lnTo>
                    <a:pt x="1050" y="0"/>
                  </a:lnTo>
                  <a:lnTo>
                    <a:pt x="1244" y="286"/>
                  </a:lnTo>
                  <a:lnTo>
                    <a:pt x="1307" y="286"/>
                  </a:lnTo>
                  <a:lnTo>
                    <a:pt x="1346" y="489"/>
                  </a:lnTo>
                  <a:lnTo>
                    <a:pt x="1107" y="564"/>
                  </a:lnTo>
                  <a:lnTo>
                    <a:pt x="931" y="507"/>
                  </a:lnTo>
                  <a:lnTo>
                    <a:pt x="904" y="564"/>
                  </a:lnTo>
                  <a:lnTo>
                    <a:pt x="997" y="627"/>
                  </a:lnTo>
                  <a:lnTo>
                    <a:pt x="997" y="680"/>
                  </a:lnTo>
                  <a:lnTo>
                    <a:pt x="1204" y="591"/>
                  </a:lnTo>
                  <a:lnTo>
                    <a:pt x="1377" y="577"/>
                  </a:lnTo>
                  <a:lnTo>
                    <a:pt x="1567" y="600"/>
                  </a:lnTo>
                  <a:lnTo>
                    <a:pt x="1567" y="636"/>
                  </a:lnTo>
                  <a:lnTo>
                    <a:pt x="1479" y="715"/>
                  </a:lnTo>
                  <a:lnTo>
                    <a:pt x="1443" y="821"/>
                  </a:lnTo>
                  <a:lnTo>
                    <a:pt x="1435" y="962"/>
                  </a:lnTo>
                  <a:lnTo>
                    <a:pt x="1320" y="1019"/>
                  </a:lnTo>
                  <a:lnTo>
                    <a:pt x="1156" y="1037"/>
                  </a:lnTo>
                  <a:lnTo>
                    <a:pt x="1041" y="1037"/>
                  </a:lnTo>
                  <a:lnTo>
                    <a:pt x="1002" y="993"/>
                  </a:lnTo>
                  <a:lnTo>
                    <a:pt x="975" y="724"/>
                  </a:lnTo>
                  <a:lnTo>
                    <a:pt x="794" y="724"/>
                  </a:lnTo>
                  <a:lnTo>
                    <a:pt x="78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0720" y="1087560"/>
              <a:ext cx="198720" cy="86040"/>
            </a:xfrm>
            <a:custGeom>
              <a:avLst/>
              <a:gdLst/>
              <a:ahLst/>
              <a:rect l="0" t="0" r="r" b="b"/>
              <a:pathLst>
                <a:path w="552" h="239">
                  <a:moveTo>
                    <a:pt x="0" y="0"/>
                  </a:moveTo>
                  <a:lnTo>
                    <a:pt x="88" y="110"/>
                  </a:lnTo>
                  <a:lnTo>
                    <a:pt x="327" y="110"/>
                  </a:lnTo>
                  <a:lnTo>
                    <a:pt x="428" y="35"/>
                  </a:lnTo>
                  <a:lnTo>
                    <a:pt x="552" y="35"/>
                  </a:lnTo>
                  <a:lnTo>
                    <a:pt x="530" y="70"/>
                  </a:lnTo>
                  <a:lnTo>
                    <a:pt x="530" y="110"/>
                  </a:lnTo>
                  <a:lnTo>
                    <a:pt x="305" y="239"/>
                  </a:lnTo>
                  <a:lnTo>
                    <a:pt x="185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8600" y="949320"/>
              <a:ext cx="300240" cy="452880"/>
            </a:xfrm>
            <a:custGeom>
              <a:avLst/>
              <a:gdLst/>
              <a:ahLst/>
              <a:rect l="0" t="0" r="r" b="b"/>
              <a:pathLst>
                <a:path w="834" h="1258">
                  <a:moveTo>
                    <a:pt x="834" y="88"/>
                  </a:moveTo>
                  <a:lnTo>
                    <a:pt x="834" y="110"/>
                  </a:lnTo>
                  <a:lnTo>
                    <a:pt x="684" y="238"/>
                  </a:lnTo>
                  <a:lnTo>
                    <a:pt x="565" y="260"/>
                  </a:lnTo>
                  <a:lnTo>
                    <a:pt x="330" y="229"/>
                  </a:lnTo>
                  <a:lnTo>
                    <a:pt x="374" y="680"/>
                  </a:lnTo>
                  <a:lnTo>
                    <a:pt x="433" y="1055"/>
                  </a:lnTo>
                  <a:lnTo>
                    <a:pt x="530" y="1258"/>
                  </a:lnTo>
                  <a:lnTo>
                    <a:pt x="433" y="1113"/>
                  </a:lnTo>
                  <a:lnTo>
                    <a:pt x="388" y="954"/>
                  </a:lnTo>
                  <a:lnTo>
                    <a:pt x="321" y="530"/>
                  </a:lnTo>
                  <a:lnTo>
                    <a:pt x="255" y="556"/>
                  </a:lnTo>
                  <a:lnTo>
                    <a:pt x="176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5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7" y="375"/>
                  </a:lnTo>
                  <a:lnTo>
                    <a:pt x="216" y="353"/>
                  </a:lnTo>
                  <a:lnTo>
                    <a:pt x="216" y="123"/>
                  </a:lnTo>
                  <a:lnTo>
                    <a:pt x="313" y="171"/>
                  </a:lnTo>
                  <a:lnTo>
                    <a:pt x="468" y="202"/>
                  </a:lnTo>
                  <a:lnTo>
                    <a:pt x="605" y="194"/>
                  </a:lnTo>
                  <a:lnTo>
                    <a:pt x="741" y="123"/>
                  </a:lnTo>
                  <a:lnTo>
                    <a:pt x="834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9600" y="592200"/>
              <a:ext cx="90720" cy="240120"/>
            </a:xfrm>
            <a:custGeom>
              <a:avLst/>
              <a:gdLst/>
              <a:ahLst/>
              <a:rect l="0" t="0" r="r" b="b"/>
              <a:pathLst>
                <a:path w="252" h="667">
                  <a:moveTo>
                    <a:pt x="133" y="667"/>
                  </a:moveTo>
                  <a:lnTo>
                    <a:pt x="252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8" y="225"/>
                  </a:lnTo>
                  <a:lnTo>
                    <a:pt x="97" y="424"/>
                  </a:lnTo>
                  <a:lnTo>
                    <a:pt x="155" y="509"/>
                  </a:lnTo>
                  <a:lnTo>
                    <a:pt x="133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26360" y="38088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17" y="596"/>
                  </a:moveTo>
                  <a:lnTo>
                    <a:pt x="180" y="689"/>
                  </a:lnTo>
                  <a:lnTo>
                    <a:pt x="163" y="574"/>
                  </a:lnTo>
                  <a:lnTo>
                    <a:pt x="194" y="375"/>
                  </a:lnTo>
                  <a:lnTo>
                    <a:pt x="299" y="331"/>
                  </a:lnTo>
                  <a:lnTo>
                    <a:pt x="313" y="547"/>
                  </a:lnTo>
                  <a:lnTo>
                    <a:pt x="626" y="171"/>
                  </a:lnTo>
                  <a:lnTo>
                    <a:pt x="705" y="145"/>
                  </a:lnTo>
                  <a:lnTo>
                    <a:pt x="643" y="296"/>
                  </a:lnTo>
                  <a:lnTo>
                    <a:pt x="842" y="367"/>
                  </a:lnTo>
                  <a:lnTo>
                    <a:pt x="988" y="216"/>
                  </a:lnTo>
                  <a:lnTo>
                    <a:pt x="1063" y="261"/>
                  </a:lnTo>
                  <a:lnTo>
                    <a:pt x="997" y="389"/>
                  </a:lnTo>
                  <a:lnTo>
                    <a:pt x="1090" y="318"/>
                  </a:lnTo>
                  <a:lnTo>
                    <a:pt x="1231" y="375"/>
                  </a:lnTo>
                  <a:lnTo>
                    <a:pt x="1116" y="481"/>
                  </a:lnTo>
                  <a:lnTo>
                    <a:pt x="1504" y="547"/>
                  </a:lnTo>
                  <a:lnTo>
                    <a:pt x="1244" y="622"/>
                  </a:lnTo>
                  <a:lnTo>
                    <a:pt x="1566" y="663"/>
                  </a:lnTo>
                  <a:lnTo>
                    <a:pt x="1182" y="751"/>
                  </a:lnTo>
                  <a:lnTo>
                    <a:pt x="1266" y="817"/>
                  </a:lnTo>
                  <a:lnTo>
                    <a:pt x="1151" y="883"/>
                  </a:lnTo>
                  <a:lnTo>
                    <a:pt x="1350" y="883"/>
                  </a:lnTo>
                  <a:lnTo>
                    <a:pt x="1332" y="831"/>
                  </a:lnTo>
                  <a:lnTo>
                    <a:pt x="1535" y="879"/>
                  </a:lnTo>
                  <a:lnTo>
                    <a:pt x="1504" y="738"/>
                  </a:lnTo>
                  <a:lnTo>
                    <a:pt x="1689" y="676"/>
                  </a:lnTo>
                  <a:lnTo>
                    <a:pt x="1557" y="609"/>
                  </a:lnTo>
                  <a:lnTo>
                    <a:pt x="1875" y="587"/>
                  </a:lnTo>
                  <a:lnTo>
                    <a:pt x="1601" y="446"/>
                  </a:lnTo>
                  <a:lnTo>
                    <a:pt x="1288" y="415"/>
                  </a:lnTo>
                  <a:lnTo>
                    <a:pt x="1535" y="269"/>
                  </a:lnTo>
                  <a:lnTo>
                    <a:pt x="1090" y="269"/>
                  </a:lnTo>
                  <a:lnTo>
                    <a:pt x="1301" y="132"/>
                  </a:lnTo>
                  <a:lnTo>
                    <a:pt x="979" y="171"/>
                  </a:lnTo>
                  <a:lnTo>
                    <a:pt x="824" y="239"/>
                  </a:lnTo>
                  <a:lnTo>
                    <a:pt x="957" y="0"/>
                  </a:lnTo>
                  <a:lnTo>
                    <a:pt x="564" y="132"/>
                  </a:lnTo>
                  <a:lnTo>
                    <a:pt x="348" y="424"/>
                  </a:lnTo>
                  <a:lnTo>
                    <a:pt x="313" y="261"/>
                  </a:lnTo>
                  <a:lnTo>
                    <a:pt x="141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73960" y="549360"/>
              <a:ext cx="190800" cy="95760"/>
            </a:xfrm>
            <a:custGeom>
              <a:avLst/>
              <a:gdLst/>
              <a:ahLst/>
              <a:rect l="0" t="0" r="r" b="b"/>
              <a:pathLst>
                <a:path w="530" h="266">
                  <a:moveTo>
                    <a:pt x="0" y="266"/>
                  </a:moveTo>
                  <a:lnTo>
                    <a:pt x="198" y="0"/>
                  </a:lnTo>
                  <a:lnTo>
                    <a:pt x="198" y="177"/>
                  </a:lnTo>
                  <a:lnTo>
                    <a:pt x="269" y="106"/>
                  </a:lnTo>
                  <a:lnTo>
                    <a:pt x="331" y="204"/>
                  </a:lnTo>
                  <a:lnTo>
                    <a:pt x="530" y="253"/>
                  </a:lnTo>
                  <a:lnTo>
                    <a:pt x="318" y="218"/>
                  </a:lnTo>
                  <a:lnTo>
                    <a:pt x="255" y="150"/>
                  </a:lnTo>
                  <a:lnTo>
                    <a:pt x="167" y="218"/>
                  </a:lnTo>
                  <a:lnTo>
                    <a:pt x="167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4880" y="1198440"/>
              <a:ext cx="230400" cy="141480"/>
            </a:xfrm>
            <a:custGeom>
              <a:avLst/>
              <a:gdLst/>
              <a:ahLst/>
              <a:rect l="0" t="0" r="r" b="b"/>
              <a:pathLst>
                <a:path w="640" h="393">
                  <a:moveTo>
                    <a:pt x="123" y="136"/>
                  </a:moveTo>
                  <a:lnTo>
                    <a:pt x="384" y="119"/>
                  </a:lnTo>
                  <a:lnTo>
                    <a:pt x="508" y="145"/>
                  </a:lnTo>
                  <a:lnTo>
                    <a:pt x="574" y="88"/>
                  </a:lnTo>
                  <a:lnTo>
                    <a:pt x="640" y="217"/>
                  </a:lnTo>
                  <a:lnTo>
                    <a:pt x="596" y="243"/>
                  </a:lnTo>
                  <a:lnTo>
                    <a:pt x="543" y="194"/>
                  </a:lnTo>
                  <a:lnTo>
                    <a:pt x="455" y="283"/>
                  </a:lnTo>
                  <a:lnTo>
                    <a:pt x="295" y="393"/>
                  </a:lnTo>
                  <a:lnTo>
                    <a:pt x="224" y="393"/>
                  </a:lnTo>
                  <a:lnTo>
                    <a:pt x="123" y="336"/>
                  </a:lnTo>
                  <a:lnTo>
                    <a:pt x="238" y="384"/>
                  </a:lnTo>
                  <a:lnTo>
                    <a:pt x="282" y="384"/>
                  </a:lnTo>
                  <a:lnTo>
                    <a:pt x="384" y="314"/>
                  </a:lnTo>
                  <a:lnTo>
                    <a:pt x="450" y="180"/>
                  </a:lnTo>
                  <a:lnTo>
                    <a:pt x="349" y="158"/>
                  </a:lnTo>
                  <a:lnTo>
                    <a:pt x="277" y="145"/>
                  </a:lnTo>
                  <a:lnTo>
                    <a:pt x="110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23" y="105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26440" y="890640"/>
              <a:ext cx="491040" cy="655920"/>
            </a:xfrm>
            <a:custGeom>
              <a:avLst/>
              <a:gdLst/>
              <a:ahLst/>
              <a:rect l="0" t="0" r="r" b="b"/>
              <a:pathLst>
                <a:path w="1364" h="1822">
                  <a:moveTo>
                    <a:pt x="1148" y="0"/>
                  </a:moveTo>
                  <a:lnTo>
                    <a:pt x="1285" y="0"/>
                  </a:lnTo>
                  <a:lnTo>
                    <a:pt x="1364" y="88"/>
                  </a:lnTo>
                  <a:lnTo>
                    <a:pt x="1364" y="189"/>
                  </a:lnTo>
                  <a:lnTo>
                    <a:pt x="1254" y="471"/>
                  </a:lnTo>
                  <a:lnTo>
                    <a:pt x="1139" y="608"/>
                  </a:lnTo>
                  <a:lnTo>
                    <a:pt x="1025" y="630"/>
                  </a:lnTo>
                  <a:lnTo>
                    <a:pt x="993" y="630"/>
                  </a:lnTo>
                  <a:lnTo>
                    <a:pt x="993" y="988"/>
                  </a:lnTo>
                  <a:lnTo>
                    <a:pt x="1047" y="1248"/>
                  </a:lnTo>
                  <a:lnTo>
                    <a:pt x="1047" y="1460"/>
                  </a:lnTo>
                  <a:lnTo>
                    <a:pt x="838" y="1676"/>
                  </a:lnTo>
                  <a:lnTo>
                    <a:pt x="556" y="1822"/>
                  </a:lnTo>
                  <a:lnTo>
                    <a:pt x="375" y="1822"/>
                  </a:lnTo>
                  <a:lnTo>
                    <a:pt x="286" y="1778"/>
                  </a:lnTo>
                  <a:lnTo>
                    <a:pt x="163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54" y="1460"/>
                  </a:lnTo>
                  <a:lnTo>
                    <a:pt x="264" y="1553"/>
                  </a:lnTo>
                  <a:lnTo>
                    <a:pt x="481" y="1566"/>
                  </a:lnTo>
                  <a:lnTo>
                    <a:pt x="675" y="1478"/>
                  </a:lnTo>
                  <a:lnTo>
                    <a:pt x="781" y="1372"/>
                  </a:lnTo>
                  <a:lnTo>
                    <a:pt x="891" y="1187"/>
                  </a:lnTo>
                  <a:lnTo>
                    <a:pt x="909" y="971"/>
                  </a:lnTo>
                  <a:lnTo>
                    <a:pt x="949" y="268"/>
                  </a:lnTo>
                  <a:lnTo>
                    <a:pt x="1002" y="370"/>
                  </a:lnTo>
                  <a:lnTo>
                    <a:pt x="1135" y="242"/>
                  </a:lnTo>
                  <a:lnTo>
                    <a:pt x="1276" y="189"/>
                  </a:lnTo>
                  <a:lnTo>
                    <a:pt x="1311" y="114"/>
                  </a:lnTo>
                  <a:lnTo>
                    <a:pt x="1294" y="44"/>
                  </a:lnTo>
                  <a:lnTo>
                    <a:pt x="1236" y="8"/>
                  </a:lnTo>
                  <a:lnTo>
                    <a:pt x="11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65760" y="1455840"/>
              <a:ext cx="395640" cy="606960"/>
            </a:xfrm>
            <a:custGeom>
              <a:avLst/>
              <a:gdLst/>
              <a:ahLst/>
              <a:rect l="0" t="0" r="r" b="b"/>
              <a:pathLst>
                <a:path w="1099" h="1686">
                  <a:moveTo>
                    <a:pt x="141" y="0"/>
                  </a:moveTo>
                  <a:lnTo>
                    <a:pt x="264" y="74"/>
                  </a:lnTo>
                  <a:lnTo>
                    <a:pt x="357" y="418"/>
                  </a:lnTo>
                  <a:lnTo>
                    <a:pt x="640" y="499"/>
                  </a:lnTo>
                  <a:lnTo>
                    <a:pt x="724" y="587"/>
                  </a:lnTo>
                  <a:lnTo>
                    <a:pt x="737" y="715"/>
                  </a:lnTo>
                  <a:lnTo>
                    <a:pt x="874" y="697"/>
                  </a:lnTo>
                  <a:lnTo>
                    <a:pt x="1046" y="803"/>
                  </a:lnTo>
                  <a:lnTo>
                    <a:pt x="1099" y="940"/>
                  </a:lnTo>
                  <a:lnTo>
                    <a:pt x="1099" y="1178"/>
                  </a:lnTo>
                  <a:lnTo>
                    <a:pt x="874" y="1540"/>
                  </a:lnTo>
                  <a:lnTo>
                    <a:pt x="799" y="1686"/>
                  </a:lnTo>
                  <a:lnTo>
                    <a:pt x="838" y="1492"/>
                  </a:lnTo>
                  <a:lnTo>
                    <a:pt x="799" y="1417"/>
                  </a:lnTo>
                  <a:lnTo>
                    <a:pt x="662" y="1294"/>
                  </a:lnTo>
                  <a:lnTo>
                    <a:pt x="449" y="1147"/>
                  </a:lnTo>
                  <a:lnTo>
                    <a:pt x="710" y="1231"/>
                  </a:lnTo>
                  <a:lnTo>
                    <a:pt x="860" y="1342"/>
                  </a:lnTo>
                  <a:lnTo>
                    <a:pt x="935" y="1324"/>
                  </a:lnTo>
                  <a:lnTo>
                    <a:pt x="988" y="1262"/>
                  </a:lnTo>
                  <a:lnTo>
                    <a:pt x="1046" y="1094"/>
                  </a:lnTo>
                  <a:lnTo>
                    <a:pt x="1028" y="927"/>
                  </a:lnTo>
                  <a:lnTo>
                    <a:pt x="944" y="834"/>
                  </a:lnTo>
                  <a:lnTo>
                    <a:pt x="812" y="803"/>
                  </a:lnTo>
                  <a:lnTo>
                    <a:pt x="662" y="803"/>
                  </a:lnTo>
                  <a:lnTo>
                    <a:pt x="613" y="556"/>
                  </a:lnTo>
                  <a:lnTo>
                    <a:pt x="370" y="468"/>
                  </a:lnTo>
                  <a:lnTo>
                    <a:pt x="370" y="538"/>
                  </a:lnTo>
                  <a:lnTo>
                    <a:pt x="264" y="361"/>
                  </a:lnTo>
                  <a:lnTo>
                    <a:pt x="202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9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7120" y="1724040"/>
              <a:ext cx="262440" cy="486000"/>
            </a:xfrm>
            <a:custGeom>
              <a:avLst/>
              <a:gdLst/>
              <a:ahLst/>
              <a:rect l="0" t="0" r="r" b="b"/>
              <a:pathLst>
                <a:path w="729" h="1350">
                  <a:moveTo>
                    <a:pt x="729" y="0"/>
                  </a:moveTo>
                  <a:lnTo>
                    <a:pt x="575" y="88"/>
                  </a:lnTo>
                  <a:lnTo>
                    <a:pt x="402" y="414"/>
                  </a:lnTo>
                  <a:lnTo>
                    <a:pt x="23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45" y="1138"/>
                  </a:lnTo>
                  <a:lnTo>
                    <a:pt x="278" y="1019"/>
                  </a:lnTo>
                  <a:lnTo>
                    <a:pt x="389" y="777"/>
                  </a:lnTo>
                  <a:lnTo>
                    <a:pt x="534" y="630"/>
                  </a:lnTo>
                  <a:lnTo>
                    <a:pt x="534" y="825"/>
                  </a:lnTo>
                  <a:lnTo>
                    <a:pt x="512" y="1006"/>
                  </a:lnTo>
                  <a:lnTo>
                    <a:pt x="353" y="1240"/>
                  </a:lnTo>
                  <a:lnTo>
                    <a:pt x="353" y="1315"/>
                  </a:lnTo>
                  <a:lnTo>
                    <a:pt x="512" y="1350"/>
                  </a:lnTo>
                  <a:lnTo>
                    <a:pt x="402" y="1284"/>
                  </a:lnTo>
                  <a:lnTo>
                    <a:pt x="419" y="1240"/>
                  </a:lnTo>
                  <a:lnTo>
                    <a:pt x="525" y="1068"/>
                  </a:lnTo>
                  <a:lnTo>
                    <a:pt x="601" y="750"/>
                  </a:lnTo>
                  <a:lnTo>
                    <a:pt x="548" y="568"/>
                  </a:lnTo>
                  <a:lnTo>
                    <a:pt x="433" y="670"/>
                  </a:lnTo>
                  <a:lnTo>
                    <a:pt x="171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45" y="763"/>
                  </a:lnTo>
                  <a:lnTo>
                    <a:pt x="433" y="436"/>
                  </a:lnTo>
                  <a:lnTo>
                    <a:pt x="601" y="12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70800" y="1998720"/>
              <a:ext cx="162360" cy="233640"/>
            </a:xfrm>
            <a:custGeom>
              <a:avLst/>
              <a:gdLst/>
              <a:ahLst/>
              <a:rect l="0" t="0" r="r" b="b"/>
              <a:pathLst>
                <a:path w="451" h="649">
                  <a:moveTo>
                    <a:pt x="0" y="574"/>
                  </a:moveTo>
                  <a:lnTo>
                    <a:pt x="150" y="406"/>
                  </a:lnTo>
                  <a:lnTo>
                    <a:pt x="177" y="242"/>
                  </a:lnTo>
                  <a:lnTo>
                    <a:pt x="350" y="0"/>
                  </a:lnTo>
                  <a:lnTo>
                    <a:pt x="385" y="158"/>
                  </a:lnTo>
                  <a:lnTo>
                    <a:pt x="363" y="587"/>
                  </a:lnTo>
                  <a:lnTo>
                    <a:pt x="451" y="649"/>
                  </a:lnTo>
                  <a:lnTo>
                    <a:pt x="318" y="600"/>
                  </a:lnTo>
                  <a:lnTo>
                    <a:pt x="252" y="362"/>
                  </a:lnTo>
                  <a:lnTo>
                    <a:pt x="150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9160" y="2009880"/>
              <a:ext cx="106560" cy="209880"/>
            </a:xfrm>
            <a:custGeom>
              <a:avLst/>
              <a:gdLst/>
              <a:ahLst/>
              <a:rect l="0" t="0" r="r" b="b"/>
              <a:pathLst>
                <a:path w="296" h="583">
                  <a:moveTo>
                    <a:pt x="0" y="437"/>
                  </a:moveTo>
                  <a:lnTo>
                    <a:pt x="13" y="220"/>
                  </a:lnTo>
                  <a:lnTo>
                    <a:pt x="74" y="92"/>
                  </a:lnTo>
                  <a:lnTo>
                    <a:pt x="141" y="552"/>
                  </a:lnTo>
                  <a:lnTo>
                    <a:pt x="234" y="552"/>
                  </a:lnTo>
                  <a:lnTo>
                    <a:pt x="274" y="66"/>
                  </a:lnTo>
                  <a:lnTo>
                    <a:pt x="296" y="0"/>
                  </a:lnTo>
                  <a:lnTo>
                    <a:pt x="274" y="380"/>
                  </a:lnTo>
                  <a:lnTo>
                    <a:pt x="234" y="583"/>
                  </a:lnTo>
                  <a:lnTo>
                    <a:pt x="114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1187280"/>
              <a:ext cx="257400" cy="559080"/>
            </a:xfrm>
            <a:custGeom>
              <a:avLst/>
              <a:gdLst/>
              <a:ahLst/>
              <a:rect l="0" t="0" r="r" b="b"/>
              <a:pathLst>
                <a:path w="715" h="1553">
                  <a:moveTo>
                    <a:pt x="189" y="843"/>
                  </a:moveTo>
                  <a:lnTo>
                    <a:pt x="242" y="595"/>
                  </a:lnTo>
                  <a:lnTo>
                    <a:pt x="481" y="533"/>
                  </a:lnTo>
                  <a:lnTo>
                    <a:pt x="715" y="0"/>
                  </a:lnTo>
                  <a:lnTo>
                    <a:pt x="715" y="154"/>
                  </a:lnTo>
                  <a:lnTo>
                    <a:pt x="516" y="568"/>
                  </a:lnTo>
                  <a:lnTo>
                    <a:pt x="264" y="643"/>
                  </a:lnTo>
                  <a:lnTo>
                    <a:pt x="229" y="843"/>
                  </a:lnTo>
                  <a:lnTo>
                    <a:pt x="317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91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9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4200" y="1187280"/>
              <a:ext cx="433800" cy="541800"/>
            </a:xfrm>
            <a:custGeom>
              <a:avLst/>
              <a:gdLst/>
              <a:ahLst/>
              <a:rect l="0" t="0" r="r" b="b"/>
              <a:pathLst>
                <a:path w="1205" h="1505">
                  <a:moveTo>
                    <a:pt x="331" y="0"/>
                  </a:moveTo>
                  <a:lnTo>
                    <a:pt x="406" y="48"/>
                  </a:lnTo>
                  <a:lnTo>
                    <a:pt x="428" y="176"/>
                  </a:lnTo>
                  <a:lnTo>
                    <a:pt x="428" y="291"/>
                  </a:lnTo>
                  <a:lnTo>
                    <a:pt x="291" y="512"/>
                  </a:lnTo>
                  <a:lnTo>
                    <a:pt x="318" y="671"/>
                  </a:lnTo>
                  <a:lnTo>
                    <a:pt x="724" y="847"/>
                  </a:lnTo>
                  <a:lnTo>
                    <a:pt x="1197" y="1320"/>
                  </a:lnTo>
                  <a:lnTo>
                    <a:pt x="1205" y="1448"/>
                  </a:lnTo>
                  <a:lnTo>
                    <a:pt x="1179" y="1505"/>
                  </a:lnTo>
                  <a:lnTo>
                    <a:pt x="1003" y="1505"/>
                  </a:lnTo>
                  <a:lnTo>
                    <a:pt x="843" y="1417"/>
                  </a:lnTo>
                  <a:lnTo>
                    <a:pt x="715" y="1258"/>
                  </a:lnTo>
                  <a:lnTo>
                    <a:pt x="644" y="1170"/>
                  </a:lnTo>
                  <a:lnTo>
                    <a:pt x="556" y="1157"/>
                  </a:lnTo>
                  <a:lnTo>
                    <a:pt x="662" y="1157"/>
                  </a:lnTo>
                  <a:lnTo>
                    <a:pt x="860" y="1399"/>
                  </a:lnTo>
                  <a:lnTo>
                    <a:pt x="1113" y="1470"/>
                  </a:lnTo>
                  <a:lnTo>
                    <a:pt x="1166" y="1399"/>
                  </a:lnTo>
                  <a:lnTo>
                    <a:pt x="1139" y="1289"/>
                  </a:lnTo>
                  <a:lnTo>
                    <a:pt x="697" y="944"/>
                  </a:lnTo>
                  <a:lnTo>
                    <a:pt x="636" y="847"/>
                  </a:lnTo>
                  <a:lnTo>
                    <a:pt x="291" y="763"/>
                  </a:lnTo>
                  <a:lnTo>
                    <a:pt x="233" y="847"/>
                  </a:lnTo>
                  <a:lnTo>
                    <a:pt x="0" y="988"/>
                  </a:lnTo>
                  <a:lnTo>
                    <a:pt x="220" y="825"/>
                  </a:lnTo>
                  <a:lnTo>
                    <a:pt x="233" y="719"/>
                  </a:lnTo>
                  <a:lnTo>
                    <a:pt x="233" y="477"/>
                  </a:lnTo>
                  <a:lnTo>
                    <a:pt x="389" y="291"/>
                  </a:lnTo>
                  <a:lnTo>
                    <a:pt x="389" y="6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26440" y="1612800"/>
              <a:ext cx="367200" cy="321120"/>
            </a:xfrm>
            <a:custGeom>
              <a:avLst/>
              <a:gdLst/>
              <a:ahLst/>
              <a:rect l="0" t="0" r="r" b="b"/>
              <a:pathLst>
                <a:path w="1020" h="892">
                  <a:moveTo>
                    <a:pt x="763" y="0"/>
                  </a:moveTo>
                  <a:lnTo>
                    <a:pt x="737" y="74"/>
                  </a:lnTo>
                  <a:lnTo>
                    <a:pt x="892" y="371"/>
                  </a:lnTo>
                  <a:lnTo>
                    <a:pt x="967" y="676"/>
                  </a:lnTo>
                  <a:lnTo>
                    <a:pt x="879" y="676"/>
                  </a:lnTo>
                  <a:lnTo>
                    <a:pt x="724" y="538"/>
                  </a:lnTo>
                  <a:lnTo>
                    <a:pt x="587" y="261"/>
                  </a:lnTo>
                  <a:lnTo>
                    <a:pt x="477" y="216"/>
                  </a:lnTo>
                  <a:lnTo>
                    <a:pt x="494" y="371"/>
                  </a:lnTo>
                  <a:lnTo>
                    <a:pt x="596" y="477"/>
                  </a:lnTo>
                  <a:lnTo>
                    <a:pt x="596" y="694"/>
                  </a:lnTo>
                  <a:lnTo>
                    <a:pt x="525" y="848"/>
                  </a:lnTo>
                  <a:lnTo>
                    <a:pt x="428" y="786"/>
                  </a:lnTo>
                  <a:lnTo>
                    <a:pt x="314" y="538"/>
                  </a:lnTo>
                  <a:lnTo>
                    <a:pt x="287" y="371"/>
                  </a:lnTo>
                  <a:lnTo>
                    <a:pt x="220" y="322"/>
                  </a:lnTo>
                  <a:lnTo>
                    <a:pt x="202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202" y="879"/>
                  </a:lnTo>
                  <a:lnTo>
                    <a:pt x="246" y="773"/>
                  </a:lnTo>
                  <a:lnTo>
                    <a:pt x="274" y="437"/>
                  </a:lnTo>
                  <a:lnTo>
                    <a:pt x="296" y="569"/>
                  </a:lnTo>
                  <a:lnTo>
                    <a:pt x="411" y="857"/>
                  </a:lnTo>
                  <a:lnTo>
                    <a:pt x="538" y="892"/>
                  </a:lnTo>
                  <a:lnTo>
                    <a:pt x="631" y="773"/>
                  </a:lnTo>
                  <a:lnTo>
                    <a:pt x="631" y="494"/>
                  </a:lnTo>
                  <a:lnTo>
                    <a:pt x="879" y="725"/>
                  </a:lnTo>
                  <a:lnTo>
                    <a:pt x="1007" y="725"/>
                  </a:lnTo>
                  <a:lnTo>
                    <a:pt x="1020" y="569"/>
                  </a:lnTo>
                  <a:lnTo>
                    <a:pt x="928" y="292"/>
                  </a:lnTo>
                  <a:lnTo>
                    <a:pt x="763" y="61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8920" y="1281240"/>
              <a:ext cx="1636920" cy="1308600"/>
            </a:xfrm>
            <a:custGeom>
              <a:avLst/>
              <a:gdLst/>
              <a:ahLst/>
              <a:rect l="0" t="0" r="r" b="b"/>
              <a:pathLst>
                <a:path w="4547" h="3635">
                  <a:moveTo>
                    <a:pt x="1636" y="308"/>
                  </a:moveTo>
                  <a:lnTo>
                    <a:pt x="1552" y="321"/>
                  </a:lnTo>
                  <a:lnTo>
                    <a:pt x="1424" y="502"/>
                  </a:lnTo>
                  <a:lnTo>
                    <a:pt x="1380" y="370"/>
                  </a:lnTo>
                  <a:lnTo>
                    <a:pt x="1234" y="295"/>
                  </a:lnTo>
                  <a:lnTo>
                    <a:pt x="1124" y="348"/>
                  </a:lnTo>
                  <a:lnTo>
                    <a:pt x="1080" y="586"/>
                  </a:lnTo>
                  <a:lnTo>
                    <a:pt x="674" y="873"/>
                  </a:lnTo>
                  <a:lnTo>
                    <a:pt x="701" y="997"/>
                  </a:lnTo>
                  <a:lnTo>
                    <a:pt x="599" y="1107"/>
                  </a:lnTo>
                  <a:lnTo>
                    <a:pt x="599" y="1200"/>
                  </a:lnTo>
                  <a:lnTo>
                    <a:pt x="718" y="1478"/>
                  </a:lnTo>
                  <a:lnTo>
                    <a:pt x="727" y="1813"/>
                  </a:lnTo>
                  <a:lnTo>
                    <a:pt x="648" y="2130"/>
                  </a:lnTo>
                  <a:lnTo>
                    <a:pt x="357" y="2320"/>
                  </a:lnTo>
                  <a:lnTo>
                    <a:pt x="317" y="2580"/>
                  </a:lnTo>
                  <a:lnTo>
                    <a:pt x="229" y="2580"/>
                  </a:lnTo>
                  <a:lnTo>
                    <a:pt x="185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202" y="2969"/>
                  </a:lnTo>
                  <a:lnTo>
                    <a:pt x="343" y="2982"/>
                  </a:lnTo>
                  <a:lnTo>
                    <a:pt x="599" y="3212"/>
                  </a:lnTo>
                  <a:lnTo>
                    <a:pt x="833" y="3243"/>
                  </a:lnTo>
                  <a:lnTo>
                    <a:pt x="965" y="3119"/>
                  </a:lnTo>
                  <a:lnTo>
                    <a:pt x="1278" y="2668"/>
                  </a:lnTo>
                  <a:lnTo>
                    <a:pt x="1305" y="3274"/>
                  </a:lnTo>
                  <a:lnTo>
                    <a:pt x="1278" y="3635"/>
                  </a:lnTo>
                  <a:lnTo>
                    <a:pt x="3908" y="3635"/>
                  </a:lnTo>
                  <a:lnTo>
                    <a:pt x="3713" y="3243"/>
                  </a:lnTo>
                  <a:lnTo>
                    <a:pt x="3621" y="2908"/>
                  </a:lnTo>
                  <a:lnTo>
                    <a:pt x="3594" y="2404"/>
                  </a:lnTo>
                  <a:lnTo>
                    <a:pt x="3749" y="2518"/>
                  </a:lnTo>
                  <a:lnTo>
                    <a:pt x="3908" y="2518"/>
                  </a:lnTo>
                  <a:lnTo>
                    <a:pt x="4119" y="2386"/>
                  </a:lnTo>
                  <a:lnTo>
                    <a:pt x="4265" y="2364"/>
                  </a:lnTo>
                  <a:lnTo>
                    <a:pt x="4353" y="2232"/>
                  </a:lnTo>
                  <a:lnTo>
                    <a:pt x="4415" y="1888"/>
                  </a:lnTo>
                  <a:lnTo>
                    <a:pt x="4547" y="1751"/>
                  </a:lnTo>
                  <a:lnTo>
                    <a:pt x="4481" y="1645"/>
                  </a:lnTo>
                  <a:lnTo>
                    <a:pt x="4379" y="1645"/>
                  </a:lnTo>
                  <a:lnTo>
                    <a:pt x="4304" y="1716"/>
                  </a:lnTo>
                  <a:lnTo>
                    <a:pt x="4229" y="1738"/>
                  </a:lnTo>
                  <a:lnTo>
                    <a:pt x="4132" y="1645"/>
                  </a:lnTo>
                  <a:lnTo>
                    <a:pt x="4022" y="1632"/>
                  </a:lnTo>
                  <a:lnTo>
                    <a:pt x="3815" y="1504"/>
                  </a:lnTo>
                  <a:lnTo>
                    <a:pt x="3687" y="1368"/>
                  </a:lnTo>
                  <a:lnTo>
                    <a:pt x="3665" y="1200"/>
                  </a:lnTo>
                  <a:lnTo>
                    <a:pt x="3687" y="1041"/>
                  </a:lnTo>
                  <a:lnTo>
                    <a:pt x="3771" y="908"/>
                  </a:lnTo>
                  <a:lnTo>
                    <a:pt x="3885" y="789"/>
                  </a:lnTo>
                  <a:lnTo>
                    <a:pt x="3872" y="582"/>
                  </a:lnTo>
                  <a:lnTo>
                    <a:pt x="3872" y="432"/>
                  </a:lnTo>
                  <a:lnTo>
                    <a:pt x="3815" y="321"/>
                  </a:lnTo>
                  <a:lnTo>
                    <a:pt x="3665" y="273"/>
                  </a:lnTo>
                  <a:lnTo>
                    <a:pt x="3608" y="246"/>
                  </a:lnTo>
                  <a:lnTo>
                    <a:pt x="3502" y="66"/>
                  </a:lnTo>
                  <a:lnTo>
                    <a:pt x="3414" y="13"/>
                  </a:lnTo>
                  <a:lnTo>
                    <a:pt x="3317" y="0"/>
                  </a:lnTo>
                  <a:lnTo>
                    <a:pt x="3237" y="35"/>
                  </a:lnTo>
                  <a:lnTo>
                    <a:pt x="3171" y="127"/>
                  </a:lnTo>
                  <a:lnTo>
                    <a:pt x="3070" y="185"/>
                  </a:lnTo>
                  <a:lnTo>
                    <a:pt x="2959" y="202"/>
                  </a:lnTo>
                  <a:lnTo>
                    <a:pt x="2836" y="202"/>
                  </a:lnTo>
                  <a:lnTo>
                    <a:pt x="2858" y="383"/>
                  </a:lnTo>
                  <a:lnTo>
                    <a:pt x="2858" y="604"/>
                  </a:lnTo>
                  <a:lnTo>
                    <a:pt x="2836" y="758"/>
                  </a:lnTo>
                  <a:lnTo>
                    <a:pt x="2721" y="935"/>
                  </a:lnTo>
                  <a:lnTo>
                    <a:pt x="2580" y="1213"/>
                  </a:lnTo>
                  <a:lnTo>
                    <a:pt x="2466" y="1539"/>
                  </a:lnTo>
                  <a:lnTo>
                    <a:pt x="2457" y="1738"/>
                  </a:lnTo>
                  <a:lnTo>
                    <a:pt x="2404" y="1901"/>
                  </a:lnTo>
                  <a:lnTo>
                    <a:pt x="2338" y="2069"/>
                  </a:lnTo>
                  <a:lnTo>
                    <a:pt x="2307" y="2333"/>
                  </a:lnTo>
                  <a:lnTo>
                    <a:pt x="2324" y="2549"/>
                  </a:lnTo>
                  <a:lnTo>
                    <a:pt x="2404" y="2806"/>
                  </a:lnTo>
                  <a:lnTo>
                    <a:pt x="2457" y="2908"/>
                  </a:lnTo>
                  <a:lnTo>
                    <a:pt x="2307" y="3000"/>
                  </a:lnTo>
                  <a:lnTo>
                    <a:pt x="2121" y="3057"/>
                  </a:lnTo>
                  <a:lnTo>
                    <a:pt x="1918" y="3075"/>
                  </a:lnTo>
                  <a:lnTo>
                    <a:pt x="1794" y="3075"/>
                  </a:lnTo>
                  <a:lnTo>
                    <a:pt x="1710" y="3044"/>
                  </a:lnTo>
                  <a:lnTo>
                    <a:pt x="1710" y="2824"/>
                  </a:lnTo>
                  <a:lnTo>
                    <a:pt x="1710" y="2505"/>
                  </a:lnTo>
                  <a:lnTo>
                    <a:pt x="1662" y="2188"/>
                  </a:lnTo>
                  <a:lnTo>
                    <a:pt x="1583" y="1901"/>
                  </a:lnTo>
                  <a:lnTo>
                    <a:pt x="1543" y="1676"/>
                  </a:lnTo>
                  <a:lnTo>
                    <a:pt x="1530" y="1354"/>
                  </a:lnTo>
                  <a:lnTo>
                    <a:pt x="1583" y="1076"/>
                  </a:lnTo>
                  <a:lnTo>
                    <a:pt x="1662" y="846"/>
                  </a:lnTo>
                  <a:lnTo>
                    <a:pt x="1671" y="714"/>
                  </a:lnTo>
                  <a:lnTo>
                    <a:pt x="1636" y="520"/>
                  </a:lnTo>
                  <a:lnTo>
                    <a:pt x="1636" y="370"/>
                  </a:lnTo>
                  <a:lnTo>
                    <a:pt x="1662" y="321"/>
                  </a:lnTo>
                  <a:lnTo>
                    <a:pt x="1636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7200" y="1542960"/>
              <a:ext cx="206640" cy="851400"/>
            </a:xfrm>
            <a:custGeom>
              <a:avLst/>
              <a:gdLst/>
              <a:ahLst/>
              <a:rect l="0" t="0" r="r" b="b"/>
              <a:pathLst>
                <a:path w="574" h="2365">
                  <a:moveTo>
                    <a:pt x="229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202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96" y="2365"/>
                  </a:lnTo>
                  <a:lnTo>
                    <a:pt x="393" y="2317"/>
                  </a:lnTo>
                  <a:lnTo>
                    <a:pt x="459" y="2118"/>
                  </a:lnTo>
                  <a:lnTo>
                    <a:pt x="565" y="1858"/>
                  </a:lnTo>
                  <a:lnTo>
                    <a:pt x="574" y="1720"/>
                  </a:lnTo>
                  <a:lnTo>
                    <a:pt x="486" y="1460"/>
                  </a:lnTo>
                  <a:lnTo>
                    <a:pt x="375" y="1209"/>
                  </a:lnTo>
                  <a:lnTo>
                    <a:pt x="336" y="1028"/>
                  </a:lnTo>
                  <a:lnTo>
                    <a:pt x="336" y="856"/>
                  </a:lnTo>
                  <a:lnTo>
                    <a:pt x="375" y="706"/>
                  </a:lnTo>
                  <a:lnTo>
                    <a:pt x="459" y="515"/>
                  </a:lnTo>
                  <a:lnTo>
                    <a:pt x="459" y="440"/>
                  </a:lnTo>
                  <a:lnTo>
                    <a:pt x="415" y="366"/>
                  </a:lnTo>
                  <a:lnTo>
                    <a:pt x="525" y="268"/>
                  </a:lnTo>
                  <a:lnTo>
                    <a:pt x="525" y="180"/>
                  </a:lnTo>
                  <a:lnTo>
                    <a:pt x="375" y="0"/>
                  </a:lnTo>
                  <a:lnTo>
                    <a:pt x="499" y="180"/>
                  </a:lnTo>
                  <a:lnTo>
                    <a:pt x="499" y="255"/>
                  </a:lnTo>
                  <a:lnTo>
                    <a:pt x="389" y="330"/>
                  </a:lnTo>
                  <a:lnTo>
                    <a:pt x="428" y="440"/>
                  </a:lnTo>
                  <a:lnTo>
                    <a:pt x="415" y="515"/>
                  </a:lnTo>
                  <a:lnTo>
                    <a:pt x="309" y="733"/>
                  </a:lnTo>
                  <a:lnTo>
                    <a:pt x="296" y="949"/>
                  </a:lnTo>
                  <a:lnTo>
                    <a:pt x="322" y="1147"/>
                  </a:lnTo>
                  <a:lnTo>
                    <a:pt x="393" y="1429"/>
                  </a:lnTo>
                  <a:lnTo>
                    <a:pt x="486" y="1659"/>
                  </a:lnTo>
                  <a:lnTo>
                    <a:pt x="486" y="1845"/>
                  </a:lnTo>
                  <a:lnTo>
                    <a:pt x="428" y="2074"/>
                  </a:lnTo>
                  <a:lnTo>
                    <a:pt x="322" y="2317"/>
                  </a:lnTo>
                  <a:lnTo>
                    <a:pt x="189" y="2184"/>
                  </a:lnTo>
                  <a:lnTo>
                    <a:pt x="132" y="2074"/>
                  </a:lnTo>
                  <a:lnTo>
                    <a:pt x="149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42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66160" y="549360"/>
              <a:ext cx="325800" cy="414720"/>
            </a:xfrm>
            <a:custGeom>
              <a:avLst/>
              <a:gdLst/>
              <a:ahLst/>
              <a:rect l="0" t="0" r="r" b="b"/>
              <a:pathLst>
                <a:path w="905" h="1152">
                  <a:moveTo>
                    <a:pt x="154" y="296"/>
                  </a:moveTo>
                  <a:lnTo>
                    <a:pt x="283" y="268"/>
                  </a:lnTo>
                  <a:lnTo>
                    <a:pt x="411" y="277"/>
                  </a:lnTo>
                  <a:lnTo>
                    <a:pt x="521" y="327"/>
                  </a:lnTo>
                  <a:lnTo>
                    <a:pt x="578" y="389"/>
                  </a:lnTo>
                  <a:lnTo>
                    <a:pt x="605" y="450"/>
                  </a:lnTo>
                  <a:lnTo>
                    <a:pt x="605" y="508"/>
                  </a:lnTo>
                  <a:lnTo>
                    <a:pt x="574" y="543"/>
                  </a:lnTo>
                  <a:lnTo>
                    <a:pt x="516" y="574"/>
                  </a:lnTo>
                  <a:lnTo>
                    <a:pt x="446" y="578"/>
                  </a:lnTo>
                  <a:lnTo>
                    <a:pt x="367" y="561"/>
                  </a:lnTo>
                  <a:lnTo>
                    <a:pt x="287" y="512"/>
                  </a:lnTo>
                  <a:lnTo>
                    <a:pt x="230" y="468"/>
                  </a:lnTo>
                  <a:lnTo>
                    <a:pt x="202" y="618"/>
                  </a:lnTo>
                  <a:lnTo>
                    <a:pt x="154" y="719"/>
                  </a:lnTo>
                  <a:lnTo>
                    <a:pt x="0" y="963"/>
                  </a:lnTo>
                  <a:lnTo>
                    <a:pt x="220" y="1152"/>
                  </a:lnTo>
                  <a:lnTo>
                    <a:pt x="384" y="838"/>
                  </a:lnTo>
                  <a:lnTo>
                    <a:pt x="574" y="866"/>
                  </a:lnTo>
                  <a:lnTo>
                    <a:pt x="689" y="843"/>
                  </a:lnTo>
                  <a:lnTo>
                    <a:pt x="804" y="772"/>
                  </a:lnTo>
                  <a:lnTo>
                    <a:pt x="870" y="684"/>
                  </a:lnTo>
                  <a:lnTo>
                    <a:pt x="905" y="565"/>
                  </a:lnTo>
                  <a:lnTo>
                    <a:pt x="905" y="441"/>
                  </a:lnTo>
                  <a:lnTo>
                    <a:pt x="870" y="309"/>
                  </a:lnTo>
                  <a:lnTo>
                    <a:pt x="800" y="176"/>
                  </a:lnTo>
                  <a:lnTo>
                    <a:pt x="703" y="79"/>
                  </a:lnTo>
                  <a:lnTo>
                    <a:pt x="591" y="26"/>
                  </a:lnTo>
                  <a:lnTo>
                    <a:pt x="464" y="0"/>
                  </a:lnTo>
                  <a:lnTo>
                    <a:pt x="300" y="0"/>
                  </a:lnTo>
                  <a:lnTo>
                    <a:pt x="119" y="35"/>
                  </a:lnTo>
                  <a:lnTo>
                    <a:pt x="154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07480" y="952560"/>
              <a:ext cx="117720" cy="81360"/>
            </a:xfrm>
            <a:custGeom>
              <a:avLst/>
              <a:gdLst/>
              <a:ahLst/>
              <a:rect l="0" t="0" r="r" b="b"/>
              <a:pathLst>
                <a:path w="327" h="226">
                  <a:moveTo>
                    <a:pt x="127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9" y="226"/>
                  </a:lnTo>
                  <a:lnTo>
                    <a:pt x="296" y="222"/>
                  </a:lnTo>
                  <a:lnTo>
                    <a:pt x="327" y="168"/>
                  </a:lnTo>
                  <a:lnTo>
                    <a:pt x="309" y="124"/>
                  </a:lnTo>
                  <a:lnTo>
                    <a:pt x="265" y="58"/>
                  </a:lnTo>
                  <a:lnTo>
                    <a:pt x="186" y="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219320" y="23623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90720" y="60948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ng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3808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13716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an asset is purchased on September 5 and the yearly accounting period ends on December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581280"/>
            <a:ext cx="6140160" cy="2209680"/>
            <a:chOff x="1905120" y="3581280"/>
            <a:chExt cx="6140160" cy="2209680"/>
          </a:xfrm>
        </p:grpSpPr>
        <p:sp>
          <p:nvSpPr>
            <p:cNvPr id="626" name=""/>
            <p:cNvSpPr txBox="1"/>
            <p:nvPr/>
          </p:nvSpPr>
          <p:spPr>
            <a:xfrm>
              <a:off x="1905120" y="3581280"/>
              <a:ext cx="2295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Cost - Scra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Life in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724280" y="3581280"/>
              <a:ext cx="332100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umber of Month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343400" y="3809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1982880" y="4848120"/>
              <a:ext cx="2376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3,600 - $6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6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343400" y="4952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5257800" y="5029200"/>
              <a:ext cx="1378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$16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24280" y="4800600"/>
              <a:ext cx="76212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1752480" y="22860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sion of Depreciation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sion is made when it is determined that an asset will last for a longer or shorter period than originally thou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 is increased or decreased to reflect the asset’s change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47920" y="228600"/>
            <a:ext cx="6910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Computation of Revised Depreciation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Depreciation Already Taken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(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Residual Value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maining Depreciable Amoun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vide by remaining useful lif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2 y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Dep. Ex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. De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xpens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roup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3000" y="167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widely used when like assets are grouped and depreciated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approach is convenient and includes assets such as trucks and office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90760" y="380880"/>
            <a:ext cx="6891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82880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pital budgeting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is based on analyz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ture positive and negati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s of training and mainte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ssibility that the expected savings may not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990720" y="30492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enlargement of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debit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improvement that does not add to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is charg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152280"/>
            <a:ext cx="795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expenditures necessary to keep an asset in good operating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ch repairs are a current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airs of a more significant nature that affect the estimated residual value or estimated useful lif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orded by debiting the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dified Accelerated Cost Recovery System (MACRS) discards the concepts of estimated useful life and residual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1440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838080" y="1981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CRS requires that a cost recovery allowance be comp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the unadjusted cost of property being recov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years prescribed by the law for all property of similar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90720" y="30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57200" y="533520"/>
            <a:ext cx="8686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deral Income Tax Purpo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6668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gress hoped to encourage businesses to invest in new plant and equipment by allowing them to write off assets rapi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methods of depreciation are not usually acceptable for financial reporting under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438280" y="838080"/>
            <a:ext cx="45846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 underst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781680" y="304920"/>
            <a:ext cx="1980000" cy="1903680"/>
            <a:chOff x="6781680" y="304920"/>
            <a:chExt cx="1980000" cy="1903680"/>
          </a:xfrm>
        </p:grpSpPr>
        <p:sp>
          <p:nvSpPr>
            <p:cNvPr id="654" name=""/>
            <p:cNvSpPr/>
            <p:nvPr/>
          </p:nvSpPr>
          <p:spPr>
            <a:xfrm>
              <a:off x="6786720" y="1239840"/>
              <a:ext cx="481320" cy="663840"/>
            </a:xfrm>
            <a:custGeom>
              <a:avLst/>
              <a:gdLst/>
              <a:ahLst/>
              <a:rect l="0" t="0" r="r" b="b"/>
              <a:pathLst>
                <a:path w="1337" h="1844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3"/>
                  </a:lnTo>
                  <a:lnTo>
                    <a:pt x="612" y="582"/>
                  </a:lnTo>
                  <a:lnTo>
                    <a:pt x="493" y="701"/>
                  </a:lnTo>
                  <a:lnTo>
                    <a:pt x="335" y="966"/>
                  </a:lnTo>
                  <a:lnTo>
                    <a:pt x="26" y="1394"/>
                  </a:lnTo>
                  <a:lnTo>
                    <a:pt x="0" y="1495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2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297"/>
                  </a:lnTo>
                  <a:lnTo>
                    <a:pt x="427" y="1469"/>
                  </a:lnTo>
                  <a:lnTo>
                    <a:pt x="295" y="1711"/>
                  </a:lnTo>
                  <a:lnTo>
                    <a:pt x="335" y="1764"/>
                  </a:lnTo>
                  <a:lnTo>
                    <a:pt x="414" y="1751"/>
                  </a:lnTo>
                  <a:lnTo>
                    <a:pt x="582" y="1623"/>
                  </a:lnTo>
                  <a:lnTo>
                    <a:pt x="710" y="1407"/>
                  </a:lnTo>
                  <a:lnTo>
                    <a:pt x="710" y="1778"/>
                  </a:lnTo>
                  <a:lnTo>
                    <a:pt x="869" y="1844"/>
                  </a:lnTo>
                  <a:lnTo>
                    <a:pt x="966" y="1614"/>
                  </a:lnTo>
                  <a:lnTo>
                    <a:pt x="1046" y="1831"/>
                  </a:lnTo>
                  <a:lnTo>
                    <a:pt x="1112" y="1764"/>
                  </a:lnTo>
                  <a:lnTo>
                    <a:pt x="1143" y="1341"/>
                  </a:lnTo>
                  <a:lnTo>
                    <a:pt x="1337" y="935"/>
                  </a:lnTo>
                  <a:lnTo>
                    <a:pt x="1293" y="701"/>
                  </a:lnTo>
                  <a:lnTo>
                    <a:pt x="1156" y="612"/>
                  </a:lnTo>
                  <a:lnTo>
                    <a:pt x="1015" y="621"/>
                  </a:lnTo>
                  <a:lnTo>
                    <a:pt x="966" y="436"/>
                  </a:lnTo>
                  <a:lnTo>
                    <a:pt x="816" y="392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1360" y="15080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0"/>
                  </a:lnTo>
                  <a:lnTo>
                    <a:pt x="296" y="738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75"/>
                  </a:lnTo>
                  <a:lnTo>
                    <a:pt x="199" y="18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12240" y="1325520"/>
              <a:ext cx="354240" cy="289440"/>
            </a:xfrm>
            <a:custGeom>
              <a:avLst/>
              <a:gdLst/>
              <a:ahLst/>
              <a:rect l="0" t="0" r="r" b="b"/>
              <a:pathLst>
                <a:path w="984" h="804">
                  <a:moveTo>
                    <a:pt x="405" y="0"/>
                  </a:moveTo>
                  <a:lnTo>
                    <a:pt x="405" y="127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4"/>
                  </a:lnTo>
                  <a:lnTo>
                    <a:pt x="189" y="628"/>
                  </a:lnTo>
                  <a:lnTo>
                    <a:pt x="0" y="322"/>
                  </a:lnTo>
                  <a:lnTo>
                    <a:pt x="220" y="13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3360" y="993600"/>
              <a:ext cx="495720" cy="643320"/>
            </a:xfrm>
            <a:custGeom>
              <a:avLst/>
              <a:gdLst/>
              <a:ahLst/>
              <a:rect l="0" t="0" r="r" b="b"/>
              <a:pathLst>
                <a:path w="1377" h="1787">
                  <a:moveTo>
                    <a:pt x="123" y="755"/>
                  </a:moveTo>
                  <a:lnTo>
                    <a:pt x="0" y="882"/>
                  </a:lnTo>
                  <a:lnTo>
                    <a:pt x="26" y="1173"/>
                  </a:lnTo>
                  <a:lnTo>
                    <a:pt x="216" y="1306"/>
                  </a:lnTo>
                  <a:lnTo>
                    <a:pt x="233" y="1757"/>
                  </a:lnTo>
                  <a:lnTo>
                    <a:pt x="428" y="1757"/>
                  </a:lnTo>
                  <a:lnTo>
                    <a:pt x="415" y="1382"/>
                  </a:lnTo>
                  <a:lnTo>
                    <a:pt x="556" y="1774"/>
                  </a:lnTo>
                  <a:lnTo>
                    <a:pt x="653" y="1787"/>
                  </a:lnTo>
                  <a:lnTo>
                    <a:pt x="724" y="1660"/>
                  </a:lnTo>
                  <a:lnTo>
                    <a:pt x="737" y="1408"/>
                  </a:lnTo>
                  <a:lnTo>
                    <a:pt x="949" y="1646"/>
                  </a:lnTo>
                  <a:lnTo>
                    <a:pt x="1032" y="1620"/>
                  </a:lnTo>
                  <a:lnTo>
                    <a:pt x="1010" y="1466"/>
                  </a:lnTo>
                  <a:lnTo>
                    <a:pt x="935" y="1240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1010"/>
                  </a:lnTo>
                  <a:lnTo>
                    <a:pt x="1126" y="1240"/>
                  </a:lnTo>
                  <a:lnTo>
                    <a:pt x="1333" y="1293"/>
                  </a:lnTo>
                  <a:lnTo>
                    <a:pt x="1377" y="1226"/>
                  </a:lnTo>
                  <a:lnTo>
                    <a:pt x="1346" y="1099"/>
                  </a:lnTo>
                  <a:lnTo>
                    <a:pt x="962" y="741"/>
                  </a:lnTo>
                  <a:lnTo>
                    <a:pt x="653" y="631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61"/>
                  </a:lnTo>
                  <a:lnTo>
                    <a:pt x="636" y="0"/>
                  </a:lnTo>
                  <a:lnTo>
                    <a:pt x="415" y="486"/>
                  </a:lnTo>
                  <a:lnTo>
                    <a:pt x="216" y="556"/>
                  </a:lnTo>
                  <a:lnTo>
                    <a:pt x="167" y="693"/>
                  </a:lnTo>
                  <a:lnTo>
                    <a:pt x="123" y="75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40480" y="438120"/>
              <a:ext cx="541800" cy="819360"/>
            </a:xfrm>
            <a:custGeom>
              <a:avLst/>
              <a:gdLst/>
              <a:ahLst/>
              <a:rect l="0" t="0" r="r" b="b"/>
              <a:pathLst>
                <a:path w="1505" h="2276">
                  <a:moveTo>
                    <a:pt x="374" y="317"/>
                  </a:moveTo>
                  <a:lnTo>
                    <a:pt x="264" y="754"/>
                  </a:lnTo>
                  <a:lnTo>
                    <a:pt x="13" y="842"/>
                  </a:lnTo>
                  <a:lnTo>
                    <a:pt x="83" y="974"/>
                  </a:lnTo>
                  <a:lnTo>
                    <a:pt x="0" y="1062"/>
                  </a:lnTo>
                  <a:lnTo>
                    <a:pt x="0" y="1222"/>
                  </a:lnTo>
                  <a:lnTo>
                    <a:pt x="119" y="1368"/>
                  </a:lnTo>
                  <a:lnTo>
                    <a:pt x="233" y="1368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6"/>
                  </a:lnTo>
                  <a:lnTo>
                    <a:pt x="1024" y="2249"/>
                  </a:lnTo>
                  <a:lnTo>
                    <a:pt x="1170" y="1870"/>
                  </a:lnTo>
                  <a:lnTo>
                    <a:pt x="1205" y="1297"/>
                  </a:lnTo>
                  <a:lnTo>
                    <a:pt x="1505" y="1005"/>
                  </a:lnTo>
                  <a:lnTo>
                    <a:pt x="1492" y="890"/>
                  </a:lnTo>
                  <a:lnTo>
                    <a:pt x="1457" y="842"/>
                  </a:lnTo>
                  <a:lnTo>
                    <a:pt x="1298" y="829"/>
                  </a:lnTo>
                  <a:lnTo>
                    <a:pt x="1346" y="674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80440" y="1123920"/>
              <a:ext cx="495720" cy="975240"/>
            </a:xfrm>
            <a:custGeom>
              <a:avLst/>
              <a:gdLst/>
              <a:ahLst/>
              <a:rect l="0" t="0" r="r" b="b"/>
              <a:pathLst>
                <a:path w="1377" h="2709">
                  <a:moveTo>
                    <a:pt x="282" y="141"/>
                  </a:moveTo>
                  <a:lnTo>
                    <a:pt x="477" y="268"/>
                  </a:lnTo>
                  <a:lnTo>
                    <a:pt x="574" y="418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3"/>
                  </a:lnTo>
                  <a:lnTo>
                    <a:pt x="587" y="2709"/>
                  </a:lnTo>
                  <a:lnTo>
                    <a:pt x="185" y="2564"/>
                  </a:lnTo>
                  <a:lnTo>
                    <a:pt x="185" y="1831"/>
                  </a:lnTo>
                  <a:lnTo>
                    <a:pt x="0" y="1125"/>
                  </a:lnTo>
                  <a:lnTo>
                    <a:pt x="185" y="268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0240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16"/>
                  </a:lnTo>
                  <a:lnTo>
                    <a:pt x="759" y="552"/>
                  </a:lnTo>
                  <a:lnTo>
                    <a:pt x="882" y="715"/>
                  </a:lnTo>
                  <a:lnTo>
                    <a:pt x="1081" y="640"/>
                  </a:lnTo>
                  <a:lnTo>
                    <a:pt x="1081" y="569"/>
                  </a:lnTo>
                  <a:lnTo>
                    <a:pt x="1284" y="481"/>
                  </a:lnTo>
                  <a:lnTo>
                    <a:pt x="1222" y="348"/>
                  </a:lnTo>
                  <a:lnTo>
                    <a:pt x="1032" y="335"/>
                  </a:lnTo>
                  <a:lnTo>
                    <a:pt x="1063" y="189"/>
                  </a:lnTo>
                  <a:lnTo>
                    <a:pt x="900" y="207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4"/>
                  </a:lnTo>
                  <a:lnTo>
                    <a:pt x="604" y="154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4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8"/>
                  </a:lnTo>
                  <a:lnTo>
                    <a:pt x="13" y="569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6240" y="1303200"/>
              <a:ext cx="147960" cy="740160"/>
            </a:xfrm>
            <a:custGeom>
              <a:avLst/>
              <a:gdLst/>
              <a:ahLst/>
              <a:rect l="0" t="0" r="r" b="b"/>
              <a:pathLst>
                <a:path w="411" h="2056">
                  <a:moveTo>
                    <a:pt x="212" y="13"/>
                  </a:moveTo>
                  <a:lnTo>
                    <a:pt x="70" y="101"/>
                  </a:lnTo>
                  <a:lnTo>
                    <a:pt x="70" y="277"/>
                  </a:lnTo>
                  <a:lnTo>
                    <a:pt x="167" y="330"/>
                  </a:lnTo>
                  <a:lnTo>
                    <a:pt x="39" y="609"/>
                  </a:lnTo>
                  <a:lnTo>
                    <a:pt x="0" y="966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96"/>
                  </a:lnTo>
                  <a:lnTo>
                    <a:pt x="261" y="2056"/>
                  </a:lnTo>
                  <a:lnTo>
                    <a:pt x="397" y="1655"/>
                  </a:lnTo>
                  <a:lnTo>
                    <a:pt x="397" y="1385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304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1560" y="1055520"/>
              <a:ext cx="119520" cy="68760"/>
            </a:xfrm>
            <a:custGeom>
              <a:avLst/>
              <a:gdLst/>
              <a:ahLst/>
              <a:rect l="0" t="0" r="r" b="b"/>
              <a:pathLst>
                <a:path w="332" h="191">
                  <a:moveTo>
                    <a:pt x="0" y="62"/>
                  </a:moveTo>
                  <a:lnTo>
                    <a:pt x="133" y="191"/>
                  </a:lnTo>
                  <a:lnTo>
                    <a:pt x="266" y="178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1240" y="712800"/>
              <a:ext cx="147960" cy="146520"/>
            </a:xfrm>
            <a:custGeom>
              <a:avLst/>
              <a:gdLst/>
              <a:ahLst/>
              <a:rect l="0" t="0" r="r" b="b"/>
              <a:pathLst>
                <a:path w="411" h="407">
                  <a:moveTo>
                    <a:pt x="0" y="39"/>
                  </a:moveTo>
                  <a:lnTo>
                    <a:pt x="283" y="407"/>
                  </a:lnTo>
                  <a:lnTo>
                    <a:pt x="411" y="381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51880" y="685800"/>
              <a:ext cx="127440" cy="141480"/>
            </a:xfrm>
            <a:custGeom>
              <a:avLst/>
              <a:gdLst/>
              <a:ahLst/>
              <a:rect l="0" t="0" r="r" b="b"/>
              <a:pathLst>
                <a:path w="354" h="393">
                  <a:moveTo>
                    <a:pt x="0" y="52"/>
                  </a:moveTo>
                  <a:lnTo>
                    <a:pt x="243" y="393"/>
                  </a:lnTo>
                  <a:lnTo>
                    <a:pt x="354" y="300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37600" y="498600"/>
              <a:ext cx="516240" cy="360720"/>
            </a:xfrm>
            <a:custGeom>
              <a:avLst/>
              <a:gdLst/>
              <a:ahLst/>
              <a:rect l="0" t="0" r="r" b="b"/>
              <a:pathLst>
                <a:path w="1434" h="1002">
                  <a:moveTo>
                    <a:pt x="657" y="591"/>
                  </a:moveTo>
                  <a:lnTo>
                    <a:pt x="524" y="556"/>
                  </a:lnTo>
                  <a:lnTo>
                    <a:pt x="639" y="467"/>
                  </a:lnTo>
                  <a:lnTo>
                    <a:pt x="599" y="423"/>
                  </a:lnTo>
                  <a:lnTo>
                    <a:pt x="449" y="538"/>
                  </a:lnTo>
                  <a:lnTo>
                    <a:pt x="180" y="565"/>
                  </a:lnTo>
                  <a:lnTo>
                    <a:pt x="0" y="574"/>
                  </a:lnTo>
                  <a:lnTo>
                    <a:pt x="0" y="710"/>
                  </a:lnTo>
                  <a:lnTo>
                    <a:pt x="171" y="993"/>
                  </a:lnTo>
                  <a:lnTo>
                    <a:pt x="216" y="1002"/>
                  </a:lnTo>
                  <a:lnTo>
                    <a:pt x="61" y="693"/>
                  </a:lnTo>
                  <a:lnTo>
                    <a:pt x="295" y="591"/>
                  </a:lnTo>
                  <a:lnTo>
                    <a:pt x="449" y="591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1"/>
                  </a:lnTo>
                  <a:lnTo>
                    <a:pt x="599" y="993"/>
                  </a:lnTo>
                  <a:lnTo>
                    <a:pt x="665" y="904"/>
                  </a:lnTo>
                  <a:lnTo>
                    <a:pt x="665" y="702"/>
                  </a:lnTo>
                  <a:lnTo>
                    <a:pt x="768" y="702"/>
                  </a:lnTo>
                  <a:lnTo>
                    <a:pt x="816" y="931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09"/>
                  </a:lnTo>
                  <a:lnTo>
                    <a:pt x="1350" y="825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0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46"/>
                  </a:lnTo>
                  <a:lnTo>
                    <a:pt x="1094" y="246"/>
                  </a:lnTo>
                  <a:lnTo>
                    <a:pt x="1129" y="423"/>
                  </a:lnTo>
                  <a:lnTo>
                    <a:pt x="927" y="480"/>
                  </a:lnTo>
                  <a:lnTo>
                    <a:pt x="781" y="436"/>
                  </a:lnTo>
                  <a:lnTo>
                    <a:pt x="759" y="480"/>
                  </a:lnTo>
                  <a:lnTo>
                    <a:pt x="834" y="538"/>
                  </a:lnTo>
                  <a:lnTo>
                    <a:pt x="834" y="583"/>
                  </a:lnTo>
                  <a:lnTo>
                    <a:pt x="1010" y="512"/>
                  </a:lnTo>
                  <a:lnTo>
                    <a:pt x="1151" y="493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09"/>
                  </a:lnTo>
                  <a:lnTo>
                    <a:pt x="1209" y="702"/>
                  </a:lnTo>
                  <a:lnTo>
                    <a:pt x="1200" y="825"/>
                  </a:lnTo>
                  <a:lnTo>
                    <a:pt x="1107" y="878"/>
                  </a:lnTo>
                  <a:lnTo>
                    <a:pt x="966" y="891"/>
                  </a:lnTo>
                  <a:lnTo>
                    <a:pt x="874" y="891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5080" y="912960"/>
              <a:ext cx="165600" cy="74880"/>
            </a:xfrm>
            <a:custGeom>
              <a:avLst/>
              <a:gdLst/>
              <a:ahLst/>
              <a:rect l="0" t="0" r="r" b="b"/>
              <a:pathLst>
                <a:path w="460" h="208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6"/>
                  </a:lnTo>
                  <a:lnTo>
                    <a:pt x="442" y="97"/>
                  </a:lnTo>
                  <a:lnTo>
                    <a:pt x="256" y="208"/>
                  </a:lnTo>
                  <a:lnTo>
                    <a:pt x="155" y="208"/>
                  </a:lnTo>
                  <a:lnTo>
                    <a:pt x="97" y="172"/>
                  </a:lnTo>
                  <a:lnTo>
                    <a:pt x="39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29680" y="793800"/>
              <a:ext cx="251280" cy="390960"/>
            </a:xfrm>
            <a:custGeom>
              <a:avLst/>
              <a:gdLst/>
              <a:ahLst/>
              <a:rect l="0" t="0" r="r" b="b"/>
              <a:pathLst>
                <a:path w="698" h="1086">
                  <a:moveTo>
                    <a:pt x="698" y="79"/>
                  </a:moveTo>
                  <a:lnTo>
                    <a:pt x="698" y="97"/>
                  </a:lnTo>
                  <a:lnTo>
                    <a:pt x="575" y="207"/>
                  </a:lnTo>
                  <a:lnTo>
                    <a:pt x="472" y="224"/>
                  </a:lnTo>
                  <a:lnTo>
                    <a:pt x="278" y="198"/>
                  </a:lnTo>
                  <a:lnTo>
                    <a:pt x="314" y="583"/>
                  </a:lnTo>
                  <a:lnTo>
                    <a:pt x="362" y="905"/>
                  </a:lnTo>
                  <a:lnTo>
                    <a:pt x="441" y="1086"/>
                  </a:lnTo>
                  <a:lnTo>
                    <a:pt x="362" y="963"/>
                  </a:lnTo>
                  <a:lnTo>
                    <a:pt x="327" y="831"/>
                  </a:lnTo>
                  <a:lnTo>
                    <a:pt x="269" y="459"/>
                  </a:lnTo>
                  <a:lnTo>
                    <a:pt x="212" y="477"/>
                  </a:lnTo>
                  <a:lnTo>
                    <a:pt x="145" y="437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70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33"/>
                  </a:lnTo>
                  <a:lnTo>
                    <a:pt x="136" y="322"/>
                  </a:lnTo>
                  <a:lnTo>
                    <a:pt x="181" y="305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6280" y="488880"/>
              <a:ext cx="76680" cy="205200"/>
            </a:xfrm>
            <a:custGeom>
              <a:avLst/>
              <a:gdLst/>
              <a:ahLst/>
              <a:rect l="0" t="0" r="r" b="b"/>
              <a:pathLst>
                <a:path w="213" h="570">
                  <a:moveTo>
                    <a:pt x="111" y="570"/>
                  </a:moveTo>
                  <a:lnTo>
                    <a:pt x="213" y="234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9"/>
                  </a:lnTo>
                  <a:lnTo>
                    <a:pt x="84" y="362"/>
                  </a:lnTo>
                  <a:lnTo>
                    <a:pt x="128" y="434"/>
                  </a:lnTo>
                  <a:lnTo>
                    <a:pt x="111" y="5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448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87"/>
                  </a:lnTo>
                  <a:lnTo>
                    <a:pt x="136" y="499"/>
                  </a:lnTo>
                  <a:lnTo>
                    <a:pt x="163" y="321"/>
                  </a:lnTo>
                  <a:lnTo>
                    <a:pt x="251" y="291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3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7"/>
                  </a:lnTo>
                  <a:lnTo>
                    <a:pt x="1028" y="321"/>
                  </a:lnTo>
                  <a:lnTo>
                    <a:pt x="935" y="415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69"/>
                  </a:lnTo>
                  <a:lnTo>
                    <a:pt x="993" y="644"/>
                  </a:lnTo>
                  <a:lnTo>
                    <a:pt x="1059" y="697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9"/>
                  </a:lnTo>
                  <a:lnTo>
                    <a:pt x="1285" y="755"/>
                  </a:lnTo>
                  <a:lnTo>
                    <a:pt x="1258" y="636"/>
                  </a:lnTo>
                  <a:lnTo>
                    <a:pt x="1417" y="578"/>
                  </a:lnTo>
                  <a:lnTo>
                    <a:pt x="1307" y="525"/>
                  </a:lnTo>
                  <a:lnTo>
                    <a:pt x="1571" y="508"/>
                  </a:lnTo>
                  <a:lnTo>
                    <a:pt x="1342" y="389"/>
                  </a:lnTo>
                  <a:lnTo>
                    <a:pt x="1081" y="352"/>
                  </a:lnTo>
                  <a:lnTo>
                    <a:pt x="1285" y="229"/>
                  </a:lnTo>
                  <a:lnTo>
                    <a:pt x="913" y="229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7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6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16880" y="450720"/>
              <a:ext cx="160560" cy="82800"/>
            </a:xfrm>
            <a:custGeom>
              <a:avLst/>
              <a:gdLst/>
              <a:ahLst/>
              <a:rect l="0" t="0" r="r" b="b"/>
              <a:pathLst>
                <a:path w="446" h="230">
                  <a:moveTo>
                    <a:pt x="0" y="230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1"/>
                  </a:lnTo>
                  <a:lnTo>
                    <a:pt x="269" y="195"/>
                  </a:lnTo>
                  <a:lnTo>
                    <a:pt x="216" y="133"/>
                  </a:lnTo>
                  <a:lnTo>
                    <a:pt x="141" y="195"/>
                  </a:lnTo>
                  <a:lnTo>
                    <a:pt x="141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02480" y="101124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101" y="119"/>
                  </a:moveTo>
                  <a:lnTo>
                    <a:pt x="322" y="101"/>
                  </a:lnTo>
                  <a:lnTo>
                    <a:pt x="425" y="123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3"/>
                  </a:lnTo>
                  <a:lnTo>
                    <a:pt x="380" y="243"/>
                  </a:lnTo>
                  <a:lnTo>
                    <a:pt x="247" y="336"/>
                  </a:lnTo>
                  <a:lnTo>
                    <a:pt x="190" y="336"/>
                  </a:lnTo>
                  <a:lnTo>
                    <a:pt x="101" y="292"/>
                  </a:lnTo>
                  <a:lnTo>
                    <a:pt x="199" y="327"/>
                  </a:lnTo>
                  <a:lnTo>
                    <a:pt x="239" y="327"/>
                  </a:lnTo>
                  <a:lnTo>
                    <a:pt x="322" y="265"/>
                  </a:lnTo>
                  <a:lnTo>
                    <a:pt x="375" y="149"/>
                  </a:lnTo>
                  <a:lnTo>
                    <a:pt x="292" y="136"/>
                  </a:lnTo>
                  <a:lnTo>
                    <a:pt x="234" y="123"/>
                  </a:lnTo>
                  <a:lnTo>
                    <a:pt x="88" y="141"/>
                  </a:lnTo>
                  <a:lnTo>
                    <a:pt x="88" y="234"/>
                  </a:lnTo>
                  <a:lnTo>
                    <a:pt x="39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78720" y="744480"/>
              <a:ext cx="411480" cy="563760"/>
            </a:xfrm>
            <a:custGeom>
              <a:avLst/>
              <a:gdLst/>
              <a:ahLst/>
              <a:rect l="0" t="0" r="r" b="b"/>
              <a:pathLst>
                <a:path w="1143" h="1566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58"/>
                  </a:lnTo>
                  <a:lnTo>
                    <a:pt x="1050" y="410"/>
                  </a:lnTo>
                  <a:lnTo>
                    <a:pt x="957" y="529"/>
                  </a:lnTo>
                  <a:lnTo>
                    <a:pt x="856" y="542"/>
                  </a:lnTo>
                  <a:lnTo>
                    <a:pt x="830" y="542"/>
                  </a:lnTo>
                  <a:lnTo>
                    <a:pt x="830" y="856"/>
                  </a:lnTo>
                  <a:lnTo>
                    <a:pt x="878" y="1076"/>
                  </a:lnTo>
                  <a:lnTo>
                    <a:pt x="878" y="1257"/>
                  </a:lnTo>
                  <a:lnTo>
                    <a:pt x="702" y="1442"/>
                  </a:lnTo>
                  <a:lnTo>
                    <a:pt x="467" y="1566"/>
                  </a:lnTo>
                  <a:lnTo>
                    <a:pt x="317" y="1566"/>
                  </a:lnTo>
                  <a:lnTo>
                    <a:pt x="242" y="1535"/>
                  </a:lnTo>
                  <a:lnTo>
                    <a:pt x="136" y="1315"/>
                  </a:lnTo>
                  <a:lnTo>
                    <a:pt x="39" y="1235"/>
                  </a:lnTo>
                  <a:lnTo>
                    <a:pt x="0" y="1173"/>
                  </a:lnTo>
                  <a:lnTo>
                    <a:pt x="127" y="1257"/>
                  </a:lnTo>
                  <a:lnTo>
                    <a:pt x="220" y="1337"/>
                  </a:lnTo>
                  <a:lnTo>
                    <a:pt x="401" y="1345"/>
                  </a:lnTo>
                  <a:lnTo>
                    <a:pt x="568" y="1266"/>
                  </a:lnTo>
                  <a:lnTo>
                    <a:pt x="653" y="1173"/>
                  </a:lnTo>
                  <a:lnTo>
                    <a:pt x="750" y="1019"/>
                  </a:lnTo>
                  <a:lnTo>
                    <a:pt x="763" y="830"/>
                  </a:lnTo>
                  <a:lnTo>
                    <a:pt x="799" y="229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58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1230480"/>
              <a:ext cx="332280" cy="525960"/>
            </a:xfrm>
            <a:custGeom>
              <a:avLst/>
              <a:gdLst/>
              <a:ahLst/>
              <a:rect l="0" t="0" r="r" b="b"/>
              <a:pathLst>
                <a:path w="923" h="1461">
                  <a:moveTo>
                    <a:pt x="114" y="0"/>
                  </a:moveTo>
                  <a:lnTo>
                    <a:pt x="220" y="70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12"/>
                  </a:lnTo>
                  <a:lnTo>
                    <a:pt x="618" y="622"/>
                  </a:lnTo>
                  <a:lnTo>
                    <a:pt x="734" y="605"/>
                  </a:lnTo>
                  <a:lnTo>
                    <a:pt x="879" y="702"/>
                  </a:lnTo>
                  <a:lnTo>
                    <a:pt x="923" y="816"/>
                  </a:lnTo>
                  <a:lnTo>
                    <a:pt x="923" y="1024"/>
                  </a:lnTo>
                  <a:lnTo>
                    <a:pt x="734" y="1338"/>
                  </a:lnTo>
                  <a:lnTo>
                    <a:pt x="671" y="1461"/>
                  </a:lnTo>
                  <a:lnTo>
                    <a:pt x="707" y="1289"/>
                  </a:lnTo>
                  <a:lnTo>
                    <a:pt x="671" y="1232"/>
                  </a:lnTo>
                  <a:lnTo>
                    <a:pt x="556" y="1122"/>
                  </a:lnTo>
                  <a:lnTo>
                    <a:pt x="375" y="988"/>
                  </a:lnTo>
                  <a:lnTo>
                    <a:pt x="596" y="1063"/>
                  </a:lnTo>
                  <a:lnTo>
                    <a:pt x="725" y="1161"/>
                  </a:lnTo>
                  <a:lnTo>
                    <a:pt x="786" y="1148"/>
                  </a:lnTo>
                  <a:lnTo>
                    <a:pt x="831" y="1090"/>
                  </a:lnTo>
                  <a:lnTo>
                    <a:pt x="879" y="949"/>
                  </a:lnTo>
                  <a:lnTo>
                    <a:pt x="861" y="807"/>
                  </a:lnTo>
                  <a:lnTo>
                    <a:pt x="795" y="724"/>
                  </a:lnTo>
                  <a:lnTo>
                    <a:pt x="684" y="702"/>
                  </a:lnTo>
                  <a:lnTo>
                    <a:pt x="556" y="702"/>
                  </a:lnTo>
                  <a:lnTo>
                    <a:pt x="516" y="486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13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6"/>
                  </a:lnTo>
                  <a:lnTo>
                    <a:pt x="83" y="464"/>
                  </a:lnTo>
                  <a:lnTo>
                    <a:pt x="194" y="622"/>
                  </a:lnTo>
                  <a:lnTo>
                    <a:pt x="70" y="525"/>
                  </a:lnTo>
                  <a:lnTo>
                    <a:pt x="13" y="361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8168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57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66"/>
                  </a:lnTo>
                  <a:lnTo>
                    <a:pt x="446" y="542"/>
                  </a:lnTo>
                  <a:lnTo>
                    <a:pt x="446" y="715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3"/>
                  </a:lnTo>
                  <a:lnTo>
                    <a:pt x="349" y="1072"/>
                  </a:lnTo>
                  <a:lnTo>
                    <a:pt x="441" y="922"/>
                  </a:lnTo>
                  <a:lnTo>
                    <a:pt x="504" y="644"/>
                  </a:lnTo>
                  <a:lnTo>
                    <a:pt x="460" y="493"/>
                  </a:lnTo>
                  <a:lnTo>
                    <a:pt x="362" y="577"/>
                  </a:lnTo>
                  <a:lnTo>
                    <a:pt x="141" y="931"/>
                  </a:lnTo>
                  <a:lnTo>
                    <a:pt x="88" y="940"/>
                  </a:lnTo>
                  <a:lnTo>
                    <a:pt x="35" y="909"/>
                  </a:lnTo>
                  <a:lnTo>
                    <a:pt x="35" y="803"/>
                  </a:lnTo>
                  <a:lnTo>
                    <a:pt x="119" y="658"/>
                  </a:lnTo>
                  <a:lnTo>
                    <a:pt x="362" y="379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3680" y="1698480"/>
              <a:ext cx="136800" cy="200520"/>
            </a:xfrm>
            <a:custGeom>
              <a:avLst/>
              <a:gdLst/>
              <a:ahLst/>
              <a:rect l="0" t="0" r="r" b="b"/>
              <a:pathLst>
                <a:path w="380" h="557">
                  <a:moveTo>
                    <a:pt x="0" y="491"/>
                  </a:moveTo>
                  <a:lnTo>
                    <a:pt x="123" y="349"/>
                  </a:lnTo>
                  <a:lnTo>
                    <a:pt x="149" y="208"/>
                  </a:lnTo>
                  <a:lnTo>
                    <a:pt x="292" y="0"/>
                  </a:lnTo>
                  <a:lnTo>
                    <a:pt x="322" y="136"/>
                  </a:lnTo>
                  <a:lnTo>
                    <a:pt x="305" y="500"/>
                  </a:lnTo>
                  <a:lnTo>
                    <a:pt x="380" y="557"/>
                  </a:lnTo>
                  <a:lnTo>
                    <a:pt x="269" y="522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0360" y="1708200"/>
              <a:ext cx="89280" cy="181440"/>
            </a:xfrm>
            <a:custGeom>
              <a:avLst/>
              <a:gdLst/>
              <a:ahLst/>
              <a:rect l="0" t="0" r="r" b="b"/>
              <a:pathLst>
                <a:path w="248" h="504">
                  <a:moveTo>
                    <a:pt x="0" y="381"/>
                  </a:moveTo>
                  <a:lnTo>
                    <a:pt x="13" y="195"/>
                  </a:lnTo>
                  <a:lnTo>
                    <a:pt x="61" y="83"/>
                  </a:lnTo>
                  <a:lnTo>
                    <a:pt x="120" y="482"/>
                  </a:lnTo>
                  <a:lnTo>
                    <a:pt x="196" y="482"/>
                  </a:lnTo>
                  <a:lnTo>
                    <a:pt x="231" y="61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504"/>
                  </a:lnTo>
                  <a:lnTo>
                    <a:pt x="98" y="504"/>
                  </a:lnTo>
                  <a:lnTo>
                    <a:pt x="57" y="159"/>
                  </a:lnTo>
                  <a:lnTo>
                    <a:pt x="30" y="203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51920" y="10018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19"/>
                  </a:moveTo>
                  <a:lnTo>
                    <a:pt x="202" y="515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5"/>
                  </a:lnTo>
                  <a:lnTo>
                    <a:pt x="224" y="555"/>
                  </a:lnTo>
                  <a:lnTo>
                    <a:pt x="194" y="719"/>
                  </a:lnTo>
                  <a:lnTo>
                    <a:pt x="268" y="719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47"/>
                  </a:lnTo>
                  <a:lnTo>
                    <a:pt x="0" y="997"/>
                  </a:lnTo>
                  <a:lnTo>
                    <a:pt x="13" y="834"/>
                  </a:lnTo>
                  <a:lnTo>
                    <a:pt x="92" y="733"/>
                  </a:lnTo>
                  <a:lnTo>
                    <a:pt x="158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99520" y="1001880"/>
              <a:ext cx="362160" cy="464040"/>
            </a:xfrm>
            <a:custGeom>
              <a:avLst/>
              <a:gdLst/>
              <a:ahLst/>
              <a:rect l="0" t="0" r="r" b="b"/>
              <a:pathLst>
                <a:path w="1006" h="1289">
                  <a:moveTo>
                    <a:pt x="277" y="0"/>
                  </a:moveTo>
                  <a:lnTo>
                    <a:pt x="339" y="35"/>
                  </a:lnTo>
                  <a:lnTo>
                    <a:pt x="357" y="145"/>
                  </a:lnTo>
                  <a:lnTo>
                    <a:pt x="357" y="251"/>
                  </a:lnTo>
                  <a:lnTo>
                    <a:pt x="242" y="441"/>
                  </a:lnTo>
                  <a:lnTo>
                    <a:pt x="264" y="578"/>
                  </a:lnTo>
                  <a:lnTo>
                    <a:pt x="605" y="724"/>
                  </a:lnTo>
                  <a:lnTo>
                    <a:pt x="997" y="1135"/>
                  </a:lnTo>
                  <a:lnTo>
                    <a:pt x="1006" y="1245"/>
                  </a:lnTo>
                  <a:lnTo>
                    <a:pt x="984" y="1289"/>
                  </a:lnTo>
                  <a:lnTo>
                    <a:pt x="838" y="1289"/>
                  </a:lnTo>
                  <a:lnTo>
                    <a:pt x="706" y="1210"/>
                  </a:lnTo>
                  <a:lnTo>
                    <a:pt x="596" y="1077"/>
                  </a:lnTo>
                  <a:lnTo>
                    <a:pt x="538" y="1007"/>
                  </a:lnTo>
                  <a:lnTo>
                    <a:pt x="467" y="985"/>
                  </a:lnTo>
                  <a:lnTo>
                    <a:pt x="552" y="985"/>
                  </a:lnTo>
                  <a:lnTo>
                    <a:pt x="719" y="1197"/>
                  </a:lnTo>
                  <a:lnTo>
                    <a:pt x="927" y="1263"/>
                  </a:lnTo>
                  <a:lnTo>
                    <a:pt x="971" y="1197"/>
                  </a:lnTo>
                  <a:lnTo>
                    <a:pt x="949" y="1100"/>
                  </a:lnTo>
                  <a:lnTo>
                    <a:pt x="583" y="812"/>
                  </a:lnTo>
                  <a:lnTo>
                    <a:pt x="530" y="724"/>
                  </a:lnTo>
                  <a:lnTo>
                    <a:pt x="242" y="658"/>
                  </a:lnTo>
                  <a:lnTo>
                    <a:pt x="194" y="724"/>
                  </a:lnTo>
                  <a:lnTo>
                    <a:pt x="0" y="847"/>
                  </a:lnTo>
                  <a:lnTo>
                    <a:pt x="185" y="706"/>
                  </a:lnTo>
                  <a:lnTo>
                    <a:pt x="194" y="613"/>
                  </a:lnTo>
                  <a:lnTo>
                    <a:pt x="194" y="406"/>
                  </a:lnTo>
                  <a:lnTo>
                    <a:pt x="321" y="251"/>
                  </a:lnTo>
                  <a:lnTo>
                    <a:pt x="321" y="48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3292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70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4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1"/>
                  </a:lnTo>
                  <a:lnTo>
                    <a:pt x="441" y="733"/>
                  </a:lnTo>
                  <a:lnTo>
                    <a:pt x="361" y="675"/>
                  </a:lnTo>
                  <a:lnTo>
                    <a:pt x="264" y="464"/>
                  </a:lnTo>
                  <a:lnTo>
                    <a:pt x="238" y="317"/>
                  </a:lnTo>
                  <a:lnTo>
                    <a:pt x="185" y="282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4"/>
                  </a:lnTo>
                  <a:lnTo>
                    <a:pt x="57" y="759"/>
                  </a:lnTo>
                  <a:lnTo>
                    <a:pt x="167" y="759"/>
                  </a:lnTo>
                  <a:lnTo>
                    <a:pt x="207" y="666"/>
                  </a:lnTo>
                  <a:lnTo>
                    <a:pt x="229" y="370"/>
                  </a:lnTo>
                  <a:lnTo>
                    <a:pt x="246" y="486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8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86"/>
                  </a:lnTo>
                  <a:lnTo>
                    <a:pt x="777" y="246"/>
                  </a:lnTo>
                  <a:lnTo>
                    <a:pt x="644" y="4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8516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0"/>
                  </a:moveTo>
                  <a:lnTo>
                    <a:pt x="1300" y="273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304"/>
                  </a:lnTo>
                  <a:lnTo>
                    <a:pt x="908" y="511"/>
                  </a:lnTo>
                  <a:lnTo>
                    <a:pt x="564" y="758"/>
                  </a:lnTo>
                  <a:lnTo>
                    <a:pt x="586" y="865"/>
                  </a:lnTo>
                  <a:lnTo>
                    <a:pt x="502" y="957"/>
                  </a:lnTo>
                  <a:lnTo>
                    <a:pt x="502" y="1032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1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5"/>
                  </a:lnTo>
                  <a:lnTo>
                    <a:pt x="167" y="2559"/>
                  </a:lnTo>
                  <a:lnTo>
                    <a:pt x="291" y="2572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302"/>
                  </a:lnTo>
                  <a:lnTo>
                    <a:pt x="1093" y="2819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2"/>
                  </a:lnTo>
                  <a:lnTo>
                    <a:pt x="3017" y="2077"/>
                  </a:lnTo>
                  <a:lnTo>
                    <a:pt x="3145" y="2166"/>
                  </a:lnTo>
                  <a:lnTo>
                    <a:pt x="3277" y="2166"/>
                  </a:lnTo>
                  <a:lnTo>
                    <a:pt x="3458" y="2051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32"/>
                  </a:lnTo>
                  <a:lnTo>
                    <a:pt x="3815" y="1504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78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12"/>
                  </a:lnTo>
                  <a:lnTo>
                    <a:pt x="3202" y="1301"/>
                  </a:lnTo>
                  <a:lnTo>
                    <a:pt x="3092" y="1182"/>
                  </a:lnTo>
                  <a:lnTo>
                    <a:pt x="3074" y="1032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498"/>
                  </a:lnTo>
                  <a:lnTo>
                    <a:pt x="3250" y="370"/>
                  </a:lnTo>
                  <a:lnTo>
                    <a:pt x="3202" y="273"/>
                  </a:lnTo>
                  <a:lnTo>
                    <a:pt x="3074" y="233"/>
                  </a:lnTo>
                  <a:lnTo>
                    <a:pt x="3030" y="211"/>
                  </a:lnTo>
                  <a:lnTo>
                    <a:pt x="2937" y="61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4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30"/>
                  </a:lnTo>
                  <a:lnTo>
                    <a:pt x="2395" y="524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1"/>
                  </a:lnTo>
                  <a:lnTo>
                    <a:pt x="2069" y="1328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2"/>
                  </a:lnTo>
                  <a:lnTo>
                    <a:pt x="2064" y="2502"/>
                  </a:lnTo>
                  <a:lnTo>
                    <a:pt x="1936" y="2586"/>
                  </a:lnTo>
                  <a:lnTo>
                    <a:pt x="1781" y="2639"/>
                  </a:lnTo>
                  <a:lnTo>
                    <a:pt x="1609" y="2656"/>
                  </a:lnTo>
                  <a:lnTo>
                    <a:pt x="1503" y="2656"/>
                  </a:lnTo>
                  <a:lnTo>
                    <a:pt x="1437" y="2621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6" y="1447"/>
                  </a:lnTo>
                  <a:lnTo>
                    <a:pt x="1283" y="1165"/>
                  </a:lnTo>
                  <a:lnTo>
                    <a:pt x="1327" y="922"/>
                  </a:lnTo>
                  <a:lnTo>
                    <a:pt x="1397" y="723"/>
                  </a:lnTo>
                  <a:lnTo>
                    <a:pt x="1402" y="621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3"/>
                  </a:lnTo>
                  <a:lnTo>
                    <a:pt x="1371" y="2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012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2"/>
                  </a:moveTo>
                  <a:lnTo>
                    <a:pt x="61" y="92"/>
                  </a:lnTo>
                  <a:lnTo>
                    <a:pt x="74" y="286"/>
                  </a:lnTo>
                  <a:lnTo>
                    <a:pt x="168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4"/>
                  </a:lnTo>
                  <a:lnTo>
                    <a:pt x="57" y="1218"/>
                  </a:lnTo>
                  <a:lnTo>
                    <a:pt x="101" y="1473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2003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7"/>
                  </a:lnTo>
                  <a:lnTo>
                    <a:pt x="407" y="1262"/>
                  </a:lnTo>
                  <a:lnTo>
                    <a:pt x="318" y="1046"/>
                  </a:lnTo>
                  <a:lnTo>
                    <a:pt x="283" y="881"/>
                  </a:lnTo>
                  <a:lnTo>
                    <a:pt x="283" y="740"/>
                  </a:lnTo>
                  <a:lnTo>
                    <a:pt x="318" y="612"/>
                  </a:lnTo>
                  <a:lnTo>
                    <a:pt x="385" y="445"/>
                  </a:lnTo>
                  <a:lnTo>
                    <a:pt x="385" y="383"/>
                  </a:lnTo>
                  <a:lnTo>
                    <a:pt x="349" y="313"/>
                  </a:lnTo>
                  <a:lnTo>
                    <a:pt x="442" y="229"/>
                  </a:lnTo>
                  <a:lnTo>
                    <a:pt x="442" y="149"/>
                  </a:lnTo>
                  <a:lnTo>
                    <a:pt x="318" y="0"/>
                  </a:lnTo>
                  <a:lnTo>
                    <a:pt x="420" y="149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83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20"/>
                  </a:lnTo>
                  <a:lnTo>
                    <a:pt x="269" y="987"/>
                  </a:lnTo>
                  <a:lnTo>
                    <a:pt x="331" y="1231"/>
                  </a:lnTo>
                  <a:lnTo>
                    <a:pt x="407" y="1425"/>
                  </a:lnTo>
                  <a:lnTo>
                    <a:pt x="407" y="1592"/>
                  </a:lnTo>
                  <a:lnTo>
                    <a:pt x="363" y="1791"/>
                  </a:lnTo>
                  <a:lnTo>
                    <a:pt x="269" y="2003"/>
                  </a:lnTo>
                  <a:lnTo>
                    <a:pt x="159" y="1888"/>
                  </a:lnTo>
                  <a:lnTo>
                    <a:pt x="114" y="1791"/>
                  </a:lnTo>
                  <a:lnTo>
                    <a:pt x="124" y="1592"/>
                  </a:lnTo>
                  <a:lnTo>
                    <a:pt x="114" y="1390"/>
                  </a:lnTo>
                  <a:lnTo>
                    <a:pt x="57" y="1116"/>
                  </a:lnTo>
                  <a:lnTo>
                    <a:pt x="35" y="939"/>
                  </a:lnTo>
                  <a:lnTo>
                    <a:pt x="57" y="727"/>
                  </a:lnTo>
                  <a:lnTo>
                    <a:pt x="101" y="529"/>
                  </a:lnTo>
                  <a:lnTo>
                    <a:pt x="203" y="326"/>
                  </a:lnTo>
                  <a:lnTo>
                    <a:pt x="114" y="242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13680" y="450720"/>
              <a:ext cx="275040" cy="357480"/>
            </a:xfrm>
            <a:custGeom>
              <a:avLst/>
              <a:gdLst/>
              <a:ahLst/>
              <a:rect l="0" t="0" r="r" b="b"/>
              <a:pathLst>
                <a:path w="764" h="993">
                  <a:moveTo>
                    <a:pt x="127" y="251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6"/>
                  </a:lnTo>
                  <a:lnTo>
                    <a:pt x="490" y="335"/>
                  </a:lnTo>
                  <a:lnTo>
                    <a:pt x="512" y="392"/>
                  </a:lnTo>
                  <a:lnTo>
                    <a:pt x="512" y="436"/>
                  </a:lnTo>
                  <a:lnTo>
                    <a:pt x="486" y="467"/>
                  </a:lnTo>
                  <a:lnTo>
                    <a:pt x="437" y="489"/>
                  </a:lnTo>
                  <a:lnTo>
                    <a:pt x="380" y="493"/>
                  </a:lnTo>
                  <a:lnTo>
                    <a:pt x="309" y="480"/>
                  </a:lnTo>
                  <a:lnTo>
                    <a:pt x="243" y="440"/>
                  </a:lnTo>
                  <a:lnTo>
                    <a:pt x="195" y="405"/>
                  </a:lnTo>
                  <a:lnTo>
                    <a:pt x="171" y="534"/>
                  </a:lnTo>
                  <a:lnTo>
                    <a:pt x="127" y="627"/>
                  </a:lnTo>
                  <a:lnTo>
                    <a:pt x="0" y="825"/>
                  </a:lnTo>
                  <a:lnTo>
                    <a:pt x="185" y="993"/>
                  </a:lnTo>
                  <a:lnTo>
                    <a:pt x="327" y="728"/>
                  </a:lnTo>
                  <a:lnTo>
                    <a:pt x="486" y="750"/>
                  </a:lnTo>
                  <a:lnTo>
                    <a:pt x="584" y="733"/>
                  </a:lnTo>
                  <a:lnTo>
                    <a:pt x="676" y="666"/>
                  </a:lnTo>
                  <a:lnTo>
                    <a:pt x="734" y="587"/>
                  </a:lnTo>
                  <a:lnTo>
                    <a:pt x="764" y="480"/>
                  </a:lnTo>
                  <a:lnTo>
                    <a:pt x="764" y="374"/>
                  </a:lnTo>
                  <a:lnTo>
                    <a:pt x="734" y="260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66160" y="795240"/>
              <a:ext cx="98640" cy="71640"/>
            </a:xfrm>
            <a:custGeom>
              <a:avLst/>
              <a:gdLst/>
              <a:ahLst/>
              <a:rect l="0" t="0" r="r" b="b"/>
              <a:pathLst>
                <a:path w="274" h="199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2"/>
                  </a:lnTo>
                  <a:lnTo>
                    <a:pt x="164" y="199"/>
                  </a:lnTo>
                  <a:lnTo>
                    <a:pt x="247" y="195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400480" y="1871640"/>
            <a:ext cx="6248520" cy="38862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628720" y="2087640"/>
            <a:ext cx="5867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2379600" y="51912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689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4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50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1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16120" y="2082960"/>
            <a:ext cx="6121440" cy="360684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819520" y="2286000"/>
            <a:ext cx="5715000" cy="29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2133720" y="45720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2120" y="1676520"/>
            <a:ext cx="1525320" cy="4901040"/>
            <a:chOff x="762120" y="1676520"/>
            <a:chExt cx="1525320" cy="4901040"/>
          </a:xfrm>
        </p:grpSpPr>
        <p:grpSp>
          <p:nvGrpSpPr>
            <p:cNvPr id="787" name=""/>
            <p:cNvGrpSpPr/>
            <p:nvPr/>
          </p:nvGrpSpPr>
          <p:grpSpPr>
            <a:xfrm>
              <a:off x="1241280" y="1676520"/>
              <a:ext cx="506880" cy="1373400"/>
              <a:chOff x="1241280" y="1676520"/>
              <a:chExt cx="506880" cy="1373400"/>
            </a:xfrm>
          </p:grpSpPr>
          <p:sp>
            <p:nvSpPr>
              <p:cNvPr id="788" name=""/>
              <p:cNvSpPr/>
              <p:nvPr/>
            </p:nvSpPr>
            <p:spPr>
              <a:xfrm>
                <a:off x="1306440" y="22446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74840" y="22604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4360" y="17035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76440" y="17352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24160" y="22096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24160" y="22096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77800" y="22384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57280" y="19717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41280" y="16765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32000" y="16765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50960" y="20620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93840" y="20574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73200" y="2198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427040" y="19843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344600" y="1967040"/>
                <a:ext cx="295560" cy="38520"/>
                <a:chOff x="1344600" y="1967040"/>
                <a:chExt cx="295560" cy="385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1531800" y="19670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344600" y="19717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541520" y="2006640"/>
                <a:ext cx="72000" cy="36720"/>
                <a:chOff x="1541520" y="2006640"/>
                <a:chExt cx="72000" cy="367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541520" y="20350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1547640" y="2006640"/>
                  <a:ext cx="65880" cy="28800"/>
                  <a:chOff x="1547640" y="2006640"/>
                  <a:chExt cx="65880" cy="288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1547640" y="20113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1565280" y="2009880"/>
                    <a:ext cx="30240" cy="25560"/>
                    <a:chOff x="1565280" y="2009880"/>
                    <a:chExt cx="30240" cy="25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1565280" y="20098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74640" y="20131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1571760" y="20350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1554120" y="20113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155592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549440" y="20066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1371600" y="2004840"/>
                <a:ext cx="70200" cy="38520"/>
                <a:chOff x="1371600" y="2004840"/>
                <a:chExt cx="70200" cy="38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374840" y="20336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1371600" y="2004840"/>
                  <a:ext cx="66960" cy="30600"/>
                  <a:chOff x="1371600" y="2004840"/>
                  <a:chExt cx="66960" cy="306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374840" y="20113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389240" y="2009880"/>
                    <a:ext cx="33480" cy="23760"/>
                    <a:chOff x="1389240" y="2009880"/>
                    <a:chExt cx="33480" cy="2376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389240" y="20098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395360" y="20131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8" name=""/>
                  <p:cNvSpPr/>
                  <p:nvPr/>
                </p:nvSpPr>
                <p:spPr>
                  <a:xfrm>
                    <a:off x="1371600" y="20336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37484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373040" y="20113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378080" y="20048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762120" y="2259000"/>
              <a:ext cx="1525320" cy="4318560"/>
              <a:chOff x="762120" y="2259000"/>
              <a:chExt cx="1525320" cy="431856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1446120" y="36734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1220760" y="5056200"/>
                <a:ext cx="443520" cy="1521360"/>
                <a:chOff x="1220760" y="5056200"/>
                <a:chExt cx="443520" cy="1521360"/>
              </a:xfrm>
            </p:grpSpPr>
            <p:grpSp>
              <p:nvGrpSpPr>
                <p:cNvPr id="835" name=""/>
                <p:cNvGrpSpPr/>
                <p:nvPr/>
              </p:nvGrpSpPr>
              <p:grpSpPr>
                <a:xfrm>
                  <a:off x="1220760" y="5056200"/>
                  <a:ext cx="284400" cy="1394280"/>
                  <a:chOff x="1220760" y="5056200"/>
                  <a:chExt cx="284400" cy="1394280"/>
                </a:xfrm>
              </p:grpSpPr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220760" y="5056200"/>
                    <a:ext cx="284400" cy="1244880"/>
                    <a:chOff x="1220760" y="5056200"/>
                    <a:chExt cx="284400" cy="12448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220760" y="50562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224000" y="51735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1247760" y="6105600"/>
                    <a:ext cx="240120" cy="344880"/>
                    <a:chOff x="1247760" y="6105600"/>
                    <a:chExt cx="240120" cy="34488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1247760" y="61056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1309680" y="62737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1373040" y="5172120"/>
                  <a:ext cx="291240" cy="1405440"/>
                  <a:chOff x="1373040" y="5172120"/>
                  <a:chExt cx="291240" cy="14054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378080" y="51721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373040" y="51879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1390680" y="6221520"/>
                    <a:ext cx="244800" cy="356040"/>
                    <a:chOff x="1390680" y="6221520"/>
                    <a:chExt cx="244800" cy="3560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1390680" y="62215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1500120" y="64022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8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62120" y="2259000"/>
                <a:ext cx="1325880" cy="3011760"/>
                <a:chOff x="762120" y="2259000"/>
                <a:chExt cx="1325880" cy="301176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762120" y="2259000"/>
                  <a:ext cx="1325880" cy="3011760"/>
                  <a:chOff x="762120" y="2259000"/>
                  <a:chExt cx="1325880" cy="301176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020600" y="3867120"/>
                    <a:ext cx="817920" cy="1403640"/>
                    <a:chOff x="1020600" y="3867120"/>
                    <a:chExt cx="817920" cy="1403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020600" y="38671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392120" y="43070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762120" y="22590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1227240" y="3249720"/>
                  <a:ext cx="456840" cy="766440"/>
                  <a:chOff x="1227240" y="3249720"/>
                  <a:chExt cx="456840" cy="766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6200" y="39672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47720" y="32497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227240" y="39765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1157400" y="2370240"/>
                <a:ext cx="623880" cy="914760"/>
                <a:chOff x="1157400" y="2370240"/>
                <a:chExt cx="623880" cy="9147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157400" y="23702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446120" y="24559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898560" y="2917800"/>
                <a:ext cx="1388880" cy="775080"/>
                <a:chOff x="898560" y="2917800"/>
                <a:chExt cx="1388880" cy="77508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898560" y="2917800"/>
                  <a:ext cx="1388880" cy="732240"/>
                  <a:chOff x="898560" y="2917800"/>
                  <a:chExt cx="1388880" cy="73224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898560" y="29178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1279440" y="2979720"/>
                    <a:ext cx="1008000" cy="525600"/>
                    <a:chOff x="1279440" y="2979720"/>
                    <a:chExt cx="1008000" cy="52560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1690560" y="3179880"/>
                      <a:ext cx="596880" cy="325440"/>
                      <a:chOff x="1690560" y="3179880"/>
                      <a:chExt cx="596880" cy="3254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 flipV="1">
                        <a:off x="1690560" y="324648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V="1">
                        <a:off x="2201760" y="317988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178452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251000" y="3305160"/>
                  <a:ext cx="421200" cy="387720"/>
                  <a:chOff x="1251000" y="3305160"/>
                  <a:chExt cx="421200" cy="387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251000" y="33955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338120" y="34844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282680" y="34416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378080" y="35431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82680" y="35211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528920" y="33051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590840" y="33685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9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71840" y="1716120"/>
            <a:ext cx="5952960" cy="41911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2789280" y="1868400"/>
            <a:ext cx="563868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673360" y="57456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885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886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3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931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6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7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9076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920" y="213372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on acquisitions of long-term assets is found under investing activities i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