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F11-FB31-4366-A5AF-E37E606A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986-B7B9-4B55-B218-E02B97A5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1F3-3DE0-47B1-8DB3-F19DBDE1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02A-F7BA-4F3F-A180-05DA06B8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576-0FEB-4B67-B823-C65C6C10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D68-CE45-4F38-878C-0967D2E7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508-FE73-4696-A7A8-654DDFA7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407-5B40-4145-AD23-2DBE28E1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21C-195B-4C8D-9C15-948672D5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CC4-1F5D-4FF8-914F-3716D04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A80-F09B-4E94-B6C7-FD24D5FD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94D-C490-4782-9EC4-A2C873A8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6836-8929-4162-9DD7-964901C6F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ctur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The IS-LM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 p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licy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7440" y="16614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MO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880" y="1295280"/>
            <a:ext cx="687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entral bank increases/decreases 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irculation by buying/selling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 in the financial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680" y="4723560"/>
            <a:ext cx="25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ase rat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81360" y="4341600"/>
            <a:ext cx="536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e rate is the official rat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banks can obtain cash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entral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00" y="7272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supply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971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13680" y="2860560"/>
            <a:ext cx="7078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 given 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the interest rate is allowed to clea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920" y="38512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8420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59960" y="5730840"/>
            <a:ext cx="72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entral bank supplies money to the mone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ch that the market clears at the chosen interes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y versus interest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280" y="685800"/>
            <a:ext cx="69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entral bank is like a monopolistic firm facing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wnwards sloping demand curve, 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0520" y="1523880"/>
            <a:ext cx="75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can either set the volume and let the market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ic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0520" y="2286000"/>
            <a:ext cx="79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can set the price and let the market determine the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2480" y="30481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248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66440" y="59850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5792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3120" y="3106080"/>
            <a:ext cx="2825280" cy="27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124080"/>
            <a:ext cx="0" cy="3124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683160" y="2798640"/>
                <a:ext cx="484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51600" y="5562720"/>
                <a:ext cx="1554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31920" y="419112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1752480" y="4495680"/>
            <a:ext cx="4724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5029200"/>
            <a:ext cx="167652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Set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d le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rmin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733560" y="335268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6080" y="3009960"/>
            <a:ext cx="291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ney supply with fixed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62720" y="411480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47600" y="384804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ney supply with fixe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52480" y="44956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962520"/>
            <a:ext cx="1600200" cy="99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Set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d le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rmine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e choice of monetary policy instr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320" y="152388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re is no uncertainty about the location of the LM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 curves, the two instruments can achieve equivalent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9600" y="2362320"/>
            <a:ext cx="60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because of business cycle sho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160" y="281952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al demand shocks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84720" y="2843280"/>
                <a:ext cx="53020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62520" y="4022640"/>
                <a:ext cx="34304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: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06520" y="392112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Nominal demand shocks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2960" y="331164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about the location of the IS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41040" y="4454640"/>
            <a:ext cx="63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about the location of the LM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463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606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320" y="5165640"/>
            <a:ext cx="857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action time =&gt; fix a target based on expectations about sh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entral bank can either use a money target or an interest rate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ich of these instruments would cause the least fluctuations in outp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rot="2727000">
            <a:off x="1688760" y="1768680"/>
            <a:ext cx="1251000" cy="243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6212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96252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 flipV="1">
            <a:off x="1509840" y="1938240"/>
            <a:ext cx="184284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133720"/>
            <a:ext cx="2514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173340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826920" y="1755720"/>
                <a:ext cx="449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 flipV="1">
            <a:off x="228600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1760" y="3048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584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3796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057400" y="434340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V="1">
            <a:off x="1019160" y="1676520"/>
            <a:ext cx="17524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33560" y="2576520"/>
            <a:ext cx="169056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686040" y="2162160"/>
                <a:ext cx="6606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543040" y="132408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781280" y="2666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81280" y="2666880"/>
            <a:ext cx="99036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48006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456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t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4120" y="6094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45964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773840" y="173340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324400" y="1755720"/>
                <a:ext cx="449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78296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3544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2608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155080" y="2162160"/>
                <a:ext cx="660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012080" y="132408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098040" y="472428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u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5680" y="486108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u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727000">
            <a:off x="6156000" y="1768680"/>
            <a:ext cx="1251000" cy="243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5924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924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06960" y="1938240"/>
            <a:ext cx="184320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8348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259240" y="3048120"/>
            <a:ext cx="327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87840" y="1676520"/>
            <a:ext cx="17528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402240" y="2576520"/>
            <a:ext cx="169092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4160" y="2133720"/>
            <a:ext cx="2514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8680" y="5510160"/>
                <a:ext cx="1171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3280" y="6012000"/>
                <a:ext cx="755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295280" y="609588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838160" y="6019920"/>
                <a:ext cx="676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2590920" y="610380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98880" y="6019920"/>
                <a:ext cx="728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234040" y="5562720"/>
                <a:ext cx="9619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00560" y="5973840"/>
                <a:ext cx="96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07200" y="560376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746760" y="5553000"/>
                <a:ext cx="884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7696080" y="561168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077320" y="5553000"/>
                <a:ext cx="9633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232320" y="5985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84000" y="5451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34080" y="-34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minal demand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7528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 rot="2265000">
            <a:off x="990360" y="2514600"/>
            <a:ext cx="24620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6212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96252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V="1">
            <a:off x="1509840" y="1938240"/>
            <a:ext cx="184284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209680"/>
            <a:ext cx="21337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276720" y="173340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846000" y="1905120"/>
                <a:ext cx="449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 flipV="1">
            <a:off x="228600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61760" y="3048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584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796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02896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752480" y="4800600"/>
            <a:ext cx="8384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4920" y="57456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t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17680" y="486108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luc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752480"/>
            <a:ext cx="213336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349280" y="129528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925560" y="2666880"/>
            <a:ext cx="196992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0960" y="228600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26668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265000">
            <a:off x="5258880" y="2514240"/>
            <a:ext cx="246240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3064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3064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23104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 flipV="1">
            <a:off x="5778360" y="1938240"/>
            <a:ext cx="184320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880" y="2209680"/>
            <a:ext cx="213336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545240" y="173340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114880" y="1905120"/>
                <a:ext cx="449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 flipV="1">
            <a:off x="655488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030280" y="3048120"/>
            <a:ext cx="2894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5436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0684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29748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638680" y="4800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3800" y="5745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68120" y="486108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rge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luc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6440" y="1752480"/>
            <a:ext cx="21337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618160" y="129528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5194440" y="2666880"/>
            <a:ext cx="196992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019840" y="228600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5638680" y="30481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15200" y="30481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8680" y="5130720"/>
                <a:ext cx="11714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03280" y="5630760"/>
                <a:ext cx="755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295280" y="571500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838160" y="5638680"/>
                <a:ext cx="6764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2590920" y="572292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98880" y="5638680"/>
                <a:ext cx="728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210600" y="613728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ut counter cyclically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991040" y="5562720"/>
                <a:ext cx="9619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976640" y="5973840"/>
                <a:ext cx="96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6083280" y="560376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523200" y="5553000"/>
                <a:ext cx="884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299440" y="5460840"/>
                <a:ext cx="7254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007680" y="598500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counter cycl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owding out of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63040" y="41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emand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29040" y="545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“optimal” choice of monetary policy instrument (rule) depends on the source of business cycle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the business cycle is mainly driven by real demand shock (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I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, then money supply control is better at reducing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the business cycle is mainly driven by nominal demand shocks (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L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, then interest rate control is better at reducing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great depression and the IS-LM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ffectiveness of </a:t>
            </a: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523880"/>
            <a:ext cx="8610480" cy="762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286000"/>
            <a:ext cx="8610480" cy="838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124080"/>
            <a:ext cx="861048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952880"/>
            <a:ext cx="861048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5867280"/>
            <a:ext cx="861048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4038480"/>
            <a:ext cx="861048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6120" y="228600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1600" y="31240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ne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680" y="5181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e 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1680" y="60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e of 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97360" y="2249640"/>
                <a:ext cx="4204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2640" y="3111480"/>
                <a:ext cx="13888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392640" y="4992840"/>
                <a:ext cx="13888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854520" y="5888160"/>
                <a:ext cx="4255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7391520" y="23623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51720" y="339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91520" y="33526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5280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92600" y="51404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52440" y="6095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92960" y="6054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0920" y="1565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68560" y="14889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21320" y="1447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63760" y="152388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51720" y="23623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2320" y="404352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921120" y="4245120"/>
                <a:ext cx="3301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5751720" y="43131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91880" y="4272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tive monetary policy in the IS-LM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netary rules: money versus interest rate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88600" y="121932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n market operation (O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209680"/>
            <a:ext cx="1904760" cy="1295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ent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905120"/>
            <a:ext cx="6400800" cy="24382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10080" y="2661840"/>
            <a:ext cx="137160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4920"/>
            <a:ext cx="13716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51720" y="2209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uy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9400" y="33526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Inject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200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5740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0240" y="2133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ll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2004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tir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>
            <a:off x="1536840" y="4572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6840" y="4191120"/>
            <a:ext cx="510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673680" y="3895560"/>
                <a:ext cx="4892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1994040" y="609480"/>
            <a:ext cx="335268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17720" y="914400"/>
            <a:ext cx="365760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46720" y="304920"/>
                <a:ext cx="790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75320" y="3490920"/>
                <a:ext cx="547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 flipV="1">
            <a:off x="3670200" y="22860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536840" y="22860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9632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36720" y="237960"/>
                <a:ext cx="533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946080" y="1879560"/>
                <a:ext cx="666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440160" y="4179960"/>
                <a:ext cx="458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V="1">
            <a:off x="3276720" y="685440"/>
            <a:ext cx="3352680" cy="3352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643800" y="396720"/>
                <a:ext cx="7603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H="1">
            <a:off x="1523880" y="28954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895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206960" y="4208400"/>
                <a:ext cx="4237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68400" y="2498760"/>
                <a:ext cx="622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657600" y="2362320"/>
            <a:ext cx="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-42840" y="4572000"/>
                <a:ext cx="11858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49784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952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160" y="48006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49626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089160" y="4795920"/>
                <a:ext cx="838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1905120" y="297144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828440" y="312408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960" y="6076800"/>
                <a:ext cx="747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066680" y="62485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76520" y="6076800"/>
                <a:ext cx="6760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362320" y="6248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2600" y="6086520"/>
                <a:ext cx="7459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1240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733920" y="28951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809880" y="5410080"/>
                <a:ext cx="1193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D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95288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535720" y="5380200"/>
                <a:ext cx="71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H="1" flipV="1">
            <a:off x="4114440" y="3276360"/>
            <a:ext cx="15238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76760" y="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Non-neutrality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762120"/>
            <a:ext cx="3962520" cy="586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447920"/>
            <a:ext cx="3429000" cy="35049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2895480" cy="26668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2767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19320" y="1980720"/>
            <a:ext cx="83808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2767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41148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38280" y="25146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52640" y="2590920"/>
                <a:ext cx="610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81120" y="3467160"/>
                <a:ext cx="496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0920" y="4406760"/>
                <a:ext cx="524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09920" y="3581280"/>
                <a:ext cx="552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44080" y="8031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IS-LM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5800" y="5181480"/>
                <a:ext cx="685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46200" y="5181480"/>
                <a:ext cx="793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24240" y="5181480"/>
                <a:ext cx="757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5257800"/>
                <a:ext cx="974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029200" y="762120"/>
            <a:ext cx="3962520" cy="5867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131320" y="3733920"/>
                <a:ext cx="936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675760" y="80316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lass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64000" y="2063880"/>
                <a:ext cx="35514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7585200" y="277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8256240" y="1905120"/>
            <a:ext cx="4302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907320" y="3303720"/>
                <a:ext cx="1276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620120" y="1447920"/>
                <a:ext cx="1322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83200" y="3809880"/>
                <a:ext cx="1012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019920" y="3962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92840" y="3809880"/>
                <a:ext cx="685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543800" y="3962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520" y="5130720"/>
            <a:ext cx="30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y are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440" y="58165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y are non-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The Keynesian Transmission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133720"/>
            <a:ext cx="4267080" cy="1904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133720"/>
            <a:ext cx="2362320" cy="350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63600" y="2438280"/>
                <a:ext cx="11905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468600" y="2590920"/>
                <a:ext cx="758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28195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8195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359400" y="2666880"/>
                <a:ext cx="685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324480" y="4800600"/>
                <a:ext cx="757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512040" y="3352680"/>
            <a:ext cx="304560" cy="1295640"/>
          </a:xfrm>
          <a:prstGeom prst="downArrow">
            <a:avLst>
              <a:gd name="adj1" fmla="val 50000"/>
              <a:gd name="adj2" fmla="val 106353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280" y="3962520"/>
            <a:ext cx="2590920" cy="1218960"/>
          </a:xfrm>
          <a:custGeom>
            <a:avLst/>
            <a:gdLst>
              <a:gd name="textAreaLeft" fmla="*/ 438480 w 2590920"/>
              <a:gd name="textAreaRight" fmla="*/ 2203560 w 2590920"/>
              <a:gd name="textAreaTop" fmla="*/ 899280 h 1218960"/>
              <a:gd name="textAreaBottom" fmla="*/ 1036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9165"/>
                </a:moveTo>
                <a:lnTo>
                  <a:pt x="15935" y="19165"/>
                </a:lnTo>
                <a:lnTo>
                  <a:pt x="15935" y="3656"/>
                </a:lnTo>
                <a:lnTo>
                  <a:pt x="12705" y="3656"/>
                </a:lnTo>
                <a:lnTo>
                  <a:pt x="17153" y="0"/>
                </a:lnTo>
                <a:lnTo>
                  <a:pt x="21600" y="3656"/>
                </a:lnTo>
                <a:lnTo>
                  <a:pt x="18370" y="3656"/>
                </a:lnTo>
                <a:lnTo>
                  <a:pt x="183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9320" y="3089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49520" y="2403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16720" y="45370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17680" y="3622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2520" y="198108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3440" y="20192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od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83040" y="51465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5746680"/>
            <a:ext cx="8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5842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7200" y="5781600"/>
            <a:ext cx="842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30760" y="5877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4600" y="580716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6640" y="4302000"/>
            <a:ext cx="2840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or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0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hanism f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38800" y="3657600"/>
                <a:ext cx="438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99160" y="3657600"/>
                <a:ext cx="396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78640" y="4495680"/>
                <a:ext cx="438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52880" y="37339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40384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The Monetary Policy Multipl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828800"/>
            <a:ext cx="784872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ffect on Y whe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anges and the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llowed to adjust to its equilibrium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06280" y="3944880"/>
                <a:ext cx="86835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105520" y="388620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31776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nsmission mechanis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0880" y="53341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ple 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5715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696080" y="4952520"/>
            <a:ext cx="3049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5257800" y="373320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Active Monetary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 expansion of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GB" sz="32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can effectively stimulate the level of activity and employment if the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Keynesian Transmission Mechanis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eff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l money demand is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insensitiv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vestment demand is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sensitiv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IS-LM models shows that monetary policy is non-neutral in a closed economy </a:t>
            </a:r>
            <a:r>
              <a:rPr b="1" i="1" lang="en-GB" sz="2800" spc="-1" strike="noStrike">
                <a:solidFill>
                  <a:srgbClr val="ff330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rice level can be taken as fixed and the Keynesian transmission mechanism 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ransmission mechanism may not work, e.g., if the interest rate is very close to zero (liquidity tra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rice level is unlikely to stay constant in response to a large and sustained expansion of 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o inflation will eventually reduce the potency of mone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tary rules versus active monetary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4:14:00Z</dcterms:created>
  <dc:creator>User 2G</dc:creator>
  <dc:description/>
  <dc:language>en-US</dc:language>
  <cp:lastModifiedBy>tsa23</cp:lastModifiedBy>
  <dcterms:modified xsi:type="dcterms:W3CDTF">2008-02-08T08:32:55Z</dcterms:modified>
  <cp:revision>30</cp:revision>
  <dc:subject/>
  <dc:title>Macroeconomics</dc:title>
</cp:coreProperties>
</file>