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1CA7-48E6-4C3A-9267-4E5C5FCD3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3253-B6FC-492F-BE53-9D567B3A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CAB5-883D-40C9-B3DA-6F5C6AB6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D7FF-1195-452F-940D-2382153BC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9954-FACC-4C38-A9F0-4FF14897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BFF8-A197-442E-9ECE-E2DC7086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B649-B8CF-4D89-99D8-721B12EF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3741-F0BB-4DB0-874D-29B53A1D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B65B-4066-41BF-9E36-A066FC0D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569F-856C-4E8C-A179-84956D75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2344-9E8B-4F3F-9A46-0854A8B4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E4CE-A6E9-4748-BED9-FE888164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4FE9-8E74-419C-AC80-EC1240362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croeconom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cture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The IS-LM mod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onetary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Monetary p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licy instr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7440" y="166140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OMO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880" y="1295280"/>
            <a:ext cx="6870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entral bank increases/decreases c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circulation by buying/selling govern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nds in the financial mark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680" y="4723560"/>
            <a:ext cx="252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base rate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81360" y="4341600"/>
            <a:ext cx="536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ase rate is the official rate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ch banks can obtain cash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entral ba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000" y="727200"/>
            <a:ext cx="35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ney supply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2971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13680" y="2860560"/>
            <a:ext cx="7078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or given M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, the interest rate is allowed to clea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ney mar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920" y="385128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est rat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584208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59960" y="5730840"/>
            <a:ext cx="726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central bank supplies money to the money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uch that the market clears at the chosen interest 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Money versus interest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6280" y="685800"/>
            <a:ext cx="696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central bank is like a monopolistic firm facing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wnwards sloping demand curve, s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40520" y="1523880"/>
            <a:ext cx="755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t can either set the volume and let the market deter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price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40520" y="2286000"/>
            <a:ext cx="793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t can set the price and let the market determine the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752480" y="304812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6248520"/>
            <a:ext cx="434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166440" y="5985000"/>
            <a:ext cx="59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5792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3120" y="3106080"/>
            <a:ext cx="2825280" cy="277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3124080"/>
            <a:ext cx="0" cy="31244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683160" y="2798640"/>
                <a:ext cx="48420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5151600" y="5562720"/>
                <a:ext cx="15541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231920" y="4191120"/>
                <a:ext cx="4762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1752480" y="4495680"/>
            <a:ext cx="4724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5029200"/>
            <a:ext cx="167652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Option 1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: Set M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d let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etermine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733560" y="335268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36080" y="3009960"/>
            <a:ext cx="291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oney supply with fixed M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562720" y="411480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47600" y="3848040"/>
            <a:ext cx="28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oney supply with fixed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752480" y="449568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28800" y="3962520"/>
            <a:ext cx="1600200" cy="99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Option 2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: Set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d let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etermine M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The choice of monetary policy instrum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2320" y="1523880"/>
            <a:ext cx="85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f there is no uncertainty about the location of the LM an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S curves, the two instruments can achieve equivalent outc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69600" y="2362320"/>
            <a:ext cx="60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ncertainty because of business cycle shoc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3160" y="281952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imes New Roman"/>
              </a:rPr>
              <a:t>Real demand shocks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384720" y="2843280"/>
                <a:ext cx="53020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S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R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962520" y="4022640"/>
                <a:ext cx="343044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M</m:t>
                    </m:r>
                    <m:r>
                      <m:t xml:space="preserve">: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506520" y="3921120"/>
            <a:ext cx="34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imes New Roman"/>
              </a:rPr>
              <a:t>Nominal demand shocks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12960" y="3311640"/>
            <a:ext cx="616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ncertainty about the location of the IS cur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41040" y="4454640"/>
            <a:ext cx="63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ncertainty about the location of the LM cur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346392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460692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320" y="5165640"/>
            <a:ext cx="8570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action time =&gt; fix a target based on expectations about sho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e central bank can either use a money target or an interest rate targ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Which of these instruments would cause the least fluctuations in outpu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 rot="2727000">
            <a:off x="1688760" y="1768680"/>
            <a:ext cx="1251000" cy="243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762120" y="137124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43434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962520" y="4114800"/>
                <a:ext cx="3794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 flipV="1">
            <a:off x="1509840" y="1938240"/>
            <a:ext cx="1842840" cy="18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2133720"/>
            <a:ext cx="251460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276720" y="1733400"/>
                <a:ext cx="6364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826920" y="1755720"/>
                <a:ext cx="449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 flipV="1">
            <a:off x="2286000" y="31237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761760" y="30481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85840" y="1085760"/>
                <a:ext cx="457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37960" y="2732040"/>
                <a:ext cx="517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057400" y="4343400"/>
                <a:ext cx="4111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 flipV="1">
            <a:off x="1019160" y="1676520"/>
            <a:ext cx="175248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33560" y="2576520"/>
            <a:ext cx="1690560" cy="16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686040" y="2162160"/>
                <a:ext cx="6606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543040" y="1324080"/>
                <a:ext cx="6368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1781280" y="26668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77164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81280" y="2666880"/>
            <a:ext cx="990360" cy="762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76520" y="480060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4560"/>
            <a:ext cx="24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netar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94120" y="60948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es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8459640" y="4114800"/>
                <a:ext cx="3794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7773840" y="1733400"/>
                <a:ext cx="6368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5324400" y="1755720"/>
                <a:ext cx="449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782960" y="1085760"/>
                <a:ext cx="457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735440" y="2732040"/>
                <a:ext cx="517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6526080" y="4371840"/>
                <a:ext cx="4111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8155080" y="2162160"/>
                <a:ext cx="6602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7012080" y="1324080"/>
                <a:ext cx="6364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6098040" y="4724280"/>
            <a:ext cx="137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 inco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luc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25680" y="4861080"/>
            <a:ext cx="128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co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luc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2727000">
            <a:off x="6156000" y="1768680"/>
            <a:ext cx="1251000" cy="243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259240" y="137124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59240" y="43434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6006960" y="1938240"/>
            <a:ext cx="1843200" cy="18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83480" y="31237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259240" y="3048120"/>
            <a:ext cx="327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487840" y="1676520"/>
            <a:ext cx="175284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402240" y="2576520"/>
            <a:ext cx="1690920" cy="16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564160" y="2133720"/>
            <a:ext cx="251460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28680" y="5510160"/>
                <a:ext cx="11714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03280" y="6012000"/>
                <a:ext cx="7556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↓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1295280" y="6095880"/>
            <a:ext cx="381240" cy="306360"/>
          </a:xfrm>
          <a:prstGeom prst="rightArrow">
            <a:avLst>
              <a:gd name="adj1" fmla="val 50000"/>
              <a:gd name="adj2" fmla="val 3111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838160" y="6019920"/>
                <a:ext cx="6764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↑</m:t>
                    </m:r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2590920" y="6103800"/>
            <a:ext cx="380880" cy="306360"/>
          </a:xfrm>
          <a:prstGeom prst="rightArrow">
            <a:avLst>
              <a:gd name="adj1" fmla="val 50000"/>
              <a:gd name="adj2" fmla="val 31081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098880" y="6019920"/>
                <a:ext cx="7286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↑</m:t>
                    </m:r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5234040" y="5562720"/>
                <a:ext cx="96192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200560" y="5973840"/>
                <a:ext cx="9637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↓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6307200" y="5603760"/>
            <a:ext cx="380880" cy="306360"/>
          </a:xfrm>
          <a:prstGeom prst="rightArrow">
            <a:avLst>
              <a:gd name="adj1" fmla="val 50000"/>
              <a:gd name="adj2" fmla="val 31081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6746760" y="5553000"/>
                <a:ext cx="8845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7696080" y="5611680"/>
            <a:ext cx="381240" cy="306360"/>
          </a:xfrm>
          <a:prstGeom prst="rightArrow">
            <a:avLst>
              <a:gd name="adj1" fmla="val 50000"/>
              <a:gd name="adj2" fmla="val 3111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8077320" y="5553000"/>
                <a:ext cx="96336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6232320" y="59850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 transmi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84000" y="545148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nsmi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34080" y="-34920"/>
            <a:ext cx="33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minal demand sh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75280" y="574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 rot="2265000">
            <a:off x="990360" y="2514600"/>
            <a:ext cx="2462040" cy="990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762120" y="137124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43434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3962520" y="4114800"/>
                <a:ext cx="3794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 flipV="1">
            <a:off x="1509840" y="1938240"/>
            <a:ext cx="1842840" cy="18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209680"/>
            <a:ext cx="213372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276720" y="1733400"/>
                <a:ext cx="6364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846000" y="1905120"/>
                <a:ext cx="449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 flipV="1">
            <a:off x="2286000" y="31237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761760" y="30481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85840" y="1085760"/>
                <a:ext cx="457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237960" y="2732040"/>
                <a:ext cx="517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2028960" y="4371840"/>
                <a:ext cx="4111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1752480" y="4800600"/>
            <a:ext cx="83844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94920" y="574560"/>
            <a:ext cx="24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netar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17680" y="486108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mall inco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fluctu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1752480"/>
            <a:ext cx="213336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349280" y="1295280"/>
                <a:ext cx="47304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925560" y="2666880"/>
            <a:ext cx="1969920" cy="1527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750960" y="2286000"/>
                <a:ext cx="47304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90920" y="26668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2265000">
            <a:off x="5258880" y="2514240"/>
            <a:ext cx="2462400" cy="990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030640" y="137124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30640" y="43434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8231040" y="4114800"/>
                <a:ext cx="3794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 flipV="1">
            <a:off x="5778360" y="1938240"/>
            <a:ext cx="1843200" cy="18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1880" y="2209680"/>
            <a:ext cx="213336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7545240" y="1733400"/>
                <a:ext cx="6368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5114880" y="1905120"/>
                <a:ext cx="449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 flipV="1">
            <a:off x="6554880" y="31237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030280" y="3048120"/>
            <a:ext cx="2894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4554360" y="1085760"/>
                <a:ext cx="457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506840" y="2732040"/>
                <a:ext cx="517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6297480" y="4371840"/>
                <a:ext cx="4111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5638680" y="4800600"/>
            <a:ext cx="167652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63800" y="57456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es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568120" y="4861080"/>
            <a:ext cx="173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arge inco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fluctu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16440" y="1752480"/>
            <a:ext cx="213372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618160" y="1295280"/>
                <a:ext cx="47304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5194440" y="2666880"/>
            <a:ext cx="1969920" cy="1527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5019840" y="2286000"/>
                <a:ext cx="47304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5638680" y="30481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315200" y="30481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328680" y="5130720"/>
                <a:ext cx="117144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503280" y="5630760"/>
                <a:ext cx="75564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↓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1295280" y="5715000"/>
            <a:ext cx="381240" cy="306360"/>
          </a:xfrm>
          <a:prstGeom prst="rightArrow">
            <a:avLst>
              <a:gd name="adj1" fmla="val 50000"/>
              <a:gd name="adj2" fmla="val 3111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1838160" y="5638680"/>
                <a:ext cx="67644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↑</m:t>
                    </m:r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2590920" y="5722920"/>
            <a:ext cx="380880" cy="306360"/>
          </a:xfrm>
          <a:prstGeom prst="rightArrow">
            <a:avLst>
              <a:gd name="adj1" fmla="val 50000"/>
              <a:gd name="adj2" fmla="val 31081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098880" y="5638680"/>
                <a:ext cx="72864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↑</m:t>
                    </m:r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210600" y="6137280"/>
            <a:ext cx="31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ut counter cyclically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4991040" y="5562720"/>
                <a:ext cx="96192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4976640" y="5973840"/>
                <a:ext cx="9637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↓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6083280" y="5603760"/>
            <a:ext cx="380880" cy="306360"/>
          </a:xfrm>
          <a:prstGeom prst="rightArrow">
            <a:avLst>
              <a:gd name="adj1" fmla="val 50000"/>
              <a:gd name="adj2" fmla="val 31081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6523200" y="5553000"/>
                <a:ext cx="88416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8299440" y="5460840"/>
                <a:ext cx="72540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↑</m:t>
                    </m:r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6007680" y="5985000"/>
            <a:ext cx="274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 counter cycl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rowding out of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63040" y="4140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 demand sh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529040" y="5451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“optimal” choice of monetary policy instrument (rule) depends on the source of business cycle fluct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f the business cycle is mainly driven by real demand shock (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I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), then money supply control is better at reducing fluct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f the business cycle is mainly driven by nominal demand shocks (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LM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), then interest rate control is better at reducing fluct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What is nex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 great depression and the IS-LM mod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3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Effectiveness of </a:t>
            </a: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monetary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4920" y="1523880"/>
            <a:ext cx="8610480" cy="7621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4920" y="2286000"/>
            <a:ext cx="8610480" cy="8380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04920" y="3124080"/>
            <a:ext cx="8610480" cy="9144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4920" y="4952880"/>
            <a:ext cx="8610480" cy="9144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04920" y="5867280"/>
            <a:ext cx="8610480" cy="914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4920" y="4038480"/>
            <a:ext cx="8610480" cy="914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66120" y="2286000"/>
            <a:ext cx="19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1600" y="3124080"/>
            <a:ext cx="16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nesi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p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2680" y="51814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ope of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1680" y="609588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ope of 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3897360" y="2249640"/>
                <a:ext cx="4204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392640" y="3111480"/>
                <a:ext cx="13888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392640" y="4992840"/>
                <a:ext cx="138888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3854520" y="5888160"/>
                <a:ext cx="42552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7391520" y="236232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51720" y="339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391520" y="335268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52800" y="51814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ha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392600" y="514044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752440" y="60958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392960" y="605484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ha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90920" y="15652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68560" y="148896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321320" y="144792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263760" y="152388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51720" y="236232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ar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2320" y="4043520"/>
            <a:ext cx="14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3921120" y="4245120"/>
                <a:ext cx="33012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5751720" y="431316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391880" y="42721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ctive monetary policy in the IS-LM mod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netary rules: money versus interest rate con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Monetary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88600" y="1219320"/>
            <a:ext cx="42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en market operation (O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2209680"/>
            <a:ext cx="1904760" cy="12956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ent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1905120"/>
            <a:ext cx="6400800" cy="243828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410080" y="2661840"/>
            <a:ext cx="1371600" cy="11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3274920"/>
            <a:ext cx="1371600" cy="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51720" y="2209680"/>
            <a:ext cx="15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Buy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639400" y="33526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Inject 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2004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057400" y="26668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30240" y="2133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Sell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20040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etire 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flipV="1">
            <a:off x="1536840" y="45720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36840" y="4191120"/>
            <a:ext cx="5105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673680" y="3895560"/>
                <a:ext cx="48924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 flipV="1">
            <a:off x="1994040" y="609480"/>
            <a:ext cx="3352680" cy="335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17720" y="914400"/>
            <a:ext cx="3657600" cy="28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346720" y="304920"/>
                <a:ext cx="7905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575320" y="3490920"/>
                <a:ext cx="5475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 flipV="1">
            <a:off x="3670200" y="22860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536840" y="2286000"/>
            <a:ext cx="2133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96320" y="1752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936720" y="237960"/>
                <a:ext cx="53316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946080" y="1879560"/>
                <a:ext cx="6667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440160" y="4179960"/>
                <a:ext cx="4586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 flipV="1">
            <a:off x="3276720" y="685440"/>
            <a:ext cx="3352680" cy="3352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6643800" y="396720"/>
                <a:ext cx="76032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 flipH="1">
            <a:off x="1523880" y="289548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19720" y="289548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206960" y="4208400"/>
                <a:ext cx="4237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968400" y="2498760"/>
                <a:ext cx="6224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3657600" y="2362320"/>
            <a:ext cx="0" cy="1218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-42840" y="4572000"/>
                <a:ext cx="118584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449784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49528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86160" y="48006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14600" y="496260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089160" y="4795920"/>
                <a:ext cx="83844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 flipV="1">
            <a:off x="1905120" y="2971440"/>
            <a:ext cx="167616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1828440" y="3124080"/>
            <a:ext cx="152640" cy="2895480"/>
          </a:xfrm>
          <a:custGeom>
            <a:avLst/>
            <a:gdLst>
              <a:gd name="textAreaLeft" fmla="*/ 0 w 152640"/>
              <a:gd name="textAreaRight" fmla="*/ 55080 w 15264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960" y="6076800"/>
                <a:ext cx="74772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066680" y="62485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676520" y="6076800"/>
                <a:ext cx="67608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2362320" y="62485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892600" y="6086520"/>
                <a:ext cx="7459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31240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733920" y="2895120"/>
            <a:ext cx="68580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809880" y="5410080"/>
                <a:ext cx="119376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D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4952880" y="55627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535720" y="5380200"/>
                <a:ext cx="7128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 flipH="1" flipV="1">
            <a:off x="4114440" y="3276360"/>
            <a:ext cx="152388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76760" y="0"/>
            <a:ext cx="503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Non-neutrality of M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762120"/>
            <a:ext cx="3962520" cy="5867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1447920"/>
            <a:ext cx="3429000" cy="35049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1676520"/>
            <a:ext cx="2895480" cy="266688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32767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1219320" y="1980720"/>
            <a:ext cx="83808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3276720"/>
            <a:ext cx="83808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4114800"/>
            <a:ext cx="4572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438280" y="2514600"/>
                <a:ext cx="571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052640" y="2590920"/>
                <a:ext cx="610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581120" y="3467160"/>
                <a:ext cx="4968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050920" y="4406760"/>
                <a:ext cx="5241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409920" y="3581280"/>
                <a:ext cx="5526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1144080" y="80316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IS-LM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85800" y="5181480"/>
                <a:ext cx="6858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546200" y="5181480"/>
                <a:ext cx="7938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424240" y="5181480"/>
                <a:ext cx="7570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276720" y="5257800"/>
                <a:ext cx="9745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029200" y="762120"/>
            <a:ext cx="3962520" cy="5867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8131320" y="3733920"/>
                <a:ext cx="9363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5675760" y="80316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classic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364000" y="2063880"/>
                <a:ext cx="3551400" cy="10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 flipV="1">
            <a:off x="7585200" y="2770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8256240" y="1905120"/>
            <a:ext cx="4302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907320" y="3303720"/>
                <a:ext cx="12762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620120" y="1447920"/>
                <a:ext cx="1322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083200" y="3809880"/>
                <a:ext cx="10126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6019920" y="39625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792840" y="3809880"/>
                <a:ext cx="6858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7543800" y="39625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4520" y="5130720"/>
            <a:ext cx="300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ney are neu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8440" y="5816520"/>
            <a:ext cx="369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ney are non-neu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The Keynesian Transmission mecha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2133720"/>
            <a:ext cx="4267080" cy="1904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2133720"/>
            <a:ext cx="2362320" cy="3504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263600" y="2438280"/>
                <a:ext cx="119052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468600" y="2590920"/>
                <a:ext cx="7588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514600" y="2819520"/>
            <a:ext cx="762120" cy="304560"/>
          </a:xfrm>
          <a:prstGeom prst="rightArrow">
            <a:avLst>
              <a:gd name="adj1" fmla="val 50000"/>
              <a:gd name="adj2" fmla="val 62559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819520"/>
            <a:ext cx="1752480" cy="304560"/>
          </a:xfrm>
          <a:prstGeom prst="rightArrow">
            <a:avLst>
              <a:gd name="adj1" fmla="val 50000"/>
              <a:gd name="adj2" fmla="val 143853"/>
            </a:avLst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6359400" y="2666880"/>
                <a:ext cx="6858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6324480" y="4800600"/>
                <a:ext cx="7574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6512040" y="3352680"/>
            <a:ext cx="304560" cy="1295640"/>
          </a:xfrm>
          <a:prstGeom prst="downArrow">
            <a:avLst>
              <a:gd name="adj1" fmla="val 50000"/>
              <a:gd name="adj2" fmla="val 106353"/>
            </a:avLst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428280" y="3962520"/>
            <a:ext cx="2590920" cy="1218960"/>
          </a:xfrm>
          <a:custGeom>
            <a:avLst/>
            <a:gdLst>
              <a:gd name="textAreaLeft" fmla="*/ 438480 w 2590920"/>
              <a:gd name="textAreaRight" fmla="*/ 2203560 w 2590920"/>
              <a:gd name="textAreaTop" fmla="*/ 899280 h 1218960"/>
              <a:gd name="textAreaBottom" fmla="*/ 1036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9165"/>
                </a:moveTo>
                <a:lnTo>
                  <a:pt x="15935" y="19165"/>
                </a:lnTo>
                <a:lnTo>
                  <a:pt x="15935" y="3656"/>
                </a:lnTo>
                <a:lnTo>
                  <a:pt x="12705" y="3656"/>
                </a:lnTo>
                <a:lnTo>
                  <a:pt x="17153" y="0"/>
                </a:lnTo>
                <a:lnTo>
                  <a:pt x="21600" y="3656"/>
                </a:lnTo>
                <a:lnTo>
                  <a:pt x="18370" y="3656"/>
                </a:lnTo>
                <a:lnTo>
                  <a:pt x="1837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59320" y="30891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49520" y="240336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16720" y="45370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17680" y="36226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62520" y="1981080"/>
            <a:ext cx="21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ney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3440" y="201924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oods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83040" y="514656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03480" y="5746680"/>
            <a:ext cx="877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n-GB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32000" y="58420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37200" y="5781600"/>
            <a:ext cx="842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30760" y="58770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94600" y="5807160"/>
            <a:ext cx="18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6640" y="4302000"/>
            <a:ext cx="28407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f L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or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=0,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echanism f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438800" y="3657600"/>
                <a:ext cx="4381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699160" y="3657600"/>
                <a:ext cx="3967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678640" y="4495680"/>
                <a:ext cx="4381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4952880" y="37339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91320" y="403848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Times New Roman"/>
              </a:rPr>
              <a:t>The Monetary Policy Multipli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828800"/>
            <a:ext cx="7848720" cy="914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ffect on Y when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hanges and the interest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allowed to adjust to its equilibrium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06280" y="3944880"/>
                <a:ext cx="868356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sSub>
                          <m:e>
                            <m:r>
                              <m:t xml:space="preserve">Δ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5105520" y="3886200"/>
            <a:ext cx="9144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71800" y="3317760"/>
            <a:ext cx="42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transmission mechanis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40880" y="533412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imple multip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64360" y="5715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696080" y="4952520"/>
            <a:ext cx="30492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6200000">
            <a:off x="5257800" y="3733200"/>
            <a:ext cx="228600" cy="3124440"/>
          </a:xfrm>
          <a:custGeom>
            <a:avLst/>
            <a:gdLst>
              <a:gd name="textAreaLeft" fmla="*/ 146160 w 228600"/>
              <a:gd name="textAreaRight" fmla="*/ 228960 w 228600"/>
              <a:gd name="textAreaTop" fmla="*/ 81360 h 3124440"/>
              <a:gd name="textAreaBottom" fmla="*/ 3043080 h 312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Active Monetary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n expansion of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en-GB" sz="3200" spc="-1" strike="noStrike" baseline="-25000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can effectively stimulate the level of activity and employment if the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Keynesian Transmission Mechanism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effecti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al money demand is 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insensitiv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to 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vestment demand is 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sensitiv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to 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Cave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IS-LM models shows that monetary policy is non-neutral in a closed economy </a:t>
            </a:r>
            <a:r>
              <a:rPr b="1" i="1" lang="en-GB" sz="2800" spc="-1" strike="noStrike">
                <a:solidFill>
                  <a:srgbClr val="ff3300"/>
                </a:solidFill>
                <a:latin typeface="Times New Roman"/>
              </a:rPr>
              <a:t>if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price level can be taken as fixed and the Keynesian transmission mechanism wor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transmission mechanism may not work, e.g., if the interest rate is very close to zero (liquidity trap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price level is unlikely to stay constant in response to a large and sustained expansion of M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nd so inflation will eventually reduce the potency of monet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netary rules versus active monetary poli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14:14:00Z</dcterms:created>
  <dc:creator>User 2G</dc:creator>
  <dc:description/>
  <dc:language>en-US</dc:language>
  <cp:lastModifiedBy>tsa23</cp:lastModifiedBy>
  <dcterms:modified xsi:type="dcterms:W3CDTF">2008-02-08T08:32:55Z</dcterms:modified>
  <cp:revision>30</cp:revision>
  <dc:subject/>
  <dc:title>Macroeconomics</dc:title>
</cp:coreProperties>
</file>