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8267760" y="6324480"/>
            <a:ext cx="700200" cy="451800"/>
          </a:xfrm>
          <a:prstGeom prst="rect">
            <a:avLst/>
          </a:prstGeom>
          <a:noFill/>
          <a:ln w="0">
            <a:noFill/>
          </a:ln>
        </p:spPr>
        <p:txBody>
          <a:bodyPr lIns="0" rIns="0" tIns="0" bIns="0" anchor="t">
            <a:noAutofit/>
          </a:bodyPr>
          <a:p>
            <a:pPr>
              <a:lnSpc>
                <a:spcPct val="100000"/>
              </a:lnSpc>
            </a:pPr>
            <a:r>
              <a:rPr b="0" lang="en-US" sz="1600" spc="-1" strike="noStrike">
                <a:solidFill>
                  <a:srgbClr val="fcffd8"/>
                </a:solidFill>
                <a:latin typeface="Arial"/>
                <a:ea typeface="Arial"/>
              </a:rPr>
              <a:t>10-</a:t>
            </a:r>
            <a:fld id="{2933FC09-EC8B-4FDF-8BCB-E06732883909}" type="slidenum">
              <a:rPr b="0" lang="en-US" sz="1600" spc="-1" strike="noStrike">
                <a:solidFill>
                  <a:srgbClr val="fcffd8"/>
                </a:solidFill>
                <a:latin typeface="Arial"/>
                <a:ea typeface="Arial"/>
              </a:rPr>
              <a:t>&lt;number&gt;</a:t>
            </a:fld>
            <a:endParaRPr b="0" lang="en-US" sz="1600" spc="-1" strike="noStrike">
              <a:solidFill>
                <a:srgbClr val="000000"/>
              </a:solidFill>
              <a:latin typeface="Arial"/>
            </a:endParaRPr>
          </a:p>
        </p:txBody>
      </p:sp>
      <p:sp>
        <p:nvSpPr>
          <p:cNvPr id="1" name=""/>
          <p:cNvSpPr txBox="1"/>
          <p:nvPr/>
        </p:nvSpPr>
        <p:spPr>
          <a:xfrm>
            <a:off x="3276720" y="6629400"/>
            <a:ext cx="2895480" cy="256680"/>
          </a:xfrm>
          <a:prstGeom prst="rect">
            <a:avLst/>
          </a:prstGeom>
          <a:noFill/>
          <a:ln w="0">
            <a:noFill/>
          </a:ln>
        </p:spPr>
        <p:txBody>
          <a:bodyPr lIns="0" rIns="0" tIns="0" bIns="0" anchor="t">
            <a:noAutofit/>
          </a:bodyPr>
          <a:p>
            <a:pPr algn="ctr">
              <a:lnSpc>
                <a:spcPct val="100000"/>
              </a:lnSpc>
            </a:pPr>
            <a:r>
              <a:rPr b="0" lang="en-US" sz="900" spc="-1" strike="noStrike">
                <a:solidFill>
                  <a:srgbClr val="ffcc66"/>
                </a:solidFill>
                <a:latin typeface="Arial"/>
                <a:ea typeface="Arial"/>
              </a:rPr>
              <a:t>Copyright</a:t>
            </a:r>
            <a:r>
              <a:rPr b="0" lang="en-US" sz="900" spc="-1" strike="noStrike">
                <a:solidFill>
                  <a:srgbClr val="ffcc66"/>
                </a:solidFill>
                <a:latin typeface="Symbol"/>
                <a:ea typeface="Symbol"/>
              </a:rPr>
              <a:t> ©</a:t>
            </a:r>
            <a:r>
              <a:rPr b="0" lang="en-US" sz="900" spc="-1" strike="noStrike">
                <a:solidFill>
                  <a:srgbClr val="ffcc66"/>
                </a:solidFill>
                <a:latin typeface="Arial"/>
                <a:ea typeface="Arial"/>
              </a:rPr>
              <a:t> Houghton Mifflin Company.  All rights reserved.</a:t>
            </a:r>
            <a:endParaRPr b="0" lang="en-US" sz="900" spc="-1" strike="noStrike">
              <a:solidFill>
                <a:srgbClr val="000000"/>
              </a:solidFill>
              <a:latin typeface="Arial"/>
            </a:endParaRPr>
          </a:p>
        </p:txBody>
      </p:sp>
      <p:sp>
        <p:nvSpPr>
          <p:cNvPr id="2" name=""/>
          <p:cNvSpPr/>
          <p:nvPr/>
        </p:nvSpPr>
        <p:spPr>
          <a:xfrm>
            <a:off x="374760" y="146160"/>
            <a:ext cx="8623440" cy="6489720"/>
          </a:xfrm>
          <a:prstGeom prst="rect">
            <a:avLst/>
          </a:prstGeom>
          <a:noFill/>
          <a:ln w="12600">
            <a:solidFill>
              <a:srgbClr val="333399"/>
            </a:solidFill>
            <a:round/>
          </a:ln>
        </p:spPr>
        <p:txBody>
          <a:bodyPr lIns="96120" rIns="96120" tIns="51120" bIns="51120" anchor="t">
            <a:noAutofit/>
          </a:bodyPr>
          <a:p>
            <a:endParaRPr b="0" lang="en-US" sz="1800" spc="-1" strike="noStrike">
              <a:solidFill>
                <a:srgbClr val="000000"/>
              </a:solidFill>
              <a:latin typeface="Arial"/>
            </a:endParaRPr>
          </a:p>
        </p:txBody>
      </p:sp>
      <p:sp>
        <p:nvSpPr>
          <p:cNvPr id="3" name=""/>
          <p:cNvSpPr/>
          <p:nvPr/>
        </p:nvSpPr>
        <p:spPr>
          <a:xfrm>
            <a:off x="-6480" y="-6480"/>
            <a:ext cx="622440" cy="6870600"/>
          </a:xfrm>
          <a:prstGeom prst="rect">
            <a:avLst/>
          </a:prstGeom>
          <a:blipFill rotWithShape="0">
            <a:blip r:embed="rId2"/>
            <a:tile tx="0" ty="0" sx="133018" sy="133018" algn="ctr"/>
          </a:blipFill>
          <a:ln w="12600">
            <a:solidFill>
              <a:srgbClr val="333399"/>
            </a:solidFill>
            <a:round/>
          </a:ln>
        </p:spPr>
        <p:txBody>
          <a:bodyPr lIns="96120" rIns="96120" tIns="51120" bIns="51120" anchor="t">
            <a:noAutofit/>
          </a:bodyPr>
          <a:p>
            <a:endParaRPr b="0" lang="en-US" sz="18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2" name=""/>
          <p:cNvSpPr txBox="1"/>
          <p:nvPr/>
        </p:nvSpPr>
        <p:spPr>
          <a:xfrm>
            <a:off x="990720" y="304920"/>
            <a:ext cx="7696080" cy="1905120"/>
          </a:xfrm>
          <a:prstGeom prst="rect">
            <a:avLst/>
          </a:prstGeom>
          <a:noFill/>
          <a:ln w="0">
            <a:noFill/>
          </a:ln>
        </p:spPr>
        <p:txBody>
          <a:bodyPr lIns="0" rIns="0" tIns="0" bIns="0" anchor="t">
            <a:noAutofit/>
          </a:bodyPr>
          <a:p>
            <a:pPr algn="ctr">
              <a:lnSpc>
                <a:spcPct val="110000"/>
              </a:lnSpc>
            </a:pPr>
            <a:r>
              <a:rPr b="1" lang="en-US" sz="4400" spc="-1" strike="noStrike">
                <a:solidFill>
                  <a:srgbClr val="ffcc66"/>
                </a:solidFill>
                <a:latin typeface="Arial"/>
                <a:ea typeface="Arial"/>
              </a:rPr>
              <a:t>Chapter 10</a:t>
            </a:r>
            <a:br>
              <a:rPr sz="4400"/>
            </a:br>
            <a:r>
              <a:rPr b="1" lang="en-US" sz="4400" spc="-1" strike="noStrike">
                <a:solidFill>
                  <a:srgbClr val="ffcc66"/>
                </a:solidFill>
                <a:latin typeface="Arial"/>
                <a:ea typeface="Arial"/>
              </a:rPr>
              <a:t>Inventories</a:t>
            </a:r>
            <a:endParaRPr b="0" lang="en-US" sz="4400" spc="-1" strike="noStrike">
              <a:solidFill>
                <a:srgbClr val="ffffff"/>
              </a:solidFill>
              <a:latin typeface="Arial"/>
            </a:endParaRPr>
          </a:p>
        </p:txBody>
      </p:sp>
      <p:pic>
        <p:nvPicPr>
          <p:cNvPr id="43" name="" descr=""/>
          <p:cNvPicPr/>
          <p:nvPr/>
        </p:nvPicPr>
        <p:blipFill>
          <a:blip r:embed="rId1"/>
          <a:stretch/>
        </p:blipFill>
        <p:spPr>
          <a:xfrm>
            <a:off x="5029200" y="3200400"/>
            <a:ext cx="3886200" cy="2967120"/>
          </a:xfrm>
          <a:prstGeom prst="rect">
            <a:avLst/>
          </a:prstGeom>
          <a:ln w="0">
            <a:noFill/>
          </a:ln>
        </p:spPr>
      </p:pic>
      <p:sp>
        <p:nvSpPr>
          <p:cNvPr id="44" name=""/>
          <p:cNvSpPr txBox="1"/>
          <p:nvPr/>
        </p:nvSpPr>
        <p:spPr>
          <a:xfrm>
            <a:off x="838080" y="2514600"/>
            <a:ext cx="4267080" cy="3886200"/>
          </a:xfrm>
          <a:prstGeom prst="rect">
            <a:avLst/>
          </a:prstGeom>
          <a:noFill/>
          <a:ln w="0">
            <a:noFill/>
          </a:ln>
        </p:spPr>
        <p:txBody>
          <a:bodyPr lIns="0" rIns="0" tIns="0" bIns="0" anchor="t">
            <a:noAutofit/>
          </a:bodyPr>
          <a:p>
            <a:pPr marL="343080" indent="-343080" algn="ctr">
              <a:lnSpc>
                <a:spcPct val="100000"/>
              </a:lnSpc>
              <a:spcBef>
                <a:spcPts val="360"/>
              </a:spcBef>
            </a:pPr>
            <a:r>
              <a:rPr b="1" lang="en-US" sz="2400" spc="-1" strike="noStrike">
                <a:solidFill>
                  <a:srgbClr val="fc0128"/>
                </a:solidFill>
                <a:latin typeface="Arial"/>
                <a:ea typeface="Arial"/>
              </a:rPr>
              <a:t>Belverd E. Needles, Jr.</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Marian Powers</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Sherry K. Mills</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Henry R. Anderson</a:t>
            </a:r>
            <a:endParaRPr b="0" lang="en-US" sz="2400" spc="-1" strike="noStrike">
              <a:solidFill>
                <a:srgbClr val="ffffff"/>
              </a:solidFill>
              <a:latin typeface="Arial"/>
            </a:endParaRPr>
          </a:p>
          <a:p>
            <a:pPr marL="343080" indent="-343080" algn="ctr">
              <a:lnSpc>
                <a:spcPct val="100000"/>
              </a:lnSpc>
              <a:spcBef>
                <a:spcPts val="479"/>
              </a:spcBef>
            </a:pPr>
            <a:r>
              <a:rPr b="1" lang="en-US" sz="2000" spc="-1" strike="noStrike">
                <a:solidFill>
                  <a:srgbClr val="bc3700"/>
                </a:solidFill>
                <a:latin typeface="Arial"/>
                <a:ea typeface="Arial"/>
              </a:rPr>
              <a:t>- - - - - - - - - - -</a:t>
            </a:r>
            <a:endParaRPr b="0" lang="en-US" sz="20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Multimedia Slides by:</a:t>
            </a:r>
            <a:endParaRPr b="0" lang="en-US" sz="20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Dr. Paul J. Robertson</a:t>
            </a:r>
            <a:endParaRPr b="0" lang="en-US" sz="2000" spc="-1" strike="noStrike">
              <a:solidFill>
                <a:srgbClr val="ffffff"/>
              </a:solidFill>
              <a:latin typeface="Arial"/>
            </a:endParaRPr>
          </a:p>
          <a:p>
            <a:pPr marL="343080" indent="-343080" algn="ctr">
              <a:lnSpc>
                <a:spcPct val="100000"/>
              </a:lnSpc>
              <a:spcBef>
                <a:spcPts val="479"/>
              </a:spcBef>
            </a:pPr>
            <a:r>
              <a:rPr b="1" lang="en-US" sz="1800" spc="-1" strike="noStrike">
                <a:solidFill>
                  <a:srgbClr val="fcffd8"/>
                </a:solidFill>
                <a:latin typeface="Arial"/>
                <a:ea typeface="Arial"/>
              </a:rPr>
              <a:t>New Mexico State University</a:t>
            </a:r>
            <a:endParaRPr b="0" lang="en-US" sz="18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Steve Leask</a:t>
            </a:r>
            <a:endParaRPr b="0" lang="en-US" sz="2000" spc="-1" strike="noStrike">
              <a:solidFill>
                <a:srgbClr val="ffffff"/>
              </a:solidFill>
              <a:latin typeface="Arial"/>
            </a:endParaRPr>
          </a:p>
          <a:p>
            <a:pPr marL="343080" indent="-343080" algn="ctr">
              <a:lnSpc>
                <a:spcPct val="100000"/>
              </a:lnSpc>
              <a:spcBef>
                <a:spcPts val="479"/>
              </a:spcBef>
            </a:pPr>
            <a:r>
              <a:rPr b="1" lang="en-US" sz="1800" spc="-1" strike="noStrike">
                <a:solidFill>
                  <a:srgbClr val="fcffd8"/>
                </a:solidFill>
                <a:latin typeface="Arial"/>
                <a:ea typeface="Arial"/>
              </a:rPr>
              <a:t>New Mexico State Univer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4" name=""/>
          <p:cNvSpPr txBox="1"/>
          <p:nvPr/>
        </p:nvSpPr>
        <p:spPr>
          <a:xfrm>
            <a:off x="914400" y="1600200"/>
            <a:ext cx="8001000" cy="365760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Manufacturing entities</a:t>
            </a:r>
            <a:r>
              <a:rPr b="1" i="1" lang="en-US" sz="3200" spc="-1" strike="noStrike">
                <a:solidFill>
                  <a:srgbClr val="618ffd"/>
                </a:solidFill>
                <a:latin typeface="Arial"/>
                <a:ea typeface="Arial"/>
              </a:rPr>
              <a:t> </a:t>
            </a:r>
            <a:r>
              <a:rPr b="1" lang="en-US" sz="3200" spc="-1" strike="noStrike">
                <a:solidFill>
                  <a:srgbClr val="fcffd8"/>
                </a:solidFill>
                <a:latin typeface="Arial"/>
                <a:ea typeface="Arial"/>
              </a:rPr>
              <a:t>maintain other types of inventories.</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Raw Materials.</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Work in Process. </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Finished Goods.</a:t>
            </a:r>
            <a:endParaRPr b="0" lang="en-US" sz="3200" spc="-1" strike="noStrike">
              <a:solidFill>
                <a:srgbClr val="ffffff"/>
              </a:solidFill>
              <a:latin typeface="Arial"/>
            </a:endParaRPr>
          </a:p>
        </p:txBody>
      </p:sp>
      <p:sp>
        <p:nvSpPr>
          <p:cNvPr id="65" name=""/>
          <p:cNvSpPr txBox="1"/>
          <p:nvPr/>
        </p:nvSpPr>
        <p:spPr>
          <a:xfrm>
            <a:off x="1143000" y="533520"/>
            <a:ext cx="7391520" cy="10666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for Inventori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6" name=""/>
          <p:cNvSpPr txBox="1"/>
          <p:nvPr/>
        </p:nvSpPr>
        <p:spPr>
          <a:xfrm>
            <a:off x="747720" y="228600"/>
            <a:ext cx="8167680" cy="453960"/>
          </a:xfrm>
          <a:prstGeom prst="rect">
            <a:avLst/>
          </a:prstGeom>
          <a:noFill/>
          <a:ln w="0">
            <a:noFill/>
          </a:ln>
        </p:spPr>
        <p:txBody>
          <a:bodyPr lIns="0" rIns="0" tIns="0" bIns="0" anchor="t">
            <a:noAutofit/>
          </a:bodyPr>
          <a:p>
            <a:pPr algn="ctr">
              <a:lnSpc>
                <a:spcPct val="100000"/>
              </a:lnSpc>
            </a:pPr>
            <a:r>
              <a:rPr b="1" lang="en-US" sz="2400" spc="-1" strike="noStrike">
                <a:solidFill>
                  <a:srgbClr val="ffcc66"/>
                </a:solidFill>
                <a:latin typeface="Arial"/>
                <a:ea typeface="Arial"/>
              </a:rPr>
              <a:t>Management Choices in Accounting for Inventories</a:t>
            </a:r>
            <a:endParaRPr b="0" lang="en-US" sz="2400" spc="-1" strike="noStrike">
              <a:solidFill>
                <a:srgbClr val="ffffff"/>
              </a:solidFill>
              <a:latin typeface="Arial"/>
            </a:endParaRPr>
          </a:p>
        </p:txBody>
      </p:sp>
      <p:grpSp>
        <p:nvGrpSpPr>
          <p:cNvPr id="67" name=""/>
          <p:cNvGrpSpPr/>
          <p:nvPr/>
        </p:nvGrpSpPr>
        <p:grpSpPr>
          <a:xfrm>
            <a:off x="685800" y="679320"/>
            <a:ext cx="8235720" cy="5575320"/>
            <a:chOff x="685800" y="679320"/>
            <a:chExt cx="8235720" cy="5575320"/>
          </a:xfrm>
        </p:grpSpPr>
        <p:sp>
          <p:nvSpPr>
            <p:cNvPr id="68" name=""/>
            <p:cNvSpPr/>
            <p:nvPr/>
          </p:nvSpPr>
          <p:spPr>
            <a:xfrm>
              <a:off x="717480" y="679320"/>
              <a:ext cx="8204040" cy="55753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685800" y="882720"/>
              <a:ext cx="189000" cy="2318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0" name=""/>
            <p:cNvSpPr txBox="1"/>
            <p:nvPr/>
          </p:nvSpPr>
          <p:spPr>
            <a:xfrm>
              <a:off x="4367160" y="5102280"/>
              <a:ext cx="106200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determines</a:t>
              </a:r>
              <a:endParaRPr b="0" lang="en-US" sz="1300" spc="-1" strike="noStrike">
                <a:solidFill>
                  <a:srgbClr val="ffffff"/>
                </a:solidFill>
                <a:latin typeface="Arial"/>
              </a:endParaRPr>
            </a:p>
          </p:txBody>
        </p:sp>
        <p:sp>
          <p:nvSpPr>
            <p:cNvPr id="71" name=""/>
            <p:cNvSpPr txBox="1"/>
            <p:nvPr/>
          </p:nvSpPr>
          <p:spPr>
            <a:xfrm>
              <a:off x="4697280" y="4122720"/>
              <a:ext cx="33660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to</a:t>
              </a:r>
              <a:endParaRPr b="0" lang="en-US" sz="1300" spc="-1" strike="noStrike">
                <a:solidFill>
                  <a:srgbClr val="ffffff"/>
                </a:solidFill>
                <a:latin typeface="Arial"/>
              </a:endParaRPr>
            </a:p>
          </p:txBody>
        </p:sp>
        <p:sp>
          <p:nvSpPr>
            <p:cNvPr id="72" name=""/>
            <p:cNvSpPr/>
            <p:nvPr/>
          </p:nvSpPr>
          <p:spPr>
            <a:xfrm>
              <a:off x="4856040" y="3200400"/>
              <a:ext cx="0" cy="26676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3" name=""/>
            <p:cNvSpPr/>
            <p:nvPr/>
          </p:nvSpPr>
          <p:spPr>
            <a:xfrm>
              <a:off x="4786200" y="3456000"/>
              <a:ext cx="119520" cy="136800"/>
            </a:xfrm>
            <a:custGeom>
              <a:avLst/>
              <a:gdLst/>
              <a:ahLst/>
              <a:rect l="0" t="0" r="r" b="b"/>
              <a:pathLst>
                <a:path w="332" h="380">
                  <a:moveTo>
                    <a:pt x="168" y="39"/>
                  </a:moveTo>
                  <a:lnTo>
                    <a:pt x="146" y="35"/>
                  </a:lnTo>
                  <a:lnTo>
                    <a:pt x="111" y="35"/>
                  </a:lnTo>
                  <a:lnTo>
                    <a:pt x="102" y="35"/>
                  </a:lnTo>
                  <a:lnTo>
                    <a:pt x="79" y="30"/>
                  </a:lnTo>
                  <a:lnTo>
                    <a:pt x="61" y="30"/>
                  </a:lnTo>
                  <a:lnTo>
                    <a:pt x="48" y="26"/>
                  </a:lnTo>
                  <a:lnTo>
                    <a:pt x="35" y="26"/>
                  </a:lnTo>
                  <a:lnTo>
                    <a:pt x="30" y="22"/>
                  </a:lnTo>
                  <a:lnTo>
                    <a:pt x="22" y="17"/>
                  </a:lnTo>
                  <a:lnTo>
                    <a:pt x="17" y="8"/>
                  </a:lnTo>
                  <a:lnTo>
                    <a:pt x="8" y="8"/>
                  </a:lnTo>
                  <a:lnTo>
                    <a:pt x="8" y="4"/>
                  </a:lnTo>
                  <a:lnTo>
                    <a:pt x="8" y="0"/>
                  </a:lnTo>
                  <a:lnTo>
                    <a:pt x="0" y="0"/>
                  </a:lnTo>
                  <a:lnTo>
                    <a:pt x="168" y="380"/>
                  </a:lnTo>
                  <a:lnTo>
                    <a:pt x="332" y="0"/>
                  </a:lnTo>
                  <a:lnTo>
                    <a:pt x="323" y="0"/>
                  </a:lnTo>
                  <a:lnTo>
                    <a:pt x="323" y="4"/>
                  </a:lnTo>
                  <a:lnTo>
                    <a:pt x="315" y="8"/>
                  </a:lnTo>
                  <a:lnTo>
                    <a:pt x="310" y="8"/>
                  </a:lnTo>
                  <a:lnTo>
                    <a:pt x="310" y="17"/>
                  </a:lnTo>
                  <a:lnTo>
                    <a:pt x="301" y="22"/>
                  </a:lnTo>
                  <a:lnTo>
                    <a:pt x="293" y="26"/>
                  </a:lnTo>
                  <a:lnTo>
                    <a:pt x="275" y="26"/>
                  </a:lnTo>
                  <a:lnTo>
                    <a:pt x="270" y="30"/>
                  </a:lnTo>
                  <a:lnTo>
                    <a:pt x="247" y="30"/>
                  </a:lnTo>
                  <a:lnTo>
                    <a:pt x="234" y="35"/>
                  </a:lnTo>
                  <a:lnTo>
                    <a:pt x="212" y="35"/>
                  </a:lnTo>
                  <a:lnTo>
                    <a:pt x="190" y="35"/>
                  </a:lnTo>
                  <a:lnTo>
                    <a:pt x="168" y="39"/>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 name=""/>
            <p:cNvSpPr/>
            <p:nvPr/>
          </p:nvSpPr>
          <p:spPr>
            <a:xfrm>
              <a:off x="4856040" y="4067280"/>
              <a:ext cx="0" cy="71280"/>
            </a:xfrm>
            <a:prstGeom prst="line">
              <a:avLst/>
            </a:prstGeom>
            <a:ln w="25560">
              <a:solidFill>
                <a:srgbClr val="ff0000"/>
              </a:solidFill>
              <a:round/>
            </a:ln>
          </p:spPr>
          <p:style>
            <a:lnRef idx="0"/>
            <a:fillRef idx="0"/>
            <a:effectRef idx="0"/>
            <a:fontRef idx="minor"/>
          </p:style>
          <p:txBody>
            <a:bodyPr lIns="102600" rIns="102600" tIns="13680" bIns="13680" anchor="t">
              <a:noAutofit/>
            </a:bodyPr>
            <a:p>
              <a:endParaRPr b="0" lang="en-US" sz="1800" spc="-1" strike="noStrike">
                <a:solidFill>
                  <a:srgbClr val="ffffff"/>
                </a:solidFill>
                <a:latin typeface="Arial"/>
              </a:endParaRPr>
            </a:p>
          </p:txBody>
        </p:sp>
        <p:sp>
          <p:nvSpPr>
            <p:cNvPr id="75" name=""/>
            <p:cNvSpPr/>
            <p:nvPr/>
          </p:nvSpPr>
          <p:spPr>
            <a:xfrm>
              <a:off x="4856040" y="4387680"/>
              <a:ext cx="0" cy="39960"/>
            </a:xfrm>
            <a:prstGeom prst="line">
              <a:avLst/>
            </a:prstGeom>
            <a:ln w="25560">
              <a:solidFill>
                <a:srgbClr val="ff0000"/>
              </a:solidFill>
              <a:round/>
            </a:ln>
          </p:spPr>
          <p:style>
            <a:lnRef idx="0"/>
            <a:fillRef idx="0"/>
            <a:effectRef idx="0"/>
            <a:fontRef idx="minor"/>
          </p:style>
          <p:txBody>
            <a:bodyPr lIns="102600" rIns="102600" tIns="-17640" bIns="-17640" anchor="t">
              <a:noAutofit/>
            </a:bodyPr>
            <a:p>
              <a:endParaRPr b="0" lang="en-US" sz="1800" spc="-1" strike="noStrike">
                <a:solidFill>
                  <a:srgbClr val="ffffff"/>
                </a:solidFill>
                <a:latin typeface="Arial"/>
              </a:endParaRPr>
            </a:p>
          </p:txBody>
        </p:sp>
        <p:sp>
          <p:nvSpPr>
            <p:cNvPr id="76" name=""/>
            <p:cNvSpPr/>
            <p:nvPr/>
          </p:nvSpPr>
          <p:spPr>
            <a:xfrm>
              <a:off x="4786200" y="4414680"/>
              <a:ext cx="119520" cy="141480"/>
            </a:xfrm>
            <a:custGeom>
              <a:avLst/>
              <a:gdLst/>
              <a:ahLst/>
              <a:rect l="0" t="0" r="r" b="b"/>
              <a:pathLst>
                <a:path w="332" h="393">
                  <a:moveTo>
                    <a:pt x="168" y="44"/>
                  </a:moveTo>
                  <a:lnTo>
                    <a:pt x="146" y="44"/>
                  </a:lnTo>
                  <a:lnTo>
                    <a:pt x="111" y="44"/>
                  </a:lnTo>
                  <a:lnTo>
                    <a:pt x="102" y="35"/>
                  </a:lnTo>
                  <a:lnTo>
                    <a:pt x="79" y="35"/>
                  </a:lnTo>
                  <a:lnTo>
                    <a:pt x="61" y="35"/>
                  </a:lnTo>
                  <a:lnTo>
                    <a:pt x="48" y="26"/>
                  </a:lnTo>
                  <a:lnTo>
                    <a:pt x="35" y="26"/>
                  </a:lnTo>
                  <a:lnTo>
                    <a:pt x="30" y="22"/>
                  </a:lnTo>
                  <a:lnTo>
                    <a:pt x="22" y="22"/>
                  </a:lnTo>
                  <a:lnTo>
                    <a:pt x="17" y="13"/>
                  </a:lnTo>
                  <a:lnTo>
                    <a:pt x="8" y="13"/>
                  </a:lnTo>
                  <a:lnTo>
                    <a:pt x="8" y="8"/>
                  </a:lnTo>
                  <a:lnTo>
                    <a:pt x="0" y="0"/>
                  </a:lnTo>
                  <a:lnTo>
                    <a:pt x="168" y="393"/>
                  </a:lnTo>
                  <a:lnTo>
                    <a:pt x="332" y="0"/>
                  </a:lnTo>
                  <a:lnTo>
                    <a:pt x="323" y="0"/>
                  </a:lnTo>
                  <a:lnTo>
                    <a:pt x="323" y="8"/>
                  </a:lnTo>
                  <a:lnTo>
                    <a:pt x="315" y="13"/>
                  </a:lnTo>
                  <a:lnTo>
                    <a:pt x="310" y="13"/>
                  </a:lnTo>
                  <a:lnTo>
                    <a:pt x="310" y="22"/>
                  </a:lnTo>
                  <a:lnTo>
                    <a:pt x="301" y="22"/>
                  </a:lnTo>
                  <a:lnTo>
                    <a:pt x="293" y="26"/>
                  </a:lnTo>
                  <a:lnTo>
                    <a:pt x="275" y="26"/>
                  </a:lnTo>
                  <a:lnTo>
                    <a:pt x="270" y="35"/>
                  </a:lnTo>
                  <a:lnTo>
                    <a:pt x="247" y="35"/>
                  </a:lnTo>
                  <a:lnTo>
                    <a:pt x="234" y="35"/>
                  </a:lnTo>
                  <a:lnTo>
                    <a:pt x="212" y="44"/>
                  </a:lnTo>
                  <a:lnTo>
                    <a:pt x="190" y="44"/>
                  </a:lnTo>
                  <a:lnTo>
                    <a:pt x="168" y="44"/>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 name=""/>
            <p:cNvSpPr/>
            <p:nvPr/>
          </p:nvSpPr>
          <p:spPr>
            <a:xfrm>
              <a:off x="4856040" y="5032440"/>
              <a:ext cx="0" cy="77760"/>
            </a:xfrm>
            <a:prstGeom prst="line">
              <a:avLst/>
            </a:prstGeom>
            <a:ln w="25560">
              <a:solidFill>
                <a:srgbClr val="ff0000"/>
              </a:solidFill>
              <a:round/>
            </a:ln>
          </p:spPr>
          <p:style>
            <a:lnRef idx="0"/>
            <a:fillRef idx="0"/>
            <a:effectRef idx="0"/>
            <a:fontRef idx="minor"/>
          </p:style>
          <p:txBody>
            <a:bodyPr lIns="102600" rIns="102600" tIns="20160" bIns="20160" anchor="t">
              <a:noAutofit/>
            </a:bodyPr>
            <a:p>
              <a:endParaRPr b="0" lang="en-US" sz="1800" spc="-1" strike="noStrike">
                <a:solidFill>
                  <a:srgbClr val="ffffff"/>
                </a:solidFill>
                <a:latin typeface="Arial"/>
              </a:endParaRPr>
            </a:p>
          </p:txBody>
        </p:sp>
        <p:sp>
          <p:nvSpPr>
            <p:cNvPr id="78" name=""/>
            <p:cNvSpPr/>
            <p:nvPr/>
          </p:nvSpPr>
          <p:spPr>
            <a:xfrm>
              <a:off x="4856040" y="5354640"/>
              <a:ext cx="0" cy="39600"/>
            </a:xfrm>
            <a:prstGeom prst="line">
              <a:avLst/>
            </a:prstGeom>
            <a:ln w="25560">
              <a:solidFill>
                <a:srgbClr val="ff0000"/>
              </a:solidFill>
              <a:round/>
            </a:ln>
          </p:spPr>
          <p:style>
            <a:lnRef idx="0"/>
            <a:fillRef idx="0"/>
            <a:effectRef idx="0"/>
            <a:fontRef idx="minor"/>
          </p:style>
          <p:txBody>
            <a:bodyPr lIns="102600" rIns="102600" tIns="-18000" bIns="-18000" anchor="t">
              <a:noAutofit/>
            </a:bodyPr>
            <a:p>
              <a:endParaRPr b="0" lang="en-US" sz="1800" spc="-1" strike="noStrike">
                <a:solidFill>
                  <a:srgbClr val="ffffff"/>
                </a:solidFill>
                <a:latin typeface="Arial"/>
              </a:endParaRPr>
            </a:p>
          </p:txBody>
        </p:sp>
        <p:sp>
          <p:nvSpPr>
            <p:cNvPr id="79" name=""/>
            <p:cNvSpPr/>
            <p:nvPr/>
          </p:nvSpPr>
          <p:spPr>
            <a:xfrm>
              <a:off x="4786200" y="5381640"/>
              <a:ext cx="119520" cy="140040"/>
            </a:xfrm>
            <a:custGeom>
              <a:avLst/>
              <a:gdLst/>
              <a:ahLst/>
              <a:rect l="0" t="0" r="r" b="b"/>
              <a:pathLst>
                <a:path w="332" h="389">
                  <a:moveTo>
                    <a:pt x="168" y="39"/>
                  </a:moveTo>
                  <a:lnTo>
                    <a:pt x="146" y="39"/>
                  </a:lnTo>
                  <a:lnTo>
                    <a:pt x="111" y="39"/>
                  </a:lnTo>
                  <a:lnTo>
                    <a:pt x="102" y="35"/>
                  </a:lnTo>
                  <a:lnTo>
                    <a:pt x="79" y="35"/>
                  </a:lnTo>
                  <a:lnTo>
                    <a:pt x="61" y="30"/>
                  </a:lnTo>
                  <a:lnTo>
                    <a:pt x="48" y="30"/>
                  </a:lnTo>
                  <a:lnTo>
                    <a:pt x="35" y="26"/>
                  </a:lnTo>
                  <a:lnTo>
                    <a:pt x="30" y="17"/>
                  </a:lnTo>
                  <a:lnTo>
                    <a:pt x="22" y="17"/>
                  </a:lnTo>
                  <a:lnTo>
                    <a:pt x="17" y="8"/>
                  </a:lnTo>
                  <a:lnTo>
                    <a:pt x="8" y="8"/>
                  </a:lnTo>
                  <a:lnTo>
                    <a:pt x="8" y="4"/>
                  </a:lnTo>
                  <a:lnTo>
                    <a:pt x="0" y="0"/>
                  </a:lnTo>
                  <a:lnTo>
                    <a:pt x="168" y="389"/>
                  </a:lnTo>
                  <a:lnTo>
                    <a:pt x="332" y="0"/>
                  </a:lnTo>
                  <a:lnTo>
                    <a:pt x="323" y="0"/>
                  </a:lnTo>
                  <a:lnTo>
                    <a:pt x="323" y="4"/>
                  </a:lnTo>
                  <a:lnTo>
                    <a:pt x="315" y="8"/>
                  </a:lnTo>
                  <a:lnTo>
                    <a:pt x="310" y="8"/>
                  </a:lnTo>
                  <a:lnTo>
                    <a:pt x="310" y="17"/>
                  </a:lnTo>
                  <a:lnTo>
                    <a:pt x="301" y="17"/>
                  </a:lnTo>
                  <a:lnTo>
                    <a:pt x="293" y="26"/>
                  </a:lnTo>
                  <a:lnTo>
                    <a:pt x="275" y="30"/>
                  </a:lnTo>
                  <a:lnTo>
                    <a:pt x="270" y="30"/>
                  </a:lnTo>
                  <a:lnTo>
                    <a:pt x="247" y="35"/>
                  </a:lnTo>
                  <a:lnTo>
                    <a:pt x="234" y="35"/>
                  </a:lnTo>
                  <a:lnTo>
                    <a:pt x="212" y="39"/>
                  </a:lnTo>
                  <a:lnTo>
                    <a:pt x="190" y="39"/>
                  </a:lnTo>
                  <a:lnTo>
                    <a:pt x="168" y="39"/>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 name=""/>
            <p:cNvSpPr/>
            <p:nvPr/>
          </p:nvSpPr>
          <p:spPr>
            <a:xfrm>
              <a:off x="6178680" y="3160800"/>
              <a:ext cx="1551240" cy="316440"/>
            </a:xfrm>
            <a:custGeom>
              <a:avLst/>
              <a:gdLst/>
              <a:ahLst/>
              <a:rect l="0" t="0" r="r" b="b"/>
              <a:pathLst>
                <a:path fill="none" w="4309" h="879">
                  <a:moveTo>
                    <a:pt x="4309" y="0"/>
                  </a:moveTo>
                  <a:lnTo>
                    <a:pt x="4309" y="494"/>
                  </a:lnTo>
                  <a:lnTo>
                    <a:pt x="0" y="494"/>
                  </a:lnTo>
                  <a:lnTo>
                    <a:pt x="0" y="879"/>
                  </a:lnTo>
                </a:path>
              </a:pathLst>
            </a:custGeom>
            <a:ln w="25560">
              <a:solidFill>
                <a:srgbClr val="ff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81" name=""/>
            <p:cNvSpPr/>
            <p:nvPr/>
          </p:nvSpPr>
          <p:spPr>
            <a:xfrm>
              <a:off x="6110280" y="3449520"/>
              <a:ext cx="116280" cy="141480"/>
            </a:xfrm>
            <a:custGeom>
              <a:avLst/>
              <a:gdLst/>
              <a:ahLst/>
              <a:rect l="0" t="0" r="r" b="b"/>
              <a:pathLst>
                <a:path w="323" h="393">
                  <a:moveTo>
                    <a:pt x="164" y="44"/>
                  </a:moveTo>
                  <a:lnTo>
                    <a:pt x="137" y="35"/>
                  </a:lnTo>
                  <a:lnTo>
                    <a:pt x="115" y="35"/>
                  </a:lnTo>
                  <a:lnTo>
                    <a:pt x="98" y="35"/>
                  </a:lnTo>
                  <a:lnTo>
                    <a:pt x="70" y="35"/>
                  </a:lnTo>
                  <a:lnTo>
                    <a:pt x="57" y="35"/>
                  </a:lnTo>
                  <a:lnTo>
                    <a:pt x="44" y="26"/>
                  </a:lnTo>
                  <a:lnTo>
                    <a:pt x="39" y="22"/>
                  </a:lnTo>
                  <a:lnTo>
                    <a:pt x="22" y="22"/>
                  </a:lnTo>
                  <a:lnTo>
                    <a:pt x="17" y="17"/>
                  </a:lnTo>
                  <a:lnTo>
                    <a:pt x="17" y="13"/>
                  </a:lnTo>
                  <a:lnTo>
                    <a:pt x="8" y="8"/>
                  </a:lnTo>
                  <a:lnTo>
                    <a:pt x="0" y="8"/>
                  </a:lnTo>
                  <a:lnTo>
                    <a:pt x="0" y="0"/>
                  </a:lnTo>
                  <a:lnTo>
                    <a:pt x="164" y="393"/>
                  </a:lnTo>
                  <a:lnTo>
                    <a:pt x="323" y="0"/>
                  </a:lnTo>
                  <a:lnTo>
                    <a:pt x="323" y="8"/>
                  </a:lnTo>
                  <a:lnTo>
                    <a:pt x="319" y="8"/>
                  </a:lnTo>
                  <a:lnTo>
                    <a:pt x="319" y="13"/>
                  </a:lnTo>
                  <a:lnTo>
                    <a:pt x="301" y="17"/>
                  </a:lnTo>
                  <a:lnTo>
                    <a:pt x="301" y="22"/>
                  </a:lnTo>
                  <a:lnTo>
                    <a:pt x="288" y="22"/>
                  </a:lnTo>
                  <a:lnTo>
                    <a:pt x="284" y="26"/>
                  </a:lnTo>
                  <a:lnTo>
                    <a:pt x="266" y="35"/>
                  </a:lnTo>
                  <a:lnTo>
                    <a:pt x="257" y="35"/>
                  </a:lnTo>
                  <a:lnTo>
                    <a:pt x="230" y="35"/>
                  </a:lnTo>
                  <a:lnTo>
                    <a:pt x="212" y="35"/>
                  </a:lnTo>
                  <a:lnTo>
                    <a:pt x="190" y="35"/>
                  </a:lnTo>
                  <a:lnTo>
                    <a:pt x="164" y="44"/>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 name=""/>
            <p:cNvSpPr/>
            <p:nvPr/>
          </p:nvSpPr>
          <p:spPr>
            <a:xfrm>
              <a:off x="2162160" y="3160800"/>
              <a:ext cx="1321200" cy="316440"/>
            </a:xfrm>
            <a:custGeom>
              <a:avLst/>
              <a:gdLst/>
              <a:ahLst/>
              <a:rect l="0" t="0" r="r" b="b"/>
              <a:pathLst>
                <a:path fill="none" w="3670" h="879">
                  <a:moveTo>
                    <a:pt x="0" y="0"/>
                  </a:moveTo>
                  <a:lnTo>
                    <a:pt x="0" y="494"/>
                  </a:lnTo>
                  <a:lnTo>
                    <a:pt x="3670" y="494"/>
                  </a:lnTo>
                  <a:lnTo>
                    <a:pt x="3670" y="879"/>
                  </a:lnTo>
                </a:path>
              </a:pathLst>
            </a:custGeom>
            <a:ln w="25560">
              <a:solidFill>
                <a:srgbClr val="ff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83" name=""/>
            <p:cNvSpPr/>
            <p:nvPr/>
          </p:nvSpPr>
          <p:spPr>
            <a:xfrm>
              <a:off x="3414600" y="3449520"/>
              <a:ext cx="117720" cy="141480"/>
            </a:xfrm>
            <a:custGeom>
              <a:avLst/>
              <a:gdLst/>
              <a:ahLst/>
              <a:rect l="0" t="0" r="r" b="b"/>
              <a:pathLst>
                <a:path w="327" h="393">
                  <a:moveTo>
                    <a:pt x="164" y="44"/>
                  </a:moveTo>
                  <a:lnTo>
                    <a:pt x="136" y="35"/>
                  </a:lnTo>
                  <a:lnTo>
                    <a:pt x="114" y="35"/>
                  </a:lnTo>
                  <a:lnTo>
                    <a:pt x="92" y="35"/>
                  </a:lnTo>
                  <a:lnTo>
                    <a:pt x="70" y="35"/>
                  </a:lnTo>
                  <a:lnTo>
                    <a:pt x="57" y="35"/>
                  </a:lnTo>
                  <a:lnTo>
                    <a:pt x="39" y="26"/>
                  </a:lnTo>
                  <a:lnTo>
                    <a:pt x="35" y="22"/>
                  </a:lnTo>
                  <a:lnTo>
                    <a:pt x="22" y="22"/>
                  </a:lnTo>
                  <a:lnTo>
                    <a:pt x="17" y="17"/>
                  </a:lnTo>
                  <a:lnTo>
                    <a:pt x="8" y="13"/>
                  </a:lnTo>
                  <a:lnTo>
                    <a:pt x="8" y="8"/>
                  </a:lnTo>
                  <a:lnTo>
                    <a:pt x="0" y="8"/>
                  </a:lnTo>
                  <a:lnTo>
                    <a:pt x="0" y="0"/>
                  </a:lnTo>
                  <a:lnTo>
                    <a:pt x="164" y="393"/>
                  </a:lnTo>
                  <a:lnTo>
                    <a:pt x="327" y="0"/>
                  </a:lnTo>
                  <a:lnTo>
                    <a:pt x="318" y="0"/>
                  </a:lnTo>
                  <a:lnTo>
                    <a:pt x="318" y="8"/>
                  </a:lnTo>
                  <a:lnTo>
                    <a:pt x="309" y="8"/>
                  </a:lnTo>
                  <a:lnTo>
                    <a:pt x="309" y="13"/>
                  </a:lnTo>
                  <a:lnTo>
                    <a:pt x="305" y="17"/>
                  </a:lnTo>
                  <a:lnTo>
                    <a:pt x="300" y="22"/>
                  </a:lnTo>
                  <a:lnTo>
                    <a:pt x="292" y="22"/>
                  </a:lnTo>
                  <a:lnTo>
                    <a:pt x="278" y="26"/>
                  </a:lnTo>
                  <a:lnTo>
                    <a:pt x="265" y="35"/>
                  </a:lnTo>
                  <a:lnTo>
                    <a:pt x="247" y="35"/>
                  </a:lnTo>
                  <a:lnTo>
                    <a:pt x="234" y="35"/>
                  </a:lnTo>
                  <a:lnTo>
                    <a:pt x="212" y="35"/>
                  </a:lnTo>
                  <a:lnTo>
                    <a:pt x="186" y="35"/>
                  </a:lnTo>
                  <a:lnTo>
                    <a:pt x="164" y="44"/>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4" name=""/>
            <p:cNvGrpSpPr/>
            <p:nvPr/>
          </p:nvGrpSpPr>
          <p:grpSpPr>
            <a:xfrm>
              <a:off x="1749600" y="3605040"/>
              <a:ext cx="6109920" cy="487440"/>
              <a:chOff x="1749600" y="3605040"/>
              <a:chExt cx="6109920" cy="487440"/>
            </a:xfrm>
          </p:grpSpPr>
          <p:sp>
            <p:nvSpPr>
              <p:cNvPr id="85" name=""/>
              <p:cNvSpPr/>
              <p:nvPr/>
            </p:nvSpPr>
            <p:spPr>
              <a:xfrm>
                <a:off x="1749600" y="3684600"/>
                <a:ext cx="6021360" cy="40788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1838160" y="3605040"/>
                <a:ext cx="6021360" cy="406440"/>
              </a:xfrm>
              <a:prstGeom prst="rect">
                <a:avLst/>
              </a:prstGeom>
              <a:solidFill>
                <a:srgbClr val="ffbf9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3230640" y="3662280"/>
                <a:ext cx="300528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APPLICATION OF MATCHING RULE</a:t>
                </a:r>
                <a:endParaRPr b="0" lang="en-US" sz="1300" spc="-1" strike="noStrike">
                  <a:solidFill>
                    <a:srgbClr val="ffffff"/>
                  </a:solidFill>
                  <a:latin typeface="Arial"/>
                </a:endParaRPr>
              </a:p>
            </p:txBody>
          </p:sp>
        </p:grpSp>
        <p:grpSp>
          <p:nvGrpSpPr>
            <p:cNvPr id="88" name=""/>
            <p:cNvGrpSpPr/>
            <p:nvPr/>
          </p:nvGrpSpPr>
          <p:grpSpPr>
            <a:xfrm>
              <a:off x="1749600" y="4581360"/>
              <a:ext cx="6109920" cy="487440"/>
              <a:chOff x="1749600" y="4581360"/>
              <a:chExt cx="6109920" cy="487440"/>
            </a:xfrm>
          </p:grpSpPr>
          <p:sp>
            <p:nvSpPr>
              <p:cNvPr id="89" name=""/>
              <p:cNvSpPr/>
              <p:nvPr/>
            </p:nvSpPr>
            <p:spPr>
              <a:xfrm>
                <a:off x="1749600" y="4660920"/>
                <a:ext cx="6021360" cy="40788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 name=""/>
              <p:cNvSpPr/>
              <p:nvPr/>
            </p:nvSpPr>
            <p:spPr>
              <a:xfrm>
                <a:off x="1838160" y="4581360"/>
                <a:ext cx="6021360" cy="406440"/>
              </a:xfrm>
              <a:prstGeom prst="rect">
                <a:avLst/>
              </a:prstGeom>
              <a:solidFill>
                <a:srgbClr val="bfffb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sp>
            <p:nvSpPr>
              <p:cNvPr id="91" name=""/>
              <p:cNvSpPr txBox="1"/>
              <p:nvPr/>
            </p:nvSpPr>
            <p:spPr>
              <a:xfrm>
                <a:off x="2989440" y="4637160"/>
                <a:ext cx="344664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COST OF GOODS AVAILABLE FOR SALE</a:t>
                </a:r>
                <a:endParaRPr b="0" lang="en-US" sz="1300" spc="-1" strike="noStrike">
                  <a:solidFill>
                    <a:srgbClr val="ffffff"/>
                  </a:solidFill>
                  <a:latin typeface="Arial"/>
                </a:endParaRPr>
              </a:p>
            </p:txBody>
          </p:sp>
        </p:grpSp>
        <p:grpSp>
          <p:nvGrpSpPr>
            <p:cNvPr id="92" name=""/>
            <p:cNvGrpSpPr/>
            <p:nvPr/>
          </p:nvGrpSpPr>
          <p:grpSpPr>
            <a:xfrm>
              <a:off x="1760400" y="5553000"/>
              <a:ext cx="6108840" cy="488880"/>
              <a:chOff x="1760400" y="5553000"/>
              <a:chExt cx="6108840" cy="488880"/>
            </a:xfrm>
          </p:grpSpPr>
          <p:sp>
            <p:nvSpPr>
              <p:cNvPr id="93" name=""/>
              <p:cNvSpPr/>
              <p:nvPr/>
            </p:nvSpPr>
            <p:spPr>
              <a:xfrm>
                <a:off x="1760400" y="5634000"/>
                <a:ext cx="6019920" cy="40788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 name=""/>
              <p:cNvSpPr/>
              <p:nvPr/>
            </p:nvSpPr>
            <p:spPr>
              <a:xfrm>
                <a:off x="1847880" y="5553000"/>
                <a:ext cx="6021360" cy="406440"/>
              </a:xfrm>
              <a:prstGeom prst="rect">
                <a:avLst/>
              </a:prstGeom>
              <a:solidFill>
                <a:srgbClr val="ffbfd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txBox="1"/>
              <p:nvPr/>
            </p:nvSpPr>
            <p:spPr>
              <a:xfrm>
                <a:off x="1878120" y="5610240"/>
                <a:ext cx="551988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                </a:t>
                </a:r>
                <a:r>
                  <a:rPr b="1" lang="en-US" sz="1300" spc="-1" strike="noStrike">
                    <a:solidFill>
                      <a:srgbClr val="000000"/>
                    </a:solidFill>
                    <a:latin typeface="Arial"/>
                    <a:ea typeface="Arial"/>
                  </a:rPr>
                  <a:t>COST OF GOODS SOLD                      ENDING INVENTORY</a:t>
                </a:r>
                <a:endParaRPr b="0" lang="en-US" sz="1300" spc="-1" strike="noStrike">
                  <a:solidFill>
                    <a:srgbClr val="ffffff"/>
                  </a:solidFill>
                  <a:latin typeface="Arial"/>
                </a:endParaRPr>
              </a:p>
            </p:txBody>
          </p:sp>
        </p:grpSp>
        <p:grpSp>
          <p:nvGrpSpPr>
            <p:cNvPr id="96" name=""/>
            <p:cNvGrpSpPr/>
            <p:nvPr/>
          </p:nvGrpSpPr>
          <p:grpSpPr>
            <a:xfrm>
              <a:off x="1120680" y="919080"/>
              <a:ext cx="1984320" cy="2276640"/>
              <a:chOff x="1120680" y="919080"/>
              <a:chExt cx="1984320" cy="2276640"/>
            </a:xfrm>
          </p:grpSpPr>
          <p:sp>
            <p:nvSpPr>
              <p:cNvPr id="97" name=""/>
              <p:cNvSpPr/>
              <p:nvPr/>
            </p:nvSpPr>
            <p:spPr>
              <a:xfrm>
                <a:off x="1120680" y="1003320"/>
                <a:ext cx="1895400" cy="219240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 name=""/>
              <p:cNvSpPr/>
              <p:nvPr/>
            </p:nvSpPr>
            <p:spPr>
              <a:xfrm>
                <a:off x="1209600" y="919080"/>
                <a:ext cx="1895400" cy="2190600"/>
              </a:xfrm>
              <a:prstGeom prst="rect">
                <a:avLst/>
              </a:prstGeom>
              <a:solidFill>
                <a:srgbClr val="9ffff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99" name=""/>
            <p:cNvGrpSpPr/>
            <p:nvPr/>
          </p:nvGrpSpPr>
          <p:grpSpPr>
            <a:xfrm>
              <a:off x="1476360" y="974880"/>
              <a:ext cx="1281240" cy="672840"/>
              <a:chOff x="1476360" y="974880"/>
              <a:chExt cx="1281240" cy="672840"/>
            </a:xfrm>
          </p:grpSpPr>
          <p:sp>
            <p:nvSpPr>
              <p:cNvPr id="100" name=""/>
              <p:cNvSpPr txBox="1"/>
              <p:nvPr/>
            </p:nvSpPr>
            <p:spPr>
              <a:xfrm>
                <a:off x="1549440" y="974880"/>
                <a:ext cx="114444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INVENTORY</a:t>
                </a:r>
                <a:endParaRPr b="0" lang="en-US" sz="1300" spc="-1" strike="noStrike">
                  <a:solidFill>
                    <a:srgbClr val="ffffff"/>
                  </a:solidFill>
                  <a:latin typeface="Arial"/>
                </a:endParaRPr>
              </a:p>
            </p:txBody>
          </p:sp>
          <p:sp>
            <p:nvSpPr>
              <p:cNvPr id="101" name=""/>
              <p:cNvSpPr txBox="1"/>
              <p:nvPr/>
            </p:nvSpPr>
            <p:spPr>
              <a:xfrm>
                <a:off x="1476360" y="1168560"/>
                <a:ext cx="128124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PROCESSING</a:t>
                </a:r>
                <a:endParaRPr b="0" lang="en-US" sz="1300" spc="-1" strike="noStrike">
                  <a:solidFill>
                    <a:srgbClr val="ffffff"/>
                  </a:solidFill>
                  <a:latin typeface="Arial"/>
                </a:endParaRPr>
              </a:p>
            </p:txBody>
          </p:sp>
          <p:sp>
            <p:nvSpPr>
              <p:cNvPr id="102" name=""/>
              <p:cNvSpPr txBox="1"/>
              <p:nvPr/>
            </p:nvSpPr>
            <p:spPr>
              <a:xfrm>
                <a:off x="1620720" y="1360440"/>
                <a:ext cx="101592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SYSTEMS </a:t>
                </a:r>
                <a:endParaRPr b="0" lang="en-US" sz="1300" spc="-1" strike="noStrike">
                  <a:solidFill>
                    <a:srgbClr val="ffffff"/>
                  </a:solidFill>
                  <a:latin typeface="Arial"/>
                </a:endParaRPr>
              </a:p>
            </p:txBody>
          </p:sp>
        </p:grpSp>
        <p:grpSp>
          <p:nvGrpSpPr>
            <p:cNvPr id="103" name=""/>
            <p:cNvGrpSpPr/>
            <p:nvPr/>
          </p:nvGrpSpPr>
          <p:grpSpPr>
            <a:xfrm>
              <a:off x="1463760" y="1662120"/>
              <a:ext cx="992160" cy="317520"/>
              <a:chOff x="1463760" y="1662120"/>
              <a:chExt cx="992160" cy="317520"/>
            </a:xfrm>
          </p:grpSpPr>
          <p:sp>
            <p:nvSpPr>
              <p:cNvPr id="104" name=""/>
              <p:cNvSpPr txBox="1"/>
              <p:nvPr/>
            </p:nvSpPr>
            <p:spPr>
              <a:xfrm>
                <a:off x="1463760" y="1662120"/>
                <a:ext cx="24768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a:t>
                </a:r>
                <a:endParaRPr b="0" lang="en-US" sz="1500" spc="-1" strike="noStrike">
                  <a:solidFill>
                    <a:srgbClr val="ffffff"/>
                  </a:solidFill>
                  <a:latin typeface="Arial"/>
                </a:endParaRPr>
              </a:p>
            </p:txBody>
          </p:sp>
          <p:sp>
            <p:nvSpPr>
              <p:cNvPr id="105" name=""/>
              <p:cNvSpPr txBox="1"/>
              <p:nvPr/>
            </p:nvSpPr>
            <p:spPr>
              <a:xfrm>
                <a:off x="1533600" y="1662120"/>
                <a:ext cx="92232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Periodic </a:t>
                </a:r>
                <a:endParaRPr b="0" lang="en-US" sz="1500" spc="-1" strike="noStrike">
                  <a:solidFill>
                    <a:srgbClr val="ffffff"/>
                  </a:solidFill>
                  <a:latin typeface="Arial"/>
                </a:endParaRPr>
              </a:p>
            </p:txBody>
          </p:sp>
        </p:grpSp>
        <p:grpSp>
          <p:nvGrpSpPr>
            <p:cNvPr id="106" name=""/>
            <p:cNvGrpSpPr/>
            <p:nvPr/>
          </p:nvGrpSpPr>
          <p:grpSpPr>
            <a:xfrm>
              <a:off x="1463760" y="1911240"/>
              <a:ext cx="1066680" cy="317520"/>
              <a:chOff x="1463760" y="1911240"/>
              <a:chExt cx="1066680" cy="317520"/>
            </a:xfrm>
          </p:grpSpPr>
          <p:sp>
            <p:nvSpPr>
              <p:cNvPr id="107" name=""/>
              <p:cNvSpPr txBox="1"/>
              <p:nvPr/>
            </p:nvSpPr>
            <p:spPr>
              <a:xfrm>
                <a:off x="1463760" y="1911240"/>
                <a:ext cx="24768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a:t>
                </a:r>
                <a:endParaRPr b="0" lang="en-US" sz="1500" spc="-1" strike="noStrike">
                  <a:solidFill>
                    <a:srgbClr val="ffffff"/>
                  </a:solidFill>
                  <a:latin typeface="Arial"/>
                </a:endParaRPr>
              </a:p>
            </p:txBody>
          </p:sp>
          <p:sp>
            <p:nvSpPr>
              <p:cNvPr id="108" name=""/>
              <p:cNvSpPr txBox="1"/>
              <p:nvPr/>
            </p:nvSpPr>
            <p:spPr>
              <a:xfrm>
                <a:off x="1533600" y="1911240"/>
                <a:ext cx="99684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Perpetual</a:t>
                </a:r>
                <a:endParaRPr b="0" lang="en-US" sz="1500" spc="-1" strike="noStrike">
                  <a:solidFill>
                    <a:srgbClr val="ffffff"/>
                  </a:solidFill>
                  <a:latin typeface="Arial"/>
                </a:endParaRPr>
              </a:p>
            </p:txBody>
          </p:sp>
        </p:grpSp>
        <p:grpSp>
          <p:nvGrpSpPr>
            <p:cNvPr id="109" name=""/>
            <p:cNvGrpSpPr/>
            <p:nvPr/>
          </p:nvGrpSpPr>
          <p:grpSpPr>
            <a:xfrm>
              <a:off x="3786120" y="919080"/>
              <a:ext cx="1984680" cy="2276640"/>
              <a:chOff x="3786120" y="919080"/>
              <a:chExt cx="1984680" cy="2276640"/>
            </a:xfrm>
          </p:grpSpPr>
          <p:sp>
            <p:nvSpPr>
              <p:cNvPr id="110" name=""/>
              <p:cNvSpPr/>
              <p:nvPr/>
            </p:nvSpPr>
            <p:spPr>
              <a:xfrm>
                <a:off x="3786120" y="1003320"/>
                <a:ext cx="1895400" cy="219240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 name=""/>
              <p:cNvSpPr/>
              <p:nvPr/>
            </p:nvSpPr>
            <p:spPr>
              <a:xfrm>
                <a:off x="3873600" y="919080"/>
                <a:ext cx="1897200" cy="2190600"/>
              </a:xfrm>
              <a:prstGeom prst="rect">
                <a:avLst/>
              </a:prstGeom>
              <a:solidFill>
                <a:srgbClr val="9ffff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12" name=""/>
            <p:cNvGrpSpPr/>
            <p:nvPr/>
          </p:nvGrpSpPr>
          <p:grpSpPr>
            <a:xfrm>
              <a:off x="3914640" y="1563840"/>
              <a:ext cx="1346040" cy="506160"/>
              <a:chOff x="3914640" y="1563840"/>
              <a:chExt cx="1346040" cy="506160"/>
            </a:xfrm>
          </p:grpSpPr>
          <p:sp>
            <p:nvSpPr>
              <p:cNvPr id="113" name=""/>
              <p:cNvSpPr txBox="1"/>
              <p:nvPr/>
            </p:nvSpPr>
            <p:spPr>
              <a:xfrm>
                <a:off x="3914640" y="1563840"/>
                <a:ext cx="24768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a:t>
                </a:r>
                <a:endParaRPr b="0" lang="en-US" sz="1500" spc="-1" strike="noStrike">
                  <a:solidFill>
                    <a:srgbClr val="ffffff"/>
                  </a:solidFill>
                  <a:latin typeface="Arial"/>
                </a:endParaRPr>
              </a:p>
            </p:txBody>
          </p:sp>
          <p:sp>
            <p:nvSpPr>
              <p:cNvPr id="114" name=""/>
              <p:cNvSpPr txBox="1"/>
              <p:nvPr/>
            </p:nvSpPr>
            <p:spPr>
              <a:xfrm>
                <a:off x="3984480" y="1563840"/>
                <a:ext cx="84780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Specific</a:t>
                </a:r>
                <a:endParaRPr b="0" lang="en-US" sz="1500" spc="-1" strike="noStrike">
                  <a:solidFill>
                    <a:srgbClr val="ffffff"/>
                  </a:solidFill>
                  <a:latin typeface="Arial"/>
                </a:endParaRPr>
              </a:p>
            </p:txBody>
          </p:sp>
          <p:sp>
            <p:nvSpPr>
              <p:cNvPr id="115" name=""/>
              <p:cNvSpPr txBox="1"/>
              <p:nvPr/>
            </p:nvSpPr>
            <p:spPr>
              <a:xfrm>
                <a:off x="3914640" y="1752480"/>
                <a:ext cx="134604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 </a:t>
                </a:r>
                <a:r>
                  <a:rPr b="0" lang="en-US" sz="1500" spc="-1" strike="noStrike">
                    <a:solidFill>
                      <a:srgbClr val="000000"/>
                    </a:solidFill>
                    <a:latin typeface="Arial"/>
                    <a:ea typeface="Arial"/>
                  </a:rPr>
                  <a:t>identification</a:t>
                </a:r>
                <a:endParaRPr b="0" lang="en-US" sz="1500" spc="-1" strike="noStrike">
                  <a:solidFill>
                    <a:srgbClr val="ffffff"/>
                  </a:solidFill>
                  <a:latin typeface="Arial"/>
                </a:endParaRPr>
              </a:p>
            </p:txBody>
          </p:sp>
        </p:grpSp>
        <p:grpSp>
          <p:nvGrpSpPr>
            <p:cNvPr id="116" name=""/>
            <p:cNvGrpSpPr/>
            <p:nvPr/>
          </p:nvGrpSpPr>
          <p:grpSpPr>
            <a:xfrm>
              <a:off x="3914640" y="1947960"/>
              <a:ext cx="1415880" cy="317520"/>
              <a:chOff x="3914640" y="1947960"/>
              <a:chExt cx="1415880" cy="317520"/>
            </a:xfrm>
          </p:grpSpPr>
          <p:sp>
            <p:nvSpPr>
              <p:cNvPr id="117" name=""/>
              <p:cNvSpPr txBox="1"/>
              <p:nvPr/>
            </p:nvSpPr>
            <p:spPr>
              <a:xfrm>
                <a:off x="3914640" y="1947960"/>
                <a:ext cx="24768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a:t>
                </a:r>
                <a:endParaRPr b="0" lang="en-US" sz="1500" spc="-1" strike="noStrike">
                  <a:solidFill>
                    <a:srgbClr val="ffffff"/>
                  </a:solidFill>
                  <a:latin typeface="Arial"/>
                </a:endParaRPr>
              </a:p>
            </p:txBody>
          </p:sp>
          <p:sp>
            <p:nvSpPr>
              <p:cNvPr id="118" name=""/>
              <p:cNvSpPr txBox="1"/>
              <p:nvPr/>
            </p:nvSpPr>
            <p:spPr>
              <a:xfrm>
                <a:off x="3984480" y="1947960"/>
                <a:ext cx="134604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Average cost </a:t>
                </a:r>
                <a:endParaRPr b="0" lang="en-US" sz="1500" spc="-1" strike="noStrike">
                  <a:solidFill>
                    <a:srgbClr val="ffffff"/>
                  </a:solidFill>
                  <a:latin typeface="Arial"/>
                </a:endParaRPr>
              </a:p>
            </p:txBody>
          </p:sp>
        </p:grpSp>
        <p:grpSp>
          <p:nvGrpSpPr>
            <p:cNvPr id="119" name=""/>
            <p:cNvGrpSpPr/>
            <p:nvPr/>
          </p:nvGrpSpPr>
          <p:grpSpPr>
            <a:xfrm>
              <a:off x="3914640" y="2222640"/>
              <a:ext cx="1573200" cy="492120"/>
              <a:chOff x="3914640" y="2222640"/>
              <a:chExt cx="1573200" cy="492120"/>
            </a:xfrm>
          </p:grpSpPr>
          <p:sp>
            <p:nvSpPr>
              <p:cNvPr id="120" name=""/>
              <p:cNvSpPr txBox="1"/>
              <p:nvPr/>
            </p:nvSpPr>
            <p:spPr>
              <a:xfrm>
                <a:off x="3914640" y="2222640"/>
                <a:ext cx="24768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a:t>
                </a:r>
                <a:endParaRPr b="0" lang="en-US" sz="1500" spc="-1" strike="noStrike">
                  <a:solidFill>
                    <a:srgbClr val="ffffff"/>
                  </a:solidFill>
                  <a:latin typeface="Arial"/>
                </a:endParaRPr>
              </a:p>
            </p:txBody>
          </p:sp>
          <p:sp>
            <p:nvSpPr>
              <p:cNvPr id="121" name=""/>
              <p:cNvSpPr txBox="1"/>
              <p:nvPr/>
            </p:nvSpPr>
            <p:spPr>
              <a:xfrm>
                <a:off x="3984480" y="2222640"/>
                <a:ext cx="150336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First-in, first-out</a:t>
                </a:r>
                <a:endParaRPr b="0" lang="en-US" sz="1500" spc="-1" strike="noStrike">
                  <a:solidFill>
                    <a:srgbClr val="ffffff"/>
                  </a:solidFill>
                  <a:latin typeface="Arial"/>
                </a:endParaRPr>
              </a:p>
            </p:txBody>
          </p:sp>
          <p:sp>
            <p:nvSpPr>
              <p:cNvPr id="122" name=""/>
              <p:cNvSpPr txBox="1"/>
              <p:nvPr/>
            </p:nvSpPr>
            <p:spPr>
              <a:xfrm>
                <a:off x="3914640" y="2397240"/>
                <a:ext cx="28728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 </a:t>
                </a:r>
                <a:endParaRPr b="0" lang="en-US" sz="1500" spc="-1" strike="noStrike">
                  <a:solidFill>
                    <a:srgbClr val="ffffff"/>
                  </a:solidFill>
                  <a:latin typeface="Arial"/>
                </a:endParaRPr>
              </a:p>
            </p:txBody>
          </p:sp>
          <p:sp>
            <p:nvSpPr>
              <p:cNvPr id="123" name=""/>
              <p:cNvSpPr txBox="1"/>
              <p:nvPr/>
            </p:nvSpPr>
            <p:spPr>
              <a:xfrm>
                <a:off x="4025880" y="2432160"/>
                <a:ext cx="67140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FIFO) </a:t>
                </a:r>
                <a:endParaRPr b="0" lang="en-US" sz="1200" spc="-1" strike="noStrike">
                  <a:solidFill>
                    <a:srgbClr val="ffffff"/>
                  </a:solidFill>
                  <a:latin typeface="Arial"/>
                </a:endParaRPr>
              </a:p>
            </p:txBody>
          </p:sp>
        </p:grpSp>
        <p:grpSp>
          <p:nvGrpSpPr>
            <p:cNvPr id="124" name=""/>
            <p:cNvGrpSpPr/>
            <p:nvPr/>
          </p:nvGrpSpPr>
          <p:grpSpPr>
            <a:xfrm>
              <a:off x="3914640" y="2644920"/>
              <a:ext cx="1563840" cy="490320"/>
              <a:chOff x="3914640" y="2644920"/>
              <a:chExt cx="1563840" cy="490320"/>
            </a:xfrm>
          </p:grpSpPr>
          <p:sp>
            <p:nvSpPr>
              <p:cNvPr id="125" name=""/>
              <p:cNvSpPr txBox="1"/>
              <p:nvPr/>
            </p:nvSpPr>
            <p:spPr>
              <a:xfrm>
                <a:off x="3914640" y="2644920"/>
                <a:ext cx="24768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a:t>
                </a:r>
                <a:endParaRPr b="0" lang="en-US" sz="1500" spc="-1" strike="noStrike">
                  <a:solidFill>
                    <a:srgbClr val="ffffff"/>
                  </a:solidFill>
                  <a:latin typeface="Arial"/>
                </a:endParaRPr>
              </a:p>
            </p:txBody>
          </p:sp>
          <p:sp>
            <p:nvSpPr>
              <p:cNvPr id="126" name=""/>
              <p:cNvSpPr txBox="1"/>
              <p:nvPr/>
            </p:nvSpPr>
            <p:spPr>
              <a:xfrm>
                <a:off x="3984480" y="2644920"/>
                <a:ext cx="149400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Last-in, first-out</a:t>
                </a:r>
                <a:endParaRPr b="0" lang="en-US" sz="1500" spc="-1" strike="noStrike">
                  <a:solidFill>
                    <a:srgbClr val="ffffff"/>
                  </a:solidFill>
                  <a:latin typeface="Arial"/>
                </a:endParaRPr>
              </a:p>
            </p:txBody>
          </p:sp>
          <p:sp>
            <p:nvSpPr>
              <p:cNvPr id="127" name=""/>
              <p:cNvSpPr txBox="1"/>
              <p:nvPr/>
            </p:nvSpPr>
            <p:spPr>
              <a:xfrm>
                <a:off x="3914640" y="2817720"/>
                <a:ext cx="28728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 </a:t>
                </a:r>
                <a:endParaRPr b="0" lang="en-US" sz="1500" spc="-1" strike="noStrike">
                  <a:solidFill>
                    <a:srgbClr val="ffffff"/>
                  </a:solidFill>
                  <a:latin typeface="Arial"/>
                </a:endParaRPr>
              </a:p>
            </p:txBody>
          </p:sp>
          <p:sp>
            <p:nvSpPr>
              <p:cNvPr id="128" name=""/>
              <p:cNvSpPr txBox="1"/>
              <p:nvPr/>
            </p:nvSpPr>
            <p:spPr>
              <a:xfrm>
                <a:off x="4025880" y="2852640"/>
                <a:ext cx="66348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LIFO) </a:t>
                </a:r>
                <a:endParaRPr b="0" lang="en-US" sz="1200" spc="-1" strike="noStrike">
                  <a:solidFill>
                    <a:srgbClr val="ffffff"/>
                  </a:solidFill>
                  <a:latin typeface="Arial"/>
                </a:endParaRPr>
              </a:p>
            </p:txBody>
          </p:sp>
        </p:grpSp>
        <p:grpSp>
          <p:nvGrpSpPr>
            <p:cNvPr id="129" name=""/>
            <p:cNvGrpSpPr/>
            <p:nvPr/>
          </p:nvGrpSpPr>
          <p:grpSpPr>
            <a:xfrm>
              <a:off x="6593040" y="919080"/>
              <a:ext cx="1985760" cy="2276640"/>
              <a:chOff x="6593040" y="919080"/>
              <a:chExt cx="1985760" cy="2276640"/>
            </a:xfrm>
          </p:grpSpPr>
          <p:sp>
            <p:nvSpPr>
              <p:cNvPr id="130" name=""/>
              <p:cNvSpPr/>
              <p:nvPr/>
            </p:nvSpPr>
            <p:spPr>
              <a:xfrm>
                <a:off x="6593040" y="1003320"/>
                <a:ext cx="1897200" cy="219240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1" name=""/>
              <p:cNvSpPr/>
              <p:nvPr/>
            </p:nvSpPr>
            <p:spPr>
              <a:xfrm>
                <a:off x="6680160" y="919080"/>
                <a:ext cx="1898640" cy="2190600"/>
              </a:xfrm>
              <a:prstGeom prst="rect">
                <a:avLst/>
              </a:prstGeom>
              <a:solidFill>
                <a:srgbClr val="9ffff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32" name=""/>
            <p:cNvGrpSpPr/>
            <p:nvPr/>
          </p:nvGrpSpPr>
          <p:grpSpPr>
            <a:xfrm>
              <a:off x="6848640" y="1574640"/>
              <a:ext cx="695160" cy="317520"/>
              <a:chOff x="6848640" y="1574640"/>
              <a:chExt cx="695160" cy="317520"/>
            </a:xfrm>
          </p:grpSpPr>
          <p:sp>
            <p:nvSpPr>
              <p:cNvPr id="133" name=""/>
              <p:cNvSpPr txBox="1"/>
              <p:nvPr/>
            </p:nvSpPr>
            <p:spPr>
              <a:xfrm>
                <a:off x="6848640" y="1574640"/>
                <a:ext cx="24768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a:t>
                </a:r>
                <a:endParaRPr b="0" lang="en-US" sz="1500" spc="-1" strike="noStrike">
                  <a:solidFill>
                    <a:srgbClr val="ffffff"/>
                  </a:solidFill>
                  <a:latin typeface="Arial"/>
                </a:endParaRPr>
              </a:p>
            </p:txBody>
          </p:sp>
          <p:sp>
            <p:nvSpPr>
              <p:cNvPr id="134" name=""/>
              <p:cNvSpPr txBox="1"/>
              <p:nvPr/>
            </p:nvSpPr>
            <p:spPr>
              <a:xfrm>
                <a:off x="6918480" y="1574640"/>
                <a:ext cx="62532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Cost </a:t>
                </a:r>
                <a:endParaRPr b="0" lang="en-US" sz="1500" spc="-1" strike="noStrike">
                  <a:solidFill>
                    <a:srgbClr val="ffffff"/>
                  </a:solidFill>
                  <a:latin typeface="Arial"/>
                </a:endParaRPr>
              </a:p>
            </p:txBody>
          </p:sp>
        </p:grpSp>
        <p:grpSp>
          <p:nvGrpSpPr>
            <p:cNvPr id="135" name=""/>
            <p:cNvGrpSpPr/>
            <p:nvPr/>
          </p:nvGrpSpPr>
          <p:grpSpPr>
            <a:xfrm>
              <a:off x="6848640" y="1820880"/>
              <a:ext cx="1604880" cy="536400"/>
              <a:chOff x="6848640" y="1820880"/>
              <a:chExt cx="1604880" cy="536400"/>
            </a:xfrm>
          </p:grpSpPr>
          <p:sp>
            <p:nvSpPr>
              <p:cNvPr id="136" name=""/>
              <p:cNvSpPr txBox="1"/>
              <p:nvPr/>
            </p:nvSpPr>
            <p:spPr>
              <a:xfrm>
                <a:off x="6848640" y="1820880"/>
                <a:ext cx="24768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a:t>
                </a:r>
                <a:endParaRPr b="0" lang="en-US" sz="1500" spc="-1" strike="noStrike">
                  <a:solidFill>
                    <a:srgbClr val="ffffff"/>
                  </a:solidFill>
                  <a:latin typeface="Arial"/>
                </a:endParaRPr>
              </a:p>
            </p:txBody>
          </p:sp>
          <p:sp>
            <p:nvSpPr>
              <p:cNvPr id="137" name=""/>
              <p:cNvSpPr txBox="1"/>
              <p:nvPr/>
            </p:nvSpPr>
            <p:spPr>
              <a:xfrm>
                <a:off x="6918480" y="1820880"/>
                <a:ext cx="153504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Market (if lower </a:t>
                </a:r>
                <a:endParaRPr b="0" lang="en-US" sz="1500" spc="-1" strike="noStrike">
                  <a:solidFill>
                    <a:srgbClr val="ffffff"/>
                  </a:solidFill>
                  <a:latin typeface="Arial"/>
                </a:endParaRPr>
              </a:p>
            </p:txBody>
          </p:sp>
          <p:sp>
            <p:nvSpPr>
              <p:cNvPr id="138" name=""/>
              <p:cNvSpPr txBox="1"/>
              <p:nvPr/>
            </p:nvSpPr>
            <p:spPr>
              <a:xfrm>
                <a:off x="6848640" y="2039760"/>
                <a:ext cx="1176480" cy="31752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 </a:t>
                </a:r>
                <a:r>
                  <a:rPr b="0" lang="en-US" sz="1500" spc="-1" strike="noStrike">
                    <a:solidFill>
                      <a:srgbClr val="000000"/>
                    </a:solidFill>
                    <a:latin typeface="Arial"/>
                    <a:ea typeface="Arial"/>
                  </a:rPr>
                  <a:t>than cost) </a:t>
                </a:r>
                <a:endParaRPr b="0" lang="en-US" sz="1500" spc="-1" strike="noStrike">
                  <a:solidFill>
                    <a:srgbClr val="ffffff"/>
                  </a:solidFill>
                  <a:latin typeface="Arial"/>
                </a:endParaRPr>
              </a:p>
            </p:txBody>
          </p:sp>
        </p:grpSp>
        <p:grpSp>
          <p:nvGrpSpPr>
            <p:cNvPr id="139" name=""/>
            <p:cNvGrpSpPr/>
            <p:nvPr/>
          </p:nvGrpSpPr>
          <p:grpSpPr>
            <a:xfrm>
              <a:off x="4214880" y="974880"/>
              <a:ext cx="1144440" cy="672840"/>
              <a:chOff x="4214880" y="974880"/>
              <a:chExt cx="1144440" cy="672840"/>
            </a:xfrm>
          </p:grpSpPr>
          <p:sp>
            <p:nvSpPr>
              <p:cNvPr id="140" name=""/>
              <p:cNvSpPr txBox="1"/>
              <p:nvPr/>
            </p:nvSpPr>
            <p:spPr>
              <a:xfrm>
                <a:off x="4214880" y="974880"/>
                <a:ext cx="114444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INVENTORY</a:t>
                </a:r>
                <a:endParaRPr b="0" lang="en-US" sz="1300" spc="-1" strike="noStrike">
                  <a:solidFill>
                    <a:srgbClr val="ffffff"/>
                  </a:solidFill>
                  <a:latin typeface="Arial"/>
                </a:endParaRPr>
              </a:p>
            </p:txBody>
          </p:sp>
          <p:sp>
            <p:nvSpPr>
              <p:cNvPr id="141" name=""/>
              <p:cNvSpPr txBox="1"/>
              <p:nvPr/>
            </p:nvSpPr>
            <p:spPr>
              <a:xfrm>
                <a:off x="4332240" y="1168560"/>
                <a:ext cx="93348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COSTING</a:t>
                </a:r>
                <a:endParaRPr b="0" lang="en-US" sz="1300" spc="-1" strike="noStrike">
                  <a:solidFill>
                    <a:srgbClr val="ffffff"/>
                  </a:solidFill>
                  <a:latin typeface="Arial"/>
                </a:endParaRPr>
              </a:p>
            </p:txBody>
          </p:sp>
          <p:sp>
            <p:nvSpPr>
              <p:cNvPr id="142" name=""/>
              <p:cNvSpPr txBox="1"/>
              <p:nvPr/>
            </p:nvSpPr>
            <p:spPr>
              <a:xfrm>
                <a:off x="4289400" y="1360440"/>
                <a:ext cx="100656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METHODS</a:t>
                </a:r>
                <a:endParaRPr b="0" lang="en-US" sz="1300" spc="-1" strike="noStrike">
                  <a:solidFill>
                    <a:srgbClr val="ffffff"/>
                  </a:solidFill>
                  <a:latin typeface="Arial"/>
                </a:endParaRPr>
              </a:p>
            </p:txBody>
          </p:sp>
        </p:grpSp>
        <p:grpSp>
          <p:nvGrpSpPr>
            <p:cNvPr id="143" name=""/>
            <p:cNvGrpSpPr/>
            <p:nvPr/>
          </p:nvGrpSpPr>
          <p:grpSpPr>
            <a:xfrm>
              <a:off x="7024680" y="974880"/>
              <a:ext cx="1144440" cy="480960"/>
              <a:chOff x="7024680" y="974880"/>
              <a:chExt cx="1144440" cy="480960"/>
            </a:xfrm>
          </p:grpSpPr>
          <p:sp>
            <p:nvSpPr>
              <p:cNvPr id="144" name=""/>
              <p:cNvSpPr txBox="1"/>
              <p:nvPr/>
            </p:nvSpPr>
            <p:spPr>
              <a:xfrm>
                <a:off x="7024680" y="974880"/>
                <a:ext cx="114444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VALUATION</a:t>
                </a:r>
                <a:endParaRPr b="0" lang="en-US" sz="1300" spc="-1" strike="noStrike">
                  <a:solidFill>
                    <a:srgbClr val="ffffff"/>
                  </a:solidFill>
                  <a:latin typeface="Arial"/>
                </a:endParaRPr>
              </a:p>
            </p:txBody>
          </p:sp>
          <p:sp>
            <p:nvSpPr>
              <p:cNvPr id="145" name=""/>
              <p:cNvSpPr txBox="1"/>
              <p:nvPr/>
            </p:nvSpPr>
            <p:spPr>
              <a:xfrm>
                <a:off x="7099200" y="1168560"/>
                <a:ext cx="1006560" cy="287280"/>
              </a:xfrm>
              <a:prstGeom prst="rect">
                <a:avLst/>
              </a:prstGeom>
              <a:noFill/>
              <a:ln w="0">
                <a:noFill/>
              </a:ln>
            </p:spPr>
            <p:txBody>
              <a:bodyPr lIns="0" rIns="0" tIns="0" bIns="0" anchor="t">
                <a:noAutofit/>
              </a:bodyPr>
              <a:p>
                <a:pPr>
                  <a:lnSpc>
                    <a:spcPct val="100000"/>
                  </a:lnSpc>
                </a:pPr>
                <a:r>
                  <a:rPr b="1" lang="en-US" sz="1300" spc="-1" strike="noStrike">
                    <a:solidFill>
                      <a:srgbClr val="000000"/>
                    </a:solidFill>
                    <a:latin typeface="Arial"/>
                    <a:ea typeface="Arial"/>
                  </a:rPr>
                  <a:t>METHODS</a:t>
                </a:r>
                <a:endParaRPr b="0" lang="en-US" sz="13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46" name=""/>
          <p:cNvSpPr txBox="1"/>
          <p:nvPr/>
        </p:nvSpPr>
        <p:spPr>
          <a:xfrm>
            <a:off x="838080" y="304920"/>
            <a:ext cx="800100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pplying the Matching Rule to Inventories</a:t>
            </a:r>
            <a:endParaRPr b="0" lang="en-US" sz="4400" spc="-1" strike="noStrike">
              <a:solidFill>
                <a:srgbClr val="ffffff"/>
              </a:solidFill>
              <a:latin typeface="Arial"/>
            </a:endParaRPr>
          </a:p>
        </p:txBody>
      </p:sp>
      <p:sp>
        <p:nvSpPr>
          <p:cNvPr id="147" name=""/>
          <p:cNvSpPr txBox="1"/>
          <p:nvPr/>
        </p:nvSpPr>
        <p:spPr>
          <a:xfrm>
            <a:off x="990720" y="1752480"/>
            <a:ext cx="7772400" cy="44197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The AICPA</a:t>
            </a:r>
            <a:r>
              <a:rPr b="1" i="1" lang="en-US" sz="2800" spc="-1" strike="noStrike">
                <a:solidFill>
                  <a:srgbClr val="fcffd8"/>
                </a:solidFill>
                <a:latin typeface="Arial"/>
                <a:ea typeface="Arial"/>
              </a:rPr>
              <a:t> </a:t>
            </a:r>
            <a:r>
              <a:rPr b="1" lang="en-US" sz="2800" spc="-1" strike="noStrike">
                <a:solidFill>
                  <a:srgbClr val="fcffd8"/>
                </a:solidFill>
                <a:latin typeface="Arial"/>
                <a:ea typeface="Arial"/>
              </a:rPr>
              <a:t>states that “A major objective of accounting for inventories is the proper determination of income through the process of matching appropriate costs against revenues.”</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The objective is the proper determination of income through the matching of costs and revenues, not the determination of the most realistic inventory valu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48" name=""/>
          <p:cNvSpPr txBox="1"/>
          <p:nvPr/>
        </p:nvSpPr>
        <p:spPr>
          <a:xfrm>
            <a:off x="838080" y="457200"/>
            <a:ext cx="7924680" cy="1600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pplying the Matching Rule to Inventories</a:t>
            </a:r>
            <a:endParaRPr b="0" lang="en-US" sz="4400" spc="-1" strike="noStrike">
              <a:solidFill>
                <a:srgbClr val="ffffff"/>
              </a:solidFill>
              <a:latin typeface="Arial"/>
            </a:endParaRPr>
          </a:p>
        </p:txBody>
      </p:sp>
      <p:sp>
        <p:nvSpPr>
          <p:cNvPr id="149" name=""/>
          <p:cNvSpPr txBox="1"/>
          <p:nvPr/>
        </p:nvSpPr>
        <p:spPr>
          <a:xfrm>
            <a:off x="1066680" y="2057400"/>
            <a:ext cx="7620120" cy="37339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reason inventory accounting is so important to income measurement is linked to the way income is measured on the merchandising income stat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50" name=""/>
          <p:cNvSpPr txBox="1"/>
          <p:nvPr/>
        </p:nvSpPr>
        <p:spPr>
          <a:xfrm>
            <a:off x="914400" y="53352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pplying the Matching Rule</a:t>
            </a:r>
            <a:endParaRPr b="0" lang="en-US" sz="4400" spc="-1" strike="noStrike">
              <a:solidFill>
                <a:srgbClr val="ffffff"/>
              </a:solidFill>
              <a:latin typeface="Arial"/>
            </a:endParaRPr>
          </a:p>
        </p:txBody>
      </p:sp>
      <p:sp>
        <p:nvSpPr>
          <p:cNvPr id="151" name=""/>
          <p:cNvSpPr txBox="1"/>
          <p:nvPr/>
        </p:nvSpPr>
        <p:spPr>
          <a:xfrm>
            <a:off x="762120" y="1523880"/>
            <a:ext cx="8381880" cy="4114800"/>
          </a:xfrm>
          <a:prstGeom prst="rect">
            <a:avLst/>
          </a:prstGeom>
          <a:noFill/>
          <a:ln w="0">
            <a:noFill/>
          </a:ln>
        </p:spPr>
        <p:txBody>
          <a:bodyPr lIns="0" rIns="0" tIns="0" bIns="0" anchor="t">
            <a:noAutofit/>
          </a:bodyPr>
          <a:p>
            <a:pPr marL="343080" indent="-343080">
              <a:lnSpc>
                <a:spcPct val="180000"/>
              </a:lnSpc>
              <a:spcBef>
                <a:spcPts val="479"/>
              </a:spcBef>
              <a:buClr>
                <a:srgbClr val="ffcc66"/>
              </a:buClr>
              <a:buFont typeface="Monotype Sorts"/>
              <a:buChar char=""/>
            </a:pPr>
            <a:r>
              <a:rPr b="1" lang="en-US" sz="3200" spc="-1" strike="noStrike">
                <a:solidFill>
                  <a:srgbClr val="fcffd8"/>
                </a:solidFill>
                <a:latin typeface="Arial"/>
                <a:ea typeface="Arial"/>
              </a:rPr>
              <a:t>Gross Margin = Net Sales - COGS.</a:t>
            </a:r>
            <a:endParaRPr b="0" lang="en-US" sz="3200" spc="-1" strike="noStrike">
              <a:solidFill>
                <a:srgbClr val="ffffff"/>
              </a:solidFill>
              <a:latin typeface="Arial"/>
            </a:endParaRPr>
          </a:p>
          <a:p>
            <a:pPr marL="343080" indent="-343080">
              <a:lnSpc>
                <a:spcPct val="180000"/>
              </a:lnSpc>
              <a:spcBef>
                <a:spcPts val="479"/>
              </a:spcBef>
              <a:buClr>
                <a:srgbClr val="ffcc66"/>
              </a:buClr>
              <a:buFont typeface="Monotype Sorts"/>
              <a:buChar char=""/>
            </a:pPr>
            <a:r>
              <a:rPr b="1" lang="en-US" sz="3200" spc="-1" strike="noStrike">
                <a:solidFill>
                  <a:srgbClr val="fcffd8"/>
                </a:solidFill>
                <a:latin typeface="Arial"/>
                <a:ea typeface="Arial"/>
              </a:rPr>
              <a:t>COGS = COGAFS - Ending Inventory.</a:t>
            </a:r>
            <a:endParaRPr b="0" lang="en-US" sz="3200" spc="-1" strike="noStrike">
              <a:solidFill>
                <a:srgbClr val="ffffff"/>
              </a:solidFill>
              <a:latin typeface="Arial"/>
            </a:endParaRPr>
          </a:p>
          <a:p>
            <a:pPr marL="343080" indent="-343080">
              <a:lnSpc>
                <a:spcPct val="180000"/>
              </a:lnSpc>
              <a:spcBef>
                <a:spcPts val="479"/>
              </a:spcBef>
              <a:buClr>
                <a:srgbClr val="ffcc66"/>
              </a:buClr>
              <a:buFont typeface="Monotype Sorts"/>
              <a:buChar char=""/>
            </a:pPr>
            <a:r>
              <a:rPr b="1" lang="en-US" sz="3200" spc="-1" strike="noStrike">
                <a:solidFill>
                  <a:srgbClr val="fcffd8"/>
                </a:solidFill>
                <a:latin typeface="Arial"/>
                <a:ea typeface="Arial"/>
              </a:rPr>
              <a:t>EI$ </a:t>
            </a:r>
            <a:r>
              <a:rPr b="1" i="1" lang="en-US" sz="3200" spc="-1" strike="noStrike">
                <a:solidFill>
                  <a:srgbClr val="fcffd8"/>
                </a:solidFill>
                <a:latin typeface="Arial"/>
                <a:ea typeface="Arial"/>
              </a:rPr>
              <a:t>up</a:t>
            </a:r>
            <a:r>
              <a:rPr b="1" lang="en-US" sz="3200" spc="-1" strike="noStrike">
                <a:solidFill>
                  <a:srgbClr val="fcffd8"/>
                </a:solidFill>
                <a:latin typeface="Arial"/>
                <a:ea typeface="Arial"/>
              </a:rPr>
              <a:t> COGS </a:t>
            </a:r>
            <a:r>
              <a:rPr b="1" i="1" lang="en-US" sz="3200" spc="-1" strike="noStrike">
                <a:solidFill>
                  <a:srgbClr val="fcffd8"/>
                </a:solidFill>
                <a:latin typeface="Arial"/>
                <a:ea typeface="Arial"/>
              </a:rPr>
              <a:t>down</a:t>
            </a:r>
            <a:r>
              <a:rPr b="1" lang="en-US" sz="3200" spc="-1" strike="noStrike">
                <a:solidFill>
                  <a:srgbClr val="fcffd8"/>
                </a:solidFill>
                <a:latin typeface="Arial"/>
                <a:ea typeface="Arial"/>
              </a:rPr>
              <a:t> Gross Margin </a:t>
            </a:r>
            <a:r>
              <a:rPr b="1" i="1" lang="en-US" sz="3200" spc="-1" strike="noStrike">
                <a:solidFill>
                  <a:srgbClr val="fcffd8"/>
                </a:solidFill>
                <a:latin typeface="Arial"/>
                <a:ea typeface="Arial"/>
              </a:rPr>
              <a:t>up</a:t>
            </a:r>
            <a:r>
              <a:rPr b="1" lang="en-US" sz="3200" spc="-1" strike="noStrike">
                <a:solidFill>
                  <a:srgbClr val="fcffd8"/>
                </a:solidFill>
                <a:latin typeface="Arial"/>
                <a:ea typeface="Arial"/>
              </a:rPr>
              <a:t>.</a:t>
            </a:r>
            <a:endParaRPr b="0" lang="en-US" sz="3200" spc="-1" strike="noStrike">
              <a:solidFill>
                <a:srgbClr val="ffffff"/>
              </a:solidFill>
              <a:latin typeface="Arial"/>
            </a:endParaRPr>
          </a:p>
          <a:p>
            <a:pPr marL="343080" indent="-343080">
              <a:lnSpc>
                <a:spcPct val="180000"/>
              </a:lnSpc>
              <a:spcBef>
                <a:spcPts val="479"/>
              </a:spcBef>
              <a:buClr>
                <a:srgbClr val="ffcc66"/>
              </a:buClr>
              <a:buFont typeface="Monotype Sorts"/>
              <a:buChar char=""/>
            </a:pPr>
            <a:r>
              <a:rPr b="1" lang="en-US" sz="3200" spc="-1" strike="noStrike">
                <a:solidFill>
                  <a:srgbClr val="fcffd8"/>
                </a:solidFill>
                <a:latin typeface="Arial"/>
                <a:ea typeface="Arial"/>
              </a:rPr>
              <a:t>EI$ </a:t>
            </a:r>
            <a:r>
              <a:rPr b="1" i="1" lang="en-US" sz="3200" spc="-1" strike="noStrike">
                <a:solidFill>
                  <a:srgbClr val="fcffd8"/>
                </a:solidFill>
                <a:latin typeface="Arial"/>
                <a:ea typeface="Arial"/>
              </a:rPr>
              <a:t>down</a:t>
            </a:r>
            <a:r>
              <a:rPr b="1" lang="en-US" sz="3200" spc="-1" strike="noStrike">
                <a:solidFill>
                  <a:srgbClr val="fcffd8"/>
                </a:solidFill>
                <a:latin typeface="Arial"/>
                <a:ea typeface="Arial"/>
              </a:rPr>
              <a:t> COGS </a:t>
            </a:r>
            <a:r>
              <a:rPr b="1" i="1" lang="en-US" sz="3200" spc="-1" strike="noStrike">
                <a:solidFill>
                  <a:srgbClr val="fcffd8"/>
                </a:solidFill>
                <a:latin typeface="Arial"/>
                <a:ea typeface="Arial"/>
              </a:rPr>
              <a:t>up</a:t>
            </a:r>
            <a:r>
              <a:rPr b="1" lang="en-US" sz="3200" spc="-1" strike="noStrike">
                <a:solidFill>
                  <a:srgbClr val="fcffd8"/>
                </a:solidFill>
                <a:latin typeface="Arial"/>
                <a:ea typeface="Arial"/>
              </a:rPr>
              <a:t> Gross Margin </a:t>
            </a:r>
            <a:r>
              <a:rPr b="1" i="1" lang="en-US" sz="3200" spc="-1" strike="noStrike">
                <a:solidFill>
                  <a:srgbClr val="fcffd8"/>
                </a:solidFill>
                <a:latin typeface="Arial"/>
                <a:ea typeface="Arial"/>
              </a:rPr>
              <a:t>down</a:t>
            </a:r>
            <a:r>
              <a:rPr b="1" lang="en-US" sz="3200" spc="-1" strike="noStrike">
                <a:solidFill>
                  <a:srgbClr val="fcffd8"/>
                </a:solidFill>
                <a:latin typeface="Arial"/>
                <a:ea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52" name=""/>
          <p:cNvSpPr txBox="1"/>
          <p:nvPr/>
        </p:nvSpPr>
        <p:spPr>
          <a:xfrm>
            <a:off x="838080" y="914400"/>
            <a:ext cx="8153280" cy="51055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amount assigned to ending inventory has a direct effect on net income.</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n effect, the value assigned to the ending inventory determines what portion of COGAFS is assigned to COGS and what portion is assigned to the balance sheet as inventory to be carried over into the next accounting period.</a:t>
            </a:r>
            <a:endParaRPr b="0" lang="en-US" sz="3200" spc="-1" strike="noStrike">
              <a:solidFill>
                <a:srgbClr val="ffffff"/>
              </a:solidFill>
              <a:latin typeface="Arial"/>
            </a:endParaRPr>
          </a:p>
        </p:txBody>
      </p:sp>
      <p:sp>
        <p:nvSpPr>
          <p:cNvPr id="153" name=""/>
          <p:cNvSpPr txBox="1"/>
          <p:nvPr/>
        </p:nvSpPr>
        <p:spPr>
          <a:xfrm>
            <a:off x="609480" y="152280"/>
            <a:ext cx="842472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Effect of Ending Inventory</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54" name=""/>
          <p:cNvSpPr txBox="1"/>
          <p:nvPr/>
        </p:nvSpPr>
        <p:spPr>
          <a:xfrm>
            <a:off x="1066680" y="380880"/>
            <a:ext cx="762012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Impact of Inventory Decisions</a:t>
            </a:r>
            <a:endParaRPr b="0" lang="en-US" sz="4400" spc="-1" strike="noStrike">
              <a:solidFill>
                <a:srgbClr val="ffffff"/>
              </a:solidFill>
              <a:latin typeface="Arial"/>
            </a:endParaRPr>
          </a:p>
        </p:txBody>
      </p:sp>
      <p:sp>
        <p:nvSpPr>
          <p:cNvPr id="155" name=""/>
          <p:cNvSpPr txBox="1"/>
          <p:nvPr/>
        </p:nvSpPr>
        <p:spPr>
          <a:xfrm>
            <a:off x="838080" y="1828800"/>
            <a:ext cx="8077320" cy="411480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Decisions regarding inventory usually result in different amounts of reported income, which affect:</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External evaluation.</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Internal evaluation.</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Income tax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56" name=""/>
          <p:cNvSpPr txBox="1"/>
          <p:nvPr/>
        </p:nvSpPr>
        <p:spPr>
          <a:xfrm>
            <a:off x="1066680" y="457200"/>
            <a:ext cx="754380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Impact of Inventory Decisions</a:t>
            </a:r>
            <a:endParaRPr b="0" lang="en-US" sz="4400" spc="-1" strike="noStrike">
              <a:solidFill>
                <a:srgbClr val="ffffff"/>
              </a:solidFill>
              <a:latin typeface="Arial"/>
            </a:endParaRPr>
          </a:p>
        </p:txBody>
      </p:sp>
      <p:sp>
        <p:nvSpPr>
          <p:cNvPr id="157" name=""/>
          <p:cNvSpPr txBox="1"/>
          <p:nvPr/>
        </p:nvSpPr>
        <p:spPr>
          <a:xfrm>
            <a:off x="1143000" y="1981080"/>
            <a:ext cx="7620120" cy="38862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Management must balance:</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The goal of proper income determination.</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The goal of minimizing income taxes.</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The company’s cash flow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58" name=""/>
          <p:cNvSpPr txBox="1"/>
          <p:nvPr/>
        </p:nvSpPr>
        <p:spPr>
          <a:xfrm>
            <a:off x="914400" y="304920"/>
            <a:ext cx="7835760" cy="1143000"/>
          </a:xfrm>
          <a:prstGeom prst="rect">
            <a:avLst/>
          </a:prstGeom>
          <a:noFill/>
          <a:ln w="0">
            <a:noFill/>
          </a:ln>
        </p:spPr>
        <p:txBody>
          <a:bodyPr lIns="0" rIns="0" tIns="0" bIns="0" anchor="t">
            <a:noAutofit/>
          </a:bodyPr>
          <a:p>
            <a:pPr algn="ctr">
              <a:lnSpc>
                <a:spcPct val="90000"/>
              </a:lnSpc>
            </a:pPr>
            <a:r>
              <a:rPr b="1" lang="en-US" sz="4400" spc="-1" strike="noStrike">
                <a:solidFill>
                  <a:srgbClr val="ffcc66"/>
                </a:solidFill>
                <a:latin typeface="Arial"/>
                <a:ea typeface="Arial"/>
              </a:rPr>
              <a:t>Evaluating the Level of Inventory</a:t>
            </a:r>
            <a:endParaRPr b="0" lang="en-US" sz="4400" spc="-1" strike="noStrike">
              <a:solidFill>
                <a:srgbClr val="ffffff"/>
              </a:solidFill>
              <a:latin typeface="Arial"/>
            </a:endParaRPr>
          </a:p>
        </p:txBody>
      </p:sp>
      <p:sp>
        <p:nvSpPr>
          <p:cNvPr id="159" name=""/>
          <p:cNvSpPr txBox="1"/>
          <p:nvPr/>
        </p:nvSpPr>
        <p:spPr>
          <a:xfrm>
            <a:off x="1066680" y="1447920"/>
            <a:ext cx="7543800" cy="49528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The level of inventory has important economic consequences for a company.</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2800" spc="-1" strike="noStrike">
                <a:solidFill>
                  <a:srgbClr val="fcffd8"/>
                </a:solidFill>
                <a:latin typeface="Arial"/>
                <a:ea typeface="Arial"/>
              </a:rPr>
              <a:t>Management wants a great variety and quantity on hand so that sales are maximized.</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The costs of carrying inventory are usually substantial.</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Maintaining low inventory levels may result in lost sales and unhappy custom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0" name=""/>
          <p:cNvSpPr txBox="1"/>
          <p:nvPr/>
        </p:nvSpPr>
        <p:spPr>
          <a:xfrm>
            <a:off x="838080" y="685800"/>
            <a:ext cx="7988400" cy="1303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valuating the Level of Inventory</a:t>
            </a:r>
            <a:endParaRPr b="0" lang="en-US" sz="4400" spc="-1" strike="noStrike">
              <a:solidFill>
                <a:srgbClr val="ffffff"/>
              </a:solidFill>
              <a:latin typeface="Arial"/>
            </a:endParaRPr>
          </a:p>
        </p:txBody>
      </p:sp>
      <p:sp>
        <p:nvSpPr>
          <p:cNvPr id="161" name=""/>
          <p:cNvSpPr txBox="1"/>
          <p:nvPr/>
        </p:nvSpPr>
        <p:spPr>
          <a:xfrm>
            <a:off x="990720" y="2057400"/>
            <a:ext cx="7815240" cy="321804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Merchandising and manufacturing companies are attempting to reduce their levels of inventory by changing to a just-in-time operating environ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 name=""/>
          <p:cNvSpPr txBox="1"/>
          <p:nvPr/>
        </p:nvSpPr>
        <p:spPr>
          <a:xfrm>
            <a:off x="990720" y="304920"/>
            <a:ext cx="769608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EARNING OBJECTIVES</a:t>
            </a:r>
            <a:endParaRPr b="0" lang="en-US" sz="4400" spc="-1" strike="noStrike">
              <a:solidFill>
                <a:srgbClr val="ffffff"/>
              </a:solidFill>
              <a:latin typeface="Arial"/>
            </a:endParaRPr>
          </a:p>
        </p:txBody>
      </p:sp>
      <p:pic>
        <p:nvPicPr>
          <p:cNvPr id="46" name="" descr=""/>
          <p:cNvPicPr/>
          <p:nvPr/>
        </p:nvPicPr>
        <p:blipFill>
          <a:blip r:embed="rId1"/>
          <a:stretch/>
        </p:blipFill>
        <p:spPr>
          <a:xfrm>
            <a:off x="0" y="0"/>
            <a:ext cx="876240" cy="7048440"/>
          </a:xfrm>
          <a:prstGeom prst="rect">
            <a:avLst/>
          </a:prstGeom>
          <a:ln w="0">
            <a:noFill/>
          </a:ln>
        </p:spPr>
      </p:pic>
      <p:sp>
        <p:nvSpPr>
          <p:cNvPr id="47" name=""/>
          <p:cNvSpPr txBox="1"/>
          <p:nvPr/>
        </p:nvSpPr>
        <p:spPr>
          <a:xfrm>
            <a:off x="838080" y="1143000"/>
            <a:ext cx="8001000" cy="5181480"/>
          </a:xfrm>
          <a:prstGeom prst="rect">
            <a:avLst/>
          </a:prstGeom>
          <a:noFill/>
          <a:ln w="0">
            <a:noFill/>
          </a:ln>
        </p:spPr>
        <p:txBody>
          <a:bodyPr lIns="0" rIns="0" tIns="0" bIns="0" anchor="t">
            <a:noAutofit/>
          </a:bodyPr>
          <a:p>
            <a:pPr marL="458640" indent="-458640">
              <a:lnSpc>
                <a:spcPct val="100000"/>
              </a:lnSpc>
              <a:spcBef>
                <a:spcPts val="479"/>
              </a:spcBef>
            </a:pPr>
            <a:r>
              <a:rPr b="1" lang="en-US" sz="2800" spc="-1" strike="noStrike">
                <a:solidFill>
                  <a:srgbClr val="fcffd8"/>
                </a:solidFill>
                <a:latin typeface="Arial"/>
                <a:ea typeface="Arial"/>
              </a:rPr>
              <a:t>1.</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Identify and explain the management issues associated with accounting for inventories.</a:t>
            </a:r>
            <a:endParaRPr b="0" lang="en-US" sz="2800" spc="-1" strike="noStrike">
              <a:solidFill>
                <a:srgbClr val="ffffff"/>
              </a:solidFill>
              <a:latin typeface="Arial"/>
            </a:endParaRPr>
          </a:p>
          <a:p>
            <a:pPr marL="458640" indent="-458640">
              <a:lnSpc>
                <a:spcPct val="100000"/>
              </a:lnSpc>
              <a:spcBef>
                <a:spcPts val="479"/>
              </a:spcBef>
            </a:pPr>
            <a:r>
              <a:rPr b="1" lang="en-US" sz="2800" spc="-1" strike="noStrike">
                <a:solidFill>
                  <a:srgbClr val="fcffd8"/>
                </a:solidFill>
                <a:latin typeface="Arial"/>
                <a:ea typeface="Arial"/>
              </a:rPr>
              <a:t>2.</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efine </a:t>
            </a:r>
            <a:r>
              <a:rPr b="1" i="1" lang="en-US" sz="2800" spc="-1" strike="noStrike">
                <a:solidFill>
                  <a:srgbClr val="fcffd8"/>
                </a:solidFill>
                <a:latin typeface="Arial"/>
                <a:ea typeface="Arial"/>
              </a:rPr>
              <a:t>inventory cost </a:t>
            </a:r>
            <a:r>
              <a:rPr b="1" lang="en-US" sz="2800" spc="-1" strike="noStrike">
                <a:solidFill>
                  <a:srgbClr val="fcffd8"/>
                </a:solidFill>
                <a:latin typeface="Arial"/>
                <a:ea typeface="Arial"/>
              </a:rPr>
              <a:t>and relate it to goods flow and cost flow.</a:t>
            </a:r>
            <a:endParaRPr b="0" lang="en-US" sz="2800" spc="-1" strike="noStrike">
              <a:solidFill>
                <a:srgbClr val="ffffff"/>
              </a:solidFill>
              <a:latin typeface="Arial"/>
            </a:endParaRPr>
          </a:p>
          <a:p>
            <a:pPr marL="458640" indent="-458640">
              <a:lnSpc>
                <a:spcPct val="100000"/>
              </a:lnSpc>
              <a:spcBef>
                <a:spcPts val="479"/>
              </a:spcBef>
            </a:pPr>
            <a:r>
              <a:rPr b="1" lang="en-US" sz="2800" spc="-1" strike="noStrike">
                <a:solidFill>
                  <a:srgbClr val="fcffd8"/>
                </a:solidFill>
                <a:latin typeface="Arial"/>
                <a:ea typeface="Arial"/>
              </a:rPr>
              <a:t>3.</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alculate the pricing of inventory, using the cost basis under the periodic inventory system, according to the (a) specific identification method; (b) average-cost method; (c) first-in, first-out (FIFO) method; and (d) last-in, first-out (LIFO) metho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2" name=""/>
          <p:cNvSpPr txBox="1"/>
          <p:nvPr/>
        </p:nvSpPr>
        <p:spPr>
          <a:xfrm>
            <a:off x="762120" y="1219320"/>
            <a:ext cx="8153280" cy="182340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Inventory Turnover (IT)</a:t>
            </a:r>
            <a:r>
              <a:rPr b="1" i="1" lang="en-US" sz="3200" spc="-1" strike="noStrike">
                <a:solidFill>
                  <a:srgbClr val="fcffd8"/>
                </a:solidFill>
                <a:latin typeface="Arial"/>
                <a:ea typeface="Arial"/>
              </a:rPr>
              <a:t> </a:t>
            </a:r>
            <a:r>
              <a:rPr b="1" lang="en-US" sz="3200" spc="-1" strike="noStrike">
                <a:solidFill>
                  <a:srgbClr val="fcffd8"/>
                </a:solidFill>
                <a:latin typeface="Arial"/>
                <a:ea typeface="Arial"/>
              </a:rPr>
              <a:t>indicates the number of times a company’s average inventory is sold during an accounting period.</a:t>
            </a:r>
            <a:endParaRPr b="0" lang="en-US" sz="3200" spc="-1" strike="noStrike">
              <a:solidFill>
                <a:srgbClr val="ffffff"/>
              </a:solidFill>
              <a:latin typeface="Arial"/>
            </a:endParaRPr>
          </a:p>
        </p:txBody>
      </p:sp>
      <p:sp>
        <p:nvSpPr>
          <p:cNvPr id="163" name=""/>
          <p:cNvSpPr txBox="1"/>
          <p:nvPr/>
        </p:nvSpPr>
        <p:spPr>
          <a:xfrm>
            <a:off x="1447920" y="228600"/>
            <a:ext cx="668196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Turnover</a:t>
            </a:r>
            <a:endParaRPr b="0" lang="en-US" sz="4400" spc="-1" strike="noStrike">
              <a:solidFill>
                <a:srgbClr val="ffffff"/>
              </a:solidFill>
              <a:latin typeface="Arial"/>
            </a:endParaRPr>
          </a:p>
        </p:txBody>
      </p:sp>
      <p:grpSp>
        <p:nvGrpSpPr>
          <p:cNvPr id="164" name=""/>
          <p:cNvGrpSpPr/>
          <p:nvPr/>
        </p:nvGrpSpPr>
        <p:grpSpPr>
          <a:xfrm>
            <a:off x="2438280" y="3352680"/>
            <a:ext cx="4294440" cy="942840"/>
            <a:chOff x="2438280" y="3352680"/>
            <a:chExt cx="4294440" cy="942840"/>
          </a:xfrm>
        </p:grpSpPr>
        <p:sp>
          <p:nvSpPr>
            <p:cNvPr id="165" name=""/>
            <p:cNvSpPr txBox="1"/>
            <p:nvPr/>
          </p:nvSpPr>
          <p:spPr>
            <a:xfrm>
              <a:off x="2438280" y="3581280"/>
              <a:ext cx="901800" cy="515880"/>
            </a:xfrm>
            <a:prstGeom prst="rect">
              <a:avLst/>
            </a:prstGeom>
            <a:noFill/>
            <a:ln w="0">
              <a:noFill/>
            </a:ln>
          </p:spPr>
          <p:txBody>
            <a:bodyPr lIns="0" rIns="0" tIns="0" bIns="0" anchor="t">
              <a:noAutofit/>
            </a:bodyPr>
            <a:p>
              <a:pPr>
                <a:lnSpc>
                  <a:spcPct val="100000"/>
                </a:lnSpc>
              </a:pPr>
              <a:r>
                <a:rPr b="1" lang="en-US" sz="2800" spc="-1" strike="noStrike">
                  <a:solidFill>
                    <a:srgbClr val="fcffd8"/>
                  </a:solidFill>
                  <a:latin typeface="Arial"/>
                  <a:ea typeface="Arial"/>
                </a:rPr>
                <a:t>IT  =</a:t>
              </a:r>
              <a:endParaRPr b="0" lang="en-US" sz="2800" spc="-1" strike="noStrike">
                <a:solidFill>
                  <a:srgbClr val="ffffff"/>
                </a:solidFill>
                <a:latin typeface="Arial"/>
              </a:endParaRPr>
            </a:p>
          </p:txBody>
        </p:sp>
        <p:sp>
          <p:nvSpPr>
            <p:cNvPr id="166" name=""/>
            <p:cNvSpPr txBox="1"/>
            <p:nvPr/>
          </p:nvSpPr>
          <p:spPr>
            <a:xfrm>
              <a:off x="3429000" y="3352680"/>
              <a:ext cx="3303720" cy="942840"/>
            </a:xfrm>
            <a:prstGeom prst="rect">
              <a:avLst/>
            </a:prstGeom>
            <a:noFill/>
            <a:ln w="0">
              <a:noFill/>
            </a:ln>
          </p:spPr>
          <p:txBody>
            <a:bodyPr lIns="0" rIns="0" tIns="0" bIns="0" anchor="t">
              <a:noAutofit/>
            </a:bodyPr>
            <a:p>
              <a:pPr>
                <a:lnSpc>
                  <a:spcPct val="100000"/>
                </a:lnSpc>
              </a:pPr>
              <a:r>
                <a:rPr b="1" lang="en-US" sz="2800" spc="-1" strike="noStrike" u="sng">
                  <a:solidFill>
                    <a:srgbClr val="fcffd8"/>
                  </a:solidFill>
                  <a:uFillTx/>
                  <a:latin typeface="Arial"/>
                  <a:ea typeface="Arial"/>
                </a:rPr>
                <a:t>         </a:t>
              </a:r>
              <a:r>
                <a:rPr b="1" lang="en-US" sz="2800" spc="-1" strike="noStrike" u="sng">
                  <a:solidFill>
                    <a:srgbClr val="fcffd8"/>
                  </a:solidFill>
                  <a:uFillTx/>
                  <a:latin typeface="Arial"/>
                  <a:ea typeface="Arial"/>
                </a:rPr>
                <a:t>COGS           </a:t>
              </a:r>
              <a:endParaRPr b="0" lang="en-US" sz="2800" spc="-1" strike="noStrike">
                <a:solidFill>
                  <a:srgbClr val="ffffff"/>
                </a:solidFill>
                <a:latin typeface="Arial"/>
              </a:endParaRPr>
            </a:p>
            <a:p>
              <a:pPr>
                <a:lnSpc>
                  <a:spcPct val="100000"/>
                </a:lnSpc>
              </a:pPr>
              <a:r>
                <a:rPr b="1" lang="en-US" sz="2800" spc="-1" strike="noStrike">
                  <a:solidFill>
                    <a:srgbClr val="fcffd8"/>
                  </a:solidFill>
                  <a:latin typeface="Arial"/>
                  <a:ea typeface="Arial"/>
                </a:rPr>
                <a:t>Average Inventory</a:t>
              </a:r>
              <a:endParaRPr b="0" lang="en-US" sz="2800" spc="-1" strike="noStrike">
                <a:solidFill>
                  <a:srgbClr val="ffffff"/>
                </a:solidFill>
                <a:latin typeface="Arial"/>
              </a:endParaRPr>
            </a:p>
          </p:txBody>
        </p:sp>
      </p:grpSp>
      <p:grpSp>
        <p:nvGrpSpPr>
          <p:cNvPr id="167" name=""/>
          <p:cNvGrpSpPr/>
          <p:nvPr/>
        </p:nvGrpSpPr>
        <p:grpSpPr>
          <a:xfrm>
            <a:off x="2438280" y="4495680"/>
            <a:ext cx="4554360" cy="942840"/>
            <a:chOff x="2438280" y="4495680"/>
            <a:chExt cx="4554360" cy="942840"/>
          </a:xfrm>
        </p:grpSpPr>
        <p:sp>
          <p:nvSpPr>
            <p:cNvPr id="168" name=""/>
            <p:cNvSpPr txBox="1"/>
            <p:nvPr/>
          </p:nvSpPr>
          <p:spPr>
            <a:xfrm>
              <a:off x="2438280" y="4648320"/>
              <a:ext cx="901800" cy="515880"/>
            </a:xfrm>
            <a:prstGeom prst="rect">
              <a:avLst/>
            </a:prstGeom>
            <a:noFill/>
            <a:ln w="0">
              <a:noFill/>
            </a:ln>
          </p:spPr>
          <p:txBody>
            <a:bodyPr lIns="0" rIns="0" tIns="0" bIns="0" anchor="t">
              <a:noAutofit/>
            </a:bodyPr>
            <a:p>
              <a:pPr>
                <a:lnSpc>
                  <a:spcPct val="100000"/>
                </a:lnSpc>
              </a:pPr>
              <a:r>
                <a:rPr b="1" lang="en-US" sz="2800" spc="-1" strike="noStrike">
                  <a:solidFill>
                    <a:srgbClr val="fcffd8"/>
                  </a:solidFill>
                  <a:latin typeface="Arial"/>
                  <a:ea typeface="Arial"/>
                </a:rPr>
                <a:t>IT  =</a:t>
              </a:r>
              <a:endParaRPr b="0" lang="en-US" sz="2800" spc="-1" strike="noStrike">
                <a:solidFill>
                  <a:srgbClr val="ffffff"/>
                </a:solidFill>
                <a:latin typeface="Arial"/>
              </a:endParaRPr>
            </a:p>
          </p:txBody>
        </p:sp>
        <p:sp>
          <p:nvSpPr>
            <p:cNvPr id="169" name=""/>
            <p:cNvSpPr txBox="1"/>
            <p:nvPr/>
          </p:nvSpPr>
          <p:spPr>
            <a:xfrm>
              <a:off x="3352680" y="4495680"/>
              <a:ext cx="3639960" cy="942840"/>
            </a:xfrm>
            <a:prstGeom prst="rect">
              <a:avLst/>
            </a:prstGeom>
            <a:noFill/>
            <a:ln w="0">
              <a:noFill/>
            </a:ln>
          </p:spPr>
          <p:txBody>
            <a:bodyPr lIns="0" rIns="0" tIns="0" bIns="0" anchor="t">
              <a:noAutofit/>
            </a:bodyPr>
            <a:p>
              <a:pPr>
                <a:lnSpc>
                  <a:spcPct val="100000"/>
                </a:lnSpc>
              </a:pPr>
              <a:r>
                <a:rPr b="1" lang="en-US" sz="2800" spc="-1" strike="noStrike" u="sng">
                  <a:solidFill>
                    <a:srgbClr val="fcffd8"/>
                  </a:solidFill>
                  <a:uFillTx/>
                  <a:latin typeface="Arial"/>
                  <a:ea typeface="Arial"/>
                </a:rPr>
                <a:t>         </a:t>
              </a:r>
              <a:r>
                <a:rPr b="1" lang="en-US" sz="2800" spc="-1" strike="noStrike" u="sng">
                  <a:solidFill>
                    <a:srgbClr val="fcffd8"/>
                  </a:solidFill>
                  <a:uFillTx/>
                  <a:latin typeface="Arial"/>
                  <a:ea typeface="Arial"/>
                </a:rPr>
                <a:t>$14,330            </a:t>
              </a:r>
              <a:endParaRPr b="0" lang="en-US" sz="2800" spc="-1" strike="noStrike">
                <a:solidFill>
                  <a:srgbClr val="ffffff"/>
                </a:solidFill>
                <a:latin typeface="Arial"/>
              </a:endParaRPr>
            </a:p>
            <a:p>
              <a:pPr>
                <a:lnSpc>
                  <a:spcPct val="100000"/>
                </a:lnSpc>
              </a:pPr>
              <a:r>
                <a:rPr b="1" lang="en-US" sz="2800" spc="-1" strike="noStrike">
                  <a:solidFill>
                    <a:srgbClr val="fcffd8"/>
                  </a:solidFill>
                  <a:latin typeface="Arial"/>
                  <a:ea typeface="Arial"/>
                </a:rPr>
                <a:t>($3,876 + $3,935) / 2</a:t>
              </a:r>
              <a:endParaRPr b="0" lang="en-US" sz="2800" spc="-1" strike="noStrike">
                <a:solidFill>
                  <a:srgbClr val="ffffff"/>
                </a:solidFill>
                <a:latin typeface="Arial"/>
              </a:endParaRPr>
            </a:p>
          </p:txBody>
        </p:sp>
      </p:grpSp>
      <p:sp>
        <p:nvSpPr>
          <p:cNvPr id="170" name=""/>
          <p:cNvSpPr txBox="1"/>
          <p:nvPr/>
        </p:nvSpPr>
        <p:spPr>
          <a:xfrm>
            <a:off x="2438280" y="5715000"/>
            <a:ext cx="2720880" cy="515880"/>
          </a:xfrm>
          <a:prstGeom prst="rect">
            <a:avLst/>
          </a:prstGeom>
          <a:noFill/>
          <a:ln w="0">
            <a:noFill/>
          </a:ln>
        </p:spPr>
        <p:txBody>
          <a:bodyPr lIns="0" rIns="0" tIns="0" bIns="0" anchor="t">
            <a:noAutofit/>
          </a:bodyPr>
          <a:p>
            <a:pPr>
              <a:lnSpc>
                <a:spcPct val="100000"/>
              </a:lnSpc>
            </a:pPr>
            <a:r>
              <a:rPr b="1" lang="en-US" sz="2800" spc="-1" strike="noStrike">
                <a:solidFill>
                  <a:srgbClr val="fcffd8"/>
                </a:solidFill>
                <a:latin typeface="Arial"/>
                <a:ea typeface="Arial"/>
              </a:rPr>
              <a:t>IT  =   3.7 tim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71" name=""/>
          <p:cNvSpPr txBox="1"/>
          <p:nvPr/>
        </p:nvSpPr>
        <p:spPr>
          <a:xfrm>
            <a:off x="609480" y="228600"/>
            <a:ext cx="8534520" cy="576360"/>
          </a:xfrm>
          <a:prstGeom prst="rect">
            <a:avLst/>
          </a:prstGeom>
          <a:noFill/>
          <a:ln w="0">
            <a:noFill/>
          </a:ln>
        </p:spPr>
        <p:txBody>
          <a:bodyPr lIns="0" rIns="0" tIns="0" bIns="0" anchor="t">
            <a:noAutofit/>
          </a:bodyPr>
          <a:p>
            <a:pPr algn="ctr">
              <a:lnSpc>
                <a:spcPct val="100000"/>
              </a:lnSpc>
            </a:pPr>
            <a:r>
              <a:rPr b="1" lang="en-US" sz="3200" spc="-1" strike="noStrike">
                <a:solidFill>
                  <a:srgbClr val="ffcc66"/>
                </a:solidFill>
                <a:latin typeface="Arial"/>
                <a:ea typeface="Arial"/>
              </a:rPr>
              <a:t>Inventory Turnover for Selected Industries</a:t>
            </a:r>
            <a:endParaRPr b="0" lang="en-US" sz="3200" spc="-1" strike="noStrike">
              <a:solidFill>
                <a:srgbClr val="ffffff"/>
              </a:solidFill>
              <a:latin typeface="Arial"/>
            </a:endParaRPr>
          </a:p>
        </p:txBody>
      </p:sp>
      <p:grpSp>
        <p:nvGrpSpPr>
          <p:cNvPr id="172" name=""/>
          <p:cNvGrpSpPr/>
          <p:nvPr/>
        </p:nvGrpSpPr>
        <p:grpSpPr>
          <a:xfrm>
            <a:off x="723960" y="755640"/>
            <a:ext cx="8197920" cy="5575320"/>
            <a:chOff x="723960" y="755640"/>
            <a:chExt cx="8197920" cy="5575320"/>
          </a:xfrm>
        </p:grpSpPr>
        <p:sp>
          <p:nvSpPr>
            <p:cNvPr id="173" name=""/>
            <p:cNvSpPr/>
            <p:nvPr/>
          </p:nvSpPr>
          <p:spPr>
            <a:xfrm>
              <a:off x="723960" y="755640"/>
              <a:ext cx="8197920" cy="55753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a:off x="8086680" y="1816200"/>
              <a:ext cx="0" cy="247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5" name=""/>
            <p:cNvSpPr/>
            <p:nvPr/>
          </p:nvSpPr>
          <p:spPr>
            <a:xfrm>
              <a:off x="2136600" y="5168880"/>
              <a:ext cx="314640" cy="198720"/>
            </a:xfrm>
            <a:custGeom>
              <a:avLst/>
              <a:gdLst/>
              <a:ahLst/>
              <a:rect l="0" t="0" r="r" b="b"/>
              <a:pathLst>
                <a:path w="874" h="552">
                  <a:moveTo>
                    <a:pt x="874" y="552"/>
                  </a:moveTo>
                  <a:lnTo>
                    <a:pt x="874" y="0"/>
                  </a:lnTo>
                  <a:lnTo>
                    <a:pt x="0" y="0"/>
                  </a:lnTo>
                  <a:lnTo>
                    <a:pt x="0" y="552"/>
                  </a:lnTo>
                  <a:lnTo>
                    <a:pt x="874" y="552"/>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6" name=""/>
            <p:cNvSpPr/>
            <p:nvPr/>
          </p:nvSpPr>
          <p:spPr>
            <a:xfrm>
              <a:off x="2136600" y="4859280"/>
              <a:ext cx="314640" cy="197280"/>
            </a:xfrm>
            <a:custGeom>
              <a:avLst/>
              <a:gdLst/>
              <a:ahLst/>
              <a:rect l="0" t="0" r="r" b="b"/>
              <a:pathLst>
                <a:path w="874" h="548">
                  <a:moveTo>
                    <a:pt x="874" y="0"/>
                  </a:moveTo>
                  <a:lnTo>
                    <a:pt x="874" y="548"/>
                  </a:lnTo>
                  <a:lnTo>
                    <a:pt x="0" y="548"/>
                  </a:lnTo>
                  <a:lnTo>
                    <a:pt x="0" y="0"/>
                  </a:lnTo>
                  <a:lnTo>
                    <a:pt x="874"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7" name=""/>
            <p:cNvSpPr txBox="1"/>
            <p:nvPr/>
          </p:nvSpPr>
          <p:spPr>
            <a:xfrm>
              <a:off x="2557440" y="4797360"/>
              <a:ext cx="244008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Merchandising Industries</a:t>
              </a:r>
              <a:endParaRPr b="0" lang="en-US" sz="1600" spc="-1" strike="noStrike">
                <a:solidFill>
                  <a:srgbClr val="ffffff"/>
                </a:solidFill>
                <a:latin typeface="Arial"/>
              </a:endParaRPr>
            </a:p>
          </p:txBody>
        </p:sp>
        <p:sp>
          <p:nvSpPr>
            <p:cNvPr id="178" name=""/>
            <p:cNvSpPr txBox="1"/>
            <p:nvPr/>
          </p:nvSpPr>
          <p:spPr>
            <a:xfrm>
              <a:off x="2557440" y="5108400"/>
              <a:ext cx="240660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Manufacturing Industries</a:t>
              </a:r>
              <a:endParaRPr b="0" lang="en-US" sz="1600" spc="-1" strike="noStrike">
                <a:solidFill>
                  <a:srgbClr val="ffffff"/>
                </a:solidFill>
                <a:latin typeface="Arial"/>
              </a:endParaRPr>
            </a:p>
          </p:txBody>
        </p:sp>
        <p:sp>
          <p:nvSpPr>
            <p:cNvPr id="179" name=""/>
            <p:cNvSpPr/>
            <p:nvPr/>
          </p:nvSpPr>
          <p:spPr>
            <a:xfrm>
              <a:off x="2144880" y="1816200"/>
              <a:ext cx="0" cy="247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0" name=""/>
            <p:cNvSpPr/>
            <p:nvPr/>
          </p:nvSpPr>
          <p:spPr>
            <a:xfrm>
              <a:off x="7294680" y="1816200"/>
              <a:ext cx="0" cy="247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1" name=""/>
            <p:cNvSpPr/>
            <p:nvPr/>
          </p:nvSpPr>
          <p:spPr>
            <a:xfrm>
              <a:off x="6402240" y="1816200"/>
              <a:ext cx="0" cy="247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2" name=""/>
            <p:cNvSpPr/>
            <p:nvPr/>
          </p:nvSpPr>
          <p:spPr>
            <a:xfrm>
              <a:off x="5504040" y="1816200"/>
              <a:ext cx="0" cy="247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3" name=""/>
            <p:cNvSpPr/>
            <p:nvPr/>
          </p:nvSpPr>
          <p:spPr>
            <a:xfrm>
              <a:off x="4684680" y="1816200"/>
              <a:ext cx="0" cy="247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4" name=""/>
            <p:cNvSpPr/>
            <p:nvPr/>
          </p:nvSpPr>
          <p:spPr>
            <a:xfrm>
              <a:off x="3789360" y="1816200"/>
              <a:ext cx="0" cy="247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5" name=""/>
            <p:cNvSpPr/>
            <p:nvPr/>
          </p:nvSpPr>
          <p:spPr>
            <a:xfrm>
              <a:off x="2967120" y="1816200"/>
              <a:ext cx="0" cy="247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6" name=""/>
            <p:cNvSpPr/>
            <p:nvPr/>
          </p:nvSpPr>
          <p:spPr>
            <a:xfrm flipH="1">
              <a:off x="3200400" y="3935520"/>
              <a:ext cx="5048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7" name=""/>
            <p:cNvSpPr/>
            <p:nvPr/>
          </p:nvSpPr>
          <p:spPr>
            <a:xfrm flipH="1">
              <a:off x="2703600" y="3336840"/>
              <a:ext cx="5545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8" name=""/>
            <p:cNvSpPr/>
            <p:nvPr/>
          </p:nvSpPr>
          <p:spPr>
            <a:xfrm flipH="1">
              <a:off x="3200400" y="2741760"/>
              <a:ext cx="5048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9" name=""/>
            <p:cNvSpPr/>
            <p:nvPr/>
          </p:nvSpPr>
          <p:spPr>
            <a:xfrm flipH="1">
              <a:off x="3200400" y="2139840"/>
              <a:ext cx="5048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0" name=""/>
            <p:cNvSpPr/>
            <p:nvPr/>
          </p:nvSpPr>
          <p:spPr>
            <a:xfrm>
              <a:off x="2149560" y="1928880"/>
              <a:ext cx="1887840" cy="356040"/>
            </a:xfrm>
            <a:custGeom>
              <a:avLst/>
              <a:gdLst/>
              <a:ahLst/>
              <a:rect l="0" t="0" r="r" b="b"/>
              <a:pathLst>
                <a:path w="5244" h="989">
                  <a:moveTo>
                    <a:pt x="0" y="0"/>
                  </a:moveTo>
                  <a:lnTo>
                    <a:pt x="5244" y="0"/>
                  </a:lnTo>
                  <a:lnTo>
                    <a:pt x="5244" y="989"/>
                  </a:lnTo>
                  <a:lnTo>
                    <a:pt x="0" y="989"/>
                  </a:lnTo>
                  <a:lnTo>
                    <a:pt x="0"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 name=""/>
            <p:cNvSpPr/>
            <p:nvPr/>
          </p:nvSpPr>
          <p:spPr>
            <a:xfrm>
              <a:off x="2149560" y="2522520"/>
              <a:ext cx="5469120" cy="371880"/>
            </a:xfrm>
            <a:custGeom>
              <a:avLst/>
              <a:gdLst/>
              <a:ahLst/>
              <a:rect l="0" t="0" r="r" b="b"/>
              <a:pathLst>
                <a:path w="15192" h="1033">
                  <a:moveTo>
                    <a:pt x="0" y="1033"/>
                  </a:moveTo>
                  <a:lnTo>
                    <a:pt x="15192" y="1033"/>
                  </a:lnTo>
                  <a:lnTo>
                    <a:pt x="15192" y="0"/>
                  </a:lnTo>
                  <a:lnTo>
                    <a:pt x="0" y="0"/>
                  </a:lnTo>
                  <a:lnTo>
                    <a:pt x="0" y="1033"/>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2" name=""/>
            <p:cNvSpPr/>
            <p:nvPr/>
          </p:nvSpPr>
          <p:spPr>
            <a:xfrm>
              <a:off x="2149560" y="3122640"/>
              <a:ext cx="1810080" cy="381240"/>
            </a:xfrm>
            <a:custGeom>
              <a:avLst/>
              <a:gdLst/>
              <a:ahLst/>
              <a:rect l="0" t="0" r="r" b="b"/>
              <a:pathLst>
                <a:path w="5028" h="1059">
                  <a:moveTo>
                    <a:pt x="0" y="0"/>
                  </a:moveTo>
                  <a:lnTo>
                    <a:pt x="5028" y="0"/>
                  </a:lnTo>
                  <a:lnTo>
                    <a:pt x="5028" y="1059"/>
                  </a:lnTo>
                  <a:lnTo>
                    <a:pt x="0" y="1059"/>
                  </a:lnTo>
                  <a:lnTo>
                    <a:pt x="0" y="0"/>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3" name=""/>
            <p:cNvSpPr/>
            <p:nvPr/>
          </p:nvSpPr>
          <p:spPr>
            <a:xfrm>
              <a:off x="2149560" y="3720960"/>
              <a:ext cx="3107160" cy="392400"/>
            </a:xfrm>
            <a:custGeom>
              <a:avLst/>
              <a:gdLst/>
              <a:ahLst/>
              <a:rect l="0" t="0" r="r" b="b"/>
              <a:pathLst>
                <a:path w="8631" h="1090">
                  <a:moveTo>
                    <a:pt x="0" y="1090"/>
                  </a:moveTo>
                  <a:lnTo>
                    <a:pt x="8631" y="1090"/>
                  </a:lnTo>
                  <a:lnTo>
                    <a:pt x="8631" y="0"/>
                  </a:lnTo>
                  <a:lnTo>
                    <a:pt x="0" y="0"/>
                  </a:lnTo>
                  <a:lnTo>
                    <a:pt x="0" y="1090"/>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4" name=""/>
            <p:cNvSpPr txBox="1"/>
            <p:nvPr/>
          </p:nvSpPr>
          <p:spPr>
            <a:xfrm>
              <a:off x="8380440" y="1889280"/>
              <a:ext cx="46368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4.6</a:t>
              </a:r>
              <a:endParaRPr b="0" lang="en-US" sz="1600" spc="-1" strike="noStrike">
                <a:solidFill>
                  <a:srgbClr val="ffffff"/>
                </a:solidFill>
                <a:latin typeface="Arial"/>
              </a:endParaRPr>
            </a:p>
          </p:txBody>
        </p:sp>
        <p:sp>
          <p:nvSpPr>
            <p:cNvPr id="195" name=""/>
            <p:cNvSpPr txBox="1"/>
            <p:nvPr/>
          </p:nvSpPr>
          <p:spPr>
            <a:xfrm>
              <a:off x="8277120" y="2487600"/>
              <a:ext cx="57636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12.8</a:t>
              </a:r>
              <a:endParaRPr b="0" lang="en-US" sz="1600" spc="-1" strike="noStrike">
                <a:solidFill>
                  <a:srgbClr val="ffffff"/>
                </a:solidFill>
                <a:latin typeface="Arial"/>
              </a:endParaRPr>
            </a:p>
          </p:txBody>
        </p:sp>
        <p:sp>
          <p:nvSpPr>
            <p:cNvPr id="196" name=""/>
            <p:cNvSpPr txBox="1"/>
            <p:nvPr/>
          </p:nvSpPr>
          <p:spPr>
            <a:xfrm>
              <a:off x="8380440" y="3085920"/>
              <a:ext cx="46368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4.3</a:t>
              </a:r>
              <a:endParaRPr b="0" lang="en-US" sz="1600" spc="-1" strike="noStrike">
                <a:solidFill>
                  <a:srgbClr val="ffffff"/>
                </a:solidFill>
                <a:latin typeface="Arial"/>
              </a:endParaRPr>
            </a:p>
          </p:txBody>
        </p:sp>
        <p:sp>
          <p:nvSpPr>
            <p:cNvPr id="197" name=""/>
            <p:cNvSpPr txBox="1"/>
            <p:nvPr/>
          </p:nvSpPr>
          <p:spPr>
            <a:xfrm>
              <a:off x="8380440" y="3686040"/>
              <a:ext cx="46368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7.3</a:t>
              </a:r>
              <a:endParaRPr b="0" lang="en-US" sz="1600" spc="-1" strike="noStrike">
                <a:solidFill>
                  <a:srgbClr val="ffffff"/>
                </a:solidFill>
                <a:latin typeface="Arial"/>
              </a:endParaRPr>
            </a:p>
          </p:txBody>
        </p:sp>
        <p:sp>
          <p:nvSpPr>
            <p:cNvPr id="198" name=""/>
            <p:cNvSpPr txBox="1"/>
            <p:nvPr/>
          </p:nvSpPr>
          <p:spPr>
            <a:xfrm>
              <a:off x="1116000" y="1849320"/>
              <a:ext cx="110808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Auto and  </a:t>
              </a:r>
              <a:endParaRPr b="0" lang="en-US" sz="1600" spc="-1" strike="noStrike">
                <a:solidFill>
                  <a:srgbClr val="ffffff"/>
                </a:solidFill>
                <a:latin typeface="Arial"/>
              </a:endParaRPr>
            </a:p>
          </p:txBody>
        </p:sp>
        <p:sp>
          <p:nvSpPr>
            <p:cNvPr id="199" name=""/>
            <p:cNvSpPr txBox="1"/>
            <p:nvPr/>
          </p:nvSpPr>
          <p:spPr>
            <a:xfrm>
              <a:off x="762120" y="2043000"/>
              <a:ext cx="140004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Home Supply</a:t>
              </a:r>
              <a:endParaRPr b="0" lang="en-US" sz="1600" spc="-1" strike="noStrike">
                <a:solidFill>
                  <a:srgbClr val="ffffff"/>
                </a:solidFill>
                <a:latin typeface="Arial"/>
              </a:endParaRPr>
            </a:p>
          </p:txBody>
        </p:sp>
        <p:sp>
          <p:nvSpPr>
            <p:cNvPr id="200" name=""/>
            <p:cNvSpPr txBox="1"/>
            <p:nvPr/>
          </p:nvSpPr>
          <p:spPr>
            <a:xfrm>
              <a:off x="1243080" y="2444760"/>
              <a:ext cx="96048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Grocery </a:t>
              </a:r>
              <a:endParaRPr b="0" lang="en-US" sz="1600" spc="-1" strike="noStrike">
                <a:solidFill>
                  <a:srgbClr val="ffffff"/>
                </a:solidFill>
                <a:latin typeface="Arial"/>
              </a:endParaRPr>
            </a:p>
          </p:txBody>
        </p:sp>
        <p:sp>
          <p:nvSpPr>
            <p:cNvPr id="201" name=""/>
            <p:cNvSpPr txBox="1"/>
            <p:nvPr/>
          </p:nvSpPr>
          <p:spPr>
            <a:xfrm>
              <a:off x="1295280" y="2639880"/>
              <a:ext cx="76824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Stores</a:t>
              </a:r>
              <a:endParaRPr b="0" lang="en-US" sz="1600" spc="-1" strike="noStrike">
                <a:solidFill>
                  <a:srgbClr val="ffffff"/>
                </a:solidFill>
                <a:latin typeface="Arial"/>
              </a:endParaRPr>
            </a:p>
          </p:txBody>
        </p:sp>
        <p:sp>
          <p:nvSpPr>
            <p:cNvPr id="202" name=""/>
            <p:cNvSpPr txBox="1"/>
            <p:nvPr/>
          </p:nvSpPr>
          <p:spPr>
            <a:xfrm>
              <a:off x="1206360" y="3041640"/>
              <a:ext cx="101592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Pharma- </a:t>
              </a:r>
              <a:endParaRPr b="0" lang="en-US" sz="1600" spc="-1" strike="noStrike">
                <a:solidFill>
                  <a:srgbClr val="ffffff"/>
                </a:solidFill>
                <a:latin typeface="Arial"/>
              </a:endParaRPr>
            </a:p>
          </p:txBody>
        </p:sp>
        <p:sp>
          <p:nvSpPr>
            <p:cNvPr id="203" name=""/>
            <p:cNvSpPr txBox="1"/>
            <p:nvPr/>
          </p:nvSpPr>
          <p:spPr>
            <a:xfrm>
              <a:off x="1143000" y="3238560"/>
              <a:ext cx="97164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ceuticals</a:t>
              </a:r>
              <a:endParaRPr b="0" lang="en-US" sz="1600" spc="-1" strike="noStrike">
                <a:solidFill>
                  <a:srgbClr val="ffffff"/>
                </a:solidFill>
                <a:latin typeface="Arial"/>
              </a:endParaRPr>
            </a:p>
          </p:txBody>
        </p:sp>
        <p:sp>
          <p:nvSpPr>
            <p:cNvPr id="204" name=""/>
            <p:cNvSpPr/>
            <p:nvPr/>
          </p:nvSpPr>
          <p:spPr>
            <a:xfrm>
              <a:off x="1022400" y="3639960"/>
              <a:ext cx="1222200" cy="357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05" name=""/>
            <p:cNvSpPr txBox="1"/>
            <p:nvPr/>
          </p:nvSpPr>
          <p:spPr>
            <a:xfrm>
              <a:off x="1003320" y="3827520"/>
              <a:ext cx="113040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Tableware</a:t>
              </a:r>
              <a:endParaRPr b="0" lang="en-US" sz="1600" spc="-1" strike="noStrike">
                <a:solidFill>
                  <a:srgbClr val="ffffff"/>
                </a:solidFill>
                <a:latin typeface="Arial"/>
              </a:endParaRPr>
            </a:p>
          </p:txBody>
        </p:sp>
        <p:sp>
          <p:nvSpPr>
            <p:cNvPr id="206" name=""/>
            <p:cNvSpPr txBox="1"/>
            <p:nvPr/>
          </p:nvSpPr>
          <p:spPr>
            <a:xfrm>
              <a:off x="2004840" y="4307040"/>
              <a:ext cx="29376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0</a:t>
              </a:r>
              <a:endParaRPr b="0" lang="en-US" sz="1600" spc="-1" strike="noStrike">
                <a:solidFill>
                  <a:srgbClr val="ffffff"/>
                </a:solidFill>
                <a:latin typeface="Arial"/>
              </a:endParaRPr>
            </a:p>
          </p:txBody>
        </p:sp>
        <p:sp>
          <p:nvSpPr>
            <p:cNvPr id="207" name=""/>
            <p:cNvSpPr txBox="1"/>
            <p:nvPr/>
          </p:nvSpPr>
          <p:spPr>
            <a:xfrm>
              <a:off x="2822400" y="4307040"/>
              <a:ext cx="29376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2</a:t>
              </a:r>
              <a:endParaRPr b="0" lang="en-US" sz="1600" spc="-1" strike="noStrike">
                <a:solidFill>
                  <a:srgbClr val="ffffff"/>
                </a:solidFill>
                <a:latin typeface="Arial"/>
              </a:endParaRPr>
            </a:p>
          </p:txBody>
        </p:sp>
        <p:sp>
          <p:nvSpPr>
            <p:cNvPr id="208" name=""/>
            <p:cNvSpPr txBox="1"/>
            <p:nvPr/>
          </p:nvSpPr>
          <p:spPr>
            <a:xfrm>
              <a:off x="3656160" y="4307040"/>
              <a:ext cx="29376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4</a:t>
              </a:r>
              <a:endParaRPr b="0" lang="en-US" sz="1600" spc="-1" strike="noStrike">
                <a:solidFill>
                  <a:srgbClr val="ffffff"/>
                </a:solidFill>
                <a:latin typeface="Arial"/>
              </a:endParaRPr>
            </a:p>
          </p:txBody>
        </p:sp>
        <p:sp>
          <p:nvSpPr>
            <p:cNvPr id="209" name=""/>
            <p:cNvSpPr txBox="1"/>
            <p:nvPr/>
          </p:nvSpPr>
          <p:spPr>
            <a:xfrm>
              <a:off x="4551480" y="4307040"/>
              <a:ext cx="29376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6</a:t>
              </a:r>
              <a:endParaRPr b="0" lang="en-US" sz="1600" spc="-1" strike="noStrike">
                <a:solidFill>
                  <a:srgbClr val="ffffff"/>
                </a:solidFill>
                <a:latin typeface="Arial"/>
              </a:endParaRPr>
            </a:p>
          </p:txBody>
        </p:sp>
        <p:sp>
          <p:nvSpPr>
            <p:cNvPr id="210" name=""/>
            <p:cNvSpPr txBox="1"/>
            <p:nvPr/>
          </p:nvSpPr>
          <p:spPr>
            <a:xfrm>
              <a:off x="5376960" y="4307040"/>
              <a:ext cx="29376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8</a:t>
              </a:r>
              <a:endParaRPr b="0" lang="en-US" sz="1600" spc="-1" strike="noStrike">
                <a:solidFill>
                  <a:srgbClr val="ffffff"/>
                </a:solidFill>
                <a:latin typeface="Arial"/>
              </a:endParaRPr>
            </a:p>
          </p:txBody>
        </p:sp>
        <p:sp>
          <p:nvSpPr>
            <p:cNvPr id="211" name=""/>
            <p:cNvSpPr txBox="1"/>
            <p:nvPr/>
          </p:nvSpPr>
          <p:spPr>
            <a:xfrm>
              <a:off x="6216480" y="4307040"/>
              <a:ext cx="40644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10</a:t>
              </a:r>
              <a:endParaRPr b="0" lang="en-US" sz="1600" spc="-1" strike="noStrike">
                <a:solidFill>
                  <a:srgbClr val="ffffff"/>
                </a:solidFill>
                <a:latin typeface="Arial"/>
              </a:endParaRPr>
            </a:p>
          </p:txBody>
        </p:sp>
        <p:sp>
          <p:nvSpPr>
            <p:cNvPr id="212" name=""/>
            <p:cNvSpPr txBox="1"/>
            <p:nvPr/>
          </p:nvSpPr>
          <p:spPr>
            <a:xfrm>
              <a:off x="7118280" y="4307040"/>
              <a:ext cx="40644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12</a:t>
              </a:r>
              <a:endParaRPr b="0" lang="en-US" sz="1600" spc="-1" strike="noStrike">
                <a:solidFill>
                  <a:srgbClr val="ffffff"/>
                </a:solidFill>
                <a:latin typeface="Arial"/>
              </a:endParaRPr>
            </a:p>
          </p:txBody>
        </p:sp>
        <p:sp>
          <p:nvSpPr>
            <p:cNvPr id="213" name=""/>
            <p:cNvSpPr txBox="1"/>
            <p:nvPr/>
          </p:nvSpPr>
          <p:spPr>
            <a:xfrm>
              <a:off x="7912080" y="4307040"/>
              <a:ext cx="40644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14</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14" name=""/>
          <p:cNvSpPr txBox="1"/>
          <p:nvPr/>
        </p:nvSpPr>
        <p:spPr>
          <a:xfrm>
            <a:off x="762120" y="1600200"/>
            <a:ext cx="8153280" cy="17524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verage days’ inventory on hand</a:t>
            </a:r>
            <a:r>
              <a:rPr b="1" i="1" lang="en-US" sz="3200" spc="-1" strike="noStrike">
                <a:solidFill>
                  <a:srgbClr val="fcffd8"/>
                </a:solidFill>
                <a:latin typeface="Arial"/>
                <a:ea typeface="Arial"/>
              </a:rPr>
              <a:t> </a:t>
            </a:r>
            <a:r>
              <a:rPr b="1" lang="en-US" sz="3200" spc="-1" strike="noStrike">
                <a:solidFill>
                  <a:srgbClr val="fcffd8"/>
                </a:solidFill>
                <a:latin typeface="Arial"/>
                <a:ea typeface="Arial"/>
              </a:rPr>
              <a:t>indicates the average number of days required to sell the inventory on hand.</a:t>
            </a:r>
            <a:r>
              <a:rPr b="1" i="1" lang="en-US" sz="3200" spc="-1" strike="noStrike">
                <a:solidFill>
                  <a:srgbClr val="fcffd8"/>
                </a:solidFill>
                <a:latin typeface="Arial"/>
                <a:ea typeface="Arial"/>
              </a:rPr>
              <a:t> </a:t>
            </a:r>
            <a:endParaRPr b="0" lang="en-US" sz="3200" spc="-1" strike="noStrike">
              <a:solidFill>
                <a:srgbClr val="ffffff"/>
              </a:solidFill>
              <a:latin typeface="Arial"/>
            </a:endParaRPr>
          </a:p>
        </p:txBody>
      </p:sp>
      <p:sp>
        <p:nvSpPr>
          <p:cNvPr id="215" name=""/>
          <p:cNvSpPr txBox="1"/>
          <p:nvPr/>
        </p:nvSpPr>
        <p:spPr>
          <a:xfrm>
            <a:off x="1066680" y="228600"/>
            <a:ext cx="754380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verage Days’ Inventory on Hand</a:t>
            </a:r>
            <a:endParaRPr b="0" lang="en-US" sz="4400" spc="-1" strike="noStrike">
              <a:solidFill>
                <a:srgbClr val="ffffff"/>
              </a:solidFill>
              <a:latin typeface="Arial"/>
            </a:endParaRPr>
          </a:p>
        </p:txBody>
      </p:sp>
      <p:grpSp>
        <p:nvGrpSpPr>
          <p:cNvPr id="216" name=""/>
          <p:cNvGrpSpPr/>
          <p:nvPr/>
        </p:nvGrpSpPr>
        <p:grpSpPr>
          <a:xfrm>
            <a:off x="2209680" y="3276720"/>
            <a:ext cx="5016600" cy="942840"/>
            <a:chOff x="2209680" y="3276720"/>
            <a:chExt cx="5016600" cy="942840"/>
          </a:xfrm>
        </p:grpSpPr>
        <p:sp>
          <p:nvSpPr>
            <p:cNvPr id="217" name=""/>
            <p:cNvSpPr txBox="1"/>
            <p:nvPr/>
          </p:nvSpPr>
          <p:spPr>
            <a:xfrm>
              <a:off x="2209680" y="3533760"/>
              <a:ext cx="1731960" cy="515880"/>
            </a:xfrm>
            <a:prstGeom prst="rect">
              <a:avLst/>
            </a:prstGeom>
            <a:noFill/>
            <a:ln w="0">
              <a:noFill/>
            </a:ln>
          </p:spPr>
          <p:txBody>
            <a:bodyPr lIns="0" rIns="0" tIns="0" bIns="0" anchor="t">
              <a:noAutofit/>
            </a:bodyPr>
            <a:p>
              <a:pPr>
                <a:lnSpc>
                  <a:spcPct val="100000"/>
                </a:lnSpc>
              </a:pPr>
              <a:r>
                <a:rPr b="1" lang="en-US" sz="2800" spc="-1" strike="noStrike">
                  <a:solidFill>
                    <a:srgbClr val="fcffd8"/>
                  </a:solidFill>
                  <a:latin typeface="Arial"/>
                  <a:ea typeface="Arial"/>
                </a:rPr>
                <a:t>ADIOH  =</a:t>
              </a:r>
              <a:endParaRPr b="0" lang="en-US" sz="2800" spc="-1" strike="noStrike">
                <a:solidFill>
                  <a:srgbClr val="ffffff"/>
                </a:solidFill>
                <a:latin typeface="Arial"/>
              </a:endParaRPr>
            </a:p>
          </p:txBody>
        </p:sp>
        <p:sp>
          <p:nvSpPr>
            <p:cNvPr id="218" name=""/>
            <p:cNvSpPr txBox="1"/>
            <p:nvPr/>
          </p:nvSpPr>
          <p:spPr>
            <a:xfrm>
              <a:off x="3962520" y="3276720"/>
              <a:ext cx="3263760" cy="942840"/>
            </a:xfrm>
            <a:prstGeom prst="rect">
              <a:avLst/>
            </a:prstGeom>
            <a:noFill/>
            <a:ln w="0">
              <a:noFill/>
            </a:ln>
          </p:spPr>
          <p:txBody>
            <a:bodyPr lIns="0" rIns="0" tIns="0" bIns="0" anchor="t">
              <a:noAutofit/>
            </a:bodyPr>
            <a:p>
              <a:pPr>
                <a:lnSpc>
                  <a:spcPct val="100000"/>
                </a:lnSpc>
              </a:pPr>
              <a:r>
                <a:rPr b="1" lang="en-US" sz="2800" spc="-1" strike="noStrike" u="sng">
                  <a:solidFill>
                    <a:srgbClr val="fcffd8"/>
                  </a:solidFill>
                  <a:uFillTx/>
                  <a:latin typeface="Arial"/>
                  <a:ea typeface="Arial"/>
                </a:rPr>
                <a:t># of days in a year</a:t>
              </a:r>
              <a:endParaRPr b="0" lang="en-US" sz="2800" spc="-1" strike="noStrike">
                <a:solidFill>
                  <a:srgbClr val="ffffff"/>
                </a:solidFill>
                <a:latin typeface="Arial"/>
              </a:endParaRPr>
            </a:p>
            <a:p>
              <a:pPr>
                <a:lnSpc>
                  <a:spcPct val="100000"/>
                </a:lnSpc>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IT</a:t>
              </a:r>
              <a:endParaRPr b="0" lang="en-US" sz="2800" spc="-1" strike="noStrike">
                <a:solidFill>
                  <a:srgbClr val="ffffff"/>
                </a:solidFill>
                <a:latin typeface="Arial"/>
              </a:endParaRPr>
            </a:p>
          </p:txBody>
        </p:sp>
      </p:grpSp>
      <p:grpSp>
        <p:nvGrpSpPr>
          <p:cNvPr id="219" name=""/>
          <p:cNvGrpSpPr/>
          <p:nvPr/>
        </p:nvGrpSpPr>
        <p:grpSpPr>
          <a:xfrm>
            <a:off x="2209680" y="4419720"/>
            <a:ext cx="3608640" cy="942840"/>
            <a:chOff x="2209680" y="4419720"/>
            <a:chExt cx="3608640" cy="942840"/>
          </a:xfrm>
        </p:grpSpPr>
        <p:sp>
          <p:nvSpPr>
            <p:cNvPr id="220" name=""/>
            <p:cNvSpPr txBox="1"/>
            <p:nvPr/>
          </p:nvSpPr>
          <p:spPr>
            <a:xfrm>
              <a:off x="2209680" y="4618080"/>
              <a:ext cx="1731960" cy="515880"/>
            </a:xfrm>
            <a:prstGeom prst="rect">
              <a:avLst/>
            </a:prstGeom>
            <a:noFill/>
            <a:ln w="0">
              <a:noFill/>
            </a:ln>
          </p:spPr>
          <p:txBody>
            <a:bodyPr lIns="0" rIns="0" tIns="0" bIns="0" anchor="t">
              <a:noAutofit/>
            </a:bodyPr>
            <a:p>
              <a:pPr>
                <a:lnSpc>
                  <a:spcPct val="100000"/>
                </a:lnSpc>
              </a:pPr>
              <a:r>
                <a:rPr b="1" lang="en-US" sz="2800" spc="-1" strike="noStrike">
                  <a:solidFill>
                    <a:srgbClr val="fcffd8"/>
                  </a:solidFill>
                  <a:latin typeface="Arial"/>
                  <a:ea typeface="Arial"/>
                </a:rPr>
                <a:t>ADIOH  =</a:t>
              </a:r>
              <a:endParaRPr b="0" lang="en-US" sz="2800" spc="-1" strike="noStrike">
                <a:solidFill>
                  <a:srgbClr val="ffffff"/>
                </a:solidFill>
                <a:latin typeface="Arial"/>
              </a:endParaRPr>
            </a:p>
          </p:txBody>
        </p:sp>
        <p:sp>
          <p:nvSpPr>
            <p:cNvPr id="221" name=""/>
            <p:cNvSpPr txBox="1"/>
            <p:nvPr/>
          </p:nvSpPr>
          <p:spPr>
            <a:xfrm>
              <a:off x="4114800" y="4419720"/>
              <a:ext cx="1703520" cy="942840"/>
            </a:xfrm>
            <a:prstGeom prst="rect">
              <a:avLst/>
            </a:prstGeom>
            <a:noFill/>
            <a:ln w="0">
              <a:noFill/>
            </a:ln>
          </p:spPr>
          <p:txBody>
            <a:bodyPr lIns="0" rIns="0" tIns="0" bIns="0" anchor="t">
              <a:noAutofit/>
            </a:bodyPr>
            <a:p>
              <a:pPr>
                <a:lnSpc>
                  <a:spcPct val="100000"/>
                </a:lnSpc>
              </a:pPr>
              <a:r>
                <a:rPr b="1" lang="en-US" sz="2800" spc="-1" strike="noStrike" u="sng">
                  <a:solidFill>
                    <a:srgbClr val="fcffd8"/>
                  </a:solidFill>
                  <a:uFillTx/>
                  <a:latin typeface="Arial"/>
                  <a:ea typeface="Arial"/>
                </a:rPr>
                <a:t>365 days</a:t>
              </a:r>
              <a:endParaRPr b="0" lang="en-US" sz="2800" spc="-1" strike="noStrike">
                <a:solidFill>
                  <a:srgbClr val="ffffff"/>
                </a:solidFill>
                <a:latin typeface="Arial"/>
              </a:endParaRPr>
            </a:p>
            <a:p>
              <a:pPr>
                <a:lnSpc>
                  <a:spcPct val="100000"/>
                </a:lnSpc>
              </a:pPr>
              <a:r>
                <a:rPr b="1" lang="en-US" sz="2800" spc="-1" strike="noStrike">
                  <a:solidFill>
                    <a:srgbClr val="fcffd8"/>
                  </a:solidFill>
                  <a:latin typeface="Arial"/>
                  <a:ea typeface="Arial"/>
                </a:rPr>
                <a:t>3.7 times</a:t>
              </a:r>
              <a:endParaRPr b="0" lang="en-US" sz="2800" spc="-1" strike="noStrike">
                <a:solidFill>
                  <a:srgbClr val="ffffff"/>
                </a:solidFill>
                <a:latin typeface="Arial"/>
              </a:endParaRPr>
            </a:p>
          </p:txBody>
        </p:sp>
      </p:grpSp>
      <p:sp>
        <p:nvSpPr>
          <p:cNvPr id="222" name=""/>
          <p:cNvSpPr txBox="1"/>
          <p:nvPr/>
        </p:nvSpPr>
        <p:spPr>
          <a:xfrm>
            <a:off x="2209680" y="5562720"/>
            <a:ext cx="3530520" cy="515880"/>
          </a:xfrm>
          <a:prstGeom prst="rect">
            <a:avLst/>
          </a:prstGeom>
          <a:noFill/>
          <a:ln w="0">
            <a:noFill/>
          </a:ln>
        </p:spPr>
        <p:txBody>
          <a:bodyPr lIns="0" rIns="0" tIns="0" bIns="0" anchor="t">
            <a:noAutofit/>
          </a:bodyPr>
          <a:p>
            <a:pPr>
              <a:lnSpc>
                <a:spcPct val="100000"/>
              </a:lnSpc>
            </a:pPr>
            <a:r>
              <a:rPr b="1" lang="en-US" sz="2800" spc="-1" strike="noStrike">
                <a:solidFill>
                  <a:srgbClr val="fcffd8"/>
                </a:solidFill>
                <a:latin typeface="Arial"/>
                <a:ea typeface="Arial"/>
              </a:rPr>
              <a:t>ADIOH  =  98.6 day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grpSp>
        <p:nvGrpSpPr>
          <p:cNvPr id="223" name=""/>
          <p:cNvGrpSpPr/>
          <p:nvPr/>
        </p:nvGrpSpPr>
        <p:grpSpPr>
          <a:xfrm>
            <a:off x="679320" y="1060560"/>
            <a:ext cx="8224920" cy="5270400"/>
            <a:chOff x="679320" y="1060560"/>
            <a:chExt cx="8224920" cy="5270400"/>
          </a:xfrm>
        </p:grpSpPr>
        <p:sp>
          <p:nvSpPr>
            <p:cNvPr id="224" name=""/>
            <p:cNvSpPr/>
            <p:nvPr/>
          </p:nvSpPr>
          <p:spPr>
            <a:xfrm>
              <a:off x="679320" y="1060560"/>
              <a:ext cx="8224920" cy="52704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2168640" y="5340240"/>
              <a:ext cx="317880" cy="198720"/>
            </a:xfrm>
            <a:custGeom>
              <a:avLst/>
              <a:gdLst/>
              <a:ahLst/>
              <a:rect l="0" t="0" r="r" b="b"/>
              <a:pathLst>
                <a:path w="883" h="552">
                  <a:moveTo>
                    <a:pt x="883" y="552"/>
                  </a:moveTo>
                  <a:lnTo>
                    <a:pt x="883" y="0"/>
                  </a:lnTo>
                  <a:lnTo>
                    <a:pt x="0" y="0"/>
                  </a:lnTo>
                  <a:lnTo>
                    <a:pt x="0" y="552"/>
                  </a:lnTo>
                  <a:lnTo>
                    <a:pt x="883" y="552"/>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6" name=""/>
            <p:cNvSpPr/>
            <p:nvPr/>
          </p:nvSpPr>
          <p:spPr>
            <a:xfrm>
              <a:off x="2168640" y="5024520"/>
              <a:ext cx="317880" cy="200520"/>
            </a:xfrm>
            <a:custGeom>
              <a:avLst/>
              <a:gdLst/>
              <a:ahLst/>
              <a:rect l="0" t="0" r="r" b="b"/>
              <a:pathLst>
                <a:path w="883" h="557">
                  <a:moveTo>
                    <a:pt x="883" y="0"/>
                  </a:moveTo>
                  <a:lnTo>
                    <a:pt x="883" y="557"/>
                  </a:lnTo>
                  <a:lnTo>
                    <a:pt x="0" y="557"/>
                  </a:lnTo>
                  <a:lnTo>
                    <a:pt x="0" y="0"/>
                  </a:lnTo>
                  <a:lnTo>
                    <a:pt x="883"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7" name=""/>
            <p:cNvSpPr txBox="1"/>
            <p:nvPr/>
          </p:nvSpPr>
          <p:spPr>
            <a:xfrm>
              <a:off x="2592360" y="4956120"/>
              <a:ext cx="26431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Merchandising Industries</a:t>
              </a:r>
              <a:endParaRPr b="0" lang="en-US" sz="1600" spc="-1" strike="noStrike">
                <a:solidFill>
                  <a:srgbClr val="ffffff"/>
                </a:solidFill>
                <a:latin typeface="Arial"/>
              </a:endParaRPr>
            </a:p>
          </p:txBody>
        </p:sp>
        <p:sp>
          <p:nvSpPr>
            <p:cNvPr id="228" name=""/>
            <p:cNvSpPr txBox="1"/>
            <p:nvPr/>
          </p:nvSpPr>
          <p:spPr>
            <a:xfrm>
              <a:off x="2592360" y="5268960"/>
              <a:ext cx="26082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Manufacturing Industries</a:t>
              </a:r>
              <a:endParaRPr b="0" lang="en-US" sz="1600" spc="-1" strike="noStrike">
                <a:solidFill>
                  <a:srgbClr val="ffffff"/>
                </a:solidFill>
                <a:latin typeface="Arial"/>
              </a:endParaRPr>
            </a:p>
          </p:txBody>
        </p:sp>
        <p:sp>
          <p:nvSpPr>
            <p:cNvPr id="229" name=""/>
            <p:cNvSpPr/>
            <p:nvPr/>
          </p:nvSpPr>
          <p:spPr>
            <a:xfrm>
              <a:off x="7977240" y="1941480"/>
              <a:ext cx="0" cy="250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0" name=""/>
            <p:cNvSpPr/>
            <p:nvPr/>
          </p:nvSpPr>
          <p:spPr>
            <a:xfrm>
              <a:off x="2178000" y="1941480"/>
              <a:ext cx="0" cy="2509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1" name=""/>
            <p:cNvSpPr/>
            <p:nvPr/>
          </p:nvSpPr>
          <p:spPr>
            <a:xfrm>
              <a:off x="7924680" y="1984320"/>
              <a:ext cx="0" cy="2509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2" name=""/>
            <p:cNvSpPr/>
            <p:nvPr/>
          </p:nvSpPr>
          <p:spPr>
            <a:xfrm>
              <a:off x="6526080" y="1941480"/>
              <a:ext cx="0" cy="2509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3" name=""/>
            <p:cNvSpPr/>
            <p:nvPr/>
          </p:nvSpPr>
          <p:spPr>
            <a:xfrm>
              <a:off x="5076720" y="1941480"/>
              <a:ext cx="0" cy="2509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4" name=""/>
            <p:cNvSpPr/>
            <p:nvPr/>
          </p:nvSpPr>
          <p:spPr>
            <a:xfrm>
              <a:off x="3629160" y="1941480"/>
              <a:ext cx="0" cy="2509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5" name=""/>
            <p:cNvSpPr/>
            <p:nvPr/>
          </p:nvSpPr>
          <p:spPr>
            <a:xfrm flipH="1">
              <a:off x="3233880" y="4091040"/>
              <a:ext cx="4956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6" name=""/>
            <p:cNvSpPr/>
            <p:nvPr/>
          </p:nvSpPr>
          <p:spPr>
            <a:xfrm flipH="1">
              <a:off x="2739960" y="3486240"/>
              <a:ext cx="5450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7" name=""/>
            <p:cNvSpPr/>
            <p:nvPr/>
          </p:nvSpPr>
          <p:spPr>
            <a:xfrm flipH="1">
              <a:off x="2508120" y="2881440"/>
              <a:ext cx="5681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8" name=""/>
            <p:cNvSpPr/>
            <p:nvPr/>
          </p:nvSpPr>
          <p:spPr>
            <a:xfrm flipH="1">
              <a:off x="3233880" y="2274840"/>
              <a:ext cx="4956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9" name=""/>
            <p:cNvSpPr/>
            <p:nvPr/>
          </p:nvSpPr>
          <p:spPr>
            <a:xfrm>
              <a:off x="2184480" y="2060640"/>
              <a:ext cx="4594680" cy="452880"/>
            </a:xfrm>
            <a:custGeom>
              <a:avLst/>
              <a:gdLst/>
              <a:ahLst/>
              <a:rect l="0" t="0" r="r" b="b"/>
              <a:pathLst>
                <a:path w="12763" h="1258">
                  <a:moveTo>
                    <a:pt x="0" y="0"/>
                  </a:moveTo>
                  <a:lnTo>
                    <a:pt x="12763" y="0"/>
                  </a:lnTo>
                  <a:lnTo>
                    <a:pt x="12763" y="1258"/>
                  </a:lnTo>
                  <a:lnTo>
                    <a:pt x="0" y="1258"/>
                  </a:lnTo>
                  <a:lnTo>
                    <a:pt x="0"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0" name=""/>
            <p:cNvSpPr/>
            <p:nvPr/>
          </p:nvSpPr>
          <p:spPr>
            <a:xfrm>
              <a:off x="2184480" y="2660760"/>
              <a:ext cx="1622880" cy="462240"/>
            </a:xfrm>
            <a:custGeom>
              <a:avLst/>
              <a:gdLst/>
              <a:ahLst/>
              <a:rect l="0" t="0" r="r" b="b"/>
              <a:pathLst>
                <a:path w="4508" h="1284">
                  <a:moveTo>
                    <a:pt x="0" y="1284"/>
                  </a:moveTo>
                  <a:lnTo>
                    <a:pt x="4508" y="1284"/>
                  </a:lnTo>
                  <a:lnTo>
                    <a:pt x="4508" y="0"/>
                  </a:lnTo>
                  <a:lnTo>
                    <a:pt x="0" y="0"/>
                  </a:lnTo>
                  <a:lnTo>
                    <a:pt x="0" y="1284"/>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1" name=""/>
            <p:cNvSpPr/>
            <p:nvPr/>
          </p:nvSpPr>
          <p:spPr>
            <a:xfrm>
              <a:off x="2184480" y="3267000"/>
              <a:ext cx="4901040" cy="465480"/>
            </a:xfrm>
            <a:custGeom>
              <a:avLst/>
              <a:gdLst/>
              <a:ahLst/>
              <a:rect l="0" t="0" r="r" b="b"/>
              <a:pathLst>
                <a:path w="13614" h="1293">
                  <a:moveTo>
                    <a:pt x="0" y="0"/>
                  </a:moveTo>
                  <a:lnTo>
                    <a:pt x="13614" y="0"/>
                  </a:lnTo>
                  <a:lnTo>
                    <a:pt x="13614" y="1293"/>
                  </a:lnTo>
                  <a:lnTo>
                    <a:pt x="0" y="1293"/>
                  </a:lnTo>
                  <a:lnTo>
                    <a:pt x="0" y="0"/>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2" name=""/>
            <p:cNvSpPr/>
            <p:nvPr/>
          </p:nvSpPr>
          <p:spPr>
            <a:xfrm>
              <a:off x="2184480" y="3873600"/>
              <a:ext cx="2918160" cy="468720"/>
            </a:xfrm>
            <a:custGeom>
              <a:avLst/>
              <a:gdLst/>
              <a:ahLst/>
              <a:rect l="0" t="0" r="r" b="b"/>
              <a:pathLst>
                <a:path w="8106" h="1302">
                  <a:moveTo>
                    <a:pt x="0" y="1302"/>
                  </a:moveTo>
                  <a:lnTo>
                    <a:pt x="8106" y="1302"/>
                  </a:lnTo>
                  <a:lnTo>
                    <a:pt x="8106" y="0"/>
                  </a:lnTo>
                  <a:lnTo>
                    <a:pt x="0" y="0"/>
                  </a:lnTo>
                  <a:lnTo>
                    <a:pt x="0" y="1302"/>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3" name=""/>
            <p:cNvSpPr txBox="1"/>
            <p:nvPr/>
          </p:nvSpPr>
          <p:spPr>
            <a:xfrm>
              <a:off x="8326440" y="2021040"/>
              <a:ext cx="5763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79.3</a:t>
              </a:r>
              <a:endParaRPr b="0" lang="en-US" sz="1600" spc="-1" strike="noStrike">
                <a:solidFill>
                  <a:srgbClr val="ffffff"/>
                </a:solidFill>
                <a:latin typeface="Arial"/>
              </a:endParaRPr>
            </a:p>
          </p:txBody>
        </p:sp>
        <p:sp>
          <p:nvSpPr>
            <p:cNvPr id="244" name=""/>
            <p:cNvSpPr txBox="1"/>
            <p:nvPr/>
          </p:nvSpPr>
          <p:spPr>
            <a:xfrm>
              <a:off x="8326440" y="2624040"/>
              <a:ext cx="5763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28.5</a:t>
              </a:r>
              <a:endParaRPr b="0" lang="en-US" sz="1600" spc="-1" strike="noStrike">
                <a:solidFill>
                  <a:srgbClr val="ffffff"/>
                </a:solidFill>
                <a:latin typeface="Arial"/>
              </a:endParaRPr>
            </a:p>
          </p:txBody>
        </p:sp>
        <p:sp>
          <p:nvSpPr>
            <p:cNvPr id="245" name=""/>
            <p:cNvSpPr txBox="1"/>
            <p:nvPr/>
          </p:nvSpPr>
          <p:spPr>
            <a:xfrm>
              <a:off x="8326440" y="3228840"/>
              <a:ext cx="5763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84.9</a:t>
              </a:r>
              <a:endParaRPr b="0" lang="en-US" sz="1600" spc="-1" strike="noStrike">
                <a:solidFill>
                  <a:srgbClr val="ffffff"/>
                </a:solidFill>
                <a:latin typeface="Arial"/>
              </a:endParaRPr>
            </a:p>
          </p:txBody>
        </p:sp>
        <p:sp>
          <p:nvSpPr>
            <p:cNvPr id="246" name=""/>
            <p:cNvSpPr txBox="1"/>
            <p:nvPr/>
          </p:nvSpPr>
          <p:spPr>
            <a:xfrm>
              <a:off x="8326440" y="3835440"/>
              <a:ext cx="5763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50.0</a:t>
              </a:r>
              <a:endParaRPr b="0" lang="en-US" sz="1600" spc="-1" strike="noStrike">
                <a:solidFill>
                  <a:srgbClr val="ffffff"/>
                </a:solidFill>
                <a:latin typeface="Arial"/>
              </a:endParaRPr>
            </a:p>
          </p:txBody>
        </p:sp>
        <p:sp>
          <p:nvSpPr>
            <p:cNvPr id="247" name=""/>
            <p:cNvSpPr txBox="1"/>
            <p:nvPr/>
          </p:nvSpPr>
          <p:spPr>
            <a:xfrm>
              <a:off x="1146240" y="1968480"/>
              <a:ext cx="11746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Auto and  </a:t>
              </a:r>
              <a:endParaRPr b="0" lang="en-US" sz="1600" spc="-1" strike="noStrike">
                <a:solidFill>
                  <a:srgbClr val="ffffff"/>
                </a:solidFill>
                <a:latin typeface="Arial"/>
              </a:endParaRPr>
            </a:p>
          </p:txBody>
        </p:sp>
        <p:sp>
          <p:nvSpPr>
            <p:cNvPr id="248" name=""/>
            <p:cNvSpPr txBox="1"/>
            <p:nvPr/>
          </p:nvSpPr>
          <p:spPr>
            <a:xfrm>
              <a:off x="762120" y="2157480"/>
              <a:ext cx="14796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Home Supply</a:t>
              </a:r>
              <a:endParaRPr b="0" lang="en-US" sz="1600" spc="-1" strike="noStrike">
                <a:solidFill>
                  <a:srgbClr val="ffffff"/>
                </a:solidFill>
                <a:latin typeface="Arial"/>
              </a:endParaRPr>
            </a:p>
          </p:txBody>
        </p:sp>
        <p:sp>
          <p:nvSpPr>
            <p:cNvPr id="249" name=""/>
            <p:cNvSpPr txBox="1"/>
            <p:nvPr/>
          </p:nvSpPr>
          <p:spPr>
            <a:xfrm>
              <a:off x="1273320" y="2573280"/>
              <a:ext cx="10177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Grocery </a:t>
              </a:r>
              <a:endParaRPr b="0" lang="en-US" sz="1600" spc="-1" strike="noStrike">
                <a:solidFill>
                  <a:srgbClr val="ffffff"/>
                </a:solidFill>
                <a:latin typeface="Arial"/>
              </a:endParaRPr>
            </a:p>
          </p:txBody>
        </p:sp>
        <p:sp>
          <p:nvSpPr>
            <p:cNvPr id="250" name=""/>
            <p:cNvSpPr txBox="1"/>
            <p:nvPr/>
          </p:nvSpPr>
          <p:spPr>
            <a:xfrm>
              <a:off x="1414440" y="2762280"/>
              <a:ext cx="8128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Stores</a:t>
              </a:r>
              <a:endParaRPr b="0" lang="en-US" sz="1600" spc="-1" strike="noStrike">
                <a:solidFill>
                  <a:srgbClr val="ffffff"/>
                </a:solidFill>
                <a:latin typeface="Arial"/>
              </a:endParaRPr>
            </a:p>
          </p:txBody>
        </p:sp>
        <p:sp>
          <p:nvSpPr>
            <p:cNvPr id="251" name=""/>
            <p:cNvSpPr txBox="1"/>
            <p:nvPr/>
          </p:nvSpPr>
          <p:spPr>
            <a:xfrm>
              <a:off x="1236600" y="3178080"/>
              <a:ext cx="10508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Pharma- </a:t>
              </a:r>
              <a:endParaRPr b="0" lang="en-US" sz="1600" spc="-1" strike="noStrike">
                <a:solidFill>
                  <a:srgbClr val="ffffff"/>
                </a:solidFill>
                <a:latin typeface="Arial"/>
              </a:endParaRPr>
            </a:p>
          </p:txBody>
        </p:sp>
        <p:sp>
          <p:nvSpPr>
            <p:cNvPr id="252" name=""/>
            <p:cNvSpPr txBox="1"/>
            <p:nvPr/>
          </p:nvSpPr>
          <p:spPr>
            <a:xfrm>
              <a:off x="1143000" y="3370320"/>
              <a:ext cx="10508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euticals</a:t>
              </a:r>
              <a:endParaRPr b="0" lang="en-US" sz="1600" spc="-1" strike="noStrike">
                <a:solidFill>
                  <a:srgbClr val="ffffff"/>
                </a:solidFill>
                <a:latin typeface="Arial"/>
              </a:endParaRPr>
            </a:p>
          </p:txBody>
        </p:sp>
        <p:sp>
          <p:nvSpPr>
            <p:cNvPr id="253" name=""/>
            <p:cNvSpPr txBox="1"/>
            <p:nvPr/>
          </p:nvSpPr>
          <p:spPr>
            <a:xfrm>
              <a:off x="1031760" y="3970440"/>
              <a:ext cx="11746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Tableware</a:t>
              </a:r>
              <a:endParaRPr b="0" lang="en-US" sz="1600" spc="-1" strike="noStrike">
                <a:solidFill>
                  <a:srgbClr val="ffffff"/>
                </a:solidFill>
                <a:latin typeface="Arial"/>
              </a:endParaRPr>
            </a:p>
          </p:txBody>
        </p:sp>
        <p:sp>
          <p:nvSpPr>
            <p:cNvPr id="254" name=""/>
            <p:cNvSpPr txBox="1"/>
            <p:nvPr/>
          </p:nvSpPr>
          <p:spPr>
            <a:xfrm>
              <a:off x="2038320" y="4464000"/>
              <a:ext cx="2937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0</a:t>
              </a:r>
              <a:endParaRPr b="0" lang="en-US" sz="1600" spc="-1" strike="noStrike">
                <a:solidFill>
                  <a:srgbClr val="ffffff"/>
                </a:solidFill>
                <a:latin typeface="Arial"/>
              </a:endParaRPr>
            </a:p>
          </p:txBody>
        </p:sp>
        <p:sp>
          <p:nvSpPr>
            <p:cNvPr id="255" name=""/>
            <p:cNvSpPr txBox="1"/>
            <p:nvPr/>
          </p:nvSpPr>
          <p:spPr>
            <a:xfrm>
              <a:off x="3454560" y="4464000"/>
              <a:ext cx="4064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25</a:t>
              </a:r>
              <a:endParaRPr b="0" lang="en-US" sz="1600" spc="-1" strike="noStrike">
                <a:solidFill>
                  <a:srgbClr val="ffffff"/>
                </a:solidFill>
                <a:latin typeface="Arial"/>
              </a:endParaRPr>
            </a:p>
          </p:txBody>
        </p:sp>
        <p:sp>
          <p:nvSpPr>
            <p:cNvPr id="256" name=""/>
            <p:cNvSpPr txBox="1"/>
            <p:nvPr/>
          </p:nvSpPr>
          <p:spPr>
            <a:xfrm>
              <a:off x="4876920" y="4464000"/>
              <a:ext cx="4064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50</a:t>
              </a:r>
              <a:endParaRPr b="0" lang="en-US" sz="1600" spc="-1" strike="noStrike">
                <a:solidFill>
                  <a:srgbClr val="ffffff"/>
                </a:solidFill>
                <a:latin typeface="Arial"/>
              </a:endParaRPr>
            </a:p>
          </p:txBody>
        </p:sp>
        <p:sp>
          <p:nvSpPr>
            <p:cNvPr id="257" name=""/>
            <p:cNvSpPr txBox="1"/>
            <p:nvPr/>
          </p:nvSpPr>
          <p:spPr>
            <a:xfrm>
              <a:off x="6365880" y="4464000"/>
              <a:ext cx="4064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75</a:t>
              </a:r>
              <a:endParaRPr b="0" lang="en-US" sz="1600" spc="-1" strike="noStrike">
                <a:solidFill>
                  <a:srgbClr val="ffffff"/>
                </a:solidFill>
                <a:latin typeface="Arial"/>
              </a:endParaRPr>
            </a:p>
          </p:txBody>
        </p:sp>
        <p:sp>
          <p:nvSpPr>
            <p:cNvPr id="258" name=""/>
            <p:cNvSpPr txBox="1"/>
            <p:nvPr/>
          </p:nvSpPr>
          <p:spPr>
            <a:xfrm>
              <a:off x="7634160" y="4464000"/>
              <a:ext cx="5205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100</a:t>
              </a:r>
              <a:endParaRPr b="0" lang="en-US" sz="1600" spc="-1" strike="noStrike">
                <a:solidFill>
                  <a:srgbClr val="ffffff"/>
                </a:solidFill>
                <a:latin typeface="Arial"/>
              </a:endParaRPr>
            </a:p>
          </p:txBody>
        </p:sp>
      </p:grpSp>
      <p:sp>
        <p:nvSpPr>
          <p:cNvPr id="259" name=""/>
          <p:cNvSpPr txBox="1"/>
          <p:nvPr/>
        </p:nvSpPr>
        <p:spPr>
          <a:xfrm>
            <a:off x="838080" y="152280"/>
            <a:ext cx="8001000" cy="942840"/>
          </a:xfrm>
          <a:prstGeom prst="rect">
            <a:avLst/>
          </a:prstGeom>
          <a:noFill/>
          <a:ln w="0">
            <a:noFill/>
          </a:ln>
        </p:spPr>
        <p:txBody>
          <a:bodyPr lIns="0" rIns="0" tIns="0" bIns="0" anchor="t">
            <a:noAutofit/>
          </a:bodyPr>
          <a:p>
            <a:pPr algn="ctr">
              <a:lnSpc>
                <a:spcPct val="100000"/>
              </a:lnSpc>
            </a:pPr>
            <a:r>
              <a:rPr b="1" lang="en-US" sz="2800" spc="-1" strike="noStrike">
                <a:solidFill>
                  <a:srgbClr val="ffcc66"/>
                </a:solidFill>
                <a:latin typeface="Arial"/>
                <a:ea typeface="Arial"/>
              </a:rPr>
              <a:t>Average Days’ Inventory on Hand for</a:t>
            </a:r>
            <a:endParaRPr b="0" lang="en-US" sz="2800" spc="-1" strike="noStrike">
              <a:solidFill>
                <a:srgbClr val="ffffff"/>
              </a:solidFill>
              <a:latin typeface="Arial"/>
            </a:endParaRPr>
          </a:p>
          <a:p>
            <a:pPr algn="ctr">
              <a:lnSpc>
                <a:spcPct val="100000"/>
              </a:lnSpc>
            </a:pPr>
            <a:r>
              <a:rPr b="1" lang="en-US" sz="2800" spc="-1" strike="noStrike">
                <a:solidFill>
                  <a:srgbClr val="ffcc66"/>
                </a:solidFill>
                <a:latin typeface="Arial"/>
                <a:ea typeface="Arial"/>
              </a:rPr>
              <a:t>Selected Industr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60" name=""/>
          <p:cNvSpPr txBox="1"/>
          <p:nvPr/>
        </p:nvSpPr>
        <p:spPr>
          <a:xfrm>
            <a:off x="1752480" y="838080"/>
            <a:ext cx="5224320" cy="118116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261" name=""/>
          <p:cNvSpPr txBox="1"/>
          <p:nvPr/>
        </p:nvSpPr>
        <p:spPr>
          <a:xfrm>
            <a:off x="914400" y="2057400"/>
            <a:ext cx="7848720" cy="403848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0128"/>
                </a:solidFill>
                <a:latin typeface="Arial"/>
                <a:ea typeface="Arial"/>
              </a:rPr>
              <a:t>Q.</a:t>
            </a:r>
            <a:r>
              <a:rPr b="1" lang="en-US" sz="3600" spc="-1" strike="noStrike">
                <a:solidFill>
                  <a:srgbClr val="fc0128"/>
                </a:solidFill>
                <a:latin typeface="Arial"/>
                <a:ea typeface="Arial"/>
              </a:rPr>
              <a:t>	</a:t>
            </a:r>
            <a:r>
              <a:rPr b="1" lang="en-US" sz="3200" spc="-1" strike="noStrike">
                <a:solidFill>
                  <a:srgbClr val="fcffd8"/>
                </a:solidFill>
                <a:latin typeface="Arial"/>
                <a:ea typeface="Arial"/>
              </a:rPr>
              <a:t>What are some of the costs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associated with carrying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inventory?</a:t>
            </a:r>
            <a:endParaRPr b="0" lang="en-US" sz="3200" spc="-1" strike="noStrike">
              <a:solidFill>
                <a:srgbClr val="ffffff"/>
              </a:solidFill>
              <a:latin typeface="Arial"/>
            </a:endParaRPr>
          </a:p>
          <a:p>
            <a:pPr marL="343080" indent="-343080">
              <a:lnSpc>
                <a:spcPct val="110000"/>
              </a:lnSpc>
              <a:spcBef>
                <a:spcPts val="479"/>
              </a:spcBef>
            </a:pPr>
            <a:r>
              <a:rPr b="1" lang="en-US" sz="3600" spc="-1" strike="noStrike">
                <a:solidFill>
                  <a:srgbClr val="fc0128"/>
                </a:solidFill>
                <a:latin typeface="Arial"/>
                <a:ea typeface="Arial"/>
              </a:rPr>
              <a:t>A.</a:t>
            </a:r>
            <a:r>
              <a:rPr b="1" lang="en-US" sz="3600" spc="-1" strike="noStrike">
                <a:solidFill>
                  <a:srgbClr val="fc0128"/>
                </a:solidFill>
                <a:latin typeface="Arial"/>
                <a:ea typeface="Arial"/>
              </a:rPr>
              <a:t>	</a:t>
            </a:r>
            <a:r>
              <a:rPr b="1" lang="en-US" sz="3200" spc="-1" strike="noStrike">
                <a:solidFill>
                  <a:srgbClr val="fcffd8"/>
                </a:solidFill>
                <a:latin typeface="Arial"/>
                <a:ea typeface="Arial"/>
              </a:rPr>
              <a:t>Insurance, property tax, and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storage costs. There is also th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possibility of additional spoilag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and employee theft.</a:t>
            </a:r>
            <a:endParaRPr b="0" lang="en-US" sz="3200" spc="-1" strike="noStrike">
              <a:solidFill>
                <a:srgbClr val="ffffff"/>
              </a:solidFill>
              <a:latin typeface="Arial"/>
            </a:endParaRPr>
          </a:p>
        </p:txBody>
      </p:sp>
      <p:grpSp>
        <p:nvGrpSpPr>
          <p:cNvPr id="262" name=""/>
          <p:cNvGrpSpPr/>
          <p:nvPr/>
        </p:nvGrpSpPr>
        <p:grpSpPr>
          <a:xfrm>
            <a:off x="6705720" y="304920"/>
            <a:ext cx="2132280" cy="2132280"/>
            <a:chOff x="6705720" y="304920"/>
            <a:chExt cx="2132280" cy="2132280"/>
          </a:xfrm>
        </p:grpSpPr>
        <p:sp>
          <p:nvSpPr>
            <p:cNvPr id="263" name=""/>
            <p:cNvSpPr/>
            <p:nvPr/>
          </p:nvSpPr>
          <p:spPr>
            <a:xfrm>
              <a:off x="6710400" y="1351080"/>
              <a:ext cx="519480" cy="744840"/>
            </a:xfrm>
            <a:custGeom>
              <a:avLst/>
              <a:gdLst/>
              <a:ahLst/>
              <a:rect l="0" t="0" r="r" b="b"/>
              <a:pathLst>
                <a:path w="1443" h="2069">
                  <a:moveTo>
                    <a:pt x="578" y="0"/>
                  </a:moveTo>
                  <a:lnTo>
                    <a:pt x="499" y="92"/>
                  </a:lnTo>
                  <a:lnTo>
                    <a:pt x="499" y="361"/>
                  </a:lnTo>
                  <a:lnTo>
                    <a:pt x="578" y="555"/>
                  </a:lnTo>
                  <a:lnTo>
                    <a:pt x="662" y="652"/>
                  </a:lnTo>
                  <a:lnTo>
                    <a:pt x="534" y="784"/>
                  </a:lnTo>
                  <a:lnTo>
                    <a:pt x="357" y="1085"/>
                  </a:lnTo>
                  <a:lnTo>
                    <a:pt x="26" y="1562"/>
                  </a:lnTo>
                  <a:lnTo>
                    <a:pt x="0" y="1672"/>
                  </a:lnTo>
                  <a:lnTo>
                    <a:pt x="26" y="1773"/>
                  </a:lnTo>
                  <a:lnTo>
                    <a:pt x="132" y="1773"/>
                  </a:lnTo>
                  <a:lnTo>
                    <a:pt x="220" y="1663"/>
                  </a:lnTo>
                  <a:lnTo>
                    <a:pt x="357" y="1394"/>
                  </a:lnTo>
                  <a:lnTo>
                    <a:pt x="446" y="1279"/>
                  </a:lnTo>
                  <a:lnTo>
                    <a:pt x="499" y="1456"/>
                  </a:lnTo>
                  <a:lnTo>
                    <a:pt x="464" y="1645"/>
                  </a:lnTo>
                  <a:lnTo>
                    <a:pt x="321" y="1919"/>
                  </a:lnTo>
                  <a:lnTo>
                    <a:pt x="357" y="1980"/>
                  </a:lnTo>
                  <a:lnTo>
                    <a:pt x="446" y="1958"/>
                  </a:lnTo>
                  <a:lnTo>
                    <a:pt x="627" y="1822"/>
                  </a:lnTo>
                  <a:lnTo>
                    <a:pt x="772" y="1579"/>
                  </a:lnTo>
                  <a:lnTo>
                    <a:pt x="772" y="2003"/>
                  </a:lnTo>
                  <a:lnTo>
                    <a:pt x="940" y="2069"/>
                  </a:lnTo>
                  <a:lnTo>
                    <a:pt x="1041" y="1808"/>
                  </a:lnTo>
                  <a:lnTo>
                    <a:pt x="1130" y="2047"/>
                  </a:lnTo>
                  <a:lnTo>
                    <a:pt x="1201" y="1980"/>
                  </a:lnTo>
                  <a:lnTo>
                    <a:pt x="1232" y="1504"/>
                  </a:lnTo>
                  <a:lnTo>
                    <a:pt x="1443" y="1050"/>
                  </a:lnTo>
                  <a:lnTo>
                    <a:pt x="1395" y="784"/>
                  </a:lnTo>
                  <a:lnTo>
                    <a:pt x="1249" y="687"/>
                  </a:lnTo>
                  <a:lnTo>
                    <a:pt x="1095" y="705"/>
                  </a:lnTo>
                  <a:lnTo>
                    <a:pt x="1041" y="489"/>
                  </a:lnTo>
                  <a:lnTo>
                    <a:pt x="882" y="440"/>
                  </a:lnTo>
                  <a:lnTo>
                    <a:pt x="741" y="374"/>
                  </a:lnTo>
                  <a:lnTo>
                    <a:pt x="662" y="48"/>
                  </a:lnTo>
                  <a:lnTo>
                    <a:pt x="578"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7145280" y="1652760"/>
              <a:ext cx="154440" cy="360720"/>
            </a:xfrm>
            <a:custGeom>
              <a:avLst/>
              <a:gdLst/>
              <a:ahLst/>
              <a:rect l="0" t="0" r="r" b="b"/>
              <a:pathLst>
                <a:path w="429" h="1002">
                  <a:moveTo>
                    <a:pt x="212" y="0"/>
                  </a:moveTo>
                  <a:lnTo>
                    <a:pt x="429" y="255"/>
                  </a:lnTo>
                  <a:lnTo>
                    <a:pt x="323" y="825"/>
                  </a:lnTo>
                  <a:lnTo>
                    <a:pt x="0" y="1002"/>
                  </a:lnTo>
                  <a:lnTo>
                    <a:pt x="0" y="719"/>
                  </a:lnTo>
                  <a:lnTo>
                    <a:pt x="128" y="423"/>
                  </a:lnTo>
                  <a:lnTo>
                    <a:pt x="212" y="211"/>
                  </a:lnTo>
                  <a:lnTo>
                    <a:pt x="212"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8137440" y="1446120"/>
              <a:ext cx="383040" cy="325800"/>
            </a:xfrm>
            <a:custGeom>
              <a:avLst/>
              <a:gdLst/>
              <a:ahLst/>
              <a:rect l="0" t="0" r="r" b="b"/>
              <a:pathLst>
                <a:path w="1064" h="905">
                  <a:moveTo>
                    <a:pt x="437" y="0"/>
                  </a:moveTo>
                  <a:lnTo>
                    <a:pt x="437" y="149"/>
                  </a:lnTo>
                  <a:lnTo>
                    <a:pt x="477" y="278"/>
                  </a:lnTo>
                  <a:lnTo>
                    <a:pt x="680" y="490"/>
                  </a:lnTo>
                  <a:lnTo>
                    <a:pt x="1064" y="609"/>
                  </a:lnTo>
                  <a:lnTo>
                    <a:pt x="1011" y="883"/>
                  </a:lnTo>
                  <a:lnTo>
                    <a:pt x="680" y="905"/>
                  </a:lnTo>
                  <a:lnTo>
                    <a:pt x="202" y="711"/>
                  </a:lnTo>
                  <a:lnTo>
                    <a:pt x="0" y="367"/>
                  </a:lnTo>
                  <a:lnTo>
                    <a:pt x="242" y="17"/>
                  </a:lnTo>
                  <a:lnTo>
                    <a:pt x="43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8290080" y="1077840"/>
              <a:ext cx="533880" cy="717840"/>
            </a:xfrm>
            <a:custGeom>
              <a:avLst/>
              <a:gdLst/>
              <a:ahLst/>
              <a:rect l="0" t="0" r="r" b="b"/>
              <a:pathLst>
                <a:path w="1483" h="1994">
                  <a:moveTo>
                    <a:pt x="132" y="846"/>
                  </a:moveTo>
                  <a:lnTo>
                    <a:pt x="0" y="987"/>
                  </a:lnTo>
                  <a:lnTo>
                    <a:pt x="26" y="1310"/>
                  </a:lnTo>
                  <a:lnTo>
                    <a:pt x="233" y="1465"/>
                  </a:lnTo>
                  <a:lnTo>
                    <a:pt x="251" y="1958"/>
                  </a:lnTo>
                  <a:lnTo>
                    <a:pt x="459" y="1958"/>
                  </a:lnTo>
                  <a:lnTo>
                    <a:pt x="446" y="1539"/>
                  </a:lnTo>
                  <a:lnTo>
                    <a:pt x="600" y="1972"/>
                  </a:lnTo>
                  <a:lnTo>
                    <a:pt x="702" y="1994"/>
                  </a:lnTo>
                  <a:lnTo>
                    <a:pt x="772" y="1844"/>
                  </a:lnTo>
                  <a:lnTo>
                    <a:pt x="794" y="1575"/>
                  </a:lnTo>
                  <a:lnTo>
                    <a:pt x="1019" y="1831"/>
                  </a:lnTo>
                  <a:lnTo>
                    <a:pt x="1107" y="1808"/>
                  </a:lnTo>
                  <a:lnTo>
                    <a:pt x="1090" y="1632"/>
                  </a:lnTo>
                  <a:lnTo>
                    <a:pt x="1006" y="1381"/>
                  </a:lnTo>
                  <a:lnTo>
                    <a:pt x="918" y="1218"/>
                  </a:lnTo>
                  <a:lnTo>
                    <a:pt x="949" y="1103"/>
                  </a:lnTo>
                  <a:lnTo>
                    <a:pt x="1006" y="1125"/>
                  </a:lnTo>
                  <a:lnTo>
                    <a:pt x="1214" y="1381"/>
                  </a:lnTo>
                  <a:lnTo>
                    <a:pt x="1435" y="1442"/>
                  </a:lnTo>
                  <a:lnTo>
                    <a:pt x="1483" y="1363"/>
                  </a:lnTo>
                  <a:lnTo>
                    <a:pt x="1448" y="1226"/>
                  </a:lnTo>
                  <a:lnTo>
                    <a:pt x="1037" y="829"/>
                  </a:lnTo>
                  <a:lnTo>
                    <a:pt x="702" y="705"/>
                  </a:lnTo>
                  <a:lnTo>
                    <a:pt x="666" y="480"/>
                  </a:lnTo>
                  <a:lnTo>
                    <a:pt x="772" y="277"/>
                  </a:lnTo>
                  <a:lnTo>
                    <a:pt x="772" y="66"/>
                  </a:lnTo>
                  <a:lnTo>
                    <a:pt x="684" y="0"/>
                  </a:lnTo>
                  <a:lnTo>
                    <a:pt x="446" y="537"/>
                  </a:lnTo>
                  <a:lnTo>
                    <a:pt x="233" y="621"/>
                  </a:lnTo>
                  <a:lnTo>
                    <a:pt x="185" y="771"/>
                  </a:lnTo>
                  <a:lnTo>
                    <a:pt x="132" y="84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7415280" y="457200"/>
              <a:ext cx="581400" cy="914760"/>
            </a:xfrm>
            <a:custGeom>
              <a:avLst/>
              <a:gdLst/>
              <a:ahLst/>
              <a:rect l="0" t="0" r="r" b="b"/>
              <a:pathLst>
                <a:path w="1615" h="2541">
                  <a:moveTo>
                    <a:pt x="401" y="352"/>
                  </a:moveTo>
                  <a:lnTo>
                    <a:pt x="277" y="837"/>
                  </a:lnTo>
                  <a:lnTo>
                    <a:pt x="13" y="934"/>
                  </a:lnTo>
                  <a:lnTo>
                    <a:pt x="83" y="1084"/>
                  </a:lnTo>
                  <a:lnTo>
                    <a:pt x="0" y="1186"/>
                  </a:lnTo>
                  <a:lnTo>
                    <a:pt x="0" y="1363"/>
                  </a:lnTo>
                  <a:lnTo>
                    <a:pt x="127" y="1522"/>
                  </a:lnTo>
                  <a:lnTo>
                    <a:pt x="251" y="1522"/>
                  </a:lnTo>
                  <a:lnTo>
                    <a:pt x="335" y="2086"/>
                  </a:lnTo>
                  <a:lnTo>
                    <a:pt x="441" y="2333"/>
                  </a:lnTo>
                  <a:lnTo>
                    <a:pt x="768" y="2541"/>
                  </a:lnTo>
                  <a:lnTo>
                    <a:pt x="1099" y="2510"/>
                  </a:lnTo>
                  <a:lnTo>
                    <a:pt x="1258" y="2086"/>
                  </a:lnTo>
                  <a:lnTo>
                    <a:pt x="1294" y="1447"/>
                  </a:lnTo>
                  <a:lnTo>
                    <a:pt x="1615" y="1124"/>
                  </a:lnTo>
                  <a:lnTo>
                    <a:pt x="1602" y="996"/>
                  </a:lnTo>
                  <a:lnTo>
                    <a:pt x="1563" y="934"/>
                  </a:lnTo>
                  <a:lnTo>
                    <a:pt x="1395" y="926"/>
                  </a:lnTo>
                  <a:lnTo>
                    <a:pt x="1443" y="754"/>
                  </a:lnTo>
                  <a:lnTo>
                    <a:pt x="1280" y="643"/>
                  </a:lnTo>
                  <a:lnTo>
                    <a:pt x="1200" y="277"/>
                  </a:lnTo>
                  <a:lnTo>
                    <a:pt x="697" y="0"/>
                  </a:lnTo>
                  <a:lnTo>
                    <a:pt x="441" y="255"/>
                  </a:lnTo>
                  <a:lnTo>
                    <a:pt x="401" y="352"/>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7458120" y="1220760"/>
              <a:ext cx="533880" cy="1094040"/>
            </a:xfrm>
            <a:custGeom>
              <a:avLst/>
              <a:gdLst/>
              <a:ahLst/>
              <a:rect l="0" t="0" r="r" b="b"/>
              <a:pathLst>
                <a:path w="1483" h="3039">
                  <a:moveTo>
                    <a:pt x="299" y="158"/>
                  </a:moveTo>
                  <a:lnTo>
                    <a:pt x="516" y="304"/>
                  </a:lnTo>
                  <a:lnTo>
                    <a:pt x="618" y="463"/>
                  </a:lnTo>
                  <a:lnTo>
                    <a:pt x="1214" y="0"/>
                  </a:lnTo>
                  <a:lnTo>
                    <a:pt x="1404" y="92"/>
                  </a:lnTo>
                  <a:lnTo>
                    <a:pt x="1483" y="577"/>
                  </a:lnTo>
                  <a:lnTo>
                    <a:pt x="1054" y="1972"/>
                  </a:lnTo>
                  <a:lnTo>
                    <a:pt x="1192" y="2748"/>
                  </a:lnTo>
                  <a:lnTo>
                    <a:pt x="631" y="3039"/>
                  </a:lnTo>
                  <a:lnTo>
                    <a:pt x="198" y="2871"/>
                  </a:lnTo>
                  <a:lnTo>
                    <a:pt x="198" y="2055"/>
                  </a:lnTo>
                  <a:lnTo>
                    <a:pt x="0" y="1261"/>
                  </a:lnTo>
                  <a:lnTo>
                    <a:pt x="198" y="304"/>
                  </a:lnTo>
                  <a:lnTo>
                    <a:pt x="299" y="158"/>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7481880" y="334800"/>
              <a:ext cx="497160" cy="290880"/>
            </a:xfrm>
            <a:custGeom>
              <a:avLst/>
              <a:gdLst/>
              <a:ahLst/>
              <a:rect l="0" t="0" r="r" b="b"/>
              <a:pathLst>
                <a:path w="1381" h="808">
                  <a:moveTo>
                    <a:pt x="171" y="773"/>
                  </a:moveTo>
                  <a:lnTo>
                    <a:pt x="374" y="556"/>
                  </a:lnTo>
                  <a:lnTo>
                    <a:pt x="502" y="525"/>
                  </a:lnTo>
                  <a:lnTo>
                    <a:pt x="502" y="538"/>
                  </a:lnTo>
                  <a:lnTo>
                    <a:pt x="568" y="525"/>
                  </a:lnTo>
                  <a:lnTo>
                    <a:pt x="652" y="591"/>
                  </a:lnTo>
                  <a:lnTo>
                    <a:pt x="812" y="619"/>
                  </a:lnTo>
                  <a:lnTo>
                    <a:pt x="944" y="808"/>
                  </a:lnTo>
                  <a:lnTo>
                    <a:pt x="1160" y="725"/>
                  </a:lnTo>
                  <a:lnTo>
                    <a:pt x="1160" y="637"/>
                  </a:lnTo>
                  <a:lnTo>
                    <a:pt x="1381" y="538"/>
                  </a:lnTo>
                  <a:lnTo>
                    <a:pt x="1319" y="389"/>
                  </a:lnTo>
                  <a:lnTo>
                    <a:pt x="1112" y="375"/>
                  </a:lnTo>
                  <a:lnTo>
                    <a:pt x="1138" y="212"/>
                  </a:lnTo>
                  <a:lnTo>
                    <a:pt x="966" y="230"/>
                  </a:lnTo>
                  <a:lnTo>
                    <a:pt x="935" y="114"/>
                  </a:lnTo>
                  <a:lnTo>
                    <a:pt x="812" y="114"/>
                  </a:lnTo>
                  <a:lnTo>
                    <a:pt x="733" y="176"/>
                  </a:lnTo>
                  <a:lnTo>
                    <a:pt x="652" y="176"/>
                  </a:lnTo>
                  <a:lnTo>
                    <a:pt x="670" y="0"/>
                  </a:lnTo>
                  <a:lnTo>
                    <a:pt x="502" y="83"/>
                  </a:lnTo>
                  <a:lnTo>
                    <a:pt x="268" y="375"/>
                  </a:lnTo>
                  <a:lnTo>
                    <a:pt x="260" y="176"/>
                  </a:lnTo>
                  <a:lnTo>
                    <a:pt x="136" y="278"/>
                  </a:lnTo>
                  <a:lnTo>
                    <a:pt x="110" y="525"/>
                  </a:lnTo>
                  <a:lnTo>
                    <a:pt x="0" y="477"/>
                  </a:lnTo>
                  <a:lnTo>
                    <a:pt x="13" y="637"/>
                  </a:lnTo>
                  <a:lnTo>
                    <a:pt x="171" y="773"/>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7616880" y="1422360"/>
              <a:ext cx="157680" cy="827280"/>
            </a:xfrm>
            <a:custGeom>
              <a:avLst/>
              <a:gdLst/>
              <a:ahLst/>
              <a:rect l="0" t="0" r="r" b="b"/>
              <a:pathLst>
                <a:path w="438" h="2298">
                  <a:moveTo>
                    <a:pt x="225" y="8"/>
                  </a:moveTo>
                  <a:lnTo>
                    <a:pt x="74" y="114"/>
                  </a:lnTo>
                  <a:lnTo>
                    <a:pt x="74" y="304"/>
                  </a:lnTo>
                  <a:lnTo>
                    <a:pt x="181" y="370"/>
                  </a:lnTo>
                  <a:lnTo>
                    <a:pt x="44" y="674"/>
                  </a:lnTo>
                  <a:lnTo>
                    <a:pt x="0" y="1080"/>
                  </a:lnTo>
                  <a:lnTo>
                    <a:pt x="105" y="1610"/>
                  </a:lnTo>
                  <a:lnTo>
                    <a:pt x="105" y="1835"/>
                  </a:lnTo>
                  <a:lnTo>
                    <a:pt x="52" y="2003"/>
                  </a:lnTo>
                  <a:lnTo>
                    <a:pt x="278" y="2298"/>
                  </a:lnTo>
                  <a:lnTo>
                    <a:pt x="425" y="1848"/>
                  </a:lnTo>
                  <a:lnTo>
                    <a:pt x="425" y="1548"/>
                  </a:lnTo>
                  <a:lnTo>
                    <a:pt x="314" y="1257"/>
                  </a:lnTo>
                  <a:lnTo>
                    <a:pt x="261" y="868"/>
                  </a:lnTo>
                  <a:lnTo>
                    <a:pt x="372" y="489"/>
                  </a:lnTo>
                  <a:lnTo>
                    <a:pt x="337" y="339"/>
                  </a:lnTo>
                  <a:lnTo>
                    <a:pt x="438" y="255"/>
                  </a:lnTo>
                  <a:lnTo>
                    <a:pt x="425" y="158"/>
                  </a:lnTo>
                  <a:lnTo>
                    <a:pt x="296" y="0"/>
                  </a:lnTo>
                  <a:lnTo>
                    <a:pt x="225" y="8"/>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7610400" y="1146240"/>
              <a:ext cx="128880" cy="76680"/>
            </a:xfrm>
            <a:custGeom>
              <a:avLst/>
              <a:gdLst/>
              <a:ahLst/>
              <a:rect l="0" t="0" r="r" b="b"/>
              <a:pathLst>
                <a:path w="358" h="213">
                  <a:moveTo>
                    <a:pt x="0" y="62"/>
                  </a:moveTo>
                  <a:lnTo>
                    <a:pt x="141" y="213"/>
                  </a:lnTo>
                  <a:lnTo>
                    <a:pt x="287" y="191"/>
                  </a:lnTo>
                  <a:lnTo>
                    <a:pt x="358" y="17"/>
                  </a:lnTo>
                  <a:lnTo>
                    <a:pt x="199" y="0"/>
                  </a:lnTo>
                  <a:lnTo>
                    <a:pt x="39" y="17"/>
                  </a:lnTo>
                  <a:lnTo>
                    <a:pt x="0" y="62"/>
                  </a:lnTo>
                  <a:close/>
                </a:path>
              </a:pathLst>
            </a:custGeom>
            <a:solidFill>
              <a:srgbClr val="ffffff"/>
            </a:solidFill>
            <a:ln w="12600">
              <a:solidFill>
                <a:srgbClr val="ffffff"/>
              </a:solidFill>
              <a:round/>
            </a:ln>
          </p:spPr>
          <p:txBody>
            <a:bodyPr lIns="96120" rIns="96120" tIns="25560" bIns="25560" anchor="t">
              <a:noAutofit/>
            </a:bodyPr>
            <a:p>
              <a:endParaRPr b="0" lang="en-US" sz="1800" spc="-1" strike="noStrike">
                <a:solidFill>
                  <a:srgbClr val="000000"/>
                </a:solidFill>
                <a:latin typeface="Arial"/>
              </a:endParaRPr>
            </a:p>
          </p:txBody>
        </p:sp>
        <p:sp>
          <p:nvSpPr>
            <p:cNvPr id="272" name=""/>
            <p:cNvSpPr/>
            <p:nvPr/>
          </p:nvSpPr>
          <p:spPr>
            <a:xfrm>
              <a:off x="7467480" y="763560"/>
              <a:ext cx="162360" cy="162360"/>
            </a:xfrm>
            <a:custGeom>
              <a:avLst/>
              <a:gdLst/>
              <a:ahLst/>
              <a:rect l="0" t="0" r="r" b="b"/>
              <a:pathLst>
                <a:path w="451" h="451">
                  <a:moveTo>
                    <a:pt x="0" y="52"/>
                  </a:moveTo>
                  <a:lnTo>
                    <a:pt x="309" y="451"/>
                  </a:lnTo>
                  <a:lnTo>
                    <a:pt x="451" y="420"/>
                  </a:lnTo>
                  <a:lnTo>
                    <a:pt x="124"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7750080" y="730080"/>
              <a:ext cx="136800" cy="160560"/>
            </a:xfrm>
            <a:custGeom>
              <a:avLst/>
              <a:gdLst/>
              <a:ahLst/>
              <a:rect l="0" t="0" r="r" b="b"/>
              <a:pathLst>
                <a:path w="380" h="446">
                  <a:moveTo>
                    <a:pt x="0" y="66"/>
                  </a:moveTo>
                  <a:lnTo>
                    <a:pt x="261" y="446"/>
                  </a:lnTo>
                  <a:lnTo>
                    <a:pt x="380" y="340"/>
                  </a:lnTo>
                  <a:lnTo>
                    <a:pt x="110" y="0"/>
                  </a:lnTo>
                  <a:lnTo>
                    <a:pt x="0"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7412040" y="520560"/>
              <a:ext cx="555840" cy="405000"/>
            </a:xfrm>
            <a:custGeom>
              <a:avLst/>
              <a:gdLst/>
              <a:ahLst/>
              <a:rect l="0" t="0" r="r" b="b"/>
              <a:pathLst>
                <a:path w="1544" h="1125">
                  <a:moveTo>
                    <a:pt x="714" y="666"/>
                  </a:moveTo>
                  <a:lnTo>
                    <a:pt x="564" y="622"/>
                  </a:lnTo>
                  <a:lnTo>
                    <a:pt x="687" y="520"/>
                  </a:lnTo>
                  <a:lnTo>
                    <a:pt x="643" y="467"/>
                  </a:lnTo>
                  <a:lnTo>
                    <a:pt x="485" y="609"/>
                  </a:lnTo>
                  <a:lnTo>
                    <a:pt x="194" y="636"/>
                  </a:lnTo>
                  <a:lnTo>
                    <a:pt x="0" y="644"/>
                  </a:lnTo>
                  <a:lnTo>
                    <a:pt x="0" y="799"/>
                  </a:lnTo>
                  <a:lnTo>
                    <a:pt x="185" y="1121"/>
                  </a:lnTo>
                  <a:lnTo>
                    <a:pt x="229" y="1125"/>
                  </a:lnTo>
                  <a:lnTo>
                    <a:pt x="66" y="777"/>
                  </a:lnTo>
                  <a:lnTo>
                    <a:pt x="321" y="666"/>
                  </a:lnTo>
                  <a:lnTo>
                    <a:pt x="485" y="666"/>
                  </a:lnTo>
                  <a:lnTo>
                    <a:pt x="612" y="737"/>
                  </a:lnTo>
                  <a:lnTo>
                    <a:pt x="643" y="830"/>
                  </a:lnTo>
                  <a:lnTo>
                    <a:pt x="643" y="1046"/>
                  </a:lnTo>
                  <a:lnTo>
                    <a:pt x="643" y="1121"/>
                  </a:lnTo>
                  <a:lnTo>
                    <a:pt x="718" y="1015"/>
                  </a:lnTo>
                  <a:lnTo>
                    <a:pt x="718" y="790"/>
                  </a:lnTo>
                  <a:lnTo>
                    <a:pt x="825" y="790"/>
                  </a:lnTo>
                  <a:lnTo>
                    <a:pt x="878" y="1046"/>
                  </a:lnTo>
                  <a:lnTo>
                    <a:pt x="940" y="1072"/>
                  </a:lnTo>
                  <a:lnTo>
                    <a:pt x="1129" y="1072"/>
                  </a:lnTo>
                  <a:lnTo>
                    <a:pt x="1319" y="1028"/>
                  </a:lnTo>
                  <a:lnTo>
                    <a:pt x="1451" y="927"/>
                  </a:lnTo>
                  <a:lnTo>
                    <a:pt x="1473" y="702"/>
                  </a:lnTo>
                  <a:lnTo>
                    <a:pt x="1544" y="609"/>
                  </a:lnTo>
                  <a:lnTo>
                    <a:pt x="1495" y="546"/>
                  </a:lnTo>
                  <a:lnTo>
                    <a:pt x="1328" y="485"/>
                  </a:lnTo>
                  <a:lnTo>
                    <a:pt x="1301" y="251"/>
                  </a:lnTo>
                  <a:lnTo>
                    <a:pt x="1138" y="251"/>
                  </a:lnTo>
                  <a:lnTo>
                    <a:pt x="949" y="0"/>
                  </a:lnTo>
                  <a:lnTo>
                    <a:pt x="1125" y="277"/>
                  </a:lnTo>
                  <a:lnTo>
                    <a:pt x="1182" y="277"/>
                  </a:lnTo>
                  <a:lnTo>
                    <a:pt x="1218" y="467"/>
                  </a:lnTo>
                  <a:lnTo>
                    <a:pt x="997" y="546"/>
                  </a:lnTo>
                  <a:lnTo>
                    <a:pt x="834" y="489"/>
                  </a:lnTo>
                  <a:lnTo>
                    <a:pt x="812" y="546"/>
                  </a:lnTo>
                  <a:lnTo>
                    <a:pt x="896" y="609"/>
                  </a:lnTo>
                  <a:lnTo>
                    <a:pt x="896" y="662"/>
                  </a:lnTo>
                  <a:lnTo>
                    <a:pt x="1090" y="574"/>
                  </a:lnTo>
                  <a:lnTo>
                    <a:pt x="1240" y="555"/>
                  </a:lnTo>
                  <a:lnTo>
                    <a:pt x="1416" y="583"/>
                  </a:lnTo>
                  <a:lnTo>
                    <a:pt x="1416" y="613"/>
                  </a:lnTo>
                  <a:lnTo>
                    <a:pt x="1337" y="693"/>
                  </a:lnTo>
                  <a:lnTo>
                    <a:pt x="1301" y="790"/>
                  </a:lnTo>
                  <a:lnTo>
                    <a:pt x="1293" y="927"/>
                  </a:lnTo>
                  <a:lnTo>
                    <a:pt x="1191" y="979"/>
                  </a:lnTo>
                  <a:lnTo>
                    <a:pt x="1041" y="1002"/>
                  </a:lnTo>
                  <a:lnTo>
                    <a:pt x="940" y="1002"/>
                  </a:lnTo>
                  <a:lnTo>
                    <a:pt x="904" y="957"/>
                  </a:lnTo>
                  <a:lnTo>
                    <a:pt x="878" y="702"/>
                  </a:lnTo>
                  <a:lnTo>
                    <a:pt x="718" y="702"/>
                  </a:lnTo>
                  <a:lnTo>
                    <a:pt x="714" y="6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5" name=""/>
            <p:cNvSpPr/>
            <p:nvPr/>
          </p:nvSpPr>
          <p:spPr>
            <a:xfrm>
              <a:off x="7602480" y="988920"/>
              <a:ext cx="178200" cy="81360"/>
            </a:xfrm>
            <a:custGeom>
              <a:avLst/>
              <a:gdLst/>
              <a:ahLst/>
              <a:rect l="0" t="0" r="r" b="b"/>
              <a:pathLst>
                <a:path w="495" h="226">
                  <a:moveTo>
                    <a:pt x="0" y="0"/>
                  </a:moveTo>
                  <a:lnTo>
                    <a:pt x="79" y="106"/>
                  </a:lnTo>
                  <a:lnTo>
                    <a:pt x="296" y="106"/>
                  </a:lnTo>
                  <a:lnTo>
                    <a:pt x="381" y="30"/>
                  </a:lnTo>
                  <a:lnTo>
                    <a:pt x="495" y="30"/>
                  </a:lnTo>
                  <a:lnTo>
                    <a:pt x="478" y="67"/>
                  </a:lnTo>
                  <a:lnTo>
                    <a:pt x="478" y="106"/>
                  </a:lnTo>
                  <a:lnTo>
                    <a:pt x="274" y="226"/>
                  </a:lnTo>
                  <a:lnTo>
                    <a:pt x="164" y="226"/>
                  </a:lnTo>
                  <a:lnTo>
                    <a:pt x="105" y="187"/>
                  </a:lnTo>
                  <a:lnTo>
                    <a:pt x="48" y="187"/>
                  </a:lnTo>
                  <a:lnTo>
                    <a:pt x="0" y="0"/>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276" name=""/>
            <p:cNvSpPr/>
            <p:nvPr/>
          </p:nvSpPr>
          <p:spPr>
            <a:xfrm>
              <a:off x="7402680" y="855720"/>
              <a:ext cx="271800" cy="435240"/>
            </a:xfrm>
            <a:custGeom>
              <a:avLst/>
              <a:gdLst/>
              <a:ahLst/>
              <a:rect l="0" t="0" r="r" b="b"/>
              <a:pathLst>
                <a:path w="755" h="1209">
                  <a:moveTo>
                    <a:pt x="755" y="88"/>
                  </a:moveTo>
                  <a:lnTo>
                    <a:pt x="755" y="105"/>
                  </a:lnTo>
                  <a:lnTo>
                    <a:pt x="622" y="229"/>
                  </a:lnTo>
                  <a:lnTo>
                    <a:pt x="512" y="251"/>
                  </a:lnTo>
                  <a:lnTo>
                    <a:pt x="299" y="216"/>
                  </a:lnTo>
                  <a:lnTo>
                    <a:pt x="339" y="653"/>
                  </a:lnTo>
                  <a:lnTo>
                    <a:pt x="393" y="1015"/>
                  </a:lnTo>
                  <a:lnTo>
                    <a:pt x="477" y="1209"/>
                  </a:lnTo>
                  <a:lnTo>
                    <a:pt x="393" y="1063"/>
                  </a:lnTo>
                  <a:lnTo>
                    <a:pt x="352" y="922"/>
                  </a:lnTo>
                  <a:lnTo>
                    <a:pt x="291" y="511"/>
                  </a:lnTo>
                  <a:lnTo>
                    <a:pt x="229" y="533"/>
                  </a:lnTo>
                  <a:lnTo>
                    <a:pt x="158" y="489"/>
                  </a:lnTo>
                  <a:lnTo>
                    <a:pt x="13" y="273"/>
                  </a:lnTo>
                  <a:lnTo>
                    <a:pt x="0" y="154"/>
                  </a:lnTo>
                  <a:lnTo>
                    <a:pt x="0" y="70"/>
                  </a:lnTo>
                  <a:lnTo>
                    <a:pt x="26" y="26"/>
                  </a:lnTo>
                  <a:lnTo>
                    <a:pt x="119" y="0"/>
                  </a:lnTo>
                  <a:lnTo>
                    <a:pt x="127" y="30"/>
                  </a:lnTo>
                  <a:lnTo>
                    <a:pt x="61" y="52"/>
                  </a:lnTo>
                  <a:lnTo>
                    <a:pt x="48" y="149"/>
                  </a:lnTo>
                  <a:lnTo>
                    <a:pt x="52" y="255"/>
                  </a:lnTo>
                  <a:lnTo>
                    <a:pt x="149" y="361"/>
                  </a:lnTo>
                  <a:lnTo>
                    <a:pt x="194" y="335"/>
                  </a:lnTo>
                  <a:lnTo>
                    <a:pt x="194" y="119"/>
                  </a:lnTo>
                  <a:lnTo>
                    <a:pt x="282" y="163"/>
                  </a:lnTo>
                  <a:lnTo>
                    <a:pt x="419" y="194"/>
                  </a:lnTo>
                  <a:lnTo>
                    <a:pt x="547" y="189"/>
                  </a:lnTo>
                  <a:lnTo>
                    <a:pt x="675" y="119"/>
                  </a:lnTo>
                  <a:lnTo>
                    <a:pt x="755"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7" name=""/>
            <p:cNvSpPr/>
            <p:nvPr/>
          </p:nvSpPr>
          <p:spPr>
            <a:xfrm>
              <a:off x="7477200" y="507960"/>
              <a:ext cx="79560" cy="233640"/>
            </a:xfrm>
            <a:custGeom>
              <a:avLst/>
              <a:gdLst/>
              <a:ahLst/>
              <a:rect l="0" t="0" r="r" b="b"/>
              <a:pathLst>
                <a:path w="221" h="649">
                  <a:moveTo>
                    <a:pt x="120" y="649"/>
                  </a:moveTo>
                  <a:lnTo>
                    <a:pt x="221" y="268"/>
                  </a:lnTo>
                  <a:lnTo>
                    <a:pt x="26" y="127"/>
                  </a:lnTo>
                  <a:lnTo>
                    <a:pt x="0" y="0"/>
                  </a:lnTo>
                  <a:lnTo>
                    <a:pt x="13" y="158"/>
                  </a:lnTo>
                  <a:lnTo>
                    <a:pt x="79" y="220"/>
                  </a:lnTo>
                  <a:lnTo>
                    <a:pt x="83" y="411"/>
                  </a:lnTo>
                  <a:lnTo>
                    <a:pt x="137" y="494"/>
                  </a:lnTo>
                  <a:lnTo>
                    <a:pt x="120" y="64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8" name=""/>
            <p:cNvSpPr/>
            <p:nvPr/>
          </p:nvSpPr>
          <p:spPr>
            <a:xfrm>
              <a:off x="7473960" y="304920"/>
              <a:ext cx="608400" cy="306720"/>
            </a:xfrm>
            <a:custGeom>
              <a:avLst/>
              <a:gdLst/>
              <a:ahLst/>
              <a:rect l="0" t="0" r="r" b="b"/>
              <a:pathLst>
                <a:path w="1690" h="852">
                  <a:moveTo>
                    <a:pt x="13" y="578"/>
                  </a:moveTo>
                  <a:lnTo>
                    <a:pt x="163" y="662"/>
                  </a:lnTo>
                  <a:lnTo>
                    <a:pt x="145" y="556"/>
                  </a:lnTo>
                  <a:lnTo>
                    <a:pt x="176" y="361"/>
                  </a:lnTo>
                  <a:lnTo>
                    <a:pt x="268" y="317"/>
                  </a:lnTo>
                  <a:lnTo>
                    <a:pt x="277" y="525"/>
                  </a:lnTo>
                  <a:lnTo>
                    <a:pt x="565" y="163"/>
                  </a:lnTo>
                  <a:lnTo>
                    <a:pt x="631" y="145"/>
                  </a:lnTo>
                  <a:lnTo>
                    <a:pt x="583" y="282"/>
                  </a:lnTo>
                  <a:lnTo>
                    <a:pt x="759" y="357"/>
                  </a:lnTo>
                  <a:lnTo>
                    <a:pt x="887" y="211"/>
                  </a:lnTo>
                  <a:lnTo>
                    <a:pt x="957" y="251"/>
                  </a:lnTo>
                  <a:lnTo>
                    <a:pt x="896" y="374"/>
                  </a:lnTo>
                  <a:lnTo>
                    <a:pt x="988" y="308"/>
                  </a:lnTo>
                  <a:lnTo>
                    <a:pt x="1107" y="361"/>
                  </a:lnTo>
                  <a:lnTo>
                    <a:pt x="1006" y="459"/>
                  </a:lnTo>
                  <a:lnTo>
                    <a:pt x="1355" y="525"/>
                  </a:lnTo>
                  <a:lnTo>
                    <a:pt x="1116" y="605"/>
                  </a:lnTo>
                  <a:lnTo>
                    <a:pt x="1417" y="644"/>
                  </a:lnTo>
                  <a:lnTo>
                    <a:pt x="1068" y="728"/>
                  </a:lnTo>
                  <a:lnTo>
                    <a:pt x="1138" y="785"/>
                  </a:lnTo>
                  <a:lnTo>
                    <a:pt x="1041" y="852"/>
                  </a:lnTo>
                  <a:lnTo>
                    <a:pt x="1218" y="852"/>
                  </a:lnTo>
                  <a:lnTo>
                    <a:pt x="1200" y="803"/>
                  </a:lnTo>
                  <a:lnTo>
                    <a:pt x="1382" y="847"/>
                  </a:lnTo>
                  <a:lnTo>
                    <a:pt x="1355" y="706"/>
                  </a:lnTo>
                  <a:lnTo>
                    <a:pt x="1527" y="649"/>
                  </a:lnTo>
                  <a:lnTo>
                    <a:pt x="1404" y="583"/>
                  </a:lnTo>
                  <a:lnTo>
                    <a:pt x="1690" y="569"/>
                  </a:lnTo>
                  <a:lnTo>
                    <a:pt x="1443" y="433"/>
                  </a:lnTo>
                  <a:lnTo>
                    <a:pt x="1156" y="396"/>
                  </a:lnTo>
                  <a:lnTo>
                    <a:pt x="1382" y="255"/>
                  </a:lnTo>
                  <a:lnTo>
                    <a:pt x="988" y="255"/>
                  </a:lnTo>
                  <a:lnTo>
                    <a:pt x="1173" y="127"/>
                  </a:lnTo>
                  <a:lnTo>
                    <a:pt x="882" y="163"/>
                  </a:lnTo>
                  <a:lnTo>
                    <a:pt x="746" y="233"/>
                  </a:lnTo>
                  <a:lnTo>
                    <a:pt x="865" y="0"/>
                  </a:lnTo>
                  <a:lnTo>
                    <a:pt x="512" y="127"/>
                  </a:lnTo>
                  <a:lnTo>
                    <a:pt x="317" y="405"/>
                  </a:lnTo>
                  <a:lnTo>
                    <a:pt x="277" y="251"/>
                  </a:lnTo>
                  <a:lnTo>
                    <a:pt x="127" y="361"/>
                  </a:lnTo>
                  <a:lnTo>
                    <a:pt x="110" y="569"/>
                  </a:lnTo>
                  <a:lnTo>
                    <a:pt x="0" y="525"/>
                  </a:lnTo>
                  <a:lnTo>
                    <a:pt x="39" y="706"/>
                  </a:lnTo>
                  <a:lnTo>
                    <a:pt x="13" y="57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9" name=""/>
            <p:cNvSpPr/>
            <p:nvPr/>
          </p:nvSpPr>
          <p:spPr>
            <a:xfrm>
              <a:off x="7604280" y="468360"/>
              <a:ext cx="173520" cy="90720"/>
            </a:xfrm>
            <a:custGeom>
              <a:avLst/>
              <a:gdLst/>
              <a:ahLst/>
              <a:rect l="0" t="0" r="r" b="b"/>
              <a:pathLst>
                <a:path w="482" h="252">
                  <a:moveTo>
                    <a:pt x="0" y="252"/>
                  </a:moveTo>
                  <a:lnTo>
                    <a:pt x="181" y="0"/>
                  </a:lnTo>
                  <a:lnTo>
                    <a:pt x="181" y="168"/>
                  </a:lnTo>
                  <a:lnTo>
                    <a:pt x="247" y="97"/>
                  </a:lnTo>
                  <a:lnTo>
                    <a:pt x="300" y="190"/>
                  </a:lnTo>
                  <a:lnTo>
                    <a:pt x="482" y="239"/>
                  </a:lnTo>
                  <a:lnTo>
                    <a:pt x="292" y="212"/>
                  </a:lnTo>
                  <a:lnTo>
                    <a:pt x="234" y="146"/>
                  </a:lnTo>
                  <a:lnTo>
                    <a:pt x="155" y="212"/>
                  </a:lnTo>
                  <a:lnTo>
                    <a:pt x="155" y="128"/>
                  </a:lnTo>
                  <a:lnTo>
                    <a:pt x="0" y="252"/>
                  </a:lnTo>
                  <a:close/>
                </a:path>
              </a:pathLst>
            </a:custGeom>
            <a:solidFill>
              <a:srgbClr val="000000"/>
            </a:solidFill>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280" name=""/>
            <p:cNvSpPr/>
            <p:nvPr/>
          </p:nvSpPr>
          <p:spPr>
            <a:xfrm>
              <a:off x="7588080" y="1093680"/>
              <a:ext cx="208440" cy="136800"/>
            </a:xfrm>
            <a:custGeom>
              <a:avLst/>
              <a:gdLst/>
              <a:ahLst/>
              <a:rect l="0" t="0" r="r" b="b"/>
              <a:pathLst>
                <a:path w="579" h="380">
                  <a:moveTo>
                    <a:pt x="114" y="127"/>
                  </a:moveTo>
                  <a:lnTo>
                    <a:pt x="344" y="114"/>
                  </a:lnTo>
                  <a:lnTo>
                    <a:pt x="460" y="141"/>
                  </a:lnTo>
                  <a:lnTo>
                    <a:pt x="517" y="88"/>
                  </a:lnTo>
                  <a:lnTo>
                    <a:pt x="579" y="217"/>
                  </a:lnTo>
                  <a:lnTo>
                    <a:pt x="535" y="230"/>
                  </a:lnTo>
                  <a:lnTo>
                    <a:pt x="495" y="189"/>
                  </a:lnTo>
                  <a:lnTo>
                    <a:pt x="411" y="269"/>
                  </a:lnTo>
                  <a:lnTo>
                    <a:pt x="269" y="380"/>
                  </a:lnTo>
                  <a:lnTo>
                    <a:pt x="203" y="380"/>
                  </a:lnTo>
                  <a:lnTo>
                    <a:pt x="114" y="322"/>
                  </a:lnTo>
                  <a:lnTo>
                    <a:pt x="212" y="375"/>
                  </a:lnTo>
                  <a:lnTo>
                    <a:pt x="256" y="375"/>
                  </a:lnTo>
                  <a:lnTo>
                    <a:pt x="344" y="300"/>
                  </a:lnTo>
                  <a:lnTo>
                    <a:pt x="406" y="167"/>
                  </a:lnTo>
                  <a:lnTo>
                    <a:pt x="314" y="154"/>
                  </a:lnTo>
                  <a:lnTo>
                    <a:pt x="252" y="141"/>
                  </a:lnTo>
                  <a:lnTo>
                    <a:pt x="92" y="163"/>
                  </a:lnTo>
                  <a:lnTo>
                    <a:pt x="88" y="265"/>
                  </a:lnTo>
                  <a:lnTo>
                    <a:pt x="48" y="199"/>
                  </a:lnTo>
                  <a:lnTo>
                    <a:pt x="0" y="292"/>
                  </a:lnTo>
                  <a:lnTo>
                    <a:pt x="4" y="101"/>
                  </a:lnTo>
                  <a:lnTo>
                    <a:pt x="61" y="0"/>
                  </a:lnTo>
                  <a:lnTo>
                    <a:pt x="114" y="101"/>
                  </a:lnTo>
                  <a:lnTo>
                    <a:pt x="114" y="12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1" name=""/>
            <p:cNvSpPr/>
            <p:nvPr/>
          </p:nvSpPr>
          <p:spPr>
            <a:xfrm>
              <a:off x="7562880" y="795240"/>
              <a:ext cx="444960" cy="633600"/>
            </a:xfrm>
            <a:custGeom>
              <a:avLst/>
              <a:gdLst/>
              <a:ahLst/>
              <a:rect l="0" t="0" r="r" b="b"/>
              <a:pathLst>
                <a:path w="1236" h="1760">
                  <a:moveTo>
                    <a:pt x="1042" y="0"/>
                  </a:moveTo>
                  <a:lnTo>
                    <a:pt x="1166" y="0"/>
                  </a:lnTo>
                  <a:lnTo>
                    <a:pt x="1236" y="88"/>
                  </a:lnTo>
                  <a:lnTo>
                    <a:pt x="1236" y="180"/>
                  </a:lnTo>
                  <a:lnTo>
                    <a:pt x="1130" y="458"/>
                  </a:lnTo>
                  <a:lnTo>
                    <a:pt x="1038" y="586"/>
                  </a:lnTo>
                  <a:lnTo>
                    <a:pt x="928" y="608"/>
                  </a:lnTo>
                  <a:lnTo>
                    <a:pt x="896" y="608"/>
                  </a:lnTo>
                  <a:lnTo>
                    <a:pt x="896" y="953"/>
                  </a:lnTo>
                  <a:lnTo>
                    <a:pt x="950" y="1204"/>
                  </a:lnTo>
                  <a:lnTo>
                    <a:pt x="950" y="1412"/>
                  </a:lnTo>
                  <a:lnTo>
                    <a:pt x="759" y="1614"/>
                  </a:lnTo>
                  <a:lnTo>
                    <a:pt x="503" y="1760"/>
                  </a:lnTo>
                  <a:lnTo>
                    <a:pt x="344" y="1760"/>
                  </a:lnTo>
                  <a:lnTo>
                    <a:pt x="260" y="1716"/>
                  </a:lnTo>
                  <a:lnTo>
                    <a:pt x="145" y="1478"/>
                  </a:lnTo>
                  <a:lnTo>
                    <a:pt x="44" y="1390"/>
                  </a:lnTo>
                  <a:lnTo>
                    <a:pt x="0" y="1323"/>
                  </a:lnTo>
                  <a:lnTo>
                    <a:pt x="136" y="1412"/>
                  </a:lnTo>
                  <a:lnTo>
                    <a:pt x="242" y="1495"/>
                  </a:lnTo>
                  <a:lnTo>
                    <a:pt x="437" y="1513"/>
                  </a:lnTo>
                  <a:lnTo>
                    <a:pt x="613" y="1425"/>
                  </a:lnTo>
                  <a:lnTo>
                    <a:pt x="706" y="1323"/>
                  </a:lnTo>
                  <a:lnTo>
                    <a:pt x="807" y="1147"/>
                  </a:lnTo>
                  <a:lnTo>
                    <a:pt x="825" y="935"/>
                  </a:lnTo>
                  <a:lnTo>
                    <a:pt x="860" y="255"/>
                  </a:lnTo>
                  <a:lnTo>
                    <a:pt x="909" y="361"/>
                  </a:lnTo>
                  <a:lnTo>
                    <a:pt x="1033" y="238"/>
                  </a:lnTo>
                  <a:lnTo>
                    <a:pt x="1157" y="180"/>
                  </a:lnTo>
                  <a:lnTo>
                    <a:pt x="1188" y="114"/>
                  </a:lnTo>
                  <a:lnTo>
                    <a:pt x="1174" y="39"/>
                  </a:lnTo>
                  <a:lnTo>
                    <a:pt x="1117" y="8"/>
                  </a:lnTo>
                  <a:lnTo>
                    <a:pt x="104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2" name=""/>
            <p:cNvSpPr/>
            <p:nvPr/>
          </p:nvSpPr>
          <p:spPr>
            <a:xfrm>
              <a:off x="6877080" y="1341360"/>
              <a:ext cx="357480" cy="587880"/>
            </a:xfrm>
            <a:custGeom>
              <a:avLst/>
              <a:gdLst/>
              <a:ahLst/>
              <a:rect l="0" t="0" r="r" b="b"/>
              <a:pathLst>
                <a:path w="993" h="1633">
                  <a:moveTo>
                    <a:pt x="127" y="0"/>
                  </a:moveTo>
                  <a:lnTo>
                    <a:pt x="242" y="70"/>
                  </a:lnTo>
                  <a:lnTo>
                    <a:pt x="321" y="405"/>
                  </a:lnTo>
                  <a:lnTo>
                    <a:pt x="578" y="486"/>
                  </a:lnTo>
                  <a:lnTo>
                    <a:pt x="658" y="569"/>
                  </a:lnTo>
                  <a:lnTo>
                    <a:pt x="666" y="693"/>
                  </a:lnTo>
                  <a:lnTo>
                    <a:pt x="794" y="671"/>
                  </a:lnTo>
                  <a:lnTo>
                    <a:pt x="944" y="777"/>
                  </a:lnTo>
                  <a:lnTo>
                    <a:pt x="993" y="913"/>
                  </a:lnTo>
                  <a:lnTo>
                    <a:pt x="993" y="1143"/>
                  </a:lnTo>
                  <a:lnTo>
                    <a:pt x="794" y="1488"/>
                  </a:lnTo>
                  <a:lnTo>
                    <a:pt x="724" y="1633"/>
                  </a:lnTo>
                  <a:lnTo>
                    <a:pt x="755" y="1443"/>
                  </a:lnTo>
                  <a:lnTo>
                    <a:pt x="724" y="1369"/>
                  </a:lnTo>
                  <a:lnTo>
                    <a:pt x="600" y="1258"/>
                  </a:lnTo>
                  <a:lnTo>
                    <a:pt x="401" y="1107"/>
                  </a:lnTo>
                  <a:lnTo>
                    <a:pt x="640" y="1191"/>
                  </a:lnTo>
                  <a:lnTo>
                    <a:pt x="777" y="1298"/>
                  </a:lnTo>
                  <a:lnTo>
                    <a:pt x="852" y="1285"/>
                  </a:lnTo>
                  <a:lnTo>
                    <a:pt x="887" y="1227"/>
                  </a:lnTo>
                  <a:lnTo>
                    <a:pt x="944" y="1059"/>
                  </a:lnTo>
                  <a:lnTo>
                    <a:pt x="931" y="900"/>
                  </a:lnTo>
                  <a:lnTo>
                    <a:pt x="856" y="807"/>
                  </a:lnTo>
                  <a:lnTo>
                    <a:pt x="733" y="777"/>
                  </a:lnTo>
                  <a:lnTo>
                    <a:pt x="600" y="777"/>
                  </a:lnTo>
                  <a:lnTo>
                    <a:pt x="556" y="534"/>
                  </a:lnTo>
                  <a:lnTo>
                    <a:pt x="335" y="455"/>
                  </a:lnTo>
                  <a:lnTo>
                    <a:pt x="335" y="525"/>
                  </a:lnTo>
                  <a:lnTo>
                    <a:pt x="242" y="343"/>
                  </a:lnTo>
                  <a:lnTo>
                    <a:pt x="185" y="70"/>
                  </a:lnTo>
                  <a:lnTo>
                    <a:pt x="97" y="48"/>
                  </a:lnTo>
                  <a:lnTo>
                    <a:pt x="52" y="127"/>
                  </a:lnTo>
                  <a:lnTo>
                    <a:pt x="52" y="317"/>
                  </a:lnTo>
                  <a:lnTo>
                    <a:pt x="83" y="525"/>
                  </a:lnTo>
                  <a:lnTo>
                    <a:pt x="202" y="693"/>
                  </a:lnTo>
                  <a:lnTo>
                    <a:pt x="74" y="587"/>
                  </a:lnTo>
                  <a:lnTo>
                    <a:pt x="8" y="405"/>
                  </a:lnTo>
                  <a:lnTo>
                    <a:pt x="0" y="176"/>
                  </a:lnTo>
                  <a:lnTo>
                    <a:pt x="52" y="48"/>
                  </a:lnTo>
                  <a:lnTo>
                    <a:pt x="12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3" name=""/>
            <p:cNvSpPr/>
            <p:nvPr/>
          </p:nvSpPr>
          <p:spPr>
            <a:xfrm>
              <a:off x="6705720" y="1600200"/>
              <a:ext cx="236880" cy="470160"/>
            </a:xfrm>
            <a:custGeom>
              <a:avLst/>
              <a:gdLst/>
              <a:ahLst/>
              <a:rect l="0" t="0" r="r" b="b"/>
              <a:pathLst>
                <a:path w="658" h="1306">
                  <a:moveTo>
                    <a:pt x="658" y="0"/>
                  </a:moveTo>
                  <a:lnTo>
                    <a:pt x="521" y="88"/>
                  </a:lnTo>
                  <a:lnTo>
                    <a:pt x="358" y="405"/>
                  </a:lnTo>
                  <a:lnTo>
                    <a:pt x="202" y="612"/>
                  </a:lnTo>
                  <a:lnTo>
                    <a:pt x="13" y="856"/>
                  </a:lnTo>
                  <a:lnTo>
                    <a:pt x="0" y="988"/>
                  </a:lnTo>
                  <a:lnTo>
                    <a:pt x="39" y="1099"/>
                  </a:lnTo>
                  <a:lnTo>
                    <a:pt x="127" y="1099"/>
                  </a:lnTo>
                  <a:lnTo>
                    <a:pt x="251" y="988"/>
                  </a:lnTo>
                  <a:lnTo>
                    <a:pt x="349" y="750"/>
                  </a:lnTo>
                  <a:lnTo>
                    <a:pt x="481" y="612"/>
                  </a:lnTo>
                  <a:lnTo>
                    <a:pt x="481" y="803"/>
                  </a:lnTo>
                  <a:lnTo>
                    <a:pt x="464" y="971"/>
                  </a:lnTo>
                  <a:lnTo>
                    <a:pt x="321" y="1196"/>
                  </a:lnTo>
                  <a:lnTo>
                    <a:pt x="321" y="1275"/>
                  </a:lnTo>
                  <a:lnTo>
                    <a:pt x="464" y="1306"/>
                  </a:lnTo>
                  <a:lnTo>
                    <a:pt x="358" y="1240"/>
                  </a:lnTo>
                  <a:lnTo>
                    <a:pt x="380" y="1196"/>
                  </a:lnTo>
                  <a:lnTo>
                    <a:pt x="477" y="1028"/>
                  </a:lnTo>
                  <a:lnTo>
                    <a:pt x="543" y="724"/>
                  </a:lnTo>
                  <a:lnTo>
                    <a:pt x="499" y="555"/>
                  </a:lnTo>
                  <a:lnTo>
                    <a:pt x="389" y="652"/>
                  </a:lnTo>
                  <a:lnTo>
                    <a:pt x="154" y="1037"/>
                  </a:lnTo>
                  <a:lnTo>
                    <a:pt x="92" y="1054"/>
                  </a:lnTo>
                  <a:lnTo>
                    <a:pt x="39" y="1010"/>
                  </a:lnTo>
                  <a:lnTo>
                    <a:pt x="39" y="896"/>
                  </a:lnTo>
                  <a:lnTo>
                    <a:pt x="127" y="741"/>
                  </a:lnTo>
                  <a:lnTo>
                    <a:pt x="389" y="423"/>
                  </a:lnTo>
                  <a:lnTo>
                    <a:pt x="543" y="119"/>
                  </a:lnTo>
                  <a:lnTo>
                    <a:pt x="65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4" name=""/>
            <p:cNvSpPr/>
            <p:nvPr/>
          </p:nvSpPr>
          <p:spPr>
            <a:xfrm>
              <a:off x="6880320" y="1866960"/>
              <a:ext cx="144720" cy="225720"/>
            </a:xfrm>
            <a:custGeom>
              <a:avLst/>
              <a:gdLst/>
              <a:ahLst/>
              <a:rect l="0" t="0" r="r" b="b"/>
              <a:pathLst>
                <a:path w="402" h="627">
                  <a:moveTo>
                    <a:pt x="0" y="556"/>
                  </a:moveTo>
                  <a:lnTo>
                    <a:pt x="132" y="397"/>
                  </a:lnTo>
                  <a:lnTo>
                    <a:pt x="154" y="233"/>
                  </a:lnTo>
                  <a:lnTo>
                    <a:pt x="314" y="0"/>
                  </a:lnTo>
                  <a:lnTo>
                    <a:pt x="340" y="154"/>
                  </a:lnTo>
                  <a:lnTo>
                    <a:pt x="322" y="565"/>
                  </a:lnTo>
                  <a:lnTo>
                    <a:pt x="402" y="627"/>
                  </a:lnTo>
                  <a:lnTo>
                    <a:pt x="283" y="578"/>
                  </a:lnTo>
                  <a:lnTo>
                    <a:pt x="221" y="349"/>
                  </a:lnTo>
                  <a:lnTo>
                    <a:pt x="132" y="464"/>
                  </a:lnTo>
                  <a:lnTo>
                    <a:pt x="0" y="55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5" name=""/>
            <p:cNvSpPr/>
            <p:nvPr/>
          </p:nvSpPr>
          <p:spPr>
            <a:xfrm>
              <a:off x="7061040" y="1878120"/>
              <a:ext cx="95760" cy="201960"/>
            </a:xfrm>
            <a:custGeom>
              <a:avLst/>
              <a:gdLst/>
              <a:ahLst/>
              <a:rect l="0" t="0" r="r" b="b"/>
              <a:pathLst>
                <a:path w="266" h="561">
                  <a:moveTo>
                    <a:pt x="0" y="415"/>
                  </a:moveTo>
                  <a:lnTo>
                    <a:pt x="8" y="211"/>
                  </a:lnTo>
                  <a:lnTo>
                    <a:pt x="67" y="88"/>
                  </a:lnTo>
                  <a:lnTo>
                    <a:pt x="128" y="534"/>
                  </a:lnTo>
                  <a:lnTo>
                    <a:pt x="209" y="534"/>
                  </a:lnTo>
                  <a:lnTo>
                    <a:pt x="248" y="66"/>
                  </a:lnTo>
                  <a:lnTo>
                    <a:pt x="266" y="0"/>
                  </a:lnTo>
                  <a:lnTo>
                    <a:pt x="248" y="367"/>
                  </a:lnTo>
                  <a:lnTo>
                    <a:pt x="209" y="561"/>
                  </a:lnTo>
                  <a:lnTo>
                    <a:pt x="111" y="561"/>
                  </a:lnTo>
                  <a:lnTo>
                    <a:pt x="61" y="167"/>
                  </a:lnTo>
                  <a:lnTo>
                    <a:pt x="26" y="229"/>
                  </a:lnTo>
                  <a:lnTo>
                    <a:pt x="0" y="41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6" name=""/>
            <p:cNvSpPr/>
            <p:nvPr/>
          </p:nvSpPr>
          <p:spPr>
            <a:xfrm>
              <a:off x="8288280" y="1084320"/>
              <a:ext cx="235440" cy="538560"/>
            </a:xfrm>
            <a:custGeom>
              <a:avLst/>
              <a:gdLst/>
              <a:ahLst/>
              <a:rect l="0" t="0" r="r" b="b"/>
              <a:pathLst>
                <a:path w="654" h="1496">
                  <a:moveTo>
                    <a:pt x="172" y="816"/>
                  </a:moveTo>
                  <a:lnTo>
                    <a:pt x="221" y="578"/>
                  </a:lnTo>
                  <a:lnTo>
                    <a:pt x="441" y="516"/>
                  </a:lnTo>
                  <a:lnTo>
                    <a:pt x="654" y="0"/>
                  </a:lnTo>
                  <a:lnTo>
                    <a:pt x="654" y="154"/>
                  </a:lnTo>
                  <a:lnTo>
                    <a:pt x="472" y="547"/>
                  </a:lnTo>
                  <a:lnTo>
                    <a:pt x="243" y="618"/>
                  </a:lnTo>
                  <a:lnTo>
                    <a:pt x="212" y="816"/>
                  </a:lnTo>
                  <a:lnTo>
                    <a:pt x="287" y="816"/>
                  </a:lnTo>
                  <a:lnTo>
                    <a:pt x="83" y="891"/>
                  </a:lnTo>
                  <a:lnTo>
                    <a:pt x="39" y="1050"/>
                  </a:lnTo>
                  <a:lnTo>
                    <a:pt x="52" y="1258"/>
                  </a:lnTo>
                  <a:lnTo>
                    <a:pt x="265" y="1496"/>
                  </a:lnTo>
                  <a:lnTo>
                    <a:pt x="39" y="1289"/>
                  </a:lnTo>
                  <a:lnTo>
                    <a:pt x="0" y="1112"/>
                  </a:lnTo>
                  <a:lnTo>
                    <a:pt x="13" y="944"/>
                  </a:lnTo>
                  <a:lnTo>
                    <a:pt x="97" y="821"/>
                  </a:lnTo>
                  <a:lnTo>
                    <a:pt x="172" y="81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7" name=""/>
            <p:cNvSpPr/>
            <p:nvPr/>
          </p:nvSpPr>
          <p:spPr>
            <a:xfrm>
              <a:off x="8447040" y="1084320"/>
              <a:ext cx="390960" cy="522720"/>
            </a:xfrm>
            <a:custGeom>
              <a:avLst/>
              <a:gdLst/>
              <a:ahLst/>
              <a:rect l="0" t="0" r="r" b="b"/>
              <a:pathLst>
                <a:path w="1086" h="1452">
                  <a:moveTo>
                    <a:pt x="300" y="0"/>
                  </a:moveTo>
                  <a:lnTo>
                    <a:pt x="362" y="48"/>
                  </a:lnTo>
                  <a:lnTo>
                    <a:pt x="384" y="167"/>
                  </a:lnTo>
                  <a:lnTo>
                    <a:pt x="384" y="282"/>
                  </a:lnTo>
                  <a:lnTo>
                    <a:pt x="260" y="494"/>
                  </a:lnTo>
                  <a:lnTo>
                    <a:pt x="287" y="649"/>
                  </a:lnTo>
                  <a:lnTo>
                    <a:pt x="653" y="816"/>
                  </a:lnTo>
                  <a:lnTo>
                    <a:pt x="1082" y="1276"/>
                  </a:lnTo>
                  <a:lnTo>
                    <a:pt x="1086" y="1399"/>
                  </a:lnTo>
                  <a:lnTo>
                    <a:pt x="1064" y="1452"/>
                  </a:lnTo>
                  <a:lnTo>
                    <a:pt x="905" y="1452"/>
                  </a:lnTo>
                  <a:lnTo>
                    <a:pt x="763" y="1364"/>
                  </a:lnTo>
                  <a:lnTo>
                    <a:pt x="644" y="1214"/>
                  </a:lnTo>
                  <a:lnTo>
                    <a:pt x="578" y="1126"/>
                  </a:lnTo>
                  <a:lnTo>
                    <a:pt x="499" y="1117"/>
                  </a:lnTo>
                  <a:lnTo>
                    <a:pt x="596" y="1117"/>
                  </a:lnTo>
                  <a:lnTo>
                    <a:pt x="772" y="1355"/>
                  </a:lnTo>
                  <a:lnTo>
                    <a:pt x="1007" y="1421"/>
                  </a:lnTo>
                  <a:lnTo>
                    <a:pt x="1047" y="1355"/>
                  </a:lnTo>
                  <a:lnTo>
                    <a:pt x="1025" y="1241"/>
                  </a:lnTo>
                  <a:lnTo>
                    <a:pt x="627" y="909"/>
                  </a:lnTo>
                  <a:lnTo>
                    <a:pt x="569" y="816"/>
                  </a:lnTo>
                  <a:lnTo>
                    <a:pt x="260" y="737"/>
                  </a:lnTo>
                  <a:lnTo>
                    <a:pt x="207" y="816"/>
                  </a:lnTo>
                  <a:lnTo>
                    <a:pt x="0" y="953"/>
                  </a:lnTo>
                  <a:lnTo>
                    <a:pt x="198" y="794"/>
                  </a:lnTo>
                  <a:lnTo>
                    <a:pt x="207" y="693"/>
                  </a:lnTo>
                  <a:lnTo>
                    <a:pt x="207" y="464"/>
                  </a:lnTo>
                  <a:lnTo>
                    <a:pt x="349" y="282"/>
                  </a:lnTo>
                  <a:lnTo>
                    <a:pt x="349" y="57"/>
                  </a:lnTo>
                  <a:lnTo>
                    <a:pt x="30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8" name=""/>
            <p:cNvSpPr/>
            <p:nvPr/>
          </p:nvSpPr>
          <p:spPr>
            <a:xfrm>
              <a:off x="8375760" y="1494000"/>
              <a:ext cx="332280" cy="309960"/>
            </a:xfrm>
            <a:custGeom>
              <a:avLst/>
              <a:gdLst/>
              <a:ahLst/>
              <a:rect l="0" t="0" r="r" b="b"/>
              <a:pathLst>
                <a:path w="923" h="861">
                  <a:moveTo>
                    <a:pt x="688" y="0"/>
                  </a:moveTo>
                  <a:lnTo>
                    <a:pt x="666" y="70"/>
                  </a:lnTo>
                  <a:lnTo>
                    <a:pt x="804" y="362"/>
                  </a:lnTo>
                  <a:lnTo>
                    <a:pt x="875" y="650"/>
                  </a:lnTo>
                  <a:lnTo>
                    <a:pt x="795" y="650"/>
                  </a:lnTo>
                  <a:lnTo>
                    <a:pt x="658" y="525"/>
                  </a:lnTo>
                  <a:lnTo>
                    <a:pt x="534" y="252"/>
                  </a:lnTo>
                  <a:lnTo>
                    <a:pt x="437" y="211"/>
                  </a:lnTo>
                  <a:lnTo>
                    <a:pt x="450" y="362"/>
                  </a:lnTo>
                  <a:lnTo>
                    <a:pt x="538" y="464"/>
                  </a:lnTo>
                  <a:lnTo>
                    <a:pt x="538" y="672"/>
                  </a:lnTo>
                  <a:lnTo>
                    <a:pt x="472" y="817"/>
                  </a:lnTo>
                  <a:lnTo>
                    <a:pt x="389" y="760"/>
                  </a:lnTo>
                  <a:lnTo>
                    <a:pt x="283" y="525"/>
                  </a:lnTo>
                  <a:lnTo>
                    <a:pt x="261" y="362"/>
                  </a:lnTo>
                  <a:lnTo>
                    <a:pt x="198" y="314"/>
                  </a:lnTo>
                  <a:lnTo>
                    <a:pt x="185" y="734"/>
                  </a:lnTo>
                  <a:lnTo>
                    <a:pt x="97" y="791"/>
                  </a:lnTo>
                  <a:lnTo>
                    <a:pt x="22" y="734"/>
                  </a:lnTo>
                  <a:lnTo>
                    <a:pt x="8" y="371"/>
                  </a:lnTo>
                  <a:lnTo>
                    <a:pt x="0" y="716"/>
                  </a:lnTo>
                  <a:lnTo>
                    <a:pt x="61" y="848"/>
                  </a:lnTo>
                  <a:lnTo>
                    <a:pt x="185" y="848"/>
                  </a:lnTo>
                  <a:lnTo>
                    <a:pt x="220" y="747"/>
                  </a:lnTo>
                  <a:lnTo>
                    <a:pt x="247" y="424"/>
                  </a:lnTo>
                  <a:lnTo>
                    <a:pt x="265" y="547"/>
                  </a:lnTo>
                  <a:lnTo>
                    <a:pt x="375" y="831"/>
                  </a:lnTo>
                  <a:lnTo>
                    <a:pt x="486" y="861"/>
                  </a:lnTo>
                  <a:lnTo>
                    <a:pt x="569" y="747"/>
                  </a:lnTo>
                  <a:lnTo>
                    <a:pt x="569" y="477"/>
                  </a:lnTo>
                  <a:lnTo>
                    <a:pt x="795" y="703"/>
                  </a:lnTo>
                  <a:lnTo>
                    <a:pt x="914" y="703"/>
                  </a:lnTo>
                  <a:lnTo>
                    <a:pt x="923" y="547"/>
                  </a:lnTo>
                  <a:lnTo>
                    <a:pt x="844" y="278"/>
                  </a:lnTo>
                  <a:lnTo>
                    <a:pt x="688" y="57"/>
                  </a:lnTo>
                  <a:lnTo>
                    <a:pt x="68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9" name=""/>
            <p:cNvSpPr/>
            <p:nvPr/>
          </p:nvSpPr>
          <p:spPr>
            <a:xfrm>
              <a:off x="7034040" y="1173240"/>
              <a:ext cx="1475280" cy="1263960"/>
            </a:xfrm>
            <a:custGeom>
              <a:avLst/>
              <a:gdLst/>
              <a:ahLst/>
              <a:rect l="0" t="0" r="r" b="b"/>
              <a:pathLst>
                <a:path w="4098" h="3511">
                  <a:moveTo>
                    <a:pt x="1478" y="299"/>
                  </a:moveTo>
                  <a:lnTo>
                    <a:pt x="1394" y="313"/>
                  </a:lnTo>
                  <a:lnTo>
                    <a:pt x="1288" y="485"/>
                  </a:lnTo>
                  <a:lnTo>
                    <a:pt x="1244" y="361"/>
                  </a:lnTo>
                  <a:lnTo>
                    <a:pt x="1112" y="282"/>
                  </a:lnTo>
                  <a:lnTo>
                    <a:pt x="1014" y="339"/>
                  </a:lnTo>
                  <a:lnTo>
                    <a:pt x="974" y="564"/>
                  </a:lnTo>
                  <a:lnTo>
                    <a:pt x="608" y="842"/>
                  </a:lnTo>
                  <a:lnTo>
                    <a:pt x="630" y="961"/>
                  </a:lnTo>
                  <a:lnTo>
                    <a:pt x="542" y="1071"/>
                  </a:lnTo>
                  <a:lnTo>
                    <a:pt x="542" y="1164"/>
                  </a:lnTo>
                  <a:lnTo>
                    <a:pt x="643" y="1428"/>
                  </a:lnTo>
                  <a:lnTo>
                    <a:pt x="657" y="1750"/>
                  </a:lnTo>
                  <a:lnTo>
                    <a:pt x="586" y="2060"/>
                  </a:lnTo>
                  <a:lnTo>
                    <a:pt x="321" y="2241"/>
                  </a:lnTo>
                  <a:lnTo>
                    <a:pt x="286" y="2492"/>
                  </a:lnTo>
                  <a:lnTo>
                    <a:pt x="202" y="2492"/>
                  </a:lnTo>
                  <a:lnTo>
                    <a:pt x="163" y="2285"/>
                  </a:lnTo>
                  <a:lnTo>
                    <a:pt x="83" y="2285"/>
                  </a:lnTo>
                  <a:lnTo>
                    <a:pt x="52" y="2505"/>
                  </a:lnTo>
                  <a:lnTo>
                    <a:pt x="0" y="2563"/>
                  </a:lnTo>
                  <a:lnTo>
                    <a:pt x="185" y="2867"/>
                  </a:lnTo>
                  <a:lnTo>
                    <a:pt x="313" y="2880"/>
                  </a:lnTo>
                  <a:lnTo>
                    <a:pt x="542" y="3105"/>
                  </a:lnTo>
                  <a:lnTo>
                    <a:pt x="749" y="3136"/>
                  </a:lnTo>
                  <a:lnTo>
                    <a:pt x="868" y="3012"/>
                  </a:lnTo>
                  <a:lnTo>
                    <a:pt x="1156" y="2580"/>
                  </a:lnTo>
                  <a:lnTo>
                    <a:pt x="1178" y="3167"/>
                  </a:lnTo>
                  <a:lnTo>
                    <a:pt x="1156" y="3511"/>
                  </a:lnTo>
                  <a:lnTo>
                    <a:pt x="3520" y="3511"/>
                  </a:lnTo>
                  <a:lnTo>
                    <a:pt x="3348" y="3136"/>
                  </a:lnTo>
                  <a:lnTo>
                    <a:pt x="3260" y="2805"/>
                  </a:lnTo>
                  <a:lnTo>
                    <a:pt x="3238" y="2320"/>
                  </a:lnTo>
                  <a:lnTo>
                    <a:pt x="3375" y="2435"/>
                  </a:lnTo>
                  <a:lnTo>
                    <a:pt x="3520" y="2435"/>
                  </a:lnTo>
                  <a:lnTo>
                    <a:pt x="3714" y="2307"/>
                  </a:lnTo>
                  <a:lnTo>
                    <a:pt x="3842" y="2285"/>
                  </a:lnTo>
                  <a:lnTo>
                    <a:pt x="3922" y="2157"/>
                  </a:lnTo>
                  <a:lnTo>
                    <a:pt x="3979" y="1822"/>
                  </a:lnTo>
                  <a:lnTo>
                    <a:pt x="4098" y="1693"/>
                  </a:lnTo>
                  <a:lnTo>
                    <a:pt x="4036" y="1596"/>
                  </a:lnTo>
                  <a:lnTo>
                    <a:pt x="3953" y="1596"/>
                  </a:lnTo>
                  <a:lnTo>
                    <a:pt x="3878" y="1658"/>
                  </a:lnTo>
                  <a:lnTo>
                    <a:pt x="3812" y="1671"/>
                  </a:lnTo>
                  <a:lnTo>
                    <a:pt x="3723" y="1596"/>
                  </a:lnTo>
                  <a:lnTo>
                    <a:pt x="3626" y="1574"/>
                  </a:lnTo>
                  <a:lnTo>
                    <a:pt x="3437" y="1450"/>
                  </a:lnTo>
                  <a:lnTo>
                    <a:pt x="3322" y="1322"/>
                  </a:lnTo>
                  <a:lnTo>
                    <a:pt x="3300" y="1164"/>
                  </a:lnTo>
                  <a:lnTo>
                    <a:pt x="3322" y="1005"/>
                  </a:lnTo>
                  <a:lnTo>
                    <a:pt x="3401" y="873"/>
                  </a:lnTo>
                  <a:lnTo>
                    <a:pt x="3498" y="767"/>
                  </a:lnTo>
                  <a:lnTo>
                    <a:pt x="3490" y="564"/>
                  </a:lnTo>
                  <a:lnTo>
                    <a:pt x="3490" y="418"/>
                  </a:lnTo>
                  <a:lnTo>
                    <a:pt x="3437" y="313"/>
                  </a:lnTo>
                  <a:lnTo>
                    <a:pt x="3300" y="264"/>
                  </a:lnTo>
                  <a:lnTo>
                    <a:pt x="3256" y="238"/>
                  </a:lnTo>
                  <a:lnTo>
                    <a:pt x="3159" y="66"/>
                  </a:lnTo>
                  <a:lnTo>
                    <a:pt x="3075" y="8"/>
                  </a:lnTo>
                  <a:lnTo>
                    <a:pt x="2990" y="0"/>
                  </a:lnTo>
                  <a:lnTo>
                    <a:pt x="2920" y="30"/>
                  </a:lnTo>
                  <a:lnTo>
                    <a:pt x="2858" y="123"/>
                  </a:lnTo>
                  <a:lnTo>
                    <a:pt x="2774" y="176"/>
                  </a:lnTo>
                  <a:lnTo>
                    <a:pt x="2668" y="194"/>
                  </a:lnTo>
                  <a:lnTo>
                    <a:pt x="2554" y="194"/>
                  </a:lnTo>
                  <a:lnTo>
                    <a:pt x="2576" y="370"/>
                  </a:lnTo>
                  <a:lnTo>
                    <a:pt x="2576" y="586"/>
                  </a:lnTo>
                  <a:lnTo>
                    <a:pt x="2554" y="732"/>
                  </a:lnTo>
                  <a:lnTo>
                    <a:pt x="2452" y="903"/>
                  </a:lnTo>
                  <a:lnTo>
                    <a:pt x="2320" y="1168"/>
                  </a:lnTo>
                  <a:lnTo>
                    <a:pt x="2227" y="1486"/>
                  </a:lnTo>
                  <a:lnTo>
                    <a:pt x="2214" y="1671"/>
                  </a:lnTo>
                  <a:lnTo>
                    <a:pt x="2170" y="1844"/>
                  </a:lnTo>
                  <a:lnTo>
                    <a:pt x="2108" y="1998"/>
                  </a:lnTo>
                  <a:lnTo>
                    <a:pt x="2073" y="2249"/>
                  </a:lnTo>
                  <a:lnTo>
                    <a:pt x="2095" y="2466"/>
                  </a:lnTo>
                  <a:lnTo>
                    <a:pt x="2170" y="2712"/>
                  </a:lnTo>
                  <a:lnTo>
                    <a:pt x="2214" y="2805"/>
                  </a:lnTo>
                  <a:lnTo>
                    <a:pt x="2073" y="2898"/>
                  </a:lnTo>
                  <a:lnTo>
                    <a:pt x="1914" y="2951"/>
                  </a:lnTo>
                  <a:lnTo>
                    <a:pt x="1729" y="2968"/>
                  </a:lnTo>
                  <a:lnTo>
                    <a:pt x="1619" y="2968"/>
                  </a:lnTo>
                  <a:lnTo>
                    <a:pt x="1548" y="2937"/>
                  </a:lnTo>
                  <a:lnTo>
                    <a:pt x="1548" y="2726"/>
                  </a:lnTo>
                  <a:lnTo>
                    <a:pt x="1548" y="2413"/>
                  </a:lnTo>
                  <a:lnTo>
                    <a:pt x="1500" y="2108"/>
                  </a:lnTo>
                  <a:lnTo>
                    <a:pt x="1429" y="1844"/>
                  </a:lnTo>
                  <a:lnTo>
                    <a:pt x="1385" y="1613"/>
                  </a:lnTo>
                  <a:lnTo>
                    <a:pt x="1376" y="1305"/>
                  </a:lnTo>
                  <a:lnTo>
                    <a:pt x="1429" y="1040"/>
                  </a:lnTo>
                  <a:lnTo>
                    <a:pt x="1500" y="815"/>
                  </a:lnTo>
                  <a:lnTo>
                    <a:pt x="1504" y="687"/>
                  </a:lnTo>
                  <a:lnTo>
                    <a:pt x="1478" y="502"/>
                  </a:lnTo>
                  <a:lnTo>
                    <a:pt x="1478" y="361"/>
                  </a:lnTo>
                  <a:lnTo>
                    <a:pt x="1500" y="313"/>
                  </a:lnTo>
                  <a:lnTo>
                    <a:pt x="1478" y="29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90" name=""/>
            <p:cNvSpPr/>
            <p:nvPr/>
          </p:nvSpPr>
          <p:spPr>
            <a:xfrm>
              <a:off x="7608960" y="1427040"/>
              <a:ext cx="186120" cy="821160"/>
            </a:xfrm>
            <a:custGeom>
              <a:avLst/>
              <a:gdLst/>
              <a:ahLst/>
              <a:rect l="0" t="0" r="r" b="b"/>
              <a:pathLst>
                <a:path w="517" h="2281">
                  <a:moveTo>
                    <a:pt x="203" y="30"/>
                  </a:moveTo>
                  <a:lnTo>
                    <a:pt x="66" y="97"/>
                  </a:lnTo>
                  <a:lnTo>
                    <a:pt x="79" y="317"/>
                  </a:lnTo>
                  <a:lnTo>
                    <a:pt x="186" y="379"/>
                  </a:lnTo>
                  <a:lnTo>
                    <a:pt x="61" y="622"/>
                  </a:lnTo>
                  <a:lnTo>
                    <a:pt x="0" y="887"/>
                  </a:lnTo>
                  <a:lnTo>
                    <a:pt x="0" y="1138"/>
                  </a:lnTo>
                  <a:lnTo>
                    <a:pt x="61" y="1368"/>
                  </a:lnTo>
                  <a:lnTo>
                    <a:pt x="110" y="1645"/>
                  </a:lnTo>
                  <a:lnTo>
                    <a:pt x="110" y="1801"/>
                  </a:lnTo>
                  <a:lnTo>
                    <a:pt x="61" y="2004"/>
                  </a:lnTo>
                  <a:lnTo>
                    <a:pt x="265" y="2281"/>
                  </a:lnTo>
                  <a:lnTo>
                    <a:pt x="353" y="2233"/>
                  </a:lnTo>
                  <a:lnTo>
                    <a:pt x="412" y="2043"/>
                  </a:lnTo>
                  <a:lnTo>
                    <a:pt x="513" y="1792"/>
                  </a:lnTo>
                  <a:lnTo>
                    <a:pt x="517" y="1659"/>
                  </a:lnTo>
                  <a:lnTo>
                    <a:pt x="438" y="1412"/>
                  </a:lnTo>
                  <a:lnTo>
                    <a:pt x="336" y="1165"/>
                  </a:lnTo>
                  <a:lnTo>
                    <a:pt x="305" y="993"/>
                  </a:lnTo>
                  <a:lnTo>
                    <a:pt x="305" y="830"/>
                  </a:lnTo>
                  <a:lnTo>
                    <a:pt x="336" y="680"/>
                  </a:lnTo>
                  <a:lnTo>
                    <a:pt x="412" y="498"/>
                  </a:lnTo>
                  <a:lnTo>
                    <a:pt x="412" y="423"/>
                  </a:lnTo>
                  <a:lnTo>
                    <a:pt x="380" y="348"/>
                  </a:lnTo>
                  <a:lnTo>
                    <a:pt x="473" y="255"/>
                  </a:lnTo>
                  <a:lnTo>
                    <a:pt x="473" y="176"/>
                  </a:lnTo>
                  <a:lnTo>
                    <a:pt x="336" y="0"/>
                  </a:lnTo>
                  <a:lnTo>
                    <a:pt x="451" y="176"/>
                  </a:lnTo>
                  <a:lnTo>
                    <a:pt x="451" y="246"/>
                  </a:lnTo>
                  <a:lnTo>
                    <a:pt x="349" y="317"/>
                  </a:lnTo>
                  <a:lnTo>
                    <a:pt x="390" y="423"/>
                  </a:lnTo>
                  <a:lnTo>
                    <a:pt x="380" y="498"/>
                  </a:lnTo>
                  <a:lnTo>
                    <a:pt x="278" y="710"/>
                  </a:lnTo>
                  <a:lnTo>
                    <a:pt x="265" y="918"/>
                  </a:lnTo>
                  <a:lnTo>
                    <a:pt x="287" y="1107"/>
                  </a:lnTo>
                  <a:lnTo>
                    <a:pt x="353" y="1381"/>
                  </a:lnTo>
                  <a:lnTo>
                    <a:pt x="438" y="1597"/>
                  </a:lnTo>
                  <a:lnTo>
                    <a:pt x="438" y="1783"/>
                  </a:lnTo>
                  <a:lnTo>
                    <a:pt x="390" y="2004"/>
                  </a:lnTo>
                  <a:lnTo>
                    <a:pt x="287" y="2233"/>
                  </a:lnTo>
                  <a:lnTo>
                    <a:pt x="172" y="2109"/>
                  </a:lnTo>
                  <a:lnTo>
                    <a:pt x="123" y="2004"/>
                  </a:lnTo>
                  <a:lnTo>
                    <a:pt x="133" y="1783"/>
                  </a:lnTo>
                  <a:lnTo>
                    <a:pt x="123" y="1553"/>
                  </a:lnTo>
                  <a:lnTo>
                    <a:pt x="61" y="1253"/>
                  </a:lnTo>
                  <a:lnTo>
                    <a:pt x="39" y="1046"/>
                  </a:lnTo>
                  <a:lnTo>
                    <a:pt x="61" y="807"/>
                  </a:lnTo>
                  <a:lnTo>
                    <a:pt x="110" y="587"/>
                  </a:lnTo>
                  <a:lnTo>
                    <a:pt x="217" y="366"/>
                  </a:lnTo>
                  <a:lnTo>
                    <a:pt x="123" y="277"/>
                  </a:lnTo>
                  <a:lnTo>
                    <a:pt x="110" y="114"/>
                  </a:lnTo>
                  <a:lnTo>
                    <a:pt x="203" y="3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91" name=""/>
            <p:cNvSpPr/>
            <p:nvPr/>
          </p:nvSpPr>
          <p:spPr>
            <a:xfrm>
              <a:off x="8140680" y="468360"/>
              <a:ext cx="294120" cy="400320"/>
            </a:xfrm>
            <a:custGeom>
              <a:avLst/>
              <a:gdLst/>
              <a:ahLst/>
              <a:rect l="0" t="0" r="r" b="b"/>
              <a:pathLst>
                <a:path w="817" h="1112">
                  <a:moveTo>
                    <a:pt x="136" y="282"/>
                  </a:moveTo>
                  <a:lnTo>
                    <a:pt x="256" y="255"/>
                  </a:lnTo>
                  <a:lnTo>
                    <a:pt x="371" y="273"/>
                  </a:lnTo>
                  <a:lnTo>
                    <a:pt x="468" y="317"/>
                  </a:lnTo>
                  <a:lnTo>
                    <a:pt x="521" y="374"/>
                  </a:lnTo>
                  <a:lnTo>
                    <a:pt x="547" y="436"/>
                  </a:lnTo>
                  <a:lnTo>
                    <a:pt x="547" y="489"/>
                  </a:lnTo>
                  <a:lnTo>
                    <a:pt x="521" y="529"/>
                  </a:lnTo>
                  <a:lnTo>
                    <a:pt x="464" y="551"/>
                  </a:lnTo>
                  <a:lnTo>
                    <a:pt x="402" y="555"/>
                  </a:lnTo>
                  <a:lnTo>
                    <a:pt x="331" y="537"/>
                  </a:lnTo>
                  <a:lnTo>
                    <a:pt x="261" y="493"/>
                  </a:lnTo>
                  <a:lnTo>
                    <a:pt x="202" y="454"/>
                  </a:lnTo>
                  <a:lnTo>
                    <a:pt x="185" y="591"/>
                  </a:lnTo>
                  <a:lnTo>
                    <a:pt x="136" y="693"/>
                  </a:lnTo>
                  <a:lnTo>
                    <a:pt x="0" y="927"/>
                  </a:lnTo>
                  <a:lnTo>
                    <a:pt x="198" y="1112"/>
                  </a:lnTo>
                  <a:lnTo>
                    <a:pt x="344" y="812"/>
                  </a:lnTo>
                  <a:lnTo>
                    <a:pt x="521" y="834"/>
                  </a:lnTo>
                  <a:lnTo>
                    <a:pt x="623" y="816"/>
                  </a:lnTo>
                  <a:lnTo>
                    <a:pt x="725" y="746"/>
                  </a:lnTo>
                  <a:lnTo>
                    <a:pt x="782" y="658"/>
                  </a:lnTo>
                  <a:lnTo>
                    <a:pt x="817" y="546"/>
                  </a:lnTo>
                  <a:lnTo>
                    <a:pt x="817" y="423"/>
                  </a:lnTo>
                  <a:lnTo>
                    <a:pt x="782" y="299"/>
                  </a:lnTo>
                  <a:lnTo>
                    <a:pt x="720" y="167"/>
                  </a:lnTo>
                  <a:lnTo>
                    <a:pt x="637" y="74"/>
                  </a:lnTo>
                  <a:lnTo>
                    <a:pt x="534" y="30"/>
                  </a:lnTo>
                  <a:lnTo>
                    <a:pt x="419" y="0"/>
                  </a:lnTo>
                  <a:lnTo>
                    <a:pt x="269" y="0"/>
                  </a:lnTo>
                  <a:lnTo>
                    <a:pt x="110" y="30"/>
                  </a:lnTo>
                  <a:lnTo>
                    <a:pt x="136" y="282"/>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8088480" y="855720"/>
              <a:ext cx="105120" cy="79560"/>
            </a:xfrm>
            <a:custGeom>
              <a:avLst/>
              <a:gdLst/>
              <a:ahLst/>
              <a:rect l="0" t="0" r="r" b="b"/>
              <a:pathLst>
                <a:path w="292" h="221">
                  <a:moveTo>
                    <a:pt x="119" y="0"/>
                  </a:moveTo>
                  <a:lnTo>
                    <a:pt x="44" y="0"/>
                  </a:lnTo>
                  <a:lnTo>
                    <a:pt x="0" y="30"/>
                  </a:lnTo>
                  <a:lnTo>
                    <a:pt x="0" y="111"/>
                  </a:lnTo>
                  <a:lnTo>
                    <a:pt x="61" y="190"/>
                  </a:lnTo>
                  <a:lnTo>
                    <a:pt x="172" y="221"/>
                  </a:lnTo>
                  <a:lnTo>
                    <a:pt x="269" y="217"/>
                  </a:lnTo>
                  <a:lnTo>
                    <a:pt x="292" y="164"/>
                  </a:lnTo>
                  <a:lnTo>
                    <a:pt x="278" y="120"/>
                  </a:lnTo>
                  <a:lnTo>
                    <a:pt x="234" y="52"/>
                  </a:lnTo>
                  <a:lnTo>
                    <a:pt x="164" y="8"/>
                  </a:lnTo>
                  <a:lnTo>
                    <a:pt x="119" y="0"/>
                  </a:lnTo>
                  <a:close/>
                </a:path>
              </a:pathLst>
            </a:custGeom>
            <a:solidFill>
              <a:srgbClr val="fc0128"/>
            </a:solidFill>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93" name=""/>
          <p:cNvSpPr txBox="1"/>
          <p:nvPr/>
        </p:nvSpPr>
        <p:spPr>
          <a:xfrm>
            <a:off x="2057400" y="2590920"/>
            <a:ext cx="5943600" cy="274320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2</a:t>
            </a:r>
            <a:endParaRPr b="0" lang="en-US" sz="36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Define </a:t>
            </a:r>
            <a:r>
              <a:rPr b="1" i="1" lang="en-US" sz="3200" spc="-1" strike="noStrike">
                <a:solidFill>
                  <a:srgbClr val="fcffd8"/>
                </a:solidFill>
                <a:latin typeface="Arial"/>
                <a:ea typeface="Arial"/>
              </a:rPr>
              <a:t>inventory cost</a:t>
            </a:r>
            <a:r>
              <a:rPr b="1" lang="en-US" sz="3200" spc="-1" strike="noStrike">
                <a:solidFill>
                  <a:srgbClr val="fcffd8"/>
                </a:solidFill>
                <a:latin typeface="Arial"/>
                <a:ea typeface="Arial"/>
              </a:rPr>
              <a:t> and relate it to goods flow and cost flow.</a:t>
            </a:r>
            <a:endParaRPr b="0" lang="en-US" sz="3200" spc="-1" strike="noStrike">
              <a:solidFill>
                <a:srgbClr val="ffffff"/>
              </a:solidFill>
              <a:latin typeface="Arial"/>
            </a:endParaRPr>
          </a:p>
        </p:txBody>
      </p:sp>
      <p:sp>
        <p:nvSpPr>
          <p:cNvPr id="294" name=""/>
          <p:cNvSpPr txBox="1"/>
          <p:nvPr/>
        </p:nvSpPr>
        <p:spPr>
          <a:xfrm>
            <a:off x="838080" y="838080"/>
            <a:ext cx="792468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ricing Inventory Under the Periodic Inventory System</a:t>
            </a:r>
            <a:endParaRPr b="0" lang="en-US" sz="4400" spc="-1" strike="noStrike">
              <a:solidFill>
                <a:srgbClr val="ffffff"/>
              </a:solidFill>
              <a:latin typeface="Arial"/>
            </a:endParaRPr>
          </a:p>
        </p:txBody>
      </p:sp>
      <p:pic>
        <p:nvPicPr>
          <p:cNvPr id="295" name="" descr=""/>
          <p:cNvPicPr/>
          <p:nvPr/>
        </p:nvPicPr>
        <p:blipFill>
          <a:blip r:embed="rId1"/>
          <a:stretch/>
        </p:blipFill>
        <p:spPr>
          <a:xfrm>
            <a:off x="0" y="0"/>
            <a:ext cx="863640" cy="7035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96" name=""/>
          <p:cNvSpPr txBox="1"/>
          <p:nvPr/>
        </p:nvSpPr>
        <p:spPr>
          <a:xfrm>
            <a:off x="990720" y="3808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The AICPA States</a:t>
            </a:r>
            <a:r>
              <a:rPr b="1" lang="en-US" sz="4400" spc="-1" strike="noStrike">
                <a:solidFill>
                  <a:srgbClr val="ffcc66"/>
                </a:solidFill>
                <a:latin typeface="Arial"/>
                <a:ea typeface="Arial"/>
              </a:rPr>
              <a:t> . . .</a:t>
            </a:r>
            <a:endParaRPr b="0" lang="en-US" sz="4400" spc="-1" strike="noStrike">
              <a:solidFill>
                <a:srgbClr val="ffffff"/>
              </a:solidFill>
              <a:latin typeface="Arial"/>
            </a:endParaRPr>
          </a:p>
        </p:txBody>
      </p:sp>
      <p:sp>
        <p:nvSpPr>
          <p:cNvPr id="297" name=""/>
          <p:cNvSpPr txBox="1"/>
          <p:nvPr/>
        </p:nvSpPr>
        <p:spPr>
          <a:xfrm>
            <a:off x="838080" y="1371600"/>
            <a:ext cx="6781680" cy="32004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t>
            </a:r>
            <a:r>
              <a:rPr b="1" lang="en-US" sz="3200" spc="-1" strike="noStrike">
                <a:solidFill>
                  <a:srgbClr val="fcffd8"/>
                </a:solidFill>
                <a:latin typeface="Arial"/>
                <a:ea typeface="Arial"/>
              </a:rPr>
              <a:t>The primary basis of accounting for inventories is cost, which has been defined generally as the price paid or consideration given to acquire an asset.”</a:t>
            </a:r>
            <a:endParaRPr b="0" lang="en-US" sz="3200" spc="-1" strike="noStrike">
              <a:solidFill>
                <a:srgbClr val="ffffff"/>
              </a:solidFill>
              <a:latin typeface="Arial"/>
            </a:endParaRPr>
          </a:p>
        </p:txBody>
      </p:sp>
      <p:grpSp>
        <p:nvGrpSpPr>
          <p:cNvPr id="298" name=""/>
          <p:cNvGrpSpPr/>
          <p:nvPr/>
        </p:nvGrpSpPr>
        <p:grpSpPr>
          <a:xfrm>
            <a:off x="4267080" y="4343400"/>
            <a:ext cx="4494600" cy="1848240"/>
            <a:chOff x="4267080" y="4343400"/>
            <a:chExt cx="4494600" cy="1848240"/>
          </a:xfrm>
        </p:grpSpPr>
        <p:sp>
          <p:nvSpPr>
            <p:cNvPr id="299" name=""/>
            <p:cNvSpPr/>
            <p:nvPr/>
          </p:nvSpPr>
          <p:spPr>
            <a:xfrm>
              <a:off x="5286240" y="4853160"/>
              <a:ext cx="962280" cy="787680"/>
            </a:xfrm>
            <a:custGeom>
              <a:avLst/>
              <a:gdLst/>
              <a:ahLst/>
              <a:rect l="0" t="0" r="r" b="b"/>
              <a:pathLst>
                <a:path w="2673" h="2188">
                  <a:moveTo>
                    <a:pt x="2673" y="2188"/>
                  </a:moveTo>
                  <a:lnTo>
                    <a:pt x="2602" y="2100"/>
                  </a:lnTo>
                  <a:lnTo>
                    <a:pt x="2571" y="1963"/>
                  </a:lnTo>
                  <a:lnTo>
                    <a:pt x="2492" y="1901"/>
                  </a:lnTo>
                  <a:lnTo>
                    <a:pt x="2479" y="1817"/>
                  </a:lnTo>
                  <a:lnTo>
                    <a:pt x="2527" y="1760"/>
                  </a:lnTo>
                  <a:lnTo>
                    <a:pt x="2527" y="1694"/>
                  </a:lnTo>
                  <a:lnTo>
                    <a:pt x="2496" y="1628"/>
                  </a:lnTo>
                  <a:lnTo>
                    <a:pt x="2448" y="1553"/>
                  </a:lnTo>
                  <a:lnTo>
                    <a:pt x="2448" y="1425"/>
                  </a:lnTo>
                  <a:lnTo>
                    <a:pt x="2492" y="1368"/>
                  </a:lnTo>
                  <a:lnTo>
                    <a:pt x="2488" y="1315"/>
                  </a:lnTo>
                  <a:lnTo>
                    <a:pt x="2435" y="1271"/>
                  </a:lnTo>
                  <a:lnTo>
                    <a:pt x="2408" y="1191"/>
                  </a:lnTo>
                  <a:lnTo>
                    <a:pt x="2413" y="1125"/>
                  </a:lnTo>
                  <a:lnTo>
                    <a:pt x="2404" y="1023"/>
                  </a:lnTo>
                  <a:lnTo>
                    <a:pt x="2391" y="881"/>
                  </a:lnTo>
                  <a:lnTo>
                    <a:pt x="2391" y="718"/>
                  </a:lnTo>
                  <a:lnTo>
                    <a:pt x="2391" y="604"/>
                  </a:lnTo>
                  <a:lnTo>
                    <a:pt x="2386" y="476"/>
                  </a:lnTo>
                  <a:lnTo>
                    <a:pt x="2355" y="361"/>
                  </a:lnTo>
                  <a:lnTo>
                    <a:pt x="2338" y="286"/>
                  </a:lnTo>
                  <a:lnTo>
                    <a:pt x="2047" y="136"/>
                  </a:lnTo>
                  <a:lnTo>
                    <a:pt x="1879" y="92"/>
                  </a:lnTo>
                  <a:lnTo>
                    <a:pt x="1711" y="57"/>
                  </a:lnTo>
                  <a:lnTo>
                    <a:pt x="1539" y="0"/>
                  </a:lnTo>
                  <a:lnTo>
                    <a:pt x="670" y="17"/>
                  </a:lnTo>
                  <a:lnTo>
                    <a:pt x="418" y="70"/>
                  </a:lnTo>
                  <a:lnTo>
                    <a:pt x="167" y="163"/>
                  </a:lnTo>
                  <a:lnTo>
                    <a:pt x="92" y="207"/>
                  </a:lnTo>
                  <a:lnTo>
                    <a:pt x="26" y="370"/>
                  </a:lnTo>
                  <a:lnTo>
                    <a:pt x="26" y="908"/>
                  </a:lnTo>
                  <a:lnTo>
                    <a:pt x="0" y="978"/>
                  </a:lnTo>
                  <a:lnTo>
                    <a:pt x="401" y="2188"/>
                  </a:lnTo>
                  <a:lnTo>
                    <a:pt x="2673" y="2188"/>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5330880" y="4873680"/>
              <a:ext cx="437040" cy="389160"/>
            </a:xfrm>
            <a:custGeom>
              <a:avLst/>
              <a:gdLst/>
              <a:ahLst/>
              <a:rect l="0" t="0" r="r" b="b"/>
              <a:pathLst>
                <a:path w="1214" h="1081">
                  <a:moveTo>
                    <a:pt x="1214" y="1081"/>
                  </a:moveTo>
                  <a:lnTo>
                    <a:pt x="865" y="396"/>
                  </a:lnTo>
                  <a:lnTo>
                    <a:pt x="768" y="255"/>
                  </a:lnTo>
                  <a:lnTo>
                    <a:pt x="574" y="145"/>
                  </a:lnTo>
                  <a:lnTo>
                    <a:pt x="367" y="97"/>
                  </a:lnTo>
                  <a:lnTo>
                    <a:pt x="207" y="101"/>
                  </a:lnTo>
                  <a:lnTo>
                    <a:pt x="0" y="132"/>
                  </a:lnTo>
                  <a:lnTo>
                    <a:pt x="48" y="97"/>
                  </a:lnTo>
                  <a:lnTo>
                    <a:pt x="264" y="22"/>
                  </a:lnTo>
                  <a:lnTo>
                    <a:pt x="486" y="0"/>
                  </a:lnTo>
                  <a:lnTo>
                    <a:pt x="649" y="22"/>
                  </a:lnTo>
                  <a:lnTo>
                    <a:pt x="830" y="202"/>
                  </a:lnTo>
                  <a:lnTo>
                    <a:pt x="950" y="436"/>
                  </a:lnTo>
                  <a:lnTo>
                    <a:pt x="1011" y="609"/>
                  </a:lnTo>
                  <a:lnTo>
                    <a:pt x="1214" y="1081"/>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1" name=""/>
            <p:cNvSpPr/>
            <p:nvPr/>
          </p:nvSpPr>
          <p:spPr>
            <a:xfrm>
              <a:off x="5292720" y="4979880"/>
              <a:ext cx="224280" cy="376560"/>
            </a:xfrm>
            <a:custGeom>
              <a:avLst/>
              <a:gdLst/>
              <a:ahLst/>
              <a:rect l="0" t="0" r="r" b="b"/>
              <a:pathLst>
                <a:path w="623" h="1046">
                  <a:moveTo>
                    <a:pt x="411" y="458"/>
                  </a:moveTo>
                  <a:lnTo>
                    <a:pt x="362" y="361"/>
                  </a:lnTo>
                  <a:lnTo>
                    <a:pt x="296" y="282"/>
                  </a:lnTo>
                  <a:lnTo>
                    <a:pt x="230" y="229"/>
                  </a:lnTo>
                  <a:lnTo>
                    <a:pt x="154" y="189"/>
                  </a:lnTo>
                  <a:lnTo>
                    <a:pt x="114" y="180"/>
                  </a:lnTo>
                  <a:lnTo>
                    <a:pt x="168" y="295"/>
                  </a:lnTo>
                  <a:lnTo>
                    <a:pt x="269" y="436"/>
                  </a:lnTo>
                  <a:lnTo>
                    <a:pt x="384" y="547"/>
                  </a:lnTo>
                  <a:lnTo>
                    <a:pt x="535" y="658"/>
                  </a:lnTo>
                  <a:lnTo>
                    <a:pt x="562" y="671"/>
                  </a:lnTo>
                  <a:lnTo>
                    <a:pt x="623" y="865"/>
                  </a:lnTo>
                  <a:lnTo>
                    <a:pt x="570" y="909"/>
                  </a:lnTo>
                  <a:lnTo>
                    <a:pt x="610" y="1046"/>
                  </a:lnTo>
                  <a:lnTo>
                    <a:pt x="473" y="1028"/>
                  </a:lnTo>
                  <a:lnTo>
                    <a:pt x="526" y="1002"/>
                  </a:lnTo>
                  <a:lnTo>
                    <a:pt x="441" y="887"/>
                  </a:lnTo>
                  <a:lnTo>
                    <a:pt x="230" y="794"/>
                  </a:lnTo>
                  <a:lnTo>
                    <a:pt x="97" y="697"/>
                  </a:lnTo>
                  <a:lnTo>
                    <a:pt x="61" y="671"/>
                  </a:lnTo>
                  <a:lnTo>
                    <a:pt x="79" y="724"/>
                  </a:lnTo>
                  <a:lnTo>
                    <a:pt x="132" y="807"/>
                  </a:lnTo>
                  <a:lnTo>
                    <a:pt x="30" y="710"/>
                  </a:lnTo>
                  <a:lnTo>
                    <a:pt x="4" y="618"/>
                  </a:lnTo>
                  <a:lnTo>
                    <a:pt x="0" y="578"/>
                  </a:lnTo>
                  <a:lnTo>
                    <a:pt x="39" y="458"/>
                  </a:lnTo>
                  <a:lnTo>
                    <a:pt x="48" y="0"/>
                  </a:lnTo>
                  <a:lnTo>
                    <a:pt x="217" y="119"/>
                  </a:lnTo>
                  <a:lnTo>
                    <a:pt x="322" y="238"/>
                  </a:lnTo>
                  <a:lnTo>
                    <a:pt x="380" y="348"/>
                  </a:lnTo>
                  <a:lnTo>
                    <a:pt x="411" y="458"/>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2" name=""/>
            <p:cNvSpPr/>
            <p:nvPr/>
          </p:nvSpPr>
          <p:spPr>
            <a:xfrm>
              <a:off x="5354640" y="5275440"/>
              <a:ext cx="159120" cy="205200"/>
            </a:xfrm>
            <a:custGeom>
              <a:avLst/>
              <a:gdLst/>
              <a:ahLst/>
              <a:rect l="0" t="0" r="r" b="b"/>
              <a:pathLst>
                <a:path w="442" h="570">
                  <a:moveTo>
                    <a:pt x="17" y="0"/>
                  </a:moveTo>
                  <a:lnTo>
                    <a:pt x="97" y="44"/>
                  </a:lnTo>
                  <a:lnTo>
                    <a:pt x="142" y="155"/>
                  </a:lnTo>
                  <a:lnTo>
                    <a:pt x="247" y="212"/>
                  </a:lnTo>
                  <a:lnTo>
                    <a:pt x="164" y="208"/>
                  </a:lnTo>
                  <a:lnTo>
                    <a:pt x="217" y="252"/>
                  </a:lnTo>
                  <a:lnTo>
                    <a:pt x="341" y="287"/>
                  </a:lnTo>
                  <a:lnTo>
                    <a:pt x="403" y="362"/>
                  </a:lnTo>
                  <a:lnTo>
                    <a:pt x="372" y="429"/>
                  </a:lnTo>
                  <a:lnTo>
                    <a:pt x="292" y="380"/>
                  </a:lnTo>
                  <a:lnTo>
                    <a:pt x="261" y="424"/>
                  </a:lnTo>
                  <a:lnTo>
                    <a:pt x="376" y="469"/>
                  </a:lnTo>
                  <a:lnTo>
                    <a:pt x="442" y="447"/>
                  </a:lnTo>
                  <a:lnTo>
                    <a:pt x="390" y="570"/>
                  </a:lnTo>
                  <a:lnTo>
                    <a:pt x="203" y="447"/>
                  </a:lnTo>
                  <a:lnTo>
                    <a:pt x="0" y="177"/>
                  </a:lnTo>
                  <a:lnTo>
                    <a:pt x="17" y="0"/>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3" name=""/>
            <p:cNvSpPr/>
            <p:nvPr/>
          </p:nvSpPr>
          <p:spPr>
            <a:xfrm>
              <a:off x="5532480" y="5459400"/>
              <a:ext cx="335160" cy="228960"/>
            </a:xfrm>
            <a:custGeom>
              <a:avLst/>
              <a:gdLst/>
              <a:ahLst/>
              <a:rect l="0" t="0" r="r" b="b"/>
              <a:pathLst>
                <a:path w="931" h="636">
                  <a:moveTo>
                    <a:pt x="105" y="105"/>
                  </a:moveTo>
                  <a:lnTo>
                    <a:pt x="145" y="132"/>
                  </a:lnTo>
                  <a:lnTo>
                    <a:pt x="163" y="0"/>
                  </a:lnTo>
                  <a:lnTo>
                    <a:pt x="211" y="198"/>
                  </a:lnTo>
                  <a:lnTo>
                    <a:pt x="189" y="251"/>
                  </a:lnTo>
                  <a:lnTo>
                    <a:pt x="440" y="340"/>
                  </a:lnTo>
                  <a:lnTo>
                    <a:pt x="578" y="472"/>
                  </a:lnTo>
                  <a:lnTo>
                    <a:pt x="887" y="472"/>
                  </a:lnTo>
                  <a:lnTo>
                    <a:pt x="931" y="569"/>
                  </a:lnTo>
                  <a:lnTo>
                    <a:pt x="578" y="636"/>
                  </a:lnTo>
                  <a:lnTo>
                    <a:pt x="0" y="268"/>
                  </a:lnTo>
                  <a:lnTo>
                    <a:pt x="105" y="105"/>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4" name=""/>
            <p:cNvSpPr/>
            <p:nvPr/>
          </p:nvSpPr>
          <p:spPr>
            <a:xfrm>
              <a:off x="5556240" y="4971960"/>
              <a:ext cx="608400" cy="551160"/>
            </a:xfrm>
            <a:custGeom>
              <a:avLst/>
              <a:gdLst/>
              <a:ahLst/>
              <a:rect l="0" t="0" r="r" b="b"/>
              <a:pathLst>
                <a:path w="1690" h="1531">
                  <a:moveTo>
                    <a:pt x="935" y="0"/>
                  </a:moveTo>
                  <a:lnTo>
                    <a:pt x="984" y="216"/>
                  </a:lnTo>
                  <a:lnTo>
                    <a:pt x="993" y="489"/>
                  </a:lnTo>
                  <a:lnTo>
                    <a:pt x="940" y="830"/>
                  </a:lnTo>
                  <a:lnTo>
                    <a:pt x="852" y="1112"/>
                  </a:lnTo>
                  <a:lnTo>
                    <a:pt x="931" y="1187"/>
                  </a:lnTo>
                  <a:lnTo>
                    <a:pt x="781" y="1231"/>
                  </a:lnTo>
                  <a:lnTo>
                    <a:pt x="512" y="1204"/>
                  </a:lnTo>
                  <a:lnTo>
                    <a:pt x="194" y="1209"/>
                  </a:lnTo>
                  <a:lnTo>
                    <a:pt x="0" y="1222"/>
                  </a:lnTo>
                  <a:lnTo>
                    <a:pt x="114" y="1359"/>
                  </a:lnTo>
                  <a:lnTo>
                    <a:pt x="852" y="1420"/>
                  </a:lnTo>
                  <a:lnTo>
                    <a:pt x="1377" y="1531"/>
                  </a:lnTo>
                  <a:lnTo>
                    <a:pt x="1435" y="1491"/>
                  </a:lnTo>
                  <a:lnTo>
                    <a:pt x="1364" y="1429"/>
                  </a:lnTo>
                  <a:lnTo>
                    <a:pt x="1413" y="1376"/>
                  </a:lnTo>
                  <a:lnTo>
                    <a:pt x="1518" y="1359"/>
                  </a:lnTo>
                  <a:lnTo>
                    <a:pt x="1690" y="1372"/>
                  </a:lnTo>
                  <a:lnTo>
                    <a:pt x="1563" y="1293"/>
                  </a:lnTo>
                  <a:lnTo>
                    <a:pt x="1479" y="1187"/>
                  </a:lnTo>
                  <a:lnTo>
                    <a:pt x="1483" y="1112"/>
                  </a:lnTo>
                  <a:lnTo>
                    <a:pt x="1629" y="1032"/>
                  </a:lnTo>
                  <a:lnTo>
                    <a:pt x="1660" y="922"/>
                  </a:lnTo>
                  <a:lnTo>
                    <a:pt x="1593" y="957"/>
                  </a:lnTo>
                  <a:lnTo>
                    <a:pt x="1510" y="953"/>
                  </a:lnTo>
                  <a:lnTo>
                    <a:pt x="1492" y="922"/>
                  </a:lnTo>
                  <a:lnTo>
                    <a:pt x="1563" y="847"/>
                  </a:lnTo>
                  <a:lnTo>
                    <a:pt x="1496" y="843"/>
                  </a:lnTo>
                  <a:lnTo>
                    <a:pt x="1501" y="762"/>
                  </a:lnTo>
                  <a:lnTo>
                    <a:pt x="1536" y="652"/>
                  </a:lnTo>
                  <a:lnTo>
                    <a:pt x="1602" y="692"/>
                  </a:lnTo>
                  <a:lnTo>
                    <a:pt x="1629" y="754"/>
                  </a:lnTo>
                  <a:lnTo>
                    <a:pt x="1646" y="657"/>
                  </a:lnTo>
                  <a:lnTo>
                    <a:pt x="1620" y="418"/>
                  </a:lnTo>
                  <a:lnTo>
                    <a:pt x="1642" y="246"/>
                  </a:lnTo>
                  <a:lnTo>
                    <a:pt x="1585" y="502"/>
                  </a:lnTo>
                  <a:lnTo>
                    <a:pt x="1496" y="639"/>
                  </a:lnTo>
                  <a:lnTo>
                    <a:pt x="1333" y="896"/>
                  </a:lnTo>
                  <a:lnTo>
                    <a:pt x="1218" y="1015"/>
                  </a:lnTo>
                  <a:lnTo>
                    <a:pt x="1054" y="1125"/>
                  </a:lnTo>
                  <a:lnTo>
                    <a:pt x="1002" y="1129"/>
                  </a:lnTo>
                  <a:lnTo>
                    <a:pt x="1054" y="1032"/>
                  </a:lnTo>
                  <a:lnTo>
                    <a:pt x="1081" y="878"/>
                  </a:lnTo>
                  <a:lnTo>
                    <a:pt x="1094" y="630"/>
                  </a:lnTo>
                  <a:lnTo>
                    <a:pt x="1081" y="405"/>
                  </a:lnTo>
                  <a:lnTo>
                    <a:pt x="1054" y="211"/>
                  </a:lnTo>
                  <a:lnTo>
                    <a:pt x="1015" y="88"/>
                  </a:lnTo>
                  <a:lnTo>
                    <a:pt x="935" y="0"/>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5" name=""/>
            <p:cNvSpPr/>
            <p:nvPr/>
          </p:nvSpPr>
          <p:spPr>
            <a:xfrm>
              <a:off x="6066000" y="5537160"/>
              <a:ext cx="151200" cy="103680"/>
            </a:xfrm>
            <a:custGeom>
              <a:avLst/>
              <a:gdLst/>
              <a:ahLst/>
              <a:rect l="0" t="0" r="r" b="b"/>
              <a:pathLst>
                <a:path w="420" h="288">
                  <a:moveTo>
                    <a:pt x="97" y="0"/>
                  </a:moveTo>
                  <a:lnTo>
                    <a:pt x="150" y="61"/>
                  </a:lnTo>
                  <a:lnTo>
                    <a:pt x="128" y="128"/>
                  </a:lnTo>
                  <a:lnTo>
                    <a:pt x="181" y="93"/>
                  </a:lnTo>
                  <a:lnTo>
                    <a:pt x="195" y="203"/>
                  </a:lnTo>
                  <a:lnTo>
                    <a:pt x="261" y="137"/>
                  </a:lnTo>
                  <a:lnTo>
                    <a:pt x="314" y="181"/>
                  </a:lnTo>
                  <a:lnTo>
                    <a:pt x="274" y="222"/>
                  </a:lnTo>
                  <a:lnTo>
                    <a:pt x="305" y="270"/>
                  </a:lnTo>
                  <a:lnTo>
                    <a:pt x="376" y="253"/>
                  </a:lnTo>
                  <a:lnTo>
                    <a:pt x="420" y="288"/>
                  </a:lnTo>
                  <a:lnTo>
                    <a:pt x="150" y="288"/>
                  </a:lnTo>
                  <a:lnTo>
                    <a:pt x="0" y="164"/>
                  </a:lnTo>
                  <a:lnTo>
                    <a:pt x="13" y="30"/>
                  </a:lnTo>
                  <a:lnTo>
                    <a:pt x="97" y="0"/>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6" name=""/>
            <p:cNvSpPr/>
            <p:nvPr/>
          </p:nvSpPr>
          <p:spPr>
            <a:xfrm>
              <a:off x="6126120" y="5354640"/>
              <a:ext cx="41760" cy="59040"/>
            </a:xfrm>
            <a:custGeom>
              <a:avLst/>
              <a:gdLst/>
              <a:ahLst/>
              <a:rect l="0" t="0" r="r" b="b"/>
              <a:pathLst>
                <a:path w="116" h="164">
                  <a:moveTo>
                    <a:pt x="0" y="66"/>
                  </a:moveTo>
                  <a:lnTo>
                    <a:pt x="58" y="66"/>
                  </a:lnTo>
                  <a:lnTo>
                    <a:pt x="58" y="111"/>
                  </a:lnTo>
                  <a:lnTo>
                    <a:pt x="13" y="102"/>
                  </a:lnTo>
                  <a:lnTo>
                    <a:pt x="94" y="164"/>
                  </a:lnTo>
                  <a:lnTo>
                    <a:pt x="116" y="0"/>
                  </a:lnTo>
                  <a:lnTo>
                    <a:pt x="0" y="66"/>
                  </a:lnTo>
                  <a:close/>
                </a:path>
              </a:pathLst>
            </a:custGeom>
            <a:solidFill>
              <a:srgbClr val="622100"/>
            </a:solidFill>
            <a:ln w="12600">
              <a:solidFill>
                <a:srgbClr val="622100"/>
              </a:solidFill>
              <a:round/>
            </a:ln>
          </p:spPr>
          <p:txBody>
            <a:bodyPr lIns="96120" rIns="96120" tIns="7920" bIns="7920" anchor="t">
              <a:noAutofit/>
            </a:bodyPr>
            <a:p>
              <a:endParaRPr b="0" lang="en-US" sz="1800" spc="-1" strike="noStrike">
                <a:solidFill>
                  <a:srgbClr val="ffffff"/>
                </a:solidFill>
                <a:latin typeface="Arial"/>
              </a:endParaRPr>
            </a:p>
          </p:txBody>
        </p:sp>
        <p:sp>
          <p:nvSpPr>
            <p:cNvPr id="307" name=""/>
            <p:cNvSpPr/>
            <p:nvPr/>
          </p:nvSpPr>
          <p:spPr>
            <a:xfrm>
              <a:off x="5807160" y="5504040"/>
              <a:ext cx="263880" cy="178200"/>
            </a:xfrm>
            <a:custGeom>
              <a:avLst/>
              <a:gdLst/>
              <a:ahLst/>
              <a:rect l="0" t="0" r="r" b="b"/>
              <a:pathLst>
                <a:path w="733" h="495">
                  <a:moveTo>
                    <a:pt x="0" y="186"/>
                  </a:moveTo>
                  <a:lnTo>
                    <a:pt x="48" y="247"/>
                  </a:lnTo>
                  <a:lnTo>
                    <a:pt x="105" y="340"/>
                  </a:lnTo>
                  <a:lnTo>
                    <a:pt x="127" y="434"/>
                  </a:lnTo>
                  <a:lnTo>
                    <a:pt x="229" y="495"/>
                  </a:lnTo>
                  <a:lnTo>
                    <a:pt x="367" y="473"/>
                  </a:lnTo>
                  <a:lnTo>
                    <a:pt x="516" y="447"/>
                  </a:lnTo>
                  <a:lnTo>
                    <a:pt x="733" y="362"/>
                  </a:lnTo>
                  <a:lnTo>
                    <a:pt x="733" y="172"/>
                  </a:lnTo>
                  <a:lnTo>
                    <a:pt x="688" y="61"/>
                  </a:lnTo>
                  <a:lnTo>
                    <a:pt x="424" y="0"/>
                  </a:lnTo>
                  <a:lnTo>
                    <a:pt x="185" y="123"/>
                  </a:lnTo>
                  <a:lnTo>
                    <a:pt x="0" y="18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5772240" y="5024520"/>
              <a:ext cx="35280" cy="32040"/>
            </a:xfrm>
            <a:custGeom>
              <a:avLst/>
              <a:gdLst/>
              <a:ahLst/>
              <a:rect l="0" t="0" r="r" b="b"/>
              <a:pathLst>
                <a:path w="98" h="89">
                  <a:moveTo>
                    <a:pt x="71" y="0"/>
                  </a:moveTo>
                  <a:lnTo>
                    <a:pt x="26" y="8"/>
                  </a:lnTo>
                  <a:lnTo>
                    <a:pt x="0" y="58"/>
                  </a:lnTo>
                  <a:lnTo>
                    <a:pt x="30" y="89"/>
                  </a:lnTo>
                  <a:lnTo>
                    <a:pt x="80" y="89"/>
                  </a:lnTo>
                  <a:lnTo>
                    <a:pt x="98" y="67"/>
                  </a:lnTo>
                  <a:lnTo>
                    <a:pt x="98" y="22"/>
                  </a:lnTo>
                  <a:lnTo>
                    <a:pt x="71" y="0"/>
                  </a:lnTo>
                  <a:close/>
                </a:path>
              </a:pathLst>
            </a:custGeom>
            <a:solidFill>
              <a:srgbClr val="ffff00"/>
            </a:solidFill>
            <a:ln w="12600">
              <a:solidFill>
                <a:srgbClr val="ffff00"/>
              </a:solidFill>
              <a:round/>
            </a:ln>
          </p:spPr>
          <p:txBody>
            <a:bodyPr lIns="96120" rIns="96120" tIns="-19080" bIns="-19080" anchor="t">
              <a:noAutofit/>
            </a:bodyPr>
            <a:p>
              <a:endParaRPr b="0" lang="en-US" sz="1800" spc="-1" strike="noStrike">
                <a:solidFill>
                  <a:srgbClr val="000000"/>
                </a:solidFill>
                <a:latin typeface="Arial"/>
              </a:endParaRPr>
            </a:p>
          </p:txBody>
        </p:sp>
        <p:sp>
          <p:nvSpPr>
            <p:cNvPr id="309" name=""/>
            <p:cNvSpPr/>
            <p:nvPr/>
          </p:nvSpPr>
          <p:spPr>
            <a:xfrm>
              <a:off x="5802480" y="5222880"/>
              <a:ext cx="22680" cy="28800"/>
            </a:xfrm>
            <a:custGeom>
              <a:avLst/>
              <a:gdLst/>
              <a:ahLst/>
              <a:rect l="0" t="0" r="r" b="b"/>
              <a:pathLst>
                <a:path w="63" h="80">
                  <a:moveTo>
                    <a:pt x="63" y="17"/>
                  </a:moveTo>
                  <a:lnTo>
                    <a:pt x="40" y="0"/>
                  </a:lnTo>
                  <a:lnTo>
                    <a:pt x="4" y="8"/>
                  </a:lnTo>
                  <a:lnTo>
                    <a:pt x="0" y="58"/>
                  </a:lnTo>
                  <a:lnTo>
                    <a:pt x="31" y="80"/>
                  </a:lnTo>
                  <a:lnTo>
                    <a:pt x="63" y="58"/>
                  </a:lnTo>
                  <a:lnTo>
                    <a:pt x="63" y="17"/>
                  </a:lnTo>
                  <a:close/>
                </a:path>
              </a:pathLst>
            </a:custGeom>
            <a:solidFill>
              <a:srgbClr val="ffff00"/>
            </a:solidFill>
            <a:ln w="12600">
              <a:solidFill>
                <a:srgbClr val="ffff00"/>
              </a:solidFill>
              <a:round/>
            </a:ln>
          </p:spPr>
          <p:txBody>
            <a:bodyPr lIns="96120" rIns="96120" tIns="-22320" bIns="-22320" anchor="t">
              <a:noAutofit/>
            </a:bodyPr>
            <a:p>
              <a:endParaRPr b="0" lang="en-US" sz="1800" spc="-1" strike="noStrike">
                <a:solidFill>
                  <a:srgbClr val="000000"/>
                </a:solidFill>
                <a:latin typeface="Arial"/>
              </a:endParaRPr>
            </a:p>
          </p:txBody>
        </p:sp>
        <p:sp>
          <p:nvSpPr>
            <p:cNvPr id="310" name=""/>
            <p:cNvSpPr/>
            <p:nvPr/>
          </p:nvSpPr>
          <p:spPr>
            <a:xfrm>
              <a:off x="5600520" y="4437000"/>
              <a:ext cx="313200" cy="573480"/>
            </a:xfrm>
            <a:custGeom>
              <a:avLst/>
              <a:gdLst/>
              <a:ahLst/>
              <a:rect l="0" t="0" r="r" b="b"/>
              <a:pathLst>
                <a:path w="870" h="1593">
                  <a:moveTo>
                    <a:pt x="30" y="1338"/>
                  </a:moveTo>
                  <a:lnTo>
                    <a:pt x="74" y="1408"/>
                  </a:lnTo>
                  <a:lnTo>
                    <a:pt x="189" y="1492"/>
                  </a:lnTo>
                  <a:lnTo>
                    <a:pt x="309" y="1532"/>
                  </a:lnTo>
                  <a:lnTo>
                    <a:pt x="450" y="1567"/>
                  </a:lnTo>
                  <a:lnTo>
                    <a:pt x="591" y="1593"/>
                  </a:lnTo>
                  <a:lnTo>
                    <a:pt x="672" y="1567"/>
                  </a:lnTo>
                  <a:lnTo>
                    <a:pt x="707" y="1514"/>
                  </a:lnTo>
                  <a:lnTo>
                    <a:pt x="716" y="1399"/>
                  </a:lnTo>
                  <a:lnTo>
                    <a:pt x="685" y="1249"/>
                  </a:lnTo>
                  <a:lnTo>
                    <a:pt x="654" y="1125"/>
                  </a:lnTo>
                  <a:lnTo>
                    <a:pt x="720" y="1041"/>
                  </a:lnTo>
                  <a:lnTo>
                    <a:pt x="791" y="900"/>
                  </a:lnTo>
                  <a:lnTo>
                    <a:pt x="817" y="794"/>
                  </a:lnTo>
                  <a:lnTo>
                    <a:pt x="861" y="613"/>
                  </a:lnTo>
                  <a:lnTo>
                    <a:pt x="870" y="516"/>
                  </a:lnTo>
                  <a:lnTo>
                    <a:pt x="870" y="383"/>
                  </a:lnTo>
                  <a:lnTo>
                    <a:pt x="848" y="185"/>
                  </a:lnTo>
                  <a:lnTo>
                    <a:pt x="747" y="8"/>
                  </a:lnTo>
                  <a:lnTo>
                    <a:pt x="309" y="0"/>
                  </a:lnTo>
                  <a:lnTo>
                    <a:pt x="97" y="299"/>
                  </a:lnTo>
                  <a:lnTo>
                    <a:pt x="0" y="459"/>
                  </a:lnTo>
                  <a:lnTo>
                    <a:pt x="0" y="578"/>
                  </a:lnTo>
                  <a:lnTo>
                    <a:pt x="52" y="834"/>
                  </a:lnTo>
                  <a:lnTo>
                    <a:pt x="17" y="1241"/>
                  </a:lnTo>
                  <a:lnTo>
                    <a:pt x="30" y="1338"/>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5618160" y="4683240"/>
              <a:ext cx="35280" cy="65520"/>
            </a:xfrm>
            <a:custGeom>
              <a:avLst/>
              <a:gdLst/>
              <a:ahLst/>
              <a:rect l="0" t="0" r="r" b="b"/>
              <a:pathLst>
                <a:path w="98" h="182">
                  <a:moveTo>
                    <a:pt x="26" y="8"/>
                  </a:moveTo>
                  <a:lnTo>
                    <a:pt x="48" y="0"/>
                  </a:lnTo>
                  <a:lnTo>
                    <a:pt x="75" y="17"/>
                  </a:lnTo>
                  <a:lnTo>
                    <a:pt x="98" y="62"/>
                  </a:lnTo>
                  <a:lnTo>
                    <a:pt x="93" y="151"/>
                  </a:lnTo>
                  <a:lnTo>
                    <a:pt x="62" y="182"/>
                  </a:lnTo>
                  <a:lnTo>
                    <a:pt x="0" y="151"/>
                  </a:lnTo>
                  <a:lnTo>
                    <a:pt x="0" y="71"/>
                  </a:lnTo>
                  <a:lnTo>
                    <a:pt x="26" y="8"/>
                  </a:lnTo>
                  <a:close/>
                </a:path>
              </a:pathLst>
            </a:custGeom>
            <a:solidFill>
              <a:srgbClr val="ffff00"/>
            </a:solidFill>
            <a:ln w="12600">
              <a:solidFill>
                <a:srgbClr val="ffff00"/>
              </a:solidFill>
              <a:round/>
            </a:ln>
          </p:spPr>
          <p:txBody>
            <a:bodyPr lIns="96120" rIns="96120" tIns="14400" bIns="14400" anchor="t">
              <a:noAutofit/>
            </a:bodyPr>
            <a:p>
              <a:endParaRPr b="0" lang="en-US" sz="1800" spc="-1" strike="noStrike">
                <a:solidFill>
                  <a:srgbClr val="000000"/>
                </a:solidFill>
                <a:latin typeface="Arial"/>
              </a:endParaRPr>
            </a:p>
          </p:txBody>
        </p:sp>
        <p:sp>
          <p:nvSpPr>
            <p:cNvPr id="312" name=""/>
            <p:cNvSpPr/>
            <p:nvPr/>
          </p:nvSpPr>
          <p:spPr>
            <a:xfrm>
              <a:off x="5896080" y="4699080"/>
              <a:ext cx="12960" cy="35280"/>
            </a:xfrm>
            <a:custGeom>
              <a:avLst/>
              <a:gdLst/>
              <a:ahLst/>
              <a:rect l="0" t="0" r="r" b="b"/>
              <a:pathLst>
                <a:path w="36" h="98">
                  <a:moveTo>
                    <a:pt x="17" y="0"/>
                  </a:moveTo>
                  <a:lnTo>
                    <a:pt x="0" y="98"/>
                  </a:lnTo>
                  <a:lnTo>
                    <a:pt x="27" y="98"/>
                  </a:lnTo>
                  <a:lnTo>
                    <a:pt x="36" y="67"/>
                  </a:lnTo>
                  <a:lnTo>
                    <a:pt x="31" y="30"/>
                  </a:lnTo>
                  <a:lnTo>
                    <a:pt x="17" y="0"/>
                  </a:lnTo>
                  <a:close/>
                </a:path>
              </a:pathLst>
            </a:custGeom>
            <a:solidFill>
              <a:srgbClr val="ffff00"/>
            </a:solidFill>
            <a:ln w="12600">
              <a:solidFill>
                <a:srgbClr val="ffff00"/>
              </a:solidFill>
              <a:round/>
            </a:ln>
          </p:spPr>
          <p:txBody>
            <a:bodyPr lIns="96120" rIns="96120" tIns="-15840" bIns="-15840" anchor="t">
              <a:noAutofit/>
            </a:bodyPr>
            <a:p>
              <a:endParaRPr b="0" lang="en-US" sz="1800" spc="-1" strike="noStrike">
                <a:solidFill>
                  <a:srgbClr val="000000"/>
                </a:solidFill>
                <a:latin typeface="Arial"/>
              </a:endParaRPr>
            </a:p>
          </p:txBody>
        </p:sp>
        <p:sp>
          <p:nvSpPr>
            <p:cNvPr id="313" name=""/>
            <p:cNvSpPr/>
            <p:nvPr/>
          </p:nvSpPr>
          <p:spPr>
            <a:xfrm>
              <a:off x="4340160" y="4935600"/>
              <a:ext cx="1421280" cy="1105200"/>
            </a:xfrm>
            <a:custGeom>
              <a:avLst/>
              <a:gdLst/>
              <a:ahLst/>
              <a:rect l="0" t="0" r="r" b="b"/>
              <a:pathLst>
                <a:path w="3948" h="3070">
                  <a:moveTo>
                    <a:pt x="3357" y="2395"/>
                  </a:moveTo>
                  <a:lnTo>
                    <a:pt x="3040" y="2210"/>
                  </a:lnTo>
                  <a:lnTo>
                    <a:pt x="2770" y="2294"/>
                  </a:lnTo>
                  <a:lnTo>
                    <a:pt x="2655" y="2227"/>
                  </a:lnTo>
                  <a:lnTo>
                    <a:pt x="2302" y="1897"/>
                  </a:lnTo>
                  <a:lnTo>
                    <a:pt x="2219" y="2382"/>
                  </a:lnTo>
                  <a:lnTo>
                    <a:pt x="2360" y="2448"/>
                  </a:lnTo>
                  <a:lnTo>
                    <a:pt x="2532" y="2377"/>
                  </a:lnTo>
                  <a:lnTo>
                    <a:pt x="2721" y="2439"/>
                  </a:lnTo>
                  <a:lnTo>
                    <a:pt x="2858" y="2430"/>
                  </a:lnTo>
                  <a:lnTo>
                    <a:pt x="3256" y="2421"/>
                  </a:lnTo>
                  <a:lnTo>
                    <a:pt x="3371" y="2558"/>
                  </a:lnTo>
                  <a:lnTo>
                    <a:pt x="3326" y="2858"/>
                  </a:lnTo>
                  <a:lnTo>
                    <a:pt x="3269" y="2911"/>
                  </a:lnTo>
                  <a:lnTo>
                    <a:pt x="2902" y="2911"/>
                  </a:lnTo>
                  <a:lnTo>
                    <a:pt x="1434" y="3070"/>
                  </a:lnTo>
                  <a:lnTo>
                    <a:pt x="8" y="2893"/>
                  </a:lnTo>
                  <a:lnTo>
                    <a:pt x="0" y="1570"/>
                  </a:lnTo>
                  <a:lnTo>
                    <a:pt x="74" y="1195"/>
                  </a:lnTo>
                  <a:lnTo>
                    <a:pt x="229" y="820"/>
                  </a:lnTo>
                  <a:lnTo>
                    <a:pt x="304" y="709"/>
                  </a:lnTo>
                  <a:lnTo>
                    <a:pt x="515" y="463"/>
                  </a:lnTo>
                  <a:lnTo>
                    <a:pt x="736" y="313"/>
                  </a:lnTo>
                  <a:lnTo>
                    <a:pt x="912" y="202"/>
                  </a:lnTo>
                  <a:lnTo>
                    <a:pt x="1103" y="119"/>
                  </a:lnTo>
                  <a:lnTo>
                    <a:pt x="1187" y="0"/>
                  </a:lnTo>
                  <a:lnTo>
                    <a:pt x="1967" y="273"/>
                  </a:lnTo>
                  <a:lnTo>
                    <a:pt x="2069" y="410"/>
                  </a:lnTo>
                  <a:lnTo>
                    <a:pt x="2219" y="507"/>
                  </a:lnTo>
                  <a:lnTo>
                    <a:pt x="2391" y="652"/>
                  </a:lnTo>
                  <a:lnTo>
                    <a:pt x="2620" y="961"/>
                  </a:lnTo>
                  <a:lnTo>
                    <a:pt x="3247" y="1579"/>
                  </a:lnTo>
                  <a:lnTo>
                    <a:pt x="3388" y="1641"/>
                  </a:lnTo>
                  <a:lnTo>
                    <a:pt x="3428" y="1769"/>
                  </a:lnTo>
                  <a:lnTo>
                    <a:pt x="3737" y="1853"/>
                  </a:lnTo>
                  <a:lnTo>
                    <a:pt x="3878" y="2025"/>
                  </a:lnTo>
                  <a:lnTo>
                    <a:pt x="3948" y="2227"/>
                  </a:lnTo>
                  <a:lnTo>
                    <a:pt x="3357" y="2395"/>
                  </a:lnTo>
                  <a:close/>
                </a:path>
              </a:pathLst>
            </a:custGeom>
            <a:solidFill>
              <a:srgbClr val="9dbafe"/>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5761080" y="5548320"/>
              <a:ext cx="219600" cy="362160"/>
            </a:xfrm>
            <a:custGeom>
              <a:avLst/>
              <a:gdLst/>
              <a:ahLst/>
              <a:rect l="0" t="0" r="r" b="b"/>
              <a:pathLst>
                <a:path w="610" h="1006">
                  <a:moveTo>
                    <a:pt x="0" y="17"/>
                  </a:moveTo>
                  <a:lnTo>
                    <a:pt x="0" y="30"/>
                  </a:lnTo>
                  <a:lnTo>
                    <a:pt x="8" y="57"/>
                  </a:lnTo>
                  <a:lnTo>
                    <a:pt x="531" y="940"/>
                  </a:lnTo>
                  <a:lnTo>
                    <a:pt x="610" y="1006"/>
                  </a:lnTo>
                  <a:lnTo>
                    <a:pt x="575" y="904"/>
                  </a:lnTo>
                  <a:lnTo>
                    <a:pt x="44" y="4"/>
                  </a:lnTo>
                  <a:lnTo>
                    <a:pt x="13" y="0"/>
                  </a:lnTo>
                  <a:lnTo>
                    <a:pt x="0" y="17"/>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5597640" y="5703840"/>
              <a:ext cx="324360" cy="219600"/>
            </a:xfrm>
            <a:custGeom>
              <a:avLst/>
              <a:gdLst/>
              <a:ahLst/>
              <a:rect l="0" t="0" r="r" b="b"/>
              <a:pathLst>
                <a:path w="901" h="610">
                  <a:moveTo>
                    <a:pt x="0" y="230"/>
                  </a:moveTo>
                  <a:lnTo>
                    <a:pt x="44" y="105"/>
                  </a:lnTo>
                  <a:lnTo>
                    <a:pt x="132" y="48"/>
                  </a:lnTo>
                  <a:lnTo>
                    <a:pt x="216" y="66"/>
                  </a:lnTo>
                  <a:lnTo>
                    <a:pt x="362" y="92"/>
                  </a:lnTo>
                  <a:lnTo>
                    <a:pt x="455" y="22"/>
                  </a:lnTo>
                  <a:lnTo>
                    <a:pt x="530" y="0"/>
                  </a:lnTo>
                  <a:lnTo>
                    <a:pt x="857" y="48"/>
                  </a:lnTo>
                  <a:lnTo>
                    <a:pt x="888" y="136"/>
                  </a:lnTo>
                  <a:lnTo>
                    <a:pt x="848" y="159"/>
                  </a:lnTo>
                  <a:lnTo>
                    <a:pt x="591" y="181"/>
                  </a:lnTo>
                  <a:lnTo>
                    <a:pt x="870" y="305"/>
                  </a:lnTo>
                  <a:lnTo>
                    <a:pt x="901" y="375"/>
                  </a:lnTo>
                  <a:lnTo>
                    <a:pt x="879" y="433"/>
                  </a:lnTo>
                  <a:lnTo>
                    <a:pt x="795" y="500"/>
                  </a:lnTo>
                  <a:lnTo>
                    <a:pt x="769" y="588"/>
                  </a:lnTo>
                  <a:lnTo>
                    <a:pt x="530" y="610"/>
                  </a:lnTo>
                  <a:lnTo>
                    <a:pt x="97" y="566"/>
                  </a:lnTo>
                  <a:lnTo>
                    <a:pt x="0" y="23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4746600" y="4635360"/>
              <a:ext cx="446400" cy="543240"/>
            </a:xfrm>
            <a:custGeom>
              <a:avLst/>
              <a:gdLst/>
              <a:ahLst/>
              <a:rect l="0" t="0" r="r" b="b"/>
              <a:pathLst>
                <a:path w="1240" h="1509">
                  <a:moveTo>
                    <a:pt x="0" y="423"/>
                  </a:moveTo>
                  <a:lnTo>
                    <a:pt x="39" y="665"/>
                  </a:lnTo>
                  <a:lnTo>
                    <a:pt x="57" y="749"/>
                  </a:lnTo>
                  <a:lnTo>
                    <a:pt x="97" y="794"/>
                  </a:lnTo>
                  <a:lnTo>
                    <a:pt x="79" y="874"/>
                  </a:lnTo>
                  <a:lnTo>
                    <a:pt x="119" y="962"/>
                  </a:lnTo>
                  <a:lnTo>
                    <a:pt x="158" y="1037"/>
                  </a:lnTo>
                  <a:lnTo>
                    <a:pt x="207" y="1112"/>
                  </a:lnTo>
                  <a:lnTo>
                    <a:pt x="379" y="1266"/>
                  </a:lnTo>
                  <a:lnTo>
                    <a:pt x="599" y="1509"/>
                  </a:lnTo>
                  <a:lnTo>
                    <a:pt x="627" y="1469"/>
                  </a:lnTo>
                  <a:lnTo>
                    <a:pt x="671" y="1372"/>
                  </a:lnTo>
                  <a:lnTo>
                    <a:pt x="688" y="1266"/>
                  </a:lnTo>
                  <a:lnTo>
                    <a:pt x="781" y="1288"/>
                  </a:lnTo>
                  <a:lnTo>
                    <a:pt x="874" y="1279"/>
                  </a:lnTo>
                  <a:lnTo>
                    <a:pt x="922" y="1257"/>
                  </a:lnTo>
                  <a:lnTo>
                    <a:pt x="962" y="1204"/>
                  </a:lnTo>
                  <a:lnTo>
                    <a:pt x="1081" y="935"/>
                  </a:lnTo>
                  <a:lnTo>
                    <a:pt x="1138" y="852"/>
                  </a:lnTo>
                  <a:lnTo>
                    <a:pt x="1187" y="718"/>
                  </a:lnTo>
                  <a:lnTo>
                    <a:pt x="1200" y="564"/>
                  </a:lnTo>
                  <a:lnTo>
                    <a:pt x="1222" y="498"/>
                  </a:lnTo>
                  <a:lnTo>
                    <a:pt x="1235" y="449"/>
                  </a:lnTo>
                  <a:lnTo>
                    <a:pt x="1240" y="207"/>
                  </a:lnTo>
                  <a:lnTo>
                    <a:pt x="1218" y="92"/>
                  </a:lnTo>
                  <a:lnTo>
                    <a:pt x="1165" y="0"/>
                  </a:lnTo>
                  <a:lnTo>
                    <a:pt x="158" y="123"/>
                  </a:lnTo>
                  <a:lnTo>
                    <a:pt x="0" y="423"/>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4940280" y="5200560"/>
              <a:ext cx="97200" cy="551160"/>
            </a:xfrm>
            <a:custGeom>
              <a:avLst/>
              <a:gdLst/>
              <a:ahLst/>
              <a:rect l="0" t="0" r="r" b="b"/>
              <a:pathLst>
                <a:path w="270" h="1531">
                  <a:moveTo>
                    <a:pt x="71" y="0"/>
                  </a:moveTo>
                  <a:lnTo>
                    <a:pt x="30" y="39"/>
                  </a:lnTo>
                  <a:lnTo>
                    <a:pt x="0" y="114"/>
                  </a:lnTo>
                  <a:lnTo>
                    <a:pt x="22" y="251"/>
                  </a:lnTo>
                  <a:lnTo>
                    <a:pt x="8" y="777"/>
                  </a:lnTo>
                  <a:lnTo>
                    <a:pt x="30" y="1138"/>
                  </a:lnTo>
                  <a:lnTo>
                    <a:pt x="89" y="1531"/>
                  </a:lnTo>
                  <a:lnTo>
                    <a:pt x="146" y="1531"/>
                  </a:lnTo>
                  <a:lnTo>
                    <a:pt x="231" y="1531"/>
                  </a:lnTo>
                  <a:lnTo>
                    <a:pt x="270" y="1465"/>
                  </a:lnTo>
                  <a:lnTo>
                    <a:pt x="195" y="1196"/>
                  </a:lnTo>
                  <a:lnTo>
                    <a:pt x="155" y="927"/>
                  </a:lnTo>
                  <a:lnTo>
                    <a:pt x="146" y="617"/>
                  </a:lnTo>
                  <a:lnTo>
                    <a:pt x="120" y="251"/>
                  </a:lnTo>
                  <a:lnTo>
                    <a:pt x="137" y="171"/>
                  </a:lnTo>
                  <a:lnTo>
                    <a:pt x="120" y="57"/>
                  </a:lnTo>
                  <a:lnTo>
                    <a:pt x="71" y="0"/>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4991040" y="4494240"/>
              <a:ext cx="244800" cy="265320"/>
            </a:xfrm>
            <a:custGeom>
              <a:avLst/>
              <a:gdLst/>
              <a:ahLst/>
              <a:rect l="0" t="0" r="r" b="b"/>
              <a:pathLst>
                <a:path w="680" h="737">
                  <a:moveTo>
                    <a:pt x="472" y="397"/>
                  </a:moveTo>
                  <a:lnTo>
                    <a:pt x="530" y="486"/>
                  </a:lnTo>
                  <a:lnTo>
                    <a:pt x="627" y="737"/>
                  </a:lnTo>
                  <a:lnTo>
                    <a:pt x="671" y="675"/>
                  </a:lnTo>
                  <a:lnTo>
                    <a:pt x="680" y="459"/>
                  </a:lnTo>
                  <a:lnTo>
                    <a:pt x="680" y="406"/>
                  </a:lnTo>
                  <a:lnTo>
                    <a:pt x="640" y="366"/>
                  </a:lnTo>
                  <a:lnTo>
                    <a:pt x="565" y="304"/>
                  </a:lnTo>
                  <a:lnTo>
                    <a:pt x="512" y="180"/>
                  </a:lnTo>
                  <a:lnTo>
                    <a:pt x="402" y="66"/>
                  </a:lnTo>
                  <a:lnTo>
                    <a:pt x="260" y="30"/>
                  </a:lnTo>
                  <a:lnTo>
                    <a:pt x="105" y="0"/>
                  </a:lnTo>
                  <a:lnTo>
                    <a:pt x="0" y="39"/>
                  </a:lnTo>
                  <a:lnTo>
                    <a:pt x="8" y="472"/>
                  </a:lnTo>
                  <a:lnTo>
                    <a:pt x="472" y="397"/>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9" name=""/>
            <p:cNvSpPr/>
            <p:nvPr/>
          </p:nvSpPr>
          <p:spPr>
            <a:xfrm>
              <a:off x="4962600" y="4781520"/>
              <a:ext cx="65520" cy="27360"/>
            </a:xfrm>
            <a:custGeom>
              <a:avLst/>
              <a:gdLst/>
              <a:ahLst/>
              <a:rect l="0" t="0" r="r" b="b"/>
              <a:pathLst>
                <a:path w="182" h="76">
                  <a:moveTo>
                    <a:pt x="0" y="45"/>
                  </a:moveTo>
                  <a:lnTo>
                    <a:pt x="106" y="59"/>
                  </a:lnTo>
                  <a:lnTo>
                    <a:pt x="182" y="76"/>
                  </a:lnTo>
                  <a:lnTo>
                    <a:pt x="147" y="0"/>
                  </a:lnTo>
                  <a:lnTo>
                    <a:pt x="35" y="0"/>
                  </a:lnTo>
                  <a:lnTo>
                    <a:pt x="0" y="45"/>
                  </a:lnTo>
                  <a:close/>
                </a:path>
              </a:pathLst>
            </a:custGeom>
            <a:solidFill>
              <a:srgbClr val="ffffff"/>
            </a:solidFill>
            <a:ln w="12600">
              <a:solidFill>
                <a:srgbClr val="ffffff"/>
              </a:solidFill>
              <a:round/>
            </a:ln>
          </p:spPr>
          <p:txBody>
            <a:bodyPr lIns="96120" rIns="96120" tIns="-23760" bIns="-23760" anchor="t">
              <a:noAutofit/>
            </a:bodyPr>
            <a:p>
              <a:endParaRPr b="0" lang="en-US" sz="1800" spc="-1" strike="noStrike">
                <a:solidFill>
                  <a:srgbClr val="000000"/>
                </a:solidFill>
                <a:latin typeface="Arial"/>
              </a:endParaRPr>
            </a:p>
          </p:txBody>
        </p:sp>
        <p:sp>
          <p:nvSpPr>
            <p:cNvPr id="320" name=""/>
            <p:cNvSpPr/>
            <p:nvPr/>
          </p:nvSpPr>
          <p:spPr>
            <a:xfrm>
              <a:off x="5114880" y="4811760"/>
              <a:ext cx="49680" cy="33840"/>
            </a:xfrm>
            <a:custGeom>
              <a:avLst/>
              <a:gdLst/>
              <a:ahLst/>
              <a:rect l="0" t="0" r="r" b="b"/>
              <a:pathLst>
                <a:path w="138" h="94">
                  <a:moveTo>
                    <a:pt x="0" y="58"/>
                  </a:moveTo>
                  <a:lnTo>
                    <a:pt x="80" y="94"/>
                  </a:lnTo>
                  <a:lnTo>
                    <a:pt x="138" y="85"/>
                  </a:lnTo>
                  <a:lnTo>
                    <a:pt x="129" y="62"/>
                  </a:lnTo>
                  <a:lnTo>
                    <a:pt x="26" y="0"/>
                  </a:lnTo>
                  <a:lnTo>
                    <a:pt x="0" y="58"/>
                  </a:lnTo>
                  <a:close/>
                </a:path>
              </a:pathLst>
            </a:custGeom>
            <a:solidFill>
              <a:srgbClr val="ffffff"/>
            </a:solidFill>
            <a:ln w="12600">
              <a:solidFill>
                <a:srgbClr val="ffffff"/>
              </a:solidFill>
              <a:round/>
            </a:ln>
          </p:spPr>
          <p:txBody>
            <a:bodyPr lIns="96120" rIns="96120" tIns="-17280" bIns="-17280" anchor="t">
              <a:noAutofit/>
            </a:bodyPr>
            <a:p>
              <a:endParaRPr b="0" lang="en-US" sz="1800" spc="-1" strike="noStrike">
                <a:solidFill>
                  <a:srgbClr val="000000"/>
                </a:solidFill>
                <a:latin typeface="Arial"/>
              </a:endParaRPr>
            </a:p>
          </p:txBody>
        </p:sp>
        <p:sp>
          <p:nvSpPr>
            <p:cNvPr id="321" name=""/>
            <p:cNvSpPr/>
            <p:nvPr/>
          </p:nvSpPr>
          <p:spPr>
            <a:xfrm>
              <a:off x="5699160" y="4618080"/>
              <a:ext cx="60840" cy="25920"/>
            </a:xfrm>
            <a:custGeom>
              <a:avLst/>
              <a:gdLst/>
              <a:ahLst/>
              <a:rect l="0" t="0" r="r" b="b"/>
              <a:pathLst>
                <a:path w="169" h="72">
                  <a:moveTo>
                    <a:pt x="0" y="8"/>
                  </a:moveTo>
                  <a:lnTo>
                    <a:pt x="49" y="49"/>
                  </a:lnTo>
                  <a:lnTo>
                    <a:pt x="75" y="72"/>
                  </a:lnTo>
                  <a:lnTo>
                    <a:pt x="143" y="72"/>
                  </a:lnTo>
                  <a:lnTo>
                    <a:pt x="169" y="49"/>
                  </a:lnTo>
                  <a:lnTo>
                    <a:pt x="138" y="4"/>
                  </a:lnTo>
                  <a:lnTo>
                    <a:pt x="80" y="0"/>
                  </a:lnTo>
                  <a:lnTo>
                    <a:pt x="17" y="4"/>
                  </a:lnTo>
                  <a:lnTo>
                    <a:pt x="0" y="8"/>
                  </a:lnTo>
                  <a:close/>
                </a:path>
              </a:pathLst>
            </a:custGeom>
            <a:solidFill>
              <a:srgbClr val="ffffff"/>
            </a:solid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sp>
          <p:nvSpPr>
            <p:cNvPr id="322" name=""/>
            <p:cNvSpPr/>
            <p:nvPr/>
          </p:nvSpPr>
          <p:spPr>
            <a:xfrm>
              <a:off x="5824440" y="4626000"/>
              <a:ext cx="59040" cy="25920"/>
            </a:xfrm>
            <a:custGeom>
              <a:avLst/>
              <a:gdLst/>
              <a:ahLst/>
              <a:rect l="0" t="0" r="r" b="b"/>
              <a:pathLst>
                <a:path w="164" h="72">
                  <a:moveTo>
                    <a:pt x="0" y="45"/>
                  </a:moveTo>
                  <a:lnTo>
                    <a:pt x="39" y="8"/>
                  </a:lnTo>
                  <a:lnTo>
                    <a:pt x="98" y="0"/>
                  </a:lnTo>
                  <a:lnTo>
                    <a:pt x="164" y="27"/>
                  </a:lnTo>
                  <a:lnTo>
                    <a:pt x="128" y="53"/>
                  </a:lnTo>
                  <a:lnTo>
                    <a:pt x="93" y="68"/>
                  </a:lnTo>
                  <a:lnTo>
                    <a:pt x="57" y="72"/>
                  </a:lnTo>
                  <a:lnTo>
                    <a:pt x="17" y="53"/>
                  </a:lnTo>
                  <a:lnTo>
                    <a:pt x="0" y="45"/>
                  </a:lnTo>
                  <a:close/>
                </a:path>
              </a:pathLst>
            </a:custGeom>
            <a:solidFill>
              <a:srgbClr val="ffffff"/>
            </a:solid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sp>
          <p:nvSpPr>
            <p:cNvPr id="323" name=""/>
            <p:cNvSpPr/>
            <p:nvPr/>
          </p:nvSpPr>
          <p:spPr>
            <a:xfrm>
              <a:off x="5740560" y="4765680"/>
              <a:ext cx="93960" cy="18000"/>
            </a:xfrm>
            <a:custGeom>
              <a:avLst/>
              <a:gdLst/>
              <a:ahLst/>
              <a:rect l="0" t="0" r="r" b="b"/>
              <a:pathLst>
                <a:path w="261" h="50">
                  <a:moveTo>
                    <a:pt x="0" y="4"/>
                  </a:moveTo>
                  <a:lnTo>
                    <a:pt x="61" y="41"/>
                  </a:lnTo>
                  <a:lnTo>
                    <a:pt x="146" y="50"/>
                  </a:lnTo>
                  <a:lnTo>
                    <a:pt x="190" y="50"/>
                  </a:lnTo>
                  <a:lnTo>
                    <a:pt x="221" y="36"/>
                  </a:lnTo>
                  <a:lnTo>
                    <a:pt x="247" y="18"/>
                  </a:lnTo>
                  <a:lnTo>
                    <a:pt x="261" y="0"/>
                  </a:lnTo>
                  <a:lnTo>
                    <a:pt x="186" y="4"/>
                  </a:lnTo>
                  <a:lnTo>
                    <a:pt x="142" y="14"/>
                  </a:lnTo>
                  <a:lnTo>
                    <a:pt x="79" y="4"/>
                  </a:lnTo>
                  <a:lnTo>
                    <a:pt x="0" y="4"/>
                  </a:lnTo>
                  <a:close/>
                </a:path>
              </a:pathLst>
            </a:custGeom>
            <a:solidFill>
              <a:srgbClr val="ff0000"/>
            </a:solidFill>
            <a:ln w="12600">
              <a:solidFill>
                <a:srgbClr val="ff0000"/>
              </a:solidFill>
              <a:round/>
            </a:ln>
          </p:spPr>
          <p:txBody>
            <a:bodyPr lIns="96120" rIns="96120" tIns="-33120" bIns="-33120" anchor="t">
              <a:noAutofit/>
            </a:bodyPr>
            <a:p>
              <a:endParaRPr b="0" lang="en-US" sz="1800" spc="-1" strike="noStrike">
                <a:solidFill>
                  <a:srgbClr val="000000"/>
                </a:solidFill>
                <a:latin typeface="Arial"/>
              </a:endParaRPr>
            </a:p>
          </p:txBody>
        </p:sp>
        <p:sp>
          <p:nvSpPr>
            <p:cNvPr id="324" name=""/>
            <p:cNvSpPr/>
            <p:nvPr/>
          </p:nvSpPr>
          <p:spPr>
            <a:xfrm>
              <a:off x="7315200" y="4846680"/>
              <a:ext cx="1284480" cy="1190880"/>
            </a:xfrm>
            <a:custGeom>
              <a:avLst/>
              <a:gdLst/>
              <a:ahLst/>
              <a:rect l="0" t="0" r="r" b="b"/>
              <a:pathLst>
                <a:path w="3568" h="3308">
                  <a:moveTo>
                    <a:pt x="454" y="2523"/>
                  </a:moveTo>
                  <a:lnTo>
                    <a:pt x="1062" y="2188"/>
                  </a:lnTo>
                  <a:lnTo>
                    <a:pt x="1265" y="1950"/>
                  </a:lnTo>
                  <a:lnTo>
                    <a:pt x="1459" y="2448"/>
                  </a:lnTo>
                  <a:lnTo>
                    <a:pt x="1468" y="2611"/>
                  </a:lnTo>
                  <a:lnTo>
                    <a:pt x="1393" y="2638"/>
                  </a:lnTo>
                  <a:lnTo>
                    <a:pt x="1239" y="2602"/>
                  </a:lnTo>
                  <a:lnTo>
                    <a:pt x="1120" y="2598"/>
                  </a:lnTo>
                  <a:lnTo>
                    <a:pt x="1053" y="2571"/>
                  </a:lnTo>
                  <a:lnTo>
                    <a:pt x="917" y="2589"/>
                  </a:lnTo>
                  <a:lnTo>
                    <a:pt x="793" y="2563"/>
                  </a:lnTo>
                  <a:lnTo>
                    <a:pt x="639" y="2514"/>
                  </a:lnTo>
                  <a:lnTo>
                    <a:pt x="507" y="2580"/>
                  </a:lnTo>
                  <a:lnTo>
                    <a:pt x="410" y="2765"/>
                  </a:lnTo>
                  <a:lnTo>
                    <a:pt x="485" y="3039"/>
                  </a:lnTo>
                  <a:lnTo>
                    <a:pt x="811" y="3092"/>
                  </a:lnTo>
                  <a:lnTo>
                    <a:pt x="1239" y="3189"/>
                  </a:lnTo>
                  <a:lnTo>
                    <a:pt x="1516" y="3277"/>
                  </a:lnTo>
                  <a:lnTo>
                    <a:pt x="2201" y="3308"/>
                  </a:lnTo>
                  <a:lnTo>
                    <a:pt x="2466" y="3290"/>
                  </a:lnTo>
                  <a:lnTo>
                    <a:pt x="2730" y="3211"/>
                  </a:lnTo>
                  <a:lnTo>
                    <a:pt x="3519" y="2338"/>
                  </a:lnTo>
                  <a:lnTo>
                    <a:pt x="3568" y="1446"/>
                  </a:lnTo>
                  <a:lnTo>
                    <a:pt x="3458" y="1027"/>
                  </a:lnTo>
                  <a:lnTo>
                    <a:pt x="3334" y="811"/>
                  </a:lnTo>
                  <a:lnTo>
                    <a:pt x="3123" y="511"/>
                  </a:lnTo>
                  <a:lnTo>
                    <a:pt x="2712" y="304"/>
                  </a:lnTo>
                  <a:lnTo>
                    <a:pt x="2607" y="330"/>
                  </a:lnTo>
                  <a:lnTo>
                    <a:pt x="2523" y="286"/>
                  </a:lnTo>
                  <a:lnTo>
                    <a:pt x="2457" y="154"/>
                  </a:lnTo>
                  <a:lnTo>
                    <a:pt x="2302" y="97"/>
                  </a:lnTo>
                  <a:lnTo>
                    <a:pt x="2166" y="0"/>
                  </a:lnTo>
                  <a:lnTo>
                    <a:pt x="2011" y="8"/>
                  </a:lnTo>
                  <a:lnTo>
                    <a:pt x="1292" y="476"/>
                  </a:lnTo>
                  <a:lnTo>
                    <a:pt x="1177" y="573"/>
                  </a:lnTo>
                  <a:lnTo>
                    <a:pt x="1102" y="648"/>
                  </a:lnTo>
                  <a:lnTo>
                    <a:pt x="965" y="723"/>
                  </a:lnTo>
                  <a:lnTo>
                    <a:pt x="811" y="1190"/>
                  </a:lnTo>
                  <a:lnTo>
                    <a:pt x="806" y="1349"/>
                  </a:lnTo>
                  <a:lnTo>
                    <a:pt x="749" y="1569"/>
                  </a:lnTo>
                  <a:lnTo>
                    <a:pt x="608" y="1613"/>
                  </a:lnTo>
                  <a:lnTo>
                    <a:pt x="546" y="1694"/>
                  </a:lnTo>
                  <a:lnTo>
                    <a:pt x="529" y="1791"/>
                  </a:lnTo>
                  <a:lnTo>
                    <a:pt x="436" y="1879"/>
                  </a:lnTo>
                  <a:lnTo>
                    <a:pt x="180" y="2064"/>
                  </a:lnTo>
                  <a:lnTo>
                    <a:pt x="0" y="2316"/>
                  </a:lnTo>
                  <a:lnTo>
                    <a:pt x="211" y="2492"/>
                  </a:lnTo>
                  <a:lnTo>
                    <a:pt x="454" y="252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7445520" y="5151600"/>
              <a:ext cx="376560" cy="624240"/>
            </a:xfrm>
            <a:custGeom>
              <a:avLst/>
              <a:gdLst/>
              <a:ahLst/>
              <a:rect l="0" t="0" r="r" b="b"/>
              <a:pathLst>
                <a:path w="1046" h="1734">
                  <a:moveTo>
                    <a:pt x="520" y="246"/>
                  </a:moveTo>
                  <a:lnTo>
                    <a:pt x="515" y="343"/>
                  </a:lnTo>
                  <a:lnTo>
                    <a:pt x="538" y="383"/>
                  </a:lnTo>
                  <a:lnTo>
                    <a:pt x="609" y="418"/>
                  </a:lnTo>
                  <a:lnTo>
                    <a:pt x="649" y="458"/>
                  </a:lnTo>
                  <a:lnTo>
                    <a:pt x="649" y="542"/>
                  </a:lnTo>
                  <a:lnTo>
                    <a:pt x="502" y="577"/>
                  </a:lnTo>
                  <a:lnTo>
                    <a:pt x="458" y="577"/>
                  </a:lnTo>
                  <a:lnTo>
                    <a:pt x="418" y="533"/>
                  </a:lnTo>
                  <a:lnTo>
                    <a:pt x="383" y="714"/>
                  </a:lnTo>
                  <a:lnTo>
                    <a:pt x="220" y="820"/>
                  </a:lnTo>
                  <a:lnTo>
                    <a:pt x="502" y="714"/>
                  </a:lnTo>
                  <a:lnTo>
                    <a:pt x="565" y="714"/>
                  </a:lnTo>
                  <a:lnTo>
                    <a:pt x="538" y="749"/>
                  </a:lnTo>
                  <a:lnTo>
                    <a:pt x="335" y="874"/>
                  </a:lnTo>
                  <a:lnTo>
                    <a:pt x="547" y="874"/>
                  </a:lnTo>
                  <a:lnTo>
                    <a:pt x="556" y="962"/>
                  </a:lnTo>
                  <a:lnTo>
                    <a:pt x="101" y="1002"/>
                  </a:lnTo>
                  <a:lnTo>
                    <a:pt x="0" y="1081"/>
                  </a:lnTo>
                  <a:lnTo>
                    <a:pt x="127" y="1125"/>
                  </a:lnTo>
                  <a:lnTo>
                    <a:pt x="211" y="1204"/>
                  </a:lnTo>
                  <a:lnTo>
                    <a:pt x="220" y="1262"/>
                  </a:lnTo>
                  <a:lnTo>
                    <a:pt x="141" y="1341"/>
                  </a:lnTo>
                  <a:lnTo>
                    <a:pt x="141" y="1434"/>
                  </a:lnTo>
                  <a:lnTo>
                    <a:pt x="185" y="1531"/>
                  </a:lnTo>
                  <a:lnTo>
                    <a:pt x="66" y="1645"/>
                  </a:lnTo>
                  <a:lnTo>
                    <a:pt x="167" y="1734"/>
                  </a:lnTo>
                  <a:lnTo>
                    <a:pt x="277" y="1663"/>
                  </a:lnTo>
                  <a:lnTo>
                    <a:pt x="357" y="1681"/>
                  </a:lnTo>
                  <a:lnTo>
                    <a:pt x="515" y="1557"/>
                  </a:lnTo>
                  <a:lnTo>
                    <a:pt x="746" y="1293"/>
                  </a:lnTo>
                  <a:lnTo>
                    <a:pt x="913" y="1090"/>
                  </a:lnTo>
                  <a:lnTo>
                    <a:pt x="1019" y="1390"/>
                  </a:lnTo>
                  <a:lnTo>
                    <a:pt x="1046" y="1072"/>
                  </a:lnTo>
                  <a:lnTo>
                    <a:pt x="1046" y="949"/>
                  </a:lnTo>
                  <a:lnTo>
                    <a:pt x="935" y="864"/>
                  </a:lnTo>
                  <a:lnTo>
                    <a:pt x="843" y="732"/>
                  </a:lnTo>
                  <a:lnTo>
                    <a:pt x="763" y="586"/>
                  </a:lnTo>
                  <a:lnTo>
                    <a:pt x="702" y="418"/>
                  </a:lnTo>
                  <a:lnTo>
                    <a:pt x="627" y="180"/>
                  </a:lnTo>
                  <a:lnTo>
                    <a:pt x="605" y="0"/>
                  </a:lnTo>
                  <a:lnTo>
                    <a:pt x="530" y="176"/>
                  </a:lnTo>
                  <a:lnTo>
                    <a:pt x="520" y="246"/>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7635960" y="5157720"/>
              <a:ext cx="776520" cy="889200"/>
            </a:xfrm>
            <a:custGeom>
              <a:avLst/>
              <a:gdLst/>
              <a:ahLst/>
              <a:rect l="0" t="0" r="r" b="b"/>
              <a:pathLst>
                <a:path w="2157" h="2470">
                  <a:moveTo>
                    <a:pt x="745" y="1045"/>
                  </a:moveTo>
                  <a:lnTo>
                    <a:pt x="1040" y="1142"/>
                  </a:lnTo>
                  <a:lnTo>
                    <a:pt x="1275" y="1186"/>
                  </a:lnTo>
                  <a:lnTo>
                    <a:pt x="1438" y="864"/>
                  </a:lnTo>
                  <a:lnTo>
                    <a:pt x="1429" y="551"/>
                  </a:lnTo>
                  <a:lnTo>
                    <a:pt x="1619" y="185"/>
                  </a:lnTo>
                  <a:lnTo>
                    <a:pt x="1994" y="0"/>
                  </a:lnTo>
                  <a:lnTo>
                    <a:pt x="1685" y="313"/>
                  </a:lnTo>
                  <a:lnTo>
                    <a:pt x="1592" y="612"/>
                  </a:lnTo>
                  <a:lnTo>
                    <a:pt x="1592" y="926"/>
                  </a:lnTo>
                  <a:lnTo>
                    <a:pt x="1778" y="776"/>
                  </a:lnTo>
                  <a:lnTo>
                    <a:pt x="2016" y="498"/>
                  </a:lnTo>
                  <a:lnTo>
                    <a:pt x="2157" y="330"/>
                  </a:lnTo>
                  <a:lnTo>
                    <a:pt x="2157" y="467"/>
                  </a:lnTo>
                  <a:lnTo>
                    <a:pt x="1994" y="798"/>
                  </a:lnTo>
                  <a:lnTo>
                    <a:pt x="1725" y="1168"/>
                  </a:lnTo>
                  <a:lnTo>
                    <a:pt x="1495" y="1381"/>
                  </a:lnTo>
                  <a:lnTo>
                    <a:pt x="1337" y="1456"/>
                  </a:lnTo>
                  <a:lnTo>
                    <a:pt x="1337" y="1548"/>
                  </a:lnTo>
                  <a:lnTo>
                    <a:pt x="1442" y="1734"/>
                  </a:lnTo>
                  <a:lnTo>
                    <a:pt x="1553" y="2016"/>
                  </a:lnTo>
                  <a:lnTo>
                    <a:pt x="1473" y="1936"/>
                  </a:lnTo>
                  <a:lnTo>
                    <a:pt x="1385" y="1848"/>
                  </a:lnTo>
                  <a:lnTo>
                    <a:pt x="1253" y="1791"/>
                  </a:lnTo>
                  <a:lnTo>
                    <a:pt x="1134" y="1760"/>
                  </a:lnTo>
                  <a:lnTo>
                    <a:pt x="1053" y="1738"/>
                  </a:lnTo>
                  <a:lnTo>
                    <a:pt x="1099" y="1919"/>
                  </a:lnTo>
                  <a:lnTo>
                    <a:pt x="1275" y="2069"/>
                  </a:lnTo>
                  <a:lnTo>
                    <a:pt x="1412" y="2152"/>
                  </a:lnTo>
                  <a:lnTo>
                    <a:pt x="1341" y="2007"/>
                  </a:lnTo>
                  <a:lnTo>
                    <a:pt x="1495" y="2042"/>
                  </a:lnTo>
                  <a:lnTo>
                    <a:pt x="1548" y="2174"/>
                  </a:lnTo>
                  <a:lnTo>
                    <a:pt x="1526" y="2355"/>
                  </a:lnTo>
                  <a:lnTo>
                    <a:pt x="1429" y="2461"/>
                  </a:lnTo>
                  <a:lnTo>
                    <a:pt x="1253" y="2470"/>
                  </a:lnTo>
                  <a:lnTo>
                    <a:pt x="1081" y="2373"/>
                  </a:lnTo>
                  <a:lnTo>
                    <a:pt x="1001" y="2214"/>
                  </a:lnTo>
                  <a:lnTo>
                    <a:pt x="890" y="1901"/>
                  </a:lnTo>
                  <a:lnTo>
                    <a:pt x="745" y="1813"/>
                  </a:lnTo>
                  <a:lnTo>
                    <a:pt x="361" y="1892"/>
                  </a:lnTo>
                  <a:lnTo>
                    <a:pt x="127" y="2029"/>
                  </a:lnTo>
                  <a:lnTo>
                    <a:pt x="97" y="1976"/>
                  </a:lnTo>
                  <a:lnTo>
                    <a:pt x="163" y="1835"/>
                  </a:lnTo>
                  <a:lnTo>
                    <a:pt x="0" y="1901"/>
                  </a:lnTo>
                  <a:lnTo>
                    <a:pt x="66" y="1804"/>
                  </a:lnTo>
                  <a:lnTo>
                    <a:pt x="273" y="1738"/>
                  </a:lnTo>
                  <a:lnTo>
                    <a:pt x="418" y="1760"/>
                  </a:lnTo>
                  <a:lnTo>
                    <a:pt x="511" y="1769"/>
                  </a:lnTo>
                  <a:lnTo>
                    <a:pt x="718" y="1725"/>
                  </a:lnTo>
                  <a:lnTo>
                    <a:pt x="745" y="1045"/>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7888320" y="5154480"/>
              <a:ext cx="136800" cy="406800"/>
            </a:xfrm>
            <a:custGeom>
              <a:avLst/>
              <a:gdLst/>
              <a:ahLst/>
              <a:rect l="0" t="0" r="r" b="b"/>
              <a:pathLst>
                <a:path w="380" h="1130">
                  <a:moveTo>
                    <a:pt x="110" y="1113"/>
                  </a:moveTo>
                  <a:lnTo>
                    <a:pt x="136" y="897"/>
                  </a:lnTo>
                  <a:lnTo>
                    <a:pt x="180" y="622"/>
                  </a:lnTo>
                  <a:lnTo>
                    <a:pt x="180" y="490"/>
                  </a:lnTo>
                  <a:lnTo>
                    <a:pt x="145" y="353"/>
                  </a:lnTo>
                  <a:lnTo>
                    <a:pt x="158" y="246"/>
                  </a:lnTo>
                  <a:lnTo>
                    <a:pt x="199" y="105"/>
                  </a:lnTo>
                  <a:lnTo>
                    <a:pt x="380" y="123"/>
                  </a:lnTo>
                  <a:lnTo>
                    <a:pt x="110" y="0"/>
                  </a:lnTo>
                  <a:lnTo>
                    <a:pt x="0" y="260"/>
                  </a:lnTo>
                  <a:lnTo>
                    <a:pt x="17" y="1130"/>
                  </a:lnTo>
                  <a:lnTo>
                    <a:pt x="110" y="1113"/>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8058240" y="4843440"/>
              <a:ext cx="541800" cy="1217880"/>
            </a:xfrm>
            <a:custGeom>
              <a:avLst/>
              <a:gdLst/>
              <a:ahLst/>
              <a:rect l="0" t="0" r="r" b="b"/>
              <a:pathLst>
                <a:path w="1505" h="3383">
                  <a:moveTo>
                    <a:pt x="35" y="141"/>
                  </a:moveTo>
                  <a:lnTo>
                    <a:pt x="136" y="357"/>
                  </a:lnTo>
                  <a:lnTo>
                    <a:pt x="101" y="732"/>
                  </a:lnTo>
                  <a:lnTo>
                    <a:pt x="242" y="189"/>
                  </a:lnTo>
                  <a:lnTo>
                    <a:pt x="308" y="176"/>
                  </a:lnTo>
                  <a:lnTo>
                    <a:pt x="374" y="273"/>
                  </a:lnTo>
                  <a:lnTo>
                    <a:pt x="352" y="379"/>
                  </a:lnTo>
                  <a:lnTo>
                    <a:pt x="282" y="551"/>
                  </a:lnTo>
                  <a:lnTo>
                    <a:pt x="406" y="418"/>
                  </a:lnTo>
                  <a:lnTo>
                    <a:pt x="464" y="432"/>
                  </a:lnTo>
                  <a:lnTo>
                    <a:pt x="189" y="864"/>
                  </a:lnTo>
                  <a:lnTo>
                    <a:pt x="684" y="383"/>
                  </a:lnTo>
                  <a:lnTo>
                    <a:pt x="984" y="529"/>
                  </a:lnTo>
                  <a:lnTo>
                    <a:pt x="1046" y="740"/>
                  </a:lnTo>
                  <a:lnTo>
                    <a:pt x="1254" y="943"/>
                  </a:lnTo>
                  <a:lnTo>
                    <a:pt x="1272" y="1150"/>
                  </a:lnTo>
                  <a:lnTo>
                    <a:pt x="1373" y="1314"/>
                  </a:lnTo>
                  <a:lnTo>
                    <a:pt x="1311" y="1512"/>
                  </a:lnTo>
                  <a:lnTo>
                    <a:pt x="1072" y="1618"/>
                  </a:lnTo>
                  <a:lnTo>
                    <a:pt x="1081" y="1694"/>
                  </a:lnTo>
                  <a:lnTo>
                    <a:pt x="1294" y="1875"/>
                  </a:lnTo>
                  <a:lnTo>
                    <a:pt x="1130" y="1888"/>
                  </a:lnTo>
                  <a:lnTo>
                    <a:pt x="949" y="1804"/>
                  </a:lnTo>
                  <a:lnTo>
                    <a:pt x="1320" y="2179"/>
                  </a:lnTo>
                  <a:lnTo>
                    <a:pt x="1272" y="2223"/>
                  </a:lnTo>
                  <a:lnTo>
                    <a:pt x="1019" y="2179"/>
                  </a:lnTo>
                  <a:lnTo>
                    <a:pt x="1019" y="2426"/>
                  </a:lnTo>
                  <a:lnTo>
                    <a:pt x="896" y="2580"/>
                  </a:lnTo>
                  <a:lnTo>
                    <a:pt x="812" y="2505"/>
                  </a:lnTo>
                  <a:lnTo>
                    <a:pt x="609" y="2880"/>
                  </a:lnTo>
                  <a:lnTo>
                    <a:pt x="374" y="3087"/>
                  </a:lnTo>
                  <a:lnTo>
                    <a:pt x="295" y="3325"/>
                  </a:lnTo>
                  <a:lnTo>
                    <a:pt x="361" y="3383"/>
                  </a:lnTo>
                  <a:lnTo>
                    <a:pt x="975" y="3162"/>
                  </a:lnTo>
                  <a:lnTo>
                    <a:pt x="1505" y="2245"/>
                  </a:lnTo>
                  <a:lnTo>
                    <a:pt x="1505" y="1446"/>
                  </a:lnTo>
                  <a:lnTo>
                    <a:pt x="1355" y="952"/>
                  </a:lnTo>
                  <a:lnTo>
                    <a:pt x="1245" y="749"/>
                  </a:lnTo>
                  <a:lnTo>
                    <a:pt x="1144" y="657"/>
                  </a:lnTo>
                  <a:lnTo>
                    <a:pt x="1046" y="489"/>
                  </a:lnTo>
                  <a:lnTo>
                    <a:pt x="631" y="286"/>
                  </a:lnTo>
                  <a:lnTo>
                    <a:pt x="521" y="339"/>
                  </a:lnTo>
                  <a:lnTo>
                    <a:pt x="464" y="286"/>
                  </a:lnTo>
                  <a:lnTo>
                    <a:pt x="433" y="185"/>
                  </a:lnTo>
                  <a:lnTo>
                    <a:pt x="268" y="88"/>
                  </a:lnTo>
                  <a:lnTo>
                    <a:pt x="185" y="79"/>
                  </a:lnTo>
                  <a:lnTo>
                    <a:pt x="101" y="0"/>
                  </a:lnTo>
                  <a:lnTo>
                    <a:pt x="0" y="8"/>
                  </a:lnTo>
                  <a:lnTo>
                    <a:pt x="35" y="141"/>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7826400" y="5086440"/>
              <a:ext cx="119520" cy="702000"/>
            </a:xfrm>
            <a:custGeom>
              <a:avLst/>
              <a:gdLst/>
              <a:ahLst/>
              <a:rect l="0" t="0" r="r" b="b"/>
              <a:pathLst>
                <a:path w="332" h="1950">
                  <a:moveTo>
                    <a:pt x="208" y="0"/>
                  </a:moveTo>
                  <a:lnTo>
                    <a:pt x="124" y="57"/>
                  </a:lnTo>
                  <a:lnTo>
                    <a:pt x="79" y="163"/>
                  </a:lnTo>
                  <a:lnTo>
                    <a:pt x="70" y="260"/>
                  </a:lnTo>
                  <a:lnTo>
                    <a:pt x="79" y="542"/>
                  </a:lnTo>
                  <a:lnTo>
                    <a:pt x="52" y="758"/>
                  </a:lnTo>
                  <a:lnTo>
                    <a:pt x="26" y="1015"/>
                  </a:lnTo>
                  <a:lnTo>
                    <a:pt x="0" y="1187"/>
                  </a:lnTo>
                  <a:lnTo>
                    <a:pt x="0" y="1412"/>
                  </a:lnTo>
                  <a:lnTo>
                    <a:pt x="4" y="1610"/>
                  </a:lnTo>
                  <a:lnTo>
                    <a:pt x="111" y="1950"/>
                  </a:lnTo>
                  <a:lnTo>
                    <a:pt x="332" y="1897"/>
                  </a:lnTo>
                  <a:lnTo>
                    <a:pt x="234" y="1579"/>
                  </a:lnTo>
                  <a:lnTo>
                    <a:pt x="199" y="1332"/>
                  </a:lnTo>
                  <a:lnTo>
                    <a:pt x="217" y="1112"/>
                  </a:lnTo>
                  <a:lnTo>
                    <a:pt x="253" y="895"/>
                  </a:lnTo>
                  <a:lnTo>
                    <a:pt x="301" y="696"/>
                  </a:lnTo>
                  <a:lnTo>
                    <a:pt x="301" y="586"/>
                  </a:lnTo>
                  <a:lnTo>
                    <a:pt x="275" y="476"/>
                  </a:lnTo>
                  <a:lnTo>
                    <a:pt x="234" y="410"/>
                  </a:lnTo>
                  <a:lnTo>
                    <a:pt x="243" y="149"/>
                  </a:lnTo>
                  <a:lnTo>
                    <a:pt x="253" y="8"/>
                  </a:lnTo>
                  <a:lnTo>
                    <a:pt x="208" y="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7149960" y="5622840"/>
              <a:ext cx="356040" cy="306720"/>
            </a:xfrm>
            <a:custGeom>
              <a:avLst/>
              <a:gdLst/>
              <a:ahLst/>
              <a:rect l="0" t="0" r="r" b="b"/>
              <a:pathLst>
                <a:path w="989" h="852">
                  <a:moveTo>
                    <a:pt x="278" y="0"/>
                  </a:moveTo>
                  <a:lnTo>
                    <a:pt x="224" y="30"/>
                  </a:lnTo>
                  <a:lnTo>
                    <a:pt x="224" y="79"/>
                  </a:lnTo>
                  <a:lnTo>
                    <a:pt x="145" y="114"/>
                  </a:lnTo>
                  <a:lnTo>
                    <a:pt x="127" y="154"/>
                  </a:lnTo>
                  <a:lnTo>
                    <a:pt x="97" y="264"/>
                  </a:lnTo>
                  <a:lnTo>
                    <a:pt x="17" y="313"/>
                  </a:lnTo>
                  <a:lnTo>
                    <a:pt x="0" y="494"/>
                  </a:lnTo>
                  <a:lnTo>
                    <a:pt x="44" y="658"/>
                  </a:lnTo>
                  <a:lnTo>
                    <a:pt x="220" y="737"/>
                  </a:lnTo>
                  <a:lnTo>
                    <a:pt x="494" y="834"/>
                  </a:lnTo>
                  <a:lnTo>
                    <a:pt x="706" y="843"/>
                  </a:lnTo>
                  <a:lnTo>
                    <a:pt x="932" y="852"/>
                  </a:lnTo>
                  <a:lnTo>
                    <a:pt x="914" y="733"/>
                  </a:lnTo>
                  <a:lnTo>
                    <a:pt x="914" y="644"/>
                  </a:lnTo>
                  <a:lnTo>
                    <a:pt x="923" y="556"/>
                  </a:lnTo>
                  <a:lnTo>
                    <a:pt x="989" y="423"/>
                  </a:lnTo>
                  <a:lnTo>
                    <a:pt x="923" y="383"/>
                  </a:lnTo>
                  <a:lnTo>
                    <a:pt x="870" y="326"/>
                  </a:lnTo>
                  <a:lnTo>
                    <a:pt x="822" y="246"/>
                  </a:lnTo>
                  <a:lnTo>
                    <a:pt x="769" y="180"/>
                  </a:lnTo>
                  <a:lnTo>
                    <a:pt x="715" y="132"/>
                  </a:lnTo>
                  <a:lnTo>
                    <a:pt x="658" y="114"/>
                  </a:lnTo>
                  <a:lnTo>
                    <a:pt x="578" y="132"/>
                  </a:lnTo>
                  <a:lnTo>
                    <a:pt x="477" y="163"/>
                  </a:lnTo>
                  <a:lnTo>
                    <a:pt x="437" y="141"/>
                  </a:lnTo>
                  <a:lnTo>
                    <a:pt x="393" y="48"/>
                  </a:lnTo>
                  <a:lnTo>
                    <a:pt x="349" y="22"/>
                  </a:lnTo>
                  <a:lnTo>
                    <a:pt x="278"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7634160" y="4484520"/>
              <a:ext cx="491040" cy="611640"/>
            </a:xfrm>
            <a:custGeom>
              <a:avLst/>
              <a:gdLst/>
              <a:ahLst/>
              <a:rect l="0" t="0" r="r" b="b"/>
              <a:pathLst>
                <a:path w="1364" h="1699">
                  <a:moveTo>
                    <a:pt x="1342" y="468"/>
                  </a:moveTo>
                  <a:lnTo>
                    <a:pt x="1364" y="538"/>
                  </a:lnTo>
                  <a:lnTo>
                    <a:pt x="1360" y="600"/>
                  </a:lnTo>
                  <a:lnTo>
                    <a:pt x="1333" y="697"/>
                  </a:lnTo>
                  <a:lnTo>
                    <a:pt x="1280" y="830"/>
                  </a:lnTo>
                  <a:lnTo>
                    <a:pt x="1183" y="931"/>
                  </a:lnTo>
                  <a:lnTo>
                    <a:pt x="1100" y="1351"/>
                  </a:lnTo>
                  <a:lnTo>
                    <a:pt x="975" y="1496"/>
                  </a:lnTo>
                  <a:lnTo>
                    <a:pt x="878" y="1607"/>
                  </a:lnTo>
                  <a:lnTo>
                    <a:pt x="825" y="1690"/>
                  </a:lnTo>
                  <a:lnTo>
                    <a:pt x="785" y="1699"/>
                  </a:lnTo>
                  <a:lnTo>
                    <a:pt x="631" y="1479"/>
                  </a:lnTo>
                  <a:lnTo>
                    <a:pt x="494" y="1496"/>
                  </a:lnTo>
                  <a:lnTo>
                    <a:pt x="428" y="1496"/>
                  </a:lnTo>
                  <a:lnTo>
                    <a:pt x="380" y="1470"/>
                  </a:lnTo>
                  <a:lnTo>
                    <a:pt x="358" y="1417"/>
                  </a:lnTo>
                  <a:lnTo>
                    <a:pt x="321" y="1289"/>
                  </a:lnTo>
                  <a:lnTo>
                    <a:pt x="216" y="1068"/>
                  </a:lnTo>
                  <a:lnTo>
                    <a:pt x="101" y="927"/>
                  </a:lnTo>
                  <a:lnTo>
                    <a:pt x="79" y="807"/>
                  </a:lnTo>
                  <a:lnTo>
                    <a:pt x="57" y="684"/>
                  </a:lnTo>
                  <a:lnTo>
                    <a:pt x="22" y="516"/>
                  </a:lnTo>
                  <a:lnTo>
                    <a:pt x="0" y="277"/>
                  </a:lnTo>
                  <a:lnTo>
                    <a:pt x="17" y="167"/>
                  </a:lnTo>
                  <a:lnTo>
                    <a:pt x="57" y="79"/>
                  </a:lnTo>
                  <a:lnTo>
                    <a:pt x="1002" y="0"/>
                  </a:lnTo>
                  <a:lnTo>
                    <a:pt x="1280" y="339"/>
                  </a:lnTo>
                  <a:lnTo>
                    <a:pt x="1342" y="468"/>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7677000" y="4719600"/>
              <a:ext cx="43200" cy="32040"/>
            </a:xfrm>
            <a:custGeom>
              <a:avLst/>
              <a:gdLst/>
              <a:ahLst/>
              <a:rect l="0" t="0" r="r" b="b"/>
              <a:pathLst>
                <a:path w="120" h="89">
                  <a:moveTo>
                    <a:pt x="0" y="67"/>
                  </a:moveTo>
                  <a:lnTo>
                    <a:pt x="39" y="89"/>
                  </a:lnTo>
                  <a:lnTo>
                    <a:pt x="120" y="62"/>
                  </a:lnTo>
                  <a:lnTo>
                    <a:pt x="120" y="0"/>
                  </a:lnTo>
                  <a:lnTo>
                    <a:pt x="30" y="8"/>
                  </a:lnTo>
                  <a:lnTo>
                    <a:pt x="0" y="67"/>
                  </a:lnTo>
                  <a:close/>
                </a:path>
              </a:pathLst>
            </a:custGeom>
            <a:solidFill>
              <a:srgbClr val="ffffff"/>
            </a:solidFill>
            <a:ln w="12600">
              <a:solidFill>
                <a:srgbClr val="ffffff"/>
              </a:solidFill>
              <a:round/>
            </a:ln>
          </p:spPr>
          <p:txBody>
            <a:bodyPr lIns="96120" rIns="96120" tIns="-19080" bIns="-19080" anchor="t">
              <a:noAutofit/>
            </a:bodyPr>
            <a:p>
              <a:endParaRPr b="0" lang="en-US" sz="1800" spc="-1" strike="noStrike">
                <a:solidFill>
                  <a:srgbClr val="000000"/>
                </a:solidFill>
                <a:latin typeface="Arial"/>
              </a:endParaRPr>
            </a:p>
          </p:txBody>
        </p:sp>
        <p:sp>
          <p:nvSpPr>
            <p:cNvPr id="333" name=""/>
            <p:cNvSpPr/>
            <p:nvPr/>
          </p:nvSpPr>
          <p:spPr>
            <a:xfrm>
              <a:off x="7829640" y="4689360"/>
              <a:ext cx="63720" cy="24120"/>
            </a:xfrm>
            <a:custGeom>
              <a:avLst/>
              <a:gdLst/>
              <a:ahLst/>
              <a:rect l="0" t="0" r="r" b="b"/>
              <a:pathLst>
                <a:path w="177" h="67">
                  <a:moveTo>
                    <a:pt x="22" y="67"/>
                  </a:moveTo>
                  <a:lnTo>
                    <a:pt x="102" y="62"/>
                  </a:lnTo>
                  <a:lnTo>
                    <a:pt x="177" y="40"/>
                  </a:lnTo>
                  <a:lnTo>
                    <a:pt x="79" y="0"/>
                  </a:lnTo>
                  <a:lnTo>
                    <a:pt x="0" y="0"/>
                  </a:lnTo>
                  <a:lnTo>
                    <a:pt x="22" y="67"/>
                  </a:lnTo>
                  <a:close/>
                </a:path>
              </a:pathLst>
            </a:custGeom>
            <a:solidFill>
              <a:srgbClr val="ffffff"/>
            </a:solidFill>
            <a:ln w="12600">
              <a:solidFill>
                <a:srgbClr val="ffffff"/>
              </a:solidFill>
              <a:round/>
            </a:ln>
          </p:spPr>
          <p:txBody>
            <a:bodyPr lIns="96120" rIns="96120" tIns="-27000" bIns="-27000" anchor="t">
              <a:noAutofit/>
            </a:bodyPr>
            <a:p>
              <a:endParaRPr b="0" lang="en-US" sz="1800" spc="-1" strike="noStrike">
                <a:solidFill>
                  <a:srgbClr val="000000"/>
                </a:solidFill>
                <a:latin typeface="Arial"/>
              </a:endParaRPr>
            </a:p>
          </p:txBody>
        </p:sp>
        <p:sp>
          <p:nvSpPr>
            <p:cNvPr id="334" name=""/>
            <p:cNvSpPr/>
            <p:nvPr/>
          </p:nvSpPr>
          <p:spPr>
            <a:xfrm>
              <a:off x="7635960" y="4398840"/>
              <a:ext cx="394200" cy="130680"/>
            </a:xfrm>
            <a:custGeom>
              <a:avLst/>
              <a:gdLst/>
              <a:ahLst/>
              <a:rect l="0" t="0" r="r" b="b"/>
              <a:pathLst>
                <a:path w="1095" h="363">
                  <a:moveTo>
                    <a:pt x="79" y="30"/>
                  </a:moveTo>
                  <a:lnTo>
                    <a:pt x="176" y="0"/>
                  </a:lnTo>
                  <a:lnTo>
                    <a:pt x="455" y="0"/>
                  </a:lnTo>
                  <a:lnTo>
                    <a:pt x="950" y="133"/>
                  </a:lnTo>
                  <a:lnTo>
                    <a:pt x="1095" y="315"/>
                  </a:lnTo>
                  <a:lnTo>
                    <a:pt x="857" y="256"/>
                  </a:lnTo>
                  <a:lnTo>
                    <a:pt x="741" y="288"/>
                  </a:lnTo>
                  <a:lnTo>
                    <a:pt x="640" y="341"/>
                  </a:lnTo>
                  <a:lnTo>
                    <a:pt x="486" y="363"/>
                  </a:lnTo>
                  <a:lnTo>
                    <a:pt x="318" y="359"/>
                  </a:lnTo>
                  <a:lnTo>
                    <a:pt x="167" y="315"/>
                  </a:lnTo>
                  <a:lnTo>
                    <a:pt x="52" y="256"/>
                  </a:lnTo>
                  <a:lnTo>
                    <a:pt x="13" y="199"/>
                  </a:lnTo>
                  <a:lnTo>
                    <a:pt x="0" y="150"/>
                  </a:lnTo>
                  <a:lnTo>
                    <a:pt x="4" y="106"/>
                  </a:lnTo>
                  <a:lnTo>
                    <a:pt x="79" y="30"/>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35" name=""/>
            <p:cNvSpPr/>
            <p:nvPr/>
          </p:nvSpPr>
          <p:spPr>
            <a:xfrm>
              <a:off x="7943760" y="4519440"/>
              <a:ext cx="187560" cy="179640"/>
            </a:xfrm>
            <a:custGeom>
              <a:avLst/>
              <a:gdLst/>
              <a:ahLst/>
              <a:rect l="0" t="0" r="r" b="b"/>
              <a:pathLst>
                <a:path w="521" h="499">
                  <a:moveTo>
                    <a:pt x="499" y="380"/>
                  </a:moveTo>
                  <a:lnTo>
                    <a:pt x="406" y="327"/>
                  </a:lnTo>
                  <a:lnTo>
                    <a:pt x="331" y="322"/>
                  </a:lnTo>
                  <a:lnTo>
                    <a:pt x="292" y="380"/>
                  </a:lnTo>
                  <a:lnTo>
                    <a:pt x="278" y="499"/>
                  </a:lnTo>
                  <a:lnTo>
                    <a:pt x="127" y="481"/>
                  </a:lnTo>
                  <a:lnTo>
                    <a:pt x="136" y="415"/>
                  </a:lnTo>
                  <a:lnTo>
                    <a:pt x="105" y="344"/>
                  </a:lnTo>
                  <a:lnTo>
                    <a:pt x="57" y="296"/>
                  </a:lnTo>
                  <a:lnTo>
                    <a:pt x="26" y="278"/>
                  </a:lnTo>
                  <a:lnTo>
                    <a:pt x="0" y="114"/>
                  </a:lnTo>
                  <a:lnTo>
                    <a:pt x="216" y="0"/>
                  </a:lnTo>
                  <a:lnTo>
                    <a:pt x="437" y="88"/>
                  </a:lnTo>
                  <a:lnTo>
                    <a:pt x="472" y="283"/>
                  </a:lnTo>
                  <a:lnTo>
                    <a:pt x="521" y="353"/>
                  </a:lnTo>
                  <a:lnTo>
                    <a:pt x="499" y="38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7924680" y="4484520"/>
              <a:ext cx="209880" cy="182880"/>
            </a:xfrm>
            <a:custGeom>
              <a:avLst/>
              <a:gdLst/>
              <a:ahLst/>
              <a:rect l="0" t="0" r="r" b="b"/>
              <a:pathLst>
                <a:path w="583" h="508">
                  <a:moveTo>
                    <a:pt x="561" y="459"/>
                  </a:moveTo>
                  <a:lnTo>
                    <a:pt x="525" y="411"/>
                  </a:lnTo>
                  <a:lnTo>
                    <a:pt x="481" y="367"/>
                  </a:lnTo>
                  <a:lnTo>
                    <a:pt x="455" y="314"/>
                  </a:lnTo>
                  <a:lnTo>
                    <a:pt x="459" y="246"/>
                  </a:lnTo>
                  <a:lnTo>
                    <a:pt x="437" y="211"/>
                  </a:lnTo>
                  <a:lnTo>
                    <a:pt x="393" y="180"/>
                  </a:lnTo>
                  <a:lnTo>
                    <a:pt x="371" y="180"/>
                  </a:lnTo>
                  <a:lnTo>
                    <a:pt x="327" y="180"/>
                  </a:lnTo>
                  <a:lnTo>
                    <a:pt x="362" y="251"/>
                  </a:lnTo>
                  <a:lnTo>
                    <a:pt x="424" y="314"/>
                  </a:lnTo>
                  <a:lnTo>
                    <a:pt x="327" y="251"/>
                  </a:lnTo>
                  <a:lnTo>
                    <a:pt x="260" y="216"/>
                  </a:lnTo>
                  <a:lnTo>
                    <a:pt x="180" y="224"/>
                  </a:lnTo>
                  <a:lnTo>
                    <a:pt x="119" y="229"/>
                  </a:lnTo>
                  <a:lnTo>
                    <a:pt x="88" y="238"/>
                  </a:lnTo>
                  <a:lnTo>
                    <a:pt x="114" y="292"/>
                  </a:lnTo>
                  <a:lnTo>
                    <a:pt x="242" y="296"/>
                  </a:lnTo>
                  <a:lnTo>
                    <a:pt x="336" y="358"/>
                  </a:lnTo>
                  <a:lnTo>
                    <a:pt x="255" y="358"/>
                  </a:lnTo>
                  <a:lnTo>
                    <a:pt x="292" y="411"/>
                  </a:lnTo>
                  <a:lnTo>
                    <a:pt x="305" y="477"/>
                  </a:lnTo>
                  <a:lnTo>
                    <a:pt x="282" y="508"/>
                  </a:lnTo>
                  <a:lnTo>
                    <a:pt x="211" y="468"/>
                  </a:lnTo>
                  <a:lnTo>
                    <a:pt x="136" y="428"/>
                  </a:lnTo>
                  <a:lnTo>
                    <a:pt x="119" y="402"/>
                  </a:lnTo>
                  <a:lnTo>
                    <a:pt x="66" y="380"/>
                  </a:lnTo>
                  <a:lnTo>
                    <a:pt x="39" y="296"/>
                  </a:lnTo>
                  <a:lnTo>
                    <a:pt x="35" y="189"/>
                  </a:lnTo>
                  <a:lnTo>
                    <a:pt x="17" y="149"/>
                  </a:lnTo>
                  <a:lnTo>
                    <a:pt x="30" y="110"/>
                  </a:lnTo>
                  <a:lnTo>
                    <a:pt x="0" y="101"/>
                  </a:lnTo>
                  <a:lnTo>
                    <a:pt x="35" y="61"/>
                  </a:lnTo>
                  <a:lnTo>
                    <a:pt x="132" y="48"/>
                  </a:lnTo>
                  <a:lnTo>
                    <a:pt x="260" y="70"/>
                  </a:lnTo>
                  <a:lnTo>
                    <a:pt x="384" y="0"/>
                  </a:lnTo>
                  <a:lnTo>
                    <a:pt x="464" y="79"/>
                  </a:lnTo>
                  <a:lnTo>
                    <a:pt x="508" y="145"/>
                  </a:lnTo>
                  <a:lnTo>
                    <a:pt x="516" y="216"/>
                  </a:lnTo>
                  <a:lnTo>
                    <a:pt x="525" y="327"/>
                  </a:lnTo>
                  <a:lnTo>
                    <a:pt x="525" y="389"/>
                  </a:lnTo>
                  <a:lnTo>
                    <a:pt x="583" y="472"/>
                  </a:lnTo>
                  <a:lnTo>
                    <a:pt x="561" y="459"/>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6500880" y="4721400"/>
              <a:ext cx="1168920" cy="914760"/>
            </a:xfrm>
            <a:custGeom>
              <a:avLst/>
              <a:gdLst/>
              <a:ahLst/>
              <a:rect l="0" t="0" r="r" b="b"/>
              <a:pathLst>
                <a:path w="3247" h="2541">
                  <a:moveTo>
                    <a:pt x="3066" y="1663"/>
                  </a:moveTo>
                  <a:lnTo>
                    <a:pt x="3084" y="1504"/>
                  </a:lnTo>
                  <a:lnTo>
                    <a:pt x="3168" y="1354"/>
                  </a:lnTo>
                  <a:lnTo>
                    <a:pt x="3247" y="1062"/>
                  </a:lnTo>
                  <a:lnTo>
                    <a:pt x="3199" y="992"/>
                  </a:lnTo>
                  <a:lnTo>
                    <a:pt x="3079" y="992"/>
                  </a:lnTo>
                  <a:lnTo>
                    <a:pt x="3000" y="864"/>
                  </a:lnTo>
                  <a:lnTo>
                    <a:pt x="2960" y="824"/>
                  </a:lnTo>
                  <a:lnTo>
                    <a:pt x="2947" y="824"/>
                  </a:lnTo>
                  <a:lnTo>
                    <a:pt x="2868" y="842"/>
                  </a:lnTo>
                  <a:lnTo>
                    <a:pt x="2630" y="445"/>
                  </a:lnTo>
                  <a:lnTo>
                    <a:pt x="2502" y="361"/>
                  </a:lnTo>
                  <a:lnTo>
                    <a:pt x="2320" y="110"/>
                  </a:lnTo>
                  <a:lnTo>
                    <a:pt x="2205" y="79"/>
                  </a:lnTo>
                  <a:lnTo>
                    <a:pt x="2135" y="105"/>
                  </a:lnTo>
                  <a:lnTo>
                    <a:pt x="2051" y="88"/>
                  </a:lnTo>
                  <a:lnTo>
                    <a:pt x="1967" y="119"/>
                  </a:lnTo>
                  <a:lnTo>
                    <a:pt x="1751" y="141"/>
                  </a:lnTo>
                  <a:lnTo>
                    <a:pt x="1685" y="119"/>
                  </a:lnTo>
                  <a:lnTo>
                    <a:pt x="1597" y="149"/>
                  </a:lnTo>
                  <a:lnTo>
                    <a:pt x="1544" y="88"/>
                  </a:lnTo>
                  <a:lnTo>
                    <a:pt x="1482" y="22"/>
                  </a:lnTo>
                  <a:lnTo>
                    <a:pt x="1434" y="0"/>
                  </a:lnTo>
                  <a:lnTo>
                    <a:pt x="927" y="198"/>
                  </a:lnTo>
                  <a:lnTo>
                    <a:pt x="878" y="335"/>
                  </a:lnTo>
                  <a:lnTo>
                    <a:pt x="639" y="467"/>
                  </a:lnTo>
                  <a:lnTo>
                    <a:pt x="476" y="498"/>
                  </a:lnTo>
                  <a:lnTo>
                    <a:pt x="326" y="639"/>
                  </a:lnTo>
                  <a:lnTo>
                    <a:pt x="304" y="723"/>
                  </a:lnTo>
                  <a:lnTo>
                    <a:pt x="273" y="811"/>
                  </a:lnTo>
                  <a:lnTo>
                    <a:pt x="194" y="1075"/>
                  </a:lnTo>
                  <a:lnTo>
                    <a:pt x="158" y="1288"/>
                  </a:lnTo>
                  <a:lnTo>
                    <a:pt x="198" y="1473"/>
                  </a:lnTo>
                  <a:lnTo>
                    <a:pt x="127" y="1650"/>
                  </a:lnTo>
                  <a:lnTo>
                    <a:pt x="61" y="1672"/>
                  </a:lnTo>
                  <a:lnTo>
                    <a:pt x="0" y="1738"/>
                  </a:lnTo>
                  <a:lnTo>
                    <a:pt x="141" y="2210"/>
                  </a:lnTo>
                  <a:lnTo>
                    <a:pt x="295" y="2263"/>
                  </a:lnTo>
                  <a:lnTo>
                    <a:pt x="568" y="2073"/>
                  </a:lnTo>
                  <a:lnTo>
                    <a:pt x="784" y="1544"/>
                  </a:lnTo>
                  <a:lnTo>
                    <a:pt x="913" y="1795"/>
                  </a:lnTo>
                  <a:lnTo>
                    <a:pt x="979" y="2197"/>
                  </a:lnTo>
                  <a:lnTo>
                    <a:pt x="927" y="2302"/>
                  </a:lnTo>
                  <a:lnTo>
                    <a:pt x="904" y="2479"/>
                  </a:lnTo>
                  <a:lnTo>
                    <a:pt x="949" y="2541"/>
                  </a:lnTo>
                  <a:lnTo>
                    <a:pt x="2564" y="2294"/>
                  </a:lnTo>
                  <a:lnTo>
                    <a:pt x="2524" y="1199"/>
                  </a:lnTo>
                  <a:lnTo>
                    <a:pt x="2683" y="1345"/>
                  </a:lnTo>
                  <a:lnTo>
                    <a:pt x="2793" y="1359"/>
                  </a:lnTo>
                  <a:lnTo>
                    <a:pt x="2846" y="1465"/>
                  </a:lnTo>
                  <a:lnTo>
                    <a:pt x="2965" y="1473"/>
                  </a:lnTo>
                  <a:lnTo>
                    <a:pt x="3031" y="1584"/>
                  </a:lnTo>
                  <a:lnTo>
                    <a:pt x="3066" y="166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7101000" y="5524560"/>
              <a:ext cx="108360" cy="81360"/>
            </a:xfrm>
            <a:custGeom>
              <a:avLst/>
              <a:gdLst/>
              <a:ahLst/>
              <a:rect l="0" t="0" r="r" b="b"/>
              <a:pathLst>
                <a:path w="301" h="226">
                  <a:moveTo>
                    <a:pt x="208" y="0"/>
                  </a:moveTo>
                  <a:lnTo>
                    <a:pt x="98" y="0"/>
                  </a:lnTo>
                  <a:lnTo>
                    <a:pt x="8" y="71"/>
                  </a:lnTo>
                  <a:lnTo>
                    <a:pt x="0" y="200"/>
                  </a:lnTo>
                  <a:lnTo>
                    <a:pt x="30" y="226"/>
                  </a:lnTo>
                  <a:lnTo>
                    <a:pt x="297" y="164"/>
                  </a:lnTo>
                  <a:lnTo>
                    <a:pt x="301" y="128"/>
                  </a:lnTo>
                  <a:lnTo>
                    <a:pt x="262" y="22"/>
                  </a:lnTo>
                  <a:lnTo>
                    <a:pt x="208" y="0"/>
                  </a:lnTo>
                  <a:close/>
                </a:path>
              </a:pathLst>
            </a:custGeom>
            <a:solidFill>
              <a:srgbClr val="ffff00"/>
            </a:solidFill>
            <a:ln w="12600">
              <a:solidFill>
                <a:srgbClr val="ffff00"/>
              </a:solidFill>
              <a:round/>
            </a:ln>
          </p:spPr>
          <p:txBody>
            <a:bodyPr lIns="96120" rIns="96120" tIns="30240" bIns="30240" anchor="t">
              <a:noAutofit/>
            </a:bodyPr>
            <a:p>
              <a:endParaRPr b="0" lang="en-US" sz="1800" spc="-1" strike="noStrike">
                <a:solidFill>
                  <a:srgbClr val="000000"/>
                </a:solidFill>
                <a:latin typeface="Arial"/>
              </a:endParaRPr>
            </a:p>
          </p:txBody>
        </p:sp>
        <p:sp>
          <p:nvSpPr>
            <p:cNvPr id="339" name=""/>
            <p:cNvSpPr/>
            <p:nvPr/>
          </p:nvSpPr>
          <p:spPr>
            <a:xfrm>
              <a:off x="6556320" y="4994280"/>
              <a:ext cx="62280" cy="279720"/>
            </a:xfrm>
            <a:custGeom>
              <a:avLst/>
              <a:gdLst/>
              <a:ahLst/>
              <a:rect l="0" t="0" r="r" b="b"/>
              <a:pathLst>
                <a:path w="173" h="777">
                  <a:moveTo>
                    <a:pt x="138" y="0"/>
                  </a:moveTo>
                  <a:lnTo>
                    <a:pt x="138" y="229"/>
                  </a:lnTo>
                  <a:lnTo>
                    <a:pt x="173" y="525"/>
                  </a:lnTo>
                  <a:lnTo>
                    <a:pt x="67" y="516"/>
                  </a:lnTo>
                  <a:lnTo>
                    <a:pt x="156" y="675"/>
                  </a:lnTo>
                  <a:lnTo>
                    <a:pt x="111" y="777"/>
                  </a:lnTo>
                  <a:lnTo>
                    <a:pt x="0" y="547"/>
                  </a:lnTo>
                  <a:lnTo>
                    <a:pt x="0" y="441"/>
                  </a:lnTo>
                  <a:lnTo>
                    <a:pt x="98" y="105"/>
                  </a:lnTo>
                  <a:lnTo>
                    <a:pt x="138" y="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6513480" y="5108400"/>
              <a:ext cx="273240" cy="424080"/>
            </a:xfrm>
            <a:custGeom>
              <a:avLst/>
              <a:gdLst/>
              <a:ahLst/>
              <a:rect l="0" t="0" r="r" b="b"/>
              <a:pathLst>
                <a:path w="759" h="1178">
                  <a:moveTo>
                    <a:pt x="0" y="618"/>
                  </a:moveTo>
                  <a:lnTo>
                    <a:pt x="22" y="662"/>
                  </a:lnTo>
                  <a:lnTo>
                    <a:pt x="22" y="772"/>
                  </a:lnTo>
                  <a:lnTo>
                    <a:pt x="70" y="918"/>
                  </a:lnTo>
                  <a:lnTo>
                    <a:pt x="123" y="834"/>
                  </a:lnTo>
                  <a:lnTo>
                    <a:pt x="207" y="1032"/>
                  </a:lnTo>
                  <a:lnTo>
                    <a:pt x="92" y="1085"/>
                  </a:lnTo>
                  <a:lnTo>
                    <a:pt x="255" y="1178"/>
                  </a:lnTo>
                  <a:lnTo>
                    <a:pt x="490" y="1090"/>
                  </a:lnTo>
                  <a:lnTo>
                    <a:pt x="627" y="838"/>
                  </a:lnTo>
                  <a:lnTo>
                    <a:pt x="662" y="644"/>
                  </a:lnTo>
                  <a:lnTo>
                    <a:pt x="684" y="463"/>
                  </a:lnTo>
                  <a:lnTo>
                    <a:pt x="759" y="242"/>
                  </a:lnTo>
                  <a:lnTo>
                    <a:pt x="658" y="22"/>
                  </a:lnTo>
                  <a:lnTo>
                    <a:pt x="609" y="0"/>
                  </a:lnTo>
                  <a:lnTo>
                    <a:pt x="534" y="220"/>
                  </a:lnTo>
                  <a:lnTo>
                    <a:pt x="583" y="277"/>
                  </a:lnTo>
                  <a:lnTo>
                    <a:pt x="666" y="317"/>
                  </a:lnTo>
                  <a:lnTo>
                    <a:pt x="578" y="537"/>
                  </a:lnTo>
                  <a:lnTo>
                    <a:pt x="578" y="671"/>
                  </a:lnTo>
                  <a:lnTo>
                    <a:pt x="490" y="816"/>
                  </a:lnTo>
                  <a:lnTo>
                    <a:pt x="326" y="838"/>
                  </a:lnTo>
                  <a:lnTo>
                    <a:pt x="229" y="463"/>
                  </a:lnTo>
                  <a:lnTo>
                    <a:pt x="48" y="582"/>
                  </a:lnTo>
                  <a:lnTo>
                    <a:pt x="0" y="618"/>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6767640" y="4857840"/>
              <a:ext cx="638640" cy="783000"/>
            </a:xfrm>
            <a:custGeom>
              <a:avLst/>
              <a:gdLst/>
              <a:ahLst/>
              <a:rect l="0" t="0" r="r" b="b"/>
              <a:pathLst>
                <a:path w="1774" h="2175">
                  <a:moveTo>
                    <a:pt x="233" y="440"/>
                  </a:moveTo>
                  <a:lnTo>
                    <a:pt x="313" y="507"/>
                  </a:lnTo>
                  <a:lnTo>
                    <a:pt x="220" y="887"/>
                  </a:lnTo>
                  <a:lnTo>
                    <a:pt x="220" y="1107"/>
                  </a:lnTo>
                  <a:lnTo>
                    <a:pt x="472" y="1169"/>
                  </a:lnTo>
                  <a:lnTo>
                    <a:pt x="450" y="326"/>
                  </a:lnTo>
                  <a:lnTo>
                    <a:pt x="472" y="167"/>
                  </a:lnTo>
                  <a:lnTo>
                    <a:pt x="374" y="114"/>
                  </a:lnTo>
                  <a:lnTo>
                    <a:pt x="291" y="185"/>
                  </a:lnTo>
                  <a:lnTo>
                    <a:pt x="273" y="167"/>
                  </a:lnTo>
                  <a:lnTo>
                    <a:pt x="339" y="110"/>
                  </a:lnTo>
                  <a:lnTo>
                    <a:pt x="374" y="57"/>
                  </a:lnTo>
                  <a:lnTo>
                    <a:pt x="627" y="0"/>
                  </a:lnTo>
                  <a:lnTo>
                    <a:pt x="746" y="66"/>
                  </a:lnTo>
                  <a:lnTo>
                    <a:pt x="706" y="97"/>
                  </a:lnTo>
                  <a:lnTo>
                    <a:pt x="627" y="88"/>
                  </a:lnTo>
                  <a:lnTo>
                    <a:pt x="587" y="198"/>
                  </a:lnTo>
                  <a:lnTo>
                    <a:pt x="821" y="1235"/>
                  </a:lnTo>
                  <a:lnTo>
                    <a:pt x="1063" y="1381"/>
                  </a:lnTo>
                  <a:lnTo>
                    <a:pt x="1483" y="1614"/>
                  </a:lnTo>
                  <a:lnTo>
                    <a:pt x="1439" y="1482"/>
                  </a:lnTo>
                  <a:lnTo>
                    <a:pt x="1664" y="1579"/>
                  </a:lnTo>
                  <a:lnTo>
                    <a:pt x="1730" y="1407"/>
                  </a:lnTo>
                  <a:lnTo>
                    <a:pt x="1765" y="1416"/>
                  </a:lnTo>
                  <a:lnTo>
                    <a:pt x="1739" y="1695"/>
                  </a:lnTo>
                  <a:lnTo>
                    <a:pt x="1774" y="1854"/>
                  </a:lnTo>
                  <a:lnTo>
                    <a:pt x="1607" y="1889"/>
                  </a:lnTo>
                  <a:lnTo>
                    <a:pt x="1204" y="1862"/>
                  </a:lnTo>
                  <a:lnTo>
                    <a:pt x="1301" y="1796"/>
                  </a:lnTo>
                  <a:lnTo>
                    <a:pt x="1240" y="1682"/>
                  </a:lnTo>
                  <a:lnTo>
                    <a:pt x="1310" y="1655"/>
                  </a:lnTo>
                  <a:lnTo>
                    <a:pt x="1134" y="1592"/>
                  </a:lnTo>
                  <a:lnTo>
                    <a:pt x="1134" y="1708"/>
                  </a:lnTo>
                  <a:lnTo>
                    <a:pt x="1090" y="1845"/>
                  </a:lnTo>
                  <a:lnTo>
                    <a:pt x="940" y="1902"/>
                  </a:lnTo>
                  <a:lnTo>
                    <a:pt x="962" y="1884"/>
                  </a:lnTo>
                  <a:lnTo>
                    <a:pt x="856" y="1623"/>
                  </a:lnTo>
                  <a:lnTo>
                    <a:pt x="649" y="1478"/>
                  </a:lnTo>
                  <a:lnTo>
                    <a:pt x="440" y="1447"/>
                  </a:lnTo>
                  <a:lnTo>
                    <a:pt x="499" y="1522"/>
                  </a:lnTo>
                  <a:lnTo>
                    <a:pt x="464" y="1535"/>
                  </a:lnTo>
                  <a:lnTo>
                    <a:pt x="583" y="1566"/>
                  </a:lnTo>
                  <a:lnTo>
                    <a:pt x="794" y="1743"/>
                  </a:lnTo>
                  <a:lnTo>
                    <a:pt x="882" y="1840"/>
                  </a:lnTo>
                  <a:lnTo>
                    <a:pt x="724" y="1832"/>
                  </a:lnTo>
                  <a:lnTo>
                    <a:pt x="552" y="1779"/>
                  </a:lnTo>
                  <a:lnTo>
                    <a:pt x="693" y="1902"/>
                  </a:lnTo>
                  <a:lnTo>
                    <a:pt x="556" y="1951"/>
                  </a:lnTo>
                  <a:lnTo>
                    <a:pt x="388" y="2061"/>
                  </a:lnTo>
                  <a:lnTo>
                    <a:pt x="640" y="1995"/>
                  </a:lnTo>
                  <a:lnTo>
                    <a:pt x="410" y="2175"/>
                  </a:lnTo>
                  <a:lnTo>
                    <a:pt x="194" y="2175"/>
                  </a:lnTo>
                  <a:lnTo>
                    <a:pt x="163" y="2101"/>
                  </a:lnTo>
                  <a:lnTo>
                    <a:pt x="233" y="1796"/>
                  </a:lnTo>
                  <a:lnTo>
                    <a:pt x="207" y="1673"/>
                  </a:lnTo>
                  <a:lnTo>
                    <a:pt x="0" y="931"/>
                  </a:lnTo>
                  <a:lnTo>
                    <a:pt x="61" y="574"/>
                  </a:lnTo>
                  <a:lnTo>
                    <a:pt x="233" y="44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7068960" y="4746600"/>
              <a:ext cx="232200" cy="178200"/>
            </a:xfrm>
            <a:custGeom>
              <a:avLst/>
              <a:gdLst/>
              <a:ahLst/>
              <a:rect l="0" t="0" r="r" b="b"/>
              <a:pathLst>
                <a:path w="645" h="495">
                  <a:moveTo>
                    <a:pt x="0" y="309"/>
                  </a:moveTo>
                  <a:lnTo>
                    <a:pt x="61" y="164"/>
                  </a:lnTo>
                  <a:lnTo>
                    <a:pt x="61" y="278"/>
                  </a:lnTo>
                  <a:lnTo>
                    <a:pt x="230" y="79"/>
                  </a:lnTo>
                  <a:lnTo>
                    <a:pt x="292" y="495"/>
                  </a:lnTo>
                  <a:lnTo>
                    <a:pt x="322" y="181"/>
                  </a:lnTo>
                  <a:lnTo>
                    <a:pt x="472" y="57"/>
                  </a:lnTo>
                  <a:lnTo>
                    <a:pt x="566" y="79"/>
                  </a:lnTo>
                  <a:lnTo>
                    <a:pt x="645" y="4"/>
                  </a:lnTo>
                  <a:lnTo>
                    <a:pt x="548" y="30"/>
                  </a:lnTo>
                  <a:lnTo>
                    <a:pt x="500" y="30"/>
                  </a:lnTo>
                  <a:lnTo>
                    <a:pt x="472" y="0"/>
                  </a:lnTo>
                  <a:lnTo>
                    <a:pt x="397" y="57"/>
                  </a:lnTo>
                  <a:lnTo>
                    <a:pt x="300" y="35"/>
                  </a:lnTo>
                  <a:lnTo>
                    <a:pt x="217" y="30"/>
                  </a:lnTo>
                  <a:lnTo>
                    <a:pt x="97" y="61"/>
                  </a:lnTo>
                  <a:lnTo>
                    <a:pt x="17" y="155"/>
                  </a:lnTo>
                  <a:lnTo>
                    <a:pt x="0" y="309"/>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7321680" y="4910040"/>
              <a:ext cx="219600" cy="451080"/>
            </a:xfrm>
            <a:custGeom>
              <a:avLst/>
              <a:gdLst/>
              <a:ahLst/>
              <a:rect l="0" t="0" r="r" b="b"/>
              <a:pathLst>
                <a:path w="610" h="1253">
                  <a:moveTo>
                    <a:pt x="362" y="132"/>
                  </a:moveTo>
                  <a:lnTo>
                    <a:pt x="362" y="339"/>
                  </a:lnTo>
                  <a:lnTo>
                    <a:pt x="287" y="471"/>
                  </a:lnTo>
                  <a:lnTo>
                    <a:pt x="181" y="339"/>
                  </a:lnTo>
                  <a:lnTo>
                    <a:pt x="97" y="207"/>
                  </a:lnTo>
                  <a:lnTo>
                    <a:pt x="181" y="675"/>
                  </a:lnTo>
                  <a:lnTo>
                    <a:pt x="159" y="993"/>
                  </a:lnTo>
                  <a:lnTo>
                    <a:pt x="0" y="1226"/>
                  </a:lnTo>
                  <a:lnTo>
                    <a:pt x="127" y="1253"/>
                  </a:lnTo>
                  <a:lnTo>
                    <a:pt x="274" y="1169"/>
                  </a:lnTo>
                  <a:lnTo>
                    <a:pt x="239" y="662"/>
                  </a:lnTo>
                  <a:lnTo>
                    <a:pt x="384" y="825"/>
                  </a:lnTo>
                  <a:lnTo>
                    <a:pt x="482" y="825"/>
                  </a:lnTo>
                  <a:lnTo>
                    <a:pt x="402" y="737"/>
                  </a:lnTo>
                  <a:lnTo>
                    <a:pt x="393" y="604"/>
                  </a:lnTo>
                  <a:lnTo>
                    <a:pt x="437" y="471"/>
                  </a:lnTo>
                  <a:lnTo>
                    <a:pt x="495" y="383"/>
                  </a:lnTo>
                  <a:lnTo>
                    <a:pt x="544" y="313"/>
                  </a:lnTo>
                  <a:lnTo>
                    <a:pt x="575" y="423"/>
                  </a:lnTo>
                  <a:lnTo>
                    <a:pt x="610" y="317"/>
                  </a:lnTo>
                  <a:lnTo>
                    <a:pt x="588" y="233"/>
                  </a:lnTo>
                  <a:lnTo>
                    <a:pt x="544" y="114"/>
                  </a:lnTo>
                  <a:lnTo>
                    <a:pt x="411" y="0"/>
                  </a:lnTo>
                  <a:lnTo>
                    <a:pt x="362" y="132"/>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7524720" y="5065560"/>
              <a:ext cx="149760" cy="171720"/>
            </a:xfrm>
            <a:custGeom>
              <a:avLst/>
              <a:gdLst/>
              <a:ahLst/>
              <a:rect l="0" t="0" r="r" b="b"/>
              <a:pathLst>
                <a:path w="416" h="477">
                  <a:moveTo>
                    <a:pt x="115" y="0"/>
                  </a:moveTo>
                  <a:lnTo>
                    <a:pt x="22" y="119"/>
                  </a:lnTo>
                  <a:lnTo>
                    <a:pt x="101" y="229"/>
                  </a:lnTo>
                  <a:lnTo>
                    <a:pt x="278" y="101"/>
                  </a:lnTo>
                  <a:lnTo>
                    <a:pt x="341" y="229"/>
                  </a:lnTo>
                  <a:lnTo>
                    <a:pt x="0" y="477"/>
                  </a:lnTo>
                  <a:lnTo>
                    <a:pt x="319" y="428"/>
                  </a:lnTo>
                  <a:lnTo>
                    <a:pt x="416" y="101"/>
                  </a:lnTo>
                  <a:lnTo>
                    <a:pt x="341" y="35"/>
                  </a:lnTo>
                  <a:lnTo>
                    <a:pt x="221" y="48"/>
                  </a:lnTo>
                  <a:lnTo>
                    <a:pt x="146" y="17"/>
                  </a:lnTo>
                  <a:lnTo>
                    <a:pt x="115" y="0"/>
                  </a:lnTo>
                  <a:close/>
                </a:path>
              </a:pathLst>
            </a:custGeom>
            <a:solidFill>
              <a:srgbClr val="b2b2b2"/>
            </a:solidFill>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6935760" y="4843440"/>
              <a:ext cx="224280" cy="698760"/>
            </a:xfrm>
            <a:custGeom>
              <a:avLst/>
              <a:gdLst/>
              <a:ahLst/>
              <a:rect l="0" t="0" r="r" b="b"/>
              <a:pathLst>
                <a:path w="623" h="1941">
                  <a:moveTo>
                    <a:pt x="145" y="17"/>
                  </a:moveTo>
                  <a:lnTo>
                    <a:pt x="136" y="88"/>
                  </a:lnTo>
                  <a:lnTo>
                    <a:pt x="110" y="154"/>
                  </a:lnTo>
                  <a:lnTo>
                    <a:pt x="92" y="185"/>
                  </a:lnTo>
                  <a:lnTo>
                    <a:pt x="145" y="246"/>
                  </a:lnTo>
                  <a:lnTo>
                    <a:pt x="217" y="392"/>
                  </a:lnTo>
                  <a:lnTo>
                    <a:pt x="305" y="652"/>
                  </a:lnTo>
                  <a:lnTo>
                    <a:pt x="397" y="988"/>
                  </a:lnTo>
                  <a:lnTo>
                    <a:pt x="526" y="1434"/>
                  </a:lnTo>
                  <a:lnTo>
                    <a:pt x="623" y="1689"/>
                  </a:lnTo>
                  <a:lnTo>
                    <a:pt x="513" y="1941"/>
                  </a:lnTo>
                  <a:lnTo>
                    <a:pt x="265" y="1742"/>
                  </a:lnTo>
                  <a:lnTo>
                    <a:pt x="57" y="564"/>
                  </a:lnTo>
                  <a:lnTo>
                    <a:pt x="35" y="352"/>
                  </a:lnTo>
                  <a:lnTo>
                    <a:pt x="57" y="216"/>
                  </a:lnTo>
                  <a:lnTo>
                    <a:pt x="57" y="185"/>
                  </a:lnTo>
                  <a:lnTo>
                    <a:pt x="0" y="110"/>
                  </a:lnTo>
                  <a:lnTo>
                    <a:pt x="8" y="0"/>
                  </a:lnTo>
                  <a:lnTo>
                    <a:pt x="119" y="8"/>
                  </a:lnTo>
                  <a:lnTo>
                    <a:pt x="145" y="17"/>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a:off x="6926400" y="4843440"/>
              <a:ext cx="233640" cy="705240"/>
            </a:xfrm>
            <a:custGeom>
              <a:avLst/>
              <a:gdLst/>
              <a:ahLst/>
              <a:rect l="0" t="0" r="r" b="b"/>
              <a:pathLst>
                <a:path w="649" h="1959">
                  <a:moveTo>
                    <a:pt x="114" y="8"/>
                  </a:moveTo>
                  <a:lnTo>
                    <a:pt x="97" y="202"/>
                  </a:lnTo>
                  <a:lnTo>
                    <a:pt x="136" y="534"/>
                  </a:lnTo>
                  <a:lnTo>
                    <a:pt x="207" y="900"/>
                  </a:lnTo>
                  <a:lnTo>
                    <a:pt x="344" y="1479"/>
                  </a:lnTo>
                  <a:lnTo>
                    <a:pt x="375" y="1721"/>
                  </a:lnTo>
                  <a:lnTo>
                    <a:pt x="521" y="1876"/>
                  </a:lnTo>
                  <a:lnTo>
                    <a:pt x="609" y="1673"/>
                  </a:lnTo>
                  <a:lnTo>
                    <a:pt x="477" y="1341"/>
                  </a:lnTo>
                  <a:lnTo>
                    <a:pt x="389" y="993"/>
                  </a:lnTo>
                  <a:lnTo>
                    <a:pt x="317" y="693"/>
                  </a:lnTo>
                  <a:lnTo>
                    <a:pt x="211" y="374"/>
                  </a:lnTo>
                  <a:lnTo>
                    <a:pt x="158" y="246"/>
                  </a:lnTo>
                  <a:lnTo>
                    <a:pt x="127" y="185"/>
                  </a:lnTo>
                  <a:lnTo>
                    <a:pt x="211" y="308"/>
                  </a:lnTo>
                  <a:lnTo>
                    <a:pt x="304" y="587"/>
                  </a:lnTo>
                  <a:lnTo>
                    <a:pt x="424" y="949"/>
                  </a:lnTo>
                  <a:lnTo>
                    <a:pt x="538" y="1350"/>
                  </a:lnTo>
                  <a:lnTo>
                    <a:pt x="591" y="1536"/>
                  </a:lnTo>
                  <a:lnTo>
                    <a:pt x="649" y="1673"/>
                  </a:lnTo>
                  <a:lnTo>
                    <a:pt x="538" y="1959"/>
                  </a:lnTo>
                  <a:lnTo>
                    <a:pt x="282" y="1735"/>
                  </a:lnTo>
                  <a:lnTo>
                    <a:pt x="185" y="1196"/>
                  </a:lnTo>
                  <a:lnTo>
                    <a:pt x="88" y="569"/>
                  </a:lnTo>
                  <a:lnTo>
                    <a:pt x="83" y="352"/>
                  </a:lnTo>
                  <a:lnTo>
                    <a:pt x="61" y="185"/>
                  </a:lnTo>
                  <a:lnTo>
                    <a:pt x="0" y="88"/>
                  </a:lnTo>
                  <a:lnTo>
                    <a:pt x="44" y="0"/>
                  </a:lnTo>
                  <a:lnTo>
                    <a:pt x="114" y="8"/>
                  </a:lnTo>
                  <a:close/>
                </a:path>
              </a:pathLst>
            </a:custGeom>
            <a:solidFill>
              <a:srgbClr val="622100"/>
            </a:solidFill>
            <a:ln w="12600">
              <a:solidFill>
                <a:srgbClr val="6221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7" name=""/>
            <p:cNvSpPr/>
            <p:nvPr/>
          </p:nvSpPr>
          <p:spPr>
            <a:xfrm>
              <a:off x="6715080" y="4818240"/>
              <a:ext cx="155880" cy="294120"/>
            </a:xfrm>
            <a:custGeom>
              <a:avLst/>
              <a:gdLst/>
              <a:ahLst/>
              <a:rect l="0" t="0" r="r" b="b"/>
              <a:pathLst>
                <a:path w="433" h="817">
                  <a:moveTo>
                    <a:pt x="26" y="751"/>
                  </a:moveTo>
                  <a:lnTo>
                    <a:pt x="26" y="623"/>
                  </a:lnTo>
                  <a:lnTo>
                    <a:pt x="0" y="292"/>
                  </a:lnTo>
                  <a:lnTo>
                    <a:pt x="26" y="221"/>
                  </a:lnTo>
                  <a:lnTo>
                    <a:pt x="217" y="0"/>
                  </a:lnTo>
                  <a:lnTo>
                    <a:pt x="393" y="39"/>
                  </a:lnTo>
                  <a:lnTo>
                    <a:pt x="433" y="145"/>
                  </a:lnTo>
                  <a:lnTo>
                    <a:pt x="393" y="198"/>
                  </a:lnTo>
                  <a:lnTo>
                    <a:pt x="424" y="375"/>
                  </a:lnTo>
                  <a:lnTo>
                    <a:pt x="362" y="389"/>
                  </a:lnTo>
                  <a:lnTo>
                    <a:pt x="344" y="569"/>
                  </a:lnTo>
                  <a:lnTo>
                    <a:pt x="305" y="645"/>
                  </a:lnTo>
                  <a:lnTo>
                    <a:pt x="265" y="703"/>
                  </a:lnTo>
                  <a:lnTo>
                    <a:pt x="225" y="751"/>
                  </a:lnTo>
                  <a:lnTo>
                    <a:pt x="198" y="817"/>
                  </a:lnTo>
                  <a:lnTo>
                    <a:pt x="70" y="800"/>
                  </a:lnTo>
                  <a:lnTo>
                    <a:pt x="26" y="751"/>
                  </a:lnTo>
                  <a:close/>
                </a:path>
              </a:pathLst>
            </a:custGeom>
            <a:solidFill>
              <a:srgbClr val="ad6900"/>
            </a:solidFill>
            <a:ln w="12600">
              <a:solidFill>
                <a:srgbClr val="6221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6727680" y="4367160"/>
              <a:ext cx="349560" cy="465480"/>
            </a:xfrm>
            <a:custGeom>
              <a:avLst/>
              <a:gdLst/>
              <a:ahLst/>
              <a:rect l="0" t="0" r="r" b="b"/>
              <a:pathLst>
                <a:path w="971" h="1293">
                  <a:moveTo>
                    <a:pt x="30" y="564"/>
                  </a:moveTo>
                  <a:lnTo>
                    <a:pt x="0" y="621"/>
                  </a:lnTo>
                  <a:lnTo>
                    <a:pt x="0" y="728"/>
                  </a:lnTo>
                  <a:lnTo>
                    <a:pt x="66" y="821"/>
                  </a:lnTo>
                  <a:lnTo>
                    <a:pt x="154" y="887"/>
                  </a:lnTo>
                  <a:lnTo>
                    <a:pt x="180" y="887"/>
                  </a:lnTo>
                  <a:lnTo>
                    <a:pt x="229" y="997"/>
                  </a:lnTo>
                  <a:lnTo>
                    <a:pt x="264" y="1103"/>
                  </a:lnTo>
                  <a:lnTo>
                    <a:pt x="339" y="1191"/>
                  </a:lnTo>
                  <a:lnTo>
                    <a:pt x="418" y="1240"/>
                  </a:lnTo>
                  <a:lnTo>
                    <a:pt x="530" y="1279"/>
                  </a:lnTo>
                  <a:lnTo>
                    <a:pt x="644" y="1293"/>
                  </a:lnTo>
                  <a:lnTo>
                    <a:pt x="715" y="1253"/>
                  </a:lnTo>
                  <a:lnTo>
                    <a:pt x="763" y="1178"/>
                  </a:lnTo>
                  <a:lnTo>
                    <a:pt x="816" y="1085"/>
                  </a:lnTo>
                  <a:lnTo>
                    <a:pt x="838" y="997"/>
                  </a:lnTo>
                  <a:lnTo>
                    <a:pt x="856" y="838"/>
                  </a:lnTo>
                  <a:lnTo>
                    <a:pt x="904" y="794"/>
                  </a:lnTo>
                  <a:lnTo>
                    <a:pt x="966" y="706"/>
                  </a:lnTo>
                  <a:lnTo>
                    <a:pt x="971" y="608"/>
                  </a:lnTo>
                  <a:lnTo>
                    <a:pt x="957" y="524"/>
                  </a:lnTo>
                  <a:lnTo>
                    <a:pt x="949" y="498"/>
                  </a:lnTo>
                  <a:lnTo>
                    <a:pt x="904" y="471"/>
                  </a:lnTo>
                  <a:lnTo>
                    <a:pt x="838" y="255"/>
                  </a:lnTo>
                  <a:lnTo>
                    <a:pt x="759" y="74"/>
                  </a:lnTo>
                  <a:lnTo>
                    <a:pt x="521" y="0"/>
                  </a:lnTo>
                  <a:lnTo>
                    <a:pt x="207" y="70"/>
                  </a:lnTo>
                  <a:lnTo>
                    <a:pt x="66" y="198"/>
                  </a:lnTo>
                  <a:lnTo>
                    <a:pt x="35" y="339"/>
                  </a:lnTo>
                  <a:lnTo>
                    <a:pt x="35" y="520"/>
                  </a:lnTo>
                  <a:lnTo>
                    <a:pt x="30" y="564"/>
                  </a:lnTo>
                  <a:close/>
                </a:path>
              </a:pathLst>
            </a:custGeom>
            <a:solidFill>
              <a:srgbClr val="ad6900"/>
            </a:solidFill>
            <a:ln w="12600">
              <a:solidFill>
                <a:srgbClr val="6221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6819840" y="4603680"/>
              <a:ext cx="68760" cy="25920"/>
            </a:xfrm>
            <a:custGeom>
              <a:avLst/>
              <a:gdLst/>
              <a:ahLst/>
              <a:rect l="0" t="0" r="r" b="b"/>
              <a:pathLst>
                <a:path w="191" h="72">
                  <a:moveTo>
                    <a:pt x="0" y="27"/>
                  </a:moveTo>
                  <a:lnTo>
                    <a:pt x="35" y="63"/>
                  </a:lnTo>
                  <a:lnTo>
                    <a:pt x="71" y="72"/>
                  </a:lnTo>
                  <a:lnTo>
                    <a:pt x="89" y="72"/>
                  </a:lnTo>
                  <a:lnTo>
                    <a:pt x="128" y="72"/>
                  </a:lnTo>
                  <a:lnTo>
                    <a:pt x="191" y="31"/>
                  </a:lnTo>
                  <a:lnTo>
                    <a:pt x="160" y="0"/>
                  </a:lnTo>
                  <a:lnTo>
                    <a:pt x="98" y="4"/>
                  </a:lnTo>
                  <a:lnTo>
                    <a:pt x="35" y="23"/>
                  </a:lnTo>
                  <a:lnTo>
                    <a:pt x="0" y="27"/>
                  </a:lnTo>
                  <a:close/>
                </a:path>
              </a:pathLst>
            </a:custGeom>
            <a:solidFill>
              <a:srgbClr val="ffffff"/>
            </a:solid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sp>
          <p:nvSpPr>
            <p:cNvPr id="350" name=""/>
            <p:cNvSpPr/>
            <p:nvPr/>
          </p:nvSpPr>
          <p:spPr>
            <a:xfrm>
              <a:off x="6939000" y="4589640"/>
              <a:ext cx="59040" cy="25920"/>
            </a:xfrm>
            <a:custGeom>
              <a:avLst/>
              <a:gdLst/>
              <a:ahLst/>
              <a:rect l="0" t="0" r="r" b="b"/>
              <a:pathLst>
                <a:path w="164" h="72">
                  <a:moveTo>
                    <a:pt x="0" y="63"/>
                  </a:moveTo>
                  <a:lnTo>
                    <a:pt x="30" y="4"/>
                  </a:lnTo>
                  <a:lnTo>
                    <a:pt x="93" y="0"/>
                  </a:lnTo>
                  <a:lnTo>
                    <a:pt x="164" y="4"/>
                  </a:lnTo>
                  <a:lnTo>
                    <a:pt x="159" y="23"/>
                  </a:lnTo>
                  <a:lnTo>
                    <a:pt x="137" y="49"/>
                  </a:lnTo>
                  <a:lnTo>
                    <a:pt x="84" y="72"/>
                  </a:lnTo>
                  <a:lnTo>
                    <a:pt x="39" y="72"/>
                  </a:lnTo>
                  <a:lnTo>
                    <a:pt x="4" y="72"/>
                  </a:lnTo>
                  <a:lnTo>
                    <a:pt x="0" y="63"/>
                  </a:lnTo>
                  <a:close/>
                </a:path>
              </a:pathLst>
            </a:custGeom>
            <a:solidFill>
              <a:srgbClr val="ffffff"/>
            </a:solid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sp>
          <p:nvSpPr>
            <p:cNvPr id="351" name=""/>
            <p:cNvSpPr/>
            <p:nvPr/>
          </p:nvSpPr>
          <p:spPr>
            <a:xfrm>
              <a:off x="4925880" y="4727520"/>
              <a:ext cx="146520" cy="101880"/>
            </a:xfrm>
            <a:custGeom>
              <a:avLst/>
              <a:gdLst/>
              <a:ahLst/>
              <a:rect l="0" t="0" r="r" b="b"/>
              <a:pathLst>
                <a:path w="407" h="283">
                  <a:moveTo>
                    <a:pt x="39" y="186"/>
                  </a:moveTo>
                  <a:lnTo>
                    <a:pt x="92" y="142"/>
                  </a:lnTo>
                  <a:lnTo>
                    <a:pt x="124" y="127"/>
                  </a:lnTo>
                  <a:lnTo>
                    <a:pt x="230" y="127"/>
                  </a:lnTo>
                  <a:lnTo>
                    <a:pt x="283" y="132"/>
                  </a:lnTo>
                  <a:lnTo>
                    <a:pt x="146" y="79"/>
                  </a:lnTo>
                  <a:lnTo>
                    <a:pt x="44" y="79"/>
                  </a:lnTo>
                  <a:lnTo>
                    <a:pt x="4" y="66"/>
                  </a:lnTo>
                  <a:lnTo>
                    <a:pt x="0" y="61"/>
                  </a:lnTo>
                  <a:lnTo>
                    <a:pt x="111" y="0"/>
                  </a:lnTo>
                  <a:lnTo>
                    <a:pt x="168" y="8"/>
                  </a:lnTo>
                  <a:lnTo>
                    <a:pt x="230" y="52"/>
                  </a:lnTo>
                  <a:lnTo>
                    <a:pt x="306" y="88"/>
                  </a:lnTo>
                  <a:lnTo>
                    <a:pt x="368" y="105"/>
                  </a:lnTo>
                  <a:lnTo>
                    <a:pt x="407" y="159"/>
                  </a:lnTo>
                  <a:lnTo>
                    <a:pt x="390" y="203"/>
                  </a:lnTo>
                  <a:lnTo>
                    <a:pt x="359" y="203"/>
                  </a:lnTo>
                  <a:lnTo>
                    <a:pt x="319" y="256"/>
                  </a:lnTo>
                  <a:lnTo>
                    <a:pt x="278" y="265"/>
                  </a:lnTo>
                  <a:lnTo>
                    <a:pt x="212" y="283"/>
                  </a:lnTo>
                  <a:lnTo>
                    <a:pt x="265" y="225"/>
                  </a:lnTo>
                  <a:lnTo>
                    <a:pt x="296" y="190"/>
                  </a:lnTo>
                  <a:lnTo>
                    <a:pt x="296" y="177"/>
                  </a:lnTo>
                  <a:lnTo>
                    <a:pt x="265" y="168"/>
                  </a:lnTo>
                  <a:lnTo>
                    <a:pt x="225" y="155"/>
                  </a:lnTo>
                  <a:lnTo>
                    <a:pt x="212" y="190"/>
                  </a:lnTo>
                  <a:lnTo>
                    <a:pt x="208" y="164"/>
                  </a:lnTo>
                  <a:lnTo>
                    <a:pt x="195" y="164"/>
                  </a:lnTo>
                  <a:lnTo>
                    <a:pt x="190" y="181"/>
                  </a:lnTo>
                  <a:lnTo>
                    <a:pt x="203" y="195"/>
                  </a:lnTo>
                  <a:lnTo>
                    <a:pt x="203" y="212"/>
                  </a:lnTo>
                  <a:lnTo>
                    <a:pt x="61" y="195"/>
                  </a:lnTo>
                  <a:lnTo>
                    <a:pt x="39" y="186"/>
                  </a:lnTo>
                  <a:close/>
                </a:path>
              </a:pathLst>
            </a:custGeom>
            <a:solidFill>
              <a:srgbClr val="000000"/>
            </a:solidFill>
            <a:ln w="12600">
              <a:solidFill>
                <a:srgbClr val="000000"/>
              </a:solidFill>
              <a:round/>
            </a:ln>
          </p:spPr>
          <p:txBody>
            <a:bodyPr lIns="96120" rIns="96120" tIns="50760" bIns="50760" anchor="t">
              <a:noAutofit/>
            </a:bodyPr>
            <a:p>
              <a:endParaRPr b="0" lang="en-US" sz="1800" spc="-1" strike="noStrike">
                <a:solidFill>
                  <a:srgbClr val="ffffff"/>
                </a:solidFill>
                <a:latin typeface="Arial"/>
              </a:endParaRPr>
            </a:p>
          </p:txBody>
        </p:sp>
        <p:sp>
          <p:nvSpPr>
            <p:cNvPr id="352" name=""/>
            <p:cNvSpPr/>
            <p:nvPr/>
          </p:nvSpPr>
          <p:spPr>
            <a:xfrm>
              <a:off x="4952880" y="4808520"/>
              <a:ext cx="60840" cy="12960"/>
            </a:xfrm>
            <a:custGeom>
              <a:avLst/>
              <a:gdLst/>
              <a:ahLst/>
              <a:rect l="0" t="0" r="r" b="b"/>
              <a:pathLst>
                <a:path w="169" h="36">
                  <a:moveTo>
                    <a:pt x="0" y="0"/>
                  </a:moveTo>
                  <a:lnTo>
                    <a:pt x="30" y="23"/>
                  </a:lnTo>
                  <a:lnTo>
                    <a:pt x="106" y="36"/>
                  </a:lnTo>
                  <a:lnTo>
                    <a:pt x="169" y="0"/>
                  </a:lnTo>
                  <a:lnTo>
                    <a:pt x="98" y="8"/>
                  </a:lnTo>
                  <a:lnTo>
                    <a:pt x="0" y="0"/>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353" name=""/>
            <p:cNvSpPr/>
            <p:nvPr/>
          </p:nvSpPr>
          <p:spPr>
            <a:xfrm>
              <a:off x="5013360" y="4780080"/>
              <a:ext cx="14760" cy="28800"/>
            </a:xfrm>
            <a:custGeom>
              <a:avLst/>
              <a:gdLst/>
              <a:ahLst/>
              <a:rect l="0" t="0" r="r" b="b"/>
              <a:pathLst>
                <a:path w="41" h="80">
                  <a:moveTo>
                    <a:pt x="0" y="0"/>
                  </a:moveTo>
                  <a:lnTo>
                    <a:pt x="37" y="80"/>
                  </a:lnTo>
                  <a:lnTo>
                    <a:pt x="41" y="67"/>
                  </a:lnTo>
                  <a:lnTo>
                    <a:pt x="23" y="13"/>
                  </a:lnTo>
                  <a:lnTo>
                    <a:pt x="0" y="0"/>
                  </a:lnTo>
                  <a:close/>
                </a:path>
              </a:pathLst>
            </a:custGeom>
            <a:solidFill>
              <a:srgbClr val="000000"/>
            </a:solidFill>
            <a:ln w="12600">
              <a:solidFill>
                <a:srgbClr val="000000"/>
              </a:solidFill>
              <a:round/>
            </a:ln>
          </p:spPr>
          <p:txBody>
            <a:bodyPr lIns="96120" rIns="96120" tIns="-22320" bIns="-22320" anchor="t">
              <a:noAutofit/>
            </a:bodyPr>
            <a:p>
              <a:endParaRPr b="0" lang="en-US" sz="1800" spc="-1" strike="noStrike">
                <a:solidFill>
                  <a:srgbClr val="ffffff"/>
                </a:solidFill>
                <a:latin typeface="Arial"/>
              </a:endParaRPr>
            </a:p>
          </p:txBody>
        </p:sp>
        <p:sp>
          <p:nvSpPr>
            <p:cNvPr id="354" name=""/>
            <p:cNvSpPr/>
            <p:nvPr/>
          </p:nvSpPr>
          <p:spPr>
            <a:xfrm>
              <a:off x="5084640" y="4778280"/>
              <a:ext cx="111600" cy="147960"/>
            </a:xfrm>
            <a:custGeom>
              <a:avLst/>
              <a:gdLst/>
              <a:ahLst/>
              <a:rect l="0" t="0" r="r" b="b"/>
              <a:pathLst>
                <a:path w="310" h="411">
                  <a:moveTo>
                    <a:pt x="0" y="8"/>
                  </a:moveTo>
                  <a:lnTo>
                    <a:pt x="0" y="48"/>
                  </a:lnTo>
                  <a:lnTo>
                    <a:pt x="22" y="83"/>
                  </a:lnTo>
                  <a:lnTo>
                    <a:pt x="8" y="309"/>
                  </a:lnTo>
                  <a:lnTo>
                    <a:pt x="26" y="411"/>
                  </a:lnTo>
                  <a:lnTo>
                    <a:pt x="22" y="305"/>
                  </a:lnTo>
                  <a:lnTo>
                    <a:pt x="26" y="171"/>
                  </a:lnTo>
                  <a:lnTo>
                    <a:pt x="111" y="230"/>
                  </a:lnTo>
                  <a:lnTo>
                    <a:pt x="80" y="163"/>
                  </a:lnTo>
                  <a:lnTo>
                    <a:pt x="150" y="189"/>
                  </a:lnTo>
                  <a:lnTo>
                    <a:pt x="208" y="176"/>
                  </a:lnTo>
                  <a:lnTo>
                    <a:pt x="150" y="163"/>
                  </a:lnTo>
                  <a:lnTo>
                    <a:pt x="150" y="145"/>
                  </a:lnTo>
                  <a:lnTo>
                    <a:pt x="177" y="127"/>
                  </a:lnTo>
                  <a:lnTo>
                    <a:pt x="221" y="171"/>
                  </a:lnTo>
                  <a:lnTo>
                    <a:pt x="248" y="149"/>
                  </a:lnTo>
                  <a:lnTo>
                    <a:pt x="190" y="92"/>
                  </a:lnTo>
                  <a:lnTo>
                    <a:pt x="150" y="70"/>
                  </a:lnTo>
                  <a:lnTo>
                    <a:pt x="150" y="57"/>
                  </a:lnTo>
                  <a:lnTo>
                    <a:pt x="244" y="74"/>
                  </a:lnTo>
                  <a:lnTo>
                    <a:pt x="270" y="105"/>
                  </a:lnTo>
                  <a:lnTo>
                    <a:pt x="262" y="132"/>
                  </a:lnTo>
                  <a:lnTo>
                    <a:pt x="310" y="110"/>
                  </a:lnTo>
                  <a:lnTo>
                    <a:pt x="310" y="44"/>
                  </a:lnTo>
                  <a:lnTo>
                    <a:pt x="279" y="13"/>
                  </a:lnTo>
                  <a:lnTo>
                    <a:pt x="203" y="13"/>
                  </a:lnTo>
                  <a:lnTo>
                    <a:pt x="57" y="0"/>
                  </a:lnTo>
                  <a:lnTo>
                    <a:pt x="26" y="8"/>
                  </a:lnTo>
                  <a:lnTo>
                    <a:pt x="0" y="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5" name=""/>
            <p:cNvSpPr/>
            <p:nvPr/>
          </p:nvSpPr>
          <p:spPr>
            <a:xfrm>
              <a:off x="5079960" y="4935600"/>
              <a:ext cx="12960" cy="19440"/>
            </a:xfrm>
            <a:custGeom>
              <a:avLst/>
              <a:gdLst/>
              <a:ahLst/>
              <a:rect l="0" t="0" r="r" b="b"/>
              <a:pathLst>
                <a:path w="36" h="54">
                  <a:moveTo>
                    <a:pt x="0" y="41"/>
                  </a:moveTo>
                  <a:lnTo>
                    <a:pt x="23" y="54"/>
                  </a:lnTo>
                  <a:lnTo>
                    <a:pt x="36" y="46"/>
                  </a:lnTo>
                  <a:lnTo>
                    <a:pt x="27" y="0"/>
                  </a:lnTo>
                  <a:lnTo>
                    <a:pt x="0" y="41"/>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356" name=""/>
            <p:cNvSpPr/>
            <p:nvPr/>
          </p:nvSpPr>
          <p:spPr>
            <a:xfrm>
              <a:off x="4935600" y="4917960"/>
              <a:ext cx="173520" cy="100440"/>
            </a:xfrm>
            <a:custGeom>
              <a:avLst/>
              <a:gdLst/>
              <a:ahLst/>
              <a:rect l="0" t="0" r="r" b="b"/>
              <a:pathLst>
                <a:path w="482" h="279">
                  <a:moveTo>
                    <a:pt x="381" y="89"/>
                  </a:moveTo>
                  <a:lnTo>
                    <a:pt x="344" y="93"/>
                  </a:lnTo>
                  <a:lnTo>
                    <a:pt x="274" y="17"/>
                  </a:lnTo>
                  <a:lnTo>
                    <a:pt x="230" y="0"/>
                  </a:lnTo>
                  <a:lnTo>
                    <a:pt x="168" y="22"/>
                  </a:lnTo>
                  <a:lnTo>
                    <a:pt x="168" y="44"/>
                  </a:lnTo>
                  <a:lnTo>
                    <a:pt x="195" y="52"/>
                  </a:lnTo>
                  <a:lnTo>
                    <a:pt x="92" y="84"/>
                  </a:lnTo>
                  <a:lnTo>
                    <a:pt x="0" y="150"/>
                  </a:lnTo>
                  <a:lnTo>
                    <a:pt x="17" y="181"/>
                  </a:lnTo>
                  <a:lnTo>
                    <a:pt x="74" y="177"/>
                  </a:lnTo>
                  <a:lnTo>
                    <a:pt x="119" y="190"/>
                  </a:lnTo>
                  <a:lnTo>
                    <a:pt x="181" y="159"/>
                  </a:lnTo>
                  <a:lnTo>
                    <a:pt x="261" y="172"/>
                  </a:lnTo>
                  <a:lnTo>
                    <a:pt x="340" y="164"/>
                  </a:lnTo>
                  <a:lnTo>
                    <a:pt x="390" y="208"/>
                  </a:lnTo>
                  <a:lnTo>
                    <a:pt x="425" y="222"/>
                  </a:lnTo>
                  <a:lnTo>
                    <a:pt x="465" y="279"/>
                  </a:lnTo>
                  <a:lnTo>
                    <a:pt x="482" y="270"/>
                  </a:lnTo>
                  <a:lnTo>
                    <a:pt x="482" y="181"/>
                  </a:lnTo>
                  <a:lnTo>
                    <a:pt x="425" y="84"/>
                  </a:lnTo>
                  <a:lnTo>
                    <a:pt x="381" y="89"/>
                  </a:lnTo>
                  <a:close/>
                </a:path>
              </a:pathLst>
            </a:custGeom>
            <a:solidFill>
              <a:srgbClr val="000000"/>
            </a:solidFill>
            <a:ln w="12600">
              <a:solidFill>
                <a:srgbClr val="000000"/>
              </a:solidFill>
              <a:round/>
            </a:ln>
          </p:spPr>
          <p:txBody>
            <a:bodyPr lIns="96120" rIns="96120" tIns="49320" bIns="49320" anchor="t">
              <a:noAutofit/>
            </a:bodyPr>
            <a:p>
              <a:endParaRPr b="0" lang="en-US" sz="1800" spc="-1" strike="noStrike">
                <a:solidFill>
                  <a:srgbClr val="ffffff"/>
                </a:solidFill>
                <a:latin typeface="Arial"/>
              </a:endParaRPr>
            </a:p>
          </p:txBody>
        </p:sp>
        <p:sp>
          <p:nvSpPr>
            <p:cNvPr id="357" name=""/>
            <p:cNvSpPr/>
            <p:nvPr/>
          </p:nvSpPr>
          <p:spPr>
            <a:xfrm>
              <a:off x="5029200" y="4871880"/>
              <a:ext cx="20880" cy="24120"/>
            </a:xfrm>
            <a:custGeom>
              <a:avLst/>
              <a:gdLst/>
              <a:ahLst/>
              <a:rect l="0" t="0" r="r" b="b"/>
              <a:pathLst>
                <a:path w="58" h="67">
                  <a:moveTo>
                    <a:pt x="0" y="45"/>
                  </a:moveTo>
                  <a:lnTo>
                    <a:pt x="31" y="67"/>
                  </a:lnTo>
                  <a:lnTo>
                    <a:pt x="58" y="22"/>
                  </a:lnTo>
                  <a:lnTo>
                    <a:pt x="49" y="0"/>
                  </a:lnTo>
                  <a:lnTo>
                    <a:pt x="0" y="45"/>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358" name=""/>
            <p:cNvSpPr/>
            <p:nvPr/>
          </p:nvSpPr>
          <p:spPr>
            <a:xfrm>
              <a:off x="4995720" y="4997520"/>
              <a:ext cx="79560" cy="36720"/>
            </a:xfrm>
            <a:custGeom>
              <a:avLst/>
              <a:gdLst/>
              <a:ahLst/>
              <a:rect l="0" t="0" r="r" b="b"/>
              <a:pathLst>
                <a:path w="221" h="102">
                  <a:moveTo>
                    <a:pt x="0" y="17"/>
                  </a:moveTo>
                  <a:lnTo>
                    <a:pt x="35" y="0"/>
                  </a:lnTo>
                  <a:lnTo>
                    <a:pt x="221" y="30"/>
                  </a:lnTo>
                  <a:lnTo>
                    <a:pt x="203" y="102"/>
                  </a:lnTo>
                  <a:lnTo>
                    <a:pt x="164" y="75"/>
                  </a:lnTo>
                  <a:lnTo>
                    <a:pt x="22" y="75"/>
                  </a:lnTo>
                  <a:lnTo>
                    <a:pt x="0" y="17"/>
                  </a:lnTo>
                  <a:close/>
                </a:path>
              </a:pathLst>
            </a:custGeom>
            <a:solidFill>
              <a:srgbClr val="000000"/>
            </a:solidFill>
            <a:ln w="12600">
              <a:solidFill>
                <a:srgbClr val="000000"/>
              </a:solidFill>
              <a:round/>
            </a:ln>
          </p:spPr>
          <p:txBody>
            <a:bodyPr lIns="96120" rIns="96120" tIns="-14400" bIns="-14400" anchor="t">
              <a:noAutofit/>
            </a:bodyPr>
            <a:p>
              <a:endParaRPr b="0" lang="en-US" sz="1800" spc="-1" strike="noStrike">
                <a:solidFill>
                  <a:srgbClr val="ffffff"/>
                </a:solidFill>
                <a:latin typeface="Arial"/>
              </a:endParaRPr>
            </a:p>
          </p:txBody>
        </p:sp>
        <p:sp>
          <p:nvSpPr>
            <p:cNvPr id="359" name=""/>
            <p:cNvSpPr/>
            <p:nvPr/>
          </p:nvSpPr>
          <p:spPr>
            <a:xfrm>
              <a:off x="4861080" y="4491000"/>
              <a:ext cx="346320" cy="195480"/>
            </a:xfrm>
            <a:custGeom>
              <a:avLst/>
              <a:gdLst/>
              <a:ahLst/>
              <a:rect l="0" t="0" r="r" b="b"/>
              <a:pathLst>
                <a:path w="962" h="543">
                  <a:moveTo>
                    <a:pt x="702" y="132"/>
                  </a:moveTo>
                  <a:lnTo>
                    <a:pt x="781" y="127"/>
                  </a:lnTo>
                  <a:lnTo>
                    <a:pt x="781" y="110"/>
                  </a:lnTo>
                  <a:lnTo>
                    <a:pt x="728" y="74"/>
                  </a:lnTo>
                  <a:lnTo>
                    <a:pt x="622" y="30"/>
                  </a:lnTo>
                  <a:lnTo>
                    <a:pt x="543" y="17"/>
                  </a:lnTo>
                  <a:lnTo>
                    <a:pt x="326" y="4"/>
                  </a:lnTo>
                  <a:lnTo>
                    <a:pt x="486" y="0"/>
                  </a:lnTo>
                  <a:lnTo>
                    <a:pt x="649" y="13"/>
                  </a:lnTo>
                  <a:lnTo>
                    <a:pt x="781" y="61"/>
                  </a:lnTo>
                  <a:lnTo>
                    <a:pt x="869" y="123"/>
                  </a:lnTo>
                  <a:lnTo>
                    <a:pt x="940" y="198"/>
                  </a:lnTo>
                  <a:lnTo>
                    <a:pt x="962" y="255"/>
                  </a:lnTo>
                  <a:lnTo>
                    <a:pt x="962" y="309"/>
                  </a:lnTo>
                  <a:lnTo>
                    <a:pt x="913" y="358"/>
                  </a:lnTo>
                  <a:lnTo>
                    <a:pt x="830" y="424"/>
                  </a:lnTo>
                  <a:lnTo>
                    <a:pt x="706" y="455"/>
                  </a:lnTo>
                  <a:lnTo>
                    <a:pt x="543" y="503"/>
                  </a:lnTo>
                  <a:lnTo>
                    <a:pt x="238" y="530"/>
                  </a:lnTo>
                  <a:lnTo>
                    <a:pt x="0" y="543"/>
                  </a:lnTo>
                  <a:lnTo>
                    <a:pt x="525" y="402"/>
                  </a:lnTo>
                  <a:lnTo>
                    <a:pt x="649" y="358"/>
                  </a:lnTo>
                  <a:lnTo>
                    <a:pt x="710" y="322"/>
                  </a:lnTo>
                  <a:lnTo>
                    <a:pt x="733" y="309"/>
                  </a:lnTo>
                  <a:lnTo>
                    <a:pt x="728" y="300"/>
                  </a:lnTo>
                  <a:lnTo>
                    <a:pt x="688" y="296"/>
                  </a:lnTo>
                  <a:lnTo>
                    <a:pt x="807" y="255"/>
                  </a:lnTo>
                  <a:lnTo>
                    <a:pt x="816" y="238"/>
                  </a:lnTo>
                  <a:lnTo>
                    <a:pt x="869" y="242"/>
                  </a:lnTo>
                  <a:lnTo>
                    <a:pt x="874" y="224"/>
                  </a:lnTo>
                  <a:lnTo>
                    <a:pt x="856" y="216"/>
                  </a:lnTo>
                  <a:lnTo>
                    <a:pt x="763" y="194"/>
                  </a:lnTo>
                  <a:lnTo>
                    <a:pt x="843" y="194"/>
                  </a:lnTo>
                  <a:lnTo>
                    <a:pt x="843" y="176"/>
                  </a:lnTo>
                  <a:lnTo>
                    <a:pt x="785" y="149"/>
                  </a:lnTo>
                  <a:lnTo>
                    <a:pt x="702" y="13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0" name=""/>
            <p:cNvSpPr/>
            <p:nvPr/>
          </p:nvSpPr>
          <p:spPr>
            <a:xfrm>
              <a:off x="4734000" y="4491000"/>
              <a:ext cx="381240" cy="384480"/>
            </a:xfrm>
            <a:custGeom>
              <a:avLst/>
              <a:gdLst/>
              <a:ahLst/>
              <a:rect l="0" t="0" r="r" b="b"/>
              <a:pathLst>
                <a:path w="1059" h="1068">
                  <a:moveTo>
                    <a:pt x="449" y="533"/>
                  </a:moveTo>
                  <a:lnTo>
                    <a:pt x="374" y="640"/>
                  </a:lnTo>
                  <a:lnTo>
                    <a:pt x="361" y="702"/>
                  </a:lnTo>
                  <a:lnTo>
                    <a:pt x="317" y="746"/>
                  </a:lnTo>
                  <a:lnTo>
                    <a:pt x="268" y="891"/>
                  </a:lnTo>
                  <a:lnTo>
                    <a:pt x="216" y="882"/>
                  </a:lnTo>
                  <a:lnTo>
                    <a:pt x="180" y="790"/>
                  </a:lnTo>
                  <a:lnTo>
                    <a:pt x="136" y="768"/>
                  </a:lnTo>
                  <a:lnTo>
                    <a:pt x="88" y="781"/>
                  </a:lnTo>
                  <a:lnTo>
                    <a:pt x="52" y="843"/>
                  </a:lnTo>
                  <a:lnTo>
                    <a:pt x="74" y="1068"/>
                  </a:lnTo>
                  <a:lnTo>
                    <a:pt x="39" y="997"/>
                  </a:lnTo>
                  <a:lnTo>
                    <a:pt x="0" y="578"/>
                  </a:lnTo>
                  <a:lnTo>
                    <a:pt x="35" y="498"/>
                  </a:lnTo>
                  <a:lnTo>
                    <a:pt x="88" y="343"/>
                  </a:lnTo>
                  <a:lnTo>
                    <a:pt x="211" y="194"/>
                  </a:lnTo>
                  <a:lnTo>
                    <a:pt x="374" y="61"/>
                  </a:lnTo>
                  <a:lnTo>
                    <a:pt x="578" y="8"/>
                  </a:lnTo>
                  <a:lnTo>
                    <a:pt x="746" y="0"/>
                  </a:lnTo>
                  <a:lnTo>
                    <a:pt x="830" y="44"/>
                  </a:lnTo>
                  <a:lnTo>
                    <a:pt x="878" y="101"/>
                  </a:lnTo>
                  <a:lnTo>
                    <a:pt x="975" y="132"/>
                  </a:lnTo>
                  <a:lnTo>
                    <a:pt x="940" y="132"/>
                  </a:lnTo>
                  <a:lnTo>
                    <a:pt x="940" y="149"/>
                  </a:lnTo>
                  <a:lnTo>
                    <a:pt x="1019" y="176"/>
                  </a:lnTo>
                  <a:lnTo>
                    <a:pt x="962" y="198"/>
                  </a:lnTo>
                  <a:lnTo>
                    <a:pt x="966" y="216"/>
                  </a:lnTo>
                  <a:lnTo>
                    <a:pt x="997" y="229"/>
                  </a:lnTo>
                  <a:lnTo>
                    <a:pt x="931" y="251"/>
                  </a:lnTo>
                  <a:lnTo>
                    <a:pt x="966" y="295"/>
                  </a:lnTo>
                  <a:lnTo>
                    <a:pt x="852" y="321"/>
                  </a:lnTo>
                  <a:lnTo>
                    <a:pt x="852" y="326"/>
                  </a:lnTo>
                  <a:lnTo>
                    <a:pt x="957" y="335"/>
                  </a:lnTo>
                  <a:lnTo>
                    <a:pt x="843" y="379"/>
                  </a:lnTo>
                  <a:lnTo>
                    <a:pt x="1059" y="343"/>
                  </a:lnTo>
                  <a:lnTo>
                    <a:pt x="1046" y="423"/>
                  </a:lnTo>
                  <a:lnTo>
                    <a:pt x="662" y="502"/>
                  </a:lnTo>
                  <a:lnTo>
                    <a:pt x="449" y="53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1" name=""/>
            <p:cNvSpPr/>
            <p:nvPr/>
          </p:nvSpPr>
          <p:spPr>
            <a:xfrm>
              <a:off x="5091120" y="4618080"/>
              <a:ext cx="154440" cy="451080"/>
            </a:xfrm>
            <a:custGeom>
              <a:avLst/>
              <a:gdLst/>
              <a:ahLst/>
              <a:rect l="0" t="0" r="r" b="b"/>
              <a:pathLst>
                <a:path w="429" h="1253">
                  <a:moveTo>
                    <a:pt x="239" y="119"/>
                  </a:moveTo>
                  <a:lnTo>
                    <a:pt x="269" y="194"/>
                  </a:lnTo>
                  <a:lnTo>
                    <a:pt x="269" y="498"/>
                  </a:lnTo>
                  <a:lnTo>
                    <a:pt x="225" y="599"/>
                  </a:lnTo>
                  <a:lnTo>
                    <a:pt x="225" y="715"/>
                  </a:lnTo>
                  <a:lnTo>
                    <a:pt x="181" y="882"/>
                  </a:lnTo>
                  <a:lnTo>
                    <a:pt x="111" y="993"/>
                  </a:lnTo>
                  <a:lnTo>
                    <a:pt x="0" y="1253"/>
                  </a:lnTo>
                  <a:lnTo>
                    <a:pt x="66" y="1165"/>
                  </a:lnTo>
                  <a:lnTo>
                    <a:pt x="150" y="957"/>
                  </a:lnTo>
                  <a:lnTo>
                    <a:pt x="203" y="874"/>
                  </a:lnTo>
                  <a:lnTo>
                    <a:pt x="256" y="746"/>
                  </a:lnTo>
                  <a:lnTo>
                    <a:pt x="256" y="621"/>
                  </a:lnTo>
                  <a:lnTo>
                    <a:pt x="363" y="551"/>
                  </a:lnTo>
                  <a:lnTo>
                    <a:pt x="429" y="352"/>
                  </a:lnTo>
                  <a:lnTo>
                    <a:pt x="429" y="207"/>
                  </a:lnTo>
                  <a:lnTo>
                    <a:pt x="420" y="97"/>
                  </a:lnTo>
                  <a:lnTo>
                    <a:pt x="403" y="30"/>
                  </a:lnTo>
                  <a:lnTo>
                    <a:pt x="354" y="0"/>
                  </a:lnTo>
                  <a:lnTo>
                    <a:pt x="394" y="44"/>
                  </a:lnTo>
                  <a:lnTo>
                    <a:pt x="403" y="88"/>
                  </a:lnTo>
                  <a:lnTo>
                    <a:pt x="394" y="110"/>
                  </a:lnTo>
                  <a:lnTo>
                    <a:pt x="337" y="74"/>
                  </a:lnTo>
                  <a:lnTo>
                    <a:pt x="328" y="74"/>
                  </a:lnTo>
                  <a:lnTo>
                    <a:pt x="368" y="136"/>
                  </a:lnTo>
                  <a:lnTo>
                    <a:pt x="381" y="238"/>
                  </a:lnTo>
                  <a:lnTo>
                    <a:pt x="381" y="335"/>
                  </a:lnTo>
                  <a:lnTo>
                    <a:pt x="354" y="216"/>
                  </a:lnTo>
                  <a:lnTo>
                    <a:pt x="261" y="88"/>
                  </a:lnTo>
                  <a:lnTo>
                    <a:pt x="239" y="11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2" name=""/>
            <p:cNvSpPr/>
            <p:nvPr/>
          </p:nvSpPr>
          <p:spPr>
            <a:xfrm>
              <a:off x="4792680" y="4875120"/>
              <a:ext cx="286200" cy="302040"/>
            </a:xfrm>
            <a:custGeom>
              <a:avLst/>
              <a:gdLst/>
              <a:ahLst/>
              <a:rect l="0" t="0" r="r" b="b"/>
              <a:pathLst>
                <a:path w="795" h="839">
                  <a:moveTo>
                    <a:pt x="70" y="0"/>
                  </a:moveTo>
                  <a:lnTo>
                    <a:pt x="52" y="163"/>
                  </a:lnTo>
                  <a:lnTo>
                    <a:pt x="52" y="225"/>
                  </a:lnTo>
                  <a:lnTo>
                    <a:pt x="79" y="292"/>
                  </a:lnTo>
                  <a:lnTo>
                    <a:pt x="119" y="340"/>
                  </a:lnTo>
                  <a:lnTo>
                    <a:pt x="198" y="411"/>
                  </a:lnTo>
                  <a:lnTo>
                    <a:pt x="424" y="525"/>
                  </a:lnTo>
                  <a:lnTo>
                    <a:pt x="632" y="605"/>
                  </a:lnTo>
                  <a:lnTo>
                    <a:pt x="694" y="609"/>
                  </a:lnTo>
                  <a:lnTo>
                    <a:pt x="751" y="605"/>
                  </a:lnTo>
                  <a:lnTo>
                    <a:pt x="795" y="587"/>
                  </a:lnTo>
                  <a:lnTo>
                    <a:pt x="760" y="613"/>
                  </a:lnTo>
                  <a:lnTo>
                    <a:pt x="711" y="622"/>
                  </a:lnTo>
                  <a:lnTo>
                    <a:pt x="650" y="627"/>
                  </a:lnTo>
                  <a:lnTo>
                    <a:pt x="574" y="613"/>
                  </a:lnTo>
                  <a:lnTo>
                    <a:pt x="574" y="650"/>
                  </a:lnTo>
                  <a:lnTo>
                    <a:pt x="561" y="703"/>
                  </a:lnTo>
                  <a:lnTo>
                    <a:pt x="503" y="804"/>
                  </a:lnTo>
                  <a:lnTo>
                    <a:pt x="534" y="720"/>
                  </a:lnTo>
                  <a:lnTo>
                    <a:pt x="538" y="654"/>
                  </a:lnTo>
                  <a:lnTo>
                    <a:pt x="477" y="689"/>
                  </a:lnTo>
                  <a:lnTo>
                    <a:pt x="477" y="778"/>
                  </a:lnTo>
                  <a:lnTo>
                    <a:pt x="455" y="808"/>
                  </a:lnTo>
                  <a:lnTo>
                    <a:pt x="477" y="839"/>
                  </a:lnTo>
                  <a:lnTo>
                    <a:pt x="450" y="839"/>
                  </a:lnTo>
                  <a:lnTo>
                    <a:pt x="384" y="804"/>
                  </a:lnTo>
                  <a:lnTo>
                    <a:pt x="252" y="672"/>
                  </a:lnTo>
                  <a:lnTo>
                    <a:pt x="163" y="583"/>
                  </a:lnTo>
                  <a:lnTo>
                    <a:pt x="74" y="455"/>
                  </a:lnTo>
                  <a:lnTo>
                    <a:pt x="0" y="300"/>
                  </a:lnTo>
                  <a:lnTo>
                    <a:pt x="83" y="433"/>
                  </a:lnTo>
                  <a:lnTo>
                    <a:pt x="158" y="508"/>
                  </a:lnTo>
                  <a:lnTo>
                    <a:pt x="61" y="331"/>
                  </a:lnTo>
                  <a:lnTo>
                    <a:pt x="39" y="230"/>
                  </a:lnTo>
                  <a:lnTo>
                    <a:pt x="39" y="171"/>
                  </a:lnTo>
                  <a:lnTo>
                    <a:pt x="52" y="79"/>
                  </a:lnTo>
                  <a:lnTo>
                    <a:pt x="7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3" name=""/>
            <p:cNvSpPr/>
            <p:nvPr/>
          </p:nvSpPr>
          <p:spPr>
            <a:xfrm>
              <a:off x="4767120" y="4791240"/>
              <a:ext cx="47880" cy="89280"/>
            </a:xfrm>
            <a:custGeom>
              <a:avLst/>
              <a:gdLst/>
              <a:ahLst/>
              <a:rect l="0" t="0" r="r" b="b"/>
              <a:pathLst>
                <a:path w="133" h="248">
                  <a:moveTo>
                    <a:pt x="26" y="0"/>
                  </a:moveTo>
                  <a:lnTo>
                    <a:pt x="67" y="4"/>
                  </a:lnTo>
                  <a:lnTo>
                    <a:pt x="128" y="48"/>
                  </a:lnTo>
                  <a:lnTo>
                    <a:pt x="133" y="128"/>
                  </a:lnTo>
                  <a:lnTo>
                    <a:pt x="106" y="115"/>
                  </a:lnTo>
                  <a:lnTo>
                    <a:pt x="98" y="106"/>
                  </a:lnTo>
                  <a:lnTo>
                    <a:pt x="67" y="137"/>
                  </a:lnTo>
                  <a:lnTo>
                    <a:pt x="67" y="142"/>
                  </a:lnTo>
                  <a:lnTo>
                    <a:pt x="89" y="159"/>
                  </a:lnTo>
                  <a:lnTo>
                    <a:pt x="115" y="235"/>
                  </a:lnTo>
                  <a:lnTo>
                    <a:pt x="98" y="248"/>
                  </a:lnTo>
                  <a:lnTo>
                    <a:pt x="71" y="204"/>
                  </a:lnTo>
                  <a:lnTo>
                    <a:pt x="13" y="181"/>
                  </a:lnTo>
                  <a:lnTo>
                    <a:pt x="0" y="89"/>
                  </a:lnTo>
                  <a:lnTo>
                    <a:pt x="13" y="75"/>
                  </a:lnTo>
                  <a:lnTo>
                    <a:pt x="75" y="39"/>
                  </a:lnTo>
                  <a:lnTo>
                    <a:pt x="61" y="17"/>
                  </a:lnTo>
                  <a:lnTo>
                    <a:pt x="26" y="0"/>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364" name=""/>
            <p:cNvSpPr/>
            <p:nvPr/>
          </p:nvSpPr>
          <p:spPr>
            <a:xfrm>
              <a:off x="4772160" y="4875120"/>
              <a:ext cx="19440" cy="5040"/>
            </a:xfrm>
            <a:custGeom>
              <a:avLst/>
              <a:gdLst/>
              <a:ahLst/>
              <a:rect l="0" t="0" r="r" b="b"/>
              <a:pathLst>
                <a:path w="54" h="14">
                  <a:moveTo>
                    <a:pt x="0" y="0"/>
                  </a:moveTo>
                  <a:lnTo>
                    <a:pt x="54" y="14"/>
                  </a:lnTo>
                  <a:lnTo>
                    <a:pt x="8" y="14"/>
                  </a:lnTo>
                  <a:lnTo>
                    <a:pt x="0" y="0"/>
                  </a:lnTo>
                  <a:close/>
                </a:path>
              </a:pathLst>
            </a:custGeom>
            <a:solidFill>
              <a:srgbClr val="000000"/>
            </a:solidFill>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365" name=""/>
            <p:cNvSpPr/>
            <p:nvPr/>
          </p:nvSpPr>
          <p:spPr>
            <a:xfrm>
              <a:off x="4767120" y="4896000"/>
              <a:ext cx="36720" cy="57600"/>
            </a:xfrm>
            <a:custGeom>
              <a:avLst/>
              <a:gdLst/>
              <a:ahLst/>
              <a:rect l="0" t="0" r="r" b="b"/>
              <a:pathLst>
                <a:path w="102" h="160">
                  <a:moveTo>
                    <a:pt x="0" y="0"/>
                  </a:moveTo>
                  <a:lnTo>
                    <a:pt x="22" y="17"/>
                  </a:lnTo>
                  <a:lnTo>
                    <a:pt x="48" y="30"/>
                  </a:lnTo>
                  <a:lnTo>
                    <a:pt x="102" y="17"/>
                  </a:lnTo>
                  <a:lnTo>
                    <a:pt x="84" y="71"/>
                  </a:lnTo>
                  <a:lnTo>
                    <a:pt x="48" y="84"/>
                  </a:lnTo>
                  <a:lnTo>
                    <a:pt x="26" y="160"/>
                  </a:lnTo>
                  <a:lnTo>
                    <a:pt x="4" y="111"/>
                  </a:lnTo>
                  <a:lnTo>
                    <a:pt x="4" y="89"/>
                  </a:lnTo>
                  <a:lnTo>
                    <a:pt x="26" y="71"/>
                  </a:lnTo>
                  <a:lnTo>
                    <a:pt x="8" y="35"/>
                  </a:lnTo>
                  <a:lnTo>
                    <a:pt x="0" y="0"/>
                  </a:lnTo>
                  <a:close/>
                </a:path>
              </a:pathLst>
            </a:custGeom>
            <a:solidFill>
              <a:srgbClr val="000000"/>
            </a:solidFill>
            <a:ln w="12600">
              <a:solidFill>
                <a:srgbClr val="000000"/>
              </a:solidFill>
              <a:round/>
            </a:ln>
          </p:spPr>
          <p:txBody>
            <a:bodyPr lIns="96120" rIns="96120" tIns="6480" bIns="6480" anchor="t">
              <a:noAutofit/>
            </a:bodyPr>
            <a:p>
              <a:endParaRPr b="0" lang="en-US" sz="1800" spc="-1" strike="noStrike">
                <a:solidFill>
                  <a:srgbClr val="ffffff"/>
                </a:solidFill>
                <a:latin typeface="Arial"/>
              </a:endParaRPr>
            </a:p>
          </p:txBody>
        </p:sp>
        <p:sp>
          <p:nvSpPr>
            <p:cNvPr id="366" name=""/>
            <p:cNvSpPr/>
            <p:nvPr/>
          </p:nvSpPr>
          <p:spPr>
            <a:xfrm>
              <a:off x="4842000" y="4830840"/>
              <a:ext cx="1440" cy="17280"/>
            </a:xfrm>
            <a:prstGeom prst="line">
              <a:avLst/>
            </a:prstGeom>
            <a:ln w="12600">
              <a:solidFill>
                <a:srgbClr val="000000"/>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367" name=""/>
            <p:cNvSpPr/>
            <p:nvPr/>
          </p:nvSpPr>
          <p:spPr>
            <a:xfrm>
              <a:off x="4853160" y="4816440"/>
              <a:ext cx="1440" cy="50760"/>
            </a:xfrm>
            <a:prstGeom prst="line">
              <a:avLst/>
            </a:prstGeom>
            <a:ln w="12600">
              <a:solidFill>
                <a:srgbClr val="000000"/>
              </a:solidFill>
              <a:round/>
            </a:ln>
          </p:spPr>
          <p:style>
            <a:lnRef idx="0"/>
            <a:fillRef idx="0"/>
            <a:effectRef idx="0"/>
            <a:fontRef idx="minor"/>
          </p:style>
          <p:txBody>
            <a:bodyPr lIns="96120" rIns="96120" tIns="-360" bIns="-360" anchor="t">
              <a:noAutofit/>
            </a:bodyPr>
            <a:p>
              <a:endParaRPr b="0" lang="en-US" sz="1800" spc="-1" strike="noStrike">
                <a:solidFill>
                  <a:srgbClr val="ffffff"/>
                </a:solidFill>
                <a:latin typeface="Arial"/>
              </a:endParaRPr>
            </a:p>
          </p:txBody>
        </p:sp>
        <p:sp>
          <p:nvSpPr>
            <p:cNvPr id="368" name=""/>
            <p:cNvSpPr/>
            <p:nvPr/>
          </p:nvSpPr>
          <p:spPr>
            <a:xfrm>
              <a:off x="4871880" y="4844880"/>
              <a:ext cx="180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ffffff"/>
                </a:solidFill>
                <a:latin typeface="Arial"/>
              </a:endParaRPr>
            </a:p>
          </p:txBody>
        </p:sp>
        <p:sp>
          <p:nvSpPr>
            <p:cNvPr id="369" name=""/>
            <p:cNvSpPr/>
            <p:nvPr/>
          </p:nvSpPr>
          <p:spPr>
            <a:xfrm>
              <a:off x="4883040" y="4873680"/>
              <a:ext cx="1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370" name=""/>
            <p:cNvSpPr/>
            <p:nvPr/>
          </p:nvSpPr>
          <p:spPr>
            <a:xfrm>
              <a:off x="4971960" y="4681440"/>
              <a:ext cx="200520" cy="44640"/>
            </a:xfrm>
            <a:custGeom>
              <a:avLst/>
              <a:gdLst/>
              <a:ahLst/>
              <a:rect l="0" t="0" r="r" b="b"/>
              <a:pathLst>
                <a:path fill="none" w="557" h="124">
                  <a:moveTo>
                    <a:pt x="0" y="0"/>
                  </a:moveTo>
                  <a:lnTo>
                    <a:pt x="88" y="13"/>
                  </a:lnTo>
                  <a:lnTo>
                    <a:pt x="265" y="80"/>
                  </a:lnTo>
                  <a:lnTo>
                    <a:pt x="384" y="106"/>
                  </a:lnTo>
                  <a:lnTo>
                    <a:pt x="557" y="124"/>
                  </a:lnTo>
                </a:path>
              </a:pathLst>
            </a:custGeom>
            <a:ln w="12600">
              <a:solidFill>
                <a:srgbClr val="000000"/>
              </a:solidFill>
              <a:round/>
            </a:ln>
          </p:spPr>
          <p:txBody>
            <a:bodyPr lIns="96120" rIns="96120" tIns="-6480" bIns="-6480" anchor="t">
              <a:noAutofit/>
            </a:bodyPr>
            <a:p>
              <a:endParaRPr b="0" lang="en-US" sz="1800" spc="-1" strike="noStrike">
                <a:solidFill>
                  <a:srgbClr val="ffffff"/>
                </a:solidFill>
                <a:latin typeface="Arial"/>
              </a:endParaRPr>
            </a:p>
          </p:txBody>
        </p:sp>
        <p:sp>
          <p:nvSpPr>
            <p:cNvPr id="371" name=""/>
            <p:cNvSpPr/>
            <p:nvPr/>
          </p:nvSpPr>
          <p:spPr>
            <a:xfrm>
              <a:off x="5013360" y="4675320"/>
              <a:ext cx="132120" cy="36720"/>
            </a:xfrm>
            <a:custGeom>
              <a:avLst/>
              <a:gdLst/>
              <a:ahLst/>
              <a:rect l="0" t="0" r="r" b="b"/>
              <a:pathLst>
                <a:path fill="none" w="367" h="102">
                  <a:moveTo>
                    <a:pt x="0" y="0"/>
                  </a:moveTo>
                  <a:lnTo>
                    <a:pt x="61" y="22"/>
                  </a:lnTo>
                  <a:lnTo>
                    <a:pt x="190" y="71"/>
                  </a:lnTo>
                  <a:lnTo>
                    <a:pt x="367" y="102"/>
                  </a:lnTo>
                </a:path>
              </a:pathLst>
            </a:custGeom>
            <a:ln w="12600">
              <a:solidFill>
                <a:srgbClr val="000000"/>
              </a:solidFill>
              <a:round/>
            </a:ln>
          </p:spPr>
          <p:txBody>
            <a:bodyPr lIns="96120" rIns="96120" tIns="-14400" bIns="-14400" anchor="t">
              <a:noAutofit/>
            </a:bodyPr>
            <a:p>
              <a:endParaRPr b="0" lang="en-US" sz="1800" spc="-1" strike="noStrike">
                <a:solidFill>
                  <a:srgbClr val="ffffff"/>
                </a:solidFill>
                <a:latin typeface="Arial"/>
              </a:endParaRPr>
            </a:p>
          </p:txBody>
        </p:sp>
        <p:sp>
          <p:nvSpPr>
            <p:cNvPr id="372" name=""/>
            <p:cNvSpPr/>
            <p:nvPr/>
          </p:nvSpPr>
          <p:spPr>
            <a:xfrm>
              <a:off x="4656240" y="4952880"/>
              <a:ext cx="100440" cy="165600"/>
            </a:xfrm>
            <a:custGeom>
              <a:avLst/>
              <a:gdLst/>
              <a:ahLst/>
              <a:rect l="0" t="0" r="r" b="b"/>
              <a:pathLst>
                <a:path w="279" h="460">
                  <a:moveTo>
                    <a:pt x="279" y="0"/>
                  </a:moveTo>
                  <a:lnTo>
                    <a:pt x="213" y="110"/>
                  </a:lnTo>
                  <a:lnTo>
                    <a:pt x="213" y="217"/>
                  </a:lnTo>
                  <a:lnTo>
                    <a:pt x="270" y="460"/>
                  </a:lnTo>
                  <a:lnTo>
                    <a:pt x="172" y="234"/>
                  </a:lnTo>
                  <a:lnTo>
                    <a:pt x="172" y="159"/>
                  </a:lnTo>
                  <a:lnTo>
                    <a:pt x="0" y="159"/>
                  </a:lnTo>
                  <a:lnTo>
                    <a:pt x="146" y="66"/>
                  </a:lnTo>
                  <a:lnTo>
                    <a:pt x="213" y="66"/>
                  </a:lnTo>
                  <a:lnTo>
                    <a:pt x="27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3" name=""/>
            <p:cNvSpPr/>
            <p:nvPr/>
          </p:nvSpPr>
          <p:spPr>
            <a:xfrm>
              <a:off x="4267080" y="5062680"/>
              <a:ext cx="1144800" cy="1128960"/>
            </a:xfrm>
            <a:custGeom>
              <a:avLst/>
              <a:gdLst/>
              <a:ahLst/>
              <a:rect l="0" t="0" r="r" b="b"/>
              <a:pathLst>
                <a:path w="3180" h="3136">
                  <a:moveTo>
                    <a:pt x="877" y="0"/>
                  </a:moveTo>
                  <a:lnTo>
                    <a:pt x="679" y="198"/>
                  </a:lnTo>
                  <a:lnTo>
                    <a:pt x="560" y="361"/>
                  </a:lnTo>
                  <a:lnTo>
                    <a:pt x="560" y="555"/>
                  </a:lnTo>
                  <a:lnTo>
                    <a:pt x="696" y="463"/>
                  </a:lnTo>
                  <a:lnTo>
                    <a:pt x="696" y="590"/>
                  </a:lnTo>
                  <a:lnTo>
                    <a:pt x="992" y="1322"/>
                  </a:lnTo>
                  <a:lnTo>
                    <a:pt x="930" y="1247"/>
                  </a:lnTo>
                  <a:lnTo>
                    <a:pt x="855" y="1247"/>
                  </a:lnTo>
                  <a:lnTo>
                    <a:pt x="811" y="1270"/>
                  </a:lnTo>
                  <a:lnTo>
                    <a:pt x="780" y="1292"/>
                  </a:lnTo>
                  <a:lnTo>
                    <a:pt x="890" y="1543"/>
                  </a:lnTo>
                  <a:lnTo>
                    <a:pt x="1089" y="1936"/>
                  </a:lnTo>
                  <a:lnTo>
                    <a:pt x="1411" y="2280"/>
                  </a:lnTo>
                  <a:lnTo>
                    <a:pt x="1530" y="2391"/>
                  </a:lnTo>
                  <a:lnTo>
                    <a:pt x="1530" y="2461"/>
                  </a:lnTo>
                  <a:lnTo>
                    <a:pt x="1455" y="2558"/>
                  </a:lnTo>
                  <a:lnTo>
                    <a:pt x="1455" y="2668"/>
                  </a:lnTo>
                  <a:lnTo>
                    <a:pt x="1606" y="2638"/>
                  </a:lnTo>
                  <a:lnTo>
                    <a:pt x="1628" y="2602"/>
                  </a:lnTo>
                  <a:lnTo>
                    <a:pt x="1619" y="2549"/>
                  </a:lnTo>
                  <a:lnTo>
                    <a:pt x="1578" y="2518"/>
                  </a:lnTo>
                  <a:lnTo>
                    <a:pt x="1734" y="2558"/>
                  </a:lnTo>
                  <a:lnTo>
                    <a:pt x="1839" y="2549"/>
                  </a:lnTo>
                  <a:lnTo>
                    <a:pt x="1945" y="2510"/>
                  </a:lnTo>
                  <a:lnTo>
                    <a:pt x="2051" y="2417"/>
                  </a:lnTo>
                  <a:lnTo>
                    <a:pt x="2122" y="2346"/>
                  </a:lnTo>
                  <a:lnTo>
                    <a:pt x="2082" y="2426"/>
                  </a:lnTo>
                  <a:lnTo>
                    <a:pt x="2042" y="2501"/>
                  </a:lnTo>
                  <a:lnTo>
                    <a:pt x="2192" y="2518"/>
                  </a:lnTo>
                  <a:lnTo>
                    <a:pt x="2377" y="2527"/>
                  </a:lnTo>
                  <a:lnTo>
                    <a:pt x="2532" y="2492"/>
                  </a:lnTo>
                  <a:lnTo>
                    <a:pt x="2589" y="2254"/>
                  </a:lnTo>
                  <a:lnTo>
                    <a:pt x="2615" y="2254"/>
                  </a:lnTo>
                  <a:lnTo>
                    <a:pt x="2638" y="2280"/>
                  </a:lnTo>
                  <a:lnTo>
                    <a:pt x="2655" y="2360"/>
                  </a:lnTo>
                  <a:lnTo>
                    <a:pt x="2668" y="2426"/>
                  </a:lnTo>
                  <a:lnTo>
                    <a:pt x="3171" y="2395"/>
                  </a:lnTo>
                  <a:lnTo>
                    <a:pt x="3180" y="2461"/>
                  </a:lnTo>
                  <a:lnTo>
                    <a:pt x="3180" y="2510"/>
                  </a:lnTo>
                  <a:lnTo>
                    <a:pt x="3158" y="2571"/>
                  </a:lnTo>
                  <a:lnTo>
                    <a:pt x="3043" y="2580"/>
                  </a:lnTo>
                  <a:lnTo>
                    <a:pt x="2951" y="2638"/>
                  </a:lnTo>
                  <a:lnTo>
                    <a:pt x="2779" y="2677"/>
                  </a:lnTo>
                  <a:lnTo>
                    <a:pt x="2629" y="2668"/>
                  </a:lnTo>
                  <a:lnTo>
                    <a:pt x="2474" y="2717"/>
                  </a:lnTo>
                  <a:lnTo>
                    <a:pt x="2338" y="2748"/>
                  </a:lnTo>
                  <a:lnTo>
                    <a:pt x="2152" y="2757"/>
                  </a:lnTo>
                  <a:lnTo>
                    <a:pt x="1923" y="2730"/>
                  </a:lnTo>
                  <a:lnTo>
                    <a:pt x="1751" y="2748"/>
                  </a:lnTo>
                  <a:lnTo>
                    <a:pt x="1606" y="2796"/>
                  </a:lnTo>
                  <a:lnTo>
                    <a:pt x="1499" y="2858"/>
                  </a:lnTo>
                  <a:lnTo>
                    <a:pt x="1217" y="2779"/>
                  </a:lnTo>
                  <a:lnTo>
                    <a:pt x="515" y="3136"/>
                  </a:lnTo>
                  <a:lnTo>
                    <a:pt x="0" y="3136"/>
                  </a:lnTo>
                  <a:lnTo>
                    <a:pt x="132" y="1358"/>
                  </a:lnTo>
                  <a:lnTo>
                    <a:pt x="246" y="978"/>
                  </a:lnTo>
                  <a:lnTo>
                    <a:pt x="202" y="1225"/>
                  </a:lnTo>
                  <a:lnTo>
                    <a:pt x="317" y="1628"/>
                  </a:lnTo>
                  <a:lnTo>
                    <a:pt x="317" y="1972"/>
                  </a:lnTo>
                  <a:lnTo>
                    <a:pt x="445" y="2351"/>
                  </a:lnTo>
                  <a:lnTo>
                    <a:pt x="515" y="2351"/>
                  </a:lnTo>
                  <a:lnTo>
                    <a:pt x="687" y="1967"/>
                  </a:lnTo>
                  <a:lnTo>
                    <a:pt x="449" y="1490"/>
                  </a:lnTo>
                  <a:lnTo>
                    <a:pt x="414" y="1331"/>
                  </a:lnTo>
                  <a:lnTo>
                    <a:pt x="396" y="1177"/>
                  </a:lnTo>
                  <a:lnTo>
                    <a:pt x="414" y="1009"/>
                  </a:lnTo>
                  <a:lnTo>
                    <a:pt x="515" y="617"/>
                  </a:lnTo>
                  <a:lnTo>
                    <a:pt x="467" y="573"/>
                  </a:lnTo>
                  <a:lnTo>
                    <a:pt x="432" y="524"/>
                  </a:lnTo>
                  <a:lnTo>
                    <a:pt x="427" y="480"/>
                  </a:lnTo>
                  <a:lnTo>
                    <a:pt x="330" y="714"/>
                  </a:lnTo>
                  <a:lnTo>
                    <a:pt x="405" y="463"/>
                  </a:lnTo>
                  <a:lnTo>
                    <a:pt x="445" y="405"/>
                  </a:lnTo>
                  <a:lnTo>
                    <a:pt x="577" y="242"/>
                  </a:lnTo>
                  <a:lnTo>
                    <a:pt x="714" y="105"/>
                  </a:lnTo>
                  <a:lnTo>
                    <a:pt x="87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4" name=""/>
            <p:cNvSpPr/>
            <p:nvPr/>
          </p:nvSpPr>
          <p:spPr>
            <a:xfrm>
              <a:off x="4637160" y="5199120"/>
              <a:ext cx="354240" cy="608400"/>
            </a:xfrm>
            <a:custGeom>
              <a:avLst/>
              <a:gdLst/>
              <a:ahLst/>
              <a:rect l="0" t="0" r="r" b="b"/>
              <a:pathLst>
                <a:path w="984" h="1690">
                  <a:moveTo>
                    <a:pt x="0" y="114"/>
                  </a:moveTo>
                  <a:lnTo>
                    <a:pt x="282" y="299"/>
                  </a:lnTo>
                  <a:lnTo>
                    <a:pt x="485" y="658"/>
                  </a:lnTo>
                  <a:lnTo>
                    <a:pt x="485" y="812"/>
                  </a:lnTo>
                  <a:lnTo>
                    <a:pt x="746" y="1046"/>
                  </a:lnTo>
                  <a:lnTo>
                    <a:pt x="843" y="1235"/>
                  </a:lnTo>
                  <a:lnTo>
                    <a:pt x="821" y="763"/>
                  </a:lnTo>
                  <a:lnTo>
                    <a:pt x="821" y="468"/>
                  </a:lnTo>
                  <a:lnTo>
                    <a:pt x="843" y="260"/>
                  </a:lnTo>
                  <a:lnTo>
                    <a:pt x="812" y="211"/>
                  </a:lnTo>
                  <a:lnTo>
                    <a:pt x="746" y="299"/>
                  </a:lnTo>
                  <a:lnTo>
                    <a:pt x="688" y="339"/>
                  </a:lnTo>
                  <a:lnTo>
                    <a:pt x="755" y="260"/>
                  </a:lnTo>
                  <a:lnTo>
                    <a:pt x="812" y="132"/>
                  </a:lnTo>
                  <a:lnTo>
                    <a:pt x="878" y="22"/>
                  </a:lnTo>
                  <a:lnTo>
                    <a:pt x="918" y="0"/>
                  </a:lnTo>
                  <a:lnTo>
                    <a:pt x="878" y="66"/>
                  </a:lnTo>
                  <a:lnTo>
                    <a:pt x="927" y="238"/>
                  </a:lnTo>
                  <a:lnTo>
                    <a:pt x="878" y="238"/>
                  </a:lnTo>
                  <a:lnTo>
                    <a:pt x="869" y="410"/>
                  </a:lnTo>
                  <a:lnTo>
                    <a:pt x="896" y="887"/>
                  </a:lnTo>
                  <a:lnTo>
                    <a:pt x="944" y="1373"/>
                  </a:lnTo>
                  <a:lnTo>
                    <a:pt x="984" y="1518"/>
                  </a:lnTo>
                  <a:lnTo>
                    <a:pt x="781" y="1633"/>
                  </a:lnTo>
                  <a:lnTo>
                    <a:pt x="869" y="1558"/>
                  </a:lnTo>
                  <a:lnTo>
                    <a:pt x="830" y="1492"/>
                  </a:lnTo>
                  <a:lnTo>
                    <a:pt x="733" y="1518"/>
                  </a:lnTo>
                  <a:lnTo>
                    <a:pt x="521" y="1673"/>
                  </a:lnTo>
                  <a:lnTo>
                    <a:pt x="454" y="1690"/>
                  </a:lnTo>
                  <a:lnTo>
                    <a:pt x="449" y="1660"/>
                  </a:lnTo>
                  <a:lnTo>
                    <a:pt x="569" y="1532"/>
                  </a:lnTo>
                  <a:lnTo>
                    <a:pt x="830" y="1448"/>
                  </a:lnTo>
                  <a:lnTo>
                    <a:pt x="790" y="1342"/>
                  </a:lnTo>
                  <a:lnTo>
                    <a:pt x="790" y="1231"/>
                  </a:lnTo>
                  <a:lnTo>
                    <a:pt x="755" y="1165"/>
                  </a:lnTo>
                  <a:lnTo>
                    <a:pt x="454" y="927"/>
                  </a:lnTo>
                  <a:lnTo>
                    <a:pt x="101" y="671"/>
                  </a:lnTo>
                  <a:lnTo>
                    <a:pt x="494" y="913"/>
                  </a:lnTo>
                  <a:lnTo>
                    <a:pt x="291" y="366"/>
                  </a:lnTo>
                  <a:lnTo>
                    <a:pt x="0" y="11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5" name=""/>
            <p:cNvSpPr/>
            <p:nvPr/>
          </p:nvSpPr>
          <p:spPr>
            <a:xfrm>
              <a:off x="4853160" y="5802480"/>
              <a:ext cx="55800" cy="130680"/>
            </a:xfrm>
            <a:custGeom>
              <a:avLst/>
              <a:gdLst/>
              <a:ahLst/>
              <a:rect l="0" t="0" r="r" b="b"/>
              <a:pathLst>
                <a:path w="155" h="363">
                  <a:moveTo>
                    <a:pt x="155" y="0"/>
                  </a:moveTo>
                  <a:lnTo>
                    <a:pt x="89" y="39"/>
                  </a:lnTo>
                  <a:lnTo>
                    <a:pt x="0" y="315"/>
                  </a:lnTo>
                  <a:lnTo>
                    <a:pt x="74" y="363"/>
                  </a:lnTo>
                  <a:lnTo>
                    <a:pt x="155" y="293"/>
                  </a:lnTo>
                  <a:lnTo>
                    <a:pt x="155" y="102"/>
                  </a:lnTo>
                  <a:lnTo>
                    <a:pt x="120" y="102"/>
                  </a:lnTo>
                  <a:lnTo>
                    <a:pt x="120" y="57"/>
                  </a:lnTo>
                  <a:lnTo>
                    <a:pt x="15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6" name=""/>
            <p:cNvSpPr/>
            <p:nvPr/>
          </p:nvSpPr>
          <p:spPr>
            <a:xfrm>
              <a:off x="4911840" y="5765760"/>
              <a:ext cx="135360" cy="170280"/>
            </a:xfrm>
            <a:custGeom>
              <a:avLst/>
              <a:gdLst/>
              <a:ahLst/>
              <a:rect l="0" t="0" r="r" b="b"/>
              <a:pathLst>
                <a:path w="376" h="473">
                  <a:moveTo>
                    <a:pt x="106" y="133"/>
                  </a:moveTo>
                  <a:lnTo>
                    <a:pt x="239" y="0"/>
                  </a:lnTo>
                  <a:lnTo>
                    <a:pt x="376" y="57"/>
                  </a:lnTo>
                  <a:lnTo>
                    <a:pt x="376" y="142"/>
                  </a:lnTo>
                  <a:lnTo>
                    <a:pt x="293" y="256"/>
                  </a:lnTo>
                  <a:lnTo>
                    <a:pt x="0" y="473"/>
                  </a:lnTo>
                  <a:lnTo>
                    <a:pt x="208" y="287"/>
                  </a:lnTo>
                  <a:lnTo>
                    <a:pt x="239" y="217"/>
                  </a:lnTo>
                  <a:lnTo>
                    <a:pt x="247" y="159"/>
                  </a:lnTo>
                  <a:lnTo>
                    <a:pt x="239" y="114"/>
                  </a:lnTo>
                  <a:lnTo>
                    <a:pt x="208" y="97"/>
                  </a:lnTo>
                  <a:lnTo>
                    <a:pt x="172" y="97"/>
                  </a:lnTo>
                  <a:lnTo>
                    <a:pt x="106" y="13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7" name=""/>
            <p:cNvSpPr/>
            <p:nvPr/>
          </p:nvSpPr>
          <p:spPr>
            <a:xfrm>
              <a:off x="5070600" y="5703840"/>
              <a:ext cx="843480" cy="284400"/>
            </a:xfrm>
            <a:custGeom>
              <a:avLst/>
              <a:gdLst/>
              <a:ahLst/>
              <a:rect l="0" t="0" r="r" b="b"/>
              <a:pathLst>
                <a:path w="2343" h="790">
                  <a:moveTo>
                    <a:pt x="0" y="171"/>
                  </a:moveTo>
                  <a:lnTo>
                    <a:pt x="326" y="304"/>
                  </a:lnTo>
                  <a:lnTo>
                    <a:pt x="410" y="216"/>
                  </a:lnTo>
                  <a:lnTo>
                    <a:pt x="587" y="216"/>
                  </a:lnTo>
                  <a:lnTo>
                    <a:pt x="680" y="295"/>
                  </a:lnTo>
                  <a:lnTo>
                    <a:pt x="768" y="268"/>
                  </a:lnTo>
                  <a:lnTo>
                    <a:pt x="1209" y="255"/>
                  </a:lnTo>
                  <a:lnTo>
                    <a:pt x="1522" y="185"/>
                  </a:lnTo>
                  <a:lnTo>
                    <a:pt x="1955" y="0"/>
                  </a:lnTo>
                  <a:lnTo>
                    <a:pt x="2012" y="39"/>
                  </a:lnTo>
                  <a:lnTo>
                    <a:pt x="2021" y="83"/>
                  </a:lnTo>
                  <a:lnTo>
                    <a:pt x="1973" y="127"/>
                  </a:lnTo>
                  <a:lnTo>
                    <a:pt x="2030" y="189"/>
                  </a:lnTo>
                  <a:lnTo>
                    <a:pt x="2052" y="242"/>
                  </a:lnTo>
                  <a:lnTo>
                    <a:pt x="2030" y="304"/>
                  </a:lnTo>
                  <a:lnTo>
                    <a:pt x="2334" y="330"/>
                  </a:lnTo>
                  <a:lnTo>
                    <a:pt x="2343" y="357"/>
                  </a:lnTo>
                  <a:lnTo>
                    <a:pt x="2030" y="366"/>
                  </a:lnTo>
                  <a:lnTo>
                    <a:pt x="2030" y="397"/>
                  </a:lnTo>
                  <a:lnTo>
                    <a:pt x="2052" y="428"/>
                  </a:lnTo>
                  <a:lnTo>
                    <a:pt x="2325" y="437"/>
                  </a:lnTo>
                  <a:lnTo>
                    <a:pt x="2295" y="481"/>
                  </a:lnTo>
                  <a:lnTo>
                    <a:pt x="2065" y="525"/>
                  </a:lnTo>
                  <a:lnTo>
                    <a:pt x="2065" y="569"/>
                  </a:lnTo>
                  <a:lnTo>
                    <a:pt x="2228" y="569"/>
                  </a:lnTo>
                  <a:lnTo>
                    <a:pt x="2246" y="538"/>
                  </a:lnTo>
                  <a:lnTo>
                    <a:pt x="2242" y="587"/>
                  </a:lnTo>
                  <a:lnTo>
                    <a:pt x="1955" y="627"/>
                  </a:lnTo>
                  <a:lnTo>
                    <a:pt x="1632" y="649"/>
                  </a:lnTo>
                  <a:lnTo>
                    <a:pt x="1504" y="649"/>
                  </a:lnTo>
                  <a:lnTo>
                    <a:pt x="1328" y="680"/>
                  </a:lnTo>
                  <a:lnTo>
                    <a:pt x="1266" y="790"/>
                  </a:lnTo>
                  <a:lnTo>
                    <a:pt x="988" y="790"/>
                  </a:lnTo>
                  <a:lnTo>
                    <a:pt x="1240" y="759"/>
                  </a:lnTo>
                  <a:lnTo>
                    <a:pt x="1284" y="688"/>
                  </a:lnTo>
                  <a:lnTo>
                    <a:pt x="1301" y="596"/>
                  </a:lnTo>
                  <a:lnTo>
                    <a:pt x="1301" y="508"/>
                  </a:lnTo>
                  <a:lnTo>
                    <a:pt x="1266" y="388"/>
                  </a:lnTo>
                  <a:lnTo>
                    <a:pt x="1231" y="295"/>
                  </a:lnTo>
                  <a:lnTo>
                    <a:pt x="768" y="304"/>
                  </a:lnTo>
                  <a:lnTo>
                    <a:pt x="666" y="321"/>
                  </a:lnTo>
                  <a:lnTo>
                    <a:pt x="507" y="255"/>
                  </a:lnTo>
                  <a:lnTo>
                    <a:pt x="352" y="374"/>
                  </a:lnTo>
                  <a:lnTo>
                    <a:pt x="313" y="321"/>
                  </a:lnTo>
                  <a:lnTo>
                    <a:pt x="0" y="17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78" name=""/>
            <p:cNvSpPr/>
            <p:nvPr/>
          </p:nvSpPr>
          <p:spPr>
            <a:xfrm>
              <a:off x="5305320" y="5846760"/>
              <a:ext cx="98640" cy="41760"/>
            </a:xfrm>
            <a:custGeom>
              <a:avLst/>
              <a:gdLst/>
              <a:ahLst/>
              <a:rect l="0" t="0" r="r" b="b"/>
              <a:pathLst>
                <a:path w="274" h="116">
                  <a:moveTo>
                    <a:pt x="274" y="94"/>
                  </a:moveTo>
                  <a:lnTo>
                    <a:pt x="155" y="0"/>
                  </a:lnTo>
                  <a:lnTo>
                    <a:pt x="0" y="31"/>
                  </a:lnTo>
                  <a:lnTo>
                    <a:pt x="26" y="75"/>
                  </a:lnTo>
                  <a:lnTo>
                    <a:pt x="230" y="116"/>
                  </a:lnTo>
                  <a:lnTo>
                    <a:pt x="274" y="94"/>
                  </a:lnTo>
                  <a:close/>
                </a:path>
              </a:pathLst>
            </a:custGeom>
            <a:solidFill>
              <a:srgbClr val="000000"/>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379" name=""/>
            <p:cNvSpPr/>
            <p:nvPr/>
          </p:nvSpPr>
          <p:spPr>
            <a:xfrm>
              <a:off x="4973760" y="5138640"/>
              <a:ext cx="84600" cy="625680"/>
            </a:xfrm>
            <a:custGeom>
              <a:avLst/>
              <a:gdLst/>
              <a:ahLst/>
              <a:rect l="0" t="0" r="r" b="b"/>
              <a:pathLst>
                <a:path w="235" h="1738">
                  <a:moveTo>
                    <a:pt x="128" y="1694"/>
                  </a:moveTo>
                  <a:lnTo>
                    <a:pt x="155" y="1654"/>
                  </a:lnTo>
                  <a:lnTo>
                    <a:pt x="155" y="1553"/>
                  </a:lnTo>
                  <a:lnTo>
                    <a:pt x="98" y="1297"/>
                  </a:lnTo>
                  <a:lnTo>
                    <a:pt x="48" y="935"/>
                  </a:lnTo>
                  <a:lnTo>
                    <a:pt x="39" y="635"/>
                  </a:lnTo>
                  <a:lnTo>
                    <a:pt x="17" y="432"/>
                  </a:lnTo>
                  <a:lnTo>
                    <a:pt x="39" y="370"/>
                  </a:lnTo>
                  <a:lnTo>
                    <a:pt x="39" y="260"/>
                  </a:lnTo>
                  <a:lnTo>
                    <a:pt x="0" y="171"/>
                  </a:lnTo>
                  <a:lnTo>
                    <a:pt x="57" y="220"/>
                  </a:lnTo>
                  <a:lnTo>
                    <a:pt x="80" y="171"/>
                  </a:lnTo>
                  <a:lnTo>
                    <a:pt x="89" y="105"/>
                  </a:lnTo>
                  <a:lnTo>
                    <a:pt x="89" y="0"/>
                  </a:lnTo>
                  <a:lnTo>
                    <a:pt x="98" y="83"/>
                  </a:lnTo>
                  <a:lnTo>
                    <a:pt x="106" y="171"/>
                  </a:lnTo>
                  <a:lnTo>
                    <a:pt x="89" y="268"/>
                  </a:lnTo>
                  <a:lnTo>
                    <a:pt x="57" y="370"/>
                  </a:lnTo>
                  <a:lnTo>
                    <a:pt x="39" y="440"/>
                  </a:lnTo>
                  <a:lnTo>
                    <a:pt x="89" y="1019"/>
                  </a:lnTo>
                  <a:lnTo>
                    <a:pt x="133" y="1376"/>
                  </a:lnTo>
                  <a:lnTo>
                    <a:pt x="196" y="1553"/>
                  </a:lnTo>
                  <a:lnTo>
                    <a:pt x="235" y="1738"/>
                  </a:lnTo>
                  <a:lnTo>
                    <a:pt x="128" y="169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0" name=""/>
            <p:cNvSpPr/>
            <p:nvPr/>
          </p:nvSpPr>
          <p:spPr>
            <a:xfrm>
              <a:off x="5060880" y="5091120"/>
              <a:ext cx="471960" cy="705240"/>
            </a:xfrm>
            <a:custGeom>
              <a:avLst/>
              <a:gdLst/>
              <a:ahLst/>
              <a:rect l="0" t="0" r="r" b="b"/>
              <a:pathLst>
                <a:path w="1311" h="1959">
                  <a:moveTo>
                    <a:pt x="114" y="0"/>
                  </a:moveTo>
                  <a:lnTo>
                    <a:pt x="286" y="163"/>
                  </a:lnTo>
                  <a:lnTo>
                    <a:pt x="331" y="299"/>
                  </a:lnTo>
                  <a:lnTo>
                    <a:pt x="362" y="432"/>
                  </a:lnTo>
                  <a:lnTo>
                    <a:pt x="362" y="640"/>
                  </a:lnTo>
                  <a:lnTo>
                    <a:pt x="277" y="1306"/>
                  </a:lnTo>
                  <a:lnTo>
                    <a:pt x="202" y="1385"/>
                  </a:lnTo>
                  <a:lnTo>
                    <a:pt x="0" y="1420"/>
                  </a:lnTo>
                  <a:lnTo>
                    <a:pt x="277" y="1412"/>
                  </a:lnTo>
                  <a:lnTo>
                    <a:pt x="189" y="1951"/>
                  </a:lnTo>
                  <a:lnTo>
                    <a:pt x="207" y="1959"/>
                  </a:lnTo>
                  <a:lnTo>
                    <a:pt x="308" y="1496"/>
                  </a:lnTo>
                  <a:lnTo>
                    <a:pt x="666" y="1805"/>
                  </a:lnTo>
                  <a:lnTo>
                    <a:pt x="755" y="1805"/>
                  </a:lnTo>
                  <a:lnTo>
                    <a:pt x="891" y="1739"/>
                  </a:lnTo>
                  <a:lnTo>
                    <a:pt x="1029" y="1620"/>
                  </a:lnTo>
                  <a:lnTo>
                    <a:pt x="1130" y="1510"/>
                  </a:lnTo>
                  <a:lnTo>
                    <a:pt x="1210" y="1403"/>
                  </a:lnTo>
                  <a:lnTo>
                    <a:pt x="1104" y="1496"/>
                  </a:lnTo>
                  <a:lnTo>
                    <a:pt x="1029" y="1438"/>
                  </a:lnTo>
                  <a:lnTo>
                    <a:pt x="1117" y="1376"/>
                  </a:lnTo>
                  <a:lnTo>
                    <a:pt x="931" y="1438"/>
                  </a:lnTo>
                  <a:lnTo>
                    <a:pt x="719" y="1465"/>
                  </a:lnTo>
                  <a:lnTo>
                    <a:pt x="503" y="1465"/>
                  </a:lnTo>
                  <a:lnTo>
                    <a:pt x="419" y="1465"/>
                  </a:lnTo>
                  <a:lnTo>
                    <a:pt x="353" y="1420"/>
                  </a:lnTo>
                  <a:lnTo>
                    <a:pt x="486" y="1354"/>
                  </a:lnTo>
                  <a:lnTo>
                    <a:pt x="763" y="1354"/>
                  </a:lnTo>
                  <a:lnTo>
                    <a:pt x="979" y="1226"/>
                  </a:lnTo>
                  <a:lnTo>
                    <a:pt x="763" y="1297"/>
                  </a:lnTo>
                  <a:lnTo>
                    <a:pt x="486" y="1297"/>
                  </a:lnTo>
                  <a:lnTo>
                    <a:pt x="331" y="1337"/>
                  </a:lnTo>
                  <a:lnTo>
                    <a:pt x="331" y="1191"/>
                  </a:lnTo>
                  <a:lnTo>
                    <a:pt x="746" y="1116"/>
                  </a:lnTo>
                  <a:lnTo>
                    <a:pt x="591" y="710"/>
                  </a:lnTo>
                  <a:lnTo>
                    <a:pt x="419" y="476"/>
                  </a:lnTo>
                  <a:lnTo>
                    <a:pt x="419" y="330"/>
                  </a:lnTo>
                  <a:lnTo>
                    <a:pt x="1188" y="1147"/>
                  </a:lnTo>
                  <a:lnTo>
                    <a:pt x="1311" y="1209"/>
                  </a:lnTo>
                  <a:lnTo>
                    <a:pt x="1236" y="1054"/>
                  </a:lnTo>
                  <a:lnTo>
                    <a:pt x="552" y="383"/>
                  </a:lnTo>
                  <a:lnTo>
                    <a:pt x="468" y="211"/>
                  </a:lnTo>
                  <a:lnTo>
                    <a:pt x="229" y="44"/>
                  </a:lnTo>
                  <a:lnTo>
                    <a:pt x="11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1" name=""/>
            <p:cNvSpPr/>
            <p:nvPr/>
          </p:nvSpPr>
          <p:spPr>
            <a:xfrm>
              <a:off x="5343480" y="5632560"/>
              <a:ext cx="211320" cy="168480"/>
            </a:xfrm>
            <a:custGeom>
              <a:avLst/>
              <a:gdLst/>
              <a:ahLst/>
              <a:rect l="0" t="0" r="r" b="b"/>
              <a:pathLst>
                <a:path w="587" h="468">
                  <a:moveTo>
                    <a:pt x="0" y="353"/>
                  </a:moveTo>
                  <a:lnTo>
                    <a:pt x="233" y="300"/>
                  </a:lnTo>
                  <a:lnTo>
                    <a:pt x="503" y="468"/>
                  </a:lnTo>
                  <a:lnTo>
                    <a:pt x="587" y="433"/>
                  </a:lnTo>
                  <a:lnTo>
                    <a:pt x="375" y="300"/>
                  </a:lnTo>
                  <a:lnTo>
                    <a:pt x="464" y="132"/>
                  </a:lnTo>
                  <a:lnTo>
                    <a:pt x="464" y="0"/>
                  </a:lnTo>
                  <a:lnTo>
                    <a:pt x="300" y="211"/>
                  </a:lnTo>
                  <a:lnTo>
                    <a:pt x="163" y="287"/>
                  </a:lnTo>
                  <a:lnTo>
                    <a:pt x="0" y="35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2" name=""/>
            <p:cNvSpPr/>
            <p:nvPr/>
          </p:nvSpPr>
          <p:spPr>
            <a:xfrm>
              <a:off x="5495760" y="5513400"/>
              <a:ext cx="268560" cy="203400"/>
            </a:xfrm>
            <a:custGeom>
              <a:avLst/>
              <a:gdLst/>
              <a:ahLst/>
              <a:rect l="0" t="0" r="r" b="b"/>
              <a:pathLst>
                <a:path w="746" h="565">
                  <a:moveTo>
                    <a:pt x="145" y="255"/>
                  </a:moveTo>
                  <a:lnTo>
                    <a:pt x="282" y="171"/>
                  </a:lnTo>
                  <a:lnTo>
                    <a:pt x="565" y="292"/>
                  </a:lnTo>
                  <a:lnTo>
                    <a:pt x="565" y="402"/>
                  </a:lnTo>
                  <a:lnTo>
                    <a:pt x="339" y="468"/>
                  </a:lnTo>
                  <a:lnTo>
                    <a:pt x="613" y="459"/>
                  </a:lnTo>
                  <a:lnTo>
                    <a:pt x="746" y="565"/>
                  </a:lnTo>
                  <a:lnTo>
                    <a:pt x="662" y="362"/>
                  </a:lnTo>
                  <a:lnTo>
                    <a:pt x="538" y="211"/>
                  </a:lnTo>
                  <a:lnTo>
                    <a:pt x="264" y="127"/>
                  </a:lnTo>
                  <a:lnTo>
                    <a:pt x="154" y="0"/>
                  </a:lnTo>
                  <a:lnTo>
                    <a:pt x="0" y="127"/>
                  </a:lnTo>
                  <a:lnTo>
                    <a:pt x="136" y="52"/>
                  </a:lnTo>
                  <a:lnTo>
                    <a:pt x="180" y="119"/>
                  </a:lnTo>
                  <a:lnTo>
                    <a:pt x="145" y="25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3" name=""/>
            <p:cNvSpPr/>
            <p:nvPr/>
          </p:nvSpPr>
          <p:spPr>
            <a:xfrm>
              <a:off x="5780160" y="5700600"/>
              <a:ext cx="157680" cy="119520"/>
            </a:xfrm>
            <a:custGeom>
              <a:avLst/>
              <a:gdLst/>
              <a:ahLst/>
              <a:rect l="0" t="0" r="r" b="b"/>
              <a:pathLst>
                <a:path w="438" h="332">
                  <a:moveTo>
                    <a:pt x="17" y="0"/>
                  </a:moveTo>
                  <a:lnTo>
                    <a:pt x="354" y="30"/>
                  </a:lnTo>
                  <a:lnTo>
                    <a:pt x="438" y="195"/>
                  </a:lnTo>
                  <a:lnTo>
                    <a:pt x="438" y="230"/>
                  </a:lnTo>
                  <a:lnTo>
                    <a:pt x="372" y="253"/>
                  </a:lnTo>
                  <a:lnTo>
                    <a:pt x="274" y="195"/>
                  </a:lnTo>
                  <a:lnTo>
                    <a:pt x="142" y="195"/>
                  </a:lnTo>
                  <a:lnTo>
                    <a:pt x="363" y="284"/>
                  </a:lnTo>
                  <a:lnTo>
                    <a:pt x="372" y="332"/>
                  </a:lnTo>
                  <a:lnTo>
                    <a:pt x="341" y="297"/>
                  </a:lnTo>
                  <a:lnTo>
                    <a:pt x="17" y="181"/>
                  </a:lnTo>
                  <a:lnTo>
                    <a:pt x="0" y="150"/>
                  </a:lnTo>
                  <a:lnTo>
                    <a:pt x="354" y="137"/>
                  </a:lnTo>
                  <a:lnTo>
                    <a:pt x="341" y="61"/>
                  </a:lnTo>
                  <a:lnTo>
                    <a:pt x="1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4" name=""/>
            <p:cNvSpPr/>
            <p:nvPr/>
          </p:nvSpPr>
          <p:spPr>
            <a:xfrm>
              <a:off x="5859360" y="5807160"/>
              <a:ext cx="62280" cy="100440"/>
            </a:xfrm>
            <a:custGeom>
              <a:avLst/>
              <a:gdLst/>
              <a:ahLst/>
              <a:rect l="0" t="0" r="r" b="b"/>
              <a:pathLst>
                <a:path w="173" h="279">
                  <a:moveTo>
                    <a:pt x="143" y="75"/>
                  </a:moveTo>
                  <a:lnTo>
                    <a:pt x="143" y="120"/>
                  </a:lnTo>
                  <a:lnTo>
                    <a:pt x="75" y="164"/>
                  </a:lnTo>
                  <a:lnTo>
                    <a:pt x="0" y="213"/>
                  </a:lnTo>
                  <a:lnTo>
                    <a:pt x="58" y="279"/>
                  </a:lnTo>
                  <a:lnTo>
                    <a:pt x="93" y="195"/>
                  </a:lnTo>
                  <a:lnTo>
                    <a:pt x="173" y="146"/>
                  </a:lnTo>
                  <a:lnTo>
                    <a:pt x="173" y="57"/>
                  </a:lnTo>
                  <a:lnTo>
                    <a:pt x="143" y="0"/>
                  </a:lnTo>
                  <a:lnTo>
                    <a:pt x="143" y="75"/>
                  </a:lnTo>
                  <a:close/>
                </a:path>
              </a:pathLst>
            </a:custGeom>
            <a:solidFill>
              <a:srgbClr val="000000"/>
            </a:solidFill>
            <a:ln w="12600">
              <a:solidFill>
                <a:srgbClr val="000000"/>
              </a:solidFill>
              <a:round/>
            </a:ln>
          </p:spPr>
          <p:txBody>
            <a:bodyPr lIns="96120" rIns="96120" tIns="49320" bIns="49320" anchor="t">
              <a:noAutofit/>
            </a:bodyPr>
            <a:p>
              <a:endParaRPr b="0" lang="en-US" sz="1800" spc="-1" strike="noStrike">
                <a:solidFill>
                  <a:srgbClr val="ffffff"/>
                </a:solidFill>
                <a:latin typeface="Arial"/>
              </a:endParaRPr>
            </a:p>
          </p:txBody>
        </p:sp>
        <p:sp>
          <p:nvSpPr>
            <p:cNvPr id="385" name=""/>
            <p:cNvSpPr/>
            <p:nvPr/>
          </p:nvSpPr>
          <p:spPr>
            <a:xfrm>
              <a:off x="5878440" y="5764320"/>
              <a:ext cx="103680" cy="144720"/>
            </a:xfrm>
            <a:custGeom>
              <a:avLst/>
              <a:gdLst/>
              <a:ahLst/>
              <a:rect l="0" t="0" r="r" b="b"/>
              <a:pathLst>
                <a:path fill="none" w="288" h="402">
                  <a:moveTo>
                    <a:pt x="98" y="57"/>
                  </a:moveTo>
                  <a:lnTo>
                    <a:pt x="253" y="305"/>
                  </a:lnTo>
                  <a:lnTo>
                    <a:pt x="288" y="402"/>
                  </a:lnTo>
                  <a:lnTo>
                    <a:pt x="203" y="331"/>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6" name=""/>
            <p:cNvSpPr/>
            <p:nvPr/>
          </p:nvSpPr>
          <p:spPr>
            <a:xfrm>
              <a:off x="5762520" y="5548320"/>
              <a:ext cx="109800" cy="167040"/>
            </a:xfrm>
            <a:custGeom>
              <a:avLst/>
              <a:gdLst/>
              <a:ahLst/>
              <a:rect l="0" t="0" r="r" b="b"/>
              <a:pathLst>
                <a:path fill="none" w="305" h="464">
                  <a:moveTo>
                    <a:pt x="234" y="450"/>
                  </a:moveTo>
                  <a:lnTo>
                    <a:pt x="0" y="30"/>
                  </a:lnTo>
                  <a:lnTo>
                    <a:pt x="0" y="17"/>
                  </a:lnTo>
                  <a:lnTo>
                    <a:pt x="0" y="8"/>
                  </a:lnTo>
                  <a:lnTo>
                    <a:pt x="17" y="0"/>
                  </a:lnTo>
                  <a:lnTo>
                    <a:pt x="22" y="0"/>
                  </a:lnTo>
                  <a:lnTo>
                    <a:pt x="39" y="4"/>
                  </a:lnTo>
                  <a:lnTo>
                    <a:pt x="305" y="464"/>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7" name=""/>
            <p:cNvSpPr/>
            <p:nvPr/>
          </p:nvSpPr>
          <p:spPr>
            <a:xfrm>
              <a:off x="5591160" y="5719680"/>
              <a:ext cx="130680" cy="70200"/>
            </a:xfrm>
            <a:custGeom>
              <a:avLst/>
              <a:gdLst/>
              <a:ahLst/>
              <a:rect l="0" t="0" r="r" b="b"/>
              <a:pathLst>
                <a:path w="363" h="195">
                  <a:moveTo>
                    <a:pt x="48" y="142"/>
                  </a:moveTo>
                  <a:lnTo>
                    <a:pt x="74" y="66"/>
                  </a:lnTo>
                  <a:lnTo>
                    <a:pt x="137" y="22"/>
                  </a:lnTo>
                  <a:lnTo>
                    <a:pt x="208" y="22"/>
                  </a:lnTo>
                  <a:lnTo>
                    <a:pt x="323" y="44"/>
                  </a:lnTo>
                  <a:lnTo>
                    <a:pt x="363" y="22"/>
                  </a:lnTo>
                  <a:lnTo>
                    <a:pt x="230" y="0"/>
                  </a:lnTo>
                  <a:lnTo>
                    <a:pt x="150" y="0"/>
                  </a:lnTo>
                  <a:lnTo>
                    <a:pt x="74" y="22"/>
                  </a:lnTo>
                  <a:lnTo>
                    <a:pt x="39" y="79"/>
                  </a:lnTo>
                  <a:lnTo>
                    <a:pt x="0" y="195"/>
                  </a:lnTo>
                  <a:lnTo>
                    <a:pt x="48" y="142"/>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388" name=""/>
            <p:cNvSpPr/>
            <p:nvPr/>
          </p:nvSpPr>
          <p:spPr>
            <a:xfrm>
              <a:off x="5489640" y="4371840"/>
              <a:ext cx="439920" cy="560880"/>
            </a:xfrm>
            <a:custGeom>
              <a:avLst/>
              <a:gdLst/>
              <a:ahLst/>
              <a:rect l="0" t="0" r="r" b="b"/>
              <a:pathLst>
                <a:path w="1222" h="1558">
                  <a:moveTo>
                    <a:pt x="1191" y="653"/>
                  </a:moveTo>
                  <a:lnTo>
                    <a:pt x="1218" y="552"/>
                  </a:lnTo>
                  <a:lnTo>
                    <a:pt x="1222" y="411"/>
                  </a:lnTo>
                  <a:lnTo>
                    <a:pt x="1187" y="273"/>
                  </a:lnTo>
                  <a:lnTo>
                    <a:pt x="1134" y="185"/>
                  </a:lnTo>
                  <a:lnTo>
                    <a:pt x="1068" y="101"/>
                  </a:lnTo>
                  <a:lnTo>
                    <a:pt x="957" y="39"/>
                  </a:lnTo>
                  <a:lnTo>
                    <a:pt x="746" y="0"/>
                  </a:lnTo>
                  <a:lnTo>
                    <a:pt x="537" y="61"/>
                  </a:lnTo>
                  <a:lnTo>
                    <a:pt x="427" y="158"/>
                  </a:lnTo>
                  <a:lnTo>
                    <a:pt x="335" y="330"/>
                  </a:lnTo>
                  <a:lnTo>
                    <a:pt x="304" y="508"/>
                  </a:lnTo>
                  <a:lnTo>
                    <a:pt x="268" y="653"/>
                  </a:lnTo>
                  <a:lnTo>
                    <a:pt x="273" y="728"/>
                  </a:lnTo>
                  <a:lnTo>
                    <a:pt x="304" y="816"/>
                  </a:lnTo>
                  <a:lnTo>
                    <a:pt x="299" y="874"/>
                  </a:lnTo>
                  <a:lnTo>
                    <a:pt x="207" y="940"/>
                  </a:lnTo>
                  <a:lnTo>
                    <a:pt x="132" y="1006"/>
                  </a:lnTo>
                  <a:lnTo>
                    <a:pt x="83" y="1116"/>
                  </a:lnTo>
                  <a:lnTo>
                    <a:pt x="83" y="1179"/>
                  </a:lnTo>
                  <a:lnTo>
                    <a:pt x="88" y="1232"/>
                  </a:lnTo>
                  <a:lnTo>
                    <a:pt x="101" y="1263"/>
                  </a:lnTo>
                  <a:lnTo>
                    <a:pt x="88" y="1307"/>
                  </a:lnTo>
                  <a:lnTo>
                    <a:pt x="0" y="1386"/>
                  </a:lnTo>
                  <a:lnTo>
                    <a:pt x="123" y="1355"/>
                  </a:lnTo>
                  <a:lnTo>
                    <a:pt x="264" y="1311"/>
                  </a:lnTo>
                  <a:lnTo>
                    <a:pt x="313" y="1474"/>
                  </a:lnTo>
                  <a:lnTo>
                    <a:pt x="361" y="1558"/>
                  </a:lnTo>
                  <a:lnTo>
                    <a:pt x="339" y="1483"/>
                  </a:lnTo>
                  <a:lnTo>
                    <a:pt x="339" y="1430"/>
                  </a:lnTo>
                  <a:lnTo>
                    <a:pt x="352" y="1391"/>
                  </a:lnTo>
                  <a:lnTo>
                    <a:pt x="379" y="1386"/>
                  </a:lnTo>
                  <a:lnTo>
                    <a:pt x="427" y="1399"/>
                  </a:lnTo>
                  <a:lnTo>
                    <a:pt x="476" y="1448"/>
                  </a:lnTo>
                  <a:lnTo>
                    <a:pt x="520" y="1510"/>
                  </a:lnTo>
                  <a:lnTo>
                    <a:pt x="485" y="1386"/>
                  </a:lnTo>
                  <a:lnTo>
                    <a:pt x="467" y="1302"/>
                  </a:lnTo>
                  <a:lnTo>
                    <a:pt x="458" y="1197"/>
                  </a:lnTo>
                  <a:lnTo>
                    <a:pt x="463" y="1116"/>
                  </a:lnTo>
                  <a:lnTo>
                    <a:pt x="511" y="1197"/>
                  </a:lnTo>
                  <a:lnTo>
                    <a:pt x="577" y="1258"/>
                  </a:lnTo>
                  <a:lnTo>
                    <a:pt x="662" y="1320"/>
                  </a:lnTo>
                  <a:lnTo>
                    <a:pt x="746" y="1351"/>
                  </a:lnTo>
                  <a:lnTo>
                    <a:pt x="675" y="1320"/>
                  </a:lnTo>
                  <a:lnTo>
                    <a:pt x="608" y="1276"/>
                  </a:lnTo>
                  <a:lnTo>
                    <a:pt x="542" y="1214"/>
                  </a:lnTo>
                  <a:lnTo>
                    <a:pt x="507" y="1156"/>
                  </a:lnTo>
                  <a:lnTo>
                    <a:pt x="480" y="1107"/>
                  </a:lnTo>
                  <a:lnTo>
                    <a:pt x="467" y="1054"/>
                  </a:lnTo>
                  <a:lnTo>
                    <a:pt x="463" y="997"/>
                  </a:lnTo>
                  <a:lnTo>
                    <a:pt x="454" y="935"/>
                  </a:lnTo>
                  <a:lnTo>
                    <a:pt x="445" y="825"/>
                  </a:lnTo>
                  <a:lnTo>
                    <a:pt x="445" y="979"/>
                  </a:lnTo>
                  <a:lnTo>
                    <a:pt x="427" y="997"/>
                  </a:lnTo>
                  <a:lnTo>
                    <a:pt x="405" y="1010"/>
                  </a:lnTo>
                  <a:lnTo>
                    <a:pt x="379" y="997"/>
                  </a:lnTo>
                  <a:lnTo>
                    <a:pt x="361" y="966"/>
                  </a:lnTo>
                  <a:lnTo>
                    <a:pt x="361" y="927"/>
                  </a:lnTo>
                  <a:lnTo>
                    <a:pt x="374" y="882"/>
                  </a:lnTo>
                  <a:lnTo>
                    <a:pt x="396" y="856"/>
                  </a:lnTo>
                  <a:lnTo>
                    <a:pt x="370" y="869"/>
                  </a:lnTo>
                  <a:lnTo>
                    <a:pt x="321" y="768"/>
                  </a:lnTo>
                  <a:lnTo>
                    <a:pt x="313" y="728"/>
                  </a:lnTo>
                  <a:lnTo>
                    <a:pt x="304" y="675"/>
                  </a:lnTo>
                  <a:lnTo>
                    <a:pt x="313" y="644"/>
                  </a:lnTo>
                  <a:lnTo>
                    <a:pt x="326" y="618"/>
                  </a:lnTo>
                  <a:lnTo>
                    <a:pt x="348" y="600"/>
                  </a:lnTo>
                  <a:lnTo>
                    <a:pt x="370" y="600"/>
                  </a:lnTo>
                  <a:lnTo>
                    <a:pt x="388" y="609"/>
                  </a:lnTo>
                  <a:lnTo>
                    <a:pt x="405" y="644"/>
                  </a:lnTo>
                  <a:lnTo>
                    <a:pt x="427" y="706"/>
                  </a:lnTo>
                  <a:lnTo>
                    <a:pt x="432" y="627"/>
                  </a:lnTo>
                  <a:lnTo>
                    <a:pt x="471" y="547"/>
                  </a:lnTo>
                  <a:lnTo>
                    <a:pt x="524" y="437"/>
                  </a:lnTo>
                  <a:lnTo>
                    <a:pt x="560" y="348"/>
                  </a:lnTo>
                  <a:lnTo>
                    <a:pt x="604" y="286"/>
                  </a:lnTo>
                  <a:lnTo>
                    <a:pt x="675" y="242"/>
                  </a:lnTo>
                  <a:lnTo>
                    <a:pt x="781" y="229"/>
                  </a:lnTo>
                  <a:lnTo>
                    <a:pt x="904" y="242"/>
                  </a:lnTo>
                  <a:lnTo>
                    <a:pt x="1050" y="273"/>
                  </a:lnTo>
                  <a:lnTo>
                    <a:pt x="1107" y="326"/>
                  </a:lnTo>
                  <a:lnTo>
                    <a:pt x="1147" y="415"/>
                  </a:lnTo>
                  <a:lnTo>
                    <a:pt x="1169" y="512"/>
                  </a:lnTo>
                  <a:lnTo>
                    <a:pt x="1182" y="702"/>
                  </a:lnTo>
                  <a:lnTo>
                    <a:pt x="1191" y="65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9" name=""/>
            <p:cNvSpPr/>
            <p:nvPr/>
          </p:nvSpPr>
          <p:spPr>
            <a:xfrm>
              <a:off x="5694480" y="4653000"/>
              <a:ext cx="221040" cy="335160"/>
            </a:xfrm>
            <a:custGeom>
              <a:avLst/>
              <a:gdLst/>
              <a:ahLst/>
              <a:rect l="0" t="0" r="r" b="b"/>
              <a:pathLst>
                <a:path w="614" h="931">
                  <a:moveTo>
                    <a:pt x="614" y="0"/>
                  </a:moveTo>
                  <a:lnTo>
                    <a:pt x="592" y="83"/>
                  </a:lnTo>
                  <a:lnTo>
                    <a:pt x="539" y="277"/>
                  </a:lnTo>
                  <a:lnTo>
                    <a:pt x="478" y="401"/>
                  </a:lnTo>
                  <a:lnTo>
                    <a:pt x="428" y="481"/>
                  </a:lnTo>
                  <a:lnTo>
                    <a:pt x="358" y="552"/>
                  </a:lnTo>
                  <a:lnTo>
                    <a:pt x="309" y="569"/>
                  </a:lnTo>
                  <a:lnTo>
                    <a:pt x="230" y="578"/>
                  </a:lnTo>
                  <a:lnTo>
                    <a:pt x="141" y="556"/>
                  </a:lnTo>
                  <a:lnTo>
                    <a:pt x="74" y="521"/>
                  </a:lnTo>
                  <a:lnTo>
                    <a:pt x="0" y="463"/>
                  </a:lnTo>
                  <a:lnTo>
                    <a:pt x="44" y="543"/>
                  </a:lnTo>
                  <a:lnTo>
                    <a:pt x="105" y="596"/>
                  </a:lnTo>
                  <a:lnTo>
                    <a:pt x="159" y="631"/>
                  </a:lnTo>
                  <a:lnTo>
                    <a:pt x="225" y="649"/>
                  </a:lnTo>
                  <a:lnTo>
                    <a:pt x="287" y="649"/>
                  </a:lnTo>
                  <a:lnTo>
                    <a:pt x="247" y="931"/>
                  </a:lnTo>
                  <a:lnTo>
                    <a:pt x="283" y="838"/>
                  </a:lnTo>
                  <a:lnTo>
                    <a:pt x="331" y="627"/>
                  </a:lnTo>
                  <a:lnTo>
                    <a:pt x="358" y="591"/>
                  </a:lnTo>
                  <a:lnTo>
                    <a:pt x="393" y="649"/>
                  </a:lnTo>
                  <a:lnTo>
                    <a:pt x="428" y="741"/>
                  </a:lnTo>
                  <a:lnTo>
                    <a:pt x="411" y="631"/>
                  </a:lnTo>
                  <a:lnTo>
                    <a:pt x="375" y="556"/>
                  </a:lnTo>
                  <a:lnTo>
                    <a:pt x="433" y="486"/>
                  </a:lnTo>
                  <a:lnTo>
                    <a:pt x="500" y="383"/>
                  </a:lnTo>
                  <a:lnTo>
                    <a:pt x="539" y="291"/>
                  </a:lnTo>
                  <a:lnTo>
                    <a:pt x="566" y="224"/>
                  </a:lnTo>
                  <a:lnTo>
                    <a:pt x="597" y="92"/>
                  </a:lnTo>
                  <a:lnTo>
                    <a:pt x="61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0" name=""/>
            <p:cNvSpPr/>
            <p:nvPr/>
          </p:nvSpPr>
          <p:spPr>
            <a:xfrm>
              <a:off x="5611680" y="4605480"/>
              <a:ext cx="25920" cy="60840"/>
            </a:xfrm>
            <a:custGeom>
              <a:avLst/>
              <a:gdLst/>
              <a:ahLst/>
              <a:rect l="0" t="0" r="r" b="b"/>
              <a:pathLst>
                <a:path w="72" h="169">
                  <a:moveTo>
                    <a:pt x="4" y="0"/>
                  </a:moveTo>
                  <a:lnTo>
                    <a:pt x="36" y="4"/>
                  </a:lnTo>
                  <a:lnTo>
                    <a:pt x="68" y="45"/>
                  </a:lnTo>
                  <a:lnTo>
                    <a:pt x="72" y="84"/>
                  </a:lnTo>
                  <a:lnTo>
                    <a:pt x="68" y="111"/>
                  </a:lnTo>
                  <a:lnTo>
                    <a:pt x="45" y="129"/>
                  </a:lnTo>
                  <a:lnTo>
                    <a:pt x="40" y="138"/>
                  </a:lnTo>
                  <a:lnTo>
                    <a:pt x="53" y="169"/>
                  </a:lnTo>
                  <a:lnTo>
                    <a:pt x="13" y="134"/>
                  </a:lnTo>
                  <a:lnTo>
                    <a:pt x="13" y="111"/>
                  </a:lnTo>
                  <a:lnTo>
                    <a:pt x="23" y="98"/>
                  </a:lnTo>
                  <a:lnTo>
                    <a:pt x="40" y="80"/>
                  </a:lnTo>
                  <a:lnTo>
                    <a:pt x="63" y="67"/>
                  </a:lnTo>
                  <a:lnTo>
                    <a:pt x="53" y="49"/>
                  </a:lnTo>
                  <a:lnTo>
                    <a:pt x="45" y="26"/>
                  </a:lnTo>
                  <a:lnTo>
                    <a:pt x="23" y="17"/>
                  </a:lnTo>
                  <a:lnTo>
                    <a:pt x="4" y="45"/>
                  </a:lnTo>
                  <a:lnTo>
                    <a:pt x="4" y="58"/>
                  </a:lnTo>
                  <a:lnTo>
                    <a:pt x="0" y="39"/>
                  </a:lnTo>
                  <a:lnTo>
                    <a:pt x="0" y="8"/>
                  </a:lnTo>
                  <a:lnTo>
                    <a:pt x="4" y="0"/>
                  </a:lnTo>
                  <a:close/>
                </a:path>
              </a:pathLst>
            </a:custGeom>
            <a:solidFill>
              <a:srgbClr val="000000"/>
            </a:solidFill>
            <a:ln w="12600">
              <a:solidFill>
                <a:srgbClr val="000000"/>
              </a:solidFill>
              <a:round/>
            </a:ln>
          </p:spPr>
          <p:txBody>
            <a:bodyPr lIns="96120" rIns="96120" tIns="9720" bIns="9720" anchor="t">
              <a:noAutofit/>
            </a:bodyPr>
            <a:p>
              <a:endParaRPr b="0" lang="en-US" sz="1800" spc="-1" strike="noStrike">
                <a:solidFill>
                  <a:srgbClr val="ffffff"/>
                </a:solidFill>
                <a:latin typeface="Arial"/>
              </a:endParaRPr>
            </a:p>
          </p:txBody>
        </p:sp>
        <p:sp>
          <p:nvSpPr>
            <p:cNvPr id="391" name=""/>
            <p:cNvSpPr/>
            <p:nvPr/>
          </p:nvSpPr>
          <p:spPr>
            <a:xfrm>
              <a:off x="5651640" y="4659480"/>
              <a:ext cx="1440" cy="20520"/>
            </a:xfrm>
            <a:prstGeom prst="line">
              <a:avLst/>
            </a:prstGeom>
            <a:ln w="12600">
              <a:solidFill>
                <a:srgbClr val="000000"/>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92" name=""/>
            <p:cNvSpPr/>
            <p:nvPr/>
          </p:nvSpPr>
          <p:spPr>
            <a:xfrm>
              <a:off x="5659560" y="4668840"/>
              <a:ext cx="144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ffffff"/>
                </a:solidFill>
                <a:latin typeface="Arial"/>
              </a:endParaRPr>
            </a:p>
          </p:txBody>
        </p:sp>
        <p:sp>
          <p:nvSpPr>
            <p:cNvPr id="393" name=""/>
            <p:cNvSpPr/>
            <p:nvPr/>
          </p:nvSpPr>
          <p:spPr>
            <a:xfrm>
              <a:off x="5675400" y="470232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394" name=""/>
            <p:cNvSpPr/>
            <p:nvPr/>
          </p:nvSpPr>
          <p:spPr>
            <a:xfrm>
              <a:off x="5621400" y="4684680"/>
              <a:ext cx="20880" cy="44640"/>
            </a:xfrm>
            <a:custGeom>
              <a:avLst/>
              <a:gdLst/>
              <a:ahLst/>
              <a:rect l="0" t="0" r="r" b="b"/>
              <a:pathLst>
                <a:path w="58" h="124">
                  <a:moveTo>
                    <a:pt x="26" y="0"/>
                  </a:moveTo>
                  <a:lnTo>
                    <a:pt x="45" y="22"/>
                  </a:lnTo>
                  <a:lnTo>
                    <a:pt x="53" y="48"/>
                  </a:lnTo>
                  <a:lnTo>
                    <a:pt x="58" y="89"/>
                  </a:lnTo>
                  <a:lnTo>
                    <a:pt x="53" y="111"/>
                  </a:lnTo>
                  <a:lnTo>
                    <a:pt x="40" y="120"/>
                  </a:lnTo>
                  <a:lnTo>
                    <a:pt x="26" y="124"/>
                  </a:lnTo>
                  <a:lnTo>
                    <a:pt x="8" y="120"/>
                  </a:lnTo>
                  <a:lnTo>
                    <a:pt x="0" y="93"/>
                  </a:lnTo>
                  <a:lnTo>
                    <a:pt x="36" y="98"/>
                  </a:lnTo>
                  <a:lnTo>
                    <a:pt x="40" y="71"/>
                  </a:lnTo>
                  <a:lnTo>
                    <a:pt x="45" y="48"/>
                  </a:lnTo>
                  <a:lnTo>
                    <a:pt x="40" y="30"/>
                  </a:lnTo>
                  <a:lnTo>
                    <a:pt x="26" y="0"/>
                  </a:lnTo>
                  <a:close/>
                </a:path>
              </a:pathLst>
            </a:custGeom>
            <a:solidFill>
              <a:srgbClr val="000000"/>
            </a:solidFill>
            <a:ln w="12600">
              <a:solidFill>
                <a:srgbClr val="000000"/>
              </a:solidFill>
              <a:round/>
            </a:ln>
          </p:spPr>
          <p:txBody>
            <a:bodyPr lIns="96120" rIns="96120" tIns="-6480" bIns="-6480" anchor="t">
              <a:noAutofit/>
            </a:bodyPr>
            <a:p>
              <a:endParaRPr b="0" lang="en-US" sz="1800" spc="-1" strike="noStrike">
                <a:solidFill>
                  <a:srgbClr val="ffffff"/>
                </a:solidFill>
                <a:latin typeface="Arial"/>
              </a:endParaRPr>
            </a:p>
          </p:txBody>
        </p:sp>
        <p:sp>
          <p:nvSpPr>
            <p:cNvPr id="395" name=""/>
            <p:cNvSpPr/>
            <p:nvPr/>
          </p:nvSpPr>
          <p:spPr>
            <a:xfrm>
              <a:off x="5321160" y="4832280"/>
              <a:ext cx="773640" cy="429120"/>
            </a:xfrm>
            <a:custGeom>
              <a:avLst/>
              <a:gdLst/>
              <a:ahLst/>
              <a:rect l="0" t="0" r="r" b="b"/>
              <a:pathLst>
                <a:path w="2149" h="1192">
                  <a:moveTo>
                    <a:pt x="807" y="194"/>
                  </a:moveTo>
                  <a:lnTo>
                    <a:pt x="847" y="291"/>
                  </a:lnTo>
                  <a:lnTo>
                    <a:pt x="927" y="344"/>
                  </a:lnTo>
                  <a:lnTo>
                    <a:pt x="1032" y="411"/>
                  </a:lnTo>
                  <a:lnTo>
                    <a:pt x="1178" y="450"/>
                  </a:lnTo>
                  <a:lnTo>
                    <a:pt x="1350" y="477"/>
                  </a:lnTo>
                  <a:lnTo>
                    <a:pt x="1429" y="455"/>
                  </a:lnTo>
                  <a:lnTo>
                    <a:pt x="1465" y="402"/>
                  </a:lnTo>
                  <a:lnTo>
                    <a:pt x="1482" y="322"/>
                  </a:lnTo>
                  <a:lnTo>
                    <a:pt x="1482" y="264"/>
                  </a:lnTo>
                  <a:lnTo>
                    <a:pt x="1451" y="185"/>
                  </a:lnTo>
                  <a:lnTo>
                    <a:pt x="1420" y="132"/>
                  </a:lnTo>
                  <a:lnTo>
                    <a:pt x="1381" y="92"/>
                  </a:lnTo>
                  <a:lnTo>
                    <a:pt x="1429" y="22"/>
                  </a:lnTo>
                  <a:lnTo>
                    <a:pt x="1465" y="0"/>
                  </a:lnTo>
                  <a:lnTo>
                    <a:pt x="1629" y="88"/>
                  </a:lnTo>
                  <a:lnTo>
                    <a:pt x="1809" y="123"/>
                  </a:lnTo>
                  <a:lnTo>
                    <a:pt x="1981" y="198"/>
                  </a:lnTo>
                  <a:lnTo>
                    <a:pt x="2149" y="295"/>
                  </a:lnTo>
                  <a:lnTo>
                    <a:pt x="1929" y="198"/>
                  </a:lnTo>
                  <a:lnTo>
                    <a:pt x="1765" y="149"/>
                  </a:lnTo>
                  <a:lnTo>
                    <a:pt x="1660" y="132"/>
                  </a:lnTo>
                  <a:lnTo>
                    <a:pt x="1544" y="132"/>
                  </a:lnTo>
                  <a:lnTo>
                    <a:pt x="1491" y="171"/>
                  </a:lnTo>
                  <a:lnTo>
                    <a:pt x="1509" y="305"/>
                  </a:lnTo>
                  <a:lnTo>
                    <a:pt x="1491" y="384"/>
                  </a:lnTo>
                  <a:lnTo>
                    <a:pt x="1469" y="468"/>
                  </a:lnTo>
                  <a:lnTo>
                    <a:pt x="1429" y="521"/>
                  </a:lnTo>
                  <a:lnTo>
                    <a:pt x="1345" y="605"/>
                  </a:lnTo>
                  <a:lnTo>
                    <a:pt x="1345" y="561"/>
                  </a:lnTo>
                  <a:lnTo>
                    <a:pt x="1315" y="534"/>
                  </a:lnTo>
                  <a:lnTo>
                    <a:pt x="1284" y="543"/>
                  </a:lnTo>
                  <a:lnTo>
                    <a:pt x="1275" y="583"/>
                  </a:lnTo>
                  <a:lnTo>
                    <a:pt x="1297" y="613"/>
                  </a:lnTo>
                  <a:lnTo>
                    <a:pt x="1323" y="622"/>
                  </a:lnTo>
                  <a:lnTo>
                    <a:pt x="1306" y="644"/>
                  </a:lnTo>
                  <a:lnTo>
                    <a:pt x="1257" y="640"/>
                  </a:lnTo>
                  <a:lnTo>
                    <a:pt x="1244" y="605"/>
                  </a:lnTo>
                  <a:lnTo>
                    <a:pt x="1248" y="561"/>
                  </a:lnTo>
                  <a:lnTo>
                    <a:pt x="1266" y="530"/>
                  </a:lnTo>
                  <a:lnTo>
                    <a:pt x="1297" y="512"/>
                  </a:lnTo>
                  <a:lnTo>
                    <a:pt x="1341" y="494"/>
                  </a:lnTo>
                  <a:lnTo>
                    <a:pt x="1081" y="450"/>
                  </a:lnTo>
                  <a:lnTo>
                    <a:pt x="931" y="397"/>
                  </a:lnTo>
                  <a:lnTo>
                    <a:pt x="1024" y="631"/>
                  </a:lnTo>
                  <a:lnTo>
                    <a:pt x="1169" y="1020"/>
                  </a:lnTo>
                  <a:lnTo>
                    <a:pt x="1244" y="1192"/>
                  </a:lnTo>
                  <a:lnTo>
                    <a:pt x="1024" y="715"/>
                  </a:lnTo>
                  <a:lnTo>
                    <a:pt x="904" y="455"/>
                  </a:lnTo>
                  <a:lnTo>
                    <a:pt x="790" y="295"/>
                  </a:lnTo>
                  <a:lnTo>
                    <a:pt x="675" y="185"/>
                  </a:lnTo>
                  <a:lnTo>
                    <a:pt x="587" y="119"/>
                  </a:lnTo>
                  <a:lnTo>
                    <a:pt x="502" y="110"/>
                  </a:lnTo>
                  <a:lnTo>
                    <a:pt x="392" y="123"/>
                  </a:lnTo>
                  <a:lnTo>
                    <a:pt x="79" y="211"/>
                  </a:lnTo>
                  <a:lnTo>
                    <a:pt x="0" y="264"/>
                  </a:lnTo>
                  <a:lnTo>
                    <a:pt x="79" y="185"/>
                  </a:lnTo>
                  <a:lnTo>
                    <a:pt x="366" y="74"/>
                  </a:lnTo>
                  <a:lnTo>
                    <a:pt x="565" y="70"/>
                  </a:lnTo>
                  <a:lnTo>
                    <a:pt x="755" y="8"/>
                  </a:lnTo>
                  <a:lnTo>
                    <a:pt x="807" y="19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6" name=""/>
            <p:cNvSpPr/>
            <p:nvPr/>
          </p:nvSpPr>
          <p:spPr>
            <a:xfrm>
              <a:off x="5270400" y="4950000"/>
              <a:ext cx="308160" cy="487800"/>
            </a:xfrm>
            <a:custGeom>
              <a:avLst/>
              <a:gdLst/>
              <a:ahLst/>
              <a:rect l="0" t="0" r="r" b="b"/>
              <a:pathLst>
                <a:path w="856" h="1355">
                  <a:moveTo>
                    <a:pt x="119" y="0"/>
                  </a:moveTo>
                  <a:lnTo>
                    <a:pt x="202" y="22"/>
                  </a:lnTo>
                  <a:lnTo>
                    <a:pt x="277" y="97"/>
                  </a:lnTo>
                  <a:lnTo>
                    <a:pt x="343" y="185"/>
                  </a:lnTo>
                  <a:lnTo>
                    <a:pt x="392" y="295"/>
                  </a:lnTo>
                  <a:lnTo>
                    <a:pt x="427" y="384"/>
                  </a:lnTo>
                  <a:lnTo>
                    <a:pt x="464" y="468"/>
                  </a:lnTo>
                  <a:lnTo>
                    <a:pt x="370" y="330"/>
                  </a:lnTo>
                  <a:lnTo>
                    <a:pt x="295" y="233"/>
                  </a:lnTo>
                  <a:lnTo>
                    <a:pt x="202" y="163"/>
                  </a:lnTo>
                  <a:lnTo>
                    <a:pt x="127" y="127"/>
                  </a:lnTo>
                  <a:lnTo>
                    <a:pt x="127" y="255"/>
                  </a:lnTo>
                  <a:lnTo>
                    <a:pt x="171" y="393"/>
                  </a:lnTo>
                  <a:lnTo>
                    <a:pt x="238" y="508"/>
                  </a:lnTo>
                  <a:lnTo>
                    <a:pt x="313" y="596"/>
                  </a:lnTo>
                  <a:lnTo>
                    <a:pt x="450" y="697"/>
                  </a:lnTo>
                  <a:lnTo>
                    <a:pt x="578" y="794"/>
                  </a:lnTo>
                  <a:lnTo>
                    <a:pt x="649" y="830"/>
                  </a:lnTo>
                  <a:lnTo>
                    <a:pt x="618" y="733"/>
                  </a:lnTo>
                  <a:lnTo>
                    <a:pt x="697" y="900"/>
                  </a:lnTo>
                  <a:lnTo>
                    <a:pt x="737" y="1033"/>
                  </a:lnTo>
                  <a:lnTo>
                    <a:pt x="763" y="1201"/>
                  </a:lnTo>
                  <a:lnTo>
                    <a:pt x="816" y="1289"/>
                  </a:lnTo>
                  <a:lnTo>
                    <a:pt x="856" y="1355"/>
                  </a:lnTo>
                  <a:lnTo>
                    <a:pt x="728" y="1236"/>
                  </a:lnTo>
                  <a:lnTo>
                    <a:pt x="728" y="1298"/>
                  </a:lnTo>
                  <a:lnTo>
                    <a:pt x="662" y="1324"/>
                  </a:lnTo>
                  <a:lnTo>
                    <a:pt x="693" y="1272"/>
                  </a:lnTo>
                  <a:lnTo>
                    <a:pt x="684" y="1219"/>
                  </a:lnTo>
                  <a:lnTo>
                    <a:pt x="530" y="1113"/>
                  </a:lnTo>
                  <a:lnTo>
                    <a:pt x="662" y="1117"/>
                  </a:lnTo>
                  <a:lnTo>
                    <a:pt x="552" y="953"/>
                  </a:lnTo>
                  <a:lnTo>
                    <a:pt x="644" y="944"/>
                  </a:lnTo>
                  <a:lnTo>
                    <a:pt x="653" y="909"/>
                  </a:lnTo>
                  <a:lnTo>
                    <a:pt x="530" y="904"/>
                  </a:lnTo>
                  <a:lnTo>
                    <a:pt x="374" y="856"/>
                  </a:lnTo>
                  <a:lnTo>
                    <a:pt x="189" y="768"/>
                  </a:lnTo>
                  <a:lnTo>
                    <a:pt x="74" y="680"/>
                  </a:lnTo>
                  <a:lnTo>
                    <a:pt x="66" y="697"/>
                  </a:lnTo>
                  <a:lnTo>
                    <a:pt x="110" y="781"/>
                  </a:lnTo>
                  <a:lnTo>
                    <a:pt x="180" y="856"/>
                  </a:lnTo>
                  <a:lnTo>
                    <a:pt x="255" y="900"/>
                  </a:lnTo>
                  <a:lnTo>
                    <a:pt x="313" y="1060"/>
                  </a:lnTo>
                  <a:lnTo>
                    <a:pt x="486" y="1113"/>
                  </a:lnTo>
                  <a:lnTo>
                    <a:pt x="366" y="1100"/>
                  </a:lnTo>
                  <a:lnTo>
                    <a:pt x="418" y="1157"/>
                  </a:lnTo>
                  <a:lnTo>
                    <a:pt x="574" y="1201"/>
                  </a:lnTo>
                  <a:lnTo>
                    <a:pt x="644" y="1254"/>
                  </a:lnTo>
                  <a:lnTo>
                    <a:pt x="622" y="1289"/>
                  </a:lnTo>
                  <a:lnTo>
                    <a:pt x="525" y="1263"/>
                  </a:lnTo>
                  <a:lnTo>
                    <a:pt x="450" y="1267"/>
                  </a:lnTo>
                  <a:lnTo>
                    <a:pt x="35" y="878"/>
                  </a:lnTo>
                  <a:lnTo>
                    <a:pt x="13" y="750"/>
                  </a:lnTo>
                  <a:lnTo>
                    <a:pt x="8" y="658"/>
                  </a:lnTo>
                  <a:lnTo>
                    <a:pt x="35" y="609"/>
                  </a:lnTo>
                  <a:lnTo>
                    <a:pt x="13" y="508"/>
                  </a:lnTo>
                  <a:lnTo>
                    <a:pt x="0" y="353"/>
                  </a:lnTo>
                  <a:lnTo>
                    <a:pt x="22" y="224"/>
                  </a:lnTo>
                  <a:lnTo>
                    <a:pt x="61" y="110"/>
                  </a:lnTo>
                  <a:lnTo>
                    <a:pt x="11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7" name=""/>
            <p:cNvSpPr/>
            <p:nvPr/>
          </p:nvSpPr>
          <p:spPr>
            <a:xfrm>
              <a:off x="5486400" y="5418000"/>
              <a:ext cx="87840" cy="113040"/>
            </a:xfrm>
            <a:custGeom>
              <a:avLst/>
              <a:gdLst/>
              <a:ahLst/>
              <a:rect l="0" t="0" r="r" b="b"/>
              <a:pathLst>
                <a:path w="244" h="314">
                  <a:moveTo>
                    <a:pt x="0" y="110"/>
                  </a:moveTo>
                  <a:lnTo>
                    <a:pt x="67" y="22"/>
                  </a:lnTo>
                  <a:lnTo>
                    <a:pt x="128" y="0"/>
                  </a:lnTo>
                  <a:lnTo>
                    <a:pt x="168" y="57"/>
                  </a:lnTo>
                  <a:lnTo>
                    <a:pt x="168" y="261"/>
                  </a:lnTo>
                  <a:lnTo>
                    <a:pt x="218" y="88"/>
                  </a:lnTo>
                  <a:lnTo>
                    <a:pt x="244" y="149"/>
                  </a:lnTo>
                  <a:lnTo>
                    <a:pt x="244" y="230"/>
                  </a:lnTo>
                  <a:lnTo>
                    <a:pt x="187" y="314"/>
                  </a:lnTo>
                  <a:lnTo>
                    <a:pt x="146" y="314"/>
                  </a:lnTo>
                  <a:lnTo>
                    <a:pt x="30" y="203"/>
                  </a:lnTo>
                  <a:lnTo>
                    <a:pt x="0" y="11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8" name=""/>
            <p:cNvSpPr/>
            <p:nvPr/>
          </p:nvSpPr>
          <p:spPr>
            <a:xfrm>
              <a:off x="5562720" y="4981680"/>
              <a:ext cx="633600" cy="611640"/>
            </a:xfrm>
            <a:custGeom>
              <a:avLst/>
              <a:gdLst/>
              <a:ahLst/>
              <a:rect l="0" t="0" r="r" b="b"/>
              <a:pathLst>
                <a:path w="1760" h="1699">
                  <a:moveTo>
                    <a:pt x="66" y="1289"/>
                  </a:moveTo>
                  <a:lnTo>
                    <a:pt x="83" y="1346"/>
                  </a:lnTo>
                  <a:lnTo>
                    <a:pt x="97" y="1496"/>
                  </a:lnTo>
                  <a:lnTo>
                    <a:pt x="0" y="1540"/>
                  </a:lnTo>
                  <a:lnTo>
                    <a:pt x="30" y="1558"/>
                  </a:lnTo>
                  <a:lnTo>
                    <a:pt x="141" y="1540"/>
                  </a:lnTo>
                  <a:lnTo>
                    <a:pt x="560" y="1629"/>
                  </a:lnTo>
                  <a:lnTo>
                    <a:pt x="555" y="1602"/>
                  </a:lnTo>
                  <a:lnTo>
                    <a:pt x="555" y="1585"/>
                  </a:lnTo>
                  <a:lnTo>
                    <a:pt x="573" y="1576"/>
                  </a:lnTo>
                  <a:lnTo>
                    <a:pt x="595" y="1580"/>
                  </a:lnTo>
                  <a:lnTo>
                    <a:pt x="604" y="1602"/>
                  </a:lnTo>
                  <a:lnTo>
                    <a:pt x="626" y="1624"/>
                  </a:lnTo>
                  <a:lnTo>
                    <a:pt x="665" y="1629"/>
                  </a:lnTo>
                  <a:lnTo>
                    <a:pt x="723" y="1677"/>
                  </a:lnTo>
                  <a:lnTo>
                    <a:pt x="705" y="1629"/>
                  </a:lnTo>
                  <a:lnTo>
                    <a:pt x="887" y="1585"/>
                  </a:lnTo>
                  <a:lnTo>
                    <a:pt x="1116" y="1452"/>
                  </a:lnTo>
                  <a:lnTo>
                    <a:pt x="1368" y="1518"/>
                  </a:lnTo>
                  <a:lnTo>
                    <a:pt x="1416" y="1624"/>
                  </a:lnTo>
                  <a:lnTo>
                    <a:pt x="1416" y="1690"/>
                  </a:lnTo>
                  <a:lnTo>
                    <a:pt x="1425" y="1699"/>
                  </a:lnTo>
                  <a:lnTo>
                    <a:pt x="1434" y="1624"/>
                  </a:lnTo>
                  <a:lnTo>
                    <a:pt x="1381" y="1505"/>
                  </a:lnTo>
                  <a:lnTo>
                    <a:pt x="1262" y="1435"/>
                  </a:lnTo>
                  <a:lnTo>
                    <a:pt x="1310" y="1351"/>
                  </a:lnTo>
                  <a:lnTo>
                    <a:pt x="1403" y="1320"/>
                  </a:lnTo>
                  <a:lnTo>
                    <a:pt x="1513" y="1298"/>
                  </a:lnTo>
                  <a:lnTo>
                    <a:pt x="1645" y="1324"/>
                  </a:lnTo>
                  <a:lnTo>
                    <a:pt x="1681" y="1346"/>
                  </a:lnTo>
                  <a:lnTo>
                    <a:pt x="1685" y="1417"/>
                  </a:lnTo>
                  <a:lnTo>
                    <a:pt x="1720" y="1488"/>
                  </a:lnTo>
                  <a:lnTo>
                    <a:pt x="1760" y="1395"/>
                  </a:lnTo>
                  <a:lnTo>
                    <a:pt x="1738" y="1342"/>
                  </a:lnTo>
                  <a:lnTo>
                    <a:pt x="1672" y="1266"/>
                  </a:lnTo>
                  <a:lnTo>
                    <a:pt x="1588" y="1196"/>
                  </a:lnTo>
                  <a:lnTo>
                    <a:pt x="1517" y="1112"/>
                  </a:lnTo>
                  <a:lnTo>
                    <a:pt x="1460" y="1134"/>
                  </a:lnTo>
                  <a:lnTo>
                    <a:pt x="1425" y="1235"/>
                  </a:lnTo>
                  <a:lnTo>
                    <a:pt x="1390" y="1213"/>
                  </a:lnTo>
                  <a:lnTo>
                    <a:pt x="1425" y="1129"/>
                  </a:lnTo>
                  <a:lnTo>
                    <a:pt x="1460" y="1054"/>
                  </a:lnTo>
                  <a:lnTo>
                    <a:pt x="1614" y="993"/>
                  </a:lnTo>
                  <a:lnTo>
                    <a:pt x="1685" y="918"/>
                  </a:lnTo>
                  <a:lnTo>
                    <a:pt x="1645" y="821"/>
                  </a:lnTo>
                  <a:lnTo>
                    <a:pt x="1632" y="904"/>
                  </a:lnTo>
                  <a:lnTo>
                    <a:pt x="1557" y="949"/>
                  </a:lnTo>
                  <a:lnTo>
                    <a:pt x="1482" y="975"/>
                  </a:lnTo>
                  <a:lnTo>
                    <a:pt x="1425" y="979"/>
                  </a:lnTo>
                  <a:lnTo>
                    <a:pt x="1403" y="957"/>
                  </a:lnTo>
                  <a:lnTo>
                    <a:pt x="1416" y="931"/>
                  </a:lnTo>
                  <a:lnTo>
                    <a:pt x="1539" y="838"/>
                  </a:lnTo>
                  <a:lnTo>
                    <a:pt x="1632" y="746"/>
                  </a:lnTo>
                  <a:lnTo>
                    <a:pt x="1659" y="790"/>
                  </a:lnTo>
                  <a:lnTo>
                    <a:pt x="1659" y="684"/>
                  </a:lnTo>
                  <a:lnTo>
                    <a:pt x="1641" y="569"/>
                  </a:lnTo>
                  <a:lnTo>
                    <a:pt x="1632" y="446"/>
                  </a:lnTo>
                  <a:lnTo>
                    <a:pt x="1641" y="264"/>
                  </a:lnTo>
                  <a:lnTo>
                    <a:pt x="1623" y="92"/>
                  </a:lnTo>
                  <a:lnTo>
                    <a:pt x="1597" y="0"/>
                  </a:lnTo>
                  <a:lnTo>
                    <a:pt x="1619" y="145"/>
                  </a:lnTo>
                  <a:lnTo>
                    <a:pt x="1619" y="313"/>
                  </a:lnTo>
                  <a:lnTo>
                    <a:pt x="1597" y="455"/>
                  </a:lnTo>
                  <a:lnTo>
                    <a:pt x="1495" y="684"/>
                  </a:lnTo>
                  <a:lnTo>
                    <a:pt x="1575" y="556"/>
                  </a:lnTo>
                  <a:lnTo>
                    <a:pt x="1606" y="605"/>
                  </a:lnTo>
                  <a:lnTo>
                    <a:pt x="1619" y="680"/>
                  </a:lnTo>
                  <a:lnTo>
                    <a:pt x="1601" y="741"/>
                  </a:lnTo>
                  <a:lnTo>
                    <a:pt x="1513" y="821"/>
                  </a:lnTo>
                  <a:lnTo>
                    <a:pt x="1412" y="887"/>
                  </a:lnTo>
                  <a:lnTo>
                    <a:pt x="1416" y="825"/>
                  </a:lnTo>
                  <a:lnTo>
                    <a:pt x="1266" y="1006"/>
                  </a:lnTo>
                  <a:lnTo>
                    <a:pt x="1054" y="1165"/>
                  </a:lnTo>
                  <a:lnTo>
                    <a:pt x="882" y="1248"/>
                  </a:lnTo>
                  <a:lnTo>
                    <a:pt x="727" y="1289"/>
                  </a:lnTo>
                  <a:lnTo>
                    <a:pt x="467" y="1262"/>
                  </a:lnTo>
                  <a:lnTo>
                    <a:pt x="308" y="1266"/>
                  </a:lnTo>
                  <a:lnTo>
                    <a:pt x="149" y="1285"/>
                  </a:lnTo>
                  <a:lnTo>
                    <a:pt x="66" y="128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9" name=""/>
            <p:cNvSpPr/>
            <p:nvPr/>
          </p:nvSpPr>
          <p:spPr>
            <a:xfrm>
              <a:off x="5892840" y="4954680"/>
              <a:ext cx="49680" cy="402120"/>
            </a:xfrm>
            <a:custGeom>
              <a:avLst/>
              <a:gdLst/>
              <a:ahLst/>
              <a:rect l="0" t="0" r="r" b="b"/>
              <a:pathLst>
                <a:path w="138" h="1117">
                  <a:moveTo>
                    <a:pt x="0" y="26"/>
                  </a:moveTo>
                  <a:lnTo>
                    <a:pt x="80" y="211"/>
                  </a:lnTo>
                  <a:lnTo>
                    <a:pt x="102" y="380"/>
                  </a:lnTo>
                  <a:lnTo>
                    <a:pt x="98" y="636"/>
                  </a:lnTo>
                  <a:lnTo>
                    <a:pt x="62" y="853"/>
                  </a:lnTo>
                  <a:lnTo>
                    <a:pt x="4" y="1117"/>
                  </a:lnTo>
                  <a:lnTo>
                    <a:pt x="71" y="1100"/>
                  </a:lnTo>
                  <a:lnTo>
                    <a:pt x="107" y="1033"/>
                  </a:lnTo>
                  <a:lnTo>
                    <a:pt x="134" y="901"/>
                  </a:lnTo>
                  <a:lnTo>
                    <a:pt x="138" y="702"/>
                  </a:lnTo>
                  <a:lnTo>
                    <a:pt x="134" y="437"/>
                  </a:lnTo>
                  <a:lnTo>
                    <a:pt x="112" y="277"/>
                  </a:lnTo>
                  <a:lnTo>
                    <a:pt x="80" y="145"/>
                  </a:lnTo>
                  <a:lnTo>
                    <a:pt x="30" y="17"/>
                  </a:lnTo>
                  <a:lnTo>
                    <a:pt x="4" y="0"/>
                  </a:lnTo>
                  <a:lnTo>
                    <a:pt x="0"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0" name=""/>
            <p:cNvSpPr/>
            <p:nvPr/>
          </p:nvSpPr>
          <p:spPr>
            <a:xfrm>
              <a:off x="5792760" y="5216400"/>
              <a:ext cx="38520" cy="41760"/>
            </a:xfrm>
            <a:custGeom>
              <a:avLst/>
              <a:gdLst/>
              <a:ahLst/>
              <a:rect l="0" t="0" r="r" b="b"/>
              <a:pathLst>
                <a:path w="107" h="116">
                  <a:moveTo>
                    <a:pt x="75" y="8"/>
                  </a:moveTo>
                  <a:lnTo>
                    <a:pt x="49" y="8"/>
                  </a:lnTo>
                  <a:lnTo>
                    <a:pt x="31" y="26"/>
                  </a:lnTo>
                  <a:lnTo>
                    <a:pt x="40" y="53"/>
                  </a:lnTo>
                  <a:lnTo>
                    <a:pt x="58" y="75"/>
                  </a:lnTo>
                  <a:lnTo>
                    <a:pt x="85" y="58"/>
                  </a:lnTo>
                  <a:lnTo>
                    <a:pt x="90" y="40"/>
                  </a:lnTo>
                  <a:lnTo>
                    <a:pt x="90" y="26"/>
                  </a:lnTo>
                  <a:lnTo>
                    <a:pt x="107" y="53"/>
                  </a:lnTo>
                  <a:lnTo>
                    <a:pt x="90" y="94"/>
                  </a:lnTo>
                  <a:lnTo>
                    <a:pt x="58" y="116"/>
                  </a:lnTo>
                  <a:lnTo>
                    <a:pt x="13" y="90"/>
                  </a:lnTo>
                  <a:lnTo>
                    <a:pt x="0" y="40"/>
                  </a:lnTo>
                  <a:lnTo>
                    <a:pt x="31" y="8"/>
                  </a:lnTo>
                  <a:lnTo>
                    <a:pt x="49" y="0"/>
                  </a:lnTo>
                  <a:lnTo>
                    <a:pt x="75" y="8"/>
                  </a:lnTo>
                  <a:close/>
                </a:path>
              </a:pathLst>
            </a:custGeom>
            <a:solidFill>
              <a:srgbClr val="000000"/>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401" name=""/>
            <p:cNvSpPr/>
            <p:nvPr/>
          </p:nvSpPr>
          <p:spPr>
            <a:xfrm>
              <a:off x="6124680" y="5321160"/>
              <a:ext cx="71640" cy="143280"/>
            </a:xfrm>
            <a:custGeom>
              <a:avLst/>
              <a:gdLst/>
              <a:ahLst/>
              <a:rect l="0" t="0" r="r" b="b"/>
              <a:pathLst>
                <a:path w="199" h="398">
                  <a:moveTo>
                    <a:pt x="159" y="0"/>
                  </a:moveTo>
                  <a:lnTo>
                    <a:pt x="159" y="52"/>
                  </a:lnTo>
                  <a:lnTo>
                    <a:pt x="0" y="155"/>
                  </a:lnTo>
                  <a:lnTo>
                    <a:pt x="97" y="120"/>
                  </a:lnTo>
                  <a:lnTo>
                    <a:pt x="97" y="217"/>
                  </a:lnTo>
                  <a:lnTo>
                    <a:pt x="44" y="203"/>
                  </a:lnTo>
                  <a:lnTo>
                    <a:pt x="177" y="341"/>
                  </a:lnTo>
                  <a:lnTo>
                    <a:pt x="199" y="398"/>
                  </a:lnTo>
                  <a:lnTo>
                    <a:pt x="190" y="319"/>
                  </a:lnTo>
                  <a:lnTo>
                    <a:pt x="137" y="239"/>
                  </a:lnTo>
                  <a:lnTo>
                    <a:pt x="137" y="111"/>
                  </a:lnTo>
                  <a:lnTo>
                    <a:pt x="177" y="70"/>
                  </a:lnTo>
                  <a:lnTo>
                    <a:pt x="177" y="35"/>
                  </a:lnTo>
                  <a:lnTo>
                    <a:pt x="15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2" name=""/>
            <p:cNvSpPr/>
            <p:nvPr/>
          </p:nvSpPr>
          <p:spPr>
            <a:xfrm>
              <a:off x="6043680" y="5478480"/>
              <a:ext cx="248040" cy="155880"/>
            </a:xfrm>
            <a:custGeom>
              <a:avLst/>
              <a:gdLst/>
              <a:ahLst/>
              <a:rect l="0" t="0" r="r" b="b"/>
              <a:pathLst>
                <a:path w="689" h="433">
                  <a:moveTo>
                    <a:pt x="393" y="141"/>
                  </a:moveTo>
                  <a:lnTo>
                    <a:pt x="384" y="163"/>
                  </a:lnTo>
                  <a:lnTo>
                    <a:pt x="349" y="163"/>
                  </a:lnTo>
                  <a:lnTo>
                    <a:pt x="287" y="35"/>
                  </a:lnTo>
                  <a:lnTo>
                    <a:pt x="163" y="0"/>
                  </a:lnTo>
                  <a:lnTo>
                    <a:pt x="26" y="35"/>
                  </a:lnTo>
                  <a:lnTo>
                    <a:pt x="0" y="92"/>
                  </a:lnTo>
                  <a:lnTo>
                    <a:pt x="48" y="145"/>
                  </a:lnTo>
                  <a:lnTo>
                    <a:pt x="88" y="230"/>
                  </a:lnTo>
                  <a:lnTo>
                    <a:pt x="186" y="136"/>
                  </a:lnTo>
                  <a:lnTo>
                    <a:pt x="283" y="154"/>
                  </a:lnTo>
                  <a:lnTo>
                    <a:pt x="411" y="225"/>
                  </a:lnTo>
                  <a:lnTo>
                    <a:pt x="455" y="252"/>
                  </a:lnTo>
                  <a:lnTo>
                    <a:pt x="464" y="327"/>
                  </a:lnTo>
                  <a:lnTo>
                    <a:pt x="393" y="375"/>
                  </a:lnTo>
                  <a:lnTo>
                    <a:pt x="464" y="433"/>
                  </a:lnTo>
                  <a:lnTo>
                    <a:pt x="689" y="433"/>
                  </a:lnTo>
                  <a:lnTo>
                    <a:pt x="592" y="336"/>
                  </a:lnTo>
                  <a:lnTo>
                    <a:pt x="544" y="336"/>
                  </a:lnTo>
                  <a:lnTo>
                    <a:pt x="490" y="198"/>
                  </a:lnTo>
                  <a:lnTo>
                    <a:pt x="428" y="158"/>
                  </a:lnTo>
                  <a:lnTo>
                    <a:pt x="393" y="14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3" name=""/>
            <p:cNvSpPr/>
            <p:nvPr/>
          </p:nvSpPr>
          <p:spPr>
            <a:xfrm>
              <a:off x="5837400" y="5548320"/>
              <a:ext cx="354240" cy="133560"/>
            </a:xfrm>
            <a:custGeom>
              <a:avLst/>
              <a:gdLst/>
              <a:ahLst/>
              <a:rect l="0" t="0" r="r" b="b"/>
              <a:pathLst>
                <a:path w="984" h="371">
                  <a:moveTo>
                    <a:pt x="940" y="149"/>
                  </a:moveTo>
                  <a:lnTo>
                    <a:pt x="896" y="101"/>
                  </a:lnTo>
                  <a:lnTo>
                    <a:pt x="865" y="39"/>
                  </a:lnTo>
                  <a:lnTo>
                    <a:pt x="807" y="57"/>
                  </a:lnTo>
                  <a:lnTo>
                    <a:pt x="781" y="195"/>
                  </a:lnTo>
                  <a:lnTo>
                    <a:pt x="825" y="239"/>
                  </a:lnTo>
                  <a:lnTo>
                    <a:pt x="719" y="239"/>
                  </a:lnTo>
                  <a:lnTo>
                    <a:pt x="627" y="278"/>
                  </a:lnTo>
                  <a:lnTo>
                    <a:pt x="374" y="349"/>
                  </a:lnTo>
                  <a:lnTo>
                    <a:pt x="238" y="371"/>
                  </a:lnTo>
                  <a:lnTo>
                    <a:pt x="114" y="371"/>
                  </a:lnTo>
                  <a:lnTo>
                    <a:pt x="39" y="349"/>
                  </a:lnTo>
                  <a:lnTo>
                    <a:pt x="0" y="283"/>
                  </a:lnTo>
                  <a:lnTo>
                    <a:pt x="39" y="283"/>
                  </a:lnTo>
                  <a:lnTo>
                    <a:pt x="154" y="336"/>
                  </a:lnTo>
                  <a:lnTo>
                    <a:pt x="260" y="344"/>
                  </a:lnTo>
                  <a:lnTo>
                    <a:pt x="414" y="314"/>
                  </a:lnTo>
                  <a:lnTo>
                    <a:pt x="587" y="252"/>
                  </a:lnTo>
                  <a:lnTo>
                    <a:pt x="627" y="230"/>
                  </a:lnTo>
                  <a:lnTo>
                    <a:pt x="587" y="136"/>
                  </a:lnTo>
                  <a:lnTo>
                    <a:pt x="530" y="88"/>
                  </a:lnTo>
                  <a:lnTo>
                    <a:pt x="458" y="8"/>
                  </a:lnTo>
                  <a:lnTo>
                    <a:pt x="587" y="30"/>
                  </a:lnTo>
                  <a:lnTo>
                    <a:pt x="618" y="88"/>
                  </a:lnTo>
                  <a:lnTo>
                    <a:pt x="662" y="52"/>
                  </a:lnTo>
                  <a:lnTo>
                    <a:pt x="662" y="101"/>
                  </a:lnTo>
                  <a:lnTo>
                    <a:pt x="781" y="0"/>
                  </a:lnTo>
                  <a:lnTo>
                    <a:pt x="949" y="30"/>
                  </a:lnTo>
                  <a:lnTo>
                    <a:pt x="984" y="114"/>
                  </a:lnTo>
                  <a:lnTo>
                    <a:pt x="940" y="14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4" name=""/>
            <p:cNvSpPr/>
            <p:nvPr/>
          </p:nvSpPr>
          <p:spPr>
            <a:xfrm>
              <a:off x="6111720" y="5637240"/>
              <a:ext cx="770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05" name=""/>
            <p:cNvSpPr/>
            <p:nvPr/>
          </p:nvSpPr>
          <p:spPr>
            <a:xfrm>
              <a:off x="5897520" y="4699080"/>
              <a:ext cx="14760" cy="35280"/>
            </a:xfrm>
            <a:custGeom>
              <a:avLst/>
              <a:gdLst/>
              <a:ahLst/>
              <a:rect l="0" t="0" r="r" b="b"/>
              <a:pathLst>
                <a:path w="41" h="98">
                  <a:moveTo>
                    <a:pt x="27" y="0"/>
                  </a:moveTo>
                  <a:lnTo>
                    <a:pt x="41" y="30"/>
                  </a:lnTo>
                  <a:lnTo>
                    <a:pt x="41" y="62"/>
                  </a:lnTo>
                  <a:lnTo>
                    <a:pt x="27" y="89"/>
                  </a:lnTo>
                  <a:lnTo>
                    <a:pt x="14" y="98"/>
                  </a:lnTo>
                  <a:lnTo>
                    <a:pt x="0" y="98"/>
                  </a:lnTo>
                  <a:lnTo>
                    <a:pt x="0" y="84"/>
                  </a:lnTo>
                  <a:lnTo>
                    <a:pt x="14" y="84"/>
                  </a:lnTo>
                  <a:lnTo>
                    <a:pt x="27" y="62"/>
                  </a:lnTo>
                  <a:lnTo>
                    <a:pt x="32" y="35"/>
                  </a:lnTo>
                  <a:lnTo>
                    <a:pt x="14" y="8"/>
                  </a:lnTo>
                  <a:lnTo>
                    <a:pt x="27" y="0"/>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406" name=""/>
            <p:cNvSpPr/>
            <p:nvPr/>
          </p:nvSpPr>
          <p:spPr>
            <a:xfrm>
              <a:off x="5684760" y="4608360"/>
              <a:ext cx="86040" cy="41760"/>
            </a:xfrm>
            <a:custGeom>
              <a:avLst/>
              <a:gdLst/>
              <a:ahLst/>
              <a:rect l="0" t="0" r="r" b="b"/>
              <a:pathLst>
                <a:path w="239" h="116">
                  <a:moveTo>
                    <a:pt x="0" y="40"/>
                  </a:moveTo>
                  <a:lnTo>
                    <a:pt x="39" y="31"/>
                  </a:lnTo>
                  <a:lnTo>
                    <a:pt x="13" y="17"/>
                  </a:lnTo>
                  <a:lnTo>
                    <a:pt x="44" y="0"/>
                  </a:lnTo>
                  <a:lnTo>
                    <a:pt x="92" y="0"/>
                  </a:lnTo>
                  <a:lnTo>
                    <a:pt x="137" y="0"/>
                  </a:lnTo>
                  <a:lnTo>
                    <a:pt x="199" y="31"/>
                  </a:lnTo>
                  <a:lnTo>
                    <a:pt x="168" y="31"/>
                  </a:lnTo>
                  <a:lnTo>
                    <a:pt x="203" y="71"/>
                  </a:lnTo>
                  <a:lnTo>
                    <a:pt x="212" y="45"/>
                  </a:lnTo>
                  <a:lnTo>
                    <a:pt x="239" y="90"/>
                  </a:lnTo>
                  <a:lnTo>
                    <a:pt x="208" y="116"/>
                  </a:lnTo>
                  <a:lnTo>
                    <a:pt x="212" y="90"/>
                  </a:lnTo>
                  <a:lnTo>
                    <a:pt x="172" y="103"/>
                  </a:lnTo>
                  <a:lnTo>
                    <a:pt x="146" y="99"/>
                  </a:lnTo>
                  <a:lnTo>
                    <a:pt x="186" y="90"/>
                  </a:lnTo>
                  <a:lnTo>
                    <a:pt x="195" y="75"/>
                  </a:lnTo>
                  <a:lnTo>
                    <a:pt x="181" y="49"/>
                  </a:lnTo>
                  <a:lnTo>
                    <a:pt x="146" y="31"/>
                  </a:lnTo>
                  <a:lnTo>
                    <a:pt x="120" y="31"/>
                  </a:lnTo>
                  <a:lnTo>
                    <a:pt x="79" y="31"/>
                  </a:lnTo>
                  <a:lnTo>
                    <a:pt x="48" y="36"/>
                  </a:lnTo>
                  <a:lnTo>
                    <a:pt x="74" y="67"/>
                  </a:lnTo>
                  <a:lnTo>
                    <a:pt x="105" y="90"/>
                  </a:lnTo>
                  <a:lnTo>
                    <a:pt x="92" y="103"/>
                  </a:lnTo>
                  <a:lnTo>
                    <a:pt x="79" y="84"/>
                  </a:lnTo>
                  <a:lnTo>
                    <a:pt x="57" y="90"/>
                  </a:lnTo>
                  <a:lnTo>
                    <a:pt x="52" y="67"/>
                  </a:lnTo>
                  <a:lnTo>
                    <a:pt x="26" y="67"/>
                  </a:lnTo>
                  <a:lnTo>
                    <a:pt x="35" y="49"/>
                  </a:lnTo>
                  <a:lnTo>
                    <a:pt x="0" y="40"/>
                  </a:lnTo>
                  <a:close/>
                </a:path>
              </a:pathLst>
            </a:custGeom>
            <a:solidFill>
              <a:srgbClr val="000000"/>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407" name=""/>
            <p:cNvSpPr/>
            <p:nvPr/>
          </p:nvSpPr>
          <p:spPr>
            <a:xfrm>
              <a:off x="5824440" y="4618080"/>
              <a:ext cx="70200" cy="35280"/>
            </a:xfrm>
            <a:custGeom>
              <a:avLst/>
              <a:gdLst/>
              <a:ahLst/>
              <a:rect l="0" t="0" r="r" b="b"/>
              <a:pathLst>
                <a:path w="195" h="98">
                  <a:moveTo>
                    <a:pt x="0" y="62"/>
                  </a:moveTo>
                  <a:lnTo>
                    <a:pt x="17" y="22"/>
                  </a:lnTo>
                  <a:lnTo>
                    <a:pt x="70" y="0"/>
                  </a:lnTo>
                  <a:lnTo>
                    <a:pt x="92" y="0"/>
                  </a:lnTo>
                  <a:lnTo>
                    <a:pt x="79" y="17"/>
                  </a:lnTo>
                  <a:lnTo>
                    <a:pt x="106" y="17"/>
                  </a:lnTo>
                  <a:lnTo>
                    <a:pt x="111" y="4"/>
                  </a:lnTo>
                  <a:lnTo>
                    <a:pt x="128" y="13"/>
                  </a:lnTo>
                  <a:lnTo>
                    <a:pt x="155" y="8"/>
                  </a:lnTo>
                  <a:lnTo>
                    <a:pt x="159" y="22"/>
                  </a:lnTo>
                  <a:lnTo>
                    <a:pt x="190" y="17"/>
                  </a:lnTo>
                  <a:lnTo>
                    <a:pt x="164" y="44"/>
                  </a:lnTo>
                  <a:lnTo>
                    <a:pt x="195" y="62"/>
                  </a:lnTo>
                  <a:lnTo>
                    <a:pt x="155" y="71"/>
                  </a:lnTo>
                  <a:lnTo>
                    <a:pt x="150" y="84"/>
                  </a:lnTo>
                  <a:lnTo>
                    <a:pt x="128" y="75"/>
                  </a:lnTo>
                  <a:lnTo>
                    <a:pt x="111" y="98"/>
                  </a:lnTo>
                  <a:lnTo>
                    <a:pt x="98" y="89"/>
                  </a:lnTo>
                  <a:lnTo>
                    <a:pt x="70" y="89"/>
                  </a:lnTo>
                  <a:lnTo>
                    <a:pt x="111" y="75"/>
                  </a:lnTo>
                  <a:lnTo>
                    <a:pt x="137" y="62"/>
                  </a:lnTo>
                  <a:lnTo>
                    <a:pt x="150" y="48"/>
                  </a:lnTo>
                  <a:lnTo>
                    <a:pt x="124" y="39"/>
                  </a:lnTo>
                  <a:lnTo>
                    <a:pt x="98" y="30"/>
                  </a:lnTo>
                  <a:lnTo>
                    <a:pt x="61" y="22"/>
                  </a:lnTo>
                  <a:lnTo>
                    <a:pt x="26" y="44"/>
                  </a:lnTo>
                  <a:lnTo>
                    <a:pt x="0" y="62"/>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408" name=""/>
            <p:cNvSpPr/>
            <p:nvPr/>
          </p:nvSpPr>
          <p:spPr>
            <a:xfrm>
              <a:off x="5830920" y="4645080"/>
              <a:ext cx="12960" cy="5040"/>
            </a:xfrm>
            <a:custGeom>
              <a:avLst/>
              <a:gdLst/>
              <a:ahLst/>
              <a:rect l="0" t="0" r="r" b="b"/>
              <a:pathLst>
                <a:path w="36" h="14">
                  <a:moveTo>
                    <a:pt x="8" y="0"/>
                  </a:moveTo>
                  <a:lnTo>
                    <a:pt x="36" y="14"/>
                  </a:lnTo>
                  <a:lnTo>
                    <a:pt x="0" y="0"/>
                  </a:lnTo>
                  <a:lnTo>
                    <a:pt x="8" y="0"/>
                  </a:lnTo>
                  <a:close/>
                </a:path>
              </a:pathLst>
            </a:custGeom>
            <a:solidFill>
              <a:srgbClr val="000000"/>
            </a:solidFill>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09" name=""/>
            <p:cNvSpPr/>
            <p:nvPr/>
          </p:nvSpPr>
          <p:spPr>
            <a:xfrm>
              <a:off x="5692680" y="4576680"/>
              <a:ext cx="84600" cy="41760"/>
            </a:xfrm>
            <a:custGeom>
              <a:avLst/>
              <a:gdLst/>
              <a:ahLst/>
              <a:rect l="0" t="0" r="r" b="b"/>
              <a:pathLst>
                <a:path w="235" h="116">
                  <a:moveTo>
                    <a:pt x="0" y="22"/>
                  </a:moveTo>
                  <a:lnTo>
                    <a:pt x="71" y="0"/>
                  </a:lnTo>
                  <a:lnTo>
                    <a:pt x="182" y="45"/>
                  </a:lnTo>
                  <a:lnTo>
                    <a:pt x="235" y="116"/>
                  </a:lnTo>
                  <a:lnTo>
                    <a:pt x="187" y="58"/>
                  </a:lnTo>
                  <a:lnTo>
                    <a:pt x="115" y="22"/>
                  </a:lnTo>
                  <a:lnTo>
                    <a:pt x="62" y="17"/>
                  </a:lnTo>
                  <a:lnTo>
                    <a:pt x="0" y="22"/>
                  </a:lnTo>
                  <a:close/>
                </a:path>
              </a:pathLst>
            </a:custGeom>
            <a:solidFill>
              <a:srgbClr val="000000"/>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410" name=""/>
            <p:cNvSpPr/>
            <p:nvPr/>
          </p:nvSpPr>
          <p:spPr>
            <a:xfrm>
              <a:off x="5830920" y="4589640"/>
              <a:ext cx="63720" cy="18000"/>
            </a:xfrm>
            <a:custGeom>
              <a:avLst/>
              <a:gdLst/>
              <a:ahLst/>
              <a:rect l="0" t="0" r="r" b="b"/>
              <a:pathLst>
                <a:path w="177" h="50">
                  <a:moveTo>
                    <a:pt x="0" y="50"/>
                  </a:moveTo>
                  <a:lnTo>
                    <a:pt x="61" y="23"/>
                  </a:lnTo>
                  <a:lnTo>
                    <a:pt x="111" y="8"/>
                  </a:lnTo>
                  <a:lnTo>
                    <a:pt x="159" y="8"/>
                  </a:lnTo>
                  <a:lnTo>
                    <a:pt x="177" y="23"/>
                  </a:lnTo>
                  <a:lnTo>
                    <a:pt x="168" y="0"/>
                  </a:lnTo>
                  <a:lnTo>
                    <a:pt x="120" y="0"/>
                  </a:lnTo>
                  <a:lnTo>
                    <a:pt x="52" y="8"/>
                  </a:lnTo>
                  <a:lnTo>
                    <a:pt x="0" y="50"/>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411" name=""/>
            <p:cNvSpPr/>
            <p:nvPr/>
          </p:nvSpPr>
          <p:spPr>
            <a:xfrm>
              <a:off x="5757840" y="4716360"/>
              <a:ext cx="54360" cy="27360"/>
            </a:xfrm>
            <a:custGeom>
              <a:avLst/>
              <a:gdLst/>
              <a:ahLst/>
              <a:rect l="0" t="0" r="r" b="b"/>
              <a:pathLst>
                <a:path w="151" h="76">
                  <a:moveTo>
                    <a:pt x="151" y="27"/>
                  </a:moveTo>
                  <a:lnTo>
                    <a:pt x="111" y="53"/>
                  </a:lnTo>
                  <a:lnTo>
                    <a:pt x="93" y="49"/>
                  </a:lnTo>
                  <a:lnTo>
                    <a:pt x="71" y="27"/>
                  </a:lnTo>
                  <a:lnTo>
                    <a:pt x="35" y="17"/>
                  </a:lnTo>
                  <a:lnTo>
                    <a:pt x="4" y="13"/>
                  </a:lnTo>
                  <a:lnTo>
                    <a:pt x="4" y="0"/>
                  </a:lnTo>
                  <a:lnTo>
                    <a:pt x="0" y="13"/>
                  </a:lnTo>
                  <a:lnTo>
                    <a:pt x="4" y="27"/>
                  </a:lnTo>
                  <a:lnTo>
                    <a:pt x="45" y="40"/>
                  </a:lnTo>
                  <a:lnTo>
                    <a:pt x="89" y="76"/>
                  </a:lnTo>
                  <a:lnTo>
                    <a:pt x="106" y="76"/>
                  </a:lnTo>
                  <a:lnTo>
                    <a:pt x="151" y="49"/>
                  </a:lnTo>
                  <a:lnTo>
                    <a:pt x="151" y="27"/>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412" name=""/>
            <p:cNvSpPr/>
            <p:nvPr/>
          </p:nvSpPr>
          <p:spPr>
            <a:xfrm>
              <a:off x="5808600" y="4611600"/>
              <a:ext cx="16200" cy="49680"/>
            </a:xfrm>
            <a:custGeom>
              <a:avLst/>
              <a:gdLst/>
              <a:ahLst/>
              <a:rect l="0" t="0" r="r" b="b"/>
              <a:pathLst>
                <a:path w="45" h="138">
                  <a:moveTo>
                    <a:pt x="45" y="0"/>
                  </a:moveTo>
                  <a:lnTo>
                    <a:pt x="13" y="40"/>
                  </a:lnTo>
                  <a:lnTo>
                    <a:pt x="0" y="89"/>
                  </a:lnTo>
                  <a:lnTo>
                    <a:pt x="4" y="116"/>
                  </a:lnTo>
                  <a:lnTo>
                    <a:pt x="27" y="138"/>
                  </a:lnTo>
                  <a:lnTo>
                    <a:pt x="13" y="112"/>
                  </a:lnTo>
                  <a:lnTo>
                    <a:pt x="13" y="80"/>
                  </a:lnTo>
                  <a:lnTo>
                    <a:pt x="23" y="40"/>
                  </a:lnTo>
                  <a:lnTo>
                    <a:pt x="45" y="0"/>
                  </a:lnTo>
                  <a:close/>
                </a:path>
              </a:pathLst>
            </a:custGeom>
            <a:solidFill>
              <a:srgbClr val="000000"/>
            </a:solidFill>
            <a:ln w="12600">
              <a:solidFill>
                <a:srgbClr val="000000"/>
              </a:solidFill>
              <a:round/>
            </a:ln>
          </p:spPr>
          <p:txBody>
            <a:bodyPr lIns="96120" rIns="96120" tIns="-1440" bIns="-1440" anchor="t">
              <a:noAutofit/>
            </a:bodyPr>
            <a:p>
              <a:endParaRPr b="0" lang="en-US" sz="1800" spc="-1" strike="noStrike">
                <a:solidFill>
                  <a:srgbClr val="ffffff"/>
                </a:solidFill>
                <a:latin typeface="Arial"/>
              </a:endParaRPr>
            </a:p>
          </p:txBody>
        </p:sp>
        <p:sp>
          <p:nvSpPr>
            <p:cNvPr id="413" name=""/>
            <p:cNvSpPr/>
            <p:nvPr/>
          </p:nvSpPr>
          <p:spPr>
            <a:xfrm>
              <a:off x="5718240" y="4618080"/>
              <a:ext cx="22680" cy="22680"/>
            </a:xfrm>
            <a:custGeom>
              <a:avLst/>
              <a:gdLst/>
              <a:ahLst/>
              <a:rect l="0" t="0" r="r" b="b"/>
              <a:pathLst>
                <a:path w="63" h="63">
                  <a:moveTo>
                    <a:pt x="0" y="4"/>
                  </a:moveTo>
                  <a:lnTo>
                    <a:pt x="8" y="50"/>
                  </a:lnTo>
                  <a:lnTo>
                    <a:pt x="27" y="63"/>
                  </a:lnTo>
                  <a:lnTo>
                    <a:pt x="45" y="63"/>
                  </a:lnTo>
                  <a:lnTo>
                    <a:pt x="59" y="31"/>
                  </a:lnTo>
                  <a:lnTo>
                    <a:pt x="63" y="13"/>
                  </a:lnTo>
                  <a:lnTo>
                    <a:pt x="45" y="27"/>
                  </a:lnTo>
                  <a:lnTo>
                    <a:pt x="31" y="45"/>
                  </a:lnTo>
                  <a:lnTo>
                    <a:pt x="27" y="31"/>
                  </a:lnTo>
                  <a:lnTo>
                    <a:pt x="27" y="0"/>
                  </a:lnTo>
                  <a:lnTo>
                    <a:pt x="0" y="4"/>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414" name=""/>
            <p:cNvSpPr/>
            <p:nvPr/>
          </p:nvSpPr>
          <p:spPr>
            <a:xfrm>
              <a:off x="5838840" y="4627440"/>
              <a:ext cx="25920" cy="19440"/>
            </a:xfrm>
            <a:custGeom>
              <a:avLst/>
              <a:gdLst/>
              <a:ahLst/>
              <a:rect l="0" t="0" r="r" b="b"/>
              <a:pathLst>
                <a:path w="72" h="54">
                  <a:moveTo>
                    <a:pt x="0" y="8"/>
                  </a:moveTo>
                  <a:lnTo>
                    <a:pt x="4" y="54"/>
                  </a:lnTo>
                  <a:lnTo>
                    <a:pt x="49" y="54"/>
                  </a:lnTo>
                  <a:lnTo>
                    <a:pt x="72" y="27"/>
                  </a:lnTo>
                  <a:lnTo>
                    <a:pt x="72" y="0"/>
                  </a:lnTo>
                  <a:lnTo>
                    <a:pt x="45" y="0"/>
                  </a:lnTo>
                  <a:lnTo>
                    <a:pt x="49" y="23"/>
                  </a:lnTo>
                  <a:lnTo>
                    <a:pt x="31" y="36"/>
                  </a:lnTo>
                  <a:lnTo>
                    <a:pt x="17" y="0"/>
                  </a:lnTo>
                  <a:lnTo>
                    <a:pt x="0" y="8"/>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15" name=""/>
            <p:cNvSpPr/>
            <p:nvPr/>
          </p:nvSpPr>
          <p:spPr>
            <a:xfrm>
              <a:off x="5737320" y="4762440"/>
              <a:ext cx="93960" cy="8280"/>
            </a:xfrm>
            <a:custGeom>
              <a:avLst/>
              <a:gdLst/>
              <a:ahLst/>
              <a:rect l="0" t="0" r="r" b="b"/>
              <a:pathLst>
                <a:path w="261" h="23">
                  <a:moveTo>
                    <a:pt x="0" y="4"/>
                  </a:moveTo>
                  <a:lnTo>
                    <a:pt x="88" y="0"/>
                  </a:lnTo>
                  <a:lnTo>
                    <a:pt x="150" y="14"/>
                  </a:lnTo>
                  <a:lnTo>
                    <a:pt x="190" y="4"/>
                  </a:lnTo>
                  <a:lnTo>
                    <a:pt x="261" y="14"/>
                  </a:lnTo>
                  <a:lnTo>
                    <a:pt x="203" y="18"/>
                  </a:lnTo>
                  <a:lnTo>
                    <a:pt x="150" y="23"/>
                  </a:lnTo>
                  <a:lnTo>
                    <a:pt x="35" y="14"/>
                  </a:lnTo>
                  <a:lnTo>
                    <a:pt x="0" y="4"/>
                  </a:lnTo>
                  <a:close/>
                </a:path>
              </a:pathLst>
            </a:custGeom>
            <a:solidFill>
              <a:srgbClr val="000000"/>
            </a:solidFill>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416" name=""/>
            <p:cNvSpPr/>
            <p:nvPr/>
          </p:nvSpPr>
          <p:spPr>
            <a:xfrm>
              <a:off x="5756400" y="4778280"/>
              <a:ext cx="60840" cy="11520"/>
            </a:xfrm>
            <a:custGeom>
              <a:avLst/>
              <a:gdLst/>
              <a:ahLst/>
              <a:rect l="0" t="0" r="r" b="b"/>
              <a:pathLst>
                <a:path w="169" h="32">
                  <a:moveTo>
                    <a:pt x="0" y="0"/>
                  </a:moveTo>
                  <a:lnTo>
                    <a:pt x="39" y="28"/>
                  </a:lnTo>
                  <a:lnTo>
                    <a:pt x="115" y="32"/>
                  </a:lnTo>
                  <a:lnTo>
                    <a:pt x="169" y="0"/>
                  </a:lnTo>
                  <a:lnTo>
                    <a:pt x="120" y="14"/>
                  </a:lnTo>
                  <a:lnTo>
                    <a:pt x="49" y="9"/>
                  </a:lnTo>
                  <a:lnTo>
                    <a:pt x="0" y="0"/>
                  </a:lnTo>
                  <a:close/>
                </a:path>
              </a:pathLst>
            </a:custGeom>
            <a:solidFill>
              <a:srgbClr val="000000"/>
            </a:solidFill>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417" name=""/>
            <p:cNvSpPr/>
            <p:nvPr/>
          </p:nvSpPr>
          <p:spPr>
            <a:xfrm>
              <a:off x="6716880" y="4815000"/>
              <a:ext cx="162360" cy="146520"/>
            </a:xfrm>
            <a:custGeom>
              <a:avLst/>
              <a:gdLst/>
              <a:ahLst/>
              <a:rect l="0" t="0" r="r" b="b"/>
              <a:pathLst>
                <a:path w="451" h="407">
                  <a:moveTo>
                    <a:pt x="74" y="168"/>
                  </a:moveTo>
                  <a:lnTo>
                    <a:pt x="97" y="97"/>
                  </a:lnTo>
                  <a:lnTo>
                    <a:pt x="225" y="0"/>
                  </a:lnTo>
                  <a:lnTo>
                    <a:pt x="376" y="48"/>
                  </a:lnTo>
                  <a:lnTo>
                    <a:pt x="300" y="48"/>
                  </a:lnTo>
                  <a:lnTo>
                    <a:pt x="390" y="168"/>
                  </a:lnTo>
                  <a:lnTo>
                    <a:pt x="429" y="150"/>
                  </a:lnTo>
                  <a:lnTo>
                    <a:pt x="398" y="74"/>
                  </a:lnTo>
                  <a:lnTo>
                    <a:pt x="451" y="168"/>
                  </a:lnTo>
                  <a:lnTo>
                    <a:pt x="416" y="208"/>
                  </a:lnTo>
                  <a:lnTo>
                    <a:pt x="451" y="398"/>
                  </a:lnTo>
                  <a:lnTo>
                    <a:pt x="403" y="407"/>
                  </a:lnTo>
                  <a:lnTo>
                    <a:pt x="350" y="394"/>
                  </a:lnTo>
                  <a:lnTo>
                    <a:pt x="412" y="385"/>
                  </a:lnTo>
                  <a:lnTo>
                    <a:pt x="359" y="265"/>
                  </a:lnTo>
                  <a:lnTo>
                    <a:pt x="265" y="159"/>
                  </a:lnTo>
                  <a:lnTo>
                    <a:pt x="372" y="243"/>
                  </a:lnTo>
                  <a:lnTo>
                    <a:pt x="412" y="337"/>
                  </a:lnTo>
                  <a:lnTo>
                    <a:pt x="385" y="190"/>
                  </a:lnTo>
                  <a:lnTo>
                    <a:pt x="225" y="30"/>
                  </a:lnTo>
                  <a:lnTo>
                    <a:pt x="199" y="97"/>
                  </a:lnTo>
                  <a:lnTo>
                    <a:pt x="225" y="137"/>
                  </a:lnTo>
                  <a:lnTo>
                    <a:pt x="177" y="137"/>
                  </a:lnTo>
                  <a:lnTo>
                    <a:pt x="243" y="243"/>
                  </a:lnTo>
                  <a:lnTo>
                    <a:pt x="146" y="168"/>
                  </a:lnTo>
                  <a:lnTo>
                    <a:pt x="0" y="296"/>
                  </a:lnTo>
                  <a:lnTo>
                    <a:pt x="13" y="199"/>
                  </a:lnTo>
                  <a:lnTo>
                    <a:pt x="74" y="16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8" name=""/>
            <p:cNvSpPr/>
            <p:nvPr/>
          </p:nvSpPr>
          <p:spPr>
            <a:xfrm>
              <a:off x="6742080" y="4911840"/>
              <a:ext cx="114840" cy="152640"/>
            </a:xfrm>
            <a:custGeom>
              <a:avLst/>
              <a:gdLst/>
              <a:ahLst/>
              <a:rect l="0" t="0" r="r" b="b"/>
              <a:pathLst>
                <a:path w="319" h="424">
                  <a:moveTo>
                    <a:pt x="266" y="163"/>
                  </a:moveTo>
                  <a:lnTo>
                    <a:pt x="234" y="145"/>
                  </a:lnTo>
                  <a:lnTo>
                    <a:pt x="195" y="88"/>
                  </a:lnTo>
                  <a:lnTo>
                    <a:pt x="155" y="88"/>
                  </a:lnTo>
                  <a:lnTo>
                    <a:pt x="111" y="44"/>
                  </a:lnTo>
                  <a:lnTo>
                    <a:pt x="111" y="83"/>
                  </a:lnTo>
                  <a:lnTo>
                    <a:pt x="70" y="88"/>
                  </a:lnTo>
                  <a:lnTo>
                    <a:pt x="30" y="39"/>
                  </a:lnTo>
                  <a:lnTo>
                    <a:pt x="52" y="105"/>
                  </a:lnTo>
                  <a:lnTo>
                    <a:pt x="0" y="105"/>
                  </a:lnTo>
                  <a:lnTo>
                    <a:pt x="66" y="149"/>
                  </a:lnTo>
                  <a:lnTo>
                    <a:pt x="61" y="217"/>
                  </a:lnTo>
                  <a:lnTo>
                    <a:pt x="102" y="309"/>
                  </a:lnTo>
                  <a:lnTo>
                    <a:pt x="102" y="247"/>
                  </a:lnTo>
                  <a:lnTo>
                    <a:pt x="124" y="225"/>
                  </a:lnTo>
                  <a:lnTo>
                    <a:pt x="137" y="256"/>
                  </a:lnTo>
                  <a:lnTo>
                    <a:pt x="168" y="230"/>
                  </a:lnTo>
                  <a:lnTo>
                    <a:pt x="208" y="230"/>
                  </a:lnTo>
                  <a:lnTo>
                    <a:pt x="257" y="278"/>
                  </a:lnTo>
                  <a:lnTo>
                    <a:pt x="253" y="344"/>
                  </a:lnTo>
                  <a:lnTo>
                    <a:pt x="221" y="424"/>
                  </a:lnTo>
                  <a:lnTo>
                    <a:pt x="293" y="309"/>
                  </a:lnTo>
                  <a:lnTo>
                    <a:pt x="315" y="230"/>
                  </a:lnTo>
                  <a:lnTo>
                    <a:pt x="319" y="123"/>
                  </a:lnTo>
                  <a:lnTo>
                    <a:pt x="293" y="123"/>
                  </a:lnTo>
                  <a:lnTo>
                    <a:pt x="248" y="35"/>
                  </a:lnTo>
                  <a:lnTo>
                    <a:pt x="199" y="0"/>
                  </a:lnTo>
                  <a:lnTo>
                    <a:pt x="244" y="61"/>
                  </a:lnTo>
                  <a:lnTo>
                    <a:pt x="266" y="114"/>
                  </a:lnTo>
                  <a:lnTo>
                    <a:pt x="266" y="16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19" name=""/>
            <p:cNvSpPr/>
            <p:nvPr/>
          </p:nvSpPr>
          <p:spPr>
            <a:xfrm>
              <a:off x="6602400" y="4930920"/>
              <a:ext cx="464040" cy="698760"/>
            </a:xfrm>
            <a:custGeom>
              <a:avLst/>
              <a:gdLst/>
              <a:ahLst/>
              <a:rect l="0" t="0" r="r" b="b"/>
              <a:pathLst>
                <a:path w="1289" h="1941">
                  <a:moveTo>
                    <a:pt x="317" y="0"/>
                  </a:moveTo>
                  <a:lnTo>
                    <a:pt x="375" y="339"/>
                  </a:lnTo>
                  <a:lnTo>
                    <a:pt x="393" y="361"/>
                  </a:lnTo>
                  <a:lnTo>
                    <a:pt x="419" y="370"/>
                  </a:lnTo>
                  <a:lnTo>
                    <a:pt x="402" y="396"/>
                  </a:lnTo>
                  <a:lnTo>
                    <a:pt x="362" y="392"/>
                  </a:lnTo>
                  <a:lnTo>
                    <a:pt x="353" y="436"/>
                  </a:lnTo>
                  <a:lnTo>
                    <a:pt x="375" y="471"/>
                  </a:lnTo>
                  <a:lnTo>
                    <a:pt x="411" y="489"/>
                  </a:lnTo>
                  <a:lnTo>
                    <a:pt x="441" y="476"/>
                  </a:lnTo>
                  <a:lnTo>
                    <a:pt x="459" y="383"/>
                  </a:lnTo>
                  <a:lnTo>
                    <a:pt x="499" y="383"/>
                  </a:lnTo>
                  <a:lnTo>
                    <a:pt x="538" y="361"/>
                  </a:lnTo>
                  <a:lnTo>
                    <a:pt x="561" y="321"/>
                  </a:lnTo>
                  <a:lnTo>
                    <a:pt x="561" y="366"/>
                  </a:lnTo>
                  <a:lnTo>
                    <a:pt x="583" y="361"/>
                  </a:lnTo>
                  <a:lnTo>
                    <a:pt x="622" y="339"/>
                  </a:lnTo>
                  <a:lnTo>
                    <a:pt x="600" y="366"/>
                  </a:lnTo>
                  <a:lnTo>
                    <a:pt x="561" y="423"/>
                  </a:lnTo>
                  <a:lnTo>
                    <a:pt x="525" y="515"/>
                  </a:lnTo>
                  <a:lnTo>
                    <a:pt x="688" y="330"/>
                  </a:lnTo>
                  <a:lnTo>
                    <a:pt x="715" y="352"/>
                  </a:lnTo>
                  <a:lnTo>
                    <a:pt x="618" y="630"/>
                  </a:lnTo>
                  <a:lnTo>
                    <a:pt x="622" y="997"/>
                  </a:lnTo>
                  <a:lnTo>
                    <a:pt x="882" y="1024"/>
                  </a:lnTo>
                  <a:lnTo>
                    <a:pt x="1003" y="1085"/>
                  </a:lnTo>
                  <a:lnTo>
                    <a:pt x="1064" y="1085"/>
                  </a:lnTo>
                  <a:lnTo>
                    <a:pt x="1100" y="1147"/>
                  </a:lnTo>
                  <a:lnTo>
                    <a:pt x="882" y="1054"/>
                  </a:lnTo>
                  <a:lnTo>
                    <a:pt x="719" y="1046"/>
                  </a:lnTo>
                  <a:lnTo>
                    <a:pt x="799" y="1094"/>
                  </a:lnTo>
                  <a:lnTo>
                    <a:pt x="719" y="1094"/>
                  </a:lnTo>
                  <a:lnTo>
                    <a:pt x="600" y="1081"/>
                  </a:lnTo>
                  <a:lnTo>
                    <a:pt x="688" y="1156"/>
                  </a:lnTo>
                  <a:lnTo>
                    <a:pt x="976" y="1209"/>
                  </a:lnTo>
                  <a:lnTo>
                    <a:pt x="733" y="1182"/>
                  </a:lnTo>
                  <a:lnTo>
                    <a:pt x="882" y="1275"/>
                  </a:lnTo>
                  <a:lnTo>
                    <a:pt x="865" y="1297"/>
                  </a:lnTo>
                  <a:lnTo>
                    <a:pt x="658" y="1191"/>
                  </a:lnTo>
                  <a:lnTo>
                    <a:pt x="693" y="1297"/>
                  </a:lnTo>
                  <a:lnTo>
                    <a:pt x="1016" y="1385"/>
                  </a:lnTo>
                  <a:lnTo>
                    <a:pt x="1223" y="1522"/>
                  </a:lnTo>
                  <a:lnTo>
                    <a:pt x="1016" y="1478"/>
                  </a:lnTo>
                  <a:lnTo>
                    <a:pt x="896" y="1398"/>
                  </a:lnTo>
                  <a:lnTo>
                    <a:pt x="719" y="1345"/>
                  </a:lnTo>
                  <a:lnTo>
                    <a:pt x="807" y="1447"/>
                  </a:lnTo>
                  <a:lnTo>
                    <a:pt x="1289" y="1619"/>
                  </a:lnTo>
                  <a:lnTo>
                    <a:pt x="807" y="1478"/>
                  </a:lnTo>
                  <a:lnTo>
                    <a:pt x="666" y="1376"/>
                  </a:lnTo>
                  <a:lnTo>
                    <a:pt x="675" y="1429"/>
                  </a:lnTo>
                  <a:lnTo>
                    <a:pt x="807" y="1557"/>
                  </a:lnTo>
                  <a:lnTo>
                    <a:pt x="994" y="1601"/>
                  </a:lnTo>
                  <a:lnTo>
                    <a:pt x="1100" y="1681"/>
                  </a:lnTo>
                  <a:lnTo>
                    <a:pt x="949" y="1654"/>
                  </a:lnTo>
                  <a:lnTo>
                    <a:pt x="763" y="1557"/>
                  </a:lnTo>
                  <a:lnTo>
                    <a:pt x="706" y="1570"/>
                  </a:lnTo>
                  <a:lnTo>
                    <a:pt x="733" y="1667"/>
                  </a:lnTo>
                  <a:lnTo>
                    <a:pt x="781" y="1707"/>
                  </a:lnTo>
                  <a:lnTo>
                    <a:pt x="1016" y="1716"/>
                  </a:lnTo>
                  <a:lnTo>
                    <a:pt x="777" y="1844"/>
                  </a:lnTo>
                  <a:lnTo>
                    <a:pt x="741" y="1831"/>
                  </a:lnTo>
                  <a:lnTo>
                    <a:pt x="688" y="1645"/>
                  </a:lnTo>
                  <a:lnTo>
                    <a:pt x="631" y="1853"/>
                  </a:lnTo>
                  <a:lnTo>
                    <a:pt x="640" y="1941"/>
                  </a:lnTo>
                  <a:lnTo>
                    <a:pt x="574" y="1861"/>
                  </a:lnTo>
                  <a:lnTo>
                    <a:pt x="675" y="1592"/>
                  </a:lnTo>
                  <a:lnTo>
                    <a:pt x="666" y="1522"/>
                  </a:lnTo>
                  <a:lnTo>
                    <a:pt x="622" y="1398"/>
                  </a:lnTo>
                  <a:lnTo>
                    <a:pt x="587" y="1235"/>
                  </a:lnTo>
                  <a:lnTo>
                    <a:pt x="508" y="1037"/>
                  </a:lnTo>
                  <a:lnTo>
                    <a:pt x="415" y="1209"/>
                  </a:lnTo>
                  <a:lnTo>
                    <a:pt x="415" y="1385"/>
                  </a:lnTo>
                  <a:lnTo>
                    <a:pt x="238" y="1610"/>
                  </a:lnTo>
                  <a:lnTo>
                    <a:pt x="0" y="1698"/>
                  </a:lnTo>
                  <a:lnTo>
                    <a:pt x="26" y="1557"/>
                  </a:lnTo>
                  <a:lnTo>
                    <a:pt x="158" y="1420"/>
                  </a:lnTo>
                  <a:lnTo>
                    <a:pt x="327" y="1337"/>
                  </a:lnTo>
                  <a:lnTo>
                    <a:pt x="402" y="1138"/>
                  </a:lnTo>
                  <a:lnTo>
                    <a:pt x="393" y="1046"/>
                  </a:lnTo>
                  <a:lnTo>
                    <a:pt x="459" y="815"/>
                  </a:lnTo>
                  <a:lnTo>
                    <a:pt x="380" y="789"/>
                  </a:lnTo>
                  <a:lnTo>
                    <a:pt x="317" y="745"/>
                  </a:lnTo>
                  <a:lnTo>
                    <a:pt x="393" y="515"/>
                  </a:lnTo>
                  <a:lnTo>
                    <a:pt x="353" y="498"/>
                  </a:lnTo>
                  <a:lnTo>
                    <a:pt x="336" y="432"/>
                  </a:lnTo>
                  <a:lnTo>
                    <a:pt x="336" y="343"/>
                  </a:lnTo>
                  <a:lnTo>
                    <a:pt x="317" y="39"/>
                  </a:lnTo>
                  <a:lnTo>
                    <a:pt x="31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0" name=""/>
            <p:cNvSpPr/>
            <p:nvPr/>
          </p:nvSpPr>
          <p:spPr>
            <a:xfrm>
              <a:off x="6500880" y="4992840"/>
              <a:ext cx="187560" cy="495720"/>
            </a:xfrm>
            <a:custGeom>
              <a:avLst/>
              <a:gdLst/>
              <a:ahLst/>
              <a:rect l="0" t="0" r="r" b="b"/>
              <a:pathLst>
                <a:path w="521" h="1377">
                  <a:moveTo>
                    <a:pt x="521" y="242"/>
                  </a:moveTo>
                  <a:lnTo>
                    <a:pt x="441" y="446"/>
                  </a:lnTo>
                  <a:lnTo>
                    <a:pt x="384" y="574"/>
                  </a:lnTo>
                  <a:lnTo>
                    <a:pt x="292" y="772"/>
                  </a:lnTo>
                  <a:lnTo>
                    <a:pt x="255" y="807"/>
                  </a:lnTo>
                  <a:lnTo>
                    <a:pt x="265" y="979"/>
                  </a:lnTo>
                  <a:lnTo>
                    <a:pt x="309" y="1205"/>
                  </a:lnTo>
                  <a:lnTo>
                    <a:pt x="353" y="1377"/>
                  </a:lnTo>
                  <a:lnTo>
                    <a:pt x="292" y="1174"/>
                  </a:lnTo>
                  <a:lnTo>
                    <a:pt x="255" y="975"/>
                  </a:lnTo>
                  <a:lnTo>
                    <a:pt x="185" y="927"/>
                  </a:lnTo>
                  <a:lnTo>
                    <a:pt x="194" y="1051"/>
                  </a:lnTo>
                  <a:lnTo>
                    <a:pt x="265" y="1258"/>
                  </a:lnTo>
                  <a:lnTo>
                    <a:pt x="180" y="1064"/>
                  </a:lnTo>
                  <a:lnTo>
                    <a:pt x="145" y="913"/>
                  </a:lnTo>
                  <a:lnTo>
                    <a:pt x="66" y="913"/>
                  </a:lnTo>
                  <a:lnTo>
                    <a:pt x="0" y="966"/>
                  </a:lnTo>
                  <a:lnTo>
                    <a:pt x="66" y="896"/>
                  </a:lnTo>
                  <a:lnTo>
                    <a:pt x="119" y="874"/>
                  </a:lnTo>
                  <a:lnTo>
                    <a:pt x="163" y="706"/>
                  </a:lnTo>
                  <a:lnTo>
                    <a:pt x="163" y="618"/>
                  </a:lnTo>
                  <a:lnTo>
                    <a:pt x="127" y="565"/>
                  </a:lnTo>
                  <a:lnTo>
                    <a:pt x="127" y="508"/>
                  </a:lnTo>
                  <a:lnTo>
                    <a:pt x="211" y="185"/>
                  </a:lnTo>
                  <a:lnTo>
                    <a:pt x="292" y="0"/>
                  </a:lnTo>
                  <a:lnTo>
                    <a:pt x="233" y="268"/>
                  </a:lnTo>
                  <a:lnTo>
                    <a:pt x="163" y="538"/>
                  </a:lnTo>
                  <a:lnTo>
                    <a:pt x="233" y="627"/>
                  </a:lnTo>
                  <a:lnTo>
                    <a:pt x="274" y="719"/>
                  </a:lnTo>
                  <a:lnTo>
                    <a:pt x="455" y="362"/>
                  </a:lnTo>
                  <a:lnTo>
                    <a:pt x="521" y="24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1" name=""/>
            <p:cNvSpPr/>
            <p:nvPr/>
          </p:nvSpPr>
          <p:spPr>
            <a:xfrm>
              <a:off x="6638760" y="5241960"/>
              <a:ext cx="20880" cy="125640"/>
            </a:xfrm>
            <a:custGeom>
              <a:avLst/>
              <a:gdLst/>
              <a:ahLst/>
              <a:rect l="0" t="0" r="r" b="b"/>
              <a:pathLst>
                <a:path w="58" h="349">
                  <a:moveTo>
                    <a:pt x="0" y="0"/>
                  </a:moveTo>
                  <a:lnTo>
                    <a:pt x="36" y="88"/>
                  </a:lnTo>
                  <a:lnTo>
                    <a:pt x="36" y="239"/>
                  </a:lnTo>
                  <a:lnTo>
                    <a:pt x="58" y="305"/>
                  </a:lnTo>
                  <a:lnTo>
                    <a:pt x="31" y="349"/>
                  </a:lnTo>
                  <a:lnTo>
                    <a:pt x="17" y="163"/>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2" name=""/>
            <p:cNvSpPr/>
            <p:nvPr/>
          </p:nvSpPr>
          <p:spPr>
            <a:xfrm>
              <a:off x="6500880" y="5349960"/>
              <a:ext cx="116280" cy="192600"/>
            </a:xfrm>
            <a:custGeom>
              <a:avLst/>
              <a:gdLst/>
              <a:ahLst/>
              <a:rect l="0" t="0" r="r" b="b"/>
              <a:pathLst>
                <a:path w="323" h="535">
                  <a:moveTo>
                    <a:pt x="0" y="0"/>
                  </a:moveTo>
                  <a:lnTo>
                    <a:pt x="128" y="420"/>
                  </a:lnTo>
                  <a:lnTo>
                    <a:pt x="230" y="429"/>
                  </a:lnTo>
                  <a:lnTo>
                    <a:pt x="323" y="495"/>
                  </a:lnTo>
                  <a:lnTo>
                    <a:pt x="275" y="535"/>
                  </a:lnTo>
                  <a:lnTo>
                    <a:pt x="128" y="478"/>
                  </a:lnTo>
                  <a:lnTo>
                    <a:pt x="61" y="256"/>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3" name=""/>
            <p:cNvSpPr/>
            <p:nvPr/>
          </p:nvSpPr>
          <p:spPr>
            <a:xfrm>
              <a:off x="6519960" y="5315040"/>
              <a:ext cx="35280" cy="95760"/>
            </a:xfrm>
            <a:custGeom>
              <a:avLst/>
              <a:gdLst/>
              <a:ahLst/>
              <a:rect l="0" t="0" r="r" b="b"/>
              <a:pathLst>
                <a:path w="98" h="266">
                  <a:moveTo>
                    <a:pt x="98" y="13"/>
                  </a:moveTo>
                  <a:lnTo>
                    <a:pt x="26" y="266"/>
                  </a:lnTo>
                  <a:lnTo>
                    <a:pt x="0" y="186"/>
                  </a:lnTo>
                  <a:lnTo>
                    <a:pt x="80" y="0"/>
                  </a:lnTo>
                  <a:lnTo>
                    <a:pt x="98" y="13"/>
                  </a:lnTo>
                  <a:close/>
                </a:path>
              </a:pathLst>
            </a:custGeom>
            <a:solidFill>
              <a:srgbClr val="000000"/>
            </a:solidFill>
            <a:ln w="12600">
              <a:solidFill>
                <a:srgbClr val="000000"/>
              </a:solidFill>
              <a:round/>
            </a:ln>
          </p:spPr>
          <p:txBody>
            <a:bodyPr lIns="96120" rIns="96120" tIns="44640" bIns="44640" anchor="t">
              <a:noAutofit/>
            </a:bodyPr>
            <a:p>
              <a:endParaRPr b="0" lang="en-US" sz="1800" spc="-1" strike="noStrike">
                <a:solidFill>
                  <a:srgbClr val="ffffff"/>
                </a:solidFill>
                <a:latin typeface="Arial"/>
              </a:endParaRPr>
            </a:p>
          </p:txBody>
        </p:sp>
        <p:sp>
          <p:nvSpPr>
            <p:cNvPr id="424" name=""/>
            <p:cNvSpPr/>
            <p:nvPr/>
          </p:nvSpPr>
          <p:spPr>
            <a:xfrm>
              <a:off x="6570720" y="5068800"/>
              <a:ext cx="28800" cy="89280"/>
            </a:xfrm>
            <a:custGeom>
              <a:avLst/>
              <a:gdLst/>
              <a:ahLst/>
              <a:rect l="0" t="0" r="r" b="b"/>
              <a:pathLst>
                <a:path w="80" h="248">
                  <a:moveTo>
                    <a:pt x="58" y="0"/>
                  </a:moveTo>
                  <a:lnTo>
                    <a:pt x="58" y="133"/>
                  </a:lnTo>
                  <a:lnTo>
                    <a:pt x="80" y="248"/>
                  </a:lnTo>
                  <a:lnTo>
                    <a:pt x="0" y="159"/>
                  </a:lnTo>
                  <a:lnTo>
                    <a:pt x="58" y="0"/>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425" name=""/>
            <p:cNvSpPr/>
            <p:nvPr/>
          </p:nvSpPr>
          <p:spPr>
            <a:xfrm>
              <a:off x="6610320" y="4861080"/>
              <a:ext cx="143280" cy="205200"/>
            </a:xfrm>
            <a:custGeom>
              <a:avLst/>
              <a:gdLst/>
              <a:ahLst/>
              <a:rect l="0" t="0" r="r" b="b"/>
              <a:pathLst>
                <a:path w="398" h="570">
                  <a:moveTo>
                    <a:pt x="0" y="314"/>
                  </a:moveTo>
                  <a:lnTo>
                    <a:pt x="39" y="314"/>
                  </a:lnTo>
                  <a:lnTo>
                    <a:pt x="128" y="415"/>
                  </a:lnTo>
                  <a:lnTo>
                    <a:pt x="190" y="570"/>
                  </a:lnTo>
                  <a:lnTo>
                    <a:pt x="137" y="406"/>
                  </a:lnTo>
                  <a:lnTo>
                    <a:pt x="70" y="265"/>
                  </a:lnTo>
                  <a:lnTo>
                    <a:pt x="35" y="247"/>
                  </a:lnTo>
                  <a:lnTo>
                    <a:pt x="172" y="132"/>
                  </a:lnTo>
                  <a:lnTo>
                    <a:pt x="319" y="114"/>
                  </a:lnTo>
                  <a:lnTo>
                    <a:pt x="398" y="0"/>
                  </a:lnTo>
                  <a:lnTo>
                    <a:pt x="225" y="26"/>
                  </a:lnTo>
                  <a:lnTo>
                    <a:pt x="137" y="123"/>
                  </a:lnTo>
                  <a:lnTo>
                    <a:pt x="13" y="247"/>
                  </a:lnTo>
                  <a:lnTo>
                    <a:pt x="0" y="31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6" name=""/>
            <p:cNvSpPr/>
            <p:nvPr/>
          </p:nvSpPr>
          <p:spPr>
            <a:xfrm>
              <a:off x="6816600" y="4781520"/>
              <a:ext cx="32040" cy="46440"/>
            </a:xfrm>
            <a:custGeom>
              <a:avLst/>
              <a:gdLst/>
              <a:ahLst/>
              <a:rect l="0" t="0" r="r" b="b"/>
              <a:pathLst>
                <a:path w="89" h="129">
                  <a:moveTo>
                    <a:pt x="49" y="0"/>
                  </a:moveTo>
                  <a:lnTo>
                    <a:pt x="0" y="129"/>
                  </a:lnTo>
                  <a:lnTo>
                    <a:pt x="22" y="129"/>
                  </a:lnTo>
                  <a:lnTo>
                    <a:pt x="89" y="26"/>
                  </a:lnTo>
                  <a:lnTo>
                    <a:pt x="49" y="0"/>
                  </a:lnTo>
                  <a:close/>
                </a:path>
              </a:pathLst>
            </a:custGeom>
            <a:solidFill>
              <a:srgbClr val="000000"/>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427" name=""/>
            <p:cNvSpPr/>
            <p:nvPr/>
          </p:nvSpPr>
          <p:spPr>
            <a:xfrm>
              <a:off x="6856560" y="4906800"/>
              <a:ext cx="267120" cy="173520"/>
            </a:xfrm>
            <a:custGeom>
              <a:avLst/>
              <a:gdLst/>
              <a:ahLst/>
              <a:rect l="0" t="0" r="r" b="b"/>
              <a:pathLst>
                <a:path w="742" h="482">
                  <a:moveTo>
                    <a:pt x="39" y="150"/>
                  </a:moveTo>
                  <a:lnTo>
                    <a:pt x="79" y="208"/>
                  </a:lnTo>
                  <a:lnTo>
                    <a:pt x="132" y="265"/>
                  </a:lnTo>
                  <a:lnTo>
                    <a:pt x="149" y="283"/>
                  </a:lnTo>
                  <a:lnTo>
                    <a:pt x="190" y="265"/>
                  </a:lnTo>
                  <a:lnTo>
                    <a:pt x="190" y="309"/>
                  </a:lnTo>
                  <a:lnTo>
                    <a:pt x="221" y="336"/>
                  </a:lnTo>
                  <a:lnTo>
                    <a:pt x="309" y="372"/>
                  </a:lnTo>
                  <a:lnTo>
                    <a:pt x="358" y="398"/>
                  </a:lnTo>
                  <a:lnTo>
                    <a:pt x="402" y="434"/>
                  </a:lnTo>
                  <a:lnTo>
                    <a:pt x="433" y="465"/>
                  </a:lnTo>
                  <a:lnTo>
                    <a:pt x="681" y="13"/>
                  </a:lnTo>
                  <a:lnTo>
                    <a:pt x="711" y="0"/>
                  </a:lnTo>
                  <a:lnTo>
                    <a:pt x="738" y="0"/>
                  </a:lnTo>
                  <a:lnTo>
                    <a:pt x="742" y="13"/>
                  </a:lnTo>
                  <a:lnTo>
                    <a:pt x="734" y="17"/>
                  </a:lnTo>
                  <a:lnTo>
                    <a:pt x="707" y="17"/>
                  </a:lnTo>
                  <a:lnTo>
                    <a:pt x="681" y="35"/>
                  </a:lnTo>
                  <a:lnTo>
                    <a:pt x="650" y="70"/>
                  </a:lnTo>
                  <a:lnTo>
                    <a:pt x="433" y="482"/>
                  </a:lnTo>
                  <a:lnTo>
                    <a:pt x="344" y="451"/>
                  </a:lnTo>
                  <a:lnTo>
                    <a:pt x="402" y="460"/>
                  </a:lnTo>
                  <a:lnTo>
                    <a:pt x="367" y="420"/>
                  </a:lnTo>
                  <a:lnTo>
                    <a:pt x="305" y="385"/>
                  </a:lnTo>
                  <a:lnTo>
                    <a:pt x="243" y="363"/>
                  </a:lnTo>
                  <a:lnTo>
                    <a:pt x="221" y="358"/>
                  </a:lnTo>
                  <a:lnTo>
                    <a:pt x="274" y="412"/>
                  </a:lnTo>
                  <a:lnTo>
                    <a:pt x="221" y="376"/>
                  </a:lnTo>
                  <a:lnTo>
                    <a:pt x="190" y="349"/>
                  </a:lnTo>
                  <a:lnTo>
                    <a:pt x="149" y="300"/>
                  </a:lnTo>
                  <a:lnTo>
                    <a:pt x="101" y="252"/>
                  </a:lnTo>
                  <a:lnTo>
                    <a:pt x="57" y="217"/>
                  </a:lnTo>
                  <a:lnTo>
                    <a:pt x="17" y="177"/>
                  </a:lnTo>
                  <a:lnTo>
                    <a:pt x="0" y="142"/>
                  </a:lnTo>
                  <a:lnTo>
                    <a:pt x="39" y="15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28" name=""/>
            <p:cNvSpPr/>
            <p:nvPr/>
          </p:nvSpPr>
          <p:spPr>
            <a:xfrm>
              <a:off x="6858000" y="4740120"/>
              <a:ext cx="76680" cy="100440"/>
            </a:xfrm>
            <a:custGeom>
              <a:avLst/>
              <a:gdLst/>
              <a:ahLst/>
              <a:rect l="0" t="0" r="r" b="b"/>
              <a:pathLst>
                <a:path w="213" h="279">
                  <a:moveTo>
                    <a:pt x="0" y="266"/>
                  </a:moveTo>
                  <a:lnTo>
                    <a:pt x="146" y="26"/>
                  </a:lnTo>
                  <a:lnTo>
                    <a:pt x="173" y="8"/>
                  </a:lnTo>
                  <a:lnTo>
                    <a:pt x="191" y="0"/>
                  </a:lnTo>
                  <a:lnTo>
                    <a:pt x="213" y="0"/>
                  </a:lnTo>
                  <a:lnTo>
                    <a:pt x="178" y="13"/>
                  </a:lnTo>
                  <a:lnTo>
                    <a:pt x="155" y="39"/>
                  </a:lnTo>
                  <a:lnTo>
                    <a:pt x="4" y="279"/>
                  </a:lnTo>
                  <a:lnTo>
                    <a:pt x="0" y="266"/>
                  </a:lnTo>
                  <a:close/>
                </a:path>
              </a:pathLst>
            </a:custGeom>
            <a:solidFill>
              <a:srgbClr val="000000"/>
            </a:solidFill>
            <a:ln w="12600">
              <a:solidFill>
                <a:srgbClr val="000000"/>
              </a:solidFill>
              <a:round/>
            </a:ln>
          </p:spPr>
          <p:txBody>
            <a:bodyPr lIns="96120" rIns="96120" tIns="49320" bIns="49320" anchor="t">
              <a:noAutofit/>
            </a:bodyPr>
            <a:p>
              <a:endParaRPr b="0" lang="en-US" sz="1800" spc="-1" strike="noStrike">
                <a:solidFill>
                  <a:srgbClr val="ffffff"/>
                </a:solidFill>
                <a:latin typeface="Arial"/>
              </a:endParaRPr>
            </a:p>
          </p:txBody>
        </p:sp>
        <p:sp>
          <p:nvSpPr>
            <p:cNvPr id="429" name=""/>
            <p:cNvSpPr/>
            <p:nvPr/>
          </p:nvSpPr>
          <p:spPr>
            <a:xfrm>
              <a:off x="6867360" y="4842000"/>
              <a:ext cx="187560" cy="70200"/>
            </a:xfrm>
            <a:custGeom>
              <a:avLst/>
              <a:gdLst/>
              <a:ahLst/>
              <a:rect l="0" t="0" r="r" b="b"/>
              <a:pathLst>
                <a:path w="521" h="195">
                  <a:moveTo>
                    <a:pt x="0" y="195"/>
                  </a:moveTo>
                  <a:lnTo>
                    <a:pt x="26" y="172"/>
                  </a:lnTo>
                  <a:lnTo>
                    <a:pt x="61" y="146"/>
                  </a:lnTo>
                  <a:lnTo>
                    <a:pt x="97" y="88"/>
                  </a:lnTo>
                  <a:lnTo>
                    <a:pt x="114" y="57"/>
                  </a:lnTo>
                  <a:lnTo>
                    <a:pt x="132" y="39"/>
                  </a:lnTo>
                  <a:lnTo>
                    <a:pt x="149" y="22"/>
                  </a:lnTo>
                  <a:lnTo>
                    <a:pt x="185" y="17"/>
                  </a:lnTo>
                  <a:lnTo>
                    <a:pt x="274" y="0"/>
                  </a:lnTo>
                  <a:lnTo>
                    <a:pt x="322" y="0"/>
                  </a:lnTo>
                  <a:lnTo>
                    <a:pt x="393" y="30"/>
                  </a:lnTo>
                  <a:lnTo>
                    <a:pt x="441" y="70"/>
                  </a:lnTo>
                  <a:lnTo>
                    <a:pt x="521" y="111"/>
                  </a:lnTo>
                  <a:lnTo>
                    <a:pt x="464" y="102"/>
                  </a:lnTo>
                  <a:lnTo>
                    <a:pt x="419" y="83"/>
                  </a:lnTo>
                  <a:lnTo>
                    <a:pt x="393" y="70"/>
                  </a:lnTo>
                  <a:lnTo>
                    <a:pt x="358" y="61"/>
                  </a:lnTo>
                  <a:lnTo>
                    <a:pt x="340" y="66"/>
                  </a:lnTo>
                  <a:lnTo>
                    <a:pt x="322" y="124"/>
                  </a:lnTo>
                  <a:lnTo>
                    <a:pt x="283" y="172"/>
                  </a:lnTo>
                  <a:lnTo>
                    <a:pt x="309" y="124"/>
                  </a:lnTo>
                  <a:lnTo>
                    <a:pt x="331" y="57"/>
                  </a:lnTo>
                  <a:lnTo>
                    <a:pt x="331" y="39"/>
                  </a:lnTo>
                  <a:lnTo>
                    <a:pt x="318" y="22"/>
                  </a:lnTo>
                  <a:lnTo>
                    <a:pt x="283" y="13"/>
                  </a:lnTo>
                  <a:lnTo>
                    <a:pt x="246" y="17"/>
                  </a:lnTo>
                  <a:lnTo>
                    <a:pt x="233" y="35"/>
                  </a:lnTo>
                  <a:lnTo>
                    <a:pt x="255" y="181"/>
                  </a:lnTo>
                  <a:lnTo>
                    <a:pt x="242" y="181"/>
                  </a:lnTo>
                  <a:lnTo>
                    <a:pt x="189" y="159"/>
                  </a:lnTo>
                  <a:lnTo>
                    <a:pt x="145" y="142"/>
                  </a:lnTo>
                  <a:lnTo>
                    <a:pt x="119" y="124"/>
                  </a:lnTo>
                  <a:lnTo>
                    <a:pt x="101" y="111"/>
                  </a:lnTo>
                  <a:lnTo>
                    <a:pt x="83" y="142"/>
                  </a:lnTo>
                  <a:lnTo>
                    <a:pt x="48" y="172"/>
                  </a:lnTo>
                  <a:lnTo>
                    <a:pt x="22" y="186"/>
                  </a:lnTo>
                  <a:lnTo>
                    <a:pt x="0" y="195"/>
                  </a:lnTo>
                  <a:close/>
                </a:path>
              </a:pathLst>
            </a:custGeom>
            <a:solidFill>
              <a:srgbClr val="000000"/>
            </a:solidFill>
            <a:ln w="12600">
              <a:solidFill>
                <a:srgbClr val="000000"/>
              </a:solidFill>
              <a:round/>
            </a:ln>
          </p:spPr>
          <p:txBody>
            <a:bodyPr lIns="96120" rIns="96120" tIns="19080" bIns="19080" anchor="t">
              <a:noAutofit/>
            </a:bodyPr>
            <a:p>
              <a:endParaRPr b="0" lang="en-US" sz="1800" spc="-1" strike="noStrike">
                <a:solidFill>
                  <a:srgbClr val="ffffff"/>
                </a:solidFill>
                <a:latin typeface="Arial"/>
              </a:endParaRPr>
            </a:p>
          </p:txBody>
        </p:sp>
        <p:sp>
          <p:nvSpPr>
            <p:cNvPr id="430" name=""/>
            <p:cNvSpPr/>
            <p:nvPr/>
          </p:nvSpPr>
          <p:spPr>
            <a:xfrm>
              <a:off x="7045200" y="4737240"/>
              <a:ext cx="106560" cy="127440"/>
            </a:xfrm>
            <a:custGeom>
              <a:avLst/>
              <a:gdLst/>
              <a:ahLst/>
              <a:rect l="0" t="0" r="r" b="b"/>
              <a:pathLst>
                <a:path w="296" h="354">
                  <a:moveTo>
                    <a:pt x="0" y="0"/>
                  </a:moveTo>
                  <a:lnTo>
                    <a:pt x="30" y="48"/>
                  </a:lnTo>
                  <a:lnTo>
                    <a:pt x="48" y="93"/>
                  </a:lnTo>
                  <a:lnTo>
                    <a:pt x="66" y="208"/>
                  </a:lnTo>
                  <a:lnTo>
                    <a:pt x="57" y="354"/>
                  </a:lnTo>
                  <a:lnTo>
                    <a:pt x="88" y="221"/>
                  </a:lnTo>
                  <a:lnTo>
                    <a:pt x="114" y="155"/>
                  </a:lnTo>
                  <a:lnTo>
                    <a:pt x="164" y="89"/>
                  </a:lnTo>
                  <a:lnTo>
                    <a:pt x="186" y="93"/>
                  </a:lnTo>
                  <a:lnTo>
                    <a:pt x="164" y="208"/>
                  </a:lnTo>
                  <a:lnTo>
                    <a:pt x="168" y="239"/>
                  </a:lnTo>
                  <a:lnTo>
                    <a:pt x="296" y="61"/>
                  </a:lnTo>
                  <a:lnTo>
                    <a:pt x="239" y="22"/>
                  </a:lnTo>
                  <a:lnTo>
                    <a:pt x="195" y="57"/>
                  </a:lnTo>
                  <a:lnTo>
                    <a:pt x="164" y="52"/>
                  </a:lnTo>
                  <a:lnTo>
                    <a:pt x="88" y="66"/>
                  </a:lnTo>
                  <a:lnTo>
                    <a:pt x="61" y="66"/>
                  </a:lnTo>
                  <a:lnTo>
                    <a:pt x="30" y="22"/>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1" name=""/>
            <p:cNvSpPr/>
            <p:nvPr/>
          </p:nvSpPr>
          <p:spPr>
            <a:xfrm>
              <a:off x="6943680" y="4896000"/>
              <a:ext cx="222480" cy="662400"/>
            </a:xfrm>
            <a:custGeom>
              <a:avLst/>
              <a:gdLst/>
              <a:ahLst/>
              <a:rect l="0" t="0" r="r" b="b"/>
              <a:pathLst>
                <a:path w="618" h="1840">
                  <a:moveTo>
                    <a:pt x="74" y="17"/>
                  </a:moveTo>
                  <a:lnTo>
                    <a:pt x="149" y="110"/>
                  </a:lnTo>
                  <a:lnTo>
                    <a:pt x="202" y="268"/>
                  </a:lnTo>
                  <a:lnTo>
                    <a:pt x="318" y="569"/>
                  </a:lnTo>
                  <a:lnTo>
                    <a:pt x="437" y="1006"/>
                  </a:lnTo>
                  <a:lnTo>
                    <a:pt x="534" y="1337"/>
                  </a:lnTo>
                  <a:lnTo>
                    <a:pt x="618" y="1532"/>
                  </a:lnTo>
                  <a:lnTo>
                    <a:pt x="494" y="1840"/>
                  </a:lnTo>
                  <a:lnTo>
                    <a:pt x="397" y="1739"/>
                  </a:lnTo>
                  <a:lnTo>
                    <a:pt x="189" y="1580"/>
                  </a:lnTo>
                  <a:lnTo>
                    <a:pt x="26" y="440"/>
                  </a:lnTo>
                  <a:lnTo>
                    <a:pt x="0" y="220"/>
                  </a:lnTo>
                  <a:lnTo>
                    <a:pt x="13" y="83"/>
                  </a:lnTo>
                  <a:lnTo>
                    <a:pt x="26" y="35"/>
                  </a:lnTo>
                  <a:lnTo>
                    <a:pt x="26" y="0"/>
                  </a:lnTo>
                  <a:lnTo>
                    <a:pt x="48" y="35"/>
                  </a:lnTo>
                  <a:lnTo>
                    <a:pt x="39" y="110"/>
                  </a:lnTo>
                  <a:lnTo>
                    <a:pt x="48" y="233"/>
                  </a:lnTo>
                  <a:lnTo>
                    <a:pt x="57" y="374"/>
                  </a:lnTo>
                  <a:lnTo>
                    <a:pt x="88" y="561"/>
                  </a:lnTo>
                  <a:lnTo>
                    <a:pt x="211" y="1187"/>
                  </a:lnTo>
                  <a:lnTo>
                    <a:pt x="255" y="1549"/>
                  </a:lnTo>
                  <a:lnTo>
                    <a:pt x="268" y="1598"/>
                  </a:lnTo>
                  <a:lnTo>
                    <a:pt x="384" y="1699"/>
                  </a:lnTo>
                  <a:lnTo>
                    <a:pt x="486" y="1783"/>
                  </a:lnTo>
                  <a:lnTo>
                    <a:pt x="552" y="1602"/>
                  </a:lnTo>
                  <a:lnTo>
                    <a:pt x="587" y="1532"/>
                  </a:lnTo>
                  <a:lnTo>
                    <a:pt x="490" y="1271"/>
                  </a:lnTo>
                  <a:lnTo>
                    <a:pt x="428" y="1028"/>
                  </a:lnTo>
                  <a:lnTo>
                    <a:pt x="327" y="684"/>
                  </a:lnTo>
                  <a:lnTo>
                    <a:pt x="264" y="445"/>
                  </a:lnTo>
                  <a:lnTo>
                    <a:pt x="171" y="194"/>
                  </a:lnTo>
                  <a:lnTo>
                    <a:pt x="123" y="97"/>
                  </a:lnTo>
                  <a:lnTo>
                    <a:pt x="74"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2" name=""/>
            <p:cNvSpPr/>
            <p:nvPr/>
          </p:nvSpPr>
          <p:spPr>
            <a:xfrm>
              <a:off x="6881760" y="5105520"/>
              <a:ext cx="614880" cy="532080"/>
            </a:xfrm>
            <a:custGeom>
              <a:avLst/>
              <a:gdLst/>
              <a:ahLst/>
              <a:rect l="0" t="0" r="r" b="b"/>
              <a:pathLst>
                <a:path w="1708" h="1478">
                  <a:moveTo>
                    <a:pt x="710" y="759"/>
                  </a:moveTo>
                  <a:lnTo>
                    <a:pt x="909" y="834"/>
                  </a:lnTo>
                  <a:lnTo>
                    <a:pt x="1090" y="940"/>
                  </a:lnTo>
                  <a:lnTo>
                    <a:pt x="1226" y="984"/>
                  </a:lnTo>
                  <a:lnTo>
                    <a:pt x="1311" y="1076"/>
                  </a:lnTo>
                  <a:lnTo>
                    <a:pt x="1443" y="1134"/>
                  </a:lnTo>
                  <a:lnTo>
                    <a:pt x="1435" y="1068"/>
                  </a:lnTo>
                  <a:lnTo>
                    <a:pt x="1329" y="944"/>
                  </a:lnTo>
                  <a:lnTo>
                    <a:pt x="1187" y="838"/>
                  </a:lnTo>
                  <a:lnTo>
                    <a:pt x="1395" y="949"/>
                  </a:lnTo>
                  <a:lnTo>
                    <a:pt x="1430" y="723"/>
                  </a:lnTo>
                  <a:lnTo>
                    <a:pt x="1364" y="732"/>
                  </a:lnTo>
                  <a:lnTo>
                    <a:pt x="1311" y="723"/>
                  </a:lnTo>
                  <a:lnTo>
                    <a:pt x="1248" y="679"/>
                  </a:lnTo>
                  <a:lnTo>
                    <a:pt x="1307" y="665"/>
                  </a:lnTo>
                  <a:lnTo>
                    <a:pt x="1364" y="608"/>
                  </a:lnTo>
                  <a:lnTo>
                    <a:pt x="1404" y="542"/>
                  </a:lnTo>
                  <a:lnTo>
                    <a:pt x="1430" y="405"/>
                  </a:lnTo>
                  <a:lnTo>
                    <a:pt x="1435" y="216"/>
                  </a:lnTo>
                  <a:lnTo>
                    <a:pt x="1408" y="0"/>
                  </a:lnTo>
                  <a:lnTo>
                    <a:pt x="1540" y="132"/>
                  </a:lnTo>
                  <a:lnTo>
                    <a:pt x="1602" y="242"/>
                  </a:lnTo>
                  <a:lnTo>
                    <a:pt x="1589" y="260"/>
                  </a:lnTo>
                  <a:lnTo>
                    <a:pt x="1492" y="194"/>
                  </a:lnTo>
                  <a:lnTo>
                    <a:pt x="1514" y="427"/>
                  </a:lnTo>
                  <a:lnTo>
                    <a:pt x="1624" y="665"/>
                  </a:lnTo>
                  <a:lnTo>
                    <a:pt x="1660" y="807"/>
                  </a:lnTo>
                  <a:lnTo>
                    <a:pt x="1620" y="856"/>
                  </a:lnTo>
                  <a:lnTo>
                    <a:pt x="1624" y="940"/>
                  </a:lnTo>
                  <a:lnTo>
                    <a:pt x="1708" y="1068"/>
                  </a:lnTo>
                  <a:lnTo>
                    <a:pt x="1708" y="1107"/>
                  </a:lnTo>
                  <a:lnTo>
                    <a:pt x="1668" y="1156"/>
                  </a:lnTo>
                  <a:lnTo>
                    <a:pt x="1514" y="1262"/>
                  </a:lnTo>
                  <a:lnTo>
                    <a:pt x="1426" y="1332"/>
                  </a:lnTo>
                  <a:lnTo>
                    <a:pt x="1307" y="1478"/>
                  </a:lnTo>
                  <a:lnTo>
                    <a:pt x="1121" y="1478"/>
                  </a:lnTo>
                  <a:lnTo>
                    <a:pt x="1085" y="1451"/>
                  </a:lnTo>
                  <a:lnTo>
                    <a:pt x="1019" y="1451"/>
                  </a:lnTo>
                  <a:lnTo>
                    <a:pt x="979" y="1478"/>
                  </a:lnTo>
                  <a:lnTo>
                    <a:pt x="0" y="1478"/>
                  </a:lnTo>
                  <a:lnTo>
                    <a:pt x="123" y="1390"/>
                  </a:lnTo>
                  <a:lnTo>
                    <a:pt x="255" y="1315"/>
                  </a:lnTo>
                  <a:lnTo>
                    <a:pt x="401" y="1248"/>
                  </a:lnTo>
                  <a:lnTo>
                    <a:pt x="556" y="1196"/>
                  </a:lnTo>
                  <a:lnTo>
                    <a:pt x="627" y="1182"/>
                  </a:lnTo>
                  <a:lnTo>
                    <a:pt x="649" y="1226"/>
                  </a:lnTo>
                  <a:lnTo>
                    <a:pt x="631" y="1319"/>
                  </a:lnTo>
                  <a:lnTo>
                    <a:pt x="662" y="1363"/>
                  </a:lnTo>
                  <a:lnTo>
                    <a:pt x="882" y="1332"/>
                  </a:lnTo>
                  <a:lnTo>
                    <a:pt x="891" y="1306"/>
                  </a:lnTo>
                  <a:lnTo>
                    <a:pt x="882" y="1288"/>
                  </a:lnTo>
                  <a:lnTo>
                    <a:pt x="710" y="1306"/>
                  </a:lnTo>
                  <a:lnTo>
                    <a:pt x="688" y="1293"/>
                  </a:lnTo>
                  <a:lnTo>
                    <a:pt x="684" y="1226"/>
                  </a:lnTo>
                  <a:lnTo>
                    <a:pt x="728" y="1187"/>
                  </a:lnTo>
                  <a:lnTo>
                    <a:pt x="746" y="1213"/>
                  </a:lnTo>
                  <a:lnTo>
                    <a:pt x="781" y="1262"/>
                  </a:lnTo>
                  <a:lnTo>
                    <a:pt x="830" y="1262"/>
                  </a:lnTo>
                  <a:lnTo>
                    <a:pt x="856" y="1200"/>
                  </a:lnTo>
                  <a:lnTo>
                    <a:pt x="768" y="1169"/>
                  </a:lnTo>
                  <a:lnTo>
                    <a:pt x="728" y="1160"/>
                  </a:lnTo>
                  <a:lnTo>
                    <a:pt x="869" y="1156"/>
                  </a:lnTo>
                  <a:lnTo>
                    <a:pt x="1072" y="1151"/>
                  </a:lnTo>
                  <a:lnTo>
                    <a:pt x="1182" y="1156"/>
                  </a:lnTo>
                  <a:lnTo>
                    <a:pt x="1063" y="1107"/>
                  </a:lnTo>
                  <a:lnTo>
                    <a:pt x="1002" y="1041"/>
                  </a:lnTo>
                  <a:lnTo>
                    <a:pt x="1085" y="1072"/>
                  </a:lnTo>
                  <a:lnTo>
                    <a:pt x="1285" y="1156"/>
                  </a:lnTo>
                  <a:lnTo>
                    <a:pt x="1391" y="1169"/>
                  </a:lnTo>
                  <a:lnTo>
                    <a:pt x="1147" y="993"/>
                  </a:lnTo>
                  <a:lnTo>
                    <a:pt x="949" y="878"/>
                  </a:lnTo>
                  <a:lnTo>
                    <a:pt x="825" y="843"/>
                  </a:lnTo>
                  <a:lnTo>
                    <a:pt x="781" y="799"/>
                  </a:lnTo>
                  <a:lnTo>
                    <a:pt x="710" y="75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3" name=""/>
            <p:cNvSpPr/>
            <p:nvPr/>
          </p:nvSpPr>
          <p:spPr>
            <a:xfrm>
              <a:off x="7176960" y="4740120"/>
              <a:ext cx="119520" cy="57600"/>
            </a:xfrm>
            <a:custGeom>
              <a:avLst/>
              <a:gdLst/>
              <a:ahLst/>
              <a:rect l="0" t="0" r="r" b="b"/>
              <a:pathLst>
                <a:path w="332" h="160">
                  <a:moveTo>
                    <a:pt x="0" y="53"/>
                  </a:moveTo>
                  <a:lnTo>
                    <a:pt x="0" y="160"/>
                  </a:lnTo>
                  <a:lnTo>
                    <a:pt x="181" y="30"/>
                  </a:lnTo>
                  <a:lnTo>
                    <a:pt x="199" y="53"/>
                  </a:lnTo>
                  <a:lnTo>
                    <a:pt x="266" y="62"/>
                  </a:lnTo>
                  <a:lnTo>
                    <a:pt x="332" y="13"/>
                  </a:lnTo>
                  <a:lnTo>
                    <a:pt x="266" y="45"/>
                  </a:lnTo>
                  <a:lnTo>
                    <a:pt x="221" y="30"/>
                  </a:lnTo>
                  <a:lnTo>
                    <a:pt x="181" y="0"/>
                  </a:lnTo>
                  <a:lnTo>
                    <a:pt x="102" y="53"/>
                  </a:lnTo>
                  <a:lnTo>
                    <a:pt x="0" y="53"/>
                  </a:lnTo>
                  <a:close/>
                </a:path>
              </a:pathLst>
            </a:custGeom>
            <a:solidFill>
              <a:srgbClr val="000000"/>
            </a:solidFill>
            <a:ln w="12600">
              <a:solidFill>
                <a:srgbClr val="000000"/>
              </a:solidFill>
              <a:round/>
            </a:ln>
          </p:spPr>
          <p:txBody>
            <a:bodyPr lIns="96120" rIns="96120" tIns="6480" bIns="6480" anchor="t">
              <a:noAutofit/>
            </a:bodyPr>
            <a:p>
              <a:endParaRPr b="0" lang="en-US" sz="1800" spc="-1" strike="noStrike">
                <a:solidFill>
                  <a:srgbClr val="ffffff"/>
                </a:solidFill>
                <a:latin typeface="Arial"/>
              </a:endParaRPr>
            </a:p>
          </p:txBody>
        </p:sp>
        <p:sp>
          <p:nvSpPr>
            <p:cNvPr id="434" name=""/>
            <p:cNvSpPr/>
            <p:nvPr/>
          </p:nvSpPr>
          <p:spPr>
            <a:xfrm>
              <a:off x="7332840" y="4759200"/>
              <a:ext cx="192600" cy="309960"/>
            </a:xfrm>
            <a:custGeom>
              <a:avLst/>
              <a:gdLst/>
              <a:ahLst/>
              <a:rect l="0" t="0" r="r" b="b"/>
              <a:pathLst>
                <a:path w="535" h="861">
                  <a:moveTo>
                    <a:pt x="0" y="0"/>
                  </a:moveTo>
                  <a:lnTo>
                    <a:pt x="217" y="300"/>
                  </a:lnTo>
                  <a:lnTo>
                    <a:pt x="322" y="353"/>
                  </a:lnTo>
                  <a:lnTo>
                    <a:pt x="336" y="547"/>
                  </a:lnTo>
                  <a:lnTo>
                    <a:pt x="393" y="659"/>
                  </a:lnTo>
                  <a:lnTo>
                    <a:pt x="393" y="861"/>
                  </a:lnTo>
                  <a:lnTo>
                    <a:pt x="420" y="831"/>
                  </a:lnTo>
                  <a:lnTo>
                    <a:pt x="420" y="543"/>
                  </a:lnTo>
                  <a:lnTo>
                    <a:pt x="504" y="600"/>
                  </a:lnTo>
                  <a:lnTo>
                    <a:pt x="522" y="689"/>
                  </a:lnTo>
                  <a:lnTo>
                    <a:pt x="535" y="605"/>
                  </a:lnTo>
                  <a:lnTo>
                    <a:pt x="478" y="464"/>
                  </a:lnTo>
                  <a:lnTo>
                    <a:pt x="274" y="252"/>
                  </a:lnTo>
                  <a:lnTo>
                    <a:pt x="195" y="225"/>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5" name=""/>
            <p:cNvSpPr/>
            <p:nvPr/>
          </p:nvSpPr>
          <p:spPr>
            <a:xfrm>
              <a:off x="7236000" y="4886280"/>
              <a:ext cx="103680" cy="154440"/>
            </a:xfrm>
            <a:custGeom>
              <a:avLst/>
              <a:gdLst/>
              <a:ahLst/>
              <a:rect l="0" t="0" r="r" b="b"/>
              <a:pathLst>
                <a:path w="288" h="429">
                  <a:moveTo>
                    <a:pt x="0" y="208"/>
                  </a:moveTo>
                  <a:lnTo>
                    <a:pt x="57" y="88"/>
                  </a:lnTo>
                  <a:lnTo>
                    <a:pt x="106" y="83"/>
                  </a:lnTo>
                  <a:lnTo>
                    <a:pt x="177" y="97"/>
                  </a:lnTo>
                  <a:lnTo>
                    <a:pt x="190" y="0"/>
                  </a:lnTo>
                  <a:lnTo>
                    <a:pt x="288" y="429"/>
                  </a:lnTo>
                  <a:lnTo>
                    <a:pt x="177" y="221"/>
                  </a:lnTo>
                  <a:lnTo>
                    <a:pt x="124" y="190"/>
                  </a:lnTo>
                  <a:lnTo>
                    <a:pt x="66" y="181"/>
                  </a:lnTo>
                  <a:lnTo>
                    <a:pt x="0" y="20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6" name=""/>
            <p:cNvSpPr/>
            <p:nvPr/>
          </p:nvSpPr>
          <p:spPr>
            <a:xfrm>
              <a:off x="7469280" y="4997520"/>
              <a:ext cx="194040" cy="330480"/>
            </a:xfrm>
            <a:custGeom>
              <a:avLst/>
              <a:gdLst/>
              <a:ahLst/>
              <a:rect l="0" t="0" r="r" b="b"/>
              <a:pathLst>
                <a:path w="539" h="918">
                  <a:moveTo>
                    <a:pt x="199" y="0"/>
                  </a:moveTo>
                  <a:lnTo>
                    <a:pt x="195" y="79"/>
                  </a:lnTo>
                  <a:lnTo>
                    <a:pt x="132" y="189"/>
                  </a:lnTo>
                  <a:lnTo>
                    <a:pt x="57" y="308"/>
                  </a:lnTo>
                  <a:lnTo>
                    <a:pt x="26" y="401"/>
                  </a:lnTo>
                  <a:lnTo>
                    <a:pt x="26" y="449"/>
                  </a:lnTo>
                  <a:lnTo>
                    <a:pt x="52" y="516"/>
                  </a:lnTo>
                  <a:lnTo>
                    <a:pt x="74" y="569"/>
                  </a:lnTo>
                  <a:lnTo>
                    <a:pt x="0" y="569"/>
                  </a:lnTo>
                  <a:lnTo>
                    <a:pt x="97" y="605"/>
                  </a:lnTo>
                  <a:lnTo>
                    <a:pt x="132" y="706"/>
                  </a:lnTo>
                  <a:lnTo>
                    <a:pt x="247" y="706"/>
                  </a:lnTo>
                  <a:lnTo>
                    <a:pt x="375" y="918"/>
                  </a:lnTo>
                  <a:lnTo>
                    <a:pt x="402" y="860"/>
                  </a:lnTo>
                  <a:lnTo>
                    <a:pt x="402" y="772"/>
                  </a:lnTo>
                  <a:lnTo>
                    <a:pt x="487" y="609"/>
                  </a:lnTo>
                  <a:lnTo>
                    <a:pt x="539" y="374"/>
                  </a:lnTo>
                  <a:lnTo>
                    <a:pt x="469" y="600"/>
                  </a:lnTo>
                  <a:lnTo>
                    <a:pt x="420" y="583"/>
                  </a:lnTo>
                  <a:lnTo>
                    <a:pt x="451" y="530"/>
                  </a:lnTo>
                  <a:lnTo>
                    <a:pt x="164" y="662"/>
                  </a:lnTo>
                  <a:lnTo>
                    <a:pt x="159" y="605"/>
                  </a:lnTo>
                  <a:lnTo>
                    <a:pt x="97" y="561"/>
                  </a:lnTo>
                  <a:lnTo>
                    <a:pt x="256" y="410"/>
                  </a:lnTo>
                  <a:lnTo>
                    <a:pt x="142" y="481"/>
                  </a:lnTo>
                  <a:lnTo>
                    <a:pt x="114" y="410"/>
                  </a:lnTo>
                  <a:lnTo>
                    <a:pt x="123" y="330"/>
                  </a:lnTo>
                  <a:lnTo>
                    <a:pt x="155" y="268"/>
                  </a:lnTo>
                  <a:lnTo>
                    <a:pt x="265" y="132"/>
                  </a:lnTo>
                  <a:lnTo>
                    <a:pt x="269" y="79"/>
                  </a:lnTo>
                  <a:lnTo>
                    <a:pt x="265" y="44"/>
                  </a:lnTo>
                  <a:lnTo>
                    <a:pt x="225" y="44"/>
                  </a:lnTo>
                  <a:lnTo>
                    <a:pt x="19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7" name=""/>
            <p:cNvSpPr/>
            <p:nvPr/>
          </p:nvSpPr>
          <p:spPr>
            <a:xfrm>
              <a:off x="7505640" y="5340240"/>
              <a:ext cx="211320" cy="143280"/>
            </a:xfrm>
            <a:custGeom>
              <a:avLst/>
              <a:gdLst/>
              <a:ahLst/>
              <a:rect l="0" t="0" r="r" b="b"/>
              <a:pathLst>
                <a:path w="587" h="398">
                  <a:moveTo>
                    <a:pt x="0" y="398"/>
                  </a:moveTo>
                  <a:lnTo>
                    <a:pt x="74" y="283"/>
                  </a:lnTo>
                  <a:lnTo>
                    <a:pt x="358" y="142"/>
                  </a:lnTo>
                  <a:lnTo>
                    <a:pt x="508" y="142"/>
                  </a:lnTo>
                  <a:lnTo>
                    <a:pt x="587" y="92"/>
                  </a:lnTo>
                  <a:lnTo>
                    <a:pt x="411" y="92"/>
                  </a:lnTo>
                  <a:lnTo>
                    <a:pt x="300" y="133"/>
                  </a:lnTo>
                  <a:lnTo>
                    <a:pt x="251" y="115"/>
                  </a:lnTo>
                  <a:lnTo>
                    <a:pt x="264" y="0"/>
                  </a:lnTo>
                  <a:lnTo>
                    <a:pt x="202" y="8"/>
                  </a:lnTo>
                  <a:lnTo>
                    <a:pt x="202" y="133"/>
                  </a:lnTo>
                  <a:lnTo>
                    <a:pt x="154" y="199"/>
                  </a:lnTo>
                  <a:lnTo>
                    <a:pt x="83" y="208"/>
                  </a:lnTo>
                  <a:lnTo>
                    <a:pt x="13" y="310"/>
                  </a:lnTo>
                  <a:lnTo>
                    <a:pt x="0" y="39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8" name=""/>
            <p:cNvSpPr/>
            <p:nvPr/>
          </p:nvSpPr>
          <p:spPr>
            <a:xfrm>
              <a:off x="7524720" y="5745240"/>
              <a:ext cx="322560" cy="127440"/>
            </a:xfrm>
            <a:custGeom>
              <a:avLst/>
              <a:gdLst/>
              <a:ahLst/>
              <a:rect l="0" t="0" r="r" b="b"/>
              <a:pathLst>
                <a:path w="896" h="354">
                  <a:moveTo>
                    <a:pt x="896" y="142"/>
                  </a:moveTo>
                  <a:lnTo>
                    <a:pt x="636" y="230"/>
                  </a:lnTo>
                  <a:lnTo>
                    <a:pt x="468" y="354"/>
                  </a:lnTo>
                  <a:lnTo>
                    <a:pt x="455" y="293"/>
                  </a:lnTo>
                  <a:lnTo>
                    <a:pt x="684" y="146"/>
                  </a:lnTo>
                  <a:lnTo>
                    <a:pt x="662" y="111"/>
                  </a:lnTo>
                  <a:lnTo>
                    <a:pt x="534" y="120"/>
                  </a:lnTo>
                  <a:lnTo>
                    <a:pt x="361" y="172"/>
                  </a:lnTo>
                  <a:lnTo>
                    <a:pt x="383" y="89"/>
                  </a:lnTo>
                  <a:lnTo>
                    <a:pt x="233" y="74"/>
                  </a:lnTo>
                  <a:lnTo>
                    <a:pt x="154" y="48"/>
                  </a:lnTo>
                  <a:lnTo>
                    <a:pt x="48" y="22"/>
                  </a:lnTo>
                  <a:lnTo>
                    <a:pt x="0" y="52"/>
                  </a:lnTo>
                  <a:lnTo>
                    <a:pt x="61" y="0"/>
                  </a:lnTo>
                  <a:lnTo>
                    <a:pt x="185" y="35"/>
                  </a:lnTo>
                  <a:lnTo>
                    <a:pt x="304" y="66"/>
                  </a:lnTo>
                  <a:lnTo>
                    <a:pt x="401" y="57"/>
                  </a:lnTo>
                  <a:lnTo>
                    <a:pt x="494" y="48"/>
                  </a:lnTo>
                  <a:lnTo>
                    <a:pt x="565" y="93"/>
                  </a:lnTo>
                  <a:lnTo>
                    <a:pt x="772" y="74"/>
                  </a:lnTo>
                  <a:lnTo>
                    <a:pt x="878" y="124"/>
                  </a:lnTo>
                  <a:lnTo>
                    <a:pt x="896" y="14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39" name=""/>
            <p:cNvSpPr/>
            <p:nvPr/>
          </p:nvSpPr>
          <p:spPr>
            <a:xfrm>
              <a:off x="7140600" y="5619600"/>
              <a:ext cx="475200" cy="348120"/>
            </a:xfrm>
            <a:custGeom>
              <a:avLst/>
              <a:gdLst/>
              <a:ahLst/>
              <a:rect l="0" t="0" r="r" b="b"/>
              <a:pathLst>
                <a:path w="1320" h="967">
                  <a:moveTo>
                    <a:pt x="971" y="530"/>
                  </a:moveTo>
                  <a:lnTo>
                    <a:pt x="944" y="653"/>
                  </a:lnTo>
                  <a:lnTo>
                    <a:pt x="944" y="747"/>
                  </a:lnTo>
                  <a:lnTo>
                    <a:pt x="971" y="826"/>
                  </a:lnTo>
                  <a:lnTo>
                    <a:pt x="988" y="870"/>
                  </a:lnTo>
                  <a:lnTo>
                    <a:pt x="1320" y="967"/>
                  </a:lnTo>
                  <a:lnTo>
                    <a:pt x="971" y="914"/>
                  </a:lnTo>
                  <a:lnTo>
                    <a:pt x="940" y="870"/>
                  </a:lnTo>
                  <a:lnTo>
                    <a:pt x="662" y="866"/>
                  </a:lnTo>
                  <a:lnTo>
                    <a:pt x="428" y="822"/>
                  </a:lnTo>
                  <a:lnTo>
                    <a:pt x="229" y="756"/>
                  </a:lnTo>
                  <a:lnTo>
                    <a:pt x="70" y="680"/>
                  </a:lnTo>
                  <a:lnTo>
                    <a:pt x="52" y="653"/>
                  </a:lnTo>
                  <a:lnTo>
                    <a:pt x="39" y="596"/>
                  </a:lnTo>
                  <a:lnTo>
                    <a:pt x="0" y="521"/>
                  </a:lnTo>
                  <a:lnTo>
                    <a:pt x="8" y="494"/>
                  </a:lnTo>
                  <a:lnTo>
                    <a:pt x="22" y="468"/>
                  </a:lnTo>
                  <a:lnTo>
                    <a:pt x="22" y="362"/>
                  </a:lnTo>
                  <a:lnTo>
                    <a:pt x="39" y="322"/>
                  </a:lnTo>
                  <a:lnTo>
                    <a:pt x="61" y="305"/>
                  </a:lnTo>
                  <a:lnTo>
                    <a:pt x="44" y="344"/>
                  </a:lnTo>
                  <a:lnTo>
                    <a:pt x="39" y="437"/>
                  </a:lnTo>
                  <a:lnTo>
                    <a:pt x="44" y="490"/>
                  </a:lnTo>
                  <a:lnTo>
                    <a:pt x="171" y="600"/>
                  </a:lnTo>
                  <a:lnTo>
                    <a:pt x="194" y="596"/>
                  </a:lnTo>
                  <a:lnTo>
                    <a:pt x="211" y="534"/>
                  </a:lnTo>
                  <a:lnTo>
                    <a:pt x="127" y="397"/>
                  </a:lnTo>
                  <a:lnTo>
                    <a:pt x="105" y="278"/>
                  </a:lnTo>
                  <a:lnTo>
                    <a:pt x="154" y="167"/>
                  </a:lnTo>
                  <a:lnTo>
                    <a:pt x="154" y="340"/>
                  </a:lnTo>
                  <a:lnTo>
                    <a:pt x="268" y="622"/>
                  </a:lnTo>
                  <a:lnTo>
                    <a:pt x="331" y="636"/>
                  </a:lnTo>
                  <a:lnTo>
                    <a:pt x="367" y="609"/>
                  </a:lnTo>
                  <a:lnTo>
                    <a:pt x="362" y="547"/>
                  </a:lnTo>
                  <a:lnTo>
                    <a:pt x="238" y="224"/>
                  </a:lnTo>
                  <a:lnTo>
                    <a:pt x="238" y="132"/>
                  </a:lnTo>
                  <a:lnTo>
                    <a:pt x="238" y="61"/>
                  </a:lnTo>
                  <a:lnTo>
                    <a:pt x="268" y="0"/>
                  </a:lnTo>
                  <a:lnTo>
                    <a:pt x="255" y="110"/>
                  </a:lnTo>
                  <a:lnTo>
                    <a:pt x="260" y="216"/>
                  </a:lnTo>
                  <a:lnTo>
                    <a:pt x="340" y="433"/>
                  </a:lnTo>
                  <a:lnTo>
                    <a:pt x="371" y="446"/>
                  </a:lnTo>
                  <a:lnTo>
                    <a:pt x="402" y="415"/>
                  </a:lnTo>
                  <a:lnTo>
                    <a:pt x="411" y="371"/>
                  </a:lnTo>
                  <a:lnTo>
                    <a:pt x="406" y="292"/>
                  </a:lnTo>
                  <a:lnTo>
                    <a:pt x="393" y="176"/>
                  </a:lnTo>
                  <a:lnTo>
                    <a:pt x="411" y="171"/>
                  </a:lnTo>
                  <a:lnTo>
                    <a:pt x="433" y="362"/>
                  </a:lnTo>
                  <a:lnTo>
                    <a:pt x="424" y="419"/>
                  </a:lnTo>
                  <a:lnTo>
                    <a:pt x="402" y="455"/>
                  </a:lnTo>
                  <a:lnTo>
                    <a:pt x="371" y="490"/>
                  </a:lnTo>
                  <a:lnTo>
                    <a:pt x="384" y="587"/>
                  </a:lnTo>
                  <a:lnTo>
                    <a:pt x="375" y="653"/>
                  </a:lnTo>
                  <a:lnTo>
                    <a:pt x="344" y="666"/>
                  </a:lnTo>
                  <a:lnTo>
                    <a:pt x="295" y="662"/>
                  </a:lnTo>
                  <a:lnTo>
                    <a:pt x="229" y="631"/>
                  </a:lnTo>
                  <a:lnTo>
                    <a:pt x="202" y="636"/>
                  </a:lnTo>
                  <a:lnTo>
                    <a:pt x="70" y="574"/>
                  </a:lnTo>
                  <a:lnTo>
                    <a:pt x="66" y="636"/>
                  </a:lnTo>
                  <a:lnTo>
                    <a:pt x="114" y="684"/>
                  </a:lnTo>
                  <a:lnTo>
                    <a:pt x="375" y="782"/>
                  </a:lnTo>
                  <a:lnTo>
                    <a:pt x="591" y="831"/>
                  </a:lnTo>
                  <a:lnTo>
                    <a:pt x="781" y="839"/>
                  </a:lnTo>
                  <a:lnTo>
                    <a:pt x="931" y="839"/>
                  </a:lnTo>
                  <a:lnTo>
                    <a:pt x="922" y="756"/>
                  </a:lnTo>
                  <a:lnTo>
                    <a:pt x="931" y="653"/>
                  </a:lnTo>
                  <a:lnTo>
                    <a:pt x="949" y="574"/>
                  </a:lnTo>
                  <a:lnTo>
                    <a:pt x="971" y="53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0" name=""/>
            <p:cNvSpPr/>
            <p:nvPr/>
          </p:nvSpPr>
          <p:spPr>
            <a:xfrm>
              <a:off x="7278840" y="5619600"/>
              <a:ext cx="232200" cy="157680"/>
            </a:xfrm>
            <a:custGeom>
              <a:avLst/>
              <a:gdLst/>
              <a:ahLst/>
              <a:rect l="0" t="0" r="r" b="b"/>
              <a:pathLst>
                <a:path w="645" h="438">
                  <a:moveTo>
                    <a:pt x="0" y="26"/>
                  </a:moveTo>
                  <a:lnTo>
                    <a:pt x="35" y="79"/>
                  </a:lnTo>
                  <a:lnTo>
                    <a:pt x="79" y="172"/>
                  </a:lnTo>
                  <a:lnTo>
                    <a:pt x="26" y="177"/>
                  </a:lnTo>
                  <a:lnTo>
                    <a:pt x="26" y="190"/>
                  </a:lnTo>
                  <a:lnTo>
                    <a:pt x="136" y="199"/>
                  </a:lnTo>
                  <a:lnTo>
                    <a:pt x="247" y="208"/>
                  </a:lnTo>
                  <a:lnTo>
                    <a:pt x="190" y="186"/>
                  </a:lnTo>
                  <a:lnTo>
                    <a:pt x="300" y="142"/>
                  </a:lnTo>
                  <a:lnTo>
                    <a:pt x="358" y="150"/>
                  </a:lnTo>
                  <a:lnTo>
                    <a:pt x="450" y="234"/>
                  </a:lnTo>
                  <a:lnTo>
                    <a:pt x="513" y="337"/>
                  </a:lnTo>
                  <a:lnTo>
                    <a:pt x="584" y="407"/>
                  </a:lnTo>
                  <a:lnTo>
                    <a:pt x="623" y="438"/>
                  </a:lnTo>
                  <a:lnTo>
                    <a:pt x="645" y="420"/>
                  </a:lnTo>
                  <a:lnTo>
                    <a:pt x="575" y="372"/>
                  </a:lnTo>
                  <a:lnTo>
                    <a:pt x="517" y="314"/>
                  </a:lnTo>
                  <a:lnTo>
                    <a:pt x="464" y="225"/>
                  </a:lnTo>
                  <a:lnTo>
                    <a:pt x="402" y="146"/>
                  </a:lnTo>
                  <a:lnTo>
                    <a:pt x="300" y="111"/>
                  </a:lnTo>
                  <a:lnTo>
                    <a:pt x="243" y="124"/>
                  </a:lnTo>
                  <a:lnTo>
                    <a:pt x="168" y="150"/>
                  </a:lnTo>
                  <a:lnTo>
                    <a:pt x="123" y="146"/>
                  </a:lnTo>
                  <a:lnTo>
                    <a:pt x="186" y="70"/>
                  </a:lnTo>
                  <a:lnTo>
                    <a:pt x="217" y="26"/>
                  </a:lnTo>
                  <a:lnTo>
                    <a:pt x="208" y="0"/>
                  </a:lnTo>
                  <a:lnTo>
                    <a:pt x="168" y="66"/>
                  </a:lnTo>
                  <a:lnTo>
                    <a:pt x="92" y="124"/>
                  </a:lnTo>
                  <a:lnTo>
                    <a:pt x="0"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1" name=""/>
            <p:cNvSpPr/>
            <p:nvPr/>
          </p:nvSpPr>
          <p:spPr>
            <a:xfrm>
              <a:off x="6724800" y="4348080"/>
              <a:ext cx="359280" cy="349560"/>
            </a:xfrm>
            <a:custGeom>
              <a:avLst/>
              <a:gdLst/>
              <a:ahLst/>
              <a:rect l="0" t="0" r="r" b="b"/>
              <a:pathLst>
                <a:path w="998" h="971">
                  <a:moveTo>
                    <a:pt x="512" y="255"/>
                  </a:moveTo>
                  <a:lnTo>
                    <a:pt x="569" y="180"/>
                  </a:lnTo>
                  <a:lnTo>
                    <a:pt x="627" y="141"/>
                  </a:lnTo>
                  <a:lnTo>
                    <a:pt x="693" y="141"/>
                  </a:lnTo>
                  <a:lnTo>
                    <a:pt x="773" y="185"/>
                  </a:lnTo>
                  <a:lnTo>
                    <a:pt x="817" y="255"/>
                  </a:lnTo>
                  <a:lnTo>
                    <a:pt x="839" y="335"/>
                  </a:lnTo>
                  <a:lnTo>
                    <a:pt x="848" y="418"/>
                  </a:lnTo>
                  <a:lnTo>
                    <a:pt x="844" y="512"/>
                  </a:lnTo>
                  <a:lnTo>
                    <a:pt x="839" y="591"/>
                  </a:lnTo>
                  <a:lnTo>
                    <a:pt x="861" y="671"/>
                  </a:lnTo>
                  <a:lnTo>
                    <a:pt x="879" y="583"/>
                  </a:lnTo>
                  <a:lnTo>
                    <a:pt x="936" y="543"/>
                  </a:lnTo>
                  <a:lnTo>
                    <a:pt x="972" y="569"/>
                  </a:lnTo>
                  <a:lnTo>
                    <a:pt x="985" y="671"/>
                  </a:lnTo>
                  <a:lnTo>
                    <a:pt x="976" y="755"/>
                  </a:lnTo>
                  <a:lnTo>
                    <a:pt x="932" y="825"/>
                  </a:lnTo>
                  <a:lnTo>
                    <a:pt x="914" y="852"/>
                  </a:lnTo>
                  <a:lnTo>
                    <a:pt x="866" y="887"/>
                  </a:lnTo>
                  <a:lnTo>
                    <a:pt x="919" y="869"/>
                  </a:lnTo>
                  <a:lnTo>
                    <a:pt x="985" y="759"/>
                  </a:lnTo>
                  <a:lnTo>
                    <a:pt x="998" y="653"/>
                  </a:lnTo>
                  <a:lnTo>
                    <a:pt x="976" y="547"/>
                  </a:lnTo>
                  <a:lnTo>
                    <a:pt x="936" y="525"/>
                  </a:lnTo>
                  <a:lnTo>
                    <a:pt x="936" y="454"/>
                  </a:lnTo>
                  <a:lnTo>
                    <a:pt x="888" y="246"/>
                  </a:lnTo>
                  <a:lnTo>
                    <a:pt x="817" y="132"/>
                  </a:lnTo>
                  <a:lnTo>
                    <a:pt x="733" y="48"/>
                  </a:lnTo>
                  <a:lnTo>
                    <a:pt x="636" y="17"/>
                  </a:lnTo>
                  <a:lnTo>
                    <a:pt x="477" y="0"/>
                  </a:lnTo>
                  <a:lnTo>
                    <a:pt x="296" y="17"/>
                  </a:lnTo>
                  <a:lnTo>
                    <a:pt x="163" y="97"/>
                  </a:lnTo>
                  <a:lnTo>
                    <a:pt x="74" y="194"/>
                  </a:lnTo>
                  <a:lnTo>
                    <a:pt x="22" y="313"/>
                  </a:lnTo>
                  <a:lnTo>
                    <a:pt x="8" y="440"/>
                  </a:lnTo>
                  <a:lnTo>
                    <a:pt x="22" y="618"/>
                  </a:lnTo>
                  <a:lnTo>
                    <a:pt x="0" y="671"/>
                  </a:lnTo>
                  <a:lnTo>
                    <a:pt x="17" y="781"/>
                  </a:lnTo>
                  <a:lnTo>
                    <a:pt x="74" y="878"/>
                  </a:lnTo>
                  <a:lnTo>
                    <a:pt x="154" y="944"/>
                  </a:lnTo>
                  <a:lnTo>
                    <a:pt x="189" y="949"/>
                  </a:lnTo>
                  <a:lnTo>
                    <a:pt x="216" y="971"/>
                  </a:lnTo>
                  <a:lnTo>
                    <a:pt x="202" y="904"/>
                  </a:lnTo>
                  <a:lnTo>
                    <a:pt x="163" y="940"/>
                  </a:lnTo>
                  <a:lnTo>
                    <a:pt x="79" y="869"/>
                  </a:lnTo>
                  <a:lnTo>
                    <a:pt x="26" y="768"/>
                  </a:lnTo>
                  <a:lnTo>
                    <a:pt x="22" y="680"/>
                  </a:lnTo>
                  <a:lnTo>
                    <a:pt x="39" y="666"/>
                  </a:lnTo>
                  <a:lnTo>
                    <a:pt x="92" y="671"/>
                  </a:lnTo>
                  <a:lnTo>
                    <a:pt x="163" y="737"/>
                  </a:lnTo>
                  <a:lnTo>
                    <a:pt x="149" y="653"/>
                  </a:lnTo>
                  <a:lnTo>
                    <a:pt x="127" y="609"/>
                  </a:lnTo>
                  <a:lnTo>
                    <a:pt x="101" y="525"/>
                  </a:lnTo>
                  <a:lnTo>
                    <a:pt x="83" y="432"/>
                  </a:lnTo>
                  <a:lnTo>
                    <a:pt x="83" y="357"/>
                  </a:lnTo>
                  <a:lnTo>
                    <a:pt x="101" y="299"/>
                  </a:lnTo>
                  <a:lnTo>
                    <a:pt x="132" y="246"/>
                  </a:lnTo>
                  <a:lnTo>
                    <a:pt x="171" y="216"/>
                  </a:lnTo>
                  <a:lnTo>
                    <a:pt x="220" y="207"/>
                  </a:lnTo>
                  <a:lnTo>
                    <a:pt x="265" y="216"/>
                  </a:lnTo>
                  <a:lnTo>
                    <a:pt x="318" y="246"/>
                  </a:lnTo>
                  <a:lnTo>
                    <a:pt x="353" y="277"/>
                  </a:lnTo>
                  <a:lnTo>
                    <a:pt x="393" y="291"/>
                  </a:lnTo>
                  <a:lnTo>
                    <a:pt x="459" y="282"/>
                  </a:lnTo>
                  <a:lnTo>
                    <a:pt x="494" y="273"/>
                  </a:lnTo>
                  <a:lnTo>
                    <a:pt x="512" y="25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42" name=""/>
            <p:cNvSpPr/>
            <p:nvPr/>
          </p:nvSpPr>
          <p:spPr>
            <a:xfrm>
              <a:off x="6802560" y="4592520"/>
              <a:ext cx="114840" cy="25920"/>
            </a:xfrm>
            <a:custGeom>
              <a:avLst/>
              <a:gdLst/>
              <a:ahLst/>
              <a:rect l="0" t="0" r="r" b="b"/>
              <a:pathLst>
                <a:path w="319" h="72">
                  <a:moveTo>
                    <a:pt x="0" y="36"/>
                  </a:moveTo>
                  <a:lnTo>
                    <a:pt x="61" y="17"/>
                  </a:lnTo>
                  <a:lnTo>
                    <a:pt x="124" y="13"/>
                  </a:lnTo>
                  <a:lnTo>
                    <a:pt x="212" y="13"/>
                  </a:lnTo>
                  <a:lnTo>
                    <a:pt x="262" y="8"/>
                  </a:lnTo>
                  <a:lnTo>
                    <a:pt x="319" y="0"/>
                  </a:lnTo>
                  <a:lnTo>
                    <a:pt x="297" y="36"/>
                  </a:lnTo>
                  <a:lnTo>
                    <a:pt x="230" y="45"/>
                  </a:lnTo>
                  <a:lnTo>
                    <a:pt x="234" y="72"/>
                  </a:lnTo>
                  <a:lnTo>
                    <a:pt x="203" y="45"/>
                  </a:lnTo>
                  <a:lnTo>
                    <a:pt x="159" y="36"/>
                  </a:lnTo>
                  <a:lnTo>
                    <a:pt x="102" y="53"/>
                  </a:lnTo>
                  <a:lnTo>
                    <a:pt x="164" y="27"/>
                  </a:lnTo>
                  <a:lnTo>
                    <a:pt x="102" y="27"/>
                  </a:lnTo>
                  <a:lnTo>
                    <a:pt x="48" y="36"/>
                  </a:lnTo>
                  <a:lnTo>
                    <a:pt x="0" y="36"/>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443" name=""/>
            <p:cNvSpPr/>
            <p:nvPr/>
          </p:nvSpPr>
          <p:spPr>
            <a:xfrm>
              <a:off x="6797520" y="4602240"/>
              <a:ext cx="87840" cy="44640"/>
            </a:xfrm>
            <a:custGeom>
              <a:avLst/>
              <a:gdLst/>
              <a:ahLst/>
              <a:rect l="0" t="0" r="r" b="b"/>
              <a:pathLst>
                <a:path w="244" h="124">
                  <a:moveTo>
                    <a:pt x="0" y="13"/>
                  </a:moveTo>
                  <a:lnTo>
                    <a:pt x="17" y="35"/>
                  </a:lnTo>
                  <a:lnTo>
                    <a:pt x="75" y="52"/>
                  </a:lnTo>
                  <a:lnTo>
                    <a:pt x="111" y="84"/>
                  </a:lnTo>
                  <a:lnTo>
                    <a:pt x="93" y="98"/>
                  </a:lnTo>
                  <a:lnTo>
                    <a:pt x="137" y="124"/>
                  </a:lnTo>
                  <a:lnTo>
                    <a:pt x="181" y="115"/>
                  </a:lnTo>
                  <a:lnTo>
                    <a:pt x="218" y="93"/>
                  </a:lnTo>
                  <a:lnTo>
                    <a:pt x="177" y="84"/>
                  </a:lnTo>
                  <a:lnTo>
                    <a:pt x="244" y="44"/>
                  </a:lnTo>
                  <a:lnTo>
                    <a:pt x="240" y="30"/>
                  </a:lnTo>
                  <a:lnTo>
                    <a:pt x="172" y="80"/>
                  </a:lnTo>
                  <a:lnTo>
                    <a:pt x="137" y="80"/>
                  </a:lnTo>
                  <a:lnTo>
                    <a:pt x="93" y="61"/>
                  </a:lnTo>
                  <a:lnTo>
                    <a:pt x="75" y="35"/>
                  </a:lnTo>
                  <a:lnTo>
                    <a:pt x="120" y="26"/>
                  </a:lnTo>
                  <a:lnTo>
                    <a:pt x="75" y="26"/>
                  </a:lnTo>
                  <a:lnTo>
                    <a:pt x="57" y="0"/>
                  </a:lnTo>
                  <a:lnTo>
                    <a:pt x="0" y="13"/>
                  </a:lnTo>
                  <a:close/>
                </a:path>
              </a:pathLst>
            </a:custGeom>
            <a:solidFill>
              <a:srgbClr val="000000"/>
            </a:solidFill>
            <a:ln w="12600">
              <a:solidFill>
                <a:srgbClr val="000000"/>
              </a:solidFill>
              <a:round/>
            </a:ln>
          </p:spPr>
          <p:txBody>
            <a:bodyPr lIns="96120" rIns="96120" tIns="-6480" bIns="-6480" anchor="t">
              <a:noAutofit/>
            </a:bodyPr>
            <a:p>
              <a:endParaRPr b="0" lang="en-US" sz="1800" spc="-1" strike="noStrike">
                <a:solidFill>
                  <a:srgbClr val="ffffff"/>
                </a:solidFill>
                <a:latin typeface="Arial"/>
              </a:endParaRPr>
            </a:p>
          </p:txBody>
        </p:sp>
        <p:sp>
          <p:nvSpPr>
            <p:cNvPr id="444" name=""/>
            <p:cNvSpPr/>
            <p:nvPr/>
          </p:nvSpPr>
          <p:spPr>
            <a:xfrm>
              <a:off x="6924600" y="4567320"/>
              <a:ext cx="89280" cy="24120"/>
            </a:xfrm>
            <a:custGeom>
              <a:avLst/>
              <a:gdLst/>
              <a:ahLst/>
              <a:rect l="0" t="0" r="r" b="b"/>
              <a:pathLst>
                <a:path w="248" h="67">
                  <a:moveTo>
                    <a:pt x="0" y="67"/>
                  </a:moveTo>
                  <a:lnTo>
                    <a:pt x="159" y="0"/>
                  </a:lnTo>
                  <a:lnTo>
                    <a:pt x="204" y="8"/>
                  </a:lnTo>
                  <a:lnTo>
                    <a:pt x="248" y="26"/>
                  </a:lnTo>
                  <a:lnTo>
                    <a:pt x="191" y="22"/>
                  </a:lnTo>
                  <a:lnTo>
                    <a:pt x="150" y="22"/>
                  </a:lnTo>
                  <a:lnTo>
                    <a:pt x="102" y="40"/>
                  </a:lnTo>
                  <a:lnTo>
                    <a:pt x="0" y="67"/>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445" name=""/>
            <p:cNvSpPr/>
            <p:nvPr/>
          </p:nvSpPr>
          <p:spPr>
            <a:xfrm>
              <a:off x="6932520" y="4589640"/>
              <a:ext cx="70200" cy="30600"/>
            </a:xfrm>
            <a:custGeom>
              <a:avLst/>
              <a:gdLst/>
              <a:ahLst/>
              <a:rect l="0" t="0" r="r" b="b"/>
              <a:pathLst>
                <a:path w="195" h="85">
                  <a:moveTo>
                    <a:pt x="0" y="49"/>
                  </a:moveTo>
                  <a:lnTo>
                    <a:pt x="57" y="4"/>
                  </a:lnTo>
                  <a:lnTo>
                    <a:pt x="124" y="0"/>
                  </a:lnTo>
                  <a:lnTo>
                    <a:pt x="195" y="8"/>
                  </a:lnTo>
                  <a:lnTo>
                    <a:pt x="168" y="49"/>
                  </a:lnTo>
                  <a:lnTo>
                    <a:pt x="124" y="72"/>
                  </a:lnTo>
                  <a:lnTo>
                    <a:pt x="88" y="85"/>
                  </a:lnTo>
                  <a:lnTo>
                    <a:pt x="30" y="72"/>
                  </a:lnTo>
                  <a:lnTo>
                    <a:pt x="88" y="72"/>
                  </a:lnTo>
                  <a:lnTo>
                    <a:pt x="142" y="49"/>
                  </a:lnTo>
                  <a:lnTo>
                    <a:pt x="181" y="17"/>
                  </a:lnTo>
                  <a:lnTo>
                    <a:pt x="115" y="8"/>
                  </a:lnTo>
                  <a:lnTo>
                    <a:pt x="66" y="17"/>
                  </a:lnTo>
                  <a:lnTo>
                    <a:pt x="26" y="49"/>
                  </a:lnTo>
                  <a:lnTo>
                    <a:pt x="0" y="49"/>
                  </a:lnTo>
                  <a:close/>
                </a:path>
              </a:pathLst>
            </a:custGeom>
            <a:solidFill>
              <a:srgbClr val="000000"/>
            </a:solidFill>
            <a:ln w="12600">
              <a:solidFill>
                <a:srgbClr val="000000"/>
              </a:solidFill>
              <a:round/>
            </a:ln>
          </p:spPr>
          <p:txBody>
            <a:bodyPr lIns="96120" rIns="96120" tIns="-20520" bIns="-20520" anchor="t">
              <a:noAutofit/>
            </a:bodyPr>
            <a:p>
              <a:endParaRPr b="0" lang="en-US" sz="1800" spc="-1" strike="noStrike">
                <a:solidFill>
                  <a:srgbClr val="ffffff"/>
                </a:solidFill>
                <a:latin typeface="Arial"/>
              </a:endParaRPr>
            </a:p>
          </p:txBody>
        </p:sp>
        <p:sp>
          <p:nvSpPr>
            <p:cNvPr id="446" name=""/>
            <p:cNvSpPr/>
            <p:nvPr/>
          </p:nvSpPr>
          <p:spPr>
            <a:xfrm>
              <a:off x="6915240" y="4576680"/>
              <a:ext cx="66960" cy="81360"/>
            </a:xfrm>
            <a:custGeom>
              <a:avLst/>
              <a:gdLst/>
              <a:ahLst/>
              <a:rect l="0" t="0" r="r" b="b"/>
              <a:pathLst>
                <a:path w="186" h="226">
                  <a:moveTo>
                    <a:pt x="128" y="13"/>
                  </a:moveTo>
                  <a:lnTo>
                    <a:pt x="186" y="17"/>
                  </a:lnTo>
                  <a:lnTo>
                    <a:pt x="115" y="17"/>
                  </a:lnTo>
                  <a:lnTo>
                    <a:pt x="92" y="52"/>
                  </a:lnTo>
                  <a:lnTo>
                    <a:pt x="52" y="80"/>
                  </a:lnTo>
                  <a:lnTo>
                    <a:pt x="39" y="106"/>
                  </a:lnTo>
                  <a:lnTo>
                    <a:pt x="39" y="146"/>
                  </a:lnTo>
                  <a:lnTo>
                    <a:pt x="52" y="226"/>
                  </a:lnTo>
                  <a:lnTo>
                    <a:pt x="35" y="150"/>
                  </a:lnTo>
                  <a:lnTo>
                    <a:pt x="26" y="115"/>
                  </a:lnTo>
                  <a:lnTo>
                    <a:pt x="26" y="84"/>
                  </a:lnTo>
                  <a:lnTo>
                    <a:pt x="0" y="52"/>
                  </a:lnTo>
                  <a:lnTo>
                    <a:pt x="102" y="17"/>
                  </a:lnTo>
                  <a:lnTo>
                    <a:pt x="150" y="0"/>
                  </a:lnTo>
                  <a:lnTo>
                    <a:pt x="128" y="13"/>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447" name=""/>
            <p:cNvSpPr/>
            <p:nvPr/>
          </p:nvSpPr>
          <p:spPr>
            <a:xfrm>
              <a:off x="6889680" y="4606920"/>
              <a:ext cx="12960" cy="66960"/>
            </a:xfrm>
            <a:custGeom>
              <a:avLst/>
              <a:gdLst/>
              <a:ahLst/>
              <a:rect l="0" t="0" r="r" b="b"/>
              <a:pathLst>
                <a:path w="36" h="186">
                  <a:moveTo>
                    <a:pt x="0" y="4"/>
                  </a:moveTo>
                  <a:lnTo>
                    <a:pt x="17" y="70"/>
                  </a:lnTo>
                  <a:lnTo>
                    <a:pt x="23" y="120"/>
                  </a:lnTo>
                  <a:lnTo>
                    <a:pt x="27" y="186"/>
                  </a:lnTo>
                  <a:lnTo>
                    <a:pt x="36" y="120"/>
                  </a:lnTo>
                  <a:lnTo>
                    <a:pt x="31" y="66"/>
                  </a:lnTo>
                  <a:lnTo>
                    <a:pt x="27" y="22"/>
                  </a:lnTo>
                  <a:lnTo>
                    <a:pt x="23" y="0"/>
                  </a:lnTo>
                  <a:lnTo>
                    <a:pt x="0" y="4"/>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448" name=""/>
            <p:cNvSpPr/>
            <p:nvPr/>
          </p:nvSpPr>
          <p:spPr>
            <a:xfrm>
              <a:off x="6943680" y="4614840"/>
              <a:ext cx="46440" cy="18000"/>
            </a:xfrm>
            <a:custGeom>
              <a:avLst/>
              <a:gdLst/>
              <a:ahLst/>
              <a:rect l="0" t="0" r="r" b="b"/>
              <a:pathLst>
                <a:path w="129" h="50">
                  <a:moveTo>
                    <a:pt x="26" y="14"/>
                  </a:moveTo>
                  <a:lnTo>
                    <a:pt x="0" y="46"/>
                  </a:lnTo>
                  <a:lnTo>
                    <a:pt x="53" y="50"/>
                  </a:lnTo>
                  <a:lnTo>
                    <a:pt x="80" y="46"/>
                  </a:lnTo>
                  <a:lnTo>
                    <a:pt x="129" y="14"/>
                  </a:lnTo>
                  <a:lnTo>
                    <a:pt x="93" y="14"/>
                  </a:lnTo>
                  <a:lnTo>
                    <a:pt x="67" y="0"/>
                  </a:lnTo>
                  <a:lnTo>
                    <a:pt x="26" y="14"/>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449" name=""/>
            <p:cNvSpPr/>
            <p:nvPr/>
          </p:nvSpPr>
          <p:spPr>
            <a:xfrm>
              <a:off x="6738840" y="4613400"/>
              <a:ext cx="46440" cy="47880"/>
            </a:xfrm>
            <a:custGeom>
              <a:avLst/>
              <a:gdLst/>
              <a:ahLst/>
              <a:rect l="0" t="0" r="r" b="b"/>
              <a:pathLst>
                <a:path w="129" h="133">
                  <a:moveTo>
                    <a:pt x="121" y="22"/>
                  </a:moveTo>
                  <a:lnTo>
                    <a:pt x="67" y="4"/>
                  </a:lnTo>
                  <a:lnTo>
                    <a:pt x="0" y="0"/>
                  </a:lnTo>
                  <a:lnTo>
                    <a:pt x="22" y="17"/>
                  </a:lnTo>
                  <a:lnTo>
                    <a:pt x="36" y="75"/>
                  </a:lnTo>
                  <a:lnTo>
                    <a:pt x="58" y="106"/>
                  </a:lnTo>
                  <a:lnTo>
                    <a:pt x="45" y="61"/>
                  </a:lnTo>
                  <a:lnTo>
                    <a:pt x="53" y="30"/>
                  </a:lnTo>
                  <a:lnTo>
                    <a:pt x="75" y="35"/>
                  </a:lnTo>
                  <a:lnTo>
                    <a:pt x="71" y="61"/>
                  </a:lnTo>
                  <a:lnTo>
                    <a:pt x="80" y="102"/>
                  </a:lnTo>
                  <a:lnTo>
                    <a:pt x="103" y="111"/>
                  </a:lnTo>
                  <a:lnTo>
                    <a:pt x="129" y="133"/>
                  </a:lnTo>
                  <a:lnTo>
                    <a:pt x="121" y="102"/>
                  </a:lnTo>
                  <a:lnTo>
                    <a:pt x="125" y="61"/>
                  </a:lnTo>
                  <a:lnTo>
                    <a:pt x="121" y="44"/>
                  </a:lnTo>
                  <a:lnTo>
                    <a:pt x="121" y="22"/>
                  </a:lnTo>
                  <a:close/>
                </a:path>
              </a:pathLst>
            </a:custGeom>
            <a:solidFill>
              <a:srgbClr val="000000"/>
            </a:solidFill>
            <a:ln w="12600">
              <a:solidFill>
                <a:srgbClr val="000000"/>
              </a:solidFill>
              <a:round/>
            </a:ln>
          </p:spPr>
          <p:txBody>
            <a:bodyPr lIns="96120" rIns="96120" tIns="-3240" bIns="-3240" anchor="t">
              <a:noAutofit/>
            </a:bodyPr>
            <a:p>
              <a:endParaRPr b="0" lang="en-US" sz="1800" spc="-1" strike="noStrike">
                <a:solidFill>
                  <a:srgbClr val="ffffff"/>
                </a:solidFill>
                <a:latin typeface="Arial"/>
              </a:endParaRPr>
            </a:p>
          </p:txBody>
        </p:sp>
        <p:sp>
          <p:nvSpPr>
            <p:cNvPr id="450" name=""/>
            <p:cNvSpPr/>
            <p:nvPr/>
          </p:nvSpPr>
          <p:spPr>
            <a:xfrm>
              <a:off x="7034040" y="4565520"/>
              <a:ext cx="35280" cy="84600"/>
            </a:xfrm>
            <a:custGeom>
              <a:avLst/>
              <a:gdLst/>
              <a:ahLst/>
              <a:rect l="0" t="0" r="r" b="b"/>
              <a:pathLst>
                <a:path w="98" h="235">
                  <a:moveTo>
                    <a:pt x="0" y="93"/>
                  </a:moveTo>
                  <a:lnTo>
                    <a:pt x="17" y="89"/>
                  </a:lnTo>
                  <a:lnTo>
                    <a:pt x="53" y="44"/>
                  </a:lnTo>
                  <a:lnTo>
                    <a:pt x="89" y="0"/>
                  </a:lnTo>
                  <a:lnTo>
                    <a:pt x="80" y="35"/>
                  </a:lnTo>
                  <a:lnTo>
                    <a:pt x="98" y="71"/>
                  </a:lnTo>
                  <a:lnTo>
                    <a:pt x="98" y="115"/>
                  </a:lnTo>
                  <a:lnTo>
                    <a:pt x="80" y="155"/>
                  </a:lnTo>
                  <a:lnTo>
                    <a:pt x="89" y="111"/>
                  </a:lnTo>
                  <a:lnTo>
                    <a:pt x="89" y="89"/>
                  </a:lnTo>
                  <a:lnTo>
                    <a:pt x="62" y="67"/>
                  </a:lnTo>
                  <a:lnTo>
                    <a:pt x="53" y="89"/>
                  </a:lnTo>
                  <a:lnTo>
                    <a:pt x="71" y="115"/>
                  </a:lnTo>
                  <a:lnTo>
                    <a:pt x="62" y="146"/>
                  </a:lnTo>
                  <a:lnTo>
                    <a:pt x="39" y="155"/>
                  </a:lnTo>
                  <a:lnTo>
                    <a:pt x="26" y="178"/>
                  </a:lnTo>
                  <a:lnTo>
                    <a:pt x="17" y="235"/>
                  </a:lnTo>
                  <a:lnTo>
                    <a:pt x="13" y="191"/>
                  </a:lnTo>
                  <a:lnTo>
                    <a:pt x="22" y="146"/>
                  </a:lnTo>
                  <a:lnTo>
                    <a:pt x="17" y="128"/>
                  </a:lnTo>
                  <a:lnTo>
                    <a:pt x="0" y="115"/>
                  </a:lnTo>
                  <a:lnTo>
                    <a:pt x="0" y="93"/>
                  </a:lnTo>
                  <a:close/>
                </a:path>
              </a:pathLst>
            </a:custGeom>
            <a:solidFill>
              <a:srgbClr val="000000"/>
            </a:solidFill>
            <a:ln w="12600">
              <a:solidFill>
                <a:srgbClr val="000000"/>
              </a:solidFill>
              <a:round/>
            </a:ln>
          </p:spPr>
          <p:txBody>
            <a:bodyPr lIns="96120" rIns="96120" tIns="33480" bIns="33480" anchor="t">
              <a:noAutofit/>
            </a:bodyPr>
            <a:p>
              <a:endParaRPr b="0" lang="en-US" sz="1800" spc="-1" strike="noStrike">
                <a:solidFill>
                  <a:srgbClr val="ffffff"/>
                </a:solidFill>
                <a:latin typeface="Arial"/>
              </a:endParaRPr>
            </a:p>
          </p:txBody>
        </p:sp>
        <p:sp>
          <p:nvSpPr>
            <p:cNvPr id="451" name=""/>
            <p:cNvSpPr/>
            <p:nvPr/>
          </p:nvSpPr>
          <p:spPr>
            <a:xfrm>
              <a:off x="6838920" y="4606920"/>
              <a:ext cx="27360" cy="18000"/>
            </a:xfrm>
            <a:custGeom>
              <a:avLst/>
              <a:gdLst/>
              <a:ahLst/>
              <a:rect l="0" t="0" r="r" b="b"/>
              <a:pathLst>
                <a:path w="76" h="50">
                  <a:moveTo>
                    <a:pt x="0" y="14"/>
                  </a:moveTo>
                  <a:lnTo>
                    <a:pt x="8" y="36"/>
                  </a:lnTo>
                  <a:lnTo>
                    <a:pt x="31" y="50"/>
                  </a:lnTo>
                  <a:lnTo>
                    <a:pt x="63" y="36"/>
                  </a:lnTo>
                  <a:lnTo>
                    <a:pt x="76" y="23"/>
                  </a:lnTo>
                  <a:lnTo>
                    <a:pt x="76" y="0"/>
                  </a:lnTo>
                  <a:lnTo>
                    <a:pt x="49" y="0"/>
                  </a:lnTo>
                  <a:lnTo>
                    <a:pt x="49" y="14"/>
                  </a:lnTo>
                  <a:lnTo>
                    <a:pt x="40" y="23"/>
                  </a:lnTo>
                  <a:lnTo>
                    <a:pt x="31" y="18"/>
                  </a:lnTo>
                  <a:lnTo>
                    <a:pt x="27" y="0"/>
                  </a:lnTo>
                  <a:lnTo>
                    <a:pt x="0" y="14"/>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452" name=""/>
            <p:cNvSpPr/>
            <p:nvPr/>
          </p:nvSpPr>
          <p:spPr>
            <a:xfrm>
              <a:off x="6951600" y="4591080"/>
              <a:ext cx="25920" cy="18000"/>
            </a:xfrm>
            <a:custGeom>
              <a:avLst/>
              <a:gdLst/>
              <a:ahLst/>
              <a:rect l="0" t="0" r="r" b="b"/>
              <a:pathLst>
                <a:path w="72" h="50">
                  <a:moveTo>
                    <a:pt x="0" y="14"/>
                  </a:moveTo>
                  <a:lnTo>
                    <a:pt x="8" y="46"/>
                  </a:lnTo>
                  <a:lnTo>
                    <a:pt x="31" y="50"/>
                  </a:lnTo>
                  <a:lnTo>
                    <a:pt x="59" y="46"/>
                  </a:lnTo>
                  <a:lnTo>
                    <a:pt x="72" y="23"/>
                  </a:lnTo>
                  <a:lnTo>
                    <a:pt x="68" y="0"/>
                  </a:lnTo>
                  <a:lnTo>
                    <a:pt x="49" y="0"/>
                  </a:lnTo>
                  <a:lnTo>
                    <a:pt x="45" y="31"/>
                  </a:lnTo>
                  <a:lnTo>
                    <a:pt x="31" y="31"/>
                  </a:lnTo>
                  <a:lnTo>
                    <a:pt x="23" y="14"/>
                  </a:lnTo>
                  <a:lnTo>
                    <a:pt x="0" y="14"/>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453" name=""/>
            <p:cNvSpPr/>
            <p:nvPr/>
          </p:nvSpPr>
          <p:spPr>
            <a:xfrm>
              <a:off x="6870600" y="4667400"/>
              <a:ext cx="100440" cy="55800"/>
            </a:xfrm>
            <a:custGeom>
              <a:avLst/>
              <a:gdLst/>
              <a:ahLst/>
              <a:rect l="0" t="0" r="r" b="b"/>
              <a:pathLst>
                <a:path w="279" h="155">
                  <a:moveTo>
                    <a:pt x="26" y="0"/>
                  </a:moveTo>
                  <a:lnTo>
                    <a:pt x="0" y="30"/>
                  </a:lnTo>
                  <a:lnTo>
                    <a:pt x="0" y="61"/>
                  </a:lnTo>
                  <a:lnTo>
                    <a:pt x="22" y="70"/>
                  </a:lnTo>
                  <a:lnTo>
                    <a:pt x="35" y="106"/>
                  </a:lnTo>
                  <a:lnTo>
                    <a:pt x="93" y="133"/>
                  </a:lnTo>
                  <a:lnTo>
                    <a:pt x="146" y="155"/>
                  </a:lnTo>
                  <a:lnTo>
                    <a:pt x="172" y="155"/>
                  </a:lnTo>
                  <a:lnTo>
                    <a:pt x="226" y="98"/>
                  </a:lnTo>
                  <a:lnTo>
                    <a:pt x="270" y="70"/>
                  </a:lnTo>
                  <a:lnTo>
                    <a:pt x="279" y="30"/>
                  </a:lnTo>
                  <a:lnTo>
                    <a:pt x="270" y="17"/>
                  </a:lnTo>
                  <a:lnTo>
                    <a:pt x="257" y="0"/>
                  </a:lnTo>
                  <a:lnTo>
                    <a:pt x="266" y="17"/>
                  </a:lnTo>
                  <a:lnTo>
                    <a:pt x="257" y="35"/>
                  </a:lnTo>
                  <a:lnTo>
                    <a:pt x="240" y="35"/>
                  </a:lnTo>
                  <a:lnTo>
                    <a:pt x="213" y="57"/>
                  </a:lnTo>
                  <a:lnTo>
                    <a:pt x="195" y="80"/>
                  </a:lnTo>
                  <a:lnTo>
                    <a:pt x="172" y="98"/>
                  </a:lnTo>
                  <a:lnTo>
                    <a:pt x="137" y="102"/>
                  </a:lnTo>
                  <a:lnTo>
                    <a:pt x="106" y="93"/>
                  </a:lnTo>
                  <a:lnTo>
                    <a:pt x="80" y="80"/>
                  </a:lnTo>
                  <a:lnTo>
                    <a:pt x="52" y="61"/>
                  </a:lnTo>
                  <a:lnTo>
                    <a:pt x="22" y="61"/>
                  </a:lnTo>
                  <a:lnTo>
                    <a:pt x="8" y="52"/>
                  </a:lnTo>
                  <a:lnTo>
                    <a:pt x="13" y="30"/>
                  </a:lnTo>
                  <a:lnTo>
                    <a:pt x="26" y="0"/>
                  </a:lnTo>
                  <a:close/>
                </a:path>
              </a:pathLst>
            </a:custGeom>
            <a:solidFill>
              <a:srgbClr val="000000"/>
            </a:solidFill>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454" name=""/>
            <p:cNvSpPr/>
            <p:nvPr/>
          </p:nvSpPr>
          <p:spPr>
            <a:xfrm>
              <a:off x="6861240" y="4721400"/>
              <a:ext cx="141480" cy="27360"/>
            </a:xfrm>
            <a:custGeom>
              <a:avLst/>
              <a:gdLst/>
              <a:ahLst/>
              <a:rect l="0" t="0" r="r" b="b"/>
              <a:pathLst>
                <a:path w="393" h="76">
                  <a:moveTo>
                    <a:pt x="39" y="49"/>
                  </a:moveTo>
                  <a:lnTo>
                    <a:pt x="79" y="36"/>
                  </a:lnTo>
                  <a:lnTo>
                    <a:pt x="132" y="17"/>
                  </a:lnTo>
                  <a:lnTo>
                    <a:pt x="194" y="17"/>
                  </a:lnTo>
                  <a:lnTo>
                    <a:pt x="256" y="4"/>
                  </a:lnTo>
                  <a:lnTo>
                    <a:pt x="367" y="17"/>
                  </a:lnTo>
                  <a:lnTo>
                    <a:pt x="384" y="0"/>
                  </a:lnTo>
                  <a:lnTo>
                    <a:pt x="393" y="23"/>
                  </a:lnTo>
                  <a:lnTo>
                    <a:pt x="375" y="36"/>
                  </a:lnTo>
                  <a:lnTo>
                    <a:pt x="358" y="23"/>
                  </a:lnTo>
                  <a:lnTo>
                    <a:pt x="314" y="17"/>
                  </a:lnTo>
                  <a:lnTo>
                    <a:pt x="243" y="36"/>
                  </a:lnTo>
                  <a:lnTo>
                    <a:pt x="189" y="59"/>
                  </a:lnTo>
                  <a:lnTo>
                    <a:pt x="101" y="49"/>
                  </a:lnTo>
                  <a:lnTo>
                    <a:pt x="35" y="59"/>
                  </a:lnTo>
                  <a:lnTo>
                    <a:pt x="17" y="76"/>
                  </a:lnTo>
                  <a:lnTo>
                    <a:pt x="0" y="68"/>
                  </a:lnTo>
                  <a:lnTo>
                    <a:pt x="4" y="45"/>
                  </a:lnTo>
                  <a:lnTo>
                    <a:pt x="22" y="36"/>
                  </a:lnTo>
                  <a:lnTo>
                    <a:pt x="39" y="49"/>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455" name=""/>
            <p:cNvSpPr/>
            <p:nvPr/>
          </p:nvSpPr>
          <p:spPr>
            <a:xfrm>
              <a:off x="6892920" y="4756320"/>
              <a:ext cx="74880" cy="25920"/>
            </a:xfrm>
            <a:custGeom>
              <a:avLst/>
              <a:gdLst/>
              <a:ahLst/>
              <a:rect l="0" t="0" r="r" b="b"/>
              <a:pathLst>
                <a:path w="208" h="72">
                  <a:moveTo>
                    <a:pt x="0" y="13"/>
                  </a:moveTo>
                  <a:lnTo>
                    <a:pt x="44" y="23"/>
                  </a:lnTo>
                  <a:lnTo>
                    <a:pt x="88" y="23"/>
                  </a:lnTo>
                  <a:lnTo>
                    <a:pt x="137" y="17"/>
                  </a:lnTo>
                  <a:lnTo>
                    <a:pt x="208" y="0"/>
                  </a:lnTo>
                  <a:lnTo>
                    <a:pt x="168" y="31"/>
                  </a:lnTo>
                  <a:lnTo>
                    <a:pt x="177" y="63"/>
                  </a:lnTo>
                  <a:lnTo>
                    <a:pt x="124" y="63"/>
                  </a:lnTo>
                  <a:lnTo>
                    <a:pt x="44" y="72"/>
                  </a:lnTo>
                  <a:lnTo>
                    <a:pt x="48" y="45"/>
                  </a:lnTo>
                  <a:lnTo>
                    <a:pt x="0" y="13"/>
                  </a:lnTo>
                  <a:close/>
                </a:path>
              </a:pathLst>
            </a:cu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456" name=""/>
            <p:cNvSpPr/>
            <p:nvPr/>
          </p:nvSpPr>
          <p:spPr>
            <a:xfrm>
              <a:off x="6791400" y="4664160"/>
              <a:ext cx="249480" cy="173520"/>
            </a:xfrm>
            <a:custGeom>
              <a:avLst/>
              <a:gdLst/>
              <a:ahLst/>
              <a:rect l="0" t="0" r="r" b="b"/>
              <a:pathLst>
                <a:path w="693" h="482">
                  <a:moveTo>
                    <a:pt x="0" y="66"/>
                  </a:moveTo>
                  <a:lnTo>
                    <a:pt x="74" y="265"/>
                  </a:lnTo>
                  <a:lnTo>
                    <a:pt x="127" y="344"/>
                  </a:lnTo>
                  <a:lnTo>
                    <a:pt x="176" y="390"/>
                  </a:lnTo>
                  <a:lnTo>
                    <a:pt x="238" y="429"/>
                  </a:lnTo>
                  <a:lnTo>
                    <a:pt x="304" y="456"/>
                  </a:lnTo>
                  <a:lnTo>
                    <a:pt x="367" y="482"/>
                  </a:lnTo>
                  <a:lnTo>
                    <a:pt x="433" y="482"/>
                  </a:lnTo>
                  <a:lnTo>
                    <a:pt x="508" y="460"/>
                  </a:lnTo>
                  <a:lnTo>
                    <a:pt x="552" y="420"/>
                  </a:lnTo>
                  <a:lnTo>
                    <a:pt x="600" y="368"/>
                  </a:lnTo>
                  <a:lnTo>
                    <a:pt x="640" y="292"/>
                  </a:lnTo>
                  <a:lnTo>
                    <a:pt x="671" y="221"/>
                  </a:lnTo>
                  <a:lnTo>
                    <a:pt x="680" y="142"/>
                  </a:lnTo>
                  <a:lnTo>
                    <a:pt x="693" y="0"/>
                  </a:lnTo>
                  <a:lnTo>
                    <a:pt x="675" y="8"/>
                  </a:lnTo>
                  <a:lnTo>
                    <a:pt x="658" y="203"/>
                  </a:lnTo>
                  <a:lnTo>
                    <a:pt x="636" y="278"/>
                  </a:lnTo>
                  <a:lnTo>
                    <a:pt x="600" y="336"/>
                  </a:lnTo>
                  <a:lnTo>
                    <a:pt x="547" y="407"/>
                  </a:lnTo>
                  <a:lnTo>
                    <a:pt x="499" y="442"/>
                  </a:lnTo>
                  <a:lnTo>
                    <a:pt x="499" y="416"/>
                  </a:lnTo>
                  <a:lnTo>
                    <a:pt x="450" y="429"/>
                  </a:lnTo>
                  <a:lnTo>
                    <a:pt x="384" y="442"/>
                  </a:lnTo>
                  <a:lnTo>
                    <a:pt x="343" y="429"/>
                  </a:lnTo>
                  <a:lnTo>
                    <a:pt x="299" y="416"/>
                  </a:lnTo>
                  <a:lnTo>
                    <a:pt x="313" y="442"/>
                  </a:lnTo>
                  <a:lnTo>
                    <a:pt x="229" y="412"/>
                  </a:lnTo>
                  <a:lnTo>
                    <a:pt x="158" y="349"/>
                  </a:lnTo>
                  <a:lnTo>
                    <a:pt x="110" y="287"/>
                  </a:lnTo>
                  <a:lnTo>
                    <a:pt x="70" y="217"/>
                  </a:lnTo>
                  <a:lnTo>
                    <a:pt x="13" y="61"/>
                  </a:lnTo>
                  <a:lnTo>
                    <a:pt x="0" y="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57" name=""/>
            <p:cNvSpPr/>
            <p:nvPr/>
          </p:nvSpPr>
          <p:spPr>
            <a:xfrm>
              <a:off x="6815160" y="4689360"/>
              <a:ext cx="51120" cy="78120"/>
            </a:xfrm>
            <a:custGeom>
              <a:avLst/>
              <a:gdLst/>
              <a:ahLst/>
              <a:rect l="0" t="0" r="r" b="b"/>
              <a:pathLst>
                <a:path w="142" h="217">
                  <a:moveTo>
                    <a:pt x="13" y="44"/>
                  </a:moveTo>
                  <a:lnTo>
                    <a:pt x="70" y="39"/>
                  </a:lnTo>
                  <a:lnTo>
                    <a:pt x="102" y="26"/>
                  </a:lnTo>
                  <a:lnTo>
                    <a:pt x="142" y="0"/>
                  </a:lnTo>
                  <a:lnTo>
                    <a:pt x="115" y="44"/>
                  </a:lnTo>
                  <a:lnTo>
                    <a:pt x="84" y="88"/>
                  </a:lnTo>
                  <a:lnTo>
                    <a:pt x="89" y="142"/>
                  </a:lnTo>
                  <a:lnTo>
                    <a:pt x="124" y="217"/>
                  </a:lnTo>
                  <a:lnTo>
                    <a:pt x="84" y="159"/>
                  </a:lnTo>
                  <a:lnTo>
                    <a:pt x="52" y="101"/>
                  </a:lnTo>
                  <a:lnTo>
                    <a:pt x="26" y="88"/>
                  </a:lnTo>
                  <a:lnTo>
                    <a:pt x="0" y="48"/>
                  </a:lnTo>
                  <a:lnTo>
                    <a:pt x="13" y="44"/>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458" name=""/>
            <p:cNvSpPr/>
            <p:nvPr/>
          </p:nvSpPr>
          <p:spPr>
            <a:xfrm>
              <a:off x="6975360" y="4678200"/>
              <a:ext cx="43200" cy="62280"/>
            </a:xfrm>
            <a:custGeom>
              <a:avLst/>
              <a:gdLst/>
              <a:ahLst/>
              <a:rect l="0" t="0" r="r" b="b"/>
              <a:pathLst>
                <a:path w="120" h="173">
                  <a:moveTo>
                    <a:pt x="0" y="0"/>
                  </a:moveTo>
                  <a:lnTo>
                    <a:pt x="22" y="22"/>
                  </a:lnTo>
                  <a:lnTo>
                    <a:pt x="75" y="53"/>
                  </a:lnTo>
                  <a:lnTo>
                    <a:pt x="84" y="71"/>
                  </a:lnTo>
                  <a:lnTo>
                    <a:pt x="93" y="111"/>
                  </a:lnTo>
                  <a:lnTo>
                    <a:pt x="89" y="173"/>
                  </a:lnTo>
                  <a:lnTo>
                    <a:pt x="102" y="106"/>
                  </a:lnTo>
                  <a:lnTo>
                    <a:pt x="120" y="30"/>
                  </a:lnTo>
                  <a:lnTo>
                    <a:pt x="120" y="8"/>
                  </a:lnTo>
                  <a:lnTo>
                    <a:pt x="67" y="8"/>
                  </a:lnTo>
                  <a:lnTo>
                    <a:pt x="30" y="0"/>
                  </a:lnTo>
                  <a:lnTo>
                    <a:pt x="0" y="0"/>
                  </a:lnTo>
                  <a:close/>
                </a:path>
              </a:pathLst>
            </a:custGeom>
            <a:solidFill>
              <a:srgbClr val="000000"/>
            </a:solidFill>
            <a:ln w="12600">
              <a:solidFill>
                <a:srgbClr val="000000"/>
              </a:solidFill>
              <a:round/>
            </a:ln>
          </p:spPr>
          <p:txBody>
            <a:bodyPr lIns="96120" rIns="96120" tIns="11160" bIns="11160" anchor="t">
              <a:noAutofit/>
            </a:bodyPr>
            <a:p>
              <a:endParaRPr b="0" lang="en-US" sz="1800" spc="-1" strike="noStrike">
                <a:solidFill>
                  <a:srgbClr val="ffffff"/>
                </a:solidFill>
                <a:latin typeface="Arial"/>
              </a:endParaRPr>
            </a:p>
          </p:txBody>
        </p:sp>
        <p:sp>
          <p:nvSpPr>
            <p:cNvPr id="459" name=""/>
            <p:cNvSpPr/>
            <p:nvPr/>
          </p:nvSpPr>
          <p:spPr>
            <a:xfrm>
              <a:off x="7567560" y="5025960"/>
              <a:ext cx="176400" cy="82800"/>
            </a:xfrm>
            <a:custGeom>
              <a:avLst/>
              <a:gdLst/>
              <a:ahLst/>
              <a:rect l="0" t="0" r="r" b="b"/>
              <a:pathLst>
                <a:path w="490" h="230">
                  <a:moveTo>
                    <a:pt x="39" y="0"/>
                  </a:moveTo>
                  <a:lnTo>
                    <a:pt x="48" y="35"/>
                  </a:lnTo>
                  <a:lnTo>
                    <a:pt x="48" y="70"/>
                  </a:lnTo>
                  <a:lnTo>
                    <a:pt x="26" y="101"/>
                  </a:lnTo>
                  <a:lnTo>
                    <a:pt x="0" y="120"/>
                  </a:lnTo>
                  <a:lnTo>
                    <a:pt x="105" y="230"/>
                  </a:lnTo>
                  <a:lnTo>
                    <a:pt x="224" y="150"/>
                  </a:lnTo>
                  <a:lnTo>
                    <a:pt x="287" y="230"/>
                  </a:lnTo>
                  <a:lnTo>
                    <a:pt x="340" y="186"/>
                  </a:lnTo>
                  <a:lnTo>
                    <a:pt x="441" y="120"/>
                  </a:lnTo>
                  <a:lnTo>
                    <a:pt x="490" y="52"/>
                  </a:lnTo>
                  <a:lnTo>
                    <a:pt x="415" y="120"/>
                  </a:lnTo>
                  <a:lnTo>
                    <a:pt x="305" y="164"/>
                  </a:lnTo>
                  <a:lnTo>
                    <a:pt x="256" y="128"/>
                  </a:lnTo>
                  <a:lnTo>
                    <a:pt x="141" y="128"/>
                  </a:lnTo>
                  <a:lnTo>
                    <a:pt x="70" y="4"/>
                  </a:lnTo>
                  <a:lnTo>
                    <a:pt x="39" y="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60" name=""/>
            <p:cNvSpPr/>
            <p:nvPr/>
          </p:nvSpPr>
          <p:spPr>
            <a:xfrm>
              <a:off x="7639200" y="4692600"/>
              <a:ext cx="114840" cy="125640"/>
            </a:xfrm>
            <a:custGeom>
              <a:avLst/>
              <a:gdLst/>
              <a:ahLst/>
              <a:rect l="0" t="0" r="r" b="b"/>
              <a:pathLst>
                <a:path w="319" h="349">
                  <a:moveTo>
                    <a:pt x="26" y="0"/>
                  </a:moveTo>
                  <a:lnTo>
                    <a:pt x="102" y="30"/>
                  </a:lnTo>
                  <a:lnTo>
                    <a:pt x="195" y="13"/>
                  </a:lnTo>
                  <a:lnTo>
                    <a:pt x="288" y="35"/>
                  </a:lnTo>
                  <a:lnTo>
                    <a:pt x="297" y="0"/>
                  </a:lnTo>
                  <a:lnTo>
                    <a:pt x="319" y="74"/>
                  </a:lnTo>
                  <a:lnTo>
                    <a:pt x="319" y="145"/>
                  </a:lnTo>
                  <a:lnTo>
                    <a:pt x="306" y="261"/>
                  </a:lnTo>
                  <a:lnTo>
                    <a:pt x="279" y="349"/>
                  </a:lnTo>
                  <a:lnTo>
                    <a:pt x="297" y="247"/>
                  </a:lnTo>
                  <a:lnTo>
                    <a:pt x="297" y="208"/>
                  </a:lnTo>
                  <a:lnTo>
                    <a:pt x="217" y="256"/>
                  </a:lnTo>
                  <a:lnTo>
                    <a:pt x="203" y="256"/>
                  </a:lnTo>
                  <a:lnTo>
                    <a:pt x="195" y="243"/>
                  </a:lnTo>
                  <a:lnTo>
                    <a:pt x="270" y="158"/>
                  </a:lnTo>
                  <a:lnTo>
                    <a:pt x="266" y="114"/>
                  </a:lnTo>
                  <a:lnTo>
                    <a:pt x="186" y="163"/>
                  </a:lnTo>
                  <a:lnTo>
                    <a:pt x="203" y="132"/>
                  </a:lnTo>
                  <a:lnTo>
                    <a:pt x="195" y="119"/>
                  </a:lnTo>
                  <a:lnTo>
                    <a:pt x="186" y="83"/>
                  </a:lnTo>
                  <a:lnTo>
                    <a:pt x="164" y="83"/>
                  </a:lnTo>
                  <a:lnTo>
                    <a:pt x="115" y="136"/>
                  </a:lnTo>
                  <a:lnTo>
                    <a:pt x="102" y="136"/>
                  </a:lnTo>
                  <a:lnTo>
                    <a:pt x="102" y="114"/>
                  </a:lnTo>
                  <a:lnTo>
                    <a:pt x="120" y="83"/>
                  </a:lnTo>
                  <a:lnTo>
                    <a:pt x="44" y="66"/>
                  </a:lnTo>
                  <a:lnTo>
                    <a:pt x="44" y="92"/>
                  </a:lnTo>
                  <a:lnTo>
                    <a:pt x="66" y="123"/>
                  </a:lnTo>
                  <a:lnTo>
                    <a:pt x="22" y="92"/>
                  </a:lnTo>
                  <a:lnTo>
                    <a:pt x="0" y="44"/>
                  </a:lnTo>
                  <a:lnTo>
                    <a:pt x="4" y="13"/>
                  </a:lnTo>
                  <a:lnTo>
                    <a:pt x="2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1" name=""/>
            <p:cNvSpPr/>
            <p:nvPr/>
          </p:nvSpPr>
          <p:spPr>
            <a:xfrm>
              <a:off x="7669080" y="4745160"/>
              <a:ext cx="27360" cy="19440"/>
            </a:xfrm>
            <a:custGeom>
              <a:avLst/>
              <a:gdLst/>
              <a:ahLst/>
              <a:rect l="0" t="0" r="r" b="b"/>
              <a:pathLst>
                <a:path w="76" h="54">
                  <a:moveTo>
                    <a:pt x="13" y="0"/>
                  </a:moveTo>
                  <a:lnTo>
                    <a:pt x="76" y="27"/>
                  </a:lnTo>
                  <a:lnTo>
                    <a:pt x="76" y="50"/>
                  </a:lnTo>
                  <a:lnTo>
                    <a:pt x="53" y="54"/>
                  </a:lnTo>
                  <a:lnTo>
                    <a:pt x="0" y="27"/>
                  </a:lnTo>
                  <a:lnTo>
                    <a:pt x="0" y="4"/>
                  </a:lnTo>
                  <a:lnTo>
                    <a:pt x="13" y="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62" name=""/>
            <p:cNvSpPr/>
            <p:nvPr/>
          </p:nvSpPr>
          <p:spPr>
            <a:xfrm>
              <a:off x="7756560" y="4619520"/>
              <a:ext cx="178200" cy="136800"/>
            </a:xfrm>
            <a:custGeom>
              <a:avLst/>
              <a:gdLst/>
              <a:ahLst/>
              <a:rect l="0" t="0" r="r" b="b"/>
              <a:pathLst>
                <a:path w="495" h="380">
                  <a:moveTo>
                    <a:pt x="0" y="105"/>
                  </a:moveTo>
                  <a:lnTo>
                    <a:pt x="30" y="221"/>
                  </a:lnTo>
                  <a:lnTo>
                    <a:pt x="74" y="278"/>
                  </a:lnTo>
                  <a:lnTo>
                    <a:pt x="74" y="371"/>
                  </a:lnTo>
                  <a:lnTo>
                    <a:pt x="119" y="287"/>
                  </a:lnTo>
                  <a:lnTo>
                    <a:pt x="274" y="380"/>
                  </a:lnTo>
                  <a:lnTo>
                    <a:pt x="394" y="296"/>
                  </a:lnTo>
                  <a:lnTo>
                    <a:pt x="261" y="296"/>
                  </a:lnTo>
                  <a:lnTo>
                    <a:pt x="225" y="283"/>
                  </a:lnTo>
                  <a:lnTo>
                    <a:pt x="168" y="283"/>
                  </a:lnTo>
                  <a:lnTo>
                    <a:pt x="164" y="265"/>
                  </a:lnTo>
                  <a:lnTo>
                    <a:pt x="247" y="252"/>
                  </a:lnTo>
                  <a:lnTo>
                    <a:pt x="247" y="203"/>
                  </a:lnTo>
                  <a:lnTo>
                    <a:pt x="292" y="176"/>
                  </a:lnTo>
                  <a:lnTo>
                    <a:pt x="243" y="176"/>
                  </a:lnTo>
                  <a:lnTo>
                    <a:pt x="234" y="167"/>
                  </a:lnTo>
                  <a:lnTo>
                    <a:pt x="318" y="127"/>
                  </a:lnTo>
                  <a:lnTo>
                    <a:pt x="358" y="88"/>
                  </a:lnTo>
                  <a:lnTo>
                    <a:pt x="478" y="132"/>
                  </a:lnTo>
                  <a:lnTo>
                    <a:pt x="495" y="127"/>
                  </a:lnTo>
                  <a:lnTo>
                    <a:pt x="398" y="0"/>
                  </a:lnTo>
                  <a:lnTo>
                    <a:pt x="358" y="0"/>
                  </a:lnTo>
                  <a:lnTo>
                    <a:pt x="221" y="79"/>
                  </a:lnTo>
                  <a:lnTo>
                    <a:pt x="105" y="149"/>
                  </a:lnTo>
                  <a:lnTo>
                    <a:pt x="101" y="189"/>
                  </a:lnTo>
                  <a:lnTo>
                    <a:pt x="66" y="195"/>
                  </a:lnTo>
                  <a:lnTo>
                    <a:pt x="0" y="10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3" name=""/>
            <p:cNvSpPr/>
            <p:nvPr/>
          </p:nvSpPr>
          <p:spPr>
            <a:xfrm>
              <a:off x="7856640" y="4686120"/>
              <a:ext cx="52920" cy="20880"/>
            </a:xfrm>
            <a:custGeom>
              <a:avLst/>
              <a:gdLst/>
              <a:ahLst/>
              <a:rect l="0" t="0" r="r" b="b"/>
              <a:pathLst>
                <a:path w="147" h="58">
                  <a:moveTo>
                    <a:pt x="0" y="0"/>
                  </a:moveTo>
                  <a:lnTo>
                    <a:pt x="26" y="49"/>
                  </a:lnTo>
                  <a:lnTo>
                    <a:pt x="13" y="58"/>
                  </a:lnTo>
                  <a:lnTo>
                    <a:pt x="134" y="53"/>
                  </a:lnTo>
                  <a:lnTo>
                    <a:pt x="147" y="36"/>
                  </a:lnTo>
                  <a:lnTo>
                    <a:pt x="75" y="0"/>
                  </a:lnTo>
                  <a:lnTo>
                    <a:pt x="17" y="0"/>
                  </a:lnTo>
                  <a:lnTo>
                    <a:pt x="0" y="0"/>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464" name=""/>
            <p:cNvSpPr/>
            <p:nvPr/>
          </p:nvSpPr>
          <p:spPr>
            <a:xfrm>
              <a:off x="7738920" y="4819680"/>
              <a:ext cx="108360" cy="66960"/>
            </a:xfrm>
            <a:custGeom>
              <a:avLst/>
              <a:gdLst/>
              <a:ahLst/>
              <a:rect l="0" t="0" r="r" b="b"/>
              <a:pathLst>
                <a:path w="301" h="186">
                  <a:moveTo>
                    <a:pt x="0" y="30"/>
                  </a:moveTo>
                  <a:lnTo>
                    <a:pt x="52" y="66"/>
                  </a:lnTo>
                  <a:lnTo>
                    <a:pt x="106" y="66"/>
                  </a:lnTo>
                  <a:lnTo>
                    <a:pt x="172" y="13"/>
                  </a:lnTo>
                  <a:lnTo>
                    <a:pt x="225" y="0"/>
                  </a:lnTo>
                  <a:lnTo>
                    <a:pt x="231" y="13"/>
                  </a:lnTo>
                  <a:lnTo>
                    <a:pt x="257" y="17"/>
                  </a:lnTo>
                  <a:lnTo>
                    <a:pt x="301" y="13"/>
                  </a:lnTo>
                  <a:lnTo>
                    <a:pt x="270" y="52"/>
                  </a:lnTo>
                  <a:lnTo>
                    <a:pt x="164" y="88"/>
                  </a:lnTo>
                  <a:lnTo>
                    <a:pt x="164" y="146"/>
                  </a:lnTo>
                  <a:lnTo>
                    <a:pt x="128" y="186"/>
                  </a:lnTo>
                  <a:lnTo>
                    <a:pt x="80" y="92"/>
                  </a:lnTo>
                  <a:lnTo>
                    <a:pt x="39" y="83"/>
                  </a:lnTo>
                  <a:lnTo>
                    <a:pt x="0" y="52"/>
                  </a:lnTo>
                  <a:lnTo>
                    <a:pt x="0" y="30"/>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465" name=""/>
            <p:cNvSpPr/>
            <p:nvPr/>
          </p:nvSpPr>
          <p:spPr>
            <a:xfrm>
              <a:off x="7799400" y="4784760"/>
              <a:ext cx="43200" cy="18000"/>
            </a:xfrm>
            <a:custGeom>
              <a:avLst/>
              <a:gdLst/>
              <a:ahLst/>
              <a:rect l="0" t="0" r="r" b="b"/>
              <a:pathLst>
                <a:path w="120" h="50">
                  <a:moveTo>
                    <a:pt x="0" y="50"/>
                  </a:moveTo>
                  <a:lnTo>
                    <a:pt x="80" y="31"/>
                  </a:lnTo>
                  <a:lnTo>
                    <a:pt x="120" y="41"/>
                  </a:lnTo>
                  <a:lnTo>
                    <a:pt x="80" y="0"/>
                  </a:lnTo>
                  <a:lnTo>
                    <a:pt x="30" y="0"/>
                  </a:lnTo>
                  <a:lnTo>
                    <a:pt x="0" y="50"/>
                  </a:lnTo>
                  <a:close/>
                </a:path>
              </a:pathLst>
            </a:custGeom>
            <a:solidFill>
              <a:srgbClr val="000000"/>
            </a:solidFill>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466" name=""/>
            <p:cNvSpPr/>
            <p:nvPr/>
          </p:nvSpPr>
          <p:spPr>
            <a:xfrm>
              <a:off x="7846920" y="4805280"/>
              <a:ext cx="89280" cy="130680"/>
            </a:xfrm>
            <a:custGeom>
              <a:avLst/>
              <a:gdLst/>
              <a:ahLst/>
              <a:rect l="0" t="0" r="r" b="b"/>
              <a:pathLst>
                <a:path w="248" h="363">
                  <a:moveTo>
                    <a:pt x="0" y="0"/>
                  </a:moveTo>
                  <a:lnTo>
                    <a:pt x="4" y="44"/>
                  </a:lnTo>
                  <a:lnTo>
                    <a:pt x="67" y="98"/>
                  </a:lnTo>
                  <a:lnTo>
                    <a:pt x="128" y="181"/>
                  </a:lnTo>
                  <a:lnTo>
                    <a:pt x="75" y="225"/>
                  </a:lnTo>
                  <a:lnTo>
                    <a:pt x="159" y="363"/>
                  </a:lnTo>
                  <a:lnTo>
                    <a:pt x="218" y="363"/>
                  </a:lnTo>
                  <a:lnTo>
                    <a:pt x="248" y="243"/>
                  </a:lnTo>
                  <a:lnTo>
                    <a:pt x="235" y="203"/>
                  </a:lnTo>
                  <a:lnTo>
                    <a:pt x="172" y="177"/>
                  </a:lnTo>
                  <a:lnTo>
                    <a:pt x="155" y="98"/>
                  </a:lnTo>
                  <a:lnTo>
                    <a:pt x="80" y="35"/>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7" name=""/>
            <p:cNvSpPr/>
            <p:nvPr/>
          </p:nvSpPr>
          <p:spPr>
            <a:xfrm>
              <a:off x="7659720" y="4759200"/>
              <a:ext cx="111600" cy="236880"/>
            </a:xfrm>
            <a:custGeom>
              <a:avLst/>
              <a:gdLst/>
              <a:ahLst/>
              <a:rect l="0" t="0" r="r" b="b"/>
              <a:pathLst>
                <a:path w="310" h="658">
                  <a:moveTo>
                    <a:pt x="221" y="216"/>
                  </a:moveTo>
                  <a:lnTo>
                    <a:pt x="146" y="216"/>
                  </a:lnTo>
                  <a:lnTo>
                    <a:pt x="89" y="185"/>
                  </a:lnTo>
                  <a:lnTo>
                    <a:pt x="39" y="127"/>
                  </a:lnTo>
                  <a:lnTo>
                    <a:pt x="0" y="0"/>
                  </a:lnTo>
                  <a:lnTo>
                    <a:pt x="22" y="149"/>
                  </a:lnTo>
                  <a:lnTo>
                    <a:pt x="120" y="299"/>
                  </a:lnTo>
                  <a:lnTo>
                    <a:pt x="212" y="494"/>
                  </a:lnTo>
                  <a:lnTo>
                    <a:pt x="262" y="561"/>
                  </a:lnTo>
                  <a:lnTo>
                    <a:pt x="301" y="658"/>
                  </a:lnTo>
                  <a:lnTo>
                    <a:pt x="270" y="508"/>
                  </a:lnTo>
                  <a:lnTo>
                    <a:pt x="310" y="481"/>
                  </a:lnTo>
                  <a:lnTo>
                    <a:pt x="270" y="450"/>
                  </a:lnTo>
                  <a:lnTo>
                    <a:pt x="270" y="419"/>
                  </a:lnTo>
                  <a:lnTo>
                    <a:pt x="293" y="402"/>
                  </a:lnTo>
                  <a:lnTo>
                    <a:pt x="240" y="415"/>
                  </a:lnTo>
                  <a:lnTo>
                    <a:pt x="212" y="402"/>
                  </a:lnTo>
                  <a:lnTo>
                    <a:pt x="203" y="371"/>
                  </a:lnTo>
                  <a:lnTo>
                    <a:pt x="203" y="282"/>
                  </a:lnTo>
                  <a:lnTo>
                    <a:pt x="221" y="21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8" name=""/>
            <p:cNvSpPr/>
            <p:nvPr/>
          </p:nvSpPr>
          <p:spPr>
            <a:xfrm>
              <a:off x="7777080" y="4879800"/>
              <a:ext cx="103680" cy="24120"/>
            </a:xfrm>
            <a:custGeom>
              <a:avLst/>
              <a:gdLst/>
              <a:ahLst/>
              <a:rect l="0" t="0" r="r" b="b"/>
              <a:pathLst>
                <a:path fill="none" w="288" h="67">
                  <a:moveTo>
                    <a:pt x="0" y="67"/>
                  </a:moveTo>
                  <a:lnTo>
                    <a:pt x="137" y="40"/>
                  </a:lnTo>
                  <a:lnTo>
                    <a:pt x="195" y="0"/>
                  </a:lnTo>
                  <a:lnTo>
                    <a:pt x="235" y="0"/>
                  </a:lnTo>
                  <a:lnTo>
                    <a:pt x="288" y="17"/>
                  </a:lnTo>
                </a:path>
              </a:pathLst>
            </a:custGeom>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469" name=""/>
            <p:cNvSpPr/>
            <p:nvPr/>
          </p:nvSpPr>
          <p:spPr>
            <a:xfrm>
              <a:off x="7785000" y="4910040"/>
              <a:ext cx="86040" cy="54360"/>
            </a:xfrm>
            <a:custGeom>
              <a:avLst/>
              <a:gdLst/>
              <a:ahLst/>
              <a:rect l="0" t="0" r="r" b="b"/>
              <a:pathLst>
                <a:path w="239" h="151">
                  <a:moveTo>
                    <a:pt x="0" y="62"/>
                  </a:moveTo>
                  <a:lnTo>
                    <a:pt x="181" y="22"/>
                  </a:lnTo>
                  <a:lnTo>
                    <a:pt x="225" y="0"/>
                  </a:lnTo>
                  <a:lnTo>
                    <a:pt x="230" y="17"/>
                  </a:lnTo>
                  <a:lnTo>
                    <a:pt x="164" y="49"/>
                  </a:lnTo>
                  <a:lnTo>
                    <a:pt x="177" y="93"/>
                  </a:lnTo>
                  <a:lnTo>
                    <a:pt x="239" y="151"/>
                  </a:lnTo>
                  <a:lnTo>
                    <a:pt x="172" y="129"/>
                  </a:lnTo>
                  <a:lnTo>
                    <a:pt x="120" y="129"/>
                  </a:lnTo>
                  <a:lnTo>
                    <a:pt x="57" y="147"/>
                  </a:lnTo>
                  <a:lnTo>
                    <a:pt x="39" y="151"/>
                  </a:lnTo>
                  <a:lnTo>
                    <a:pt x="48" y="125"/>
                  </a:lnTo>
                  <a:lnTo>
                    <a:pt x="22" y="75"/>
                  </a:lnTo>
                  <a:lnTo>
                    <a:pt x="0" y="62"/>
                  </a:lnTo>
                  <a:close/>
                </a:path>
              </a:pathLst>
            </a:custGeom>
            <a:solidFill>
              <a:srgbClr val="000000"/>
            </a:solidFill>
            <a:ln w="12600">
              <a:solidFill>
                <a:srgbClr val="000000"/>
              </a:solidFill>
              <a:round/>
            </a:ln>
          </p:spPr>
          <p:txBody>
            <a:bodyPr lIns="96120" rIns="96120" tIns="3240" bIns="3240" anchor="t">
              <a:noAutofit/>
            </a:bodyPr>
            <a:p>
              <a:endParaRPr b="0" lang="en-US" sz="1800" spc="-1" strike="noStrike">
                <a:solidFill>
                  <a:srgbClr val="ffffff"/>
                </a:solidFill>
                <a:latin typeface="Arial"/>
              </a:endParaRPr>
            </a:p>
          </p:txBody>
        </p:sp>
        <p:sp>
          <p:nvSpPr>
            <p:cNvPr id="470" name=""/>
            <p:cNvSpPr/>
            <p:nvPr/>
          </p:nvSpPr>
          <p:spPr>
            <a:xfrm>
              <a:off x="7572240" y="4406760"/>
              <a:ext cx="460800" cy="292320"/>
            </a:xfrm>
            <a:custGeom>
              <a:avLst/>
              <a:gdLst/>
              <a:ahLst/>
              <a:rect l="0" t="0" r="r" b="b"/>
              <a:pathLst>
                <a:path w="1280" h="812">
                  <a:moveTo>
                    <a:pt x="123" y="264"/>
                  </a:moveTo>
                  <a:lnTo>
                    <a:pt x="92" y="317"/>
                  </a:lnTo>
                  <a:lnTo>
                    <a:pt x="0" y="433"/>
                  </a:lnTo>
                  <a:lnTo>
                    <a:pt x="0" y="481"/>
                  </a:lnTo>
                  <a:lnTo>
                    <a:pt x="57" y="591"/>
                  </a:lnTo>
                  <a:lnTo>
                    <a:pt x="35" y="688"/>
                  </a:lnTo>
                  <a:lnTo>
                    <a:pt x="88" y="777"/>
                  </a:lnTo>
                  <a:lnTo>
                    <a:pt x="189" y="781"/>
                  </a:lnTo>
                  <a:lnTo>
                    <a:pt x="211" y="812"/>
                  </a:lnTo>
                  <a:lnTo>
                    <a:pt x="194" y="547"/>
                  </a:lnTo>
                  <a:lnTo>
                    <a:pt x="194" y="464"/>
                  </a:lnTo>
                  <a:lnTo>
                    <a:pt x="202" y="396"/>
                  </a:lnTo>
                  <a:lnTo>
                    <a:pt x="211" y="361"/>
                  </a:lnTo>
                  <a:lnTo>
                    <a:pt x="304" y="396"/>
                  </a:lnTo>
                  <a:lnTo>
                    <a:pt x="419" y="419"/>
                  </a:lnTo>
                  <a:lnTo>
                    <a:pt x="556" y="419"/>
                  </a:lnTo>
                  <a:lnTo>
                    <a:pt x="728" y="396"/>
                  </a:lnTo>
                  <a:lnTo>
                    <a:pt x="640" y="396"/>
                  </a:lnTo>
                  <a:lnTo>
                    <a:pt x="534" y="343"/>
                  </a:lnTo>
                  <a:lnTo>
                    <a:pt x="649" y="348"/>
                  </a:lnTo>
                  <a:lnTo>
                    <a:pt x="750" y="343"/>
                  </a:lnTo>
                  <a:lnTo>
                    <a:pt x="878" y="313"/>
                  </a:lnTo>
                  <a:lnTo>
                    <a:pt x="967" y="273"/>
                  </a:lnTo>
                  <a:lnTo>
                    <a:pt x="1086" y="260"/>
                  </a:lnTo>
                  <a:lnTo>
                    <a:pt x="1144" y="282"/>
                  </a:lnTo>
                  <a:lnTo>
                    <a:pt x="1197" y="313"/>
                  </a:lnTo>
                  <a:lnTo>
                    <a:pt x="1241" y="313"/>
                  </a:lnTo>
                  <a:lnTo>
                    <a:pt x="1280" y="282"/>
                  </a:lnTo>
                  <a:lnTo>
                    <a:pt x="1232" y="216"/>
                  </a:lnTo>
                  <a:lnTo>
                    <a:pt x="1152" y="224"/>
                  </a:lnTo>
                  <a:lnTo>
                    <a:pt x="1086" y="202"/>
                  </a:lnTo>
                  <a:lnTo>
                    <a:pt x="1025" y="198"/>
                  </a:lnTo>
                  <a:lnTo>
                    <a:pt x="967" y="220"/>
                  </a:lnTo>
                  <a:lnTo>
                    <a:pt x="856" y="264"/>
                  </a:lnTo>
                  <a:lnTo>
                    <a:pt x="763" y="295"/>
                  </a:lnTo>
                  <a:lnTo>
                    <a:pt x="658" y="299"/>
                  </a:lnTo>
                  <a:lnTo>
                    <a:pt x="578" y="304"/>
                  </a:lnTo>
                  <a:lnTo>
                    <a:pt x="446" y="282"/>
                  </a:lnTo>
                  <a:lnTo>
                    <a:pt x="525" y="260"/>
                  </a:lnTo>
                  <a:lnTo>
                    <a:pt x="428" y="251"/>
                  </a:lnTo>
                  <a:lnTo>
                    <a:pt x="331" y="229"/>
                  </a:lnTo>
                  <a:lnTo>
                    <a:pt x="286" y="211"/>
                  </a:lnTo>
                  <a:lnTo>
                    <a:pt x="362" y="180"/>
                  </a:lnTo>
                  <a:lnTo>
                    <a:pt x="224" y="158"/>
                  </a:lnTo>
                  <a:lnTo>
                    <a:pt x="202" y="136"/>
                  </a:lnTo>
                  <a:lnTo>
                    <a:pt x="198" y="114"/>
                  </a:lnTo>
                  <a:lnTo>
                    <a:pt x="202" y="83"/>
                  </a:lnTo>
                  <a:lnTo>
                    <a:pt x="220" y="39"/>
                  </a:lnTo>
                  <a:lnTo>
                    <a:pt x="282" y="0"/>
                  </a:lnTo>
                  <a:lnTo>
                    <a:pt x="167" y="48"/>
                  </a:lnTo>
                  <a:lnTo>
                    <a:pt x="48" y="127"/>
                  </a:lnTo>
                  <a:lnTo>
                    <a:pt x="52" y="145"/>
                  </a:lnTo>
                  <a:lnTo>
                    <a:pt x="92" y="224"/>
                  </a:lnTo>
                  <a:lnTo>
                    <a:pt x="123" y="26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1" name=""/>
            <p:cNvSpPr/>
            <p:nvPr/>
          </p:nvSpPr>
          <p:spPr>
            <a:xfrm>
              <a:off x="7697880" y="4343400"/>
              <a:ext cx="448200" cy="748080"/>
            </a:xfrm>
            <a:custGeom>
              <a:avLst/>
              <a:gdLst/>
              <a:ahLst/>
              <a:rect l="0" t="0" r="r" b="b"/>
              <a:pathLst>
                <a:path w="1245" h="2078">
                  <a:moveTo>
                    <a:pt x="0" y="149"/>
                  </a:moveTo>
                  <a:lnTo>
                    <a:pt x="74" y="202"/>
                  </a:lnTo>
                  <a:lnTo>
                    <a:pt x="216" y="189"/>
                  </a:lnTo>
                  <a:lnTo>
                    <a:pt x="154" y="216"/>
                  </a:lnTo>
                  <a:lnTo>
                    <a:pt x="79" y="224"/>
                  </a:lnTo>
                  <a:lnTo>
                    <a:pt x="167" y="304"/>
                  </a:lnTo>
                  <a:lnTo>
                    <a:pt x="101" y="335"/>
                  </a:lnTo>
                  <a:lnTo>
                    <a:pt x="264" y="339"/>
                  </a:lnTo>
                  <a:lnTo>
                    <a:pt x="380" y="321"/>
                  </a:lnTo>
                  <a:lnTo>
                    <a:pt x="455" y="304"/>
                  </a:lnTo>
                  <a:lnTo>
                    <a:pt x="362" y="335"/>
                  </a:lnTo>
                  <a:lnTo>
                    <a:pt x="255" y="352"/>
                  </a:lnTo>
                  <a:lnTo>
                    <a:pt x="180" y="370"/>
                  </a:lnTo>
                  <a:lnTo>
                    <a:pt x="322" y="410"/>
                  </a:lnTo>
                  <a:lnTo>
                    <a:pt x="402" y="418"/>
                  </a:lnTo>
                  <a:lnTo>
                    <a:pt x="494" y="418"/>
                  </a:lnTo>
                  <a:lnTo>
                    <a:pt x="618" y="313"/>
                  </a:lnTo>
                  <a:lnTo>
                    <a:pt x="710" y="321"/>
                  </a:lnTo>
                  <a:lnTo>
                    <a:pt x="777" y="366"/>
                  </a:lnTo>
                  <a:lnTo>
                    <a:pt x="865" y="485"/>
                  </a:lnTo>
                  <a:lnTo>
                    <a:pt x="941" y="476"/>
                  </a:lnTo>
                  <a:lnTo>
                    <a:pt x="1016" y="401"/>
                  </a:lnTo>
                  <a:lnTo>
                    <a:pt x="1007" y="476"/>
                  </a:lnTo>
                  <a:lnTo>
                    <a:pt x="980" y="515"/>
                  </a:lnTo>
                  <a:lnTo>
                    <a:pt x="1033" y="515"/>
                  </a:lnTo>
                  <a:lnTo>
                    <a:pt x="1086" y="502"/>
                  </a:lnTo>
                  <a:lnTo>
                    <a:pt x="1113" y="515"/>
                  </a:lnTo>
                  <a:lnTo>
                    <a:pt x="1130" y="538"/>
                  </a:lnTo>
                  <a:lnTo>
                    <a:pt x="1144" y="600"/>
                  </a:lnTo>
                  <a:lnTo>
                    <a:pt x="1139" y="737"/>
                  </a:lnTo>
                  <a:lnTo>
                    <a:pt x="1157" y="785"/>
                  </a:lnTo>
                  <a:lnTo>
                    <a:pt x="1188" y="812"/>
                  </a:lnTo>
                  <a:lnTo>
                    <a:pt x="1192" y="847"/>
                  </a:lnTo>
                  <a:lnTo>
                    <a:pt x="1170" y="847"/>
                  </a:lnTo>
                  <a:lnTo>
                    <a:pt x="1100" y="799"/>
                  </a:lnTo>
                  <a:lnTo>
                    <a:pt x="1016" y="794"/>
                  </a:lnTo>
                  <a:lnTo>
                    <a:pt x="963" y="865"/>
                  </a:lnTo>
                  <a:lnTo>
                    <a:pt x="945" y="971"/>
                  </a:lnTo>
                  <a:lnTo>
                    <a:pt x="1003" y="1010"/>
                  </a:lnTo>
                  <a:lnTo>
                    <a:pt x="985" y="1143"/>
                  </a:lnTo>
                  <a:lnTo>
                    <a:pt x="1020" y="1085"/>
                  </a:lnTo>
                  <a:lnTo>
                    <a:pt x="1091" y="1050"/>
                  </a:lnTo>
                  <a:lnTo>
                    <a:pt x="1064" y="979"/>
                  </a:lnTo>
                  <a:lnTo>
                    <a:pt x="1003" y="962"/>
                  </a:lnTo>
                  <a:lnTo>
                    <a:pt x="1055" y="900"/>
                  </a:lnTo>
                  <a:lnTo>
                    <a:pt x="1130" y="957"/>
                  </a:lnTo>
                  <a:lnTo>
                    <a:pt x="1108" y="874"/>
                  </a:lnTo>
                  <a:lnTo>
                    <a:pt x="1139" y="865"/>
                  </a:lnTo>
                  <a:lnTo>
                    <a:pt x="1064" y="865"/>
                  </a:lnTo>
                  <a:lnTo>
                    <a:pt x="976" y="940"/>
                  </a:lnTo>
                  <a:lnTo>
                    <a:pt x="985" y="865"/>
                  </a:lnTo>
                  <a:lnTo>
                    <a:pt x="1025" y="812"/>
                  </a:lnTo>
                  <a:lnTo>
                    <a:pt x="1091" y="812"/>
                  </a:lnTo>
                  <a:lnTo>
                    <a:pt x="1170" y="865"/>
                  </a:lnTo>
                  <a:lnTo>
                    <a:pt x="1170" y="944"/>
                  </a:lnTo>
                  <a:lnTo>
                    <a:pt x="1157" y="1037"/>
                  </a:lnTo>
                  <a:lnTo>
                    <a:pt x="1100" y="1129"/>
                  </a:lnTo>
                  <a:lnTo>
                    <a:pt x="1086" y="1196"/>
                  </a:lnTo>
                  <a:lnTo>
                    <a:pt x="1020" y="1226"/>
                  </a:lnTo>
                  <a:lnTo>
                    <a:pt x="972" y="1178"/>
                  </a:lnTo>
                  <a:lnTo>
                    <a:pt x="918" y="1553"/>
                  </a:lnTo>
                  <a:lnTo>
                    <a:pt x="878" y="1787"/>
                  </a:lnTo>
                  <a:lnTo>
                    <a:pt x="706" y="1977"/>
                  </a:lnTo>
                  <a:lnTo>
                    <a:pt x="640" y="2078"/>
                  </a:lnTo>
                  <a:lnTo>
                    <a:pt x="719" y="1973"/>
                  </a:lnTo>
                  <a:lnTo>
                    <a:pt x="941" y="1717"/>
                  </a:lnTo>
                  <a:lnTo>
                    <a:pt x="1086" y="1438"/>
                  </a:lnTo>
                  <a:lnTo>
                    <a:pt x="1069" y="1425"/>
                  </a:lnTo>
                  <a:lnTo>
                    <a:pt x="1033" y="1429"/>
                  </a:lnTo>
                  <a:lnTo>
                    <a:pt x="1038" y="1359"/>
                  </a:lnTo>
                  <a:lnTo>
                    <a:pt x="1122" y="1337"/>
                  </a:lnTo>
                  <a:lnTo>
                    <a:pt x="1122" y="1279"/>
                  </a:lnTo>
                  <a:lnTo>
                    <a:pt x="1192" y="1253"/>
                  </a:lnTo>
                  <a:lnTo>
                    <a:pt x="1214" y="1143"/>
                  </a:lnTo>
                  <a:lnTo>
                    <a:pt x="1245" y="1094"/>
                  </a:lnTo>
                  <a:lnTo>
                    <a:pt x="1188" y="1063"/>
                  </a:lnTo>
                  <a:lnTo>
                    <a:pt x="1179" y="1028"/>
                  </a:lnTo>
                  <a:lnTo>
                    <a:pt x="1192" y="979"/>
                  </a:lnTo>
                  <a:lnTo>
                    <a:pt x="1192" y="909"/>
                  </a:lnTo>
                  <a:lnTo>
                    <a:pt x="1188" y="882"/>
                  </a:lnTo>
                  <a:lnTo>
                    <a:pt x="1232" y="900"/>
                  </a:lnTo>
                  <a:lnTo>
                    <a:pt x="1214" y="838"/>
                  </a:lnTo>
                  <a:lnTo>
                    <a:pt x="1170" y="763"/>
                  </a:lnTo>
                  <a:lnTo>
                    <a:pt x="1161" y="706"/>
                  </a:lnTo>
                  <a:lnTo>
                    <a:pt x="1161" y="640"/>
                  </a:lnTo>
                  <a:lnTo>
                    <a:pt x="1157" y="583"/>
                  </a:lnTo>
                  <a:lnTo>
                    <a:pt x="1161" y="547"/>
                  </a:lnTo>
                  <a:lnTo>
                    <a:pt x="1122" y="454"/>
                  </a:lnTo>
                  <a:lnTo>
                    <a:pt x="1064" y="361"/>
                  </a:lnTo>
                  <a:lnTo>
                    <a:pt x="989" y="304"/>
                  </a:lnTo>
                  <a:lnTo>
                    <a:pt x="941" y="260"/>
                  </a:lnTo>
                  <a:lnTo>
                    <a:pt x="922" y="176"/>
                  </a:lnTo>
                  <a:lnTo>
                    <a:pt x="856" y="110"/>
                  </a:lnTo>
                  <a:lnTo>
                    <a:pt x="785" y="88"/>
                  </a:lnTo>
                  <a:lnTo>
                    <a:pt x="684" y="26"/>
                  </a:lnTo>
                  <a:lnTo>
                    <a:pt x="561" y="0"/>
                  </a:lnTo>
                  <a:lnTo>
                    <a:pt x="437" y="4"/>
                  </a:lnTo>
                  <a:lnTo>
                    <a:pt x="314" y="22"/>
                  </a:lnTo>
                  <a:lnTo>
                    <a:pt x="220" y="74"/>
                  </a:lnTo>
                  <a:lnTo>
                    <a:pt x="88" y="123"/>
                  </a:lnTo>
                  <a:lnTo>
                    <a:pt x="0" y="14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2" name=""/>
            <p:cNvSpPr/>
            <p:nvPr/>
          </p:nvSpPr>
          <p:spPr>
            <a:xfrm>
              <a:off x="7908840" y="4494240"/>
              <a:ext cx="119520" cy="103680"/>
            </a:xfrm>
            <a:custGeom>
              <a:avLst/>
              <a:gdLst/>
              <a:ahLst/>
              <a:rect l="0" t="0" r="r" b="b"/>
              <a:pathLst>
                <a:path w="332" h="288">
                  <a:moveTo>
                    <a:pt x="106" y="17"/>
                  </a:moveTo>
                  <a:lnTo>
                    <a:pt x="52" y="35"/>
                  </a:lnTo>
                  <a:lnTo>
                    <a:pt x="0" y="89"/>
                  </a:lnTo>
                  <a:lnTo>
                    <a:pt x="61" y="89"/>
                  </a:lnTo>
                  <a:lnTo>
                    <a:pt x="30" y="168"/>
                  </a:lnTo>
                  <a:lnTo>
                    <a:pt x="70" y="186"/>
                  </a:lnTo>
                  <a:lnTo>
                    <a:pt x="98" y="288"/>
                  </a:lnTo>
                  <a:lnTo>
                    <a:pt x="84" y="177"/>
                  </a:lnTo>
                  <a:lnTo>
                    <a:pt x="124" y="142"/>
                  </a:lnTo>
                  <a:lnTo>
                    <a:pt x="177" y="124"/>
                  </a:lnTo>
                  <a:lnTo>
                    <a:pt x="234" y="124"/>
                  </a:lnTo>
                  <a:lnTo>
                    <a:pt x="293" y="137"/>
                  </a:lnTo>
                  <a:lnTo>
                    <a:pt x="332" y="168"/>
                  </a:lnTo>
                  <a:lnTo>
                    <a:pt x="279" y="124"/>
                  </a:lnTo>
                  <a:lnTo>
                    <a:pt x="199" y="106"/>
                  </a:lnTo>
                  <a:lnTo>
                    <a:pt x="146" y="106"/>
                  </a:lnTo>
                  <a:lnTo>
                    <a:pt x="74" y="124"/>
                  </a:lnTo>
                  <a:lnTo>
                    <a:pt x="79" y="98"/>
                  </a:lnTo>
                  <a:lnTo>
                    <a:pt x="115" y="70"/>
                  </a:lnTo>
                  <a:lnTo>
                    <a:pt x="44" y="70"/>
                  </a:lnTo>
                  <a:lnTo>
                    <a:pt x="74" y="52"/>
                  </a:lnTo>
                  <a:lnTo>
                    <a:pt x="124" y="22"/>
                  </a:lnTo>
                  <a:lnTo>
                    <a:pt x="164" y="30"/>
                  </a:lnTo>
                  <a:lnTo>
                    <a:pt x="234" y="52"/>
                  </a:lnTo>
                  <a:lnTo>
                    <a:pt x="186" y="13"/>
                  </a:lnTo>
                  <a:lnTo>
                    <a:pt x="124" y="0"/>
                  </a:lnTo>
                  <a:lnTo>
                    <a:pt x="106"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3" name=""/>
            <p:cNvSpPr/>
            <p:nvPr/>
          </p:nvSpPr>
          <p:spPr>
            <a:xfrm>
              <a:off x="7947000" y="4611600"/>
              <a:ext cx="103680" cy="86040"/>
            </a:xfrm>
            <a:custGeom>
              <a:avLst/>
              <a:gdLst/>
              <a:ahLst/>
              <a:rect l="0" t="0" r="r" b="b"/>
              <a:pathLst>
                <a:path w="288" h="239">
                  <a:moveTo>
                    <a:pt x="17" y="8"/>
                  </a:moveTo>
                  <a:lnTo>
                    <a:pt x="89" y="0"/>
                  </a:lnTo>
                  <a:lnTo>
                    <a:pt x="146" y="8"/>
                  </a:lnTo>
                  <a:lnTo>
                    <a:pt x="186" y="39"/>
                  </a:lnTo>
                  <a:lnTo>
                    <a:pt x="212" y="70"/>
                  </a:lnTo>
                  <a:lnTo>
                    <a:pt x="212" y="110"/>
                  </a:lnTo>
                  <a:lnTo>
                    <a:pt x="212" y="120"/>
                  </a:lnTo>
                  <a:lnTo>
                    <a:pt x="190" y="120"/>
                  </a:lnTo>
                  <a:lnTo>
                    <a:pt x="168" y="101"/>
                  </a:lnTo>
                  <a:lnTo>
                    <a:pt x="133" y="70"/>
                  </a:lnTo>
                  <a:lnTo>
                    <a:pt x="98" y="70"/>
                  </a:lnTo>
                  <a:lnTo>
                    <a:pt x="133" y="120"/>
                  </a:lnTo>
                  <a:lnTo>
                    <a:pt x="146" y="159"/>
                  </a:lnTo>
                  <a:lnTo>
                    <a:pt x="137" y="208"/>
                  </a:lnTo>
                  <a:lnTo>
                    <a:pt x="266" y="225"/>
                  </a:lnTo>
                  <a:lnTo>
                    <a:pt x="288" y="239"/>
                  </a:lnTo>
                  <a:lnTo>
                    <a:pt x="115" y="217"/>
                  </a:lnTo>
                  <a:lnTo>
                    <a:pt x="124" y="190"/>
                  </a:lnTo>
                  <a:lnTo>
                    <a:pt x="120" y="150"/>
                  </a:lnTo>
                  <a:lnTo>
                    <a:pt x="93" y="101"/>
                  </a:lnTo>
                  <a:lnTo>
                    <a:pt x="66" y="70"/>
                  </a:lnTo>
                  <a:lnTo>
                    <a:pt x="13" y="39"/>
                  </a:lnTo>
                  <a:lnTo>
                    <a:pt x="0" y="4"/>
                  </a:lnTo>
                  <a:lnTo>
                    <a:pt x="17" y="8"/>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474" name=""/>
            <p:cNvSpPr/>
            <p:nvPr/>
          </p:nvSpPr>
          <p:spPr>
            <a:xfrm>
              <a:off x="7970760" y="4689360"/>
              <a:ext cx="55800" cy="89280"/>
            </a:xfrm>
            <a:custGeom>
              <a:avLst/>
              <a:gdLst/>
              <a:ahLst/>
              <a:rect l="0" t="0" r="r" b="b"/>
              <a:pathLst>
                <a:path w="155" h="248">
                  <a:moveTo>
                    <a:pt x="66" y="0"/>
                  </a:moveTo>
                  <a:lnTo>
                    <a:pt x="0" y="142"/>
                  </a:lnTo>
                  <a:lnTo>
                    <a:pt x="4" y="248"/>
                  </a:lnTo>
                  <a:lnTo>
                    <a:pt x="155" y="48"/>
                  </a:lnTo>
                  <a:lnTo>
                    <a:pt x="155" y="8"/>
                  </a:lnTo>
                  <a:lnTo>
                    <a:pt x="66" y="0"/>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475" name=""/>
            <p:cNvSpPr/>
            <p:nvPr/>
          </p:nvSpPr>
          <p:spPr>
            <a:xfrm>
              <a:off x="7772400" y="4917960"/>
              <a:ext cx="235440" cy="182880"/>
            </a:xfrm>
            <a:custGeom>
              <a:avLst/>
              <a:gdLst/>
              <a:ahLst/>
              <a:rect l="0" t="0" r="r" b="b"/>
              <a:pathLst>
                <a:path w="654" h="508">
                  <a:moveTo>
                    <a:pt x="654" y="0"/>
                  </a:moveTo>
                  <a:lnTo>
                    <a:pt x="570" y="39"/>
                  </a:lnTo>
                  <a:lnTo>
                    <a:pt x="491" y="163"/>
                  </a:lnTo>
                  <a:lnTo>
                    <a:pt x="389" y="149"/>
                  </a:lnTo>
                  <a:lnTo>
                    <a:pt x="358" y="211"/>
                  </a:lnTo>
                  <a:lnTo>
                    <a:pt x="318" y="238"/>
                  </a:lnTo>
                  <a:lnTo>
                    <a:pt x="212" y="229"/>
                  </a:lnTo>
                  <a:lnTo>
                    <a:pt x="145" y="261"/>
                  </a:lnTo>
                  <a:lnTo>
                    <a:pt x="92" y="278"/>
                  </a:lnTo>
                  <a:lnTo>
                    <a:pt x="35" y="278"/>
                  </a:lnTo>
                  <a:lnTo>
                    <a:pt x="0" y="251"/>
                  </a:lnTo>
                  <a:lnTo>
                    <a:pt x="35" y="292"/>
                  </a:lnTo>
                  <a:lnTo>
                    <a:pt x="79" y="296"/>
                  </a:lnTo>
                  <a:lnTo>
                    <a:pt x="172" y="296"/>
                  </a:lnTo>
                  <a:lnTo>
                    <a:pt x="225" y="314"/>
                  </a:lnTo>
                  <a:lnTo>
                    <a:pt x="292" y="411"/>
                  </a:lnTo>
                  <a:lnTo>
                    <a:pt x="384" y="486"/>
                  </a:lnTo>
                  <a:lnTo>
                    <a:pt x="397" y="508"/>
                  </a:lnTo>
                  <a:lnTo>
                    <a:pt x="428" y="490"/>
                  </a:lnTo>
                  <a:lnTo>
                    <a:pt x="419" y="441"/>
                  </a:lnTo>
                  <a:lnTo>
                    <a:pt x="415" y="371"/>
                  </a:lnTo>
                  <a:lnTo>
                    <a:pt x="419" y="305"/>
                  </a:lnTo>
                  <a:lnTo>
                    <a:pt x="433" y="265"/>
                  </a:lnTo>
                  <a:lnTo>
                    <a:pt x="477" y="211"/>
                  </a:lnTo>
                  <a:lnTo>
                    <a:pt x="522" y="185"/>
                  </a:lnTo>
                  <a:lnTo>
                    <a:pt x="562" y="105"/>
                  </a:lnTo>
                  <a:lnTo>
                    <a:pt x="606" y="44"/>
                  </a:lnTo>
                  <a:lnTo>
                    <a:pt x="65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6" name=""/>
            <p:cNvSpPr/>
            <p:nvPr/>
          </p:nvSpPr>
          <p:spPr>
            <a:xfrm>
              <a:off x="7953480" y="4808520"/>
              <a:ext cx="20880" cy="98640"/>
            </a:xfrm>
            <a:custGeom>
              <a:avLst/>
              <a:gdLst/>
              <a:ahLst/>
              <a:rect l="0" t="0" r="r" b="b"/>
              <a:pathLst>
                <a:path w="58" h="274">
                  <a:moveTo>
                    <a:pt x="45" y="0"/>
                  </a:moveTo>
                  <a:lnTo>
                    <a:pt x="0" y="274"/>
                  </a:lnTo>
                  <a:lnTo>
                    <a:pt x="58" y="92"/>
                  </a:lnTo>
                  <a:lnTo>
                    <a:pt x="45" y="0"/>
                  </a:lnTo>
                  <a:close/>
                </a:path>
              </a:pathLst>
            </a:custGeom>
            <a:solidFill>
              <a:srgbClr val="000000"/>
            </a:solidFill>
            <a:ln w="12600">
              <a:solidFill>
                <a:srgbClr val="000000"/>
              </a:solidFill>
              <a:round/>
            </a:ln>
          </p:spPr>
          <p:txBody>
            <a:bodyPr lIns="96120" rIns="96120" tIns="47520" bIns="47520" anchor="t">
              <a:noAutofit/>
            </a:bodyPr>
            <a:p>
              <a:endParaRPr b="0" lang="en-US" sz="1800" spc="-1" strike="noStrike">
                <a:solidFill>
                  <a:srgbClr val="ffffff"/>
                </a:solidFill>
                <a:latin typeface="Arial"/>
              </a:endParaRPr>
            </a:p>
          </p:txBody>
        </p:sp>
        <p:sp>
          <p:nvSpPr>
            <p:cNvPr id="477" name=""/>
            <p:cNvSpPr/>
            <p:nvPr/>
          </p:nvSpPr>
          <p:spPr>
            <a:xfrm>
              <a:off x="7715160" y="4584600"/>
              <a:ext cx="201960" cy="55800"/>
            </a:xfrm>
            <a:custGeom>
              <a:avLst/>
              <a:gdLst/>
              <a:ahLst/>
              <a:rect l="0" t="0" r="r" b="b"/>
              <a:pathLst>
                <a:path fill="none" w="561" h="155">
                  <a:moveTo>
                    <a:pt x="0" y="155"/>
                  </a:moveTo>
                  <a:lnTo>
                    <a:pt x="26" y="124"/>
                  </a:lnTo>
                  <a:lnTo>
                    <a:pt x="70" y="98"/>
                  </a:lnTo>
                  <a:lnTo>
                    <a:pt x="141" y="80"/>
                  </a:lnTo>
                  <a:lnTo>
                    <a:pt x="255" y="66"/>
                  </a:lnTo>
                  <a:lnTo>
                    <a:pt x="344" y="30"/>
                  </a:lnTo>
                  <a:lnTo>
                    <a:pt x="437" y="0"/>
                  </a:lnTo>
                  <a:lnTo>
                    <a:pt x="499" y="0"/>
                  </a:lnTo>
                  <a:lnTo>
                    <a:pt x="538" y="22"/>
                  </a:lnTo>
                  <a:lnTo>
                    <a:pt x="561" y="35"/>
                  </a:lnTo>
                </a:path>
              </a:pathLst>
            </a:custGeom>
            <a:ln w="12600">
              <a:solidFill>
                <a:srgbClr val="000000"/>
              </a:solidFill>
              <a:round/>
            </a:ln>
          </p:spPr>
          <p:txBody>
            <a:bodyPr lIns="96120" rIns="96120" tIns="4680" bIns="4680" anchor="t">
              <a:noAutofit/>
            </a:bodyPr>
            <a:p>
              <a:endParaRPr b="0" lang="en-US" sz="1800" spc="-1" strike="noStrike">
                <a:solidFill>
                  <a:srgbClr val="ffffff"/>
                </a:solidFill>
                <a:latin typeface="Arial"/>
              </a:endParaRPr>
            </a:p>
          </p:txBody>
        </p:sp>
        <p:sp>
          <p:nvSpPr>
            <p:cNvPr id="478" name=""/>
            <p:cNvSpPr/>
            <p:nvPr/>
          </p:nvSpPr>
          <p:spPr>
            <a:xfrm>
              <a:off x="7759800" y="4567320"/>
              <a:ext cx="152640" cy="35280"/>
            </a:xfrm>
            <a:custGeom>
              <a:avLst/>
              <a:gdLst/>
              <a:ahLst/>
              <a:rect l="0" t="0" r="r" b="b"/>
              <a:pathLst>
                <a:path fill="none" w="424" h="98">
                  <a:moveTo>
                    <a:pt x="0" y="98"/>
                  </a:moveTo>
                  <a:lnTo>
                    <a:pt x="101" y="75"/>
                  </a:lnTo>
                  <a:lnTo>
                    <a:pt x="202" y="30"/>
                  </a:lnTo>
                  <a:lnTo>
                    <a:pt x="269" y="4"/>
                  </a:lnTo>
                  <a:lnTo>
                    <a:pt x="327" y="0"/>
                  </a:lnTo>
                  <a:lnTo>
                    <a:pt x="375" y="13"/>
                  </a:lnTo>
                  <a:lnTo>
                    <a:pt x="424" y="39"/>
                  </a:lnTo>
                </a:path>
              </a:pathLst>
            </a:custGeom>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479" name=""/>
            <p:cNvSpPr/>
            <p:nvPr/>
          </p:nvSpPr>
          <p:spPr>
            <a:xfrm>
              <a:off x="7815240" y="4549680"/>
              <a:ext cx="76680" cy="19440"/>
            </a:xfrm>
            <a:custGeom>
              <a:avLst/>
              <a:gdLst/>
              <a:ahLst/>
              <a:rect l="0" t="0" r="r" b="b"/>
              <a:pathLst>
                <a:path fill="none" w="213" h="54">
                  <a:moveTo>
                    <a:pt x="0" y="54"/>
                  </a:moveTo>
                  <a:lnTo>
                    <a:pt x="120" y="8"/>
                  </a:lnTo>
                  <a:lnTo>
                    <a:pt x="169" y="0"/>
                  </a:lnTo>
                  <a:lnTo>
                    <a:pt x="213" y="8"/>
                  </a:lnTo>
                </a:path>
              </a:pathLst>
            </a:custGeom>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480" name=""/>
            <p:cNvSpPr/>
            <p:nvPr/>
          </p:nvSpPr>
          <p:spPr>
            <a:xfrm>
              <a:off x="7902720" y="4653000"/>
              <a:ext cx="30600" cy="36720"/>
            </a:xfrm>
            <a:custGeom>
              <a:avLst/>
              <a:gdLst/>
              <a:ahLst/>
              <a:rect l="0" t="0" r="r" b="b"/>
              <a:pathLst>
                <a:path w="85" h="102">
                  <a:moveTo>
                    <a:pt x="0" y="0"/>
                  </a:moveTo>
                  <a:lnTo>
                    <a:pt x="0" y="80"/>
                  </a:lnTo>
                  <a:lnTo>
                    <a:pt x="40" y="102"/>
                  </a:lnTo>
                  <a:lnTo>
                    <a:pt x="85" y="30"/>
                  </a:lnTo>
                  <a:lnTo>
                    <a:pt x="0" y="0"/>
                  </a:lnTo>
                  <a:close/>
                </a:path>
              </a:pathLst>
            </a:custGeom>
            <a:solidFill>
              <a:srgbClr val="000000"/>
            </a:solidFill>
            <a:ln w="12600">
              <a:solidFill>
                <a:srgbClr val="000000"/>
              </a:solidFill>
              <a:round/>
            </a:ln>
          </p:spPr>
          <p:txBody>
            <a:bodyPr lIns="96120" rIns="96120" tIns="-14400" bIns="-14400" anchor="t">
              <a:noAutofit/>
            </a:bodyPr>
            <a:p>
              <a:endParaRPr b="0" lang="en-US" sz="1800" spc="-1" strike="noStrike">
                <a:solidFill>
                  <a:srgbClr val="ffffff"/>
                </a:solidFill>
                <a:latin typeface="Arial"/>
              </a:endParaRPr>
            </a:p>
          </p:txBody>
        </p:sp>
        <p:sp>
          <p:nvSpPr>
            <p:cNvPr id="481" name=""/>
            <p:cNvSpPr/>
            <p:nvPr/>
          </p:nvSpPr>
          <p:spPr>
            <a:xfrm>
              <a:off x="8183520" y="5111640"/>
              <a:ext cx="578160" cy="1076760"/>
            </a:xfrm>
            <a:custGeom>
              <a:avLst/>
              <a:gdLst/>
              <a:ahLst/>
              <a:rect l="0" t="0" r="r" b="b"/>
              <a:pathLst>
                <a:path w="1606" h="2991">
                  <a:moveTo>
                    <a:pt x="1121" y="405"/>
                  </a:moveTo>
                  <a:lnTo>
                    <a:pt x="1218" y="768"/>
                  </a:lnTo>
                  <a:lnTo>
                    <a:pt x="1456" y="1165"/>
                  </a:lnTo>
                  <a:lnTo>
                    <a:pt x="1363" y="1681"/>
                  </a:lnTo>
                  <a:lnTo>
                    <a:pt x="1606" y="2471"/>
                  </a:lnTo>
                  <a:lnTo>
                    <a:pt x="1606" y="2991"/>
                  </a:lnTo>
                  <a:lnTo>
                    <a:pt x="692" y="2982"/>
                  </a:lnTo>
                  <a:lnTo>
                    <a:pt x="0" y="2616"/>
                  </a:lnTo>
                  <a:lnTo>
                    <a:pt x="379" y="2370"/>
                  </a:lnTo>
                  <a:lnTo>
                    <a:pt x="388" y="2201"/>
                  </a:lnTo>
                  <a:lnTo>
                    <a:pt x="449" y="1941"/>
                  </a:lnTo>
                  <a:lnTo>
                    <a:pt x="449" y="2179"/>
                  </a:lnTo>
                  <a:lnTo>
                    <a:pt x="701" y="1888"/>
                  </a:lnTo>
                  <a:lnTo>
                    <a:pt x="754" y="1813"/>
                  </a:lnTo>
                  <a:lnTo>
                    <a:pt x="776" y="1681"/>
                  </a:lnTo>
                  <a:lnTo>
                    <a:pt x="802" y="1535"/>
                  </a:lnTo>
                  <a:lnTo>
                    <a:pt x="979" y="1539"/>
                  </a:lnTo>
                  <a:lnTo>
                    <a:pt x="1041" y="1438"/>
                  </a:lnTo>
                  <a:lnTo>
                    <a:pt x="909" y="1187"/>
                  </a:lnTo>
                  <a:lnTo>
                    <a:pt x="1041" y="1187"/>
                  </a:lnTo>
                  <a:lnTo>
                    <a:pt x="1041" y="1138"/>
                  </a:lnTo>
                  <a:lnTo>
                    <a:pt x="931" y="1002"/>
                  </a:lnTo>
                  <a:lnTo>
                    <a:pt x="940" y="918"/>
                  </a:lnTo>
                  <a:lnTo>
                    <a:pt x="1099" y="768"/>
                  </a:lnTo>
                  <a:lnTo>
                    <a:pt x="1112" y="568"/>
                  </a:lnTo>
                  <a:lnTo>
                    <a:pt x="1019" y="396"/>
                  </a:lnTo>
                  <a:lnTo>
                    <a:pt x="997" y="207"/>
                  </a:lnTo>
                  <a:lnTo>
                    <a:pt x="909" y="0"/>
                  </a:lnTo>
                  <a:lnTo>
                    <a:pt x="1072" y="282"/>
                  </a:lnTo>
                  <a:lnTo>
                    <a:pt x="1121" y="40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2" name=""/>
            <p:cNvSpPr/>
            <p:nvPr/>
          </p:nvSpPr>
          <p:spPr>
            <a:xfrm>
              <a:off x="8094600" y="4843440"/>
              <a:ext cx="200520" cy="251280"/>
            </a:xfrm>
            <a:custGeom>
              <a:avLst/>
              <a:gdLst/>
              <a:ahLst/>
              <a:rect l="0" t="0" r="r" b="b"/>
              <a:pathLst>
                <a:path w="557" h="698">
                  <a:moveTo>
                    <a:pt x="26" y="57"/>
                  </a:moveTo>
                  <a:lnTo>
                    <a:pt x="119" y="243"/>
                  </a:lnTo>
                  <a:lnTo>
                    <a:pt x="0" y="698"/>
                  </a:lnTo>
                  <a:lnTo>
                    <a:pt x="164" y="181"/>
                  </a:lnTo>
                  <a:lnTo>
                    <a:pt x="164" y="127"/>
                  </a:lnTo>
                  <a:lnTo>
                    <a:pt x="146" y="88"/>
                  </a:lnTo>
                  <a:lnTo>
                    <a:pt x="247" y="127"/>
                  </a:lnTo>
                  <a:lnTo>
                    <a:pt x="314" y="203"/>
                  </a:lnTo>
                  <a:lnTo>
                    <a:pt x="336" y="296"/>
                  </a:lnTo>
                  <a:lnTo>
                    <a:pt x="283" y="437"/>
                  </a:lnTo>
                  <a:lnTo>
                    <a:pt x="367" y="322"/>
                  </a:lnTo>
                  <a:lnTo>
                    <a:pt x="438" y="349"/>
                  </a:lnTo>
                  <a:lnTo>
                    <a:pt x="221" y="698"/>
                  </a:lnTo>
                  <a:lnTo>
                    <a:pt x="557" y="300"/>
                  </a:lnTo>
                  <a:lnTo>
                    <a:pt x="517" y="261"/>
                  </a:lnTo>
                  <a:lnTo>
                    <a:pt x="469" y="296"/>
                  </a:lnTo>
                  <a:lnTo>
                    <a:pt x="380" y="274"/>
                  </a:lnTo>
                  <a:lnTo>
                    <a:pt x="358" y="190"/>
                  </a:lnTo>
                  <a:lnTo>
                    <a:pt x="296" y="127"/>
                  </a:lnTo>
                  <a:lnTo>
                    <a:pt x="186" y="66"/>
                  </a:lnTo>
                  <a:lnTo>
                    <a:pt x="119" y="66"/>
                  </a:lnTo>
                  <a:lnTo>
                    <a:pt x="0" y="0"/>
                  </a:lnTo>
                  <a:lnTo>
                    <a:pt x="26" y="5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3" name=""/>
            <p:cNvSpPr/>
            <p:nvPr/>
          </p:nvSpPr>
          <p:spPr>
            <a:xfrm>
              <a:off x="8326440" y="4964040"/>
              <a:ext cx="173520" cy="140040"/>
            </a:xfrm>
            <a:custGeom>
              <a:avLst/>
              <a:gdLst/>
              <a:ahLst/>
              <a:rect l="0" t="0" r="r" b="b"/>
              <a:pathLst>
                <a:path w="482" h="389">
                  <a:moveTo>
                    <a:pt x="0" y="0"/>
                  </a:moveTo>
                  <a:lnTo>
                    <a:pt x="155" y="79"/>
                  </a:lnTo>
                  <a:lnTo>
                    <a:pt x="314" y="132"/>
                  </a:lnTo>
                  <a:lnTo>
                    <a:pt x="482" y="389"/>
                  </a:lnTo>
                  <a:lnTo>
                    <a:pt x="376" y="353"/>
                  </a:lnTo>
                  <a:lnTo>
                    <a:pt x="300" y="176"/>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4" name=""/>
            <p:cNvSpPr/>
            <p:nvPr/>
          </p:nvSpPr>
          <p:spPr>
            <a:xfrm>
              <a:off x="7862760" y="5108400"/>
              <a:ext cx="181440" cy="698760"/>
            </a:xfrm>
            <a:custGeom>
              <a:avLst/>
              <a:gdLst/>
              <a:ahLst/>
              <a:rect l="0" t="0" r="r" b="b"/>
              <a:pathLst>
                <a:path w="504" h="1941">
                  <a:moveTo>
                    <a:pt x="164" y="0"/>
                  </a:moveTo>
                  <a:lnTo>
                    <a:pt x="164" y="70"/>
                  </a:lnTo>
                  <a:lnTo>
                    <a:pt x="465" y="255"/>
                  </a:lnTo>
                  <a:lnTo>
                    <a:pt x="208" y="154"/>
                  </a:lnTo>
                  <a:lnTo>
                    <a:pt x="164" y="352"/>
                  </a:lnTo>
                  <a:lnTo>
                    <a:pt x="208" y="498"/>
                  </a:lnTo>
                  <a:lnTo>
                    <a:pt x="208" y="630"/>
                  </a:lnTo>
                  <a:lnTo>
                    <a:pt x="164" y="948"/>
                  </a:lnTo>
                  <a:lnTo>
                    <a:pt x="119" y="1222"/>
                  </a:lnTo>
                  <a:lnTo>
                    <a:pt x="142" y="1376"/>
                  </a:lnTo>
                  <a:lnTo>
                    <a:pt x="243" y="1588"/>
                  </a:lnTo>
                  <a:lnTo>
                    <a:pt x="390" y="1760"/>
                  </a:lnTo>
                  <a:lnTo>
                    <a:pt x="504" y="1795"/>
                  </a:lnTo>
                  <a:lnTo>
                    <a:pt x="358" y="1778"/>
                  </a:lnTo>
                  <a:lnTo>
                    <a:pt x="305" y="1804"/>
                  </a:lnTo>
                  <a:lnTo>
                    <a:pt x="305" y="1941"/>
                  </a:lnTo>
                  <a:lnTo>
                    <a:pt x="208" y="1844"/>
                  </a:lnTo>
                  <a:lnTo>
                    <a:pt x="0" y="1906"/>
                  </a:lnTo>
                  <a:lnTo>
                    <a:pt x="190" y="1822"/>
                  </a:lnTo>
                  <a:lnTo>
                    <a:pt x="142" y="1654"/>
                  </a:lnTo>
                  <a:lnTo>
                    <a:pt x="101" y="1425"/>
                  </a:lnTo>
                  <a:lnTo>
                    <a:pt x="88" y="1187"/>
                  </a:lnTo>
                  <a:lnTo>
                    <a:pt x="110" y="952"/>
                  </a:lnTo>
                  <a:lnTo>
                    <a:pt x="164" y="723"/>
                  </a:lnTo>
                  <a:lnTo>
                    <a:pt x="181" y="604"/>
                  </a:lnTo>
                  <a:lnTo>
                    <a:pt x="181" y="471"/>
                  </a:lnTo>
                  <a:lnTo>
                    <a:pt x="142" y="396"/>
                  </a:lnTo>
                  <a:lnTo>
                    <a:pt x="39" y="352"/>
                  </a:lnTo>
                  <a:lnTo>
                    <a:pt x="142" y="101"/>
                  </a:lnTo>
                  <a:lnTo>
                    <a:pt x="16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5" name=""/>
            <p:cNvSpPr/>
            <p:nvPr/>
          </p:nvSpPr>
          <p:spPr>
            <a:xfrm>
              <a:off x="7599240" y="5100480"/>
              <a:ext cx="295560" cy="697320"/>
            </a:xfrm>
            <a:custGeom>
              <a:avLst/>
              <a:gdLst/>
              <a:ahLst/>
              <a:rect l="0" t="0" r="r" b="b"/>
              <a:pathLst>
                <a:path w="821" h="1937">
                  <a:moveTo>
                    <a:pt x="781" y="0"/>
                  </a:moveTo>
                  <a:lnTo>
                    <a:pt x="724" y="92"/>
                  </a:lnTo>
                  <a:lnTo>
                    <a:pt x="715" y="189"/>
                  </a:lnTo>
                  <a:lnTo>
                    <a:pt x="715" y="361"/>
                  </a:lnTo>
                  <a:lnTo>
                    <a:pt x="702" y="627"/>
                  </a:lnTo>
                  <a:lnTo>
                    <a:pt x="653" y="1019"/>
                  </a:lnTo>
                  <a:lnTo>
                    <a:pt x="631" y="1319"/>
                  </a:lnTo>
                  <a:lnTo>
                    <a:pt x="644" y="1505"/>
                  </a:lnTo>
                  <a:lnTo>
                    <a:pt x="675" y="1646"/>
                  </a:lnTo>
                  <a:lnTo>
                    <a:pt x="715" y="1752"/>
                  </a:lnTo>
                  <a:lnTo>
                    <a:pt x="772" y="1858"/>
                  </a:lnTo>
                  <a:lnTo>
                    <a:pt x="821" y="1884"/>
                  </a:lnTo>
                  <a:lnTo>
                    <a:pt x="741" y="1937"/>
                  </a:lnTo>
                  <a:lnTo>
                    <a:pt x="653" y="1937"/>
                  </a:lnTo>
                  <a:lnTo>
                    <a:pt x="653" y="1770"/>
                  </a:lnTo>
                  <a:lnTo>
                    <a:pt x="600" y="1629"/>
                  </a:lnTo>
                  <a:lnTo>
                    <a:pt x="433" y="1125"/>
                  </a:lnTo>
                  <a:lnTo>
                    <a:pt x="119" y="1178"/>
                  </a:lnTo>
                  <a:lnTo>
                    <a:pt x="57" y="1169"/>
                  </a:lnTo>
                  <a:lnTo>
                    <a:pt x="295" y="1063"/>
                  </a:lnTo>
                  <a:lnTo>
                    <a:pt x="255" y="975"/>
                  </a:lnTo>
                  <a:lnTo>
                    <a:pt x="0" y="975"/>
                  </a:lnTo>
                  <a:lnTo>
                    <a:pt x="194" y="882"/>
                  </a:lnTo>
                  <a:lnTo>
                    <a:pt x="343" y="874"/>
                  </a:lnTo>
                  <a:lnTo>
                    <a:pt x="313" y="675"/>
                  </a:lnTo>
                  <a:lnTo>
                    <a:pt x="600" y="1514"/>
                  </a:lnTo>
                  <a:lnTo>
                    <a:pt x="600" y="1275"/>
                  </a:lnTo>
                  <a:lnTo>
                    <a:pt x="631" y="997"/>
                  </a:lnTo>
                  <a:lnTo>
                    <a:pt x="675" y="684"/>
                  </a:lnTo>
                  <a:lnTo>
                    <a:pt x="693" y="458"/>
                  </a:lnTo>
                  <a:lnTo>
                    <a:pt x="693" y="136"/>
                  </a:lnTo>
                  <a:lnTo>
                    <a:pt x="733" y="44"/>
                  </a:lnTo>
                  <a:lnTo>
                    <a:pt x="78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6" name=""/>
            <p:cNvSpPr/>
            <p:nvPr/>
          </p:nvSpPr>
          <p:spPr>
            <a:xfrm>
              <a:off x="7996320" y="5200560"/>
              <a:ext cx="392400" cy="600480"/>
            </a:xfrm>
            <a:custGeom>
              <a:avLst/>
              <a:gdLst/>
              <a:ahLst/>
              <a:rect l="0" t="0" r="r" b="b"/>
              <a:pathLst>
                <a:path w="1090" h="1668">
                  <a:moveTo>
                    <a:pt x="145" y="1540"/>
                  </a:moveTo>
                  <a:lnTo>
                    <a:pt x="299" y="1589"/>
                  </a:lnTo>
                  <a:lnTo>
                    <a:pt x="436" y="1668"/>
                  </a:lnTo>
                  <a:lnTo>
                    <a:pt x="330" y="1540"/>
                  </a:lnTo>
                  <a:lnTo>
                    <a:pt x="255" y="1466"/>
                  </a:lnTo>
                  <a:lnTo>
                    <a:pt x="180" y="1452"/>
                  </a:lnTo>
                  <a:lnTo>
                    <a:pt x="154" y="1443"/>
                  </a:lnTo>
                  <a:lnTo>
                    <a:pt x="154" y="1294"/>
                  </a:lnTo>
                  <a:lnTo>
                    <a:pt x="198" y="1267"/>
                  </a:lnTo>
                  <a:lnTo>
                    <a:pt x="370" y="1191"/>
                  </a:lnTo>
                  <a:lnTo>
                    <a:pt x="583" y="1041"/>
                  </a:lnTo>
                  <a:lnTo>
                    <a:pt x="777" y="847"/>
                  </a:lnTo>
                  <a:lnTo>
                    <a:pt x="1090" y="396"/>
                  </a:lnTo>
                  <a:lnTo>
                    <a:pt x="1090" y="321"/>
                  </a:lnTo>
                  <a:lnTo>
                    <a:pt x="821" y="666"/>
                  </a:lnTo>
                  <a:lnTo>
                    <a:pt x="533" y="966"/>
                  </a:lnTo>
                  <a:lnTo>
                    <a:pt x="273" y="1151"/>
                  </a:lnTo>
                  <a:lnTo>
                    <a:pt x="432" y="856"/>
                  </a:lnTo>
                  <a:lnTo>
                    <a:pt x="511" y="587"/>
                  </a:lnTo>
                  <a:lnTo>
                    <a:pt x="533" y="396"/>
                  </a:lnTo>
                  <a:lnTo>
                    <a:pt x="662" y="114"/>
                  </a:lnTo>
                  <a:lnTo>
                    <a:pt x="838" y="0"/>
                  </a:lnTo>
                  <a:lnTo>
                    <a:pt x="644" y="101"/>
                  </a:lnTo>
                  <a:lnTo>
                    <a:pt x="480" y="352"/>
                  </a:lnTo>
                  <a:lnTo>
                    <a:pt x="480" y="613"/>
                  </a:lnTo>
                  <a:lnTo>
                    <a:pt x="392" y="856"/>
                  </a:lnTo>
                  <a:lnTo>
                    <a:pt x="264" y="1090"/>
                  </a:lnTo>
                  <a:lnTo>
                    <a:pt x="136" y="1276"/>
                  </a:lnTo>
                  <a:lnTo>
                    <a:pt x="136" y="1452"/>
                  </a:lnTo>
                  <a:lnTo>
                    <a:pt x="0" y="1518"/>
                  </a:lnTo>
                  <a:lnTo>
                    <a:pt x="145" y="154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7" name=""/>
            <p:cNvSpPr/>
            <p:nvPr/>
          </p:nvSpPr>
          <p:spPr>
            <a:xfrm>
              <a:off x="7985160" y="5823000"/>
              <a:ext cx="221040" cy="219600"/>
            </a:xfrm>
            <a:custGeom>
              <a:avLst/>
              <a:gdLst/>
              <a:ahLst/>
              <a:rect l="0" t="0" r="r" b="b"/>
              <a:pathLst>
                <a:path w="614" h="610">
                  <a:moveTo>
                    <a:pt x="500" y="0"/>
                  </a:moveTo>
                  <a:lnTo>
                    <a:pt x="584" y="136"/>
                  </a:lnTo>
                  <a:lnTo>
                    <a:pt x="614" y="327"/>
                  </a:lnTo>
                  <a:lnTo>
                    <a:pt x="614" y="441"/>
                  </a:lnTo>
                  <a:lnTo>
                    <a:pt x="553" y="601"/>
                  </a:lnTo>
                  <a:lnTo>
                    <a:pt x="450" y="610"/>
                  </a:lnTo>
                  <a:lnTo>
                    <a:pt x="274" y="513"/>
                  </a:lnTo>
                  <a:lnTo>
                    <a:pt x="168" y="393"/>
                  </a:lnTo>
                  <a:lnTo>
                    <a:pt x="0" y="8"/>
                  </a:lnTo>
                  <a:lnTo>
                    <a:pt x="119" y="221"/>
                  </a:lnTo>
                  <a:lnTo>
                    <a:pt x="322" y="402"/>
                  </a:lnTo>
                  <a:lnTo>
                    <a:pt x="553" y="465"/>
                  </a:lnTo>
                  <a:lnTo>
                    <a:pt x="566" y="375"/>
                  </a:lnTo>
                  <a:lnTo>
                    <a:pt x="535" y="252"/>
                  </a:lnTo>
                  <a:lnTo>
                    <a:pt x="465" y="181"/>
                  </a:lnTo>
                  <a:lnTo>
                    <a:pt x="353" y="136"/>
                  </a:lnTo>
                  <a:lnTo>
                    <a:pt x="465" y="110"/>
                  </a:lnTo>
                  <a:lnTo>
                    <a:pt x="500" y="44"/>
                  </a:lnTo>
                  <a:lnTo>
                    <a:pt x="50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8" name=""/>
            <p:cNvSpPr/>
            <p:nvPr/>
          </p:nvSpPr>
          <p:spPr>
            <a:xfrm>
              <a:off x="7527960" y="5873760"/>
              <a:ext cx="573480" cy="174960"/>
            </a:xfrm>
            <a:custGeom>
              <a:avLst/>
              <a:gdLst/>
              <a:ahLst/>
              <a:rect l="0" t="0" r="r" b="b"/>
              <a:pathLst>
                <a:path w="1593" h="486">
                  <a:moveTo>
                    <a:pt x="1593" y="486"/>
                  </a:moveTo>
                  <a:lnTo>
                    <a:pt x="1302" y="481"/>
                  </a:lnTo>
                  <a:lnTo>
                    <a:pt x="900" y="441"/>
                  </a:lnTo>
                  <a:lnTo>
                    <a:pt x="446" y="300"/>
                  </a:lnTo>
                  <a:lnTo>
                    <a:pt x="79" y="242"/>
                  </a:lnTo>
                  <a:lnTo>
                    <a:pt x="22" y="189"/>
                  </a:lnTo>
                  <a:lnTo>
                    <a:pt x="0" y="74"/>
                  </a:lnTo>
                  <a:lnTo>
                    <a:pt x="264" y="114"/>
                  </a:lnTo>
                  <a:lnTo>
                    <a:pt x="277" y="0"/>
                  </a:lnTo>
                  <a:lnTo>
                    <a:pt x="308" y="114"/>
                  </a:lnTo>
                  <a:lnTo>
                    <a:pt x="486" y="114"/>
                  </a:lnTo>
                  <a:lnTo>
                    <a:pt x="317" y="198"/>
                  </a:lnTo>
                  <a:lnTo>
                    <a:pt x="335" y="261"/>
                  </a:lnTo>
                  <a:lnTo>
                    <a:pt x="702" y="233"/>
                  </a:lnTo>
                  <a:lnTo>
                    <a:pt x="940" y="242"/>
                  </a:lnTo>
                  <a:lnTo>
                    <a:pt x="1201" y="287"/>
                  </a:lnTo>
                  <a:lnTo>
                    <a:pt x="1338" y="344"/>
                  </a:lnTo>
                  <a:lnTo>
                    <a:pt x="1232" y="198"/>
                  </a:lnTo>
                  <a:lnTo>
                    <a:pt x="1129" y="136"/>
                  </a:lnTo>
                  <a:lnTo>
                    <a:pt x="922" y="83"/>
                  </a:lnTo>
                  <a:lnTo>
                    <a:pt x="1173" y="83"/>
                  </a:lnTo>
                  <a:lnTo>
                    <a:pt x="1324" y="189"/>
                  </a:lnTo>
                  <a:lnTo>
                    <a:pt x="1377" y="314"/>
                  </a:lnTo>
                  <a:lnTo>
                    <a:pt x="1452" y="393"/>
                  </a:lnTo>
                  <a:lnTo>
                    <a:pt x="1518" y="459"/>
                  </a:lnTo>
                  <a:lnTo>
                    <a:pt x="1593" y="48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9" name=""/>
            <p:cNvSpPr/>
            <p:nvPr/>
          </p:nvSpPr>
          <p:spPr>
            <a:xfrm>
              <a:off x="7527960" y="5541840"/>
              <a:ext cx="248040" cy="213120"/>
            </a:xfrm>
            <a:custGeom>
              <a:avLst/>
              <a:gdLst/>
              <a:ahLst/>
              <a:rect l="0" t="0" r="r" b="b"/>
              <a:pathLst>
                <a:path w="689" h="592">
                  <a:moveTo>
                    <a:pt x="132" y="592"/>
                  </a:moveTo>
                  <a:lnTo>
                    <a:pt x="234" y="495"/>
                  </a:lnTo>
                  <a:lnTo>
                    <a:pt x="234" y="456"/>
                  </a:lnTo>
                  <a:lnTo>
                    <a:pt x="203" y="411"/>
                  </a:lnTo>
                  <a:lnTo>
                    <a:pt x="110" y="371"/>
                  </a:lnTo>
                  <a:lnTo>
                    <a:pt x="22" y="340"/>
                  </a:lnTo>
                  <a:lnTo>
                    <a:pt x="0" y="318"/>
                  </a:lnTo>
                  <a:lnTo>
                    <a:pt x="0" y="278"/>
                  </a:lnTo>
                  <a:lnTo>
                    <a:pt x="22" y="256"/>
                  </a:lnTo>
                  <a:lnTo>
                    <a:pt x="79" y="221"/>
                  </a:lnTo>
                  <a:lnTo>
                    <a:pt x="92" y="256"/>
                  </a:lnTo>
                  <a:lnTo>
                    <a:pt x="123" y="287"/>
                  </a:lnTo>
                  <a:lnTo>
                    <a:pt x="234" y="305"/>
                  </a:lnTo>
                  <a:lnTo>
                    <a:pt x="221" y="234"/>
                  </a:lnTo>
                  <a:lnTo>
                    <a:pt x="171" y="172"/>
                  </a:lnTo>
                  <a:lnTo>
                    <a:pt x="110" y="105"/>
                  </a:lnTo>
                  <a:lnTo>
                    <a:pt x="13" y="44"/>
                  </a:lnTo>
                  <a:lnTo>
                    <a:pt x="70" y="30"/>
                  </a:lnTo>
                  <a:lnTo>
                    <a:pt x="181" y="66"/>
                  </a:lnTo>
                  <a:lnTo>
                    <a:pt x="283" y="127"/>
                  </a:lnTo>
                  <a:lnTo>
                    <a:pt x="353" y="243"/>
                  </a:lnTo>
                  <a:lnTo>
                    <a:pt x="468" y="190"/>
                  </a:lnTo>
                  <a:lnTo>
                    <a:pt x="349" y="127"/>
                  </a:lnTo>
                  <a:lnTo>
                    <a:pt x="331" y="92"/>
                  </a:lnTo>
                  <a:lnTo>
                    <a:pt x="349" y="66"/>
                  </a:lnTo>
                  <a:lnTo>
                    <a:pt x="424" y="30"/>
                  </a:lnTo>
                  <a:lnTo>
                    <a:pt x="566" y="0"/>
                  </a:lnTo>
                  <a:lnTo>
                    <a:pt x="689" y="0"/>
                  </a:lnTo>
                  <a:lnTo>
                    <a:pt x="623" y="127"/>
                  </a:lnTo>
                  <a:lnTo>
                    <a:pt x="486" y="296"/>
                  </a:lnTo>
                  <a:lnTo>
                    <a:pt x="340" y="441"/>
                  </a:lnTo>
                  <a:lnTo>
                    <a:pt x="234" y="535"/>
                  </a:lnTo>
                  <a:lnTo>
                    <a:pt x="132" y="59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0" name=""/>
            <p:cNvSpPr/>
            <p:nvPr/>
          </p:nvSpPr>
          <p:spPr>
            <a:xfrm>
              <a:off x="7655040" y="5100480"/>
              <a:ext cx="44640" cy="221040"/>
            </a:xfrm>
            <a:custGeom>
              <a:avLst/>
              <a:gdLst/>
              <a:ahLst/>
              <a:rect l="0" t="0" r="r" b="b"/>
              <a:pathLst>
                <a:path w="124" h="614">
                  <a:moveTo>
                    <a:pt x="52" y="92"/>
                  </a:moveTo>
                  <a:lnTo>
                    <a:pt x="71" y="300"/>
                  </a:lnTo>
                  <a:lnTo>
                    <a:pt x="102" y="495"/>
                  </a:lnTo>
                  <a:lnTo>
                    <a:pt x="124" y="614"/>
                  </a:lnTo>
                  <a:lnTo>
                    <a:pt x="22" y="278"/>
                  </a:lnTo>
                  <a:lnTo>
                    <a:pt x="0" y="177"/>
                  </a:lnTo>
                  <a:lnTo>
                    <a:pt x="39" y="0"/>
                  </a:lnTo>
                  <a:lnTo>
                    <a:pt x="52" y="9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91" name=""/>
          <p:cNvSpPr txBox="1"/>
          <p:nvPr/>
        </p:nvSpPr>
        <p:spPr>
          <a:xfrm>
            <a:off x="1371600" y="533520"/>
            <a:ext cx="6900840" cy="113184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Cost</a:t>
            </a:r>
            <a:endParaRPr b="0" lang="en-US" sz="4400" spc="-1" strike="noStrike">
              <a:solidFill>
                <a:srgbClr val="ffffff"/>
              </a:solidFill>
              <a:latin typeface="Arial"/>
            </a:endParaRPr>
          </a:p>
        </p:txBody>
      </p:sp>
      <p:sp>
        <p:nvSpPr>
          <p:cNvPr id="492" name=""/>
          <p:cNvSpPr txBox="1"/>
          <p:nvPr/>
        </p:nvSpPr>
        <p:spPr>
          <a:xfrm>
            <a:off x="1295280" y="1600200"/>
            <a:ext cx="7378560" cy="335268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Inventory cost</a:t>
            </a:r>
            <a:r>
              <a:rPr b="1" i="1" lang="en-US" sz="3200" spc="-1" strike="noStrike">
                <a:solidFill>
                  <a:srgbClr val="618ffd"/>
                </a:solidFill>
                <a:latin typeface="Arial"/>
                <a:ea typeface="Arial"/>
              </a:rPr>
              <a:t> </a:t>
            </a:r>
            <a:r>
              <a:rPr b="1" lang="en-US" sz="3200" spc="-1" strike="noStrike">
                <a:solidFill>
                  <a:srgbClr val="fcffd8"/>
                </a:solidFill>
                <a:latin typeface="Arial"/>
                <a:ea typeface="Arial"/>
              </a:rPr>
              <a:t>includes:</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Invoice price less purchase discounts.</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Freight or transportation in.</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3200" spc="-1" strike="noStrike">
                <a:solidFill>
                  <a:srgbClr val="fcffd8"/>
                </a:solidFill>
                <a:latin typeface="Arial"/>
                <a:ea typeface="Arial"/>
              </a:rPr>
              <a:t>Taxes and tariff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93" name=""/>
          <p:cNvSpPr txBox="1"/>
          <p:nvPr/>
        </p:nvSpPr>
        <p:spPr>
          <a:xfrm>
            <a:off x="1371600" y="457200"/>
            <a:ext cx="6824520" cy="97956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Cost</a:t>
            </a:r>
            <a:endParaRPr b="0" lang="en-US" sz="4400" spc="-1" strike="noStrike">
              <a:solidFill>
                <a:srgbClr val="ffffff"/>
              </a:solidFill>
              <a:latin typeface="Arial"/>
            </a:endParaRPr>
          </a:p>
        </p:txBody>
      </p:sp>
      <p:sp>
        <p:nvSpPr>
          <p:cNvPr id="494" name=""/>
          <p:cNvSpPr txBox="1"/>
          <p:nvPr/>
        </p:nvSpPr>
        <p:spPr>
          <a:xfrm>
            <a:off x="990720" y="1371600"/>
            <a:ext cx="7683480" cy="44956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nventory cost can also include:</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Ordering costs.</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Receiving costs.</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Storing costs.</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Since these costs are difficult to allocate, they are usually considered expenses of the accounting period instead of inventory cos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95" name=""/>
          <p:cNvSpPr txBox="1"/>
          <p:nvPr/>
        </p:nvSpPr>
        <p:spPr>
          <a:xfrm>
            <a:off x="609480" y="533520"/>
            <a:ext cx="830592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erchandise in Transit</a:t>
            </a:r>
            <a:endParaRPr b="0" lang="en-US" sz="4400" spc="-1" strike="noStrike">
              <a:solidFill>
                <a:srgbClr val="ffffff"/>
              </a:solidFill>
              <a:latin typeface="Arial"/>
            </a:endParaRPr>
          </a:p>
        </p:txBody>
      </p:sp>
      <p:sp>
        <p:nvSpPr>
          <p:cNvPr id="496" name=""/>
          <p:cNvSpPr txBox="1"/>
          <p:nvPr/>
        </p:nvSpPr>
        <p:spPr>
          <a:xfrm>
            <a:off x="990720" y="1523880"/>
            <a:ext cx="7729560" cy="407196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nventory does not have to be in the physical possession of the buyer or seller.</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Ownership of goods in transit is determined by the shipping agreement, which indicates whether title has pas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8" name=""/>
          <p:cNvSpPr txBox="1"/>
          <p:nvPr/>
        </p:nvSpPr>
        <p:spPr>
          <a:xfrm>
            <a:off x="1066680" y="228600"/>
            <a:ext cx="762012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EARNING OBJECTIVES</a:t>
            </a:r>
            <a:endParaRPr b="0" lang="en-US" sz="4400" spc="-1" strike="noStrike">
              <a:solidFill>
                <a:srgbClr val="ffffff"/>
              </a:solidFill>
              <a:latin typeface="Arial"/>
            </a:endParaRPr>
          </a:p>
        </p:txBody>
      </p:sp>
      <p:pic>
        <p:nvPicPr>
          <p:cNvPr id="49" name="" descr=""/>
          <p:cNvPicPr/>
          <p:nvPr/>
        </p:nvPicPr>
        <p:blipFill>
          <a:blip r:embed="rId1"/>
          <a:stretch/>
        </p:blipFill>
        <p:spPr>
          <a:xfrm>
            <a:off x="0" y="0"/>
            <a:ext cx="876240" cy="7048440"/>
          </a:xfrm>
          <a:prstGeom prst="rect">
            <a:avLst/>
          </a:prstGeom>
          <a:ln w="0">
            <a:noFill/>
          </a:ln>
        </p:spPr>
      </p:pic>
      <p:sp>
        <p:nvSpPr>
          <p:cNvPr id="50" name=""/>
          <p:cNvSpPr txBox="1"/>
          <p:nvPr/>
        </p:nvSpPr>
        <p:spPr>
          <a:xfrm>
            <a:off x="990720" y="1371600"/>
            <a:ext cx="7772400" cy="4724280"/>
          </a:xfrm>
          <a:prstGeom prst="rect">
            <a:avLst/>
          </a:prstGeom>
          <a:noFill/>
          <a:ln w="0">
            <a:noFill/>
          </a:ln>
        </p:spPr>
        <p:txBody>
          <a:bodyPr lIns="0" rIns="0" tIns="0" bIns="0" anchor="t">
            <a:noAutofit/>
          </a:bodyPr>
          <a:p>
            <a:pPr marL="458640" indent="-458640">
              <a:lnSpc>
                <a:spcPct val="100000"/>
              </a:lnSpc>
              <a:spcBef>
                <a:spcPts val="479"/>
              </a:spcBef>
            </a:pPr>
            <a:r>
              <a:rPr b="1" lang="en-US" sz="2800" spc="-1" strike="noStrike">
                <a:solidFill>
                  <a:srgbClr val="fcffd8"/>
                </a:solidFill>
                <a:latin typeface="Arial"/>
                <a:ea typeface="Arial"/>
              </a:rPr>
              <a:t>4.</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pply the perpetual inventory system to the pricing of inventories at cost.</a:t>
            </a:r>
            <a:endParaRPr b="0" lang="en-US" sz="2800" spc="-1" strike="noStrike">
              <a:solidFill>
                <a:srgbClr val="ffffff"/>
              </a:solidFill>
              <a:latin typeface="Arial"/>
            </a:endParaRPr>
          </a:p>
          <a:p>
            <a:pPr marL="458640" indent="-458640">
              <a:lnSpc>
                <a:spcPct val="100000"/>
              </a:lnSpc>
              <a:spcBef>
                <a:spcPts val="479"/>
              </a:spcBef>
            </a:pPr>
            <a:r>
              <a:rPr b="1" lang="en-US" sz="2800" spc="-1" strike="noStrike">
                <a:solidFill>
                  <a:srgbClr val="fcffd8"/>
                </a:solidFill>
                <a:latin typeface="Arial"/>
                <a:ea typeface="Arial"/>
              </a:rPr>
              <a:t>5.</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tate the effects of inventory methods and misstatements of inventory on income determination and income taxes.</a:t>
            </a:r>
            <a:endParaRPr b="0" lang="en-US" sz="2800" spc="-1" strike="noStrike">
              <a:solidFill>
                <a:srgbClr val="ffffff"/>
              </a:solidFill>
              <a:latin typeface="Arial"/>
            </a:endParaRPr>
          </a:p>
          <a:p>
            <a:pPr marL="458640" indent="-458640">
              <a:lnSpc>
                <a:spcPct val="100000"/>
              </a:lnSpc>
              <a:spcBef>
                <a:spcPts val="479"/>
              </a:spcBef>
            </a:pPr>
            <a:r>
              <a:rPr b="1" lang="en-US" sz="2800" spc="-1" strike="noStrike">
                <a:solidFill>
                  <a:srgbClr val="fcffd8"/>
                </a:solidFill>
                <a:latin typeface="Arial"/>
                <a:ea typeface="Arial"/>
              </a:rPr>
              <a:t>6.</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pply the lower-of-cost-or-market (LCM) rule to inventory valuation.</a:t>
            </a:r>
            <a:endParaRPr b="0" lang="en-US" sz="2800" spc="-1" strike="noStrike">
              <a:solidFill>
                <a:srgbClr val="ffffff"/>
              </a:solidFill>
              <a:latin typeface="Arial"/>
            </a:endParaRPr>
          </a:p>
          <a:p>
            <a:pPr marL="458640" indent="-458640">
              <a:lnSpc>
                <a:spcPct val="100000"/>
              </a:lnSpc>
              <a:spcBef>
                <a:spcPts val="479"/>
              </a:spcBef>
            </a:pPr>
            <a:r>
              <a:rPr b="1" lang="en-US" sz="2800" spc="-1" strike="noStrike">
                <a:solidFill>
                  <a:srgbClr val="fcffd8"/>
                </a:solidFill>
                <a:latin typeface="Arial"/>
                <a:ea typeface="Arial"/>
              </a:rPr>
              <a:t>7.</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Estimate the cost of ending inventory using the (a) retail inventory method and (b) gross profit metho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97" name=""/>
          <p:cNvSpPr txBox="1"/>
          <p:nvPr/>
        </p:nvSpPr>
        <p:spPr>
          <a:xfrm>
            <a:off x="914400" y="152280"/>
            <a:ext cx="7883640" cy="10666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erchandise in Transit</a:t>
            </a:r>
            <a:endParaRPr b="0" lang="en-US" sz="4400" spc="-1" strike="noStrike">
              <a:solidFill>
                <a:srgbClr val="ffffff"/>
              </a:solidFill>
              <a:latin typeface="Arial"/>
            </a:endParaRPr>
          </a:p>
        </p:txBody>
      </p:sp>
      <p:sp>
        <p:nvSpPr>
          <p:cNvPr id="498" name=""/>
          <p:cNvSpPr txBox="1"/>
          <p:nvPr/>
        </p:nvSpPr>
        <p:spPr>
          <a:xfrm>
            <a:off x="685800" y="990720"/>
            <a:ext cx="6324480" cy="48769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Outgoing goods (shipments):</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Shipped FOB destination would be included.</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Shipped FOB shipping point would not be included.</a:t>
            </a:r>
            <a:endParaRPr b="0" lang="en-US" sz="28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ncoming goods (receipts):</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Shipped FOB destination would not be included.</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Shipped FOB shipping point would be included.</a:t>
            </a:r>
            <a:endParaRPr b="0" lang="en-US" sz="2800" spc="-1" strike="noStrike">
              <a:solidFill>
                <a:srgbClr val="ffffff"/>
              </a:solidFill>
              <a:latin typeface="Arial"/>
            </a:endParaRPr>
          </a:p>
        </p:txBody>
      </p:sp>
      <p:pic>
        <p:nvPicPr>
          <p:cNvPr id="499" name="" descr=""/>
          <p:cNvPicPr/>
          <p:nvPr/>
        </p:nvPicPr>
        <p:blipFill>
          <a:blip r:embed="rId1"/>
          <a:stretch/>
        </p:blipFill>
        <p:spPr>
          <a:xfrm>
            <a:off x="6629400" y="4800600"/>
            <a:ext cx="2336760" cy="1473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00" name=""/>
          <p:cNvSpPr txBox="1"/>
          <p:nvPr/>
        </p:nvSpPr>
        <p:spPr>
          <a:xfrm>
            <a:off x="838080" y="380880"/>
            <a:ext cx="792468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erchandise on Hand</a:t>
            </a:r>
            <a:br>
              <a:rPr sz="4400"/>
            </a:br>
            <a:r>
              <a:rPr b="1" lang="en-US" sz="4400" spc="-1" strike="noStrike">
                <a:solidFill>
                  <a:srgbClr val="ffcc66"/>
                </a:solidFill>
                <a:latin typeface="Arial"/>
                <a:ea typeface="Arial"/>
              </a:rPr>
              <a:t>Not Included in Inventory</a:t>
            </a:r>
            <a:endParaRPr b="0" lang="en-US" sz="4400" spc="-1" strike="noStrike">
              <a:solidFill>
                <a:srgbClr val="ffffff"/>
              </a:solidFill>
              <a:latin typeface="Arial"/>
            </a:endParaRPr>
          </a:p>
        </p:txBody>
      </p:sp>
      <p:sp>
        <p:nvSpPr>
          <p:cNvPr id="501" name=""/>
          <p:cNvSpPr txBox="1"/>
          <p:nvPr/>
        </p:nvSpPr>
        <p:spPr>
          <a:xfrm>
            <a:off x="838080" y="1752480"/>
            <a:ext cx="7924680" cy="43434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Merchandise sold but not yet shipped.</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Goods held on consignment.</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Title stays with the consignor until consignee sells the goods.</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Must not be included in the physical inventory of the consigne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02" name=""/>
          <p:cNvSpPr txBox="1"/>
          <p:nvPr/>
        </p:nvSpPr>
        <p:spPr>
          <a:xfrm>
            <a:off x="1219320" y="1447920"/>
            <a:ext cx="7632720" cy="44956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Prices of merchandise purchased vary throughout the year.</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Lots of identical products may be purchased at different price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t is often impossible to determine which products have been sold and which are still in inventory.</a:t>
            </a:r>
            <a:endParaRPr b="0" lang="en-US" sz="3200" spc="-1" strike="noStrike">
              <a:solidFill>
                <a:srgbClr val="ffffff"/>
              </a:solidFill>
              <a:latin typeface="Arial"/>
            </a:endParaRPr>
          </a:p>
        </p:txBody>
      </p:sp>
      <p:sp>
        <p:nvSpPr>
          <p:cNvPr id="503" name=""/>
          <p:cNvSpPr txBox="1"/>
          <p:nvPr/>
        </p:nvSpPr>
        <p:spPr>
          <a:xfrm>
            <a:off x="1368360" y="428760"/>
            <a:ext cx="7089840" cy="10954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Pricing Issu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04" name=""/>
          <p:cNvSpPr txBox="1"/>
          <p:nvPr/>
        </p:nvSpPr>
        <p:spPr>
          <a:xfrm>
            <a:off x="1371600" y="1523880"/>
            <a:ext cx="7391520" cy="38862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t is necessary to make an assumption about the order in which items have been sold.</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assumption is about the </a:t>
            </a:r>
            <a:r>
              <a:rPr b="1" i="1" lang="en-US" sz="3200" spc="-1" strike="noStrike">
                <a:solidFill>
                  <a:srgbClr val="fcffd8"/>
                </a:solidFill>
                <a:latin typeface="Arial"/>
                <a:ea typeface="Arial"/>
              </a:rPr>
              <a:t>flow of costs </a:t>
            </a:r>
            <a:r>
              <a:rPr b="1" lang="en-US" sz="3200" spc="-1" strike="noStrike">
                <a:solidFill>
                  <a:srgbClr val="fcffd8"/>
                </a:solidFill>
                <a:latin typeface="Arial"/>
                <a:ea typeface="Arial"/>
              </a:rPr>
              <a:t>rather than the </a:t>
            </a:r>
            <a:r>
              <a:rPr b="1" i="1" lang="en-US" sz="3200" spc="-1" strike="noStrike">
                <a:solidFill>
                  <a:srgbClr val="fcffd8"/>
                </a:solidFill>
                <a:latin typeface="Arial"/>
                <a:ea typeface="Arial"/>
              </a:rPr>
              <a:t>flow of physical inventory</a:t>
            </a:r>
            <a:r>
              <a:rPr b="1" lang="en-US" sz="3200" spc="-1" strike="noStrike">
                <a:solidFill>
                  <a:srgbClr val="fcffd8"/>
                </a:solidFill>
                <a:latin typeface="Arial"/>
                <a:ea typeface="Arial"/>
              </a:rPr>
              <a:t>.</a:t>
            </a:r>
            <a:endParaRPr b="0" lang="en-US" sz="3200" spc="-1" strike="noStrike">
              <a:solidFill>
                <a:srgbClr val="ffffff"/>
              </a:solidFill>
              <a:latin typeface="Arial"/>
            </a:endParaRPr>
          </a:p>
        </p:txBody>
      </p:sp>
      <p:sp>
        <p:nvSpPr>
          <p:cNvPr id="505" name=""/>
          <p:cNvSpPr txBox="1"/>
          <p:nvPr/>
        </p:nvSpPr>
        <p:spPr>
          <a:xfrm>
            <a:off x="1371600" y="457200"/>
            <a:ext cx="7013520" cy="10954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Pricing Issu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06" name=""/>
          <p:cNvSpPr txBox="1"/>
          <p:nvPr/>
        </p:nvSpPr>
        <p:spPr>
          <a:xfrm>
            <a:off x="762120" y="457200"/>
            <a:ext cx="816624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ethods of Pricing Inventory at Cost</a:t>
            </a:r>
            <a:endParaRPr b="0" lang="en-US" sz="4400" spc="-1" strike="noStrike">
              <a:solidFill>
                <a:srgbClr val="ffffff"/>
              </a:solidFill>
              <a:latin typeface="Arial"/>
            </a:endParaRPr>
          </a:p>
        </p:txBody>
      </p:sp>
      <p:sp>
        <p:nvSpPr>
          <p:cNvPr id="507" name=""/>
          <p:cNvSpPr txBox="1"/>
          <p:nvPr/>
        </p:nvSpPr>
        <p:spPr>
          <a:xfrm>
            <a:off x="1143000" y="2971800"/>
            <a:ext cx="7315200" cy="2895480"/>
          </a:xfrm>
          <a:prstGeom prst="rect">
            <a:avLst/>
          </a:prstGeom>
          <a:noFill/>
          <a:ln w="0">
            <a:noFill/>
          </a:ln>
        </p:spPr>
        <p:txBody>
          <a:bodyPr lIns="0" rIns="0" tIns="0" bIns="0" anchor="t">
            <a:noAutofit/>
          </a:bodyPr>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1. Specific identification method.</a:t>
            </a:r>
            <a:endParaRPr b="0" lang="en-US" sz="32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2. Average-cost method.</a:t>
            </a:r>
            <a:endParaRPr b="0" lang="en-US" sz="32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3. First-in, first-out method.</a:t>
            </a:r>
            <a:endParaRPr b="0" lang="en-US" sz="32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4. Last-in, first-out method.</a:t>
            </a:r>
            <a:endParaRPr b="0" lang="en-US" sz="3200" spc="-1" strike="noStrike">
              <a:solidFill>
                <a:srgbClr val="ffffff"/>
              </a:solidFill>
              <a:latin typeface="Arial"/>
            </a:endParaRPr>
          </a:p>
        </p:txBody>
      </p:sp>
      <p:sp>
        <p:nvSpPr>
          <p:cNvPr id="508" name=""/>
          <p:cNvSpPr txBox="1"/>
          <p:nvPr/>
        </p:nvSpPr>
        <p:spPr>
          <a:xfrm>
            <a:off x="990720" y="1828800"/>
            <a:ext cx="7834320" cy="1162080"/>
          </a:xfrm>
          <a:prstGeom prst="rect">
            <a:avLst/>
          </a:prstGeom>
          <a:noFill/>
          <a:ln w="0">
            <a:noFill/>
          </a:ln>
        </p:spPr>
        <p:txBody>
          <a:bodyPr lIns="0" rIns="0" tIns="0" bIns="0" anchor="t">
            <a:noAutofit/>
          </a:bodyPr>
          <a:p>
            <a:pPr marL="91440" indent="-9144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ccountants use one of four methods</a:t>
            </a:r>
            <a:br>
              <a:rPr sz="3200"/>
            </a:br>
            <a:r>
              <a:rPr b="1" lang="en-US" sz="3200" spc="-1" strike="noStrike">
                <a:solidFill>
                  <a:srgbClr val="fcffd8"/>
                </a:solidFill>
                <a:latin typeface="Arial"/>
                <a:ea typeface="Arial"/>
              </a:rPr>
              <a:t>   to price invento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09" name=""/>
          <p:cNvSpPr txBox="1"/>
          <p:nvPr/>
        </p:nvSpPr>
        <p:spPr>
          <a:xfrm>
            <a:off x="914400" y="1600200"/>
            <a:ext cx="7924680" cy="4724280"/>
          </a:xfrm>
          <a:prstGeom prst="rect">
            <a:avLst/>
          </a:prstGeom>
          <a:noFill/>
          <a:ln w="0">
            <a:noFill/>
          </a:ln>
        </p:spPr>
        <p:txBody>
          <a:bodyPr lIns="0" rIns="0" tIns="0" bIns="0" anchor="t">
            <a:noAutofit/>
          </a:bodyPr>
          <a:p>
            <a:pPr marL="343080" indent="-343080" algn="ctr">
              <a:lnSpc>
                <a:spcPct val="120000"/>
              </a:lnSpc>
              <a:spcBef>
                <a:spcPts val="479"/>
              </a:spcBef>
            </a:pPr>
            <a:r>
              <a:rPr b="1" lang="en-US" sz="2800" spc="-1" strike="noStrike">
                <a:solidFill>
                  <a:srgbClr val="ffff00"/>
                </a:solidFill>
                <a:latin typeface="Arial"/>
                <a:ea typeface="Arial"/>
              </a:rPr>
              <a:t>Inventory Data - June 30</a:t>
            </a:r>
            <a:endParaRPr b="0" lang="en-US" sz="28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Jun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1  Inventory    50  units @ $1.00       $ 50</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6  Purchase    50  units @ $1.10          55</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3  Purchase  150  units @ $1.20        180</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20  Purchase  100  units @ $1.30        130</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25  Purchase  </a:t>
            </a:r>
            <a:r>
              <a:rPr b="1" lang="en-US" sz="2400" spc="-1" strike="noStrike" u="sng">
                <a:solidFill>
                  <a:srgbClr val="fcffd8"/>
                </a:solidFill>
                <a:uFillTx/>
                <a:latin typeface="Arial"/>
                <a:ea typeface="Arial"/>
              </a:rPr>
              <a:t>150</a:t>
            </a:r>
            <a:r>
              <a:rPr b="1" lang="en-US" sz="2400" spc="-1" strike="noStrike">
                <a:solidFill>
                  <a:srgbClr val="fcffd8"/>
                </a:solidFill>
                <a:latin typeface="Arial"/>
                <a:ea typeface="Arial"/>
              </a:rPr>
              <a:t>  units @ $1.40        </a:t>
            </a:r>
            <a:r>
              <a:rPr b="1" lang="en-US" sz="2400" spc="-1" strike="noStrike" u="sng">
                <a:solidFill>
                  <a:srgbClr val="fcffd8"/>
                </a:solidFill>
                <a:uFillTx/>
                <a:latin typeface="Arial"/>
                <a:ea typeface="Arial"/>
              </a:rPr>
              <a:t>210</a:t>
            </a:r>
            <a:r>
              <a:rPr b="1" lang="en-US" sz="2400" spc="-1" strike="noStrike">
                <a:solidFill>
                  <a:srgbClr val="fcffd8"/>
                </a:solidFill>
                <a:latin typeface="Arial"/>
                <a:ea typeface="Arial"/>
              </a:rPr>
              <a:t> </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GAFS              500  units                    $625</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Sales              </a:t>
            </a:r>
            <a:r>
              <a:rPr b="1" lang="en-US" sz="2400" spc="-1" strike="noStrike" u="sng">
                <a:solidFill>
                  <a:srgbClr val="fcffd8"/>
                </a:solidFill>
                <a:uFillTx/>
                <a:latin typeface="Arial"/>
                <a:ea typeface="Arial"/>
              </a:rPr>
              <a:t>280</a:t>
            </a:r>
            <a:r>
              <a:rPr b="1" lang="en-US" sz="2400" spc="-1" strike="noStrike">
                <a:solidFill>
                  <a:srgbClr val="fcffd8"/>
                </a:solidFill>
                <a:latin typeface="Arial"/>
                <a:ea typeface="Arial"/>
              </a:rPr>
              <a:t>  units                                                                </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On hand 6/30      220  units</a:t>
            </a:r>
            <a:endParaRPr b="0" lang="en-US" sz="2400" spc="-1" strike="noStrike">
              <a:solidFill>
                <a:srgbClr val="ffffff"/>
              </a:solidFill>
              <a:latin typeface="Arial"/>
            </a:endParaRPr>
          </a:p>
        </p:txBody>
      </p:sp>
      <p:sp>
        <p:nvSpPr>
          <p:cNvPr id="510" name=""/>
          <p:cNvSpPr txBox="1"/>
          <p:nvPr/>
        </p:nvSpPr>
        <p:spPr>
          <a:xfrm>
            <a:off x="1447920" y="380880"/>
            <a:ext cx="6804000" cy="1134360"/>
          </a:xfrm>
          <a:prstGeom prst="rect">
            <a:avLst/>
          </a:prstGeom>
          <a:noFill/>
          <a:ln w="0">
            <a:noFill/>
          </a:ln>
        </p:spPr>
        <p:txBody>
          <a:bodyPr lIns="0" rIns="0" tIns="0" bIns="0" anchor="t">
            <a:noAutofit/>
          </a:bodyPr>
          <a:p>
            <a:pPr algn="ctr">
              <a:lnSpc>
                <a:spcPct val="100000"/>
              </a:lnSpc>
            </a:pPr>
            <a:r>
              <a:rPr b="1" lang="en-US" sz="4000" spc="-1" strike="noStrike">
                <a:solidFill>
                  <a:srgbClr val="ffcc66"/>
                </a:solidFill>
                <a:latin typeface="Arial"/>
                <a:ea typeface="Arial"/>
              </a:rPr>
              <a:t>Illustrative Data for the Four Methods</a:t>
            </a:r>
            <a:endParaRPr b="0" lang="en-US" sz="4000" spc="-1" strike="noStrike">
              <a:solidFill>
                <a:srgbClr val="ffffff"/>
              </a:solidFill>
              <a:latin typeface="Arial"/>
            </a:endParaRPr>
          </a:p>
        </p:txBody>
      </p:sp>
      <p:sp>
        <p:nvSpPr>
          <p:cNvPr id="511" name=""/>
          <p:cNvSpPr/>
          <p:nvPr/>
        </p:nvSpPr>
        <p:spPr>
          <a:xfrm>
            <a:off x="3902040" y="6248520"/>
            <a:ext cx="51768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12" name=""/>
          <p:cNvSpPr/>
          <p:nvPr/>
        </p:nvSpPr>
        <p:spPr>
          <a:xfrm>
            <a:off x="7102440" y="5257800"/>
            <a:ext cx="61452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13" name=""/>
          <p:cNvSpPr/>
          <p:nvPr/>
        </p:nvSpPr>
        <p:spPr>
          <a:xfrm>
            <a:off x="3902040" y="6324480"/>
            <a:ext cx="51768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14" name=""/>
          <p:cNvSpPr/>
          <p:nvPr/>
        </p:nvSpPr>
        <p:spPr>
          <a:xfrm>
            <a:off x="7102440" y="5334120"/>
            <a:ext cx="61452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5" name=""/>
          <p:cNvSpPr txBox="1"/>
          <p:nvPr/>
        </p:nvSpPr>
        <p:spPr>
          <a:xfrm>
            <a:off x="2209680" y="1219320"/>
            <a:ext cx="5670720" cy="855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516" name=""/>
          <p:cNvSpPr txBox="1"/>
          <p:nvPr/>
        </p:nvSpPr>
        <p:spPr>
          <a:xfrm>
            <a:off x="762120" y="2362320"/>
            <a:ext cx="8153280" cy="411480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Who is responsible for taking and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pricing the inventory?</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0128"/>
                </a:solidFill>
                <a:latin typeface="Arial"/>
                <a:ea typeface="Arial"/>
              </a:rPr>
              <a:t>A.</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Company management is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responsible for taking and pricing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e inventory.  Auditors observ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at the inventory is properly taken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and priced.</a:t>
            </a:r>
            <a:endParaRPr b="0" lang="en-US" sz="3200" spc="-1" strike="noStrike">
              <a:solidFill>
                <a:srgbClr val="ffffff"/>
              </a:solidFill>
              <a:latin typeface="Arial"/>
            </a:endParaRPr>
          </a:p>
        </p:txBody>
      </p:sp>
      <p:grpSp>
        <p:nvGrpSpPr>
          <p:cNvPr id="517" name=""/>
          <p:cNvGrpSpPr/>
          <p:nvPr/>
        </p:nvGrpSpPr>
        <p:grpSpPr>
          <a:xfrm>
            <a:off x="762120" y="304920"/>
            <a:ext cx="1979640" cy="2055960"/>
            <a:chOff x="762120" y="304920"/>
            <a:chExt cx="1979640" cy="2055960"/>
          </a:xfrm>
        </p:grpSpPr>
        <p:sp>
          <p:nvSpPr>
            <p:cNvPr id="518" name=""/>
            <p:cNvSpPr/>
            <p:nvPr/>
          </p:nvSpPr>
          <p:spPr>
            <a:xfrm>
              <a:off x="766800" y="1314360"/>
              <a:ext cx="481320" cy="717840"/>
            </a:xfrm>
            <a:custGeom>
              <a:avLst/>
              <a:gdLst/>
              <a:ahLst/>
              <a:rect l="0" t="0" r="r" b="b"/>
              <a:pathLst>
                <a:path w="1337" h="1994">
                  <a:moveTo>
                    <a:pt x="537" y="0"/>
                  </a:moveTo>
                  <a:lnTo>
                    <a:pt x="463" y="83"/>
                  </a:lnTo>
                  <a:lnTo>
                    <a:pt x="463" y="348"/>
                  </a:lnTo>
                  <a:lnTo>
                    <a:pt x="537" y="533"/>
                  </a:lnTo>
                  <a:lnTo>
                    <a:pt x="617" y="630"/>
                  </a:lnTo>
                  <a:lnTo>
                    <a:pt x="493" y="758"/>
                  </a:lnTo>
                  <a:lnTo>
                    <a:pt x="335" y="1046"/>
                  </a:lnTo>
                  <a:lnTo>
                    <a:pt x="26" y="1509"/>
                  </a:lnTo>
                  <a:lnTo>
                    <a:pt x="0" y="1610"/>
                  </a:lnTo>
                  <a:lnTo>
                    <a:pt x="26" y="1707"/>
                  </a:lnTo>
                  <a:lnTo>
                    <a:pt x="123" y="1707"/>
                  </a:lnTo>
                  <a:lnTo>
                    <a:pt x="202" y="1601"/>
                  </a:lnTo>
                  <a:lnTo>
                    <a:pt x="335" y="1345"/>
                  </a:lnTo>
                  <a:lnTo>
                    <a:pt x="414" y="1235"/>
                  </a:lnTo>
                  <a:lnTo>
                    <a:pt x="463" y="1403"/>
                  </a:lnTo>
                  <a:lnTo>
                    <a:pt x="427" y="1588"/>
                  </a:lnTo>
                  <a:lnTo>
                    <a:pt x="299" y="1844"/>
                  </a:lnTo>
                  <a:lnTo>
                    <a:pt x="335" y="1914"/>
                  </a:lnTo>
                  <a:lnTo>
                    <a:pt x="414" y="1888"/>
                  </a:lnTo>
                  <a:lnTo>
                    <a:pt x="577" y="1756"/>
                  </a:lnTo>
                  <a:lnTo>
                    <a:pt x="710" y="1522"/>
                  </a:lnTo>
                  <a:lnTo>
                    <a:pt x="710" y="1928"/>
                  </a:lnTo>
                  <a:lnTo>
                    <a:pt x="874" y="1994"/>
                  </a:lnTo>
                  <a:lnTo>
                    <a:pt x="966" y="1747"/>
                  </a:lnTo>
                  <a:lnTo>
                    <a:pt x="1046" y="1976"/>
                  </a:lnTo>
                  <a:lnTo>
                    <a:pt x="1112" y="1914"/>
                  </a:lnTo>
                  <a:lnTo>
                    <a:pt x="1143" y="1447"/>
                  </a:lnTo>
                  <a:lnTo>
                    <a:pt x="1337" y="1010"/>
                  </a:lnTo>
                  <a:lnTo>
                    <a:pt x="1297" y="758"/>
                  </a:lnTo>
                  <a:lnTo>
                    <a:pt x="1156" y="665"/>
                  </a:lnTo>
                  <a:lnTo>
                    <a:pt x="1010" y="679"/>
                  </a:lnTo>
                  <a:lnTo>
                    <a:pt x="966" y="471"/>
                  </a:lnTo>
                  <a:lnTo>
                    <a:pt x="816" y="427"/>
                  </a:lnTo>
                  <a:lnTo>
                    <a:pt x="688" y="361"/>
                  </a:lnTo>
                  <a:lnTo>
                    <a:pt x="617" y="44"/>
                  </a:lnTo>
                  <a:lnTo>
                    <a:pt x="537"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1171440" y="1606680"/>
              <a:ext cx="140040" cy="348120"/>
            </a:xfrm>
            <a:custGeom>
              <a:avLst/>
              <a:gdLst/>
              <a:ahLst/>
              <a:rect l="0" t="0" r="r" b="b"/>
              <a:pathLst>
                <a:path w="389" h="967">
                  <a:moveTo>
                    <a:pt x="195" y="0"/>
                  </a:moveTo>
                  <a:lnTo>
                    <a:pt x="389" y="247"/>
                  </a:lnTo>
                  <a:lnTo>
                    <a:pt x="292" y="791"/>
                  </a:lnTo>
                  <a:lnTo>
                    <a:pt x="0" y="967"/>
                  </a:lnTo>
                  <a:lnTo>
                    <a:pt x="0" y="693"/>
                  </a:lnTo>
                  <a:lnTo>
                    <a:pt x="119" y="415"/>
                  </a:lnTo>
                  <a:lnTo>
                    <a:pt x="195" y="198"/>
                  </a:lnTo>
                  <a:lnTo>
                    <a:pt x="195"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0" name=""/>
            <p:cNvSpPr/>
            <p:nvPr/>
          </p:nvSpPr>
          <p:spPr>
            <a:xfrm>
              <a:off x="2092320" y="1405080"/>
              <a:ext cx="356040" cy="314640"/>
            </a:xfrm>
            <a:custGeom>
              <a:avLst/>
              <a:gdLst/>
              <a:ahLst/>
              <a:rect l="0" t="0" r="r" b="b"/>
              <a:pathLst>
                <a:path w="989" h="874">
                  <a:moveTo>
                    <a:pt x="411" y="0"/>
                  </a:moveTo>
                  <a:lnTo>
                    <a:pt x="411" y="141"/>
                  </a:lnTo>
                  <a:lnTo>
                    <a:pt x="446" y="268"/>
                  </a:lnTo>
                  <a:lnTo>
                    <a:pt x="636" y="472"/>
                  </a:lnTo>
                  <a:lnTo>
                    <a:pt x="989" y="591"/>
                  </a:lnTo>
                  <a:lnTo>
                    <a:pt x="945" y="856"/>
                  </a:lnTo>
                  <a:lnTo>
                    <a:pt x="636" y="874"/>
                  </a:lnTo>
                  <a:lnTo>
                    <a:pt x="189" y="684"/>
                  </a:lnTo>
                  <a:lnTo>
                    <a:pt x="0" y="348"/>
                  </a:lnTo>
                  <a:lnTo>
                    <a:pt x="224" y="13"/>
                  </a:lnTo>
                  <a:lnTo>
                    <a:pt x="411"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1" name=""/>
            <p:cNvSpPr/>
            <p:nvPr/>
          </p:nvSpPr>
          <p:spPr>
            <a:xfrm>
              <a:off x="2235240" y="1050840"/>
              <a:ext cx="495720" cy="690840"/>
            </a:xfrm>
            <a:custGeom>
              <a:avLst/>
              <a:gdLst/>
              <a:ahLst/>
              <a:rect l="0" t="0" r="r" b="b"/>
              <a:pathLst>
                <a:path w="1377" h="1919">
                  <a:moveTo>
                    <a:pt x="123" y="815"/>
                  </a:moveTo>
                  <a:lnTo>
                    <a:pt x="0" y="948"/>
                  </a:lnTo>
                  <a:lnTo>
                    <a:pt x="26" y="1262"/>
                  </a:lnTo>
                  <a:lnTo>
                    <a:pt x="220" y="1407"/>
                  </a:lnTo>
                  <a:lnTo>
                    <a:pt x="233" y="1883"/>
                  </a:lnTo>
                  <a:lnTo>
                    <a:pt x="428" y="1883"/>
                  </a:lnTo>
                  <a:lnTo>
                    <a:pt x="415" y="1487"/>
                  </a:lnTo>
                  <a:lnTo>
                    <a:pt x="561" y="1901"/>
                  </a:lnTo>
                  <a:lnTo>
                    <a:pt x="658" y="1919"/>
                  </a:lnTo>
                  <a:lnTo>
                    <a:pt x="724" y="1778"/>
                  </a:lnTo>
                  <a:lnTo>
                    <a:pt x="737" y="1513"/>
                  </a:lnTo>
                  <a:lnTo>
                    <a:pt x="949" y="1760"/>
                  </a:lnTo>
                  <a:lnTo>
                    <a:pt x="1032" y="1742"/>
                  </a:lnTo>
                  <a:lnTo>
                    <a:pt x="1010" y="1570"/>
                  </a:lnTo>
                  <a:lnTo>
                    <a:pt x="931" y="1328"/>
                  </a:lnTo>
                  <a:lnTo>
                    <a:pt x="847" y="1169"/>
                  </a:lnTo>
                  <a:lnTo>
                    <a:pt x="882" y="1063"/>
                  </a:lnTo>
                  <a:lnTo>
                    <a:pt x="931" y="1076"/>
                  </a:lnTo>
                  <a:lnTo>
                    <a:pt x="1126" y="1328"/>
                  </a:lnTo>
                  <a:lnTo>
                    <a:pt x="1338" y="1390"/>
                  </a:lnTo>
                  <a:lnTo>
                    <a:pt x="1377" y="1310"/>
                  </a:lnTo>
                  <a:lnTo>
                    <a:pt x="1351" y="1187"/>
                  </a:lnTo>
                  <a:lnTo>
                    <a:pt x="962" y="793"/>
                  </a:lnTo>
                  <a:lnTo>
                    <a:pt x="658" y="674"/>
                  </a:lnTo>
                  <a:lnTo>
                    <a:pt x="613" y="463"/>
                  </a:lnTo>
                  <a:lnTo>
                    <a:pt x="724" y="273"/>
                  </a:lnTo>
                  <a:lnTo>
                    <a:pt x="724" y="61"/>
                  </a:lnTo>
                  <a:lnTo>
                    <a:pt x="640" y="0"/>
                  </a:lnTo>
                  <a:lnTo>
                    <a:pt x="415" y="520"/>
                  </a:lnTo>
                  <a:lnTo>
                    <a:pt x="220" y="595"/>
                  </a:lnTo>
                  <a:lnTo>
                    <a:pt x="163" y="736"/>
                  </a:lnTo>
                  <a:lnTo>
                    <a:pt x="123" y="815"/>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22" name=""/>
            <p:cNvSpPr/>
            <p:nvPr/>
          </p:nvSpPr>
          <p:spPr>
            <a:xfrm>
              <a:off x="1422360" y="450720"/>
              <a:ext cx="538560" cy="883080"/>
            </a:xfrm>
            <a:custGeom>
              <a:avLst/>
              <a:gdLst/>
              <a:ahLst/>
              <a:rect l="0" t="0" r="r" b="b"/>
              <a:pathLst>
                <a:path w="1496" h="2453">
                  <a:moveTo>
                    <a:pt x="375" y="343"/>
                  </a:moveTo>
                  <a:lnTo>
                    <a:pt x="260" y="812"/>
                  </a:lnTo>
                  <a:lnTo>
                    <a:pt x="13" y="904"/>
                  </a:lnTo>
                  <a:lnTo>
                    <a:pt x="83" y="1046"/>
                  </a:lnTo>
                  <a:lnTo>
                    <a:pt x="0" y="1147"/>
                  </a:lnTo>
                  <a:lnTo>
                    <a:pt x="0" y="1315"/>
                  </a:lnTo>
                  <a:lnTo>
                    <a:pt x="119" y="1473"/>
                  </a:lnTo>
                  <a:lnTo>
                    <a:pt x="233" y="1473"/>
                  </a:lnTo>
                  <a:lnTo>
                    <a:pt x="313" y="2021"/>
                  </a:lnTo>
                  <a:lnTo>
                    <a:pt x="411" y="2255"/>
                  </a:lnTo>
                  <a:lnTo>
                    <a:pt x="715" y="2453"/>
                  </a:lnTo>
                  <a:lnTo>
                    <a:pt x="1015" y="2418"/>
                  </a:lnTo>
                  <a:lnTo>
                    <a:pt x="1161" y="2021"/>
                  </a:lnTo>
                  <a:lnTo>
                    <a:pt x="1197" y="1394"/>
                  </a:lnTo>
                  <a:lnTo>
                    <a:pt x="1496" y="1085"/>
                  </a:lnTo>
                  <a:lnTo>
                    <a:pt x="1479" y="962"/>
                  </a:lnTo>
                  <a:lnTo>
                    <a:pt x="1452" y="904"/>
                  </a:lnTo>
                  <a:lnTo>
                    <a:pt x="1294" y="887"/>
                  </a:lnTo>
                  <a:lnTo>
                    <a:pt x="1342" y="728"/>
                  </a:lnTo>
                  <a:lnTo>
                    <a:pt x="1183" y="622"/>
                  </a:lnTo>
                  <a:lnTo>
                    <a:pt x="1116" y="273"/>
                  </a:lnTo>
                  <a:lnTo>
                    <a:pt x="653" y="0"/>
                  </a:lnTo>
                  <a:lnTo>
                    <a:pt x="411" y="246"/>
                  </a:lnTo>
                  <a:lnTo>
                    <a:pt x="375" y="343"/>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523" name=""/>
            <p:cNvSpPr/>
            <p:nvPr/>
          </p:nvSpPr>
          <p:spPr>
            <a:xfrm>
              <a:off x="1460520" y="1189080"/>
              <a:ext cx="495720" cy="1055880"/>
            </a:xfrm>
            <a:custGeom>
              <a:avLst/>
              <a:gdLst/>
              <a:ahLst/>
              <a:rect l="0" t="0" r="r" b="b"/>
              <a:pathLst>
                <a:path w="1377" h="2933">
                  <a:moveTo>
                    <a:pt x="277" y="154"/>
                  </a:moveTo>
                  <a:lnTo>
                    <a:pt x="477" y="299"/>
                  </a:lnTo>
                  <a:lnTo>
                    <a:pt x="574" y="449"/>
                  </a:lnTo>
                  <a:lnTo>
                    <a:pt x="1126" y="0"/>
                  </a:lnTo>
                  <a:lnTo>
                    <a:pt x="1298" y="92"/>
                  </a:lnTo>
                  <a:lnTo>
                    <a:pt x="1377" y="555"/>
                  </a:lnTo>
                  <a:lnTo>
                    <a:pt x="984" y="1906"/>
                  </a:lnTo>
                  <a:lnTo>
                    <a:pt x="1108" y="2651"/>
                  </a:lnTo>
                  <a:lnTo>
                    <a:pt x="587" y="2933"/>
                  </a:lnTo>
                  <a:lnTo>
                    <a:pt x="185" y="2774"/>
                  </a:lnTo>
                  <a:lnTo>
                    <a:pt x="185" y="1985"/>
                  </a:lnTo>
                  <a:lnTo>
                    <a:pt x="0" y="1221"/>
                  </a:lnTo>
                  <a:lnTo>
                    <a:pt x="185" y="299"/>
                  </a:lnTo>
                  <a:lnTo>
                    <a:pt x="277" y="154"/>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4" name=""/>
            <p:cNvSpPr/>
            <p:nvPr/>
          </p:nvSpPr>
          <p:spPr>
            <a:xfrm>
              <a:off x="1481040" y="333360"/>
              <a:ext cx="464040" cy="279720"/>
            </a:xfrm>
            <a:custGeom>
              <a:avLst/>
              <a:gdLst/>
              <a:ahLst/>
              <a:rect l="0" t="0" r="r" b="b"/>
              <a:pathLst>
                <a:path w="1289" h="777">
                  <a:moveTo>
                    <a:pt x="154" y="741"/>
                  </a:moveTo>
                  <a:lnTo>
                    <a:pt x="344" y="534"/>
                  </a:lnTo>
                  <a:lnTo>
                    <a:pt x="468" y="503"/>
                  </a:lnTo>
                  <a:lnTo>
                    <a:pt x="468" y="521"/>
                  </a:lnTo>
                  <a:lnTo>
                    <a:pt x="530" y="503"/>
                  </a:lnTo>
                  <a:lnTo>
                    <a:pt x="609" y="561"/>
                  </a:lnTo>
                  <a:lnTo>
                    <a:pt x="759" y="596"/>
                  </a:lnTo>
                  <a:lnTo>
                    <a:pt x="882" y="777"/>
                  </a:lnTo>
                  <a:lnTo>
                    <a:pt x="1082" y="702"/>
                  </a:lnTo>
                  <a:lnTo>
                    <a:pt x="1082" y="613"/>
                  </a:lnTo>
                  <a:lnTo>
                    <a:pt x="1289" y="521"/>
                  </a:lnTo>
                  <a:lnTo>
                    <a:pt x="1227" y="374"/>
                  </a:lnTo>
                  <a:lnTo>
                    <a:pt x="1038" y="361"/>
                  </a:lnTo>
                  <a:lnTo>
                    <a:pt x="1069" y="198"/>
                  </a:lnTo>
                  <a:lnTo>
                    <a:pt x="904" y="224"/>
                  </a:lnTo>
                  <a:lnTo>
                    <a:pt x="874" y="110"/>
                  </a:lnTo>
                  <a:lnTo>
                    <a:pt x="759" y="110"/>
                  </a:lnTo>
                  <a:lnTo>
                    <a:pt x="680" y="171"/>
                  </a:lnTo>
                  <a:lnTo>
                    <a:pt x="609" y="171"/>
                  </a:lnTo>
                  <a:lnTo>
                    <a:pt x="622" y="0"/>
                  </a:lnTo>
                  <a:lnTo>
                    <a:pt x="468" y="79"/>
                  </a:lnTo>
                  <a:lnTo>
                    <a:pt x="251" y="361"/>
                  </a:lnTo>
                  <a:lnTo>
                    <a:pt x="238" y="171"/>
                  </a:lnTo>
                  <a:lnTo>
                    <a:pt x="127" y="264"/>
                  </a:lnTo>
                  <a:lnTo>
                    <a:pt x="101" y="503"/>
                  </a:lnTo>
                  <a:lnTo>
                    <a:pt x="0" y="464"/>
                  </a:lnTo>
                  <a:lnTo>
                    <a:pt x="13" y="613"/>
                  </a:lnTo>
                  <a:lnTo>
                    <a:pt x="154" y="74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5" name=""/>
            <p:cNvSpPr/>
            <p:nvPr/>
          </p:nvSpPr>
          <p:spPr>
            <a:xfrm>
              <a:off x="1604880" y="1384200"/>
              <a:ext cx="149760" cy="797400"/>
            </a:xfrm>
            <a:custGeom>
              <a:avLst/>
              <a:gdLst/>
              <a:ahLst/>
              <a:rect l="0" t="0" r="r" b="b"/>
              <a:pathLst>
                <a:path w="416" h="2215">
                  <a:moveTo>
                    <a:pt x="217" y="8"/>
                  </a:moveTo>
                  <a:lnTo>
                    <a:pt x="74" y="110"/>
                  </a:lnTo>
                  <a:lnTo>
                    <a:pt x="74" y="295"/>
                  </a:lnTo>
                  <a:lnTo>
                    <a:pt x="177" y="357"/>
                  </a:lnTo>
                  <a:lnTo>
                    <a:pt x="35" y="649"/>
                  </a:lnTo>
                  <a:lnTo>
                    <a:pt x="0" y="1041"/>
                  </a:lnTo>
                  <a:lnTo>
                    <a:pt x="106" y="1544"/>
                  </a:lnTo>
                  <a:lnTo>
                    <a:pt x="106" y="1765"/>
                  </a:lnTo>
                  <a:lnTo>
                    <a:pt x="44" y="1929"/>
                  </a:lnTo>
                  <a:lnTo>
                    <a:pt x="265" y="2215"/>
                  </a:lnTo>
                  <a:lnTo>
                    <a:pt x="398" y="1779"/>
                  </a:lnTo>
                  <a:lnTo>
                    <a:pt x="398" y="1487"/>
                  </a:lnTo>
                  <a:lnTo>
                    <a:pt x="300" y="1213"/>
                  </a:lnTo>
                  <a:lnTo>
                    <a:pt x="243" y="838"/>
                  </a:lnTo>
                  <a:lnTo>
                    <a:pt x="350" y="471"/>
                  </a:lnTo>
                  <a:lnTo>
                    <a:pt x="315" y="326"/>
                  </a:lnTo>
                  <a:lnTo>
                    <a:pt x="416" y="246"/>
                  </a:lnTo>
                  <a:lnTo>
                    <a:pt x="398" y="154"/>
                  </a:lnTo>
                  <a:lnTo>
                    <a:pt x="278" y="0"/>
                  </a:lnTo>
                  <a:lnTo>
                    <a:pt x="217" y="8"/>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6" name=""/>
            <p:cNvSpPr/>
            <p:nvPr/>
          </p:nvSpPr>
          <p:spPr>
            <a:xfrm>
              <a:off x="1601640" y="1116000"/>
              <a:ext cx="119520" cy="71640"/>
            </a:xfrm>
            <a:custGeom>
              <a:avLst/>
              <a:gdLst/>
              <a:ahLst/>
              <a:rect l="0" t="0" r="r" b="b"/>
              <a:pathLst>
                <a:path w="332" h="199">
                  <a:moveTo>
                    <a:pt x="0" y="57"/>
                  </a:moveTo>
                  <a:lnTo>
                    <a:pt x="133" y="199"/>
                  </a:lnTo>
                  <a:lnTo>
                    <a:pt x="262" y="181"/>
                  </a:lnTo>
                  <a:lnTo>
                    <a:pt x="332" y="13"/>
                  </a:lnTo>
                  <a:lnTo>
                    <a:pt x="186" y="0"/>
                  </a:lnTo>
                  <a:lnTo>
                    <a:pt x="30" y="13"/>
                  </a:lnTo>
                  <a:lnTo>
                    <a:pt x="0" y="57"/>
                  </a:lnTo>
                  <a:close/>
                </a:path>
              </a:pathLst>
            </a:custGeom>
            <a:solidFill>
              <a:srgbClr val="ffffff"/>
            </a:solidFill>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sp>
          <p:nvSpPr>
            <p:cNvPr id="527" name=""/>
            <p:cNvSpPr/>
            <p:nvPr/>
          </p:nvSpPr>
          <p:spPr>
            <a:xfrm>
              <a:off x="1471680" y="747720"/>
              <a:ext cx="147960" cy="155880"/>
            </a:xfrm>
            <a:custGeom>
              <a:avLst/>
              <a:gdLst/>
              <a:ahLst/>
              <a:rect l="0" t="0" r="r" b="b"/>
              <a:pathLst>
                <a:path w="411" h="433">
                  <a:moveTo>
                    <a:pt x="0" y="48"/>
                  </a:moveTo>
                  <a:lnTo>
                    <a:pt x="287" y="433"/>
                  </a:lnTo>
                  <a:lnTo>
                    <a:pt x="411" y="397"/>
                  </a:lnTo>
                  <a:lnTo>
                    <a:pt x="114"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8" name=""/>
            <p:cNvSpPr/>
            <p:nvPr/>
          </p:nvSpPr>
          <p:spPr>
            <a:xfrm>
              <a:off x="1733400" y="714240"/>
              <a:ext cx="125640" cy="155880"/>
            </a:xfrm>
            <a:custGeom>
              <a:avLst/>
              <a:gdLst/>
              <a:ahLst/>
              <a:rect l="0" t="0" r="r" b="b"/>
              <a:pathLst>
                <a:path w="349" h="433">
                  <a:moveTo>
                    <a:pt x="0" y="57"/>
                  </a:moveTo>
                  <a:lnTo>
                    <a:pt x="243" y="433"/>
                  </a:lnTo>
                  <a:lnTo>
                    <a:pt x="349" y="331"/>
                  </a:lnTo>
                  <a:lnTo>
                    <a:pt x="101" y="0"/>
                  </a:lnTo>
                  <a:lnTo>
                    <a:pt x="0" y="5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9" name=""/>
            <p:cNvSpPr/>
            <p:nvPr/>
          </p:nvSpPr>
          <p:spPr>
            <a:xfrm>
              <a:off x="1417680" y="514440"/>
              <a:ext cx="514800" cy="389160"/>
            </a:xfrm>
            <a:custGeom>
              <a:avLst/>
              <a:gdLst/>
              <a:ahLst/>
              <a:rect l="0" t="0" r="r" b="b"/>
              <a:pathLst>
                <a:path w="1430" h="1081">
                  <a:moveTo>
                    <a:pt x="653" y="644"/>
                  </a:moveTo>
                  <a:lnTo>
                    <a:pt x="525" y="600"/>
                  </a:lnTo>
                  <a:lnTo>
                    <a:pt x="636" y="507"/>
                  </a:lnTo>
                  <a:lnTo>
                    <a:pt x="596" y="449"/>
                  </a:lnTo>
                  <a:lnTo>
                    <a:pt x="455" y="578"/>
                  </a:lnTo>
                  <a:lnTo>
                    <a:pt x="185" y="609"/>
                  </a:lnTo>
                  <a:lnTo>
                    <a:pt x="0" y="618"/>
                  </a:lnTo>
                  <a:lnTo>
                    <a:pt x="0" y="768"/>
                  </a:lnTo>
                  <a:lnTo>
                    <a:pt x="167" y="1076"/>
                  </a:lnTo>
                  <a:lnTo>
                    <a:pt x="211" y="1081"/>
                  </a:lnTo>
                  <a:lnTo>
                    <a:pt x="66" y="746"/>
                  </a:lnTo>
                  <a:lnTo>
                    <a:pt x="295" y="644"/>
                  </a:lnTo>
                  <a:lnTo>
                    <a:pt x="455" y="644"/>
                  </a:lnTo>
                  <a:lnTo>
                    <a:pt x="569" y="710"/>
                  </a:lnTo>
                  <a:lnTo>
                    <a:pt x="596" y="799"/>
                  </a:lnTo>
                  <a:lnTo>
                    <a:pt x="596" y="1006"/>
                  </a:lnTo>
                  <a:lnTo>
                    <a:pt x="596" y="1076"/>
                  </a:lnTo>
                  <a:lnTo>
                    <a:pt x="666" y="975"/>
                  </a:lnTo>
                  <a:lnTo>
                    <a:pt x="666" y="763"/>
                  </a:lnTo>
                  <a:lnTo>
                    <a:pt x="763" y="763"/>
                  </a:lnTo>
                  <a:lnTo>
                    <a:pt x="816" y="1006"/>
                  </a:lnTo>
                  <a:lnTo>
                    <a:pt x="874" y="1028"/>
                  </a:lnTo>
                  <a:lnTo>
                    <a:pt x="1046" y="1028"/>
                  </a:lnTo>
                  <a:lnTo>
                    <a:pt x="1223" y="979"/>
                  </a:lnTo>
                  <a:lnTo>
                    <a:pt x="1346" y="891"/>
                  </a:lnTo>
                  <a:lnTo>
                    <a:pt x="1360" y="675"/>
                  </a:lnTo>
                  <a:lnTo>
                    <a:pt x="1430" y="578"/>
                  </a:lnTo>
                  <a:lnTo>
                    <a:pt x="1391" y="524"/>
                  </a:lnTo>
                  <a:lnTo>
                    <a:pt x="1232" y="458"/>
                  </a:lnTo>
                  <a:lnTo>
                    <a:pt x="1205" y="242"/>
                  </a:lnTo>
                  <a:lnTo>
                    <a:pt x="1054" y="242"/>
                  </a:lnTo>
                  <a:lnTo>
                    <a:pt x="878" y="0"/>
                  </a:lnTo>
                  <a:lnTo>
                    <a:pt x="1041" y="268"/>
                  </a:lnTo>
                  <a:lnTo>
                    <a:pt x="1091" y="268"/>
                  </a:lnTo>
                  <a:lnTo>
                    <a:pt x="1126" y="449"/>
                  </a:lnTo>
                  <a:lnTo>
                    <a:pt x="927" y="524"/>
                  </a:lnTo>
                  <a:lnTo>
                    <a:pt x="781" y="471"/>
                  </a:lnTo>
                  <a:lnTo>
                    <a:pt x="750" y="524"/>
                  </a:lnTo>
                  <a:lnTo>
                    <a:pt x="830" y="578"/>
                  </a:lnTo>
                  <a:lnTo>
                    <a:pt x="830" y="631"/>
                  </a:lnTo>
                  <a:lnTo>
                    <a:pt x="1006" y="552"/>
                  </a:lnTo>
                  <a:lnTo>
                    <a:pt x="1152" y="533"/>
                  </a:lnTo>
                  <a:lnTo>
                    <a:pt x="1311" y="556"/>
                  </a:lnTo>
                  <a:lnTo>
                    <a:pt x="1311" y="591"/>
                  </a:lnTo>
                  <a:lnTo>
                    <a:pt x="1236" y="666"/>
                  </a:lnTo>
                  <a:lnTo>
                    <a:pt x="1205" y="763"/>
                  </a:lnTo>
                  <a:lnTo>
                    <a:pt x="1197" y="891"/>
                  </a:lnTo>
                  <a:lnTo>
                    <a:pt x="1100" y="949"/>
                  </a:lnTo>
                  <a:lnTo>
                    <a:pt x="966" y="962"/>
                  </a:lnTo>
                  <a:lnTo>
                    <a:pt x="874" y="962"/>
                  </a:lnTo>
                  <a:lnTo>
                    <a:pt x="838" y="922"/>
                  </a:lnTo>
                  <a:lnTo>
                    <a:pt x="816" y="675"/>
                  </a:lnTo>
                  <a:lnTo>
                    <a:pt x="666" y="675"/>
                  </a:lnTo>
                  <a:lnTo>
                    <a:pt x="653" y="6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0" name=""/>
            <p:cNvSpPr/>
            <p:nvPr/>
          </p:nvSpPr>
          <p:spPr>
            <a:xfrm>
              <a:off x="1595520" y="963720"/>
              <a:ext cx="165600" cy="78120"/>
            </a:xfrm>
            <a:custGeom>
              <a:avLst/>
              <a:gdLst/>
              <a:ahLst/>
              <a:rect l="0" t="0" r="r" b="b"/>
              <a:pathLst>
                <a:path w="460" h="217">
                  <a:moveTo>
                    <a:pt x="0" y="0"/>
                  </a:moveTo>
                  <a:lnTo>
                    <a:pt x="74" y="97"/>
                  </a:lnTo>
                  <a:lnTo>
                    <a:pt x="269" y="97"/>
                  </a:lnTo>
                  <a:lnTo>
                    <a:pt x="354" y="30"/>
                  </a:lnTo>
                  <a:lnTo>
                    <a:pt x="460" y="30"/>
                  </a:lnTo>
                  <a:lnTo>
                    <a:pt x="442" y="66"/>
                  </a:lnTo>
                  <a:lnTo>
                    <a:pt x="442" y="97"/>
                  </a:lnTo>
                  <a:lnTo>
                    <a:pt x="256" y="217"/>
                  </a:lnTo>
                  <a:lnTo>
                    <a:pt x="150" y="217"/>
                  </a:lnTo>
                  <a:lnTo>
                    <a:pt x="101" y="172"/>
                  </a:lnTo>
                  <a:lnTo>
                    <a:pt x="39" y="172"/>
                  </a:lnTo>
                  <a:lnTo>
                    <a:pt x="0" y="0"/>
                  </a:lnTo>
                  <a:close/>
                </a:path>
              </a:pathLst>
            </a:custGeom>
            <a:solidFill>
              <a:srgbClr val="000000"/>
            </a:solidFill>
            <a:ln w="12600">
              <a:solidFill>
                <a:srgbClr val="000000"/>
              </a:solidFill>
              <a:round/>
            </a:ln>
          </p:spPr>
          <p:txBody>
            <a:bodyPr lIns="96120" rIns="96120" tIns="27000" bIns="27000" anchor="t">
              <a:noAutofit/>
            </a:bodyPr>
            <a:p>
              <a:endParaRPr b="0" lang="en-US" sz="1800" spc="-1" strike="noStrike">
                <a:solidFill>
                  <a:srgbClr val="ffffff"/>
                </a:solidFill>
                <a:latin typeface="Arial"/>
              </a:endParaRPr>
            </a:p>
          </p:txBody>
        </p:sp>
        <p:sp>
          <p:nvSpPr>
            <p:cNvPr id="531" name=""/>
            <p:cNvSpPr/>
            <p:nvPr/>
          </p:nvSpPr>
          <p:spPr>
            <a:xfrm>
              <a:off x="1409760" y="835200"/>
              <a:ext cx="251280" cy="421200"/>
            </a:xfrm>
            <a:custGeom>
              <a:avLst/>
              <a:gdLst/>
              <a:ahLst/>
              <a:rect l="0" t="0" r="r" b="b"/>
              <a:pathLst>
                <a:path w="698" h="1170">
                  <a:moveTo>
                    <a:pt x="698" y="79"/>
                  </a:moveTo>
                  <a:lnTo>
                    <a:pt x="698" y="105"/>
                  </a:lnTo>
                  <a:lnTo>
                    <a:pt x="575" y="224"/>
                  </a:lnTo>
                  <a:lnTo>
                    <a:pt x="472" y="242"/>
                  </a:lnTo>
                  <a:lnTo>
                    <a:pt x="274" y="207"/>
                  </a:lnTo>
                  <a:lnTo>
                    <a:pt x="318" y="631"/>
                  </a:lnTo>
                  <a:lnTo>
                    <a:pt x="358" y="980"/>
                  </a:lnTo>
                  <a:lnTo>
                    <a:pt x="441" y="1170"/>
                  </a:lnTo>
                  <a:lnTo>
                    <a:pt x="358" y="1033"/>
                  </a:lnTo>
                  <a:lnTo>
                    <a:pt x="327" y="888"/>
                  </a:lnTo>
                  <a:lnTo>
                    <a:pt x="269" y="494"/>
                  </a:lnTo>
                  <a:lnTo>
                    <a:pt x="212" y="512"/>
                  </a:lnTo>
                  <a:lnTo>
                    <a:pt x="145" y="472"/>
                  </a:lnTo>
                  <a:lnTo>
                    <a:pt x="13" y="264"/>
                  </a:lnTo>
                  <a:lnTo>
                    <a:pt x="0" y="149"/>
                  </a:lnTo>
                  <a:lnTo>
                    <a:pt x="0" y="70"/>
                  </a:lnTo>
                  <a:lnTo>
                    <a:pt x="30" y="22"/>
                  </a:lnTo>
                  <a:lnTo>
                    <a:pt x="110" y="0"/>
                  </a:lnTo>
                  <a:lnTo>
                    <a:pt x="119" y="35"/>
                  </a:lnTo>
                  <a:lnTo>
                    <a:pt x="52" y="52"/>
                  </a:lnTo>
                  <a:lnTo>
                    <a:pt x="39" y="141"/>
                  </a:lnTo>
                  <a:lnTo>
                    <a:pt x="44" y="246"/>
                  </a:lnTo>
                  <a:lnTo>
                    <a:pt x="141" y="349"/>
                  </a:lnTo>
                  <a:lnTo>
                    <a:pt x="186" y="322"/>
                  </a:lnTo>
                  <a:lnTo>
                    <a:pt x="186" y="114"/>
                  </a:lnTo>
                  <a:lnTo>
                    <a:pt x="265" y="158"/>
                  </a:lnTo>
                  <a:lnTo>
                    <a:pt x="389" y="189"/>
                  </a:lnTo>
                  <a:lnTo>
                    <a:pt x="503" y="180"/>
                  </a:lnTo>
                  <a:lnTo>
                    <a:pt x="619" y="114"/>
                  </a:lnTo>
                  <a:lnTo>
                    <a:pt x="698" y="7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2" name=""/>
            <p:cNvSpPr/>
            <p:nvPr/>
          </p:nvSpPr>
          <p:spPr>
            <a:xfrm>
              <a:off x="1476360" y="501480"/>
              <a:ext cx="76680" cy="225720"/>
            </a:xfrm>
            <a:custGeom>
              <a:avLst/>
              <a:gdLst/>
              <a:ahLst/>
              <a:rect l="0" t="0" r="r" b="b"/>
              <a:pathLst>
                <a:path w="213" h="627">
                  <a:moveTo>
                    <a:pt x="111" y="627"/>
                  </a:moveTo>
                  <a:lnTo>
                    <a:pt x="213" y="251"/>
                  </a:lnTo>
                  <a:lnTo>
                    <a:pt x="26" y="123"/>
                  </a:lnTo>
                  <a:lnTo>
                    <a:pt x="0" y="0"/>
                  </a:lnTo>
                  <a:lnTo>
                    <a:pt x="13" y="154"/>
                  </a:lnTo>
                  <a:lnTo>
                    <a:pt x="75" y="211"/>
                  </a:lnTo>
                  <a:lnTo>
                    <a:pt x="84" y="402"/>
                  </a:lnTo>
                  <a:lnTo>
                    <a:pt x="128" y="472"/>
                  </a:lnTo>
                  <a:lnTo>
                    <a:pt x="111" y="62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3" name=""/>
            <p:cNvSpPr/>
            <p:nvPr/>
          </p:nvSpPr>
          <p:spPr>
            <a:xfrm>
              <a:off x="1474920" y="304920"/>
              <a:ext cx="565560" cy="295560"/>
            </a:xfrm>
            <a:custGeom>
              <a:avLst/>
              <a:gdLst/>
              <a:ahLst/>
              <a:rect l="0" t="0" r="r" b="b"/>
              <a:pathLst>
                <a:path w="1571" h="821">
                  <a:moveTo>
                    <a:pt x="13" y="552"/>
                  </a:moveTo>
                  <a:lnTo>
                    <a:pt x="149" y="640"/>
                  </a:lnTo>
                  <a:lnTo>
                    <a:pt x="136" y="534"/>
                  </a:lnTo>
                  <a:lnTo>
                    <a:pt x="158" y="348"/>
                  </a:lnTo>
                  <a:lnTo>
                    <a:pt x="251" y="308"/>
                  </a:lnTo>
                  <a:lnTo>
                    <a:pt x="260" y="508"/>
                  </a:lnTo>
                  <a:lnTo>
                    <a:pt x="530" y="158"/>
                  </a:lnTo>
                  <a:lnTo>
                    <a:pt x="587" y="132"/>
                  </a:lnTo>
                  <a:lnTo>
                    <a:pt x="543" y="273"/>
                  </a:lnTo>
                  <a:lnTo>
                    <a:pt x="706" y="343"/>
                  </a:lnTo>
                  <a:lnTo>
                    <a:pt x="830" y="198"/>
                  </a:lnTo>
                  <a:lnTo>
                    <a:pt x="891" y="242"/>
                  </a:lnTo>
                  <a:lnTo>
                    <a:pt x="834" y="361"/>
                  </a:lnTo>
                  <a:lnTo>
                    <a:pt x="913" y="291"/>
                  </a:lnTo>
                  <a:lnTo>
                    <a:pt x="1028" y="348"/>
                  </a:lnTo>
                  <a:lnTo>
                    <a:pt x="931" y="446"/>
                  </a:lnTo>
                  <a:lnTo>
                    <a:pt x="1258" y="508"/>
                  </a:lnTo>
                  <a:lnTo>
                    <a:pt x="1041" y="578"/>
                  </a:lnTo>
                  <a:lnTo>
                    <a:pt x="1316" y="622"/>
                  </a:lnTo>
                  <a:lnTo>
                    <a:pt x="993" y="697"/>
                  </a:lnTo>
                  <a:lnTo>
                    <a:pt x="1059" y="759"/>
                  </a:lnTo>
                  <a:lnTo>
                    <a:pt x="966" y="821"/>
                  </a:lnTo>
                  <a:lnTo>
                    <a:pt x="1129" y="821"/>
                  </a:lnTo>
                  <a:lnTo>
                    <a:pt x="1116" y="772"/>
                  </a:lnTo>
                  <a:lnTo>
                    <a:pt x="1289" y="816"/>
                  </a:lnTo>
                  <a:lnTo>
                    <a:pt x="1258" y="684"/>
                  </a:lnTo>
                  <a:lnTo>
                    <a:pt x="1421" y="627"/>
                  </a:lnTo>
                  <a:lnTo>
                    <a:pt x="1307" y="565"/>
                  </a:lnTo>
                  <a:lnTo>
                    <a:pt x="1571" y="547"/>
                  </a:lnTo>
                  <a:lnTo>
                    <a:pt x="1342" y="411"/>
                  </a:lnTo>
                  <a:lnTo>
                    <a:pt x="1081" y="388"/>
                  </a:lnTo>
                  <a:lnTo>
                    <a:pt x="1289" y="246"/>
                  </a:lnTo>
                  <a:lnTo>
                    <a:pt x="913" y="246"/>
                  </a:lnTo>
                  <a:lnTo>
                    <a:pt x="1090" y="123"/>
                  </a:lnTo>
                  <a:lnTo>
                    <a:pt x="816" y="158"/>
                  </a:lnTo>
                  <a:lnTo>
                    <a:pt x="693" y="224"/>
                  </a:lnTo>
                  <a:lnTo>
                    <a:pt x="803" y="0"/>
                  </a:lnTo>
                  <a:lnTo>
                    <a:pt x="472" y="123"/>
                  </a:lnTo>
                  <a:lnTo>
                    <a:pt x="295" y="392"/>
                  </a:lnTo>
                  <a:lnTo>
                    <a:pt x="260" y="242"/>
                  </a:lnTo>
                  <a:lnTo>
                    <a:pt x="114" y="348"/>
                  </a:lnTo>
                  <a:lnTo>
                    <a:pt x="101" y="547"/>
                  </a:lnTo>
                  <a:lnTo>
                    <a:pt x="0" y="508"/>
                  </a:lnTo>
                  <a:lnTo>
                    <a:pt x="30" y="684"/>
                  </a:lnTo>
                  <a:lnTo>
                    <a:pt x="13" y="55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4" name=""/>
            <p:cNvSpPr/>
            <p:nvPr/>
          </p:nvSpPr>
          <p:spPr>
            <a:xfrm>
              <a:off x="1596960" y="461880"/>
              <a:ext cx="159120" cy="89280"/>
            </a:xfrm>
            <a:custGeom>
              <a:avLst/>
              <a:gdLst/>
              <a:ahLst/>
              <a:rect l="0" t="0" r="r" b="b"/>
              <a:pathLst>
                <a:path w="442" h="248">
                  <a:moveTo>
                    <a:pt x="0" y="248"/>
                  </a:moveTo>
                  <a:lnTo>
                    <a:pt x="164" y="0"/>
                  </a:lnTo>
                  <a:lnTo>
                    <a:pt x="164" y="164"/>
                  </a:lnTo>
                  <a:lnTo>
                    <a:pt x="221" y="98"/>
                  </a:lnTo>
                  <a:lnTo>
                    <a:pt x="274" y="196"/>
                  </a:lnTo>
                  <a:lnTo>
                    <a:pt x="442" y="240"/>
                  </a:lnTo>
                  <a:lnTo>
                    <a:pt x="265" y="204"/>
                  </a:lnTo>
                  <a:lnTo>
                    <a:pt x="212" y="142"/>
                  </a:lnTo>
                  <a:lnTo>
                    <a:pt x="137" y="204"/>
                  </a:lnTo>
                  <a:lnTo>
                    <a:pt x="137" y="124"/>
                  </a:lnTo>
                  <a:lnTo>
                    <a:pt x="0" y="248"/>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535" name=""/>
            <p:cNvSpPr/>
            <p:nvPr/>
          </p:nvSpPr>
          <p:spPr>
            <a:xfrm>
              <a:off x="1582560" y="1066680"/>
              <a:ext cx="194040" cy="132120"/>
            </a:xfrm>
            <a:custGeom>
              <a:avLst/>
              <a:gdLst/>
              <a:ahLst/>
              <a:rect l="0" t="0" r="r" b="b"/>
              <a:pathLst>
                <a:path w="539" h="367">
                  <a:moveTo>
                    <a:pt x="105" y="123"/>
                  </a:moveTo>
                  <a:lnTo>
                    <a:pt x="322" y="110"/>
                  </a:lnTo>
                  <a:lnTo>
                    <a:pt x="429" y="136"/>
                  </a:lnTo>
                  <a:lnTo>
                    <a:pt x="478" y="79"/>
                  </a:lnTo>
                  <a:lnTo>
                    <a:pt x="539" y="199"/>
                  </a:lnTo>
                  <a:lnTo>
                    <a:pt x="504" y="225"/>
                  </a:lnTo>
                  <a:lnTo>
                    <a:pt x="456" y="180"/>
                  </a:lnTo>
                  <a:lnTo>
                    <a:pt x="384" y="265"/>
                  </a:lnTo>
                  <a:lnTo>
                    <a:pt x="247" y="367"/>
                  </a:lnTo>
                  <a:lnTo>
                    <a:pt x="190" y="367"/>
                  </a:lnTo>
                  <a:lnTo>
                    <a:pt x="105" y="309"/>
                  </a:lnTo>
                  <a:lnTo>
                    <a:pt x="203" y="362"/>
                  </a:lnTo>
                  <a:lnTo>
                    <a:pt x="239" y="362"/>
                  </a:lnTo>
                  <a:lnTo>
                    <a:pt x="322" y="292"/>
                  </a:lnTo>
                  <a:lnTo>
                    <a:pt x="384" y="171"/>
                  </a:lnTo>
                  <a:lnTo>
                    <a:pt x="296" y="149"/>
                  </a:lnTo>
                  <a:lnTo>
                    <a:pt x="234" y="136"/>
                  </a:lnTo>
                  <a:lnTo>
                    <a:pt x="88" y="158"/>
                  </a:lnTo>
                  <a:lnTo>
                    <a:pt x="88" y="256"/>
                  </a:lnTo>
                  <a:lnTo>
                    <a:pt x="39" y="195"/>
                  </a:lnTo>
                  <a:lnTo>
                    <a:pt x="0" y="274"/>
                  </a:lnTo>
                  <a:lnTo>
                    <a:pt x="4" y="101"/>
                  </a:lnTo>
                  <a:lnTo>
                    <a:pt x="57" y="0"/>
                  </a:lnTo>
                  <a:lnTo>
                    <a:pt x="105" y="101"/>
                  </a:lnTo>
                  <a:lnTo>
                    <a:pt x="105" y="12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6" name=""/>
            <p:cNvSpPr/>
            <p:nvPr/>
          </p:nvSpPr>
          <p:spPr>
            <a:xfrm>
              <a:off x="1557360" y="777960"/>
              <a:ext cx="413280" cy="613080"/>
            </a:xfrm>
            <a:custGeom>
              <a:avLst/>
              <a:gdLst/>
              <a:ahLst/>
              <a:rect l="0" t="0" r="r" b="b"/>
              <a:pathLst>
                <a:path w="1148" h="1703">
                  <a:moveTo>
                    <a:pt x="963" y="0"/>
                  </a:moveTo>
                  <a:lnTo>
                    <a:pt x="1077" y="0"/>
                  </a:lnTo>
                  <a:lnTo>
                    <a:pt x="1148" y="83"/>
                  </a:lnTo>
                  <a:lnTo>
                    <a:pt x="1148" y="180"/>
                  </a:lnTo>
                  <a:lnTo>
                    <a:pt x="1051" y="445"/>
                  </a:lnTo>
                  <a:lnTo>
                    <a:pt x="958" y="568"/>
                  </a:lnTo>
                  <a:lnTo>
                    <a:pt x="856" y="590"/>
                  </a:lnTo>
                  <a:lnTo>
                    <a:pt x="834" y="590"/>
                  </a:lnTo>
                  <a:lnTo>
                    <a:pt x="834" y="927"/>
                  </a:lnTo>
                  <a:lnTo>
                    <a:pt x="883" y="1165"/>
                  </a:lnTo>
                  <a:lnTo>
                    <a:pt x="883" y="1363"/>
                  </a:lnTo>
                  <a:lnTo>
                    <a:pt x="702" y="1566"/>
                  </a:lnTo>
                  <a:lnTo>
                    <a:pt x="468" y="1703"/>
                  </a:lnTo>
                  <a:lnTo>
                    <a:pt x="318" y="1703"/>
                  </a:lnTo>
                  <a:lnTo>
                    <a:pt x="238" y="1663"/>
                  </a:lnTo>
                  <a:lnTo>
                    <a:pt x="136" y="1429"/>
                  </a:lnTo>
                  <a:lnTo>
                    <a:pt x="35" y="1345"/>
                  </a:lnTo>
                  <a:lnTo>
                    <a:pt x="0" y="1284"/>
                  </a:lnTo>
                  <a:lnTo>
                    <a:pt x="127" y="1363"/>
                  </a:lnTo>
                  <a:lnTo>
                    <a:pt x="224" y="1456"/>
                  </a:lnTo>
                  <a:lnTo>
                    <a:pt x="411" y="1465"/>
                  </a:lnTo>
                  <a:lnTo>
                    <a:pt x="569" y="1381"/>
                  </a:lnTo>
                  <a:lnTo>
                    <a:pt x="658" y="1284"/>
                  </a:lnTo>
                  <a:lnTo>
                    <a:pt x="755" y="1112"/>
                  </a:lnTo>
                  <a:lnTo>
                    <a:pt x="768" y="904"/>
                  </a:lnTo>
                  <a:lnTo>
                    <a:pt x="803" y="251"/>
                  </a:lnTo>
                  <a:lnTo>
                    <a:pt x="843" y="348"/>
                  </a:lnTo>
                  <a:lnTo>
                    <a:pt x="954" y="229"/>
                  </a:lnTo>
                  <a:lnTo>
                    <a:pt x="1073" y="180"/>
                  </a:lnTo>
                  <a:lnTo>
                    <a:pt x="1108" y="110"/>
                  </a:lnTo>
                  <a:lnTo>
                    <a:pt x="1086" y="39"/>
                  </a:lnTo>
                  <a:lnTo>
                    <a:pt x="1038" y="8"/>
                  </a:lnTo>
                  <a:lnTo>
                    <a:pt x="96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7" name=""/>
            <p:cNvSpPr/>
            <p:nvPr/>
          </p:nvSpPr>
          <p:spPr>
            <a:xfrm>
              <a:off x="919080" y="1306440"/>
              <a:ext cx="333720" cy="563760"/>
            </a:xfrm>
            <a:custGeom>
              <a:avLst/>
              <a:gdLst/>
              <a:ahLst/>
              <a:rect l="0" t="0" r="r" b="b"/>
              <a:pathLst>
                <a:path w="927" h="1566">
                  <a:moveTo>
                    <a:pt x="114" y="0"/>
                  </a:moveTo>
                  <a:lnTo>
                    <a:pt x="224" y="70"/>
                  </a:lnTo>
                  <a:lnTo>
                    <a:pt x="304" y="388"/>
                  </a:lnTo>
                  <a:lnTo>
                    <a:pt x="538" y="463"/>
                  </a:lnTo>
                  <a:lnTo>
                    <a:pt x="605" y="546"/>
                  </a:lnTo>
                  <a:lnTo>
                    <a:pt x="622" y="665"/>
                  </a:lnTo>
                  <a:lnTo>
                    <a:pt x="737" y="643"/>
                  </a:lnTo>
                  <a:lnTo>
                    <a:pt x="887" y="745"/>
                  </a:lnTo>
                  <a:lnTo>
                    <a:pt x="927" y="874"/>
                  </a:lnTo>
                  <a:lnTo>
                    <a:pt x="927" y="1094"/>
                  </a:lnTo>
                  <a:lnTo>
                    <a:pt x="737" y="1429"/>
                  </a:lnTo>
                  <a:lnTo>
                    <a:pt x="675" y="1566"/>
                  </a:lnTo>
                  <a:lnTo>
                    <a:pt x="706" y="1385"/>
                  </a:lnTo>
                  <a:lnTo>
                    <a:pt x="675" y="1319"/>
                  </a:lnTo>
                  <a:lnTo>
                    <a:pt x="561" y="1204"/>
                  </a:lnTo>
                  <a:lnTo>
                    <a:pt x="374" y="1068"/>
                  </a:lnTo>
                  <a:lnTo>
                    <a:pt x="596" y="1143"/>
                  </a:lnTo>
                  <a:lnTo>
                    <a:pt x="728" y="1248"/>
                  </a:lnTo>
                  <a:lnTo>
                    <a:pt x="790" y="1226"/>
                  </a:lnTo>
                  <a:lnTo>
                    <a:pt x="830" y="1173"/>
                  </a:lnTo>
                  <a:lnTo>
                    <a:pt x="887" y="1019"/>
                  </a:lnTo>
                  <a:lnTo>
                    <a:pt x="865" y="860"/>
                  </a:lnTo>
                  <a:lnTo>
                    <a:pt x="799" y="776"/>
                  </a:lnTo>
                  <a:lnTo>
                    <a:pt x="684" y="745"/>
                  </a:lnTo>
                  <a:lnTo>
                    <a:pt x="561" y="745"/>
                  </a:lnTo>
                  <a:lnTo>
                    <a:pt x="516" y="515"/>
                  </a:lnTo>
                  <a:lnTo>
                    <a:pt x="313" y="432"/>
                  </a:lnTo>
                  <a:lnTo>
                    <a:pt x="313" y="502"/>
                  </a:lnTo>
                  <a:lnTo>
                    <a:pt x="224" y="339"/>
                  </a:lnTo>
                  <a:lnTo>
                    <a:pt x="171" y="70"/>
                  </a:lnTo>
                  <a:lnTo>
                    <a:pt x="88" y="44"/>
                  </a:lnTo>
                  <a:lnTo>
                    <a:pt x="44" y="123"/>
                  </a:lnTo>
                  <a:lnTo>
                    <a:pt x="44" y="304"/>
                  </a:lnTo>
                  <a:lnTo>
                    <a:pt x="83" y="502"/>
                  </a:lnTo>
                  <a:lnTo>
                    <a:pt x="194" y="665"/>
                  </a:lnTo>
                  <a:lnTo>
                    <a:pt x="74" y="560"/>
                  </a:lnTo>
                  <a:lnTo>
                    <a:pt x="8" y="388"/>
                  </a:lnTo>
                  <a:lnTo>
                    <a:pt x="0" y="167"/>
                  </a:lnTo>
                  <a:lnTo>
                    <a:pt x="44" y="44"/>
                  </a:lnTo>
                  <a:lnTo>
                    <a:pt x="11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8" name=""/>
            <p:cNvSpPr/>
            <p:nvPr/>
          </p:nvSpPr>
          <p:spPr>
            <a:xfrm>
              <a:off x="762120" y="1555920"/>
              <a:ext cx="219600" cy="449640"/>
            </a:xfrm>
            <a:custGeom>
              <a:avLst/>
              <a:gdLst/>
              <a:ahLst/>
              <a:rect l="0" t="0" r="r" b="b"/>
              <a:pathLst>
                <a:path w="610" h="1249">
                  <a:moveTo>
                    <a:pt x="610" y="0"/>
                  </a:moveTo>
                  <a:lnTo>
                    <a:pt x="487" y="79"/>
                  </a:lnTo>
                  <a:lnTo>
                    <a:pt x="336" y="380"/>
                  </a:lnTo>
                  <a:lnTo>
                    <a:pt x="195" y="583"/>
                  </a:lnTo>
                  <a:lnTo>
                    <a:pt x="13" y="821"/>
                  </a:lnTo>
                  <a:lnTo>
                    <a:pt x="0" y="941"/>
                  </a:lnTo>
                  <a:lnTo>
                    <a:pt x="35" y="1055"/>
                  </a:lnTo>
                  <a:lnTo>
                    <a:pt x="119" y="1055"/>
                  </a:lnTo>
                  <a:lnTo>
                    <a:pt x="234" y="941"/>
                  </a:lnTo>
                  <a:lnTo>
                    <a:pt x="322" y="719"/>
                  </a:lnTo>
                  <a:lnTo>
                    <a:pt x="450" y="583"/>
                  </a:lnTo>
                  <a:lnTo>
                    <a:pt x="450" y="763"/>
                  </a:lnTo>
                  <a:lnTo>
                    <a:pt x="433" y="931"/>
                  </a:lnTo>
                  <a:lnTo>
                    <a:pt x="296" y="1148"/>
                  </a:lnTo>
                  <a:lnTo>
                    <a:pt x="296" y="1219"/>
                  </a:lnTo>
                  <a:lnTo>
                    <a:pt x="433" y="1249"/>
                  </a:lnTo>
                  <a:lnTo>
                    <a:pt x="336" y="1188"/>
                  </a:lnTo>
                  <a:lnTo>
                    <a:pt x="349" y="1148"/>
                  </a:lnTo>
                  <a:lnTo>
                    <a:pt x="446" y="989"/>
                  </a:lnTo>
                  <a:lnTo>
                    <a:pt x="504" y="693"/>
                  </a:lnTo>
                  <a:lnTo>
                    <a:pt x="460" y="525"/>
                  </a:lnTo>
                  <a:lnTo>
                    <a:pt x="358" y="618"/>
                  </a:lnTo>
                  <a:lnTo>
                    <a:pt x="145" y="998"/>
                  </a:lnTo>
                  <a:lnTo>
                    <a:pt x="88" y="1011"/>
                  </a:lnTo>
                  <a:lnTo>
                    <a:pt x="35" y="967"/>
                  </a:lnTo>
                  <a:lnTo>
                    <a:pt x="35" y="852"/>
                  </a:lnTo>
                  <a:lnTo>
                    <a:pt x="119" y="710"/>
                  </a:lnTo>
                  <a:lnTo>
                    <a:pt x="358" y="406"/>
                  </a:lnTo>
                  <a:lnTo>
                    <a:pt x="504" y="114"/>
                  </a:lnTo>
                  <a:lnTo>
                    <a:pt x="61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39" name=""/>
            <p:cNvSpPr/>
            <p:nvPr/>
          </p:nvSpPr>
          <p:spPr>
            <a:xfrm>
              <a:off x="925560" y="1809720"/>
              <a:ext cx="135360" cy="217800"/>
            </a:xfrm>
            <a:custGeom>
              <a:avLst/>
              <a:gdLst/>
              <a:ahLst/>
              <a:rect l="0" t="0" r="r" b="b"/>
              <a:pathLst>
                <a:path w="376" h="605">
                  <a:moveTo>
                    <a:pt x="0" y="534"/>
                  </a:moveTo>
                  <a:lnTo>
                    <a:pt x="124" y="380"/>
                  </a:lnTo>
                  <a:lnTo>
                    <a:pt x="146" y="224"/>
                  </a:lnTo>
                  <a:lnTo>
                    <a:pt x="293" y="0"/>
                  </a:lnTo>
                  <a:lnTo>
                    <a:pt x="315" y="149"/>
                  </a:lnTo>
                  <a:lnTo>
                    <a:pt x="301" y="547"/>
                  </a:lnTo>
                  <a:lnTo>
                    <a:pt x="376" y="605"/>
                  </a:lnTo>
                  <a:lnTo>
                    <a:pt x="265" y="561"/>
                  </a:lnTo>
                  <a:lnTo>
                    <a:pt x="208" y="340"/>
                  </a:lnTo>
                  <a:lnTo>
                    <a:pt x="124" y="446"/>
                  </a:lnTo>
                  <a:lnTo>
                    <a:pt x="0" y="5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0" name=""/>
            <p:cNvSpPr/>
            <p:nvPr/>
          </p:nvSpPr>
          <p:spPr>
            <a:xfrm>
              <a:off x="1090440" y="1820880"/>
              <a:ext cx="90720" cy="195480"/>
            </a:xfrm>
            <a:custGeom>
              <a:avLst/>
              <a:gdLst/>
              <a:ahLst/>
              <a:rect l="0" t="0" r="r" b="b"/>
              <a:pathLst>
                <a:path w="252" h="543">
                  <a:moveTo>
                    <a:pt x="0" y="406"/>
                  </a:moveTo>
                  <a:lnTo>
                    <a:pt x="8" y="202"/>
                  </a:lnTo>
                  <a:lnTo>
                    <a:pt x="61" y="83"/>
                  </a:lnTo>
                  <a:lnTo>
                    <a:pt x="119" y="512"/>
                  </a:lnTo>
                  <a:lnTo>
                    <a:pt x="199" y="512"/>
                  </a:lnTo>
                  <a:lnTo>
                    <a:pt x="234" y="61"/>
                  </a:lnTo>
                  <a:lnTo>
                    <a:pt x="252" y="0"/>
                  </a:lnTo>
                  <a:lnTo>
                    <a:pt x="234" y="353"/>
                  </a:lnTo>
                  <a:lnTo>
                    <a:pt x="199" y="543"/>
                  </a:lnTo>
                  <a:lnTo>
                    <a:pt x="101" y="543"/>
                  </a:lnTo>
                  <a:lnTo>
                    <a:pt x="57" y="167"/>
                  </a:lnTo>
                  <a:lnTo>
                    <a:pt x="30" y="224"/>
                  </a:lnTo>
                  <a:lnTo>
                    <a:pt x="0" y="40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1" name=""/>
            <p:cNvSpPr/>
            <p:nvPr/>
          </p:nvSpPr>
          <p:spPr>
            <a:xfrm>
              <a:off x="2233440" y="1055520"/>
              <a:ext cx="216360" cy="519480"/>
            </a:xfrm>
            <a:custGeom>
              <a:avLst/>
              <a:gdLst/>
              <a:ahLst/>
              <a:rect l="0" t="0" r="r" b="b"/>
              <a:pathLst>
                <a:path w="601" h="1443">
                  <a:moveTo>
                    <a:pt x="155" y="781"/>
                  </a:moveTo>
                  <a:lnTo>
                    <a:pt x="203" y="556"/>
                  </a:lnTo>
                  <a:lnTo>
                    <a:pt x="406" y="494"/>
                  </a:lnTo>
                  <a:lnTo>
                    <a:pt x="601" y="0"/>
                  </a:lnTo>
                  <a:lnTo>
                    <a:pt x="601" y="145"/>
                  </a:lnTo>
                  <a:lnTo>
                    <a:pt x="441" y="530"/>
                  </a:lnTo>
                  <a:lnTo>
                    <a:pt x="225" y="600"/>
                  </a:lnTo>
                  <a:lnTo>
                    <a:pt x="195" y="781"/>
                  </a:lnTo>
                  <a:lnTo>
                    <a:pt x="265" y="781"/>
                  </a:lnTo>
                  <a:lnTo>
                    <a:pt x="79" y="860"/>
                  </a:lnTo>
                  <a:lnTo>
                    <a:pt x="30" y="1015"/>
                  </a:lnTo>
                  <a:lnTo>
                    <a:pt x="44" y="1214"/>
                  </a:lnTo>
                  <a:lnTo>
                    <a:pt x="243" y="1443"/>
                  </a:lnTo>
                  <a:lnTo>
                    <a:pt x="30" y="1245"/>
                  </a:lnTo>
                  <a:lnTo>
                    <a:pt x="0" y="1076"/>
                  </a:lnTo>
                  <a:lnTo>
                    <a:pt x="13" y="909"/>
                  </a:lnTo>
                  <a:lnTo>
                    <a:pt x="88" y="790"/>
                  </a:lnTo>
                  <a:lnTo>
                    <a:pt x="155" y="78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2" name=""/>
            <p:cNvSpPr/>
            <p:nvPr/>
          </p:nvSpPr>
          <p:spPr>
            <a:xfrm>
              <a:off x="2379600" y="1055520"/>
              <a:ext cx="362160" cy="505080"/>
            </a:xfrm>
            <a:custGeom>
              <a:avLst/>
              <a:gdLst/>
              <a:ahLst/>
              <a:rect l="0" t="0" r="r" b="b"/>
              <a:pathLst>
                <a:path w="1006" h="1403">
                  <a:moveTo>
                    <a:pt x="273" y="0"/>
                  </a:moveTo>
                  <a:lnTo>
                    <a:pt x="339" y="44"/>
                  </a:lnTo>
                  <a:lnTo>
                    <a:pt x="357" y="163"/>
                  </a:lnTo>
                  <a:lnTo>
                    <a:pt x="357" y="277"/>
                  </a:lnTo>
                  <a:lnTo>
                    <a:pt x="242" y="476"/>
                  </a:lnTo>
                  <a:lnTo>
                    <a:pt x="264" y="630"/>
                  </a:lnTo>
                  <a:lnTo>
                    <a:pt x="605" y="794"/>
                  </a:lnTo>
                  <a:lnTo>
                    <a:pt x="1002" y="1231"/>
                  </a:lnTo>
                  <a:lnTo>
                    <a:pt x="1006" y="1350"/>
                  </a:lnTo>
                  <a:lnTo>
                    <a:pt x="984" y="1403"/>
                  </a:lnTo>
                  <a:lnTo>
                    <a:pt x="838" y="1403"/>
                  </a:lnTo>
                  <a:lnTo>
                    <a:pt x="706" y="1323"/>
                  </a:lnTo>
                  <a:lnTo>
                    <a:pt x="596" y="1173"/>
                  </a:lnTo>
                  <a:lnTo>
                    <a:pt x="538" y="1090"/>
                  </a:lnTo>
                  <a:lnTo>
                    <a:pt x="463" y="1076"/>
                  </a:lnTo>
                  <a:lnTo>
                    <a:pt x="552" y="1076"/>
                  </a:lnTo>
                  <a:lnTo>
                    <a:pt x="715" y="1301"/>
                  </a:lnTo>
                  <a:lnTo>
                    <a:pt x="927" y="1368"/>
                  </a:lnTo>
                  <a:lnTo>
                    <a:pt x="975" y="1301"/>
                  </a:lnTo>
                  <a:lnTo>
                    <a:pt x="944" y="1204"/>
                  </a:lnTo>
                  <a:lnTo>
                    <a:pt x="583" y="882"/>
                  </a:lnTo>
                  <a:lnTo>
                    <a:pt x="534" y="794"/>
                  </a:lnTo>
                  <a:lnTo>
                    <a:pt x="242" y="710"/>
                  </a:lnTo>
                  <a:lnTo>
                    <a:pt x="198" y="794"/>
                  </a:lnTo>
                  <a:lnTo>
                    <a:pt x="0" y="922"/>
                  </a:lnTo>
                  <a:lnTo>
                    <a:pt x="185" y="768"/>
                  </a:lnTo>
                  <a:lnTo>
                    <a:pt x="198" y="670"/>
                  </a:lnTo>
                  <a:lnTo>
                    <a:pt x="198" y="445"/>
                  </a:lnTo>
                  <a:lnTo>
                    <a:pt x="321" y="277"/>
                  </a:lnTo>
                  <a:lnTo>
                    <a:pt x="321" y="57"/>
                  </a:lnTo>
                  <a:lnTo>
                    <a:pt x="27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3" name=""/>
            <p:cNvSpPr/>
            <p:nvPr/>
          </p:nvSpPr>
          <p:spPr>
            <a:xfrm>
              <a:off x="2313000" y="1452600"/>
              <a:ext cx="308160" cy="298800"/>
            </a:xfrm>
            <a:custGeom>
              <a:avLst/>
              <a:gdLst/>
              <a:ahLst/>
              <a:rect l="0" t="0" r="r" b="b"/>
              <a:pathLst>
                <a:path w="856" h="830">
                  <a:moveTo>
                    <a:pt x="640" y="0"/>
                  </a:moveTo>
                  <a:lnTo>
                    <a:pt x="622" y="70"/>
                  </a:lnTo>
                  <a:lnTo>
                    <a:pt x="746" y="348"/>
                  </a:lnTo>
                  <a:lnTo>
                    <a:pt x="816" y="631"/>
                  </a:lnTo>
                  <a:lnTo>
                    <a:pt x="737" y="631"/>
                  </a:lnTo>
                  <a:lnTo>
                    <a:pt x="609" y="503"/>
                  </a:lnTo>
                  <a:lnTo>
                    <a:pt x="494" y="242"/>
                  </a:lnTo>
                  <a:lnTo>
                    <a:pt x="401" y="198"/>
                  </a:lnTo>
                  <a:lnTo>
                    <a:pt x="414" y="348"/>
                  </a:lnTo>
                  <a:lnTo>
                    <a:pt x="499" y="441"/>
                  </a:lnTo>
                  <a:lnTo>
                    <a:pt x="499" y="644"/>
                  </a:lnTo>
                  <a:lnTo>
                    <a:pt x="441" y="790"/>
                  </a:lnTo>
                  <a:lnTo>
                    <a:pt x="361" y="728"/>
                  </a:lnTo>
                  <a:lnTo>
                    <a:pt x="264" y="503"/>
                  </a:lnTo>
                  <a:lnTo>
                    <a:pt x="238" y="348"/>
                  </a:lnTo>
                  <a:lnTo>
                    <a:pt x="189" y="295"/>
                  </a:lnTo>
                  <a:lnTo>
                    <a:pt x="167" y="706"/>
                  </a:lnTo>
                  <a:lnTo>
                    <a:pt x="88" y="759"/>
                  </a:lnTo>
                  <a:lnTo>
                    <a:pt x="22" y="706"/>
                  </a:lnTo>
                  <a:lnTo>
                    <a:pt x="8" y="357"/>
                  </a:lnTo>
                  <a:lnTo>
                    <a:pt x="0" y="693"/>
                  </a:lnTo>
                  <a:lnTo>
                    <a:pt x="52" y="821"/>
                  </a:lnTo>
                  <a:lnTo>
                    <a:pt x="167" y="821"/>
                  </a:lnTo>
                  <a:lnTo>
                    <a:pt x="207" y="719"/>
                  </a:lnTo>
                  <a:lnTo>
                    <a:pt x="229" y="405"/>
                  </a:lnTo>
                  <a:lnTo>
                    <a:pt x="246" y="530"/>
                  </a:lnTo>
                  <a:lnTo>
                    <a:pt x="348" y="794"/>
                  </a:lnTo>
                  <a:lnTo>
                    <a:pt x="455" y="830"/>
                  </a:lnTo>
                  <a:lnTo>
                    <a:pt x="530" y="719"/>
                  </a:lnTo>
                  <a:lnTo>
                    <a:pt x="530" y="464"/>
                  </a:lnTo>
                  <a:lnTo>
                    <a:pt x="737" y="675"/>
                  </a:lnTo>
                  <a:lnTo>
                    <a:pt x="847" y="675"/>
                  </a:lnTo>
                  <a:lnTo>
                    <a:pt x="856" y="530"/>
                  </a:lnTo>
                  <a:lnTo>
                    <a:pt x="777" y="273"/>
                  </a:lnTo>
                  <a:lnTo>
                    <a:pt x="640" y="57"/>
                  </a:lnTo>
                  <a:lnTo>
                    <a:pt x="64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4" name=""/>
            <p:cNvSpPr/>
            <p:nvPr/>
          </p:nvSpPr>
          <p:spPr>
            <a:xfrm>
              <a:off x="1065240" y="1143000"/>
              <a:ext cx="1373400" cy="1217880"/>
            </a:xfrm>
            <a:custGeom>
              <a:avLst/>
              <a:gdLst/>
              <a:ahLst/>
              <a:rect l="0" t="0" r="r" b="b"/>
              <a:pathLst>
                <a:path w="3815" h="3383">
                  <a:moveTo>
                    <a:pt x="1371" y="286"/>
                  </a:moveTo>
                  <a:lnTo>
                    <a:pt x="1305" y="295"/>
                  </a:lnTo>
                  <a:lnTo>
                    <a:pt x="1195" y="467"/>
                  </a:lnTo>
                  <a:lnTo>
                    <a:pt x="1155" y="343"/>
                  </a:lnTo>
                  <a:lnTo>
                    <a:pt x="1031" y="273"/>
                  </a:lnTo>
                  <a:lnTo>
                    <a:pt x="943" y="321"/>
                  </a:lnTo>
                  <a:lnTo>
                    <a:pt x="908" y="546"/>
                  </a:lnTo>
                  <a:lnTo>
                    <a:pt x="564" y="820"/>
                  </a:lnTo>
                  <a:lnTo>
                    <a:pt x="586" y="930"/>
                  </a:lnTo>
                  <a:lnTo>
                    <a:pt x="502" y="1027"/>
                  </a:lnTo>
                  <a:lnTo>
                    <a:pt x="502" y="1120"/>
                  </a:lnTo>
                  <a:lnTo>
                    <a:pt x="599" y="1371"/>
                  </a:lnTo>
                  <a:lnTo>
                    <a:pt x="608" y="1684"/>
                  </a:lnTo>
                  <a:lnTo>
                    <a:pt x="546" y="1980"/>
                  </a:lnTo>
                  <a:lnTo>
                    <a:pt x="304" y="2157"/>
                  </a:lnTo>
                  <a:lnTo>
                    <a:pt x="264" y="2399"/>
                  </a:lnTo>
                  <a:lnTo>
                    <a:pt x="194" y="2399"/>
                  </a:lnTo>
                  <a:lnTo>
                    <a:pt x="154" y="2201"/>
                  </a:lnTo>
                  <a:lnTo>
                    <a:pt x="79" y="2201"/>
                  </a:lnTo>
                  <a:lnTo>
                    <a:pt x="44" y="2417"/>
                  </a:lnTo>
                  <a:lnTo>
                    <a:pt x="0" y="2474"/>
                  </a:lnTo>
                  <a:lnTo>
                    <a:pt x="163" y="2757"/>
                  </a:lnTo>
                  <a:lnTo>
                    <a:pt x="295" y="2779"/>
                  </a:lnTo>
                  <a:lnTo>
                    <a:pt x="502" y="2990"/>
                  </a:lnTo>
                  <a:lnTo>
                    <a:pt x="696" y="3021"/>
                  </a:lnTo>
                  <a:lnTo>
                    <a:pt x="806" y="2902"/>
                  </a:lnTo>
                  <a:lnTo>
                    <a:pt x="1075" y="2483"/>
                  </a:lnTo>
                  <a:lnTo>
                    <a:pt x="1098" y="3043"/>
                  </a:lnTo>
                  <a:lnTo>
                    <a:pt x="1075" y="3383"/>
                  </a:lnTo>
                  <a:lnTo>
                    <a:pt x="3277" y="3383"/>
                  </a:lnTo>
                  <a:lnTo>
                    <a:pt x="3118" y="3021"/>
                  </a:lnTo>
                  <a:lnTo>
                    <a:pt x="3039" y="2708"/>
                  </a:lnTo>
                  <a:lnTo>
                    <a:pt x="3017" y="2241"/>
                  </a:lnTo>
                  <a:lnTo>
                    <a:pt x="3145" y="2342"/>
                  </a:lnTo>
                  <a:lnTo>
                    <a:pt x="3277" y="2342"/>
                  </a:lnTo>
                  <a:lnTo>
                    <a:pt x="3462" y="2219"/>
                  </a:lnTo>
                  <a:lnTo>
                    <a:pt x="3581" y="2201"/>
                  </a:lnTo>
                  <a:lnTo>
                    <a:pt x="3656" y="2077"/>
                  </a:lnTo>
                  <a:lnTo>
                    <a:pt x="3705" y="1760"/>
                  </a:lnTo>
                  <a:lnTo>
                    <a:pt x="3815" y="1627"/>
                  </a:lnTo>
                  <a:lnTo>
                    <a:pt x="3753" y="1530"/>
                  </a:lnTo>
                  <a:lnTo>
                    <a:pt x="3678" y="1530"/>
                  </a:lnTo>
                  <a:lnTo>
                    <a:pt x="3612" y="1596"/>
                  </a:lnTo>
                  <a:lnTo>
                    <a:pt x="3550" y="1618"/>
                  </a:lnTo>
                  <a:lnTo>
                    <a:pt x="3471" y="1530"/>
                  </a:lnTo>
                  <a:lnTo>
                    <a:pt x="3374" y="1521"/>
                  </a:lnTo>
                  <a:lnTo>
                    <a:pt x="3206" y="1402"/>
                  </a:lnTo>
                  <a:lnTo>
                    <a:pt x="3096" y="1270"/>
                  </a:lnTo>
                  <a:lnTo>
                    <a:pt x="3070" y="1120"/>
                  </a:lnTo>
                  <a:lnTo>
                    <a:pt x="3096" y="965"/>
                  </a:lnTo>
                  <a:lnTo>
                    <a:pt x="3167" y="842"/>
                  </a:lnTo>
                  <a:lnTo>
                    <a:pt x="3259" y="732"/>
                  </a:lnTo>
                  <a:lnTo>
                    <a:pt x="3250" y="542"/>
                  </a:lnTo>
                  <a:lnTo>
                    <a:pt x="3250" y="401"/>
                  </a:lnTo>
                  <a:lnTo>
                    <a:pt x="3206" y="295"/>
                  </a:lnTo>
                  <a:lnTo>
                    <a:pt x="3070" y="251"/>
                  </a:lnTo>
                  <a:lnTo>
                    <a:pt x="3030" y="229"/>
                  </a:lnTo>
                  <a:lnTo>
                    <a:pt x="2937" y="57"/>
                  </a:lnTo>
                  <a:lnTo>
                    <a:pt x="2862" y="8"/>
                  </a:lnTo>
                  <a:lnTo>
                    <a:pt x="2787" y="0"/>
                  </a:lnTo>
                  <a:lnTo>
                    <a:pt x="2717" y="35"/>
                  </a:lnTo>
                  <a:lnTo>
                    <a:pt x="2664" y="119"/>
                  </a:lnTo>
                  <a:lnTo>
                    <a:pt x="2576" y="171"/>
                  </a:lnTo>
                  <a:lnTo>
                    <a:pt x="2483" y="189"/>
                  </a:lnTo>
                  <a:lnTo>
                    <a:pt x="2377" y="189"/>
                  </a:lnTo>
                  <a:lnTo>
                    <a:pt x="2395" y="357"/>
                  </a:lnTo>
                  <a:lnTo>
                    <a:pt x="2395" y="560"/>
                  </a:lnTo>
                  <a:lnTo>
                    <a:pt x="2377" y="705"/>
                  </a:lnTo>
                  <a:lnTo>
                    <a:pt x="2285" y="873"/>
                  </a:lnTo>
                  <a:lnTo>
                    <a:pt x="2166" y="1124"/>
                  </a:lnTo>
                  <a:lnTo>
                    <a:pt x="2069" y="1433"/>
                  </a:lnTo>
                  <a:lnTo>
                    <a:pt x="2060" y="1618"/>
                  </a:lnTo>
                  <a:lnTo>
                    <a:pt x="2020" y="1769"/>
                  </a:lnTo>
                  <a:lnTo>
                    <a:pt x="1958" y="1923"/>
                  </a:lnTo>
                  <a:lnTo>
                    <a:pt x="1936" y="2166"/>
                  </a:lnTo>
                  <a:lnTo>
                    <a:pt x="1950" y="2377"/>
                  </a:lnTo>
                  <a:lnTo>
                    <a:pt x="2020" y="2615"/>
                  </a:lnTo>
                  <a:lnTo>
                    <a:pt x="2060" y="2708"/>
                  </a:lnTo>
                  <a:lnTo>
                    <a:pt x="1936" y="2792"/>
                  </a:lnTo>
                  <a:lnTo>
                    <a:pt x="1781" y="2845"/>
                  </a:lnTo>
                  <a:lnTo>
                    <a:pt x="1609" y="2862"/>
                  </a:lnTo>
                  <a:lnTo>
                    <a:pt x="1499" y="2862"/>
                  </a:lnTo>
                  <a:lnTo>
                    <a:pt x="1437" y="2832"/>
                  </a:lnTo>
                  <a:lnTo>
                    <a:pt x="1437" y="2629"/>
                  </a:lnTo>
                  <a:lnTo>
                    <a:pt x="1437" y="2333"/>
                  </a:lnTo>
                  <a:lnTo>
                    <a:pt x="1397" y="2033"/>
                  </a:lnTo>
                  <a:lnTo>
                    <a:pt x="1331" y="1769"/>
                  </a:lnTo>
                  <a:lnTo>
                    <a:pt x="1296" y="1556"/>
                  </a:lnTo>
                  <a:lnTo>
                    <a:pt x="1283" y="1261"/>
                  </a:lnTo>
                  <a:lnTo>
                    <a:pt x="1331" y="1001"/>
                  </a:lnTo>
                  <a:lnTo>
                    <a:pt x="1397" y="789"/>
                  </a:lnTo>
                  <a:lnTo>
                    <a:pt x="1406" y="665"/>
                  </a:lnTo>
                  <a:lnTo>
                    <a:pt x="1371" y="485"/>
                  </a:lnTo>
                  <a:lnTo>
                    <a:pt x="1371" y="343"/>
                  </a:lnTo>
                  <a:lnTo>
                    <a:pt x="1397" y="295"/>
                  </a:lnTo>
                  <a:lnTo>
                    <a:pt x="1371" y="28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5" name=""/>
            <p:cNvSpPr/>
            <p:nvPr/>
          </p:nvSpPr>
          <p:spPr>
            <a:xfrm>
              <a:off x="1600200" y="1386000"/>
              <a:ext cx="174960" cy="790920"/>
            </a:xfrm>
            <a:custGeom>
              <a:avLst/>
              <a:gdLst/>
              <a:ahLst/>
              <a:rect l="0" t="0" r="r" b="b"/>
              <a:pathLst>
                <a:path w="486" h="2197">
                  <a:moveTo>
                    <a:pt x="194" y="26"/>
                  </a:moveTo>
                  <a:lnTo>
                    <a:pt x="66" y="97"/>
                  </a:lnTo>
                  <a:lnTo>
                    <a:pt x="74" y="308"/>
                  </a:lnTo>
                  <a:lnTo>
                    <a:pt x="167" y="366"/>
                  </a:lnTo>
                  <a:lnTo>
                    <a:pt x="61" y="599"/>
                  </a:lnTo>
                  <a:lnTo>
                    <a:pt x="0" y="851"/>
                  </a:lnTo>
                  <a:lnTo>
                    <a:pt x="0" y="1093"/>
                  </a:lnTo>
                  <a:lnTo>
                    <a:pt x="61" y="1315"/>
                  </a:lnTo>
                  <a:lnTo>
                    <a:pt x="101" y="1588"/>
                  </a:lnTo>
                  <a:lnTo>
                    <a:pt x="101" y="1742"/>
                  </a:lnTo>
                  <a:lnTo>
                    <a:pt x="61" y="1928"/>
                  </a:lnTo>
                  <a:lnTo>
                    <a:pt x="256" y="2197"/>
                  </a:lnTo>
                  <a:lnTo>
                    <a:pt x="331" y="2152"/>
                  </a:lnTo>
                  <a:lnTo>
                    <a:pt x="389" y="1967"/>
                  </a:lnTo>
                  <a:lnTo>
                    <a:pt x="481" y="1725"/>
                  </a:lnTo>
                  <a:lnTo>
                    <a:pt x="486" y="1597"/>
                  </a:lnTo>
                  <a:lnTo>
                    <a:pt x="411" y="1359"/>
                  </a:lnTo>
                  <a:lnTo>
                    <a:pt x="322" y="1125"/>
                  </a:lnTo>
                  <a:lnTo>
                    <a:pt x="287" y="956"/>
                  </a:lnTo>
                  <a:lnTo>
                    <a:pt x="287" y="793"/>
                  </a:lnTo>
                  <a:lnTo>
                    <a:pt x="322" y="652"/>
                  </a:lnTo>
                  <a:lnTo>
                    <a:pt x="389" y="480"/>
                  </a:lnTo>
                  <a:lnTo>
                    <a:pt x="389" y="410"/>
                  </a:lnTo>
                  <a:lnTo>
                    <a:pt x="353" y="343"/>
                  </a:lnTo>
                  <a:lnTo>
                    <a:pt x="446" y="246"/>
                  </a:lnTo>
                  <a:lnTo>
                    <a:pt x="446" y="167"/>
                  </a:lnTo>
                  <a:lnTo>
                    <a:pt x="322" y="0"/>
                  </a:lnTo>
                  <a:lnTo>
                    <a:pt x="419" y="167"/>
                  </a:lnTo>
                  <a:lnTo>
                    <a:pt x="419" y="238"/>
                  </a:lnTo>
                  <a:lnTo>
                    <a:pt x="331" y="308"/>
                  </a:lnTo>
                  <a:lnTo>
                    <a:pt x="367" y="410"/>
                  </a:lnTo>
                  <a:lnTo>
                    <a:pt x="353" y="480"/>
                  </a:lnTo>
                  <a:lnTo>
                    <a:pt x="265" y="679"/>
                  </a:lnTo>
                  <a:lnTo>
                    <a:pt x="256" y="881"/>
                  </a:lnTo>
                  <a:lnTo>
                    <a:pt x="274" y="1067"/>
                  </a:lnTo>
                  <a:lnTo>
                    <a:pt x="331" y="1328"/>
                  </a:lnTo>
                  <a:lnTo>
                    <a:pt x="411" y="1544"/>
                  </a:lnTo>
                  <a:lnTo>
                    <a:pt x="411" y="1716"/>
                  </a:lnTo>
                  <a:lnTo>
                    <a:pt x="367" y="1928"/>
                  </a:lnTo>
                  <a:lnTo>
                    <a:pt x="274" y="2152"/>
                  </a:lnTo>
                  <a:lnTo>
                    <a:pt x="158" y="2029"/>
                  </a:lnTo>
                  <a:lnTo>
                    <a:pt x="114" y="1928"/>
                  </a:lnTo>
                  <a:lnTo>
                    <a:pt x="123" y="1716"/>
                  </a:lnTo>
                  <a:lnTo>
                    <a:pt x="114" y="1495"/>
                  </a:lnTo>
                  <a:lnTo>
                    <a:pt x="61" y="1204"/>
                  </a:lnTo>
                  <a:lnTo>
                    <a:pt x="30" y="1005"/>
                  </a:lnTo>
                  <a:lnTo>
                    <a:pt x="61" y="784"/>
                  </a:lnTo>
                  <a:lnTo>
                    <a:pt x="101" y="568"/>
                  </a:lnTo>
                  <a:lnTo>
                    <a:pt x="202" y="352"/>
                  </a:lnTo>
                  <a:lnTo>
                    <a:pt x="114" y="264"/>
                  </a:lnTo>
                  <a:lnTo>
                    <a:pt x="101" y="110"/>
                  </a:lnTo>
                  <a:lnTo>
                    <a:pt x="194"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6" name=""/>
            <p:cNvSpPr/>
            <p:nvPr/>
          </p:nvSpPr>
          <p:spPr>
            <a:xfrm>
              <a:off x="2093760" y="461880"/>
              <a:ext cx="275040" cy="384480"/>
            </a:xfrm>
            <a:custGeom>
              <a:avLst/>
              <a:gdLst/>
              <a:ahLst/>
              <a:rect l="0" t="0" r="r" b="b"/>
              <a:pathLst>
                <a:path w="764" h="1068">
                  <a:moveTo>
                    <a:pt x="127" y="273"/>
                  </a:moveTo>
                  <a:lnTo>
                    <a:pt x="239" y="246"/>
                  </a:lnTo>
                  <a:lnTo>
                    <a:pt x="349" y="260"/>
                  </a:lnTo>
                  <a:lnTo>
                    <a:pt x="437" y="304"/>
                  </a:lnTo>
                  <a:lnTo>
                    <a:pt x="486" y="361"/>
                  </a:lnTo>
                  <a:lnTo>
                    <a:pt x="512" y="414"/>
                  </a:lnTo>
                  <a:lnTo>
                    <a:pt x="512" y="471"/>
                  </a:lnTo>
                  <a:lnTo>
                    <a:pt x="486" y="502"/>
                  </a:lnTo>
                  <a:lnTo>
                    <a:pt x="433" y="529"/>
                  </a:lnTo>
                  <a:lnTo>
                    <a:pt x="375" y="533"/>
                  </a:lnTo>
                  <a:lnTo>
                    <a:pt x="309" y="520"/>
                  </a:lnTo>
                  <a:lnTo>
                    <a:pt x="239" y="476"/>
                  </a:lnTo>
                  <a:lnTo>
                    <a:pt x="195" y="432"/>
                  </a:lnTo>
                  <a:lnTo>
                    <a:pt x="171" y="569"/>
                  </a:lnTo>
                  <a:lnTo>
                    <a:pt x="127" y="666"/>
                  </a:lnTo>
                  <a:lnTo>
                    <a:pt x="0" y="891"/>
                  </a:lnTo>
                  <a:lnTo>
                    <a:pt x="185" y="1068"/>
                  </a:lnTo>
                  <a:lnTo>
                    <a:pt x="322" y="781"/>
                  </a:lnTo>
                  <a:lnTo>
                    <a:pt x="486" y="799"/>
                  </a:lnTo>
                  <a:lnTo>
                    <a:pt x="584" y="781"/>
                  </a:lnTo>
                  <a:lnTo>
                    <a:pt x="681" y="715"/>
                  </a:lnTo>
                  <a:lnTo>
                    <a:pt x="734" y="636"/>
                  </a:lnTo>
                  <a:lnTo>
                    <a:pt x="764" y="524"/>
                  </a:lnTo>
                  <a:lnTo>
                    <a:pt x="764" y="405"/>
                  </a:lnTo>
                  <a:lnTo>
                    <a:pt x="734" y="286"/>
                  </a:lnTo>
                  <a:lnTo>
                    <a:pt x="676" y="163"/>
                  </a:lnTo>
                  <a:lnTo>
                    <a:pt x="597" y="74"/>
                  </a:lnTo>
                  <a:lnTo>
                    <a:pt x="503" y="26"/>
                  </a:lnTo>
                  <a:lnTo>
                    <a:pt x="393" y="0"/>
                  </a:lnTo>
                  <a:lnTo>
                    <a:pt x="256" y="0"/>
                  </a:lnTo>
                  <a:lnTo>
                    <a:pt x="105" y="35"/>
                  </a:lnTo>
                  <a:lnTo>
                    <a:pt x="127" y="273"/>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a:off x="2044800" y="836640"/>
              <a:ext cx="101880" cy="76680"/>
            </a:xfrm>
            <a:custGeom>
              <a:avLst/>
              <a:gdLst/>
              <a:ahLst/>
              <a:rect l="0" t="0" r="r" b="b"/>
              <a:pathLst>
                <a:path w="283" h="213">
                  <a:moveTo>
                    <a:pt x="110" y="0"/>
                  </a:moveTo>
                  <a:lnTo>
                    <a:pt x="35" y="0"/>
                  </a:lnTo>
                  <a:lnTo>
                    <a:pt x="0" y="30"/>
                  </a:lnTo>
                  <a:lnTo>
                    <a:pt x="0" y="106"/>
                  </a:lnTo>
                  <a:lnTo>
                    <a:pt x="61" y="178"/>
                  </a:lnTo>
                  <a:lnTo>
                    <a:pt x="172" y="213"/>
                  </a:lnTo>
                  <a:lnTo>
                    <a:pt x="256" y="209"/>
                  </a:lnTo>
                  <a:lnTo>
                    <a:pt x="283" y="155"/>
                  </a:lnTo>
                  <a:lnTo>
                    <a:pt x="265" y="115"/>
                  </a:lnTo>
                  <a:lnTo>
                    <a:pt x="225" y="52"/>
                  </a:lnTo>
                  <a:lnTo>
                    <a:pt x="159" y="8"/>
                  </a:lnTo>
                  <a:lnTo>
                    <a:pt x="110" y="0"/>
                  </a:lnTo>
                  <a:close/>
                </a:path>
              </a:pathLst>
            </a:custGeom>
            <a:solidFill>
              <a:srgbClr val="fc0128"/>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8" name=""/>
          <p:cNvSpPr txBox="1"/>
          <p:nvPr/>
        </p:nvSpPr>
        <p:spPr>
          <a:xfrm>
            <a:off x="1447920" y="2362320"/>
            <a:ext cx="7162920" cy="365760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3a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200" spc="-1" strike="noStrike">
                <a:solidFill>
                  <a:srgbClr val="fcffd8"/>
                </a:solidFill>
                <a:latin typeface="Arial"/>
                <a:ea typeface="Arial"/>
              </a:rPr>
              <a:t>Calculate the pricing of inventory, using the cost basis under the periodic inventory system, according to the specific identification method.</a:t>
            </a:r>
            <a:endParaRPr b="0" lang="en-US" sz="3200" spc="-1" strike="noStrike">
              <a:solidFill>
                <a:srgbClr val="ffffff"/>
              </a:solidFill>
              <a:latin typeface="Arial"/>
            </a:endParaRPr>
          </a:p>
        </p:txBody>
      </p:sp>
      <p:sp>
        <p:nvSpPr>
          <p:cNvPr id="549" name=""/>
          <p:cNvSpPr txBox="1"/>
          <p:nvPr/>
        </p:nvSpPr>
        <p:spPr>
          <a:xfrm>
            <a:off x="838080" y="609480"/>
            <a:ext cx="7924680" cy="1600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pecific Identification Method</a:t>
            </a:r>
            <a:endParaRPr b="0" lang="en-US" sz="4400" spc="-1" strike="noStrike">
              <a:solidFill>
                <a:srgbClr val="ffffff"/>
              </a:solidFill>
              <a:latin typeface="Arial"/>
            </a:endParaRPr>
          </a:p>
        </p:txBody>
      </p:sp>
      <p:pic>
        <p:nvPicPr>
          <p:cNvPr id="550" name="" descr=""/>
          <p:cNvPicPr/>
          <p:nvPr/>
        </p:nvPicPr>
        <p:blipFill>
          <a:blip r:embed="rId1"/>
          <a:stretch/>
        </p:blipFill>
        <p:spPr>
          <a:xfrm>
            <a:off x="0" y="0"/>
            <a:ext cx="863640" cy="7035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51" name=""/>
          <p:cNvSpPr txBox="1"/>
          <p:nvPr/>
        </p:nvSpPr>
        <p:spPr>
          <a:xfrm>
            <a:off x="914400" y="76320"/>
            <a:ext cx="7924680" cy="1523880"/>
          </a:xfrm>
          <a:prstGeom prst="rect">
            <a:avLst/>
          </a:prstGeom>
          <a:noFill/>
          <a:ln w="0">
            <a:noFill/>
          </a:ln>
        </p:spPr>
        <p:txBody>
          <a:bodyPr lIns="0" rIns="0" tIns="0" bIns="0" anchor="t">
            <a:noAutofit/>
          </a:bodyPr>
          <a:p>
            <a:pPr algn="ctr">
              <a:lnSpc>
                <a:spcPct val="100000"/>
              </a:lnSpc>
            </a:pPr>
            <a:r>
              <a:rPr b="1" lang="en-US" sz="4000" spc="-1" strike="noStrike">
                <a:solidFill>
                  <a:srgbClr val="ffcc66"/>
                </a:solidFill>
                <a:latin typeface="Arial"/>
                <a:ea typeface="Arial"/>
              </a:rPr>
              <a:t>Specific Identification Method for Pricing Ending Inventory</a:t>
            </a:r>
            <a:endParaRPr b="0" lang="en-US" sz="4000" spc="-1" strike="noStrike">
              <a:solidFill>
                <a:srgbClr val="ffffff"/>
              </a:solidFill>
              <a:latin typeface="Arial"/>
            </a:endParaRPr>
          </a:p>
        </p:txBody>
      </p:sp>
      <p:sp>
        <p:nvSpPr>
          <p:cNvPr id="552" name=""/>
          <p:cNvSpPr txBox="1"/>
          <p:nvPr/>
        </p:nvSpPr>
        <p:spPr>
          <a:xfrm>
            <a:off x="914400" y="1523880"/>
            <a:ext cx="7543800" cy="4419720"/>
          </a:xfrm>
          <a:prstGeom prst="rect">
            <a:avLst/>
          </a:prstGeom>
          <a:noFill/>
          <a:ln w="0">
            <a:noFill/>
          </a:ln>
        </p:spPr>
        <p:txBody>
          <a:bodyPr lIns="0" rIns="0" tIns="0" bIns="0" anchor="t">
            <a:noAutofit/>
          </a:bodyPr>
          <a:p>
            <a:pPr marL="343080" indent="-343080">
              <a:lnSpc>
                <a:spcPct val="100000"/>
              </a:lnSpc>
              <a:spcBef>
                <a:spcPts val="479"/>
              </a:spcBef>
            </a:pPr>
            <a:r>
              <a:rPr b="1" lang="en-US" sz="2800" spc="-1" strike="noStrike">
                <a:solidFill>
                  <a:srgbClr val="fcffd8"/>
                </a:solidFill>
                <a:latin typeface="Arial"/>
                <a:ea typeface="Arial"/>
              </a:rPr>
              <a:t>                 </a:t>
            </a:r>
            <a:r>
              <a:rPr b="1" lang="en-US" sz="2800" spc="-1" strike="noStrike">
                <a:solidFill>
                  <a:srgbClr val="ffff00"/>
                </a:solidFill>
                <a:latin typeface="Arial"/>
                <a:ea typeface="Arial"/>
              </a:rPr>
              <a:t>Inventory Data - June 30</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50 units @ $1.00           $ 50</a:t>
            </a: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ffd8"/>
                </a:solidFill>
                <a:latin typeface="Arial"/>
                <a:ea typeface="Arial"/>
              </a:rPr>
              <a:t>100 units @ $1.20            120</a:t>
            </a:r>
            <a:endParaRPr b="0" lang="en-US" sz="2800" spc="-1" strike="noStrike">
              <a:solidFill>
                <a:srgbClr val="ffffff"/>
              </a:solidFill>
              <a:latin typeface="Arial"/>
            </a:endParaRPr>
          </a:p>
          <a:p>
            <a:pPr marL="343080" indent="-343080">
              <a:lnSpc>
                <a:spcPct val="100000"/>
              </a:lnSpc>
              <a:spcBef>
                <a:spcPts val="479"/>
              </a:spcBef>
            </a:pPr>
            <a:r>
              <a:rPr b="1" lang="en-US" sz="2800" spc="-1" strike="noStrike" u="sng">
                <a:solidFill>
                  <a:srgbClr val="fcffd8"/>
                </a:solidFill>
                <a:uFillTx/>
                <a:latin typeface="Arial"/>
                <a:ea typeface="Arial"/>
              </a:rPr>
              <a:t> </a:t>
            </a:r>
            <a:r>
              <a:rPr b="1" lang="en-US" sz="2800" spc="-1" strike="noStrike" u="sng">
                <a:solidFill>
                  <a:srgbClr val="fcffd8"/>
                </a:solidFill>
                <a:uFillTx/>
                <a:latin typeface="Arial"/>
                <a:ea typeface="Arial"/>
              </a:rPr>
              <a:t>70</a:t>
            </a:r>
            <a:r>
              <a:rPr b="1" lang="en-US" sz="2800" spc="-1" strike="noStrike">
                <a:solidFill>
                  <a:srgbClr val="fcffd8"/>
                </a:solidFill>
                <a:latin typeface="Arial"/>
                <a:ea typeface="Arial"/>
              </a:rPr>
              <a:t> units @ $1.40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u="sng">
                <a:solidFill>
                  <a:srgbClr val="fcffd8"/>
                </a:solidFill>
                <a:uFillTx/>
                <a:latin typeface="Arial"/>
                <a:ea typeface="Arial"/>
              </a:rPr>
              <a:t>   98 </a:t>
            </a: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ffd8"/>
                </a:solidFill>
                <a:latin typeface="Arial"/>
                <a:ea typeface="Arial"/>
              </a:rPr>
              <a:t>220 units @ a cost of</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268</a:t>
            </a:r>
            <a:endParaRPr b="0" lang="en-US" sz="2800" spc="-1" strike="noStrike">
              <a:solidFill>
                <a:srgbClr val="ffffff"/>
              </a:solidFill>
              <a:latin typeface="Arial"/>
            </a:endParaRPr>
          </a:p>
          <a:p>
            <a:pPr marL="343080" indent="-343080">
              <a:lnSpc>
                <a:spcPct val="100000"/>
              </a:lnSpc>
              <a:spcBef>
                <a:spcPts val="479"/>
              </a:spcBef>
            </a:pP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ffd8"/>
                </a:solidFill>
                <a:latin typeface="Arial"/>
                <a:ea typeface="Arial"/>
              </a:rPr>
              <a:t>COGAF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625</a:t>
            </a: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ffd8"/>
                </a:solidFill>
                <a:latin typeface="Arial"/>
                <a:ea typeface="Arial"/>
              </a:rPr>
              <a:t>Less June 30 inventory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u="sng">
                <a:solidFill>
                  <a:srgbClr val="fcffd8"/>
                </a:solidFill>
                <a:uFillTx/>
                <a:latin typeface="Arial"/>
                <a:ea typeface="Arial"/>
              </a:rPr>
              <a:t>  268</a:t>
            </a: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ffd8"/>
                </a:solidFill>
                <a:latin typeface="Arial"/>
                <a:ea typeface="Arial"/>
              </a:rPr>
              <a:t>COGS</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357</a:t>
            </a:r>
            <a:endParaRPr b="0" lang="en-US" sz="2800" spc="-1" strike="noStrike">
              <a:solidFill>
                <a:srgbClr val="ffffff"/>
              </a:solidFill>
              <a:latin typeface="Arial"/>
            </a:endParaRPr>
          </a:p>
        </p:txBody>
      </p:sp>
      <p:grpSp>
        <p:nvGrpSpPr>
          <p:cNvPr id="553" name=""/>
          <p:cNvGrpSpPr/>
          <p:nvPr/>
        </p:nvGrpSpPr>
        <p:grpSpPr>
          <a:xfrm>
            <a:off x="6340320" y="3879720"/>
            <a:ext cx="1812960" cy="1606680"/>
            <a:chOff x="6340320" y="3879720"/>
            <a:chExt cx="1812960" cy="1606680"/>
          </a:xfrm>
        </p:grpSpPr>
        <p:sp>
          <p:nvSpPr>
            <p:cNvPr id="554" name=""/>
            <p:cNvSpPr/>
            <p:nvPr/>
          </p:nvSpPr>
          <p:spPr>
            <a:xfrm>
              <a:off x="6340320" y="3886200"/>
              <a:ext cx="1812960" cy="0"/>
            </a:xfrm>
            <a:prstGeom prst="line">
              <a:avLst/>
            </a:prstGeom>
            <a:ln w="25560">
              <a:solidFill>
                <a:srgbClr val="fcffd8"/>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55" name=""/>
            <p:cNvSpPr/>
            <p:nvPr/>
          </p:nvSpPr>
          <p:spPr>
            <a:xfrm>
              <a:off x="6950160" y="5486400"/>
              <a:ext cx="1174680" cy="0"/>
            </a:xfrm>
            <a:prstGeom prst="line">
              <a:avLst/>
            </a:prstGeom>
            <a:ln w="25560">
              <a:solidFill>
                <a:srgbClr val="fcffd8"/>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56" name=""/>
            <p:cNvSpPr/>
            <p:nvPr/>
          </p:nvSpPr>
          <p:spPr>
            <a:xfrm>
              <a:off x="8150400" y="3879720"/>
              <a:ext cx="0" cy="160524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557" name=""/>
          <p:cNvGrpSpPr/>
          <p:nvPr/>
        </p:nvGrpSpPr>
        <p:grpSpPr>
          <a:xfrm>
            <a:off x="1006560" y="4114800"/>
            <a:ext cx="4784760" cy="0"/>
            <a:chOff x="1006560" y="4114800"/>
            <a:chExt cx="4784760" cy="0"/>
          </a:xfrm>
        </p:grpSpPr>
        <p:sp>
          <p:nvSpPr>
            <p:cNvPr id="558" name=""/>
            <p:cNvSpPr/>
            <p:nvPr/>
          </p:nvSpPr>
          <p:spPr>
            <a:xfrm>
              <a:off x="1006560" y="4114800"/>
              <a:ext cx="59364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59" name=""/>
            <p:cNvSpPr/>
            <p:nvPr/>
          </p:nvSpPr>
          <p:spPr>
            <a:xfrm>
              <a:off x="5045040" y="4114800"/>
              <a:ext cx="74628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560" name=""/>
          <p:cNvSpPr/>
          <p:nvPr/>
        </p:nvSpPr>
        <p:spPr>
          <a:xfrm>
            <a:off x="6035760" y="6172200"/>
            <a:ext cx="69048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61" name=""/>
          <p:cNvSpPr/>
          <p:nvPr/>
        </p:nvSpPr>
        <p:spPr>
          <a:xfrm>
            <a:off x="1006560" y="4191120"/>
            <a:ext cx="59364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62" name=""/>
          <p:cNvSpPr/>
          <p:nvPr/>
        </p:nvSpPr>
        <p:spPr>
          <a:xfrm>
            <a:off x="5045040" y="4191120"/>
            <a:ext cx="74628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63" name=""/>
          <p:cNvSpPr/>
          <p:nvPr/>
        </p:nvSpPr>
        <p:spPr>
          <a:xfrm>
            <a:off x="6035760" y="6248520"/>
            <a:ext cx="69048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64" name=""/>
          <p:cNvSpPr txBox="1"/>
          <p:nvPr/>
        </p:nvSpPr>
        <p:spPr>
          <a:xfrm>
            <a:off x="1447920" y="2209680"/>
            <a:ext cx="7010280" cy="350532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3b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200" spc="-1" strike="noStrike">
                <a:solidFill>
                  <a:srgbClr val="fcffd8"/>
                </a:solidFill>
                <a:latin typeface="Arial"/>
                <a:ea typeface="Arial"/>
              </a:rPr>
              <a:t>Calculate the pricing of inventory, using the cost basis under the periodic inventory system, according to the average-cost method.</a:t>
            </a:r>
            <a:endParaRPr b="0" lang="en-US" sz="3200" spc="-1" strike="noStrike">
              <a:solidFill>
                <a:srgbClr val="ffffff"/>
              </a:solidFill>
              <a:latin typeface="Arial"/>
            </a:endParaRPr>
          </a:p>
        </p:txBody>
      </p:sp>
      <p:sp>
        <p:nvSpPr>
          <p:cNvPr id="565" name=""/>
          <p:cNvSpPr txBox="1"/>
          <p:nvPr/>
        </p:nvSpPr>
        <p:spPr>
          <a:xfrm>
            <a:off x="838080" y="914400"/>
            <a:ext cx="784872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verage-Cost Method</a:t>
            </a:r>
            <a:endParaRPr b="0" lang="en-US" sz="4400" spc="-1" strike="noStrike">
              <a:solidFill>
                <a:srgbClr val="ffffff"/>
              </a:solidFill>
              <a:latin typeface="Arial"/>
            </a:endParaRPr>
          </a:p>
        </p:txBody>
      </p:sp>
      <p:pic>
        <p:nvPicPr>
          <p:cNvPr id="566" name="" descr=""/>
          <p:cNvPicPr/>
          <p:nvPr/>
        </p:nvPicPr>
        <p:blipFill>
          <a:blip r:embed="rId1"/>
          <a:stretch/>
        </p:blipFill>
        <p:spPr>
          <a:xfrm>
            <a:off x="0" y="0"/>
            <a:ext cx="863640" cy="703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876240" cy="7048440"/>
          </a:xfrm>
          <a:prstGeom prst="rect">
            <a:avLst/>
          </a:prstGeom>
          <a:ln w="0">
            <a:noFill/>
          </a:ln>
        </p:spPr>
      </p:pic>
      <p:sp>
        <p:nvSpPr>
          <p:cNvPr id="52" name=""/>
          <p:cNvSpPr txBox="1"/>
          <p:nvPr/>
        </p:nvSpPr>
        <p:spPr>
          <a:xfrm>
            <a:off x="838080" y="914400"/>
            <a:ext cx="7772400" cy="187524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anagement Issues Associated with Accounting for Inventories</a:t>
            </a:r>
            <a:endParaRPr b="0" lang="en-US" sz="4400" spc="-1" strike="noStrike">
              <a:solidFill>
                <a:srgbClr val="ffffff"/>
              </a:solidFill>
              <a:latin typeface="Arial"/>
            </a:endParaRPr>
          </a:p>
        </p:txBody>
      </p:sp>
      <p:sp>
        <p:nvSpPr>
          <p:cNvPr id="53" name=""/>
          <p:cNvSpPr txBox="1"/>
          <p:nvPr/>
        </p:nvSpPr>
        <p:spPr>
          <a:xfrm>
            <a:off x="1523880" y="2819520"/>
            <a:ext cx="6781680" cy="243828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1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200" spc="-1" strike="noStrike">
                <a:solidFill>
                  <a:srgbClr val="fcffd8"/>
                </a:solidFill>
                <a:latin typeface="Arial"/>
                <a:ea typeface="Arial"/>
              </a:rPr>
              <a:t>Identify and explain the management issues associated with accounting for invento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67" name=""/>
          <p:cNvSpPr txBox="1"/>
          <p:nvPr/>
        </p:nvSpPr>
        <p:spPr>
          <a:xfrm>
            <a:off x="1523880" y="228600"/>
            <a:ext cx="6713640" cy="1134360"/>
          </a:xfrm>
          <a:prstGeom prst="rect">
            <a:avLst/>
          </a:prstGeom>
          <a:noFill/>
          <a:ln w="0">
            <a:noFill/>
          </a:ln>
        </p:spPr>
        <p:txBody>
          <a:bodyPr lIns="0" rIns="0" tIns="0" bIns="0" anchor="t">
            <a:noAutofit/>
          </a:bodyPr>
          <a:p>
            <a:pPr algn="ctr">
              <a:lnSpc>
                <a:spcPct val="100000"/>
              </a:lnSpc>
            </a:pPr>
            <a:r>
              <a:rPr b="1" lang="en-US" sz="4000" spc="-1" strike="noStrike">
                <a:solidFill>
                  <a:srgbClr val="ffcc66"/>
                </a:solidFill>
                <a:latin typeface="Arial"/>
                <a:ea typeface="Arial"/>
              </a:rPr>
              <a:t>Average-Cost Method for</a:t>
            </a:r>
            <a:br>
              <a:rPr sz="4000"/>
            </a:br>
            <a:r>
              <a:rPr b="1" lang="en-US" sz="4000" spc="-1" strike="noStrike">
                <a:solidFill>
                  <a:srgbClr val="ffcc66"/>
                </a:solidFill>
                <a:latin typeface="Arial"/>
                <a:ea typeface="Arial"/>
              </a:rPr>
              <a:t>Pricing Ending Inventory</a:t>
            </a:r>
            <a:endParaRPr b="0" lang="en-US" sz="4000" spc="-1" strike="noStrike">
              <a:solidFill>
                <a:srgbClr val="ffffff"/>
              </a:solidFill>
              <a:latin typeface="Arial"/>
            </a:endParaRPr>
          </a:p>
        </p:txBody>
      </p:sp>
      <p:sp>
        <p:nvSpPr>
          <p:cNvPr id="568" name=""/>
          <p:cNvSpPr txBox="1"/>
          <p:nvPr/>
        </p:nvSpPr>
        <p:spPr>
          <a:xfrm>
            <a:off x="2092320" y="3340080"/>
            <a:ext cx="5484960" cy="2975040"/>
          </a:xfrm>
          <a:prstGeom prst="rect">
            <a:avLst/>
          </a:prstGeom>
          <a:noFill/>
          <a:ln w="0">
            <a:noFill/>
          </a:ln>
        </p:spPr>
        <p:txBody>
          <a:bodyPr lIns="0" rIns="0" tIns="0" bIns="0" anchor="t">
            <a:noAutofit/>
          </a:bodyPr>
          <a:p>
            <a:pPr marL="343080" indent="-343080">
              <a:lnSpc>
                <a:spcPct val="100000"/>
              </a:lnSpc>
              <a:spcBef>
                <a:spcPts val="479"/>
              </a:spcBef>
            </a:pPr>
            <a:r>
              <a:rPr b="1" lang="en-US" sz="2800" spc="-1" strike="noStrike">
                <a:solidFill>
                  <a:srgbClr val="fcffd8"/>
                </a:solidFill>
                <a:latin typeface="Arial"/>
                <a:ea typeface="Arial"/>
              </a:rPr>
              <a:t>Ending Inventory: </a:t>
            </a: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220 units @ $1.25 = $275 </a:t>
            </a:r>
            <a:endParaRPr b="0" lang="en-US" sz="2800" spc="-1" strike="noStrike">
              <a:solidFill>
                <a:srgbClr val="ffffff"/>
              </a:solidFill>
              <a:latin typeface="Arial"/>
            </a:endParaRPr>
          </a:p>
          <a:p>
            <a:pPr marL="343080" indent="-343080">
              <a:lnSpc>
                <a:spcPct val="100000"/>
              </a:lnSpc>
              <a:spcBef>
                <a:spcPts val="479"/>
              </a:spcBef>
            </a:pP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ffd8"/>
                </a:solidFill>
                <a:latin typeface="Arial"/>
                <a:ea typeface="Arial"/>
              </a:rPr>
              <a:t>COGAF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625</a:t>
            </a: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ffd8"/>
                </a:solidFill>
                <a:latin typeface="Arial"/>
                <a:ea typeface="Arial"/>
              </a:rPr>
              <a:t>Less June 30 inventory   </a:t>
            </a:r>
            <a:r>
              <a:rPr b="1" lang="en-US" sz="2800" spc="-1" strike="noStrike" u="sng">
                <a:solidFill>
                  <a:srgbClr val="fcffd8"/>
                </a:solidFill>
                <a:uFillTx/>
                <a:latin typeface="Arial"/>
                <a:ea typeface="Arial"/>
              </a:rPr>
              <a:t> 275</a:t>
            </a:r>
            <a:endParaRPr b="0" lang="en-US" sz="2800" spc="-1" strike="noStrike">
              <a:solidFill>
                <a:srgbClr val="ffffff"/>
              </a:solidFill>
              <a:latin typeface="Arial"/>
            </a:endParaRPr>
          </a:p>
          <a:p>
            <a:pPr marL="343080" indent="-343080">
              <a:lnSpc>
                <a:spcPct val="100000"/>
              </a:lnSpc>
              <a:spcBef>
                <a:spcPts val="479"/>
              </a:spcBef>
            </a:pPr>
            <a:r>
              <a:rPr b="1" lang="en-US" sz="2800" spc="-1" strike="noStrike">
                <a:solidFill>
                  <a:srgbClr val="fcffd8"/>
                </a:solidFill>
                <a:latin typeface="Arial"/>
                <a:ea typeface="Arial"/>
              </a:rPr>
              <a:t>COG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350</a:t>
            </a:r>
            <a:endParaRPr b="0" lang="en-US" sz="2800" spc="-1" strike="noStrike">
              <a:solidFill>
                <a:srgbClr val="ffffff"/>
              </a:solidFill>
              <a:latin typeface="Arial"/>
            </a:endParaRPr>
          </a:p>
        </p:txBody>
      </p:sp>
      <p:grpSp>
        <p:nvGrpSpPr>
          <p:cNvPr id="569" name=""/>
          <p:cNvGrpSpPr/>
          <p:nvPr/>
        </p:nvGrpSpPr>
        <p:grpSpPr>
          <a:xfrm>
            <a:off x="7686720" y="4179960"/>
            <a:ext cx="1063440" cy="1393920"/>
            <a:chOff x="7686720" y="4179960"/>
            <a:chExt cx="1063440" cy="1393920"/>
          </a:xfrm>
        </p:grpSpPr>
        <p:sp>
          <p:nvSpPr>
            <p:cNvPr id="570" name=""/>
            <p:cNvSpPr/>
            <p:nvPr/>
          </p:nvSpPr>
          <p:spPr>
            <a:xfrm>
              <a:off x="7686720" y="5562720"/>
              <a:ext cx="1050840" cy="0"/>
            </a:xfrm>
            <a:prstGeom prst="line">
              <a:avLst/>
            </a:prstGeom>
            <a:ln w="25560">
              <a:solidFill>
                <a:srgbClr val="fcffd8"/>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71" name=""/>
            <p:cNvSpPr/>
            <p:nvPr/>
          </p:nvSpPr>
          <p:spPr>
            <a:xfrm>
              <a:off x="8750160" y="4179960"/>
              <a:ext cx="0" cy="139392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72" name=""/>
            <p:cNvSpPr/>
            <p:nvPr/>
          </p:nvSpPr>
          <p:spPr>
            <a:xfrm>
              <a:off x="7686720" y="4191120"/>
              <a:ext cx="1050840" cy="0"/>
            </a:xfrm>
            <a:prstGeom prst="line">
              <a:avLst/>
            </a:prstGeom>
            <a:ln w="25560">
              <a:solidFill>
                <a:srgbClr val="fcffd8"/>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573" name=""/>
          <p:cNvSpPr/>
          <p:nvPr/>
        </p:nvSpPr>
        <p:spPr>
          <a:xfrm>
            <a:off x="6494400" y="4343400"/>
            <a:ext cx="8193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74" name=""/>
          <p:cNvSpPr/>
          <p:nvPr/>
        </p:nvSpPr>
        <p:spPr>
          <a:xfrm>
            <a:off x="6494400" y="4433760"/>
            <a:ext cx="8193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75" name=""/>
          <p:cNvSpPr/>
          <p:nvPr/>
        </p:nvSpPr>
        <p:spPr>
          <a:xfrm>
            <a:off x="6340320" y="6400800"/>
            <a:ext cx="8193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76" name=""/>
          <p:cNvSpPr/>
          <p:nvPr/>
        </p:nvSpPr>
        <p:spPr>
          <a:xfrm>
            <a:off x="6340320" y="6477120"/>
            <a:ext cx="8193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577" name=""/>
          <p:cNvGrpSpPr/>
          <p:nvPr/>
        </p:nvGrpSpPr>
        <p:grpSpPr>
          <a:xfrm>
            <a:off x="685800" y="1523880"/>
            <a:ext cx="8140680" cy="1733400"/>
            <a:chOff x="685800" y="1523880"/>
            <a:chExt cx="8140680" cy="1733400"/>
          </a:xfrm>
        </p:grpSpPr>
        <p:sp>
          <p:nvSpPr>
            <p:cNvPr id="578" name=""/>
            <p:cNvSpPr txBox="1"/>
            <p:nvPr/>
          </p:nvSpPr>
          <p:spPr>
            <a:xfrm>
              <a:off x="685800" y="1676520"/>
              <a:ext cx="3424320" cy="453960"/>
            </a:xfrm>
            <a:prstGeom prst="rect">
              <a:avLst/>
            </a:prstGeom>
            <a:noFill/>
            <a:ln w="0">
              <a:noFill/>
            </a:ln>
          </p:spPr>
          <p:txBody>
            <a:bodyPr lIns="0" rIns="0" tIns="0" bIns="0" anchor="t">
              <a:noAutofit/>
            </a:bodyPr>
            <a:p>
              <a:pPr>
                <a:lnSpc>
                  <a:spcPct val="100000"/>
                </a:lnSpc>
              </a:pPr>
              <a:r>
                <a:rPr b="1" lang="en-US" sz="2400" spc="-1" strike="noStrike">
                  <a:solidFill>
                    <a:srgbClr val="fcffd8"/>
                  </a:solidFill>
                  <a:latin typeface="Arial"/>
                  <a:ea typeface="Arial"/>
                </a:rPr>
                <a:t>Average Unit Cost =    </a:t>
              </a:r>
              <a:endParaRPr b="0" lang="en-US" sz="2400" spc="-1" strike="noStrike">
                <a:solidFill>
                  <a:srgbClr val="ffffff"/>
                </a:solidFill>
                <a:latin typeface="Arial"/>
              </a:endParaRPr>
            </a:p>
          </p:txBody>
        </p:sp>
        <p:sp>
          <p:nvSpPr>
            <p:cNvPr id="579" name=""/>
            <p:cNvSpPr txBox="1"/>
            <p:nvPr/>
          </p:nvSpPr>
          <p:spPr>
            <a:xfrm>
              <a:off x="3581280" y="1523880"/>
              <a:ext cx="5245200" cy="819000"/>
            </a:xfrm>
            <a:prstGeom prst="rect">
              <a:avLst/>
            </a:prstGeom>
            <a:noFill/>
            <a:ln w="0">
              <a:noFill/>
            </a:ln>
          </p:spPr>
          <p:txBody>
            <a:bodyPr lIns="0" rIns="0" tIns="0" bIns="0" anchor="t">
              <a:noAutofit/>
            </a:bodyPr>
            <a:p>
              <a:pPr>
                <a:lnSpc>
                  <a:spcPct val="100000"/>
                </a:lnSpc>
              </a:pPr>
              <a:r>
                <a:rPr b="1" lang="en-US" sz="2400" spc="-1" strike="noStrike">
                  <a:solidFill>
                    <a:srgbClr val="fcffd8"/>
                  </a:solidFill>
                  <a:latin typeface="Arial"/>
                  <a:ea typeface="Arial"/>
                </a:rPr>
                <a:t>   </a:t>
              </a:r>
              <a:r>
                <a:rPr b="1" lang="en-US" sz="2400" spc="-1" strike="noStrike" u="sng">
                  <a:solidFill>
                    <a:srgbClr val="fcffd8"/>
                  </a:solidFill>
                  <a:uFillTx/>
                  <a:latin typeface="Arial"/>
                  <a:ea typeface="Arial"/>
                </a:rPr>
                <a:t>Cost of Goods Available for Sale</a:t>
              </a:r>
              <a:endParaRPr b="0" lang="en-US" sz="2400" spc="-1" strike="noStrike">
                <a:solidFill>
                  <a:srgbClr val="ffffff"/>
                </a:solidFill>
                <a:latin typeface="Arial"/>
              </a:endParaRPr>
            </a:p>
            <a:p>
              <a:pPr>
                <a:lnSpc>
                  <a:spcPct val="100000"/>
                </a:lnSpc>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Units Available for Sale</a:t>
              </a:r>
              <a:endParaRPr b="0" lang="en-US" sz="2400" spc="-1" strike="noStrike">
                <a:solidFill>
                  <a:srgbClr val="ffffff"/>
                </a:solidFill>
                <a:latin typeface="Arial"/>
              </a:endParaRPr>
            </a:p>
          </p:txBody>
        </p:sp>
        <p:sp>
          <p:nvSpPr>
            <p:cNvPr id="580" name=""/>
            <p:cNvSpPr txBox="1"/>
            <p:nvPr/>
          </p:nvSpPr>
          <p:spPr>
            <a:xfrm>
              <a:off x="3886200" y="2438280"/>
              <a:ext cx="1501920" cy="819000"/>
            </a:xfrm>
            <a:prstGeom prst="rect">
              <a:avLst/>
            </a:prstGeom>
            <a:noFill/>
            <a:ln w="0">
              <a:noFill/>
            </a:ln>
          </p:spPr>
          <p:txBody>
            <a:bodyPr lIns="0" rIns="0" tIns="0" bIns="0" anchor="t">
              <a:noAutofit/>
            </a:bodyPr>
            <a:p>
              <a:pPr>
                <a:lnSpc>
                  <a:spcPct val="100000"/>
                </a:lnSpc>
              </a:pPr>
              <a:r>
                <a:rPr b="1" lang="en-US" sz="2400" spc="-1" strike="noStrike" u="sng">
                  <a:solidFill>
                    <a:srgbClr val="fcffd8"/>
                  </a:solidFill>
                  <a:uFillTx/>
                  <a:latin typeface="Arial"/>
                  <a:ea typeface="Arial"/>
                </a:rPr>
                <a:t>  </a:t>
              </a:r>
              <a:r>
                <a:rPr b="1" lang="en-US" sz="2400" spc="-1" strike="noStrike" u="sng">
                  <a:solidFill>
                    <a:srgbClr val="fcffd8"/>
                  </a:solidFill>
                  <a:uFillTx/>
                  <a:latin typeface="Arial"/>
                  <a:ea typeface="Arial"/>
                </a:rPr>
                <a:t>$625    </a:t>
              </a:r>
              <a:endParaRPr b="0" lang="en-US" sz="2400" spc="-1" strike="noStrike">
                <a:solidFill>
                  <a:srgbClr val="ffffff"/>
                </a:solidFill>
                <a:latin typeface="Arial"/>
              </a:endParaRPr>
            </a:p>
            <a:p>
              <a:pPr>
                <a:lnSpc>
                  <a:spcPct val="100000"/>
                </a:lnSpc>
              </a:pPr>
              <a:r>
                <a:rPr b="1" lang="en-US" sz="2400" spc="-1" strike="noStrike">
                  <a:solidFill>
                    <a:srgbClr val="fcffd8"/>
                  </a:solidFill>
                  <a:latin typeface="Arial"/>
                  <a:ea typeface="Arial"/>
                </a:rPr>
                <a:t>500 units</a:t>
              </a:r>
              <a:endParaRPr b="0" lang="en-US" sz="2400" spc="-1" strike="noStrike">
                <a:solidFill>
                  <a:srgbClr val="ffffff"/>
                </a:solidFill>
                <a:latin typeface="Arial"/>
              </a:endParaRPr>
            </a:p>
          </p:txBody>
        </p:sp>
        <p:sp>
          <p:nvSpPr>
            <p:cNvPr id="581" name=""/>
            <p:cNvSpPr txBox="1"/>
            <p:nvPr/>
          </p:nvSpPr>
          <p:spPr>
            <a:xfrm>
              <a:off x="3429000" y="2590920"/>
              <a:ext cx="358920" cy="453960"/>
            </a:xfrm>
            <a:prstGeom prst="rect">
              <a:avLst/>
            </a:prstGeom>
            <a:noFill/>
            <a:ln w="0">
              <a:noFill/>
            </a:ln>
          </p:spPr>
          <p:txBody>
            <a:bodyPr lIns="0" rIns="0" tIns="0" bIns="0" anchor="t">
              <a:noAutofit/>
            </a:bodyPr>
            <a:p>
              <a:pPr>
                <a:lnSpc>
                  <a:spcPct val="100000"/>
                </a:lnSpc>
              </a:pPr>
              <a:r>
                <a:rPr b="1" lang="en-US" sz="2400" spc="-1" strike="noStrike">
                  <a:solidFill>
                    <a:srgbClr val="fcffd8"/>
                  </a:solidFill>
                  <a:latin typeface="Arial"/>
                  <a:ea typeface="Arial"/>
                </a:rPr>
                <a:t>=</a:t>
              </a:r>
              <a:endParaRPr b="0" lang="en-US" sz="2400" spc="-1" strike="noStrike">
                <a:solidFill>
                  <a:srgbClr val="ffffff"/>
                </a:solidFill>
                <a:latin typeface="Arial"/>
              </a:endParaRPr>
            </a:p>
          </p:txBody>
        </p:sp>
        <p:sp>
          <p:nvSpPr>
            <p:cNvPr id="582" name=""/>
            <p:cNvSpPr txBox="1"/>
            <p:nvPr/>
          </p:nvSpPr>
          <p:spPr>
            <a:xfrm>
              <a:off x="5257800" y="2590920"/>
              <a:ext cx="1290600" cy="453960"/>
            </a:xfrm>
            <a:prstGeom prst="rect">
              <a:avLst/>
            </a:prstGeom>
            <a:noFill/>
            <a:ln w="0">
              <a:noFill/>
            </a:ln>
          </p:spPr>
          <p:txBody>
            <a:bodyPr lIns="0" rIns="0" tIns="0" bIns="0" anchor="t">
              <a:noAutofit/>
            </a:bodyPr>
            <a:p>
              <a:pPr>
                <a:lnSpc>
                  <a:spcPct val="100000"/>
                </a:lnSpc>
              </a:pPr>
              <a:r>
                <a:rPr b="1" lang="en-US" sz="2400" spc="-1" strike="noStrike">
                  <a:solidFill>
                    <a:srgbClr val="fcffd8"/>
                  </a:solidFill>
                  <a:latin typeface="Arial"/>
                  <a:ea typeface="Arial"/>
                </a:rPr>
                <a:t>=  $1.25</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83" name=""/>
          <p:cNvSpPr txBox="1"/>
          <p:nvPr/>
        </p:nvSpPr>
        <p:spPr>
          <a:xfrm>
            <a:off x="1447920" y="2362320"/>
            <a:ext cx="7162920" cy="353844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3c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200" spc="-1" strike="noStrike">
                <a:solidFill>
                  <a:srgbClr val="fcffd8"/>
                </a:solidFill>
                <a:latin typeface="Arial"/>
                <a:ea typeface="Arial"/>
              </a:rPr>
              <a:t>Calculate the pricing of inventory, using the cost basis under the periodic inventory system, according to the first-in, first-out (FIFO) method.</a:t>
            </a:r>
            <a:endParaRPr b="0" lang="en-US" sz="3200" spc="-1" strike="noStrike">
              <a:solidFill>
                <a:srgbClr val="ffffff"/>
              </a:solidFill>
              <a:latin typeface="Arial"/>
            </a:endParaRPr>
          </a:p>
        </p:txBody>
      </p:sp>
      <p:sp>
        <p:nvSpPr>
          <p:cNvPr id="584" name=""/>
          <p:cNvSpPr txBox="1"/>
          <p:nvPr/>
        </p:nvSpPr>
        <p:spPr>
          <a:xfrm>
            <a:off x="609480" y="685800"/>
            <a:ext cx="8305920" cy="1523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First-In, First-Out (FIFO) Method</a:t>
            </a:r>
            <a:endParaRPr b="0" lang="en-US" sz="4400" spc="-1" strike="noStrike">
              <a:solidFill>
                <a:srgbClr val="ffffff"/>
              </a:solidFill>
              <a:latin typeface="Arial"/>
            </a:endParaRPr>
          </a:p>
        </p:txBody>
      </p:sp>
      <p:pic>
        <p:nvPicPr>
          <p:cNvPr id="585" name="" descr=""/>
          <p:cNvPicPr/>
          <p:nvPr/>
        </p:nvPicPr>
        <p:blipFill>
          <a:blip r:embed="rId1"/>
          <a:stretch/>
        </p:blipFill>
        <p:spPr>
          <a:xfrm>
            <a:off x="0" y="0"/>
            <a:ext cx="863640" cy="7035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86" name=""/>
          <p:cNvSpPr txBox="1"/>
          <p:nvPr/>
        </p:nvSpPr>
        <p:spPr>
          <a:xfrm>
            <a:off x="1371600" y="228600"/>
            <a:ext cx="6997680" cy="1828800"/>
          </a:xfrm>
          <a:prstGeom prst="rect">
            <a:avLst/>
          </a:prstGeom>
          <a:noFill/>
          <a:ln w="0">
            <a:noFill/>
          </a:ln>
        </p:spPr>
        <p:txBody>
          <a:bodyPr lIns="0" rIns="0" tIns="0" bIns="0" anchor="t">
            <a:noAutofit/>
          </a:bodyPr>
          <a:p>
            <a:pPr algn="ctr">
              <a:lnSpc>
                <a:spcPct val="100000"/>
              </a:lnSpc>
            </a:pPr>
            <a:r>
              <a:rPr b="1" lang="en-US" sz="4000" spc="-1" strike="noStrike">
                <a:solidFill>
                  <a:srgbClr val="ffcc66"/>
                </a:solidFill>
                <a:latin typeface="Arial"/>
                <a:ea typeface="Arial"/>
              </a:rPr>
              <a:t>First-In, First-Out (FIFO) Method for Pricing Ending Inventory</a:t>
            </a:r>
            <a:endParaRPr b="0" lang="en-US" sz="4000" spc="-1" strike="noStrike">
              <a:solidFill>
                <a:srgbClr val="ffffff"/>
              </a:solidFill>
              <a:latin typeface="Arial"/>
            </a:endParaRPr>
          </a:p>
        </p:txBody>
      </p:sp>
      <p:sp>
        <p:nvSpPr>
          <p:cNvPr id="587" name=""/>
          <p:cNvSpPr txBox="1"/>
          <p:nvPr/>
        </p:nvSpPr>
        <p:spPr>
          <a:xfrm>
            <a:off x="838080" y="2209680"/>
            <a:ext cx="7467480" cy="3844800"/>
          </a:xfrm>
          <a:prstGeom prst="rect">
            <a:avLst/>
          </a:prstGeom>
          <a:noFill/>
          <a:ln w="0">
            <a:noFill/>
          </a:ln>
        </p:spPr>
        <p:txBody>
          <a:bodyPr lIns="0" rIns="0" tIns="0" bIns="0" anchor="t">
            <a:noAutofit/>
          </a:bodyPr>
          <a:p>
            <a:pPr marL="343080" indent="-343080" algn="ctr">
              <a:lnSpc>
                <a:spcPct val="100000"/>
              </a:lnSpc>
              <a:spcBef>
                <a:spcPts val="479"/>
              </a:spcBef>
            </a:pPr>
            <a:r>
              <a:rPr b="1" lang="en-US" sz="2800" spc="-1" strike="noStrike">
                <a:solidFill>
                  <a:srgbClr val="ffff00"/>
                </a:solidFill>
                <a:latin typeface="Arial"/>
                <a:ea typeface="Arial"/>
              </a:rPr>
              <a:t>Inventory Data - June 30</a:t>
            </a:r>
            <a:endParaRPr b="0" lang="en-US" sz="2800" spc="-1" strike="noStrike">
              <a:solidFill>
                <a:srgbClr val="ffffff"/>
              </a:solidFill>
              <a:latin typeface="Arial"/>
            </a:endParaRPr>
          </a:p>
          <a:p>
            <a:pPr marL="343080" indent="-343080" algn="ctr">
              <a:lnSpc>
                <a:spcPct val="100000"/>
              </a:lnSpc>
              <a:spcBef>
                <a:spcPts val="479"/>
              </a:spcBef>
            </a:pPr>
            <a:r>
              <a:rPr b="1" lang="en-US" sz="2400" spc="-1" strike="noStrike">
                <a:solidFill>
                  <a:srgbClr val="fcffd8"/>
                </a:solidFill>
                <a:latin typeface="Arial"/>
                <a:ea typeface="Arial"/>
              </a:rPr>
              <a:t>150 units @ $1.40 from June 25 purchase      $210</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u="sng">
                <a:solidFill>
                  <a:srgbClr val="fcffd8"/>
                </a:solidFill>
                <a:uFillTx/>
                <a:latin typeface="Arial"/>
                <a:ea typeface="Arial"/>
              </a:rPr>
              <a:t>  </a:t>
            </a:r>
            <a:r>
              <a:rPr b="1" lang="en-US" sz="2400" spc="-1" strike="noStrike" u="sng">
                <a:solidFill>
                  <a:srgbClr val="fcffd8"/>
                </a:solidFill>
                <a:uFillTx/>
                <a:latin typeface="Arial"/>
                <a:ea typeface="Arial"/>
              </a:rPr>
              <a:t>70</a:t>
            </a:r>
            <a:r>
              <a:rPr b="1" lang="en-US" sz="2400" spc="-1" strike="noStrike">
                <a:solidFill>
                  <a:srgbClr val="fcffd8"/>
                </a:solidFill>
                <a:latin typeface="Arial"/>
                <a:ea typeface="Arial"/>
              </a:rPr>
              <a:t> units @ $1.30 from June 20 purchase      </a:t>
            </a:r>
            <a:r>
              <a:rPr b="1" lang="en-US" sz="2400" spc="-1" strike="noStrike" u="sng">
                <a:solidFill>
                  <a:srgbClr val="fcffd8"/>
                </a:solidFill>
                <a:uFillTx/>
                <a:latin typeface="Arial"/>
                <a:ea typeface="Arial"/>
              </a:rPr>
              <a:t>    91</a:t>
            </a:r>
            <a:r>
              <a:rPr b="1" lang="en-US" sz="2400" spc="-1" strike="noStrike">
                <a:solidFill>
                  <a:srgbClr val="fcffd8"/>
                </a:solidFill>
                <a:latin typeface="Arial"/>
                <a:ea typeface="Arial"/>
              </a:rPr>
              <a:t> </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cffd8"/>
                </a:solidFill>
                <a:latin typeface="Arial"/>
                <a:ea typeface="Arial"/>
              </a:rPr>
              <a:t>220 units @ a cost of</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301</a:t>
            </a:r>
            <a:endParaRPr b="0" lang="en-US" sz="2400" spc="-1" strike="noStrike">
              <a:solidFill>
                <a:srgbClr val="ffffff"/>
              </a:solidFill>
              <a:latin typeface="Arial"/>
            </a:endParaRPr>
          </a:p>
          <a:p>
            <a:pPr marL="343080" indent="-343080">
              <a:lnSpc>
                <a:spcPct val="100000"/>
              </a:lnSpc>
              <a:spcBef>
                <a:spcPts val="479"/>
              </a:spcBef>
            </a:pP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cffd8"/>
                </a:solidFill>
                <a:latin typeface="Arial"/>
                <a:ea typeface="Arial"/>
              </a:rPr>
              <a:t>COGAFS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625</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cffd8"/>
                </a:solidFill>
                <a:latin typeface="Arial"/>
                <a:ea typeface="Arial"/>
              </a:rPr>
              <a:t>Less June 30 inventory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u="sng">
                <a:solidFill>
                  <a:srgbClr val="fcffd8"/>
                </a:solidFill>
                <a:uFillTx/>
                <a:latin typeface="Arial"/>
                <a:ea typeface="Arial"/>
              </a:rPr>
              <a:t> 301</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cffd8"/>
                </a:solidFill>
                <a:latin typeface="Arial"/>
                <a:ea typeface="Arial"/>
              </a:rPr>
              <a:t>COGS</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324</a:t>
            </a:r>
            <a:endParaRPr b="0" lang="en-US" sz="2400" spc="-1" strike="noStrike">
              <a:solidFill>
                <a:srgbClr val="ffffff"/>
              </a:solidFill>
              <a:latin typeface="Arial"/>
            </a:endParaRPr>
          </a:p>
        </p:txBody>
      </p:sp>
      <p:grpSp>
        <p:nvGrpSpPr>
          <p:cNvPr id="588" name=""/>
          <p:cNvGrpSpPr/>
          <p:nvPr/>
        </p:nvGrpSpPr>
        <p:grpSpPr>
          <a:xfrm>
            <a:off x="8321760" y="3809880"/>
            <a:ext cx="460440" cy="1392480"/>
            <a:chOff x="8321760" y="3809880"/>
            <a:chExt cx="460440" cy="1392480"/>
          </a:xfrm>
        </p:grpSpPr>
        <p:sp>
          <p:nvSpPr>
            <p:cNvPr id="589" name=""/>
            <p:cNvSpPr/>
            <p:nvPr/>
          </p:nvSpPr>
          <p:spPr>
            <a:xfrm>
              <a:off x="8321760" y="3809880"/>
              <a:ext cx="460440" cy="0"/>
            </a:xfrm>
            <a:prstGeom prst="line">
              <a:avLst/>
            </a:prstGeom>
            <a:ln w="25560">
              <a:solidFill>
                <a:srgbClr val="fcffd8"/>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90" name=""/>
            <p:cNvSpPr/>
            <p:nvPr/>
          </p:nvSpPr>
          <p:spPr>
            <a:xfrm>
              <a:off x="8321760" y="5181480"/>
              <a:ext cx="460440" cy="0"/>
            </a:xfrm>
            <a:prstGeom prst="line">
              <a:avLst/>
            </a:prstGeom>
            <a:ln w="25560">
              <a:solidFill>
                <a:srgbClr val="fcffd8"/>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91" name=""/>
            <p:cNvSpPr/>
            <p:nvPr/>
          </p:nvSpPr>
          <p:spPr>
            <a:xfrm>
              <a:off x="8763120" y="3809880"/>
              <a:ext cx="0" cy="139248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592" name=""/>
          <p:cNvSpPr/>
          <p:nvPr/>
        </p:nvSpPr>
        <p:spPr>
          <a:xfrm>
            <a:off x="996840" y="4038480"/>
            <a:ext cx="51768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93" name=""/>
          <p:cNvSpPr/>
          <p:nvPr/>
        </p:nvSpPr>
        <p:spPr>
          <a:xfrm>
            <a:off x="7559640" y="4038480"/>
            <a:ext cx="59364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94" name=""/>
          <p:cNvSpPr/>
          <p:nvPr/>
        </p:nvSpPr>
        <p:spPr>
          <a:xfrm>
            <a:off x="996840" y="4114800"/>
            <a:ext cx="51768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95" name=""/>
          <p:cNvSpPr/>
          <p:nvPr/>
        </p:nvSpPr>
        <p:spPr>
          <a:xfrm>
            <a:off x="7559640" y="4114800"/>
            <a:ext cx="59364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96" name=""/>
          <p:cNvSpPr/>
          <p:nvPr/>
        </p:nvSpPr>
        <p:spPr>
          <a:xfrm>
            <a:off x="7559640" y="5791320"/>
            <a:ext cx="59364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97" name=""/>
          <p:cNvSpPr/>
          <p:nvPr/>
        </p:nvSpPr>
        <p:spPr>
          <a:xfrm>
            <a:off x="7559640" y="5867280"/>
            <a:ext cx="59364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98" name=""/>
          <p:cNvSpPr txBox="1"/>
          <p:nvPr/>
        </p:nvSpPr>
        <p:spPr>
          <a:xfrm>
            <a:off x="1447920" y="2362320"/>
            <a:ext cx="7162920" cy="358128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3d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200" spc="-1" strike="noStrike">
                <a:solidFill>
                  <a:srgbClr val="fcffd8"/>
                </a:solidFill>
                <a:latin typeface="Arial"/>
                <a:ea typeface="Arial"/>
              </a:rPr>
              <a:t>Calculate the pricing of inventory, using the cost basis under the periodic inventory system, according to the last-in, first-out (LIFO) method.</a:t>
            </a:r>
            <a:endParaRPr b="0" lang="en-US" sz="3200" spc="-1" strike="noStrike">
              <a:solidFill>
                <a:srgbClr val="ffffff"/>
              </a:solidFill>
              <a:latin typeface="Arial"/>
            </a:endParaRPr>
          </a:p>
        </p:txBody>
      </p:sp>
      <p:sp>
        <p:nvSpPr>
          <p:cNvPr id="599" name=""/>
          <p:cNvSpPr txBox="1"/>
          <p:nvPr/>
        </p:nvSpPr>
        <p:spPr>
          <a:xfrm>
            <a:off x="990720" y="609480"/>
            <a:ext cx="7772400" cy="1600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ast-In, First-Out (LIFO) Method</a:t>
            </a:r>
            <a:endParaRPr b="0" lang="en-US" sz="4400" spc="-1" strike="noStrike">
              <a:solidFill>
                <a:srgbClr val="ffffff"/>
              </a:solidFill>
              <a:latin typeface="Arial"/>
            </a:endParaRPr>
          </a:p>
        </p:txBody>
      </p:sp>
      <p:pic>
        <p:nvPicPr>
          <p:cNvPr id="600" name="" descr=""/>
          <p:cNvPicPr/>
          <p:nvPr/>
        </p:nvPicPr>
        <p:blipFill>
          <a:blip r:embed="rId1"/>
          <a:stretch/>
        </p:blipFill>
        <p:spPr>
          <a:xfrm>
            <a:off x="0" y="0"/>
            <a:ext cx="863640" cy="7035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01" name=""/>
          <p:cNvSpPr txBox="1"/>
          <p:nvPr/>
        </p:nvSpPr>
        <p:spPr>
          <a:xfrm>
            <a:off x="1371600" y="304920"/>
            <a:ext cx="6934320" cy="1701360"/>
          </a:xfrm>
          <a:prstGeom prst="rect">
            <a:avLst/>
          </a:prstGeom>
          <a:noFill/>
          <a:ln w="0">
            <a:noFill/>
          </a:ln>
        </p:spPr>
        <p:txBody>
          <a:bodyPr lIns="0" rIns="0" tIns="0" bIns="0" anchor="t">
            <a:noAutofit/>
          </a:bodyPr>
          <a:p>
            <a:pPr algn="ctr">
              <a:lnSpc>
                <a:spcPct val="100000"/>
              </a:lnSpc>
            </a:pPr>
            <a:r>
              <a:rPr b="1" lang="en-US" sz="4000" spc="-1" strike="noStrike">
                <a:solidFill>
                  <a:srgbClr val="ffcc66"/>
                </a:solidFill>
                <a:latin typeface="Arial"/>
                <a:ea typeface="Arial"/>
              </a:rPr>
              <a:t>Last-In, First-Out (LIFO) Method for Pricing Ending Inventory</a:t>
            </a:r>
            <a:endParaRPr b="0" lang="en-US" sz="4000" spc="-1" strike="noStrike">
              <a:solidFill>
                <a:srgbClr val="ffffff"/>
              </a:solidFill>
              <a:latin typeface="Arial"/>
            </a:endParaRPr>
          </a:p>
        </p:txBody>
      </p:sp>
      <p:sp>
        <p:nvSpPr>
          <p:cNvPr id="602" name=""/>
          <p:cNvSpPr txBox="1"/>
          <p:nvPr/>
        </p:nvSpPr>
        <p:spPr>
          <a:xfrm>
            <a:off x="762120" y="2209680"/>
            <a:ext cx="7794720" cy="4084560"/>
          </a:xfrm>
          <a:prstGeom prst="rect">
            <a:avLst/>
          </a:prstGeom>
          <a:noFill/>
          <a:ln w="0">
            <a:noFill/>
          </a:ln>
        </p:spPr>
        <p:txBody>
          <a:bodyPr lIns="0" rIns="0" tIns="0" bIns="0" anchor="t">
            <a:noAutofit/>
          </a:bodyPr>
          <a:p>
            <a:pPr marL="343080" indent="-343080" algn="ctr">
              <a:lnSpc>
                <a:spcPct val="100000"/>
              </a:lnSpc>
              <a:spcBef>
                <a:spcPts val="479"/>
              </a:spcBef>
            </a:pPr>
            <a:r>
              <a:rPr b="1" lang="en-US" sz="2800" spc="-1" strike="noStrike">
                <a:solidFill>
                  <a:srgbClr val="ffff00"/>
                </a:solidFill>
                <a:latin typeface="Arial"/>
                <a:ea typeface="Arial"/>
              </a:rPr>
              <a:t>Inventory Data - June 30</a:t>
            </a:r>
            <a:endParaRPr b="0" lang="en-US" sz="2800" spc="-1" strike="noStrike">
              <a:solidFill>
                <a:srgbClr val="ffffff"/>
              </a:solidFill>
              <a:latin typeface="Arial"/>
            </a:endParaRPr>
          </a:p>
          <a:p>
            <a:pPr marL="343080" indent="-343080">
              <a:lnSpc>
                <a:spcPct val="10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50 units @ $1.00 from June 1 inventory       $  50</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50 units @ $1.10 from June 6 purchase           55</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u="sng">
                <a:solidFill>
                  <a:srgbClr val="fcffd8"/>
                </a:solidFill>
                <a:uFillTx/>
                <a:latin typeface="Arial"/>
                <a:ea typeface="Arial"/>
              </a:rPr>
              <a:t>120</a:t>
            </a:r>
            <a:r>
              <a:rPr b="1" lang="en-US" sz="2400" spc="-1" strike="noStrike">
                <a:solidFill>
                  <a:srgbClr val="fcffd8"/>
                </a:solidFill>
                <a:latin typeface="Arial"/>
                <a:ea typeface="Arial"/>
              </a:rPr>
              <a:t> units @ $1.20 from June 13 purchase       </a:t>
            </a:r>
            <a:r>
              <a:rPr b="1" lang="en-US" sz="2400" spc="-1" strike="noStrike" u="sng">
                <a:solidFill>
                  <a:srgbClr val="fcffd8"/>
                </a:solidFill>
                <a:uFillTx/>
                <a:latin typeface="Arial"/>
                <a:ea typeface="Arial"/>
              </a:rPr>
              <a:t>144</a:t>
            </a:r>
            <a:r>
              <a:rPr b="1" lang="en-US" sz="2400" spc="-1" strike="noStrike">
                <a:solidFill>
                  <a:srgbClr val="fcffd8"/>
                </a:solidFill>
                <a:latin typeface="Arial"/>
                <a:ea typeface="Arial"/>
              </a:rPr>
              <a:t> </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cffd8"/>
                </a:solidFill>
                <a:latin typeface="Arial"/>
                <a:ea typeface="Arial"/>
              </a:rPr>
              <a:t>220 units @ a cost of                                        $249</a:t>
            </a:r>
            <a:endParaRPr b="0" lang="en-US" sz="2400" spc="-1" strike="noStrike">
              <a:solidFill>
                <a:srgbClr val="ffffff"/>
              </a:solidFill>
              <a:latin typeface="Arial"/>
            </a:endParaRPr>
          </a:p>
          <a:p>
            <a:pPr marL="343080" indent="-343080">
              <a:lnSpc>
                <a:spcPct val="100000"/>
              </a:lnSpc>
              <a:spcBef>
                <a:spcPts val="479"/>
              </a:spcBef>
            </a:pP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cffd8"/>
                </a:solidFill>
                <a:latin typeface="Arial"/>
                <a:ea typeface="Arial"/>
              </a:rPr>
              <a:t>COGAFS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625</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cffd8"/>
                </a:solidFill>
                <a:latin typeface="Arial"/>
                <a:ea typeface="Arial"/>
              </a:rPr>
              <a:t>Less June 30 inventory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u="sng">
                <a:solidFill>
                  <a:srgbClr val="fcffd8"/>
                </a:solidFill>
                <a:uFillTx/>
                <a:latin typeface="Arial"/>
                <a:ea typeface="Arial"/>
              </a:rPr>
              <a:t>249</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fcffd8"/>
                </a:solidFill>
                <a:latin typeface="Arial"/>
                <a:ea typeface="Arial"/>
              </a:rPr>
              <a:t>COGS</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376</a:t>
            </a:r>
            <a:endParaRPr b="0" lang="en-US" sz="2400" spc="-1" strike="noStrike">
              <a:solidFill>
                <a:srgbClr val="ffffff"/>
              </a:solidFill>
              <a:latin typeface="Arial"/>
            </a:endParaRPr>
          </a:p>
        </p:txBody>
      </p:sp>
      <p:grpSp>
        <p:nvGrpSpPr>
          <p:cNvPr id="603" name=""/>
          <p:cNvGrpSpPr/>
          <p:nvPr/>
        </p:nvGrpSpPr>
        <p:grpSpPr>
          <a:xfrm>
            <a:off x="6416640" y="4191120"/>
            <a:ext cx="2346480" cy="1295280"/>
            <a:chOff x="6416640" y="4191120"/>
            <a:chExt cx="2346480" cy="1295280"/>
          </a:xfrm>
        </p:grpSpPr>
        <p:sp>
          <p:nvSpPr>
            <p:cNvPr id="604" name=""/>
            <p:cNvSpPr/>
            <p:nvPr/>
          </p:nvSpPr>
          <p:spPr>
            <a:xfrm>
              <a:off x="8245440" y="4191120"/>
              <a:ext cx="515880" cy="0"/>
            </a:xfrm>
            <a:prstGeom prst="line">
              <a:avLst/>
            </a:prstGeom>
            <a:ln w="25560">
              <a:solidFill>
                <a:srgbClr val="fcffd8"/>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05" name=""/>
            <p:cNvSpPr/>
            <p:nvPr/>
          </p:nvSpPr>
          <p:spPr>
            <a:xfrm>
              <a:off x="6416640" y="5486400"/>
              <a:ext cx="2344680" cy="0"/>
            </a:xfrm>
            <a:prstGeom prst="line">
              <a:avLst/>
            </a:prstGeom>
            <a:ln w="25560">
              <a:solidFill>
                <a:srgbClr val="fcffd8"/>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06" name=""/>
            <p:cNvSpPr/>
            <p:nvPr/>
          </p:nvSpPr>
          <p:spPr>
            <a:xfrm>
              <a:off x="8763120" y="4206960"/>
              <a:ext cx="0" cy="127800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607" name=""/>
          <p:cNvSpPr/>
          <p:nvPr/>
        </p:nvSpPr>
        <p:spPr>
          <a:xfrm>
            <a:off x="844560" y="4419720"/>
            <a:ext cx="52704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08" name=""/>
          <p:cNvSpPr/>
          <p:nvPr/>
        </p:nvSpPr>
        <p:spPr>
          <a:xfrm>
            <a:off x="5425920" y="6172200"/>
            <a:ext cx="6699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09" name=""/>
          <p:cNvSpPr/>
          <p:nvPr/>
        </p:nvSpPr>
        <p:spPr>
          <a:xfrm>
            <a:off x="844560" y="4495680"/>
            <a:ext cx="52704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10" name=""/>
          <p:cNvSpPr/>
          <p:nvPr/>
        </p:nvSpPr>
        <p:spPr>
          <a:xfrm>
            <a:off x="5425920" y="6248520"/>
            <a:ext cx="6699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11" name=""/>
          <p:cNvSpPr/>
          <p:nvPr/>
        </p:nvSpPr>
        <p:spPr>
          <a:xfrm>
            <a:off x="7254720" y="4419720"/>
            <a:ext cx="74628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12" name=""/>
          <p:cNvSpPr/>
          <p:nvPr/>
        </p:nvSpPr>
        <p:spPr>
          <a:xfrm>
            <a:off x="7254720" y="4495680"/>
            <a:ext cx="74628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13" name=""/>
          <p:cNvSpPr txBox="1"/>
          <p:nvPr/>
        </p:nvSpPr>
        <p:spPr>
          <a:xfrm>
            <a:off x="1447920" y="1066680"/>
            <a:ext cx="617220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614" name=""/>
          <p:cNvSpPr txBox="1"/>
          <p:nvPr/>
        </p:nvSpPr>
        <p:spPr>
          <a:xfrm>
            <a:off x="762120" y="2362320"/>
            <a:ext cx="8381880" cy="380988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Do the FIFO and LIFO inventory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methods result in different quantities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of ending inventory?</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0128"/>
                </a:solidFill>
                <a:latin typeface="Arial"/>
                <a:ea typeface="Arial"/>
              </a:rPr>
              <a:t>A.</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The quantities of ending inventory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are the same under FIFO and LIFO.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ese methods affect the pricing of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e inventory, not the quantities.</a:t>
            </a:r>
            <a:endParaRPr b="0" lang="en-US" sz="3200" spc="-1" strike="noStrike">
              <a:solidFill>
                <a:srgbClr val="ffffff"/>
              </a:solidFill>
              <a:latin typeface="Arial"/>
            </a:endParaRPr>
          </a:p>
        </p:txBody>
      </p:sp>
      <p:grpSp>
        <p:nvGrpSpPr>
          <p:cNvPr id="615" name=""/>
          <p:cNvGrpSpPr/>
          <p:nvPr/>
        </p:nvGrpSpPr>
        <p:grpSpPr>
          <a:xfrm>
            <a:off x="6629400" y="304920"/>
            <a:ext cx="2132280" cy="2055960"/>
            <a:chOff x="6629400" y="304920"/>
            <a:chExt cx="2132280" cy="2055960"/>
          </a:xfrm>
        </p:grpSpPr>
        <p:sp>
          <p:nvSpPr>
            <p:cNvPr id="616" name=""/>
            <p:cNvSpPr/>
            <p:nvPr/>
          </p:nvSpPr>
          <p:spPr>
            <a:xfrm>
              <a:off x="6634080" y="1314360"/>
              <a:ext cx="519480" cy="716400"/>
            </a:xfrm>
            <a:custGeom>
              <a:avLst/>
              <a:gdLst/>
              <a:ahLst/>
              <a:rect l="0" t="0" r="r" b="b"/>
              <a:pathLst>
                <a:path w="1443" h="1990">
                  <a:moveTo>
                    <a:pt x="578" y="0"/>
                  </a:moveTo>
                  <a:lnTo>
                    <a:pt x="499" y="92"/>
                  </a:lnTo>
                  <a:lnTo>
                    <a:pt x="499" y="348"/>
                  </a:lnTo>
                  <a:lnTo>
                    <a:pt x="578" y="534"/>
                  </a:lnTo>
                  <a:lnTo>
                    <a:pt x="666" y="627"/>
                  </a:lnTo>
                  <a:lnTo>
                    <a:pt x="530" y="755"/>
                  </a:lnTo>
                  <a:lnTo>
                    <a:pt x="362" y="1041"/>
                  </a:lnTo>
                  <a:lnTo>
                    <a:pt x="26" y="1501"/>
                  </a:lnTo>
                  <a:lnTo>
                    <a:pt x="0" y="1615"/>
                  </a:lnTo>
                  <a:lnTo>
                    <a:pt x="26" y="1708"/>
                  </a:lnTo>
                  <a:lnTo>
                    <a:pt x="132" y="1708"/>
                  </a:lnTo>
                  <a:lnTo>
                    <a:pt x="220" y="1602"/>
                  </a:lnTo>
                  <a:lnTo>
                    <a:pt x="362" y="1341"/>
                  </a:lnTo>
                  <a:lnTo>
                    <a:pt x="446" y="1231"/>
                  </a:lnTo>
                  <a:lnTo>
                    <a:pt x="499" y="1398"/>
                  </a:lnTo>
                  <a:lnTo>
                    <a:pt x="468" y="1585"/>
                  </a:lnTo>
                  <a:lnTo>
                    <a:pt x="321" y="1849"/>
                  </a:lnTo>
                  <a:lnTo>
                    <a:pt x="362" y="1902"/>
                  </a:lnTo>
                  <a:lnTo>
                    <a:pt x="446" y="1889"/>
                  </a:lnTo>
                  <a:lnTo>
                    <a:pt x="622" y="1752"/>
                  </a:lnTo>
                  <a:lnTo>
                    <a:pt x="768" y="1518"/>
                  </a:lnTo>
                  <a:lnTo>
                    <a:pt x="768" y="1920"/>
                  </a:lnTo>
                  <a:lnTo>
                    <a:pt x="940" y="1990"/>
                  </a:lnTo>
                  <a:lnTo>
                    <a:pt x="1041" y="1739"/>
                  </a:lnTo>
                  <a:lnTo>
                    <a:pt x="1130" y="1973"/>
                  </a:lnTo>
                  <a:lnTo>
                    <a:pt x="1201" y="1902"/>
                  </a:lnTo>
                  <a:lnTo>
                    <a:pt x="1232" y="1447"/>
                  </a:lnTo>
                  <a:lnTo>
                    <a:pt x="1443" y="1010"/>
                  </a:lnTo>
                  <a:lnTo>
                    <a:pt x="1395" y="755"/>
                  </a:lnTo>
                  <a:lnTo>
                    <a:pt x="1249" y="662"/>
                  </a:lnTo>
                  <a:lnTo>
                    <a:pt x="1095" y="671"/>
                  </a:lnTo>
                  <a:lnTo>
                    <a:pt x="1041" y="471"/>
                  </a:lnTo>
                  <a:lnTo>
                    <a:pt x="882" y="423"/>
                  </a:lnTo>
                  <a:lnTo>
                    <a:pt x="741" y="361"/>
                  </a:lnTo>
                  <a:lnTo>
                    <a:pt x="666" y="39"/>
                  </a:lnTo>
                  <a:lnTo>
                    <a:pt x="578"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17" name=""/>
            <p:cNvSpPr/>
            <p:nvPr/>
          </p:nvSpPr>
          <p:spPr>
            <a:xfrm>
              <a:off x="7070760" y="1604880"/>
              <a:ext cx="152640" cy="346320"/>
            </a:xfrm>
            <a:custGeom>
              <a:avLst/>
              <a:gdLst/>
              <a:ahLst/>
              <a:rect l="0" t="0" r="r" b="b"/>
              <a:pathLst>
                <a:path w="424" h="962">
                  <a:moveTo>
                    <a:pt x="207" y="0"/>
                  </a:moveTo>
                  <a:lnTo>
                    <a:pt x="424" y="251"/>
                  </a:lnTo>
                  <a:lnTo>
                    <a:pt x="318" y="794"/>
                  </a:lnTo>
                  <a:lnTo>
                    <a:pt x="0" y="962"/>
                  </a:lnTo>
                  <a:lnTo>
                    <a:pt x="0" y="693"/>
                  </a:lnTo>
                  <a:lnTo>
                    <a:pt x="127" y="405"/>
                  </a:lnTo>
                  <a:lnTo>
                    <a:pt x="207" y="202"/>
                  </a:lnTo>
                  <a:lnTo>
                    <a:pt x="20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8" name=""/>
            <p:cNvSpPr/>
            <p:nvPr/>
          </p:nvSpPr>
          <p:spPr>
            <a:xfrm>
              <a:off x="8059680" y="1406520"/>
              <a:ext cx="384480" cy="313200"/>
            </a:xfrm>
            <a:custGeom>
              <a:avLst/>
              <a:gdLst/>
              <a:ahLst/>
              <a:rect l="0" t="0" r="r" b="b"/>
              <a:pathLst>
                <a:path w="1068" h="870">
                  <a:moveTo>
                    <a:pt x="440" y="0"/>
                  </a:moveTo>
                  <a:lnTo>
                    <a:pt x="440" y="141"/>
                  </a:lnTo>
                  <a:lnTo>
                    <a:pt x="476" y="261"/>
                  </a:lnTo>
                  <a:lnTo>
                    <a:pt x="688" y="472"/>
                  </a:lnTo>
                  <a:lnTo>
                    <a:pt x="1068" y="591"/>
                  </a:lnTo>
                  <a:lnTo>
                    <a:pt x="1019" y="853"/>
                  </a:lnTo>
                  <a:lnTo>
                    <a:pt x="688" y="870"/>
                  </a:lnTo>
                  <a:lnTo>
                    <a:pt x="202" y="676"/>
                  </a:lnTo>
                  <a:lnTo>
                    <a:pt x="0" y="349"/>
                  </a:lnTo>
                  <a:lnTo>
                    <a:pt x="238" y="17"/>
                  </a:lnTo>
                  <a:lnTo>
                    <a:pt x="440"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8215200" y="1049400"/>
              <a:ext cx="533880" cy="694080"/>
            </a:xfrm>
            <a:custGeom>
              <a:avLst/>
              <a:gdLst/>
              <a:ahLst/>
              <a:rect l="0" t="0" r="r" b="b"/>
              <a:pathLst>
                <a:path w="1483" h="1928">
                  <a:moveTo>
                    <a:pt x="132" y="815"/>
                  </a:moveTo>
                  <a:lnTo>
                    <a:pt x="0" y="952"/>
                  </a:lnTo>
                  <a:lnTo>
                    <a:pt x="26" y="1266"/>
                  </a:lnTo>
                  <a:lnTo>
                    <a:pt x="238" y="1412"/>
                  </a:lnTo>
                  <a:lnTo>
                    <a:pt x="251" y="1897"/>
                  </a:lnTo>
                  <a:lnTo>
                    <a:pt x="459" y="1897"/>
                  </a:lnTo>
                  <a:lnTo>
                    <a:pt x="446" y="1491"/>
                  </a:lnTo>
                  <a:lnTo>
                    <a:pt x="600" y="1910"/>
                  </a:lnTo>
                  <a:lnTo>
                    <a:pt x="706" y="1928"/>
                  </a:lnTo>
                  <a:lnTo>
                    <a:pt x="772" y="1786"/>
                  </a:lnTo>
                  <a:lnTo>
                    <a:pt x="794" y="1517"/>
                  </a:lnTo>
                  <a:lnTo>
                    <a:pt x="1019" y="1773"/>
                  </a:lnTo>
                  <a:lnTo>
                    <a:pt x="1113" y="1747"/>
                  </a:lnTo>
                  <a:lnTo>
                    <a:pt x="1094" y="1579"/>
                  </a:lnTo>
                  <a:lnTo>
                    <a:pt x="1002" y="1337"/>
                  </a:lnTo>
                  <a:lnTo>
                    <a:pt x="913" y="1173"/>
                  </a:lnTo>
                  <a:lnTo>
                    <a:pt x="949" y="1063"/>
                  </a:lnTo>
                  <a:lnTo>
                    <a:pt x="1002" y="1085"/>
                  </a:lnTo>
                  <a:lnTo>
                    <a:pt x="1214" y="1337"/>
                  </a:lnTo>
                  <a:lnTo>
                    <a:pt x="1435" y="1394"/>
                  </a:lnTo>
                  <a:lnTo>
                    <a:pt x="1483" y="1319"/>
                  </a:lnTo>
                  <a:lnTo>
                    <a:pt x="1452" y="1187"/>
                  </a:lnTo>
                  <a:lnTo>
                    <a:pt x="1037" y="798"/>
                  </a:lnTo>
                  <a:lnTo>
                    <a:pt x="706" y="679"/>
                  </a:lnTo>
                  <a:lnTo>
                    <a:pt x="666" y="463"/>
                  </a:lnTo>
                  <a:lnTo>
                    <a:pt x="772" y="264"/>
                  </a:lnTo>
                  <a:lnTo>
                    <a:pt x="772" y="66"/>
                  </a:lnTo>
                  <a:lnTo>
                    <a:pt x="688" y="0"/>
                  </a:lnTo>
                  <a:lnTo>
                    <a:pt x="446" y="524"/>
                  </a:lnTo>
                  <a:lnTo>
                    <a:pt x="238" y="599"/>
                  </a:lnTo>
                  <a:lnTo>
                    <a:pt x="180" y="745"/>
                  </a:lnTo>
                  <a:lnTo>
                    <a:pt x="132" y="815"/>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20" name=""/>
            <p:cNvSpPr/>
            <p:nvPr/>
          </p:nvSpPr>
          <p:spPr>
            <a:xfrm>
              <a:off x="7338960" y="449280"/>
              <a:ext cx="582840" cy="884520"/>
            </a:xfrm>
            <a:custGeom>
              <a:avLst/>
              <a:gdLst/>
              <a:ahLst/>
              <a:rect l="0" t="0" r="r" b="b"/>
              <a:pathLst>
                <a:path w="1619" h="2457">
                  <a:moveTo>
                    <a:pt x="401" y="339"/>
                  </a:moveTo>
                  <a:lnTo>
                    <a:pt x="286" y="811"/>
                  </a:lnTo>
                  <a:lnTo>
                    <a:pt x="13" y="908"/>
                  </a:lnTo>
                  <a:lnTo>
                    <a:pt x="88" y="1053"/>
                  </a:lnTo>
                  <a:lnTo>
                    <a:pt x="0" y="1146"/>
                  </a:lnTo>
                  <a:lnTo>
                    <a:pt x="0" y="1315"/>
                  </a:lnTo>
                  <a:lnTo>
                    <a:pt x="127" y="1478"/>
                  </a:lnTo>
                  <a:lnTo>
                    <a:pt x="251" y="1478"/>
                  </a:lnTo>
                  <a:lnTo>
                    <a:pt x="335" y="2020"/>
                  </a:lnTo>
                  <a:lnTo>
                    <a:pt x="440" y="2254"/>
                  </a:lnTo>
                  <a:lnTo>
                    <a:pt x="767" y="2457"/>
                  </a:lnTo>
                  <a:lnTo>
                    <a:pt x="1103" y="2430"/>
                  </a:lnTo>
                  <a:lnTo>
                    <a:pt x="1257" y="2020"/>
                  </a:lnTo>
                  <a:lnTo>
                    <a:pt x="1293" y="1398"/>
                  </a:lnTo>
                  <a:lnTo>
                    <a:pt x="1619" y="1084"/>
                  </a:lnTo>
                  <a:lnTo>
                    <a:pt x="1606" y="965"/>
                  </a:lnTo>
                  <a:lnTo>
                    <a:pt x="1566" y="908"/>
                  </a:lnTo>
                  <a:lnTo>
                    <a:pt x="1394" y="895"/>
                  </a:lnTo>
                  <a:lnTo>
                    <a:pt x="1451" y="732"/>
                  </a:lnTo>
                  <a:lnTo>
                    <a:pt x="1275" y="617"/>
                  </a:lnTo>
                  <a:lnTo>
                    <a:pt x="1204" y="264"/>
                  </a:lnTo>
                  <a:lnTo>
                    <a:pt x="701" y="0"/>
                  </a:lnTo>
                  <a:lnTo>
                    <a:pt x="440" y="251"/>
                  </a:lnTo>
                  <a:lnTo>
                    <a:pt x="401" y="33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21" name=""/>
            <p:cNvSpPr/>
            <p:nvPr/>
          </p:nvSpPr>
          <p:spPr>
            <a:xfrm>
              <a:off x="7381800" y="1189080"/>
              <a:ext cx="533880" cy="1054440"/>
            </a:xfrm>
            <a:custGeom>
              <a:avLst/>
              <a:gdLst/>
              <a:ahLst/>
              <a:rect l="0" t="0" r="r" b="b"/>
              <a:pathLst>
                <a:path w="1483" h="2929">
                  <a:moveTo>
                    <a:pt x="304" y="149"/>
                  </a:moveTo>
                  <a:lnTo>
                    <a:pt x="512" y="291"/>
                  </a:lnTo>
                  <a:lnTo>
                    <a:pt x="618" y="449"/>
                  </a:lnTo>
                  <a:lnTo>
                    <a:pt x="1214" y="0"/>
                  </a:lnTo>
                  <a:lnTo>
                    <a:pt x="1399" y="92"/>
                  </a:lnTo>
                  <a:lnTo>
                    <a:pt x="1483" y="560"/>
                  </a:lnTo>
                  <a:lnTo>
                    <a:pt x="1050" y="1906"/>
                  </a:lnTo>
                  <a:lnTo>
                    <a:pt x="1192" y="2651"/>
                  </a:lnTo>
                  <a:lnTo>
                    <a:pt x="631" y="2929"/>
                  </a:lnTo>
                  <a:lnTo>
                    <a:pt x="198" y="2774"/>
                  </a:lnTo>
                  <a:lnTo>
                    <a:pt x="198" y="1980"/>
                  </a:lnTo>
                  <a:lnTo>
                    <a:pt x="0" y="1217"/>
                  </a:lnTo>
                  <a:lnTo>
                    <a:pt x="198" y="291"/>
                  </a:lnTo>
                  <a:lnTo>
                    <a:pt x="304" y="149"/>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2" name=""/>
            <p:cNvSpPr/>
            <p:nvPr/>
          </p:nvSpPr>
          <p:spPr>
            <a:xfrm>
              <a:off x="7404120" y="334800"/>
              <a:ext cx="498960" cy="276480"/>
            </a:xfrm>
            <a:custGeom>
              <a:avLst/>
              <a:gdLst/>
              <a:ahLst/>
              <a:rect l="0" t="0" r="r" b="b"/>
              <a:pathLst>
                <a:path w="1386" h="768">
                  <a:moveTo>
                    <a:pt x="171" y="737"/>
                  </a:moveTo>
                  <a:lnTo>
                    <a:pt x="375" y="525"/>
                  </a:lnTo>
                  <a:lnTo>
                    <a:pt x="503" y="499"/>
                  </a:lnTo>
                  <a:lnTo>
                    <a:pt x="503" y="516"/>
                  </a:lnTo>
                  <a:lnTo>
                    <a:pt x="569" y="499"/>
                  </a:lnTo>
                  <a:lnTo>
                    <a:pt x="653" y="556"/>
                  </a:lnTo>
                  <a:lnTo>
                    <a:pt x="816" y="591"/>
                  </a:lnTo>
                  <a:lnTo>
                    <a:pt x="949" y="768"/>
                  </a:lnTo>
                  <a:lnTo>
                    <a:pt x="1166" y="688"/>
                  </a:lnTo>
                  <a:lnTo>
                    <a:pt x="1166" y="609"/>
                  </a:lnTo>
                  <a:lnTo>
                    <a:pt x="1386" y="516"/>
                  </a:lnTo>
                  <a:lnTo>
                    <a:pt x="1320" y="370"/>
                  </a:lnTo>
                  <a:lnTo>
                    <a:pt x="1117" y="361"/>
                  </a:lnTo>
                  <a:lnTo>
                    <a:pt x="1148" y="202"/>
                  </a:lnTo>
                  <a:lnTo>
                    <a:pt x="966" y="220"/>
                  </a:lnTo>
                  <a:lnTo>
                    <a:pt x="940" y="110"/>
                  </a:lnTo>
                  <a:lnTo>
                    <a:pt x="816" y="110"/>
                  </a:lnTo>
                  <a:lnTo>
                    <a:pt x="733" y="167"/>
                  </a:lnTo>
                  <a:lnTo>
                    <a:pt x="653" y="167"/>
                  </a:lnTo>
                  <a:lnTo>
                    <a:pt x="675" y="0"/>
                  </a:lnTo>
                  <a:lnTo>
                    <a:pt x="503" y="83"/>
                  </a:lnTo>
                  <a:lnTo>
                    <a:pt x="268" y="361"/>
                  </a:lnTo>
                  <a:lnTo>
                    <a:pt x="260" y="167"/>
                  </a:lnTo>
                  <a:lnTo>
                    <a:pt x="136" y="260"/>
                  </a:lnTo>
                  <a:lnTo>
                    <a:pt x="105" y="499"/>
                  </a:lnTo>
                  <a:lnTo>
                    <a:pt x="0" y="459"/>
                  </a:lnTo>
                  <a:lnTo>
                    <a:pt x="13" y="609"/>
                  </a:lnTo>
                  <a:lnTo>
                    <a:pt x="171" y="737"/>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3" name=""/>
            <p:cNvSpPr/>
            <p:nvPr/>
          </p:nvSpPr>
          <p:spPr>
            <a:xfrm>
              <a:off x="7539120" y="1382760"/>
              <a:ext cx="159120" cy="798840"/>
            </a:xfrm>
            <a:custGeom>
              <a:avLst/>
              <a:gdLst/>
              <a:ahLst/>
              <a:rect l="0" t="0" r="r" b="b"/>
              <a:pathLst>
                <a:path w="442" h="2219">
                  <a:moveTo>
                    <a:pt x="230" y="13"/>
                  </a:moveTo>
                  <a:lnTo>
                    <a:pt x="79" y="110"/>
                  </a:lnTo>
                  <a:lnTo>
                    <a:pt x="79" y="299"/>
                  </a:lnTo>
                  <a:lnTo>
                    <a:pt x="186" y="357"/>
                  </a:lnTo>
                  <a:lnTo>
                    <a:pt x="39" y="657"/>
                  </a:lnTo>
                  <a:lnTo>
                    <a:pt x="0" y="1040"/>
                  </a:lnTo>
                  <a:lnTo>
                    <a:pt x="111" y="1548"/>
                  </a:lnTo>
                  <a:lnTo>
                    <a:pt x="111" y="1769"/>
                  </a:lnTo>
                  <a:lnTo>
                    <a:pt x="52" y="1936"/>
                  </a:lnTo>
                  <a:lnTo>
                    <a:pt x="274" y="2219"/>
                  </a:lnTo>
                  <a:lnTo>
                    <a:pt x="429" y="1782"/>
                  </a:lnTo>
                  <a:lnTo>
                    <a:pt x="429" y="1495"/>
                  </a:lnTo>
                  <a:lnTo>
                    <a:pt x="318" y="1209"/>
                  </a:lnTo>
                  <a:lnTo>
                    <a:pt x="261" y="837"/>
                  </a:lnTo>
                  <a:lnTo>
                    <a:pt x="372" y="471"/>
                  </a:lnTo>
                  <a:lnTo>
                    <a:pt x="337" y="326"/>
                  </a:lnTo>
                  <a:lnTo>
                    <a:pt x="442" y="251"/>
                  </a:lnTo>
                  <a:lnTo>
                    <a:pt x="429" y="149"/>
                  </a:lnTo>
                  <a:lnTo>
                    <a:pt x="300" y="0"/>
                  </a:lnTo>
                  <a:lnTo>
                    <a:pt x="230"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4" name=""/>
            <p:cNvSpPr/>
            <p:nvPr/>
          </p:nvSpPr>
          <p:spPr>
            <a:xfrm>
              <a:off x="7534440" y="1116000"/>
              <a:ext cx="128880" cy="73440"/>
            </a:xfrm>
            <a:custGeom>
              <a:avLst/>
              <a:gdLst/>
              <a:ahLst/>
              <a:rect l="0" t="0" r="r" b="b"/>
              <a:pathLst>
                <a:path w="358" h="204">
                  <a:moveTo>
                    <a:pt x="0" y="67"/>
                  </a:moveTo>
                  <a:lnTo>
                    <a:pt x="141" y="204"/>
                  </a:lnTo>
                  <a:lnTo>
                    <a:pt x="283" y="187"/>
                  </a:lnTo>
                  <a:lnTo>
                    <a:pt x="358" y="17"/>
                  </a:lnTo>
                  <a:lnTo>
                    <a:pt x="199" y="0"/>
                  </a:lnTo>
                  <a:lnTo>
                    <a:pt x="35" y="17"/>
                  </a:lnTo>
                  <a:lnTo>
                    <a:pt x="0" y="67"/>
                  </a:lnTo>
                  <a:close/>
                </a:path>
              </a:pathLst>
            </a:custGeom>
            <a:solidFill>
              <a:srgbClr val="ffffff"/>
            </a:solidFill>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625" name=""/>
            <p:cNvSpPr/>
            <p:nvPr/>
          </p:nvSpPr>
          <p:spPr>
            <a:xfrm>
              <a:off x="7392960" y="746280"/>
              <a:ext cx="160560" cy="157680"/>
            </a:xfrm>
            <a:custGeom>
              <a:avLst/>
              <a:gdLst/>
              <a:ahLst/>
              <a:rect l="0" t="0" r="r" b="b"/>
              <a:pathLst>
                <a:path w="446" h="438">
                  <a:moveTo>
                    <a:pt x="0" y="44"/>
                  </a:moveTo>
                  <a:lnTo>
                    <a:pt x="305" y="438"/>
                  </a:lnTo>
                  <a:lnTo>
                    <a:pt x="446" y="412"/>
                  </a:lnTo>
                  <a:lnTo>
                    <a:pt x="123" y="0"/>
                  </a:lnTo>
                  <a:lnTo>
                    <a:pt x="0" y="4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6" name=""/>
            <p:cNvSpPr/>
            <p:nvPr/>
          </p:nvSpPr>
          <p:spPr>
            <a:xfrm>
              <a:off x="7672320" y="716040"/>
              <a:ext cx="138600" cy="152640"/>
            </a:xfrm>
            <a:custGeom>
              <a:avLst/>
              <a:gdLst/>
              <a:ahLst/>
              <a:rect l="0" t="0" r="r" b="b"/>
              <a:pathLst>
                <a:path w="385" h="424">
                  <a:moveTo>
                    <a:pt x="0" y="57"/>
                  </a:moveTo>
                  <a:lnTo>
                    <a:pt x="265" y="424"/>
                  </a:lnTo>
                  <a:lnTo>
                    <a:pt x="385" y="327"/>
                  </a:lnTo>
                  <a:lnTo>
                    <a:pt x="106" y="0"/>
                  </a:lnTo>
                  <a:lnTo>
                    <a:pt x="0" y="5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7" name=""/>
            <p:cNvSpPr/>
            <p:nvPr/>
          </p:nvSpPr>
          <p:spPr>
            <a:xfrm>
              <a:off x="7335720" y="512640"/>
              <a:ext cx="554400" cy="390960"/>
            </a:xfrm>
            <a:custGeom>
              <a:avLst/>
              <a:gdLst/>
              <a:ahLst/>
              <a:rect l="0" t="0" r="r" b="b"/>
              <a:pathLst>
                <a:path w="1540" h="1086">
                  <a:moveTo>
                    <a:pt x="702" y="640"/>
                  </a:moveTo>
                  <a:lnTo>
                    <a:pt x="565" y="605"/>
                  </a:lnTo>
                  <a:lnTo>
                    <a:pt x="684" y="508"/>
                  </a:lnTo>
                  <a:lnTo>
                    <a:pt x="640" y="455"/>
                  </a:lnTo>
                  <a:lnTo>
                    <a:pt x="486" y="583"/>
                  </a:lnTo>
                  <a:lnTo>
                    <a:pt x="189" y="613"/>
                  </a:lnTo>
                  <a:lnTo>
                    <a:pt x="0" y="622"/>
                  </a:lnTo>
                  <a:lnTo>
                    <a:pt x="0" y="768"/>
                  </a:lnTo>
                  <a:lnTo>
                    <a:pt x="185" y="1077"/>
                  </a:lnTo>
                  <a:lnTo>
                    <a:pt x="233" y="1086"/>
                  </a:lnTo>
                  <a:lnTo>
                    <a:pt x="61" y="750"/>
                  </a:lnTo>
                  <a:lnTo>
                    <a:pt x="317" y="640"/>
                  </a:lnTo>
                  <a:lnTo>
                    <a:pt x="486" y="640"/>
                  </a:lnTo>
                  <a:lnTo>
                    <a:pt x="613" y="710"/>
                  </a:lnTo>
                  <a:lnTo>
                    <a:pt x="640" y="807"/>
                  </a:lnTo>
                  <a:lnTo>
                    <a:pt x="640" y="1007"/>
                  </a:lnTo>
                  <a:lnTo>
                    <a:pt x="640" y="1077"/>
                  </a:lnTo>
                  <a:lnTo>
                    <a:pt x="719" y="980"/>
                  </a:lnTo>
                  <a:lnTo>
                    <a:pt x="719" y="759"/>
                  </a:lnTo>
                  <a:lnTo>
                    <a:pt x="821" y="759"/>
                  </a:lnTo>
                  <a:lnTo>
                    <a:pt x="878" y="1007"/>
                  </a:lnTo>
                  <a:lnTo>
                    <a:pt x="935" y="1038"/>
                  </a:lnTo>
                  <a:lnTo>
                    <a:pt x="1125" y="1038"/>
                  </a:lnTo>
                  <a:lnTo>
                    <a:pt x="1311" y="989"/>
                  </a:lnTo>
                  <a:lnTo>
                    <a:pt x="1443" y="892"/>
                  </a:lnTo>
                  <a:lnTo>
                    <a:pt x="1466" y="680"/>
                  </a:lnTo>
                  <a:lnTo>
                    <a:pt x="1540" y="583"/>
                  </a:lnTo>
                  <a:lnTo>
                    <a:pt x="1496" y="521"/>
                  </a:lnTo>
                  <a:lnTo>
                    <a:pt x="1324" y="464"/>
                  </a:lnTo>
                  <a:lnTo>
                    <a:pt x="1298" y="242"/>
                  </a:lnTo>
                  <a:lnTo>
                    <a:pt x="1134" y="242"/>
                  </a:lnTo>
                  <a:lnTo>
                    <a:pt x="944" y="0"/>
                  </a:lnTo>
                  <a:lnTo>
                    <a:pt x="1121" y="268"/>
                  </a:lnTo>
                  <a:lnTo>
                    <a:pt x="1174" y="268"/>
                  </a:lnTo>
                  <a:lnTo>
                    <a:pt x="1214" y="455"/>
                  </a:lnTo>
                  <a:lnTo>
                    <a:pt x="997" y="521"/>
                  </a:lnTo>
                  <a:lnTo>
                    <a:pt x="843" y="472"/>
                  </a:lnTo>
                  <a:lnTo>
                    <a:pt x="812" y="521"/>
                  </a:lnTo>
                  <a:lnTo>
                    <a:pt x="900" y="583"/>
                  </a:lnTo>
                  <a:lnTo>
                    <a:pt x="900" y="636"/>
                  </a:lnTo>
                  <a:lnTo>
                    <a:pt x="1085" y="556"/>
                  </a:lnTo>
                  <a:lnTo>
                    <a:pt x="1241" y="534"/>
                  </a:lnTo>
                  <a:lnTo>
                    <a:pt x="1413" y="565"/>
                  </a:lnTo>
                  <a:lnTo>
                    <a:pt x="1413" y="591"/>
                  </a:lnTo>
                  <a:lnTo>
                    <a:pt x="1333" y="671"/>
                  </a:lnTo>
                  <a:lnTo>
                    <a:pt x="1298" y="759"/>
                  </a:lnTo>
                  <a:lnTo>
                    <a:pt x="1289" y="892"/>
                  </a:lnTo>
                  <a:lnTo>
                    <a:pt x="1188" y="950"/>
                  </a:lnTo>
                  <a:lnTo>
                    <a:pt x="1041" y="967"/>
                  </a:lnTo>
                  <a:lnTo>
                    <a:pt x="935" y="967"/>
                  </a:lnTo>
                  <a:lnTo>
                    <a:pt x="904" y="932"/>
                  </a:lnTo>
                  <a:lnTo>
                    <a:pt x="878" y="680"/>
                  </a:lnTo>
                  <a:lnTo>
                    <a:pt x="719" y="680"/>
                  </a:lnTo>
                  <a:lnTo>
                    <a:pt x="702" y="64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28" name=""/>
            <p:cNvSpPr/>
            <p:nvPr/>
          </p:nvSpPr>
          <p:spPr>
            <a:xfrm>
              <a:off x="7524720" y="961920"/>
              <a:ext cx="179640" cy="79560"/>
            </a:xfrm>
            <a:custGeom>
              <a:avLst/>
              <a:gdLst/>
              <a:ahLst/>
              <a:rect l="0" t="0" r="r" b="b"/>
              <a:pathLst>
                <a:path w="499" h="221">
                  <a:moveTo>
                    <a:pt x="0" y="0"/>
                  </a:moveTo>
                  <a:lnTo>
                    <a:pt x="79" y="101"/>
                  </a:lnTo>
                  <a:lnTo>
                    <a:pt x="296" y="101"/>
                  </a:lnTo>
                  <a:lnTo>
                    <a:pt x="384" y="26"/>
                  </a:lnTo>
                  <a:lnTo>
                    <a:pt x="499" y="26"/>
                  </a:lnTo>
                  <a:lnTo>
                    <a:pt x="481" y="70"/>
                  </a:lnTo>
                  <a:lnTo>
                    <a:pt x="481" y="101"/>
                  </a:lnTo>
                  <a:lnTo>
                    <a:pt x="274" y="221"/>
                  </a:lnTo>
                  <a:lnTo>
                    <a:pt x="167" y="221"/>
                  </a:lnTo>
                  <a:lnTo>
                    <a:pt x="105" y="181"/>
                  </a:lnTo>
                  <a:lnTo>
                    <a:pt x="44" y="181"/>
                  </a:lnTo>
                  <a:lnTo>
                    <a:pt x="0" y="0"/>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629" name=""/>
            <p:cNvSpPr/>
            <p:nvPr/>
          </p:nvSpPr>
          <p:spPr>
            <a:xfrm>
              <a:off x="7326360" y="833400"/>
              <a:ext cx="271800" cy="421200"/>
            </a:xfrm>
            <a:custGeom>
              <a:avLst/>
              <a:gdLst/>
              <a:ahLst/>
              <a:rect l="0" t="0" r="r" b="b"/>
              <a:pathLst>
                <a:path w="755" h="1170">
                  <a:moveTo>
                    <a:pt x="755" y="88"/>
                  </a:moveTo>
                  <a:lnTo>
                    <a:pt x="755" y="101"/>
                  </a:lnTo>
                  <a:lnTo>
                    <a:pt x="622" y="220"/>
                  </a:lnTo>
                  <a:lnTo>
                    <a:pt x="512" y="242"/>
                  </a:lnTo>
                  <a:lnTo>
                    <a:pt x="299" y="211"/>
                  </a:lnTo>
                  <a:lnTo>
                    <a:pt x="343" y="627"/>
                  </a:lnTo>
                  <a:lnTo>
                    <a:pt x="393" y="976"/>
                  </a:lnTo>
                  <a:lnTo>
                    <a:pt x="481" y="1170"/>
                  </a:lnTo>
                  <a:lnTo>
                    <a:pt x="393" y="1033"/>
                  </a:lnTo>
                  <a:lnTo>
                    <a:pt x="352" y="892"/>
                  </a:lnTo>
                  <a:lnTo>
                    <a:pt x="291" y="494"/>
                  </a:lnTo>
                  <a:lnTo>
                    <a:pt x="233" y="512"/>
                  </a:lnTo>
                  <a:lnTo>
                    <a:pt x="158" y="472"/>
                  </a:lnTo>
                  <a:lnTo>
                    <a:pt x="13" y="260"/>
                  </a:lnTo>
                  <a:lnTo>
                    <a:pt x="0" y="145"/>
                  </a:lnTo>
                  <a:lnTo>
                    <a:pt x="0" y="74"/>
                  </a:lnTo>
                  <a:lnTo>
                    <a:pt x="35" y="22"/>
                  </a:lnTo>
                  <a:lnTo>
                    <a:pt x="119" y="0"/>
                  </a:lnTo>
                  <a:lnTo>
                    <a:pt x="127" y="26"/>
                  </a:lnTo>
                  <a:lnTo>
                    <a:pt x="57" y="48"/>
                  </a:lnTo>
                  <a:lnTo>
                    <a:pt x="44" y="141"/>
                  </a:lnTo>
                  <a:lnTo>
                    <a:pt x="52" y="251"/>
                  </a:lnTo>
                  <a:lnTo>
                    <a:pt x="149" y="349"/>
                  </a:lnTo>
                  <a:lnTo>
                    <a:pt x="194" y="327"/>
                  </a:lnTo>
                  <a:lnTo>
                    <a:pt x="194" y="114"/>
                  </a:lnTo>
                  <a:lnTo>
                    <a:pt x="282" y="154"/>
                  </a:lnTo>
                  <a:lnTo>
                    <a:pt x="419" y="194"/>
                  </a:lnTo>
                  <a:lnTo>
                    <a:pt x="543" y="185"/>
                  </a:lnTo>
                  <a:lnTo>
                    <a:pt x="666" y="114"/>
                  </a:lnTo>
                  <a:lnTo>
                    <a:pt x="755"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0" name=""/>
            <p:cNvSpPr/>
            <p:nvPr/>
          </p:nvSpPr>
          <p:spPr>
            <a:xfrm>
              <a:off x="7399440" y="503280"/>
              <a:ext cx="81360" cy="222480"/>
            </a:xfrm>
            <a:custGeom>
              <a:avLst/>
              <a:gdLst/>
              <a:ahLst/>
              <a:rect l="0" t="0" r="r" b="b"/>
              <a:pathLst>
                <a:path w="226" h="618">
                  <a:moveTo>
                    <a:pt x="120" y="618"/>
                  </a:moveTo>
                  <a:lnTo>
                    <a:pt x="226" y="255"/>
                  </a:lnTo>
                  <a:lnTo>
                    <a:pt x="26" y="123"/>
                  </a:lnTo>
                  <a:lnTo>
                    <a:pt x="0" y="0"/>
                  </a:lnTo>
                  <a:lnTo>
                    <a:pt x="13" y="145"/>
                  </a:lnTo>
                  <a:lnTo>
                    <a:pt x="80" y="211"/>
                  </a:lnTo>
                  <a:lnTo>
                    <a:pt x="89" y="393"/>
                  </a:lnTo>
                  <a:lnTo>
                    <a:pt x="137" y="472"/>
                  </a:lnTo>
                  <a:lnTo>
                    <a:pt x="120" y="61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1" name=""/>
            <p:cNvSpPr/>
            <p:nvPr/>
          </p:nvSpPr>
          <p:spPr>
            <a:xfrm>
              <a:off x="7394400" y="304920"/>
              <a:ext cx="611640" cy="295560"/>
            </a:xfrm>
            <a:custGeom>
              <a:avLst/>
              <a:gdLst/>
              <a:ahLst/>
              <a:rect l="0" t="0" r="r" b="b"/>
              <a:pathLst>
                <a:path w="1699" h="821">
                  <a:moveTo>
                    <a:pt x="13" y="561"/>
                  </a:moveTo>
                  <a:lnTo>
                    <a:pt x="163" y="636"/>
                  </a:lnTo>
                  <a:lnTo>
                    <a:pt x="145" y="538"/>
                  </a:lnTo>
                  <a:lnTo>
                    <a:pt x="171" y="348"/>
                  </a:lnTo>
                  <a:lnTo>
                    <a:pt x="268" y="313"/>
                  </a:lnTo>
                  <a:lnTo>
                    <a:pt x="282" y="503"/>
                  </a:lnTo>
                  <a:lnTo>
                    <a:pt x="569" y="154"/>
                  </a:lnTo>
                  <a:lnTo>
                    <a:pt x="636" y="136"/>
                  </a:lnTo>
                  <a:lnTo>
                    <a:pt x="587" y="268"/>
                  </a:lnTo>
                  <a:lnTo>
                    <a:pt x="763" y="339"/>
                  </a:lnTo>
                  <a:lnTo>
                    <a:pt x="896" y="207"/>
                  </a:lnTo>
                  <a:lnTo>
                    <a:pt x="966" y="242"/>
                  </a:lnTo>
                  <a:lnTo>
                    <a:pt x="900" y="361"/>
                  </a:lnTo>
                  <a:lnTo>
                    <a:pt x="988" y="299"/>
                  </a:lnTo>
                  <a:lnTo>
                    <a:pt x="1112" y="348"/>
                  </a:lnTo>
                  <a:lnTo>
                    <a:pt x="1010" y="446"/>
                  </a:lnTo>
                  <a:lnTo>
                    <a:pt x="1360" y="503"/>
                  </a:lnTo>
                  <a:lnTo>
                    <a:pt x="1121" y="578"/>
                  </a:lnTo>
                  <a:lnTo>
                    <a:pt x="1421" y="618"/>
                  </a:lnTo>
                  <a:lnTo>
                    <a:pt x="1076" y="697"/>
                  </a:lnTo>
                  <a:lnTo>
                    <a:pt x="1147" y="755"/>
                  </a:lnTo>
                  <a:lnTo>
                    <a:pt x="1046" y="821"/>
                  </a:lnTo>
                  <a:lnTo>
                    <a:pt x="1222" y="821"/>
                  </a:lnTo>
                  <a:lnTo>
                    <a:pt x="1209" y="777"/>
                  </a:lnTo>
                  <a:lnTo>
                    <a:pt x="1391" y="816"/>
                  </a:lnTo>
                  <a:lnTo>
                    <a:pt x="1360" y="684"/>
                  </a:lnTo>
                  <a:lnTo>
                    <a:pt x="1536" y="622"/>
                  </a:lnTo>
                  <a:lnTo>
                    <a:pt x="1413" y="565"/>
                  </a:lnTo>
                  <a:lnTo>
                    <a:pt x="1699" y="552"/>
                  </a:lnTo>
                  <a:lnTo>
                    <a:pt x="1452" y="419"/>
                  </a:lnTo>
                  <a:lnTo>
                    <a:pt x="1169" y="379"/>
                  </a:lnTo>
                  <a:lnTo>
                    <a:pt x="1391" y="251"/>
                  </a:lnTo>
                  <a:lnTo>
                    <a:pt x="988" y="251"/>
                  </a:lnTo>
                  <a:lnTo>
                    <a:pt x="1178" y="123"/>
                  </a:lnTo>
                  <a:lnTo>
                    <a:pt x="887" y="154"/>
                  </a:lnTo>
                  <a:lnTo>
                    <a:pt x="746" y="220"/>
                  </a:lnTo>
                  <a:lnTo>
                    <a:pt x="865" y="0"/>
                  </a:lnTo>
                  <a:lnTo>
                    <a:pt x="508" y="123"/>
                  </a:lnTo>
                  <a:lnTo>
                    <a:pt x="317" y="388"/>
                  </a:lnTo>
                  <a:lnTo>
                    <a:pt x="282" y="242"/>
                  </a:lnTo>
                  <a:lnTo>
                    <a:pt x="123" y="348"/>
                  </a:lnTo>
                  <a:lnTo>
                    <a:pt x="105" y="552"/>
                  </a:lnTo>
                  <a:lnTo>
                    <a:pt x="0" y="503"/>
                  </a:lnTo>
                  <a:lnTo>
                    <a:pt x="35" y="684"/>
                  </a:lnTo>
                  <a:lnTo>
                    <a:pt x="13" y="56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2" name=""/>
            <p:cNvSpPr/>
            <p:nvPr/>
          </p:nvSpPr>
          <p:spPr>
            <a:xfrm>
              <a:off x="7527960" y="463680"/>
              <a:ext cx="173520" cy="87840"/>
            </a:xfrm>
            <a:custGeom>
              <a:avLst/>
              <a:gdLst/>
              <a:ahLst/>
              <a:rect l="0" t="0" r="r" b="b"/>
              <a:pathLst>
                <a:path w="482" h="244">
                  <a:moveTo>
                    <a:pt x="0" y="244"/>
                  </a:moveTo>
                  <a:lnTo>
                    <a:pt x="177" y="0"/>
                  </a:lnTo>
                  <a:lnTo>
                    <a:pt x="177" y="159"/>
                  </a:lnTo>
                  <a:lnTo>
                    <a:pt x="243" y="98"/>
                  </a:lnTo>
                  <a:lnTo>
                    <a:pt x="300" y="181"/>
                  </a:lnTo>
                  <a:lnTo>
                    <a:pt x="482" y="231"/>
                  </a:lnTo>
                  <a:lnTo>
                    <a:pt x="287" y="204"/>
                  </a:lnTo>
                  <a:lnTo>
                    <a:pt x="234" y="137"/>
                  </a:lnTo>
                  <a:lnTo>
                    <a:pt x="146" y="204"/>
                  </a:lnTo>
                  <a:lnTo>
                    <a:pt x="146" y="124"/>
                  </a:lnTo>
                  <a:lnTo>
                    <a:pt x="0" y="244"/>
                  </a:lnTo>
                  <a:close/>
                </a:path>
              </a:pathLst>
            </a:custGeom>
            <a:solidFill>
              <a:srgbClr val="000000"/>
            </a:solidFill>
            <a:ln w="12600">
              <a:solidFill>
                <a:srgbClr val="000000"/>
              </a:solidFill>
              <a:round/>
            </a:ln>
          </p:spPr>
          <p:txBody>
            <a:bodyPr lIns="96120" rIns="96120" tIns="36720" bIns="36720" anchor="t">
              <a:noAutofit/>
            </a:bodyPr>
            <a:p>
              <a:endParaRPr b="0" lang="en-US" sz="1800" spc="-1" strike="noStrike">
                <a:solidFill>
                  <a:srgbClr val="ffffff"/>
                </a:solidFill>
                <a:latin typeface="Arial"/>
              </a:endParaRPr>
            </a:p>
          </p:txBody>
        </p:sp>
        <p:sp>
          <p:nvSpPr>
            <p:cNvPr id="633" name=""/>
            <p:cNvSpPr/>
            <p:nvPr/>
          </p:nvSpPr>
          <p:spPr>
            <a:xfrm>
              <a:off x="7513560" y="1066680"/>
              <a:ext cx="206640" cy="132120"/>
            </a:xfrm>
            <a:custGeom>
              <a:avLst/>
              <a:gdLst/>
              <a:ahLst/>
              <a:rect l="0" t="0" r="r" b="b"/>
              <a:pathLst>
                <a:path w="574" h="367">
                  <a:moveTo>
                    <a:pt x="110" y="127"/>
                  </a:moveTo>
                  <a:lnTo>
                    <a:pt x="344" y="110"/>
                  </a:lnTo>
                  <a:lnTo>
                    <a:pt x="455" y="136"/>
                  </a:lnTo>
                  <a:lnTo>
                    <a:pt x="512" y="88"/>
                  </a:lnTo>
                  <a:lnTo>
                    <a:pt x="574" y="208"/>
                  </a:lnTo>
                  <a:lnTo>
                    <a:pt x="534" y="225"/>
                  </a:lnTo>
                  <a:lnTo>
                    <a:pt x="486" y="176"/>
                  </a:lnTo>
                  <a:lnTo>
                    <a:pt x="411" y="265"/>
                  </a:lnTo>
                  <a:lnTo>
                    <a:pt x="264" y="367"/>
                  </a:lnTo>
                  <a:lnTo>
                    <a:pt x="202" y="367"/>
                  </a:lnTo>
                  <a:lnTo>
                    <a:pt x="110" y="318"/>
                  </a:lnTo>
                  <a:lnTo>
                    <a:pt x="211" y="358"/>
                  </a:lnTo>
                  <a:lnTo>
                    <a:pt x="255" y="358"/>
                  </a:lnTo>
                  <a:lnTo>
                    <a:pt x="344" y="287"/>
                  </a:lnTo>
                  <a:lnTo>
                    <a:pt x="406" y="163"/>
                  </a:lnTo>
                  <a:lnTo>
                    <a:pt x="314" y="149"/>
                  </a:lnTo>
                  <a:lnTo>
                    <a:pt x="251" y="136"/>
                  </a:lnTo>
                  <a:lnTo>
                    <a:pt x="101" y="154"/>
                  </a:lnTo>
                  <a:lnTo>
                    <a:pt x="92" y="256"/>
                  </a:lnTo>
                  <a:lnTo>
                    <a:pt x="44" y="199"/>
                  </a:lnTo>
                  <a:lnTo>
                    <a:pt x="0" y="274"/>
                  </a:lnTo>
                  <a:lnTo>
                    <a:pt x="4" y="97"/>
                  </a:lnTo>
                  <a:lnTo>
                    <a:pt x="61" y="0"/>
                  </a:lnTo>
                  <a:lnTo>
                    <a:pt x="110" y="97"/>
                  </a:lnTo>
                  <a:lnTo>
                    <a:pt x="110" y="12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4" name=""/>
            <p:cNvSpPr/>
            <p:nvPr/>
          </p:nvSpPr>
          <p:spPr>
            <a:xfrm>
              <a:off x="7486560" y="779400"/>
              <a:ext cx="443160" cy="609840"/>
            </a:xfrm>
            <a:custGeom>
              <a:avLst/>
              <a:gdLst/>
              <a:ahLst/>
              <a:rect l="0" t="0" r="r" b="b"/>
              <a:pathLst>
                <a:path w="1231" h="1694">
                  <a:moveTo>
                    <a:pt x="1037" y="0"/>
                  </a:moveTo>
                  <a:lnTo>
                    <a:pt x="1156" y="0"/>
                  </a:lnTo>
                  <a:lnTo>
                    <a:pt x="1231" y="88"/>
                  </a:lnTo>
                  <a:lnTo>
                    <a:pt x="1231" y="171"/>
                  </a:lnTo>
                  <a:lnTo>
                    <a:pt x="1129" y="440"/>
                  </a:lnTo>
                  <a:lnTo>
                    <a:pt x="1028" y="568"/>
                  </a:lnTo>
                  <a:lnTo>
                    <a:pt x="922" y="586"/>
                  </a:lnTo>
                  <a:lnTo>
                    <a:pt x="891" y="586"/>
                  </a:lnTo>
                  <a:lnTo>
                    <a:pt x="891" y="922"/>
                  </a:lnTo>
                  <a:lnTo>
                    <a:pt x="944" y="1165"/>
                  </a:lnTo>
                  <a:lnTo>
                    <a:pt x="944" y="1359"/>
                  </a:lnTo>
                  <a:lnTo>
                    <a:pt x="755" y="1557"/>
                  </a:lnTo>
                  <a:lnTo>
                    <a:pt x="502" y="1694"/>
                  </a:lnTo>
                  <a:lnTo>
                    <a:pt x="343" y="1694"/>
                  </a:lnTo>
                  <a:lnTo>
                    <a:pt x="255" y="1659"/>
                  </a:lnTo>
                  <a:lnTo>
                    <a:pt x="145" y="1425"/>
                  </a:lnTo>
                  <a:lnTo>
                    <a:pt x="39" y="1337"/>
                  </a:lnTo>
                  <a:lnTo>
                    <a:pt x="0" y="1279"/>
                  </a:lnTo>
                  <a:lnTo>
                    <a:pt x="136" y="1359"/>
                  </a:lnTo>
                  <a:lnTo>
                    <a:pt x="238" y="1442"/>
                  </a:lnTo>
                  <a:lnTo>
                    <a:pt x="436" y="1456"/>
                  </a:lnTo>
                  <a:lnTo>
                    <a:pt x="612" y="1372"/>
                  </a:lnTo>
                  <a:lnTo>
                    <a:pt x="706" y="1279"/>
                  </a:lnTo>
                  <a:lnTo>
                    <a:pt x="807" y="1103"/>
                  </a:lnTo>
                  <a:lnTo>
                    <a:pt x="821" y="900"/>
                  </a:lnTo>
                  <a:lnTo>
                    <a:pt x="860" y="251"/>
                  </a:lnTo>
                  <a:lnTo>
                    <a:pt x="904" y="343"/>
                  </a:lnTo>
                  <a:lnTo>
                    <a:pt x="1024" y="224"/>
                  </a:lnTo>
                  <a:lnTo>
                    <a:pt x="1151" y="171"/>
                  </a:lnTo>
                  <a:lnTo>
                    <a:pt x="1182" y="105"/>
                  </a:lnTo>
                  <a:lnTo>
                    <a:pt x="1165" y="35"/>
                  </a:lnTo>
                  <a:lnTo>
                    <a:pt x="1112" y="8"/>
                  </a:lnTo>
                  <a:lnTo>
                    <a:pt x="103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5" name=""/>
            <p:cNvSpPr/>
            <p:nvPr/>
          </p:nvSpPr>
          <p:spPr>
            <a:xfrm>
              <a:off x="6800760" y="1305000"/>
              <a:ext cx="357480" cy="567000"/>
            </a:xfrm>
            <a:custGeom>
              <a:avLst/>
              <a:gdLst/>
              <a:ahLst/>
              <a:rect l="0" t="0" r="r" b="b"/>
              <a:pathLst>
                <a:path w="993" h="1575">
                  <a:moveTo>
                    <a:pt x="123" y="0"/>
                  </a:moveTo>
                  <a:lnTo>
                    <a:pt x="238" y="74"/>
                  </a:lnTo>
                  <a:lnTo>
                    <a:pt x="326" y="388"/>
                  </a:lnTo>
                  <a:lnTo>
                    <a:pt x="578" y="463"/>
                  </a:lnTo>
                  <a:lnTo>
                    <a:pt x="649" y="551"/>
                  </a:lnTo>
                  <a:lnTo>
                    <a:pt x="666" y="670"/>
                  </a:lnTo>
                  <a:lnTo>
                    <a:pt x="790" y="652"/>
                  </a:lnTo>
                  <a:lnTo>
                    <a:pt x="944" y="754"/>
                  </a:lnTo>
                  <a:lnTo>
                    <a:pt x="993" y="882"/>
                  </a:lnTo>
                  <a:lnTo>
                    <a:pt x="993" y="1103"/>
                  </a:lnTo>
                  <a:lnTo>
                    <a:pt x="790" y="1438"/>
                  </a:lnTo>
                  <a:lnTo>
                    <a:pt x="724" y="1575"/>
                  </a:lnTo>
                  <a:lnTo>
                    <a:pt x="759" y="1390"/>
                  </a:lnTo>
                  <a:lnTo>
                    <a:pt x="724" y="1323"/>
                  </a:lnTo>
                  <a:lnTo>
                    <a:pt x="605" y="1209"/>
                  </a:lnTo>
                  <a:lnTo>
                    <a:pt x="401" y="1076"/>
                  </a:lnTo>
                  <a:lnTo>
                    <a:pt x="640" y="1147"/>
                  </a:lnTo>
                  <a:lnTo>
                    <a:pt x="777" y="1253"/>
                  </a:lnTo>
                  <a:lnTo>
                    <a:pt x="852" y="1240"/>
                  </a:lnTo>
                  <a:lnTo>
                    <a:pt x="891" y="1178"/>
                  </a:lnTo>
                  <a:lnTo>
                    <a:pt x="944" y="1024"/>
                  </a:lnTo>
                  <a:lnTo>
                    <a:pt x="927" y="869"/>
                  </a:lnTo>
                  <a:lnTo>
                    <a:pt x="856" y="780"/>
                  </a:lnTo>
                  <a:lnTo>
                    <a:pt x="737" y="754"/>
                  </a:lnTo>
                  <a:lnTo>
                    <a:pt x="605" y="754"/>
                  </a:lnTo>
                  <a:lnTo>
                    <a:pt x="552" y="520"/>
                  </a:lnTo>
                  <a:lnTo>
                    <a:pt x="335" y="440"/>
                  </a:lnTo>
                  <a:lnTo>
                    <a:pt x="335" y="498"/>
                  </a:lnTo>
                  <a:lnTo>
                    <a:pt x="238" y="335"/>
                  </a:lnTo>
                  <a:lnTo>
                    <a:pt x="180" y="74"/>
                  </a:lnTo>
                  <a:lnTo>
                    <a:pt x="101" y="39"/>
                  </a:lnTo>
                  <a:lnTo>
                    <a:pt x="48" y="123"/>
                  </a:lnTo>
                  <a:lnTo>
                    <a:pt x="48" y="308"/>
                  </a:lnTo>
                  <a:lnTo>
                    <a:pt x="88" y="498"/>
                  </a:lnTo>
                  <a:lnTo>
                    <a:pt x="207" y="670"/>
                  </a:lnTo>
                  <a:lnTo>
                    <a:pt x="79" y="564"/>
                  </a:lnTo>
                  <a:lnTo>
                    <a:pt x="8" y="388"/>
                  </a:lnTo>
                  <a:lnTo>
                    <a:pt x="0" y="163"/>
                  </a:lnTo>
                  <a:lnTo>
                    <a:pt x="48" y="39"/>
                  </a:lnTo>
                  <a:lnTo>
                    <a:pt x="12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6" name=""/>
            <p:cNvSpPr/>
            <p:nvPr/>
          </p:nvSpPr>
          <p:spPr>
            <a:xfrm>
              <a:off x="6629400" y="1554120"/>
              <a:ext cx="236880" cy="454320"/>
            </a:xfrm>
            <a:custGeom>
              <a:avLst/>
              <a:gdLst/>
              <a:ahLst/>
              <a:rect l="0" t="0" r="r" b="b"/>
              <a:pathLst>
                <a:path w="658" h="1262">
                  <a:moveTo>
                    <a:pt x="658" y="0"/>
                  </a:moveTo>
                  <a:lnTo>
                    <a:pt x="521" y="88"/>
                  </a:lnTo>
                  <a:lnTo>
                    <a:pt x="362" y="388"/>
                  </a:lnTo>
                  <a:lnTo>
                    <a:pt x="207" y="586"/>
                  </a:lnTo>
                  <a:lnTo>
                    <a:pt x="13" y="825"/>
                  </a:lnTo>
                  <a:lnTo>
                    <a:pt x="0" y="949"/>
                  </a:lnTo>
                  <a:lnTo>
                    <a:pt x="35" y="1059"/>
                  </a:lnTo>
                  <a:lnTo>
                    <a:pt x="127" y="1059"/>
                  </a:lnTo>
                  <a:lnTo>
                    <a:pt x="251" y="949"/>
                  </a:lnTo>
                  <a:lnTo>
                    <a:pt x="353" y="724"/>
                  </a:lnTo>
                  <a:lnTo>
                    <a:pt x="486" y="586"/>
                  </a:lnTo>
                  <a:lnTo>
                    <a:pt x="486" y="772"/>
                  </a:lnTo>
                  <a:lnTo>
                    <a:pt x="468" y="935"/>
                  </a:lnTo>
                  <a:lnTo>
                    <a:pt x="317" y="1160"/>
                  </a:lnTo>
                  <a:lnTo>
                    <a:pt x="317" y="1235"/>
                  </a:lnTo>
                  <a:lnTo>
                    <a:pt x="468" y="1262"/>
                  </a:lnTo>
                  <a:lnTo>
                    <a:pt x="362" y="1196"/>
                  </a:lnTo>
                  <a:lnTo>
                    <a:pt x="375" y="1160"/>
                  </a:lnTo>
                  <a:lnTo>
                    <a:pt x="477" y="997"/>
                  </a:lnTo>
                  <a:lnTo>
                    <a:pt x="543" y="697"/>
                  </a:lnTo>
                  <a:lnTo>
                    <a:pt x="494" y="533"/>
                  </a:lnTo>
                  <a:lnTo>
                    <a:pt x="389" y="626"/>
                  </a:lnTo>
                  <a:lnTo>
                    <a:pt x="154" y="1006"/>
                  </a:lnTo>
                  <a:lnTo>
                    <a:pt x="97" y="1019"/>
                  </a:lnTo>
                  <a:lnTo>
                    <a:pt x="35" y="984"/>
                  </a:lnTo>
                  <a:lnTo>
                    <a:pt x="35" y="869"/>
                  </a:lnTo>
                  <a:lnTo>
                    <a:pt x="127" y="710"/>
                  </a:lnTo>
                  <a:lnTo>
                    <a:pt x="389" y="410"/>
                  </a:lnTo>
                  <a:lnTo>
                    <a:pt x="543" y="114"/>
                  </a:lnTo>
                  <a:lnTo>
                    <a:pt x="65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7" name=""/>
            <p:cNvSpPr/>
            <p:nvPr/>
          </p:nvSpPr>
          <p:spPr>
            <a:xfrm>
              <a:off x="6804000" y="1809720"/>
              <a:ext cx="144720" cy="217800"/>
            </a:xfrm>
            <a:custGeom>
              <a:avLst/>
              <a:gdLst/>
              <a:ahLst/>
              <a:rect l="0" t="0" r="r" b="b"/>
              <a:pathLst>
                <a:path w="402" h="605">
                  <a:moveTo>
                    <a:pt x="0" y="530"/>
                  </a:moveTo>
                  <a:lnTo>
                    <a:pt x="132" y="380"/>
                  </a:lnTo>
                  <a:lnTo>
                    <a:pt x="154" y="224"/>
                  </a:lnTo>
                  <a:lnTo>
                    <a:pt x="309" y="0"/>
                  </a:lnTo>
                  <a:lnTo>
                    <a:pt x="344" y="149"/>
                  </a:lnTo>
                  <a:lnTo>
                    <a:pt x="322" y="543"/>
                  </a:lnTo>
                  <a:lnTo>
                    <a:pt x="402" y="605"/>
                  </a:lnTo>
                  <a:lnTo>
                    <a:pt x="283" y="565"/>
                  </a:lnTo>
                  <a:lnTo>
                    <a:pt x="225" y="336"/>
                  </a:lnTo>
                  <a:lnTo>
                    <a:pt x="132" y="450"/>
                  </a:lnTo>
                  <a:lnTo>
                    <a:pt x="0" y="53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8" name=""/>
            <p:cNvSpPr/>
            <p:nvPr/>
          </p:nvSpPr>
          <p:spPr>
            <a:xfrm>
              <a:off x="6983280" y="1820880"/>
              <a:ext cx="95760" cy="195480"/>
            </a:xfrm>
            <a:custGeom>
              <a:avLst/>
              <a:gdLst/>
              <a:ahLst/>
              <a:rect l="0" t="0" r="r" b="b"/>
              <a:pathLst>
                <a:path w="266" h="543">
                  <a:moveTo>
                    <a:pt x="0" y="411"/>
                  </a:moveTo>
                  <a:lnTo>
                    <a:pt x="8" y="207"/>
                  </a:lnTo>
                  <a:lnTo>
                    <a:pt x="71" y="88"/>
                  </a:lnTo>
                  <a:lnTo>
                    <a:pt x="128" y="521"/>
                  </a:lnTo>
                  <a:lnTo>
                    <a:pt x="213" y="521"/>
                  </a:lnTo>
                  <a:lnTo>
                    <a:pt x="248" y="66"/>
                  </a:lnTo>
                  <a:lnTo>
                    <a:pt x="266" y="0"/>
                  </a:lnTo>
                  <a:lnTo>
                    <a:pt x="248" y="353"/>
                  </a:lnTo>
                  <a:lnTo>
                    <a:pt x="213" y="543"/>
                  </a:lnTo>
                  <a:lnTo>
                    <a:pt x="106" y="543"/>
                  </a:lnTo>
                  <a:lnTo>
                    <a:pt x="57" y="171"/>
                  </a:lnTo>
                  <a:lnTo>
                    <a:pt x="30" y="220"/>
                  </a:lnTo>
                  <a:lnTo>
                    <a:pt x="0" y="41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39" name=""/>
            <p:cNvSpPr/>
            <p:nvPr/>
          </p:nvSpPr>
          <p:spPr>
            <a:xfrm>
              <a:off x="8213760" y="1057320"/>
              <a:ext cx="233640" cy="519480"/>
            </a:xfrm>
            <a:custGeom>
              <a:avLst/>
              <a:gdLst/>
              <a:ahLst/>
              <a:rect l="0" t="0" r="r" b="b"/>
              <a:pathLst>
                <a:path w="649" h="1443">
                  <a:moveTo>
                    <a:pt x="167" y="777"/>
                  </a:moveTo>
                  <a:lnTo>
                    <a:pt x="220" y="556"/>
                  </a:lnTo>
                  <a:lnTo>
                    <a:pt x="437" y="494"/>
                  </a:lnTo>
                  <a:lnTo>
                    <a:pt x="649" y="0"/>
                  </a:lnTo>
                  <a:lnTo>
                    <a:pt x="649" y="141"/>
                  </a:lnTo>
                  <a:lnTo>
                    <a:pt x="472" y="525"/>
                  </a:lnTo>
                  <a:lnTo>
                    <a:pt x="238" y="600"/>
                  </a:lnTo>
                  <a:lnTo>
                    <a:pt x="211" y="777"/>
                  </a:lnTo>
                  <a:lnTo>
                    <a:pt x="286" y="777"/>
                  </a:lnTo>
                  <a:lnTo>
                    <a:pt x="83" y="860"/>
                  </a:lnTo>
                  <a:lnTo>
                    <a:pt x="35" y="1010"/>
                  </a:lnTo>
                  <a:lnTo>
                    <a:pt x="48" y="1214"/>
                  </a:lnTo>
                  <a:lnTo>
                    <a:pt x="260" y="1443"/>
                  </a:lnTo>
                  <a:lnTo>
                    <a:pt x="35" y="1241"/>
                  </a:lnTo>
                  <a:lnTo>
                    <a:pt x="0" y="1072"/>
                  </a:lnTo>
                  <a:lnTo>
                    <a:pt x="13" y="900"/>
                  </a:lnTo>
                  <a:lnTo>
                    <a:pt x="101" y="790"/>
                  </a:lnTo>
                  <a:lnTo>
                    <a:pt x="167" y="77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40" name=""/>
            <p:cNvSpPr/>
            <p:nvPr/>
          </p:nvSpPr>
          <p:spPr>
            <a:xfrm>
              <a:off x="8369280" y="1057320"/>
              <a:ext cx="392400" cy="501840"/>
            </a:xfrm>
            <a:custGeom>
              <a:avLst/>
              <a:gdLst/>
              <a:ahLst/>
              <a:rect l="0" t="0" r="r" b="b"/>
              <a:pathLst>
                <a:path w="1090" h="1394">
                  <a:moveTo>
                    <a:pt x="299" y="0"/>
                  </a:moveTo>
                  <a:lnTo>
                    <a:pt x="366" y="39"/>
                  </a:lnTo>
                  <a:lnTo>
                    <a:pt x="383" y="158"/>
                  </a:lnTo>
                  <a:lnTo>
                    <a:pt x="383" y="268"/>
                  </a:lnTo>
                  <a:lnTo>
                    <a:pt x="260" y="476"/>
                  </a:lnTo>
                  <a:lnTo>
                    <a:pt x="286" y="621"/>
                  </a:lnTo>
                  <a:lnTo>
                    <a:pt x="653" y="785"/>
                  </a:lnTo>
                  <a:lnTo>
                    <a:pt x="1085" y="1226"/>
                  </a:lnTo>
                  <a:lnTo>
                    <a:pt x="1090" y="1345"/>
                  </a:lnTo>
                  <a:lnTo>
                    <a:pt x="1068" y="1394"/>
                  </a:lnTo>
                  <a:lnTo>
                    <a:pt x="904" y="1394"/>
                  </a:lnTo>
                  <a:lnTo>
                    <a:pt x="763" y="1310"/>
                  </a:lnTo>
                  <a:lnTo>
                    <a:pt x="649" y="1165"/>
                  </a:lnTo>
                  <a:lnTo>
                    <a:pt x="583" y="1085"/>
                  </a:lnTo>
                  <a:lnTo>
                    <a:pt x="502" y="1068"/>
                  </a:lnTo>
                  <a:lnTo>
                    <a:pt x="600" y="1068"/>
                  </a:lnTo>
                  <a:lnTo>
                    <a:pt x="777" y="1297"/>
                  </a:lnTo>
                  <a:lnTo>
                    <a:pt x="1006" y="1368"/>
                  </a:lnTo>
                  <a:lnTo>
                    <a:pt x="1054" y="1297"/>
                  </a:lnTo>
                  <a:lnTo>
                    <a:pt x="1028" y="1191"/>
                  </a:lnTo>
                  <a:lnTo>
                    <a:pt x="627" y="878"/>
                  </a:lnTo>
                  <a:lnTo>
                    <a:pt x="574" y="785"/>
                  </a:lnTo>
                  <a:lnTo>
                    <a:pt x="260" y="710"/>
                  </a:lnTo>
                  <a:lnTo>
                    <a:pt x="216" y="785"/>
                  </a:lnTo>
                  <a:lnTo>
                    <a:pt x="0" y="913"/>
                  </a:lnTo>
                  <a:lnTo>
                    <a:pt x="198" y="763"/>
                  </a:lnTo>
                  <a:lnTo>
                    <a:pt x="216" y="665"/>
                  </a:lnTo>
                  <a:lnTo>
                    <a:pt x="216" y="436"/>
                  </a:lnTo>
                  <a:lnTo>
                    <a:pt x="352" y="268"/>
                  </a:lnTo>
                  <a:lnTo>
                    <a:pt x="352" y="52"/>
                  </a:lnTo>
                  <a:lnTo>
                    <a:pt x="29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41" name=""/>
            <p:cNvSpPr/>
            <p:nvPr/>
          </p:nvSpPr>
          <p:spPr>
            <a:xfrm>
              <a:off x="8299440" y="1452600"/>
              <a:ext cx="332280" cy="298800"/>
            </a:xfrm>
            <a:custGeom>
              <a:avLst/>
              <a:gdLst/>
              <a:ahLst/>
              <a:rect l="0" t="0" r="r" b="b"/>
              <a:pathLst>
                <a:path w="923" h="830">
                  <a:moveTo>
                    <a:pt x="688" y="0"/>
                  </a:moveTo>
                  <a:lnTo>
                    <a:pt x="666" y="74"/>
                  </a:lnTo>
                  <a:lnTo>
                    <a:pt x="804" y="343"/>
                  </a:lnTo>
                  <a:lnTo>
                    <a:pt x="875" y="622"/>
                  </a:lnTo>
                  <a:lnTo>
                    <a:pt x="795" y="622"/>
                  </a:lnTo>
                  <a:lnTo>
                    <a:pt x="658" y="503"/>
                  </a:lnTo>
                  <a:lnTo>
                    <a:pt x="534" y="242"/>
                  </a:lnTo>
                  <a:lnTo>
                    <a:pt x="433" y="207"/>
                  </a:lnTo>
                  <a:lnTo>
                    <a:pt x="446" y="343"/>
                  </a:lnTo>
                  <a:lnTo>
                    <a:pt x="538" y="450"/>
                  </a:lnTo>
                  <a:lnTo>
                    <a:pt x="538" y="640"/>
                  </a:lnTo>
                  <a:lnTo>
                    <a:pt x="477" y="794"/>
                  </a:lnTo>
                  <a:lnTo>
                    <a:pt x="389" y="733"/>
                  </a:lnTo>
                  <a:lnTo>
                    <a:pt x="283" y="503"/>
                  </a:lnTo>
                  <a:lnTo>
                    <a:pt x="261" y="343"/>
                  </a:lnTo>
                  <a:lnTo>
                    <a:pt x="194" y="304"/>
                  </a:lnTo>
                  <a:lnTo>
                    <a:pt x="180" y="702"/>
                  </a:lnTo>
                  <a:lnTo>
                    <a:pt x="101" y="755"/>
                  </a:lnTo>
                  <a:lnTo>
                    <a:pt x="22" y="702"/>
                  </a:lnTo>
                  <a:lnTo>
                    <a:pt x="8" y="357"/>
                  </a:lnTo>
                  <a:lnTo>
                    <a:pt x="0" y="693"/>
                  </a:lnTo>
                  <a:lnTo>
                    <a:pt x="57" y="816"/>
                  </a:lnTo>
                  <a:lnTo>
                    <a:pt x="180" y="816"/>
                  </a:lnTo>
                  <a:lnTo>
                    <a:pt x="224" y="719"/>
                  </a:lnTo>
                  <a:lnTo>
                    <a:pt x="247" y="401"/>
                  </a:lnTo>
                  <a:lnTo>
                    <a:pt x="265" y="525"/>
                  </a:lnTo>
                  <a:lnTo>
                    <a:pt x="375" y="803"/>
                  </a:lnTo>
                  <a:lnTo>
                    <a:pt x="490" y="830"/>
                  </a:lnTo>
                  <a:lnTo>
                    <a:pt x="569" y="719"/>
                  </a:lnTo>
                  <a:lnTo>
                    <a:pt x="569" y="459"/>
                  </a:lnTo>
                  <a:lnTo>
                    <a:pt x="795" y="680"/>
                  </a:lnTo>
                  <a:lnTo>
                    <a:pt x="914" y="680"/>
                  </a:lnTo>
                  <a:lnTo>
                    <a:pt x="923" y="525"/>
                  </a:lnTo>
                  <a:lnTo>
                    <a:pt x="839" y="264"/>
                  </a:lnTo>
                  <a:lnTo>
                    <a:pt x="688" y="52"/>
                  </a:lnTo>
                  <a:lnTo>
                    <a:pt x="68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42" name=""/>
            <p:cNvSpPr/>
            <p:nvPr/>
          </p:nvSpPr>
          <p:spPr>
            <a:xfrm>
              <a:off x="6956280" y="1144440"/>
              <a:ext cx="1478160" cy="1216440"/>
            </a:xfrm>
            <a:custGeom>
              <a:avLst/>
              <a:gdLst/>
              <a:ahLst/>
              <a:rect l="0" t="0" r="r" b="b"/>
              <a:pathLst>
                <a:path w="4106" h="3379">
                  <a:moveTo>
                    <a:pt x="1477" y="282"/>
                  </a:moveTo>
                  <a:lnTo>
                    <a:pt x="1406" y="295"/>
                  </a:lnTo>
                  <a:lnTo>
                    <a:pt x="1292" y="467"/>
                  </a:lnTo>
                  <a:lnTo>
                    <a:pt x="1243" y="343"/>
                  </a:lnTo>
                  <a:lnTo>
                    <a:pt x="1111" y="268"/>
                  </a:lnTo>
                  <a:lnTo>
                    <a:pt x="1014" y="326"/>
                  </a:lnTo>
                  <a:lnTo>
                    <a:pt x="978" y="551"/>
                  </a:lnTo>
                  <a:lnTo>
                    <a:pt x="608" y="815"/>
                  </a:lnTo>
                  <a:lnTo>
                    <a:pt x="630" y="931"/>
                  </a:lnTo>
                  <a:lnTo>
                    <a:pt x="542" y="1032"/>
                  </a:lnTo>
                  <a:lnTo>
                    <a:pt x="542" y="1116"/>
                  </a:lnTo>
                  <a:lnTo>
                    <a:pt x="643" y="1368"/>
                  </a:lnTo>
                  <a:lnTo>
                    <a:pt x="657" y="1685"/>
                  </a:lnTo>
                  <a:lnTo>
                    <a:pt x="586" y="1976"/>
                  </a:lnTo>
                  <a:lnTo>
                    <a:pt x="326" y="2157"/>
                  </a:lnTo>
                  <a:lnTo>
                    <a:pt x="286" y="2399"/>
                  </a:lnTo>
                  <a:lnTo>
                    <a:pt x="207" y="2399"/>
                  </a:lnTo>
                  <a:lnTo>
                    <a:pt x="167" y="2197"/>
                  </a:lnTo>
                  <a:lnTo>
                    <a:pt x="83" y="2197"/>
                  </a:lnTo>
                  <a:lnTo>
                    <a:pt x="48" y="2413"/>
                  </a:lnTo>
                  <a:lnTo>
                    <a:pt x="0" y="2466"/>
                  </a:lnTo>
                  <a:lnTo>
                    <a:pt x="185" y="2762"/>
                  </a:lnTo>
                  <a:lnTo>
                    <a:pt x="313" y="2771"/>
                  </a:lnTo>
                  <a:lnTo>
                    <a:pt x="542" y="2991"/>
                  </a:lnTo>
                  <a:lnTo>
                    <a:pt x="749" y="3013"/>
                  </a:lnTo>
                  <a:lnTo>
                    <a:pt x="868" y="2899"/>
                  </a:lnTo>
                  <a:lnTo>
                    <a:pt x="1159" y="2483"/>
                  </a:lnTo>
                  <a:lnTo>
                    <a:pt x="1181" y="3044"/>
                  </a:lnTo>
                  <a:lnTo>
                    <a:pt x="1159" y="3379"/>
                  </a:lnTo>
                  <a:lnTo>
                    <a:pt x="3528" y="3379"/>
                  </a:lnTo>
                  <a:lnTo>
                    <a:pt x="3356" y="3013"/>
                  </a:lnTo>
                  <a:lnTo>
                    <a:pt x="3273" y="2700"/>
                  </a:lnTo>
                  <a:lnTo>
                    <a:pt x="3246" y="2241"/>
                  </a:lnTo>
                  <a:lnTo>
                    <a:pt x="3383" y="2338"/>
                  </a:lnTo>
                  <a:lnTo>
                    <a:pt x="3528" y="2338"/>
                  </a:lnTo>
                  <a:lnTo>
                    <a:pt x="3722" y="2214"/>
                  </a:lnTo>
                  <a:lnTo>
                    <a:pt x="3855" y="2197"/>
                  </a:lnTo>
                  <a:lnTo>
                    <a:pt x="3934" y="2073"/>
                  </a:lnTo>
                  <a:lnTo>
                    <a:pt x="3987" y="1760"/>
                  </a:lnTo>
                  <a:lnTo>
                    <a:pt x="4106" y="1623"/>
                  </a:lnTo>
                  <a:lnTo>
                    <a:pt x="4044" y="1535"/>
                  </a:lnTo>
                  <a:lnTo>
                    <a:pt x="3960" y="1535"/>
                  </a:lnTo>
                  <a:lnTo>
                    <a:pt x="3885" y="1597"/>
                  </a:lnTo>
                  <a:lnTo>
                    <a:pt x="3819" y="1610"/>
                  </a:lnTo>
                  <a:lnTo>
                    <a:pt x="3736" y="1535"/>
                  </a:lnTo>
                  <a:lnTo>
                    <a:pt x="3630" y="1522"/>
                  </a:lnTo>
                  <a:lnTo>
                    <a:pt x="3449" y="1403"/>
                  </a:lnTo>
                  <a:lnTo>
                    <a:pt x="3334" y="1275"/>
                  </a:lnTo>
                  <a:lnTo>
                    <a:pt x="3308" y="1116"/>
                  </a:lnTo>
                  <a:lnTo>
                    <a:pt x="3334" y="966"/>
                  </a:lnTo>
                  <a:lnTo>
                    <a:pt x="3405" y="847"/>
                  </a:lnTo>
                  <a:lnTo>
                    <a:pt x="3506" y="732"/>
                  </a:lnTo>
                  <a:lnTo>
                    <a:pt x="3497" y="537"/>
                  </a:lnTo>
                  <a:lnTo>
                    <a:pt x="3497" y="396"/>
                  </a:lnTo>
                  <a:lnTo>
                    <a:pt x="3449" y="295"/>
                  </a:lnTo>
                  <a:lnTo>
                    <a:pt x="3308" y="255"/>
                  </a:lnTo>
                  <a:lnTo>
                    <a:pt x="3259" y="229"/>
                  </a:lnTo>
                  <a:lnTo>
                    <a:pt x="3162" y="66"/>
                  </a:lnTo>
                  <a:lnTo>
                    <a:pt x="3078" y="13"/>
                  </a:lnTo>
                  <a:lnTo>
                    <a:pt x="2999" y="0"/>
                  </a:lnTo>
                  <a:lnTo>
                    <a:pt x="2924" y="26"/>
                  </a:lnTo>
                  <a:lnTo>
                    <a:pt x="2867" y="119"/>
                  </a:lnTo>
                  <a:lnTo>
                    <a:pt x="2774" y="167"/>
                  </a:lnTo>
                  <a:lnTo>
                    <a:pt x="2673" y="194"/>
                  </a:lnTo>
                  <a:lnTo>
                    <a:pt x="2558" y="194"/>
                  </a:lnTo>
                  <a:lnTo>
                    <a:pt x="2576" y="357"/>
                  </a:lnTo>
                  <a:lnTo>
                    <a:pt x="2576" y="564"/>
                  </a:lnTo>
                  <a:lnTo>
                    <a:pt x="2558" y="705"/>
                  </a:lnTo>
                  <a:lnTo>
                    <a:pt x="2457" y="869"/>
                  </a:lnTo>
                  <a:lnTo>
                    <a:pt x="2324" y="1125"/>
                  </a:lnTo>
                  <a:lnTo>
                    <a:pt x="2227" y="1429"/>
                  </a:lnTo>
                  <a:lnTo>
                    <a:pt x="2219" y="1610"/>
                  </a:lnTo>
                  <a:lnTo>
                    <a:pt x="2170" y="1773"/>
                  </a:lnTo>
                  <a:lnTo>
                    <a:pt x="2108" y="1923"/>
                  </a:lnTo>
                  <a:lnTo>
                    <a:pt x="2077" y="2170"/>
                  </a:lnTo>
                  <a:lnTo>
                    <a:pt x="2100" y="2373"/>
                  </a:lnTo>
                  <a:lnTo>
                    <a:pt x="2170" y="2612"/>
                  </a:lnTo>
                  <a:lnTo>
                    <a:pt x="2219" y="2700"/>
                  </a:lnTo>
                  <a:lnTo>
                    <a:pt x="2077" y="2788"/>
                  </a:lnTo>
                  <a:lnTo>
                    <a:pt x="1918" y="2846"/>
                  </a:lnTo>
                  <a:lnTo>
                    <a:pt x="1733" y="2863"/>
                  </a:lnTo>
                  <a:lnTo>
                    <a:pt x="1618" y="2863"/>
                  </a:lnTo>
                  <a:lnTo>
                    <a:pt x="1547" y="2828"/>
                  </a:lnTo>
                  <a:lnTo>
                    <a:pt x="1547" y="2630"/>
                  </a:lnTo>
                  <a:lnTo>
                    <a:pt x="1547" y="2324"/>
                  </a:lnTo>
                  <a:lnTo>
                    <a:pt x="1499" y="2033"/>
                  </a:lnTo>
                  <a:lnTo>
                    <a:pt x="1428" y="1773"/>
                  </a:lnTo>
                  <a:lnTo>
                    <a:pt x="1393" y="1557"/>
                  </a:lnTo>
                  <a:lnTo>
                    <a:pt x="1380" y="1253"/>
                  </a:lnTo>
                  <a:lnTo>
                    <a:pt x="1428" y="997"/>
                  </a:lnTo>
                  <a:lnTo>
                    <a:pt x="1499" y="780"/>
                  </a:lnTo>
                  <a:lnTo>
                    <a:pt x="1512" y="670"/>
                  </a:lnTo>
                  <a:lnTo>
                    <a:pt x="1477" y="485"/>
                  </a:lnTo>
                  <a:lnTo>
                    <a:pt x="1477" y="343"/>
                  </a:lnTo>
                  <a:lnTo>
                    <a:pt x="1499" y="295"/>
                  </a:lnTo>
                  <a:lnTo>
                    <a:pt x="1477" y="28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43" name=""/>
            <p:cNvSpPr/>
            <p:nvPr/>
          </p:nvSpPr>
          <p:spPr>
            <a:xfrm>
              <a:off x="7532640" y="1386000"/>
              <a:ext cx="187560" cy="794160"/>
            </a:xfrm>
            <a:custGeom>
              <a:avLst/>
              <a:gdLst/>
              <a:ahLst/>
              <a:rect l="0" t="0" r="r" b="b"/>
              <a:pathLst>
                <a:path w="521" h="2206">
                  <a:moveTo>
                    <a:pt x="207" y="26"/>
                  </a:moveTo>
                  <a:lnTo>
                    <a:pt x="70" y="97"/>
                  </a:lnTo>
                  <a:lnTo>
                    <a:pt x="79" y="313"/>
                  </a:lnTo>
                  <a:lnTo>
                    <a:pt x="185" y="370"/>
                  </a:lnTo>
                  <a:lnTo>
                    <a:pt x="61" y="600"/>
                  </a:lnTo>
                  <a:lnTo>
                    <a:pt x="0" y="856"/>
                  </a:lnTo>
                  <a:lnTo>
                    <a:pt x="0" y="1099"/>
                  </a:lnTo>
                  <a:lnTo>
                    <a:pt x="61" y="1319"/>
                  </a:lnTo>
                  <a:lnTo>
                    <a:pt x="110" y="1592"/>
                  </a:lnTo>
                  <a:lnTo>
                    <a:pt x="110" y="1748"/>
                  </a:lnTo>
                  <a:lnTo>
                    <a:pt x="61" y="1942"/>
                  </a:lnTo>
                  <a:lnTo>
                    <a:pt x="269" y="2206"/>
                  </a:lnTo>
                  <a:lnTo>
                    <a:pt x="353" y="2167"/>
                  </a:lnTo>
                  <a:lnTo>
                    <a:pt x="415" y="1977"/>
                  </a:lnTo>
                  <a:lnTo>
                    <a:pt x="516" y="1735"/>
                  </a:lnTo>
                  <a:lnTo>
                    <a:pt x="521" y="1606"/>
                  </a:lnTo>
                  <a:lnTo>
                    <a:pt x="441" y="1363"/>
                  </a:lnTo>
                  <a:lnTo>
                    <a:pt x="340" y="1129"/>
                  </a:lnTo>
                  <a:lnTo>
                    <a:pt x="309" y="957"/>
                  </a:lnTo>
                  <a:lnTo>
                    <a:pt x="309" y="803"/>
                  </a:lnTo>
                  <a:lnTo>
                    <a:pt x="340" y="662"/>
                  </a:lnTo>
                  <a:lnTo>
                    <a:pt x="415" y="480"/>
                  </a:lnTo>
                  <a:lnTo>
                    <a:pt x="415" y="414"/>
                  </a:lnTo>
                  <a:lnTo>
                    <a:pt x="380" y="339"/>
                  </a:lnTo>
                  <a:lnTo>
                    <a:pt x="477" y="251"/>
                  </a:lnTo>
                  <a:lnTo>
                    <a:pt x="477" y="163"/>
                  </a:lnTo>
                  <a:lnTo>
                    <a:pt x="340" y="0"/>
                  </a:lnTo>
                  <a:lnTo>
                    <a:pt x="450" y="163"/>
                  </a:lnTo>
                  <a:lnTo>
                    <a:pt x="450" y="238"/>
                  </a:lnTo>
                  <a:lnTo>
                    <a:pt x="349" y="313"/>
                  </a:lnTo>
                  <a:lnTo>
                    <a:pt x="393" y="414"/>
                  </a:lnTo>
                  <a:lnTo>
                    <a:pt x="380" y="480"/>
                  </a:lnTo>
                  <a:lnTo>
                    <a:pt x="283" y="688"/>
                  </a:lnTo>
                  <a:lnTo>
                    <a:pt x="269" y="887"/>
                  </a:lnTo>
                  <a:lnTo>
                    <a:pt x="292" y="1068"/>
                  </a:lnTo>
                  <a:lnTo>
                    <a:pt x="353" y="1332"/>
                  </a:lnTo>
                  <a:lnTo>
                    <a:pt x="441" y="1544"/>
                  </a:lnTo>
                  <a:lnTo>
                    <a:pt x="441" y="1721"/>
                  </a:lnTo>
                  <a:lnTo>
                    <a:pt x="393" y="1942"/>
                  </a:lnTo>
                  <a:lnTo>
                    <a:pt x="292" y="2167"/>
                  </a:lnTo>
                  <a:lnTo>
                    <a:pt x="176" y="2043"/>
                  </a:lnTo>
                  <a:lnTo>
                    <a:pt x="123" y="1942"/>
                  </a:lnTo>
                  <a:lnTo>
                    <a:pt x="132" y="1721"/>
                  </a:lnTo>
                  <a:lnTo>
                    <a:pt x="123" y="1504"/>
                  </a:lnTo>
                  <a:lnTo>
                    <a:pt x="61" y="1209"/>
                  </a:lnTo>
                  <a:lnTo>
                    <a:pt x="35" y="1015"/>
                  </a:lnTo>
                  <a:lnTo>
                    <a:pt x="61" y="790"/>
                  </a:lnTo>
                  <a:lnTo>
                    <a:pt x="110" y="569"/>
                  </a:lnTo>
                  <a:lnTo>
                    <a:pt x="216" y="352"/>
                  </a:lnTo>
                  <a:lnTo>
                    <a:pt x="123" y="264"/>
                  </a:lnTo>
                  <a:lnTo>
                    <a:pt x="110" y="110"/>
                  </a:lnTo>
                  <a:lnTo>
                    <a:pt x="207"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44" name=""/>
            <p:cNvSpPr/>
            <p:nvPr/>
          </p:nvSpPr>
          <p:spPr>
            <a:xfrm>
              <a:off x="8064360" y="463680"/>
              <a:ext cx="295560" cy="384480"/>
            </a:xfrm>
            <a:custGeom>
              <a:avLst/>
              <a:gdLst/>
              <a:ahLst/>
              <a:rect l="0" t="0" r="r" b="b"/>
              <a:pathLst>
                <a:path w="821" h="1068">
                  <a:moveTo>
                    <a:pt x="136" y="268"/>
                  </a:moveTo>
                  <a:lnTo>
                    <a:pt x="255" y="251"/>
                  </a:lnTo>
                  <a:lnTo>
                    <a:pt x="374" y="255"/>
                  </a:lnTo>
                  <a:lnTo>
                    <a:pt x="468" y="308"/>
                  </a:lnTo>
                  <a:lnTo>
                    <a:pt x="521" y="361"/>
                  </a:lnTo>
                  <a:lnTo>
                    <a:pt x="552" y="423"/>
                  </a:lnTo>
                  <a:lnTo>
                    <a:pt x="552" y="471"/>
                  </a:lnTo>
                  <a:lnTo>
                    <a:pt x="516" y="502"/>
                  </a:lnTo>
                  <a:lnTo>
                    <a:pt x="468" y="529"/>
                  </a:lnTo>
                  <a:lnTo>
                    <a:pt x="401" y="529"/>
                  </a:lnTo>
                  <a:lnTo>
                    <a:pt x="330" y="515"/>
                  </a:lnTo>
                  <a:lnTo>
                    <a:pt x="260" y="476"/>
                  </a:lnTo>
                  <a:lnTo>
                    <a:pt x="207" y="436"/>
                  </a:lnTo>
                  <a:lnTo>
                    <a:pt x="185" y="574"/>
                  </a:lnTo>
                  <a:lnTo>
                    <a:pt x="136" y="671"/>
                  </a:lnTo>
                  <a:lnTo>
                    <a:pt x="0" y="887"/>
                  </a:lnTo>
                  <a:lnTo>
                    <a:pt x="198" y="1068"/>
                  </a:lnTo>
                  <a:lnTo>
                    <a:pt x="352" y="781"/>
                  </a:lnTo>
                  <a:lnTo>
                    <a:pt x="516" y="807"/>
                  </a:lnTo>
                  <a:lnTo>
                    <a:pt x="627" y="785"/>
                  </a:lnTo>
                  <a:lnTo>
                    <a:pt x="724" y="715"/>
                  </a:lnTo>
                  <a:lnTo>
                    <a:pt x="790" y="631"/>
                  </a:lnTo>
                  <a:lnTo>
                    <a:pt x="821" y="520"/>
                  </a:lnTo>
                  <a:lnTo>
                    <a:pt x="821" y="405"/>
                  </a:lnTo>
                  <a:lnTo>
                    <a:pt x="790" y="282"/>
                  </a:lnTo>
                  <a:lnTo>
                    <a:pt x="719" y="158"/>
                  </a:lnTo>
                  <a:lnTo>
                    <a:pt x="636" y="79"/>
                  </a:lnTo>
                  <a:lnTo>
                    <a:pt x="543" y="26"/>
                  </a:lnTo>
                  <a:lnTo>
                    <a:pt x="424" y="0"/>
                  </a:lnTo>
                  <a:lnTo>
                    <a:pt x="268" y="0"/>
                  </a:lnTo>
                  <a:lnTo>
                    <a:pt x="110" y="26"/>
                  </a:lnTo>
                  <a:lnTo>
                    <a:pt x="136" y="268"/>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5" name=""/>
            <p:cNvSpPr/>
            <p:nvPr/>
          </p:nvSpPr>
          <p:spPr>
            <a:xfrm>
              <a:off x="8012160" y="835200"/>
              <a:ext cx="106560" cy="76680"/>
            </a:xfrm>
            <a:custGeom>
              <a:avLst/>
              <a:gdLst/>
              <a:ahLst/>
              <a:rect l="0" t="0" r="r" b="b"/>
              <a:pathLst>
                <a:path w="296" h="213">
                  <a:moveTo>
                    <a:pt x="119" y="0"/>
                  </a:moveTo>
                  <a:lnTo>
                    <a:pt x="39" y="0"/>
                  </a:lnTo>
                  <a:lnTo>
                    <a:pt x="0" y="26"/>
                  </a:lnTo>
                  <a:lnTo>
                    <a:pt x="0" y="106"/>
                  </a:lnTo>
                  <a:lnTo>
                    <a:pt x="61" y="187"/>
                  </a:lnTo>
                  <a:lnTo>
                    <a:pt x="181" y="213"/>
                  </a:lnTo>
                  <a:lnTo>
                    <a:pt x="274" y="209"/>
                  </a:lnTo>
                  <a:lnTo>
                    <a:pt x="296" y="155"/>
                  </a:lnTo>
                  <a:lnTo>
                    <a:pt x="283" y="115"/>
                  </a:lnTo>
                  <a:lnTo>
                    <a:pt x="239" y="48"/>
                  </a:lnTo>
                  <a:lnTo>
                    <a:pt x="168" y="8"/>
                  </a:lnTo>
                  <a:lnTo>
                    <a:pt x="119" y="0"/>
                  </a:lnTo>
                  <a:close/>
                </a:path>
              </a:pathLst>
            </a:custGeom>
            <a:solidFill>
              <a:srgbClr val="fc0128"/>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46" name=""/>
          <p:cNvSpPr txBox="1"/>
          <p:nvPr/>
        </p:nvSpPr>
        <p:spPr>
          <a:xfrm>
            <a:off x="1828800" y="2514600"/>
            <a:ext cx="6616800" cy="2886120"/>
          </a:xfrm>
          <a:prstGeom prst="rect">
            <a:avLst/>
          </a:prstGeom>
          <a:noFill/>
          <a:ln w="0">
            <a:noFill/>
          </a:ln>
        </p:spPr>
        <p:txBody>
          <a:bodyPr lIns="0" rIns="0" tIns="0" bIns="0" anchor="t">
            <a:noAutofit/>
          </a:bodyPr>
          <a:p>
            <a:pPr marL="343080" indent="-343080">
              <a:lnSpc>
                <a:spcPct val="12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4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200" spc="-1" strike="noStrike">
                <a:solidFill>
                  <a:srgbClr val="fcffd8"/>
                </a:solidFill>
                <a:latin typeface="Arial"/>
                <a:ea typeface="Arial"/>
              </a:rPr>
              <a:t>Apply the perpetual inventory system to the pricing of inventories at cost.</a:t>
            </a:r>
            <a:endParaRPr b="0" lang="en-US" sz="3200" spc="-1" strike="noStrike">
              <a:solidFill>
                <a:srgbClr val="ffffff"/>
              </a:solidFill>
              <a:latin typeface="Arial"/>
            </a:endParaRPr>
          </a:p>
        </p:txBody>
      </p:sp>
      <p:sp>
        <p:nvSpPr>
          <p:cNvPr id="647" name=""/>
          <p:cNvSpPr txBox="1"/>
          <p:nvPr/>
        </p:nvSpPr>
        <p:spPr>
          <a:xfrm>
            <a:off x="838080" y="838080"/>
            <a:ext cx="8077320" cy="1523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ricing Inventory Under the Perpetual Inventory System</a:t>
            </a:r>
            <a:endParaRPr b="0" lang="en-US" sz="4400" spc="-1" strike="noStrike">
              <a:solidFill>
                <a:srgbClr val="ffffff"/>
              </a:solidFill>
              <a:latin typeface="Arial"/>
            </a:endParaRPr>
          </a:p>
        </p:txBody>
      </p:sp>
      <p:pic>
        <p:nvPicPr>
          <p:cNvPr id="648" name="" descr=""/>
          <p:cNvPicPr/>
          <p:nvPr/>
        </p:nvPicPr>
        <p:blipFill>
          <a:blip r:embed="rId1"/>
          <a:stretch/>
        </p:blipFill>
        <p:spPr>
          <a:xfrm>
            <a:off x="0" y="0"/>
            <a:ext cx="863640" cy="7035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49" name=""/>
          <p:cNvSpPr txBox="1"/>
          <p:nvPr/>
        </p:nvSpPr>
        <p:spPr>
          <a:xfrm>
            <a:off x="762120" y="457200"/>
            <a:ext cx="8153280" cy="18288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ricing Inventory Under the </a:t>
            </a:r>
            <a:br>
              <a:rPr sz="4400"/>
            </a:br>
            <a:r>
              <a:rPr b="1" lang="en-US" sz="4400" spc="-1" strike="noStrike">
                <a:solidFill>
                  <a:srgbClr val="ffcc66"/>
                </a:solidFill>
                <a:latin typeface="Arial"/>
                <a:ea typeface="Arial"/>
              </a:rPr>
              <a:t>Perpetual Inventory System</a:t>
            </a:r>
            <a:endParaRPr b="0" lang="en-US" sz="4400" spc="-1" strike="noStrike">
              <a:solidFill>
                <a:srgbClr val="ffffff"/>
              </a:solidFill>
              <a:latin typeface="Arial"/>
            </a:endParaRPr>
          </a:p>
        </p:txBody>
      </p:sp>
      <p:sp>
        <p:nvSpPr>
          <p:cNvPr id="650" name=""/>
          <p:cNvSpPr txBox="1"/>
          <p:nvPr/>
        </p:nvSpPr>
        <p:spPr>
          <a:xfrm>
            <a:off x="1143000" y="3505320"/>
            <a:ext cx="5705640" cy="2548080"/>
          </a:xfrm>
          <a:prstGeom prst="rect">
            <a:avLst/>
          </a:prstGeom>
          <a:noFill/>
          <a:ln w="0">
            <a:noFill/>
          </a:ln>
        </p:spPr>
        <p:txBody>
          <a:bodyPr lIns="0" rIns="0" tIns="0" bIns="0" anchor="t">
            <a:noAutofit/>
          </a:bodyPr>
          <a:p>
            <a:pPr marL="343080" indent="-343080">
              <a:lnSpc>
                <a:spcPct val="13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1. Average-cost method.</a:t>
            </a:r>
            <a:endParaRPr b="0" lang="en-US" sz="3200" spc="-1" strike="noStrike">
              <a:solidFill>
                <a:srgbClr val="ffffff"/>
              </a:solidFill>
              <a:latin typeface="Arial"/>
            </a:endParaRPr>
          </a:p>
          <a:p>
            <a:pPr marL="343080" indent="-343080">
              <a:lnSpc>
                <a:spcPct val="13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2. FIFO method.</a:t>
            </a:r>
            <a:endParaRPr b="0" lang="en-US" sz="3200" spc="-1" strike="noStrike">
              <a:solidFill>
                <a:srgbClr val="ffffff"/>
              </a:solidFill>
              <a:latin typeface="Arial"/>
            </a:endParaRPr>
          </a:p>
          <a:p>
            <a:pPr marL="343080" indent="-343080">
              <a:lnSpc>
                <a:spcPct val="13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3. LIFO method.</a:t>
            </a:r>
            <a:endParaRPr b="0" lang="en-US" sz="3200" spc="-1" strike="noStrike">
              <a:solidFill>
                <a:srgbClr val="ffffff"/>
              </a:solidFill>
              <a:latin typeface="Arial"/>
            </a:endParaRPr>
          </a:p>
        </p:txBody>
      </p:sp>
      <p:sp>
        <p:nvSpPr>
          <p:cNvPr id="651" name=""/>
          <p:cNvSpPr txBox="1"/>
          <p:nvPr/>
        </p:nvSpPr>
        <p:spPr>
          <a:xfrm>
            <a:off x="762120" y="2209680"/>
            <a:ext cx="8153280" cy="1257480"/>
          </a:xfrm>
          <a:prstGeom prst="rect">
            <a:avLst/>
          </a:prstGeom>
          <a:noFill/>
          <a:ln w="0">
            <a:noFill/>
          </a:ln>
        </p:spPr>
        <p:txBody>
          <a:bodyPr lIns="0" rIns="0" tIns="0" bIns="0" anchor="t">
            <a:noAutofit/>
          </a:bodyPr>
          <a:p>
            <a:pPr marL="406440" indent="-40644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Accountants use one of three methods to price invento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52" name=""/>
          <p:cNvSpPr txBox="1"/>
          <p:nvPr/>
        </p:nvSpPr>
        <p:spPr>
          <a:xfrm>
            <a:off x="1219320" y="1676520"/>
            <a:ext cx="7391520" cy="4648320"/>
          </a:xfrm>
          <a:prstGeom prst="rect">
            <a:avLst/>
          </a:prstGeom>
          <a:noFill/>
          <a:ln w="0">
            <a:noFill/>
          </a:ln>
        </p:spPr>
        <p:txBody>
          <a:bodyPr lIns="0" rIns="0" tIns="0" bIns="0" anchor="t">
            <a:noAutofit/>
          </a:bodyPr>
          <a:p>
            <a:pPr marL="343080" indent="-343080" algn="ctr">
              <a:lnSpc>
                <a:spcPct val="120000"/>
              </a:lnSpc>
              <a:spcBef>
                <a:spcPts val="479"/>
              </a:spcBef>
            </a:pPr>
            <a:r>
              <a:rPr b="1" lang="en-US" sz="2800" spc="-1" strike="noStrike">
                <a:solidFill>
                  <a:srgbClr val="ffff00"/>
                </a:solidFill>
                <a:latin typeface="Arial"/>
                <a:ea typeface="Arial"/>
              </a:rPr>
              <a:t>Inventory Data - June 30</a:t>
            </a:r>
            <a:endParaRPr b="0" lang="en-US" sz="28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June  1      Inventory           50  units @ $1.00</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6     Purchas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50  units @ $1.10</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10   Sale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70  units</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13   Purchase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50  units @ $1.20</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20   Purchase         100  units @ $1.30</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25   Purchase         150  units @ $1.40</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30   Sal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210  units</a:t>
            </a:r>
            <a:endParaRPr b="0" lang="en-US" sz="2400" spc="-1" strike="noStrike">
              <a:solidFill>
                <a:srgbClr val="ffffff"/>
              </a:solidFill>
              <a:latin typeface="Arial"/>
            </a:endParaRPr>
          </a:p>
          <a:p>
            <a:pPr marL="343080" indent="-343080">
              <a:lnSpc>
                <a:spcPct val="12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30   Inventory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220  units</a:t>
            </a:r>
            <a:endParaRPr b="0" lang="en-US" sz="2400" spc="-1" strike="noStrike">
              <a:solidFill>
                <a:srgbClr val="ffffff"/>
              </a:solidFill>
              <a:latin typeface="Arial"/>
            </a:endParaRPr>
          </a:p>
        </p:txBody>
      </p:sp>
      <p:sp>
        <p:nvSpPr>
          <p:cNvPr id="653" name=""/>
          <p:cNvSpPr txBox="1"/>
          <p:nvPr/>
        </p:nvSpPr>
        <p:spPr>
          <a:xfrm>
            <a:off x="1447920" y="228600"/>
            <a:ext cx="6781680" cy="1371600"/>
          </a:xfrm>
          <a:prstGeom prst="rect">
            <a:avLst/>
          </a:prstGeom>
          <a:noFill/>
          <a:ln w="0">
            <a:noFill/>
          </a:ln>
        </p:spPr>
        <p:txBody>
          <a:bodyPr lIns="0" rIns="0" tIns="0" bIns="0" anchor="t">
            <a:noAutofit/>
          </a:bodyPr>
          <a:p>
            <a:pPr algn="ctr">
              <a:lnSpc>
                <a:spcPct val="100000"/>
              </a:lnSpc>
            </a:pPr>
            <a:r>
              <a:rPr b="1" lang="en-US" sz="4000" spc="-1" strike="noStrike">
                <a:solidFill>
                  <a:srgbClr val="ffcc66"/>
                </a:solidFill>
                <a:latin typeface="Arial"/>
                <a:ea typeface="Arial"/>
              </a:rPr>
              <a:t>Illustrative Data for the Three Method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54" name=""/>
          <p:cNvSpPr txBox="1"/>
          <p:nvPr/>
        </p:nvSpPr>
        <p:spPr>
          <a:xfrm>
            <a:off x="1371600" y="228600"/>
            <a:ext cx="7162920" cy="911880"/>
          </a:xfrm>
          <a:prstGeom prst="rect">
            <a:avLst/>
          </a:prstGeom>
          <a:noFill/>
          <a:ln w="0">
            <a:noFill/>
          </a:ln>
        </p:spPr>
        <p:txBody>
          <a:bodyPr lIns="0" rIns="0" tIns="0" bIns="0" anchor="t">
            <a:noAutofit/>
          </a:bodyPr>
          <a:p>
            <a:pPr algn="ctr">
              <a:lnSpc>
                <a:spcPct val="100000"/>
              </a:lnSpc>
            </a:pPr>
            <a:r>
              <a:rPr b="1" lang="en-US" sz="3200" spc="-1" strike="noStrike">
                <a:solidFill>
                  <a:srgbClr val="ffcc66"/>
                </a:solidFill>
                <a:latin typeface="Arial"/>
                <a:ea typeface="Arial"/>
              </a:rPr>
              <a:t>Perpetual Inventory System:</a:t>
            </a:r>
            <a:br>
              <a:rPr sz="3200"/>
            </a:br>
            <a:r>
              <a:rPr b="1" lang="en-US" sz="3200" spc="-1" strike="noStrike">
                <a:solidFill>
                  <a:srgbClr val="ffcc66"/>
                </a:solidFill>
                <a:latin typeface="Arial"/>
                <a:ea typeface="Arial"/>
              </a:rPr>
              <a:t>Average-Cost Method</a:t>
            </a:r>
            <a:endParaRPr b="0" lang="en-US" sz="3200" spc="-1" strike="noStrike">
              <a:solidFill>
                <a:srgbClr val="ffffff"/>
              </a:solidFill>
              <a:latin typeface="Arial"/>
            </a:endParaRPr>
          </a:p>
        </p:txBody>
      </p:sp>
      <p:sp>
        <p:nvSpPr>
          <p:cNvPr id="655" name=""/>
          <p:cNvSpPr txBox="1"/>
          <p:nvPr/>
        </p:nvSpPr>
        <p:spPr>
          <a:xfrm>
            <a:off x="838080" y="1295280"/>
            <a:ext cx="8001000" cy="4876920"/>
          </a:xfrm>
          <a:prstGeom prst="rect">
            <a:avLst/>
          </a:prstGeom>
          <a:noFill/>
          <a:ln w="0">
            <a:noFill/>
          </a:ln>
        </p:spPr>
        <p:txBody>
          <a:bodyPr lIns="0" rIns="0" tIns="0" bIns="0" anchor="t">
            <a:noAutofit/>
          </a:bodyPr>
          <a:p>
            <a:pPr marL="343080" indent="-343080">
              <a:lnSpc>
                <a:spcPct val="90000"/>
              </a:lnSpc>
              <a:spcBef>
                <a:spcPts val="479"/>
              </a:spcBef>
            </a:pPr>
            <a:r>
              <a:rPr b="1" lang="en-US" sz="2400" spc="-1" strike="noStrike">
                <a:solidFill>
                  <a:srgbClr val="fcffd8"/>
                </a:solidFill>
                <a:latin typeface="Arial"/>
                <a:ea typeface="Arial"/>
              </a:rPr>
              <a:t>June 1    Inventory</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50  units @ $1.0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 50.00</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6    Purchase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50  units @ $1.1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u="sng">
                <a:solidFill>
                  <a:srgbClr val="fcffd8"/>
                </a:solidFill>
                <a:uFillTx/>
                <a:latin typeface="Arial"/>
                <a:ea typeface="Arial"/>
              </a:rPr>
              <a:t>  55.00</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6    Balanc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100  units @ $1.05</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05.00</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10  Sal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70  units @ $1.05</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u="sng">
                <a:solidFill>
                  <a:srgbClr val="fcffd8"/>
                </a:solidFill>
                <a:uFillTx/>
                <a:latin typeface="Arial"/>
                <a:ea typeface="Arial"/>
              </a:rPr>
              <a:t>   (73.50</a:t>
            </a:r>
            <a:r>
              <a:rPr b="1" lang="en-US" sz="2400" spc="-1" strike="noStrike">
                <a:solidFill>
                  <a:srgbClr val="fcffd8"/>
                </a:solidFill>
                <a:latin typeface="Arial"/>
                <a:ea typeface="Arial"/>
              </a:rPr>
              <a:t>)</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10  Balanc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30  units @ $1.05</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 31.50</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13  Purchase   150 units @ $1.2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180.00</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20  Purchase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100 units @ $1.3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130.00</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25  Purchase   150 units @ $1.4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u="sng">
                <a:solidFill>
                  <a:srgbClr val="fcffd8"/>
                </a:solidFill>
                <a:uFillTx/>
                <a:latin typeface="Arial"/>
                <a:ea typeface="Arial"/>
              </a:rPr>
              <a:t>210.00</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25  Balanc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430 units @ $1.28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551.50</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30  Sale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210 units @ $1.28 *</a:t>
            </a:r>
            <a:r>
              <a:rPr b="1" lang="en-US" sz="2400" spc="-1" strike="noStrike">
                <a:solidFill>
                  <a:srgbClr val="fcffd8"/>
                </a:solidFill>
                <a:latin typeface="Arial"/>
                <a:ea typeface="Arial"/>
              </a:rPr>
              <a:t>	</a:t>
            </a:r>
            <a:r>
              <a:rPr b="1" lang="en-US" sz="2400" spc="-1" strike="noStrike" u="sng">
                <a:solidFill>
                  <a:srgbClr val="fcffd8"/>
                </a:solidFill>
                <a:uFillTx/>
                <a:latin typeface="Arial"/>
                <a:ea typeface="Arial"/>
              </a:rPr>
              <a:t> (268.80</a:t>
            </a:r>
            <a:r>
              <a:rPr b="1" lang="en-US" sz="2400" spc="-1" strike="noStrike">
                <a:solidFill>
                  <a:srgbClr val="fcffd8"/>
                </a:solidFill>
                <a:latin typeface="Arial"/>
                <a:ea typeface="Arial"/>
              </a:rPr>
              <a:t>)</a:t>
            </a:r>
            <a:endParaRPr b="0" lang="en-US" sz="2400" spc="-1" strike="noStrike">
              <a:solidFill>
                <a:srgbClr val="ffffff"/>
              </a:solidFill>
              <a:latin typeface="Arial"/>
            </a:endParaRPr>
          </a:p>
          <a:p>
            <a:pPr marL="343080" indent="-343080">
              <a:lnSpc>
                <a:spcPct val="9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30  Inventory   220 units @ $1.29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282.70</a:t>
            </a:r>
            <a:endParaRPr b="0" lang="en-US" sz="2400" spc="-1" strike="noStrike">
              <a:solidFill>
                <a:srgbClr val="ffffff"/>
              </a:solidFill>
              <a:latin typeface="Arial"/>
            </a:endParaRPr>
          </a:p>
          <a:p>
            <a:pPr marL="343080" indent="-343080">
              <a:lnSpc>
                <a:spcPct val="110000"/>
              </a:lnSpc>
              <a:spcBef>
                <a:spcPts val="479"/>
              </a:spcBef>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COGS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73.50 + $268.8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342.30</a:t>
            </a:r>
            <a:endParaRPr b="0" lang="en-US" sz="2400" spc="-1" strike="noStrike">
              <a:solidFill>
                <a:srgbClr val="ffffff"/>
              </a:solidFill>
              <a:latin typeface="Arial"/>
            </a:endParaRPr>
          </a:p>
          <a:p>
            <a:pPr marL="343080" indent="-343080">
              <a:lnSpc>
                <a:spcPct val="120000"/>
              </a:lnSpc>
              <a:spcBef>
                <a:spcPts val="479"/>
              </a:spcBef>
            </a:pPr>
            <a:r>
              <a:rPr b="1" i="1" lang="en-US" sz="1800" spc="-1" strike="noStrike">
                <a:solidFill>
                  <a:srgbClr val="fcfeb9"/>
                </a:solidFill>
                <a:latin typeface="Arial"/>
                <a:ea typeface="Arial"/>
              </a:rPr>
              <a:t>* Rounded</a:t>
            </a:r>
            <a:endParaRPr b="0" lang="en-US" sz="1800" spc="-1" strike="noStrike">
              <a:solidFill>
                <a:srgbClr val="ffffff"/>
              </a:solidFill>
              <a:latin typeface="Arial"/>
            </a:endParaRPr>
          </a:p>
        </p:txBody>
      </p:sp>
      <p:grpSp>
        <p:nvGrpSpPr>
          <p:cNvPr id="656" name=""/>
          <p:cNvGrpSpPr/>
          <p:nvPr/>
        </p:nvGrpSpPr>
        <p:grpSpPr>
          <a:xfrm>
            <a:off x="7331040" y="5715000"/>
            <a:ext cx="1203480" cy="533520"/>
            <a:chOff x="7331040" y="5715000"/>
            <a:chExt cx="1203480" cy="533520"/>
          </a:xfrm>
        </p:grpSpPr>
        <p:sp>
          <p:nvSpPr>
            <p:cNvPr id="657" name=""/>
            <p:cNvSpPr/>
            <p:nvPr/>
          </p:nvSpPr>
          <p:spPr>
            <a:xfrm>
              <a:off x="7340760" y="5715000"/>
              <a:ext cx="11937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58" name=""/>
            <p:cNvSpPr/>
            <p:nvPr/>
          </p:nvSpPr>
          <p:spPr>
            <a:xfrm>
              <a:off x="7340760" y="5764320"/>
              <a:ext cx="11937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59" name=""/>
            <p:cNvSpPr/>
            <p:nvPr/>
          </p:nvSpPr>
          <p:spPr>
            <a:xfrm>
              <a:off x="7331040" y="6199200"/>
              <a:ext cx="11937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60" name=""/>
            <p:cNvSpPr/>
            <p:nvPr/>
          </p:nvSpPr>
          <p:spPr>
            <a:xfrm>
              <a:off x="7331040" y="6248520"/>
              <a:ext cx="11937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 name=""/>
          <p:cNvSpPr txBox="1"/>
          <p:nvPr/>
        </p:nvSpPr>
        <p:spPr>
          <a:xfrm>
            <a:off x="990720" y="304920"/>
            <a:ext cx="769608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Management</a:t>
            </a:r>
            <a:endParaRPr b="0" lang="en-US" sz="4400" spc="-1" strike="noStrike">
              <a:solidFill>
                <a:srgbClr val="ffffff"/>
              </a:solidFill>
              <a:latin typeface="Arial"/>
            </a:endParaRPr>
          </a:p>
        </p:txBody>
      </p:sp>
      <p:sp>
        <p:nvSpPr>
          <p:cNvPr id="55" name=""/>
          <p:cNvSpPr txBox="1"/>
          <p:nvPr/>
        </p:nvSpPr>
        <p:spPr>
          <a:xfrm>
            <a:off x="1219320" y="1676520"/>
            <a:ext cx="7467480" cy="39625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Management of inventory for profit is one of management’s most complex and challenging task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nventory represents one of the largest assets of a merchandising busine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61" name=""/>
          <p:cNvSpPr txBox="1"/>
          <p:nvPr/>
        </p:nvSpPr>
        <p:spPr>
          <a:xfrm>
            <a:off x="990720" y="304920"/>
            <a:ext cx="7696080" cy="1600200"/>
          </a:xfrm>
          <a:prstGeom prst="rect">
            <a:avLst/>
          </a:prstGeom>
          <a:noFill/>
          <a:ln w="0">
            <a:noFill/>
          </a:ln>
        </p:spPr>
        <p:txBody>
          <a:bodyPr lIns="0" rIns="0" tIns="0" bIns="0" anchor="t">
            <a:noAutofit/>
          </a:bodyPr>
          <a:p>
            <a:pPr algn="ctr">
              <a:lnSpc>
                <a:spcPct val="100000"/>
              </a:lnSpc>
            </a:pPr>
            <a:r>
              <a:rPr b="1" lang="en-US" sz="4000" spc="-1" strike="noStrike">
                <a:solidFill>
                  <a:srgbClr val="ffcc66"/>
                </a:solidFill>
                <a:latin typeface="Arial"/>
                <a:ea typeface="Arial"/>
              </a:rPr>
              <a:t>Perpetual Inventory System:</a:t>
            </a:r>
            <a:br>
              <a:rPr sz="4000"/>
            </a:br>
            <a:r>
              <a:rPr b="1" lang="en-US" sz="4000" spc="-1" strike="noStrike">
                <a:solidFill>
                  <a:srgbClr val="ffcc66"/>
                </a:solidFill>
                <a:latin typeface="Arial"/>
                <a:ea typeface="Arial"/>
              </a:rPr>
              <a:t>FIFO Method</a:t>
            </a:r>
            <a:endParaRPr b="0" lang="en-US" sz="4000" spc="-1" strike="noStrike">
              <a:solidFill>
                <a:srgbClr val="ffffff"/>
              </a:solidFill>
              <a:latin typeface="Arial"/>
            </a:endParaRPr>
          </a:p>
        </p:txBody>
      </p:sp>
      <p:sp>
        <p:nvSpPr>
          <p:cNvPr id="662" name=""/>
          <p:cNvSpPr txBox="1"/>
          <p:nvPr/>
        </p:nvSpPr>
        <p:spPr>
          <a:xfrm>
            <a:off x="914400" y="1905120"/>
            <a:ext cx="8001000" cy="4267080"/>
          </a:xfrm>
          <a:prstGeom prst="rect">
            <a:avLst/>
          </a:prstGeom>
          <a:noFill/>
          <a:ln w="0">
            <a:noFill/>
          </a:ln>
        </p:spPr>
        <p:txBody>
          <a:bodyPr lIns="0" rIns="0" tIns="0" bIns="0" anchor="t">
            <a:noAutofit/>
          </a:bodyPr>
          <a:p>
            <a:pPr marL="914400" indent="-914400">
              <a:lnSpc>
                <a:spcPct val="12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June 1    Inventory  50 @ $1.0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50.00</a:t>
            </a:r>
            <a:endParaRPr b="0" lang="en-US" sz="2400" spc="-1" strike="noStrike">
              <a:solidFill>
                <a:srgbClr val="ffffff"/>
              </a:solidFill>
              <a:latin typeface="Arial"/>
            </a:endParaRPr>
          </a:p>
          <a:p>
            <a:pPr marL="914400" indent="-914400">
              <a:lnSpc>
                <a:spcPct val="12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6    Purchase  50 @ $1.10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55.00</a:t>
            </a:r>
            <a:endParaRPr b="0" lang="en-US" sz="2400" spc="-1" strike="noStrike">
              <a:solidFill>
                <a:srgbClr val="ffffff"/>
              </a:solidFill>
              <a:latin typeface="Arial"/>
            </a:endParaRPr>
          </a:p>
          <a:p>
            <a:pPr marL="914400" indent="-914400">
              <a:lnSpc>
                <a:spcPct val="12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10  Sal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50 @ $1.0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50.00)</a:t>
            </a:r>
            <a:endParaRPr b="0" lang="en-US" sz="2400" spc="-1" strike="noStrike">
              <a:solidFill>
                <a:srgbClr val="ffffff"/>
              </a:solidFill>
              <a:latin typeface="Arial"/>
            </a:endParaRPr>
          </a:p>
          <a:p>
            <a:pPr marL="914400" indent="-914400">
              <a:lnSpc>
                <a:spcPct val="12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20 @ $1.1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u="sng">
                <a:solidFill>
                  <a:srgbClr val="fcffd8"/>
                </a:solidFill>
                <a:uFillTx/>
                <a:latin typeface="Arial"/>
                <a:ea typeface="Arial"/>
              </a:rPr>
              <a:t>(22.00</a:t>
            </a:r>
            <a:r>
              <a:rPr b="1" lang="en-US" sz="2400" spc="-1" strike="noStrike">
                <a:solidFill>
                  <a:srgbClr val="fcffd8"/>
                </a:solidFill>
                <a:latin typeface="Arial"/>
                <a:ea typeface="Arial"/>
              </a:rPr>
              <a:t>)</a:t>
            </a:r>
            <a:r>
              <a:rPr b="1" lang="en-US" sz="2400" spc="-1" strike="noStrike" u="sng">
                <a:solidFill>
                  <a:srgbClr val="fcffd8"/>
                </a:solidFill>
                <a:uFillTx/>
                <a:latin typeface="Arial"/>
                <a:ea typeface="Arial"/>
              </a:rPr>
              <a:t>	</a:t>
            </a:r>
            <a:r>
              <a:rPr b="1" lang="en-US" sz="2400" spc="-1" strike="noStrike">
                <a:solidFill>
                  <a:srgbClr val="fcffd8"/>
                </a:solidFill>
                <a:latin typeface="Arial"/>
                <a:ea typeface="Arial"/>
              </a:rPr>
              <a:t> </a:t>
            </a:r>
            <a:r>
              <a:rPr b="1" lang="en-US" sz="2400" spc="-1" strike="noStrike" u="sng">
                <a:solidFill>
                  <a:srgbClr val="fcffd8"/>
                </a:solidFill>
                <a:uFillTx/>
                <a:latin typeface="Arial"/>
                <a:ea typeface="Arial"/>
              </a:rPr>
              <a:t>(72.00</a:t>
            </a:r>
            <a:r>
              <a:rPr b="1" lang="en-US" sz="2400" spc="-1" strike="noStrike">
                <a:solidFill>
                  <a:srgbClr val="fcffd8"/>
                </a:solidFill>
                <a:latin typeface="Arial"/>
                <a:ea typeface="Arial"/>
              </a:rPr>
              <a:t>) </a:t>
            </a:r>
            <a:endParaRPr b="0" lang="en-US" sz="2400" spc="-1" strike="noStrike">
              <a:solidFill>
                <a:srgbClr val="ffffff"/>
              </a:solidFill>
              <a:latin typeface="Arial"/>
            </a:endParaRPr>
          </a:p>
          <a:p>
            <a:pPr marL="914400" indent="-914400">
              <a:lnSpc>
                <a:spcPct val="12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10  Balanc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30 @ $1.1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33.00</a:t>
            </a:r>
            <a:endParaRPr b="0" lang="en-US" sz="2400" spc="-1" strike="noStrike">
              <a:solidFill>
                <a:srgbClr val="ffffff"/>
              </a:solidFill>
              <a:latin typeface="Arial"/>
            </a:endParaRPr>
          </a:p>
          <a:p>
            <a:pPr marL="914400" indent="-914400">
              <a:lnSpc>
                <a:spcPct val="12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13  Purchase 150 @ $1.2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180.00 </a:t>
            </a:r>
            <a:endParaRPr b="0" lang="en-US" sz="2400" spc="-1" strike="noStrike">
              <a:solidFill>
                <a:srgbClr val="ffffff"/>
              </a:solidFill>
              <a:latin typeface="Arial"/>
            </a:endParaRPr>
          </a:p>
          <a:p>
            <a:pPr marL="914400" indent="-914400">
              <a:lnSpc>
                <a:spcPct val="12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20  Purchase 100 @ $1.3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130.00</a:t>
            </a:r>
            <a:endParaRPr b="0" lang="en-US" sz="2400" spc="-1" strike="noStrike">
              <a:solidFill>
                <a:srgbClr val="ffffff"/>
              </a:solidFill>
              <a:latin typeface="Arial"/>
            </a:endParaRPr>
          </a:p>
          <a:p>
            <a:pPr marL="914400" indent="-914400">
              <a:lnSpc>
                <a:spcPct val="12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25  Purchase 150 @ $1.4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210.00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63" name=""/>
          <p:cNvSpPr txBox="1"/>
          <p:nvPr/>
        </p:nvSpPr>
        <p:spPr>
          <a:xfrm>
            <a:off x="1219320" y="304920"/>
            <a:ext cx="7315200" cy="1523880"/>
          </a:xfrm>
          <a:prstGeom prst="rect">
            <a:avLst/>
          </a:prstGeom>
          <a:noFill/>
          <a:ln w="0">
            <a:noFill/>
          </a:ln>
        </p:spPr>
        <p:txBody>
          <a:bodyPr lIns="0" rIns="0" tIns="0" bIns="0" anchor="t">
            <a:noAutofit/>
          </a:bodyPr>
          <a:p>
            <a:pPr algn="ctr">
              <a:lnSpc>
                <a:spcPct val="100000"/>
              </a:lnSpc>
            </a:pPr>
            <a:r>
              <a:rPr b="1" lang="en-US" sz="4000" spc="-1" strike="noStrike">
                <a:solidFill>
                  <a:srgbClr val="ffcc66"/>
                </a:solidFill>
                <a:latin typeface="Arial"/>
                <a:ea typeface="Arial"/>
              </a:rPr>
              <a:t>Perpetual Inventory System:</a:t>
            </a:r>
            <a:br>
              <a:rPr sz="4000"/>
            </a:br>
            <a:r>
              <a:rPr b="1" lang="en-US" sz="4000" spc="-1" strike="noStrike">
                <a:solidFill>
                  <a:srgbClr val="ffcc66"/>
                </a:solidFill>
                <a:latin typeface="Arial"/>
                <a:ea typeface="Arial"/>
              </a:rPr>
              <a:t>FIFO Method</a:t>
            </a:r>
            <a:endParaRPr b="0" lang="en-US" sz="4000" spc="-1" strike="noStrike">
              <a:solidFill>
                <a:srgbClr val="ffffff"/>
              </a:solidFill>
              <a:latin typeface="Arial"/>
            </a:endParaRPr>
          </a:p>
        </p:txBody>
      </p:sp>
      <p:sp>
        <p:nvSpPr>
          <p:cNvPr id="664" name=""/>
          <p:cNvSpPr txBox="1"/>
          <p:nvPr/>
        </p:nvSpPr>
        <p:spPr>
          <a:xfrm>
            <a:off x="914400" y="1981080"/>
            <a:ext cx="7924680" cy="4584600"/>
          </a:xfrm>
          <a:prstGeom prst="rect">
            <a:avLst/>
          </a:prstGeom>
          <a:noFill/>
          <a:ln w="0">
            <a:noFill/>
          </a:ln>
        </p:spPr>
        <p:txBody>
          <a:bodyPr lIns="0" rIns="0" tIns="0" bIns="0" anchor="t">
            <a:noAutofit/>
          </a:bodyPr>
          <a:p>
            <a:pPr marL="914400" indent="-914400">
              <a:lnSpc>
                <a:spcPct val="14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30 Sale</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3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1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33.00)</a:t>
            </a:r>
            <a:endParaRPr b="0" lang="en-US" sz="2400" spc="-1" strike="noStrike">
              <a:solidFill>
                <a:srgbClr val="ffffff"/>
              </a:solidFill>
              <a:latin typeface="Arial"/>
            </a:endParaRPr>
          </a:p>
          <a:p>
            <a:pPr marL="914400" indent="-914400">
              <a:lnSpc>
                <a:spcPct val="14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5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2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80.00)</a:t>
            </a:r>
            <a:endParaRPr b="0" lang="en-US" sz="2400" spc="-1" strike="noStrike">
              <a:solidFill>
                <a:srgbClr val="ffffff"/>
              </a:solidFill>
              <a:latin typeface="Arial"/>
            </a:endParaRPr>
          </a:p>
          <a:p>
            <a:pPr marL="914400" indent="-914400">
              <a:lnSpc>
                <a:spcPct val="14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3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30</a:t>
            </a:r>
            <a:r>
              <a:rPr b="1" lang="en-US" sz="2400" spc="-1" strike="noStrike">
                <a:solidFill>
                  <a:srgbClr val="fcffd8"/>
                </a:solidFill>
                <a:latin typeface="Arial"/>
                <a:ea typeface="Arial"/>
              </a:rPr>
              <a:t>	</a:t>
            </a:r>
            <a:r>
              <a:rPr b="1" lang="en-US" sz="2400" spc="-1" strike="noStrike" u="sng">
                <a:solidFill>
                  <a:srgbClr val="fcffd8"/>
                </a:solidFill>
                <a:uFillTx/>
                <a:latin typeface="Arial"/>
                <a:ea typeface="Arial"/>
              </a:rPr>
              <a:t>  (39.00</a:t>
            </a:r>
            <a:r>
              <a:rPr b="1" lang="en-US" sz="2400" spc="-1" strike="noStrike">
                <a:solidFill>
                  <a:srgbClr val="fcffd8"/>
                </a:solidFill>
                <a:latin typeface="Arial"/>
                <a:ea typeface="Arial"/>
              </a:rPr>
              <a:t>)</a:t>
            </a:r>
            <a:r>
              <a:rPr b="1" lang="en-US" sz="2400" spc="-1" strike="noStrike" u="sng">
                <a:solidFill>
                  <a:srgbClr val="fcffd8"/>
                </a:solidFill>
                <a:uFillTx/>
                <a:latin typeface="Arial"/>
                <a:ea typeface="Arial"/>
              </a:rPr>
              <a:t>	</a:t>
            </a:r>
            <a:r>
              <a:rPr b="1" lang="en-US" sz="2400" spc="-1" strike="noStrike" u="sng">
                <a:solidFill>
                  <a:srgbClr val="fcffd8"/>
                </a:solidFill>
                <a:uFillTx/>
                <a:latin typeface="Arial"/>
                <a:ea typeface="Arial"/>
              </a:rPr>
              <a:t>(252.00</a:t>
            </a:r>
            <a:r>
              <a:rPr b="1" lang="en-US" sz="2400" spc="-1" strike="noStrike">
                <a:solidFill>
                  <a:srgbClr val="fcffd8"/>
                </a:solidFill>
                <a:latin typeface="Arial"/>
                <a:ea typeface="Arial"/>
              </a:rPr>
              <a:t>)</a:t>
            </a:r>
            <a:endParaRPr b="0" lang="en-US" sz="2400" spc="-1" strike="noStrike">
              <a:solidFill>
                <a:srgbClr val="ffffff"/>
              </a:solidFill>
              <a:latin typeface="Arial"/>
            </a:endParaRPr>
          </a:p>
          <a:p>
            <a:pPr marL="914400" indent="-914400">
              <a:lnSpc>
                <a:spcPct val="14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30 Inventory</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7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30        $ 91.00</a:t>
            </a:r>
            <a:endParaRPr b="0" lang="en-US" sz="2400" spc="-1" strike="noStrike">
              <a:solidFill>
                <a:srgbClr val="ffffff"/>
              </a:solidFill>
              <a:latin typeface="Arial"/>
            </a:endParaRPr>
          </a:p>
          <a:p>
            <a:pPr marL="914400" indent="-914400">
              <a:lnSpc>
                <a:spcPct val="14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5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1.4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u="sng">
                <a:solidFill>
                  <a:srgbClr val="fcffd8"/>
                </a:solidFill>
                <a:uFillTx/>
                <a:latin typeface="Arial"/>
                <a:ea typeface="Arial"/>
              </a:rPr>
              <a:t>210.00</a:t>
            </a:r>
            <a:r>
              <a:rPr b="1" lang="en-US" sz="2400" spc="-1" strike="noStrike" u="sng">
                <a:solidFill>
                  <a:srgbClr val="fcffd8"/>
                </a:solidFill>
                <a:uFillTx/>
                <a:latin typeface="Arial"/>
                <a:ea typeface="Arial"/>
              </a:rPr>
              <a:t>	</a:t>
            </a:r>
            <a:r>
              <a:rPr b="1" lang="en-US" sz="2400" spc="-1" strike="noStrike">
                <a:solidFill>
                  <a:srgbClr val="fcffd8"/>
                </a:solidFill>
                <a:latin typeface="Arial"/>
                <a:ea typeface="Arial"/>
              </a:rPr>
              <a:t>$301.00</a:t>
            </a:r>
            <a:r>
              <a:rPr b="1" lang="en-US" sz="2400" spc="-1" strike="noStrike">
                <a:solidFill>
                  <a:srgbClr val="fcffd8"/>
                </a:solidFill>
                <a:latin typeface="Arial"/>
                <a:ea typeface="Arial"/>
              </a:rPr>
              <a:t>	</a:t>
            </a:r>
            <a:endParaRPr b="0" lang="en-US" sz="2400" spc="-1" strike="noStrike">
              <a:solidFill>
                <a:srgbClr val="ffffff"/>
              </a:solidFill>
              <a:latin typeface="Arial"/>
            </a:endParaRPr>
          </a:p>
          <a:p>
            <a:pPr marL="914400" indent="-914400">
              <a:lnSpc>
                <a:spcPct val="140000"/>
              </a:lnSpc>
              <a:spcBef>
                <a:spcPts val="479"/>
              </a:spcBef>
              <a:tabLst>
                <a:tab algn="l" pos="1600200"/>
                <a:tab algn="l" pos="2286000"/>
                <a:tab algn="l" pos="2637000"/>
                <a:tab algn="l" pos="4054320"/>
                <a:tab algn="l" pos="5380200"/>
              </a:tabLst>
            </a:pPr>
            <a:r>
              <a:rPr b="1" lang="en-US" sz="2400" spc="-1" strike="noStrike">
                <a:solidFill>
                  <a:srgbClr val="fcffd8"/>
                </a:solidFill>
                <a:latin typeface="Arial"/>
                <a:ea typeface="Arial"/>
              </a:rPr>
              <a:t>COGS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72.00 + $252.00</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324.00</a:t>
            </a:r>
            <a:endParaRPr b="0" lang="en-US" sz="2400" spc="-1" strike="noStrike">
              <a:solidFill>
                <a:srgbClr val="ffffff"/>
              </a:solidFill>
              <a:latin typeface="Arial"/>
            </a:endParaRPr>
          </a:p>
        </p:txBody>
      </p:sp>
      <p:sp>
        <p:nvSpPr>
          <p:cNvPr id="665" name=""/>
          <p:cNvSpPr/>
          <p:nvPr/>
        </p:nvSpPr>
        <p:spPr>
          <a:xfrm>
            <a:off x="7319880" y="5486400"/>
            <a:ext cx="11271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66" name=""/>
          <p:cNvSpPr/>
          <p:nvPr/>
        </p:nvSpPr>
        <p:spPr>
          <a:xfrm>
            <a:off x="7319880" y="5562720"/>
            <a:ext cx="112716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67" name=""/>
          <p:cNvSpPr txBox="1"/>
          <p:nvPr/>
        </p:nvSpPr>
        <p:spPr>
          <a:xfrm>
            <a:off x="1479600" y="325440"/>
            <a:ext cx="6892920" cy="1024200"/>
          </a:xfrm>
          <a:prstGeom prst="rect">
            <a:avLst/>
          </a:prstGeom>
          <a:noFill/>
          <a:ln w="0">
            <a:noFill/>
          </a:ln>
        </p:spPr>
        <p:txBody>
          <a:bodyPr lIns="0" rIns="0" tIns="0" bIns="0" anchor="t">
            <a:noAutofit/>
          </a:bodyPr>
          <a:p>
            <a:pPr algn="ctr">
              <a:lnSpc>
                <a:spcPct val="100000"/>
              </a:lnSpc>
            </a:pPr>
            <a:r>
              <a:rPr b="1" lang="en-US" sz="3600" spc="-1" strike="noStrike">
                <a:solidFill>
                  <a:srgbClr val="ffcc66"/>
                </a:solidFill>
                <a:latin typeface="Arial"/>
                <a:ea typeface="Arial"/>
              </a:rPr>
              <a:t>Perpetual Inventory System:</a:t>
            </a:r>
            <a:br>
              <a:rPr sz="1800"/>
            </a:br>
            <a:r>
              <a:rPr b="1" lang="en-US" sz="3600" spc="-1" strike="noStrike">
                <a:solidFill>
                  <a:srgbClr val="ffcc66"/>
                </a:solidFill>
                <a:latin typeface="Arial"/>
                <a:ea typeface="Arial"/>
              </a:rPr>
              <a:t>LIFO Method</a:t>
            </a:r>
            <a:endParaRPr b="0" lang="en-US" sz="3600" spc="-1" strike="noStrike">
              <a:solidFill>
                <a:srgbClr val="ffffff"/>
              </a:solidFill>
              <a:latin typeface="Arial"/>
            </a:endParaRPr>
          </a:p>
        </p:txBody>
      </p:sp>
      <p:sp>
        <p:nvSpPr>
          <p:cNvPr id="668" name=""/>
          <p:cNvSpPr txBox="1"/>
          <p:nvPr/>
        </p:nvSpPr>
        <p:spPr>
          <a:xfrm>
            <a:off x="914400" y="1295280"/>
            <a:ext cx="7993080" cy="6230880"/>
          </a:xfrm>
          <a:prstGeom prst="rect">
            <a:avLst/>
          </a:prstGeom>
          <a:noFill/>
          <a:ln w="0">
            <a:noFill/>
          </a:ln>
        </p:spPr>
        <p:txBody>
          <a:bodyPr lIns="0" rIns="0" tIns="0" bIns="0" anchor="t">
            <a:noAutofit/>
          </a:bodyPr>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June 1     Inventory</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5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0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50.00</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6     Purchase</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5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1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55.00</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10   Sale</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5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1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55.00)</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2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00             </a:t>
            </a:r>
            <a:r>
              <a:rPr b="1" lang="en-US" sz="2000" spc="-1" strike="noStrike" u="sng">
                <a:solidFill>
                  <a:srgbClr val="fcffd8"/>
                </a:solidFill>
                <a:uFillTx/>
                <a:latin typeface="Arial"/>
                <a:ea typeface="Arial"/>
              </a:rPr>
              <a:t>(20.00)</a:t>
            </a:r>
            <a:r>
              <a:rPr b="1" lang="en-US" sz="2000" spc="-1" strike="noStrike" u="sng">
                <a:solidFill>
                  <a:srgbClr val="fcffd8"/>
                </a:solidFill>
                <a:uFillTx/>
                <a:latin typeface="Arial"/>
                <a:ea typeface="Arial"/>
              </a:rPr>
              <a:t>	</a:t>
            </a:r>
            <a:r>
              <a:rPr b="1" lang="en-US" sz="2000" spc="-1" strike="noStrike" u="sng">
                <a:solidFill>
                  <a:srgbClr val="fcffd8"/>
                </a:solidFill>
                <a:uFillTx/>
                <a:latin typeface="Arial"/>
                <a:ea typeface="Arial"/>
              </a:rPr>
              <a:t>	</a:t>
            </a:r>
            <a:r>
              <a:rPr b="1" lang="en-US" sz="2000" spc="-1" strike="noStrike" u="sng">
                <a:solidFill>
                  <a:srgbClr val="fcffd8"/>
                </a:solidFill>
                <a:uFillTx/>
                <a:latin typeface="Arial"/>
                <a:ea typeface="Arial"/>
              </a:rPr>
              <a:t>(75.0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10   Balance</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3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0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 30.00</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13   Purchase</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5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2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80.00 </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20   Purchase</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0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3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30.00</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25   Purchase</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5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4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210.00</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30   Sale</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5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40         ($210.00)</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6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3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u="sng">
                <a:solidFill>
                  <a:srgbClr val="fcffd8"/>
                </a:solidFill>
                <a:uFillTx/>
                <a:latin typeface="Arial"/>
                <a:ea typeface="Arial"/>
              </a:rPr>
              <a:t>(78.00</a:t>
            </a:r>
            <a:r>
              <a:rPr b="1" lang="en-US" sz="2000" spc="-1" strike="noStrike">
                <a:solidFill>
                  <a:srgbClr val="fcffd8"/>
                </a:solidFill>
                <a:latin typeface="Arial"/>
                <a:ea typeface="Arial"/>
              </a:rPr>
              <a:t>)    </a:t>
            </a:r>
            <a:r>
              <a:rPr b="1" lang="en-US" sz="2000" spc="-1" strike="noStrike" u="sng">
                <a:solidFill>
                  <a:srgbClr val="fcffd8"/>
                </a:solidFill>
                <a:uFillTx/>
                <a:latin typeface="Arial"/>
                <a:ea typeface="Arial"/>
              </a:rPr>
              <a:t>(288.00)</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30   Inventory</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3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0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30.00</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5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2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180.00</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4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1.30</a:t>
            </a:r>
            <a:r>
              <a:rPr b="1" lang="en-US" sz="2000" spc="-1" strike="noStrike">
                <a:solidFill>
                  <a:srgbClr val="fcffd8"/>
                </a:solidFill>
                <a:latin typeface="Arial"/>
                <a:ea typeface="Arial"/>
              </a:rPr>
              <a:t>	</a:t>
            </a:r>
            <a:r>
              <a:rPr b="1" lang="en-US" sz="2000" spc="-1" strike="noStrike" u="sng">
                <a:solidFill>
                  <a:srgbClr val="fcffd8"/>
                </a:solidFill>
                <a:uFillTx/>
                <a:latin typeface="Arial"/>
                <a:ea typeface="Arial"/>
              </a:rPr>
              <a:t>   52.00</a:t>
            </a:r>
            <a:r>
              <a:rPr b="1" lang="en-US" sz="2000" spc="-1" strike="noStrike">
                <a:solidFill>
                  <a:srgbClr val="fcffd8"/>
                </a:solidFill>
                <a:latin typeface="Arial"/>
                <a:ea typeface="Arial"/>
              </a:rPr>
              <a:t>      $262.00</a:t>
            </a:r>
            <a:endParaRPr b="0" lang="en-US" sz="2000" spc="-1" strike="noStrike">
              <a:solidFill>
                <a:srgbClr val="ffffff"/>
              </a:solidFill>
              <a:latin typeface="Arial"/>
            </a:endParaRPr>
          </a:p>
          <a:p>
            <a:pPr marL="914400" indent="-914400">
              <a:lnSpc>
                <a:spcPct val="100000"/>
              </a:lnSpc>
              <a:spcBef>
                <a:spcPts val="479"/>
              </a:spcBef>
              <a:tabLst>
                <a:tab algn="l" pos="1600200"/>
                <a:tab algn="l" pos="2286000"/>
                <a:tab algn="l" pos="2637000"/>
                <a:tab algn="l" pos="4054320"/>
                <a:tab algn="l" pos="5380200"/>
              </a:tabLst>
            </a:pPr>
            <a:r>
              <a:rPr b="1" lang="en-US" sz="2000" spc="-1" strike="noStrike">
                <a:solidFill>
                  <a:srgbClr val="fcffd8"/>
                </a:solidFill>
                <a:latin typeface="Arial"/>
                <a:ea typeface="Arial"/>
              </a:rPr>
              <a:t>COGS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75.00 + $288.00</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a:t>
            </a:r>
            <a:r>
              <a:rPr b="1" lang="en-US" sz="2000" spc="-1" strike="noStrike">
                <a:solidFill>
                  <a:srgbClr val="fcffd8"/>
                </a:solidFill>
                <a:latin typeface="Arial"/>
                <a:ea typeface="Arial"/>
              </a:rPr>
              <a:t>                  $363.00</a:t>
            </a:r>
            <a:r>
              <a:rPr b="1" lang="en-US" sz="2400" spc="-1" strike="noStrike">
                <a:solidFill>
                  <a:srgbClr val="fcffd8"/>
                </a:solidFill>
                <a:latin typeface="Arial"/>
                <a:ea typeface="Arial"/>
              </a:rPr>
              <a:t>	</a:t>
            </a:r>
            <a:endParaRPr b="0" lang="en-US" sz="2400" spc="-1" strike="noStrike">
              <a:solidFill>
                <a:srgbClr val="ffffff"/>
              </a:solidFill>
              <a:latin typeface="Arial"/>
            </a:endParaRPr>
          </a:p>
        </p:txBody>
      </p:sp>
      <p:sp>
        <p:nvSpPr>
          <p:cNvPr id="669" name=""/>
          <p:cNvSpPr/>
          <p:nvPr/>
        </p:nvSpPr>
        <p:spPr>
          <a:xfrm>
            <a:off x="7254720" y="6019920"/>
            <a:ext cx="88740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70" name=""/>
          <p:cNvSpPr/>
          <p:nvPr/>
        </p:nvSpPr>
        <p:spPr>
          <a:xfrm>
            <a:off x="7254720" y="6095880"/>
            <a:ext cx="88740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671" name=""/>
          <p:cNvGrpSpPr/>
          <p:nvPr/>
        </p:nvGrpSpPr>
        <p:grpSpPr>
          <a:xfrm>
            <a:off x="7254720" y="6477120"/>
            <a:ext cx="944640" cy="88920"/>
            <a:chOff x="7254720" y="6477120"/>
            <a:chExt cx="944640" cy="88920"/>
          </a:xfrm>
        </p:grpSpPr>
        <p:sp>
          <p:nvSpPr>
            <p:cNvPr id="672" name=""/>
            <p:cNvSpPr/>
            <p:nvPr/>
          </p:nvSpPr>
          <p:spPr>
            <a:xfrm>
              <a:off x="7254720" y="6477120"/>
              <a:ext cx="94464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73" name=""/>
            <p:cNvSpPr/>
            <p:nvPr/>
          </p:nvSpPr>
          <p:spPr>
            <a:xfrm>
              <a:off x="7254720" y="6566040"/>
              <a:ext cx="944640" cy="0"/>
            </a:xfrm>
            <a:prstGeom prst="line">
              <a:avLst/>
            </a:prstGeom>
            <a:ln w="25560">
              <a:solidFill>
                <a:srgbClr val="fcffd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74" name=""/>
          <p:cNvSpPr txBox="1"/>
          <p:nvPr/>
        </p:nvSpPr>
        <p:spPr>
          <a:xfrm>
            <a:off x="3048120" y="762120"/>
            <a:ext cx="4330800" cy="1278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675" name=""/>
          <p:cNvSpPr txBox="1"/>
          <p:nvPr/>
        </p:nvSpPr>
        <p:spPr>
          <a:xfrm>
            <a:off x="762120" y="2057400"/>
            <a:ext cx="8153280" cy="3886200"/>
          </a:xfrm>
          <a:prstGeom prst="rect">
            <a:avLst/>
          </a:prstGeom>
          <a:noFill/>
          <a:ln w="0">
            <a:noFill/>
          </a:ln>
        </p:spPr>
        <p:txBody>
          <a:bodyPr lIns="0" rIns="0" tIns="0" bIns="0" anchor="t">
            <a:noAutofit/>
          </a:bodyPr>
          <a:p>
            <a:pPr marL="343080" indent="-343080">
              <a:lnSpc>
                <a:spcPct val="120000"/>
              </a:lnSpc>
              <a:spcBef>
                <a:spcPts val="479"/>
              </a:spcBef>
            </a:pPr>
            <a:r>
              <a:rPr b="1" lang="en-US" sz="2800" spc="-1" strike="noStrike">
                <a:solidFill>
                  <a:srgbClr val="fc0128"/>
                </a:solidFill>
                <a:latin typeface="Arial"/>
                <a:ea typeface="Arial"/>
              </a:rPr>
              <a:t>Q.</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Why do you think it is more expensive to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maintain a perpetual inventory system?</a:t>
            </a:r>
            <a:endParaRPr b="0" lang="en-US" sz="2800" spc="-1" strike="noStrike">
              <a:solidFill>
                <a:srgbClr val="ffffff"/>
              </a:solidFill>
              <a:latin typeface="Arial"/>
            </a:endParaRPr>
          </a:p>
          <a:p>
            <a:pPr marL="343080" indent="-343080">
              <a:lnSpc>
                <a:spcPct val="120000"/>
              </a:lnSpc>
              <a:spcBef>
                <a:spcPts val="479"/>
              </a:spcBef>
            </a:pPr>
            <a:r>
              <a:rPr b="1" lang="en-US" sz="2800" spc="-1" strike="noStrike">
                <a:solidFill>
                  <a:srgbClr val="fc0128"/>
                </a:solidFill>
                <a:latin typeface="Arial"/>
                <a:ea typeface="Arial"/>
              </a:rPr>
              <a:t>A.</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A perpetual inventory system is mor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expensive to maintain because detaile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records must be kept as transaction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occur. Also, businesses may need to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urchase special equipment to assist in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their perpetual recordkeeping efforts.</a:t>
            </a:r>
            <a:endParaRPr b="0" lang="en-US" sz="2800" spc="-1" strike="noStrike">
              <a:solidFill>
                <a:srgbClr val="ffffff"/>
              </a:solidFill>
              <a:latin typeface="Arial"/>
            </a:endParaRPr>
          </a:p>
        </p:txBody>
      </p:sp>
      <p:grpSp>
        <p:nvGrpSpPr>
          <p:cNvPr id="676" name=""/>
          <p:cNvGrpSpPr/>
          <p:nvPr/>
        </p:nvGrpSpPr>
        <p:grpSpPr>
          <a:xfrm>
            <a:off x="838080" y="228600"/>
            <a:ext cx="1904040" cy="1827360"/>
            <a:chOff x="838080" y="228600"/>
            <a:chExt cx="1904040" cy="1827360"/>
          </a:xfrm>
        </p:grpSpPr>
        <p:sp>
          <p:nvSpPr>
            <p:cNvPr id="677" name=""/>
            <p:cNvSpPr/>
            <p:nvPr/>
          </p:nvSpPr>
          <p:spPr>
            <a:xfrm>
              <a:off x="843120" y="1125360"/>
              <a:ext cx="462240" cy="638640"/>
            </a:xfrm>
            <a:custGeom>
              <a:avLst/>
              <a:gdLst/>
              <a:ahLst/>
              <a:rect l="0" t="0" r="r" b="b"/>
              <a:pathLst>
                <a:path w="1284" h="1774">
                  <a:moveTo>
                    <a:pt x="511" y="0"/>
                  </a:moveTo>
                  <a:lnTo>
                    <a:pt x="445" y="79"/>
                  </a:lnTo>
                  <a:lnTo>
                    <a:pt x="445" y="308"/>
                  </a:lnTo>
                  <a:lnTo>
                    <a:pt x="511" y="477"/>
                  </a:lnTo>
                  <a:lnTo>
                    <a:pt x="590" y="561"/>
                  </a:lnTo>
                  <a:lnTo>
                    <a:pt x="476" y="675"/>
                  </a:lnTo>
                  <a:lnTo>
                    <a:pt x="317" y="931"/>
                  </a:lnTo>
                  <a:lnTo>
                    <a:pt x="26" y="1342"/>
                  </a:lnTo>
                  <a:lnTo>
                    <a:pt x="0" y="1439"/>
                  </a:lnTo>
                  <a:lnTo>
                    <a:pt x="26" y="1523"/>
                  </a:lnTo>
                  <a:lnTo>
                    <a:pt x="119" y="1523"/>
                  </a:lnTo>
                  <a:lnTo>
                    <a:pt x="198" y="1426"/>
                  </a:lnTo>
                  <a:lnTo>
                    <a:pt x="317" y="1196"/>
                  </a:lnTo>
                  <a:lnTo>
                    <a:pt x="396" y="1099"/>
                  </a:lnTo>
                  <a:lnTo>
                    <a:pt x="445" y="1248"/>
                  </a:lnTo>
                  <a:lnTo>
                    <a:pt x="410" y="1413"/>
                  </a:lnTo>
                  <a:lnTo>
                    <a:pt x="282" y="1646"/>
                  </a:lnTo>
                  <a:lnTo>
                    <a:pt x="317" y="1699"/>
                  </a:lnTo>
                  <a:lnTo>
                    <a:pt x="396" y="1686"/>
                  </a:lnTo>
                  <a:lnTo>
                    <a:pt x="555" y="1563"/>
                  </a:lnTo>
                  <a:lnTo>
                    <a:pt x="684" y="1355"/>
                  </a:lnTo>
                  <a:lnTo>
                    <a:pt x="684" y="1712"/>
                  </a:lnTo>
                  <a:lnTo>
                    <a:pt x="834" y="1774"/>
                  </a:lnTo>
                  <a:lnTo>
                    <a:pt x="922" y="1554"/>
                  </a:lnTo>
                  <a:lnTo>
                    <a:pt x="1010" y="1761"/>
                  </a:lnTo>
                  <a:lnTo>
                    <a:pt x="1068" y="1699"/>
                  </a:lnTo>
                  <a:lnTo>
                    <a:pt x="1099" y="1288"/>
                  </a:lnTo>
                  <a:lnTo>
                    <a:pt x="1284" y="900"/>
                  </a:lnTo>
                  <a:lnTo>
                    <a:pt x="1240" y="675"/>
                  </a:lnTo>
                  <a:lnTo>
                    <a:pt x="1116" y="591"/>
                  </a:lnTo>
                  <a:lnTo>
                    <a:pt x="975" y="600"/>
                  </a:lnTo>
                  <a:lnTo>
                    <a:pt x="922" y="418"/>
                  </a:lnTo>
                  <a:lnTo>
                    <a:pt x="785" y="379"/>
                  </a:lnTo>
                  <a:lnTo>
                    <a:pt x="662" y="321"/>
                  </a:lnTo>
                  <a:lnTo>
                    <a:pt x="590" y="39"/>
                  </a:lnTo>
                  <a:lnTo>
                    <a:pt x="511"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78" name=""/>
            <p:cNvSpPr/>
            <p:nvPr/>
          </p:nvSpPr>
          <p:spPr>
            <a:xfrm>
              <a:off x="1231920" y="1384200"/>
              <a:ext cx="136800" cy="311400"/>
            </a:xfrm>
            <a:custGeom>
              <a:avLst/>
              <a:gdLst/>
              <a:ahLst/>
              <a:rect l="0" t="0" r="r" b="b"/>
              <a:pathLst>
                <a:path w="380" h="865">
                  <a:moveTo>
                    <a:pt x="189" y="0"/>
                  </a:moveTo>
                  <a:lnTo>
                    <a:pt x="380" y="220"/>
                  </a:lnTo>
                  <a:lnTo>
                    <a:pt x="287" y="706"/>
                  </a:lnTo>
                  <a:lnTo>
                    <a:pt x="0" y="865"/>
                  </a:lnTo>
                  <a:lnTo>
                    <a:pt x="0" y="613"/>
                  </a:lnTo>
                  <a:lnTo>
                    <a:pt x="114" y="370"/>
                  </a:lnTo>
                  <a:lnTo>
                    <a:pt x="189" y="180"/>
                  </a:lnTo>
                  <a:lnTo>
                    <a:pt x="189"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9" name=""/>
            <p:cNvSpPr/>
            <p:nvPr/>
          </p:nvSpPr>
          <p:spPr>
            <a:xfrm>
              <a:off x="2117880" y="1208160"/>
              <a:ext cx="340200" cy="278280"/>
            </a:xfrm>
            <a:custGeom>
              <a:avLst/>
              <a:gdLst/>
              <a:ahLst/>
              <a:rect l="0" t="0" r="r" b="b"/>
              <a:pathLst>
                <a:path w="945" h="773">
                  <a:moveTo>
                    <a:pt x="389" y="0"/>
                  </a:moveTo>
                  <a:lnTo>
                    <a:pt x="389" y="123"/>
                  </a:lnTo>
                  <a:lnTo>
                    <a:pt x="424" y="234"/>
                  </a:lnTo>
                  <a:lnTo>
                    <a:pt x="605" y="419"/>
                  </a:lnTo>
                  <a:lnTo>
                    <a:pt x="945" y="525"/>
                  </a:lnTo>
                  <a:lnTo>
                    <a:pt x="897" y="760"/>
                  </a:lnTo>
                  <a:lnTo>
                    <a:pt x="605" y="773"/>
                  </a:lnTo>
                  <a:lnTo>
                    <a:pt x="176" y="606"/>
                  </a:lnTo>
                  <a:lnTo>
                    <a:pt x="0" y="309"/>
                  </a:lnTo>
                  <a:lnTo>
                    <a:pt x="216" y="13"/>
                  </a:lnTo>
                  <a:lnTo>
                    <a:pt x="389"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0" name=""/>
            <p:cNvSpPr/>
            <p:nvPr/>
          </p:nvSpPr>
          <p:spPr>
            <a:xfrm>
              <a:off x="2252520" y="890640"/>
              <a:ext cx="478080" cy="616320"/>
            </a:xfrm>
            <a:custGeom>
              <a:avLst/>
              <a:gdLst/>
              <a:ahLst/>
              <a:rect l="0" t="0" r="r" b="b"/>
              <a:pathLst>
                <a:path w="1328" h="1712">
                  <a:moveTo>
                    <a:pt x="119" y="724"/>
                  </a:moveTo>
                  <a:lnTo>
                    <a:pt x="0" y="847"/>
                  </a:lnTo>
                  <a:lnTo>
                    <a:pt x="26" y="1125"/>
                  </a:lnTo>
                  <a:lnTo>
                    <a:pt x="211" y="1253"/>
                  </a:lnTo>
                  <a:lnTo>
                    <a:pt x="224" y="1682"/>
                  </a:lnTo>
                  <a:lnTo>
                    <a:pt x="410" y="1682"/>
                  </a:lnTo>
                  <a:lnTo>
                    <a:pt x="396" y="1324"/>
                  </a:lnTo>
                  <a:lnTo>
                    <a:pt x="537" y="1699"/>
                  </a:lnTo>
                  <a:lnTo>
                    <a:pt x="630" y="1712"/>
                  </a:lnTo>
                  <a:lnTo>
                    <a:pt x="697" y="1589"/>
                  </a:lnTo>
                  <a:lnTo>
                    <a:pt x="710" y="1351"/>
                  </a:lnTo>
                  <a:lnTo>
                    <a:pt x="918" y="1576"/>
                  </a:lnTo>
                  <a:lnTo>
                    <a:pt x="993" y="1554"/>
                  </a:lnTo>
                  <a:lnTo>
                    <a:pt x="975" y="1404"/>
                  </a:lnTo>
                  <a:lnTo>
                    <a:pt x="900" y="1187"/>
                  </a:lnTo>
                  <a:lnTo>
                    <a:pt x="821" y="1041"/>
                  </a:lnTo>
                  <a:lnTo>
                    <a:pt x="847" y="944"/>
                  </a:lnTo>
                  <a:lnTo>
                    <a:pt x="900" y="966"/>
                  </a:lnTo>
                  <a:lnTo>
                    <a:pt x="1085" y="1187"/>
                  </a:lnTo>
                  <a:lnTo>
                    <a:pt x="1284" y="1240"/>
                  </a:lnTo>
                  <a:lnTo>
                    <a:pt x="1328" y="1173"/>
                  </a:lnTo>
                  <a:lnTo>
                    <a:pt x="1301" y="1054"/>
                  </a:lnTo>
                  <a:lnTo>
                    <a:pt x="931" y="710"/>
                  </a:lnTo>
                  <a:lnTo>
                    <a:pt x="630" y="605"/>
                  </a:lnTo>
                  <a:lnTo>
                    <a:pt x="595" y="410"/>
                  </a:lnTo>
                  <a:lnTo>
                    <a:pt x="697" y="238"/>
                  </a:lnTo>
                  <a:lnTo>
                    <a:pt x="697" y="57"/>
                  </a:lnTo>
                  <a:lnTo>
                    <a:pt x="612" y="0"/>
                  </a:lnTo>
                  <a:lnTo>
                    <a:pt x="396" y="464"/>
                  </a:lnTo>
                  <a:lnTo>
                    <a:pt x="211" y="534"/>
                  </a:lnTo>
                  <a:lnTo>
                    <a:pt x="163" y="662"/>
                  </a:lnTo>
                  <a:lnTo>
                    <a:pt x="119" y="724"/>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81" name=""/>
            <p:cNvSpPr/>
            <p:nvPr/>
          </p:nvSpPr>
          <p:spPr>
            <a:xfrm>
              <a:off x="1471680" y="357120"/>
              <a:ext cx="520920" cy="786240"/>
            </a:xfrm>
            <a:custGeom>
              <a:avLst/>
              <a:gdLst/>
              <a:ahLst/>
              <a:rect l="0" t="0" r="r" b="b"/>
              <a:pathLst>
                <a:path w="1447" h="2184">
                  <a:moveTo>
                    <a:pt x="366" y="304"/>
                  </a:moveTo>
                  <a:lnTo>
                    <a:pt x="255" y="724"/>
                  </a:lnTo>
                  <a:lnTo>
                    <a:pt x="13" y="807"/>
                  </a:lnTo>
                  <a:lnTo>
                    <a:pt x="79" y="935"/>
                  </a:lnTo>
                  <a:lnTo>
                    <a:pt x="0" y="1019"/>
                  </a:lnTo>
                  <a:lnTo>
                    <a:pt x="0" y="1173"/>
                  </a:lnTo>
                  <a:lnTo>
                    <a:pt x="114" y="1310"/>
                  </a:lnTo>
                  <a:lnTo>
                    <a:pt x="224" y="1310"/>
                  </a:lnTo>
                  <a:lnTo>
                    <a:pt x="299" y="1796"/>
                  </a:lnTo>
                  <a:lnTo>
                    <a:pt x="392" y="2004"/>
                  </a:lnTo>
                  <a:lnTo>
                    <a:pt x="687" y="2184"/>
                  </a:lnTo>
                  <a:lnTo>
                    <a:pt x="979" y="2158"/>
                  </a:lnTo>
                  <a:lnTo>
                    <a:pt x="1129" y="1796"/>
                  </a:lnTo>
                  <a:lnTo>
                    <a:pt x="1160" y="1244"/>
                  </a:lnTo>
                  <a:lnTo>
                    <a:pt x="1447" y="966"/>
                  </a:lnTo>
                  <a:lnTo>
                    <a:pt x="1434" y="856"/>
                  </a:lnTo>
                  <a:lnTo>
                    <a:pt x="1398" y="807"/>
                  </a:lnTo>
                  <a:lnTo>
                    <a:pt x="1248" y="794"/>
                  </a:lnTo>
                  <a:lnTo>
                    <a:pt x="1293" y="649"/>
                  </a:lnTo>
                  <a:lnTo>
                    <a:pt x="1147" y="552"/>
                  </a:lnTo>
                  <a:lnTo>
                    <a:pt x="1076" y="238"/>
                  </a:lnTo>
                  <a:lnTo>
                    <a:pt x="626" y="0"/>
                  </a:lnTo>
                  <a:lnTo>
                    <a:pt x="392" y="224"/>
                  </a:lnTo>
                  <a:lnTo>
                    <a:pt x="366" y="304"/>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82" name=""/>
            <p:cNvSpPr/>
            <p:nvPr/>
          </p:nvSpPr>
          <p:spPr>
            <a:xfrm>
              <a:off x="1509840" y="1014480"/>
              <a:ext cx="478080" cy="937080"/>
            </a:xfrm>
            <a:custGeom>
              <a:avLst/>
              <a:gdLst/>
              <a:ahLst/>
              <a:rect l="0" t="0" r="r" b="b"/>
              <a:pathLst>
                <a:path w="1328" h="2603">
                  <a:moveTo>
                    <a:pt x="273" y="136"/>
                  </a:moveTo>
                  <a:lnTo>
                    <a:pt x="458" y="260"/>
                  </a:lnTo>
                  <a:lnTo>
                    <a:pt x="555" y="401"/>
                  </a:lnTo>
                  <a:lnTo>
                    <a:pt x="1085" y="0"/>
                  </a:lnTo>
                  <a:lnTo>
                    <a:pt x="1253" y="83"/>
                  </a:lnTo>
                  <a:lnTo>
                    <a:pt x="1328" y="493"/>
                  </a:lnTo>
                  <a:lnTo>
                    <a:pt x="944" y="1694"/>
                  </a:lnTo>
                  <a:lnTo>
                    <a:pt x="1068" y="2356"/>
                  </a:lnTo>
                  <a:lnTo>
                    <a:pt x="564" y="2603"/>
                  </a:lnTo>
                  <a:lnTo>
                    <a:pt x="176" y="2462"/>
                  </a:lnTo>
                  <a:lnTo>
                    <a:pt x="176" y="1760"/>
                  </a:lnTo>
                  <a:lnTo>
                    <a:pt x="0" y="1081"/>
                  </a:lnTo>
                  <a:lnTo>
                    <a:pt x="176" y="260"/>
                  </a:lnTo>
                  <a:lnTo>
                    <a:pt x="273" y="136"/>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3" name=""/>
            <p:cNvSpPr/>
            <p:nvPr/>
          </p:nvSpPr>
          <p:spPr>
            <a:xfrm>
              <a:off x="1531800" y="254160"/>
              <a:ext cx="441720" cy="248040"/>
            </a:xfrm>
            <a:custGeom>
              <a:avLst/>
              <a:gdLst/>
              <a:ahLst/>
              <a:rect l="0" t="0" r="r" b="b"/>
              <a:pathLst>
                <a:path w="1227" h="689">
                  <a:moveTo>
                    <a:pt x="154" y="659"/>
                  </a:moveTo>
                  <a:lnTo>
                    <a:pt x="331" y="472"/>
                  </a:lnTo>
                  <a:lnTo>
                    <a:pt x="446" y="446"/>
                  </a:lnTo>
                  <a:lnTo>
                    <a:pt x="446" y="464"/>
                  </a:lnTo>
                  <a:lnTo>
                    <a:pt x="503" y="446"/>
                  </a:lnTo>
                  <a:lnTo>
                    <a:pt x="578" y="499"/>
                  </a:lnTo>
                  <a:lnTo>
                    <a:pt x="724" y="531"/>
                  </a:lnTo>
                  <a:lnTo>
                    <a:pt x="843" y="689"/>
                  </a:lnTo>
                  <a:lnTo>
                    <a:pt x="1038" y="619"/>
                  </a:lnTo>
                  <a:lnTo>
                    <a:pt x="1038" y="548"/>
                  </a:lnTo>
                  <a:lnTo>
                    <a:pt x="1227" y="464"/>
                  </a:lnTo>
                  <a:lnTo>
                    <a:pt x="1174" y="336"/>
                  </a:lnTo>
                  <a:lnTo>
                    <a:pt x="985" y="322"/>
                  </a:lnTo>
                  <a:lnTo>
                    <a:pt x="1016" y="181"/>
                  </a:lnTo>
                  <a:lnTo>
                    <a:pt x="860" y="199"/>
                  </a:lnTo>
                  <a:lnTo>
                    <a:pt x="830" y="97"/>
                  </a:lnTo>
                  <a:lnTo>
                    <a:pt x="724" y="97"/>
                  </a:lnTo>
                  <a:lnTo>
                    <a:pt x="649" y="149"/>
                  </a:lnTo>
                  <a:lnTo>
                    <a:pt x="578" y="149"/>
                  </a:lnTo>
                  <a:lnTo>
                    <a:pt x="591" y="0"/>
                  </a:lnTo>
                  <a:lnTo>
                    <a:pt x="446" y="70"/>
                  </a:lnTo>
                  <a:lnTo>
                    <a:pt x="242" y="322"/>
                  </a:lnTo>
                  <a:lnTo>
                    <a:pt x="233" y="149"/>
                  </a:lnTo>
                  <a:lnTo>
                    <a:pt x="123" y="234"/>
                  </a:lnTo>
                  <a:lnTo>
                    <a:pt x="92" y="446"/>
                  </a:lnTo>
                  <a:lnTo>
                    <a:pt x="0" y="411"/>
                  </a:lnTo>
                  <a:lnTo>
                    <a:pt x="13" y="548"/>
                  </a:lnTo>
                  <a:lnTo>
                    <a:pt x="154" y="65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4" name=""/>
            <p:cNvSpPr/>
            <p:nvPr/>
          </p:nvSpPr>
          <p:spPr>
            <a:xfrm>
              <a:off x="1652760" y="1187280"/>
              <a:ext cx="141480" cy="709920"/>
            </a:xfrm>
            <a:custGeom>
              <a:avLst/>
              <a:gdLst/>
              <a:ahLst/>
              <a:rect l="0" t="0" r="r" b="b"/>
              <a:pathLst>
                <a:path w="393" h="1972">
                  <a:moveTo>
                    <a:pt x="203" y="13"/>
                  </a:moveTo>
                  <a:lnTo>
                    <a:pt x="70" y="97"/>
                  </a:lnTo>
                  <a:lnTo>
                    <a:pt x="70" y="264"/>
                  </a:lnTo>
                  <a:lnTo>
                    <a:pt x="158" y="317"/>
                  </a:lnTo>
                  <a:lnTo>
                    <a:pt x="35" y="582"/>
                  </a:lnTo>
                  <a:lnTo>
                    <a:pt x="0" y="926"/>
                  </a:lnTo>
                  <a:lnTo>
                    <a:pt x="97" y="1381"/>
                  </a:lnTo>
                  <a:lnTo>
                    <a:pt x="97" y="1570"/>
                  </a:lnTo>
                  <a:lnTo>
                    <a:pt x="48" y="1711"/>
                  </a:lnTo>
                  <a:lnTo>
                    <a:pt x="247" y="1972"/>
                  </a:lnTo>
                  <a:lnTo>
                    <a:pt x="380" y="1588"/>
                  </a:lnTo>
                  <a:lnTo>
                    <a:pt x="380" y="1328"/>
                  </a:lnTo>
                  <a:lnTo>
                    <a:pt x="283" y="1076"/>
                  </a:lnTo>
                  <a:lnTo>
                    <a:pt x="239" y="745"/>
                  </a:lnTo>
                  <a:lnTo>
                    <a:pt x="336" y="418"/>
                  </a:lnTo>
                  <a:lnTo>
                    <a:pt x="300" y="291"/>
                  </a:lnTo>
                  <a:lnTo>
                    <a:pt x="393" y="224"/>
                  </a:lnTo>
                  <a:lnTo>
                    <a:pt x="380" y="136"/>
                  </a:lnTo>
                  <a:lnTo>
                    <a:pt x="261" y="0"/>
                  </a:lnTo>
                  <a:lnTo>
                    <a:pt x="203"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5" name=""/>
            <p:cNvSpPr/>
            <p:nvPr/>
          </p:nvSpPr>
          <p:spPr>
            <a:xfrm>
              <a:off x="1646280" y="949320"/>
              <a:ext cx="114840" cy="65520"/>
            </a:xfrm>
            <a:custGeom>
              <a:avLst/>
              <a:gdLst/>
              <a:ahLst/>
              <a:rect l="0" t="0" r="r" b="b"/>
              <a:pathLst>
                <a:path w="319" h="182">
                  <a:moveTo>
                    <a:pt x="0" y="58"/>
                  </a:moveTo>
                  <a:lnTo>
                    <a:pt x="128" y="182"/>
                  </a:lnTo>
                  <a:lnTo>
                    <a:pt x="257" y="169"/>
                  </a:lnTo>
                  <a:lnTo>
                    <a:pt x="319" y="13"/>
                  </a:lnTo>
                  <a:lnTo>
                    <a:pt x="177" y="0"/>
                  </a:lnTo>
                  <a:lnTo>
                    <a:pt x="30" y="13"/>
                  </a:lnTo>
                  <a:lnTo>
                    <a:pt x="0" y="58"/>
                  </a:lnTo>
                  <a:close/>
                </a:path>
              </a:pathLst>
            </a:custGeom>
            <a:solidFill>
              <a:srgbClr val="ffffff"/>
            </a:solidFill>
            <a:ln w="12600">
              <a:solidFill>
                <a:srgbClr val="ffffff"/>
              </a:solidFill>
              <a:round/>
            </a:ln>
          </p:spPr>
          <p:txBody>
            <a:bodyPr lIns="96120" rIns="96120" tIns="14400" bIns="14400" anchor="t">
              <a:noAutofit/>
            </a:bodyPr>
            <a:p>
              <a:endParaRPr b="0" lang="en-US" sz="1800" spc="-1" strike="noStrike">
                <a:solidFill>
                  <a:srgbClr val="000000"/>
                </a:solidFill>
                <a:latin typeface="Arial"/>
              </a:endParaRPr>
            </a:p>
          </p:txBody>
        </p:sp>
        <p:sp>
          <p:nvSpPr>
            <p:cNvPr id="686" name=""/>
            <p:cNvSpPr/>
            <p:nvPr/>
          </p:nvSpPr>
          <p:spPr>
            <a:xfrm>
              <a:off x="1521000" y="620640"/>
              <a:ext cx="141480" cy="140040"/>
            </a:xfrm>
            <a:custGeom>
              <a:avLst/>
              <a:gdLst/>
              <a:ahLst/>
              <a:rect l="0" t="0" r="r" b="b"/>
              <a:pathLst>
                <a:path w="393" h="389">
                  <a:moveTo>
                    <a:pt x="0" y="39"/>
                  </a:moveTo>
                  <a:lnTo>
                    <a:pt x="269" y="389"/>
                  </a:lnTo>
                  <a:lnTo>
                    <a:pt x="393" y="362"/>
                  </a:lnTo>
                  <a:lnTo>
                    <a:pt x="110" y="0"/>
                  </a:lnTo>
                  <a:lnTo>
                    <a:pt x="0" y="3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7" name=""/>
            <p:cNvSpPr/>
            <p:nvPr/>
          </p:nvSpPr>
          <p:spPr>
            <a:xfrm>
              <a:off x="1770120" y="593640"/>
              <a:ext cx="122760" cy="136800"/>
            </a:xfrm>
            <a:custGeom>
              <a:avLst/>
              <a:gdLst/>
              <a:ahLst/>
              <a:rect l="0" t="0" r="r" b="b"/>
              <a:pathLst>
                <a:path w="341" h="380">
                  <a:moveTo>
                    <a:pt x="0" y="52"/>
                  </a:moveTo>
                  <a:lnTo>
                    <a:pt x="234" y="380"/>
                  </a:lnTo>
                  <a:lnTo>
                    <a:pt x="341" y="292"/>
                  </a:lnTo>
                  <a:lnTo>
                    <a:pt x="93"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8" name=""/>
            <p:cNvSpPr/>
            <p:nvPr/>
          </p:nvSpPr>
          <p:spPr>
            <a:xfrm>
              <a:off x="1468440" y="414360"/>
              <a:ext cx="497160" cy="346320"/>
            </a:xfrm>
            <a:custGeom>
              <a:avLst/>
              <a:gdLst/>
              <a:ahLst/>
              <a:rect l="0" t="0" r="r" b="b"/>
              <a:pathLst>
                <a:path w="1381" h="962">
                  <a:moveTo>
                    <a:pt x="635" y="569"/>
                  </a:moveTo>
                  <a:lnTo>
                    <a:pt x="511" y="534"/>
                  </a:lnTo>
                  <a:lnTo>
                    <a:pt x="617" y="449"/>
                  </a:lnTo>
                  <a:lnTo>
                    <a:pt x="577" y="405"/>
                  </a:lnTo>
                  <a:lnTo>
                    <a:pt x="432" y="516"/>
                  </a:lnTo>
                  <a:lnTo>
                    <a:pt x="171" y="543"/>
                  </a:lnTo>
                  <a:lnTo>
                    <a:pt x="0" y="552"/>
                  </a:lnTo>
                  <a:lnTo>
                    <a:pt x="0" y="684"/>
                  </a:lnTo>
                  <a:lnTo>
                    <a:pt x="167" y="953"/>
                  </a:lnTo>
                  <a:lnTo>
                    <a:pt x="202" y="962"/>
                  </a:lnTo>
                  <a:lnTo>
                    <a:pt x="57" y="666"/>
                  </a:lnTo>
                  <a:lnTo>
                    <a:pt x="286" y="569"/>
                  </a:lnTo>
                  <a:lnTo>
                    <a:pt x="432" y="569"/>
                  </a:lnTo>
                  <a:lnTo>
                    <a:pt x="546" y="631"/>
                  </a:lnTo>
                  <a:lnTo>
                    <a:pt x="577" y="715"/>
                  </a:lnTo>
                  <a:lnTo>
                    <a:pt x="577" y="896"/>
                  </a:lnTo>
                  <a:lnTo>
                    <a:pt x="577" y="953"/>
                  </a:lnTo>
                  <a:lnTo>
                    <a:pt x="639" y="869"/>
                  </a:lnTo>
                  <a:lnTo>
                    <a:pt x="639" y="675"/>
                  </a:lnTo>
                  <a:lnTo>
                    <a:pt x="741" y="675"/>
                  </a:lnTo>
                  <a:lnTo>
                    <a:pt x="790" y="896"/>
                  </a:lnTo>
                  <a:lnTo>
                    <a:pt x="843" y="918"/>
                  </a:lnTo>
                  <a:lnTo>
                    <a:pt x="1006" y="918"/>
                  </a:lnTo>
                  <a:lnTo>
                    <a:pt x="1182" y="874"/>
                  </a:lnTo>
                  <a:lnTo>
                    <a:pt x="1297" y="794"/>
                  </a:lnTo>
                  <a:lnTo>
                    <a:pt x="1319" y="600"/>
                  </a:lnTo>
                  <a:lnTo>
                    <a:pt x="1381" y="516"/>
                  </a:lnTo>
                  <a:lnTo>
                    <a:pt x="1341" y="463"/>
                  </a:lnTo>
                  <a:lnTo>
                    <a:pt x="1191" y="410"/>
                  </a:lnTo>
                  <a:lnTo>
                    <a:pt x="1165" y="216"/>
                  </a:lnTo>
                  <a:lnTo>
                    <a:pt x="1015" y="216"/>
                  </a:lnTo>
                  <a:lnTo>
                    <a:pt x="852" y="0"/>
                  </a:lnTo>
                  <a:lnTo>
                    <a:pt x="1002" y="238"/>
                  </a:lnTo>
                  <a:lnTo>
                    <a:pt x="1059" y="238"/>
                  </a:lnTo>
                  <a:lnTo>
                    <a:pt x="1090" y="405"/>
                  </a:lnTo>
                  <a:lnTo>
                    <a:pt x="887" y="463"/>
                  </a:lnTo>
                  <a:lnTo>
                    <a:pt x="750" y="418"/>
                  </a:lnTo>
                  <a:lnTo>
                    <a:pt x="728" y="463"/>
                  </a:lnTo>
                  <a:lnTo>
                    <a:pt x="807" y="516"/>
                  </a:lnTo>
                  <a:lnTo>
                    <a:pt x="807" y="561"/>
                  </a:lnTo>
                  <a:lnTo>
                    <a:pt x="975" y="490"/>
                  </a:lnTo>
                  <a:lnTo>
                    <a:pt x="1107" y="476"/>
                  </a:lnTo>
                  <a:lnTo>
                    <a:pt x="1266" y="499"/>
                  </a:lnTo>
                  <a:lnTo>
                    <a:pt x="1266" y="525"/>
                  </a:lnTo>
                  <a:lnTo>
                    <a:pt x="1196" y="596"/>
                  </a:lnTo>
                  <a:lnTo>
                    <a:pt x="1165" y="675"/>
                  </a:lnTo>
                  <a:lnTo>
                    <a:pt x="1156" y="794"/>
                  </a:lnTo>
                  <a:lnTo>
                    <a:pt x="1068" y="843"/>
                  </a:lnTo>
                  <a:lnTo>
                    <a:pt x="935" y="856"/>
                  </a:lnTo>
                  <a:lnTo>
                    <a:pt x="843" y="856"/>
                  </a:lnTo>
                  <a:lnTo>
                    <a:pt x="807" y="825"/>
                  </a:lnTo>
                  <a:lnTo>
                    <a:pt x="790" y="600"/>
                  </a:lnTo>
                  <a:lnTo>
                    <a:pt x="639" y="600"/>
                  </a:lnTo>
                  <a:lnTo>
                    <a:pt x="635" y="56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89" name=""/>
            <p:cNvSpPr/>
            <p:nvPr/>
          </p:nvSpPr>
          <p:spPr>
            <a:xfrm>
              <a:off x="1638360" y="812880"/>
              <a:ext cx="162360" cy="71640"/>
            </a:xfrm>
            <a:custGeom>
              <a:avLst/>
              <a:gdLst/>
              <a:ahLst/>
              <a:rect l="0" t="0" r="r" b="b"/>
              <a:pathLst>
                <a:path w="451" h="199">
                  <a:moveTo>
                    <a:pt x="0" y="0"/>
                  </a:moveTo>
                  <a:lnTo>
                    <a:pt x="74" y="92"/>
                  </a:lnTo>
                  <a:lnTo>
                    <a:pt x="269" y="92"/>
                  </a:lnTo>
                  <a:lnTo>
                    <a:pt x="350" y="26"/>
                  </a:lnTo>
                  <a:lnTo>
                    <a:pt x="451" y="26"/>
                  </a:lnTo>
                  <a:lnTo>
                    <a:pt x="434" y="61"/>
                  </a:lnTo>
                  <a:lnTo>
                    <a:pt x="434" y="92"/>
                  </a:lnTo>
                  <a:lnTo>
                    <a:pt x="247" y="199"/>
                  </a:lnTo>
                  <a:lnTo>
                    <a:pt x="150" y="199"/>
                  </a:lnTo>
                  <a:lnTo>
                    <a:pt x="97" y="164"/>
                  </a:lnTo>
                  <a:lnTo>
                    <a:pt x="39" y="164"/>
                  </a:lnTo>
                  <a:lnTo>
                    <a:pt x="0" y="0"/>
                  </a:lnTo>
                  <a:close/>
                </a:path>
              </a:pathLst>
            </a:custGeom>
            <a:solidFill>
              <a:srgbClr val="000000"/>
            </a:solidFill>
            <a:ln w="12600">
              <a:solidFill>
                <a:srgbClr val="000000"/>
              </a:solidFill>
              <a:round/>
            </a:ln>
          </p:spPr>
          <p:txBody>
            <a:bodyPr lIns="96120" rIns="96120" tIns="20520" bIns="20520" anchor="t">
              <a:noAutofit/>
            </a:bodyPr>
            <a:p>
              <a:endParaRPr b="0" lang="en-US" sz="1800" spc="-1" strike="noStrike">
                <a:solidFill>
                  <a:srgbClr val="ffffff"/>
                </a:solidFill>
                <a:latin typeface="Arial"/>
              </a:endParaRPr>
            </a:p>
          </p:txBody>
        </p:sp>
        <p:sp>
          <p:nvSpPr>
            <p:cNvPr id="690" name=""/>
            <p:cNvSpPr/>
            <p:nvPr/>
          </p:nvSpPr>
          <p:spPr>
            <a:xfrm>
              <a:off x="1460520" y="698400"/>
              <a:ext cx="243360" cy="375120"/>
            </a:xfrm>
            <a:custGeom>
              <a:avLst/>
              <a:gdLst/>
              <a:ahLst/>
              <a:rect l="0" t="0" r="r" b="b"/>
              <a:pathLst>
                <a:path w="676" h="1042">
                  <a:moveTo>
                    <a:pt x="676" y="74"/>
                  </a:moveTo>
                  <a:lnTo>
                    <a:pt x="676" y="92"/>
                  </a:lnTo>
                  <a:lnTo>
                    <a:pt x="557" y="198"/>
                  </a:lnTo>
                  <a:lnTo>
                    <a:pt x="455" y="216"/>
                  </a:lnTo>
                  <a:lnTo>
                    <a:pt x="269" y="189"/>
                  </a:lnTo>
                  <a:lnTo>
                    <a:pt x="305" y="561"/>
                  </a:lnTo>
                  <a:lnTo>
                    <a:pt x="353" y="870"/>
                  </a:lnTo>
                  <a:lnTo>
                    <a:pt x="428" y="1042"/>
                  </a:lnTo>
                  <a:lnTo>
                    <a:pt x="353" y="923"/>
                  </a:lnTo>
                  <a:lnTo>
                    <a:pt x="314" y="795"/>
                  </a:lnTo>
                  <a:lnTo>
                    <a:pt x="265" y="441"/>
                  </a:lnTo>
                  <a:lnTo>
                    <a:pt x="208" y="459"/>
                  </a:lnTo>
                  <a:lnTo>
                    <a:pt x="141" y="419"/>
                  </a:lnTo>
                  <a:lnTo>
                    <a:pt x="13" y="233"/>
                  </a:lnTo>
                  <a:lnTo>
                    <a:pt x="0" y="132"/>
                  </a:lnTo>
                  <a:lnTo>
                    <a:pt x="0" y="66"/>
                  </a:lnTo>
                  <a:lnTo>
                    <a:pt x="30" y="17"/>
                  </a:lnTo>
                  <a:lnTo>
                    <a:pt x="105" y="0"/>
                  </a:lnTo>
                  <a:lnTo>
                    <a:pt x="119" y="26"/>
                  </a:lnTo>
                  <a:lnTo>
                    <a:pt x="52" y="44"/>
                  </a:lnTo>
                  <a:lnTo>
                    <a:pt x="39" y="123"/>
                  </a:lnTo>
                  <a:lnTo>
                    <a:pt x="48" y="224"/>
                  </a:lnTo>
                  <a:lnTo>
                    <a:pt x="136" y="309"/>
                  </a:lnTo>
                  <a:lnTo>
                    <a:pt x="172" y="292"/>
                  </a:lnTo>
                  <a:lnTo>
                    <a:pt x="172" y="101"/>
                  </a:lnTo>
                  <a:lnTo>
                    <a:pt x="256" y="141"/>
                  </a:lnTo>
                  <a:lnTo>
                    <a:pt x="380" y="171"/>
                  </a:lnTo>
                  <a:lnTo>
                    <a:pt x="494" y="163"/>
                  </a:lnTo>
                  <a:lnTo>
                    <a:pt x="601" y="101"/>
                  </a:lnTo>
                  <a:lnTo>
                    <a:pt x="676" y="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91" name=""/>
            <p:cNvSpPr/>
            <p:nvPr/>
          </p:nvSpPr>
          <p:spPr>
            <a:xfrm>
              <a:off x="1525680" y="404640"/>
              <a:ext cx="73440" cy="197280"/>
            </a:xfrm>
            <a:custGeom>
              <a:avLst/>
              <a:gdLst/>
              <a:ahLst/>
              <a:rect l="0" t="0" r="r" b="b"/>
              <a:pathLst>
                <a:path w="204" h="548">
                  <a:moveTo>
                    <a:pt x="106" y="548"/>
                  </a:moveTo>
                  <a:lnTo>
                    <a:pt x="204" y="225"/>
                  </a:lnTo>
                  <a:lnTo>
                    <a:pt x="26" y="110"/>
                  </a:lnTo>
                  <a:lnTo>
                    <a:pt x="0" y="0"/>
                  </a:lnTo>
                  <a:lnTo>
                    <a:pt x="13" y="132"/>
                  </a:lnTo>
                  <a:lnTo>
                    <a:pt x="71" y="190"/>
                  </a:lnTo>
                  <a:lnTo>
                    <a:pt x="80" y="349"/>
                  </a:lnTo>
                  <a:lnTo>
                    <a:pt x="124" y="416"/>
                  </a:lnTo>
                  <a:lnTo>
                    <a:pt x="106" y="54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92" name=""/>
            <p:cNvSpPr/>
            <p:nvPr/>
          </p:nvSpPr>
          <p:spPr>
            <a:xfrm>
              <a:off x="1523880" y="228600"/>
              <a:ext cx="543240" cy="262440"/>
            </a:xfrm>
            <a:custGeom>
              <a:avLst/>
              <a:gdLst/>
              <a:ahLst/>
              <a:rect l="0" t="0" r="r" b="b"/>
              <a:pathLst>
                <a:path w="1509" h="729">
                  <a:moveTo>
                    <a:pt x="13" y="494"/>
                  </a:moveTo>
                  <a:lnTo>
                    <a:pt x="145" y="566"/>
                  </a:lnTo>
                  <a:lnTo>
                    <a:pt x="132" y="477"/>
                  </a:lnTo>
                  <a:lnTo>
                    <a:pt x="158" y="309"/>
                  </a:lnTo>
                  <a:lnTo>
                    <a:pt x="242" y="278"/>
                  </a:lnTo>
                  <a:lnTo>
                    <a:pt x="255" y="450"/>
                  </a:lnTo>
                  <a:lnTo>
                    <a:pt x="507" y="141"/>
                  </a:lnTo>
                  <a:lnTo>
                    <a:pt x="568" y="119"/>
                  </a:lnTo>
                  <a:lnTo>
                    <a:pt x="520" y="243"/>
                  </a:lnTo>
                  <a:lnTo>
                    <a:pt x="679" y="300"/>
                  </a:lnTo>
                  <a:lnTo>
                    <a:pt x="799" y="180"/>
                  </a:lnTo>
                  <a:lnTo>
                    <a:pt x="856" y="217"/>
                  </a:lnTo>
                  <a:lnTo>
                    <a:pt x="803" y="322"/>
                  </a:lnTo>
                  <a:lnTo>
                    <a:pt x="878" y="256"/>
                  </a:lnTo>
                  <a:lnTo>
                    <a:pt x="988" y="309"/>
                  </a:lnTo>
                  <a:lnTo>
                    <a:pt x="904" y="397"/>
                  </a:lnTo>
                  <a:lnTo>
                    <a:pt x="1213" y="450"/>
                  </a:lnTo>
                  <a:lnTo>
                    <a:pt x="1002" y="512"/>
                  </a:lnTo>
                  <a:lnTo>
                    <a:pt x="1257" y="548"/>
                  </a:lnTo>
                  <a:lnTo>
                    <a:pt x="953" y="619"/>
                  </a:lnTo>
                  <a:lnTo>
                    <a:pt x="1019" y="672"/>
                  </a:lnTo>
                  <a:lnTo>
                    <a:pt x="927" y="729"/>
                  </a:lnTo>
                  <a:lnTo>
                    <a:pt x="1090" y="729"/>
                  </a:lnTo>
                  <a:lnTo>
                    <a:pt x="1072" y="689"/>
                  </a:lnTo>
                  <a:lnTo>
                    <a:pt x="1235" y="725"/>
                  </a:lnTo>
                  <a:lnTo>
                    <a:pt x="1213" y="610"/>
                  </a:lnTo>
                  <a:lnTo>
                    <a:pt x="1359" y="557"/>
                  </a:lnTo>
                  <a:lnTo>
                    <a:pt x="1253" y="503"/>
                  </a:lnTo>
                  <a:lnTo>
                    <a:pt x="1509" y="486"/>
                  </a:lnTo>
                  <a:lnTo>
                    <a:pt x="1288" y="362"/>
                  </a:lnTo>
                  <a:lnTo>
                    <a:pt x="1037" y="340"/>
                  </a:lnTo>
                  <a:lnTo>
                    <a:pt x="1235" y="221"/>
                  </a:lnTo>
                  <a:lnTo>
                    <a:pt x="878" y="221"/>
                  </a:lnTo>
                  <a:lnTo>
                    <a:pt x="1046" y="110"/>
                  </a:lnTo>
                  <a:lnTo>
                    <a:pt x="790" y="141"/>
                  </a:lnTo>
                  <a:lnTo>
                    <a:pt x="665" y="199"/>
                  </a:lnTo>
                  <a:lnTo>
                    <a:pt x="772" y="0"/>
                  </a:lnTo>
                  <a:lnTo>
                    <a:pt x="454" y="110"/>
                  </a:lnTo>
                  <a:lnTo>
                    <a:pt x="277" y="349"/>
                  </a:lnTo>
                  <a:lnTo>
                    <a:pt x="255" y="217"/>
                  </a:lnTo>
                  <a:lnTo>
                    <a:pt x="114" y="309"/>
                  </a:lnTo>
                  <a:lnTo>
                    <a:pt x="92" y="486"/>
                  </a:lnTo>
                  <a:lnTo>
                    <a:pt x="0" y="450"/>
                  </a:lnTo>
                  <a:lnTo>
                    <a:pt x="30" y="610"/>
                  </a:lnTo>
                  <a:lnTo>
                    <a:pt x="13" y="49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93" name=""/>
            <p:cNvSpPr/>
            <p:nvPr/>
          </p:nvSpPr>
          <p:spPr>
            <a:xfrm>
              <a:off x="1641600" y="368280"/>
              <a:ext cx="154440" cy="79560"/>
            </a:xfrm>
            <a:custGeom>
              <a:avLst/>
              <a:gdLst/>
              <a:ahLst/>
              <a:rect l="0" t="0" r="r" b="b"/>
              <a:pathLst>
                <a:path w="429" h="221">
                  <a:moveTo>
                    <a:pt x="0" y="221"/>
                  </a:moveTo>
                  <a:lnTo>
                    <a:pt x="159" y="0"/>
                  </a:lnTo>
                  <a:lnTo>
                    <a:pt x="159" y="146"/>
                  </a:lnTo>
                  <a:lnTo>
                    <a:pt x="217" y="88"/>
                  </a:lnTo>
                  <a:lnTo>
                    <a:pt x="274" y="164"/>
                  </a:lnTo>
                  <a:lnTo>
                    <a:pt x="429" y="212"/>
                  </a:lnTo>
                  <a:lnTo>
                    <a:pt x="256" y="186"/>
                  </a:lnTo>
                  <a:lnTo>
                    <a:pt x="208" y="128"/>
                  </a:lnTo>
                  <a:lnTo>
                    <a:pt x="133" y="186"/>
                  </a:lnTo>
                  <a:lnTo>
                    <a:pt x="133" y="115"/>
                  </a:lnTo>
                  <a:lnTo>
                    <a:pt x="0" y="221"/>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694" name=""/>
            <p:cNvSpPr/>
            <p:nvPr/>
          </p:nvSpPr>
          <p:spPr>
            <a:xfrm>
              <a:off x="1627200" y="906480"/>
              <a:ext cx="184680" cy="116280"/>
            </a:xfrm>
            <a:custGeom>
              <a:avLst/>
              <a:gdLst/>
              <a:ahLst/>
              <a:rect l="0" t="0" r="r" b="b"/>
              <a:pathLst>
                <a:path w="513" h="323">
                  <a:moveTo>
                    <a:pt x="97" y="115"/>
                  </a:moveTo>
                  <a:lnTo>
                    <a:pt x="305" y="98"/>
                  </a:lnTo>
                  <a:lnTo>
                    <a:pt x="407" y="120"/>
                  </a:lnTo>
                  <a:lnTo>
                    <a:pt x="465" y="74"/>
                  </a:lnTo>
                  <a:lnTo>
                    <a:pt x="513" y="181"/>
                  </a:lnTo>
                  <a:lnTo>
                    <a:pt x="478" y="199"/>
                  </a:lnTo>
                  <a:lnTo>
                    <a:pt x="434" y="159"/>
                  </a:lnTo>
                  <a:lnTo>
                    <a:pt x="362" y="234"/>
                  </a:lnTo>
                  <a:lnTo>
                    <a:pt x="239" y="323"/>
                  </a:lnTo>
                  <a:lnTo>
                    <a:pt x="177" y="323"/>
                  </a:lnTo>
                  <a:lnTo>
                    <a:pt x="97" y="279"/>
                  </a:lnTo>
                  <a:lnTo>
                    <a:pt x="190" y="315"/>
                  </a:lnTo>
                  <a:lnTo>
                    <a:pt x="230" y="315"/>
                  </a:lnTo>
                  <a:lnTo>
                    <a:pt x="305" y="257"/>
                  </a:lnTo>
                  <a:lnTo>
                    <a:pt x="362" y="146"/>
                  </a:lnTo>
                  <a:lnTo>
                    <a:pt x="278" y="133"/>
                  </a:lnTo>
                  <a:lnTo>
                    <a:pt x="225" y="120"/>
                  </a:lnTo>
                  <a:lnTo>
                    <a:pt x="88" y="137"/>
                  </a:lnTo>
                  <a:lnTo>
                    <a:pt x="83" y="225"/>
                  </a:lnTo>
                  <a:lnTo>
                    <a:pt x="39" y="172"/>
                  </a:lnTo>
                  <a:lnTo>
                    <a:pt x="0" y="244"/>
                  </a:lnTo>
                  <a:lnTo>
                    <a:pt x="4" y="89"/>
                  </a:lnTo>
                  <a:lnTo>
                    <a:pt x="48" y="0"/>
                  </a:lnTo>
                  <a:lnTo>
                    <a:pt x="97" y="89"/>
                  </a:lnTo>
                  <a:lnTo>
                    <a:pt x="97" y="11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95" name=""/>
            <p:cNvSpPr/>
            <p:nvPr/>
          </p:nvSpPr>
          <p:spPr>
            <a:xfrm>
              <a:off x="1604880" y="650880"/>
              <a:ext cx="395640" cy="541800"/>
            </a:xfrm>
            <a:custGeom>
              <a:avLst/>
              <a:gdLst/>
              <a:ahLst/>
              <a:rect l="0" t="0" r="r" b="b"/>
              <a:pathLst>
                <a:path w="1099" h="1505">
                  <a:moveTo>
                    <a:pt x="931" y="0"/>
                  </a:moveTo>
                  <a:lnTo>
                    <a:pt x="1037" y="0"/>
                  </a:lnTo>
                  <a:lnTo>
                    <a:pt x="1099" y="74"/>
                  </a:lnTo>
                  <a:lnTo>
                    <a:pt x="1099" y="154"/>
                  </a:lnTo>
                  <a:lnTo>
                    <a:pt x="1010" y="393"/>
                  </a:lnTo>
                  <a:lnTo>
                    <a:pt x="922" y="508"/>
                  </a:lnTo>
                  <a:lnTo>
                    <a:pt x="825" y="521"/>
                  </a:lnTo>
                  <a:lnTo>
                    <a:pt x="803" y="521"/>
                  </a:lnTo>
                  <a:lnTo>
                    <a:pt x="803" y="821"/>
                  </a:lnTo>
                  <a:lnTo>
                    <a:pt x="843" y="1032"/>
                  </a:lnTo>
                  <a:lnTo>
                    <a:pt x="843" y="1210"/>
                  </a:lnTo>
                  <a:lnTo>
                    <a:pt x="680" y="1386"/>
                  </a:lnTo>
                  <a:lnTo>
                    <a:pt x="445" y="1505"/>
                  </a:lnTo>
                  <a:lnTo>
                    <a:pt x="299" y="1505"/>
                  </a:lnTo>
                  <a:lnTo>
                    <a:pt x="233" y="1474"/>
                  </a:lnTo>
                  <a:lnTo>
                    <a:pt x="132" y="1263"/>
                  </a:lnTo>
                  <a:lnTo>
                    <a:pt x="35" y="1188"/>
                  </a:lnTo>
                  <a:lnTo>
                    <a:pt x="0" y="1125"/>
                  </a:lnTo>
                  <a:lnTo>
                    <a:pt x="123" y="1210"/>
                  </a:lnTo>
                  <a:lnTo>
                    <a:pt x="216" y="1285"/>
                  </a:lnTo>
                  <a:lnTo>
                    <a:pt x="388" y="1294"/>
                  </a:lnTo>
                  <a:lnTo>
                    <a:pt x="546" y="1219"/>
                  </a:lnTo>
                  <a:lnTo>
                    <a:pt x="631" y="1125"/>
                  </a:lnTo>
                  <a:lnTo>
                    <a:pt x="715" y="979"/>
                  </a:lnTo>
                  <a:lnTo>
                    <a:pt x="733" y="799"/>
                  </a:lnTo>
                  <a:lnTo>
                    <a:pt x="768" y="220"/>
                  </a:lnTo>
                  <a:lnTo>
                    <a:pt x="807" y="304"/>
                  </a:lnTo>
                  <a:lnTo>
                    <a:pt x="918" y="198"/>
                  </a:lnTo>
                  <a:lnTo>
                    <a:pt x="1028" y="154"/>
                  </a:lnTo>
                  <a:lnTo>
                    <a:pt x="1054" y="92"/>
                  </a:lnTo>
                  <a:lnTo>
                    <a:pt x="1046" y="35"/>
                  </a:lnTo>
                  <a:lnTo>
                    <a:pt x="993" y="8"/>
                  </a:lnTo>
                  <a:lnTo>
                    <a:pt x="93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96" name=""/>
            <p:cNvSpPr/>
            <p:nvPr/>
          </p:nvSpPr>
          <p:spPr>
            <a:xfrm>
              <a:off x="990720" y="1117440"/>
              <a:ext cx="319320" cy="503640"/>
            </a:xfrm>
            <a:custGeom>
              <a:avLst/>
              <a:gdLst/>
              <a:ahLst/>
              <a:rect l="0" t="0" r="r" b="b"/>
              <a:pathLst>
                <a:path w="887" h="1399">
                  <a:moveTo>
                    <a:pt x="114" y="0"/>
                  </a:moveTo>
                  <a:lnTo>
                    <a:pt x="216" y="66"/>
                  </a:lnTo>
                  <a:lnTo>
                    <a:pt x="286" y="343"/>
                  </a:lnTo>
                  <a:lnTo>
                    <a:pt x="516" y="411"/>
                  </a:lnTo>
                  <a:lnTo>
                    <a:pt x="587" y="490"/>
                  </a:lnTo>
                  <a:lnTo>
                    <a:pt x="596" y="596"/>
                  </a:lnTo>
                  <a:lnTo>
                    <a:pt x="710" y="578"/>
                  </a:lnTo>
                  <a:lnTo>
                    <a:pt x="843" y="671"/>
                  </a:lnTo>
                  <a:lnTo>
                    <a:pt x="887" y="781"/>
                  </a:lnTo>
                  <a:lnTo>
                    <a:pt x="887" y="979"/>
                  </a:lnTo>
                  <a:lnTo>
                    <a:pt x="710" y="1280"/>
                  </a:lnTo>
                  <a:lnTo>
                    <a:pt x="644" y="1399"/>
                  </a:lnTo>
                  <a:lnTo>
                    <a:pt x="675" y="1236"/>
                  </a:lnTo>
                  <a:lnTo>
                    <a:pt x="644" y="1179"/>
                  </a:lnTo>
                  <a:lnTo>
                    <a:pt x="534" y="1073"/>
                  </a:lnTo>
                  <a:lnTo>
                    <a:pt x="366" y="957"/>
                  </a:lnTo>
                  <a:lnTo>
                    <a:pt x="569" y="1019"/>
                  </a:lnTo>
                  <a:lnTo>
                    <a:pt x="693" y="1113"/>
                  </a:lnTo>
                  <a:lnTo>
                    <a:pt x="755" y="1100"/>
                  </a:lnTo>
                  <a:lnTo>
                    <a:pt x="799" y="1046"/>
                  </a:lnTo>
                  <a:lnTo>
                    <a:pt x="843" y="909"/>
                  </a:lnTo>
                  <a:lnTo>
                    <a:pt x="834" y="772"/>
                  </a:lnTo>
                  <a:lnTo>
                    <a:pt x="763" y="693"/>
                  </a:lnTo>
                  <a:lnTo>
                    <a:pt x="653" y="671"/>
                  </a:lnTo>
                  <a:lnTo>
                    <a:pt x="534" y="671"/>
                  </a:lnTo>
                  <a:lnTo>
                    <a:pt x="499" y="464"/>
                  </a:lnTo>
                  <a:lnTo>
                    <a:pt x="295" y="389"/>
                  </a:lnTo>
                  <a:lnTo>
                    <a:pt x="295" y="446"/>
                  </a:lnTo>
                  <a:lnTo>
                    <a:pt x="216" y="299"/>
                  </a:lnTo>
                  <a:lnTo>
                    <a:pt x="163" y="66"/>
                  </a:lnTo>
                  <a:lnTo>
                    <a:pt x="88" y="39"/>
                  </a:lnTo>
                  <a:lnTo>
                    <a:pt x="44" y="110"/>
                  </a:lnTo>
                  <a:lnTo>
                    <a:pt x="44" y="273"/>
                  </a:lnTo>
                  <a:lnTo>
                    <a:pt x="79" y="446"/>
                  </a:lnTo>
                  <a:lnTo>
                    <a:pt x="180" y="596"/>
                  </a:lnTo>
                  <a:lnTo>
                    <a:pt x="70" y="503"/>
                  </a:lnTo>
                  <a:lnTo>
                    <a:pt x="8" y="343"/>
                  </a:lnTo>
                  <a:lnTo>
                    <a:pt x="0" y="145"/>
                  </a:lnTo>
                  <a:lnTo>
                    <a:pt x="44" y="39"/>
                  </a:lnTo>
                  <a:lnTo>
                    <a:pt x="11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97" name=""/>
            <p:cNvSpPr/>
            <p:nvPr/>
          </p:nvSpPr>
          <p:spPr>
            <a:xfrm>
              <a:off x="838080" y="1339920"/>
              <a:ext cx="211320" cy="402120"/>
            </a:xfrm>
            <a:custGeom>
              <a:avLst/>
              <a:gdLst/>
              <a:ahLst/>
              <a:rect l="0" t="0" r="r" b="b"/>
              <a:pathLst>
                <a:path w="587" h="1117">
                  <a:moveTo>
                    <a:pt x="587" y="0"/>
                  </a:moveTo>
                  <a:lnTo>
                    <a:pt x="464" y="74"/>
                  </a:lnTo>
                  <a:lnTo>
                    <a:pt x="322" y="344"/>
                  </a:lnTo>
                  <a:lnTo>
                    <a:pt x="180" y="521"/>
                  </a:lnTo>
                  <a:lnTo>
                    <a:pt x="13" y="733"/>
                  </a:lnTo>
                  <a:lnTo>
                    <a:pt x="0" y="844"/>
                  </a:lnTo>
                  <a:lnTo>
                    <a:pt x="30" y="941"/>
                  </a:lnTo>
                  <a:lnTo>
                    <a:pt x="119" y="941"/>
                  </a:lnTo>
                  <a:lnTo>
                    <a:pt x="224" y="844"/>
                  </a:lnTo>
                  <a:lnTo>
                    <a:pt x="309" y="640"/>
                  </a:lnTo>
                  <a:lnTo>
                    <a:pt x="433" y="521"/>
                  </a:lnTo>
                  <a:lnTo>
                    <a:pt x="433" y="684"/>
                  </a:lnTo>
                  <a:lnTo>
                    <a:pt x="415" y="830"/>
                  </a:lnTo>
                  <a:lnTo>
                    <a:pt x="286" y="1029"/>
                  </a:lnTo>
                  <a:lnTo>
                    <a:pt x="286" y="1091"/>
                  </a:lnTo>
                  <a:lnTo>
                    <a:pt x="415" y="1117"/>
                  </a:lnTo>
                  <a:lnTo>
                    <a:pt x="322" y="1060"/>
                  </a:lnTo>
                  <a:lnTo>
                    <a:pt x="336" y="1029"/>
                  </a:lnTo>
                  <a:lnTo>
                    <a:pt x="424" y="883"/>
                  </a:lnTo>
                  <a:lnTo>
                    <a:pt x="486" y="618"/>
                  </a:lnTo>
                  <a:lnTo>
                    <a:pt x="441" y="472"/>
                  </a:lnTo>
                  <a:lnTo>
                    <a:pt x="349" y="556"/>
                  </a:lnTo>
                  <a:lnTo>
                    <a:pt x="136" y="892"/>
                  </a:lnTo>
                  <a:lnTo>
                    <a:pt x="83" y="901"/>
                  </a:lnTo>
                  <a:lnTo>
                    <a:pt x="30" y="861"/>
                  </a:lnTo>
                  <a:lnTo>
                    <a:pt x="30" y="759"/>
                  </a:lnTo>
                  <a:lnTo>
                    <a:pt x="119" y="631"/>
                  </a:lnTo>
                  <a:lnTo>
                    <a:pt x="349" y="362"/>
                  </a:lnTo>
                  <a:lnTo>
                    <a:pt x="486" y="101"/>
                  </a:lnTo>
                  <a:lnTo>
                    <a:pt x="58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98" name=""/>
            <p:cNvSpPr/>
            <p:nvPr/>
          </p:nvSpPr>
          <p:spPr>
            <a:xfrm>
              <a:off x="993600" y="1566720"/>
              <a:ext cx="132120" cy="192600"/>
            </a:xfrm>
            <a:custGeom>
              <a:avLst/>
              <a:gdLst/>
              <a:ahLst/>
              <a:rect l="0" t="0" r="r" b="b"/>
              <a:pathLst>
                <a:path w="367" h="535">
                  <a:moveTo>
                    <a:pt x="0" y="473"/>
                  </a:moveTo>
                  <a:lnTo>
                    <a:pt x="119" y="336"/>
                  </a:lnTo>
                  <a:lnTo>
                    <a:pt x="141" y="199"/>
                  </a:lnTo>
                  <a:lnTo>
                    <a:pt x="283" y="0"/>
                  </a:lnTo>
                  <a:lnTo>
                    <a:pt x="314" y="132"/>
                  </a:lnTo>
                  <a:lnTo>
                    <a:pt x="296" y="491"/>
                  </a:lnTo>
                  <a:lnTo>
                    <a:pt x="367" y="535"/>
                  </a:lnTo>
                  <a:lnTo>
                    <a:pt x="261" y="500"/>
                  </a:lnTo>
                  <a:lnTo>
                    <a:pt x="208" y="296"/>
                  </a:lnTo>
                  <a:lnTo>
                    <a:pt x="119" y="397"/>
                  </a:lnTo>
                  <a:lnTo>
                    <a:pt x="0" y="47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99" name=""/>
            <p:cNvSpPr/>
            <p:nvPr/>
          </p:nvSpPr>
          <p:spPr>
            <a:xfrm>
              <a:off x="1154160" y="1576440"/>
              <a:ext cx="86040" cy="173520"/>
            </a:xfrm>
            <a:custGeom>
              <a:avLst/>
              <a:gdLst/>
              <a:ahLst/>
              <a:rect l="0" t="0" r="r" b="b"/>
              <a:pathLst>
                <a:path w="239" h="482">
                  <a:moveTo>
                    <a:pt x="0" y="363"/>
                  </a:moveTo>
                  <a:lnTo>
                    <a:pt x="8" y="186"/>
                  </a:lnTo>
                  <a:lnTo>
                    <a:pt x="57" y="79"/>
                  </a:lnTo>
                  <a:lnTo>
                    <a:pt x="114" y="460"/>
                  </a:lnTo>
                  <a:lnTo>
                    <a:pt x="190" y="460"/>
                  </a:lnTo>
                  <a:lnTo>
                    <a:pt x="221" y="57"/>
                  </a:lnTo>
                  <a:lnTo>
                    <a:pt x="239" y="0"/>
                  </a:lnTo>
                  <a:lnTo>
                    <a:pt x="221" y="314"/>
                  </a:lnTo>
                  <a:lnTo>
                    <a:pt x="190" y="482"/>
                  </a:lnTo>
                  <a:lnTo>
                    <a:pt x="92" y="482"/>
                  </a:lnTo>
                  <a:lnTo>
                    <a:pt x="52" y="142"/>
                  </a:lnTo>
                  <a:lnTo>
                    <a:pt x="30" y="195"/>
                  </a:lnTo>
                  <a:lnTo>
                    <a:pt x="0" y="36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0" name=""/>
            <p:cNvSpPr/>
            <p:nvPr/>
          </p:nvSpPr>
          <p:spPr>
            <a:xfrm>
              <a:off x="2251080" y="896760"/>
              <a:ext cx="209880" cy="462240"/>
            </a:xfrm>
            <a:custGeom>
              <a:avLst/>
              <a:gdLst/>
              <a:ahLst/>
              <a:rect l="0" t="0" r="r" b="b"/>
              <a:pathLst>
                <a:path w="583" h="1284">
                  <a:moveTo>
                    <a:pt x="154" y="693"/>
                  </a:moveTo>
                  <a:lnTo>
                    <a:pt x="194" y="493"/>
                  </a:lnTo>
                  <a:lnTo>
                    <a:pt x="397" y="440"/>
                  </a:lnTo>
                  <a:lnTo>
                    <a:pt x="583" y="0"/>
                  </a:lnTo>
                  <a:lnTo>
                    <a:pt x="583" y="127"/>
                  </a:lnTo>
                  <a:lnTo>
                    <a:pt x="424" y="467"/>
                  </a:lnTo>
                  <a:lnTo>
                    <a:pt x="211" y="533"/>
                  </a:lnTo>
                  <a:lnTo>
                    <a:pt x="180" y="693"/>
                  </a:lnTo>
                  <a:lnTo>
                    <a:pt x="260" y="693"/>
                  </a:lnTo>
                  <a:lnTo>
                    <a:pt x="70" y="768"/>
                  </a:lnTo>
                  <a:lnTo>
                    <a:pt x="30" y="904"/>
                  </a:lnTo>
                  <a:lnTo>
                    <a:pt x="44" y="1081"/>
                  </a:lnTo>
                  <a:lnTo>
                    <a:pt x="238" y="1284"/>
                  </a:lnTo>
                  <a:lnTo>
                    <a:pt x="30" y="1103"/>
                  </a:lnTo>
                  <a:lnTo>
                    <a:pt x="0" y="957"/>
                  </a:lnTo>
                  <a:lnTo>
                    <a:pt x="13" y="799"/>
                  </a:lnTo>
                  <a:lnTo>
                    <a:pt x="88" y="693"/>
                  </a:lnTo>
                  <a:lnTo>
                    <a:pt x="154" y="69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1" name=""/>
            <p:cNvSpPr/>
            <p:nvPr/>
          </p:nvSpPr>
          <p:spPr>
            <a:xfrm>
              <a:off x="2394000" y="896760"/>
              <a:ext cx="348120" cy="446400"/>
            </a:xfrm>
            <a:custGeom>
              <a:avLst/>
              <a:gdLst/>
              <a:ahLst/>
              <a:rect l="0" t="0" r="r" b="b"/>
              <a:pathLst>
                <a:path w="967" h="1240">
                  <a:moveTo>
                    <a:pt x="269" y="0"/>
                  </a:moveTo>
                  <a:lnTo>
                    <a:pt x="322" y="35"/>
                  </a:lnTo>
                  <a:lnTo>
                    <a:pt x="340" y="141"/>
                  </a:lnTo>
                  <a:lnTo>
                    <a:pt x="340" y="242"/>
                  </a:lnTo>
                  <a:lnTo>
                    <a:pt x="238" y="423"/>
                  </a:lnTo>
                  <a:lnTo>
                    <a:pt x="261" y="555"/>
                  </a:lnTo>
                  <a:lnTo>
                    <a:pt x="583" y="697"/>
                  </a:lnTo>
                  <a:lnTo>
                    <a:pt x="963" y="1090"/>
                  </a:lnTo>
                  <a:lnTo>
                    <a:pt x="967" y="1196"/>
                  </a:lnTo>
                  <a:lnTo>
                    <a:pt x="945" y="1240"/>
                  </a:lnTo>
                  <a:lnTo>
                    <a:pt x="808" y="1240"/>
                  </a:lnTo>
                  <a:lnTo>
                    <a:pt x="680" y="1165"/>
                  </a:lnTo>
                  <a:lnTo>
                    <a:pt x="574" y="1037"/>
                  </a:lnTo>
                  <a:lnTo>
                    <a:pt x="516" y="966"/>
                  </a:lnTo>
                  <a:lnTo>
                    <a:pt x="446" y="949"/>
                  </a:lnTo>
                  <a:lnTo>
                    <a:pt x="530" y="949"/>
                  </a:lnTo>
                  <a:lnTo>
                    <a:pt x="693" y="1151"/>
                  </a:lnTo>
                  <a:lnTo>
                    <a:pt x="892" y="1213"/>
                  </a:lnTo>
                  <a:lnTo>
                    <a:pt x="936" y="1151"/>
                  </a:lnTo>
                  <a:lnTo>
                    <a:pt x="919" y="1059"/>
                  </a:lnTo>
                  <a:lnTo>
                    <a:pt x="561" y="781"/>
                  </a:lnTo>
                  <a:lnTo>
                    <a:pt x="508" y="697"/>
                  </a:lnTo>
                  <a:lnTo>
                    <a:pt x="238" y="631"/>
                  </a:lnTo>
                  <a:lnTo>
                    <a:pt x="185" y="697"/>
                  </a:lnTo>
                  <a:lnTo>
                    <a:pt x="0" y="816"/>
                  </a:lnTo>
                  <a:lnTo>
                    <a:pt x="171" y="680"/>
                  </a:lnTo>
                  <a:lnTo>
                    <a:pt x="185" y="590"/>
                  </a:lnTo>
                  <a:lnTo>
                    <a:pt x="185" y="401"/>
                  </a:lnTo>
                  <a:lnTo>
                    <a:pt x="309" y="242"/>
                  </a:lnTo>
                  <a:lnTo>
                    <a:pt x="309" y="48"/>
                  </a:lnTo>
                  <a:lnTo>
                    <a:pt x="26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2" name=""/>
            <p:cNvSpPr/>
            <p:nvPr/>
          </p:nvSpPr>
          <p:spPr>
            <a:xfrm>
              <a:off x="2328840" y="1247760"/>
              <a:ext cx="297360" cy="265320"/>
            </a:xfrm>
            <a:custGeom>
              <a:avLst/>
              <a:gdLst/>
              <a:ahLst/>
              <a:rect l="0" t="0" r="r" b="b"/>
              <a:pathLst>
                <a:path w="826" h="737">
                  <a:moveTo>
                    <a:pt x="618" y="0"/>
                  </a:moveTo>
                  <a:lnTo>
                    <a:pt x="596" y="66"/>
                  </a:lnTo>
                  <a:lnTo>
                    <a:pt x="720" y="304"/>
                  </a:lnTo>
                  <a:lnTo>
                    <a:pt x="782" y="556"/>
                  </a:lnTo>
                  <a:lnTo>
                    <a:pt x="711" y="556"/>
                  </a:lnTo>
                  <a:lnTo>
                    <a:pt x="587" y="446"/>
                  </a:lnTo>
                  <a:lnTo>
                    <a:pt x="472" y="216"/>
                  </a:lnTo>
                  <a:lnTo>
                    <a:pt x="389" y="180"/>
                  </a:lnTo>
                  <a:lnTo>
                    <a:pt x="406" y="304"/>
                  </a:lnTo>
                  <a:lnTo>
                    <a:pt x="481" y="397"/>
                  </a:lnTo>
                  <a:lnTo>
                    <a:pt x="481" y="569"/>
                  </a:lnTo>
                  <a:lnTo>
                    <a:pt x="424" y="702"/>
                  </a:lnTo>
                  <a:lnTo>
                    <a:pt x="349" y="649"/>
                  </a:lnTo>
                  <a:lnTo>
                    <a:pt x="256" y="446"/>
                  </a:lnTo>
                  <a:lnTo>
                    <a:pt x="234" y="304"/>
                  </a:lnTo>
                  <a:lnTo>
                    <a:pt x="176" y="260"/>
                  </a:lnTo>
                  <a:lnTo>
                    <a:pt x="163" y="622"/>
                  </a:lnTo>
                  <a:lnTo>
                    <a:pt x="88" y="675"/>
                  </a:lnTo>
                  <a:lnTo>
                    <a:pt x="22" y="622"/>
                  </a:lnTo>
                  <a:lnTo>
                    <a:pt x="8" y="317"/>
                  </a:lnTo>
                  <a:lnTo>
                    <a:pt x="0" y="618"/>
                  </a:lnTo>
                  <a:lnTo>
                    <a:pt x="52" y="728"/>
                  </a:lnTo>
                  <a:lnTo>
                    <a:pt x="163" y="728"/>
                  </a:lnTo>
                  <a:lnTo>
                    <a:pt x="194" y="640"/>
                  </a:lnTo>
                  <a:lnTo>
                    <a:pt x="221" y="357"/>
                  </a:lnTo>
                  <a:lnTo>
                    <a:pt x="239" y="468"/>
                  </a:lnTo>
                  <a:lnTo>
                    <a:pt x="331" y="710"/>
                  </a:lnTo>
                  <a:lnTo>
                    <a:pt x="433" y="737"/>
                  </a:lnTo>
                  <a:lnTo>
                    <a:pt x="512" y="640"/>
                  </a:lnTo>
                  <a:lnTo>
                    <a:pt x="512" y="411"/>
                  </a:lnTo>
                  <a:lnTo>
                    <a:pt x="711" y="600"/>
                  </a:lnTo>
                  <a:lnTo>
                    <a:pt x="817" y="600"/>
                  </a:lnTo>
                  <a:lnTo>
                    <a:pt x="826" y="468"/>
                  </a:lnTo>
                  <a:lnTo>
                    <a:pt x="751" y="238"/>
                  </a:lnTo>
                  <a:lnTo>
                    <a:pt x="618" y="48"/>
                  </a:lnTo>
                  <a:lnTo>
                    <a:pt x="61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3" name=""/>
            <p:cNvSpPr/>
            <p:nvPr/>
          </p:nvSpPr>
          <p:spPr>
            <a:xfrm>
              <a:off x="1130400" y="973080"/>
              <a:ext cx="1319400" cy="1082880"/>
            </a:xfrm>
            <a:custGeom>
              <a:avLst/>
              <a:gdLst/>
              <a:ahLst/>
              <a:rect l="0" t="0" r="r" b="b"/>
              <a:pathLst>
                <a:path w="3665" h="3008">
                  <a:moveTo>
                    <a:pt x="1322" y="251"/>
                  </a:moveTo>
                  <a:lnTo>
                    <a:pt x="1247" y="273"/>
                  </a:lnTo>
                  <a:lnTo>
                    <a:pt x="1146" y="414"/>
                  </a:lnTo>
                  <a:lnTo>
                    <a:pt x="1115" y="304"/>
                  </a:lnTo>
                  <a:lnTo>
                    <a:pt x="992" y="242"/>
                  </a:lnTo>
                  <a:lnTo>
                    <a:pt x="908" y="291"/>
                  </a:lnTo>
                  <a:lnTo>
                    <a:pt x="868" y="489"/>
                  </a:lnTo>
                  <a:lnTo>
                    <a:pt x="542" y="727"/>
                  </a:lnTo>
                  <a:lnTo>
                    <a:pt x="564" y="829"/>
                  </a:lnTo>
                  <a:lnTo>
                    <a:pt x="489" y="908"/>
                  </a:lnTo>
                  <a:lnTo>
                    <a:pt x="489" y="992"/>
                  </a:lnTo>
                  <a:lnTo>
                    <a:pt x="577" y="1221"/>
                  </a:lnTo>
                  <a:lnTo>
                    <a:pt x="586" y="1499"/>
                  </a:lnTo>
                  <a:lnTo>
                    <a:pt x="524" y="1760"/>
                  </a:lnTo>
                  <a:lnTo>
                    <a:pt x="286" y="1919"/>
                  </a:lnTo>
                  <a:lnTo>
                    <a:pt x="260" y="2135"/>
                  </a:lnTo>
                  <a:lnTo>
                    <a:pt x="180" y="2135"/>
                  </a:lnTo>
                  <a:lnTo>
                    <a:pt x="149" y="1958"/>
                  </a:lnTo>
                  <a:lnTo>
                    <a:pt x="74" y="1958"/>
                  </a:lnTo>
                  <a:lnTo>
                    <a:pt x="44" y="2148"/>
                  </a:lnTo>
                  <a:lnTo>
                    <a:pt x="0" y="2197"/>
                  </a:lnTo>
                  <a:lnTo>
                    <a:pt x="163" y="2457"/>
                  </a:lnTo>
                  <a:lnTo>
                    <a:pt x="277" y="2470"/>
                  </a:lnTo>
                  <a:lnTo>
                    <a:pt x="489" y="2660"/>
                  </a:lnTo>
                  <a:lnTo>
                    <a:pt x="674" y="2682"/>
                  </a:lnTo>
                  <a:lnTo>
                    <a:pt x="780" y="2580"/>
                  </a:lnTo>
                  <a:lnTo>
                    <a:pt x="1031" y="2201"/>
                  </a:lnTo>
                  <a:lnTo>
                    <a:pt x="1053" y="2708"/>
                  </a:lnTo>
                  <a:lnTo>
                    <a:pt x="1031" y="3008"/>
                  </a:lnTo>
                  <a:lnTo>
                    <a:pt x="3149" y="3008"/>
                  </a:lnTo>
                  <a:lnTo>
                    <a:pt x="2990" y="2682"/>
                  </a:lnTo>
                  <a:lnTo>
                    <a:pt x="2915" y="2404"/>
                  </a:lnTo>
                  <a:lnTo>
                    <a:pt x="2898" y="1985"/>
                  </a:lnTo>
                  <a:lnTo>
                    <a:pt x="3021" y="2082"/>
                  </a:lnTo>
                  <a:lnTo>
                    <a:pt x="3149" y="2082"/>
                  </a:lnTo>
                  <a:lnTo>
                    <a:pt x="3321" y="1972"/>
                  </a:lnTo>
                  <a:lnTo>
                    <a:pt x="3436" y="1958"/>
                  </a:lnTo>
                  <a:lnTo>
                    <a:pt x="3511" y="1848"/>
                  </a:lnTo>
                  <a:lnTo>
                    <a:pt x="3559" y="1566"/>
                  </a:lnTo>
                  <a:lnTo>
                    <a:pt x="3665" y="1446"/>
                  </a:lnTo>
                  <a:lnTo>
                    <a:pt x="3616" y="1362"/>
                  </a:lnTo>
                  <a:lnTo>
                    <a:pt x="3533" y="1362"/>
                  </a:lnTo>
                  <a:lnTo>
                    <a:pt x="3475" y="1419"/>
                  </a:lnTo>
                  <a:lnTo>
                    <a:pt x="3405" y="1437"/>
                  </a:lnTo>
                  <a:lnTo>
                    <a:pt x="3334" y="1362"/>
                  </a:lnTo>
                  <a:lnTo>
                    <a:pt x="3242" y="1353"/>
                  </a:lnTo>
                  <a:lnTo>
                    <a:pt x="3078" y="1247"/>
                  </a:lnTo>
                  <a:lnTo>
                    <a:pt x="2968" y="1124"/>
                  </a:lnTo>
                  <a:lnTo>
                    <a:pt x="2955" y="992"/>
                  </a:lnTo>
                  <a:lnTo>
                    <a:pt x="2968" y="859"/>
                  </a:lnTo>
                  <a:lnTo>
                    <a:pt x="3039" y="754"/>
                  </a:lnTo>
                  <a:lnTo>
                    <a:pt x="3131" y="652"/>
                  </a:lnTo>
                  <a:lnTo>
                    <a:pt x="3123" y="489"/>
                  </a:lnTo>
                  <a:lnTo>
                    <a:pt x="3123" y="357"/>
                  </a:lnTo>
                  <a:lnTo>
                    <a:pt x="3078" y="273"/>
                  </a:lnTo>
                  <a:lnTo>
                    <a:pt x="2955" y="224"/>
                  </a:lnTo>
                  <a:lnTo>
                    <a:pt x="2907" y="202"/>
                  </a:lnTo>
                  <a:lnTo>
                    <a:pt x="2827" y="48"/>
                  </a:lnTo>
                  <a:lnTo>
                    <a:pt x="2752" y="13"/>
                  </a:lnTo>
                  <a:lnTo>
                    <a:pt x="2677" y="0"/>
                  </a:lnTo>
                  <a:lnTo>
                    <a:pt x="2611" y="26"/>
                  </a:lnTo>
                  <a:lnTo>
                    <a:pt x="2554" y="105"/>
                  </a:lnTo>
                  <a:lnTo>
                    <a:pt x="2474" y="149"/>
                  </a:lnTo>
                  <a:lnTo>
                    <a:pt x="2391" y="171"/>
                  </a:lnTo>
                  <a:lnTo>
                    <a:pt x="2285" y="171"/>
                  </a:lnTo>
                  <a:lnTo>
                    <a:pt x="2307" y="317"/>
                  </a:lnTo>
                  <a:lnTo>
                    <a:pt x="2307" y="502"/>
                  </a:lnTo>
                  <a:lnTo>
                    <a:pt x="2285" y="626"/>
                  </a:lnTo>
                  <a:lnTo>
                    <a:pt x="2197" y="776"/>
                  </a:lnTo>
                  <a:lnTo>
                    <a:pt x="2077" y="1001"/>
                  </a:lnTo>
                  <a:lnTo>
                    <a:pt x="1994" y="1274"/>
                  </a:lnTo>
                  <a:lnTo>
                    <a:pt x="1985" y="1437"/>
                  </a:lnTo>
                  <a:lnTo>
                    <a:pt x="1936" y="1575"/>
                  </a:lnTo>
                  <a:lnTo>
                    <a:pt x="1888" y="1711"/>
                  </a:lnTo>
                  <a:lnTo>
                    <a:pt x="1861" y="1932"/>
                  </a:lnTo>
                  <a:lnTo>
                    <a:pt x="1875" y="2113"/>
                  </a:lnTo>
                  <a:lnTo>
                    <a:pt x="1936" y="2324"/>
                  </a:lnTo>
                  <a:lnTo>
                    <a:pt x="1985" y="2404"/>
                  </a:lnTo>
                  <a:lnTo>
                    <a:pt x="1861" y="2483"/>
                  </a:lnTo>
                  <a:lnTo>
                    <a:pt x="1710" y="2523"/>
                  </a:lnTo>
                  <a:lnTo>
                    <a:pt x="1547" y="2549"/>
                  </a:lnTo>
                  <a:lnTo>
                    <a:pt x="1450" y="2549"/>
                  </a:lnTo>
                  <a:lnTo>
                    <a:pt x="1380" y="2518"/>
                  </a:lnTo>
                  <a:lnTo>
                    <a:pt x="1380" y="2338"/>
                  </a:lnTo>
                  <a:lnTo>
                    <a:pt x="1380" y="2073"/>
                  </a:lnTo>
                  <a:lnTo>
                    <a:pt x="1344" y="1813"/>
                  </a:lnTo>
                  <a:lnTo>
                    <a:pt x="1274" y="1575"/>
                  </a:lnTo>
                  <a:lnTo>
                    <a:pt x="1239" y="1389"/>
                  </a:lnTo>
                  <a:lnTo>
                    <a:pt x="1234" y="1120"/>
                  </a:lnTo>
                  <a:lnTo>
                    <a:pt x="1274" y="886"/>
                  </a:lnTo>
                  <a:lnTo>
                    <a:pt x="1344" y="705"/>
                  </a:lnTo>
                  <a:lnTo>
                    <a:pt x="1349" y="586"/>
                  </a:lnTo>
                  <a:lnTo>
                    <a:pt x="1322" y="432"/>
                  </a:lnTo>
                  <a:lnTo>
                    <a:pt x="1322" y="304"/>
                  </a:lnTo>
                  <a:lnTo>
                    <a:pt x="1344" y="273"/>
                  </a:lnTo>
                  <a:lnTo>
                    <a:pt x="1322" y="25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4" name=""/>
            <p:cNvSpPr/>
            <p:nvPr/>
          </p:nvSpPr>
          <p:spPr>
            <a:xfrm>
              <a:off x="1646280" y="1190520"/>
              <a:ext cx="163800" cy="703800"/>
            </a:xfrm>
            <a:custGeom>
              <a:avLst/>
              <a:gdLst/>
              <a:ahLst/>
              <a:rect l="0" t="0" r="r" b="b"/>
              <a:pathLst>
                <a:path w="455" h="1955">
                  <a:moveTo>
                    <a:pt x="180" y="22"/>
                  </a:moveTo>
                  <a:lnTo>
                    <a:pt x="57" y="88"/>
                  </a:lnTo>
                  <a:lnTo>
                    <a:pt x="66" y="273"/>
                  </a:lnTo>
                  <a:lnTo>
                    <a:pt x="158" y="326"/>
                  </a:lnTo>
                  <a:lnTo>
                    <a:pt x="48" y="534"/>
                  </a:lnTo>
                  <a:lnTo>
                    <a:pt x="0" y="759"/>
                  </a:lnTo>
                  <a:lnTo>
                    <a:pt x="0" y="975"/>
                  </a:lnTo>
                  <a:lnTo>
                    <a:pt x="48" y="1169"/>
                  </a:lnTo>
                  <a:lnTo>
                    <a:pt x="97" y="1412"/>
                  </a:lnTo>
                  <a:lnTo>
                    <a:pt x="97" y="1549"/>
                  </a:lnTo>
                  <a:lnTo>
                    <a:pt x="48" y="1717"/>
                  </a:lnTo>
                  <a:lnTo>
                    <a:pt x="234" y="1955"/>
                  </a:lnTo>
                  <a:lnTo>
                    <a:pt x="314" y="1920"/>
                  </a:lnTo>
                  <a:lnTo>
                    <a:pt x="362" y="1752"/>
                  </a:lnTo>
                  <a:lnTo>
                    <a:pt x="450" y="1536"/>
                  </a:lnTo>
                  <a:lnTo>
                    <a:pt x="455" y="1425"/>
                  </a:lnTo>
                  <a:lnTo>
                    <a:pt x="389" y="1209"/>
                  </a:lnTo>
                  <a:lnTo>
                    <a:pt x="300" y="1002"/>
                  </a:lnTo>
                  <a:lnTo>
                    <a:pt x="269" y="847"/>
                  </a:lnTo>
                  <a:lnTo>
                    <a:pt x="269" y="710"/>
                  </a:lnTo>
                  <a:lnTo>
                    <a:pt x="300" y="587"/>
                  </a:lnTo>
                  <a:lnTo>
                    <a:pt x="362" y="427"/>
                  </a:lnTo>
                  <a:lnTo>
                    <a:pt x="362" y="366"/>
                  </a:lnTo>
                  <a:lnTo>
                    <a:pt x="327" y="299"/>
                  </a:lnTo>
                  <a:lnTo>
                    <a:pt x="415" y="220"/>
                  </a:lnTo>
                  <a:lnTo>
                    <a:pt x="415" y="145"/>
                  </a:lnTo>
                  <a:lnTo>
                    <a:pt x="300" y="0"/>
                  </a:lnTo>
                  <a:lnTo>
                    <a:pt x="397" y="145"/>
                  </a:lnTo>
                  <a:lnTo>
                    <a:pt x="397" y="211"/>
                  </a:lnTo>
                  <a:lnTo>
                    <a:pt x="309" y="273"/>
                  </a:lnTo>
                  <a:lnTo>
                    <a:pt x="340" y="366"/>
                  </a:lnTo>
                  <a:lnTo>
                    <a:pt x="327" y="427"/>
                  </a:lnTo>
                  <a:lnTo>
                    <a:pt x="247" y="609"/>
                  </a:lnTo>
                  <a:lnTo>
                    <a:pt x="234" y="785"/>
                  </a:lnTo>
                  <a:lnTo>
                    <a:pt x="256" y="949"/>
                  </a:lnTo>
                  <a:lnTo>
                    <a:pt x="314" y="1191"/>
                  </a:lnTo>
                  <a:lnTo>
                    <a:pt x="389" y="1368"/>
                  </a:lnTo>
                  <a:lnTo>
                    <a:pt x="389" y="1527"/>
                  </a:lnTo>
                  <a:lnTo>
                    <a:pt x="340" y="1717"/>
                  </a:lnTo>
                  <a:lnTo>
                    <a:pt x="256" y="1920"/>
                  </a:lnTo>
                  <a:lnTo>
                    <a:pt x="149" y="1809"/>
                  </a:lnTo>
                  <a:lnTo>
                    <a:pt x="110" y="1717"/>
                  </a:lnTo>
                  <a:lnTo>
                    <a:pt x="119" y="1527"/>
                  </a:lnTo>
                  <a:lnTo>
                    <a:pt x="110" y="1332"/>
                  </a:lnTo>
                  <a:lnTo>
                    <a:pt x="48" y="1072"/>
                  </a:lnTo>
                  <a:lnTo>
                    <a:pt x="30" y="900"/>
                  </a:lnTo>
                  <a:lnTo>
                    <a:pt x="48" y="697"/>
                  </a:lnTo>
                  <a:lnTo>
                    <a:pt x="97" y="508"/>
                  </a:lnTo>
                  <a:lnTo>
                    <a:pt x="189" y="313"/>
                  </a:lnTo>
                  <a:lnTo>
                    <a:pt x="110" y="233"/>
                  </a:lnTo>
                  <a:lnTo>
                    <a:pt x="97" y="97"/>
                  </a:lnTo>
                  <a:lnTo>
                    <a:pt x="180" y="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05" name=""/>
            <p:cNvSpPr/>
            <p:nvPr/>
          </p:nvSpPr>
          <p:spPr>
            <a:xfrm>
              <a:off x="2119320" y="368280"/>
              <a:ext cx="263880" cy="343440"/>
            </a:xfrm>
            <a:custGeom>
              <a:avLst/>
              <a:gdLst/>
              <a:ahLst/>
              <a:rect l="0" t="0" r="r" b="b"/>
              <a:pathLst>
                <a:path w="733" h="954">
                  <a:moveTo>
                    <a:pt x="123" y="243"/>
                  </a:moveTo>
                  <a:lnTo>
                    <a:pt x="229" y="224"/>
                  </a:lnTo>
                  <a:lnTo>
                    <a:pt x="335" y="229"/>
                  </a:lnTo>
                  <a:lnTo>
                    <a:pt x="419" y="274"/>
                  </a:lnTo>
                  <a:lnTo>
                    <a:pt x="472" y="322"/>
                  </a:lnTo>
                  <a:lnTo>
                    <a:pt x="490" y="367"/>
                  </a:lnTo>
                  <a:lnTo>
                    <a:pt x="490" y="419"/>
                  </a:lnTo>
                  <a:lnTo>
                    <a:pt x="468" y="450"/>
                  </a:lnTo>
                  <a:lnTo>
                    <a:pt x="415" y="472"/>
                  </a:lnTo>
                  <a:lnTo>
                    <a:pt x="367" y="472"/>
                  </a:lnTo>
                  <a:lnTo>
                    <a:pt x="295" y="464"/>
                  </a:lnTo>
                  <a:lnTo>
                    <a:pt x="233" y="424"/>
                  </a:lnTo>
                  <a:lnTo>
                    <a:pt x="180" y="389"/>
                  </a:lnTo>
                  <a:lnTo>
                    <a:pt x="158" y="512"/>
                  </a:lnTo>
                  <a:lnTo>
                    <a:pt x="123" y="600"/>
                  </a:lnTo>
                  <a:lnTo>
                    <a:pt x="0" y="804"/>
                  </a:lnTo>
                  <a:lnTo>
                    <a:pt x="176" y="954"/>
                  </a:lnTo>
                  <a:lnTo>
                    <a:pt x="313" y="697"/>
                  </a:lnTo>
                  <a:lnTo>
                    <a:pt x="468" y="720"/>
                  </a:lnTo>
                  <a:lnTo>
                    <a:pt x="561" y="702"/>
                  </a:lnTo>
                  <a:lnTo>
                    <a:pt x="649" y="640"/>
                  </a:lnTo>
                  <a:lnTo>
                    <a:pt x="706" y="565"/>
                  </a:lnTo>
                  <a:lnTo>
                    <a:pt x="733" y="464"/>
                  </a:lnTo>
                  <a:lnTo>
                    <a:pt x="733" y="362"/>
                  </a:lnTo>
                  <a:lnTo>
                    <a:pt x="706" y="252"/>
                  </a:lnTo>
                  <a:lnTo>
                    <a:pt x="644" y="145"/>
                  </a:lnTo>
                  <a:lnTo>
                    <a:pt x="574" y="66"/>
                  </a:lnTo>
                  <a:lnTo>
                    <a:pt x="477" y="22"/>
                  </a:lnTo>
                  <a:lnTo>
                    <a:pt x="371" y="0"/>
                  </a:lnTo>
                  <a:lnTo>
                    <a:pt x="242" y="0"/>
                  </a:lnTo>
                  <a:lnTo>
                    <a:pt x="97" y="26"/>
                  </a:lnTo>
                  <a:lnTo>
                    <a:pt x="123" y="243"/>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a:off x="2071800" y="700200"/>
              <a:ext cx="95760" cy="68760"/>
            </a:xfrm>
            <a:custGeom>
              <a:avLst/>
              <a:gdLst/>
              <a:ahLst/>
              <a:rect l="0" t="0" r="r" b="b"/>
              <a:pathLst>
                <a:path w="266" h="191">
                  <a:moveTo>
                    <a:pt x="106" y="0"/>
                  </a:moveTo>
                  <a:lnTo>
                    <a:pt x="35" y="0"/>
                  </a:lnTo>
                  <a:lnTo>
                    <a:pt x="0" y="26"/>
                  </a:lnTo>
                  <a:lnTo>
                    <a:pt x="0" y="98"/>
                  </a:lnTo>
                  <a:lnTo>
                    <a:pt x="52" y="165"/>
                  </a:lnTo>
                  <a:lnTo>
                    <a:pt x="159" y="191"/>
                  </a:lnTo>
                  <a:lnTo>
                    <a:pt x="240" y="187"/>
                  </a:lnTo>
                  <a:lnTo>
                    <a:pt x="266" y="142"/>
                  </a:lnTo>
                  <a:lnTo>
                    <a:pt x="253" y="102"/>
                  </a:lnTo>
                  <a:lnTo>
                    <a:pt x="218" y="44"/>
                  </a:lnTo>
                  <a:lnTo>
                    <a:pt x="146" y="8"/>
                  </a:lnTo>
                  <a:lnTo>
                    <a:pt x="106" y="0"/>
                  </a:lnTo>
                  <a:close/>
                </a:path>
              </a:pathLst>
            </a:custGeom>
            <a:solidFill>
              <a:srgbClr val="fc0128"/>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07" name=""/>
          <p:cNvSpPr txBox="1"/>
          <p:nvPr/>
        </p:nvSpPr>
        <p:spPr>
          <a:xfrm>
            <a:off x="1295280" y="2819520"/>
            <a:ext cx="7315200" cy="304812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5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200" spc="-1" strike="noStrike">
                <a:solidFill>
                  <a:srgbClr val="fcffd8"/>
                </a:solidFill>
                <a:latin typeface="Arial"/>
                <a:ea typeface="Arial"/>
              </a:rPr>
              <a:t>State the effects of inventory methods and misstatements of inventory on income determination and income taxes.</a:t>
            </a:r>
            <a:endParaRPr b="0" lang="en-US" sz="3200" spc="-1" strike="noStrike">
              <a:solidFill>
                <a:srgbClr val="ffffff"/>
              </a:solidFill>
              <a:latin typeface="Arial"/>
            </a:endParaRPr>
          </a:p>
        </p:txBody>
      </p:sp>
      <p:sp>
        <p:nvSpPr>
          <p:cNvPr id="708" name=""/>
          <p:cNvSpPr txBox="1"/>
          <p:nvPr/>
        </p:nvSpPr>
        <p:spPr>
          <a:xfrm>
            <a:off x="838080" y="533520"/>
            <a:ext cx="8001000" cy="1981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mparison and Impact of Inventory Decisions and Misstatements</a:t>
            </a:r>
            <a:endParaRPr b="0" lang="en-US" sz="4400" spc="-1" strike="noStrike">
              <a:solidFill>
                <a:srgbClr val="ffffff"/>
              </a:solidFill>
              <a:latin typeface="Arial"/>
            </a:endParaRPr>
          </a:p>
        </p:txBody>
      </p:sp>
      <p:pic>
        <p:nvPicPr>
          <p:cNvPr id="709" name="" descr=""/>
          <p:cNvPicPr/>
          <p:nvPr/>
        </p:nvPicPr>
        <p:blipFill>
          <a:blip r:embed="rId1"/>
          <a:stretch/>
        </p:blipFill>
        <p:spPr>
          <a:xfrm>
            <a:off x="0" y="0"/>
            <a:ext cx="863640" cy="7035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10" name=""/>
          <p:cNvSpPr txBox="1"/>
          <p:nvPr/>
        </p:nvSpPr>
        <p:spPr>
          <a:xfrm>
            <a:off x="1528920" y="533520"/>
            <a:ext cx="670068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ffects of Inventory </a:t>
            </a:r>
            <a:br>
              <a:rPr sz="4400"/>
            </a:br>
            <a:r>
              <a:rPr b="1" lang="en-US" sz="4400" spc="-1" strike="noStrike">
                <a:solidFill>
                  <a:srgbClr val="ffcc66"/>
                </a:solidFill>
                <a:latin typeface="Arial"/>
                <a:ea typeface="Arial"/>
              </a:rPr>
              <a:t>Systems and Methods</a:t>
            </a:r>
            <a:endParaRPr b="0" lang="en-US" sz="4400" spc="-1" strike="noStrike">
              <a:solidFill>
                <a:srgbClr val="ffffff"/>
              </a:solidFill>
              <a:latin typeface="Arial"/>
            </a:endParaRPr>
          </a:p>
        </p:txBody>
      </p:sp>
      <p:sp>
        <p:nvSpPr>
          <p:cNvPr id="711" name=""/>
          <p:cNvSpPr txBox="1"/>
          <p:nvPr/>
        </p:nvSpPr>
        <p:spPr>
          <a:xfrm>
            <a:off x="1752480" y="2057400"/>
            <a:ext cx="6477120" cy="3733920"/>
          </a:xfrm>
          <a:prstGeom prst="rect">
            <a:avLst/>
          </a:prstGeom>
          <a:noFill/>
          <a:ln w="0">
            <a:noFill/>
          </a:ln>
        </p:spPr>
        <p:txBody>
          <a:bodyPr lIns="0" rIns="0" tIns="0" bIns="0" anchor="t">
            <a:noAutofit/>
          </a:bodyPr>
          <a:p>
            <a:pPr marL="343080" indent="-343080">
              <a:lnSpc>
                <a:spcPct val="130000"/>
              </a:lnSpc>
              <a:spcBef>
                <a:spcPts val="479"/>
              </a:spcBef>
              <a:buClr>
                <a:srgbClr val="ffcc66"/>
              </a:buClr>
              <a:buFont typeface="Monotype Sorts"/>
              <a:buChar char=""/>
            </a:pPr>
            <a:r>
              <a:rPr b="1" lang="en-US" sz="3200" spc="-1" strike="noStrike">
                <a:solidFill>
                  <a:srgbClr val="fcffd8"/>
                </a:solidFill>
                <a:latin typeface="Arial"/>
                <a:ea typeface="Arial"/>
              </a:rPr>
              <a:t>Periodic inventory system. </a:t>
            </a:r>
            <a:br>
              <a:rPr sz="3200"/>
            </a:br>
            <a:r>
              <a:rPr b="1" lang="en-US" sz="3200" spc="-1" strike="noStrike">
                <a:solidFill>
                  <a:srgbClr val="fcffd8"/>
                </a:solidFill>
                <a:latin typeface="Arial"/>
                <a:ea typeface="Arial"/>
              </a:rPr>
              <a:t>Gross margin by method:</a:t>
            </a:r>
            <a:endParaRPr b="0" lang="en-US" sz="32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3200" spc="-1" strike="noStrike">
                <a:solidFill>
                  <a:srgbClr val="fcffd8"/>
                </a:solidFill>
                <a:latin typeface="Arial"/>
                <a:ea typeface="Arial"/>
              </a:rPr>
              <a:t>Average-Cost           $150</a:t>
            </a:r>
            <a:endParaRPr b="0" lang="en-US" sz="32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3200" spc="-1" strike="noStrike">
                <a:solidFill>
                  <a:srgbClr val="fcffd8"/>
                </a:solidFill>
                <a:latin typeface="Arial"/>
                <a:ea typeface="Arial"/>
              </a:rPr>
              <a:t>FIFO</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176</a:t>
            </a:r>
            <a:endParaRPr b="0" lang="en-US" sz="32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3200" spc="-1" strike="noStrike">
                <a:solidFill>
                  <a:srgbClr val="fcffd8"/>
                </a:solidFill>
                <a:latin typeface="Arial"/>
                <a:ea typeface="Arial"/>
              </a:rPr>
              <a:t>LIFO</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124</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12" name=""/>
          <p:cNvSpPr txBox="1"/>
          <p:nvPr/>
        </p:nvSpPr>
        <p:spPr>
          <a:xfrm>
            <a:off x="1447920" y="533520"/>
            <a:ext cx="6777000" cy="1523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ffects of Inventory </a:t>
            </a:r>
            <a:br>
              <a:rPr sz="4400"/>
            </a:br>
            <a:r>
              <a:rPr b="1" lang="en-US" sz="4400" spc="-1" strike="noStrike">
                <a:solidFill>
                  <a:srgbClr val="ffcc66"/>
                </a:solidFill>
                <a:latin typeface="Arial"/>
                <a:ea typeface="Arial"/>
              </a:rPr>
              <a:t>Systems and Methods</a:t>
            </a:r>
            <a:endParaRPr b="0" lang="en-US" sz="4400" spc="-1" strike="noStrike">
              <a:solidFill>
                <a:srgbClr val="ffffff"/>
              </a:solidFill>
              <a:latin typeface="Arial"/>
            </a:endParaRPr>
          </a:p>
        </p:txBody>
      </p:sp>
      <p:sp>
        <p:nvSpPr>
          <p:cNvPr id="713" name=""/>
          <p:cNvSpPr txBox="1"/>
          <p:nvPr/>
        </p:nvSpPr>
        <p:spPr>
          <a:xfrm>
            <a:off x="1752480" y="2133720"/>
            <a:ext cx="6629400" cy="3809880"/>
          </a:xfrm>
          <a:prstGeom prst="rect">
            <a:avLst/>
          </a:prstGeom>
          <a:noFill/>
          <a:ln w="0">
            <a:noFill/>
          </a:ln>
        </p:spPr>
        <p:txBody>
          <a:bodyPr lIns="0" rIns="0" tIns="0" bIns="0" anchor="t">
            <a:noAutofit/>
          </a:bodyPr>
          <a:p>
            <a:pPr marL="343080" indent="-343080">
              <a:lnSpc>
                <a:spcPct val="130000"/>
              </a:lnSpc>
              <a:spcBef>
                <a:spcPts val="479"/>
              </a:spcBef>
              <a:buClr>
                <a:srgbClr val="ffcc66"/>
              </a:buClr>
              <a:buFont typeface="Monotype Sorts"/>
              <a:buChar char=""/>
            </a:pPr>
            <a:r>
              <a:rPr b="1" lang="en-US" sz="3200" spc="-1" strike="noStrike">
                <a:solidFill>
                  <a:srgbClr val="fcffd8"/>
                </a:solidFill>
                <a:latin typeface="Arial"/>
                <a:ea typeface="Arial"/>
              </a:rPr>
              <a:t>Perpetual inventory system. </a:t>
            </a:r>
            <a:br>
              <a:rPr sz="3200"/>
            </a:br>
            <a:r>
              <a:rPr b="1" lang="en-US" sz="3200" spc="-1" strike="noStrike">
                <a:solidFill>
                  <a:srgbClr val="fcffd8"/>
                </a:solidFill>
                <a:latin typeface="Arial"/>
                <a:ea typeface="Arial"/>
              </a:rPr>
              <a:t>Gross margin by method:</a:t>
            </a:r>
            <a:endParaRPr b="0" lang="en-US" sz="32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3200" spc="-1" strike="noStrike">
                <a:solidFill>
                  <a:srgbClr val="fcffd8"/>
                </a:solidFill>
                <a:latin typeface="Arial"/>
                <a:ea typeface="Arial"/>
              </a:rPr>
              <a:t>Average-Cost           $158</a:t>
            </a:r>
            <a:endParaRPr b="0" lang="en-US" sz="32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3200" spc="-1" strike="noStrike">
                <a:solidFill>
                  <a:srgbClr val="fcffd8"/>
                </a:solidFill>
                <a:latin typeface="Arial"/>
                <a:ea typeface="Arial"/>
              </a:rPr>
              <a:t>FIFO</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176</a:t>
            </a:r>
            <a:endParaRPr b="0" lang="en-US" sz="32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3200" spc="-1" strike="noStrike">
                <a:solidFill>
                  <a:srgbClr val="fcffd8"/>
                </a:solidFill>
                <a:latin typeface="Arial"/>
                <a:ea typeface="Arial"/>
              </a:rPr>
              <a:t>LIFO</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13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14" name=""/>
          <p:cNvSpPr txBox="1"/>
          <p:nvPr/>
        </p:nvSpPr>
        <p:spPr>
          <a:xfrm>
            <a:off x="914400" y="304920"/>
            <a:ext cx="784872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ffects on the </a:t>
            </a:r>
            <a:br>
              <a:rPr sz="4400"/>
            </a:br>
            <a:r>
              <a:rPr b="1" lang="en-US" sz="4400" spc="-1" strike="noStrike">
                <a:solidFill>
                  <a:srgbClr val="ffcc66"/>
                </a:solidFill>
                <a:latin typeface="Arial"/>
                <a:ea typeface="Arial"/>
              </a:rPr>
              <a:t>Financial Statements</a:t>
            </a:r>
            <a:endParaRPr b="0" lang="en-US" sz="4400" spc="-1" strike="noStrike">
              <a:solidFill>
                <a:srgbClr val="ffffff"/>
              </a:solidFill>
              <a:latin typeface="Arial"/>
            </a:endParaRPr>
          </a:p>
        </p:txBody>
      </p:sp>
      <p:sp>
        <p:nvSpPr>
          <p:cNvPr id="715" name=""/>
          <p:cNvSpPr txBox="1"/>
          <p:nvPr/>
        </p:nvSpPr>
        <p:spPr>
          <a:xfrm>
            <a:off x="838080" y="1600200"/>
            <a:ext cx="8001000" cy="48006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Each of the four methods of inventory pricing is acceptable for use in published financial statement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hoose one over the other after considering:</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The trend of prices.</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The effects on the financial statements.</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Income taxes and management decis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16" name=""/>
          <p:cNvSpPr txBox="1"/>
          <p:nvPr/>
        </p:nvSpPr>
        <p:spPr>
          <a:xfrm>
            <a:off x="990720" y="685800"/>
            <a:ext cx="7648560" cy="914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IFO</a:t>
            </a:r>
            <a:endParaRPr b="0" lang="en-US" sz="4400" spc="-1" strike="noStrike">
              <a:solidFill>
                <a:srgbClr val="ffffff"/>
              </a:solidFill>
              <a:latin typeface="Arial"/>
            </a:endParaRPr>
          </a:p>
        </p:txBody>
      </p:sp>
      <p:sp>
        <p:nvSpPr>
          <p:cNvPr id="717" name=""/>
          <p:cNvSpPr txBox="1"/>
          <p:nvPr/>
        </p:nvSpPr>
        <p:spPr>
          <a:xfrm>
            <a:off x="1143000" y="1828800"/>
            <a:ext cx="7620120" cy="3429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s best for the income statement because it matches revenues with cost of goods sold.</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s not the best measure of value of inventory for balance sheet purpo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18" name=""/>
          <p:cNvSpPr txBox="1"/>
          <p:nvPr/>
        </p:nvSpPr>
        <p:spPr>
          <a:xfrm>
            <a:off x="1447920" y="1752480"/>
            <a:ext cx="7238880" cy="41148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s better for the balance sheet because inventory is closest to current value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Does not provide as good a matching of current costs and revenues for income statement purposes.</a:t>
            </a:r>
            <a:endParaRPr b="0" lang="en-US" sz="3200" spc="-1" strike="noStrike">
              <a:solidFill>
                <a:srgbClr val="ffffff"/>
              </a:solidFill>
              <a:latin typeface="Arial"/>
            </a:endParaRPr>
          </a:p>
        </p:txBody>
      </p:sp>
      <p:sp>
        <p:nvSpPr>
          <p:cNvPr id="719" name=""/>
          <p:cNvSpPr txBox="1"/>
          <p:nvPr/>
        </p:nvSpPr>
        <p:spPr>
          <a:xfrm>
            <a:off x="9144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FIFO</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6" name=""/>
          <p:cNvSpPr txBox="1"/>
          <p:nvPr/>
        </p:nvSpPr>
        <p:spPr>
          <a:xfrm>
            <a:off x="1066680" y="457200"/>
            <a:ext cx="762012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Management</a:t>
            </a:r>
            <a:endParaRPr b="0" lang="en-US" sz="4400" spc="-1" strike="noStrike">
              <a:solidFill>
                <a:srgbClr val="ffffff"/>
              </a:solidFill>
              <a:latin typeface="Arial"/>
            </a:endParaRPr>
          </a:p>
        </p:txBody>
      </p:sp>
      <p:sp>
        <p:nvSpPr>
          <p:cNvPr id="57" name=""/>
          <p:cNvSpPr txBox="1"/>
          <p:nvPr/>
        </p:nvSpPr>
        <p:spPr>
          <a:xfrm>
            <a:off x="1066680" y="1676520"/>
            <a:ext cx="7696080" cy="31240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Must have the correct merchandise at the correct location at the right time.</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Must minimize cost and maximize qual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20" name=""/>
          <p:cNvSpPr txBox="1"/>
          <p:nvPr/>
        </p:nvSpPr>
        <p:spPr>
          <a:xfrm>
            <a:off x="1371600" y="152280"/>
            <a:ext cx="7010280" cy="838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ffects on Income Taxes</a:t>
            </a:r>
            <a:endParaRPr b="0" lang="en-US" sz="4400" spc="-1" strike="noStrike">
              <a:solidFill>
                <a:srgbClr val="ffffff"/>
              </a:solidFill>
              <a:latin typeface="Arial"/>
            </a:endParaRPr>
          </a:p>
        </p:txBody>
      </p:sp>
      <p:sp>
        <p:nvSpPr>
          <p:cNvPr id="721" name=""/>
          <p:cNvSpPr txBox="1"/>
          <p:nvPr/>
        </p:nvSpPr>
        <p:spPr>
          <a:xfrm>
            <a:off x="914400" y="838080"/>
            <a:ext cx="7924680" cy="51814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 business must be consistent in its use of a method once having made a choice.</a:t>
            </a:r>
            <a:endParaRPr b="0" lang="en-US" sz="32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2800" spc="-1" strike="noStrike">
                <a:solidFill>
                  <a:srgbClr val="fcffd8"/>
                </a:solidFill>
                <a:latin typeface="Arial"/>
                <a:ea typeface="Arial"/>
              </a:rPr>
              <a:t>May change if there is a good reason.</a:t>
            </a:r>
            <a:endParaRPr b="0" lang="en-US" sz="28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Using the FIFO and average-cost methods in periods of rising prices may cause a business to report more than their true profit and pay more income taxes.</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 business wants to avoid paying income taxes on inventory profi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22" name=""/>
          <p:cNvSpPr txBox="1"/>
          <p:nvPr/>
        </p:nvSpPr>
        <p:spPr>
          <a:xfrm>
            <a:off x="790560" y="0"/>
            <a:ext cx="812484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ffects on Income Taxes</a:t>
            </a:r>
            <a:endParaRPr b="0" lang="en-US" sz="4400" spc="-1" strike="noStrike">
              <a:solidFill>
                <a:srgbClr val="ffffff"/>
              </a:solidFill>
              <a:latin typeface="Arial"/>
            </a:endParaRPr>
          </a:p>
        </p:txBody>
      </p:sp>
      <p:sp>
        <p:nvSpPr>
          <p:cNvPr id="723" name=""/>
          <p:cNvSpPr txBox="1"/>
          <p:nvPr/>
        </p:nvSpPr>
        <p:spPr>
          <a:xfrm>
            <a:off x="838080" y="914400"/>
            <a:ext cx="8077320" cy="51814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 business that uses LIFO over a period of rising prices may find that for balance sheet purposes, its inventory is valued at a cost far below what it currently pays for the same items.</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Management must monitor this situation carefully because if it lets the inventory quantity at year end fall below the beginning-of-the-year level, the company will pay higher income tax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24" name=""/>
          <p:cNvSpPr txBox="1"/>
          <p:nvPr/>
        </p:nvSpPr>
        <p:spPr>
          <a:xfrm>
            <a:off x="360360" y="152280"/>
            <a:ext cx="8783640" cy="942840"/>
          </a:xfrm>
          <a:prstGeom prst="rect">
            <a:avLst/>
          </a:prstGeom>
          <a:noFill/>
          <a:ln w="0">
            <a:noFill/>
          </a:ln>
        </p:spPr>
        <p:txBody>
          <a:bodyPr lIns="0" rIns="0" tIns="0" bIns="0" anchor="t">
            <a:noAutofit/>
          </a:bodyPr>
          <a:p>
            <a:pPr algn="ctr">
              <a:lnSpc>
                <a:spcPct val="100000"/>
              </a:lnSpc>
            </a:pPr>
            <a:r>
              <a:rPr b="1" lang="en-US" sz="2800" spc="-1" strike="noStrike">
                <a:solidFill>
                  <a:srgbClr val="ffcc66"/>
                </a:solidFill>
                <a:latin typeface="Arial"/>
                <a:ea typeface="Arial"/>
              </a:rPr>
              <a:t>Inventory Costing Methods Used by</a:t>
            </a:r>
            <a:endParaRPr b="0" lang="en-US" sz="2800" spc="-1" strike="noStrike">
              <a:solidFill>
                <a:srgbClr val="ffffff"/>
              </a:solidFill>
              <a:latin typeface="Arial"/>
            </a:endParaRPr>
          </a:p>
          <a:p>
            <a:pPr algn="ctr">
              <a:lnSpc>
                <a:spcPct val="100000"/>
              </a:lnSpc>
            </a:pPr>
            <a:r>
              <a:rPr b="1" lang="en-US" sz="2800" spc="-1" strike="noStrike">
                <a:solidFill>
                  <a:srgbClr val="ffcc66"/>
                </a:solidFill>
                <a:latin typeface="Arial"/>
                <a:ea typeface="Arial"/>
              </a:rPr>
              <a:t>600 Large Companies</a:t>
            </a:r>
            <a:endParaRPr b="0" lang="en-US" sz="2800" spc="-1" strike="noStrike">
              <a:solidFill>
                <a:srgbClr val="ffffff"/>
              </a:solidFill>
              <a:latin typeface="Arial"/>
            </a:endParaRPr>
          </a:p>
        </p:txBody>
      </p:sp>
      <p:grpSp>
        <p:nvGrpSpPr>
          <p:cNvPr id="725" name=""/>
          <p:cNvGrpSpPr/>
          <p:nvPr/>
        </p:nvGrpSpPr>
        <p:grpSpPr>
          <a:xfrm>
            <a:off x="-96840" y="1090440"/>
            <a:ext cx="8942400" cy="5240160"/>
            <a:chOff x="-96840" y="1090440"/>
            <a:chExt cx="8942400" cy="5240160"/>
          </a:xfrm>
        </p:grpSpPr>
        <p:sp>
          <p:nvSpPr>
            <p:cNvPr id="726" name=""/>
            <p:cNvSpPr/>
            <p:nvPr/>
          </p:nvSpPr>
          <p:spPr>
            <a:xfrm>
              <a:off x="674640" y="1090440"/>
              <a:ext cx="8170920" cy="52401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7" name=""/>
            <p:cNvSpPr txBox="1"/>
            <p:nvPr/>
          </p:nvSpPr>
          <p:spPr>
            <a:xfrm>
              <a:off x="2895480" y="5257800"/>
              <a:ext cx="456264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centage of Companies Using Method</a:t>
              </a:r>
              <a:endParaRPr b="0" lang="en-US" sz="1800" spc="-1" strike="noStrike">
                <a:solidFill>
                  <a:srgbClr val="ffffff"/>
                </a:solidFill>
                <a:latin typeface="Arial"/>
              </a:endParaRPr>
            </a:p>
          </p:txBody>
        </p:sp>
        <p:sp>
          <p:nvSpPr>
            <p:cNvPr id="728" name=""/>
            <p:cNvSpPr txBox="1"/>
            <p:nvPr/>
          </p:nvSpPr>
          <p:spPr>
            <a:xfrm>
              <a:off x="1984320" y="4670280"/>
              <a:ext cx="2937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0</a:t>
              </a:r>
              <a:endParaRPr b="0" lang="en-US" sz="1600" spc="-1" strike="noStrike">
                <a:solidFill>
                  <a:srgbClr val="ffffff"/>
                </a:solidFill>
                <a:latin typeface="Arial"/>
              </a:endParaRPr>
            </a:p>
          </p:txBody>
        </p:sp>
        <p:sp>
          <p:nvSpPr>
            <p:cNvPr id="729" name=""/>
            <p:cNvSpPr txBox="1"/>
            <p:nvPr/>
          </p:nvSpPr>
          <p:spPr>
            <a:xfrm>
              <a:off x="2660760" y="4670280"/>
              <a:ext cx="4064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10</a:t>
              </a:r>
              <a:endParaRPr b="0" lang="en-US" sz="1600" spc="-1" strike="noStrike">
                <a:solidFill>
                  <a:srgbClr val="ffffff"/>
                </a:solidFill>
                <a:latin typeface="Arial"/>
              </a:endParaRPr>
            </a:p>
          </p:txBody>
        </p:sp>
        <p:sp>
          <p:nvSpPr>
            <p:cNvPr id="730" name=""/>
            <p:cNvSpPr txBox="1"/>
            <p:nvPr/>
          </p:nvSpPr>
          <p:spPr>
            <a:xfrm>
              <a:off x="3384720" y="4670280"/>
              <a:ext cx="4064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20</a:t>
              </a:r>
              <a:endParaRPr b="0" lang="en-US" sz="1600" spc="-1" strike="noStrike">
                <a:solidFill>
                  <a:srgbClr val="ffffff"/>
                </a:solidFill>
                <a:latin typeface="Arial"/>
              </a:endParaRPr>
            </a:p>
          </p:txBody>
        </p:sp>
        <p:sp>
          <p:nvSpPr>
            <p:cNvPr id="731" name=""/>
            <p:cNvSpPr txBox="1"/>
            <p:nvPr/>
          </p:nvSpPr>
          <p:spPr>
            <a:xfrm>
              <a:off x="4135320" y="4670280"/>
              <a:ext cx="4064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30</a:t>
              </a:r>
              <a:endParaRPr b="0" lang="en-US" sz="1600" spc="-1" strike="noStrike">
                <a:solidFill>
                  <a:srgbClr val="ffffff"/>
                </a:solidFill>
                <a:latin typeface="Arial"/>
              </a:endParaRPr>
            </a:p>
          </p:txBody>
        </p:sp>
        <p:sp>
          <p:nvSpPr>
            <p:cNvPr id="732" name=""/>
            <p:cNvSpPr txBox="1"/>
            <p:nvPr/>
          </p:nvSpPr>
          <p:spPr>
            <a:xfrm>
              <a:off x="4856040" y="4670280"/>
              <a:ext cx="4064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40</a:t>
              </a:r>
              <a:endParaRPr b="0" lang="en-US" sz="1600" spc="-1" strike="noStrike">
                <a:solidFill>
                  <a:srgbClr val="ffffff"/>
                </a:solidFill>
                <a:latin typeface="Arial"/>
              </a:endParaRPr>
            </a:p>
          </p:txBody>
        </p:sp>
        <p:sp>
          <p:nvSpPr>
            <p:cNvPr id="733" name=""/>
            <p:cNvSpPr txBox="1"/>
            <p:nvPr/>
          </p:nvSpPr>
          <p:spPr>
            <a:xfrm>
              <a:off x="5607000" y="4670280"/>
              <a:ext cx="4064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50</a:t>
              </a:r>
              <a:endParaRPr b="0" lang="en-US" sz="1600" spc="-1" strike="noStrike">
                <a:solidFill>
                  <a:srgbClr val="ffffff"/>
                </a:solidFill>
                <a:latin typeface="Arial"/>
              </a:endParaRPr>
            </a:p>
          </p:txBody>
        </p:sp>
        <p:sp>
          <p:nvSpPr>
            <p:cNvPr id="734" name=""/>
            <p:cNvSpPr txBox="1"/>
            <p:nvPr/>
          </p:nvSpPr>
          <p:spPr>
            <a:xfrm>
              <a:off x="-96840" y="3297240"/>
              <a:ext cx="208584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ventory Method</a:t>
              </a:r>
              <a:endParaRPr b="0" lang="en-US" sz="1800" spc="-1" strike="noStrike">
                <a:solidFill>
                  <a:srgbClr val="ffffff"/>
                </a:solidFill>
                <a:latin typeface="Arial"/>
              </a:endParaRPr>
            </a:p>
          </p:txBody>
        </p:sp>
        <p:sp>
          <p:nvSpPr>
            <p:cNvPr id="735" name=""/>
            <p:cNvSpPr txBox="1"/>
            <p:nvPr/>
          </p:nvSpPr>
          <p:spPr>
            <a:xfrm>
              <a:off x="6316560" y="4670280"/>
              <a:ext cx="4064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60</a:t>
              </a:r>
              <a:endParaRPr b="0" lang="en-US" sz="1600" spc="-1" strike="noStrike">
                <a:solidFill>
                  <a:srgbClr val="ffffff"/>
                </a:solidFill>
                <a:latin typeface="Arial"/>
              </a:endParaRPr>
            </a:p>
          </p:txBody>
        </p:sp>
        <p:sp>
          <p:nvSpPr>
            <p:cNvPr id="736" name=""/>
            <p:cNvSpPr txBox="1"/>
            <p:nvPr/>
          </p:nvSpPr>
          <p:spPr>
            <a:xfrm>
              <a:off x="7051680" y="4670280"/>
              <a:ext cx="4064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70</a:t>
              </a:r>
              <a:endParaRPr b="0" lang="en-US" sz="1600" spc="-1" strike="noStrike">
                <a:solidFill>
                  <a:srgbClr val="ffffff"/>
                </a:solidFill>
                <a:latin typeface="Arial"/>
              </a:endParaRPr>
            </a:p>
          </p:txBody>
        </p:sp>
        <p:sp>
          <p:nvSpPr>
            <p:cNvPr id="737" name=""/>
            <p:cNvSpPr txBox="1"/>
            <p:nvPr/>
          </p:nvSpPr>
          <p:spPr>
            <a:xfrm>
              <a:off x="7778880" y="4670280"/>
              <a:ext cx="4064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80</a:t>
              </a:r>
              <a:endParaRPr b="0" lang="en-US" sz="1600" spc="-1" strike="noStrike">
                <a:solidFill>
                  <a:srgbClr val="ffffff"/>
                </a:solidFill>
                <a:latin typeface="Arial"/>
              </a:endParaRPr>
            </a:p>
          </p:txBody>
        </p:sp>
        <p:sp>
          <p:nvSpPr>
            <p:cNvPr id="738" name=""/>
            <p:cNvSpPr/>
            <p:nvPr/>
          </p:nvSpPr>
          <p:spPr>
            <a:xfrm>
              <a:off x="7974000" y="2043000"/>
              <a:ext cx="0" cy="2629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39" name=""/>
            <p:cNvSpPr/>
            <p:nvPr/>
          </p:nvSpPr>
          <p:spPr>
            <a:xfrm>
              <a:off x="7238880" y="2043000"/>
              <a:ext cx="0" cy="2629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0" name=""/>
            <p:cNvSpPr/>
            <p:nvPr/>
          </p:nvSpPr>
          <p:spPr>
            <a:xfrm>
              <a:off x="6510240" y="2043000"/>
              <a:ext cx="0" cy="2629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1" name=""/>
            <p:cNvSpPr/>
            <p:nvPr/>
          </p:nvSpPr>
          <p:spPr>
            <a:xfrm>
              <a:off x="5776920" y="2043000"/>
              <a:ext cx="0" cy="2629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2" name=""/>
            <p:cNvSpPr/>
            <p:nvPr/>
          </p:nvSpPr>
          <p:spPr>
            <a:xfrm>
              <a:off x="5046840" y="2043000"/>
              <a:ext cx="0" cy="2629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3" name=""/>
            <p:cNvSpPr/>
            <p:nvPr/>
          </p:nvSpPr>
          <p:spPr>
            <a:xfrm>
              <a:off x="4316400" y="2043000"/>
              <a:ext cx="0" cy="2629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4" name=""/>
            <p:cNvSpPr/>
            <p:nvPr/>
          </p:nvSpPr>
          <p:spPr>
            <a:xfrm>
              <a:off x="3586320" y="2043000"/>
              <a:ext cx="0" cy="2629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5" name=""/>
            <p:cNvSpPr/>
            <p:nvPr/>
          </p:nvSpPr>
          <p:spPr>
            <a:xfrm>
              <a:off x="2854440" y="2043000"/>
              <a:ext cx="0" cy="2629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6" name=""/>
            <p:cNvSpPr/>
            <p:nvPr/>
          </p:nvSpPr>
          <p:spPr>
            <a:xfrm>
              <a:off x="6807240" y="2376360"/>
              <a:ext cx="1346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7" name=""/>
            <p:cNvSpPr txBox="1"/>
            <p:nvPr/>
          </p:nvSpPr>
          <p:spPr>
            <a:xfrm>
              <a:off x="1461960" y="2097000"/>
              <a:ext cx="6444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FIFO</a:t>
              </a:r>
              <a:endParaRPr b="0" lang="en-US" sz="1600" spc="-1" strike="noStrike">
                <a:solidFill>
                  <a:srgbClr val="ffffff"/>
                </a:solidFill>
                <a:latin typeface="Arial"/>
              </a:endParaRPr>
            </a:p>
          </p:txBody>
        </p:sp>
        <p:sp>
          <p:nvSpPr>
            <p:cNvPr id="748" name=""/>
            <p:cNvSpPr txBox="1"/>
            <p:nvPr/>
          </p:nvSpPr>
          <p:spPr>
            <a:xfrm>
              <a:off x="1452600" y="2741760"/>
              <a:ext cx="6444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LIFO</a:t>
              </a:r>
              <a:endParaRPr b="0" lang="en-US" sz="1600" spc="-1" strike="noStrike">
                <a:solidFill>
                  <a:srgbClr val="ffffff"/>
                </a:solidFill>
                <a:latin typeface="Arial"/>
              </a:endParaRPr>
            </a:p>
          </p:txBody>
        </p:sp>
        <p:sp>
          <p:nvSpPr>
            <p:cNvPr id="749" name=""/>
            <p:cNvSpPr txBox="1"/>
            <p:nvPr/>
          </p:nvSpPr>
          <p:spPr>
            <a:xfrm>
              <a:off x="1409760" y="4024440"/>
              <a:ext cx="7221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Other</a:t>
              </a:r>
              <a:endParaRPr b="0" lang="en-US" sz="1600" spc="-1" strike="noStrike">
                <a:solidFill>
                  <a:srgbClr val="ffffff"/>
                </a:solidFill>
                <a:latin typeface="Arial"/>
              </a:endParaRPr>
            </a:p>
          </p:txBody>
        </p:sp>
        <p:sp>
          <p:nvSpPr>
            <p:cNvPr id="750" name=""/>
            <p:cNvSpPr txBox="1"/>
            <p:nvPr/>
          </p:nvSpPr>
          <p:spPr>
            <a:xfrm>
              <a:off x="1127160" y="3357720"/>
              <a:ext cx="1050840" cy="57780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Average-</a:t>
              </a:r>
              <a:endParaRPr b="0" lang="en-US" sz="1600" spc="-1" strike="noStrike">
                <a:solidFill>
                  <a:srgbClr val="ffffff"/>
                </a:solidFill>
                <a:latin typeface="Arial"/>
              </a:endParaRPr>
            </a:p>
            <a:p>
              <a:pPr algn="ctr">
                <a:lnSpc>
                  <a:spcPct val="100000"/>
                </a:lnSpc>
              </a:pPr>
              <a:r>
                <a:rPr b="1" lang="en-US" sz="1600" spc="-1" strike="noStrike">
                  <a:solidFill>
                    <a:srgbClr val="000000"/>
                  </a:solidFill>
                  <a:latin typeface="Arial"/>
                  <a:ea typeface="Arial"/>
                </a:rPr>
                <a:t>Cost</a:t>
              </a:r>
              <a:endParaRPr b="0" lang="en-US" sz="1600" spc="-1" strike="noStrike">
                <a:solidFill>
                  <a:srgbClr val="ffffff"/>
                </a:solidFill>
                <a:latin typeface="Arial"/>
              </a:endParaRPr>
            </a:p>
          </p:txBody>
        </p:sp>
        <p:sp>
          <p:nvSpPr>
            <p:cNvPr id="751" name=""/>
            <p:cNvSpPr/>
            <p:nvPr/>
          </p:nvSpPr>
          <p:spPr>
            <a:xfrm>
              <a:off x="5848200" y="3021120"/>
              <a:ext cx="2305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52" name=""/>
            <p:cNvSpPr/>
            <p:nvPr/>
          </p:nvSpPr>
          <p:spPr>
            <a:xfrm>
              <a:off x="4192560" y="3662280"/>
              <a:ext cx="3960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53" name=""/>
            <p:cNvSpPr/>
            <p:nvPr/>
          </p:nvSpPr>
          <p:spPr>
            <a:xfrm>
              <a:off x="2506680" y="4303800"/>
              <a:ext cx="5646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54" name=""/>
            <p:cNvSpPr txBox="1"/>
            <p:nvPr/>
          </p:nvSpPr>
          <p:spPr>
            <a:xfrm>
              <a:off x="8209080" y="2097000"/>
              <a:ext cx="5875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70%</a:t>
              </a:r>
              <a:endParaRPr b="0" lang="en-US" sz="1600" spc="-1" strike="noStrike">
                <a:solidFill>
                  <a:srgbClr val="ffffff"/>
                </a:solidFill>
                <a:latin typeface="Arial"/>
              </a:endParaRPr>
            </a:p>
          </p:txBody>
        </p:sp>
        <p:sp>
          <p:nvSpPr>
            <p:cNvPr id="755" name=""/>
            <p:cNvSpPr txBox="1"/>
            <p:nvPr/>
          </p:nvSpPr>
          <p:spPr>
            <a:xfrm>
              <a:off x="8209080" y="4024440"/>
              <a:ext cx="5875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6%</a:t>
              </a:r>
              <a:endParaRPr b="0" lang="en-US" sz="1600" spc="-1" strike="noStrike">
                <a:solidFill>
                  <a:srgbClr val="ffffff"/>
                </a:solidFill>
                <a:latin typeface="Arial"/>
              </a:endParaRPr>
            </a:p>
          </p:txBody>
        </p:sp>
        <p:sp>
          <p:nvSpPr>
            <p:cNvPr id="756" name=""/>
            <p:cNvSpPr txBox="1"/>
            <p:nvPr/>
          </p:nvSpPr>
          <p:spPr>
            <a:xfrm>
              <a:off x="8209080" y="2741760"/>
              <a:ext cx="5875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55%</a:t>
              </a:r>
              <a:endParaRPr b="0" lang="en-US" sz="1600" spc="-1" strike="noStrike">
                <a:solidFill>
                  <a:srgbClr val="ffffff"/>
                </a:solidFill>
                <a:latin typeface="Arial"/>
              </a:endParaRPr>
            </a:p>
          </p:txBody>
        </p:sp>
        <p:sp>
          <p:nvSpPr>
            <p:cNvPr id="757" name=""/>
            <p:cNvSpPr txBox="1"/>
            <p:nvPr/>
          </p:nvSpPr>
          <p:spPr>
            <a:xfrm>
              <a:off x="8209080" y="3382920"/>
              <a:ext cx="5875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30%</a:t>
              </a:r>
              <a:endParaRPr b="0" lang="en-US" sz="1600" spc="-1" strike="noStrike">
                <a:solidFill>
                  <a:srgbClr val="ffffff"/>
                </a:solidFill>
                <a:latin typeface="Arial"/>
              </a:endParaRPr>
            </a:p>
          </p:txBody>
        </p:sp>
        <p:sp>
          <p:nvSpPr>
            <p:cNvPr id="758" name=""/>
            <p:cNvSpPr/>
            <p:nvPr/>
          </p:nvSpPr>
          <p:spPr>
            <a:xfrm>
              <a:off x="2130480" y="2157480"/>
              <a:ext cx="5107320" cy="383040"/>
            </a:xfrm>
            <a:custGeom>
              <a:avLst/>
              <a:gdLst/>
              <a:ahLst/>
              <a:rect l="0" t="0" r="r" b="b"/>
              <a:pathLst>
                <a:path w="14187" h="1064">
                  <a:moveTo>
                    <a:pt x="14187" y="1064"/>
                  </a:moveTo>
                  <a:lnTo>
                    <a:pt x="14187" y="0"/>
                  </a:lnTo>
                  <a:lnTo>
                    <a:pt x="0" y="0"/>
                  </a:lnTo>
                  <a:lnTo>
                    <a:pt x="0" y="1064"/>
                  </a:lnTo>
                  <a:lnTo>
                    <a:pt x="14187" y="1064"/>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59" name=""/>
            <p:cNvSpPr/>
            <p:nvPr/>
          </p:nvSpPr>
          <p:spPr>
            <a:xfrm>
              <a:off x="2130480" y="2797200"/>
              <a:ext cx="4040640" cy="402120"/>
            </a:xfrm>
            <a:custGeom>
              <a:avLst/>
              <a:gdLst/>
              <a:ahLst/>
              <a:rect l="0" t="0" r="r" b="b"/>
              <a:pathLst>
                <a:path w="11224" h="1117">
                  <a:moveTo>
                    <a:pt x="11224" y="0"/>
                  </a:moveTo>
                  <a:lnTo>
                    <a:pt x="11224" y="1117"/>
                  </a:lnTo>
                  <a:lnTo>
                    <a:pt x="0" y="1117"/>
                  </a:lnTo>
                  <a:lnTo>
                    <a:pt x="0" y="0"/>
                  </a:lnTo>
                  <a:lnTo>
                    <a:pt x="11224"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0" name=""/>
            <p:cNvSpPr/>
            <p:nvPr/>
          </p:nvSpPr>
          <p:spPr>
            <a:xfrm>
              <a:off x="2130480" y="3440160"/>
              <a:ext cx="2211840" cy="368640"/>
            </a:xfrm>
            <a:custGeom>
              <a:avLst/>
              <a:gdLst/>
              <a:ahLst/>
              <a:rect l="0" t="0" r="r" b="b"/>
              <a:pathLst>
                <a:path w="6144" h="1024">
                  <a:moveTo>
                    <a:pt x="6144" y="0"/>
                  </a:moveTo>
                  <a:lnTo>
                    <a:pt x="6144" y="1024"/>
                  </a:lnTo>
                  <a:lnTo>
                    <a:pt x="0" y="1024"/>
                  </a:lnTo>
                  <a:lnTo>
                    <a:pt x="0" y="0"/>
                  </a:lnTo>
                  <a:lnTo>
                    <a:pt x="6144" y="0"/>
                  </a:lnTo>
                  <a:close/>
                </a:path>
              </a:pathLst>
            </a:custGeom>
            <a:solidFill>
              <a:srgbClr val="ffd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1" name=""/>
            <p:cNvSpPr/>
            <p:nvPr/>
          </p:nvSpPr>
          <p:spPr>
            <a:xfrm>
              <a:off x="2130480" y="4081320"/>
              <a:ext cx="459000" cy="336960"/>
            </a:xfrm>
            <a:custGeom>
              <a:avLst/>
              <a:gdLst/>
              <a:ahLst/>
              <a:rect l="0" t="0" r="r" b="b"/>
              <a:pathLst>
                <a:path w="1275" h="936">
                  <a:moveTo>
                    <a:pt x="1275" y="0"/>
                  </a:moveTo>
                  <a:lnTo>
                    <a:pt x="1275" y="936"/>
                  </a:lnTo>
                  <a:lnTo>
                    <a:pt x="0" y="936"/>
                  </a:lnTo>
                  <a:lnTo>
                    <a:pt x="0" y="0"/>
                  </a:lnTo>
                  <a:lnTo>
                    <a:pt x="1275" y="0"/>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2" name=""/>
            <p:cNvSpPr/>
            <p:nvPr/>
          </p:nvSpPr>
          <p:spPr>
            <a:xfrm>
              <a:off x="2122560" y="2036880"/>
              <a:ext cx="0" cy="2635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63" name=""/>
          <p:cNvSpPr txBox="1"/>
          <p:nvPr/>
        </p:nvSpPr>
        <p:spPr>
          <a:xfrm>
            <a:off x="914400" y="1828800"/>
            <a:ext cx="8229600" cy="4419720"/>
          </a:xfrm>
          <a:prstGeom prst="rect">
            <a:avLst/>
          </a:prstGeom>
          <a:noFill/>
          <a:ln w="0">
            <a:noFill/>
          </a:ln>
        </p:spPr>
        <p:txBody>
          <a:bodyPr lIns="0" rIns="0" tIns="0" bIns="0" anchor="t">
            <a:noAutofit/>
          </a:bodyPr>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u="sng">
                <a:solidFill>
                  <a:srgbClr val="ccff33"/>
                </a:solidFill>
                <a:uFillTx/>
                <a:latin typeface="Arial"/>
                <a:ea typeface="Arial"/>
              </a:rPr>
              <a:t>Year 1</a:t>
            </a:r>
            <a:r>
              <a:rPr b="1" lang="en-US" sz="2800" spc="-1" strike="noStrike">
                <a:solidFill>
                  <a:srgbClr val="ccff33"/>
                </a:solidFill>
                <a:latin typeface="Arial"/>
                <a:ea typeface="Arial"/>
              </a:rPr>
              <a:t>                                      </a:t>
            </a:r>
            <a:r>
              <a:rPr b="1" lang="en-US" sz="2800" spc="-1" strike="noStrike" u="sng">
                <a:solidFill>
                  <a:srgbClr val="ccff33"/>
                </a:solidFill>
                <a:uFillTx/>
                <a:latin typeface="Arial"/>
                <a:ea typeface="Arial"/>
              </a:rPr>
              <a:t>Year 2</a:t>
            </a:r>
            <a:r>
              <a:rPr b="1" lang="en-US" sz="2800" spc="-1" strike="noStrike" u="sng">
                <a:solidFill>
                  <a:srgbClr val="fcffd8"/>
                </a:solidFill>
                <a:uFillTx/>
                <a:latin typeface="Arial"/>
                <a:ea typeface="Arial"/>
              </a:rPr>
              <a:t> </a:t>
            </a:r>
            <a:endParaRPr b="0" lang="en-US" sz="2800" spc="-1" strike="noStrike">
              <a:solidFill>
                <a:srgbClr val="ffffff"/>
              </a:solidFill>
              <a:latin typeface="Arial"/>
            </a:endParaRPr>
          </a:p>
          <a:p>
            <a:pPr marL="343080" indent="-343080">
              <a:lnSpc>
                <a:spcPct val="110000"/>
              </a:lnSpc>
              <a:spcBef>
                <a:spcPts val="479"/>
              </a:spcBef>
            </a:pPr>
            <a:r>
              <a:rPr b="1" lang="en-US" sz="2400" spc="-1" strike="noStrike">
                <a:solidFill>
                  <a:srgbClr val="fcffd8"/>
                </a:solidFill>
                <a:latin typeface="Arial"/>
                <a:ea typeface="Arial"/>
              </a:rPr>
              <a:t>Ending inventory</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Beginning inventory overstated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overstated</a:t>
            </a:r>
            <a:endParaRPr b="0" lang="en-US" sz="2400" spc="-1" strike="noStrike">
              <a:solidFill>
                <a:srgbClr val="ffffff"/>
              </a:solidFill>
              <a:latin typeface="Arial"/>
            </a:endParaRPr>
          </a:p>
          <a:p>
            <a:pPr marL="343080" indent="-343080">
              <a:lnSpc>
                <a:spcPct val="110000"/>
              </a:lnSpc>
              <a:spcBef>
                <a:spcPts val="479"/>
              </a:spcBef>
            </a:pPr>
            <a:r>
              <a:rPr b="1" lang="en-US" sz="2400" spc="-1" strike="noStrike">
                <a:solidFill>
                  <a:srgbClr val="fcffd8"/>
                </a:solidFill>
                <a:latin typeface="Arial"/>
                <a:ea typeface="Arial"/>
              </a:rPr>
              <a:t>COGS understated</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COGS overstated</a:t>
            </a:r>
            <a:endParaRPr b="0" lang="en-US" sz="2400" spc="-1" strike="noStrike">
              <a:solidFill>
                <a:srgbClr val="ffffff"/>
              </a:solidFill>
              <a:latin typeface="Arial"/>
            </a:endParaRPr>
          </a:p>
          <a:p>
            <a:pPr marL="343080" indent="-343080">
              <a:lnSpc>
                <a:spcPct val="110000"/>
              </a:lnSpc>
              <a:spcBef>
                <a:spcPts val="479"/>
              </a:spcBef>
            </a:pPr>
            <a:r>
              <a:rPr b="1" lang="en-US" sz="2400" spc="-1" strike="noStrike">
                <a:solidFill>
                  <a:srgbClr val="fcffd8"/>
                </a:solidFill>
                <a:latin typeface="Arial"/>
                <a:ea typeface="Arial"/>
              </a:rPr>
              <a:t>Income overstated</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Income understated</a:t>
            </a:r>
            <a:endParaRPr b="0" lang="en-US" sz="2400" spc="-1" strike="noStrike">
              <a:solidFill>
                <a:srgbClr val="ffffff"/>
              </a:solidFill>
              <a:latin typeface="Arial"/>
            </a:endParaRPr>
          </a:p>
          <a:p>
            <a:pPr marL="343080" indent="-343080">
              <a:lnSpc>
                <a:spcPct val="110000"/>
              </a:lnSpc>
              <a:spcBef>
                <a:spcPts val="479"/>
              </a:spcBef>
            </a:pPr>
            <a:r>
              <a:rPr b="1" lang="en-US" sz="2400" spc="-1" strike="noStrike">
                <a:solidFill>
                  <a:srgbClr val="fcffd8"/>
                </a:solidFill>
                <a:latin typeface="Arial"/>
                <a:ea typeface="Arial"/>
              </a:rPr>
              <a:t>Ending inventory</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Beginning inventory understated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understated</a:t>
            </a:r>
            <a:endParaRPr b="0" lang="en-US" sz="2400" spc="-1" strike="noStrike">
              <a:solidFill>
                <a:srgbClr val="ffffff"/>
              </a:solidFill>
              <a:latin typeface="Arial"/>
            </a:endParaRPr>
          </a:p>
          <a:p>
            <a:pPr marL="343080" indent="-343080">
              <a:lnSpc>
                <a:spcPct val="110000"/>
              </a:lnSpc>
              <a:spcBef>
                <a:spcPts val="479"/>
              </a:spcBef>
            </a:pPr>
            <a:r>
              <a:rPr b="1" lang="en-US" sz="2400" spc="-1" strike="noStrike">
                <a:solidFill>
                  <a:srgbClr val="fcffd8"/>
                </a:solidFill>
                <a:latin typeface="Arial"/>
                <a:ea typeface="Arial"/>
              </a:rPr>
              <a:t>COGS overstated</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COGS understated</a:t>
            </a:r>
            <a:endParaRPr b="0" lang="en-US" sz="2400" spc="-1" strike="noStrike">
              <a:solidFill>
                <a:srgbClr val="ffffff"/>
              </a:solidFill>
              <a:latin typeface="Arial"/>
            </a:endParaRPr>
          </a:p>
          <a:p>
            <a:pPr marL="343080" indent="-343080">
              <a:lnSpc>
                <a:spcPct val="110000"/>
              </a:lnSpc>
              <a:spcBef>
                <a:spcPts val="479"/>
              </a:spcBef>
            </a:pPr>
            <a:r>
              <a:rPr b="1" lang="en-US" sz="2400" spc="-1" strike="noStrike">
                <a:solidFill>
                  <a:srgbClr val="fcffd8"/>
                </a:solidFill>
                <a:latin typeface="Arial"/>
                <a:ea typeface="Arial"/>
              </a:rPr>
              <a:t>Income understated</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Income overstated</a:t>
            </a:r>
            <a:endParaRPr b="0" lang="en-US" sz="2400" spc="-1" strike="noStrike">
              <a:solidFill>
                <a:srgbClr val="ffffff"/>
              </a:solidFill>
              <a:latin typeface="Arial"/>
            </a:endParaRPr>
          </a:p>
        </p:txBody>
      </p:sp>
      <p:sp>
        <p:nvSpPr>
          <p:cNvPr id="764" name=""/>
          <p:cNvSpPr txBox="1"/>
          <p:nvPr/>
        </p:nvSpPr>
        <p:spPr>
          <a:xfrm>
            <a:off x="1066680" y="349200"/>
            <a:ext cx="7620120" cy="1327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ummary of the Effects of Misstatements in Inventory</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65" name=""/>
          <p:cNvSpPr txBox="1"/>
          <p:nvPr/>
        </p:nvSpPr>
        <p:spPr>
          <a:xfrm>
            <a:off x="1981080" y="1371600"/>
            <a:ext cx="4898880" cy="812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766" name=""/>
          <p:cNvSpPr txBox="1"/>
          <p:nvPr/>
        </p:nvSpPr>
        <p:spPr>
          <a:xfrm>
            <a:off x="762120" y="2362320"/>
            <a:ext cx="8077320" cy="373392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2800" spc="-1" strike="noStrike">
                <a:solidFill>
                  <a:srgbClr val="fcffd8"/>
                </a:solidFill>
                <a:latin typeface="Arial"/>
                <a:ea typeface="Arial"/>
              </a:rPr>
              <a:t>If merchandise inventory is mistakenly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overstated at the end of 20x2, what i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the effect on the:</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 20x1 net income,</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b) 20x1 year-end balance sheet</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value,</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 20x2 net income, and</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d) 20x2 year-end balance sheet</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value?</a:t>
            </a:r>
            <a:endParaRPr b="0" lang="en-US" sz="2800" spc="-1" strike="noStrike">
              <a:solidFill>
                <a:srgbClr val="ffffff"/>
              </a:solidFill>
              <a:latin typeface="Arial"/>
            </a:endParaRPr>
          </a:p>
        </p:txBody>
      </p:sp>
      <p:grpSp>
        <p:nvGrpSpPr>
          <p:cNvPr id="767" name=""/>
          <p:cNvGrpSpPr/>
          <p:nvPr/>
        </p:nvGrpSpPr>
        <p:grpSpPr>
          <a:xfrm>
            <a:off x="6781680" y="304920"/>
            <a:ext cx="1980000" cy="1980000"/>
            <a:chOff x="6781680" y="304920"/>
            <a:chExt cx="1980000" cy="1980000"/>
          </a:xfrm>
        </p:grpSpPr>
        <p:sp>
          <p:nvSpPr>
            <p:cNvPr id="768" name=""/>
            <p:cNvSpPr/>
            <p:nvPr/>
          </p:nvSpPr>
          <p:spPr>
            <a:xfrm>
              <a:off x="6786720" y="1276200"/>
              <a:ext cx="483120" cy="692640"/>
            </a:xfrm>
            <a:custGeom>
              <a:avLst/>
              <a:gdLst/>
              <a:ahLst/>
              <a:rect l="0" t="0" r="r" b="b"/>
              <a:pathLst>
                <a:path w="1342" h="1924">
                  <a:moveTo>
                    <a:pt x="538" y="0"/>
                  </a:moveTo>
                  <a:lnTo>
                    <a:pt x="464" y="88"/>
                  </a:lnTo>
                  <a:lnTo>
                    <a:pt x="464" y="335"/>
                  </a:lnTo>
                  <a:lnTo>
                    <a:pt x="538" y="516"/>
                  </a:lnTo>
                  <a:lnTo>
                    <a:pt x="613" y="609"/>
                  </a:lnTo>
                  <a:lnTo>
                    <a:pt x="494" y="733"/>
                  </a:lnTo>
                  <a:lnTo>
                    <a:pt x="336" y="1010"/>
                  </a:lnTo>
                  <a:lnTo>
                    <a:pt x="22" y="1457"/>
                  </a:lnTo>
                  <a:lnTo>
                    <a:pt x="0" y="1563"/>
                  </a:lnTo>
                  <a:lnTo>
                    <a:pt x="22" y="1646"/>
                  </a:lnTo>
                  <a:lnTo>
                    <a:pt x="123" y="1646"/>
                  </a:lnTo>
                  <a:lnTo>
                    <a:pt x="207" y="1545"/>
                  </a:lnTo>
                  <a:lnTo>
                    <a:pt x="336" y="1297"/>
                  </a:lnTo>
                  <a:lnTo>
                    <a:pt x="415" y="1191"/>
                  </a:lnTo>
                  <a:lnTo>
                    <a:pt x="464" y="1354"/>
                  </a:lnTo>
                  <a:lnTo>
                    <a:pt x="433" y="1532"/>
                  </a:lnTo>
                  <a:lnTo>
                    <a:pt x="299" y="1783"/>
                  </a:lnTo>
                  <a:lnTo>
                    <a:pt x="336" y="1840"/>
                  </a:lnTo>
                  <a:lnTo>
                    <a:pt x="415" y="1827"/>
                  </a:lnTo>
                  <a:lnTo>
                    <a:pt x="578" y="1695"/>
                  </a:lnTo>
                  <a:lnTo>
                    <a:pt x="715" y="1470"/>
                  </a:lnTo>
                  <a:lnTo>
                    <a:pt x="715" y="1862"/>
                  </a:lnTo>
                  <a:lnTo>
                    <a:pt x="878" y="1924"/>
                  </a:lnTo>
                  <a:lnTo>
                    <a:pt x="966" y="1686"/>
                  </a:lnTo>
                  <a:lnTo>
                    <a:pt x="1051" y="1911"/>
                  </a:lnTo>
                  <a:lnTo>
                    <a:pt x="1117" y="1840"/>
                  </a:lnTo>
                  <a:lnTo>
                    <a:pt x="1144" y="1398"/>
                  </a:lnTo>
                  <a:lnTo>
                    <a:pt x="1342" y="975"/>
                  </a:lnTo>
                  <a:lnTo>
                    <a:pt x="1298" y="733"/>
                  </a:lnTo>
                  <a:lnTo>
                    <a:pt x="1161" y="640"/>
                  </a:lnTo>
                  <a:lnTo>
                    <a:pt x="1016" y="658"/>
                  </a:lnTo>
                  <a:lnTo>
                    <a:pt x="966" y="454"/>
                  </a:lnTo>
                  <a:lnTo>
                    <a:pt x="821" y="410"/>
                  </a:lnTo>
                  <a:lnTo>
                    <a:pt x="688" y="348"/>
                  </a:lnTo>
                  <a:lnTo>
                    <a:pt x="613" y="44"/>
                  </a:lnTo>
                  <a:lnTo>
                    <a:pt x="538"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69" name=""/>
            <p:cNvSpPr/>
            <p:nvPr/>
          </p:nvSpPr>
          <p:spPr>
            <a:xfrm>
              <a:off x="7191360" y="1557360"/>
              <a:ext cx="141480" cy="335160"/>
            </a:xfrm>
            <a:custGeom>
              <a:avLst/>
              <a:gdLst/>
              <a:ahLst/>
              <a:rect l="0" t="0" r="r" b="b"/>
              <a:pathLst>
                <a:path w="393" h="931">
                  <a:moveTo>
                    <a:pt x="194" y="0"/>
                  </a:moveTo>
                  <a:lnTo>
                    <a:pt x="393" y="242"/>
                  </a:lnTo>
                  <a:lnTo>
                    <a:pt x="296" y="763"/>
                  </a:lnTo>
                  <a:lnTo>
                    <a:pt x="0" y="931"/>
                  </a:lnTo>
                  <a:lnTo>
                    <a:pt x="0" y="666"/>
                  </a:lnTo>
                  <a:lnTo>
                    <a:pt x="119" y="396"/>
                  </a:lnTo>
                  <a:lnTo>
                    <a:pt x="194" y="194"/>
                  </a:lnTo>
                  <a:lnTo>
                    <a:pt x="194"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0" name=""/>
            <p:cNvSpPr/>
            <p:nvPr/>
          </p:nvSpPr>
          <p:spPr>
            <a:xfrm>
              <a:off x="8110440" y="1363680"/>
              <a:ext cx="356040" cy="303480"/>
            </a:xfrm>
            <a:custGeom>
              <a:avLst/>
              <a:gdLst/>
              <a:ahLst/>
              <a:rect l="0" t="0" r="r" b="b"/>
              <a:pathLst>
                <a:path w="989" h="843">
                  <a:moveTo>
                    <a:pt x="406" y="0"/>
                  </a:moveTo>
                  <a:lnTo>
                    <a:pt x="406" y="132"/>
                  </a:lnTo>
                  <a:lnTo>
                    <a:pt x="441" y="251"/>
                  </a:lnTo>
                  <a:lnTo>
                    <a:pt x="631" y="455"/>
                  </a:lnTo>
                  <a:lnTo>
                    <a:pt x="989" y="569"/>
                  </a:lnTo>
                  <a:lnTo>
                    <a:pt x="936" y="830"/>
                  </a:lnTo>
                  <a:lnTo>
                    <a:pt x="631" y="843"/>
                  </a:lnTo>
                  <a:lnTo>
                    <a:pt x="189" y="662"/>
                  </a:lnTo>
                  <a:lnTo>
                    <a:pt x="0" y="335"/>
                  </a:lnTo>
                  <a:lnTo>
                    <a:pt x="220" y="17"/>
                  </a:lnTo>
                  <a:lnTo>
                    <a:pt x="406"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1" name=""/>
            <p:cNvSpPr/>
            <p:nvPr/>
          </p:nvSpPr>
          <p:spPr>
            <a:xfrm>
              <a:off x="8253360" y="1022400"/>
              <a:ext cx="495720" cy="667080"/>
            </a:xfrm>
            <a:custGeom>
              <a:avLst/>
              <a:gdLst/>
              <a:ahLst/>
              <a:rect l="0" t="0" r="r" b="b"/>
              <a:pathLst>
                <a:path w="1377" h="1853">
                  <a:moveTo>
                    <a:pt x="123" y="789"/>
                  </a:moveTo>
                  <a:lnTo>
                    <a:pt x="0" y="917"/>
                  </a:lnTo>
                  <a:lnTo>
                    <a:pt x="22" y="1218"/>
                  </a:lnTo>
                  <a:lnTo>
                    <a:pt x="220" y="1359"/>
                  </a:lnTo>
                  <a:lnTo>
                    <a:pt x="233" y="1817"/>
                  </a:lnTo>
                  <a:lnTo>
                    <a:pt x="428" y="1817"/>
                  </a:lnTo>
                  <a:lnTo>
                    <a:pt x="415" y="1434"/>
                  </a:lnTo>
                  <a:lnTo>
                    <a:pt x="561" y="1839"/>
                  </a:lnTo>
                  <a:lnTo>
                    <a:pt x="653" y="1853"/>
                  </a:lnTo>
                  <a:lnTo>
                    <a:pt x="724" y="1720"/>
                  </a:lnTo>
                  <a:lnTo>
                    <a:pt x="737" y="1460"/>
                  </a:lnTo>
                  <a:lnTo>
                    <a:pt x="944" y="1698"/>
                  </a:lnTo>
                  <a:lnTo>
                    <a:pt x="1032" y="1685"/>
                  </a:lnTo>
                  <a:lnTo>
                    <a:pt x="1015" y="1517"/>
                  </a:lnTo>
                  <a:lnTo>
                    <a:pt x="931" y="1284"/>
                  </a:lnTo>
                  <a:lnTo>
                    <a:pt x="852" y="1129"/>
                  </a:lnTo>
                  <a:lnTo>
                    <a:pt x="882" y="1028"/>
                  </a:lnTo>
                  <a:lnTo>
                    <a:pt x="931" y="1041"/>
                  </a:lnTo>
                  <a:lnTo>
                    <a:pt x="1130" y="1284"/>
                  </a:lnTo>
                  <a:lnTo>
                    <a:pt x="1333" y="1341"/>
                  </a:lnTo>
                  <a:lnTo>
                    <a:pt x="1377" y="1266"/>
                  </a:lnTo>
                  <a:lnTo>
                    <a:pt x="1346" y="1143"/>
                  </a:lnTo>
                  <a:lnTo>
                    <a:pt x="962" y="767"/>
                  </a:lnTo>
                  <a:lnTo>
                    <a:pt x="653" y="652"/>
                  </a:lnTo>
                  <a:lnTo>
                    <a:pt x="618" y="445"/>
                  </a:lnTo>
                  <a:lnTo>
                    <a:pt x="724" y="255"/>
                  </a:lnTo>
                  <a:lnTo>
                    <a:pt x="724" y="57"/>
                  </a:lnTo>
                  <a:lnTo>
                    <a:pt x="640" y="0"/>
                  </a:lnTo>
                  <a:lnTo>
                    <a:pt x="415" y="502"/>
                  </a:lnTo>
                  <a:lnTo>
                    <a:pt x="220" y="577"/>
                  </a:lnTo>
                  <a:lnTo>
                    <a:pt x="167" y="714"/>
                  </a:lnTo>
                  <a:lnTo>
                    <a:pt x="123" y="78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72" name=""/>
            <p:cNvSpPr/>
            <p:nvPr/>
          </p:nvSpPr>
          <p:spPr>
            <a:xfrm>
              <a:off x="7440480" y="446040"/>
              <a:ext cx="540000" cy="849600"/>
            </a:xfrm>
            <a:custGeom>
              <a:avLst/>
              <a:gdLst/>
              <a:ahLst/>
              <a:rect l="0" t="0" r="r" b="b"/>
              <a:pathLst>
                <a:path w="1500" h="2360">
                  <a:moveTo>
                    <a:pt x="370" y="326"/>
                  </a:moveTo>
                  <a:lnTo>
                    <a:pt x="264" y="780"/>
                  </a:lnTo>
                  <a:lnTo>
                    <a:pt x="13" y="868"/>
                  </a:lnTo>
                  <a:lnTo>
                    <a:pt x="83" y="1014"/>
                  </a:lnTo>
                  <a:lnTo>
                    <a:pt x="0" y="1102"/>
                  </a:lnTo>
                  <a:lnTo>
                    <a:pt x="0" y="1266"/>
                  </a:lnTo>
                  <a:lnTo>
                    <a:pt x="119" y="1416"/>
                  </a:lnTo>
                  <a:lnTo>
                    <a:pt x="233" y="1416"/>
                  </a:lnTo>
                  <a:lnTo>
                    <a:pt x="313" y="1941"/>
                  </a:lnTo>
                  <a:lnTo>
                    <a:pt x="410" y="2166"/>
                  </a:lnTo>
                  <a:lnTo>
                    <a:pt x="709" y="2360"/>
                  </a:lnTo>
                  <a:lnTo>
                    <a:pt x="1024" y="2329"/>
                  </a:lnTo>
                  <a:lnTo>
                    <a:pt x="1165" y="1941"/>
                  </a:lnTo>
                  <a:lnTo>
                    <a:pt x="1200" y="1341"/>
                  </a:lnTo>
                  <a:lnTo>
                    <a:pt x="1500" y="1045"/>
                  </a:lnTo>
                  <a:lnTo>
                    <a:pt x="1487" y="926"/>
                  </a:lnTo>
                  <a:lnTo>
                    <a:pt x="1451" y="868"/>
                  </a:lnTo>
                  <a:lnTo>
                    <a:pt x="1293" y="855"/>
                  </a:lnTo>
                  <a:lnTo>
                    <a:pt x="1345" y="701"/>
                  </a:lnTo>
                  <a:lnTo>
                    <a:pt x="1182" y="595"/>
                  </a:lnTo>
                  <a:lnTo>
                    <a:pt x="1116" y="255"/>
                  </a:lnTo>
                  <a:lnTo>
                    <a:pt x="652" y="0"/>
                  </a:lnTo>
                  <a:lnTo>
                    <a:pt x="410" y="242"/>
                  </a:lnTo>
                  <a:lnTo>
                    <a:pt x="370" y="32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a:off x="7480440" y="1155600"/>
              <a:ext cx="495720" cy="1016280"/>
            </a:xfrm>
            <a:custGeom>
              <a:avLst/>
              <a:gdLst/>
              <a:ahLst/>
              <a:rect l="0" t="0" r="r" b="b"/>
              <a:pathLst>
                <a:path w="1377" h="2823">
                  <a:moveTo>
                    <a:pt x="282" y="149"/>
                  </a:moveTo>
                  <a:lnTo>
                    <a:pt x="477" y="282"/>
                  </a:lnTo>
                  <a:lnTo>
                    <a:pt x="574" y="436"/>
                  </a:lnTo>
                  <a:lnTo>
                    <a:pt x="1130" y="0"/>
                  </a:lnTo>
                  <a:lnTo>
                    <a:pt x="1298" y="92"/>
                  </a:lnTo>
                  <a:lnTo>
                    <a:pt x="1377" y="533"/>
                  </a:lnTo>
                  <a:lnTo>
                    <a:pt x="975" y="1831"/>
                  </a:lnTo>
                  <a:lnTo>
                    <a:pt x="1108" y="2549"/>
                  </a:lnTo>
                  <a:lnTo>
                    <a:pt x="587" y="2823"/>
                  </a:lnTo>
                  <a:lnTo>
                    <a:pt x="185" y="2668"/>
                  </a:lnTo>
                  <a:lnTo>
                    <a:pt x="185" y="1910"/>
                  </a:lnTo>
                  <a:lnTo>
                    <a:pt x="0" y="1172"/>
                  </a:lnTo>
                  <a:lnTo>
                    <a:pt x="185" y="282"/>
                  </a:lnTo>
                  <a:lnTo>
                    <a:pt x="282" y="149"/>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4" name=""/>
            <p:cNvSpPr/>
            <p:nvPr/>
          </p:nvSpPr>
          <p:spPr>
            <a:xfrm>
              <a:off x="7500960" y="331920"/>
              <a:ext cx="464040" cy="268560"/>
            </a:xfrm>
            <a:custGeom>
              <a:avLst/>
              <a:gdLst/>
              <a:ahLst/>
              <a:rect l="0" t="0" r="r" b="b"/>
              <a:pathLst>
                <a:path w="1289" h="746">
                  <a:moveTo>
                    <a:pt x="158" y="710"/>
                  </a:moveTo>
                  <a:lnTo>
                    <a:pt x="349" y="512"/>
                  </a:lnTo>
                  <a:lnTo>
                    <a:pt x="468" y="481"/>
                  </a:lnTo>
                  <a:lnTo>
                    <a:pt x="468" y="503"/>
                  </a:lnTo>
                  <a:lnTo>
                    <a:pt x="530" y="481"/>
                  </a:lnTo>
                  <a:lnTo>
                    <a:pt x="609" y="543"/>
                  </a:lnTo>
                  <a:lnTo>
                    <a:pt x="759" y="574"/>
                  </a:lnTo>
                  <a:lnTo>
                    <a:pt x="882" y="746"/>
                  </a:lnTo>
                  <a:lnTo>
                    <a:pt x="1082" y="671"/>
                  </a:lnTo>
                  <a:lnTo>
                    <a:pt x="1082" y="587"/>
                  </a:lnTo>
                  <a:lnTo>
                    <a:pt x="1289" y="503"/>
                  </a:lnTo>
                  <a:lnTo>
                    <a:pt x="1227" y="357"/>
                  </a:lnTo>
                  <a:lnTo>
                    <a:pt x="1042" y="348"/>
                  </a:lnTo>
                  <a:lnTo>
                    <a:pt x="1069" y="194"/>
                  </a:lnTo>
                  <a:lnTo>
                    <a:pt x="900" y="211"/>
                  </a:lnTo>
                  <a:lnTo>
                    <a:pt x="874" y="105"/>
                  </a:lnTo>
                  <a:lnTo>
                    <a:pt x="759" y="105"/>
                  </a:lnTo>
                  <a:lnTo>
                    <a:pt x="680" y="167"/>
                  </a:lnTo>
                  <a:lnTo>
                    <a:pt x="609" y="167"/>
                  </a:lnTo>
                  <a:lnTo>
                    <a:pt x="627" y="0"/>
                  </a:lnTo>
                  <a:lnTo>
                    <a:pt x="468" y="74"/>
                  </a:lnTo>
                  <a:lnTo>
                    <a:pt x="251" y="348"/>
                  </a:lnTo>
                  <a:lnTo>
                    <a:pt x="238" y="167"/>
                  </a:lnTo>
                  <a:lnTo>
                    <a:pt x="127" y="251"/>
                  </a:lnTo>
                  <a:lnTo>
                    <a:pt x="101" y="481"/>
                  </a:lnTo>
                  <a:lnTo>
                    <a:pt x="0" y="441"/>
                  </a:lnTo>
                  <a:lnTo>
                    <a:pt x="13" y="587"/>
                  </a:lnTo>
                  <a:lnTo>
                    <a:pt x="158" y="71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5" name=""/>
            <p:cNvSpPr/>
            <p:nvPr/>
          </p:nvSpPr>
          <p:spPr>
            <a:xfrm>
              <a:off x="7626240" y="1343160"/>
              <a:ext cx="147960" cy="770400"/>
            </a:xfrm>
            <a:custGeom>
              <a:avLst/>
              <a:gdLst/>
              <a:ahLst/>
              <a:rect l="0" t="0" r="r" b="b"/>
              <a:pathLst>
                <a:path w="411" h="2140">
                  <a:moveTo>
                    <a:pt x="212" y="13"/>
                  </a:moveTo>
                  <a:lnTo>
                    <a:pt x="70" y="105"/>
                  </a:lnTo>
                  <a:lnTo>
                    <a:pt x="70" y="286"/>
                  </a:lnTo>
                  <a:lnTo>
                    <a:pt x="171" y="343"/>
                  </a:lnTo>
                  <a:lnTo>
                    <a:pt x="39" y="631"/>
                  </a:lnTo>
                  <a:lnTo>
                    <a:pt x="0" y="1006"/>
                  </a:lnTo>
                  <a:lnTo>
                    <a:pt x="101" y="1500"/>
                  </a:lnTo>
                  <a:lnTo>
                    <a:pt x="101" y="1704"/>
                  </a:lnTo>
                  <a:lnTo>
                    <a:pt x="48" y="1862"/>
                  </a:lnTo>
                  <a:lnTo>
                    <a:pt x="256" y="2140"/>
                  </a:lnTo>
                  <a:lnTo>
                    <a:pt x="397" y="1726"/>
                  </a:lnTo>
                  <a:lnTo>
                    <a:pt x="397" y="1434"/>
                  </a:lnTo>
                  <a:lnTo>
                    <a:pt x="296" y="1169"/>
                  </a:lnTo>
                  <a:lnTo>
                    <a:pt x="243" y="807"/>
                  </a:lnTo>
                  <a:lnTo>
                    <a:pt x="344" y="454"/>
                  </a:lnTo>
                  <a:lnTo>
                    <a:pt x="314" y="317"/>
                  </a:lnTo>
                  <a:lnTo>
                    <a:pt x="411" y="242"/>
                  </a:lnTo>
                  <a:lnTo>
                    <a:pt x="397" y="149"/>
                  </a:lnTo>
                  <a:lnTo>
                    <a:pt x="278" y="0"/>
                  </a:lnTo>
                  <a:lnTo>
                    <a:pt x="212"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6" name=""/>
            <p:cNvSpPr/>
            <p:nvPr/>
          </p:nvSpPr>
          <p:spPr>
            <a:xfrm>
              <a:off x="7621560" y="1085760"/>
              <a:ext cx="119520" cy="70200"/>
            </a:xfrm>
            <a:custGeom>
              <a:avLst/>
              <a:gdLst/>
              <a:ahLst/>
              <a:rect l="0" t="0" r="r" b="b"/>
              <a:pathLst>
                <a:path w="332" h="195">
                  <a:moveTo>
                    <a:pt x="0" y="61"/>
                  </a:moveTo>
                  <a:lnTo>
                    <a:pt x="128" y="195"/>
                  </a:lnTo>
                  <a:lnTo>
                    <a:pt x="266" y="181"/>
                  </a:lnTo>
                  <a:lnTo>
                    <a:pt x="332" y="17"/>
                  </a:lnTo>
                  <a:lnTo>
                    <a:pt x="186" y="0"/>
                  </a:lnTo>
                  <a:lnTo>
                    <a:pt x="35" y="17"/>
                  </a:lnTo>
                  <a:lnTo>
                    <a:pt x="0" y="61"/>
                  </a:lnTo>
                  <a:close/>
                </a:path>
              </a:pathLst>
            </a:custGeom>
            <a:solidFill>
              <a:srgbClr val="ffffff"/>
            </a:solidFill>
            <a:ln w="12600">
              <a:solidFill>
                <a:srgbClr val="ffffff"/>
              </a:solidFill>
              <a:round/>
            </a:ln>
          </p:spPr>
          <p:txBody>
            <a:bodyPr lIns="96120" rIns="96120" tIns="19080" bIns="19080" anchor="t">
              <a:noAutofit/>
            </a:bodyPr>
            <a:p>
              <a:endParaRPr b="0" lang="en-US" sz="1800" spc="-1" strike="noStrike">
                <a:solidFill>
                  <a:srgbClr val="000000"/>
                </a:solidFill>
                <a:latin typeface="Arial"/>
              </a:endParaRPr>
            </a:p>
          </p:txBody>
        </p:sp>
        <p:sp>
          <p:nvSpPr>
            <p:cNvPr id="777" name=""/>
            <p:cNvSpPr/>
            <p:nvPr/>
          </p:nvSpPr>
          <p:spPr>
            <a:xfrm>
              <a:off x="7489800" y="731880"/>
              <a:ext cx="149760" cy="149760"/>
            </a:xfrm>
            <a:custGeom>
              <a:avLst/>
              <a:gdLst/>
              <a:ahLst/>
              <a:rect l="0" t="0" r="r" b="b"/>
              <a:pathLst>
                <a:path w="416" h="416">
                  <a:moveTo>
                    <a:pt x="0" y="48"/>
                  </a:moveTo>
                  <a:lnTo>
                    <a:pt x="287" y="416"/>
                  </a:lnTo>
                  <a:lnTo>
                    <a:pt x="416" y="385"/>
                  </a:lnTo>
                  <a:lnTo>
                    <a:pt x="115"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8" name=""/>
            <p:cNvSpPr/>
            <p:nvPr/>
          </p:nvSpPr>
          <p:spPr>
            <a:xfrm>
              <a:off x="7750080" y="698400"/>
              <a:ext cx="128880" cy="149760"/>
            </a:xfrm>
            <a:custGeom>
              <a:avLst/>
              <a:gdLst/>
              <a:ahLst/>
              <a:rect l="0" t="0" r="r" b="b"/>
              <a:pathLst>
                <a:path w="358" h="416">
                  <a:moveTo>
                    <a:pt x="0" y="57"/>
                  </a:moveTo>
                  <a:lnTo>
                    <a:pt x="247" y="416"/>
                  </a:lnTo>
                  <a:lnTo>
                    <a:pt x="358" y="323"/>
                  </a:lnTo>
                  <a:lnTo>
                    <a:pt x="101" y="0"/>
                  </a:lnTo>
                  <a:lnTo>
                    <a:pt x="0" y="5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9" name=""/>
            <p:cNvSpPr/>
            <p:nvPr/>
          </p:nvSpPr>
          <p:spPr>
            <a:xfrm>
              <a:off x="7437600" y="504720"/>
              <a:ext cx="514800" cy="376560"/>
            </a:xfrm>
            <a:custGeom>
              <a:avLst/>
              <a:gdLst/>
              <a:ahLst/>
              <a:rect l="0" t="0" r="r" b="b"/>
              <a:pathLst>
                <a:path w="1430" h="1046">
                  <a:moveTo>
                    <a:pt x="653" y="622"/>
                  </a:moveTo>
                  <a:lnTo>
                    <a:pt x="525" y="583"/>
                  </a:lnTo>
                  <a:lnTo>
                    <a:pt x="636" y="485"/>
                  </a:lnTo>
                  <a:lnTo>
                    <a:pt x="596" y="440"/>
                  </a:lnTo>
                  <a:lnTo>
                    <a:pt x="450" y="565"/>
                  </a:lnTo>
                  <a:lnTo>
                    <a:pt x="176" y="591"/>
                  </a:lnTo>
                  <a:lnTo>
                    <a:pt x="0" y="600"/>
                  </a:lnTo>
                  <a:lnTo>
                    <a:pt x="0" y="746"/>
                  </a:lnTo>
                  <a:lnTo>
                    <a:pt x="171" y="1037"/>
                  </a:lnTo>
                  <a:lnTo>
                    <a:pt x="216" y="1046"/>
                  </a:lnTo>
                  <a:lnTo>
                    <a:pt x="57" y="719"/>
                  </a:lnTo>
                  <a:lnTo>
                    <a:pt x="295" y="622"/>
                  </a:lnTo>
                  <a:lnTo>
                    <a:pt x="450" y="622"/>
                  </a:lnTo>
                  <a:lnTo>
                    <a:pt x="569" y="684"/>
                  </a:lnTo>
                  <a:lnTo>
                    <a:pt x="596" y="772"/>
                  </a:lnTo>
                  <a:lnTo>
                    <a:pt x="596" y="975"/>
                  </a:lnTo>
                  <a:lnTo>
                    <a:pt x="596" y="1037"/>
                  </a:lnTo>
                  <a:lnTo>
                    <a:pt x="666" y="944"/>
                  </a:lnTo>
                  <a:lnTo>
                    <a:pt x="666" y="737"/>
                  </a:lnTo>
                  <a:lnTo>
                    <a:pt x="763" y="737"/>
                  </a:lnTo>
                  <a:lnTo>
                    <a:pt x="816" y="975"/>
                  </a:lnTo>
                  <a:lnTo>
                    <a:pt x="869" y="993"/>
                  </a:lnTo>
                  <a:lnTo>
                    <a:pt x="1046" y="993"/>
                  </a:lnTo>
                  <a:lnTo>
                    <a:pt x="1219" y="953"/>
                  </a:lnTo>
                  <a:lnTo>
                    <a:pt x="1342" y="865"/>
                  </a:lnTo>
                  <a:lnTo>
                    <a:pt x="1364" y="649"/>
                  </a:lnTo>
                  <a:lnTo>
                    <a:pt x="1430" y="565"/>
                  </a:lnTo>
                  <a:lnTo>
                    <a:pt x="1391" y="507"/>
                  </a:lnTo>
                  <a:lnTo>
                    <a:pt x="1227" y="449"/>
                  </a:lnTo>
                  <a:lnTo>
                    <a:pt x="1205" y="233"/>
                  </a:lnTo>
                  <a:lnTo>
                    <a:pt x="1054" y="233"/>
                  </a:lnTo>
                  <a:lnTo>
                    <a:pt x="874" y="0"/>
                  </a:lnTo>
                  <a:lnTo>
                    <a:pt x="1041" y="255"/>
                  </a:lnTo>
                  <a:lnTo>
                    <a:pt x="1091" y="255"/>
                  </a:lnTo>
                  <a:lnTo>
                    <a:pt x="1126" y="440"/>
                  </a:lnTo>
                  <a:lnTo>
                    <a:pt x="922" y="507"/>
                  </a:lnTo>
                  <a:lnTo>
                    <a:pt x="781" y="454"/>
                  </a:lnTo>
                  <a:lnTo>
                    <a:pt x="755" y="507"/>
                  </a:lnTo>
                  <a:lnTo>
                    <a:pt x="830" y="565"/>
                  </a:lnTo>
                  <a:lnTo>
                    <a:pt x="830" y="609"/>
                  </a:lnTo>
                  <a:lnTo>
                    <a:pt x="1006" y="530"/>
                  </a:lnTo>
                  <a:lnTo>
                    <a:pt x="1152" y="520"/>
                  </a:lnTo>
                  <a:lnTo>
                    <a:pt x="1311" y="538"/>
                  </a:lnTo>
                  <a:lnTo>
                    <a:pt x="1311" y="569"/>
                  </a:lnTo>
                  <a:lnTo>
                    <a:pt x="1236" y="640"/>
                  </a:lnTo>
                  <a:lnTo>
                    <a:pt x="1205" y="737"/>
                  </a:lnTo>
                  <a:lnTo>
                    <a:pt x="1201" y="865"/>
                  </a:lnTo>
                  <a:lnTo>
                    <a:pt x="1104" y="913"/>
                  </a:lnTo>
                  <a:lnTo>
                    <a:pt x="966" y="931"/>
                  </a:lnTo>
                  <a:lnTo>
                    <a:pt x="869" y="931"/>
                  </a:lnTo>
                  <a:lnTo>
                    <a:pt x="838" y="891"/>
                  </a:lnTo>
                  <a:lnTo>
                    <a:pt x="816" y="649"/>
                  </a:lnTo>
                  <a:lnTo>
                    <a:pt x="666" y="649"/>
                  </a:lnTo>
                  <a:lnTo>
                    <a:pt x="653" y="6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0" name=""/>
            <p:cNvSpPr/>
            <p:nvPr/>
          </p:nvSpPr>
          <p:spPr>
            <a:xfrm>
              <a:off x="7613640" y="939960"/>
              <a:ext cx="168480" cy="76680"/>
            </a:xfrm>
            <a:custGeom>
              <a:avLst/>
              <a:gdLst/>
              <a:ahLst/>
              <a:rect l="0" t="0" r="r" b="b"/>
              <a:pathLst>
                <a:path w="468" h="213">
                  <a:moveTo>
                    <a:pt x="0" y="0"/>
                  </a:moveTo>
                  <a:lnTo>
                    <a:pt x="74" y="98"/>
                  </a:lnTo>
                  <a:lnTo>
                    <a:pt x="274" y="98"/>
                  </a:lnTo>
                  <a:lnTo>
                    <a:pt x="362" y="30"/>
                  </a:lnTo>
                  <a:lnTo>
                    <a:pt x="468" y="30"/>
                  </a:lnTo>
                  <a:lnTo>
                    <a:pt x="450" y="62"/>
                  </a:lnTo>
                  <a:lnTo>
                    <a:pt x="450" y="98"/>
                  </a:lnTo>
                  <a:lnTo>
                    <a:pt x="261" y="213"/>
                  </a:lnTo>
                  <a:lnTo>
                    <a:pt x="154" y="213"/>
                  </a:lnTo>
                  <a:lnTo>
                    <a:pt x="101" y="169"/>
                  </a:lnTo>
                  <a:lnTo>
                    <a:pt x="39" y="169"/>
                  </a:lnTo>
                  <a:lnTo>
                    <a:pt x="0" y="0"/>
                  </a:lnTo>
                  <a:close/>
                </a:path>
              </a:pathLst>
            </a:custGeom>
            <a:solidFill>
              <a:srgbClr val="000000"/>
            </a:solidFill>
            <a:ln w="12600">
              <a:solidFill>
                <a:srgbClr val="000000"/>
              </a:solidFill>
              <a:round/>
            </a:ln>
          </p:spPr>
          <p:txBody>
            <a:bodyPr lIns="96120" rIns="96120" tIns="25560" bIns="25560" anchor="t">
              <a:noAutofit/>
            </a:bodyPr>
            <a:p>
              <a:endParaRPr b="0" lang="en-US" sz="1800" spc="-1" strike="noStrike">
                <a:solidFill>
                  <a:srgbClr val="ffffff"/>
                </a:solidFill>
                <a:latin typeface="Arial"/>
              </a:endParaRPr>
            </a:p>
          </p:txBody>
        </p:sp>
        <p:sp>
          <p:nvSpPr>
            <p:cNvPr id="781" name=""/>
            <p:cNvSpPr/>
            <p:nvPr/>
          </p:nvSpPr>
          <p:spPr>
            <a:xfrm>
              <a:off x="7429680" y="816120"/>
              <a:ext cx="252720" cy="403560"/>
            </a:xfrm>
            <a:custGeom>
              <a:avLst/>
              <a:gdLst/>
              <a:ahLst/>
              <a:rect l="0" t="0" r="r" b="b"/>
              <a:pathLst>
                <a:path w="702" h="1121">
                  <a:moveTo>
                    <a:pt x="702" y="79"/>
                  </a:moveTo>
                  <a:lnTo>
                    <a:pt x="702" y="97"/>
                  </a:lnTo>
                  <a:lnTo>
                    <a:pt x="578" y="211"/>
                  </a:lnTo>
                  <a:lnTo>
                    <a:pt x="477" y="233"/>
                  </a:lnTo>
                  <a:lnTo>
                    <a:pt x="277" y="202"/>
                  </a:lnTo>
                  <a:lnTo>
                    <a:pt x="317" y="605"/>
                  </a:lnTo>
                  <a:lnTo>
                    <a:pt x="362" y="940"/>
                  </a:lnTo>
                  <a:lnTo>
                    <a:pt x="446" y="1121"/>
                  </a:lnTo>
                  <a:lnTo>
                    <a:pt x="362" y="993"/>
                  </a:lnTo>
                  <a:lnTo>
                    <a:pt x="330" y="847"/>
                  </a:lnTo>
                  <a:lnTo>
                    <a:pt x="268" y="471"/>
                  </a:lnTo>
                  <a:lnTo>
                    <a:pt x="216" y="493"/>
                  </a:lnTo>
                  <a:lnTo>
                    <a:pt x="145" y="454"/>
                  </a:lnTo>
                  <a:lnTo>
                    <a:pt x="13" y="251"/>
                  </a:lnTo>
                  <a:lnTo>
                    <a:pt x="0" y="141"/>
                  </a:lnTo>
                  <a:lnTo>
                    <a:pt x="0" y="66"/>
                  </a:lnTo>
                  <a:lnTo>
                    <a:pt x="30" y="17"/>
                  </a:lnTo>
                  <a:lnTo>
                    <a:pt x="110" y="0"/>
                  </a:lnTo>
                  <a:lnTo>
                    <a:pt x="119" y="26"/>
                  </a:lnTo>
                  <a:lnTo>
                    <a:pt x="52" y="52"/>
                  </a:lnTo>
                  <a:lnTo>
                    <a:pt x="39" y="132"/>
                  </a:lnTo>
                  <a:lnTo>
                    <a:pt x="48" y="242"/>
                  </a:lnTo>
                  <a:lnTo>
                    <a:pt x="141" y="335"/>
                  </a:lnTo>
                  <a:lnTo>
                    <a:pt x="180" y="313"/>
                  </a:lnTo>
                  <a:lnTo>
                    <a:pt x="180" y="110"/>
                  </a:lnTo>
                  <a:lnTo>
                    <a:pt x="264" y="154"/>
                  </a:lnTo>
                  <a:lnTo>
                    <a:pt x="389" y="180"/>
                  </a:lnTo>
                  <a:lnTo>
                    <a:pt x="508" y="171"/>
                  </a:lnTo>
                  <a:lnTo>
                    <a:pt x="618" y="110"/>
                  </a:lnTo>
                  <a:lnTo>
                    <a:pt x="702" y="7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2" name=""/>
            <p:cNvSpPr/>
            <p:nvPr/>
          </p:nvSpPr>
          <p:spPr>
            <a:xfrm>
              <a:off x="7496280" y="493560"/>
              <a:ext cx="74880" cy="216360"/>
            </a:xfrm>
            <a:custGeom>
              <a:avLst/>
              <a:gdLst/>
              <a:ahLst/>
              <a:rect l="0" t="0" r="r" b="b"/>
              <a:pathLst>
                <a:path w="208" h="601">
                  <a:moveTo>
                    <a:pt x="111" y="601"/>
                  </a:moveTo>
                  <a:lnTo>
                    <a:pt x="208" y="243"/>
                  </a:lnTo>
                  <a:lnTo>
                    <a:pt x="22" y="119"/>
                  </a:lnTo>
                  <a:lnTo>
                    <a:pt x="0" y="0"/>
                  </a:lnTo>
                  <a:lnTo>
                    <a:pt x="13" y="145"/>
                  </a:lnTo>
                  <a:lnTo>
                    <a:pt x="74" y="208"/>
                  </a:lnTo>
                  <a:lnTo>
                    <a:pt x="83" y="384"/>
                  </a:lnTo>
                  <a:lnTo>
                    <a:pt x="128" y="456"/>
                  </a:lnTo>
                  <a:lnTo>
                    <a:pt x="111" y="60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3" name=""/>
            <p:cNvSpPr/>
            <p:nvPr/>
          </p:nvSpPr>
          <p:spPr>
            <a:xfrm>
              <a:off x="7494480" y="304920"/>
              <a:ext cx="565560" cy="284400"/>
            </a:xfrm>
            <a:custGeom>
              <a:avLst/>
              <a:gdLst/>
              <a:ahLst/>
              <a:rect l="0" t="0" r="r" b="b"/>
              <a:pathLst>
                <a:path w="1571" h="790">
                  <a:moveTo>
                    <a:pt x="13" y="534"/>
                  </a:moveTo>
                  <a:lnTo>
                    <a:pt x="149" y="618"/>
                  </a:lnTo>
                  <a:lnTo>
                    <a:pt x="132" y="512"/>
                  </a:lnTo>
                  <a:lnTo>
                    <a:pt x="158" y="335"/>
                  </a:lnTo>
                  <a:lnTo>
                    <a:pt x="251" y="295"/>
                  </a:lnTo>
                  <a:lnTo>
                    <a:pt x="264" y="490"/>
                  </a:lnTo>
                  <a:lnTo>
                    <a:pt x="530" y="154"/>
                  </a:lnTo>
                  <a:lnTo>
                    <a:pt x="587" y="132"/>
                  </a:lnTo>
                  <a:lnTo>
                    <a:pt x="543" y="264"/>
                  </a:lnTo>
                  <a:lnTo>
                    <a:pt x="706" y="326"/>
                  </a:lnTo>
                  <a:lnTo>
                    <a:pt x="825" y="194"/>
                  </a:lnTo>
                  <a:lnTo>
                    <a:pt x="891" y="233"/>
                  </a:lnTo>
                  <a:lnTo>
                    <a:pt x="830" y="348"/>
                  </a:lnTo>
                  <a:lnTo>
                    <a:pt x="913" y="282"/>
                  </a:lnTo>
                  <a:lnTo>
                    <a:pt x="1032" y="335"/>
                  </a:lnTo>
                  <a:lnTo>
                    <a:pt x="935" y="433"/>
                  </a:lnTo>
                  <a:lnTo>
                    <a:pt x="1263" y="490"/>
                  </a:lnTo>
                  <a:lnTo>
                    <a:pt x="1041" y="556"/>
                  </a:lnTo>
                  <a:lnTo>
                    <a:pt x="1311" y="591"/>
                  </a:lnTo>
                  <a:lnTo>
                    <a:pt x="993" y="671"/>
                  </a:lnTo>
                  <a:lnTo>
                    <a:pt x="1059" y="733"/>
                  </a:lnTo>
                  <a:lnTo>
                    <a:pt x="971" y="790"/>
                  </a:lnTo>
                  <a:lnTo>
                    <a:pt x="1129" y="790"/>
                  </a:lnTo>
                  <a:lnTo>
                    <a:pt x="1116" y="741"/>
                  </a:lnTo>
                  <a:lnTo>
                    <a:pt x="1285" y="785"/>
                  </a:lnTo>
                  <a:lnTo>
                    <a:pt x="1263" y="662"/>
                  </a:lnTo>
                  <a:lnTo>
                    <a:pt x="1417" y="605"/>
                  </a:lnTo>
                  <a:lnTo>
                    <a:pt x="1307" y="547"/>
                  </a:lnTo>
                  <a:lnTo>
                    <a:pt x="1571" y="525"/>
                  </a:lnTo>
                  <a:lnTo>
                    <a:pt x="1342" y="397"/>
                  </a:lnTo>
                  <a:lnTo>
                    <a:pt x="1076" y="366"/>
                  </a:lnTo>
                  <a:lnTo>
                    <a:pt x="1285" y="242"/>
                  </a:lnTo>
                  <a:lnTo>
                    <a:pt x="913" y="242"/>
                  </a:lnTo>
                  <a:lnTo>
                    <a:pt x="1094" y="119"/>
                  </a:lnTo>
                  <a:lnTo>
                    <a:pt x="816" y="154"/>
                  </a:lnTo>
                  <a:lnTo>
                    <a:pt x="693" y="211"/>
                  </a:lnTo>
                  <a:lnTo>
                    <a:pt x="803" y="0"/>
                  </a:lnTo>
                  <a:lnTo>
                    <a:pt x="472" y="119"/>
                  </a:lnTo>
                  <a:lnTo>
                    <a:pt x="295" y="379"/>
                  </a:lnTo>
                  <a:lnTo>
                    <a:pt x="264" y="233"/>
                  </a:lnTo>
                  <a:lnTo>
                    <a:pt x="114" y="335"/>
                  </a:lnTo>
                  <a:lnTo>
                    <a:pt x="101" y="525"/>
                  </a:lnTo>
                  <a:lnTo>
                    <a:pt x="0" y="490"/>
                  </a:lnTo>
                  <a:lnTo>
                    <a:pt x="35" y="662"/>
                  </a:lnTo>
                  <a:lnTo>
                    <a:pt x="13" y="5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4" name=""/>
            <p:cNvSpPr/>
            <p:nvPr/>
          </p:nvSpPr>
          <p:spPr>
            <a:xfrm>
              <a:off x="7618320" y="455760"/>
              <a:ext cx="157680" cy="87840"/>
            </a:xfrm>
            <a:custGeom>
              <a:avLst/>
              <a:gdLst/>
              <a:ahLst/>
              <a:rect l="0" t="0" r="r" b="b"/>
              <a:pathLst>
                <a:path w="438" h="244">
                  <a:moveTo>
                    <a:pt x="0" y="244"/>
                  </a:moveTo>
                  <a:lnTo>
                    <a:pt x="164" y="0"/>
                  </a:lnTo>
                  <a:lnTo>
                    <a:pt x="164" y="159"/>
                  </a:lnTo>
                  <a:lnTo>
                    <a:pt x="225" y="98"/>
                  </a:lnTo>
                  <a:lnTo>
                    <a:pt x="269" y="187"/>
                  </a:lnTo>
                  <a:lnTo>
                    <a:pt x="438" y="231"/>
                  </a:lnTo>
                  <a:lnTo>
                    <a:pt x="261" y="200"/>
                  </a:lnTo>
                  <a:lnTo>
                    <a:pt x="212" y="142"/>
                  </a:lnTo>
                  <a:lnTo>
                    <a:pt x="137" y="200"/>
                  </a:lnTo>
                  <a:lnTo>
                    <a:pt x="137" y="128"/>
                  </a:lnTo>
                  <a:lnTo>
                    <a:pt x="0" y="244"/>
                  </a:lnTo>
                  <a:close/>
                </a:path>
              </a:pathLst>
            </a:custGeom>
            <a:solidFill>
              <a:srgbClr val="000000"/>
            </a:solidFill>
            <a:ln w="12600">
              <a:solidFill>
                <a:srgbClr val="000000"/>
              </a:solidFill>
              <a:round/>
            </a:ln>
          </p:spPr>
          <p:txBody>
            <a:bodyPr lIns="96120" rIns="96120" tIns="36720" bIns="36720" anchor="t">
              <a:noAutofit/>
            </a:bodyPr>
            <a:p>
              <a:endParaRPr b="0" lang="en-US" sz="1800" spc="-1" strike="noStrike">
                <a:solidFill>
                  <a:srgbClr val="ffffff"/>
                </a:solidFill>
                <a:latin typeface="Arial"/>
              </a:endParaRPr>
            </a:p>
          </p:txBody>
        </p:sp>
        <p:sp>
          <p:nvSpPr>
            <p:cNvPr id="785" name=""/>
            <p:cNvSpPr/>
            <p:nvPr/>
          </p:nvSpPr>
          <p:spPr>
            <a:xfrm>
              <a:off x="7602480" y="1038240"/>
              <a:ext cx="192600" cy="127440"/>
            </a:xfrm>
            <a:custGeom>
              <a:avLst/>
              <a:gdLst/>
              <a:ahLst/>
              <a:rect l="0" t="0" r="r" b="b"/>
              <a:pathLst>
                <a:path w="535" h="354">
                  <a:moveTo>
                    <a:pt x="101" y="124"/>
                  </a:moveTo>
                  <a:lnTo>
                    <a:pt x="318" y="106"/>
                  </a:lnTo>
                  <a:lnTo>
                    <a:pt x="425" y="133"/>
                  </a:lnTo>
                  <a:lnTo>
                    <a:pt x="478" y="79"/>
                  </a:lnTo>
                  <a:lnTo>
                    <a:pt x="535" y="195"/>
                  </a:lnTo>
                  <a:lnTo>
                    <a:pt x="500" y="221"/>
                  </a:lnTo>
                  <a:lnTo>
                    <a:pt x="456" y="177"/>
                  </a:lnTo>
                  <a:lnTo>
                    <a:pt x="380" y="256"/>
                  </a:lnTo>
                  <a:lnTo>
                    <a:pt x="247" y="354"/>
                  </a:lnTo>
                  <a:lnTo>
                    <a:pt x="190" y="354"/>
                  </a:lnTo>
                  <a:lnTo>
                    <a:pt x="101" y="301"/>
                  </a:lnTo>
                  <a:lnTo>
                    <a:pt x="199" y="345"/>
                  </a:lnTo>
                  <a:lnTo>
                    <a:pt x="239" y="345"/>
                  </a:lnTo>
                  <a:lnTo>
                    <a:pt x="318" y="284"/>
                  </a:lnTo>
                  <a:lnTo>
                    <a:pt x="380" y="164"/>
                  </a:lnTo>
                  <a:lnTo>
                    <a:pt x="292" y="142"/>
                  </a:lnTo>
                  <a:lnTo>
                    <a:pt x="234" y="133"/>
                  </a:lnTo>
                  <a:lnTo>
                    <a:pt x="88" y="155"/>
                  </a:lnTo>
                  <a:lnTo>
                    <a:pt x="83" y="247"/>
                  </a:lnTo>
                  <a:lnTo>
                    <a:pt x="39" y="186"/>
                  </a:lnTo>
                  <a:lnTo>
                    <a:pt x="0" y="266"/>
                  </a:lnTo>
                  <a:lnTo>
                    <a:pt x="4" y="98"/>
                  </a:lnTo>
                  <a:lnTo>
                    <a:pt x="57" y="0"/>
                  </a:lnTo>
                  <a:lnTo>
                    <a:pt x="101" y="98"/>
                  </a:lnTo>
                  <a:lnTo>
                    <a:pt x="101" y="1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6" name=""/>
            <p:cNvSpPr/>
            <p:nvPr/>
          </p:nvSpPr>
          <p:spPr>
            <a:xfrm>
              <a:off x="7578720" y="762120"/>
              <a:ext cx="411480" cy="587880"/>
            </a:xfrm>
            <a:custGeom>
              <a:avLst/>
              <a:gdLst/>
              <a:ahLst/>
              <a:rect l="0" t="0" r="r" b="b"/>
              <a:pathLst>
                <a:path w="1143" h="1633">
                  <a:moveTo>
                    <a:pt x="962" y="0"/>
                  </a:moveTo>
                  <a:lnTo>
                    <a:pt x="1076" y="0"/>
                  </a:lnTo>
                  <a:lnTo>
                    <a:pt x="1143" y="79"/>
                  </a:lnTo>
                  <a:lnTo>
                    <a:pt x="1143" y="167"/>
                  </a:lnTo>
                  <a:lnTo>
                    <a:pt x="1046" y="428"/>
                  </a:lnTo>
                  <a:lnTo>
                    <a:pt x="957" y="547"/>
                  </a:lnTo>
                  <a:lnTo>
                    <a:pt x="856" y="565"/>
                  </a:lnTo>
                  <a:lnTo>
                    <a:pt x="834" y="565"/>
                  </a:lnTo>
                  <a:lnTo>
                    <a:pt x="834" y="887"/>
                  </a:lnTo>
                  <a:lnTo>
                    <a:pt x="878" y="1121"/>
                  </a:lnTo>
                  <a:lnTo>
                    <a:pt x="878" y="1311"/>
                  </a:lnTo>
                  <a:lnTo>
                    <a:pt x="702" y="1505"/>
                  </a:lnTo>
                  <a:lnTo>
                    <a:pt x="467" y="1633"/>
                  </a:lnTo>
                  <a:lnTo>
                    <a:pt x="313" y="1633"/>
                  </a:lnTo>
                  <a:lnTo>
                    <a:pt x="238" y="1593"/>
                  </a:lnTo>
                  <a:lnTo>
                    <a:pt x="132" y="1369"/>
                  </a:lnTo>
                  <a:lnTo>
                    <a:pt x="39" y="1289"/>
                  </a:lnTo>
                  <a:lnTo>
                    <a:pt x="0" y="1232"/>
                  </a:lnTo>
                  <a:lnTo>
                    <a:pt x="127" y="1311"/>
                  </a:lnTo>
                  <a:lnTo>
                    <a:pt x="220" y="1395"/>
                  </a:lnTo>
                  <a:lnTo>
                    <a:pt x="405" y="1404"/>
                  </a:lnTo>
                  <a:lnTo>
                    <a:pt x="568" y="1320"/>
                  </a:lnTo>
                  <a:lnTo>
                    <a:pt x="653" y="1232"/>
                  </a:lnTo>
                  <a:lnTo>
                    <a:pt x="750" y="1063"/>
                  </a:lnTo>
                  <a:lnTo>
                    <a:pt x="763" y="869"/>
                  </a:lnTo>
                  <a:lnTo>
                    <a:pt x="799" y="242"/>
                  </a:lnTo>
                  <a:lnTo>
                    <a:pt x="838" y="330"/>
                  </a:lnTo>
                  <a:lnTo>
                    <a:pt x="953" y="216"/>
                  </a:lnTo>
                  <a:lnTo>
                    <a:pt x="1068" y="167"/>
                  </a:lnTo>
                  <a:lnTo>
                    <a:pt x="1099" y="101"/>
                  </a:lnTo>
                  <a:lnTo>
                    <a:pt x="1081" y="39"/>
                  </a:lnTo>
                  <a:lnTo>
                    <a:pt x="1032" y="8"/>
                  </a:lnTo>
                  <a:lnTo>
                    <a:pt x="96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7" name=""/>
            <p:cNvSpPr/>
            <p:nvPr/>
          </p:nvSpPr>
          <p:spPr>
            <a:xfrm>
              <a:off x="6940440" y="1268280"/>
              <a:ext cx="332280" cy="545040"/>
            </a:xfrm>
            <a:custGeom>
              <a:avLst/>
              <a:gdLst/>
              <a:ahLst/>
              <a:rect l="0" t="0" r="r" b="b"/>
              <a:pathLst>
                <a:path w="923" h="1514">
                  <a:moveTo>
                    <a:pt x="114" y="0"/>
                  </a:moveTo>
                  <a:lnTo>
                    <a:pt x="224" y="66"/>
                  </a:lnTo>
                  <a:lnTo>
                    <a:pt x="300" y="374"/>
                  </a:lnTo>
                  <a:lnTo>
                    <a:pt x="538" y="450"/>
                  </a:lnTo>
                  <a:lnTo>
                    <a:pt x="605" y="525"/>
                  </a:lnTo>
                  <a:lnTo>
                    <a:pt x="618" y="644"/>
                  </a:lnTo>
                  <a:lnTo>
                    <a:pt x="734" y="627"/>
                  </a:lnTo>
                  <a:lnTo>
                    <a:pt x="879" y="719"/>
                  </a:lnTo>
                  <a:lnTo>
                    <a:pt x="923" y="843"/>
                  </a:lnTo>
                  <a:lnTo>
                    <a:pt x="923" y="1059"/>
                  </a:lnTo>
                  <a:lnTo>
                    <a:pt x="734" y="1382"/>
                  </a:lnTo>
                  <a:lnTo>
                    <a:pt x="675" y="1514"/>
                  </a:lnTo>
                  <a:lnTo>
                    <a:pt x="703" y="1342"/>
                  </a:lnTo>
                  <a:lnTo>
                    <a:pt x="675" y="1272"/>
                  </a:lnTo>
                  <a:lnTo>
                    <a:pt x="561" y="1161"/>
                  </a:lnTo>
                  <a:lnTo>
                    <a:pt x="380" y="1032"/>
                  </a:lnTo>
                  <a:lnTo>
                    <a:pt x="591" y="1107"/>
                  </a:lnTo>
                  <a:lnTo>
                    <a:pt x="720" y="1205"/>
                  </a:lnTo>
                  <a:lnTo>
                    <a:pt x="791" y="1188"/>
                  </a:lnTo>
                  <a:lnTo>
                    <a:pt x="826" y="1134"/>
                  </a:lnTo>
                  <a:lnTo>
                    <a:pt x="879" y="984"/>
                  </a:lnTo>
                  <a:lnTo>
                    <a:pt x="861" y="834"/>
                  </a:lnTo>
                  <a:lnTo>
                    <a:pt x="800" y="750"/>
                  </a:lnTo>
                  <a:lnTo>
                    <a:pt x="684" y="719"/>
                  </a:lnTo>
                  <a:lnTo>
                    <a:pt x="561" y="719"/>
                  </a:lnTo>
                  <a:lnTo>
                    <a:pt x="516" y="499"/>
                  </a:lnTo>
                  <a:lnTo>
                    <a:pt x="314" y="419"/>
                  </a:lnTo>
                  <a:lnTo>
                    <a:pt x="314" y="486"/>
                  </a:lnTo>
                  <a:lnTo>
                    <a:pt x="224" y="326"/>
                  </a:lnTo>
                  <a:lnTo>
                    <a:pt x="167" y="66"/>
                  </a:lnTo>
                  <a:lnTo>
                    <a:pt x="92" y="44"/>
                  </a:lnTo>
                  <a:lnTo>
                    <a:pt x="44" y="119"/>
                  </a:lnTo>
                  <a:lnTo>
                    <a:pt x="44" y="291"/>
                  </a:lnTo>
                  <a:lnTo>
                    <a:pt x="83" y="486"/>
                  </a:lnTo>
                  <a:lnTo>
                    <a:pt x="194" y="644"/>
                  </a:lnTo>
                  <a:lnTo>
                    <a:pt x="70" y="543"/>
                  </a:lnTo>
                  <a:lnTo>
                    <a:pt x="8" y="374"/>
                  </a:lnTo>
                  <a:lnTo>
                    <a:pt x="0" y="163"/>
                  </a:lnTo>
                  <a:lnTo>
                    <a:pt x="44" y="44"/>
                  </a:lnTo>
                  <a:lnTo>
                    <a:pt x="11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8" name=""/>
            <p:cNvSpPr/>
            <p:nvPr/>
          </p:nvSpPr>
          <p:spPr>
            <a:xfrm>
              <a:off x="6781680" y="1508040"/>
              <a:ext cx="219600" cy="437040"/>
            </a:xfrm>
            <a:custGeom>
              <a:avLst/>
              <a:gdLst/>
              <a:ahLst/>
              <a:rect l="0" t="0" r="r" b="b"/>
              <a:pathLst>
                <a:path w="610" h="1214">
                  <a:moveTo>
                    <a:pt x="610" y="0"/>
                  </a:moveTo>
                  <a:lnTo>
                    <a:pt x="487" y="79"/>
                  </a:lnTo>
                  <a:lnTo>
                    <a:pt x="336" y="375"/>
                  </a:lnTo>
                  <a:lnTo>
                    <a:pt x="190" y="565"/>
                  </a:lnTo>
                  <a:lnTo>
                    <a:pt x="13" y="794"/>
                  </a:lnTo>
                  <a:lnTo>
                    <a:pt x="0" y="919"/>
                  </a:lnTo>
                  <a:lnTo>
                    <a:pt x="35" y="1020"/>
                  </a:lnTo>
                  <a:lnTo>
                    <a:pt x="119" y="1020"/>
                  </a:lnTo>
                  <a:lnTo>
                    <a:pt x="234" y="919"/>
                  </a:lnTo>
                  <a:lnTo>
                    <a:pt x="327" y="702"/>
                  </a:lnTo>
                  <a:lnTo>
                    <a:pt x="450" y="565"/>
                  </a:lnTo>
                  <a:lnTo>
                    <a:pt x="450" y="741"/>
                  </a:lnTo>
                  <a:lnTo>
                    <a:pt x="433" y="900"/>
                  </a:lnTo>
                  <a:lnTo>
                    <a:pt x="296" y="1117"/>
                  </a:lnTo>
                  <a:lnTo>
                    <a:pt x="296" y="1183"/>
                  </a:lnTo>
                  <a:lnTo>
                    <a:pt x="433" y="1214"/>
                  </a:lnTo>
                  <a:lnTo>
                    <a:pt x="336" y="1157"/>
                  </a:lnTo>
                  <a:lnTo>
                    <a:pt x="349" y="1117"/>
                  </a:lnTo>
                  <a:lnTo>
                    <a:pt x="441" y="958"/>
                  </a:lnTo>
                  <a:lnTo>
                    <a:pt x="504" y="671"/>
                  </a:lnTo>
                  <a:lnTo>
                    <a:pt x="460" y="512"/>
                  </a:lnTo>
                  <a:lnTo>
                    <a:pt x="358" y="605"/>
                  </a:lnTo>
                  <a:lnTo>
                    <a:pt x="145" y="967"/>
                  </a:lnTo>
                  <a:lnTo>
                    <a:pt x="88" y="980"/>
                  </a:lnTo>
                  <a:lnTo>
                    <a:pt x="35" y="941"/>
                  </a:lnTo>
                  <a:lnTo>
                    <a:pt x="35" y="830"/>
                  </a:lnTo>
                  <a:lnTo>
                    <a:pt x="119" y="684"/>
                  </a:lnTo>
                  <a:lnTo>
                    <a:pt x="358" y="393"/>
                  </a:lnTo>
                  <a:lnTo>
                    <a:pt x="504" y="110"/>
                  </a:lnTo>
                  <a:lnTo>
                    <a:pt x="61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9" name=""/>
            <p:cNvSpPr/>
            <p:nvPr/>
          </p:nvSpPr>
          <p:spPr>
            <a:xfrm>
              <a:off x="6945480" y="1754280"/>
              <a:ext cx="135360" cy="208440"/>
            </a:xfrm>
            <a:custGeom>
              <a:avLst/>
              <a:gdLst/>
              <a:ahLst/>
              <a:rect l="0" t="0" r="r" b="b"/>
              <a:pathLst>
                <a:path w="376" h="579">
                  <a:moveTo>
                    <a:pt x="0" y="513"/>
                  </a:moveTo>
                  <a:lnTo>
                    <a:pt x="124" y="362"/>
                  </a:lnTo>
                  <a:lnTo>
                    <a:pt x="146" y="217"/>
                  </a:lnTo>
                  <a:lnTo>
                    <a:pt x="288" y="0"/>
                  </a:lnTo>
                  <a:lnTo>
                    <a:pt x="323" y="141"/>
                  </a:lnTo>
                  <a:lnTo>
                    <a:pt x="301" y="526"/>
                  </a:lnTo>
                  <a:lnTo>
                    <a:pt x="376" y="579"/>
                  </a:lnTo>
                  <a:lnTo>
                    <a:pt x="265" y="535"/>
                  </a:lnTo>
                  <a:lnTo>
                    <a:pt x="212" y="318"/>
                  </a:lnTo>
                  <a:lnTo>
                    <a:pt x="124" y="424"/>
                  </a:lnTo>
                  <a:lnTo>
                    <a:pt x="0" y="51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0" name=""/>
            <p:cNvSpPr/>
            <p:nvPr/>
          </p:nvSpPr>
          <p:spPr>
            <a:xfrm>
              <a:off x="7110360" y="1765440"/>
              <a:ext cx="89280" cy="187560"/>
            </a:xfrm>
            <a:custGeom>
              <a:avLst/>
              <a:gdLst/>
              <a:ahLst/>
              <a:rect l="0" t="0" r="r" b="b"/>
              <a:pathLst>
                <a:path w="248" h="521">
                  <a:moveTo>
                    <a:pt x="0" y="393"/>
                  </a:moveTo>
                  <a:lnTo>
                    <a:pt x="8" y="198"/>
                  </a:lnTo>
                  <a:lnTo>
                    <a:pt x="67" y="83"/>
                  </a:lnTo>
                  <a:lnTo>
                    <a:pt x="120" y="499"/>
                  </a:lnTo>
                  <a:lnTo>
                    <a:pt x="200" y="499"/>
                  </a:lnTo>
                  <a:lnTo>
                    <a:pt x="231" y="57"/>
                  </a:lnTo>
                  <a:lnTo>
                    <a:pt x="248" y="0"/>
                  </a:lnTo>
                  <a:lnTo>
                    <a:pt x="231" y="340"/>
                  </a:lnTo>
                  <a:lnTo>
                    <a:pt x="200" y="521"/>
                  </a:lnTo>
                  <a:lnTo>
                    <a:pt x="102" y="521"/>
                  </a:lnTo>
                  <a:lnTo>
                    <a:pt x="52" y="163"/>
                  </a:lnTo>
                  <a:lnTo>
                    <a:pt x="26" y="211"/>
                  </a:lnTo>
                  <a:lnTo>
                    <a:pt x="0" y="39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1" name=""/>
            <p:cNvSpPr/>
            <p:nvPr/>
          </p:nvSpPr>
          <p:spPr>
            <a:xfrm>
              <a:off x="8253360" y="1027080"/>
              <a:ext cx="216360" cy="500400"/>
            </a:xfrm>
            <a:custGeom>
              <a:avLst/>
              <a:gdLst/>
              <a:ahLst/>
              <a:rect l="0" t="0" r="r" b="b"/>
              <a:pathLst>
                <a:path w="601" h="1390">
                  <a:moveTo>
                    <a:pt x="159" y="755"/>
                  </a:moveTo>
                  <a:lnTo>
                    <a:pt x="208" y="533"/>
                  </a:lnTo>
                  <a:lnTo>
                    <a:pt x="402" y="476"/>
                  </a:lnTo>
                  <a:lnTo>
                    <a:pt x="601" y="0"/>
                  </a:lnTo>
                  <a:lnTo>
                    <a:pt x="601" y="136"/>
                  </a:lnTo>
                  <a:lnTo>
                    <a:pt x="437" y="511"/>
                  </a:lnTo>
                  <a:lnTo>
                    <a:pt x="221" y="577"/>
                  </a:lnTo>
                  <a:lnTo>
                    <a:pt x="190" y="755"/>
                  </a:lnTo>
                  <a:lnTo>
                    <a:pt x="265" y="755"/>
                  </a:lnTo>
                  <a:lnTo>
                    <a:pt x="79" y="830"/>
                  </a:lnTo>
                  <a:lnTo>
                    <a:pt x="35" y="979"/>
                  </a:lnTo>
                  <a:lnTo>
                    <a:pt x="44" y="1169"/>
                  </a:lnTo>
                  <a:lnTo>
                    <a:pt x="243" y="1390"/>
                  </a:lnTo>
                  <a:lnTo>
                    <a:pt x="35" y="1196"/>
                  </a:lnTo>
                  <a:lnTo>
                    <a:pt x="0" y="1037"/>
                  </a:lnTo>
                  <a:lnTo>
                    <a:pt x="13" y="874"/>
                  </a:lnTo>
                  <a:lnTo>
                    <a:pt x="92" y="759"/>
                  </a:lnTo>
                  <a:lnTo>
                    <a:pt x="159" y="75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2" name=""/>
            <p:cNvSpPr/>
            <p:nvPr/>
          </p:nvSpPr>
          <p:spPr>
            <a:xfrm>
              <a:off x="8397720" y="1027080"/>
              <a:ext cx="363960" cy="486000"/>
            </a:xfrm>
            <a:custGeom>
              <a:avLst/>
              <a:gdLst/>
              <a:ahLst/>
              <a:rect l="0" t="0" r="r" b="b"/>
              <a:pathLst>
                <a:path w="1011" h="1350">
                  <a:moveTo>
                    <a:pt x="278" y="0"/>
                  </a:moveTo>
                  <a:lnTo>
                    <a:pt x="340" y="44"/>
                  </a:lnTo>
                  <a:lnTo>
                    <a:pt x="358" y="158"/>
                  </a:lnTo>
                  <a:lnTo>
                    <a:pt x="358" y="264"/>
                  </a:lnTo>
                  <a:lnTo>
                    <a:pt x="242" y="458"/>
                  </a:lnTo>
                  <a:lnTo>
                    <a:pt x="269" y="604"/>
                  </a:lnTo>
                  <a:lnTo>
                    <a:pt x="605" y="759"/>
                  </a:lnTo>
                  <a:lnTo>
                    <a:pt x="1007" y="1187"/>
                  </a:lnTo>
                  <a:lnTo>
                    <a:pt x="1011" y="1297"/>
                  </a:lnTo>
                  <a:lnTo>
                    <a:pt x="994" y="1350"/>
                  </a:lnTo>
                  <a:lnTo>
                    <a:pt x="839" y="1350"/>
                  </a:lnTo>
                  <a:lnTo>
                    <a:pt x="710" y="1266"/>
                  </a:lnTo>
                  <a:lnTo>
                    <a:pt x="600" y="1129"/>
                  </a:lnTo>
                  <a:lnTo>
                    <a:pt x="543" y="1050"/>
                  </a:lnTo>
                  <a:lnTo>
                    <a:pt x="468" y="1032"/>
                  </a:lnTo>
                  <a:lnTo>
                    <a:pt x="556" y="1032"/>
                  </a:lnTo>
                  <a:lnTo>
                    <a:pt x="719" y="1257"/>
                  </a:lnTo>
                  <a:lnTo>
                    <a:pt x="928" y="1319"/>
                  </a:lnTo>
                  <a:lnTo>
                    <a:pt x="976" y="1257"/>
                  </a:lnTo>
                  <a:lnTo>
                    <a:pt x="954" y="1151"/>
                  </a:lnTo>
                  <a:lnTo>
                    <a:pt x="583" y="847"/>
                  </a:lnTo>
                  <a:lnTo>
                    <a:pt x="530" y="759"/>
                  </a:lnTo>
                  <a:lnTo>
                    <a:pt x="242" y="684"/>
                  </a:lnTo>
                  <a:lnTo>
                    <a:pt x="194" y="759"/>
                  </a:lnTo>
                  <a:lnTo>
                    <a:pt x="0" y="887"/>
                  </a:lnTo>
                  <a:lnTo>
                    <a:pt x="185" y="737"/>
                  </a:lnTo>
                  <a:lnTo>
                    <a:pt x="194" y="643"/>
                  </a:lnTo>
                  <a:lnTo>
                    <a:pt x="194" y="432"/>
                  </a:lnTo>
                  <a:lnTo>
                    <a:pt x="327" y="264"/>
                  </a:lnTo>
                  <a:lnTo>
                    <a:pt x="327" y="57"/>
                  </a:lnTo>
                  <a:lnTo>
                    <a:pt x="27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3" name=""/>
            <p:cNvSpPr/>
            <p:nvPr/>
          </p:nvSpPr>
          <p:spPr>
            <a:xfrm>
              <a:off x="8332920" y="1409760"/>
              <a:ext cx="308160" cy="287640"/>
            </a:xfrm>
            <a:custGeom>
              <a:avLst/>
              <a:gdLst/>
              <a:ahLst/>
              <a:rect l="0" t="0" r="r" b="b"/>
              <a:pathLst>
                <a:path w="856" h="799">
                  <a:moveTo>
                    <a:pt x="640" y="0"/>
                  </a:moveTo>
                  <a:lnTo>
                    <a:pt x="622" y="66"/>
                  </a:lnTo>
                  <a:lnTo>
                    <a:pt x="746" y="330"/>
                  </a:lnTo>
                  <a:lnTo>
                    <a:pt x="812" y="600"/>
                  </a:lnTo>
                  <a:lnTo>
                    <a:pt x="737" y="600"/>
                  </a:lnTo>
                  <a:lnTo>
                    <a:pt x="609" y="481"/>
                  </a:lnTo>
                  <a:lnTo>
                    <a:pt x="494" y="233"/>
                  </a:lnTo>
                  <a:lnTo>
                    <a:pt x="401" y="194"/>
                  </a:lnTo>
                  <a:lnTo>
                    <a:pt x="414" y="330"/>
                  </a:lnTo>
                  <a:lnTo>
                    <a:pt x="499" y="428"/>
                  </a:lnTo>
                  <a:lnTo>
                    <a:pt x="499" y="622"/>
                  </a:lnTo>
                  <a:lnTo>
                    <a:pt x="441" y="759"/>
                  </a:lnTo>
                  <a:lnTo>
                    <a:pt x="361" y="706"/>
                  </a:lnTo>
                  <a:lnTo>
                    <a:pt x="264" y="481"/>
                  </a:lnTo>
                  <a:lnTo>
                    <a:pt x="238" y="330"/>
                  </a:lnTo>
                  <a:lnTo>
                    <a:pt x="180" y="286"/>
                  </a:lnTo>
                  <a:lnTo>
                    <a:pt x="167" y="675"/>
                  </a:lnTo>
                  <a:lnTo>
                    <a:pt x="92" y="733"/>
                  </a:lnTo>
                  <a:lnTo>
                    <a:pt x="22" y="675"/>
                  </a:lnTo>
                  <a:lnTo>
                    <a:pt x="8" y="343"/>
                  </a:lnTo>
                  <a:lnTo>
                    <a:pt x="0" y="671"/>
                  </a:lnTo>
                  <a:lnTo>
                    <a:pt x="52" y="785"/>
                  </a:lnTo>
                  <a:lnTo>
                    <a:pt x="167" y="785"/>
                  </a:lnTo>
                  <a:lnTo>
                    <a:pt x="211" y="693"/>
                  </a:lnTo>
                  <a:lnTo>
                    <a:pt x="229" y="392"/>
                  </a:lnTo>
                  <a:lnTo>
                    <a:pt x="246" y="512"/>
                  </a:lnTo>
                  <a:lnTo>
                    <a:pt x="348" y="768"/>
                  </a:lnTo>
                  <a:lnTo>
                    <a:pt x="455" y="799"/>
                  </a:lnTo>
                  <a:lnTo>
                    <a:pt x="530" y="693"/>
                  </a:lnTo>
                  <a:lnTo>
                    <a:pt x="530" y="441"/>
                  </a:lnTo>
                  <a:lnTo>
                    <a:pt x="737" y="649"/>
                  </a:lnTo>
                  <a:lnTo>
                    <a:pt x="847" y="649"/>
                  </a:lnTo>
                  <a:lnTo>
                    <a:pt x="856" y="512"/>
                  </a:lnTo>
                  <a:lnTo>
                    <a:pt x="777" y="255"/>
                  </a:lnTo>
                  <a:lnTo>
                    <a:pt x="640" y="57"/>
                  </a:lnTo>
                  <a:lnTo>
                    <a:pt x="64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4" name=""/>
            <p:cNvSpPr/>
            <p:nvPr/>
          </p:nvSpPr>
          <p:spPr>
            <a:xfrm>
              <a:off x="7085160" y="1111320"/>
              <a:ext cx="1373400" cy="1173600"/>
            </a:xfrm>
            <a:custGeom>
              <a:avLst/>
              <a:gdLst/>
              <a:ahLst/>
              <a:rect l="0" t="0" r="r" b="b"/>
              <a:pathLst>
                <a:path w="3815" h="3260">
                  <a:moveTo>
                    <a:pt x="1371" y="277"/>
                  </a:moveTo>
                  <a:lnTo>
                    <a:pt x="1300" y="286"/>
                  </a:lnTo>
                  <a:lnTo>
                    <a:pt x="1199" y="449"/>
                  </a:lnTo>
                  <a:lnTo>
                    <a:pt x="1155" y="330"/>
                  </a:lnTo>
                  <a:lnTo>
                    <a:pt x="1036" y="264"/>
                  </a:lnTo>
                  <a:lnTo>
                    <a:pt x="939" y="317"/>
                  </a:lnTo>
                  <a:lnTo>
                    <a:pt x="908" y="524"/>
                  </a:lnTo>
                  <a:lnTo>
                    <a:pt x="564" y="784"/>
                  </a:lnTo>
                  <a:lnTo>
                    <a:pt x="586" y="896"/>
                  </a:lnTo>
                  <a:lnTo>
                    <a:pt x="502" y="993"/>
                  </a:lnTo>
                  <a:lnTo>
                    <a:pt x="502" y="1081"/>
                  </a:lnTo>
                  <a:lnTo>
                    <a:pt x="599" y="1323"/>
                  </a:lnTo>
                  <a:lnTo>
                    <a:pt x="608" y="1623"/>
                  </a:lnTo>
                  <a:lnTo>
                    <a:pt x="542" y="1910"/>
                  </a:lnTo>
                  <a:lnTo>
                    <a:pt x="299" y="2077"/>
                  </a:lnTo>
                  <a:lnTo>
                    <a:pt x="268" y="2311"/>
                  </a:lnTo>
                  <a:lnTo>
                    <a:pt x="189" y="2311"/>
                  </a:lnTo>
                  <a:lnTo>
                    <a:pt x="154" y="2122"/>
                  </a:lnTo>
                  <a:lnTo>
                    <a:pt x="79" y="2122"/>
                  </a:lnTo>
                  <a:lnTo>
                    <a:pt x="44" y="2329"/>
                  </a:lnTo>
                  <a:lnTo>
                    <a:pt x="0" y="2382"/>
                  </a:lnTo>
                  <a:lnTo>
                    <a:pt x="171" y="2661"/>
                  </a:lnTo>
                  <a:lnTo>
                    <a:pt x="291" y="2678"/>
                  </a:lnTo>
                  <a:lnTo>
                    <a:pt x="502" y="2881"/>
                  </a:lnTo>
                  <a:lnTo>
                    <a:pt x="696" y="2908"/>
                  </a:lnTo>
                  <a:lnTo>
                    <a:pt x="806" y="2797"/>
                  </a:lnTo>
                  <a:lnTo>
                    <a:pt x="1075" y="2395"/>
                  </a:lnTo>
                  <a:lnTo>
                    <a:pt x="1098" y="2938"/>
                  </a:lnTo>
                  <a:lnTo>
                    <a:pt x="1075" y="3260"/>
                  </a:lnTo>
                  <a:lnTo>
                    <a:pt x="3277" y="3260"/>
                  </a:lnTo>
                  <a:lnTo>
                    <a:pt x="3118" y="2908"/>
                  </a:lnTo>
                  <a:lnTo>
                    <a:pt x="3034" y="2603"/>
                  </a:lnTo>
                  <a:lnTo>
                    <a:pt x="3017" y="2157"/>
                  </a:lnTo>
                  <a:lnTo>
                    <a:pt x="3145" y="2258"/>
                  </a:lnTo>
                  <a:lnTo>
                    <a:pt x="3277" y="2258"/>
                  </a:lnTo>
                  <a:lnTo>
                    <a:pt x="3462" y="2139"/>
                  </a:lnTo>
                  <a:lnTo>
                    <a:pt x="3581" y="2122"/>
                  </a:lnTo>
                  <a:lnTo>
                    <a:pt x="3656" y="2003"/>
                  </a:lnTo>
                  <a:lnTo>
                    <a:pt x="3705" y="1694"/>
                  </a:lnTo>
                  <a:lnTo>
                    <a:pt x="3815" y="1570"/>
                  </a:lnTo>
                  <a:lnTo>
                    <a:pt x="3758" y="1478"/>
                  </a:lnTo>
                  <a:lnTo>
                    <a:pt x="3678" y="1478"/>
                  </a:lnTo>
                  <a:lnTo>
                    <a:pt x="3608" y="1539"/>
                  </a:lnTo>
                  <a:lnTo>
                    <a:pt x="3550" y="1557"/>
                  </a:lnTo>
                  <a:lnTo>
                    <a:pt x="3471" y="1478"/>
                  </a:lnTo>
                  <a:lnTo>
                    <a:pt x="3374" y="1465"/>
                  </a:lnTo>
                  <a:lnTo>
                    <a:pt x="3198" y="1350"/>
                  </a:lnTo>
                  <a:lnTo>
                    <a:pt x="3092" y="1226"/>
                  </a:lnTo>
                  <a:lnTo>
                    <a:pt x="3074" y="1081"/>
                  </a:lnTo>
                  <a:lnTo>
                    <a:pt x="3092" y="931"/>
                  </a:lnTo>
                  <a:lnTo>
                    <a:pt x="3167" y="816"/>
                  </a:lnTo>
                  <a:lnTo>
                    <a:pt x="3259" y="705"/>
                  </a:lnTo>
                  <a:lnTo>
                    <a:pt x="3250" y="520"/>
                  </a:lnTo>
                  <a:lnTo>
                    <a:pt x="3250" y="388"/>
                  </a:lnTo>
                  <a:lnTo>
                    <a:pt x="3198" y="286"/>
                  </a:lnTo>
                  <a:lnTo>
                    <a:pt x="3074" y="246"/>
                  </a:lnTo>
                  <a:lnTo>
                    <a:pt x="3030" y="220"/>
                  </a:lnTo>
                  <a:lnTo>
                    <a:pt x="2937" y="57"/>
                  </a:lnTo>
                  <a:lnTo>
                    <a:pt x="2858" y="13"/>
                  </a:lnTo>
                  <a:lnTo>
                    <a:pt x="2783" y="0"/>
                  </a:lnTo>
                  <a:lnTo>
                    <a:pt x="2717" y="30"/>
                  </a:lnTo>
                  <a:lnTo>
                    <a:pt x="2664" y="114"/>
                  </a:lnTo>
                  <a:lnTo>
                    <a:pt x="2580" y="167"/>
                  </a:lnTo>
                  <a:lnTo>
                    <a:pt x="2483" y="180"/>
                  </a:lnTo>
                  <a:lnTo>
                    <a:pt x="2377" y="180"/>
                  </a:lnTo>
                  <a:lnTo>
                    <a:pt x="2395" y="343"/>
                  </a:lnTo>
                  <a:lnTo>
                    <a:pt x="2395" y="546"/>
                  </a:lnTo>
                  <a:lnTo>
                    <a:pt x="2377" y="679"/>
                  </a:lnTo>
                  <a:lnTo>
                    <a:pt x="2280" y="843"/>
                  </a:lnTo>
                  <a:lnTo>
                    <a:pt x="2161" y="1085"/>
                  </a:lnTo>
                  <a:lnTo>
                    <a:pt x="2069" y="1381"/>
                  </a:lnTo>
                  <a:lnTo>
                    <a:pt x="2064" y="1557"/>
                  </a:lnTo>
                  <a:lnTo>
                    <a:pt x="2020" y="1707"/>
                  </a:lnTo>
                  <a:lnTo>
                    <a:pt x="1958" y="1853"/>
                  </a:lnTo>
                  <a:lnTo>
                    <a:pt x="1932" y="2095"/>
                  </a:lnTo>
                  <a:lnTo>
                    <a:pt x="1950" y="2289"/>
                  </a:lnTo>
                  <a:lnTo>
                    <a:pt x="2020" y="2519"/>
                  </a:lnTo>
                  <a:lnTo>
                    <a:pt x="2064" y="2603"/>
                  </a:lnTo>
                  <a:lnTo>
                    <a:pt x="1932" y="2691"/>
                  </a:lnTo>
                  <a:lnTo>
                    <a:pt x="1781" y="2744"/>
                  </a:lnTo>
                  <a:lnTo>
                    <a:pt x="1609" y="2758"/>
                  </a:lnTo>
                  <a:lnTo>
                    <a:pt x="1503" y="2758"/>
                  </a:lnTo>
                  <a:lnTo>
                    <a:pt x="1437" y="2731"/>
                  </a:lnTo>
                  <a:lnTo>
                    <a:pt x="1437" y="2533"/>
                  </a:lnTo>
                  <a:lnTo>
                    <a:pt x="1437" y="2245"/>
                  </a:lnTo>
                  <a:lnTo>
                    <a:pt x="1393" y="1958"/>
                  </a:lnTo>
                  <a:lnTo>
                    <a:pt x="1327" y="1707"/>
                  </a:lnTo>
                  <a:lnTo>
                    <a:pt x="1296" y="1500"/>
                  </a:lnTo>
                  <a:lnTo>
                    <a:pt x="1278" y="1213"/>
                  </a:lnTo>
                  <a:lnTo>
                    <a:pt x="1327" y="966"/>
                  </a:lnTo>
                  <a:lnTo>
                    <a:pt x="1393" y="758"/>
                  </a:lnTo>
                  <a:lnTo>
                    <a:pt x="1397" y="639"/>
                  </a:lnTo>
                  <a:lnTo>
                    <a:pt x="1371" y="467"/>
                  </a:lnTo>
                  <a:lnTo>
                    <a:pt x="1371" y="330"/>
                  </a:lnTo>
                  <a:lnTo>
                    <a:pt x="1393" y="286"/>
                  </a:lnTo>
                  <a:lnTo>
                    <a:pt x="1371" y="27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5" name=""/>
            <p:cNvSpPr/>
            <p:nvPr/>
          </p:nvSpPr>
          <p:spPr>
            <a:xfrm>
              <a:off x="7620120" y="1347840"/>
              <a:ext cx="173520" cy="762480"/>
            </a:xfrm>
            <a:custGeom>
              <a:avLst/>
              <a:gdLst/>
              <a:ahLst/>
              <a:rect l="0" t="0" r="r" b="b"/>
              <a:pathLst>
                <a:path w="482" h="2118">
                  <a:moveTo>
                    <a:pt x="190" y="22"/>
                  </a:moveTo>
                  <a:lnTo>
                    <a:pt x="66" y="97"/>
                  </a:lnTo>
                  <a:lnTo>
                    <a:pt x="74" y="295"/>
                  </a:lnTo>
                  <a:lnTo>
                    <a:pt x="172" y="357"/>
                  </a:lnTo>
                  <a:lnTo>
                    <a:pt x="57" y="578"/>
                  </a:lnTo>
                  <a:lnTo>
                    <a:pt x="0" y="821"/>
                  </a:lnTo>
                  <a:lnTo>
                    <a:pt x="0" y="1054"/>
                  </a:lnTo>
                  <a:lnTo>
                    <a:pt x="57" y="1271"/>
                  </a:lnTo>
                  <a:lnTo>
                    <a:pt x="101" y="1531"/>
                  </a:lnTo>
                  <a:lnTo>
                    <a:pt x="101" y="1677"/>
                  </a:lnTo>
                  <a:lnTo>
                    <a:pt x="57" y="1858"/>
                  </a:lnTo>
                  <a:lnTo>
                    <a:pt x="252" y="2118"/>
                  </a:lnTo>
                  <a:lnTo>
                    <a:pt x="327" y="2074"/>
                  </a:lnTo>
                  <a:lnTo>
                    <a:pt x="385" y="1898"/>
                  </a:lnTo>
                  <a:lnTo>
                    <a:pt x="478" y="1664"/>
                  </a:lnTo>
                  <a:lnTo>
                    <a:pt x="482" y="1539"/>
                  </a:lnTo>
                  <a:lnTo>
                    <a:pt x="407" y="1310"/>
                  </a:lnTo>
                  <a:lnTo>
                    <a:pt x="314" y="1081"/>
                  </a:lnTo>
                  <a:lnTo>
                    <a:pt x="283" y="922"/>
                  </a:lnTo>
                  <a:lnTo>
                    <a:pt x="283" y="768"/>
                  </a:lnTo>
                  <a:lnTo>
                    <a:pt x="314" y="631"/>
                  </a:lnTo>
                  <a:lnTo>
                    <a:pt x="385" y="463"/>
                  </a:lnTo>
                  <a:lnTo>
                    <a:pt x="385" y="396"/>
                  </a:lnTo>
                  <a:lnTo>
                    <a:pt x="353" y="326"/>
                  </a:lnTo>
                  <a:lnTo>
                    <a:pt x="442" y="242"/>
                  </a:lnTo>
                  <a:lnTo>
                    <a:pt x="442" y="163"/>
                  </a:lnTo>
                  <a:lnTo>
                    <a:pt x="314" y="0"/>
                  </a:lnTo>
                  <a:lnTo>
                    <a:pt x="416" y="163"/>
                  </a:lnTo>
                  <a:lnTo>
                    <a:pt x="416" y="229"/>
                  </a:lnTo>
                  <a:lnTo>
                    <a:pt x="322" y="295"/>
                  </a:lnTo>
                  <a:lnTo>
                    <a:pt x="363" y="396"/>
                  </a:lnTo>
                  <a:lnTo>
                    <a:pt x="353" y="463"/>
                  </a:lnTo>
                  <a:lnTo>
                    <a:pt x="261" y="658"/>
                  </a:lnTo>
                  <a:lnTo>
                    <a:pt x="252" y="852"/>
                  </a:lnTo>
                  <a:lnTo>
                    <a:pt x="269" y="1028"/>
                  </a:lnTo>
                  <a:lnTo>
                    <a:pt x="327" y="1279"/>
                  </a:lnTo>
                  <a:lnTo>
                    <a:pt x="407" y="1487"/>
                  </a:lnTo>
                  <a:lnTo>
                    <a:pt x="407" y="1651"/>
                  </a:lnTo>
                  <a:lnTo>
                    <a:pt x="363" y="1858"/>
                  </a:lnTo>
                  <a:lnTo>
                    <a:pt x="269" y="2074"/>
                  </a:lnTo>
                  <a:lnTo>
                    <a:pt x="164" y="1955"/>
                  </a:lnTo>
                  <a:lnTo>
                    <a:pt x="114" y="1858"/>
                  </a:lnTo>
                  <a:lnTo>
                    <a:pt x="124" y="1651"/>
                  </a:lnTo>
                  <a:lnTo>
                    <a:pt x="114" y="1442"/>
                  </a:lnTo>
                  <a:lnTo>
                    <a:pt x="57" y="1160"/>
                  </a:lnTo>
                  <a:lnTo>
                    <a:pt x="35" y="971"/>
                  </a:lnTo>
                  <a:lnTo>
                    <a:pt x="57" y="755"/>
                  </a:lnTo>
                  <a:lnTo>
                    <a:pt x="101" y="552"/>
                  </a:lnTo>
                  <a:lnTo>
                    <a:pt x="203" y="339"/>
                  </a:lnTo>
                  <a:lnTo>
                    <a:pt x="114" y="251"/>
                  </a:lnTo>
                  <a:lnTo>
                    <a:pt x="101" y="105"/>
                  </a:lnTo>
                  <a:lnTo>
                    <a:pt x="190" y="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6" name=""/>
            <p:cNvSpPr/>
            <p:nvPr/>
          </p:nvSpPr>
          <p:spPr>
            <a:xfrm>
              <a:off x="8115480" y="455760"/>
              <a:ext cx="273240" cy="371880"/>
            </a:xfrm>
            <a:custGeom>
              <a:avLst/>
              <a:gdLst/>
              <a:ahLst/>
              <a:rect l="0" t="0" r="r" b="b"/>
              <a:pathLst>
                <a:path w="759" h="1033">
                  <a:moveTo>
                    <a:pt x="127" y="265"/>
                  </a:moveTo>
                  <a:lnTo>
                    <a:pt x="233" y="242"/>
                  </a:lnTo>
                  <a:lnTo>
                    <a:pt x="343" y="246"/>
                  </a:lnTo>
                  <a:lnTo>
                    <a:pt x="433" y="292"/>
                  </a:lnTo>
                  <a:lnTo>
                    <a:pt x="481" y="349"/>
                  </a:lnTo>
                  <a:lnTo>
                    <a:pt x="512" y="402"/>
                  </a:lnTo>
                  <a:lnTo>
                    <a:pt x="512" y="455"/>
                  </a:lnTo>
                  <a:lnTo>
                    <a:pt x="477" y="486"/>
                  </a:lnTo>
                  <a:lnTo>
                    <a:pt x="433" y="516"/>
                  </a:lnTo>
                  <a:lnTo>
                    <a:pt x="370" y="516"/>
                  </a:lnTo>
                  <a:lnTo>
                    <a:pt x="308" y="503"/>
                  </a:lnTo>
                  <a:lnTo>
                    <a:pt x="238" y="459"/>
                  </a:lnTo>
                  <a:lnTo>
                    <a:pt x="189" y="419"/>
                  </a:lnTo>
                  <a:lnTo>
                    <a:pt x="171" y="556"/>
                  </a:lnTo>
                  <a:lnTo>
                    <a:pt x="127" y="644"/>
                  </a:lnTo>
                  <a:lnTo>
                    <a:pt x="0" y="866"/>
                  </a:lnTo>
                  <a:lnTo>
                    <a:pt x="185" y="1033"/>
                  </a:lnTo>
                  <a:lnTo>
                    <a:pt x="326" y="750"/>
                  </a:lnTo>
                  <a:lnTo>
                    <a:pt x="477" y="782"/>
                  </a:lnTo>
                  <a:lnTo>
                    <a:pt x="578" y="755"/>
                  </a:lnTo>
                  <a:lnTo>
                    <a:pt x="671" y="693"/>
                  </a:lnTo>
                  <a:lnTo>
                    <a:pt x="728" y="613"/>
                  </a:lnTo>
                  <a:lnTo>
                    <a:pt x="759" y="508"/>
                  </a:lnTo>
                  <a:lnTo>
                    <a:pt x="759" y="397"/>
                  </a:lnTo>
                  <a:lnTo>
                    <a:pt x="728" y="278"/>
                  </a:lnTo>
                  <a:lnTo>
                    <a:pt x="666" y="158"/>
                  </a:lnTo>
                  <a:lnTo>
                    <a:pt x="587" y="70"/>
                  </a:lnTo>
                  <a:lnTo>
                    <a:pt x="494" y="22"/>
                  </a:lnTo>
                  <a:lnTo>
                    <a:pt x="393" y="0"/>
                  </a:lnTo>
                  <a:lnTo>
                    <a:pt x="246" y="0"/>
                  </a:lnTo>
                  <a:lnTo>
                    <a:pt x="101" y="26"/>
                  </a:lnTo>
                  <a:lnTo>
                    <a:pt x="127" y="265"/>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7" name=""/>
            <p:cNvSpPr/>
            <p:nvPr/>
          </p:nvSpPr>
          <p:spPr>
            <a:xfrm>
              <a:off x="8064360" y="817560"/>
              <a:ext cx="100440" cy="71640"/>
            </a:xfrm>
            <a:custGeom>
              <a:avLst/>
              <a:gdLst/>
              <a:ahLst/>
              <a:rect l="0" t="0" r="r" b="b"/>
              <a:pathLst>
                <a:path w="279" h="199">
                  <a:moveTo>
                    <a:pt x="111" y="0"/>
                  </a:moveTo>
                  <a:lnTo>
                    <a:pt x="39" y="0"/>
                  </a:lnTo>
                  <a:lnTo>
                    <a:pt x="0" y="26"/>
                  </a:lnTo>
                  <a:lnTo>
                    <a:pt x="0" y="97"/>
                  </a:lnTo>
                  <a:lnTo>
                    <a:pt x="57" y="172"/>
                  </a:lnTo>
                  <a:lnTo>
                    <a:pt x="168" y="199"/>
                  </a:lnTo>
                  <a:lnTo>
                    <a:pt x="253" y="195"/>
                  </a:lnTo>
                  <a:lnTo>
                    <a:pt x="279" y="150"/>
                  </a:lnTo>
                  <a:lnTo>
                    <a:pt x="266" y="111"/>
                  </a:lnTo>
                  <a:lnTo>
                    <a:pt x="226" y="52"/>
                  </a:lnTo>
                  <a:lnTo>
                    <a:pt x="159" y="8"/>
                  </a:lnTo>
                  <a:lnTo>
                    <a:pt x="111" y="0"/>
                  </a:lnTo>
                  <a:close/>
                </a:path>
              </a:pathLst>
            </a:custGeom>
            <a:solidFill>
              <a:srgbClr val="fc0128"/>
            </a:solidFill>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98" name=""/>
          <p:cNvSpPr txBox="1"/>
          <p:nvPr/>
        </p:nvSpPr>
        <p:spPr>
          <a:xfrm>
            <a:off x="1066680" y="304920"/>
            <a:ext cx="838080" cy="609480"/>
          </a:xfrm>
          <a:prstGeom prst="rect">
            <a:avLst/>
          </a:prstGeom>
          <a:noFill/>
          <a:ln w="0">
            <a:noFill/>
          </a:ln>
        </p:spPr>
        <p:txBody>
          <a:bodyPr lIns="0" rIns="0" tIns="0" bIns="0" anchor="t">
            <a:noAutofit/>
          </a:bodyPr>
          <a:p>
            <a:pPr algn="ctr">
              <a:lnSpc>
                <a:spcPct val="100000"/>
              </a:lnSpc>
            </a:pPr>
            <a:r>
              <a:rPr b="1" lang="en-US" sz="3200" spc="-1" strike="noStrike">
                <a:solidFill>
                  <a:srgbClr val="fc0128"/>
                </a:solidFill>
                <a:latin typeface="Arial"/>
                <a:ea typeface="Arial"/>
              </a:rPr>
              <a:t>A.</a:t>
            </a:r>
            <a:endParaRPr b="0" lang="en-US" sz="3200" spc="-1" strike="noStrike">
              <a:solidFill>
                <a:srgbClr val="ffffff"/>
              </a:solidFill>
              <a:latin typeface="Arial"/>
            </a:endParaRPr>
          </a:p>
        </p:txBody>
      </p:sp>
      <p:sp>
        <p:nvSpPr>
          <p:cNvPr id="799" name=""/>
          <p:cNvSpPr txBox="1"/>
          <p:nvPr/>
        </p:nvSpPr>
        <p:spPr>
          <a:xfrm>
            <a:off x="1600200" y="304920"/>
            <a:ext cx="7315200" cy="6172200"/>
          </a:xfrm>
          <a:prstGeom prst="rect">
            <a:avLst/>
          </a:prstGeom>
          <a:noFill/>
          <a:ln w="0">
            <a:noFill/>
          </a:ln>
        </p:spPr>
        <p:txBody>
          <a:bodyPr lIns="0" rIns="0" tIns="0" bIns="0" anchor="t">
            <a:noAutofit/>
          </a:bodyPr>
          <a:p>
            <a:pPr marL="334800" indent="-334800">
              <a:lnSpc>
                <a:spcPct val="10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If the merchandise inventory is overstated at the end of 20x2,</a:t>
            </a:r>
            <a:endParaRPr b="0" lang="en-US" sz="3200" spc="-1" strike="noStrike">
              <a:solidFill>
                <a:srgbClr val="ffffff"/>
              </a:solidFill>
              <a:latin typeface="Arial"/>
            </a:endParaRPr>
          </a:p>
          <a:p>
            <a:pPr marL="334800" indent="-334800">
              <a:lnSpc>
                <a:spcPct val="10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a)</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e 20x1 net income will b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overstated,</a:t>
            </a:r>
            <a:endParaRPr b="0" lang="en-US" sz="3200" spc="-1" strike="noStrike">
              <a:solidFill>
                <a:srgbClr val="ffffff"/>
              </a:solidFill>
              <a:latin typeface="Arial"/>
            </a:endParaRPr>
          </a:p>
          <a:p>
            <a:pPr marL="334800" indent="-334800">
              <a:lnSpc>
                <a:spcPct val="10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b)</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e 20x1 year-end balanc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sheet value will also b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overstated,</a:t>
            </a:r>
            <a:endParaRPr b="0" lang="en-US" sz="3200" spc="-1" strike="noStrike">
              <a:solidFill>
                <a:srgbClr val="ffffff"/>
              </a:solidFill>
              <a:latin typeface="Arial"/>
            </a:endParaRPr>
          </a:p>
          <a:p>
            <a:pPr marL="334800" indent="-334800">
              <a:lnSpc>
                <a:spcPct val="10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c)</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e 20x2 net income will b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understated, and</a:t>
            </a:r>
            <a:endParaRPr b="0" lang="en-US" sz="3200" spc="-1" strike="noStrike">
              <a:solidFill>
                <a:srgbClr val="ffffff"/>
              </a:solidFill>
              <a:latin typeface="Arial"/>
            </a:endParaRPr>
          </a:p>
          <a:p>
            <a:pPr marL="334800" indent="-334800">
              <a:lnSpc>
                <a:spcPct val="10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d)</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ere will be no effect on th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20x2 year-end balance shee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00" name=""/>
          <p:cNvSpPr txBox="1"/>
          <p:nvPr/>
        </p:nvSpPr>
        <p:spPr>
          <a:xfrm>
            <a:off x="1219320" y="2895480"/>
            <a:ext cx="7467480" cy="2133720"/>
          </a:xfrm>
          <a:prstGeom prst="rect">
            <a:avLst/>
          </a:prstGeom>
          <a:noFill/>
          <a:ln w="0">
            <a:noFill/>
          </a:ln>
        </p:spPr>
        <p:txBody>
          <a:bodyPr lIns="0" rIns="0" tIns="0" bIns="0" anchor="t">
            <a:noAutofit/>
          </a:bodyPr>
          <a:p>
            <a:pPr marL="343080" indent="-343080">
              <a:lnSpc>
                <a:spcPct val="12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OBJECTIVE 6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600" spc="-1" strike="noStrike">
                <a:solidFill>
                  <a:srgbClr val="fcffd8"/>
                </a:solidFill>
                <a:latin typeface="Arial"/>
                <a:ea typeface="Arial"/>
              </a:rPr>
              <a:t>	</a:t>
            </a:r>
            <a:r>
              <a:rPr b="1" lang="en-US" sz="3200" spc="-1" strike="noStrike">
                <a:solidFill>
                  <a:srgbClr val="fcffd8"/>
                </a:solidFill>
                <a:latin typeface="Arial"/>
                <a:ea typeface="Arial"/>
              </a:rPr>
              <a:t>Apply the lower-of-cost-or-market (LCM) rule to inventory valuation.</a:t>
            </a:r>
            <a:endParaRPr b="0" lang="en-US" sz="3200" spc="-1" strike="noStrike">
              <a:solidFill>
                <a:srgbClr val="ffffff"/>
              </a:solidFill>
              <a:latin typeface="Arial"/>
            </a:endParaRPr>
          </a:p>
        </p:txBody>
      </p:sp>
      <p:sp>
        <p:nvSpPr>
          <p:cNvPr id="801" name=""/>
          <p:cNvSpPr txBox="1"/>
          <p:nvPr/>
        </p:nvSpPr>
        <p:spPr>
          <a:xfrm>
            <a:off x="1219320" y="609480"/>
            <a:ext cx="7315200" cy="2133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Valuing Inventory at the </a:t>
            </a:r>
            <a:br>
              <a:rPr sz="4400"/>
            </a:br>
            <a:r>
              <a:rPr b="1" lang="en-US" sz="4400" spc="-1" strike="noStrike">
                <a:solidFill>
                  <a:srgbClr val="ffcc66"/>
                </a:solidFill>
                <a:latin typeface="Arial"/>
                <a:ea typeface="Arial"/>
              </a:rPr>
              <a:t>Lower-of-Cost-or-Market (LCM)</a:t>
            </a:r>
            <a:endParaRPr b="0" lang="en-US" sz="4400" spc="-1" strike="noStrike">
              <a:solidFill>
                <a:srgbClr val="ffffff"/>
              </a:solidFill>
              <a:latin typeface="Arial"/>
            </a:endParaRPr>
          </a:p>
        </p:txBody>
      </p:sp>
      <p:pic>
        <p:nvPicPr>
          <p:cNvPr id="802" name="" descr=""/>
          <p:cNvPicPr/>
          <p:nvPr/>
        </p:nvPicPr>
        <p:blipFill>
          <a:blip r:embed="rId1"/>
          <a:stretch/>
        </p:blipFill>
        <p:spPr>
          <a:xfrm>
            <a:off x="0" y="0"/>
            <a:ext cx="863640" cy="70358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03" name=""/>
          <p:cNvSpPr txBox="1"/>
          <p:nvPr/>
        </p:nvSpPr>
        <p:spPr>
          <a:xfrm>
            <a:off x="685800" y="533520"/>
            <a:ext cx="815328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Valuation</a:t>
            </a:r>
            <a:endParaRPr b="0" lang="en-US" sz="4400" spc="-1" strike="noStrike">
              <a:solidFill>
                <a:srgbClr val="ffffff"/>
              </a:solidFill>
              <a:latin typeface="Arial"/>
            </a:endParaRPr>
          </a:p>
        </p:txBody>
      </p:sp>
      <p:sp>
        <p:nvSpPr>
          <p:cNvPr id="804" name=""/>
          <p:cNvSpPr txBox="1"/>
          <p:nvPr/>
        </p:nvSpPr>
        <p:spPr>
          <a:xfrm>
            <a:off x="1066680" y="1752480"/>
            <a:ext cx="7574040" cy="335268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Cost is usually the most appropriate basis for valuation of inventory.</a:t>
            </a:r>
            <a:endParaRPr b="0" lang="en-US" sz="32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In cases of inventory obsolescence, physical deterioration, or decline in price level a loss has occurr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05" name=""/>
          <p:cNvSpPr txBox="1"/>
          <p:nvPr/>
        </p:nvSpPr>
        <p:spPr>
          <a:xfrm>
            <a:off x="838080" y="304920"/>
            <a:ext cx="7967520" cy="1216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Valuation</a:t>
            </a:r>
            <a:endParaRPr b="0" lang="en-US" sz="4400" spc="-1" strike="noStrike">
              <a:solidFill>
                <a:srgbClr val="ffffff"/>
              </a:solidFill>
              <a:latin typeface="Arial"/>
            </a:endParaRPr>
          </a:p>
        </p:txBody>
      </p:sp>
      <p:sp>
        <p:nvSpPr>
          <p:cNvPr id="806" name=""/>
          <p:cNvSpPr txBox="1"/>
          <p:nvPr/>
        </p:nvSpPr>
        <p:spPr>
          <a:xfrm>
            <a:off x="990720" y="1371600"/>
            <a:ext cx="7716960" cy="4572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is loss may be recognized by writing the inventory down to market, or current replacement cost.</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n example of conservatism.</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nventory write-down can be done by two methods.</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Item-by-item method.</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Major category metho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07" name=""/>
          <p:cNvSpPr txBox="1"/>
          <p:nvPr/>
        </p:nvSpPr>
        <p:spPr>
          <a:xfrm>
            <a:off x="3352680" y="1066680"/>
            <a:ext cx="3429000" cy="122724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808" name=""/>
          <p:cNvSpPr txBox="1"/>
          <p:nvPr/>
        </p:nvSpPr>
        <p:spPr>
          <a:xfrm>
            <a:off x="990720" y="2438280"/>
            <a:ext cx="7772400" cy="342900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In the phrase </a:t>
            </a:r>
            <a:r>
              <a:rPr b="1" i="1" lang="en-US" sz="3200" spc="-1" strike="noStrike">
                <a:solidFill>
                  <a:srgbClr val="fcffd8"/>
                </a:solidFill>
                <a:latin typeface="Arial"/>
                <a:ea typeface="Arial"/>
              </a:rPr>
              <a:t>lower-of-cost-or-</a:t>
            </a:r>
            <a:r>
              <a:rPr b="1" i="1" lang="en-US" sz="3200" spc="-1" strike="noStrike">
                <a:solidFill>
                  <a:srgbClr val="fcffd8"/>
                </a:solidFill>
                <a:latin typeface="Arial"/>
                <a:ea typeface="Arial"/>
              </a:rPr>
              <a:t>	</a:t>
            </a:r>
            <a:r>
              <a:rPr b="1" i="1" lang="en-US" sz="3200" spc="-1" strike="noStrike">
                <a:solidFill>
                  <a:srgbClr val="fcffd8"/>
                </a:solidFill>
                <a:latin typeface="Arial"/>
                <a:ea typeface="Arial"/>
              </a:rPr>
              <a:t>	</a:t>
            </a:r>
            <a:r>
              <a:rPr b="1" i="1" lang="en-US" sz="3200" spc="-1" strike="noStrike">
                <a:solidFill>
                  <a:srgbClr val="fcffd8"/>
                </a:solidFill>
                <a:latin typeface="Arial"/>
                <a:ea typeface="Arial"/>
              </a:rPr>
              <a:t>market,</a:t>
            </a:r>
            <a:r>
              <a:rPr b="1" lang="en-US" sz="3200" spc="-1" strike="noStrike">
                <a:solidFill>
                  <a:srgbClr val="fcffd8"/>
                </a:solidFill>
                <a:latin typeface="Arial"/>
                <a:ea typeface="Arial"/>
              </a:rPr>
              <a:t> what is meant by the word </a:t>
            </a:r>
            <a:r>
              <a:rPr b="1" lang="en-US" sz="3200" spc="-1" strike="noStrike">
                <a:solidFill>
                  <a:srgbClr val="fcffd8"/>
                </a:solidFill>
                <a:latin typeface="Arial"/>
                <a:ea typeface="Arial"/>
              </a:rPr>
              <a:t>	</a:t>
            </a:r>
            <a:r>
              <a:rPr b="1" i="1" lang="en-US" sz="3200" spc="-1" strike="noStrike">
                <a:solidFill>
                  <a:srgbClr val="fcffd8"/>
                </a:solidFill>
                <a:latin typeface="Arial"/>
                <a:ea typeface="Arial"/>
              </a:rPr>
              <a:t>market?</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0128"/>
                </a:solidFill>
                <a:latin typeface="Arial"/>
                <a:ea typeface="Arial"/>
              </a:rPr>
              <a:t>A.</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The word </a:t>
            </a:r>
            <a:r>
              <a:rPr b="1" i="1" lang="en-US" sz="3200" spc="-1" strike="noStrike">
                <a:solidFill>
                  <a:srgbClr val="fcffd8"/>
                </a:solidFill>
                <a:latin typeface="Arial"/>
                <a:ea typeface="Arial"/>
              </a:rPr>
              <a:t>market</a:t>
            </a:r>
            <a:r>
              <a:rPr b="1" lang="en-US" sz="3200" spc="-1" strike="noStrike">
                <a:solidFill>
                  <a:srgbClr val="fcffd8"/>
                </a:solidFill>
                <a:latin typeface="Arial"/>
                <a:ea typeface="Arial"/>
              </a:rPr>
              <a:t> in the phrase</a:t>
            </a:r>
            <a:r>
              <a:rPr b="1" i="1" lang="en-US" sz="3200" spc="-1" strike="noStrike">
                <a:solidFill>
                  <a:srgbClr val="fcffd8"/>
                </a:solidFill>
                <a:latin typeface="Arial"/>
                <a:ea typeface="Arial"/>
              </a:rPr>
              <a:t> </a:t>
            </a:r>
            <a:r>
              <a:rPr b="1" i="1" lang="en-US" sz="3200" spc="-1" strike="noStrike">
                <a:solidFill>
                  <a:srgbClr val="fcffd8"/>
                </a:solidFill>
                <a:latin typeface="Arial"/>
                <a:ea typeface="Arial"/>
              </a:rPr>
              <a:t>	</a:t>
            </a:r>
            <a:r>
              <a:rPr b="1" i="1" lang="en-US" sz="3200" spc="-1" strike="noStrike">
                <a:solidFill>
                  <a:srgbClr val="fcffd8"/>
                </a:solidFill>
                <a:latin typeface="Arial"/>
                <a:ea typeface="Arial"/>
              </a:rPr>
              <a:t>	</a:t>
            </a:r>
            <a:r>
              <a:rPr b="1" i="1" lang="en-US" sz="3200" spc="-1" strike="noStrike">
                <a:solidFill>
                  <a:srgbClr val="fcffd8"/>
                </a:solidFill>
                <a:latin typeface="Arial"/>
                <a:ea typeface="Arial"/>
              </a:rPr>
              <a:t>lower-of-cost-or-market</a:t>
            </a:r>
            <a:r>
              <a:rPr b="1" lang="en-US" sz="3200" spc="-1" strike="noStrike">
                <a:solidFill>
                  <a:srgbClr val="fcffd8"/>
                </a:solidFill>
                <a:latin typeface="Arial"/>
                <a:ea typeface="Arial"/>
              </a:rPr>
              <a:t> refers to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current replacement cost.</a:t>
            </a:r>
            <a:endParaRPr b="0" lang="en-US" sz="3200" spc="-1" strike="noStrike">
              <a:solidFill>
                <a:srgbClr val="ffffff"/>
              </a:solidFill>
              <a:latin typeface="Arial"/>
            </a:endParaRPr>
          </a:p>
        </p:txBody>
      </p:sp>
      <p:grpSp>
        <p:nvGrpSpPr>
          <p:cNvPr id="809" name=""/>
          <p:cNvGrpSpPr/>
          <p:nvPr/>
        </p:nvGrpSpPr>
        <p:grpSpPr>
          <a:xfrm>
            <a:off x="762120" y="228600"/>
            <a:ext cx="2056320" cy="2132640"/>
            <a:chOff x="762120" y="228600"/>
            <a:chExt cx="2056320" cy="2132640"/>
          </a:xfrm>
        </p:grpSpPr>
        <p:sp>
          <p:nvSpPr>
            <p:cNvPr id="810" name=""/>
            <p:cNvSpPr/>
            <p:nvPr/>
          </p:nvSpPr>
          <p:spPr>
            <a:xfrm>
              <a:off x="766800" y="1276200"/>
              <a:ext cx="501840" cy="743400"/>
            </a:xfrm>
            <a:custGeom>
              <a:avLst/>
              <a:gdLst/>
              <a:ahLst/>
              <a:rect l="0" t="0" r="r" b="b"/>
              <a:pathLst>
                <a:path w="1394" h="2065">
                  <a:moveTo>
                    <a:pt x="560" y="0"/>
                  </a:moveTo>
                  <a:lnTo>
                    <a:pt x="480" y="92"/>
                  </a:lnTo>
                  <a:lnTo>
                    <a:pt x="480" y="361"/>
                  </a:lnTo>
                  <a:lnTo>
                    <a:pt x="560" y="552"/>
                  </a:lnTo>
                  <a:lnTo>
                    <a:pt x="639" y="653"/>
                  </a:lnTo>
                  <a:lnTo>
                    <a:pt x="515" y="785"/>
                  </a:lnTo>
                  <a:lnTo>
                    <a:pt x="348" y="1081"/>
                  </a:lnTo>
                  <a:lnTo>
                    <a:pt x="22" y="1563"/>
                  </a:lnTo>
                  <a:lnTo>
                    <a:pt x="0" y="1673"/>
                  </a:lnTo>
                  <a:lnTo>
                    <a:pt x="22" y="1770"/>
                  </a:lnTo>
                  <a:lnTo>
                    <a:pt x="127" y="1770"/>
                  </a:lnTo>
                  <a:lnTo>
                    <a:pt x="216" y="1660"/>
                  </a:lnTo>
                  <a:lnTo>
                    <a:pt x="348" y="1394"/>
                  </a:lnTo>
                  <a:lnTo>
                    <a:pt x="427" y="1279"/>
                  </a:lnTo>
                  <a:lnTo>
                    <a:pt x="480" y="1451"/>
                  </a:lnTo>
                  <a:lnTo>
                    <a:pt x="449" y="1646"/>
                  </a:lnTo>
                  <a:lnTo>
                    <a:pt x="308" y="1915"/>
                  </a:lnTo>
                  <a:lnTo>
                    <a:pt x="348" y="1977"/>
                  </a:lnTo>
                  <a:lnTo>
                    <a:pt x="427" y="1959"/>
                  </a:lnTo>
                  <a:lnTo>
                    <a:pt x="599" y="1818"/>
                  </a:lnTo>
                  <a:lnTo>
                    <a:pt x="746" y="1576"/>
                  </a:lnTo>
                  <a:lnTo>
                    <a:pt x="746" y="1995"/>
                  </a:lnTo>
                  <a:lnTo>
                    <a:pt x="913" y="2065"/>
                  </a:lnTo>
                  <a:lnTo>
                    <a:pt x="1002" y="1809"/>
                  </a:lnTo>
                  <a:lnTo>
                    <a:pt x="1094" y="2052"/>
                  </a:lnTo>
                  <a:lnTo>
                    <a:pt x="1160" y="1977"/>
                  </a:lnTo>
                  <a:lnTo>
                    <a:pt x="1187" y="1500"/>
                  </a:lnTo>
                  <a:lnTo>
                    <a:pt x="1394" y="1046"/>
                  </a:lnTo>
                  <a:lnTo>
                    <a:pt x="1345" y="785"/>
                  </a:lnTo>
                  <a:lnTo>
                    <a:pt x="1209" y="688"/>
                  </a:lnTo>
                  <a:lnTo>
                    <a:pt x="1054" y="702"/>
                  </a:lnTo>
                  <a:lnTo>
                    <a:pt x="1002" y="489"/>
                  </a:lnTo>
                  <a:lnTo>
                    <a:pt x="856" y="440"/>
                  </a:lnTo>
                  <a:lnTo>
                    <a:pt x="715" y="374"/>
                  </a:lnTo>
                  <a:lnTo>
                    <a:pt x="639" y="44"/>
                  </a:lnTo>
                  <a:lnTo>
                    <a:pt x="560"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811" name=""/>
            <p:cNvSpPr/>
            <p:nvPr/>
          </p:nvSpPr>
          <p:spPr>
            <a:xfrm>
              <a:off x="1187280" y="1576440"/>
              <a:ext cx="147960" cy="363960"/>
            </a:xfrm>
            <a:custGeom>
              <a:avLst/>
              <a:gdLst/>
              <a:ahLst/>
              <a:rect l="0" t="0" r="r" b="b"/>
              <a:pathLst>
                <a:path w="411" h="1011">
                  <a:moveTo>
                    <a:pt x="202" y="0"/>
                  </a:moveTo>
                  <a:lnTo>
                    <a:pt x="411" y="265"/>
                  </a:lnTo>
                  <a:lnTo>
                    <a:pt x="309" y="826"/>
                  </a:lnTo>
                  <a:lnTo>
                    <a:pt x="0" y="1011"/>
                  </a:lnTo>
                  <a:lnTo>
                    <a:pt x="0" y="724"/>
                  </a:lnTo>
                  <a:lnTo>
                    <a:pt x="123" y="433"/>
                  </a:lnTo>
                  <a:lnTo>
                    <a:pt x="202" y="211"/>
                  </a:lnTo>
                  <a:lnTo>
                    <a:pt x="202"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2" name=""/>
            <p:cNvSpPr/>
            <p:nvPr/>
          </p:nvSpPr>
          <p:spPr>
            <a:xfrm>
              <a:off x="2141640" y="1370160"/>
              <a:ext cx="370080" cy="325800"/>
            </a:xfrm>
            <a:custGeom>
              <a:avLst/>
              <a:gdLst/>
              <a:ahLst/>
              <a:rect l="0" t="0" r="r" b="b"/>
              <a:pathLst>
                <a:path w="1028" h="905">
                  <a:moveTo>
                    <a:pt x="418" y="0"/>
                  </a:moveTo>
                  <a:lnTo>
                    <a:pt x="418" y="141"/>
                  </a:lnTo>
                  <a:lnTo>
                    <a:pt x="458" y="274"/>
                  </a:lnTo>
                  <a:lnTo>
                    <a:pt x="653" y="490"/>
                  </a:lnTo>
                  <a:lnTo>
                    <a:pt x="1028" y="613"/>
                  </a:lnTo>
                  <a:lnTo>
                    <a:pt x="975" y="892"/>
                  </a:lnTo>
                  <a:lnTo>
                    <a:pt x="653" y="905"/>
                  </a:lnTo>
                  <a:lnTo>
                    <a:pt x="194" y="707"/>
                  </a:lnTo>
                  <a:lnTo>
                    <a:pt x="0" y="362"/>
                  </a:lnTo>
                  <a:lnTo>
                    <a:pt x="229" y="17"/>
                  </a:lnTo>
                  <a:lnTo>
                    <a:pt x="418"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3" name=""/>
            <p:cNvSpPr/>
            <p:nvPr/>
          </p:nvSpPr>
          <p:spPr>
            <a:xfrm>
              <a:off x="2289240" y="1000080"/>
              <a:ext cx="514800" cy="721080"/>
            </a:xfrm>
            <a:custGeom>
              <a:avLst/>
              <a:gdLst/>
              <a:ahLst/>
              <a:rect l="0" t="0" r="r" b="b"/>
              <a:pathLst>
                <a:path w="1430" h="2003">
                  <a:moveTo>
                    <a:pt x="127" y="851"/>
                  </a:moveTo>
                  <a:lnTo>
                    <a:pt x="0" y="987"/>
                  </a:lnTo>
                  <a:lnTo>
                    <a:pt x="22" y="1315"/>
                  </a:lnTo>
                  <a:lnTo>
                    <a:pt x="229" y="1469"/>
                  </a:lnTo>
                  <a:lnTo>
                    <a:pt x="242" y="1967"/>
                  </a:lnTo>
                  <a:lnTo>
                    <a:pt x="441" y="1967"/>
                  </a:lnTo>
                  <a:lnTo>
                    <a:pt x="428" y="1548"/>
                  </a:lnTo>
                  <a:lnTo>
                    <a:pt x="583" y="1985"/>
                  </a:lnTo>
                  <a:lnTo>
                    <a:pt x="675" y="2003"/>
                  </a:lnTo>
                  <a:lnTo>
                    <a:pt x="755" y="1857"/>
                  </a:lnTo>
                  <a:lnTo>
                    <a:pt x="768" y="1579"/>
                  </a:lnTo>
                  <a:lnTo>
                    <a:pt x="979" y="1839"/>
                  </a:lnTo>
                  <a:lnTo>
                    <a:pt x="1073" y="1817"/>
                  </a:lnTo>
                  <a:lnTo>
                    <a:pt x="1054" y="1641"/>
                  </a:lnTo>
                  <a:lnTo>
                    <a:pt x="966" y="1390"/>
                  </a:lnTo>
                  <a:lnTo>
                    <a:pt x="887" y="1222"/>
                  </a:lnTo>
                  <a:lnTo>
                    <a:pt x="913" y="1107"/>
                  </a:lnTo>
                  <a:lnTo>
                    <a:pt x="966" y="1125"/>
                  </a:lnTo>
                  <a:lnTo>
                    <a:pt x="1174" y="1390"/>
                  </a:lnTo>
                  <a:lnTo>
                    <a:pt x="1382" y="1447"/>
                  </a:lnTo>
                  <a:lnTo>
                    <a:pt x="1430" y="1368"/>
                  </a:lnTo>
                  <a:lnTo>
                    <a:pt x="1395" y="1231"/>
                  </a:lnTo>
                  <a:lnTo>
                    <a:pt x="1002" y="829"/>
                  </a:lnTo>
                  <a:lnTo>
                    <a:pt x="675" y="705"/>
                  </a:lnTo>
                  <a:lnTo>
                    <a:pt x="644" y="480"/>
                  </a:lnTo>
                  <a:lnTo>
                    <a:pt x="755" y="277"/>
                  </a:lnTo>
                  <a:lnTo>
                    <a:pt x="755" y="66"/>
                  </a:lnTo>
                  <a:lnTo>
                    <a:pt x="662" y="0"/>
                  </a:lnTo>
                  <a:lnTo>
                    <a:pt x="428" y="542"/>
                  </a:lnTo>
                  <a:lnTo>
                    <a:pt x="229" y="621"/>
                  </a:lnTo>
                  <a:lnTo>
                    <a:pt x="176" y="776"/>
                  </a:lnTo>
                  <a:lnTo>
                    <a:pt x="127" y="851"/>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814" name=""/>
            <p:cNvSpPr/>
            <p:nvPr/>
          </p:nvSpPr>
          <p:spPr>
            <a:xfrm>
              <a:off x="1446120" y="379440"/>
              <a:ext cx="560880" cy="916200"/>
            </a:xfrm>
            <a:custGeom>
              <a:avLst/>
              <a:gdLst/>
              <a:ahLst/>
              <a:rect l="0" t="0" r="r" b="b"/>
              <a:pathLst>
                <a:path w="1558" h="2545">
                  <a:moveTo>
                    <a:pt x="383" y="352"/>
                  </a:moveTo>
                  <a:lnTo>
                    <a:pt x="277" y="837"/>
                  </a:lnTo>
                  <a:lnTo>
                    <a:pt x="13" y="939"/>
                  </a:lnTo>
                  <a:lnTo>
                    <a:pt x="83" y="1093"/>
                  </a:lnTo>
                  <a:lnTo>
                    <a:pt x="0" y="1190"/>
                  </a:lnTo>
                  <a:lnTo>
                    <a:pt x="0" y="1363"/>
                  </a:lnTo>
                  <a:lnTo>
                    <a:pt x="123" y="1526"/>
                  </a:lnTo>
                  <a:lnTo>
                    <a:pt x="242" y="1526"/>
                  </a:lnTo>
                  <a:lnTo>
                    <a:pt x="321" y="2091"/>
                  </a:lnTo>
                  <a:lnTo>
                    <a:pt x="424" y="2333"/>
                  </a:lnTo>
                  <a:lnTo>
                    <a:pt x="737" y="2545"/>
                  </a:lnTo>
                  <a:lnTo>
                    <a:pt x="1063" y="2514"/>
                  </a:lnTo>
                  <a:lnTo>
                    <a:pt x="1210" y="2091"/>
                  </a:lnTo>
                  <a:lnTo>
                    <a:pt x="1249" y="1447"/>
                  </a:lnTo>
                  <a:lnTo>
                    <a:pt x="1558" y="1124"/>
                  </a:lnTo>
                  <a:lnTo>
                    <a:pt x="1545" y="996"/>
                  </a:lnTo>
                  <a:lnTo>
                    <a:pt x="1505" y="939"/>
                  </a:lnTo>
                  <a:lnTo>
                    <a:pt x="1342" y="921"/>
                  </a:lnTo>
                  <a:lnTo>
                    <a:pt x="1395" y="754"/>
                  </a:lnTo>
                  <a:lnTo>
                    <a:pt x="1227" y="643"/>
                  </a:lnTo>
                  <a:lnTo>
                    <a:pt x="1156" y="277"/>
                  </a:lnTo>
                  <a:lnTo>
                    <a:pt x="675" y="0"/>
                  </a:lnTo>
                  <a:lnTo>
                    <a:pt x="424" y="260"/>
                  </a:lnTo>
                  <a:lnTo>
                    <a:pt x="383" y="352"/>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815" name=""/>
            <p:cNvSpPr/>
            <p:nvPr/>
          </p:nvSpPr>
          <p:spPr>
            <a:xfrm>
              <a:off x="1487520" y="1146240"/>
              <a:ext cx="514800" cy="1092600"/>
            </a:xfrm>
            <a:custGeom>
              <a:avLst/>
              <a:gdLst/>
              <a:ahLst/>
              <a:rect l="0" t="0" r="r" b="b"/>
              <a:pathLst>
                <a:path w="1430" h="3035">
                  <a:moveTo>
                    <a:pt x="295" y="158"/>
                  </a:moveTo>
                  <a:lnTo>
                    <a:pt x="494" y="299"/>
                  </a:lnTo>
                  <a:lnTo>
                    <a:pt x="596" y="467"/>
                  </a:lnTo>
                  <a:lnTo>
                    <a:pt x="1174" y="0"/>
                  </a:lnTo>
                  <a:lnTo>
                    <a:pt x="1351" y="97"/>
                  </a:lnTo>
                  <a:lnTo>
                    <a:pt x="1430" y="577"/>
                  </a:lnTo>
                  <a:lnTo>
                    <a:pt x="1015" y="1972"/>
                  </a:lnTo>
                  <a:lnTo>
                    <a:pt x="1148" y="2744"/>
                  </a:lnTo>
                  <a:lnTo>
                    <a:pt x="609" y="3035"/>
                  </a:lnTo>
                  <a:lnTo>
                    <a:pt x="189" y="2872"/>
                  </a:lnTo>
                  <a:lnTo>
                    <a:pt x="189" y="2051"/>
                  </a:lnTo>
                  <a:lnTo>
                    <a:pt x="0" y="1262"/>
                  </a:lnTo>
                  <a:lnTo>
                    <a:pt x="189" y="299"/>
                  </a:lnTo>
                  <a:lnTo>
                    <a:pt x="295" y="158"/>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6" name=""/>
            <p:cNvSpPr/>
            <p:nvPr/>
          </p:nvSpPr>
          <p:spPr>
            <a:xfrm>
              <a:off x="1509840" y="258840"/>
              <a:ext cx="479880" cy="289440"/>
            </a:xfrm>
            <a:custGeom>
              <a:avLst/>
              <a:gdLst/>
              <a:ahLst/>
              <a:rect l="0" t="0" r="r" b="b"/>
              <a:pathLst>
                <a:path w="1333" h="804">
                  <a:moveTo>
                    <a:pt x="167" y="769"/>
                  </a:moveTo>
                  <a:lnTo>
                    <a:pt x="362" y="552"/>
                  </a:lnTo>
                  <a:lnTo>
                    <a:pt x="486" y="521"/>
                  </a:lnTo>
                  <a:lnTo>
                    <a:pt x="486" y="538"/>
                  </a:lnTo>
                  <a:lnTo>
                    <a:pt x="547" y="521"/>
                  </a:lnTo>
                  <a:lnTo>
                    <a:pt x="627" y="587"/>
                  </a:lnTo>
                  <a:lnTo>
                    <a:pt x="785" y="619"/>
                  </a:lnTo>
                  <a:lnTo>
                    <a:pt x="913" y="804"/>
                  </a:lnTo>
                  <a:lnTo>
                    <a:pt x="1117" y="720"/>
                  </a:lnTo>
                  <a:lnTo>
                    <a:pt x="1117" y="637"/>
                  </a:lnTo>
                  <a:lnTo>
                    <a:pt x="1333" y="538"/>
                  </a:lnTo>
                  <a:lnTo>
                    <a:pt x="1271" y="389"/>
                  </a:lnTo>
                  <a:lnTo>
                    <a:pt x="1077" y="375"/>
                  </a:lnTo>
                  <a:lnTo>
                    <a:pt x="1104" y="212"/>
                  </a:lnTo>
                  <a:lnTo>
                    <a:pt x="931" y="230"/>
                  </a:lnTo>
                  <a:lnTo>
                    <a:pt x="904" y="114"/>
                  </a:lnTo>
                  <a:lnTo>
                    <a:pt x="785" y="114"/>
                  </a:lnTo>
                  <a:lnTo>
                    <a:pt x="706" y="176"/>
                  </a:lnTo>
                  <a:lnTo>
                    <a:pt x="627" y="176"/>
                  </a:lnTo>
                  <a:lnTo>
                    <a:pt x="649" y="0"/>
                  </a:lnTo>
                  <a:lnTo>
                    <a:pt x="486" y="83"/>
                  </a:lnTo>
                  <a:lnTo>
                    <a:pt x="260" y="375"/>
                  </a:lnTo>
                  <a:lnTo>
                    <a:pt x="246" y="176"/>
                  </a:lnTo>
                  <a:lnTo>
                    <a:pt x="132" y="274"/>
                  </a:lnTo>
                  <a:lnTo>
                    <a:pt x="105" y="521"/>
                  </a:lnTo>
                  <a:lnTo>
                    <a:pt x="0" y="477"/>
                  </a:lnTo>
                  <a:lnTo>
                    <a:pt x="13" y="637"/>
                  </a:lnTo>
                  <a:lnTo>
                    <a:pt x="167" y="76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7" name=""/>
            <p:cNvSpPr/>
            <p:nvPr/>
          </p:nvSpPr>
          <p:spPr>
            <a:xfrm>
              <a:off x="1639800" y="1347840"/>
              <a:ext cx="152640" cy="829080"/>
            </a:xfrm>
            <a:custGeom>
              <a:avLst/>
              <a:gdLst/>
              <a:ahLst/>
              <a:rect l="0" t="0" r="r" b="b"/>
              <a:pathLst>
                <a:path w="424" h="2303">
                  <a:moveTo>
                    <a:pt x="221" y="13"/>
                  </a:moveTo>
                  <a:lnTo>
                    <a:pt x="70" y="114"/>
                  </a:lnTo>
                  <a:lnTo>
                    <a:pt x="70" y="308"/>
                  </a:lnTo>
                  <a:lnTo>
                    <a:pt x="176" y="370"/>
                  </a:lnTo>
                  <a:lnTo>
                    <a:pt x="44" y="680"/>
                  </a:lnTo>
                  <a:lnTo>
                    <a:pt x="0" y="1081"/>
                  </a:lnTo>
                  <a:lnTo>
                    <a:pt x="105" y="1610"/>
                  </a:lnTo>
                  <a:lnTo>
                    <a:pt x="105" y="1832"/>
                  </a:lnTo>
                  <a:lnTo>
                    <a:pt x="52" y="2008"/>
                  </a:lnTo>
                  <a:lnTo>
                    <a:pt x="265" y="2303"/>
                  </a:lnTo>
                  <a:lnTo>
                    <a:pt x="411" y="1854"/>
                  </a:lnTo>
                  <a:lnTo>
                    <a:pt x="411" y="1544"/>
                  </a:lnTo>
                  <a:lnTo>
                    <a:pt x="305" y="1253"/>
                  </a:lnTo>
                  <a:lnTo>
                    <a:pt x="252" y="869"/>
                  </a:lnTo>
                  <a:lnTo>
                    <a:pt x="358" y="489"/>
                  </a:lnTo>
                  <a:lnTo>
                    <a:pt x="322" y="339"/>
                  </a:lnTo>
                  <a:lnTo>
                    <a:pt x="424" y="260"/>
                  </a:lnTo>
                  <a:lnTo>
                    <a:pt x="411" y="158"/>
                  </a:lnTo>
                  <a:lnTo>
                    <a:pt x="287" y="0"/>
                  </a:lnTo>
                  <a:lnTo>
                    <a:pt x="221"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8" name=""/>
            <p:cNvSpPr/>
            <p:nvPr/>
          </p:nvSpPr>
          <p:spPr>
            <a:xfrm>
              <a:off x="1635120" y="1069920"/>
              <a:ext cx="124200" cy="76680"/>
            </a:xfrm>
            <a:custGeom>
              <a:avLst/>
              <a:gdLst/>
              <a:ahLst/>
              <a:rect l="0" t="0" r="r" b="b"/>
              <a:pathLst>
                <a:path w="345" h="213">
                  <a:moveTo>
                    <a:pt x="0" y="71"/>
                  </a:moveTo>
                  <a:lnTo>
                    <a:pt x="133" y="213"/>
                  </a:lnTo>
                  <a:lnTo>
                    <a:pt x="279" y="200"/>
                  </a:lnTo>
                  <a:lnTo>
                    <a:pt x="345" y="17"/>
                  </a:lnTo>
                  <a:lnTo>
                    <a:pt x="190" y="0"/>
                  </a:lnTo>
                  <a:lnTo>
                    <a:pt x="39" y="17"/>
                  </a:lnTo>
                  <a:lnTo>
                    <a:pt x="0" y="71"/>
                  </a:lnTo>
                  <a:close/>
                </a:path>
              </a:pathLst>
            </a:custGeom>
            <a:solidFill>
              <a:srgbClr val="ffffff"/>
            </a:solidFill>
            <a:ln w="12600">
              <a:solidFill>
                <a:srgbClr val="ffffff"/>
              </a:solidFill>
              <a:round/>
            </a:ln>
          </p:spPr>
          <p:txBody>
            <a:bodyPr lIns="96120" rIns="96120" tIns="25560" bIns="25560" anchor="t">
              <a:noAutofit/>
            </a:bodyPr>
            <a:p>
              <a:endParaRPr b="0" lang="en-US" sz="1800" spc="-1" strike="noStrike">
                <a:solidFill>
                  <a:srgbClr val="000000"/>
                </a:solidFill>
                <a:latin typeface="Arial"/>
              </a:endParaRPr>
            </a:p>
          </p:txBody>
        </p:sp>
        <p:sp>
          <p:nvSpPr>
            <p:cNvPr id="819" name=""/>
            <p:cNvSpPr/>
            <p:nvPr/>
          </p:nvSpPr>
          <p:spPr>
            <a:xfrm>
              <a:off x="1496880" y="687240"/>
              <a:ext cx="155880" cy="162360"/>
            </a:xfrm>
            <a:custGeom>
              <a:avLst/>
              <a:gdLst/>
              <a:ahLst/>
              <a:rect l="0" t="0" r="r" b="b"/>
              <a:pathLst>
                <a:path w="433" h="451">
                  <a:moveTo>
                    <a:pt x="0" y="48"/>
                  </a:moveTo>
                  <a:lnTo>
                    <a:pt x="296" y="451"/>
                  </a:lnTo>
                  <a:lnTo>
                    <a:pt x="433" y="420"/>
                  </a:lnTo>
                  <a:lnTo>
                    <a:pt x="119"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0" name=""/>
            <p:cNvSpPr/>
            <p:nvPr/>
          </p:nvSpPr>
          <p:spPr>
            <a:xfrm>
              <a:off x="1768320" y="654120"/>
              <a:ext cx="132120" cy="160560"/>
            </a:xfrm>
            <a:custGeom>
              <a:avLst/>
              <a:gdLst/>
              <a:ahLst/>
              <a:rect l="0" t="0" r="r" b="b"/>
              <a:pathLst>
                <a:path w="367" h="446">
                  <a:moveTo>
                    <a:pt x="0" y="57"/>
                  </a:moveTo>
                  <a:lnTo>
                    <a:pt x="252" y="446"/>
                  </a:lnTo>
                  <a:lnTo>
                    <a:pt x="367" y="344"/>
                  </a:lnTo>
                  <a:lnTo>
                    <a:pt x="105" y="0"/>
                  </a:lnTo>
                  <a:lnTo>
                    <a:pt x="0" y="5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1" name=""/>
            <p:cNvSpPr/>
            <p:nvPr/>
          </p:nvSpPr>
          <p:spPr>
            <a:xfrm>
              <a:off x="1442880" y="444600"/>
              <a:ext cx="535320" cy="405000"/>
            </a:xfrm>
            <a:custGeom>
              <a:avLst/>
              <a:gdLst/>
              <a:ahLst/>
              <a:rect l="0" t="0" r="r" b="b"/>
              <a:pathLst>
                <a:path w="1487" h="1125">
                  <a:moveTo>
                    <a:pt x="679" y="666"/>
                  </a:moveTo>
                  <a:lnTo>
                    <a:pt x="546" y="627"/>
                  </a:lnTo>
                  <a:lnTo>
                    <a:pt x="661" y="524"/>
                  </a:lnTo>
                  <a:lnTo>
                    <a:pt x="617" y="471"/>
                  </a:lnTo>
                  <a:lnTo>
                    <a:pt x="467" y="605"/>
                  </a:lnTo>
                  <a:lnTo>
                    <a:pt x="185" y="636"/>
                  </a:lnTo>
                  <a:lnTo>
                    <a:pt x="0" y="644"/>
                  </a:lnTo>
                  <a:lnTo>
                    <a:pt x="0" y="799"/>
                  </a:lnTo>
                  <a:lnTo>
                    <a:pt x="180" y="1116"/>
                  </a:lnTo>
                  <a:lnTo>
                    <a:pt x="224" y="1125"/>
                  </a:lnTo>
                  <a:lnTo>
                    <a:pt x="61" y="777"/>
                  </a:lnTo>
                  <a:lnTo>
                    <a:pt x="308" y="666"/>
                  </a:lnTo>
                  <a:lnTo>
                    <a:pt x="467" y="666"/>
                  </a:lnTo>
                  <a:lnTo>
                    <a:pt x="590" y="737"/>
                  </a:lnTo>
                  <a:lnTo>
                    <a:pt x="617" y="834"/>
                  </a:lnTo>
                  <a:lnTo>
                    <a:pt x="617" y="1046"/>
                  </a:lnTo>
                  <a:lnTo>
                    <a:pt x="617" y="1116"/>
                  </a:lnTo>
                  <a:lnTo>
                    <a:pt x="692" y="1015"/>
                  </a:lnTo>
                  <a:lnTo>
                    <a:pt x="692" y="790"/>
                  </a:lnTo>
                  <a:lnTo>
                    <a:pt x="794" y="790"/>
                  </a:lnTo>
                  <a:lnTo>
                    <a:pt x="847" y="1046"/>
                  </a:lnTo>
                  <a:lnTo>
                    <a:pt x="904" y="1072"/>
                  </a:lnTo>
                  <a:lnTo>
                    <a:pt x="1085" y="1072"/>
                  </a:lnTo>
                  <a:lnTo>
                    <a:pt x="1266" y="1028"/>
                  </a:lnTo>
                  <a:lnTo>
                    <a:pt x="1394" y="927"/>
                  </a:lnTo>
                  <a:lnTo>
                    <a:pt x="1420" y="702"/>
                  </a:lnTo>
                  <a:lnTo>
                    <a:pt x="1487" y="605"/>
                  </a:lnTo>
                  <a:lnTo>
                    <a:pt x="1442" y="542"/>
                  </a:lnTo>
                  <a:lnTo>
                    <a:pt x="1275" y="485"/>
                  </a:lnTo>
                  <a:lnTo>
                    <a:pt x="1253" y="251"/>
                  </a:lnTo>
                  <a:lnTo>
                    <a:pt x="1094" y="251"/>
                  </a:lnTo>
                  <a:lnTo>
                    <a:pt x="909" y="0"/>
                  </a:lnTo>
                  <a:lnTo>
                    <a:pt x="1081" y="277"/>
                  </a:lnTo>
                  <a:lnTo>
                    <a:pt x="1134" y="277"/>
                  </a:lnTo>
                  <a:lnTo>
                    <a:pt x="1173" y="471"/>
                  </a:lnTo>
                  <a:lnTo>
                    <a:pt x="957" y="542"/>
                  </a:lnTo>
                  <a:lnTo>
                    <a:pt x="812" y="489"/>
                  </a:lnTo>
                  <a:lnTo>
                    <a:pt x="785" y="542"/>
                  </a:lnTo>
                  <a:lnTo>
                    <a:pt x="860" y="605"/>
                  </a:lnTo>
                  <a:lnTo>
                    <a:pt x="860" y="658"/>
                  </a:lnTo>
                  <a:lnTo>
                    <a:pt x="1050" y="574"/>
                  </a:lnTo>
                  <a:lnTo>
                    <a:pt x="1196" y="555"/>
                  </a:lnTo>
                  <a:lnTo>
                    <a:pt x="1363" y="583"/>
                  </a:lnTo>
                  <a:lnTo>
                    <a:pt x="1363" y="613"/>
                  </a:lnTo>
                  <a:lnTo>
                    <a:pt x="1288" y="684"/>
                  </a:lnTo>
                  <a:lnTo>
                    <a:pt x="1253" y="790"/>
                  </a:lnTo>
                  <a:lnTo>
                    <a:pt x="1248" y="927"/>
                  </a:lnTo>
                  <a:lnTo>
                    <a:pt x="1147" y="979"/>
                  </a:lnTo>
                  <a:lnTo>
                    <a:pt x="1006" y="1002"/>
                  </a:lnTo>
                  <a:lnTo>
                    <a:pt x="904" y="1002"/>
                  </a:lnTo>
                  <a:lnTo>
                    <a:pt x="874" y="962"/>
                  </a:lnTo>
                  <a:lnTo>
                    <a:pt x="847" y="702"/>
                  </a:lnTo>
                  <a:lnTo>
                    <a:pt x="692" y="702"/>
                  </a:lnTo>
                  <a:lnTo>
                    <a:pt x="679" y="6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22" name=""/>
            <p:cNvSpPr/>
            <p:nvPr/>
          </p:nvSpPr>
          <p:spPr>
            <a:xfrm>
              <a:off x="1625760" y="911160"/>
              <a:ext cx="176400" cy="82800"/>
            </a:xfrm>
            <a:custGeom>
              <a:avLst/>
              <a:gdLst/>
              <a:ahLst/>
              <a:rect l="0" t="0" r="r" b="b"/>
              <a:pathLst>
                <a:path w="490" h="230">
                  <a:moveTo>
                    <a:pt x="0" y="0"/>
                  </a:moveTo>
                  <a:lnTo>
                    <a:pt x="74" y="105"/>
                  </a:lnTo>
                  <a:lnTo>
                    <a:pt x="287" y="105"/>
                  </a:lnTo>
                  <a:lnTo>
                    <a:pt x="380" y="30"/>
                  </a:lnTo>
                  <a:lnTo>
                    <a:pt x="490" y="30"/>
                  </a:lnTo>
                  <a:lnTo>
                    <a:pt x="472" y="70"/>
                  </a:lnTo>
                  <a:lnTo>
                    <a:pt x="472" y="105"/>
                  </a:lnTo>
                  <a:lnTo>
                    <a:pt x="274" y="230"/>
                  </a:lnTo>
                  <a:lnTo>
                    <a:pt x="163" y="230"/>
                  </a:lnTo>
                  <a:lnTo>
                    <a:pt x="105" y="186"/>
                  </a:lnTo>
                  <a:lnTo>
                    <a:pt x="44" y="186"/>
                  </a:lnTo>
                  <a:lnTo>
                    <a:pt x="0" y="0"/>
                  </a:lnTo>
                  <a:close/>
                </a:path>
              </a:pathLst>
            </a:custGeom>
            <a:solidFill>
              <a:srgbClr val="000000"/>
            </a:solidFill>
            <a:ln w="12600">
              <a:solidFill>
                <a:srgbClr val="000000"/>
              </a:solidFill>
              <a:round/>
            </a:ln>
          </p:spPr>
          <p:txBody>
            <a:bodyPr lIns="96120" rIns="96120" tIns="31680" bIns="31680" anchor="t">
              <a:noAutofit/>
            </a:bodyPr>
            <a:p>
              <a:endParaRPr b="0" lang="en-US" sz="1800" spc="-1" strike="noStrike">
                <a:solidFill>
                  <a:srgbClr val="ffffff"/>
                </a:solidFill>
                <a:latin typeface="Arial"/>
              </a:endParaRPr>
            </a:p>
          </p:txBody>
        </p:sp>
        <p:sp>
          <p:nvSpPr>
            <p:cNvPr id="823" name=""/>
            <p:cNvSpPr/>
            <p:nvPr/>
          </p:nvSpPr>
          <p:spPr>
            <a:xfrm>
              <a:off x="1433520" y="777960"/>
              <a:ext cx="263880" cy="437040"/>
            </a:xfrm>
            <a:custGeom>
              <a:avLst/>
              <a:gdLst/>
              <a:ahLst/>
              <a:rect l="0" t="0" r="r" b="b"/>
              <a:pathLst>
                <a:path w="733" h="1214">
                  <a:moveTo>
                    <a:pt x="733" y="88"/>
                  </a:moveTo>
                  <a:lnTo>
                    <a:pt x="733" y="105"/>
                  </a:lnTo>
                  <a:lnTo>
                    <a:pt x="605" y="229"/>
                  </a:lnTo>
                  <a:lnTo>
                    <a:pt x="499" y="251"/>
                  </a:lnTo>
                  <a:lnTo>
                    <a:pt x="291" y="220"/>
                  </a:lnTo>
                  <a:lnTo>
                    <a:pt x="330" y="653"/>
                  </a:lnTo>
                  <a:lnTo>
                    <a:pt x="380" y="1016"/>
                  </a:lnTo>
                  <a:lnTo>
                    <a:pt x="464" y="1214"/>
                  </a:lnTo>
                  <a:lnTo>
                    <a:pt x="380" y="1073"/>
                  </a:lnTo>
                  <a:lnTo>
                    <a:pt x="343" y="923"/>
                  </a:lnTo>
                  <a:lnTo>
                    <a:pt x="282" y="512"/>
                  </a:lnTo>
                  <a:lnTo>
                    <a:pt x="224" y="534"/>
                  </a:lnTo>
                  <a:lnTo>
                    <a:pt x="154" y="490"/>
                  </a:lnTo>
                  <a:lnTo>
                    <a:pt x="13" y="273"/>
                  </a:lnTo>
                  <a:lnTo>
                    <a:pt x="0" y="154"/>
                  </a:lnTo>
                  <a:lnTo>
                    <a:pt x="0" y="74"/>
                  </a:lnTo>
                  <a:lnTo>
                    <a:pt x="35" y="22"/>
                  </a:lnTo>
                  <a:lnTo>
                    <a:pt x="114" y="0"/>
                  </a:lnTo>
                  <a:lnTo>
                    <a:pt x="123" y="30"/>
                  </a:lnTo>
                  <a:lnTo>
                    <a:pt x="57" y="52"/>
                  </a:lnTo>
                  <a:lnTo>
                    <a:pt x="44" y="145"/>
                  </a:lnTo>
                  <a:lnTo>
                    <a:pt x="52" y="260"/>
                  </a:lnTo>
                  <a:lnTo>
                    <a:pt x="149" y="362"/>
                  </a:lnTo>
                  <a:lnTo>
                    <a:pt x="185" y="340"/>
                  </a:lnTo>
                  <a:lnTo>
                    <a:pt x="185" y="119"/>
                  </a:lnTo>
                  <a:lnTo>
                    <a:pt x="277" y="163"/>
                  </a:lnTo>
                  <a:lnTo>
                    <a:pt x="406" y="198"/>
                  </a:lnTo>
                  <a:lnTo>
                    <a:pt x="530" y="189"/>
                  </a:lnTo>
                  <a:lnTo>
                    <a:pt x="644" y="119"/>
                  </a:lnTo>
                  <a:lnTo>
                    <a:pt x="733"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24" name=""/>
            <p:cNvSpPr/>
            <p:nvPr/>
          </p:nvSpPr>
          <p:spPr>
            <a:xfrm>
              <a:off x="1504800" y="433440"/>
              <a:ext cx="76680" cy="232200"/>
            </a:xfrm>
            <a:custGeom>
              <a:avLst/>
              <a:gdLst/>
              <a:ahLst/>
              <a:rect l="0" t="0" r="r" b="b"/>
              <a:pathLst>
                <a:path w="213" h="645">
                  <a:moveTo>
                    <a:pt x="115" y="645"/>
                  </a:moveTo>
                  <a:lnTo>
                    <a:pt x="213" y="261"/>
                  </a:lnTo>
                  <a:lnTo>
                    <a:pt x="22" y="127"/>
                  </a:lnTo>
                  <a:lnTo>
                    <a:pt x="0" y="0"/>
                  </a:lnTo>
                  <a:lnTo>
                    <a:pt x="13" y="154"/>
                  </a:lnTo>
                  <a:lnTo>
                    <a:pt x="75" y="221"/>
                  </a:lnTo>
                  <a:lnTo>
                    <a:pt x="84" y="411"/>
                  </a:lnTo>
                  <a:lnTo>
                    <a:pt x="133" y="491"/>
                  </a:lnTo>
                  <a:lnTo>
                    <a:pt x="115" y="64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25" name=""/>
            <p:cNvSpPr/>
            <p:nvPr/>
          </p:nvSpPr>
          <p:spPr>
            <a:xfrm>
              <a:off x="1503360" y="228600"/>
              <a:ext cx="586080" cy="306720"/>
            </a:xfrm>
            <a:custGeom>
              <a:avLst/>
              <a:gdLst/>
              <a:ahLst/>
              <a:rect l="0" t="0" r="r" b="b"/>
              <a:pathLst>
                <a:path w="1628" h="852">
                  <a:moveTo>
                    <a:pt x="13" y="578"/>
                  </a:moveTo>
                  <a:lnTo>
                    <a:pt x="158" y="662"/>
                  </a:lnTo>
                  <a:lnTo>
                    <a:pt x="136" y="556"/>
                  </a:lnTo>
                  <a:lnTo>
                    <a:pt x="167" y="361"/>
                  </a:lnTo>
                  <a:lnTo>
                    <a:pt x="260" y="321"/>
                  </a:lnTo>
                  <a:lnTo>
                    <a:pt x="277" y="525"/>
                  </a:lnTo>
                  <a:lnTo>
                    <a:pt x="546" y="163"/>
                  </a:lnTo>
                  <a:lnTo>
                    <a:pt x="608" y="145"/>
                  </a:lnTo>
                  <a:lnTo>
                    <a:pt x="560" y="282"/>
                  </a:lnTo>
                  <a:lnTo>
                    <a:pt x="732" y="352"/>
                  </a:lnTo>
                  <a:lnTo>
                    <a:pt x="856" y="211"/>
                  </a:lnTo>
                  <a:lnTo>
                    <a:pt x="922" y="251"/>
                  </a:lnTo>
                  <a:lnTo>
                    <a:pt x="860" y="374"/>
                  </a:lnTo>
                  <a:lnTo>
                    <a:pt x="949" y="299"/>
                  </a:lnTo>
                  <a:lnTo>
                    <a:pt x="1072" y="361"/>
                  </a:lnTo>
                  <a:lnTo>
                    <a:pt x="971" y="464"/>
                  </a:lnTo>
                  <a:lnTo>
                    <a:pt x="1310" y="525"/>
                  </a:lnTo>
                  <a:lnTo>
                    <a:pt x="1081" y="600"/>
                  </a:lnTo>
                  <a:lnTo>
                    <a:pt x="1354" y="640"/>
                  </a:lnTo>
                  <a:lnTo>
                    <a:pt x="1028" y="724"/>
                  </a:lnTo>
                  <a:lnTo>
                    <a:pt x="1099" y="785"/>
                  </a:lnTo>
                  <a:lnTo>
                    <a:pt x="1006" y="852"/>
                  </a:lnTo>
                  <a:lnTo>
                    <a:pt x="1169" y="852"/>
                  </a:lnTo>
                  <a:lnTo>
                    <a:pt x="1156" y="803"/>
                  </a:lnTo>
                  <a:lnTo>
                    <a:pt x="1332" y="847"/>
                  </a:lnTo>
                  <a:lnTo>
                    <a:pt x="1310" y="710"/>
                  </a:lnTo>
                  <a:lnTo>
                    <a:pt x="1465" y="649"/>
                  </a:lnTo>
                  <a:lnTo>
                    <a:pt x="1350" y="587"/>
                  </a:lnTo>
                  <a:lnTo>
                    <a:pt x="1628" y="569"/>
                  </a:lnTo>
                  <a:lnTo>
                    <a:pt x="1390" y="423"/>
                  </a:lnTo>
                  <a:lnTo>
                    <a:pt x="1112" y="396"/>
                  </a:lnTo>
                  <a:lnTo>
                    <a:pt x="1332" y="260"/>
                  </a:lnTo>
                  <a:lnTo>
                    <a:pt x="949" y="260"/>
                  </a:lnTo>
                  <a:lnTo>
                    <a:pt x="1134" y="127"/>
                  </a:lnTo>
                  <a:lnTo>
                    <a:pt x="847" y="163"/>
                  </a:lnTo>
                  <a:lnTo>
                    <a:pt x="718" y="229"/>
                  </a:lnTo>
                  <a:lnTo>
                    <a:pt x="834" y="0"/>
                  </a:lnTo>
                  <a:lnTo>
                    <a:pt x="489" y="127"/>
                  </a:lnTo>
                  <a:lnTo>
                    <a:pt x="304" y="405"/>
                  </a:lnTo>
                  <a:lnTo>
                    <a:pt x="277" y="251"/>
                  </a:lnTo>
                  <a:lnTo>
                    <a:pt x="119" y="361"/>
                  </a:lnTo>
                  <a:lnTo>
                    <a:pt x="105" y="569"/>
                  </a:lnTo>
                  <a:lnTo>
                    <a:pt x="0" y="525"/>
                  </a:lnTo>
                  <a:lnTo>
                    <a:pt x="39" y="710"/>
                  </a:lnTo>
                  <a:lnTo>
                    <a:pt x="13" y="57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26" name=""/>
            <p:cNvSpPr/>
            <p:nvPr/>
          </p:nvSpPr>
          <p:spPr>
            <a:xfrm>
              <a:off x="1631880" y="392040"/>
              <a:ext cx="162360" cy="92520"/>
            </a:xfrm>
            <a:custGeom>
              <a:avLst/>
              <a:gdLst/>
              <a:ahLst/>
              <a:rect l="0" t="0" r="r" b="b"/>
              <a:pathLst>
                <a:path w="451" h="257">
                  <a:moveTo>
                    <a:pt x="0" y="257"/>
                  </a:moveTo>
                  <a:lnTo>
                    <a:pt x="172" y="0"/>
                  </a:lnTo>
                  <a:lnTo>
                    <a:pt x="172" y="168"/>
                  </a:lnTo>
                  <a:lnTo>
                    <a:pt x="234" y="102"/>
                  </a:lnTo>
                  <a:lnTo>
                    <a:pt x="278" y="190"/>
                  </a:lnTo>
                  <a:lnTo>
                    <a:pt x="451" y="244"/>
                  </a:lnTo>
                  <a:lnTo>
                    <a:pt x="269" y="213"/>
                  </a:lnTo>
                  <a:lnTo>
                    <a:pt x="217" y="146"/>
                  </a:lnTo>
                  <a:lnTo>
                    <a:pt x="142" y="213"/>
                  </a:lnTo>
                  <a:lnTo>
                    <a:pt x="142" y="133"/>
                  </a:lnTo>
                  <a:lnTo>
                    <a:pt x="0" y="257"/>
                  </a:lnTo>
                  <a:close/>
                </a:path>
              </a:pathLst>
            </a:custGeom>
            <a:solidFill>
              <a:srgbClr val="000000"/>
            </a:solidFill>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827" name=""/>
            <p:cNvSpPr/>
            <p:nvPr/>
          </p:nvSpPr>
          <p:spPr>
            <a:xfrm>
              <a:off x="1614600" y="1017720"/>
              <a:ext cx="198720" cy="138600"/>
            </a:xfrm>
            <a:custGeom>
              <a:avLst/>
              <a:gdLst/>
              <a:ahLst/>
              <a:rect l="0" t="0" r="r" b="b"/>
              <a:pathLst>
                <a:path w="552" h="385">
                  <a:moveTo>
                    <a:pt x="105" y="133"/>
                  </a:moveTo>
                  <a:lnTo>
                    <a:pt x="327" y="115"/>
                  </a:lnTo>
                  <a:lnTo>
                    <a:pt x="437" y="146"/>
                  </a:lnTo>
                  <a:lnTo>
                    <a:pt x="494" y="88"/>
                  </a:lnTo>
                  <a:lnTo>
                    <a:pt x="552" y="212"/>
                  </a:lnTo>
                  <a:lnTo>
                    <a:pt x="512" y="239"/>
                  </a:lnTo>
                  <a:lnTo>
                    <a:pt x="472" y="190"/>
                  </a:lnTo>
                  <a:lnTo>
                    <a:pt x="389" y="278"/>
                  </a:lnTo>
                  <a:lnTo>
                    <a:pt x="255" y="385"/>
                  </a:lnTo>
                  <a:lnTo>
                    <a:pt x="194" y="385"/>
                  </a:lnTo>
                  <a:lnTo>
                    <a:pt x="105" y="328"/>
                  </a:lnTo>
                  <a:lnTo>
                    <a:pt x="202" y="376"/>
                  </a:lnTo>
                  <a:lnTo>
                    <a:pt x="246" y="376"/>
                  </a:lnTo>
                  <a:lnTo>
                    <a:pt x="327" y="306"/>
                  </a:lnTo>
                  <a:lnTo>
                    <a:pt x="389" y="177"/>
                  </a:lnTo>
                  <a:lnTo>
                    <a:pt x="300" y="155"/>
                  </a:lnTo>
                  <a:lnTo>
                    <a:pt x="242" y="146"/>
                  </a:lnTo>
                  <a:lnTo>
                    <a:pt x="88" y="164"/>
                  </a:lnTo>
                  <a:lnTo>
                    <a:pt x="83" y="269"/>
                  </a:lnTo>
                  <a:lnTo>
                    <a:pt x="44" y="203"/>
                  </a:lnTo>
                  <a:lnTo>
                    <a:pt x="0" y="287"/>
                  </a:lnTo>
                  <a:lnTo>
                    <a:pt x="4" y="106"/>
                  </a:lnTo>
                  <a:lnTo>
                    <a:pt x="57" y="0"/>
                  </a:lnTo>
                  <a:lnTo>
                    <a:pt x="105" y="106"/>
                  </a:lnTo>
                  <a:lnTo>
                    <a:pt x="105" y="13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28" name=""/>
            <p:cNvSpPr/>
            <p:nvPr/>
          </p:nvSpPr>
          <p:spPr>
            <a:xfrm>
              <a:off x="1590840" y="720720"/>
              <a:ext cx="427320" cy="632160"/>
            </a:xfrm>
            <a:custGeom>
              <a:avLst/>
              <a:gdLst/>
              <a:ahLst/>
              <a:rect l="0" t="0" r="r" b="b"/>
              <a:pathLst>
                <a:path w="1187" h="1756">
                  <a:moveTo>
                    <a:pt x="1002" y="0"/>
                  </a:moveTo>
                  <a:lnTo>
                    <a:pt x="1121" y="0"/>
                  </a:lnTo>
                  <a:lnTo>
                    <a:pt x="1187" y="88"/>
                  </a:lnTo>
                  <a:lnTo>
                    <a:pt x="1187" y="176"/>
                  </a:lnTo>
                  <a:lnTo>
                    <a:pt x="1085" y="458"/>
                  </a:lnTo>
                  <a:lnTo>
                    <a:pt x="997" y="586"/>
                  </a:lnTo>
                  <a:lnTo>
                    <a:pt x="891" y="608"/>
                  </a:lnTo>
                  <a:lnTo>
                    <a:pt x="869" y="608"/>
                  </a:lnTo>
                  <a:lnTo>
                    <a:pt x="869" y="953"/>
                  </a:lnTo>
                  <a:lnTo>
                    <a:pt x="909" y="1204"/>
                  </a:lnTo>
                  <a:lnTo>
                    <a:pt x="909" y="1407"/>
                  </a:lnTo>
                  <a:lnTo>
                    <a:pt x="728" y="1614"/>
                  </a:lnTo>
                  <a:lnTo>
                    <a:pt x="485" y="1756"/>
                  </a:lnTo>
                  <a:lnTo>
                    <a:pt x="321" y="1756"/>
                  </a:lnTo>
                  <a:lnTo>
                    <a:pt x="246" y="1716"/>
                  </a:lnTo>
                  <a:lnTo>
                    <a:pt x="136" y="1473"/>
                  </a:lnTo>
                  <a:lnTo>
                    <a:pt x="44" y="1385"/>
                  </a:lnTo>
                  <a:lnTo>
                    <a:pt x="0" y="1323"/>
                  </a:lnTo>
                  <a:lnTo>
                    <a:pt x="132" y="1407"/>
                  </a:lnTo>
                  <a:lnTo>
                    <a:pt x="229" y="1500"/>
                  </a:lnTo>
                  <a:lnTo>
                    <a:pt x="418" y="1509"/>
                  </a:lnTo>
                  <a:lnTo>
                    <a:pt x="590" y="1420"/>
                  </a:lnTo>
                  <a:lnTo>
                    <a:pt x="675" y="1323"/>
                  </a:lnTo>
                  <a:lnTo>
                    <a:pt x="777" y="1143"/>
                  </a:lnTo>
                  <a:lnTo>
                    <a:pt x="790" y="935"/>
                  </a:lnTo>
                  <a:lnTo>
                    <a:pt x="830" y="260"/>
                  </a:lnTo>
                  <a:lnTo>
                    <a:pt x="874" y="357"/>
                  </a:lnTo>
                  <a:lnTo>
                    <a:pt x="993" y="233"/>
                  </a:lnTo>
                  <a:lnTo>
                    <a:pt x="1112" y="176"/>
                  </a:lnTo>
                  <a:lnTo>
                    <a:pt x="1138" y="110"/>
                  </a:lnTo>
                  <a:lnTo>
                    <a:pt x="1125" y="39"/>
                  </a:lnTo>
                  <a:lnTo>
                    <a:pt x="1072" y="8"/>
                  </a:lnTo>
                  <a:lnTo>
                    <a:pt x="100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29" name=""/>
            <p:cNvSpPr/>
            <p:nvPr/>
          </p:nvSpPr>
          <p:spPr>
            <a:xfrm>
              <a:off x="927000" y="1265400"/>
              <a:ext cx="344880" cy="589320"/>
            </a:xfrm>
            <a:custGeom>
              <a:avLst/>
              <a:gdLst/>
              <a:ahLst/>
              <a:rect l="0" t="0" r="r" b="b"/>
              <a:pathLst>
                <a:path w="958" h="1637">
                  <a:moveTo>
                    <a:pt x="119" y="0"/>
                  </a:moveTo>
                  <a:lnTo>
                    <a:pt x="233" y="74"/>
                  </a:lnTo>
                  <a:lnTo>
                    <a:pt x="309" y="405"/>
                  </a:lnTo>
                  <a:lnTo>
                    <a:pt x="556" y="485"/>
                  </a:lnTo>
                  <a:lnTo>
                    <a:pt x="627" y="568"/>
                  </a:lnTo>
                  <a:lnTo>
                    <a:pt x="644" y="696"/>
                  </a:lnTo>
                  <a:lnTo>
                    <a:pt x="764" y="674"/>
                  </a:lnTo>
                  <a:lnTo>
                    <a:pt x="910" y="780"/>
                  </a:lnTo>
                  <a:lnTo>
                    <a:pt x="958" y="913"/>
                  </a:lnTo>
                  <a:lnTo>
                    <a:pt x="958" y="1147"/>
                  </a:lnTo>
                  <a:lnTo>
                    <a:pt x="764" y="1491"/>
                  </a:lnTo>
                  <a:lnTo>
                    <a:pt x="702" y="1637"/>
                  </a:lnTo>
                  <a:lnTo>
                    <a:pt x="729" y="1447"/>
                  </a:lnTo>
                  <a:lnTo>
                    <a:pt x="702" y="1372"/>
                  </a:lnTo>
                  <a:lnTo>
                    <a:pt x="583" y="1257"/>
                  </a:lnTo>
                  <a:lnTo>
                    <a:pt x="397" y="1116"/>
                  </a:lnTo>
                  <a:lnTo>
                    <a:pt x="613" y="1196"/>
                  </a:lnTo>
                  <a:lnTo>
                    <a:pt x="747" y="1301"/>
                  </a:lnTo>
                  <a:lnTo>
                    <a:pt x="822" y="1284"/>
                  </a:lnTo>
                  <a:lnTo>
                    <a:pt x="857" y="1226"/>
                  </a:lnTo>
                  <a:lnTo>
                    <a:pt x="910" y="1063"/>
                  </a:lnTo>
                  <a:lnTo>
                    <a:pt x="897" y="904"/>
                  </a:lnTo>
                  <a:lnTo>
                    <a:pt x="831" y="811"/>
                  </a:lnTo>
                  <a:lnTo>
                    <a:pt x="710" y="780"/>
                  </a:lnTo>
                  <a:lnTo>
                    <a:pt x="583" y="780"/>
                  </a:lnTo>
                  <a:lnTo>
                    <a:pt x="538" y="537"/>
                  </a:lnTo>
                  <a:lnTo>
                    <a:pt x="322" y="454"/>
                  </a:lnTo>
                  <a:lnTo>
                    <a:pt x="322" y="524"/>
                  </a:lnTo>
                  <a:lnTo>
                    <a:pt x="233" y="352"/>
                  </a:lnTo>
                  <a:lnTo>
                    <a:pt x="176" y="74"/>
                  </a:lnTo>
                  <a:lnTo>
                    <a:pt x="97" y="44"/>
                  </a:lnTo>
                  <a:lnTo>
                    <a:pt x="48" y="127"/>
                  </a:lnTo>
                  <a:lnTo>
                    <a:pt x="48" y="317"/>
                  </a:lnTo>
                  <a:lnTo>
                    <a:pt x="83" y="524"/>
                  </a:lnTo>
                  <a:lnTo>
                    <a:pt x="198" y="696"/>
                  </a:lnTo>
                  <a:lnTo>
                    <a:pt x="70" y="586"/>
                  </a:lnTo>
                  <a:lnTo>
                    <a:pt x="8" y="405"/>
                  </a:lnTo>
                  <a:lnTo>
                    <a:pt x="0" y="171"/>
                  </a:lnTo>
                  <a:lnTo>
                    <a:pt x="48" y="44"/>
                  </a:lnTo>
                  <a:lnTo>
                    <a:pt x="11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0" name=""/>
            <p:cNvSpPr/>
            <p:nvPr/>
          </p:nvSpPr>
          <p:spPr>
            <a:xfrm>
              <a:off x="762120" y="1525680"/>
              <a:ext cx="228960" cy="468720"/>
            </a:xfrm>
            <a:custGeom>
              <a:avLst/>
              <a:gdLst/>
              <a:ahLst/>
              <a:rect l="0" t="0" r="r" b="b"/>
              <a:pathLst>
                <a:path w="636" h="1302">
                  <a:moveTo>
                    <a:pt x="636" y="0"/>
                  </a:moveTo>
                  <a:lnTo>
                    <a:pt x="509" y="88"/>
                  </a:lnTo>
                  <a:lnTo>
                    <a:pt x="349" y="402"/>
                  </a:lnTo>
                  <a:lnTo>
                    <a:pt x="195" y="605"/>
                  </a:lnTo>
                  <a:lnTo>
                    <a:pt x="13" y="852"/>
                  </a:lnTo>
                  <a:lnTo>
                    <a:pt x="0" y="980"/>
                  </a:lnTo>
                  <a:lnTo>
                    <a:pt x="39" y="1095"/>
                  </a:lnTo>
                  <a:lnTo>
                    <a:pt x="123" y="1095"/>
                  </a:lnTo>
                  <a:lnTo>
                    <a:pt x="243" y="980"/>
                  </a:lnTo>
                  <a:lnTo>
                    <a:pt x="340" y="750"/>
                  </a:lnTo>
                  <a:lnTo>
                    <a:pt x="468" y="605"/>
                  </a:lnTo>
                  <a:lnTo>
                    <a:pt x="468" y="799"/>
                  </a:lnTo>
                  <a:lnTo>
                    <a:pt x="450" y="966"/>
                  </a:lnTo>
                  <a:lnTo>
                    <a:pt x="309" y="1197"/>
                  </a:lnTo>
                  <a:lnTo>
                    <a:pt x="309" y="1272"/>
                  </a:lnTo>
                  <a:lnTo>
                    <a:pt x="450" y="1302"/>
                  </a:lnTo>
                  <a:lnTo>
                    <a:pt x="349" y="1236"/>
                  </a:lnTo>
                  <a:lnTo>
                    <a:pt x="362" y="1197"/>
                  </a:lnTo>
                  <a:lnTo>
                    <a:pt x="459" y="1029"/>
                  </a:lnTo>
                  <a:lnTo>
                    <a:pt x="526" y="719"/>
                  </a:lnTo>
                  <a:lnTo>
                    <a:pt x="478" y="552"/>
                  </a:lnTo>
                  <a:lnTo>
                    <a:pt x="371" y="644"/>
                  </a:lnTo>
                  <a:lnTo>
                    <a:pt x="154" y="1042"/>
                  </a:lnTo>
                  <a:lnTo>
                    <a:pt x="92" y="1051"/>
                  </a:lnTo>
                  <a:lnTo>
                    <a:pt x="39" y="1007"/>
                  </a:lnTo>
                  <a:lnTo>
                    <a:pt x="39" y="887"/>
                  </a:lnTo>
                  <a:lnTo>
                    <a:pt x="123" y="733"/>
                  </a:lnTo>
                  <a:lnTo>
                    <a:pt x="371" y="424"/>
                  </a:lnTo>
                  <a:lnTo>
                    <a:pt x="526" y="119"/>
                  </a:lnTo>
                  <a:lnTo>
                    <a:pt x="63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1" name=""/>
            <p:cNvSpPr/>
            <p:nvPr/>
          </p:nvSpPr>
          <p:spPr>
            <a:xfrm>
              <a:off x="932040" y="1789200"/>
              <a:ext cx="141480" cy="225720"/>
            </a:xfrm>
            <a:custGeom>
              <a:avLst/>
              <a:gdLst/>
              <a:ahLst/>
              <a:rect l="0" t="0" r="r" b="b"/>
              <a:pathLst>
                <a:path w="393" h="627">
                  <a:moveTo>
                    <a:pt x="0" y="552"/>
                  </a:moveTo>
                  <a:lnTo>
                    <a:pt x="127" y="393"/>
                  </a:lnTo>
                  <a:lnTo>
                    <a:pt x="154" y="233"/>
                  </a:lnTo>
                  <a:lnTo>
                    <a:pt x="300" y="0"/>
                  </a:lnTo>
                  <a:lnTo>
                    <a:pt x="336" y="154"/>
                  </a:lnTo>
                  <a:lnTo>
                    <a:pt x="318" y="565"/>
                  </a:lnTo>
                  <a:lnTo>
                    <a:pt x="393" y="627"/>
                  </a:lnTo>
                  <a:lnTo>
                    <a:pt x="278" y="583"/>
                  </a:lnTo>
                  <a:lnTo>
                    <a:pt x="221" y="349"/>
                  </a:lnTo>
                  <a:lnTo>
                    <a:pt x="127" y="464"/>
                  </a:lnTo>
                  <a:lnTo>
                    <a:pt x="0" y="55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2" name=""/>
            <p:cNvSpPr/>
            <p:nvPr/>
          </p:nvSpPr>
          <p:spPr>
            <a:xfrm>
              <a:off x="1103400" y="1800360"/>
              <a:ext cx="92520" cy="203400"/>
            </a:xfrm>
            <a:custGeom>
              <a:avLst/>
              <a:gdLst/>
              <a:ahLst/>
              <a:rect l="0" t="0" r="r" b="b"/>
              <a:pathLst>
                <a:path w="257" h="565">
                  <a:moveTo>
                    <a:pt x="0" y="424"/>
                  </a:moveTo>
                  <a:lnTo>
                    <a:pt x="8" y="216"/>
                  </a:lnTo>
                  <a:lnTo>
                    <a:pt x="67" y="92"/>
                  </a:lnTo>
                  <a:lnTo>
                    <a:pt x="124" y="538"/>
                  </a:lnTo>
                  <a:lnTo>
                    <a:pt x="204" y="538"/>
                  </a:lnTo>
                  <a:lnTo>
                    <a:pt x="240" y="66"/>
                  </a:lnTo>
                  <a:lnTo>
                    <a:pt x="257" y="0"/>
                  </a:lnTo>
                  <a:lnTo>
                    <a:pt x="240" y="367"/>
                  </a:lnTo>
                  <a:lnTo>
                    <a:pt x="204" y="565"/>
                  </a:lnTo>
                  <a:lnTo>
                    <a:pt x="106" y="565"/>
                  </a:lnTo>
                  <a:lnTo>
                    <a:pt x="57" y="176"/>
                  </a:lnTo>
                  <a:lnTo>
                    <a:pt x="26" y="229"/>
                  </a:lnTo>
                  <a:lnTo>
                    <a:pt x="0" y="4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3" name=""/>
            <p:cNvSpPr/>
            <p:nvPr/>
          </p:nvSpPr>
          <p:spPr>
            <a:xfrm>
              <a:off x="2289240" y="1008000"/>
              <a:ext cx="225720" cy="538560"/>
            </a:xfrm>
            <a:custGeom>
              <a:avLst/>
              <a:gdLst/>
              <a:ahLst/>
              <a:rect l="0" t="0" r="r" b="b"/>
              <a:pathLst>
                <a:path w="627" h="1496">
                  <a:moveTo>
                    <a:pt x="167" y="807"/>
                  </a:moveTo>
                  <a:lnTo>
                    <a:pt x="216" y="578"/>
                  </a:lnTo>
                  <a:lnTo>
                    <a:pt x="419" y="512"/>
                  </a:lnTo>
                  <a:lnTo>
                    <a:pt x="627" y="0"/>
                  </a:lnTo>
                  <a:lnTo>
                    <a:pt x="627" y="149"/>
                  </a:lnTo>
                  <a:lnTo>
                    <a:pt x="455" y="547"/>
                  </a:lnTo>
                  <a:lnTo>
                    <a:pt x="229" y="622"/>
                  </a:lnTo>
                  <a:lnTo>
                    <a:pt x="194" y="807"/>
                  </a:lnTo>
                  <a:lnTo>
                    <a:pt x="277" y="807"/>
                  </a:lnTo>
                  <a:lnTo>
                    <a:pt x="79" y="891"/>
                  </a:lnTo>
                  <a:lnTo>
                    <a:pt x="39" y="1050"/>
                  </a:lnTo>
                  <a:lnTo>
                    <a:pt x="48" y="1258"/>
                  </a:lnTo>
                  <a:lnTo>
                    <a:pt x="251" y="1496"/>
                  </a:lnTo>
                  <a:lnTo>
                    <a:pt x="39" y="1285"/>
                  </a:lnTo>
                  <a:lnTo>
                    <a:pt x="0" y="1116"/>
                  </a:lnTo>
                  <a:lnTo>
                    <a:pt x="13" y="944"/>
                  </a:lnTo>
                  <a:lnTo>
                    <a:pt x="97" y="821"/>
                  </a:lnTo>
                  <a:lnTo>
                    <a:pt x="167" y="80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4" name=""/>
            <p:cNvSpPr/>
            <p:nvPr/>
          </p:nvSpPr>
          <p:spPr>
            <a:xfrm>
              <a:off x="2440080" y="1008000"/>
              <a:ext cx="378360" cy="520920"/>
            </a:xfrm>
            <a:custGeom>
              <a:avLst/>
              <a:gdLst/>
              <a:ahLst/>
              <a:rect l="0" t="0" r="r" b="b"/>
              <a:pathLst>
                <a:path w="1051" h="1447">
                  <a:moveTo>
                    <a:pt x="292" y="0"/>
                  </a:moveTo>
                  <a:lnTo>
                    <a:pt x="353" y="44"/>
                  </a:lnTo>
                  <a:lnTo>
                    <a:pt x="371" y="167"/>
                  </a:lnTo>
                  <a:lnTo>
                    <a:pt x="371" y="282"/>
                  </a:lnTo>
                  <a:lnTo>
                    <a:pt x="251" y="493"/>
                  </a:lnTo>
                  <a:lnTo>
                    <a:pt x="283" y="648"/>
                  </a:lnTo>
                  <a:lnTo>
                    <a:pt x="631" y="816"/>
                  </a:lnTo>
                  <a:lnTo>
                    <a:pt x="1047" y="1275"/>
                  </a:lnTo>
                  <a:lnTo>
                    <a:pt x="1051" y="1394"/>
                  </a:lnTo>
                  <a:lnTo>
                    <a:pt x="1033" y="1447"/>
                  </a:lnTo>
                  <a:lnTo>
                    <a:pt x="875" y="1447"/>
                  </a:lnTo>
                  <a:lnTo>
                    <a:pt x="741" y="1359"/>
                  </a:lnTo>
                  <a:lnTo>
                    <a:pt x="627" y="1209"/>
                  </a:lnTo>
                  <a:lnTo>
                    <a:pt x="565" y="1125"/>
                  </a:lnTo>
                  <a:lnTo>
                    <a:pt x="486" y="1107"/>
                  </a:lnTo>
                  <a:lnTo>
                    <a:pt x="578" y="1107"/>
                  </a:lnTo>
                  <a:lnTo>
                    <a:pt x="750" y="1350"/>
                  </a:lnTo>
                  <a:lnTo>
                    <a:pt x="963" y="1416"/>
                  </a:lnTo>
                  <a:lnTo>
                    <a:pt x="1011" y="1350"/>
                  </a:lnTo>
                  <a:lnTo>
                    <a:pt x="994" y="1235"/>
                  </a:lnTo>
                  <a:lnTo>
                    <a:pt x="605" y="909"/>
                  </a:lnTo>
                  <a:lnTo>
                    <a:pt x="547" y="816"/>
                  </a:lnTo>
                  <a:lnTo>
                    <a:pt x="251" y="737"/>
                  </a:lnTo>
                  <a:lnTo>
                    <a:pt x="198" y="816"/>
                  </a:lnTo>
                  <a:lnTo>
                    <a:pt x="0" y="949"/>
                  </a:lnTo>
                  <a:lnTo>
                    <a:pt x="189" y="790"/>
                  </a:lnTo>
                  <a:lnTo>
                    <a:pt x="198" y="692"/>
                  </a:lnTo>
                  <a:lnTo>
                    <a:pt x="198" y="458"/>
                  </a:lnTo>
                  <a:lnTo>
                    <a:pt x="340" y="282"/>
                  </a:lnTo>
                  <a:lnTo>
                    <a:pt x="340" y="57"/>
                  </a:lnTo>
                  <a:lnTo>
                    <a:pt x="29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5" name=""/>
            <p:cNvSpPr/>
            <p:nvPr/>
          </p:nvSpPr>
          <p:spPr>
            <a:xfrm>
              <a:off x="2371680" y="1417680"/>
              <a:ext cx="321120" cy="309960"/>
            </a:xfrm>
            <a:custGeom>
              <a:avLst/>
              <a:gdLst/>
              <a:ahLst/>
              <a:rect l="0" t="0" r="r" b="b"/>
              <a:pathLst>
                <a:path w="892" h="861">
                  <a:moveTo>
                    <a:pt x="666" y="0"/>
                  </a:moveTo>
                  <a:lnTo>
                    <a:pt x="649" y="74"/>
                  </a:lnTo>
                  <a:lnTo>
                    <a:pt x="778" y="358"/>
                  </a:lnTo>
                  <a:lnTo>
                    <a:pt x="844" y="650"/>
                  </a:lnTo>
                  <a:lnTo>
                    <a:pt x="769" y="650"/>
                  </a:lnTo>
                  <a:lnTo>
                    <a:pt x="636" y="521"/>
                  </a:lnTo>
                  <a:lnTo>
                    <a:pt x="516" y="252"/>
                  </a:lnTo>
                  <a:lnTo>
                    <a:pt x="419" y="211"/>
                  </a:lnTo>
                  <a:lnTo>
                    <a:pt x="433" y="358"/>
                  </a:lnTo>
                  <a:lnTo>
                    <a:pt x="521" y="464"/>
                  </a:lnTo>
                  <a:lnTo>
                    <a:pt x="521" y="667"/>
                  </a:lnTo>
                  <a:lnTo>
                    <a:pt x="459" y="822"/>
                  </a:lnTo>
                  <a:lnTo>
                    <a:pt x="375" y="760"/>
                  </a:lnTo>
                  <a:lnTo>
                    <a:pt x="278" y="521"/>
                  </a:lnTo>
                  <a:lnTo>
                    <a:pt x="247" y="358"/>
                  </a:lnTo>
                  <a:lnTo>
                    <a:pt x="189" y="305"/>
                  </a:lnTo>
                  <a:lnTo>
                    <a:pt x="176" y="729"/>
                  </a:lnTo>
                  <a:lnTo>
                    <a:pt x="97" y="786"/>
                  </a:lnTo>
                  <a:lnTo>
                    <a:pt x="22" y="729"/>
                  </a:lnTo>
                  <a:lnTo>
                    <a:pt x="8" y="371"/>
                  </a:lnTo>
                  <a:lnTo>
                    <a:pt x="0" y="720"/>
                  </a:lnTo>
                  <a:lnTo>
                    <a:pt x="57" y="844"/>
                  </a:lnTo>
                  <a:lnTo>
                    <a:pt x="176" y="844"/>
                  </a:lnTo>
                  <a:lnTo>
                    <a:pt x="220" y="747"/>
                  </a:lnTo>
                  <a:lnTo>
                    <a:pt x="239" y="419"/>
                  </a:lnTo>
                  <a:lnTo>
                    <a:pt x="256" y="547"/>
                  </a:lnTo>
                  <a:lnTo>
                    <a:pt x="362" y="831"/>
                  </a:lnTo>
                  <a:lnTo>
                    <a:pt x="472" y="861"/>
                  </a:lnTo>
                  <a:lnTo>
                    <a:pt x="552" y="747"/>
                  </a:lnTo>
                  <a:lnTo>
                    <a:pt x="552" y="472"/>
                  </a:lnTo>
                  <a:lnTo>
                    <a:pt x="769" y="703"/>
                  </a:lnTo>
                  <a:lnTo>
                    <a:pt x="883" y="703"/>
                  </a:lnTo>
                  <a:lnTo>
                    <a:pt x="892" y="547"/>
                  </a:lnTo>
                  <a:lnTo>
                    <a:pt x="813" y="278"/>
                  </a:lnTo>
                  <a:lnTo>
                    <a:pt x="666" y="57"/>
                  </a:lnTo>
                  <a:lnTo>
                    <a:pt x="66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6" name=""/>
            <p:cNvSpPr/>
            <p:nvPr/>
          </p:nvSpPr>
          <p:spPr>
            <a:xfrm>
              <a:off x="1077840" y="1098720"/>
              <a:ext cx="1424520" cy="1262520"/>
            </a:xfrm>
            <a:custGeom>
              <a:avLst/>
              <a:gdLst/>
              <a:ahLst/>
              <a:rect l="0" t="0" r="r" b="b"/>
              <a:pathLst>
                <a:path w="3957" h="3507">
                  <a:moveTo>
                    <a:pt x="1425" y="295"/>
                  </a:moveTo>
                  <a:lnTo>
                    <a:pt x="1345" y="304"/>
                  </a:lnTo>
                  <a:lnTo>
                    <a:pt x="1244" y="485"/>
                  </a:lnTo>
                  <a:lnTo>
                    <a:pt x="1200" y="357"/>
                  </a:lnTo>
                  <a:lnTo>
                    <a:pt x="1076" y="282"/>
                  </a:lnTo>
                  <a:lnTo>
                    <a:pt x="974" y="339"/>
                  </a:lnTo>
                  <a:lnTo>
                    <a:pt x="943" y="568"/>
                  </a:lnTo>
                  <a:lnTo>
                    <a:pt x="586" y="842"/>
                  </a:lnTo>
                  <a:lnTo>
                    <a:pt x="608" y="962"/>
                  </a:lnTo>
                  <a:lnTo>
                    <a:pt x="524" y="1072"/>
                  </a:lnTo>
                  <a:lnTo>
                    <a:pt x="524" y="1160"/>
                  </a:lnTo>
                  <a:lnTo>
                    <a:pt x="621" y="1420"/>
                  </a:lnTo>
                  <a:lnTo>
                    <a:pt x="635" y="1747"/>
                  </a:lnTo>
                  <a:lnTo>
                    <a:pt x="560" y="2055"/>
                  </a:lnTo>
                  <a:lnTo>
                    <a:pt x="308" y="2236"/>
                  </a:lnTo>
                  <a:lnTo>
                    <a:pt x="282" y="2488"/>
                  </a:lnTo>
                  <a:lnTo>
                    <a:pt x="194" y="2488"/>
                  </a:lnTo>
                  <a:lnTo>
                    <a:pt x="163" y="2280"/>
                  </a:lnTo>
                  <a:lnTo>
                    <a:pt x="79" y="2280"/>
                  </a:lnTo>
                  <a:lnTo>
                    <a:pt x="48" y="2505"/>
                  </a:lnTo>
                  <a:lnTo>
                    <a:pt x="0" y="2558"/>
                  </a:lnTo>
                  <a:lnTo>
                    <a:pt x="176" y="2863"/>
                  </a:lnTo>
                  <a:lnTo>
                    <a:pt x="299" y="2881"/>
                  </a:lnTo>
                  <a:lnTo>
                    <a:pt x="524" y="3102"/>
                  </a:lnTo>
                  <a:lnTo>
                    <a:pt x="723" y="3128"/>
                  </a:lnTo>
                  <a:lnTo>
                    <a:pt x="837" y="3009"/>
                  </a:lnTo>
                  <a:lnTo>
                    <a:pt x="1116" y="2576"/>
                  </a:lnTo>
                  <a:lnTo>
                    <a:pt x="1138" y="3163"/>
                  </a:lnTo>
                  <a:lnTo>
                    <a:pt x="1116" y="3507"/>
                  </a:lnTo>
                  <a:lnTo>
                    <a:pt x="3401" y="3507"/>
                  </a:lnTo>
                  <a:lnTo>
                    <a:pt x="3234" y="3128"/>
                  </a:lnTo>
                  <a:lnTo>
                    <a:pt x="3146" y="2802"/>
                  </a:lnTo>
                  <a:lnTo>
                    <a:pt x="3128" y="2316"/>
                  </a:lnTo>
                  <a:lnTo>
                    <a:pt x="3260" y="2430"/>
                  </a:lnTo>
                  <a:lnTo>
                    <a:pt x="3401" y="2430"/>
                  </a:lnTo>
                  <a:lnTo>
                    <a:pt x="3591" y="2302"/>
                  </a:lnTo>
                  <a:lnTo>
                    <a:pt x="3714" y="2280"/>
                  </a:lnTo>
                  <a:lnTo>
                    <a:pt x="3789" y="2152"/>
                  </a:lnTo>
                  <a:lnTo>
                    <a:pt x="3842" y="1822"/>
                  </a:lnTo>
                  <a:lnTo>
                    <a:pt x="3957" y="1689"/>
                  </a:lnTo>
                  <a:lnTo>
                    <a:pt x="3900" y="1588"/>
                  </a:lnTo>
                  <a:lnTo>
                    <a:pt x="3816" y="1588"/>
                  </a:lnTo>
                  <a:lnTo>
                    <a:pt x="3741" y="1654"/>
                  </a:lnTo>
                  <a:lnTo>
                    <a:pt x="3679" y="1676"/>
                  </a:lnTo>
                  <a:lnTo>
                    <a:pt x="3600" y="1588"/>
                  </a:lnTo>
                  <a:lnTo>
                    <a:pt x="3498" y="1575"/>
                  </a:lnTo>
                  <a:lnTo>
                    <a:pt x="3318" y="1451"/>
                  </a:lnTo>
                  <a:lnTo>
                    <a:pt x="3203" y="1323"/>
                  </a:lnTo>
                  <a:lnTo>
                    <a:pt x="3190" y="1160"/>
                  </a:lnTo>
                  <a:lnTo>
                    <a:pt x="3203" y="1002"/>
                  </a:lnTo>
                  <a:lnTo>
                    <a:pt x="3287" y="878"/>
                  </a:lnTo>
                  <a:lnTo>
                    <a:pt x="3379" y="758"/>
                  </a:lnTo>
                  <a:lnTo>
                    <a:pt x="3371" y="560"/>
                  </a:lnTo>
                  <a:lnTo>
                    <a:pt x="3371" y="414"/>
                  </a:lnTo>
                  <a:lnTo>
                    <a:pt x="3318" y="304"/>
                  </a:lnTo>
                  <a:lnTo>
                    <a:pt x="3190" y="264"/>
                  </a:lnTo>
                  <a:lnTo>
                    <a:pt x="3141" y="238"/>
                  </a:lnTo>
                  <a:lnTo>
                    <a:pt x="3049" y="57"/>
                  </a:lnTo>
                  <a:lnTo>
                    <a:pt x="2964" y="13"/>
                  </a:lnTo>
                  <a:lnTo>
                    <a:pt x="2884" y="0"/>
                  </a:lnTo>
                  <a:lnTo>
                    <a:pt x="2818" y="30"/>
                  </a:lnTo>
                  <a:lnTo>
                    <a:pt x="2761" y="123"/>
                  </a:lnTo>
                  <a:lnTo>
                    <a:pt x="2677" y="176"/>
                  </a:lnTo>
                  <a:lnTo>
                    <a:pt x="2576" y="198"/>
                  </a:lnTo>
                  <a:lnTo>
                    <a:pt x="2466" y="198"/>
                  </a:lnTo>
                  <a:lnTo>
                    <a:pt x="2483" y="370"/>
                  </a:lnTo>
                  <a:lnTo>
                    <a:pt x="2483" y="586"/>
                  </a:lnTo>
                  <a:lnTo>
                    <a:pt x="2466" y="732"/>
                  </a:lnTo>
                  <a:lnTo>
                    <a:pt x="2364" y="904"/>
                  </a:lnTo>
                  <a:lnTo>
                    <a:pt x="2241" y="1165"/>
                  </a:lnTo>
                  <a:lnTo>
                    <a:pt x="2148" y="1487"/>
                  </a:lnTo>
                  <a:lnTo>
                    <a:pt x="2144" y="1676"/>
                  </a:lnTo>
                  <a:lnTo>
                    <a:pt x="2095" y="1835"/>
                  </a:lnTo>
                  <a:lnTo>
                    <a:pt x="2033" y="1994"/>
                  </a:lnTo>
                  <a:lnTo>
                    <a:pt x="2003" y="2254"/>
                  </a:lnTo>
                  <a:lnTo>
                    <a:pt x="2025" y="2466"/>
                  </a:lnTo>
                  <a:lnTo>
                    <a:pt x="2095" y="2713"/>
                  </a:lnTo>
                  <a:lnTo>
                    <a:pt x="2144" y="2802"/>
                  </a:lnTo>
                  <a:lnTo>
                    <a:pt x="2003" y="2894"/>
                  </a:lnTo>
                  <a:lnTo>
                    <a:pt x="1848" y="2952"/>
                  </a:lnTo>
                  <a:lnTo>
                    <a:pt x="1672" y="2969"/>
                  </a:lnTo>
                  <a:lnTo>
                    <a:pt x="1562" y="2969"/>
                  </a:lnTo>
                  <a:lnTo>
                    <a:pt x="1491" y="2934"/>
                  </a:lnTo>
                  <a:lnTo>
                    <a:pt x="1491" y="2727"/>
                  </a:lnTo>
                  <a:lnTo>
                    <a:pt x="1491" y="2413"/>
                  </a:lnTo>
                  <a:lnTo>
                    <a:pt x="1447" y="2108"/>
                  </a:lnTo>
                  <a:lnTo>
                    <a:pt x="1376" y="1835"/>
                  </a:lnTo>
                  <a:lnTo>
                    <a:pt x="1341" y="1614"/>
                  </a:lnTo>
                  <a:lnTo>
                    <a:pt x="1328" y="1306"/>
                  </a:lnTo>
                  <a:lnTo>
                    <a:pt x="1376" y="1037"/>
                  </a:lnTo>
                  <a:lnTo>
                    <a:pt x="1447" y="820"/>
                  </a:lnTo>
                  <a:lnTo>
                    <a:pt x="1451" y="692"/>
                  </a:lnTo>
                  <a:lnTo>
                    <a:pt x="1425" y="502"/>
                  </a:lnTo>
                  <a:lnTo>
                    <a:pt x="1425" y="357"/>
                  </a:lnTo>
                  <a:lnTo>
                    <a:pt x="1447" y="304"/>
                  </a:lnTo>
                  <a:lnTo>
                    <a:pt x="1425" y="29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7" name=""/>
            <p:cNvSpPr/>
            <p:nvPr/>
          </p:nvSpPr>
          <p:spPr>
            <a:xfrm>
              <a:off x="1633680" y="1351080"/>
              <a:ext cx="178200" cy="821160"/>
            </a:xfrm>
            <a:custGeom>
              <a:avLst/>
              <a:gdLst/>
              <a:ahLst/>
              <a:rect l="0" t="0" r="r" b="b"/>
              <a:pathLst>
                <a:path w="495" h="2281">
                  <a:moveTo>
                    <a:pt x="195" y="26"/>
                  </a:moveTo>
                  <a:lnTo>
                    <a:pt x="66" y="101"/>
                  </a:lnTo>
                  <a:lnTo>
                    <a:pt x="74" y="321"/>
                  </a:lnTo>
                  <a:lnTo>
                    <a:pt x="177" y="383"/>
                  </a:lnTo>
                  <a:lnTo>
                    <a:pt x="57" y="622"/>
                  </a:lnTo>
                  <a:lnTo>
                    <a:pt x="0" y="882"/>
                  </a:lnTo>
                  <a:lnTo>
                    <a:pt x="0" y="1134"/>
                  </a:lnTo>
                  <a:lnTo>
                    <a:pt x="57" y="1368"/>
                  </a:lnTo>
                  <a:lnTo>
                    <a:pt x="105" y="1650"/>
                  </a:lnTo>
                  <a:lnTo>
                    <a:pt x="105" y="1805"/>
                  </a:lnTo>
                  <a:lnTo>
                    <a:pt x="57" y="2004"/>
                  </a:lnTo>
                  <a:lnTo>
                    <a:pt x="256" y="2281"/>
                  </a:lnTo>
                  <a:lnTo>
                    <a:pt x="336" y="2237"/>
                  </a:lnTo>
                  <a:lnTo>
                    <a:pt x="394" y="2043"/>
                  </a:lnTo>
                  <a:lnTo>
                    <a:pt x="491" y="1792"/>
                  </a:lnTo>
                  <a:lnTo>
                    <a:pt x="495" y="1659"/>
                  </a:lnTo>
                  <a:lnTo>
                    <a:pt x="420" y="1412"/>
                  </a:lnTo>
                  <a:lnTo>
                    <a:pt x="322" y="1165"/>
                  </a:lnTo>
                  <a:lnTo>
                    <a:pt x="292" y="993"/>
                  </a:lnTo>
                  <a:lnTo>
                    <a:pt x="292" y="830"/>
                  </a:lnTo>
                  <a:lnTo>
                    <a:pt x="322" y="680"/>
                  </a:lnTo>
                  <a:lnTo>
                    <a:pt x="394" y="498"/>
                  </a:lnTo>
                  <a:lnTo>
                    <a:pt x="394" y="427"/>
                  </a:lnTo>
                  <a:lnTo>
                    <a:pt x="362" y="348"/>
                  </a:lnTo>
                  <a:lnTo>
                    <a:pt x="451" y="260"/>
                  </a:lnTo>
                  <a:lnTo>
                    <a:pt x="451" y="171"/>
                  </a:lnTo>
                  <a:lnTo>
                    <a:pt x="322" y="0"/>
                  </a:lnTo>
                  <a:lnTo>
                    <a:pt x="429" y="171"/>
                  </a:lnTo>
                  <a:lnTo>
                    <a:pt x="429" y="246"/>
                  </a:lnTo>
                  <a:lnTo>
                    <a:pt x="331" y="321"/>
                  </a:lnTo>
                  <a:lnTo>
                    <a:pt x="372" y="427"/>
                  </a:lnTo>
                  <a:lnTo>
                    <a:pt x="362" y="498"/>
                  </a:lnTo>
                  <a:lnTo>
                    <a:pt x="265" y="710"/>
                  </a:lnTo>
                  <a:lnTo>
                    <a:pt x="256" y="918"/>
                  </a:lnTo>
                  <a:lnTo>
                    <a:pt x="274" y="1107"/>
                  </a:lnTo>
                  <a:lnTo>
                    <a:pt x="336" y="1376"/>
                  </a:lnTo>
                  <a:lnTo>
                    <a:pt x="420" y="1601"/>
                  </a:lnTo>
                  <a:lnTo>
                    <a:pt x="420" y="1779"/>
                  </a:lnTo>
                  <a:lnTo>
                    <a:pt x="372" y="2004"/>
                  </a:lnTo>
                  <a:lnTo>
                    <a:pt x="274" y="2237"/>
                  </a:lnTo>
                  <a:lnTo>
                    <a:pt x="168" y="2109"/>
                  </a:lnTo>
                  <a:lnTo>
                    <a:pt x="119" y="2004"/>
                  </a:lnTo>
                  <a:lnTo>
                    <a:pt x="128" y="1779"/>
                  </a:lnTo>
                  <a:lnTo>
                    <a:pt x="119" y="1553"/>
                  </a:lnTo>
                  <a:lnTo>
                    <a:pt x="57" y="1248"/>
                  </a:lnTo>
                  <a:lnTo>
                    <a:pt x="39" y="1046"/>
                  </a:lnTo>
                  <a:lnTo>
                    <a:pt x="57" y="816"/>
                  </a:lnTo>
                  <a:lnTo>
                    <a:pt x="105" y="591"/>
                  </a:lnTo>
                  <a:lnTo>
                    <a:pt x="208" y="366"/>
                  </a:lnTo>
                  <a:lnTo>
                    <a:pt x="119" y="273"/>
                  </a:lnTo>
                  <a:lnTo>
                    <a:pt x="105" y="114"/>
                  </a:lnTo>
                  <a:lnTo>
                    <a:pt x="195"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8" name=""/>
            <p:cNvSpPr/>
            <p:nvPr/>
          </p:nvSpPr>
          <p:spPr>
            <a:xfrm>
              <a:off x="2147760" y="392040"/>
              <a:ext cx="282960" cy="400320"/>
            </a:xfrm>
            <a:custGeom>
              <a:avLst/>
              <a:gdLst/>
              <a:ahLst/>
              <a:rect l="0" t="0" r="r" b="b"/>
              <a:pathLst>
                <a:path w="786" h="1112">
                  <a:moveTo>
                    <a:pt x="132" y="282"/>
                  </a:moveTo>
                  <a:lnTo>
                    <a:pt x="243" y="260"/>
                  </a:lnTo>
                  <a:lnTo>
                    <a:pt x="358" y="264"/>
                  </a:lnTo>
                  <a:lnTo>
                    <a:pt x="446" y="317"/>
                  </a:lnTo>
                  <a:lnTo>
                    <a:pt x="499" y="374"/>
                  </a:lnTo>
                  <a:lnTo>
                    <a:pt x="530" y="427"/>
                  </a:lnTo>
                  <a:lnTo>
                    <a:pt x="530" y="489"/>
                  </a:lnTo>
                  <a:lnTo>
                    <a:pt x="494" y="524"/>
                  </a:lnTo>
                  <a:lnTo>
                    <a:pt x="446" y="551"/>
                  </a:lnTo>
                  <a:lnTo>
                    <a:pt x="384" y="551"/>
                  </a:lnTo>
                  <a:lnTo>
                    <a:pt x="318" y="537"/>
                  </a:lnTo>
                  <a:lnTo>
                    <a:pt x="247" y="493"/>
                  </a:lnTo>
                  <a:lnTo>
                    <a:pt x="194" y="454"/>
                  </a:lnTo>
                  <a:lnTo>
                    <a:pt x="176" y="596"/>
                  </a:lnTo>
                  <a:lnTo>
                    <a:pt x="132" y="697"/>
                  </a:lnTo>
                  <a:lnTo>
                    <a:pt x="0" y="935"/>
                  </a:lnTo>
                  <a:lnTo>
                    <a:pt x="189" y="1112"/>
                  </a:lnTo>
                  <a:lnTo>
                    <a:pt x="340" y="812"/>
                  </a:lnTo>
                  <a:lnTo>
                    <a:pt x="494" y="838"/>
                  </a:lnTo>
                  <a:lnTo>
                    <a:pt x="601" y="816"/>
                  </a:lnTo>
                  <a:lnTo>
                    <a:pt x="694" y="746"/>
                  </a:lnTo>
                  <a:lnTo>
                    <a:pt x="751" y="658"/>
                  </a:lnTo>
                  <a:lnTo>
                    <a:pt x="786" y="542"/>
                  </a:lnTo>
                  <a:lnTo>
                    <a:pt x="786" y="423"/>
                  </a:lnTo>
                  <a:lnTo>
                    <a:pt x="751" y="295"/>
                  </a:lnTo>
                  <a:lnTo>
                    <a:pt x="689" y="167"/>
                  </a:lnTo>
                  <a:lnTo>
                    <a:pt x="610" y="79"/>
                  </a:lnTo>
                  <a:lnTo>
                    <a:pt x="508" y="26"/>
                  </a:lnTo>
                  <a:lnTo>
                    <a:pt x="406" y="0"/>
                  </a:lnTo>
                  <a:lnTo>
                    <a:pt x="256" y="0"/>
                  </a:lnTo>
                  <a:lnTo>
                    <a:pt x="105" y="30"/>
                  </a:lnTo>
                  <a:lnTo>
                    <a:pt x="132" y="282"/>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9" name=""/>
            <p:cNvSpPr/>
            <p:nvPr/>
          </p:nvSpPr>
          <p:spPr>
            <a:xfrm>
              <a:off x="2093760" y="779400"/>
              <a:ext cx="103680" cy="79560"/>
            </a:xfrm>
            <a:custGeom>
              <a:avLst/>
              <a:gdLst/>
              <a:ahLst/>
              <a:rect l="0" t="0" r="r" b="b"/>
              <a:pathLst>
                <a:path w="288" h="221">
                  <a:moveTo>
                    <a:pt x="115" y="0"/>
                  </a:moveTo>
                  <a:lnTo>
                    <a:pt x="44" y="0"/>
                  </a:lnTo>
                  <a:lnTo>
                    <a:pt x="0" y="30"/>
                  </a:lnTo>
                  <a:lnTo>
                    <a:pt x="0" y="111"/>
                  </a:lnTo>
                  <a:lnTo>
                    <a:pt x="57" y="190"/>
                  </a:lnTo>
                  <a:lnTo>
                    <a:pt x="172" y="221"/>
                  </a:lnTo>
                  <a:lnTo>
                    <a:pt x="257" y="217"/>
                  </a:lnTo>
                  <a:lnTo>
                    <a:pt x="288" y="164"/>
                  </a:lnTo>
                  <a:lnTo>
                    <a:pt x="275" y="120"/>
                  </a:lnTo>
                  <a:lnTo>
                    <a:pt x="235" y="61"/>
                  </a:lnTo>
                  <a:lnTo>
                    <a:pt x="164" y="8"/>
                  </a:lnTo>
                  <a:lnTo>
                    <a:pt x="115" y="0"/>
                  </a:lnTo>
                  <a:close/>
                </a:path>
              </a:pathLst>
            </a:custGeom>
            <a:solidFill>
              <a:srgbClr val="fc0128"/>
            </a:solidFill>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8" name=""/>
          <p:cNvSpPr txBox="1"/>
          <p:nvPr/>
        </p:nvSpPr>
        <p:spPr>
          <a:xfrm>
            <a:off x="1066680" y="609480"/>
            <a:ext cx="7467480" cy="9907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Issues</a:t>
            </a:r>
            <a:endParaRPr b="0" lang="en-US" sz="4400" spc="-1" strike="noStrike">
              <a:solidFill>
                <a:srgbClr val="ffffff"/>
              </a:solidFill>
              <a:latin typeface="Arial"/>
            </a:endParaRPr>
          </a:p>
        </p:txBody>
      </p:sp>
      <p:sp>
        <p:nvSpPr>
          <p:cNvPr id="59" name=""/>
          <p:cNvSpPr txBox="1"/>
          <p:nvPr/>
        </p:nvSpPr>
        <p:spPr>
          <a:xfrm>
            <a:off x="914400" y="1676520"/>
            <a:ext cx="8001000" cy="259092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The amount of money tied up in inventory must be controlled because of the high costs of borrowing funds and storing invento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40" name=""/>
          <p:cNvSpPr txBox="1"/>
          <p:nvPr/>
        </p:nvSpPr>
        <p:spPr>
          <a:xfrm>
            <a:off x="838080" y="2666880"/>
            <a:ext cx="8001000" cy="2057400"/>
          </a:xfrm>
          <a:prstGeom prst="rect">
            <a:avLst/>
          </a:prstGeom>
          <a:noFill/>
          <a:ln w="0">
            <a:noFill/>
          </a:ln>
        </p:spPr>
        <p:txBody>
          <a:bodyPr lIns="0" rIns="0" tIns="0" bIns="0" anchor="t">
            <a:noAutofit/>
          </a:bodyPr>
          <a:p>
            <a:pPr marL="343080" indent="-343080">
              <a:lnSpc>
                <a:spcPct val="12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SUPPLEMENTAL OBJECTIVE 7a </a:t>
            </a:r>
            <a:r>
              <a:rPr b="1" lang="en-US" sz="3200" spc="-1" strike="noStrike">
                <a:solidFill>
                  <a:srgbClr val="fcffd8"/>
                </a:solidFill>
                <a:latin typeface="Arial"/>
                <a:ea typeface="Arial"/>
              </a:rPr>
              <a:t>Estimate the cost of ending inventory using the retail inventory method.</a:t>
            </a:r>
            <a:endParaRPr b="0" lang="en-US" sz="3200" spc="-1" strike="noStrike">
              <a:solidFill>
                <a:srgbClr val="ffffff"/>
              </a:solidFill>
              <a:latin typeface="Arial"/>
            </a:endParaRPr>
          </a:p>
        </p:txBody>
      </p:sp>
      <p:sp>
        <p:nvSpPr>
          <p:cNvPr id="841" name=""/>
          <p:cNvSpPr txBox="1"/>
          <p:nvPr/>
        </p:nvSpPr>
        <p:spPr>
          <a:xfrm>
            <a:off x="990720" y="762120"/>
            <a:ext cx="7696080" cy="17524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Valuing Inventory by Estimation</a:t>
            </a:r>
            <a:endParaRPr b="0" lang="en-US" sz="4400" spc="-1" strike="noStrike">
              <a:solidFill>
                <a:srgbClr val="ffffff"/>
              </a:solidFill>
              <a:latin typeface="Arial"/>
            </a:endParaRPr>
          </a:p>
        </p:txBody>
      </p:sp>
      <p:pic>
        <p:nvPicPr>
          <p:cNvPr id="842" name="" descr=""/>
          <p:cNvPicPr/>
          <p:nvPr/>
        </p:nvPicPr>
        <p:blipFill>
          <a:blip r:embed="rId1"/>
          <a:stretch/>
        </p:blipFill>
        <p:spPr>
          <a:xfrm>
            <a:off x="0" y="0"/>
            <a:ext cx="863640" cy="70358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43" name=""/>
          <p:cNvSpPr txBox="1"/>
          <p:nvPr/>
        </p:nvSpPr>
        <p:spPr>
          <a:xfrm>
            <a:off x="1143000" y="609480"/>
            <a:ext cx="7515360" cy="13795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Retail Method of Inventory Estimation</a:t>
            </a:r>
            <a:endParaRPr b="0" lang="en-US" sz="4400" spc="-1" strike="noStrike">
              <a:solidFill>
                <a:srgbClr val="ffffff"/>
              </a:solidFill>
              <a:latin typeface="Arial"/>
            </a:endParaRPr>
          </a:p>
        </p:txBody>
      </p:sp>
      <p:sp>
        <p:nvSpPr>
          <p:cNvPr id="844" name=""/>
          <p:cNvSpPr txBox="1"/>
          <p:nvPr/>
        </p:nvSpPr>
        <p:spPr>
          <a:xfrm>
            <a:off x="1143000" y="2133720"/>
            <a:ext cx="7629480" cy="37339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Estimates the cost of ending inventory by using the ratio of cost to retail price.</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Values inventory at selling price, usually taken from each item’s price ta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45" name=""/>
          <p:cNvSpPr txBox="1"/>
          <p:nvPr/>
        </p:nvSpPr>
        <p:spPr>
          <a:xfrm>
            <a:off x="1219320" y="380880"/>
            <a:ext cx="728676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Retail Method of Inventory Estimation</a:t>
            </a:r>
            <a:endParaRPr b="0" lang="en-US" sz="4400" spc="-1" strike="noStrike">
              <a:solidFill>
                <a:srgbClr val="ffffff"/>
              </a:solidFill>
              <a:latin typeface="Arial"/>
            </a:endParaRPr>
          </a:p>
        </p:txBody>
      </p:sp>
      <p:sp>
        <p:nvSpPr>
          <p:cNvPr id="846" name=""/>
          <p:cNvSpPr txBox="1"/>
          <p:nvPr/>
        </p:nvSpPr>
        <p:spPr>
          <a:xfrm>
            <a:off x="914400" y="1752480"/>
            <a:ext cx="7934400" cy="42670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Defines </a:t>
            </a:r>
            <a:r>
              <a:rPr b="1" i="1" lang="en-US" sz="3200" spc="-1" strike="noStrike">
                <a:solidFill>
                  <a:srgbClr val="fcffd8"/>
                </a:solidFill>
                <a:latin typeface="Arial"/>
                <a:ea typeface="Arial"/>
              </a:rPr>
              <a:t>at retail</a:t>
            </a:r>
            <a:r>
              <a:rPr b="1" lang="en-US" sz="3200" spc="-1" strike="noStrike">
                <a:solidFill>
                  <a:srgbClr val="fcffd8"/>
                </a:solidFill>
                <a:latin typeface="Arial"/>
                <a:ea typeface="Arial"/>
              </a:rPr>
              <a:t> as the amount of the inventory at the marked selling prices of the inventory item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Discloses the following information:</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The beginning inventory at cost and at retail.</a:t>
            </a:r>
            <a:endParaRPr b="0" lang="en-US" sz="28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2800" spc="-1" strike="noStrike">
                <a:solidFill>
                  <a:srgbClr val="fcffd8"/>
                </a:solidFill>
                <a:latin typeface="Arial"/>
                <a:ea typeface="Arial"/>
              </a:rPr>
              <a:t>The amount of goods purchased during the period at cost and at retai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47" name=""/>
          <p:cNvSpPr txBox="1"/>
          <p:nvPr/>
        </p:nvSpPr>
        <p:spPr>
          <a:xfrm>
            <a:off x="838080" y="2743200"/>
            <a:ext cx="8077320" cy="2209680"/>
          </a:xfrm>
          <a:prstGeom prst="rect">
            <a:avLst/>
          </a:prstGeom>
          <a:noFill/>
          <a:ln w="0">
            <a:noFill/>
          </a:ln>
        </p:spPr>
        <p:txBody>
          <a:bodyPr lIns="0" rIns="0" tIns="0" bIns="0" anchor="t">
            <a:noAutofit/>
          </a:bodyPr>
          <a:p>
            <a:pPr marL="343080" indent="-343080">
              <a:lnSpc>
                <a:spcPct val="120000"/>
              </a:lnSpc>
              <a:spcBef>
                <a:spcPts val="479"/>
              </a:spcBef>
            </a:pPr>
            <a:r>
              <a:rPr b="1" lang="en-US" sz="3600" spc="-1" strike="noStrike">
                <a:solidFill>
                  <a:srgbClr val="fcffd8"/>
                </a:solidFill>
                <a:latin typeface="Arial"/>
                <a:ea typeface="Arial"/>
              </a:rPr>
              <a:t>	</a:t>
            </a:r>
            <a:r>
              <a:rPr b="1" lang="en-US" sz="3600" spc="-1" strike="noStrike">
                <a:solidFill>
                  <a:srgbClr val="fcffd8"/>
                </a:solidFill>
                <a:latin typeface="Arial"/>
                <a:ea typeface="Arial"/>
              </a:rPr>
              <a:t>SUPPLEMENTAL OBJECTIVE 7b </a:t>
            </a:r>
            <a:r>
              <a:rPr b="1" lang="en-US" sz="3200" spc="-1" strike="noStrike">
                <a:solidFill>
                  <a:srgbClr val="fcffd8"/>
                </a:solidFill>
                <a:latin typeface="Arial"/>
                <a:ea typeface="Arial"/>
              </a:rPr>
              <a:t>Estimate the cost of ending inventory using the gross profit method.</a:t>
            </a:r>
            <a:endParaRPr b="0" lang="en-US" sz="3200" spc="-1" strike="noStrike">
              <a:solidFill>
                <a:srgbClr val="ffffff"/>
              </a:solidFill>
              <a:latin typeface="Arial"/>
            </a:endParaRPr>
          </a:p>
        </p:txBody>
      </p:sp>
      <p:sp>
        <p:nvSpPr>
          <p:cNvPr id="848" name=""/>
          <p:cNvSpPr txBox="1"/>
          <p:nvPr/>
        </p:nvSpPr>
        <p:spPr>
          <a:xfrm>
            <a:off x="914400" y="914400"/>
            <a:ext cx="7848720" cy="1600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Valuing Inventory by Estimation</a:t>
            </a:r>
            <a:endParaRPr b="0" lang="en-US" sz="4400" spc="-1" strike="noStrike">
              <a:solidFill>
                <a:srgbClr val="ffffff"/>
              </a:solidFill>
              <a:latin typeface="Arial"/>
            </a:endParaRPr>
          </a:p>
        </p:txBody>
      </p:sp>
      <p:pic>
        <p:nvPicPr>
          <p:cNvPr id="849" name="" descr=""/>
          <p:cNvPicPr/>
          <p:nvPr/>
        </p:nvPicPr>
        <p:blipFill>
          <a:blip r:embed="rId1"/>
          <a:stretch/>
        </p:blipFill>
        <p:spPr>
          <a:xfrm>
            <a:off x="0" y="0"/>
            <a:ext cx="863640" cy="70358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50" name=""/>
          <p:cNvSpPr txBox="1"/>
          <p:nvPr/>
        </p:nvSpPr>
        <p:spPr>
          <a:xfrm>
            <a:off x="1371600" y="533520"/>
            <a:ext cx="6889680" cy="134784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Gross Profit Method of </a:t>
            </a:r>
            <a:br>
              <a:rPr sz="4400"/>
            </a:br>
            <a:r>
              <a:rPr b="1" lang="en-US" sz="4400" spc="-1" strike="noStrike">
                <a:solidFill>
                  <a:srgbClr val="ffcc66"/>
                </a:solidFill>
                <a:latin typeface="Arial"/>
                <a:ea typeface="Arial"/>
              </a:rPr>
              <a:t>Inventory Estimation</a:t>
            </a:r>
            <a:endParaRPr b="0" lang="en-US" sz="4400" spc="-1" strike="noStrike">
              <a:solidFill>
                <a:srgbClr val="ffffff"/>
              </a:solidFill>
              <a:latin typeface="Arial"/>
            </a:endParaRPr>
          </a:p>
        </p:txBody>
      </p:sp>
      <p:sp>
        <p:nvSpPr>
          <p:cNvPr id="851" name=""/>
          <p:cNvSpPr txBox="1"/>
          <p:nvPr/>
        </p:nvSpPr>
        <p:spPr>
          <a:xfrm>
            <a:off x="990720" y="1981080"/>
            <a:ext cx="7848720" cy="39625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Assumes that the ratio of gross margin for a business stays relatively stable, year to year.</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s used in place of the retail method when records of the retail prices of beginning and purchases are not kep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52" name=""/>
          <p:cNvSpPr txBox="1"/>
          <p:nvPr/>
        </p:nvSpPr>
        <p:spPr>
          <a:xfrm>
            <a:off x="1295280" y="533520"/>
            <a:ext cx="6966000" cy="142416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Gross Profit Method of </a:t>
            </a:r>
            <a:br>
              <a:rPr sz="4400"/>
            </a:br>
            <a:r>
              <a:rPr b="1" lang="en-US" sz="4400" spc="-1" strike="noStrike">
                <a:solidFill>
                  <a:srgbClr val="ffcc66"/>
                </a:solidFill>
                <a:latin typeface="Arial"/>
                <a:ea typeface="Arial"/>
              </a:rPr>
              <a:t>Inventory Estimation</a:t>
            </a:r>
            <a:endParaRPr b="0" lang="en-US" sz="4400" spc="-1" strike="noStrike">
              <a:solidFill>
                <a:srgbClr val="ffffff"/>
              </a:solidFill>
              <a:latin typeface="Arial"/>
            </a:endParaRPr>
          </a:p>
        </p:txBody>
      </p:sp>
      <p:sp>
        <p:nvSpPr>
          <p:cNvPr id="853" name=""/>
          <p:cNvSpPr txBox="1"/>
          <p:nvPr/>
        </p:nvSpPr>
        <p:spPr>
          <a:xfrm>
            <a:off x="1219320" y="2057400"/>
            <a:ext cx="7402680" cy="370044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s acceptable for interim reporting.</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s not acceptable for annual financial statement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s used to estimate value of inventory lost in cases of fire, theft, or other hazar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54" name=""/>
          <p:cNvSpPr txBox="1"/>
          <p:nvPr/>
        </p:nvSpPr>
        <p:spPr>
          <a:xfrm>
            <a:off x="2514600" y="990720"/>
            <a:ext cx="419112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855" name=""/>
          <p:cNvSpPr txBox="1"/>
          <p:nvPr/>
        </p:nvSpPr>
        <p:spPr>
          <a:xfrm>
            <a:off x="914400" y="2438280"/>
            <a:ext cx="8001000" cy="365760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Why is Freight In not placed under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e Retail column when using th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retail method of inventory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valuation?</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0128"/>
                </a:solidFill>
                <a:latin typeface="Arial"/>
                <a:ea typeface="Arial"/>
              </a:rPr>
              <a:t>A.</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Businesses automatically pric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heir goods high enough to cover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freight charges.</a:t>
            </a:r>
            <a:endParaRPr b="0" lang="en-US" sz="3200" spc="-1" strike="noStrike">
              <a:solidFill>
                <a:srgbClr val="ffffff"/>
              </a:solidFill>
              <a:latin typeface="Arial"/>
            </a:endParaRPr>
          </a:p>
        </p:txBody>
      </p:sp>
      <p:grpSp>
        <p:nvGrpSpPr>
          <p:cNvPr id="856" name=""/>
          <p:cNvGrpSpPr/>
          <p:nvPr/>
        </p:nvGrpSpPr>
        <p:grpSpPr>
          <a:xfrm>
            <a:off x="6781680" y="304920"/>
            <a:ext cx="2056320" cy="2055960"/>
            <a:chOff x="6781680" y="304920"/>
            <a:chExt cx="2056320" cy="2055960"/>
          </a:xfrm>
        </p:grpSpPr>
        <p:sp>
          <p:nvSpPr>
            <p:cNvPr id="857" name=""/>
            <p:cNvSpPr/>
            <p:nvPr/>
          </p:nvSpPr>
          <p:spPr>
            <a:xfrm>
              <a:off x="6786720" y="1314360"/>
              <a:ext cx="500400" cy="717840"/>
            </a:xfrm>
            <a:custGeom>
              <a:avLst/>
              <a:gdLst/>
              <a:ahLst/>
              <a:rect l="0" t="0" r="r" b="b"/>
              <a:pathLst>
                <a:path w="1390" h="1994">
                  <a:moveTo>
                    <a:pt x="555" y="0"/>
                  </a:moveTo>
                  <a:lnTo>
                    <a:pt x="480" y="88"/>
                  </a:lnTo>
                  <a:lnTo>
                    <a:pt x="480" y="348"/>
                  </a:lnTo>
                  <a:lnTo>
                    <a:pt x="555" y="533"/>
                  </a:lnTo>
                  <a:lnTo>
                    <a:pt x="639" y="630"/>
                  </a:lnTo>
                  <a:lnTo>
                    <a:pt x="511" y="758"/>
                  </a:lnTo>
                  <a:lnTo>
                    <a:pt x="348" y="1046"/>
                  </a:lnTo>
                  <a:lnTo>
                    <a:pt x="26" y="1509"/>
                  </a:lnTo>
                  <a:lnTo>
                    <a:pt x="0" y="1614"/>
                  </a:lnTo>
                  <a:lnTo>
                    <a:pt x="26" y="1707"/>
                  </a:lnTo>
                  <a:lnTo>
                    <a:pt x="127" y="1707"/>
                  </a:lnTo>
                  <a:lnTo>
                    <a:pt x="211" y="1601"/>
                  </a:lnTo>
                  <a:lnTo>
                    <a:pt x="348" y="1345"/>
                  </a:lnTo>
                  <a:lnTo>
                    <a:pt x="427" y="1235"/>
                  </a:lnTo>
                  <a:lnTo>
                    <a:pt x="480" y="1403"/>
                  </a:lnTo>
                  <a:lnTo>
                    <a:pt x="449" y="1588"/>
                  </a:lnTo>
                  <a:lnTo>
                    <a:pt x="308" y="1848"/>
                  </a:lnTo>
                  <a:lnTo>
                    <a:pt x="348" y="1910"/>
                  </a:lnTo>
                  <a:lnTo>
                    <a:pt x="427" y="1892"/>
                  </a:lnTo>
                  <a:lnTo>
                    <a:pt x="599" y="1756"/>
                  </a:lnTo>
                  <a:lnTo>
                    <a:pt x="741" y="1522"/>
                  </a:lnTo>
                  <a:lnTo>
                    <a:pt x="741" y="1928"/>
                  </a:lnTo>
                  <a:lnTo>
                    <a:pt x="904" y="1994"/>
                  </a:lnTo>
                  <a:lnTo>
                    <a:pt x="1002" y="1747"/>
                  </a:lnTo>
                  <a:lnTo>
                    <a:pt x="1090" y="1980"/>
                  </a:lnTo>
                  <a:lnTo>
                    <a:pt x="1156" y="1910"/>
                  </a:lnTo>
                  <a:lnTo>
                    <a:pt x="1187" y="1447"/>
                  </a:lnTo>
                  <a:lnTo>
                    <a:pt x="1390" y="1010"/>
                  </a:lnTo>
                  <a:lnTo>
                    <a:pt x="1341" y="758"/>
                  </a:lnTo>
                  <a:lnTo>
                    <a:pt x="1204" y="665"/>
                  </a:lnTo>
                  <a:lnTo>
                    <a:pt x="1054" y="679"/>
                  </a:lnTo>
                  <a:lnTo>
                    <a:pt x="1002" y="471"/>
                  </a:lnTo>
                  <a:lnTo>
                    <a:pt x="852" y="427"/>
                  </a:lnTo>
                  <a:lnTo>
                    <a:pt x="715" y="361"/>
                  </a:lnTo>
                  <a:lnTo>
                    <a:pt x="639" y="44"/>
                  </a:lnTo>
                  <a:lnTo>
                    <a:pt x="555"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858" name=""/>
            <p:cNvSpPr/>
            <p:nvPr/>
          </p:nvSpPr>
          <p:spPr>
            <a:xfrm>
              <a:off x="7207200" y="1604880"/>
              <a:ext cx="147960" cy="349560"/>
            </a:xfrm>
            <a:custGeom>
              <a:avLst/>
              <a:gdLst/>
              <a:ahLst/>
              <a:rect l="0" t="0" r="r" b="b"/>
              <a:pathLst>
                <a:path w="411" h="971">
                  <a:moveTo>
                    <a:pt x="202" y="0"/>
                  </a:moveTo>
                  <a:lnTo>
                    <a:pt x="411" y="255"/>
                  </a:lnTo>
                  <a:lnTo>
                    <a:pt x="309" y="794"/>
                  </a:lnTo>
                  <a:lnTo>
                    <a:pt x="0" y="971"/>
                  </a:lnTo>
                  <a:lnTo>
                    <a:pt x="0" y="697"/>
                  </a:lnTo>
                  <a:lnTo>
                    <a:pt x="123" y="414"/>
                  </a:lnTo>
                  <a:lnTo>
                    <a:pt x="202" y="202"/>
                  </a:lnTo>
                  <a:lnTo>
                    <a:pt x="202"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9" name=""/>
            <p:cNvSpPr/>
            <p:nvPr/>
          </p:nvSpPr>
          <p:spPr>
            <a:xfrm>
              <a:off x="8161200" y="1405080"/>
              <a:ext cx="370080" cy="314640"/>
            </a:xfrm>
            <a:custGeom>
              <a:avLst/>
              <a:gdLst/>
              <a:ahLst/>
              <a:rect l="0" t="0" r="r" b="b"/>
              <a:pathLst>
                <a:path w="1028" h="874">
                  <a:moveTo>
                    <a:pt x="423" y="0"/>
                  </a:moveTo>
                  <a:lnTo>
                    <a:pt x="423" y="136"/>
                  </a:lnTo>
                  <a:lnTo>
                    <a:pt x="458" y="264"/>
                  </a:lnTo>
                  <a:lnTo>
                    <a:pt x="658" y="472"/>
                  </a:lnTo>
                  <a:lnTo>
                    <a:pt x="1028" y="591"/>
                  </a:lnTo>
                  <a:lnTo>
                    <a:pt x="979" y="860"/>
                  </a:lnTo>
                  <a:lnTo>
                    <a:pt x="658" y="874"/>
                  </a:lnTo>
                  <a:lnTo>
                    <a:pt x="194" y="684"/>
                  </a:lnTo>
                  <a:lnTo>
                    <a:pt x="0" y="348"/>
                  </a:lnTo>
                  <a:lnTo>
                    <a:pt x="229" y="17"/>
                  </a:lnTo>
                  <a:lnTo>
                    <a:pt x="423"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0" name=""/>
            <p:cNvSpPr/>
            <p:nvPr/>
          </p:nvSpPr>
          <p:spPr>
            <a:xfrm>
              <a:off x="8310600" y="1049400"/>
              <a:ext cx="514800" cy="694080"/>
            </a:xfrm>
            <a:custGeom>
              <a:avLst/>
              <a:gdLst/>
              <a:ahLst/>
              <a:rect l="0" t="0" r="r" b="b"/>
              <a:pathLst>
                <a:path w="1430" h="1928">
                  <a:moveTo>
                    <a:pt x="127" y="820"/>
                  </a:moveTo>
                  <a:lnTo>
                    <a:pt x="0" y="952"/>
                  </a:lnTo>
                  <a:lnTo>
                    <a:pt x="26" y="1266"/>
                  </a:lnTo>
                  <a:lnTo>
                    <a:pt x="229" y="1416"/>
                  </a:lnTo>
                  <a:lnTo>
                    <a:pt x="242" y="1892"/>
                  </a:lnTo>
                  <a:lnTo>
                    <a:pt x="441" y="1892"/>
                  </a:lnTo>
                  <a:lnTo>
                    <a:pt x="428" y="1491"/>
                  </a:lnTo>
                  <a:lnTo>
                    <a:pt x="578" y="1910"/>
                  </a:lnTo>
                  <a:lnTo>
                    <a:pt x="680" y="1928"/>
                  </a:lnTo>
                  <a:lnTo>
                    <a:pt x="750" y="1786"/>
                  </a:lnTo>
                  <a:lnTo>
                    <a:pt x="768" y="1522"/>
                  </a:lnTo>
                  <a:lnTo>
                    <a:pt x="988" y="1769"/>
                  </a:lnTo>
                  <a:lnTo>
                    <a:pt x="1073" y="1751"/>
                  </a:lnTo>
                  <a:lnTo>
                    <a:pt x="1054" y="1579"/>
                  </a:lnTo>
                  <a:lnTo>
                    <a:pt x="966" y="1337"/>
                  </a:lnTo>
                  <a:lnTo>
                    <a:pt x="882" y="1178"/>
                  </a:lnTo>
                  <a:lnTo>
                    <a:pt x="913" y="1068"/>
                  </a:lnTo>
                  <a:lnTo>
                    <a:pt x="966" y="1081"/>
                  </a:lnTo>
                  <a:lnTo>
                    <a:pt x="1170" y="1337"/>
                  </a:lnTo>
                  <a:lnTo>
                    <a:pt x="1382" y="1394"/>
                  </a:lnTo>
                  <a:lnTo>
                    <a:pt x="1430" y="1315"/>
                  </a:lnTo>
                  <a:lnTo>
                    <a:pt x="1399" y="1187"/>
                  </a:lnTo>
                  <a:lnTo>
                    <a:pt x="1002" y="798"/>
                  </a:lnTo>
                  <a:lnTo>
                    <a:pt x="680" y="679"/>
                  </a:lnTo>
                  <a:lnTo>
                    <a:pt x="644" y="463"/>
                  </a:lnTo>
                  <a:lnTo>
                    <a:pt x="750" y="268"/>
                  </a:lnTo>
                  <a:lnTo>
                    <a:pt x="750" y="61"/>
                  </a:lnTo>
                  <a:lnTo>
                    <a:pt x="662" y="0"/>
                  </a:lnTo>
                  <a:lnTo>
                    <a:pt x="428" y="520"/>
                  </a:lnTo>
                  <a:lnTo>
                    <a:pt x="229" y="599"/>
                  </a:lnTo>
                  <a:lnTo>
                    <a:pt x="176" y="745"/>
                  </a:lnTo>
                  <a:lnTo>
                    <a:pt x="127" y="82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861" name=""/>
            <p:cNvSpPr/>
            <p:nvPr/>
          </p:nvSpPr>
          <p:spPr>
            <a:xfrm>
              <a:off x="7466040" y="450720"/>
              <a:ext cx="562320" cy="883080"/>
            </a:xfrm>
            <a:custGeom>
              <a:avLst/>
              <a:gdLst/>
              <a:ahLst/>
              <a:rect l="0" t="0" r="r" b="b"/>
              <a:pathLst>
                <a:path w="1562" h="2453">
                  <a:moveTo>
                    <a:pt x="388" y="339"/>
                  </a:moveTo>
                  <a:lnTo>
                    <a:pt x="277" y="807"/>
                  </a:lnTo>
                  <a:lnTo>
                    <a:pt x="13" y="904"/>
                  </a:lnTo>
                  <a:lnTo>
                    <a:pt x="83" y="1054"/>
                  </a:lnTo>
                  <a:lnTo>
                    <a:pt x="0" y="1147"/>
                  </a:lnTo>
                  <a:lnTo>
                    <a:pt x="0" y="1315"/>
                  </a:lnTo>
                  <a:lnTo>
                    <a:pt x="123" y="1469"/>
                  </a:lnTo>
                  <a:lnTo>
                    <a:pt x="242" y="1469"/>
                  </a:lnTo>
                  <a:lnTo>
                    <a:pt x="321" y="2017"/>
                  </a:lnTo>
                  <a:lnTo>
                    <a:pt x="423" y="2250"/>
                  </a:lnTo>
                  <a:lnTo>
                    <a:pt x="740" y="2453"/>
                  </a:lnTo>
                  <a:lnTo>
                    <a:pt x="1063" y="2422"/>
                  </a:lnTo>
                  <a:lnTo>
                    <a:pt x="1213" y="2017"/>
                  </a:lnTo>
                  <a:lnTo>
                    <a:pt x="1248" y="1394"/>
                  </a:lnTo>
                  <a:lnTo>
                    <a:pt x="1562" y="1085"/>
                  </a:lnTo>
                  <a:lnTo>
                    <a:pt x="1548" y="962"/>
                  </a:lnTo>
                  <a:lnTo>
                    <a:pt x="1509" y="904"/>
                  </a:lnTo>
                  <a:lnTo>
                    <a:pt x="1345" y="887"/>
                  </a:lnTo>
                  <a:lnTo>
                    <a:pt x="1398" y="728"/>
                  </a:lnTo>
                  <a:lnTo>
                    <a:pt x="1231" y="622"/>
                  </a:lnTo>
                  <a:lnTo>
                    <a:pt x="1160" y="268"/>
                  </a:lnTo>
                  <a:lnTo>
                    <a:pt x="674" y="0"/>
                  </a:lnTo>
                  <a:lnTo>
                    <a:pt x="423" y="251"/>
                  </a:lnTo>
                  <a:lnTo>
                    <a:pt x="388" y="33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862" name=""/>
            <p:cNvSpPr/>
            <p:nvPr/>
          </p:nvSpPr>
          <p:spPr>
            <a:xfrm>
              <a:off x="7507440" y="1189080"/>
              <a:ext cx="514800" cy="1054440"/>
            </a:xfrm>
            <a:custGeom>
              <a:avLst/>
              <a:gdLst/>
              <a:ahLst/>
              <a:rect l="0" t="0" r="r" b="b"/>
              <a:pathLst>
                <a:path w="1430" h="2929">
                  <a:moveTo>
                    <a:pt x="295" y="154"/>
                  </a:moveTo>
                  <a:lnTo>
                    <a:pt x="494" y="291"/>
                  </a:lnTo>
                  <a:lnTo>
                    <a:pt x="596" y="449"/>
                  </a:lnTo>
                  <a:lnTo>
                    <a:pt x="1170" y="0"/>
                  </a:lnTo>
                  <a:lnTo>
                    <a:pt x="1351" y="92"/>
                  </a:lnTo>
                  <a:lnTo>
                    <a:pt x="1430" y="555"/>
                  </a:lnTo>
                  <a:lnTo>
                    <a:pt x="1015" y="1901"/>
                  </a:lnTo>
                  <a:lnTo>
                    <a:pt x="1148" y="2646"/>
                  </a:lnTo>
                  <a:lnTo>
                    <a:pt x="609" y="2929"/>
                  </a:lnTo>
                  <a:lnTo>
                    <a:pt x="189" y="2770"/>
                  </a:lnTo>
                  <a:lnTo>
                    <a:pt x="189" y="1980"/>
                  </a:lnTo>
                  <a:lnTo>
                    <a:pt x="0" y="1217"/>
                  </a:lnTo>
                  <a:lnTo>
                    <a:pt x="189" y="291"/>
                  </a:lnTo>
                  <a:lnTo>
                    <a:pt x="295" y="154"/>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3" name=""/>
            <p:cNvSpPr/>
            <p:nvPr/>
          </p:nvSpPr>
          <p:spPr>
            <a:xfrm>
              <a:off x="7529400" y="333360"/>
              <a:ext cx="479880" cy="279720"/>
            </a:xfrm>
            <a:custGeom>
              <a:avLst/>
              <a:gdLst/>
              <a:ahLst/>
              <a:rect l="0" t="0" r="r" b="b"/>
              <a:pathLst>
                <a:path w="1333" h="777">
                  <a:moveTo>
                    <a:pt x="167" y="741"/>
                  </a:moveTo>
                  <a:lnTo>
                    <a:pt x="362" y="534"/>
                  </a:lnTo>
                  <a:lnTo>
                    <a:pt x="486" y="503"/>
                  </a:lnTo>
                  <a:lnTo>
                    <a:pt x="486" y="521"/>
                  </a:lnTo>
                  <a:lnTo>
                    <a:pt x="547" y="503"/>
                  </a:lnTo>
                  <a:lnTo>
                    <a:pt x="627" y="569"/>
                  </a:lnTo>
                  <a:lnTo>
                    <a:pt x="785" y="596"/>
                  </a:lnTo>
                  <a:lnTo>
                    <a:pt x="913" y="777"/>
                  </a:lnTo>
                  <a:lnTo>
                    <a:pt x="1122" y="697"/>
                  </a:lnTo>
                  <a:lnTo>
                    <a:pt x="1122" y="613"/>
                  </a:lnTo>
                  <a:lnTo>
                    <a:pt x="1333" y="521"/>
                  </a:lnTo>
                  <a:lnTo>
                    <a:pt x="1272" y="374"/>
                  </a:lnTo>
                  <a:lnTo>
                    <a:pt x="1073" y="361"/>
                  </a:lnTo>
                  <a:lnTo>
                    <a:pt x="1104" y="202"/>
                  </a:lnTo>
                  <a:lnTo>
                    <a:pt x="931" y="220"/>
                  </a:lnTo>
                  <a:lnTo>
                    <a:pt x="904" y="110"/>
                  </a:lnTo>
                  <a:lnTo>
                    <a:pt x="785" y="110"/>
                  </a:lnTo>
                  <a:lnTo>
                    <a:pt x="706" y="171"/>
                  </a:lnTo>
                  <a:lnTo>
                    <a:pt x="627" y="171"/>
                  </a:lnTo>
                  <a:lnTo>
                    <a:pt x="649" y="0"/>
                  </a:lnTo>
                  <a:lnTo>
                    <a:pt x="486" y="79"/>
                  </a:lnTo>
                  <a:lnTo>
                    <a:pt x="260" y="361"/>
                  </a:lnTo>
                  <a:lnTo>
                    <a:pt x="251" y="171"/>
                  </a:lnTo>
                  <a:lnTo>
                    <a:pt x="132" y="264"/>
                  </a:lnTo>
                  <a:lnTo>
                    <a:pt x="101" y="503"/>
                  </a:lnTo>
                  <a:lnTo>
                    <a:pt x="0" y="459"/>
                  </a:lnTo>
                  <a:lnTo>
                    <a:pt x="13" y="613"/>
                  </a:lnTo>
                  <a:lnTo>
                    <a:pt x="167" y="74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4" name=""/>
            <p:cNvSpPr/>
            <p:nvPr/>
          </p:nvSpPr>
          <p:spPr>
            <a:xfrm>
              <a:off x="7659720" y="1384200"/>
              <a:ext cx="152640" cy="798840"/>
            </a:xfrm>
            <a:custGeom>
              <a:avLst/>
              <a:gdLst/>
              <a:ahLst/>
              <a:rect l="0" t="0" r="r" b="b"/>
              <a:pathLst>
                <a:path w="424" h="2219">
                  <a:moveTo>
                    <a:pt x="221" y="13"/>
                  </a:moveTo>
                  <a:lnTo>
                    <a:pt x="74" y="110"/>
                  </a:lnTo>
                  <a:lnTo>
                    <a:pt x="74" y="295"/>
                  </a:lnTo>
                  <a:lnTo>
                    <a:pt x="176" y="357"/>
                  </a:lnTo>
                  <a:lnTo>
                    <a:pt x="39" y="652"/>
                  </a:lnTo>
                  <a:lnTo>
                    <a:pt x="0" y="1040"/>
                  </a:lnTo>
                  <a:lnTo>
                    <a:pt x="105" y="1553"/>
                  </a:lnTo>
                  <a:lnTo>
                    <a:pt x="105" y="1764"/>
                  </a:lnTo>
                  <a:lnTo>
                    <a:pt x="52" y="1932"/>
                  </a:lnTo>
                  <a:lnTo>
                    <a:pt x="265" y="2219"/>
                  </a:lnTo>
                  <a:lnTo>
                    <a:pt x="411" y="1786"/>
                  </a:lnTo>
                  <a:lnTo>
                    <a:pt x="411" y="1487"/>
                  </a:lnTo>
                  <a:lnTo>
                    <a:pt x="305" y="1209"/>
                  </a:lnTo>
                  <a:lnTo>
                    <a:pt x="252" y="837"/>
                  </a:lnTo>
                  <a:lnTo>
                    <a:pt x="358" y="471"/>
                  </a:lnTo>
                  <a:lnTo>
                    <a:pt x="322" y="326"/>
                  </a:lnTo>
                  <a:lnTo>
                    <a:pt x="424" y="251"/>
                  </a:lnTo>
                  <a:lnTo>
                    <a:pt x="411" y="154"/>
                  </a:lnTo>
                  <a:lnTo>
                    <a:pt x="287" y="0"/>
                  </a:lnTo>
                  <a:lnTo>
                    <a:pt x="221"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5" name=""/>
            <p:cNvSpPr/>
            <p:nvPr/>
          </p:nvSpPr>
          <p:spPr>
            <a:xfrm>
              <a:off x="7655040" y="1116000"/>
              <a:ext cx="124200" cy="73440"/>
            </a:xfrm>
            <a:custGeom>
              <a:avLst/>
              <a:gdLst/>
              <a:ahLst/>
              <a:rect l="0" t="0" r="r" b="b"/>
              <a:pathLst>
                <a:path w="345" h="204">
                  <a:moveTo>
                    <a:pt x="0" y="67"/>
                  </a:moveTo>
                  <a:lnTo>
                    <a:pt x="137" y="204"/>
                  </a:lnTo>
                  <a:lnTo>
                    <a:pt x="275" y="191"/>
                  </a:lnTo>
                  <a:lnTo>
                    <a:pt x="345" y="17"/>
                  </a:lnTo>
                  <a:lnTo>
                    <a:pt x="190" y="0"/>
                  </a:lnTo>
                  <a:lnTo>
                    <a:pt x="35" y="17"/>
                  </a:lnTo>
                  <a:lnTo>
                    <a:pt x="0" y="67"/>
                  </a:lnTo>
                  <a:close/>
                </a:path>
              </a:pathLst>
            </a:custGeom>
            <a:solidFill>
              <a:srgbClr val="ffffff"/>
            </a:solidFill>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866" name=""/>
            <p:cNvSpPr/>
            <p:nvPr/>
          </p:nvSpPr>
          <p:spPr>
            <a:xfrm>
              <a:off x="7518240" y="747720"/>
              <a:ext cx="154440" cy="155880"/>
            </a:xfrm>
            <a:custGeom>
              <a:avLst/>
              <a:gdLst/>
              <a:ahLst/>
              <a:rect l="0" t="0" r="r" b="b"/>
              <a:pathLst>
                <a:path w="429" h="433">
                  <a:moveTo>
                    <a:pt x="0" y="48"/>
                  </a:moveTo>
                  <a:lnTo>
                    <a:pt x="292" y="433"/>
                  </a:lnTo>
                  <a:lnTo>
                    <a:pt x="429" y="402"/>
                  </a:lnTo>
                  <a:lnTo>
                    <a:pt x="120"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7" name=""/>
            <p:cNvSpPr/>
            <p:nvPr/>
          </p:nvSpPr>
          <p:spPr>
            <a:xfrm>
              <a:off x="7788240" y="714240"/>
              <a:ext cx="132120" cy="155880"/>
            </a:xfrm>
            <a:custGeom>
              <a:avLst/>
              <a:gdLst/>
              <a:ahLst/>
              <a:rect l="0" t="0" r="r" b="b"/>
              <a:pathLst>
                <a:path w="367" h="433">
                  <a:moveTo>
                    <a:pt x="0" y="57"/>
                  </a:moveTo>
                  <a:lnTo>
                    <a:pt x="252" y="433"/>
                  </a:lnTo>
                  <a:lnTo>
                    <a:pt x="367" y="336"/>
                  </a:lnTo>
                  <a:lnTo>
                    <a:pt x="101" y="0"/>
                  </a:lnTo>
                  <a:lnTo>
                    <a:pt x="0" y="5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8" name=""/>
            <p:cNvSpPr/>
            <p:nvPr/>
          </p:nvSpPr>
          <p:spPr>
            <a:xfrm>
              <a:off x="7462800" y="512640"/>
              <a:ext cx="535320" cy="390960"/>
            </a:xfrm>
            <a:custGeom>
              <a:avLst/>
              <a:gdLst/>
              <a:ahLst/>
              <a:rect l="0" t="0" r="r" b="b"/>
              <a:pathLst>
                <a:path w="1487" h="1086">
                  <a:moveTo>
                    <a:pt x="679" y="644"/>
                  </a:moveTo>
                  <a:lnTo>
                    <a:pt x="546" y="605"/>
                  </a:lnTo>
                  <a:lnTo>
                    <a:pt x="661" y="508"/>
                  </a:lnTo>
                  <a:lnTo>
                    <a:pt x="617" y="455"/>
                  </a:lnTo>
                  <a:lnTo>
                    <a:pt x="467" y="583"/>
                  </a:lnTo>
                  <a:lnTo>
                    <a:pt x="185" y="613"/>
                  </a:lnTo>
                  <a:lnTo>
                    <a:pt x="0" y="622"/>
                  </a:lnTo>
                  <a:lnTo>
                    <a:pt x="0" y="772"/>
                  </a:lnTo>
                  <a:lnTo>
                    <a:pt x="180" y="1077"/>
                  </a:lnTo>
                  <a:lnTo>
                    <a:pt x="224" y="1086"/>
                  </a:lnTo>
                  <a:lnTo>
                    <a:pt x="61" y="750"/>
                  </a:lnTo>
                  <a:lnTo>
                    <a:pt x="308" y="644"/>
                  </a:lnTo>
                  <a:lnTo>
                    <a:pt x="467" y="644"/>
                  </a:lnTo>
                  <a:lnTo>
                    <a:pt x="590" y="710"/>
                  </a:lnTo>
                  <a:lnTo>
                    <a:pt x="617" y="803"/>
                  </a:lnTo>
                  <a:lnTo>
                    <a:pt x="617" y="1011"/>
                  </a:lnTo>
                  <a:lnTo>
                    <a:pt x="617" y="1077"/>
                  </a:lnTo>
                  <a:lnTo>
                    <a:pt x="692" y="980"/>
                  </a:lnTo>
                  <a:lnTo>
                    <a:pt x="692" y="763"/>
                  </a:lnTo>
                  <a:lnTo>
                    <a:pt x="794" y="763"/>
                  </a:lnTo>
                  <a:lnTo>
                    <a:pt x="847" y="1011"/>
                  </a:lnTo>
                  <a:lnTo>
                    <a:pt x="904" y="1033"/>
                  </a:lnTo>
                  <a:lnTo>
                    <a:pt x="1085" y="1033"/>
                  </a:lnTo>
                  <a:lnTo>
                    <a:pt x="1266" y="994"/>
                  </a:lnTo>
                  <a:lnTo>
                    <a:pt x="1394" y="897"/>
                  </a:lnTo>
                  <a:lnTo>
                    <a:pt x="1416" y="675"/>
                  </a:lnTo>
                  <a:lnTo>
                    <a:pt x="1487" y="583"/>
                  </a:lnTo>
                  <a:lnTo>
                    <a:pt x="1442" y="525"/>
                  </a:lnTo>
                  <a:lnTo>
                    <a:pt x="1279" y="468"/>
                  </a:lnTo>
                  <a:lnTo>
                    <a:pt x="1253" y="242"/>
                  </a:lnTo>
                  <a:lnTo>
                    <a:pt x="1094" y="242"/>
                  </a:lnTo>
                  <a:lnTo>
                    <a:pt x="913" y="0"/>
                  </a:lnTo>
                  <a:lnTo>
                    <a:pt x="1081" y="268"/>
                  </a:lnTo>
                  <a:lnTo>
                    <a:pt x="1134" y="268"/>
                  </a:lnTo>
                  <a:lnTo>
                    <a:pt x="1173" y="455"/>
                  </a:lnTo>
                  <a:lnTo>
                    <a:pt x="962" y="525"/>
                  </a:lnTo>
                  <a:lnTo>
                    <a:pt x="812" y="472"/>
                  </a:lnTo>
                  <a:lnTo>
                    <a:pt x="785" y="525"/>
                  </a:lnTo>
                  <a:lnTo>
                    <a:pt x="869" y="583"/>
                  </a:lnTo>
                  <a:lnTo>
                    <a:pt x="869" y="636"/>
                  </a:lnTo>
                  <a:lnTo>
                    <a:pt x="1050" y="552"/>
                  </a:lnTo>
                  <a:lnTo>
                    <a:pt x="1196" y="538"/>
                  </a:lnTo>
                  <a:lnTo>
                    <a:pt x="1363" y="561"/>
                  </a:lnTo>
                  <a:lnTo>
                    <a:pt x="1363" y="591"/>
                  </a:lnTo>
                  <a:lnTo>
                    <a:pt x="1288" y="662"/>
                  </a:lnTo>
                  <a:lnTo>
                    <a:pt x="1253" y="763"/>
                  </a:lnTo>
                  <a:lnTo>
                    <a:pt x="1244" y="897"/>
                  </a:lnTo>
                  <a:lnTo>
                    <a:pt x="1147" y="945"/>
                  </a:lnTo>
                  <a:lnTo>
                    <a:pt x="1006" y="967"/>
                  </a:lnTo>
                  <a:lnTo>
                    <a:pt x="904" y="967"/>
                  </a:lnTo>
                  <a:lnTo>
                    <a:pt x="874" y="928"/>
                  </a:lnTo>
                  <a:lnTo>
                    <a:pt x="847" y="675"/>
                  </a:lnTo>
                  <a:lnTo>
                    <a:pt x="692" y="675"/>
                  </a:lnTo>
                  <a:lnTo>
                    <a:pt x="679" y="64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9" name=""/>
            <p:cNvSpPr/>
            <p:nvPr/>
          </p:nvSpPr>
          <p:spPr>
            <a:xfrm>
              <a:off x="7645320" y="963720"/>
              <a:ext cx="173520" cy="79560"/>
            </a:xfrm>
            <a:custGeom>
              <a:avLst/>
              <a:gdLst/>
              <a:ahLst/>
              <a:rect l="0" t="0" r="r" b="b"/>
              <a:pathLst>
                <a:path w="482" h="221">
                  <a:moveTo>
                    <a:pt x="0" y="0"/>
                  </a:moveTo>
                  <a:lnTo>
                    <a:pt x="74" y="101"/>
                  </a:lnTo>
                  <a:lnTo>
                    <a:pt x="287" y="101"/>
                  </a:lnTo>
                  <a:lnTo>
                    <a:pt x="372" y="30"/>
                  </a:lnTo>
                  <a:lnTo>
                    <a:pt x="482" y="30"/>
                  </a:lnTo>
                  <a:lnTo>
                    <a:pt x="465" y="66"/>
                  </a:lnTo>
                  <a:lnTo>
                    <a:pt x="465" y="101"/>
                  </a:lnTo>
                  <a:lnTo>
                    <a:pt x="265" y="221"/>
                  </a:lnTo>
                  <a:lnTo>
                    <a:pt x="164" y="221"/>
                  </a:lnTo>
                  <a:lnTo>
                    <a:pt x="101" y="177"/>
                  </a:lnTo>
                  <a:lnTo>
                    <a:pt x="44" y="177"/>
                  </a:lnTo>
                  <a:lnTo>
                    <a:pt x="0" y="0"/>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870" name=""/>
            <p:cNvSpPr/>
            <p:nvPr/>
          </p:nvSpPr>
          <p:spPr>
            <a:xfrm>
              <a:off x="7453440" y="835200"/>
              <a:ext cx="262440" cy="421200"/>
            </a:xfrm>
            <a:custGeom>
              <a:avLst/>
              <a:gdLst/>
              <a:ahLst/>
              <a:rect l="0" t="0" r="r" b="b"/>
              <a:pathLst>
                <a:path w="729" h="1170">
                  <a:moveTo>
                    <a:pt x="729" y="83"/>
                  </a:moveTo>
                  <a:lnTo>
                    <a:pt x="729" y="101"/>
                  </a:lnTo>
                  <a:lnTo>
                    <a:pt x="601" y="220"/>
                  </a:lnTo>
                  <a:lnTo>
                    <a:pt x="494" y="242"/>
                  </a:lnTo>
                  <a:lnTo>
                    <a:pt x="292" y="211"/>
                  </a:lnTo>
                  <a:lnTo>
                    <a:pt x="331" y="631"/>
                  </a:lnTo>
                  <a:lnTo>
                    <a:pt x="380" y="980"/>
                  </a:lnTo>
                  <a:lnTo>
                    <a:pt x="464" y="1170"/>
                  </a:lnTo>
                  <a:lnTo>
                    <a:pt x="380" y="1033"/>
                  </a:lnTo>
                  <a:lnTo>
                    <a:pt x="340" y="888"/>
                  </a:lnTo>
                  <a:lnTo>
                    <a:pt x="283" y="494"/>
                  </a:lnTo>
                  <a:lnTo>
                    <a:pt x="225" y="516"/>
                  </a:lnTo>
                  <a:lnTo>
                    <a:pt x="154" y="472"/>
                  </a:lnTo>
                  <a:lnTo>
                    <a:pt x="13" y="264"/>
                  </a:lnTo>
                  <a:lnTo>
                    <a:pt x="0" y="149"/>
                  </a:lnTo>
                  <a:lnTo>
                    <a:pt x="0" y="70"/>
                  </a:lnTo>
                  <a:lnTo>
                    <a:pt x="35" y="22"/>
                  </a:lnTo>
                  <a:lnTo>
                    <a:pt x="114" y="0"/>
                  </a:lnTo>
                  <a:lnTo>
                    <a:pt x="123" y="30"/>
                  </a:lnTo>
                  <a:lnTo>
                    <a:pt x="57" y="52"/>
                  </a:lnTo>
                  <a:lnTo>
                    <a:pt x="44" y="141"/>
                  </a:lnTo>
                  <a:lnTo>
                    <a:pt x="52" y="251"/>
                  </a:lnTo>
                  <a:lnTo>
                    <a:pt x="145" y="349"/>
                  </a:lnTo>
                  <a:lnTo>
                    <a:pt x="186" y="327"/>
                  </a:lnTo>
                  <a:lnTo>
                    <a:pt x="186" y="114"/>
                  </a:lnTo>
                  <a:lnTo>
                    <a:pt x="274" y="158"/>
                  </a:lnTo>
                  <a:lnTo>
                    <a:pt x="406" y="189"/>
                  </a:lnTo>
                  <a:lnTo>
                    <a:pt x="525" y="180"/>
                  </a:lnTo>
                  <a:lnTo>
                    <a:pt x="645" y="114"/>
                  </a:lnTo>
                  <a:lnTo>
                    <a:pt x="729" y="8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1" name=""/>
            <p:cNvSpPr/>
            <p:nvPr/>
          </p:nvSpPr>
          <p:spPr>
            <a:xfrm>
              <a:off x="7524720" y="501480"/>
              <a:ext cx="78120" cy="224280"/>
            </a:xfrm>
            <a:custGeom>
              <a:avLst/>
              <a:gdLst/>
              <a:ahLst/>
              <a:rect l="0" t="0" r="r" b="b"/>
              <a:pathLst>
                <a:path w="217" h="623">
                  <a:moveTo>
                    <a:pt x="115" y="623"/>
                  </a:moveTo>
                  <a:lnTo>
                    <a:pt x="217" y="252"/>
                  </a:lnTo>
                  <a:lnTo>
                    <a:pt x="26" y="123"/>
                  </a:lnTo>
                  <a:lnTo>
                    <a:pt x="0" y="0"/>
                  </a:lnTo>
                  <a:lnTo>
                    <a:pt x="13" y="149"/>
                  </a:lnTo>
                  <a:lnTo>
                    <a:pt x="74" y="212"/>
                  </a:lnTo>
                  <a:lnTo>
                    <a:pt x="83" y="397"/>
                  </a:lnTo>
                  <a:lnTo>
                    <a:pt x="133" y="473"/>
                  </a:lnTo>
                  <a:lnTo>
                    <a:pt x="115" y="62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2" name=""/>
            <p:cNvSpPr/>
            <p:nvPr/>
          </p:nvSpPr>
          <p:spPr>
            <a:xfrm>
              <a:off x="7520040" y="304920"/>
              <a:ext cx="589320" cy="295560"/>
            </a:xfrm>
            <a:custGeom>
              <a:avLst/>
              <a:gdLst/>
              <a:ahLst/>
              <a:rect l="0" t="0" r="r" b="b"/>
              <a:pathLst>
                <a:path w="1637" h="821">
                  <a:moveTo>
                    <a:pt x="13" y="556"/>
                  </a:moveTo>
                  <a:lnTo>
                    <a:pt x="158" y="640"/>
                  </a:lnTo>
                  <a:lnTo>
                    <a:pt x="141" y="534"/>
                  </a:lnTo>
                  <a:lnTo>
                    <a:pt x="167" y="348"/>
                  </a:lnTo>
                  <a:lnTo>
                    <a:pt x="260" y="308"/>
                  </a:lnTo>
                  <a:lnTo>
                    <a:pt x="273" y="508"/>
                  </a:lnTo>
                  <a:lnTo>
                    <a:pt x="546" y="158"/>
                  </a:lnTo>
                  <a:lnTo>
                    <a:pt x="612" y="141"/>
                  </a:lnTo>
                  <a:lnTo>
                    <a:pt x="564" y="273"/>
                  </a:lnTo>
                  <a:lnTo>
                    <a:pt x="736" y="339"/>
                  </a:lnTo>
                  <a:lnTo>
                    <a:pt x="865" y="202"/>
                  </a:lnTo>
                  <a:lnTo>
                    <a:pt x="931" y="242"/>
                  </a:lnTo>
                  <a:lnTo>
                    <a:pt x="869" y="361"/>
                  </a:lnTo>
                  <a:lnTo>
                    <a:pt x="953" y="291"/>
                  </a:lnTo>
                  <a:lnTo>
                    <a:pt x="1072" y="348"/>
                  </a:lnTo>
                  <a:lnTo>
                    <a:pt x="975" y="446"/>
                  </a:lnTo>
                  <a:lnTo>
                    <a:pt x="1310" y="508"/>
                  </a:lnTo>
                  <a:lnTo>
                    <a:pt x="1081" y="578"/>
                  </a:lnTo>
                  <a:lnTo>
                    <a:pt x="1368" y="618"/>
                  </a:lnTo>
                  <a:lnTo>
                    <a:pt x="1037" y="697"/>
                  </a:lnTo>
                  <a:lnTo>
                    <a:pt x="1107" y="759"/>
                  </a:lnTo>
                  <a:lnTo>
                    <a:pt x="1006" y="821"/>
                  </a:lnTo>
                  <a:lnTo>
                    <a:pt x="1178" y="821"/>
                  </a:lnTo>
                  <a:lnTo>
                    <a:pt x="1165" y="772"/>
                  </a:lnTo>
                  <a:lnTo>
                    <a:pt x="1341" y="816"/>
                  </a:lnTo>
                  <a:lnTo>
                    <a:pt x="1310" y="684"/>
                  </a:lnTo>
                  <a:lnTo>
                    <a:pt x="1478" y="627"/>
                  </a:lnTo>
                  <a:lnTo>
                    <a:pt x="1359" y="565"/>
                  </a:lnTo>
                  <a:lnTo>
                    <a:pt x="1637" y="547"/>
                  </a:lnTo>
                  <a:lnTo>
                    <a:pt x="1398" y="411"/>
                  </a:lnTo>
                  <a:lnTo>
                    <a:pt x="1125" y="383"/>
                  </a:lnTo>
                  <a:lnTo>
                    <a:pt x="1341" y="251"/>
                  </a:lnTo>
                  <a:lnTo>
                    <a:pt x="953" y="251"/>
                  </a:lnTo>
                  <a:lnTo>
                    <a:pt x="1134" y="123"/>
                  </a:lnTo>
                  <a:lnTo>
                    <a:pt x="856" y="158"/>
                  </a:lnTo>
                  <a:lnTo>
                    <a:pt x="718" y="220"/>
                  </a:lnTo>
                  <a:lnTo>
                    <a:pt x="834" y="0"/>
                  </a:lnTo>
                  <a:lnTo>
                    <a:pt x="489" y="123"/>
                  </a:lnTo>
                  <a:lnTo>
                    <a:pt x="304" y="392"/>
                  </a:lnTo>
                  <a:lnTo>
                    <a:pt x="273" y="242"/>
                  </a:lnTo>
                  <a:lnTo>
                    <a:pt x="119" y="348"/>
                  </a:lnTo>
                  <a:lnTo>
                    <a:pt x="101" y="547"/>
                  </a:lnTo>
                  <a:lnTo>
                    <a:pt x="0" y="508"/>
                  </a:lnTo>
                  <a:lnTo>
                    <a:pt x="35" y="684"/>
                  </a:lnTo>
                  <a:lnTo>
                    <a:pt x="13" y="55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3" name=""/>
            <p:cNvSpPr/>
            <p:nvPr/>
          </p:nvSpPr>
          <p:spPr>
            <a:xfrm>
              <a:off x="7648560" y="461880"/>
              <a:ext cx="167040" cy="89280"/>
            </a:xfrm>
            <a:custGeom>
              <a:avLst/>
              <a:gdLst/>
              <a:ahLst/>
              <a:rect l="0" t="0" r="r" b="b"/>
              <a:pathLst>
                <a:path w="464" h="248">
                  <a:moveTo>
                    <a:pt x="0" y="248"/>
                  </a:moveTo>
                  <a:lnTo>
                    <a:pt x="171" y="0"/>
                  </a:lnTo>
                  <a:lnTo>
                    <a:pt x="171" y="164"/>
                  </a:lnTo>
                  <a:lnTo>
                    <a:pt x="234" y="98"/>
                  </a:lnTo>
                  <a:lnTo>
                    <a:pt x="292" y="187"/>
                  </a:lnTo>
                  <a:lnTo>
                    <a:pt x="464" y="235"/>
                  </a:lnTo>
                  <a:lnTo>
                    <a:pt x="278" y="204"/>
                  </a:lnTo>
                  <a:lnTo>
                    <a:pt x="224" y="142"/>
                  </a:lnTo>
                  <a:lnTo>
                    <a:pt x="141" y="204"/>
                  </a:lnTo>
                  <a:lnTo>
                    <a:pt x="141" y="128"/>
                  </a:lnTo>
                  <a:lnTo>
                    <a:pt x="0" y="248"/>
                  </a:lnTo>
                  <a:close/>
                </a:path>
              </a:pathLst>
            </a:custGeom>
            <a:solidFill>
              <a:srgbClr val="000000"/>
            </a:solidFill>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874" name=""/>
            <p:cNvSpPr/>
            <p:nvPr/>
          </p:nvSpPr>
          <p:spPr>
            <a:xfrm>
              <a:off x="7634160" y="1065240"/>
              <a:ext cx="198720" cy="133560"/>
            </a:xfrm>
            <a:custGeom>
              <a:avLst/>
              <a:gdLst/>
              <a:ahLst/>
              <a:rect l="0" t="0" r="r" b="b"/>
              <a:pathLst>
                <a:path w="552" h="371">
                  <a:moveTo>
                    <a:pt x="105" y="127"/>
                  </a:moveTo>
                  <a:lnTo>
                    <a:pt x="331" y="110"/>
                  </a:lnTo>
                  <a:lnTo>
                    <a:pt x="437" y="141"/>
                  </a:lnTo>
                  <a:lnTo>
                    <a:pt x="494" y="83"/>
                  </a:lnTo>
                  <a:lnTo>
                    <a:pt x="552" y="203"/>
                  </a:lnTo>
                  <a:lnTo>
                    <a:pt x="512" y="230"/>
                  </a:lnTo>
                  <a:lnTo>
                    <a:pt x="468" y="186"/>
                  </a:lnTo>
                  <a:lnTo>
                    <a:pt x="393" y="269"/>
                  </a:lnTo>
                  <a:lnTo>
                    <a:pt x="255" y="371"/>
                  </a:lnTo>
                  <a:lnTo>
                    <a:pt x="194" y="371"/>
                  </a:lnTo>
                  <a:lnTo>
                    <a:pt x="105" y="314"/>
                  </a:lnTo>
                  <a:lnTo>
                    <a:pt x="202" y="362"/>
                  </a:lnTo>
                  <a:lnTo>
                    <a:pt x="246" y="362"/>
                  </a:lnTo>
                  <a:lnTo>
                    <a:pt x="331" y="296"/>
                  </a:lnTo>
                  <a:lnTo>
                    <a:pt x="389" y="171"/>
                  </a:lnTo>
                  <a:lnTo>
                    <a:pt x="300" y="149"/>
                  </a:lnTo>
                  <a:lnTo>
                    <a:pt x="242" y="141"/>
                  </a:lnTo>
                  <a:lnTo>
                    <a:pt x="97" y="158"/>
                  </a:lnTo>
                  <a:lnTo>
                    <a:pt x="88" y="261"/>
                  </a:lnTo>
                  <a:lnTo>
                    <a:pt x="44" y="195"/>
                  </a:lnTo>
                  <a:lnTo>
                    <a:pt x="0" y="278"/>
                  </a:lnTo>
                  <a:lnTo>
                    <a:pt x="4" y="101"/>
                  </a:lnTo>
                  <a:lnTo>
                    <a:pt x="57" y="0"/>
                  </a:lnTo>
                  <a:lnTo>
                    <a:pt x="105" y="101"/>
                  </a:lnTo>
                  <a:lnTo>
                    <a:pt x="105" y="12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5" name=""/>
            <p:cNvSpPr/>
            <p:nvPr/>
          </p:nvSpPr>
          <p:spPr>
            <a:xfrm>
              <a:off x="7608960" y="779400"/>
              <a:ext cx="427320" cy="609840"/>
            </a:xfrm>
            <a:custGeom>
              <a:avLst/>
              <a:gdLst/>
              <a:ahLst/>
              <a:rect l="0" t="0" r="r" b="b"/>
              <a:pathLst>
                <a:path w="1187" h="1694">
                  <a:moveTo>
                    <a:pt x="1002" y="0"/>
                  </a:moveTo>
                  <a:lnTo>
                    <a:pt x="1116" y="0"/>
                  </a:lnTo>
                  <a:lnTo>
                    <a:pt x="1187" y="83"/>
                  </a:lnTo>
                  <a:lnTo>
                    <a:pt x="1187" y="171"/>
                  </a:lnTo>
                  <a:lnTo>
                    <a:pt x="1090" y="440"/>
                  </a:lnTo>
                  <a:lnTo>
                    <a:pt x="993" y="564"/>
                  </a:lnTo>
                  <a:lnTo>
                    <a:pt x="891" y="586"/>
                  </a:lnTo>
                  <a:lnTo>
                    <a:pt x="860" y="586"/>
                  </a:lnTo>
                  <a:lnTo>
                    <a:pt x="860" y="918"/>
                  </a:lnTo>
                  <a:lnTo>
                    <a:pt x="909" y="1160"/>
                  </a:lnTo>
                  <a:lnTo>
                    <a:pt x="909" y="1359"/>
                  </a:lnTo>
                  <a:lnTo>
                    <a:pt x="728" y="1557"/>
                  </a:lnTo>
                  <a:lnTo>
                    <a:pt x="485" y="1694"/>
                  </a:lnTo>
                  <a:lnTo>
                    <a:pt x="330" y="1694"/>
                  </a:lnTo>
                  <a:lnTo>
                    <a:pt x="246" y="1654"/>
                  </a:lnTo>
                  <a:lnTo>
                    <a:pt x="141" y="1420"/>
                  </a:lnTo>
                  <a:lnTo>
                    <a:pt x="39" y="1337"/>
                  </a:lnTo>
                  <a:lnTo>
                    <a:pt x="0" y="1275"/>
                  </a:lnTo>
                  <a:lnTo>
                    <a:pt x="132" y="1359"/>
                  </a:lnTo>
                  <a:lnTo>
                    <a:pt x="229" y="1447"/>
                  </a:lnTo>
                  <a:lnTo>
                    <a:pt x="418" y="1456"/>
                  </a:lnTo>
                  <a:lnTo>
                    <a:pt x="590" y="1372"/>
                  </a:lnTo>
                  <a:lnTo>
                    <a:pt x="680" y="1275"/>
                  </a:lnTo>
                  <a:lnTo>
                    <a:pt x="777" y="1103"/>
                  </a:lnTo>
                  <a:lnTo>
                    <a:pt x="790" y="904"/>
                  </a:lnTo>
                  <a:lnTo>
                    <a:pt x="830" y="251"/>
                  </a:lnTo>
                  <a:lnTo>
                    <a:pt x="874" y="343"/>
                  </a:lnTo>
                  <a:lnTo>
                    <a:pt x="988" y="224"/>
                  </a:lnTo>
                  <a:lnTo>
                    <a:pt x="1112" y="171"/>
                  </a:lnTo>
                  <a:lnTo>
                    <a:pt x="1138" y="105"/>
                  </a:lnTo>
                  <a:lnTo>
                    <a:pt x="1125" y="39"/>
                  </a:lnTo>
                  <a:lnTo>
                    <a:pt x="1072" y="8"/>
                  </a:lnTo>
                  <a:lnTo>
                    <a:pt x="100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6" name=""/>
            <p:cNvSpPr/>
            <p:nvPr/>
          </p:nvSpPr>
          <p:spPr>
            <a:xfrm>
              <a:off x="6946920" y="1305000"/>
              <a:ext cx="344880" cy="567000"/>
            </a:xfrm>
            <a:custGeom>
              <a:avLst/>
              <a:gdLst/>
              <a:ahLst/>
              <a:rect l="0" t="0" r="r" b="b"/>
              <a:pathLst>
                <a:path w="958" h="1575">
                  <a:moveTo>
                    <a:pt x="119" y="0"/>
                  </a:moveTo>
                  <a:lnTo>
                    <a:pt x="229" y="70"/>
                  </a:lnTo>
                  <a:lnTo>
                    <a:pt x="314" y="392"/>
                  </a:lnTo>
                  <a:lnTo>
                    <a:pt x="556" y="467"/>
                  </a:lnTo>
                  <a:lnTo>
                    <a:pt x="627" y="546"/>
                  </a:lnTo>
                  <a:lnTo>
                    <a:pt x="644" y="670"/>
                  </a:lnTo>
                  <a:lnTo>
                    <a:pt x="764" y="648"/>
                  </a:lnTo>
                  <a:lnTo>
                    <a:pt x="910" y="749"/>
                  </a:lnTo>
                  <a:lnTo>
                    <a:pt x="958" y="878"/>
                  </a:lnTo>
                  <a:lnTo>
                    <a:pt x="958" y="1103"/>
                  </a:lnTo>
                  <a:lnTo>
                    <a:pt x="764" y="1434"/>
                  </a:lnTo>
                  <a:lnTo>
                    <a:pt x="697" y="1575"/>
                  </a:lnTo>
                  <a:lnTo>
                    <a:pt x="734" y="1394"/>
                  </a:lnTo>
                  <a:lnTo>
                    <a:pt x="697" y="1319"/>
                  </a:lnTo>
                  <a:lnTo>
                    <a:pt x="583" y="1209"/>
                  </a:lnTo>
                  <a:lnTo>
                    <a:pt x="389" y="1072"/>
                  </a:lnTo>
                  <a:lnTo>
                    <a:pt x="618" y="1151"/>
                  </a:lnTo>
                  <a:lnTo>
                    <a:pt x="756" y="1253"/>
                  </a:lnTo>
                  <a:lnTo>
                    <a:pt x="822" y="1235"/>
                  </a:lnTo>
                  <a:lnTo>
                    <a:pt x="861" y="1182"/>
                  </a:lnTo>
                  <a:lnTo>
                    <a:pt x="910" y="1024"/>
                  </a:lnTo>
                  <a:lnTo>
                    <a:pt x="897" y="869"/>
                  </a:lnTo>
                  <a:lnTo>
                    <a:pt x="826" y="780"/>
                  </a:lnTo>
                  <a:lnTo>
                    <a:pt x="710" y="749"/>
                  </a:lnTo>
                  <a:lnTo>
                    <a:pt x="583" y="749"/>
                  </a:lnTo>
                  <a:lnTo>
                    <a:pt x="534" y="515"/>
                  </a:lnTo>
                  <a:lnTo>
                    <a:pt x="322" y="436"/>
                  </a:lnTo>
                  <a:lnTo>
                    <a:pt x="322" y="507"/>
                  </a:lnTo>
                  <a:lnTo>
                    <a:pt x="229" y="339"/>
                  </a:lnTo>
                  <a:lnTo>
                    <a:pt x="176" y="70"/>
                  </a:lnTo>
                  <a:lnTo>
                    <a:pt x="97" y="44"/>
                  </a:lnTo>
                  <a:lnTo>
                    <a:pt x="48" y="123"/>
                  </a:lnTo>
                  <a:lnTo>
                    <a:pt x="48" y="304"/>
                  </a:lnTo>
                  <a:lnTo>
                    <a:pt x="83" y="507"/>
                  </a:lnTo>
                  <a:lnTo>
                    <a:pt x="198" y="670"/>
                  </a:lnTo>
                  <a:lnTo>
                    <a:pt x="74" y="564"/>
                  </a:lnTo>
                  <a:lnTo>
                    <a:pt x="8" y="392"/>
                  </a:lnTo>
                  <a:lnTo>
                    <a:pt x="0" y="167"/>
                  </a:lnTo>
                  <a:lnTo>
                    <a:pt x="48" y="44"/>
                  </a:lnTo>
                  <a:lnTo>
                    <a:pt x="11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7" name=""/>
            <p:cNvSpPr/>
            <p:nvPr/>
          </p:nvSpPr>
          <p:spPr>
            <a:xfrm>
              <a:off x="6781680" y="1555920"/>
              <a:ext cx="228960" cy="451080"/>
            </a:xfrm>
            <a:custGeom>
              <a:avLst/>
              <a:gdLst/>
              <a:ahLst/>
              <a:rect l="0" t="0" r="r" b="b"/>
              <a:pathLst>
                <a:path w="636" h="1253">
                  <a:moveTo>
                    <a:pt x="636" y="0"/>
                  </a:moveTo>
                  <a:lnTo>
                    <a:pt x="503" y="83"/>
                  </a:lnTo>
                  <a:lnTo>
                    <a:pt x="349" y="388"/>
                  </a:lnTo>
                  <a:lnTo>
                    <a:pt x="198" y="582"/>
                  </a:lnTo>
                  <a:lnTo>
                    <a:pt x="13" y="821"/>
                  </a:lnTo>
                  <a:lnTo>
                    <a:pt x="0" y="944"/>
                  </a:lnTo>
                  <a:lnTo>
                    <a:pt x="35" y="1054"/>
                  </a:lnTo>
                  <a:lnTo>
                    <a:pt x="123" y="1054"/>
                  </a:lnTo>
                  <a:lnTo>
                    <a:pt x="242" y="944"/>
                  </a:lnTo>
                  <a:lnTo>
                    <a:pt x="340" y="724"/>
                  </a:lnTo>
                  <a:lnTo>
                    <a:pt x="468" y="582"/>
                  </a:lnTo>
                  <a:lnTo>
                    <a:pt x="468" y="768"/>
                  </a:lnTo>
                  <a:lnTo>
                    <a:pt x="450" y="931"/>
                  </a:lnTo>
                  <a:lnTo>
                    <a:pt x="308" y="1151"/>
                  </a:lnTo>
                  <a:lnTo>
                    <a:pt x="308" y="1222"/>
                  </a:lnTo>
                  <a:lnTo>
                    <a:pt x="450" y="1253"/>
                  </a:lnTo>
                  <a:lnTo>
                    <a:pt x="349" y="1191"/>
                  </a:lnTo>
                  <a:lnTo>
                    <a:pt x="362" y="1151"/>
                  </a:lnTo>
                  <a:lnTo>
                    <a:pt x="459" y="988"/>
                  </a:lnTo>
                  <a:lnTo>
                    <a:pt x="525" y="693"/>
                  </a:lnTo>
                  <a:lnTo>
                    <a:pt x="477" y="529"/>
                  </a:lnTo>
                  <a:lnTo>
                    <a:pt x="375" y="621"/>
                  </a:lnTo>
                  <a:lnTo>
                    <a:pt x="149" y="1002"/>
                  </a:lnTo>
                  <a:lnTo>
                    <a:pt x="92" y="1010"/>
                  </a:lnTo>
                  <a:lnTo>
                    <a:pt x="35" y="971"/>
                  </a:lnTo>
                  <a:lnTo>
                    <a:pt x="35" y="856"/>
                  </a:lnTo>
                  <a:lnTo>
                    <a:pt x="123" y="706"/>
                  </a:lnTo>
                  <a:lnTo>
                    <a:pt x="375" y="405"/>
                  </a:lnTo>
                  <a:lnTo>
                    <a:pt x="525" y="114"/>
                  </a:lnTo>
                  <a:lnTo>
                    <a:pt x="63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8" name=""/>
            <p:cNvSpPr/>
            <p:nvPr/>
          </p:nvSpPr>
          <p:spPr>
            <a:xfrm>
              <a:off x="6950160" y="1809720"/>
              <a:ext cx="140040" cy="217800"/>
            </a:xfrm>
            <a:custGeom>
              <a:avLst/>
              <a:gdLst/>
              <a:ahLst/>
              <a:rect l="0" t="0" r="r" b="b"/>
              <a:pathLst>
                <a:path w="389" h="605">
                  <a:moveTo>
                    <a:pt x="0" y="534"/>
                  </a:moveTo>
                  <a:lnTo>
                    <a:pt x="127" y="380"/>
                  </a:lnTo>
                  <a:lnTo>
                    <a:pt x="149" y="224"/>
                  </a:lnTo>
                  <a:lnTo>
                    <a:pt x="300" y="0"/>
                  </a:lnTo>
                  <a:lnTo>
                    <a:pt x="331" y="149"/>
                  </a:lnTo>
                  <a:lnTo>
                    <a:pt x="314" y="547"/>
                  </a:lnTo>
                  <a:lnTo>
                    <a:pt x="389" y="605"/>
                  </a:lnTo>
                  <a:lnTo>
                    <a:pt x="274" y="561"/>
                  </a:lnTo>
                  <a:lnTo>
                    <a:pt x="217" y="336"/>
                  </a:lnTo>
                  <a:lnTo>
                    <a:pt x="127" y="446"/>
                  </a:lnTo>
                  <a:lnTo>
                    <a:pt x="0" y="5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9" name=""/>
            <p:cNvSpPr/>
            <p:nvPr/>
          </p:nvSpPr>
          <p:spPr>
            <a:xfrm>
              <a:off x="7122960" y="1820880"/>
              <a:ext cx="92520" cy="195480"/>
            </a:xfrm>
            <a:custGeom>
              <a:avLst/>
              <a:gdLst/>
              <a:ahLst/>
              <a:rect l="0" t="0" r="r" b="b"/>
              <a:pathLst>
                <a:path w="257" h="543">
                  <a:moveTo>
                    <a:pt x="0" y="406"/>
                  </a:moveTo>
                  <a:lnTo>
                    <a:pt x="8" y="207"/>
                  </a:lnTo>
                  <a:lnTo>
                    <a:pt x="67" y="88"/>
                  </a:lnTo>
                  <a:lnTo>
                    <a:pt x="124" y="516"/>
                  </a:lnTo>
                  <a:lnTo>
                    <a:pt x="204" y="516"/>
                  </a:lnTo>
                  <a:lnTo>
                    <a:pt x="240" y="61"/>
                  </a:lnTo>
                  <a:lnTo>
                    <a:pt x="257" y="0"/>
                  </a:lnTo>
                  <a:lnTo>
                    <a:pt x="240" y="353"/>
                  </a:lnTo>
                  <a:lnTo>
                    <a:pt x="204" y="543"/>
                  </a:lnTo>
                  <a:lnTo>
                    <a:pt x="102" y="543"/>
                  </a:lnTo>
                  <a:lnTo>
                    <a:pt x="57" y="167"/>
                  </a:lnTo>
                  <a:lnTo>
                    <a:pt x="35" y="220"/>
                  </a:lnTo>
                  <a:lnTo>
                    <a:pt x="0" y="40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80" name=""/>
            <p:cNvSpPr/>
            <p:nvPr/>
          </p:nvSpPr>
          <p:spPr>
            <a:xfrm>
              <a:off x="8308800" y="1055520"/>
              <a:ext cx="225720" cy="519480"/>
            </a:xfrm>
            <a:custGeom>
              <a:avLst/>
              <a:gdLst/>
              <a:ahLst/>
              <a:rect l="0" t="0" r="r" b="b"/>
              <a:pathLst>
                <a:path w="627" h="1443">
                  <a:moveTo>
                    <a:pt x="163" y="781"/>
                  </a:moveTo>
                  <a:lnTo>
                    <a:pt x="211" y="556"/>
                  </a:lnTo>
                  <a:lnTo>
                    <a:pt x="424" y="494"/>
                  </a:lnTo>
                  <a:lnTo>
                    <a:pt x="627" y="0"/>
                  </a:lnTo>
                  <a:lnTo>
                    <a:pt x="627" y="145"/>
                  </a:lnTo>
                  <a:lnTo>
                    <a:pt x="455" y="530"/>
                  </a:lnTo>
                  <a:lnTo>
                    <a:pt x="229" y="600"/>
                  </a:lnTo>
                  <a:lnTo>
                    <a:pt x="198" y="781"/>
                  </a:lnTo>
                  <a:lnTo>
                    <a:pt x="277" y="781"/>
                  </a:lnTo>
                  <a:lnTo>
                    <a:pt x="79" y="860"/>
                  </a:lnTo>
                  <a:lnTo>
                    <a:pt x="35" y="1015"/>
                  </a:lnTo>
                  <a:lnTo>
                    <a:pt x="48" y="1214"/>
                  </a:lnTo>
                  <a:lnTo>
                    <a:pt x="251" y="1443"/>
                  </a:lnTo>
                  <a:lnTo>
                    <a:pt x="35" y="1241"/>
                  </a:lnTo>
                  <a:lnTo>
                    <a:pt x="0" y="1076"/>
                  </a:lnTo>
                  <a:lnTo>
                    <a:pt x="13" y="909"/>
                  </a:lnTo>
                  <a:lnTo>
                    <a:pt x="97" y="790"/>
                  </a:lnTo>
                  <a:lnTo>
                    <a:pt x="163" y="78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81" name=""/>
            <p:cNvSpPr/>
            <p:nvPr/>
          </p:nvSpPr>
          <p:spPr>
            <a:xfrm>
              <a:off x="8459640" y="1055520"/>
              <a:ext cx="378360" cy="503640"/>
            </a:xfrm>
            <a:custGeom>
              <a:avLst/>
              <a:gdLst/>
              <a:ahLst/>
              <a:rect l="0" t="0" r="r" b="b"/>
              <a:pathLst>
                <a:path w="1051" h="1399">
                  <a:moveTo>
                    <a:pt x="292" y="0"/>
                  </a:moveTo>
                  <a:lnTo>
                    <a:pt x="353" y="44"/>
                  </a:lnTo>
                  <a:lnTo>
                    <a:pt x="371" y="163"/>
                  </a:lnTo>
                  <a:lnTo>
                    <a:pt x="371" y="273"/>
                  </a:lnTo>
                  <a:lnTo>
                    <a:pt x="251" y="477"/>
                  </a:lnTo>
                  <a:lnTo>
                    <a:pt x="278" y="627"/>
                  </a:lnTo>
                  <a:lnTo>
                    <a:pt x="631" y="790"/>
                  </a:lnTo>
                  <a:lnTo>
                    <a:pt x="1047" y="1232"/>
                  </a:lnTo>
                  <a:lnTo>
                    <a:pt x="1051" y="1346"/>
                  </a:lnTo>
                  <a:lnTo>
                    <a:pt x="1029" y="1399"/>
                  </a:lnTo>
                  <a:lnTo>
                    <a:pt x="875" y="1399"/>
                  </a:lnTo>
                  <a:lnTo>
                    <a:pt x="737" y="1316"/>
                  </a:lnTo>
                  <a:lnTo>
                    <a:pt x="627" y="1170"/>
                  </a:lnTo>
                  <a:lnTo>
                    <a:pt x="561" y="1086"/>
                  </a:lnTo>
                  <a:lnTo>
                    <a:pt x="486" y="1073"/>
                  </a:lnTo>
                  <a:lnTo>
                    <a:pt x="578" y="1073"/>
                  </a:lnTo>
                  <a:lnTo>
                    <a:pt x="750" y="1307"/>
                  </a:lnTo>
                  <a:lnTo>
                    <a:pt x="972" y="1369"/>
                  </a:lnTo>
                  <a:lnTo>
                    <a:pt x="1016" y="1307"/>
                  </a:lnTo>
                  <a:lnTo>
                    <a:pt x="994" y="1197"/>
                  </a:lnTo>
                  <a:lnTo>
                    <a:pt x="605" y="878"/>
                  </a:lnTo>
                  <a:lnTo>
                    <a:pt x="552" y="790"/>
                  </a:lnTo>
                  <a:lnTo>
                    <a:pt x="251" y="710"/>
                  </a:lnTo>
                  <a:lnTo>
                    <a:pt x="207" y="790"/>
                  </a:lnTo>
                  <a:lnTo>
                    <a:pt x="0" y="918"/>
                  </a:lnTo>
                  <a:lnTo>
                    <a:pt x="189" y="763"/>
                  </a:lnTo>
                  <a:lnTo>
                    <a:pt x="207" y="671"/>
                  </a:lnTo>
                  <a:lnTo>
                    <a:pt x="207" y="446"/>
                  </a:lnTo>
                  <a:lnTo>
                    <a:pt x="340" y="273"/>
                  </a:lnTo>
                  <a:lnTo>
                    <a:pt x="340" y="57"/>
                  </a:lnTo>
                  <a:lnTo>
                    <a:pt x="29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82" name=""/>
            <p:cNvSpPr/>
            <p:nvPr/>
          </p:nvSpPr>
          <p:spPr>
            <a:xfrm>
              <a:off x="8391600" y="1450800"/>
              <a:ext cx="321120" cy="298800"/>
            </a:xfrm>
            <a:custGeom>
              <a:avLst/>
              <a:gdLst/>
              <a:ahLst/>
              <a:rect l="0" t="0" r="r" b="b"/>
              <a:pathLst>
                <a:path w="892" h="830">
                  <a:moveTo>
                    <a:pt x="666" y="0"/>
                  </a:moveTo>
                  <a:lnTo>
                    <a:pt x="644" y="70"/>
                  </a:lnTo>
                  <a:lnTo>
                    <a:pt x="778" y="343"/>
                  </a:lnTo>
                  <a:lnTo>
                    <a:pt x="844" y="627"/>
                  </a:lnTo>
                  <a:lnTo>
                    <a:pt x="769" y="627"/>
                  </a:lnTo>
                  <a:lnTo>
                    <a:pt x="636" y="503"/>
                  </a:lnTo>
                  <a:lnTo>
                    <a:pt x="516" y="242"/>
                  </a:lnTo>
                  <a:lnTo>
                    <a:pt x="419" y="202"/>
                  </a:lnTo>
                  <a:lnTo>
                    <a:pt x="433" y="343"/>
                  </a:lnTo>
                  <a:lnTo>
                    <a:pt x="521" y="446"/>
                  </a:lnTo>
                  <a:lnTo>
                    <a:pt x="521" y="644"/>
                  </a:lnTo>
                  <a:lnTo>
                    <a:pt x="459" y="790"/>
                  </a:lnTo>
                  <a:lnTo>
                    <a:pt x="375" y="733"/>
                  </a:lnTo>
                  <a:lnTo>
                    <a:pt x="274" y="503"/>
                  </a:lnTo>
                  <a:lnTo>
                    <a:pt x="252" y="343"/>
                  </a:lnTo>
                  <a:lnTo>
                    <a:pt x="189" y="295"/>
                  </a:lnTo>
                  <a:lnTo>
                    <a:pt x="176" y="702"/>
                  </a:lnTo>
                  <a:lnTo>
                    <a:pt x="97" y="759"/>
                  </a:lnTo>
                  <a:lnTo>
                    <a:pt x="22" y="702"/>
                  </a:lnTo>
                  <a:lnTo>
                    <a:pt x="8" y="357"/>
                  </a:lnTo>
                  <a:lnTo>
                    <a:pt x="0" y="693"/>
                  </a:lnTo>
                  <a:lnTo>
                    <a:pt x="57" y="812"/>
                  </a:lnTo>
                  <a:lnTo>
                    <a:pt x="176" y="812"/>
                  </a:lnTo>
                  <a:lnTo>
                    <a:pt x="216" y="719"/>
                  </a:lnTo>
                  <a:lnTo>
                    <a:pt x="239" y="405"/>
                  </a:lnTo>
                  <a:lnTo>
                    <a:pt x="256" y="530"/>
                  </a:lnTo>
                  <a:lnTo>
                    <a:pt x="362" y="799"/>
                  </a:lnTo>
                  <a:lnTo>
                    <a:pt x="472" y="830"/>
                  </a:lnTo>
                  <a:lnTo>
                    <a:pt x="552" y="719"/>
                  </a:lnTo>
                  <a:lnTo>
                    <a:pt x="552" y="455"/>
                  </a:lnTo>
                  <a:lnTo>
                    <a:pt x="769" y="675"/>
                  </a:lnTo>
                  <a:lnTo>
                    <a:pt x="883" y="675"/>
                  </a:lnTo>
                  <a:lnTo>
                    <a:pt x="892" y="530"/>
                  </a:lnTo>
                  <a:lnTo>
                    <a:pt x="813" y="268"/>
                  </a:lnTo>
                  <a:lnTo>
                    <a:pt x="666" y="57"/>
                  </a:lnTo>
                  <a:lnTo>
                    <a:pt x="66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83" name=""/>
            <p:cNvSpPr/>
            <p:nvPr/>
          </p:nvSpPr>
          <p:spPr>
            <a:xfrm>
              <a:off x="7097760" y="1143000"/>
              <a:ext cx="1424520" cy="1217880"/>
            </a:xfrm>
            <a:custGeom>
              <a:avLst/>
              <a:gdLst/>
              <a:ahLst/>
              <a:rect l="0" t="0" r="r" b="b"/>
              <a:pathLst>
                <a:path w="3957" h="3383">
                  <a:moveTo>
                    <a:pt x="1425" y="286"/>
                  </a:moveTo>
                  <a:lnTo>
                    <a:pt x="1354" y="295"/>
                  </a:lnTo>
                  <a:lnTo>
                    <a:pt x="1244" y="467"/>
                  </a:lnTo>
                  <a:lnTo>
                    <a:pt x="1200" y="343"/>
                  </a:lnTo>
                  <a:lnTo>
                    <a:pt x="1072" y="273"/>
                  </a:lnTo>
                  <a:lnTo>
                    <a:pt x="978" y="326"/>
                  </a:lnTo>
                  <a:lnTo>
                    <a:pt x="943" y="546"/>
                  </a:lnTo>
                  <a:lnTo>
                    <a:pt x="586" y="811"/>
                  </a:lnTo>
                  <a:lnTo>
                    <a:pt x="608" y="926"/>
                  </a:lnTo>
                  <a:lnTo>
                    <a:pt x="524" y="1031"/>
                  </a:lnTo>
                  <a:lnTo>
                    <a:pt x="524" y="1120"/>
                  </a:lnTo>
                  <a:lnTo>
                    <a:pt x="621" y="1371"/>
                  </a:lnTo>
                  <a:lnTo>
                    <a:pt x="635" y="1684"/>
                  </a:lnTo>
                  <a:lnTo>
                    <a:pt x="564" y="1985"/>
                  </a:lnTo>
                  <a:lnTo>
                    <a:pt x="313" y="2157"/>
                  </a:lnTo>
                  <a:lnTo>
                    <a:pt x="277" y="2399"/>
                  </a:lnTo>
                  <a:lnTo>
                    <a:pt x="198" y="2399"/>
                  </a:lnTo>
                  <a:lnTo>
                    <a:pt x="163" y="2201"/>
                  </a:lnTo>
                  <a:lnTo>
                    <a:pt x="79" y="2201"/>
                  </a:lnTo>
                  <a:lnTo>
                    <a:pt x="48" y="2417"/>
                  </a:lnTo>
                  <a:lnTo>
                    <a:pt x="0" y="2470"/>
                  </a:lnTo>
                  <a:lnTo>
                    <a:pt x="176" y="2761"/>
                  </a:lnTo>
                  <a:lnTo>
                    <a:pt x="299" y="2779"/>
                  </a:lnTo>
                  <a:lnTo>
                    <a:pt x="524" y="2990"/>
                  </a:lnTo>
                  <a:lnTo>
                    <a:pt x="723" y="3017"/>
                  </a:lnTo>
                  <a:lnTo>
                    <a:pt x="837" y="2902"/>
                  </a:lnTo>
                  <a:lnTo>
                    <a:pt x="1116" y="2483"/>
                  </a:lnTo>
                  <a:lnTo>
                    <a:pt x="1138" y="3052"/>
                  </a:lnTo>
                  <a:lnTo>
                    <a:pt x="1116" y="3383"/>
                  </a:lnTo>
                  <a:lnTo>
                    <a:pt x="3401" y="3383"/>
                  </a:lnTo>
                  <a:lnTo>
                    <a:pt x="3234" y="3017"/>
                  </a:lnTo>
                  <a:lnTo>
                    <a:pt x="3154" y="2704"/>
                  </a:lnTo>
                  <a:lnTo>
                    <a:pt x="3128" y="2236"/>
                  </a:lnTo>
                  <a:lnTo>
                    <a:pt x="3260" y="2346"/>
                  </a:lnTo>
                  <a:lnTo>
                    <a:pt x="3401" y="2346"/>
                  </a:lnTo>
                  <a:lnTo>
                    <a:pt x="3587" y="2223"/>
                  </a:lnTo>
                  <a:lnTo>
                    <a:pt x="3714" y="2201"/>
                  </a:lnTo>
                  <a:lnTo>
                    <a:pt x="3789" y="2077"/>
                  </a:lnTo>
                  <a:lnTo>
                    <a:pt x="3842" y="1756"/>
                  </a:lnTo>
                  <a:lnTo>
                    <a:pt x="3957" y="1631"/>
                  </a:lnTo>
                  <a:lnTo>
                    <a:pt x="3900" y="1530"/>
                  </a:lnTo>
                  <a:lnTo>
                    <a:pt x="3816" y="1530"/>
                  </a:lnTo>
                  <a:lnTo>
                    <a:pt x="3745" y="1596"/>
                  </a:lnTo>
                  <a:lnTo>
                    <a:pt x="3679" y="1618"/>
                  </a:lnTo>
                  <a:lnTo>
                    <a:pt x="3600" y="1530"/>
                  </a:lnTo>
                  <a:lnTo>
                    <a:pt x="3498" y="1516"/>
                  </a:lnTo>
                  <a:lnTo>
                    <a:pt x="3322" y="1397"/>
                  </a:lnTo>
                  <a:lnTo>
                    <a:pt x="3207" y="1274"/>
                  </a:lnTo>
                  <a:lnTo>
                    <a:pt x="3190" y="1120"/>
                  </a:lnTo>
                  <a:lnTo>
                    <a:pt x="3207" y="965"/>
                  </a:lnTo>
                  <a:lnTo>
                    <a:pt x="3282" y="846"/>
                  </a:lnTo>
                  <a:lnTo>
                    <a:pt x="3379" y="732"/>
                  </a:lnTo>
                  <a:lnTo>
                    <a:pt x="3371" y="542"/>
                  </a:lnTo>
                  <a:lnTo>
                    <a:pt x="3371" y="401"/>
                  </a:lnTo>
                  <a:lnTo>
                    <a:pt x="3322" y="295"/>
                  </a:lnTo>
                  <a:lnTo>
                    <a:pt x="3190" y="255"/>
                  </a:lnTo>
                  <a:lnTo>
                    <a:pt x="3141" y="229"/>
                  </a:lnTo>
                  <a:lnTo>
                    <a:pt x="3049" y="57"/>
                  </a:lnTo>
                  <a:lnTo>
                    <a:pt x="2969" y="13"/>
                  </a:lnTo>
                  <a:lnTo>
                    <a:pt x="2889" y="0"/>
                  </a:lnTo>
                  <a:lnTo>
                    <a:pt x="2818" y="30"/>
                  </a:lnTo>
                  <a:lnTo>
                    <a:pt x="2761" y="119"/>
                  </a:lnTo>
                  <a:lnTo>
                    <a:pt x="2673" y="171"/>
                  </a:lnTo>
                  <a:lnTo>
                    <a:pt x="2576" y="189"/>
                  </a:lnTo>
                  <a:lnTo>
                    <a:pt x="2466" y="189"/>
                  </a:lnTo>
                  <a:lnTo>
                    <a:pt x="2483" y="357"/>
                  </a:lnTo>
                  <a:lnTo>
                    <a:pt x="2483" y="564"/>
                  </a:lnTo>
                  <a:lnTo>
                    <a:pt x="2466" y="705"/>
                  </a:lnTo>
                  <a:lnTo>
                    <a:pt x="2373" y="873"/>
                  </a:lnTo>
                  <a:lnTo>
                    <a:pt x="2241" y="1124"/>
                  </a:lnTo>
                  <a:lnTo>
                    <a:pt x="2148" y="1433"/>
                  </a:lnTo>
                  <a:lnTo>
                    <a:pt x="2139" y="1618"/>
                  </a:lnTo>
                  <a:lnTo>
                    <a:pt x="2091" y="1769"/>
                  </a:lnTo>
                  <a:lnTo>
                    <a:pt x="2033" y="1923"/>
                  </a:lnTo>
                  <a:lnTo>
                    <a:pt x="2003" y="2174"/>
                  </a:lnTo>
                  <a:lnTo>
                    <a:pt x="2025" y="2377"/>
                  </a:lnTo>
                  <a:lnTo>
                    <a:pt x="2091" y="2615"/>
                  </a:lnTo>
                  <a:lnTo>
                    <a:pt x="2139" y="2704"/>
                  </a:lnTo>
                  <a:lnTo>
                    <a:pt x="2003" y="2792"/>
                  </a:lnTo>
                  <a:lnTo>
                    <a:pt x="1848" y="2845"/>
                  </a:lnTo>
                  <a:lnTo>
                    <a:pt x="1672" y="2862"/>
                  </a:lnTo>
                  <a:lnTo>
                    <a:pt x="1562" y="2862"/>
                  </a:lnTo>
                  <a:lnTo>
                    <a:pt x="1491" y="2832"/>
                  </a:lnTo>
                  <a:lnTo>
                    <a:pt x="1491" y="2629"/>
                  </a:lnTo>
                  <a:lnTo>
                    <a:pt x="1491" y="2329"/>
                  </a:lnTo>
                  <a:lnTo>
                    <a:pt x="1447" y="2033"/>
                  </a:lnTo>
                  <a:lnTo>
                    <a:pt x="1376" y="1769"/>
                  </a:lnTo>
                  <a:lnTo>
                    <a:pt x="1341" y="1556"/>
                  </a:lnTo>
                  <a:lnTo>
                    <a:pt x="1332" y="1261"/>
                  </a:lnTo>
                  <a:lnTo>
                    <a:pt x="1376" y="1001"/>
                  </a:lnTo>
                  <a:lnTo>
                    <a:pt x="1447" y="789"/>
                  </a:lnTo>
                  <a:lnTo>
                    <a:pt x="1456" y="665"/>
                  </a:lnTo>
                  <a:lnTo>
                    <a:pt x="1425" y="485"/>
                  </a:lnTo>
                  <a:lnTo>
                    <a:pt x="1425" y="343"/>
                  </a:lnTo>
                  <a:lnTo>
                    <a:pt x="1447" y="295"/>
                  </a:lnTo>
                  <a:lnTo>
                    <a:pt x="1425" y="28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84" name=""/>
            <p:cNvSpPr/>
            <p:nvPr/>
          </p:nvSpPr>
          <p:spPr>
            <a:xfrm>
              <a:off x="7653240" y="1387440"/>
              <a:ext cx="179640" cy="790920"/>
            </a:xfrm>
            <a:custGeom>
              <a:avLst/>
              <a:gdLst/>
              <a:ahLst/>
              <a:rect l="0" t="0" r="r" b="b"/>
              <a:pathLst>
                <a:path w="499" h="2197">
                  <a:moveTo>
                    <a:pt x="198" y="26"/>
                  </a:moveTo>
                  <a:lnTo>
                    <a:pt x="66" y="97"/>
                  </a:lnTo>
                  <a:lnTo>
                    <a:pt x="74" y="308"/>
                  </a:lnTo>
                  <a:lnTo>
                    <a:pt x="176" y="370"/>
                  </a:lnTo>
                  <a:lnTo>
                    <a:pt x="57" y="599"/>
                  </a:lnTo>
                  <a:lnTo>
                    <a:pt x="0" y="851"/>
                  </a:lnTo>
                  <a:lnTo>
                    <a:pt x="0" y="1093"/>
                  </a:lnTo>
                  <a:lnTo>
                    <a:pt x="57" y="1319"/>
                  </a:lnTo>
                  <a:lnTo>
                    <a:pt x="105" y="1588"/>
                  </a:lnTo>
                  <a:lnTo>
                    <a:pt x="105" y="1738"/>
                  </a:lnTo>
                  <a:lnTo>
                    <a:pt x="57" y="1928"/>
                  </a:lnTo>
                  <a:lnTo>
                    <a:pt x="256" y="2197"/>
                  </a:lnTo>
                  <a:lnTo>
                    <a:pt x="340" y="2152"/>
                  </a:lnTo>
                  <a:lnTo>
                    <a:pt x="397" y="1967"/>
                  </a:lnTo>
                  <a:lnTo>
                    <a:pt x="494" y="1725"/>
                  </a:lnTo>
                  <a:lnTo>
                    <a:pt x="499" y="1597"/>
                  </a:lnTo>
                  <a:lnTo>
                    <a:pt x="424" y="1359"/>
                  </a:lnTo>
                  <a:lnTo>
                    <a:pt x="327" y="1121"/>
                  </a:lnTo>
                  <a:lnTo>
                    <a:pt x="296" y="956"/>
                  </a:lnTo>
                  <a:lnTo>
                    <a:pt x="296" y="798"/>
                  </a:lnTo>
                  <a:lnTo>
                    <a:pt x="327" y="652"/>
                  </a:lnTo>
                  <a:lnTo>
                    <a:pt x="397" y="480"/>
                  </a:lnTo>
                  <a:lnTo>
                    <a:pt x="397" y="410"/>
                  </a:lnTo>
                  <a:lnTo>
                    <a:pt x="362" y="335"/>
                  </a:lnTo>
                  <a:lnTo>
                    <a:pt x="455" y="251"/>
                  </a:lnTo>
                  <a:lnTo>
                    <a:pt x="455" y="167"/>
                  </a:lnTo>
                  <a:lnTo>
                    <a:pt x="327" y="0"/>
                  </a:lnTo>
                  <a:lnTo>
                    <a:pt x="433" y="167"/>
                  </a:lnTo>
                  <a:lnTo>
                    <a:pt x="433" y="238"/>
                  </a:lnTo>
                  <a:lnTo>
                    <a:pt x="336" y="308"/>
                  </a:lnTo>
                  <a:lnTo>
                    <a:pt x="375" y="410"/>
                  </a:lnTo>
                  <a:lnTo>
                    <a:pt x="362" y="480"/>
                  </a:lnTo>
                  <a:lnTo>
                    <a:pt x="269" y="683"/>
                  </a:lnTo>
                  <a:lnTo>
                    <a:pt x="256" y="881"/>
                  </a:lnTo>
                  <a:lnTo>
                    <a:pt x="278" y="1067"/>
                  </a:lnTo>
                  <a:lnTo>
                    <a:pt x="340" y="1328"/>
                  </a:lnTo>
                  <a:lnTo>
                    <a:pt x="424" y="1544"/>
                  </a:lnTo>
                  <a:lnTo>
                    <a:pt x="424" y="1711"/>
                  </a:lnTo>
                  <a:lnTo>
                    <a:pt x="375" y="1928"/>
                  </a:lnTo>
                  <a:lnTo>
                    <a:pt x="278" y="2152"/>
                  </a:lnTo>
                  <a:lnTo>
                    <a:pt x="167" y="2029"/>
                  </a:lnTo>
                  <a:lnTo>
                    <a:pt x="119" y="1928"/>
                  </a:lnTo>
                  <a:lnTo>
                    <a:pt x="127" y="1711"/>
                  </a:lnTo>
                  <a:lnTo>
                    <a:pt x="119" y="1495"/>
                  </a:lnTo>
                  <a:lnTo>
                    <a:pt x="57" y="1204"/>
                  </a:lnTo>
                  <a:lnTo>
                    <a:pt x="35" y="1005"/>
                  </a:lnTo>
                  <a:lnTo>
                    <a:pt x="57" y="784"/>
                  </a:lnTo>
                  <a:lnTo>
                    <a:pt x="105" y="568"/>
                  </a:lnTo>
                  <a:lnTo>
                    <a:pt x="207" y="352"/>
                  </a:lnTo>
                  <a:lnTo>
                    <a:pt x="119" y="264"/>
                  </a:lnTo>
                  <a:lnTo>
                    <a:pt x="105" y="110"/>
                  </a:lnTo>
                  <a:lnTo>
                    <a:pt x="198"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85" name=""/>
            <p:cNvSpPr/>
            <p:nvPr/>
          </p:nvSpPr>
          <p:spPr>
            <a:xfrm>
              <a:off x="8166240" y="461880"/>
              <a:ext cx="284400" cy="386280"/>
            </a:xfrm>
            <a:custGeom>
              <a:avLst/>
              <a:gdLst/>
              <a:ahLst/>
              <a:rect l="0" t="0" r="r" b="b"/>
              <a:pathLst>
                <a:path w="790" h="1073">
                  <a:moveTo>
                    <a:pt x="132" y="274"/>
                  </a:moveTo>
                  <a:lnTo>
                    <a:pt x="246" y="251"/>
                  </a:lnTo>
                  <a:lnTo>
                    <a:pt x="361" y="255"/>
                  </a:lnTo>
                  <a:lnTo>
                    <a:pt x="450" y="305"/>
                  </a:lnTo>
                  <a:lnTo>
                    <a:pt x="503" y="362"/>
                  </a:lnTo>
                  <a:lnTo>
                    <a:pt x="530" y="415"/>
                  </a:lnTo>
                  <a:lnTo>
                    <a:pt x="530" y="472"/>
                  </a:lnTo>
                  <a:lnTo>
                    <a:pt x="499" y="508"/>
                  </a:lnTo>
                  <a:lnTo>
                    <a:pt x="450" y="534"/>
                  </a:lnTo>
                  <a:lnTo>
                    <a:pt x="388" y="534"/>
                  </a:lnTo>
                  <a:lnTo>
                    <a:pt x="317" y="521"/>
                  </a:lnTo>
                  <a:lnTo>
                    <a:pt x="251" y="477"/>
                  </a:lnTo>
                  <a:lnTo>
                    <a:pt x="198" y="437"/>
                  </a:lnTo>
                  <a:lnTo>
                    <a:pt x="176" y="574"/>
                  </a:lnTo>
                  <a:lnTo>
                    <a:pt x="132" y="671"/>
                  </a:lnTo>
                  <a:lnTo>
                    <a:pt x="0" y="901"/>
                  </a:lnTo>
                  <a:lnTo>
                    <a:pt x="189" y="1073"/>
                  </a:lnTo>
                  <a:lnTo>
                    <a:pt x="339" y="781"/>
                  </a:lnTo>
                  <a:lnTo>
                    <a:pt x="499" y="808"/>
                  </a:lnTo>
                  <a:lnTo>
                    <a:pt x="605" y="785"/>
                  </a:lnTo>
                  <a:lnTo>
                    <a:pt x="697" y="719"/>
                  </a:lnTo>
                  <a:lnTo>
                    <a:pt x="759" y="636"/>
                  </a:lnTo>
                  <a:lnTo>
                    <a:pt x="790" y="525"/>
                  </a:lnTo>
                  <a:lnTo>
                    <a:pt x="790" y="411"/>
                  </a:lnTo>
                  <a:lnTo>
                    <a:pt x="759" y="287"/>
                  </a:lnTo>
                  <a:lnTo>
                    <a:pt x="693" y="163"/>
                  </a:lnTo>
                  <a:lnTo>
                    <a:pt x="613" y="74"/>
                  </a:lnTo>
                  <a:lnTo>
                    <a:pt x="516" y="26"/>
                  </a:lnTo>
                  <a:lnTo>
                    <a:pt x="406" y="0"/>
                  </a:lnTo>
                  <a:lnTo>
                    <a:pt x="260" y="0"/>
                  </a:lnTo>
                  <a:lnTo>
                    <a:pt x="105" y="30"/>
                  </a:lnTo>
                  <a:lnTo>
                    <a:pt x="132" y="274"/>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6" name=""/>
            <p:cNvSpPr/>
            <p:nvPr/>
          </p:nvSpPr>
          <p:spPr>
            <a:xfrm>
              <a:off x="8115480" y="836640"/>
              <a:ext cx="101880" cy="76680"/>
            </a:xfrm>
            <a:custGeom>
              <a:avLst/>
              <a:gdLst/>
              <a:ahLst/>
              <a:rect l="0" t="0" r="r" b="b"/>
              <a:pathLst>
                <a:path w="283" h="213">
                  <a:moveTo>
                    <a:pt x="114" y="0"/>
                  </a:moveTo>
                  <a:lnTo>
                    <a:pt x="39" y="0"/>
                  </a:lnTo>
                  <a:lnTo>
                    <a:pt x="0" y="30"/>
                  </a:lnTo>
                  <a:lnTo>
                    <a:pt x="0" y="106"/>
                  </a:lnTo>
                  <a:lnTo>
                    <a:pt x="57" y="182"/>
                  </a:lnTo>
                  <a:lnTo>
                    <a:pt x="172" y="213"/>
                  </a:lnTo>
                  <a:lnTo>
                    <a:pt x="256" y="209"/>
                  </a:lnTo>
                  <a:lnTo>
                    <a:pt x="283" y="159"/>
                  </a:lnTo>
                  <a:lnTo>
                    <a:pt x="269" y="115"/>
                  </a:lnTo>
                  <a:lnTo>
                    <a:pt x="230" y="58"/>
                  </a:lnTo>
                  <a:lnTo>
                    <a:pt x="159" y="8"/>
                  </a:lnTo>
                  <a:lnTo>
                    <a:pt x="114" y="0"/>
                  </a:lnTo>
                  <a:close/>
                </a:path>
              </a:pathLst>
            </a:custGeom>
            <a:solidFill>
              <a:srgbClr val="fc0128"/>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887" name=""/>
          <p:cNvSpPr/>
          <p:nvPr/>
        </p:nvSpPr>
        <p:spPr>
          <a:xfrm>
            <a:off x="2514600" y="1905120"/>
            <a:ext cx="6222960" cy="378468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888" name=""/>
          <p:cNvSpPr txBox="1"/>
          <p:nvPr/>
        </p:nvSpPr>
        <p:spPr>
          <a:xfrm>
            <a:off x="2666880" y="2133720"/>
            <a:ext cx="5867280" cy="323856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Arial"/>
                <a:ea typeface="Arial"/>
              </a:rPr>
              <a:t>1.</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Identify and explain the management issues associated with accounting for inventories.</a:t>
            </a:r>
            <a:endParaRPr b="0" lang="en-US" sz="2000" spc="-1" strike="noStrike">
              <a:solidFill>
                <a:srgbClr val="ffffff"/>
              </a:solidFill>
              <a:latin typeface="Arial"/>
            </a:endParaRPr>
          </a:p>
          <a:p>
            <a:pPr marL="343080" indent="-343080">
              <a:lnSpc>
                <a:spcPct val="100000"/>
              </a:lnSpc>
              <a:spcBef>
                <a:spcPts val="479"/>
              </a:spcBef>
            </a:pPr>
            <a:r>
              <a:rPr b="1" lang="en-US" sz="2000" spc="-1" strike="noStrike">
                <a:solidFill>
                  <a:srgbClr val="000000"/>
                </a:solidFill>
                <a:latin typeface="Arial"/>
                <a:ea typeface="Arial"/>
              </a:rPr>
              <a:t>2.</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Define </a:t>
            </a:r>
            <a:r>
              <a:rPr b="1" i="1" lang="en-US" sz="2000" spc="-1" strike="noStrike">
                <a:solidFill>
                  <a:srgbClr val="000000"/>
                </a:solidFill>
                <a:latin typeface="Arial"/>
                <a:ea typeface="Arial"/>
              </a:rPr>
              <a:t>inventory cost </a:t>
            </a:r>
            <a:r>
              <a:rPr b="1" lang="en-US" sz="2000" spc="-1" strike="noStrike">
                <a:solidFill>
                  <a:srgbClr val="000000"/>
                </a:solidFill>
                <a:latin typeface="Arial"/>
                <a:ea typeface="Arial"/>
              </a:rPr>
              <a:t>and relate it to goods flow and cost flow.</a:t>
            </a:r>
            <a:endParaRPr b="0" lang="en-US" sz="2000" spc="-1" strike="noStrike">
              <a:solidFill>
                <a:srgbClr val="ffffff"/>
              </a:solidFill>
              <a:latin typeface="Arial"/>
            </a:endParaRPr>
          </a:p>
          <a:p>
            <a:pPr marL="343080" indent="-343080">
              <a:lnSpc>
                <a:spcPct val="100000"/>
              </a:lnSpc>
              <a:spcBef>
                <a:spcPts val="479"/>
              </a:spcBef>
            </a:pPr>
            <a:r>
              <a:rPr b="1" lang="en-US" sz="2000" spc="-1" strike="noStrike">
                <a:solidFill>
                  <a:srgbClr val="000000"/>
                </a:solidFill>
                <a:latin typeface="Arial"/>
                <a:ea typeface="Arial"/>
              </a:rPr>
              <a:t>3.</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Calculate the pricing of inventory, using the cost basis under the periodic inventory system, according to the (a) specific identification method; (b) average-cost method; (c) first-in, first-out (FIFO) method; and (d) last-in, first-out (LIFO) method.</a:t>
            </a:r>
            <a:endParaRPr b="0" lang="en-US" sz="2000" spc="-1" strike="noStrike">
              <a:solidFill>
                <a:srgbClr val="ffffff"/>
              </a:solidFill>
              <a:latin typeface="Arial"/>
            </a:endParaRPr>
          </a:p>
        </p:txBody>
      </p:sp>
      <p:pic>
        <p:nvPicPr>
          <p:cNvPr id="889" name="" descr=""/>
          <p:cNvPicPr/>
          <p:nvPr/>
        </p:nvPicPr>
        <p:blipFill>
          <a:blip r:embed="rId1"/>
          <a:stretch/>
        </p:blipFill>
        <p:spPr>
          <a:xfrm>
            <a:off x="1828800" y="307800"/>
            <a:ext cx="5605560" cy="1622520"/>
          </a:xfrm>
          <a:prstGeom prst="rect">
            <a:avLst/>
          </a:prstGeom>
          <a:ln w="0">
            <a:noFill/>
          </a:ln>
        </p:spPr>
      </p:pic>
      <p:sp>
        <p:nvSpPr>
          <p:cNvPr id="890" name=""/>
          <p:cNvSpPr txBox="1"/>
          <p:nvPr/>
        </p:nvSpPr>
        <p:spPr>
          <a:xfrm>
            <a:off x="2389320" y="549360"/>
            <a:ext cx="4013280" cy="5158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OK, LET’S REVIEW . . .</a:t>
            </a:r>
            <a:endParaRPr b="0" lang="en-US" sz="2800" spc="-1" strike="noStrike">
              <a:solidFill>
                <a:srgbClr val="ffffff"/>
              </a:solidFill>
              <a:latin typeface="Arial"/>
            </a:endParaRPr>
          </a:p>
        </p:txBody>
      </p:sp>
      <p:grpSp>
        <p:nvGrpSpPr>
          <p:cNvPr id="891" name=""/>
          <p:cNvGrpSpPr/>
          <p:nvPr/>
        </p:nvGrpSpPr>
        <p:grpSpPr>
          <a:xfrm>
            <a:off x="720720" y="1446120"/>
            <a:ext cx="1497240" cy="4789800"/>
            <a:chOff x="720720" y="1446120"/>
            <a:chExt cx="1497240" cy="4789800"/>
          </a:xfrm>
        </p:grpSpPr>
        <p:grpSp>
          <p:nvGrpSpPr>
            <p:cNvPr id="892" name=""/>
            <p:cNvGrpSpPr/>
            <p:nvPr/>
          </p:nvGrpSpPr>
          <p:grpSpPr>
            <a:xfrm>
              <a:off x="1071720" y="3367080"/>
              <a:ext cx="892440" cy="2868840"/>
              <a:chOff x="1071720" y="3367080"/>
              <a:chExt cx="892440" cy="2868840"/>
            </a:xfrm>
          </p:grpSpPr>
          <p:grpSp>
            <p:nvGrpSpPr>
              <p:cNvPr id="893" name=""/>
              <p:cNvGrpSpPr/>
              <p:nvPr/>
            </p:nvGrpSpPr>
            <p:grpSpPr>
              <a:xfrm>
                <a:off x="1149480" y="5654520"/>
                <a:ext cx="797400" cy="581400"/>
                <a:chOff x="1149480" y="5654520"/>
                <a:chExt cx="797400" cy="581400"/>
              </a:xfrm>
            </p:grpSpPr>
            <p:grpSp>
              <p:nvGrpSpPr>
                <p:cNvPr id="894" name=""/>
                <p:cNvGrpSpPr/>
                <p:nvPr/>
              </p:nvGrpSpPr>
              <p:grpSpPr>
                <a:xfrm>
                  <a:off x="1517760" y="5654520"/>
                  <a:ext cx="429120" cy="337320"/>
                  <a:chOff x="1517760" y="5654520"/>
                  <a:chExt cx="429120" cy="337320"/>
                </a:xfrm>
              </p:grpSpPr>
              <p:grpSp>
                <p:nvGrpSpPr>
                  <p:cNvPr id="895" name=""/>
                  <p:cNvGrpSpPr/>
                  <p:nvPr/>
                </p:nvGrpSpPr>
                <p:grpSpPr>
                  <a:xfrm>
                    <a:off x="1536840" y="5654520"/>
                    <a:ext cx="332280" cy="251280"/>
                    <a:chOff x="1536840" y="5654520"/>
                    <a:chExt cx="332280" cy="251280"/>
                  </a:xfrm>
                </p:grpSpPr>
                <p:sp>
                  <p:nvSpPr>
                    <p:cNvPr id="896" name=""/>
                    <p:cNvSpPr/>
                    <p:nvPr/>
                  </p:nvSpPr>
                  <p:spPr>
                    <a:xfrm>
                      <a:off x="1536840" y="5654520"/>
                      <a:ext cx="332280" cy="251280"/>
                    </a:xfrm>
                    <a:custGeom>
                      <a:avLst/>
                      <a:gdLst/>
                      <a:ahLst/>
                      <a:rect l="0" t="0" r="r" b="b"/>
                      <a:pathLst>
                        <a:path w="923" h="698">
                          <a:moveTo>
                            <a:pt x="587" y="70"/>
                          </a:moveTo>
                          <a:lnTo>
                            <a:pt x="591" y="177"/>
                          </a:lnTo>
                          <a:lnTo>
                            <a:pt x="662" y="252"/>
                          </a:lnTo>
                          <a:lnTo>
                            <a:pt x="738" y="340"/>
                          </a:lnTo>
                          <a:lnTo>
                            <a:pt x="866" y="464"/>
                          </a:lnTo>
                          <a:lnTo>
                            <a:pt x="923" y="535"/>
                          </a:lnTo>
                          <a:lnTo>
                            <a:pt x="914" y="685"/>
                          </a:lnTo>
                          <a:lnTo>
                            <a:pt x="565" y="698"/>
                          </a:lnTo>
                          <a:lnTo>
                            <a:pt x="149" y="464"/>
                          </a:lnTo>
                          <a:lnTo>
                            <a:pt x="0" y="234"/>
                          </a:lnTo>
                          <a:lnTo>
                            <a:pt x="105" y="0"/>
                          </a:lnTo>
                          <a:lnTo>
                            <a:pt x="587" y="7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7" name=""/>
                    <p:cNvSpPr/>
                    <p:nvPr/>
                  </p:nvSpPr>
                  <p:spPr>
                    <a:xfrm>
                      <a:off x="1565280" y="5684760"/>
                      <a:ext cx="194040" cy="195480"/>
                    </a:xfrm>
                    <a:custGeom>
                      <a:avLst/>
                      <a:gdLst/>
                      <a:ahLst/>
                      <a:rect l="0" t="0" r="r" b="b"/>
                      <a:pathLst>
                        <a:path w="539" h="543">
                          <a:moveTo>
                            <a:pt x="265" y="30"/>
                          </a:moveTo>
                          <a:lnTo>
                            <a:pt x="336" y="83"/>
                          </a:lnTo>
                          <a:lnTo>
                            <a:pt x="371" y="149"/>
                          </a:lnTo>
                          <a:lnTo>
                            <a:pt x="434" y="251"/>
                          </a:lnTo>
                          <a:lnTo>
                            <a:pt x="473" y="336"/>
                          </a:lnTo>
                          <a:lnTo>
                            <a:pt x="509" y="424"/>
                          </a:lnTo>
                          <a:lnTo>
                            <a:pt x="539" y="543"/>
                          </a:lnTo>
                          <a:lnTo>
                            <a:pt x="142" y="402"/>
                          </a:lnTo>
                          <a:lnTo>
                            <a:pt x="8" y="207"/>
                          </a:lnTo>
                          <a:lnTo>
                            <a:pt x="0" y="0"/>
                          </a:lnTo>
                          <a:lnTo>
                            <a:pt x="265" y="3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8" name=""/>
                    <p:cNvSpPr/>
                    <p:nvPr/>
                  </p:nvSpPr>
                  <p:spPr>
                    <a:xfrm>
                      <a:off x="1785960" y="5762520"/>
                      <a:ext cx="74880" cy="116280"/>
                    </a:xfrm>
                    <a:custGeom>
                      <a:avLst/>
                      <a:gdLst/>
                      <a:ahLst/>
                      <a:rect l="0" t="0" r="r" b="b"/>
                      <a:pathLst>
                        <a:path w="208" h="323">
                          <a:moveTo>
                            <a:pt x="0" y="0"/>
                          </a:moveTo>
                          <a:lnTo>
                            <a:pt x="44" y="39"/>
                          </a:lnTo>
                          <a:lnTo>
                            <a:pt x="79" y="79"/>
                          </a:lnTo>
                          <a:lnTo>
                            <a:pt x="120" y="120"/>
                          </a:lnTo>
                          <a:lnTo>
                            <a:pt x="155" y="159"/>
                          </a:lnTo>
                          <a:lnTo>
                            <a:pt x="181" y="199"/>
                          </a:lnTo>
                          <a:lnTo>
                            <a:pt x="208" y="239"/>
                          </a:lnTo>
                          <a:lnTo>
                            <a:pt x="208" y="279"/>
                          </a:lnTo>
                          <a:lnTo>
                            <a:pt x="199" y="306"/>
                          </a:lnTo>
                          <a:lnTo>
                            <a:pt x="172" y="323"/>
                          </a:lnTo>
                          <a:lnTo>
                            <a:pt x="115" y="315"/>
                          </a:lnTo>
                          <a:lnTo>
                            <a:pt x="155" y="306"/>
                          </a:lnTo>
                          <a:lnTo>
                            <a:pt x="177" y="297"/>
                          </a:lnTo>
                          <a:lnTo>
                            <a:pt x="181" y="279"/>
                          </a:lnTo>
                          <a:lnTo>
                            <a:pt x="190" y="262"/>
                          </a:lnTo>
                          <a:lnTo>
                            <a:pt x="177" y="225"/>
                          </a:lnTo>
                          <a:lnTo>
                            <a:pt x="155" y="181"/>
                          </a:lnTo>
                          <a:lnTo>
                            <a:pt x="120" y="137"/>
                          </a:lnTo>
                          <a:lnTo>
                            <a:pt x="52" y="66"/>
                          </a:lnTo>
                          <a:lnTo>
                            <a:pt x="0" y="0"/>
                          </a:lnTo>
                          <a:close/>
                        </a:path>
                      </a:pathLst>
                    </a:custGeom>
                    <a:solidFill>
                      <a:srgbClr val="bf3f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899" name=""/>
                  <p:cNvGrpSpPr/>
                  <p:nvPr/>
                </p:nvGrpSpPr>
                <p:grpSpPr>
                  <a:xfrm>
                    <a:off x="1517760" y="5675400"/>
                    <a:ext cx="429120" cy="316440"/>
                    <a:chOff x="1517760" y="5675400"/>
                    <a:chExt cx="429120" cy="316440"/>
                  </a:xfrm>
                </p:grpSpPr>
                <p:sp>
                  <p:nvSpPr>
                    <p:cNvPr id="900" name=""/>
                    <p:cNvSpPr/>
                    <p:nvPr/>
                  </p:nvSpPr>
                  <p:spPr>
                    <a:xfrm>
                      <a:off x="1517760" y="5675400"/>
                      <a:ext cx="429120" cy="316440"/>
                    </a:xfrm>
                    <a:custGeom>
                      <a:avLst/>
                      <a:gdLst/>
                      <a:ahLst/>
                      <a:rect l="0" t="0" r="r" b="b"/>
                      <a:pathLst>
                        <a:path w="1192" h="879">
                          <a:moveTo>
                            <a:pt x="750" y="252"/>
                          </a:moveTo>
                          <a:lnTo>
                            <a:pt x="865" y="375"/>
                          </a:lnTo>
                          <a:lnTo>
                            <a:pt x="919" y="424"/>
                          </a:lnTo>
                          <a:lnTo>
                            <a:pt x="945" y="459"/>
                          </a:lnTo>
                          <a:lnTo>
                            <a:pt x="954" y="499"/>
                          </a:lnTo>
                          <a:lnTo>
                            <a:pt x="950" y="538"/>
                          </a:lnTo>
                          <a:lnTo>
                            <a:pt x="928" y="552"/>
                          </a:lnTo>
                          <a:lnTo>
                            <a:pt x="891" y="556"/>
                          </a:lnTo>
                          <a:lnTo>
                            <a:pt x="803" y="547"/>
                          </a:lnTo>
                          <a:lnTo>
                            <a:pt x="706" y="530"/>
                          </a:lnTo>
                          <a:lnTo>
                            <a:pt x="591" y="499"/>
                          </a:lnTo>
                          <a:lnTo>
                            <a:pt x="433" y="441"/>
                          </a:lnTo>
                          <a:lnTo>
                            <a:pt x="309" y="371"/>
                          </a:lnTo>
                          <a:lnTo>
                            <a:pt x="238" y="309"/>
                          </a:lnTo>
                          <a:lnTo>
                            <a:pt x="198" y="252"/>
                          </a:lnTo>
                          <a:lnTo>
                            <a:pt x="176" y="154"/>
                          </a:lnTo>
                          <a:lnTo>
                            <a:pt x="141" y="83"/>
                          </a:lnTo>
                          <a:lnTo>
                            <a:pt x="105" y="0"/>
                          </a:lnTo>
                          <a:lnTo>
                            <a:pt x="52" y="83"/>
                          </a:lnTo>
                          <a:lnTo>
                            <a:pt x="13" y="185"/>
                          </a:lnTo>
                          <a:lnTo>
                            <a:pt x="0" y="256"/>
                          </a:lnTo>
                          <a:lnTo>
                            <a:pt x="4" y="353"/>
                          </a:lnTo>
                          <a:lnTo>
                            <a:pt x="35" y="459"/>
                          </a:lnTo>
                          <a:lnTo>
                            <a:pt x="88" y="547"/>
                          </a:lnTo>
                          <a:lnTo>
                            <a:pt x="114" y="613"/>
                          </a:lnTo>
                          <a:lnTo>
                            <a:pt x="123" y="658"/>
                          </a:lnTo>
                          <a:lnTo>
                            <a:pt x="171" y="667"/>
                          </a:lnTo>
                          <a:lnTo>
                            <a:pt x="309" y="640"/>
                          </a:lnTo>
                          <a:lnTo>
                            <a:pt x="375" y="711"/>
                          </a:lnTo>
                          <a:lnTo>
                            <a:pt x="459" y="822"/>
                          </a:lnTo>
                          <a:lnTo>
                            <a:pt x="486" y="857"/>
                          </a:lnTo>
                          <a:lnTo>
                            <a:pt x="530" y="870"/>
                          </a:lnTo>
                          <a:lnTo>
                            <a:pt x="591" y="879"/>
                          </a:lnTo>
                          <a:lnTo>
                            <a:pt x="963" y="857"/>
                          </a:lnTo>
                          <a:lnTo>
                            <a:pt x="1108" y="839"/>
                          </a:lnTo>
                          <a:lnTo>
                            <a:pt x="1166" y="831"/>
                          </a:lnTo>
                          <a:lnTo>
                            <a:pt x="1188" y="813"/>
                          </a:lnTo>
                          <a:lnTo>
                            <a:pt x="1192" y="773"/>
                          </a:lnTo>
                          <a:lnTo>
                            <a:pt x="1183" y="725"/>
                          </a:lnTo>
                          <a:lnTo>
                            <a:pt x="1144" y="663"/>
                          </a:lnTo>
                          <a:lnTo>
                            <a:pt x="1073" y="565"/>
                          </a:lnTo>
                          <a:lnTo>
                            <a:pt x="1003" y="490"/>
                          </a:lnTo>
                          <a:lnTo>
                            <a:pt x="936" y="411"/>
                          </a:lnTo>
                          <a:lnTo>
                            <a:pt x="852" y="336"/>
                          </a:lnTo>
                          <a:lnTo>
                            <a:pt x="750" y="25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1" name=""/>
                    <p:cNvSpPr/>
                    <p:nvPr/>
                  </p:nvSpPr>
                  <p:spPr>
                    <a:xfrm>
                      <a:off x="1584360" y="5869080"/>
                      <a:ext cx="51120" cy="44640"/>
                    </a:xfrm>
                    <a:custGeom>
                      <a:avLst/>
                      <a:gdLst/>
                      <a:ahLst/>
                      <a:rect l="0" t="0" r="r" b="b"/>
                      <a:pathLst>
                        <a:path w="142" h="124">
                          <a:moveTo>
                            <a:pt x="142" y="124"/>
                          </a:moveTo>
                          <a:lnTo>
                            <a:pt x="111" y="67"/>
                          </a:lnTo>
                          <a:lnTo>
                            <a:pt x="89" y="39"/>
                          </a:lnTo>
                          <a:lnTo>
                            <a:pt x="52" y="17"/>
                          </a:lnTo>
                          <a:lnTo>
                            <a:pt x="0" y="0"/>
                          </a:lnTo>
                          <a:lnTo>
                            <a:pt x="22" y="30"/>
                          </a:lnTo>
                          <a:lnTo>
                            <a:pt x="52" y="35"/>
                          </a:lnTo>
                          <a:lnTo>
                            <a:pt x="89" y="61"/>
                          </a:lnTo>
                          <a:lnTo>
                            <a:pt x="142" y="124"/>
                          </a:lnTo>
                          <a:close/>
                        </a:path>
                      </a:pathLst>
                    </a:custGeom>
                    <a:solidFill>
                      <a:srgbClr val="5f3f1f"/>
                    </a:solidFill>
                    <a:ln w="0">
                      <a:noFill/>
                    </a:ln>
                  </p:spPr>
                  <p:txBody>
                    <a:bodyPr lIns="90000" rIns="90000" tIns="-360" bIns="-360" anchor="t">
                      <a:noAutofit/>
                    </a:bodyPr>
                    <a:p>
                      <a:endParaRPr b="0" lang="en-US" sz="1800" spc="-1" strike="noStrike">
                        <a:solidFill>
                          <a:srgbClr val="000000"/>
                        </a:solidFill>
                        <a:latin typeface="Arial"/>
                      </a:endParaRPr>
                    </a:p>
                  </p:txBody>
                </p:sp>
              </p:grpSp>
            </p:grpSp>
            <p:grpSp>
              <p:nvGrpSpPr>
                <p:cNvPr id="902" name=""/>
                <p:cNvGrpSpPr/>
                <p:nvPr/>
              </p:nvGrpSpPr>
              <p:grpSpPr>
                <a:xfrm>
                  <a:off x="1149480" y="5800680"/>
                  <a:ext cx="282600" cy="435240"/>
                  <a:chOff x="1149480" y="5800680"/>
                  <a:chExt cx="282600" cy="435240"/>
                </a:xfrm>
              </p:grpSpPr>
              <p:grpSp>
                <p:nvGrpSpPr>
                  <p:cNvPr id="903" name=""/>
                  <p:cNvGrpSpPr/>
                  <p:nvPr/>
                </p:nvGrpSpPr>
                <p:grpSpPr>
                  <a:xfrm>
                    <a:off x="1182600" y="5800680"/>
                    <a:ext cx="249480" cy="287640"/>
                    <a:chOff x="1182600" y="5800680"/>
                    <a:chExt cx="249480" cy="287640"/>
                  </a:xfrm>
                </p:grpSpPr>
                <p:sp>
                  <p:nvSpPr>
                    <p:cNvPr id="904" name=""/>
                    <p:cNvSpPr/>
                    <p:nvPr/>
                  </p:nvSpPr>
                  <p:spPr>
                    <a:xfrm>
                      <a:off x="1182600" y="5800680"/>
                      <a:ext cx="248040" cy="270360"/>
                    </a:xfrm>
                    <a:custGeom>
                      <a:avLst/>
                      <a:gdLst/>
                      <a:ahLst/>
                      <a:rect l="0" t="0" r="r" b="b"/>
                      <a:pathLst>
                        <a:path w="689" h="751">
                          <a:moveTo>
                            <a:pt x="689" y="79"/>
                          </a:moveTo>
                          <a:lnTo>
                            <a:pt x="654" y="230"/>
                          </a:lnTo>
                          <a:lnTo>
                            <a:pt x="645" y="274"/>
                          </a:lnTo>
                          <a:lnTo>
                            <a:pt x="654" y="327"/>
                          </a:lnTo>
                          <a:lnTo>
                            <a:pt x="645" y="393"/>
                          </a:lnTo>
                          <a:lnTo>
                            <a:pt x="628" y="437"/>
                          </a:lnTo>
                          <a:lnTo>
                            <a:pt x="619" y="516"/>
                          </a:lnTo>
                          <a:lnTo>
                            <a:pt x="628" y="588"/>
                          </a:lnTo>
                          <a:lnTo>
                            <a:pt x="597" y="720"/>
                          </a:lnTo>
                          <a:lnTo>
                            <a:pt x="57" y="751"/>
                          </a:lnTo>
                          <a:lnTo>
                            <a:pt x="0" y="566"/>
                          </a:lnTo>
                          <a:lnTo>
                            <a:pt x="30" y="406"/>
                          </a:lnTo>
                          <a:lnTo>
                            <a:pt x="92" y="314"/>
                          </a:lnTo>
                          <a:lnTo>
                            <a:pt x="123" y="199"/>
                          </a:lnTo>
                          <a:lnTo>
                            <a:pt x="158" y="30"/>
                          </a:lnTo>
                          <a:lnTo>
                            <a:pt x="252" y="0"/>
                          </a:lnTo>
                          <a:lnTo>
                            <a:pt x="689" y="7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5" name=""/>
                    <p:cNvSpPr/>
                    <p:nvPr/>
                  </p:nvSpPr>
                  <p:spPr>
                    <a:xfrm>
                      <a:off x="1353960" y="5827680"/>
                      <a:ext cx="78120" cy="228960"/>
                    </a:xfrm>
                    <a:custGeom>
                      <a:avLst/>
                      <a:gdLst/>
                      <a:ahLst/>
                      <a:rect l="0" t="0" r="r" b="b"/>
                      <a:pathLst>
                        <a:path w="217" h="636">
                          <a:moveTo>
                            <a:pt x="217" y="0"/>
                          </a:moveTo>
                          <a:lnTo>
                            <a:pt x="186" y="149"/>
                          </a:lnTo>
                          <a:lnTo>
                            <a:pt x="172" y="194"/>
                          </a:lnTo>
                          <a:lnTo>
                            <a:pt x="186" y="246"/>
                          </a:lnTo>
                          <a:lnTo>
                            <a:pt x="172" y="313"/>
                          </a:lnTo>
                          <a:lnTo>
                            <a:pt x="150" y="349"/>
                          </a:lnTo>
                          <a:lnTo>
                            <a:pt x="146" y="433"/>
                          </a:lnTo>
                          <a:lnTo>
                            <a:pt x="150" y="508"/>
                          </a:lnTo>
                          <a:lnTo>
                            <a:pt x="124" y="636"/>
                          </a:lnTo>
                          <a:lnTo>
                            <a:pt x="0" y="631"/>
                          </a:lnTo>
                          <a:lnTo>
                            <a:pt x="88" y="525"/>
                          </a:lnTo>
                          <a:lnTo>
                            <a:pt x="83" y="433"/>
                          </a:lnTo>
                          <a:lnTo>
                            <a:pt x="92" y="344"/>
                          </a:lnTo>
                          <a:lnTo>
                            <a:pt x="101" y="273"/>
                          </a:lnTo>
                          <a:lnTo>
                            <a:pt x="120" y="180"/>
                          </a:lnTo>
                          <a:lnTo>
                            <a:pt x="164" y="44"/>
                          </a:lnTo>
                          <a:lnTo>
                            <a:pt x="217" y="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6" name=""/>
                    <p:cNvSpPr/>
                    <p:nvPr/>
                  </p:nvSpPr>
                  <p:spPr>
                    <a:xfrm>
                      <a:off x="1192320" y="5803920"/>
                      <a:ext cx="84600" cy="284400"/>
                    </a:xfrm>
                    <a:custGeom>
                      <a:avLst/>
                      <a:gdLst/>
                      <a:ahLst/>
                      <a:rect l="0" t="0" r="r" b="b"/>
                      <a:pathLst>
                        <a:path w="235" h="790">
                          <a:moveTo>
                            <a:pt x="159" y="216"/>
                          </a:moveTo>
                          <a:lnTo>
                            <a:pt x="120" y="339"/>
                          </a:lnTo>
                          <a:lnTo>
                            <a:pt x="98" y="433"/>
                          </a:lnTo>
                          <a:lnTo>
                            <a:pt x="98" y="508"/>
                          </a:lnTo>
                          <a:lnTo>
                            <a:pt x="111" y="600"/>
                          </a:lnTo>
                          <a:lnTo>
                            <a:pt x="128" y="697"/>
                          </a:lnTo>
                          <a:lnTo>
                            <a:pt x="80" y="790"/>
                          </a:lnTo>
                          <a:lnTo>
                            <a:pt x="0" y="494"/>
                          </a:lnTo>
                          <a:lnTo>
                            <a:pt x="71" y="282"/>
                          </a:lnTo>
                          <a:lnTo>
                            <a:pt x="102" y="163"/>
                          </a:lnTo>
                          <a:lnTo>
                            <a:pt x="133" y="0"/>
                          </a:lnTo>
                          <a:lnTo>
                            <a:pt x="235" y="39"/>
                          </a:lnTo>
                          <a:lnTo>
                            <a:pt x="159" y="216"/>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907" name=""/>
                  <p:cNvSpPr/>
                  <p:nvPr/>
                </p:nvSpPr>
                <p:spPr>
                  <a:xfrm>
                    <a:off x="1149480" y="5913360"/>
                    <a:ext cx="259200" cy="322560"/>
                  </a:xfrm>
                  <a:custGeom>
                    <a:avLst/>
                    <a:gdLst/>
                    <a:ahLst/>
                    <a:rect l="0" t="0" r="r" b="b"/>
                    <a:pathLst>
                      <a:path w="720" h="896">
                        <a:moveTo>
                          <a:pt x="716" y="242"/>
                        </a:moveTo>
                        <a:lnTo>
                          <a:pt x="667" y="313"/>
                        </a:lnTo>
                        <a:lnTo>
                          <a:pt x="606" y="361"/>
                        </a:lnTo>
                        <a:lnTo>
                          <a:pt x="494" y="396"/>
                        </a:lnTo>
                        <a:lnTo>
                          <a:pt x="402" y="410"/>
                        </a:lnTo>
                        <a:lnTo>
                          <a:pt x="336" y="383"/>
                        </a:lnTo>
                        <a:lnTo>
                          <a:pt x="230" y="317"/>
                        </a:lnTo>
                        <a:lnTo>
                          <a:pt x="190" y="229"/>
                        </a:lnTo>
                        <a:lnTo>
                          <a:pt x="167" y="123"/>
                        </a:lnTo>
                        <a:lnTo>
                          <a:pt x="186" y="0"/>
                        </a:lnTo>
                        <a:lnTo>
                          <a:pt x="127" y="70"/>
                        </a:lnTo>
                        <a:lnTo>
                          <a:pt x="101" y="171"/>
                        </a:lnTo>
                        <a:lnTo>
                          <a:pt x="52" y="313"/>
                        </a:lnTo>
                        <a:lnTo>
                          <a:pt x="17" y="418"/>
                        </a:lnTo>
                        <a:lnTo>
                          <a:pt x="0" y="486"/>
                        </a:lnTo>
                        <a:lnTo>
                          <a:pt x="22" y="561"/>
                        </a:lnTo>
                        <a:lnTo>
                          <a:pt x="97" y="662"/>
                        </a:lnTo>
                        <a:lnTo>
                          <a:pt x="221" y="799"/>
                        </a:lnTo>
                        <a:lnTo>
                          <a:pt x="314" y="865"/>
                        </a:lnTo>
                        <a:lnTo>
                          <a:pt x="353" y="896"/>
                        </a:lnTo>
                        <a:lnTo>
                          <a:pt x="402" y="865"/>
                        </a:lnTo>
                        <a:lnTo>
                          <a:pt x="481" y="821"/>
                        </a:lnTo>
                        <a:lnTo>
                          <a:pt x="610" y="737"/>
                        </a:lnTo>
                        <a:lnTo>
                          <a:pt x="672" y="684"/>
                        </a:lnTo>
                        <a:lnTo>
                          <a:pt x="694" y="649"/>
                        </a:lnTo>
                        <a:lnTo>
                          <a:pt x="711" y="534"/>
                        </a:lnTo>
                        <a:lnTo>
                          <a:pt x="720" y="423"/>
                        </a:lnTo>
                        <a:lnTo>
                          <a:pt x="716" y="24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908" name=""/>
              <p:cNvGrpSpPr/>
              <p:nvPr/>
            </p:nvGrpSpPr>
            <p:grpSpPr>
              <a:xfrm>
                <a:off x="1071720" y="3367080"/>
                <a:ext cx="892440" cy="2521440"/>
                <a:chOff x="1071720" y="3367080"/>
                <a:chExt cx="892440" cy="2521440"/>
              </a:xfrm>
            </p:grpSpPr>
            <p:sp>
              <p:nvSpPr>
                <p:cNvPr id="909" name=""/>
                <p:cNvSpPr/>
                <p:nvPr/>
              </p:nvSpPr>
              <p:spPr>
                <a:xfrm>
                  <a:off x="1071720" y="3367080"/>
                  <a:ext cx="892440" cy="2521440"/>
                </a:xfrm>
                <a:custGeom>
                  <a:avLst/>
                  <a:gdLst/>
                  <a:ahLst/>
                  <a:rect l="0" t="0" r="r" b="b"/>
                  <a:pathLst>
                    <a:path w="2479" h="7004">
                      <a:moveTo>
                        <a:pt x="2276" y="0"/>
                      </a:moveTo>
                      <a:lnTo>
                        <a:pt x="1164" y="101"/>
                      </a:lnTo>
                      <a:lnTo>
                        <a:pt x="22" y="317"/>
                      </a:lnTo>
                      <a:lnTo>
                        <a:pt x="13" y="493"/>
                      </a:lnTo>
                      <a:lnTo>
                        <a:pt x="0" y="652"/>
                      </a:lnTo>
                      <a:lnTo>
                        <a:pt x="22" y="851"/>
                      </a:lnTo>
                      <a:lnTo>
                        <a:pt x="66" y="996"/>
                      </a:lnTo>
                      <a:lnTo>
                        <a:pt x="39" y="974"/>
                      </a:lnTo>
                      <a:lnTo>
                        <a:pt x="17" y="930"/>
                      </a:lnTo>
                      <a:lnTo>
                        <a:pt x="35" y="1058"/>
                      </a:lnTo>
                      <a:lnTo>
                        <a:pt x="57" y="1137"/>
                      </a:lnTo>
                      <a:lnTo>
                        <a:pt x="70" y="1234"/>
                      </a:lnTo>
                      <a:lnTo>
                        <a:pt x="74" y="1358"/>
                      </a:lnTo>
                      <a:lnTo>
                        <a:pt x="66" y="1446"/>
                      </a:lnTo>
                      <a:lnTo>
                        <a:pt x="74" y="1552"/>
                      </a:lnTo>
                      <a:lnTo>
                        <a:pt x="88" y="1636"/>
                      </a:lnTo>
                      <a:lnTo>
                        <a:pt x="110" y="1724"/>
                      </a:lnTo>
                      <a:lnTo>
                        <a:pt x="141" y="1857"/>
                      </a:lnTo>
                      <a:lnTo>
                        <a:pt x="171" y="1954"/>
                      </a:lnTo>
                      <a:lnTo>
                        <a:pt x="198" y="2060"/>
                      </a:lnTo>
                      <a:lnTo>
                        <a:pt x="189" y="2104"/>
                      </a:lnTo>
                      <a:lnTo>
                        <a:pt x="194" y="2152"/>
                      </a:lnTo>
                      <a:lnTo>
                        <a:pt x="207" y="2263"/>
                      </a:lnTo>
                      <a:lnTo>
                        <a:pt x="233" y="2395"/>
                      </a:lnTo>
                      <a:lnTo>
                        <a:pt x="282" y="2541"/>
                      </a:lnTo>
                      <a:lnTo>
                        <a:pt x="339" y="2743"/>
                      </a:lnTo>
                      <a:lnTo>
                        <a:pt x="352" y="2796"/>
                      </a:lnTo>
                      <a:lnTo>
                        <a:pt x="366" y="2862"/>
                      </a:lnTo>
                      <a:lnTo>
                        <a:pt x="392" y="2933"/>
                      </a:lnTo>
                      <a:lnTo>
                        <a:pt x="432" y="3017"/>
                      </a:lnTo>
                      <a:lnTo>
                        <a:pt x="476" y="3087"/>
                      </a:lnTo>
                      <a:lnTo>
                        <a:pt x="454" y="3273"/>
                      </a:lnTo>
                      <a:lnTo>
                        <a:pt x="432" y="3625"/>
                      </a:lnTo>
                      <a:lnTo>
                        <a:pt x="440" y="3925"/>
                      </a:lnTo>
                      <a:lnTo>
                        <a:pt x="432" y="4256"/>
                      </a:lnTo>
                      <a:lnTo>
                        <a:pt x="392" y="4939"/>
                      </a:lnTo>
                      <a:lnTo>
                        <a:pt x="392" y="5333"/>
                      </a:lnTo>
                      <a:lnTo>
                        <a:pt x="388" y="5589"/>
                      </a:lnTo>
                      <a:lnTo>
                        <a:pt x="392" y="5880"/>
                      </a:lnTo>
                      <a:lnTo>
                        <a:pt x="405" y="6382"/>
                      </a:lnTo>
                      <a:lnTo>
                        <a:pt x="414" y="6435"/>
                      </a:lnTo>
                      <a:lnTo>
                        <a:pt x="427" y="6488"/>
                      </a:lnTo>
                      <a:lnTo>
                        <a:pt x="445" y="6629"/>
                      </a:lnTo>
                      <a:lnTo>
                        <a:pt x="445" y="6748"/>
                      </a:lnTo>
                      <a:lnTo>
                        <a:pt x="436" y="6907"/>
                      </a:lnTo>
                      <a:lnTo>
                        <a:pt x="485" y="6889"/>
                      </a:lnTo>
                      <a:lnTo>
                        <a:pt x="537" y="6881"/>
                      </a:lnTo>
                      <a:lnTo>
                        <a:pt x="648" y="6889"/>
                      </a:lnTo>
                      <a:lnTo>
                        <a:pt x="754" y="6912"/>
                      </a:lnTo>
                      <a:lnTo>
                        <a:pt x="886" y="6938"/>
                      </a:lnTo>
                      <a:lnTo>
                        <a:pt x="952" y="6969"/>
                      </a:lnTo>
                      <a:lnTo>
                        <a:pt x="1005" y="6991"/>
                      </a:lnTo>
                      <a:lnTo>
                        <a:pt x="1053" y="7004"/>
                      </a:lnTo>
                      <a:lnTo>
                        <a:pt x="1098" y="7004"/>
                      </a:lnTo>
                      <a:lnTo>
                        <a:pt x="1150" y="7000"/>
                      </a:lnTo>
                      <a:lnTo>
                        <a:pt x="1164" y="6920"/>
                      </a:lnTo>
                      <a:lnTo>
                        <a:pt x="1172" y="6841"/>
                      </a:lnTo>
                      <a:lnTo>
                        <a:pt x="1181" y="6740"/>
                      </a:lnTo>
                      <a:lnTo>
                        <a:pt x="1168" y="6651"/>
                      </a:lnTo>
                      <a:lnTo>
                        <a:pt x="1172" y="6528"/>
                      </a:lnTo>
                      <a:lnTo>
                        <a:pt x="1164" y="6065"/>
                      </a:lnTo>
                      <a:lnTo>
                        <a:pt x="1172" y="5690"/>
                      </a:lnTo>
                      <a:lnTo>
                        <a:pt x="1190" y="5267"/>
                      </a:lnTo>
                      <a:lnTo>
                        <a:pt x="1230" y="4886"/>
                      </a:lnTo>
                      <a:lnTo>
                        <a:pt x="1253" y="4498"/>
                      </a:lnTo>
                      <a:lnTo>
                        <a:pt x="1271" y="4701"/>
                      </a:lnTo>
                      <a:lnTo>
                        <a:pt x="1315" y="4895"/>
                      </a:lnTo>
                      <a:lnTo>
                        <a:pt x="1271" y="5058"/>
                      </a:lnTo>
                      <a:lnTo>
                        <a:pt x="1253" y="5230"/>
                      </a:lnTo>
                      <a:lnTo>
                        <a:pt x="1230" y="5518"/>
                      </a:lnTo>
                      <a:lnTo>
                        <a:pt x="1221" y="5809"/>
                      </a:lnTo>
                      <a:lnTo>
                        <a:pt x="1266" y="6175"/>
                      </a:lnTo>
                      <a:lnTo>
                        <a:pt x="1315" y="6382"/>
                      </a:lnTo>
                      <a:lnTo>
                        <a:pt x="1319" y="6435"/>
                      </a:lnTo>
                      <a:lnTo>
                        <a:pt x="1372" y="6488"/>
                      </a:lnTo>
                      <a:lnTo>
                        <a:pt x="1522" y="6510"/>
                      </a:lnTo>
                      <a:lnTo>
                        <a:pt x="1707" y="6501"/>
                      </a:lnTo>
                      <a:lnTo>
                        <a:pt x="1879" y="6523"/>
                      </a:lnTo>
                      <a:lnTo>
                        <a:pt x="2069" y="6488"/>
                      </a:lnTo>
                      <a:lnTo>
                        <a:pt x="2091" y="6479"/>
                      </a:lnTo>
                      <a:lnTo>
                        <a:pt x="2091" y="6440"/>
                      </a:lnTo>
                      <a:lnTo>
                        <a:pt x="2077" y="6254"/>
                      </a:lnTo>
                      <a:lnTo>
                        <a:pt x="2082" y="6109"/>
                      </a:lnTo>
                      <a:lnTo>
                        <a:pt x="2086" y="5946"/>
                      </a:lnTo>
                      <a:lnTo>
                        <a:pt x="2104" y="5800"/>
                      </a:lnTo>
                      <a:lnTo>
                        <a:pt x="2130" y="5474"/>
                      </a:lnTo>
                      <a:lnTo>
                        <a:pt x="2161" y="5067"/>
                      </a:lnTo>
                      <a:lnTo>
                        <a:pt x="2214" y="4507"/>
                      </a:lnTo>
                      <a:lnTo>
                        <a:pt x="2276" y="4119"/>
                      </a:lnTo>
                      <a:lnTo>
                        <a:pt x="2298" y="3639"/>
                      </a:lnTo>
                      <a:lnTo>
                        <a:pt x="2307" y="3211"/>
                      </a:lnTo>
                      <a:lnTo>
                        <a:pt x="2377" y="2730"/>
                      </a:lnTo>
                      <a:lnTo>
                        <a:pt x="2421" y="2254"/>
                      </a:lnTo>
                      <a:lnTo>
                        <a:pt x="2443" y="1910"/>
                      </a:lnTo>
                      <a:lnTo>
                        <a:pt x="2479" y="1481"/>
                      </a:lnTo>
                      <a:lnTo>
                        <a:pt x="2461" y="1036"/>
                      </a:lnTo>
                      <a:lnTo>
                        <a:pt x="2448" y="701"/>
                      </a:lnTo>
                      <a:lnTo>
                        <a:pt x="2408" y="423"/>
                      </a:lnTo>
                      <a:lnTo>
                        <a:pt x="2351" y="194"/>
                      </a:lnTo>
                      <a:lnTo>
                        <a:pt x="2276" y="0"/>
                      </a:lnTo>
                      <a:close/>
                    </a:path>
                  </a:pathLst>
                </a:custGeom>
                <a:solidFill>
                  <a:srgbClr val="5f5f5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10" name=""/>
                <p:cNvGrpSpPr/>
                <p:nvPr/>
              </p:nvGrpSpPr>
              <p:grpSpPr>
                <a:xfrm>
                  <a:off x="1076400" y="3406680"/>
                  <a:ext cx="754560" cy="2458080"/>
                  <a:chOff x="1076400" y="3406680"/>
                  <a:chExt cx="754560" cy="2458080"/>
                </a:xfrm>
              </p:grpSpPr>
              <p:sp>
                <p:nvSpPr>
                  <p:cNvPr id="911" name=""/>
                  <p:cNvSpPr/>
                  <p:nvPr/>
                </p:nvSpPr>
                <p:spPr>
                  <a:xfrm>
                    <a:off x="1363680" y="3502080"/>
                    <a:ext cx="394200" cy="2211840"/>
                  </a:xfrm>
                  <a:custGeom>
                    <a:avLst/>
                    <a:gdLst/>
                    <a:ahLst/>
                    <a:rect l="0" t="0" r="r" b="b"/>
                    <a:pathLst>
                      <a:path w="1095" h="6144">
                        <a:moveTo>
                          <a:pt x="455" y="4234"/>
                        </a:moveTo>
                        <a:lnTo>
                          <a:pt x="441" y="4124"/>
                        </a:lnTo>
                        <a:lnTo>
                          <a:pt x="530" y="3436"/>
                        </a:lnTo>
                        <a:lnTo>
                          <a:pt x="552" y="3070"/>
                        </a:lnTo>
                        <a:lnTo>
                          <a:pt x="530" y="2682"/>
                        </a:lnTo>
                        <a:lnTo>
                          <a:pt x="508" y="2276"/>
                        </a:lnTo>
                        <a:lnTo>
                          <a:pt x="468" y="1870"/>
                        </a:lnTo>
                        <a:lnTo>
                          <a:pt x="428" y="1419"/>
                        </a:lnTo>
                        <a:lnTo>
                          <a:pt x="260" y="1239"/>
                        </a:lnTo>
                        <a:lnTo>
                          <a:pt x="145" y="1115"/>
                        </a:lnTo>
                        <a:lnTo>
                          <a:pt x="0" y="996"/>
                        </a:lnTo>
                        <a:lnTo>
                          <a:pt x="136" y="1018"/>
                        </a:lnTo>
                        <a:lnTo>
                          <a:pt x="268" y="1080"/>
                        </a:lnTo>
                        <a:lnTo>
                          <a:pt x="389" y="1155"/>
                        </a:lnTo>
                        <a:lnTo>
                          <a:pt x="508" y="1296"/>
                        </a:lnTo>
                        <a:lnTo>
                          <a:pt x="516" y="961"/>
                        </a:lnTo>
                        <a:lnTo>
                          <a:pt x="530" y="758"/>
                        </a:lnTo>
                        <a:lnTo>
                          <a:pt x="516" y="621"/>
                        </a:lnTo>
                        <a:lnTo>
                          <a:pt x="468" y="489"/>
                        </a:lnTo>
                        <a:lnTo>
                          <a:pt x="428" y="370"/>
                        </a:lnTo>
                        <a:lnTo>
                          <a:pt x="397" y="238"/>
                        </a:lnTo>
                        <a:lnTo>
                          <a:pt x="389" y="97"/>
                        </a:lnTo>
                        <a:lnTo>
                          <a:pt x="406" y="0"/>
                        </a:lnTo>
                        <a:lnTo>
                          <a:pt x="468" y="123"/>
                        </a:lnTo>
                        <a:lnTo>
                          <a:pt x="534" y="233"/>
                        </a:lnTo>
                        <a:lnTo>
                          <a:pt x="613" y="361"/>
                        </a:lnTo>
                        <a:lnTo>
                          <a:pt x="658" y="471"/>
                        </a:lnTo>
                        <a:lnTo>
                          <a:pt x="724" y="626"/>
                        </a:lnTo>
                        <a:lnTo>
                          <a:pt x="759" y="740"/>
                        </a:lnTo>
                        <a:lnTo>
                          <a:pt x="772" y="851"/>
                        </a:lnTo>
                        <a:lnTo>
                          <a:pt x="763" y="1005"/>
                        </a:lnTo>
                        <a:lnTo>
                          <a:pt x="737" y="1155"/>
                        </a:lnTo>
                        <a:lnTo>
                          <a:pt x="710" y="1322"/>
                        </a:lnTo>
                        <a:lnTo>
                          <a:pt x="666" y="1584"/>
                        </a:lnTo>
                        <a:lnTo>
                          <a:pt x="812" y="1292"/>
                        </a:lnTo>
                        <a:lnTo>
                          <a:pt x="945" y="956"/>
                        </a:lnTo>
                        <a:lnTo>
                          <a:pt x="1033" y="626"/>
                        </a:lnTo>
                        <a:lnTo>
                          <a:pt x="1082" y="1124"/>
                        </a:lnTo>
                        <a:lnTo>
                          <a:pt x="1095" y="1548"/>
                        </a:lnTo>
                        <a:lnTo>
                          <a:pt x="1047" y="2280"/>
                        </a:lnTo>
                        <a:lnTo>
                          <a:pt x="994" y="3233"/>
                        </a:lnTo>
                        <a:lnTo>
                          <a:pt x="954" y="4203"/>
                        </a:lnTo>
                        <a:lnTo>
                          <a:pt x="994" y="4658"/>
                        </a:lnTo>
                        <a:lnTo>
                          <a:pt x="932" y="4782"/>
                        </a:lnTo>
                        <a:lnTo>
                          <a:pt x="853" y="5187"/>
                        </a:lnTo>
                        <a:lnTo>
                          <a:pt x="958" y="5765"/>
                        </a:lnTo>
                        <a:lnTo>
                          <a:pt x="1011" y="5985"/>
                        </a:lnTo>
                        <a:lnTo>
                          <a:pt x="1069" y="6144"/>
                        </a:lnTo>
                        <a:lnTo>
                          <a:pt x="958" y="6131"/>
                        </a:lnTo>
                        <a:lnTo>
                          <a:pt x="879" y="6127"/>
                        </a:lnTo>
                        <a:lnTo>
                          <a:pt x="812" y="6131"/>
                        </a:lnTo>
                        <a:lnTo>
                          <a:pt x="706" y="6135"/>
                        </a:lnTo>
                        <a:lnTo>
                          <a:pt x="631" y="6131"/>
                        </a:lnTo>
                        <a:lnTo>
                          <a:pt x="561" y="6122"/>
                        </a:lnTo>
                        <a:lnTo>
                          <a:pt x="516" y="6100"/>
                        </a:lnTo>
                        <a:lnTo>
                          <a:pt x="490" y="6078"/>
                        </a:lnTo>
                        <a:lnTo>
                          <a:pt x="503" y="6012"/>
                        </a:lnTo>
                        <a:lnTo>
                          <a:pt x="486" y="5955"/>
                        </a:lnTo>
                        <a:lnTo>
                          <a:pt x="455" y="5814"/>
                        </a:lnTo>
                        <a:lnTo>
                          <a:pt x="433" y="5686"/>
                        </a:lnTo>
                        <a:lnTo>
                          <a:pt x="419" y="5549"/>
                        </a:lnTo>
                        <a:lnTo>
                          <a:pt x="411" y="5412"/>
                        </a:lnTo>
                        <a:lnTo>
                          <a:pt x="415" y="5302"/>
                        </a:lnTo>
                        <a:lnTo>
                          <a:pt x="419" y="5183"/>
                        </a:lnTo>
                        <a:lnTo>
                          <a:pt x="428" y="5046"/>
                        </a:lnTo>
                        <a:lnTo>
                          <a:pt x="437" y="4861"/>
                        </a:lnTo>
                        <a:lnTo>
                          <a:pt x="455" y="4738"/>
                        </a:lnTo>
                        <a:lnTo>
                          <a:pt x="464" y="4663"/>
                        </a:lnTo>
                        <a:lnTo>
                          <a:pt x="481" y="4604"/>
                        </a:lnTo>
                        <a:lnTo>
                          <a:pt x="503" y="4520"/>
                        </a:lnTo>
                        <a:lnTo>
                          <a:pt x="494" y="4485"/>
                        </a:lnTo>
                        <a:lnTo>
                          <a:pt x="477" y="4401"/>
                        </a:lnTo>
                        <a:lnTo>
                          <a:pt x="459" y="4322"/>
                        </a:lnTo>
                        <a:lnTo>
                          <a:pt x="455" y="4234"/>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2" name=""/>
                  <p:cNvSpPr/>
                  <p:nvPr/>
                </p:nvSpPr>
                <p:spPr>
                  <a:xfrm>
                    <a:off x="1076400" y="3575160"/>
                    <a:ext cx="443160" cy="2289600"/>
                  </a:xfrm>
                  <a:custGeom>
                    <a:avLst/>
                    <a:gdLst/>
                    <a:ahLst/>
                    <a:rect l="0" t="0" r="r" b="b"/>
                    <a:pathLst>
                      <a:path w="1231" h="6360">
                        <a:moveTo>
                          <a:pt x="97" y="0"/>
                        </a:moveTo>
                        <a:lnTo>
                          <a:pt x="167" y="30"/>
                        </a:lnTo>
                        <a:lnTo>
                          <a:pt x="251" y="74"/>
                        </a:lnTo>
                        <a:lnTo>
                          <a:pt x="339" y="136"/>
                        </a:lnTo>
                        <a:lnTo>
                          <a:pt x="418" y="220"/>
                        </a:lnTo>
                        <a:lnTo>
                          <a:pt x="463" y="291"/>
                        </a:lnTo>
                        <a:lnTo>
                          <a:pt x="498" y="335"/>
                        </a:lnTo>
                        <a:lnTo>
                          <a:pt x="524" y="352"/>
                        </a:lnTo>
                        <a:lnTo>
                          <a:pt x="573" y="374"/>
                        </a:lnTo>
                        <a:lnTo>
                          <a:pt x="636" y="388"/>
                        </a:lnTo>
                        <a:lnTo>
                          <a:pt x="715" y="396"/>
                        </a:lnTo>
                        <a:lnTo>
                          <a:pt x="768" y="418"/>
                        </a:lnTo>
                        <a:lnTo>
                          <a:pt x="799" y="432"/>
                        </a:lnTo>
                        <a:lnTo>
                          <a:pt x="790" y="471"/>
                        </a:lnTo>
                        <a:lnTo>
                          <a:pt x="759" y="529"/>
                        </a:lnTo>
                        <a:lnTo>
                          <a:pt x="710" y="577"/>
                        </a:lnTo>
                        <a:lnTo>
                          <a:pt x="636" y="626"/>
                        </a:lnTo>
                        <a:lnTo>
                          <a:pt x="515" y="657"/>
                        </a:lnTo>
                        <a:lnTo>
                          <a:pt x="418" y="665"/>
                        </a:lnTo>
                        <a:lnTo>
                          <a:pt x="330" y="661"/>
                        </a:lnTo>
                        <a:lnTo>
                          <a:pt x="233" y="652"/>
                        </a:lnTo>
                        <a:lnTo>
                          <a:pt x="348" y="687"/>
                        </a:lnTo>
                        <a:lnTo>
                          <a:pt x="423" y="727"/>
                        </a:lnTo>
                        <a:lnTo>
                          <a:pt x="502" y="802"/>
                        </a:lnTo>
                        <a:lnTo>
                          <a:pt x="573" y="855"/>
                        </a:lnTo>
                        <a:lnTo>
                          <a:pt x="662" y="921"/>
                        </a:lnTo>
                        <a:lnTo>
                          <a:pt x="724" y="974"/>
                        </a:lnTo>
                        <a:lnTo>
                          <a:pt x="777" y="1018"/>
                        </a:lnTo>
                        <a:lnTo>
                          <a:pt x="816" y="1067"/>
                        </a:lnTo>
                        <a:lnTo>
                          <a:pt x="821" y="1098"/>
                        </a:lnTo>
                        <a:lnTo>
                          <a:pt x="794" y="1128"/>
                        </a:lnTo>
                        <a:lnTo>
                          <a:pt x="724" y="1155"/>
                        </a:lnTo>
                        <a:lnTo>
                          <a:pt x="644" y="1168"/>
                        </a:lnTo>
                        <a:lnTo>
                          <a:pt x="537" y="1177"/>
                        </a:lnTo>
                        <a:lnTo>
                          <a:pt x="432" y="1164"/>
                        </a:lnTo>
                        <a:lnTo>
                          <a:pt x="330" y="1137"/>
                        </a:lnTo>
                        <a:lnTo>
                          <a:pt x="242" y="1106"/>
                        </a:lnTo>
                        <a:lnTo>
                          <a:pt x="110" y="1040"/>
                        </a:lnTo>
                        <a:lnTo>
                          <a:pt x="246" y="1142"/>
                        </a:lnTo>
                        <a:lnTo>
                          <a:pt x="339" y="1208"/>
                        </a:lnTo>
                        <a:lnTo>
                          <a:pt x="427" y="1274"/>
                        </a:lnTo>
                        <a:lnTo>
                          <a:pt x="511" y="1331"/>
                        </a:lnTo>
                        <a:lnTo>
                          <a:pt x="599" y="1406"/>
                        </a:lnTo>
                        <a:lnTo>
                          <a:pt x="684" y="1494"/>
                        </a:lnTo>
                        <a:lnTo>
                          <a:pt x="763" y="1592"/>
                        </a:lnTo>
                        <a:lnTo>
                          <a:pt x="825" y="1672"/>
                        </a:lnTo>
                        <a:lnTo>
                          <a:pt x="900" y="1769"/>
                        </a:lnTo>
                        <a:lnTo>
                          <a:pt x="834" y="1773"/>
                        </a:lnTo>
                        <a:lnTo>
                          <a:pt x="728" y="1769"/>
                        </a:lnTo>
                        <a:lnTo>
                          <a:pt x="627" y="1747"/>
                        </a:lnTo>
                        <a:lnTo>
                          <a:pt x="537" y="1720"/>
                        </a:lnTo>
                        <a:lnTo>
                          <a:pt x="445" y="1689"/>
                        </a:lnTo>
                        <a:lnTo>
                          <a:pt x="339" y="1628"/>
                        </a:lnTo>
                        <a:lnTo>
                          <a:pt x="423" y="1738"/>
                        </a:lnTo>
                        <a:lnTo>
                          <a:pt x="498" y="1857"/>
                        </a:lnTo>
                        <a:lnTo>
                          <a:pt x="599" y="1998"/>
                        </a:lnTo>
                        <a:lnTo>
                          <a:pt x="724" y="2152"/>
                        </a:lnTo>
                        <a:lnTo>
                          <a:pt x="882" y="2346"/>
                        </a:lnTo>
                        <a:lnTo>
                          <a:pt x="935" y="2421"/>
                        </a:lnTo>
                        <a:lnTo>
                          <a:pt x="971" y="2501"/>
                        </a:lnTo>
                        <a:lnTo>
                          <a:pt x="988" y="2602"/>
                        </a:lnTo>
                        <a:lnTo>
                          <a:pt x="984" y="2686"/>
                        </a:lnTo>
                        <a:lnTo>
                          <a:pt x="896" y="2677"/>
                        </a:lnTo>
                        <a:lnTo>
                          <a:pt x="807" y="2668"/>
                        </a:lnTo>
                        <a:lnTo>
                          <a:pt x="697" y="2646"/>
                        </a:lnTo>
                        <a:lnTo>
                          <a:pt x="627" y="2620"/>
                        </a:lnTo>
                        <a:lnTo>
                          <a:pt x="551" y="2589"/>
                        </a:lnTo>
                        <a:lnTo>
                          <a:pt x="662" y="2783"/>
                        </a:lnTo>
                        <a:lnTo>
                          <a:pt x="710" y="2924"/>
                        </a:lnTo>
                        <a:lnTo>
                          <a:pt x="777" y="3118"/>
                        </a:lnTo>
                        <a:lnTo>
                          <a:pt x="860" y="3303"/>
                        </a:lnTo>
                        <a:lnTo>
                          <a:pt x="935" y="3489"/>
                        </a:lnTo>
                        <a:lnTo>
                          <a:pt x="984" y="3634"/>
                        </a:lnTo>
                        <a:lnTo>
                          <a:pt x="1032" y="3762"/>
                        </a:lnTo>
                        <a:lnTo>
                          <a:pt x="1085" y="3885"/>
                        </a:lnTo>
                        <a:lnTo>
                          <a:pt x="1156" y="3996"/>
                        </a:lnTo>
                        <a:lnTo>
                          <a:pt x="1231" y="4124"/>
                        </a:lnTo>
                        <a:lnTo>
                          <a:pt x="1213" y="4393"/>
                        </a:lnTo>
                        <a:lnTo>
                          <a:pt x="1187" y="4626"/>
                        </a:lnTo>
                        <a:lnTo>
                          <a:pt x="1165" y="5077"/>
                        </a:lnTo>
                        <a:lnTo>
                          <a:pt x="1143" y="5514"/>
                        </a:lnTo>
                        <a:lnTo>
                          <a:pt x="1094" y="5655"/>
                        </a:lnTo>
                        <a:lnTo>
                          <a:pt x="1063" y="5800"/>
                        </a:lnTo>
                        <a:lnTo>
                          <a:pt x="1028" y="5933"/>
                        </a:lnTo>
                        <a:lnTo>
                          <a:pt x="979" y="6091"/>
                        </a:lnTo>
                        <a:lnTo>
                          <a:pt x="922" y="6246"/>
                        </a:lnTo>
                        <a:lnTo>
                          <a:pt x="874" y="6360"/>
                        </a:lnTo>
                        <a:lnTo>
                          <a:pt x="785" y="6343"/>
                        </a:lnTo>
                        <a:lnTo>
                          <a:pt x="693" y="6325"/>
                        </a:lnTo>
                        <a:lnTo>
                          <a:pt x="599" y="6312"/>
                        </a:lnTo>
                        <a:lnTo>
                          <a:pt x="564" y="6307"/>
                        </a:lnTo>
                        <a:lnTo>
                          <a:pt x="524" y="6307"/>
                        </a:lnTo>
                        <a:lnTo>
                          <a:pt x="463" y="6316"/>
                        </a:lnTo>
                        <a:lnTo>
                          <a:pt x="418" y="6334"/>
                        </a:lnTo>
                        <a:lnTo>
                          <a:pt x="432" y="6157"/>
                        </a:lnTo>
                        <a:lnTo>
                          <a:pt x="432" y="6047"/>
                        </a:lnTo>
                        <a:lnTo>
                          <a:pt x="405" y="5906"/>
                        </a:lnTo>
                        <a:lnTo>
                          <a:pt x="392" y="5809"/>
                        </a:lnTo>
                        <a:lnTo>
                          <a:pt x="388" y="5659"/>
                        </a:lnTo>
                        <a:lnTo>
                          <a:pt x="374" y="5007"/>
                        </a:lnTo>
                        <a:lnTo>
                          <a:pt x="379" y="4547"/>
                        </a:lnTo>
                        <a:lnTo>
                          <a:pt x="374" y="4384"/>
                        </a:lnTo>
                        <a:lnTo>
                          <a:pt x="392" y="4137"/>
                        </a:lnTo>
                        <a:lnTo>
                          <a:pt x="405" y="3828"/>
                        </a:lnTo>
                        <a:lnTo>
                          <a:pt x="427" y="3347"/>
                        </a:lnTo>
                        <a:lnTo>
                          <a:pt x="418" y="3140"/>
                        </a:lnTo>
                        <a:lnTo>
                          <a:pt x="418" y="2995"/>
                        </a:lnTo>
                        <a:lnTo>
                          <a:pt x="427" y="2818"/>
                        </a:lnTo>
                        <a:lnTo>
                          <a:pt x="440" y="2655"/>
                        </a:lnTo>
                        <a:lnTo>
                          <a:pt x="463" y="2514"/>
                        </a:lnTo>
                        <a:lnTo>
                          <a:pt x="405" y="2421"/>
                        </a:lnTo>
                        <a:lnTo>
                          <a:pt x="379" y="2364"/>
                        </a:lnTo>
                        <a:lnTo>
                          <a:pt x="352" y="2276"/>
                        </a:lnTo>
                        <a:lnTo>
                          <a:pt x="339" y="2223"/>
                        </a:lnTo>
                        <a:lnTo>
                          <a:pt x="326" y="2166"/>
                        </a:lnTo>
                        <a:lnTo>
                          <a:pt x="299" y="2077"/>
                        </a:lnTo>
                        <a:lnTo>
                          <a:pt x="273" y="1980"/>
                        </a:lnTo>
                        <a:lnTo>
                          <a:pt x="242" y="1892"/>
                        </a:lnTo>
                        <a:lnTo>
                          <a:pt x="216" y="1817"/>
                        </a:lnTo>
                        <a:lnTo>
                          <a:pt x="198" y="1698"/>
                        </a:lnTo>
                        <a:lnTo>
                          <a:pt x="180" y="1601"/>
                        </a:lnTo>
                        <a:lnTo>
                          <a:pt x="176" y="1525"/>
                        </a:lnTo>
                        <a:lnTo>
                          <a:pt x="185" y="1481"/>
                        </a:lnTo>
                        <a:lnTo>
                          <a:pt x="158" y="1380"/>
                        </a:lnTo>
                        <a:lnTo>
                          <a:pt x="123" y="1274"/>
                        </a:lnTo>
                        <a:lnTo>
                          <a:pt x="97" y="1155"/>
                        </a:lnTo>
                        <a:lnTo>
                          <a:pt x="74" y="1067"/>
                        </a:lnTo>
                        <a:lnTo>
                          <a:pt x="57" y="965"/>
                        </a:lnTo>
                        <a:lnTo>
                          <a:pt x="52" y="855"/>
                        </a:lnTo>
                        <a:lnTo>
                          <a:pt x="61" y="776"/>
                        </a:lnTo>
                        <a:lnTo>
                          <a:pt x="57" y="665"/>
                        </a:lnTo>
                        <a:lnTo>
                          <a:pt x="48" y="604"/>
                        </a:lnTo>
                        <a:lnTo>
                          <a:pt x="35" y="533"/>
                        </a:lnTo>
                        <a:lnTo>
                          <a:pt x="13" y="463"/>
                        </a:lnTo>
                        <a:lnTo>
                          <a:pt x="8" y="388"/>
                        </a:lnTo>
                        <a:lnTo>
                          <a:pt x="0" y="348"/>
                        </a:lnTo>
                        <a:lnTo>
                          <a:pt x="35" y="396"/>
                        </a:lnTo>
                        <a:lnTo>
                          <a:pt x="97" y="458"/>
                        </a:lnTo>
                        <a:lnTo>
                          <a:pt x="97"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3" name=""/>
                  <p:cNvSpPr/>
                  <p:nvPr/>
                </p:nvSpPr>
                <p:spPr>
                  <a:xfrm>
                    <a:off x="1749600" y="3406680"/>
                    <a:ext cx="81360" cy="195480"/>
                  </a:xfrm>
                  <a:custGeom>
                    <a:avLst/>
                    <a:gdLst/>
                    <a:ahLst/>
                    <a:rect l="0" t="0" r="r" b="b"/>
                    <a:pathLst>
                      <a:path w="226" h="543">
                        <a:moveTo>
                          <a:pt x="209" y="0"/>
                        </a:moveTo>
                        <a:lnTo>
                          <a:pt x="137" y="35"/>
                        </a:lnTo>
                        <a:lnTo>
                          <a:pt x="58" y="74"/>
                        </a:lnTo>
                        <a:lnTo>
                          <a:pt x="0" y="105"/>
                        </a:lnTo>
                        <a:lnTo>
                          <a:pt x="26" y="185"/>
                        </a:lnTo>
                        <a:lnTo>
                          <a:pt x="80" y="314"/>
                        </a:lnTo>
                        <a:lnTo>
                          <a:pt x="150" y="441"/>
                        </a:lnTo>
                        <a:lnTo>
                          <a:pt x="222" y="543"/>
                        </a:lnTo>
                        <a:lnTo>
                          <a:pt x="226" y="494"/>
                        </a:lnTo>
                        <a:lnTo>
                          <a:pt x="209" y="428"/>
                        </a:lnTo>
                        <a:lnTo>
                          <a:pt x="196" y="340"/>
                        </a:lnTo>
                        <a:lnTo>
                          <a:pt x="200" y="229"/>
                        </a:lnTo>
                        <a:lnTo>
                          <a:pt x="222" y="110"/>
                        </a:lnTo>
                        <a:lnTo>
                          <a:pt x="209"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4" name=""/>
                  <p:cNvSpPr/>
                  <p:nvPr/>
                </p:nvSpPr>
                <p:spPr>
                  <a:xfrm>
                    <a:off x="1590840" y="3463920"/>
                    <a:ext cx="208440" cy="295560"/>
                  </a:xfrm>
                  <a:custGeom>
                    <a:avLst/>
                    <a:gdLst/>
                    <a:ahLst/>
                    <a:rect l="0" t="0" r="r" b="b"/>
                    <a:pathLst>
                      <a:path w="579" h="821">
                        <a:moveTo>
                          <a:pt x="221" y="0"/>
                        </a:moveTo>
                        <a:lnTo>
                          <a:pt x="265" y="154"/>
                        </a:lnTo>
                        <a:lnTo>
                          <a:pt x="327" y="299"/>
                        </a:lnTo>
                        <a:lnTo>
                          <a:pt x="415" y="446"/>
                        </a:lnTo>
                        <a:lnTo>
                          <a:pt x="495" y="552"/>
                        </a:lnTo>
                        <a:lnTo>
                          <a:pt x="579" y="627"/>
                        </a:lnTo>
                        <a:lnTo>
                          <a:pt x="562" y="644"/>
                        </a:lnTo>
                        <a:lnTo>
                          <a:pt x="500" y="658"/>
                        </a:lnTo>
                        <a:lnTo>
                          <a:pt x="393" y="649"/>
                        </a:lnTo>
                        <a:lnTo>
                          <a:pt x="300" y="631"/>
                        </a:lnTo>
                        <a:lnTo>
                          <a:pt x="278" y="719"/>
                        </a:lnTo>
                        <a:lnTo>
                          <a:pt x="252" y="821"/>
                        </a:lnTo>
                        <a:lnTo>
                          <a:pt x="225" y="622"/>
                        </a:lnTo>
                        <a:lnTo>
                          <a:pt x="203" y="477"/>
                        </a:lnTo>
                        <a:lnTo>
                          <a:pt x="155" y="339"/>
                        </a:lnTo>
                        <a:lnTo>
                          <a:pt x="92" y="189"/>
                        </a:lnTo>
                        <a:lnTo>
                          <a:pt x="0" y="52"/>
                        </a:lnTo>
                        <a:lnTo>
                          <a:pt x="79" y="35"/>
                        </a:lnTo>
                        <a:lnTo>
                          <a:pt x="141" y="22"/>
                        </a:lnTo>
                        <a:lnTo>
                          <a:pt x="221"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5" name=""/>
                  <p:cNvSpPr/>
                  <p:nvPr/>
                </p:nvSpPr>
                <p:spPr>
                  <a:xfrm>
                    <a:off x="1333440" y="3505320"/>
                    <a:ext cx="101880" cy="211320"/>
                  </a:xfrm>
                  <a:custGeom>
                    <a:avLst/>
                    <a:gdLst/>
                    <a:ahLst/>
                    <a:rect l="0" t="0" r="r" b="b"/>
                    <a:pathLst>
                      <a:path w="283" h="587">
                        <a:moveTo>
                          <a:pt x="101" y="4"/>
                        </a:moveTo>
                        <a:lnTo>
                          <a:pt x="155" y="88"/>
                        </a:lnTo>
                        <a:lnTo>
                          <a:pt x="208" y="180"/>
                        </a:lnTo>
                        <a:lnTo>
                          <a:pt x="247" y="291"/>
                        </a:lnTo>
                        <a:lnTo>
                          <a:pt x="274" y="419"/>
                        </a:lnTo>
                        <a:lnTo>
                          <a:pt x="283" y="587"/>
                        </a:lnTo>
                        <a:lnTo>
                          <a:pt x="256" y="534"/>
                        </a:lnTo>
                        <a:lnTo>
                          <a:pt x="225" y="494"/>
                        </a:lnTo>
                        <a:lnTo>
                          <a:pt x="177" y="464"/>
                        </a:lnTo>
                        <a:lnTo>
                          <a:pt x="155" y="441"/>
                        </a:lnTo>
                        <a:lnTo>
                          <a:pt x="127" y="393"/>
                        </a:lnTo>
                        <a:lnTo>
                          <a:pt x="92" y="314"/>
                        </a:lnTo>
                        <a:lnTo>
                          <a:pt x="52" y="229"/>
                        </a:lnTo>
                        <a:lnTo>
                          <a:pt x="13" y="114"/>
                        </a:lnTo>
                        <a:lnTo>
                          <a:pt x="0" y="48"/>
                        </a:lnTo>
                        <a:lnTo>
                          <a:pt x="0" y="0"/>
                        </a:lnTo>
                        <a:lnTo>
                          <a:pt x="101" y="4"/>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6" name=""/>
                  <p:cNvSpPr/>
                  <p:nvPr/>
                </p:nvSpPr>
                <p:spPr>
                  <a:xfrm>
                    <a:off x="1087560" y="3483000"/>
                    <a:ext cx="200520" cy="141480"/>
                  </a:xfrm>
                  <a:custGeom>
                    <a:avLst/>
                    <a:gdLst/>
                    <a:ahLst/>
                    <a:rect l="0" t="0" r="r" b="b"/>
                    <a:pathLst>
                      <a:path w="557" h="393">
                        <a:moveTo>
                          <a:pt x="371" y="48"/>
                        </a:moveTo>
                        <a:lnTo>
                          <a:pt x="402" y="79"/>
                        </a:lnTo>
                        <a:lnTo>
                          <a:pt x="442" y="119"/>
                        </a:lnTo>
                        <a:lnTo>
                          <a:pt x="465" y="158"/>
                        </a:lnTo>
                        <a:lnTo>
                          <a:pt x="491" y="208"/>
                        </a:lnTo>
                        <a:lnTo>
                          <a:pt x="513" y="256"/>
                        </a:lnTo>
                        <a:lnTo>
                          <a:pt x="535" y="318"/>
                        </a:lnTo>
                        <a:lnTo>
                          <a:pt x="557" y="393"/>
                        </a:lnTo>
                        <a:lnTo>
                          <a:pt x="517" y="389"/>
                        </a:lnTo>
                        <a:lnTo>
                          <a:pt x="460" y="367"/>
                        </a:lnTo>
                        <a:lnTo>
                          <a:pt x="402" y="327"/>
                        </a:lnTo>
                        <a:lnTo>
                          <a:pt x="349" y="287"/>
                        </a:lnTo>
                        <a:lnTo>
                          <a:pt x="292" y="243"/>
                        </a:lnTo>
                        <a:lnTo>
                          <a:pt x="225" y="199"/>
                        </a:lnTo>
                        <a:lnTo>
                          <a:pt x="155" y="171"/>
                        </a:lnTo>
                        <a:lnTo>
                          <a:pt x="88" y="141"/>
                        </a:lnTo>
                        <a:lnTo>
                          <a:pt x="66" y="127"/>
                        </a:lnTo>
                        <a:lnTo>
                          <a:pt x="52" y="88"/>
                        </a:lnTo>
                        <a:lnTo>
                          <a:pt x="57" y="61"/>
                        </a:lnTo>
                        <a:lnTo>
                          <a:pt x="30" y="39"/>
                        </a:lnTo>
                        <a:lnTo>
                          <a:pt x="0" y="0"/>
                        </a:lnTo>
                        <a:lnTo>
                          <a:pt x="57" y="13"/>
                        </a:lnTo>
                        <a:lnTo>
                          <a:pt x="127" y="22"/>
                        </a:lnTo>
                        <a:lnTo>
                          <a:pt x="203" y="30"/>
                        </a:lnTo>
                        <a:lnTo>
                          <a:pt x="278" y="39"/>
                        </a:lnTo>
                        <a:lnTo>
                          <a:pt x="371" y="48"/>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917" name=""/>
            <p:cNvGrpSpPr/>
            <p:nvPr/>
          </p:nvGrpSpPr>
          <p:grpSpPr>
            <a:xfrm>
              <a:off x="720720" y="1446120"/>
              <a:ext cx="1497240" cy="2295720"/>
              <a:chOff x="720720" y="1446120"/>
              <a:chExt cx="1497240" cy="2295720"/>
            </a:xfrm>
          </p:grpSpPr>
          <p:grpSp>
            <p:nvGrpSpPr>
              <p:cNvPr id="918" name=""/>
              <p:cNvGrpSpPr/>
              <p:nvPr/>
            </p:nvGrpSpPr>
            <p:grpSpPr>
              <a:xfrm>
                <a:off x="942840" y="1446120"/>
                <a:ext cx="843120" cy="862560"/>
                <a:chOff x="942840" y="1446120"/>
                <a:chExt cx="843120" cy="862560"/>
              </a:xfrm>
            </p:grpSpPr>
            <p:sp>
              <p:nvSpPr>
                <p:cNvPr id="919" name=""/>
                <p:cNvSpPr/>
                <p:nvPr/>
              </p:nvSpPr>
              <p:spPr>
                <a:xfrm>
                  <a:off x="1760400" y="222876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920" name=""/>
                <p:cNvSpPr/>
                <p:nvPr/>
              </p:nvSpPr>
              <p:spPr>
                <a:xfrm>
                  <a:off x="1317600" y="1994040"/>
                  <a:ext cx="192600" cy="163800"/>
                </a:xfrm>
                <a:custGeom>
                  <a:avLst/>
                  <a:gdLst/>
                  <a:ahLst/>
                  <a:rect l="0" t="0" r="r" b="b"/>
                  <a:pathLst>
                    <a:path w="535" h="455">
                      <a:moveTo>
                        <a:pt x="384" y="30"/>
                      </a:moveTo>
                      <a:lnTo>
                        <a:pt x="397" y="158"/>
                      </a:lnTo>
                      <a:lnTo>
                        <a:pt x="403" y="198"/>
                      </a:lnTo>
                      <a:lnTo>
                        <a:pt x="434" y="261"/>
                      </a:lnTo>
                      <a:lnTo>
                        <a:pt x="487" y="305"/>
                      </a:lnTo>
                      <a:lnTo>
                        <a:pt x="535" y="344"/>
                      </a:lnTo>
                      <a:lnTo>
                        <a:pt x="491" y="336"/>
                      </a:lnTo>
                      <a:lnTo>
                        <a:pt x="500" y="375"/>
                      </a:lnTo>
                      <a:lnTo>
                        <a:pt x="465" y="362"/>
                      </a:lnTo>
                      <a:lnTo>
                        <a:pt x="425" y="358"/>
                      </a:lnTo>
                      <a:lnTo>
                        <a:pt x="434" y="402"/>
                      </a:lnTo>
                      <a:lnTo>
                        <a:pt x="389" y="384"/>
                      </a:lnTo>
                      <a:lnTo>
                        <a:pt x="344" y="367"/>
                      </a:lnTo>
                      <a:lnTo>
                        <a:pt x="309" y="344"/>
                      </a:lnTo>
                      <a:lnTo>
                        <a:pt x="322" y="406"/>
                      </a:lnTo>
                      <a:lnTo>
                        <a:pt x="292" y="393"/>
                      </a:lnTo>
                      <a:lnTo>
                        <a:pt x="265" y="384"/>
                      </a:lnTo>
                      <a:lnTo>
                        <a:pt x="243" y="367"/>
                      </a:lnTo>
                      <a:lnTo>
                        <a:pt x="239" y="389"/>
                      </a:lnTo>
                      <a:lnTo>
                        <a:pt x="243" y="428"/>
                      </a:lnTo>
                      <a:lnTo>
                        <a:pt x="199" y="411"/>
                      </a:lnTo>
                      <a:lnTo>
                        <a:pt x="195" y="450"/>
                      </a:lnTo>
                      <a:lnTo>
                        <a:pt x="168" y="455"/>
                      </a:lnTo>
                      <a:lnTo>
                        <a:pt x="137" y="446"/>
                      </a:lnTo>
                      <a:lnTo>
                        <a:pt x="97" y="428"/>
                      </a:lnTo>
                      <a:lnTo>
                        <a:pt x="66" y="402"/>
                      </a:lnTo>
                      <a:lnTo>
                        <a:pt x="48" y="380"/>
                      </a:lnTo>
                      <a:lnTo>
                        <a:pt x="0" y="0"/>
                      </a:lnTo>
                      <a:lnTo>
                        <a:pt x="384" y="30"/>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21" name=""/>
                <p:cNvGrpSpPr/>
                <p:nvPr/>
              </p:nvGrpSpPr>
              <p:grpSpPr>
                <a:xfrm>
                  <a:off x="973080" y="1552680"/>
                  <a:ext cx="606960" cy="756000"/>
                  <a:chOff x="973080" y="1552680"/>
                  <a:chExt cx="606960" cy="756000"/>
                </a:xfrm>
              </p:grpSpPr>
              <p:grpSp>
                <p:nvGrpSpPr>
                  <p:cNvPr id="922" name=""/>
                  <p:cNvGrpSpPr/>
                  <p:nvPr/>
                </p:nvGrpSpPr>
                <p:grpSpPr>
                  <a:xfrm>
                    <a:off x="973080" y="1552680"/>
                    <a:ext cx="606960" cy="756000"/>
                    <a:chOff x="973080" y="1552680"/>
                    <a:chExt cx="606960" cy="756000"/>
                  </a:xfrm>
                </p:grpSpPr>
                <p:sp>
                  <p:nvSpPr>
                    <p:cNvPr id="923" name=""/>
                    <p:cNvSpPr/>
                    <p:nvPr/>
                  </p:nvSpPr>
                  <p:spPr>
                    <a:xfrm>
                      <a:off x="973080" y="1552680"/>
                      <a:ext cx="606960" cy="756000"/>
                    </a:xfrm>
                    <a:custGeom>
                      <a:avLst/>
                      <a:gdLst/>
                      <a:ahLst/>
                      <a:rect l="0" t="0" r="r" b="b"/>
                      <a:pathLst>
                        <a:path w="1686" h="2100">
                          <a:moveTo>
                            <a:pt x="1373" y="0"/>
                          </a:moveTo>
                          <a:lnTo>
                            <a:pt x="1545" y="92"/>
                          </a:lnTo>
                          <a:lnTo>
                            <a:pt x="1646" y="220"/>
                          </a:lnTo>
                          <a:lnTo>
                            <a:pt x="1686" y="383"/>
                          </a:lnTo>
                          <a:lnTo>
                            <a:pt x="1677" y="507"/>
                          </a:lnTo>
                          <a:lnTo>
                            <a:pt x="1668" y="568"/>
                          </a:lnTo>
                          <a:lnTo>
                            <a:pt x="1655" y="590"/>
                          </a:lnTo>
                          <a:lnTo>
                            <a:pt x="1642" y="617"/>
                          </a:lnTo>
                          <a:lnTo>
                            <a:pt x="1615" y="643"/>
                          </a:lnTo>
                          <a:lnTo>
                            <a:pt x="1611" y="674"/>
                          </a:lnTo>
                          <a:lnTo>
                            <a:pt x="1615" y="718"/>
                          </a:lnTo>
                          <a:lnTo>
                            <a:pt x="1646" y="767"/>
                          </a:lnTo>
                          <a:lnTo>
                            <a:pt x="1673" y="798"/>
                          </a:lnTo>
                          <a:lnTo>
                            <a:pt x="1686" y="842"/>
                          </a:lnTo>
                          <a:lnTo>
                            <a:pt x="1673" y="873"/>
                          </a:lnTo>
                          <a:lnTo>
                            <a:pt x="1655" y="881"/>
                          </a:lnTo>
                          <a:lnTo>
                            <a:pt x="1646" y="908"/>
                          </a:lnTo>
                          <a:lnTo>
                            <a:pt x="1655" y="956"/>
                          </a:lnTo>
                          <a:lnTo>
                            <a:pt x="1646" y="1001"/>
                          </a:lnTo>
                          <a:lnTo>
                            <a:pt x="1615" y="1031"/>
                          </a:lnTo>
                          <a:lnTo>
                            <a:pt x="1593" y="1059"/>
                          </a:lnTo>
                          <a:lnTo>
                            <a:pt x="1563" y="1090"/>
                          </a:lnTo>
                          <a:lnTo>
                            <a:pt x="1598" y="1138"/>
                          </a:lnTo>
                          <a:lnTo>
                            <a:pt x="1576" y="1191"/>
                          </a:lnTo>
                          <a:lnTo>
                            <a:pt x="1571" y="1209"/>
                          </a:lnTo>
                          <a:lnTo>
                            <a:pt x="1580" y="1266"/>
                          </a:lnTo>
                          <a:lnTo>
                            <a:pt x="1593" y="1306"/>
                          </a:lnTo>
                          <a:lnTo>
                            <a:pt x="1580" y="1341"/>
                          </a:lnTo>
                          <a:lnTo>
                            <a:pt x="1567" y="1354"/>
                          </a:lnTo>
                          <a:lnTo>
                            <a:pt x="1527" y="1363"/>
                          </a:lnTo>
                          <a:lnTo>
                            <a:pt x="1501" y="1372"/>
                          </a:lnTo>
                          <a:lnTo>
                            <a:pt x="1329" y="1363"/>
                          </a:lnTo>
                          <a:lnTo>
                            <a:pt x="1187" y="1363"/>
                          </a:lnTo>
                          <a:lnTo>
                            <a:pt x="1125" y="1372"/>
                          </a:lnTo>
                          <a:lnTo>
                            <a:pt x="1085" y="1390"/>
                          </a:lnTo>
                          <a:lnTo>
                            <a:pt x="1059" y="1434"/>
                          </a:lnTo>
                          <a:lnTo>
                            <a:pt x="1050" y="1491"/>
                          </a:lnTo>
                          <a:lnTo>
                            <a:pt x="1054" y="1570"/>
                          </a:lnTo>
                          <a:lnTo>
                            <a:pt x="1076" y="1659"/>
                          </a:lnTo>
                          <a:lnTo>
                            <a:pt x="1107" y="1720"/>
                          </a:lnTo>
                          <a:lnTo>
                            <a:pt x="1134" y="1756"/>
                          </a:lnTo>
                          <a:lnTo>
                            <a:pt x="1222" y="1778"/>
                          </a:lnTo>
                          <a:lnTo>
                            <a:pt x="583" y="2100"/>
                          </a:lnTo>
                          <a:lnTo>
                            <a:pt x="123" y="1919"/>
                          </a:lnTo>
                          <a:lnTo>
                            <a:pt x="0" y="1808"/>
                          </a:lnTo>
                          <a:lnTo>
                            <a:pt x="136" y="1734"/>
                          </a:lnTo>
                          <a:lnTo>
                            <a:pt x="202" y="1654"/>
                          </a:lnTo>
                          <a:lnTo>
                            <a:pt x="273" y="1544"/>
                          </a:lnTo>
                          <a:lnTo>
                            <a:pt x="330" y="1442"/>
                          </a:lnTo>
                          <a:lnTo>
                            <a:pt x="441" y="1063"/>
                          </a:lnTo>
                          <a:lnTo>
                            <a:pt x="335" y="529"/>
                          </a:lnTo>
                          <a:lnTo>
                            <a:pt x="490" y="335"/>
                          </a:lnTo>
                          <a:lnTo>
                            <a:pt x="719" y="383"/>
                          </a:lnTo>
                          <a:lnTo>
                            <a:pt x="834" y="427"/>
                          </a:lnTo>
                          <a:lnTo>
                            <a:pt x="975" y="171"/>
                          </a:lnTo>
                          <a:lnTo>
                            <a:pt x="1107" y="61"/>
                          </a:lnTo>
                          <a:lnTo>
                            <a:pt x="1373" y="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4" name=""/>
                    <p:cNvSpPr/>
                    <p:nvPr/>
                  </p:nvSpPr>
                  <p:spPr>
                    <a:xfrm>
                      <a:off x="1166760" y="1863720"/>
                      <a:ext cx="194040" cy="171720"/>
                    </a:xfrm>
                    <a:custGeom>
                      <a:avLst/>
                      <a:gdLst/>
                      <a:ahLst/>
                      <a:rect l="0" t="0" r="r" b="b"/>
                      <a:pathLst>
                        <a:path w="539" h="477">
                          <a:moveTo>
                            <a:pt x="539" y="477"/>
                          </a:moveTo>
                          <a:lnTo>
                            <a:pt x="473" y="455"/>
                          </a:lnTo>
                          <a:lnTo>
                            <a:pt x="412" y="437"/>
                          </a:lnTo>
                          <a:lnTo>
                            <a:pt x="367" y="411"/>
                          </a:lnTo>
                          <a:lnTo>
                            <a:pt x="322" y="362"/>
                          </a:lnTo>
                          <a:lnTo>
                            <a:pt x="287" y="305"/>
                          </a:lnTo>
                          <a:lnTo>
                            <a:pt x="247" y="243"/>
                          </a:lnTo>
                          <a:lnTo>
                            <a:pt x="221" y="189"/>
                          </a:lnTo>
                          <a:lnTo>
                            <a:pt x="225" y="145"/>
                          </a:lnTo>
                          <a:lnTo>
                            <a:pt x="239" y="92"/>
                          </a:lnTo>
                          <a:lnTo>
                            <a:pt x="239" y="44"/>
                          </a:lnTo>
                          <a:lnTo>
                            <a:pt x="101" y="110"/>
                          </a:lnTo>
                          <a:lnTo>
                            <a:pt x="26" y="30"/>
                          </a:lnTo>
                          <a:lnTo>
                            <a:pt x="0" y="0"/>
                          </a:lnTo>
                          <a:lnTo>
                            <a:pt x="8" y="79"/>
                          </a:lnTo>
                          <a:lnTo>
                            <a:pt x="30" y="136"/>
                          </a:lnTo>
                          <a:lnTo>
                            <a:pt x="74" y="171"/>
                          </a:lnTo>
                          <a:lnTo>
                            <a:pt x="137" y="189"/>
                          </a:lnTo>
                          <a:lnTo>
                            <a:pt x="168" y="265"/>
                          </a:lnTo>
                          <a:lnTo>
                            <a:pt x="195" y="327"/>
                          </a:lnTo>
                          <a:lnTo>
                            <a:pt x="230" y="375"/>
                          </a:lnTo>
                          <a:lnTo>
                            <a:pt x="278" y="411"/>
                          </a:lnTo>
                          <a:lnTo>
                            <a:pt x="353" y="441"/>
                          </a:lnTo>
                          <a:lnTo>
                            <a:pt x="442" y="464"/>
                          </a:lnTo>
                          <a:lnTo>
                            <a:pt x="539" y="477"/>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5" name=""/>
                    <p:cNvSpPr/>
                    <p:nvPr/>
                  </p:nvSpPr>
                  <p:spPr>
                    <a:xfrm>
                      <a:off x="1165320" y="2062080"/>
                      <a:ext cx="66960" cy="198720"/>
                    </a:xfrm>
                    <a:custGeom>
                      <a:avLst/>
                      <a:gdLst/>
                      <a:ahLst/>
                      <a:rect l="0" t="0" r="r" b="b"/>
                      <a:pathLst>
                        <a:path w="186" h="552">
                          <a:moveTo>
                            <a:pt x="186" y="525"/>
                          </a:moveTo>
                          <a:lnTo>
                            <a:pt x="146" y="428"/>
                          </a:lnTo>
                          <a:lnTo>
                            <a:pt x="120" y="336"/>
                          </a:lnTo>
                          <a:lnTo>
                            <a:pt x="102" y="255"/>
                          </a:lnTo>
                          <a:lnTo>
                            <a:pt x="79" y="154"/>
                          </a:lnTo>
                          <a:lnTo>
                            <a:pt x="61" y="0"/>
                          </a:lnTo>
                          <a:lnTo>
                            <a:pt x="13" y="114"/>
                          </a:lnTo>
                          <a:lnTo>
                            <a:pt x="35" y="224"/>
                          </a:lnTo>
                          <a:lnTo>
                            <a:pt x="48" y="344"/>
                          </a:lnTo>
                          <a:lnTo>
                            <a:pt x="35" y="450"/>
                          </a:lnTo>
                          <a:lnTo>
                            <a:pt x="0" y="552"/>
                          </a:lnTo>
                          <a:lnTo>
                            <a:pt x="186" y="525"/>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26" name=""/>
                    <p:cNvGrpSpPr/>
                    <p:nvPr/>
                  </p:nvGrpSpPr>
                  <p:grpSpPr>
                    <a:xfrm>
                      <a:off x="1160640" y="1593720"/>
                      <a:ext cx="414360" cy="451080"/>
                      <a:chOff x="1160640" y="1593720"/>
                      <a:chExt cx="414360" cy="451080"/>
                    </a:xfrm>
                  </p:grpSpPr>
                  <p:grpSp>
                    <p:nvGrpSpPr>
                      <p:cNvPr id="927" name=""/>
                      <p:cNvGrpSpPr/>
                      <p:nvPr/>
                    </p:nvGrpSpPr>
                    <p:grpSpPr>
                      <a:xfrm>
                        <a:off x="1160640" y="1593720"/>
                        <a:ext cx="414360" cy="451080"/>
                        <a:chOff x="1160640" y="1593720"/>
                        <a:chExt cx="414360" cy="451080"/>
                      </a:xfrm>
                    </p:grpSpPr>
                    <p:sp>
                      <p:nvSpPr>
                        <p:cNvPr id="928" name=""/>
                        <p:cNvSpPr/>
                        <p:nvPr/>
                      </p:nvSpPr>
                      <p:spPr>
                        <a:xfrm>
                          <a:off x="1160640" y="1593720"/>
                          <a:ext cx="368640" cy="451080"/>
                        </a:xfrm>
                        <a:custGeom>
                          <a:avLst/>
                          <a:gdLst/>
                          <a:ahLst/>
                          <a:rect l="0" t="0" r="r" b="b"/>
                          <a:pathLst>
                            <a:path w="1024" h="1253">
                              <a:moveTo>
                                <a:pt x="666" y="0"/>
                              </a:moveTo>
                              <a:lnTo>
                                <a:pt x="772" y="70"/>
                              </a:lnTo>
                              <a:lnTo>
                                <a:pt x="807" y="127"/>
                              </a:lnTo>
                              <a:lnTo>
                                <a:pt x="706" y="127"/>
                              </a:lnTo>
                              <a:lnTo>
                                <a:pt x="649" y="163"/>
                              </a:lnTo>
                              <a:lnTo>
                                <a:pt x="613" y="229"/>
                              </a:lnTo>
                              <a:lnTo>
                                <a:pt x="666" y="282"/>
                              </a:lnTo>
                              <a:lnTo>
                                <a:pt x="688" y="348"/>
                              </a:lnTo>
                              <a:lnTo>
                                <a:pt x="636" y="414"/>
                              </a:lnTo>
                              <a:lnTo>
                                <a:pt x="609" y="485"/>
                              </a:lnTo>
                              <a:lnTo>
                                <a:pt x="587" y="533"/>
                              </a:lnTo>
                              <a:lnTo>
                                <a:pt x="627" y="564"/>
                              </a:lnTo>
                              <a:lnTo>
                                <a:pt x="653" y="612"/>
                              </a:lnTo>
                              <a:lnTo>
                                <a:pt x="728" y="671"/>
                              </a:lnTo>
                              <a:lnTo>
                                <a:pt x="777" y="697"/>
                              </a:lnTo>
                              <a:lnTo>
                                <a:pt x="812" y="746"/>
                              </a:lnTo>
                              <a:lnTo>
                                <a:pt x="825" y="794"/>
                              </a:lnTo>
                              <a:lnTo>
                                <a:pt x="825" y="852"/>
                              </a:lnTo>
                              <a:lnTo>
                                <a:pt x="803" y="909"/>
                              </a:lnTo>
                              <a:lnTo>
                                <a:pt x="772" y="940"/>
                              </a:lnTo>
                              <a:lnTo>
                                <a:pt x="733" y="962"/>
                              </a:lnTo>
                              <a:lnTo>
                                <a:pt x="680" y="984"/>
                              </a:lnTo>
                              <a:lnTo>
                                <a:pt x="649" y="1015"/>
                              </a:lnTo>
                              <a:lnTo>
                                <a:pt x="631" y="1046"/>
                              </a:lnTo>
                              <a:lnTo>
                                <a:pt x="636" y="1094"/>
                              </a:lnTo>
                              <a:lnTo>
                                <a:pt x="658" y="1134"/>
                              </a:lnTo>
                              <a:lnTo>
                                <a:pt x="702" y="1156"/>
                              </a:lnTo>
                              <a:lnTo>
                                <a:pt x="755" y="1165"/>
                              </a:lnTo>
                              <a:lnTo>
                                <a:pt x="807" y="1187"/>
                              </a:lnTo>
                              <a:lnTo>
                                <a:pt x="856" y="1204"/>
                              </a:lnTo>
                              <a:lnTo>
                                <a:pt x="918" y="1226"/>
                              </a:lnTo>
                              <a:lnTo>
                                <a:pt x="971" y="1240"/>
                              </a:lnTo>
                              <a:lnTo>
                                <a:pt x="1024" y="1248"/>
                              </a:lnTo>
                              <a:lnTo>
                                <a:pt x="984" y="1253"/>
                              </a:lnTo>
                              <a:lnTo>
                                <a:pt x="922" y="1248"/>
                              </a:lnTo>
                              <a:lnTo>
                                <a:pt x="825" y="1248"/>
                              </a:lnTo>
                              <a:lnTo>
                                <a:pt x="755" y="1248"/>
                              </a:lnTo>
                              <a:lnTo>
                                <a:pt x="684" y="1240"/>
                              </a:lnTo>
                              <a:lnTo>
                                <a:pt x="600" y="1231"/>
                              </a:lnTo>
                              <a:lnTo>
                                <a:pt x="516" y="1213"/>
                              </a:lnTo>
                              <a:lnTo>
                                <a:pt x="449" y="1191"/>
                              </a:lnTo>
                              <a:lnTo>
                                <a:pt x="388" y="1160"/>
                              </a:lnTo>
                              <a:lnTo>
                                <a:pt x="343" y="1129"/>
                              </a:lnTo>
                              <a:lnTo>
                                <a:pt x="304" y="1063"/>
                              </a:lnTo>
                              <a:lnTo>
                                <a:pt x="220" y="913"/>
                              </a:lnTo>
                              <a:lnTo>
                                <a:pt x="141" y="750"/>
                              </a:lnTo>
                              <a:lnTo>
                                <a:pt x="0" y="432"/>
                              </a:lnTo>
                              <a:lnTo>
                                <a:pt x="83" y="335"/>
                              </a:lnTo>
                              <a:lnTo>
                                <a:pt x="277" y="414"/>
                              </a:lnTo>
                              <a:lnTo>
                                <a:pt x="383" y="260"/>
                              </a:lnTo>
                              <a:lnTo>
                                <a:pt x="449" y="57"/>
                              </a:lnTo>
                              <a:lnTo>
                                <a:pt x="666"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9" name=""/>
                        <p:cNvSpPr/>
                        <p:nvPr/>
                      </p:nvSpPr>
                      <p:spPr>
                        <a:xfrm>
                          <a:off x="1363680" y="1735200"/>
                          <a:ext cx="182880" cy="143280"/>
                        </a:xfrm>
                        <a:custGeom>
                          <a:avLst/>
                          <a:gdLst/>
                          <a:ahLst/>
                          <a:rect l="0" t="0" r="r" b="b"/>
                          <a:pathLst>
                            <a:path w="508" h="398">
                              <a:moveTo>
                                <a:pt x="194" y="0"/>
                              </a:moveTo>
                              <a:lnTo>
                                <a:pt x="216" y="4"/>
                              </a:lnTo>
                              <a:lnTo>
                                <a:pt x="256" y="17"/>
                              </a:lnTo>
                              <a:lnTo>
                                <a:pt x="296" y="22"/>
                              </a:lnTo>
                              <a:lnTo>
                                <a:pt x="371" y="35"/>
                              </a:lnTo>
                              <a:lnTo>
                                <a:pt x="419" y="35"/>
                              </a:lnTo>
                              <a:lnTo>
                                <a:pt x="415" y="83"/>
                              </a:lnTo>
                              <a:lnTo>
                                <a:pt x="428" y="133"/>
                              </a:lnTo>
                              <a:lnTo>
                                <a:pt x="446" y="168"/>
                              </a:lnTo>
                              <a:lnTo>
                                <a:pt x="468" y="208"/>
                              </a:lnTo>
                              <a:lnTo>
                                <a:pt x="508" y="265"/>
                              </a:lnTo>
                              <a:lnTo>
                                <a:pt x="508" y="306"/>
                              </a:lnTo>
                              <a:lnTo>
                                <a:pt x="477" y="301"/>
                              </a:lnTo>
                              <a:lnTo>
                                <a:pt x="437" y="310"/>
                              </a:lnTo>
                              <a:lnTo>
                                <a:pt x="415" y="328"/>
                              </a:lnTo>
                              <a:lnTo>
                                <a:pt x="406" y="354"/>
                              </a:lnTo>
                              <a:lnTo>
                                <a:pt x="419" y="381"/>
                              </a:lnTo>
                              <a:lnTo>
                                <a:pt x="459" y="390"/>
                              </a:lnTo>
                              <a:lnTo>
                                <a:pt x="428" y="398"/>
                              </a:lnTo>
                              <a:lnTo>
                                <a:pt x="397" y="385"/>
                              </a:lnTo>
                              <a:lnTo>
                                <a:pt x="380" y="368"/>
                              </a:lnTo>
                              <a:lnTo>
                                <a:pt x="380" y="332"/>
                              </a:lnTo>
                              <a:lnTo>
                                <a:pt x="393" y="306"/>
                              </a:lnTo>
                              <a:lnTo>
                                <a:pt x="419" y="278"/>
                              </a:lnTo>
                              <a:lnTo>
                                <a:pt x="446" y="278"/>
                              </a:lnTo>
                              <a:lnTo>
                                <a:pt x="406" y="212"/>
                              </a:lnTo>
                              <a:lnTo>
                                <a:pt x="380" y="164"/>
                              </a:lnTo>
                              <a:lnTo>
                                <a:pt x="305" y="172"/>
                              </a:lnTo>
                              <a:lnTo>
                                <a:pt x="242" y="172"/>
                              </a:lnTo>
                              <a:lnTo>
                                <a:pt x="167" y="164"/>
                              </a:lnTo>
                              <a:lnTo>
                                <a:pt x="123" y="142"/>
                              </a:lnTo>
                              <a:lnTo>
                                <a:pt x="88" y="111"/>
                              </a:lnTo>
                              <a:lnTo>
                                <a:pt x="44" y="88"/>
                              </a:lnTo>
                              <a:lnTo>
                                <a:pt x="0" y="70"/>
                              </a:lnTo>
                              <a:lnTo>
                                <a:pt x="110" y="22"/>
                              </a:lnTo>
                              <a:lnTo>
                                <a:pt x="194"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0" name=""/>
                        <p:cNvSpPr/>
                        <p:nvPr/>
                      </p:nvSpPr>
                      <p:spPr>
                        <a:xfrm>
                          <a:off x="1539720" y="1744560"/>
                          <a:ext cx="35280" cy="66960"/>
                        </a:xfrm>
                        <a:custGeom>
                          <a:avLst/>
                          <a:gdLst/>
                          <a:ahLst/>
                          <a:rect l="0" t="0" r="r" b="b"/>
                          <a:pathLst>
                            <a:path w="98" h="186">
                              <a:moveTo>
                                <a:pt x="98" y="0"/>
                              </a:moveTo>
                              <a:lnTo>
                                <a:pt x="71" y="8"/>
                              </a:lnTo>
                              <a:lnTo>
                                <a:pt x="44" y="13"/>
                              </a:lnTo>
                              <a:lnTo>
                                <a:pt x="17" y="26"/>
                              </a:lnTo>
                              <a:lnTo>
                                <a:pt x="0" y="39"/>
                              </a:lnTo>
                              <a:lnTo>
                                <a:pt x="0" y="66"/>
                              </a:lnTo>
                              <a:lnTo>
                                <a:pt x="4" y="115"/>
                              </a:lnTo>
                              <a:lnTo>
                                <a:pt x="17" y="146"/>
                              </a:lnTo>
                              <a:lnTo>
                                <a:pt x="39" y="186"/>
                              </a:lnTo>
                              <a:lnTo>
                                <a:pt x="35" y="146"/>
                              </a:lnTo>
                              <a:lnTo>
                                <a:pt x="39" y="115"/>
                              </a:lnTo>
                              <a:lnTo>
                                <a:pt x="44" y="106"/>
                              </a:lnTo>
                              <a:lnTo>
                                <a:pt x="62" y="88"/>
                              </a:lnTo>
                              <a:lnTo>
                                <a:pt x="80" y="61"/>
                              </a:lnTo>
                              <a:lnTo>
                                <a:pt x="98" y="35"/>
                              </a:lnTo>
                              <a:lnTo>
                                <a:pt x="98" y="0"/>
                              </a:lnTo>
                              <a:close/>
                            </a:path>
                          </a:pathLst>
                        </a:custGeom>
                        <a:solidFill>
                          <a:srgbClr val="ff8f6a"/>
                        </a:solidFill>
                        <a:ln w="0">
                          <a:noFill/>
                        </a:ln>
                      </p:spPr>
                      <p:txBody>
                        <a:bodyPr lIns="90000" rIns="90000" tIns="21960" bIns="21960" anchor="t">
                          <a:noAutofit/>
                        </a:bodyPr>
                        <a:p>
                          <a:endParaRPr b="0" lang="en-US" sz="1800" spc="-1" strike="noStrike">
                            <a:solidFill>
                              <a:srgbClr val="000000"/>
                            </a:solidFill>
                            <a:latin typeface="Arial"/>
                          </a:endParaRPr>
                        </a:p>
                      </p:txBody>
                    </p:sp>
                  </p:grpSp>
                  <p:grpSp>
                    <p:nvGrpSpPr>
                      <p:cNvPr id="931" name=""/>
                      <p:cNvGrpSpPr/>
                      <p:nvPr/>
                    </p:nvGrpSpPr>
                    <p:grpSpPr>
                      <a:xfrm>
                        <a:off x="1531800" y="1865160"/>
                        <a:ext cx="37080" cy="59400"/>
                        <a:chOff x="1531800" y="1865160"/>
                        <a:chExt cx="37080" cy="59400"/>
                      </a:xfrm>
                    </p:grpSpPr>
                    <p:sp>
                      <p:nvSpPr>
                        <p:cNvPr id="932" name=""/>
                        <p:cNvSpPr/>
                        <p:nvPr/>
                      </p:nvSpPr>
                      <p:spPr>
                        <a:xfrm>
                          <a:off x="1531800" y="1865160"/>
                          <a:ext cx="30240" cy="25560"/>
                        </a:xfrm>
                        <a:prstGeom prst="ellipse">
                          <a:avLst/>
                        </a:prstGeom>
                        <a:solidFill>
                          <a:srgbClr val="ff7f3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933" name=""/>
                        <p:cNvSpPr/>
                        <p:nvPr/>
                      </p:nvSpPr>
                      <p:spPr>
                        <a:xfrm>
                          <a:off x="1538280" y="1879560"/>
                          <a:ext cx="25920" cy="27360"/>
                        </a:xfrm>
                        <a:custGeom>
                          <a:avLst/>
                          <a:gdLst/>
                          <a:ahLst/>
                          <a:rect l="0" t="0" r="r" b="b"/>
                          <a:pathLst>
                            <a:path w="72" h="76">
                              <a:moveTo>
                                <a:pt x="72" y="0"/>
                              </a:moveTo>
                              <a:lnTo>
                                <a:pt x="49" y="23"/>
                              </a:lnTo>
                              <a:lnTo>
                                <a:pt x="40" y="49"/>
                              </a:lnTo>
                              <a:lnTo>
                                <a:pt x="31" y="76"/>
                              </a:lnTo>
                              <a:lnTo>
                                <a:pt x="17" y="45"/>
                              </a:lnTo>
                              <a:lnTo>
                                <a:pt x="0" y="17"/>
                              </a:lnTo>
                              <a:lnTo>
                                <a:pt x="36" y="17"/>
                              </a:lnTo>
                              <a:lnTo>
                                <a:pt x="72" y="0"/>
                              </a:lnTo>
                              <a:close/>
                            </a:path>
                          </a:pathLst>
                        </a:custGeom>
                        <a:solidFill>
                          <a:srgbClr val="ff7f3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934" name=""/>
                        <p:cNvSpPr/>
                        <p:nvPr/>
                      </p:nvSpPr>
                      <p:spPr>
                        <a:xfrm>
                          <a:off x="1542960" y="1889280"/>
                          <a:ext cx="25920" cy="35280"/>
                        </a:xfrm>
                        <a:custGeom>
                          <a:avLst/>
                          <a:gdLst/>
                          <a:ahLst/>
                          <a:rect l="0" t="0" r="r" b="b"/>
                          <a:pathLst>
                            <a:path w="72" h="98">
                              <a:moveTo>
                                <a:pt x="63" y="0"/>
                              </a:moveTo>
                              <a:lnTo>
                                <a:pt x="45" y="39"/>
                              </a:lnTo>
                              <a:lnTo>
                                <a:pt x="8" y="53"/>
                              </a:lnTo>
                              <a:lnTo>
                                <a:pt x="0" y="71"/>
                              </a:lnTo>
                              <a:lnTo>
                                <a:pt x="8" y="98"/>
                              </a:lnTo>
                              <a:lnTo>
                                <a:pt x="45" y="75"/>
                              </a:lnTo>
                              <a:lnTo>
                                <a:pt x="59" y="58"/>
                              </a:lnTo>
                              <a:lnTo>
                                <a:pt x="72" y="30"/>
                              </a:lnTo>
                              <a:lnTo>
                                <a:pt x="63" y="0"/>
                              </a:lnTo>
                              <a:close/>
                            </a:path>
                          </a:pathLst>
                        </a:custGeom>
                        <a:solidFill>
                          <a:srgbClr val="ff7f3f"/>
                        </a:solidFill>
                        <a:ln w="0">
                          <a:noFill/>
                        </a:ln>
                      </p:spPr>
                      <p:txBody>
                        <a:bodyPr lIns="90000" rIns="90000" tIns="-9720" bIns="-9720" anchor="t">
                          <a:noAutofit/>
                        </a:bodyPr>
                        <a:p>
                          <a:endParaRPr b="0" lang="en-US" sz="1800" spc="-1" strike="noStrike">
                            <a:solidFill>
                              <a:srgbClr val="000000"/>
                            </a:solidFill>
                            <a:latin typeface="Arial"/>
                          </a:endParaRPr>
                        </a:p>
                      </p:txBody>
                    </p:sp>
                  </p:grpSp>
                </p:grpSp>
              </p:grpSp>
              <p:sp>
                <p:nvSpPr>
                  <p:cNvPr id="935" name=""/>
                  <p:cNvSpPr/>
                  <p:nvPr/>
                </p:nvSpPr>
                <p:spPr>
                  <a:xfrm>
                    <a:off x="1413000" y="1736640"/>
                    <a:ext cx="84600" cy="25920"/>
                  </a:xfrm>
                  <a:custGeom>
                    <a:avLst/>
                    <a:gdLst/>
                    <a:ahLst/>
                    <a:rect l="0" t="0" r="r" b="b"/>
                    <a:pathLst>
                      <a:path w="235" h="72">
                        <a:moveTo>
                          <a:pt x="222" y="31"/>
                        </a:moveTo>
                        <a:lnTo>
                          <a:pt x="235" y="49"/>
                        </a:lnTo>
                        <a:lnTo>
                          <a:pt x="200" y="31"/>
                        </a:lnTo>
                        <a:lnTo>
                          <a:pt x="133" y="17"/>
                        </a:lnTo>
                        <a:lnTo>
                          <a:pt x="84" y="31"/>
                        </a:lnTo>
                        <a:lnTo>
                          <a:pt x="44" y="49"/>
                        </a:lnTo>
                        <a:lnTo>
                          <a:pt x="0" y="72"/>
                        </a:lnTo>
                        <a:lnTo>
                          <a:pt x="44" y="40"/>
                        </a:lnTo>
                        <a:lnTo>
                          <a:pt x="80" y="17"/>
                        </a:lnTo>
                        <a:lnTo>
                          <a:pt x="124" y="8"/>
                        </a:lnTo>
                        <a:lnTo>
                          <a:pt x="150" y="0"/>
                        </a:lnTo>
                        <a:lnTo>
                          <a:pt x="200" y="13"/>
                        </a:lnTo>
                        <a:lnTo>
                          <a:pt x="222" y="31"/>
                        </a:lnTo>
                        <a:close/>
                      </a:path>
                    </a:pathLst>
                  </a:custGeom>
                  <a:solidFill>
                    <a:srgbClr val="ff9f7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936" name=""/>
                <p:cNvGrpSpPr/>
                <p:nvPr/>
              </p:nvGrpSpPr>
              <p:grpSpPr>
                <a:xfrm>
                  <a:off x="1414440" y="1752480"/>
                  <a:ext cx="158760" cy="222840"/>
                  <a:chOff x="1414440" y="1752480"/>
                  <a:chExt cx="158760" cy="222840"/>
                </a:xfrm>
              </p:grpSpPr>
              <p:grpSp>
                <p:nvGrpSpPr>
                  <p:cNvPr id="937" name=""/>
                  <p:cNvGrpSpPr/>
                  <p:nvPr/>
                </p:nvGrpSpPr>
                <p:grpSpPr>
                  <a:xfrm>
                    <a:off x="1455840" y="1917720"/>
                    <a:ext cx="98640" cy="57600"/>
                    <a:chOff x="1455840" y="1917720"/>
                    <a:chExt cx="98640" cy="57600"/>
                  </a:xfrm>
                </p:grpSpPr>
                <p:sp>
                  <p:nvSpPr>
                    <p:cNvPr id="938" name=""/>
                    <p:cNvSpPr/>
                    <p:nvPr/>
                  </p:nvSpPr>
                  <p:spPr>
                    <a:xfrm>
                      <a:off x="1455840" y="1917720"/>
                      <a:ext cx="98640" cy="57600"/>
                    </a:xfrm>
                    <a:custGeom>
                      <a:avLst/>
                      <a:gdLst/>
                      <a:ahLst/>
                      <a:rect l="0" t="0" r="r" b="b"/>
                      <a:pathLst>
                        <a:path w="274" h="160">
                          <a:moveTo>
                            <a:pt x="274" y="13"/>
                          </a:moveTo>
                          <a:lnTo>
                            <a:pt x="256" y="0"/>
                          </a:lnTo>
                          <a:lnTo>
                            <a:pt x="225" y="0"/>
                          </a:lnTo>
                          <a:lnTo>
                            <a:pt x="181" y="13"/>
                          </a:lnTo>
                          <a:lnTo>
                            <a:pt x="132" y="22"/>
                          </a:lnTo>
                          <a:lnTo>
                            <a:pt x="0" y="39"/>
                          </a:lnTo>
                          <a:lnTo>
                            <a:pt x="79" y="75"/>
                          </a:lnTo>
                          <a:lnTo>
                            <a:pt x="123" y="111"/>
                          </a:lnTo>
                          <a:lnTo>
                            <a:pt x="177" y="138"/>
                          </a:lnTo>
                          <a:lnTo>
                            <a:pt x="212" y="160"/>
                          </a:lnTo>
                          <a:lnTo>
                            <a:pt x="239" y="160"/>
                          </a:lnTo>
                          <a:lnTo>
                            <a:pt x="256" y="147"/>
                          </a:lnTo>
                          <a:lnTo>
                            <a:pt x="261" y="115"/>
                          </a:lnTo>
                          <a:lnTo>
                            <a:pt x="252" y="93"/>
                          </a:lnTo>
                          <a:lnTo>
                            <a:pt x="239" y="71"/>
                          </a:lnTo>
                          <a:lnTo>
                            <a:pt x="256" y="62"/>
                          </a:lnTo>
                          <a:lnTo>
                            <a:pt x="269" y="39"/>
                          </a:lnTo>
                          <a:lnTo>
                            <a:pt x="274" y="13"/>
                          </a:lnTo>
                          <a:close/>
                        </a:path>
                      </a:pathLst>
                    </a:custGeom>
                    <a:solidFill>
                      <a:srgbClr val="ff0000"/>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939" name=""/>
                    <p:cNvSpPr/>
                    <p:nvPr/>
                  </p:nvSpPr>
                  <p:spPr>
                    <a:xfrm>
                      <a:off x="1459080" y="1933560"/>
                      <a:ext cx="89280" cy="25920"/>
                    </a:xfrm>
                    <a:custGeom>
                      <a:avLst/>
                      <a:gdLst/>
                      <a:ahLst/>
                      <a:rect l="0" t="0" r="r" b="b"/>
                      <a:pathLst>
                        <a:path w="248" h="72">
                          <a:moveTo>
                            <a:pt x="244" y="72"/>
                          </a:moveTo>
                          <a:lnTo>
                            <a:pt x="222" y="49"/>
                          </a:lnTo>
                          <a:lnTo>
                            <a:pt x="181" y="36"/>
                          </a:lnTo>
                          <a:lnTo>
                            <a:pt x="133" y="31"/>
                          </a:lnTo>
                          <a:lnTo>
                            <a:pt x="102" y="36"/>
                          </a:lnTo>
                          <a:lnTo>
                            <a:pt x="44" y="31"/>
                          </a:lnTo>
                          <a:lnTo>
                            <a:pt x="0" y="0"/>
                          </a:lnTo>
                          <a:lnTo>
                            <a:pt x="22" y="13"/>
                          </a:lnTo>
                          <a:lnTo>
                            <a:pt x="80" y="13"/>
                          </a:lnTo>
                          <a:lnTo>
                            <a:pt x="115" y="27"/>
                          </a:lnTo>
                          <a:lnTo>
                            <a:pt x="150" y="13"/>
                          </a:lnTo>
                          <a:lnTo>
                            <a:pt x="218" y="31"/>
                          </a:lnTo>
                          <a:lnTo>
                            <a:pt x="248" y="31"/>
                          </a:lnTo>
                          <a:lnTo>
                            <a:pt x="231" y="45"/>
                          </a:lnTo>
                          <a:lnTo>
                            <a:pt x="244" y="72"/>
                          </a:lnTo>
                          <a:close/>
                        </a:path>
                      </a:pathLst>
                    </a:custGeom>
                    <a:solidFill>
                      <a:srgbClr val="8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40" name=""/>
                    <p:cNvSpPr/>
                    <p:nvPr/>
                  </p:nvSpPr>
                  <p:spPr>
                    <a:xfrm>
                      <a:off x="1503360" y="1940040"/>
                      <a:ext cx="38520" cy="25920"/>
                    </a:xfrm>
                    <a:custGeom>
                      <a:avLst/>
                      <a:gdLst/>
                      <a:ahLst/>
                      <a:rect l="0" t="0" r="r" b="b"/>
                      <a:pathLst>
                        <a:path w="107" h="72">
                          <a:moveTo>
                            <a:pt x="94" y="17"/>
                          </a:moveTo>
                          <a:lnTo>
                            <a:pt x="107" y="40"/>
                          </a:lnTo>
                          <a:lnTo>
                            <a:pt x="103" y="68"/>
                          </a:lnTo>
                          <a:lnTo>
                            <a:pt x="90" y="72"/>
                          </a:lnTo>
                          <a:lnTo>
                            <a:pt x="67" y="59"/>
                          </a:lnTo>
                          <a:lnTo>
                            <a:pt x="40" y="17"/>
                          </a:lnTo>
                          <a:lnTo>
                            <a:pt x="0" y="0"/>
                          </a:lnTo>
                          <a:lnTo>
                            <a:pt x="26" y="0"/>
                          </a:lnTo>
                          <a:lnTo>
                            <a:pt x="67" y="4"/>
                          </a:lnTo>
                          <a:lnTo>
                            <a:pt x="94" y="17"/>
                          </a:lnTo>
                          <a:close/>
                        </a:path>
                      </a:pathLst>
                    </a:custGeom>
                    <a:solidFill>
                      <a:srgbClr val="ff1f3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941" name=""/>
                  <p:cNvGrpSpPr/>
                  <p:nvPr/>
                </p:nvGrpSpPr>
                <p:grpSpPr>
                  <a:xfrm>
                    <a:off x="1414440" y="1752480"/>
                    <a:ext cx="158760" cy="45000"/>
                    <a:chOff x="1414440" y="1752480"/>
                    <a:chExt cx="158760" cy="45000"/>
                  </a:xfrm>
                </p:grpSpPr>
                <p:grpSp>
                  <p:nvGrpSpPr>
                    <p:cNvPr id="942" name=""/>
                    <p:cNvGrpSpPr/>
                    <p:nvPr/>
                  </p:nvGrpSpPr>
                  <p:grpSpPr>
                    <a:xfrm>
                      <a:off x="1414440" y="1752480"/>
                      <a:ext cx="87840" cy="45000"/>
                      <a:chOff x="1414440" y="1752480"/>
                      <a:chExt cx="87840" cy="45000"/>
                    </a:xfrm>
                  </p:grpSpPr>
                  <p:sp>
                    <p:nvSpPr>
                      <p:cNvPr id="943" name=""/>
                      <p:cNvSpPr/>
                      <p:nvPr/>
                    </p:nvSpPr>
                    <p:spPr>
                      <a:xfrm>
                        <a:off x="1422360" y="1760400"/>
                        <a:ext cx="65520" cy="25920"/>
                      </a:xfrm>
                      <a:custGeom>
                        <a:avLst/>
                        <a:gdLst/>
                        <a:ahLst/>
                        <a:rect l="0" t="0" r="r" b="b"/>
                        <a:pathLst>
                          <a:path w="182" h="72">
                            <a:moveTo>
                              <a:pt x="143" y="0"/>
                            </a:moveTo>
                            <a:lnTo>
                              <a:pt x="102" y="0"/>
                            </a:lnTo>
                            <a:lnTo>
                              <a:pt x="49" y="8"/>
                            </a:lnTo>
                            <a:lnTo>
                              <a:pt x="0" y="27"/>
                            </a:lnTo>
                            <a:lnTo>
                              <a:pt x="26" y="27"/>
                            </a:lnTo>
                            <a:lnTo>
                              <a:pt x="53" y="45"/>
                            </a:lnTo>
                            <a:lnTo>
                              <a:pt x="93" y="59"/>
                            </a:lnTo>
                            <a:lnTo>
                              <a:pt x="173" y="72"/>
                            </a:lnTo>
                            <a:lnTo>
                              <a:pt x="182" y="45"/>
                            </a:lnTo>
                            <a:lnTo>
                              <a:pt x="182" y="17"/>
                            </a:lnTo>
                            <a:lnTo>
                              <a:pt x="143" y="0"/>
                            </a:lnTo>
                            <a:close/>
                          </a:path>
                        </a:pathLst>
                      </a:custGeom>
                      <a:solidFill>
                        <a:srgbClr val="fffff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944" name=""/>
                      <p:cNvSpPr/>
                      <p:nvPr/>
                    </p:nvSpPr>
                    <p:spPr>
                      <a:xfrm>
                        <a:off x="1455840" y="1765440"/>
                        <a:ext cx="28440" cy="25560"/>
                      </a:xfrm>
                      <a:prstGeom prst="ellipse">
                        <a:avLst/>
                      </a:prstGeom>
                      <a:solidFill>
                        <a:srgbClr val="00008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945" name=""/>
                      <p:cNvGrpSpPr/>
                      <p:nvPr/>
                    </p:nvGrpSpPr>
                    <p:grpSpPr>
                      <a:xfrm>
                        <a:off x="1442880" y="1757520"/>
                        <a:ext cx="44280" cy="28440"/>
                        <a:chOff x="1442880" y="1757520"/>
                        <a:chExt cx="44280" cy="28440"/>
                      </a:xfrm>
                    </p:grpSpPr>
                    <p:sp>
                      <p:nvSpPr>
                        <p:cNvPr id="946" name=""/>
                        <p:cNvSpPr/>
                        <p:nvPr/>
                      </p:nvSpPr>
                      <p:spPr>
                        <a:xfrm>
                          <a:off x="1442880" y="1757520"/>
                          <a:ext cx="44280" cy="27000"/>
                        </a:xfrm>
                        <a:prstGeom prst="ellipse">
                          <a:avLst/>
                        </a:prstGeom>
                        <a:solidFill>
                          <a:srgbClr val="001f9f"/>
                        </a:solidFill>
                        <a:ln w="0">
                          <a:noFill/>
                        </a:ln>
                      </p:spPr>
                      <p:txBody>
                        <a:bodyPr lIns="90000" rIns="90000" tIns="-18000" bIns="-18000" anchor="t">
                          <a:noAutofit/>
                        </a:bodyPr>
                        <a:p>
                          <a:endParaRPr b="0" lang="en-US" sz="1800" spc="-1" strike="noStrike">
                            <a:solidFill>
                              <a:srgbClr val="ffffff"/>
                            </a:solidFill>
                            <a:latin typeface="Arial"/>
                          </a:endParaRPr>
                        </a:p>
                      </p:txBody>
                    </p:sp>
                    <p:sp>
                      <p:nvSpPr>
                        <p:cNvPr id="947" name=""/>
                        <p:cNvSpPr/>
                        <p:nvPr/>
                      </p:nvSpPr>
                      <p:spPr>
                        <a:xfrm>
                          <a:off x="1457280" y="1760400"/>
                          <a:ext cx="27000" cy="25560"/>
                        </a:xfrm>
                        <a:prstGeom prst="ellipse">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sp>
                    <p:nvSpPr>
                      <p:cNvPr id="948" name=""/>
                      <p:cNvSpPr/>
                      <p:nvPr/>
                    </p:nvSpPr>
                    <p:spPr>
                      <a:xfrm>
                        <a:off x="1465200" y="176220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grpSp>
                    <p:nvGrpSpPr>
                      <p:cNvPr id="949" name=""/>
                      <p:cNvGrpSpPr/>
                      <p:nvPr/>
                    </p:nvGrpSpPr>
                    <p:grpSpPr>
                      <a:xfrm>
                        <a:off x="1414440" y="1752480"/>
                        <a:ext cx="87840" cy="45000"/>
                        <a:chOff x="1414440" y="1752480"/>
                        <a:chExt cx="87840" cy="45000"/>
                      </a:xfrm>
                    </p:grpSpPr>
                    <p:sp>
                      <p:nvSpPr>
                        <p:cNvPr id="950" name=""/>
                        <p:cNvSpPr/>
                        <p:nvPr/>
                      </p:nvSpPr>
                      <p:spPr>
                        <a:xfrm>
                          <a:off x="1414440" y="1752480"/>
                          <a:ext cx="87840" cy="25920"/>
                        </a:xfrm>
                        <a:custGeom>
                          <a:avLst/>
                          <a:gdLst/>
                          <a:ahLst/>
                          <a:rect l="0" t="0" r="r" b="b"/>
                          <a:pathLst>
                            <a:path w="244" h="72">
                              <a:moveTo>
                                <a:pt x="244" y="27"/>
                              </a:moveTo>
                              <a:lnTo>
                                <a:pt x="213" y="49"/>
                              </a:lnTo>
                              <a:lnTo>
                                <a:pt x="196" y="45"/>
                              </a:lnTo>
                              <a:lnTo>
                                <a:pt x="155" y="31"/>
                              </a:lnTo>
                              <a:lnTo>
                                <a:pt x="133" y="23"/>
                              </a:lnTo>
                              <a:lnTo>
                                <a:pt x="120" y="31"/>
                              </a:lnTo>
                              <a:lnTo>
                                <a:pt x="89" y="31"/>
                              </a:lnTo>
                              <a:lnTo>
                                <a:pt x="67" y="45"/>
                              </a:lnTo>
                              <a:lnTo>
                                <a:pt x="48" y="49"/>
                              </a:lnTo>
                              <a:lnTo>
                                <a:pt x="22" y="63"/>
                              </a:lnTo>
                              <a:lnTo>
                                <a:pt x="0" y="72"/>
                              </a:lnTo>
                              <a:lnTo>
                                <a:pt x="22" y="49"/>
                              </a:lnTo>
                              <a:lnTo>
                                <a:pt x="52" y="40"/>
                              </a:lnTo>
                              <a:lnTo>
                                <a:pt x="80" y="23"/>
                              </a:lnTo>
                              <a:lnTo>
                                <a:pt x="106" y="13"/>
                              </a:lnTo>
                              <a:lnTo>
                                <a:pt x="142" y="0"/>
                              </a:lnTo>
                              <a:lnTo>
                                <a:pt x="164" y="13"/>
                              </a:lnTo>
                              <a:lnTo>
                                <a:pt x="213" y="31"/>
                              </a:lnTo>
                              <a:lnTo>
                                <a:pt x="244" y="27"/>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951" name=""/>
                        <p:cNvSpPr/>
                        <p:nvPr/>
                      </p:nvSpPr>
                      <p:spPr>
                        <a:xfrm>
                          <a:off x="1428840" y="1771560"/>
                          <a:ext cx="62280" cy="25920"/>
                        </a:xfrm>
                        <a:custGeom>
                          <a:avLst/>
                          <a:gdLst/>
                          <a:ahLst/>
                          <a:rect l="0" t="0" r="r" b="b"/>
                          <a:pathLst>
                            <a:path w="173" h="72">
                              <a:moveTo>
                                <a:pt x="165" y="23"/>
                              </a:moveTo>
                              <a:lnTo>
                                <a:pt x="128" y="31"/>
                              </a:lnTo>
                              <a:lnTo>
                                <a:pt x="111" y="40"/>
                              </a:lnTo>
                              <a:lnTo>
                                <a:pt x="75" y="27"/>
                              </a:lnTo>
                              <a:lnTo>
                                <a:pt x="53" y="23"/>
                              </a:lnTo>
                              <a:lnTo>
                                <a:pt x="30" y="4"/>
                              </a:lnTo>
                              <a:lnTo>
                                <a:pt x="8" y="0"/>
                              </a:lnTo>
                              <a:lnTo>
                                <a:pt x="0" y="0"/>
                              </a:lnTo>
                              <a:lnTo>
                                <a:pt x="30" y="23"/>
                              </a:lnTo>
                              <a:lnTo>
                                <a:pt x="49" y="27"/>
                              </a:lnTo>
                              <a:lnTo>
                                <a:pt x="67" y="40"/>
                              </a:lnTo>
                              <a:lnTo>
                                <a:pt x="89" y="53"/>
                              </a:lnTo>
                              <a:lnTo>
                                <a:pt x="106" y="53"/>
                              </a:lnTo>
                              <a:lnTo>
                                <a:pt x="124" y="59"/>
                              </a:lnTo>
                              <a:lnTo>
                                <a:pt x="173" y="72"/>
                              </a:lnTo>
                              <a:lnTo>
                                <a:pt x="156" y="49"/>
                              </a:lnTo>
                              <a:lnTo>
                                <a:pt x="165" y="23"/>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grpSp>
                </p:grpSp>
                <p:grpSp>
                  <p:nvGrpSpPr>
                    <p:cNvPr id="952" name=""/>
                    <p:cNvGrpSpPr/>
                    <p:nvPr/>
                  </p:nvGrpSpPr>
                  <p:grpSpPr>
                    <a:xfrm>
                      <a:off x="1530360" y="1766880"/>
                      <a:ext cx="42840" cy="30240"/>
                      <a:chOff x="1530360" y="1766880"/>
                      <a:chExt cx="42840" cy="30240"/>
                    </a:xfrm>
                  </p:grpSpPr>
                  <p:sp>
                    <p:nvSpPr>
                      <p:cNvPr id="953" name=""/>
                      <p:cNvSpPr/>
                      <p:nvPr/>
                    </p:nvSpPr>
                    <p:spPr>
                      <a:xfrm>
                        <a:off x="1546200" y="1768320"/>
                        <a:ext cx="25560" cy="25560"/>
                      </a:xfrm>
                      <a:prstGeom prst="ellipse">
                        <a:avLst/>
                      </a:prstGeom>
                      <a:solidFill>
                        <a:srgbClr val="00008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954" name=""/>
                      <p:cNvGrpSpPr/>
                      <p:nvPr/>
                    </p:nvGrpSpPr>
                    <p:grpSpPr>
                      <a:xfrm>
                        <a:off x="1536840" y="1768320"/>
                        <a:ext cx="34920" cy="28800"/>
                        <a:chOff x="1536840" y="1768320"/>
                        <a:chExt cx="34920" cy="28800"/>
                      </a:xfrm>
                    </p:grpSpPr>
                    <p:sp>
                      <p:nvSpPr>
                        <p:cNvPr id="955" name=""/>
                        <p:cNvSpPr/>
                        <p:nvPr/>
                      </p:nvSpPr>
                      <p:spPr>
                        <a:xfrm>
                          <a:off x="1536840" y="1768320"/>
                          <a:ext cx="25920" cy="25920"/>
                        </a:xfrm>
                        <a:custGeom>
                          <a:avLst/>
                          <a:gdLst/>
                          <a:ahLst/>
                          <a:rect l="0" t="0" r="r" b="b"/>
                          <a:pathLst>
                            <a:path w="72" h="72">
                              <a:moveTo>
                                <a:pt x="68" y="8"/>
                              </a:moveTo>
                              <a:lnTo>
                                <a:pt x="72" y="4"/>
                              </a:lnTo>
                              <a:lnTo>
                                <a:pt x="40" y="0"/>
                              </a:lnTo>
                              <a:lnTo>
                                <a:pt x="17" y="4"/>
                              </a:lnTo>
                              <a:lnTo>
                                <a:pt x="0" y="27"/>
                              </a:lnTo>
                              <a:lnTo>
                                <a:pt x="17" y="53"/>
                              </a:lnTo>
                              <a:lnTo>
                                <a:pt x="40" y="72"/>
                              </a:lnTo>
                              <a:lnTo>
                                <a:pt x="49" y="53"/>
                              </a:lnTo>
                              <a:lnTo>
                                <a:pt x="68" y="31"/>
                              </a:lnTo>
                              <a:lnTo>
                                <a:pt x="68" y="8"/>
                              </a:lnTo>
                              <a:close/>
                            </a:path>
                          </a:pathLst>
                        </a:custGeom>
                        <a:solidFill>
                          <a:srgbClr val="001f9f"/>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56" name=""/>
                        <p:cNvSpPr/>
                        <p:nvPr/>
                      </p:nvSpPr>
                      <p:spPr>
                        <a:xfrm>
                          <a:off x="1546200" y="1771560"/>
                          <a:ext cx="25560" cy="25560"/>
                        </a:xfrm>
                        <a:prstGeom prst="ellipse">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sp>
                    <p:nvSpPr>
                      <p:cNvPr id="957" name=""/>
                      <p:cNvSpPr/>
                      <p:nvPr/>
                    </p:nvSpPr>
                    <p:spPr>
                      <a:xfrm>
                        <a:off x="1547640" y="177156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grpSp>
                    <p:nvGrpSpPr>
                      <p:cNvPr id="958" name=""/>
                      <p:cNvGrpSpPr/>
                      <p:nvPr/>
                    </p:nvGrpSpPr>
                    <p:grpSpPr>
                      <a:xfrm>
                        <a:off x="1530360" y="1766880"/>
                        <a:ext cx="41760" cy="28800"/>
                        <a:chOff x="1530360" y="1766880"/>
                        <a:chExt cx="41760" cy="28800"/>
                      </a:xfrm>
                    </p:grpSpPr>
                    <p:sp>
                      <p:nvSpPr>
                        <p:cNvPr id="959" name=""/>
                        <p:cNvSpPr/>
                        <p:nvPr/>
                      </p:nvSpPr>
                      <p:spPr>
                        <a:xfrm>
                          <a:off x="1530360" y="1768320"/>
                          <a:ext cx="25920" cy="27360"/>
                        </a:xfrm>
                        <a:custGeom>
                          <a:avLst/>
                          <a:gdLst/>
                          <a:ahLst/>
                          <a:rect l="0" t="0" r="r" b="b"/>
                          <a:pathLst>
                            <a:path w="72" h="76">
                              <a:moveTo>
                                <a:pt x="72" y="76"/>
                              </a:moveTo>
                              <a:lnTo>
                                <a:pt x="59" y="63"/>
                              </a:lnTo>
                              <a:lnTo>
                                <a:pt x="27" y="49"/>
                              </a:lnTo>
                              <a:lnTo>
                                <a:pt x="8" y="27"/>
                              </a:lnTo>
                              <a:lnTo>
                                <a:pt x="0" y="0"/>
                              </a:lnTo>
                              <a:lnTo>
                                <a:pt x="0" y="27"/>
                              </a:lnTo>
                              <a:lnTo>
                                <a:pt x="23" y="49"/>
                              </a:lnTo>
                              <a:lnTo>
                                <a:pt x="72" y="76"/>
                              </a:lnTo>
                              <a:close/>
                            </a:path>
                          </a:pathLst>
                        </a:custGeom>
                        <a:solidFill>
                          <a:srgbClr val="5f3f1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960" name=""/>
                        <p:cNvSpPr/>
                        <p:nvPr/>
                      </p:nvSpPr>
                      <p:spPr>
                        <a:xfrm>
                          <a:off x="1536840" y="1766880"/>
                          <a:ext cx="35280" cy="25920"/>
                        </a:xfrm>
                        <a:custGeom>
                          <a:avLst/>
                          <a:gdLst/>
                          <a:ahLst/>
                          <a:rect l="0" t="0" r="r" b="b"/>
                          <a:pathLst>
                            <a:path w="98" h="72">
                              <a:moveTo>
                                <a:pt x="0" y="13"/>
                              </a:moveTo>
                              <a:lnTo>
                                <a:pt x="26" y="0"/>
                              </a:lnTo>
                              <a:lnTo>
                                <a:pt x="53" y="0"/>
                              </a:lnTo>
                              <a:lnTo>
                                <a:pt x="80" y="13"/>
                              </a:lnTo>
                              <a:lnTo>
                                <a:pt x="98" y="36"/>
                              </a:lnTo>
                              <a:lnTo>
                                <a:pt x="75" y="72"/>
                              </a:lnTo>
                              <a:lnTo>
                                <a:pt x="53" y="36"/>
                              </a:lnTo>
                              <a:lnTo>
                                <a:pt x="26" y="13"/>
                              </a:lnTo>
                              <a:lnTo>
                                <a:pt x="0" y="13"/>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grpSp>
                </p:grpSp>
              </p:grpSp>
            </p:grpSp>
            <p:grpSp>
              <p:nvGrpSpPr>
                <p:cNvPr id="961" name=""/>
                <p:cNvGrpSpPr/>
                <p:nvPr/>
              </p:nvGrpSpPr>
              <p:grpSpPr>
                <a:xfrm>
                  <a:off x="942840" y="1446120"/>
                  <a:ext cx="684720" cy="692640"/>
                  <a:chOff x="942840" y="1446120"/>
                  <a:chExt cx="684720" cy="692640"/>
                </a:xfrm>
              </p:grpSpPr>
              <p:sp>
                <p:nvSpPr>
                  <p:cNvPr id="962" name=""/>
                  <p:cNvSpPr/>
                  <p:nvPr/>
                </p:nvSpPr>
                <p:spPr>
                  <a:xfrm>
                    <a:off x="1389240" y="1714680"/>
                    <a:ext cx="128880" cy="35280"/>
                  </a:xfrm>
                  <a:custGeom>
                    <a:avLst/>
                    <a:gdLst/>
                    <a:ahLst/>
                    <a:rect l="0" t="0" r="r" b="b"/>
                    <a:pathLst>
                      <a:path w="358" h="98">
                        <a:moveTo>
                          <a:pt x="358" y="98"/>
                        </a:moveTo>
                        <a:lnTo>
                          <a:pt x="349" y="53"/>
                        </a:lnTo>
                        <a:lnTo>
                          <a:pt x="340" y="30"/>
                        </a:lnTo>
                        <a:lnTo>
                          <a:pt x="318" y="13"/>
                        </a:lnTo>
                        <a:lnTo>
                          <a:pt x="274" y="4"/>
                        </a:lnTo>
                        <a:lnTo>
                          <a:pt x="199" y="0"/>
                        </a:lnTo>
                        <a:lnTo>
                          <a:pt x="127" y="8"/>
                        </a:lnTo>
                        <a:lnTo>
                          <a:pt x="74" y="35"/>
                        </a:lnTo>
                        <a:lnTo>
                          <a:pt x="44" y="53"/>
                        </a:lnTo>
                        <a:lnTo>
                          <a:pt x="0" y="71"/>
                        </a:lnTo>
                        <a:lnTo>
                          <a:pt x="30" y="71"/>
                        </a:lnTo>
                        <a:lnTo>
                          <a:pt x="52" y="80"/>
                        </a:lnTo>
                        <a:lnTo>
                          <a:pt x="92" y="62"/>
                        </a:lnTo>
                        <a:lnTo>
                          <a:pt x="136" y="53"/>
                        </a:lnTo>
                        <a:lnTo>
                          <a:pt x="203" y="44"/>
                        </a:lnTo>
                        <a:lnTo>
                          <a:pt x="287" y="53"/>
                        </a:lnTo>
                        <a:lnTo>
                          <a:pt x="318" y="71"/>
                        </a:lnTo>
                        <a:lnTo>
                          <a:pt x="336" y="98"/>
                        </a:lnTo>
                        <a:lnTo>
                          <a:pt x="358" y="98"/>
                        </a:lnTo>
                        <a:close/>
                      </a:path>
                    </a:pathLst>
                  </a:custGeom>
                  <a:solidFill>
                    <a:srgbClr val="5f3f1f"/>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963" name=""/>
                  <p:cNvSpPr/>
                  <p:nvPr/>
                </p:nvSpPr>
                <p:spPr>
                  <a:xfrm>
                    <a:off x="1539720" y="1733400"/>
                    <a:ext cx="39960" cy="27360"/>
                  </a:xfrm>
                  <a:custGeom>
                    <a:avLst/>
                    <a:gdLst/>
                    <a:ahLst/>
                    <a:rect l="0" t="0" r="r" b="b"/>
                    <a:pathLst>
                      <a:path w="111" h="76">
                        <a:moveTo>
                          <a:pt x="111" y="0"/>
                        </a:moveTo>
                        <a:lnTo>
                          <a:pt x="80" y="0"/>
                        </a:lnTo>
                        <a:lnTo>
                          <a:pt x="48" y="17"/>
                        </a:lnTo>
                        <a:lnTo>
                          <a:pt x="26" y="31"/>
                        </a:lnTo>
                        <a:lnTo>
                          <a:pt x="0" y="76"/>
                        </a:lnTo>
                        <a:lnTo>
                          <a:pt x="44" y="49"/>
                        </a:lnTo>
                        <a:lnTo>
                          <a:pt x="75" y="45"/>
                        </a:lnTo>
                        <a:lnTo>
                          <a:pt x="102" y="40"/>
                        </a:lnTo>
                        <a:lnTo>
                          <a:pt x="111" y="0"/>
                        </a:lnTo>
                        <a:close/>
                      </a:path>
                    </a:pathLst>
                  </a:custGeom>
                  <a:solidFill>
                    <a:srgbClr val="5f3f1f"/>
                  </a:solidFill>
                  <a:ln w="0">
                    <a:noFill/>
                  </a:ln>
                </p:spPr>
                <p:txBody>
                  <a:bodyPr lIns="90000" rIns="90000" tIns="-17640" bIns="-17640" anchor="t">
                    <a:noAutofit/>
                  </a:bodyPr>
                  <a:p>
                    <a:endParaRPr b="0" lang="en-US" sz="1800" spc="-1" strike="noStrike">
                      <a:solidFill>
                        <a:srgbClr val="000000"/>
                      </a:solidFill>
                      <a:latin typeface="Arial"/>
                    </a:endParaRPr>
                  </a:p>
                </p:txBody>
              </p:sp>
              <p:grpSp>
                <p:nvGrpSpPr>
                  <p:cNvPr id="964" name=""/>
                  <p:cNvGrpSpPr/>
                  <p:nvPr/>
                </p:nvGrpSpPr>
                <p:grpSpPr>
                  <a:xfrm>
                    <a:off x="942840" y="1446120"/>
                    <a:ext cx="684720" cy="692640"/>
                    <a:chOff x="942840" y="1446120"/>
                    <a:chExt cx="684720" cy="692640"/>
                  </a:xfrm>
                </p:grpSpPr>
                <p:sp>
                  <p:nvSpPr>
                    <p:cNvPr id="965" name=""/>
                    <p:cNvSpPr/>
                    <p:nvPr/>
                  </p:nvSpPr>
                  <p:spPr>
                    <a:xfrm>
                      <a:off x="942840" y="1446120"/>
                      <a:ext cx="684720" cy="692640"/>
                    </a:xfrm>
                    <a:custGeom>
                      <a:avLst/>
                      <a:gdLst/>
                      <a:ahLst/>
                      <a:rect l="0" t="0" r="r" b="b"/>
                      <a:pathLst>
                        <a:path w="1902" h="1924">
                          <a:moveTo>
                            <a:pt x="1779" y="583"/>
                          </a:moveTo>
                          <a:lnTo>
                            <a:pt x="1796" y="653"/>
                          </a:lnTo>
                          <a:lnTo>
                            <a:pt x="1801" y="702"/>
                          </a:lnTo>
                          <a:lnTo>
                            <a:pt x="1796" y="746"/>
                          </a:lnTo>
                          <a:lnTo>
                            <a:pt x="1787" y="781"/>
                          </a:lnTo>
                          <a:lnTo>
                            <a:pt x="1832" y="750"/>
                          </a:lnTo>
                          <a:lnTo>
                            <a:pt x="1871" y="702"/>
                          </a:lnTo>
                          <a:lnTo>
                            <a:pt x="1893" y="662"/>
                          </a:lnTo>
                          <a:lnTo>
                            <a:pt x="1902" y="583"/>
                          </a:lnTo>
                          <a:lnTo>
                            <a:pt x="1880" y="494"/>
                          </a:lnTo>
                          <a:lnTo>
                            <a:pt x="1845" y="427"/>
                          </a:lnTo>
                          <a:lnTo>
                            <a:pt x="1796" y="357"/>
                          </a:lnTo>
                          <a:lnTo>
                            <a:pt x="1735" y="286"/>
                          </a:lnTo>
                          <a:lnTo>
                            <a:pt x="1664" y="224"/>
                          </a:lnTo>
                          <a:lnTo>
                            <a:pt x="1598" y="180"/>
                          </a:lnTo>
                          <a:lnTo>
                            <a:pt x="1532" y="145"/>
                          </a:lnTo>
                          <a:lnTo>
                            <a:pt x="1430" y="101"/>
                          </a:lnTo>
                          <a:lnTo>
                            <a:pt x="1359" y="74"/>
                          </a:lnTo>
                          <a:lnTo>
                            <a:pt x="1332" y="35"/>
                          </a:lnTo>
                          <a:lnTo>
                            <a:pt x="1306" y="22"/>
                          </a:lnTo>
                          <a:lnTo>
                            <a:pt x="1262" y="4"/>
                          </a:lnTo>
                          <a:lnTo>
                            <a:pt x="1213" y="4"/>
                          </a:lnTo>
                          <a:lnTo>
                            <a:pt x="1134" y="22"/>
                          </a:lnTo>
                          <a:lnTo>
                            <a:pt x="1068" y="4"/>
                          </a:lnTo>
                          <a:lnTo>
                            <a:pt x="1024" y="0"/>
                          </a:lnTo>
                          <a:lnTo>
                            <a:pt x="984" y="4"/>
                          </a:lnTo>
                          <a:lnTo>
                            <a:pt x="927" y="8"/>
                          </a:lnTo>
                          <a:lnTo>
                            <a:pt x="882" y="44"/>
                          </a:lnTo>
                          <a:lnTo>
                            <a:pt x="825" y="26"/>
                          </a:lnTo>
                          <a:lnTo>
                            <a:pt x="768" y="22"/>
                          </a:lnTo>
                          <a:lnTo>
                            <a:pt x="710" y="44"/>
                          </a:lnTo>
                          <a:lnTo>
                            <a:pt x="622" y="83"/>
                          </a:lnTo>
                          <a:lnTo>
                            <a:pt x="565" y="141"/>
                          </a:lnTo>
                          <a:lnTo>
                            <a:pt x="503" y="211"/>
                          </a:lnTo>
                          <a:lnTo>
                            <a:pt x="449" y="273"/>
                          </a:lnTo>
                          <a:lnTo>
                            <a:pt x="396" y="326"/>
                          </a:lnTo>
                          <a:lnTo>
                            <a:pt x="357" y="396"/>
                          </a:lnTo>
                          <a:lnTo>
                            <a:pt x="326" y="480"/>
                          </a:lnTo>
                          <a:lnTo>
                            <a:pt x="277" y="587"/>
                          </a:lnTo>
                          <a:lnTo>
                            <a:pt x="229" y="733"/>
                          </a:lnTo>
                          <a:lnTo>
                            <a:pt x="180" y="887"/>
                          </a:lnTo>
                          <a:lnTo>
                            <a:pt x="145" y="1059"/>
                          </a:lnTo>
                          <a:lnTo>
                            <a:pt x="114" y="1165"/>
                          </a:lnTo>
                          <a:lnTo>
                            <a:pt x="97" y="1288"/>
                          </a:lnTo>
                          <a:lnTo>
                            <a:pt x="61" y="1425"/>
                          </a:lnTo>
                          <a:lnTo>
                            <a:pt x="26" y="1554"/>
                          </a:lnTo>
                          <a:lnTo>
                            <a:pt x="8" y="1624"/>
                          </a:lnTo>
                          <a:lnTo>
                            <a:pt x="0" y="1704"/>
                          </a:lnTo>
                          <a:lnTo>
                            <a:pt x="8" y="1770"/>
                          </a:lnTo>
                          <a:lnTo>
                            <a:pt x="26" y="1818"/>
                          </a:lnTo>
                          <a:lnTo>
                            <a:pt x="35" y="1809"/>
                          </a:lnTo>
                          <a:lnTo>
                            <a:pt x="61" y="1858"/>
                          </a:lnTo>
                          <a:lnTo>
                            <a:pt x="88" y="1889"/>
                          </a:lnTo>
                          <a:lnTo>
                            <a:pt x="127" y="1902"/>
                          </a:lnTo>
                          <a:lnTo>
                            <a:pt x="145" y="1889"/>
                          </a:lnTo>
                          <a:lnTo>
                            <a:pt x="154" y="1911"/>
                          </a:lnTo>
                          <a:lnTo>
                            <a:pt x="171" y="1924"/>
                          </a:lnTo>
                          <a:lnTo>
                            <a:pt x="207" y="1911"/>
                          </a:lnTo>
                          <a:lnTo>
                            <a:pt x="242" y="1889"/>
                          </a:lnTo>
                          <a:lnTo>
                            <a:pt x="277" y="1867"/>
                          </a:lnTo>
                          <a:lnTo>
                            <a:pt x="304" y="1858"/>
                          </a:lnTo>
                          <a:lnTo>
                            <a:pt x="366" y="1876"/>
                          </a:lnTo>
                          <a:lnTo>
                            <a:pt x="423" y="1880"/>
                          </a:lnTo>
                          <a:lnTo>
                            <a:pt x="467" y="1867"/>
                          </a:lnTo>
                          <a:lnTo>
                            <a:pt x="454" y="1854"/>
                          </a:lnTo>
                          <a:lnTo>
                            <a:pt x="516" y="1880"/>
                          </a:lnTo>
                          <a:lnTo>
                            <a:pt x="574" y="1889"/>
                          </a:lnTo>
                          <a:lnTo>
                            <a:pt x="640" y="1880"/>
                          </a:lnTo>
                          <a:lnTo>
                            <a:pt x="693" y="1854"/>
                          </a:lnTo>
                          <a:lnTo>
                            <a:pt x="746" y="1814"/>
                          </a:lnTo>
                          <a:lnTo>
                            <a:pt x="763" y="1770"/>
                          </a:lnTo>
                          <a:lnTo>
                            <a:pt x="768" y="1717"/>
                          </a:lnTo>
                          <a:lnTo>
                            <a:pt x="816" y="1735"/>
                          </a:lnTo>
                          <a:lnTo>
                            <a:pt x="777" y="1686"/>
                          </a:lnTo>
                          <a:lnTo>
                            <a:pt x="750" y="1633"/>
                          </a:lnTo>
                          <a:lnTo>
                            <a:pt x="710" y="1523"/>
                          </a:lnTo>
                          <a:lnTo>
                            <a:pt x="671" y="1416"/>
                          </a:lnTo>
                          <a:lnTo>
                            <a:pt x="644" y="1284"/>
                          </a:lnTo>
                          <a:lnTo>
                            <a:pt x="618" y="1138"/>
                          </a:lnTo>
                          <a:lnTo>
                            <a:pt x="596" y="843"/>
                          </a:lnTo>
                          <a:lnTo>
                            <a:pt x="719" y="843"/>
                          </a:lnTo>
                          <a:lnTo>
                            <a:pt x="759" y="887"/>
                          </a:lnTo>
                          <a:lnTo>
                            <a:pt x="777" y="935"/>
                          </a:lnTo>
                          <a:lnTo>
                            <a:pt x="825" y="957"/>
                          </a:lnTo>
                          <a:lnTo>
                            <a:pt x="869" y="966"/>
                          </a:lnTo>
                          <a:lnTo>
                            <a:pt x="896" y="944"/>
                          </a:lnTo>
                          <a:lnTo>
                            <a:pt x="944" y="900"/>
                          </a:lnTo>
                          <a:lnTo>
                            <a:pt x="975" y="838"/>
                          </a:lnTo>
                          <a:lnTo>
                            <a:pt x="1010" y="772"/>
                          </a:lnTo>
                          <a:lnTo>
                            <a:pt x="1059" y="702"/>
                          </a:lnTo>
                          <a:lnTo>
                            <a:pt x="1112" y="680"/>
                          </a:lnTo>
                          <a:lnTo>
                            <a:pt x="1134" y="662"/>
                          </a:lnTo>
                          <a:lnTo>
                            <a:pt x="1129" y="631"/>
                          </a:lnTo>
                          <a:lnTo>
                            <a:pt x="1121" y="600"/>
                          </a:lnTo>
                          <a:lnTo>
                            <a:pt x="1143" y="543"/>
                          </a:lnTo>
                          <a:lnTo>
                            <a:pt x="1178" y="490"/>
                          </a:lnTo>
                          <a:lnTo>
                            <a:pt x="1213" y="454"/>
                          </a:lnTo>
                          <a:lnTo>
                            <a:pt x="1262" y="414"/>
                          </a:lnTo>
                          <a:lnTo>
                            <a:pt x="1337" y="374"/>
                          </a:lnTo>
                          <a:lnTo>
                            <a:pt x="1407" y="366"/>
                          </a:lnTo>
                          <a:lnTo>
                            <a:pt x="1466" y="374"/>
                          </a:lnTo>
                          <a:lnTo>
                            <a:pt x="1567" y="396"/>
                          </a:lnTo>
                          <a:lnTo>
                            <a:pt x="1611" y="432"/>
                          </a:lnTo>
                          <a:lnTo>
                            <a:pt x="1664" y="490"/>
                          </a:lnTo>
                          <a:lnTo>
                            <a:pt x="1699" y="556"/>
                          </a:lnTo>
                          <a:lnTo>
                            <a:pt x="1721" y="613"/>
                          </a:lnTo>
                          <a:lnTo>
                            <a:pt x="1739" y="680"/>
                          </a:lnTo>
                          <a:lnTo>
                            <a:pt x="1735" y="759"/>
                          </a:lnTo>
                          <a:lnTo>
                            <a:pt x="1761" y="728"/>
                          </a:lnTo>
                          <a:lnTo>
                            <a:pt x="1774" y="693"/>
                          </a:lnTo>
                          <a:lnTo>
                            <a:pt x="1783" y="649"/>
                          </a:lnTo>
                          <a:lnTo>
                            <a:pt x="1779" y="583"/>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66" name=""/>
                    <p:cNvGrpSpPr/>
                    <p:nvPr/>
                  </p:nvGrpSpPr>
                  <p:grpSpPr>
                    <a:xfrm>
                      <a:off x="955800" y="1484280"/>
                      <a:ext cx="544680" cy="605520"/>
                      <a:chOff x="955800" y="1484280"/>
                      <a:chExt cx="544680" cy="605520"/>
                    </a:xfrm>
                  </p:grpSpPr>
                  <p:sp>
                    <p:nvSpPr>
                      <p:cNvPr id="967" name=""/>
                      <p:cNvSpPr/>
                      <p:nvPr/>
                    </p:nvSpPr>
                    <p:spPr>
                      <a:xfrm>
                        <a:off x="1114560" y="1827360"/>
                        <a:ext cx="68760" cy="241560"/>
                      </a:xfrm>
                      <a:custGeom>
                        <a:avLst/>
                        <a:gdLst/>
                        <a:ahLst/>
                        <a:rect l="0" t="0" r="r" b="b"/>
                        <a:pathLst>
                          <a:path w="191" h="671">
                            <a:moveTo>
                              <a:pt x="111" y="35"/>
                            </a:moveTo>
                            <a:lnTo>
                              <a:pt x="115" y="141"/>
                            </a:lnTo>
                            <a:lnTo>
                              <a:pt x="124" y="264"/>
                            </a:lnTo>
                            <a:lnTo>
                              <a:pt x="147" y="367"/>
                            </a:lnTo>
                            <a:lnTo>
                              <a:pt x="191" y="543"/>
                            </a:lnTo>
                            <a:lnTo>
                              <a:pt x="142" y="477"/>
                            </a:lnTo>
                            <a:lnTo>
                              <a:pt x="115" y="397"/>
                            </a:lnTo>
                            <a:lnTo>
                              <a:pt x="98" y="344"/>
                            </a:lnTo>
                            <a:lnTo>
                              <a:pt x="71" y="264"/>
                            </a:lnTo>
                            <a:lnTo>
                              <a:pt x="53" y="384"/>
                            </a:lnTo>
                            <a:lnTo>
                              <a:pt x="53" y="490"/>
                            </a:lnTo>
                            <a:lnTo>
                              <a:pt x="62" y="565"/>
                            </a:lnTo>
                            <a:lnTo>
                              <a:pt x="26" y="671"/>
                            </a:lnTo>
                            <a:lnTo>
                              <a:pt x="13" y="389"/>
                            </a:lnTo>
                            <a:lnTo>
                              <a:pt x="0" y="242"/>
                            </a:lnTo>
                            <a:lnTo>
                              <a:pt x="4" y="101"/>
                            </a:lnTo>
                            <a:lnTo>
                              <a:pt x="17" y="0"/>
                            </a:lnTo>
                            <a:lnTo>
                              <a:pt x="49" y="83"/>
                            </a:lnTo>
                            <a:lnTo>
                              <a:pt x="71" y="163"/>
                            </a:lnTo>
                            <a:lnTo>
                              <a:pt x="89" y="97"/>
                            </a:lnTo>
                            <a:lnTo>
                              <a:pt x="111" y="35"/>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8" name=""/>
                      <p:cNvSpPr/>
                      <p:nvPr/>
                    </p:nvSpPr>
                    <p:spPr>
                      <a:xfrm>
                        <a:off x="955800" y="1676520"/>
                        <a:ext cx="181440" cy="413280"/>
                      </a:xfrm>
                      <a:custGeom>
                        <a:avLst/>
                        <a:gdLst/>
                        <a:ahLst/>
                        <a:rect l="0" t="0" r="r" b="b"/>
                        <a:pathLst>
                          <a:path w="504" h="1148">
                            <a:moveTo>
                              <a:pt x="265" y="1077"/>
                            </a:moveTo>
                            <a:lnTo>
                              <a:pt x="296" y="897"/>
                            </a:lnTo>
                            <a:lnTo>
                              <a:pt x="309" y="755"/>
                            </a:lnTo>
                            <a:lnTo>
                              <a:pt x="336" y="583"/>
                            </a:lnTo>
                            <a:lnTo>
                              <a:pt x="340" y="671"/>
                            </a:lnTo>
                            <a:lnTo>
                              <a:pt x="349" y="785"/>
                            </a:lnTo>
                            <a:lnTo>
                              <a:pt x="385" y="658"/>
                            </a:lnTo>
                            <a:lnTo>
                              <a:pt x="394" y="561"/>
                            </a:lnTo>
                            <a:lnTo>
                              <a:pt x="385" y="455"/>
                            </a:lnTo>
                            <a:lnTo>
                              <a:pt x="412" y="353"/>
                            </a:lnTo>
                            <a:lnTo>
                              <a:pt x="442" y="238"/>
                            </a:lnTo>
                            <a:lnTo>
                              <a:pt x="504" y="70"/>
                            </a:lnTo>
                            <a:lnTo>
                              <a:pt x="425" y="198"/>
                            </a:lnTo>
                            <a:lnTo>
                              <a:pt x="362" y="305"/>
                            </a:lnTo>
                            <a:lnTo>
                              <a:pt x="300" y="450"/>
                            </a:lnTo>
                            <a:lnTo>
                              <a:pt x="318" y="296"/>
                            </a:lnTo>
                            <a:lnTo>
                              <a:pt x="336" y="158"/>
                            </a:lnTo>
                            <a:lnTo>
                              <a:pt x="362" y="0"/>
                            </a:lnTo>
                            <a:lnTo>
                              <a:pt x="314" y="136"/>
                            </a:lnTo>
                            <a:lnTo>
                              <a:pt x="274" y="251"/>
                            </a:lnTo>
                            <a:lnTo>
                              <a:pt x="243" y="375"/>
                            </a:lnTo>
                            <a:lnTo>
                              <a:pt x="221" y="455"/>
                            </a:lnTo>
                            <a:lnTo>
                              <a:pt x="177" y="521"/>
                            </a:lnTo>
                            <a:lnTo>
                              <a:pt x="119" y="609"/>
                            </a:lnTo>
                            <a:lnTo>
                              <a:pt x="79" y="693"/>
                            </a:lnTo>
                            <a:lnTo>
                              <a:pt x="52" y="790"/>
                            </a:lnTo>
                            <a:lnTo>
                              <a:pt x="26" y="883"/>
                            </a:lnTo>
                            <a:lnTo>
                              <a:pt x="17" y="963"/>
                            </a:lnTo>
                            <a:lnTo>
                              <a:pt x="13" y="1020"/>
                            </a:lnTo>
                            <a:lnTo>
                              <a:pt x="0" y="1073"/>
                            </a:lnTo>
                            <a:lnTo>
                              <a:pt x="13" y="1148"/>
                            </a:lnTo>
                            <a:lnTo>
                              <a:pt x="48" y="1073"/>
                            </a:lnTo>
                            <a:lnTo>
                              <a:pt x="70" y="1148"/>
                            </a:lnTo>
                            <a:lnTo>
                              <a:pt x="92" y="1091"/>
                            </a:lnTo>
                            <a:lnTo>
                              <a:pt x="92" y="1042"/>
                            </a:lnTo>
                            <a:lnTo>
                              <a:pt x="88" y="945"/>
                            </a:lnTo>
                            <a:lnTo>
                              <a:pt x="92" y="856"/>
                            </a:lnTo>
                            <a:lnTo>
                              <a:pt x="110" y="763"/>
                            </a:lnTo>
                            <a:lnTo>
                              <a:pt x="159" y="671"/>
                            </a:lnTo>
                            <a:lnTo>
                              <a:pt x="199" y="583"/>
                            </a:lnTo>
                            <a:lnTo>
                              <a:pt x="190" y="777"/>
                            </a:lnTo>
                            <a:lnTo>
                              <a:pt x="269" y="538"/>
                            </a:lnTo>
                            <a:lnTo>
                              <a:pt x="247" y="746"/>
                            </a:lnTo>
                            <a:lnTo>
                              <a:pt x="243" y="883"/>
                            </a:lnTo>
                            <a:lnTo>
                              <a:pt x="265" y="1077"/>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9" name=""/>
                      <p:cNvSpPr/>
                      <p:nvPr/>
                    </p:nvSpPr>
                    <p:spPr>
                      <a:xfrm>
                        <a:off x="1208160" y="1484280"/>
                        <a:ext cx="292320" cy="101880"/>
                      </a:xfrm>
                      <a:custGeom>
                        <a:avLst/>
                        <a:gdLst/>
                        <a:ahLst/>
                        <a:rect l="0" t="0" r="r" b="b"/>
                        <a:pathLst>
                          <a:path w="812" h="283">
                            <a:moveTo>
                              <a:pt x="812" y="283"/>
                            </a:moveTo>
                            <a:lnTo>
                              <a:pt x="777" y="278"/>
                            </a:lnTo>
                            <a:lnTo>
                              <a:pt x="719" y="265"/>
                            </a:lnTo>
                            <a:lnTo>
                              <a:pt x="680" y="261"/>
                            </a:lnTo>
                            <a:lnTo>
                              <a:pt x="640" y="261"/>
                            </a:lnTo>
                            <a:lnTo>
                              <a:pt x="627" y="203"/>
                            </a:lnTo>
                            <a:lnTo>
                              <a:pt x="596" y="146"/>
                            </a:lnTo>
                            <a:lnTo>
                              <a:pt x="552" y="105"/>
                            </a:lnTo>
                            <a:lnTo>
                              <a:pt x="503" y="74"/>
                            </a:lnTo>
                            <a:lnTo>
                              <a:pt x="459" y="66"/>
                            </a:lnTo>
                            <a:lnTo>
                              <a:pt x="411" y="66"/>
                            </a:lnTo>
                            <a:lnTo>
                              <a:pt x="304" y="83"/>
                            </a:lnTo>
                            <a:lnTo>
                              <a:pt x="211" y="88"/>
                            </a:lnTo>
                            <a:lnTo>
                              <a:pt x="123" y="66"/>
                            </a:lnTo>
                            <a:lnTo>
                              <a:pt x="0" y="0"/>
                            </a:lnTo>
                            <a:lnTo>
                              <a:pt x="158" y="39"/>
                            </a:lnTo>
                            <a:lnTo>
                              <a:pt x="238" y="39"/>
                            </a:lnTo>
                            <a:lnTo>
                              <a:pt x="304" y="26"/>
                            </a:lnTo>
                            <a:lnTo>
                              <a:pt x="357" y="39"/>
                            </a:lnTo>
                            <a:lnTo>
                              <a:pt x="392" y="22"/>
                            </a:lnTo>
                            <a:lnTo>
                              <a:pt x="424" y="17"/>
                            </a:lnTo>
                            <a:lnTo>
                              <a:pt x="468" y="22"/>
                            </a:lnTo>
                            <a:lnTo>
                              <a:pt x="503" y="26"/>
                            </a:lnTo>
                            <a:lnTo>
                              <a:pt x="547" y="39"/>
                            </a:lnTo>
                            <a:lnTo>
                              <a:pt x="583" y="66"/>
                            </a:lnTo>
                            <a:lnTo>
                              <a:pt x="622" y="110"/>
                            </a:lnTo>
                            <a:lnTo>
                              <a:pt x="649" y="146"/>
                            </a:lnTo>
                            <a:lnTo>
                              <a:pt x="680" y="155"/>
                            </a:lnTo>
                            <a:lnTo>
                              <a:pt x="719" y="168"/>
                            </a:lnTo>
                            <a:lnTo>
                              <a:pt x="777" y="203"/>
                            </a:lnTo>
                            <a:lnTo>
                              <a:pt x="799" y="243"/>
                            </a:lnTo>
                            <a:lnTo>
                              <a:pt x="812" y="283"/>
                            </a:lnTo>
                            <a:close/>
                          </a:path>
                        </a:pathLst>
                      </a:custGeom>
                      <a:solidFill>
                        <a:srgbClr val="3f1f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970" name=""/>
                <p:cNvGrpSpPr/>
                <p:nvPr/>
              </p:nvGrpSpPr>
              <p:grpSpPr>
                <a:xfrm>
                  <a:off x="1138320" y="1733400"/>
                  <a:ext cx="115920" cy="209880"/>
                  <a:chOff x="1138320" y="1733400"/>
                  <a:chExt cx="115920" cy="209880"/>
                </a:xfrm>
              </p:grpSpPr>
              <p:grpSp>
                <p:nvGrpSpPr>
                  <p:cNvPr id="971" name=""/>
                  <p:cNvGrpSpPr/>
                  <p:nvPr/>
                </p:nvGrpSpPr>
                <p:grpSpPr>
                  <a:xfrm>
                    <a:off x="1138320" y="1733400"/>
                    <a:ext cx="92520" cy="157680"/>
                    <a:chOff x="1138320" y="1733400"/>
                    <a:chExt cx="92520" cy="157680"/>
                  </a:xfrm>
                </p:grpSpPr>
                <p:sp>
                  <p:nvSpPr>
                    <p:cNvPr id="972" name=""/>
                    <p:cNvSpPr/>
                    <p:nvPr/>
                  </p:nvSpPr>
                  <p:spPr>
                    <a:xfrm>
                      <a:off x="1138320" y="1733400"/>
                      <a:ext cx="92520" cy="157680"/>
                    </a:xfrm>
                    <a:custGeom>
                      <a:avLst/>
                      <a:gdLst/>
                      <a:ahLst/>
                      <a:rect l="0" t="0" r="r" b="b"/>
                      <a:pathLst>
                        <a:path w="257" h="438">
                          <a:moveTo>
                            <a:pt x="235" y="120"/>
                          </a:moveTo>
                          <a:lnTo>
                            <a:pt x="200" y="52"/>
                          </a:lnTo>
                          <a:lnTo>
                            <a:pt x="168" y="26"/>
                          </a:lnTo>
                          <a:lnTo>
                            <a:pt x="128" y="8"/>
                          </a:lnTo>
                          <a:lnTo>
                            <a:pt x="98" y="0"/>
                          </a:lnTo>
                          <a:lnTo>
                            <a:pt x="52" y="17"/>
                          </a:lnTo>
                          <a:lnTo>
                            <a:pt x="22" y="48"/>
                          </a:lnTo>
                          <a:lnTo>
                            <a:pt x="0" y="105"/>
                          </a:lnTo>
                          <a:lnTo>
                            <a:pt x="4" y="168"/>
                          </a:lnTo>
                          <a:lnTo>
                            <a:pt x="22" y="225"/>
                          </a:lnTo>
                          <a:lnTo>
                            <a:pt x="44" y="292"/>
                          </a:lnTo>
                          <a:lnTo>
                            <a:pt x="71" y="345"/>
                          </a:lnTo>
                          <a:lnTo>
                            <a:pt x="111" y="403"/>
                          </a:lnTo>
                          <a:lnTo>
                            <a:pt x="146" y="429"/>
                          </a:lnTo>
                          <a:lnTo>
                            <a:pt x="181" y="438"/>
                          </a:lnTo>
                          <a:lnTo>
                            <a:pt x="222" y="434"/>
                          </a:lnTo>
                          <a:lnTo>
                            <a:pt x="248" y="416"/>
                          </a:lnTo>
                          <a:lnTo>
                            <a:pt x="257" y="381"/>
                          </a:lnTo>
                          <a:lnTo>
                            <a:pt x="244" y="309"/>
                          </a:lnTo>
                          <a:lnTo>
                            <a:pt x="235" y="256"/>
                          </a:lnTo>
                          <a:lnTo>
                            <a:pt x="248" y="190"/>
                          </a:lnTo>
                          <a:lnTo>
                            <a:pt x="235" y="12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3" name=""/>
                    <p:cNvSpPr/>
                    <p:nvPr/>
                  </p:nvSpPr>
                  <p:spPr>
                    <a:xfrm>
                      <a:off x="1154160" y="1749600"/>
                      <a:ext cx="66960" cy="111600"/>
                    </a:xfrm>
                    <a:custGeom>
                      <a:avLst/>
                      <a:gdLst/>
                      <a:ahLst/>
                      <a:rect l="0" t="0" r="r" b="b"/>
                      <a:pathLst>
                        <a:path w="186" h="310">
                          <a:moveTo>
                            <a:pt x="0" y="30"/>
                          </a:moveTo>
                          <a:lnTo>
                            <a:pt x="44" y="22"/>
                          </a:lnTo>
                          <a:lnTo>
                            <a:pt x="79" y="26"/>
                          </a:lnTo>
                          <a:lnTo>
                            <a:pt x="92" y="35"/>
                          </a:lnTo>
                          <a:lnTo>
                            <a:pt x="106" y="61"/>
                          </a:lnTo>
                          <a:lnTo>
                            <a:pt x="106" y="84"/>
                          </a:lnTo>
                          <a:lnTo>
                            <a:pt x="83" y="115"/>
                          </a:lnTo>
                          <a:lnTo>
                            <a:pt x="52" y="124"/>
                          </a:lnTo>
                          <a:lnTo>
                            <a:pt x="30" y="133"/>
                          </a:lnTo>
                          <a:lnTo>
                            <a:pt x="26" y="168"/>
                          </a:lnTo>
                          <a:lnTo>
                            <a:pt x="39" y="199"/>
                          </a:lnTo>
                          <a:lnTo>
                            <a:pt x="61" y="225"/>
                          </a:lnTo>
                          <a:lnTo>
                            <a:pt x="92" y="240"/>
                          </a:lnTo>
                          <a:lnTo>
                            <a:pt x="128" y="248"/>
                          </a:lnTo>
                          <a:lnTo>
                            <a:pt x="150" y="262"/>
                          </a:lnTo>
                          <a:lnTo>
                            <a:pt x="155" y="279"/>
                          </a:lnTo>
                          <a:lnTo>
                            <a:pt x="159" y="310"/>
                          </a:lnTo>
                          <a:lnTo>
                            <a:pt x="177" y="310"/>
                          </a:lnTo>
                          <a:lnTo>
                            <a:pt x="186" y="279"/>
                          </a:lnTo>
                          <a:lnTo>
                            <a:pt x="177" y="253"/>
                          </a:lnTo>
                          <a:lnTo>
                            <a:pt x="164" y="225"/>
                          </a:lnTo>
                          <a:lnTo>
                            <a:pt x="164" y="199"/>
                          </a:lnTo>
                          <a:lnTo>
                            <a:pt x="159" y="168"/>
                          </a:lnTo>
                          <a:lnTo>
                            <a:pt x="142" y="177"/>
                          </a:lnTo>
                          <a:lnTo>
                            <a:pt x="124" y="177"/>
                          </a:lnTo>
                          <a:lnTo>
                            <a:pt x="115" y="164"/>
                          </a:lnTo>
                          <a:lnTo>
                            <a:pt x="133" y="133"/>
                          </a:lnTo>
                          <a:lnTo>
                            <a:pt x="124" y="106"/>
                          </a:lnTo>
                          <a:lnTo>
                            <a:pt x="133" y="80"/>
                          </a:lnTo>
                          <a:lnTo>
                            <a:pt x="124" y="48"/>
                          </a:lnTo>
                          <a:lnTo>
                            <a:pt x="106" y="13"/>
                          </a:lnTo>
                          <a:lnTo>
                            <a:pt x="79" y="0"/>
                          </a:lnTo>
                          <a:lnTo>
                            <a:pt x="44" y="0"/>
                          </a:lnTo>
                          <a:lnTo>
                            <a:pt x="13" y="8"/>
                          </a:lnTo>
                          <a:lnTo>
                            <a:pt x="0" y="3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974" name=""/>
                  <p:cNvGrpSpPr/>
                  <p:nvPr/>
                </p:nvGrpSpPr>
                <p:grpSpPr>
                  <a:xfrm>
                    <a:off x="1174680" y="1846440"/>
                    <a:ext cx="79560" cy="96840"/>
                    <a:chOff x="1174680" y="1846440"/>
                    <a:chExt cx="79560" cy="96840"/>
                  </a:xfrm>
                </p:grpSpPr>
                <p:grpSp>
                  <p:nvGrpSpPr>
                    <p:cNvPr id="975" name=""/>
                    <p:cNvGrpSpPr/>
                    <p:nvPr/>
                  </p:nvGrpSpPr>
                  <p:grpSpPr>
                    <a:xfrm>
                      <a:off x="1174680" y="1846440"/>
                      <a:ext cx="79560" cy="75960"/>
                      <a:chOff x="1174680" y="1846440"/>
                      <a:chExt cx="79560" cy="75960"/>
                    </a:xfrm>
                  </p:grpSpPr>
                  <p:sp>
                    <p:nvSpPr>
                      <p:cNvPr id="976" name=""/>
                      <p:cNvSpPr/>
                      <p:nvPr/>
                    </p:nvSpPr>
                    <p:spPr>
                      <a:xfrm>
                        <a:off x="1174680" y="1847880"/>
                        <a:ext cx="71280" cy="74520"/>
                      </a:xfrm>
                      <a:prstGeom prst="ellipse">
                        <a:avLst/>
                      </a:prstGeom>
                      <a:solidFill>
                        <a:srgbClr val="9f3f0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977" name=""/>
                      <p:cNvSpPr/>
                      <p:nvPr/>
                    </p:nvSpPr>
                    <p:spPr>
                      <a:xfrm>
                        <a:off x="1177920" y="1846440"/>
                        <a:ext cx="76320" cy="71280"/>
                      </a:xfrm>
                      <a:prstGeom prst="ellipse">
                        <a:avLst/>
                      </a:prstGeom>
                      <a:solidFill>
                        <a:srgbClr val="ffff9f"/>
                      </a:solidFill>
                      <a:ln w="0">
                        <a:noFill/>
                      </a:ln>
                    </p:spPr>
                    <p:txBody>
                      <a:bodyPr lIns="90000" rIns="90000" tIns="26280" bIns="26280" anchor="t">
                        <a:noAutofit/>
                      </a:bodyPr>
                      <a:p>
                        <a:endParaRPr b="0" lang="en-US" sz="1800" spc="-1" strike="noStrike">
                          <a:solidFill>
                            <a:srgbClr val="000000"/>
                          </a:solidFill>
                          <a:latin typeface="Arial"/>
                        </a:endParaRPr>
                      </a:p>
                    </p:txBody>
                  </p:sp>
                </p:grpSp>
                <p:grpSp>
                  <p:nvGrpSpPr>
                    <p:cNvPr id="978" name=""/>
                    <p:cNvGrpSpPr/>
                    <p:nvPr/>
                  </p:nvGrpSpPr>
                  <p:grpSpPr>
                    <a:xfrm>
                      <a:off x="1177920" y="1847880"/>
                      <a:ext cx="71280" cy="95400"/>
                      <a:chOff x="1177920" y="1847880"/>
                      <a:chExt cx="71280" cy="95400"/>
                    </a:xfrm>
                  </p:grpSpPr>
                  <p:sp>
                    <p:nvSpPr>
                      <p:cNvPr id="979" name=""/>
                      <p:cNvSpPr/>
                      <p:nvPr/>
                    </p:nvSpPr>
                    <p:spPr>
                      <a:xfrm>
                        <a:off x="1177920" y="1847880"/>
                        <a:ext cx="71280" cy="73080"/>
                      </a:xfrm>
                      <a:prstGeom prst="ellipse">
                        <a:avLst/>
                      </a:prstGeom>
                      <a:solidFill>
                        <a:srgbClr val="ff9f0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980" name=""/>
                      <p:cNvSpPr/>
                      <p:nvPr/>
                    </p:nvSpPr>
                    <p:spPr>
                      <a:xfrm>
                        <a:off x="1203480" y="1887480"/>
                        <a:ext cx="20160" cy="55800"/>
                      </a:xfrm>
                      <a:custGeom>
                        <a:avLst/>
                        <a:gdLst/>
                        <a:ahLst/>
                        <a:rect l="0" t="0" r="r" b="b"/>
                        <a:pathLst>
                          <a:path w="56" h="155">
                            <a:moveTo>
                              <a:pt x="56" y="77"/>
                            </a:moveTo>
                            <a:lnTo>
                              <a:pt x="51" y="0"/>
                            </a:lnTo>
                            <a:lnTo>
                              <a:pt x="51" y="0"/>
                            </a:lnTo>
                            <a:cubicBezTo>
                              <a:pt x="43" y="1"/>
                              <a:pt x="36" y="5"/>
                              <a:pt x="29" y="10"/>
                            </a:cubicBezTo>
                            <a:cubicBezTo>
                              <a:pt x="20" y="17"/>
                              <a:pt x="13" y="27"/>
                              <a:pt x="8" y="38"/>
                            </a:cubicBezTo>
                            <a:cubicBezTo>
                              <a:pt x="3" y="50"/>
                              <a:pt x="0" y="64"/>
                              <a:pt x="0" y="77"/>
                            </a:cubicBezTo>
                            <a:cubicBezTo>
                              <a:pt x="0" y="91"/>
                              <a:pt x="3" y="105"/>
                              <a:pt x="8" y="116"/>
                            </a:cubicBezTo>
                            <a:cubicBezTo>
                              <a:pt x="13" y="128"/>
                              <a:pt x="20" y="138"/>
                              <a:pt x="29" y="145"/>
                            </a:cubicBezTo>
                            <a:cubicBezTo>
                              <a:pt x="36" y="150"/>
                              <a:pt x="44" y="154"/>
                              <a:pt x="52" y="155"/>
                            </a:cubicBezTo>
                            <a:lnTo>
                              <a:pt x="56" y="77"/>
                            </a:lnTo>
                            <a:close/>
                          </a:path>
                        </a:pathLst>
                      </a:custGeom>
                      <a:solidFill>
                        <a:srgbClr val="ffbf1f"/>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981" name=""/>
                      <p:cNvSpPr/>
                      <p:nvPr/>
                    </p:nvSpPr>
                    <p:spPr>
                      <a:xfrm>
                        <a:off x="1225440" y="1887840"/>
                        <a:ext cx="12960" cy="49320"/>
                      </a:xfrm>
                      <a:custGeom>
                        <a:avLst/>
                        <a:gdLst/>
                        <a:ahLst/>
                        <a:rect l="0" t="0" r="r" b="b"/>
                        <a:pathLst>
                          <a:path w="36" h="137">
                            <a:moveTo>
                              <a:pt x="36" y="68"/>
                            </a:moveTo>
                            <a:lnTo>
                              <a:pt x="31" y="0"/>
                            </a:lnTo>
                            <a:lnTo>
                              <a:pt x="31" y="0"/>
                            </a:lnTo>
                            <a:cubicBezTo>
                              <a:pt x="26" y="1"/>
                              <a:pt x="22" y="4"/>
                              <a:pt x="18" y="9"/>
                            </a:cubicBezTo>
                            <a:cubicBezTo>
                              <a:pt x="12" y="15"/>
                              <a:pt x="8" y="23"/>
                              <a:pt x="5" y="34"/>
                            </a:cubicBezTo>
                            <a:cubicBezTo>
                              <a:pt x="1" y="44"/>
                              <a:pt x="0" y="56"/>
                              <a:pt x="0" y="68"/>
                            </a:cubicBezTo>
                            <a:cubicBezTo>
                              <a:pt x="0" y="80"/>
                              <a:pt x="1" y="92"/>
                              <a:pt x="5" y="103"/>
                            </a:cubicBezTo>
                            <a:cubicBezTo>
                              <a:pt x="8" y="113"/>
                              <a:pt x="12" y="122"/>
                              <a:pt x="18" y="128"/>
                            </a:cubicBezTo>
                            <a:cubicBezTo>
                              <a:pt x="22" y="133"/>
                              <a:pt x="27" y="136"/>
                              <a:pt x="32" y="137"/>
                            </a:cubicBezTo>
                            <a:lnTo>
                              <a:pt x="36" y="68"/>
                            </a:lnTo>
                            <a:close/>
                          </a:path>
                        </a:pathLst>
                      </a:custGeom>
                      <a:solidFill>
                        <a:srgbClr val="bf7f1f"/>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982" name=""/>
                      <p:cNvSpPr/>
                      <p:nvPr/>
                    </p:nvSpPr>
                    <p:spPr>
                      <a:xfrm>
                        <a:off x="1216080" y="1855800"/>
                        <a:ext cx="25560" cy="31680"/>
                      </a:xfrm>
                      <a:prstGeom prst="ellipse">
                        <a:avLst/>
                      </a:prstGeom>
                      <a:solidFill>
                        <a:srgbClr val="ffff9f"/>
                      </a:solidFill>
                      <a:ln w="0">
                        <a:noFill/>
                      </a:ln>
                    </p:spPr>
                    <p:txBody>
                      <a:bodyPr lIns="90000" rIns="90000" tIns="-13320" bIns="-13320" anchor="t">
                        <a:noAutofit/>
                      </a:bodyPr>
                      <a:p>
                        <a:endParaRPr b="0" lang="en-US" sz="1800" spc="-1" strike="noStrike">
                          <a:solidFill>
                            <a:srgbClr val="000000"/>
                          </a:solidFill>
                          <a:latin typeface="Arial"/>
                        </a:endParaRPr>
                      </a:p>
                    </p:txBody>
                  </p:sp>
                </p:grpSp>
              </p:grpSp>
            </p:grpSp>
          </p:grpSp>
          <p:grpSp>
            <p:nvGrpSpPr>
              <p:cNvPr id="983" name=""/>
              <p:cNvGrpSpPr/>
              <p:nvPr/>
            </p:nvGrpSpPr>
            <p:grpSpPr>
              <a:xfrm>
                <a:off x="720720" y="1935000"/>
                <a:ext cx="1497240" cy="1806840"/>
                <a:chOff x="720720" y="1935000"/>
                <a:chExt cx="1497240" cy="1806840"/>
              </a:xfrm>
            </p:grpSpPr>
            <p:grpSp>
              <p:nvGrpSpPr>
                <p:cNvPr id="984" name=""/>
                <p:cNvGrpSpPr/>
                <p:nvPr/>
              </p:nvGrpSpPr>
              <p:grpSpPr>
                <a:xfrm>
                  <a:off x="720720" y="2178000"/>
                  <a:ext cx="1394280" cy="1563840"/>
                  <a:chOff x="720720" y="2178000"/>
                  <a:chExt cx="1394280" cy="1563840"/>
                </a:xfrm>
              </p:grpSpPr>
              <p:grpSp>
                <p:nvGrpSpPr>
                  <p:cNvPr id="985" name=""/>
                  <p:cNvGrpSpPr/>
                  <p:nvPr/>
                </p:nvGrpSpPr>
                <p:grpSpPr>
                  <a:xfrm>
                    <a:off x="739800" y="2682720"/>
                    <a:ext cx="1375200" cy="1059120"/>
                    <a:chOff x="739800" y="2682720"/>
                    <a:chExt cx="1375200" cy="1059120"/>
                  </a:xfrm>
                </p:grpSpPr>
                <p:grpSp>
                  <p:nvGrpSpPr>
                    <p:cNvPr id="986" name=""/>
                    <p:cNvGrpSpPr/>
                    <p:nvPr/>
                  </p:nvGrpSpPr>
                  <p:grpSpPr>
                    <a:xfrm>
                      <a:off x="1627200" y="2682720"/>
                      <a:ext cx="487800" cy="476640"/>
                      <a:chOff x="1627200" y="2682720"/>
                      <a:chExt cx="487800" cy="476640"/>
                    </a:xfrm>
                  </p:grpSpPr>
                  <p:sp>
                    <p:nvSpPr>
                      <p:cNvPr id="987" name=""/>
                      <p:cNvSpPr/>
                      <p:nvPr/>
                    </p:nvSpPr>
                    <p:spPr>
                      <a:xfrm>
                        <a:off x="1627200" y="2682720"/>
                        <a:ext cx="487800" cy="476640"/>
                      </a:xfrm>
                      <a:custGeom>
                        <a:avLst/>
                        <a:gdLst/>
                        <a:ahLst/>
                        <a:rect l="0" t="0" r="r" b="b"/>
                        <a:pathLst>
                          <a:path w="1355" h="1324">
                            <a:moveTo>
                              <a:pt x="1091" y="79"/>
                            </a:moveTo>
                            <a:lnTo>
                              <a:pt x="935" y="273"/>
                            </a:lnTo>
                            <a:lnTo>
                              <a:pt x="878" y="340"/>
                            </a:lnTo>
                            <a:lnTo>
                              <a:pt x="785" y="415"/>
                            </a:lnTo>
                            <a:lnTo>
                              <a:pt x="746" y="441"/>
                            </a:lnTo>
                            <a:lnTo>
                              <a:pt x="688" y="446"/>
                            </a:lnTo>
                            <a:lnTo>
                              <a:pt x="688" y="57"/>
                            </a:lnTo>
                            <a:lnTo>
                              <a:pt x="0" y="389"/>
                            </a:lnTo>
                            <a:lnTo>
                              <a:pt x="299" y="1197"/>
                            </a:lnTo>
                            <a:lnTo>
                              <a:pt x="543" y="1324"/>
                            </a:lnTo>
                            <a:lnTo>
                              <a:pt x="631" y="1214"/>
                            </a:lnTo>
                            <a:lnTo>
                              <a:pt x="746" y="1095"/>
                            </a:lnTo>
                            <a:lnTo>
                              <a:pt x="856" y="1011"/>
                            </a:lnTo>
                            <a:lnTo>
                              <a:pt x="953" y="874"/>
                            </a:lnTo>
                            <a:lnTo>
                              <a:pt x="1038" y="728"/>
                            </a:lnTo>
                            <a:lnTo>
                              <a:pt x="1104" y="565"/>
                            </a:lnTo>
                            <a:lnTo>
                              <a:pt x="1205" y="415"/>
                            </a:lnTo>
                            <a:lnTo>
                              <a:pt x="1258" y="340"/>
                            </a:lnTo>
                            <a:lnTo>
                              <a:pt x="1289" y="282"/>
                            </a:lnTo>
                            <a:lnTo>
                              <a:pt x="1355" y="0"/>
                            </a:lnTo>
                            <a:lnTo>
                              <a:pt x="1091" y="7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8" name=""/>
                      <p:cNvSpPr/>
                      <p:nvPr/>
                    </p:nvSpPr>
                    <p:spPr>
                      <a:xfrm>
                        <a:off x="1782720" y="2832120"/>
                        <a:ext cx="111600" cy="189360"/>
                      </a:xfrm>
                      <a:custGeom>
                        <a:avLst/>
                        <a:gdLst/>
                        <a:ahLst/>
                        <a:rect l="0" t="0" r="r" b="b"/>
                        <a:pathLst>
                          <a:path w="310" h="526">
                            <a:moveTo>
                              <a:pt x="275" y="0"/>
                            </a:moveTo>
                            <a:lnTo>
                              <a:pt x="310" y="35"/>
                            </a:lnTo>
                            <a:lnTo>
                              <a:pt x="240" y="133"/>
                            </a:lnTo>
                            <a:lnTo>
                              <a:pt x="164" y="234"/>
                            </a:lnTo>
                            <a:lnTo>
                              <a:pt x="106" y="322"/>
                            </a:lnTo>
                            <a:lnTo>
                              <a:pt x="52" y="416"/>
                            </a:lnTo>
                            <a:lnTo>
                              <a:pt x="0" y="526"/>
                            </a:lnTo>
                            <a:lnTo>
                              <a:pt x="13" y="438"/>
                            </a:lnTo>
                            <a:lnTo>
                              <a:pt x="61" y="331"/>
                            </a:lnTo>
                            <a:lnTo>
                              <a:pt x="133" y="199"/>
                            </a:lnTo>
                            <a:lnTo>
                              <a:pt x="217" y="79"/>
                            </a:lnTo>
                            <a:lnTo>
                              <a:pt x="275" y="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989" name=""/>
                    <p:cNvGrpSpPr/>
                    <p:nvPr/>
                  </p:nvGrpSpPr>
                  <p:grpSpPr>
                    <a:xfrm>
                      <a:off x="739800" y="2814480"/>
                      <a:ext cx="371880" cy="927360"/>
                      <a:chOff x="739800" y="2814480"/>
                      <a:chExt cx="371880" cy="927360"/>
                    </a:xfrm>
                  </p:grpSpPr>
                  <p:sp>
                    <p:nvSpPr>
                      <p:cNvPr id="990" name=""/>
                      <p:cNvSpPr/>
                      <p:nvPr/>
                    </p:nvSpPr>
                    <p:spPr>
                      <a:xfrm>
                        <a:off x="739800" y="2814480"/>
                        <a:ext cx="371880" cy="927360"/>
                      </a:xfrm>
                      <a:custGeom>
                        <a:avLst/>
                        <a:gdLst/>
                        <a:ahLst/>
                        <a:rect l="0" t="0" r="r" b="b"/>
                        <a:pathLst>
                          <a:path w="1033" h="2576">
                            <a:moveTo>
                              <a:pt x="455" y="366"/>
                            </a:moveTo>
                            <a:lnTo>
                              <a:pt x="446" y="427"/>
                            </a:lnTo>
                            <a:lnTo>
                              <a:pt x="468" y="507"/>
                            </a:lnTo>
                            <a:lnTo>
                              <a:pt x="490" y="674"/>
                            </a:lnTo>
                            <a:lnTo>
                              <a:pt x="512" y="780"/>
                            </a:lnTo>
                            <a:lnTo>
                              <a:pt x="530" y="868"/>
                            </a:lnTo>
                            <a:lnTo>
                              <a:pt x="556" y="970"/>
                            </a:lnTo>
                            <a:lnTo>
                              <a:pt x="587" y="1075"/>
                            </a:lnTo>
                            <a:lnTo>
                              <a:pt x="627" y="1159"/>
                            </a:lnTo>
                            <a:lnTo>
                              <a:pt x="671" y="1239"/>
                            </a:lnTo>
                            <a:lnTo>
                              <a:pt x="697" y="1319"/>
                            </a:lnTo>
                            <a:lnTo>
                              <a:pt x="710" y="1394"/>
                            </a:lnTo>
                            <a:lnTo>
                              <a:pt x="741" y="1491"/>
                            </a:lnTo>
                            <a:lnTo>
                              <a:pt x="786" y="1592"/>
                            </a:lnTo>
                            <a:lnTo>
                              <a:pt x="822" y="1685"/>
                            </a:lnTo>
                            <a:lnTo>
                              <a:pt x="848" y="1738"/>
                            </a:lnTo>
                            <a:lnTo>
                              <a:pt x="897" y="1800"/>
                            </a:lnTo>
                            <a:lnTo>
                              <a:pt x="1033" y="1919"/>
                            </a:lnTo>
                            <a:lnTo>
                              <a:pt x="1033" y="2576"/>
                            </a:lnTo>
                            <a:lnTo>
                              <a:pt x="972" y="2527"/>
                            </a:lnTo>
                            <a:lnTo>
                              <a:pt x="923" y="2448"/>
                            </a:lnTo>
                            <a:lnTo>
                              <a:pt x="883" y="2364"/>
                            </a:lnTo>
                            <a:lnTo>
                              <a:pt x="844" y="2307"/>
                            </a:lnTo>
                            <a:lnTo>
                              <a:pt x="813" y="2280"/>
                            </a:lnTo>
                            <a:lnTo>
                              <a:pt x="786" y="2241"/>
                            </a:lnTo>
                            <a:lnTo>
                              <a:pt x="750" y="2201"/>
                            </a:lnTo>
                            <a:lnTo>
                              <a:pt x="719" y="2188"/>
                            </a:lnTo>
                            <a:lnTo>
                              <a:pt x="702" y="2161"/>
                            </a:lnTo>
                            <a:lnTo>
                              <a:pt x="693" y="2122"/>
                            </a:lnTo>
                            <a:lnTo>
                              <a:pt x="671" y="2077"/>
                            </a:lnTo>
                            <a:lnTo>
                              <a:pt x="635" y="2007"/>
                            </a:lnTo>
                            <a:lnTo>
                              <a:pt x="587" y="1906"/>
                            </a:lnTo>
                            <a:lnTo>
                              <a:pt x="503" y="1769"/>
                            </a:lnTo>
                            <a:lnTo>
                              <a:pt x="419" y="1641"/>
                            </a:lnTo>
                            <a:lnTo>
                              <a:pt x="300" y="1491"/>
                            </a:lnTo>
                            <a:lnTo>
                              <a:pt x="211" y="1372"/>
                            </a:lnTo>
                            <a:lnTo>
                              <a:pt x="119" y="1234"/>
                            </a:lnTo>
                            <a:lnTo>
                              <a:pt x="83" y="1186"/>
                            </a:lnTo>
                            <a:lnTo>
                              <a:pt x="70" y="1155"/>
                            </a:lnTo>
                            <a:lnTo>
                              <a:pt x="61" y="1089"/>
                            </a:lnTo>
                            <a:lnTo>
                              <a:pt x="48" y="917"/>
                            </a:lnTo>
                            <a:lnTo>
                              <a:pt x="30" y="771"/>
                            </a:lnTo>
                            <a:lnTo>
                              <a:pt x="8" y="608"/>
                            </a:lnTo>
                            <a:lnTo>
                              <a:pt x="0" y="396"/>
                            </a:lnTo>
                            <a:lnTo>
                              <a:pt x="0" y="264"/>
                            </a:lnTo>
                            <a:lnTo>
                              <a:pt x="13" y="0"/>
                            </a:lnTo>
                            <a:lnTo>
                              <a:pt x="455" y="36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1" name=""/>
                      <p:cNvSpPr/>
                      <p:nvPr/>
                    </p:nvSpPr>
                    <p:spPr>
                      <a:xfrm>
                        <a:off x="849240" y="3068640"/>
                        <a:ext cx="160560" cy="294120"/>
                      </a:xfrm>
                      <a:custGeom>
                        <a:avLst/>
                        <a:gdLst/>
                        <a:ahLst/>
                        <a:rect l="0" t="0" r="r" b="b"/>
                        <a:pathLst>
                          <a:path w="446" h="817">
                            <a:moveTo>
                              <a:pt x="446" y="817"/>
                            </a:moveTo>
                            <a:lnTo>
                              <a:pt x="384" y="786"/>
                            </a:lnTo>
                            <a:lnTo>
                              <a:pt x="318" y="734"/>
                            </a:lnTo>
                            <a:lnTo>
                              <a:pt x="274" y="676"/>
                            </a:lnTo>
                            <a:lnTo>
                              <a:pt x="243" y="605"/>
                            </a:lnTo>
                            <a:lnTo>
                              <a:pt x="225" y="543"/>
                            </a:lnTo>
                            <a:lnTo>
                              <a:pt x="225" y="468"/>
                            </a:lnTo>
                            <a:lnTo>
                              <a:pt x="216" y="380"/>
                            </a:lnTo>
                            <a:lnTo>
                              <a:pt x="207" y="318"/>
                            </a:lnTo>
                            <a:lnTo>
                              <a:pt x="185" y="283"/>
                            </a:lnTo>
                            <a:lnTo>
                              <a:pt x="158" y="256"/>
                            </a:lnTo>
                            <a:lnTo>
                              <a:pt x="145" y="202"/>
                            </a:lnTo>
                            <a:lnTo>
                              <a:pt x="123" y="158"/>
                            </a:lnTo>
                            <a:lnTo>
                              <a:pt x="92" y="119"/>
                            </a:lnTo>
                            <a:lnTo>
                              <a:pt x="52" y="92"/>
                            </a:lnTo>
                            <a:lnTo>
                              <a:pt x="13" y="83"/>
                            </a:lnTo>
                            <a:lnTo>
                              <a:pt x="17" y="48"/>
                            </a:lnTo>
                            <a:lnTo>
                              <a:pt x="0" y="0"/>
                            </a:lnTo>
                            <a:lnTo>
                              <a:pt x="35" y="22"/>
                            </a:lnTo>
                            <a:lnTo>
                              <a:pt x="70" y="39"/>
                            </a:lnTo>
                            <a:lnTo>
                              <a:pt x="123" y="44"/>
                            </a:lnTo>
                            <a:lnTo>
                              <a:pt x="163" y="26"/>
                            </a:lnTo>
                            <a:lnTo>
                              <a:pt x="194" y="0"/>
                            </a:lnTo>
                            <a:lnTo>
                              <a:pt x="216" y="119"/>
                            </a:lnTo>
                            <a:lnTo>
                              <a:pt x="243" y="212"/>
                            </a:lnTo>
                            <a:lnTo>
                              <a:pt x="265" y="309"/>
                            </a:lnTo>
                            <a:lnTo>
                              <a:pt x="283" y="371"/>
                            </a:lnTo>
                            <a:lnTo>
                              <a:pt x="318" y="437"/>
                            </a:lnTo>
                            <a:lnTo>
                              <a:pt x="349" y="494"/>
                            </a:lnTo>
                            <a:lnTo>
                              <a:pt x="375" y="565"/>
                            </a:lnTo>
                            <a:lnTo>
                              <a:pt x="406" y="650"/>
                            </a:lnTo>
                            <a:lnTo>
                              <a:pt x="424" y="738"/>
                            </a:lnTo>
                            <a:lnTo>
                              <a:pt x="446" y="817"/>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992" name=""/>
                  <p:cNvGrpSpPr/>
                  <p:nvPr/>
                </p:nvGrpSpPr>
                <p:grpSpPr>
                  <a:xfrm>
                    <a:off x="720720" y="2178000"/>
                    <a:ext cx="1173600" cy="1329120"/>
                    <a:chOff x="720720" y="2178000"/>
                    <a:chExt cx="1173600" cy="1329120"/>
                  </a:xfrm>
                </p:grpSpPr>
                <p:sp>
                  <p:nvSpPr>
                    <p:cNvPr id="993" name=""/>
                    <p:cNvSpPr/>
                    <p:nvPr/>
                  </p:nvSpPr>
                  <p:spPr>
                    <a:xfrm>
                      <a:off x="720720" y="2178000"/>
                      <a:ext cx="1173600" cy="1329120"/>
                    </a:xfrm>
                    <a:custGeom>
                      <a:avLst/>
                      <a:gdLst/>
                      <a:ahLst/>
                      <a:rect l="0" t="0" r="r" b="b"/>
                      <a:pathLst>
                        <a:path w="3260" h="3692">
                          <a:moveTo>
                            <a:pt x="3238" y="1844"/>
                          </a:moveTo>
                          <a:lnTo>
                            <a:pt x="3168" y="1659"/>
                          </a:lnTo>
                          <a:lnTo>
                            <a:pt x="2780" y="418"/>
                          </a:lnTo>
                          <a:lnTo>
                            <a:pt x="2426" y="167"/>
                          </a:lnTo>
                          <a:lnTo>
                            <a:pt x="2316" y="141"/>
                          </a:lnTo>
                          <a:lnTo>
                            <a:pt x="2223" y="127"/>
                          </a:lnTo>
                          <a:lnTo>
                            <a:pt x="2148" y="105"/>
                          </a:lnTo>
                          <a:lnTo>
                            <a:pt x="2060" y="79"/>
                          </a:lnTo>
                          <a:lnTo>
                            <a:pt x="1994" y="44"/>
                          </a:lnTo>
                          <a:lnTo>
                            <a:pt x="1928" y="22"/>
                          </a:lnTo>
                          <a:lnTo>
                            <a:pt x="1861" y="8"/>
                          </a:lnTo>
                          <a:lnTo>
                            <a:pt x="1831" y="8"/>
                          </a:lnTo>
                          <a:lnTo>
                            <a:pt x="1848" y="35"/>
                          </a:lnTo>
                          <a:lnTo>
                            <a:pt x="1835" y="61"/>
                          </a:lnTo>
                          <a:lnTo>
                            <a:pt x="1804" y="79"/>
                          </a:lnTo>
                          <a:lnTo>
                            <a:pt x="1738" y="110"/>
                          </a:lnTo>
                          <a:lnTo>
                            <a:pt x="1628" y="141"/>
                          </a:lnTo>
                          <a:lnTo>
                            <a:pt x="1535" y="158"/>
                          </a:lnTo>
                          <a:lnTo>
                            <a:pt x="1442" y="176"/>
                          </a:lnTo>
                          <a:lnTo>
                            <a:pt x="1328" y="180"/>
                          </a:lnTo>
                          <a:lnTo>
                            <a:pt x="1218" y="180"/>
                          </a:lnTo>
                          <a:lnTo>
                            <a:pt x="1134" y="176"/>
                          </a:lnTo>
                          <a:lnTo>
                            <a:pt x="1041" y="163"/>
                          </a:lnTo>
                          <a:lnTo>
                            <a:pt x="966" y="145"/>
                          </a:lnTo>
                          <a:lnTo>
                            <a:pt x="918" y="127"/>
                          </a:lnTo>
                          <a:lnTo>
                            <a:pt x="874" y="105"/>
                          </a:lnTo>
                          <a:lnTo>
                            <a:pt x="838" y="79"/>
                          </a:lnTo>
                          <a:lnTo>
                            <a:pt x="816" y="48"/>
                          </a:lnTo>
                          <a:lnTo>
                            <a:pt x="811" y="30"/>
                          </a:lnTo>
                          <a:lnTo>
                            <a:pt x="838" y="0"/>
                          </a:lnTo>
                          <a:lnTo>
                            <a:pt x="793" y="8"/>
                          </a:lnTo>
                          <a:lnTo>
                            <a:pt x="740" y="22"/>
                          </a:lnTo>
                          <a:lnTo>
                            <a:pt x="674" y="48"/>
                          </a:lnTo>
                          <a:lnTo>
                            <a:pt x="621" y="83"/>
                          </a:lnTo>
                          <a:lnTo>
                            <a:pt x="568" y="127"/>
                          </a:lnTo>
                          <a:lnTo>
                            <a:pt x="520" y="163"/>
                          </a:lnTo>
                          <a:lnTo>
                            <a:pt x="476" y="198"/>
                          </a:lnTo>
                          <a:lnTo>
                            <a:pt x="423" y="216"/>
                          </a:lnTo>
                          <a:lnTo>
                            <a:pt x="361" y="238"/>
                          </a:lnTo>
                          <a:lnTo>
                            <a:pt x="308" y="255"/>
                          </a:lnTo>
                          <a:lnTo>
                            <a:pt x="251" y="273"/>
                          </a:lnTo>
                          <a:lnTo>
                            <a:pt x="185" y="299"/>
                          </a:lnTo>
                          <a:lnTo>
                            <a:pt x="127" y="326"/>
                          </a:lnTo>
                          <a:lnTo>
                            <a:pt x="79" y="370"/>
                          </a:lnTo>
                          <a:lnTo>
                            <a:pt x="57" y="405"/>
                          </a:lnTo>
                          <a:lnTo>
                            <a:pt x="39" y="463"/>
                          </a:lnTo>
                          <a:lnTo>
                            <a:pt x="35" y="542"/>
                          </a:lnTo>
                          <a:lnTo>
                            <a:pt x="26" y="639"/>
                          </a:lnTo>
                          <a:lnTo>
                            <a:pt x="26" y="833"/>
                          </a:lnTo>
                          <a:lnTo>
                            <a:pt x="26" y="1222"/>
                          </a:lnTo>
                          <a:lnTo>
                            <a:pt x="0" y="1659"/>
                          </a:lnTo>
                          <a:lnTo>
                            <a:pt x="35" y="1817"/>
                          </a:lnTo>
                          <a:lnTo>
                            <a:pt x="48" y="2016"/>
                          </a:lnTo>
                          <a:lnTo>
                            <a:pt x="39" y="2148"/>
                          </a:lnTo>
                          <a:lnTo>
                            <a:pt x="26" y="2223"/>
                          </a:lnTo>
                          <a:lnTo>
                            <a:pt x="61" y="2227"/>
                          </a:lnTo>
                          <a:lnTo>
                            <a:pt x="101" y="2236"/>
                          </a:lnTo>
                          <a:lnTo>
                            <a:pt x="136" y="2249"/>
                          </a:lnTo>
                          <a:lnTo>
                            <a:pt x="207" y="2245"/>
                          </a:lnTo>
                          <a:lnTo>
                            <a:pt x="282" y="2249"/>
                          </a:lnTo>
                          <a:lnTo>
                            <a:pt x="348" y="2258"/>
                          </a:lnTo>
                          <a:lnTo>
                            <a:pt x="436" y="2280"/>
                          </a:lnTo>
                          <a:lnTo>
                            <a:pt x="564" y="2316"/>
                          </a:lnTo>
                          <a:lnTo>
                            <a:pt x="582" y="2452"/>
                          </a:lnTo>
                          <a:lnTo>
                            <a:pt x="608" y="2585"/>
                          </a:lnTo>
                          <a:lnTo>
                            <a:pt x="630" y="2668"/>
                          </a:lnTo>
                          <a:lnTo>
                            <a:pt x="670" y="2788"/>
                          </a:lnTo>
                          <a:lnTo>
                            <a:pt x="745" y="2881"/>
                          </a:lnTo>
                          <a:lnTo>
                            <a:pt x="771" y="2921"/>
                          </a:lnTo>
                          <a:lnTo>
                            <a:pt x="789" y="2969"/>
                          </a:lnTo>
                          <a:lnTo>
                            <a:pt x="793" y="3022"/>
                          </a:lnTo>
                          <a:lnTo>
                            <a:pt x="789" y="3062"/>
                          </a:lnTo>
                          <a:lnTo>
                            <a:pt x="825" y="3088"/>
                          </a:lnTo>
                          <a:lnTo>
                            <a:pt x="869" y="3137"/>
                          </a:lnTo>
                          <a:lnTo>
                            <a:pt x="913" y="3194"/>
                          </a:lnTo>
                          <a:lnTo>
                            <a:pt x="944" y="3269"/>
                          </a:lnTo>
                          <a:lnTo>
                            <a:pt x="966" y="3622"/>
                          </a:lnTo>
                          <a:lnTo>
                            <a:pt x="1134" y="3653"/>
                          </a:lnTo>
                          <a:lnTo>
                            <a:pt x="1363" y="3675"/>
                          </a:lnTo>
                          <a:lnTo>
                            <a:pt x="1588" y="3688"/>
                          </a:lnTo>
                          <a:lnTo>
                            <a:pt x="1870" y="3692"/>
                          </a:lnTo>
                          <a:lnTo>
                            <a:pt x="2152" y="3675"/>
                          </a:lnTo>
                          <a:lnTo>
                            <a:pt x="2417" y="3631"/>
                          </a:lnTo>
                          <a:lnTo>
                            <a:pt x="2625" y="3582"/>
                          </a:lnTo>
                          <a:lnTo>
                            <a:pt x="2881" y="3512"/>
                          </a:lnTo>
                          <a:lnTo>
                            <a:pt x="3084" y="3410"/>
                          </a:lnTo>
                          <a:lnTo>
                            <a:pt x="3260" y="3309"/>
                          </a:lnTo>
                          <a:lnTo>
                            <a:pt x="3251" y="3238"/>
                          </a:lnTo>
                          <a:lnTo>
                            <a:pt x="3234" y="3168"/>
                          </a:lnTo>
                          <a:lnTo>
                            <a:pt x="3199" y="3088"/>
                          </a:lnTo>
                          <a:lnTo>
                            <a:pt x="3137" y="3005"/>
                          </a:lnTo>
                          <a:lnTo>
                            <a:pt x="3084" y="2921"/>
                          </a:lnTo>
                          <a:lnTo>
                            <a:pt x="3005" y="2833"/>
                          </a:lnTo>
                          <a:lnTo>
                            <a:pt x="2982" y="2810"/>
                          </a:lnTo>
                          <a:lnTo>
                            <a:pt x="3018" y="2802"/>
                          </a:lnTo>
                          <a:lnTo>
                            <a:pt x="3053" y="2780"/>
                          </a:lnTo>
                          <a:lnTo>
                            <a:pt x="3062" y="2730"/>
                          </a:lnTo>
                          <a:lnTo>
                            <a:pt x="3040" y="2646"/>
                          </a:lnTo>
                          <a:lnTo>
                            <a:pt x="2982" y="2558"/>
                          </a:lnTo>
                          <a:lnTo>
                            <a:pt x="2841" y="2395"/>
                          </a:lnTo>
                          <a:lnTo>
                            <a:pt x="2810" y="2298"/>
                          </a:lnTo>
                          <a:lnTo>
                            <a:pt x="2788" y="2232"/>
                          </a:lnTo>
                          <a:lnTo>
                            <a:pt x="2784" y="2174"/>
                          </a:lnTo>
                          <a:lnTo>
                            <a:pt x="2806" y="2108"/>
                          </a:lnTo>
                          <a:lnTo>
                            <a:pt x="2833" y="2055"/>
                          </a:lnTo>
                          <a:lnTo>
                            <a:pt x="2912" y="2020"/>
                          </a:lnTo>
                          <a:lnTo>
                            <a:pt x="3027" y="1967"/>
                          </a:lnTo>
                          <a:lnTo>
                            <a:pt x="3141" y="1919"/>
                          </a:lnTo>
                          <a:lnTo>
                            <a:pt x="3238" y="1844"/>
                          </a:lnTo>
                          <a:close/>
                        </a:path>
                      </a:pathLst>
                    </a:custGeom>
                    <a:solidFill>
                      <a:srgbClr val="ef0c07"/>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94" name=""/>
                    <p:cNvGrpSpPr/>
                    <p:nvPr/>
                  </p:nvGrpSpPr>
                  <p:grpSpPr>
                    <a:xfrm>
                      <a:off x="720720" y="2203560"/>
                      <a:ext cx="1102320" cy="1281600"/>
                      <a:chOff x="720720" y="2203560"/>
                      <a:chExt cx="1102320" cy="1281600"/>
                    </a:xfrm>
                  </p:grpSpPr>
                  <p:sp>
                    <p:nvSpPr>
                      <p:cNvPr id="995" name=""/>
                      <p:cNvSpPr/>
                      <p:nvPr/>
                    </p:nvSpPr>
                    <p:spPr>
                      <a:xfrm>
                        <a:off x="720720" y="2359080"/>
                        <a:ext cx="392400" cy="873360"/>
                      </a:xfrm>
                      <a:custGeom>
                        <a:avLst/>
                        <a:gdLst/>
                        <a:ahLst/>
                        <a:rect l="0" t="0" r="r" b="b"/>
                        <a:pathLst>
                          <a:path w="1090" h="2426">
                            <a:moveTo>
                              <a:pt x="35" y="26"/>
                            </a:moveTo>
                            <a:lnTo>
                              <a:pt x="92" y="13"/>
                            </a:lnTo>
                            <a:lnTo>
                              <a:pt x="158" y="0"/>
                            </a:lnTo>
                            <a:lnTo>
                              <a:pt x="229" y="0"/>
                            </a:lnTo>
                            <a:lnTo>
                              <a:pt x="295" y="22"/>
                            </a:lnTo>
                            <a:lnTo>
                              <a:pt x="361" y="74"/>
                            </a:lnTo>
                            <a:lnTo>
                              <a:pt x="423" y="145"/>
                            </a:lnTo>
                            <a:lnTo>
                              <a:pt x="480" y="229"/>
                            </a:lnTo>
                            <a:lnTo>
                              <a:pt x="533" y="330"/>
                            </a:lnTo>
                            <a:lnTo>
                              <a:pt x="583" y="423"/>
                            </a:lnTo>
                            <a:lnTo>
                              <a:pt x="644" y="537"/>
                            </a:lnTo>
                            <a:lnTo>
                              <a:pt x="706" y="643"/>
                            </a:lnTo>
                            <a:lnTo>
                              <a:pt x="799" y="762"/>
                            </a:lnTo>
                            <a:lnTo>
                              <a:pt x="900" y="859"/>
                            </a:lnTo>
                            <a:lnTo>
                              <a:pt x="975" y="934"/>
                            </a:lnTo>
                            <a:lnTo>
                              <a:pt x="1032" y="996"/>
                            </a:lnTo>
                            <a:lnTo>
                              <a:pt x="1072" y="1058"/>
                            </a:lnTo>
                            <a:lnTo>
                              <a:pt x="1090" y="1115"/>
                            </a:lnTo>
                            <a:lnTo>
                              <a:pt x="1076" y="1177"/>
                            </a:lnTo>
                            <a:lnTo>
                              <a:pt x="1046" y="1240"/>
                            </a:lnTo>
                            <a:lnTo>
                              <a:pt x="1015" y="1301"/>
                            </a:lnTo>
                            <a:lnTo>
                              <a:pt x="997" y="1447"/>
                            </a:lnTo>
                            <a:lnTo>
                              <a:pt x="993" y="1513"/>
                            </a:lnTo>
                            <a:lnTo>
                              <a:pt x="984" y="1610"/>
                            </a:lnTo>
                            <a:lnTo>
                              <a:pt x="953" y="1707"/>
                            </a:lnTo>
                            <a:lnTo>
                              <a:pt x="918" y="1813"/>
                            </a:lnTo>
                            <a:lnTo>
                              <a:pt x="869" y="1888"/>
                            </a:lnTo>
                            <a:lnTo>
                              <a:pt x="825" y="1976"/>
                            </a:lnTo>
                            <a:lnTo>
                              <a:pt x="794" y="2077"/>
                            </a:lnTo>
                            <a:lnTo>
                              <a:pt x="772" y="2166"/>
                            </a:lnTo>
                            <a:lnTo>
                              <a:pt x="763" y="2236"/>
                            </a:lnTo>
                            <a:lnTo>
                              <a:pt x="755" y="2320"/>
                            </a:lnTo>
                            <a:lnTo>
                              <a:pt x="768" y="2377"/>
                            </a:lnTo>
                            <a:lnTo>
                              <a:pt x="781" y="2426"/>
                            </a:lnTo>
                            <a:lnTo>
                              <a:pt x="750" y="2391"/>
                            </a:lnTo>
                            <a:lnTo>
                              <a:pt x="706" y="2333"/>
                            </a:lnTo>
                            <a:lnTo>
                              <a:pt x="671" y="2280"/>
                            </a:lnTo>
                            <a:lnTo>
                              <a:pt x="644" y="2214"/>
                            </a:lnTo>
                            <a:lnTo>
                              <a:pt x="618" y="2113"/>
                            </a:lnTo>
                            <a:lnTo>
                              <a:pt x="596" y="2038"/>
                            </a:lnTo>
                            <a:lnTo>
                              <a:pt x="578" y="1963"/>
                            </a:lnTo>
                            <a:lnTo>
                              <a:pt x="569" y="1879"/>
                            </a:lnTo>
                            <a:lnTo>
                              <a:pt x="565" y="1813"/>
                            </a:lnTo>
                            <a:lnTo>
                              <a:pt x="515" y="1795"/>
                            </a:lnTo>
                            <a:lnTo>
                              <a:pt x="449" y="1782"/>
                            </a:lnTo>
                            <a:lnTo>
                              <a:pt x="370" y="1769"/>
                            </a:lnTo>
                            <a:lnTo>
                              <a:pt x="304" y="1751"/>
                            </a:lnTo>
                            <a:lnTo>
                              <a:pt x="238" y="1742"/>
                            </a:lnTo>
                            <a:lnTo>
                              <a:pt x="189" y="1742"/>
                            </a:lnTo>
                            <a:lnTo>
                              <a:pt x="163" y="1694"/>
                            </a:lnTo>
                            <a:lnTo>
                              <a:pt x="136" y="1623"/>
                            </a:lnTo>
                            <a:lnTo>
                              <a:pt x="123" y="1531"/>
                            </a:lnTo>
                            <a:lnTo>
                              <a:pt x="114" y="1416"/>
                            </a:lnTo>
                            <a:lnTo>
                              <a:pt x="105" y="1315"/>
                            </a:lnTo>
                            <a:lnTo>
                              <a:pt x="79" y="1226"/>
                            </a:lnTo>
                            <a:lnTo>
                              <a:pt x="57" y="1155"/>
                            </a:lnTo>
                            <a:lnTo>
                              <a:pt x="0" y="1084"/>
                            </a:lnTo>
                            <a:lnTo>
                              <a:pt x="26" y="912"/>
                            </a:lnTo>
                            <a:lnTo>
                              <a:pt x="26" y="718"/>
                            </a:lnTo>
                            <a:lnTo>
                              <a:pt x="26" y="520"/>
                            </a:lnTo>
                            <a:lnTo>
                              <a:pt x="26" y="339"/>
                            </a:lnTo>
                            <a:lnTo>
                              <a:pt x="26" y="167"/>
                            </a:lnTo>
                            <a:lnTo>
                              <a:pt x="35" y="26"/>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96" name=""/>
                      <p:cNvSpPr/>
                      <p:nvPr/>
                    </p:nvSpPr>
                    <p:spPr>
                      <a:xfrm>
                        <a:off x="1459080" y="2243160"/>
                        <a:ext cx="268560" cy="346320"/>
                      </a:xfrm>
                      <a:custGeom>
                        <a:avLst/>
                        <a:gdLst/>
                        <a:ahLst/>
                        <a:rect l="0" t="0" r="r" b="b"/>
                        <a:pathLst>
                          <a:path w="746" h="962">
                            <a:moveTo>
                              <a:pt x="547" y="229"/>
                            </a:moveTo>
                            <a:lnTo>
                              <a:pt x="402" y="127"/>
                            </a:lnTo>
                            <a:lnTo>
                              <a:pt x="321" y="97"/>
                            </a:lnTo>
                            <a:lnTo>
                              <a:pt x="251" y="70"/>
                            </a:lnTo>
                            <a:lnTo>
                              <a:pt x="189" y="44"/>
                            </a:lnTo>
                            <a:lnTo>
                              <a:pt x="123" y="22"/>
                            </a:lnTo>
                            <a:lnTo>
                              <a:pt x="0" y="0"/>
                            </a:lnTo>
                            <a:lnTo>
                              <a:pt x="39" y="52"/>
                            </a:lnTo>
                            <a:lnTo>
                              <a:pt x="97" y="119"/>
                            </a:lnTo>
                            <a:lnTo>
                              <a:pt x="114" y="189"/>
                            </a:lnTo>
                            <a:lnTo>
                              <a:pt x="127" y="268"/>
                            </a:lnTo>
                            <a:lnTo>
                              <a:pt x="123" y="370"/>
                            </a:lnTo>
                            <a:lnTo>
                              <a:pt x="145" y="454"/>
                            </a:lnTo>
                            <a:lnTo>
                              <a:pt x="176" y="525"/>
                            </a:lnTo>
                            <a:lnTo>
                              <a:pt x="216" y="578"/>
                            </a:lnTo>
                            <a:lnTo>
                              <a:pt x="251" y="622"/>
                            </a:lnTo>
                            <a:lnTo>
                              <a:pt x="291" y="649"/>
                            </a:lnTo>
                            <a:lnTo>
                              <a:pt x="348" y="693"/>
                            </a:lnTo>
                            <a:lnTo>
                              <a:pt x="746" y="962"/>
                            </a:lnTo>
                            <a:lnTo>
                              <a:pt x="547" y="229"/>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97" name=""/>
                      <p:cNvSpPr/>
                      <p:nvPr/>
                    </p:nvSpPr>
                    <p:spPr>
                      <a:xfrm>
                        <a:off x="1230480" y="3160800"/>
                        <a:ext cx="351360" cy="111600"/>
                      </a:xfrm>
                      <a:custGeom>
                        <a:avLst/>
                        <a:gdLst/>
                        <a:ahLst/>
                        <a:rect l="0" t="0" r="r" b="b"/>
                        <a:pathLst>
                          <a:path w="976" h="310">
                            <a:moveTo>
                              <a:pt x="976" y="225"/>
                            </a:moveTo>
                            <a:lnTo>
                              <a:pt x="950" y="262"/>
                            </a:lnTo>
                            <a:lnTo>
                              <a:pt x="905" y="288"/>
                            </a:lnTo>
                            <a:lnTo>
                              <a:pt x="853" y="301"/>
                            </a:lnTo>
                            <a:lnTo>
                              <a:pt x="800" y="310"/>
                            </a:lnTo>
                            <a:lnTo>
                              <a:pt x="751" y="301"/>
                            </a:lnTo>
                            <a:lnTo>
                              <a:pt x="715" y="275"/>
                            </a:lnTo>
                            <a:lnTo>
                              <a:pt x="640" y="262"/>
                            </a:lnTo>
                            <a:lnTo>
                              <a:pt x="538" y="240"/>
                            </a:lnTo>
                            <a:lnTo>
                              <a:pt x="389" y="221"/>
                            </a:lnTo>
                            <a:lnTo>
                              <a:pt x="283" y="195"/>
                            </a:lnTo>
                            <a:lnTo>
                              <a:pt x="198" y="177"/>
                            </a:lnTo>
                            <a:lnTo>
                              <a:pt x="136" y="155"/>
                            </a:lnTo>
                            <a:lnTo>
                              <a:pt x="83" y="124"/>
                            </a:lnTo>
                            <a:lnTo>
                              <a:pt x="39" y="93"/>
                            </a:lnTo>
                            <a:lnTo>
                              <a:pt x="4" y="35"/>
                            </a:lnTo>
                            <a:lnTo>
                              <a:pt x="0" y="8"/>
                            </a:lnTo>
                            <a:lnTo>
                              <a:pt x="35" y="0"/>
                            </a:lnTo>
                            <a:lnTo>
                              <a:pt x="61" y="8"/>
                            </a:lnTo>
                            <a:lnTo>
                              <a:pt x="97" y="35"/>
                            </a:lnTo>
                            <a:lnTo>
                              <a:pt x="145" y="70"/>
                            </a:lnTo>
                            <a:lnTo>
                              <a:pt x="189" y="80"/>
                            </a:lnTo>
                            <a:lnTo>
                              <a:pt x="247" y="74"/>
                            </a:lnTo>
                            <a:lnTo>
                              <a:pt x="309" y="61"/>
                            </a:lnTo>
                            <a:lnTo>
                              <a:pt x="362" y="61"/>
                            </a:lnTo>
                            <a:lnTo>
                              <a:pt x="428" y="74"/>
                            </a:lnTo>
                            <a:lnTo>
                              <a:pt x="464" y="102"/>
                            </a:lnTo>
                            <a:lnTo>
                              <a:pt x="516" y="133"/>
                            </a:lnTo>
                            <a:lnTo>
                              <a:pt x="583" y="164"/>
                            </a:lnTo>
                            <a:lnTo>
                              <a:pt x="658" y="172"/>
                            </a:lnTo>
                            <a:lnTo>
                              <a:pt x="764" y="181"/>
                            </a:lnTo>
                            <a:lnTo>
                              <a:pt x="839" y="177"/>
                            </a:lnTo>
                            <a:lnTo>
                              <a:pt x="883" y="203"/>
                            </a:lnTo>
                            <a:lnTo>
                              <a:pt x="932" y="221"/>
                            </a:lnTo>
                            <a:lnTo>
                              <a:pt x="976" y="225"/>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98" name=""/>
                      <p:cNvSpPr/>
                      <p:nvPr/>
                    </p:nvSpPr>
                    <p:spPr>
                      <a:xfrm>
                        <a:off x="1192320" y="2700360"/>
                        <a:ext cx="630720" cy="503640"/>
                      </a:xfrm>
                      <a:custGeom>
                        <a:avLst/>
                        <a:gdLst/>
                        <a:ahLst/>
                        <a:rect l="0" t="0" r="r" b="b"/>
                        <a:pathLst>
                          <a:path w="1752" h="1399">
                            <a:moveTo>
                              <a:pt x="1187" y="0"/>
                            </a:moveTo>
                            <a:lnTo>
                              <a:pt x="1173" y="57"/>
                            </a:lnTo>
                            <a:lnTo>
                              <a:pt x="1160" y="132"/>
                            </a:lnTo>
                            <a:lnTo>
                              <a:pt x="1156" y="220"/>
                            </a:lnTo>
                            <a:lnTo>
                              <a:pt x="1165" y="313"/>
                            </a:lnTo>
                            <a:lnTo>
                              <a:pt x="1187" y="402"/>
                            </a:lnTo>
                            <a:lnTo>
                              <a:pt x="1235" y="534"/>
                            </a:lnTo>
                            <a:lnTo>
                              <a:pt x="1279" y="640"/>
                            </a:lnTo>
                            <a:lnTo>
                              <a:pt x="1316" y="728"/>
                            </a:lnTo>
                            <a:lnTo>
                              <a:pt x="1333" y="807"/>
                            </a:lnTo>
                            <a:lnTo>
                              <a:pt x="1351" y="882"/>
                            </a:lnTo>
                            <a:lnTo>
                              <a:pt x="1351" y="944"/>
                            </a:lnTo>
                            <a:lnTo>
                              <a:pt x="1338" y="993"/>
                            </a:lnTo>
                            <a:lnTo>
                              <a:pt x="1316" y="1037"/>
                            </a:lnTo>
                            <a:lnTo>
                              <a:pt x="1284" y="1015"/>
                            </a:lnTo>
                            <a:lnTo>
                              <a:pt x="1257" y="1002"/>
                            </a:lnTo>
                            <a:lnTo>
                              <a:pt x="1240" y="953"/>
                            </a:lnTo>
                            <a:lnTo>
                              <a:pt x="1213" y="904"/>
                            </a:lnTo>
                            <a:lnTo>
                              <a:pt x="1187" y="865"/>
                            </a:lnTo>
                            <a:lnTo>
                              <a:pt x="1138" y="812"/>
                            </a:lnTo>
                            <a:lnTo>
                              <a:pt x="1107" y="772"/>
                            </a:lnTo>
                            <a:lnTo>
                              <a:pt x="1090" y="715"/>
                            </a:lnTo>
                            <a:lnTo>
                              <a:pt x="1085" y="662"/>
                            </a:lnTo>
                            <a:lnTo>
                              <a:pt x="1090" y="600"/>
                            </a:lnTo>
                            <a:lnTo>
                              <a:pt x="1076" y="569"/>
                            </a:lnTo>
                            <a:lnTo>
                              <a:pt x="1046" y="600"/>
                            </a:lnTo>
                            <a:lnTo>
                              <a:pt x="1019" y="649"/>
                            </a:lnTo>
                            <a:lnTo>
                              <a:pt x="1002" y="706"/>
                            </a:lnTo>
                            <a:lnTo>
                              <a:pt x="993" y="772"/>
                            </a:lnTo>
                            <a:lnTo>
                              <a:pt x="1002" y="847"/>
                            </a:lnTo>
                            <a:lnTo>
                              <a:pt x="1019" y="940"/>
                            </a:lnTo>
                            <a:lnTo>
                              <a:pt x="1037" y="993"/>
                            </a:lnTo>
                            <a:lnTo>
                              <a:pt x="1037" y="1037"/>
                            </a:lnTo>
                            <a:lnTo>
                              <a:pt x="1019" y="1073"/>
                            </a:lnTo>
                            <a:lnTo>
                              <a:pt x="984" y="1091"/>
                            </a:lnTo>
                            <a:lnTo>
                              <a:pt x="931" y="1100"/>
                            </a:lnTo>
                            <a:lnTo>
                              <a:pt x="882" y="1086"/>
                            </a:lnTo>
                            <a:lnTo>
                              <a:pt x="856" y="1060"/>
                            </a:lnTo>
                            <a:lnTo>
                              <a:pt x="772" y="975"/>
                            </a:lnTo>
                            <a:lnTo>
                              <a:pt x="724" y="913"/>
                            </a:lnTo>
                            <a:lnTo>
                              <a:pt x="684" y="852"/>
                            </a:lnTo>
                            <a:lnTo>
                              <a:pt x="627" y="781"/>
                            </a:lnTo>
                            <a:lnTo>
                              <a:pt x="552" y="688"/>
                            </a:lnTo>
                            <a:lnTo>
                              <a:pt x="472" y="591"/>
                            </a:lnTo>
                            <a:lnTo>
                              <a:pt x="401" y="508"/>
                            </a:lnTo>
                            <a:lnTo>
                              <a:pt x="321" y="437"/>
                            </a:lnTo>
                            <a:lnTo>
                              <a:pt x="277" y="415"/>
                            </a:lnTo>
                            <a:lnTo>
                              <a:pt x="229" y="397"/>
                            </a:lnTo>
                            <a:lnTo>
                              <a:pt x="176" y="389"/>
                            </a:lnTo>
                            <a:lnTo>
                              <a:pt x="97" y="393"/>
                            </a:lnTo>
                            <a:lnTo>
                              <a:pt x="44" y="402"/>
                            </a:lnTo>
                            <a:lnTo>
                              <a:pt x="0" y="415"/>
                            </a:lnTo>
                            <a:lnTo>
                              <a:pt x="405" y="1108"/>
                            </a:lnTo>
                            <a:lnTo>
                              <a:pt x="966" y="1399"/>
                            </a:lnTo>
                            <a:lnTo>
                              <a:pt x="1085" y="1360"/>
                            </a:lnTo>
                            <a:lnTo>
                              <a:pt x="1187" y="1333"/>
                            </a:lnTo>
                            <a:lnTo>
                              <a:pt x="1279" y="1302"/>
                            </a:lnTo>
                            <a:lnTo>
                              <a:pt x="1373" y="1280"/>
                            </a:lnTo>
                            <a:lnTo>
                              <a:pt x="1479" y="1254"/>
                            </a:lnTo>
                            <a:lnTo>
                              <a:pt x="1554" y="1245"/>
                            </a:lnTo>
                            <a:lnTo>
                              <a:pt x="1629" y="1263"/>
                            </a:lnTo>
                            <a:lnTo>
                              <a:pt x="1677" y="1280"/>
                            </a:lnTo>
                            <a:lnTo>
                              <a:pt x="1721" y="1316"/>
                            </a:lnTo>
                            <a:lnTo>
                              <a:pt x="1743" y="1333"/>
                            </a:lnTo>
                            <a:lnTo>
                              <a:pt x="1748" y="1307"/>
                            </a:lnTo>
                            <a:lnTo>
                              <a:pt x="1752" y="1276"/>
                            </a:lnTo>
                            <a:lnTo>
                              <a:pt x="1752" y="1236"/>
                            </a:lnTo>
                            <a:lnTo>
                              <a:pt x="1730" y="1192"/>
                            </a:lnTo>
                            <a:lnTo>
                              <a:pt x="1699" y="1139"/>
                            </a:lnTo>
                            <a:lnTo>
                              <a:pt x="1655" y="1086"/>
                            </a:lnTo>
                            <a:lnTo>
                              <a:pt x="1620" y="1037"/>
                            </a:lnTo>
                            <a:lnTo>
                              <a:pt x="1576" y="988"/>
                            </a:lnTo>
                            <a:lnTo>
                              <a:pt x="1532" y="940"/>
                            </a:lnTo>
                            <a:lnTo>
                              <a:pt x="1501" y="882"/>
                            </a:lnTo>
                            <a:lnTo>
                              <a:pt x="1470" y="834"/>
                            </a:lnTo>
                            <a:lnTo>
                              <a:pt x="1430" y="772"/>
                            </a:lnTo>
                            <a:lnTo>
                              <a:pt x="1386" y="715"/>
                            </a:lnTo>
                            <a:lnTo>
                              <a:pt x="1346" y="658"/>
                            </a:lnTo>
                            <a:lnTo>
                              <a:pt x="1306" y="587"/>
                            </a:lnTo>
                            <a:lnTo>
                              <a:pt x="1279" y="512"/>
                            </a:lnTo>
                            <a:lnTo>
                              <a:pt x="1253" y="441"/>
                            </a:lnTo>
                            <a:lnTo>
                              <a:pt x="1226" y="367"/>
                            </a:lnTo>
                            <a:lnTo>
                              <a:pt x="1213" y="291"/>
                            </a:lnTo>
                            <a:lnTo>
                              <a:pt x="1209" y="216"/>
                            </a:lnTo>
                            <a:lnTo>
                              <a:pt x="1209" y="145"/>
                            </a:lnTo>
                            <a:lnTo>
                              <a:pt x="1187" y="0"/>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99" name=""/>
                      <p:cNvSpPr/>
                      <p:nvPr/>
                    </p:nvSpPr>
                    <p:spPr>
                      <a:xfrm>
                        <a:off x="1154160" y="2838600"/>
                        <a:ext cx="475200" cy="403560"/>
                      </a:xfrm>
                      <a:custGeom>
                        <a:avLst/>
                        <a:gdLst/>
                        <a:ahLst/>
                        <a:rect l="0" t="0" r="r" b="b"/>
                        <a:pathLst>
                          <a:path w="1320" h="1121">
                            <a:moveTo>
                              <a:pt x="1126" y="1116"/>
                            </a:moveTo>
                            <a:lnTo>
                              <a:pt x="1183" y="1121"/>
                            </a:lnTo>
                            <a:lnTo>
                              <a:pt x="1236" y="1116"/>
                            </a:lnTo>
                            <a:lnTo>
                              <a:pt x="1280" y="1107"/>
                            </a:lnTo>
                            <a:lnTo>
                              <a:pt x="1311" y="1076"/>
                            </a:lnTo>
                            <a:lnTo>
                              <a:pt x="1320" y="1041"/>
                            </a:lnTo>
                            <a:lnTo>
                              <a:pt x="1316" y="997"/>
                            </a:lnTo>
                            <a:lnTo>
                              <a:pt x="1294" y="949"/>
                            </a:lnTo>
                            <a:lnTo>
                              <a:pt x="1258" y="922"/>
                            </a:lnTo>
                            <a:lnTo>
                              <a:pt x="1197" y="904"/>
                            </a:lnTo>
                            <a:lnTo>
                              <a:pt x="1135" y="909"/>
                            </a:lnTo>
                            <a:lnTo>
                              <a:pt x="1064" y="896"/>
                            </a:lnTo>
                            <a:lnTo>
                              <a:pt x="1011" y="860"/>
                            </a:lnTo>
                            <a:lnTo>
                              <a:pt x="966" y="812"/>
                            </a:lnTo>
                            <a:lnTo>
                              <a:pt x="891" y="772"/>
                            </a:lnTo>
                            <a:lnTo>
                              <a:pt x="830" y="728"/>
                            </a:lnTo>
                            <a:lnTo>
                              <a:pt x="763" y="702"/>
                            </a:lnTo>
                            <a:lnTo>
                              <a:pt x="697" y="680"/>
                            </a:lnTo>
                            <a:lnTo>
                              <a:pt x="622" y="640"/>
                            </a:lnTo>
                            <a:lnTo>
                              <a:pt x="569" y="605"/>
                            </a:lnTo>
                            <a:lnTo>
                              <a:pt x="521" y="533"/>
                            </a:lnTo>
                            <a:lnTo>
                              <a:pt x="472" y="463"/>
                            </a:lnTo>
                            <a:lnTo>
                              <a:pt x="411" y="361"/>
                            </a:lnTo>
                            <a:lnTo>
                              <a:pt x="340" y="264"/>
                            </a:lnTo>
                            <a:lnTo>
                              <a:pt x="277" y="180"/>
                            </a:lnTo>
                            <a:lnTo>
                              <a:pt x="216" y="123"/>
                            </a:lnTo>
                            <a:lnTo>
                              <a:pt x="163" y="74"/>
                            </a:lnTo>
                            <a:lnTo>
                              <a:pt x="105" y="26"/>
                            </a:lnTo>
                            <a:lnTo>
                              <a:pt x="52" y="4"/>
                            </a:lnTo>
                            <a:lnTo>
                              <a:pt x="0" y="0"/>
                            </a:lnTo>
                            <a:lnTo>
                              <a:pt x="35" y="35"/>
                            </a:lnTo>
                            <a:lnTo>
                              <a:pt x="57" y="79"/>
                            </a:lnTo>
                            <a:lnTo>
                              <a:pt x="79" y="158"/>
                            </a:lnTo>
                            <a:lnTo>
                              <a:pt x="88" y="229"/>
                            </a:lnTo>
                            <a:lnTo>
                              <a:pt x="92" y="299"/>
                            </a:lnTo>
                            <a:lnTo>
                              <a:pt x="79" y="370"/>
                            </a:lnTo>
                            <a:lnTo>
                              <a:pt x="57" y="440"/>
                            </a:lnTo>
                            <a:lnTo>
                              <a:pt x="30" y="515"/>
                            </a:lnTo>
                            <a:lnTo>
                              <a:pt x="52" y="555"/>
                            </a:lnTo>
                            <a:lnTo>
                              <a:pt x="79" y="587"/>
                            </a:lnTo>
                            <a:lnTo>
                              <a:pt x="123" y="627"/>
                            </a:lnTo>
                            <a:lnTo>
                              <a:pt x="180" y="653"/>
                            </a:lnTo>
                            <a:lnTo>
                              <a:pt x="246" y="666"/>
                            </a:lnTo>
                            <a:lnTo>
                              <a:pt x="308" y="666"/>
                            </a:lnTo>
                            <a:lnTo>
                              <a:pt x="362" y="662"/>
                            </a:lnTo>
                            <a:lnTo>
                              <a:pt x="380" y="688"/>
                            </a:lnTo>
                            <a:lnTo>
                              <a:pt x="384" y="724"/>
                            </a:lnTo>
                            <a:lnTo>
                              <a:pt x="362" y="759"/>
                            </a:lnTo>
                            <a:lnTo>
                              <a:pt x="349" y="807"/>
                            </a:lnTo>
                            <a:lnTo>
                              <a:pt x="349" y="852"/>
                            </a:lnTo>
                            <a:lnTo>
                              <a:pt x="375" y="896"/>
                            </a:lnTo>
                            <a:lnTo>
                              <a:pt x="411" y="918"/>
                            </a:lnTo>
                            <a:lnTo>
                              <a:pt x="450" y="904"/>
                            </a:lnTo>
                            <a:lnTo>
                              <a:pt x="494" y="918"/>
                            </a:lnTo>
                            <a:lnTo>
                              <a:pt x="534" y="944"/>
                            </a:lnTo>
                            <a:lnTo>
                              <a:pt x="596" y="971"/>
                            </a:lnTo>
                            <a:lnTo>
                              <a:pt x="666" y="988"/>
                            </a:lnTo>
                            <a:lnTo>
                              <a:pt x="750" y="1002"/>
                            </a:lnTo>
                            <a:lnTo>
                              <a:pt x="816" y="1010"/>
                            </a:lnTo>
                            <a:lnTo>
                              <a:pt x="878" y="1002"/>
                            </a:lnTo>
                            <a:lnTo>
                              <a:pt x="962" y="1015"/>
                            </a:lnTo>
                            <a:lnTo>
                              <a:pt x="998" y="1041"/>
                            </a:lnTo>
                            <a:lnTo>
                              <a:pt x="1069" y="1085"/>
                            </a:lnTo>
                            <a:lnTo>
                              <a:pt x="1126" y="1116"/>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0" name=""/>
                      <p:cNvSpPr/>
                      <p:nvPr/>
                    </p:nvSpPr>
                    <p:spPr>
                      <a:xfrm>
                        <a:off x="1668600" y="3137040"/>
                        <a:ext cx="143280" cy="52920"/>
                      </a:xfrm>
                      <a:custGeom>
                        <a:avLst/>
                        <a:gdLst/>
                        <a:ahLst/>
                        <a:rect l="0" t="0" r="r" b="b"/>
                        <a:pathLst>
                          <a:path w="398" h="147">
                            <a:moveTo>
                              <a:pt x="398" y="93"/>
                            </a:moveTo>
                            <a:lnTo>
                              <a:pt x="385" y="49"/>
                            </a:lnTo>
                            <a:lnTo>
                              <a:pt x="359" y="22"/>
                            </a:lnTo>
                            <a:lnTo>
                              <a:pt x="319" y="4"/>
                            </a:lnTo>
                            <a:lnTo>
                              <a:pt x="274" y="0"/>
                            </a:lnTo>
                            <a:lnTo>
                              <a:pt x="221" y="13"/>
                            </a:lnTo>
                            <a:lnTo>
                              <a:pt x="146" y="30"/>
                            </a:lnTo>
                            <a:lnTo>
                              <a:pt x="83" y="49"/>
                            </a:lnTo>
                            <a:lnTo>
                              <a:pt x="0" y="71"/>
                            </a:lnTo>
                            <a:lnTo>
                              <a:pt x="102" y="89"/>
                            </a:lnTo>
                            <a:lnTo>
                              <a:pt x="159" y="112"/>
                            </a:lnTo>
                            <a:lnTo>
                              <a:pt x="221" y="129"/>
                            </a:lnTo>
                            <a:lnTo>
                              <a:pt x="261" y="143"/>
                            </a:lnTo>
                            <a:lnTo>
                              <a:pt x="319" y="147"/>
                            </a:lnTo>
                            <a:lnTo>
                              <a:pt x="354" y="143"/>
                            </a:lnTo>
                            <a:lnTo>
                              <a:pt x="385" y="121"/>
                            </a:lnTo>
                            <a:lnTo>
                              <a:pt x="398" y="93"/>
                            </a:lnTo>
                            <a:close/>
                          </a:path>
                        </a:pathLst>
                      </a:custGeom>
                      <a:solidFill>
                        <a:srgbClr val="990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1001" name=""/>
                      <p:cNvSpPr/>
                      <p:nvPr/>
                    </p:nvSpPr>
                    <p:spPr>
                      <a:xfrm>
                        <a:off x="1492200" y="2703600"/>
                        <a:ext cx="179640" cy="370080"/>
                      </a:xfrm>
                      <a:custGeom>
                        <a:avLst/>
                        <a:gdLst/>
                        <a:ahLst/>
                        <a:rect l="0" t="0" r="r" b="b"/>
                        <a:pathLst>
                          <a:path w="499" h="1028">
                            <a:moveTo>
                              <a:pt x="283" y="0"/>
                            </a:moveTo>
                            <a:lnTo>
                              <a:pt x="296" y="141"/>
                            </a:lnTo>
                            <a:lnTo>
                              <a:pt x="309" y="291"/>
                            </a:lnTo>
                            <a:lnTo>
                              <a:pt x="344" y="427"/>
                            </a:lnTo>
                            <a:lnTo>
                              <a:pt x="375" y="502"/>
                            </a:lnTo>
                            <a:lnTo>
                              <a:pt x="402" y="578"/>
                            </a:lnTo>
                            <a:lnTo>
                              <a:pt x="433" y="644"/>
                            </a:lnTo>
                            <a:lnTo>
                              <a:pt x="455" y="702"/>
                            </a:lnTo>
                            <a:lnTo>
                              <a:pt x="490" y="799"/>
                            </a:lnTo>
                            <a:lnTo>
                              <a:pt x="499" y="865"/>
                            </a:lnTo>
                            <a:lnTo>
                              <a:pt x="499" y="944"/>
                            </a:lnTo>
                            <a:lnTo>
                              <a:pt x="494" y="988"/>
                            </a:lnTo>
                            <a:lnTo>
                              <a:pt x="481" y="1028"/>
                            </a:lnTo>
                            <a:lnTo>
                              <a:pt x="455" y="1010"/>
                            </a:lnTo>
                            <a:lnTo>
                              <a:pt x="433" y="993"/>
                            </a:lnTo>
                            <a:lnTo>
                              <a:pt x="402" y="1028"/>
                            </a:lnTo>
                            <a:lnTo>
                              <a:pt x="419" y="988"/>
                            </a:lnTo>
                            <a:lnTo>
                              <a:pt x="415" y="953"/>
                            </a:lnTo>
                            <a:lnTo>
                              <a:pt x="393" y="904"/>
                            </a:lnTo>
                            <a:lnTo>
                              <a:pt x="367" y="865"/>
                            </a:lnTo>
                            <a:lnTo>
                              <a:pt x="327" y="821"/>
                            </a:lnTo>
                            <a:lnTo>
                              <a:pt x="296" y="794"/>
                            </a:lnTo>
                            <a:lnTo>
                              <a:pt x="274" y="763"/>
                            </a:lnTo>
                            <a:lnTo>
                              <a:pt x="256" y="706"/>
                            </a:lnTo>
                            <a:lnTo>
                              <a:pt x="246" y="640"/>
                            </a:lnTo>
                            <a:lnTo>
                              <a:pt x="252" y="591"/>
                            </a:lnTo>
                            <a:lnTo>
                              <a:pt x="229" y="547"/>
                            </a:lnTo>
                            <a:lnTo>
                              <a:pt x="185" y="521"/>
                            </a:lnTo>
                            <a:lnTo>
                              <a:pt x="136" y="498"/>
                            </a:lnTo>
                            <a:lnTo>
                              <a:pt x="101" y="485"/>
                            </a:lnTo>
                            <a:lnTo>
                              <a:pt x="57" y="476"/>
                            </a:lnTo>
                            <a:lnTo>
                              <a:pt x="22" y="454"/>
                            </a:lnTo>
                            <a:lnTo>
                              <a:pt x="0" y="436"/>
                            </a:lnTo>
                            <a:lnTo>
                              <a:pt x="35" y="432"/>
                            </a:lnTo>
                            <a:lnTo>
                              <a:pt x="74" y="427"/>
                            </a:lnTo>
                            <a:lnTo>
                              <a:pt x="110" y="414"/>
                            </a:lnTo>
                            <a:lnTo>
                              <a:pt x="149" y="392"/>
                            </a:lnTo>
                            <a:lnTo>
                              <a:pt x="180" y="374"/>
                            </a:lnTo>
                            <a:lnTo>
                              <a:pt x="202" y="313"/>
                            </a:lnTo>
                            <a:lnTo>
                              <a:pt x="211" y="220"/>
                            </a:lnTo>
                            <a:lnTo>
                              <a:pt x="229" y="119"/>
                            </a:lnTo>
                            <a:lnTo>
                              <a:pt x="283" y="0"/>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2" name=""/>
                      <p:cNvSpPr/>
                      <p:nvPr/>
                    </p:nvSpPr>
                    <p:spPr>
                      <a:xfrm>
                        <a:off x="1714680" y="2832120"/>
                        <a:ext cx="38520" cy="206640"/>
                      </a:xfrm>
                      <a:custGeom>
                        <a:avLst/>
                        <a:gdLst/>
                        <a:ahLst/>
                        <a:rect l="0" t="0" r="r" b="b"/>
                        <a:pathLst>
                          <a:path w="107" h="574">
                            <a:moveTo>
                              <a:pt x="45" y="362"/>
                            </a:moveTo>
                            <a:lnTo>
                              <a:pt x="31" y="419"/>
                            </a:lnTo>
                            <a:lnTo>
                              <a:pt x="49" y="468"/>
                            </a:lnTo>
                            <a:lnTo>
                              <a:pt x="62" y="512"/>
                            </a:lnTo>
                            <a:lnTo>
                              <a:pt x="81" y="574"/>
                            </a:lnTo>
                            <a:lnTo>
                              <a:pt x="53" y="534"/>
                            </a:lnTo>
                            <a:lnTo>
                              <a:pt x="26" y="486"/>
                            </a:lnTo>
                            <a:lnTo>
                              <a:pt x="0" y="433"/>
                            </a:lnTo>
                            <a:lnTo>
                              <a:pt x="0" y="371"/>
                            </a:lnTo>
                            <a:lnTo>
                              <a:pt x="36" y="309"/>
                            </a:lnTo>
                            <a:lnTo>
                              <a:pt x="75" y="224"/>
                            </a:lnTo>
                            <a:lnTo>
                              <a:pt x="75" y="171"/>
                            </a:lnTo>
                            <a:lnTo>
                              <a:pt x="62" y="97"/>
                            </a:lnTo>
                            <a:lnTo>
                              <a:pt x="31" y="0"/>
                            </a:lnTo>
                            <a:lnTo>
                              <a:pt x="75" y="57"/>
                            </a:lnTo>
                            <a:lnTo>
                              <a:pt x="103" y="119"/>
                            </a:lnTo>
                            <a:lnTo>
                              <a:pt x="107" y="211"/>
                            </a:lnTo>
                            <a:lnTo>
                              <a:pt x="94" y="282"/>
                            </a:lnTo>
                            <a:lnTo>
                              <a:pt x="45" y="362"/>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3" name=""/>
                      <p:cNvSpPr/>
                      <p:nvPr/>
                    </p:nvSpPr>
                    <p:spPr>
                      <a:xfrm>
                        <a:off x="1562040" y="2475000"/>
                        <a:ext cx="168480" cy="536760"/>
                      </a:xfrm>
                      <a:custGeom>
                        <a:avLst/>
                        <a:gdLst/>
                        <a:ahLst/>
                        <a:rect l="0" t="0" r="r" b="b"/>
                        <a:pathLst>
                          <a:path w="468" h="1491">
                            <a:moveTo>
                              <a:pt x="468" y="1491"/>
                            </a:moveTo>
                            <a:lnTo>
                              <a:pt x="441" y="1460"/>
                            </a:lnTo>
                            <a:lnTo>
                              <a:pt x="362" y="1354"/>
                            </a:lnTo>
                            <a:lnTo>
                              <a:pt x="300" y="1253"/>
                            </a:lnTo>
                            <a:lnTo>
                              <a:pt x="239" y="1121"/>
                            </a:lnTo>
                            <a:lnTo>
                              <a:pt x="198" y="993"/>
                            </a:lnTo>
                            <a:lnTo>
                              <a:pt x="180" y="891"/>
                            </a:lnTo>
                            <a:lnTo>
                              <a:pt x="171" y="746"/>
                            </a:lnTo>
                            <a:lnTo>
                              <a:pt x="158" y="617"/>
                            </a:lnTo>
                            <a:lnTo>
                              <a:pt x="211" y="643"/>
                            </a:lnTo>
                            <a:lnTo>
                              <a:pt x="278" y="687"/>
                            </a:lnTo>
                            <a:lnTo>
                              <a:pt x="331" y="746"/>
                            </a:lnTo>
                            <a:lnTo>
                              <a:pt x="336" y="687"/>
                            </a:lnTo>
                            <a:lnTo>
                              <a:pt x="327" y="612"/>
                            </a:lnTo>
                            <a:lnTo>
                              <a:pt x="305" y="555"/>
                            </a:lnTo>
                            <a:lnTo>
                              <a:pt x="269" y="485"/>
                            </a:lnTo>
                            <a:lnTo>
                              <a:pt x="224" y="414"/>
                            </a:lnTo>
                            <a:lnTo>
                              <a:pt x="180" y="348"/>
                            </a:lnTo>
                            <a:lnTo>
                              <a:pt x="145" y="282"/>
                            </a:lnTo>
                            <a:lnTo>
                              <a:pt x="105" y="207"/>
                            </a:lnTo>
                            <a:lnTo>
                              <a:pt x="83" y="149"/>
                            </a:lnTo>
                            <a:lnTo>
                              <a:pt x="52" y="79"/>
                            </a:lnTo>
                            <a:lnTo>
                              <a:pt x="30" y="39"/>
                            </a:lnTo>
                            <a:lnTo>
                              <a:pt x="0" y="0"/>
                            </a:lnTo>
                            <a:lnTo>
                              <a:pt x="52" y="26"/>
                            </a:lnTo>
                            <a:lnTo>
                              <a:pt x="105" y="52"/>
                            </a:lnTo>
                            <a:lnTo>
                              <a:pt x="171" y="101"/>
                            </a:lnTo>
                            <a:lnTo>
                              <a:pt x="211" y="145"/>
                            </a:lnTo>
                            <a:lnTo>
                              <a:pt x="252" y="180"/>
                            </a:lnTo>
                            <a:lnTo>
                              <a:pt x="300" y="321"/>
                            </a:lnTo>
                            <a:lnTo>
                              <a:pt x="433" y="555"/>
                            </a:lnTo>
                            <a:lnTo>
                              <a:pt x="411" y="847"/>
                            </a:lnTo>
                            <a:lnTo>
                              <a:pt x="455" y="1010"/>
                            </a:lnTo>
                            <a:lnTo>
                              <a:pt x="424" y="1143"/>
                            </a:lnTo>
                            <a:lnTo>
                              <a:pt x="406" y="1262"/>
                            </a:lnTo>
                            <a:lnTo>
                              <a:pt x="424" y="1363"/>
                            </a:lnTo>
                            <a:lnTo>
                              <a:pt x="468" y="1491"/>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4" name=""/>
                      <p:cNvSpPr/>
                      <p:nvPr/>
                    </p:nvSpPr>
                    <p:spPr>
                      <a:xfrm>
                        <a:off x="741240" y="2424240"/>
                        <a:ext cx="192600" cy="614880"/>
                      </a:xfrm>
                      <a:custGeom>
                        <a:avLst/>
                        <a:gdLst/>
                        <a:ahLst/>
                        <a:rect l="0" t="0" r="r" b="b"/>
                        <a:pathLst>
                          <a:path w="535" h="1708">
                            <a:moveTo>
                              <a:pt x="509" y="1633"/>
                            </a:moveTo>
                            <a:lnTo>
                              <a:pt x="517" y="1708"/>
                            </a:lnTo>
                            <a:lnTo>
                              <a:pt x="535" y="1624"/>
                            </a:lnTo>
                            <a:lnTo>
                              <a:pt x="535" y="1549"/>
                            </a:lnTo>
                            <a:lnTo>
                              <a:pt x="522" y="1470"/>
                            </a:lnTo>
                            <a:lnTo>
                              <a:pt x="517" y="1369"/>
                            </a:lnTo>
                            <a:lnTo>
                              <a:pt x="509" y="1307"/>
                            </a:lnTo>
                            <a:lnTo>
                              <a:pt x="465" y="1160"/>
                            </a:lnTo>
                            <a:lnTo>
                              <a:pt x="451" y="1068"/>
                            </a:lnTo>
                            <a:lnTo>
                              <a:pt x="465" y="962"/>
                            </a:lnTo>
                            <a:lnTo>
                              <a:pt x="451" y="865"/>
                            </a:lnTo>
                            <a:lnTo>
                              <a:pt x="429" y="777"/>
                            </a:lnTo>
                            <a:lnTo>
                              <a:pt x="403" y="702"/>
                            </a:lnTo>
                            <a:lnTo>
                              <a:pt x="380" y="622"/>
                            </a:lnTo>
                            <a:lnTo>
                              <a:pt x="371" y="521"/>
                            </a:lnTo>
                            <a:lnTo>
                              <a:pt x="353" y="418"/>
                            </a:lnTo>
                            <a:lnTo>
                              <a:pt x="336" y="335"/>
                            </a:lnTo>
                            <a:lnTo>
                              <a:pt x="300" y="207"/>
                            </a:lnTo>
                            <a:lnTo>
                              <a:pt x="274" y="105"/>
                            </a:lnTo>
                            <a:lnTo>
                              <a:pt x="221" y="0"/>
                            </a:lnTo>
                            <a:lnTo>
                              <a:pt x="225" y="48"/>
                            </a:lnTo>
                            <a:lnTo>
                              <a:pt x="221" y="123"/>
                            </a:lnTo>
                            <a:lnTo>
                              <a:pt x="221" y="202"/>
                            </a:lnTo>
                            <a:lnTo>
                              <a:pt x="225" y="317"/>
                            </a:lnTo>
                            <a:lnTo>
                              <a:pt x="252" y="446"/>
                            </a:lnTo>
                            <a:lnTo>
                              <a:pt x="199" y="361"/>
                            </a:lnTo>
                            <a:lnTo>
                              <a:pt x="155" y="299"/>
                            </a:lnTo>
                            <a:lnTo>
                              <a:pt x="101" y="229"/>
                            </a:lnTo>
                            <a:lnTo>
                              <a:pt x="52" y="167"/>
                            </a:lnTo>
                            <a:lnTo>
                              <a:pt x="0" y="123"/>
                            </a:lnTo>
                            <a:lnTo>
                              <a:pt x="74" y="238"/>
                            </a:lnTo>
                            <a:lnTo>
                              <a:pt x="119" y="313"/>
                            </a:lnTo>
                            <a:lnTo>
                              <a:pt x="195" y="418"/>
                            </a:lnTo>
                            <a:lnTo>
                              <a:pt x="243" y="516"/>
                            </a:lnTo>
                            <a:lnTo>
                              <a:pt x="239" y="574"/>
                            </a:lnTo>
                            <a:lnTo>
                              <a:pt x="243" y="662"/>
                            </a:lnTo>
                            <a:lnTo>
                              <a:pt x="274" y="759"/>
                            </a:lnTo>
                            <a:lnTo>
                              <a:pt x="300" y="825"/>
                            </a:lnTo>
                            <a:lnTo>
                              <a:pt x="340" y="896"/>
                            </a:lnTo>
                            <a:lnTo>
                              <a:pt x="322" y="1002"/>
                            </a:lnTo>
                            <a:lnTo>
                              <a:pt x="336" y="1103"/>
                            </a:lnTo>
                            <a:lnTo>
                              <a:pt x="367" y="1226"/>
                            </a:lnTo>
                            <a:lnTo>
                              <a:pt x="416" y="1355"/>
                            </a:lnTo>
                            <a:lnTo>
                              <a:pt x="447" y="1457"/>
                            </a:lnTo>
                            <a:lnTo>
                              <a:pt x="403" y="1421"/>
                            </a:lnTo>
                            <a:lnTo>
                              <a:pt x="367" y="1369"/>
                            </a:lnTo>
                            <a:lnTo>
                              <a:pt x="371" y="1421"/>
                            </a:lnTo>
                            <a:lnTo>
                              <a:pt x="403" y="1496"/>
                            </a:lnTo>
                            <a:lnTo>
                              <a:pt x="438" y="1540"/>
                            </a:lnTo>
                            <a:lnTo>
                              <a:pt x="460" y="1580"/>
                            </a:lnTo>
                            <a:lnTo>
                              <a:pt x="416" y="1589"/>
                            </a:lnTo>
                            <a:lnTo>
                              <a:pt x="344" y="1589"/>
                            </a:lnTo>
                            <a:lnTo>
                              <a:pt x="412" y="1602"/>
                            </a:lnTo>
                            <a:lnTo>
                              <a:pt x="473" y="1620"/>
                            </a:lnTo>
                            <a:lnTo>
                              <a:pt x="509" y="1633"/>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05" name=""/>
                      <p:cNvSpPr/>
                      <p:nvPr/>
                    </p:nvSpPr>
                    <p:spPr>
                      <a:xfrm>
                        <a:off x="950760" y="2203560"/>
                        <a:ext cx="500400" cy="87840"/>
                      </a:xfrm>
                      <a:custGeom>
                        <a:avLst/>
                        <a:gdLst/>
                        <a:ahLst/>
                        <a:rect l="0" t="0" r="r" b="b"/>
                        <a:pathLst>
                          <a:path w="1390" h="244">
                            <a:moveTo>
                              <a:pt x="1390" y="0"/>
                            </a:moveTo>
                            <a:lnTo>
                              <a:pt x="1354" y="44"/>
                            </a:lnTo>
                            <a:lnTo>
                              <a:pt x="1297" y="89"/>
                            </a:lnTo>
                            <a:lnTo>
                              <a:pt x="1222" y="128"/>
                            </a:lnTo>
                            <a:lnTo>
                              <a:pt x="1156" y="164"/>
                            </a:lnTo>
                            <a:lnTo>
                              <a:pt x="1072" y="191"/>
                            </a:lnTo>
                            <a:lnTo>
                              <a:pt x="988" y="218"/>
                            </a:lnTo>
                            <a:lnTo>
                              <a:pt x="874" y="235"/>
                            </a:lnTo>
                            <a:lnTo>
                              <a:pt x="777" y="244"/>
                            </a:lnTo>
                            <a:lnTo>
                              <a:pt x="630" y="244"/>
                            </a:lnTo>
                            <a:lnTo>
                              <a:pt x="529" y="240"/>
                            </a:lnTo>
                            <a:lnTo>
                              <a:pt x="423" y="226"/>
                            </a:lnTo>
                            <a:lnTo>
                              <a:pt x="321" y="196"/>
                            </a:lnTo>
                            <a:lnTo>
                              <a:pt x="229" y="164"/>
                            </a:lnTo>
                            <a:lnTo>
                              <a:pt x="141" y="115"/>
                            </a:lnTo>
                            <a:lnTo>
                              <a:pt x="57" y="62"/>
                            </a:lnTo>
                            <a:lnTo>
                              <a:pt x="0" y="17"/>
                            </a:lnTo>
                            <a:lnTo>
                              <a:pt x="1390" y="0"/>
                            </a:lnTo>
                            <a:close/>
                          </a:path>
                        </a:pathLst>
                      </a:custGeom>
                      <a:solidFill>
                        <a:srgbClr val="990000"/>
                      </a:solidFill>
                      <a:ln w="12600">
                        <a:solidFill>
                          <a:srgbClr val="df3f5f"/>
                        </a:solidFill>
                        <a:round/>
                      </a:ln>
                    </p:spPr>
                    <p:txBody>
                      <a:bodyPr lIns="96120" rIns="96120" tIns="36720" bIns="36720" anchor="t">
                        <a:noAutofit/>
                      </a:bodyPr>
                      <a:p>
                        <a:endParaRPr b="0" lang="en-US" sz="1800" spc="-1" strike="noStrike">
                          <a:solidFill>
                            <a:srgbClr val="ffffff"/>
                          </a:solidFill>
                          <a:latin typeface="Arial"/>
                        </a:endParaRPr>
                      </a:p>
                    </p:txBody>
                  </p:sp>
                  <p:sp>
                    <p:nvSpPr>
                      <p:cNvPr id="1006" name=""/>
                      <p:cNvSpPr/>
                      <p:nvPr/>
                    </p:nvSpPr>
                    <p:spPr>
                      <a:xfrm>
                        <a:off x="1001880" y="3225960"/>
                        <a:ext cx="511560" cy="259200"/>
                      </a:xfrm>
                      <a:custGeom>
                        <a:avLst/>
                        <a:gdLst/>
                        <a:ahLst/>
                        <a:rect l="0" t="0" r="r" b="b"/>
                        <a:pathLst>
                          <a:path w="1421" h="720">
                            <a:moveTo>
                              <a:pt x="1421" y="181"/>
                            </a:moveTo>
                            <a:lnTo>
                              <a:pt x="1404" y="149"/>
                            </a:lnTo>
                            <a:lnTo>
                              <a:pt x="1386" y="119"/>
                            </a:lnTo>
                            <a:lnTo>
                              <a:pt x="1351" y="97"/>
                            </a:lnTo>
                            <a:lnTo>
                              <a:pt x="1280" y="83"/>
                            </a:lnTo>
                            <a:lnTo>
                              <a:pt x="1227" y="66"/>
                            </a:lnTo>
                            <a:lnTo>
                              <a:pt x="1091" y="44"/>
                            </a:lnTo>
                            <a:lnTo>
                              <a:pt x="949" y="17"/>
                            </a:lnTo>
                            <a:lnTo>
                              <a:pt x="834" y="13"/>
                            </a:lnTo>
                            <a:lnTo>
                              <a:pt x="733" y="0"/>
                            </a:lnTo>
                            <a:lnTo>
                              <a:pt x="631" y="0"/>
                            </a:lnTo>
                            <a:lnTo>
                              <a:pt x="552" y="17"/>
                            </a:lnTo>
                            <a:lnTo>
                              <a:pt x="455" y="39"/>
                            </a:lnTo>
                            <a:lnTo>
                              <a:pt x="384" y="61"/>
                            </a:lnTo>
                            <a:lnTo>
                              <a:pt x="308" y="92"/>
                            </a:lnTo>
                            <a:lnTo>
                              <a:pt x="238" y="127"/>
                            </a:lnTo>
                            <a:lnTo>
                              <a:pt x="171" y="158"/>
                            </a:lnTo>
                            <a:lnTo>
                              <a:pt x="110" y="167"/>
                            </a:lnTo>
                            <a:lnTo>
                              <a:pt x="57" y="158"/>
                            </a:lnTo>
                            <a:lnTo>
                              <a:pt x="0" y="149"/>
                            </a:lnTo>
                            <a:lnTo>
                              <a:pt x="44" y="181"/>
                            </a:lnTo>
                            <a:lnTo>
                              <a:pt x="88" y="230"/>
                            </a:lnTo>
                            <a:lnTo>
                              <a:pt x="132" y="283"/>
                            </a:lnTo>
                            <a:lnTo>
                              <a:pt x="154" y="336"/>
                            </a:lnTo>
                            <a:lnTo>
                              <a:pt x="163" y="384"/>
                            </a:lnTo>
                            <a:lnTo>
                              <a:pt x="167" y="450"/>
                            </a:lnTo>
                            <a:lnTo>
                              <a:pt x="167" y="538"/>
                            </a:lnTo>
                            <a:lnTo>
                              <a:pt x="180" y="720"/>
                            </a:lnTo>
                            <a:lnTo>
                              <a:pt x="189" y="645"/>
                            </a:lnTo>
                            <a:lnTo>
                              <a:pt x="194" y="562"/>
                            </a:lnTo>
                            <a:lnTo>
                              <a:pt x="207" y="468"/>
                            </a:lnTo>
                            <a:lnTo>
                              <a:pt x="220" y="393"/>
                            </a:lnTo>
                            <a:lnTo>
                              <a:pt x="251" y="327"/>
                            </a:lnTo>
                            <a:lnTo>
                              <a:pt x="304" y="261"/>
                            </a:lnTo>
                            <a:lnTo>
                              <a:pt x="380" y="208"/>
                            </a:lnTo>
                            <a:lnTo>
                              <a:pt x="481" y="176"/>
                            </a:lnTo>
                            <a:lnTo>
                              <a:pt x="596" y="154"/>
                            </a:lnTo>
                            <a:lnTo>
                              <a:pt x="688" y="163"/>
                            </a:lnTo>
                            <a:lnTo>
                              <a:pt x="772" y="181"/>
                            </a:lnTo>
                            <a:lnTo>
                              <a:pt x="834" y="199"/>
                            </a:lnTo>
                            <a:lnTo>
                              <a:pt x="896" y="208"/>
                            </a:lnTo>
                            <a:lnTo>
                              <a:pt x="975" y="203"/>
                            </a:lnTo>
                            <a:lnTo>
                              <a:pt x="1073" y="199"/>
                            </a:lnTo>
                            <a:lnTo>
                              <a:pt x="1144" y="203"/>
                            </a:lnTo>
                            <a:lnTo>
                              <a:pt x="1219" y="212"/>
                            </a:lnTo>
                            <a:lnTo>
                              <a:pt x="1294" y="230"/>
                            </a:lnTo>
                            <a:lnTo>
                              <a:pt x="1369" y="234"/>
                            </a:lnTo>
                            <a:lnTo>
                              <a:pt x="1413" y="212"/>
                            </a:lnTo>
                            <a:lnTo>
                              <a:pt x="1421" y="181"/>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1007" name=""/>
                <p:cNvGrpSpPr/>
                <p:nvPr/>
              </p:nvGrpSpPr>
              <p:grpSpPr>
                <a:xfrm>
                  <a:off x="1554120" y="1935000"/>
                  <a:ext cx="663840" cy="908280"/>
                  <a:chOff x="1554120" y="1935000"/>
                  <a:chExt cx="663840" cy="908280"/>
                </a:xfrm>
              </p:grpSpPr>
              <p:grpSp>
                <p:nvGrpSpPr>
                  <p:cNvPr id="1008" name=""/>
                  <p:cNvGrpSpPr/>
                  <p:nvPr/>
                </p:nvGrpSpPr>
                <p:grpSpPr>
                  <a:xfrm>
                    <a:off x="1554120" y="1935000"/>
                    <a:ext cx="613080" cy="908280"/>
                    <a:chOff x="1554120" y="1935000"/>
                    <a:chExt cx="613080" cy="908280"/>
                  </a:xfrm>
                </p:grpSpPr>
                <p:grpSp>
                  <p:nvGrpSpPr>
                    <p:cNvPr id="1009" name=""/>
                    <p:cNvGrpSpPr/>
                    <p:nvPr/>
                  </p:nvGrpSpPr>
                  <p:grpSpPr>
                    <a:xfrm>
                      <a:off x="1554120" y="1935000"/>
                      <a:ext cx="613080" cy="908280"/>
                      <a:chOff x="1554120" y="1935000"/>
                      <a:chExt cx="613080" cy="908280"/>
                    </a:xfrm>
                  </p:grpSpPr>
                  <p:sp>
                    <p:nvSpPr>
                      <p:cNvPr id="1010" name=""/>
                      <p:cNvSpPr/>
                      <p:nvPr/>
                    </p:nvSpPr>
                    <p:spPr>
                      <a:xfrm>
                        <a:off x="1735200" y="2682720"/>
                        <a:ext cx="408240" cy="140040"/>
                      </a:xfrm>
                      <a:custGeom>
                        <a:avLst/>
                        <a:gdLst/>
                        <a:ahLst/>
                        <a:rect l="0" t="0" r="r" b="b"/>
                        <a:pathLst>
                          <a:path w="1134" h="389">
                            <a:moveTo>
                              <a:pt x="1076" y="0"/>
                            </a:moveTo>
                            <a:lnTo>
                              <a:pt x="1134" y="171"/>
                            </a:lnTo>
                            <a:lnTo>
                              <a:pt x="904" y="252"/>
                            </a:lnTo>
                            <a:lnTo>
                              <a:pt x="551" y="322"/>
                            </a:lnTo>
                            <a:lnTo>
                              <a:pt x="264" y="367"/>
                            </a:lnTo>
                            <a:lnTo>
                              <a:pt x="0" y="389"/>
                            </a:lnTo>
                            <a:lnTo>
                              <a:pt x="1076"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1" name=""/>
                      <p:cNvSpPr/>
                      <p:nvPr/>
                    </p:nvSpPr>
                    <p:spPr>
                      <a:xfrm>
                        <a:off x="1554120" y="1935000"/>
                        <a:ext cx="613080" cy="908280"/>
                      </a:xfrm>
                      <a:custGeom>
                        <a:avLst/>
                        <a:gdLst/>
                        <a:ahLst/>
                        <a:rect l="0" t="0" r="r" b="b"/>
                        <a:pathLst>
                          <a:path w="1703" h="2523">
                            <a:moveTo>
                              <a:pt x="1703" y="2157"/>
                            </a:moveTo>
                            <a:lnTo>
                              <a:pt x="1676" y="2179"/>
                            </a:lnTo>
                            <a:lnTo>
                              <a:pt x="1279" y="2258"/>
                            </a:lnTo>
                            <a:lnTo>
                              <a:pt x="900" y="2373"/>
                            </a:lnTo>
                            <a:lnTo>
                              <a:pt x="586" y="2470"/>
                            </a:lnTo>
                            <a:lnTo>
                              <a:pt x="463" y="2523"/>
                            </a:lnTo>
                            <a:lnTo>
                              <a:pt x="366" y="2095"/>
                            </a:lnTo>
                            <a:lnTo>
                              <a:pt x="260" y="1606"/>
                            </a:lnTo>
                            <a:lnTo>
                              <a:pt x="136" y="1115"/>
                            </a:lnTo>
                            <a:lnTo>
                              <a:pt x="39" y="608"/>
                            </a:lnTo>
                            <a:lnTo>
                              <a:pt x="8" y="432"/>
                            </a:lnTo>
                            <a:lnTo>
                              <a:pt x="0" y="264"/>
                            </a:lnTo>
                            <a:lnTo>
                              <a:pt x="621" y="97"/>
                            </a:lnTo>
                            <a:lnTo>
                              <a:pt x="1178" y="0"/>
                            </a:lnTo>
                            <a:lnTo>
                              <a:pt x="1315" y="507"/>
                            </a:lnTo>
                            <a:lnTo>
                              <a:pt x="1703" y="215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012" name=""/>
                    <p:cNvGrpSpPr/>
                    <p:nvPr/>
                  </p:nvGrpSpPr>
                  <p:grpSpPr>
                    <a:xfrm>
                      <a:off x="1562040" y="1998720"/>
                      <a:ext cx="578160" cy="785880"/>
                      <a:chOff x="1562040" y="1998720"/>
                      <a:chExt cx="578160" cy="785880"/>
                    </a:xfrm>
                  </p:grpSpPr>
                  <p:sp>
                    <p:nvSpPr>
                      <p:cNvPr id="1013" name=""/>
                      <p:cNvSpPr/>
                      <p:nvPr/>
                    </p:nvSpPr>
                    <p:spPr>
                      <a:xfrm>
                        <a:off x="1665360" y="2581200"/>
                        <a:ext cx="111600" cy="203400"/>
                      </a:xfrm>
                      <a:custGeom>
                        <a:avLst/>
                        <a:gdLst/>
                        <a:ahLst/>
                        <a:rect l="0" t="0" r="r" b="b"/>
                        <a:pathLst>
                          <a:path w="310" h="565">
                            <a:moveTo>
                              <a:pt x="0" y="48"/>
                            </a:moveTo>
                            <a:lnTo>
                              <a:pt x="172" y="0"/>
                            </a:lnTo>
                            <a:lnTo>
                              <a:pt x="310" y="499"/>
                            </a:lnTo>
                            <a:lnTo>
                              <a:pt x="120" y="565"/>
                            </a:lnTo>
                            <a:lnTo>
                              <a:pt x="44" y="260"/>
                            </a:lnTo>
                            <a:lnTo>
                              <a:pt x="0" y="4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4" name=""/>
                      <p:cNvSpPr/>
                      <p:nvPr/>
                    </p:nvSpPr>
                    <p:spPr>
                      <a:xfrm>
                        <a:off x="2046240" y="2581200"/>
                        <a:ext cx="93960" cy="125640"/>
                      </a:xfrm>
                      <a:custGeom>
                        <a:avLst/>
                        <a:gdLst/>
                        <a:ahLst/>
                        <a:rect l="0" t="0" r="r" b="b"/>
                        <a:pathLst>
                          <a:path w="261" h="349">
                            <a:moveTo>
                              <a:pt x="190" y="0"/>
                            </a:moveTo>
                            <a:lnTo>
                              <a:pt x="0" y="44"/>
                            </a:lnTo>
                            <a:lnTo>
                              <a:pt x="70" y="349"/>
                            </a:lnTo>
                            <a:lnTo>
                              <a:pt x="261" y="309"/>
                            </a:lnTo>
                            <a:lnTo>
                              <a:pt x="19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5" name=""/>
                      <p:cNvSpPr/>
                      <p:nvPr/>
                    </p:nvSpPr>
                    <p:spPr>
                      <a:xfrm>
                        <a:off x="1562040" y="1998720"/>
                        <a:ext cx="410040" cy="92520"/>
                      </a:xfrm>
                      <a:custGeom>
                        <a:avLst/>
                        <a:gdLst/>
                        <a:ahLst/>
                        <a:rect l="0" t="0" r="r" b="b"/>
                        <a:pathLst>
                          <a:path fill="none" w="1139" h="257">
                            <a:moveTo>
                              <a:pt x="1139" y="0"/>
                            </a:moveTo>
                            <a:lnTo>
                              <a:pt x="627" y="98"/>
                            </a:lnTo>
                            <a:lnTo>
                              <a:pt x="0" y="257"/>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1016" name=""/>
                      <p:cNvSpPr/>
                      <p:nvPr/>
                    </p:nvSpPr>
                    <p:spPr>
                      <a:xfrm>
                        <a:off x="1590840" y="2135160"/>
                        <a:ext cx="449640" cy="154440"/>
                      </a:xfrm>
                      <a:custGeom>
                        <a:avLst/>
                        <a:gdLst/>
                        <a:ahLst/>
                        <a:rect l="0" t="0" r="r" b="b"/>
                        <a:pathLst>
                          <a:path w="1249" h="429">
                            <a:moveTo>
                              <a:pt x="1232" y="0"/>
                            </a:moveTo>
                            <a:lnTo>
                              <a:pt x="684" y="150"/>
                            </a:lnTo>
                            <a:lnTo>
                              <a:pt x="0" y="354"/>
                            </a:lnTo>
                            <a:lnTo>
                              <a:pt x="8" y="429"/>
                            </a:lnTo>
                            <a:lnTo>
                              <a:pt x="706" y="225"/>
                            </a:lnTo>
                            <a:lnTo>
                              <a:pt x="1249" y="79"/>
                            </a:lnTo>
                            <a:lnTo>
                              <a:pt x="1232"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7" name=""/>
                      <p:cNvSpPr/>
                      <p:nvPr/>
                    </p:nvSpPr>
                    <p:spPr>
                      <a:xfrm>
                        <a:off x="1647720" y="2452680"/>
                        <a:ext cx="206640" cy="89280"/>
                      </a:xfrm>
                      <a:custGeom>
                        <a:avLst/>
                        <a:gdLst/>
                        <a:ahLst/>
                        <a:rect l="0" t="0" r="r" b="b"/>
                        <a:pathLst>
                          <a:path w="574" h="248">
                            <a:moveTo>
                              <a:pt x="547" y="0"/>
                            </a:moveTo>
                            <a:lnTo>
                              <a:pt x="574" y="80"/>
                            </a:lnTo>
                            <a:lnTo>
                              <a:pt x="22" y="248"/>
                            </a:lnTo>
                            <a:lnTo>
                              <a:pt x="0" y="168"/>
                            </a:lnTo>
                            <a:lnTo>
                              <a:pt x="547" y="0"/>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1018" name=""/>
                      <p:cNvSpPr/>
                      <p:nvPr/>
                    </p:nvSpPr>
                    <p:spPr>
                      <a:xfrm flipH="1">
                        <a:off x="1746360" y="2549520"/>
                        <a:ext cx="1317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019" name=""/>
                      <p:cNvSpPr/>
                      <p:nvPr/>
                    </p:nvSpPr>
                    <p:spPr>
                      <a:xfrm flipH="1">
                        <a:off x="1757520" y="2583000"/>
                        <a:ext cx="1285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020" name=""/>
                      <p:cNvSpPr/>
                      <p:nvPr/>
                    </p:nvSpPr>
                    <p:spPr>
                      <a:xfrm flipH="1">
                        <a:off x="1768320" y="2616120"/>
                        <a:ext cx="12888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1021" name=""/>
                      <p:cNvSpPr/>
                      <p:nvPr/>
                    </p:nvSpPr>
                    <p:spPr>
                      <a:xfrm flipH="1">
                        <a:off x="1916280" y="2538360"/>
                        <a:ext cx="19188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ffffff"/>
                          </a:solidFill>
                          <a:latin typeface="Arial"/>
                        </a:endParaRPr>
                      </a:p>
                    </p:txBody>
                  </p:sp>
                  <p:sp>
                    <p:nvSpPr>
                      <p:cNvPr id="1022" name=""/>
                      <p:cNvSpPr/>
                      <p:nvPr/>
                    </p:nvSpPr>
                    <p:spPr>
                      <a:xfrm flipH="1">
                        <a:off x="1922400" y="2562120"/>
                        <a:ext cx="196920" cy="7920"/>
                      </a:xfrm>
                      <a:prstGeom prst="line">
                        <a:avLst/>
                      </a:prstGeom>
                      <a:ln w="12600">
                        <a:solidFill>
                          <a:srgbClr val="000000"/>
                        </a:solidFill>
                        <a:round/>
                      </a:ln>
                    </p:spPr>
                    <p:style>
                      <a:lnRef idx="0"/>
                      <a:fillRef idx="0"/>
                      <a:effectRef idx="0"/>
                      <a:fontRef idx="minor"/>
                    </p:style>
                    <p:txBody>
                      <a:bodyPr lIns="96120" rIns="96120" tIns="-43200" bIns="-43200" anchor="t">
                        <a:noAutofit/>
                      </a:bodyPr>
                      <a:p>
                        <a:endParaRPr b="0" lang="en-US" sz="1800" spc="-1" strike="noStrike">
                          <a:solidFill>
                            <a:srgbClr val="ffffff"/>
                          </a:solidFill>
                          <a:latin typeface="Arial"/>
                        </a:endParaRPr>
                      </a:p>
                    </p:txBody>
                  </p:sp>
                  <p:sp>
                    <p:nvSpPr>
                      <p:cNvPr id="1023" name=""/>
                      <p:cNvSpPr/>
                      <p:nvPr/>
                    </p:nvSpPr>
                    <p:spPr>
                      <a:xfrm flipH="1">
                        <a:off x="1751040" y="2241720"/>
                        <a:ext cx="233280" cy="21960"/>
                      </a:xfrm>
                      <a:prstGeom prst="line">
                        <a:avLst/>
                      </a:prstGeom>
                      <a:ln w="12600">
                        <a:solidFill>
                          <a:srgbClr val="000000"/>
                        </a:solidFill>
                        <a:round/>
                      </a:ln>
                    </p:spPr>
                    <p:style>
                      <a:lnRef idx="0"/>
                      <a:fillRef idx="0"/>
                      <a:effectRef idx="0"/>
                      <a:fontRef idx="minor"/>
                    </p:style>
                    <p:txBody>
                      <a:bodyPr lIns="96120" rIns="96120" tIns="-29160" bIns="-29160" anchor="t">
                        <a:noAutofit/>
                      </a:bodyPr>
                      <a:p>
                        <a:endParaRPr b="0" lang="en-US" sz="1800" spc="-1" strike="noStrike">
                          <a:solidFill>
                            <a:srgbClr val="ffffff"/>
                          </a:solidFill>
                          <a:latin typeface="Arial"/>
                        </a:endParaRPr>
                      </a:p>
                    </p:txBody>
                  </p:sp>
                </p:grpSp>
              </p:grpSp>
              <p:grpSp>
                <p:nvGrpSpPr>
                  <p:cNvPr id="1024" name=""/>
                  <p:cNvGrpSpPr/>
                  <p:nvPr/>
                </p:nvGrpSpPr>
                <p:grpSpPr>
                  <a:xfrm>
                    <a:off x="1868400" y="2235240"/>
                    <a:ext cx="349560" cy="433800"/>
                    <a:chOff x="1868400" y="2235240"/>
                    <a:chExt cx="349560" cy="433800"/>
                  </a:xfrm>
                </p:grpSpPr>
                <p:grpSp>
                  <p:nvGrpSpPr>
                    <p:cNvPr id="1025" name=""/>
                    <p:cNvGrpSpPr/>
                    <p:nvPr/>
                  </p:nvGrpSpPr>
                  <p:grpSpPr>
                    <a:xfrm>
                      <a:off x="1890720" y="2278080"/>
                      <a:ext cx="313200" cy="390960"/>
                      <a:chOff x="1890720" y="2278080"/>
                      <a:chExt cx="313200" cy="390960"/>
                    </a:xfrm>
                  </p:grpSpPr>
                  <p:sp>
                    <p:nvSpPr>
                      <p:cNvPr id="1026" name=""/>
                      <p:cNvSpPr/>
                      <p:nvPr/>
                    </p:nvSpPr>
                    <p:spPr>
                      <a:xfrm>
                        <a:off x="1890720" y="2278080"/>
                        <a:ext cx="313200" cy="390960"/>
                      </a:xfrm>
                      <a:custGeom>
                        <a:avLst/>
                        <a:gdLst/>
                        <a:ahLst/>
                        <a:rect l="0" t="0" r="r" b="b"/>
                        <a:pathLst>
                          <a:path w="870" h="1086">
                            <a:moveTo>
                              <a:pt x="738" y="1086"/>
                            </a:moveTo>
                            <a:lnTo>
                              <a:pt x="760" y="1064"/>
                            </a:lnTo>
                            <a:lnTo>
                              <a:pt x="778" y="1047"/>
                            </a:lnTo>
                            <a:lnTo>
                              <a:pt x="822" y="994"/>
                            </a:lnTo>
                            <a:lnTo>
                              <a:pt x="848" y="936"/>
                            </a:lnTo>
                            <a:lnTo>
                              <a:pt x="866" y="844"/>
                            </a:lnTo>
                            <a:lnTo>
                              <a:pt x="870" y="733"/>
                            </a:lnTo>
                            <a:lnTo>
                              <a:pt x="857" y="574"/>
                            </a:lnTo>
                            <a:lnTo>
                              <a:pt x="826" y="428"/>
                            </a:lnTo>
                            <a:lnTo>
                              <a:pt x="808" y="349"/>
                            </a:lnTo>
                            <a:lnTo>
                              <a:pt x="786" y="287"/>
                            </a:lnTo>
                            <a:lnTo>
                              <a:pt x="747" y="202"/>
                            </a:lnTo>
                            <a:lnTo>
                              <a:pt x="694" y="127"/>
                            </a:lnTo>
                            <a:lnTo>
                              <a:pt x="622" y="66"/>
                            </a:lnTo>
                            <a:lnTo>
                              <a:pt x="596" y="44"/>
                            </a:lnTo>
                            <a:lnTo>
                              <a:pt x="556" y="26"/>
                            </a:lnTo>
                            <a:lnTo>
                              <a:pt x="477" y="8"/>
                            </a:lnTo>
                            <a:lnTo>
                              <a:pt x="397" y="0"/>
                            </a:lnTo>
                            <a:lnTo>
                              <a:pt x="300" y="4"/>
                            </a:lnTo>
                            <a:lnTo>
                              <a:pt x="180" y="26"/>
                            </a:lnTo>
                            <a:lnTo>
                              <a:pt x="132" y="48"/>
                            </a:lnTo>
                            <a:lnTo>
                              <a:pt x="101" y="74"/>
                            </a:lnTo>
                            <a:lnTo>
                              <a:pt x="105" y="101"/>
                            </a:lnTo>
                            <a:lnTo>
                              <a:pt x="123" y="123"/>
                            </a:lnTo>
                            <a:lnTo>
                              <a:pt x="194" y="119"/>
                            </a:lnTo>
                            <a:lnTo>
                              <a:pt x="252" y="114"/>
                            </a:lnTo>
                            <a:lnTo>
                              <a:pt x="318" y="105"/>
                            </a:lnTo>
                            <a:lnTo>
                              <a:pt x="380" y="101"/>
                            </a:lnTo>
                            <a:lnTo>
                              <a:pt x="441" y="105"/>
                            </a:lnTo>
                            <a:lnTo>
                              <a:pt x="503" y="123"/>
                            </a:lnTo>
                            <a:lnTo>
                              <a:pt x="516" y="246"/>
                            </a:lnTo>
                            <a:lnTo>
                              <a:pt x="481" y="264"/>
                            </a:lnTo>
                            <a:lnTo>
                              <a:pt x="419" y="300"/>
                            </a:lnTo>
                            <a:lnTo>
                              <a:pt x="358" y="331"/>
                            </a:lnTo>
                            <a:lnTo>
                              <a:pt x="278" y="371"/>
                            </a:lnTo>
                            <a:lnTo>
                              <a:pt x="221" y="397"/>
                            </a:lnTo>
                            <a:lnTo>
                              <a:pt x="154" y="441"/>
                            </a:lnTo>
                            <a:lnTo>
                              <a:pt x="97" y="481"/>
                            </a:lnTo>
                            <a:lnTo>
                              <a:pt x="48" y="525"/>
                            </a:lnTo>
                            <a:lnTo>
                              <a:pt x="4" y="565"/>
                            </a:lnTo>
                            <a:lnTo>
                              <a:pt x="0" y="600"/>
                            </a:lnTo>
                            <a:lnTo>
                              <a:pt x="13" y="627"/>
                            </a:lnTo>
                            <a:lnTo>
                              <a:pt x="44" y="631"/>
                            </a:lnTo>
                            <a:lnTo>
                              <a:pt x="88" y="613"/>
                            </a:lnTo>
                            <a:lnTo>
                              <a:pt x="105" y="609"/>
                            </a:lnTo>
                            <a:lnTo>
                              <a:pt x="110" y="644"/>
                            </a:lnTo>
                            <a:lnTo>
                              <a:pt x="136" y="653"/>
                            </a:lnTo>
                            <a:lnTo>
                              <a:pt x="171" y="649"/>
                            </a:lnTo>
                            <a:lnTo>
                              <a:pt x="202" y="636"/>
                            </a:lnTo>
                            <a:lnTo>
                              <a:pt x="269" y="600"/>
                            </a:lnTo>
                            <a:lnTo>
                              <a:pt x="344" y="574"/>
                            </a:lnTo>
                            <a:lnTo>
                              <a:pt x="433" y="556"/>
                            </a:lnTo>
                            <a:lnTo>
                              <a:pt x="547" y="574"/>
                            </a:lnTo>
                            <a:lnTo>
                              <a:pt x="596" y="605"/>
                            </a:lnTo>
                            <a:lnTo>
                              <a:pt x="627" y="653"/>
                            </a:lnTo>
                            <a:lnTo>
                              <a:pt x="654" y="724"/>
                            </a:lnTo>
                            <a:lnTo>
                              <a:pt x="738" y="108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7" name=""/>
                      <p:cNvSpPr/>
                      <p:nvPr/>
                    </p:nvSpPr>
                    <p:spPr>
                      <a:xfrm>
                        <a:off x="1930320" y="2432160"/>
                        <a:ext cx="113040" cy="66960"/>
                      </a:xfrm>
                      <a:custGeom>
                        <a:avLst/>
                        <a:gdLst/>
                        <a:ahLst/>
                        <a:rect l="0" t="0" r="r" b="b"/>
                        <a:pathLst>
                          <a:path w="314" h="186">
                            <a:moveTo>
                              <a:pt x="0" y="186"/>
                            </a:moveTo>
                            <a:lnTo>
                              <a:pt x="13" y="155"/>
                            </a:lnTo>
                            <a:lnTo>
                              <a:pt x="39" y="133"/>
                            </a:lnTo>
                            <a:lnTo>
                              <a:pt x="83" y="106"/>
                            </a:lnTo>
                            <a:lnTo>
                              <a:pt x="149" y="61"/>
                            </a:lnTo>
                            <a:lnTo>
                              <a:pt x="234" y="13"/>
                            </a:lnTo>
                            <a:lnTo>
                              <a:pt x="314" y="0"/>
                            </a:lnTo>
                            <a:lnTo>
                              <a:pt x="247" y="4"/>
                            </a:lnTo>
                            <a:lnTo>
                              <a:pt x="212" y="22"/>
                            </a:lnTo>
                            <a:lnTo>
                              <a:pt x="141" y="57"/>
                            </a:lnTo>
                            <a:lnTo>
                              <a:pt x="70" y="106"/>
                            </a:lnTo>
                            <a:lnTo>
                              <a:pt x="13" y="146"/>
                            </a:lnTo>
                            <a:lnTo>
                              <a:pt x="0" y="186"/>
                            </a:lnTo>
                            <a:close/>
                          </a:path>
                        </a:pathLst>
                      </a:custGeom>
                      <a:solidFill>
                        <a:srgbClr val="ff7f3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028" name=""/>
                      <p:cNvSpPr/>
                      <p:nvPr/>
                    </p:nvSpPr>
                    <p:spPr>
                      <a:xfrm>
                        <a:off x="2122560" y="2523960"/>
                        <a:ext cx="46440" cy="106560"/>
                      </a:xfrm>
                      <a:custGeom>
                        <a:avLst/>
                        <a:gdLst/>
                        <a:ahLst/>
                        <a:rect l="0" t="0" r="r" b="b"/>
                        <a:pathLst>
                          <a:path w="129" h="296">
                            <a:moveTo>
                              <a:pt x="71" y="296"/>
                            </a:moveTo>
                            <a:lnTo>
                              <a:pt x="75" y="252"/>
                            </a:lnTo>
                            <a:lnTo>
                              <a:pt x="93" y="225"/>
                            </a:lnTo>
                            <a:lnTo>
                              <a:pt x="116" y="195"/>
                            </a:lnTo>
                            <a:lnTo>
                              <a:pt x="129" y="186"/>
                            </a:lnTo>
                            <a:lnTo>
                              <a:pt x="103" y="155"/>
                            </a:lnTo>
                            <a:lnTo>
                              <a:pt x="53" y="83"/>
                            </a:lnTo>
                            <a:lnTo>
                              <a:pt x="22" y="35"/>
                            </a:lnTo>
                            <a:lnTo>
                              <a:pt x="0" y="0"/>
                            </a:lnTo>
                            <a:lnTo>
                              <a:pt x="71" y="296"/>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029" name=""/>
                    <p:cNvGrpSpPr/>
                    <p:nvPr/>
                  </p:nvGrpSpPr>
                  <p:grpSpPr>
                    <a:xfrm>
                      <a:off x="1868400" y="2235240"/>
                      <a:ext cx="349560" cy="286200"/>
                      <a:chOff x="1868400" y="2235240"/>
                      <a:chExt cx="349560" cy="286200"/>
                    </a:xfrm>
                  </p:grpSpPr>
                  <p:sp>
                    <p:nvSpPr>
                      <p:cNvPr id="1030" name=""/>
                      <p:cNvSpPr/>
                      <p:nvPr/>
                    </p:nvSpPr>
                    <p:spPr>
                      <a:xfrm>
                        <a:off x="2041560" y="2255760"/>
                        <a:ext cx="160560" cy="59040"/>
                      </a:xfrm>
                      <a:custGeom>
                        <a:avLst/>
                        <a:gdLst/>
                        <a:ahLst/>
                        <a:rect l="0" t="0" r="r" b="b"/>
                        <a:pathLst>
                          <a:path fill="none" w="446" h="164">
                            <a:moveTo>
                              <a:pt x="446" y="0"/>
                            </a:moveTo>
                            <a:lnTo>
                              <a:pt x="48" y="164"/>
                            </a:lnTo>
                            <a:lnTo>
                              <a:pt x="4" y="142"/>
                            </a:lnTo>
                            <a:lnTo>
                              <a:pt x="0" y="8"/>
                            </a:lnTo>
                          </a:path>
                        </a:pathLst>
                      </a:custGeom>
                      <a:ln w="12600">
                        <a:solidFill>
                          <a:srgbClr val="9f3f00"/>
                        </a:solidFill>
                        <a:round/>
                      </a:ln>
                    </p:spPr>
                    <p:txBody>
                      <a:bodyPr lIns="96120" rIns="96120" tIns="7920" bIns="7920" anchor="t">
                        <a:noAutofit/>
                      </a:bodyPr>
                      <a:p>
                        <a:endParaRPr b="0" lang="en-US" sz="1800" spc="-1" strike="noStrike">
                          <a:solidFill>
                            <a:srgbClr val="ffffff"/>
                          </a:solidFill>
                          <a:latin typeface="Arial"/>
                        </a:endParaRPr>
                      </a:p>
                    </p:txBody>
                  </p:sp>
                  <p:sp>
                    <p:nvSpPr>
                      <p:cNvPr id="1031" name=""/>
                      <p:cNvSpPr/>
                      <p:nvPr/>
                    </p:nvSpPr>
                    <p:spPr>
                      <a:xfrm>
                        <a:off x="1868400" y="2347920"/>
                        <a:ext cx="127440" cy="41760"/>
                      </a:xfrm>
                      <a:custGeom>
                        <a:avLst/>
                        <a:gdLst/>
                        <a:ahLst/>
                        <a:rect l="0" t="0" r="r" b="b"/>
                        <a:pathLst>
                          <a:path fill="none" w="354" h="116">
                            <a:moveTo>
                              <a:pt x="354" y="0"/>
                            </a:moveTo>
                            <a:lnTo>
                              <a:pt x="195" y="80"/>
                            </a:lnTo>
                            <a:lnTo>
                              <a:pt x="150" y="103"/>
                            </a:lnTo>
                            <a:lnTo>
                              <a:pt x="137" y="116"/>
                            </a:lnTo>
                            <a:lnTo>
                              <a:pt x="115" y="116"/>
                            </a:lnTo>
                            <a:lnTo>
                              <a:pt x="89" y="107"/>
                            </a:lnTo>
                            <a:lnTo>
                              <a:pt x="0" y="17"/>
                            </a:lnTo>
                          </a:path>
                        </a:pathLst>
                      </a:custGeom>
                      <a:ln w="12600">
                        <a:solidFill>
                          <a:srgbClr val="9f3f00"/>
                        </a:solidFill>
                        <a:round/>
                      </a:ln>
                    </p:spPr>
                    <p:txBody>
                      <a:bodyPr lIns="96120" rIns="96120" tIns="-9360" bIns="-9360" anchor="t">
                        <a:noAutofit/>
                      </a:bodyPr>
                      <a:p>
                        <a:endParaRPr b="0" lang="en-US" sz="1800" spc="-1" strike="noStrike">
                          <a:solidFill>
                            <a:srgbClr val="ffffff"/>
                          </a:solidFill>
                          <a:latin typeface="Arial"/>
                        </a:endParaRPr>
                      </a:p>
                    </p:txBody>
                  </p:sp>
                  <p:sp>
                    <p:nvSpPr>
                      <p:cNvPr id="1032" name=""/>
                      <p:cNvSpPr/>
                      <p:nvPr/>
                    </p:nvSpPr>
                    <p:spPr>
                      <a:xfrm>
                        <a:off x="2049480" y="2336760"/>
                        <a:ext cx="81360" cy="184680"/>
                      </a:xfrm>
                      <a:custGeom>
                        <a:avLst/>
                        <a:gdLst/>
                        <a:ahLst/>
                        <a:rect l="0" t="0" r="r" b="b"/>
                        <a:pathLst>
                          <a:path fill="none" w="226" h="513">
                            <a:moveTo>
                              <a:pt x="0" y="0"/>
                            </a:moveTo>
                            <a:lnTo>
                              <a:pt x="8" y="110"/>
                            </a:lnTo>
                            <a:lnTo>
                              <a:pt x="35" y="225"/>
                            </a:lnTo>
                            <a:lnTo>
                              <a:pt x="75" y="353"/>
                            </a:lnTo>
                            <a:lnTo>
                              <a:pt x="111" y="491"/>
                            </a:lnTo>
                            <a:lnTo>
                              <a:pt x="137" y="500"/>
                            </a:lnTo>
                            <a:lnTo>
                              <a:pt x="226" y="513"/>
                            </a:lnTo>
                          </a:path>
                        </a:pathLst>
                      </a:custGeom>
                      <a:ln w="12600">
                        <a:solidFill>
                          <a:srgbClr val="9f3f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33" name=""/>
                      <p:cNvSpPr/>
                      <p:nvPr/>
                    </p:nvSpPr>
                    <p:spPr>
                      <a:xfrm>
                        <a:off x="2085840" y="2235240"/>
                        <a:ext cx="132120" cy="286200"/>
                      </a:xfrm>
                      <a:custGeom>
                        <a:avLst/>
                        <a:gdLst/>
                        <a:ahLst/>
                        <a:rect l="0" t="0" r="r" b="b"/>
                        <a:pathLst>
                          <a:path fill="none" w="367" h="795">
                            <a:moveTo>
                              <a:pt x="234" y="503"/>
                            </a:moveTo>
                            <a:lnTo>
                              <a:pt x="252" y="530"/>
                            </a:lnTo>
                            <a:lnTo>
                              <a:pt x="269" y="583"/>
                            </a:lnTo>
                            <a:lnTo>
                              <a:pt x="269" y="628"/>
                            </a:lnTo>
                            <a:lnTo>
                              <a:pt x="256" y="685"/>
                            </a:lnTo>
                            <a:lnTo>
                              <a:pt x="243" y="734"/>
                            </a:lnTo>
                            <a:lnTo>
                              <a:pt x="208" y="773"/>
                            </a:lnTo>
                            <a:lnTo>
                              <a:pt x="171" y="791"/>
                            </a:lnTo>
                            <a:lnTo>
                              <a:pt x="123" y="795"/>
                            </a:lnTo>
                            <a:lnTo>
                              <a:pt x="79" y="773"/>
                            </a:lnTo>
                            <a:lnTo>
                              <a:pt x="52" y="734"/>
                            </a:lnTo>
                            <a:lnTo>
                              <a:pt x="22" y="681"/>
                            </a:lnTo>
                            <a:lnTo>
                              <a:pt x="8" y="632"/>
                            </a:lnTo>
                            <a:lnTo>
                              <a:pt x="0" y="561"/>
                            </a:lnTo>
                            <a:lnTo>
                              <a:pt x="8" y="503"/>
                            </a:lnTo>
                            <a:lnTo>
                              <a:pt x="35" y="455"/>
                            </a:lnTo>
                            <a:lnTo>
                              <a:pt x="70" y="428"/>
                            </a:lnTo>
                            <a:lnTo>
                              <a:pt x="132" y="415"/>
                            </a:lnTo>
                            <a:lnTo>
                              <a:pt x="176" y="428"/>
                            </a:lnTo>
                            <a:lnTo>
                              <a:pt x="217" y="459"/>
                            </a:lnTo>
                            <a:lnTo>
                              <a:pt x="234" y="499"/>
                            </a:lnTo>
                            <a:lnTo>
                              <a:pt x="252" y="464"/>
                            </a:lnTo>
                            <a:lnTo>
                              <a:pt x="256" y="428"/>
                            </a:lnTo>
                            <a:lnTo>
                              <a:pt x="256" y="393"/>
                            </a:lnTo>
                            <a:lnTo>
                              <a:pt x="225" y="384"/>
                            </a:lnTo>
                            <a:lnTo>
                              <a:pt x="186" y="358"/>
                            </a:lnTo>
                            <a:lnTo>
                              <a:pt x="158" y="322"/>
                            </a:lnTo>
                            <a:lnTo>
                              <a:pt x="145" y="287"/>
                            </a:lnTo>
                            <a:lnTo>
                              <a:pt x="127" y="247"/>
                            </a:lnTo>
                            <a:lnTo>
                              <a:pt x="123" y="198"/>
                            </a:lnTo>
                            <a:lnTo>
                              <a:pt x="123" y="154"/>
                            </a:lnTo>
                            <a:lnTo>
                              <a:pt x="132" y="105"/>
                            </a:lnTo>
                            <a:lnTo>
                              <a:pt x="141" y="66"/>
                            </a:lnTo>
                            <a:lnTo>
                              <a:pt x="154" y="26"/>
                            </a:lnTo>
                            <a:lnTo>
                              <a:pt x="186" y="8"/>
                            </a:lnTo>
                            <a:lnTo>
                              <a:pt x="225" y="0"/>
                            </a:lnTo>
                            <a:lnTo>
                              <a:pt x="278" y="4"/>
                            </a:lnTo>
                            <a:lnTo>
                              <a:pt x="305" y="26"/>
                            </a:lnTo>
                            <a:lnTo>
                              <a:pt x="327" y="48"/>
                            </a:lnTo>
                            <a:lnTo>
                              <a:pt x="344" y="92"/>
                            </a:lnTo>
                            <a:lnTo>
                              <a:pt x="358" y="141"/>
                            </a:lnTo>
                            <a:lnTo>
                              <a:pt x="367" y="203"/>
                            </a:lnTo>
                            <a:lnTo>
                              <a:pt x="358" y="269"/>
                            </a:lnTo>
                            <a:lnTo>
                              <a:pt x="349" y="322"/>
                            </a:lnTo>
                            <a:lnTo>
                              <a:pt x="322" y="358"/>
                            </a:lnTo>
                            <a:lnTo>
                              <a:pt x="292" y="384"/>
                            </a:lnTo>
                            <a:lnTo>
                              <a:pt x="256" y="393"/>
                            </a:lnTo>
                          </a:path>
                        </a:pathLst>
                      </a:custGeom>
                      <a:ln w="12600">
                        <a:solidFill>
                          <a:srgbClr val="9f3f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034" name=""/>
                    <p:cNvSpPr/>
                    <p:nvPr/>
                  </p:nvSpPr>
                  <p:spPr>
                    <a:xfrm>
                      <a:off x="1919160" y="2301840"/>
                      <a:ext cx="228960" cy="97200"/>
                    </a:xfrm>
                    <a:custGeom>
                      <a:avLst/>
                      <a:gdLst/>
                      <a:ahLst/>
                      <a:rect l="0" t="0" r="r" b="b"/>
                      <a:pathLst>
                        <a:path w="636" h="270">
                          <a:moveTo>
                            <a:pt x="636" y="199"/>
                          </a:moveTo>
                          <a:lnTo>
                            <a:pt x="556" y="106"/>
                          </a:lnTo>
                          <a:lnTo>
                            <a:pt x="494" y="52"/>
                          </a:lnTo>
                          <a:lnTo>
                            <a:pt x="450" y="26"/>
                          </a:lnTo>
                          <a:lnTo>
                            <a:pt x="384" y="4"/>
                          </a:lnTo>
                          <a:lnTo>
                            <a:pt x="349" y="0"/>
                          </a:lnTo>
                          <a:lnTo>
                            <a:pt x="327" y="8"/>
                          </a:lnTo>
                          <a:lnTo>
                            <a:pt x="273" y="35"/>
                          </a:lnTo>
                          <a:lnTo>
                            <a:pt x="211" y="80"/>
                          </a:lnTo>
                          <a:lnTo>
                            <a:pt x="145" y="120"/>
                          </a:lnTo>
                          <a:lnTo>
                            <a:pt x="70" y="150"/>
                          </a:lnTo>
                          <a:lnTo>
                            <a:pt x="22" y="177"/>
                          </a:lnTo>
                          <a:lnTo>
                            <a:pt x="0" y="209"/>
                          </a:lnTo>
                          <a:lnTo>
                            <a:pt x="0" y="235"/>
                          </a:lnTo>
                          <a:lnTo>
                            <a:pt x="17" y="257"/>
                          </a:lnTo>
                          <a:lnTo>
                            <a:pt x="48" y="270"/>
                          </a:lnTo>
                          <a:lnTo>
                            <a:pt x="114" y="253"/>
                          </a:lnTo>
                          <a:lnTo>
                            <a:pt x="171" y="226"/>
                          </a:lnTo>
                          <a:lnTo>
                            <a:pt x="242" y="199"/>
                          </a:lnTo>
                          <a:lnTo>
                            <a:pt x="299" y="159"/>
                          </a:lnTo>
                          <a:lnTo>
                            <a:pt x="362" y="133"/>
                          </a:lnTo>
                          <a:lnTo>
                            <a:pt x="397" y="168"/>
                          </a:lnTo>
                          <a:lnTo>
                            <a:pt x="450" y="199"/>
                          </a:lnTo>
                          <a:lnTo>
                            <a:pt x="477" y="235"/>
                          </a:lnTo>
                          <a:lnTo>
                            <a:pt x="556" y="199"/>
                          </a:lnTo>
                          <a:lnTo>
                            <a:pt x="636" y="19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grpSp>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035" name=""/>
          <p:cNvSpPr/>
          <p:nvPr/>
        </p:nvSpPr>
        <p:spPr>
          <a:xfrm>
            <a:off x="2602080" y="2057400"/>
            <a:ext cx="5952960" cy="380988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1036" name=""/>
          <p:cNvSpPr txBox="1"/>
          <p:nvPr/>
        </p:nvSpPr>
        <p:spPr>
          <a:xfrm>
            <a:off x="2743200" y="2286000"/>
            <a:ext cx="5638680" cy="301608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Arial"/>
                <a:ea typeface="Arial"/>
              </a:rPr>
              <a:t>4.</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Apply the perpetual inventory system to the pricing of inventories at cost.</a:t>
            </a:r>
            <a:endParaRPr b="0" lang="en-US" sz="2000" spc="-1" strike="noStrike">
              <a:solidFill>
                <a:srgbClr val="ffffff"/>
              </a:solidFill>
              <a:latin typeface="Arial"/>
            </a:endParaRPr>
          </a:p>
          <a:p>
            <a:pPr marL="343080" indent="-343080">
              <a:lnSpc>
                <a:spcPct val="100000"/>
              </a:lnSpc>
              <a:spcBef>
                <a:spcPts val="479"/>
              </a:spcBef>
            </a:pPr>
            <a:r>
              <a:rPr b="1" lang="en-US" sz="2000" spc="-1" strike="noStrike">
                <a:solidFill>
                  <a:srgbClr val="000000"/>
                </a:solidFill>
                <a:latin typeface="Arial"/>
                <a:ea typeface="Arial"/>
              </a:rPr>
              <a:t>5.</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State the effects of inventory methods and misstatements of inventory on income determination and income taxes.</a:t>
            </a:r>
            <a:endParaRPr b="0" lang="en-US" sz="2000" spc="-1" strike="noStrike">
              <a:solidFill>
                <a:srgbClr val="ffffff"/>
              </a:solidFill>
              <a:latin typeface="Arial"/>
            </a:endParaRPr>
          </a:p>
          <a:p>
            <a:pPr marL="343080" indent="-343080">
              <a:lnSpc>
                <a:spcPct val="100000"/>
              </a:lnSpc>
              <a:spcBef>
                <a:spcPts val="479"/>
              </a:spcBef>
            </a:pPr>
            <a:r>
              <a:rPr b="1" lang="en-US" sz="2000" spc="-1" strike="noStrike">
                <a:solidFill>
                  <a:srgbClr val="000000"/>
                </a:solidFill>
                <a:latin typeface="Arial"/>
                <a:ea typeface="Arial"/>
              </a:rPr>
              <a:t>6.</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Apply the lower-of-cost-or-market (LCM) rule to inventory valuation.</a:t>
            </a:r>
            <a:endParaRPr b="0" lang="en-US" sz="2000" spc="-1" strike="noStrike">
              <a:solidFill>
                <a:srgbClr val="ffffff"/>
              </a:solidFill>
              <a:latin typeface="Arial"/>
            </a:endParaRPr>
          </a:p>
          <a:p>
            <a:pPr marL="343080" indent="-343080">
              <a:lnSpc>
                <a:spcPct val="100000"/>
              </a:lnSpc>
              <a:spcBef>
                <a:spcPts val="479"/>
              </a:spcBef>
            </a:pPr>
            <a:r>
              <a:rPr b="1" lang="en-US" sz="2000" spc="-1" strike="noStrike">
                <a:solidFill>
                  <a:srgbClr val="000000"/>
                </a:solidFill>
                <a:latin typeface="Arial"/>
                <a:ea typeface="Arial"/>
              </a:rPr>
              <a:t>7.</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Estimate the cost of ending inventory using the (a) retail inventory method and (b) gross profit method.</a:t>
            </a:r>
            <a:endParaRPr b="0" lang="en-US" sz="2000" spc="-1" strike="noStrike">
              <a:solidFill>
                <a:srgbClr val="ffffff"/>
              </a:solidFill>
              <a:latin typeface="Arial"/>
            </a:endParaRPr>
          </a:p>
        </p:txBody>
      </p:sp>
      <p:pic>
        <p:nvPicPr>
          <p:cNvPr id="1037" name="" descr=""/>
          <p:cNvPicPr/>
          <p:nvPr/>
        </p:nvPicPr>
        <p:blipFill>
          <a:blip r:embed="rId1"/>
          <a:stretch/>
        </p:blipFill>
        <p:spPr>
          <a:xfrm>
            <a:off x="2819520" y="460440"/>
            <a:ext cx="5605560" cy="1622520"/>
          </a:xfrm>
          <a:prstGeom prst="rect">
            <a:avLst/>
          </a:prstGeom>
          <a:ln w="0">
            <a:noFill/>
          </a:ln>
        </p:spPr>
      </p:pic>
      <p:sp>
        <p:nvSpPr>
          <p:cNvPr id="1038" name=""/>
          <p:cNvSpPr txBox="1"/>
          <p:nvPr/>
        </p:nvSpPr>
        <p:spPr>
          <a:xfrm>
            <a:off x="3456000" y="701640"/>
            <a:ext cx="4290840" cy="5158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WE ALSO COVERED . . .</a:t>
            </a:r>
            <a:endParaRPr b="0" lang="en-US" sz="2800" spc="-1" strike="noStrike">
              <a:solidFill>
                <a:srgbClr val="ffffff"/>
              </a:solidFill>
              <a:latin typeface="Arial"/>
            </a:endParaRPr>
          </a:p>
        </p:txBody>
      </p:sp>
      <p:grpSp>
        <p:nvGrpSpPr>
          <p:cNvPr id="1039" name=""/>
          <p:cNvGrpSpPr/>
          <p:nvPr/>
        </p:nvGrpSpPr>
        <p:grpSpPr>
          <a:xfrm>
            <a:off x="720720" y="1446120"/>
            <a:ext cx="1497240" cy="4789800"/>
            <a:chOff x="720720" y="1446120"/>
            <a:chExt cx="1497240" cy="4789800"/>
          </a:xfrm>
        </p:grpSpPr>
        <p:grpSp>
          <p:nvGrpSpPr>
            <p:cNvPr id="1040" name=""/>
            <p:cNvGrpSpPr/>
            <p:nvPr/>
          </p:nvGrpSpPr>
          <p:grpSpPr>
            <a:xfrm>
              <a:off x="1071720" y="3367080"/>
              <a:ext cx="892440" cy="2868840"/>
              <a:chOff x="1071720" y="3367080"/>
              <a:chExt cx="892440" cy="2868840"/>
            </a:xfrm>
          </p:grpSpPr>
          <p:grpSp>
            <p:nvGrpSpPr>
              <p:cNvPr id="1041" name=""/>
              <p:cNvGrpSpPr/>
              <p:nvPr/>
            </p:nvGrpSpPr>
            <p:grpSpPr>
              <a:xfrm>
                <a:off x="1149480" y="5654520"/>
                <a:ext cx="797400" cy="581400"/>
                <a:chOff x="1149480" y="5654520"/>
                <a:chExt cx="797400" cy="581400"/>
              </a:xfrm>
            </p:grpSpPr>
            <p:grpSp>
              <p:nvGrpSpPr>
                <p:cNvPr id="1042" name=""/>
                <p:cNvGrpSpPr/>
                <p:nvPr/>
              </p:nvGrpSpPr>
              <p:grpSpPr>
                <a:xfrm>
                  <a:off x="1517760" y="5654520"/>
                  <a:ext cx="429120" cy="337320"/>
                  <a:chOff x="1517760" y="5654520"/>
                  <a:chExt cx="429120" cy="337320"/>
                </a:xfrm>
              </p:grpSpPr>
              <p:grpSp>
                <p:nvGrpSpPr>
                  <p:cNvPr id="1043" name=""/>
                  <p:cNvGrpSpPr/>
                  <p:nvPr/>
                </p:nvGrpSpPr>
                <p:grpSpPr>
                  <a:xfrm>
                    <a:off x="1536840" y="5654520"/>
                    <a:ext cx="332280" cy="251280"/>
                    <a:chOff x="1536840" y="5654520"/>
                    <a:chExt cx="332280" cy="251280"/>
                  </a:xfrm>
                </p:grpSpPr>
                <p:sp>
                  <p:nvSpPr>
                    <p:cNvPr id="1044" name=""/>
                    <p:cNvSpPr/>
                    <p:nvPr/>
                  </p:nvSpPr>
                  <p:spPr>
                    <a:xfrm>
                      <a:off x="1536840" y="5654520"/>
                      <a:ext cx="332280" cy="251280"/>
                    </a:xfrm>
                    <a:custGeom>
                      <a:avLst/>
                      <a:gdLst/>
                      <a:ahLst/>
                      <a:rect l="0" t="0" r="r" b="b"/>
                      <a:pathLst>
                        <a:path w="923" h="698">
                          <a:moveTo>
                            <a:pt x="587" y="70"/>
                          </a:moveTo>
                          <a:lnTo>
                            <a:pt x="591" y="177"/>
                          </a:lnTo>
                          <a:lnTo>
                            <a:pt x="662" y="252"/>
                          </a:lnTo>
                          <a:lnTo>
                            <a:pt x="738" y="340"/>
                          </a:lnTo>
                          <a:lnTo>
                            <a:pt x="866" y="464"/>
                          </a:lnTo>
                          <a:lnTo>
                            <a:pt x="923" y="535"/>
                          </a:lnTo>
                          <a:lnTo>
                            <a:pt x="914" y="685"/>
                          </a:lnTo>
                          <a:lnTo>
                            <a:pt x="565" y="698"/>
                          </a:lnTo>
                          <a:lnTo>
                            <a:pt x="149" y="464"/>
                          </a:lnTo>
                          <a:lnTo>
                            <a:pt x="0" y="234"/>
                          </a:lnTo>
                          <a:lnTo>
                            <a:pt x="105" y="0"/>
                          </a:lnTo>
                          <a:lnTo>
                            <a:pt x="587" y="7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5" name=""/>
                    <p:cNvSpPr/>
                    <p:nvPr/>
                  </p:nvSpPr>
                  <p:spPr>
                    <a:xfrm>
                      <a:off x="1565280" y="5684760"/>
                      <a:ext cx="194040" cy="195480"/>
                    </a:xfrm>
                    <a:custGeom>
                      <a:avLst/>
                      <a:gdLst/>
                      <a:ahLst/>
                      <a:rect l="0" t="0" r="r" b="b"/>
                      <a:pathLst>
                        <a:path w="539" h="543">
                          <a:moveTo>
                            <a:pt x="265" y="30"/>
                          </a:moveTo>
                          <a:lnTo>
                            <a:pt x="336" y="83"/>
                          </a:lnTo>
                          <a:lnTo>
                            <a:pt x="371" y="149"/>
                          </a:lnTo>
                          <a:lnTo>
                            <a:pt x="434" y="251"/>
                          </a:lnTo>
                          <a:lnTo>
                            <a:pt x="473" y="336"/>
                          </a:lnTo>
                          <a:lnTo>
                            <a:pt x="509" y="424"/>
                          </a:lnTo>
                          <a:lnTo>
                            <a:pt x="539" y="543"/>
                          </a:lnTo>
                          <a:lnTo>
                            <a:pt x="142" y="402"/>
                          </a:lnTo>
                          <a:lnTo>
                            <a:pt x="8" y="207"/>
                          </a:lnTo>
                          <a:lnTo>
                            <a:pt x="0" y="0"/>
                          </a:lnTo>
                          <a:lnTo>
                            <a:pt x="265" y="3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6" name=""/>
                    <p:cNvSpPr/>
                    <p:nvPr/>
                  </p:nvSpPr>
                  <p:spPr>
                    <a:xfrm>
                      <a:off x="1785960" y="5762520"/>
                      <a:ext cx="74880" cy="116280"/>
                    </a:xfrm>
                    <a:custGeom>
                      <a:avLst/>
                      <a:gdLst/>
                      <a:ahLst/>
                      <a:rect l="0" t="0" r="r" b="b"/>
                      <a:pathLst>
                        <a:path w="208" h="323">
                          <a:moveTo>
                            <a:pt x="0" y="0"/>
                          </a:moveTo>
                          <a:lnTo>
                            <a:pt x="44" y="39"/>
                          </a:lnTo>
                          <a:lnTo>
                            <a:pt x="79" y="79"/>
                          </a:lnTo>
                          <a:lnTo>
                            <a:pt x="120" y="120"/>
                          </a:lnTo>
                          <a:lnTo>
                            <a:pt x="155" y="159"/>
                          </a:lnTo>
                          <a:lnTo>
                            <a:pt x="181" y="199"/>
                          </a:lnTo>
                          <a:lnTo>
                            <a:pt x="208" y="239"/>
                          </a:lnTo>
                          <a:lnTo>
                            <a:pt x="208" y="279"/>
                          </a:lnTo>
                          <a:lnTo>
                            <a:pt x="199" y="306"/>
                          </a:lnTo>
                          <a:lnTo>
                            <a:pt x="172" y="323"/>
                          </a:lnTo>
                          <a:lnTo>
                            <a:pt x="115" y="315"/>
                          </a:lnTo>
                          <a:lnTo>
                            <a:pt x="155" y="306"/>
                          </a:lnTo>
                          <a:lnTo>
                            <a:pt x="177" y="297"/>
                          </a:lnTo>
                          <a:lnTo>
                            <a:pt x="181" y="279"/>
                          </a:lnTo>
                          <a:lnTo>
                            <a:pt x="190" y="262"/>
                          </a:lnTo>
                          <a:lnTo>
                            <a:pt x="177" y="225"/>
                          </a:lnTo>
                          <a:lnTo>
                            <a:pt x="155" y="181"/>
                          </a:lnTo>
                          <a:lnTo>
                            <a:pt x="120" y="137"/>
                          </a:lnTo>
                          <a:lnTo>
                            <a:pt x="52" y="66"/>
                          </a:lnTo>
                          <a:lnTo>
                            <a:pt x="0" y="0"/>
                          </a:lnTo>
                          <a:close/>
                        </a:path>
                      </a:pathLst>
                    </a:custGeom>
                    <a:solidFill>
                      <a:srgbClr val="bf3f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047" name=""/>
                  <p:cNvGrpSpPr/>
                  <p:nvPr/>
                </p:nvGrpSpPr>
                <p:grpSpPr>
                  <a:xfrm>
                    <a:off x="1517760" y="5675400"/>
                    <a:ext cx="429120" cy="316440"/>
                    <a:chOff x="1517760" y="5675400"/>
                    <a:chExt cx="429120" cy="316440"/>
                  </a:xfrm>
                </p:grpSpPr>
                <p:sp>
                  <p:nvSpPr>
                    <p:cNvPr id="1048" name=""/>
                    <p:cNvSpPr/>
                    <p:nvPr/>
                  </p:nvSpPr>
                  <p:spPr>
                    <a:xfrm>
                      <a:off x="1517760" y="5675400"/>
                      <a:ext cx="429120" cy="316440"/>
                    </a:xfrm>
                    <a:custGeom>
                      <a:avLst/>
                      <a:gdLst/>
                      <a:ahLst/>
                      <a:rect l="0" t="0" r="r" b="b"/>
                      <a:pathLst>
                        <a:path w="1192" h="879">
                          <a:moveTo>
                            <a:pt x="750" y="252"/>
                          </a:moveTo>
                          <a:lnTo>
                            <a:pt x="865" y="375"/>
                          </a:lnTo>
                          <a:lnTo>
                            <a:pt x="919" y="424"/>
                          </a:lnTo>
                          <a:lnTo>
                            <a:pt x="945" y="459"/>
                          </a:lnTo>
                          <a:lnTo>
                            <a:pt x="954" y="499"/>
                          </a:lnTo>
                          <a:lnTo>
                            <a:pt x="950" y="538"/>
                          </a:lnTo>
                          <a:lnTo>
                            <a:pt x="928" y="552"/>
                          </a:lnTo>
                          <a:lnTo>
                            <a:pt x="891" y="556"/>
                          </a:lnTo>
                          <a:lnTo>
                            <a:pt x="803" y="547"/>
                          </a:lnTo>
                          <a:lnTo>
                            <a:pt x="706" y="530"/>
                          </a:lnTo>
                          <a:lnTo>
                            <a:pt x="591" y="499"/>
                          </a:lnTo>
                          <a:lnTo>
                            <a:pt x="433" y="441"/>
                          </a:lnTo>
                          <a:lnTo>
                            <a:pt x="309" y="371"/>
                          </a:lnTo>
                          <a:lnTo>
                            <a:pt x="238" y="309"/>
                          </a:lnTo>
                          <a:lnTo>
                            <a:pt x="198" y="252"/>
                          </a:lnTo>
                          <a:lnTo>
                            <a:pt x="176" y="154"/>
                          </a:lnTo>
                          <a:lnTo>
                            <a:pt x="141" y="83"/>
                          </a:lnTo>
                          <a:lnTo>
                            <a:pt x="105" y="0"/>
                          </a:lnTo>
                          <a:lnTo>
                            <a:pt x="52" y="83"/>
                          </a:lnTo>
                          <a:lnTo>
                            <a:pt x="13" y="185"/>
                          </a:lnTo>
                          <a:lnTo>
                            <a:pt x="0" y="256"/>
                          </a:lnTo>
                          <a:lnTo>
                            <a:pt x="4" y="353"/>
                          </a:lnTo>
                          <a:lnTo>
                            <a:pt x="35" y="459"/>
                          </a:lnTo>
                          <a:lnTo>
                            <a:pt x="88" y="547"/>
                          </a:lnTo>
                          <a:lnTo>
                            <a:pt x="114" y="613"/>
                          </a:lnTo>
                          <a:lnTo>
                            <a:pt x="123" y="658"/>
                          </a:lnTo>
                          <a:lnTo>
                            <a:pt x="171" y="667"/>
                          </a:lnTo>
                          <a:lnTo>
                            <a:pt x="309" y="640"/>
                          </a:lnTo>
                          <a:lnTo>
                            <a:pt x="375" y="711"/>
                          </a:lnTo>
                          <a:lnTo>
                            <a:pt x="459" y="822"/>
                          </a:lnTo>
                          <a:lnTo>
                            <a:pt x="486" y="857"/>
                          </a:lnTo>
                          <a:lnTo>
                            <a:pt x="530" y="870"/>
                          </a:lnTo>
                          <a:lnTo>
                            <a:pt x="591" y="879"/>
                          </a:lnTo>
                          <a:lnTo>
                            <a:pt x="963" y="857"/>
                          </a:lnTo>
                          <a:lnTo>
                            <a:pt x="1108" y="839"/>
                          </a:lnTo>
                          <a:lnTo>
                            <a:pt x="1166" y="831"/>
                          </a:lnTo>
                          <a:lnTo>
                            <a:pt x="1188" y="813"/>
                          </a:lnTo>
                          <a:lnTo>
                            <a:pt x="1192" y="773"/>
                          </a:lnTo>
                          <a:lnTo>
                            <a:pt x="1183" y="725"/>
                          </a:lnTo>
                          <a:lnTo>
                            <a:pt x="1144" y="663"/>
                          </a:lnTo>
                          <a:lnTo>
                            <a:pt x="1073" y="565"/>
                          </a:lnTo>
                          <a:lnTo>
                            <a:pt x="1003" y="490"/>
                          </a:lnTo>
                          <a:lnTo>
                            <a:pt x="936" y="411"/>
                          </a:lnTo>
                          <a:lnTo>
                            <a:pt x="852" y="336"/>
                          </a:lnTo>
                          <a:lnTo>
                            <a:pt x="750" y="25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9" name=""/>
                    <p:cNvSpPr/>
                    <p:nvPr/>
                  </p:nvSpPr>
                  <p:spPr>
                    <a:xfrm>
                      <a:off x="1584360" y="5869080"/>
                      <a:ext cx="51120" cy="44640"/>
                    </a:xfrm>
                    <a:custGeom>
                      <a:avLst/>
                      <a:gdLst/>
                      <a:ahLst/>
                      <a:rect l="0" t="0" r="r" b="b"/>
                      <a:pathLst>
                        <a:path w="142" h="124">
                          <a:moveTo>
                            <a:pt x="142" y="124"/>
                          </a:moveTo>
                          <a:lnTo>
                            <a:pt x="111" y="67"/>
                          </a:lnTo>
                          <a:lnTo>
                            <a:pt x="89" y="39"/>
                          </a:lnTo>
                          <a:lnTo>
                            <a:pt x="52" y="17"/>
                          </a:lnTo>
                          <a:lnTo>
                            <a:pt x="0" y="0"/>
                          </a:lnTo>
                          <a:lnTo>
                            <a:pt x="22" y="30"/>
                          </a:lnTo>
                          <a:lnTo>
                            <a:pt x="52" y="35"/>
                          </a:lnTo>
                          <a:lnTo>
                            <a:pt x="89" y="61"/>
                          </a:lnTo>
                          <a:lnTo>
                            <a:pt x="142" y="124"/>
                          </a:lnTo>
                          <a:close/>
                        </a:path>
                      </a:pathLst>
                    </a:custGeom>
                    <a:solidFill>
                      <a:srgbClr val="5f3f1f"/>
                    </a:solidFill>
                    <a:ln w="0">
                      <a:noFill/>
                    </a:ln>
                  </p:spPr>
                  <p:txBody>
                    <a:bodyPr lIns="90000" rIns="90000" tIns="-360" bIns="-360" anchor="t">
                      <a:noAutofit/>
                    </a:bodyPr>
                    <a:p>
                      <a:endParaRPr b="0" lang="en-US" sz="1800" spc="-1" strike="noStrike">
                        <a:solidFill>
                          <a:srgbClr val="000000"/>
                        </a:solidFill>
                        <a:latin typeface="Arial"/>
                      </a:endParaRPr>
                    </a:p>
                  </p:txBody>
                </p:sp>
              </p:grpSp>
            </p:grpSp>
            <p:grpSp>
              <p:nvGrpSpPr>
                <p:cNvPr id="1050" name=""/>
                <p:cNvGrpSpPr/>
                <p:nvPr/>
              </p:nvGrpSpPr>
              <p:grpSpPr>
                <a:xfrm>
                  <a:off x="1149480" y="5800680"/>
                  <a:ext cx="282600" cy="435240"/>
                  <a:chOff x="1149480" y="5800680"/>
                  <a:chExt cx="282600" cy="435240"/>
                </a:xfrm>
              </p:grpSpPr>
              <p:grpSp>
                <p:nvGrpSpPr>
                  <p:cNvPr id="1051" name=""/>
                  <p:cNvGrpSpPr/>
                  <p:nvPr/>
                </p:nvGrpSpPr>
                <p:grpSpPr>
                  <a:xfrm>
                    <a:off x="1182600" y="5800680"/>
                    <a:ext cx="249480" cy="287640"/>
                    <a:chOff x="1182600" y="5800680"/>
                    <a:chExt cx="249480" cy="287640"/>
                  </a:xfrm>
                </p:grpSpPr>
                <p:sp>
                  <p:nvSpPr>
                    <p:cNvPr id="1052" name=""/>
                    <p:cNvSpPr/>
                    <p:nvPr/>
                  </p:nvSpPr>
                  <p:spPr>
                    <a:xfrm>
                      <a:off x="1182600" y="5800680"/>
                      <a:ext cx="248040" cy="270360"/>
                    </a:xfrm>
                    <a:custGeom>
                      <a:avLst/>
                      <a:gdLst/>
                      <a:ahLst/>
                      <a:rect l="0" t="0" r="r" b="b"/>
                      <a:pathLst>
                        <a:path w="689" h="751">
                          <a:moveTo>
                            <a:pt x="689" y="79"/>
                          </a:moveTo>
                          <a:lnTo>
                            <a:pt x="654" y="230"/>
                          </a:lnTo>
                          <a:lnTo>
                            <a:pt x="645" y="274"/>
                          </a:lnTo>
                          <a:lnTo>
                            <a:pt x="654" y="327"/>
                          </a:lnTo>
                          <a:lnTo>
                            <a:pt x="645" y="393"/>
                          </a:lnTo>
                          <a:lnTo>
                            <a:pt x="628" y="437"/>
                          </a:lnTo>
                          <a:lnTo>
                            <a:pt x="619" y="516"/>
                          </a:lnTo>
                          <a:lnTo>
                            <a:pt x="628" y="588"/>
                          </a:lnTo>
                          <a:lnTo>
                            <a:pt x="597" y="720"/>
                          </a:lnTo>
                          <a:lnTo>
                            <a:pt x="57" y="751"/>
                          </a:lnTo>
                          <a:lnTo>
                            <a:pt x="0" y="566"/>
                          </a:lnTo>
                          <a:lnTo>
                            <a:pt x="30" y="406"/>
                          </a:lnTo>
                          <a:lnTo>
                            <a:pt x="92" y="314"/>
                          </a:lnTo>
                          <a:lnTo>
                            <a:pt x="123" y="199"/>
                          </a:lnTo>
                          <a:lnTo>
                            <a:pt x="158" y="30"/>
                          </a:lnTo>
                          <a:lnTo>
                            <a:pt x="252" y="0"/>
                          </a:lnTo>
                          <a:lnTo>
                            <a:pt x="689" y="7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3" name=""/>
                    <p:cNvSpPr/>
                    <p:nvPr/>
                  </p:nvSpPr>
                  <p:spPr>
                    <a:xfrm>
                      <a:off x="1353960" y="5827680"/>
                      <a:ext cx="78120" cy="228960"/>
                    </a:xfrm>
                    <a:custGeom>
                      <a:avLst/>
                      <a:gdLst/>
                      <a:ahLst/>
                      <a:rect l="0" t="0" r="r" b="b"/>
                      <a:pathLst>
                        <a:path w="217" h="636">
                          <a:moveTo>
                            <a:pt x="217" y="0"/>
                          </a:moveTo>
                          <a:lnTo>
                            <a:pt x="186" y="149"/>
                          </a:lnTo>
                          <a:lnTo>
                            <a:pt x="172" y="194"/>
                          </a:lnTo>
                          <a:lnTo>
                            <a:pt x="186" y="246"/>
                          </a:lnTo>
                          <a:lnTo>
                            <a:pt x="172" y="313"/>
                          </a:lnTo>
                          <a:lnTo>
                            <a:pt x="150" y="349"/>
                          </a:lnTo>
                          <a:lnTo>
                            <a:pt x="146" y="433"/>
                          </a:lnTo>
                          <a:lnTo>
                            <a:pt x="150" y="508"/>
                          </a:lnTo>
                          <a:lnTo>
                            <a:pt x="124" y="636"/>
                          </a:lnTo>
                          <a:lnTo>
                            <a:pt x="0" y="631"/>
                          </a:lnTo>
                          <a:lnTo>
                            <a:pt x="88" y="525"/>
                          </a:lnTo>
                          <a:lnTo>
                            <a:pt x="83" y="433"/>
                          </a:lnTo>
                          <a:lnTo>
                            <a:pt x="92" y="344"/>
                          </a:lnTo>
                          <a:lnTo>
                            <a:pt x="101" y="273"/>
                          </a:lnTo>
                          <a:lnTo>
                            <a:pt x="120" y="180"/>
                          </a:lnTo>
                          <a:lnTo>
                            <a:pt x="164" y="44"/>
                          </a:lnTo>
                          <a:lnTo>
                            <a:pt x="217" y="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4" name=""/>
                    <p:cNvSpPr/>
                    <p:nvPr/>
                  </p:nvSpPr>
                  <p:spPr>
                    <a:xfrm>
                      <a:off x="1192320" y="5803920"/>
                      <a:ext cx="84600" cy="284400"/>
                    </a:xfrm>
                    <a:custGeom>
                      <a:avLst/>
                      <a:gdLst/>
                      <a:ahLst/>
                      <a:rect l="0" t="0" r="r" b="b"/>
                      <a:pathLst>
                        <a:path w="235" h="790">
                          <a:moveTo>
                            <a:pt x="159" y="216"/>
                          </a:moveTo>
                          <a:lnTo>
                            <a:pt x="120" y="339"/>
                          </a:lnTo>
                          <a:lnTo>
                            <a:pt x="98" y="433"/>
                          </a:lnTo>
                          <a:lnTo>
                            <a:pt x="98" y="508"/>
                          </a:lnTo>
                          <a:lnTo>
                            <a:pt x="111" y="600"/>
                          </a:lnTo>
                          <a:lnTo>
                            <a:pt x="128" y="697"/>
                          </a:lnTo>
                          <a:lnTo>
                            <a:pt x="80" y="790"/>
                          </a:lnTo>
                          <a:lnTo>
                            <a:pt x="0" y="494"/>
                          </a:lnTo>
                          <a:lnTo>
                            <a:pt x="71" y="282"/>
                          </a:lnTo>
                          <a:lnTo>
                            <a:pt x="102" y="163"/>
                          </a:lnTo>
                          <a:lnTo>
                            <a:pt x="133" y="0"/>
                          </a:lnTo>
                          <a:lnTo>
                            <a:pt x="235" y="39"/>
                          </a:lnTo>
                          <a:lnTo>
                            <a:pt x="159" y="216"/>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055" name=""/>
                  <p:cNvSpPr/>
                  <p:nvPr/>
                </p:nvSpPr>
                <p:spPr>
                  <a:xfrm>
                    <a:off x="1149480" y="5913360"/>
                    <a:ext cx="259200" cy="322560"/>
                  </a:xfrm>
                  <a:custGeom>
                    <a:avLst/>
                    <a:gdLst/>
                    <a:ahLst/>
                    <a:rect l="0" t="0" r="r" b="b"/>
                    <a:pathLst>
                      <a:path w="720" h="896">
                        <a:moveTo>
                          <a:pt x="716" y="242"/>
                        </a:moveTo>
                        <a:lnTo>
                          <a:pt x="667" y="313"/>
                        </a:lnTo>
                        <a:lnTo>
                          <a:pt x="606" y="361"/>
                        </a:lnTo>
                        <a:lnTo>
                          <a:pt x="494" y="396"/>
                        </a:lnTo>
                        <a:lnTo>
                          <a:pt x="402" y="410"/>
                        </a:lnTo>
                        <a:lnTo>
                          <a:pt x="336" y="383"/>
                        </a:lnTo>
                        <a:lnTo>
                          <a:pt x="230" y="317"/>
                        </a:lnTo>
                        <a:lnTo>
                          <a:pt x="190" y="229"/>
                        </a:lnTo>
                        <a:lnTo>
                          <a:pt x="167" y="123"/>
                        </a:lnTo>
                        <a:lnTo>
                          <a:pt x="186" y="0"/>
                        </a:lnTo>
                        <a:lnTo>
                          <a:pt x="127" y="70"/>
                        </a:lnTo>
                        <a:lnTo>
                          <a:pt x="101" y="171"/>
                        </a:lnTo>
                        <a:lnTo>
                          <a:pt x="52" y="313"/>
                        </a:lnTo>
                        <a:lnTo>
                          <a:pt x="17" y="418"/>
                        </a:lnTo>
                        <a:lnTo>
                          <a:pt x="0" y="486"/>
                        </a:lnTo>
                        <a:lnTo>
                          <a:pt x="22" y="561"/>
                        </a:lnTo>
                        <a:lnTo>
                          <a:pt x="97" y="662"/>
                        </a:lnTo>
                        <a:lnTo>
                          <a:pt x="221" y="799"/>
                        </a:lnTo>
                        <a:lnTo>
                          <a:pt x="314" y="865"/>
                        </a:lnTo>
                        <a:lnTo>
                          <a:pt x="353" y="896"/>
                        </a:lnTo>
                        <a:lnTo>
                          <a:pt x="402" y="865"/>
                        </a:lnTo>
                        <a:lnTo>
                          <a:pt x="481" y="821"/>
                        </a:lnTo>
                        <a:lnTo>
                          <a:pt x="610" y="737"/>
                        </a:lnTo>
                        <a:lnTo>
                          <a:pt x="672" y="684"/>
                        </a:lnTo>
                        <a:lnTo>
                          <a:pt x="694" y="649"/>
                        </a:lnTo>
                        <a:lnTo>
                          <a:pt x="711" y="534"/>
                        </a:lnTo>
                        <a:lnTo>
                          <a:pt x="720" y="423"/>
                        </a:lnTo>
                        <a:lnTo>
                          <a:pt x="716" y="24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1056" name=""/>
              <p:cNvGrpSpPr/>
              <p:nvPr/>
            </p:nvGrpSpPr>
            <p:grpSpPr>
              <a:xfrm>
                <a:off x="1071720" y="3367080"/>
                <a:ext cx="892440" cy="2521440"/>
                <a:chOff x="1071720" y="3367080"/>
                <a:chExt cx="892440" cy="2521440"/>
              </a:xfrm>
            </p:grpSpPr>
            <p:sp>
              <p:nvSpPr>
                <p:cNvPr id="1057" name=""/>
                <p:cNvSpPr/>
                <p:nvPr/>
              </p:nvSpPr>
              <p:spPr>
                <a:xfrm>
                  <a:off x="1071720" y="3367080"/>
                  <a:ext cx="892440" cy="2521440"/>
                </a:xfrm>
                <a:custGeom>
                  <a:avLst/>
                  <a:gdLst/>
                  <a:ahLst/>
                  <a:rect l="0" t="0" r="r" b="b"/>
                  <a:pathLst>
                    <a:path w="2479" h="7004">
                      <a:moveTo>
                        <a:pt x="2276" y="0"/>
                      </a:moveTo>
                      <a:lnTo>
                        <a:pt x="1164" y="101"/>
                      </a:lnTo>
                      <a:lnTo>
                        <a:pt x="22" y="317"/>
                      </a:lnTo>
                      <a:lnTo>
                        <a:pt x="13" y="493"/>
                      </a:lnTo>
                      <a:lnTo>
                        <a:pt x="0" y="652"/>
                      </a:lnTo>
                      <a:lnTo>
                        <a:pt x="22" y="851"/>
                      </a:lnTo>
                      <a:lnTo>
                        <a:pt x="66" y="996"/>
                      </a:lnTo>
                      <a:lnTo>
                        <a:pt x="39" y="974"/>
                      </a:lnTo>
                      <a:lnTo>
                        <a:pt x="17" y="930"/>
                      </a:lnTo>
                      <a:lnTo>
                        <a:pt x="35" y="1058"/>
                      </a:lnTo>
                      <a:lnTo>
                        <a:pt x="57" y="1137"/>
                      </a:lnTo>
                      <a:lnTo>
                        <a:pt x="70" y="1234"/>
                      </a:lnTo>
                      <a:lnTo>
                        <a:pt x="74" y="1358"/>
                      </a:lnTo>
                      <a:lnTo>
                        <a:pt x="66" y="1446"/>
                      </a:lnTo>
                      <a:lnTo>
                        <a:pt x="74" y="1552"/>
                      </a:lnTo>
                      <a:lnTo>
                        <a:pt x="88" y="1636"/>
                      </a:lnTo>
                      <a:lnTo>
                        <a:pt x="110" y="1724"/>
                      </a:lnTo>
                      <a:lnTo>
                        <a:pt x="141" y="1857"/>
                      </a:lnTo>
                      <a:lnTo>
                        <a:pt x="171" y="1954"/>
                      </a:lnTo>
                      <a:lnTo>
                        <a:pt x="198" y="2060"/>
                      </a:lnTo>
                      <a:lnTo>
                        <a:pt x="189" y="2104"/>
                      </a:lnTo>
                      <a:lnTo>
                        <a:pt x="194" y="2152"/>
                      </a:lnTo>
                      <a:lnTo>
                        <a:pt x="207" y="2263"/>
                      </a:lnTo>
                      <a:lnTo>
                        <a:pt x="233" y="2395"/>
                      </a:lnTo>
                      <a:lnTo>
                        <a:pt x="282" y="2541"/>
                      </a:lnTo>
                      <a:lnTo>
                        <a:pt x="339" y="2743"/>
                      </a:lnTo>
                      <a:lnTo>
                        <a:pt x="352" y="2796"/>
                      </a:lnTo>
                      <a:lnTo>
                        <a:pt x="366" y="2862"/>
                      </a:lnTo>
                      <a:lnTo>
                        <a:pt x="392" y="2933"/>
                      </a:lnTo>
                      <a:lnTo>
                        <a:pt x="432" y="3017"/>
                      </a:lnTo>
                      <a:lnTo>
                        <a:pt x="476" y="3087"/>
                      </a:lnTo>
                      <a:lnTo>
                        <a:pt x="454" y="3273"/>
                      </a:lnTo>
                      <a:lnTo>
                        <a:pt x="432" y="3625"/>
                      </a:lnTo>
                      <a:lnTo>
                        <a:pt x="440" y="3925"/>
                      </a:lnTo>
                      <a:lnTo>
                        <a:pt x="432" y="4256"/>
                      </a:lnTo>
                      <a:lnTo>
                        <a:pt x="392" y="4939"/>
                      </a:lnTo>
                      <a:lnTo>
                        <a:pt x="392" y="5333"/>
                      </a:lnTo>
                      <a:lnTo>
                        <a:pt x="388" y="5589"/>
                      </a:lnTo>
                      <a:lnTo>
                        <a:pt x="392" y="5880"/>
                      </a:lnTo>
                      <a:lnTo>
                        <a:pt x="405" y="6382"/>
                      </a:lnTo>
                      <a:lnTo>
                        <a:pt x="414" y="6435"/>
                      </a:lnTo>
                      <a:lnTo>
                        <a:pt x="427" y="6488"/>
                      </a:lnTo>
                      <a:lnTo>
                        <a:pt x="445" y="6629"/>
                      </a:lnTo>
                      <a:lnTo>
                        <a:pt x="445" y="6748"/>
                      </a:lnTo>
                      <a:lnTo>
                        <a:pt x="436" y="6907"/>
                      </a:lnTo>
                      <a:lnTo>
                        <a:pt x="485" y="6889"/>
                      </a:lnTo>
                      <a:lnTo>
                        <a:pt x="537" y="6881"/>
                      </a:lnTo>
                      <a:lnTo>
                        <a:pt x="648" y="6889"/>
                      </a:lnTo>
                      <a:lnTo>
                        <a:pt x="754" y="6912"/>
                      </a:lnTo>
                      <a:lnTo>
                        <a:pt x="886" y="6938"/>
                      </a:lnTo>
                      <a:lnTo>
                        <a:pt x="952" y="6969"/>
                      </a:lnTo>
                      <a:lnTo>
                        <a:pt x="1005" y="6991"/>
                      </a:lnTo>
                      <a:lnTo>
                        <a:pt x="1053" y="7004"/>
                      </a:lnTo>
                      <a:lnTo>
                        <a:pt x="1098" y="7004"/>
                      </a:lnTo>
                      <a:lnTo>
                        <a:pt x="1150" y="7000"/>
                      </a:lnTo>
                      <a:lnTo>
                        <a:pt x="1164" y="6920"/>
                      </a:lnTo>
                      <a:lnTo>
                        <a:pt x="1172" y="6841"/>
                      </a:lnTo>
                      <a:lnTo>
                        <a:pt x="1181" y="6740"/>
                      </a:lnTo>
                      <a:lnTo>
                        <a:pt x="1168" y="6651"/>
                      </a:lnTo>
                      <a:lnTo>
                        <a:pt x="1172" y="6528"/>
                      </a:lnTo>
                      <a:lnTo>
                        <a:pt x="1164" y="6065"/>
                      </a:lnTo>
                      <a:lnTo>
                        <a:pt x="1172" y="5690"/>
                      </a:lnTo>
                      <a:lnTo>
                        <a:pt x="1190" y="5267"/>
                      </a:lnTo>
                      <a:lnTo>
                        <a:pt x="1230" y="4886"/>
                      </a:lnTo>
                      <a:lnTo>
                        <a:pt x="1253" y="4498"/>
                      </a:lnTo>
                      <a:lnTo>
                        <a:pt x="1271" y="4701"/>
                      </a:lnTo>
                      <a:lnTo>
                        <a:pt x="1315" y="4895"/>
                      </a:lnTo>
                      <a:lnTo>
                        <a:pt x="1271" y="5058"/>
                      </a:lnTo>
                      <a:lnTo>
                        <a:pt x="1253" y="5230"/>
                      </a:lnTo>
                      <a:lnTo>
                        <a:pt x="1230" y="5518"/>
                      </a:lnTo>
                      <a:lnTo>
                        <a:pt x="1221" y="5809"/>
                      </a:lnTo>
                      <a:lnTo>
                        <a:pt x="1266" y="6175"/>
                      </a:lnTo>
                      <a:lnTo>
                        <a:pt x="1315" y="6382"/>
                      </a:lnTo>
                      <a:lnTo>
                        <a:pt x="1319" y="6435"/>
                      </a:lnTo>
                      <a:lnTo>
                        <a:pt x="1372" y="6488"/>
                      </a:lnTo>
                      <a:lnTo>
                        <a:pt x="1522" y="6510"/>
                      </a:lnTo>
                      <a:lnTo>
                        <a:pt x="1707" y="6501"/>
                      </a:lnTo>
                      <a:lnTo>
                        <a:pt x="1879" y="6523"/>
                      </a:lnTo>
                      <a:lnTo>
                        <a:pt x="2069" y="6488"/>
                      </a:lnTo>
                      <a:lnTo>
                        <a:pt x="2091" y="6479"/>
                      </a:lnTo>
                      <a:lnTo>
                        <a:pt x="2091" y="6440"/>
                      </a:lnTo>
                      <a:lnTo>
                        <a:pt x="2077" y="6254"/>
                      </a:lnTo>
                      <a:lnTo>
                        <a:pt x="2082" y="6109"/>
                      </a:lnTo>
                      <a:lnTo>
                        <a:pt x="2086" y="5946"/>
                      </a:lnTo>
                      <a:lnTo>
                        <a:pt x="2104" y="5800"/>
                      </a:lnTo>
                      <a:lnTo>
                        <a:pt x="2130" y="5474"/>
                      </a:lnTo>
                      <a:lnTo>
                        <a:pt x="2161" y="5067"/>
                      </a:lnTo>
                      <a:lnTo>
                        <a:pt x="2214" y="4507"/>
                      </a:lnTo>
                      <a:lnTo>
                        <a:pt x="2276" y="4119"/>
                      </a:lnTo>
                      <a:lnTo>
                        <a:pt x="2298" y="3639"/>
                      </a:lnTo>
                      <a:lnTo>
                        <a:pt x="2307" y="3211"/>
                      </a:lnTo>
                      <a:lnTo>
                        <a:pt x="2377" y="2730"/>
                      </a:lnTo>
                      <a:lnTo>
                        <a:pt x="2421" y="2254"/>
                      </a:lnTo>
                      <a:lnTo>
                        <a:pt x="2443" y="1910"/>
                      </a:lnTo>
                      <a:lnTo>
                        <a:pt x="2479" y="1481"/>
                      </a:lnTo>
                      <a:lnTo>
                        <a:pt x="2461" y="1036"/>
                      </a:lnTo>
                      <a:lnTo>
                        <a:pt x="2448" y="701"/>
                      </a:lnTo>
                      <a:lnTo>
                        <a:pt x="2408" y="423"/>
                      </a:lnTo>
                      <a:lnTo>
                        <a:pt x="2351" y="194"/>
                      </a:lnTo>
                      <a:lnTo>
                        <a:pt x="2276" y="0"/>
                      </a:lnTo>
                      <a:close/>
                    </a:path>
                  </a:pathLst>
                </a:custGeom>
                <a:solidFill>
                  <a:srgbClr val="5f5f5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058" name=""/>
                <p:cNvGrpSpPr/>
                <p:nvPr/>
              </p:nvGrpSpPr>
              <p:grpSpPr>
                <a:xfrm>
                  <a:off x="1076400" y="3406680"/>
                  <a:ext cx="754560" cy="2458080"/>
                  <a:chOff x="1076400" y="3406680"/>
                  <a:chExt cx="754560" cy="2458080"/>
                </a:xfrm>
              </p:grpSpPr>
              <p:sp>
                <p:nvSpPr>
                  <p:cNvPr id="1059" name=""/>
                  <p:cNvSpPr/>
                  <p:nvPr/>
                </p:nvSpPr>
                <p:spPr>
                  <a:xfrm>
                    <a:off x="1363680" y="3502080"/>
                    <a:ext cx="394200" cy="2211840"/>
                  </a:xfrm>
                  <a:custGeom>
                    <a:avLst/>
                    <a:gdLst/>
                    <a:ahLst/>
                    <a:rect l="0" t="0" r="r" b="b"/>
                    <a:pathLst>
                      <a:path w="1095" h="6144">
                        <a:moveTo>
                          <a:pt x="455" y="4234"/>
                        </a:moveTo>
                        <a:lnTo>
                          <a:pt x="441" y="4124"/>
                        </a:lnTo>
                        <a:lnTo>
                          <a:pt x="530" y="3436"/>
                        </a:lnTo>
                        <a:lnTo>
                          <a:pt x="552" y="3070"/>
                        </a:lnTo>
                        <a:lnTo>
                          <a:pt x="530" y="2682"/>
                        </a:lnTo>
                        <a:lnTo>
                          <a:pt x="508" y="2276"/>
                        </a:lnTo>
                        <a:lnTo>
                          <a:pt x="468" y="1870"/>
                        </a:lnTo>
                        <a:lnTo>
                          <a:pt x="428" y="1419"/>
                        </a:lnTo>
                        <a:lnTo>
                          <a:pt x="260" y="1239"/>
                        </a:lnTo>
                        <a:lnTo>
                          <a:pt x="145" y="1115"/>
                        </a:lnTo>
                        <a:lnTo>
                          <a:pt x="0" y="996"/>
                        </a:lnTo>
                        <a:lnTo>
                          <a:pt x="136" y="1018"/>
                        </a:lnTo>
                        <a:lnTo>
                          <a:pt x="268" y="1080"/>
                        </a:lnTo>
                        <a:lnTo>
                          <a:pt x="389" y="1155"/>
                        </a:lnTo>
                        <a:lnTo>
                          <a:pt x="508" y="1296"/>
                        </a:lnTo>
                        <a:lnTo>
                          <a:pt x="516" y="961"/>
                        </a:lnTo>
                        <a:lnTo>
                          <a:pt x="530" y="758"/>
                        </a:lnTo>
                        <a:lnTo>
                          <a:pt x="516" y="621"/>
                        </a:lnTo>
                        <a:lnTo>
                          <a:pt x="468" y="489"/>
                        </a:lnTo>
                        <a:lnTo>
                          <a:pt x="428" y="370"/>
                        </a:lnTo>
                        <a:lnTo>
                          <a:pt x="397" y="238"/>
                        </a:lnTo>
                        <a:lnTo>
                          <a:pt x="389" y="97"/>
                        </a:lnTo>
                        <a:lnTo>
                          <a:pt x="406" y="0"/>
                        </a:lnTo>
                        <a:lnTo>
                          <a:pt x="468" y="123"/>
                        </a:lnTo>
                        <a:lnTo>
                          <a:pt x="534" y="233"/>
                        </a:lnTo>
                        <a:lnTo>
                          <a:pt x="613" y="361"/>
                        </a:lnTo>
                        <a:lnTo>
                          <a:pt x="658" y="471"/>
                        </a:lnTo>
                        <a:lnTo>
                          <a:pt x="724" y="626"/>
                        </a:lnTo>
                        <a:lnTo>
                          <a:pt x="759" y="740"/>
                        </a:lnTo>
                        <a:lnTo>
                          <a:pt x="772" y="851"/>
                        </a:lnTo>
                        <a:lnTo>
                          <a:pt x="763" y="1005"/>
                        </a:lnTo>
                        <a:lnTo>
                          <a:pt x="737" y="1155"/>
                        </a:lnTo>
                        <a:lnTo>
                          <a:pt x="710" y="1322"/>
                        </a:lnTo>
                        <a:lnTo>
                          <a:pt x="666" y="1584"/>
                        </a:lnTo>
                        <a:lnTo>
                          <a:pt x="812" y="1292"/>
                        </a:lnTo>
                        <a:lnTo>
                          <a:pt x="945" y="956"/>
                        </a:lnTo>
                        <a:lnTo>
                          <a:pt x="1033" y="626"/>
                        </a:lnTo>
                        <a:lnTo>
                          <a:pt x="1082" y="1124"/>
                        </a:lnTo>
                        <a:lnTo>
                          <a:pt x="1095" y="1548"/>
                        </a:lnTo>
                        <a:lnTo>
                          <a:pt x="1047" y="2280"/>
                        </a:lnTo>
                        <a:lnTo>
                          <a:pt x="994" y="3233"/>
                        </a:lnTo>
                        <a:lnTo>
                          <a:pt x="954" y="4203"/>
                        </a:lnTo>
                        <a:lnTo>
                          <a:pt x="994" y="4658"/>
                        </a:lnTo>
                        <a:lnTo>
                          <a:pt x="932" y="4782"/>
                        </a:lnTo>
                        <a:lnTo>
                          <a:pt x="853" y="5187"/>
                        </a:lnTo>
                        <a:lnTo>
                          <a:pt x="958" y="5765"/>
                        </a:lnTo>
                        <a:lnTo>
                          <a:pt x="1011" y="5985"/>
                        </a:lnTo>
                        <a:lnTo>
                          <a:pt x="1069" y="6144"/>
                        </a:lnTo>
                        <a:lnTo>
                          <a:pt x="958" y="6131"/>
                        </a:lnTo>
                        <a:lnTo>
                          <a:pt x="879" y="6127"/>
                        </a:lnTo>
                        <a:lnTo>
                          <a:pt x="812" y="6131"/>
                        </a:lnTo>
                        <a:lnTo>
                          <a:pt x="706" y="6135"/>
                        </a:lnTo>
                        <a:lnTo>
                          <a:pt x="631" y="6131"/>
                        </a:lnTo>
                        <a:lnTo>
                          <a:pt x="561" y="6122"/>
                        </a:lnTo>
                        <a:lnTo>
                          <a:pt x="516" y="6100"/>
                        </a:lnTo>
                        <a:lnTo>
                          <a:pt x="490" y="6078"/>
                        </a:lnTo>
                        <a:lnTo>
                          <a:pt x="503" y="6012"/>
                        </a:lnTo>
                        <a:lnTo>
                          <a:pt x="486" y="5955"/>
                        </a:lnTo>
                        <a:lnTo>
                          <a:pt x="455" y="5814"/>
                        </a:lnTo>
                        <a:lnTo>
                          <a:pt x="433" y="5686"/>
                        </a:lnTo>
                        <a:lnTo>
                          <a:pt x="419" y="5549"/>
                        </a:lnTo>
                        <a:lnTo>
                          <a:pt x="411" y="5412"/>
                        </a:lnTo>
                        <a:lnTo>
                          <a:pt x="415" y="5302"/>
                        </a:lnTo>
                        <a:lnTo>
                          <a:pt x="419" y="5183"/>
                        </a:lnTo>
                        <a:lnTo>
                          <a:pt x="428" y="5046"/>
                        </a:lnTo>
                        <a:lnTo>
                          <a:pt x="437" y="4861"/>
                        </a:lnTo>
                        <a:lnTo>
                          <a:pt x="455" y="4738"/>
                        </a:lnTo>
                        <a:lnTo>
                          <a:pt x="464" y="4663"/>
                        </a:lnTo>
                        <a:lnTo>
                          <a:pt x="481" y="4604"/>
                        </a:lnTo>
                        <a:lnTo>
                          <a:pt x="503" y="4520"/>
                        </a:lnTo>
                        <a:lnTo>
                          <a:pt x="494" y="4485"/>
                        </a:lnTo>
                        <a:lnTo>
                          <a:pt x="477" y="4401"/>
                        </a:lnTo>
                        <a:lnTo>
                          <a:pt x="459" y="4322"/>
                        </a:lnTo>
                        <a:lnTo>
                          <a:pt x="455" y="4234"/>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0" name=""/>
                  <p:cNvSpPr/>
                  <p:nvPr/>
                </p:nvSpPr>
                <p:spPr>
                  <a:xfrm>
                    <a:off x="1076400" y="3575160"/>
                    <a:ext cx="443160" cy="2289600"/>
                  </a:xfrm>
                  <a:custGeom>
                    <a:avLst/>
                    <a:gdLst/>
                    <a:ahLst/>
                    <a:rect l="0" t="0" r="r" b="b"/>
                    <a:pathLst>
                      <a:path w="1231" h="6360">
                        <a:moveTo>
                          <a:pt x="97" y="0"/>
                        </a:moveTo>
                        <a:lnTo>
                          <a:pt x="167" y="30"/>
                        </a:lnTo>
                        <a:lnTo>
                          <a:pt x="251" y="74"/>
                        </a:lnTo>
                        <a:lnTo>
                          <a:pt x="339" y="136"/>
                        </a:lnTo>
                        <a:lnTo>
                          <a:pt x="418" y="220"/>
                        </a:lnTo>
                        <a:lnTo>
                          <a:pt x="463" y="291"/>
                        </a:lnTo>
                        <a:lnTo>
                          <a:pt x="498" y="335"/>
                        </a:lnTo>
                        <a:lnTo>
                          <a:pt x="524" y="352"/>
                        </a:lnTo>
                        <a:lnTo>
                          <a:pt x="573" y="374"/>
                        </a:lnTo>
                        <a:lnTo>
                          <a:pt x="636" y="388"/>
                        </a:lnTo>
                        <a:lnTo>
                          <a:pt x="715" y="396"/>
                        </a:lnTo>
                        <a:lnTo>
                          <a:pt x="768" y="418"/>
                        </a:lnTo>
                        <a:lnTo>
                          <a:pt x="799" y="432"/>
                        </a:lnTo>
                        <a:lnTo>
                          <a:pt x="790" y="471"/>
                        </a:lnTo>
                        <a:lnTo>
                          <a:pt x="759" y="529"/>
                        </a:lnTo>
                        <a:lnTo>
                          <a:pt x="710" y="577"/>
                        </a:lnTo>
                        <a:lnTo>
                          <a:pt x="636" y="626"/>
                        </a:lnTo>
                        <a:lnTo>
                          <a:pt x="515" y="657"/>
                        </a:lnTo>
                        <a:lnTo>
                          <a:pt x="418" y="665"/>
                        </a:lnTo>
                        <a:lnTo>
                          <a:pt x="330" y="661"/>
                        </a:lnTo>
                        <a:lnTo>
                          <a:pt x="233" y="652"/>
                        </a:lnTo>
                        <a:lnTo>
                          <a:pt x="348" y="687"/>
                        </a:lnTo>
                        <a:lnTo>
                          <a:pt x="423" y="727"/>
                        </a:lnTo>
                        <a:lnTo>
                          <a:pt x="502" y="802"/>
                        </a:lnTo>
                        <a:lnTo>
                          <a:pt x="573" y="855"/>
                        </a:lnTo>
                        <a:lnTo>
                          <a:pt x="662" y="921"/>
                        </a:lnTo>
                        <a:lnTo>
                          <a:pt x="724" y="974"/>
                        </a:lnTo>
                        <a:lnTo>
                          <a:pt x="777" y="1018"/>
                        </a:lnTo>
                        <a:lnTo>
                          <a:pt x="816" y="1067"/>
                        </a:lnTo>
                        <a:lnTo>
                          <a:pt x="821" y="1098"/>
                        </a:lnTo>
                        <a:lnTo>
                          <a:pt x="794" y="1128"/>
                        </a:lnTo>
                        <a:lnTo>
                          <a:pt x="724" y="1155"/>
                        </a:lnTo>
                        <a:lnTo>
                          <a:pt x="644" y="1168"/>
                        </a:lnTo>
                        <a:lnTo>
                          <a:pt x="537" y="1177"/>
                        </a:lnTo>
                        <a:lnTo>
                          <a:pt x="432" y="1164"/>
                        </a:lnTo>
                        <a:lnTo>
                          <a:pt x="330" y="1137"/>
                        </a:lnTo>
                        <a:lnTo>
                          <a:pt x="242" y="1106"/>
                        </a:lnTo>
                        <a:lnTo>
                          <a:pt x="110" y="1040"/>
                        </a:lnTo>
                        <a:lnTo>
                          <a:pt x="246" y="1142"/>
                        </a:lnTo>
                        <a:lnTo>
                          <a:pt x="339" y="1208"/>
                        </a:lnTo>
                        <a:lnTo>
                          <a:pt x="427" y="1274"/>
                        </a:lnTo>
                        <a:lnTo>
                          <a:pt x="511" y="1331"/>
                        </a:lnTo>
                        <a:lnTo>
                          <a:pt x="599" y="1406"/>
                        </a:lnTo>
                        <a:lnTo>
                          <a:pt x="684" y="1494"/>
                        </a:lnTo>
                        <a:lnTo>
                          <a:pt x="763" y="1592"/>
                        </a:lnTo>
                        <a:lnTo>
                          <a:pt x="825" y="1672"/>
                        </a:lnTo>
                        <a:lnTo>
                          <a:pt x="900" y="1769"/>
                        </a:lnTo>
                        <a:lnTo>
                          <a:pt x="834" y="1773"/>
                        </a:lnTo>
                        <a:lnTo>
                          <a:pt x="728" y="1769"/>
                        </a:lnTo>
                        <a:lnTo>
                          <a:pt x="627" y="1747"/>
                        </a:lnTo>
                        <a:lnTo>
                          <a:pt x="537" y="1720"/>
                        </a:lnTo>
                        <a:lnTo>
                          <a:pt x="445" y="1689"/>
                        </a:lnTo>
                        <a:lnTo>
                          <a:pt x="339" y="1628"/>
                        </a:lnTo>
                        <a:lnTo>
                          <a:pt x="423" y="1738"/>
                        </a:lnTo>
                        <a:lnTo>
                          <a:pt x="498" y="1857"/>
                        </a:lnTo>
                        <a:lnTo>
                          <a:pt x="599" y="1998"/>
                        </a:lnTo>
                        <a:lnTo>
                          <a:pt x="724" y="2152"/>
                        </a:lnTo>
                        <a:lnTo>
                          <a:pt x="882" y="2346"/>
                        </a:lnTo>
                        <a:lnTo>
                          <a:pt x="935" y="2421"/>
                        </a:lnTo>
                        <a:lnTo>
                          <a:pt x="971" y="2501"/>
                        </a:lnTo>
                        <a:lnTo>
                          <a:pt x="988" y="2602"/>
                        </a:lnTo>
                        <a:lnTo>
                          <a:pt x="984" y="2686"/>
                        </a:lnTo>
                        <a:lnTo>
                          <a:pt x="896" y="2677"/>
                        </a:lnTo>
                        <a:lnTo>
                          <a:pt x="807" y="2668"/>
                        </a:lnTo>
                        <a:lnTo>
                          <a:pt x="697" y="2646"/>
                        </a:lnTo>
                        <a:lnTo>
                          <a:pt x="627" y="2620"/>
                        </a:lnTo>
                        <a:lnTo>
                          <a:pt x="551" y="2589"/>
                        </a:lnTo>
                        <a:lnTo>
                          <a:pt x="662" y="2783"/>
                        </a:lnTo>
                        <a:lnTo>
                          <a:pt x="710" y="2924"/>
                        </a:lnTo>
                        <a:lnTo>
                          <a:pt x="777" y="3118"/>
                        </a:lnTo>
                        <a:lnTo>
                          <a:pt x="860" y="3303"/>
                        </a:lnTo>
                        <a:lnTo>
                          <a:pt x="935" y="3489"/>
                        </a:lnTo>
                        <a:lnTo>
                          <a:pt x="984" y="3634"/>
                        </a:lnTo>
                        <a:lnTo>
                          <a:pt x="1032" y="3762"/>
                        </a:lnTo>
                        <a:lnTo>
                          <a:pt x="1085" y="3885"/>
                        </a:lnTo>
                        <a:lnTo>
                          <a:pt x="1156" y="3996"/>
                        </a:lnTo>
                        <a:lnTo>
                          <a:pt x="1231" y="4124"/>
                        </a:lnTo>
                        <a:lnTo>
                          <a:pt x="1213" y="4393"/>
                        </a:lnTo>
                        <a:lnTo>
                          <a:pt x="1187" y="4626"/>
                        </a:lnTo>
                        <a:lnTo>
                          <a:pt x="1165" y="5077"/>
                        </a:lnTo>
                        <a:lnTo>
                          <a:pt x="1143" y="5514"/>
                        </a:lnTo>
                        <a:lnTo>
                          <a:pt x="1094" y="5655"/>
                        </a:lnTo>
                        <a:lnTo>
                          <a:pt x="1063" y="5800"/>
                        </a:lnTo>
                        <a:lnTo>
                          <a:pt x="1028" y="5933"/>
                        </a:lnTo>
                        <a:lnTo>
                          <a:pt x="979" y="6091"/>
                        </a:lnTo>
                        <a:lnTo>
                          <a:pt x="922" y="6246"/>
                        </a:lnTo>
                        <a:lnTo>
                          <a:pt x="874" y="6360"/>
                        </a:lnTo>
                        <a:lnTo>
                          <a:pt x="785" y="6343"/>
                        </a:lnTo>
                        <a:lnTo>
                          <a:pt x="693" y="6325"/>
                        </a:lnTo>
                        <a:lnTo>
                          <a:pt x="599" y="6312"/>
                        </a:lnTo>
                        <a:lnTo>
                          <a:pt x="564" y="6307"/>
                        </a:lnTo>
                        <a:lnTo>
                          <a:pt x="524" y="6307"/>
                        </a:lnTo>
                        <a:lnTo>
                          <a:pt x="463" y="6316"/>
                        </a:lnTo>
                        <a:lnTo>
                          <a:pt x="418" y="6334"/>
                        </a:lnTo>
                        <a:lnTo>
                          <a:pt x="432" y="6157"/>
                        </a:lnTo>
                        <a:lnTo>
                          <a:pt x="432" y="6047"/>
                        </a:lnTo>
                        <a:lnTo>
                          <a:pt x="405" y="5906"/>
                        </a:lnTo>
                        <a:lnTo>
                          <a:pt x="392" y="5809"/>
                        </a:lnTo>
                        <a:lnTo>
                          <a:pt x="388" y="5659"/>
                        </a:lnTo>
                        <a:lnTo>
                          <a:pt x="374" y="5007"/>
                        </a:lnTo>
                        <a:lnTo>
                          <a:pt x="379" y="4547"/>
                        </a:lnTo>
                        <a:lnTo>
                          <a:pt x="374" y="4384"/>
                        </a:lnTo>
                        <a:lnTo>
                          <a:pt x="392" y="4137"/>
                        </a:lnTo>
                        <a:lnTo>
                          <a:pt x="405" y="3828"/>
                        </a:lnTo>
                        <a:lnTo>
                          <a:pt x="427" y="3347"/>
                        </a:lnTo>
                        <a:lnTo>
                          <a:pt x="418" y="3140"/>
                        </a:lnTo>
                        <a:lnTo>
                          <a:pt x="418" y="2995"/>
                        </a:lnTo>
                        <a:lnTo>
                          <a:pt x="427" y="2818"/>
                        </a:lnTo>
                        <a:lnTo>
                          <a:pt x="440" y="2655"/>
                        </a:lnTo>
                        <a:lnTo>
                          <a:pt x="463" y="2514"/>
                        </a:lnTo>
                        <a:lnTo>
                          <a:pt x="405" y="2421"/>
                        </a:lnTo>
                        <a:lnTo>
                          <a:pt x="379" y="2364"/>
                        </a:lnTo>
                        <a:lnTo>
                          <a:pt x="352" y="2276"/>
                        </a:lnTo>
                        <a:lnTo>
                          <a:pt x="339" y="2223"/>
                        </a:lnTo>
                        <a:lnTo>
                          <a:pt x="326" y="2166"/>
                        </a:lnTo>
                        <a:lnTo>
                          <a:pt x="299" y="2077"/>
                        </a:lnTo>
                        <a:lnTo>
                          <a:pt x="273" y="1980"/>
                        </a:lnTo>
                        <a:lnTo>
                          <a:pt x="242" y="1892"/>
                        </a:lnTo>
                        <a:lnTo>
                          <a:pt x="216" y="1817"/>
                        </a:lnTo>
                        <a:lnTo>
                          <a:pt x="198" y="1698"/>
                        </a:lnTo>
                        <a:lnTo>
                          <a:pt x="180" y="1601"/>
                        </a:lnTo>
                        <a:lnTo>
                          <a:pt x="176" y="1525"/>
                        </a:lnTo>
                        <a:lnTo>
                          <a:pt x="185" y="1481"/>
                        </a:lnTo>
                        <a:lnTo>
                          <a:pt x="158" y="1380"/>
                        </a:lnTo>
                        <a:lnTo>
                          <a:pt x="123" y="1274"/>
                        </a:lnTo>
                        <a:lnTo>
                          <a:pt x="97" y="1155"/>
                        </a:lnTo>
                        <a:lnTo>
                          <a:pt x="74" y="1067"/>
                        </a:lnTo>
                        <a:lnTo>
                          <a:pt x="57" y="965"/>
                        </a:lnTo>
                        <a:lnTo>
                          <a:pt x="52" y="855"/>
                        </a:lnTo>
                        <a:lnTo>
                          <a:pt x="61" y="776"/>
                        </a:lnTo>
                        <a:lnTo>
                          <a:pt x="57" y="665"/>
                        </a:lnTo>
                        <a:lnTo>
                          <a:pt x="48" y="604"/>
                        </a:lnTo>
                        <a:lnTo>
                          <a:pt x="35" y="533"/>
                        </a:lnTo>
                        <a:lnTo>
                          <a:pt x="13" y="463"/>
                        </a:lnTo>
                        <a:lnTo>
                          <a:pt x="8" y="388"/>
                        </a:lnTo>
                        <a:lnTo>
                          <a:pt x="0" y="348"/>
                        </a:lnTo>
                        <a:lnTo>
                          <a:pt x="35" y="396"/>
                        </a:lnTo>
                        <a:lnTo>
                          <a:pt x="97" y="458"/>
                        </a:lnTo>
                        <a:lnTo>
                          <a:pt x="97"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1" name=""/>
                  <p:cNvSpPr/>
                  <p:nvPr/>
                </p:nvSpPr>
                <p:spPr>
                  <a:xfrm>
                    <a:off x="1749600" y="3406680"/>
                    <a:ext cx="81360" cy="195480"/>
                  </a:xfrm>
                  <a:custGeom>
                    <a:avLst/>
                    <a:gdLst/>
                    <a:ahLst/>
                    <a:rect l="0" t="0" r="r" b="b"/>
                    <a:pathLst>
                      <a:path w="226" h="543">
                        <a:moveTo>
                          <a:pt x="209" y="0"/>
                        </a:moveTo>
                        <a:lnTo>
                          <a:pt x="137" y="35"/>
                        </a:lnTo>
                        <a:lnTo>
                          <a:pt x="58" y="74"/>
                        </a:lnTo>
                        <a:lnTo>
                          <a:pt x="0" y="105"/>
                        </a:lnTo>
                        <a:lnTo>
                          <a:pt x="26" y="185"/>
                        </a:lnTo>
                        <a:lnTo>
                          <a:pt x="80" y="314"/>
                        </a:lnTo>
                        <a:lnTo>
                          <a:pt x="150" y="441"/>
                        </a:lnTo>
                        <a:lnTo>
                          <a:pt x="222" y="543"/>
                        </a:lnTo>
                        <a:lnTo>
                          <a:pt x="226" y="494"/>
                        </a:lnTo>
                        <a:lnTo>
                          <a:pt x="209" y="428"/>
                        </a:lnTo>
                        <a:lnTo>
                          <a:pt x="196" y="340"/>
                        </a:lnTo>
                        <a:lnTo>
                          <a:pt x="200" y="229"/>
                        </a:lnTo>
                        <a:lnTo>
                          <a:pt x="222" y="110"/>
                        </a:lnTo>
                        <a:lnTo>
                          <a:pt x="209"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2" name=""/>
                  <p:cNvSpPr/>
                  <p:nvPr/>
                </p:nvSpPr>
                <p:spPr>
                  <a:xfrm>
                    <a:off x="1590840" y="3463920"/>
                    <a:ext cx="208440" cy="295560"/>
                  </a:xfrm>
                  <a:custGeom>
                    <a:avLst/>
                    <a:gdLst/>
                    <a:ahLst/>
                    <a:rect l="0" t="0" r="r" b="b"/>
                    <a:pathLst>
                      <a:path w="579" h="821">
                        <a:moveTo>
                          <a:pt x="221" y="0"/>
                        </a:moveTo>
                        <a:lnTo>
                          <a:pt x="265" y="154"/>
                        </a:lnTo>
                        <a:lnTo>
                          <a:pt x="327" y="299"/>
                        </a:lnTo>
                        <a:lnTo>
                          <a:pt x="415" y="446"/>
                        </a:lnTo>
                        <a:lnTo>
                          <a:pt x="495" y="552"/>
                        </a:lnTo>
                        <a:lnTo>
                          <a:pt x="579" y="627"/>
                        </a:lnTo>
                        <a:lnTo>
                          <a:pt x="562" y="644"/>
                        </a:lnTo>
                        <a:lnTo>
                          <a:pt x="500" y="658"/>
                        </a:lnTo>
                        <a:lnTo>
                          <a:pt x="393" y="649"/>
                        </a:lnTo>
                        <a:lnTo>
                          <a:pt x="300" y="631"/>
                        </a:lnTo>
                        <a:lnTo>
                          <a:pt x="278" y="719"/>
                        </a:lnTo>
                        <a:lnTo>
                          <a:pt x="252" y="821"/>
                        </a:lnTo>
                        <a:lnTo>
                          <a:pt x="225" y="622"/>
                        </a:lnTo>
                        <a:lnTo>
                          <a:pt x="203" y="477"/>
                        </a:lnTo>
                        <a:lnTo>
                          <a:pt x="155" y="339"/>
                        </a:lnTo>
                        <a:lnTo>
                          <a:pt x="92" y="189"/>
                        </a:lnTo>
                        <a:lnTo>
                          <a:pt x="0" y="52"/>
                        </a:lnTo>
                        <a:lnTo>
                          <a:pt x="79" y="35"/>
                        </a:lnTo>
                        <a:lnTo>
                          <a:pt x="141" y="22"/>
                        </a:lnTo>
                        <a:lnTo>
                          <a:pt x="221"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3" name=""/>
                  <p:cNvSpPr/>
                  <p:nvPr/>
                </p:nvSpPr>
                <p:spPr>
                  <a:xfrm>
                    <a:off x="1333440" y="3505320"/>
                    <a:ext cx="101880" cy="211320"/>
                  </a:xfrm>
                  <a:custGeom>
                    <a:avLst/>
                    <a:gdLst/>
                    <a:ahLst/>
                    <a:rect l="0" t="0" r="r" b="b"/>
                    <a:pathLst>
                      <a:path w="283" h="587">
                        <a:moveTo>
                          <a:pt x="101" y="4"/>
                        </a:moveTo>
                        <a:lnTo>
                          <a:pt x="155" y="88"/>
                        </a:lnTo>
                        <a:lnTo>
                          <a:pt x="208" y="180"/>
                        </a:lnTo>
                        <a:lnTo>
                          <a:pt x="247" y="291"/>
                        </a:lnTo>
                        <a:lnTo>
                          <a:pt x="274" y="419"/>
                        </a:lnTo>
                        <a:lnTo>
                          <a:pt x="283" y="587"/>
                        </a:lnTo>
                        <a:lnTo>
                          <a:pt x="256" y="534"/>
                        </a:lnTo>
                        <a:lnTo>
                          <a:pt x="225" y="494"/>
                        </a:lnTo>
                        <a:lnTo>
                          <a:pt x="177" y="464"/>
                        </a:lnTo>
                        <a:lnTo>
                          <a:pt x="155" y="441"/>
                        </a:lnTo>
                        <a:lnTo>
                          <a:pt x="127" y="393"/>
                        </a:lnTo>
                        <a:lnTo>
                          <a:pt x="92" y="314"/>
                        </a:lnTo>
                        <a:lnTo>
                          <a:pt x="52" y="229"/>
                        </a:lnTo>
                        <a:lnTo>
                          <a:pt x="13" y="114"/>
                        </a:lnTo>
                        <a:lnTo>
                          <a:pt x="0" y="48"/>
                        </a:lnTo>
                        <a:lnTo>
                          <a:pt x="0" y="0"/>
                        </a:lnTo>
                        <a:lnTo>
                          <a:pt x="101" y="4"/>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4" name=""/>
                  <p:cNvSpPr/>
                  <p:nvPr/>
                </p:nvSpPr>
                <p:spPr>
                  <a:xfrm>
                    <a:off x="1087560" y="3483000"/>
                    <a:ext cx="200520" cy="141480"/>
                  </a:xfrm>
                  <a:custGeom>
                    <a:avLst/>
                    <a:gdLst/>
                    <a:ahLst/>
                    <a:rect l="0" t="0" r="r" b="b"/>
                    <a:pathLst>
                      <a:path w="557" h="393">
                        <a:moveTo>
                          <a:pt x="371" y="48"/>
                        </a:moveTo>
                        <a:lnTo>
                          <a:pt x="402" y="79"/>
                        </a:lnTo>
                        <a:lnTo>
                          <a:pt x="442" y="119"/>
                        </a:lnTo>
                        <a:lnTo>
                          <a:pt x="465" y="158"/>
                        </a:lnTo>
                        <a:lnTo>
                          <a:pt x="491" y="208"/>
                        </a:lnTo>
                        <a:lnTo>
                          <a:pt x="513" y="256"/>
                        </a:lnTo>
                        <a:lnTo>
                          <a:pt x="535" y="318"/>
                        </a:lnTo>
                        <a:lnTo>
                          <a:pt x="557" y="393"/>
                        </a:lnTo>
                        <a:lnTo>
                          <a:pt x="517" y="389"/>
                        </a:lnTo>
                        <a:lnTo>
                          <a:pt x="460" y="367"/>
                        </a:lnTo>
                        <a:lnTo>
                          <a:pt x="402" y="327"/>
                        </a:lnTo>
                        <a:lnTo>
                          <a:pt x="349" y="287"/>
                        </a:lnTo>
                        <a:lnTo>
                          <a:pt x="292" y="243"/>
                        </a:lnTo>
                        <a:lnTo>
                          <a:pt x="225" y="199"/>
                        </a:lnTo>
                        <a:lnTo>
                          <a:pt x="155" y="171"/>
                        </a:lnTo>
                        <a:lnTo>
                          <a:pt x="88" y="141"/>
                        </a:lnTo>
                        <a:lnTo>
                          <a:pt x="66" y="127"/>
                        </a:lnTo>
                        <a:lnTo>
                          <a:pt x="52" y="88"/>
                        </a:lnTo>
                        <a:lnTo>
                          <a:pt x="57" y="61"/>
                        </a:lnTo>
                        <a:lnTo>
                          <a:pt x="30" y="39"/>
                        </a:lnTo>
                        <a:lnTo>
                          <a:pt x="0" y="0"/>
                        </a:lnTo>
                        <a:lnTo>
                          <a:pt x="57" y="13"/>
                        </a:lnTo>
                        <a:lnTo>
                          <a:pt x="127" y="22"/>
                        </a:lnTo>
                        <a:lnTo>
                          <a:pt x="203" y="30"/>
                        </a:lnTo>
                        <a:lnTo>
                          <a:pt x="278" y="39"/>
                        </a:lnTo>
                        <a:lnTo>
                          <a:pt x="371" y="48"/>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1065" name=""/>
            <p:cNvGrpSpPr/>
            <p:nvPr/>
          </p:nvGrpSpPr>
          <p:grpSpPr>
            <a:xfrm>
              <a:off x="720720" y="1446120"/>
              <a:ext cx="1497240" cy="2295720"/>
              <a:chOff x="720720" y="1446120"/>
              <a:chExt cx="1497240" cy="2295720"/>
            </a:xfrm>
          </p:grpSpPr>
          <p:grpSp>
            <p:nvGrpSpPr>
              <p:cNvPr id="1066" name=""/>
              <p:cNvGrpSpPr/>
              <p:nvPr/>
            </p:nvGrpSpPr>
            <p:grpSpPr>
              <a:xfrm>
                <a:off x="942840" y="1446120"/>
                <a:ext cx="843120" cy="862560"/>
                <a:chOff x="942840" y="1446120"/>
                <a:chExt cx="843120" cy="862560"/>
              </a:xfrm>
            </p:grpSpPr>
            <p:sp>
              <p:nvSpPr>
                <p:cNvPr id="1067" name=""/>
                <p:cNvSpPr/>
                <p:nvPr/>
              </p:nvSpPr>
              <p:spPr>
                <a:xfrm>
                  <a:off x="1760400" y="222876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1068" name=""/>
                <p:cNvSpPr/>
                <p:nvPr/>
              </p:nvSpPr>
              <p:spPr>
                <a:xfrm>
                  <a:off x="1317600" y="1994040"/>
                  <a:ext cx="192600" cy="163800"/>
                </a:xfrm>
                <a:custGeom>
                  <a:avLst/>
                  <a:gdLst/>
                  <a:ahLst/>
                  <a:rect l="0" t="0" r="r" b="b"/>
                  <a:pathLst>
                    <a:path w="535" h="455">
                      <a:moveTo>
                        <a:pt x="384" y="30"/>
                      </a:moveTo>
                      <a:lnTo>
                        <a:pt x="397" y="158"/>
                      </a:lnTo>
                      <a:lnTo>
                        <a:pt x="403" y="198"/>
                      </a:lnTo>
                      <a:lnTo>
                        <a:pt x="434" y="261"/>
                      </a:lnTo>
                      <a:lnTo>
                        <a:pt x="487" y="305"/>
                      </a:lnTo>
                      <a:lnTo>
                        <a:pt x="535" y="344"/>
                      </a:lnTo>
                      <a:lnTo>
                        <a:pt x="491" y="336"/>
                      </a:lnTo>
                      <a:lnTo>
                        <a:pt x="500" y="375"/>
                      </a:lnTo>
                      <a:lnTo>
                        <a:pt x="465" y="362"/>
                      </a:lnTo>
                      <a:lnTo>
                        <a:pt x="425" y="358"/>
                      </a:lnTo>
                      <a:lnTo>
                        <a:pt x="434" y="402"/>
                      </a:lnTo>
                      <a:lnTo>
                        <a:pt x="389" y="384"/>
                      </a:lnTo>
                      <a:lnTo>
                        <a:pt x="344" y="367"/>
                      </a:lnTo>
                      <a:lnTo>
                        <a:pt x="309" y="344"/>
                      </a:lnTo>
                      <a:lnTo>
                        <a:pt x="322" y="406"/>
                      </a:lnTo>
                      <a:lnTo>
                        <a:pt x="292" y="393"/>
                      </a:lnTo>
                      <a:lnTo>
                        <a:pt x="265" y="384"/>
                      </a:lnTo>
                      <a:lnTo>
                        <a:pt x="243" y="367"/>
                      </a:lnTo>
                      <a:lnTo>
                        <a:pt x="239" y="389"/>
                      </a:lnTo>
                      <a:lnTo>
                        <a:pt x="243" y="428"/>
                      </a:lnTo>
                      <a:lnTo>
                        <a:pt x="199" y="411"/>
                      </a:lnTo>
                      <a:lnTo>
                        <a:pt x="195" y="450"/>
                      </a:lnTo>
                      <a:lnTo>
                        <a:pt x="168" y="455"/>
                      </a:lnTo>
                      <a:lnTo>
                        <a:pt x="137" y="446"/>
                      </a:lnTo>
                      <a:lnTo>
                        <a:pt x="97" y="428"/>
                      </a:lnTo>
                      <a:lnTo>
                        <a:pt x="66" y="402"/>
                      </a:lnTo>
                      <a:lnTo>
                        <a:pt x="48" y="380"/>
                      </a:lnTo>
                      <a:lnTo>
                        <a:pt x="0" y="0"/>
                      </a:lnTo>
                      <a:lnTo>
                        <a:pt x="384" y="30"/>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069" name=""/>
                <p:cNvGrpSpPr/>
                <p:nvPr/>
              </p:nvGrpSpPr>
              <p:grpSpPr>
                <a:xfrm>
                  <a:off x="973080" y="1552680"/>
                  <a:ext cx="606960" cy="756000"/>
                  <a:chOff x="973080" y="1552680"/>
                  <a:chExt cx="606960" cy="756000"/>
                </a:xfrm>
              </p:grpSpPr>
              <p:grpSp>
                <p:nvGrpSpPr>
                  <p:cNvPr id="1070" name=""/>
                  <p:cNvGrpSpPr/>
                  <p:nvPr/>
                </p:nvGrpSpPr>
                <p:grpSpPr>
                  <a:xfrm>
                    <a:off x="973080" y="1552680"/>
                    <a:ext cx="606960" cy="756000"/>
                    <a:chOff x="973080" y="1552680"/>
                    <a:chExt cx="606960" cy="756000"/>
                  </a:xfrm>
                </p:grpSpPr>
                <p:sp>
                  <p:nvSpPr>
                    <p:cNvPr id="1071" name=""/>
                    <p:cNvSpPr/>
                    <p:nvPr/>
                  </p:nvSpPr>
                  <p:spPr>
                    <a:xfrm>
                      <a:off x="973080" y="1552680"/>
                      <a:ext cx="606960" cy="756000"/>
                    </a:xfrm>
                    <a:custGeom>
                      <a:avLst/>
                      <a:gdLst/>
                      <a:ahLst/>
                      <a:rect l="0" t="0" r="r" b="b"/>
                      <a:pathLst>
                        <a:path w="1686" h="2100">
                          <a:moveTo>
                            <a:pt x="1373" y="0"/>
                          </a:moveTo>
                          <a:lnTo>
                            <a:pt x="1545" y="92"/>
                          </a:lnTo>
                          <a:lnTo>
                            <a:pt x="1646" y="220"/>
                          </a:lnTo>
                          <a:lnTo>
                            <a:pt x="1686" y="383"/>
                          </a:lnTo>
                          <a:lnTo>
                            <a:pt x="1677" y="507"/>
                          </a:lnTo>
                          <a:lnTo>
                            <a:pt x="1668" y="568"/>
                          </a:lnTo>
                          <a:lnTo>
                            <a:pt x="1655" y="590"/>
                          </a:lnTo>
                          <a:lnTo>
                            <a:pt x="1642" y="617"/>
                          </a:lnTo>
                          <a:lnTo>
                            <a:pt x="1615" y="643"/>
                          </a:lnTo>
                          <a:lnTo>
                            <a:pt x="1611" y="674"/>
                          </a:lnTo>
                          <a:lnTo>
                            <a:pt x="1615" y="718"/>
                          </a:lnTo>
                          <a:lnTo>
                            <a:pt x="1646" y="767"/>
                          </a:lnTo>
                          <a:lnTo>
                            <a:pt x="1673" y="798"/>
                          </a:lnTo>
                          <a:lnTo>
                            <a:pt x="1686" y="842"/>
                          </a:lnTo>
                          <a:lnTo>
                            <a:pt x="1673" y="873"/>
                          </a:lnTo>
                          <a:lnTo>
                            <a:pt x="1655" y="881"/>
                          </a:lnTo>
                          <a:lnTo>
                            <a:pt x="1646" y="908"/>
                          </a:lnTo>
                          <a:lnTo>
                            <a:pt x="1655" y="956"/>
                          </a:lnTo>
                          <a:lnTo>
                            <a:pt x="1646" y="1001"/>
                          </a:lnTo>
                          <a:lnTo>
                            <a:pt x="1615" y="1031"/>
                          </a:lnTo>
                          <a:lnTo>
                            <a:pt x="1593" y="1059"/>
                          </a:lnTo>
                          <a:lnTo>
                            <a:pt x="1563" y="1090"/>
                          </a:lnTo>
                          <a:lnTo>
                            <a:pt x="1598" y="1138"/>
                          </a:lnTo>
                          <a:lnTo>
                            <a:pt x="1576" y="1191"/>
                          </a:lnTo>
                          <a:lnTo>
                            <a:pt x="1571" y="1209"/>
                          </a:lnTo>
                          <a:lnTo>
                            <a:pt x="1580" y="1266"/>
                          </a:lnTo>
                          <a:lnTo>
                            <a:pt x="1593" y="1306"/>
                          </a:lnTo>
                          <a:lnTo>
                            <a:pt x="1580" y="1341"/>
                          </a:lnTo>
                          <a:lnTo>
                            <a:pt x="1567" y="1354"/>
                          </a:lnTo>
                          <a:lnTo>
                            <a:pt x="1527" y="1363"/>
                          </a:lnTo>
                          <a:lnTo>
                            <a:pt x="1501" y="1372"/>
                          </a:lnTo>
                          <a:lnTo>
                            <a:pt x="1329" y="1363"/>
                          </a:lnTo>
                          <a:lnTo>
                            <a:pt x="1187" y="1363"/>
                          </a:lnTo>
                          <a:lnTo>
                            <a:pt x="1125" y="1372"/>
                          </a:lnTo>
                          <a:lnTo>
                            <a:pt x="1085" y="1390"/>
                          </a:lnTo>
                          <a:lnTo>
                            <a:pt x="1059" y="1434"/>
                          </a:lnTo>
                          <a:lnTo>
                            <a:pt x="1050" y="1491"/>
                          </a:lnTo>
                          <a:lnTo>
                            <a:pt x="1054" y="1570"/>
                          </a:lnTo>
                          <a:lnTo>
                            <a:pt x="1076" y="1659"/>
                          </a:lnTo>
                          <a:lnTo>
                            <a:pt x="1107" y="1720"/>
                          </a:lnTo>
                          <a:lnTo>
                            <a:pt x="1134" y="1756"/>
                          </a:lnTo>
                          <a:lnTo>
                            <a:pt x="1222" y="1778"/>
                          </a:lnTo>
                          <a:lnTo>
                            <a:pt x="583" y="2100"/>
                          </a:lnTo>
                          <a:lnTo>
                            <a:pt x="123" y="1919"/>
                          </a:lnTo>
                          <a:lnTo>
                            <a:pt x="0" y="1808"/>
                          </a:lnTo>
                          <a:lnTo>
                            <a:pt x="136" y="1734"/>
                          </a:lnTo>
                          <a:lnTo>
                            <a:pt x="202" y="1654"/>
                          </a:lnTo>
                          <a:lnTo>
                            <a:pt x="273" y="1544"/>
                          </a:lnTo>
                          <a:lnTo>
                            <a:pt x="330" y="1442"/>
                          </a:lnTo>
                          <a:lnTo>
                            <a:pt x="441" y="1063"/>
                          </a:lnTo>
                          <a:lnTo>
                            <a:pt x="335" y="529"/>
                          </a:lnTo>
                          <a:lnTo>
                            <a:pt x="490" y="335"/>
                          </a:lnTo>
                          <a:lnTo>
                            <a:pt x="719" y="383"/>
                          </a:lnTo>
                          <a:lnTo>
                            <a:pt x="834" y="427"/>
                          </a:lnTo>
                          <a:lnTo>
                            <a:pt x="975" y="171"/>
                          </a:lnTo>
                          <a:lnTo>
                            <a:pt x="1107" y="61"/>
                          </a:lnTo>
                          <a:lnTo>
                            <a:pt x="1373" y="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2" name=""/>
                    <p:cNvSpPr/>
                    <p:nvPr/>
                  </p:nvSpPr>
                  <p:spPr>
                    <a:xfrm>
                      <a:off x="1166760" y="1863720"/>
                      <a:ext cx="194040" cy="171720"/>
                    </a:xfrm>
                    <a:custGeom>
                      <a:avLst/>
                      <a:gdLst/>
                      <a:ahLst/>
                      <a:rect l="0" t="0" r="r" b="b"/>
                      <a:pathLst>
                        <a:path w="539" h="477">
                          <a:moveTo>
                            <a:pt x="539" y="477"/>
                          </a:moveTo>
                          <a:lnTo>
                            <a:pt x="473" y="455"/>
                          </a:lnTo>
                          <a:lnTo>
                            <a:pt x="412" y="437"/>
                          </a:lnTo>
                          <a:lnTo>
                            <a:pt x="367" y="411"/>
                          </a:lnTo>
                          <a:lnTo>
                            <a:pt x="322" y="362"/>
                          </a:lnTo>
                          <a:lnTo>
                            <a:pt x="287" y="305"/>
                          </a:lnTo>
                          <a:lnTo>
                            <a:pt x="247" y="243"/>
                          </a:lnTo>
                          <a:lnTo>
                            <a:pt x="221" y="189"/>
                          </a:lnTo>
                          <a:lnTo>
                            <a:pt x="225" y="145"/>
                          </a:lnTo>
                          <a:lnTo>
                            <a:pt x="239" y="92"/>
                          </a:lnTo>
                          <a:lnTo>
                            <a:pt x="239" y="44"/>
                          </a:lnTo>
                          <a:lnTo>
                            <a:pt x="101" y="110"/>
                          </a:lnTo>
                          <a:lnTo>
                            <a:pt x="26" y="30"/>
                          </a:lnTo>
                          <a:lnTo>
                            <a:pt x="0" y="0"/>
                          </a:lnTo>
                          <a:lnTo>
                            <a:pt x="8" y="79"/>
                          </a:lnTo>
                          <a:lnTo>
                            <a:pt x="30" y="136"/>
                          </a:lnTo>
                          <a:lnTo>
                            <a:pt x="74" y="171"/>
                          </a:lnTo>
                          <a:lnTo>
                            <a:pt x="137" y="189"/>
                          </a:lnTo>
                          <a:lnTo>
                            <a:pt x="168" y="265"/>
                          </a:lnTo>
                          <a:lnTo>
                            <a:pt x="195" y="327"/>
                          </a:lnTo>
                          <a:lnTo>
                            <a:pt x="230" y="375"/>
                          </a:lnTo>
                          <a:lnTo>
                            <a:pt x="278" y="411"/>
                          </a:lnTo>
                          <a:lnTo>
                            <a:pt x="353" y="441"/>
                          </a:lnTo>
                          <a:lnTo>
                            <a:pt x="442" y="464"/>
                          </a:lnTo>
                          <a:lnTo>
                            <a:pt x="539" y="477"/>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3" name=""/>
                    <p:cNvSpPr/>
                    <p:nvPr/>
                  </p:nvSpPr>
                  <p:spPr>
                    <a:xfrm>
                      <a:off x="1165320" y="2062080"/>
                      <a:ext cx="66960" cy="198720"/>
                    </a:xfrm>
                    <a:custGeom>
                      <a:avLst/>
                      <a:gdLst/>
                      <a:ahLst/>
                      <a:rect l="0" t="0" r="r" b="b"/>
                      <a:pathLst>
                        <a:path w="186" h="552">
                          <a:moveTo>
                            <a:pt x="186" y="525"/>
                          </a:moveTo>
                          <a:lnTo>
                            <a:pt x="146" y="428"/>
                          </a:lnTo>
                          <a:lnTo>
                            <a:pt x="120" y="336"/>
                          </a:lnTo>
                          <a:lnTo>
                            <a:pt x="102" y="255"/>
                          </a:lnTo>
                          <a:lnTo>
                            <a:pt x="79" y="154"/>
                          </a:lnTo>
                          <a:lnTo>
                            <a:pt x="61" y="0"/>
                          </a:lnTo>
                          <a:lnTo>
                            <a:pt x="13" y="114"/>
                          </a:lnTo>
                          <a:lnTo>
                            <a:pt x="35" y="224"/>
                          </a:lnTo>
                          <a:lnTo>
                            <a:pt x="48" y="344"/>
                          </a:lnTo>
                          <a:lnTo>
                            <a:pt x="35" y="450"/>
                          </a:lnTo>
                          <a:lnTo>
                            <a:pt x="0" y="552"/>
                          </a:lnTo>
                          <a:lnTo>
                            <a:pt x="186" y="525"/>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074" name=""/>
                    <p:cNvGrpSpPr/>
                    <p:nvPr/>
                  </p:nvGrpSpPr>
                  <p:grpSpPr>
                    <a:xfrm>
                      <a:off x="1160640" y="1593720"/>
                      <a:ext cx="414360" cy="451080"/>
                      <a:chOff x="1160640" y="1593720"/>
                      <a:chExt cx="414360" cy="451080"/>
                    </a:xfrm>
                  </p:grpSpPr>
                  <p:grpSp>
                    <p:nvGrpSpPr>
                      <p:cNvPr id="1075" name=""/>
                      <p:cNvGrpSpPr/>
                      <p:nvPr/>
                    </p:nvGrpSpPr>
                    <p:grpSpPr>
                      <a:xfrm>
                        <a:off x="1160640" y="1593720"/>
                        <a:ext cx="414360" cy="451080"/>
                        <a:chOff x="1160640" y="1593720"/>
                        <a:chExt cx="414360" cy="451080"/>
                      </a:xfrm>
                    </p:grpSpPr>
                    <p:sp>
                      <p:nvSpPr>
                        <p:cNvPr id="1076" name=""/>
                        <p:cNvSpPr/>
                        <p:nvPr/>
                      </p:nvSpPr>
                      <p:spPr>
                        <a:xfrm>
                          <a:off x="1160640" y="1593720"/>
                          <a:ext cx="368640" cy="451080"/>
                        </a:xfrm>
                        <a:custGeom>
                          <a:avLst/>
                          <a:gdLst/>
                          <a:ahLst/>
                          <a:rect l="0" t="0" r="r" b="b"/>
                          <a:pathLst>
                            <a:path w="1024" h="1253">
                              <a:moveTo>
                                <a:pt x="666" y="0"/>
                              </a:moveTo>
                              <a:lnTo>
                                <a:pt x="772" y="70"/>
                              </a:lnTo>
                              <a:lnTo>
                                <a:pt x="807" y="127"/>
                              </a:lnTo>
                              <a:lnTo>
                                <a:pt x="706" y="127"/>
                              </a:lnTo>
                              <a:lnTo>
                                <a:pt x="649" y="163"/>
                              </a:lnTo>
                              <a:lnTo>
                                <a:pt x="613" y="229"/>
                              </a:lnTo>
                              <a:lnTo>
                                <a:pt x="666" y="282"/>
                              </a:lnTo>
                              <a:lnTo>
                                <a:pt x="688" y="348"/>
                              </a:lnTo>
                              <a:lnTo>
                                <a:pt x="636" y="414"/>
                              </a:lnTo>
                              <a:lnTo>
                                <a:pt x="609" y="485"/>
                              </a:lnTo>
                              <a:lnTo>
                                <a:pt x="587" y="533"/>
                              </a:lnTo>
                              <a:lnTo>
                                <a:pt x="627" y="564"/>
                              </a:lnTo>
                              <a:lnTo>
                                <a:pt x="653" y="612"/>
                              </a:lnTo>
                              <a:lnTo>
                                <a:pt x="728" y="671"/>
                              </a:lnTo>
                              <a:lnTo>
                                <a:pt x="777" y="697"/>
                              </a:lnTo>
                              <a:lnTo>
                                <a:pt x="812" y="746"/>
                              </a:lnTo>
                              <a:lnTo>
                                <a:pt x="825" y="794"/>
                              </a:lnTo>
                              <a:lnTo>
                                <a:pt x="825" y="852"/>
                              </a:lnTo>
                              <a:lnTo>
                                <a:pt x="803" y="909"/>
                              </a:lnTo>
                              <a:lnTo>
                                <a:pt x="772" y="940"/>
                              </a:lnTo>
                              <a:lnTo>
                                <a:pt x="733" y="962"/>
                              </a:lnTo>
                              <a:lnTo>
                                <a:pt x="680" y="984"/>
                              </a:lnTo>
                              <a:lnTo>
                                <a:pt x="649" y="1015"/>
                              </a:lnTo>
                              <a:lnTo>
                                <a:pt x="631" y="1046"/>
                              </a:lnTo>
                              <a:lnTo>
                                <a:pt x="636" y="1094"/>
                              </a:lnTo>
                              <a:lnTo>
                                <a:pt x="658" y="1134"/>
                              </a:lnTo>
                              <a:lnTo>
                                <a:pt x="702" y="1156"/>
                              </a:lnTo>
                              <a:lnTo>
                                <a:pt x="755" y="1165"/>
                              </a:lnTo>
                              <a:lnTo>
                                <a:pt x="807" y="1187"/>
                              </a:lnTo>
                              <a:lnTo>
                                <a:pt x="856" y="1204"/>
                              </a:lnTo>
                              <a:lnTo>
                                <a:pt x="918" y="1226"/>
                              </a:lnTo>
                              <a:lnTo>
                                <a:pt x="971" y="1240"/>
                              </a:lnTo>
                              <a:lnTo>
                                <a:pt x="1024" y="1248"/>
                              </a:lnTo>
                              <a:lnTo>
                                <a:pt x="984" y="1253"/>
                              </a:lnTo>
                              <a:lnTo>
                                <a:pt x="922" y="1248"/>
                              </a:lnTo>
                              <a:lnTo>
                                <a:pt x="825" y="1248"/>
                              </a:lnTo>
                              <a:lnTo>
                                <a:pt x="755" y="1248"/>
                              </a:lnTo>
                              <a:lnTo>
                                <a:pt x="684" y="1240"/>
                              </a:lnTo>
                              <a:lnTo>
                                <a:pt x="600" y="1231"/>
                              </a:lnTo>
                              <a:lnTo>
                                <a:pt x="516" y="1213"/>
                              </a:lnTo>
                              <a:lnTo>
                                <a:pt x="449" y="1191"/>
                              </a:lnTo>
                              <a:lnTo>
                                <a:pt x="388" y="1160"/>
                              </a:lnTo>
                              <a:lnTo>
                                <a:pt x="343" y="1129"/>
                              </a:lnTo>
                              <a:lnTo>
                                <a:pt x="304" y="1063"/>
                              </a:lnTo>
                              <a:lnTo>
                                <a:pt x="220" y="913"/>
                              </a:lnTo>
                              <a:lnTo>
                                <a:pt x="141" y="750"/>
                              </a:lnTo>
                              <a:lnTo>
                                <a:pt x="0" y="432"/>
                              </a:lnTo>
                              <a:lnTo>
                                <a:pt x="83" y="335"/>
                              </a:lnTo>
                              <a:lnTo>
                                <a:pt x="277" y="414"/>
                              </a:lnTo>
                              <a:lnTo>
                                <a:pt x="383" y="260"/>
                              </a:lnTo>
                              <a:lnTo>
                                <a:pt x="449" y="57"/>
                              </a:lnTo>
                              <a:lnTo>
                                <a:pt x="666"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7" name=""/>
                        <p:cNvSpPr/>
                        <p:nvPr/>
                      </p:nvSpPr>
                      <p:spPr>
                        <a:xfrm>
                          <a:off x="1363680" y="1735200"/>
                          <a:ext cx="182880" cy="143280"/>
                        </a:xfrm>
                        <a:custGeom>
                          <a:avLst/>
                          <a:gdLst/>
                          <a:ahLst/>
                          <a:rect l="0" t="0" r="r" b="b"/>
                          <a:pathLst>
                            <a:path w="508" h="398">
                              <a:moveTo>
                                <a:pt x="194" y="0"/>
                              </a:moveTo>
                              <a:lnTo>
                                <a:pt x="216" y="4"/>
                              </a:lnTo>
                              <a:lnTo>
                                <a:pt x="256" y="17"/>
                              </a:lnTo>
                              <a:lnTo>
                                <a:pt x="296" y="22"/>
                              </a:lnTo>
                              <a:lnTo>
                                <a:pt x="371" y="35"/>
                              </a:lnTo>
                              <a:lnTo>
                                <a:pt x="419" y="35"/>
                              </a:lnTo>
                              <a:lnTo>
                                <a:pt x="415" y="83"/>
                              </a:lnTo>
                              <a:lnTo>
                                <a:pt x="428" y="133"/>
                              </a:lnTo>
                              <a:lnTo>
                                <a:pt x="446" y="168"/>
                              </a:lnTo>
                              <a:lnTo>
                                <a:pt x="468" y="208"/>
                              </a:lnTo>
                              <a:lnTo>
                                <a:pt x="508" y="265"/>
                              </a:lnTo>
                              <a:lnTo>
                                <a:pt x="508" y="306"/>
                              </a:lnTo>
                              <a:lnTo>
                                <a:pt x="477" y="301"/>
                              </a:lnTo>
                              <a:lnTo>
                                <a:pt x="437" y="310"/>
                              </a:lnTo>
                              <a:lnTo>
                                <a:pt x="415" y="328"/>
                              </a:lnTo>
                              <a:lnTo>
                                <a:pt x="406" y="354"/>
                              </a:lnTo>
                              <a:lnTo>
                                <a:pt x="419" y="381"/>
                              </a:lnTo>
                              <a:lnTo>
                                <a:pt x="459" y="390"/>
                              </a:lnTo>
                              <a:lnTo>
                                <a:pt x="428" y="398"/>
                              </a:lnTo>
                              <a:lnTo>
                                <a:pt x="397" y="385"/>
                              </a:lnTo>
                              <a:lnTo>
                                <a:pt x="380" y="368"/>
                              </a:lnTo>
                              <a:lnTo>
                                <a:pt x="380" y="332"/>
                              </a:lnTo>
                              <a:lnTo>
                                <a:pt x="393" y="306"/>
                              </a:lnTo>
                              <a:lnTo>
                                <a:pt x="419" y="278"/>
                              </a:lnTo>
                              <a:lnTo>
                                <a:pt x="446" y="278"/>
                              </a:lnTo>
                              <a:lnTo>
                                <a:pt x="406" y="212"/>
                              </a:lnTo>
                              <a:lnTo>
                                <a:pt x="380" y="164"/>
                              </a:lnTo>
                              <a:lnTo>
                                <a:pt x="305" y="172"/>
                              </a:lnTo>
                              <a:lnTo>
                                <a:pt x="242" y="172"/>
                              </a:lnTo>
                              <a:lnTo>
                                <a:pt x="167" y="164"/>
                              </a:lnTo>
                              <a:lnTo>
                                <a:pt x="123" y="142"/>
                              </a:lnTo>
                              <a:lnTo>
                                <a:pt x="88" y="111"/>
                              </a:lnTo>
                              <a:lnTo>
                                <a:pt x="44" y="88"/>
                              </a:lnTo>
                              <a:lnTo>
                                <a:pt x="0" y="70"/>
                              </a:lnTo>
                              <a:lnTo>
                                <a:pt x="110" y="22"/>
                              </a:lnTo>
                              <a:lnTo>
                                <a:pt x="194"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8" name=""/>
                        <p:cNvSpPr/>
                        <p:nvPr/>
                      </p:nvSpPr>
                      <p:spPr>
                        <a:xfrm>
                          <a:off x="1539720" y="1744560"/>
                          <a:ext cx="35280" cy="66960"/>
                        </a:xfrm>
                        <a:custGeom>
                          <a:avLst/>
                          <a:gdLst/>
                          <a:ahLst/>
                          <a:rect l="0" t="0" r="r" b="b"/>
                          <a:pathLst>
                            <a:path w="98" h="186">
                              <a:moveTo>
                                <a:pt x="98" y="0"/>
                              </a:moveTo>
                              <a:lnTo>
                                <a:pt x="71" y="8"/>
                              </a:lnTo>
                              <a:lnTo>
                                <a:pt x="44" y="13"/>
                              </a:lnTo>
                              <a:lnTo>
                                <a:pt x="17" y="26"/>
                              </a:lnTo>
                              <a:lnTo>
                                <a:pt x="0" y="39"/>
                              </a:lnTo>
                              <a:lnTo>
                                <a:pt x="0" y="66"/>
                              </a:lnTo>
                              <a:lnTo>
                                <a:pt x="4" y="115"/>
                              </a:lnTo>
                              <a:lnTo>
                                <a:pt x="17" y="146"/>
                              </a:lnTo>
                              <a:lnTo>
                                <a:pt x="39" y="186"/>
                              </a:lnTo>
                              <a:lnTo>
                                <a:pt x="35" y="146"/>
                              </a:lnTo>
                              <a:lnTo>
                                <a:pt x="39" y="115"/>
                              </a:lnTo>
                              <a:lnTo>
                                <a:pt x="44" y="106"/>
                              </a:lnTo>
                              <a:lnTo>
                                <a:pt x="62" y="88"/>
                              </a:lnTo>
                              <a:lnTo>
                                <a:pt x="80" y="61"/>
                              </a:lnTo>
                              <a:lnTo>
                                <a:pt x="98" y="35"/>
                              </a:lnTo>
                              <a:lnTo>
                                <a:pt x="98" y="0"/>
                              </a:lnTo>
                              <a:close/>
                            </a:path>
                          </a:pathLst>
                        </a:custGeom>
                        <a:solidFill>
                          <a:srgbClr val="ff8f6a"/>
                        </a:solidFill>
                        <a:ln w="0">
                          <a:noFill/>
                        </a:ln>
                      </p:spPr>
                      <p:txBody>
                        <a:bodyPr lIns="90000" rIns="90000" tIns="21960" bIns="21960" anchor="t">
                          <a:noAutofit/>
                        </a:bodyPr>
                        <a:p>
                          <a:endParaRPr b="0" lang="en-US" sz="1800" spc="-1" strike="noStrike">
                            <a:solidFill>
                              <a:srgbClr val="000000"/>
                            </a:solidFill>
                            <a:latin typeface="Arial"/>
                          </a:endParaRPr>
                        </a:p>
                      </p:txBody>
                    </p:sp>
                  </p:grpSp>
                  <p:grpSp>
                    <p:nvGrpSpPr>
                      <p:cNvPr id="1079" name=""/>
                      <p:cNvGrpSpPr/>
                      <p:nvPr/>
                    </p:nvGrpSpPr>
                    <p:grpSpPr>
                      <a:xfrm>
                        <a:off x="1531800" y="1865160"/>
                        <a:ext cx="37080" cy="59400"/>
                        <a:chOff x="1531800" y="1865160"/>
                        <a:chExt cx="37080" cy="59400"/>
                      </a:xfrm>
                    </p:grpSpPr>
                    <p:sp>
                      <p:nvSpPr>
                        <p:cNvPr id="1080" name=""/>
                        <p:cNvSpPr/>
                        <p:nvPr/>
                      </p:nvSpPr>
                      <p:spPr>
                        <a:xfrm>
                          <a:off x="1531800" y="1865160"/>
                          <a:ext cx="30240" cy="25560"/>
                        </a:xfrm>
                        <a:prstGeom prst="ellipse">
                          <a:avLst/>
                        </a:prstGeom>
                        <a:solidFill>
                          <a:srgbClr val="ff7f3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1081" name=""/>
                        <p:cNvSpPr/>
                        <p:nvPr/>
                      </p:nvSpPr>
                      <p:spPr>
                        <a:xfrm>
                          <a:off x="1538280" y="1879560"/>
                          <a:ext cx="25920" cy="27360"/>
                        </a:xfrm>
                        <a:custGeom>
                          <a:avLst/>
                          <a:gdLst/>
                          <a:ahLst/>
                          <a:rect l="0" t="0" r="r" b="b"/>
                          <a:pathLst>
                            <a:path w="72" h="76">
                              <a:moveTo>
                                <a:pt x="72" y="0"/>
                              </a:moveTo>
                              <a:lnTo>
                                <a:pt x="49" y="23"/>
                              </a:lnTo>
                              <a:lnTo>
                                <a:pt x="40" y="49"/>
                              </a:lnTo>
                              <a:lnTo>
                                <a:pt x="31" y="76"/>
                              </a:lnTo>
                              <a:lnTo>
                                <a:pt x="17" y="45"/>
                              </a:lnTo>
                              <a:lnTo>
                                <a:pt x="0" y="17"/>
                              </a:lnTo>
                              <a:lnTo>
                                <a:pt x="36" y="17"/>
                              </a:lnTo>
                              <a:lnTo>
                                <a:pt x="72" y="0"/>
                              </a:lnTo>
                              <a:close/>
                            </a:path>
                          </a:pathLst>
                        </a:custGeom>
                        <a:solidFill>
                          <a:srgbClr val="ff7f3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082" name=""/>
                        <p:cNvSpPr/>
                        <p:nvPr/>
                      </p:nvSpPr>
                      <p:spPr>
                        <a:xfrm>
                          <a:off x="1542960" y="1889280"/>
                          <a:ext cx="25920" cy="35280"/>
                        </a:xfrm>
                        <a:custGeom>
                          <a:avLst/>
                          <a:gdLst/>
                          <a:ahLst/>
                          <a:rect l="0" t="0" r="r" b="b"/>
                          <a:pathLst>
                            <a:path w="72" h="98">
                              <a:moveTo>
                                <a:pt x="63" y="0"/>
                              </a:moveTo>
                              <a:lnTo>
                                <a:pt x="45" y="39"/>
                              </a:lnTo>
                              <a:lnTo>
                                <a:pt x="8" y="53"/>
                              </a:lnTo>
                              <a:lnTo>
                                <a:pt x="0" y="71"/>
                              </a:lnTo>
                              <a:lnTo>
                                <a:pt x="8" y="98"/>
                              </a:lnTo>
                              <a:lnTo>
                                <a:pt x="45" y="75"/>
                              </a:lnTo>
                              <a:lnTo>
                                <a:pt x="59" y="58"/>
                              </a:lnTo>
                              <a:lnTo>
                                <a:pt x="72" y="30"/>
                              </a:lnTo>
                              <a:lnTo>
                                <a:pt x="63" y="0"/>
                              </a:lnTo>
                              <a:close/>
                            </a:path>
                          </a:pathLst>
                        </a:custGeom>
                        <a:solidFill>
                          <a:srgbClr val="ff7f3f"/>
                        </a:solidFill>
                        <a:ln w="0">
                          <a:noFill/>
                        </a:ln>
                      </p:spPr>
                      <p:txBody>
                        <a:bodyPr lIns="90000" rIns="90000" tIns="-9720" bIns="-9720" anchor="t">
                          <a:noAutofit/>
                        </a:bodyPr>
                        <a:p>
                          <a:endParaRPr b="0" lang="en-US" sz="1800" spc="-1" strike="noStrike">
                            <a:solidFill>
                              <a:srgbClr val="000000"/>
                            </a:solidFill>
                            <a:latin typeface="Arial"/>
                          </a:endParaRPr>
                        </a:p>
                      </p:txBody>
                    </p:sp>
                  </p:grpSp>
                </p:grpSp>
              </p:grpSp>
              <p:sp>
                <p:nvSpPr>
                  <p:cNvPr id="1083" name=""/>
                  <p:cNvSpPr/>
                  <p:nvPr/>
                </p:nvSpPr>
                <p:spPr>
                  <a:xfrm>
                    <a:off x="1413000" y="1736640"/>
                    <a:ext cx="84600" cy="25920"/>
                  </a:xfrm>
                  <a:custGeom>
                    <a:avLst/>
                    <a:gdLst/>
                    <a:ahLst/>
                    <a:rect l="0" t="0" r="r" b="b"/>
                    <a:pathLst>
                      <a:path w="235" h="72">
                        <a:moveTo>
                          <a:pt x="222" y="31"/>
                        </a:moveTo>
                        <a:lnTo>
                          <a:pt x="235" y="49"/>
                        </a:lnTo>
                        <a:lnTo>
                          <a:pt x="200" y="31"/>
                        </a:lnTo>
                        <a:lnTo>
                          <a:pt x="133" y="17"/>
                        </a:lnTo>
                        <a:lnTo>
                          <a:pt x="84" y="31"/>
                        </a:lnTo>
                        <a:lnTo>
                          <a:pt x="44" y="49"/>
                        </a:lnTo>
                        <a:lnTo>
                          <a:pt x="0" y="72"/>
                        </a:lnTo>
                        <a:lnTo>
                          <a:pt x="44" y="40"/>
                        </a:lnTo>
                        <a:lnTo>
                          <a:pt x="80" y="17"/>
                        </a:lnTo>
                        <a:lnTo>
                          <a:pt x="124" y="8"/>
                        </a:lnTo>
                        <a:lnTo>
                          <a:pt x="150" y="0"/>
                        </a:lnTo>
                        <a:lnTo>
                          <a:pt x="200" y="13"/>
                        </a:lnTo>
                        <a:lnTo>
                          <a:pt x="222" y="31"/>
                        </a:lnTo>
                        <a:close/>
                      </a:path>
                    </a:pathLst>
                  </a:custGeom>
                  <a:solidFill>
                    <a:srgbClr val="ff9f7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1084" name=""/>
                <p:cNvGrpSpPr/>
                <p:nvPr/>
              </p:nvGrpSpPr>
              <p:grpSpPr>
                <a:xfrm>
                  <a:off x="1414440" y="1752480"/>
                  <a:ext cx="158760" cy="222840"/>
                  <a:chOff x="1414440" y="1752480"/>
                  <a:chExt cx="158760" cy="222840"/>
                </a:xfrm>
              </p:grpSpPr>
              <p:grpSp>
                <p:nvGrpSpPr>
                  <p:cNvPr id="1085" name=""/>
                  <p:cNvGrpSpPr/>
                  <p:nvPr/>
                </p:nvGrpSpPr>
                <p:grpSpPr>
                  <a:xfrm>
                    <a:off x="1455840" y="1917720"/>
                    <a:ext cx="98640" cy="57600"/>
                    <a:chOff x="1455840" y="1917720"/>
                    <a:chExt cx="98640" cy="57600"/>
                  </a:xfrm>
                </p:grpSpPr>
                <p:sp>
                  <p:nvSpPr>
                    <p:cNvPr id="1086" name=""/>
                    <p:cNvSpPr/>
                    <p:nvPr/>
                  </p:nvSpPr>
                  <p:spPr>
                    <a:xfrm>
                      <a:off x="1455840" y="1917720"/>
                      <a:ext cx="98640" cy="57600"/>
                    </a:xfrm>
                    <a:custGeom>
                      <a:avLst/>
                      <a:gdLst/>
                      <a:ahLst/>
                      <a:rect l="0" t="0" r="r" b="b"/>
                      <a:pathLst>
                        <a:path w="274" h="160">
                          <a:moveTo>
                            <a:pt x="274" y="13"/>
                          </a:moveTo>
                          <a:lnTo>
                            <a:pt x="256" y="0"/>
                          </a:lnTo>
                          <a:lnTo>
                            <a:pt x="225" y="0"/>
                          </a:lnTo>
                          <a:lnTo>
                            <a:pt x="181" y="13"/>
                          </a:lnTo>
                          <a:lnTo>
                            <a:pt x="132" y="22"/>
                          </a:lnTo>
                          <a:lnTo>
                            <a:pt x="0" y="39"/>
                          </a:lnTo>
                          <a:lnTo>
                            <a:pt x="79" y="75"/>
                          </a:lnTo>
                          <a:lnTo>
                            <a:pt x="123" y="111"/>
                          </a:lnTo>
                          <a:lnTo>
                            <a:pt x="177" y="138"/>
                          </a:lnTo>
                          <a:lnTo>
                            <a:pt x="212" y="160"/>
                          </a:lnTo>
                          <a:lnTo>
                            <a:pt x="239" y="160"/>
                          </a:lnTo>
                          <a:lnTo>
                            <a:pt x="256" y="147"/>
                          </a:lnTo>
                          <a:lnTo>
                            <a:pt x="261" y="115"/>
                          </a:lnTo>
                          <a:lnTo>
                            <a:pt x="252" y="93"/>
                          </a:lnTo>
                          <a:lnTo>
                            <a:pt x="239" y="71"/>
                          </a:lnTo>
                          <a:lnTo>
                            <a:pt x="256" y="62"/>
                          </a:lnTo>
                          <a:lnTo>
                            <a:pt x="269" y="39"/>
                          </a:lnTo>
                          <a:lnTo>
                            <a:pt x="274" y="13"/>
                          </a:lnTo>
                          <a:close/>
                        </a:path>
                      </a:pathLst>
                    </a:custGeom>
                    <a:solidFill>
                      <a:srgbClr val="ff0000"/>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1087" name=""/>
                    <p:cNvSpPr/>
                    <p:nvPr/>
                  </p:nvSpPr>
                  <p:spPr>
                    <a:xfrm>
                      <a:off x="1459080" y="1933560"/>
                      <a:ext cx="89280" cy="25920"/>
                    </a:xfrm>
                    <a:custGeom>
                      <a:avLst/>
                      <a:gdLst/>
                      <a:ahLst/>
                      <a:rect l="0" t="0" r="r" b="b"/>
                      <a:pathLst>
                        <a:path w="248" h="72">
                          <a:moveTo>
                            <a:pt x="244" y="72"/>
                          </a:moveTo>
                          <a:lnTo>
                            <a:pt x="222" y="49"/>
                          </a:lnTo>
                          <a:lnTo>
                            <a:pt x="181" y="36"/>
                          </a:lnTo>
                          <a:lnTo>
                            <a:pt x="133" y="31"/>
                          </a:lnTo>
                          <a:lnTo>
                            <a:pt x="102" y="36"/>
                          </a:lnTo>
                          <a:lnTo>
                            <a:pt x="44" y="31"/>
                          </a:lnTo>
                          <a:lnTo>
                            <a:pt x="0" y="0"/>
                          </a:lnTo>
                          <a:lnTo>
                            <a:pt x="22" y="13"/>
                          </a:lnTo>
                          <a:lnTo>
                            <a:pt x="80" y="13"/>
                          </a:lnTo>
                          <a:lnTo>
                            <a:pt x="115" y="27"/>
                          </a:lnTo>
                          <a:lnTo>
                            <a:pt x="150" y="13"/>
                          </a:lnTo>
                          <a:lnTo>
                            <a:pt x="218" y="31"/>
                          </a:lnTo>
                          <a:lnTo>
                            <a:pt x="248" y="31"/>
                          </a:lnTo>
                          <a:lnTo>
                            <a:pt x="231" y="45"/>
                          </a:lnTo>
                          <a:lnTo>
                            <a:pt x="244" y="72"/>
                          </a:lnTo>
                          <a:close/>
                        </a:path>
                      </a:pathLst>
                    </a:custGeom>
                    <a:solidFill>
                      <a:srgbClr val="8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88" name=""/>
                    <p:cNvSpPr/>
                    <p:nvPr/>
                  </p:nvSpPr>
                  <p:spPr>
                    <a:xfrm>
                      <a:off x="1503360" y="1940040"/>
                      <a:ext cx="38520" cy="25920"/>
                    </a:xfrm>
                    <a:custGeom>
                      <a:avLst/>
                      <a:gdLst/>
                      <a:ahLst/>
                      <a:rect l="0" t="0" r="r" b="b"/>
                      <a:pathLst>
                        <a:path w="107" h="72">
                          <a:moveTo>
                            <a:pt x="94" y="17"/>
                          </a:moveTo>
                          <a:lnTo>
                            <a:pt x="107" y="40"/>
                          </a:lnTo>
                          <a:lnTo>
                            <a:pt x="103" y="68"/>
                          </a:lnTo>
                          <a:lnTo>
                            <a:pt x="90" y="72"/>
                          </a:lnTo>
                          <a:lnTo>
                            <a:pt x="67" y="59"/>
                          </a:lnTo>
                          <a:lnTo>
                            <a:pt x="40" y="17"/>
                          </a:lnTo>
                          <a:lnTo>
                            <a:pt x="0" y="0"/>
                          </a:lnTo>
                          <a:lnTo>
                            <a:pt x="26" y="0"/>
                          </a:lnTo>
                          <a:lnTo>
                            <a:pt x="67" y="4"/>
                          </a:lnTo>
                          <a:lnTo>
                            <a:pt x="94" y="17"/>
                          </a:lnTo>
                          <a:close/>
                        </a:path>
                      </a:pathLst>
                    </a:custGeom>
                    <a:solidFill>
                      <a:srgbClr val="ff1f3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1089" name=""/>
                  <p:cNvGrpSpPr/>
                  <p:nvPr/>
                </p:nvGrpSpPr>
                <p:grpSpPr>
                  <a:xfrm>
                    <a:off x="1414440" y="1752480"/>
                    <a:ext cx="158760" cy="45000"/>
                    <a:chOff x="1414440" y="1752480"/>
                    <a:chExt cx="158760" cy="45000"/>
                  </a:xfrm>
                </p:grpSpPr>
                <p:grpSp>
                  <p:nvGrpSpPr>
                    <p:cNvPr id="1090" name=""/>
                    <p:cNvGrpSpPr/>
                    <p:nvPr/>
                  </p:nvGrpSpPr>
                  <p:grpSpPr>
                    <a:xfrm>
                      <a:off x="1414440" y="1752480"/>
                      <a:ext cx="87840" cy="45000"/>
                      <a:chOff x="1414440" y="1752480"/>
                      <a:chExt cx="87840" cy="45000"/>
                    </a:xfrm>
                  </p:grpSpPr>
                  <p:sp>
                    <p:nvSpPr>
                      <p:cNvPr id="1091" name=""/>
                      <p:cNvSpPr/>
                      <p:nvPr/>
                    </p:nvSpPr>
                    <p:spPr>
                      <a:xfrm>
                        <a:off x="1422360" y="1760400"/>
                        <a:ext cx="65520" cy="25920"/>
                      </a:xfrm>
                      <a:custGeom>
                        <a:avLst/>
                        <a:gdLst/>
                        <a:ahLst/>
                        <a:rect l="0" t="0" r="r" b="b"/>
                        <a:pathLst>
                          <a:path w="182" h="72">
                            <a:moveTo>
                              <a:pt x="143" y="0"/>
                            </a:moveTo>
                            <a:lnTo>
                              <a:pt x="102" y="0"/>
                            </a:lnTo>
                            <a:lnTo>
                              <a:pt x="49" y="8"/>
                            </a:lnTo>
                            <a:lnTo>
                              <a:pt x="0" y="27"/>
                            </a:lnTo>
                            <a:lnTo>
                              <a:pt x="26" y="27"/>
                            </a:lnTo>
                            <a:lnTo>
                              <a:pt x="53" y="45"/>
                            </a:lnTo>
                            <a:lnTo>
                              <a:pt x="93" y="59"/>
                            </a:lnTo>
                            <a:lnTo>
                              <a:pt x="173" y="72"/>
                            </a:lnTo>
                            <a:lnTo>
                              <a:pt x="182" y="45"/>
                            </a:lnTo>
                            <a:lnTo>
                              <a:pt x="182" y="17"/>
                            </a:lnTo>
                            <a:lnTo>
                              <a:pt x="143" y="0"/>
                            </a:lnTo>
                            <a:close/>
                          </a:path>
                        </a:pathLst>
                      </a:custGeom>
                      <a:solidFill>
                        <a:srgbClr val="fffff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92" name=""/>
                      <p:cNvSpPr/>
                      <p:nvPr/>
                    </p:nvSpPr>
                    <p:spPr>
                      <a:xfrm>
                        <a:off x="1455840" y="1765440"/>
                        <a:ext cx="28440" cy="25560"/>
                      </a:xfrm>
                      <a:prstGeom prst="ellipse">
                        <a:avLst/>
                      </a:prstGeom>
                      <a:solidFill>
                        <a:srgbClr val="00008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1093" name=""/>
                      <p:cNvGrpSpPr/>
                      <p:nvPr/>
                    </p:nvGrpSpPr>
                    <p:grpSpPr>
                      <a:xfrm>
                        <a:off x="1442880" y="1757520"/>
                        <a:ext cx="44280" cy="28440"/>
                        <a:chOff x="1442880" y="1757520"/>
                        <a:chExt cx="44280" cy="28440"/>
                      </a:xfrm>
                    </p:grpSpPr>
                    <p:sp>
                      <p:nvSpPr>
                        <p:cNvPr id="1094" name=""/>
                        <p:cNvSpPr/>
                        <p:nvPr/>
                      </p:nvSpPr>
                      <p:spPr>
                        <a:xfrm>
                          <a:off x="1442880" y="1757520"/>
                          <a:ext cx="44280" cy="27000"/>
                        </a:xfrm>
                        <a:prstGeom prst="ellipse">
                          <a:avLst/>
                        </a:prstGeom>
                        <a:solidFill>
                          <a:srgbClr val="001f9f"/>
                        </a:solidFill>
                        <a:ln w="0">
                          <a:noFill/>
                        </a:ln>
                      </p:spPr>
                      <p:txBody>
                        <a:bodyPr lIns="90000" rIns="90000" tIns="-18000" bIns="-18000" anchor="t">
                          <a:noAutofit/>
                        </a:bodyPr>
                        <a:p>
                          <a:endParaRPr b="0" lang="en-US" sz="1800" spc="-1" strike="noStrike">
                            <a:solidFill>
                              <a:srgbClr val="ffffff"/>
                            </a:solidFill>
                            <a:latin typeface="Arial"/>
                          </a:endParaRPr>
                        </a:p>
                      </p:txBody>
                    </p:sp>
                    <p:sp>
                      <p:nvSpPr>
                        <p:cNvPr id="1095" name=""/>
                        <p:cNvSpPr/>
                        <p:nvPr/>
                      </p:nvSpPr>
                      <p:spPr>
                        <a:xfrm>
                          <a:off x="1457280" y="1760400"/>
                          <a:ext cx="27000" cy="25560"/>
                        </a:xfrm>
                        <a:prstGeom prst="ellipse">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sp>
                    <p:nvSpPr>
                      <p:cNvPr id="1096" name=""/>
                      <p:cNvSpPr/>
                      <p:nvPr/>
                    </p:nvSpPr>
                    <p:spPr>
                      <a:xfrm>
                        <a:off x="1465200" y="176220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grpSp>
                    <p:nvGrpSpPr>
                      <p:cNvPr id="1097" name=""/>
                      <p:cNvGrpSpPr/>
                      <p:nvPr/>
                    </p:nvGrpSpPr>
                    <p:grpSpPr>
                      <a:xfrm>
                        <a:off x="1414440" y="1752480"/>
                        <a:ext cx="87840" cy="45000"/>
                        <a:chOff x="1414440" y="1752480"/>
                        <a:chExt cx="87840" cy="45000"/>
                      </a:xfrm>
                    </p:grpSpPr>
                    <p:sp>
                      <p:nvSpPr>
                        <p:cNvPr id="1098" name=""/>
                        <p:cNvSpPr/>
                        <p:nvPr/>
                      </p:nvSpPr>
                      <p:spPr>
                        <a:xfrm>
                          <a:off x="1414440" y="1752480"/>
                          <a:ext cx="87840" cy="25920"/>
                        </a:xfrm>
                        <a:custGeom>
                          <a:avLst/>
                          <a:gdLst/>
                          <a:ahLst/>
                          <a:rect l="0" t="0" r="r" b="b"/>
                          <a:pathLst>
                            <a:path w="244" h="72">
                              <a:moveTo>
                                <a:pt x="244" y="27"/>
                              </a:moveTo>
                              <a:lnTo>
                                <a:pt x="213" y="49"/>
                              </a:lnTo>
                              <a:lnTo>
                                <a:pt x="196" y="45"/>
                              </a:lnTo>
                              <a:lnTo>
                                <a:pt x="155" y="31"/>
                              </a:lnTo>
                              <a:lnTo>
                                <a:pt x="133" y="23"/>
                              </a:lnTo>
                              <a:lnTo>
                                <a:pt x="120" y="31"/>
                              </a:lnTo>
                              <a:lnTo>
                                <a:pt x="89" y="31"/>
                              </a:lnTo>
                              <a:lnTo>
                                <a:pt x="67" y="45"/>
                              </a:lnTo>
                              <a:lnTo>
                                <a:pt x="48" y="49"/>
                              </a:lnTo>
                              <a:lnTo>
                                <a:pt x="22" y="63"/>
                              </a:lnTo>
                              <a:lnTo>
                                <a:pt x="0" y="72"/>
                              </a:lnTo>
                              <a:lnTo>
                                <a:pt x="22" y="49"/>
                              </a:lnTo>
                              <a:lnTo>
                                <a:pt x="52" y="40"/>
                              </a:lnTo>
                              <a:lnTo>
                                <a:pt x="80" y="23"/>
                              </a:lnTo>
                              <a:lnTo>
                                <a:pt x="106" y="13"/>
                              </a:lnTo>
                              <a:lnTo>
                                <a:pt x="142" y="0"/>
                              </a:lnTo>
                              <a:lnTo>
                                <a:pt x="164" y="13"/>
                              </a:lnTo>
                              <a:lnTo>
                                <a:pt x="213" y="31"/>
                              </a:lnTo>
                              <a:lnTo>
                                <a:pt x="244" y="27"/>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99" name=""/>
                        <p:cNvSpPr/>
                        <p:nvPr/>
                      </p:nvSpPr>
                      <p:spPr>
                        <a:xfrm>
                          <a:off x="1428840" y="1771560"/>
                          <a:ext cx="62280" cy="25920"/>
                        </a:xfrm>
                        <a:custGeom>
                          <a:avLst/>
                          <a:gdLst/>
                          <a:ahLst/>
                          <a:rect l="0" t="0" r="r" b="b"/>
                          <a:pathLst>
                            <a:path w="173" h="72">
                              <a:moveTo>
                                <a:pt x="165" y="23"/>
                              </a:moveTo>
                              <a:lnTo>
                                <a:pt x="128" y="31"/>
                              </a:lnTo>
                              <a:lnTo>
                                <a:pt x="111" y="40"/>
                              </a:lnTo>
                              <a:lnTo>
                                <a:pt x="75" y="27"/>
                              </a:lnTo>
                              <a:lnTo>
                                <a:pt x="53" y="23"/>
                              </a:lnTo>
                              <a:lnTo>
                                <a:pt x="30" y="4"/>
                              </a:lnTo>
                              <a:lnTo>
                                <a:pt x="8" y="0"/>
                              </a:lnTo>
                              <a:lnTo>
                                <a:pt x="0" y="0"/>
                              </a:lnTo>
                              <a:lnTo>
                                <a:pt x="30" y="23"/>
                              </a:lnTo>
                              <a:lnTo>
                                <a:pt x="49" y="27"/>
                              </a:lnTo>
                              <a:lnTo>
                                <a:pt x="67" y="40"/>
                              </a:lnTo>
                              <a:lnTo>
                                <a:pt x="89" y="53"/>
                              </a:lnTo>
                              <a:lnTo>
                                <a:pt x="106" y="53"/>
                              </a:lnTo>
                              <a:lnTo>
                                <a:pt x="124" y="59"/>
                              </a:lnTo>
                              <a:lnTo>
                                <a:pt x="173" y="72"/>
                              </a:lnTo>
                              <a:lnTo>
                                <a:pt x="156" y="49"/>
                              </a:lnTo>
                              <a:lnTo>
                                <a:pt x="165" y="23"/>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grpSp>
                </p:grpSp>
                <p:grpSp>
                  <p:nvGrpSpPr>
                    <p:cNvPr id="1100" name=""/>
                    <p:cNvGrpSpPr/>
                    <p:nvPr/>
                  </p:nvGrpSpPr>
                  <p:grpSpPr>
                    <a:xfrm>
                      <a:off x="1530360" y="1766880"/>
                      <a:ext cx="42840" cy="30240"/>
                      <a:chOff x="1530360" y="1766880"/>
                      <a:chExt cx="42840" cy="30240"/>
                    </a:xfrm>
                  </p:grpSpPr>
                  <p:sp>
                    <p:nvSpPr>
                      <p:cNvPr id="1101" name=""/>
                      <p:cNvSpPr/>
                      <p:nvPr/>
                    </p:nvSpPr>
                    <p:spPr>
                      <a:xfrm>
                        <a:off x="1546200" y="1768320"/>
                        <a:ext cx="25560" cy="25560"/>
                      </a:xfrm>
                      <a:prstGeom prst="ellipse">
                        <a:avLst/>
                      </a:prstGeom>
                      <a:solidFill>
                        <a:srgbClr val="00008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1102" name=""/>
                      <p:cNvGrpSpPr/>
                      <p:nvPr/>
                    </p:nvGrpSpPr>
                    <p:grpSpPr>
                      <a:xfrm>
                        <a:off x="1536840" y="1768320"/>
                        <a:ext cx="34920" cy="28800"/>
                        <a:chOff x="1536840" y="1768320"/>
                        <a:chExt cx="34920" cy="28800"/>
                      </a:xfrm>
                    </p:grpSpPr>
                    <p:sp>
                      <p:nvSpPr>
                        <p:cNvPr id="1103" name=""/>
                        <p:cNvSpPr/>
                        <p:nvPr/>
                      </p:nvSpPr>
                      <p:spPr>
                        <a:xfrm>
                          <a:off x="1536840" y="1768320"/>
                          <a:ext cx="25920" cy="25920"/>
                        </a:xfrm>
                        <a:custGeom>
                          <a:avLst/>
                          <a:gdLst/>
                          <a:ahLst/>
                          <a:rect l="0" t="0" r="r" b="b"/>
                          <a:pathLst>
                            <a:path w="72" h="72">
                              <a:moveTo>
                                <a:pt x="68" y="8"/>
                              </a:moveTo>
                              <a:lnTo>
                                <a:pt x="72" y="4"/>
                              </a:lnTo>
                              <a:lnTo>
                                <a:pt x="40" y="0"/>
                              </a:lnTo>
                              <a:lnTo>
                                <a:pt x="17" y="4"/>
                              </a:lnTo>
                              <a:lnTo>
                                <a:pt x="0" y="27"/>
                              </a:lnTo>
                              <a:lnTo>
                                <a:pt x="17" y="53"/>
                              </a:lnTo>
                              <a:lnTo>
                                <a:pt x="40" y="72"/>
                              </a:lnTo>
                              <a:lnTo>
                                <a:pt x="49" y="53"/>
                              </a:lnTo>
                              <a:lnTo>
                                <a:pt x="68" y="31"/>
                              </a:lnTo>
                              <a:lnTo>
                                <a:pt x="68" y="8"/>
                              </a:lnTo>
                              <a:close/>
                            </a:path>
                          </a:pathLst>
                        </a:custGeom>
                        <a:solidFill>
                          <a:srgbClr val="001f9f"/>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04" name=""/>
                        <p:cNvSpPr/>
                        <p:nvPr/>
                      </p:nvSpPr>
                      <p:spPr>
                        <a:xfrm>
                          <a:off x="1546200" y="1771560"/>
                          <a:ext cx="25560" cy="25560"/>
                        </a:xfrm>
                        <a:prstGeom prst="ellipse">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sp>
                    <p:nvSpPr>
                      <p:cNvPr id="1105" name=""/>
                      <p:cNvSpPr/>
                      <p:nvPr/>
                    </p:nvSpPr>
                    <p:spPr>
                      <a:xfrm>
                        <a:off x="1547640" y="177156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grpSp>
                    <p:nvGrpSpPr>
                      <p:cNvPr id="1106" name=""/>
                      <p:cNvGrpSpPr/>
                      <p:nvPr/>
                    </p:nvGrpSpPr>
                    <p:grpSpPr>
                      <a:xfrm>
                        <a:off x="1530360" y="1766880"/>
                        <a:ext cx="41760" cy="28800"/>
                        <a:chOff x="1530360" y="1766880"/>
                        <a:chExt cx="41760" cy="28800"/>
                      </a:xfrm>
                    </p:grpSpPr>
                    <p:sp>
                      <p:nvSpPr>
                        <p:cNvPr id="1107" name=""/>
                        <p:cNvSpPr/>
                        <p:nvPr/>
                      </p:nvSpPr>
                      <p:spPr>
                        <a:xfrm>
                          <a:off x="1530360" y="1768320"/>
                          <a:ext cx="25920" cy="27360"/>
                        </a:xfrm>
                        <a:custGeom>
                          <a:avLst/>
                          <a:gdLst/>
                          <a:ahLst/>
                          <a:rect l="0" t="0" r="r" b="b"/>
                          <a:pathLst>
                            <a:path w="72" h="76">
                              <a:moveTo>
                                <a:pt x="72" y="76"/>
                              </a:moveTo>
                              <a:lnTo>
                                <a:pt x="59" y="63"/>
                              </a:lnTo>
                              <a:lnTo>
                                <a:pt x="27" y="49"/>
                              </a:lnTo>
                              <a:lnTo>
                                <a:pt x="8" y="27"/>
                              </a:lnTo>
                              <a:lnTo>
                                <a:pt x="0" y="0"/>
                              </a:lnTo>
                              <a:lnTo>
                                <a:pt x="0" y="27"/>
                              </a:lnTo>
                              <a:lnTo>
                                <a:pt x="23" y="49"/>
                              </a:lnTo>
                              <a:lnTo>
                                <a:pt x="72" y="76"/>
                              </a:lnTo>
                              <a:close/>
                            </a:path>
                          </a:pathLst>
                        </a:custGeom>
                        <a:solidFill>
                          <a:srgbClr val="5f3f1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108" name=""/>
                        <p:cNvSpPr/>
                        <p:nvPr/>
                      </p:nvSpPr>
                      <p:spPr>
                        <a:xfrm>
                          <a:off x="1536840" y="1766880"/>
                          <a:ext cx="35280" cy="25920"/>
                        </a:xfrm>
                        <a:custGeom>
                          <a:avLst/>
                          <a:gdLst/>
                          <a:ahLst/>
                          <a:rect l="0" t="0" r="r" b="b"/>
                          <a:pathLst>
                            <a:path w="98" h="72">
                              <a:moveTo>
                                <a:pt x="0" y="13"/>
                              </a:moveTo>
                              <a:lnTo>
                                <a:pt x="26" y="0"/>
                              </a:lnTo>
                              <a:lnTo>
                                <a:pt x="53" y="0"/>
                              </a:lnTo>
                              <a:lnTo>
                                <a:pt x="80" y="13"/>
                              </a:lnTo>
                              <a:lnTo>
                                <a:pt x="98" y="36"/>
                              </a:lnTo>
                              <a:lnTo>
                                <a:pt x="75" y="72"/>
                              </a:lnTo>
                              <a:lnTo>
                                <a:pt x="53" y="36"/>
                              </a:lnTo>
                              <a:lnTo>
                                <a:pt x="26" y="13"/>
                              </a:lnTo>
                              <a:lnTo>
                                <a:pt x="0" y="13"/>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grpSp>
                </p:grpSp>
              </p:grpSp>
            </p:grpSp>
            <p:grpSp>
              <p:nvGrpSpPr>
                <p:cNvPr id="1109" name=""/>
                <p:cNvGrpSpPr/>
                <p:nvPr/>
              </p:nvGrpSpPr>
              <p:grpSpPr>
                <a:xfrm>
                  <a:off x="942840" y="1446120"/>
                  <a:ext cx="684720" cy="692640"/>
                  <a:chOff x="942840" y="1446120"/>
                  <a:chExt cx="684720" cy="692640"/>
                </a:xfrm>
              </p:grpSpPr>
              <p:sp>
                <p:nvSpPr>
                  <p:cNvPr id="1110" name=""/>
                  <p:cNvSpPr/>
                  <p:nvPr/>
                </p:nvSpPr>
                <p:spPr>
                  <a:xfrm>
                    <a:off x="1389240" y="1714680"/>
                    <a:ext cx="128880" cy="35280"/>
                  </a:xfrm>
                  <a:custGeom>
                    <a:avLst/>
                    <a:gdLst/>
                    <a:ahLst/>
                    <a:rect l="0" t="0" r="r" b="b"/>
                    <a:pathLst>
                      <a:path w="358" h="98">
                        <a:moveTo>
                          <a:pt x="358" y="98"/>
                        </a:moveTo>
                        <a:lnTo>
                          <a:pt x="349" y="53"/>
                        </a:lnTo>
                        <a:lnTo>
                          <a:pt x="340" y="30"/>
                        </a:lnTo>
                        <a:lnTo>
                          <a:pt x="318" y="13"/>
                        </a:lnTo>
                        <a:lnTo>
                          <a:pt x="274" y="4"/>
                        </a:lnTo>
                        <a:lnTo>
                          <a:pt x="199" y="0"/>
                        </a:lnTo>
                        <a:lnTo>
                          <a:pt x="127" y="8"/>
                        </a:lnTo>
                        <a:lnTo>
                          <a:pt x="74" y="35"/>
                        </a:lnTo>
                        <a:lnTo>
                          <a:pt x="44" y="53"/>
                        </a:lnTo>
                        <a:lnTo>
                          <a:pt x="0" y="71"/>
                        </a:lnTo>
                        <a:lnTo>
                          <a:pt x="30" y="71"/>
                        </a:lnTo>
                        <a:lnTo>
                          <a:pt x="52" y="80"/>
                        </a:lnTo>
                        <a:lnTo>
                          <a:pt x="92" y="62"/>
                        </a:lnTo>
                        <a:lnTo>
                          <a:pt x="136" y="53"/>
                        </a:lnTo>
                        <a:lnTo>
                          <a:pt x="203" y="44"/>
                        </a:lnTo>
                        <a:lnTo>
                          <a:pt x="287" y="53"/>
                        </a:lnTo>
                        <a:lnTo>
                          <a:pt x="318" y="71"/>
                        </a:lnTo>
                        <a:lnTo>
                          <a:pt x="336" y="98"/>
                        </a:lnTo>
                        <a:lnTo>
                          <a:pt x="358" y="98"/>
                        </a:lnTo>
                        <a:close/>
                      </a:path>
                    </a:pathLst>
                  </a:custGeom>
                  <a:solidFill>
                    <a:srgbClr val="5f3f1f"/>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111" name=""/>
                  <p:cNvSpPr/>
                  <p:nvPr/>
                </p:nvSpPr>
                <p:spPr>
                  <a:xfrm>
                    <a:off x="1539720" y="1733400"/>
                    <a:ext cx="39960" cy="27360"/>
                  </a:xfrm>
                  <a:custGeom>
                    <a:avLst/>
                    <a:gdLst/>
                    <a:ahLst/>
                    <a:rect l="0" t="0" r="r" b="b"/>
                    <a:pathLst>
                      <a:path w="111" h="76">
                        <a:moveTo>
                          <a:pt x="111" y="0"/>
                        </a:moveTo>
                        <a:lnTo>
                          <a:pt x="80" y="0"/>
                        </a:lnTo>
                        <a:lnTo>
                          <a:pt x="48" y="17"/>
                        </a:lnTo>
                        <a:lnTo>
                          <a:pt x="26" y="31"/>
                        </a:lnTo>
                        <a:lnTo>
                          <a:pt x="0" y="76"/>
                        </a:lnTo>
                        <a:lnTo>
                          <a:pt x="44" y="49"/>
                        </a:lnTo>
                        <a:lnTo>
                          <a:pt x="75" y="45"/>
                        </a:lnTo>
                        <a:lnTo>
                          <a:pt x="102" y="40"/>
                        </a:lnTo>
                        <a:lnTo>
                          <a:pt x="111" y="0"/>
                        </a:lnTo>
                        <a:close/>
                      </a:path>
                    </a:pathLst>
                  </a:custGeom>
                  <a:solidFill>
                    <a:srgbClr val="5f3f1f"/>
                  </a:solidFill>
                  <a:ln w="0">
                    <a:noFill/>
                  </a:ln>
                </p:spPr>
                <p:txBody>
                  <a:bodyPr lIns="90000" rIns="90000" tIns="-17640" bIns="-17640" anchor="t">
                    <a:noAutofit/>
                  </a:bodyPr>
                  <a:p>
                    <a:endParaRPr b="0" lang="en-US" sz="1800" spc="-1" strike="noStrike">
                      <a:solidFill>
                        <a:srgbClr val="000000"/>
                      </a:solidFill>
                      <a:latin typeface="Arial"/>
                    </a:endParaRPr>
                  </a:p>
                </p:txBody>
              </p:sp>
              <p:grpSp>
                <p:nvGrpSpPr>
                  <p:cNvPr id="1112" name=""/>
                  <p:cNvGrpSpPr/>
                  <p:nvPr/>
                </p:nvGrpSpPr>
                <p:grpSpPr>
                  <a:xfrm>
                    <a:off x="942840" y="1446120"/>
                    <a:ext cx="684720" cy="692640"/>
                    <a:chOff x="942840" y="1446120"/>
                    <a:chExt cx="684720" cy="692640"/>
                  </a:xfrm>
                </p:grpSpPr>
                <p:sp>
                  <p:nvSpPr>
                    <p:cNvPr id="1113" name=""/>
                    <p:cNvSpPr/>
                    <p:nvPr/>
                  </p:nvSpPr>
                  <p:spPr>
                    <a:xfrm>
                      <a:off x="942840" y="1446120"/>
                      <a:ext cx="684720" cy="692640"/>
                    </a:xfrm>
                    <a:custGeom>
                      <a:avLst/>
                      <a:gdLst/>
                      <a:ahLst/>
                      <a:rect l="0" t="0" r="r" b="b"/>
                      <a:pathLst>
                        <a:path w="1902" h="1924">
                          <a:moveTo>
                            <a:pt x="1779" y="583"/>
                          </a:moveTo>
                          <a:lnTo>
                            <a:pt x="1796" y="653"/>
                          </a:lnTo>
                          <a:lnTo>
                            <a:pt x="1801" y="702"/>
                          </a:lnTo>
                          <a:lnTo>
                            <a:pt x="1796" y="746"/>
                          </a:lnTo>
                          <a:lnTo>
                            <a:pt x="1787" y="781"/>
                          </a:lnTo>
                          <a:lnTo>
                            <a:pt x="1832" y="750"/>
                          </a:lnTo>
                          <a:lnTo>
                            <a:pt x="1871" y="702"/>
                          </a:lnTo>
                          <a:lnTo>
                            <a:pt x="1893" y="662"/>
                          </a:lnTo>
                          <a:lnTo>
                            <a:pt x="1902" y="583"/>
                          </a:lnTo>
                          <a:lnTo>
                            <a:pt x="1880" y="494"/>
                          </a:lnTo>
                          <a:lnTo>
                            <a:pt x="1845" y="427"/>
                          </a:lnTo>
                          <a:lnTo>
                            <a:pt x="1796" y="357"/>
                          </a:lnTo>
                          <a:lnTo>
                            <a:pt x="1735" y="286"/>
                          </a:lnTo>
                          <a:lnTo>
                            <a:pt x="1664" y="224"/>
                          </a:lnTo>
                          <a:lnTo>
                            <a:pt x="1598" y="180"/>
                          </a:lnTo>
                          <a:lnTo>
                            <a:pt x="1532" y="145"/>
                          </a:lnTo>
                          <a:lnTo>
                            <a:pt x="1430" y="101"/>
                          </a:lnTo>
                          <a:lnTo>
                            <a:pt x="1359" y="74"/>
                          </a:lnTo>
                          <a:lnTo>
                            <a:pt x="1332" y="35"/>
                          </a:lnTo>
                          <a:lnTo>
                            <a:pt x="1306" y="22"/>
                          </a:lnTo>
                          <a:lnTo>
                            <a:pt x="1262" y="4"/>
                          </a:lnTo>
                          <a:lnTo>
                            <a:pt x="1213" y="4"/>
                          </a:lnTo>
                          <a:lnTo>
                            <a:pt x="1134" y="22"/>
                          </a:lnTo>
                          <a:lnTo>
                            <a:pt x="1068" y="4"/>
                          </a:lnTo>
                          <a:lnTo>
                            <a:pt x="1024" y="0"/>
                          </a:lnTo>
                          <a:lnTo>
                            <a:pt x="984" y="4"/>
                          </a:lnTo>
                          <a:lnTo>
                            <a:pt x="927" y="8"/>
                          </a:lnTo>
                          <a:lnTo>
                            <a:pt x="882" y="44"/>
                          </a:lnTo>
                          <a:lnTo>
                            <a:pt x="825" y="26"/>
                          </a:lnTo>
                          <a:lnTo>
                            <a:pt x="768" y="22"/>
                          </a:lnTo>
                          <a:lnTo>
                            <a:pt x="710" y="44"/>
                          </a:lnTo>
                          <a:lnTo>
                            <a:pt x="622" y="83"/>
                          </a:lnTo>
                          <a:lnTo>
                            <a:pt x="565" y="141"/>
                          </a:lnTo>
                          <a:lnTo>
                            <a:pt x="503" y="211"/>
                          </a:lnTo>
                          <a:lnTo>
                            <a:pt x="449" y="273"/>
                          </a:lnTo>
                          <a:lnTo>
                            <a:pt x="396" y="326"/>
                          </a:lnTo>
                          <a:lnTo>
                            <a:pt x="357" y="396"/>
                          </a:lnTo>
                          <a:lnTo>
                            <a:pt x="326" y="480"/>
                          </a:lnTo>
                          <a:lnTo>
                            <a:pt x="277" y="587"/>
                          </a:lnTo>
                          <a:lnTo>
                            <a:pt x="229" y="733"/>
                          </a:lnTo>
                          <a:lnTo>
                            <a:pt x="180" y="887"/>
                          </a:lnTo>
                          <a:lnTo>
                            <a:pt x="145" y="1059"/>
                          </a:lnTo>
                          <a:lnTo>
                            <a:pt x="114" y="1165"/>
                          </a:lnTo>
                          <a:lnTo>
                            <a:pt x="97" y="1288"/>
                          </a:lnTo>
                          <a:lnTo>
                            <a:pt x="61" y="1425"/>
                          </a:lnTo>
                          <a:lnTo>
                            <a:pt x="26" y="1554"/>
                          </a:lnTo>
                          <a:lnTo>
                            <a:pt x="8" y="1624"/>
                          </a:lnTo>
                          <a:lnTo>
                            <a:pt x="0" y="1704"/>
                          </a:lnTo>
                          <a:lnTo>
                            <a:pt x="8" y="1770"/>
                          </a:lnTo>
                          <a:lnTo>
                            <a:pt x="26" y="1818"/>
                          </a:lnTo>
                          <a:lnTo>
                            <a:pt x="35" y="1809"/>
                          </a:lnTo>
                          <a:lnTo>
                            <a:pt x="61" y="1858"/>
                          </a:lnTo>
                          <a:lnTo>
                            <a:pt x="88" y="1889"/>
                          </a:lnTo>
                          <a:lnTo>
                            <a:pt x="127" y="1902"/>
                          </a:lnTo>
                          <a:lnTo>
                            <a:pt x="145" y="1889"/>
                          </a:lnTo>
                          <a:lnTo>
                            <a:pt x="154" y="1911"/>
                          </a:lnTo>
                          <a:lnTo>
                            <a:pt x="171" y="1924"/>
                          </a:lnTo>
                          <a:lnTo>
                            <a:pt x="207" y="1911"/>
                          </a:lnTo>
                          <a:lnTo>
                            <a:pt x="242" y="1889"/>
                          </a:lnTo>
                          <a:lnTo>
                            <a:pt x="277" y="1867"/>
                          </a:lnTo>
                          <a:lnTo>
                            <a:pt x="304" y="1858"/>
                          </a:lnTo>
                          <a:lnTo>
                            <a:pt x="366" y="1876"/>
                          </a:lnTo>
                          <a:lnTo>
                            <a:pt x="423" y="1880"/>
                          </a:lnTo>
                          <a:lnTo>
                            <a:pt x="467" y="1867"/>
                          </a:lnTo>
                          <a:lnTo>
                            <a:pt x="454" y="1854"/>
                          </a:lnTo>
                          <a:lnTo>
                            <a:pt x="516" y="1880"/>
                          </a:lnTo>
                          <a:lnTo>
                            <a:pt x="574" y="1889"/>
                          </a:lnTo>
                          <a:lnTo>
                            <a:pt x="640" y="1880"/>
                          </a:lnTo>
                          <a:lnTo>
                            <a:pt x="693" y="1854"/>
                          </a:lnTo>
                          <a:lnTo>
                            <a:pt x="746" y="1814"/>
                          </a:lnTo>
                          <a:lnTo>
                            <a:pt x="763" y="1770"/>
                          </a:lnTo>
                          <a:lnTo>
                            <a:pt x="768" y="1717"/>
                          </a:lnTo>
                          <a:lnTo>
                            <a:pt x="816" y="1735"/>
                          </a:lnTo>
                          <a:lnTo>
                            <a:pt x="777" y="1686"/>
                          </a:lnTo>
                          <a:lnTo>
                            <a:pt x="750" y="1633"/>
                          </a:lnTo>
                          <a:lnTo>
                            <a:pt x="710" y="1523"/>
                          </a:lnTo>
                          <a:lnTo>
                            <a:pt x="671" y="1416"/>
                          </a:lnTo>
                          <a:lnTo>
                            <a:pt x="644" y="1284"/>
                          </a:lnTo>
                          <a:lnTo>
                            <a:pt x="618" y="1138"/>
                          </a:lnTo>
                          <a:lnTo>
                            <a:pt x="596" y="843"/>
                          </a:lnTo>
                          <a:lnTo>
                            <a:pt x="719" y="843"/>
                          </a:lnTo>
                          <a:lnTo>
                            <a:pt x="759" y="887"/>
                          </a:lnTo>
                          <a:lnTo>
                            <a:pt x="777" y="935"/>
                          </a:lnTo>
                          <a:lnTo>
                            <a:pt x="825" y="957"/>
                          </a:lnTo>
                          <a:lnTo>
                            <a:pt x="869" y="966"/>
                          </a:lnTo>
                          <a:lnTo>
                            <a:pt x="896" y="944"/>
                          </a:lnTo>
                          <a:lnTo>
                            <a:pt x="944" y="900"/>
                          </a:lnTo>
                          <a:lnTo>
                            <a:pt x="975" y="838"/>
                          </a:lnTo>
                          <a:lnTo>
                            <a:pt x="1010" y="772"/>
                          </a:lnTo>
                          <a:lnTo>
                            <a:pt x="1059" y="702"/>
                          </a:lnTo>
                          <a:lnTo>
                            <a:pt x="1112" y="680"/>
                          </a:lnTo>
                          <a:lnTo>
                            <a:pt x="1134" y="662"/>
                          </a:lnTo>
                          <a:lnTo>
                            <a:pt x="1129" y="631"/>
                          </a:lnTo>
                          <a:lnTo>
                            <a:pt x="1121" y="600"/>
                          </a:lnTo>
                          <a:lnTo>
                            <a:pt x="1143" y="543"/>
                          </a:lnTo>
                          <a:lnTo>
                            <a:pt x="1178" y="490"/>
                          </a:lnTo>
                          <a:lnTo>
                            <a:pt x="1213" y="454"/>
                          </a:lnTo>
                          <a:lnTo>
                            <a:pt x="1262" y="414"/>
                          </a:lnTo>
                          <a:lnTo>
                            <a:pt x="1337" y="374"/>
                          </a:lnTo>
                          <a:lnTo>
                            <a:pt x="1407" y="366"/>
                          </a:lnTo>
                          <a:lnTo>
                            <a:pt x="1466" y="374"/>
                          </a:lnTo>
                          <a:lnTo>
                            <a:pt x="1567" y="396"/>
                          </a:lnTo>
                          <a:lnTo>
                            <a:pt x="1611" y="432"/>
                          </a:lnTo>
                          <a:lnTo>
                            <a:pt x="1664" y="490"/>
                          </a:lnTo>
                          <a:lnTo>
                            <a:pt x="1699" y="556"/>
                          </a:lnTo>
                          <a:lnTo>
                            <a:pt x="1721" y="613"/>
                          </a:lnTo>
                          <a:lnTo>
                            <a:pt x="1739" y="680"/>
                          </a:lnTo>
                          <a:lnTo>
                            <a:pt x="1735" y="759"/>
                          </a:lnTo>
                          <a:lnTo>
                            <a:pt x="1761" y="728"/>
                          </a:lnTo>
                          <a:lnTo>
                            <a:pt x="1774" y="693"/>
                          </a:lnTo>
                          <a:lnTo>
                            <a:pt x="1783" y="649"/>
                          </a:lnTo>
                          <a:lnTo>
                            <a:pt x="1779" y="583"/>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14" name=""/>
                    <p:cNvGrpSpPr/>
                    <p:nvPr/>
                  </p:nvGrpSpPr>
                  <p:grpSpPr>
                    <a:xfrm>
                      <a:off x="955800" y="1484280"/>
                      <a:ext cx="544680" cy="605520"/>
                      <a:chOff x="955800" y="1484280"/>
                      <a:chExt cx="544680" cy="605520"/>
                    </a:xfrm>
                  </p:grpSpPr>
                  <p:sp>
                    <p:nvSpPr>
                      <p:cNvPr id="1115" name=""/>
                      <p:cNvSpPr/>
                      <p:nvPr/>
                    </p:nvSpPr>
                    <p:spPr>
                      <a:xfrm>
                        <a:off x="1114560" y="1827360"/>
                        <a:ext cx="68760" cy="241560"/>
                      </a:xfrm>
                      <a:custGeom>
                        <a:avLst/>
                        <a:gdLst/>
                        <a:ahLst/>
                        <a:rect l="0" t="0" r="r" b="b"/>
                        <a:pathLst>
                          <a:path w="191" h="671">
                            <a:moveTo>
                              <a:pt x="111" y="35"/>
                            </a:moveTo>
                            <a:lnTo>
                              <a:pt x="115" y="141"/>
                            </a:lnTo>
                            <a:lnTo>
                              <a:pt x="124" y="264"/>
                            </a:lnTo>
                            <a:lnTo>
                              <a:pt x="147" y="367"/>
                            </a:lnTo>
                            <a:lnTo>
                              <a:pt x="191" y="543"/>
                            </a:lnTo>
                            <a:lnTo>
                              <a:pt x="142" y="477"/>
                            </a:lnTo>
                            <a:lnTo>
                              <a:pt x="115" y="397"/>
                            </a:lnTo>
                            <a:lnTo>
                              <a:pt x="98" y="344"/>
                            </a:lnTo>
                            <a:lnTo>
                              <a:pt x="71" y="264"/>
                            </a:lnTo>
                            <a:lnTo>
                              <a:pt x="53" y="384"/>
                            </a:lnTo>
                            <a:lnTo>
                              <a:pt x="53" y="490"/>
                            </a:lnTo>
                            <a:lnTo>
                              <a:pt x="62" y="565"/>
                            </a:lnTo>
                            <a:lnTo>
                              <a:pt x="26" y="671"/>
                            </a:lnTo>
                            <a:lnTo>
                              <a:pt x="13" y="389"/>
                            </a:lnTo>
                            <a:lnTo>
                              <a:pt x="0" y="242"/>
                            </a:lnTo>
                            <a:lnTo>
                              <a:pt x="4" y="101"/>
                            </a:lnTo>
                            <a:lnTo>
                              <a:pt x="17" y="0"/>
                            </a:lnTo>
                            <a:lnTo>
                              <a:pt x="49" y="83"/>
                            </a:lnTo>
                            <a:lnTo>
                              <a:pt x="71" y="163"/>
                            </a:lnTo>
                            <a:lnTo>
                              <a:pt x="89" y="97"/>
                            </a:lnTo>
                            <a:lnTo>
                              <a:pt x="111" y="35"/>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6" name=""/>
                      <p:cNvSpPr/>
                      <p:nvPr/>
                    </p:nvSpPr>
                    <p:spPr>
                      <a:xfrm>
                        <a:off x="955800" y="1676520"/>
                        <a:ext cx="181440" cy="413280"/>
                      </a:xfrm>
                      <a:custGeom>
                        <a:avLst/>
                        <a:gdLst/>
                        <a:ahLst/>
                        <a:rect l="0" t="0" r="r" b="b"/>
                        <a:pathLst>
                          <a:path w="504" h="1148">
                            <a:moveTo>
                              <a:pt x="265" y="1077"/>
                            </a:moveTo>
                            <a:lnTo>
                              <a:pt x="296" y="897"/>
                            </a:lnTo>
                            <a:lnTo>
                              <a:pt x="309" y="755"/>
                            </a:lnTo>
                            <a:lnTo>
                              <a:pt x="336" y="583"/>
                            </a:lnTo>
                            <a:lnTo>
                              <a:pt x="340" y="671"/>
                            </a:lnTo>
                            <a:lnTo>
                              <a:pt x="349" y="785"/>
                            </a:lnTo>
                            <a:lnTo>
                              <a:pt x="385" y="658"/>
                            </a:lnTo>
                            <a:lnTo>
                              <a:pt x="394" y="561"/>
                            </a:lnTo>
                            <a:lnTo>
                              <a:pt x="385" y="455"/>
                            </a:lnTo>
                            <a:lnTo>
                              <a:pt x="412" y="353"/>
                            </a:lnTo>
                            <a:lnTo>
                              <a:pt x="442" y="238"/>
                            </a:lnTo>
                            <a:lnTo>
                              <a:pt x="504" y="70"/>
                            </a:lnTo>
                            <a:lnTo>
                              <a:pt x="425" y="198"/>
                            </a:lnTo>
                            <a:lnTo>
                              <a:pt x="362" y="305"/>
                            </a:lnTo>
                            <a:lnTo>
                              <a:pt x="300" y="450"/>
                            </a:lnTo>
                            <a:lnTo>
                              <a:pt x="318" y="296"/>
                            </a:lnTo>
                            <a:lnTo>
                              <a:pt x="336" y="158"/>
                            </a:lnTo>
                            <a:lnTo>
                              <a:pt x="362" y="0"/>
                            </a:lnTo>
                            <a:lnTo>
                              <a:pt x="314" y="136"/>
                            </a:lnTo>
                            <a:lnTo>
                              <a:pt x="274" y="251"/>
                            </a:lnTo>
                            <a:lnTo>
                              <a:pt x="243" y="375"/>
                            </a:lnTo>
                            <a:lnTo>
                              <a:pt x="221" y="455"/>
                            </a:lnTo>
                            <a:lnTo>
                              <a:pt x="177" y="521"/>
                            </a:lnTo>
                            <a:lnTo>
                              <a:pt x="119" y="609"/>
                            </a:lnTo>
                            <a:lnTo>
                              <a:pt x="79" y="693"/>
                            </a:lnTo>
                            <a:lnTo>
                              <a:pt x="52" y="790"/>
                            </a:lnTo>
                            <a:lnTo>
                              <a:pt x="26" y="883"/>
                            </a:lnTo>
                            <a:lnTo>
                              <a:pt x="17" y="963"/>
                            </a:lnTo>
                            <a:lnTo>
                              <a:pt x="13" y="1020"/>
                            </a:lnTo>
                            <a:lnTo>
                              <a:pt x="0" y="1073"/>
                            </a:lnTo>
                            <a:lnTo>
                              <a:pt x="13" y="1148"/>
                            </a:lnTo>
                            <a:lnTo>
                              <a:pt x="48" y="1073"/>
                            </a:lnTo>
                            <a:lnTo>
                              <a:pt x="70" y="1148"/>
                            </a:lnTo>
                            <a:lnTo>
                              <a:pt x="92" y="1091"/>
                            </a:lnTo>
                            <a:lnTo>
                              <a:pt x="92" y="1042"/>
                            </a:lnTo>
                            <a:lnTo>
                              <a:pt x="88" y="945"/>
                            </a:lnTo>
                            <a:lnTo>
                              <a:pt x="92" y="856"/>
                            </a:lnTo>
                            <a:lnTo>
                              <a:pt x="110" y="763"/>
                            </a:lnTo>
                            <a:lnTo>
                              <a:pt x="159" y="671"/>
                            </a:lnTo>
                            <a:lnTo>
                              <a:pt x="199" y="583"/>
                            </a:lnTo>
                            <a:lnTo>
                              <a:pt x="190" y="777"/>
                            </a:lnTo>
                            <a:lnTo>
                              <a:pt x="269" y="538"/>
                            </a:lnTo>
                            <a:lnTo>
                              <a:pt x="247" y="746"/>
                            </a:lnTo>
                            <a:lnTo>
                              <a:pt x="243" y="883"/>
                            </a:lnTo>
                            <a:lnTo>
                              <a:pt x="265" y="1077"/>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7" name=""/>
                      <p:cNvSpPr/>
                      <p:nvPr/>
                    </p:nvSpPr>
                    <p:spPr>
                      <a:xfrm>
                        <a:off x="1208160" y="1484280"/>
                        <a:ext cx="292320" cy="101880"/>
                      </a:xfrm>
                      <a:custGeom>
                        <a:avLst/>
                        <a:gdLst/>
                        <a:ahLst/>
                        <a:rect l="0" t="0" r="r" b="b"/>
                        <a:pathLst>
                          <a:path w="812" h="283">
                            <a:moveTo>
                              <a:pt x="812" y="283"/>
                            </a:moveTo>
                            <a:lnTo>
                              <a:pt x="777" y="278"/>
                            </a:lnTo>
                            <a:lnTo>
                              <a:pt x="719" y="265"/>
                            </a:lnTo>
                            <a:lnTo>
                              <a:pt x="680" y="261"/>
                            </a:lnTo>
                            <a:lnTo>
                              <a:pt x="640" y="261"/>
                            </a:lnTo>
                            <a:lnTo>
                              <a:pt x="627" y="203"/>
                            </a:lnTo>
                            <a:lnTo>
                              <a:pt x="596" y="146"/>
                            </a:lnTo>
                            <a:lnTo>
                              <a:pt x="552" y="105"/>
                            </a:lnTo>
                            <a:lnTo>
                              <a:pt x="503" y="74"/>
                            </a:lnTo>
                            <a:lnTo>
                              <a:pt x="459" y="66"/>
                            </a:lnTo>
                            <a:lnTo>
                              <a:pt x="411" y="66"/>
                            </a:lnTo>
                            <a:lnTo>
                              <a:pt x="304" y="83"/>
                            </a:lnTo>
                            <a:lnTo>
                              <a:pt x="211" y="88"/>
                            </a:lnTo>
                            <a:lnTo>
                              <a:pt x="123" y="66"/>
                            </a:lnTo>
                            <a:lnTo>
                              <a:pt x="0" y="0"/>
                            </a:lnTo>
                            <a:lnTo>
                              <a:pt x="158" y="39"/>
                            </a:lnTo>
                            <a:lnTo>
                              <a:pt x="238" y="39"/>
                            </a:lnTo>
                            <a:lnTo>
                              <a:pt x="304" y="26"/>
                            </a:lnTo>
                            <a:lnTo>
                              <a:pt x="357" y="39"/>
                            </a:lnTo>
                            <a:lnTo>
                              <a:pt x="392" y="22"/>
                            </a:lnTo>
                            <a:lnTo>
                              <a:pt x="424" y="17"/>
                            </a:lnTo>
                            <a:lnTo>
                              <a:pt x="468" y="22"/>
                            </a:lnTo>
                            <a:lnTo>
                              <a:pt x="503" y="26"/>
                            </a:lnTo>
                            <a:lnTo>
                              <a:pt x="547" y="39"/>
                            </a:lnTo>
                            <a:lnTo>
                              <a:pt x="583" y="66"/>
                            </a:lnTo>
                            <a:lnTo>
                              <a:pt x="622" y="110"/>
                            </a:lnTo>
                            <a:lnTo>
                              <a:pt x="649" y="146"/>
                            </a:lnTo>
                            <a:lnTo>
                              <a:pt x="680" y="155"/>
                            </a:lnTo>
                            <a:lnTo>
                              <a:pt x="719" y="168"/>
                            </a:lnTo>
                            <a:lnTo>
                              <a:pt x="777" y="203"/>
                            </a:lnTo>
                            <a:lnTo>
                              <a:pt x="799" y="243"/>
                            </a:lnTo>
                            <a:lnTo>
                              <a:pt x="812" y="283"/>
                            </a:lnTo>
                            <a:close/>
                          </a:path>
                        </a:pathLst>
                      </a:custGeom>
                      <a:solidFill>
                        <a:srgbClr val="3f1f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1118" name=""/>
                <p:cNvGrpSpPr/>
                <p:nvPr/>
              </p:nvGrpSpPr>
              <p:grpSpPr>
                <a:xfrm>
                  <a:off x="1138320" y="1733400"/>
                  <a:ext cx="115920" cy="209880"/>
                  <a:chOff x="1138320" y="1733400"/>
                  <a:chExt cx="115920" cy="209880"/>
                </a:xfrm>
              </p:grpSpPr>
              <p:grpSp>
                <p:nvGrpSpPr>
                  <p:cNvPr id="1119" name=""/>
                  <p:cNvGrpSpPr/>
                  <p:nvPr/>
                </p:nvGrpSpPr>
                <p:grpSpPr>
                  <a:xfrm>
                    <a:off x="1138320" y="1733400"/>
                    <a:ext cx="92520" cy="157680"/>
                    <a:chOff x="1138320" y="1733400"/>
                    <a:chExt cx="92520" cy="157680"/>
                  </a:xfrm>
                </p:grpSpPr>
                <p:sp>
                  <p:nvSpPr>
                    <p:cNvPr id="1120" name=""/>
                    <p:cNvSpPr/>
                    <p:nvPr/>
                  </p:nvSpPr>
                  <p:spPr>
                    <a:xfrm>
                      <a:off x="1138320" y="1733400"/>
                      <a:ext cx="92520" cy="157680"/>
                    </a:xfrm>
                    <a:custGeom>
                      <a:avLst/>
                      <a:gdLst/>
                      <a:ahLst/>
                      <a:rect l="0" t="0" r="r" b="b"/>
                      <a:pathLst>
                        <a:path w="257" h="438">
                          <a:moveTo>
                            <a:pt x="235" y="120"/>
                          </a:moveTo>
                          <a:lnTo>
                            <a:pt x="200" y="52"/>
                          </a:lnTo>
                          <a:lnTo>
                            <a:pt x="168" y="26"/>
                          </a:lnTo>
                          <a:lnTo>
                            <a:pt x="128" y="8"/>
                          </a:lnTo>
                          <a:lnTo>
                            <a:pt x="98" y="0"/>
                          </a:lnTo>
                          <a:lnTo>
                            <a:pt x="52" y="17"/>
                          </a:lnTo>
                          <a:lnTo>
                            <a:pt x="22" y="48"/>
                          </a:lnTo>
                          <a:lnTo>
                            <a:pt x="0" y="105"/>
                          </a:lnTo>
                          <a:lnTo>
                            <a:pt x="4" y="168"/>
                          </a:lnTo>
                          <a:lnTo>
                            <a:pt x="22" y="225"/>
                          </a:lnTo>
                          <a:lnTo>
                            <a:pt x="44" y="292"/>
                          </a:lnTo>
                          <a:lnTo>
                            <a:pt x="71" y="345"/>
                          </a:lnTo>
                          <a:lnTo>
                            <a:pt x="111" y="403"/>
                          </a:lnTo>
                          <a:lnTo>
                            <a:pt x="146" y="429"/>
                          </a:lnTo>
                          <a:lnTo>
                            <a:pt x="181" y="438"/>
                          </a:lnTo>
                          <a:lnTo>
                            <a:pt x="222" y="434"/>
                          </a:lnTo>
                          <a:lnTo>
                            <a:pt x="248" y="416"/>
                          </a:lnTo>
                          <a:lnTo>
                            <a:pt x="257" y="381"/>
                          </a:lnTo>
                          <a:lnTo>
                            <a:pt x="244" y="309"/>
                          </a:lnTo>
                          <a:lnTo>
                            <a:pt x="235" y="256"/>
                          </a:lnTo>
                          <a:lnTo>
                            <a:pt x="248" y="190"/>
                          </a:lnTo>
                          <a:lnTo>
                            <a:pt x="235" y="12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1" name=""/>
                    <p:cNvSpPr/>
                    <p:nvPr/>
                  </p:nvSpPr>
                  <p:spPr>
                    <a:xfrm>
                      <a:off x="1154160" y="1749600"/>
                      <a:ext cx="66960" cy="111600"/>
                    </a:xfrm>
                    <a:custGeom>
                      <a:avLst/>
                      <a:gdLst/>
                      <a:ahLst/>
                      <a:rect l="0" t="0" r="r" b="b"/>
                      <a:pathLst>
                        <a:path w="186" h="310">
                          <a:moveTo>
                            <a:pt x="0" y="30"/>
                          </a:moveTo>
                          <a:lnTo>
                            <a:pt x="44" y="22"/>
                          </a:lnTo>
                          <a:lnTo>
                            <a:pt x="79" y="26"/>
                          </a:lnTo>
                          <a:lnTo>
                            <a:pt x="92" y="35"/>
                          </a:lnTo>
                          <a:lnTo>
                            <a:pt x="106" y="61"/>
                          </a:lnTo>
                          <a:lnTo>
                            <a:pt x="106" y="84"/>
                          </a:lnTo>
                          <a:lnTo>
                            <a:pt x="83" y="115"/>
                          </a:lnTo>
                          <a:lnTo>
                            <a:pt x="52" y="124"/>
                          </a:lnTo>
                          <a:lnTo>
                            <a:pt x="30" y="133"/>
                          </a:lnTo>
                          <a:lnTo>
                            <a:pt x="26" y="168"/>
                          </a:lnTo>
                          <a:lnTo>
                            <a:pt x="39" y="199"/>
                          </a:lnTo>
                          <a:lnTo>
                            <a:pt x="61" y="225"/>
                          </a:lnTo>
                          <a:lnTo>
                            <a:pt x="92" y="240"/>
                          </a:lnTo>
                          <a:lnTo>
                            <a:pt x="128" y="248"/>
                          </a:lnTo>
                          <a:lnTo>
                            <a:pt x="150" y="262"/>
                          </a:lnTo>
                          <a:lnTo>
                            <a:pt x="155" y="279"/>
                          </a:lnTo>
                          <a:lnTo>
                            <a:pt x="159" y="310"/>
                          </a:lnTo>
                          <a:lnTo>
                            <a:pt x="177" y="310"/>
                          </a:lnTo>
                          <a:lnTo>
                            <a:pt x="186" y="279"/>
                          </a:lnTo>
                          <a:lnTo>
                            <a:pt x="177" y="253"/>
                          </a:lnTo>
                          <a:lnTo>
                            <a:pt x="164" y="225"/>
                          </a:lnTo>
                          <a:lnTo>
                            <a:pt x="164" y="199"/>
                          </a:lnTo>
                          <a:lnTo>
                            <a:pt x="159" y="168"/>
                          </a:lnTo>
                          <a:lnTo>
                            <a:pt x="142" y="177"/>
                          </a:lnTo>
                          <a:lnTo>
                            <a:pt x="124" y="177"/>
                          </a:lnTo>
                          <a:lnTo>
                            <a:pt x="115" y="164"/>
                          </a:lnTo>
                          <a:lnTo>
                            <a:pt x="133" y="133"/>
                          </a:lnTo>
                          <a:lnTo>
                            <a:pt x="124" y="106"/>
                          </a:lnTo>
                          <a:lnTo>
                            <a:pt x="133" y="80"/>
                          </a:lnTo>
                          <a:lnTo>
                            <a:pt x="124" y="48"/>
                          </a:lnTo>
                          <a:lnTo>
                            <a:pt x="106" y="13"/>
                          </a:lnTo>
                          <a:lnTo>
                            <a:pt x="79" y="0"/>
                          </a:lnTo>
                          <a:lnTo>
                            <a:pt x="44" y="0"/>
                          </a:lnTo>
                          <a:lnTo>
                            <a:pt x="13" y="8"/>
                          </a:lnTo>
                          <a:lnTo>
                            <a:pt x="0" y="3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122" name=""/>
                  <p:cNvGrpSpPr/>
                  <p:nvPr/>
                </p:nvGrpSpPr>
                <p:grpSpPr>
                  <a:xfrm>
                    <a:off x="1174680" y="1846440"/>
                    <a:ext cx="79560" cy="96840"/>
                    <a:chOff x="1174680" y="1846440"/>
                    <a:chExt cx="79560" cy="96840"/>
                  </a:xfrm>
                </p:grpSpPr>
                <p:grpSp>
                  <p:nvGrpSpPr>
                    <p:cNvPr id="1123" name=""/>
                    <p:cNvGrpSpPr/>
                    <p:nvPr/>
                  </p:nvGrpSpPr>
                  <p:grpSpPr>
                    <a:xfrm>
                      <a:off x="1174680" y="1846440"/>
                      <a:ext cx="79560" cy="75960"/>
                      <a:chOff x="1174680" y="1846440"/>
                      <a:chExt cx="79560" cy="75960"/>
                    </a:xfrm>
                  </p:grpSpPr>
                  <p:sp>
                    <p:nvSpPr>
                      <p:cNvPr id="1124" name=""/>
                      <p:cNvSpPr/>
                      <p:nvPr/>
                    </p:nvSpPr>
                    <p:spPr>
                      <a:xfrm>
                        <a:off x="1174680" y="1847880"/>
                        <a:ext cx="71280" cy="74520"/>
                      </a:xfrm>
                      <a:prstGeom prst="ellipse">
                        <a:avLst/>
                      </a:prstGeom>
                      <a:solidFill>
                        <a:srgbClr val="9f3f0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1125" name=""/>
                      <p:cNvSpPr/>
                      <p:nvPr/>
                    </p:nvSpPr>
                    <p:spPr>
                      <a:xfrm>
                        <a:off x="1177920" y="1846440"/>
                        <a:ext cx="76320" cy="71280"/>
                      </a:xfrm>
                      <a:prstGeom prst="ellipse">
                        <a:avLst/>
                      </a:prstGeom>
                      <a:solidFill>
                        <a:srgbClr val="ffff9f"/>
                      </a:solidFill>
                      <a:ln w="0">
                        <a:noFill/>
                      </a:ln>
                    </p:spPr>
                    <p:txBody>
                      <a:bodyPr lIns="90000" rIns="90000" tIns="26280" bIns="26280" anchor="t">
                        <a:noAutofit/>
                      </a:bodyPr>
                      <a:p>
                        <a:endParaRPr b="0" lang="en-US" sz="1800" spc="-1" strike="noStrike">
                          <a:solidFill>
                            <a:srgbClr val="000000"/>
                          </a:solidFill>
                          <a:latin typeface="Arial"/>
                        </a:endParaRPr>
                      </a:p>
                    </p:txBody>
                  </p:sp>
                </p:grpSp>
                <p:grpSp>
                  <p:nvGrpSpPr>
                    <p:cNvPr id="1126" name=""/>
                    <p:cNvGrpSpPr/>
                    <p:nvPr/>
                  </p:nvGrpSpPr>
                  <p:grpSpPr>
                    <a:xfrm>
                      <a:off x="1177920" y="1847880"/>
                      <a:ext cx="71280" cy="95400"/>
                      <a:chOff x="1177920" y="1847880"/>
                      <a:chExt cx="71280" cy="95400"/>
                    </a:xfrm>
                  </p:grpSpPr>
                  <p:sp>
                    <p:nvSpPr>
                      <p:cNvPr id="1127" name=""/>
                      <p:cNvSpPr/>
                      <p:nvPr/>
                    </p:nvSpPr>
                    <p:spPr>
                      <a:xfrm>
                        <a:off x="1177920" y="1847880"/>
                        <a:ext cx="71280" cy="73080"/>
                      </a:xfrm>
                      <a:prstGeom prst="ellipse">
                        <a:avLst/>
                      </a:prstGeom>
                      <a:solidFill>
                        <a:srgbClr val="ff9f0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1128" name=""/>
                      <p:cNvSpPr/>
                      <p:nvPr/>
                    </p:nvSpPr>
                    <p:spPr>
                      <a:xfrm>
                        <a:off x="1203480" y="1887480"/>
                        <a:ext cx="20160" cy="55800"/>
                      </a:xfrm>
                      <a:custGeom>
                        <a:avLst/>
                        <a:gdLst/>
                        <a:ahLst/>
                        <a:rect l="0" t="0" r="r" b="b"/>
                        <a:pathLst>
                          <a:path w="56" h="155">
                            <a:moveTo>
                              <a:pt x="56" y="77"/>
                            </a:moveTo>
                            <a:lnTo>
                              <a:pt x="51" y="0"/>
                            </a:lnTo>
                            <a:lnTo>
                              <a:pt x="51" y="0"/>
                            </a:lnTo>
                            <a:cubicBezTo>
                              <a:pt x="43" y="1"/>
                              <a:pt x="36" y="5"/>
                              <a:pt x="29" y="10"/>
                            </a:cubicBezTo>
                            <a:cubicBezTo>
                              <a:pt x="20" y="17"/>
                              <a:pt x="13" y="27"/>
                              <a:pt x="8" y="38"/>
                            </a:cubicBezTo>
                            <a:cubicBezTo>
                              <a:pt x="3" y="50"/>
                              <a:pt x="0" y="64"/>
                              <a:pt x="0" y="77"/>
                            </a:cubicBezTo>
                            <a:cubicBezTo>
                              <a:pt x="0" y="91"/>
                              <a:pt x="3" y="105"/>
                              <a:pt x="8" y="116"/>
                            </a:cubicBezTo>
                            <a:cubicBezTo>
                              <a:pt x="13" y="128"/>
                              <a:pt x="20" y="138"/>
                              <a:pt x="29" y="145"/>
                            </a:cubicBezTo>
                            <a:cubicBezTo>
                              <a:pt x="36" y="150"/>
                              <a:pt x="44" y="154"/>
                              <a:pt x="52" y="155"/>
                            </a:cubicBezTo>
                            <a:lnTo>
                              <a:pt x="56" y="77"/>
                            </a:lnTo>
                            <a:close/>
                          </a:path>
                        </a:pathLst>
                      </a:custGeom>
                      <a:solidFill>
                        <a:srgbClr val="ffbf1f"/>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129" name=""/>
                      <p:cNvSpPr/>
                      <p:nvPr/>
                    </p:nvSpPr>
                    <p:spPr>
                      <a:xfrm>
                        <a:off x="1225440" y="1887840"/>
                        <a:ext cx="12960" cy="49320"/>
                      </a:xfrm>
                      <a:custGeom>
                        <a:avLst/>
                        <a:gdLst/>
                        <a:ahLst/>
                        <a:rect l="0" t="0" r="r" b="b"/>
                        <a:pathLst>
                          <a:path w="36" h="137">
                            <a:moveTo>
                              <a:pt x="36" y="68"/>
                            </a:moveTo>
                            <a:lnTo>
                              <a:pt x="31" y="0"/>
                            </a:lnTo>
                            <a:lnTo>
                              <a:pt x="31" y="0"/>
                            </a:lnTo>
                            <a:cubicBezTo>
                              <a:pt x="26" y="1"/>
                              <a:pt x="22" y="4"/>
                              <a:pt x="18" y="9"/>
                            </a:cubicBezTo>
                            <a:cubicBezTo>
                              <a:pt x="12" y="15"/>
                              <a:pt x="8" y="23"/>
                              <a:pt x="5" y="34"/>
                            </a:cubicBezTo>
                            <a:cubicBezTo>
                              <a:pt x="1" y="44"/>
                              <a:pt x="0" y="56"/>
                              <a:pt x="0" y="68"/>
                            </a:cubicBezTo>
                            <a:cubicBezTo>
                              <a:pt x="0" y="80"/>
                              <a:pt x="1" y="92"/>
                              <a:pt x="5" y="103"/>
                            </a:cubicBezTo>
                            <a:cubicBezTo>
                              <a:pt x="8" y="113"/>
                              <a:pt x="12" y="122"/>
                              <a:pt x="18" y="128"/>
                            </a:cubicBezTo>
                            <a:cubicBezTo>
                              <a:pt x="22" y="133"/>
                              <a:pt x="27" y="136"/>
                              <a:pt x="32" y="137"/>
                            </a:cubicBezTo>
                            <a:lnTo>
                              <a:pt x="36" y="68"/>
                            </a:lnTo>
                            <a:close/>
                          </a:path>
                        </a:pathLst>
                      </a:custGeom>
                      <a:solidFill>
                        <a:srgbClr val="bf7f1f"/>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1130" name=""/>
                      <p:cNvSpPr/>
                      <p:nvPr/>
                    </p:nvSpPr>
                    <p:spPr>
                      <a:xfrm>
                        <a:off x="1216080" y="1855800"/>
                        <a:ext cx="25560" cy="31680"/>
                      </a:xfrm>
                      <a:prstGeom prst="ellipse">
                        <a:avLst/>
                      </a:prstGeom>
                      <a:solidFill>
                        <a:srgbClr val="ffff9f"/>
                      </a:solidFill>
                      <a:ln w="0">
                        <a:noFill/>
                      </a:ln>
                    </p:spPr>
                    <p:txBody>
                      <a:bodyPr lIns="90000" rIns="90000" tIns="-13320" bIns="-13320" anchor="t">
                        <a:noAutofit/>
                      </a:bodyPr>
                      <a:p>
                        <a:endParaRPr b="0" lang="en-US" sz="1800" spc="-1" strike="noStrike">
                          <a:solidFill>
                            <a:srgbClr val="000000"/>
                          </a:solidFill>
                          <a:latin typeface="Arial"/>
                        </a:endParaRPr>
                      </a:p>
                    </p:txBody>
                  </p:sp>
                </p:grpSp>
              </p:grpSp>
            </p:grpSp>
          </p:grpSp>
          <p:grpSp>
            <p:nvGrpSpPr>
              <p:cNvPr id="1131" name=""/>
              <p:cNvGrpSpPr/>
              <p:nvPr/>
            </p:nvGrpSpPr>
            <p:grpSpPr>
              <a:xfrm>
                <a:off x="720720" y="1935000"/>
                <a:ext cx="1497240" cy="1806840"/>
                <a:chOff x="720720" y="1935000"/>
                <a:chExt cx="1497240" cy="1806840"/>
              </a:xfrm>
            </p:grpSpPr>
            <p:grpSp>
              <p:nvGrpSpPr>
                <p:cNvPr id="1132" name=""/>
                <p:cNvGrpSpPr/>
                <p:nvPr/>
              </p:nvGrpSpPr>
              <p:grpSpPr>
                <a:xfrm>
                  <a:off x="720720" y="2178000"/>
                  <a:ext cx="1394280" cy="1563840"/>
                  <a:chOff x="720720" y="2178000"/>
                  <a:chExt cx="1394280" cy="1563840"/>
                </a:xfrm>
              </p:grpSpPr>
              <p:grpSp>
                <p:nvGrpSpPr>
                  <p:cNvPr id="1133" name=""/>
                  <p:cNvGrpSpPr/>
                  <p:nvPr/>
                </p:nvGrpSpPr>
                <p:grpSpPr>
                  <a:xfrm>
                    <a:off x="739800" y="2682720"/>
                    <a:ext cx="1375200" cy="1059120"/>
                    <a:chOff x="739800" y="2682720"/>
                    <a:chExt cx="1375200" cy="1059120"/>
                  </a:xfrm>
                </p:grpSpPr>
                <p:grpSp>
                  <p:nvGrpSpPr>
                    <p:cNvPr id="1134" name=""/>
                    <p:cNvGrpSpPr/>
                    <p:nvPr/>
                  </p:nvGrpSpPr>
                  <p:grpSpPr>
                    <a:xfrm>
                      <a:off x="1627200" y="2682720"/>
                      <a:ext cx="487800" cy="476640"/>
                      <a:chOff x="1627200" y="2682720"/>
                      <a:chExt cx="487800" cy="476640"/>
                    </a:xfrm>
                  </p:grpSpPr>
                  <p:sp>
                    <p:nvSpPr>
                      <p:cNvPr id="1135" name=""/>
                      <p:cNvSpPr/>
                      <p:nvPr/>
                    </p:nvSpPr>
                    <p:spPr>
                      <a:xfrm>
                        <a:off x="1627200" y="2682720"/>
                        <a:ext cx="487800" cy="476640"/>
                      </a:xfrm>
                      <a:custGeom>
                        <a:avLst/>
                        <a:gdLst/>
                        <a:ahLst/>
                        <a:rect l="0" t="0" r="r" b="b"/>
                        <a:pathLst>
                          <a:path w="1355" h="1324">
                            <a:moveTo>
                              <a:pt x="1091" y="79"/>
                            </a:moveTo>
                            <a:lnTo>
                              <a:pt x="935" y="273"/>
                            </a:lnTo>
                            <a:lnTo>
                              <a:pt x="878" y="340"/>
                            </a:lnTo>
                            <a:lnTo>
                              <a:pt x="785" y="415"/>
                            </a:lnTo>
                            <a:lnTo>
                              <a:pt x="746" y="441"/>
                            </a:lnTo>
                            <a:lnTo>
                              <a:pt x="688" y="446"/>
                            </a:lnTo>
                            <a:lnTo>
                              <a:pt x="688" y="57"/>
                            </a:lnTo>
                            <a:lnTo>
                              <a:pt x="0" y="389"/>
                            </a:lnTo>
                            <a:lnTo>
                              <a:pt x="299" y="1197"/>
                            </a:lnTo>
                            <a:lnTo>
                              <a:pt x="543" y="1324"/>
                            </a:lnTo>
                            <a:lnTo>
                              <a:pt x="631" y="1214"/>
                            </a:lnTo>
                            <a:lnTo>
                              <a:pt x="746" y="1095"/>
                            </a:lnTo>
                            <a:lnTo>
                              <a:pt x="856" y="1011"/>
                            </a:lnTo>
                            <a:lnTo>
                              <a:pt x="953" y="874"/>
                            </a:lnTo>
                            <a:lnTo>
                              <a:pt x="1038" y="728"/>
                            </a:lnTo>
                            <a:lnTo>
                              <a:pt x="1104" y="565"/>
                            </a:lnTo>
                            <a:lnTo>
                              <a:pt x="1205" y="415"/>
                            </a:lnTo>
                            <a:lnTo>
                              <a:pt x="1258" y="340"/>
                            </a:lnTo>
                            <a:lnTo>
                              <a:pt x="1289" y="282"/>
                            </a:lnTo>
                            <a:lnTo>
                              <a:pt x="1355" y="0"/>
                            </a:lnTo>
                            <a:lnTo>
                              <a:pt x="1091" y="7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6" name=""/>
                      <p:cNvSpPr/>
                      <p:nvPr/>
                    </p:nvSpPr>
                    <p:spPr>
                      <a:xfrm>
                        <a:off x="1782720" y="2832120"/>
                        <a:ext cx="111600" cy="189360"/>
                      </a:xfrm>
                      <a:custGeom>
                        <a:avLst/>
                        <a:gdLst/>
                        <a:ahLst/>
                        <a:rect l="0" t="0" r="r" b="b"/>
                        <a:pathLst>
                          <a:path w="310" h="526">
                            <a:moveTo>
                              <a:pt x="275" y="0"/>
                            </a:moveTo>
                            <a:lnTo>
                              <a:pt x="310" y="35"/>
                            </a:lnTo>
                            <a:lnTo>
                              <a:pt x="240" y="133"/>
                            </a:lnTo>
                            <a:lnTo>
                              <a:pt x="164" y="234"/>
                            </a:lnTo>
                            <a:lnTo>
                              <a:pt x="106" y="322"/>
                            </a:lnTo>
                            <a:lnTo>
                              <a:pt x="52" y="416"/>
                            </a:lnTo>
                            <a:lnTo>
                              <a:pt x="0" y="526"/>
                            </a:lnTo>
                            <a:lnTo>
                              <a:pt x="13" y="438"/>
                            </a:lnTo>
                            <a:lnTo>
                              <a:pt x="61" y="331"/>
                            </a:lnTo>
                            <a:lnTo>
                              <a:pt x="133" y="199"/>
                            </a:lnTo>
                            <a:lnTo>
                              <a:pt x="217" y="79"/>
                            </a:lnTo>
                            <a:lnTo>
                              <a:pt x="275" y="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137" name=""/>
                    <p:cNvGrpSpPr/>
                    <p:nvPr/>
                  </p:nvGrpSpPr>
                  <p:grpSpPr>
                    <a:xfrm>
                      <a:off x="739800" y="2814480"/>
                      <a:ext cx="371880" cy="927360"/>
                      <a:chOff x="739800" y="2814480"/>
                      <a:chExt cx="371880" cy="927360"/>
                    </a:xfrm>
                  </p:grpSpPr>
                  <p:sp>
                    <p:nvSpPr>
                      <p:cNvPr id="1138" name=""/>
                      <p:cNvSpPr/>
                      <p:nvPr/>
                    </p:nvSpPr>
                    <p:spPr>
                      <a:xfrm>
                        <a:off x="739800" y="2814480"/>
                        <a:ext cx="371880" cy="927360"/>
                      </a:xfrm>
                      <a:custGeom>
                        <a:avLst/>
                        <a:gdLst/>
                        <a:ahLst/>
                        <a:rect l="0" t="0" r="r" b="b"/>
                        <a:pathLst>
                          <a:path w="1033" h="2576">
                            <a:moveTo>
                              <a:pt x="455" y="366"/>
                            </a:moveTo>
                            <a:lnTo>
                              <a:pt x="446" y="427"/>
                            </a:lnTo>
                            <a:lnTo>
                              <a:pt x="468" y="507"/>
                            </a:lnTo>
                            <a:lnTo>
                              <a:pt x="490" y="674"/>
                            </a:lnTo>
                            <a:lnTo>
                              <a:pt x="512" y="780"/>
                            </a:lnTo>
                            <a:lnTo>
                              <a:pt x="530" y="868"/>
                            </a:lnTo>
                            <a:lnTo>
                              <a:pt x="556" y="970"/>
                            </a:lnTo>
                            <a:lnTo>
                              <a:pt x="587" y="1075"/>
                            </a:lnTo>
                            <a:lnTo>
                              <a:pt x="627" y="1159"/>
                            </a:lnTo>
                            <a:lnTo>
                              <a:pt x="671" y="1239"/>
                            </a:lnTo>
                            <a:lnTo>
                              <a:pt x="697" y="1319"/>
                            </a:lnTo>
                            <a:lnTo>
                              <a:pt x="710" y="1394"/>
                            </a:lnTo>
                            <a:lnTo>
                              <a:pt x="741" y="1491"/>
                            </a:lnTo>
                            <a:lnTo>
                              <a:pt x="786" y="1592"/>
                            </a:lnTo>
                            <a:lnTo>
                              <a:pt x="822" y="1685"/>
                            </a:lnTo>
                            <a:lnTo>
                              <a:pt x="848" y="1738"/>
                            </a:lnTo>
                            <a:lnTo>
                              <a:pt x="897" y="1800"/>
                            </a:lnTo>
                            <a:lnTo>
                              <a:pt x="1033" y="1919"/>
                            </a:lnTo>
                            <a:lnTo>
                              <a:pt x="1033" y="2576"/>
                            </a:lnTo>
                            <a:lnTo>
                              <a:pt x="972" y="2527"/>
                            </a:lnTo>
                            <a:lnTo>
                              <a:pt x="923" y="2448"/>
                            </a:lnTo>
                            <a:lnTo>
                              <a:pt x="883" y="2364"/>
                            </a:lnTo>
                            <a:lnTo>
                              <a:pt x="844" y="2307"/>
                            </a:lnTo>
                            <a:lnTo>
                              <a:pt x="813" y="2280"/>
                            </a:lnTo>
                            <a:lnTo>
                              <a:pt x="786" y="2241"/>
                            </a:lnTo>
                            <a:lnTo>
                              <a:pt x="750" y="2201"/>
                            </a:lnTo>
                            <a:lnTo>
                              <a:pt x="719" y="2188"/>
                            </a:lnTo>
                            <a:lnTo>
                              <a:pt x="702" y="2161"/>
                            </a:lnTo>
                            <a:lnTo>
                              <a:pt x="693" y="2122"/>
                            </a:lnTo>
                            <a:lnTo>
                              <a:pt x="671" y="2077"/>
                            </a:lnTo>
                            <a:lnTo>
                              <a:pt x="635" y="2007"/>
                            </a:lnTo>
                            <a:lnTo>
                              <a:pt x="587" y="1906"/>
                            </a:lnTo>
                            <a:lnTo>
                              <a:pt x="503" y="1769"/>
                            </a:lnTo>
                            <a:lnTo>
                              <a:pt x="419" y="1641"/>
                            </a:lnTo>
                            <a:lnTo>
                              <a:pt x="300" y="1491"/>
                            </a:lnTo>
                            <a:lnTo>
                              <a:pt x="211" y="1372"/>
                            </a:lnTo>
                            <a:lnTo>
                              <a:pt x="119" y="1234"/>
                            </a:lnTo>
                            <a:lnTo>
                              <a:pt x="83" y="1186"/>
                            </a:lnTo>
                            <a:lnTo>
                              <a:pt x="70" y="1155"/>
                            </a:lnTo>
                            <a:lnTo>
                              <a:pt x="61" y="1089"/>
                            </a:lnTo>
                            <a:lnTo>
                              <a:pt x="48" y="917"/>
                            </a:lnTo>
                            <a:lnTo>
                              <a:pt x="30" y="771"/>
                            </a:lnTo>
                            <a:lnTo>
                              <a:pt x="8" y="608"/>
                            </a:lnTo>
                            <a:lnTo>
                              <a:pt x="0" y="396"/>
                            </a:lnTo>
                            <a:lnTo>
                              <a:pt x="0" y="264"/>
                            </a:lnTo>
                            <a:lnTo>
                              <a:pt x="13" y="0"/>
                            </a:lnTo>
                            <a:lnTo>
                              <a:pt x="455" y="36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9" name=""/>
                      <p:cNvSpPr/>
                      <p:nvPr/>
                    </p:nvSpPr>
                    <p:spPr>
                      <a:xfrm>
                        <a:off x="849240" y="3068640"/>
                        <a:ext cx="160560" cy="294120"/>
                      </a:xfrm>
                      <a:custGeom>
                        <a:avLst/>
                        <a:gdLst/>
                        <a:ahLst/>
                        <a:rect l="0" t="0" r="r" b="b"/>
                        <a:pathLst>
                          <a:path w="446" h="817">
                            <a:moveTo>
                              <a:pt x="446" y="817"/>
                            </a:moveTo>
                            <a:lnTo>
                              <a:pt x="384" y="786"/>
                            </a:lnTo>
                            <a:lnTo>
                              <a:pt x="318" y="734"/>
                            </a:lnTo>
                            <a:lnTo>
                              <a:pt x="274" y="676"/>
                            </a:lnTo>
                            <a:lnTo>
                              <a:pt x="243" y="605"/>
                            </a:lnTo>
                            <a:lnTo>
                              <a:pt x="225" y="543"/>
                            </a:lnTo>
                            <a:lnTo>
                              <a:pt x="225" y="468"/>
                            </a:lnTo>
                            <a:lnTo>
                              <a:pt x="216" y="380"/>
                            </a:lnTo>
                            <a:lnTo>
                              <a:pt x="207" y="318"/>
                            </a:lnTo>
                            <a:lnTo>
                              <a:pt x="185" y="283"/>
                            </a:lnTo>
                            <a:lnTo>
                              <a:pt x="158" y="256"/>
                            </a:lnTo>
                            <a:lnTo>
                              <a:pt x="145" y="202"/>
                            </a:lnTo>
                            <a:lnTo>
                              <a:pt x="123" y="158"/>
                            </a:lnTo>
                            <a:lnTo>
                              <a:pt x="92" y="119"/>
                            </a:lnTo>
                            <a:lnTo>
                              <a:pt x="52" y="92"/>
                            </a:lnTo>
                            <a:lnTo>
                              <a:pt x="13" y="83"/>
                            </a:lnTo>
                            <a:lnTo>
                              <a:pt x="17" y="48"/>
                            </a:lnTo>
                            <a:lnTo>
                              <a:pt x="0" y="0"/>
                            </a:lnTo>
                            <a:lnTo>
                              <a:pt x="35" y="22"/>
                            </a:lnTo>
                            <a:lnTo>
                              <a:pt x="70" y="39"/>
                            </a:lnTo>
                            <a:lnTo>
                              <a:pt x="123" y="44"/>
                            </a:lnTo>
                            <a:lnTo>
                              <a:pt x="163" y="26"/>
                            </a:lnTo>
                            <a:lnTo>
                              <a:pt x="194" y="0"/>
                            </a:lnTo>
                            <a:lnTo>
                              <a:pt x="216" y="119"/>
                            </a:lnTo>
                            <a:lnTo>
                              <a:pt x="243" y="212"/>
                            </a:lnTo>
                            <a:lnTo>
                              <a:pt x="265" y="309"/>
                            </a:lnTo>
                            <a:lnTo>
                              <a:pt x="283" y="371"/>
                            </a:lnTo>
                            <a:lnTo>
                              <a:pt x="318" y="437"/>
                            </a:lnTo>
                            <a:lnTo>
                              <a:pt x="349" y="494"/>
                            </a:lnTo>
                            <a:lnTo>
                              <a:pt x="375" y="565"/>
                            </a:lnTo>
                            <a:lnTo>
                              <a:pt x="406" y="650"/>
                            </a:lnTo>
                            <a:lnTo>
                              <a:pt x="424" y="738"/>
                            </a:lnTo>
                            <a:lnTo>
                              <a:pt x="446" y="817"/>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1140" name=""/>
                  <p:cNvGrpSpPr/>
                  <p:nvPr/>
                </p:nvGrpSpPr>
                <p:grpSpPr>
                  <a:xfrm>
                    <a:off x="720720" y="2178000"/>
                    <a:ext cx="1173600" cy="1329120"/>
                    <a:chOff x="720720" y="2178000"/>
                    <a:chExt cx="1173600" cy="1329120"/>
                  </a:xfrm>
                </p:grpSpPr>
                <p:sp>
                  <p:nvSpPr>
                    <p:cNvPr id="1141" name=""/>
                    <p:cNvSpPr/>
                    <p:nvPr/>
                  </p:nvSpPr>
                  <p:spPr>
                    <a:xfrm>
                      <a:off x="720720" y="2178000"/>
                      <a:ext cx="1173600" cy="1329120"/>
                    </a:xfrm>
                    <a:custGeom>
                      <a:avLst/>
                      <a:gdLst/>
                      <a:ahLst/>
                      <a:rect l="0" t="0" r="r" b="b"/>
                      <a:pathLst>
                        <a:path w="3260" h="3692">
                          <a:moveTo>
                            <a:pt x="3238" y="1844"/>
                          </a:moveTo>
                          <a:lnTo>
                            <a:pt x="3168" y="1659"/>
                          </a:lnTo>
                          <a:lnTo>
                            <a:pt x="2780" y="418"/>
                          </a:lnTo>
                          <a:lnTo>
                            <a:pt x="2426" y="167"/>
                          </a:lnTo>
                          <a:lnTo>
                            <a:pt x="2316" y="141"/>
                          </a:lnTo>
                          <a:lnTo>
                            <a:pt x="2223" y="127"/>
                          </a:lnTo>
                          <a:lnTo>
                            <a:pt x="2148" y="105"/>
                          </a:lnTo>
                          <a:lnTo>
                            <a:pt x="2060" y="79"/>
                          </a:lnTo>
                          <a:lnTo>
                            <a:pt x="1994" y="44"/>
                          </a:lnTo>
                          <a:lnTo>
                            <a:pt x="1928" y="22"/>
                          </a:lnTo>
                          <a:lnTo>
                            <a:pt x="1861" y="8"/>
                          </a:lnTo>
                          <a:lnTo>
                            <a:pt x="1831" y="8"/>
                          </a:lnTo>
                          <a:lnTo>
                            <a:pt x="1848" y="35"/>
                          </a:lnTo>
                          <a:lnTo>
                            <a:pt x="1835" y="61"/>
                          </a:lnTo>
                          <a:lnTo>
                            <a:pt x="1804" y="79"/>
                          </a:lnTo>
                          <a:lnTo>
                            <a:pt x="1738" y="110"/>
                          </a:lnTo>
                          <a:lnTo>
                            <a:pt x="1628" y="141"/>
                          </a:lnTo>
                          <a:lnTo>
                            <a:pt x="1535" y="158"/>
                          </a:lnTo>
                          <a:lnTo>
                            <a:pt x="1442" y="176"/>
                          </a:lnTo>
                          <a:lnTo>
                            <a:pt x="1328" y="180"/>
                          </a:lnTo>
                          <a:lnTo>
                            <a:pt x="1218" y="180"/>
                          </a:lnTo>
                          <a:lnTo>
                            <a:pt x="1134" y="176"/>
                          </a:lnTo>
                          <a:lnTo>
                            <a:pt x="1041" y="163"/>
                          </a:lnTo>
                          <a:lnTo>
                            <a:pt x="966" y="145"/>
                          </a:lnTo>
                          <a:lnTo>
                            <a:pt x="918" y="127"/>
                          </a:lnTo>
                          <a:lnTo>
                            <a:pt x="874" y="105"/>
                          </a:lnTo>
                          <a:lnTo>
                            <a:pt x="838" y="79"/>
                          </a:lnTo>
                          <a:lnTo>
                            <a:pt x="816" y="48"/>
                          </a:lnTo>
                          <a:lnTo>
                            <a:pt x="811" y="30"/>
                          </a:lnTo>
                          <a:lnTo>
                            <a:pt x="838" y="0"/>
                          </a:lnTo>
                          <a:lnTo>
                            <a:pt x="793" y="8"/>
                          </a:lnTo>
                          <a:lnTo>
                            <a:pt x="740" y="22"/>
                          </a:lnTo>
                          <a:lnTo>
                            <a:pt x="674" y="48"/>
                          </a:lnTo>
                          <a:lnTo>
                            <a:pt x="621" y="83"/>
                          </a:lnTo>
                          <a:lnTo>
                            <a:pt x="568" y="127"/>
                          </a:lnTo>
                          <a:lnTo>
                            <a:pt x="520" y="163"/>
                          </a:lnTo>
                          <a:lnTo>
                            <a:pt x="476" y="198"/>
                          </a:lnTo>
                          <a:lnTo>
                            <a:pt x="423" y="216"/>
                          </a:lnTo>
                          <a:lnTo>
                            <a:pt x="361" y="238"/>
                          </a:lnTo>
                          <a:lnTo>
                            <a:pt x="308" y="255"/>
                          </a:lnTo>
                          <a:lnTo>
                            <a:pt x="251" y="273"/>
                          </a:lnTo>
                          <a:lnTo>
                            <a:pt x="185" y="299"/>
                          </a:lnTo>
                          <a:lnTo>
                            <a:pt x="127" y="326"/>
                          </a:lnTo>
                          <a:lnTo>
                            <a:pt x="79" y="370"/>
                          </a:lnTo>
                          <a:lnTo>
                            <a:pt x="57" y="405"/>
                          </a:lnTo>
                          <a:lnTo>
                            <a:pt x="39" y="463"/>
                          </a:lnTo>
                          <a:lnTo>
                            <a:pt x="35" y="542"/>
                          </a:lnTo>
                          <a:lnTo>
                            <a:pt x="26" y="639"/>
                          </a:lnTo>
                          <a:lnTo>
                            <a:pt x="26" y="833"/>
                          </a:lnTo>
                          <a:lnTo>
                            <a:pt x="26" y="1222"/>
                          </a:lnTo>
                          <a:lnTo>
                            <a:pt x="0" y="1659"/>
                          </a:lnTo>
                          <a:lnTo>
                            <a:pt x="35" y="1817"/>
                          </a:lnTo>
                          <a:lnTo>
                            <a:pt x="48" y="2016"/>
                          </a:lnTo>
                          <a:lnTo>
                            <a:pt x="39" y="2148"/>
                          </a:lnTo>
                          <a:lnTo>
                            <a:pt x="26" y="2223"/>
                          </a:lnTo>
                          <a:lnTo>
                            <a:pt x="61" y="2227"/>
                          </a:lnTo>
                          <a:lnTo>
                            <a:pt x="101" y="2236"/>
                          </a:lnTo>
                          <a:lnTo>
                            <a:pt x="136" y="2249"/>
                          </a:lnTo>
                          <a:lnTo>
                            <a:pt x="207" y="2245"/>
                          </a:lnTo>
                          <a:lnTo>
                            <a:pt x="282" y="2249"/>
                          </a:lnTo>
                          <a:lnTo>
                            <a:pt x="348" y="2258"/>
                          </a:lnTo>
                          <a:lnTo>
                            <a:pt x="436" y="2280"/>
                          </a:lnTo>
                          <a:lnTo>
                            <a:pt x="564" y="2316"/>
                          </a:lnTo>
                          <a:lnTo>
                            <a:pt x="582" y="2452"/>
                          </a:lnTo>
                          <a:lnTo>
                            <a:pt x="608" y="2585"/>
                          </a:lnTo>
                          <a:lnTo>
                            <a:pt x="630" y="2668"/>
                          </a:lnTo>
                          <a:lnTo>
                            <a:pt x="670" y="2788"/>
                          </a:lnTo>
                          <a:lnTo>
                            <a:pt x="745" y="2881"/>
                          </a:lnTo>
                          <a:lnTo>
                            <a:pt x="771" y="2921"/>
                          </a:lnTo>
                          <a:lnTo>
                            <a:pt x="789" y="2969"/>
                          </a:lnTo>
                          <a:lnTo>
                            <a:pt x="793" y="3022"/>
                          </a:lnTo>
                          <a:lnTo>
                            <a:pt x="789" y="3062"/>
                          </a:lnTo>
                          <a:lnTo>
                            <a:pt x="825" y="3088"/>
                          </a:lnTo>
                          <a:lnTo>
                            <a:pt x="869" y="3137"/>
                          </a:lnTo>
                          <a:lnTo>
                            <a:pt x="913" y="3194"/>
                          </a:lnTo>
                          <a:lnTo>
                            <a:pt x="944" y="3269"/>
                          </a:lnTo>
                          <a:lnTo>
                            <a:pt x="966" y="3622"/>
                          </a:lnTo>
                          <a:lnTo>
                            <a:pt x="1134" y="3653"/>
                          </a:lnTo>
                          <a:lnTo>
                            <a:pt x="1363" y="3675"/>
                          </a:lnTo>
                          <a:lnTo>
                            <a:pt x="1588" y="3688"/>
                          </a:lnTo>
                          <a:lnTo>
                            <a:pt x="1870" y="3692"/>
                          </a:lnTo>
                          <a:lnTo>
                            <a:pt x="2152" y="3675"/>
                          </a:lnTo>
                          <a:lnTo>
                            <a:pt x="2417" y="3631"/>
                          </a:lnTo>
                          <a:lnTo>
                            <a:pt x="2625" y="3582"/>
                          </a:lnTo>
                          <a:lnTo>
                            <a:pt x="2881" y="3512"/>
                          </a:lnTo>
                          <a:lnTo>
                            <a:pt x="3084" y="3410"/>
                          </a:lnTo>
                          <a:lnTo>
                            <a:pt x="3260" y="3309"/>
                          </a:lnTo>
                          <a:lnTo>
                            <a:pt x="3251" y="3238"/>
                          </a:lnTo>
                          <a:lnTo>
                            <a:pt x="3234" y="3168"/>
                          </a:lnTo>
                          <a:lnTo>
                            <a:pt x="3199" y="3088"/>
                          </a:lnTo>
                          <a:lnTo>
                            <a:pt x="3137" y="3005"/>
                          </a:lnTo>
                          <a:lnTo>
                            <a:pt x="3084" y="2921"/>
                          </a:lnTo>
                          <a:lnTo>
                            <a:pt x="3005" y="2833"/>
                          </a:lnTo>
                          <a:lnTo>
                            <a:pt x="2982" y="2810"/>
                          </a:lnTo>
                          <a:lnTo>
                            <a:pt x="3018" y="2802"/>
                          </a:lnTo>
                          <a:lnTo>
                            <a:pt x="3053" y="2780"/>
                          </a:lnTo>
                          <a:lnTo>
                            <a:pt x="3062" y="2730"/>
                          </a:lnTo>
                          <a:lnTo>
                            <a:pt x="3040" y="2646"/>
                          </a:lnTo>
                          <a:lnTo>
                            <a:pt x="2982" y="2558"/>
                          </a:lnTo>
                          <a:lnTo>
                            <a:pt x="2841" y="2395"/>
                          </a:lnTo>
                          <a:lnTo>
                            <a:pt x="2810" y="2298"/>
                          </a:lnTo>
                          <a:lnTo>
                            <a:pt x="2788" y="2232"/>
                          </a:lnTo>
                          <a:lnTo>
                            <a:pt x="2784" y="2174"/>
                          </a:lnTo>
                          <a:lnTo>
                            <a:pt x="2806" y="2108"/>
                          </a:lnTo>
                          <a:lnTo>
                            <a:pt x="2833" y="2055"/>
                          </a:lnTo>
                          <a:lnTo>
                            <a:pt x="2912" y="2020"/>
                          </a:lnTo>
                          <a:lnTo>
                            <a:pt x="3027" y="1967"/>
                          </a:lnTo>
                          <a:lnTo>
                            <a:pt x="3141" y="1919"/>
                          </a:lnTo>
                          <a:lnTo>
                            <a:pt x="3238" y="1844"/>
                          </a:lnTo>
                          <a:close/>
                        </a:path>
                      </a:pathLst>
                    </a:custGeom>
                    <a:solidFill>
                      <a:srgbClr val="ef0c07"/>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42" name=""/>
                    <p:cNvGrpSpPr/>
                    <p:nvPr/>
                  </p:nvGrpSpPr>
                  <p:grpSpPr>
                    <a:xfrm>
                      <a:off x="720720" y="2203560"/>
                      <a:ext cx="1102320" cy="1281600"/>
                      <a:chOff x="720720" y="2203560"/>
                      <a:chExt cx="1102320" cy="1281600"/>
                    </a:xfrm>
                  </p:grpSpPr>
                  <p:sp>
                    <p:nvSpPr>
                      <p:cNvPr id="1143" name=""/>
                      <p:cNvSpPr/>
                      <p:nvPr/>
                    </p:nvSpPr>
                    <p:spPr>
                      <a:xfrm>
                        <a:off x="720720" y="2359080"/>
                        <a:ext cx="392400" cy="873360"/>
                      </a:xfrm>
                      <a:custGeom>
                        <a:avLst/>
                        <a:gdLst/>
                        <a:ahLst/>
                        <a:rect l="0" t="0" r="r" b="b"/>
                        <a:pathLst>
                          <a:path w="1090" h="2426">
                            <a:moveTo>
                              <a:pt x="35" y="26"/>
                            </a:moveTo>
                            <a:lnTo>
                              <a:pt x="92" y="13"/>
                            </a:lnTo>
                            <a:lnTo>
                              <a:pt x="158" y="0"/>
                            </a:lnTo>
                            <a:lnTo>
                              <a:pt x="229" y="0"/>
                            </a:lnTo>
                            <a:lnTo>
                              <a:pt x="295" y="22"/>
                            </a:lnTo>
                            <a:lnTo>
                              <a:pt x="361" y="74"/>
                            </a:lnTo>
                            <a:lnTo>
                              <a:pt x="423" y="145"/>
                            </a:lnTo>
                            <a:lnTo>
                              <a:pt x="480" y="229"/>
                            </a:lnTo>
                            <a:lnTo>
                              <a:pt x="533" y="330"/>
                            </a:lnTo>
                            <a:lnTo>
                              <a:pt x="583" y="423"/>
                            </a:lnTo>
                            <a:lnTo>
                              <a:pt x="644" y="537"/>
                            </a:lnTo>
                            <a:lnTo>
                              <a:pt x="706" y="643"/>
                            </a:lnTo>
                            <a:lnTo>
                              <a:pt x="799" y="762"/>
                            </a:lnTo>
                            <a:lnTo>
                              <a:pt x="900" y="859"/>
                            </a:lnTo>
                            <a:lnTo>
                              <a:pt x="975" y="934"/>
                            </a:lnTo>
                            <a:lnTo>
                              <a:pt x="1032" y="996"/>
                            </a:lnTo>
                            <a:lnTo>
                              <a:pt x="1072" y="1058"/>
                            </a:lnTo>
                            <a:lnTo>
                              <a:pt x="1090" y="1115"/>
                            </a:lnTo>
                            <a:lnTo>
                              <a:pt x="1076" y="1177"/>
                            </a:lnTo>
                            <a:lnTo>
                              <a:pt x="1046" y="1240"/>
                            </a:lnTo>
                            <a:lnTo>
                              <a:pt x="1015" y="1301"/>
                            </a:lnTo>
                            <a:lnTo>
                              <a:pt x="997" y="1447"/>
                            </a:lnTo>
                            <a:lnTo>
                              <a:pt x="993" y="1513"/>
                            </a:lnTo>
                            <a:lnTo>
                              <a:pt x="984" y="1610"/>
                            </a:lnTo>
                            <a:lnTo>
                              <a:pt x="953" y="1707"/>
                            </a:lnTo>
                            <a:lnTo>
                              <a:pt x="918" y="1813"/>
                            </a:lnTo>
                            <a:lnTo>
                              <a:pt x="869" y="1888"/>
                            </a:lnTo>
                            <a:lnTo>
                              <a:pt x="825" y="1976"/>
                            </a:lnTo>
                            <a:lnTo>
                              <a:pt x="794" y="2077"/>
                            </a:lnTo>
                            <a:lnTo>
                              <a:pt x="772" y="2166"/>
                            </a:lnTo>
                            <a:lnTo>
                              <a:pt x="763" y="2236"/>
                            </a:lnTo>
                            <a:lnTo>
                              <a:pt x="755" y="2320"/>
                            </a:lnTo>
                            <a:lnTo>
                              <a:pt x="768" y="2377"/>
                            </a:lnTo>
                            <a:lnTo>
                              <a:pt x="781" y="2426"/>
                            </a:lnTo>
                            <a:lnTo>
                              <a:pt x="750" y="2391"/>
                            </a:lnTo>
                            <a:lnTo>
                              <a:pt x="706" y="2333"/>
                            </a:lnTo>
                            <a:lnTo>
                              <a:pt x="671" y="2280"/>
                            </a:lnTo>
                            <a:lnTo>
                              <a:pt x="644" y="2214"/>
                            </a:lnTo>
                            <a:lnTo>
                              <a:pt x="618" y="2113"/>
                            </a:lnTo>
                            <a:lnTo>
                              <a:pt x="596" y="2038"/>
                            </a:lnTo>
                            <a:lnTo>
                              <a:pt x="578" y="1963"/>
                            </a:lnTo>
                            <a:lnTo>
                              <a:pt x="569" y="1879"/>
                            </a:lnTo>
                            <a:lnTo>
                              <a:pt x="565" y="1813"/>
                            </a:lnTo>
                            <a:lnTo>
                              <a:pt x="515" y="1795"/>
                            </a:lnTo>
                            <a:lnTo>
                              <a:pt x="449" y="1782"/>
                            </a:lnTo>
                            <a:lnTo>
                              <a:pt x="370" y="1769"/>
                            </a:lnTo>
                            <a:lnTo>
                              <a:pt x="304" y="1751"/>
                            </a:lnTo>
                            <a:lnTo>
                              <a:pt x="238" y="1742"/>
                            </a:lnTo>
                            <a:lnTo>
                              <a:pt x="189" y="1742"/>
                            </a:lnTo>
                            <a:lnTo>
                              <a:pt x="163" y="1694"/>
                            </a:lnTo>
                            <a:lnTo>
                              <a:pt x="136" y="1623"/>
                            </a:lnTo>
                            <a:lnTo>
                              <a:pt x="123" y="1531"/>
                            </a:lnTo>
                            <a:lnTo>
                              <a:pt x="114" y="1416"/>
                            </a:lnTo>
                            <a:lnTo>
                              <a:pt x="105" y="1315"/>
                            </a:lnTo>
                            <a:lnTo>
                              <a:pt x="79" y="1226"/>
                            </a:lnTo>
                            <a:lnTo>
                              <a:pt x="57" y="1155"/>
                            </a:lnTo>
                            <a:lnTo>
                              <a:pt x="0" y="1084"/>
                            </a:lnTo>
                            <a:lnTo>
                              <a:pt x="26" y="912"/>
                            </a:lnTo>
                            <a:lnTo>
                              <a:pt x="26" y="718"/>
                            </a:lnTo>
                            <a:lnTo>
                              <a:pt x="26" y="520"/>
                            </a:lnTo>
                            <a:lnTo>
                              <a:pt x="26" y="339"/>
                            </a:lnTo>
                            <a:lnTo>
                              <a:pt x="26" y="167"/>
                            </a:lnTo>
                            <a:lnTo>
                              <a:pt x="35" y="26"/>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44" name=""/>
                      <p:cNvSpPr/>
                      <p:nvPr/>
                    </p:nvSpPr>
                    <p:spPr>
                      <a:xfrm>
                        <a:off x="1459080" y="2243160"/>
                        <a:ext cx="268560" cy="346320"/>
                      </a:xfrm>
                      <a:custGeom>
                        <a:avLst/>
                        <a:gdLst/>
                        <a:ahLst/>
                        <a:rect l="0" t="0" r="r" b="b"/>
                        <a:pathLst>
                          <a:path w="746" h="962">
                            <a:moveTo>
                              <a:pt x="547" y="229"/>
                            </a:moveTo>
                            <a:lnTo>
                              <a:pt x="402" y="127"/>
                            </a:lnTo>
                            <a:lnTo>
                              <a:pt x="321" y="97"/>
                            </a:lnTo>
                            <a:lnTo>
                              <a:pt x="251" y="70"/>
                            </a:lnTo>
                            <a:lnTo>
                              <a:pt x="189" y="44"/>
                            </a:lnTo>
                            <a:lnTo>
                              <a:pt x="123" y="22"/>
                            </a:lnTo>
                            <a:lnTo>
                              <a:pt x="0" y="0"/>
                            </a:lnTo>
                            <a:lnTo>
                              <a:pt x="39" y="52"/>
                            </a:lnTo>
                            <a:lnTo>
                              <a:pt x="97" y="119"/>
                            </a:lnTo>
                            <a:lnTo>
                              <a:pt x="114" y="189"/>
                            </a:lnTo>
                            <a:lnTo>
                              <a:pt x="127" y="268"/>
                            </a:lnTo>
                            <a:lnTo>
                              <a:pt x="123" y="370"/>
                            </a:lnTo>
                            <a:lnTo>
                              <a:pt x="145" y="454"/>
                            </a:lnTo>
                            <a:lnTo>
                              <a:pt x="176" y="525"/>
                            </a:lnTo>
                            <a:lnTo>
                              <a:pt x="216" y="578"/>
                            </a:lnTo>
                            <a:lnTo>
                              <a:pt x="251" y="622"/>
                            </a:lnTo>
                            <a:lnTo>
                              <a:pt x="291" y="649"/>
                            </a:lnTo>
                            <a:lnTo>
                              <a:pt x="348" y="693"/>
                            </a:lnTo>
                            <a:lnTo>
                              <a:pt x="746" y="962"/>
                            </a:lnTo>
                            <a:lnTo>
                              <a:pt x="547" y="229"/>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45" name=""/>
                      <p:cNvSpPr/>
                      <p:nvPr/>
                    </p:nvSpPr>
                    <p:spPr>
                      <a:xfrm>
                        <a:off x="1230480" y="3160800"/>
                        <a:ext cx="351360" cy="111600"/>
                      </a:xfrm>
                      <a:custGeom>
                        <a:avLst/>
                        <a:gdLst/>
                        <a:ahLst/>
                        <a:rect l="0" t="0" r="r" b="b"/>
                        <a:pathLst>
                          <a:path w="976" h="310">
                            <a:moveTo>
                              <a:pt x="976" y="225"/>
                            </a:moveTo>
                            <a:lnTo>
                              <a:pt x="950" y="262"/>
                            </a:lnTo>
                            <a:lnTo>
                              <a:pt x="905" y="288"/>
                            </a:lnTo>
                            <a:lnTo>
                              <a:pt x="853" y="301"/>
                            </a:lnTo>
                            <a:lnTo>
                              <a:pt x="800" y="310"/>
                            </a:lnTo>
                            <a:lnTo>
                              <a:pt x="751" y="301"/>
                            </a:lnTo>
                            <a:lnTo>
                              <a:pt x="715" y="275"/>
                            </a:lnTo>
                            <a:lnTo>
                              <a:pt x="640" y="262"/>
                            </a:lnTo>
                            <a:lnTo>
                              <a:pt x="538" y="240"/>
                            </a:lnTo>
                            <a:lnTo>
                              <a:pt x="389" y="221"/>
                            </a:lnTo>
                            <a:lnTo>
                              <a:pt x="283" y="195"/>
                            </a:lnTo>
                            <a:lnTo>
                              <a:pt x="198" y="177"/>
                            </a:lnTo>
                            <a:lnTo>
                              <a:pt x="136" y="155"/>
                            </a:lnTo>
                            <a:lnTo>
                              <a:pt x="83" y="124"/>
                            </a:lnTo>
                            <a:lnTo>
                              <a:pt x="39" y="93"/>
                            </a:lnTo>
                            <a:lnTo>
                              <a:pt x="4" y="35"/>
                            </a:lnTo>
                            <a:lnTo>
                              <a:pt x="0" y="8"/>
                            </a:lnTo>
                            <a:lnTo>
                              <a:pt x="35" y="0"/>
                            </a:lnTo>
                            <a:lnTo>
                              <a:pt x="61" y="8"/>
                            </a:lnTo>
                            <a:lnTo>
                              <a:pt x="97" y="35"/>
                            </a:lnTo>
                            <a:lnTo>
                              <a:pt x="145" y="70"/>
                            </a:lnTo>
                            <a:lnTo>
                              <a:pt x="189" y="80"/>
                            </a:lnTo>
                            <a:lnTo>
                              <a:pt x="247" y="74"/>
                            </a:lnTo>
                            <a:lnTo>
                              <a:pt x="309" y="61"/>
                            </a:lnTo>
                            <a:lnTo>
                              <a:pt x="362" y="61"/>
                            </a:lnTo>
                            <a:lnTo>
                              <a:pt x="428" y="74"/>
                            </a:lnTo>
                            <a:lnTo>
                              <a:pt x="464" y="102"/>
                            </a:lnTo>
                            <a:lnTo>
                              <a:pt x="516" y="133"/>
                            </a:lnTo>
                            <a:lnTo>
                              <a:pt x="583" y="164"/>
                            </a:lnTo>
                            <a:lnTo>
                              <a:pt x="658" y="172"/>
                            </a:lnTo>
                            <a:lnTo>
                              <a:pt x="764" y="181"/>
                            </a:lnTo>
                            <a:lnTo>
                              <a:pt x="839" y="177"/>
                            </a:lnTo>
                            <a:lnTo>
                              <a:pt x="883" y="203"/>
                            </a:lnTo>
                            <a:lnTo>
                              <a:pt x="932" y="221"/>
                            </a:lnTo>
                            <a:lnTo>
                              <a:pt x="976" y="225"/>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46" name=""/>
                      <p:cNvSpPr/>
                      <p:nvPr/>
                    </p:nvSpPr>
                    <p:spPr>
                      <a:xfrm>
                        <a:off x="1192320" y="2700360"/>
                        <a:ext cx="630720" cy="503640"/>
                      </a:xfrm>
                      <a:custGeom>
                        <a:avLst/>
                        <a:gdLst/>
                        <a:ahLst/>
                        <a:rect l="0" t="0" r="r" b="b"/>
                        <a:pathLst>
                          <a:path w="1752" h="1399">
                            <a:moveTo>
                              <a:pt x="1187" y="0"/>
                            </a:moveTo>
                            <a:lnTo>
                              <a:pt x="1173" y="57"/>
                            </a:lnTo>
                            <a:lnTo>
                              <a:pt x="1160" y="132"/>
                            </a:lnTo>
                            <a:lnTo>
                              <a:pt x="1156" y="220"/>
                            </a:lnTo>
                            <a:lnTo>
                              <a:pt x="1165" y="313"/>
                            </a:lnTo>
                            <a:lnTo>
                              <a:pt x="1187" y="402"/>
                            </a:lnTo>
                            <a:lnTo>
                              <a:pt x="1235" y="534"/>
                            </a:lnTo>
                            <a:lnTo>
                              <a:pt x="1279" y="640"/>
                            </a:lnTo>
                            <a:lnTo>
                              <a:pt x="1316" y="728"/>
                            </a:lnTo>
                            <a:lnTo>
                              <a:pt x="1333" y="807"/>
                            </a:lnTo>
                            <a:lnTo>
                              <a:pt x="1351" y="882"/>
                            </a:lnTo>
                            <a:lnTo>
                              <a:pt x="1351" y="944"/>
                            </a:lnTo>
                            <a:lnTo>
                              <a:pt x="1338" y="993"/>
                            </a:lnTo>
                            <a:lnTo>
                              <a:pt x="1316" y="1037"/>
                            </a:lnTo>
                            <a:lnTo>
                              <a:pt x="1284" y="1015"/>
                            </a:lnTo>
                            <a:lnTo>
                              <a:pt x="1257" y="1002"/>
                            </a:lnTo>
                            <a:lnTo>
                              <a:pt x="1240" y="953"/>
                            </a:lnTo>
                            <a:lnTo>
                              <a:pt x="1213" y="904"/>
                            </a:lnTo>
                            <a:lnTo>
                              <a:pt x="1187" y="865"/>
                            </a:lnTo>
                            <a:lnTo>
                              <a:pt x="1138" y="812"/>
                            </a:lnTo>
                            <a:lnTo>
                              <a:pt x="1107" y="772"/>
                            </a:lnTo>
                            <a:lnTo>
                              <a:pt x="1090" y="715"/>
                            </a:lnTo>
                            <a:lnTo>
                              <a:pt x="1085" y="662"/>
                            </a:lnTo>
                            <a:lnTo>
                              <a:pt x="1090" y="600"/>
                            </a:lnTo>
                            <a:lnTo>
                              <a:pt x="1076" y="569"/>
                            </a:lnTo>
                            <a:lnTo>
                              <a:pt x="1046" y="600"/>
                            </a:lnTo>
                            <a:lnTo>
                              <a:pt x="1019" y="649"/>
                            </a:lnTo>
                            <a:lnTo>
                              <a:pt x="1002" y="706"/>
                            </a:lnTo>
                            <a:lnTo>
                              <a:pt x="993" y="772"/>
                            </a:lnTo>
                            <a:lnTo>
                              <a:pt x="1002" y="847"/>
                            </a:lnTo>
                            <a:lnTo>
                              <a:pt x="1019" y="940"/>
                            </a:lnTo>
                            <a:lnTo>
                              <a:pt x="1037" y="993"/>
                            </a:lnTo>
                            <a:lnTo>
                              <a:pt x="1037" y="1037"/>
                            </a:lnTo>
                            <a:lnTo>
                              <a:pt x="1019" y="1073"/>
                            </a:lnTo>
                            <a:lnTo>
                              <a:pt x="984" y="1091"/>
                            </a:lnTo>
                            <a:lnTo>
                              <a:pt x="931" y="1100"/>
                            </a:lnTo>
                            <a:lnTo>
                              <a:pt x="882" y="1086"/>
                            </a:lnTo>
                            <a:lnTo>
                              <a:pt x="856" y="1060"/>
                            </a:lnTo>
                            <a:lnTo>
                              <a:pt x="772" y="975"/>
                            </a:lnTo>
                            <a:lnTo>
                              <a:pt x="724" y="913"/>
                            </a:lnTo>
                            <a:lnTo>
                              <a:pt x="684" y="852"/>
                            </a:lnTo>
                            <a:lnTo>
                              <a:pt x="627" y="781"/>
                            </a:lnTo>
                            <a:lnTo>
                              <a:pt x="552" y="688"/>
                            </a:lnTo>
                            <a:lnTo>
                              <a:pt x="472" y="591"/>
                            </a:lnTo>
                            <a:lnTo>
                              <a:pt x="401" y="508"/>
                            </a:lnTo>
                            <a:lnTo>
                              <a:pt x="321" y="437"/>
                            </a:lnTo>
                            <a:lnTo>
                              <a:pt x="277" y="415"/>
                            </a:lnTo>
                            <a:lnTo>
                              <a:pt x="229" y="397"/>
                            </a:lnTo>
                            <a:lnTo>
                              <a:pt x="176" y="389"/>
                            </a:lnTo>
                            <a:lnTo>
                              <a:pt x="97" y="393"/>
                            </a:lnTo>
                            <a:lnTo>
                              <a:pt x="44" y="402"/>
                            </a:lnTo>
                            <a:lnTo>
                              <a:pt x="0" y="415"/>
                            </a:lnTo>
                            <a:lnTo>
                              <a:pt x="405" y="1108"/>
                            </a:lnTo>
                            <a:lnTo>
                              <a:pt x="966" y="1399"/>
                            </a:lnTo>
                            <a:lnTo>
                              <a:pt x="1085" y="1360"/>
                            </a:lnTo>
                            <a:lnTo>
                              <a:pt x="1187" y="1333"/>
                            </a:lnTo>
                            <a:lnTo>
                              <a:pt x="1279" y="1302"/>
                            </a:lnTo>
                            <a:lnTo>
                              <a:pt x="1373" y="1280"/>
                            </a:lnTo>
                            <a:lnTo>
                              <a:pt x="1479" y="1254"/>
                            </a:lnTo>
                            <a:lnTo>
                              <a:pt x="1554" y="1245"/>
                            </a:lnTo>
                            <a:lnTo>
                              <a:pt x="1629" y="1263"/>
                            </a:lnTo>
                            <a:lnTo>
                              <a:pt x="1677" y="1280"/>
                            </a:lnTo>
                            <a:lnTo>
                              <a:pt x="1721" y="1316"/>
                            </a:lnTo>
                            <a:lnTo>
                              <a:pt x="1743" y="1333"/>
                            </a:lnTo>
                            <a:lnTo>
                              <a:pt x="1748" y="1307"/>
                            </a:lnTo>
                            <a:lnTo>
                              <a:pt x="1752" y="1276"/>
                            </a:lnTo>
                            <a:lnTo>
                              <a:pt x="1752" y="1236"/>
                            </a:lnTo>
                            <a:lnTo>
                              <a:pt x="1730" y="1192"/>
                            </a:lnTo>
                            <a:lnTo>
                              <a:pt x="1699" y="1139"/>
                            </a:lnTo>
                            <a:lnTo>
                              <a:pt x="1655" y="1086"/>
                            </a:lnTo>
                            <a:lnTo>
                              <a:pt x="1620" y="1037"/>
                            </a:lnTo>
                            <a:lnTo>
                              <a:pt x="1576" y="988"/>
                            </a:lnTo>
                            <a:lnTo>
                              <a:pt x="1532" y="940"/>
                            </a:lnTo>
                            <a:lnTo>
                              <a:pt x="1501" y="882"/>
                            </a:lnTo>
                            <a:lnTo>
                              <a:pt x="1470" y="834"/>
                            </a:lnTo>
                            <a:lnTo>
                              <a:pt x="1430" y="772"/>
                            </a:lnTo>
                            <a:lnTo>
                              <a:pt x="1386" y="715"/>
                            </a:lnTo>
                            <a:lnTo>
                              <a:pt x="1346" y="658"/>
                            </a:lnTo>
                            <a:lnTo>
                              <a:pt x="1306" y="587"/>
                            </a:lnTo>
                            <a:lnTo>
                              <a:pt x="1279" y="512"/>
                            </a:lnTo>
                            <a:lnTo>
                              <a:pt x="1253" y="441"/>
                            </a:lnTo>
                            <a:lnTo>
                              <a:pt x="1226" y="367"/>
                            </a:lnTo>
                            <a:lnTo>
                              <a:pt x="1213" y="291"/>
                            </a:lnTo>
                            <a:lnTo>
                              <a:pt x="1209" y="216"/>
                            </a:lnTo>
                            <a:lnTo>
                              <a:pt x="1209" y="145"/>
                            </a:lnTo>
                            <a:lnTo>
                              <a:pt x="1187" y="0"/>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47" name=""/>
                      <p:cNvSpPr/>
                      <p:nvPr/>
                    </p:nvSpPr>
                    <p:spPr>
                      <a:xfrm>
                        <a:off x="1154160" y="2838600"/>
                        <a:ext cx="475200" cy="403560"/>
                      </a:xfrm>
                      <a:custGeom>
                        <a:avLst/>
                        <a:gdLst/>
                        <a:ahLst/>
                        <a:rect l="0" t="0" r="r" b="b"/>
                        <a:pathLst>
                          <a:path w="1320" h="1121">
                            <a:moveTo>
                              <a:pt x="1126" y="1116"/>
                            </a:moveTo>
                            <a:lnTo>
                              <a:pt x="1183" y="1121"/>
                            </a:lnTo>
                            <a:lnTo>
                              <a:pt x="1236" y="1116"/>
                            </a:lnTo>
                            <a:lnTo>
                              <a:pt x="1280" y="1107"/>
                            </a:lnTo>
                            <a:lnTo>
                              <a:pt x="1311" y="1076"/>
                            </a:lnTo>
                            <a:lnTo>
                              <a:pt x="1320" y="1041"/>
                            </a:lnTo>
                            <a:lnTo>
                              <a:pt x="1316" y="997"/>
                            </a:lnTo>
                            <a:lnTo>
                              <a:pt x="1294" y="949"/>
                            </a:lnTo>
                            <a:lnTo>
                              <a:pt x="1258" y="922"/>
                            </a:lnTo>
                            <a:lnTo>
                              <a:pt x="1197" y="904"/>
                            </a:lnTo>
                            <a:lnTo>
                              <a:pt x="1135" y="909"/>
                            </a:lnTo>
                            <a:lnTo>
                              <a:pt x="1064" y="896"/>
                            </a:lnTo>
                            <a:lnTo>
                              <a:pt x="1011" y="860"/>
                            </a:lnTo>
                            <a:lnTo>
                              <a:pt x="966" y="812"/>
                            </a:lnTo>
                            <a:lnTo>
                              <a:pt x="891" y="772"/>
                            </a:lnTo>
                            <a:lnTo>
                              <a:pt x="830" y="728"/>
                            </a:lnTo>
                            <a:lnTo>
                              <a:pt x="763" y="702"/>
                            </a:lnTo>
                            <a:lnTo>
                              <a:pt x="697" y="680"/>
                            </a:lnTo>
                            <a:lnTo>
                              <a:pt x="622" y="640"/>
                            </a:lnTo>
                            <a:lnTo>
                              <a:pt x="569" y="605"/>
                            </a:lnTo>
                            <a:lnTo>
                              <a:pt x="521" y="533"/>
                            </a:lnTo>
                            <a:lnTo>
                              <a:pt x="472" y="463"/>
                            </a:lnTo>
                            <a:lnTo>
                              <a:pt x="411" y="361"/>
                            </a:lnTo>
                            <a:lnTo>
                              <a:pt x="340" y="264"/>
                            </a:lnTo>
                            <a:lnTo>
                              <a:pt x="277" y="180"/>
                            </a:lnTo>
                            <a:lnTo>
                              <a:pt x="216" y="123"/>
                            </a:lnTo>
                            <a:lnTo>
                              <a:pt x="163" y="74"/>
                            </a:lnTo>
                            <a:lnTo>
                              <a:pt x="105" y="26"/>
                            </a:lnTo>
                            <a:lnTo>
                              <a:pt x="52" y="4"/>
                            </a:lnTo>
                            <a:lnTo>
                              <a:pt x="0" y="0"/>
                            </a:lnTo>
                            <a:lnTo>
                              <a:pt x="35" y="35"/>
                            </a:lnTo>
                            <a:lnTo>
                              <a:pt x="57" y="79"/>
                            </a:lnTo>
                            <a:lnTo>
                              <a:pt x="79" y="158"/>
                            </a:lnTo>
                            <a:lnTo>
                              <a:pt x="88" y="229"/>
                            </a:lnTo>
                            <a:lnTo>
                              <a:pt x="92" y="299"/>
                            </a:lnTo>
                            <a:lnTo>
                              <a:pt x="79" y="370"/>
                            </a:lnTo>
                            <a:lnTo>
                              <a:pt x="57" y="440"/>
                            </a:lnTo>
                            <a:lnTo>
                              <a:pt x="30" y="515"/>
                            </a:lnTo>
                            <a:lnTo>
                              <a:pt x="52" y="555"/>
                            </a:lnTo>
                            <a:lnTo>
                              <a:pt x="79" y="587"/>
                            </a:lnTo>
                            <a:lnTo>
                              <a:pt x="123" y="627"/>
                            </a:lnTo>
                            <a:lnTo>
                              <a:pt x="180" y="653"/>
                            </a:lnTo>
                            <a:lnTo>
                              <a:pt x="246" y="666"/>
                            </a:lnTo>
                            <a:lnTo>
                              <a:pt x="308" y="666"/>
                            </a:lnTo>
                            <a:lnTo>
                              <a:pt x="362" y="662"/>
                            </a:lnTo>
                            <a:lnTo>
                              <a:pt x="380" y="688"/>
                            </a:lnTo>
                            <a:lnTo>
                              <a:pt x="384" y="724"/>
                            </a:lnTo>
                            <a:lnTo>
                              <a:pt x="362" y="759"/>
                            </a:lnTo>
                            <a:lnTo>
                              <a:pt x="349" y="807"/>
                            </a:lnTo>
                            <a:lnTo>
                              <a:pt x="349" y="852"/>
                            </a:lnTo>
                            <a:lnTo>
                              <a:pt x="375" y="896"/>
                            </a:lnTo>
                            <a:lnTo>
                              <a:pt x="411" y="918"/>
                            </a:lnTo>
                            <a:lnTo>
                              <a:pt x="450" y="904"/>
                            </a:lnTo>
                            <a:lnTo>
                              <a:pt x="494" y="918"/>
                            </a:lnTo>
                            <a:lnTo>
                              <a:pt x="534" y="944"/>
                            </a:lnTo>
                            <a:lnTo>
                              <a:pt x="596" y="971"/>
                            </a:lnTo>
                            <a:lnTo>
                              <a:pt x="666" y="988"/>
                            </a:lnTo>
                            <a:lnTo>
                              <a:pt x="750" y="1002"/>
                            </a:lnTo>
                            <a:lnTo>
                              <a:pt x="816" y="1010"/>
                            </a:lnTo>
                            <a:lnTo>
                              <a:pt x="878" y="1002"/>
                            </a:lnTo>
                            <a:lnTo>
                              <a:pt x="962" y="1015"/>
                            </a:lnTo>
                            <a:lnTo>
                              <a:pt x="998" y="1041"/>
                            </a:lnTo>
                            <a:lnTo>
                              <a:pt x="1069" y="1085"/>
                            </a:lnTo>
                            <a:lnTo>
                              <a:pt x="1126" y="1116"/>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48" name=""/>
                      <p:cNvSpPr/>
                      <p:nvPr/>
                    </p:nvSpPr>
                    <p:spPr>
                      <a:xfrm>
                        <a:off x="1668600" y="3137040"/>
                        <a:ext cx="143280" cy="52920"/>
                      </a:xfrm>
                      <a:custGeom>
                        <a:avLst/>
                        <a:gdLst/>
                        <a:ahLst/>
                        <a:rect l="0" t="0" r="r" b="b"/>
                        <a:pathLst>
                          <a:path w="398" h="147">
                            <a:moveTo>
                              <a:pt x="398" y="93"/>
                            </a:moveTo>
                            <a:lnTo>
                              <a:pt x="385" y="49"/>
                            </a:lnTo>
                            <a:lnTo>
                              <a:pt x="359" y="22"/>
                            </a:lnTo>
                            <a:lnTo>
                              <a:pt x="319" y="4"/>
                            </a:lnTo>
                            <a:lnTo>
                              <a:pt x="274" y="0"/>
                            </a:lnTo>
                            <a:lnTo>
                              <a:pt x="221" y="13"/>
                            </a:lnTo>
                            <a:lnTo>
                              <a:pt x="146" y="30"/>
                            </a:lnTo>
                            <a:lnTo>
                              <a:pt x="83" y="49"/>
                            </a:lnTo>
                            <a:lnTo>
                              <a:pt x="0" y="71"/>
                            </a:lnTo>
                            <a:lnTo>
                              <a:pt x="102" y="89"/>
                            </a:lnTo>
                            <a:lnTo>
                              <a:pt x="159" y="112"/>
                            </a:lnTo>
                            <a:lnTo>
                              <a:pt x="221" y="129"/>
                            </a:lnTo>
                            <a:lnTo>
                              <a:pt x="261" y="143"/>
                            </a:lnTo>
                            <a:lnTo>
                              <a:pt x="319" y="147"/>
                            </a:lnTo>
                            <a:lnTo>
                              <a:pt x="354" y="143"/>
                            </a:lnTo>
                            <a:lnTo>
                              <a:pt x="385" y="121"/>
                            </a:lnTo>
                            <a:lnTo>
                              <a:pt x="398" y="93"/>
                            </a:lnTo>
                            <a:close/>
                          </a:path>
                        </a:pathLst>
                      </a:custGeom>
                      <a:solidFill>
                        <a:srgbClr val="990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1149" name=""/>
                      <p:cNvSpPr/>
                      <p:nvPr/>
                    </p:nvSpPr>
                    <p:spPr>
                      <a:xfrm>
                        <a:off x="1492200" y="2703600"/>
                        <a:ext cx="179640" cy="370080"/>
                      </a:xfrm>
                      <a:custGeom>
                        <a:avLst/>
                        <a:gdLst/>
                        <a:ahLst/>
                        <a:rect l="0" t="0" r="r" b="b"/>
                        <a:pathLst>
                          <a:path w="499" h="1028">
                            <a:moveTo>
                              <a:pt x="283" y="0"/>
                            </a:moveTo>
                            <a:lnTo>
                              <a:pt x="296" y="141"/>
                            </a:lnTo>
                            <a:lnTo>
                              <a:pt x="309" y="291"/>
                            </a:lnTo>
                            <a:lnTo>
                              <a:pt x="344" y="427"/>
                            </a:lnTo>
                            <a:lnTo>
                              <a:pt x="375" y="502"/>
                            </a:lnTo>
                            <a:lnTo>
                              <a:pt x="402" y="578"/>
                            </a:lnTo>
                            <a:lnTo>
                              <a:pt x="433" y="644"/>
                            </a:lnTo>
                            <a:lnTo>
                              <a:pt x="455" y="702"/>
                            </a:lnTo>
                            <a:lnTo>
                              <a:pt x="490" y="799"/>
                            </a:lnTo>
                            <a:lnTo>
                              <a:pt x="499" y="865"/>
                            </a:lnTo>
                            <a:lnTo>
                              <a:pt x="499" y="944"/>
                            </a:lnTo>
                            <a:lnTo>
                              <a:pt x="494" y="988"/>
                            </a:lnTo>
                            <a:lnTo>
                              <a:pt x="481" y="1028"/>
                            </a:lnTo>
                            <a:lnTo>
                              <a:pt x="455" y="1010"/>
                            </a:lnTo>
                            <a:lnTo>
                              <a:pt x="433" y="993"/>
                            </a:lnTo>
                            <a:lnTo>
                              <a:pt x="402" y="1028"/>
                            </a:lnTo>
                            <a:lnTo>
                              <a:pt x="419" y="988"/>
                            </a:lnTo>
                            <a:lnTo>
                              <a:pt x="415" y="953"/>
                            </a:lnTo>
                            <a:lnTo>
                              <a:pt x="393" y="904"/>
                            </a:lnTo>
                            <a:lnTo>
                              <a:pt x="367" y="865"/>
                            </a:lnTo>
                            <a:lnTo>
                              <a:pt x="327" y="821"/>
                            </a:lnTo>
                            <a:lnTo>
                              <a:pt x="296" y="794"/>
                            </a:lnTo>
                            <a:lnTo>
                              <a:pt x="274" y="763"/>
                            </a:lnTo>
                            <a:lnTo>
                              <a:pt x="256" y="706"/>
                            </a:lnTo>
                            <a:lnTo>
                              <a:pt x="246" y="640"/>
                            </a:lnTo>
                            <a:lnTo>
                              <a:pt x="252" y="591"/>
                            </a:lnTo>
                            <a:lnTo>
                              <a:pt x="229" y="547"/>
                            </a:lnTo>
                            <a:lnTo>
                              <a:pt x="185" y="521"/>
                            </a:lnTo>
                            <a:lnTo>
                              <a:pt x="136" y="498"/>
                            </a:lnTo>
                            <a:lnTo>
                              <a:pt x="101" y="485"/>
                            </a:lnTo>
                            <a:lnTo>
                              <a:pt x="57" y="476"/>
                            </a:lnTo>
                            <a:lnTo>
                              <a:pt x="22" y="454"/>
                            </a:lnTo>
                            <a:lnTo>
                              <a:pt x="0" y="436"/>
                            </a:lnTo>
                            <a:lnTo>
                              <a:pt x="35" y="432"/>
                            </a:lnTo>
                            <a:lnTo>
                              <a:pt x="74" y="427"/>
                            </a:lnTo>
                            <a:lnTo>
                              <a:pt x="110" y="414"/>
                            </a:lnTo>
                            <a:lnTo>
                              <a:pt x="149" y="392"/>
                            </a:lnTo>
                            <a:lnTo>
                              <a:pt x="180" y="374"/>
                            </a:lnTo>
                            <a:lnTo>
                              <a:pt x="202" y="313"/>
                            </a:lnTo>
                            <a:lnTo>
                              <a:pt x="211" y="220"/>
                            </a:lnTo>
                            <a:lnTo>
                              <a:pt x="229" y="119"/>
                            </a:lnTo>
                            <a:lnTo>
                              <a:pt x="283" y="0"/>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50" name=""/>
                      <p:cNvSpPr/>
                      <p:nvPr/>
                    </p:nvSpPr>
                    <p:spPr>
                      <a:xfrm>
                        <a:off x="1714680" y="2832120"/>
                        <a:ext cx="38520" cy="206640"/>
                      </a:xfrm>
                      <a:custGeom>
                        <a:avLst/>
                        <a:gdLst/>
                        <a:ahLst/>
                        <a:rect l="0" t="0" r="r" b="b"/>
                        <a:pathLst>
                          <a:path w="107" h="574">
                            <a:moveTo>
                              <a:pt x="45" y="362"/>
                            </a:moveTo>
                            <a:lnTo>
                              <a:pt x="31" y="419"/>
                            </a:lnTo>
                            <a:lnTo>
                              <a:pt x="49" y="468"/>
                            </a:lnTo>
                            <a:lnTo>
                              <a:pt x="62" y="512"/>
                            </a:lnTo>
                            <a:lnTo>
                              <a:pt x="81" y="574"/>
                            </a:lnTo>
                            <a:lnTo>
                              <a:pt x="53" y="534"/>
                            </a:lnTo>
                            <a:lnTo>
                              <a:pt x="26" y="486"/>
                            </a:lnTo>
                            <a:lnTo>
                              <a:pt x="0" y="433"/>
                            </a:lnTo>
                            <a:lnTo>
                              <a:pt x="0" y="371"/>
                            </a:lnTo>
                            <a:lnTo>
                              <a:pt x="36" y="309"/>
                            </a:lnTo>
                            <a:lnTo>
                              <a:pt x="75" y="224"/>
                            </a:lnTo>
                            <a:lnTo>
                              <a:pt x="75" y="171"/>
                            </a:lnTo>
                            <a:lnTo>
                              <a:pt x="62" y="97"/>
                            </a:lnTo>
                            <a:lnTo>
                              <a:pt x="31" y="0"/>
                            </a:lnTo>
                            <a:lnTo>
                              <a:pt x="75" y="57"/>
                            </a:lnTo>
                            <a:lnTo>
                              <a:pt x="103" y="119"/>
                            </a:lnTo>
                            <a:lnTo>
                              <a:pt x="107" y="211"/>
                            </a:lnTo>
                            <a:lnTo>
                              <a:pt x="94" y="282"/>
                            </a:lnTo>
                            <a:lnTo>
                              <a:pt x="45" y="362"/>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51" name=""/>
                      <p:cNvSpPr/>
                      <p:nvPr/>
                    </p:nvSpPr>
                    <p:spPr>
                      <a:xfrm>
                        <a:off x="1562040" y="2475000"/>
                        <a:ext cx="168480" cy="536760"/>
                      </a:xfrm>
                      <a:custGeom>
                        <a:avLst/>
                        <a:gdLst/>
                        <a:ahLst/>
                        <a:rect l="0" t="0" r="r" b="b"/>
                        <a:pathLst>
                          <a:path w="468" h="1491">
                            <a:moveTo>
                              <a:pt x="468" y="1491"/>
                            </a:moveTo>
                            <a:lnTo>
                              <a:pt x="441" y="1460"/>
                            </a:lnTo>
                            <a:lnTo>
                              <a:pt x="362" y="1354"/>
                            </a:lnTo>
                            <a:lnTo>
                              <a:pt x="300" y="1253"/>
                            </a:lnTo>
                            <a:lnTo>
                              <a:pt x="239" y="1121"/>
                            </a:lnTo>
                            <a:lnTo>
                              <a:pt x="198" y="993"/>
                            </a:lnTo>
                            <a:lnTo>
                              <a:pt x="180" y="891"/>
                            </a:lnTo>
                            <a:lnTo>
                              <a:pt x="171" y="746"/>
                            </a:lnTo>
                            <a:lnTo>
                              <a:pt x="158" y="617"/>
                            </a:lnTo>
                            <a:lnTo>
                              <a:pt x="211" y="643"/>
                            </a:lnTo>
                            <a:lnTo>
                              <a:pt x="278" y="687"/>
                            </a:lnTo>
                            <a:lnTo>
                              <a:pt x="331" y="746"/>
                            </a:lnTo>
                            <a:lnTo>
                              <a:pt x="336" y="687"/>
                            </a:lnTo>
                            <a:lnTo>
                              <a:pt x="327" y="612"/>
                            </a:lnTo>
                            <a:lnTo>
                              <a:pt x="305" y="555"/>
                            </a:lnTo>
                            <a:lnTo>
                              <a:pt x="269" y="485"/>
                            </a:lnTo>
                            <a:lnTo>
                              <a:pt x="224" y="414"/>
                            </a:lnTo>
                            <a:lnTo>
                              <a:pt x="180" y="348"/>
                            </a:lnTo>
                            <a:lnTo>
                              <a:pt x="145" y="282"/>
                            </a:lnTo>
                            <a:lnTo>
                              <a:pt x="105" y="207"/>
                            </a:lnTo>
                            <a:lnTo>
                              <a:pt x="83" y="149"/>
                            </a:lnTo>
                            <a:lnTo>
                              <a:pt x="52" y="79"/>
                            </a:lnTo>
                            <a:lnTo>
                              <a:pt x="30" y="39"/>
                            </a:lnTo>
                            <a:lnTo>
                              <a:pt x="0" y="0"/>
                            </a:lnTo>
                            <a:lnTo>
                              <a:pt x="52" y="26"/>
                            </a:lnTo>
                            <a:lnTo>
                              <a:pt x="105" y="52"/>
                            </a:lnTo>
                            <a:lnTo>
                              <a:pt x="171" y="101"/>
                            </a:lnTo>
                            <a:lnTo>
                              <a:pt x="211" y="145"/>
                            </a:lnTo>
                            <a:lnTo>
                              <a:pt x="252" y="180"/>
                            </a:lnTo>
                            <a:lnTo>
                              <a:pt x="300" y="321"/>
                            </a:lnTo>
                            <a:lnTo>
                              <a:pt x="433" y="555"/>
                            </a:lnTo>
                            <a:lnTo>
                              <a:pt x="411" y="847"/>
                            </a:lnTo>
                            <a:lnTo>
                              <a:pt x="455" y="1010"/>
                            </a:lnTo>
                            <a:lnTo>
                              <a:pt x="424" y="1143"/>
                            </a:lnTo>
                            <a:lnTo>
                              <a:pt x="406" y="1262"/>
                            </a:lnTo>
                            <a:lnTo>
                              <a:pt x="424" y="1363"/>
                            </a:lnTo>
                            <a:lnTo>
                              <a:pt x="468" y="1491"/>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52" name=""/>
                      <p:cNvSpPr/>
                      <p:nvPr/>
                    </p:nvSpPr>
                    <p:spPr>
                      <a:xfrm>
                        <a:off x="741240" y="2424240"/>
                        <a:ext cx="192600" cy="614880"/>
                      </a:xfrm>
                      <a:custGeom>
                        <a:avLst/>
                        <a:gdLst/>
                        <a:ahLst/>
                        <a:rect l="0" t="0" r="r" b="b"/>
                        <a:pathLst>
                          <a:path w="535" h="1708">
                            <a:moveTo>
                              <a:pt x="509" y="1633"/>
                            </a:moveTo>
                            <a:lnTo>
                              <a:pt x="517" y="1708"/>
                            </a:lnTo>
                            <a:lnTo>
                              <a:pt x="535" y="1624"/>
                            </a:lnTo>
                            <a:lnTo>
                              <a:pt x="535" y="1549"/>
                            </a:lnTo>
                            <a:lnTo>
                              <a:pt x="522" y="1470"/>
                            </a:lnTo>
                            <a:lnTo>
                              <a:pt x="517" y="1369"/>
                            </a:lnTo>
                            <a:lnTo>
                              <a:pt x="509" y="1307"/>
                            </a:lnTo>
                            <a:lnTo>
                              <a:pt x="465" y="1160"/>
                            </a:lnTo>
                            <a:lnTo>
                              <a:pt x="451" y="1068"/>
                            </a:lnTo>
                            <a:lnTo>
                              <a:pt x="465" y="962"/>
                            </a:lnTo>
                            <a:lnTo>
                              <a:pt x="451" y="865"/>
                            </a:lnTo>
                            <a:lnTo>
                              <a:pt x="429" y="777"/>
                            </a:lnTo>
                            <a:lnTo>
                              <a:pt x="403" y="702"/>
                            </a:lnTo>
                            <a:lnTo>
                              <a:pt x="380" y="622"/>
                            </a:lnTo>
                            <a:lnTo>
                              <a:pt x="371" y="521"/>
                            </a:lnTo>
                            <a:lnTo>
                              <a:pt x="353" y="418"/>
                            </a:lnTo>
                            <a:lnTo>
                              <a:pt x="336" y="335"/>
                            </a:lnTo>
                            <a:lnTo>
                              <a:pt x="300" y="207"/>
                            </a:lnTo>
                            <a:lnTo>
                              <a:pt x="274" y="105"/>
                            </a:lnTo>
                            <a:lnTo>
                              <a:pt x="221" y="0"/>
                            </a:lnTo>
                            <a:lnTo>
                              <a:pt x="225" y="48"/>
                            </a:lnTo>
                            <a:lnTo>
                              <a:pt x="221" y="123"/>
                            </a:lnTo>
                            <a:lnTo>
                              <a:pt x="221" y="202"/>
                            </a:lnTo>
                            <a:lnTo>
                              <a:pt x="225" y="317"/>
                            </a:lnTo>
                            <a:lnTo>
                              <a:pt x="252" y="446"/>
                            </a:lnTo>
                            <a:lnTo>
                              <a:pt x="199" y="361"/>
                            </a:lnTo>
                            <a:lnTo>
                              <a:pt x="155" y="299"/>
                            </a:lnTo>
                            <a:lnTo>
                              <a:pt x="101" y="229"/>
                            </a:lnTo>
                            <a:lnTo>
                              <a:pt x="52" y="167"/>
                            </a:lnTo>
                            <a:lnTo>
                              <a:pt x="0" y="123"/>
                            </a:lnTo>
                            <a:lnTo>
                              <a:pt x="74" y="238"/>
                            </a:lnTo>
                            <a:lnTo>
                              <a:pt x="119" y="313"/>
                            </a:lnTo>
                            <a:lnTo>
                              <a:pt x="195" y="418"/>
                            </a:lnTo>
                            <a:lnTo>
                              <a:pt x="243" y="516"/>
                            </a:lnTo>
                            <a:lnTo>
                              <a:pt x="239" y="574"/>
                            </a:lnTo>
                            <a:lnTo>
                              <a:pt x="243" y="662"/>
                            </a:lnTo>
                            <a:lnTo>
                              <a:pt x="274" y="759"/>
                            </a:lnTo>
                            <a:lnTo>
                              <a:pt x="300" y="825"/>
                            </a:lnTo>
                            <a:lnTo>
                              <a:pt x="340" y="896"/>
                            </a:lnTo>
                            <a:lnTo>
                              <a:pt x="322" y="1002"/>
                            </a:lnTo>
                            <a:lnTo>
                              <a:pt x="336" y="1103"/>
                            </a:lnTo>
                            <a:lnTo>
                              <a:pt x="367" y="1226"/>
                            </a:lnTo>
                            <a:lnTo>
                              <a:pt x="416" y="1355"/>
                            </a:lnTo>
                            <a:lnTo>
                              <a:pt x="447" y="1457"/>
                            </a:lnTo>
                            <a:lnTo>
                              <a:pt x="403" y="1421"/>
                            </a:lnTo>
                            <a:lnTo>
                              <a:pt x="367" y="1369"/>
                            </a:lnTo>
                            <a:lnTo>
                              <a:pt x="371" y="1421"/>
                            </a:lnTo>
                            <a:lnTo>
                              <a:pt x="403" y="1496"/>
                            </a:lnTo>
                            <a:lnTo>
                              <a:pt x="438" y="1540"/>
                            </a:lnTo>
                            <a:lnTo>
                              <a:pt x="460" y="1580"/>
                            </a:lnTo>
                            <a:lnTo>
                              <a:pt x="416" y="1589"/>
                            </a:lnTo>
                            <a:lnTo>
                              <a:pt x="344" y="1589"/>
                            </a:lnTo>
                            <a:lnTo>
                              <a:pt x="412" y="1602"/>
                            </a:lnTo>
                            <a:lnTo>
                              <a:pt x="473" y="1620"/>
                            </a:lnTo>
                            <a:lnTo>
                              <a:pt x="509" y="1633"/>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53" name=""/>
                      <p:cNvSpPr/>
                      <p:nvPr/>
                    </p:nvSpPr>
                    <p:spPr>
                      <a:xfrm>
                        <a:off x="950760" y="2203560"/>
                        <a:ext cx="500400" cy="87840"/>
                      </a:xfrm>
                      <a:custGeom>
                        <a:avLst/>
                        <a:gdLst/>
                        <a:ahLst/>
                        <a:rect l="0" t="0" r="r" b="b"/>
                        <a:pathLst>
                          <a:path w="1390" h="244">
                            <a:moveTo>
                              <a:pt x="1390" y="0"/>
                            </a:moveTo>
                            <a:lnTo>
                              <a:pt x="1354" y="44"/>
                            </a:lnTo>
                            <a:lnTo>
                              <a:pt x="1297" y="89"/>
                            </a:lnTo>
                            <a:lnTo>
                              <a:pt x="1222" y="128"/>
                            </a:lnTo>
                            <a:lnTo>
                              <a:pt x="1156" y="164"/>
                            </a:lnTo>
                            <a:lnTo>
                              <a:pt x="1072" y="191"/>
                            </a:lnTo>
                            <a:lnTo>
                              <a:pt x="988" y="218"/>
                            </a:lnTo>
                            <a:lnTo>
                              <a:pt x="874" y="235"/>
                            </a:lnTo>
                            <a:lnTo>
                              <a:pt x="777" y="244"/>
                            </a:lnTo>
                            <a:lnTo>
                              <a:pt x="630" y="244"/>
                            </a:lnTo>
                            <a:lnTo>
                              <a:pt x="529" y="240"/>
                            </a:lnTo>
                            <a:lnTo>
                              <a:pt x="423" y="226"/>
                            </a:lnTo>
                            <a:lnTo>
                              <a:pt x="321" y="196"/>
                            </a:lnTo>
                            <a:lnTo>
                              <a:pt x="229" y="164"/>
                            </a:lnTo>
                            <a:lnTo>
                              <a:pt x="141" y="115"/>
                            </a:lnTo>
                            <a:lnTo>
                              <a:pt x="57" y="62"/>
                            </a:lnTo>
                            <a:lnTo>
                              <a:pt x="0" y="17"/>
                            </a:lnTo>
                            <a:lnTo>
                              <a:pt x="1390" y="0"/>
                            </a:lnTo>
                            <a:close/>
                          </a:path>
                        </a:pathLst>
                      </a:custGeom>
                      <a:solidFill>
                        <a:srgbClr val="990000"/>
                      </a:solidFill>
                      <a:ln w="12600">
                        <a:solidFill>
                          <a:srgbClr val="df3f5f"/>
                        </a:solidFill>
                        <a:round/>
                      </a:ln>
                    </p:spPr>
                    <p:txBody>
                      <a:bodyPr lIns="96120" rIns="96120" tIns="36720" bIns="36720" anchor="t">
                        <a:noAutofit/>
                      </a:bodyPr>
                      <a:p>
                        <a:endParaRPr b="0" lang="en-US" sz="1800" spc="-1" strike="noStrike">
                          <a:solidFill>
                            <a:srgbClr val="ffffff"/>
                          </a:solidFill>
                          <a:latin typeface="Arial"/>
                        </a:endParaRPr>
                      </a:p>
                    </p:txBody>
                  </p:sp>
                  <p:sp>
                    <p:nvSpPr>
                      <p:cNvPr id="1154" name=""/>
                      <p:cNvSpPr/>
                      <p:nvPr/>
                    </p:nvSpPr>
                    <p:spPr>
                      <a:xfrm>
                        <a:off x="1001880" y="3225960"/>
                        <a:ext cx="511560" cy="259200"/>
                      </a:xfrm>
                      <a:custGeom>
                        <a:avLst/>
                        <a:gdLst/>
                        <a:ahLst/>
                        <a:rect l="0" t="0" r="r" b="b"/>
                        <a:pathLst>
                          <a:path w="1421" h="720">
                            <a:moveTo>
                              <a:pt x="1421" y="181"/>
                            </a:moveTo>
                            <a:lnTo>
                              <a:pt x="1404" y="149"/>
                            </a:lnTo>
                            <a:lnTo>
                              <a:pt x="1386" y="119"/>
                            </a:lnTo>
                            <a:lnTo>
                              <a:pt x="1351" y="97"/>
                            </a:lnTo>
                            <a:lnTo>
                              <a:pt x="1280" y="83"/>
                            </a:lnTo>
                            <a:lnTo>
                              <a:pt x="1227" y="66"/>
                            </a:lnTo>
                            <a:lnTo>
                              <a:pt x="1091" y="44"/>
                            </a:lnTo>
                            <a:lnTo>
                              <a:pt x="949" y="17"/>
                            </a:lnTo>
                            <a:lnTo>
                              <a:pt x="834" y="13"/>
                            </a:lnTo>
                            <a:lnTo>
                              <a:pt x="733" y="0"/>
                            </a:lnTo>
                            <a:lnTo>
                              <a:pt x="631" y="0"/>
                            </a:lnTo>
                            <a:lnTo>
                              <a:pt x="552" y="17"/>
                            </a:lnTo>
                            <a:lnTo>
                              <a:pt x="455" y="39"/>
                            </a:lnTo>
                            <a:lnTo>
                              <a:pt x="384" y="61"/>
                            </a:lnTo>
                            <a:lnTo>
                              <a:pt x="308" y="92"/>
                            </a:lnTo>
                            <a:lnTo>
                              <a:pt x="238" y="127"/>
                            </a:lnTo>
                            <a:lnTo>
                              <a:pt x="171" y="158"/>
                            </a:lnTo>
                            <a:lnTo>
                              <a:pt x="110" y="167"/>
                            </a:lnTo>
                            <a:lnTo>
                              <a:pt x="57" y="158"/>
                            </a:lnTo>
                            <a:lnTo>
                              <a:pt x="0" y="149"/>
                            </a:lnTo>
                            <a:lnTo>
                              <a:pt x="44" y="181"/>
                            </a:lnTo>
                            <a:lnTo>
                              <a:pt x="88" y="230"/>
                            </a:lnTo>
                            <a:lnTo>
                              <a:pt x="132" y="283"/>
                            </a:lnTo>
                            <a:lnTo>
                              <a:pt x="154" y="336"/>
                            </a:lnTo>
                            <a:lnTo>
                              <a:pt x="163" y="384"/>
                            </a:lnTo>
                            <a:lnTo>
                              <a:pt x="167" y="450"/>
                            </a:lnTo>
                            <a:lnTo>
                              <a:pt x="167" y="538"/>
                            </a:lnTo>
                            <a:lnTo>
                              <a:pt x="180" y="720"/>
                            </a:lnTo>
                            <a:lnTo>
                              <a:pt x="189" y="645"/>
                            </a:lnTo>
                            <a:lnTo>
                              <a:pt x="194" y="562"/>
                            </a:lnTo>
                            <a:lnTo>
                              <a:pt x="207" y="468"/>
                            </a:lnTo>
                            <a:lnTo>
                              <a:pt x="220" y="393"/>
                            </a:lnTo>
                            <a:lnTo>
                              <a:pt x="251" y="327"/>
                            </a:lnTo>
                            <a:lnTo>
                              <a:pt x="304" y="261"/>
                            </a:lnTo>
                            <a:lnTo>
                              <a:pt x="380" y="208"/>
                            </a:lnTo>
                            <a:lnTo>
                              <a:pt x="481" y="176"/>
                            </a:lnTo>
                            <a:lnTo>
                              <a:pt x="596" y="154"/>
                            </a:lnTo>
                            <a:lnTo>
                              <a:pt x="688" y="163"/>
                            </a:lnTo>
                            <a:lnTo>
                              <a:pt x="772" y="181"/>
                            </a:lnTo>
                            <a:lnTo>
                              <a:pt x="834" y="199"/>
                            </a:lnTo>
                            <a:lnTo>
                              <a:pt x="896" y="208"/>
                            </a:lnTo>
                            <a:lnTo>
                              <a:pt x="975" y="203"/>
                            </a:lnTo>
                            <a:lnTo>
                              <a:pt x="1073" y="199"/>
                            </a:lnTo>
                            <a:lnTo>
                              <a:pt x="1144" y="203"/>
                            </a:lnTo>
                            <a:lnTo>
                              <a:pt x="1219" y="212"/>
                            </a:lnTo>
                            <a:lnTo>
                              <a:pt x="1294" y="230"/>
                            </a:lnTo>
                            <a:lnTo>
                              <a:pt x="1369" y="234"/>
                            </a:lnTo>
                            <a:lnTo>
                              <a:pt x="1413" y="212"/>
                            </a:lnTo>
                            <a:lnTo>
                              <a:pt x="1421" y="181"/>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1155" name=""/>
                <p:cNvGrpSpPr/>
                <p:nvPr/>
              </p:nvGrpSpPr>
              <p:grpSpPr>
                <a:xfrm>
                  <a:off x="1554120" y="1935000"/>
                  <a:ext cx="663840" cy="908280"/>
                  <a:chOff x="1554120" y="1935000"/>
                  <a:chExt cx="663840" cy="908280"/>
                </a:xfrm>
              </p:grpSpPr>
              <p:grpSp>
                <p:nvGrpSpPr>
                  <p:cNvPr id="1156" name=""/>
                  <p:cNvGrpSpPr/>
                  <p:nvPr/>
                </p:nvGrpSpPr>
                <p:grpSpPr>
                  <a:xfrm>
                    <a:off x="1554120" y="1935000"/>
                    <a:ext cx="613080" cy="908280"/>
                    <a:chOff x="1554120" y="1935000"/>
                    <a:chExt cx="613080" cy="908280"/>
                  </a:xfrm>
                </p:grpSpPr>
                <p:grpSp>
                  <p:nvGrpSpPr>
                    <p:cNvPr id="1157" name=""/>
                    <p:cNvGrpSpPr/>
                    <p:nvPr/>
                  </p:nvGrpSpPr>
                  <p:grpSpPr>
                    <a:xfrm>
                      <a:off x="1554120" y="1935000"/>
                      <a:ext cx="613080" cy="908280"/>
                      <a:chOff x="1554120" y="1935000"/>
                      <a:chExt cx="613080" cy="908280"/>
                    </a:xfrm>
                  </p:grpSpPr>
                  <p:sp>
                    <p:nvSpPr>
                      <p:cNvPr id="1158" name=""/>
                      <p:cNvSpPr/>
                      <p:nvPr/>
                    </p:nvSpPr>
                    <p:spPr>
                      <a:xfrm>
                        <a:off x="1735200" y="2682720"/>
                        <a:ext cx="408240" cy="140040"/>
                      </a:xfrm>
                      <a:custGeom>
                        <a:avLst/>
                        <a:gdLst/>
                        <a:ahLst/>
                        <a:rect l="0" t="0" r="r" b="b"/>
                        <a:pathLst>
                          <a:path w="1134" h="389">
                            <a:moveTo>
                              <a:pt x="1076" y="0"/>
                            </a:moveTo>
                            <a:lnTo>
                              <a:pt x="1134" y="171"/>
                            </a:lnTo>
                            <a:lnTo>
                              <a:pt x="904" y="252"/>
                            </a:lnTo>
                            <a:lnTo>
                              <a:pt x="551" y="322"/>
                            </a:lnTo>
                            <a:lnTo>
                              <a:pt x="264" y="367"/>
                            </a:lnTo>
                            <a:lnTo>
                              <a:pt x="0" y="389"/>
                            </a:lnTo>
                            <a:lnTo>
                              <a:pt x="1076"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9" name=""/>
                      <p:cNvSpPr/>
                      <p:nvPr/>
                    </p:nvSpPr>
                    <p:spPr>
                      <a:xfrm>
                        <a:off x="1554120" y="1935000"/>
                        <a:ext cx="613080" cy="908280"/>
                      </a:xfrm>
                      <a:custGeom>
                        <a:avLst/>
                        <a:gdLst/>
                        <a:ahLst/>
                        <a:rect l="0" t="0" r="r" b="b"/>
                        <a:pathLst>
                          <a:path w="1703" h="2523">
                            <a:moveTo>
                              <a:pt x="1703" y="2157"/>
                            </a:moveTo>
                            <a:lnTo>
                              <a:pt x="1676" y="2179"/>
                            </a:lnTo>
                            <a:lnTo>
                              <a:pt x="1279" y="2258"/>
                            </a:lnTo>
                            <a:lnTo>
                              <a:pt x="900" y="2373"/>
                            </a:lnTo>
                            <a:lnTo>
                              <a:pt x="586" y="2470"/>
                            </a:lnTo>
                            <a:lnTo>
                              <a:pt x="463" y="2523"/>
                            </a:lnTo>
                            <a:lnTo>
                              <a:pt x="366" y="2095"/>
                            </a:lnTo>
                            <a:lnTo>
                              <a:pt x="260" y="1606"/>
                            </a:lnTo>
                            <a:lnTo>
                              <a:pt x="136" y="1115"/>
                            </a:lnTo>
                            <a:lnTo>
                              <a:pt x="39" y="608"/>
                            </a:lnTo>
                            <a:lnTo>
                              <a:pt x="8" y="432"/>
                            </a:lnTo>
                            <a:lnTo>
                              <a:pt x="0" y="264"/>
                            </a:lnTo>
                            <a:lnTo>
                              <a:pt x="621" y="97"/>
                            </a:lnTo>
                            <a:lnTo>
                              <a:pt x="1178" y="0"/>
                            </a:lnTo>
                            <a:lnTo>
                              <a:pt x="1315" y="507"/>
                            </a:lnTo>
                            <a:lnTo>
                              <a:pt x="1703" y="215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160" name=""/>
                    <p:cNvGrpSpPr/>
                    <p:nvPr/>
                  </p:nvGrpSpPr>
                  <p:grpSpPr>
                    <a:xfrm>
                      <a:off x="1562040" y="1998720"/>
                      <a:ext cx="578160" cy="785880"/>
                      <a:chOff x="1562040" y="1998720"/>
                      <a:chExt cx="578160" cy="785880"/>
                    </a:xfrm>
                  </p:grpSpPr>
                  <p:sp>
                    <p:nvSpPr>
                      <p:cNvPr id="1161" name=""/>
                      <p:cNvSpPr/>
                      <p:nvPr/>
                    </p:nvSpPr>
                    <p:spPr>
                      <a:xfrm>
                        <a:off x="1665360" y="2581200"/>
                        <a:ext cx="111600" cy="203400"/>
                      </a:xfrm>
                      <a:custGeom>
                        <a:avLst/>
                        <a:gdLst/>
                        <a:ahLst/>
                        <a:rect l="0" t="0" r="r" b="b"/>
                        <a:pathLst>
                          <a:path w="310" h="565">
                            <a:moveTo>
                              <a:pt x="0" y="48"/>
                            </a:moveTo>
                            <a:lnTo>
                              <a:pt x="172" y="0"/>
                            </a:lnTo>
                            <a:lnTo>
                              <a:pt x="310" y="499"/>
                            </a:lnTo>
                            <a:lnTo>
                              <a:pt x="120" y="565"/>
                            </a:lnTo>
                            <a:lnTo>
                              <a:pt x="44" y="260"/>
                            </a:lnTo>
                            <a:lnTo>
                              <a:pt x="0" y="4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2" name=""/>
                      <p:cNvSpPr/>
                      <p:nvPr/>
                    </p:nvSpPr>
                    <p:spPr>
                      <a:xfrm>
                        <a:off x="2046240" y="2581200"/>
                        <a:ext cx="93960" cy="125640"/>
                      </a:xfrm>
                      <a:custGeom>
                        <a:avLst/>
                        <a:gdLst/>
                        <a:ahLst/>
                        <a:rect l="0" t="0" r="r" b="b"/>
                        <a:pathLst>
                          <a:path w="261" h="349">
                            <a:moveTo>
                              <a:pt x="190" y="0"/>
                            </a:moveTo>
                            <a:lnTo>
                              <a:pt x="0" y="44"/>
                            </a:lnTo>
                            <a:lnTo>
                              <a:pt x="70" y="349"/>
                            </a:lnTo>
                            <a:lnTo>
                              <a:pt x="261" y="309"/>
                            </a:lnTo>
                            <a:lnTo>
                              <a:pt x="19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3" name=""/>
                      <p:cNvSpPr/>
                      <p:nvPr/>
                    </p:nvSpPr>
                    <p:spPr>
                      <a:xfrm>
                        <a:off x="1562040" y="1998720"/>
                        <a:ext cx="410040" cy="92520"/>
                      </a:xfrm>
                      <a:custGeom>
                        <a:avLst/>
                        <a:gdLst/>
                        <a:ahLst/>
                        <a:rect l="0" t="0" r="r" b="b"/>
                        <a:pathLst>
                          <a:path fill="none" w="1139" h="257">
                            <a:moveTo>
                              <a:pt x="1139" y="0"/>
                            </a:moveTo>
                            <a:lnTo>
                              <a:pt x="627" y="98"/>
                            </a:lnTo>
                            <a:lnTo>
                              <a:pt x="0" y="257"/>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1164" name=""/>
                      <p:cNvSpPr/>
                      <p:nvPr/>
                    </p:nvSpPr>
                    <p:spPr>
                      <a:xfrm>
                        <a:off x="1590840" y="2135160"/>
                        <a:ext cx="449640" cy="154440"/>
                      </a:xfrm>
                      <a:custGeom>
                        <a:avLst/>
                        <a:gdLst/>
                        <a:ahLst/>
                        <a:rect l="0" t="0" r="r" b="b"/>
                        <a:pathLst>
                          <a:path w="1249" h="429">
                            <a:moveTo>
                              <a:pt x="1232" y="0"/>
                            </a:moveTo>
                            <a:lnTo>
                              <a:pt x="684" y="150"/>
                            </a:lnTo>
                            <a:lnTo>
                              <a:pt x="0" y="354"/>
                            </a:lnTo>
                            <a:lnTo>
                              <a:pt x="8" y="429"/>
                            </a:lnTo>
                            <a:lnTo>
                              <a:pt x="706" y="225"/>
                            </a:lnTo>
                            <a:lnTo>
                              <a:pt x="1249" y="79"/>
                            </a:lnTo>
                            <a:lnTo>
                              <a:pt x="1232"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5" name=""/>
                      <p:cNvSpPr/>
                      <p:nvPr/>
                    </p:nvSpPr>
                    <p:spPr>
                      <a:xfrm>
                        <a:off x="1647720" y="2452680"/>
                        <a:ext cx="206640" cy="89280"/>
                      </a:xfrm>
                      <a:custGeom>
                        <a:avLst/>
                        <a:gdLst/>
                        <a:ahLst/>
                        <a:rect l="0" t="0" r="r" b="b"/>
                        <a:pathLst>
                          <a:path w="574" h="248">
                            <a:moveTo>
                              <a:pt x="547" y="0"/>
                            </a:moveTo>
                            <a:lnTo>
                              <a:pt x="574" y="80"/>
                            </a:lnTo>
                            <a:lnTo>
                              <a:pt x="22" y="248"/>
                            </a:lnTo>
                            <a:lnTo>
                              <a:pt x="0" y="168"/>
                            </a:lnTo>
                            <a:lnTo>
                              <a:pt x="547" y="0"/>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1166" name=""/>
                      <p:cNvSpPr/>
                      <p:nvPr/>
                    </p:nvSpPr>
                    <p:spPr>
                      <a:xfrm flipH="1">
                        <a:off x="1746360" y="2549520"/>
                        <a:ext cx="1317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167" name=""/>
                      <p:cNvSpPr/>
                      <p:nvPr/>
                    </p:nvSpPr>
                    <p:spPr>
                      <a:xfrm flipH="1">
                        <a:off x="1757520" y="2583000"/>
                        <a:ext cx="1285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168" name=""/>
                      <p:cNvSpPr/>
                      <p:nvPr/>
                    </p:nvSpPr>
                    <p:spPr>
                      <a:xfrm flipH="1">
                        <a:off x="1768320" y="2616120"/>
                        <a:ext cx="12888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1169" name=""/>
                      <p:cNvSpPr/>
                      <p:nvPr/>
                    </p:nvSpPr>
                    <p:spPr>
                      <a:xfrm flipH="1">
                        <a:off x="1916280" y="2538360"/>
                        <a:ext cx="19188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ffffff"/>
                          </a:solidFill>
                          <a:latin typeface="Arial"/>
                        </a:endParaRPr>
                      </a:p>
                    </p:txBody>
                  </p:sp>
                  <p:sp>
                    <p:nvSpPr>
                      <p:cNvPr id="1170" name=""/>
                      <p:cNvSpPr/>
                      <p:nvPr/>
                    </p:nvSpPr>
                    <p:spPr>
                      <a:xfrm flipH="1">
                        <a:off x="1922400" y="2562120"/>
                        <a:ext cx="196920" cy="7920"/>
                      </a:xfrm>
                      <a:prstGeom prst="line">
                        <a:avLst/>
                      </a:prstGeom>
                      <a:ln w="12600">
                        <a:solidFill>
                          <a:srgbClr val="000000"/>
                        </a:solidFill>
                        <a:round/>
                      </a:ln>
                    </p:spPr>
                    <p:style>
                      <a:lnRef idx="0"/>
                      <a:fillRef idx="0"/>
                      <a:effectRef idx="0"/>
                      <a:fontRef idx="minor"/>
                    </p:style>
                    <p:txBody>
                      <a:bodyPr lIns="96120" rIns="96120" tIns="-43200" bIns="-43200" anchor="t">
                        <a:noAutofit/>
                      </a:bodyPr>
                      <a:p>
                        <a:endParaRPr b="0" lang="en-US" sz="1800" spc="-1" strike="noStrike">
                          <a:solidFill>
                            <a:srgbClr val="ffffff"/>
                          </a:solidFill>
                          <a:latin typeface="Arial"/>
                        </a:endParaRPr>
                      </a:p>
                    </p:txBody>
                  </p:sp>
                  <p:sp>
                    <p:nvSpPr>
                      <p:cNvPr id="1171" name=""/>
                      <p:cNvSpPr/>
                      <p:nvPr/>
                    </p:nvSpPr>
                    <p:spPr>
                      <a:xfrm flipH="1">
                        <a:off x="1751040" y="2241720"/>
                        <a:ext cx="233280" cy="21960"/>
                      </a:xfrm>
                      <a:prstGeom prst="line">
                        <a:avLst/>
                      </a:prstGeom>
                      <a:ln w="12600">
                        <a:solidFill>
                          <a:srgbClr val="000000"/>
                        </a:solidFill>
                        <a:round/>
                      </a:ln>
                    </p:spPr>
                    <p:style>
                      <a:lnRef idx="0"/>
                      <a:fillRef idx="0"/>
                      <a:effectRef idx="0"/>
                      <a:fontRef idx="minor"/>
                    </p:style>
                    <p:txBody>
                      <a:bodyPr lIns="96120" rIns="96120" tIns="-29160" bIns="-29160" anchor="t">
                        <a:noAutofit/>
                      </a:bodyPr>
                      <a:p>
                        <a:endParaRPr b="0" lang="en-US" sz="1800" spc="-1" strike="noStrike">
                          <a:solidFill>
                            <a:srgbClr val="ffffff"/>
                          </a:solidFill>
                          <a:latin typeface="Arial"/>
                        </a:endParaRPr>
                      </a:p>
                    </p:txBody>
                  </p:sp>
                </p:grpSp>
              </p:grpSp>
              <p:grpSp>
                <p:nvGrpSpPr>
                  <p:cNvPr id="1172" name=""/>
                  <p:cNvGrpSpPr/>
                  <p:nvPr/>
                </p:nvGrpSpPr>
                <p:grpSpPr>
                  <a:xfrm>
                    <a:off x="1868400" y="2235240"/>
                    <a:ext cx="349560" cy="433800"/>
                    <a:chOff x="1868400" y="2235240"/>
                    <a:chExt cx="349560" cy="433800"/>
                  </a:xfrm>
                </p:grpSpPr>
                <p:grpSp>
                  <p:nvGrpSpPr>
                    <p:cNvPr id="1173" name=""/>
                    <p:cNvGrpSpPr/>
                    <p:nvPr/>
                  </p:nvGrpSpPr>
                  <p:grpSpPr>
                    <a:xfrm>
                      <a:off x="1890720" y="2278080"/>
                      <a:ext cx="313200" cy="390960"/>
                      <a:chOff x="1890720" y="2278080"/>
                      <a:chExt cx="313200" cy="390960"/>
                    </a:xfrm>
                  </p:grpSpPr>
                  <p:sp>
                    <p:nvSpPr>
                      <p:cNvPr id="1174" name=""/>
                      <p:cNvSpPr/>
                      <p:nvPr/>
                    </p:nvSpPr>
                    <p:spPr>
                      <a:xfrm>
                        <a:off x="1890720" y="2278080"/>
                        <a:ext cx="313200" cy="390960"/>
                      </a:xfrm>
                      <a:custGeom>
                        <a:avLst/>
                        <a:gdLst/>
                        <a:ahLst/>
                        <a:rect l="0" t="0" r="r" b="b"/>
                        <a:pathLst>
                          <a:path w="870" h="1086">
                            <a:moveTo>
                              <a:pt x="738" y="1086"/>
                            </a:moveTo>
                            <a:lnTo>
                              <a:pt x="760" y="1064"/>
                            </a:lnTo>
                            <a:lnTo>
                              <a:pt x="778" y="1047"/>
                            </a:lnTo>
                            <a:lnTo>
                              <a:pt x="822" y="994"/>
                            </a:lnTo>
                            <a:lnTo>
                              <a:pt x="848" y="936"/>
                            </a:lnTo>
                            <a:lnTo>
                              <a:pt x="866" y="844"/>
                            </a:lnTo>
                            <a:lnTo>
                              <a:pt x="870" y="733"/>
                            </a:lnTo>
                            <a:lnTo>
                              <a:pt x="857" y="574"/>
                            </a:lnTo>
                            <a:lnTo>
                              <a:pt x="826" y="428"/>
                            </a:lnTo>
                            <a:lnTo>
                              <a:pt x="808" y="349"/>
                            </a:lnTo>
                            <a:lnTo>
                              <a:pt x="786" y="287"/>
                            </a:lnTo>
                            <a:lnTo>
                              <a:pt x="747" y="202"/>
                            </a:lnTo>
                            <a:lnTo>
                              <a:pt x="694" y="127"/>
                            </a:lnTo>
                            <a:lnTo>
                              <a:pt x="622" y="66"/>
                            </a:lnTo>
                            <a:lnTo>
                              <a:pt x="596" y="44"/>
                            </a:lnTo>
                            <a:lnTo>
                              <a:pt x="556" y="26"/>
                            </a:lnTo>
                            <a:lnTo>
                              <a:pt x="477" y="8"/>
                            </a:lnTo>
                            <a:lnTo>
                              <a:pt x="397" y="0"/>
                            </a:lnTo>
                            <a:lnTo>
                              <a:pt x="300" y="4"/>
                            </a:lnTo>
                            <a:lnTo>
                              <a:pt x="180" y="26"/>
                            </a:lnTo>
                            <a:lnTo>
                              <a:pt x="132" y="48"/>
                            </a:lnTo>
                            <a:lnTo>
                              <a:pt x="101" y="74"/>
                            </a:lnTo>
                            <a:lnTo>
                              <a:pt x="105" y="101"/>
                            </a:lnTo>
                            <a:lnTo>
                              <a:pt x="123" y="123"/>
                            </a:lnTo>
                            <a:lnTo>
                              <a:pt x="194" y="119"/>
                            </a:lnTo>
                            <a:lnTo>
                              <a:pt x="252" y="114"/>
                            </a:lnTo>
                            <a:lnTo>
                              <a:pt x="318" y="105"/>
                            </a:lnTo>
                            <a:lnTo>
                              <a:pt x="380" y="101"/>
                            </a:lnTo>
                            <a:lnTo>
                              <a:pt x="441" y="105"/>
                            </a:lnTo>
                            <a:lnTo>
                              <a:pt x="503" y="123"/>
                            </a:lnTo>
                            <a:lnTo>
                              <a:pt x="516" y="246"/>
                            </a:lnTo>
                            <a:lnTo>
                              <a:pt x="481" y="264"/>
                            </a:lnTo>
                            <a:lnTo>
                              <a:pt x="419" y="300"/>
                            </a:lnTo>
                            <a:lnTo>
                              <a:pt x="358" y="331"/>
                            </a:lnTo>
                            <a:lnTo>
                              <a:pt x="278" y="371"/>
                            </a:lnTo>
                            <a:lnTo>
                              <a:pt x="221" y="397"/>
                            </a:lnTo>
                            <a:lnTo>
                              <a:pt x="154" y="441"/>
                            </a:lnTo>
                            <a:lnTo>
                              <a:pt x="97" y="481"/>
                            </a:lnTo>
                            <a:lnTo>
                              <a:pt x="48" y="525"/>
                            </a:lnTo>
                            <a:lnTo>
                              <a:pt x="4" y="565"/>
                            </a:lnTo>
                            <a:lnTo>
                              <a:pt x="0" y="600"/>
                            </a:lnTo>
                            <a:lnTo>
                              <a:pt x="13" y="627"/>
                            </a:lnTo>
                            <a:lnTo>
                              <a:pt x="44" y="631"/>
                            </a:lnTo>
                            <a:lnTo>
                              <a:pt x="88" y="613"/>
                            </a:lnTo>
                            <a:lnTo>
                              <a:pt x="105" y="609"/>
                            </a:lnTo>
                            <a:lnTo>
                              <a:pt x="110" y="644"/>
                            </a:lnTo>
                            <a:lnTo>
                              <a:pt x="136" y="653"/>
                            </a:lnTo>
                            <a:lnTo>
                              <a:pt x="171" y="649"/>
                            </a:lnTo>
                            <a:lnTo>
                              <a:pt x="202" y="636"/>
                            </a:lnTo>
                            <a:lnTo>
                              <a:pt x="269" y="600"/>
                            </a:lnTo>
                            <a:lnTo>
                              <a:pt x="344" y="574"/>
                            </a:lnTo>
                            <a:lnTo>
                              <a:pt x="433" y="556"/>
                            </a:lnTo>
                            <a:lnTo>
                              <a:pt x="547" y="574"/>
                            </a:lnTo>
                            <a:lnTo>
                              <a:pt x="596" y="605"/>
                            </a:lnTo>
                            <a:lnTo>
                              <a:pt x="627" y="653"/>
                            </a:lnTo>
                            <a:lnTo>
                              <a:pt x="654" y="724"/>
                            </a:lnTo>
                            <a:lnTo>
                              <a:pt x="738" y="108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5" name=""/>
                      <p:cNvSpPr/>
                      <p:nvPr/>
                    </p:nvSpPr>
                    <p:spPr>
                      <a:xfrm>
                        <a:off x="1930320" y="2432160"/>
                        <a:ext cx="113040" cy="66960"/>
                      </a:xfrm>
                      <a:custGeom>
                        <a:avLst/>
                        <a:gdLst/>
                        <a:ahLst/>
                        <a:rect l="0" t="0" r="r" b="b"/>
                        <a:pathLst>
                          <a:path w="314" h="186">
                            <a:moveTo>
                              <a:pt x="0" y="186"/>
                            </a:moveTo>
                            <a:lnTo>
                              <a:pt x="13" y="155"/>
                            </a:lnTo>
                            <a:lnTo>
                              <a:pt x="39" y="133"/>
                            </a:lnTo>
                            <a:lnTo>
                              <a:pt x="83" y="106"/>
                            </a:lnTo>
                            <a:lnTo>
                              <a:pt x="149" y="61"/>
                            </a:lnTo>
                            <a:lnTo>
                              <a:pt x="234" y="13"/>
                            </a:lnTo>
                            <a:lnTo>
                              <a:pt x="314" y="0"/>
                            </a:lnTo>
                            <a:lnTo>
                              <a:pt x="247" y="4"/>
                            </a:lnTo>
                            <a:lnTo>
                              <a:pt x="212" y="22"/>
                            </a:lnTo>
                            <a:lnTo>
                              <a:pt x="141" y="57"/>
                            </a:lnTo>
                            <a:lnTo>
                              <a:pt x="70" y="106"/>
                            </a:lnTo>
                            <a:lnTo>
                              <a:pt x="13" y="146"/>
                            </a:lnTo>
                            <a:lnTo>
                              <a:pt x="0" y="186"/>
                            </a:lnTo>
                            <a:close/>
                          </a:path>
                        </a:pathLst>
                      </a:custGeom>
                      <a:solidFill>
                        <a:srgbClr val="ff7f3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176" name=""/>
                      <p:cNvSpPr/>
                      <p:nvPr/>
                    </p:nvSpPr>
                    <p:spPr>
                      <a:xfrm>
                        <a:off x="2122560" y="2523960"/>
                        <a:ext cx="46440" cy="106560"/>
                      </a:xfrm>
                      <a:custGeom>
                        <a:avLst/>
                        <a:gdLst/>
                        <a:ahLst/>
                        <a:rect l="0" t="0" r="r" b="b"/>
                        <a:pathLst>
                          <a:path w="129" h="296">
                            <a:moveTo>
                              <a:pt x="71" y="296"/>
                            </a:moveTo>
                            <a:lnTo>
                              <a:pt x="75" y="252"/>
                            </a:lnTo>
                            <a:lnTo>
                              <a:pt x="93" y="225"/>
                            </a:lnTo>
                            <a:lnTo>
                              <a:pt x="116" y="195"/>
                            </a:lnTo>
                            <a:lnTo>
                              <a:pt x="129" y="186"/>
                            </a:lnTo>
                            <a:lnTo>
                              <a:pt x="103" y="155"/>
                            </a:lnTo>
                            <a:lnTo>
                              <a:pt x="53" y="83"/>
                            </a:lnTo>
                            <a:lnTo>
                              <a:pt x="22" y="35"/>
                            </a:lnTo>
                            <a:lnTo>
                              <a:pt x="0" y="0"/>
                            </a:lnTo>
                            <a:lnTo>
                              <a:pt x="71" y="296"/>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177" name=""/>
                    <p:cNvGrpSpPr/>
                    <p:nvPr/>
                  </p:nvGrpSpPr>
                  <p:grpSpPr>
                    <a:xfrm>
                      <a:off x="1868400" y="2235240"/>
                      <a:ext cx="349560" cy="286200"/>
                      <a:chOff x="1868400" y="2235240"/>
                      <a:chExt cx="349560" cy="286200"/>
                    </a:xfrm>
                  </p:grpSpPr>
                  <p:sp>
                    <p:nvSpPr>
                      <p:cNvPr id="1178" name=""/>
                      <p:cNvSpPr/>
                      <p:nvPr/>
                    </p:nvSpPr>
                    <p:spPr>
                      <a:xfrm>
                        <a:off x="2041560" y="2255760"/>
                        <a:ext cx="160560" cy="59040"/>
                      </a:xfrm>
                      <a:custGeom>
                        <a:avLst/>
                        <a:gdLst/>
                        <a:ahLst/>
                        <a:rect l="0" t="0" r="r" b="b"/>
                        <a:pathLst>
                          <a:path fill="none" w="446" h="164">
                            <a:moveTo>
                              <a:pt x="446" y="0"/>
                            </a:moveTo>
                            <a:lnTo>
                              <a:pt x="48" y="164"/>
                            </a:lnTo>
                            <a:lnTo>
                              <a:pt x="4" y="142"/>
                            </a:lnTo>
                            <a:lnTo>
                              <a:pt x="0" y="8"/>
                            </a:lnTo>
                          </a:path>
                        </a:pathLst>
                      </a:custGeom>
                      <a:ln w="12600">
                        <a:solidFill>
                          <a:srgbClr val="9f3f00"/>
                        </a:solidFill>
                        <a:round/>
                      </a:ln>
                    </p:spPr>
                    <p:txBody>
                      <a:bodyPr lIns="96120" rIns="96120" tIns="7920" bIns="7920" anchor="t">
                        <a:noAutofit/>
                      </a:bodyPr>
                      <a:p>
                        <a:endParaRPr b="0" lang="en-US" sz="1800" spc="-1" strike="noStrike">
                          <a:solidFill>
                            <a:srgbClr val="ffffff"/>
                          </a:solidFill>
                          <a:latin typeface="Arial"/>
                        </a:endParaRPr>
                      </a:p>
                    </p:txBody>
                  </p:sp>
                  <p:sp>
                    <p:nvSpPr>
                      <p:cNvPr id="1179" name=""/>
                      <p:cNvSpPr/>
                      <p:nvPr/>
                    </p:nvSpPr>
                    <p:spPr>
                      <a:xfrm>
                        <a:off x="1868400" y="2347920"/>
                        <a:ext cx="127440" cy="41760"/>
                      </a:xfrm>
                      <a:custGeom>
                        <a:avLst/>
                        <a:gdLst/>
                        <a:ahLst/>
                        <a:rect l="0" t="0" r="r" b="b"/>
                        <a:pathLst>
                          <a:path fill="none" w="354" h="116">
                            <a:moveTo>
                              <a:pt x="354" y="0"/>
                            </a:moveTo>
                            <a:lnTo>
                              <a:pt x="195" y="80"/>
                            </a:lnTo>
                            <a:lnTo>
                              <a:pt x="150" y="103"/>
                            </a:lnTo>
                            <a:lnTo>
                              <a:pt x="137" y="116"/>
                            </a:lnTo>
                            <a:lnTo>
                              <a:pt x="115" y="116"/>
                            </a:lnTo>
                            <a:lnTo>
                              <a:pt x="89" y="107"/>
                            </a:lnTo>
                            <a:lnTo>
                              <a:pt x="0" y="17"/>
                            </a:lnTo>
                          </a:path>
                        </a:pathLst>
                      </a:custGeom>
                      <a:ln w="12600">
                        <a:solidFill>
                          <a:srgbClr val="9f3f00"/>
                        </a:solidFill>
                        <a:round/>
                      </a:ln>
                    </p:spPr>
                    <p:txBody>
                      <a:bodyPr lIns="96120" rIns="96120" tIns="-9360" bIns="-9360" anchor="t">
                        <a:noAutofit/>
                      </a:bodyPr>
                      <a:p>
                        <a:endParaRPr b="0" lang="en-US" sz="1800" spc="-1" strike="noStrike">
                          <a:solidFill>
                            <a:srgbClr val="ffffff"/>
                          </a:solidFill>
                          <a:latin typeface="Arial"/>
                        </a:endParaRPr>
                      </a:p>
                    </p:txBody>
                  </p:sp>
                  <p:sp>
                    <p:nvSpPr>
                      <p:cNvPr id="1180" name=""/>
                      <p:cNvSpPr/>
                      <p:nvPr/>
                    </p:nvSpPr>
                    <p:spPr>
                      <a:xfrm>
                        <a:off x="2049480" y="2336760"/>
                        <a:ext cx="81360" cy="184680"/>
                      </a:xfrm>
                      <a:custGeom>
                        <a:avLst/>
                        <a:gdLst/>
                        <a:ahLst/>
                        <a:rect l="0" t="0" r="r" b="b"/>
                        <a:pathLst>
                          <a:path fill="none" w="226" h="513">
                            <a:moveTo>
                              <a:pt x="0" y="0"/>
                            </a:moveTo>
                            <a:lnTo>
                              <a:pt x="8" y="110"/>
                            </a:lnTo>
                            <a:lnTo>
                              <a:pt x="35" y="225"/>
                            </a:lnTo>
                            <a:lnTo>
                              <a:pt x="75" y="353"/>
                            </a:lnTo>
                            <a:lnTo>
                              <a:pt x="111" y="491"/>
                            </a:lnTo>
                            <a:lnTo>
                              <a:pt x="137" y="500"/>
                            </a:lnTo>
                            <a:lnTo>
                              <a:pt x="226" y="513"/>
                            </a:lnTo>
                          </a:path>
                        </a:pathLst>
                      </a:custGeom>
                      <a:ln w="12600">
                        <a:solidFill>
                          <a:srgbClr val="9f3f00"/>
                        </a:solidFill>
                        <a:round/>
                      </a:ln>
                    </p:spPr>
                    <p:txBody>
                      <a:bodyPr lIns="96120" rIns="96120" tIns="51120" bIns="51120" anchor="t">
                        <a:noAutofit/>
                      </a:bodyPr>
                      <a:p>
                        <a:endParaRPr b="0" lang="en-US" sz="1800" spc="-1" strike="noStrike">
                          <a:solidFill>
                            <a:srgbClr val="ffffff"/>
                          </a:solidFill>
                          <a:latin typeface="Arial"/>
                        </a:endParaRPr>
                      </a:p>
                    </p:txBody>
                  </p:sp>
                  <p:sp>
                    <p:nvSpPr>
                      <p:cNvPr id="1181" name=""/>
                      <p:cNvSpPr/>
                      <p:nvPr/>
                    </p:nvSpPr>
                    <p:spPr>
                      <a:xfrm>
                        <a:off x="2085840" y="2235240"/>
                        <a:ext cx="132120" cy="286200"/>
                      </a:xfrm>
                      <a:custGeom>
                        <a:avLst/>
                        <a:gdLst/>
                        <a:ahLst/>
                        <a:rect l="0" t="0" r="r" b="b"/>
                        <a:pathLst>
                          <a:path fill="none" w="367" h="795">
                            <a:moveTo>
                              <a:pt x="234" y="503"/>
                            </a:moveTo>
                            <a:lnTo>
                              <a:pt x="252" y="530"/>
                            </a:lnTo>
                            <a:lnTo>
                              <a:pt x="269" y="583"/>
                            </a:lnTo>
                            <a:lnTo>
                              <a:pt x="269" y="628"/>
                            </a:lnTo>
                            <a:lnTo>
                              <a:pt x="256" y="685"/>
                            </a:lnTo>
                            <a:lnTo>
                              <a:pt x="243" y="734"/>
                            </a:lnTo>
                            <a:lnTo>
                              <a:pt x="208" y="773"/>
                            </a:lnTo>
                            <a:lnTo>
                              <a:pt x="171" y="791"/>
                            </a:lnTo>
                            <a:lnTo>
                              <a:pt x="123" y="795"/>
                            </a:lnTo>
                            <a:lnTo>
                              <a:pt x="79" y="773"/>
                            </a:lnTo>
                            <a:lnTo>
                              <a:pt x="52" y="734"/>
                            </a:lnTo>
                            <a:lnTo>
                              <a:pt x="22" y="681"/>
                            </a:lnTo>
                            <a:lnTo>
                              <a:pt x="8" y="632"/>
                            </a:lnTo>
                            <a:lnTo>
                              <a:pt x="0" y="561"/>
                            </a:lnTo>
                            <a:lnTo>
                              <a:pt x="8" y="503"/>
                            </a:lnTo>
                            <a:lnTo>
                              <a:pt x="35" y="455"/>
                            </a:lnTo>
                            <a:lnTo>
                              <a:pt x="70" y="428"/>
                            </a:lnTo>
                            <a:lnTo>
                              <a:pt x="132" y="415"/>
                            </a:lnTo>
                            <a:lnTo>
                              <a:pt x="176" y="428"/>
                            </a:lnTo>
                            <a:lnTo>
                              <a:pt x="217" y="459"/>
                            </a:lnTo>
                            <a:lnTo>
                              <a:pt x="234" y="499"/>
                            </a:lnTo>
                            <a:lnTo>
                              <a:pt x="252" y="464"/>
                            </a:lnTo>
                            <a:lnTo>
                              <a:pt x="256" y="428"/>
                            </a:lnTo>
                            <a:lnTo>
                              <a:pt x="256" y="393"/>
                            </a:lnTo>
                            <a:lnTo>
                              <a:pt x="225" y="384"/>
                            </a:lnTo>
                            <a:lnTo>
                              <a:pt x="186" y="358"/>
                            </a:lnTo>
                            <a:lnTo>
                              <a:pt x="158" y="322"/>
                            </a:lnTo>
                            <a:lnTo>
                              <a:pt x="145" y="287"/>
                            </a:lnTo>
                            <a:lnTo>
                              <a:pt x="127" y="247"/>
                            </a:lnTo>
                            <a:lnTo>
                              <a:pt x="123" y="198"/>
                            </a:lnTo>
                            <a:lnTo>
                              <a:pt x="123" y="154"/>
                            </a:lnTo>
                            <a:lnTo>
                              <a:pt x="132" y="105"/>
                            </a:lnTo>
                            <a:lnTo>
                              <a:pt x="141" y="66"/>
                            </a:lnTo>
                            <a:lnTo>
                              <a:pt x="154" y="26"/>
                            </a:lnTo>
                            <a:lnTo>
                              <a:pt x="186" y="8"/>
                            </a:lnTo>
                            <a:lnTo>
                              <a:pt x="225" y="0"/>
                            </a:lnTo>
                            <a:lnTo>
                              <a:pt x="278" y="4"/>
                            </a:lnTo>
                            <a:lnTo>
                              <a:pt x="305" y="26"/>
                            </a:lnTo>
                            <a:lnTo>
                              <a:pt x="327" y="48"/>
                            </a:lnTo>
                            <a:lnTo>
                              <a:pt x="344" y="92"/>
                            </a:lnTo>
                            <a:lnTo>
                              <a:pt x="358" y="141"/>
                            </a:lnTo>
                            <a:lnTo>
                              <a:pt x="367" y="203"/>
                            </a:lnTo>
                            <a:lnTo>
                              <a:pt x="358" y="269"/>
                            </a:lnTo>
                            <a:lnTo>
                              <a:pt x="349" y="322"/>
                            </a:lnTo>
                            <a:lnTo>
                              <a:pt x="322" y="358"/>
                            </a:lnTo>
                            <a:lnTo>
                              <a:pt x="292" y="384"/>
                            </a:lnTo>
                            <a:lnTo>
                              <a:pt x="256" y="393"/>
                            </a:lnTo>
                          </a:path>
                        </a:pathLst>
                      </a:custGeom>
                      <a:ln w="12600">
                        <a:solidFill>
                          <a:srgbClr val="9f3f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182" name=""/>
                    <p:cNvSpPr/>
                    <p:nvPr/>
                  </p:nvSpPr>
                  <p:spPr>
                    <a:xfrm>
                      <a:off x="1919160" y="2301840"/>
                      <a:ext cx="228960" cy="97200"/>
                    </a:xfrm>
                    <a:custGeom>
                      <a:avLst/>
                      <a:gdLst/>
                      <a:ahLst/>
                      <a:rect l="0" t="0" r="r" b="b"/>
                      <a:pathLst>
                        <a:path w="636" h="270">
                          <a:moveTo>
                            <a:pt x="636" y="199"/>
                          </a:moveTo>
                          <a:lnTo>
                            <a:pt x="556" y="106"/>
                          </a:lnTo>
                          <a:lnTo>
                            <a:pt x="494" y="52"/>
                          </a:lnTo>
                          <a:lnTo>
                            <a:pt x="450" y="26"/>
                          </a:lnTo>
                          <a:lnTo>
                            <a:pt x="384" y="4"/>
                          </a:lnTo>
                          <a:lnTo>
                            <a:pt x="349" y="0"/>
                          </a:lnTo>
                          <a:lnTo>
                            <a:pt x="327" y="8"/>
                          </a:lnTo>
                          <a:lnTo>
                            <a:pt x="273" y="35"/>
                          </a:lnTo>
                          <a:lnTo>
                            <a:pt x="211" y="80"/>
                          </a:lnTo>
                          <a:lnTo>
                            <a:pt x="145" y="120"/>
                          </a:lnTo>
                          <a:lnTo>
                            <a:pt x="70" y="150"/>
                          </a:lnTo>
                          <a:lnTo>
                            <a:pt x="22" y="177"/>
                          </a:lnTo>
                          <a:lnTo>
                            <a:pt x="0" y="209"/>
                          </a:lnTo>
                          <a:lnTo>
                            <a:pt x="0" y="235"/>
                          </a:lnTo>
                          <a:lnTo>
                            <a:pt x="17" y="257"/>
                          </a:lnTo>
                          <a:lnTo>
                            <a:pt x="48" y="270"/>
                          </a:lnTo>
                          <a:lnTo>
                            <a:pt x="114" y="253"/>
                          </a:lnTo>
                          <a:lnTo>
                            <a:pt x="171" y="226"/>
                          </a:lnTo>
                          <a:lnTo>
                            <a:pt x="242" y="199"/>
                          </a:lnTo>
                          <a:lnTo>
                            <a:pt x="299" y="159"/>
                          </a:lnTo>
                          <a:lnTo>
                            <a:pt x="362" y="133"/>
                          </a:lnTo>
                          <a:lnTo>
                            <a:pt x="397" y="168"/>
                          </a:lnTo>
                          <a:lnTo>
                            <a:pt x="450" y="199"/>
                          </a:lnTo>
                          <a:lnTo>
                            <a:pt x="477" y="235"/>
                          </a:lnTo>
                          <a:lnTo>
                            <a:pt x="556" y="199"/>
                          </a:lnTo>
                          <a:lnTo>
                            <a:pt x="636" y="19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0" name=""/>
          <p:cNvSpPr txBox="1"/>
          <p:nvPr/>
        </p:nvSpPr>
        <p:spPr>
          <a:xfrm>
            <a:off x="990720" y="380880"/>
            <a:ext cx="75438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Inventory Issues</a:t>
            </a:r>
            <a:endParaRPr b="0" lang="en-US" sz="4400" spc="-1" strike="noStrike">
              <a:solidFill>
                <a:srgbClr val="ffffff"/>
              </a:solidFill>
              <a:latin typeface="Arial"/>
            </a:endParaRPr>
          </a:p>
        </p:txBody>
      </p:sp>
      <p:sp>
        <p:nvSpPr>
          <p:cNvPr id="61" name=""/>
          <p:cNvSpPr txBox="1"/>
          <p:nvPr/>
        </p:nvSpPr>
        <p:spPr>
          <a:xfrm>
            <a:off x="1066680" y="1447920"/>
            <a:ext cx="7848720" cy="426708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Important decisions regarding inventory include:</a:t>
            </a:r>
            <a:endParaRPr b="0" lang="en-US" sz="32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What assumptions to make about the flow of inventory costs.</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What prices to put on inventory.</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What inventory systems to use.</a:t>
            </a:r>
            <a:endParaRPr b="0" lang="en-US" sz="2800" spc="-1" strike="noStrike">
              <a:solidFill>
                <a:srgbClr val="ffffff"/>
              </a:solidFill>
              <a:latin typeface="Arial"/>
            </a:endParaRPr>
          </a:p>
          <a:p>
            <a:pPr lvl="1" marL="743040" indent="-285840">
              <a:lnSpc>
                <a:spcPct val="120000"/>
              </a:lnSpc>
              <a:spcBef>
                <a:spcPts val="479"/>
              </a:spcBef>
              <a:buClr>
                <a:srgbClr val="ffcc66"/>
              </a:buClr>
              <a:buFont typeface="Symbol"/>
              <a:buChar char=""/>
            </a:pPr>
            <a:r>
              <a:rPr b="1" lang="en-US" sz="2800" spc="-1" strike="noStrike">
                <a:solidFill>
                  <a:srgbClr val="fcffd8"/>
                </a:solidFill>
                <a:latin typeface="Arial"/>
                <a:ea typeface="Arial"/>
              </a:rPr>
              <a:t>How to protect inventory against lo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2" name=""/>
          <p:cNvSpPr txBox="1"/>
          <p:nvPr/>
        </p:nvSpPr>
        <p:spPr>
          <a:xfrm>
            <a:off x="1066680" y="1447920"/>
            <a:ext cx="7543800" cy="43434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Inventory is considered a current asset because it will normally be sold within a year’s time or within a company’s operating cycle.</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i="1" lang="en-US" sz="3200" spc="-1" strike="noStrike">
                <a:solidFill>
                  <a:srgbClr val="fcffd8"/>
                </a:solidFill>
                <a:latin typeface="Arial"/>
                <a:ea typeface="Arial"/>
              </a:rPr>
              <a:t>Merchandise Inventory</a:t>
            </a:r>
            <a:r>
              <a:rPr b="1" i="1" lang="en-US" sz="3200" spc="-1" strike="noStrike">
                <a:solidFill>
                  <a:srgbClr val="618ffd"/>
                </a:solidFill>
                <a:latin typeface="Arial"/>
                <a:ea typeface="Arial"/>
              </a:rPr>
              <a:t> </a:t>
            </a:r>
            <a:r>
              <a:rPr b="1" lang="en-US" sz="3200" spc="-1" strike="noStrike">
                <a:solidFill>
                  <a:srgbClr val="fcffd8"/>
                </a:solidFill>
                <a:latin typeface="Arial"/>
                <a:ea typeface="Arial"/>
              </a:rPr>
              <a:t>consists of all goods owned and held for sale in the regular course of business.</a:t>
            </a:r>
            <a:endParaRPr b="0" lang="en-US" sz="3200" spc="-1" strike="noStrike">
              <a:solidFill>
                <a:srgbClr val="ffffff"/>
              </a:solidFill>
              <a:latin typeface="Arial"/>
            </a:endParaRPr>
          </a:p>
        </p:txBody>
      </p:sp>
      <p:sp>
        <p:nvSpPr>
          <p:cNvPr id="63" name=""/>
          <p:cNvSpPr txBox="1"/>
          <p:nvPr/>
        </p:nvSpPr>
        <p:spPr>
          <a:xfrm>
            <a:off x="1066680" y="228600"/>
            <a:ext cx="754380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for Inventori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eedles &amp; Powers</dc:creator>
  <dc:description>chap 1 slides of financial acctg book</dc:description>
  <dc:language>en-US</dc:language>
  <cp:lastModifiedBy>HMCo User</cp:lastModifiedBy>
  <cp:revision>0</cp:revision>
  <dc:subject/>
  <dc:title>Chapter 1 Uses of Accounting Information and the Basic Financial Statements</dc:title>
</cp:coreProperties>
</file>