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311-CBAF-4752-A39E-09DF43FD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D15-75D5-4342-94FE-4A03BD9A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8EE-EC90-4150-97E5-23DD96E4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F82-56B5-4C77-BD85-64DBCFB7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391-A8AC-4220-99ED-8D060517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F12-3D1B-41FF-B79D-212CD22C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511-36A6-4582-A635-B93EBD9D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EFA-90B4-470C-A70A-843991AE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C48-02C8-4B7F-BD4E-E7C670FE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2CB-A6A6-45CB-98E8-D769D335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4E2-9347-484F-9EDD-071B0C59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35D-1500-4D66-893B-E3B312D6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C819-4728-45D7-AFFD-6D004C631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" Target="slide21.xml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ctur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ation and 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kun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752480"/>
            <a:ext cx="815328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deviation of output from its equilibrium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 inversely related to the deviation o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employment from its equilibrium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46360" y="4214880"/>
                <a:ext cx="5835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674280" y="5553000"/>
            <a:ext cx="675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 percentage point of unemployment gap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 percentage points of GDP g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06640" y="2335320"/>
                <a:ext cx="70894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62120" y="3886200"/>
            <a:ext cx="1981080" cy="1295280"/>
          </a:xfrm>
          <a:prstGeom prst="wedgeRectCallout">
            <a:avLst>
              <a:gd name="adj1" fmla="val 44472"/>
              <a:gd name="adj2" fmla="val -9742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pecte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447880" y="255276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267080"/>
            <a:ext cx="2514600" cy="1524240"/>
          </a:xfrm>
          <a:prstGeom prst="wedgeRectCallout">
            <a:avLst>
              <a:gd name="adj1" fmla="val 2083"/>
              <a:gd name="adj2" fmla="val -818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ycli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380880"/>
            <a:ext cx="2286000" cy="1371600"/>
          </a:xfrm>
          <a:prstGeom prst="wedgeRectCallout">
            <a:avLst>
              <a:gd name="adj1" fmla="val 5625"/>
              <a:gd name="adj2" fmla="val 12662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pply sh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228600"/>
            <a:ext cx="2286000" cy="1371600"/>
          </a:xfrm>
          <a:prstGeom prst="wedgeRectCallout">
            <a:avLst>
              <a:gd name="adj1" fmla="val 36458"/>
              <a:gd name="adj2" fmla="val 10995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f the Philli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r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V="1">
            <a:off x="1676520" y="17524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6019920"/>
            <a:ext cx="579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267080" y="15998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666880"/>
            <a:ext cx="3352680" cy="2667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1523880"/>
            <a:ext cx="3657600" cy="289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53080" y="565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96840" y="1454040"/>
                <a:ext cx="603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991320" y="597384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73760" y="5181480"/>
                <a:ext cx="1592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265800" y="4265640"/>
                <a:ext cx="1557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3657600"/>
                <a:ext cx="539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H="1">
            <a:off x="1676520" y="403848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82720" y="2206800"/>
                <a:ext cx="50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 flipH="1">
            <a:off x="1676520" y="259092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06640" y="125280"/>
                <a:ext cx="708948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443640" y="2208240"/>
                <a:ext cx="14000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1523880" y="83772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563868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371600"/>
            <a:ext cx="3809880" cy="380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1295280"/>
            <a:ext cx="3809880" cy="3810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200400"/>
            <a:ext cx="1447560" cy="304920"/>
          </a:xfrm>
          <a:prstGeom prst="rightArrow">
            <a:avLst>
              <a:gd name="adj1" fmla="val 50000"/>
              <a:gd name="adj2" fmla="val 1186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0152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53000" y="523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1523880"/>
            <a:ext cx="1752840" cy="914400"/>
          </a:xfrm>
          <a:prstGeom prst="wedgeRectCallout">
            <a:avLst>
              <a:gd name="adj1" fmla="val -62861"/>
              <a:gd name="adj2" fmla="val 12587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05760" y="4867200"/>
            <a:ext cx="7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40880" y="4738680"/>
            <a:ext cx="7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2280"/>
            <a:ext cx="5181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 static AD cur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ynamic Aggregate demand (DA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1440" y="2921040"/>
                <a:ext cx="45165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 rot="16200000">
            <a:off x="5592600" y="19807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74"/>
                </a:lnTo>
                <a:cubicBezTo>
                  <a:pt x="10800" y="9674"/>
                  <a:pt x="16200" y="10574"/>
                  <a:pt x="21600" y="10574"/>
                </a:cubicBezTo>
                <a:cubicBezTo>
                  <a:pt x="16200" y="10574"/>
                  <a:pt x="10800" y="11474"/>
                  <a:pt x="10800" y="1237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08000" y="1700280"/>
            <a:ext cx="3276720" cy="914400"/>
          </a:xfrm>
          <a:prstGeom prst="wedgeRectCallout">
            <a:avLst>
              <a:gd name="adj1" fmla="val 77324"/>
              <a:gd name="adj2" fmla="val 5590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wth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ey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335320" y="5318280"/>
                <a:ext cx="45669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971800" y="4191120"/>
            <a:ext cx="388620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namic multi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71640" y="36576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228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 Okun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036880" y="3184560"/>
                <a:ext cx="60404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295280" y="4572000"/>
            <a:ext cx="1981440" cy="1295280"/>
          </a:xfrm>
          <a:prstGeom prst="wedgeRectCallout">
            <a:avLst>
              <a:gd name="adj1" fmla="val 44472"/>
              <a:gd name="adj2" fmla="val -9742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5543280" y="323856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4952880"/>
            <a:ext cx="2514600" cy="1524240"/>
          </a:xfrm>
          <a:prstGeom prst="wedgeRectCallout">
            <a:avLst>
              <a:gd name="adj1" fmla="val 2083"/>
              <a:gd name="adj2" fmla="val -818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cl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62360" y="1295280"/>
            <a:ext cx="2286000" cy="1371600"/>
          </a:xfrm>
          <a:prstGeom prst="wedgeRectCallout">
            <a:avLst>
              <a:gd name="adj1" fmla="val 26388"/>
              <a:gd name="adj2" fmla="val 9201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4572000"/>
            <a:ext cx="1981080" cy="1295280"/>
          </a:xfrm>
          <a:prstGeom prst="wedgeRectCallout">
            <a:avLst>
              <a:gd name="adj1" fmla="val -3847"/>
              <a:gd name="adj2" fmla="val -10306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flipV="1">
            <a:off x="2057400" y="182844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9588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648320" y="1676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19520" y="2819160"/>
            <a:ext cx="380988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1599840"/>
            <a:ext cx="380988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34320" y="573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01760" y="1371600"/>
                <a:ext cx="8319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372200" y="60498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386000" y="3751200"/>
                <a:ext cx="6109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 flipH="1">
            <a:off x="2057040" y="411480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16160" y="2332080"/>
                <a:ext cx="609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2057040" y="266688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443640" y="2276640"/>
                <a:ext cx="1851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408720" y="1136520"/>
                <a:ext cx="1851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70160" y="76320"/>
                <a:ext cx="59893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ong-run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ble (constant) infl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ectations are fulfill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 shoc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523880"/>
            <a:ext cx="716256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ady state equilibri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racterization of long-ru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49720" y="4437000"/>
                <a:ext cx="14922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82560" y="443700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56000" y="6021360"/>
                <a:ext cx="865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23880" y="1779480"/>
                <a:ext cx="198144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624640" y="1862280"/>
                <a:ext cx="1919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733920" y="2162160"/>
            <a:ext cx="1600200" cy="380880"/>
          </a:xfrm>
          <a:prstGeom prst="rightArrow">
            <a:avLst>
              <a:gd name="adj1" fmla="val 50000"/>
              <a:gd name="adj2" fmla="val 10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3284640"/>
            <a:ext cx="6782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atural rate of 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42920" y="4581360"/>
            <a:ext cx="0" cy="18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645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22560" y="465300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01840" y="5013360"/>
            <a:ext cx="1441440" cy="1008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74920" y="4941360"/>
            <a:ext cx="136836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60680" y="4705200"/>
                <a:ext cx="8427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-25560" y="5300640"/>
                <a:ext cx="1059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042920" y="551664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73640" y="6134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inflation in the 80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hort-ru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1600200"/>
            <a:ext cx="43434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del in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1720" y="1978200"/>
            <a:ext cx="198288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ods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eynes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oss (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8440"/>
            <a:ext cx="198252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rkets (L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78400" y="2968560"/>
            <a:ext cx="198252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1217520"/>
            <a:ext cx="198252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bou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1600" y="1979640"/>
            <a:ext cx="198252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-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P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79840" y="4875120"/>
            <a:ext cx="198288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e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4875120"/>
            <a:ext cx="1982880" cy="114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*,Y,e, 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5146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90920" y="335268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3040" y="228600"/>
            <a:ext cx="1982880" cy="114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D-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R,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562720" y="17524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562720" y="266652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31520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2895480"/>
            <a:ext cx="5486400" cy="342900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5410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3429000"/>
            <a:ext cx="14475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362320"/>
            <a:ext cx="2361960" cy="2361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 flipV="1">
            <a:off x="2354400" y="167616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54400" y="5943600"/>
            <a:ext cx="5790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944960" y="152352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68800" y="1905120"/>
            <a:ext cx="3894120" cy="3124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048120" y="2514240"/>
            <a:ext cx="380988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30960" y="558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598760" y="1219320"/>
                <a:ext cx="8316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669200" y="589752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551640" y="4952880"/>
                <a:ext cx="1593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752480" y="3241800"/>
                <a:ext cx="462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 flipH="1" flipV="1">
            <a:off x="2354040" y="3569760"/>
            <a:ext cx="2979720" cy="111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230880" y="2008080"/>
                <a:ext cx="18558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490640" y="10206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31360" y="3048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114800" y="3124080"/>
            <a:ext cx="3809880" cy="2438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986520" y="2658960"/>
                <a:ext cx="1852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D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342120" y="3962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361960" y="426708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4267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9080" y="5043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362320" y="5029200"/>
            <a:ext cx="2590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752480" y="3886200"/>
                <a:ext cx="50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4000" y="4653000"/>
                <a:ext cx="22669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2666880" y="3200400"/>
            <a:ext cx="2827440" cy="2255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378160" y="2727360"/>
                <a:ext cx="1560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C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807160" y="5867280"/>
            <a:ext cx="82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358000">
            <a:off x="5181120" y="365724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9000600">
            <a:off x="5028840" y="441972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2680" y="228600"/>
            <a:ext cx="65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-inflation in the beginning of the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00"/>
                            </p:stCondLst>
                            <p:childTnLst>
                              <p:par>
                                <p:cTn id="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flipV="1">
            <a:off x="1295280" y="6091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74320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95280" y="38095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594360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812880"/>
            <a:ext cx="5639040" cy="1295280"/>
          </a:xfrm>
          <a:custGeom>
            <a:avLst/>
            <a:gdLst/>
            <a:ahLst/>
            <a:rect l="l" t="t" r="r" b="b"/>
            <a:pathLst>
              <a:path w="3552" h="816">
                <a:moveTo>
                  <a:pt x="0" y="784"/>
                </a:moveTo>
                <a:cubicBezTo>
                  <a:pt x="140" y="408"/>
                  <a:pt x="280" y="32"/>
                  <a:pt x="720" y="16"/>
                </a:cubicBezTo>
                <a:cubicBezTo>
                  <a:pt x="1160" y="0"/>
                  <a:pt x="2168" y="560"/>
                  <a:pt x="2640" y="688"/>
                </a:cubicBezTo>
                <a:cubicBezTo>
                  <a:pt x="3112" y="816"/>
                  <a:pt x="3332" y="800"/>
                  <a:pt x="3552" y="78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4343400"/>
            <a:ext cx="5334120" cy="1092240"/>
          </a:xfrm>
          <a:custGeom>
            <a:avLst/>
            <a:gdLst/>
            <a:ahLst/>
            <a:rect l="l" t="t" r="r" b="b"/>
            <a:pathLst>
              <a:path w="3360" h="688">
                <a:moveTo>
                  <a:pt x="0" y="0"/>
                </a:moveTo>
                <a:cubicBezTo>
                  <a:pt x="152" y="232"/>
                  <a:pt x="304" y="464"/>
                  <a:pt x="864" y="576"/>
                </a:cubicBezTo>
                <a:cubicBezTo>
                  <a:pt x="1424" y="688"/>
                  <a:pt x="2944" y="656"/>
                  <a:pt x="3360" y="672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19200" y="3809880"/>
                <a:ext cx="6760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57280" y="4751280"/>
                <a:ext cx="6271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 flipH="1">
            <a:off x="1294920" y="541008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38080" y="3502080"/>
                <a:ext cx="5349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16200" y="30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3480" y="1819440"/>
            <a:ext cx="5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7360" y="243828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7360" y="565308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8305920" y="38098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5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5"/>
                </a:lnTo>
                <a:lnTo>
                  <a:pt x="20200" y="23305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5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5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ation and unemployment in the UK is the early 198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1974960"/>
          <a:ext cx="762012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74960"/>
                    <a:ext cx="76201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>
            <a:hlinkClick r:id="rId3" action="ppaction://hlinksldjump"/>
          </p:cNvPr>
          <p:cNvSpPr/>
          <p:nvPr/>
        </p:nvSpPr>
        <p:spPr>
          <a:xfrm>
            <a:off x="8381880" y="380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0880" y="447840"/>
            <a:ext cx="912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acrifice ratio (SR) = the percentage points loss in a year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DP as a consequence of a one percentag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uction in inf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3200" y="2048040"/>
            <a:ext cx="753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flation reduced from 20 to 5 percent in 6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3560" y="2733840"/>
            <a:ext cx="58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ppose the natural rate is 3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9160" y="334332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unemployment gap is: 2+5+7+7+7+7=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4040" y="4029120"/>
            <a:ext cx="81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kun’s Law suggests that this translat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70 percentage point accumulated loss over 6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11600" y="5248440"/>
            <a:ext cx="256284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R = 70/15=4.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feating inf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long run, inflation will be low if the rate of money growth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ransition from high to low inflation may be painful if expectations are slow to ad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aptive expectations and the sacrifice ra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ational expectations and painless disinf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ge contracts take time to ad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 credibility may speed the adjustm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7" dur="1" fill="hold"/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hat is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open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irical f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ynamic AD-AS model (the Phillips Curve Mode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Phillips Curve Model to make sense of the 80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Phillips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44320" y="1525680"/>
            <a:ext cx="8145360" cy="4800600"/>
            <a:chOff x="544320" y="1525680"/>
            <a:chExt cx="8145360" cy="4800600"/>
          </a:xfrm>
        </p:grpSpPr>
        <p:sp>
          <p:nvSpPr>
            <p:cNvPr id="65" name=""/>
            <p:cNvSpPr/>
            <p:nvPr/>
          </p:nvSpPr>
          <p:spPr>
            <a:xfrm>
              <a:off x="544320" y="1525680"/>
              <a:ext cx="762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f. A W Phillips demonstrated a statistical relation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tween annual inflation and unemployment in the U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181480" y="25146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81480" y="571500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99480" y="59580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nemployment rate (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3515760" y="331380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nflation rate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68520" y="2563920"/>
            <a:ext cx="7713360" cy="3379680"/>
            <a:chOff x="668520" y="2563920"/>
            <a:chExt cx="7713360" cy="3379680"/>
          </a:xfrm>
        </p:grpSpPr>
        <p:sp>
          <p:nvSpPr>
            <p:cNvPr id="71" name=""/>
            <p:cNvSpPr/>
            <p:nvPr/>
          </p:nvSpPr>
          <p:spPr>
            <a:xfrm>
              <a:off x="668520" y="2563920"/>
              <a:ext cx="3640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Phillips curve sh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t a higher inflation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s accompanied by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wer unemployment rat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352680"/>
              <a:ext cx="2895480" cy="2590920"/>
            </a:xfrm>
            <a:custGeom>
              <a:avLst/>
              <a:gdLst/>
              <a:ahLst/>
              <a:rect l="l" t="t" r="r" b="b"/>
              <a:pathLst>
                <a:path w="1824" h="1632">
                  <a:moveTo>
                    <a:pt x="0" y="0"/>
                  </a:moveTo>
                  <a:cubicBezTo>
                    <a:pt x="88" y="488"/>
                    <a:pt x="176" y="976"/>
                    <a:pt x="480" y="1248"/>
                  </a:cubicBezTo>
                  <a:cubicBezTo>
                    <a:pt x="784" y="1520"/>
                    <a:pt x="1304" y="1576"/>
                    <a:pt x="1824" y="1632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22840" y="308772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illips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43400" y="4468680"/>
            <a:ext cx="373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suggests 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-off more infl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s unemployment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36400" y="1828800"/>
          <a:ext cx="7910640" cy="38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28800"/>
                    <a:ext cx="791064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33520" y="457200"/>
            <a:ext cx="7848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employment as a  % of the labour for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ited King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720" y="62136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ECD, Main indic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905120"/>
          <a:ext cx="8458200" cy="41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45820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85800" y="304920"/>
            <a:ext cx="76960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lation, GDP deflator (annual, %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ited King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7320" y="621360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ECD. Main indic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8480" y="838080"/>
            <a:ext cx="77724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lation and unemployme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e UK 1978-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2021040"/>
          <a:ext cx="776916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1040"/>
                    <a:ext cx="776916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817280" y="405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6760" y="2535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32280" y="495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31680" y="367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6040" y="5035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17880" y="4995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lation and unemployment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hort-r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447920"/>
            <a:ext cx="3581280" cy="7617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a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1447920"/>
            <a:ext cx="3581640" cy="7617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ynam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42900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33526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Aggreg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and (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64832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-run aggre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 (S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648320"/>
            <a:ext cx="419076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-run Phillips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438280"/>
            <a:ext cx="30481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and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2362320"/>
            <a:ext cx="373356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8672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-run aggre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 (L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5867280"/>
            <a:ext cx="3429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-run Phil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ve (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Phillips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68880" y="1276200"/>
                <a:ext cx="3463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80880" y="1295280"/>
            <a:ext cx="289584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 supp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229280" y="2246400"/>
                <a:ext cx="3465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880" y="2286000"/>
            <a:ext cx="289584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276720"/>
            <a:ext cx="289584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tract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2040" y="3276720"/>
                <a:ext cx="53960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4648320"/>
                <a:ext cx="54864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66680" y="5791320"/>
            <a:ext cx="2590920" cy="914400"/>
          </a:xfrm>
          <a:prstGeom prst="wedgeRectCallout">
            <a:avLst>
              <a:gd name="adj1" fmla="val -8333"/>
              <a:gd name="adj2" fmla="val -8437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11:28:23Z</dcterms:created>
  <dc:creator>Toke Aidt</dc:creator>
  <dc:description/>
  <dc:language>en-US</dc:language>
  <cp:lastModifiedBy>tsa23</cp:lastModifiedBy>
  <cp:lastPrinted>2001-02-25T17:53:37Z</cp:lastPrinted>
  <dcterms:modified xsi:type="dcterms:W3CDTF">2008-02-27T11:54:25Z</dcterms:modified>
  <cp:revision>49</cp:revision>
  <dc:subject/>
  <dc:title>Macroeconomics</dc:title>
</cp:coreProperties>
</file>