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54A-B79F-411E-A0F5-6F547C89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08F-015D-444C-8370-B7900700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4FB-24D1-4B64-A651-6B56B940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25C-D662-4209-812E-351733AA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000-F831-4C25-81AD-FBB978AD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C29-C833-455F-BC3B-0150054E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1A7-6ABB-44E1-A510-DCF3355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166-1251-48E8-B744-AB37921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B61-D83C-4972-A019-6851ACAA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A7F-707B-40A0-A571-0D93CE8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F9A-EA33-49AA-9D31-D720C4A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D35-FCA7-4FFB-BD3C-14BEEA6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65B-F8DA-429B-A0D6-16BCFB40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kun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752480"/>
            <a:ext cx="81532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deviation of outpu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inversely related to the deviation o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46360" y="4214880"/>
                <a:ext cx="583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74280" y="5553000"/>
            <a:ext cx="67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percentage point of unemployment gap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 percentage points of GDP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06640" y="2335320"/>
                <a:ext cx="70894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62120" y="3886200"/>
            <a:ext cx="198108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pecte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447880" y="25527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2670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80880"/>
            <a:ext cx="2286000" cy="1371600"/>
          </a:xfrm>
          <a:prstGeom prst="wedgeRectCallout">
            <a:avLst>
              <a:gd name="adj1" fmla="val 5625"/>
              <a:gd name="adj2" fmla="val 12662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pply sh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228600"/>
            <a:ext cx="2286000" cy="1371600"/>
          </a:xfrm>
          <a:prstGeom prst="wedgeRectCallout">
            <a:avLst>
              <a:gd name="adj1" fmla="val 36458"/>
              <a:gd name="adj2" fmla="val 10995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f the Phill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1676520" y="17524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601992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67080" y="15998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666880"/>
            <a:ext cx="3352680" cy="2667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1523880"/>
            <a:ext cx="365760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53080" y="565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96840" y="1454040"/>
                <a:ext cx="603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991320" y="59738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73760" y="5181480"/>
                <a:ext cx="1592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265800" y="4265640"/>
                <a:ext cx="1557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3657600"/>
                <a:ext cx="539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H="1">
            <a:off x="1676520" y="40384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82720" y="2206800"/>
                <a:ext cx="50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 flipH="1">
            <a:off x="1676520" y="259092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06640" y="125280"/>
                <a:ext cx="70894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43640" y="2208240"/>
                <a:ext cx="1400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523880" y="8377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371600"/>
            <a:ext cx="380988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1295280"/>
            <a:ext cx="3809880" cy="3810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20040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15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3000" y="523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1523880"/>
            <a:ext cx="1752840" cy="914400"/>
          </a:xfrm>
          <a:prstGeom prst="wedgeRectCallout">
            <a:avLst>
              <a:gd name="adj1" fmla="val -62861"/>
              <a:gd name="adj2" fmla="val 1258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5760" y="486720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0880" y="473868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2280"/>
            <a:ext cx="5181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static AD cur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ynamic Aggregate demand (D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1440" y="2921040"/>
                <a:ext cx="4516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rot="16200000">
            <a:off x="5592600" y="19807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4"/>
                </a:lnTo>
                <a:cubicBezTo>
                  <a:pt x="10800" y="9674"/>
                  <a:pt x="16200" y="10574"/>
                  <a:pt x="21600" y="10574"/>
                </a:cubicBezTo>
                <a:cubicBezTo>
                  <a:pt x="16200" y="10574"/>
                  <a:pt x="10800" y="11474"/>
                  <a:pt x="10800" y="123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8000" y="1700280"/>
            <a:ext cx="3276720" cy="914400"/>
          </a:xfrm>
          <a:prstGeom prst="wedgeRectCallout">
            <a:avLst>
              <a:gd name="adj1" fmla="val 77324"/>
              <a:gd name="adj2" fmla="val 5590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35320" y="5318280"/>
                <a:ext cx="45669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971800" y="4191120"/>
            <a:ext cx="38862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71640" y="36576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228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 Okun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36880" y="3184560"/>
                <a:ext cx="60404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295280" y="4572000"/>
            <a:ext cx="198144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5543280" y="32385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9528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2360" y="1295280"/>
            <a:ext cx="2286000" cy="1371600"/>
          </a:xfrm>
          <a:prstGeom prst="wedgeRectCallout">
            <a:avLst>
              <a:gd name="adj1" fmla="val 26388"/>
              <a:gd name="adj2" fmla="val 9201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4572000"/>
            <a:ext cx="1981080" cy="1295280"/>
          </a:xfrm>
          <a:prstGeom prst="wedgeRectCallout">
            <a:avLst>
              <a:gd name="adj1" fmla="val -3847"/>
              <a:gd name="adj2" fmla="val -1030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flipV="1">
            <a:off x="2057400" y="182844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958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8320" y="1676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19520" y="2819160"/>
            <a:ext cx="380988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5998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34320" y="573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01760" y="1371600"/>
                <a:ext cx="8319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372200" y="60498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86000" y="3751200"/>
                <a:ext cx="610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H="1">
            <a:off x="2057040" y="411480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16160" y="2332080"/>
                <a:ext cx="609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2057040" y="26668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43640" y="227664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08720" y="113652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0160" y="76320"/>
                <a:ext cx="59893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ble (constant) inf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ectations are fulfil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shoc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523880"/>
            <a:ext cx="716256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ady state 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racterization of long-ru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49720" y="4437000"/>
                <a:ext cx="14922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82560" y="4437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56000" y="6021360"/>
                <a:ext cx="865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1779480"/>
                <a:ext cx="19814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624640" y="1862280"/>
                <a:ext cx="1919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733920" y="216216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3284640"/>
            <a:ext cx="6782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tural rate of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4581360"/>
            <a:ext cx="0" cy="18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645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22560" y="46530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1840" y="5013360"/>
            <a:ext cx="1441440" cy="1008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74920" y="4941360"/>
            <a:ext cx="136836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60680" y="4705200"/>
                <a:ext cx="8427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-25560" y="5300640"/>
                <a:ext cx="1059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042920" y="551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3640" y="6134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inflation in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hort-ru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1600200"/>
            <a:ext cx="43434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del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1720" y="19782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ss (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4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 (L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78400" y="296856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121752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1600" y="19796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-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P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7984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*,Y,e, 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5146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90920" y="335268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3040" y="2286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D-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562720" y="17524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562720" y="266652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31520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895480"/>
            <a:ext cx="5486400" cy="342900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429000"/>
            <a:ext cx="14475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362320"/>
            <a:ext cx="2361960" cy="2361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V="1">
            <a:off x="2354400" y="167616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54400" y="594360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44960" y="152352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0" y="1905120"/>
            <a:ext cx="3894120" cy="312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25142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30960" y="558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598760" y="1219320"/>
                <a:ext cx="8316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669200" y="5897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51640" y="4952880"/>
                <a:ext cx="159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752480" y="3241800"/>
                <a:ext cx="462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 flipH="1" flipV="1">
            <a:off x="2354040" y="3569760"/>
            <a:ext cx="2979720" cy="1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230880" y="2008080"/>
                <a:ext cx="1855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490640" y="10206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313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14800" y="3124080"/>
            <a:ext cx="3809880" cy="2438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86520" y="2658960"/>
                <a:ext cx="1852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342120" y="3962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361960" y="426708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9080" y="5043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50292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752480" y="388620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4000" y="4653000"/>
                <a:ext cx="22669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666880" y="3200400"/>
            <a:ext cx="2827440" cy="2255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78160" y="2727360"/>
                <a:ext cx="156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807160" y="5867280"/>
            <a:ext cx="8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358000">
            <a:off x="5181120" y="365724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000600">
            <a:off x="5028840" y="441972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2680" y="22860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-inflation in the beginning of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V="1">
            <a:off x="1295280" y="6091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7432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8095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59436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812880"/>
            <a:ext cx="5639040" cy="1295280"/>
          </a:xfrm>
          <a:custGeom>
            <a:avLst/>
            <a:gdLst/>
            <a:ahLst/>
            <a:rect l="l" t="t" r="r" b="b"/>
            <a:pathLst>
              <a:path w="3552" h="816">
                <a:moveTo>
                  <a:pt x="0" y="784"/>
                </a:moveTo>
                <a:cubicBezTo>
                  <a:pt x="140" y="408"/>
                  <a:pt x="280" y="32"/>
                  <a:pt x="720" y="16"/>
                </a:cubicBezTo>
                <a:cubicBezTo>
                  <a:pt x="1160" y="0"/>
                  <a:pt x="2168" y="560"/>
                  <a:pt x="2640" y="688"/>
                </a:cubicBezTo>
                <a:cubicBezTo>
                  <a:pt x="3112" y="816"/>
                  <a:pt x="3332" y="800"/>
                  <a:pt x="3552" y="7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4343400"/>
            <a:ext cx="5334120" cy="1092240"/>
          </a:xfrm>
          <a:custGeom>
            <a:avLst/>
            <a:gdLst/>
            <a:ahLst/>
            <a:rect l="l" t="t" r="r" b="b"/>
            <a:pathLst>
              <a:path w="3360" h="688">
                <a:moveTo>
                  <a:pt x="0" y="0"/>
                </a:moveTo>
                <a:cubicBezTo>
                  <a:pt x="152" y="232"/>
                  <a:pt x="304" y="464"/>
                  <a:pt x="864" y="576"/>
                </a:cubicBezTo>
                <a:cubicBezTo>
                  <a:pt x="1424" y="688"/>
                  <a:pt x="2944" y="656"/>
                  <a:pt x="3360" y="67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9200" y="3809880"/>
                <a:ext cx="676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57280" y="4751280"/>
                <a:ext cx="6271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 flipH="1">
            <a:off x="1294920" y="54100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38080" y="3502080"/>
                <a:ext cx="534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16200" y="30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3480" y="1819440"/>
            <a:ext cx="5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7360" y="24382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7360" y="56530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305920" y="3809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5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5"/>
                </a:lnTo>
                <a:lnTo>
                  <a:pt x="20200" y="23305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5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5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 the UK is the early 198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1974960"/>
          <a:ext cx="762012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74960"/>
                    <a:ext cx="76201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8381880" y="380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0880" y="447840"/>
            <a:ext cx="912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crifice ratio (SR) = the percentage points loss in a year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DP as a consequence of a one percentag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uction in in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3200" y="2048040"/>
            <a:ext cx="75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lation reduced from 20 to 5 percent in 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3560" y="2733840"/>
            <a:ext cx="58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ppose the natural rate is 3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9160" y="334332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unemployment gap is: 2+5+7+7+7+7=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4040" y="4029120"/>
            <a:ext cx="81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kun’s Law suggests that this translat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70 percentage point accumulated loss over 6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11600" y="5248440"/>
            <a:ext cx="256284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R = 70/15=4.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feating in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long run, inflation will be low if the rate of money growth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ransition from high to low inflation may be painful if expectations are slow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aptive expectations and the sacrifice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tional expectations and painless dis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ge contracts take time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credibility may speed the adjust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open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irical 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ynamic AD-AS model (the Phillips Curve Mode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hillips Curve Model to make sense of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4320" y="1525680"/>
            <a:ext cx="8145360" cy="4800600"/>
            <a:chOff x="544320" y="1525680"/>
            <a:chExt cx="8145360" cy="4800600"/>
          </a:xfrm>
        </p:grpSpPr>
        <p:sp>
          <p:nvSpPr>
            <p:cNvPr id="65" name=""/>
            <p:cNvSpPr/>
            <p:nvPr/>
          </p:nvSpPr>
          <p:spPr>
            <a:xfrm>
              <a:off x="544320" y="1525680"/>
              <a:ext cx="76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. A W Phillips demonstrated a statistical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tween annual inflation and unemployment in the U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181480" y="25146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480" y="571500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9480" y="59580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nemployment rate (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3515760" y="331380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nflation rate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8520" y="2563920"/>
            <a:ext cx="7713360" cy="3379680"/>
            <a:chOff x="668520" y="2563920"/>
            <a:chExt cx="7713360" cy="3379680"/>
          </a:xfrm>
        </p:grpSpPr>
        <p:sp>
          <p:nvSpPr>
            <p:cNvPr id="71" name=""/>
            <p:cNvSpPr/>
            <p:nvPr/>
          </p:nvSpPr>
          <p:spPr>
            <a:xfrm>
              <a:off x="668520" y="2563920"/>
              <a:ext cx="364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hillips curve sh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a higher inflation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ccompanied by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wer unemployment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352680"/>
              <a:ext cx="2895480" cy="2590920"/>
            </a:xfrm>
            <a:custGeom>
              <a:avLst/>
              <a:gdLst/>
              <a:ahLst/>
              <a:rect l="l" t="t" r="r" b="b"/>
              <a:pathLst>
                <a:path w="1824" h="1632">
                  <a:moveTo>
                    <a:pt x="0" y="0"/>
                  </a:moveTo>
                  <a:cubicBezTo>
                    <a:pt x="88" y="488"/>
                    <a:pt x="176" y="976"/>
                    <a:pt x="480" y="1248"/>
                  </a:cubicBezTo>
                  <a:cubicBezTo>
                    <a:pt x="784" y="1520"/>
                    <a:pt x="1304" y="1576"/>
                    <a:pt x="1824" y="1632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22840" y="308772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illips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43400" y="4468680"/>
            <a:ext cx="373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uggests 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-off more infl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 unemploymen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36400" y="1828800"/>
          <a:ext cx="791064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28800"/>
                    <a:ext cx="79106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3520" y="457200"/>
            <a:ext cx="784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employment as a  % of the labour for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720" y="62136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ECD,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905120"/>
          <a:ext cx="8458200" cy="41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45820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5800" y="304920"/>
            <a:ext cx="76960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lation, GDP deflator (annual, %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320" y="62136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ECD.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480" y="83808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UK 1978-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2021040"/>
          <a:ext cx="776916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1040"/>
                    <a:ext cx="776916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817280" y="40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2535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32280" y="49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31680" y="367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6040" y="5035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17880" y="4995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hort-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358128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a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447920"/>
            <a:ext cx="358164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ynam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42900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33526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Aggreg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 (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64832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648320"/>
            <a:ext cx="419076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Phillips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438280"/>
            <a:ext cx="30481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an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2362320"/>
            <a:ext cx="373356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Phil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 (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8880" y="1276200"/>
                <a:ext cx="3463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0880" y="129528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supp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229280" y="2246400"/>
                <a:ext cx="3465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880" y="228600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276720"/>
            <a:ext cx="28958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trac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2040" y="3276720"/>
                <a:ext cx="53960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4648320"/>
                <a:ext cx="5486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66680" y="5791320"/>
            <a:ext cx="2590920" cy="914400"/>
          </a:xfrm>
          <a:prstGeom prst="wedgeRectCallout">
            <a:avLst>
              <a:gd name="adj1" fmla="val -8333"/>
              <a:gd name="adj2" fmla="val -843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11:28:23Z</dcterms:created>
  <dc:creator>Toke Aidt</dc:creator>
  <dc:description/>
  <dc:language>en-US</dc:language>
  <cp:lastModifiedBy>tsa23</cp:lastModifiedBy>
  <cp:lastPrinted>2001-02-25T17:53:37Z</cp:lastPrinted>
  <dcterms:modified xsi:type="dcterms:W3CDTF">2008-02-27T11:54:25Z</dcterms:modified>
  <cp:revision>49</cp:revision>
  <dc:subject/>
  <dc:title>Macroeconomics</dc:title>
</cp:coreProperties>
</file>