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3F21-D235-497F-8643-8AE1E8E5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BC60-E82E-4019-96A5-31CCFD43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AAA4-A00E-4EBA-A52C-BE3EC607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3ECF-7ECF-446C-8541-B818B4AB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99EF-80DA-46D7-9433-12A2EBA1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836C-F73C-43AE-B070-A8AA7463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0538-E9DC-42ED-BB43-BA8729E2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13DE-527B-4779-9D92-2E6FBCC9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4B6D-AA55-4E1D-A6FF-327BF7DB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612B-3255-40AB-B83B-8F58F265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D812-DA71-49A6-BD52-061483F9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7690-20D8-4C45-A0BC-75D7F47A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7811-8A3B-4980-9A30-6F7C3594C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" Target="slide21.xml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cro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cture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lation and un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kun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752480"/>
            <a:ext cx="8153280" cy="1752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deviation of output from its equilibrium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s inversely related to the deviation of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employment from its equilibrium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746360" y="4214880"/>
                <a:ext cx="5835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674280" y="5553000"/>
            <a:ext cx="675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 percentage point of unemployment gap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 percentage points of GDP g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106640" y="2335320"/>
                <a:ext cx="708948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762120" y="3886200"/>
            <a:ext cx="1981080" cy="1295280"/>
          </a:xfrm>
          <a:prstGeom prst="wedgeRectCallout">
            <a:avLst>
              <a:gd name="adj1" fmla="val 44472"/>
              <a:gd name="adj2" fmla="val -9742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pecte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5447880" y="2552760"/>
            <a:ext cx="609480" cy="2057400"/>
          </a:xfrm>
          <a:custGeom>
            <a:avLst/>
            <a:gdLst>
              <a:gd name="textAreaLeft" fmla="*/ 0 w 609480"/>
              <a:gd name="textAreaRight" fmla="*/ 219960 w 6094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4267080"/>
            <a:ext cx="2514600" cy="1524240"/>
          </a:xfrm>
          <a:prstGeom prst="wedgeRectCallout">
            <a:avLst>
              <a:gd name="adj1" fmla="val 2083"/>
              <a:gd name="adj2" fmla="val -8187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yclic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380880"/>
            <a:ext cx="2286000" cy="1371600"/>
          </a:xfrm>
          <a:prstGeom prst="wedgeRectCallout">
            <a:avLst>
              <a:gd name="adj1" fmla="val 5625"/>
              <a:gd name="adj2" fmla="val 12662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upply shock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228600"/>
            <a:ext cx="2286000" cy="1371600"/>
          </a:xfrm>
          <a:prstGeom prst="wedgeRectCallout">
            <a:avLst>
              <a:gd name="adj1" fmla="val 36458"/>
              <a:gd name="adj2" fmla="val 10995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lo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f the Phillip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ur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flipV="1">
            <a:off x="1676520" y="1752480"/>
            <a:ext cx="0" cy="426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6019920"/>
            <a:ext cx="5790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267080" y="159984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2666880"/>
            <a:ext cx="3352680" cy="26672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1523880"/>
            <a:ext cx="3657600" cy="289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53080" y="5657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96840" y="1454040"/>
                <a:ext cx="6033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3991320" y="597384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873760" y="5181480"/>
                <a:ext cx="15922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C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265800" y="4265640"/>
                <a:ext cx="15573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C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863640" y="3657600"/>
                <a:ext cx="5396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 flipH="1">
            <a:off x="1676520" y="4038480"/>
            <a:ext cx="2590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882720" y="2206800"/>
                <a:ext cx="50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 flipH="1">
            <a:off x="1676520" y="2590920"/>
            <a:ext cx="2590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106640" y="125280"/>
                <a:ext cx="708948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443640" y="2208240"/>
                <a:ext cx="14000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&gt;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1523880" y="83772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5638680"/>
            <a:ext cx="5791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1371600"/>
            <a:ext cx="3809880" cy="3809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1295280"/>
            <a:ext cx="3809880" cy="3810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3200400"/>
            <a:ext cx="1447560" cy="304920"/>
          </a:xfrm>
          <a:prstGeom prst="rightArrow">
            <a:avLst>
              <a:gd name="adj1" fmla="val 50000"/>
              <a:gd name="adj2" fmla="val 118684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0152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53000" y="523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1523880"/>
            <a:ext cx="1752840" cy="914400"/>
          </a:xfrm>
          <a:prstGeom prst="wedgeRectCallout">
            <a:avLst>
              <a:gd name="adj1" fmla="val -62861"/>
              <a:gd name="adj2" fmla="val 12587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05760" y="4867200"/>
            <a:ext cx="79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40880" y="4738680"/>
            <a:ext cx="79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152280"/>
            <a:ext cx="518148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e static AD curv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ynamic Aggregate demand (DA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341440" y="2921040"/>
                <a:ext cx="45165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r>
                      <m:t xml:space="preserve">φ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 rot="16200000">
            <a:off x="5592600" y="19807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74"/>
                </a:lnTo>
                <a:cubicBezTo>
                  <a:pt x="10800" y="9674"/>
                  <a:pt x="16200" y="10574"/>
                  <a:pt x="21600" y="10574"/>
                </a:cubicBezTo>
                <a:cubicBezTo>
                  <a:pt x="16200" y="10574"/>
                  <a:pt x="10800" y="11474"/>
                  <a:pt x="10800" y="1237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08000" y="1700280"/>
            <a:ext cx="3276720" cy="914400"/>
          </a:xfrm>
          <a:prstGeom prst="wedgeRectCallout">
            <a:avLst>
              <a:gd name="adj1" fmla="val 77324"/>
              <a:gd name="adj2" fmla="val 5590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owth 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ney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335320" y="5318280"/>
                <a:ext cx="456696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φ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2971800" y="4191120"/>
            <a:ext cx="388620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ynamic multip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4571640" y="36576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66680" y="2286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se Okun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036880" y="3184560"/>
                <a:ext cx="604044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φ</m:t>
                        </m:r>
                      </m:den>
                    </m:f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295280" y="4572000"/>
            <a:ext cx="1981440" cy="1295280"/>
          </a:xfrm>
          <a:prstGeom prst="wedgeRectCallout">
            <a:avLst>
              <a:gd name="adj1" fmla="val 44472"/>
              <a:gd name="adj2" fmla="val -9742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5543280" y="3238560"/>
            <a:ext cx="609480" cy="2057400"/>
          </a:xfrm>
          <a:custGeom>
            <a:avLst/>
            <a:gdLst>
              <a:gd name="textAreaLeft" fmla="*/ 0 w 609480"/>
              <a:gd name="textAreaRight" fmla="*/ 219960 w 6094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33920" y="4952880"/>
            <a:ext cx="2514600" cy="1524240"/>
          </a:xfrm>
          <a:prstGeom prst="wedgeRectCallout">
            <a:avLst>
              <a:gd name="adj1" fmla="val 2083"/>
              <a:gd name="adj2" fmla="val -8187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ycl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62360" y="1295280"/>
            <a:ext cx="2286000" cy="1371600"/>
          </a:xfrm>
          <a:prstGeom prst="wedgeRectCallout">
            <a:avLst>
              <a:gd name="adj1" fmla="val 26388"/>
              <a:gd name="adj2" fmla="val 9201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l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the 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4572000"/>
            <a:ext cx="1981080" cy="1295280"/>
          </a:xfrm>
          <a:prstGeom prst="wedgeRectCallout">
            <a:avLst>
              <a:gd name="adj1" fmla="val -3847"/>
              <a:gd name="adj2" fmla="val -10306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 flipV="1">
            <a:off x="2057400" y="182844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6095880"/>
            <a:ext cx="5791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648320" y="1676520"/>
            <a:ext cx="0" cy="441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819520" y="2819160"/>
            <a:ext cx="3809880" cy="2438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514600" y="1599840"/>
            <a:ext cx="3809880" cy="243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34320" y="573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301760" y="1371600"/>
                <a:ext cx="8319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4372200" y="604980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386000" y="3751200"/>
                <a:ext cx="6109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 flipH="1">
            <a:off x="2057040" y="4114800"/>
            <a:ext cx="25909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316160" y="2332080"/>
                <a:ext cx="6094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flipH="1">
            <a:off x="2057040" y="2666880"/>
            <a:ext cx="25909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443640" y="2276640"/>
                <a:ext cx="18511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D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408720" y="1136520"/>
                <a:ext cx="18511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D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370160" y="76320"/>
                <a:ext cx="598932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φ</m:t>
                        </m:r>
                      </m:den>
                    </m:f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Long-run equilibr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2895120"/>
            <a:ext cx="7924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ble (constant) infl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pectations are fulfill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 shoc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1523880"/>
            <a:ext cx="7162560" cy="83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ady state equilibri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haracterization of long-run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quilibr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049720" y="4437000"/>
                <a:ext cx="149220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82560" y="4437000"/>
                <a:ext cx="2890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556000" y="6021360"/>
                <a:ext cx="8650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C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523880" y="1779480"/>
                <a:ext cx="198144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624640" y="1862280"/>
                <a:ext cx="19191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3733920" y="2162160"/>
            <a:ext cx="1600200" cy="380880"/>
          </a:xfrm>
          <a:prstGeom prst="rightArrow">
            <a:avLst>
              <a:gd name="adj1" fmla="val 50000"/>
              <a:gd name="adj2" fmla="val 1050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3284640"/>
            <a:ext cx="6782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atural rate of un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042920" y="4581360"/>
            <a:ext cx="0" cy="187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6453360"/>
            <a:ext cx="237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22560" y="4653000"/>
            <a:ext cx="0" cy="180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01840" y="5013360"/>
            <a:ext cx="1441440" cy="1008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474920" y="4941360"/>
            <a:ext cx="1368360" cy="100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560680" y="4705200"/>
                <a:ext cx="84276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D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-25560" y="5300640"/>
                <a:ext cx="10591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1042920" y="551664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73640" y="6134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inflation in the 80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hort-ru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2320" y="1600200"/>
            <a:ext cx="43434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odel in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1720" y="1978200"/>
            <a:ext cx="1982880" cy="1144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oods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Keynesi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ross (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3808440"/>
            <a:ext cx="1982520" cy="1144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inan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rkets (L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78400" y="2968560"/>
            <a:ext cx="1982520" cy="114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R,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1217520"/>
            <a:ext cx="1982520" cy="114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bour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1600" y="1979640"/>
            <a:ext cx="1982520" cy="1144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-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R,P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79840" y="4875120"/>
            <a:ext cx="1982880" cy="114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ore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4875120"/>
            <a:ext cx="1982880" cy="114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R*,Y,e, 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251460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590920" y="3352680"/>
            <a:ext cx="99036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3040" y="228600"/>
            <a:ext cx="1982880" cy="1144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D-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R,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,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5562720" y="175248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562720" y="2666520"/>
            <a:ext cx="6858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31520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2895480"/>
            <a:ext cx="5486400" cy="342900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5410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3429000"/>
            <a:ext cx="144756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2362320"/>
            <a:ext cx="2361960" cy="2361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 flipV="1">
            <a:off x="2354400" y="167616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54400" y="5943600"/>
            <a:ext cx="5790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944960" y="152352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68800" y="1905120"/>
            <a:ext cx="3894120" cy="3124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048120" y="2514240"/>
            <a:ext cx="3809880" cy="243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30960" y="5581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598760" y="1219320"/>
                <a:ext cx="83160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4669200" y="589752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551640" y="4952880"/>
                <a:ext cx="1593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C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752480" y="3241800"/>
                <a:ext cx="4622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 flipH="1" flipV="1">
            <a:off x="2354040" y="3569760"/>
            <a:ext cx="2979720" cy="111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230880" y="2008080"/>
                <a:ext cx="18558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D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4490640" y="10206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31360" y="3048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114800" y="3124080"/>
            <a:ext cx="3809880" cy="2438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986520" y="2658960"/>
                <a:ext cx="18525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D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6342120" y="3962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361960" y="4267080"/>
            <a:ext cx="38098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42670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79080" y="5043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362320" y="5029200"/>
            <a:ext cx="2590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752480" y="3886200"/>
                <a:ext cx="503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54000" y="4653000"/>
                <a:ext cx="22669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2666880" y="3200400"/>
            <a:ext cx="2827440" cy="22557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378160" y="2727360"/>
                <a:ext cx="15606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C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5807160" y="5867280"/>
            <a:ext cx="822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2358000">
            <a:off x="5181120" y="365724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9000600">
            <a:off x="5028840" y="441972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2680" y="228600"/>
            <a:ext cx="65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-inflation in the beginning of the 198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500"/>
                            </p:stCondLst>
                            <p:childTnLst>
                              <p:par>
                                <p:cTn id="4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 flipV="1">
            <a:off x="1295280" y="60912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2743200"/>
            <a:ext cx="609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295280" y="380952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5943600"/>
            <a:ext cx="609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213372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812880"/>
            <a:ext cx="5639040" cy="1295280"/>
          </a:xfrm>
          <a:custGeom>
            <a:avLst/>
            <a:gdLst/>
            <a:ahLst/>
            <a:rect l="l" t="t" r="r" b="b"/>
            <a:pathLst>
              <a:path w="3552" h="816">
                <a:moveTo>
                  <a:pt x="0" y="784"/>
                </a:moveTo>
                <a:cubicBezTo>
                  <a:pt x="140" y="408"/>
                  <a:pt x="280" y="32"/>
                  <a:pt x="720" y="16"/>
                </a:cubicBezTo>
                <a:cubicBezTo>
                  <a:pt x="1160" y="0"/>
                  <a:pt x="2168" y="560"/>
                  <a:pt x="2640" y="688"/>
                </a:cubicBezTo>
                <a:cubicBezTo>
                  <a:pt x="3112" y="816"/>
                  <a:pt x="3332" y="800"/>
                  <a:pt x="3552" y="78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5280" y="4343400"/>
            <a:ext cx="5334120" cy="1092240"/>
          </a:xfrm>
          <a:custGeom>
            <a:avLst/>
            <a:gdLst/>
            <a:ahLst/>
            <a:rect l="l" t="t" r="r" b="b"/>
            <a:pathLst>
              <a:path w="3360" h="688">
                <a:moveTo>
                  <a:pt x="0" y="0"/>
                </a:moveTo>
                <a:cubicBezTo>
                  <a:pt x="152" y="232"/>
                  <a:pt x="304" y="464"/>
                  <a:pt x="864" y="576"/>
                </a:cubicBezTo>
                <a:cubicBezTo>
                  <a:pt x="1424" y="688"/>
                  <a:pt x="2944" y="656"/>
                  <a:pt x="3360" y="672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19200" y="3809880"/>
                <a:ext cx="67608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57280" y="4751280"/>
                <a:ext cx="62712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 flipH="1">
            <a:off x="1294920" y="5410080"/>
            <a:ext cx="3048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838080" y="3502080"/>
                <a:ext cx="5349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16200" y="3049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3480" y="1819440"/>
            <a:ext cx="5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7360" y="2438280"/>
            <a:ext cx="9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7360" y="5653080"/>
            <a:ext cx="9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8305920" y="3809880"/>
            <a:ext cx="533160" cy="60984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704">
                <a:moveTo>
                  <a:pt x="0" y="0"/>
                </a:moveTo>
                <a:lnTo>
                  <a:pt x="21600" y="0"/>
                </a:lnTo>
                <a:lnTo>
                  <a:pt x="21600" y="24704"/>
                </a:lnTo>
                <a:lnTo>
                  <a:pt x="0" y="24704"/>
                </a:lnTo>
                <a:close/>
              </a:path>
              <a:path fill="lightenLess" w="21600" h="247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04">
                <a:moveTo>
                  <a:pt x="21600" y="0"/>
                </a:moveTo>
                <a:lnTo>
                  <a:pt x="21600" y="24704"/>
                </a:lnTo>
                <a:lnTo>
                  <a:pt x="20200" y="23305"/>
                </a:lnTo>
                <a:lnTo>
                  <a:pt x="20200" y="1400"/>
                </a:lnTo>
                <a:close/>
              </a:path>
              <a:path fill="darkenLess" w="21600" h="24704">
                <a:moveTo>
                  <a:pt x="21600" y="24704"/>
                </a:moveTo>
                <a:lnTo>
                  <a:pt x="0" y="24704"/>
                </a:lnTo>
                <a:lnTo>
                  <a:pt x="1400" y="23305"/>
                </a:lnTo>
                <a:lnTo>
                  <a:pt x="20200" y="23305"/>
                </a:lnTo>
                <a:close/>
              </a:path>
              <a:path fill="lighten" w="21600" h="24704">
                <a:moveTo>
                  <a:pt x="0" y="247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05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500"/>
                            </p:stCondLst>
                            <p:childTnLst>
                              <p:par>
                                <p:cTn id="4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5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0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3500"/>
                            </p:stCondLst>
                            <p:childTnLst>
                              <p:par>
                                <p:cTn id="5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lation and unemployment in the UK is the early 1980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85800" y="1974960"/>
          <a:ext cx="7620120" cy="450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74960"/>
                    <a:ext cx="762012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>
            <a:hlinkClick r:id="rId3" action="ppaction://hlinksldjump"/>
          </p:cNvPr>
          <p:cNvSpPr/>
          <p:nvPr/>
        </p:nvSpPr>
        <p:spPr>
          <a:xfrm>
            <a:off x="8381880" y="3808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0880" y="447840"/>
            <a:ext cx="912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acrifice ratio (SR) = the percentage points loss in a year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GDP as a consequence of a one percentage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duction in inf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3200" y="2048040"/>
            <a:ext cx="753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flation reduced from 20 to 5 percent in 6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3560" y="2733840"/>
            <a:ext cx="583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ppose the natural rate is 3 per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9160" y="334332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unemployment gap is: 2+5+7+7+7+7=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4040" y="4029120"/>
            <a:ext cx="810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kun’s Law suggests that this translat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70 percentage point accumulated loss over 6 ye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11600" y="5248440"/>
            <a:ext cx="2562840" cy="520560"/>
          </a:xfrm>
          <a:prstGeom prst="rect">
            <a:avLst/>
          </a:prstGeom>
          <a:solidFill>
            <a:srgbClr val="cccc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R = 70/15=4.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previousslide"/>
          </p:cNvPr>
          <p:cNvSpPr/>
          <p:nvPr/>
        </p:nvSpPr>
        <p:spPr>
          <a:xfrm>
            <a:off x="831708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efeating inf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long run, inflation will be low if the rate of money growth is 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ransition from high to low inflation may be painful if expectations are slow to ad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aptive expectations and the sacrifice rat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ational expectations and painless disinf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age contracts take time to ad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credibility may speed the adjustmen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5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5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5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7" dur="1" fill="hold"/>
                                  <p:tgtEl>
                                    <p:spTgt spid="2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hat is nex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open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pirical f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dynamic AD-AS model (the Phillips Curve Mode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Phillips Curve Model to make sense of the 80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e Phillips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44320" y="1525680"/>
            <a:ext cx="8145360" cy="4800600"/>
            <a:chOff x="544320" y="1525680"/>
            <a:chExt cx="8145360" cy="4800600"/>
          </a:xfrm>
        </p:grpSpPr>
        <p:sp>
          <p:nvSpPr>
            <p:cNvPr id="65" name=""/>
            <p:cNvSpPr/>
            <p:nvPr/>
          </p:nvSpPr>
          <p:spPr>
            <a:xfrm>
              <a:off x="544320" y="1525680"/>
              <a:ext cx="7625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f. A W Phillips demonstrated a statistical relationsh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etween annual inflation and unemployment in the U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181480" y="251460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81480" y="5715000"/>
              <a:ext cx="32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99480" y="595800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nemployment rate (%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3515760" y="3313800"/>
              <a:ext cx="24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Inflation rate (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68520" y="2563920"/>
            <a:ext cx="7713360" cy="3379680"/>
            <a:chOff x="668520" y="2563920"/>
            <a:chExt cx="7713360" cy="3379680"/>
          </a:xfrm>
        </p:grpSpPr>
        <p:sp>
          <p:nvSpPr>
            <p:cNvPr id="71" name=""/>
            <p:cNvSpPr/>
            <p:nvPr/>
          </p:nvSpPr>
          <p:spPr>
            <a:xfrm>
              <a:off x="668520" y="2563920"/>
              <a:ext cx="3640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Phillips curve show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at a higher inflation 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s accompanied by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ower unemployment rat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6400" y="3352680"/>
              <a:ext cx="2895480" cy="2590920"/>
            </a:xfrm>
            <a:custGeom>
              <a:avLst/>
              <a:gdLst/>
              <a:ahLst/>
              <a:rect l="l" t="t" r="r" b="b"/>
              <a:pathLst>
                <a:path w="1824" h="1632">
                  <a:moveTo>
                    <a:pt x="0" y="0"/>
                  </a:moveTo>
                  <a:cubicBezTo>
                    <a:pt x="88" y="488"/>
                    <a:pt x="176" y="976"/>
                    <a:pt x="480" y="1248"/>
                  </a:cubicBezTo>
                  <a:cubicBezTo>
                    <a:pt x="784" y="1520"/>
                    <a:pt x="1304" y="1576"/>
                    <a:pt x="1824" y="1632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22840" y="308772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illips cur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743400" y="4468680"/>
            <a:ext cx="373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suggests we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de-off more inflation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ss unemployment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ice ver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36400" y="1828800"/>
          <a:ext cx="7910640" cy="383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828800"/>
                    <a:ext cx="7910640" cy="38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33520" y="457200"/>
            <a:ext cx="78483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employment as a  % of the labour forc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ited King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1720" y="621360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ECD, Main indic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905120"/>
          <a:ext cx="8458200" cy="413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8458200" cy="41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685800" y="304920"/>
            <a:ext cx="76960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flation, GDP deflator (annual, %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ited King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7320" y="6213600"/>
            <a:ext cx="31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ECD. Main indic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28480" y="838080"/>
            <a:ext cx="777240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flation and unemploymen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the UK 1978-9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33520" y="2021040"/>
          <a:ext cx="7769160" cy="43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21040"/>
                    <a:ext cx="7769160" cy="43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817280" y="4059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66760" y="25351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32280" y="4959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31680" y="36781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76040" y="5035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17880" y="4995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lation and unemployment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hort-r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447920"/>
            <a:ext cx="3581280" cy="7617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atic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1447920"/>
            <a:ext cx="3581640" cy="7617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ynamic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3429000"/>
            <a:ext cx="34290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gregate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3352680"/>
            <a:ext cx="34290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ynamic Aggreg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mand (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648320"/>
            <a:ext cx="34290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rt-run aggre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ly (S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4648320"/>
            <a:ext cx="419076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rt-run Phillips 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P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438280"/>
            <a:ext cx="304812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and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2362320"/>
            <a:ext cx="3733560" cy="76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ation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867280"/>
            <a:ext cx="34290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ng-run aggre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ly (L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5867280"/>
            <a:ext cx="34290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ng-run Phill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rve (L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e Phillips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268880" y="1276200"/>
                <a:ext cx="34639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380880" y="1295280"/>
            <a:ext cx="289584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gregate supp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229280" y="2246400"/>
                <a:ext cx="34653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80880" y="2286000"/>
            <a:ext cx="289584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wr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276720"/>
            <a:ext cx="2895840" cy="76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tract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632040" y="3276720"/>
                <a:ext cx="539604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05120" y="4648320"/>
                <a:ext cx="54864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066680" y="5791320"/>
            <a:ext cx="2590920" cy="914400"/>
          </a:xfrm>
          <a:prstGeom prst="wedgeRectCallout">
            <a:avLst>
              <a:gd name="adj1" fmla="val -8333"/>
              <a:gd name="adj2" fmla="val -8437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5T11:28:23Z</dcterms:created>
  <dc:creator>Toke Aidt</dc:creator>
  <dc:description/>
  <dc:language>en-US</dc:language>
  <cp:lastModifiedBy>tsa23</cp:lastModifiedBy>
  <cp:lastPrinted>2001-02-25T17:53:37Z</cp:lastPrinted>
  <dcterms:modified xsi:type="dcterms:W3CDTF">2008-02-27T11:54:25Z</dcterms:modified>
  <cp:revision>49</cp:revision>
  <dc:subject/>
  <dc:title>Macroeconomics</dc:title>
</cp:coreProperties>
</file>