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AAAF371E-9251-4825-BAF0-AAC4646E15B0}" type="slidenum">
              <a:rPr b="0" lang="en-GB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sheet accounts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sheet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nly balance sheet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ed and that only balance she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show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Payable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Feb.  9    Wages Payabl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Wages Payable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1   Wages Payable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3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1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1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2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2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4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Income Statement columns or the Balance Sheet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Income Statement columns and the Balance Sheet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0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ccount balances have been sorted into Income Statement and Balance Sheet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2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Income Statement column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the Balance Sheet columns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work sheet balance after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s from the Adjusted Tri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8-09T22:41:13Z</dcterms:modified>
  <cp:revision>2</cp:revision>
  <dc:subject/>
  <dc:title>Chapter 1 Uses of Accounting Information and the Basic Financial Statements</dc:title>
</cp:coreProperties>
</file>