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6-</a:t>
            </a:r>
            <a:fld id="{66F49F06-CAC3-4744-BBF4-3CFB7332CDD3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0492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6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and Capital Expenditure Decision Analy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2080" cy="398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making is an integral part of the management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lann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managers must identify the type of decisions they will need to make and the kinds of information they need to support thos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ecut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nformation is gathered and analyzed and a decision is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5335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view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the decision is evaluated to determine if the forecasted results were obtained and if corrective action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35812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por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occurs continuously throughout the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38080" y="34290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y or m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divisions to disconti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 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09680" y="99072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304920"/>
            <a:ext cx="1979640" cy="1903680"/>
            <a:chOff x="762120" y="304920"/>
            <a:chExt cx="1979640" cy="1903680"/>
          </a:xfrm>
        </p:grpSpPr>
        <p:sp>
          <p:nvSpPr>
            <p:cNvPr id="81" name=""/>
            <p:cNvSpPr/>
            <p:nvPr/>
          </p:nvSpPr>
          <p:spPr>
            <a:xfrm>
              <a:off x="766800" y="123840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1440" y="15098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92320" y="132408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3440" y="99540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20920" y="43956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60520" y="112248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8284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6680" y="130320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1640" y="105552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1680" y="71424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31960" y="68436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17680" y="49680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5520" y="91440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09760" y="79524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48744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92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6960" y="4507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2560" y="100980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58800" y="74448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123192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3760" y="169848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0440" y="170964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32000" y="10000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79600" y="100008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300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3760" y="45072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6240" y="79704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838080" y="2209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ype of business decisions do managers commonly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094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243828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relevant decision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808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Decisio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447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nagement decision cycle consists of five ste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266688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scovering the problem or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Identifying alternative courses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Analyzing the effects of each altern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Selecting the best course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Appraising the results of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680" y="228600"/>
            <a:ext cx="76201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Management Decis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7920" y="1365120"/>
            <a:ext cx="78613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51120" y="1517760"/>
            <a:ext cx="2222640" cy="1384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or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78440" y="2133720"/>
            <a:ext cx="2662560" cy="2368440"/>
            <a:chOff x="5878440" y="2133720"/>
            <a:chExt cx="2662560" cy="2368440"/>
          </a:xfrm>
        </p:grpSpPr>
        <p:sp>
          <p:nvSpPr>
            <p:cNvPr id="122" name=""/>
            <p:cNvSpPr/>
            <p:nvPr/>
          </p:nvSpPr>
          <p:spPr>
            <a:xfrm>
              <a:off x="5878440" y="2133720"/>
              <a:ext cx="2198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318360" y="2144880"/>
              <a:ext cx="2222640" cy="2357280"/>
              <a:chOff x="6318360" y="2144880"/>
              <a:chExt cx="2222640" cy="2357280"/>
            </a:xfrm>
          </p:grpSpPr>
          <p:sp>
            <p:nvSpPr>
              <p:cNvPr id="124" name=""/>
              <p:cNvSpPr txBox="1"/>
              <p:nvPr/>
            </p:nvSpPr>
            <p:spPr>
              <a:xfrm>
                <a:off x="6318360" y="3117960"/>
                <a:ext cx="2222640" cy="1384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y th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rn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urses of 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2144880"/>
                <a:ext cx="0" cy="97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099040" y="4506840"/>
            <a:ext cx="3054240" cy="1671480"/>
            <a:chOff x="5099040" y="4506840"/>
            <a:chExt cx="3054240" cy="1671480"/>
          </a:xfrm>
        </p:grpSpPr>
        <p:sp>
          <p:nvSpPr>
            <p:cNvPr id="127" name=""/>
            <p:cNvSpPr txBox="1"/>
            <p:nvPr/>
          </p:nvSpPr>
          <p:spPr>
            <a:xfrm>
              <a:off x="509904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ze the eff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each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32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6360" y="548640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79520" y="4794120"/>
            <a:ext cx="2826000" cy="1384200"/>
            <a:chOff x="2279520" y="4794120"/>
            <a:chExt cx="2826000" cy="1384200"/>
          </a:xfrm>
        </p:grpSpPr>
        <p:sp>
          <p:nvSpPr>
            <p:cNvPr id="131" name=""/>
            <p:cNvSpPr txBox="1"/>
            <p:nvPr/>
          </p:nvSpPr>
          <p:spPr>
            <a:xfrm>
              <a:off x="227952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ect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st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6840" y="5486400"/>
              <a:ext cx="598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36520" y="3117960"/>
            <a:ext cx="2222640" cy="2368440"/>
            <a:chOff x="1136520" y="3117960"/>
            <a:chExt cx="2222640" cy="2368440"/>
          </a:xfrm>
        </p:grpSpPr>
        <p:sp>
          <p:nvSpPr>
            <p:cNvPr id="134" name=""/>
            <p:cNvSpPr txBox="1"/>
            <p:nvPr/>
          </p:nvSpPr>
          <p:spPr>
            <a:xfrm>
              <a:off x="1136520" y="311796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uc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decision au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edbac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548640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1523880"/>
            <a:ext cx="2590920" cy="1600200"/>
            <a:chOff x="1066680" y="1523880"/>
            <a:chExt cx="2590920" cy="1600200"/>
          </a:xfrm>
        </p:grpSpPr>
        <p:sp>
          <p:nvSpPr>
            <p:cNvPr id="138" name=""/>
            <p:cNvSpPr txBox="1"/>
            <p:nvPr/>
          </p:nvSpPr>
          <p:spPr>
            <a:xfrm>
              <a:off x="1066680" y="1523880"/>
              <a:ext cx="16574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need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rther a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proble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480" y="2449440"/>
              <a:ext cx="0" cy="674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2144880"/>
              <a:ext cx="0" cy="979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30680" y="213372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37160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 are data regarding future cost, revenues, and resource usage that are different for each 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365760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information is not relev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storical data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alternative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680" y="22860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arative Analysis – Huert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7920" y="1365120"/>
            <a:ext cx="7861320" cy="4965840"/>
            <a:chOff x="907920" y="1365120"/>
            <a:chExt cx="7861320" cy="4965840"/>
          </a:xfrm>
        </p:grpSpPr>
        <p:sp>
          <p:nvSpPr>
            <p:cNvPr id="147" name=""/>
            <p:cNvSpPr/>
            <p:nvPr/>
          </p:nvSpPr>
          <p:spPr>
            <a:xfrm>
              <a:off x="907920" y="1365120"/>
              <a:ext cx="78613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776760" y="1447920"/>
              <a:ext cx="21733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ertas Compan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538440" y="1739880"/>
              <a:ext cx="2654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rative Analy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211560" y="2031840"/>
              <a:ext cx="33037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 Payable Syste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231920" y="3078000"/>
              <a:ext cx="1468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73860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038480" y="2743200"/>
              <a:ext cx="7221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e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50872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5627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27884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231920" y="3675240"/>
              <a:ext cx="1987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ory sala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231920" y="3908520"/>
              <a:ext cx="1411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erical w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231920" y="4143240"/>
              <a:ext cx="1998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 lease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1920" y="4376880"/>
              <a:ext cx="1558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icity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231920" y="4610160"/>
              <a:ext cx="183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94956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75280" y="39085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386240" y="4143240"/>
              <a:ext cx="406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417528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059360" y="457200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71824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622296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94360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94360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77224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48980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799452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71516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71516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54380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231920" y="507852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94956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1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71824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48980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1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25560" y="236232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25560" y="358128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5080" y="2666880"/>
              <a:ext cx="1207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75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263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7462800" y="5711760"/>
              <a:ext cx="1092240" cy="536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077320" y="54118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3915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533412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5400" y="541008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824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824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072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7072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3809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istorical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9528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5720" y="228600"/>
            <a:ext cx="2055960" cy="2132280"/>
            <a:chOff x="6705720" y="228600"/>
            <a:chExt cx="2055960" cy="2132280"/>
          </a:xfrm>
        </p:grpSpPr>
        <p:sp>
          <p:nvSpPr>
            <p:cNvPr id="198" name=""/>
            <p:cNvSpPr/>
            <p:nvPr/>
          </p:nvSpPr>
          <p:spPr>
            <a:xfrm>
              <a:off x="6711840" y="127476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157788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6680" y="137016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34280" y="100188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9720" y="37944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114444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3440" y="25884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3400" y="134784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7280" y="106992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2280" y="68724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65232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6480" y="44460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0800" y="91116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77796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8400" y="43164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45520" y="22860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74040" y="39204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8200" y="101772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2640" y="72072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0600" y="126684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152568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3840" y="178920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7000" y="180180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32840" y="100656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5120" y="100656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15280" y="141768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0000" y="109692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5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75480" y="135108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9920" y="39204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39160" y="77940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838080" y="2438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examples of decision information that is not rele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07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905120" y="243828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37160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managers and state how managers use decision-support information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06668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2952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compares cost and revenue data that differ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297180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rmat in which the accountant presents information should facilitate the decision-making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295280" y="22860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 – Thom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6000" y="1604880"/>
            <a:ext cx="8132760" cy="4640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25560" y="2286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25560" y="31240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403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59880" y="556272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119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76520" y="121932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629400" y="380880"/>
            <a:ext cx="2208240" cy="2208960"/>
            <a:chOff x="6629400" y="380880"/>
            <a:chExt cx="2208240" cy="2208960"/>
          </a:xfrm>
        </p:grpSpPr>
        <p:sp>
          <p:nvSpPr>
            <p:cNvPr id="246" name=""/>
            <p:cNvSpPr/>
            <p:nvPr/>
          </p:nvSpPr>
          <p:spPr>
            <a:xfrm>
              <a:off x="663588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5160" y="177804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224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71000" y="118116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4520" y="53820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880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2560" y="41112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72240" y="153972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66120" y="125100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21400" y="85572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10480" y="82080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61280" y="60480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58200" y="108756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51560" y="94932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26440" y="59220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320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61440" y="54936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240" y="119844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16800" y="89064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5440" y="145584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172404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0480" y="19987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9624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920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3264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8120" y="161280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67440" y="128124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4320" y="154296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15480" y="54936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61480" y="95256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>
            <a:off x="990720" y="2590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etermines the best altern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43000" y="9907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905120" y="22860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make-or-buy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is probably the best decision-making method to empl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66680" y="350532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lternative that results in the lowest incremental cost should be adop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9240" y="33526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64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59880" y="609588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07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83808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81080" y="22096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pecial ord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pecial order analysis is designed to help management decide whether to accept or reject a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320040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for special order decisions often ignores fixe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analysis highlights the effect of changes in variable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31960" y="1365120"/>
            <a:ext cx="8089920" cy="4965840"/>
            <a:chOff x="831960" y="1365120"/>
            <a:chExt cx="8089920" cy="4965840"/>
          </a:xfrm>
        </p:grpSpPr>
        <p:sp>
          <p:nvSpPr>
            <p:cNvPr id="299" name=""/>
            <p:cNvSpPr/>
            <p:nvPr/>
          </p:nvSpPr>
          <p:spPr>
            <a:xfrm>
              <a:off x="831960" y="136512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294000" y="1442880"/>
              <a:ext cx="3003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man Sporting Goods,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675240" y="1673280"/>
              <a:ext cx="2224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al Order Deci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376440" y="1901880"/>
              <a:ext cx="2833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 Analys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583160" y="2228760"/>
              <a:ext cx="196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out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692600" y="2457360"/>
              <a:ext cx="1795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1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962760" y="2228760"/>
              <a:ext cx="1592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762600" y="2457360"/>
              <a:ext cx="1852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4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008000" y="2878200"/>
              <a:ext cx="531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008000" y="3108240"/>
              <a:ext cx="1874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1008000" y="3336840"/>
              <a:ext cx="169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08000" y="3567240"/>
              <a:ext cx="1298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008000" y="3795840"/>
              <a:ext cx="3387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ble 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008000" y="402444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008000" y="4254480"/>
              <a:ext cx="2066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008000" y="4483080"/>
              <a:ext cx="1952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08000" y="4711680"/>
              <a:ext cx="1581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08000" y="4941720"/>
              <a:ext cx="2529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08000" y="5170320"/>
              <a:ext cx="1287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008000" y="5400720"/>
              <a:ext cx="2687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and administrat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008000" y="562932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06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6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6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06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69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34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34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105520" y="403848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067360" y="42544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94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7360" y="446076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6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69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506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45292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054760" y="5410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04828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713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713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3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13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9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41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41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7184880" y="402444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080120" y="4254480"/>
              <a:ext cx="1073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,00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0120" y="4460760"/>
              <a:ext cx="1047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713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70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3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713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752328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182000" y="540072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13736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3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008000" y="5857920"/>
              <a:ext cx="109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048280" y="58579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1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137360" y="58672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2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9240" y="274320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9240" y="220968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32440" y="6095880"/>
              <a:ext cx="1055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800" y="60958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43000" y="914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220968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ales mix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(a) make-or-buy decisions, (b) special order decisions, (c) sales mix decisions, and (d) sell or process-further decision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106668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mix analysis is used to find the most profitable combination of product sales, given scarc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281952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ratio of contribution margin to the amount of scarc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ft production to the more profitable product, given the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46000" y="151776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49240" y="31240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89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8828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689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424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835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835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62120" y="914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33720" y="259092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ell or process-furth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3000" y="1905120"/>
            <a:ext cx="74674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products or services that are created simultaneously from a common input are called joint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43000" y="419112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split-off point joint products become separate and identif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295280" y="182880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-further analysis helps decision makers by comparing incremental costs an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95280" y="403848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an incremental analysis, joint costs incurred before the split-off are irrelev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66680" y="37339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ke-or-Bu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Sales M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ell or Process-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146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8080" y="228600"/>
            <a:ext cx="2208600" cy="2132280"/>
            <a:chOff x="838080" y="228600"/>
            <a:chExt cx="2208600" cy="2132280"/>
          </a:xfrm>
        </p:grpSpPr>
        <p:sp>
          <p:nvSpPr>
            <p:cNvPr id="386" name=""/>
            <p:cNvSpPr/>
            <p:nvPr/>
          </p:nvSpPr>
          <p:spPr>
            <a:xfrm>
              <a:off x="844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3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0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79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3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17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41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4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0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19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69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6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60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35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31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70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4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5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4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19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04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78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41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7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3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24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70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1066680" y="2438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four common operating decisions made by manag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295280" y="6094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143000" y="2286000"/>
            <a:ext cx="7467480" cy="36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9144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66680" y="1447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techniques are commonly used to evaluat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9072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90720" y="7621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4876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29528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valuating capital expenditure proposals requires dealing with large amounts of information, most of which are projected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295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ypes of information relevant to capital expenditure decision evaluatio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52388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(a) the accounting rate-of-return method, (b) the payback period method, and (c) the net present value method to analyze proposed capital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219320" y="358128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 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905120" y="9144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934320" y="304920"/>
            <a:ext cx="1903680" cy="1903680"/>
            <a:chOff x="6934320" y="304920"/>
            <a:chExt cx="1903680" cy="1903680"/>
          </a:xfrm>
        </p:grpSpPr>
        <p:sp>
          <p:nvSpPr>
            <p:cNvPr id="432" name=""/>
            <p:cNvSpPr/>
            <p:nvPr/>
          </p:nvSpPr>
          <p:spPr>
            <a:xfrm>
              <a:off x="6939000" y="1238400"/>
              <a:ext cx="462240" cy="665640"/>
            </a:xfrm>
            <a:custGeom>
              <a:avLst/>
              <a:gdLst/>
              <a:ahLst/>
              <a:rect l="0" t="0" r="r" b="b"/>
              <a:pathLst>
                <a:path w="1284" h="1849">
                  <a:moveTo>
                    <a:pt x="511" y="0"/>
                  </a:moveTo>
                  <a:lnTo>
                    <a:pt x="445" y="83"/>
                  </a:lnTo>
                  <a:lnTo>
                    <a:pt x="445" y="321"/>
                  </a:lnTo>
                  <a:lnTo>
                    <a:pt x="511" y="499"/>
                  </a:lnTo>
                  <a:lnTo>
                    <a:pt x="590" y="583"/>
                  </a:lnTo>
                  <a:lnTo>
                    <a:pt x="471" y="702"/>
                  </a:lnTo>
                  <a:lnTo>
                    <a:pt x="321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19" y="1585"/>
                  </a:lnTo>
                  <a:lnTo>
                    <a:pt x="194" y="1488"/>
                  </a:lnTo>
                  <a:lnTo>
                    <a:pt x="321" y="1244"/>
                  </a:lnTo>
                  <a:lnTo>
                    <a:pt x="396" y="1143"/>
                  </a:lnTo>
                  <a:lnTo>
                    <a:pt x="445" y="1301"/>
                  </a:lnTo>
                  <a:lnTo>
                    <a:pt x="414" y="1470"/>
                  </a:lnTo>
                  <a:lnTo>
                    <a:pt x="286" y="1717"/>
                  </a:lnTo>
                  <a:lnTo>
                    <a:pt x="321" y="1770"/>
                  </a:lnTo>
                  <a:lnTo>
                    <a:pt x="396" y="1757"/>
                  </a:lnTo>
                  <a:lnTo>
                    <a:pt x="555" y="1629"/>
                  </a:lnTo>
                  <a:lnTo>
                    <a:pt x="684" y="1413"/>
                  </a:lnTo>
                  <a:lnTo>
                    <a:pt x="684" y="1787"/>
                  </a:lnTo>
                  <a:lnTo>
                    <a:pt x="834" y="1849"/>
                  </a:lnTo>
                  <a:lnTo>
                    <a:pt x="927" y="1615"/>
                  </a:lnTo>
                  <a:lnTo>
                    <a:pt x="1006" y="1832"/>
                  </a:lnTo>
                  <a:lnTo>
                    <a:pt x="1068" y="1770"/>
                  </a:lnTo>
                  <a:lnTo>
                    <a:pt x="1099" y="1341"/>
                  </a:lnTo>
                  <a:lnTo>
                    <a:pt x="1284" y="940"/>
                  </a:lnTo>
                  <a:lnTo>
                    <a:pt x="1240" y="702"/>
                  </a:lnTo>
                  <a:lnTo>
                    <a:pt x="1112" y="618"/>
                  </a:lnTo>
                  <a:lnTo>
                    <a:pt x="975" y="627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27800" y="1509840"/>
              <a:ext cx="136800" cy="321120"/>
            </a:xfrm>
            <a:custGeom>
              <a:avLst/>
              <a:gdLst/>
              <a:ahLst/>
              <a:rect l="0" t="0" r="r" b="b"/>
              <a:pathLst>
                <a:path w="380" h="892">
                  <a:moveTo>
                    <a:pt x="189" y="0"/>
                  </a:moveTo>
                  <a:lnTo>
                    <a:pt x="380" y="234"/>
                  </a:lnTo>
                  <a:lnTo>
                    <a:pt x="287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4" y="380"/>
                  </a:lnTo>
                  <a:lnTo>
                    <a:pt x="189" y="18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11960" y="132408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32"/>
                  </a:lnTo>
                  <a:lnTo>
                    <a:pt x="423" y="243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1"/>
                  </a:lnTo>
                  <a:lnTo>
                    <a:pt x="609" y="808"/>
                  </a:lnTo>
                  <a:lnTo>
                    <a:pt x="180" y="632"/>
                  </a:lnTo>
                  <a:lnTo>
                    <a:pt x="0" y="322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50200" y="99540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6"/>
                  </a:lnTo>
                  <a:lnTo>
                    <a:pt x="224" y="1747"/>
                  </a:lnTo>
                  <a:lnTo>
                    <a:pt x="411" y="1747"/>
                  </a:lnTo>
                  <a:lnTo>
                    <a:pt x="397" y="1376"/>
                  </a:lnTo>
                  <a:lnTo>
                    <a:pt x="534" y="1760"/>
                  </a:lnTo>
                  <a:lnTo>
                    <a:pt x="631" y="1778"/>
                  </a:lnTo>
                  <a:lnTo>
                    <a:pt x="693" y="1645"/>
                  </a:lnTo>
                  <a:lnTo>
                    <a:pt x="710" y="1403"/>
                  </a:lnTo>
                  <a:lnTo>
                    <a:pt x="913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5"/>
                  </a:lnTo>
                  <a:lnTo>
                    <a:pt x="847" y="984"/>
                  </a:lnTo>
                  <a:lnTo>
                    <a:pt x="896" y="997"/>
                  </a:lnTo>
                  <a:lnTo>
                    <a:pt x="1082" y="1231"/>
                  </a:lnTo>
                  <a:lnTo>
                    <a:pt x="1280" y="1288"/>
                  </a:lnTo>
                  <a:lnTo>
                    <a:pt x="1324" y="1213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6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80"/>
                  </a:lnTo>
                  <a:lnTo>
                    <a:pt x="211" y="555"/>
                  </a:lnTo>
                  <a:lnTo>
                    <a:pt x="163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7560" y="439560"/>
              <a:ext cx="520920" cy="817920"/>
            </a:xfrm>
            <a:custGeom>
              <a:avLst/>
              <a:gdLst/>
              <a:ahLst/>
              <a:rect l="0" t="0" r="r" b="b"/>
              <a:pathLst>
                <a:path w="1447" h="2272">
                  <a:moveTo>
                    <a:pt x="361" y="313"/>
                  </a:moveTo>
                  <a:lnTo>
                    <a:pt x="255" y="749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2" y="2086"/>
                  </a:lnTo>
                  <a:lnTo>
                    <a:pt x="687" y="2272"/>
                  </a:lnTo>
                  <a:lnTo>
                    <a:pt x="984" y="2245"/>
                  </a:lnTo>
                  <a:lnTo>
                    <a:pt x="1125" y="1870"/>
                  </a:lnTo>
                  <a:lnTo>
                    <a:pt x="1156" y="1293"/>
                  </a:lnTo>
                  <a:lnTo>
                    <a:pt x="1447" y="1005"/>
                  </a:lnTo>
                  <a:lnTo>
                    <a:pt x="1434" y="895"/>
                  </a:lnTo>
                  <a:lnTo>
                    <a:pt x="1398" y="837"/>
                  </a:lnTo>
                  <a:lnTo>
                    <a:pt x="1248" y="824"/>
                  </a:lnTo>
                  <a:lnTo>
                    <a:pt x="1297" y="679"/>
                  </a:lnTo>
                  <a:lnTo>
                    <a:pt x="1143" y="573"/>
                  </a:lnTo>
                  <a:lnTo>
                    <a:pt x="1076" y="246"/>
                  </a:lnTo>
                  <a:lnTo>
                    <a:pt x="626" y="0"/>
                  </a:lnTo>
                  <a:lnTo>
                    <a:pt x="392" y="233"/>
                  </a:lnTo>
                  <a:lnTo>
                    <a:pt x="361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05720" y="112248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73" y="141"/>
                  </a:moveTo>
                  <a:lnTo>
                    <a:pt x="459" y="273"/>
                  </a:lnTo>
                  <a:lnTo>
                    <a:pt x="552" y="414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515"/>
                  </a:lnTo>
                  <a:lnTo>
                    <a:pt x="940" y="1764"/>
                  </a:lnTo>
                  <a:lnTo>
                    <a:pt x="1064" y="2457"/>
                  </a:lnTo>
                  <a:lnTo>
                    <a:pt x="565" y="2717"/>
                  </a:lnTo>
                  <a:lnTo>
                    <a:pt x="176" y="2571"/>
                  </a:lnTo>
                  <a:lnTo>
                    <a:pt x="176" y="1839"/>
                  </a:lnTo>
                  <a:lnTo>
                    <a:pt x="0" y="1128"/>
                  </a:lnTo>
                  <a:lnTo>
                    <a:pt x="176" y="273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6240" y="331920"/>
              <a:ext cx="444960" cy="257400"/>
            </a:xfrm>
            <a:custGeom>
              <a:avLst/>
              <a:gdLst/>
              <a:ahLst/>
              <a:rect l="0" t="0" r="r" b="b"/>
              <a:pathLst>
                <a:path w="1236" h="715">
                  <a:moveTo>
                    <a:pt x="154" y="684"/>
                  </a:moveTo>
                  <a:lnTo>
                    <a:pt x="336" y="490"/>
                  </a:lnTo>
                  <a:lnTo>
                    <a:pt x="450" y="464"/>
                  </a:lnTo>
                  <a:lnTo>
                    <a:pt x="450" y="481"/>
                  </a:lnTo>
                  <a:lnTo>
                    <a:pt x="508" y="464"/>
                  </a:lnTo>
                  <a:lnTo>
                    <a:pt x="583" y="521"/>
                  </a:lnTo>
                  <a:lnTo>
                    <a:pt x="728" y="547"/>
                  </a:lnTo>
                  <a:lnTo>
                    <a:pt x="847" y="715"/>
                  </a:lnTo>
                  <a:lnTo>
                    <a:pt x="1042" y="644"/>
                  </a:lnTo>
                  <a:lnTo>
                    <a:pt x="1042" y="565"/>
                  </a:lnTo>
                  <a:lnTo>
                    <a:pt x="1236" y="481"/>
                  </a:lnTo>
                  <a:lnTo>
                    <a:pt x="1179" y="343"/>
                  </a:lnTo>
                  <a:lnTo>
                    <a:pt x="994" y="335"/>
                  </a:lnTo>
                  <a:lnTo>
                    <a:pt x="1025" y="185"/>
                  </a:lnTo>
                  <a:lnTo>
                    <a:pt x="865" y="202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3" y="158"/>
                  </a:lnTo>
                  <a:lnTo>
                    <a:pt x="600" y="0"/>
                  </a:lnTo>
                  <a:lnTo>
                    <a:pt x="450" y="74"/>
                  </a:lnTo>
                  <a:lnTo>
                    <a:pt x="242" y="335"/>
                  </a:lnTo>
                  <a:lnTo>
                    <a:pt x="233" y="158"/>
                  </a:lnTo>
                  <a:lnTo>
                    <a:pt x="123" y="242"/>
                  </a:lnTo>
                  <a:lnTo>
                    <a:pt x="92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4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46840" y="1303200"/>
              <a:ext cx="141480" cy="738720"/>
            </a:xfrm>
            <a:custGeom>
              <a:avLst/>
              <a:gdLst/>
              <a:ahLst/>
              <a:rect l="0" t="0" r="r" b="b"/>
              <a:pathLst>
                <a:path w="393" h="2052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97" y="1434"/>
                  </a:lnTo>
                  <a:lnTo>
                    <a:pt x="97" y="1638"/>
                  </a:lnTo>
                  <a:lnTo>
                    <a:pt x="48" y="1787"/>
                  </a:lnTo>
                  <a:lnTo>
                    <a:pt x="247" y="2052"/>
                  </a:lnTo>
                  <a:lnTo>
                    <a:pt x="380" y="1651"/>
                  </a:lnTo>
                  <a:lnTo>
                    <a:pt x="380" y="1381"/>
                  </a:lnTo>
                  <a:lnTo>
                    <a:pt x="283" y="1121"/>
                  </a:lnTo>
                  <a:lnTo>
                    <a:pt x="234" y="777"/>
                  </a:lnTo>
                  <a:lnTo>
                    <a:pt x="331" y="436"/>
                  </a:lnTo>
                  <a:lnTo>
                    <a:pt x="300" y="299"/>
                  </a:lnTo>
                  <a:lnTo>
                    <a:pt x="393" y="233"/>
                  </a:lnTo>
                  <a:lnTo>
                    <a:pt x="380" y="141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42160" y="105552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68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6880" y="71424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69" y="402"/>
                  </a:lnTo>
                  <a:lnTo>
                    <a:pt x="393" y="375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66000" y="68436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10"/>
                  </a:lnTo>
                  <a:lnTo>
                    <a:pt x="9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64320" y="496800"/>
              <a:ext cx="495720" cy="362160"/>
            </a:xfrm>
            <a:custGeom>
              <a:avLst/>
              <a:gdLst/>
              <a:ahLst/>
              <a:rect l="0" t="0" r="r" b="b"/>
              <a:pathLst>
                <a:path w="1377" h="1006">
                  <a:moveTo>
                    <a:pt x="631" y="596"/>
                  </a:moveTo>
                  <a:lnTo>
                    <a:pt x="508" y="561"/>
                  </a:lnTo>
                  <a:lnTo>
                    <a:pt x="613" y="471"/>
                  </a:lnTo>
                  <a:lnTo>
                    <a:pt x="574" y="418"/>
                  </a:lnTo>
                  <a:lnTo>
                    <a:pt x="433" y="538"/>
                  </a:lnTo>
                  <a:lnTo>
                    <a:pt x="171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67" y="997"/>
                  </a:lnTo>
                  <a:lnTo>
                    <a:pt x="207" y="1006"/>
                  </a:lnTo>
                  <a:lnTo>
                    <a:pt x="57" y="697"/>
                  </a:lnTo>
                  <a:lnTo>
                    <a:pt x="286" y="596"/>
                  </a:lnTo>
                  <a:lnTo>
                    <a:pt x="433" y="596"/>
                  </a:lnTo>
                  <a:lnTo>
                    <a:pt x="547" y="658"/>
                  </a:lnTo>
                  <a:lnTo>
                    <a:pt x="574" y="746"/>
                  </a:lnTo>
                  <a:lnTo>
                    <a:pt x="574" y="935"/>
                  </a:lnTo>
                  <a:lnTo>
                    <a:pt x="574" y="997"/>
                  </a:lnTo>
                  <a:lnTo>
                    <a:pt x="640" y="909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7"/>
                  </a:lnTo>
                  <a:lnTo>
                    <a:pt x="1006" y="957"/>
                  </a:lnTo>
                  <a:lnTo>
                    <a:pt x="1174" y="918"/>
                  </a:lnTo>
                  <a:lnTo>
                    <a:pt x="1294" y="830"/>
                  </a:lnTo>
                  <a:lnTo>
                    <a:pt x="1311" y="627"/>
                  </a:lnTo>
                  <a:lnTo>
                    <a:pt x="1377" y="538"/>
                  </a:lnTo>
                  <a:lnTo>
                    <a:pt x="1338" y="485"/>
                  </a:lnTo>
                  <a:lnTo>
                    <a:pt x="1188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7" y="0"/>
                  </a:lnTo>
                  <a:lnTo>
                    <a:pt x="1002" y="251"/>
                  </a:lnTo>
                  <a:lnTo>
                    <a:pt x="1051" y="251"/>
                  </a:lnTo>
                  <a:lnTo>
                    <a:pt x="1086" y="418"/>
                  </a:lnTo>
                  <a:lnTo>
                    <a:pt x="891" y="485"/>
                  </a:lnTo>
                  <a:lnTo>
                    <a:pt x="750" y="436"/>
                  </a:lnTo>
                  <a:lnTo>
                    <a:pt x="728" y="485"/>
                  </a:lnTo>
                  <a:lnTo>
                    <a:pt x="803" y="538"/>
                  </a:lnTo>
                  <a:lnTo>
                    <a:pt x="803" y="591"/>
                  </a:lnTo>
                  <a:lnTo>
                    <a:pt x="971" y="512"/>
                  </a:lnTo>
                  <a:lnTo>
                    <a:pt x="1108" y="498"/>
                  </a:lnTo>
                  <a:lnTo>
                    <a:pt x="1263" y="521"/>
                  </a:lnTo>
                  <a:lnTo>
                    <a:pt x="1263" y="547"/>
                  </a:lnTo>
                  <a:lnTo>
                    <a:pt x="1192" y="618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6"/>
                  </a:lnTo>
                  <a:lnTo>
                    <a:pt x="838" y="896"/>
                  </a:lnTo>
                  <a:lnTo>
                    <a:pt x="807" y="860"/>
                  </a:lnTo>
                  <a:lnTo>
                    <a:pt x="785" y="627"/>
                  </a:lnTo>
                  <a:lnTo>
                    <a:pt x="640" y="627"/>
                  </a:lnTo>
                  <a:lnTo>
                    <a:pt x="63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4240" y="914400"/>
              <a:ext cx="160560" cy="73440"/>
            </a:xfrm>
            <a:custGeom>
              <a:avLst/>
              <a:gdLst/>
              <a:ahLst/>
              <a:rect l="0" t="0" r="r" b="b"/>
              <a:pathLst>
                <a:path w="446" h="204">
                  <a:moveTo>
                    <a:pt x="0" y="0"/>
                  </a:moveTo>
                  <a:lnTo>
                    <a:pt x="70" y="93"/>
                  </a:lnTo>
                  <a:lnTo>
                    <a:pt x="265" y="93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2"/>
                  </a:lnTo>
                  <a:lnTo>
                    <a:pt x="428" y="93"/>
                  </a:lnTo>
                  <a:lnTo>
                    <a:pt x="247" y="204"/>
                  </a:lnTo>
                  <a:lnTo>
                    <a:pt x="149" y="204"/>
                  </a:lnTo>
                  <a:lnTo>
                    <a:pt x="92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6400" y="795240"/>
              <a:ext cx="241560" cy="389160"/>
            </a:xfrm>
            <a:custGeom>
              <a:avLst/>
              <a:gdLst/>
              <a:ahLst/>
              <a:rect l="0" t="0" r="r" b="b"/>
              <a:pathLst>
                <a:path w="671" h="1081">
                  <a:moveTo>
                    <a:pt x="671" y="79"/>
                  </a:moveTo>
                  <a:lnTo>
                    <a:pt x="671" y="92"/>
                  </a:lnTo>
                  <a:lnTo>
                    <a:pt x="552" y="202"/>
                  </a:lnTo>
                  <a:lnTo>
                    <a:pt x="455" y="224"/>
                  </a:lnTo>
                  <a:lnTo>
                    <a:pt x="268" y="194"/>
                  </a:lnTo>
                  <a:lnTo>
                    <a:pt x="304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3"/>
                  </a:lnTo>
                  <a:lnTo>
                    <a:pt x="313" y="821"/>
                  </a:lnTo>
                  <a:lnTo>
                    <a:pt x="260" y="458"/>
                  </a:lnTo>
                  <a:lnTo>
                    <a:pt x="207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2" y="321"/>
                  </a:lnTo>
                  <a:lnTo>
                    <a:pt x="171" y="299"/>
                  </a:lnTo>
                  <a:lnTo>
                    <a:pt x="171" y="105"/>
                  </a:lnTo>
                  <a:lnTo>
                    <a:pt x="251" y="145"/>
                  </a:lnTo>
                  <a:lnTo>
                    <a:pt x="375" y="176"/>
                  </a:lnTo>
                  <a:lnTo>
                    <a:pt x="486" y="167"/>
                  </a:lnTo>
                  <a:lnTo>
                    <a:pt x="596" y="105"/>
                  </a:lnTo>
                  <a:lnTo>
                    <a:pt x="671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1560" y="48744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1" y="194"/>
                  </a:lnTo>
                  <a:lnTo>
                    <a:pt x="80" y="367"/>
                  </a:lnTo>
                  <a:lnTo>
                    <a:pt x="124" y="437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8320" y="30492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6"/>
                  </a:moveTo>
                  <a:lnTo>
                    <a:pt x="145" y="591"/>
                  </a:lnTo>
                  <a:lnTo>
                    <a:pt x="132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68"/>
                  </a:lnTo>
                  <a:lnTo>
                    <a:pt x="508" y="145"/>
                  </a:lnTo>
                  <a:lnTo>
                    <a:pt x="569" y="127"/>
                  </a:lnTo>
                  <a:lnTo>
                    <a:pt x="521" y="251"/>
                  </a:lnTo>
                  <a:lnTo>
                    <a:pt x="680" y="313"/>
                  </a:lnTo>
                  <a:lnTo>
                    <a:pt x="799" y="189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82" y="273"/>
                  </a:lnTo>
                  <a:lnTo>
                    <a:pt x="993" y="321"/>
                  </a:lnTo>
                  <a:lnTo>
                    <a:pt x="900" y="411"/>
                  </a:lnTo>
                  <a:lnTo>
                    <a:pt x="1214" y="468"/>
                  </a:lnTo>
                  <a:lnTo>
                    <a:pt x="1002" y="534"/>
                  </a:lnTo>
                  <a:lnTo>
                    <a:pt x="1267" y="574"/>
                  </a:lnTo>
                  <a:lnTo>
                    <a:pt x="957" y="644"/>
                  </a:lnTo>
                  <a:lnTo>
                    <a:pt x="1024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41" y="755"/>
                  </a:lnTo>
                  <a:lnTo>
                    <a:pt x="1214" y="631"/>
                  </a:lnTo>
                  <a:lnTo>
                    <a:pt x="1369" y="578"/>
                  </a:lnTo>
                  <a:lnTo>
                    <a:pt x="1258" y="521"/>
                  </a:lnTo>
                  <a:lnTo>
                    <a:pt x="1514" y="508"/>
                  </a:lnTo>
                  <a:lnTo>
                    <a:pt x="1294" y="384"/>
                  </a:lnTo>
                  <a:lnTo>
                    <a:pt x="1041" y="352"/>
                  </a:lnTo>
                  <a:lnTo>
                    <a:pt x="1241" y="233"/>
                  </a:lnTo>
                  <a:lnTo>
                    <a:pt x="882" y="233"/>
                  </a:lnTo>
                  <a:lnTo>
                    <a:pt x="1050" y="114"/>
                  </a:lnTo>
                  <a:lnTo>
                    <a:pt x="790" y="145"/>
                  </a:lnTo>
                  <a:lnTo>
                    <a:pt x="666" y="202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1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37480" y="450720"/>
              <a:ext cx="154440" cy="81360"/>
            </a:xfrm>
            <a:custGeom>
              <a:avLst/>
              <a:gdLst/>
              <a:ahLst/>
              <a:rect l="0" t="0" r="r" b="b"/>
              <a:pathLst>
                <a:path w="429" h="226">
                  <a:moveTo>
                    <a:pt x="0" y="226"/>
                  </a:moveTo>
                  <a:lnTo>
                    <a:pt x="159" y="0"/>
                  </a:lnTo>
                  <a:lnTo>
                    <a:pt x="159" y="150"/>
                  </a:lnTo>
                  <a:lnTo>
                    <a:pt x="217" y="89"/>
                  </a:lnTo>
                  <a:lnTo>
                    <a:pt x="269" y="173"/>
                  </a:lnTo>
                  <a:lnTo>
                    <a:pt x="429" y="213"/>
                  </a:lnTo>
                  <a:lnTo>
                    <a:pt x="256" y="187"/>
                  </a:lnTo>
                  <a:lnTo>
                    <a:pt x="208" y="128"/>
                  </a:lnTo>
                  <a:lnTo>
                    <a:pt x="133" y="187"/>
                  </a:lnTo>
                  <a:lnTo>
                    <a:pt x="133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23080" y="1009800"/>
              <a:ext cx="184680" cy="122760"/>
            </a:xfrm>
            <a:custGeom>
              <a:avLst/>
              <a:gdLst/>
              <a:ahLst/>
              <a:rect l="0" t="0" r="r" b="b"/>
              <a:pathLst>
                <a:path w="513" h="341">
                  <a:moveTo>
                    <a:pt x="97" y="120"/>
                  </a:moveTo>
                  <a:lnTo>
                    <a:pt x="309" y="102"/>
                  </a:lnTo>
                  <a:lnTo>
                    <a:pt x="407" y="128"/>
                  </a:lnTo>
                  <a:lnTo>
                    <a:pt x="460" y="79"/>
                  </a:lnTo>
                  <a:lnTo>
                    <a:pt x="513" y="190"/>
                  </a:lnTo>
                  <a:lnTo>
                    <a:pt x="478" y="208"/>
                  </a:lnTo>
                  <a:lnTo>
                    <a:pt x="434" y="168"/>
                  </a:lnTo>
                  <a:lnTo>
                    <a:pt x="367" y="247"/>
                  </a:lnTo>
                  <a:lnTo>
                    <a:pt x="239" y="341"/>
                  </a:lnTo>
                  <a:lnTo>
                    <a:pt x="181" y="341"/>
                  </a:lnTo>
                  <a:lnTo>
                    <a:pt x="97" y="293"/>
                  </a:lnTo>
                  <a:lnTo>
                    <a:pt x="190" y="332"/>
                  </a:lnTo>
                  <a:lnTo>
                    <a:pt x="230" y="332"/>
                  </a:lnTo>
                  <a:lnTo>
                    <a:pt x="309" y="270"/>
                  </a:lnTo>
                  <a:lnTo>
                    <a:pt x="362" y="155"/>
                  </a:lnTo>
                  <a:lnTo>
                    <a:pt x="278" y="142"/>
                  </a:lnTo>
                  <a:lnTo>
                    <a:pt x="225" y="128"/>
                  </a:lnTo>
                  <a:lnTo>
                    <a:pt x="88" y="146"/>
                  </a:lnTo>
                  <a:lnTo>
                    <a:pt x="83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7" y="8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9320" y="74448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7" y="0"/>
                  </a:moveTo>
                  <a:lnTo>
                    <a:pt x="1032" y="0"/>
                  </a:lnTo>
                  <a:lnTo>
                    <a:pt x="1099" y="79"/>
                  </a:lnTo>
                  <a:lnTo>
                    <a:pt x="1099" y="163"/>
                  </a:lnTo>
                  <a:lnTo>
                    <a:pt x="1010" y="406"/>
                  </a:lnTo>
                  <a:lnTo>
                    <a:pt x="918" y="525"/>
                  </a:lnTo>
                  <a:lnTo>
                    <a:pt x="825" y="543"/>
                  </a:lnTo>
                  <a:lnTo>
                    <a:pt x="799" y="543"/>
                  </a:lnTo>
                  <a:lnTo>
                    <a:pt x="799" y="852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3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32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38"/>
                  </a:lnTo>
                  <a:lnTo>
                    <a:pt x="388" y="1351"/>
                  </a:lnTo>
                  <a:lnTo>
                    <a:pt x="546" y="1276"/>
                  </a:lnTo>
                  <a:lnTo>
                    <a:pt x="631" y="1183"/>
                  </a:lnTo>
                  <a:lnTo>
                    <a:pt x="719" y="1024"/>
                  </a:lnTo>
                  <a:lnTo>
                    <a:pt x="733" y="838"/>
                  </a:lnTo>
                  <a:lnTo>
                    <a:pt x="768" y="233"/>
                  </a:lnTo>
                  <a:lnTo>
                    <a:pt x="807" y="317"/>
                  </a:lnTo>
                  <a:lnTo>
                    <a:pt x="913" y="207"/>
                  </a:lnTo>
                  <a:lnTo>
                    <a:pt x="1028" y="163"/>
                  </a:lnTo>
                  <a:lnTo>
                    <a:pt x="1054" y="97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86600" y="123192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1" y="66"/>
                  </a:lnTo>
                  <a:lnTo>
                    <a:pt x="291" y="361"/>
                  </a:lnTo>
                  <a:lnTo>
                    <a:pt x="516" y="428"/>
                  </a:lnTo>
                  <a:lnTo>
                    <a:pt x="583" y="508"/>
                  </a:lnTo>
                  <a:lnTo>
                    <a:pt x="596" y="618"/>
                  </a:lnTo>
                  <a:lnTo>
                    <a:pt x="706" y="600"/>
                  </a:lnTo>
                  <a:lnTo>
                    <a:pt x="843" y="693"/>
                  </a:lnTo>
                  <a:lnTo>
                    <a:pt x="887" y="812"/>
                  </a:lnTo>
                  <a:lnTo>
                    <a:pt x="887" y="1015"/>
                  </a:lnTo>
                  <a:lnTo>
                    <a:pt x="706" y="1324"/>
                  </a:lnTo>
                  <a:lnTo>
                    <a:pt x="644" y="1452"/>
                  </a:lnTo>
                  <a:lnTo>
                    <a:pt x="680" y="1285"/>
                  </a:lnTo>
                  <a:lnTo>
                    <a:pt x="644" y="1219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7" y="1157"/>
                  </a:lnTo>
                  <a:lnTo>
                    <a:pt x="759" y="1144"/>
                  </a:lnTo>
                  <a:lnTo>
                    <a:pt x="799" y="1091"/>
                  </a:lnTo>
                  <a:lnTo>
                    <a:pt x="843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77"/>
                  </a:lnTo>
                  <a:lnTo>
                    <a:pt x="299" y="406"/>
                  </a:lnTo>
                  <a:lnTo>
                    <a:pt x="299" y="464"/>
                  </a:lnTo>
                  <a:lnTo>
                    <a:pt x="211" y="308"/>
                  </a:lnTo>
                  <a:lnTo>
                    <a:pt x="163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4320" y="1461960"/>
              <a:ext cx="211320" cy="419400"/>
            </a:xfrm>
            <a:custGeom>
              <a:avLst/>
              <a:gdLst/>
              <a:ahLst/>
              <a:rect l="0" t="0" r="r" b="b"/>
              <a:pathLst>
                <a:path w="587" h="1165">
                  <a:moveTo>
                    <a:pt x="587" y="0"/>
                  </a:moveTo>
                  <a:lnTo>
                    <a:pt x="464" y="79"/>
                  </a:lnTo>
                  <a:lnTo>
                    <a:pt x="322" y="361"/>
                  </a:lnTo>
                  <a:lnTo>
                    <a:pt x="18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4" y="979"/>
                  </a:lnTo>
                  <a:lnTo>
                    <a:pt x="224" y="878"/>
                  </a:lnTo>
                  <a:lnTo>
                    <a:pt x="314" y="671"/>
                  </a:lnTo>
                  <a:lnTo>
                    <a:pt x="433" y="542"/>
                  </a:lnTo>
                  <a:lnTo>
                    <a:pt x="433" y="710"/>
                  </a:lnTo>
                  <a:lnTo>
                    <a:pt x="415" y="865"/>
                  </a:lnTo>
                  <a:lnTo>
                    <a:pt x="286" y="1072"/>
                  </a:lnTo>
                  <a:lnTo>
                    <a:pt x="286" y="1138"/>
                  </a:lnTo>
                  <a:lnTo>
                    <a:pt x="415" y="1165"/>
                  </a:lnTo>
                  <a:lnTo>
                    <a:pt x="322" y="1107"/>
                  </a:lnTo>
                  <a:lnTo>
                    <a:pt x="336" y="1072"/>
                  </a:lnTo>
                  <a:lnTo>
                    <a:pt x="424" y="918"/>
                  </a:lnTo>
                  <a:lnTo>
                    <a:pt x="486" y="644"/>
                  </a:lnTo>
                  <a:lnTo>
                    <a:pt x="441" y="489"/>
                  </a:lnTo>
                  <a:lnTo>
                    <a:pt x="349" y="583"/>
                  </a:lnTo>
                  <a:lnTo>
                    <a:pt x="136" y="927"/>
                  </a:lnTo>
                  <a:lnTo>
                    <a:pt x="83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4" y="658"/>
                  </a:lnTo>
                  <a:lnTo>
                    <a:pt x="349" y="374"/>
                  </a:lnTo>
                  <a:lnTo>
                    <a:pt x="486" y="10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9840" y="1698480"/>
              <a:ext cx="130680" cy="201960"/>
            </a:xfrm>
            <a:custGeom>
              <a:avLst/>
              <a:gdLst/>
              <a:ahLst/>
              <a:rect l="0" t="0" r="r" b="b"/>
              <a:pathLst>
                <a:path w="363" h="561">
                  <a:moveTo>
                    <a:pt x="0" y="494"/>
                  </a:moveTo>
                  <a:lnTo>
                    <a:pt x="120" y="353"/>
                  </a:lnTo>
                  <a:lnTo>
                    <a:pt x="142" y="207"/>
                  </a:lnTo>
                  <a:lnTo>
                    <a:pt x="279" y="0"/>
                  </a:lnTo>
                  <a:lnTo>
                    <a:pt x="310" y="141"/>
                  </a:lnTo>
                  <a:lnTo>
                    <a:pt x="293" y="508"/>
                  </a:lnTo>
                  <a:lnTo>
                    <a:pt x="363" y="561"/>
                  </a:lnTo>
                  <a:lnTo>
                    <a:pt x="256" y="521"/>
                  </a:lnTo>
                  <a:lnTo>
                    <a:pt x="203" y="309"/>
                  </a:lnTo>
                  <a:lnTo>
                    <a:pt x="120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50040" y="170964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61" y="79"/>
                  </a:lnTo>
                  <a:lnTo>
                    <a:pt x="114" y="477"/>
                  </a:lnTo>
                  <a:lnTo>
                    <a:pt x="190" y="477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2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48760" y="100008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5" y="511"/>
                  </a:lnTo>
                  <a:lnTo>
                    <a:pt x="393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19" y="489"/>
                  </a:lnTo>
                  <a:lnTo>
                    <a:pt x="212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4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8440" y="100008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8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1"/>
                  </a:lnTo>
                  <a:lnTo>
                    <a:pt x="233" y="440"/>
                  </a:lnTo>
                  <a:lnTo>
                    <a:pt x="255" y="577"/>
                  </a:lnTo>
                  <a:lnTo>
                    <a:pt x="583" y="733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22"/>
                  </a:lnTo>
                  <a:lnTo>
                    <a:pt x="578" y="1085"/>
                  </a:lnTo>
                  <a:lnTo>
                    <a:pt x="516" y="1006"/>
                  </a:lnTo>
                  <a:lnTo>
                    <a:pt x="449" y="997"/>
                  </a:lnTo>
                  <a:lnTo>
                    <a:pt x="534" y="997"/>
                  </a:lnTo>
                  <a:lnTo>
                    <a:pt x="693" y="1209"/>
                  </a:lnTo>
                  <a:lnTo>
                    <a:pt x="896" y="1271"/>
                  </a:lnTo>
                  <a:lnTo>
                    <a:pt x="940" y="1209"/>
                  </a:lnTo>
                  <a:lnTo>
                    <a:pt x="918" y="1112"/>
                  </a:lnTo>
                  <a:lnTo>
                    <a:pt x="561" y="816"/>
                  </a:lnTo>
                  <a:lnTo>
                    <a:pt x="512" y="733"/>
                  </a:lnTo>
                  <a:lnTo>
                    <a:pt x="233" y="658"/>
                  </a:lnTo>
                  <a:lnTo>
                    <a:pt x="189" y="733"/>
                  </a:lnTo>
                  <a:lnTo>
                    <a:pt x="0" y="852"/>
                  </a:lnTo>
                  <a:lnTo>
                    <a:pt x="176" y="710"/>
                  </a:lnTo>
                  <a:lnTo>
                    <a:pt x="189" y="621"/>
                  </a:lnTo>
                  <a:lnTo>
                    <a:pt x="189" y="410"/>
                  </a:lnTo>
                  <a:lnTo>
                    <a:pt x="313" y="251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4720" y="1366920"/>
              <a:ext cx="297360" cy="276480"/>
            </a:xfrm>
            <a:custGeom>
              <a:avLst/>
              <a:gdLst/>
              <a:ahLst/>
              <a:rect l="0" t="0" r="r" b="b"/>
              <a:pathLst>
                <a:path w="826" h="768">
                  <a:moveTo>
                    <a:pt x="618" y="0"/>
                  </a:moveTo>
                  <a:lnTo>
                    <a:pt x="596" y="66"/>
                  </a:lnTo>
                  <a:lnTo>
                    <a:pt x="720" y="317"/>
                  </a:lnTo>
                  <a:lnTo>
                    <a:pt x="782" y="578"/>
                  </a:lnTo>
                  <a:lnTo>
                    <a:pt x="711" y="578"/>
                  </a:lnTo>
                  <a:lnTo>
                    <a:pt x="587" y="468"/>
                  </a:lnTo>
                  <a:lnTo>
                    <a:pt x="477" y="224"/>
                  </a:lnTo>
                  <a:lnTo>
                    <a:pt x="389" y="189"/>
                  </a:lnTo>
                  <a:lnTo>
                    <a:pt x="402" y="317"/>
                  </a:lnTo>
                  <a:lnTo>
                    <a:pt x="481" y="415"/>
                  </a:lnTo>
                  <a:lnTo>
                    <a:pt x="481" y="596"/>
                  </a:lnTo>
                  <a:lnTo>
                    <a:pt x="424" y="733"/>
                  </a:lnTo>
                  <a:lnTo>
                    <a:pt x="349" y="680"/>
                  </a:lnTo>
                  <a:lnTo>
                    <a:pt x="252" y="468"/>
                  </a:lnTo>
                  <a:lnTo>
                    <a:pt x="234" y="317"/>
                  </a:lnTo>
                  <a:lnTo>
                    <a:pt x="176" y="277"/>
                  </a:lnTo>
                  <a:lnTo>
                    <a:pt x="163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3" y="755"/>
                  </a:lnTo>
                  <a:lnTo>
                    <a:pt x="198" y="666"/>
                  </a:lnTo>
                  <a:lnTo>
                    <a:pt x="221" y="374"/>
                  </a:lnTo>
                  <a:lnTo>
                    <a:pt x="239" y="490"/>
                  </a:lnTo>
                  <a:lnTo>
                    <a:pt x="336" y="741"/>
                  </a:lnTo>
                  <a:lnTo>
                    <a:pt x="437" y="768"/>
                  </a:lnTo>
                  <a:lnTo>
                    <a:pt x="512" y="666"/>
                  </a:lnTo>
                  <a:lnTo>
                    <a:pt x="512" y="424"/>
                  </a:lnTo>
                  <a:lnTo>
                    <a:pt x="711" y="627"/>
                  </a:lnTo>
                  <a:lnTo>
                    <a:pt x="817" y="627"/>
                  </a:lnTo>
                  <a:lnTo>
                    <a:pt x="826" y="490"/>
                  </a:lnTo>
                  <a:lnTo>
                    <a:pt x="751" y="246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1081080"/>
              <a:ext cx="1319400" cy="1127520"/>
            </a:xfrm>
            <a:custGeom>
              <a:avLst/>
              <a:gdLst/>
              <a:ahLst/>
              <a:rect l="0" t="0" r="r" b="b"/>
              <a:pathLst>
                <a:path w="3665" h="3132">
                  <a:moveTo>
                    <a:pt x="1318" y="264"/>
                  </a:moveTo>
                  <a:lnTo>
                    <a:pt x="1252" y="277"/>
                  </a:lnTo>
                  <a:lnTo>
                    <a:pt x="1150" y="432"/>
                  </a:lnTo>
                  <a:lnTo>
                    <a:pt x="1111" y="317"/>
                  </a:lnTo>
                  <a:lnTo>
                    <a:pt x="992" y="251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4"/>
                  </a:lnTo>
                  <a:lnTo>
                    <a:pt x="564" y="860"/>
                  </a:lnTo>
                  <a:lnTo>
                    <a:pt x="485" y="953"/>
                  </a:lnTo>
                  <a:lnTo>
                    <a:pt x="485" y="1037"/>
                  </a:lnTo>
                  <a:lnTo>
                    <a:pt x="577" y="1271"/>
                  </a:lnTo>
                  <a:lnTo>
                    <a:pt x="586" y="1562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9" y="2038"/>
                  </a:lnTo>
                  <a:lnTo>
                    <a:pt x="74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3" y="2559"/>
                  </a:lnTo>
                  <a:lnTo>
                    <a:pt x="277" y="2568"/>
                  </a:lnTo>
                  <a:lnTo>
                    <a:pt x="485" y="2771"/>
                  </a:lnTo>
                  <a:lnTo>
                    <a:pt x="670" y="2793"/>
                  </a:lnTo>
                  <a:lnTo>
                    <a:pt x="776" y="2687"/>
                  </a:lnTo>
                  <a:lnTo>
                    <a:pt x="1031" y="2298"/>
                  </a:lnTo>
                  <a:lnTo>
                    <a:pt x="1053" y="2824"/>
                  </a:lnTo>
                  <a:lnTo>
                    <a:pt x="1031" y="3132"/>
                  </a:lnTo>
                  <a:lnTo>
                    <a:pt x="3149" y="3132"/>
                  </a:lnTo>
                  <a:lnTo>
                    <a:pt x="2995" y="2793"/>
                  </a:lnTo>
                  <a:lnTo>
                    <a:pt x="2920" y="2506"/>
                  </a:lnTo>
                  <a:lnTo>
                    <a:pt x="2898" y="2073"/>
                  </a:lnTo>
                  <a:lnTo>
                    <a:pt x="3021" y="2170"/>
                  </a:lnTo>
                  <a:lnTo>
                    <a:pt x="3149" y="2170"/>
                  </a:lnTo>
                  <a:lnTo>
                    <a:pt x="3321" y="2055"/>
                  </a:lnTo>
                  <a:lnTo>
                    <a:pt x="3440" y="2038"/>
                  </a:lnTo>
                  <a:lnTo>
                    <a:pt x="3511" y="1923"/>
                  </a:lnTo>
                  <a:lnTo>
                    <a:pt x="3559" y="1628"/>
                  </a:lnTo>
                  <a:lnTo>
                    <a:pt x="3665" y="1509"/>
                  </a:lnTo>
                  <a:lnTo>
                    <a:pt x="3612" y="1420"/>
                  </a:lnTo>
                  <a:lnTo>
                    <a:pt x="3533" y="1420"/>
                  </a:lnTo>
                  <a:lnTo>
                    <a:pt x="3471" y="1482"/>
                  </a:lnTo>
                  <a:lnTo>
                    <a:pt x="3409" y="1495"/>
                  </a:lnTo>
                  <a:lnTo>
                    <a:pt x="3334" y="1420"/>
                  </a:lnTo>
                  <a:lnTo>
                    <a:pt x="3242" y="1407"/>
                  </a:lnTo>
                  <a:lnTo>
                    <a:pt x="3078" y="1297"/>
                  </a:lnTo>
                  <a:lnTo>
                    <a:pt x="2973" y="1178"/>
                  </a:lnTo>
                  <a:lnTo>
                    <a:pt x="2955" y="1037"/>
                  </a:lnTo>
                  <a:lnTo>
                    <a:pt x="2973" y="896"/>
                  </a:lnTo>
                  <a:lnTo>
                    <a:pt x="3039" y="785"/>
                  </a:lnTo>
                  <a:lnTo>
                    <a:pt x="3131" y="679"/>
                  </a:lnTo>
                  <a:lnTo>
                    <a:pt x="3123" y="502"/>
                  </a:lnTo>
                  <a:lnTo>
                    <a:pt x="3123" y="370"/>
                  </a:lnTo>
                  <a:lnTo>
                    <a:pt x="3078" y="277"/>
                  </a:lnTo>
                  <a:lnTo>
                    <a:pt x="2955" y="238"/>
                  </a:lnTo>
                  <a:lnTo>
                    <a:pt x="2911" y="211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10"/>
                  </a:lnTo>
                  <a:lnTo>
                    <a:pt x="2474" y="158"/>
                  </a:lnTo>
                  <a:lnTo>
                    <a:pt x="2386" y="176"/>
                  </a:lnTo>
                  <a:lnTo>
                    <a:pt x="2285" y="176"/>
                  </a:lnTo>
                  <a:lnTo>
                    <a:pt x="2302" y="330"/>
                  </a:lnTo>
                  <a:lnTo>
                    <a:pt x="2302" y="520"/>
                  </a:lnTo>
                  <a:lnTo>
                    <a:pt x="2285" y="652"/>
                  </a:lnTo>
                  <a:lnTo>
                    <a:pt x="2197" y="807"/>
                  </a:lnTo>
                  <a:lnTo>
                    <a:pt x="2077" y="1046"/>
                  </a:lnTo>
                  <a:lnTo>
                    <a:pt x="1989" y="1323"/>
                  </a:lnTo>
                  <a:lnTo>
                    <a:pt x="1980" y="1495"/>
                  </a:lnTo>
                  <a:lnTo>
                    <a:pt x="1936" y="1641"/>
                  </a:lnTo>
                  <a:lnTo>
                    <a:pt x="1883" y="1782"/>
                  </a:lnTo>
                  <a:lnTo>
                    <a:pt x="1857" y="2011"/>
                  </a:lnTo>
                  <a:lnTo>
                    <a:pt x="1875" y="2197"/>
                  </a:lnTo>
                  <a:lnTo>
                    <a:pt x="1936" y="2418"/>
                  </a:lnTo>
                  <a:lnTo>
                    <a:pt x="1980" y="2506"/>
                  </a:lnTo>
                  <a:lnTo>
                    <a:pt x="1857" y="2586"/>
                  </a:lnTo>
                  <a:lnTo>
                    <a:pt x="1710" y="2634"/>
                  </a:lnTo>
                  <a:lnTo>
                    <a:pt x="1547" y="2652"/>
                  </a:lnTo>
                  <a:lnTo>
                    <a:pt x="1446" y="2652"/>
                  </a:lnTo>
                  <a:lnTo>
                    <a:pt x="1380" y="2625"/>
                  </a:lnTo>
                  <a:lnTo>
                    <a:pt x="1380" y="2436"/>
                  </a:lnTo>
                  <a:lnTo>
                    <a:pt x="1380" y="2157"/>
                  </a:lnTo>
                  <a:lnTo>
                    <a:pt x="1340" y="1883"/>
                  </a:lnTo>
                  <a:lnTo>
                    <a:pt x="1274" y="1641"/>
                  </a:lnTo>
                  <a:lnTo>
                    <a:pt x="1243" y="1442"/>
                  </a:lnTo>
                  <a:lnTo>
                    <a:pt x="1234" y="1165"/>
                  </a:lnTo>
                  <a:lnTo>
                    <a:pt x="1274" y="927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18" y="449"/>
                  </a:lnTo>
                  <a:lnTo>
                    <a:pt x="1318" y="317"/>
                  </a:lnTo>
                  <a:lnTo>
                    <a:pt x="1340" y="277"/>
                  </a:lnTo>
                  <a:lnTo>
                    <a:pt x="1318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40720" y="1306440"/>
              <a:ext cx="167040" cy="733680"/>
            </a:xfrm>
            <a:custGeom>
              <a:avLst/>
              <a:gdLst/>
              <a:ahLst/>
              <a:rect l="0" t="0" r="r" b="b"/>
              <a:pathLst>
                <a:path w="464" h="2038">
                  <a:moveTo>
                    <a:pt x="185" y="26"/>
                  </a:moveTo>
                  <a:lnTo>
                    <a:pt x="61" y="88"/>
                  </a:lnTo>
                  <a:lnTo>
                    <a:pt x="70" y="286"/>
                  </a:lnTo>
                  <a:lnTo>
                    <a:pt x="163" y="343"/>
                  </a:lnTo>
                  <a:lnTo>
                    <a:pt x="52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2" y="1222"/>
                  </a:lnTo>
                  <a:lnTo>
                    <a:pt x="97" y="1469"/>
                  </a:lnTo>
                  <a:lnTo>
                    <a:pt x="97" y="1614"/>
                  </a:lnTo>
                  <a:lnTo>
                    <a:pt x="52" y="1791"/>
                  </a:lnTo>
                  <a:lnTo>
                    <a:pt x="239" y="2038"/>
                  </a:lnTo>
                  <a:lnTo>
                    <a:pt x="318" y="1998"/>
                  </a:lnTo>
                  <a:lnTo>
                    <a:pt x="371" y="1826"/>
                  </a:lnTo>
                  <a:lnTo>
                    <a:pt x="459" y="1601"/>
                  </a:lnTo>
                  <a:lnTo>
                    <a:pt x="464" y="1482"/>
                  </a:lnTo>
                  <a:lnTo>
                    <a:pt x="393" y="1257"/>
                  </a:lnTo>
                  <a:lnTo>
                    <a:pt x="305" y="1041"/>
                  </a:lnTo>
                  <a:lnTo>
                    <a:pt x="274" y="886"/>
                  </a:lnTo>
                  <a:lnTo>
                    <a:pt x="274" y="740"/>
                  </a:lnTo>
                  <a:lnTo>
                    <a:pt x="305" y="608"/>
                  </a:lnTo>
                  <a:lnTo>
                    <a:pt x="371" y="445"/>
                  </a:lnTo>
                  <a:lnTo>
                    <a:pt x="371" y="379"/>
                  </a:lnTo>
                  <a:lnTo>
                    <a:pt x="336" y="313"/>
                  </a:lnTo>
                  <a:lnTo>
                    <a:pt x="424" y="233"/>
                  </a:lnTo>
                  <a:lnTo>
                    <a:pt x="424" y="154"/>
                  </a:lnTo>
                  <a:lnTo>
                    <a:pt x="305" y="0"/>
                  </a:lnTo>
                  <a:lnTo>
                    <a:pt x="402" y="154"/>
                  </a:lnTo>
                  <a:lnTo>
                    <a:pt x="402" y="220"/>
                  </a:lnTo>
                  <a:lnTo>
                    <a:pt x="314" y="286"/>
                  </a:lnTo>
                  <a:lnTo>
                    <a:pt x="349" y="379"/>
                  </a:lnTo>
                  <a:lnTo>
                    <a:pt x="336" y="445"/>
                  </a:lnTo>
                  <a:lnTo>
                    <a:pt x="252" y="635"/>
                  </a:lnTo>
                  <a:lnTo>
                    <a:pt x="239" y="815"/>
                  </a:lnTo>
                  <a:lnTo>
                    <a:pt x="261" y="987"/>
                  </a:lnTo>
                  <a:lnTo>
                    <a:pt x="318" y="1235"/>
                  </a:lnTo>
                  <a:lnTo>
                    <a:pt x="393" y="1429"/>
                  </a:lnTo>
                  <a:lnTo>
                    <a:pt x="393" y="1588"/>
                  </a:lnTo>
                  <a:lnTo>
                    <a:pt x="349" y="1791"/>
                  </a:lnTo>
                  <a:lnTo>
                    <a:pt x="261" y="1998"/>
                  </a:lnTo>
                  <a:lnTo>
                    <a:pt x="154" y="1883"/>
                  </a:lnTo>
                  <a:lnTo>
                    <a:pt x="110" y="1791"/>
                  </a:lnTo>
                  <a:lnTo>
                    <a:pt x="119" y="1588"/>
                  </a:lnTo>
                  <a:lnTo>
                    <a:pt x="110" y="1390"/>
                  </a:lnTo>
                  <a:lnTo>
                    <a:pt x="52" y="1121"/>
                  </a:lnTo>
                  <a:lnTo>
                    <a:pt x="30" y="934"/>
                  </a:lnTo>
                  <a:lnTo>
                    <a:pt x="52" y="727"/>
                  </a:lnTo>
                  <a:lnTo>
                    <a:pt x="97" y="524"/>
                  </a:lnTo>
                  <a:lnTo>
                    <a:pt x="194" y="326"/>
                  </a:lnTo>
                  <a:lnTo>
                    <a:pt x="110" y="246"/>
                  </a:lnTo>
                  <a:lnTo>
                    <a:pt x="97" y="101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15200" y="450720"/>
              <a:ext cx="263880" cy="356040"/>
            </a:xfrm>
            <a:custGeom>
              <a:avLst/>
              <a:gdLst/>
              <a:ahLst/>
              <a:rect l="0" t="0" r="r" b="b"/>
              <a:pathLst>
                <a:path w="733" h="989">
                  <a:moveTo>
                    <a:pt x="123" y="252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3"/>
                  </a:lnTo>
                  <a:lnTo>
                    <a:pt x="468" y="336"/>
                  </a:lnTo>
                  <a:lnTo>
                    <a:pt x="490" y="389"/>
                  </a:lnTo>
                  <a:lnTo>
                    <a:pt x="490" y="437"/>
                  </a:lnTo>
                  <a:lnTo>
                    <a:pt x="464" y="468"/>
                  </a:lnTo>
                  <a:lnTo>
                    <a:pt x="419" y="494"/>
                  </a:lnTo>
                  <a:lnTo>
                    <a:pt x="361" y="494"/>
                  </a:lnTo>
                  <a:lnTo>
                    <a:pt x="295" y="481"/>
                  </a:lnTo>
                  <a:lnTo>
                    <a:pt x="233" y="441"/>
                  </a:lnTo>
                  <a:lnTo>
                    <a:pt x="185" y="402"/>
                  </a:lnTo>
                  <a:lnTo>
                    <a:pt x="163" y="530"/>
                  </a:lnTo>
                  <a:lnTo>
                    <a:pt x="123" y="618"/>
                  </a:lnTo>
                  <a:lnTo>
                    <a:pt x="0" y="826"/>
                  </a:lnTo>
                  <a:lnTo>
                    <a:pt x="176" y="989"/>
                  </a:lnTo>
                  <a:lnTo>
                    <a:pt x="313" y="719"/>
                  </a:lnTo>
                  <a:lnTo>
                    <a:pt x="464" y="747"/>
                  </a:lnTo>
                  <a:lnTo>
                    <a:pt x="561" y="724"/>
                  </a:lnTo>
                  <a:lnTo>
                    <a:pt x="649" y="662"/>
                  </a:lnTo>
                  <a:lnTo>
                    <a:pt x="706" y="587"/>
                  </a:lnTo>
                  <a:lnTo>
                    <a:pt x="733" y="486"/>
                  </a:lnTo>
                  <a:lnTo>
                    <a:pt x="733" y="380"/>
                  </a:lnTo>
                  <a:lnTo>
                    <a:pt x="706" y="265"/>
                  </a:lnTo>
                  <a:lnTo>
                    <a:pt x="644" y="149"/>
                  </a:lnTo>
                  <a:lnTo>
                    <a:pt x="569" y="70"/>
                  </a:lnTo>
                  <a:lnTo>
                    <a:pt x="481" y="26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69120" y="797040"/>
              <a:ext cx="93960" cy="70200"/>
            </a:xfrm>
            <a:custGeom>
              <a:avLst/>
              <a:gdLst/>
              <a:ahLst/>
              <a:rect l="0" t="0" r="r" b="b"/>
              <a:pathLst>
                <a:path w="261" h="195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8"/>
                  </a:lnTo>
                  <a:lnTo>
                    <a:pt x="159" y="195"/>
                  </a:lnTo>
                  <a:lnTo>
                    <a:pt x="239" y="190"/>
                  </a:lnTo>
                  <a:lnTo>
                    <a:pt x="261" y="146"/>
                  </a:lnTo>
                  <a:lnTo>
                    <a:pt x="247" y="106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1219320" y="20574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ypes of information relevant to capital expenditure decis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828800" y="5335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ate-of-Retur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47920" y="289548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accounting rate-of-return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914400" y="1371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831960" y="2813040"/>
            <a:ext cx="8089920" cy="3289320"/>
            <a:chOff x="831960" y="2813040"/>
            <a:chExt cx="8089920" cy="3289320"/>
          </a:xfrm>
        </p:grpSpPr>
        <p:sp>
          <p:nvSpPr>
            <p:cNvPr id="469" name=""/>
            <p:cNvSpPr/>
            <p:nvPr/>
          </p:nvSpPr>
          <p:spPr>
            <a:xfrm>
              <a:off x="831960" y="28130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143000" y="3276720"/>
              <a:ext cx="7400880" cy="26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Rate-of-Return 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’s Average Annual Net Inco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Investment Co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0480" y="4876920"/>
              <a:ext cx="7304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9907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43000" y="1600200"/>
            <a:ext cx="7543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method is a crude but easy way to measure the estimated performance of a capital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143000" y="388620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proposals must meet the minimum desired rate of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8080" y="68580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9051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payback period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8080" y="160020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55640" y="2584440"/>
            <a:ext cx="8089920" cy="3289320"/>
            <a:chOff x="755640" y="2584440"/>
            <a:chExt cx="8089920" cy="3289320"/>
          </a:xfrm>
        </p:grpSpPr>
        <p:sp>
          <p:nvSpPr>
            <p:cNvPr id="481" name=""/>
            <p:cNvSpPr/>
            <p:nvPr/>
          </p:nvSpPr>
          <p:spPr>
            <a:xfrm>
              <a:off x="755640" y="25844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066680" y="3048120"/>
              <a:ext cx="7400880" cy="2190600"/>
              <a:chOff x="1066680" y="3048120"/>
              <a:chExt cx="7400880" cy="2190600"/>
            </a:xfrm>
          </p:grpSpPr>
          <p:sp>
            <p:nvSpPr>
              <p:cNvPr id="483" name=""/>
              <p:cNvSpPr txBox="1"/>
              <p:nvPr/>
            </p:nvSpPr>
            <p:spPr>
              <a:xfrm>
                <a:off x="1066680" y="3048120"/>
                <a:ext cx="7400880" cy="21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back Period (in years)    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 of Investmen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nual Net Cash Inflow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20840" y="4648320"/>
                <a:ext cx="501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143000" y="167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period method of evaluating proposed capital expenditure identifies the project that recoups the original amount of the investment in the shortest tim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14400" y="114300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828800" y="243828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net present value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143000" y="3657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 values of future net cash inflows are measured to see if they exceed the current cost of the capital expenditure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143000" y="14479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et present value method of evaluating a proposed capital expenditure incorporates the time value of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Analysi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Equal Versus Unequal Cash Fl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846000" y="1446120"/>
            <a:ext cx="8026560" cy="53452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49240" y="2286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4960" y="358128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31280" y="624852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4572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 Manag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20968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a manager and state how managers use decision-support information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06668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371600" y="10666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705720" y="228600"/>
            <a:ext cx="2055960" cy="2055960"/>
            <a:chOff x="6705720" y="228600"/>
            <a:chExt cx="2055960" cy="2055960"/>
          </a:xfrm>
        </p:grpSpPr>
        <p:sp>
          <p:nvSpPr>
            <p:cNvPr id="502" name=""/>
            <p:cNvSpPr/>
            <p:nvPr/>
          </p:nvSpPr>
          <p:spPr>
            <a:xfrm>
              <a:off x="671184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3088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8668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3428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8972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3112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5344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8340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7728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4228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1192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8648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080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712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840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4552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7404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5820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3264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060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384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4700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3284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512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1528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2000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548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8992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3916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 txBox="1"/>
          <p:nvPr/>
        </p:nvSpPr>
        <p:spPr>
          <a:xfrm>
            <a:off x="1066680" y="22096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methods are used to analyze proposed capital expendit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53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2882880" y="2664000"/>
              <a:ext cx="586728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decision environment facing managers and state how managers use decision-support information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steps in the management decision process and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levant decision inform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incremental analysis to develop decision dat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380880" y="304920"/>
            <a:ext cx="8521560" cy="6170400"/>
            <a:chOff x="380880" y="304920"/>
            <a:chExt cx="8521560" cy="6170400"/>
          </a:xfrm>
        </p:grpSpPr>
        <p:sp>
          <p:nvSpPr>
            <p:cNvPr id="63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395440" y="1343160"/>
              <a:ext cx="0" cy="2235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48120" y="2743200"/>
              <a:ext cx="5715000" cy="32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evaluations of alternatives for (a) make-or-buy decisions, (b) special order decisions, (c) sales mix decisions, and (d) sell or process-further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ree techniques commonly used to analyze proposed capital expenditures, and explain the measures of projected costs and revenues used in those analys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2819520" y="30492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 txBox="1"/>
            <p:nvPr/>
          </p:nvSpPr>
          <p:spPr>
            <a:xfrm>
              <a:off x="3581280" y="4572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228600" y="382680"/>
            <a:ext cx="8521560" cy="6475320"/>
            <a:chOff x="228600" y="382680"/>
            <a:chExt cx="8521560" cy="6475320"/>
          </a:xfrm>
        </p:grpSpPr>
        <p:sp>
          <p:nvSpPr>
            <p:cNvPr id="7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243160" y="17254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65440" y="2973240"/>
              <a:ext cx="6084720" cy="2639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(a) the accounting rate-of-return method, (b) the payback period method, and (c) the net present value method to analyze proposed capital expendit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 txBox="1"/>
            <p:nvPr/>
          </p:nvSpPr>
          <p:spPr>
            <a:xfrm>
              <a:off x="3581280" y="533520"/>
              <a:ext cx="3144960" cy="76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cision-Support Information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decisions that need to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kinds of information the decision make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21600" y="5711760"/>
            <a:ext cx="23684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her and analyz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ke an educated dec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559480" y="2892600"/>
            <a:ext cx="31305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decision-related plans and results to pertinent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ize the decision process using a decision 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87480" y="5711760"/>
            <a:ext cx="252108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if the decision’s results met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not, identify what can be done to improve the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1371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common types of business deci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25909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buy parts externally or make them intern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or divisions are unprofitable and whether to discontinu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274320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a product should be sold as is or processed fur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alternative for purchasing a machine is most advantage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automate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60020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 are most profitable and whether their markets can be expan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both internal and external sources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2514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consider both broad and detailed information about the consequences of alternatives and the likelihood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thematical formulas and computer programs help managers organize and analyze muc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