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229600" y="6324480"/>
            <a:ext cx="70020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12-</a:t>
            </a:r>
            <a:fld id="{AE03A39F-48EC-4A04-92C6-848B8F68E933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30492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12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 Current Liabiliti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860640" cy="2941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90720" y="251460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55560" y="533520"/>
            <a:ext cx="84884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ognition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480" y="152388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se errors lead to an understatement of expense and an overstatement of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liability is recorded when an obligation occ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is rule is difficult to app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djusting entries recognize unrecorded liabil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371600" y="609480"/>
            <a:ext cx="693432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luation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2120" y="167652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generally valued on the balance sheet at eith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mount of money needed to pay the debt, 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MV of goods or services to be delive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523880" y="380880"/>
            <a:ext cx="67248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luation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40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mount of the liability is usually known, but sometimes the amount must be estim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rvice warranties on c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stimates are based on past experience and anticipated changes in the business enviro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dditional financial statement disclosure may be requi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838080" y="609480"/>
            <a:ext cx="80215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lassification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160020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urrent liabilitie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cted to be satisfied within one year or the normal operating cycle, whichever is lon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id out of current assets or with cash generated from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14400" y="6094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lassification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14400" y="152388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ng-term liabilitie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ue beyond one year or beyond the normal operating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d to finance long-term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important to distinguish between current and long-term liabilities because of the effect on liquid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907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losure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2120" y="1219320"/>
            <a:ext cx="62485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upplemental disclosure may be required in the notes to the financial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arge amount of notes pay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pecial credit arrang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mercial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nes of credit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638680" y="4191120"/>
            <a:ext cx="334008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838080" y="152280"/>
            <a:ext cx="802152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Current Liabilities as a Percentag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Total Assets for Selected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14520" y="1012680"/>
            <a:ext cx="8316720" cy="5318280"/>
            <a:chOff x="614520" y="1012680"/>
            <a:chExt cx="8316720" cy="5318280"/>
          </a:xfrm>
        </p:grpSpPr>
        <p:sp>
          <p:nvSpPr>
            <p:cNvPr id="78" name=""/>
            <p:cNvSpPr/>
            <p:nvPr/>
          </p:nvSpPr>
          <p:spPr>
            <a:xfrm>
              <a:off x="735120" y="1012680"/>
              <a:ext cx="8196120" cy="531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09960" y="1384200"/>
              <a:ext cx="0" cy="318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170160" y="1728720"/>
              <a:ext cx="496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170160" y="4335480"/>
              <a:ext cx="496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170160" y="3813120"/>
              <a:ext cx="496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2611440" y="3294000"/>
              <a:ext cx="5526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3170160" y="2771640"/>
              <a:ext cx="4967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3016080" y="2251080"/>
              <a:ext cx="5121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8153280" y="150804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.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8153280" y="202896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7.9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8153280" y="255096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.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8153280" y="306864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1.9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8153280" y="359244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8153280" y="4113360"/>
              <a:ext cx="7570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31760" y="4097160"/>
              <a:ext cx="1047600" cy="27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853920" y="1461960"/>
              <a:ext cx="13557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ertising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1012680" y="1625760"/>
              <a:ext cx="10843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enc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1006560" y="1987560"/>
              <a:ext cx="11523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stat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1065240" y="2149560"/>
              <a:ext cx="10396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uck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998640" y="2505240"/>
              <a:ext cx="12873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o and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14520" y="2670120"/>
              <a:ext cx="15922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me Suppl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116000" y="3029040"/>
              <a:ext cx="10177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cer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1265400" y="3189240"/>
              <a:ext cx="8128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or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1082520" y="3551400"/>
              <a:ext cx="10508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rma-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1071720" y="3710160"/>
              <a:ext cx="10508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utical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958680" y="4237200"/>
              <a:ext cx="11746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blewa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1957320" y="4651200"/>
              <a:ext cx="2937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16080" y="5686560"/>
              <a:ext cx="319320" cy="171720"/>
            </a:xfrm>
            <a:custGeom>
              <a:avLst/>
              <a:gdLst/>
              <a:ahLst/>
              <a:rect l="0" t="0" r="r" b="b"/>
              <a:pathLst>
                <a:path w="887" h="477">
                  <a:moveTo>
                    <a:pt x="887" y="477"/>
                  </a:moveTo>
                  <a:lnTo>
                    <a:pt x="887" y="0"/>
                  </a:lnTo>
                  <a:lnTo>
                    <a:pt x="0" y="0"/>
                  </a:lnTo>
                  <a:lnTo>
                    <a:pt x="0" y="477"/>
                  </a:lnTo>
                  <a:lnTo>
                    <a:pt x="887" y="477"/>
                  </a:lnTo>
                  <a:close/>
                </a:path>
              </a:pathLst>
            </a:custGeom>
            <a:solidFill>
              <a:srgbClr val="c08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16080" y="5416560"/>
              <a:ext cx="319320" cy="170280"/>
            </a:xfrm>
            <a:custGeom>
              <a:avLst/>
              <a:gdLst/>
              <a:ahLst/>
              <a:rect l="0" t="0" r="r" b="b"/>
              <a:pathLst>
                <a:path w="887" h="473">
                  <a:moveTo>
                    <a:pt x="887" y="0"/>
                  </a:moveTo>
                  <a:lnTo>
                    <a:pt x="887" y="473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887" y="0"/>
                  </a:lnTo>
                  <a:close/>
                </a:path>
              </a:pathLst>
            </a:custGeom>
            <a:solidFill>
              <a:srgbClr val="50e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16080" y="5143320"/>
              <a:ext cx="319320" cy="171720"/>
            </a:xfrm>
            <a:custGeom>
              <a:avLst/>
              <a:gdLst/>
              <a:ahLst/>
              <a:rect l="0" t="0" r="r" b="b"/>
              <a:pathLst>
                <a:path w="887" h="477">
                  <a:moveTo>
                    <a:pt x="887" y="477"/>
                  </a:moveTo>
                  <a:lnTo>
                    <a:pt x="887" y="0"/>
                  </a:lnTo>
                  <a:lnTo>
                    <a:pt x="0" y="0"/>
                  </a:lnTo>
                  <a:lnTo>
                    <a:pt x="0" y="477"/>
                  </a:lnTo>
                  <a:lnTo>
                    <a:pt x="887" y="477"/>
                  </a:lnTo>
                  <a:close/>
                </a:path>
              </a:pathLst>
            </a:custGeom>
            <a:solidFill>
              <a:srgbClr val="ff6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2536920" y="5067360"/>
              <a:ext cx="1932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Indust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2536920" y="5340240"/>
              <a:ext cx="26431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handising Indust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2536920" y="5611680"/>
              <a:ext cx="260820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 Indust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083040" y="1384200"/>
              <a:ext cx="379440" cy="3524400"/>
              <a:chOff x="3083040" y="1384200"/>
              <a:chExt cx="379440" cy="3524400"/>
            </a:xfrm>
          </p:grpSpPr>
          <p:sp>
            <p:nvSpPr>
              <p:cNvPr id="112" name=""/>
              <p:cNvSpPr/>
              <p:nvPr/>
            </p:nvSpPr>
            <p:spPr>
              <a:xfrm>
                <a:off x="3252960" y="1384200"/>
                <a:ext cx="0" cy="318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 txBox="1"/>
              <p:nvPr/>
            </p:nvSpPr>
            <p:spPr>
              <a:xfrm>
                <a:off x="3083040" y="4606920"/>
                <a:ext cx="3794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4176720" y="1384200"/>
              <a:ext cx="379440" cy="3524400"/>
              <a:chOff x="4176720" y="1384200"/>
              <a:chExt cx="379440" cy="3524400"/>
            </a:xfrm>
          </p:grpSpPr>
          <p:sp>
            <p:nvSpPr>
              <p:cNvPr id="115" name=""/>
              <p:cNvSpPr/>
              <p:nvPr/>
            </p:nvSpPr>
            <p:spPr>
              <a:xfrm>
                <a:off x="4392720" y="1384200"/>
                <a:ext cx="0" cy="318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>
                <a:off x="4176720" y="4606920"/>
                <a:ext cx="3794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356080" y="1384200"/>
              <a:ext cx="379440" cy="3524400"/>
              <a:chOff x="5356080" y="1384200"/>
              <a:chExt cx="379440" cy="3524400"/>
            </a:xfrm>
          </p:grpSpPr>
          <p:sp>
            <p:nvSpPr>
              <p:cNvPr id="118" name=""/>
              <p:cNvSpPr/>
              <p:nvPr/>
            </p:nvSpPr>
            <p:spPr>
              <a:xfrm>
                <a:off x="5560920" y="1384200"/>
                <a:ext cx="0" cy="318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 txBox="1"/>
              <p:nvPr/>
            </p:nvSpPr>
            <p:spPr>
              <a:xfrm>
                <a:off x="5356080" y="4606920"/>
                <a:ext cx="3794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546960" y="1384200"/>
              <a:ext cx="379440" cy="3524400"/>
              <a:chOff x="6546960" y="1384200"/>
              <a:chExt cx="379440" cy="3524400"/>
            </a:xfrm>
          </p:grpSpPr>
          <p:sp>
            <p:nvSpPr>
              <p:cNvPr id="121" name=""/>
              <p:cNvSpPr/>
              <p:nvPr/>
            </p:nvSpPr>
            <p:spPr>
              <a:xfrm>
                <a:off x="6762600" y="1384200"/>
                <a:ext cx="0" cy="318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>
                <a:off x="6546960" y="4606920"/>
                <a:ext cx="3794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7753320" y="1384200"/>
              <a:ext cx="379440" cy="3524400"/>
              <a:chOff x="7753320" y="1384200"/>
              <a:chExt cx="379440" cy="3524400"/>
            </a:xfrm>
          </p:grpSpPr>
          <p:sp>
            <p:nvSpPr>
              <p:cNvPr id="124" name=""/>
              <p:cNvSpPr/>
              <p:nvPr/>
            </p:nvSpPr>
            <p:spPr>
              <a:xfrm>
                <a:off x="7947000" y="1384200"/>
                <a:ext cx="0" cy="318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>
                <a:off x="7753320" y="4606920"/>
                <a:ext cx="379440" cy="30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2116080" y="1541520"/>
              <a:ext cx="5864760" cy="378360"/>
            </a:xfrm>
            <a:custGeom>
              <a:avLst/>
              <a:gdLst/>
              <a:ahLst/>
              <a:rect l="0" t="0" r="r" b="b"/>
              <a:pathLst>
                <a:path w="16291" h="1051">
                  <a:moveTo>
                    <a:pt x="0" y="0"/>
                  </a:moveTo>
                  <a:lnTo>
                    <a:pt x="16291" y="0"/>
                  </a:lnTo>
                  <a:lnTo>
                    <a:pt x="16291" y="1051"/>
                  </a:lnTo>
                  <a:lnTo>
                    <a:pt x="0" y="10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16080" y="2063880"/>
              <a:ext cx="4435920" cy="373320"/>
            </a:xfrm>
            <a:custGeom>
              <a:avLst/>
              <a:gdLst/>
              <a:ahLst/>
              <a:rect l="0" t="0" r="r" b="b"/>
              <a:pathLst>
                <a:path w="12322" h="1037">
                  <a:moveTo>
                    <a:pt x="0" y="1037"/>
                  </a:moveTo>
                  <a:lnTo>
                    <a:pt x="12322" y="1037"/>
                  </a:lnTo>
                  <a:lnTo>
                    <a:pt x="12322" y="0"/>
                  </a:lnTo>
                  <a:lnTo>
                    <a:pt x="0" y="0"/>
                  </a:lnTo>
                  <a:lnTo>
                    <a:pt x="0" y="1037"/>
                  </a:lnTo>
                  <a:close/>
                </a:path>
              </a:pathLst>
            </a:custGeom>
            <a:solidFill>
              <a:srgbClr val="ff6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16080" y="2584440"/>
              <a:ext cx="4131000" cy="386280"/>
            </a:xfrm>
            <a:custGeom>
              <a:avLst/>
              <a:gdLst/>
              <a:ahLst/>
              <a:rect l="0" t="0" r="r" b="b"/>
              <a:pathLst>
                <a:path w="11475" h="1073">
                  <a:moveTo>
                    <a:pt x="0" y="0"/>
                  </a:moveTo>
                  <a:lnTo>
                    <a:pt x="11475" y="0"/>
                  </a:lnTo>
                  <a:lnTo>
                    <a:pt x="11475" y="1073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0e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16080" y="3106800"/>
              <a:ext cx="3673800" cy="383040"/>
            </a:xfrm>
            <a:custGeom>
              <a:avLst/>
              <a:gdLst/>
              <a:ahLst/>
              <a:rect l="0" t="0" r="r" b="b"/>
              <a:pathLst>
                <a:path w="10205" h="1064">
                  <a:moveTo>
                    <a:pt x="10205" y="0"/>
                  </a:moveTo>
                  <a:lnTo>
                    <a:pt x="0" y="0"/>
                  </a:lnTo>
                  <a:lnTo>
                    <a:pt x="0" y="1064"/>
                  </a:lnTo>
                  <a:lnTo>
                    <a:pt x="10205" y="1064"/>
                  </a:lnTo>
                  <a:lnTo>
                    <a:pt x="10205" y="0"/>
                  </a:lnTo>
                  <a:close/>
                </a:path>
              </a:pathLst>
            </a:custGeom>
            <a:solidFill>
              <a:srgbClr val="50e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16080" y="3625920"/>
              <a:ext cx="3116520" cy="378360"/>
            </a:xfrm>
            <a:custGeom>
              <a:avLst/>
              <a:gdLst/>
              <a:ahLst/>
              <a:rect l="0" t="0" r="r" b="b"/>
              <a:pathLst>
                <a:path w="8657" h="1051">
                  <a:moveTo>
                    <a:pt x="0" y="0"/>
                  </a:moveTo>
                  <a:lnTo>
                    <a:pt x="8657" y="0"/>
                  </a:lnTo>
                  <a:lnTo>
                    <a:pt x="8657" y="1051"/>
                  </a:lnTo>
                  <a:lnTo>
                    <a:pt x="0" y="10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8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16080" y="4148280"/>
              <a:ext cx="3750120" cy="346320"/>
            </a:xfrm>
            <a:custGeom>
              <a:avLst/>
              <a:gdLst/>
              <a:ahLst/>
              <a:rect l="0" t="0" r="r" b="b"/>
              <a:pathLst>
                <a:path w="10417" h="962">
                  <a:moveTo>
                    <a:pt x="0" y="962"/>
                  </a:moveTo>
                  <a:lnTo>
                    <a:pt x="10417" y="962"/>
                  </a:lnTo>
                  <a:lnTo>
                    <a:pt x="10417" y="0"/>
                  </a:lnTo>
                  <a:lnTo>
                    <a:pt x="0" y="0"/>
                  </a:lnTo>
                  <a:lnTo>
                    <a:pt x="0" y="962"/>
                  </a:lnTo>
                  <a:close/>
                </a:path>
              </a:pathLst>
            </a:custGeom>
            <a:solidFill>
              <a:srgbClr val="c08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514600" y="1066680"/>
            <a:ext cx="5423040" cy="12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259092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s the rule for classifying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y as cur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liability is current if the obligatio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ill be satisfied in one year 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ithin the current operating cycle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ichever is lon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838080" y="380880"/>
            <a:ext cx="2132280" cy="2132280"/>
            <a:chOff x="838080" y="380880"/>
            <a:chExt cx="2132280" cy="2132280"/>
          </a:xfrm>
        </p:grpSpPr>
        <p:sp>
          <p:nvSpPr>
            <p:cNvPr id="135" name=""/>
            <p:cNvSpPr/>
            <p:nvPr/>
          </p:nvSpPr>
          <p:spPr>
            <a:xfrm>
              <a:off x="843120" y="1427040"/>
              <a:ext cx="519480" cy="746640"/>
            </a:xfrm>
            <a:custGeom>
              <a:avLst/>
              <a:gdLst/>
              <a:ahLst/>
              <a:rect l="0" t="0" r="r" b="b"/>
              <a:pathLst>
                <a:path w="1443" h="2074">
                  <a:moveTo>
                    <a:pt x="583" y="0"/>
                  </a:moveTo>
                  <a:lnTo>
                    <a:pt x="499" y="88"/>
                  </a:lnTo>
                  <a:lnTo>
                    <a:pt x="499" y="361"/>
                  </a:lnTo>
                  <a:lnTo>
                    <a:pt x="583" y="556"/>
                  </a:lnTo>
                  <a:lnTo>
                    <a:pt x="662" y="658"/>
                  </a:lnTo>
                  <a:lnTo>
                    <a:pt x="534" y="790"/>
                  </a:lnTo>
                  <a:lnTo>
                    <a:pt x="362" y="1090"/>
                  </a:lnTo>
                  <a:lnTo>
                    <a:pt x="35" y="1571"/>
                  </a:lnTo>
                  <a:lnTo>
                    <a:pt x="0" y="1677"/>
                  </a:lnTo>
                  <a:lnTo>
                    <a:pt x="35" y="1779"/>
                  </a:lnTo>
                  <a:lnTo>
                    <a:pt x="132" y="1779"/>
                  </a:lnTo>
                  <a:lnTo>
                    <a:pt x="220" y="1664"/>
                  </a:lnTo>
                  <a:lnTo>
                    <a:pt x="362" y="1398"/>
                  </a:lnTo>
                  <a:lnTo>
                    <a:pt x="446" y="1284"/>
                  </a:lnTo>
                  <a:lnTo>
                    <a:pt x="499" y="1460"/>
                  </a:lnTo>
                  <a:lnTo>
                    <a:pt x="468" y="1651"/>
                  </a:lnTo>
                  <a:lnTo>
                    <a:pt x="317" y="1920"/>
                  </a:lnTo>
                  <a:lnTo>
                    <a:pt x="362" y="1990"/>
                  </a:lnTo>
                  <a:lnTo>
                    <a:pt x="446" y="1968"/>
                  </a:lnTo>
                  <a:lnTo>
                    <a:pt x="622" y="1827"/>
                  </a:lnTo>
                  <a:lnTo>
                    <a:pt x="772" y="1585"/>
                  </a:lnTo>
                  <a:lnTo>
                    <a:pt x="772" y="2004"/>
                  </a:lnTo>
                  <a:lnTo>
                    <a:pt x="944" y="2074"/>
                  </a:lnTo>
                  <a:lnTo>
                    <a:pt x="1037" y="1818"/>
                  </a:lnTo>
                  <a:lnTo>
                    <a:pt x="1135" y="2056"/>
                  </a:lnTo>
                  <a:lnTo>
                    <a:pt x="1201" y="1990"/>
                  </a:lnTo>
                  <a:lnTo>
                    <a:pt x="1227" y="1504"/>
                  </a:lnTo>
                  <a:lnTo>
                    <a:pt x="1443" y="1050"/>
                  </a:lnTo>
                  <a:lnTo>
                    <a:pt x="1395" y="790"/>
                  </a:lnTo>
                  <a:lnTo>
                    <a:pt x="1249" y="693"/>
                  </a:lnTo>
                  <a:lnTo>
                    <a:pt x="1095" y="706"/>
                  </a:lnTo>
                  <a:lnTo>
                    <a:pt x="1037" y="489"/>
                  </a:lnTo>
                  <a:lnTo>
                    <a:pt x="887" y="445"/>
                  </a:lnTo>
                  <a:lnTo>
                    <a:pt x="741" y="374"/>
                  </a:lnTo>
                  <a:lnTo>
                    <a:pt x="662" y="48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79440" y="1730520"/>
              <a:ext cx="152640" cy="359280"/>
            </a:xfrm>
            <a:custGeom>
              <a:avLst/>
              <a:gdLst/>
              <a:ahLst/>
              <a:rect l="0" t="0" r="r" b="b"/>
              <a:pathLst>
                <a:path w="424" h="998">
                  <a:moveTo>
                    <a:pt x="207" y="0"/>
                  </a:moveTo>
                  <a:lnTo>
                    <a:pt x="424" y="256"/>
                  </a:lnTo>
                  <a:lnTo>
                    <a:pt x="318" y="822"/>
                  </a:lnTo>
                  <a:lnTo>
                    <a:pt x="0" y="998"/>
                  </a:lnTo>
                  <a:lnTo>
                    <a:pt x="0" y="710"/>
                  </a:lnTo>
                  <a:lnTo>
                    <a:pt x="127" y="424"/>
                  </a:lnTo>
                  <a:lnTo>
                    <a:pt x="207" y="207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68360" y="1522440"/>
              <a:ext cx="384480" cy="325800"/>
            </a:xfrm>
            <a:custGeom>
              <a:avLst/>
              <a:gdLst/>
              <a:ahLst/>
              <a:rect l="0" t="0" r="r" b="b"/>
              <a:pathLst>
                <a:path w="1068" h="905">
                  <a:moveTo>
                    <a:pt x="436" y="0"/>
                  </a:moveTo>
                  <a:lnTo>
                    <a:pt x="436" y="145"/>
                  </a:lnTo>
                  <a:lnTo>
                    <a:pt x="476" y="278"/>
                  </a:lnTo>
                  <a:lnTo>
                    <a:pt x="680" y="490"/>
                  </a:lnTo>
                  <a:lnTo>
                    <a:pt x="1068" y="613"/>
                  </a:lnTo>
                  <a:lnTo>
                    <a:pt x="1015" y="888"/>
                  </a:lnTo>
                  <a:lnTo>
                    <a:pt x="680" y="905"/>
                  </a:lnTo>
                  <a:lnTo>
                    <a:pt x="198" y="711"/>
                  </a:lnTo>
                  <a:lnTo>
                    <a:pt x="0" y="362"/>
                  </a:lnTo>
                  <a:lnTo>
                    <a:pt x="238" y="13"/>
                  </a:lnTo>
                  <a:lnTo>
                    <a:pt x="436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22440" y="1154160"/>
              <a:ext cx="533880" cy="717840"/>
            </a:xfrm>
            <a:custGeom>
              <a:avLst/>
              <a:gdLst/>
              <a:ahLst/>
              <a:rect l="0" t="0" r="r" b="b"/>
              <a:pathLst>
                <a:path w="1483" h="1994">
                  <a:moveTo>
                    <a:pt x="132" y="846"/>
                  </a:moveTo>
                  <a:lnTo>
                    <a:pt x="0" y="987"/>
                  </a:lnTo>
                  <a:lnTo>
                    <a:pt x="26" y="1310"/>
                  </a:lnTo>
                  <a:lnTo>
                    <a:pt x="238" y="1460"/>
                  </a:lnTo>
                  <a:lnTo>
                    <a:pt x="251" y="1954"/>
                  </a:lnTo>
                  <a:lnTo>
                    <a:pt x="459" y="1954"/>
                  </a:lnTo>
                  <a:lnTo>
                    <a:pt x="446" y="1544"/>
                  </a:lnTo>
                  <a:lnTo>
                    <a:pt x="605" y="1976"/>
                  </a:lnTo>
                  <a:lnTo>
                    <a:pt x="702" y="1994"/>
                  </a:lnTo>
                  <a:lnTo>
                    <a:pt x="781" y="1848"/>
                  </a:lnTo>
                  <a:lnTo>
                    <a:pt x="794" y="1575"/>
                  </a:lnTo>
                  <a:lnTo>
                    <a:pt x="1015" y="1831"/>
                  </a:lnTo>
                  <a:lnTo>
                    <a:pt x="1113" y="1808"/>
                  </a:lnTo>
                  <a:lnTo>
                    <a:pt x="1094" y="1632"/>
                  </a:lnTo>
                  <a:lnTo>
                    <a:pt x="1002" y="1381"/>
                  </a:lnTo>
                  <a:lnTo>
                    <a:pt x="918" y="1213"/>
                  </a:lnTo>
                  <a:lnTo>
                    <a:pt x="944" y="1103"/>
                  </a:lnTo>
                  <a:lnTo>
                    <a:pt x="1002" y="1125"/>
                  </a:lnTo>
                  <a:lnTo>
                    <a:pt x="1214" y="1381"/>
                  </a:lnTo>
                  <a:lnTo>
                    <a:pt x="1435" y="1442"/>
                  </a:lnTo>
                  <a:lnTo>
                    <a:pt x="1483" y="1363"/>
                  </a:lnTo>
                  <a:lnTo>
                    <a:pt x="1448" y="1231"/>
                  </a:lnTo>
                  <a:lnTo>
                    <a:pt x="1041" y="824"/>
                  </a:lnTo>
                  <a:lnTo>
                    <a:pt x="702" y="701"/>
                  </a:lnTo>
                  <a:lnTo>
                    <a:pt x="666" y="480"/>
                  </a:lnTo>
                  <a:lnTo>
                    <a:pt x="781" y="277"/>
                  </a:lnTo>
                  <a:lnTo>
                    <a:pt x="781" y="66"/>
                  </a:lnTo>
                  <a:lnTo>
                    <a:pt x="684" y="0"/>
                  </a:lnTo>
                  <a:lnTo>
                    <a:pt x="446" y="537"/>
                  </a:lnTo>
                  <a:lnTo>
                    <a:pt x="238" y="621"/>
                  </a:lnTo>
                  <a:lnTo>
                    <a:pt x="180" y="767"/>
                  </a:lnTo>
                  <a:lnTo>
                    <a:pt x="132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47640" y="531720"/>
              <a:ext cx="581400" cy="916200"/>
            </a:xfrm>
            <a:custGeom>
              <a:avLst/>
              <a:gdLst/>
              <a:ahLst/>
              <a:rect l="0" t="0" r="r" b="b"/>
              <a:pathLst>
                <a:path w="1615" h="2545">
                  <a:moveTo>
                    <a:pt x="411" y="357"/>
                  </a:moveTo>
                  <a:lnTo>
                    <a:pt x="286" y="842"/>
                  </a:lnTo>
                  <a:lnTo>
                    <a:pt x="13" y="939"/>
                  </a:lnTo>
                  <a:lnTo>
                    <a:pt x="83" y="1084"/>
                  </a:lnTo>
                  <a:lnTo>
                    <a:pt x="0" y="1186"/>
                  </a:lnTo>
                  <a:lnTo>
                    <a:pt x="0" y="1368"/>
                  </a:lnTo>
                  <a:lnTo>
                    <a:pt x="127" y="1526"/>
                  </a:lnTo>
                  <a:lnTo>
                    <a:pt x="251" y="1526"/>
                  </a:lnTo>
                  <a:lnTo>
                    <a:pt x="330" y="2095"/>
                  </a:lnTo>
                  <a:lnTo>
                    <a:pt x="437" y="2338"/>
                  </a:lnTo>
                  <a:lnTo>
                    <a:pt x="768" y="2545"/>
                  </a:lnTo>
                  <a:lnTo>
                    <a:pt x="1099" y="2510"/>
                  </a:lnTo>
                  <a:lnTo>
                    <a:pt x="1254" y="2095"/>
                  </a:lnTo>
                  <a:lnTo>
                    <a:pt x="1294" y="1447"/>
                  </a:lnTo>
                  <a:lnTo>
                    <a:pt x="1615" y="1124"/>
                  </a:lnTo>
                  <a:lnTo>
                    <a:pt x="1602" y="996"/>
                  </a:lnTo>
                  <a:lnTo>
                    <a:pt x="1563" y="939"/>
                  </a:lnTo>
                  <a:lnTo>
                    <a:pt x="1391" y="921"/>
                  </a:lnTo>
                  <a:lnTo>
                    <a:pt x="1443" y="754"/>
                  </a:lnTo>
                  <a:lnTo>
                    <a:pt x="1272" y="643"/>
                  </a:lnTo>
                  <a:lnTo>
                    <a:pt x="1200" y="282"/>
                  </a:lnTo>
                  <a:lnTo>
                    <a:pt x="697" y="0"/>
                  </a:lnTo>
                  <a:lnTo>
                    <a:pt x="437" y="260"/>
                  </a:lnTo>
                  <a:lnTo>
                    <a:pt x="411" y="35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90840" y="1297080"/>
              <a:ext cx="533880" cy="1095840"/>
            </a:xfrm>
            <a:custGeom>
              <a:avLst/>
              <a:gdLst/>
              <a:ahLst/>
              <a:rect l="0" t="0" r="r" b="b"/>
              <a:pathLst>
                <a:path w="1483" h="3044">
                  <a:moveTo>
                    <a:pt x="304" y="163"/>
                  </a:moveTo>
                  <a:lnTo>
                    <a:pt x="512" y="304"/>
                  </a:lnTo>
                  <a:lnTo>
                    <a:pt x="618" y="467"/>
                  </a:lnTo>
                  <a:lnTo>
                    <a:pt x="1214" y="0"/>
                  </a:lnTo>
                  <a:lnTo>
                    <a:pt x="1404" y="97"/>
                  </a:lnTo>
                  <a:lnTo>
                    <a:pt x="1483" y="573"/>
                  </a:lnTo>
                  <a:lnTo>
                    <a:pt x="1054" y="1976"/>
                  </a:lnTo>
                  <a:lnTo>
                    <a:pt x="1192" y="2753"/>
                  </a:lnTo>
                  <a:lnTo>
                    <a:pt x="631" y="3044"/>
                  </a:lnTo>
                  <a:lnTo>
                    <a:pt x="198" y="2877"/>
                  </a:lnTo>
                  <a:lnTo>
                    <a:pt x="198" y="2060"/>
                  </a:lnTo>
                  <a:lnTo>
                    <a:pt x="0" y="1266"/>
                  </a:lnTo>
                  <a:lnTo>
                    <a:pt x="198" y="304"/>
                  </a:lnTo>
                  <a:lnTo>
                    <a:pt x="304" y="16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14600" y="409680"/>
              <a:ext cx="495720" cy="290880"/>
            </a:xfrm>
            <a:custGeom>
              <a:avLst/>
              <a:gdLst/>
              <a:ahLst/>
              <a:rect l="0" t="0" r="r" b="b"/>
              <a:pathLst>
                <a:path w="1377" h="808">
                  <a:moveTo>
                    <a:pt x="171" y="769"/>
                  </a:moveTo>
                  <a:lnTo>
                    <a:pt x="371" y="556"/>
                  </a:lnTo>
                  <a:lnTo>
                    <a:pt x="503" y="521"/>
                  </a:lnTo>
                  <a:lnTo>
                    <a:pt x="503" y="543"/>
                  </a:lnTo>
                  <a:lnTo>
                    <a:pt x="565" y="521"/>
                  </a:lnTo>
                  <a:lnTo>
                    <a:pt x="649" y="583"/>
                  </a:lnTo>
                  <a:lnTo>
                    <a:pt x="812" y="619"/>
                  </a:lnTo>
                  <a:lnTo>
                    <a:pt x="944" y="808"/>
                  </a:lnTo>
                  <a:lnTo>
                    <a:pt x="1157" y="729"/>
                  </a:lnTo>
                  <a:lnTo>
                    <a:pt x="1157" y="641"/>
                  </a:lnTo>
                  <a:lnTo>
                    <a:pt x="1377" y="543"/>
                  </a:lnTo>
                  <a:lnTo>
                    <a:pt x="1316" y="393"/>
                  </a:lnTo>
                  <a:lnTo>
                    <a:pt x="1113" y="375"/>
                  </a:lnTo>
                  <a:lnTo>
                    <a:pt x="1139" y="208"/>
                  </a:lnTo>
                  <a:lnTo>
                    <a:pt x="962" y="234"/>
                  </a:lnTo>
                  <a:lnTo>
                    <a:pt x="935" y="114"/>
                  </a:lnTo>
                  <a:lnTo>
                    <a:pt x="812" y="114"/>
                  </a:lnTo>
                  <a:lnTo>
                    <a:pt x="733" y="176"/>
                  </a:lnTo>
                  <a:lnTo>
                    <a:pt x="649" y="176"/>
                  </a:lnTo>
                  <a:lnTo>
                    <a:pt x="671" y="0"/>
                  </a:lnTo>
                  <a:lnTo>
                    <a:pt x="503" y="79"/>
                  </a:lnTo>
                  <a:lnTo>
                    <a:pt x="268" y="375"/>
                  </a:lnTo>
                  <a:lnTo>
                    <a:pt x="255" y="176"/>
                  </a:lnTo>
                  <a:lnTo>
                    <a:pt x="136" y="274"/>
                  </a:lnTo>
                  <a:lnTo>
                    <a:pt x="105" y="521"/>
                  </a:lnTo>
                  <a:lnTo>
                    <a:pt x="0" y="481"/>
                  </a:lnTo>
                  <a:lnTo>
                    <a:pt x="13" y="641"/>
                  </a:lnTo>
                  <a:lnTo>
                    <a:pt x="171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47800" y="1500120"/>
              <a:ext cx="159120" cy="827280"/>
            </a:xfrm>
            <a:custGeom>
              <a:avLst/>
              <a:gdLst/>
              <a:ahLst/>
              <a:rect l="0" t="0" r="r" b="b"/>
              <a:pathLst>
                <a:path w="442" h="2298">
                  <a:moveTo>
                    <a:pt x="230" y="13"/>
                  </a:moveTo>
                  <a:lnTo>
                    <a:pt x="74" y="114"/>
                  </a:lnTo>
                  <a:lnTo>
                    <a:pt x="74" y="304"/>
                  </a:lnTo>
                  <a:lnTo>
                    <a:pt x="186" y="370"/>
                  </a:lnTo>
                  <a:lnTo>
                    <a:pt x="44" y="674"/>
                  </a:lnTo>
                  <a:lnTo>
                    <a:pt x="0" y="1080"/>
                  </a:lnTo>
                  <a:lnTo>
                    <a:pt x="111" y="1610"/>
                  </a:lnTo>
                  <a:lnTo>
                    <a:pt x="111" y="1831"/>
                  </a:lnTo>
                  <a:lnTo>
                    <a:pt x="52" y="2003"/>
                  </a:lnTo>
                  <a:lnTo>
                    <a:pt x="278" y="2298"/>
                  </a:lnTo>
                  <a:lnTo>
                    <a:pt x="429" y="1853"/>
                  </a:lnTo>
                  <a:lnTo>
                    <a:pt x="429" y="1548"/>
                  </a:lnTo>
                  <a:lnTo>
                    <a:pt x="318" y="1257"/>
                  </a:lnTo>
                  <a:lnTo>
                    <a:pt x="261" y="868"/>
                  </a:lnTo>
                  <a:lnTo>
                    <a:pt x="376" y="489"/>
                  </a:lnTo>
                  <a:lnTo>
                    <a:pt x="337" y="339"/>
                  </a:lnTo>
                  <a:lnTo>
                    <a:pt x="442" y="260"/>
                  </a:lnTo>
                  <a:lnTo>
                    <a:pt x="429" y="163"/>
                  </a:lnTo>
                  <a:lnTo>
                    <a:pt x="300" y="0"/>
                  </a:lnTo>
                  <a:lnTo>
                    <a:pt x="230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43120" y="1222200"/>
              <a:ext cx="128880" cy="74880"/>
            </a:xfrm>
            <a:custGeom>
              <a:avLst/>
              <a:gdLst/>
              <a:ahLst/>
              <a:rect l="0" t="0" r="r" b="b"/>
              <a:pathLst>
                <a:path w="358" h="208">
                  <a:moveTo>
                    <a:pt x="0" y="61"/>
                  </a:moveTo>
                  <a:lnTo>
                    <a:pt x="141" y="208"/>
                  </a:lnTo>
                  <a:lnTo>
                    <a:pt x="287" y="190"/>
                  </a:lnTo>
                  <a:lnTo>
                    <a:pt x="358" y="13"/>
                  </a:lnTo>
                  <a:lnTo>
                    <a:pt x="199" y="0"/>
                  </a:lnTo>
                  <a:lnTo>
                    <a:pt x="39" y="13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01640" y="839880"/>
              <a:ext cx="160560" cy="162360"/>
            </a:xfrm>
            <a:custGeom>
              <a:avLst/>
              <a:gdLst/>
              <a:ahLst/>
              <a:rect l="0" t="0" r="r" b="b"/>
              <a:pathLst>
                <a:path w="446" h="451">
                  <a:moveTo>
                    <a:pt x="0" y="48"/>
                  </a:moveTo>
                  <a:lnTo>
                    <a:pt x="305" y="451"/>
                  </a:lnTo>
                  <a:lnTo>
                    <a:pt x="446" y="416"/>
                  </a:lnTo>
                  <a:lnTo>
                    <a:pt x="119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82800" y="806400"/>
              <a:ext cx="136800" cy="160560"/>
            </a:xfrm>
            <a:custGeom>
              <a:avLst/>
              <a:gdLst/>
              <a:ahLst/>
              <a:rect l="0" t="0" r="r" b="b"/>
              <a:pathLst>
                <a:path w="380" h="446">
                  <a:moveTo>
                    <a:pt x="0" y="66"/>
                  </a:moveTo>
                  <a:lnTo>
                    <a:pt x="261" y="446"/>
                  </a:lnTo>
                  <a:lnTo>
                    <a:pt x="380" y="340"/>
                  </a:lnTo>
                  <a:lnTo>
                    <a:pt x="11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44760" y="598320"/>
              <a:ext cx="555840" cy="403560"/>
            </a:xfrm>
            <a:custGeom>
              <a:avLst/>
              <a:gdLst/>
              <a:ahLst/>
              <a:rect l="0" t="0" r="r" b="b"/>
              <a:pathLst>
                <a:path w="1544" h="1121">
                  <a:moveTo>
                    <a:pt x="705" y="666"/>
                  </a:moveTo>
                  <a:lnTo>
                    <a:pt x="564" y="622"/>
                  </a:lnTo>
                  <a:lnTo>
                    <a:pt x="687" y="524"/>
                  </a:lnTo>
                  <a:lnTo>
                    <a:pt x="639" y="471"/>
                  </a:lnTo>
                  <a:lnTo>
                    <a:pt x="489" y="600"/>
                  </a:lnTo>
                  <a:lnTo>
                    <a:pt x="194" y="631"/>
                  </a:lnTo>
                  <a:lnTo>
                    <a:pt x="0" y="640"/>
                  </a:lnTo>
                  <a:lnTo>
                    <a:pt x="0" y="799"/>
                  </a:lnTo>
                  <a:lnTo>
                    <a:pt x="185" y="1112"/>
                  </a:lnTo>
                  <a:lnTo>
                    <a:pt x="233" y="1121"/>
                  </a:lnTo>
                  <a:lnTo>
                    <a:pt x="66" y="777"/>
                  </a:lnTo>
                  <a:lnTo>
                    <a:pt x="317" y="666"/>
                  </a:lnTo>
                  <a:lnTo>
                    <a:pt x="489" y="666"/>
                  </a:lnTo>
                  <a:lnTo>
                    <a:pt x="612" y="737"/>
                  </a:lnTo>
                  <a:lnTo>
                    <a:pt x="639" y="830"/>
                  </a:lnTo>
                  <a:lnTo>
                    <a:pt x="639" y="1046"/>
                  </a:lnTo>
                  <a:lnTo>
                    <a:pt x="639" y="1112"/>
                  </a:lnTo>
                  <a:lnTo>
                    <a:pt x="718" y="1010"/>
                  </a:lnTo>
                  <a:lnTo>
                    <a:pt x="718" y="790"/>
                  </a:lnTo>
                  <a:lnTo>
                    <a:pt x="825" y="790"/>
                  </a:lnTo>
                  <a:lnTo>
                    <a:pt x="878" y="1046"/>
                  </a:lnTo>
                  <a:lnTo>
                    <a:pt x="940" y="1068"/>
                  </a:lnTo>
                  <a:lnTo>
                    <a:pt x="1125" y="1068"/>
                  </a:lnTo>
                  <a:lnTo>
                    <a:pt x="1315" y="1015"/>
                  </a:lnTo>
                  <a:lnTo>
                    <a:pt x="1447" y="927"/>
                  </a:lnTo>
                  <a:lnTo>
                    <a:pt x="1473" y="697"/>
                  </a:lnTo>
                  <a:lnTo>
                    <a:pt x="1544" y="600"/>
                  </a:lnTo>
                  <a:lnTo>
                    <a:pt x="1500" y="542"/>
                  </a:lnTo>
                  <a:lnTo>
                    <a:pt x="1323" y="476"/>
                  </a:lnTo>
                  <a:lnTo>
                    <a:pt x="1301" y="251"/>
                  </a:lnTo>
                  <a:lnTo>
                    <a:pt x="1134" y="251"/>
                  </a:lnTo>
                  <a:lnTo>
                    <a:pt x="944" y="0"/>
                  </a:lnTo>
                  <a:lnTo>
                    <a:pt x="1121" y="277"/>
                  </a:lnTo>
                  <a:lnTo>
                    <a:pt x="1178" y="277"/>
                  </a:lnTo>
                  <a:lnTo>
                    <a:pt x="1218" y="471"/>
                  </a:lnTo>
                  <a:lnTo>
                    <a:pt x="997" y="542"/>
                  </a:lnTo>
                  <a:lnTo>
                    <a:pt x="843" y="489"/>
                  </a:lnTo>
                  <a:lnTo>
                    <a:pt x="812" y="542"/>
                  </a:lnTo>
                  <a:lnTo>
                    <a:pt x="904" y="600"/>
                  </a:lnTo>
                  <a:lnTo>
                    <a:pt x="904" y="653"/>
                  </a:lnTo>
                  <a:lnTo>
                    <a:pt x="1090" y="569"/>
                  </a:lnTo>
                  <a:lnTo>
                    <a:pt x="1240" y="555"/>
                  </a:lnTo>
                  <a:lnTo>
                    <a:pt x="1416" y="578"/>
                  </a:lnTo>
                  <a:lnTo>
                    <a:pt x="1416" y="613"/>
                  </a:lnTo>
                  <a:lnTo>
                    <a:pt x="1337" y="684"/>
                  </a:lnTo>
                  <a:lnTo>
                    <a:pt x="1301" y="790"/>
                  </a:lnTo>
                  <a:lnTo>
                    <a:pt x="1293" y="927"/>
                  </a:lnTo>
                  <a:lnTo>
                    <a:pt x="1191" y="984"/>
                  </a:lnTo>
                  <a:lnTo>
                    <a:pt x="1046" y="997"/>
                  </a:lnTo>
                  <a:lnTo>
                    <a:pt x="940" y="997"/>
                  </a:lnTo>
                  <a:lnTo>
                    <a:pt x="909" y="957"/>
                  </a:lnTo>
                  <a:lnTo>
                    <a:pt x="878" y="697"/>
                  </a:lnTo>
                  <a:lnTo>
                    <a:pt x="718" y="697"/>
                  </a:lnTo>
                  <a:lnTo>
                    <a:pt x="705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33400" y="1063800"/>
              <a:ext cx="182880" cy="84600"/>
            </a:xfrm>
            <a:custGeom>
              <a:avLst/>
              <a:gdLst/>
              <a:ahLst/>
              <a:rect l="0" t="0" r="r" b="b"/>
              <a:pathLst>
                <a:path w="508" h="235">
                  <a:moveTo>
                    <a:pt x="0" y="0"/>
                  </a:moveTo>
                  <a:lnTo>
                    <a:pt x="79" y="111"/>
                  </a:lnTo>
                  <a:lnTo>
                    <a:pt x="300" y="111"/>
                  </a:lnTo>
                  <a:lnTo>
                    <a:pt x="393" y="35"/>
                  </a:lnTo>
                  <a:lnTo>
                    <a:pt x="508" y="35"/>
                  </a:lnTo>
                  <a:lnTo>
                    <a:pt x="490" y="71"/>
                  </a:lnTo>
                  <a:lnTo>
                    <a:pt x="490" y="111"/>
                  </a:lnTo>
                  <a:lnTo>
                    <a:pt x="283" y="235"/>
                  </a:lnTo>
                  <a:lnTo>
                    <a:pt x="167" y="235"/>
                  </a:lnTo>
                  <a:lnTo>
                    <a:pt x="110" y="191"/>
                  </a:lnTo>
                  <a:lnTo>
                    <a:pt x="48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33600" y="930240"/>
              <a:ext cx="275040" cy="437040"/>
            </a:xfrm>
            <a:custGeom>
              <a:avLst/>
              <a:gdLst/>
              <a:ahLst/>
              <a:rect l="0" t="0" r="r" b="b"/>
              <a:pathLst>
                <a:path w="764" h="1214">
                  <a:moveTo>
                    <a:pt x="764" y="83"/>
                  </a:moveTo>
                  <a:lnTo>
                    <a:pt x="764" y="110"/>
                  </a:lnTo>
                  <a:lnTo>
                    <a:pt x="632" y="233"/>
                  </a:lnTo>
                  <a:lnTo>
                    <a:pt x="521" y="251"/>
                  </a:lnTo>
                  <a:lnTo>
                    <a:pt x="305" y="216"/>
                  </a:lnTo>
                  <a:lnTo>
                    <a:pt x="344" y="653"/>
                  </a:lnTo>
                  <a:lnTo>
                    <a:pt x="397" y="1016"/>
                  </a:lnTo>
                  <a:lnTo>
                    <a:pt x="481" y="1214"/>
                  </a:lnTo>
                  <a:lnTo>
                    <a:pt x="397" y="1073"/>
                  </a:lnTo>
                  <a:lnTo>
                    <a:pt x="358" y="923"/>
                  </a:lnTo>
                  <a:lnTo>
                    <a:pt x="296" y="516"/>
                  </a:lnTo>
                  <a:lnTo>
                    <a:pt x="234" y="534"/>
                  </a:lnTo>
                  <a:lnTo>
                    <a:pt x="163" y="490"/>
                  </a:lnTo>
                  <a:lnTo>
                    <a:pt x="13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19" y="0"/>
                  </a:lnTo>
                  <a:lnTo>
                    <a:pt x="127" y="35"/>
                  </a:lnTo>
                  <a:lnTo>
                    <a:pt x="61" y="52"/>
                  </a:lnTo>
                  <a:lnTo>
                    <a:pt x="48" y="145"/>
                  </a:lnTo>
                  <a:lnTo>
                    <a:pt x="52" y="260"/>
                  </a:lnTo>
                  <a:lnTo>
                    <a:pt x="154" y="362"/>
                  </a:lnTo>
                  <a:lnTo>
                    <a:pt x="195" y="336"/>
                  </a:lnTo>
                  <a:lnTo>
                    <a:pt x="195" y="119"/>
                  </a:lnTo>
                  <a:lnTo>
                    <a:pt x="287" y="167"/>
                  </a:lnTo>
                  <a:lnTo>
                    <a:pt x="424" y="198"/>
                  </a:lnTo>
                  <a:lnTo>
                    <a:pt x="552" y="189"/>
                  </a:lnTo>
                  <a:lnTo>
                    <a:pt x="685" y="119"/>
                  </a:lnTo>
                  <a:lnTo>
                    <a:pt x="764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09560" y="585720"/>
              <a:ext cx="79560" cy="230400"/>
            </a:xfrm>
            <a:custGeom>
              <a:avLst/>
              <a:gdLst/>
              <a:ahLst/>
              <a:rect l="0" t="0" r="r" b="b"/>
              <a:pathLst>
                <a:path w="221" h="640">
                  <a:moveTo>
                    <a:pt x="120" y="640"/>
                  </a:moveTo>
                  <a:lnTo>
                    <a:pt x="221" y="260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3" y="158"/>
                  </a:lnTo>
                  <a:lnTo>
                    <a:pt x="79" y="220"/>
                  </a:lnTo>
                  <a:lnTo>
                    <a:pt x="83" y="406"/>
                  </a:lnTo>
                  <a:lnTo>
                    <a:pt x="137" y="481"/>
                  </a:lnTo>
                  <a:lnTo>
                    <a:pt x="120" y="64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6680" y="380880"/>
              <a:ext cx="608400" cy="306720"/>
            </a:xfrm>
            <a:custGeom>
              <a:avLst/>
              <a:gdLst/>
              <a:ahLst/>
              <a:rect l="0" t="0" r="r" b="b"/>
              <a:pathLst>
                <a:path w="1690" h="852">
                  <a:moveTo>
                    <a:pt x="13" y="574"/>
                  </a:moveTo>
                  <a:lnTo>
                    <a:pt x="167" y="662"/>
                  </a:lnTo>
                  <a:lnTo>
                    <a:pt x="141" y="556"/>
                  </a:lnTo>
                  <a:lnTo>
                    <a:pt x="176" y="361"/>
                  </a:lnTo>
                  <a:lnTo>
                    <a:pt x="268" y="321"/>
                  </a:lnTo>
                  <a:lnTo>
                    <a:pt x="277" y="530"/>
                  </a:lnTo>
                  <a:lnTo>
                    <a:pt x="565" y="167"/>
                  </a:lnTo>
                  <a:lnTo>
                    <a:pt x="636" y="136"/>
                  </a:lnTo>
                  <a:lnTo>
                    <a:pt x="578" y="286"/>
                  </a:lnTo>
                  <a:lnTo>
                    <a:pt x="759" y="352"/>
                  </a:lnTo>
                  <a:lnTo>
                    <a:pt x="887" y="207"/>
                  </a:lnTo>
                  <a:lnTo>
                    <a:pt x="957" y="251"/>
                  </a:lnTo>
                  <a:lnTo>
                    <a:pt x="896" y="374"/>
                  </a:lnTo>
                  <a:lnTo>
                    <a:pt x="984" y="308"/>
                  </a:lnTo>
                  <a:lnTo>
                    <a:pt x="1112" y="361"/>
                  </a:lnTo>
                  <a:lnTo>
                    <a:pt x="1006" y="464"/>
                  </a:lnTo>
                  <a:lnTo>
                    <a:pt x="1360" y="530"/>
                  </a:lnTo>
                  <a:lnTo>
                    <a:pt x="1121" y="600"/>
                  </a:lnTo>
                  <a:lnTo>
                    <a:pt x="1408" y="640"/>
                  </a:lnTo>
                  <a:lnTo>
                    <a:pt x="1068" y="724"/>
                  </a:lnTo>
                  <a:lnTo>
                    <a:pt x="1138" y="785"/>
                  </a:lnTo>
                  <a:lnTo>
                    <a:pt x="1041" y="852"/>
                  </a:lnTo>
                  <a:lnTo>
                    <a:pt x="1213" y="852"/>
                  </a:lnTo>
                  <a:lnTo>
                    <a:pt x="1200" y="803"/>
                  </a:lnTo>
                  <a:lnTo>
                    <a:pt x="1382" y="847"/>
                  </a:lnTo>
                  <a:lnTo>
                    <a:pt x="1360" y="710"/>
                  </a:lnTo>
                  <a:lnTo>
                    <a:pt x="1523" y="653"/>
                  </a:lnTo>
                  <a:lnTo>
                    <a:pt x="1399" y="587"/>
                  </a:lnTo>
                  <a:lnTo>
                    <a:pt x="1690" y="565"/>
                  </a:lnTo>
                  <a:lnTo>
                    <a:pt x="1443" y="433"/>
                  </a:lnTo>
                  <a:lnTo>
                    <a:pt x="1156" y="401"/>
                  </a:lnTo>
                  <a:lnTo>
                    <a:pt x="1382" y="255"/>
                  </a:lnTo>
                  <a:lnTo>
                    <a:pt x="984" y="255"/>
                  </a:lnTo>
                  <a:lnTo>
                    <a:pt x="1173" y="127"/>
                  </a:lnTo>
                  <a:lnTo>
                    <a:pt x="882" y="167"/>
                  </a:lnTo>
                  <a:lnTo>
                    <a:pt x="746" y="233"/>
                  </a:lnTo>
                  <a:lnTo>
                    <a:pt x="865" y="0"/>
                  </a:lnTo>
                  <a:lnTo>
                    <a:pt x="508" y="127"/>
                  </a:lnTo>
                  <a:lnTo>
                    <a:pt x="313" y="410"/>
                  </a:lnTo>
                  <a:lnTo>
                    <a:pt x="277" y="251"/>
                  </a:lnTo>
                  <a:lnTo>
                    <a:pt x="123" y="361"/>
                  </a:lnTo>
                  <a:lnTo>
                    <a:pt x="105" y="565"/>
                  </a:lnTo>
                  <a:lnTo>
                    <a:pt x="0" y="530"/>
                  </a:lnTo>
                  <a:lnTo>
                    <a:pt x="39" y="710"/>
                  </a:lnTo>
                  <a:lnTo>
                    <a:pt x="13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39880" y="542880"/>
              <a:ext cx="170280" cy="93960"/>
            </a:xfrm>
            <a:custGeom>
              <a:avLst/>
              <a:gdLst/>
              <a:ahLst/>
              <a:rect l="0" t="0" r="r" b="b"/>
              <a:pathLst>
                <a:path w="473" h="261">
                  <a:moveTo>
                    <a:pt x="0" y="261"/>
                  </a:moveTo>
                  <a:lnTo>
                    <a:pt x="181" y="0"/>
                  </a:lnTo>
                  <a:lnTo>
                    <a:pt x="181" y="172"/>
                  </a:lnTo>
                  <a:lnTo>
                    <a:pt x="234" y="101"/>
                  </a:lnTo>
                  <a:lnTo>
                    <a:pt x="292" y="203"/>
                  </a:lnTo>
                  <a:lnTo>
                    <a:pt x="473" y="252"/>
                  </a:lnTo>
                  <a:lnTo>
                    <a:pt x="283" y="217"/>
                  </a:lnTo>
                  <a:lnTo>
                    <a:pt x="225" y="150"/>
                  </a:lnTo>
                  <a:lnTo>
                    <a:pt x="146" y="217"/>
                  </a:lnTo>
                  <a:lnTo>
                    <a:pt x="146" y="137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22600" y="1171440"/>
              <a:ext cx="206640" cy="136800"/>
            </a:xfrm>
            <a:custGeom>
              <a:avLst/>
              <a:gdLst/>
              <a:ahLst/>
              <a:rect l="0" t="0" r="r" b="b"/>
              <a:pathLst>
                <a:path w="574" h="380">
                  <a:moveTo>
                    <a:pt x="110" y="136"/>
                  </a:moveTo>
                  <a:lnTo>
                    <a:pt x="340" y="114"/>
                  </a:lnTo>
                  <a:lnTo>
                    <a:pt x="455" y="141"/>
                  </a:lnTo>
                  <a:lnTo>
                    <a:pt x="512" y="83"/>
                  </a:lnTo>
                  <a:lnTo>
                    <a:pt x="574" y="208"/>
                  </a:lnTo>
                  <a:lnTo>
                    <a:pt x="530" y="234"/>
                  </a:lnTo>
                  <a:lnTo>
                    <a:pt x="490" y="189"/>
                  </a:lnTo>
                  <a:lnTo>
                    <a:pt x="406" y="274"/>
                  </a:lnTo>
                  <a:lnTo>
                    <a:pt x="264" y="380"/>
                  </a:lnTo>
                  <a:lnTo>
                    <a:pt x="202" y="380"/>
                  </a:lnTo>
                  <a:lnTo>
                    <a:pt x="110" y="322"/>
                  </a:lnTo>
                  <a:lnTo>
                    <a:pt x="211" y="371"/>
                  </a:lnTo>
                  <a:lnTo>
                    <a:pt x="255" y="371"/>
                  </a:lnTo>
                  <a:lnTo>
                    <a:pt x="340" y="305"/>
                  </a:lnTo>
                  <a:lnTo>
                    <a:pt x="402" y="176"/>
                  </a:lnTo>
                  <a:lnTo>
                    <a:pt x="314" y="154"/>
                  </a:lnTo>
                  <a:lnTo>
                    <a:pt x="251" y="141"/>
                  </a:lnTo>
                  <a:lnTo>
                    <a:pt x="101" y="163"/>
                  </a:lnTo>
                  <a:lnTo>
                    <a:pt x="88" y="265"/>
                  </a:lnTo>
                  <a:lnTo>
                    <a:pt x="48" y="199"/>
                  </a:lnTo>
                  <a:lnTo>
                    <a:pt x="0" y="283"/>
                  </a:lnTo>
                  <a:lnTo>
                    <a:pt x="4" y="105"/>
                  </a:lnTo>
                  <a:lnTo>
                    <a:pt x="61" y="0"/>
                  </a:lnTo>
                  <a:lnTo>
                    <a:pt x="110" y="105"/>
                  </a:lnTo>
                  <a:lnTo>
                    <a:pt x="110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97040" y="873000"/>
              <a:ext cx="443160" cy="633600"/>
            </a:xfrm>
            <a:custGeom>
              <a:avLst/>
              <a:gdLst/>
              <a:ahLst/>
              <a:rect l="0" t="0" r="r" b="b"/>
              <a:pathLst>
                <a:path w="1231" h="1760">
                  <a:moveTo>
                    <a:pt x="1037" y="0"/>
                  </a:moveTo>
                  <a:lnTo>
                    <a:pt x="1160" y="0"/>
                  </a:lnTo>
                  <a:lnTo>
                    <a:pt x="1231" y="83"/>
                  </a:lnTo>
                  <a:lnTo>
                    <a:pt x="1231" y="180"/>
                  </a:lnTo>
                  <a:lnTo>
                    <a:pt x="1129" y="458"/>
                  </a:lnTo>
                  <a:lnTo>
                    <a:pt x="1032" y="590"/>
                  </a:lnTo>
                  <a:lnTo>
                    <a:pt x="922" y="608"/>
                  </a:lnTo>
                  <a:lnTo>
                    <a:pt x="891" y="608"/>
                  </a:lnTo>
                  <a:lnTo>
                    <a:pt x="891" y="957"/>
                  </a:lnTo>
                  <a:lnTo>
                    <a:pt x="940" y="1204"/>
                  </a:lnTo>
                  <a:lnTo>
                    <a:pt x="940" y="1412"/>
                  </a:lnTo>
                  <a:lnTo>
                    <a:pt x="755" y="1619"/>
                  </a:lnTo>
                  <a:lnTo>
                    <a:pt x="502" y="1760"/>
                  </a:lnTo>
                  <a:lnTo>
                    <a:pt x="335" y="1760"/>
                  </a:lnTo>
                  <a:lnTo>
                    <a:pt x="255" y="1720"/>
                  </a:lnTo>
                  <a:lnTo>
                    <a:pt x="141" y="1473"/>
                  </a:lnTo>
                  <a:lnTo>
                    <a:pt x="44" y="1390"/>
                  </a:lnTo>
                  <a:lnTo>
                    <a:pt x="0" y="1323"/>
                  </a:lnTo>
                  <a:lnTo>
                    <a:pt x="136" y="1412"/>
                  </a:lnTo>
                  <a:lnTo>
                    <a:pt x="238" y="1504"/>
                  </a:lnTo>
                  <a:lnTo>
                    <a:pt x="432" y="1513"/>
                  </a:lnTo>
                  <a:lnTo>
                    <a:pt x="612" y="1425"/>
                  </a:lnTo>
                  <a:lnTo>
                    <a:pt x="702" y="1323"/>
                  </a:lnTo>
                  <a:lnTo>
                    <a:pt x="807" y="1147"/>
                  </a:lnTo>
                  <a:lnTo>
                    <a:pt x="821" y="935"/>
                  </a:lnTo>
                  <a:lnTo>
                    <a:pt x="860" y="255"/>
                  </a:lnTo>
                  <a:lnTo>
                    <a:pt x="904" y="357"/>
                  </a:lnTo>
                  <a:lnTo>
                    <a:pt x="1028" y="233"/>
                  </a:lnTo>
                  <a:lnTo>
                    <a:pt x="1151" y="180"/>
                  </a:lnTo>
                  <a:lnTo>
                    <a:pt x="1182" y="110"/>
                  </a:lnTo>
                  <a:lnTo>
                    <a:pt x="1169" y="44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09800" y="1419120"/>
              <a:ext cx="357480" cy="586080"/>
            </a:xfrm>
            <a:custGeom>
              <a:avLst/>
              <a:gdLst/>
              <a:ahLst/>
              <a:rect l="0" t="0" r="r" b="b"/>
              <a:pathLst>
                <a:path w="993" h="1628">
                  <a:moveTo>
                    <a:pt x="123" y="0"/>
                  </a:moveTo>
                  <a:lnTo>
                    <a:pt x="242" y="74"/>
                  </a:lnTo>
                  <a:lnTo>
                    <a:pt x="321" y="405"/>
                  </a:lnTo>
                  <a:lnTo>
                    <a:pt x="578" y="480"/>
                  </a:lnTo>
                  <a:lnTo>
                    <a:pt x="649" y="568"/>
                  </a:lnTo>
                  <a:lnTo>
                    <a:pt x="666" y="692"/>
                  </a:lnTo>
                  <a:lnTo>
                    <a:pt x="794" y="670"/>
                  </a:lnTo>
                  <a:lnTo>
                    <a:pt x="944" y="776"/>
                  </a:lnTo>
                  <a:lnTo>
                    <a:pt x="993" y="904"/>
                  </a:lnTo>
                  <a:lnTo>
                    <a:pt x="993" y="1138"/>
                  </a:lnTo>
                  <a:lnTo>
                    <a:pt x="794" y="1487"/>
                  </a:lnTo>
                  <a:lnTo>
                    <a:pt x="724" y="1628"/>
                  </a:lnTo>
                  <a:lnTo>
                    <a:pt x="755" y="1438"/>
                  </a:lnTo>
                  <a:lnTo>
                    <a:pt x="724" y="1372"/>
                  </a:lnTo>
                  <a:lnTo>
                    <a:pt x="605" y="1248"/>
                  </a:lnTo>
                  <a:lnTo>
                    <a:pt x="410" y="1107"/>
                  </a:lnTo>
                  <a:lnTo>
                    <a:pt x="640" y="1187"/>
                  </a:lnTo>
                  <a:lnTo>
                    <a:pt x="772" y="1297"/>
                  </a:lnTo>
                  <a:lnTo>
                    <a:pt x="852" y="1275"/>
                  </a:lnTo>
                  <a:lnTo>
                    <a:pt x="887" y="1218"/>
                  </a:lnTo>
                  <a:lnTo>
                    <a:pt x="944" y="1059"/>
                  </a:lnTo>
                  <a:lnTo>
                    <a:pt x="931" y="896"/>
                  </a:lnTo>
                  <a:lnTo>
                    <a:pt x="856" y="806"/>
                  </a:lnTo>
                  <a:lnTo>
                    <a:pt x="737" y="776"/>
                  </a:lnTo>
                  <a:lnTo>
                    <a:pt x="605" y="776"/>
                  </a:lnTo>
                  <a:lnTo>
                    <a:pt x="556" y="537"/>
                  </a:lnTo>
                  <a:lnTo>
                    <a:pt x="330" y="449"/>
                  </a:lnTo>
                  <a:lnTo>
                    <a:pt x="330" y="520"/>
                  </a:lnTo>
                  <a:lnTo>
                    <a:pt x="242" y="352"/>
                  </a:lnTo>
                  <a:lnTo>
                    <a:pt x="180" y="74"/>
                  </a:lnTo>
                  <a:lnTo>
                    <a:pt x="101" y="48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83" y="520"/>
                  </a:lnTo>
                  <a:lnTo>
                    <a:pt x="202" y="692"/>
                  </a:lnTo>
                  <a:lnTo>
                    <a:pt x="74" y="582"/>
                  </a:lnTo>
                  <a:lnTo>
                    <a:pt x="8" y="405"/>
                  </a:lnTo>
                  <a:lnTo>
                    <a:pt x="0" y="171"/>
                  </a:lnTo>
                  <a:lnTo>
                    <a:pt x="48" y="48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8080" y="1677960"/>
              <a:ext cx="236880" cy="466920"/>
            </a:xfrm>
            <a:custGeom>
              <a:avLst/>
              <a:gdLst/>
              <a:ahLst/>
              <a:rect l="0" t="0" r="r" b="b"/>
              <a:pathLst>
                <a:path w="658" h="1297">
                  <a:moveTo>
                    <a:pt x="658" y="0"/>
                  </a:moveTo>
                  <a:lnTo>
                    <a:pt x="525" y="83"/>
                  </a:lnTo>
                  <a:lnTo>
                    <a:pt x="362" y="405"/>
                  </a:lnTo>
                  <a:lnTo>
                    <a:pt x="202" y="604"/>
                  </a:lnTo>
                  <a:lnTo>
                    <a:pt x="13" y="852"/>
                  </a:lnTo>
                  <a:lnTo>
                    <a:pt x="0" y="979"/>
                  </a:lnTo>
                  <a:lnTo>
                    <a:pt x="39" y="1094"/>
                  </a:lnTo>
                  <a:lnTo>
                    <a:pt x="127" y="1094"/>
                  </a:lnTo>
                  <a:lnTo>
                    <a:pt x="251" y="979"/>
                  </a:lnTo>
                  <a:lnTo>
                    <a:pt x="353" y="746"/>
                  </a:lnTo>
                  <a:lnTo>
                    <a:pt x="481" y="604"/>
                  </a:lnTo>
                  <a:lnTo>
                    <a:pt x="481" y="794"/>
                  </a:lnTo>
                  <a:lnTo>
                    <a:pt x="468" y="966"/>
                  </a:lnTo>
                  <a:lnTo>
                    <a:pt x="317" y="1191"/>
                  </a:lnTo>
                  <a:lnTo>
                    <a:pt x="317" y="1262"/>
                  </a:lnTo>
                  <a:lnTo>
                    <a:pt x="468" y="1297"/>
                  </a:lnTo>
                  <a:lnTo>
                    <a:pt x="362" y="1231"/>
                  </a:lnTo>
                  <a:lnTo>
                    <a:pt x="375" y="1191"/>
                  </a:lnTo>
                  <a:lnTo>
                    <a:pt x="477" y="1019"/>
                  </a:lnTo>
                  <a:lnTo>
                    <a:pt x="543" y="719"/>
                  </a:lnTo>
                  <a:lnTo>
                    <a:pt x="494" y="546"/>
                  </a:lnTo>
                  <a:lnTo>
                    <a:pt x="384" y="643"/>
                  </a:lnTo>
                  <a:lnTo>
                    <a:pt x="158" y="1037"/>
                  </a:lnTo>
                  <a:lnTo>
                    <a:pt x="97" y="1046"/>
                  </a:lnTo>
                  <a:lnTo>
                    <a:pt x="39" y="1006"/>
                  </a:lnTo>
                  <a:lnTo>
                    <a:pt x="39" y="887"/>
                  </a:lnTo>
                  <a:lnTo>
                    <a:pt x="127" y="733"/>
                  </a:lnTo>
                  <a:lnTo>
                    <a:pt x="384" y="418"/>
                  </a:lnTo>
                  <a:lnTo>
                    <a:pt x="543" y="119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12680" y="1941480"/>
              <a:ext cx="147960" cy="225720"/>
            </a:xfrm>
            <a:custGeom>
              <a:avLst/>
              <a:gdLst/>
              <a:ahLst/>
              <a:rect l="0" t="0" r="r" b="b"/>
              <a:pathLst>
                <a:path w="411" h="627">
                  <a:moveTo>
                    <a:pt x="0" y="556"/>
                  </a:moveTo>
                  <a:lnTo>
                    <a:pt x="132" y="393"/>
                  </a:lnTo>
                  <a:lnTo>
                    <a:pt x="163" y="233"/>
                  </a:lnTo>
                  <a:lnTo>
                    <a:pt x="314" y="0"/>
                  </a:lnTo>
                  <a:lnTo>
                    <a:pt x="349" y="154"/>
                  </a:lnTo>
                  <a:lnTo>
                    <a:pt x="331" y="565"/>
                  </a:lnTo>
                  <a:lnTo>
                    <a:pt x="411" y="627"/>
                  </a:lnTo>
                  <a:lnTo>
                    <a:pt x="292" y="583"/>
                  </a:lnTo>
                  <a:lnTo>
                    <a:pt x="230" y="344"/>
                  </a:lnTo>
                  <a:lnTo>
                    <a:pt x="132" y="464"/>
                  </a:lnTo>
                  <a:lnTo>
                    <a:pt x="0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92320" y="1954080"/>
              <a:ext cx="95760" cy="201960"/>
            </a:xfrm>
            <a:custGeom>
              <a:avLst/>
              <a:gdLst/>
              <a:ahLst/>
              <a:rect l="0" t="0" r="r" b="b"/>
              <a:pathLst>
                <a:path w="266" h="561">
                  <a:moveTo>
                    <a:pt x="0" y="419"/>
                  </a:moveTo>
                  <a:lnTo>
                    <a:pt x="8" y="211"/>
                  </a:lnTo>
                  <a:lnTo>
                    <a:pt x="67" y="88"/>
                  </a:lnTo>
                  <a:lnTo>
                    <a:pt x="128" y="530"/>
                  </a:lnTo>
                  <a:lnTo>
                    <a:pt x="209" y="530"/>
                  </a:lnTo>
                  <a:lnTo>
                    <a:pt x="248" y="66"/>
                  </a:lnTo>
                  <a:lnTo>
                    <a:pt x="266" y="0"/>
                  </a:lnTo>
                  <a:lnTo>
                    <a:pt x="248" y="367"/>
                  </a:lnTo>
                  <a:lnTo>
                    <a:pt x="209" y="561"/>
                  </a:lnTo>
                  <a:lnTo>
                    <a:pt x="111" y="561"/>
                  </a:lnTo>
                  <a:lnTo>
                    <a:pt x="61" y="171"/>
                  </a:lnTo>
                  <a:lnTo>
                    <a:pt x="26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21000" y="1160640"/>
              <a:ext cx="235440" cy="538560"/>
            </a:xfrm>
            <a:custGeom>
              <a:avLst/>
              <a:gdLst/>
              <a:ahLst/>
              <a:rect l="0" t="0" r="r" b="b"/>
              <a:pathLst>
                <a:path w="654" h="1496">
                  <a:moveTo>
                    <a:pt x="172" y="807"/>
                  </a:moveTo>
                  <a:lnTo>
                    <a:pt x="225" y="574"/>
                  </a:lnTo>
                  <a:lnTo>
                    <a:pt x="437" y="512"/>
                  </a:lnTo>
                  <a:lnTo>
                    <a:pt x="654" y="0"/>
                  </a:lnTo>
                  <a:lnTo>
                    <a:pt x="654" y="149"/>
                  </a:lnTo>
                  <a:lnTo>
                    <a:pt x="477" y="547"/>
                  </a:lnTo>
                  <a:lnTo>
                    <a:pt x="243" y="622"/>
                  </a:lnTo>
                  <a:lnTo>
                    <a:pt x="203" y="807"/>
                  </a:lnTo>
                  <a:lnTo>
                    <a:pt x="292" y="807"/>
                  </a:lnTo>
                  <a:lnTo>
                    <a:pt x="83" y="891"/>
                  </a:lnTo>
                  <a:lnTo>
                    <a:pt x="39" y="1054"/>
                  </a:lnTo>
                  <a:lnTo>
                    <a:pt x="48" y="1258"/>
                  </a:lnTo>
                  <a:lnTo>
                    <a:pt x="261" y="1496"/>
                  </a:lnTo>
                  <a:lnTo>
                    <a:pt x="39" y="1289"/>
                  </a:lnTo>
                  <a:lnTo>
                    <a:pt x="0" y="1116"/>
                  </a:lnTo>
                  <a:lnTo>
                    <a:pt x="13" y="935"/>
                  </a:lnTo>
                  <a:lnTo>
                    <a:pt x="101" y="816"/>
                  </a:lnTo>
                  <a:lnTo>
                    <a:pt x="172" y="80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77960" y="1160640"/>
              <a:ext cx="392400" cy="522720"/>
            </a:xfrm>
            <a:custGeom>
              <a:avLst/>
              <a:gdLst/>
              <a:ahLst/>
              <a:rect l="0" t="0" r="r" b="b"/>
              <a:pathLst>
                <a:path w="1090" h="1452">
                  <a:moveTo>
                    <a:pt x="299" y="0"/>
                  </a:moveTo>
                  <a:lnTo>
                    <a:pt x="366" y="44"/>
                  </a:lnTo>
                  <a:lnTo>
                    <a:pt x="383" y="167"/>
                  </a:lnTo>
                  <a:lnTo>
                    <a:pt x="383" y="286"/>
                  </a:lnTo>
                  <a:lnTo>
                    <a:pt x="260" y="494"/>
                  </a:lnTo>
                  <a:lnTo>
                    <a:pt x="291" y="653"/>
                  </a:lnTo>
                  <a:lnTo>
                    <a:pt x="658" y="816"/>
                  </a:lnTo>
                  <a:lnTo>
                    <a:pt x="1085" y="1276"/>
                  </a:lnTo>
                  <a:lnTo>
                    <a:pt x="1090" y="1399"/>
                  </a:lnTo>
                  <a:lnTo>
                    <a:pt x="1059" y="1452"/>
                  </a:lnTo>
                  <a:lnTo>
                    <a:pt x="909" y="1452"/>
                  </a:lnTo>
                  <a:lnTo>
                    <a:pt x="768" y="1369"/>
                  </a:lnTo>
                  <a:lnTo>
                    <a:pt x="649" y="1214"/>
                  </a:lnTo>
                  <a:lnTo>
                    <a:pt x="587" y="1130"/>
                  </a:lnTo>
                  <a:lnTo>
                    <a:pt x="502" y="1113"/>
                  </a:lnTo>
                  <a:lnTo>
                    <a:pt x="600" y="1113"/>
                  </a:lnTo>
                  <a:lnTo>
                    <a:pt x="781" y="1346"/>
                  </a:lnTo>
                  <a:lnTo>
                    <a:pt x="1010" y="1417"/>
                  </a:lnTo>
                  <a:lnTo>
                    <a:pt x="1050" y="1346"/>
                  </a:lnTo>
                  <a:lnTo>
                    <a:pt x="1028" y="1241"/>
                  </a:lnTo>
                  <a:lnTo>
                    <a:pt x="627" y="913"/>
                  </a:lnTo>
                  <a:lnTo>
                    <a:pt x="569" y="816"/>
                  </a:lnTo>
                  <a:lnTo>
                    <a:pt x="260" y="737"/>
                  </a:lnTo>
                  <a:lnTo>
                    <a:pt x="207" y="816"/>
                  </a:lnTo>
                  <a:lnTo>
                    <a:pt x="0" y="957"/>
                  </a:lnTo>
                  <a:lnTo>
                    <a:pt x="198" y="794"/>
                  </a:lnTo>
                  <a:lnTo>
                    <a:pt x="207" y="693"/>
                  </a:lnTo>
                  <a:lnTo>
                    <a:pt x="207" y="464"/>
                  </a:lnTo>
                  <a:lnTo>
                    <a:pt x="352" y="286"/>
                  </a:lnTo>
                  <a:lnTo>
                    <a:pt x="352" y="57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08120" y="1568520"/>
              <a:ext cx="332280" cy="309960"/>
            </a:xfrm>
            <a:custGeom>
              <a:avLst/>
              <a:gdLst/>
              <a:ahLst/>
              <a:rect l="0" t="0" r="r" b="b"/>
              <a:pathLst>
                <a:path w="923" h="861">
                  <a:moveTo>
                    <a:pt x="688" y="0"/>
                  </a:moveTo>
                  <a:lnTo>
                    <a:pt x="671" y="74"/>
                  </a:lnTo>
                  <a:lnTo>
                    <a:pt x="804" y="358"/>
                  </a:lnTo>
                  <a:lnTo>
                    <a:pt x="875" y="654"/>
                  </a:lnTo>
                  <a:lnTo>
                    <a:pt x="795" y="654"/>
                  </a:lnTo>
                  <a:lnTo>
                    <a:pt x="658" y="521"/>
                  </a:lnTo>
                  <a:lnTo>
                    <a:pt x="534" y="252"/>
                  </a:lnTo>
                  <a:lnTo>
                    <a:pt x="433" y="207"/>
                  </a:lnTo>
                  <a:lnTo>
                    <a:pt x="446" y="358"/>
                  </a:lnTo>
                  <a:lnTo>
                    <a:pt x="543" y="459"/>
                  </a:lnTo>
                  <a:lnTo>
                    <a:pt x="543" y="667"/>
                  </a:lnTo>
                  <a:lnTo>
                    <a:pt x="477" y="817"/>
                  </a:lnTo>
                  <a:lnTo>
                    <a:pt x="384" y="756"/>
                  </a:lnTo>
                  <a:lnTo>
                    <a:pt x="287" y="521"/>
                  </a:lnTo>
                  <a:lnTo>
                    <a:pt x="256" y="358"/>
                  </a:lnTo>
                  <a:lnTo>
                    <a:pt x="198" y="314"/>
                  </a:lnTo>
                  <a:lnTo>
                    <a:pt x="180" y="729"/>
                  </a:lnTo>
                  <a:lnTo>
                    <a:pt x="101" y="791"/>
                  </a:lnTo>
                  <a:lnTo>
                    <a:pt x="22" y="729"/>
                  </a:lnTo>
                  <a:lnTo>
                    <a:pt x="8" y="371"/>
                  </a:lnTo>
                  <a:lnTo>
                    <a:pt x="0" y="720"/>
                  </a:lnTo>
                  <a:lnTo>
                    <a:pt x="61" y="853"/>
                  </a:lnTo>
                  <a:lnTo>
                    <a:pt x="180" y="853"/>
                  </a:lnTo>
                  <a:lnTo>
                    <a:pt x="224" y="747"/>
                  </a:lnTo>
                  <a:lnTo>
                    <a:pt x="247" y="419"/>
                  </a:lnTo>
                  <a:lnTo>
                    <a:pt x="265" y="547"/>
                  </a:lnTo>
                  <a:lnTo>
                    <a:pt x="371" y="826"/>
                  </a:lnTo>
                  <a:lnTo>
                    <a:pt x="486" y="861"/>
                  </a:lnTo>
                  <a:lnTo>
                    <a:pt x="569" y="747"/>
                  </a:lnTo>
                  <a:lnTo>
                    <a:pt x="569" y="481"/>
                  </a:lnTo>
                  <a:lnTo>
                    <a:pt x="795" y="698"/>
                  </a:lnTo>
                  <a:lnTo>
                    <a:pt x="914" y="698"/>
                  </a:lnTo>
                  <a:lnTo>
                    <a:pt x="923" y="547"/>
                  </a:lnTo>
                  <a:lnTo>
                    <a:pt x="844" y="283"/>
                  </a:lnTo>
                  <a:lnTo>
                    <a:pt x="688" y="57"/>
                  </a:lnTo>
                  <a:lnTo>
                    <a:pt x="68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65320" y="1249200"/>
              <a:ext cx="1478160" cy="1263960"/>
            </a:xfrm>
            <a:custGeom>
              <a:avLst/>
              <a:gdLst/>
              <a:ahLst/>
              <a:rect l="0" t="0" r="r" b="b"/>
              <a:pathLst>
                <a:path w="4106" h="3511">
                  <a:moveTo>
                    <a:pt x="1481" y="295"/>
                  </a:moveTo>
                  <a:lnTo>
                    <a:pt x="1406" y="313"/>
                  </a:lnTo>
                  <a:lnTo>
                    <a:pt x="1292" y="485"/>
                  </a:lnTo>
                  <a:lnTo>
                    <a:pt x="1247" y="357"/>
                  </a:lnTo>
                  <a:lnTo>
                    <a:pt x="1115" y="286"/>
                  </a:lnTo>
                  <a:lnTo>
                    <a:pt x="1014" y="335"/>
                  </a:lnTo>
                  <a:lnTo>
                    <a:pt x="978" y="568"/>
                  </a:lnTo>
                  <a:lnTo>
                    <a:pt x="608" y="851"/>
                  </a:lnTo>
                  <a:lnTo>
                    <a:pt x="630" y="965"/>
                  </a:lnTo>
                  <a:lnTo>
                    <a:pt x="546" y="1067"/>
                  </a:lnTo>
                  <a:lnTo>
                    <a:pt x="546" y="1159"/>
                  </a:lnTo>
                  <a:lnTo>
                    <a:pt x="643" y="1428"/>
                  </a:lnTo>
                  <a:lnTo>
                    <a:pt x="661" y="1746"/>
                  </a:lnTo>
                  <a:lnTo>
                    <a:pt x="582" y="2055"/>
                  </a:lnTo>
                  <a:lnTo>
                    <a:pt x="321" y="2236"/>
                  </a:lnTo>
                  <a:lnTo>
                    <a:pt x="291" y="2488"/>
                  </a:lnTo>
                  <a:lnTo>
                    <a:pt x="202" y="2488"/>
                  </a:lnTo>
                  <a:lnTo>
                    <a:pt x="167" y="2285"/>
                  </a:lnTo>
                  <a:lnTo>
                    <a:pt x="83" y="2285"/>
                  </a:lnTo>
                  <a:lnTo>
                    <a:pt x="48" y="2510"/>
                  </a:lnTo>
                  <a:lnTo>
                    <a:pt x="0" y="2567"/>
                  </a:lnTo>
                  <a:lnTo>
                    <a:pt x="180" y="2862"/>
                  </a:lnTo>
                  <a:lnTo>
                    <a:pt x="313" y="2884"/>
                  </a:lnTo>
                  <a:lnTo>
                    <a:pt x="546" y="3101"/>
                  </a:lnTo>
                  <a:lnTo>
                    <a:pt x="754" y="3131"/>
                  </a:lnTo>
                  <a:lnTo>
                    <a:pt x="868" y="3012"/>
                  </a:lnTo>
                  <a:lnTo>
                    <a:pt x="1159" y="2576"/>
                  </a:lnTo>
                  <a:lnTo>
                    <a:pt x="1177" y="3158"/>
                  </a:lnTo>
                  <a:lnTo>
                    <a:pt x="1159" y="3511"/>
                  </a:lnTo>
                  <a:lnTo>
                    <a:pt x="3533" y="3511"/>
                  </a:lnTo>
                  <a:lnTo>
                    <a:pt x="3356" y="3131"/>
                  </a:lnTo>
                  <a:lnTo>
                    <a:pt x="3264" y="2809"/>
                  </a:lnTo>
                  <a:lnTo>
                    <a:pt x="3246" y="2324"/>
                  </a:lnTo>
                  <a:lnTo>
                    <a:pt x="3383" y="2430"/>
                  </a:lnTo>
                  <a:lnTo>
                    <a:pt x="3533" y="2430"/>
                  </a:lnTo>
                  <a:lnTo>
                    <a:pt x="3722" y="2302"/>
                  </a:lnTo>
                  <a:lnTo>
                    <a:pt x="3855" y="2285"/>
                  </a:lnTo>
                  <a:lnTo>
                    <a:pt x="3930" y="2157"/>
                  </a:lnTo>
                  <a:lnTo>
                    <a:pt x="3987" y="1826"/>
                  </a:lnTo>
                  <a:lnTo>
                    <a:pt x="4106" y="1688"/>
                  </a:lnTo>
                  <a:lnTo>
                    <a:pt x="4044" y="1587"/>
                  </a:lnTo>
                  <a:lnTo>
                    <a:pt x="3960" y="1587"/>
                  </a:lnTo>
                  <a:lnTo>
                    <a:pt x="3885" y="1658"/>
                  </a:lnTo>
                  <a:lnTo>
                    <a:pt x="3815" y="1680"/>
                  </a:lnTo>
                  <a:lnTo>
                    <a:pt x="3736" y="1587"/>
                  </a:lnTo>
                  <a:lnTo>
                    <a:pt x="3630" y="1578"/>
                  </a:lnTo>
                  <a:lnTo>
                    <a:pt x="3444" y="1455"/>
                  </a:lnTo>
                  <a:lnTo>
                    <a:pt x="3325" y="1318"/>
                  </a:lnTo>
                  <a:lnTo>
                    <a:pt x="3308" y="1159"/>
                  </a:lnTo>
                  <a:lnTo>
                    <a:pt x="3325" y="1001"/>
                  </a:lnTo>
                  <a:lnTo>
                    <a:pt x="3409" y="877"/>
                  </a:lnTo>
                  <a:lnTo>
                    <a:pt x="3506" y="758"/>
                  </a:lnTo>
                  <a:lnTo>
                    <a:pt x="3497" y="564"/>
                  </a:lnTo>
                  <a:lnTo>
                    <a:pt x="3497" y="418"/>
                  </a:lnTo>
                  <a:lnTo>
                    <a:pt x="3444" y="313"/>
                  </a:lnTo>
                  <a:lnTo>
                    <a:pt x="3308" y="260"/>
                  </a:lnTo>
                  <a:lnTo>
                    <a:pt x="3255" y="238"/>
                  </a:lnTo>
                  <a:lnTo>
                    <a:pt x="3167" y="66"/>
                  </a:lnTo>
                  <a:lnTo>
                    <a:pt x="3078" y="13"/>
                  </a:lnTo>
                  <a:lnTo>
                    <a:pt x="2995" y="0"/>
                  </a:lnTo>
                  <a:lnTo>
                    <a:pt x="2924" y="35"/>
                  </a:lnTo>
                  <a:lnTo>
                    <a:pt x="2862" y="123"/>
                  </a:lnTo>
                  <a:lnTo>
                    <a:pt x="2779" y="176"/>
                  </a:lnTo>
                  <a:lnTo>
                    <a:pt x="2673" y="198"/>
                  </a:lnTo>
                  <a:lnTo>
                    <a:pt x="2558" y="198"/>
                  </a:lnTo>
                  <a:lnTo>
                    <a:pt x="2576" y="370"/>
                  </a:lnTo>
                  <a:lnTo>
                    <a:pt x="2576" y="582"/>
                  </a:lnTo>
                  <a:lnTo>
                    <a:pt x="2558" y="732"/>
                  </a:lnTo>
                  <a:lnTo>
                    <a:pt x="2452" y="908"/>
                  </a:lnTo>
                  <a:lnTo>
                    <a:pt x="2324" y="1168"/>
                  </a:lnTo>
                  <a:lnTo>
                    <a:pt x="2227" y="1486"/>
                  </a:lnTo>
                  <a:lnTo>
                    <a:pt x="2223" y="1680"/>
                  </a:lnTo>
                  <a:lnTo>
                    <a:pt x="2170" y="1835"/>
                  </a:lnTo>
                  <a:lnTo>
                    <a:pt x="2113" y="1994"/>
                  </a:lnTo>
                  <a:lnTo>
                    <a:pt x="2077" y="2258"/>
                  </a:lnTo>
                  <a:lnTo>
                    <a:pt x="2100" y="2466"/>
                  </a:lnTo>
                  <a:lnTo>
                    <a:pt x="2170" y="2712"/>
                  </a:lnTo>
                  <a:lnTo>
                    <a:pt x="2223" y="2809"/>
                  </a:lnTo>
                  <a:lnTo>
                    <a:pt x="2077" y="2898"/>
                  </a:lnTo>
                  <a:lnTo>
                    <a:pt x="1918" y="2951"/>
                  </a:lnTo>
                  <a:lnTo>
                    <a:pt x="1733" y="2973"/>
                  </a:lnTo>
                  <a:lnTo>
                    <a:pt x="1618" y="2973"/>
                  </a:lnTo>
                  <a:lnTo>
                    <a:pt x="1547" y="2942"/>
                  </a:lnTo>
                  <a:lnTo>
                    <a:pt x="1547" y="2726"/>
                  </a:lnTo>
                  <a:lnTo>
                    <a:pt x="1547" y="2421"/>
                  </a:lnTo>
                  <a:lnTo>
                    <a:pt x="1499" y="2113"/>
                  </a:lnTo>
                  <a:lnTo>
                    <a:pt x="1428" y="1835"/>
                  </a:lnTo>
                  <a:lnTo>
                    <a:pt x="1389" y="1618"/>
                  </a:lnTo>
                  <a:lnTo>
                    <a:pt x="1380" y="1309"/>
                  </a:lnTo>
                  <a:lnTo>
                    <a:pt x="1428" y="1036"/>
                  </a:lnTo>
                  <a:lnTo>
                    <a:pt x="1499" y="815"/>
                  </a:lnTo>
                  <a:lnTo>
                    <a:pt x="1508" y="692"/>
                  </a:lnTo>
                  <a:lnTo>
                    <a:pt x="1481" y="502"/>
                  </a:lnTo>
                  <a:lnTo>
                    <a:pt x="1481" y="357"/>
                  </a:lnTo>
                  <a:lnTo>
                    <a:pt x="1499" y="313"/>
                  </a:lnTo>
                  <a:lnTo>
                    <a:pt x="1481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41320" y="1504800"/>
              <a:ext cx="186120" cy="817920"/>
            </a:xfrm>
            <a:custGeom>
              <a:avLst/>
              <a:gdLst/>
              <a:ahLst/>
              <a:rect l="0" t="0" r="r" b="b"/>
              <a:pathLst>
                <a:path w="517" h="2272">
                  <a:moveTo>
                    <a:pt x="203" y="26"/>
                  </a:moveTo>
                  <a:lnTo>
                    <a:pt x="66" y="101"/>
                  </a:lnTo>
                  <a:lnTo>
                    <a:pt x="79" y="317"/>
                  </a:lnTo>
                  <a:lnTo>
                    <a:pt x="186" y="379"/>
                  </a:lnTo>
                  <a:lnTo>
                    <a:pt x="61" y="621"/>
                  </a:lnTo>
                  <a:lnTo>
                    <a:pt x="0" y="881"/>
                  </a:lnTo>
                  <a:lnTo>
                    <a:pt x="0" y="1133"/>
                  </a:lnTo>
                  <a:lnTo>
                    <a:pt x="61" y="1363"/>
                  </a:lnTo>
                  <a:lnTo>
                    <a:pt x="110" y="1641"/>
                  </a:lnTo>
                  <a:lnTo>
                    <a:pt x="110" y="1795"/>
                  </a:lnTo>
                  <a:lnTo>
                    <a:pt x="61" y="1989"/>
                  </a:lnTo>
                  <a:lnTo>
                    <a:pt x="265" y="2272"/>
                  </a:lnTo>
                  <a:lnTo>
                    <a:pt x="353" y="2227"/>
                  </a:lnTo>
                  <a:lnTo>
                    <a:pt x="412" y="2033"/>
                  </a:lnTo>
                  <a:lnTo>
                    <a:pt x="513" y="1782"/>
                  </a:lnTo>
                  <a:lnTo>
                    <a:pt x="517" y="1654"/>
                  </a:lnTo>
                  <a:lnTo>
                    <a:pt x="438" y="1403"/>
                  </a:lnTo>
                  <a:lnTo>
                    <a:pt x="336" y="1160"/>
                  </a:lnTo>
                  <a:lnTo>
                    <a:pt x="305" y="987"/>
                  </a:lnTo>
                  <a:lnTo>
                    <a:pt x="305" y="824"/>
                  </a:lnTo>
                  <a:lnTo>
                    <a:pt x="336" y="679"/>
                  </a:lnTo>
                  <a:lnTo>
                    <a:pt x="412" y="498"/>
                  </a:lnTo>
                  <a:lnTo>
                    <a:pt x="412" y="423"/>
                  </a:lnTo>
                  <a:lnTo>
                    <a:pt x="380" y="343"/>
                  </a:lnTo>
                  <a:lnTo>
                    <a:pt x="473" y="255"/>
                  </a:lnTo>
                  <a:lnTo>
                    <a:pt x="473" y="171"/>
                  </a:lnTo>
                  <a:lnTo>
                    <a:pt x="336" y="0"/>
                  </a:lnTo>
                  <a:lnTo>
                    <a:pt x="451" y="171"/>
                  </a:lnTo>
                  <a:lnTo>
                    <a:pt x="451" y="246"/>
                  </a:lnTo>
                  <a:lnTo>
                    <a:pt x="349" y="317"/>
                  </a:lnTo>
                  <a:lnTo>
                    <a:pt x="390" y="423"/>
                  </a:lnTo>
                  <a:lnTo>
                    <a:pt x="380" y="498"/>
                  </a:lnTo>
                  <a:lnTo>
                    <a:pt x="278" y="705"/>
                  </a:lnTo>
                  <a:lnTo>
                    <a:pt x="265" y="908"/>
                  </a:lnTo>
                  <a:lnTo>
                    <a:pt x="287" y="1102"/>
                  </a:lnTo>
                  <a:lnTo>
                    <a:pt x="353" y="1376"/>
                  </a:lnTo>
                  <a:lnTo>
                    <a:pt x="438" y="1588"/>
                  </a:lnTo>
                  <a:lnTo>
                    <a:pt x="438" y="1773"/>
                  </a:lnTo>
                  <a:lnTo>
                    <a:pt x="390" y="1989"/>
                  </a:lnTo>
                  <a:lnTo>
                    <a:pt x="287" y="2227"/>
                  </a:lnTo>
                  <a:lnTo>
                    <a:pt x="172" y="2100"/>
                  </a:lnTo>
                  <a:lnTo>
                    <a:pt x="123" y="1989"/>
                  </a:lnTo>
                  <a:lnTo>
                    <a:pt x="133" y="1773"/>
                  </a:lnTo>
                  <a:lnTo>
                    <a:pt x="123" y="1544"/>
                  </a:lnTo>
                  <a:lnTo>
                    <a:pt x="61" y="1248"/>
                  </a:lnTo>
                  <a:lnTo>
                    <a:pt x="39" y="1040"/>
                  </a:lnTo>
                  <a:lnTo>
                    <a:pt x="61" y="811"/>
                  </a:lnTo>
                  <a:lnTo>
                    <a:pt x="110" y="586"/>
                  </a:lnTo>
                  <a:lnTo>
                    <a:pt x="217" y="366"/>
                  </a:lnTo>
                  <a:lnTo>
                    <a:pt x="123" y="273"/>
                  </a:lnTo>
                  <a:lnTo>
                    <a:pt x="110" y="114"/>
                  </a:lnTo>
                  <a:lnTo>
                    <a:pt x="203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74840" y="542880"/>
              <a:ext cx="294120" cy="400320"/>
            </a:xfrm>
            <a:custGeom>
              <a:avLst/>
              <a:gdLst/>
              <a:ahLst/>
              <a:rect l="0" t="0" r="r" b="b"/>
              <a:pathLst>
                <a:path w="817" h="1112">
                  <a:moveTo>
                    <a:pt x="136" y="286"/>
                  </a:moveTo>
                  <a:lnTo>
                    <a:pt x="256" y="260"/>
                  </a:lnTo>
                  <a:lnTo>
                    <a:pt x="375" y="264"/>
                  </a:lnTo>
                  <a:lnTo>
                    <a:pt x="464" y="317"/>
                  </a:lnTo>
                  <a:lnTo>
                    <a:pt x="521" y="374"/>
                  </a:lnTo>
                  <a:lnTo>
                    <a:pt x="547" y="436"/>
                  </a:lnTo>
                  <a:lnTo>
                    <a:pt x="547" y="489"/>
                  </a:lnTo>
                  <a:lnTo>
                    <a:pt x="516" y="529"/>
                  </a:lnTo>
                  <a:lnTo>
                    <a:pt x="464" y="551"/>
                  </a:lnTo>
                  <a:lnTo>
                    <a:pt x="402" y="555"/>
                  </a:lnTo>
                  <a:lnTo>
                    <a:pt x="331" y="542"/>
                  </a:lnTo>
                  <a:lnTo>
                    <a:pt x="256" y="493"/>
                  </a:lnTo>
                  <a:lnTo>
                    <a:pt x="202" y="449"/>
                  </a:lnTo>
                  <a:lnTo>
                    <a:pt x="180" y="596"/>
                  </a:lnTo>
                  <a:lnTo>
                    <a:pt x="136" y="697"/>
                  </a:lnTo>
                  <a:lnTo>
                    <a:pt x="0" y="927"/>
                  </a:lnTo>
                  <a:lnTo>
                    <a:pt x="198" y="1112"/>
                  </a:lnTo>
                  <a:lnTo>
                    <a:pt x="353" y="812"/>
                  </a:lnTo>
                  <a:lnTo>
                    <a:pt x="516" y="834"/>
                  </a:lnTo>
                  <a:lnTo>
                    <a:pt x="623" y="816"/>
                  </a:lnTo>
                  <a:lnTo>
                    <a:pt x="720" y="746"/>
                  </a:lnTo>
                  <a:lnTo>
                    <a:pt x="782" y="662"/>
                  </a:lnTo>
                  <a:lnTo>
                    <a:pt x="817" y="542"/>
                  </a:lnTo>
                  <a:lnTo>
                    <a:pt x="817" y="423"/>
                  </a:lnTo>
                  <a:lnTo>
                    <a:pt x="782" y="295"/>
                  </a:lnTo>
                  <a:lnTo>
                    <a:pt x="716" y="171"/>
                  </a:lnTo>
                  <a:lnTo>
                    <a:pt x="637" y="74"/>
                  </a:lnTo>
                  <a:lnTo>
                    <a:pt x="530" y="26"/>
                  </a:lnTo>
                  <a:lnTo>
                    <a:pt x="419" y="0"/>
                  </a:lnTo>
                  <a:lnTo>
                    <a:pt x="269" y="0"/>
                  </a:lnTo>
                  <a:lnTo>
                    <a:pt x="110" y="35"/>
                  </a:lnTo>
                  <a:lnTo>
                    <a:pt x="136" y="28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19400" y="932040"/>
              <a:ext cx="108360" cy="79560"/>
            </a:xfrm>
            <a:custGeom>
              <a:avLst/>
              <a:gdLst/>
              <a:ahLst/>
              <a:rect l="0" t="0" r="r" b="b"/>
              <a:pathLst>
                <a:path w="301" h="221">
                  <a:moveTo>
                    <a:pt x="120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86"/>
                  </a:lnTo>
                  <a:lnTo>
                    <a:pt x="181" y="221"/>
                  </a:lnTo>
                  <a:lnTo>
                    <a:pt x="270" y="217"/>
                  </a:lnTo>
                  <a:lnTo>
                    <a:pt x="301" y="164"/>
                  </a:lnTo>
                  <a:lnTo>
                    <a:pt x="288" y="120"/>
                  </a:lnTo>
                  <a:lnTo>
                    <a:pt x="244" y="52"/>
                  </a:lnTo>
                  <a:lnTo>
                    <a:pt x="172" y="8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828800" y="2743200"/>
            <a:ext cx="67057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r>
              <a:rPr b="1" i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, compute, and record definitely determinable and estimated current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106668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mon Categorie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104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143000" y="76212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finitely Determinable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95280" y="2286000"/>
            <a:ext cx="7162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itely determinable liabilities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set by contract or by statute and can be measured exac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1200" indent="-51120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management issues related to recognition, valuation, classification, and disclosure of current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, compute, and record definitely determinable and estimated current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ingent liability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and record the liabilities associated with payroll accoun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66680" y="22860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104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295280" y="457200"/>
            <a:ext cx="7207200" cy="13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ypes of Definitely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terminable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47920" y="1981080"/>
            <a:ext cx="74278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s pay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nk loans and commercial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 pay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rued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vidends pay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371600" y="457200"/>
            <a:ext cx="7054920" cy="14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ypes of Definitely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terminable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19320" y="213372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ales and excise taxes pay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urrent portions of long-term deb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roll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earned reven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62120" y="380880"/>
            <a:ext cx="811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(Trade) Accounts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38080" y="1447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rt-term obligations to suppliers for goods and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mount in A/P account in the general ledger is generally supported by an A/P subsidiary led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/P subsidiary ledger contains an individual account for each person or company to whom money is ow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523880" y="304920"/>
            <a:ext cx="681840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nk Lo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219320"/>
            <a:ext cx="79567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line of credit allows a company to borrow funds when needed to finance current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ank may require the company to 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eet certain financial go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intain certai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fit margi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intain curren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at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intain debt to equit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at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172200" y="4114800"/>
            <a:ext cx="26337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90720" y="380880"/>
            <a:ext cx="76532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mercial Pa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19320" y="160020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mercial paper are unsecured loans that are sold to the publ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ortion of the line of credit borrowed and the amount of commercial paper are disclosed in the current liabilities section of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447920" y="380880"/>
            <a:ext cx="689292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tes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87480" y="1238400"/>
            <a:ext cx="777564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 payable are obligations represented by promissory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 payable can be used to secure bank loans, pay suppliers, or obtain other cred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interest may b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tated separately on the face of the no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ducted in advance by discounting it from the face value of the no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609480" y="298440"/>
            <a:ext cx="8312400" cy="6032520"/>
            <a:chOff x="609480" y="298440"/>
            <a:chExt cx="8312400" cy="6032520"/>
          </a:xfrm>
        </p:grpSpPr>
        <p:sp>
          <p:nvSpPr>
            <p:cNvPr id="184" name=""/>
            <p:cNvSpPr/>
            <p:nvPr/>
          </p:nvSpPr>
          <p:spPr>
            <a:xfrm>
              <a:off x="701640" y="298440"/>
              <a:ext cx="8220240" cy="603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09480" y="349200"/>
              <a:ext cx="4366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-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66680" y="363600"/>
              <a:ext cx="7475760" cy="3034080"/>
            </a:xfrm>
            <a:custGeom>
              <a:avLst/>
              <a:gdLst/>
              <a:ahLst/>
              <a:rect l="0" t="0" r="r" b="b"/>
              <a:pathLst>
                <a:path w="20766" h="8428">
                  <a:moveTo>
                    <a:pt x="20766" y="8428"/>
                  </a:moveTo>
                  <a:lnTo>
                    <a:pt x="20766" y="0"/>
                  </a:lnTo>
                  <a:lnTo>
                    <a:pt x="0" y="0"/>
                  </a:lnTo>
                  <a:lnTo>
                    <a:pt x="0" y="8428"/>
                  </a:lnTo>
                  <a:lnTo>
                    <a:pt x="20766" y="8428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2879640" y="428760"/>
              <a:ext cx="38163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E 1: INTEREST STATED SEPARATEL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09760" y="1301760"/>
              <a:ext cx="2725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09760" y="1781280"/>
              <a:ext cx="1617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3079800" y="1503360"/>
              <a:ext cx="372276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ter date I promise to pay First Federal Ban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28880" y="2117880"/>
              <a:ext cx="996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3927600" y="1841400"/>
              <a:ext cx="286848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 interest at the rate of 12% pe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1281240" y="1841400"/>
              <a:ext cx="101592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um of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1281240" y="2179800"/>
              <a:ext cx="76824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num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73840" y="2567160"/>
              <a:ext cx="973440" cy="295560"/>
            </a:xfrm>
            <a:custGeom>
              <a:avLst/>
              <a:gdLst/>
              <a:ahLst/>
              <a:rect l="0" t="0" r="r" b="b"/>
              <a:pathLst>
                <a:path w="2704" h="821">
                  <a:moveTo>
                    <a:pt x="798" y="66"/>
                  </a:moveTo>
                  <a:lnTo>
                    <a:pt x="798" y="57"/>
                  </a:lnTo>
                  <a:lnTo>
                    <a:pt x="793" y="48"/>
                  </a:lnTo>
                  <a:lnTo>
                    <a:pt x="793" y="44"/>
                  </a:lnTo>
                  <a:lnTo>
                    <a:pt x="780" y="44"/>
                  </a:lnTo>
                  <a:lnTo>
                    <a:pt x="727" y="57"/>
                  </a:lnTo>
                  <a:lnTo>
                    <a:pt x="683" y="70"/>
                  </a:lnTo>
                  <a:lnTo>
                    <a:pt x="648" y="92"/>
                  </a:lnTo>
                  <a:lnTo>
                    <a:pt x="617" y="114"/>
                  </a:lnTo>
                  <a:lnTo>
                    <a:pt x="568" y="132"/>
                  </a:lnTo>
                  <a:lnTo>
                    <a:pt x="537" y="163"/>
                  </a:lnTo>
                  <a:lnTo>
                    <a:pt x="498" y="185"/>
                  </a:lnTo>
                  <a:lnTo>
                    <a:pt x="467" y="211"/>
                  </a:lnTo>
                  <a:lnTo>
                    <a:pt x="432" y="233"/>
                  </a:lnTo>
                  <a:lnTo>
                    <a:pt x="396" y="268"/>
                  </a:lnTo>
                  <a:lnTo>
                    <a:pt x="370" y="291"/>
                  </a:lnTo>
                  <a:lnTo>
                    <a:pt x="339" y="317"/>
                  </a:lnTo>
                  <a:lnTo>
                    <a:pt x="308" y="348"/>
                  </a:lnTo>
                  <a:lnTo>
                    <a:pt x="277" y="374"/>
                  </a:lnTo>
                  <a:lnTo>
                    <a:pt x="242" y="411"/>
                  </a:lnTo>
                  <a:lnTo>
                    <a:pt x="211" y="446"/>
                  </a:lnTo>
                  <a:lnTo>
                    <a:pt x="198" y="455"/>
                  </a:lnTo>
                  <a:lnTo>
                    <a:pt x="189" y="472"/>
                  </a:lnTo>
                  <a:lnTo>
                    <a:pt x="167" y="481"/>
                  </a:lnTo>
                  <a:lnTo>
                    <a:pt x="158" y="494"/>
                  </a:lnTo>
                  <a:lnTo>
                    <a:pt x="149" y="512"/>
                  </a:lnTo>
                  <a:lnTo>
                    <a:pt x="127" y="516"/>
                  </a:lnTo>
                  <a:lnTo>
                    <a:pt x="119" y="538"/>
                  </a:lnTo>
                  <a:lnTo>
                    <a:pt x="105" y="547"/>
                  </a:lnTo>
                  <a:lnTo>
                    <a:pt x="97" y="561"/>
                  </a:lnTo>
                  <a:lnTo>
                    <a:pt x="83" y="578"/>
                  </a:lnTo>
                  <a:lnTo>
                    <a:pt x="83" y="596"/>
                  </a:lnTo>
                  <a:lnTo>
                    <a:pt x="74" y="609"/>
                  </a:lnTo>
                  <a:lnTo>
                    <a:pt x="66" y="618"/>
                  </a:lnTo>
                  <a:lnTo>
                    <a:pt x="66" y="644"/>
                  </a:lnTo>
                  <a:lnTo>
                    <a:pt x="66" y="653"/>
                  </a:lnTo>
                  <a:lnTo>
                    <a:pt x="66" y="675"/>
                  </a:lnTo>
                  <a:lnTo>
                    <a:pt x="66" y="693"/>
                  </a:lnTo>
                  <a:lnTo>
                    <a:pt x="74" y="697"/>
                  </a:lnTo>
                  <a:lnTo>
                    <a:pt x="83" y="706"/>
                  </a:lnTo>
                  <a:lnTo>
                    <a:pt x="97" y="715"/>
                  </a:lnTo>
                  <a:lnTo>
                    <a:pt x="97" y="724"/>
                  </a:lnTo>
                  <a:lnTo>
                    <a:pt x="105" y="724"/>
                  </a:lnTo>
                  <a:lnTo>
                    <a:pt x="119" y="728"/>
                  </a:lnTo>
                  <a:lnTo>
                    <a:pt x="127" y="728"/>
                  </a:lnTo>
                  <a:lnTo>
                    <a:pt x="149" y="737"/>
                  </a:lnTo>
                  <a:lnTo>
                    <a:pt x="158" y="737"/>
                  </a:lnTo>
                  <a:lnTo>
                    <a:pt x="167" y="737"/>
                  </a:lnTo>
                  <a:lnTo>
                    <a:pt x="176" y="728"/>
                  </a:lnTo>
                  <a:lnTo>
                    <a:pt x="189" y="728"/>
                  </a:lnTo>
                  <a:lnTo>
                    <a:pt x="233" y="724"/>
                  </a:lnTo>
                  <a:lnTo>
                    <a:pt x="286" y="706"/>
                  </a:lnTo>
                  <a:lnTo>
                    <a:pt x="326" y="693"/>
                  </a:lnTo>
                  <a:lnTo>
                    <a:pt x="370" y="666"/>
                  </a:lnTo>
                  <a:lnTo>
                    <a:pt x="405" y="653"/>
                  </a:lnTo>
                  <a:lnTo>
                    <a:pt x="454" y="627"/>
                  </a:lnTo>
                  <a:lnTo>
                    <a:pt x="498" y="609"/>
                  </a:lnTo>
                  <a:lnTo>
                    <a:pt x="537" y="587"/>
                  </a:lnTo>
                  <a:lnTo>
                    <a:pt x="582" y="569"/>
                  </a:lnTo>
                  <a:lnTo>
                    <a:pt x="617" y="547"/>
                  </a:lnTo>
                  <a:lnTo>
                    <a:pt x="648" y="516"/>
                  </a:lnTo>
                  <a:lnTo>
                    <a:pt x="696" y="494"/>
                  </a:lnTo>
                  <a:lnTo>
                    <a:pt x="727" y="472"/>
                  </a:lnTo>
                  <a:lnTo>
                    <a:pt x="767" y="446"/>
                  </a:lnTo>
                  <a:lnTo>
                    <a:pt x="811" y="424"/>
                  </a:lnTo>
                  <a:lnTo>
                    <a:pt x="855" y="392"/>
                  </a:lnTo>
                  <a:lnTo>
                    <a:pt x="859" y="392"/>
                  </a:lnTo>
                  <a:lnTo>
                    <a:pt x="873" y="383"/>
                  </a:lnTo>
                  <a:lnTo>
                    <a:pt x="881" y="383"/>
                  </a:lnTo>
                  <a:lnTo>
                    <a:pt x="881" y="392"/>
                  </a:lnTo>
                  <a:lnTo>
                    <a:pt x="890" y="392"/>
                  </a:lnTo>
                  <a:lnTo>
                    <a:pt x="890" y="396"/>
                  </a:lnTo>
                  <a:lnTo>
                    <a:pt x="903" y="396"/>
                  </a:lnTo>
                  <a:lnTo>
                    <a:pt x="903" y="411"/>
                  </a:lnTo>
                  <a:lnTo>
                    <a:pt x="903" y="424"/>
                  </a:lnTo>
                  <a:lnTo>
                    <a:pt x="917" y="428"/>
                  </a:lnTo>
                  <a:lnTo>
                    <a:pt x="917" y="437"/>
                  </a:lnTo>
                  <a:lnTo>
                    <a:pt x="903" y="446"/>
                  </a:lnTo>
                  <a:lnTo>
                    <a:pt x="903" y="455"/>
                  </a:lnTo>
                  <a:lnTo>
                    <a:pt x="890" y="459"/>
                  </a:lnTo>
                  <a:lnTo>
                    <a:pt x="881" y="481"/>
                  </a:lnTo>
                  <a:lnTo>
                    <a:pt x="881" y="486"/>
                  </a:lnTo>
                  <a:lnTo>
                    <a:pt x="859" y="503"/>
                  </a:lnTo>
                  <a:lnTo>
                    <a:pt x="859" y="512"/>
                  </a:lnTo>
                  <a:lnTo>
                    <a:pt x="855" y="530"/>
                  </a:lnTo>
                  <a:lnTo>
                    <a:pt x="846" y="547"/>
                  </a:lnTo>
                  <a:lnTo>
                    <a:pt x="846" y="561"/>
                  </a:lnTo>
                  <a:lnTo>
                    <a:pt x="833" y="569"/>
                  </a:lnTo>
                  <a:lnTo>
                    <a:pt x="824" y="587"/>
                  </a:lnTo>
                  <a:lnTo>
                    <a:pt x="824" y="596"/>
                  </a:lnTo>
                  <a:lnTo>
                    <a:pt x="811" y="609"/>
                  </a:lnTo>
                  <a:lnTo>
                    <a:pt x="811" y="627"/>
                  </a:lnTo>
                  <a:lnTo>
                    <a:pt x="811" y="644"/>
                  </a:lnTo>
                  <a:lnTo>
                    <a:pt x="811" y="662"/>
                  </a:lnTo>
                  <a:lnTo>
                    <a:pt x="824" y="675"/>
                  </a:lnTo>
                  <a:lnTo>
                    <a:pt x="846" y="653"/>
                  </a:lnTo>
                  <a:lnTo>
                    <a:pt x="855" y="627"/>
                  </a:lnTo>
                  <a:lnTo>
                    <a:pt x="873" y="609"/>
                  </a:lnTo>
                  <a:lnTo>
                    <a:pt x="890" y="587"/>
                  </a:lnTo>
                  <a:lnTo>
                    <a:pt x="917" y="561"/>
                  </a:lnTo>
                  <a:lnTo>
                    <a:pt x="939" y="538"/>
                  </a:lnTo>
                  <a:lnTo>
                    <a:pt x="956" y="516"/>
                  </a:lnTo>
                  <a:lnTo>
                    <a:pt x="965" y="494"/>
                  </a:lnTo>
                  <a:lnTo>
                    <a:pt x="1001" y="481"/>
                  </a:lnTo>
                  <a:lnTo>
                    <a:pt x="1023" y="455"/>
                  </a:lnTo>
                  <a:lnTo>
                    <a:pt x="1040" y="428"/>
                  </a:lnTo>
                  <a:lnTo>
                    <a:pt x="1067" y="411"/>
                  </a:lnTo>
                  <a:lnTo>
                    <a:pt x="1098" y="392"/>
                  </a:lnTo>
                  <a:lnTo>
                    <a:pt x="1115" y="374"/>
                  </a:lnTo>
                  <a:lnTo>
                    <a:pt x="1146" y="361"/>
                  </a:lnTo>
                  <a:lnTo>
                    <a:pt x="1181" y="339"/>
                  </a:lnTo>
                  <a:lnTo>
                    <a:pt x="1181" y="335"/>
                  </a:lnTo>
                  <a:lnTo>
                    <a:pt x="1186" y="335"/>
                  </a:lnTo>
                  <a:lnTo>
                    <a:pt x="1195" y="335"/>
                  </a:lnTo>
                  <a:lnTo>
                    <a:pt x="1208" y="326"/>
                  </a:lnTo>
                  <a:lnTo>
                    <a:pt x="1217" y="326"/>
                  </a:lnTo>
                  <a:lnTo>
                    <a:pt x="1217" y="335"/>
                  </a:lnTo>
                  <a:lnTo>
                    <a:pt x="1230" y="335"/>
                  </a:lnTo>
                  <a:lnTo>
                    <a:pt x="1230" y="339"/>
                  </a:lnTo>
                  <a:lnTo>
                    <a:pt x="1243" y="339"/>
                  </a:lnTo>
                  <a:lnTo>
                    <a:pt x="1243" y="348"/>
                  </a:lnTo>
                  <a:lnTo>
                    <a:pt x="1230" y="366"/>
                  </a:lnTo>
                  <a:lnTo>
                    <a:pt x="1230" y="392"/>
                  </a:lnTo>
                  <a:lnTo>
                    <a:pt x="1208" y="424"/>
                  </a:lnTo>
                  <a:lnTo>
                    <a:pt x="1195" y="437"/>
                  </a:lnTo>
                  <a:lnTo>
                    <a:pt x="1186" y="459"/>
                  </a:lnTo>
                  <a:lnTo>
                    <a:pt x="1181" y="481"/>
                  </a:lnTo>
                  <a:lnTo>
                    <a:pt x="1155" y="503"/>
                  </a:lnTo>
                  <a:lnTo>
                    <a:pt x="1146" y="516"/>
                  </a:lnTo>
                  <a:lnTo>
                    <a:pt x="1124" y="547"/>
                  </a:lnTo>
                  <a:lnTo>
                    <a:pt x="1115" y="561"/>
                  </a:lnTo>
                  <a:lnTo>
                    <a:pt x="1106" y="587"/>
                  </a:lnTo>
                  <a:lnTo>
                    <a:pt x="1098" y="609"/>
                  </a:lnTo>
                  <a:lnTo>
                    <a:pt x="1098" y="627"/>
                  </a:lnTo>
                  <a:lnTo>
                    <a:pt x="1098" y="653"/>
                  </a:lnTo>
                  <a:lnTo>
                    <a:pt x="1098" y="675"/>
                  </a:lnTo>
                  <a:lnTo>
                    <a:pt x="1106" y="706"/>
                  </a:lnTo>
                  <a:lnTo>
                    <a:pt x="1124" y="693"/>
                  </a:lnTo>
                  <a:lnTo>
                    <a:pt x="1155" y="666"/>
                  </a:lnTo>
                  <a:lnTo>
                    <a:pt x="1181" y="653"/>
                  </a:lnTo>
                  <a:lnTo>
                    <a:pt x="1195" y="644"/>
                  </a:lnTo>
                  <a:lnTo>
                    <a:pt x="1217" y="627"/>
                  </a:lnTo>
                  <a:lnTo>
                    <a:pt x="1243" y="609"/>
                  </a:lnTo>
                  <a:lnTo>
                    <a:pt x="1278" y="596"/>
                  </a:lnTo>
                  <a:lnTo>
                    <a:pt x="1283" y="578"/>
                  </a:lnTo>
                  <a:lnTo>
                    <a:pt x="1314" y="561"/>
                  </a:lnTo>
                  <a:lnTo>
                    <a:pt x="1340" y="547"/>
                  </a:lnTo>
                  <a:lnTo>
                    <a:pt x="1359" y="516"/>
                  </a:lnTo>
                  <a:lnTo>
                    <a:pt x="1376" y="503"/>
                  </a:lnTo>
                  <a:lnTo>
                    <a:pt x="1398" y="486"/>
                  </a:lnTo>
                  <a:lnTo>
                    <a:pt x="1420" y="472"/>
                  </a:lnTo>
                  <a:lnTo>
                    <a:pt x="1438" y="455"/>
                  </a:lnTo>
                  <a:lnTo>
                    <a:pt x="1460" y="437"/>
                  </a:lnTo>
                  <a:lnTo>
                    <a:pt x="1460" y="428"/>
                  </a:lnTo>
                  <a:lnTo>
                    <a:pt x="1473" y="428"/>
                  </a:lnTo>
                  <a:lnTo>
                    <a:pt x="1473" y="424"/>
                  </a:lnTo>
                  <a:lnTo>
                    <a:pt x="1473" y="411"/>
                  </a:lnTo>
                  <a:lnTo>
                    <a:pt x="1487" y="396"/>
                  </a:lnTo>
                  <a:lnTo>
                    <a:pt x="1487" y="392"/>
                  </a:lnTo>
                  <a:lnTo>
                    <a:pt x="1487" y="383"/>
                  </a:lnTo>
                  <a:lnTo>
                    <a:pt x="1487" y="374"/>
                  </a:lnTo>
                  <a:lnTo>
                    <a:pt x="1495" y="374"/>
                  </a:lnTo>
                  <a:lnTo>
                    <a:pt x="1495" y="366"/>
                  </a:lnTo>
                  <a:lnTo>
                    <a:pt x="1509" y="366"/>
                  </a:lnTo>
                  <a:lnTo>
                    <a:pt x="1522" y="348"/>
                  </a:lnTo>
                  <a:lnTo>
                    <a:pt x="1535" y="348"/>
                  </a:lnTo>
                  <a:lnTo>
                    <a:pt x="1557" y="339"/>
                  </a:lnTo>
                  <a:lnTo>
                    <a:pt x="1579" y="339"/>
                  </a:lnTo>
                  <a:lnTo>
                    <a:pt x="1592" y="339"/>
                  </a:lnTo>
                  <a:lnTo>
                    <a:pt x="1606" y="348"/>
                  </a:lnTo>
                  <a:lnTo>
                    <a:pt x="1619" y="361"/>
                  </a:lnTo>
                  <a:lnTo>
                    <a:pt x="1637" y="366"/>
                  </a:lnTo>
                  <a:lnTo>
                    <a:pt x="1650" y="374"/>
                  </a:lnTo>
                  <a:lnTo>
                    <a:pt x="1663" y="383"/>
                  </a:lnTo>
                  <a:lnTo>
                    <a:pt x="1681" y="396"/>
                  </a:lnTo>
                  <a:lnTo>
                    <a:pt x="1681" y="424"/>
                  </a:lnTo>
                  <a:lnTo>
                    <a:pt x="1694" y="428"/>
                  </a:lnTo>
                  <a:lnTo>
                    <a:pt x="1703" y="446"/>
                  </a:lnTo>
                  <a:lnTo>
                    <a:pt x="1716" y="459"/>
                  </a:lnTo>
                  <a:lnTo>
                    <a:pt x="1716" y="481"/>
                  </a:lnTo>
                  <a:lnTo>
                    <a:pt x="1729" y="455"/>
                  </a:lnTo>
                  <a:lnTo>
                    <a:pt x="1751" y="437"/>
                  </a:lnTo>
                  <a:lnTo>
                    <a:pt x="1760" y="428"/>
                  </a:lnTo>
                  <a:lnTo>
                    <a:pt x="1778" y="411"/>
                  </a:lnTo>
                  <a:lnTo>
                    <a:pt x="1786" y="392"/>
                  </a:lnTo>
                  <a:lnTo>
                    <a:pt x="1813" y="374"/>
                  </a:lnTo>
                  <a:lnTo>
                    <a:pt x="1822" y="366"/>
                  </a:lnTo>
                  <a:lnTo>
                    <a:pt x="1844" y="348"/>
                  </a:lnTo>
                  <a:lnTo>
                    <a:pt x="1861" y="335"/>
                  </a:lnTo>
                  <a:lnTo>
                    <a:pt x="1870" y="317"/>
                  </a:lnTo>
                  <a:lnTo>
                    <a:pt x="1892" y="308"/>
                  </a:lnTo>
                  <a:lnTo>
                    <a:pt x="1914" y="291"/>
                  </a:lnTo>
                  <a:lnTo>
                    <a:pt x="1936" y="282"/>
                  </a:lnTo>
                  <a:lnTo>
                    <a:pt x="1945" y="268"/>
                  </a:lnTo>
                  <a:lnTo>
                    <a:pt x="1972" y="260"/>
                  </a:lnTo>
                  <a:lnTo>
                    <a:pt x="1998" y="251"/>
                  </a:lnTo>
                  <a:lnTo>
                    <a:pt x="1998" y="242"/>
                  </a:lnTo>
                  <a:lnTo>
                    <a:pt x="2007" y="242"/>
                  </a:lnTo>
                  <a:lnTo>
                    <a:pt x="2020" y="242"/>
                  </a:lnTo>
                  <a:lnTo>
                    <a:pt x="2029" y="242"/>
                  </a:lnTo>
                  <a:lnTo>
                    <a:pt x="2029" y="251"/>
                  </a:lnTo>
                  <a:lnTo>
                    <a:pt x="2042" y="251"/>
                  </a:lnTo>
                  <a:lnTo>
                    <a:pt x="2042" y="260"/>
                  </a:lnTo>
                  <a:lnTo>
                    <a:pt x="2055" y="260"/>
                  </a:lnTo>
                  <a:lnTo>
                    <a:pt x="2055" y="268"/>
                  </a:lnTo>
                  <a:lnTo>
                    <a:pt x="2055" y="277"/>
                  </a:lnTo>
                  <a:lnTo>
                    <a:pt x="2029" y="304"/>
                  </a:lnTo>
                  <a:lnTo>
                    <a:pt x="2007" y="326"/>
                  </a:lnTo>
                  <a:lnTo>
                    <a:pt x="1998" y="348"/>
                  </a:lnTo>
                  <a:lnTo>
                    <a:pt x="1976" y="374"/>
                  </a:lnTo>
                  <a:lnTo>
                    <a:pt x="1972" y="396"/>
                  </a:lnTo>
                  <a:lnTo>
                    <a:pt x="1958" y="428"/>
                  </a:lnTo>
                  <a:lnTo>
                    <a:pt x="1945" y="455"/>
                  </a:lnTo>
                  <a:lnTo>
                    <a:pt x="1936" y="486"/>
                  </a:lnTo>
                  <a:lnTo>
                    <a:pt x="1936" y="512"/>
                  </a:lnTo>
                  <a:lnTo>
                    <a:pt x="1923" y="538"/>
                  </a:lnTo>
                  <a:lnTo>
                    <a:pt x="1923" y="561"/>
                  </a:lnTo>
                  <a:lnTo>
                    <a:pt x="1936" y="587"/>
                  </a:lnTo>
                  <a:lnTo>
                    <a:pt x="1936" y="609"/>
                  </a:lnTo>
                  <a:lnTo>
                    <a:pt x="1958" y="636"/>
                  </a:lnTo>
                  <a:lnTo>
                    <a:pt x="1972" y="662"/>
                  </a:lnTo>
                  <a:lnTo>
                    <a:pt x="1998" y="693"/>
                  </a:lnTo>
                  <a:lnTo>
                    <a:pt x="2029" y="715"/>
                  </a:lnTo>
                  <a:lnTo>
                    <a:pt x="2064" y="737"/>
                  </a:lnTo>
                  <a:lnTo>
                    <a:pt x="2100" y="755"/>
                  </a:lnTo>
                  <a:lnTo>
                    <a:pt x="2148" y="772"/>
                  </a:lnTo>
                  <a:lnTo>
                    <a:pt x="2188" y="781"/>
                  </a:lnTo>
                  <a:lnTo>
                    <a:pt x="2232" y="781"/>
                  </a:lnTo>
                  <a:lnTo>
                    <a:pt x="2272" y="781"/>
                  </a:lnTo>
                  <a:lnTo>
                    <a:pt x="2316" y="781"/>
                  </a:lnTo>
                  <a:lnTo>
                    <a:pt x="2364" y="772"/>
                  </a:lnTo>
                  <a:lnTo>
                    <a:pt x="2408" y="763"/>
                  </a:lnTo>
                  <a:lnTo>
                    <a:pt x="2448" y="755"/>
                  </a:lnTo>
                  <a:lnTo>
                    <a:pt x="2505" y="750"/>
                  </a:lnTo>
                  <a:lnTo>
                    <a:pt x="2545" y="728"/>
                  </a:lnTo>
                  <a:lnTo>
                    <a:pt x="2585" y="715"/>
                  </a:lnTo>
                  <a:lnTo>
                    <a:pt x="2629" y="706"/>
                  </a:lnTo>
                  <a:lnTo>
                    <a:pt x="2668" y="697"/>
                  </a:lnTo>
                  <a:lnTo>
                    <a:pt x="2682" y="697"/>
                  </a:lnTo>
                  <a:lnTo>
                    <a:pt x="2690" y="697"/>
                  </a:lnTo>
                  <a:lnTo>
                    <a:pt x="2690" y="706"/>
                  </a:lnTo>
                  <a:lnTo>
                    <a:pt x="2690" y="715"/>
                  </a:lnTo>
                  <a:lnTo>
                    <a:pt x="2704" y="715"/>
                  </a:lnTo>
                  <a:lnTo>
                    <a:pt x="2704" y="724"/>
                  </a:lnTo>
                  <a:lnTo>
                    <a:pt x="2704" y="728"/>
                  </a:lnTo>
                  <a:lnTo>
                    <a:pt x="2682" y="737"/>
                  </a:lnTo>
                  <a:lnTo>
                    <a:pt x="2655" y="750"/>
                  </a:lnTo>
                  <a:lnTo>
                    <a:pt x="2642" y="755"/>
                  </a:lnTo>
                  <a:lnTo>
                    <a:pt x="2607" y="763"/>
                  </a:lnTo>
                  <a:lnTo>
                    <a:pt x="2585" y="772"/>
                  </a:lnTo>
                  <a:lnTo>
                    <a:pt x="2567" y="781"/>
                  </a:lnTo>
                  <a:lnTo>
                    <a:pt x="2541" y="781"/>
                  </a:lnTo>
                  <a:lnTo>
                    <a:pt x="2514" y="785"/>
                  </a:lnTo>
                  <a:lnTo>
                    <a:pt x="2492" y="799"/>
                  </a:lnTo>
                  <a:lnTo>
                    <a:pt x="2461" y="807"/>
                  </a:lnTo>
                  <a:lnTo>
                    <a:pt x="2439" y="807"/>
                  </a:lnTo>
                  <a:lnTo>
                    <a:pt x="2417" y="807"/>
                  </a:lnTo>
                  <a:lnTo>
                    <a:pt x="2391" y="812"/>
                  </a:lnTo>
                  <a:lnTo>
                    <a:pt x="2364" y="812"/>
                  </a:lnTo>
                  <a:lnTo>
                    <a:pt x="2342" y="821"/>
                  </a:lnTo>
                  <a:lnTo>
                    <a:pt x="2316" y="821"/>
                  </a:lnTo>
                  <a:lnTo>
                    <a:pt x="2285" y="821"/>
                  </a:lnTo>
                  <a:lnTo>
                    <a:pt x="2249" y="821"/>
                  </a:lnTo>
                  <a:lnTo>
                    <a:pt x="2219" y="821"/>
                  </a:lnTo>
                  <a:lnTo>
                    <a:pt x="2188" y="821"/>
                  </a:lnTo>
                  <a:lnTo>
                    <a:pt x="2166" y="812"/>
                  </a:lnTo>
                  <a:lnTo>
                    <a:pt x="2135" y="807"/>
                  </a:lnTo>
                  <a:lnTo>
                    <a:pt x="2100" y="799"/>
                  </a:lnTo>
                  <a:lnTo>
                    <a:pt x="2077" y="785"/>
                  </a:lnTo>
                  <a:lnTo>
                    <a:pt x="2055" y="772"/>
                  </a:lnTo>
                  <a:lnTo>
                    <a:pt x="2029" y="763"/>
                  </a:lnTo>
                  <a:lnTo>
                    <a:pt x="1998" y="750"/>
                  </a:lnTo>
                  <a:lnTo>
                    <a:pt x="1976" y="728"/>
                  </a:lnTo>
                  <a:lnTo>
                    <a:pt x="1958" y="715"/>
                  </a:lnTo>
                  <a:lnTo>
                    <a:pt x="1936" y="693"/>
                  </a:lnTo>
                  <a:lnTo>
                    <a:pt x="1923" y="666"/>
                  </a:lnTo>
                  <a:lnTo>
                    <a:pt x="1906" y="644"/>
                  </a:lnTo>
                  <a:lnTo>
                    <a:pt x="1906" y="636"/>
                  </a:lnTo>
                  <a:lnTo>
                    <a:pt x="1892" y="627"/>
                  </a:lnTo>
                  <a:lnTo>
                    <a:pt x="1892" y="618"/>
                  </a:lnTo>
                  <a:lnTo>
                    <a:pt x="1892" y="609"/>
                  </a:lnTo>
                  <a:lnTo>
                    <a:pt x="1879" y="605"/>
                  </a:lnTo>
                  <a:lnTo>
                    <a:pt x="1879" y="596"/>
                  </a:lnTo>
                  <a:lnTo>
                    <a:pt x="1879" y="587"/>
                  </a:lnTo>
                  <a:lnTo>
                    <a:pt x="1870" y="569"/>
                  </a:lnTo>
                  <a:lnTo>
                    <a:pt x="1870" y="561"/>
                  </a:lnTo>
                  <a:lnTo>
                    <a:pt x="1870" y="552"/>
                  </a:lnTo>
                  <a:lnTo>
                    <a:pt x="1870" y="547"/>
                  </a:lnTo>
                  <a:lnTo>
                    <a:pt x="1870" y="538"/>
                  </a:lnTo>
                  <a:lnTo>
                    <a:pt x="1870" y="530"/>
                  </a:lnTo>
                  <a:lnTo>
                    <a:pt x="1870" y="516"/>
                  </a:lnTo>
                  <a:lnTo>
                    <a:pt x="1870" y="512"/>
                  </a:lnTo>
                  <a:lnTo>
                    <a:pt x="1870" y="503"/>
                  </a:lnTo>
                  <a:lnTo>
                    <a:pt x="1870" y="486"/>
                  </a:lnTo>
                  <a:lnTo>
                    <a:pt x="1879" y="481"/>
                  </a:lnTo>
                  <a:lnTo>
                    <a:pt x="1879" y="472"/>
                  </a:lnTo>
                  <a:lnTo>
                    <a:pt x="1879" y="459"/>
                  </a:lnTo>
                  <a:lnTo>
                    <a:pt x="1892" y="455"/>
                  </a:lnTo>
                  <a:lnTo>
                    <a:pt x="1892" y="446"/>
                  </a:lnTo>
                  <a:lnTo>
                    <a:pt x="1892" y="437"/>
                  </a:lnTo>
                  <a:lnTo>
                    <a:pt x="1906" y="428"/>
                  </a:lnTo>
                  <a:lnTo>
                    <a:pt x="1906" y="424"/>
                  </a:lnTo>
                  <a:lnTo>
                    <a:pt x="1906" y="411"/>
                  </a:lnTo>
                  <a:lnTo>
                    <a:pt x="1906" y="396"/>
                  </a:lnTo>
                  <a:lnTo>
                    <a:pt x="1914" y="392"/>
                  </a:lnTo>
                  <a:lnTo>
                    <a:pt x="1914" y="383"/>
                  </a:lnTo>
                  <a:lnTo>
                    <a:pt x="1914" y="374"/>
                  </a:lnTo>
                  <a:lnTo>
                    <a:pt x="1914" y="366"/>
                  </a:lnTo>
                  <a:lnTo>
                    <a:pt x="1914" y="361"/>
                  </a:lnTo>
                  <a:lnTo>
                    <a:pt x="1892" y="366"/>
                  </a:lnTo>
                  <a:lnTo>
                    <a:pt x="1870" y="383"/>
                  </a:lnTo>
                  <a:lnTo>
                    <a:pt x="1861" y="396"/>
                  </a:lnTo>
                  <a:lnTo>
                    <a:pt x="1844" y="424"/>
                  </a:lnTo>
                  <a:lnTo>
                    <a:pt x="1822" y="437"/>
                  </a:lnTo>
                  <a:lnTo>
                    <a:pt x="1813" y="455"/>
                  </a:lnTo>
                  <a:lnTo>
                    <a:pt x="1800" y="459"/>
                  </a:lnTo>
                  <a:lnTo>
                    <a:pt x="1778" y="486"/>
                  </a:lnTo>
                  <a:lnTo>
                    <a:pt x="1764" y="503"/>
                  </a:lnTo>
                  <a:lnTo>
                    <a:pt x="1760" y="516"/>
                  </a:lnTo>
                  <a:lnTo>
                    <a:pt x="1738" y="538"/>
                  </a:lnTo>
                  <a:lnTo>
                    <a:pt x="1729" y="552"/>
                  </a:lnTo>
                  <a:lnTo>
                    <a:pt x="1716" y="569"/>
                  </a:lnTo>
                  <a:lnTo>
                    <a:pt x="1694" y="587"/>
                  </a:lnTo>
                  <a:lnTo>
                    <a:pt x="1681" y="609"/>
                  </a:lnTo>
                  <a:lnTo>
                    <a:pt x="1663" y="627"/>
                  </a:lnTo>
                  <a:lnTo>
                    <a:pt x="1663" y="618"/>
                  </a:lnTo>
                  <a:lnTo>
                    <a:pt x="1650" y="618"/>
                  </a:lnTo>
                  <a:lnTo>
                    <a:pt x="1650" y="609"/>
                  </a:lnTo>
                  <a:lnTo>
                    <a:pt x="1637" y="609"/>
                  </a:lnTo>
                  <a:lnTo>
                    <a:pt x="1632" y="609"/>
                  </a:lnTo>
                  <a:lnTo>
                    <a:pt x="1632" y="605"/>
                  </a:lnTo>
                  <a:lnTo>
                    <a:pt x="1619" y="605"/>
                  </a:lnTo>
                  <a:lnTo>
                    <a:pt x="1632" y="605"/>
                  </a:lnTo>
                  <a:lnTo>
                    <a:pt x="1632" y="587"/>
                  </a:lnTo>
                  <a:lnTo>
                    <a:pt x="1632" y="578"/>
                  </a:lnTo>
                  <a:lnTo>
                    <a:pt x="1632" y="569"/>
                  </a:lnTo>
                  <a:lnTo>
                    <a:pt x="1637" y="552"/>
                  </a:lnTo>
                  <a:lnTo>
                    <a:pt x="1637" y="547"/>
                  </a:lnTo>
                  <a:lnTo>
                    <a:pt x="1637" y="538"/>
                  </a:lnTo>
                  <a:lnTo>
                    <a:pt x="1650" y="516"/>
                  </a:lnTo>
                  <a:lnTo>
                    <a:pt x="1650" y="512"/>
                  </a:lnTo>
                  <a:lnTo>
                    <a:pt x="1650" y="503"/>
                  </a:lnTo>
                  <a:lnTo>
                    <a:pt x="1650" y="486"/>
                  </a:lnTo>
                  <a:lnTo>
                    <a:pt x="1650" y="481"/>
                  </a:lnTo>
                  <a:lnTo>
                    <a:pt x="1650" y="459"/>
                  </a:lnTo>
                  <a:lnTo>
                    <a:pt x="1650" y="455"/>
                  </a:lnTo>
                  <a:lnTo>
                    <a:pt x="1650" y="446"/>
                  </a:lnTo>
                  <a:lnTo>
                    <a:pt x="1650" y="437"/>
                  </a:lnTo>
                  <a:lnTo>
                    <a:pt x="1637" y="428"/>
                  </a:lnTo>
                  <a:lnTo>
                    <a:pt x="1632" y="424"/>
                  </a:lnTo>
                  <a:lnTo>
                    <a:pt x="1632" y="411"/>
                  </a:lnTo>
                  <a:lnTo>
                    <a:pt x="1619" y="396"/>
                  </a:lnTo>
                  <a:lnTo>
                    <a:pt x="1619" y="392"/>
                  </a:lnTo>
                  <a:lnTo>
                    <a:pt x="1606" y="392"/>
                  </a:lnTo>
                  <a:lnTo>
                    <a:pt x="1601" y="392"/>
                  </a:lnTo>
                  <a:lnTo>
                    <a:pt x="1592" y="383"/>
                  </a:lnTo>
                  <a:lnTo>
                    <a:pt x="1579" y="383"/>
                  </a:lnTo>
                  <a:lnTo>
                    <a:pt x="1570" y="383"/>
                  </a:lnTo>
                  <a:lnTo>
                    <a:pt x="1557" y="392"/>
                  </a:lnTo>
                  <a:lnTo>
                    <a:pt x="1548" y="396"/>
                  </a:lnTo>
                  <a:lnTo>
                    <a:pt x="1535" y="411"/>
                  </a:lnTo>
                  <a:lnTo>
                    <a:pt x="1535" y="428"/>
                  </a:lnTo>
                  <a:lnTo>
                    <a:pt x="1526" y="428"/>
                  </a:lnTo>
                  <a:lnTo>
                    <a:pt x="1535" y="428"/>
                  </a:lnTo>
                  <a:lnTo>
                    <a:pt x="1548" y="437"/>
                  </a:lnTo>
                  <a:lnTo>
                    <a:pt x="1548" y="446"/>
                  </a:lnTo>
                  <a:lnTo>
                    <a:pt x="1548" y="455"/>
                  </a:lnTo>
                  <a:lnTo>
                    <a:pt x="1548" y="459"/>
                  </a:lnTo>
                  <a:lnTo>
                    <a:pt x="1535" y="472"/>
                  </a:lnTo>
                  <a:lnTo>
                    <a:pt x="1535" y="481"/>
                  </a:lnTo>
                  <a:lnTo>
                    <a:pt x="1535" y="486"/>
                  </a:lnTo>
                  <a:lnTo>
                    <a:pt x="1526" y="503"/>
                  </a:lnTo>
                  <a:lnTo>
                    <a:pt x="1526" y="512"/>
                  </a:lnTo>
                  <a:lnTo>
                    <a:pt x="1526" y="538"/>
                  </a:lnTo>
                  <a:lnTo>
                    <a:pt x="1526" y="547"/>
                  </a:lnTo>
                  <a:lnTo>
                    <a:pt x="1526" y="569"/>
                  </a:lnTo>
                  <a:lnTo>
                    <a:pt x="1526" y="587"/>
                  </a:lnTo>
                  <a:lnTo>
                    <a:pt x="1526" y="596"/>
                  </a:lnTo>
                  <a:lnTo>
                    <a:pt x="1526" y="618"/>
                  </a:lnTo>
                  <a:lnTo>
                    <a:pt x="1526" y="627"/>
                  </a:lnTo>
                  <a:lnTo>
                    <a:pt x="1526" y="653"/>
                  </a:lnTo>
                  <a:lnTo>
                    <a:pt x="1526" y="666"/>
                  </a:lnTo>
                  <a:lnTo>
                    <a:pt x="1522" y="675"/>
                  </a:lnTo>
                  <a:lnTo>
                    <a:pt x="1522" y="706"/>
                  </a:lnTo>
                  <a:lnTo>
                    <a:pt x="1509" y="715"/>
                  </a:lnTo>
                  <a:lnTo>
                    <a:pt x="1495" y="728"/>
                  </a:lnTo>
                  <a:lnTo>
                    <a:pt x="1487" y="755"/>
                  </a:lnTo>
                  <a:lnTo>
                    <a:pt x="1473" y="763"/>
                  </a:lnTo>
                  <a:lnTo>
                    <a:pt x="1460" y="772"/>
                  </a:lnTo>
                  <a:lnTo>
                    <a:pt x="1451" y="781"/>
                  </a:lnTo>
                  <a:lnTo>
                    <a:pt x="1438" y="781"/>
                  </a:lnTo>
                  <a:lnTo>
                    <a:pt x="1429" y="781"/>
                  </a:lnTo>
                  <a:lnTo>
                    <a:pt x="1420" y="781"/>
                  </a:lnTo>
                  <a:lnTo>
                    <a:pt x="1412" y="781"/>
                  </a:lnTo>
                  <a:lnTo>
                    <a:pt x="1398" y="781"/>
                  </a:lnTo>
                  <a:lnTo>
                    <a:pt x="1390" y="781"/>
                  </a:lnTo>
                  <a:lnTo>
                    <a:pt x="1390" y="772"/>
                  </a:lnTo>
                  <a:lnTo>
                    <a:pt x="1376" y="772"/>
                  </a:lnTo>
                  <a:lnTo>
                    <a:pt x="1376" y="763"/>
                  </a:lnTo>
                  <a:lnTo>
                    <a:pt x="1363" y="755"/>
                  </a:lnTo>
                  <a:lnTo>
                    <a:pt x="1359" y="755"/>
                  </a:lnTo>
                  <a:lnTo>
                    <a:pt x="1349" y="750"/>
                  </a:lnTo>
                  <a:lnTo>
                    <a:pt x="1349" y="737"/>
                  </a:lnTo>
                  <a:lnTo>
                    <a:pt x="1349" y="728"/>
                  </a:lnTo>
                  <a:lnTo>
                    <a:pt x="1340" y="724"/>
                  </a:lnTo>
                  <a:lnTo>
                    <a:pt x="1340" y="715"/>
                  </a:lnTo>
                  <a:lnTo>
                    <a:pt x="1340" y="706"/>
                  </a:lnTo>
                  <a:lnTo>
                    <a:pt x="1340" y="697"/>
                  </a:lnTo>
                  <a:lnTo>
                    <a:pt x="1340" y="693"/>
                  </a:lnTo>
                  <a:lnTo>
                    <a:pt x="1340" y="675"/>
                  </a:lnTo>
                  <a:lnTo>
                    <a:pt x="1340" y="666"/>
                  </a:lnTo>
                  <a:lnTo>
                    <a:pt x="1340" y="662"/>
                  </a:lnTo>
                  <a:lnTo>
                    <a:pt x="1340" y="653"/>
                  </a:lnTo>
                  <a:lnTo>
                    <a:pt x="1340" y="644"/>
                  </a:lnTo>
                  <a:lnTo>
                    <a:pt x="1349" y="644"/>
                  </a:lnTo>
                  <a:lnTo>
                    <a:pt x="1349" y="636"/>
                  </a:lnTo>
                  <a:lnTo>
                    <a:pt x="1349" y="627"/>
                  </a:lnTo>
                  <a:lnTo>
                    <a:pt x="1349" y="618"/>
                  </a:lnTo>
                  <a:lnTo>
                    <a:pt x="1349" y="609"/>
                  </a:lnTo>
                  <a:lnTo>
                    <a:pt x="1359" y="609"/>
                  </a:lnTo>
                  <a:lnTo>
                    <a:pt x="1359" y="605"/>
                  </a:lnTo>
                  <a:lnTo>
                    <a:pt x="1359" y="596"/>
                  </a:lnTo>
                  <a:lnTo>
                    <a:pt x="1340" y="605"/>
                  </a:lnTo>
                  <a:lnTo>
                    <a:pt x="1314" y="609"/>
                  </a:lnTo>
                  <a:lnTo>
                    <a:pt x="1296" y="627"/>
                  </a:lnTo>
                  <a:lnTo>
                    <a:pt x="1278" y="644"/>
                  </a:lnTo>
                  <a:lnTo>
                    <a:pt x="1265" y="653"/>
                  </a:lnTo>
                  <a:lnTo>
                    <a:pt x="1243" y="666"/>
                  </a:lnTo>
                  <a:lnTo>
                    <a:pt x="1217" y="693"/>
                  </a:lnTo>
                  <a:lnTo>
                    <a:pt x="1195" y="697"/>
                  </a:lnTo>
                  <a:lnTo>
                    <a:pt x="1181" y="715"/>
                  </a:lnTo>
                  <a:lnTo>
                    <a:pt x="1155" y="724"/>
                  </a:lnTo>
                  <a:lnTo>
                    <a:pt x="1133" y="728"/>
                  </a:lnTo>
                  <a:lnTo>
                    <a:pt x="1115" y="728"/>
                  </a:lnTo>
                  <a:lnTo>
                    <a:pt x="1098" y="728"/>
                  </a:lnTo>
                  <a:lnTo>
                    <a:pt x="1071" y="724"/>
                  </a:lnTo>
                  <a:lnTo>
                    <a:pt x="1067" y="715"/>
                  </a:lnTo>
                  <a:lnTo>
                    <a:pt x="1040" y="697"/>
                  </a:lnTo>
                  <a:lnTo>
                    <a:pt x="1036" y="697"/>
                  </a:lnTo>
                  <a:lnTo>
                    <a:pt x="1036" y="693"/>
                  </a:lnTo>
                  <a:lnTo>
                    <a:pt x="1036" y="675"/>
                  </a:lnTo>
                  <a:lnTo>
                    <a:pt x="1036" y="666"/>
                  </a:lnTo>
                  <a:lnTo>
                    <a:pt x="1036" y="662"/>
                  </a:lnTo>
                  <a:lnTo>
                    <a:pt x="1036" y="653"/>
                  </a:lnTo>
                  <a:lnTo>
                    <a:pt x="1036" y="644"/>
                  </a:lnTo>
                  <a:lnTo>
                    <a:pt x="1036" y="636"/>
                  </a:lnTo>
                  <a:lnTo>
                    <a:pt x="1036" y="627"/>
                  </a:lnTo>
                  <a:lnTo>
                    <a:pt x="1036" y="618"/>
                  </a:lnTo>
                  <a:lnTo>
                    <a:pt x="1036" y="609"/>
                  </a:lnTo>
                  <a:lnTo>
                    <a:pt x="1036" y="605"/>
                  </a:lnTo>
                  <a:lnTo>
                    <a:pt x="1040" y="596"/>
                  </a:lnTo>
                  <a:lnTo>
                    <a:pt x="1040" y="587"/>
                  </a:lnTo>
                  <a:lnTo>
                    <a:pt x="1040" y="569"/>
                  </a:lnTo>
                  <a:lnTo>
                    <a:pt x="1053" y="561"/>
                  </a:lnTo>
                  <a:lnTo>
                    <a:pt x="1067" y="547"/>
                  </a:lnTo>
                  <a:lnTo>
                    <a:pt x="1071" y="538"/>
                  </a:lnTo>
                  <a:lnTo>
                    <a:pt x="1071" y="530"/>
                  </a:lnTo>
                  <a:lnTo>
                    <a:pt x="1084" y="516"/>
                  </a:lnTo>
                  <a:lnTo>
                    <a:pt x="1098" y="512"/>
                  </a:lnTo>
                  <a:lnTo>
                    <a:pt x="1098" y="503"/>
                  </a:lnTo>
                  <a:lnTo>
                    <a:pt x="1106" y="494"/>
                  </a:lnTo>
                  <a:lnTo>
                    <a:pt x="1106" y="486"/>
                  </a:lnTo>
                  <a:lnTo>
                    <a:pt x="1106" y="481"/>
                  </a:lnTo>
                  <a:lnTo>
                    <a:pt x="1106" y="472"/>
                  </a:lnTo>
                  <a:lnTo>
                    <a:pt x="1106" y="459"/>
                  </a:lnTo>
                  <a:lnTo>
                    <a:pt x="1071" y="472"/>
                  </a:lnTo>
                  <a:lnTo>
                    <a:pt x="1067" y="486"/>
                  </a:lnTo>
                  <a:lnTo>
                    <a:pt x="1040" y="503"/>
                  </a:lnTo>
                  <a:lnTo>
                    <a:pt x="1036" y="516"/>
                  </a:lnTo>
                  <a:lnTo>
                    <a:pt x="1009" y="538"/>
                  </a:lnTo>
                  <a:lnTo>
                    <a:pt x="1001" y="552"/>
                  </a:lnTo>
                  <a:lnTo>
                    <a:pt x="987" y="569"/>
                  </a:lnTo>
                  <a:lnTo>
                    <a:pt x="965" y="587"/>
                  </a:lnTo>
                  <a:lnTo>
                    <a:pt x="956" y="605"/>
                  </a:lnTo>
                  <a:lnTo>
                    <a:pt x="948" y="618"/>
                  </a:lnTo>
                  <a:lnTo>
                    <a:pt x="926" y="636"/>
                  </a:lnTo>
                  <a:lnTo>
                    <a:pt x="917" y="653"/>
                  </a:lnTo>
                  <a:lnTo>
                    <a:pt x="890" y="666"/>
                  </a:lnTo>
                  <a:lnTo>
                    <a:pt x="881" y="693"/>
                  </a:lnTo>
                  <a:lnTo>
                    <a:pt x="859" y="706"/>
                  </a:lnTo>
                  <a:lnTo>
                    <a:pt x="855" y="724"/>
                  </a:lnTo>
                  <a:lnTo>
                    <a:pt x="846" y="724"/>
                  </a:lnTo>
                  <a:lnTo>
                    <a:pt x="846" y="728"/>
                  </a:lnTo>
                  <a:lnTo>
                    <a:pt x="833" y="728"/>
                  </a:lnTo>
                  <a:lnTo>
                    <a:pt x="824" y="728"/>
                  </a:lnTo>
                  <a:lnTo>
                    <a:pt x="811" y="728"/>
                  </a:lnTo>
                  <a:lnTo>
                    <a:pt x="798" y="728"/>
                  </a:lnTo>
                  <a:lnTo>
                    <a:pt x="793" y="728"/>
                  </a:lnTo>
                  <a:lnTo>
                    <a:pt x="780" y="724"/>
                  </a:lnTo>
                  <a:lnTo>
                    <a:pt x="767" y="724"/>
                  </a:lnTo>
                  <a:lnTo>
                    <a:pt x="767" y="715"/>
                  </a:lnTo>
                  <a:lnTo>
                    <a:pt x="758" y="706"/>
                  </a:lnTo>
                  <a:lnTo>
                    <a:pt x="758" y="697"/>
                  </a:lnTo>
                  <a:lnTo>
                    <a:pt x="758" y="693"/>
                  </a:lnTo>
                  <a:lnTo>
                    <a:pt x="745" y="675"/>
                  </a:lnTo>
                  <a:lnTo>
                    <a:pt x="745" y="666"/>
                  </a:lnTo>
                  <a:lnTo>
                    <a:pt x="745" y="662"/>
                  </a:lnTo>
                  <a:lnTo>
                    <a:pt x="745" y="653"/>
                  </a:lnTo>
                  <a:lnTo>
                    <a:pt x="745" y="644"/>
                  </a:lnTo>
                  <a:lnTo>
                    <a:pt x="745" y="636"/>
                  </a:lnTo>
                  <a:lnTo>
                    <a:pt x="745" y="627"/>
                  </a:lnTo>
                  <a:lnTo>
                    <a:pt x="732" y="636"/>
                  </a:lnTo>
                  <a:lnTo>
                    <a:pt x="727" y="644"/>
                  </a:lnTo>
                  <a:lnTo>
                    <a:pt x="718" y="653"/>
                  </a:lnTo>
                  <a:lnTo>
                    <a:pt x="718" y="662"/>
                  </a:lnTo>
                  <a:lnTo>
                    <a:pt x="709" y="666"/>
                  </a:lnTo>
                  <a:lnTo>
                    <a:pt x="696" y="675"/>
                  </a:lnTo>
                  <a:lnTo>
                    <a:pt x="683" y="693"/>
                  </a:lnTo>
                  <a:lnTo>
                    <a:pt x="674" y="697"/>
                  </a:lnTo>
                  <a:lnTo>
                    <a:pt x="674" y="706"/>
                  </a:lnTo>
                  <a:lnTo>
                    <a:pt x="661" y="706"/>
                  </a:lnTo>
                  <a:lnTo>
                    <a:pt x="648" y="715"/>
                  </a:lnTo>
                  <a:lnTo>
                    <a:pt x="639" y="715"/>
                  </a:lnTo>
                  <a:lnTo>
                    <a:pt x="639" y="724"/>
                  </a:lnTo>
                  <a:lnTo>
                    <a:pt x="617" y="728"/>
                  </a:lnTo>
                  <a:lnTo>
                    <a:pt x="604" y="728"/>
                  </a:lnTo>
                  <a:lnTo>
                    <a:pt x="590" y="728"/>
                  </a:lnTo>
                  <a:lnTo>
                    <a:pt x="582" y="728"/>
                  </a:lnTo>
                  <a:lnTo>
                    <a:pt x="568" y="728"/>
                  </a:lnTo>
                  <a:lnTo>
                    <a:pt x="568" y="724"/>
                  </a:lnTo>
                  <a:lnTo>
                    <a:pt x="555" y="715"/>
                  </a:lnTo>
                  <a:lnTo>
                    <a:pt x="551" y="715"/>
                  </a:lnTo>
                  <a:lnTo>
                    <a:pt x="551" y="706"/>
                  </a:lnTo>
                  <a:lnTo>
                    <a:pt x="551" y="697"/>
                  </a:lnTo>
                  <a:lnTo>
                    <a:pt x="537" y="693"/>
                  </a:lnTo>
                  <a:lnTo>
                    <a:pt x="537" y="675"/>
                  </a:lnTo>
                  <a:lnTo>
                    <a:pt x="537" y="666"/>
                  </a:lnTo>
                  <a:lnTo>
                    <a:pt x="537" y="653"/>
                  </a:lnTo>
                  <a:lnTo>
                    <a:pt x="537" y="644"/>
                  </a:lnTo>
                  <a:lnTo>
                    <a:pt x="524" y="644"/>
                  </a:lnTo>
                  <a:lnTo>
                    <a:pt x="515" y="644"/>
                  </a:lnTo>
                  <a:lnTo>
                    <a:pt x="515" y="653"/>
                  </a:lnTo>
                  <a:lnTo>
                    <a:pt x="507" y="653"/>
                  </a:lnTo>
                  <a:lnTo>
                    <a:pt x="507" y="662"/>
                  </a:lnTo>
                  <a:lnTo>
                    <a:pt x="498" y="662"/>
                  </a:lnTo>
                  <a:lnTo>
                    <a:pt x="476" y="666"/>
                  </a:lnTo>
                  <a:lnTo>
                    <a:pt x="440" y="693"/>
                  </a:lnTo>
                  <a:lnTo>
                    <a:pt x="418" y="697"/>
                  </a:lnTo>
                  <a:lnTo>
                    <a:pt x="392" y="706"/>
                  </a:lnTo>
                  <a:lnTo>
                    <a:pt x="370" y="715"/>
                  </a:lnTo>
                  <a:lnTo>
                    <a:pt x="339" y="728"/>
                  </a:lnTo>
                  <a:lnTo>
                    <a:pt x="308" y="737"/>
                  </a:lnTo>
                  <a:lnTo>
                    <a:pt x="286" y="750"/>
                  </a:lnTo>
                  <a:lnTo>
                    <a:pt x="255" y="755"/>
                  </a:lnTo>
                  <a:lnTo>
                    <a:pt x="224" y="755"/>
                  </a:lnTo>
                  <a:lnTo>
                    <a:pt x="198" y="755"/>
                  </a:lnTo>
                  <a:lnTo>
                    <a:pt x="167" y="763"/>
                  </a:lnTo>
                  <a:lnTo>
                    <a:pt x="149" y="755"/>
                  </a:lnTo>
                  <a:lnTo>
                    <a:pt x="119" y="755"/>
                  </a:lnTo>
                  <a:lnTo>
                    <a:pt x="83" y="750"/>
                  </a:lnTo>
                  <a:lnTo>
                    <a:pt x="66" y="737"/>
                  </a:lnTo>
                  <a:lnTo>
                    <a:pt x="48" y="728"/>
                  </a:lnTo>
                  <a:lnTo>
                    <a:pt x="35" y="724"/>
                  </a:lnTo>
                  <a:lnTo>
                    <a:pt x="22" y="715"/>
                  </a:lnTo>
                  <a:lnTo>
                    <a:pt x="22" y="706"/>
                  </a:lnTo>
                  <a:lnTo>
                    <a:pt x="13" y="697"/>
                  </a:lnTo>
                  <a:lnTo>
                    <a:pt x="13" y="693"/>
                  </a:lnTo>
                  <a:lnTo>
                    <a:pt x="13" y="666"/>
                  </a:lnTo>
                  <a:lnTo>
                    <a:pt x="0" y="662"/>
                  </a:lnTo>
                  <a:lnTo>
                    <a:pt x="0" y="653"/>
                  </a:lnTo>
                  <a:lnTo>
                    <a:pt x="0" y="644"/>
                  </a:lnTo>
                  <a:lnTo>
                    <a:pt x="13" y="627"/>
                  </a:lnTo>
                  <a:lnTo>
                    <a:pt x="13" y="618"/>
                  </a:lnTo>
                  <a:lnTo>
                    <a:pt x="13" y="609"/>
                  </a:lnTo>
                  <a:lnTo>
                    <a:pt x="22" y="596"/>
                  </a:lnTo>
                  <a:lnTo>
                    <a:pt x="22" y="587"/>
                  </a:lnTo>
                  <a:lnTo>
                    <a:pt x="35" y="578"/>
                  </a:lnTo>
                  <a:lnTo>
                    <a:pt x="66" y="530"/>
                  </a:lnTo>
                  <a:lnTo>
                    <a:pt x="97" y="486"/>
                  </a:lnTo>
                  <a:lnTo>
                    <a:pt x="136" y="446"/>
                  </a:lnTo>
                  <a:lnTo>
                    <a:pt x="176" y="396"/>
                  </a:lnTo>
                  <a:lnTo>
                    <a:pt x="224" y="366"/>
                  </a:lnTo>
                  <a:lnTo>
                    <a:pt x="255" y="326"/>
                  </a:lnTo>
                  <a:lnTo>
                    <a:pt x="295" y="282"/>
                  </a:lnTo>
                  <a:lnTo>
                    <a:pt x="339" y="251"/>
                  </a:lnTo>
                  <a:lnTo>
                    <a:pt x="392" y="220"/>
                  </a:lnTo>
                  <a:lnTo>
                    <a:pt x="432" y="185"/>
                  </a:lnTo>
                  <a:lnTo>
                    <a:pt x="485" y="154"/>
                  </a:lnTo>
                  <a:lnTo>
                    <a:pt x="524" y="114"/>
                  </a:lnTo>
                  <a:lnTo>
                    <a:pt x="582" y="92"/>
                  </a:lnTo>
                  <a:lnTo>
                    <a:pt x="630" y="57"/>
                  </a:lnTo>
                  <a:lnTo>
                    <a:pt x="683" y="35"/>
                  </a:lnTo>
                  <a:lnTo>
                    <a:pt x="745" y="8"/>
                  </a:lnTo>
                  <a:lnTo>
                    <a:pt x="758" y="8"/>
                  </a:lnTo>
                  <a:lnTo>
                    <a:pt x="767" y="8"/>
                  </a:lnTo>
                  <a:lnTo>
                    <a:pt x="767" y="0"/>
                  </a:lnTo>
                  <a:lnTo>
                    <a:pt x="780" y="0"/>
                  </a:lnTo>
                  <a:lnTo>
                    <a:pt x="793" y="0"/>
                  </a:lnTo>
                  <a:lnTo>
                    <a:pt x="793" y="8"/>
                  </a:lnTo>
                  <a:lnTo>
                    <a:pt x="798" y="8"/>
                  </a:lnTo>
                  <a:lnTo>
                    <a:pt x="811" y="8"/>
                  </a:lnTo>
                  <a:lnTo>
                    <a:pt x="824" y="8"/>
                  </a:lnTo>
                  <a:lnTo>
                    <a:pt x="824" y="13"/>
                  </a:lnTo>
                  <a:lnTo>
                    <a:pt x="833" y="22"/>
                  </a:lnTo>
                  <a:lnTo>
                    <a:pt x="833" y="35"/>
                  </a:lnTo>
                  <a:lnTo>
                    <a:pt x="833" y="44"/>
                  </a:lnTo>
                  <a:lnTo>
                    <a:pt x="824" y="44"/>
                  </a:lnTo>
                  <a:lnTo>
                    <a:pt x="824" y="48"/>
                  </a:lnTo>
                  <a:lnTo>
                    <a:pt x="824" y="57"/>
                  </a:lnTo>
                  <a:lnTo>
                    <a:pt x="824" y="66"/>
                  </a:lnTo>
                  <a:lnTo>
                    <a:pt x="811" y="66"/>
                  </a:lnTo>
                  <a:lnTo>
                    <a:pt x="798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27640" y="2498760"/>
              <a:ext cx="476640" cy="459000"/>
            </a:xfrm>
            <a:custGeom>
              <a:avLst/>
              <a:gdLst/>
              <a:ahLst/>
              <a:rect l="0" t="0" r="r" b="b"/>
              <a:pathLst>
                <a:path w="1324" h="1275">
                  <a:moveTo>
                    <a:pt x="1276" y="39"/>
                  </a:moveTo>
                  <a:lnTo>
                    <a:pt x="1227" y="57"/>
                  </a:lnTo>
                  <a:lnTo>
                    <a:pt x="1174" y="83"/>
                  </a:lnTo>
                  <a:lnTo>
                    <a:pt x="1126" y="105"/>
                  </a:lnTo>
                  <a:lnTo>
                    <a:pt x="1069" y="119"/>
                  </a:lnTo>
                  <a:lnTo>
                    <a:pt x="1016" y="145"/>
                  </a:lnTo>
                  <a:lnTo>
                    <a:pt x="962" y="176"/>
                  </a:lnTo>
                  <a:lnTo>
                    <a:pt x="909" y="202"/>
                  </a:lnTo>
                  <a:lnTo>
                    <a:pt x="856" y="224"/>
                  </a:lnTo>
                  <a:lnTo>
                    <a:pt x="803" y="238"/>
                  </a:lnTo>
                  <a:lnTo>
                    <a:pt x="755" y="273"/>
                  </a:lnTo>
                  <a:lnTo>
                    <a:pt x="693" y="295"/>
                  </a:lnTo>
                  <a:lnTo>
                    <a:pt x="662" y="326"/>
                  </a:lnTo>
                  <a:lnTo>
                    <a:pt x="613" y="348"/>
                  </a:lnTo>
                  <a:lnTo>
                    <a:pt x="561" y="383"/>
                  </a:lnTo>
                  <a:lnTo>
                    <a:pt x="521" y="414"/>
                  </a:lnTo>
                  <a:lnTo>
                    <a:pt x="477" y="445"/>
                  </a:lnTo>
                  <a:lnTo>
                    <a:pt x="499" y="454"/>
                  </a:lnTo>
                  <a:lnTo>
                    <a:pt x="530" y="463"/>
                  </a:lnTo>
                  <a:lnTo>
                    <a:pt x="561" y="471"/>
                  </a:lnTo>
                  <a:lnTo>
                    <a:pt x="596" y="471"/>
                  </a:lnTo>
                  <a:lnTo>
                    <a:pt x="613" y="485"/>
                  </a:lnTo>
                  <a:lnTo>
                    <a:pt x="649" y="485"/>
                  </a:lnTo>
                  <a:lnTo>
                    <a:pt x="675" y="485"/>
                  </a:lnTo>
                  <a:lnTo>
                    <a:pt x="706" y="485"/>
                  </a:lnTo>
                  <a:lnTo>
                    <a:pt x="741" y="471"/>
                  </a:lnTo>
                  <a:lnTo>
                    <a:pt x="772" y="471"/>
                  </a:lnTo>
                  <a:lnTo>
                    <a:pt x="803" y="471"/>
                  </a:lnTo>
                  <a:lnTo>
                    <a:pt x="838" y="471"/>
                  </a:lnTo>
                  <a:lnTo>
                    <a:pt x="869" y="471"/>
                  </a:lnTo>
                  <a:lnTo>
                    <a:pt x="904" y="471"/>
                  </a:lnTo>
                  <a:lnTo>
                    <a:pt x="931" y="485"/>
                  </a:lnTo>
                  <a:lnTo>
                    <a:pt x="962" y="493"/>
                  </a:lnTo>
                  <a:lnTo>
                    <a:pt x="971" y="493"/>
                  </a:lnTo>
                  <a:lnTo>
                    <a:pt x="984" y="502"/>
                  </a:lnTo>
                  <a:lnTo>
                    <a:pt x="998" y="502"/>
                  </a:lnTo>
                  <a:lnTo>
                    <a:pt x="1003" y="502"/>
                  </a:lnTo>
                  <a:lnTo>
                    <a:pt x="1016" y="507"/>
                  </a:lnTo>
                  <a:lnTo>
                    <a:pt x="1025" y="507"/>
                  </a:lnTo>
                  <a:lnTo>
                    <a:pt x="1033" y="507"/>
                  </a:lnTo>
                  <a:lnTo>
                    <a:pt x="1047" y="515"/>
                  </a:lnTo>
                  <a:lnTo>
                    <a:pt x="1060" y="515"/>
                  </a:lnTo>
                  <a:lnTo>
                    <a:pt x="1069" y="524"/>
                  </a:lnTo>
                  <a:lnTo>
                    <a:pt x="1082" y="533"/>
                  </a:lnTo>
                  <a:lnTo>
                    <a:pt x="1091" y="542"/>
                  </a:lnTo>
                  <a:lnTo>
                    <a:pt x="1100" y="542"/>
                  </a:lnTo>
                  <a:lnTo>
                    <a:pt x="1100" y="551"/>
                  </a:lnTo>
                  <a:lnTo>
                    <a:pt x="1100" y="560"/>
                  </a:lnTo>
                  <a:lnTo>
                    <a:pt x="1113" y="573"/>
                  </a:lnTo>
                  <a:lnTo>
                    <a:pt x="1113" y="608"/>
                  </a:lnTo>
                  <a:lnTo>
                    <a:pt x="1113" y="644"/>
                  </a:lnTo>
                  <a:lnTo>
                    <a:pt x="1100" y="675"/>
                  </a:lnTo>
                  <a:lnTo>
                    <a:pt x="1091" y="702"/>
                  </a:lnTo>
                  <a:lnTo>
                    <a:pt x="1082" y="733"/>
                  </a:lnTo>
                  <a:lnTo>
                    <a:pt x="1060" y="759"/>
                  </a:lnTo>
                  <a:lnTo>
                    <a:pt x="1033" y="790"/>
                  </a:lnTo>
                  <a:lnTo>
                    <a:pt x="1003" y="821"/>
                  </a:lnTo>
                  <a:lnTo>
                    <a:pt x="984" y="843"/>
                  </a:lnTo>
                  <a:lnTo>
                    <a:pt x="949" y="869"/>
                  </a:lnTo>
                  <a:lnTo>
                    <a:pt x="922" y="900"/>
                  </a:lnTo>
                  <a:lnTo>
                    <a:pt x="891" y="927"/>
                  </a:lnTo>
                  <a:lnTo>
                    <a:pt x="856" y="949"/>
                  </a:lnTo>
                  <a:lnTo>
                    <a:pt x="825" y="966"/>
                  </a:lnTo>
                  <a:lnTo>
                    <a:pt x="790" y="993"/>
                  </a:lnTo>
                  <a:lnTo>
                    <a:pt x="763" y="1015"/>
                  </a:lnTo>
                  <a:lnTo>
                    <a:pt x="741" y="1032"/>
                  </a:lnTo>
                  <a:lnTo>
                    <a:pt x="719" y="1050"/>
                  </a:lnTo>
                  <a:lnTo>
                    <a:pt x="693" y="1059"/>
                  </a:lnTo>
                  <a:lnTo>
                    <a:pt x="675" y="1072"/>
                  </a:lnTo>
                  <a:lnTo>
                    <a:pt x="662" y="1085"/>
                  </a:lnTo>
                  <a:lnTo>
                    <a:pt x="636" y="1090"/>
                  </a:lnTo>
                  <a:lnTo>
                    <a:pt x="613" y="1107"/>
                  </a:lnTo>
                  <a:lnTo>
                    <a:pt x="596" y="1116"/>
                  </a:lnTo>
                  <a:lnTo>
                    <a:pt x="569" y="1134"/>
                  </a:lnTo>
                  <a:lnTo>
                    <a:pt x="547" y="1147"/>
                  </a:lnTo>
                  <a:lnTo>
                    <a:pt x="521" y="1151"/>
                  </a:lnTo>
                  <a:lnTo>
                    <a:pt x="499" y="1160"/>
                  </a:lnTo>
                  <a:lnTo>
                    <a:pt x="477" y="1169"/>
                  </a:lnTo>
                  <a:lnTo>
                    <a:pt x="450" y="1178"/>
                  </a:lnTo>
                  <a:lnTo>
                    <a:pt x="433" y="1191"/>
                  </a:lnTo>
                  <a:lnTo>
                    <a:pt x="402" y="1204"/>
                  </a:lnTo>
                  <a:lnTo>
                    <a:pt x="384" y="1204"/>
                  </a:lnTo>
                  <a:lnTo>
                    <a:pt x="362" y="1218"/>
                  </a:lnTo>
                  <a:lnTo>
                    <a:pt x="340" y="1226"/>
                  </a:lnTo>
                  <a:lnTo>
                    <a:pt x="304" y="1235"/>
                  </a:lnTo>
                  <a:lnTo>
                    <a:pt x="286" y="1240"/>
                  </a:lnTo>
                  <a:lnTo>
                    <a:pt x="255" y="1253"/>
                  </a:lnTo>
                  <a:lnTo>
                    <a:pt x="229" y="1262"/>
                  </a:lnTo>
                  <a:lnTo>
                    <a:pt x="194" y="1266"/>
                  </a:lnTo>
                  <a:lnTo>
                    <a:pt x="180" y="1275"/>
                  </a:lnTo>
                  <a:lnTo>
                    <a:pt x="158" y="1275"/>
                  </a:lnTo>
                  <a:lnTo>
                    <a:pt x="127" y="1275"/>
                  </a:lnTo>
                  <a:lnTo>
                    <a:pt x="110" y="1275"/>
                  </a:lnTo>
                  <a:lnTo>
                    <a:pt x="83" y="1266"/>
                  </a:lnTo>
                  <a:lnTo>
                    <a:pt x="52" y="1266"/>
                  </a:lnTo>
                  <a:lnTo>
                    <a:pt x="35" y="1253"/>
                  </a:lnTo>
                  <a:lnTo>
                    <a:pt x="13" y="1240"/>
                  </a:lnTo>
                  <a:lnTo>
                    <a:pt x="13" y="1235"/>
                  </a:lnTo>
                  <a:lnTo>
                    <a:pt x="0" y="1226"/>
                  </a:lnTo>
                  <a:lnTo>
                    <a:pt x="0" y="1218"/>
                  </a:lnTo>
                  <a:lnTo>
                    <a:pt x="0" y="1209"/>
                  </a:lnTo>
                  <a:lnTo>
                    <a:pt x="0" y="1204"/>
                  </a:lnTo>
                  <a:lnTo>
                    <a:pt x="0" y="1191"/>
                  </a:lnTo>
                  <a:lnTo>
                    <a:pt x="0" y="1182"/>
                  </a:lnTo>
                  <a:lnTo>
                    <a:pt x="13" y="1178"/>
                  </a:lnTo>
                  <a:lnTo>
                    <a:pt x="13" y="1169"/>
                  </a:lnTo>
                  <a:lnTo>
                    <a:pt x="22" y="1160"/>
                  </a:lnTo>
                  <a:lnTo>
                    <a:pt x="35" y="1147"/>
                  </a:lnTo>
                  <a:lnTo>
                    <a:pt x="52" y="1134"/>
                  </a:lnTo>
                  <a:lnTo>
                    <a:pt x="61" y="1125"/>
                  </a:lnTo>
                  <a:lnTo>
                    <a:pt x="74" y="1116"/>
                  </a:lnTo>
                  <a:lnTo>
                    <a:pt x="83" y="1116"/>
                  </a:lnTo>
                  <a:lnTo>
                    <a:pt x="83" y="1125"/>
                  </a:lnTo>
                  <a:lnTo>
                    <a:pt x="83" y="1134"/>
                  </a:lnTo>
                  <a:lnTo>
                    <a:pt x="74" y="1147"/>
                  </a:lnTo>
                  <a:lnTo>
                    <a:pt x="74" y="1160"/>
                  </a:lnTo>
                  <a:lnTo>
                    <a:pt x="61" y="1169"/>
                  </a:lnTo>
                  <a:lnTo>
                    <a:pt x="61" y="1178"/>
                  </a:lnTo>
                  <a:lnTo>
                    <a:pt x="52" y="1182"/>
                  </a:lnTo>
                  <a:lnTo>
                    <a:pt x="52" y="1191"/>
                  </a:lnTo>
                  <a:lnTo>
                    <a:pt x="52" y="1204"/>
                  </a:lnTo>
                  <a:lnTo>
                    <a:pt x="52" y="1209"/>
                  </a:lnTo>
                  <a:lnTo>
                    <a:pt x="44" y="1218"/>
                  </a:lnTo>
                  <a:lnTo>
                    <a:pt x="52" y="1218"/>
                  </a:lnTo>
                  <a:lnTo>
                    <a:pt x="52" y="1226"/>
                  </a:lnTo>
                  <a:lnTo>
                    <a:pt x="52" y="1235"/>
                  </a:lnTo>
                  <a:lnTo>
                    <a:pt x="61" y="1235"/>
                  </a:lnTo>
                  <a:lnTo>
                    <a:pt x="83" y="1240"/>
                  </a:lnTo>
                  <a:lnTo>
                    <a:pt x="119" y="1240"/>
                  </a:lnTo>
                  <a:lnTo>
                    <a:pt x="145" y="1240"/>
                  </a:lnTo>
                  <a:lnTo>
                    <a:pt x="189" y="1240"/>
                  </a:lnTo>
                  <a:lnTo>
                    <a:pt x="220" y="1235"/>
                  </a:lnTo>
                  <a:lnTo>
                    <a:pt x="255" y="1226"/>
                  </a:lnTo>
                  <a:lnTo>
                    <a:pt x="295" y="1218"/>
                  </a:lnTo>
                  <a:lnTo>
                    <a:pt x="326" y="1204"/>
                  </a:lnTo>
                  <a:lnTo>
                    <a:pt x="362" y="1191"/>
                  </a:lnTo>
                  <a:lnTo>
                    <a:pt x="384" y="1178"/>
                  </a:lnTo>
                  <a:lnTo>
                    <a:pt x="415" y="1160"/>
                  </a:lnTo>
                  <a:lnTo>
                    <a:pt x="441" y="1147"/>
                  </a:lnTo>
                  <a:lnTo>
                    <a:pt x="477" y="1134"/>
                  </a:lnTo>
                  <a:lnTo>
                    <a:pt x="508" y="1116"/>
                  </a:lnTo>
                  <a:lnTo>
                    <a:pt x="538" y="1099"/>
                  </a:lnTo>
                  <a:lnTo>
                    <a:pt x="569" y="1085"/>
                  </a:lnTo>
                  <a:lnTo>
                    <a:pt x="600" y="1063"/>
                  </a:lnTo>
                  <a:lnTo>
                    <a:pt x="649" y="1050"/>
                  </a:lnTo>
                  <a:lnTo>
                    <a:pt x="675" y="1024"/>
                  </a:lnTo>
                  <a:lnTo>
                    <a:pt x="706" y="1006"/>
                  </a:lnTo>
                  <a:lnTo>
                    <a:pt x="741" y="993"/>
                  </a:lnTo>
                  <a:lnTo>
                    <a:pt x="772" y="966"/>
                  </a:lnTo>
                  <a:lnTo>
                    <a:pt x="803" y="949"/>
                  </a:lnTo>
                  <a:lnTo>
                    <a:pt x="825" y="927"/>
                  </a:lnTo>
                  <a:lnTo>
                    <a:pt x="856" y="900"/>
                  </a:lnTo>
                  <a:lnTo>
                    <a:pt x="891" y="878"/>
                  </a:lnTo>
                  <a:lnTo>
                    <a:pt x="909" y="856"/>
                  </a:lnTo>
                  <a:lnTo>
                    <a:pt x="931" y="825"/>
                  </a:lnTo>
                  <a:lnTo>
                    <a:pt x="949" y="794"/>
                  </a:lnTo>
                  <a:lnTo>
                    <a:pt x="971" y="772"/>
                  </a:lnTo>
                  <a:lnTo>
                    <a:pt x="998" y="750"/>
                  </a:lnTo>
                  <a:lnTo>
                    <a:pt x="1016" y="724"/>
                  </a:lnTo>
                  <a:lnTo>
                    <a:pt x="1033" y="688"/>
                  </a:lnTo>
                  <a:lnTo>
                    <a:pt x="1033" y="680"/>
                  </a:lnTo>
                  <a:lnTo>
                    <a:pt x="1047" y="675"/>
                  </a:lnTo>
                  <a:lnTo>
                    <a:pt x="1047" y="658"/>
                  </a:lnTo>
                  <a:lnTo>
                    <a:pt x="1060" y="649"/>
                  </a:lnTo>
                  <a:lnTo>
                    <a:pt x="1060" y="644"/>
                  </a:lnTo>
                  <a:lnTo>
                    <a:pt x="1069" y="621"/>
                  </a:lnTo>
                  <a:lnTo>
                    <a:pt x="1069" y="617"/>
                  </a:lnTo>
                  <a:lnTo>
                    <a:pt x="1069" y="608"/>
                  </a:lnTo>
                  <a:lnTo>
                    <a:pt x="1069" y="590"/>
                  </a:lnTo>
                  <a:lnTo>
                    <a:pt x="1060" y="586"/>
                  </a:lnTo>
                  <a:lnTo>
                    <a:pt x="1060" y="573"/>
                  </a:lnTo>
                  <a:lnTo>
                    <a:pt x="1047" y="564"/>
                  </a:lnTo>
                  <a:lnTo>
                    <a:pt x="1047" y="560"/>
                  </a:lnTo>
                  <a:lnTo>
                    <a:pt x="1033" y="542"/>
                  </a:lnTo>
                  <a:lnTo>
                    <a:pt x="1025" y="542"/>
                  </a:lnTo>
                  <a:lnTo>
                    <a:pt x="1003" y="533"/>
                  </a:lnTo>
                  <a:lnTo>
                    <a:pt x="998" y="524"/>
                  </a:lnTo>
                  <a:lnTo>
                    <a:pt x="984" y="524"/>
                  </a:lnTo>
                  <a:lnTo>
                    <a:pt x="971" y="515"/>
                  </a:lnTo>
                  <a:lnTo>
                    <a:pt x="962" y="515"/>
                  </a:lnTo>
                  <a:lnTo>
                    <a:pt x="949" y="515"/>
                  </a:lnTo>
                  <a:lnTo>
                    <a:pt x="935" y="515"/>
                  </a:lnTo>
                  <a:lnTo>
                    <a:pt x="931" y="515"/>
                  </a:lnTo>
                  <a:lnTo>
                    <a:pt x="922" y="515"/>
                  </a:lnTo>
                  <a:lnTo>
                    <a:pt x="904" y="507"/>
                  </a:lnTo>
                  <a:lnTo>
                    <a:pt x="891" y="507"/>
                  </a:lnTo>
                  <a:lnTo>
                    <a:pt x="878" y="507"/>
                  </a:lnTo>
                  <a:lnTo>
                    <a:pt x="869" y="507"/>
                  </a:lnTo>
                  <a:lnTo>
                    <a:pt x="856" y="507"/>
                  </a:lnTo>
                  <a:lnTo>
                    <a:pt x="843" y="507"/>
                  </a:lnTo>
                  <a:lnTo>
                    <a:pt x="838" y="507"/>
                  </a:lnTo>
                  <a:lnTo>
                    <a:pt x="825" y="507"/>
                  </a:lnTo>
                  <a:lnTo>
                    <a:pt x="790" y="507"/>
                  </a:lnTo>
                  <a:lnTo>
                    <a:pt x="772" y="502"/>
                  </a:lnTo>
                  <a:lnTo>
                    <a:pt x="755" y="502"/>
                  </a:lnTo>
                  <a:lnTo>
                    <a:pt x="728" y="507"/>
                  </a:lnTo>
                  <a:lnTo>
                    <a:pt x="706" y="507"/>
                  </a:lnTo>
                  <a:lnTo>
                    <a:pt x="684" y="507"/>
                  </a:lnTo>
                  <a:lnTo>
                    <a:pt x="662" y="507"/>
                  </a:lnTo>
                  <a:lnTo>
                    <a:pt x="649" y="507"/>
                  </a:lnTo>
                  <a:lnTo>
                    <a:pt x="627" y="507"/>
                  </a:lnTo>
                  <a:lnTo>
                    <a:pt x="600" y="507"/>
                  </a:lnTo>
                  <a:lnTo>
                    <a:pt x="583" y="507"/>
                  </a:lnTo>
                  <a:lnTo>
                    <a:pt x="561" y="507"/>
                  </a:lnTo>
                  <a:lnTo>
                    <a:pt x="538" y="507"/>
                  </a:lnTo>
                  <a:lnTo>
                    <a:pt x="521" y="507"/>
                  </a:lnTo>
                  <a:lnTo>
                    <a:pt x="499" y="502"/>
                  </a:lnTo>
                  <a:lnTo>
                    <a:pt x="477" y="493"/>
                  </a:lnTo>
                  <a:lnTo>
                    <a:pt x="464" y="493"/>
                  </a:lnTo>
                  <a:lnTo>
                    <a:pt x="464" y="485"/>
                  </a:lnTo>
                  <a:lnTo>
                    <a:pt x="450" y="485"/>
                  </a:lnTo>
                  <a:lnTo>
                    <a:pt x="441" y="471"/>
                  </a:lnTo>
                  <a:lnTo>
                    <a:pt x="433" y="471"/>
                  </a:lnTo>
                  <a:lnTo>
                    <a:pt x="433" y="463"/>
                  </a:lnTo>
                  <a:lnTo>
                    <a:pt x="419" y="454"/>
                  </a:lnTo>
                  <a:lnTo>
                    <a:pt x="415" y="445"/>
                  </a:lnTo>
                  <a:lnTo>
                    <a:pt x="415" y="440"/>
                  </a:lnTo>
                  <a:lnTo>
                    <a:pt x="415" y="432"/>
                  </a:lnTo>
                  <a:lnTo>
                    <a:pt x="419" y="423"/>
                  </a:lnTo>
                  <a:lnTo>
                    <a:pt x="477" y="388"/>
                  </a:lnTo>
                  <a:lnTo>
                    <a:pt x="521" y="352"/>
                  </a:lnTo>
                  <a:lnTo>
                    <a:pt x="569" y="326"/>
                  </a:lnTo>
                  <a:lnTo>
                    <a:pt x="627" y="295"/>
                  </a:lnTo>
                  <a:lnTo>
                    <a:pt x="675" y="264"/>
                  </a:lnTo>
                  <a:lnTo>
                    <a:pt x="728" y="233"/>
                  </a:lnTo>
                  <a:lnTo>
                    <a:pt x="785" y="207"/>
                  </a:lnTo>
                  <a:lnTo>
                    <a:pt x="838" y="180"/>
                  </a:lnTo>
                  <a:lnTo>
                    <a:pt x="891" y="154"/>
                  </a:lnTo>
                  <a:lnTo>
                    <a:pt x="935" y="119"/>
                  </a:lnTo>
                  <a:lnTo>
                    <a:pt x="998" y="97"/>
                  </a:lnTo>
                  <a:lnTo>
                    <a:pt x="1060" y="83"/>
                  </a:lnTo>
                  <a:lnTo>
                    <a:pt x="1113" y="57"/>
                  </a:lnTo>
                  <a:lnTo>
                    <a:pt x="1174" y="39"/>
                  </a:lnTo>
                  <a:lnTo>
                    <a:pt x="1241" y="13"/>
                  </a:lnTo>
                  <a:lnTo>
                    <a:pt x="1289" y="4"/>
                  </a:lnTo>
                  <a:lnTo>
                    <a:pt x="1289" y="0"/>
                  </a:lnTo>
                  <a:lnTo>
                    <a:pt x="1302" y="0"/>
                  </a:lnTo>
                  <a:lnTo>
                    <a:pt x="1311" y="0"/>
                  </a:lnTo>
                  <a:lnTo>
                    <a:pt x="1311" y="4"/>
                  </a:lnTo>
                  <a:lnTo>
                    <a:pt x="1324" y="4"/>
                  </a:lnTo>
                  <a:lnTo>
                    <a:pt x="1324" y="13"/>
                  </a:lnTo>
                  <a:lnTo>
                    <a:pt x="1324" y="22"/>
                  </a:lnTo>
                  <a:lnTo>
                    <a:pt x="1324" y="30"/>
                  </a:lnTo>
                  <a:lnTo>
                    <a:pt x="1311" y="30"/>
                  </a:lnTo>
                  <a:lnTo>
                    <a:pt x="1302" y="30"/>
                  </a:lnTo>
                  <a:lnTo>
                    <a:pt x="1289" y="30"/>
                  </a:lnTo>
                  <a:lnTo>
                    <a:pt x="1276" y="30"/>
                  </a:lnTo>
                  <a:lnTo>
                    <a:pt x="1276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38760" y="2583000"/>
              <a:ext cx="1005120" cy="257400"/>
            </a:xfrm>
            <a:custGeom>
              <a:avLst/>
              <a:gdLst/>
              <a:ahLst/>
              <a:rect l="0" t="0" r="r" b="b"/>
              <a:pathLst>
                <a:path w="2792" h="715">
                  <a:moveTo>
                    <a:pt x="61" y="552"/>
                  </a:moveTo>
                  <a:lnTo>
                    <a:pt x="74" y="543"/>
                  </a:lnTo>
                  <a:lnTo>
                    <a:pt x="74" y="525"/>
                  </a:lnTo>
                  <a:lnTo>
                    <a:pt x="97" y="512"/>
                  </a:lnTo>
                  <a:lnTo>
                    <a:pt x="101" y="499"/>
                  </a:lnTo>
                  <a:lnTo>
                    <a:pt x="101" y="481"/>
                  </a:lnTo>
                  <a:lnTo>
                    <a:pt x="114" y="472"/>
                  </a:lnTo>
                  <a:lnTo>
                    <a:pt x="132" y="464"/>
                  </a:lnTo>
                  <a:lnTo>
                    <a:pt x="145" y="446"/>
                  </a:lnTo>
                  <a:lnTo>
                    <a:pt x="158" y="441"/>
                  </a:lnTo>
                  <a:lnTo>
                    <a:pt x="167" y="424"/>
                  </a:lnTo>
                  <a:lnTo>
                    <a:pt x="176" y="415"/>
                  </a:lnTo>
                  <a:lnTo>
                    <a:pt x="185" y="406"/>
                  </a:lnTo>
                  <a:lnTo>
                    <a:pt x="207" y="389"/>
                  </a:lnTo>
                  <a:lnTo>
                    <a:pt x="220" y="384"/>
                  </a:lnTo>
                  <a:lnTo>
                    <a:pt x="229" y="375"/>
                  </a:lnTo>
                  <a:lnTo>
                    <a:pt x="255" y="367"/>
                  </a:lnTo>
                  <a:lnTo>
                    <a:pt x="255" y="358"/>
                  </a:lnTo>
                  <a:lnTo>
                    <a:pt x="260" y="358"/>
                  </a:lnTo>
                  <a:lnTo>
                    <a:pt x="273" y="358"/>
                  </a:lnTo>
                  <a:lnTo>
                    <a:pt x="277" y="367"/>
                  </a:lnTo>
                  <a:lnTo>
                    <a:pt x="277" y="375"/>
                  </a:lnTo>
                  <a:lnTo>
                    <a:pt x="277" y="367"/>
                  </a:lnTo>
                  <a:lnTo>
                    <a:pt x="291" y="358"/>
                  </a:lnTo>
                  <a:lnTo>
                    <a:pt x="304" y="358"/>
                  </a:lnTo>
                  <a:lnTo>
                    <a:pt x="313" y="358"/>
                  </a:lnTo>
                  <a:lnTo>
                    <a:pt x="313" y="348"/>
                  </a:lnTo>
                  <a:lnTo>
                    <a:pt x="326" y="348"/>
                  </a:lnTo>
                  <a:lnTo>
                    <a:pt x="339" y="348"/>
                  </a:lnTo>
                  <a:lnTo>
                    <a:pt x="343" y="348"/>
                  </a:lnTo>
                  <a:lnTo>
                    <a:pt x="343" y="358"/>
                  </a:lnTo>
                  <a:lnTo>
                    <a:pt x="357" y="375"/>
                  </a:lnTo>
                  <a:lnTo>
                    <a:pt x="357" y="389"/>
                  </a:lnTo>
                  <a:lnTo>
                    <a:pt x="357" y="406"/>
                  </a:lnTo>
                  <a:lnTo>
                    <a:pt x="343" y="433"/>
                  </a:lnTo>
                  <a:lnTo>
                    <a:pt x="343" y="446"/>
                  </a:lnTo>
                  <a:lnTo>
                    <a:pt x="339" y="464"/>
                  </a:lnTo>
                  <a:lnTo>
                    <a:pt x="339" y="481"/>
                  </a:lnTo>
                  <a:lnTo>
                    <a:pt x="326" y="499"/>
                  </a:lnTo>
                  <a:lnTo>
                    <a:pt x="313" y="512"/>
                  </a:lnTo>
                  <a:lnTo>
                    <a:pt x="304" y="530"/>
                  </a:lnTo>
                  <a:lnTo>
                    <a:pt x="304" y="552"/>
                  </a:lnTo>
                  <a:lnTo>
                    <a:pt x="291" y="574"/>
                  </a:lnTo>
                  <a:lnTo>
                    <a:pt x="277" y="587"/>
                  </a:lnTo>
                  <a:lnTo>
                    <a:pt x="277" y="609"/>
                  </a:lnTo>
                  <a:lnTo>
                    <a:pt x="277" y="622"/>
                  </a:lnTo>
                  <a:lnTo>
                    <a:pt x="277" y="653"/>
                  </a:lnTo>
                  <a:lnTo>
                    <a:pt x="291" y="653"/>
                  </a:lnTo>
                  <a:lnTo>
                    <a:pt x="291" y="658"/>
                  </a:lnTo>
                  <a:lnTo>
                    <a:pt x="304" y="658"/>
                  </a:lnTo>
                  <a:lnTo>
                    <a:pt x="313" y="644"/>
                  </a:lnTo>
                  <a:lnTo>
                    <a:pt x="339" y="622"/>
                  </a:lnTo>
                  <a:lnTo>
                    <a:pt x="343" y="600"/>
                  </a:lnTo>
                  <a:lnTo>
                    <a:pt x="357" y="587"/>
                  </a:lnTo>
                  <a:lnTo>
                    <a:pt x="370" y="561"/>
                  </a:lnTo>
                  <a:lnTo>
                    <a:pt x="379" y="543"/>
                  </a:lnTo>
                  <a:lnTo>
                    <a:pt x="388" y="512"/>
                  </a:lnTo>
                  <a:lnTo>
                    <a:pt x="396" y="499"/>
                  </a:lnTo>
                  <a:lnTo>
                    <a:pt x="405" y="472"/>
                  </a:lnTo>
                  <a:lnTo>
                    <a:pt x="418" y="455"/>
                  </a:lnTo>
                  <a:lnTo>
                    <a:pt x="427" y="433"/>
                  </a:lnTo>
                  <a:lnTo>
                    <a:pt x="449" y="415"/>
                  </a:lnTo>
                  <a:lnTo>
                    <a:pt x="458" y="397"/>
                  </a:lnTo>
                  <a:lnTo>
                    <a:pt x="485" y="384"/>
                  </a:lnTo>
                  <a:lnTo>
                    <a:pt x="493" y="367"/>
                  </a:lnTo>
                  <a:lnTo>
                    <a:pt x="520" y="348"/>
                  </a:lnTo>
                  <a:lnTo>
                    <a:pt x="520" y="339"/>
                  </a:lnTo>
                  <a:lnTo>
                    <a:pt x="533" y="330"/>
                  </a:lnTo>
                  <a:lnTo>
                    <a:pt x="546" y="330"/>
                  </a:lnTo>
                  <a:lnTo>
                    <a:pt x="555" y="326"/>
                  </a:lnTo>
                  <a:lnTo>
                    <a:pt x="568" y="326"/>
                  </a:lnTo>
                  <a:lnTo>
                    <a:pt x="582" y="326"/>
                  </a:lnTo>
                  <a:lnTo>
                    <a:pt x="586" y="326"/>
                  </a:lnTo>
                  <a:lnTo>
                    <a:pt x="599" y="326"/>
                  </a:lnTo>
                  <a:lnTo>
                    <a:pt x="612" y="326"/>
                  </a:lnTo>
                  <a:lnTo>
                    <a:pt x="612" y="330"/>
                  </a:lnTo>
                  <a:lnTo>
                    <a:pt x="617" y="339"/>
                  </a:lnTo>
                  <a:lnTo>
                    <a:pt x="617" y="348"/>
                  </a:lnTo>
                  <a:lnTo>
                    <a:pt x="617" y="367"/>
                  </a:lnTo>
                  <a:lnTo>
                    <a:pt x="617" y="375"/>
                  </a:lnTo>
                  <a:lnTo>
                    <a:pt x="617" y="389"/>
                  </a:lnTo>
                  <a:lnTo>
                    <a:pt x="617" y="406"/>
                  </a:lnTo>
                  <a:lnTo>
                    <a:pt x="617" y="415"/>
                  </a:lnTo>
                  <a:lnTo>
                    <a:pt x="612" y="433"/>
                  </a:lnTo>
                  <a:lnTo>
                    <a:pt x="599" y="441"/>
                  </a:lnTo>
                  <a:lnTo>
                    <a:pt x="599" y="455"/>
                  </a:lnTo>
                  <a:lnTo>
                    <a:pt x="586" y="464"/>
                  </a:lnTo>
                  <a:lnTo>
                    <a:pt x="586" y="481"/>
                  </a:lnTo>
                  <a:lnTo>
                    <a:pt x="586" y="499"/>
                  </a:lnTo>
                  <a:lnTo>
                    <a:pt x="582" y="503"/>
                  </a:lnTo>
                  <a:lnTo>
                    <a:pt x="582" y="525"/>
                  </a:lnTo>
                  <a:lnTo>
                    <a:pt x="582" y="543"/>
                  </a:lnTo>
                  <a:lnTo>
                    <a:pt x="582" y="552"/>
                  </a:lnTo>
                  <a:lnTo>
                    <a:pt x="586" y="543"/>
                  </a:lnTo>
                  <a:lnTo>
                    <a:pt x="599" y="530"/>
                  </a:lnTo>
                  <a:lnTo>
                    <a:pt x="599" y="512"/>
                  </a:lnTo>
                  <a:lnTo>
                    <a:pt x="612" y="499"/>
                  </a:lnTo>
                  <a:lnTo>
                    <a:pt x="617" y="490"/>
                  </a:lnTo>
                  <a:lnTo>
                    <a:pt x="617" y="472"/>
                  </a:lnTo>
                  <a:lnTo>
                    <a:pt x="630" y="455"/>
                  </a:lnTo>
                  <a:lnTo>
                    <a:pt x="630" y="441"/>
                  </a:lnTo>
                  <a:lnTo>
                    <a:pt x="635" y="433"/>
                  </a:lnTo>
                  <a:lnTo>
                    <a:pt x="648" y="415"/>
                  </a:lnTo>
                  <a:lnTo>
                    <a:pt x="657" y="406"/>
                  </a:lnTo>
                  <a:lnTo>
                    <a:pt x="665" y="397"/>
                  </a:lnTo>
                  <a:lnTo>
                    <a:pt x="679" y="389"/>
                  </a:lnTo>
                  <a:lnTo>
                    <a:pt x="701" y="389"/>
                  </a:lnTo>
                  <a:lnTo>
                    <a:pt x="714" y="389"/>
                  </a:lnTo>
                  <a:lnTo>
                    <a:pt x="732" y="389"/>
                  </a:lnTo>
                  <a:lnTo>
                    <a:pt x="732" y="406"/>
                  </a:lnTo>
                  <a:lnTo>
                    <a:pt x="732" y="433"/>
                  </a:lnTo>
                  <a:lnTo>
                    <a:pt x="732" y="446"/>
                  </a:lnTo>
                  <a:lnTo>
                    <a:pt x="727" y="464"/>
                  </a:lnTo>
                  <a:lnTo>
                    <a:pt x="727" y="481"/>
                  </a:lnTo>
                  <a:lnTo>
                    <a:pt x="727" y="499"/>
                  </a:lnTo>
                  <a:lnTo>
                    <a:pt x="727" y="525"/>
                  </a:lnTo>
                  <a:lnTo>
                    <a:pt x="714" y="543"/>
                  </a:lnTo>
                  <a:lnTo>
                    <a:pt x="714" y="561"/>
                  </a:lnTo>
                  <a:lnTo>
                    <a:pt x="714" y="574"/>
                  </a:lnTo>
                  <a:lnTo>
                    <a:pt x="727" y="591"/>
                  </a:lnTo>
                  <a:lnTo>
                    <a:pt x="727" y="609"/>
                  </a:lnTo>
                  <a:lnTo>
                    <a:pt x="727" y="622"/>
                  </a:lnTo>
                  <a:lnTo>
                    <a:pt x="732" y="644"/>
                  </a:lnTo>
                  <a:lnTo>
                    <a:pt x="754" y="658"/>
                  </a:lnTo>
                  <a:lnTo>
                    <a:pt x="762" y="666"/>
                  </a:lnTo>
                  <a:lnTo>
                    <a:pt x="798" y="644"/>
                  </a:lnTo>
                  <a:lnTo>
                    <a:pt x="820" y="618"/>
                  </a:lnTo>
                  <a:lnTo>
                    <a:pt x="837" y="591"/>
                  </a:lnTo>
                  <a:lnTo>
                    <a:pt x="873" y="565"/>
                  </a:lnTo>
                  <a:lnTo>
                    <a:pt x="890" y="543"/>
                  </a:lnTo>
                  <a:lnTo>
                    <a:pt x="908" y="503"/>
                  </a:lnTo>
                  <a:lnTo>
                    <a:pt x="934" y="472"/>
                  </a:lnTo>
                  <a:lnTo>
                    <a:pt x="952" y="446"/>
                  </a:lnTo>
                  <a:lnTo>
                    <a:pt x="974" y="424"/>
                  </a:lnTo>
                  <a:lnTo>
                    <a:pt x="1005" y="389"/>
                  </a:lnTo>
                  <a:lnTo>
                    <a:pt x="1027" y="367"/>
                  </a:lnTo>
                  <a:lnTo>
                    <a:pt x="1053" y="339"/>
                  </a:lnTo>
                  <a:lnTo>
                    <a:pt x="1080" y="308"/>
                  </a:lnTo>
                  <a:lnTo>
                    <a:pt x="1102" y="282"/>
                  </a:lnTo>
                  <a:lnTo>
                    <a:pt x="1137" y="268"/>
                  </a:lnTo>
                  <a:lnTo>
                    <a:pt x="1172" y="238"/>
                  </a:lnTo>
                  <a:lnTo>
                    <a:pt x="1172" y="233"/>
                  </a:lnTo>
                  <a:lnTo>
                    <a:pt x="1181" y="233"/>
                  </a:lnTo>
                  <a:lnTo>
                    <a:pt x="1195" y="233"/>
                  </a:lnTo>
                  <a:lnTo>
                    <a:pt x="1195" y="238"/>
                  </a:lnTo>
                  <a:lnTo>
                    <a:pt x="1203" y="238"/>
                  </a:lnTo>
                  <a:lnTo>
                    <a:pt x="1217" y="251"/>
                  </a:lnTo>
                  <a:lnTo>
                    <a:pt x="1225" y="260"/>
                  </a:lnTo>
                  <a:lnTo>
                    <a:pt x="1225" y="268"/>
                  </a:lnTo>
                  <a:lnTo>
                    <a:pt x="1234" y="238"/>
                  </a:lnTo>
                  <a:lnTo>
                    <a:pt x="1247" y="224"/>
                  </a:lnTo>
                  <a:lnTo>
                    <a:pt x="1247" y="216"/>
                  </a:lnTo>
                  <a:lnTo>
                    <a:pt x="1261" y="202"/>
                  </a:lnTo>
                  <a:lnTo>
                    <a:pt x="1270" y="176"/>
                  </a:lnTo>
                  <a:lnTo>
                    <a:pt x="1283" y="163"/>
                  </a:lnTo>
                  <a:lnTo>
                    <a:pt x="1283" y="149"/>
                  </a:lnTo>
                  <a:lnTo>
                    <a:pt x="1292" y="127"/>
                  </a:lnTo>
                  <a:lnTo>
                    <a:pt x="1300" y="114"/>
                  </a:lnTo>
                  <a:lnTo>
                    <a:pt x="1309" y="105"/>
                  </a:lnTo>
                  <a:lnTo>
                    <a:pt x="1318" y="92"/>
                  </a:lnTo>
                  <a:lnTo>
                    <a:pt x="1331" y="70"/>
                  </a:lnTo>
                  <a:lnTo>
                    <a:pt x="1344" y="57"/>
                  </a:lnTo>
                  <a:lnTo>
                    <a:pt x="1353" y="39"/>
                  </a:lnTo>
                  <a:lnTo>
                    <a:pt x="1367" y="22"/>
                  </a:lnTo>
                  <a:lnTo>
                    <a:pt x="1380" y="13"/>
                  </a:lnTo>
                  <a:lnTo>
                    <a:pt x="1380" y="4"/>
                  </a:lnTo>
                  <a:lnTo>
                    <a:pt x="1384" y="4"/>
                  </a:lnTo>
                  <a:lnTo>
                    <a:pt x="1398" y="4"/>
                  </a:lnTo>
                  <a:lnTo>
                    <a:pt x="1398" y="0"/>
                  </a:lnTo>
                  <a:lnTo>
                    <a:pt x="1398" y="4"/>
                  </a:lnTo>
                  <a:lnTo>
                    <a:pt x="1403" y="4"/>
                  </a:lnTo>
                  <a:lnTo>
                    <a:pt x="1412" y="4"/>
                  </a:lnTo>
                  <a:lnTo>
                    <a:pt x="1425" y="4"/>
                  </a:lnTo>
                  <a:lnTo>
                    <a:pt x="1438" y="4"/>
                  </a:lnTo>
                  <a:lnTo>
                    <a:pt x="1438" y="13"/>
                  </a:lnTo>
                  <a:lnTo>
                    <a:pt x="1438" y="22"/>
                  </a:lnTo>
                  <a:lnTo>
                    <a:pt x="1438" y="30"/>
                  </a:lnTo>
                  <a:lnTo>
                    <a:pt x="1438" y="39"/>
                  </a:lnTo>
                  <a:lnTo>
                    <a:pt x="1438" y="48"/>
                  </a:lnTo>
                  <a:lnTo>
                    <a:pt x="1438" y="57"/>
                  </a:lnTo>
                  <a:lnTo>
                    <a:pt x="1425" y="70"/>
                  </a:lnTo>
                  <a:lnTo>
                    <a:pt x="1412" y="92"/>
                  </a:lnTo>
                  <a:lnTo>
                    <a:pt x="1403" y="114"/>
                  </a:lnTo>
                  <a:lnTo>
                    <a:pt x="1398" y="127"/>
                  </a:lnTo>
                  <a:lnTo>
                    <a:pt x="1384" y="149"/>
                  </a:lnTo>
                  <a:lnTo>
                    <a:pt x="1380" y="163"/>
                  </a:lnTo>
                  <a:lnTo>
                    <a:pt x="1367" y="189"/>
                  </a:lnTo>
                  <a:lnTo>
                    <a:pt x="1353" y="211"/>
                  </a:lnTo>
                  <a:lnTo>
                    <a:pt x="1331" y="224"/>
                  </a:lnTo>
                  <a:lnTo>
                    <a:pt x="1318" y="238"/>
                  </a:lnTo>
                  <a:lnTo>
                    <a:pt x="1309" y="268"/>
                  </a:lnTo>
                  <a:lnTo>
                    <a:pt x="1300" y="282"/>
                  </a:lnTo>
                  <a:lnTo>
                    <a:pt x="1292" y="299"/>
                  </a:lnTo>
                  <a:lnTo>
                    <a:pt x="1283" y="317"/>
                  </a:lnTo>
                  <a:lnTo>
                    <a:pt x="1270" y="330"/>
                  </a:lnTo>
                  <a:lnTo>
                    <a:pt x="1261" y="358"/>
                  </a:lnTo>
                  <a:lnTo>
                    <a:pt x="1247" y="375"/>
                  </a:lnTo>
                  <a:lnTo>
                    <a:pt x="1247" y="389"/>
                  </a:lnTo>
                  <a:lnTo>
                    <a:pt x="1234" y="415"/>
                  </a:lnTo>
                  <a:lnTo>
                    <a:pt x="1225" y="433"/>
                  </a:lnTo>
                  <a:lnTo>
                    <a:pt x="1217" y="455"/>
                  </a:lnTo>
                  <a:lnTo>
                    <a:pt x="1217" y="472"/>
                  </a:lnTo>
                  <a:lnTo>
                    <a:pt x="1217" y="490"/>
                  </a:lnTo>
                  <a:lnTo>
                    <a:pt x="1203" y="512"/>
                  </a:lnTo>
                  <a:lnTo>
                    <a:pt x="1203" y="530"/>
                  </a:lnTo>
                  <a:lnTo>
                    <a:pt x="1203" y="552"/>
                  </a:lnTo>
                  <a:lnTo>
                    <a:pt x="1217" y="574"/>
                  </a:lnTo>
                  <a:lnTo>
                    <a:pt x="1217" y="591"/>
                  </a:lnTo>
                  <a:lnTo>
                    <a:pt x="1225" y="609"/>
                  </a:lnTo>
                  <a:lnTo>
                    <a:pt x="1234" y="622"/>
                  </a:lnTo>
                  <a:lnTo>
                    <a:pt x="1261" y="644"/>
                  </a:lnTo>
                  <a:lnTo>
                    <a:pt x="1283" y="658"/>
                  </a:lnTo>
                  <a:lnTo>
                    <a:pt x="1292" y="658"/>
                  </a:lnTo>
                  <a:lnTo>
                    <a:pt x="1300" y="658"/>
                  </a:lnTo>
                  <a:lnTo>
                    <a:pt x="1309" y="658"/>
                  </a:lnTo>
                  <a:lnTo>
                    <a:pt x="1309" y="653"/>
                  </a:lnTo>
                  <a:lnTo>
                    <a:pt x="1318" y="653"/>
                  </a:lnTo>
                  <a:lnTo>
                    <a:pt x="1318" y="644"/>
                  </a:lnTo>
                  <a:lnTo>
                    <a:pt x="1331" y="631"/>
                  </a:lnTo>
                  <a:lnTo>
                    <a:pt x="1331" y="622"/>
                  </a:lnTo>
                  <a:lnTo>
                    <a:pt x="1344" y="622"/>
                  </a:lnTo>
                  <a:lnTo>
                    <a:pt x="1344" y="618"/>
                  </a:lnTo>
                  <a:lnTo>
                    <a:pt x="1353" y="609"/>
                  </a:lnTo>
                  <a:lnTo>
                    <a:pt x="1367" y="600"/>
                  </a:lnTo>
                  <a:lnTo>
                    <a:pt x="1380" y="587"/>
                  </a:lnTo>
                  <a:lnTo>
                    <a:pt x="1398" y="565"/>
                  </a:lnTo>
                  <a:lnTo>
                    <a:pt x="1403" y="552"/>
                  </a:lnTo>
                  <a:lnTo>
                    <a:pt x="1425" y="525"/>
                  </a:lnTo>
                  <a:lnTo>
                    <a:pt x="1438" y="512"/>
                  </a:lnTo>
                  <a:lnTo>
                    <a:pt x="1460" y="490"/>
                  </a:lnTo>
                  <a:lnTo>
                    <a:pt x="1469" y="472"/>
                  </a:lnTo>
                  <a:lnTo>
                    <a:pt x="1491" y="464"/>
                  </a:lnTo>
                  <a:lnTo>
                    <a:pt x="1500" y="446"/>
                  </a:lnTo>
                  <a:lnTo>
                    <a:pt x="1522" y="433"/>
                  </a:lnTo>
                  <a:lnTo>
                    <a:pt x="1531" y="415"/>
                  </a:lnTo>
                  <a:lnTo>
                    <a:pt x="1553" y="397"/>
                  </a:lnTo>
                  <a:lnTo>
                    <a:pt x="1562" y="384"/>
                  </a:lnTo>
                  <a:lnTo>
                    <a:pt x="1588" y="367"/>
                  </a:lnTo>
                  <a:lnTo>
                    <a:pt x="1610" y="348"/>
                  </a:lnTo>
                  <a:lnTo>
                    <a:pt x="1623" y="339"/>
                  </a:lnTo>
                  <a:lnTo>
                    <a:pt x="1623" y="330"/>
                  </a:lnTo>
                  <a:lnTo>
                    <a:pt x="1637" y="330"/>
                  </a:lnTo>
                  <a:lnTo>
                    <a:pt x="1637" y="326"/>
                  </a:lnTo>
                  <a:lnTo>
                    <a:pt x="1650" y="326"/>
                  </a:lnTo>
                  <a:lnTo>
                    <a:pt x="1654" y="326"/>
                  </a:lnTo>
                  <a:lnTo>
                    <a:pt x="1667" y="330"/>
                  </a:lnTo>
                  <a:lnTo>
                    <a:pt x="1676" y="330"/>
                  </a:lnTo>
                  <a:lnTo>
                    <a:pt x="1676" y="339"/>
                  </a:lnTo>
                  <a:lnTo>
                    <a:pt x="1689" y="348"/>
                  </a:lnTo>
                  <a:lnTo>
                    <a:pt x="1689" y="358"/>
                  </a:lnTo>
                  <a:lnTo>
                    <a:pt x="1676" y="384"/>
                  </a:lnTo>
                  <a:lnTo>
                    <a:pt x="1667" y="397"/>
                  </a:lnTo>
                  <a:lnTo>
                    <a:pt x="1654" y="415"/>
                  </a:lnTo>
                  <a:lnTo>
                    <a:pt x="1637" y="433"/>
                  </a:lnTo>
                  <a:lnTo>
                    <a:pt x="1623" y="455"/>
                  </a:lnTo>
                  <a:lnTo>
                    <a:pt x="1623" y="472"/>
                  </a:lnTo>
                  <a:lnTo>
                    <a:pt x="1610" y="490"/>
                  </a:lnTo>
                  <a:lnTo>
                    <a:pt x="1588" y="503"/>
                  </a:lnTo>
                  <a:lnTo>
                    <a:pt x="1575" y="525"/>
                  </a:lnTo>
                  <a:lnTo>
                    <a:pt x="1562" y="552"/>
                  </a:lnTo>
                  <a:lnTo>
                    <a:pt x="1562" y="565"/>
                  </a:lnTo>
                  <a:lnTo>
                    <a:pt x="1553" y="587"/>
                  </a:lnTo>
                  <a:lnTo>
                    <a:pt x="1553" y="609"/>
                  </a:lnTo>
                  <a:lnTo>
                    <a:pt x="1553" y="622"/>
                  </a:lnTo>
                  <a:lnTo>
                    <a:pt x="1553" y="653"/>
                  </a:lnTo>
                  <a:lnTo>
                    <a:pt x="1562" y="666"/>
                  </a:lnTo>
                  <a:lnTo>
                    <a:pt x="1597" y="653"/>
                  </a:lnTo>
                  <a:lnTo>
                    <a:pt x="1623" y="631"/>
                  </a:lnTo>
                  <a:lnTo>
                    <a:pt x="1650" y="609"/>
                  </a:lnTo>
                  <a:lnTo>
                    <a:pt x="1676" y="587"/>
                  </a:lnTo>
                  <a:lnTo>
                    <a:pt x="1703" y="565"/>
                  </a:lnTo>
                  <a:lnTo>
                    <a:pt x="1734" y="543"/>
                  </a:lnTo>
                  <a:lnTo>
                    <a:pt x="1751" y="525"/>
                  </a:lnTo>
                  <a:lnTo>
                    <a:pt x="1782" y="499"/>
                  </a:lnTo>
                  <a:lnTo>
                    <a:pt x="1804" y="472"/>
                  </a:lnTo>
                  <a:lnTo>
                    <a:pt x="1839" y="455"/>
                  </a:lnTo>
                  <a:lnTo>
                    <a:pt x="1857" y="433"/>
                  </a:lnTo>
                  <a:lnTo>
                    <a:pt x="1888" y="406"/>
                  </a:lnTo>
                  <a:lnTo>
                    <a:pt x="1910" y="389"/>
                  </a:lnTo>
                  <a:lnTo>
                    <a:pt x="1945" y="375"/>
                  </a:lnTo>
                  <a:lnTo>
                    <a:pt x="1972" y="348"/>
                  </a:lnTo>
                  <a:lnTo>
                    <a:pt x="2007" y="330"/>
                  </a:lnTo>
                  <a:lnTo>
                    <a:pt x="2016" y="330"/>
                  </a:lnTo>
                  <a:lnTo>
                    <a:pt x="2025" y="326"/>
                  </a:lnTo>
                  <a:lnTo>
                    <a:pt x="2033" y="326"/>
                  </a:lnTo>
                  <a:lnTo>
                    <a:pt x="2047" y="326"/>
                  </a:lnTo>
                  <a:lnTo>
                    <a:pt x="2060" y="326"/>
                  </a:lnTo>
                  <a:lnTo>
                    <a:pt x="2060" y="330"/>
                  </a:lnTo>
                  <a:lnTo>
                    <a:pt x="2060" y="358"/>
                  </a:lnTo>
                  <a:lnTo>
                    <a:pt x="2047" y="375"/>
                  </a:lnTo>
                  <a:lnTo>
                    <a:pt x="2025" y="389"/>
                  </a:lnTo>
                  <a:lnTo>
                    <a:pt x="2016" y="406"/>
                  </a:lnTo>
                  <a:lnTo>
                    <a:pt x="1994" y="415"/>
                  </a:lnTo>
                  <a:lnTo>
                    <a:pt x="1980" y="433"/>
                  </a:lnTo>
                  <a:lnTo>
                    <a:pt x="1958" y="446"/>
                  </a:lnTo>
                  <a:lnTo>
                    <a:pt x="1945" y="464"/>
                  </a:lnTo>
                  <a:lnTo>
                    <a:pt x="1919" y="481"/>
                  </a:lnTo>
                  <a:lnTo>
                    <a:pt x="1910" y="499"/>
                  </a:lnTo>
                  <a:lnTo>
                    <a:pt x="1901" y="512"/>
                  </a:lnTo>
                  <a:lnTo>
                    <a:pt x="1888" y="530"/>
                  </a:lnTo>
                  <a:lnTo>
                    <a:pt x="1879" y="552"/>
                  </a:lnTo>
                  <a:lnTo>
                    <a:pt x="1879" y="565"/>
                  </a:lnTo>
                  <a:lnTo>
                    <a:pt x="1866" y="591"/>
                  </a:lnTo>
                  <a:lnTo>
                    <a:pt x="1879" y="609"/>
                  </a:lnTo>
                  <a:lnTo>
                    <a:pt x="1888" y="591"/>
                  </a:lnTo>
                  <a:lnTo>
                    <a:pt x="1910" y="574"/>
                  </a:lnTo>
                  <a:lnTo>
                    <a:pt x="1919" y="561"/>
                  </a:lnTo>
                  <a:lnTo>
                    <a:pt x="1945" y="543"/>
                  </a:lnTo>
                  <a:lnTo>
                    <a:pt x="1950" y="525"/>
                  </a:lnTo>
                  <a:lnTo>
                    <a:pt x="1972" y="503"/>
                  </a:lnTo>
                  <a:lnTo>
                    <a:pt x="1980" y="490"/>
                  </a:lnTo>
                  <a:lnTo>
                    <a:pt x="1994" y="464"/>
                  </a:lnTo>
                  <a:lnTo>
                    <a:pt x="2016" y="446"/>
                  </a:lnTo>
                  <a:lnTo>
                    <a:pt x="2025" y="433"/>
                  </a:lnTo>
                  <a:lnTo>
                    <a:pt x="2047" y="415"/>
                  </a:lnTo>
                  <a:lnTo>
                    <a:pt x="2060" y="389"/>
                  </a:lnTo>
                  <a:lnTo>
                    <a:pt x="2069" y="375"/>
                  </a:lnTo>
                  <a:lnTo>
                    <a:pt x="2077" y="358"/>
                  </a:lnTo>
                  <a:lnTo>
                    <a:pt x="2091" y="339"/>
                  </a:lnTo>
                  <a:lnTo>
                    <a:pt x="2108" y="326"/>
                  </a:lnTo>
                  <a:lnTo>
                    <a:pt x="2122" y="326"/>
                  </a:lnTo>
                  <a:lnTo>
                    <a:pt x="2130" y="326"/>
                  </a:lnTo>
                  <a:lnTo>
                    <a:pt x="2130" y="330"/>
                  </a:lnTo>
                  <a:lnTo>
                    <a:pt x="2144" y="375"/>
                  </a:lnTo>
                  <a:lnTo>
                    <a:pt x="2161" y="406"/>
                  </a:lnTo>
                  <a:lnTo>
                    <a:pt x="2179" y="441"/>
                  </a:lnTo>
                  <a:lnTo>
                    <a:pt x="2210" y="464"/>
                  </a:lnTo>
                  <a:lnTo>
                    <a:pt x="2258" y="499"/>
                  </a:lnTo>
                  <a:lnTo>
                    <a:pt x="2289" y="512"/>
                  </a:lnTo>
                  <a:lnTo>
                    <a:pt x="2333" y="543"/>
                  </a:lnTo>
                  <a:lnTo>
                    <a:pt x="2373" y="552"/>
                  </a:lnTo>
                  <a:lnTo>
                    <a:pt x="2421" y="565"/>
                  </a:lnTo>
                  <a:lnTo>
                    <a:pt x="2479" y="574"/>
                  </a:lnTo>
                  <a:lnTo>
                    <a:pt x="2514" y="587"/>
                  </a:lnTo>
                  <a:lnTo>
                    <a:pt x="2571" y="587"/>
                  </a:lnTo>
                  <a:lnTo>
                    <a:pt x="2629" y="591"/>
                  </a:lnTo>
                  <a:lnTo>
                    <a:pt x="2673" y="591"/>
                  </a:lnTo>
                  <a:lnTo>
                    <a:pt x="2717" y="591"/>
                  </a:lnTo>
                  <a:lnTo>
                    <a:pt x="2770" y="591"/>
                  </a:lnTo>
                  <a:lnTo>
                    <a:pt x="2779" y="591"/>
                  </a:lnTo>
                  <a:lnTo>
                    <a:pt x="2779" y="600"/>
                  </a:lnTo>
                  <a:lnTo>
                    <a:pt x="2792" y="609"/>
                  </a:lnTo>
                  <a:lnTo>
                    <a:pt x="2792" y="618"/>
                  </a:lnTo>
                  <a:lnTo>
                    <a:pt x="2739" y="622"/>
                  </a:lnTo>
                  <a:lnTo>
                    <a:pt x="2686" y="622"/>
                  </a:lnTo>
                  <a:lnTo>
                    <a:pt x="2646" y="631"/>
                  </a:lnTo>
                  <a:lnTo>
                    <a:pt x="2593" y="631"/>
                  </a:lnTo>
                  <a:lnTo>
                    <a:pt x="2549" y="622"/>
                  </a:lnTo>
                  <a:lnTo>
                    <a:pt x="2501" y="622"/>
                  </a:lnTo>
                  <a:lnTo>
                    <a:pt x="2452" y="609"/>
                  </a:lnTo>
                  <a:lnTo>
                    <a:pt x="2408" y="600"/>
                  </a:lnTo>
                  <a:lnTo>
                    <a:pt x="2360" y="587"/>
                  </a:lnTo>
                  <a:lnTo>
                    <a:pt x="2320" y="574"/>
                  </a:lnTo>
                  <a:lnTo>
                    <a:pt x="2276" y="552"/>
                  </a:lnTo>
                  <a:lnTo>
                    <a:pt x="2236" y="530"/>
                  </a:lnTo>
                  <a:lnTo>
                    <a:pt x="2201" y="503"/>
                  </a:lnTo>
                  <a:lnTo>
                    <a:pt x="2161" y="481"/>
                  </a:lnTo>
                  <a:lnTo>
                    <a:pt x="2130" y="446"/>
                  </a:lnTo>
                  <a:lnTo>
                    <a:pt x="2108" y="415"/>
                  </a:lnTo>
                  <a:lnTo>
                    <a:pt x="2091" y="433"/>
                  </a:lnTo>
                  <a:lnTo>
                    <a:pt x="2077" y="446"/>
                  </a:lnTo>
                  <a:lnTo>
                    <a:pt x="2069" y="464"/>
                  </a:lnTo>
                  <a:lnTo>
                    <a:pt x="2060" y="481"/>
                  </a:lnTo>
                  <a:lnTo>
                    <a:pt x="2047" y="499"/>
                  </a:lnTo>
                  <a:lnTo>
                    <a:pt x="2033" y="512"/>
                  </a:lnTo>
                  <a:lnTo>
                    <a:pt x="2025" y="543"/>
                  </a:lnTo>
                  <a:lnTo>
                    <a:pt x="2016" y="552"/>
                  </a:lnTo>
                  <a:lnTo>
                    <a:pt x="1994" y="565"/>
                  </a:lnTo>
                  <a:lnTo>
                    <a:pt x="1980" y="587"/>
                  </a:lnTo>
                  <a:lnTo>
                    <a:pt x="1972" y="600"/>
                  </a:lnTo>
                  <a:lnTo>
                    <a:pt x="1950" y="618"/>
                  </a:lnTo>
                  <a:lnTo>
                    <a:pt x="1945" y="631"/>
                  </a:lnTo>
                  <a:lnTo>
                    <a:pt x="1919" y="644"/>
                  </a:lnTo>
                  <a:lnTo>
                    <a:pt x="1910" y="653"/>
                  </a:lnTo>
                  <a:lnTo>
                    <a:pt x="1888" y="666"/>
                  </a:lnTo>
                  <a:lnTo>
                    <a:pt x="1866" y="666"/>
                  </a:lnTo>
                  <a:lnTo>
                    <a:pt x="1857" y="666"/>
                  </a:lnTo>
                  <a:lnTo>
                    <a:pt x="1848" y="666"/>
                  </a:lnTo>
                  <a:lnTo>
                    <a:pt x="1839" y="666"/>
                  </a:lnTo>
                  <a:lnTo>
                    <a:pt x="1839" y="658"/>
                  </a:lnTo>
                  <a:lnTo>
                    <a:pt x="1831" y="653"/>
                  </a:lnTo>
                  <a:lnTo>
                    <a:pt x="1831" y="644"/>
                  </a:lnTo>
                  <a:lnTo>
                    <a:pt x="1817" y="631"/>
                  </a:lnTo>
                  <a:lnTo>
                    <a:pt x="1817" y="622"/>
                  </a:lnTo>
                  <a:lnTo>
                    <a:pt x="1817" y="609"/>
                  </a:lnTo>
                  <a:lnTo>
                    <a:pt x="1817" y="600"/>
                  </a:lnTo>
                  <a:lnTo>
                    <a:pt x="1817" y="587"/>
                  </a:lnTo>
                  <a:lnTo>
                    <a:pt x="1817" y="574"/>
                  </a:lnTo>
                  <a:lnTo>
                    <a:pt x="1817" y="565"/>
                  </a:lnTo>
                  <a:lnTo>
                    <a:pt x="1804" y="561"/>
                  </a:lnTo>
                  <a:lnTo>
                    <a:pt x="1804" y="552"/>
                  </a:lnTo>
                  <a:lnTo>
                    <a:pt x="1782" y="561"/>
                  </a:lnTo>
                  <a:lnTo>
                    <a:pt x="1773" y="565"/>
                  </a:lnTo>
                  <a:lnTo>
                    <a:pt x="1764" y="587"/>
                  </a:lnTo>
                  <a:lnTo>
                    <a:pt x="1738" y="591"/>
                  </a:lnTo>
                  <a:lnTo>
                    <a:pt x="1734" y="609"/>
                  </a:lnTo>
                  <a:lnTo>
                    <a:pt x="1720" y="618"/>
                  </a:lnTo>
                  <a:lnTo>
                    <a:pt x="1707" y="631"/>
                  </a:lnTo>
                  <a:lnTo>
                    <a:pt x="1703" y="653"/>
                  </a:lnTo>
                  <a:lnTo>
                    <a:pt x="1676" y="658"/>
                  </a:lnTo>
                  <a:lnTo>
                    <a:pt x="1667" y="666"/>
                  </a:lnTo>
                  <a:lnTo>
                    <a:pt x="1650" y="675"/>
                  </a:lnTo>
                  <a:lnTo>
                    <a:pt x="1637" y="680"/>
                  </a:lnTo>
                  <a:lnTo>
                    <a:pt x="1623" y="693"/>
                  </a:lnTo>
                  <a:lnTo>
                    <a:pt x="1597" y="702"/>
                  </a:lnTo>
                  <a:lnTo>
                    <a:pt x="1575" y="702"/>
                  </a:lnTo>
                  <a:lnTo>
                    <a:pt x="1553" y="702"/>
                  </a:lnTo>
                  <a:lnTo>
                    <a:pt x="1544" y="702"/>
                  </a:lnTo>
                  <a:lnTo>
                    <a:pt x="1531" y="693"/>
                  </a:lnTo>
                  <a:lnTo>
                    <a:pt x="1522" y="693"/>
                  </a:lnTo>
                  <a:lnTo>
                    <a:pt x="1522" y="680"/>
                  </a:lnTo>
                  <a:lnTo>
                    <a:pt x="1509" y="680"/>
                  </a:lnTo>
                  <a:lnTo>
                    <a:pt x="1509" y="675"/>
                  </a:lnTo>
                  <a:lnTo>
                    <a:pt x="1500" y="666"/>
                  </a:lnTo>
                  <a:lnTo>
                    <a:pt x="1500" y="658"/>
                  </a:lnTo>
                  <a:lnTo>
                    <a:pt x="1491" y="653"/>
                  </a:lnTo>
                  <a:lnTo>
                    <a:pt x="1491" y="631"/>
                  </a:lnTo>
                  <a:lnTo>
                    <a:pt x="1491" y="622"/>
                  </a:lnTo>
                  <a:lnTo>
                    <a:pt x="1491" y="618"/>
                  </a:lnTo>
                  <a:lnTo>
                    <a:pt x="1491" y="609"/>
                  </a:lnTo>
                  <a:lnTo>
                    <a:pt x="1491" y="600"/>
                  </a:lnTo>
                  <a:lnTo>
                    <a:pt x="1491" y="591"/>
                  </a:lnTo>
                  <a:lnTo>
                    <a:pt x="1491" y="587"/>
                  </a:lnTo>
                  <a:lnTo>
                    <a:pt x="1491" y="574"/>
                  </a:lnTo>
                  <a:lnTo>
                    <a:pt x="1491" y="565"/>
                  </a:lnTo>
                  <a:lnTo>
                    <a:pt x="1491" y="561"/>
                  </a:lnTo>
                  <a:lnTo>
                    <a:pt x="1491" y="552"/>
                  </a:lnTo>
                  <a:lnTo>
                    <a:pt x="1491" y="543"/>
                  </a:lnTo>
                  <a:lnTo>
                    <a:pt x="1478" y="552"/>
                  </a:lnTo>
                  <a:lnTo>
                    <a:pt x="1469" y="561"/>
                  </a:lnTo>
                  <a:lnTo>
                    <a:pt x="1460" y="565"/>
                  </a:lnTo>
                  <a:lnTo>
                    <a:pt x="1460" y="587"/>
                  </a:lnTo>
                  <a:lnTo>
                    <a:pt x="1447" y="591"/>
                  </a:lnTo>
                  <a:lnTo>
                    <a:pt x="1438" y="600"/>
                  </a:lnTo>
                  <a:lnTo>
                    <a:pt x="1425" y="618"/>
                  </a:lnTo>
                  <a:lnTo>
                    <a:pt x="1412" y="622"/>
                  </a:lnTo>
                  <a:lnTo>
                    <a:pt x="1403" y="631"/>
                  </a:lnTo>
                  <a:lnTo>
                    <a:pt x="1398" y="653"/>
                  </a:lnTo>
                  <a:lnTo>
                    <a:pt x="1384" y="658"/>
                  </a:lnTo>
                  <a:lnTo>
                    <a:pt x="1380" y="666"/>
                  </a:lnTo>
                  <a:lnTo>
                    <a:pt x="1367" y="666"/>
                  </a:lnTo>
                  <a:lnTo>
                    <a:pt x="1353" y="675"/>
                  </a:lnTo>
                  <a:lnTo>
                    <a:pt x="1331" y="680"/>
                  </a:lnTo>
                  <a:lnTo>
                    <a:pt x="1318" y="693"/>
                  </a:lnTo>
                  <a:lnTo>
                    <a:pt x="1292" y="693"/>
                  </a:lnTo>
                  <a:lnTo>
                    <a:pt x="1283" y="693"/>
                  </a:lnTo>
                  <a:lnTo>
                    <a:pt x="1261" y="693"/>
                  </a:lnTo>
                  <a:lnTo>
                    <a:pt x="1234" y="680"/>
                  </a:lnTo>
                  <a:lnTo>
                    <a:pt x="1225" y="675"/>
                  </a:lnTo>
                  <a:lnTo>
                    <a:pt x="1217" y="666"/>
                  </a:lnTo>
                  <a:lnTo>
                    <a:pt x="1203" y="653"/>
                  </a:lnTo>
                  <a:lnTo>
                    <a:pt x="1181" y="631"/>
                  </a:lnTo>
                  <a:lnTo>
                    <a:pt x="1181" y="618"/>
                  </a:lnTo>
                  <a:lnTo>
                    <a:pt x="1172" y="600"/>
                  </a:lnTo>
                  <a:lnTo>
                    <a:pt x="1172" y="587"/>
                  </a:lnTo>
                  <a:lnTo>
                    <a:pt x="1164" y="565"/>
                  </a:lnTo>
                  <a:lnTo>
                    <a:pt x="1164" y="552"/>
                  </a:lnTo>
                  <a:lnTo>
                    <a:pt x="1150" y="525"/>
                  </a:lnTo>
                  <a:lnTo>
                    <a:pt x="1150" y="512"/>
                  </a:lnTo>
                  <a:lnTo>
                    <a:pt x="1150" y="499"/>
                  </a:lnTo>
                  <a:lnTo>
                    <a:pt x="1142" y="503"/>
                  </a:lnTo>
                  <a:lnTo>
                    <a:pt x="1142" y="512"/>
                  </a:lnTo>
                  <a:lnTo>
                    <a:pt x="1137" y="525"/>
                  </a:lnTo>
                  <a:lnTo>
                    <a:pt x="1124" y="543"/>
                  </a:lnTo>
                  <a:lnTo>
                    <a:pt x="1115" y="552"/>
                  </a:lnTo>
                  <a:lnTo>
                    <a:pt x="1115" y="561"/>
                  </a:lnTo>
                  <a:lnTo>
                    <a:pt x="1102" y="565"/>
                  </a:lnTo>
                  <a:lnTo>
                    <a:pt x="1089" y="574"/>
                  </a:lnTo>
                  <a:lnTo>
                    <a:pt x="1080" y="587"/>
                  </a:lnTo>
                  <a:lnTo>
                    <a:pt x="1080" y="600"/>
                  </a:lnTo>
                  <a:lnTo>
                    <a:pt x="1067" y="609"/>
                  </a:lnTo>
                  <a:lnTo>
                    <a:pt x="1062" y="618"/>
                  </a:lnTo>
                  <a:lnTo>
                    <a:pt x="1053" y="622"/>
                  </a:lnTo>
                  <a:lnTo>
                    <a:pt x="1040" y="644"/>
                  </a:lnTo>
                  <a:lnTo>
                    <a:pt x="1040" y="653"/>
                  </a:lnTo>
                  <a:lnTo>
                    <a:pt x="1027" y="658"/>
                  </a:lnTo>
                  <a:lnTo>
                    <a:pt x="1018" y="658"/>
                  </a:lnTo>
                  <a:lnTo>
                    <a:pt x="1018" y="666"/>
                  </a:lnTo>
                  <a:lnTo>
                    <a:pt x="1018" y="675"/>
                  </a:lnTo>
                  <a:lnTo>
                    <a:pt x="1005" y="675"/>
                  </a:lnTo>
                  <a:lnTo>
                    <a:pt x="1005" y="680"/>
                  </a:lnTo>
                  <a:lnTo>
                    <a:pt x="992" y="680"/>
                  </a:lnTo>
                  <a:lnTo>
                    <a:pt x="992" y="693"/>
                  </a:lnTo>
                  <a:lnTo>
                    <a:pt x="983" y="693"/>
                  </a:lnTo>
                  <a:lnTo>
                    <a:pt x="974" y="693"/>
                  </a:lnTo>
                  <a:lnTo>
                    <a:pt x="961" y="693"/>
                  </a:lnTo>
                  <a:lnTo>
                    <a:pt x="952" y="693"/>
                  </a:lnTo>
                  <a:lnTo>
                    <a:pt x="943" y="693"/>
                  </a:lnTo>
                  <a:lnTo>
                    <a:pt x="943" y="680"/>
                  </a:lnTo>
                  <a:lnTo>
                    <a:pt x="934" y="680"/>
                  </a:lnTo>
                  <a:lnTo>
                    <a:pt x="934" y="675"/>
                  </a:lnTo>
                  <a:lnTo>
                    <a:pt x="921" y="666"/>
                  </a:lnTo>
                  <a:lnTo>
                    <a:pt x="908" y="658"/>
                  </a:lnTo>
                  <a:lnTo>
                    <a:pt x="908" y="653"/>
                  </a:lnTo>
                  <a:lnTo>
                    <a:pt x="908" y="644"/>
                  </a:lnTo>
                  <a:lnTo>
                    <a:pt x="908" y="631"/>
                  </a:lnTo>
                  <a:lnTo>
                    <a:pt x="899" y="631"/>
                  </a:lnTo>
                  <a:lnTo>
                    <a:pt x="899" y="622"/>
                  </a:lnTo>
                  <a:lnTo>
                    <a:pt x="899" y="618"/>
                  </a:lnTo>
                  <a:lnTo>
                    <a:pt x="899" y="609"/>
                  </a:lnTo>
                  <a:lnTo>
                    <a:pt x="890" y="618"/>
                  </a:lnTo>
                  <a:lnTo>
                    <a:pt x="890" y="622"/>
                  </a:lnTo>
                  <a:lnTo>
                    <a:pt x="881" y="631"/>
                  </a:lnTo>
                  <a:lnTo>
                    <a:pt x="873" y="644"/>
                  </a:lnTo>
                  <a:lnTo>
                    <a:pt x="873" y="653"/>
                  </a:lnTo>
                  <a:lnTo>
                    <a:pt x="859" y="658"/>
                  </a:lnTo>
                  <a:lnTo>
                    <a:pt x="859" y="666"/>
                  </a:lnTo>
                  <a:lnTo>
                    <a:pt x="846" y="666"/>
                  </a:lnTo>
                  <a:lnTo>
                    <a:pt x="837" y="675"/>
                  </a:lnTo>
                  <a:lnTo>
                    <a:pt x="837" y="680"/>
                  </a:lnTo>
                  <a:lnTo>
                    <a:pt x="829" y="693"/>
                  </a:lnTo>
                  <a:lnTo>
                    <a:pt x="820" y="693"/>
                  </a:lnTo>
                  <a:lnTo>
                    <a:pt x="811" y="693"/>
                  </a:lnTo>
                  <a:lnTo>
                    <a:pt x="798" y="702"/>
                  </a:lnTo>
                  <a:lnTo>
                    <a:pt x="784" y="702"/>
                  </a:lnTo>
                  <a:lnTo>
                    <a:pt x="776" y="702"/>
                  </a:lnTo>
                  <a:lnTo>
                    <a:pt x="754" y="702"/>
                  </a:lnTo>
                  <a:lnTo>
                    <a:pt x="732" y="693"/>
                  </a:lnTo>
                  <a:lnTo>
                    <a:pt x="727" y="680"/>
                  </a:lnTo>
                  <a:lnTo>
                    <a:pt x="714" y="680"/>
                  </a:lnTo>
                  <a:lnTo>
                    <a:pt x="701" y="666"/>
                  </a:lnTo>
                  <a:lnTo>
                    <a:pt x="692" y="658"/>
                  </a:lnTo>
                  <a:lnTo>
                    <a:pt x="692" y="653"/>
                  </a:lnTo>
                  <a:lnTo>
                    <a:pt x="679" y="644"/>
                  </a:lnTo>
                  <a:lnTo>
                    <a:pt x="665" y="622"/>
                  </a:lnTo>
                  <a:lnTo>
                    <a:pt x="665" y="618"/>
                  </a:lnTo>
                  <a:lnTo>
                    <a:pt x="665" y="600"/>
                  </a:lnTo>
                  <a:lnTo>
                    <a:pt x="665" y="587"/>
                  </a:lnTo>
                  <a:lnTo>
                    <a:pt x="657" y="574"/>
                  </a:lnTo>
                  <a:lnTo>
                    <a:pt x="657" y="565"/>
                  </a:lnTo>
                  <a:lnTo>
                    <a:pt x="657" y="552"/>
                  </a:lnTo>
                  <a:lnTo>
                    <a:pt x="648" y="543"/>
                  </a:lnTo>
                  <a:lnTo>
                    <a:pt x="648" y="552"/>
                  </a:lnTo>
                  <a:lnTo>
                    <a:pt x="635" y="561"/>
                  </a:lnTo>
                  <a:lnTo>
                    <a:pt x="630" y="565"/>
                  </a:lnTo>
                  <a:lnTo>
                    <a:pt x="630" y="574"/>
                  </a:lnTo>
                  <a:lnTo>
                    <a:pt x="630" y="587"/>
                  </a:lnTo>
                  <a:lnTo>
                    <a:pt x="617" y="600"/>
                  </a:lnTo>
                  <a:lnTo>
                    <a:pt x="617" y="609"/>
                  </a:lnTo>
                  <a:lnTo>
                    <a:pt x="617" y="618"/>
                  </a:lnTo>
                  <a:lnTo>
                    <a:pt x="612" y="631"/>
                  </a:lnTo>
                  <a:lnTo>
                    <a:pt x="599" y="644"/>
                  </a:lnTo>
                  <a:lnTo>
                    <a:pt x="599" y="653"/>
                  </a:lnTo>
                  <a:lnTo>
                    <a:pt x="586" y="658"/>
                  </a:lnTo>
                  <a:lnTo>
                    <a:pt x="586" y="666"/>
                  </a:lnTo>
                  <a:lnTo>
                    <a:pt x="582" y="675"/>
                  </a:lnTo>
                  <a:lnTo>
                    <a:pt x="568" y="680"/>
                  </a:lnTo>
                  <a:lnTo>
                    <a:pt x="555" y="693"/>
                  </a:lnTo>
                  <a:lnTo>
                    <a:pt x="546" y="693"/>
                  </a:lnTo>
                  <a:lnTo>
                    <a:pt x="533" y="693"/>
                  </a:lnTo>
                  <a:lnTo>
                    <a:pt x="520" y="693"/>
                  </a:lnTo>
                  <a:lnTo>
                    <a:pt x="511" y="693"/>
                  </a:lnTo>
                  <a:lnTo>
                    <a:pt x="502" y="680"/>
                  </a:lnTo>
                  <a:lnTo>
                    <a:pt x="493" y="675"/>
                  </a:lnTo>
                  <a:lnTo>
                    <a:pt x="493" y="666"/>
                  </a:lnTo>
                  <a:lnTo>
                    <a:pt x="493" y="658"/>
                  </a:lnTo>
                  <a:lnTo>
                    <a:pt x="485" y="631"/>
                  </a:lnTo>
                  <a:lnTo>
                    <a:pt x="485" y="618"/>
                  </a:lnTo>
                  <a:lnTo>
                    <a:pt x="485" y="600"/>
                  </a:lnTo>
                  <a:lnTo>
                    <a:pt x="493" y="587"/>
                  </a:lnTo>
                  <a:lnTo>
                    <a:pt x="493" y="565"/>
                  </a:lnTo>
                  <a:lnTo>
                    <a:pt x="502" y="552"/>
                  </a:lnTo>
                  <a:lnTo>
                    <a:pt x="511" y="530"/>
                  </a:lnTo>
                  <a:lnTo>
                    <a:pt x="511" y="512"/>
                  </a:lnTo>
                  <a:lnTo>
                    <a:pt x="520" y="499"/>
                  </a:lnTo>
                  <a:lnTo>
                    <a:pt x="533" y="481"/>
                  </a:lnTo>
                  <a:lnTo>
                    <a:pt x="546" y="464"/>
                  </a:lnTo>
                  <a:lnTo>
                    <a:pt x="546" y="446"/>
                  </a:lnTo>
                  <a:lnTo>
                    <a:pt x="555" y="433"/>
                  </a:lnTo>
                  <a:lnTo>
                    <a:pt x="555" y="415"/>
                  </a:lnTo>
                  <a:lnTo>
                    <a:pt x="555" y="389"/>
                  </a:lnTo>
                  <a:lnTo>
                    <a:pt x="555" y="384"/>
                  </a:lnTo>
                  <a:lnTo>
                    <a:pt x="546" y="389"/>
                  </a:lnTo>
                  <a:lnTo>
                    <a:pt x="520" y="406"/>
                  </a:lnTo>
                  <a:lnTo>
                    <a:pt x="511" y="415"/>
                  </a:lnTo>
                  <a:lnTo>
                    <a:pt x="502" y="433"/>
                  </a:lnTo>
                  <a:lnTo>
                    <a:pt x="493" y="446"/>
                  </a:lnTo>
                  <a:lnTo>
                    <a:pt x="485" y="464"/>
                  </a:lnTo>
                  <a:lnTo>
                    <a:pt x="458" y="481"/>
                  </a:lnTo>
                  <a:lnTo>
                    <a:pt x="449" y="499"/>
                  </a:lnTo>
                  <a:lnTo>
                    <a:pt x="449" y="512"/>
                  </a:lnTo>
                  <a:lnTo>
                    <a:pt x="436" y="530"/>
                  </a:lnTo>
                  <a:lnTo>
                    <a:pt x="427" y="552"/>
                  </a:lnTo>
                  <a:lnTo>
                    <a:pt x="418" y="565"/>
                  </a:lnTo>
                  <a:lnTo>
                    <a:pt x="405" y="587"/>
                  </a:lnTo>
                  <a:lnTo>
                    <a:pt x="405" y="600"/>
                  </a:lnTo>
                  <a:lnTo>
                    <a:pt x="396" y="618"/>
                  </a:lnTo>
                  <a:lnTo>
                    <a:pt x="388" y="631"/>
                  </a:lnTo>
                  <a:lnTo>
                    <a:pt x="388" y="644"/>
                  </a:lnTo>
                  <a:lnTo>
                    <a:pt x="379" y="653"/>
                  </a:lnTo>
                  <a:lnTo>
                    <a:pt x="379" y="658"/>
                  </a:lnTo>
                  <a:lnTo>
                    <a:pt x="379" y="666"/>
                  </a:lnTo>
                  <a:lnTo>
                    <a:pt x="370" y="666"/>
                  </a:lnTo>
                  <a:lnTo>
                    <a:pt x="370" y="675"/>
                  </a:lnTo>
                  <a:lnTo>
                    <a:pt x="370" y="680"/>
                  </a:lnTo>
                  <a:lnTo>
                    <a:pt x="357" y="693"/>
                  </a:lnTo>
                  <a:lnTo>
                    <a:pt x="357" y="702"/>
                  </a:lnTo>
                  <a:lnTo>
                    <a:pt x="343" y="702"/>
                  </a:lnTo>
                  <a:lnTo>
                    <a:pt x="343" y="710"/>
                  </a:lnTo>
                  <a:lnTo>
                    <a:pt x="339" y="710"/>
                  </a:lnTo>
                  <a:lnTo>
                    <a:pt x="339" y="715"/>
                  </a:lnTo>
                  <a:lnTo>
                    <a:pt x="326" y="715"/>
                  </a:lnTo>
                  <a:lnTo>
                    <a:pt x="304" y="715"/>
                  </a:lnTo>
                  <a:lnTo>
                    <a:pt x="277" y="715"/>
                  </a:lnTo>
                  <a:lnTo>
                    <a:pt x="273" y="715"/>
                  </a:lnTo>
                  <a:lnTo>
                    <a:pt x="255" y="710"/>
                  </a:lnTo>
                  <a:lnTo>
                    <a:pt x="255" y="693"/>
                  </a:lnTo>
                  <a:lnTo>
                    <a:pt x="242" y="680"/>
                  </a:lnTo>
                  <a:lnTo>
                    <a:pt x="242" y="675"/>
                  </a:lnTo>
                  <a:lnTo>
                    <a:pt x="242" y="658"/>
                  </a:lnTo>
                  <a:lnTo>
                    <a:pt x="229" y="644"/>
                  </a:lnTo>
                  <a:lnTo>
                    <a:pt x="229" y="622"/>
                  </a:lnTo>
                  <a:lnTo>
                    <a:pt x="229" y="609"/>
                  </a:lnTo>
                  <a:lnTo>
                    <a:pt x="229" y="591"/>
                  </a:lnTo>
                  <a:lnTo>
                    <a:pt x="229" y="574"/>
                  </a:lnTo>
                  <a:lnTo>
                    <a:pt x="229" y="565"/>
                  </a:lnTo>
                  <a:lnTo>
                    <a:pt x="229" y="552"/>
                  </a:lnTo>
                  <a:lnTo>
                    <a:pt x="229" y="543"/>
                  </a:lnTo>
                  <a:lnTo>
                    <a:pt x="220" y="552"/>
                  </a:lnTo>
                  <a:lnTo>
                    <a:pt x="207" y="565"/>
                  </a:lnTo>
                  <a:lnTo>
                    <a:pt x="194" y="587"/>
                  </a:lnTo>
                  <a:lnTo>
                    <a:pt x="194" y="600"/>
                  </a:lnTo>
                  <a:lnTo>
                    <a:pt x="176" y="609"/>
                  </a:lnTo>
                  <a:lnTo>
                    <a:pt x="167" y="631"/>
                  </a:lnTo>
                  <a:lnTo>
                    <a:pt x="158" y="653"/>
                  </a:lnTo>
                  <a:lnTo>
                    <a:pt x="145" y="658"/>
                  </a:lnTo>
                  <a:lnTo>
                    <a:pt x="132" y="675"/>
                  </a:lnTo>
                  <a:lnTo>
                    <a:pt x="114" y="680"/>
                  </a:lnTo>
                  <a:lnTo>
                    <a:pt x="101" y="693"/>
                  </a:lnTo>
                  <a:lnTo>
                    <a:pt x="97" y="702"/>
                  </a:lnTo>
                  <a:lnTo>
                    <a:pt x="74" y="710"/>
                  </a:lnTo>
                  <a:lnTo>
                    <a:pt x="61" y="702"/>
                  </a:lnTo>
                  <a:lnTo>
                    <a:pt x="44" y="702"/>
                  </a:lnTo>
                  <a:lnTo>
                    <a:pt x="22" y="693"/>
                  </a:lnTo>
                  <a:lnTo>
                    <a:pt x="13" y="680"/>
                  </a:lnTo>
                  <a:lnTo>
                    <a:pt x="13" y="675"/>
                  </a:lnTo>
                  <a:lnTo>
                    <a:pt x="0" y="666"/>
                  </a:lnTo>
                  <a:lnTo>
                    <a:pt x="0" y="658"/>
                  </a:lnTo>
                  <a:lnTo>
                    <a:pt x="0" y="653"/>
                  </a:lnTo>
                  <a:lnTo>
                    <a:pt x="0" y="644"/>
                  </a:lnTo>
                  <a:lnTo>
                    <a:pt x="0" y="631"/>
                  </a:lnTo>
                  <a:lnTo>
                    <a:pt x="13" y="622"/>
                  </a:lnTo>
                  <a:lnTo>
                    <a:pt x="13" y="618"/>
                  </a:lnTo>
                  <a:lnTo>
                    <a:pt x="22" y="609"/>
                  </a:lnTo>
                  <a:lnTo>
                    <a:pt x="30" y="600"/>
                  </a:lnTo>
                  <a:lnTo>
                    <a:pt x="30" y="587"/>
                  </a:lnTo>
                  <a:lnTo>
                    <a:pt x="44" y="574"/>
                  </a:lnTo>
                  <a:lnTo>
                    <a:pt x="44" y="565"/>
                  </a:lnTo>
                  <a:lnTo>
                    <a:pt x="52" y="561"/>
                  </a:lnTo>
                  <a:lnTo>
                    <a:pt x="61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57840" y="2732040"/>
              <a:ext cx="47880" cy="73440"/>
            </a:xfrm>
            <a:custGeom>
              <a:avLst/>
              <a:gdLst/>
              <a:ahLst/>
              <a:rect l="0" t="0" r="r" b="b"/>
              <a:pathLst>
                <a:path w="133" h="204">
                  <a:moveTo>
                    <a:pt x="35" y="137"/>
                  </a:moveTo>
                  <a:lnTo>
                    <a:pt x="30" y="142"/>
                  </a:lnTo>
                  <a:lnTo>
                    <a:pt x="30" y="150"/>
                  </a:lnTo>
                  <a:lnTo>
                    <a:pt x="26" y="156"/>
                  </a:lnTo>
                  <a:lnTo>
                    <a:pt x="13" y="156"/>
                  </a:lnTo>
                  <a:lnTo>
                    <a:pt x="13" y="165"/>
                  </a:lnTo>
                  <a:lnTo>
                    <a:pt x="8" y="169"/>
                  </a:lnTo>
                  <a:lnTo>
                    <a:pt x="8" y="178"/>
                  </a:lnTo>
                  <a:lnTo>
                    <a:pt x="8" y="182"/>
                  </a:lnTo>
                  <a:lnTo>
                    <a:pt x="0" y="182"/>
                  </a:lnTo>
                  <a:lnTo>
                    <a:pt x="0" y="191"/>
                  </a:lnTo>
                  <a:lnTo>
                    <a:pt x="8" y="196"/>
                  </a:lnTo>
                  <a:lnTo>
                    <a:pt x="8" y="204"/>
                  </a:lnTo>
                  <a:lnTo>
                    <a:pt x="13" y="204"/>
                  </a:lnTo>
                  <a:lnTo>
                    <a:pt x="13" y="196"/>
                  </a:lnTo>
                  <a:lnTo>
                    <a:pt x="26" y="191"/>
                  </a:lnTo>
                  <a:lnTo>
                    <a:pt x="30" y="182"/>
                  </a:lnTo>
                  <a:lnTo>
                    <a:pt x="30" y="178"/>
                  </a:lnTo>
                  <a:lnTo>
                    <a:pt x="35" y="178"/>
                  </a:lnTo>
                  <a:lnTo>
                    <a:pt x="35" y="169"/>
                  </a:lnTo>
                  <a:lnTo>
                    <a:pt x="39" y="165"/>
                  </a:lnTo>
                  <a:lnTo>
                    <a:pt x="39" y="156"/>
                  </a:lnTo>
                  <a:lnTo>
                    <a:pt x="44" y="156"/>
                  </a:lnTo>
                  <a:lnTo>
                    <a:pt x="44" y="150"/>
                  </a:lnTo>
                  <a:lnTo>
                    <a:pt x="57" y="150"/>
                  </a:lnTo>
                  <a:lnTo>
                    <a:pt x="57" y="142"/>
                  </a:lnTo>
                  <a:lnTo>
                    <a:pt x="61" y="137"/>
                  </a:lnTo>
                  <a:lnTo>
                    <a:pt x="61" y="128"/>
                  </a:lnTo>
                  <a:lnTo>
                    <a:pt x="61" y="124"/>
                  </a:lnTo>
                  <a:lnTo>
                    <a:pt x="71" y="124"/>
                  </a:lnTo>
                  <a:lnTo>
                    <a:pt x="71" y="111"/>
                  </a:lnTo>
                  <a:lnTo>
                    <a:pt x="75" y="98"/>
                  </a:lnTo>
                  <a:lnTo>
                    <a:pt x="89" y="93"/>
                  </a:lnTo>
                  <a:lnTo>
                    <a:pt x="93" y="89"/>
                  </a:lnTo>
                  <a:lnTo>
                    <a:pt x="102" y="75"/>
                  </a:lnTo>
                  <a:lnTo>
                    <a:pt x="102" y="67"/>
                  </a:lnTo>
                  <a:lnTo>
                    <a:pt x="106" y="62"/>
                  </a:lnTo>
                  <a:lnTo>
                    <a:pt x="120" y="48"/>
                  </a:lnTo>
                  <a:lnTo>
                    <a:pt x="120" y="39"/>
                  </a:lnTo>
                  <a:lnTo>
                    <a:pt x="124" y="35"/>
                  </a:lnTo>
                  <a:lnTo>
                    <a:pt x="124" y="22"/>
                  </a:lnTo>
                  <a:lnTo>
                    <a:pt x="133" y="13"/>
                  </a:lnTo>
                  <a:lnTo>
                    <a:pt x="133" y="8"/>
                  </a:lnTo>
                  <a:lnTo>
                    <a:pt x="133" y="0"/>
                  </a:lnTo>
                  <a:lnTo>
                    <a:pt x="124" y="8"/>
                  </a:lnTo>
                  <a:lnTo>
                    <a:pt x="120" y="13"/>
                  </a:lnTo>
                  <a:lnTo>
                    <a:pt x="106" y="22"/>
                  </a:lnTo>
                  <a:lnTo>
                    <a:pt x="102" y="26"/>
                  </a:lnTo>
                  <a:lnTo>
                    <a:pt x="102" y="35"/>
                  </a:lnTo>
                  <a:lnTo>
                    <a:pt x="93" y="48"/>
                  </a:lnTo>
                  <a:lnTo>
                    <a:pt x="89" y="53"/>
                  </a:lnTo>
                  <a:lnTo>
                    <a:pt x="75" y="67"/>
                  </a:lnTo>
                  <a:lnTo>
                    <a:pt x="71" y="75"/>
                  </a:lnTo>
                  <a:lnTo>
                    <a:pt x="61" y="89"/>
                  </a:lnTo>
                  <a:lnTo>
                    <a:pt x="57" y="93"/>
                  </a:lnTo>
                  <a:lnTo>
                    <a:pt x="44" y="111"/>
                  </a:lnTo>
                  <a:lnTo>
                    <a:pt x="39" y="115"/>
                  </a:lnTo>
                  <a:lnTo>
                    <a:pt x="35" y="124"/>
                  </a:lnTo>
                  <a:lnTo>
                    <a:pt x="35" y="128"/>
                  </a:lnTo>
                  <a:lnTo>
                    <a:pt x="35" y="137"/>
                  </a:lnTo>
                  <a:close/>
                </a:path>
              </a:pathLst>
            </a:custGeom>
            <a:solidFill>
              <a:srgbClr val="ffe08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1303200" y="947880"/>
              <a:ext cx="264312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hicago, Illino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5389560" y="947880"/>
              <a:ext cx="235260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ugust 31, 20xx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1270080" y="1427040"/>
              <a:ext cx="162864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ixty day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2678040" y="1770120"/>
              <a:ext cx="104940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5,000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99040" y="1301760"/>
              <a:ext cx="3186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40120" y="2840040"/>
              <a:ext cx="444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77840" y="3557520"/>
              <a:ext cx="7477560" cy="2696040"/>
            </a:xfrm>
            <a:custGeom>
              <a:avLst/>
              <a:gdLst/>
              <a:ahLst/>
              <a:rect l="0" t="0" r="r" b="b"/>
              <a:pathLst>
                <a:path w="20771" h="7489">
                  <a:moveTo>
                    <a:pt x="20771" y="7489"/>
                  </a:moveTo>
                  <a:lnTo>
                    <a:pt x="20771" y="0"/>
                  </a:lnTo>
                  <a:lnTo>
                    <a:pt x="0" y="0"/>
                  </a:lnTo>
                  <a:lnTo>
                    <a:pt x="0" y="7489"/>
                  </a:lnTo>
                  <a:lnTo>
                    <a:pt x="20771" y="748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40120" y="5699160"/>
              <a:ext cx="444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3094200" y="3621240"/>
              <a:ext cx="34020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E 2: INTEREST IN FACE AMOU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79520" y="4978440"/>
              <a:ext cx="145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2873520" y="4702320"/>
              <a:ext cx="372276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ter date I promise to pay First Federal Ban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57520" y="5315040"/>
              <a:ext cx="896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251000" y="5038560"/>
              <a:ext cx="101592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um of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29240" y="5400720"/>
              <a:ext cx="895680" cy="313200"/>
            </a:xfrm>
            <a:custGeom>
              <a:avLst/>
              <a:gdLst/>
              <a:ahLst/>
              <a:rect l="0" t="0" r="r" b="b"/>
              <a:pathLst>
                <a:path w="2488" h="870">
                  <a:moveTo>
                    <a:pt x="515" y="70"/>
                  </a:moveTo>
                  <a:lnTo>
                    <a:pt x="507" y="66"/>
                  </a:lnTo>
                  <a:lnTo>
                    <a:pt x="507" y="57"/>
                  </a:lnTo>
                  <a:lnTo>
                    <a:pt x="507" y="48"/>
                  </a:lnTo>
                  <a:lnTo>
                    <a:pt x="493" y="48"/>
                  </a:lnTo>
                  <a:lnTo>
                    <a:pt x="463" y="66"/>
                  </a:lnTo>
                  <a:lnTo>
                    <a:pt x="432" y="83"/>
                  </a:lnTo>
                  <a:lnTo>
                    <a:pt x="396" y="105"/>
                  </a:lnTo>
                  <a:lnTo>
                    <a:pt x="370" y="123"/>
                  </a:lnTo>
                  <a:lnTo>
                    <a:pt x="348" y="154"/>
                  </a:lnTo>
                  <a:lnTo>
                    <a:pt x="321" y="176"/>
                  </a:lnTo>
                  <a:lnTo>
                    <a:pt x="299" y="202"/>
                  </a:lnTo>
                  <a:lnTo>
                    <a:pt x="273" y="234"/>
                  </a:lnTo>
                  <a:lnTo>
                    <a:pt x="260" y="261"/>
                  </a:lnTo>
                  <a:lnTo>
                    <a:pt x="238" y="292"/>
                  </a:lnTo>
                  <a:lnTo>
                    <a:pt x="207" y="318"/>
                  </a:lnTo>
                  <a:lnTo>
                    <a:pt x="185" y="349"/>
                  </a:lnTo>
                  <a:lnTo>
                    <a:pt x="167" y="384"/>
                  </a:lnTo>
                  <a:lnTo>
                    <a:pt x="149" y="419"/>
                  </a:lnTo>
                  <a:lnTo>
                    <a:pt x="141" y="450"/>
                  </a:lnTo>
                  <a:lnTo>
                    <a:pt x="123" y="486"/>
                  </a:lnTo>
                  <a:lnTo>
                    <a:pt x="114" y="494"/>
                  </a:lnTo>
                  <a:lnTo>
                    <a:pt x="105" y="512"/>
                  </a:lnTo>
                  <a:lnTo>
                    <a:pt x="97" y="530"/>
                  </a:lnTo>
                  <a:lnTo>
                    <a:pt x="88" y="543"/>
                  </a:lnTo>
                  <a:lnTo>
                    <a:pt x="88" y="561"/>
                  </a:lnTo>
                  <a:lnTo>
                    <a:pt x="74" y="569"/>
                  </a:lnTo>
                  <a:lnTo>
                    <a:pt x="66" y="587"/>
                  </a:lnTo>
                  <a:lnTo>
                    <a:pt x="66" y="600"/>
                  </a:lnTo>
                  <a:lnTo>
                    <a:pt x="57" y="618"/>
                  </a:lnTo>
                  <a:lnTo>
                    <a:pt x="57" y="636"/>
                  </a:lnTo>
                  <a:lnTo>
                    <a:pt x="48" y="654"/>
                  </a:lnTo>
                  <a:lnTo>
                    <a:pt x="48" y="667"/>
                  </a:lnTo>
                  <a:lnTo>
                    <a:pt x="48" y="676"/>
                  </a:lnTo>
                  <a:lnTo>
                    <a:pt x="48" y="703"/>
                  </a:lnTo>
                  <a:lnTo>
                    <a:pt x="57" y="716"/>
                  </a:lnTo>
                  <a:lnTo>
                    <a:pt x="57" y="742"/>
                  </a:lnTo>
                  <a:lnTo>
                    <a:pt x="57" y="747"/>
                  </a:lnTo>
                  <a:lnTo>
                    <a:pt x="66" y="756"/>
                  </a:lnTo>
                  <a:lnTo>
                    <a:pt x="66" y="764"/>
                  </a:lnTo>
                  <a:lnTo>
                    <a:pt x="74" y="773"/>
                  </a:lnTo>
                  <a:lnTo>
                    <a:pt x="88" y="778"/>
                  </a:lnTo>
                  <a:lnTo>
                    <a:pt x="97" y="786"/>
                  </a:lnTo>
                  <a:lnTo>
                    <a:pt x="105" y="786"/>
                  </a:lnTo>
                  <a:lnTo>
                    <a:pt x="114" y="800"/>
                  </a:lnTo>
                  <a:lnTo>
                    <a:pt x="123" y="800"/>
                  </a:lnTo>
                  <a:lnTo>
                    <a:pt x="132" y="804"/>
                  </a:lnTo>
                  <a:lnTo>
                    <a:pt x="141" y="804"/>
                  </a:lnTo>
                  <a:lnTo>
                    <a:pt x="149" y="804"/>
                  </a:lnTo>
                  <a:lnTo>
                    <a:pt x="163" y="804"/>
                  </a:lnTo>
                  <a:lnTo>
                    <a:pt x="176" y="804"/>
                  </a:lnTo>
                  <a:lnTo>
                    <a:pt x="207" y="786"/>
                  </a:lnTo>
                  <a:lnTo>
                    <a:pt x="246" y="773"/>
                  </a:lnTo>
                  <a:lnTo>
                    <a:pt x="282" y="756"/>
                  </a:lnTo>
                  <a:lnTo>
                    <a:pt x="313" y="742"/>
                  </a:lnTo>
                  <a:lnTo>
                    <a:pt x="343" y="711"/>
                  </a:lnTo>
                  <a:lnTo>
                    <a:pt x="383" y="694"/>
                  </a:lnTo>
                  <a:lnTo>
                    <a:pt x="410" y="667"/>
                  </a:lnTo>
                  <a:lnTo>
                    <a:pt x="432" y="644"/>
                  </a:lnTo>
                  <a:lnTo>
                    <a:pt x="463" y="618"/>
                  </a:lnTo>
                  <a:lnTo>
                    <a:pt x="493" y="596"/>
                  </a:lnTo>
                  <a:lnTo>
                    <a:pt x="507" y="569"/>
                  </a:lnTo>
                  <a:lnTo>
                    <a:pt x="537" y="538"/>
                  </a:lnTo>
                  <a:lnTo>
                    <a:pt x="568" y="512"/>
                  </a:lnTo>
                  <a:lnTo>
                    <a:pt x="599" y="486"/>
                  </a:lnTo>
                  <a:lnTo>
                    <a:pt x="626" y="450"/>
                  </a:lnTo>
                  <a:lnTo>
                    <a:pt x="657" y="424"/>
                  </a:lnTo>
                  <a:lnTo>
                    <a:pt x="665" y="424"/>
                  </a:lnTo>
                  <a:lnTo>
                    <a:pt x="665" y="419"/>
                  </a:lnTo>
                  <a:lnTo>
                    <a:pt x="674" y="424"/>
                  </a:lnTo>
                  <a:lnTo>
                    <a:pt x="683" y="424"/>
                  </a:lnTo>
                  <a:lnTo>
                    <a:pt x="692" y="424"/>
                  </a:lnTo>
                  <a:lnTo>
                    <a:pt x="692" y="433"/>
                  </a:lnTo>
                  <a:lnTo>
                    <a:pt x="692" y="446"/>
                  </a:lnTo>
                  <a:lnTo>
                    <a:pt x="701" y="446"/>
                  </a:lnTo>
                  <a:lnTo>
                    <a:pt x="701" y="450"/>
                  </a:lnTo>
                  <a:lnTo>
                    <a:pt x="709" y="459"/>
                  </a:lnTo>
                  <a:lnTo>
                    <a:pt x="709" y="472"/>
                  </a:lnTo>
                  <a:lnTo>
                    <a:pt x="709" y="481"/>
                  </a:lnTo>
                  <a:lnTo>
                    <a:pt x="709" y="486"/>
                  </a:lnTo>
                  <a:lnTo>
                    <a:pt x="701" y="503"/>
                  </a:lnTo>
                  <a:lnTo>
                    <a:pt x="701" y="512"/>
                  </a:lnTo>
                  <a:lnTo>
                    <a:pt x="692" y="530"/>
                  </a:lnTo>
                  <a:lnTo>
                    <a:pt x="692" y="543"/>
                  </a:lnTo>
                  <a:lnTo>
                    <a:pt x="692" y="561"/>
                  </a:lnTo>
                  <a:lnTo>
                    <a:pt x="683" y="578"/>
                  </a:lnTo>
                  <a:lnTo>
                    <a:pt x="683" y="596"/>
                  </a:lnTo>
                  <a:lnTo>
                    <a:pt x="683" y="609"/>
                  </a:lnTo>
                  <a:lnTo>
                    <a:pt x="683" y="618"/>
                  </a:lnTo>
                  <a:lnTo>
                    <a:pt x="674" y="636"/>
                  </a:lnTo>
                  <a:lnTo>
                    <a:pt x="674" y="654"/>
                  </a:lnTo>
                  <a:lnTo>
                    <a:pt x="674" y="667"/>
                  </a:lnTo>
                  <a:lnTo>
                    <a:pt x="683" y="685"/>
                  </a:lnTo>
                  <a:lnTo>
                    <a:pt x="683" y="703"/>
                  </a:lnTo>
                  <a:lnTo>
                    <a:pt x="692" y="716"/>
                  </a:lnTo>
                  <a:lnTo>
                    <a:pt x="692" y="742"/>
                  </a:lnTo>
                  <a:lnTo>
                    <a:pt x="709" y="711"/>
                  </a:lnTo>
                  <a:lnTo>
                    <a:pt x="723" y="685"/>
                  </a:lnTo>
                  <a:lnTo>
                    <a:pt x="732" y="659"/>
                  </a:lnTo>
                  <a:lnTo>
                    <a:pt x="736" y="636"/>
                  </a:lnTo>
                  <a:lnTo>
                    <a:pt x="745" y="609"/>
                  </a:lnTo>
                  <a:lnTo>
                    <a:pt x="754" y="587"/>
                  </a:lnTo>
                  <a:lnTo>
                    <a:pt x="767" y="561"/>
                  </a:lnTo>
                  <a:lnTo>
                    <a:pt x="776" y="538"/>
                  </a:lnTo>
                  <a:lnTo>
                    <a:pt x="784" y="512"/>
                  </a:lnTo>
                  <a:lnTo>
                    <a:pt x="806" y="494"/>
                  </a:lnTo>
                  <a:lnTo>
                    <a:pt x="815" y="472"/>
                  </a:lnTo>
                  <a:lnTo>
                    <a:pt x="833" y="450"/>
                  </a:lnTo>
                  <a:lnTo>
                    <a:pt x="851" y="424"/>
                  </a:lnTo>
                  <a:lnTo>
                    <a:pt x="873" y="411"/>
                  </a:lnTo>
                  <a:lnTo>
                    <a:pt x="881" y="389"/>
                  </a:lnTo>
                  <a:lnTo>
                    <a:pt x="908" y="375"/>
                  </a:lnTo>
                  <a:lnTo>
                    <a:pt x="908" y="367"/>
                  </a:lnTo>
                  <a:lnTo>
                    <a:pt x="921" y="367"/>
                  </a:lnTo>
                  <a:lnTo>
                    <a:pt x="930" y="367"/>
                  </a:lnTo>
                  <a:lnTo>
                    <a:pt x="930" y="362"/>
                  </a:lnTo>
                  <a:lnTo>
                    <a:pt x="943" y="362"/>
                  </a:lnTo>
                  <a:lnTo>
                    <a:pt x="952" y="362"/>
                  </a:lnTo>
                  <a:lnTo>
                    <a:pt x="961" y="367"/>
                  </a:lnTo>
                  <a:lnTo>
                    <a:pt x="970" y="367"/>
                  </a:lnTo>
                  <a:lnTo>
                    <a:pt x="970" y="375"/>
                  </a:lnTo>
                  <a:lnTo>
                    <a:pt x="970" y="397"/>
                  </a:lnTo>
                  <a:lnTo>
                    <a:pt x="970" y="424"/>
                  </a:lnTo>
                  <a:lnTo>
                    <a:pt x="970" y="450"/>
                  </a:lnTo>
                  <a:lnTo>
                    <a:pt x="961" y="481"/>
                  </a:lnTo>
                  <a:lnTo>
                    <a:pt x="952" y="494"/>
                  </a:lnTo>
                  <a:lnTo>
                    <a:pt x="952" y="521"/>
                  </a:lnTo>
                  <a:lnTo>
                    <a:pt x="943" y="543"/>
                  </a:lnTo>
                  <a:lnTo>
                    <a:pt x="930" y="561"/>
                  </a:lnTo>
                  <a:lnTo>
                    <a:pt x="930" y="587"/>
                  </a:lnTo>
                  <a:lnTo>
                    <a:pt x="921" y="609"/>
                  </a:lnTo>
                  <a:lnTo>
                    <a:pt x="921" y="636"/>
                  </a:lnTo>
                  <a:lnTo>
                    <a:pt x="908" y="659"/>
                  </a:lnTo>
                  <a:lnTo>
                    <a:pt x="908" y="685"/>
                  </a:lnTo>
                  <a:lnTo>
                    <a:pt x="921" y="711"/>
                  </a:lnTo>
                  <a:lnTo>
                    <a:pt x="930" y="742"/>
                  </a:lnTo>
                  <a:lnTo>
                    <a:pt x="943" y="764"/>
                  </a:lnTo>
                  <a:lnTo>
                    <a:pt x="961" y="747"/>
                  </a:lnTo>
                  <a:lnTo>
                    <a:pt x="974" y="725"/>
                  </a:lnTo>
                  <a:lnTo>
                    <a:pt x="992" y="716"/>
                  </a:lnTo>
                  <a:lnTo>
                    <a:pt x="1014" y="694"/>
                  </a:lnTo>
                  <a:lnTo>
                    <a:pt x="1023" y="676"/>
                  </a:lnTo>
                  <a:lnTo>
                    <a:pt x="1045" y="659"/>
                  </a:lnTo>
                  <a:lnTo>
                    <a:pt x="1067" y="644"/>
                  </a:lnTo>
                  <a:lnTo>
                    <a:pt x="1071" y="627"/>
                  </a:lnTo>
                  <a:lnTo>
                    <a:pt x="1075" y="609"/>
                  </a:lnTo>
                  <a:lnTo>
                    <a:pt x="1098" y="587"/>
                  </a:lnTo>
                  <a:lnTo>
                    <a:pt x="1111" y="569"/>
                  </a:lnTo>
                  <a:lnTo>
                    <a:pt x="1128" y="552"/>
                  </a:lnTo>
                  <a:lnTo>
                    <a:pt x="1142" y="530"/>
                  </a:lnTo>
                  <a:lnTo>
                    <a:pt x="1150" y="512"/>
                  </a:lnTo>
                  <a:lnTo>
                    <a:pt x="1168" y="494"/>
                  </a:lnTo>
                  <a:lnTo>
                    <a:pt x="1190" y="481"/>
                  </a:lnTo>
                  <a:lnTo>
                    <a:pt x="1190" y="472"/>
                  </a:lnTo>
                  <a:lnTo>
                    <a:pt x="1190" y="459"/>
                  </a:lnTo>
                  <a:lnTo>
                    <a:pt x="1190" y="450"/>
                  </a:lnTo>
                  <a:lnTo>
                    <a:pt x="1190" y="446"/>
                  </a:lnTo>
                  <a:lnTo>
                    <a:pt x="1190" y="433"/>
                  </a:lnTo>
                  <a:lnTo>
                    <a:pt x="1190" y="424"/>
                  </a:lnTo>
                  <a:lnTo>
                    <a:pt x="1190" y="419"/>
                  </a:lnTo>
                  <a:lnTo>
                    <a:pt x="1190" y="411"/>
                  </a:lnTo>
                  <a:lnTo>
                    <a:pt x="1190" y="397"/>
                  </a:lnTo>
                  <a:lnTo>
                    <a:pt x="1195" y="397"/>
                  </a:lnTo>
                  <a:lnTo>
                    <a:pt x="1203" y="384"/>
                  </a:lnTo>
                  <a:lnTo>
                    <a:pt x="1225" y="375"/>
                  </a:lnTo>
                  <a:lnTo>
                    <a:pt x="1234" y="375"/>
                  </a:lnTo>
                  <a:lnTo>
                    <a:pt x="1248" y="375"/>
                  </a:lnTo>
                  <a:lnTo>
                    <a:pt x="1262" y="375"/>
                  </a:lnTo>
                  <a:lnTo>
                    <a:pt x="1284" y="384"/>
                  </a:lnTo>
                  <a:lnTo>
                    <a:pt x="1293" y="384"/>
                  </a:lnTo>
                  <a:lnTo>
                    <a:pt x="1306" y="389"/>
                  </a:lnTo>
                  <a:lnTo>
                    <a:pt x="1328" y="411"/>
                  </a:lnTo>
                  <a:lnTo>
                    <a:pt x="1337" y="419"/>
                  </a:lnTo>
                  <a:lnTo>
                    <a:pt x="1359" y="433"/>
                  </a:lnTo>
                  <a:lnTo>
                    <a:pt x="1368" y="450"/>
                  </a:lnTo>
                  <a:lnTo>
                    <a:pt x="1376" y="472"/>
                  </a:lnTo>
                  <a:lnTo>
                    <a:pt x="1390" y="481"/>
                  </a:lnTo>
                  <a:lnTo>
                    <a:pt x="1394" y="494"/>
                  </a:lnTo>
                  <a:lnTo>
                    <a:pt x="1407" y="512"/>
                  </a:lnTo>
                  <a:lnTo>
                    <a:pt x="1416" y="494"/>
                  </a:lnTo>
                  <a:lnTo>
                    <a:pt x="1420" y="481"/>
                  </a:lnTo>
                  <a:lnTo>
                    <a:pt x="1434" y="459"/>
                  </a:lnTo>
                  <a:lnTo>
                    <a:pt x="1442" y="446"/>
                  </a:lnTo>
                  <a:lnTo>
                    <a:pt x="1456" y="424"/>
                  </a:lnTo>
                  <a:lnTo>
                    <a:pt x="1456" y="411"/>
                  </a:lnTo>
                  <a:lnTo>
                    <a:pt x="1473" y="389"/>
                  </a:lnTo>
                  <a:lnTo>
                    <a:pt x="1482" y="375"/>
                  </a:lnTo>
                  <a:lnTo>
                    <a:pt x="1491" y="362"/>
                  </a:lnTo>
                  <a:lnTo>
                    <a:pt x="1504" y="349"/>
                  </a:lnTo>
                  <a:lnTo>
                    <a:pt x="1513" y="331"/>
                  </a:lnTo>
                  <a:lnTo>
                    <a:pt x="1526" y="318"/>
                  </a:lnTo>
                  <a:lnTo>
                    <a:pt x="1535" y="309"/>
                  </a:lnTo>
                  <a:lnTo>
                    <a:pt x="1544" y="292"/>
                  </a:lnTo>
                  <a:lnTo>
                    <a:pt x="1562" y="283"/>
                  </a:lnTo>
                  <a:lnTo>
                    <a:pt x="1584" y="269"/>
                  </a:lnTo>
                  <a:lnTo>
                    <a:pt x="1592" y="261"/>
                  </a:lnTo>
                  <a:lnTo>
                    <a:pt x="1606" y="269"/>
                  </a:lnTo>
                  <a:lnTo>
                    <a:pt x="1614" y="269"/>
                  </a:lnTo>
                  <a:lnTo>
                    <a:pt x="1628" y="269"/>
                  </a:lnTo>
                  <a:lnTo>
                    <a:pt x="1628" y="274"/>
                  </a:lnTo>
                  <a:lnTo>
                    <a:pt x="1632" y="274"/>
                  </a:lnTo>
                  <a:lnTo>
                    <a:pt x="1632" y="283"/>
                  </a:lnTo>
                  <a:lnTo>
                    <a:pt x="1632" y="292"/>
                  </a:lnTo>
                  <a:lnTo>
                    <a:pt x="1632" y="305"/>
                  </a:lnTo>
                  <a:lnTo>
                    <a:pt x="1628" y="327"/>
                  </a:lnTo>
                  <a:lnTo>
                    <a:pt x="1628" y="349"/>
                  </a:lnTo>
                  <a:lnTo>
                    <a:pt x="1614" y="384"/>
                  </a:lnTo>
                  <a:lnTo>
                    <a:pt x="1606" y="411"/>
                  </a:lnTo>
                  <a:lnTo>
                    <a:pt x="1606" y="433"/>
                  </a:lnTo>
                  <a:lnTo>
                    <a:pt x="1592" y="472"/>
                  </a:lnTo>
                  <a:lnTo>
                    <a:pt x="1592" y="494"/>
                  </a:lnTo>
                  <a:lnTo>
                    <a:pt x="1592" y="530"/>
                  </a:lnTo>
                  <a:lnTo>
                    <a:pt x="1592" y="552"/>
                  </a:lnTo>
                  <a:lnTo>
                    <a:pt x="1606" y="578"/>
                  </a:lnTo>
                  <a:lnTo>
                    <a:pt x="1606" y="609"/>
                  </a:lnTo>
                  <a:lnTo>
                    <a:pt x="1628" y="636"/>
                  </a:lnTo>
                  <a:lnTo>
                    <a:pt x="1632" y="667"/>
                  </a:lnTo>
                  <a:lnTo>
                    <a:pt x="1650" y="694"/>
                  </a:lnTo>
                  <a:lnTo>
                    <a:pt x="1672" y="716"/>
                  </a:lnTo>
                  <a:lnTo>
                    <a:pt x="1703" y="747"/>
                  </a:lnTo>
                  <a:lnTo>
                    <a:pt x="1738" y="778"/>
                  </a:lnTo>
                  <a:lnTo>
                    <a:pt x="1786" y="804"/>
                  </a:lnTo>
                  <a:lnTo>
                    <a:pt x="1822" y="813"/>
                  </a:lnTo>
                  <a:lnTo>
                    <a:pt x="1875" y="822"/>
                  </a:lnTo>
                  <a:lnTo>
                    <a:pt x="1936" y="822"/>
                  </a:lnTo>
                  <a:lnTo>
                    <a:pt x="1985" y="822"/>
                  </a:lnTo>
                  <a:lnTo>
                    <a:pt x="2042" y="813"/>
                  </a:lnTo>
                  <a:lnTo>
                    <a:pt x="2095" y="804"/>
                  </a:lnTo>
                  <a:lnTo>
                    <a:pt x="2152" y="786"/>
                  </a:lnTo>
                  <a:lnTo>
                    <a:pt x="2210" y="773"/>
                  </a:lnTo>
                  <a:lnTo>
                    <a:pt x="2272" y="756"/>
                  </a:lnTo>
                  <a:lnTo>
                    <a:pt x="2320" y="725"/>
                  </a:lnTo>
                  <a:lnTo>
                    <a:pt x="2360" y="711"/>
                  </a:lnTo>
                  <a:lnTo>
                    <a:pt x="2413" y="694"/>
                  </a:lnTo>
                  <a:lnTo>
                    <a:pt x="2443" y="676"/>
                  </a:lnTo>
                  <a:lnTo>
                    <a:pt x="2488" y="667"/>
                  </a:lnTo>
                  <a:lnTo>
                    <a:pt x="2479" y="667"/>
                  </a:lnTo>
                  <a:lnTo>
                    <a:pt x="2466" y="676"/>
                  </a:lnTo>
                  <a:lnTo>
                    <a:pt x="2457" y="685"/>
                  </a:lnTo>
                  <a:lnTo>
                    <a:pt x="2443" y="694"/>
                  </a:lnTo>
                  <a:lnTo>
                    <a:pt x="2435" y="703"/>
                  </a:lnTo>
                  <a:lnTo>
                    <a:pt x="2435" y="711"/>
                  </a:lnTo>
                  <a:lnTo>
                    <a:pt x="2435" y="716"/>
                  </a:lnTo>
                  <a:lnTo>
                    <a:pt x="2421" y="716"/>
                  </a:lnTo>
                  <a:lnTo>
                    <a:pt x="2421" y="725"/>
                  </a:lnTo>
                  <a:lnTo>
                    <a:pt x="2413" y="747"/>
                  </a:lnTo>
                  <a:lnTo>
                    <a:pt x="2382" y="756"/>
                  </a:lnTo>
                  <a:lnTo>
                    <a:pt x="2360" y="764"/>
                  </a:lnTo>
                  <a:lnTo>
                    <a:pt x="2338" y="778"/>
                  </a:lnTo>
                  <a:lnTo>
                    <a:pt x="2311" y="786"/>
                  </a:lnTo>
                  <a:lnTo>
                    <a:pt x="2276" y="800"/>
                  </a:lnTo>
                  <a:lnTo>
                    <a:pt x="2241" y="804"/>
                  </a:lnTo>
                  <a:lnTo>
                    <a:pt x="2219" y="813"/>
                  </a:lnTo>
                  <a:lnTo>
                    <a:pt x="2188" y="831"/>
                  </a:lnTo>
                  <a:lnTo>
                    <a:pt x="2144" y="831"/>
                  </a:lnTo>
                  <a:lnTo>
                    <a:pt x="2122" y="835"/>
                  </a:lnTo>
                  <a:lnTo>
                    <a:pt x="2091" y="848"/>
                  </a:lnTo>
                  <a:lnTo>
                    <a:pt x="2060" y="857"/>
                  </a:lnTo>
                  <a:lnTo>
                    <a:pt x="2033" y="857"/>
                  </a:lnTo>
                  <a:lnTo>
                    <a:pt x="2016" y="866"/>
                  </a:lnTo>
                  <a:lnTo>
                    <a:pt x="1985" y="866"/>
                  </a:lnTo>
                  <a:lnTo>
                    <a:pt x="1954" y="870"/>
                  </a:lnTo>
                  <a:lnTo>
                    <a:pt x="1936" y="870"/>
                  </a:lnTo>
                  <a:lnTo>
                    <a:pt x="1906" y="870"/>
                  </a:lnTo>
                  <a:lnTo>
                    <a:pt x="1875" y="866"/>
                  </a:lnTo>
                  <a:lnTo>
                    <a:pt x="1861" y="866"/>
                  </a:lnTo>
                  <a:lnTo>
                    <a:pt x="1831" y="857"/>
                  </a:lnTo>
                  <a:lnTo>
                    <a:pt x="1808" y="848"/>
                  </a:lnTo>
                  <a:lnTo>
                    <a:pt x="1786" y="835"/>
                  </a:lnTo>
                  <a:lnTo>
                    <a:pt x="1756" y="831"/>
                  </a:lnTo>
                  <a:lnTo>
                    <a:pt x="1738" y="813"/>
                  </a:lnTo>
                  <a:lnTo>
                    <a:pt x="1716" y="804"/>
                  </a:lnTo>
                  <a:lnTo>
                    <a:pt x="1689" y="786"/>
                  </a:lnTo>
                  <a:lnTo>
                    <a:pt x="1672" y="764"/>
                  </a:lnTo>
                  <a:lnTo>
                    <a:pt x="1650" y="747"/>
                  </a:lnTo>
                  <a:lnTo>
                    <a:pt x="1632" y="725"/>
                  </a:lnTo>
                  <a:lnTo>
                    <a:pt x="1614" y="703"/>
                  </a:lnTo>
                  <a:lnTo>
                    <a:pt x="1606" y="694"/>
                  </a:lnTo>
                  <a:lnTo>
                    <a:pt x="1606" y="676"/>
                  </a:lnTo>
                  <a:lnTo>
                    <a:pt x="1592" y="667"/>
                  </a:lnTo>
                  <a:lnTo>
                    <a:pt x="1584" y="659"/>
                  </a:lnTo>
                  <a:lnTo>
                    <a:pt x="1584" y="654"/>
                  </a:lnTo>
                  <a:lnTo>
                    <a:pt x="1575" y="644"/>
                  </a:lnTo>
                  <a:lnTo>
                    <a:pt x="1575" y="636"/>
                  </a:lnTo>
                  <a:lnTo>
                    <a:pt x="1562" y="618"/>
                  </a:lnTo>
                  <a:lnTo>
                    <a:pt x="1562" y="609"/>
                  </a:lnTo>
                  <a:lnTo>
                    <a:pt x="1553" y="600"/>
                  </a:lnTo>
                  <a:lnTo>
                    <a:pt x="1553" y="596"/>
                  </a:lnTo>
                  <a:lnTo>
                    <a:pt x="1553" y="578"/>
                  </a:lnTo>
                  <a:lnTo>
                    <a:pt x="1544" y="569"/>
                  </a:lnTo>
                  <a:lnTo>
                    <a:pt x="1544" y="561"/>
                  </a:lnTo>
                  <a:lnTo>
                    <a:pt x="1544" y="552"/>
                  </a:lnTo>
                  <a:lnTo>
                    <a:pt x="1544" y="538"/>
                  </a:lnTo>
                  <a:lnTo>
                    <a:pt x="1544" y="530"/>
                  </a:lnTo>
                  <a:lnTo>
                    <a:pt x="1544" y="521"/>
                  </a:lnTo>
                  <a:lnTo>
                    <a:pt x="1544" y="512"/>
                  </a:lnTo>
                  <a:lnTo>
                    <a:pt x="1544" y="503"/>
                  </a:lnTo>
                  <a:lnTo>
                    <a:pt x="1544" y="486"/>
                  </a:lnTo>
                  <a:lnTo>
                    <a:pt x="1544" y="481"/>
                  </a:lnTo>
                  <a:lnTo>
                    <a:pt x="1544" y="472"/>
                  </a:lnTo>
                  <a:lnTo>
                    <a:pt x="1544" y="459"/>
                  </a:lnTo>
                  <a:lnTo>
                    <a:pt x="1544" y="450"/>
                  </a:lnTo>
                  <a:lnTo>
                    <a:pt x="1544" y="446"/>
                  </a:lnTo>
                  <a:lnTo>
                    <a:pt x="1544" y="433"/>
                  </a:lnTo>
                  <a:lnTo>
                    <a:pt x="1544" y="424"/>
                  </a:lnTo>
                  <a:lnTo>
                    <a:pt x="1544" y="419"/>
                  </a:lnTo>
                  <a:lnTo>
                    <a:pt x="1544" y="397"/>
                  </a:lnTo>
                  <a:lnTo>
                    <a:pt x="1544" y="389"/>
                  </a:lnTo>
                  <a:lnTo>
                    <a:pt x="1544" y="384"/>
                  </a:lnTo>
                  <a:lnTo>
                    <a:pt x="1526" y="397"/>
                  </a:lnTo>
                  <a:lnTo>
                    <a:pt x="1522" y="419"/>
                  </a:lnTo>
                  <a:lnTo>
                    <a:pt x="1513" y="433"/>
                  </a:lnTo>
                  <a:lnTo>
                    <a:pt x="1504" y="450"/>
                  </a:lnTo>
                  <a:lnTo>
                    <a:pt x="1482" y="472"/>
                  </a:lnTo>
                  <a:lnTo>
                    <a:pt x="1482" y="486"/>
                  </a:lnTo>
                  <a:lnTo>
                    <a:pt x="1473" y="503"/>
                  </a:lnTo>
                  <a:lnTo>
                    <a:pt x="1465" y="530"/>
                  </a:lnTo>
                  <a:lnTo>
                    <a:pt x="1456" y="543"/>
                  </a:lnTo>
                  <a:lnTo>
                    <a:pt x="1442" y="561"/>
                  </a:lnTo>
                  <a:lnTo>
                    <a:pt x="1442" y="587"/>
                  </a:lnTo>
                  <a:lnTo>
                    <a:pt x="1434" y="600"/>
                  </a:lnTo>
                  <a:lnTo>
                    <a:pt x="1420" y="618"/>
                  </a:lnTo>
                  <a:lnTo>
                    <a:pt x="1416" y="636"/>
                  </a:lnTo>
                  <a:lnTo>
                    <a:pt x="1407" y="659"/>
                  </a:lnTo>
                  <a:lnTo>
                    <a:pt x="1407" y="676"/>
                  </a:lnTo>
                  <a:lnTo>
                    <a:pt x="1394" y="676"/>
                  </a:lnTo>
                  <a:lnTo>
                    <a:pt x="1394" y="667"/>
                  </a:lnTo>
                  <a:lnTo>
                    <a:pt x="1390" y="667"/>
                  </a:lnTo>
                  <a:lnTo>
                    <a:pt x="1376" y="659"/>
                  </a:lnTo>
                  <a:lnTo>
                    <a:pt x="1368" y="659"/>
                  </a:lnTo>
                  <a:lnTo>
                    <a:pt x="1368" y="654"/>
                  </a:lnTo>
                  <a:lnTo>
                    <a:pt x="1359" y="636"/>
                  </a:lnTo>
                  <a:lnTo>
                    <a:pt x="1359" y="627"/>
                  </a:lnTo>
                  <a:lnTo>
                    <a:pt x="1359" y="609"/>
                  </a:lnTo>
                  <a:lnTo>
                    <a:pt x="1359" y="600"/>
                  </a:lnTo>
                  <a:lnTo>
                    <a:pt x="1359" y="587"/>
                  </a:lnTo>
                  <a:lnTo>
                    <a:pt x="1359" y="578"/>
                  </a:lnTo>
                  <a:lnTo>
                    <a:pt x="1359" y="561"/>
                  </a:lnTo>
                  <a:lnTo>
                    <a:pt x="1359" y="552"/>
                  </a:lnTo>
                  <a:lnTo>
                    <a:pt x="1359" y="538"/>
                  </a:lnTo>
                  <a:lnTo>
                    <a:pt x="1359" y="530"/>
                  </a:lnTo>
                  <a:lnTo>
                    <a:pt x="1345" y="521"/>
                  </a:lnTo>
                  <a:lnTo>
                    <a:pt x="1345" y="503"/>
                  </a:lnTo>
                  <a:lnTo>
                    <a:pt x="1345" y="494"/>
                  </a:lnTo>
                  <a:lnTo>
                    <a:pt x="1337" y="486"/>
                  </a:lnTo>
                  <a:lnTo>
                    <a:pt x="1337" y="472"/>
                  </a:lnTo>
                  <a:lnTo>
                    <a:pt x="1328" y="459"/>
                  </a:lnTo>
                  <a:lnTo>
                    <a:pt x="1315" y="450"/>
                  </a:lnTo>
                  <a:lnTo>
                    <a:pt x="1315" y="446"/>
                  </a:lnTo>
                  <a:lnTo>
                    <a:pt x="1306" y="433"/>
                  </a:lnTo>
                  <a:lnTo>
                    <a:pt x="1301" y="424"/>
                  </a:lnTo>
                  <a:lnTo>
                    <a:pt x="1293" y="424"/>
                  </a:lnTo>
                  <a:lnTo>
                    <a:pt x="1284" y="419"/>
                  </a:lnTo>
                  <a:lnTo>
                    <a:pt x="1271" y="419"/>
                  </a:lnTo>
                  <a:lnTo>
                    <a:pt x="1262" y="419"/>
                  </a:lnTo>
                  <a:lnTo>
                    <a:pt x="1248" y="419"/>
                  </a:lnTo>
                  <a:lnTo>
                    <a:pt x="1243" y="424"/>
                  </a:lnTo>
                  <a:lnTo>
                    <a:pt x="1243" y="433"/>
                  </a:lnTo>
                  <a:lnTo>
                    <a:pt x="1243" y="446"/>
                  </a:lnTo>
                  <a:lnTo>
                    <a:pt x="1234" y="450"/>
                  </a:lnTo>
                  <a:lnTo>
                    <a:pt x="1234" y="459"/>
                  </a:lnTo>
                  <a:lnTo>
                    <a:pt x="1243" y="472"/>
                  </a:lnTo>
                  <a:lnTo>
                    <a:pt x="1248" y="472"/>
                  </a:lnTo>
                  <a:lnTo>
                    <a:pt x="1248" y="481"/>
                  </a:lnTo>
                  <a:lnTo>
                    <a:pt x="1248" y="486"/>
                  </a:lnTo>
                  <a:lnTo>
                    <a:pt x="1248" y="494"/>
                  </a:lnTo>
                  <a:lnTo>
                    <a:pt x="1248" y="503"/>
                  </a:lnTo>
                  <a:lnTo>
                    <a:pt x="1248" y="512"/>
                  </a:lnTo>
                  <a:lnTo>
                    <a:pt x="1248" y="521"/>
                  </a:lnTo>
                  <a:lnTo>
                    <a:pt x="1248" y="530"/>
                  </a:lnTo>
                  <a:lnTo>
                    <a:pt x="1248" y="538"/>
                  </a:lnTo>
                  <a:lnTo>
                    <a:pt x="1262" y="561"/>
                  </a:lnTo>
                  <a:lnTo>
                    <a:pt x="1262" y="578"/>
                  </a:lnTo>
                  <a:lnTo>
                    <a:pt x="1271" y="596"/>
                  </a:lnTo>
                  <a:lnTo>
                    <a:pt x="1271" y="609"/>
                  </a:lnTo>
                  <a:lnTo>
                    <a:pt x="1284" y="636"/>
                  </a:lnTo>
                  <a:lnTo>
                    <a:pt x="1284" y="654"/>
                  </a:lnTo>
                  <a:lnTo>
                    <a:pt x="1293" y="667"/>
                  </a:lnTo>
                  <a:lnTo>
                    <a:pt x="1293" y="685"/>
                  </a:lnTo>
                  <a:lnTo>
                    <a:pt x="1293" y="703"/>
                  </a:lnTo>
                  <a:lnTo>
                    <a:pt x="1293" y="725"/>
                  </a:lnTo>
                  <a:lnTo>
                    <a:pt x="1293" y="747"/>
                  </a:lnTo>
                  <a:lnTo>
                    <a:pt x="1293" y="764"/>
                  </a:lnTo>
                  <a:lnTo>
                    <a:pt x="1293" y="778"/>
                  </a:lnTo>
                  <a:lnTo>
                    <a:pt x="1293" y="800"/>
                  </a:lnTo>
                  <a:lnTo>
                    <a:pt x="1284" y="813"/>
                  </a:lnTo>
                  <a:lnTo>
                    <a:pt x="1284" y="822"/>
                  </a:lnTo>
                  <a:lnTo>
                    <a:pt x="1284" y="831"/>
                  </a:lnTo>
                  <a:lnTo>
                    <a:pt x="1271" y="831"/>
                  </a:lnTo>
                  <a:lnTo>
                    <a:pt x="1262" y="835"/>
                  </a:lnTo>
                  <a:lnTo>
                    <a:pt x="1248" y="848"/>
                  </a:lnTo>
                  <a:lnTo>
                    <a:pt x="1243" y="848"/>
                  </a:lnTo>
                  <a:lnTo>
                    <a:pt x="1234" y="848"/>
                  </a:lnTo>
                  <a:lnTo>
                    <a:pt x="1225" y="848"/>
                  </a:lnTo>
                  <a:lnTo>
                    <a:pt x="1217" y="848"/>
                  </a:lnTo>
                  <a:lnTo>
                    <a:pt x="1217" y="835"/>
                  </a:lnTo>
                  <a:lnTo>
                    <a:pt x="1203" y="835"/>
                  </a:lnTo>
                  <a:lnTo>
                    <a:pt x="1195" y="835"/>
                  </a:lnTo>
                  <a:lnTo>
                    <a:pt x="1190" y="831"/>
                  </a:lnTo>
                  <a:lnTo>
                    <a:pt x="1177" y="822"/>
                  </a:lnTo>
                  <a:lnTo>
                    <a:pt x="1168" y="813"/>
                  </a:lnTo>
                  <a:lnTo>
                    <a:pt x="1155" y="804"/>
                  </a:lnTo>
                  <a:lnTo>
                    <a:pt x="1155" y="800"/>
                  </a:lnTo>
                  <a:lnTo>
                    <a:pt x="1150" y="786"/>
                  </a:lnTo>
                  <a:lnTo>
                    <a:pt x="1150" y="778"/>
                  </a:lnTo>
                  <a:lnTo>
                    <a:pt x="1142" y="773"/>
                  </a:lnTo>
                  <a:lnTo>
                    <a:pt x="1142" y="764"/>
                  </a:lnTo>
                  <a:lnTo>
                    <a:pt x="1142" y="756"/>
                  </a:lnTo>
                  <a:lnTo>
                    <a:pt x="1142" y="747"/>
                  </a:lnTo>
                  <a:lnTo>
                    <a:pt x="1142" y="725"/>
                  </a:lnTo>
                  <a:lnTo>
                    <a:pt x="1142" y="716"/>
                  </a:lnTo>
                  <a:lnTo>
                    <a:pt x="1128" y="711"/>
                  </a:lnTo>
                  <a:lnTo>
                    <a:pt x="1128" y="703"/>
                  </a:lnTo>
                  <a:lnTo>
                    <a:pt x="1128" y="694"/>
                  </a:lnTo>
                  <a:lnTo>
                    <a:pt x="1128" y="685"/>
                  </a:lnTo>
                  <a:lnTo>
                    <a:pt x="1128" y="676"/>
                  </a:lnTo>
                  <a:lnTo>
                    <a:pt x="1128" y="667"/>
                  </a:lnTo>
                  <a:lnTo>
                    <a:pt x="1128" y="659"/>
                  </a:lnTo>
                  <a:lnTo>
                    <a:pt x="1128" y="654"/>
                  </a:lnTo>
                  <a:lnTo>
                    <a:pt x="1128" y="644"/>
                  </a:lnTo>
                  <a:lnTo>
                    <a:pt x="1128" y="654"/>
                  </a:lnTo>
                  <a:lnTo>
                    <a:pt x="1120" y="659"/>
                  </a:lnTo>
                  <a:lnTo>
                    <a:pt x="1098" y="667"/>
                  </a:lnTo>
                  <a:lnTo>
                    <a:pt x="1089" y="676"/>
                  </a:lnTo>
                  <a:lnTo>
                    <a:pt x="1071" y="694"/>
                  </a:lnTo>
                  <a:lnTo>
                    <a:pt x="1067" y="711"/>
                  </a:lnTo>
                  <a:lnTo>
                    <a:pt x="1053" y="725"/>
                  </a:lnTo>
                  <a:lnTo>
                    <a:pt x="1031" y="747"/>
                  </a:lnTo>
                  <a:lnTo>
                    <a:pt x="1023" y="764"/>
                  </a:lnTo>
                  <a:lnTo>
                    <a:pt x="1001" y="773"/>
                  </a:lnTo>
                  <a:lnTo>
                    <a:pt x="992" y="778"/>
                  </a:lnTo>
                  <a:lnTo>
                    <a:pt x="974" y="786"/>
                  </a:lnTo>
                  <a:lnTo>
                    <a:pt x="970" y="800"/>
                  </a:lnTo>
                  <a:lnTo>
                    <a:pt x="952" y="786"/>
                  </a:lnTo>
                  <a:lnTo>
                    <a:pt x="930" y="786"/>
                  </a:lnTo>
                  <a:lnTo>
                    <a:pt x="908" y="778"/>
                  </a:lnTo>
                  <a:lnTo>
                    <a:pt x="895" y="756"/>
                  </a:lnTo>
                  <a:lnTo>
                    <a:pt x="881" y="756"/>
                  </a:lnTo>
                  <a:lnTo>
                    <a:pt x="881" y="747"/>
                  </a:lnTo>
                  <a:lnTo>
                    <a:pt x="873" y="742"/>
                  </a:lnTo>
                  <a:lnTo>
                    <a:pt x="873" y="725"/>
                  </a:lnTo>
                  <a:lnTo>
                    <a:pt x="873" y="716"/>
                  </a:lnTo>
                  <a:lnTo>
                    <a:pt x="873" y="711"/>
                  </a:lnTo>
                  <a:lnTo>
                    <a:pt x="859" y="703"/>
                  </a:lnTo>
                  <a:lnTo>
                    <a:pt x="859" y="694"/>
                  </a:lnTo>
                  <a:lnTo>
                    <a:pt x="859" y="676"/>
                  </a:lnTo>
                  <a:lnTo>
                    <a:pt x="859" y="667"/>
                  </a:lnTo>
                  <a:lnTo>
                    <a:pt x="859" y="659"/>
                  </a:lnTo>
                  <a:lnTo>
                    <a:pt x="859" y="644"/>
                  </a:lnTo>
                  <a:lnTo>
                    <a:pt x="859" y="636"/>
                  </a:lnTo>
                  <a:lnTo>
                    <a:pt x="851" y="618"/>
                  </a:lnTo>
                  <a:lnTo>
                    <a:pt x="859" y="609"/>
                  </a:lnTo>
                  <a:lnTo>
                    <a:pt x="859" y="600"/>
                  </a:lnTo>
                  <a:lnTo>
                    <a:pt x="859" y="596"/>
                  </a:lnTo>
                  <a:lnTo>
                    <a:pt x="873" y="587"/>
                  </a:lnTo>
                  <a:lnTo>
                    <a:pt x="873" y="578"/>
                  </a:lnTo>
                  <a:lnTo>
                    <a:pt x="881" y="569"/>
                  </a:lnTo>
                  <a:lnTo>
                    <a:pt x="881" y="561"/>
                  </a:lnTo>
                  <a:lnTo>
                    <a:pt x="881" y="552"/>
                  </a:lnTo>
                  <a:lnTo>
                    <a:pt x="881" y="543"/>
                  </a:lnTo>
                  <a:lnTo>
                    <a:pt x="881" y="538"/>
                  </a:lnTo>
                  <a:lnTo>
                    <a:pt x="881" y="530"/>
                  </a:lnTo>
                  <a:lnTo>
                    <a:pt x="881" y="521"/>
                  </a:lnTo>
                  <a:lnTo>
                    <a:pt x="881" y="512"/>
                  </a:lnTo>
                  <a:lnTo>
                    <a:pt x="881" y="503"/>
                  </a:lnTo>
                  <a:lnTo>
                    <a:pt x="859" y="512"/>
                  </a:lnTo>
                  <a:lnTo>
                    <a:pt x="851" y="530"/>
                  </a:lnTo>
                  <a:lnTo>
                    <a:pt x="846" y="543"/>
                  </a:lnTo>
                  <a:lnTo>
                    <a:pt x="833" y="561"/>
                  </a:lnTo>
                  <a:lnTo>
                    <a:pt x="829" y="578"/>
                  </a:lnTo>
                  <a:lnTo>
                    <a:pt x="815" y="596"/>
                  </a:lnTo>
                  <a:lnTo>
                    <a:pt x="806" y="618"/>
                  </a:lnTo>
                  <a:lnTo>
                    <a:pt x="798" y="636"/>
                  </a:lnTo>
                  <a:lnTo>
                    <a:pt x="784" y="659"/>
                  </a:lnTo>
                  <a:lnTo>
                    <a:pt x="784" y="676"/>
                  </a:lnTo>
                  <a:lnTo>
                    <a:pt x="776" y="694"/>
                  </a:lnTo>
                  <a:lnTo>
                    <a:pt x="767" y="711"/>
                  </a:lnTo>
                  <a:lnTo>
                    <a:pt x="754" y="725"/>
                  </a:lnTo>
                  <a:lnTo>
                    <a:pt x="745" y="756"/>
                  </a:lnTo>
                  <a:lnTo>
                    <a:pt x="736" y="773"/>
                  </a:lnTo>
                  <a:lnTo>
                    <a:pt x="732" y="786"/>
                  </a:lnTo>
                  <a:lnTo>
                    <a:pt x="723" y="786"/>
                  </a:lnTo>
                  <a:lnTo>
                    <a:pt x="723" y="800"/>
                  </a:lnTo>
                  <a:lnTo>
                    <a:pt x="709" y="800"/>
                  </a:lnTo>
                  <a:lnTo>
                    <a:pt x="701" y="800"/>
                  </a:lnTo>
                  <a:lnTo>
                    <a:pt x="692" y="800"/>
                  </a:lnTo>
                  <a:lnTo>
                    <a:pt x="683" y="786"/>
                  </a:lnTo>
                  <a:lnTo>
                    <a:pt x="674" y="786"/>
                  </a:lnTo>
                  <a:lnTo>
                    <a:pt x="665" y="778"/>
                  </a:lnTo>
                  <a:lnTo>
                    <a:pt x="657" y="773"/>
                  </a:lnTo>
                  <a:lnTo>
                    <a:pt x="657" y="764"/>
                  </a:lnTo>
                  <a:lnTo>
                    <a:pt x="643" y="756"/>
                  </a:lnTo>
                  <a:lnTo>
                    <a:pt x="643" y="747"/>
                  </a:lnTo>
                  <a:lnTo>
                    <a:pt x="643" y="742"/>
                  </a:lnTo>
                  <a:lnTo>
                    <a:pt x="635" y="725"/>
                  </a:lnTo>
                  <a:lnTo>
                    <a:pt x="635" y="716"/>
                  </a:lnTo>
                  <a:lnTo>
                    <a:pt x="626" y="711"/>
                  </a:lnTo>
                  <a:lnTo>
                    <a:pt x="626" y="703"/>
                  </a:lnTo>
                  <a:lnTo>
                    <a:pt x="626" y="694"/>
                  </a:lnTo>
                  <a:lnTo>
                    <a:pt x="617" y="694"/>
                  </a:lnTo>
                  <a:lnTo>
                    <a:pt x="617" y="703"/>
                  </a:lnTo>
                  <a:lnTo>
                    <a:pt x="608" y="711"/>
                  </a:lnTo>
                  <a:lnTo>
                    <a:pt x="608" y="716"/>
                  </a:lnTo>
                  <a:lnTo>
                    <a:pt x="599" y="725"/>
                  </a:lnTo>
                  <a:lnTo>
                    <a:pt x="599" y="742"/>
                  </a:lnTo>
                  <a:lnTo>
                    <a:pt x="586" y="747"/>
                  </a:lnTo>
                  <a:lnTo>
                    <a:pt x="586" y="756"/>
                  </a:lnTo>
                  <a:lnTo>
                    <a:pt x="582" y="756"/>
                  </a:lnTo>
                  <a:lnTo>
                    <a:pt x="582" y="764"/>
                  </a:lnTo>
                  <a:lnTo>
                    <a:pt x="568" y="773"/>
                  </a:lnTo>
                  <a:lnTo>
                    <a:pt x="568" y="778"/>
                  </a:lnTo>
                  <a:lnTo>
                    <a:pt x="560" y="778"/>
                  </a:lnTo>
                  <a:lnTo>
                    <a:pt x="551" y="786"/>
                  </a:lnTo>
                  <a:lnTo>
                    <a:pt x="537" y="786"/>
                  </a:lnTo>
                  <a:lnTo>
                    <a:pt x="537" y="800"/>
                  </a:lnTo>
                  <a:lnTo>
                    <a:pt x="529" y="800"/>
                  </a:lnTo>
                  <a:lnTo>
                    <a:pt x="515" y="800"/>
                  </a:lnTo>
                  <a:lnTo>
                    <a:pt x="507" y="800"/>
                  </a:lnTo>
                  <a:lnTo>
                    <a:pt x="507" y="786"/>
                  </a:lnTo>
                  <a:lnTo>
                    <a:pt x="493" y="786"/>
                  </a:lnTo>
                  <a:lnTo>
                    <a:pt x="485" y="778"/>
                  </a:lnTo>
                  <a:lnTo>
                    <a:pt x="471" y="764"/>
                  </a:lnTo>
                  <a:lnTo>
                    <a:pt x="463" y="756"/>
                  </a:lnTo>
                  <a:lnTo>
                    <a:pt x="463" y="747"/>
                  </a:lnTo>
                  <a:lnTo>
                    <a:pt x="454" y="742"/>
                  </a:lnTo>
                  <a:lnTo>
                    <a:pt x="454" y="725"/>
                  </a:lnTo>
                  <a:lnTo>
                    <a:pt x="440" y="716"/>
                  </a:lnTo>
                  <a:lnTo>
                    <a:pt x="440" y="711"/>
                  </a:lnTo>
                  <a:lnTo>
                    <a:pt x="440" y="703"/>
                  </a:lnTo>
                  <a:lnTo>
                    <a:pt x="432" y="703"/>
                  </a:lnTo>
                  <a:lnTo>
                    <a:pt x="432" y="711"/>
                  </a:lnTo>
                  <a:lnTo>
                    <a:pt x="423" y="711"/>
                  </a:lnTo>
                  <a:lnTo>
                    <a:pt x="423" y="716"/>
                  </a:lnTo>
                  <a:lnTo>
                    <a:pt x="414" y="716"/>
                  </a:lnTo>
                  <a:lnTo>
                    <a:pt x="414" y="725"/>
                  </a:lnTo>
                  <a:lnTo>
                    <a:pt x="396" y="742"/>
                  </a:lnTo>
                  <a:lnTo>
                    <a:pt x="383" y="747"/>
                  </a:lnTo>
                  <a:lnTo>
                    <a:pt x="361" y="764"/>
                  </a:lnTo>
                  <a:lnTo>
                    <a:pt x="343" y="773"/>
                  </a:lnTo>
                  <a:lnTo>
                    <a:pt x="321" y="786"/>
                  </a:lnTo>
                  <a:lnTo>
                    <a:pt x="299" y="800"/>
                  </a:lnTo>
                  <a:lnTo>
                    <a:pt x="282" y="804"/>
                  </a:lnTo>
                  <a:lnTo>
                    <a:pt x="260" y="813"/>
                  </a:lnTo>
                  <a:lnTo>
                    <a:pt x="238" y="822"/>
                  </a:lnTo>
                  <a:lnTo>
                    <a:pt x="216" y="831"/>
                  </a:lnTo>
                  <a:lnTo>
                    <a:pt x="185" y="831"/>
                  </a:lnTo>
                  <a:lnTo>
                    <a:pt x="167" y="831"/>
                  </a:lnTo>
                  <a:lnTo>
                    <a:pt x="149" y="831"/>
                  </a:lnTo>
                  <a:lnTo>
                    <a:pt x="123" y="831"/>
                  </a:lnTo>
                  <a:lnTo>
                    <a:pt x="97" y="813"/>
                  </a:lnTo>
                  <a:lnTo>
                    <a:pt x="74" y="804"/>
                  </a:lnTo>
                  <a:lnTo>
                    <a:pt x="57" y="800"/>
                  </a:lnTo>
                  <a:lnTo>
                    <a:pt x="48" y="786"/>
                  </a:lnTo>
                  <a:lnTo>
                    <a:pt x="39" y="778"/>
                  </a:lnTo>
                  <a:lnTo>
                    <a:pt x="26" y="773"/>
                  </a:lnTo>
                  <a:lnTo>
                    <a:pt x="22" y="764"/>
                  </a:lnTo>
                  <a:lnTo>
                    <a:pt x="22" y="747"/>
                  </a:lnTo>
                  <a:lnTo>
                    <a:pt x="8" y="742"/>
                  </a:lnTo>
                  <a:lnTo>
                    <a:pt x="0" y="725"/>
                  </a:lnTo>
                  <a:lnTo>
                    <a:pt x="0" y="711"/>
                  </a:lnTo>
                  <a:lnTo>
                    <a:pt x="0" y="703"/>
                  </a:lnTo>
                  <a:lnTo>
                    <a:pt x="0" y="685"/>
                  </a:lnTo>
                  <a:lnTo>
                    <a:pt x="0" y="676"/>
                  </a:lnTo>
                  <a:lnTo>
                    <a:pt x="0" y="659"/>
                  </a:lnTo>
                  <a:lnTo>
                    <a:pt x="0" y="654"/>
                  </a:lnTo>
                  <a:lnTo>
                    <a:pt x="0" y="644"/>
                  </a:lnTo>
                  <a:lnTo>
                    <a:pt x="8" y="636"/>
                  </a:lnTo>
                  <a:lnTo>
                    <a:pt x="22" y="587"/>
                  </a:lnTo>
                  <a:lnTo>
                    <a:pt x="39" y="538"/>
                  </a:lnTo>
                  <a:lnTo>
                    <a:pt x="57" y="486"/>
                  </a:lnTo>
                  <a:lnTo>
                    <a:pt x="88" y="446"/>
                  </a:lnTo>
                  <a:lnTo>
                    <a:pt x="105" y="397"/>
                  </a:lnTo>
                  <a:lnTo>
                    <a:pt x="132" y="362"/>
                  </a:lnTo>
                  <a:lnTo>
                    <a:pt x="149" y="318"/>
                  </a:lnTo>
                  <a:lnTo>
                    <a:pt x="176" y="274"/>
                  </a:lnTo>
                  <a:lnTo>
                    <a:pt x="207" y="234"/>
                  </a:lnTo>
                  <a:lnTo>
                    <a:pt x="246" y="202"/>
                  </a:lnTo>
                  <a:lnTo>
                    <a:pt x="273" y="167"/>
                  </a:lnTo>
                  <a:lnTo>
                    <a:pt x="299" y="127"/>
                  </a:lnTo>
                  <a:lnTo>
                    <a:pt x="343" y="97"/>
                  </a:lnTo>
                  <a:lnTo>
                    <a:pt x="383" y="66"/>
                  </a:lnTo>
                  <a:lnTo>
                    <a:pt x="414" y="39"/>
                  </a:lnTo>
                  <a:lnTo>
                    <a:pt x="463" y="8"/>
                  </a:lnTo>
                  <a:lnTo>
                    <a:pt x="471" y="8"/>
                  </a:lnTo>
                  <a:lnTo>
                    <a:pt x="485" y="0"/>
                  </a:lnTo>
                  <a:lnTo>
                    <a:pt x="493" y="0"/>
                  </a:lnTo>
                  <a:lnTo>
                    <a:pt x="493" y="8"/>
                  </a:lnTo>
                  <a:lnTo>
                    <a:pt x="507" y="8"/>
                  </a:lnTo>
                  <a:lnTo>
                    <a:pt x="515" y="8"/>
                  </a:lnTo>
                  <a:lnTo>
                    <a:pt x="515" y="13"/>
                  </a:lnTo>
                  <a:lnTo>
                    <a:pt x="529" y="13"/>
                  </a:lnTo>
                  <a:lnTo>
                    <a:pt x="529" y="22"/>
                  </a:lnTo>
                  <a:lnTo>
                    <a:pt x="529" y="35"/>
                  </a:lnTo>
                  <a:lnTo>
                    <a:pt x="537" y="35"/>
                  </a:lnTo>
                  <a:lnTo>
                    <a:pt x="537" y="39"/>
                  </a:lnTo>
                  <a:lnTo>
                    <a:pt x="537" y="48"/>
                  </a:lnTo>
                  <a:lnTo>
                    <a:pt x="537" y="57"/>
                  </a:lnTo>
                  <a:lnTo>
                    <a:pt x="529" y="57"/>
                  </a:lnTo>
                  <a:lnTo>
                    <a:pt x="529" y="66"/>
                  </a:lnTo>
                  <a:lnTo>
                    <a:pt x="515" y="66"/>
                  </a:lnTo>
                  <a:lnTo>
                    <a:pt x="515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18040" y="5384880"/>
              <a:ext cx="464040" cy="422640"/>
            </a:xfrm>
            <a:custGeom>
              <a:avLst/>
              <a:gdLst/>
              <a:ahLst/>
              <a:rect l="0" t="0" r="r" b="b"/>
              <a:pathLst>
                <a:path w="1289" h="1174">
                  <a:moveTo>
                    <a:pt x="1245" y="35"/>
                  </a:moveTo>
                  <a:lnTo>
                    <a:pt x="1192" y="52"/>
                  </a:lnTo>
                  <a:lnTo>
                    <a:pt x="1144" y="66"/>
                  </a:lnTo>
                  <a:lnTo>
                    <a:pt x="1091" y="83"/>
                  </a:lnTo>
                  <a:lnTo>
                    <a:pt x="1042" y="110"/>
                  </a:lnTo>
                  <a:lnTo>
                    <a:pt x="994" y="123"/>
                  </a:lnTo>
                  <a:lnTo>
                    <a:pt x="944" y="141"/>
                  </a:lnTo>
                  <a:lnTo>
                    <a:pt x="896" y="163"/>
                  </a:lnTo>
                  <a:lnTo>
                    <a:pt x="843" y="185"/>
                  </a:lnTo>
                  <a:lnTo>
                    <a:pt x="799" y="202"/>
                  </a:lnTo>
                  <a:lnTo>
                    <a:pt x="746" y="229"/>
                  </a:lnTo>
                  <a:lnTo>
                    <a:pt x="697" y="242"/>
                  </a:lnTo>
                  <a:lnTo>
                    <a:pt x="653" y="268"/>
                  </a:lnTo>
                  <a:lnTo>
                    <a:pt x="605" y="291"/>
                  </a:lnTo>
                  <a:lnTo>
                    <a:pt x="561" y="318"/>
                  </a:lnTo>
                  <a:lnTo>
                    <a:pt x="516" y="344"/>
                  </a:lnTo>
                  <a:lnTo>
                    <a:pt x="472" y="375"/>
                  </a:lnTo>
                  <a:lnTo>
                    <a:pt x="499" y="384"/>
                  </a:lnTo>
                  <a:lnTo>
                    <a:pt x="530" y="402"/>
                  </a:lnTo>
                  <a:lnTo>
                    <a:pt x="561" y="406"/>
                  </a:lnTo>
                  <a:lnTo>
                    <a:pt x="587" y="419"/>
                  </a:lnTo>
                  <a:lnTo>
                    <a:pt x="613" y="428"/>
                  </a:lnTo>
                  <a:lnTo>
                    <a:pt x="644" y="428"/>
                  </a:lnTo>
                  <a:lnTo>
                    <a:pt x="671" y="428"/>
                  </a:lnTo>
                  <a:lnTo>
                    <a:pt x="688" y="428"/>
                  </a:lnTo>
                  <a:lnTo>
                    <a:pt x="719" y="428"/>
                  </a:lnTo>
                  <a:lnTo>
                    <a:pt x="755" y="428"/>
                  </a:lnTo>
                  <a:lnTo>
                    <a:pt x="785" y="433"/>
                  </a:lnTo>
                  <a:lnTo>
                    <a:pt x="816" y="433"/>
                  </a:lnTo>
                  <a:lnTo>
                    <a:pt x="843" y="433"/>
                  </a:lnTo>
                  <a:lnTo>
                    <a:pt x="874" y="446"/>
                  </a:lnTo>
                  <a:lnTo>
                    <a:pt x="900" y="446"/>
                  </a:lnTo>
                  <a:lnTo>
                    <a:pt x="922" y="464"/>
                  </a:lnTo>
                  <a:lnTo>
                    <a:pt x="935" y="464"/>
                  </a:lnTo>
                  <a:lnTo>
                    <a:pt x="944" y="464"/>
                  </a:lnTo>
                  <a:lnTo>
                    <a:pt x="953" y="468"/>
                  </a:lnTo>
                  <a:lnTo>
                    <a:pt x="966" y="468"/>
                  </a:lnTo>
                  <a:lnTo>
                    <a:pt x="976" y="481"/>
                  </a:lnTo>
                  <a:lnTo>
                    <a:pt x="994" y="481"/>
                  </a:lnTo>
                  <a:lnTo>
                    <a:pt x="1003" y="490"/>
                  </a:lnTo>
                  <a:lnTo>
                    <a:pt x="1016" y="490"/>
                  </a:lnTo>
                  <a:lnTo>
                    <a:pt x="1025" y="494"/>
                  </a:lnTo>
                  <a:lnTo>
                    <a:pt x="1029" y="503"/>
                  </a:lnTo>
                  <a:lnTo>
                    <a:pt x="1029" y="512"/>
                  </a:lnTo>
                  <a:lnTo>
                    <a:pt x="1042" y="512"/>
                  </a:lnTo>
                  <a:lnTo>
                    <a:pt x="1051" y="521"/>
                  </a:lnTo>
                  <a:lnTo>
                    <a:pt x="1051" y="525"/>
                  </a:lnTo>
                  <a:lnTo>
                    <a:pt x="1060" y="538"/>
                  </a:lnTo>
                  <a:lnTo>
                    <a:pt x="1060" y="556"/>
                  </a:lnTo>
                  <a:lnTo>
                    <a:pt x="1060" y="587"/>
                  </a:lnTo>
                  <a:lnTo>
                    <a:pt x="1060" y="618"/>
                  </a:lnTo>
                  <a:lnTo>
                    <a:pt x="1051" y="653"/>
                  </a:lnTo>
                  <a:lnTo>
                    <a:pt x="1029" y="675"/>
                  </a:lnTo>
                  <a:lnTo>
                    <a:pt x="1025" y="710"/>
                  </a:lnTo>
                  <a:lnTo>
                    <a:pt x="1003" y="733"/>
                  </a:lnTo>
                  <a:lnTo>
                    <a:pt x="976" y="763"/>
                  </a:lnTo>
                  <a:lnTo>
                    <a:pt x="953" y="790"/>
                  </a:lnTo>
                  <a:lnTo>
                    <a:pt x="922" y="816"/>
                  </a:lnTo>
                  <a:lnTo>
                    <a:pt x="900" y="838"/>
                  </a:lnTo>
                  <a:lnTo>
                    <a:pt x="874" y="852"/>
                  </a:lnTo>
                  <a:lnTo>
                    <a:pt x="843" y="878"/>
                  </a:lnTo>
                  <a:lnTo>
                    <a:pt x="816" y="905"/>
                  </a:lnTo>
                  <a:lnTo>
                    <a:pt x="777" y="923"/>
                  </a:lnTo>
                  <a:lnTo>
                    <a:pt x="746" y="945"/>
                  </a:lnTo>
                  <a:lnTo>
                    <a:pt x="719" y="963"/>
                  </a:lnTo>
                  <a:lnTo>
                    <a:pt x="697" y="980"/>
                  </a:lnTo>
                  <a:lnTo>
                    <a:pt x="680" y="989"/>
                  </a:lnTo>
                  <a:lnTo>
                    <a:pt x="658" y="994"/>
                  </a:lnTo>
                  <a:lnTo>
                    <a:pt x="644" y="1011"/>
                  </a:lnTo>
                  <a:lnTo>
                    <a:pt x="627" y="1020"/>
                  </a:lnTo>
                  <a:lnTo>
                    <a:pt x="596" y="1025"/>
                  </a:lnTo>
                  <a:lnTo>
                    <a:pt x="578" y="1042"/>
                  </a:lnTo>
                  <a:lnTo>
                    <a:pt x="561" y="1051"/>
                  </a:lnTo>
                  <a:lnTo>
                    <a:pt x="538" y="1064"/>
                  </a:lnTo>
                  <a:lnTo>
                    <a:pt x="508" y="1064"/>
                  </a:lnTo>
                  <a:lnTo>
                    <a:pt x="490" y="1073"/>
                  </a:lnTo>
                  <a:lnTo>
                    <a:pt x="472" y="1082"/>
                  </a:lnTo>
                  <a:lnTo>
                    <a:pt x="441" y="1091"/>
                  </a:lnTo>
                  <a:lnTo>
                    <a:pt x="424" y="1100"/>
                  </a:lnTo>
                  <a:lnTo>
                    <a:pt x="393" y="1108"/>
                  </a:lnTo>
                  <a:lnTo>
                    <a:pt x="380" y="1117"/>
                  </a:lnTo>
                  <a:lnTo>
                    <a:pt x="362" y="1122"/>
                  </a:lnTo>
                  <a:lnTo>
                    <a:pt x="336" y="1122"/>
                  </a:lnTo>
                  <a:lnTo>
                    <a:pt x="313" y="1130"/>
                  </a:lnTo>
                  <a:lnTo>
                    <a:pt x="282" y="1139"/>
                  </a:lnTo>
                  <a:lnTo>
                    <a:pt x="264" y="1148"/>
                  </a:lnTo>
                  <a:lnTo>
                    <a:pt x="238" y="1157"/>
                  </a:lnTo>
                  <a:lnTo>
                    <a:pt x="216" y="1166"/>
                  </a:lnTo>
                  <a:lnTo>
                    <a:pt x="185" y="1166"/>
                  </a:lnTo>
                  <a:lnTo>
                    <a:pt x="167" y="1174"/>
                  </a:lnTo>
                  <a:lnTo>
                    <a:pt x="141" y="1174"/>
                  </a:lnTo>
                  <a:lnTo>
                    <a:pt x="123" y="1174"/>
                  </a:lnTo>
                  <a:lnTo>
                    <a:pt x="97" y="1166"/>
                  </a:lnTo>
                  <a:lnTo>
                    <a:pt x="74" y="1157"/>
                  </a:lnTo>
                  <a:lnTo>
                    <a:pt x="52" y="1148"/>
                  </a:lnTo>
                  <a:lnTo>
                    <a:pt x="26" y="1139"/>
                  </a:lnTo>
                  <a:lnTo>
                    <a:pt x="17" y="1122"/>
                  </a:lnTo>
                  <a:lnTo>
                    <a:pt x="8" y="1117"/>
                  </a:lnTo>
                  <a:lnTo>
                    <a:pt x="0" y="1108"/>
                  </a:lnTo>
                  <a:lnTo>
                    <a:pt x="0" y="1100"/>
                  </a:lnTo>
                  <a:lnTo>
                    <a:pt x="0" y="1091"/>
                  </a:lnTo>
                  <a:lnTo>
                    <a:pt x="8" y="1073"/>
                  </a:lnTo>
                  <a:lnTo>
                    <a:pt x="8" y="1064"/>
                  </a:lnTo>
                  <a:lnTo>
                    <a:pt x="17" y="1055"/>
                  </a:lnTo>
                  <a:lnTo>
                    <a:pt x="17" y="1051"/>
                  </a:lnTo>
                  <a:lnTo>
                    <a:pt x="26" y="1042"/>
                  </a:lnTo>
                  <a:lnTo>
                    <a:pt x="39" y="1042"/>
                  </a:lnTo>
                  <a:lnTo>
                    <a:pt x="48" y="1025"/>
                  </a:lnTo>
                  <a:lnTo>
                    <a:pt x="52" y="1020"/>
                  </a:lnTo>
                  <a:lnTo>
                    <a:pt x="66" y="1011"/>
                  </a:lnTo>
                  <a:lnTo>
                    <a:pt x="74" y="1011"/>
                  </a:lnTo>
                  <a:lnTo>
                    <a:pt x="97" y="1011"/>
                  </a:lnTo>
                  <a:lnTo>
                    <a:pt x="88" y="1020"/>
                  </a:lnTo>
                  <a:lnTo>
                    <a:pt x="88" y="1025"/>
                  </a:lnTo>
                  <a:lnTo>
                    <a:pt x="88" y="1042"/>
                  </a:lnTo>
                  <a:lnTo>
                    <a:pt x="74" y="1051"/>
                  </a:lnTo>
                  <a:lnTo>
                    <a:pt x="74" y="1055"/>
                  </a:lnTo>
                  <a:lnTo>
                    <a:pt x="66" y="1064"/>
                  </a:lnTo>
                  <a:lnTo>
                    <a:pt x="52" y="1073"/>
                  </a:lnTo>
                  <a:lnTo>
                    <a:pt x="52" y="1082"/>
                  </a:lnTo>
                  <a:lnTo>
                    <a:pt x="48" y="1091"/>
                  </a:lnTo>
                  <a:lnTo>
                    <a:pt x="48" y="1100"/>
                  </a:lnTo>
                  <a:lnTo>
                    <a:pt x="48" y="1108"/>
                  </a:lnTo>
                  <a:lnTo>
                    <a:pt x="48" y="1117"/>
                  </a:lnTo>
                  <a:lnTo>
                    <a:pt x="52" y="1122"/>
                  </a:lnTo>
                  <a:lnTo>
                    <a:pt x="66" y="1122"/>
                  </a:lnTo>
                  <a:lnTo>
                    <a:pt x="74" y="1130"/>
                  </a:lnTo>
                  <a:lnTo>
                    <a:pt x="114" y="1130"/>
                  </a:lnTo>
                  <a:lnTo>
                    <a:pt x="141" y="1130"/>
                  </a:lnTo>
                  <a:lnTo>
                    <a:pt x="171" y="1130"/>
                  </a:lnTo>
                  <a:lnTo>
                    <a:pt x="207" y="1130"/>
                  </a:lnTo>
                  <a:lnTo>
                    <a:pt x="246" y="1130"/>
                  </a:lnTo>
                  <a:lnTo>
                    <a:pt x="268" y="1122"/>
                  </a:lnTo>
                  <a:lnTo>
                    <a:pt x="299" y="1117"/>
                  </a:lnTo>
                  <a:lnTo>
                    <a:pt x="336" y="1108"/>
                  </a:lnTo>
                  <a:lnTo>
                    <a:pt x="371" y="1100"/>
                  </a:lnTo>
                  <a:lnTo>
                    <a:pt x="393" y="1082"/>
                  </a:lnTo>
                  <a:lnTo>
                    <a:pt x="424" y="1064"/>
                  </a:lnTo>
                  <a:lnTo>
                    <a:pt x="455" y="1055"/>
                  </a:lnTo>
                  <a:lnTo>
                    <a:pt x="486" y="1042"/>
                  </a:lnTo>
                  <a:lnTo>
                    <a:pt x="508" y="1020"/>
                  </a:lnTo>
                  <a:lnTo>
                    <a:pt x="538" y="1011"/>
                  </a:lnTo>
                  <a:lnTo>
                    <a:pt x="569" y="994"/>
                  </a:lnTo>
                  <a:lnTo>
                    <a:pt x="605" y="989"/>
                  </a:lnTo>
                  <a:lnTo>
                    <a:pt x="636" y="963"/>
                  </a:lnTo>
                  <a:lnTo>
                    <a:pt x="671" y="954"/>
                  </a:lnTo>
                  <a:lnTo>
                    <a:pt x="697" y="932"/>
                  </a:lnTo>
                  <a:lnTo>
                    <a:pt x="728" y="910"/>
                  </a:lnTo>
                  <a:lnTo>
                    <a:pt x="755" y="897"/>
                  </a:lnTo>
                  <a:lnTo>
                    <a:pt x="785" y="878"/>
                  </a:lnTo>
                  <a:lnTo>
                    <a:pt x="816" y="852"/>
                  </a:lnTo>
                  <a:lnTo>
                    <a:pt x="830" y="838"/>
                  </a:lnTo>
                  <a:lnTo>
                    <a:pt x="860" y="816"/>
                  </a:lnTo>
                  <a:lnTo>
                    <a:pt x="882" y="790"/>
                  </a:lnTo>
                  <a:lnTo>
                    <a:pt x="904" y="772"/>
                  </a:lnTo>
                  <a:lnTo>
                    <a:pt x="922" y="746"/>
                  </a:lnTo>
                  <a:lnTo>
                    <a:pt x="944" y="719"/>
                  </a:lnTo>
                  <a:lnTo>
                    <a:pt x="966" y="684"/>
                  </a:lnTo>
                  <a:lnTo>
                    <a:pt x="985" y="662"/>
                  </a:lnTo>
                  <a:lnTo>
                    <a:pt x="994" y="653"/>
                  </a:lnTo>
                  <a:lnTo>
                    <a:pt x="994" y="644"/>
                  </a:lnTo>
                  <a:lnTo>
                    <a:pt x="1003" y="636"/>
                  </a:lnTo>
                  <a:lnTo>
                    <a:pt x="1003" y="618"/>
                  </a:lnTo>
                  <a:lnTo>
                    <a:pt x="1016" y="613"/>
                  </a:lnTo>
                  <a:lnTo>
                    <a:pt x="1016" y="605"/>
                  </a:lnTo>
                  <a:lnTo>
                    <a:pt x="1025" y="596"/>
                  </a:lnTo>
                  <a:lnTo>
                    <a:pt x="1025" y="578"/>
                  </a:lnTo>
                  <a:lnTo>
                    <a:pt x="1025" y="569"/>
                  </a:lnTo>
                  <a:lnTo>
                    <a:pt x="1025" y="556"/>
                  </a:lnTo>
                  <a:lnTo>
                    <a:pt x="1016" y="547"/>
                  </a:lnTo>
                  <a:lnTo>
                    <a:pt x="1003" y="538"/>
                  </a:lnTo>
                  <a:lnTo>
                    <a:pt x="1003" y="525"/>
                  </a:lnTo>
                  <a:lnTo>
                    <a:pt x="994" y="521"/>
                  </a:lnTo>
                  <a:lnTo>
                    <a:pt x="976" y="512"/>
                  </a:lnTo>
                  <a:lnTo>
                    <a:pt x="966" y="503"/>
                  </a:lnTo>
                  <a:lnTo>
                    <a:pt x="953" y="494"/>
                  </a:lnTo>
                  <a:lnTo>
                    <a:pt x="944" y="494"/>
                  </a:lnTo>
                  <a:lnTo>
                    <a:pt x="935" y="490"/>
                  </a:lnTo>
                  <a:lnTo>
                    <a:pt x="922" y="490"/>
                  </a:lnTo>
                  <a:lnTo>
                    <a:pt x="913" y="490"/>
                  </a:lnTo>
                  <a:lnTo>
                    <a:pt x="904" y="481"/>
                  </a:lnTo>
                  <a:lnTo>
                    <a:pt x="900" y="481"/>
                  </a:lnTo>
                  <a:lnTo>
                    <a:pt x="882" y="481"/>
                  </a:lnTo>
                  <a:lnTo>
                    <a:pt x="874" y="468"/>
                  </a:lnTo>
                  <a:lnTo>
                    <a:pt x="860" y="468"/>
                  </a:lnTo>
                  <a:lnTo>
                    <a:pt x="852" y="468"/>
                  </a:lnTo>
                  <a:lnTo>
                    <a:pt x="843" y="468"/>
                  </a:lnTo>
                  <a:lnTo>
                    <a:pt x="830" y="468"/>
                  </a:lnTo>
                  <a:lnTo>
                    <a:pt x="816" y="468"/>
                  </a:lnTo>
                  <a:lnTo>
                    <a:pt x="807" y="464"/>
                  </a:lnTo>
                  <a:lnTo>
                    <a:pt x="799" y="464"/>
                  </a:lnTo>
                  <a:lnTo>
                    <a:pt x="777" y="464"/>
                  </a:lnTo>
                  <a:lnTo>
                    <a:pt x="755" y="455"/>
                  </a:lnTo>
                  <a:lnTo>
                    <a:pt x="733" y="455"/>
                  </a:lnTo>
                  <a:lnTo>
                    <a:pt x="706" y="455"/>
                  </a:lnTo>
                  <a:lnTo>
                    <a:pt x="688" y="455"/>
                  </a:lnTo>
                  <a:lnTo>
                    <a:pt x="671" y="455"/>
                  </a:lnTo>
                  <a:lnTo>
                    <a:pt x="653" y="455"/>
                  </a:lnTo>
                  <a:lnTo>
                    <a:pt x="636" y="455"/>
                  </a:lnTo>
                  <a:lnTo>
                    <a:pt x="613" y="455"/>
                  </a:lnTo>
                  <a:lnTo>
                    <a:pt x="587" y="455"/>
                  </a:lnTo>
                  <a:lnTo>
                    <a:pt x="569" y="446"/>
                  </a:lnTo>
                  <a:lnTo>
                    <a:pt x="552" y="446"/>
                  </a:lnTo>
                  <a:lnTo>
                    <a:pt x="530" y="446"/>
                  </a:lnTo>
                  <a:lnTo>
                    <a:pt x="508" y="433"/>
                  </a:lnTo>
                  <a:lnTo>
                    <a:pt x="490" y="428"/>
                  </a:lnTo>
                  <a:lnTo>
                    <a:pt x="472" y="428"/>
                  </a:lnTo>
                  <a:lnTo>
                    <a:pt x="472" y="419"/>
                  </a:lnTo>
                  <a:lnTo>
                    <a:pt x="464" y="406"/>
                  </a:lnTo>
                  <a:lnTo>
                    <a:pt x="455" y="406"/>
                  </a:lnTo>
                  <a:lnTo>
                    <a:pt x="441" y="402"/>
                  </a:lnTo>
                  <a:lnTo>
                    <a:pt x="433" y="393"/>
                  </a:lnTo>
                  <a:lnTo>
                    <a:pt x="433" y="384"/>
                  </a:lnTo>
                  <a:lnTo>
                    <a:pt x="424" y="384"/>
                  </a:lnTo>
                  <a:lnTo>
                    <a:pt x="424" y="375"/>
                  </a:lnTo>
                  <a:lnTo>
                    <a:pt x="424" y="371"/>
                  </a:lnTo>
                  <a:lnTo>
                    <a:pt x="424" y="358"/>
                  </a:lnTo>
                  <a:lnTo>
                    <a:pt x="424" y="349"/>
                  </a:lnTo>
                  <a:lnTo>
                    <a:pt x="433" y="349"/>
                  </a:lnTo>
                  <a:lnTo>
                    <a:pt x="486" y="318"/>
                  </a:lnTo>
                  <a:lnTo>
                    <a:pt x="530" y="291"/>
                  </a:lnTo>
                  <a:lnTo>
                    <a:pt x="578" y="268"/>
                  </a:lnTo>
                  <a:lnTo>
                    <a:pt x="627" y="233"/>
                  </a:lnTo>
                  <a:lnTo>
                    <a:pt x="671" y="211"/>
                  </a:lnTo>
                  <a:lnTo>
                    <a:pt x="719" y="185"/>
                  </a:lnTo>
                  <a:lnTo>
                    <a:pt x="777" y="163"/>
                  </a:lnTo>
                  <a:lnTo>
                    <a:pt x="821" y="132"/>
                  </a:lnTo>
                  <a:lnTo>
                    <a:pt x="882" y="114"/>
                  </a:lnTo>
                  <a:lnTo>
                    <a:pt x="922" y="101"/>
                  </a:lnTo>
                  <a:lnTo>
                    <a:pt x="985" y="74"/>
                  </a:lnTo>
                  <a:lnTo>
                    <a:pt x="1029" y="57"/>
                  </a:lnTo>
                  <a:lnTo>
                    <a:pt x="1091" y="44"/>
                  </a:lnTo>
                  <a:lnTo>
                    <a:pt x="1144" y="22"/>
                  </a:lnTo>
                  <a:lnTo>
                    <a:pt x="1201" y="17"/>
                  </a:lnTo>
                  <a:lnTo>
                    <a:pt x="1258" y="0"/>
                  </a:lnTo>
                  <a:lnTo>
                    <a:pt x="1267" y="0"/>
                  </a:lnTo>
                  <a:lnTo>
                    <a:pt x="1280" y="0"/>
                  </a:lnTo>
                  <a:lnTo>
                    <a:pt x="1289" y="8"/>
                  </a:lnTo>
                  <a:lnTo>
                    <a:pt x="1289" y="17"/>
                  </a:lnTo>
                  <a:lnTo>
                    <a:pt x="1289" y="22"/>
                  </a:lnTo>
                  <a:lnTo>
                    <a:pt x="1280" y="22"/>
                  </a:lnTo>
                  <a:lnTo>
                    <a:pt x="1280" y="35"/>
                  </a:lnTo>
                  <a:lnTo>
                    <a:pt x="1267" y="35"/>
                  </a:lnTo>
                  <a:lnTo>
                    <a:pt x="1258" y="35"/>
                  </a:lnTo>
                  <a:lnTo>
                    <a:pt x="1245" y="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16560" y="5433840"/>
              <a:ext cx="911520" cy="262440"/>
            </a:xfrm>
            <a:custGeom>
              <a:avLst/>
              <a:gdLst/>
              <a:ahLst/>
              <a:rect l="0" t="0" r="r" b="b"/>
              <a:pathLst>
                <a:path w="2532" h="729">
                  <a:moveTo>
                    <a:pt x="74" y="566"/>
                  </a:moveTo>
                  <a:lnTo>
                    <a:pt x="88" y="538"/>
                  </a:lnTo>
                  <a:lnTo>
                    <a:pt x="97" y="525"/>
                  </a:lnTo>
                  <a:lnTo>
                    <a:pt x="105" y="516"/>
                  </a:lnTo>
                  <a:lnTo>
                    <a:pt x="114" y="503"/>
                  </a:lnTo>
                  <a:lnTo>
                    <a:pt x="123" y="490"/>
                  </a:lnTo>
                  <a:lnTo>
                    <a:pt x="127" y="477"/>
                  </a:lnTo>
                  <a:lnTo>
                    <a:pt x="141" y="468"/>
                  </a:lnTo>
                  <a:lnTo>
                    <a:pt x="163" y="450"/>
                  </a:lnTo>
                  <a:lnTo>
                    <a:pt x="171" y="446"/>
                  </a:lnTo>
                  <a:lnTo>
                    <a:pt x="176" y="433"/>
                  </a:lnTo>
                  <a:lnTo>
                    <a:pt x="194" y="419"/>
                  </a:lnTo>
                  <a:lnTo>
                    <a:pt x="207" y="411"/>
                  </a:lnTo>
                  <a:lnTo>
                    <a:pt x="224" y="393"/>
                  </a:lnTo>
                  <a:lnTo>
                    <a:pt x="238" y="384"/>
                  </a:lnTo>
                  <a:lnTo>
                    <a:pt x="246" y="375"/>
                  </a:lnTo>
                  <a:lnTo>
                    <a:pt x="268" y="367"/>
                  </a:lnTo>
                  <a:lnTo>
                    <a:pt x="268" y="358"/>
                  </a:lnTo>
                  <a:lnTo>
                    <a:pt x="273" y="358"/>
                  </a:lnTo>
                  <a:lnTo>
                    <a:pt x="286" y="358"/>
                  </a:lnTo>
                  <a:lnTo>
                    <a:pt x="291" y="358"/>
                  </a:lnTo>
                  <a:lnTo>
                    <a:pt x="291" y="367"/>
                  </a:lnTo>
                  <a:lnTo>
                    <a:pt x="299" y="375"/>
                  </a:lnTo>
                  <a:lnTo>
                    <a:pt x="299" y="367"/>
                  </a:lnTo>
                  <a:lnTo>
                    <a:pt x="299" y="358"/>
                  </a:lnTo>
                  <a:lnTo>
                    <a:pt x="313" y="358"/>
                  </a:lnTo>
                  <a:lnTo>
                    <a:pt x="321" y="358"/>
                  </a:lnTo>
                  <a:lnTo>
                    <a:pt x="335" y="353"/>
                  </a:lnTo>
                  <a:lnTo>
                    <a:pt x="343" y="353"/>
                  </a:lnTo>
                  <a:lnTo>
                    <a:pt x="352" y="353"/>
                  </a:lnTo>
                  <a:lnTo>
                    <a:pt x="352" y="358"/>
                  </a:lnTo>
                  <a:lnTo>
                    <a:pt x="361" y="358"/>
                  </a:lnTo>
                  <a:lnTo>
                    <a:pt x="361" y="375"/>
                  </a:lnTo>
                  <a:lnTo>
                    <a:pt x="361" y="393"/>
                  </a:lnTo>
                  <a:lnTo>
                    <a:pt x="352" y="411"/>
                  </a:lnTo>
                  <a:lnTo>
                    <a:pt x="352" y="433"/>
                  </a:lnTo>
                  <a:lnTo>
                    <a:pt x="343" y="450"/>
                  </a:lnTo>
                  <a:lnTo>
                    <a:pt x="335" y="468"/>
                  </a:lnTo>
                  <a:lnTo>
                    <a:pt x="321" y="481"/>
                  </a:lnTo>
                  <a:lnTo>
                    <a:pt x="321" y="503"/>
                  </a:lnTo>
                  <a:lnTo>
                    <a:pt x="299" y="516"/>
                  </a:lnTo>
                  <a:lnTo>
                    <a:pt x="291" y="538"/>
                  </a:lnTo>
                  <a:lnTo>
                    <a:pt x="291" y="566"/>
                  </a:lnTo>
                  <a:lnTo>
                    <a:pt x="273" y="579"/>
                  </a:lnTo>
                  <a:lnTo>
                    <a:pt x="273" y="597"/>
                  </a:lnTo>
                  <a:lnTo>
                    <a:pt x="268" y="614"/>
                  </a:lnTo>
                  <a:lnTo>
                    <a:pt x="268" y="637"/>
                  </a:lnTo>
                  <a:lnTo>
                    <a:pt x="268" y="654"/>
                  </a:lnTo>
                  <a:lnTo>
                    <a:pt x="268" y="663"/>
                  </a:lnTo>
                  <a:lnTo>
                    <a:pt x="273" y="663"/>
                  </a:lnTo>
                  <a:lnTo>
                    <a:pt x="273" y="672"/>
                  </a:lnTo>
                  <a:lnTo>
                    <a:pt x="291" y="654"/>
                  </a:lnTo>
                  <a:lnTo>
                    <a:pt x="299" y="628"/>
                  </a:lnTo>
                  <a:lnTo>
                    <a:pt x="321" y="614"/>
                  </a:lnTo>
                  <a:lnTo>
                    <a:pt x="335" y="588"/>
                  </a:lnTo>
                  <a:lnTo>
                    <a:pt x="343" y="570"/>
                  </a:lnTo>
                  <a:lnTo>
                    <a:pt x="361" y="538"/>
                  </a:lnTo>
                  <a:lnTo>
                    <a:pt x="370" y="525"/>
                  </a:lnTo>
                  <a:lnTo>
                    <a:pt x="379" y="503"/>
                  </a:lnTo>
                  <a:lnTo>
                    <a:pt x="388" y="481"/>
                  </a:lnTo>
                  <a:lnTo>
                    <a:pt x="405" y="459"/>
                  </a:lnTo>
                  <a:lnTo>
                    <a:pt x="414" y="446"/>
                  </a:lnTo>
                  <a:lnTo>
                    <a:pt x="432" y="419"/>
                  </a:lnTo>
                  <a:lnTo>
                    <a:pt x="454" y="402"/>
                  </a:lnTo>
                  <a:lnTo>
                    <a:pt x="463" y="384"/>
                  </a:lnTo>
                  <a:lnTo>
                    <a:pt x="493" y="367"/>
                  </a:lnTo>
                  <a:lnTo>
                    <a:pt x="515" y="353"/>
                  </a:lnTo>
                  <a:lnTo>
                    <a:pt x="515" y="344"/>
                  </a:lnTo>
                  <a:lnTo>
                    <a:pt x="520" y="344"/>
                  </a:lnTo>
                  <a:lnTo>
                    <a:pt x="529" y="331"/>
                  </a:lnTo>
                  <a:lnTo>
                    <a:pt x="537" y="331"/>
                  </a:lnTo>
                  <a:lnTo>
                    <a:pt x="551" y="327"/>
                  </a:lnTo>
                  <a:lnTo>
                    <a:pt x="560" y="327"/>
                  </a:lnTo>
                  <a:lnTo>
                    <a:pt x="568" y="327"/>
                  </a:lnTo>
                  <a:lnTo>
                    <a:pt x="582" y="327"/>
                  </a:lnTo>
                  <a:lnTo>
                    <a:pt x="590" y="327"/>
                  </a:lnTo>
                  <a:lnTo>
                    <a:pt x="599" y="331"/>
                  </a:lnTo>
                  <a:lnTo>
                    <a:pt x="608" y="344"/>
                  </a:lnTo>
                  <a:lnTo>
                    <a:pt x="608" y="358"/>
                  </a:lnTo>
                  <a:lnTo>
                    <a:pt x="608" y="367"/>
                  </a:lnTo>
                  <a:lnTo>
                    <a:pt x="608" y="384"/>
                  </a:lnTo>
                  <a:lnTo>
                    <a:pt x="599" y="393"/>
                  </a:lnTo>
                  <a:lnTo>
                    <a:pt x="599" y="411"/>
                  </a:lnTo>
                  <a:lnTo>
                    <a:pt x="590" y="419"/>
                  </a:lnTo>
                  <a:lnTo>
                    <a:pt x="582" y="433"/>
                  </a:lnTo>
                  <a:lnTo>
                    <a:pt x="582" y="450"/>
                  </a:lnTo>
                  <a:lnTo>
                    <a:pt x="568" y="459"/>
                  </a:lnTo>
                  <a:lnTo>
                    <a:pt x="560" y="477"/>
                  </a:lnTo>
                  <a:lnTo>
                    <a:pt x="560" y="490"/>
                  </a:lnTo>
                  <a:lnTo>
                    <a:pt x="551" y="503"/>
                  </a:lnTo>
                  <a:lnTo>
                    <a:pt x="551" y="516"/>
                  </a:lnTo>
                  <a:lnTo>
                    <a:pt x="537" y="525"/>
                  </a:lnTo>
                  <a:lnTo>
                    <a:pt x="537" y="538"/>
                  </a:lnTo>
                  <a:lnTo>
                    <a:pt x="537" y="566"/>
                  </a:lnTo>
                  <a:lnTo>
                    <a:pt x="551" y="557"/>
                  </a:lnTo>
                  <a:lnTo>
                    <a:pt x="560" y="538"/>
                  </a:lnTo>
                  <a:lnTo>
                    <a:pt x="560" y="525"/>
                  </a:lnTo>
                  <a:lnTo>
                    <a:pt x="568" y="508"/>
                  </a:lnTo>
                  <a:lnTo>
                    <a:pt x="582" y="490"/>
                  </a:lnTo>
                  <a:lnTo>
                    <a:pt x="590" y="481"/>
                  </a:lnTo>
                  <a:lnTo>
                    <a:pt x="599" y="468"/>
                  </a:lnTo>
                  <a:lnTo>
                    <a:pt x="608" y="450"/>
                  </a:lnTo>
                  <a:lnTo>
                    <a:pt x="617" y="433"/>
                  </a:lnTo>
                  <a:lnTo>
                    <a:pt x="630" y="424"/>
                  </a:lnTo>
                  <a:lnTo>
                    <a:pt x="635" y="411"/>
                  </a:lnTo>
                  <a:lnTo>
                    <a:pt x="639" y="411"/>
                  </a:lnTo>
                  <a:lnTo>
                    <a:pt x="652" y="402"/>
                  </a:lnTo>
                  <a:lnTo>
                    <a:pt x="670" y="393"/>
                  </a:lnTo>
                  <a:lnTo>
                    <a:pt x="679" y="393"/>
                  </a:lnTo>
                  <a:lnTo>
                    <a:pt x="701" y="402"/>
                  </a:lnTo>
                  <a:lnTo>
                    <a:pt x="701" y="419"/>
                  </a:lnTo>
                  <a:lnTo>
                    <a:pt x="701" y="433"/>
                  </a:lnTo>
                  <a:lnTo>
                    <a:pt x="687" y="459"/>
                  </a:lnTo>
                  <a:lnTo>
                    <a:pt x="679" y="468"/>
                  </a:lnTo>
                  <a:lnTo>
                    <a:pt x="679" y="490"/>
                  </a:lnTo>
                  <a:lnTo>
                    <a:pt x="670" y="508"/>
                  </a:lnTo>
                  <a:lnTo>
                    <a:pt x="670" y="525"/>
                  </a:lnTo>
                  <a:lnTo>
                    <a:pt x="661" y="538"/>
                  </a:lnTo>
                  <a:lnTo>
                    <a:pt x="661" y="570"/>
                  </a:lnTo>
                  <a:lnTo>
                    <a:pt x="661" y="588"/>
                  </a:lnTo>
                  <a:lnTo>
                    <a:pt x="661" y="606"/>
                  </a:lnTo>
                  <a:lnTo>
                    <a:pt x="661" y="623"/>
                  </a:lnTo>
                  <a:lnTo>
                    <a:pt x="661" y="637"/>
                  </a:lnTo>
                  <a:lnTo>
                    <a:pt x="670" y="654"/>
                  </a:lnTo>
                  <a:lnTo>
                    <a:pt x="679" y="672"/>
                  </a:lnTo>
                  <a:lnTo>
                    <a:pt x="687" y="685"/>
                  </a:lnTo>
                  <a:lnTo>
                    <a:pt x="723" y="654"/>
                  </a:lnTo>
                  <a:lnTo>
                    <a:pt x="749" y="628"/>
                  </a:lnTo>
                  <a:lnTo>
                    <a:pt x="776" y="606"/>
                  </a:lnTo>
                  <a:lnTo>
                    <a:pt x="806" y="579"/>
                  </a:lnTo>
                  <a:lnTo>
                    <a:pt x="829" y="538"/>
                  </a:lnTo>
                  <a:lnTo>
                    <a:pt x="855" y="516"/>
                  </a:lnTo>
                  <a:lnTo>
                    <a:pt x="873" y="481"/>
                  </a:lnTo>
                  <a:lnTo>
                    <a:pt x="899" y="459"/>
                  </a:lnTo>
                  <a:lnTo>
                    <a:pt x="917" y="433"/>
                  </a:lnTo>
                  <a:lnTo>
                    <a:pt x="948" y="402"/>
                  </a:lnTo>
                  <a:lnTo>
                    <a:pt x="970" y="375"/>
                  </a:lnTo>
                  <a:lnTo>
                    <a:pt x="992" y="344"/>
                  </a:lnTo>
                  <a:lnTo>
                    <a:pt x="1023" y="318"/>
                  </a:lnTo>
                  <a:lnTo>
                    <a:pt x="1053" y="296"/>
                  </a:lnTo>
                  <a:lnTo>
                    <a:pt x="1080" y="269"/>
                  </a:lnTo>
                  <a:lnTo>
                    <a:pt x="1120" y="243"/>
                  </a:lnTo>
                  <a:lnTo>
                    <a:pt x="1128" y="243"/>
                  </a:lnTo>
                  <a:lnTo>
                    <a:pt x="1142" y="243"/>
                  </a:lnTo>
                  <a:lnTo>
                    <a:pt x="1146" y="243"/>
                  </a:lnTo>
                  <a:lnTo>
                    <a:pt x="1146" y="252"/>
                  </a:lnTo>
                  <a:lnTo>
                    <a:pt x="1155" y="252"/>
                  </a:lnTo>
                  <a:lnTo>
                    <a:pt x="1155" y="261"/>
                  </a:lnTo>
                  <a:lnTo>
                    <a:pt x="1164" y="269"/>
                  </a:lnTo>
                  <a:lnTo>
                    <a:pt x="1172" y="252"/>
                  </a:lnTo>
                  <a:lnTo>
                    <a:pt x="1186" y="239"/>
                  </a:lnTo>
                  <a:lnTo>
                    <a:pt x="1195" y="217"/>
                  </a:lnTo>
                  <a:lnTo>
                    <a:pt x="1203" y="203"/>
                  </a:lnTo>
                  <a:lnTo>
                    <a:pt x="1212" y="180"/>
                  </a:lnTo>
                  <a:lnTo>
                    <a:pt x="1221" y="163"/>
                  </a:lnTo>
                  <a:lnTo>
                    <a:pt x="1234" y="154"/>
                  </a:lnTo>
                  <a:lnTo>
                    <a:pt x="1239" y="132"/>
                  </a:lnTo>
                  <a:lnTo>
                    <a:pt x="1247" y="114"/>
                  </a:lnTo>
                  <a:lnTo>
                    <a:pt x="1261" y="105"/>
                  </a:lnTo>
                  <a:lnTo>
                    <a:pt x="1271" y="92"/>
                  </a:lnTo>
                  <a:lnTo>
                    <a:pt x="1284" y="70"/>
                  </a:lnTo>
                  <a:lnTo>
                    <a:pt x="1301" y="57"/>
                  </a:lnTo>
                  <a:lnTo>
                    <a:pt x="1315" y="39"/>
                  </a:lnTo>
                  <a:lnTo>
                    <a:pt x="1319" y="22"/>
                  </a:lnTo>
                  <a:lnTo>
                    <a:pt x="1337" y="13"/>
                  </a:lnTo>
                  <a:lnTo>
                    <a:pt x="1337" y="8"/>
                  </a:lnTo>
                  <a:lnTo>
                    <a:pt x="1345" y="0"/>
                  </a:lnTo>
                  <a:lnTo>
                    <a:pt x="1359" y="0"/>
                  </a:lnTo>
                  <a:lnTo>
                    <a:pt x="1368" y="0"/>
                  </a:lnTo>
                  <a:lnTo>
                    <a:pt x="1368" y="8"/>
                  </a:lnTo>
                  <a:lnTo>
                    <a:pt x="1376" y="8"/>
                  </a:lnTo>
                  <a:lnTo>
                    <a:pt x="1390" y="8"/>
                  </a:lnTo>
                  <a:lnTo>
                    <a:pt x="1390" y="13"/>
                  </a:lnTo>
                  <a:lnTo>
                    <a:pt x="1390" y="22"/>
                  </a:lnTo>
                  <a:lnTo>
                    <a:pt x="1390" y="35"/>
                  </a:lnTo>
                  <a:lnTo>
                    <a:pt x="1390" y="39"/>
                  </a:lnTo>
                  <a:lnTo>
                    <a:pt x="1390" y="48"/>
                  </a:lnTo>
                  <a:lnTo>
                    <a:pt x="1390" y="57"/>
                  </a:lnTo>
                  <a:lnTo>
                    <a:pt x="1368" y="70"/>
                  </a:lnTo>
                  <a:lnTo>
                    <a:pt x="1359" y="97"/>
                  </a:lnTo>
                  <a:lnTo>
                    <a:pt x="1345" y="114"/>
                  </a:lnTo>
                  <a:lnTo>
                    <a:pt x="1337" y="132"/>
                  </a:lnTo>
                  <a:lnTo>
                    <a:pt x="1319" y="154"/>
                  </a:lnTo>
                  <a:lnTo>
                    <a:pt x="1315" y="171"/>
                  </a:lnTo>
                  <a:lnTo>
                    <a:pt x="1301" y="195"/>
                  </a:lnTo>
                  <a:lnTo>
                    <a:pt x="1284" y="212"/>
                  </a:lnTo>
                  <a:lnTo>
                    <a:pt x="1271" y="225"/>
                  </a:lnTo>
                  <a:lnTo>
                    <a:pt x="1247" y="252"/>
                  </a:lnTo>
                  <a:lnTo>
                    <a:pt x="1239" y="269"/>
                  </a:lnTo>
                  <a:lnTo>
                    <a:pt x="1234" y="283"/>
                  </a:lnTo>
                  <a:lnTo>
                    <a:pt x="1212" y="300"/>
                  </a:lnTo>
                  <a:lnTo>
                    <a:pt x="1203" y="327"/>
                  </a:lnTo>
                  <a:lnTo>
                    <a:pt x="1195" y="344"/>
                  </a:lnTo>
                  <a:lnTo>
                    <a:pt x="1186" y="367"/>
                  </a:lnTo>
                  <a:lnTo>
                    <a:pt x="1172" y="384"/>
                  </a:lnTo>
                  <a:lnTo>
                    <a:pt x="1155" y="402"/>
                  </a:lnTo>
                  <a:lnTo>
                    <a:pt x="1146" y="419"/>
                  </a:lnTo>
                  <a:lnTo>
                    <a:pt x="1146" y="446"/>
                  </a:lnTo>
                  <a:lnTo>
                    <a:pt x="1142" y="459"/>
                  </a:lnTo>
                  <a:lnTo>
                    <a:pt x="1128" y="481"/>
                  </a:lnTo>
                  <a:lnTo>
                    <a:pt x="1120" y="503"/>
                  </a:lnTo>
                  <a:lnTo>
                    <a:pt x="1120" y="525"/>
                  </a:lnTo>
                  <a:lnTo>
                    <a:pt x="1111" y="538"/>
                  </a:lnTo>
                  <a:lnTo>
                    <a:pt x="1111" y="570"/>
                  </a:lnTo>
                  <a:lnTo>
                    <a:pt x="1111" y="588"/>
                  </a:lnTo>
                  <a:lnTo>
                    <a:pt x="1120" y="606"/>
                  </a:lnTo>
                  <a:lnTo>
                    <a:pt x="1120" y="623"/>
                  </a:lnTo>
                  <a:lnTo>
                    <a:pt x="1128" y="637"/>
                  </a:lnTo>
                  <a:lnTo>
                    <a:pt x="1146" y="654"/>
                  </a:lnTo>
                  <a:lnTo>
                    <a:pt x="1155" y="672"/>
                  </a:lnTo>
                  <a:lnTo>
                    <a:pt x="1164" y="672"/>
                  </a:lnTo>
                  <a:lnTo>
                    <a:pt x="1172" y="672"/>
                  </a:lnTo>
                  <a:lnTo>
                    <a:pt x="1186" y="672"/>
                  </a:lnTo>
                  <a:lnTo>
                    <a:pt x="1195" y="663"/>
                  </a:lnTo>
                  <a:lnTo>
                    <a:pt x="1203" y="663"/>
                  </a:lnTo>
                  <a:lnTo>
                    <a:pt x="1203" y="654"/>
                  </a:lnTo>
                  <a:lnTo>
                    <a:pt x="1212" y="654"/>
                  </a:lnTo>
                  <a:lnTo>
                    <a:pt x="1212" y="645"/>
                  </a:lnTo>
                  <a:lnTo>
                    <a:pt x="1221" y="637"/>
                  </a:lnTo>
                  <a:lnTo>
                    <a:pt x="1234" y="637"/>
                  </a:lnTo>
                  <a:lnTo>
                    <a:pt x="1234" y="628"/>
                  </a:lnTo>
                  <a:lnTo>
                    <a:pt x="1234" y="623"/>
                  </a:lnTo>
                  <a:lnTo>
                    <a:pt x="1239" y="623"/>
                  </a:lnTo>
                  <a:lnTo>
                    <a:pt x="1261" y="606"/>
                  </a:lnTo>
                  <a:lnTo>
                    <a:pt x="1271" y="579"/>
                  </a:lnTo>
                  <a:lnTo>
                    <a:pt x="1293" y="566"/>
                  </a:lnTo>
                  <a:lnTo>
                    <a:pt x="1315" y="538"/>
                  </a:lnTo>
                  <a:lnTo>
                    <a:pt x="1319" y="525"/>
                  </a:lnTo>
                  <a:lnTo>
                    <a:pt x="1337" y="508"/>
                  </a:lnTo>
                  <a:lnTo>
                    <a:pt x="1359" y="490"/>
                  </a:lnTo>
                  <a:lnTo>
                    <a:pt x="1368" y="477"/>
                  </a:lnTo>
                  <a:lnTo>
                    <a:pt x="1390" y="459"/>
                  </a:lnTo>
                  <a:lnTo>
                    <a:pt x="1403" y="446"/>
                  </a:lnTo>
                  <a:lnTo>
                    <a:pt x="1420" y="424"/>
                  </a:lnTo>
                  <a:lnTo>
                    <a:pt x="1434" y="411"/>
                  </a:lnTo>
                  <a:lnTo>
                    <a:pt x="1451" y="393"/>
                  </a:lnTo>
                  <a:lnTo>
                    <a:pt x="1469" y="375"/>
                  </a:lnTo>
                  <a:lnTo>
                    <a:pt x="1487" y="358"/>
                  </a:lnTo>
                  <a:lnTo>
                    <a:pt x="1509" y="353"/>
                  </a:lnTo>
                  <a:lnTo>
                    <a:pt x="1517" y="344"/>
                  </a:lnTo>
                  <a:lnTo>
                    <a:pt x="1531" y="344"/>
                  </a:lnTo>
                  <a:lnTo>
                    <a:pt x="1531" y="331"/>
                  </a:lnTo>
                  <a:lnTo>
                    <a:pt x="1539" y="331"/>
                  </a:lnTo>
                  <a:lnTo>
                    <a:pt x="1548" y="331"/>
                  </a:lnTo>
                  <a:lnTo>
                    <a:pt x="1557" y="344"/>
                  </a:lnTo>
                  <a:lnTo>
                    <a:pt x="1562" y="344"/>
                  </a:lnTo>
                  <a:lnTo>
                    <a:pt x="1562" y="353"/>
                  </a:lnTo>
                  <a:lnTo>
                    <a:pt x="1562" y="358"/>
                  </a:lnTo>
                  <a:lnTo>
                    <a:pt x="1562" y="367"/>
                  </a:lnTo>
                  <a:lnTo>
                    <a:pt x="1562" y="375"/>
                  </a:lnTo>
                  <a:lnTo>
                    <a:pt x="1557" y="393"/>
                  </a:lnTo>
                  <a:lnTo>
                    <a:pt x="1548" y="411"/>
                  </a:lnTo>
                  <a:lnTo>
                    <a:pt x="1531" y="424"/>
                  </a:lnTo>
                  <a:lnTo>
                    <a:pt x="1517" y="446"/>
                  </a:lnTo>
                  <a:lnTo>
                    <a:pt x="1500" y="468"/>
                  </a:lnTo>
                  <a:lnTo>
                    <a:pt x="1487" y="481"/>
                  </a:lnTo>
                  <a:lnTo>
                    <a:pt x="1469" y="503"/>
                  </a:lnTo>
                  <a:lnTo>
                    <a:pt x="1460" y="525"/>
                  </a:lnTo>
                  <a:lnTo>
                    <a:pt x="1451" y="538"/>
                  </a:lnTo>
                  <a:lnTo>
                    <a:pt x="1434" y="566"/>
                  </a:lnTo>
                  <a:lnTo>
                    <a:pt x="1420" y="588"/>
                  </a:lnTo>
                  <a:lnTo>
                    <a:pt x="1420" y="606"/>
                  </a:lnTo>
                  <a:lnTo>
                    <a:pt x="1412" y="628"/>
                  </a:lnTo>
                  <a:lnTo>
                    <a:pt x="1412" y="645"/>
                  </a:lnTo>
                  <a:lnTo>
                    <a:pt x="1412" y="663"/>
                  </a:lnTo>
                  <a:lnTo>
                    <a:pt x="1420" y="685"/>
                  </a:lnTo>
                  <a:lnTo>
                    <a:pt x="1451" y="672"/>
                  </a:lnTo>
                  <a:lnTo>
                    <a:pt x="1469" y="645"/>
                  </a:lnTo>
                  <a:lnTo>
                    <a:pt x="1500" y="628"/>
                  </a:lnTo>
                  <a:lnTo>
                    <a:pt x="1531" y="606"/>
                  </a:lnTo>
                  <a:lnTo>
                    <a:pt x="1557" y="579"/>
                  </a:lnTo>
                  <a:lnTo>
                    <a:pt x="1584" y="566"/>
                  </a:lnTo>
                  <a:lnTo>
                    <a:pt x="1614" y="534"/>
                  </a:lnTo>
                  <a:lnTo>
                    <a:pt x="1637" y="516"/>
                  </a:lnTo>
                  <a:lnTo>
                    <a:pt x="1659" y="490"/>
                  </a:lnTo>
                  <a:lnTo>
                    <a:pt x="1685" y="468"/>
                  </a:lnTo>
                  <a:lnTo>
                    <a:pt x="1716" y="446"/>
                  </a:lnTo>
                  <a:lnTo>
                    <a:pt x="1747" y="424"/>
                  </a:lnTo>
                  <a:lnTo>
                    <a:pt x="1778" y="411"/>
                  </a:lnTo>
                  <a:lnTo>
                    <a:pt x="1800" y="384"/>
                  </a:lnTo>
                  <a:lnTo>
                    <a:pt x="1831" y="367"/>
                  </a:lnTo>
                  <a:lnTo>
                    <a:pt x="1875" y="353"/>
                  </a:lnTo>
                  <a:lnTo>
                    <a:pt x="1875" y="344"/>
                  </a:lnTo>
                  <a:lnTo>
                    <a:pt x="1879" y="344"/>
                  </a:lnTo>
                  <a:lnTo>
                    <a:pt x="1879" y="331"/>
                  </a:lnTo>
                  <a:lnTo>
                    <a:pt x="1892" y="331"/>
                  </a:lnTo>
                  <a:lnTo>
                    <a:pt x="1901" y="331"/>
                  </a:lnTo>
                  <a:lnTo>
                    <a:pt x="1901" y="344"/>
                  </a:lnTo>
                  <a:lnTo>
                    <a:pt x="1901" y="353"/>
                  </a:lnTo>
                  <a:lnTo>
                    <a:pt x="1901" y="367"/>
                  </a:lnTo>
                  <a:lnTo>
                    <a:pt x="1892" y="384"/>
                  </a:lnTo>
                  <a:lnTo>
                    <a:pt x="1875" y="402"/>
                  </a:lnTo>
                  <a:lnTo>
                    <a:pt x="1861" y="419"/>
                  </a:lnTo>
                  <a:lnTo>
                    <a:pt x="1844" y="433"/>
                  </a:lnTo>
                  <a:lnTo>
                    <a:pt x="1822" y="450"/>
                  </a:lnTo>
                  <a:lnTo>
                    <a:pt x="1800" y="468"/>
                  </a:lnTo>
                  <a:lnTo>
                    <a:pt x="1786" y="481"/>
                  </a:lnTo>
                  <a:lnTo>
                    <a:pt x="1778" y="503"/>
                  </a:lnTo>
                  <a:lnTo>
                    <a:pt x="1756" y="516"/>
                  </a:lnTo>
                  <a:lnTo>
                    <a:pt x="1734" y="534"/>
                  </a:lnTo>
                  <a:lnTo>
                    <a:pt x="1725" y="557"/>
                  </a:lnTo>
                  <a:lnTo>
                    <a:pt x="1716" y="570"/>
                  </a:lnTo>
                  <a:lnTo>
                    <a:pt x="1707" y="588"/>
                  </a:lnTo>
                  <a:lnTo>
                    <a:pt x="1707" y="614"/>
                  </a:lnTo>
                  <a:lnTo>
                    <a:pt x="1707" y="628"/>
                  </a:lnTo>
                  <a:lnTo>
                    <a:pt x="1725" y="614"/>
                  </a:lnTo>
                  <a:lnTo>
                    <a:pt x="1747" y="597"/>
                  </a:lnTo>
                  <a:lnTo>
                    <a:pt x="1764" y="579"/>
                  </a:lnTo>
                  <a:lnTo>
                    <a:pt x="1778" y="566"/>
                  </a:lnTo>
                  <a:lnTo>
                    <a:pt x="1795" y="538"/>
                  </a:lnTo>
                  <a:lnTo>
                    <a:pt x="1808" y="516"/>
                  </a:lnTo>
                  <a:lnTo>
                    <a:pt x="1822" y="503"/>
                  </a:lnTo>
                  <a:lnTo>
                    <a:pt x="1844" y="481"/>
                  </a:lnTo>
                  <a:lnTo>
                    <a:pt x="1861" y="468"/>
                  </a:lnTo>
                  <a:lnTo>
                    <a:pt x="1875" y="446"/>
                  </a:lnTo>
                  <a:lnTo>
                    <a:pt x="1879" y="424"/>
                  </a:lnTo>
                  <a:lnTo>
                    <a:pt x="1901" y="411"/>
                  </a:lnTo>
                  <a:lnTo>
                    <a:pt x="1914" y="393"/>
                  </a:lnTo>
                  <a:lnTo>
                    <a:pt x="1923" y="375"/>
                  </a:lnTo>
                  <a:lnTo>
                    <a:pt x="1945" y="353"/>
                  </a:lnTo>
                  <a:lnTo>
                    <a:pt x="1954" y="331"/>
                  </a:lnTo>
                  <a:lnTo>
                    <a:pt x="1963" y="331"/>
                  </a:lnTo>
                  <a:lnTo>
                    <a:pt x="1963" y="344"/>
                  </a:lnTo>
                  <a:lnTo>
                    <a:pt x="1972" y="344"/>
                  </a:lnTo>
                  <a:lnTo>
                    <a:pt x="1980" y="344"/>
                  </a:lnTo>
                  <a:lnTo>
                    <a:pt x="1980" y="384"/>
                  </a:lnTo>
                  <a:lnTo>
                    <a:pt x="1994" y="424"/>
                  </a:lnTo>
                  <a:lnTo>
                    <a:pt x="2016" y="459"/>
                  </a:lnTo>
                  <a:lnTo>
                    <a:pt x="2029" y="490"/>
                  </a:lnTo>
                  <a:lnTo>
                    <a:pt x="2060" y="516"/>
                  </a:lnTo>
                  <a:lnTo>
                    <a:pt x="2100" y="538"/>
                  </a:lnTo>
                  <a:lnTo>
                    <a:pt x="2126" y="566"/>
                  </a:lnTo>
                  <a:lnTo>
                    <a:pt x="2161" y="579"/>
                  </a:lnTo>
                  <a:lnTo>
                    <a:pt x="2210" y="588"/>
                  </a:lnTo>
                  <a:lnTo>
                    <a:pt x="2249" y="606"/>
                  </a:lnTo>
                  <a:lnTo>
                    <a:pt x="2294" y="606"/>
                  </a:lnTo>
                  <a:lnTo>
                    <a:pt x="2346" y="614"/>
                  </a:lnTo>
                  <a:lnTo>
                    <a:pt x="2382" y="614"/>
                  </a:lnTo>
                  <a:lnTo>
                    <a:pt x="2430" y="614"/>
                  </a:lnTo>
                  <a:lnTo>
                    <a:pt x="2479" y="614"/>
                  </a:lnTo>
                  <a:lnTo>
                    <a:pt x="2523" y="614"/>
                  </a:lnTo>
                  <a:lnTo>
                    <a:pt x="2523" y="623"/>
                  </a:lnTo>
                  <a:lnTo>
                    <a:pt x="2532" y="623"/>
                  </a:lnTo>
                  <a:lnTo>
                    <a:pt x="2532" y="628"/>
                  </a:lnTo>
                  <a:lnTo>
                    <a:pt x="2532" y="637"/>
                  </a:lnTo>
                  <a:lnTo>
                    <a:pt x="2532" y="645"/>
                  </a:lnTo>
                  <a:lnTo>
                    <a:pt x="2483" y="654"/>
                  </a:lnTo>
                  <a:lnTo>
                    <a:pt x="2443" y="654"/>
                  </a:lnTo>
                  <a:lnTo>
                    <a:pt x="2404" y="654"/>
                  </a:lnTo>
                  <a:lnTo>
                    <a:pt x="2364" y="654"/>
                  </a:lnTo>
                  <a:lnTo>
                    <a:pt x="2316" y="654"/>
                  </a:lnTo>
                  <a:lnTo>
                    <a:pt x="2267" y="645"/>
                  </a:lnTo>
                  <a:lnTo>
                    <a:pt x="2232" y="637"/>
                  </a:lnTo>
                  <a:lnTo>
                    <a:pt x="2192" y="628"/>
                  </a:lnTo>
                  <a:lnTo>
                    <a:pt x="2152" y="614"/>
                  </a:lnTo>
                  <a:lnTo>
                    <a:pt x="2122" y="597"/>
                  </a:lnTo>
                  <a:lnTo>
                    <a:pt x="2077" y="579"/>
                  </a:lnTo>
                  <a:lnTo>
                    <a:pt x="2047" y="557"/>
                  </a:lnTo>
                  <a:lnTo>
                    <a:pt x="2016" y="525"/>
                  </a:lnTo>
                  <a:lnTo>
                    <a:pt x="1994" y="503"/>
                  </a:lnTo>
                  <a:lnTo>
                    <a:pt x="1963" y="468"/>
                  </a:lnTo>
                  <a:lnTo>
                    <a:pt x="1945" y="433"/>
                  </a:lnTo>
                  <a:lnTo>
                    <a:pt x="1923" y="450"/>
                  </a:lnTo>
                  <a:lnTo>
                    <a:pt x="1914" y="468"/>
                  </a:lnTo>
                  <a:lnTo>
                    <a:pt x="1901" y="481"/>
                  </a:lnTo>
                  <a:lnTo>
                    <a:pt x="1892" y="503"/>
                  </a:lnTo>
                  <a:lnTo>
                    <a:pt x="1879" y="516"/>
                  </a:lnTo>
                  <a:lnTo>
                    <a:pt x="1861" y="534"/>
                  </a:lnTo>
                  <a:lnTo>
                    <a:pt x="1853" y="557"/>
                  </a:lnTo>
                  <a:lnTo>
                    <a:pt x="1844" y="579"/>
                  </a:lnTo>
                  <a:lnTo>
                    <a:pt x="1822" y="588"/>
                  </a:lnTo>
                  <a:lnTo>
                    <a:pt x="1808" y="606"/>
                  </a:lnTo>
                  <a:lnTo>
                    <a:pt x="1795" y="623"/>
                  </a:lnTo>
                  <a:lnTo>
                    <a:pt x="1786" y="637"/>
                  </a:lnTo>
                  <a:lnTo>
                    <a:pt x="1764" y="654"/>
                  </a:lnTo>
                  <a:lnTo>
                    <a:pt x="1747" y="663"/>
                  </a:lnTo>
                  <a:lnTo>
                    <a:pt x="1725" y="672"/>
                  </a:lnTo>
                  <a:lnTo>
                    <a:pt x="1707" y="685"/>
                  </a:lnTo>
                  <a:lnTo>
                    <a:pt x="1698" y="685"/>
                  </a:lnTo>
                  <a:lnTo>
                    <a:pt x="1676" y="685"/>
                  </a:lnTo>
                  <a:lnTo>
                    <a:pt x="1672" y="685"/>
                  </a:lnTo>
                  <a:lnTo>
                    <a:pt x="1659" y="681"/>
                  </a:lnTo>
                  <a:lnTo>
                    <a:pt x="1659" y="672"/>
                  </a:lnTo>
                  <a:lnTo>
                    <a:pt x="1659" y="663"/>
                  </a:lnTo>
                  <a:lnTo>
                    <a:pt x="1650" y="654"/>
                  </a:lnTo>
                  <a:lnTo>
                    <a:pt x="1650" y="645"/>
                  </a:lnTo>
                  <a:lnTo>
                    <a:pt x="1650" y="628"/>
                  </a:lnTo>
                  <a:lnTo>
                    <a:pt x="1650" y="623"/>
                  </a:lnTo>
                  <a:lnTo>
                    <a:pt x="1650" y="606"/>
                  </a:lnTo>
                  <a:lnTo>
                    <a:pt x="1650" y="597"/>
                  </a:lnTo>
                  <a:lnTo>
                    <a:pt x="1650" y="579"/>
                  </a:lnTo>
                  <a:lnTo>
                    <a:pt x="1650" y="570"/>
                  </a:lnTo>
                  <a:lnTo>
                    <a:pt x="1650" y="566"/>
                  </a:lnTo>
                  <a:lnTo>
                    <a:pt x="1641" y="570"/>
                  </a:lnTo>
                  <a:lnTo>
                    <a:pt x="1628" y="588"/>
                  </a:lnTo>
                  <a:lnTo>
                    <a:pt x="1614" y="597"/>
                  </a:lnTo>
                  <a:lnTo>
                    <a:pt x="1592" y="614"/>
                  </a:lnTo>
                  <a:lnTo>
                    <a:pt x="1584" y="628"/>
                  </a:lnTo>
                  <a:lnTo>
                    <a:pt x="1562" y="637"/>
                  </a:lnTo>
                  <a:lnTo>
                    <a:pt x="1557" y="654"/>
                  </a:lnTo>
                  <a:lnTo>
                    <a:pt x="1539" y="663"/>
                  </a:lnTo>
                  <a:lnTo>
                    <a:pt x="1531" y="672"/>
                  </a:lnTo>
                  <a:lnTo>
                    <a:pt x="1509" y="685"/>
                  </a:lnTo>
                  <a:lnTo>
                    <a:pt x="1487" y="694"/>
                  </a:lnTo>
                  <a:lnTo>
                    <a:pt x="1469" y="707"/>
                  </a:lnTo>
                  <a:lnTo>
                    <a:pt x="1460" y="711"/>
                  </a:lnTo>
                  <a:lnTo>
                    <a:pt x="1438" y="720"/>
                  </a:lnTo>
                  <a:lnTo>
                    <a:pt x="1420" y="720"/>
                  </a:lnTo>
                  <a:lnTo>
                    <a:pt x="1403" y="720"/>
                  </a:lnTo>
                  <a:lnTo>
                    <a:pt x="1394" y="720"/>
                  </a:lnTo>
                  <a:lnTo>
                    <a:pt x="1390" y="711"/>
                  </a:lnTo>
                  <a:lnTo>
                    <a:pt x="1376" y="711"/>
                  </a:lnTo>
                  <a:lnTo>
                    <a:pt x="1376" y="707"/>
                  </a:lnTo>
                  <a:lnTo>
                    <a:pt x="1368" y="694"/>
                  </a:lnTo>
                  <a:lnTo>
                    <a:pt x="1368" y="685"/>
                  </a:lnTo>
                  <a:lnTo>
                    <a:pt x="1359" y="681"/>
                  </a:lnTo>
                  <a:lnTo>
                    <a:pt x="1359" y="672"/>
                  </a:lnTo>
                  <a:lnTo>
                    <a:pt x="1359" y="663"/>
                  </a:lnTo>
                  <a:lnTo>
                    <a:pt x="1359" y="654"/>
                  </a:lnTo>
                  <a:lnTo>
                    <a:pt x="1359" y="645"/>
                  </a:lnTo>
                  <a:lnTo>
                    <a:pt x="1359" y="637"/>
                  </a:lnTo>
                  <a:lnTo>
                    <a:pt x="1359" y="628"/>
                  </a:lnTo>
                  <a:lnTo>
                    <a:pt x="1359" y="623"/>
                  </a:lnTo>
                  <a:lnTo>
                    <a:pt x="1368" y="614"/>
                  </a:lnTo>
                  <a:lnTo>
                    <a:pt x="1368" y="606"/>
                  </a:lnTo>
                  <a:lnTo>
                    <a:pt x="1368" y="597"/>
                  </a:lnTo>
                  <a:lnTo>
                    <a:pt x="1368" y="588"/>
                  </a:lnTo>
                  <a:lnTo>
                    <a:pt x="1368" y="579"/>
                  </a:lnTo>
                  <a:lnTo>
                    <a:pt x="1368" y="570"/>
                  </a:lnTo>
                  <a:lnTo>
                    <a:pt x="1368" y="566"/>
                  </a:lnTo>
                  <a:lnTo>
                    <a:pt x="1368" y="557"/>
                  </a:lnTo>
                  <a:lnTo>
                    <a:pt x="1359" y="566"/>
                  </a:lnTo>
                  <a:lnTo>
                    <a:pt x="1345" y="579"/>
                  </a:lnTo>
                  <a:lnTo>
                    <a:pt x="1337" y="588"/>
                  </a:lnTo>
                  <a:lnTo>
                    <a:pt x="1328" y="597"/>
                  </a:lnTo>
                  <a:lnTo>
                    <a:pt x="1319" y="614"/>
                  </a:lnTo>
                  <a:lnTo>
                    <a:pt x="1315" y="623"/>
                  </a:lnTo>
                  <a:lnTo>
                    <a:pt x="1301" y="628"/>
                  </a:lnTo>
                  <a:lnTo>
                    <a:pt x="1293" y="645"/>
                  </a:lnTo>
                  <a:lnTo>
                    <a:pt x="1284" y="654"/>
                  </a:lnTo>
                  <a:lnTo>
                    <a:pt x="1271" y="663"/>
                  </a:lnTo>
                  <a:lnTo>
                    <a:pt x="1261" y="672"/>
                  </a:lnTo>
                  <a:lnTo>
                    <a:pt x="1247" y="681"/>
                  </a:lnTo>
                  <a:lnTo>
                    <a:pt x="1234" y="685"/>
                  </a:lnTo>
                  <a:lnTo>
                    <a:pt x="1221" y="694"/>
                  </a:lnTo>
                  <a:lnTo>
                    <a:pt x="1212" y="707"/>
                  </a:lnTo>
                  <a:lnTo>
                    <a:pt x="1195" y="711"/>
                  </a:lnTo>
                  <a:lnTo>
                    <a:pt x="1172" y="711"/>
                  </a:lnTo>
                  <a:lnTo>
                    <a:pt x="1146" y="711"/>
                  </a:lnTo>
                  <a:lnTo>
                    <a:pt x="1142" y="711"/>
                  </a:lnTo>
                  <a:lnTo>
                    <a:pt x="1120" y="707"/>
                  </a:lnTo>
                  <a:lnTo>
                    <a:pt x="1111" y="685"/>
                  </a:lnTo>
                  <a:lnTo>
                    <a:pt x="1098" y="681"/>
                  </a:lnTo>
                  <a:lnTo>
                    <a:pt x="1093" y="663"/>
                  </a:lnTo>
                  <a:lnTo>
                    <a:pt x="1080" y="654"/>
                  </a:lnTo>
                  <a:lnTo>
                    <a:pt x="1080" y="637"/>
                  </a:lnTo>
                  <a:lnTo>
                    <a:pt x="1080" y="614"/>
                  </a:lnTo>
                  <a:lnTo>
                    <a:pt x="1075" y="597"/>
                  </a:lnTo>
                  <a:lnTo>
                    <a:pt x="1075" y="579"/>
                  </a:lnTo>
                  <a:lnTo>
                    <a:pt x="1075" y="566"/>
                  </a:lnTo>
                  <a:lnTo>
                    <a:pt x="1075" y="538"/>
                  </a:lnTo>
                  <a:lnTo>
                    <a:pt x="1075" y="516"/>
                  </a:lnTo>
                  <a:lnTo>
                    <a:pt x="1075" y="503"/>
                  </a:lnTo>
                  <a:lnTo>
                    <a:pt x="1067" y="516"/>
                  </a:lnTo>
                  <a:lnTo>
                    <a:pt x="1053" y="525"/>
                  </a:lnTo>
                  <a:lnTo>
                    <a:pt x="1053" y="534"/>
                  </a:lnTo>
                  <a:lnTo>
                    <a:pt x="1045" y="557"/>
                  </a:lnTo>
                  <a:lnTo>
                    <a:pt x="1031" y="566"/>
                  </a:lnTo>
                  <a:lnTo>
                    <a:pt x="1023" y="570"/>
                  </a:lnTo>
                  <a:lnTo>
                    <a:pt x="1014" y="579"/>
                  </a:lnTo>
                  <a:lnTo>
                    <a:pt x="1001" y="588"/>
                  </a:lnTo>
                  <a:lnTo>
                    <a:pt x="992" y="606"/>
                  </a:lnTo>
                  <a:lnTo>
                    <a:pt x="987" y="614"/>
                  </a:lnTo>
                  <a:lnTo>
                    <a:pt x="978" y="628"/>
                  </a:lnTo>
                  <a:lnTo>
                    <a:pt x="970" y="637"/>
                  </a:lnTo>
                  <a:lnTo>
                    <a:pt x="956" y="645"/>
                  </a:lnTo>
                  <a:lnTo>
                    <a:pt x="948" y="654"/>
                  </a:lnTo>
                  <a:lnTo>
                    <a:pt x="939" y="663"/>
                  </a:lnTo>
                  <a:lnTo>
                    <a:pt x="926" y="681"/>
                  </a:lnTo>
                  <a:lnTo>
                    <a:pt x="917" y="685"/>
                  </a:lnTo>
                  <a:lnTo>
                    <a:pt x="917" y="694"/>
                  </a:lnTo>
                  <a:lnTo>
                    <a:pt x="908" y="694"/>
                  </a:lnTo>
                  <a:lnTo>
                    <a:pt x="908" y="707"/>
                  </a:lnTo>
                  <a:lnTo>
                    <a:pt x="899" y="707"/>
                  </a:lnTo>
                  <a:lnTo>
                    <a:pt x="890" y="711"/>
                  </a:lnTo>
                  <a:lnTo>
                    <a:pt x="881" y="711"/>
                  </a:lnTo>
                  <a:lnTo>
                    <a:pt x="873" y="711"/>
                  </a:lnTo>
                  <a:lnTo>
                    <a:pt x="864" y="711"/>
                  </a:lnTo>
                  <a:lnTo>
                    <a:pt x="855" y="707"/>
                  </a:lnTo>
                  <a:lnTo>
                    <a:pt x="855" y="694"/>
                  </a:lnTo>
                  <a:lnTo>
                    <a:pt x="846" y="694"/>
                  </a:lnTo>
                  <a:lnTo>
                    <a:pt x="837" y="685"/>
                  </a:lnTo>
                  <a:lnTo>
                    <a:pt x="837" y="681"/>
                  </a:lnTo>
                  <a:lnTo>
                    <a:pt x="837" y="672"/>
                  </a:lnTo>
                  <a:lnTo>
                    <a:pt x="837" y="663"/>
                  </a:lnTo>
                  <a:lnTo>
                    <a:pt x="829" y="654"/>
                  </a:lnTo>
                  <a:lnTo>
                    <a:pt x="829" y="645"/>
                  </a:lnTo>
                  <a:lnTo>
                    <a:pt x="829" y="637"/>
                  </a:lnTo>
                  <a:lnTo>
                    <a:pt x="829" y="628"/>
                  </a:lnTo>
                  <a:lnTo>
                    <a:pt x="815" y="637"/>
                  </a:lnTo>
                  <a:lnTo>
                    <a:pt x="806" y="645"/>
                  </a:lnTo>
                  <a:lnTo>
                    <a:pt x="798" y="654"/>
                  </a:lnTo>
                  <a:lnTo>
                    <a:pt x="798" y="663"/>
                  </a:lnTo>
                  <a:lnTo>
                    <a:pt x="784" y="672"/>
                  </a:lnTo>
                  <a:lnTo>
                    <a:pt x="776" y="681"/>
                  </a:lnTo>
                  <a:lnTo>
                    <a:pt x="767" y="685"/>
                  </a:lnTo>
                  <a:lnTo>
                    <a:pt x="767" y="694"/>
                  </a:lnTo>
                  <a:lnTo>
                    <a:pt x="754" y="694"/>
                  </a:lnTo>
                  <a:lnTo>
                    <a:pt x="749" y="707"/>
                  </a:lnTo>
                  <a:lnTo>
                    <a:pt x="740" y="711"/>
                  </a:lnTo>
                  <a:lnTo>
                    <a:pt x="732" y="711"/>
                  </a:lnTo>
                  <a:lnTo>
                    <a:pt x="723" y="711"/>
                  </a:lnTo>
                  <a:lnTo>
                    <a:pt x="709" y="711"/>
                  </a:lnTo>
                  <a:lnTo>
                    <a:pt x="701" y="711"/>
                  </a:lnTo>
                  <a:lnTo>
                    <a:pt x="679" y="711"/>
                  </a:lnTo>
                  <a:lnTo>
                    <a:pt x="670" y="707"/>
                  </a:lnTo>
                  <a:lnTo>
                    <a:pt x="652" y="694"/>
                  </a:lnTo>
                  <a:lnTo>
                    <a:pt x="639" y="694"/>
                  </a:lnTo>
                  <a:lnTo>
                    <a:pt x="635" y="685"/>
                  </a:lnTo>
                  <a:lnTo>
                    <a:pt x="635" y="672"/>
                  </a:lnTo>
                  <a:lnTo>
                    <a:pt x="630" y="663"/>
                  </a:lnTo>
                  <a:lnTo>
                    <a:pt x="630" y="654"/>
                  </a:lnTo>
                  <a:lnTo>
                    <a:pt x="617" y="637"/>
                  </a:lnTo>
                  <a:lnTo>
                    <a:pt x="617" y="628"/>
                  </a:lnTo>
                  <a:lnTo>
                    <a:pt x="617" y="614"/>
                  </a:lnTo>
                  <a:lnTo>
                    <a:pt x="617" y="606"/>
                  </a:lnTo>
                  <a:lnTo>
                    <a:pt x="617" y="588"/>
                  </a:lnTo>
                  <a:lnTo>
                    <a:pt x="617" y="570"/>
                  </a:lnTo>
                  <a:lnTo>
                    <a:pt x="608" y="566"/>
                  </a:lnTo>
                  <a:lnTo>
                    <a:pt x="608" y="538"/>
                  </a:lnTo>
                  <a:lnTo>
                    <a:pt x="599" y="557"/>
                  </a:lnTo>
                  <a:lnTo>
                    <a:pt x="590" y="570"/>
                  </a:lnTo>
                  <a:lnTo>
                    <a:pt x="590" y="579"/>
                  </a:lnTo>
                  <a:lnTo>
                    <a:pt x="582" y="588"/>
                  </a:lnTo>
                  <a:lnTo>
                    <a:pt x="582" y="597"/>
                  </a:lnTo>
                  <a:lnTo>
                    <a:pt x="568" y="614"/>
                  </a:lnTo>
                  <a:lnTo>
                    <a:pt x="568" y="623"/>
                  </a:lnTo>
                  <a:lnTo>
                    <a:pt x="560" y="628"/>
                  </a:lnTo>
                  <a:lnTo>
                    <a:pt x="560" y="637"/>
                  </a:lnTo>
                  <a:lnTo>
                    <a:pt x="551" y="654"/>
                  </a:lnTo>
                  <a:lnTo>
                    <a:pt x="537" y="663"/>
                  </a:lnTo>
                  <a:lnTo>
                    <a:pt x="537" y="672"/>
                  </a:lnTo>
                  <a:lnTo>
                    <a:pt x="529" y="681"/>
                  </a:lnTo>
                  <a:lnTo>
                    <a:pt x="520" y="685"/>
                  </a:lnTo>
                  <a:lnTo>
                    <a:pt x="515" y="694"/>
                  </a:lnTo>
                  <a:lnTo>
                    <a:pt x="507" y="707"/>
                  </a:lnTo>
                  <a:lnTo>
                    <a:pt x="493" y="707"/>
                  </a:lnTo>
                  <a:lnTo>
                    <a:pt x="485" y="711"/>
                  </a:lnTo>
                  <a:lnTo>
                    <a:pt x="471" y="711"/>
                  </a:lnTo>
                  <a:lnTo>
                    <a:pt x="463" y="707"/>
                  </a:lnTo>
                  <a:lnTo>
                    <a:pt x="454" y="694"/>
                  </a:lnTo>
                  <a:lnTo>
                    <a:pt x="454" y="685"/>
                  </a:lnTo>
                  <a:lnTo>
                    <a:pt x="440" y="685"/>
                  </a:lnTo>
                  <a:lnTo>
                    <a:pt x="440" y="681"/>
                  </a:lnTo>
                  <a:lnTo>
                    <a:pt x="440" y="672"/>
                  </a:lnTo>
                  <a:lnTo>
                    <a:pt x="440" y="663"/>
                  </a:lnTo>
                  <a:lnTo>
                    <a:pt x="440" y="645"/>
                  </a:lnTo>
                  <a:lnTo>
                    <a:pt x="440" y="628"/>
                  </a:lnTo>
                  <a:lnTo>
                    <a:pt x="440" y="614"/>
                  </a:lnTo>
                  <a:lnTo>
                    <a:pt x="454" y="588"/>
                  </a:lnTo>
                  <a:lnTo>
                    <a:pt x="463" y="570"/>
                  </a:lnTo>
                  <a:lnTo>
                    <a:pt x="463" y="557"/>
                  </a:lnTo>
                  <a:lnTo>
                    <a:pt x="471" y="538"/>
                  </a:lnTo>
                  <a:lnTo>
                    <a:pt x="485" y="516"/>
                  </a:lnTo>
                  <a:lnTo>
                    <a:pt x="493" y="503"/>
                  </a:lnTo>
                  <a:lnTo>
                    <a:pt x="507" y="481"/>
                  </a:lnTo>
                  <a:lnTo>
                    <a:pt x="515" y="468"/>
                  </a:lnTo>
                  <a:lnTo>
                    <a:pt x="520" y="450"/>
                  </a:lnTo>
                  <a:lnTo>
                    <a:pt x="529" y="433"/>
                  </a:lnTo>
                  <a:lnTo>
                    <a:pt x="537" y="419"/>
                  </a:lnTo>
                  <a:lnTo>
                    <a:pt x="537" y="402"/>
                  </a:lnTo>
                  <a:lnTo>
                    <a:pt x="537" y="384"/>
                  </a:lnTo>
                  <a:lnTo>
                    <a:pt x="520" y="393"/>
                  </a:lnTo>
                  <a:lnTo>
                    <a:pt x="515" y="411"/>
                  </a:lnTo>
                  <a:lnTo>
                    <a:pt x="493" y="424"/>
                  </a:lnTo>
                  <a:lnTo>
                    <a:pt x="485" y="446"/>
                  </a:lnTo>
                  <a:lnTo>
                    <a:pt x="463" y="459"/>
                  </a:lnTo>
                  <a:lnTo>
                    <a:pt x="454" y="477"/>
                  </a:lnTo>
                  <a:lnTo>
                    <a:pt x="440" y="490"/>
                  </a:lnTo>
                  <a:lnTo>
                    <a:pt x="432" y="503"/>
                  </a:lnTo>
                  <a:lnTo>
                    <a:pt x="427" y="525"/>
                  </a:lnTo>
                  <a:lnTo>
                    <a:pt x="414" y="538"/>
                  </a:lnTo>
                  <a:lnTo>
                    <a:pt x="396" y="566"/>
                  </a:lnTo>
                  <a:lnTo>
                    <a:pt x="396" y="579"/>
                  </a:lnTo>
                  <a:lnTo>
                    <a:pt x="388" y="597"/>
                  </a:lnTo>
                  <a:lnTo>
                    <a:pt x="370" y="614"/>
                  </a:lnTo>
                  <a:lnTo>
                    <a:pt x="361" y="628"/>
                  </a:lnTo>
                  <a:lnTo>
                    <a:pt x="361" y="645"/>
                  </a:lnTo>
                  <a:lnTo>
                    <a:pt x="352" y="654"/>
                  </a:lnTo>
                  <a:lnTo>
                    <a:pt x="352" y="663"/>
                  </a:lnTo>
                  <a:lnTo>
                    <a:pt x="343" y="672"/>
                  </a:lnTo>
                  <a:lnTo>
                    <a:pt x="335" y="681"/>
                  </a:lnTo>
                  <a:lnTo>
                    <a:pt x="335" y="685"/>
                  </a:lnTo>
                  <a:lnTo>
                    <a:pt x="335" y="694"/>
                  </a:lnTo>
                  <a:lnTo>
                    <a:pt x="321" y="694"/>
                  </a:lnTo>
                  <a:lnTo>
                    <a:pt x="321" y="707"/>
                  </a:lnTo>
                  <a:lnTo>
                    <a:pt x="313" y="711"/>
                  </a:lnTo>
                  <a:lnTo>
                    <a:pt x="299" y="720"/>
                  </a:lnTo>
                  <a:lnTo>
                    <a:pt x="291" y="720"/>
                  </a:lnTo>
                  <a:lnTo>
                    <a:pt x="291" y="729"/>
                  </a:lnTo>
                  <a:lnTo>
                    <a:pt x="268" y="729"/>
                  </a:lnTo>
                  <a:lnTo>
                    <a:pt x="260" y="729"/>
                  </a:lnTo>
                  <a:lnTo>
                    <a:pt x="238" y="720"/>
                  </a:lnTo>
                  <a:lnTo>
                    <a:pt x="224" y="711"/>
                  </a:lnTo>
                  <a:lnTo>
                    <a:pt x="224" y="707"/>
                  </a:lnTo>
                  <a:lnTo>
                    <a:pt x="216" y="694"/>
                  </a:lnTo>
                  <a:lnTo>
                    <a:pt x="216" y="681"/>
                  </a:lnTo>
                  <a:lnTo>
                    <a:pt x="216" y="672"/>
                  </a:lnTo>
                  <a:lnTo>
                    <a:pt x="216" y="654"/>
                  </a:lnTo>
                  <a:lnTo>
                    <a:pt x="216" y="637"/>
                  </a:lnTo>
                  <a:lnTo>
                    <a:pt x="216" y="623"/>
                  </a:lnTo>
                  <a:lnTo>
                    <a:pt x="224" y="606"/>
                  </a:lnTo>
                  <a:lnTo>
                    <a:pt x="224" y="588"/>
                  </a:lnTo>
                  <a:lnTo>
                    <a:pt x="224" y="570"/>
                  </a:lnTo>
                  <a:lnTo>
                    <a:pt x="224" y="557"/>
                  </a:lnTo>
                  <a:lnTo>
                    <a:pt x="224" y="538"/>
                  </a:lnTo>
                  <a:lnTo>
                    <a:pt x="216" y="557"/>
                  </a:lnTo>
                  <a:lnTo>
                    <a:pt x="207" y="570"/>
                  </a:lnTo>
                  <a:lnTo>
                    <a:pt x="194" y="588"/>
                  </a:lnTo>
                  <a:lnTo>
                    <a:pt x="176" y="606"/>
                  </a:lnTo>
                  <a:lnTo>
                    <a:pt x="171" y="623"/>
                  </a:lnTo>
                  <a:lnTo>
                    <a:pt x="163" y="637"/>
                  </a:lnTo>
                  <a:lnTo>
                    <a:pt x="149" y="654"/>
                  </a:lnTo>
                  <a:lnTo>
                    <a:pt x="127" y="672"/>
                  </a:lnTo>
                  <a:lnTo>
                    <a:pt x="123" y="681"/>
                  </a:lnTo>
                  <a:lnTo>
                    <a:pt x="114" y="694"/>
                  </a:lnTo>
                  <a:lnTo>
                    <a:pt x="97" y="707"/>
                  </a:lnTo>
                  <a:lnTo>
                    <a:pt x="88" y="711"/>
                  </a:lnTo>
                  <a:lnTo>
                    <a:pt x="66" y="711"/>
                  </a:lnTo>
                  <a:lnTo>
                    <a:pt x="48" y="711"/>
                  </a:lnTo>
                  <a:lnTo>
                    <a:pt x="39" y="707"/>
                  </a:lnTo>
                  <a:lnTo>
                    <a:pt x="22" y="694"/>
                  </a:lnTo>
                  <a:lnTo>
                    <a:pt x="8" y="685"/>
                  </a:lnTo>
                  <a:lnTo>
                    <a:pt x="8" y="681"/>
                  </a:lnTo>
                  <a:lnTo>
                    <a:pt x="0" y="672"/>
                  </a:lnTo>
                  <a:lnTo>
                    <a:pt x="0" y="663"/>
                  </a:lnTo>
                  <a:lnTo>
                    <a:pt x="8" y="654"/>
                  </a:lnTo>
                  <a:lnTo>
                    <a:pt x="8" y="637"/>
                  </a:lnTo>
                  <a:lnTo>
                    <a:pt x="22" y="628"/>
                  </a:lnTo>
                  <a:lnTo>
                    <a:pt x="22" y="623"/>
                  </a:lnTo>
                  <a:lnTo>
                    <a:pt x="30" y="614"/>
                  </a:lnTo>
                  <a:lnTo>
                    <a:pt x="39" y="606"/>
                  </a:lnTo>
                  <a:lnTo>
                    <a:pt x="48" y="597"/>
                  </a:lnTo>
                  <a:lnTo>
                    <a:pt x="48" y="588"/>
                  </a:lnTo>
                  <a:lnTo>
                    <a:pt x="57" y="579"/>
                  </a:lnTo>
                  <a:lnTo>
                    <a:pt x="66" y="570"/>
                  </a:lnTo>
                  <a:lnTo>
                    <a:pt x="74" y="5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8520" y="5584680"/>
              <a:ext cx="47880" cy="73440"/>
            </a:xfrm>
            <a:custGeom>
              <a:avLst/>
              <a:gdLst/>
              <a:ahLst/>
              <a:rect l="0" t="0" r="r" b="b"/>
              <a:pathLst>
                <a:path w="133" h="204">
                  <a:moveTo>
                    <a:pt x="35" y="142"/>
                  </a:moveTo>
                  <a:lnTo>
                    <a:pt x="26" y="142"/>
                  </a:lnTo>
                  <a:lnTo>
                    <a:pt x="26" y="146"/>
                  </a:lnTo>
                  <a:lnTo>
                    <a:pt x="22" y="146"/>
                  </a:lnTo>
                  <a:lnTo>
                    <a:pt x="22" y="150"/>
                  </a:lnTo>
                  <a:lnTo>
                    <a:pt x="13" y="160"/>
                  </a:lnTo>
                  <a:lnTo>
                    <a:pt x="8" y="169"/>
                  </a:lnTo>
                  <a:lnTo>
                    <a:pt x="8" y="173"/>
                  </a:lnTo>
                  <a:lnTo>
                    <a:pt x="0" y="178"/>
                  </a:lnTo>
                  <a:lnTo>
                    <a:pt x="0" y="187"/>
                  </a:lnTo>
                  <a:lnTo>
                    <a:pt x="0" y="191"/>
                  </a:lnTo>
                  <a:lnTo>
                    <a:pt x="0" y="200"/>
                  </a:lnTo>
                  <a:lnTo>
                    <a:pt x="8" y="204"/>
                  </a:lnTo>
                  <a:lnTo>
                    <a:pt x="8" y="200"/>
                  </a:lnTo>
                  <a:lnTo>
                    <a:pt x="13" y="200"/>
                  </a:lnTo>
                  <a:lnTo>
                    <a:pt x="13" y="191"/>
                  </a:lnTo>
                  <a:lnTo>
                    <a:pt x="22" y="187"/>
                  </a:lnTo>
                  <a:lnTo>
                    <a:pt x="26" y="178"/>
                  </a:lnTo>
                  <a:lnTo>
                    <a:pt x="35" y="173"/>
                  </a:lnTo>
                  <a:lnTo>
                    <a:pt x="35" y="169"/>
                  </a:lnTo>
                  <a:lnTo>
                    <a:pt x="39" y="169"/>
                  </a:lnTo>
                  <a:lnTo>
                    <a:pt x="39" y="160"/>
                  </a:lnTo>
                  <a:lnTo>
                    <a:pt x="39" y="150"/>
                  </a:lnTo>
                  <a:lnTo>
                    <a:pt x="48" y="146"/>
                  </a:lnTo>
                  <a:lnTo>
                    <a:pt x="48" y="142"/>
                  </a:lnTo>
                  <a:lnTo>
                    <a:pt x="57" y="133"/>
                  </a:lnTo>
                  <a:lnTo>
                    <a:pt x="61" y="128"/>
                  </a:lnTo>
                  <a:lnTo>
                    <a:pt x="61" y="120"/>
                  </a:lnTo>
                  <a:lnTo>
                    <a:pt x="71" y="115"/>
                  </a:lnTo>
                  <a:lnTo>
                    <a:pt x="75" y="102"/>
                  </a:lnTo>
                  <a:lnTo>
                    <a:pt x="84" y="89"/>
                  </a:lnTo>
                  <a:lnTo>
                    <a:pt x="93" y="84"/>
                  </a:lnTo>
                  <a:lnTo>
                    <a:pt x="98" y="75"/>
                  </a:lnTo>
                  <a:lnTo>
                    <a:pt x="102" y="62"/>
                  </a:lnTo>
                  <a:lnTo>
                    <a:pt x="111" y="58"/>
                  </a:lnTo>
                  <a:lnTo>
                    <a:pt x="111" y="48"/>
                  </a:lnTo>
                  <a:lnTo>
                    <a:pt x="120" y="35"/>
                  </a:lnTo>
                  <a:lnTo>
                    <a:pt x="124" y="30"/>
                  </a:lnTo>
                  <a:lnTo>
                    <a:pt x="133" y="17"/>
                  </a:lnTo>
                  <a:lnTo>
                    <a:pt x="133" y="13"/>
                  </a:lnTo>
                  <a:lnTo>
                    <a:pt x="133" y="4"/>
                  </a:lnTo>
                  <a:lnTo>
                    <a:pt x="133" y="0"/>
                  </a:lnTo>
                  <a:lnTo>
                    <a:pt x="124" y="4"/>
                  </a:lnTo>
                  <a:lnTo>
                    <a:pt x="120" y="13"/>
                  </a:lnTo>
                  <a:lnTo>
                    <a:pt x="111" y="17"/>
                  </a:lnTo>
                  <a:lnTo>
                    <a:pt x="106" y="22"/>
                  </a:lnTo>
                  <a:lnTo>
                    <a:pt x="102" y="30"/>
                  </a:lnTo>
                  <a:lnTo>
                    <a:pt x="98" y="44"/>
                  </a:lnTo>
                  <a:lnTo>
                    <a:pt x="84" y="48"/>
                  </a:lnTo>
                  <a:lnTo>
                    <a:pt x="75" y="62"/>
                  </a:lnTo>
                  <a:lnTo>
                    <a:pt x="71" y="75"/>
                  </a:lnTo>
                  <a:lnTo>
                    <a:pt x="61" y="84"/>
                  </a:lnTo>
                  <a:lnTo>
                    <a:pt x="57" y="98"/>
                  </a:lnTo>
                  <a:lnTo>
                    <a:pt x="48" y="102"/>
                  </a:lnTo>
                  <a:lnTo>
                    <a:pt x="39" y="115"/>
                  </a:lnTo>
                  <a:lnTo>
                    <a:pt x="39" y="128"/>
                  </a:lnTo>
                  <a:lnTo>
                    <a:pt x="35" y="133"/>
                  </a:lnTo>
                  <a:lnTo>
                    <a:pt x="35" y="142"/>
                  </a:lnTo>
                  <a:close/>
                </a:path>
              </a:pathLst>
            </a:custGeom>
            <a:solidFill>
              <a:srgbClr val="ffe08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34080" y="5530680"/>
              <a:ext cx="78120" cy="113040"/>
            </a:xfrm>
            <a:custGeom>
              <a:avLst/>
              <a:gdLst/>
              <a:ahLst/>
              <a:rect l="0" t="0" r="r" b="b"/>
              <a:pathLst>
                <a:path w="217" h="314">
                  <a:moveTo>
                    <a:pt x="13" y="287"/>
                  </a:moveTo>
                  <a:lnTo>
                    <a:pt x="8" y="287"/>
                  </a:lnTo>
                  <a:lnTo>
                    <a:pt x="8" y="296"/>
                  </a:lnTo>
                  <a:lnTo>
                    <a:pt x="8" y="305"/>
                  </a:lnTo>
                  <a:lnTo>
                    <a:pt x="0" y="305"/>
                  </a:lnTo>
                  <a:lnTo>
                    <a:pt x="0" y="314"/>
                  </a:lnTo>
                  <a:lnTo>
                    <a:pt x="13" y="296"/>
                  </a:lnTo>
                  <a:lnTo>
                    <a:pt x="39" y="287"/>
                  </a:lnTo>
                  <a:lnTo>
                    <a:pt x="52" y="265"/>
                  </a:lnTo>
                  <a:lnTo>
                    <a:pt x="66" y="252"/>
                  </a:lnTo>
                  <a:lnTo>
                    <a:pt x="92" y="221"/>
                  </a:lnTo>
                  <a:lnTo>
                    <a:pt x="101" y="212"/>
                  </a:lnTo>
                  <a:lnTo>
                    <a:pt x="120" y="186"/>
                  </a:lnTo>
                  <a:lnTo>
                    <a:pt x="133" y="168"/>
                  </a:lnTo>
                  <a:lnTo>
                    <a:pt x="142" y="145"/>
                  </a:lnTo>
                  <a:lnTo>
                    <a:pt x="159" y="127"/>
                  </a:lnTo>
                  <a:lnTo>
                    <a:pt x="168" y="110"/>
                  </a:lnTo>
                  <a:lnTo>
                    <a:pt x="172" y="92"/>
                  </a:lnTo>
                  <a:lnTo>
                    <a:pt x="190" y="61"/>
                  </a:lnTo>
                  <a:lnTo>
                    <a:pt x="203" y="44"/>
                  </a:lnTo>
                  <a:lnTo>
                    <a:pt x="208" y="22"/>
                  </a:lnTo>
                  <a:lnTo>
                    <a:pt x="217" y="0"/>
                  </a:lnTo>
                  <a:lnTo>
                    <a:pt x="203" y="17"/>
                  </a:lnTo>
                  <a:lnTo>
                    <a:pt x="172" y="26"/>
                  </a:lnTo>
                  <a:lnTo>
                    <a:pt x="164" y="44"/>
                  </a:lnTo>
                  <a:lnTo>
                    <a:pt x="150" y="57"/>
                  </a:lnTo>
                  <a:lnTo>
                    <a:pt x="133" y="70"/>
                  </a:lnTo>
                  <a:lnTo>
                    <a:pt x="120" y="101"/>
                  </a:lnTo>
                  <a:lnTo>
                    <a:pt x="101" y="110"/>
                  </a:lnTo>
                  <a:lnTo>
                    <a:pt x="92" y="127"/>
                  </a:lnTo>
                  <a:lnTo>
                    <a:pt x="74" y="145"/>
                  </a:lnTo>
                  <a:lnTo>
                    <a:pt x="66" y="159"/>
                  </a:lnTo>
                  <a:lnTo>
                    <a:pt x="52" y="181"/>
                  </a:lnTo>
                  <a:lnTo>
                    <a:pt x="44" y="195"/>
                  </a:lnTo>
                  <a:lnTo>
                    <a:pt x="30" y="212"/>
                  </a:lnTo>
                  <a:lnTo>
                    <a:pt x="26" y="243"/>
                  </a:lnTo>
                  <a:lnTo>
                    <a:pt x="13" y="265"/>
                  </a:lnTo>
                  <a:lnTo>
                    <a:pt x="13" y="287"/>
                  </a:lnTo>
                  <a:close/>
                </a:path>
              </a:pathLst>
            </a:custGeom>
            <a:solidFill>
              <a:srgbClr val="ffe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79520" y="4497480"/>
              <a:ext cx="2454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99040" y="4497480"/>
              <a:ext cx="3186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1270080" y="4113360"/>
              <a:ext cx="264312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hicago, Illino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5389560" y="4113360"/>
              <a:ext cx="235260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ugust 31, 20xx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1270080" y="4591080"/>
              <a:ext cx="162864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ixty day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2509920" y="4935600"/>
              <a:ext cx="104940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5,000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5083200" y="5715000"/>
              <a:ext cx="264312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ron Corporatio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5083200" y="2844720"/>
              <a:ext cx="264312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ron Corporatio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685800" y="220968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ug. 31  Cash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5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tes Payabl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          5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60-day,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 12% promissory note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 with interest stated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 separa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990720" y="4572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ssued Not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est Stated Separatel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8080" y="2133720"/>
            <a:ext cx="80010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ug. 31    Not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5,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ayment of note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with interest stated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separately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$5,000 x (60/360) x .12 = $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95240" y="457200"/>
            <a:ext cx="83487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ment of Not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est Stated Separatel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85800" y="1905120"/>
            <a:ext cx="84582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ug. 31   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4,9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scount 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Not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60-day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romissory note with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$100 interest included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in face am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762120" y="304920"/>
            <a:ext cx="8161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ssued Not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est in Face Amou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47920" y="274320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management issues related to recognition, valuation, classification, and disclosure of current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43000" y="53352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to Accounting for 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104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14400" y="205740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ct. 31   Not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ayment of n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scount on Note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Interest expense on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note pay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447920" y="38088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ment of Not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est in Face Amou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43000" y="68580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rued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90720" y="182880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djusting entries are required to recognize and record liabilities that are not already in the accounting rec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791320" y="3124080"/>
            <a:ext cx="2705040" cy="3162240"/>
            <a:chOff x="5791320" y="3124080"/>
            <a:chExt cx="2705040" cy="316224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7107120" y="3686040"/>
              <a:ext cx="1389240" cy="20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6656400" y="3124080"/>
              <a:ext cx="1366920" cy="27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3"/>
            <a:stretch/>
          </p:blipFill>
          <p:spPr>
            <a:xfrm>
              <a:off x="5791320" y="3852720"/>
              <a:ext cx="2625840" cy="2433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8080" y="45720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rued Liabilities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est Stated Separatel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38080" y="213372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pt. 30   Interest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interest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expense for 30 days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on note with interest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stated separately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$5,000 x (30/360) x .12 = $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990720" y="228600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pt. 30   Interest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scount 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Not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interest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expense for 30 days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$100 x (30/60) = $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219320" y="53352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rued Liabilities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est in Face Amou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72960" y="228600"/>
            <a:ext cx="8771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vidends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90720" y="1219320"/>
            <a:ext cx="784872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dividends are a distribution of earnings by a corpo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decision to pay dividends is solely up to the board of direc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re is no liability until the board declares a divid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uring the short time between the date of declaration and the date of payment, dividends are a current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8080" y="380880"/>
            <a:ext cx="79376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ales and Excise Taxes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143000" y="17524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st states and many cities levy a sales tax on retail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ales taxes are collected by the merchant and forwarded to the appropriate government agen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mount of tax collected is a current liability until remitted to the gover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990720" y="38088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 Sales an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cise Taxes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90720" y="205740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June 1    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1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s Tax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cise Tax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Sale of merchandise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and collection of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 sales and excise ta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01560" y="380880"/>
            <a:ext cx="85424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urrent Portion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ng-Term Deb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at portion of long-term debt that is due within the next year and is to be paid from current assets is classified as a current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 journal entry is requi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bt is reclassified when financial statements are prepa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447920" y="457200"/>
            <a:ext cx="6894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roll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066680" y="1676520"/>
            <a:ext cx="77500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roll accounting is important because complex laws and significant liabilities are invol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employer is liable to employees for wages and sala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371600" y="304920"/>
            <a:ext cx="7047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roll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90720" y="12193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employer is responsible to various government and other agencies for amounts withheld and related tax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important to distinguish between employees and independent contrac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journal entry to record payroll is lengthy (covered in L.O. 4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51000" y="30492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Importance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43000" y="12193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one of the three major parts of the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legal obligations for the future payment of assets or the future performance of services that result from past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important because they are closely related to the goals of profitability and liquid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9907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earned Reven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52388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earned revenues are obligations for goods or services that the company must provide or deliver in a future accounting period in return for an advance payment from a custom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143000" y="3049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 Unearned Reven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nearned Subscription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2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Receipt of annual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subscriptions in adv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nearned Subscription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ubscription Revenu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Delivery of monthly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magazine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523880" y="304920"/>
            <a:ext cx="6819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stimated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38080" y="12193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stimated liabilities are definite debts or obligations of which the exact amount cannot be known until a later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re is no doubt about the existence of the legal oblig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imary accounting problem is to estimate and record the amount of the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990720" y="685800"/>
            <a:ext cx="7531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s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stimated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286000" y="2362320"/>
            <a:ext cx="57913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ome tax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perty tax pay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t warranty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acation pay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762120" y="1066680"/>
            <a:ext cx="817884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mount of income tax liability depends on the results of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mount may not be known until after the end of the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company must make an adjusting entry to record the estimated tax liabil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c. 31   Income Taxes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53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Estimated Income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Taxes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53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estim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federal income tax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295280" y="2286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come Tax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393920" y="45720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perty Tax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14400" y="14479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perty tax payable is levied on real and personal proper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assessed annually, but the government unit’s fiscal year and the company’s may not correspo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mpany must estimate the amount of property tax that applies to each month of th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914400" y="304920"/>
            <a:ext cx="76834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perty Tax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041480" y="1600200"/>
            <a:ext cx="8102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July 31   Property Tax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Estimated Propert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Tax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estimat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property tax expense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for the month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$24,000 / 12 months = 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ov. 30   Property Tax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2,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Estimated Propert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ax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2,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estimat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property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066680" y="4572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perty Tax Pay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60240" y="2362320"/>
            <a:ext cx="8483760" cy="23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c. 15    Estimated Propert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Tax Payable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10,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repaid Property Tax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14,4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24,7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Payment of property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808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 Warranty 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2120" y="9144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liability exists for the length of the warran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st of the warranty is debited to an expense account in the period of sa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mpany can estimate the future cost of the liability based on past experience with claims for the product or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mpany usually uses an average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8080" y="1676520"/>
            <a:ext cx="830592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July 31   Product Warranty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5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Estimated Product Warranty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Liabilit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5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Number of units sold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3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ate of replacement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 u="sng">
                <a:solidFill>
                  <a:srgbClr val="fcfeb9"/>
                </a:solidFill>
                <a:uFillTx/>
                <a:latin typeface="Arial"/>
                <a:ea typeface="Arial"/>
              </a:rPr>
              <a:t>X .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Est. units to be replaced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  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Est. cost per unit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                  </a:t>
            </a:r>
            <a:r>
              <a:rPr b="1" lang="en-US" sz="2400" spc="-1" strike="noStrike" u="sng">
                <a:solidFill>
                  <a:srgbClr val="fcfeb9"/>
                </a:solidFill>
                <a:uFillTx/>
                <a:latin typeface="Arial"/>
                <a:ea typeface="Arial"/>
              </a:rPr>
              <a:t>X $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43000" indent="-22860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Est. product warranty liability      $5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498680" y="304920"/>
            <a:ext cx="68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omputation of Product Warranty Liability Expen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780320" y="5943600"/>
            <a:ext cx="722160" cy="0"/>
          </a:xfrm>
          <a:prstGeom prst="line">
            <a:avLst/>
          </a:prstGeom>
          <a:ln w="2556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788240" y="5867280"/>
            <a:ext cx="722520" cy="0"/>
          </a:xfrm>
          <a:prstGeom prst="line">
            <a:avLst/>
          </a:prstGeom>
          <a:ln w="2556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457200"/>
            <a:ext cx="7702560" cy="16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o 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66680" y="205740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sources of cash for operating and financing activities when they are incur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obligations that use cash when they are paid as requi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685800" y="576360"/>
            <a:ext cx="81532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ample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 Warranty 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90720" y="2209680"/>
            <a:ext cx="815328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c. 5   Estimated Product Warrant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Liabilit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erchandise Invento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Replacement of muffler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under warran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460520" y="235080"/>
            <a:ext cx="699768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cation Pay 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762120" y="12952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acation pay is a cost to the comp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st should be allocated over the entire year so that periods are not dist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pr. 20   Vacation Pay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Estimated Liability for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Vacation Pa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6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Estimated exp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371600" y="45720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acation Pay 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33520" y="18288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ug. 31   Estimated Liability for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Vacation Pa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 (or Wages Payable)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Wages of employees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 on va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828800" y="83808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5800" y="198108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dicate whether each of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ollowing is (a) a definitel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erminable liability or (b)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stimated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Dividends pay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Income taxes pay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Current portion of long-term deb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Vacation pay l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781680" y="228600"/>
            <a:ext cx="1980000" cy="1980000"/>
            <a:chOff x="6781680" y="228600"/>
            <a:chExt cx="1980000" cy="1980000"/>
          </a:xfrm>
        </p:grpSpPr>
        <p:sp>
          <p:nvSpPr>
            <p:cNvPr id="286" name=""/>
            <p:cNvSpPr/>
            <p:nvPr/>
          </p:nvSpPr>
          <p:spPr>
            <a:xfrm>
              <a:off x="6786720" y="1200240"/>
              <a:ext cx="481320" cy="690840"/>
            </a:xfrm>
            <a:custGeom>
              <a:avLst/>
              <a:gdLst/>
              <a:ahLst/>
              <a:rect l="0" t="0" r="r" b="b"/>
              <a:pathLst>
                <a:path w="1337" h="1919">
                  <a:moveTo>
                    <a:pt x="533" y="0"/>
                  </a:moveTo>
                  <a:lnTo>
                    <a:pt x="463" y="83"/>
                  </a:lnTo>
                  <a:lnTo>
                    <a:pt x="463" y="335"/>
                  </a:lnTo>
                  <a:lnTo>
                    <a:pt x="533" y="515"/>
                  </a:lnTo>
                  <a:lnTo>
                    <a:pt x="617" y="604"/>
                  </a:lnTo>
                  <a:lnTo>
                    <a:pt x="489" y="727"/>
                  </a:lnTo>
                  <a:lnTo>
                    <a:pt x="335" y="1006"/>
                  </a:lnTo>
                  <a:lnTo>
                    <a:pt x="26" y="1447"/>
                  </a:lnTo>
                  <a:lnTo>
                    <a:pt x="0" y="1553"/>
                  </a:lnTo>
                  <a:lnTo>
                    <a:pt x="26" y="1641"/>
                  </a:lnTo>
                  <a:lnTo>
                    <a:pt x="123" y="1641"/>
                  </a:lnTo>
                  <a:lnTo>
                    <a:pt x="202" y="1544"/>
                  </a:lnTo>
                  <a:lnTo>
                    <a:pt x="335" y="1293"/>
                  </a:lnTo>
                  <a:lnTo>
                    <a:pt x="414" y="1187"/>
                  </a:lnTo>
                  <a:lnTo>
                    <a:pt x="463" y="1350"/>
                  </a:lnTo>
                  <a:lnTo>
                    <a:pt x="432" y="1526"/>
                  </a:lnTo>
                  <a:lnTo>
                    <a:pt x="299" y="1778"/>
                  </a:lnTo>
                  <a:lnTo>
                    <a:pt x="335" y="1839"/>
                  </a:lnTo>
                  <a:lnTo>
                    <a:pt x="414" y="1817"/>
                  </a:lnTo>
                  <a:lnTo>
                    <a:pt x="577" y="1689"/>
                  </a:lnTo>
                  <a:lnTo>
                    <a:pt x="710" y="1465"/>
                  </a:lnTo>
                  <a:lnTo>
                    <a:pt x="710" y="1857"/>
                  </a:lnTo>
                  <a:lnTo>
                    <a:pt x="869" y="1919"/>
                  </a:lnTo>
                  <a:lnTo>
                    <a:pt x="966" y="1676"/>
                  </a:lnTo>
                  <a:lnTo>
                    <a:pt x="1046" y="1901"/>
                  </a:lnTo>
                  <a:lnTo>
                    <a:pt x="1112" y="1839"/>
                  </a:lnTo>
                  <a:lnTo>
                    <a:pt x="1143" y="1390"/>
                  </a:lnTo>
                  <a:lnTo>
                    <a:pt x="1337" y="975"/>
                  </a:lnTo>
                  <a:lnTo>
                    <a:pt x="1293" y="727"/>
                  </a:lnTo>
                  <a:lnTo>
                    <a:pt x="1156" y="639"/>
                  </a:lnTo>
                  <a:lnTo>
                    <a:pt x="1015" y="652"/>
                  </a:lnTo>
                  <a:lnTo>
                    <a:pt x="966" y="454"/>
                  </a:lnTo>
                  <a:lnTo>
                    <a:pt x="816" y="410"/>
                  </a:lnTo>
                  <a:lnTo>
                    <a:pt x="688" y="348"/>
                  </a:lnTo>
                  <a:lnTo>
                    <a:pt x="617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91360" y="1481040"/>
              <a:ext cx="141480" cy="335160"/>
            </a:xfrm>
            <a:custGeom>
              <a:avLst/>
              <a:gdLst/>
              <a:ahLst/>
              <a:rect l="0" t="0" r="r" b="b"/>
              <a:pathLst>
                <a:path w="393" h="931">
                  <a:moveTo>
                    <a:pt x="194" y="0"/>
                  </a:moveTo>
                  <a:lnTo>
                    <a:pt x="393" y="238"/>
                  </a:lnTo>
                  <a:lnTo>
                    <a:pt x="296" y="763"/>
                  </a:lnTo>
                  <a:lnTo>
                    <a:pt x="0" y="931"/>
                  </a:lnTo>
                  <a:lnTo>
                    <a:pt x="0" y="671"/>
                  </a:lnTo>
                  <a:lnTo>
                    <a:pt x="119" y="396"/>
                  </a:lnTo>
                  <a:lnTo>
                    <a:pt x="194" y="194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110440" y="1289160"/>
              <a:ext cx="356040" cy="302040"/>
            </a:xfrm>
            <a:custGeom>
              <a:avLst/>
              <a:gdLst/>
              <a:ahLst/>
              <a:rect l="0" t="0" r="r" b="b"/>
              <a:pathLst>
                <a:path w="989" h="839">
                  <a:moveTo>
                    <a:pt x="411" y="0"/>
                  </a:moveTo>
                  <a:lnTo>
                    <a:pt x="411" y="136"/>
                  </a:lnTo>
                  <a:lnTo>
                    <a:pt x="441" y="256"/>
                  </a:lnTo>
                  <a:lnTo>
                    <a:pt x="636" y="455"/>
                  </a:lnTo>
                  <a:lnTo>
                    <a:pt x="989" y="569"/>
                  </a:lnTo>
                  <a:lnTo>
                    <a:pt x="945" y="822"/>
                  </a:lnTo>
                  <a:lnTo>
                    <a:pt x="636" y="839"/>
                  </a:lnTo>
                  <a:lnTo>
                    <a:pt x="189" y="659"/>
                  </a:lnTo>
                  <a:lnTo>
                    <a:pt x="0" y="331"/>
                  </a:lnTo>
                  <a:lnTo>
                    <a:pt x="220" y="17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55160" y="947880"/>
              <a:ext cx="495720" cy="663840"/>
            </a:xfrm>
            <a:custGeom>
              <a:avLst/>
              <a:gdLst/>
              <a:ahLst/>
              <a:rect l="0" t="0" r="r" b="b"/>
              <a:pathLst>
                <a:path w="1377" h="1844">
                  <a:moveTo>
                    <a:pt x="123" y="780"/>
                  </a:moveTo>
                  <a:lnTo>
                    <a:pt x="0" y="912"/>
                  </a:lnTo>
                  <a:lnTo>
                    <a:pt x="26" y="1213"/>
                  </a:lnTo>
                  <a:lnTo>
                    <a:pt x="220" y="1354"/>
                  </a:lnTo>
                  <a:lnTo>
                    <a:pt x="233" y="1813"/>
                  </a:lnTo>
                  <a:lnTo>
                    <a:pt x="428" y="1813"/>
                  </a:lnTo>
                  <a:lnTo>
                    <a:pt x="415" y="1425"/>
                  </a:lnTo>
                  <a:lnTo>
                    <a:pt x="556" y="1826"/>
                  </a:lnTo>
                  <a:lnTo>
                    <a:pt x="658" y="1844"/>
                  </a:lnTo>
                  <a:lnTo>
                    <a:pt x="719" y="1707"/>
                  </a:lnTo>
                  <a:lnTo>
                    <a:pt x="737" y="1451"/>
                  </a:lnTo>
                  <a:lnTo>
                    <a:pt x="949" y="1694"/>
                  </a:lnTo>
                  <a:lnTo>
                    <a:pt x="1032" y="1676"/>
                  </a:lnTo>
                  <a:lnTo>
                    <a:pt x="1015" y="1509"/>
                  </a:lnTo>
                  <a:lnTo>
                    <a:pt x="931" y="1275"/>
                  </a:lnTo>
                  <a:lnTo>
                    <a:pt x="847" y="1125"/>
                  </a:lnTo>
                  <a:lnTo>
                    <a:pt x="882" y="1019"/>
                  </a:lnTo>
                  <a:lnTo>
                    <a:pt x="931" y="1037"/>
                  </a:lnTo>
                  <a:lnTo>
                    <a:pt x="1126" y="1275"/>
                  </a:lnTo>
                  <a:lnTo>
                    <a:pt x="1333" y="1337"/>
                  </a:lnTo>
                  <a:lnTo>
                    <a:pt x="1377" y="1262"/>
                  </a:lnTo>
                  <a:lnTo>
                    <a:pt x="1351" y="1138"/>
                  </a:lnTo>
                  <a:lnTo>
                    <a:pt x="962" y="767"/>
                  </a:lnTo>
                  <a:lnTo>
                    <a:pt x="658" y="652"/>
                  </a:lnTo>
                  <a:lnTo>
                    <a:pt x="618" y="440"/>
                  </a:lnTo>
                  <a:lnTo>
                    <a:pt x="719" y="260"/>
                  </a:lnTo>
                  <a:lnTo>
                    <a:pt x="719" y="57"/>
                  </a:lnTo>
                  <a:lnTo>
                    <a:pt x="640" y="0"/>
                  </a:lnTo>
                  <a:lnTo>
                    <a:pt x="415" y="498"/>
                  </a:lnTo>
                  <a:lnTo>
                    <a:pt x="220" y="573"/>
                  </a:lnTo>
                  <a:lnTo>
                    <a:pt x="167" y="709"/>
                  </a:lnTo>
                  <a:lnTo>
                    <a:pt x="123" y="78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40480" y="369720"/>
              <a:ext cx="541800" cy="849600"/>
            </a:xfrm>
            <a:custGeom>
              <a:avLst/>
              <a:gdLst/>
              <a:ahLst/>
              <a:rect l="0" t="0" r="r" b="b"/>
              <a:pathLst>
                <a:path w="1505" h="2360">
                  <a:moveTo>
                    <a:pt x="374" y="326"/>
                  </a:moveTo>
                  <a:lnTo>
                    <a:pt x="264" y="780"/>
                  </a:lnTo>
                  <a:lnTo>
                    <a:pt x="13" y="868"/>
                  </a:lnTo>
                  <a:lnTo>
                    <a:pt x="83" y="1009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19" y="1416"/>
                  </a:lnTo>
                  <a:lnTo>
                    <a:pt x="233" y="1416"/>
                  </a:lnTo>
                  <a:lnTo>
                    <a:pt x="313" y="1941"/>
                  </a:lnTo>
                  <a:lnTo>
                    <a:pt x="411" y="2166"/>
                  </a:lnTo>
                  <a:lnTo>
                    <a:pt x="715" y="2360"/>
                  </a:lnTo>
                  <a:lnTo>
                    <a:pt x="1024" y="2329"/>
                  </a:lnTo>
                  <a:lnTo>
                    <a:pt x="1170" y="1941"/>
                  </a:lnTo>
                  <a:lnTo>
                    <a:pt x="1201" y="1345"/>
                  </a:lnTo>
                  <a:lnTo>
                    <a:pt x="1505" y="1045"/>
                  </a:lnTo>
                  <a:lnTo>
                    <a:pt x="1492" y="926"/>
                  </a:lnTo>
                  <a:lnTo>
                    <a:pt x="1457" y="868"/>
                  </a:lnTo>
                  <a:lnTo>
                    <a:pt x="1298" y="855"/>
                  </a:lnTo>
                  <a:lnTo>
                    <a:pt x="1351" y="701"/>
                  </a:lnTo>
                  <a:lnTo>
                    <a:pt x="1188" y="599"/>
                  </a:lnTo>
                  <a:lnTo>
                    <a:pt x="1121" y="260"/>
                  </a:lnTo>
                  <a:lnTo>
                    <a:pt x="653" y="0"/>
                  </a:lnTo>
                  <a:lnTo>
                    <a:pt x="411" y="238"/>
                  </a:lnTo>
                  <a:lnTo>
                    <a:pt x="374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480440" y="1081080"/>
              <a:ext cx="495720" cy="1014840"/>
            </a:xfrm>
            <a:custGeom>
              <a:avLst/>
              <a:gdLst/>
              <a:ahLst/>
              <a:rect l="0" t="0" r="r" b="b"/>
              <a:pathLst>
                <a:path w="1377" h="2819">
                  <a:moveTo>
                    <a:pt x="282" y="145"/>
                  </a:moveTo>
                  <a:lnTo>
                    <a:pt x="477" y="286"/>
                  </a:lnTo>
                  <a:lnTo>
                    <a:pt x="574" y="432"/>
                  </a:lnTo>
                  <a:lnTo>
                    <a:pt x="1126" y="0"/>
                  </a:lnTo>
                  <a:lnTo>
                    <a:pt x="1298" y="88"/>
                  </a:lnTo>
                  <a:lnTo>
                    <a:pt x="1377" y="537"/>
                  </a:lnTo>
                  <a:lnTo>
                    <a:pt x="975" y="1835"/>
                  </a:lnTo>
                  <a:lnTo>
                    <a:pt x="1108" y="2546"/>
                  </a:lnTo>
                  <a:lnTo>
                    <a:pt x="587" y="2819"/>
                  </a:lnTo>
                  <a:lnTo>
                    <a:pt x="185" y="2669"/>
                  </a:lnTo>
                  <a:lnTo>
                    <a:pt x="185" y="1906"/>
                  </a:lnTo>
                  <a:lnTo>
                    <a:pt x="0" y="1173"/>
                  </a:lnTo>
                  <a:lnTo>
                    <a:pt x="185" y="286"/>
                  </a:lnTo>
                  <a:lnTo>
                    <a:pt x="282" y="14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00960" y="257040"/>
              <a:ext cx="464040" cy="268560"/>
            </a:xfrm>
            <a:custGeom>
              <a:avLst/>
              <a:gdLst/>
              <a:ahLst/>
              <a:rect l="0" t="0" r="r" b="b"/>
              <a:pathLst>
                <a:path w="1289" h="746">
                  <a:moveTo>
                    <a:pt x="158" y="715"/>
                  </a:moveTo>
                  <a:lnTo>
                    <a:pt x="349" y="512"/>
                  </a:lnTo>
                  <a:lnTo>
                    <a:pt x="468" y="486"/>
                  </a:lnTo>
                  <a:lnTo>
                    <a:pt x="468" y="499"/>
                  </a:lnTo>
                  <a:lnTo>
                    <a:pt x="530" y="486"/>
                  </a:lnTo>
                  <a:lnTo>
                    <a:pt x="609" y="543"/>
                  </a:lnTo>
                  <a:lnTo>
                    <a:pt x="759" y="574"/>
                  </a:lnTo>
                  <a:lnTo>
                    <a:pt x="882" y="746"/>
                  </a:lnTo>
                  <a:lnTo>
                    <a:pt x="1086" y="671"/>
                  </a:lnTo>
                  <a:lnTo>
                    <a:pt x="1086" y="587"/>
                  </a:lnTo>
                  <a:lnTo>
                    <a:pt x="1289" y="499"/>
                  </a:lnTo>
                  <a:lnTo>
                    <a:pt x="1227" y="357"/>
                  </a:lnTo>
                  <a:lnTo>
                    <a:pt x="1038" y="348"/>
                  </a:lnTo>
                  <a:lnTo>
                    <a:pt x="1069" y="194"/>
                  </a:lnTo>
                  <a:lnTo>
                    <a:pt x="900" y="211"/>
                  </a:lnTo>
                  <a:lnTo>
                    <a:pt x="874" y="105"/>
                  </a:lnTo>
                  <a:lnTo>
                    <a:pt x="759" y="105"/>
                  </a:lnTo>
                  <a:lnTo>
                    <a:pt x="680" y="167"/>
                  </a:lnTo>
                  <a:lnTo>
                    <a:pt x="609" y="167"/>
                  </a:lnTo>
                  <a:lnTo>
                    <a:pt x="627" y="0"/>
                  </a:lnTo>
                  <a:lnTo>
                    <a:pt x="468" y="79"/>
                  </a:lnTo>
                  <a:lnTo>
                    <a:pt x="251" y="348"/>
                  </a:lnTo>
                  <a:lnTo>
                    <a:pt x="242" y="167"/>
                  </a:lnTo>
                  <a:lnTo>
                    <a:pt x="127" y="255"/>
                  </a:lnTo>
                  <a:lnTo>
                    <a:pt x="97" y="486"/>
                  </a:lnTo>
                  <a:lnTo>
                    <a:pt x="0" y="441"/>
                  </a:lnTo>
                  <a:lnTo>
                    <a:pt x="13" y="587"/>
                  </a:lnTo>
                  <a:lnTo>
                    <a:pt x="158" y="71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26240" y="1268280"/>
              <a:ext cx="147960" cy="767160"/>
            </a:xfrm>
            <a:custGeom>
              <a:avLst/>
              <a:gdLst/>
              <a:ahLst/>
              <a:rect l="0" t="0" r="r" b="b"/>
              <a:pathLst>
                <a:path w="411" h="2131">
                  <a:moveTo>
                    <a:pt x="212" y="8"/>
                  </a:moveTo>
                  <a:lnTo>
                    <a:pt x="74" y="105"/>
                  </a:lnTo>
                  <a:lnTo>
                    <a:pt x="74" y="286"/>
                  </a:lnTo>
                  <a:lnTo>
                    <a:pt x="171" y="343"/>
                  </a:lnTo>
                  <a:lnTo>
                    <a:pt x="35" y="627"/>
                  </a:lnTo>
                  <a:lnTo>
                    <a:pt x="0" y="1002"/>
                  </a:lnTo>
                  <a:lnTo>
                    <a:pt x="101" y="1491"/>
                  </a:lnTo>
                  <a:lnTo>
                    <a:pt x="101" y="1699"/>
                  </a:lnTo>
                  <a:lnTo>
                    <a:pt x="48" y="1854"/>
                  </a:lnTo>
                  <a:lnTo>
                    <a:pt x="256" y="2131"/>
                  </a:lnTo>
                  <a:lnTo>
                    <a:pt x="397" y="1712"/>
                  </a:lnTo>
                  <a:lnTo>
                    <a:pt x="397" y="1434"/>
                  </a:lnTo>
                  <a:lnTo>
                    <a:pt x="296" y="1165"/>
                  </a:lnTo>
                  <a:lnTo>
                    <a:pt x="243" y="807"/>
                  </a:lnTo>
                  <a:lnTo>
                    <a:pt x="344" y="454"/>
                  </a:lnTo>
                  <a:lnTo>
                    <a:pt x="314" y="313"/>
                  </a:lnTo>
                  <a:lnTo>
                    <a:pt x="411" y="238"/>
                  </a:lnTo>
                  <a:lnTo>
                    <a:pt x="397" y="145"/>
                  </a:lnTo>
                  <a:lnTo>
                    <a:pt x="278" y="0"/>
                  </a:lnTo>
                  <a:lnTo>
                    <a:pt x="212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21560" y="1009800"/>
              <a:ext cx="119520" cy="70200"/>
            </a:xfrm>
            <a:custGeom>
              <a:avLst/>
              <a:gdLst/>
              <a:ahLst/>
              <a:rect l="0" t="0" r="r" b="b"/>
              <a:pathLst>
                <a:path w="332" h="195">
                  <a:moveTo>
                    <a:pt x="0" y="57"/>
                  </a:moveTo>
                  <a:lnTo>
                    <a:pt x="133" y="195"/>
                  </a:lnTo>
                  <a:lnTo>
                    <a:pt x="262" y="177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0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491240" y="654120"/>
              <a:ext cx="147960" cy="151200"/>
            </a:xfrm>
            <a:custGeom>
              <a:avLst/>
              <a:gdLst/>
              <a:ahLst/>
              <a:rect l="0" t="0" r="r" b="b"/>
              <a:pathLst>
                <a:path w="411" h="420">
                  <a:moveTo>
                    <a:pt x="0" y="48"/>
                  </a:moveTo>
                  <a:lnTo>
                    <a:pt x="283" y="420"/>
                  </a:lnTo>
                  <a:lnTo>
                    <a:pt x="411" y="390"/>
                  </a:lnTo>
                  <a:lnTo>
                    <a:pt x="11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50080" y="622440"/>
              <a:ext cx="128880" cy="151200"/>
            </a:xfrm>
            <a:custGeom>
              <a:avLst/>
              <a:gdLst/>
              <a:ahLst/>
              <a:rect l="0" t="0" r="r" b="b"/>
              <a:pathLst>
                <a:path w="358" h="420">
                  <a:moveTo>
                    <a:pt x="0" y="57"/>
                  </a:moveTo>
                  <a:lnTo>
                    <a:pt x="247" y="420"/>
                  </a:lnTo>
                  <a:lnTo>
                    <a:pt x="358" y="323"/>
                  </a:lnTo>
                  <a:lnTo>
                    <a:pt x="97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37600" y="428760"/>
              <a:ext cx="514800" cy="376560"/>
            </a:xfrm>
            <a:custGeom>
              <a:avLst/>
              <a:gdLst/>
              <a:ahLst/>
              <a:rect l="0" t="0" r="r" b="b"/>
              <a:pathLst>
                <a:path w="1430" h="1046">
                  <a:moveTo>
                    <a:pt x="653" y="622"/>
                  </a:moveTo>
                  <a:lnTo>
                    <a:pt x="525" y="578"/>
                  </a:lnTo>
                  <a:lnTo>
                    <a:pt x="636" y="489"/>
                  </a:lnTo>
                  <a:lnTo>
                    <a:pt x="596" y="436"/>
                  </a:lnTo>
                  <a:lnTo>
                    <a:pt x="450" y="561"/>
                  </a:lnTo>
                  <a:lnTo>
                    <a:pt x="176" y="591"/>
                  </a:lnTo>
                  <a:lnTo>
                    <a:pt x="0" y="600"/>
                  </a:lnTo>
                  <a:lnTo>
                    <a:pt x="0" y="741"/>
                  </a:lnTo>
                  <a:lnTo>
                    <a:pt x="171" y="1041"/>
                  </a:lnTo>
                  <a:lnTo>
                    <a:pt x="216" y="1046"/>
                  </a:lnTo>
                  <a:lnTo>
                    <a:pt x="57" y="719"/>
                  </a:lnTo>
                  <a:lnTo>
                    <a:pt x="295" y="622"/>
                  </a:lnTo>
                  <a:lnTo>
                    <a:pt x="450" y="622"/>
                  </a:lnTo>
                  <a:lnTo>
                    <a:pt x="569" y="684"/>
                  </a:lnTo>
                  <a:lnTo>
                    <a:pt x="596" y="772"/>
                  </a:lnTo>
                  <a:lnTo>
                    <a:pt x="596" y="971"/>
                  </a:lnTo>
                  <a:lnTo>
                    <a:pt x="596" y="1041"/>
                  </a:lnTo>
                  <a:lnTo>
                    <a:pt x="666" y="944"/>
                  </a:lnTo>
                  <a:lnTo>
                    <a:pt x="666" y="737"/>
                  </a:lnTo>
                  <a:lnTo>
                    <a:pt x="763" y="737"/>
                  </a:lnTo>
                  <a:lnTo>
                    <a:pt x="816" y="971"/>
                  </a:lnTo>
                  <a:lnTo>
                    <a:pt x="869" y="993"/>
                  </a:lnTo>
                  <a:lnTo>
                    <a:pt x="1046" y="993"/>
                  </a:lnTo>
                  <a:lnTo>
                    <a:pt x="1219" y="953"/>
                  </a:lnTo>
                  <a:lnTo>
                    <a:pt x="1342" y="860"/>
                  </a:lnTo>
                  <a:lnTo>
                    <a:pt x="1360" y="653"/>
                  </a:lnTo>
                  <a:lnTo>
                    <a:pt x="1430" y="561"/>
                  </a:lnTo>
                  <a:lnTo>
                    <a:pt x="1391" y="507"/>
                  </a:lnTo>
                  <a:lnTo>
                    <a:pt x="1232" y="445"/>
                  </a:lnTo>
                  <a:lnTo>
                    <a:pt x="1205" y="233"/>
                  </a:lnTo>
                  <a:lnTo>
                    <a:pt x="1054" y="233"/>
                  </a:lnTo>
                  <a:lnTo>
                    <a:pt x="878" y="0"/>
                  </a:lnTo>
                  <a:lnTo>
                    <a:pt x="1041" y="260"/>
                  </a:lnTo>
                  <a:lnTo>
                    <a:pt x="1091" y="260"/>
                  </a:lnTo>
                  <a:lnTo>
                    <a:pt x="1126" y="436"/>
                  </a:lnTo>
                  <a:lnTo>
                    <a:pt x="927" y="507"/>
                  </a:lnTo>
                  <a:lnTo>
                    <a:pt x="781" y="454"/>
                  </a:lnTo>
                  <a:lnTo>
                    <a:pt x="755" y="507"/>
                  </a:lnTo>
                  <a:lnTo>
                    <a:pt x="834" y="561"/>
                  </a:lnTo>
                  <a:lnTo>
                    <a:pt x="834" y="613"/>
                  </a:lnTo>
                  <a:lnTo>
                    <a:pt x="1006" y="534"/>
                  </a:lnTo>
                  <a:lnTo>
                    <a:pt x="1152" y="515"/>
                  </a:lnTo>
                  <a:lnTo>
                    <a:pt x="1311" y="538"/>
                  </a:lnTo>
                  <a:lnTo>
                    <a:pt x="1311" y="569"/>
                  </a:lnTo>
                  <a:lnTo>
                    <a:pt x="1236" y="644"/>
                  </a:lnTo>
                  <a:lnTo>
                    <a:pt x="1205" y="737"/>
                  </a:lnTo>
                  <a:lnTo>
                    <a:pt x="1197" y="860"/>
                  </a:lnTo>
                  <a:lnTo>
                    <a:pt x="1104" y="913"/>
                  </a:lnTo>
                  <a:lnTo>
                    <a:pt x="966" y="931"/>
                  </a:lnTo>
                  <a:lnTo>
                    <a:pt x="869" y="931"/>
                  </a:lnTo>
                  <a:lnTo>
                    <a:pt x="838" y="891"/>
                  </a:lnTo>
                  <a:lnTo>
                    <a:pt x="816" y="653"/>
                  </a:lnTo>
                  <a:lnTo>
                    <a:pt x="666" y="653"/>
                  </a:lnTo>
                  <a:lnTo>
                    <a:pt x="653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13640" y="861840"/>
              <a:ext cx="167040" cy="76680"/>
            </a:xfrm>
            <a:custGeom>
              <a:avLst/>
              <a:gdLst/>
              <a:ahLst/>
              <a:rect l="0" t="0" r="r" b="b"/>
              <a:pathLst>
                <a:path w="464" h="213">
                  <a:moveTo>
                    <a:pt x="0" y="0"/>
                  </a:moveTo>
                  <a:lnTo>
                    <a:pt x="74" y="98"/>
                  </a:lnTo>
                  <a:lnTo>
                    <a:pt x="274" y="98"/>
                  </a:lnTo>
                  <a:lnTo>
                    <a:pt x="358" y="30"/>
                  </a:lnTo>
                  <a:lnTo>
                    <a:pt x="464" y="30"/>
                  </a:lnTo>
                  <a:lnTo>
                    <a:pt x="446" y="62"/>
                  </a:lnTo>
                  <a:lnTo>
                    <a:pt x="446" y="98"/>
                  </a:lnTo>
                  <a:lnTo>
                    <a:pt x="256" y="213"/>
                  </a:lnTo>
                  <a:lnTo>
                    <a:pt x="154" y="213"/>
                  </a:lnTo>
                  <a:lnTo>
                    <a:pt x="97" y="169"/>
                  </a:lnTo>
                  <a:lnTo>
                    <a:pt x="39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29680" y="738360"/>
              <a:ext cx="251280" cy="406800"/>
            </a:xfrm>
            <a:custGeom>
              <a:avLst/>
              <a:gdLst/>
              <a:ahLst/>
              <a:rect l="0" t="0" r="r" b="b"/>
              <a:pathLst>
                <a:path w="698" h="1130">
                  <a:moveTo>
                    <a:pt x="698" y="79"/>
                  </a:moveTo>
                  <a:lnTo>
                    <a:pt x="698" y="101"/>
                  </a:lnTo>
                  <a:lnTo>
                    <a:pt x="575" y="216"/>
                  </a:lnTo>
                  <a:lnTo>
                    <a:pt x="472" y="233"/>
                  </a:lnTo>
                  <a:lnTo>
                    <a:pt x="278" y="202"/>
                  </a:lnTo>
                  <a:lnTo>
                    <a:pt x="318" y="613"/>
                  </a:lnTo>
                  <a:lnTo>
                    <a:pt x="362" y="945"/>
                  </a:lnTo>
                  <a:lnTo>
                    <a:pt x="446" y="1130"/>
                  </a:lnTo>
                  <a:lnTo>
                    <a:pt x="362" y="998"/>
                  </a:lnTo>
                  <a:lnTo>
                    <a:pt x="327" y="857"/>
                  </a:lnTo>
                  <a:lnTo>
                    <a:pt x="269" y="477"/>
                  </a:lnTo>
                  <a:lnTo>
                    <a:pt x="217" y="499"/>
                  </a:lnTo>
                  <a:lnTo>
                    <a:pt x="145" y="455"/>
                  </a:lnTo>
                  <a:lnTo>
                    <a:pt x="13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30"/>
                  </a:lnTo>
                  <a:lnTo>
                    <a:pt x="52" y="52"/>
                  </a:lnTo>
                  <a:lnTo>
                    <a:pt x="39" y="136"/>
                  </a:lnTo>
                  <a:lnTo>
                    <a:pt x="48" y="238"/>
                  </a:lnTo>
                  <a:lnTo>
                    <a:pt x="136" y="336"/>
                  </a:lnTo>
                  <a:lnTo>
                    <a:pt x="181" y="314"/>
                  </a:lnTo>
                  <a:lnTo>
                    <a:pt x="181" y="110"/>
                  </a:lnTo>
                  <a:lnTo>
                    <a:pt x="261" y="149"/>
                  </a:lnTo>
                  <a:lnTo>
                    <a:pt x="389" y="180"/>
                  </a:lnTo>
                  <a:lnTo>
                    <a:pt x="503" y="171"/>
                  </a:lnTo>
                  <a:lnTo>
                    <a:pt x="619" y="110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96280" y="417600"/>
              <a:ext cx="76680" cy="216360"/>
            </a:xfrm>
            <a:custGeom>
              <a:avLst/>
              <a:gdLst/>
              <a:ahLst/>
              <a:rect l="0" t="0" r="r" b="b"/>
              <a:pathLst>
                <a:path w="213" h="601">
                  <a:moveTo>
                    <a:pt x="111" y="601"/>
                  </a:moveTo>
                  <a:lnTo>
                    <a:pt x="213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3" y="145"/>
                  </a:lnTo>
                  <a:lnTo>
                    <a:pt x="75" y="203"/>
                  </a:lnTo>
                  <a:lnTo>
                    <a:pt x="84" y="384"/>
                  </a:lnTo>
                  <a:lnTo>
                    <a:pt x="128" y="456"/>
                  </a:lnTo>
                  <a:lnTo>
                    <a:pt x="111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93040" y="228600"/>
              <a:ext cx="567000" cy="284400"/>
            </a:xfrm>
            <a:custGeom>
              <a:avLst/>
              <a:gdLst/>
              <a:ahLst/>
              <a:rect l="0" t="0" r="r" b="b"/>
              <a:pathLst>
                <a:path w="1575" h="790">
                  <a:moveTo>
                    <a:pt x="13" y="534"/>
                  </a:moveTo>
                  <a:lnTo>
                    <a:pt x="149" y="618"/>
                  </a:lnTo>
                  <a:lnTo>
                    <a:pt x="136" y="512"/>
                  </a:lnTo>
                  <a:lnTo>
                    <a:pt x="158" y="335"/>
                  </a:lnTo>
                  <a:lnTo>
                    <a:pt x="251" y="295"/>
                  </a:lnTo>
                  <a:lnTo>
                    <a:pt x="260" y="486"/>
                  </a:lnTo>
                  <a:lnTo>
                    <a:pt x="529" y="149"/>
                  </a:lnTo>
                  <a:lnTo>
                    <a:pt x="590" y="132"/>
                  </a:lnTo>
                  <a:lnTo>
                    <a:pt x="542" y="260"/>
                  </a:lnTo>
                  <a:lnTo>
                    <a:pt x="705" y="330"/>
                  </a:lnTo>
                  <a:lnTo>
                    <a:pt x="830" y="194"/>
                  </a:lnTo>
                  <a:lnTo>
                    <a:pt x="896" y="233"/>
                  </a:lnTo>
                  <a:lnTo>
                    <a:pt x="834" y="348"/>
                  </a:lnTo>
                  <a:lnTo>
                    <a:pt x="918" y="282"/>
                  </a:lnTo>
                  <a:lnTo>
                    <a:pt x="1032" y="335"/>
                  </a:lnTo>
                  <a:lnTo>
                    <a:pt x="935" y="428"/>
                  </a:lnTo>
                  <a:lnTo>
                    <a:pt x="1262" y="486"/>
                  </a:lnTo>
                  <a:lnTo>
                    <a:pt x="1041" y="556"/>
                  </a:lnTo>
                  <a:lnTo>
                    <a:pt x="1319" y="596"/>
                  </a:lnTo>
                  <a:lnTo>
                    <a:pt x="997" y="671"/>
                  </a:lnTo>
                  <a:lnTo>
                    <a:pt x="1063" y="733"/>
                  </a:lnTo>
                  <a:lnTo>
                    <a:pt x="971" y="790"/>
                  </a:lnTo>
                  <a:lnTo>
                    <a:pt x="1134" y="790"/>
                  </a:lnTo>
                  <a:lnTo>
                    <a:pt x="1121" y="741"/>
                  </a:lnTo>
                  <a:lnTo>
                    <a:pt x="1288" y="785"/>
                  </a:lnTo>
                  <a:lnTo>
                    <a:pt x="1262" y="658"/>
                  </a:lnTo>
                  <a:lnTo>
                    <a:pt x="1425" y="600"/>
                  </a:lnTo>
                  <a:lnTo>
                    <a:pt x="1310" y="543"/>
                  </a:lnTo>
                  <a:lnTo>
                    <a:pt x="1575" y="530"/>
                  </a:lnTo>
                  <a:lnTo>
                    <a:pt x="1345" y="397"/>
                  </a:lnTo>
                  <a:lnTo>
                    <a:pt x="1085" y="370"/>
                  </a:lnTo>
                  <a:lnTo>
                    <a:pt x="1288" y="238"/>
                  </a:lnTo>
                  <a:lnTo>
                    <a:pt x="918" y="238"/>
                  </a:lnTo>
                  <a:lnTo>
                    <a:pt x="1094" y="119"/>
                  </a:lnTo>
                  <a:lnTo>
                    <a:pt x="821" y="149"/>
                  </a:lnTo>
                  <a:lnTo>
                    <a:pt x="692" y="216"/>
                  </a:lnTo>
                  <a:lnTo>
                    <a:pt x="803" y="0"/>
                  </a:lnTo>
                  <a:lnTo>
                    <a:pt x="471" y="119"/>
                  </a:lnTo>
                  <a:lnTo>
                    <a:pt x="295" y="374"/>
                  </a:lnTo>
                  <a:lnTo>
                    <a:pt x="260" y="233"/>
                  </a:lnTo>
                  <a:lnTo>
                    <a:pt x="114" y="335"/>
                  </a:lnTo>
                  <a:lnTo>
                    <a:pt x="97" y="530"/>
                  </a:lnTo>
                  <a:lnTo>
                    <a:pt x="0" y="486"/>
                  </a:lnTo>
                  <a:lnTo>
                    <a:pt x="30" y="658"/>
                  </a:lnTo>
                  <a:lnTo>
                    <a:pt x="13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16880" y="380880"/>
              <a:ext cx="160560" cy="84600"/>
            </a:xfrm>
            <a:custGeom>
              <a:avLst/>
              <a:gdLst/>
              <a:ahLst/>
              <a:rect l="0" t="0" r="r" b="b"/>
              <a:pathLst>
                <a:path w="446" h="235">
                  <a:moveTo>
                    <a:pt x="0" y="235"/>
                  </a:moveTo>
                  <a:lnTo>
                    <a:pt x="163" y="0"/>
                  </a:lnTo>
                  <a:lnTo>
                    <a:pt x="163" y="155"/>
                  </a:lnTo>
                  <a:lnTo>
                    <a:pt x="225" y="93"/>
                  </a:lnTo>
                  <a:lnTo>
                    <a:pt x="278" y="182"/>
                  </a:lnTo>
                  <a:lnTo>
                    <a:pt x="446" y="222"/>
                  </a:lnTo>
                  <a:lnTo>
                    <a:pt x="265" y="191"/>
                  </a:lnTo>
                  <a:lnTo>
                    <a:pt x="216" y="137"/>
                  </a:lnTo>
                  <a:lnTo>
                    <a:pt x="136" y="191"/>
                  </a:lnTo>
                  <a:lnTo>
                    <a:pt x="136" y="12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02480" y="961920"/>
              <a:ext cx="192600" cy="125640"/>
            </a:xfrm>
            <a:custGeom>
              <a:avLst/>
              <a:gdLst/>
              <a:ahLst/>
              <a:rect l="0" t="0" r="r" b="b"/>
              <a:pathLst>
                <a:path w="535" h="349">
                  <a:moveTo>
                    <a:pt x="101" y="119"/>
                  </a:moveTo>
                  <a:lnTo>
                    <a:pt x="322" y="105"/>
                  </a:lnTo>
                  <a:lnTo>
                    <a:pt x="425" y="127"/>
                  </a:lnTo>
                  <a:lnTo>
                    <a:pt x="478" y="79"/>
                  </a:lnTo>
                  <a:lnTo>
                    <a:pt x="535" y="195"/>
                  </a:lnTo>
                  <a:lnTo>
                    <a:pt x="500" y="212"/>
                  </a:lnTo>
                  <a:lnTo>
                    <a:pt x="451" y="171"/>
                  </a:lnTo>
                  <a:lnTo>
                    <a:pt x="384" y="256"/>
                  </a:lnTo>
                  <a:lnTo>
                    <a:pt x="247" y="349"/>
                  </a:lnTo>
                  <a:lnTo>
                    <a:pt x="190" y="349"/>
                  </a:lnTo>
                  <a:lnTo>
                    <a:pt x="101" y="296"/>
                  </a:lnTo>
                  <a:lnTo>
                    <a:pt x="199" y="344"/>
                  </a:lnTo>
                  <a:lnTo>
                    <a:pt x="239" y="344"/>
                  </a:lnTo>
                  <a:lnTo>
                    <a:pt x="322" y="274"/>
                  </a:lnTo>
                  <a:lnTo>
                    <a:pt x="380" y="158"/>
                  </a:lnTo>
                  <a:lnTo>
                    <a:pt x="292" y="145"/>
                  </a:lnTo>
                  <a:lnTo>
                    <a:pt x="234" y="127"/>
                  </a:lnTo>
                  <a:lnTo>
                    <a:pt x="92" y="149"/>
                  </a:lnTo>
                  <a:lnTo>
                    <a:pt x="88" y="243"/>
                  </a:lnTo>
                  <a:lnTo>
                    <a:pt x="39" y="186"/>
                  </a:lnTo>
                  <a:lnTo>
                    <a:pt x="0" y="265"/>
                  </a:lnTo>
                  <a:lnTo>
                    <a:pt x="4" y="92"/>
                  </a:lnTo>
                  <a:lnTo>
                    <a:pt x="57" y="0"/>
                  </a:lnTo>
                  <a:lnTo>
                    <a:pt x="101" y="92"/>
                  </a:lnTo>
                  <a:lnTo>
                    <a:pt x="101" y="1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77280" y="684360"/>
              <a:ext cx="411480" cy="589320"/>
            </a:xfrm>
            <a:custGeom>
              <a:avLst/>
              <a:gdLst/>
              <a:ahLst/>
              <a:rect l="0" t="0" r="r" b="b"/>
              <a:pathLst>
                <a:path w="1143" h="1637">
                  <a:moveTo>
                    <a:pt x="962" y="0"/>
                  </a:moveTo>
                  <a:lnTo>
                    <a:pt x="1072" y="0"/>
                  </a:lnTo>
                  <a:lnTo>
                    <a:pt x="1143" y="83"/>
                  </a:lnTo>
                  <a:lnTo>
                    <a:pt x="1143" y="171"/>
                  </a:lnTo>
                  <a:lnTo>
                    <a:pt x="1050" y="427"/>
                  </a:lnTo>
                  <a:lnTo>
                    <a:pt x="953" y="546"/>
                  </a:lnTo>
                  <a:lnTo>
                    <a:pt x="856" y="568"/>
                  </a:lnTo>
                  <a:lnTo>
                    <a:pt x="830" y="568"/>
                  </a:lnTo>
                  <a:lnTo>
                    <a:pt x="830" y="891"/>
                  </a:lnTo>
                  <a:lnTo>
                    <a:pt x="878" y="1121"/>
                  </a:lnTo>
                  <a:lnTo>
                    <a:pt x="878" y="1315"/>
                  </a:lnTo>
                  <a:lnTo>
                    <a:pt x="702" y="1504"/>
                  </a:lnTo>
                  <a:lnTo>
                    <a:pt x="467" y="1637"/>
                  </a:lnTo>
                  <a:lnTo>
                    <a:pt x="317" y="1637"/>
                  </a:lnTo>
                  <a:lnTo>
                    <a:pt x="238" y="1601"/>
                  </a:lnTo>
                  <a:lnTo>
                    <a:pt x="136" y="1376"/>
                  </a:lnTo>
                  <a:lnTo>
                    <a:pt x="35" y="1293"/>
                  </a:lnTo>
                  <a:lnTo>
                    <a:pt x="0" y="1235"/>
                  </a:lnTo>
                  <a:lnTo>
                    <a:pt x="127" y="1315"/>
                  </a:lnTo>
                  <a:lnTo>
                    <a:pt x="220" y="1394"/>
                  </a:lnTo>
                  <a:lnTo>
                    <a:pt x="405" y="1407"/>
                  </a:lnTo>
                  <a:lnTo>
                    <a:pt x="568" y="1328"/>
                  </a:lnTo>
                  <a:lnTo>
                    <a:pt x="658" y="1235"/>
                  </a:lnTo>
                  <a:lnTo>
                    <a:pt x="750" y="1068"/>
                  </a:lnTo>
                  <a:lnTo>
                    <a:pt x="763" y="869"/>
                  </a:lnTo>
                  <a:lnTo>
                    <a:pt x="799" y="246"/>
                  </a:lnTo>
                  <a:lnTo>
                    <a:pt x="838" y="335"/>
                  </a:lnTo>
                  <a:lnTo>
                    <a:pt x="949" y="220"/>
                  </a:lnTo>
                  <a:lnTo>
                    <a:pt x="1068" y="171"/>
                  </a:lnTo>
                  <a:lnTo>
                    <a:pt x="1099" y="105"/>
                  </a:lnTo>
                  <a:lnTo>
                    <a:pt x="1081" y="35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940440" y="1192320"/>
              <a:ext cx="332280" cy="543240"/>
            </a:xfrm>
            <a:custGeom>
              <a:avLst/>
              <a:gdLst/>
              <a:ahLst/>
              <a:rect l="0" t="0" r="r" b="b"/>
              <a:pathLst>
                <a:path w="923" h="1509">
                  <a:moveTo>
                    <a:pt x="114" y="0"/>
                  </a:moveTo>
                  <a:lnTo>
                    <a:pt x="220" y="66"/>
                  </a:lnTo>
                  <a:lnTo>
                    <a:pt x="305" y="374"/>
                  </a:lnTo>
                  <a:lnTo>
                    <a:pt x="538" y="445"/>
                  </a:lnTo>
                  <a:lnTo>
                    <a:pt x="605" y="524"/>
                  </a:lnTo>
                  <a:lnTo>
                    <a:pt x="618" y="639"/>
                  </a:lnTo>
                  <a:lnTo>
                    <a:pt x="734" y="621"/>
                  </a:lnTo>
                  <a:lnTo>
                    <a:pt x="879" y="718"/>
                  </a:lnTo>
                  <a:lnTo>
                    <a:pt x="923" y="847"/>
                  </a:lnTo>
                  <a:lnTo>
                    <a:pt x="923" y="1054"/>
                  </a:lnTo>
                  <a:lnTo>
                    <a:pt x="734" y="1376"/>
                  </a:lnTo>
                  <a:lnTo>
                    <a:pt x="671" y="1509"/>
                  </a:lnTo>
                  <a:lnTo>
                    <a:pt x="707" y="1337"/>
                  </a:lnTo>
                  <a:lnTo>
                    <a:pt x="671" y="1266"/>
                  </a:lnTo>
                  <a:lnTo>
                    <a:pt x="561" y="1160"/>
                  </a:lnTo>
                  <a:lnTo>
                    <a:pt x="375" y="1028"/>
                  </a:lnTo>
                  <a:lnTo>
                    <a:pt x="596" y="1103"/>
                  </a:lnTo>
                  <a:lnTo>
                    <a:pt x="725" y="1200"/>
                  </a:lnTo>
                  <a:lnTo>
                    <a:pt x="791" y="1182"/>
                  </a:lnTo>
                  <a:lnTo>
                    <a:pt x="831" y="1134"/>
                  </a:lnTo>
                  <a:lnTo>
                    <a:pt x="879" y="979"/>
                  </a:lnTo>
                  <a:lnTo>
                    <a:pt x="861" y="830"/>
                  </a:lnTo>
                  <a:lnTo>
                    <a:pt x="795" y="745"/>
                  </a:lnTo>
                  <a:lnTo>
                    <a:pt x="684" y="718"/>
                  </a:lnTo>
                  <a:lnTo>
                    <a:pt x="561" y="718"/>
                  </a:lnTo>
                  <a:lnTo>
                    <a:pt x="512" y="493"/>
                  </a:lnTo>
                  <a:lnTo>
                    <a:pt x="314" y="418"/>
                  </a:lnTo>
                  <a:lnTo>
                    <a:pt x="314" y="485"/>
                  </a:lnTo>
                  <a:lnTo>
                    <a:pt x="220" y="321"/>
                  </a:lnTo>
                  <a:lnTo>
                    <a:pt x="167" y="66"/>
                  </a:lnTo>
                  <a:lnTo>
                    <a:pt x="92" y="39"/>
                  </a:lnTo>
                  <a:lnTo>
                    <a:pt x="44" y="119"/>
                  </a:lnTo>
                  <a:lnTo>
                    <a:pt x="44" y="291"/>
                  </a:lnTo>
                  <a:lnTo>
                    <a:pt x="83" y="485"/>
                  </a:lnTo>
                  <a:lnTo>
                    <a:pt x="194" y="639"/>
                  </a:lnTo>
                  <a:lnTo>
                    <a:pt x="74" y="542"/>
                  </a:lnTo>
                  <a:lnTo>
                    <a:pt x="8" y="374"/>
                  </a:lnTo>
                  <a:lnTo>
                    <a:pt x="0" y="163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81680" y="1433520"/>
              <a:ext cx="219600" cy="433800"/>
            </a:xfrm>
            <a:custGeom>
              <a:avLst/>
              <a:gdLst/>
              <a:ahLst/>
              <a:rect l="0" t="0" r="r" b="b"/>
              <a:pathLst>
                <a:path w="610" h="1205">
                  <a:moveTo>
                    <a:pt x="610" y="0"/>
                  </a:moveTo>
                  <a:lnTo>
                    <a:pt x="482" y="79"/>
                  </a:lnTo>
                  <a:lnTo>
                    <a:pt x="336" y="371"/>
                  </a:lnTo>
                  <a:lnTo>
                    <a:pt x="195" y="565"/>
                  </a:lnTo>
                  <a:lnTo>
                    <a:pt x="13" y="794"/>
                  </a:lnTo>
                  <a:lnTo>
                    <a:pt x="0" y="905"/>
                  </a:lnTo>
                  <a:lnTo>
                    <a:pt x="30" y="1016"/>
                  </a:lnTo>
                  <a:lnTo>
                    <a:pt x="119" y="1016"/>
                  </a:lnTo>
                  <a:lnTo>
                    <a:pt x="234" y="905"/>
                  </a:lnTo>
                  <a:lnTo>
                    <a:pt x="327" y="693"/>
                  </a:lnTo>
                  <a:lnTo>
                    <a:pt x="450" y="565"/>
                  </a:lnTo>
                  <a:lnTo>
                    <a:pt x="450" y="737"/>
                  </a:lnTo>
                  <a:lnTo>
                    <a:pt x="433" y="896"/>
                  </a:lnTo>
                  <a:lnTo>
                    <a:pt x="296" y="1113"/>
                  </a:lnTo>
                  <a:lnTo>
                    <a:pt x="296" y="1179"/>
                  </a:lnTo>
                  <a:lnTo>
                    <a:pt x="433" y="1205"/>
                  </a:lnTo>
                  <a:lnTo>
                    <a:pt x="336" y="1148"/>
                  </a:lnTo>
                  <a:lnTo>
                    <a:pt x="349" y="1113"/>
                  </a:lnTo>
                  <a:lnTo>
                    <a:pt x="441" y="954"/>
                  </a:lnTo>
                  <a:lnTo>
                    <a:pt x="504" y="666"/>
                  </a:lnTo>
                  <a:lnTo>
                    <a:pt x="460" y="508"/>
                  </a:lnTo>
                  <a:lnTo>
                    <a:pt x="362" y="600"/>
                  </a:lnTo>
                  <a:lnTo>
                    <a:pt x="141" y="958"/>
                  </a:lnTo>
                  <a:lnTo>
                    <a:pt x="88" y="976"/>
                  </a:lnTo>
                  <a:lnTo>
                    <a:pt x="30" y="932"/>
                  </a:lnTo>
                  <a:lnTo>
                    <a:pt x="30" y="825"/>
                  </a:lnTo>
                  <a:lnTo>
                    <a:pt x="119" y="684"/>
                  </a:lnTo>
                  <a:lnTo>
                    <a:pt x="362" y="393"/>
                  </a:lnTo>
                  <a:lnTo>
                    <a:pt x="504" y="110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43680" y="1679400"/>
              <a:ext cx="135360" cy="208440"/>
            </a:xfrm>
            <a:custGeom>
              <a:avLst/>
              <a:gdLst/>
              <a:ahLst/>
              <a:rect l="0" t="0" r="r" b="b"/>
              <a:pathLst>
                <a:path w="376" h="579">
                  <a:moveTo>
                    <a:pt x="0" y="509"/>
                  </a:moveTo>
                  <a:lnTo>
                    <a:pt x="124" y="362"/>
                  </a:lnTo>
                  <a:lnTo>
                    <a:pt x="146" y="212"/>
                  </a:lnTo>
                  <a:lnTo>
                    <a:pt x="288" y="0"/>
                  </a:lnTo>
                  <a:lnTo>
                    <a:pt x="323" y="146"/>
                  </a:lnTo>
                  <a:lnTo>
                    <a:pt x="301" y="526"/>
                  </a:lnTo>
                  <a:lnTo>
                    <a:pt x="376" y="579"/>
                  </a:lnTo>
                  <a:lnTo>
                    <a:pt x="265" y="535"/>
                  </a:lnTo>
                  <a:lnTo>
                    <a:pt x="212" y="322"/>
                  </a:lnTo>
                  <a:lnTo>
                    <a:pt x="124" y="428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10360" y="1687680"/>
              <a:ext cx="89280" cy="189360"/>
            </a:xfrm>
            <a:custGeom>
              <a:avLst/>
              <a:gdLst/>
              <a:ahLst/>
              <a:rect l="0" t="0" r="r" b="b"/>
              <a:pathLst>
                <a:path w="248" h="526">
                  <a:moveTo>
                    <a:pt x="0" y="393"/>
                  </a:moveTo>
                  <a:lnTo>
                    <a:pt x="8" y="199"/>
                  </a:lnTo>
                  <a:lnTo>
                    <a:pt x="67" y="83"/>
                  </a:lnTo>
                  <a:lnTo>
                    <a:pt x="120" y="500"/>
                  </a:lnTo>
                  <a:lnTo>
                    <a:pt x="200" y="500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40"/>
                  </a:lnTo>
                  <a:lnTo>
                    <a:pt x="200" y="526"/>
                  </a:lnTo>
                  <a:lnTo>
                    <a:pt x="98" y="526"/>
                  </a:lnTo>
                  <a:lnTo>
                    <a:pt x="52" y="164"/>
                  </a:lnTo>
                  <a:lnTo>
                    <a:pt x="30" y="217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253360" y="950760"/>
              <a:ext cx="216360" cy="501840"/>
            </a:xfrm>
            <a:custGeom>
              <a:avLst/>
              <a:gdLst/>
              <a:ahLst/>
              <a:rect l="0" t="0" r="r" b="b"/>
              <a:pathLst>
                <a:path w="601" h="1394">
                  <a:moveTo>
                    <a:pt x="155" y="759"/>
                  </a:moveTo>
                  <a:lnTo>
                    <a:pt x="203" y="537"/>
                  </a:lnTo>
                  <a:lnTo>
                    <a:pt x="406" y="480"/>
                  </a:lnTo>
                  <a:lnTo>
                    <a:pt x="601" y="0"/>
                  </a:lnTo>
                  <a:lnTo>
                    <a:pt x="601" y="141"/>
                  </a:lnTo>
                  <a:lnTo>
                    <a:pt x="437" y="511"/>
                  </a:lnTo>
                  <a:lnTo>
                    <a:pt x="221" y="577"/>
                  </a:lnTo>
                  <a:lnTo>
                    <a:pt x="195" y="759"/>
                  </a:lnTo>
                  <a:lnTo>
                    <a:pt x="265" y="759"/>
                  </a:lnTo>
                  <a:lnTo>
                    <a:pt x="79" y="834"/>
                  </a:lnTo>
                  <a:lnTo>
                    <a:pt x="30" y="979"/>
                  </a:lnTo>
                  <a:lnTo>
                    <a:pt x="44" y="1173"/>
                  </a:lnTo>
                  <a:lnTo>
                    <a:pt x="243" y="1394"/>
                  </a:lnTo>
                  <a:lnTo>
                    <a:pt x="30" y="1200"/>
                  </a:lnTo>
                  <a:lnTo>
                    <a:pt x="0" y="1037"/>
                  </a:lnTo>
                  <a:lnTo>
                    <a:pt x="13" y="878"/>
                  </a:lnTo>
                  <a:lnTo>
                    <a:pt x="92" y="763"/>
                  </a:lnTo>
                  <a:lnTo>
                    <a:pt x="155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97720" y="950760"/>
              <a:ext cx="363960" cy="486000"/>
            </a:xfrm>
            <a:custGeom>
              <a:avLst/>
              <a:gdLst/>
              <a:ahLst/>
              <a:rect l="0" t="0" r="r" b="b"/>
              <a:pathLst>
                <a:path w="1011" h="1350">
                  <a:moveTo>
                    <a:pt x="278" y="0"/>
                  </a:moveTo>
                  <a:lnTo>
                    <a:pt x="340" y="39"/>
                  </a:lnTo>
                  <a:lnTo>
                    <a:pt x="358" y="154"/>
                  </a:lnTo>
                  <a:lnTo>
                    <a:pt x="358" y="264"/>
                  </a:lnTo>
                  <a:lnTo>
                    <a:pt x="242" y="458"/>
                  </a:lnTo>
                  <a:lnTo>
                    <a:pt x="265" y="604"/>
                  </a:lnTo>
                  <a:lnTo>
                    <a:pt x="605" y="759"/>
                  </a:lnTo>
                  <a:lnTo>
                    <a:pt x="1007" y="1182"/>
                  </a:lnTo>
                  <a:lnTo>
                    <a:pt x="1011" y="1297"/>
                  </a:lnTo>
                  <a:lnTo>
                    <a:pt x="989" y="1350"/>
                  </a:lnTo>
                  <a:lnTo>
                    <a:pt x="839" y="1350"/>
                  </a:lnTo>
                  <a:lnTo>
                    <a:pt x="706" y="1271"/>
                  </a:lnTo>
                  <a:lnTo>
                    <a:pt x="600" y="1129"/>
                  </a:lnTo>
                  <a:lnTo>
                    <a:pt x="538" y="1046"/>
                  </a:lnTo>
                  <a:lnTo>
                    <a:pt x="468" y="1037"/>
                  </a:lnTo>
                  <a:lnTo>
                    <a:pt x="556" y="1037"/>
                  </a:lnTo>
                  <a:lnTo>
                    <a:pt x="719" y="1257"/>
                  </a:lnTo>
                  <a:lnTo>
                    <a:pt x="932" y="1319"/>
                  </a:lnTo>
                  <a:lnTo>
                    <a:pt x="980" y="1257"/>
                  </a:lnTo>
                  <a:lnTo>
                    <a:pt x="954" y="1156"/>
                  </a:lnTo>
                  <a:lnTo>
                    <a:pt x="583" y="847"/>
                  </a:lnTo>
                  <a:lnTo>
                    <a:pt x="534" y="759"/>
                  </a:lnTo>
                  <a:lnTo>
                    <a:pt x="242" y="684"/>
                  </a:lnTo>
                  <a:lnTo>
                    <a:pt x="198" y="759"/>
                  </a:lnTo>
                  <a:lnTo>
                    <a:pt x="0" y="887"/>
                  </a:lnTo>
                  <a:lnTo>
                    <a:pt x="185" y="741"/>
                  </a:lnTo>
                  <a:lnTo>
                    <a:pt x="198" y="643"/>
                  </a:lnTo>
                  <a:lnTo>
                    <a:pt x="198" y="427"/>
                  </a:lnTo>
                  <a:lnTo>
                    <a:pt x="327" y="264"/>
                  </a:lnTo>
                  <a:lnTo>
                    <a:pt x="327" y="57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32920" y="1333440"/>
              <a:ext cx="308160" cy="287640"/>
            </a:xfrm>
            <a:custGeom>
              <a:avLst/>
              <a:gdLst/>
              <a:ahLst/>
              <a:rect l="0" t="0" r="r" b="b"/>
              <a:pathLst>
                <a:path w="856" h="799">
                  <a:moveTo>
                    <a:pt x="640" y="0"/>
                  </a:moveTo>
                  <a:lnTo>
                    <a:pt x="618" y="66"/>
                  </a:lnTo>
                  <a:lnTo>
                    <a:pt x="746" y="335"/>
                  </a:lnTo>
                  <a:lnTo>
                    <a:pt x="812" y="605"/>
                  </a:lnTo>
                  <a:lnTo>
                    <a:pt x="737" y="605"/>
                  </a:lnTo>
                  <a:lnTo>
                    <a:pt x="609" y="486"/>
                  </a:lnTo>
                  <a:lnTo>
                    <a:pt x="494" y="233"/>
                  </a:lnTo>
                  <a:lnTo>
                    <a:pt x="401" y="194"/>
                  </a:lnTo>
                  <a:lnTo>
                    <a:pt x="414" y="335"/>
                  </a:lnTo>
                  <a:lnTo>
                    <a:pt x="499" y="428"/>
                  </a:lnTo>
                  <a:lnTo>
                    <a:pt x="499" y="622"/>
                  </a:lnTo>
                  <a:lnTo>
                    <a:pt x="441" y="763"/>
                  </a:lnTo>
                  <a:lnTo>
                    <a:pt x="361" y="706"/>
                  </a:lnTo>
                  <a:lnTo>
                    <a:pt x="260" y="486"/>
                  </a:lnTo>
                  <a:lnTo>
                    <a:pt x="242" y="335"/>
                  </a:lnTo>
                  <a:lnTo>
                    <a:pt x="180" y="286"/>
                  </a:lnTo>
                  <a:lnTo>
                    <a:pt x="167" y="680"/>
                  </a:lnTo>
                  <a:lnTo>
                    <a:pt x="92" y="728"/>
                  </a:lnTo>
                  <a:lnTo>
                    <a:pt x="22" y="680"/>
                  </a:lnTo>
                  <a:lnTo>
                    <a:pt x="8" y="343"/>
                  </a:lnTo>
                  <a:lnTo>
                    <a:pt x="0" y="666"/>
                  </a:lnTo>
                  <a:lnTo>
                    <a:pt x="52" y="785"/>
                  </a:lnTo>
                  <a:lnTo>
                    <a:pt x="167" y="785"/>
                  </a:lnTo>
                  <a:lnTo>
                    <a:pt x="207" y="693"/>
                  </a:lnTo>
                  <a:lnTo>
                    <a:pt x="229" y="392"/>
                  </a:lnTo>
                  <a:lnTo>
                    <a:pt x="246" y="512"/>
                  </a:lnTo>
                  <a:lnTo>
                    <a:pt x="348" y="768"/>
                  </a:lnTo>
                  <a:lnTo>
                    <a:pt x="455" y="799"/>
                  </a:lnTo>
                  <a:lnTo>
                    <a:pt x="530" y="693"/>
                  </a:lnTo>
                  <a:lnTo>
                    <a:pt x="530" y="441"/>
                  </a:lnTo>
                  <a:lnTo>
                    <a:pt x="737" y="653"/>
                  </a:lnTo>
                  <a:lnTo>
                    <a:pt x="847" y="653"/>
                  </a:lnTo>
                  <a:lnTo>
                    <a:pt x="856" y="512"/>
                  </a:lnTo>
                  <a:lnTo>
                    <a:pt x="777" y="260"/>
                  </a:lnTo>
                  <a:lnTo>
                    <a:pt x="640" y="57"/>
                  </a:lnTo>
                  <a:lnTo>
                    <a:pt x="64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85160" y="1035000"/>
              <a:ext cx="1373400" cy="1173600"/>
            </a:xfrm>
            <a:custGeom>
              <a:avLst/>
              <a:gdLst/>
              <a:ahLst/>
              <a:rect l="0" t="0" r="r" b="b"/>
              <a:pathLst>
                <a:path w="3815" h="3260">
                  <a:moveTo>
                    <a:pt x="1371" y="277"/>
                  </a:moveTo>
                  <a:lnTo>
                    <a:pt x="1305" y="286"/>
                  </a:lnTo>
                  <a:lnTo>
                    <a:pt x="1199" y="449"/>
                  </a:lnTo>
                  <a:lnTo>
                    <a:pt x="1155" y="326"/>
                  </a:lnTo>
                  <a:lnTo>
                    <a:pt x="1031" y="260"/>
                  </a:lnTo>
                  <a:lnTo>
                    <a:pt x="943" y="313"/>
                  </a:lnTo>
                  <a:lnTo>
                    <a:pt x="908" y="524"/>
                  </a:lnTo>
                  <a:lnTo>
                    <a:pt x="564" y="784"/>
                  </a:lnTo>
                  <a:lnTo>
                    <a:pt x="586" y="896"/>
                  </a:lnTo>
                  <a:lnTo>
                    <a:pt x="502" y="993"/>
                  </a:lnTo>
                  <a:lnTo>
                    <a:pt x="502" y="1081"/>
                  </a:lnTo>
                  <a:lnTo>
                    <a:pt x="599" y="1323"/>
                  </a:lnTo>
                  <a:lnTo>
                    <a:pt x="608" y="1628"/>
                  </a:lnTo>
                  <a:lnTo>
                    <a:pt x="546" y="1910"/>
                  </a:lnTo>
                  <a:lnTo>
                    <a:pt x="304" y="2082"/>
                  </a:lnTo>
                  <a:lnTo>
                    <a:pt x="264" y="2316"/>
                  </a:lnTo>
                  <a:lnTo>
                    <a:pt x="194" y="2316"/>
                  </a:lnTo>
                  <a:lnTo>
                    <a:pt x="154" y="2122"/>
                  </a:lnTo>
                  <a:lnTo>
                    <a:pt x="79" y="2122"/>
                  </a:lnTo>
                  <a:lnTo>
                    <a:pt x="44" y="2324"/>
                  </a:lnTo>
                  <a:lnTo>
                    <a:pt x="0" y="2382"/>
                  </a:lnTo>
                  <a:lnTo>
                    <a:pt x="171" y="2661"/>
                  </a:lnTo>
                  <a:lnTo>
                    <a:pt x="291" y="2674"/>
                  </a:lnTo>
                  <a:lnTo>
                    <a:pt x="502" y="2885"/>
                  </a:lnTo>
                  <a:lnTo>
                    <a:pt x="696" y="2912"/>
                  </a:lnTo>
                  <a:lnTo>
                    <a:pt x="806" y="2797"/>
                  </a:lnTo>
                  <a:lnTo>
                    <a:pt x="1075" y="2395"/>
                  </a:lnTo>
                  <a:lnTo>
                    <a:pt x="1098" y="2938"/>
                  </a:lnTo>
                  <a:lnTo>
                    <a:pt x="1075" y="3260"/>
                  </a:lnTo>
                  <a:lnTo>
                    <a:pt x="3277" y="3260"/>
                  </a:lnTo>
                  <a:lnTo>
                    <a:pt x="3118" y="2912"/>
                  </a:lnTo>
                  <a:lnTo>
                    <a:pt x="3039" y="2608"/>
                  </a:lnTo>
                  <a:lnTo>
                    <a:pt x="3017" y="2157"/>
                  </a:lnTo>
                  <a:lnTo>
                    <a:pt x="3145" y="2258"/>
                  </a:lnTo>
                  <a:lnTo>
                    <a:pt x="3277" y="2258"/>
                  </a:lnTo>
                  <a:lnTo>
                    <a:pt x="3458" y="2139"/>
                  </a:lnTo>
                  <a:lnTo>
                    <a:pt x="3581" y="2122"/>
                  </a:lnTo>
                  <a:lnTo>
                    <a:pt x="3656" y="2003"/>
                  </a:lnTo>
                  <a:lnTo>
                    <a:pt x="3705" y="1694"/>
                  </a:lnTo>
                  <a:lnTo>
                    <a:pt x="3815" y="1570"/>
                  </a:lnTo>
                  <a:lnTo>
                    <a:pt x="3758" y="1478"/>
                  </a:lnTo>
                  <a:lnTo>
                    <a:pt x="3678" y="1478"/>
                  </a:lnTo>
                  <a:lnTo>
                    <a:pt x="3612" y="1539"/>
                  </a:lnTo>
                  <a:lnTo>
                    <a:pt x="3550" y="1557"/>
                  </a:lnTo>
                  <a:lnTo>
                    <a:pt x="3471" y="1478"/>
                  </a:lnTo>
                  <a:lnTo>
                    <a:pt x="3374" y="1465"/>
                  </a:lnTo>
                  <a:lnTo>
                    <a:pt x="3206" y="1350"/>
                  </a:lnTo>
                  <a:lnTo>
                    <a:pt x="3096" y="1226"/>
                  </a:lnTo>
                  <a:lnTo>
                    <a:pt x="3074" y="1081"/>
                  </a:lnTo>
                  <a:lnTo>
                    <a:pt x="3096" y="935"/>
                  </a:lnTo>
                  <a:lnTo>
                    <a:pt x="3162" y="811"/>
                  </a:lnTo>
                  <a:lnTo>
                    <a:pt x="3259" y="709"/>
                  </a:lnTo>
                  <a:lnTo>
                    <a:pt x="3250" y="520"/>
                  </a:lnTo>
                  <a:lnTo>
                    <a:pt x="3250" y="383"/>
                  </a:lnTo>
                  <a:lnTo>
                    <a:pt x="3206" y="286"/>
                  </a:lnTo>
                  <a:lnTo>
                    <a:pt x="3074" y="246"/>
                  </a:lnTo>
                  <a:lnTo>
                    <a:pt x="3030" y="220"/>
                  </a:lnTo>
                  <a:lnTo>
                    <a:pt x="2937" y="57"/>
                  </a:lnTo>
                  <a:lnTo>
                    <a:pt x="2862" y="8"/>
                  </a:lnTo>
                  <a:lnTo>
                    <a:pt x="2787" y="0"/>
                  </a:lnTo>
                  <a:lnTo>
                    <a:pt x="2717" y="30"/>
                  </a:lnTo>
                  <a:lnTo>
                    <a:pt x="2664" y="114"/>
                  </a:lnTo>
                  <a:lnTo>
                    <a:pt x="2576" y="167"/>
                  </a:lnTo>
                  <a:lnTo>
                    <a:pt x="2483" y="180"/>
                  </a:lnTo>
                  <a:lnTo>
                    <a:pt x="2377" y="180"/>
                  </a:lnTo>
                  <a:lnTo>
                    <a:pt x="2395" y="343"/>
                  </a:lnTo>
                  <a:lnTo>
                    <a:pt x="2395" y="542"/>
                  </a:lnTo>
                  <a:lnTo>
                    <a:pt x="2377" y="679"/>
                  </a:lnTo>
                  <a:lnTo>
                    <a:pt x="2285" y="838"/>
                  </a:lnTo>
                  <a:lnTo>
                    <a:pt x="2161" y="1085"/>
                  </a:lnTo>
                  <a:lnTo>
                    <a:pt x="2069" y="1381"/>
                  </a:lnTo>
                  <a:lnTo>
                    <a:pt x="2060" y="1557"/>
                  </a:lnTo>
                  <a:lnTo>
                    <a:pt x="2016" y="1707"/>
                  </a:lnTo>
                  <a:lnTo>
                    <a:pt x="1958" y="1857"/>
                  </a:lnTo>
                  <a:lnTo>
                    <a:pt x="1932" y="2091"/>
                  </a:lnTo>
                  <a:lnTo>
                    <a:pt x="1950" y="2289"/>
                  </a:lnTo>
                  <a:lnTo>
                    <a:pt x="2016" y="2519"/>
                  </a:lnTo>
                  <a:lnTo>
                    <a:pt x="2060" y="2608"/>
                  </a:lnTo>
                  <a:lnTo>
                    <a:pt x="1932" y="2691"/>
                  </a:lnTo>
                  <a:lnTo>
                    <a:pt x="1781" y="2744"/>
                  </a:lnTo>
                  <a:lnTo>
                    <a:pt x="1609" y="2758"/>
                  </a:lnTo>
                  <a:lnTo>
                    <a:pt x="1503" y="2758"/>
                  </a:lnTo>
                  <a:lnTo>
                    <a:pt x="1437" y="2727"/>
                  </a:lnTo>
                  <a:lnTo>
                    <a:pt x="1437" y="2537"/>
                  </a:lnTo>
                  <a:lnTo>
                    <a:pt x="1437" y="2245"/>
                  </a:lnTo>
                  <a:lnTo>
                    <a:pt x="1393" y="1958"/>
                  </a:lnTo>
                  <a:lnTo>
                    <a:pt x="1327" y="1707"/>
                  </a:lnTo>
                  <a:lnTo>
                    <a:pt x="1296" y="1500"/>
                  </a:lnTo>
                  <a:lnTo>
                    <a:pt x="1283" y="1213"/>
                  </a:lnTo>
                  <a:lnTo>
                    <a:pt x="1327" y="966"/>
                  </a:lnTo>
                  <a:lnTo>
                    <a:pt x="1393" y="762"/>
                  </a:lnTo>
                  <a:lnTo>
                    <a:pt x="1406" y="639"/>
                  </a:lnTo>
                  <a:lnTo>
                    <a:pt x="1371" y="467"/>
                  </a:lnTo>
                  <a:lnTo>
                    <a:pt x="1371" y="326"/>
                  </a:lnTo>
                  <a:lnTo>
                    <a:pt x="1393" y="286"/>
                  </a:lnTo>
                  <a:lnTo>
                    <a:pt x="1371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20120" y="1270080"/>
              <a:ext cx="174960" cy="762480"/>
            </a:xfrm>
            <a:custGeom>
              <a:avLst/>
              <a:gdLst/>
              <a:ahLst/>
              <a:rect l="0" t="0" r="r" b="b"/>
              <a:pathLst>
                <a:path w="486" h="2118">
                  <a:moveTo>
                    <a:pt x="194" y="26"/>
                  </a:moveTo>
                  <a:lnTo>
                    <a:pt x="66" y="92"/>
                  </a:lnTo>
                  <a:lnTo>
                    <a:pt x="74" y="295"/>
                  </a:lnTo>
                  <a:lnTo>
                    <a:pt x="171" y="352"/>
                  </a:lnTo>
                  <a:lnTo>
                    <a:pt x="57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57" y="1266"/>
                  </a:lnTo>
                  <a:lnTo>
                    <a:pt x="101" y="1526"/>
                  </a:lnTo>
                  <a:lnTo>
                    <a:pt x="101" y="1682"/>
                  </a:lnTo>
                  <a:lnTo>
                    <a:pt x="57" y="1862"/>
                  </a:lnTo>
                  <a:lnTo>
                    <a:pt x="252" y="2118"/>
                  </a:lnTo>
                  <a:lnTo>
                    <a:pt x="331" y="2074"/>
                  </a:lnTo>
                  <a:lnTo>
                    <a:pt x="389" y="1898"/>
                  </a:lnTo>
                  <a:lnTo>
                    <a:pt x="481" y="1664"/>
                  </a:lnTo>
                  <a:lnTo>
                    <a:pt x="486" y="1539"/>
                  </a:lnTo>
                  <a:lnTo>
                    <a:pt x="411" y="1310"/>
                  </a:lnTo>
                  <a:lnTo>
                    <a:pt x="318" y="1085"/>
                  </a:lnTo>
                  <a:lnTo>
                    <a:pt x="287" y="922"/>
                  </a:lnTo>
                  <a:lnTo>
                    <a:pt x="287" y="768"/>
                  </a:lnTo>
                  <a:lnTo>
                    <a:pt x="318" y="631"/>
                  </a:lnTo>
                  <a:lnTo>
                    <a:pt x="389" y="463"/>
                  </a:lnTo>
                  <a:lnTo>
                    <a:pt x="389" y="396"/>
                  </a:lnTo>
                  <a:lnTo>
                    <a:pt x="353" y="326"/>
                  </a:lnTo>
                  <a:lnTo>
                    <a:pt x="446" y="238"/>
                  </a:lnTo>
                  <a:lnTo>
                    <a:pt x="446" y="163"/>
                  </a:lnTo>
                  <a:lnTo>
                    <a:pt x="318" y="0"/>
                  </a:lnTo>
                  <a:lnTo>
                    <a:pt x="419" y="163"/>
                  </a:lnTo>
                  <a:lnTo>
                    <a:pt x="419" y="229"/>
                  </a:lnTo>
                  <a:lnTo>
                    <a:pt x="327" y="295"/>
                  </a:lnTo>
                  <a:lnTo>
                    <a:pt x="367" y="396"/>
                  </a:lnTo>
                  <a:lnTo>
                    <a:pt x="353" y="463"/>
                  </a:lnTo>
                  <a:lnTo>
                    <a:pt x="265" y="658"/>
                  </a:lnTo>
                  <a:lnTo>
                    <a:pt x="252" y="852"/>
                  </a:lnTo>
                  <a:lnTo>
                    <a:pt x="274" y="1028"/>
                  </a:lnTo>
                  <a:lnTo>
                    <a:pt x="331" y="1284"/>
                  </a:lnTo>
                  <a:lnTo>
                    <a:pt x="411" y="1487"/>
                  </a:lnTo>
                  <a:lnTo>
                    <a:pt x="411" y="1655"/>
                  </a:lnTo>
                  <a:lnTo>
                    <a:pt x="367" y="1862"/>
                  </a:lnTo>
                  <a:lnTo>
                    <a:pt x="274" y="2074"/>
                  </a:lnTo>
                  <a:lnTo>
                    <a:pt x="163" y="1955"/>
                  </a:lnTo>
                  <a:lnTo>
                    <a:pt x="114" y="1862"/>
                  </a:lnTo>
                  <a:lnTo>
                    <a:pt x="123" y="1655"/>
                  </a:lnTo>
                  <a:lnTo>
                    <a:pt x="114" y="1442"/>
                  </a:lnTo>
                  <a:lnTo>
                    <a:pt x="57" y="1165"/>
                  </a:lnTo>
                  <a:lnTo>
                    <a:pt x="30" y="971"/>
                  </a:lnTo>
                  <a:lnTo>
                    <a:pt x="57" y="755"/>
                  </a:lnTo>
                  <a:lnTo>
                    <a:pt x="101" y="547"/>
                  </a:lnTo>
                  <a:lnTo>
                    <a:pt x="202" y="339"/>
                  </a:lnTo>
                  <a:lnTo>
                    <a:pt x="114" y="255"/>
                  </a:lnTo>
                  <a:lnTo>
                    <a:pt x="101" y="105"/>
                  </a:lnTo>
                  <a:lnTo>
                    <a:pt x="194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113680" y="380880"/>
              <a:ext cx="275040" cy="370080"/>
            </a:xfrm>
            <a:custGeom>
              <a:avLst/>
              <a:gdLst/>
              <a:ahLst/>
              <a:rect l="0" t="0" r="r" b="b"/>
              <a:pathLst>
                <a:path w="764" h="1028">
                  <a:moveTo>
                    <a:pt x="127" y="260"/>
                  </a:moveTo>
                  <a:lnTo>
                    <a:pt x="239" y="238"/>
                  </a:lnTo>
                  <a:lnTo>
                    <a:pt x="349" y="251"/>
                  </a:lnTo>
                  <a:lnTo>
                    <a:pt x="437" y="291"/>
                  </a:lnTo>
                  <a:lnTo>
                    <a:pt x="486" y="348"/>
                  </a:lnTo>
                  <a:lnTo>
                    <a:pt x="512" y="401"/>
                  </a:lnTo>
                  <a:lnTo>
                    <a:pt x="512" y="454"/>
                  </a:lnTo>
                  <a:lnTo>
                    <a:pt x="481" y="485"/>
                  </a:lnTo>
                  <a:lnTo>
                    <a:pt x="437" y="511"/>
                  </a:lnTo>
                  <a:lnTo>
                    <a:pt x="375" y="516"/>
                  </a:lnTo>
                  <a:lnTo>
                    <a:pt x="309" y="498"/>
                  </a:lnTo>
                  <a:lnTo>
                    <a:pt x="243" y="458"/>
                  </a:lnTo>
                  <a:lnTo>
                    <a:pt x="195" y="418"/>
                  </a:lnTo>
                  <a:lnTo>
                    <a:pt x="171" y="547"/>
                  </a:lnTo>
                  <a:lnTo>
                    <a:pt x="127" y="640"/>
                  </a:lnTo>
                  <a:lnTo>
                    <a:pt x="0" y="860"/>
                  </a:lnTo>
                  <a:lnTo>
                    <a:pt x="185" y="1028"/>
                  </a:lnTo>
                  <a:lnTo>
                    <a:pt x="327" y="750"/>
                  </a:lnTo>
                  <a:lnTo>
                    <a:pt x="481" y="772"/>
                  </a:lnTo>
                  <a:lnTo>
                    <a:pt x="584" y="750"/>
                  </a:lnTo>
                  <a:lnTo>
                    <a:pt x="676" y="688"/>
                  </a:lnTo>
                  <a:lnTo>
                    <a:pt x="738" y="609"/>
                  </a:lnTo>
                  <a:lnTo>
                    <a:pt x="764" y="507"/>
                  </a:lnTo>
                  <a:lnTo>
                    <a:pt x="764" y="392"/>
                  </a:lnTo>
                  <a:lnTo>
                    <a:pt x="738" y="277"/>
                  </a:lnTo>
                  <a:lnTo>
                    <a:pt x="672" y="154"/>
                  </a:lnTo>
                  <a:lnTo>
                    <a:pt x="592" y="74"/>
                  </a:lnTo>
                  <a:lnTo>
                    <a:pt x="503" y="26"/>
                  </a:lnTo>
                  <a:lnTo>
                    <a:pt x="393" y="0"/>
                  </a:lnTo>
                  <a:lnTo>
                    <a:pt x="252" y="0"/>
                  </a:lnTo>
                  <a:lnTo>
                    <a:pt x="101" y="30"/>
                  </a:lnTo>
                  <a:lnTo>
                    <a:pt x="127" y="26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66160" y="741240"/>
              <a:ext cx="98640" cy="73440"/>
            </a:xfrm>
            <a:custGeom>
              <a:avLst/>
              <a:gdLst/>
              <a:ahLst/>
              <a:rect l="0" t="0" r="r" b="b"/>
              <a:pathLst>
                <a:path w="274" h="204">
                  <a:moveTo>
                    <a:pt x="110" y="0"/>
                  </a:moveTo>
                  <a:lnTo>
                    <a:pt x="35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7" y="173"/>
                  </a:lnTo>
                  <a:lnTo>
                    <a:pt x="168" y="204"/>
                  </a:lnTo>
                  <a:lnTo>
                    <a:pt x="252" y="200"/>
                  </a:lnTo>
                  <a:lnTo>
                    <a:pt x="274" y="150"/>
                  </a:lnTo>
                  <a:lnTo>
                    <a:pt x="261" y="111"/>
                  </a:lnTo>
                  <a:lnTo>
                    <a:pt x="221" y="53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257800" y="3657600"/>
            <a:ext cx="259560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797360" y="378000"/>
            <a:ext cx="3511440" cy="284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282600" indent="-282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definite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erminab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abilit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b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 estimat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219320" y="2666880"/>
            <a:ext cx="2706840" cy="3550320"/>
            <a:chOff x="1219320" y="2666880"/>
            <a:chExt cx="2706840" cy="3550320"/>
          </a:xfrm>
        </p:grpSpPr>
        <p:sp>
          <p:nvSpPr>
            <p:cNvPr id="319" name=""/>
            <p:cNvSpPr/>
            <p:nvPr/>
          </p:nvSpPr>
          <p:spPr>
            <a:xfrm>
              <a:off x="1817640" y="2946240"/>
              <a:ext cx="995760" cy="1629000"/>
            </a:xfrm>
            <a:custGeom>
              <a:avLst/>
              <a:gdLst/>
              <a:ahLst/>
              <a:rect l="0" t="0" r="r" b="b"/>
              <a:pathLst>
                <a:path w="2766" h="4525">
                  <a:moveTo>
                    <a:pt x="1385" y="0"/>
                  </a:moveTo>
                  <a:lnTo>
                    <a:pt x="1703" y="983"/>
                  </a:lnTo>
                  <a:lnTo>
                    <a:pt x="1910" y="1675"/>
                  </a:lnTo>
                  <a:lnTo>
                    <a:pt x="1875" y="1785"/>
                  </a:lnTo>
                  <a:lnTo>
                    <a:pt x="1672" y="2369"/>
                  </a:lnTo>
                  <a:lnTo>
                    <a:pt x="1592" y="2479"/>
                  </a:lnTo>
                  <a:lnTo>
                    <a:pt x="1610" y="2682"/>
                  </a:lnTo>
                  <a:lnTo>
                    <a:pt x="1460" y="2770"/>
                  </a:lnTo>
                  <a:lnTo>
                    <a:pt x="1323" y="2770"/>
                  </a:lnTo>
                  <a:lnTo>
                    <a:pt x="1094" y="2682"/>
                  </a:lnTo>
                  <a:lnTo>
                    <a:pt x="1076" y="2924"/>
                  </a:lnTo>
                  <a:lnTo>
                    <a:pt x="2011" y="3193"/>
                  </a:lnTo>
                  <a:lnTo>
                    <a:pt x="1967" y="2937"/>
                  </a:lnTo>
                  <a:lnTo>
                    <a:pt x="1994" y="2682"/>
                  </a:lnTo>
                  <a:lnTo>
                    <a:pt x="2096" y="2501"/>
                  </a:lnTo>
                  <a:lnTo>
                    <a:pt x="2259" y="2501"/>
                  </a:lnTo>
                  <a:lnTo>
                    <a:pt x="2515" y="2598"/>
                  </a:lnTo>
                  <a:lnTo>
                    <a:pt x="2766" y="2770"/>
                  </a:lnTo>
                  <a:lnTo>
                    <a:pt x="2515" y="3061"/>
                  </a:lnTo>
                  <a:lnTo>
                    <a:pt x="1848" y="4525"/>
                  </a:lnTo>
                  <a:lnTo>
                    <a:pt x="1037" y="4507"/>
                  </a:lnTo>
                  <a:lnTo>
                    <a:pt x="163" y="1931"/>
                  </a:lnTo>
                  <a:lnTo>
                    <a:pt x="0" y="1459"/>
                  </a:lnTo>
                  <a:lnTo>
                    <a:pt x="0" y="1203"/>
                  </a:lnTo>
                  <a:lnTo>
                    <a:pt x="282" y="0"/>
                  </a:lnTo>
                  <a:lnTo>
                    <a:pt x="940" y="44"/>
                  </a:lnTo>
                  <a:lnTo>
                    <a:pt x="138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13040" y="3651120"/>
              <a:ext cx="103680" cy="95760"/>
            </a:xfrm>
            <a:custGeom>
              <a:avLst/>
              <a:gdLst/>
              <a:ahLst/>
              <a:rect l="0" t="0" r="r" b="b"/>
              <a:pathLst>
                <a:path w="288" h="266">
                  <a:moveTo>
                    <a:pt x="102" y="0"/>
                  </a:moveTo>
                  <a:lnTo>
                    <a:pt x="199" y="17"/>
                  </a:lnTo>
                  <a:lnTo>
                    <a:pt x="288" y="240"/>
                  </a:lnTo>
                  <a:lnTo>
                    <a:pt x="57" y="266"/>
                  </a:lnTo>
                  <a:lnTo>
                    <a:pt x="0" y="67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06400" y="2666880"/>
              <a:ext cx="733680" cy="765360"/>
            </a:xfrm>
            <a:custGeom>
              <a:avLst/>
              <a:gdLst/>
              <a:ahLst/>
              <a:rect l="0" t="0" r="r" b="b"/>
              <a:pathLst>
                <a:path w="2038" h="2126">
                  <a:moveTo>
                    <a:pt x="2038" y="229"/>
                  </a:moveTo>
                  <a:lnTo>
                    <a:pt x="1901" y="537"/>
                  </a:lnTo>
                  <a:lnTo>
                    <a:pt x="1813" y="661"/>
                  </a:lnTo>
                  <a:lnTo>
                    <a:pt x="1936" y="793"/>
                  </a:lnTo>
                  <a:lnTo>
                    <a:pt x="2025" y="1844"/>
                  </a:lnTo>
                  <a:lnTo>
                    <a:pt x="1769" y="1068"/>
                  </a:lnTo>
                  <a:lnTo>
                    <a:pt x="1522" y="820"/>
                  </a:lnTo>
                  <a:lnTo>
                    <a:pt x="1001" y="934"/>
                  </a:lnTo>
                  <a:lnTo>
                    <a:pt x="630" y="917"/>
                  </a:lnTo>
                  <a:lnTo>
                    <a:pt x="573" y="1235"/>
                  </a:lnTo>
                  <a:lnTo>
                    <a:pt x="590" y="1782"/>
                  </a:lnTo>
                  <a:lnTo>
                    <a:pt x="555" y="2126"/>
                  </a:lnTo>
                  <a:lnTo>
                    <a:pt x="348" y="2042"/>
                  </a:lnTo>
                  <a:lnTo>
                    <a:pt x="0" y="1045"/>
                  </a:lnTo>
                  <a:lnTo>
                    <a:pt x="88" y="851"/>
                  </a:lnTo>
                  <a:lnTo>
                    <a:pt x="238" y="621"/>
                  </a:lnTo>
                  <a:lnTo>
                    <a:pt x="392" y="555"/>
                  </a:lnTo>
                  <a:lnTo>
                    <a:pt x="427" y="339"/>
                  </a:lnTo>
                  <a:lnTo>
                    <a:pt x="590" y="123"/>
                  </a:lnTo>
                  <a:lnTo>
                    <a:pt x="780" y="39"/>
                  </a:lnTo>
                  <a:lnTo>
                    <a:pt x="1032" y="13"/>
                  </a:lnTo>
                  <a:lnTo>
                    <a:pt x="1284" y="39"/>
                  </a:lnTo>
                  <a:lnTo>
                    <a:pt x="1548" y="123"/>
                  </a:lnTo>
                  <a:lnTo>
                    <a:pt x="1522" y="299"/>
                  </a:lnTo>
                  <a:lnTo>
                    <a:pt x="1592" y="273"/>
                  </a:lnTo>
                  <a:lnTo>
                    <a:pt x="1632" y="0"/>
                  </a:lnTo>
                  <a:lnTo>
                    <a:pt x="1734" y="57"/>
                  </a:lnTo>
                  <a:lnTo>
                    <a:pt x="1650" y="401"/>
                  </a:lnTo>
                  <a:lnTo>
                    <a:pt x="1826" y="57"/>
                  </a:lnTo>
                  <a:lnTo>
                    <a:pt x="1734" y="449"/>
                  </a:lnTo>
                  <a:lnTo>
                    <a:pt x="1950" y="145"/>
                  </a:lnTo>
                  <a:lnTo>
                    <a:pt x="1786" y="537"/>
                  </a:lnTo>
                  <a:lnTo>
                    <a:pt x="1901" y="401"/>
                  </a:lnTo>
                  <a:lnTo>
                    <a:pt x="1958" y="255"/>
                  </a:lnTo>
                  <a:lnTo>
                    <a:pt x="2038" y="229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87520" y="3029040"/>
              <a:ext cx="1529280" cy="1959480"/>
            </a:xfrm>
            <a:custGeom>
              <a:avLst/>
              <a:gdLst/>
              <a:ahLst/>
              <a:rect l="0" t="0" r="r" b="b"/>
              <a:pathLst>
                <a:path w="4248" h="5443">
                  <a:moveTo>
                    <a:pt x="4248" y="1376"/>
                  </a:moveTo>
                  <a:lnTo>
                    <a:pt x="3282" y="1102"/>
                  </a:lnTo>
                  <a:lnTo>
                    <a:pt x="2373" y="612"/>
                  </a:lnTo>
                  <a:lnTo>
                    <a:pt x="1473" y="0"/>
                  </a:lnTo>
                  <a:lnTo>
                    <a:pt x="1310" y="665"/>
                  </a:lnTo>
                  <a:lnTo>
                    <a:pt x="895" y="1989"/>
                  </a:lnTo>
                  <a:lnTo>
                    <a:pt x="749" y="2272"/>
                  </a:lnTo>
                  <a:lnTo>
                    <a:pt x="926" y="2395"/>
                  </a:lnTo>
                  <a:lnTo>
                    <a:pt x="1036" y="2541"/>
                  </a:lnTo>
                  <a:lnTo>
                    <a:pt x="956" y="2651"/>
                  </a:lnTo>
                  <a:lnTo>
                    <a:pt x="665" y="2668"/>
                  </a:lnTo>
                  <a:lnTo>
                    <a:pt x="529" y="3004"/>
                  </a:lnTo>
                  <a:lnTo>
                    <a:pt x="202" y="3581"/>
                  </a:lnTo>
                  <a:lnTo>
                    <a:pt x="0" y="3780"/>
                  </a:lnTo>
                  <a:lnTo>
                    <a:pt x="802" y="4142"/>
                  </a:lnTo>
                  <a:lnTo>
                    <a:pt x="1504" y="4751"/>
                  </a:lnTo>
                  <a:lnTo>
                    <a:pt x="2201" y="5227"/>
                  </a:lnTo>
                  <a:lnTo>
                    <a:pt x="2492" y="5443"/>
                  </a:lnTo>
                  <a:lnTo>
                    <a:pt x="3008" y="4508"/>
                  </a:lnTo>
                  <a:lnTo>
                    <a:pt x="3472" y="3387"/>
                  </a:lnTo>
                  <a:lnTo>
                    <a:pt x="3847" y="2408"/>
                  </a:lnTo>
                  <a:lnTo>
                    <a:pt x="4129" y="1689"/>
                  </a:lnTo>
                  <a:lnTo>
                    <a:pt x="4248" y="137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81200" y="3973680"/>
              <a:ext cx="1002240" cy="840240"/>
            </a:xfrm>
            <a:custGeom>
              <a:avLst/>
              <a:gdLst/>
              <a:ahLst/>
              <a:rect l="0" t="0" r="r" b="b"/>
              <a:pathLst>
                <a:path w="2784" h="2334">
                  <a:moveTo>
                    <a:pt x="2409" y="339"/>
                  </a:moveTo>
                  <a:lnTo>
                    <a:pt x="2145" y="97"/>
                  </a:lnTo>
                  <a:lnTo>
                    <a:pt x="1782" y="123"/>
                  </a:lnTo>
                  <a:lnTo>
                    <a:pt x="1619" y="0"/>
                  </a:lnTo>
                  <a:lnTo>
                    <a:pt x="1491" y="26"/>
                  </a:lnTo>
                  <a:lnTo>
                    <a:pt x="1517" y="123"/>
                  </a:lnTo>
                  <a:lnTo>
                    <a:pt x="1610" y="295"/>
                  </a:lnTo>
                  <a:lnTo>
                    <a:pt x="1293" y="357"/>
                  </a:lnTo>
                  <a:lnTo>
                    <a:pt x="1103" y="123"/>
                  </a:lnTo>
                  <a:lnTo>
                    <a:pt x="1041" y="0"/>
                  </a:lnTo>
                  <a:lnTo>
                    <a:pt x="630" y="123"/>
                  </a:lnTo>
                  <a:lnTo>
                    <a:pt x="145" y="123"/>
                  </a:lnTo>
                  <a:lnTo>
                    <a:pt x="0" y="449"/>
                  </a:lnTo>
                  <a:lnTo>
                    <a:pt x="57" y="1173"/>
                  </a:lnTo>
                  <a:lnTo>
                    <a:pt x="13" y="1235"/>
                  </a:lnTo>
                  <a:lnTo>
                    <a:pt x="127" y="1517"/>
                  </a:lnTo>
                  <a:lnTo>
                    <a:pt x="88" y="1628"/>
                  </a:lnTo>
                  <a:lnTo>
                    <a:pt x="330" y="2334"/>
                  </a:lnTo>
                  <a:lnTo>
                    <a:pt x="2784" y="1610"/>
                  </a:lnTo>
                  <a:lnTo>
                    <a:pt x="2290" y="1301"/>
                  </a:lnTo>
                  <a:lnTo>
                    <a:pt x="2029" y="1610"/>
                  </a:lnTo>
                  <a:lnTo>
                    <a:pt x="1456" y="1628"/>
                  </a:lnTo>
                  <a:lnTo>
                    <a:pt x="1416" y="1372"/>
                  </a:lnTo>
                  <a:lnTo>
                    <a:pt x="1782" y="1218"/>
                  </a:lnTo>
                  <a:lnTo>
                    <a:pt x="2051" y="1218"/>
                  </a:lnTo>
                  <a:lnTo>
                    <a:pt x="1945" y="1156"/>
                  </a:lnTo>
                  <a:lnTo>
                    <a:pt x="2255" y="825"/>
                  </a:lnTo>
                  <a:lnTo>
                    <a:pt x="2422" y="423"/>
                  </a:lnTo>
                  <a:lnTo>
                    <a:pt x="2409" y="33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11480" y="4070520"/>
              <a:ext cx="160560" cy="371880"/>
            </a:xfrm>
            <a:custGeom>
              <a:avLst/>
              <a:gdLst/>
              <a:ahLst/>
              <a:rect l="0" t="0" r="r" b="b"/>
              <a:pathLst>
                <a:path w="446" h="1033">
                  <a:moveTo>
                    <a:pt x="145" y="0"/>
                  </a:moveTo>
                  <a:lnTo>
                    <a:pt x="358" y="556"/>
                  </a:lnTo>
                  <a:lnTo>
                    <a:pt x="446" y="950"/>
                  </a:lnTo>
                  <a:lnTo>
                    <a:pt x="176" y="1033"/>
                  </a:lnTo>
                  <a:lnTo>
                    <a:pt x="0" y="45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84400" y="4451400"/>
              <a:ext cx="179640" cy="92520"/>
            </a:xfrm>
            <a:custGeom>
              <a:avLst/>
              <a:gdLst/>
              <a:ahLst/>
              <a:rect l="0" t="0" r="r" b="b"/>
              <a:pathLst>
                <a:path w="499" h="257">
                  <a:moveTo>
                    <a:pt x="0" y="155"/>
                  </a:moveTo>
                  <a:lnTo>
                    <a:pt x="371" y="0"/>
                  </a:lnTo>
                  <a:lnTo>
                    <a:pt x="499" y="257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33440" y="3706920"/>
              <a:ext cx="174960" cy="86040"/>
            </a:xfrm>
            <a:custGeom>
              <a:avLst/>
              <a:gdLst/>
              <a:ahLst/>
              <a:rect l="0" t="0" r="r" b="b"/>
              <a:pathLst>
                <a:path w="486" h="239">
                  <a:moveTo>
                    <a:pt x="428" y="0"/>
                  </a:moveTo>
                  <a:lnTo>
                    <a:pt x="486" y="128"/>
                  </a:lnTo>
                  <a:lnTo>
                    <a:pt x="428" y="212"/>
                  </a:lnTo>
                  <a:lnTo>
                    <a:pt x="261" y="239"/>
                  </a:lnTo>
                  <a:lnTo>
                    <a:pt x="0" y="128"/>
                  </a:lnTo>
                  <a:lnTo>
                    <a:pt x="349" y="0"/>
                  </a:lnTo>
                  <a:lnTo>
                    <a:pt x="428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136600" y="3657600"/>
              <a:ext cx="240120" cy="117720"/>
            </a:xfrm>
            <a:custGeom>
              <a:avLst/>
              <a:gdLst/>
              <a:ahLst/>
              <a:rect l="0" t="0" r="r" b="b"/>
              <a:pathLst>
                <a:path w="667" h="327">
                  <a:moveTo>
                    <a:pt x="667" y="0"/>
                  </a:moveTo>
                  <a:lnTo>
                    <a:pt x="455" y="44"/>
                  </a:lnTo>
                  <a:lnTo>
                    <a:pt x="269" y="66"/>
                  </a:lnTo>
                  <a:lnTo>
                    <a:pt x="0" y="26"/>
                  </a:lnTo>
                  <a:lnTo>
                    <a:pt x="163" y="261"/>
                  </a:lnTo>
                  <a:lnTo>
                    <a:pt x="481" y="327"/>
                  </a:lnTo>
                  <a:lnTo>
                    <a:pt x="667" y="243"/>
                  </a:lnTo>
                  <a:lnTo>
                    <a:pt x="619" y="199"/>
                  </a:lnTo>
                  <a:lnTo>
                    <a:pt x="650" y="110"/>
                  </a:lnTo>
                  <a:lnTo>
                    <a:pt x="66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20880" y="4417920"/>
              <a:ext cx="1178280" cy="456120"/>
            </a:xfrm>
            <a:custGeom>
              <a:avLst/>
              <a:gdLst/>
              <a:ahLst/>
              <a:rect l="0" t="0" r="r" b="b"/>
              <a:pathLst>
                <a:path w="3273" h="1267">
                  <a:moveTo>
                    <a:pt x="2959" y="26"/>
                  </a:moveTo>
                  <a:lnTo>
                    <a:pt x="2395" y="74"/>
                  </a:lnTo>
                  <a:lnTo>
                    <a:pt x="1857" y="295"/>
                  </a:lnTo>
                  <a:lnTo>
                    <a:pt x="1230" y="295"/>
                  </a:lnTo>
                  <a:lnTo>
                    <a:pt x="515" y="149"/>
                  </a:lnTo>
                  <a:lnTo>
                    <a:pt x="123" y="0"/>
                  </a:lnTo>
                  <a:lnTo>
                    <a:pt x="374" y="336"/>
                  </a:lnTo>
                  <a:lnTo>
                    <a:pt x="0" y="255"/>
                  </a:lnTo>
                  <a:lnTo>
                    <a:pt x="224" y="521"/>
                  </a:lnTo>
                  <a:lnTo>
                    <a:pt x="0" y="887"/>
                  </a:lnTo>
                  <a:lnTo>
                    <a:pt x="573" y="1157"/>
                  </a:lnTo>
                  <a:lnTo>
                    <a:pt x="3074" y="1267"/>
                  </a:lnTo>
                  <a:lnTo>
                    <a:pt x="3273" y="1011"/>
                  </a:lnTo>
                  <a:lnTo>
                    <a:pt x="2986" y="759"/>
                  </a:lnTo>
                  <a:lnTo>
                    <a:pt x="3184" y="503"/>
                  </a:lnTo>
                  <a:lnTo>
                    <a:pt x="2867" y="437"/>
                  </a:lnTo>
                  <a:lnTo>
                    <a:pt x="3061" y="154"/>
                  </a:lnTo>
                  <a:lnTo>
                    <a:pt x="2867" y="220"/>
                  </a:lnTo>
                  <a:lnTo>
                    <a:pt x="2774" y="220"/>
                  </a:lnTo>
                  <a:lnTo>
                    <a:pt x="2959" y="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62240" y="5905440"/>
              <a:ext cx="673560" cy="270360"/>
            </a:xfrm>
            <a:custGeom>
              <a:avLst/>
              <a:gdLst/>
              <a:ahLst/>
              <a:rect l="0" t="0" r="r" b="b"/>
              <a:pathLst>
                <a:path w="1871" h="751">
                  <a:moveTo>
                    <a:pt x="1871" y="380"/>
                  </a:moveTo>
                  <a:lnTo>
                    <a:pt x="1037" y="0"/>
                  </a:lnTo>
                  <a:lnTo>
                    <a:pt x="609" y="415"/>
                  </a:lnTo>
                  <a:lnTo>
                    <a:pt x="0" y="570"/>
                  </a:lnTo>
                  <a:lnTo>
                    <a:pt x="198" y="711"/>
                  </a:lnTo>
                  <a:lnTo>
                    <a:pt x="1443" y="751"/>
                  </a:lnTo>
                  <a:lnTo>
                    <a:pt x="1871" y="380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19160" y="4834080"/>
              <a:ext cx="1070280" cy="1381320"/>
            </a:xfrm>
            <a:custGeom>
              <a:avLst/>
              <a:gdLst/>
              <a:ahLst/>
              <a:rect l="0" t="0" r="r" b="b"/>
              <a:pathLst>
                <a:path w="2973" h="3837">
                  <a:moveTo>
                    <a:pt x="2951" y="74"/>
                  </a:moveTo>
                  <a:lnTo>
                    <a:pt x="0" y="0"/>
                  </a:lnTo>
                  <a:lnTo>
                    <a:pt x="0" y="736"/>
                  </a:lnTo>
                  <a:lnTo>
                    <a:pt x="348" y="952"/>
                  </a:lnTo>
                  <a:lnTo>
                    <a:pt x="379" y="3286"/>
                  </a:lnTo>
                  <a:lnTo>
                    <a:pt x="705" y="3325"/>
                  </a:lnTo>
                  <a:lnTo>
                    <a:pt x="705" y="3766"/>
                  </a:lnTo>
                  <a:lnTo>
                    <a:pt x="2338" y="3837"/>
                  </a:lnTo>
                  <a:lnTo>
                    <a:pt x="2320" y="3246"/>
                  </a:lnTo>
                  <a:lnTo>
                    <a:pt x="2651" y="3246"/>
                  </a:lnTo>
                  <a:lnTo>
                    <a:pt x="2704" y="881"/>
                  </a:lnTo>
                  <a:lnTo>
                    <a:pt x="2929" y="661"/>
                  </a:lnTo>
                  <a:lnTo>
                    <a:pt x="2973" y="282"/>
                  </a:lnTo>
                  <a:lnTo>
                    <a:pt x="2951" y="74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90640" y="4511520"/>
              <a:ext cx="46440" cy="349560"/>
            </a:xfrm>
            <a:custGeom>
              <a:avLst/>
              <a:gdLst/>
              <a:ahLst/>
              <a:rect l="0" t="0" r="r" b="b"/>
              <a:pathLst>
                <a:path w="129" h="971">
                  <a:moveTo>
                    <a:pt x="129" y="224"/>
                  </a:moveTo>
                  <a:lnTo>
                    <a:pt x="129" y="971"/>
                  </a:lnTo>
                  <a:lnTo>
                    <a:pt x="26" y="931"/>
                  </a:lnTo>
                  <a:lnTo>
                    <a:pt x="0" y="0"/>
                  </a:lnTo>
                  <a:lnTo>
                    <a:pt x="129" y="2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47760" y="5891040"/>
              <a:ext cx="789480" cy="243360"/>
            </a:xfrm>
            <a:custGeom>
              <a:avLst/>
              <a:gdLst/>
              <a:ahLst/>
              <a:rect l="0" t="0" r="r" b="b"/>
              <a:pathLst>
                <a:path w="2193" h="676">
                  <a:moveTo>
                    <a:pt x="2193" y="494"/>
                  </a:moveTo>
                  <a:lnTo>
                    <a:pt x="1614" y="494"/>
                  </a:lnTo>
                  <a:lnTo>
                    <a:pt x="1151" y="114"/>
                  </a:lnTo>
                  <a:lnTo>
                    <a:pt x="600" y="114"/>
                  </a:lnTo>
                  <a:lnTo>
                    <a:pt x="0" y="0"/>
                  </a:lnTo>
                  <a:lnTo>
                    <a:pt x="449" y="349"/>
                  </a:lnTo>
                  <a:lnTo>
                    <a:pt x="1173" y="610"/>
                  </a:lnTo>
                  <a:lnTo>
                    <a:pt x="1539" y="676"/>
                  </a:lnTo>
                  <a:lnTo>
                    <a:pt x="2193" y="49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08160" y="5962680"/>
              <a:ext cx="410040" cy="187560"/>
            </a:xfrm>
            <a:custGeom>
              <a:avLst/>
              <a:gdLst/>
              <a:ahLst/>
              <a:rect l="0" t="0" r="r" b="b"/>
              <a:pathLst>
                <a:path w="1139" h="521">
                  <a:moveTo>
                    <a:pt x="1139" y="185"/>
                  </a:moveTo>
                  <a:lnTo>
                    <a:pt x="574" y="185"/>
                  </a:lnTo>
                  <a:lnTo>
                    <a:pt x="0" y="0"/>
                  </a:lnTo>
                  <a:lnTo>
                    <a:pt x="97" y="367"/>
                  </a:lnTo>
                  <a:lnTo>
                    <a:pt x="552" y="521"/>
                  </a:lnTo>
                  <a:lnTo>
                    <a:pt x="932" y="336"/>
                  </a:lnTo>
                  <a:lnTo>
                    <a:pt x="1139" y="1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59040" y="5891040"/>
              <a:ext cx="213120" cy="230400"/>
            </a:xfrm>
            <a:custGeom>
              <a:avLst/>
              <a:gdLst/>
              <a:ahLst/>
              <a:rect l="0" t="0" r="r" b="b"/>
              <a:pathLst>
                <a:path w="592" h="640">
                  <a:moveTo>
                    <a:pt x="48" y="0"/>
                  </a:moveTo>
                  <a:lnTo>
                    <a:pt x="389" y="238"/>
                  </a:lnTo>
                  <a:lnTo>
                    <a:pt x="544" y="415"/>
                  </a:lnTo>
                  <a:lnTo>
                    <a:pt x="592" y="640"/>
                  </a:lnTo>
                  <a:lnTo>
                    <a:pt x="513" y="640"/>
                  </a:lnTo>
                  <a:lnTo>
                    <a:pt x="441" y="455"/>
                  </a:lnTo>
                  <a:lnTo>
                    <a:pt x="265" y="273"/>
                  </a:lnTo>
                  <a:lnTo>
                    <a:pt x="0" y="7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90680" y="5324400"/>
              <a:ext cx="144720" cy="387720"/>
            </a:xfrm>
            <a:custGeom>
              <a:avLst/>
              <a:gdLst/>
              <a:ahLst/>
              <a:rect l="0" t="0" r="r" b="b"/>
              <a:pathLst>
                <a:path w="402" h="1077">
                  <a:moveTo>
                    <a:pt x="141" y="110"/>
                  </a:moveTo>
                  <a:lnTo>
                    <a:pt x="185" y="583"/>
                  </a:lnTo>
                  <a:lnTo>
                    <a:pt x="402" y="967"/>
                  </a:lnTo>
                  <a:lnTo>
                    <a:pt x="375" y="1077"/>
                  </a:lnTo>
                  <a:lnTo>
                    <a:pt x="141" y="768"/>
                  </a:lnTo>
                  <a:lnTo>
                    <a:pt x="0" y="287"/>
                  </a:lnTo>
                  <a:lnTo>
                    <a:pt x="39" y="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16040" y="4233960"/>
              <a:ext cx="346320" cy="837000"/>
            </a:xfrm>
            <a:custGeom>
              <a:avLst/>
              <a:gdLst/>
              <a:ahLst/>
              <a:rect l="0" t="0" r="r" b="b"/>
              <a:pathLst>
                <a:path w="962" h="2325">
                  <a:moveTo>
                    <a:pt x="825" y="1774"/>
                  </a:moveTo>
                  <a:lnTo>
                    <a:pt x="697" y="2056"/>
                  </a:lnTo>
                  <a:lnTo>
                    <a:pt x="0" y="2325"/>
                  </a:lnTo>
                  <a:lnTo>
                    <a:pt x="123" y="2131"/>
                  </a:lnTo>
                  <a:lnTo>
                    <a:pt x="750" y="1814"/>
                  </a:lnTo>
                  <a:lnTo>
                    <a:pt x="878" y="1442"/>
                  </a:lnTo>
                  <a:lnTo>
                    <a:pt x="724" y="1032"/>
                  </a:lnTo>
                  <a:lnTo>
                    <a:pt x="658" y="993"/>
                  </a:lnTo>
                  <a:lnTo>
                    <a:pt x="74" y="185"/>
                  </a:lnTo>
                  <a:lnTo>
                    <a:pt x="123" y="0"/>
                  </a:lnTo>
                  <a:lnTo>
                    <a:pt x="308" y="0"/>
                  </a:lnTo>
                  <a:lnTo>
                    <a:pt x="878" y="882"/>
                  </a:lnTo>
                  <a:lnTo>
                    <a:pt x="825" y="1032"/>
                  </a:lnTo>
                  <a:lnTo>
                    <a:pt x="962" y="1359"/>
                  </a:lnTo>
                  <a:lnTo>
                    <a:pt x="940" y="1632"/>
                  </a:lnTo>
                  <a:lnTo>
                    <a:pt x="825" y="17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43040" y="4221000"/>
              <a:ext cx="227520" cy="384480"/>
            </a:xfrm>
            <a:custGeom>
              <a:avLst/>
              <a:gdLst/>
              <a:ahLst/>
              <a:rect l="0" t="0" r="r" b="b"/>
              <a:pathLst>
                <a:path w="632" h="1068">
                  <a:moveTo>
                    <a:pt x="136" y="0"/>
                  </a:moveTo>
                  <a:lnTo>
                    <a:pt x="48" y="39"/>
                  </a:lnTo>
                  <a:lnTo>
                    <a:pt x="26" y="114"/>
                  </a:lnTo>
                  <a:lnTo>
                    <a:pt x="0" y="185"/>
                  </a:lnTo>
                  <a:lnTo>
                    <a:pt x="48" y="295"/>
                  </a:lnTo>
                  <a:lnTo>
                    <a:pt x="588" y="1068"/>
                  </a:lnTo>
                  <a:lnTo>
                    <a:pt x="566" y="953"/>
                  </a:lnTo>
                  <a:lnTo>
                    <a:pt x="588" y="882"/>
                  </a:lnTo>
                  <a:lnTo>
                    <a:pt x="632" y="843"/>
                  </a:lnTo>
                  <a:lnTo>
                    <a:pt x="544" y="702"/>
                  </a:lnTo>
                  <a:lnTo>
                    <a:pt x="464" y="772"/>
                  </a:lnTo>
                  <a:lnTo>
                    <a:pt x="136" y="295"/>
                  </a:lnTo>
                  <a:lnTo>
                    <a:pt x="136" y="185"/>
                  </a:lnTo>
                  <a:lnTo>
                    <a:pt x="186" y="145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57240" y="4394160"/>
              <a:ext cx="798840" cy="170280"/>
            </a:xfrm>
            <a:custGeom>
              <a:avLst/>
              <a:gdLst/>
              <a:ahLst/>
              <a:rect l="0" t="0" r="r" b="b"/>
              <a:pathLst>
                <a:path w="2219" h="473">
                  <a:moveTo>
                    <a:pt x="2219" y="256"/>
                  </a:moveTo>
                  <a:lnTo>
                    <a:pt x="1853" y="327"/>
                  </a:lnTo>
                  <a:lnTo>
                    <a:pt x="1425" y="363"/>
                  </a:lnTo>
                  <a:lnTo>
                    <a:pt x="926" y="327"/>
                  </a:lnTo>
                  <a:lnTo>
                    <a:pt x="599" y="256"/>
                  </a:lnTo>
                  <a:lnTo>
                    <a:pt x="343" y="186"/>
                  </a:lnTo>
                  <a:lnTo>
                    <a:pt x="171" y="110"/>
                  </a:lnTo>
                  <a:lnTo>
                    <a:pt x="0" y="0"/>
                  </a:lnTo>
                  <a:lnTo>
                    <a:pt x="366" y="473"/>
                  </a:lnTo>
                  <a:lnTo>
                    <a:pt x="202" y="146"/>
                  </a:lnTo>
                  <a:lnTo>
                    <a:pt x="520" y="296"/>
                  </a:lnTo>
                  <a:lnTo>
                    <a:pt x="978" y="403"/>
                  </a:lnTo>
                  <a:lnTo>
                    <a:pt x="1425" y="442"/>
                  </a:lnTo>
                  <a:lnTo>
                    <a:pt x="1853" y="363"/>
                  </a:lnTo>
                  <a:lnTo>
                    <a:pt x="2219" y="2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65440" y="4605480"/>
              <a:ext cx="918000" cy="508320"/>
            </a:xfrm>
            <a:custGeom>
              <a:avLst/>
              <a:gdLst/>
              <a:ahLst/>
              <a:rect l="0" t="0" r="r" b="b"/>
              <a:pathLst>
                <a:path w="2550" h="1412">
                  <a:moveTo>
                    <a:pt x="127" y="185"/>
                  </a:moveTo>
                  <a:lnTo>
                    <a:pt x="79" y="564"/>
                  </a:lnTo>
                  <a:lnTo>
                    <a:pt x="0" y="1063"/>
                  </a:lnTo>
                  <a:lnTo>
                    <a:pt x="427" y="1218"/>
                  </a:lnTo>
                  <a:lnTo>
                    <a:pt x="454" y="1412"/>
                  </a:lnTo>
                  <a:lnTo>
                    <a:pt x="476" y="1372"/>
                  </a:lnTo>
                  <a:lnTo>
                    <a:pt x="476" y="674"/>
                  </a:lnTo>
                  <a:lnTo>
                    <a:pt x="2550" y="674"/>
                  </a:lnTo>
                  <a:lnTo>
                    <a:pt x="2550" y="564"/>
                  </a:lnTo>
                  <a:lnTo>
                    <a:pt x="454" y="524"/>
                  </a:lnTo>
                  <a:lnTo>
                    <a:pt x="617" y="454"/>
                  </a:lnTo>
                  <a:lnTo>
                    <a:pt x="224" y="366"/>
                  </a:lnTo>
                  <a:lnTo>
                    <a:pt x="502" y="366"/>
                  </a:lnTo>
                  <a:lnTo>
                    <a:pt x="251" y="216"/>
                  </a:lnTo>
                  <a:lnTo>
                    <a:pt x="595" y="216"/>
                  </a:lnTo>
                  <a:lnTo>
                    <a:pt x="352" y="0"/>
                  </a:lnTo>
                  <a:lnTo>
                    <a:pt x="127" y="18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28800" y="4511520"/>
              <a:ext cx="881280" cy="133560"/>
            </a:xfrm>
            <a:custGeom>
              <a:avLst/>
              <a:gdLst/>
              <a:ahLst/>
              <a:rect l="0" t="0" r="r" b="b"/>
              <a:pathLst>
                <a:path w="2448" h="371">
                  <a:moveTo>
                    <a:pt x="2324" y="114"/>
                  </a:moveTo>
                  <a:lnTo>
                    <a:pt x="1535" y="186"/>
                  </a:lnTo>
                  <a:lnTo>
                    <a:pt x="956" y="186"/>
                  </a:lnTo>
                  <a:lnTo>
                    <a:pt x="555" y="145"/>
                  </a:lnTo>
                  <a:lnTo>
                    <a:pt x="149" y="39"/>
                  </a:lnTo>
                  <a:lnTo>
                    <a:pt x="0" y="0"/>
                  </a:lnTo>
                  <a:lnTo>
                    <a:pt x="149" y="114"/>
                  </a:lnTo>
                  <a:lnTo>
                    <a:pt x="679" y="225"/>
                  </a:lnTo>
                  <a:lnTo>
                    <a:pt x="1372" y="261"/>
                  </a:lnTo>
                  <a:lnTo>
                    <a:pt x="251" y="261"/>
                  </a:lnTo>
                  <a:lnTo>
                    <a:pt x="1288" y="331"/>
                  </a:lnTo>
                  <a:lnTo>
                    <a:pt x="1936" y="331"/>
                  </a:lnTo>
                  <a:lnTo>
                    <a:pt x="2448" y="371"/>
                  </a:lnTo>
                  <a:lnTo>
                    <a:pt x="1659" y="261"/>
                  </a:lnTo>
                  <a:lnTo>
                    <a:pt x="2324" y="1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90640" y="4524480"/>
              <a:ext cx="36720" cy="336960"/>
            </a:xfrm>
            <a:custGeom>
              <a:avLst/>
              <a:gdLst/>
              <a:ahLst/>
              <a:rect l="0" t="0" r="r" b="b"/>
              <a:pathLst>
                <a:path w="102" h="936">
                  <a:moveTo>
                    <a:pt x="0" y="0"/>
                  </a:moveTo>
                  <a:lnTo>
                    <a:pt x="0" y="936"/>
                  </a:lnTo>
                  <a:lnTo>
                    <a:pt x="102" y="936"/>
                  </a:lnTo>
                  <a:lnTo>
                    <a:pt x="102" y="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117880" y="4591080"/>
              <a:ext cx="871920" cy="1626120"/>
            </a:xfrm>
            <a:custGeom>
              <a:avLst/>
              <a:gdLst/>
              <a:ahLst/>
              <a:rect l="0" t="0" r="r" b="b"/>
              <a:pathLst>
                <a:path w="2422" h="4517">
                  <a:moveTo>
                    <a:pt x="1911" y="74"/>
                  </a:moveTo>
                  <a:lnTo>
                    <a:pt x="2074" y="326"/>
                  </a:lnTo>
                  <a:lnTo>
                    <a:pt x="2074" y="524"/>
                  </a:lnTo>
                  <a:lnTo>
                    <a:pt x="2021" y="709"/>
                  </a:lnTo>
                  <a:lnTo>
                    <a:pt x="1836" y="851"/>
                  </a:lnTo>
                  <a:lnTo>
                    <a:pt x="1478" y="1031"/>
                  </a:lnTo>
                  <a:lnTo>
                    <a:pt x="1134" y="1178"/>
                  </a:lnTo>
                  <a:lnTo>
                    <a:pt x="856" y="1341"/>
                  </a:lnTo>
                  <a:lnTo>
                    <a:pt x="618" y="1597"/>
                  </a:lnTo>
                  <a:lnTo>
                    <a:pt x="485" y="1888"/>
                  </a:lnTo>
                  <a:lnTo>
                    <a:pt x="454" y="2148"/>
                  </a:lnTo>
                  <a:lnTo>
                    <a:pt x="515" y="2510"/>
                  </a:lnTo>
                  <a:lnTo>
                    <a:pt x="688" y="2884"/>
                  </a:lnTo>
                  <a:lnTo>
                    <a:pt x="830" y="3114"/>
                  </a:lnTo>
                  <a:lnTo>
                    <a:pt x="1081" y="3330"/>
                  </a:lnTo>
                  <a:lnTo>
                    <a:pt x="1398" y="3512"/>
                  </a:lnTo>
                  <a:lnTo>
                    <a:pt x="1645" y="3657"/>
                  </a:lnTo>
                  <a:lnTo>
                    <a:pt x="1880" y="3781"/>
                  </a:lnTo>
                  <a:lnTo>
                    <a:pt x="2101" y="3922"/>
                  </a:lnTo>
                  <a:lnTo>
                    <a:pt x="2255" y="4111"/>
                  </a:lnTo>
                  <a:lnTo>
                    <a:pt x="2277" y="4252"/>
                  </a:lnTo>
                  <a:lnTo>
                    <a:pt x="2175" y="4332"/>
                  </a:lnTo>
                  <a:lnTo>
                    <a:pt x="2021" y="4292"/>
                  </a:lnTo>
                  <a:lnTo>
                    <a:pt x="1880" y="4222"/>
                  </a:lnTo>
                  <a:lnTo>
                    <a:pt x="1786" y="4222"/>
                  </a:lnTo>
                  <a:lnTo>
                    <a:pt x="1836" y="3922"/>
                  </a:lnTo>
                  <a:lnTo>
                    <a:pt x="123" y="3922"/>
                  </a:lnTo>
                  <a:lnTo>
                    <a:pt x="123" y="4372"/>
                  </a:lnTo>
                  <a:lnTo>
                    <a:pt x="0" y="4442"/>
                  </a:lnTo>
                  <a:lnTo>
                    <a:pt x="48" y="4517"/>
                  </a:lnTo>
                  <a:lnTo>
                    <a:pt x="1858" y="4517"/>
                  </a:lnTo>
                  <a:lnTo>
                    <a:pt x="1747" y="4402"/>
                  </a:lnTo>
                  <a:lnTo>
                    <a:pt x="180" y="4372"/>
                  </a:lnTo>
                  <a:lnTo>
                    <a:pt x="180" y="4292"/>
                  </a:lnTo>
                  <a:lnTo>
                    <a:pt x="1786" y="4292"/>
                  </a:lnTo>
                  <a:lnTo>
                    <a:pt x="1937" y="4332"/>
                  </a:lnTo>
                  <a:lnTo>
                    <a:pt x="2153" y="4402"/>
                  </a:lnTo>
                  <a:lnTo>
                    <a:pt x="2255" y="4442"/>
                  </a:lnTo>
                  <a:lnTo>
                    <a:pt x="2378" y="4372"/>
                  </a:lnTo>
                  <a:lnTo>
                    <a:pt x="2422" y="4292"/>
                  </a:lnTo>
                  <a:lnTo>
                    <a:pt x="2405" y="4147"/>
                  </a:lnTo>
                  <a:lnTo>
                    <a:pt x="2325" y="4036"/>
                  </a:lnTo>
                  <a:lnTo>
                    <a:pt x="2255" y="4067"/>
                  </a:lnTo>
                  <a:lnTo>
                    <a:pt x="2052" y="3851"/>
                  </a:lnTo>
                  <a:lnTo>
                    <a:pt x="1858" y="3728"/>
                  </a:lnTo>
                  <a:lnTo>
                    <a:pt x="1880" y="3657"/>
                  </a:lnTo>
                  <a:lnTo>
                    <a:pt x="2153" y="3812"/>
                  </a:lnTo>
                  <a:lnTo>
                    <a:pt x="1836" y="3582"/>
                  </a:lnTo>
                  <a:lnTo>
                    <a:pt x="1420" y="3397"/>
                  </a:lnTo>
                  <a:lnTo>
                    <a:pt x="1054" y="3153"/>
                  </a:lnTo>
                  <a:lnTo>
                    <a:pt x="755" y="2774"/>
                  </a:lnTo>
                  <a:lnTo>
                    <a:pt x="856" y="2973"/>
                  </a:lnTo>
                  <a:lnTo>
                    <a:pt x="777" y="2973"/>
                  </a:lnTo>
                  <a:lnTo>
                    <a:pt x="542" y="2479"/>
                  </a:lnTo>
                  <a:lnTo>
                    <a:pt x="542" y="2183"/>
                  </a:lnTo>
                  <a:lnTo>
                    <a:pt x="590" y="2148"/>
                  </a:lnTo>
                  <a:lnTo>
                    <a:pt x="666" y="2479"/>
                  </a:lnTo>
                  <a:lnTo>
                    <a:pt x="618" y="2038"/>
                  </a:lnTo>
                  <a:lnTo>
                    <a:pt x="666" y="1822"/>
                  </a:lnTo>
                  <a:lnTo>
                    <a:pt x="733" y="1632"/>
                  </a:lnTo>
                  <a:lnTo>
                    <a:pt x="882" y="1487"/>
                  </a:lnTo>
                  <a:lnTo>
                    <a:pt x="1134" y="1376"/>
                  </a:lnTo>
                  <a:lnTo>
                    <a:pt x="1769" y="1102"/>
                  </a:lnTo>
                  <a:lnTo>
                    <a:pt x="1213" y="1341"/>
                  </a:lnTo>
                  <a:lnTo>
                    <a:pt x="1297" y="1178"/>
                  </a:lnTo>
                  <a:lnTo>
                    <a:pt x="1880" y="851"/>
                  </a:lnTo>
                  <a:lnTo>
                    <a:pt x="1911" y="952"/>
                  </a:lnTo>
                  <a:lnTo>
                    <a:pt x="1858" y="1031"/>
                  </a:lnTo>
                  <a:lnTo>
                    <a:pt x="2021" y="820"/>
                  </a:lnTo>
                  <a:lnTo>
                    <a:pt x="2101" y="604"/>
                  </a:lnTo>
                  <a:lnTo>
                    <a:pt x="2123" y="370"/>
                  </a:lnTo>
                  <a:lnTo>
                    <a:pt x="2052" y="145"/>
                  </a:lnTo>
                  <a:lnTo>
                    <a:pt x="1911" y="0"/>
                  </a:lnTo>
                  <a:lnTo>
                    <a:pt x="1911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65200" y="5099040"/>
              <a:ext cx="606960" cy="808560"/>
            </a:xfrm>
            <a:custGeom>
              <a:avLst/>
              <a:gdLst/>
              <a:ahLst/>
              <a:rect l="0" t="0" r="r" b="b"/>
              <a:pathLst>
                <a:path w="1686" h="2246">
                  <a:moveTo>
                    <a:pt x="1686" y="0"/>
                  </a:moveTo>
                  <a:lnTo>
                    <a:pt x="521" y="0"/>
                  </a:lnTo>
                  <a:lnTo>
                    <a:pt x="141" y="185"/>
                  </a:lnTo>
                  <a:lnTo>
                    <a:pt x="0" y="436"/>
                  </a:lnTo>
                  <a:lnTo>
                    <a:pt x="66" y="480"/>
                  </a:lnTo>
                  <a:lnTo>
                    <a:pt x="141" y="882"/>
                  </a:lnTo>
                  <a:lnTo>
                    <a:pt x="167" y="1284"/>
                  </a:lnTo>
                  <a:lnTo>
                    <a:pt x="220" y="1632"/>
                  </a:lnTo>
                  <a:lnTo>
                    <a:pt x="246" y="1363"/>
                  </a:lnTo>
                  <a:lnTo>
                    <a:pt x="220" y="993"/>
                  </a:lnTo>
                  <a:lnTo>
                    <a:pt x="198" y="697"/>
                  </a:lnTo>
                  <a:lnTo>
                    <a:pt x="167" y="480"/>
                  </a:lnTo>
                  <a:lnTo>
                    <a:pt x="167" y="370"/>
                  </a:lnTo>
                  <a:lnTo>
                    <a:pt x="268" y="295"/>
                  </a:lnTo>
                  <a:lnTo>
                    <a:pt x="321" y="410"/>
                  </a:lnTo>
                  <a:lnTo>
                    <a:pt x="366" y="962"/>
                  </a:lnTo>
                  <a:lnTo>
                    <a:pt x="366" y="1704"/>
                  </a:lnTo>
                  <a:lnTo>
                    <a:pt x="366" y="515"/>
                  </a:lnTo>
                  <a:lnTo>
                    <a:pt x="785" y="551"/>
                  </a:lnTo>
                  <a:lnTo>
                    <a:pt x="830" y="772"/>
                  </a:lnTo>
                  <a:lnTo>
                    <a:pt x="856" y="1363"/>
                  </a:lnTo>
                  <a:lnTo>
                    <a:pt x="882" y="2021"/>
                  </a:lnTo>
                  <a:lnTo>
                    <a:pt x="904" y="962"/>
                  </a:lnTo>
                  <a:lnTo>
                    <a:pt x="904" y="551"/>
                  </a:lnTo>
                  <a:lnTo>
                    <a:pt x="882" y="370"/>
                  </a:lnTo>
                  <a:lnTo>
                    <a:pt x="984" y="295"/>
                  </a:lnTo>
                  <a:lnTo>
                    <a:pt x="1054" y="370"/>
                  </a:lnTo>
                  <a:lnTo>
                    <a:pt x="1054" y="515"/>
                  </a:lnTo>
                  <a:lnTo>
                    <a:pt x="1006" y="1920"/>
                  </a:lnTo>
                  <a:lnTo>
                    <a:pt x="1125" y="551"/>
                  </a:lnTo>
                  <a:lnTo>
                    <a:pt x="1248" y="551"/>
                  </a:lnTo>
                  <a:lnTo>
                    <a:pt x="1360" y="587"/>
                  </a:lnTo>
                  <a:lnTo>
                    <a:pt x="1413" y="627"/>
                  </a:lnTo>
                  <a:lnTo>
                    <a:pt x="1435" y="2246"/>
                  </a:lnTo>
                  <a:lnTo>
                    <a:pt x="1483" y="2246"/>
                  </a:lnTo>
                  <a:lnTo>
                    <a:pt x="1536" y="185"/>
                  </a:lnTo>
                  <a:lnTo>
                    <a:pt x="16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30320" y="5087880"/>
              <a:ext cx="459000" cy="844920"/>
            </a:xfrm>
            <a:custGeom>
              <a:avLst/>
              <a:gdLst/>
              <a:ahLst/>
              <a:rect l="0" t="0" r="r" b="b"/>
              <a:pathLst>
                <a:path w="1275" h="2347">
                  <a:moveTo>
                    <a:pt x="1275" y="0"/>
                  </a:moveTo>
                  <a:lnTo>
                    <a:pt x="0" y="0"/>
                  </a:lnTo>
                  <a:lnTo>
                    <a:pt x="44" y="141"/>
                  </a:lnTo>
                  <a:lnTo>
                    <a:pt x="295" y="255"/>
                  </a:lnTo>
                  <a:lnTo>
                    <a:pt x="370" y="2347"/>
                  </a:lnTo>
                  <a:lnTo>
                    <a:pt x="370" y="622"/>
                  </a:lnTo>
                  <a:lnTo>
                    <a:pt x="471" y="582"/>
                  </a:lnTo>
                  <a:lnTo>
                    <a:pt x="621" y="622"/>
                  </a:lnTo>
                  <a:lnTo>
                    <a:pt x="755" y="1592"/>
                  </a:lnTo>
                  <a:lnTo>
                    <a:pt x="847" y="2237"/>
                  </a:lnTo>
                  <a:lnTo>
                    <a:pt x="724" y="326"/>
                  </a:lnTo>
                  <a:lnTo>
                    <a:pt x="777" y="255"/>
                  </a:lnTo>
                  <a:lnTo>
                    <a:pt x="878" y="326"/>
                  </a:lnTo>
                  <a:lnTo>
                    <a:pt x="949" y="2131"/>
                  </a:lnTo>
                  <a:lnTo>
                    <a:pt x="979" y="511"/>
                  </a:lnTo>
                  <a:lnTo>
                    <a:pt x="1090" y="216"/>
                  </a:lnTo>
                  <a:lnTo>
                    <a:pt x="1226" y="30"/>
                  </a:lnTo>
                  <a:lnTo>
                    <a:pt x="127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44720" y="4910040"/>
              <a:ext cx="90720" cy="133560"/>
            </a:xfrm>
            <a:custGeom>
              <a:avLst/>
              <a:gdLst/>
              <a:ahLst/>
              <a:rect l="0" t="0" r="r" b="b"/>
              <a:pathLst>
                <a:path w="252" h="371">
                  <a:moveTo>
                    <a:pt x="252" y="371"/>
                  </a:moveTo>
                  <a:lnTo>
                    <a:pt x="252" y="0"/>
                  </a:lnTo>
                  <a:lnTo>
                    <a:pt x="0" y="0"/>
                  </a:lnTo>
                  <a:lnTo>
                    <a:pt x="181" y="70"/>
                  </a:lnTo>
                  <a:lnTo>
                    <a:pt x="252" y="37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998720" y="4897440"/>
              <a:ext cx="675000" cy="130680"/>
            </a:xfrm>
            <a:custGeom>
              <a:avLst/>
              <a:gdLst/>
              <a:ahLst/>
              <a:rect l="0" t="0" r="r" b="b"/>
              <a:pathLst>
                <a:path w="1875" h="363">
                  <a:moveTo>
                    <a:pt x="1875" y="0"/>
                  </a:moveTo>
                  <a:lnTo>
                    <a:pt x="0" y="0"/>
                  </a:lnTo>
                  <a:lnTo>
                    <a:pt x="0" y="363"/>
                  </a:lnTo>
                  <a:lnTo>
                    <a:pt x="48" y="70"/>
                  </a:lnTo>
                  <a:lnTo>
                    <a:pt x="1831" y="70"/>
                  </a:lnTo>
                  <a:lnTo>
                    <a:pt x="187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63880" y="5992920"/>
              <a:ext cx="65520" cy="36720"/>
            </a:xfrm>
            <a:custGeom>
              <a:avLst/>
              <a:gdLst/>
              <a:ahLst/>
              <a:rect l="0" t="0" r="r" b="b"/>
              <a:pathLst>
                <a:path w="182" h="102">
                  <a:moveTo>
                    <a:pt x="156" y="0"/>
                  </a:moveTo>
                  <a:lnTo>
                    <a:pt x="0" y="0"/>
                  </a:lnTo>
                  <a:lnTo>
                    <a:pt x="0" y="102"/>
                  </a:lnTo>
                  <a:lnTo>
                    <a:pt x="182" y="102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19320" y="5865840"/>
              <a:ext cx="854280" cy="298800"/>
            </a:xfrm>
            <a:custGeom>
              <a:avLst/>
              <a:gdLst/>
              <a:ahLst/>
              <a:rect l="0" t="0" r="r" b="b"/>
              <a:pathLst>
                <a:path w="2373" h="830">
                  <a:moveTo>
                    <a:pt x="2346" y="574"/>
                  </a:moveTo>
                  <a:lnTo>
                    <a:pt x="1972" y="605"/>
                  </a:lnTo>
                  <a:lnTo>
                    <a:pt x="1694" y="530"/>
                  </a:lnTo>
                  <a:lnTo>
                    <a:pt x="1460" y="379"/>
                  </a:lnTo>
                  <a:lnTo>
                    <a:pt x="1332" y="268"/>
                  </a:lnTo>
                  <a:lnTo>
                    <a:pt x="1284" y="185"/>
                  </a:lnTo>
                  <a:lnTo>
                    <a:pt x="1354" y="149"/>
                  </a:lnTo>
                  <a:lnTo>
                    <a:pt x="1284" y="114"/>
                  </a:lnTo>
                  <a:lnTo>
                    <a:pt x="1058" y="149"/>
                  </a:lnTo>
                  <a:lnTo>
                    <a:pt x="679" y="114"/>
                  </a:lnTo>
                  <a:lnTo>
                    <a:pt x="352" y="74"/>
                  </a:lnTo>
                  <a:lnTo>
                    <a:pt x="202" y="39"/>
                  </a:lnTo>
                  <a:lnTo>
                    <a:pt x="79" y="0"/>
                  </a:lnTo>
                  <a:lnTo>
                    <a:pt x="0" y="0"/>
                  </a:lnTo>
                  <a:lnTo>
                    <a:pt x="79" y="185"/>
                  </a:lnTo>
                  <a:lnTo>
                    <a:pt x="273" y="379"/>
                  </a:lnTo>
                  <a:lnTo>
                    <a:pt x="427" y="494"/>
                  </a:lnTo>
                  <a:lnTo>
                    <a:pt x="101" y="574"/>
                  </a:lnTo>
                  <a:lnTo>
                    <a:pt x="202" y="644"/>
                  </a:lnTo>
                  <a:lnTo>
                    <a:pt x="374" y="644"/>
                  </a:lnTo>
                  <a:lnTo>
                    <a:pt x="507" y="715"/>
                  </a:lnTo>
                  <a:lnTo>
                    <a:pt x="987" y="755"/>
                  </a:lnTo>
                  <a:lnTo>
                    <a:pt x="1548" y="830"/>
                  </a:lnTo>
                  <a:lnTo>
                    <a:pt x="1672" y="830"/>
                  </a:lnTo>
                  <a:lnTo>
                    <a:pt x="2373" y="605"/>
                  </a:lnTo>
                  <a:lnTo>
                    <a:pt x="1619" y="755"/>
                  </a:lnTo>
                  <a:lnTo>
                    <a:pt x="1102" y="644"/>
                  </a:lnTo>
                  <a:lnTo>
                    <a:pt x="762" y="530"/>
                  </a:lnTo>
                  <a:lnTo>
                    <a:pt x="476" y="379"/>
                  </a:lnTo>
                  <a:lnTo>
                    <a:pt x="273" y="238"/>
                  </a:lnTo>
                  <a:lnTo>
                    <a:pt x="202" y="114"/>
                  </a:lnTo>
                  <a:lnTo>
                    <a:pt x="529" y="185"/>
                  </a:lnTo>
                  <a:lnTo>
                    <a:pt x="943" y="238"/>
                  </a:lnTo>
                  <a:lnTo>
                    <a:pt x="1284" y="238"/>
                  </a:lnTo>
                  <a:lnTo>
                    <a:pt x="1460" y="352"/>
                  </a:lnTo>
                  <a:lnTo>
                    <a:pt x="1795" y="574"/>
                  </a:lnTo>
                  <a:lnTo>
                    <a:pt x="2346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982960" y="5907240"/>
              <a:ext cx="870480" cy="309960"/>
            </a:xfrm>
            <a:custGeom>
              <a:avLst/>
              <a:gdLst/>
              <a:ahLst/>
              <a:rect l="0" t="0" r="r" b="b"/>
              <a:pathLst>
                <a:path w="2418" h="861">
                  <a:moveTo>
                    <a:pt x="0" y="70"/>
                  </a:moveTo>
                  <a:lnTo>
                    <a:pt x="97" y="300"/>
                  </a:lnTo>
                  <a:lnTo>
                    <a:pt x="74" y="340"/>
                  </a:lnTo>
                  <a:lnTo>
                    <a:pt x="198" y="596"/>
                  </a:lnTo>
                  <a:lnTo>
                    <a:pt x="321" y="636"/>
                  </a:lnTo>
                  <a:lnTo>
                    <a:pt x="348" y="716"/>
                  </a:lnTo>
                  <a:lnTo>
                    <a:pt x="1482" y="822"/>
                  </a:lnTo>
                  <a:lnTo>
                    <a:pt x="1412" y="861"/>
                  </a:lnTo>
                  <a:lnTo>
                    <a:pt x="1778" y="822"/>
                  </a:lnTo>
                  <a:lnTo>
                    <a:pt x="2215" y="861"/>
                  </a:lnTo>
                  <a:lnTo>
                    <a:pt x="2092" y="676"/>
                  </a:lnTo>
                  <a:lnTo>
                    <a:pt x="2418" y="411"/>
                  </a:lnTo>
                  <a:lnTo>
                    <a:pt x="1513" y="0"/>
                  </a:lnTo>
                  <a:lnTo>
                    <a:pt x="2339" y="411"/>
                  </a:lnTo>
                  <a:lnTo>
                    <a:pt x="1964" y="636"/>
                  </a:lnTo>
                  <a:lnTo>
                    <a:pt x="1654" y="676"/>
                  </a:lnTo>
                  <a:lnTo>
                    <a:pt x="1676" y="596"/>
                  </a:lnTo>
                  <a:lnTo>
                    <a:pt x="1482" y="676"/>
                  </a:lnTo>
                  <a:lnTo>
                    <a:pt x="777" y="636"/>
                  </a:lnTo>
                  <a:lnTo>
                    <a:pt x="1134" y="455"/>
                  </a:lnTo>
                  <a:lnTo>
                    <a:pt x="573" y="596"/>
                  </a:lnTo>
                  <a:lnTo>
                    <a:pt x="348" y="565"/>
                  </a:lnTo>
                  <a:lnTo>
                    <a:pt x="220" y="455"/>
                  </a:lnTo>
                  <a:lnTo>
                    <a:pt x="97" y="194"/>
                  </a:lnTo>
                  <a:lnTo>
                    <a:pt x="573" y="340"/>
                  </a:lnTo>
                  <a:lnTo>
                    <a:pt x="922" y="340"/>
                  </a:lnTo>
                  <a:lnTo>
                    <a:pt x="1134" y="340"/>
                  </a:lnTo>
                  <a:lnTo>
                    <a:pt x="498" y="265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7840" y="5894280"/>
              <a:ext cx="152640" cy="149760"/>
            </a:xfrm>
            <a:custGeom>
              <a:avLst/>
              <a:gdLst/>
              <a:ahLst/>
              <a:rect l="0" t="0" r="r" b="b"/>
              <a:pathLst>
                <a:path w="424" h="416">
                  <a:moveTo>
                    <a:pt x="424" y="0"/>
                  </a:moveTo>
                  <a:lnTo>
                    <a:pt x="0" y="416"/>
                  </a:lnTo>
                  <a:lnTo>
                    <a:pt x="305" y="39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51120" y="4665600"/>
              <a:ext cx="92520" cy="60840"/>
            </a:xfrm>
            <a:custGeom>
              <a:avLst/>
              <a:gdLst/>
              <a:ahLst/>
              <a:rect l="0" t="0" r="r" b="b"/>
              <a:pathLst>
                <a:path w="257" h="169">
                  <a:moveTo>
                    <a:pt x="257" y="169"/>
                  </a:moveTo>
                  <a:lnTo>
                    <a:pt x="106" y="143"/>
                  </a:lnTo>
                  <a:lnTo>
                    <a:pt x="0" y="143"/>
                  </a:lnTo>
                  <a:lnTo>
                    <a:pt x="13" y="0"/>
                  </a:lnTo>
                  <a:lnTo>
                    <a:pt x="52" y="89"/>
                  </a:lnTo>
                  <a:lnTo>
                    <a:pt x="257" y="1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79640" y="4660920"/>
              <a:ext cx="708480" cy="36720"/>
            </a:xfrm>
            <a:custGeom>
              <a:avLst/>
              <a:gdLst/>
              <a:ahLst/>
              <a:rect l="0" t="0" r="r" b="b"/>
              <a:pathLst>
                <a:path w="1968" h="102">
                  <a:moveTo>
                    <a:pt x="1968" y="102"/>
                  </a:moveTo>
                  <a:lnTo>
                    <a:pt x="1319" y="58"/>
                  </a:lnTo>
                  <a:lnTo>
                    <a:pt x="896" y="75"/>
                  </a:lnTo>
                  <a:lnTo>
                    <a:pt x="35" y="75"/>
                  </a:lnTo>
                  <a:lnTo>
                    <a:pt x="0" y="0"/>
                  </a:lnTo>
                  <a:lnTo>
                    <a:pt x="1416" y="30"/>
                  </a:lnTo>
                  <a:lnTo>
                    <a:pt x="1968" y="10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69920" y="4726080"/>
              <a:ext cx="641880" cy="36720"/>
            </a:xfrm>
            <a:custGeom>
              <a:avLst/>
              <a:gdLst/>
              <a:ahLst/>
              <a:rect l="0" t="0" r="r" b="b"/>
              <a:pathLst>
                <a:path w="1783" h="102">
                  <a:moveTo>
                    <a:pt x="1783" y="17"/>
                  </a:moveTo>
                  <a:lnTo>
                    <a:pt x="1103" y="53"/>
                  </a:lnTo>
                  <a:lnTo>
                    <a:pt x="455" y="102"/>
                  </a:lnTo>
                  <a:lnTo>
                    <a:pt x="0" y="30"/>
                  </a:lnTo>
                  <a:lnTo>
                    <a:pt x="330" y="17"/>
                  </a:lnTo>
                  <a:lnTo>
                    <a:pt x="724" y="30"/>
                  </a:lnTo>
                  <a:lnTo>
                    <a:pt x="1501" y="0"/>
                  </a:lnTo>
                  <a:lnTo>
                    <a:pt x="1783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49680" y="4762440"/>
              <a:ext cx="97200" cy="22680"/>
            </a:xfrm>
            <a:custGeom>
              <a:avLst/>
              <a:gdLst/>
              <a:ahLst/>
              <a:rect l="0" t="0" r="r" b="b"/>
              <a:pathLst>
                <a:path w="270" h="63">
                  <a:moveTo>
                    <a:pt x="270" y="63"/>
                  </a:moveTo>
                  <a:lnTo>
                    <a:pt x="0" y="0"/>
                  </a:lnTo>
                  <a:lnTo>
                    <a:pt x="0" y="50"/>
                  </a:lnTo>
                  <a:lnTo>
                    <a:pt x="270" y="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46440" y="2681280"/>
              <a:ext cx="603720" cy="795600"/>
            </a:xfrm>
            <a:custGeom>
              <a:avLst/>
              <a:gdLst/>
              <a:ahLst/>
              <a:rect l="0" t="0" r="r" b="b"/>
              <a:pathLst>
                <a:path w="1677" h="2210">
                  <a:moveTo>
                    <a:pt x="273" y="683"/>
                  </a:moveTo>
                  <a:lnTo>
                    <a:pt x="455" y="749"/>
                  </a:lnTo>
                  <a:lnTo>
                    <a:pt x="662" y="776"/>
                  </a:lnTo>
                  <a:lnTo>
                    <a:pt x="874" y="718"/>
                  </a:lnTo>
                  <a:lnTo>
                    <a:pt x="997" y="661"/>
                  </a:lnTo>
                  <a:lnTo>
                    <a:pt x="975" y="604"/>
                  </a:lnTo>
                  <a:lnTo>
                    <a:pt x="1125" y="542"/>
                  </a:lnTo>
                  <a:lnTo>
                    <a:pt x="1294" y="379"/>
                  </a:lnTo>
                  <a:lnTo>
                    <a:pt x="1373" y="202"/>
                  </a:lnTo>
                  <a:lnTo>
                    <a:pt x="1413" y="30"/>
                  </a:lnTo>
                  <a:lnTo>
                    <a:pt x="1474" y="0"/>
                  </a:lnTo>
                  <a:lnTo>
                    <a:pt x="1413" y="264"/>
                  </a:lnTo>
                  <a:lnTo>
                    <a:pt x="1316" y="401"/>
                  </a:lnTo>
                  <a:lnTo>
                    <a:pt x="1147" y="604"/>
                  </a:lnTo>
                  <a:lnTo>
                    <a:pt x="1355" y="427"/>
                  </a:lnTo>
                  <a:lnTo>
                    <a:pt x="1448" y="264"/>
                  </a:lnTo>
                  <a:lnTo>
                    <a:pt x="1496" y="123"/>
                  </a:lnTo>
                  <a:lnTo>
                    <a:pt x="1576" y="123"/>
                  </a:lnTo>
                  <a:lnTo>
                    <a:pt x="1457" y="321"/>
                  </a:lnTo>
                  <a:lnTo>
                    <a:pt x="1333" y="493"/>
                  </a:lnTo>
                  <a:lnTo>
                    <a:pt x="1165" y="661"/>
                  </a:lnTo>
                  <a:lnTo>
                    <a:pt x="1373" y="577"/>
                  </a:lnTo>
                  <a:lnTo>
                    <a:pt x="1536" y="401"/>
                  </a:lnTo>
                  <a:lnTo>
                    <a:pt x="1598" y="286"/>
                  </a:lnTo>
                  <a:lnTo>
                    <a:pt x="1615" y="202"/>
                  </a:lnTo>
                  <a:lnTo>
                    <a:pt x="1677" y="229"/>
                  </a:lnTo>
                  <a:lnTo>
                    <a:pt x="1576" y="401"/>
                  </a:lnTo>
                  <a:lnTo>
                    <a:pt x="1448" y="577"/>
                  </a:lnTo>
                  <a:lnTo>
                    <a:pt x="1316" y="683"/>
                  </a:lnTo>
                  <a:lnTo>
                    <a:pt x="1187" y="718"/>
                  </a:lnTo>
                  <a:lnTo>
                    <a:pt x="1125" y="776"/>
                  </a:lnTo>
                  <a:lnTo>
                    <a:pt x="1125" y="868"/>
                  </a:lnTo>
                  <a:lnTo>
                    <a:pt x="1050" y="952"/>
                  </a:lnTo>
                  <a:lnTo>
                    <a:pt x="896" y="987"/>
                  </a:lnTo>
                  <a:lnTo>
                    <a:pt x="741" y="1009"/>
                  </a:lnTo>
                  <a:lnTo>
                    <a:pt x="565" y="987"/>
                  </a:lnTo>
                  <a:lnTo>
                    <a:pt x="383" y="952"/>
                  </a:lnTo>
                  <a:lnTo>
                    <a:pt x="273" y="895"/>
                  </a:lnTo>
                  <a:lnTo>
                    <a:pt x="211" y="1045"/>
                  </a:lnTo>
                  <a:lnTo>
                    <a:pt x="198" y="1262"/>
                  </a:lnTo>
                  <a:lnTo>
                    <a:pt x="180" y="1575"/>
                  </a:lnTo>
                  <a:lnTo>
                    <a:pt x="198" y="1839"/>
                  </a:lnTo>
                  <a:lnTo>
                    <a:pt x="238" y="1980"/>
                  </a:lnTo>
                  <a:lnTo>
                    <a:pt x="238" y="2064"/>
                  </a:lnTo>
                  <a:lnTo>
                    <a:pt x="308" y="2152"/>
                  </a:lnTo>
                  <a:lnTo>
                    <a:pt x="308" y="2210"/>
                  </a:lnTo>
                  <a:lnTo>
                    <a:pt x="180" y="2095"/>
                  </a:lnTo>
                  <a:lnTo>
                    <a:pt x="0" y="2038"/>
                  </a:lnTo>
                  <a:lnTo>
                    <a:pt x="0" y="2007"/>
                  </a:lnTo>
                  <a:lnTo>
                    <a:pt x="119" y="2007"/>
                  </a:lnTo>
                  <a:lnTo>
                    <a:pt x="83" y="1641"/>
                  </a:lnTo>
                  <a:lnTo>
                    <a:pt x="61" y="1315"/>
                  </a:lnTo>
                  <a:lnTo>
                    <a:pt x="97" y="1262"/>
                  </a:lnTo>
                  <a:lnTo>
                    <a:pt x="119" y="1009"/>
                  </a:lnTo>
                  <a:lnTo>
                    <a:pt x="180" y="846"/>
                  </a:lnTo>
                  <a:lnTo>
                    <a:pt x="273" y="6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87440" y="2666880"/>
              <a:ext cx="39960" cy="138600"/>
            </a:xfrm>
            <a:custGeom>
              <a:avLst/>
              <a:gdLst/>
              <a:ahLst/>
              <a:rect l="0" t="0" r="r" b="b"/>
              <a:pathLst>
                <a:path w="111" h="385">
                  <a:moveTo>
                    <a:pt x="111" y="13"/>
                  </a:moveTo>
                  <a:lnTo>
                    <a:pt x="71" y="195"/>
                  </a:lnTo>
                  <a:lnTo>
                    <a:pt x="0" y="385"/>
                  </a:lnTo>
                  <a:lnTo>
                    <a:pt x="30" y="128"/>
                  </a:lnTo>
                  <a:lnTo>
                    <a:pt x="0" y="0"/>
                  </a:lnTo>
                  <a:lnTo>
                    <a:pt x="111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35280" y="2666880"/>
              <a:ext cx="430560" cy="271800"/>
            </a:xfrm>
            <a:custGeom>
              <a:avLst/>
              <a:gdLst/>
              <a:ahLst/>
              <a:rect l="0" t="0" r="r" b="b"/>
              <a:pathLst>
                <a:path w="1196" h="755">
                  <a:moveTo>
                    <a:pt x="1196" y="97"/>
                  </a:moveTo>
                  <a:lnTo>
                    <a:pt x="847" y="0"/>
                  </a:lnTo>
                  <a:lnTo>
                    <a:pt x="537" y="0"/>
                  </a:lnTo>
                  <a:lnTo>
                    <a:pt x="343" y="13"/>
                  </a:lnTo>
                  <a:lnTo>
                    <a:pt x="149" y="97"/>
                  </a:lnTo>
                  <a:lnTo>
                    <a:pt x="57" y="242"/>
                  </a:lnTo>
                  <a:lnTo>
                    <a:pt x="17" y="384"/>
                  </a:lnTo>
                  <a:lnTo>
                    <a:pt x="0" y="441"/>
                  </a:lnTo>
                  <a:lnTo>
                    <a:pt x="0" y="530"/>
                  </a:lnTo>
                  <a:lnTo>
                    <a:pt x="119" y="666"/>
                  </a:lnTo>
                  <a:lnTo>
                    <a:pt x="268" y="755"/>
                  </a:lnTo>
                  <a:lnTo>
                    <a:pt x="326" y="556"/>
                  </a:lnTo>
                  <a:lnTo>
                    <a:pt x="383" y="468"/>
                  </a:lnTo>
                  <a:lnTo>
                    <a:pt x="489" y="384"/>
                  </a:lnTo>
                  <a:lnTo>
                    <a:pt x="636" y="357"/>
                  </a:lnTo>
                  <a:lnTo>
                    <a:pt x="471" y="384"/>
                  </a:lnTo>
                  <a:lnTo>
                    <a:pt x="343" y="468"/>
                  </a:lnTo>
                  <a:lnTo>
                    <a:pt x="454" y="326"/>
                  </a:lnTo>
                  <a:lnTo>
                    <a:pt x="326" y="441"/>
                  </a:lnTo>
                  <a:lnTo>
                    <a:pt x="246" y="556"/>
                  </a:lnTo>
                  <a:lnTo>
                    <a:pt x="229" y="666"/>
                  </a:lnTo>
                  <a:lnTo>
                    <a:pt x="189" y="583"/>
                  </a:lnTo>
                  <a:lnTo>
                    <a:pt x="246" y="415"/>
                  </a:lnTo>
                  <a:lnTo>
                    <a:pt x="308" y="299"/>
                  </a:lnTo>
                  <a:lnTo>
                    <a:pt x="383" y="216"/>
                  </a:lnTo>
                  <a:lnTo>
                    <a:pt x="326" y="189"/>
                  </a:lnTo>
                  <a:lnTo>
                    <a:pt x="246" y="357"/>
                  </a:lnTo>
                  <a:lnTo>
                    <a:pt x="189" y="441"/>
                  </a:lnTo>
                  <a:lnTo>
                    <a:pt x="149" y="530"/>
                  </a:lnTo>
                  <a:lnTo>
                    <a:pt x="127" y="415"/>
                  </a:lnTo>
                  <a:lnTo>
                    <a:pt x="171" y="299"/>
                  </a:lnTo>
                  <a:lnTo>
                    <a:pt x="268" y="216"/>
                  </a:lnTo>
                  <a:lnTo>
                    <a:pt x="326" y="158"/>
                  </a:lnTo>
                  <a:lnTo>
                    <a:pt x="308" y="127"/>
                  </a:lnTo>
                  <a:lnTo>
                    <a:pt x="432" y="70"/>
                  </a:lnTo>
                  <a:lnTo>
                    <a:pt x="618" y="39"/>
                  </a:lnTo>
                  <a:lnTo>
                    <a:pt x="830" y="39"/>
                  </a:lnTo>
                  <a:lnTo>
                    <a:pt x="1028" y="97"/>
                  </a:lnTo>
                  <a:lnTo>
                    <a:pt x="1156" y="158"/>
                  </a:lnTo>
                  <a:lnTo>
                    <a:pt x="1196" y="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82640" y="2867040"/>
              <a:ext cx="689400" cy="1151280"/>
            </a:xfrm>
            <a:custGeom>
              <a:avLst/>
              <a:gdLst/>
              <a:ahLst/>
              <a:rect l="0" t="0" r="r" b="b"/>
              <a:pathLst>
                <a:path w="1915" h="3198">
                  <a:moveTo>
                    <a:pt x="401" y="0"/>
                  </a:moveTo>
                  <a:lnTo>
                    <a:pt x="207" y="141"/>
                  </a:lnTo>
                  <a:lnTo>
                    <a:pt x="79" y="295"/>
                  </a:lnTo>
                  <a:lnTo>
                    <a:pt x="22" y="467"/>
                  </a:lnTo>
                  <a:lnTo>
                    <a:pt x="0" y="661"/>
                  </a:lnTo>
                  <a:lnTo>
                    <a:pt x="22" y="851"/>
                  </a:lnTo>
                  <a:lnTo>
                    <a:pt x="119" y="1120"/>
                  </a:lnTo>
                  <a:lnTo>
                    <a:pt x="242" y="1375"/>
                  </a:lnTo>
                  <a:lnTo>
                    <a:pt x="304" y="1516"/>
                  </a:lnTo>
                  <a:lnTo>
                    <a:pt x="343" y="1716"/>
                  </a:lnTo>
                  <a:lnTo>
                    <a:pt x="401" y="1857"/>
                  </a:lnTo>
                  <a:lnTo>
                    <a:pt x="454" y="2007"/>
                  </a:lnTo>
                  <a:lnTo>
                    <a:pt x="494" y="2091"/>
                  </a:lnTo>
                  <a:lnTo>
                    <a:pt x="440" y="2289"/>
                  </a:lnTo>
                  <a:lnTo>
                    <a:pt x="401" y="2545"/>
                  </a:lnTo>
                  <a:lnTo>
                    <a:pt x="401" y="2743"/>
                  </a:lnTo>
                  <a:lnTo>
                    <a:pt x="383" y="2955"/>
                  </a:lnTo>
                  <a:lnTo>
                    <a:pt x="343" y="3127"/>
                  </a:lnTo>
                  <a:lnTo>
                    <a:pt x="286" y="3198"/>
                  </a:lnTo>
                  <a:lnTo>
                    <a:pt x="361" y="3198"/>
                  </a:lnTo>
                  <a:lnTo>
                    <a:pt x="401" y="3070"/>
                  </a:lnTo>
                  <a:lnTo>
                    <a:pt x="454" y="2871"/>
                  </a:lnTo>
                  <a:lnTo>
                    <a:pt x="481" y="2655"/>
                  </a:lnTo>
                  <a:lnTo>
                    <a:pt x="494" y="2898"/>
                  </a:lnTo>
                  <a:lnTo>
                    <a:pt x="481" y="3070"/>
                  </a:lnTo>
                  <a:lnTo>
                    <a:pt x="454" y="3153"/>
                  </a:lnTo>
                  <a:lnTo>
                    <a:pt x="423" y="3198"/>
                  </a:lnTo>
                  <a:lnTo>
                    <a:pt x="481" y="3198"/>
                  </a:lnTo>
                  <a:lnTo>
                    <a:pt x="543" y="3012"/>
                  </a:lnTo>
                  <a:lnTo>
                    <a:pt x="552" y="3198"/>
                  </a:lnTo>
                  <a:lnTo>
                    <a:pt x="671" y="3198"/>
                  </a:lnTo>
                  <a:lnTo>
                    <a:pt x="807" y="3171"/>
                  </a:lnTo>
                  <a:lnTo>
                    <a:pt x="984" y="3127"/>
                  </a:lnTo>
                  <a:lnTo>
                    <a:pt x="1121" y="3127"/>
                  </a:lnTo>
                  <a:lnTo>
                    <a:pt x="1121" y="3012"/>
                  </a:lnTo>
                  <a:lnTo>
                    <a:pt x="1218" y="2986"/>
                  </a:lnTo>
                  <a:lnTo>
                    <a:pt x="1350" y="2929"/>
                  </a:lnTo>
                  <a:lnTo>
                    <a:pt x="1412" y="2898"/>
                  </a:lnTo>
                  <a:lnTo>
                    <a:pt x="1585" y="2986"/>
                  </a:lnTo>
                  <a:lnTo>
                    <a:pt x="1752" y="3012"/>
                  </a:lnTo>
                  <a:lnTo>
                    <a:pt x="1849" y="3012"/>
                  </a:lnTo>
                  <a:lnTo>
                    <a:pt x="1915" y="2955"/>
                  </a:lnTo>
                  <a:lnTo>
                    <a:pt x="1774" y="2986"/>
                  </a:lnTo>
                  <a:lnTo>
                    <a:pt x="1774" y="3012"/>
                  </a:lnTo>
                  <a:lnTo>
                    <a:pt x="1646" y="2986"/>
                  </a:lnTo>
                  <a:lnTo>
                    <a:pt x="1510" y="2898"/>
                  </a:lnTo>
                  <a:lnTo>
                    <a:pt x="1310" y="2787"/>
                  </a:lnTo>
                  <a:lnTo>
                    <a:pt x="1138" y="2602"/>
                  </a:lnTo>
                  <a:lnTo>
                    <a:pt x="1019" y="2430"/>
                  </a:lnTo>
                  <a:lnTo>
                    <a:pt x="896" y="2311"/>
                  </a:lnTo>
                  <a:lnTo>
                    <a:pt x="856" y="2232"/>
                  </a:lnTo>
                  <a:lnTo>
                    <a:pt x="821" y="2232"/>
                  </a:lnTo>
                  <a:lnTo>
                    <a:pt x="856" y="2311"/>
                  </a:lnTo>
                  <a:lnTo>
                    <a:pt x="821" y="2373"/>
                  </a:lnTo>
                  <a:lnTo>
                    <a:pt x="750" y="2346"/>
                  </a:lnTo>
                  <a:lnTo>
                    <a:pt x="733" y="2289"/>
                  </a:lnTo>
                  <a:lnTo>
                    <a:pt x="750" y="2232"/>
                  </a:lnTo>
                  <a:lnTo>
                    <a:pt x="768" y="2205"/>
                  </a:lnTo>
                  <a:lnTo>
                    <a:pt x="636" y="2174"/>
                  </a:lnTo>
                  <a:lnTo>
                    <a:pt x="543" y="2064"/>
                  </a:lnTo>
                  <a:lnTo>
                    <a:pt x="481" y="1941"/>
                  </a:lnTo>
                  <a:lnTo>
                    <a:pt x="423" y="1808"/>
                  </a:lnTo>
                  <a:lnTo>
                    <a:pt x="383" y="1694"/>
                  </a:lnTo>
                  <a:lnTo>
                    <a:pt x="401" y="1601"/>
                  </a:lnTo>
                  <a:lnTo>
                    <a:pt x="516" y="1659"/>
                  </a:lnTo>
                  <a:lnTo>
                    <a:pt x="596" y="1773"/>
                  </a:lnTo>
                  <a:lnTo>
                    <a:pt x="653" y="1857"/>
                  </a:lnTo>
                  <a:lnTo>
                    <a:pt x="693" y="1941"/>
                  </a:lnTo>
                  <a:lnTo>
                    <a:pt x="750" y="2033"/>
                  </a:lnTo>
                  <a:lnTo>
                    <a:pt x="733" y="1857"/>
                  </a:lnTo>
                  <a:lnTo>
                    <a:pt x="790" y="1835"/>
                  </a:lnTo>
                  <a:lnTo>
                    <a:pt x="693" y="1694"/>
                  </a:lnTo>
                  <a:lnTo>
                    <a:pt x="543" y="1601"/>
                  </a:lnTo>
                  <a:lnTo>
                    <a:pt x="454" y="1574"/>
                  </a:lnTo>
                  <a:lnTo>
                    <a:pt x="454" y="1516"/>
                  </a:lnTo>
                  <a:lnTo>
                    <a:pt x="552" y="1543"/>
                  </a:lnTo>
                  <a:lnTo>
                    <a:pt x="494" y="1375"/>
                  </a:lnTo>
                  <a:lnTo>
                    <a:pt x="481" y="1155"/>
                  </a:lnTo>
                  <a:lnTo>
                    <a:pt x="440" y="886"/>
                  </a:lnTo>
                  <a:lnTo>
                    <a:pt x="454" y="661"/>
                  </a:lnTo>
                  <a:lnTo>
                    <a:pt x="494" y="493"/>
                  </a:lnTo>
                  <a:lnTo>
                    <a:pt x="543" y="379"/>
                  </a:lnTo>
                  <a:lnTo>
                    <a:pt x="440" y="709"/>
                  </a:lnTo>
                  <a:lnTo>
                    <a:pt x="481" y="326"/>
                  </a:lnTo>
                  <a:lnTo>
                    <a:pt x="343" y="908"/>
                  </a:lnTo>
                  <a:lnTo>
                    <a:pt x="383" y="352"/>
                  </a:lnTo>
                  <a:lnTo>
                    <a:pt x="286" y="745"/>
                  </a:lnTo>
                  <a:lnTo>
                    <a:pt x="286" y="410"/>
                  </a:lnTo>
                  <a:lnTo>
                    <a:pt x="207" y="661"/>
                  </a:lnTo>
                  <a:lnTo>
                    <a:pt x="185" y="436"/>
                  </a:lnTo>
                  <a:lnTo>
                    <a:pt x="119" y="608"/>
                  </a:lnTo>
                  <a:lnTo>
                    <a:pt x="136" y="379"/>
                  </a:lnTo>
                  <a:lnTo>
                    <a:pt x="207" y="255"/>
                  </a:lnTo>
                  <a:lnTo>
                    <a:pt x="304" y="167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65480" y="2876400"/>
              <a:ext cx="240120" cy="689400"/>
            </a:xfrm>
            <a:custGeom>
              <a:avLst/>
              <a:gdLst/>
              <a:ahLst/>
              <a:rect l="0" t="0" r="r" b="b"/>
              <a:pathLst>
                <a:path w="667" h="1915">
                  <a:moveTo>
                    <a:pt x="296" y="0"/>
                  </a:moveTo>
                  <a:lnTo>
                    <a:pt x="411" y="141"/>
                  </a:lnTo>
                  <a:lnTo>
                    <a:pt x="450" y="440"/>
                  </a:lnTo>
                  <a:lnTo>
                    <a:pt x="472" y="768"/>
                  </a:lnTo>
                  <a:lnTo>
                    <a:pt x="472" y="940"/>
                  </a:lnTo>
                  <a:lnTo>
                    <a:pt x="472" y="1032"/>
                  </a:lnTo>
                  <a:lnTo>
                    <a:pt x="397" y="997"/>
                  </a:lnTo>
                  <a:lnTo>
                    <a:pt x="437" y="1178"/>
                  </a:lnTo>
                  <a:lnTo>
                    <a:pt x="526" y="1385"/>
                  </a:lnTo>
                  <a:lnTo>
                    <a:pt x="610" y="1633"/>
                  </a:lnTo>
                  <a:lnTo>
                    <a:pt x="667" y="1862"/>
                  </a:lnTo>
                  <a:lnTo>
                    <a:pt x="645" y="1915"/>
                  </a:lnTo>
                  <a:lnTo>
                    <a:pt x="588" y="1664"/>
                  </a:lnTo>
                  <a:lnTo>
                    <a:pt x="490" y="1385"/>
                  </a:lnTo>
                  <a:lnTo>
                    <a:pt x="437" y="1204"/>
                  </a:lnTo>
                  <a:lnTo>
                    <a:pt x="371" y="1032"/>
                  </a:lnTo>
                  <a:lnTo>
                    <a:pt x="309" y="860"/>
                  </a:lnTo>
                  <a:lnTo>
                    <a:pt x="265" y="684"/>
                  </a:lnTo>
                  <a:lnTo>
                    <a:pt x="195" y="525"/>
                  </a:lnTo>
                  <a:lnTo>
                    <a:pt x="88" y="383"/>
                  </a:lnTo>
                  <a:lnTo>
                    <a:pt x="0" y="268"/>
                  </a:lnTo>
                  <a:lnTo>
                    <a:pt x="208" y="467"/>
                  </a:lnTo>
                  <a:lnTo>
                    <a:pt x="154" y="299"/>
                  </a:lnTo>
                  <a:lnTo>
                    <a:pt x="265" y="499"/>
                  </a:lnTo>
                  <a:lnTo>
                    <a:pt x="208" y="268"/>
                  </a:lnTo>
                  <a:lnTo>
                    <a:pt x="309" y="467"/>
                  </a:lnTo>
                  <a:lnTo>
                    <a:pt x="283" y="229"/>
                  </a:lnTo>
                  <a:lnTo>
                    <a:pt x="371" y="440"/>
                  </a:lnTo>
                  <a:lnTo>
                    <a:pt x="336" y="141"/>
                  </a:lnTo>
                  <a:lnTo>
                    <a:pt x="247" y="83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59000" y="3224160"/>
              <a:ext cx="117720" cy="33840"/>
            </a:xfrm>
            <a:custGeom>
              <a:avLst/>
              <a:gdLst/>
              <a:ahLst/>
              <a:rect l="0" t="0" r="r" b="b"/>
              <a:pathLst>
                <a:path w="327" h="94">
                  <a:moveTo>
                    <a:pt x="327" y="36"/>
                  </a:moveTo>
                  <a:lnTo>
                    <a:pt x="225" y="0"/>
                  </a:lnTo>
                  <a:lnTo>
                    <a:pt x="127" y="0"/>
                  </a:lnTo>
                  <a:lnTo>
                    <a:pt x="0" y="36"/>
                  </a:lnTo>
                  <a:lnTo>
                    <a:pt x="39" y="67"/>
                  </a:lnTo>
                  <a:lnTo>
                    <a:pt x="105" y="94"/>
                  </a:lnTo>
                  <a:lnTo>
                    <a:pt x="145" y="67"/>
                  </a:lnTo>
                  <a:lnTo>
                    <a:pt x="168" y="36"/>
                  </a:lnTo>
                  <a:lnTo>
                    <a:pt x="327" y="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43000" y="3236760"/>
              <a:ext cx="147960" cy="54360"/>
            </a:xfrm>
            <a:custGeom>
              <a:avLst/>
              <a:gdLst/>
              <a:ahLst/>
              <a:rect l="0" t="0" r="r" b="b"/>
              <a:pathLst>
                <a:path w="411" h="151">
                  <a:moveTo>
                    <a:pt x="411" y="0"/>
                  </a:moveTo>
                  <a:lnTo>
                    <a:pt x="252" y="0"/>
                  </a:lnTo>
                  <a:lnTo>
                    <a:pt x="158" y="30"/>
                  </a:lnTo>
                  <a:lnTo>
                    <a:pt x="39" y="58"/>
                  </a:lnTo>
                  <a:lnTo>
                    <a:pt x="0" y="125"/>
                  </a:lnTo>
                  <a:lnTo>
                    <a:pt x="39" y="93"/>
                  </a:lnTo>
                  <a:lnTo>
                    <a:pt x="101" y="151"/>
                  </a:lnTo>
                  <a:lnTo>
                    <a:pt x="171" y="151"/>
                  </a:lnTo>
                  <a:lnTo>
                    <a:pt x="212" y="125"/>
                  </a:lnTo>
                  <a:lnTo>
                    <a:pt x="230" y="58"/>
                  </a:lnTo>
                  <a:lnTo>
                    <a:pt x="252" y="30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51080" y="3075120"/>
              <a:ext cx="62280" cy="30600"/>
            </a:xfrm>
            <a:custGeom>
              <a:avLst/>
              <a:gdLst/>
              <a:ahLst/>
              <a:rect l="0" t="0" r="r" b="b"/>
              <a:pathLst>
                <a:path w="173" h="85">
                  <a:moveTo>
                    <a:pt x="173" y="85"/>
                  </a:moveTo>
                  <a:lnTo>
                    <a:pt x="0" y="0"/>
                  </a:lnTo>
                  <a:lnTo>
                    <a:pt x="0" y="85"/>
                  </a:lnTo>
                  <a:lnTo>
                    <a:pt x="173" y="8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49480" y="3075120"/>
              <a:ext cx="70200" cy="47880"/>
            </a:xfrm>
            <a:custGeom>
              <a:avLst/>
              <a:gdLst/>
              <a:ahLst/>
              <a:rect l="0" t="0" r="r" b="b"/>
              <a:pathLst>
                <a:path w="195" h="133">
                  <a:moveTo>
                    <a:pt x="195" y="0"/>
                  </a:moveTo>
                  <a:lnTo>
                    <a:pt x="0" y="133"/>
                  </a:lnTo>
                  <a:lnTo>
                    <a:pt x="137" y="133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65480" y="3270240"/>
              <a:ext cx="189360" cy="319320"/>
            </a:xfrm>
            <a:custGeom>
              <a:avLst/>
              <a:gdLst/>
              <a:ahLst/>
              <a:rect l="0" t="0" r="r" b="b"/>
              <a:pathLst>
                <a:path w="526" h="887">
                  <a:moveTo>
                    <a:pt x="61" y="0"/>
                  </a:moveTo>
                  <a:lnTo>
                    <a:pt x="195" y="224"/>
                  </a:lnTo>
                  <a:lnTo>
                    <a:pt x="331" y="366"/>
                  </a:lnTo>
                  <a:lnTo>
                    <a:pt x="438" y="481"/>
                  </a:lnTo>
                  <a:lnTo>
                    <a:pt x="526" y="574"/>
                  </a:lnTo>
                  <a:lnTo>
                    <a:pt x="526" y="631"/>
                  </a:lnTo>
                  <a:lnTo>
                    <a:pt x="513" y="715"/>
                  </a:lnTo>
                  <a:lnTo>
                    <a:pt x="331" y="741"/>
                  </a:lnTo>
                  <a:lnTo>
                    <a:pt x="296" y="821"/>
                  </a:lnTo>
                  <a:lnTo>
                    <a:pt x="208" y="887"/>
                  </a:lnTo>
                  <a:lnTo>
                    <a:pt x="114" y="860"/>
                  </a:lnTo>
                  <a:lnTo>
                    <a:pt x="44" y="790"/>
                  </a:lnTo>
                  <a:lnTo>
                    <a:pt x="0" y="715"/>
                  </a:lnTo>
                  <a:lnTo>
                    <a:pt x="44" y="658"/>
                  </a:lnTo>
                  <a:lnTo>
                    <a:pt x="155" y="658"/>
                  </a:lnTo>
                  <a:lnTo>
                    <a:pt x="473" y="658"/>
                  </a:lnTo>
                  <a:lnTo>
                    <a:pt x="491" y="574"/>
                  </a:lnTo>
                  <a:lnTo>
                    <a:pt x="309" y="423"/>
                  </a:lnTo>
                  <a:lnTo>
                    <a:pt x="195" y="255"/>
                  </a:lnTo>
                  <a:lnTo>
                    <a:pt x="61" y="11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14640" y="3579840"/>
              <a:ext cx="313200" cy="224280"/>
            </a:xfrm>
            <a:custGeom>
              <a:avLst/>
              <a:gdLst/>
              <a:ahLst/>
              <a:rect l="0" t="0" r="r" b="b"/>
              <a:pathLst>
                <a:path w="870" h="623">
                  <a:moveTo>
                    <a:pt x="870" y="26"/>
                  </a:moveTo>
                  <a:lnTo>
                    <a:pt x="870" y="141"/>
                  </a:lnTo>
                  <a:lnTo>
                    <a:pt x="831" y="225"/>
                  </a:lnTo>
                  <a:lnTo>
                    <a:pt x="791" y="283"/>
                  </a:lnTo>
                  <a:lnTo>
                    <a:pt x="773" y="336"/>
                  </a:lnTo>
                  <a:lnTo>
                    <a:pt x="813" y="450"/>
                  </a:lnTo>
                  <a:lnTo>
                    <a:pt x="813" y="535"/>
                  </a:lnTo>
                  <a:lnTo>
                    <a:pt x="773" y="566"/>
                  </a:lnTo>
                  <a:lnTo>
                    <a:pt x="791" y="450"/>
                  </a:lnTo>
                  <a:lnTo>
                    <a:pt x="751" y="367"/>
                  </a:lnTo>
                  <a:lnTo>
                    <a:pt x="703" y="424"/>
                  </a:lnTo>
                  <a:lnTo>
                    <a:pt x="613" y="482"/>
                  </a:lnTo>
                  <a:lnTo>
                    <a:pt x="685" y="367"/>
                  </a:lnTo>
                  <a:lnTo>
                    <a:pt x="685" y="252"/>
                  </a:lnTo>
                  <a:lnTo>
                    <a:pt x="552" y="309"/>
                  </a:lnTo>
                  <a:lnTo>
                    <a:pt x="349" y="309"/>
                  </a:lnTo>
                  <a:lnTo>
                    <a:pt x="252" y="283"/>
                  </a:lnTo>
                  <a:lnTo>
                    <a:pt x="127" y="252"/>
                  </a:lnTo>
                  <a:lnTo>
                    <a:pt x="211" y="367"/>
                  </a:lnTo>
                  <a:lnTo>
                    <a:pt x="287" y="424"/>
                  </a:lnTo>
                  <a:lnTo>
                    <a:pt x="406" y="482"/>
                  </a:lnTo>
                  <a:lnTo>
                    <a:pt x="481" y="482"/>
                  </a:lnTo>
                  <a:lnTo>
                    <a:pt x="512" y="535"/>
                  </a:lnTo>
                  <a:lnTo>
                    <a:pt x="552" y="509"/>
                  </a:lnTo>
                  <a:lnTo>
                    <a:pt x="587" y="566"/>
                  </a:lnTo>
                  <a:lnTo>
                    <a:pt x="627" y="535"/>
                  </a:lnTo>
                  <a:lnTo>
                    <a:pt x="644" y="592"/>
                  </a:lnTo>
                  <a:lnTo>
                    <a:pt x="703" y="592"/>
                  </a:lnTo>
                  <a:lnTo>
                    <a:pt x="587" y="623"/>
                  </a:lnTo>
                  <a:lnTo>
                    <a:pt x="441" y="592"/>
                  </a:lnTo>
                  <a:lnTo>
                    <a:pt x="309" y="566"/>
                  </a:lnTo>
                  <a:lnTo>
                    <a:pt x="189" y="482"/>
                  </a:lnTo>
                  <a:lnTo>
                    <a:pt x="110" y="367"/>
                  </a:lnTo>
                  <a:lnTo>
                    <a:pt x="57" y="283"/>
                  </a:lnTo>
                  <a:lnTo>
                    <a:pt x="0" y="309"/>
                  </a:lnTo>
                  <a:lnTo>
                    <a:pt x="35" y="195"/>
                  </a:lnTo>
                  <a:lnTo>
                    <a:pt x="57" y="141"/>
                  </a:lnTo>
                  <a:lnTo>
                    <a:pt x="35" y="52"/>
                  </a:lnTo>
                  <a:lnTo>
                    <a:pt x="74" y="52"/>
                  </a:lnTo>
                  <a:lnTo>
                    <a:pt x="97" y="26"/>
                  </a:lnTo>
                  <a:lnTo>
                    <a:pt x="149" y="52"/>
                  </a:lnTo>
                  <a:lnTo>
                    <a:pt x="167" y="83"/>
                  </a:lnTo>
                  <a:lnTo>
                    <a:pt x="97" y="168"/>
                  </a:lnTo>
                  <a:lnTo>
                    <a:pt x="127" y="225"/>
                  </a:lnTo>
                  <a:lnTo>
                    <a:pt x="269" y="252"/>
                  </a:lnTo>
                  <a:lnTo>
                    <a:pt x="464" y="283"/>
                  </a:lnTo>
                  <a:lnTo>
                    <a:pt x="613" y="252"/>
                  </a:lnTo>
                  <a:lnTo>
                    <a:pt x="703" y="195"/>
                  </a:lnTo>
                  <a:lnTo>
                    <a:pt x="791" y="141"/>
                  </a:lnTo>
                  <a:lnTo>
                    <a:pt x="831" y="83"/>
                  </a:lnTo>
                  <a:lnTo>
                    <a:pt x="831" y="0"/>
                  </a:lnTo>
                  <a:lnTo>
                    <a:pt x="870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94000" y="3610080"/>
              <a:ext cx="97200" cy="281520"/>
            </a:xfrm>
            <a:custGeom>
              <a:avLst/>
              <a:gdLst/>
              <a:ahLst/>
              <a:rect l="0" t="0" r="r" b="b"/>
              <a:pathLst>
                <a:path w="270" h="782">
                  <a:moveTo>
                    <a:pt x="270" y="0"/>
                  </a:moveTo>
                  <a:lnTo>
                    <a:pt x="213" y="199"/>
                  </a:lnTo>
                  <a:lnTo>
                    <a:pt x="137" y="397"/>
                  </a:lnTo>
                  <a:lnTo>
                    <a:pt x="57" y="565"/>
                  </a:lnTo>
                  <a:lnTo>
                    <a:pt x="17" y="681"/>
                  </a:lnTo>
                  <a:lnTo>
                    <a:pt x="17" y="782"/>
                  </a:lnTo>
                  <a:lnTo>
                    <a:pt x="0" y="623"/>
                  </a:lnTo>
                  <a:lnTo>
                    <a:pt x="57" y="424"/>
                  </a:lnTo>
                  <a:lnTo>
                    <a:pt x="137" y="199"/>
                  </a:lnTo>
                  <a:lnTo>
                    <a:pt x="213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63880" y="3930480"/>
              <a:ext cx="297360" cy="520920"/>
            </a:xfrm>
            <a:custGeom>
              <a:avLst/>
              <a:gdLst/>
              <a:ahLst/>
              <a:rect l="0" t="0" r="r" b="b"/>
              <a:pathLst>
                <a:path w="826" h="1447">
                  <a:moveTo>
                    <a:pt x="428" y="0"/>
                  </a:moveTo>
                  <a:lnTo>
                    <a:pt x="428" y="145"/>
                  </a:lnTo>
                  <a:lnTo>
                    <a:pt x="583" y="114"/>
                  </a:lnTo>
                  <a:lnTo>
                    <a:pt x="826" y="357"/>
                  </a:lnTo>
                  <a:lnTo>
                    <a:pt x="561" y="145"/>
                  </a:lnTo>
                  <a:lnTo>
                    <a:pt x="450" y="171"/>
                  </a:lnTo>
                  <a:lnTo>
                    <a:pt x="561" y="326"/>
                  </a:lnTo>
                  <a:lnTo>
                    <a:pt x="676" y="612"/>
                  </a:lnTo>
                  <a:lnTo>
                    <a:pt x="769" y="935"/>
                  </a:lnTo>
                  <a:lnTo>
                    <a:pt x="826" y="1222"/>
                  </a:lnTo>
                  <a:lnTo>
                    <a:pt x="623" y="768"/>
                  </a:lnTo>
                  <a:lnTo>
                    <a:pt x="786" y="1337"/>
                  </a:lnTo>
                  <a:lnTo>
                    <a:pt x="583" y="825"/>
                  </a:lnTo>
                  <a:lnTo>
                    <a:pt x="729" y="1337"/>
                  </a:lnTo>
                  <a:lnTo>
                    <a:pt x="521" y="882"/>
                  </a:lnTo>
                  <a:lnTo>
                    <a:pt x="676" y="1394"/>
                  </a:lnTo>
                  <a:lnTo>
                    <a:pt x="490" y="993"/>
                  </a:lnTo>
                  <a:lnTo>
                    <a:pt x="623" y="1394"/>
                  </a:lnTo>
                  <a:lnTo>
                    <a:pt x="583" y="1447"/>
                  </a:lnTo>
                  <a:lnTo>
                    <a:pt x="468" y="1081"/>
                  </a:lnTo>
                  <a:lnTo>
                    <a:pt x="353" y="799"/>
                  </a:lnTo>
                  <a:lnTo>
                    <a:pt x="212" y="529"/>
                  </a:lnTo>
                  <a:lnTo>
                    <a:pt x="101" y="326"/>
                  </a:lnTo>
                  <a:lnTo>
                    <a:pt x="0" y="216"/>
                  </a:lnTo>
                  <a:lnTo>
                    <a:pt x="234" y="440"/>
                  </a:lnTo>
                  <a:lnTo>
                    <a:pt x="331" y="440"/>
                  </a:lnTo>
                  <a:lnTo>
                    <a:pt x="450" y="414"/>
                  </a:lnTo>
                  <a:lnTo>
                    <a:pt x="490" y="357"/>
                  </a:lnTo>
                  <a:lnTo>
                    <a:pt x="428" y="242"/>
                  </a:lnTo>
                  <a:lnTo>
                    <a:pt x="393" y="326"/>
                  </a:lnTo>
                  <a:lnTo>
                    <a:pt x="393" y="242"/>
                  </a:lnTo>
                  <a:lnTo>
                    <a:pt x="42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67040" y="4027320"/>
              <a:ext cx="119520" cy="190800"/>
            </a:xfrm>
            <a:custGeom>
              <a:avLst/>
              <a:gdLst/>
              <a:ahLst/>
              <a:rect l="0" t="0" r="r" b="b"/>
              <a:pathLst>
                <a:path w="332" h="530">
                  <a:moveTo>
                    <a:pt x="48" y="0"/>
                  </a:moveTo>
                  <a:lnTo>
                    <a:pt x="48" y="171"/>
                  </a:lnTo>
                  <a:lnTo>
                    <a:pt x="332" y="415"/>
                  </a:lnTo>
                  <a:lnTo>
                    <a:pt x="172" y="530"/>
                  </a:lnTo>
                  <a:lnTo>
                    <a:pt x="253" y="441"/>
                  </a:lnTo>
                  <a:lnTo>
                    <a:pt x="48" y="260"/>
                  </a:lnTo>
                  <a:lnTo>
                    <a:pt x="66" y="202"/>
                  </a:lnTo>
                  <a:lnTo>
                    <a:pt x="0" y="1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22480" y="4227480"/>
              <a:ext cx="168480" cy="163800"/>
            </a:xfrm>
            <a:custGeom>
              <a:avLst/>
              <a:gdLst/>
              <a:ahLst/>
              <a:rect l="0" t="0" r="r" b="b"/>
              <a:pathLst>
                <a:path w="468" h="455">
                  <a:moveTo>
                    <a:pt x="468" y="397"/>
                  </a:moveTo>
                  <a:lnTo>
                    <a:pt x="269" y="198"/>
                  </a:lnTo>
                  <a:lnTo>
                    <a:pt x="114" y="83"/>
                  </a:lnTo>
                  <a:lnTo>
                    <a:pt x="0" y="0"/>
                  </a:lnTo>
                  <a:lnTo>
                    <a:pt x="269" y="256"/>
                  </a:lnTo>
                  <a:lnTo>
                    <a:pt x="384" y="397"/>
                  </a:lnTo>
                  <a:lnTo>
                    <a:pt x="446" y="455"/>
                  </a:lnTo>
                  <a:lnTo>
                    <a:pt x="468" y="3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74720" y="4017960"/>
              <a:ext cx="117720" cy="122760"/>
            </a:xfrm>
            <a:custGeom>
              <a:avLst/>
              <a:gdLst/>
              <a:ahLst/>
              <a:rect l="0" t="0" r="r" b="b"/>
              <a:pathLst>
                <a:path w="327" h="341">
                  <a:moveTo>
                    <a:pt x="327" y="0"/>
                  </a:moveTo>
                  <a:lnTo>
                    <a:pt x="119" y="0"/>
                  </a:lnTo>
                  <a:lnTo>
                    <a:pt x="44" y="199"/>
                  </a:lnTo>
                  <a:lnTo>
                    <a:pt x="0" y="341"/>
                  </a:lnTo>
                  <a:lnTo>
                    <a:pt x="83" y="341"/>
                  </a:lnTo>
                  <a:lnTo>
                    <a:pt x="101" y="199"/>
                  </a:lnTo>
                  <a:lnTo>
                    <a:pt x="158" y="57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39880" y="4068720"/>
              <a:ext cx="136800" cy="128880"/>
            </a:xfrm>
            <a:custGeom>
              <a:avLst/>
              <a:gdLst/>
              <a:ahLst/>
              <a:rect l="0" t="0" r="r" b="b"/>
              <a:pathLst>
                <a:path w="380" h="358">
                  <a:moveTo>
                    <a:pt x="380" y="358"/>
                  </a:moveTo>
                  <a:lnTo>
                    <a:pt x="145" y="114"/>
                  </a:lnTo>
                  <a:lnTo>
                    <a:pt x="0" y="0"/>
                  </a:lnTo>
                  <a:lnTo>
                    <a:pt x="0" y="88"/>
                  </a:lnTo>
                  <a:lnTo>
                    <a:pt x="380" y="3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17560" y="4140360"/>
              <a:ext cx="151200" cy="97200"/>
            </a:xfrm>
            <a:custGeom>
              <a:avLst/>
              <a:gdLst/>
              <a:ahLst/>
              <a:rect l="0" t="0" r="r" b="b"/>
              <a:pathLst>
                <a:path w="420" h="270">
                  <a:moveTo>
                    <a:pt x="420" y="244"/>
                  </a:moveTo>
                  <a:lnTo>
                    <a:pt x="208" y="102"/>
                  </a:lnTo>
                  <a:lnTo>
                    <a:pt x="88" y="0"/>
                  </a:lnTo>
                  <a:lnTo>
                    <a:pt x="22" y="0"/>
                  </a:lnTo>
                  <a:lnTo>
                    <a:pt x="0" y="71"/>
                  </a:lnTo>
                  <a:lnTo>
                    <a:pt x="61" y="102"/>
                  </a:lnTo>
                  <a:lnTo>
                    <a:pt x="88" y="71"/>
                  </a:lnTo>
                  <a:lnTo>
                    <a:pt x="208" y="128"/>
                  </a:lnTo>
                  <a:lnTo>
                    <a:pt x="265" y="186"/>
                  </a:lnTo>
                  <a:lnTo>
                    <a:pt x="287" y="218"/>
                  </a:lnTo>
                  <a:lnTo>
                    <a:pt x="381" y="270"/>
                  </a:lnTo>
                  <a:lnTo>
                    <a:pt x="420" y="2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68600" y="4218120"/>
              <a:ext cx="167040" cy="316440"/>
            </a:xfrm>
            <a:custGeom>
              <a:avLst/>
              <a:gdLst/>
              <a:ahLst/>
              <a:rect l="0" t="0" r="r" b="b"/>
              <a:pathLst>
                <a:path w="464" h="879">
                  <a:moveTo>
                    <a:pt x="158" y="26"/>
                  </a:moveTo>
                  <a:lnTo>
                    <a:pt x="158" y="225"/>
                  </a:lnTo>
                  <a:lnTo>
                    <a:pt x="158" y="340"/>
                  </a:lnTo>
                  <a:lnTo>
                    <a:pt x="176" y="481"/>
                  </a:lnTo>
                  <a:lnTo>
                    <a:pt x="327" y="340"/>
                  </a:lnTo>
                  <a:lnTo>
                    <a:pt x="464" y="167"/>
                  </a:lnTo>
                  <a:lnTo>
                    <a:pt x="247" y="481"/>
                  </a:lnTo>
                  <a:lnTo>
                    <a:pt x="119" y="565"/>
                  </a:lnTo>
                  <a:lnTo>
                    <a:pt x="224" y="795"/>
                  </a:lnTo>
                  <a:lnTo>
                    <a:pt x="158" y="879"/>
                  </a:lnTo>
                  <a:lnTo>
                    <a:pt x="61" y="738"/>
                  </a:lnTo>
                  <a:lnTo>
                    <a:pt x="39" y="649"/>
                  </a:lnTo>
                  <a:lnTo>
                    <a:pt x="0" y="596"/>
                  </a:lnTo>
                  <a:lnTo>
                    <a:pt x="79" y="508"/>
                  </a:lnTo>
                  <a:lnTo>
                    <a:pt x="39" y="340"/>
                  </a:lnTo>
                  <a:lnTo>
                    <a:pt x="39" y="225"/>
                  </a:lnTo>
                  <a:lnTo>
                    <a:pt x="17" y="52"/>
                  </a:lnTo>
                  <a:lnTo>
                    <a:pt x="39" y="0"/>
                  </a:lnTo>
                  <a:lnTo>
                    <a:pt x="79" y="340"/>
                  </a:lnTo>
                  <a:lnTo>
                    <a:pt x="15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49600" y="4287960"/>
              <a:ext cx="168480" cy="329040"/>
            </a:xfrm>
            <a:custGeom>
              <a:avLst/>
              <a:gdLst/>
              <a:ahLst/>
              <a:rect l="0" t="0" r="r" b="b"/>
              <a:pathLst>
                <a:path w="468" h="914">
                  <a:moveTo>
                    <a:pt x="367" y="0"/>
                  </a:moveTo>
                  <a:lnTo>
                    <a:pt x="239" y="371"/>
                  </a:lnTo>
                  <a:lnTo>
                    <a:pt x="119" y="543"/>
                  </a:lnTo>
                  <a:lnTo>
                    <a:pt x="0" y="658"/>
                  </a:lnTo>
                  <a:lnTo>
                    <a:pt x="119" y="543"/>
                  </a:lnTo>
                  <a:lnTo>
                    <a:pt x="216" y="428"/>
                  </a:lnTo>
                  <a:lnTo>
                    <a:pt x="141" y="658"/>
                  </a:lnTo>
                  <a:lnTo>
                    <a:pt x="0" y="914"/>
                  </a:lnTo>
                  <a:lnTo>
                    <a:pt x="176" y="658"/>
                  </a:lnTo>
                  <a:lnTo>
                    <a:pt x="269" y="455"/>
                  </a:lnTo>
                  <a:lnTo>
                    <a:pt x="367" y="114"/>
                  </a:lnTo>
                  <a:lnTo>
                    <a:pt x="468" y="486"/>
                  </a:lnTo>
                  <a:lnTo>
                    <a:pt x="389" y="57"/>
                  </a:lnTo>
                  <a:lnTo>
                    <a:pt x="36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04960" y="4554360"/>
              <a:ext cx="73440" cy="198720"/>
            </a:xfrm>
            <a:custGeom>
              <a:avLst/>
              <a:gdLst/>
              <a:ahLst/>
              <a:rect l="0" t="0" r="r" b="b"/>
              <a:pathLst>
                <a:path w="204" h="552">
                  <a:moveTo>
                    <a:pt x="75" y="0"/>
                  </a:moveTo>
                  <a:lnTo>
                    <a:pt x="124" y="171"/>
                  </a:lnTo>
                  <a:lnTo>
                    <a:pt x="58" y="171"/>
                  </a:lnTo>
                  <a:lnTo>
                    <a:pt x="204" y="552"/>
                  </a:lnTo>
                  <a:lnTo>
                    <a:pt x="0" y="57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55720" y="3013200"/>
              <a:ext cx="1270440" cy="2014920"/>
            </a:xfrm>
            <a:custGeom>
              <a:avLst/>
              <a:gdLst/>
              <a:ahLst/>
              <a:rect l="0" t="0" r="r" b="b"/>
              <a:pathLst>
                <a:path w="3529" h="5597">
                  <a:moveTo>
                    <a:pt x="39" y="2320"/>
                  </a:moveTo>
                  <a:lnTo>
                    <a:pt x="313" y="1584"/>
                  </a:lnTo>
                  <a:lnTo>
                    <a:pt x="546" y="908"/>
                  </a:lnTo>
                  <a:lnTo>
                    <a:pt x="674" y="410"/>
                  </a:lnTo>
                  <a:lnTo>
                    <a:pt x="749" y="83"/>
                  </a:lnTo>
                  <a:lnTo>
                    <a:pt x="1306" y="493"/>
                  </a:lnTo>
                  <a:lnTo>
                    <a:pt x="1923" y="868"/>
                  </a:lnTo>
                  <a:lnTo>
                    <a:pt x="2718" y="1221"/>
                  </a:lnTo>
                  <a:lnTo>
                    <a:pt x="3494" y="1456"/>
                  </a:lnTo>
                  <a:lnTo>
                    <a:pt x="3079" y="2342"/>
                  </a:lnTo>
                  <a:lnTo>
                    <a:pt x="2700" y="3453"/>
                  </a:lnTo>
                  <a:lnTo>
                    <a:pt x="2302" y="4464"/>
                  </a:lnTo>
                  <a:lnTo>
                    <a:pt x="1875" y="5231"/>
                  </a:lnTo>
                  <a:lnTo>
                    <a:pt x="1698" y="5474"/>
                  </a:lnTo>
                  <a:lnTo>
                    <a:pt x="1240" y="5046"/>
                  </a:lnTo>
                  <a:lnTo>
                    <a:pt x="851" y="4830"/>
                  </a:lnTo>
                  <a:lnTo>
                    <a:pt x="692" y="4738"/>
                  </a:lnTo>
                  <a:lnTo>
                    <a:pt x="701" y="4799"/>
                  </a:lnTo>
                  <a:lnTo>
                    <a:pt x="1138" y="5112"/>
                  </a:lnTo>
                  <a:lnTo>
                    <a:pt x="1394" y="5368"/>
                  </a:lnTo>
                  <a:lnTo>
                    <a:pt x="1526" y="5597"/>
                  </a:lnTo>
                  <a:lnTo>
                    <a:pt x="1584" y="5452"/>
                  </a:lnTo>
                  <a:lnTo>
                    <a:pt x="1747" y="5531"/>
                  </a:lnTo>
                  <a:lnTo>
                    <a:pt x="1985" y="5112"/>
                  </a:lnTo>
                  <a:lnTo>
                    <a:pt x="2272" y="4610"/>
                  </a:lnTo>
                  <a:lnTo>
                    <a:pt x="2633" y="3744"/>
                  </a:lnTo>
                  <a:lnTo>
                    <a:pt x="3000" y="2787"/>
                  </a:lnTo>
                  <a:lnTo>
                    <a:pt x="3247" y="2280"/>
                  </a:lnTo>
                  <a:lnTo>
                    <a:pt x="3485" y="1985"/>
                  </a:lnTo>
                  <a:lnTo>
                    <a:pt x="3340" y="1897"/>
                  </a:lnTo>
                  <a:lnTo>
                    <a:pt x="3529" y="1434"/>
                  </a:lnTo>
                  <a:lnTo>
                    <a:pt x="2819" y="1203"/>
                  </a:lnTo>
                  <a:lnTo>
                    <a:pt x="2210" y="948"/>
                  </a:lnTo>
                  <a:lnTo>
                    <a:pt x="1628" y="639"/>
                  </a:lnTo>
                  <a:lnTo>
                    <a:pt x="1107" y="308"/>
                  </a:lnTo>
                  <a:lnTo>
                    <a:pt x="701" y="0"/>
                  </a:lnTo>
                  <a:lnTo>
                    <a:pt x="533" y="762"/>
                  </a:lnTo>
                  <a:lnTo>
                    <a:pt x="246" y="1689"/>
                  </a:lnTo>
                  <a:lnTo>
                    <a:pt x="0" y="2298"/>
                  </a:lnTo>
                  <a:lnTo>
                    <a:pt x="39" y="23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16040" y="3840120"/>
              <a:ext cx="249480" cy="322560"/>
            </a:xfrm>
            <a:custGeom>
              <a:avLst/>
              <a:gdLst/>
              <a:ahLst/>
              <a:rect l="0" t="0" r="r" b="b"/>
              <a:pathLst>
                <a:path w="693" h="896">
                  <a:moveTo>
                    <a:pt x="260" y="0"/>
                  </a:moveTo>
                  <a:lnTo>
                    <a:pt x="472" y="97"/>
                  </a:lnTo>
                  <a:lnTo>
                    <a:pt x="605" y="202"/>
                  </a:lnTo>
                  <a:lnTo>
                    <a:pt x="675" y="260"/>
                  </a:lnTo>
                  <a:lnTo>
                    <a:pt x="658" y="352"/>
                  </a:lnTo>
                  <a:lnTo>
                    <a:pt x="516" y="396"/>
                  </a:lnTo>
                  <a:lnTo>
                    <a:pt x="313" y="370"/>
                  </a:lnTo>
                  <a:lnTo>
                    <a:pt x="167" y="330"/>
                  </a:lnTo>
                  <a:lnTo>
                    <a:pt x="216" y="436"/>
                  </a:lnTo>
                  <a:lnTo>
                    <a:pt x="198" y="636"/>
                  </a:lnTo>
                  <a:lnTo>
                    <a:pt x="119" y="763"/>
                  </a:lnTo>
                  <a:lnTo>
                    <a:pt x="26" y="455"/>
                  </a:lnTo>
                  <a:lnTo>
                    <a:pt x="61" y="224"/>
                  </a:lnTo>
                  <a:lnTo>
                    <a:pt x="141" y="74"/>
                  </a:lnTo>
                  <a:lnTo>
                    <a:pt x="198" y="17"/>
                  </a:lnTo>
                  <a:lnTo>
                    <a:pt x="119" y="17"/>
                  </a:lnTo>
                  <a:lnTo>
                    <a:pt x="26" y="202"/>
                  </a:lnTo>
                  <a:lnTo>
                    <a:pt x="0" y="414"/>
                  </a:lnTo>
                  <a:lnTo>
                    <a:pt x="44" y="636"/>
                  </a:lnTo>
                  <a:lnTo>
                    <a:pt x="101" y="896"/>
                  </a:lnTo>
                  <a:lnTo>
                    <a:pt x="268" y="613"/>
                  </a:lnTo>
                  <a:lnTo>
                    <a:pt x="343" y="436"/>
                  </a:lnTo>
                  <a:lnTo>
                    <a:pt x="547" y="436"/>
                  </a:lnTo>
                  <a:lnTo>
                    <a:pt x="658" y="396"/>
                  </a:lnTo>
                  <a:lnTo>
                    <a:pt x="693" y="330"/>
                  </a:lnTo>
                  <a:lnTo>
                    <a:pt x="675" y="260"/>
                  </a:lnTo>
                  <a:lnTo>
                    <a:pt x="464" y="44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33720" y="4411800"/>
              <a:ext cx="363960" cy="116280"/>
            </a:xfrm>
            <a:custGeom>
              <a:avLst/>
              <a:gdLst/>
              <a:ahLst/>
              <a:rect l="0" t="0" r="r" b="b"/>
              <a:pathLst>
                <a:path w="1011" h="323">
                  <a:moveTo>
                    <a:pt x="26" y="195"/>
                  </a:moveTo>
                  <a:lnTo>
                    <a:pt x="437" y="70"/>
                  </a:lnTo>
                  <a:lnTo>
                    <a:pt x="662" y="26"/>
                  </a:lnTo>
                  <a:lnTo>
                    <a:pt x="870" y="44"/>
                  </a:lnTo>
                  <a:lnTo>
                    <a:pt x="967" y="137"/>
                  </a:lnTo>
                  <a:lnTo>
                    <a:pt x="892" y="221"/>
                  </a:lnTo>
                  <a:lnTo>
                    <a:pt x="795" y="239"/>
                  </a:lnTo>
                  <a:lnTo>
                    <a:pt x="750" y="323"/>
                  </a:lnTo>
                  <a:lnTo>
                    <a:pt x="923" y="279"/>
                  </a:lnTo>
                  <a:lnTo>
                    <a:pt x="967" y="195"/>
                  </a:lnTo>
                  <a:lnTo>
                    <a:pt x="1011" y="137"/>
                  </a:lnTo>
                  <a:lnTo>
                    <a:pt x="967" y="44"/>
                  </a:lnTo>
                  <a:lnTo>
                    <a:pt x="808" y="0"/>
                  </a:lnTo>
                  <a:lnTo>
                    <a:pt x="644" y="0"/>
                  </a:lnTo>
                  <a:lnTo>
                    <a:pt x="216" y="111"/>
                  </a:lnTo>
                  <a:lnTo>
                    <a:pt x="0" y="172"/>
                  </a:lnTo>
                  <a:lnTo>
                    <a:pt x="26" y="1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40000" y="4489560"/>
              <a:ext cx="68760" cy="18000"/>
            </a:xfrm>
            <a:custGeom>
              <a:avLst/>
              <a:gdLst/>
              <a:ahLst/>
              <a:rect l="0" t="0" r="r" b="b"/>
              <a:pathLst>
                <a:path w="191" h="50">
                  <a:moveTo>
                    <a:pt x="178" y="0"/>
                  </a:moveTo>
                  <a:lnTo>
                    <a:pt x="0" y="0"/>
                  </a:lnTo>
                  <a:lnTo>
                    <a:pt x="191" y="5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00280" y="4208400"/>
              <a:ext cx="222480" cy="365400"/>
            </a:xfrm>
            <a:custGeom>
              <a:avLst/>
              <a:gdLst/>
              <a:ahLst/>
              <a:rect l="0" t="0" r="r" b="b"/>
              <a:pathLst>
                <a:path w="618" h="1015">
                  <a:moveTo>
                    <a:pt x="57" y="0"/>
                  </a:moveTo>
                  <a:lnTo>
                    <a:pt x="605" y="887"/>
                  </a:lnTo>
                  <a:lnTo>
                    <a:pt x="618" y="1015"/>
                  </a:lnTo>
                  <a:lnTo>
                    <a:pt x="534" y="949"/>
                  </a:lnTo>
                  <a:lnTo>
                    <a:pt x="534" y="887"/>
                  </a:lnTo>
                  <a:lnTo>
                    <a:pt x="0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49440" y="4338720"/>
              <a:ext cx="128880" cy="89280"/>
            </a:xfrm>
            <a:custGeom>
              <a:avLst/>
              <a:gdLst/>
              <a:ahLst/>
              <a:rect l="0" t="0" r="r" b="b"/>
              <a:pathLst>
                <a:path w="358" h="248">
                  <a:moveTo>
                    <a:pt x="26" y="191"/>
                  </a:moveTo>
                  <a:lnTo>
                    <a:pt x="305" y="0"/>
                  </a:lnTo>
                  <a:lnTo>
                    <a:pt x="358" y="84"/>
                  </a:lnTo>
                  <a:lnTo>
                    <a:pt x="83" y="248"/>
                  </a:lnTo>
                  <a:lnTo>
                    <a:pt x="0" y="231"/>
                  </a:lnTo>
                  <a:lnTo>
                    <a:pt x="26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670120" y="3833640"/>
              <a:ext cx="617760" cy="466920"/>
            </a:xfrm>
            <a:custGeom>
              <a:avLst/>
              <a:gdLst/>
              <a:ahLst/>
              <a:rect l="0" t="0" r="r" b="b"/>
              <a:pathLst>
                <a:path w="1716" h="1297">
                  <a:moveTo>
                    <a:pt x="0" y="1209"/>
                  </a:moveTo>
                  <a:lnTo>
                    <a:pt x="1672" y="0"/>
                  </a:lnTo>
                  <a:lnTo>
                    <a:pt x="1716" y="39"/>
                  </a:lnTo>
                  <a:lnTo>
                    <a:pt x="1703" y="61"/>
                  </a:lnTo>
                  <a:lnTo>
                    <a:pt x="57" y="1297"/>
                  </a:lnTo>
                  <a:lnTo>
                    <a:pt x="793" y="697"/>
                  </a:lnTo>
                  <a:lnTo>
                    <a:pt x="0" y="120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35320" y="4003560"/>
              <a:ext cx="284400" cy="486000"/>
            </a:xfrm>
            <a:custGeom>
              <a:avLst/>
              <a:gdLst/>
              <a:ahLst/>
              <a:rect l="0" t="0" r="r" b="b"/>
              <a:pathLst>
                <a:path w="790" h="1350">
                  <a:moveTo>
                    <a:pt x="578" y="485"/>
                  </a:moveTo>
                  <a:lnTo>
                    <a:pt x="357" y="865"/>
                  </a:lnTo>
                  <a:lnTo>
                    <a:pt x="189" y="1076"/>
                  </a:lnTo>
                  <a:lnTo>
                    <a:pt x="790" y="1306"/>
                  </a:lnTo>
                  <a:lnTo>
                    <a:pt x="644" y="1350"/>
                  </a:lnTo>
                  <a:lnTo>
                    <a:pt x="433" y="1306"/>
                  </a:lnTo>
                  <a:lnTo>
                    <a:pt x="392" y="1178"/>
                  </a:lnTo>
                  <a:lnTo>
                    <a:pt x="145" y="1121"/>
                  </a:lnTo>
                  <a:lnTo>
                    <a:pt x="97" y="1076"/>
                  </a:lnTo>
                  <a:lnTo>
                    <a:pt x="330" y="825"/>
                  </a:lnTo>
                  <a:lnTo>
                    <a:pt x="433" y="612"/>
                  </a:lnTo>
                  <a:lnTo>
                    <a:pt x="419" y="388"/>
                  </a:lnTo>
                  <a:lnTo>
                    <a:pt x="233" y="388"/>
                  </a:lnTo>
                  <a:lnTo>
                    <a:pt x="220" y="198"/>
                  </a:lnTo>
                  <a:lnTo>
                    <a:pt x="308" y="343"/>
                  </a:lnTo>
                  <a:lnTo>
                    <a:pt x="503" y="282"/>
                  </a:lnTo>
                  <a:lnTo>
                    <a:pt x="450" y="180"/>
                  </a:lnTo>
                  <a:lnTo>
                    <a:pt x="348" y="70"/>
                  </a:lnTo>
                  <a:lnTo>
                    <a:pt x="264" y="30"/>
                  </a:lnTo>
                  <a:lnTo>
                    <a:pt x="0" y="30"/>
                  </a:lnTo>
                  <a:lnTo>
                    <a:pt x="330" y="0"/>
                  </a:lnTo>
                  <a:lnTo>
                    <a:pt x="477" y="97"/>
                  </a:lnTo>
                  <a:lnTo>
                    <a:pt x="578" y="198"/>
                  </a:lnTo>
                  <a:lnTo>
                    <a:pt x="605" y="366"/>
                  </a:lnTo>
                  <a:lnTo>
                    <a:pt x="578" y="48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86040" y="4421160"/>
              <a:ext cx="197280" cy="281520"/>
            </a:xfrm>
            <a:custGeom>
              <a:avLst/>
              <a:gdLst/>
              <a:ahLst/>
              <a:rect l="0" t="0" r="r" b="b"/>
              <a:pathLst>
                <a:path w="548" h="782">
                  <a:moveTo>
                    <a:pt x="0" y="66"/>
                  </a:moveTo>
                  <a:lnTo>
                    <a:pt x="300" y="0"/>
                  </a:lnTo>
                  <a:lnTo>
                    <a:pt x="177" y="212"/>
                  </a:lnTo>
                  <a:lnTo>
                    <a:pt x="402" y="145"/>
                  </a:lnTo>
                  <a:lnTo>
                    <a:pt x="217" y="424"/>
                  </a:lnTo>
                  <a:lnTo>
                    <a:pt x="548" y="486"/>
                  </a:lnTo>
                  <a:lnTo>
                    <a:pt x="287" y="782"/>
                  </a:lnTo>
                  <a:lnTo>
                    <a:pt x="217" y="530"/>
                  </a:lnTo>
                  <a:lnTo>
                    <a:pt x="473" y="486"/>
                  </a:lnTo>
                  <a:lnTo>
                    <a:pt x="127" y="424"/>
                  </a:lnTo>
                  <a:lnTo>
                    <a:pt x="300" y="212"/>
                  </a:lnTo>
                  <a:lnTo>
                    <a:pt x="74" y="239"/>
                  </a:lnTo>
                  <a:lnTo>
                    <a:pt x="177" y="83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133720" y="2590920"/>
            <a:ext cx="57913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ingent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ing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104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506600" y="380880"/>
            <a:ext cx="66470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ing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95280" y="1752480"/>
            <a:ext cx="71629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ntingent liability is potential liability that depends on a future event arising out of a past transaction, such as a laws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523880" y="380880"/>
            <a:ext cx="6799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ing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8580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06440" indent="-4064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wo conditions have been established by the FASB for determining when a contingency should be entered in the accounting rec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Liability must be probab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6516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y must be reasonably estimated, such as vacation pay, income taxes, and warranty li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066680" y="457200"/>
            <a:ext cx="73915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ing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90720" y="175248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ingent liabilities are accrued in the accounting rec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otential liabilities that do not meet the two conditions are reported in the notes to the financial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sses from potential liabilities are recorded when the conditions set by the FASB are m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2819520" y="762120"/>
            <a:ext cx="483084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38080" y="175248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is a contingent liability, and how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oes it differ from an estimated liability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contingent liability is a potentia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ability that depends on a future even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rising out of a past transaction. I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ffers from an estimated liability in tha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n estimated liability is not a potentia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ability but a current liability for which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mount is uncertain and must b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stim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90720" y="228600"/>
            <a:ext cx="1675080" cy="1522800"/>
            <a:chOff x="990720" y="228600"/>
            <a:chExt cx="1675080" cy="1522800"/>
          </a:xfrm>
        </p:grpSpPr>
        <p:sp>
          <p:nvSpPr>
            <p:cNvPr id="397" name=""/>
            <p:cNvSpPr/>
            <p:nvPr/>
          </p:nvSpPr>
          <p:spPr>
            <a:xfrm>
              <a:off x="995400" y="974880"/>
              <a:ext cx="405000" cy="533880"/>
            </a:xfrm>
            <a:custGeom>
              <a:avLst/>
              <a:gdLst/>
              <a:ahLst/>
              <a:rect l="0" t="0" r="r" b="b"/>
              <a:pathLst>
                <a:path w="1125" h="1483">
                  <a:moveTo>
                    <a:pt x="449" y="0"/>
                  </a:moveTo>
                  <a:lnTo>
                    <a:pt x="392" y="66"/>
                  </a:lnTo>
                  <a:lnTo>
                    <a:pt x="392" y="260"/>
                  </a:lnTo>
                  <a:lnTo>
                    <a:pt x="449" y="402"/>
                  </a:lnTo>
                  <a:lnTo>
                    <a:pt x="515" y="468"/>
                  </a:lnTo>
                  <a:lnTo>
                    <a:pt x="414" y="565"/>
                  </a:lnTo>
                  <a:lnTo>
                    <a:pt x="282" y="781"/>
                  </a:lnTo>
                  <a:lnTo>
                    <a:pt x="22" y="1122"/>
                  </a:lnTo>
                  <a:lnTo>
                    <a:pt x="0" y="1201"/>
                  </a:lnTo>
                  <a:lnTo>
                    <a:pt x="22" y="1272"/>
                  </a:lnTo>
                  <a:lnTo>
                    <a:pt x="105" y="1272"/>
                  </a:lnTo>
                  <a:lnTo>
                    <a:pt x="167" y="1192"/>
                  </a:lnTo>
                  <a:lnTo>
                    <a:pt x="282" y="997"/>
                  </a:lnTo>
                  <a:lnTo>
                    <a:pt x="352" y="918"/>
                  </a:lnTo>
                  <a:lnTo>
                    <a:pt x="392" y="1046"/>
                  </a:lnTo>
                  <a:lnTo>
                    <a:pt x="361" y="1179"/>
                  </a:lnTo>
                  <a:lnTo>
                    <a:pt x="251" y="1377"/>
                  </a:lnTo>
                  <a:lnTo>
                    <a:pt x="282" y="1421"/>
                  </a:lnTo>
                  <a:lnTo>
                    <a:pt x="352" y="1408"/>
                  </a:lnTo>
                  <a:lnTo>
                    <a:pt x="489" y="1307"/>
                  </a:lnTo>
                  <a:lnTo>
                    <a:pt x="600" y="1135"/>
                  </a:lnTo>
                  <a:lnTo>
                    <a:pt x="600" y="1435"/>
                  </a:lnTo>
                  <a:lnTo>
                    <a:pt x="733" y="1483"/>
                  </a:lnTo>
                  <a:lnTo>
                    <a:pt x="816" y="1298"/>
                  </a:lnTo>
                  <a:lnTo>
                    <a:pt x="882" y="1470"/>
                  </a:lnTo>
                  <a:lnTo>
                    <a:pt x="935" y="1421"/>
                  </a:lnTo>
                  <a:lnTo>
                    <a:pt x="962" y="1076"/>
                  </a:lnTo>
                  <a:lnTo>
                    <a:pt x="1125" y="755"/>
                  </a:lnTo>
                  <a:lnTo>
                    <a:pt x="1090" y="565"/>
                  </a:lnTo>
                  <a:lnTo>
                    <a:pt x="971" y="494"/>
                  </a:lnTo>
                  <a:lnTo>
                    <a:pt x="852" y="503"/>
                  </a:lnTo>
                  <a:lnTo>
                    <a:pt x="816" y="348"/>
                  </a:lnTo>
                  <a:lnTo>
                    <a:pt x="688" y="317"/>
                  </a:lnTo>
                  <a:lnTo>
                    <a:pt x="583" y="268"/>
                  </a:lnTo>
                  <a:lnTo>
                    <a:pt x="515" y="30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36680" y="1192320"/>
              <a:ext cx="119520" cy="257400"/>
            </a:xfrm>
            <a:custGeom>
              <a:avLst/>
              <a:gdLst/>
              <a:ahLst/>
              <a:rect l="0" t="0" r="r" b="b"/>
              <a:pathLst>
                <a:path w="332" h="715">
                  <a:moveTo>
                    <a:pt x="168" y="0"/>
                  </a:moveTo>
                  <a:lnTo>
                    <a:pt x="332" y="185"/>
                  </a:lnTo>
                  <a:lnTo>
                    <a:pt x="253" y="587"/>
                  </a:lnTo>
                  <a:lnTo>
                    <a:pt x="0" y="715"/>
                  </a:lnTo>
                  <a:lnTo>
                    <a:pt x="0" y="512"/>
                  </a:lnTo>
                  <a:lnTo>
                    <a:pt x="102" y="304"/>
                  </a:lnTo>
                  <a:lnTo>
                    <a:pt x="168" y="149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17880" y="1044720"/>
              <a:ext cx="297360" cy="232200"/>
            </a:xfrm>
            <a:custGeom>
              <a:avLst/>
              <a:gdLst/>
              <a:ahLst/>
              <a:rect l="0" t="0" r="r" b="b"/>
              <a:pathLst>
                <a:path w="826" h="645">
                  <a:moveTo>
                    <a:pt x="344" y="0"/>
                  </a:moveTo>
                  <a:lnTo>
                    <a:pt x="344" y="101"/>
                  </a:lnTo>
                  <a:lnTo>
                    <a:pt x="367" y="195"/>
                  </a:lnTo>
                  <a:lnTo>
                    <a:pt x="530" y="349"/>
                  </a:lnTo>
                  <a:lnTo>
                    <a:pt x="826" y="437"/>
                  </a:lnTo>
                  <a:lnTo>
                    <a:pt x="786" y="632"/>
                  </a:lnTo>
                  <a:lnTo>
                    <a:pt x="530" y="645"/>
                  </a:lnTo>
                  <a:lnTo>
                    <a:pt x="163" y="509"/>
                  </a:lnTo>
                  <a:lnTo>
                    <a:pt x="0" y="256"/>
                  </a:lnTo>
                  <a:lnTo>
                    <a:pt x="185" y="13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36680" y="781200"/>
              <a:ext cx="419400" cy="511560"/>
            </a:xfrm>
            <a:custGeom>
              <a:avLst/>
              <a:gdLst/>
              <a:ahLst/>
              <a:rect l="0" t="0" r="r" b="b"/>
              <a:pathLst>
                <a:path w="1165" h="1421">
                  <a:moveTo>
                    <a:pt x="105" y="605"/>
                  </a:moveTo>
                  <a:lnTo>
                    <a:pt x="0" y="702"/>
                  </a:lnTo>
                  <a:lnTo>
                    <a:pt x="26" y="935"/>
                  </a:lnTo>
                  <a:lnTo>
                    <a:pt x="185" y="1046"/>
                  </a:lnTo>
                  <a:lnTo>
                    <a:pt x="198" y="1399"/>
                  </a:lnTo>
                  <a:lnTo>
                    <a:pt x="361" y="1399"/>
                  </a:lnTo>
                  <a:lnTo>
                    <a:pt x="352" y="1100"/>
                  </a:lnTo>
                  <a:lnTo>
                    <a:pt x="471" y="1408"/>
                  </a:lnTo>
                  <a:lnTo>
                    <a:pt x="555" y="1421"/>
                  </a:lnTo>
                  <a:lnTo>
                    <a:pt x="613" y="1320"/>
                  </a:lnTo>
                  <a:lnTo>
                    <a:pt x="622" y="1126"/>
                  </a:lnTo>
                  <a:lnTo>
                    <a:pt x="803" y="1307"/>
                  </a:lnTo>
                  <a:lnTo>
                    <a:pt x="874" y="1289"/>
                  </a:lnTo>
                  <a:lnTo>
                    <a:pt x="856" y="1166"/>
                  </a:lnTo>
                  <a:lnTo>
                    <a:pt x="790" y="984"/>
                  </a:lnTo>
                  <a:lnTo>
                    <a:pt x="719" y="869"/>
                  </a:lnTo>
                  <a:lnTo>
                    <a:pt x="746" y="785"/>
                  </a:lnTo>
                  <a:lnTo>
                    <a:pt x="790" y="799"/>
                  </a:lnTo>
                  <a:lnTo>
                    <a:pt x="949" y="984"/>
                  </a:lnTo>
                  <a:lnTo>
                    <a:pt x="1129" y="1032"/>
                  </a:lnTo>
                  <a:lnTo>
                    <a:pt x="1165" y="971"/>
                  </a:lnTo>
                  <a:lnTo>
                    <a:pt x="1143" y="878"/>
                  </a:lnTo>
                  <a:lnTo>
                    <a:pt x="812" y="591"/>
                  </a:lnTo>
                  <a:lnTo>
                    <a:pt x="555" y="503"/>
                  </a:lnTo>
                  <a:lnTo>
                    <a:pt x="520" y="339"/>
                  </a:lnTo>
                  <a:lnTo>
                    <a:pt x="613" y="198"/>
                  </a:lnTo>
                  <a:lnTo>
                    <a:pt x="613" y="44"/>
                  </a:lnTo>
                  <a:lnTo>
                    <a:pt x="537" y="0"/>
                  </a:lnTo>
                  <a:lnTo>
                    <a:pt x="352" y="384"/>
                  </a:lnTo>
                  <a:lnTo>
                    <a:pt x="185" y="446"/>
                  </a:lnTo>
                  <a:lnTo>
                    <a:pt x="145" y="547"/>
                  </a:lnTo>
                  <a:lnTo>
                    <a:pt x="105" y="60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47640" y="336600"/>
              <a:ext cx="457560" cy="654480"/>
            </a:xfrm>
            <a:custGeom>
              <a:avLst/>
              <a:gdLst/>
              <a:ahLst/>
              <a:rect l="0" t="0" r="r" b="b"/>
              <a:pathLst>
                <a:path w="1271" h="1818">
                  <a:moveTo>
                    <a:pt x="317" y="251"/>
                  </a:moveTo>
                  <a:lnTo>
                    <a:pt x="220" y="600"/>
                  </a:lnTo>
                  <a:lnTo>
                    <a:pt x="13" y="671"/>
                  </a:lnTo>
                  <a:lnTo>
                    <a:pt x="70" y="781"/>
                  </a:lnTo>
                  <a:lnTo>
                    <a:pt x="0" y="852"/>
                  </a:lnTo>
                  <a:lnTo>
                    <a:pt x="0" y="975"/>
                  </a:lnTo>
                  <a:lnTo>
                    <a:pt x="101" y="1090"/>
                  </a:lnTo>
                  <a:lnTo>
                    <a:pt x="198" y="1090"/>
                  </a:lnTo>
                  <a:lnTo>
                    <a:pt x="264" y="1496"/>
                  </a:lnTo>
                  <a:lnTo>
                    <a:pt x="343" y="1668"/>
                  </a:lnTo>
                  <a:lnTo>
                    <a:pt x="608" y="1818"/>
                  </a:lnTo>
                  <a:lnTo>
                    <a:pt x="860" y="1796"/>
                  </a:lnTo>
                  <a:lnTo>
                    <a:pt x="988" y="1496"/>
                  </a:lnTo>
                  <a:lnTo>
                    <a:pt x="1015" y="1037"/>
                  </a:lnTo>
                  <a:lnTo>
                    <a:pt x="1271" y="807"/>
                  </a:lnTo>
                  <a:lnTo>
                    <a:pt x="1257" y="715"/>
                  </a:lnTo>
                  <a:lnTo>
                    <a:pt x="1231" y="671"/>
                  </a:lnTo>
                  <a:lnTo>
                    <a:pt x="1099" y="658"/>
                  </a:lnTo>
                  <a:lnTo>
                    <a:pt x="1138" y="543"/>
                  </a:lnTo>
                  <a:lnTo>
                    <a:pt x="1006" y="459"/>
                  </a:lnTo>
                  <a:lnTo>
                    <a:pt x="949" y="198"/>
                  </a:lnTo>
                  <a:lnTo>
                    <a:pt x="551" y="0"/>
                  </a:lnTo>
                  <a:lnTo>
                    <a:pt x="343" y="185"/>
                  </a:lnTo>
                  <a:lnTo>
                    <a:pt x="317" y="251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582560" y="882720"/>
              <a:ext cx="417960" cy="781560"/>
            </a:xfrm>
            <a:custGeom>
              <a:avLst/>
              <a:gdLst/>
              <a:ahLst/>
              <a:rect l="0" t="0" r="r" b="b"/>
              <a:pathLst>
                <a:path w="1161" h="2171">
                  <a:moveTo>
                    <a:pt x="238" y="114"/>
                  </a:moveTo>
                  <a:lnTo>
                    <a:pt x="406" y="216"/>
                  </a:lnTo>
                  <a:lnTo>
                    <a:pt x="486" y="335"/>
                  </a:lnTo>
                  <a:lnTo>
                    <a:pt x="945" y="0"/>
                  </a:lnTo>
                  <a:lnTo>
                    <a:pt x="1095" y="66"/>
                  </a:lnTo>
                  <a:lnTo>
                    <a:pt x="1161" y="414"/>
                  </a:lnTo>
                  <a:lnTo>
                    <a:pt x="825" y="1412"/>
                  </a:lnTo>
                  <a:lnTo>
                    <a:pt x="936" y="1964"/>
                  </a:lnTo>
                  <a:lnTo>
                    <a:pt x="494" y="2171"/>
                  </a:lnTo>
                  <a:lnTo>
                    <a:pt x="158" y="2056"/>
                  </a:lnTo>
                  <a:lnTo>
                    <a:pt x="158" y="1469"/>
                  </a:lnTo>
                  <a:lnTo>
                    <a:pt x="0" y="900"/>
                  </a:lnTo>
                  <a:lnTo>
                    <a:pt x="158" y="216"/>
                  </a:lnTo>
                  <a:lnTo>
                    <a:pt x="238" y="11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00200" y="250920"/>
              <a:ext cx="390960" cy="205200"/>
            </a:xfrm>
            <a:custGeom>
              <a:avLst/>
              <a:gdLst/>
              <a:ahLst/>
              <a:rect l="0" t="0" r="r" b="b"/>
              <a:pathLst>
                <a:path w="1086" h="570">
                  <a:moveTo>
                    <a:pt x="132" y="548"/>
                  </a:moveTo>
                  <a:lnTo>
                    <a:pt x="296" y="393"/>
                  </a:lnTo>
                  <a:lnTo>
                    <a:pt x="393" y="367"/>
                  </a:lnTo>
                  <a:lnTo>
                    <a:pt x="393" y="384"/>
                  </a:lnTo>
                  <a:lnTo>
                    <a:pt x="446" y="367"/>
                  </a:lnTo>
                  <a:lnTo>
                    <a:pt x="512" y="415"/>
                  </a:lnTo>
                  <a:lnTo>
                    <a:pt x="640" y="438"/>
                  </a:lnTo>
                  <a:lnTo>
                    <a:pt x="746" y="570"/>
                  </a:lnTo>
                  <a:lnTo>
                    <a:pt x="919" y="513"/>
                  </a:lnTo>
                  <a:lnTo>
                    <a:pt x="919" y="451"/>
                  </a:lnTo>
                  <a:lnTo>
                    <a:pt x="1086" y="384"/>
                  </a:lnTo>
                  <a:lnTo>
                    <a:pt x="1038" y="278"/>
                  </a:lnTo>
                  <a:lnTo>
                    <a:pt x="870" y="265"/>
                  </a:lnTo>
                  <a:lnTo>
                    <a:pt x="901" y="150"/>
                  </a:lnTo>
                  <a:lnTo>
                    <a:pt x="763" y="164"/>
                  </a:lnTo>
                  <a:lnTo>
                    <a:pt x="737" y="79"/>
                  </a:lnTo>
                  <a:lnTo>
                    <a:pt x="640" y="79"/>
                  </a:lnTo>
                  <a:lnTo>
                    <a:pt x="574" y="127"/>
                  </a:lnTo>
                  <a:lnTo>
                    <a:pt x="512" y="127"/>
                  </a:lnTo>
                  <a:lnTo>
                    <a:pt x="525" y="0"/>
                  </a:lnTo>
                  <a:lnTo>
                    <a:pt x="393" y="57"/>
                  </a:lnTo>
                  <a:lnTo>
                    <a:pt x="216" y="265"/>
                  </a:lnTo>
                  <a:lnTo>
                    <a:pt x="202" y="127"/>
                  </a:lnTo>
                  <a:lnTo>
                    <a:pt x="105" y="195"/>
                  </a:lnTo>
                  <a:lnTo>
                    <a:pt x="83" y="367"/>
                  </a:lnTo>
                  <a:lnTo>
                    <a:pt x="0" y="336"/>
                  </a:lnTo>
                  <a:lnTo>
                    <a:pt x="13" y="451"/>
                  </a:lnTo>
                  <a:lnTo>
                    <a:pt x="132" y="548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06400" y="1027080"/>
              <a:ext cx="124200" cy="590760"/>
            </a:xfrm>
            <a:custGeom>
              <a:avLst/>
              <a:gdLst/>
              <a:ahLst/>
              <a:rect l="0" t="0" r="r" b="b"/>
              <a:pathLst>
                <a:path w="345" h="1641">
                  <a:moveTo>
                    <a:pt x="177" y="8"/>
                  </a:moveTo>
                  <a:lnTo>
                    <a:pt x="61" y="83"/>
                  </a:lnTo>
                  <a:lnTo>
                    <a:pt x="61" y="216"/>
                  </a:lnTo>
                  <a:lnTo>
                    <a:pt x="146" y="264"/>
                  </a:lnTo>
                  <a:lnTo>
                    <a:pt x="26" y="485"/>
                  </a:lnTo>
                  <a:lnTo>
                    <a:pt x="0" y="767"/>
                  </a:lnTo>
                  <a:lnTo>
                    <a:pt x="83" y="1151"/>
                  </a:lnTo>
                  <a:lnTo>
                    <a:pt x="83" y="1310"/>
                  </a:lnTo>
                  <a:lnTo>
                    <a:pt x="39" y="1429"/>
                  </a:lnTo>
                  <a:lnTo>
                    <a:pt x="221" y="1641"/>
                  </a:lnTo>
                  <a:lnTo>
                    <a:pt x="332" y="1323"/>
                  </a:lnTo>
                  <a:lnTo>
                    <a:pt x="332" y="1103"/>
                  </a:lnTo>
                  <a:lnTo>
                    <a:pt x="247" y="896"/>
                  </a:lnTo>
                  <a:lnTo>
                    <a:pt x="203" y="617"/>
                  </a:lnTo>
                  <a:lnTo>
                    <a:pt x="293" y="348"/>
                  </a:lnTo>
                  <a:lnTo>
                    <a:pt x="262" y="242"/>
                  </a:lnTo>
                  <a:lnTo>
                    <a:pt x="345" y="185"/>
                  </a:lnTo>
                  <a:lnTo>
                    <a:pt x="332" y="114"/>
                  </a:lnTo>
                  <a:lnTo>
                    <a:pt x="230" y="0"/>
                  </a:lnTo>
                  <a:lnTo>
                    <a:pt x="177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00280" y="828720"/>
              <a:ext cx="101880" cy="54360"/>
            </a:xfrm>
            <a:custGeom>
              <a:avLst/>
              <a:gdLst/>
              <a:ahLst/>
              <a:rect l="0" t="0" r="r" b="b"/>
              <a:pathLst>
                <a:path w="283" h="151">
                  <a:moveTo>
                    <a:pt x="0" y="49"/>
                  </a:moveTo>
                  <a:lnTo>
                    <a:pt x="114" y="151"/>
                  </a:lnTo>
                  <a:lnTo>
                    <a:pt x="225" y="138"/>
                  </a:lnTo>
                  <a:lnTo>
                    <a:pt x="283" y="13"/>
                  </a:lnTo>
                  <a:lnTo>
                    <a:pt x="159" y="0"/>
                  </a:lnTo>
                  <a:lnTo>
                    <a:pt x="30" y="1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90840" y="557280"/>
              <a:ext cx="124200" cy="114840"/>
            </a:xfrm>
            <a:custGeom>
              <a:avLst/>
              <a:gdLst/>
              <a:ahLst/>
              <a:rect l="0" t="0" r="r" b="b"/>
              <a:pathLst>
                <a:path w="345" h="319">
                  <a:moveTo>
                    <a:pt x="0" y="35"/>
                  </a:moveTo>
                  <a:lnTo>
                    <a:pt x="239" y="319"/>
                  </a:lnTo>
                  <a:lnTo>
                    <a:pt x="345" y="297"/>
                  </a:lnTo>
                  <a:lnTo>
                    <a:pt x="98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11160" y="531720"/>
              <a:ext cx="108360" cy="116280"/>
            </a:xfrm>
            <a:custGeom>
              <a:avLst/>
              <a:gdLst/>
              <a:ahLst/>
              <a:rect l="0" t="0" r="r" b="b"/>
              <a:pathLst>
                <a:path w="301" h="323">
                  <a:moveTo>
                    <a:pt x="0" y="48"/>
                  </a:moveTo>
                  <a:lnTo>
                    <a:pt x="208" y="323"/>
                  </a:lnTo>
                  <a:lnTo>
                    <a:pt x="301" y="253"/>
                  </a:lnTo>
                  <a:lnTo>
                    <a:pt x="8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44760" y="382680"/>
              <a:ext cx="437040" cy="289440"/>
            </a:xfrm>
            <a:custGeom>
              <a:avLst/>
              <a:gdLst/>
              <a:ahLst/>
              <a:rect l="0" t="0" r="r" b="b"/>
              <a:pathLst>
                <a:path w="1214" h="804">
                  <a:moveTo>
                    <a:pt x="561" y="477"/>
                  </a:moveTo>
                  <a:lnTo>
                    <a:pt x="446" y="450"/>
                  </a:lnTo>
                  <a:lnTo>
                    <a:pt x="543" y="375"/>
                  </a:lnTo>
                  <a:lnTo>
                    <a:pt x="508" y="340"/>
                  </a:lnTo>
                  <a:lnTo>
                    <a:pt x="380" y="433"/>
                  </a:lnTo>
                  <a:lnTo>
                    <a:pt x="154" y="455"/>
                  </a:lnTo>
                  <a:lnTo>
                    <a:pt x="0" y="464"/>
                  </a:lnTo>
                  <a:lnTo>
                    <a:pt x="0" y="574"/>
                  </a:lnTo>
                  <a:lnTo>
                    <a:pt x="145" y="800"/>
                  </a:lnTo>
                  <a:lnTo>
                    <a:pt x="180" y="804"/>
                  </a:lnTo>
                  <a:lnTo>
                    <a:pt x="48" y="556"/>
                  </a:lnTo>
                  <a:lnTo>
                    <a:pt x="251" y="477"/>
                  </a:lnTo>
                  <a:lnTo>
                    <a:pt x="380" y="477"/>
                  </a:lnTo>
                  <a:lnTo>
                    <a:pt x="481" y="525"/>
                  </a:lnTo>
                  <a:lnTo>
                    <a:pt x="508" y="596"/>
                  </a:lnTo>
                  <a:lnTo>
                    <a:pt x="508" y="747"/>
                  </a:lnTo>
                  <a:lnTo>
                    <a:pt x="508" y="800"/>
                  </a:lnTo>
                  <a:lnTo>
                    <a:pt x="565" y="725"/>
                  </a:lnTo>
                  <a:lnTo>
                    <a:pt x="565" y="565"/>
                  </a:lnTo>
                  <a:lnTo>
                    <a:pt x="649" y="565"/>
                  </a:lnTo>
                  <a:lnTo>
                    <a:pt x="693" y="747"/>
                  </a:lnTo>
                  <a:lnTo>
                    <a:pt x="741" y="764"/>
                  </a:lnTo>
                  <a:lnTo>
                    <a:pt x="887" y="764"/>
                  </a:lnTo>
                  <a:lnTo>
                    <a:pt x="1038" y="734"/>
                  </a:lnTo>
                  <a:lnTo>
                    <a:pt x="1144" y="663"/>
                  </a:lnTo>
                  <a:lnTo>
                    <a:pt x="1157" y="503"/>
                  </a:lnTo>
                  <a:lnTo>
                    <a:pt x="1214" y="433"/>
                  </a:lnTo>
                  <a:lnTo>
                    <a:pt x="1183" y="389"/>
                  </a:lnTo>
                  <a:lnTo>
                    <a:pt x="1047" y="340"/>
                  </a:lnTo>
                  <a:lnTo>
                    <a:pt x="1025" y="180"/>
                  </a:lnTo>
                  <a:lnTo>
                    <a:pt x="900" y="180"/>
                  </a:lnTo>
                  <a:lnTo>
                    <a:pt x="746" y="0"/>
                  </a:lnTo>
                  <a:lnTo>
                    <a:pt x="882" y="198"/>
                  </a:lnTo>
                  <a:lnTo>
                    <a:pt x="928" y="198"/>
                  </a:lnTo>
                  <a:lnTo>
                    <a:pt x="954" y="340"/>
                  </a:lnTo>
                  <a:lnTo>
                    <a:pt x="781" y="389"/>
                  </a:lnTo>
                  <a:lnTo>
                    <a:pt x="658" y="349"/>
                  </a:lnTo>
                  <a:lnTo>
                    <a:pt x="644" y="389"/>
                  </a:lnTo>
                  <a:lnTo>
                    <a:pt x="706" y="433"/>
                  </a:lnTo>
                  <a:lnTo>
                    <a:pt x="706" y="468"/>
                  </a:lnTo>
                  <a:lnTo>
                    <a:pt x="852" y="411"/>
                  </a:lnTo>
                  <a:lnTo>
                    <a:pt x="976" y="397"/>
                  </a:lnTo>
                  <a:lnTo>
                    <a:pt x="1113" y="415"/>
                  </a:lnTo>
                  <a:lnTo>
                    <a:pt x="1113" y="437"/>
                  </a:lnTo>
                  <a:lnTo>
                    <a:pt x="1047" y="494"/>
                  </a:lnTo>
                  <a:lnTo>
                    <a:pt x="1025" y="565"/>
                  </a:lnTo>
                  <a:lnTo>
                    <a:pt x="1016" y="663"/>
                  </a:lnTo>
                  <a:lnTo>
                    <a:pt x="941" y="707"/>
                  </a:lnTo>
                  <a:lnTo>
                    <a:pt x="821" y="716"/>
                  </a:lnTo>
                  <a:lnTo>
                    <a:pt x="741" y="716"/>
                  </a:lnTo>
                  <a:lnTo>
                    <a:pt x="706" y="689"/>
                  </a:lnTo>
                  <a:lnTo>
                    <a:pt x="693" y="503"/>
                  </a:lnTo>
                  <a:lnTo>
                    <a:pt x="565" y="503"/>
                  </a:lnTo>
                  <a:lnTo>
                    <a:pt x="561" y="4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5600" y="716040"/>
              <a:ext cx="141480" cy="59040"/>
            </a:xfrm>
            <a:custGeom>
              <a:avLst/>
              <a:gdLst/>
              <a:ahLst/>
              <a:rect l="0" t="0" r="r" b="b"/>
              <a:pathLst>
                <a:path w="393" h="164">
                  <a:moveTo>
                    <a:pt x="0" y="0"/>
                  </a:moveTo>
                  <a:lnTo>
                    <a:pt x="66" y="74"/>
                  </a:lnTo>
                  <a:lnTo>
                    <a:pt x="230" y="74"/>
                  </a:lnTo>
                  <a:lnTo>
                    <a:pt x="305" y="22"/>
                  </a:lnTo>
                  <a:lnTo>
                    <a:pt x="393" y="22"/>
                  </a:lnTo>
                  <a:lnTo>
                    <a:pt x="375" y="48"/>
                  </a:lnTo>
                  <a:lnTo>
                    <a:pt x="375" y="74"/>
                  </a:lnTo>
                  <a:lnTo>
                    <a:pt x="221" y="164"/>
                  </a:lnTo>
                  <a:lnTo>
                    <a:pt x="127" y="164"/>
                  </a:lnTo>
                  <a:lnTo>
                    <a:pt x="83" y="133"/>
                  </a:lnTo>
                  <a:lnTo>
                    <a:pt x="30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38280" y="620640"/>
              <a:ext cx="213120" cy="313200"/>
            </a:xfrm>
            <a:custGeom>
              <a:avLst/>
              <a:gdLst/>
              <a:ahLst/>
              <a:rect l="0" t="0" r="r" b="b"/>
              <a:pathLst>
                <a:path w="592" h="870">
                  <a:moveTo>
                    <a:pt x="592" y="61"/>
                  </a:moveTo>
                  <a:lnTo>
                    <a:pt x="592" y="74"/>
                  </a:lnTo>
                  <a:lnTo>
                    <a:pt x="487" y="163"/>
                  </a:lnTo>
                  <a:lnTo>
                    <a:pt x="402" y="180"/>
                  </a:lnTo>
                  <a:lnTo>
                    <a:pt x="239" y="158"/>
                  </a:lnTo>
                  <a:lnTo>
                    <a:pt x="265" y="472"/>
                  </a:lnTo>
                  <a:lnTo>
                    <a:pt x="305" y="729"/>
                  </a:lnTo>
                  <a:lnTo>
                    <a:pt x="375" y="870"/>
                  </a:lnTo>
                  <a:lnTo>
                    <a:pt x="305" y="769"/>
                  </a:lnTo>
                  <a:lnTo>
                    <a:pt x="278" y="663"/>
                  </a:lnTo>
                  <a:lnTo>
                    <a:pt x="230" y="367"/>
                  </a:lnTo>
                  <a:lnTo>
                    <a:pt x="181" y="384"/>
                  </a:lnTo>
                  <a:lnTo>
                    <a:pt x="123" y="353"/>
                  </a:lnTo>
                  <a:lnTo>
                    <a:pt x="13" y="194"/>
                  </a:lnTo>
                  <a:lnTo>
                    <a:pt x="0" y="110"/>
                  </a:lnTo>
                  <a:lnTo>
                    <a:pt x="0" y="52"/>
                  </a:lnTo>
                  <a:lnTo>
                    <a:pt x="26" y="17"/>
                  </a:lnTo>
                  <a:lnTo>
                    <a:pt x="92" y="0"/>
                  </a:lnTo>
                  <a:lnTo>
                    <a:pt x="105" y="22"/>
                  </a:lnTo>
                  <a:lnTo>
                    <a:pt x="48" y="39"/>
                  </a:lnTo>
                  <a:lnTo>
                    <a:pt x="35" y="101"/>
                  </a:lnTo>
                  <a:lnTo>
                    <a:pt x="39" y="185"/>
                  </a:lnTo>
                  <a:lnTo>
                    <a:pt x="114" y="261"/>
                  </a:lnTo>
                  <a:lnTo>
                    <a:pt x="155" y="243"/>
                  </a:lnTo>
                  <a:lnTo>
                    <a:pt x="155" y="83"/>
                  </a:lnTo>
                  <a:lnTo>
                    <a:pt x="221" y="119"/>
                  </a:lnTo>
                  <a:lnTo>
                    <a:pt x="336" y="141"/>
                  </a:lnTo>
                  <a:lnTo>
                    <a:pt x="433" y="136"/>
                  </a:lnTo>
                  <a:lnTo>
                    <a:pt x="526" y="83"/>
                  </a:lnTo>
                  <a:lnTo>
                    <a:pt x="592" y="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95520" y="374760"/>
              <a:ext cx="63720" cy="165600"/>
            </a:xfrm>
            <a:custGeom>
              <a:avLst/>
              <a:gdLst/>
              <a:ahLst/>
              <a:rect l="0" t="0" r="r" b="b"/>
              <a:pathLst>
                <a:path w="177" h="460">
                  <a:moveTo>
                    <a:pt x="89" y="460"/>
                  </a:moveTo>
                  <a:lnTo>
                    <a:pt x="177" y="190"/>
                  </a:lnTo>
                  <a:lnTo>
                    <a:pt x="26" y="92"/>
                  </a:lnTo>
                  <a:lnTo>
                    <a:pt x="0" y="0"/>
                  </a:lnTo>
                  <a:lnTo>
                    <a:pt x="13" y="110"/>
                  </a:lnTo>
                  <a:lnTo>
                    <a:pt x="61" y="159"/>
                  </a:lnTo>
                  <a:lnTo>
                    <a:pt x="70" y="292"/>
                  </a:lnTo>
                  <a:lnTo>
                    <a:pt x="106" y="350"/>
                  </a:lnTo>
                  <a:lnTo>
                    <a:pt x="89" y="46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93720" y="228600"/>
              <a:ext cx="478080" cy="219600"/>
            </a:xfrm>
            <a:custGeom>
              <a:avLst/>
              <a:gdLst/>
              <a:ahLst/>
              <a:rect l="0" t="0" r="r" b="b"/>
              <a:pathLst>
                <a:path w="1328" h="610">
                  <a:moveTo>
                    <a:pt x="13" y="415"/>
                  </a:moveTo>
                  <a:lnTo>
                    <a:pt x="123" y="473"/>
                  </a:lnTo>
                  <a:lnTo>
                    <a:pt x="114" y="397"/>
                  </a:lnTo>
                  <a:lnTo>
                    <a:pt x="136" y="261"/>
                  </a:lnTo>
                  <a:lnTo>
                    <a:pt x="216" y="230"/>
                  </a:lnTo>
                  <a:lnTo>
                    <a:pt x="220" y="380"/>
                  </a:lnTo>
                  <a:lnTo>
                    <a:pt x="445" y="119"/>
                  </a:lnTo>
                  <a:lnTo>
                    <a:pt x="498" y="101"/>
                  </a:lnTo>
                  <a:lnTo>
                    <a:pt x="454" y="203"/>
                  </a:lnTo>
                  <a:lnTo>
                    <a:pt x="595" y="252"/>
                  </a:lnTo>
                  <a:lnTo>
                    <a:pt x="697" y="149"/>
                  </a:lnTo>
                  <a:lnTo>
                    <a:pt x="755" y="181"/>
                  </a:lnTo>
                  <a:lnTo>
                    <a:pt x="706" y="269"/>
                  </a:lnTo>
                  <a:lnTo>
                    <a:pt x="772" y="221"/>
                  </a:lnTo>
                  <a:lnTo>
                    <a:pt x="874" y="261"/>
                  </a:lnTo>
                  <a:lnTo>
                    <a:pt x="790" y="331"/>
                  </a:lnTo>
                  <a:lnTo>
                    <a:pt x="1068" y="380"/>
                  </a:lnTo>
                  <a:lnTo>
                    <a:pt x="882" y="428"/>
                  </a:lnTo>
                  <a:lnTo>
                    <a:pt x="1112" y="460"/>
                  </a:lnTo>
                  <a:lnTo>
                    <a:pt x="838" y="517"/>
                  </a:lnTo>
                  <a:lnTo>
                    <a:pt x="896" y="566"/>
                  </a:lnTo>
                  <a:lnTo>
                    <a:pt x="821" y="610"/>
                  </a:lnTo>
                  <a:lnTo>
                    <a:pt x="957" y="610"/>
                  </a:lnTo>
                  <a:lnTo>
                    <a:pt x="944" y="575"/>
                  </a:lnTo>
                  <a:lnTo>
                    <a:pt x="1090" y="606"/>
                  </a:lnTo>
                  <a:lnTo>
                    <a:pt x="1068" y="513"/>
                  </a:lnTo>
                  <a:lnTo>
                    <a:pt x="1200" y="469"/>
                  </a:lnTo>
                  <a:lnTo>
                    <a:pt x="1103" y="419"/>
                  </a:lnTo>
                  <a:lnTo>
                    <a:pt x="1328" y="406"/>
                  </a:lnTo>
                  <a:lnTo>
                    <a:pt x="1134" y="305"/>
                  </a:lnTo>
                  <a:lnTo>
                    <a:pt x="913" y="287"/>
                  </a:lnTo>
                  <a:lnTo>
                    <a:pt x="1090" y="186"/>
                  </a:lnTo>
                  <a:lnTo>
                    <a:pt x="772" y="186"/>
                  </a:lnTo>
                  <a:lnTo>
                    <a:pt x="922" y="92"/>
                  </a:lnTo>
                  <a:lnTo>
                    <a:pt x="693" y="119"/>
                  </a:lnTo>
                  <a:lnTo>
                    <a:pt x="586" y="164"/>
                  </a:lnTo>
                  <a:lnTo>
                    <a:pt x="680" y="0"/>
                  </a:lnTo>
                  <a:lnTo>
                    <a:pt x="401" y="92"/>
                  </a:lnTo>
                  <a:lnTo>
                    <a:pt x="246" y="292"/>
                  </a:lnTo>
                  <a:lnTo>
                    <a:pt x="220" y="181"/>
                  </a:lnTo>
                  <a:lnTo>
                    <a:pt x="101" y="261"/>
                  </a:lnTo>
                  <a:lnTo>
                    <a:pt x="83" y="406"/>
                  </a:lnTo>
                  <a:lnTo>
                    <a:pt x="0" y="380"/>
                  </a:lnTo>
                  <a:lnTo>
                    <a:pt x="26" y="513"/>
                  </a:lnTo>
                  <a:lnTo>
                    <a:pt x="13" y="41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698480" y="344520"/>
              <a:ext cx="133560" cy="65520"/>
            </a:xfrm>
            <a:custGeom>
              <a:avLst/>
              <a:gdLst/>
              <a:ahLst/>
              <a:rect l="0" t="0" r="r" b="b"/>
              <a:pathLst>
                <a:path w="371" h="182">
                  <a:moveTo>
                    <a:pt x="0" y="182"/>
                  </a:moveTo>
                  <a:lnTo>
                    <a:pt x="141" y="0"/>
                  </a:lnTo>
                  <a:lnTo>
                    <a:pt x="141" y="120"/>
                  </a:lnTo>
                  <a:lnTo>
                    <a:pt x="190" y="71"/>
                  </a:lnTo>
                  <a:lnTo>
                    <a:pt x="234" y="138"/>
                  </a:lnTo>
                  <a:lnTo>
                    <a:pt x="371" y="173"/>
                  </a:lnTo>
                  <a:lnTo>
                    <a:pt x="221" y="151"/>
                  </a:lnTo>
                  <a:lnTo>
                    <a:pt x="176" y="102"/>
                  </a:lnTo>
                  <a:lnTo>
                    <a:pt x="119" y="151"/>
                  </a:lnTo>
                  <a:lnTo>
                    <a:pt x="119" y="93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84440" y="792000"/>
              <a:ext cx="163800" cy="98640"/>
            </a:xfrm>
            <a:custGeom>
              <a:avLst/>
              <a:gdLst/>
              <a:ahLst/>
              <a:rect l="0" t="0" r="r" b="b"/>
              <a:pathLst>
                <a:path w="455" h="274">
                  <a:moveTo>
                    <a:pt x="83" y="97"/>
                  </a:moveTo>
                  <a:lnTo>
                    <a:pt x="274" y="83"/>
                  </a:lnTo>
                  <a:lnTo>
                    <a:pt x="362" y="101"/>
                  </a:lnTo>
                  <a:lnTo>
                    <a:pt x="411" y="66"/>
                  </a:lnTo>
                  <a:lnTo>
                    <a:pt x="455" y="155"/>
                  </a:lnTo>
                  <a:lnTo>
                    <a:pt x="424" y="168"/>
                  </a:lnTo>
                  <a:lnTo>
                    <a:pt x="384" y="136"/>
                  </a:lnTo>
                  <a:lnTo>
                    <a:pt x="327" y="199"/>
                  </a:lnTo>
                  <a:lnTo>
                    <a:pt x="211" y="274"/>
                  </a:lnTo>
                  <a:lnTo>
                    <a:pt x="163" y="274"/>
                  </a:lnTo>
                  <a:lnTo>
                    <a:pt x="83" y="234"/>
                  </a:lnTo>
                  <a:lnTo>
                    <a:pt x="171" y="269"/>
                  </a:lnTo>
                  <a:lnTo>
                    <a:pt x="198" y="269"/>
                  </a:lnTo>
                  <a:lnTo>
                    <a:pt x="274" y="217"/>
                  </a:lnTo>
                  <a:lnTo>
                    <a:pt x="322" y="123"/>
                  </a:lnTo>
                  <a:lnTo>
                    <a:pt x="247" y="114"/>
                  </a:lnTo>
                  <a:lnTo>
                    <a:pt x="198" y="101"/>
                  </a:lnTo>
                  <a:lnTo>
                    <a:pt x="74" y="119"/>
                  </a:lnTo>
                  <a:lnTo>
                    <a:pt x="74" y="195"/>
                  </a:lnTo>
                  <a:lnTo>
                    <a:pt x="35" y="146"/>
                  </a:lnTo>
                  <a:lnTo>
                    <a:pt x="0" y="208"/>
                  </a:lnTo>
                  <a:lnTo>
                    <a:pt x="4" y="70"/>
                  </a:lnTo>
                  <a:lnTo>
                    <a:pt x="48" y="0"/>
                  </a:lnTo>
                  <a:lnTo>
                    <a:pt x="83" y="70"/>
                  </a:lnTo>
                  <a:lnTo>
                    <a:pt x="83" y="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63560" y="579600"/>
              <a:ext cx="348120" cy="452880"/>
            </a:xfrm>
            <a:custGeom>
              <a:avLst/>
              <a:gdLst/>
              <a:ahLst/>
              <a:rect l="0" t="0" r="r" b="b"/>
              <a:pathLst>
                <a:path w="967" h="1258">
                  <a:moveTo>
                    <a:pt x="813" y="0"/>
                  </a:moveTo>
                  <a:lnTo>
                    <a:pt x="910" y="0"/>
                  </a:lnTo>
                  <a:lnTo>
                    <a:pt x="967" y="61"/>
                  </a:lnTo>
                  <a:lnTo>
                    <a:pt x="967" y="132"/>
                  </a:lnTo>
                  <a:lnTo>
                    <a:pt x="888" y="327"/>
                  </a:lnTo>
                  <a:lnTo>
                    <a:pt x="808" y="424"/>
                  </a:lnTo>
                  <a:lnTo>
                    <a:pt x="729" y="433"/>
                  </a:lnTo>
                  <a:lnTo>
                    <a:pt x="702" y="433"/>
                  </a:lnTo>
                  <a:lnTo>
                    <a:pt x="702" y="684"/>
                  </a:lnTo>
                  <a:lnTo>
                    <a:pt x="742" y="865"/>
                  </a:lnTo>
                  <a:lnTo>
                    <a:pt x="742" y="1011"/>
                  </a:lnTo>
                  <a:lnTo>
                    <a:pt x="596" y="1157"/>
                  </a:lnTo>
                  <a:lnTo>
                    <a:pt x="393" y="1258"/>
                  </a:lnTo>
                  <a:lnTo>
                    <a:pt x="265" y="1258"/>
                  </a:lnTo>
                  <a:lnTo>
                    <a:pt x="202" y="1232"/>
                  </a:lnTo>
                  <a:lnTo>
                    <a:pt x="114" y="1055"/>
                  </a:lnTo>
                  <a:lnTo>
                    <a:pt x="30" y="998"/>
                  </a:lnTo>
                  <a:lnTo>
                    <a:pt x="0" y="950"/>
                  </a:lnTo>
                  <a:lnTo>
                    <a:pt x="105" y="1011"/>
                  </a:lnTo>
                  <a:lnTo>
                    <a:pt x="185" y="1073"/>
                  </a:lnTo>
                  <a:lnTo>
                    <a:pt x="340" y="1082"/>
                  </a:lnTo>
                  <a:lnTo>
                    <a:pt x="481" y="1020"/>
                  </a:lnTo>
                  <a:lnTo>
                    <a:pt x="556" y="950"/>
                  </a:lnTo>
                  <a:lnTo>
                    <a:pt x="636" y="821"/>
                  </a:lnTo>
                  <a:lnTo>
                    <a:pt x="649" y="666"/>
                  </a:lnTo>
                  <a:lnTo>
                    <a:pt x="675" y="185"/>
                  </a:lnTo>
                  <a:lnTo>
                    <a:pt x="710" y="255"/>
                  </a:lnTo>
                  <a:lnTo>
                    <a:pt x="804" y="167"/>
                  </a:lnTo>
                  <a:lnTo>
                    <a:pt x="905" y="132"/>
                  </a:lnTo>
                  <a:lnTo>
                    <a:pt x="932" y="79"/>
                  </a:lnTo>
                  <a:lnTo>
                    <a:pt x="919" y="26"/>
                  </a:lnTo>
                  <a:lnTo>
                    <a:pt x="875" y="8"/>
                  </a:lnTo>
                  <a:lnTo>
                    <a:pt x="8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123920" y="969840"/>
              <a:ext cx="281520" cy="419400"/>
            </a:xfrm>
            <a:custGeom>
              <a:avLst/>
              <a:gdLst/>
              <a:ahLst/>
              <a:rect l="0" t="0" r="r" b="b"/>
              <a:pathLst>
                <a:path w="782" h="1165">
                  <a:moveTo>
                    <a:pt x="101" y="0"/>
                  </a:moveTo>
                  <a:lnTo>
                    <a:pt x="185" y="52"/>
                  </a:lnTo>
                  <a:lnTo>
                    <a:pt x="256" y="291"/>
                  </a:lnTo>
                  <a:lnTo>
                    <a:pt x="459" y="343"/>
                  </a:lnTo>
                  <a:lnTo>
                    <a:pt x="516" y="405"/>
                  </a:lnTo>
                  <a:lnTo>
                    <a:pt x="525" y="493"/>
                  </a:lnTo>
                  <a:lnTo>
                    <a:pt x="623" y="480"/>
                  </a:lnTo>
                  <a:lnTo>
                    <a:pt x="747" y="555"/>
                  </a:lnTo>
                  <a:lnTo>
                    <a:pt x="782" y="653"/>
                  </a:lnTo>
                  <a:lnTo>
                    <a:pt x="782" y="816"/>
                  </a:lnTo>
                  <a:lnTo>
                    <a:pt x="623" y="1068"/>
                  </a:lnTo>
                  <a:lnTo>
                    <a:pt x="565" y="1165"/>
                  </a:lnTo>
                  <a:lnTo>
                    <a:pt x="601" y="1028"/>
                  </a:lnTo>
                  <a:lnTo>
                    <a:pt x="565" y="979"/>
                  </a:lnTo>
                  <a:lnTo>
                    <a:pt x="468" y="896"/>
                  </a:lnTo>
                  <a:lnTo>
                    <a:pt x="318" y="790"/>
                  </a:lnTo>
                  <a:lnTo>
                    <a:pt x="508" y="852"/>
                  </a:lnTo>
                  <a:lnTo>
                    <a:pt x="614" y="927"/>
                  </a:lnTo>
                  <a:lnTo>
                    <a:pt x="667" y="918"/>
                  </a:lnTo>
                  <a:lnTo>
                    <a:pt x="703" y="874"/>
                  </a:lnTo>
                  <a:lnTo>
                    <a:pt x="747" y="755"/>
                  </a:lnTo>
                  <a:lnTo>
                    <a:pt x="734" y="640"/>
                  </a:lnTo>
                  <a:lnTo>
                    <a:pt x="676" y="577"/>
                  </a:lnTo>
                  <a:lnTo>
                    <a:pt x="578" y="555"/>
                  </a:lnTo>
                  <a:lnTo>
                    <a:pt x="468" y="555"/>
                  </a:lnTo>
                  <a:lnTo>
                    <a:pt x="437" y="379"/>
                  </a:lnTo>
                  <a:lnTo>
                    <a:pt x="265" y="326"/>
                  </a:lnTo>
                  <a:lnTo>
                    <a:pt x="265" y="374"/>
                  </a:lnTo>
                  <a:lnTo>
                    <a:pt x="185" y="251"/>
                  </a:lnTo>
                  <a:lnTo>
                    <a:pt x="141" y="52"/>
                  </a:lnTo>
                  <a:lnTo>
                    <a:pt x="74" y="30"/>
                  </a:lnTo>
                  <a:lnTo>
                    <a:pt x="35" y="92"/>
                  </a:lnTo>
                  <a:lnTo>
                    <a:pt x="35" y="224"/>
                  </a:lnTo>
                  <a:lnTo>
                    <a:pt x="70" y="374"/>
                  </a:lnTo>
                  <a:lnTo>
                    <a:pt x="163" y="493"/>
                  </a:lnTo>
                  <a:lnTo>
                    <a:pt x="61" y="418"/>
                  </a:lnTo>
                  <a:lnTo>
                    <a:pt x="8" y="291"/>
                  </a:lnTo>
                  <a:lnTo>
                    <a:pt x="0" y="123"/>
                  </a:lnTo>
                  <a:lnTo>
                    <a:pt x="35" y="3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90720" y="1154160"/>
              <a:ext cx="184680" cy="335160"/>
            </a:xfrm>
            <a:custGeom>
              <a:avLst/>
              <a:gdLst/>
              <a:ahLst/>
              <a:rect l="0" t="0" r="r" b="b"/>
              <a:pathLst>
                <a:path w="513" h="931">
                  <a:moveTo>
                    <a:pt x="513" y="0"/>
                  </a:moveTo>
                  <a:lnTo>
                    <a:pt x="407" y="61"/>
                  </a:lnTo>
                  <a:lnTo>
                    <a:pt x="283" y="291"/>
                  </a:lnTo>
                  <a:lnTo>
                    <a:pt x="164" y="436"/>
                  </a:lnTo>
                  <a:lnTo>
                    <a:pt x="13" y="609"/>
                  </a:lnTo>
                  <a:lnTo>
                    <a:pt x="0" y="702"/>
                  </a:lnTo>
                  <a:lnTo>
                    <a:pt x="26" y="785"/>
                  </a:lnTo>
                  <a:lnTo>
                    <a:pt x="101" y="785"/>
                  </a:lnTo>
                  <a:lnTo>
                    <a:pt x="199" y="702"/>
                  </a:lnTo>
                  <a:lnTo>
                    <a:pt x="274" y="534"/>
                  </a:lnTo>
                  <a:lnTo>
                    <a:pt x="375" y="436"/>
                  </a:lnTo>
                  <a:lnTo>
                    <a:pt x="375" y="569"/>
                  </a:lnTo>
                  <a:lnTo>
                    <a:pt x="358" y="693"/>
                  </a:lnTo>
                  <a:lnTo>
                    <a:pt x="252" y="856"/>
                  </a:lnTo>
                  <a:lnTo>
                    <a:pt x="252" y="909"/>
                  </a:lnTo>
                  <a:lnTo>
                    <a:pt x="358" y="931"/>
                  </a:lnTo>
                  <a:lnTo>
                    <a:pt x="283" y="887"/>
                  </a:lnTo>
                  <a:lnTo>
                    <a:pt x="296" y="856"/>
                  </a:lnTo>
                  <a:lnTo>
                    <a:pt x="371" y="737"/>
                  </a:lnTo>
                  <a:lnTo>
                    <a:pt x="425" y="516"/>
                  </a:lnTo>
                  <a:lnTo>
                    <a:pt x="390" y="392"/>
                  </a:lnTo>
                  <a:lnTo>
                    <a:pt x="305" y="463"/>
                  </a:lnTo>
                  <a:lnTo>
                    <a:pt x="119" y="741"/>
                  </a:lnTo>
                  <a:lnTo>
                    <a:pt x="70" y="755"/>
                  </a:lnTo>
                  <a:lnTo>
                    <a:pt x="26" y="719"/>
                  </a:lnTo>
                  <a:lnTo>
                    <a:pt x="26" y="640"/>
                  </a:lnTo>
                  <a:lnTo>
                    <a:pt x="101" y="525"/>
                  </a:lnTo>
                  <a:lnTo>
                    <a:pt x="305" y="299"/>
                  </a:lnTo>
                  <a:lnTo>
                    <a:pt x="425" y="83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27160" y="1344600"/>
              <a:ext cx="116280" cy="159120"/>
            </a:xfrm>
            <a:custGeom>
              <a:avLst/>
              <a:gdLst/>
              <a:ahLst/>
              <a:rect l="0" t="0" r="r" b="b"/>
              <a:pathLst>
                <a:path w="323" h="442">
                  <a:moveTo>
                    <a:pt x="0" y="390"/>
                  </a:moveTo>
                  <a:lnTo>
                    <a:pt x="106" y="278"/>
                  </a:lnTo>
                  <a:lnTo>
                    <a:pt x="128" y="168"/>
                  </a:lnTo>
                  <a:lnTo>
                    <a:pt x="248" y="0"/>
                  </a:lnTo>
                  <a:lnTo>
                    <a:pt x="279" y="111"/>
                  </a:lnTo>
                  <a:lnTo>
                    <a:pt x="262" y="403"/>
                  </a:lnTo>
                  <a:lnTo>
                    <a:pt x="323" y="442"/>
                  </a:lnTo>
                  <a:lnTo>
                    <a:pt x="230" y="412"/>
                  </a:lnTo>
                  <a:lnTo>
                    <a:pt x="186" y="243"/>
                  </a:lnTo>
                  <a:lnTo>
                    <a:pt x="106" y="327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70080" y="1351080"/>
              <a:ext cx="74880" cy="144720"/>
            </a:xfrm>
            <a:custGeom>
              <a:avLst/>
              <a:gdLst/>
              <a:ahLst/>
              <a:rect l="0" t="0" r="r" b="b"/>
              <a:pathLst>
                <a:path w="208" h="402">
                  <a:moveTo>
                    <a:pt x="0" y="305"/>
                  </a:moveTo>
                  <a:lnTo>
                    <a:pt x="8" y="154"/>
                  </a:lnTo>
                  <a:lnTo>
                    <a:pt x="52" y="66"/>
                  </a:lnTo>
                  <a:lnTo>
                    <a:pt x="101" y="380"/>
                  </a:lnTo>
                  <a:lnTo>
                    <a:pt x="164" y="380"/>
                  </a:lnTo>
                  <a:lnTo>
                    <a:pt x="190" y="44"/>
                  </a:lnTo>
                  <a:lnTo>
                    <a:pt x="208" y="0"/>
                  </a:lnTo>
                  <a:lnTo>
                    <a:pt x="190" y="261"/>
                  </a:lnTo>
                  <a:lnTo>
                    <a:pt x="164" y="402"/>
                  </a:lnTo>
                  <a:lnTo>
                    <a:pt x="79" y="402"/>
                  </a:lnTo>
                  <a:lnTo>
                    <a:pt x="48" y="123"/>
                  </a:lnTo>
                  <a:lnTo>
                    <a:pt x="26" y="16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235240" y="784080"/>
              <a:ext cx="182880" cy="386280"/>
            </a:xfrm>
            <a:custGeom>
              <a:avLst/>
              <a:gdLst/>
              <a:ahLst/>
              <a:rect l="0" t="0" r="r" b="b"/>
              <a:pathLst>
                <a:path w="508" h="1073">
                  <a:moveTo>
                    <a:pt x="132" y="583"/>
                  </a:moveTo>
                  <a:lnTo>
                    <a:pt x="167" y="415"/>
                  </a:lnTo>
                  <a:lnTo>
                    <a:pt x="344" y="371"/>
                  </a:lnTo>
                  <a:lnTo>
                    <a:pt x="508" y="0"/>
                  </a:lnTo>
                  <a:lnTo>
                    <a:pt x="508" y="105"/>
                  </a:lnTo>
                  <a:lnTo>
                    <a:pt x="367" y="393"/>
                  </a:lnTo>
                  <a:lnTo>
                    <a:pt x="185" y="446"/>
                  </a:lnTo>
                  <a:lnTo>
                    <a:pt x="163" y="583"/>
                  </a:lnTo>
                  <a:lnTo>
                    <a:pt x="224" y="583"/>
                  </a:lnTo>
                  <a:lnTo>
                    <a:pt x="70" y="640"/>
                  </a:lnTo>
                  <a:lnTo>
                    <a:pt x="26" y="755"/>
                  </a:lnTo>
                  <a:lnTo>
                    <a:pt x="35" y="901"/>
                  </a:lnTo>
                  <a:lnTo>
                    <a:pt x="207" y="1073"/>
                  </a:lnTo>
                  <a:lnTo>
                    <a:pt x="26" y="923"/>
                  </a:lnTo>
                  <a:lnTo>
                    <a:pt x="0" y="799"/>
                  </a:lnTo>
                  <a:lnTo>
                    <a:pt x="13" y="675"/>
                  </a:lnTo>
                  <a:lnTo>
                    <a:pt x="74" y="587"/>
                  </a:lnTo>
                  <a:lnTo>
                    <a:pt x="132" y="5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59080" y="784080"/>
              <a:ext cx="306720" cy="373320"/>
            </a:xfrm>
            <a:custGeom>
              <a:avLst/>
              <a:gdLst/>
              <a:ahLst/>
              <a:rect l="0" t="0" r="r" b="b"/>
              <a:pathLst>
                <a:path w="852" h="1037">
                  <a:moveTo>
                    <a:pt x="233" y="0"/>
                  </a:moveTo>
                  <a:lnTo>
                    <a:pt x="286" y="30"/>
                  </a:lnTo>
                  <a:lnTo>
                    <a:pt x="304" y="119"/>
                  </a:lnTo>
                  <a:lnTo>
                    <a:pt x="304" y="202"/>
                  </a:lnTo>
                  <a:lnTo>
                    <a:pt x="207" y="352"/>
                  </a:lnTo>
                  <a:lnTo>
                    <a:pt x="224" y="463"/>
                  </a:lnTo>
                  <a:lnTo>
                    <a:pt x="512" y="583"/>
                  </a:lnTo>
                  <a:lnTo>
                    <a:pt x="847" y="909"/>
                  </a:lnTo>
                  <a:lnTo>
                    <a:pt x="852" y="997"/>
                  </a:lnTo>
                  <a:lnTo>
                    <a:pt x="834" y="1037"/>
                  </a:lnTo>
                  <a:lnTo>
                    <a:pt x="710" y="1037"/>
                  </a:lnTo>
                  <a:lnTo>
                    <a:pt x="596" y="979"/>
                  </a:lnTo>
                  <a:lnTo>
                    <a:pt x="503" y="869"/>
                  </a:lnTo>
                  <a:lnTo>
                    <a:pt x="455" y="807"/>
                  </a:lnTo>
                  <a:lnTo>
                    <a:pt x="396" y="794"/>
                  </a:lnTo>
                  <a:lnTo>
                    <a:pt x="468" y="794"/>
                  </a:lnTo>
                  <a:lnTo>
                    <a:pt x="609" y="966"/>
                  </a:lnTo>
                  <a:lnTo>
                    <a:pt x="785" y="1015"/>
                  </a:lnTo>
                  <a:lnTo>
                    <a:pt x="825" y="966"/>
                  </a:lnTo>
                  <a:lnTo>
                    <a:pt x="807" y="887"/>
                  </a:lnTo>
                  <a:lnTo>
                    <a:pt x="494" y="653"/>
                  </a:lnTo>
                  <a:lnTo>
                    <a:pt x="450" y="583"/>
                  </a:lnTo>
                  <a:lnTo>
                    <a:pt x="207" y="525"/>
                  </a:lnTo>
                  <a:lnTo>
                    <a:pt x="167" y="583"/>
                  </a:lnTo>
                  <a:lnTo>
                    <a:pt x="0" y="684"/>
                  </a:lnTo>
                  <a:lnTo>
                    <a:pt x="158" y="569"/>
                  </a:lnTo>
                  <a:lnTo>
                    <a:pt x="167" y="498"/>
                  </a:lnTo>
                  <a:lnTo>
                    <a:pt x="167" y="330"/>
                  </a:lnTo>
                  <a:lnTo>
                    <a:pt x="273" y="202"/>
                  </a:lnTo>
                  <a:lnTo>
                    <a:pt x="273" y="4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03640" y="1077840"/>
              <a:ext cx="260640" cy="221040"/>
            </a:xfrm>
            <a:custGeom>
              <a:avLst/>
              <a:gdLst/>
              <a:ahLst/>
              <a:rect l="0" t="0" r="r" b="b"/>
              <a:pathLst>
                <a:path w="724" h="614">
                  <a:moveTo>
                    <a:pt x="547" y="0"/>
                  </a:moveTo>
                  <a:lnTo>
                    <a:pt x="525" y="52"/>
                  </a:lnTo>
                  <a:lnTo>
                    <a:pt x="631" y="256"/>
                  </a:lnTo>
                  <a:lnTo>
                    <a:pt x="688" y="465"/>
                  </a:lnTo>
                  <a:lnTo>
                    <a:pt x="622" y="465"/>
                  </a:lnTo>
                  <a:lnTo>
                    <a:pt x="512" y="371"/>
                  </a:lnTo>
                  <a:lnTo>
                    <a:pt x="415" y="181"/>
                  </a:lnTo>
                  <a:lnTo>
                    <a:pt x="339" y="149"/>
                  </a:lnTo>
                  <a:lnTo>
                    <a:pt x="357" y="256"/>
                  </a:lnTo>
                  <a:lnTo>
                    <a:pt x="424" y="331"/>
                  </a:lnTo>
                  <a:lnTo>
                    <a:pt x="424" y="478"/>
                  </a:lnTo>
                  <a:lnTo>
                    <a:pt x="371" y="588"/>
                  </a:lnTo>
                  <a:lnTo>
                    <a:pt x="304" y="544"/>
                  </a:lnTo>
                  <a:lnTo>
                    <a:pt x="220" y="371"/>
                  </a:lnTo>
                  <a:lnTo>
                    <a:pt x="202" y="256"/>
                  </a:lnTo>
                  <a:lnTo>
                    <a:pt x="158" y="225"/>
                  </a:lnTo>
                  <a:lnTo>
                    <a:pt x="145" y="517"/>
                  </a:lnTo>
                  <a:lnTo>
                    <a:pt x="74" y="562"/>
                  </a:lnTo>
                  <a:lnTo>
                    <a:pt x="22" y="517"/>
                  </a:lnTo>
                  <a:lnTo>
                    <a:pt x="8" y="265"/>
                  </a:lnTo>
                  <a:lnTo>
                    <a:pt x="0" y="513"/>
                  </a:lnTo>
                  <a:lnTo>
                    <a:pt x="48" y="606"/>
                  </a:lnTo>
                  <a:lnTo>
                    <a:pt x="145" y="606"/>
                  </a:lnTo>
                  <a:lnTo>
                    <a:pt x="171" y="535"/>
                  </a:lnTo>
                  <a:lnTo>
                    <a:pt x="194" y="300"/>
                  </a:lnTo>
                  <a:lnTo>
                    <a:pt x="211" y="393"/>
                  </a:lnTo>
                  <a:lnTo>
                    <a:pt x="295" y="592"/>
                  </a:lnTo>
                  <a:lnTo>
                    <a:pt x="380" y="614"/>
                  </a:lnTo>
                  <a:lnTo>
                    <a:pt x="450" y="535"/>
                  </a:lnTo>
                  <a:lnTo>
                    <a:pt x="450" y="340"/>
                  </a:lnTo>
                  <a:lnTo>
                    <a:pt x="622" y="500"/>
                  </a:lnTo>
                  <a:lnTo>
                    <a:pt x="715" y="500"/>
                  </a:lnTo>
                  <a:lnTo>
                    <a:pt x="724" y="393"/>
                  </a:lnTo>
                  <a:lnTo>
                    <a:pt x="658" y="199"/>
                  </a:lnTo>
                  <a:lnTo>
                    <a:pt x="547" y="44"/>
                  </a:lnTo>
                  <a:lnTo>
                    <a:pt x="54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46320" y="847800"/>
              <a:ext cx="1163880" cy="903600"/>
            </a:xfrm>
            <a:custGeom>
              <a:avLst/>
              <a:gdLst/>
              <a:ahLst/>
              <a:rect l="0" t="0" r="r" b="b"/>
              <a:pathLst>
                <a:path w="3233" h="2510">
                  <a:moveTo>
                    <a:pt x="1164" y="211"/>
                  </a:moveTo>
                  <a:lnTo>
                    <a:pt x="1102" y="220"/>
                  </a:lnTo>
                  <a:lnTo>
                    <a:pt x="1009" y="343"/>
                  </a:lnTo>
                  <a:lnTo>
                    <a:pt x="983" y="255"/>
                  </a:lnTo>
                  <a:lnTo>
                    <a:pt x="877" y="202"/>
                  </a:lnTo>
                  <a:lnTo>
                    <a:pt x="802" y="242"/>
                  </a:lnTo>
                  <a:lnTo>
                    <a:pt x="767" y="405"/>
                  </a:lnTo>
                  <a:lnTo>
                    <a:pt x="476" y="604"/>
                  </a:lnTo>
                  <a:lnTo>
                    <a:pt x="498" y="692"/>
                  </a:lnTo>
                  <a:lnTo>
                    <a:pt x="427" y="767"/>
                  </a:lnTo>
                  <a:lnTo>
                    <a:pt x="427" y="829"/>
                  </a:lnTo>
                  <a:lnTo>
                    <a:pt x="511" y="1018"/>
                  </a:lnTo>
                  <a:lnTo>
                    <a:pt x="515" y="1252"/>
                  </a:lnTo>
                  <a:lnTo>
                    <a:pt x="463" y="1469"/>
                  </a:lnTo>
                  <a:lnTo>
                    <a:pt x="255" y="1601"/>
                  </a:lnTo>
                  <a:lnTo>
                    <a:pt x="224" y="1782"/>
                  </a:lnTo>
                  <a:lnTo>
                    <a:pt x="163" y="1782"/>
                  </a:lnTo>
                  <a:lnTo>
                    <a:pt x="127" y="1637"/>
                  </a:lnTo>
                  <a:lnTo>
                    <a:pt x="70" y="1637"/>
                  </a:lnTo>
                  <a:lnTo>
                    <a:pt x="35" y="1791"/>
                  </a:lnTo>
                  <a:lnTo>
                    <a:pt x="0" y="1835"/>
                  </a:lnTo>
                  <a:lnTo>
                    <a:pt x="145" y="2051"/>
                  </a:lnTo>
                  <a:lnTo>
                    <a:pt x="242" y="2060"/>
                  </a:lnTo>
                  <a:lnTo>
                    <a:pt x="427" y="2219"/>
                  </a:lnTo>
                  <a:lnTo>
                    <a:pt x="590" y="2241"/>
                  </a:lnTo>
                  <a:lnTo>
                    <a:pt x="683" y="2152"/>
                  </a:lnTo>
                  <a:lnTo>
                    <a:pt x="908" y="1844"/>
                  </a:lnTo>
                  <a:lnTo>
                    <a:pt x="930" y="2263"/>
                  </a:lnTo>
                  <a:lnTo>
                    <a:pt x="908" y="2510"/>
                  </a:lnTo>
                  <a:lnTo>
                    <a:pt x="2779" y="2510"/>
                  </a:lnTo>
                  <a:lnTo>
                    <a:pt x="2642" y="2241"/>
                  </a:lnTo>
                  <a:lnTo>
                    <a:pt x="2576" y="2007"/>
                  </a:lnTo>
                  <a:lnTo>
                    <a:pt x="2558" y="1659"/>
                  </a:lnTo>
                  <a:lnTo>
                    <a:pt x="2668" y="1738"/>
                  </a:lnTo>
                  <a:lnTo>
                    <a:pt x="2779" y="1738"/>
                  </a:lnTo>
                  <a:lnTo>
                    <a:pt x="2929" y="1650"/>
                  </a:lnTo>
                  <a:lnTo>
                    <a:pt x="3034" y="1637"/>
                  </a:lnTo>
                  <a:lnTo>
                    <a:pt x="3096" y="1544"/>
                  </a:lnTo>
                  <a:lnTo>
                    <a:pt x="3140" y="1301"/>
                  </a:lnTo>
                  <a:lnTo>
                    <a:pt x="3233" y="1212"/>
                  </a:lnTo>
                  <a:lnTo>
                    <a:pt x="3189" y="1137"/>
                  </a:lnTo>
                  <a:lnTo>
                    <a:pt x="3114" y="1137"/>
                  </a:lnTo>
                  <a:lnTo>
                    <a:pt x="3065" y="1186"/>
                  </a:lnTo>
                  <a:lnTo>
                    <a:pt x="3008" y="1199"/>
                  </a:lnTo>
                  <a:lnTo>
                    <a:pt x="2937" y="1137"/>
                  </a:lnTo>
                  <a:lnTo>
                    <a:pt x="2862" y="1128"/>
                  </a:lnTo>
                  <a:lnTo>
                    <a:pt x="2717" y="1040"/>
                  </a:lnTo>
                  <a:lnTo>
                    <a:pt x="2624" y="943"/>
                  </a:lnTo>
                  <a:lnTo>
                    <a:pt x="2607" y="829"/>
                  </a:lnTo>
                  <a:lnTo>
                    <a:pt x="2624" y="718"/>
                  </a:lnTo>
                  <a:lnTo>
                    <a:pt x="2682" y="626"/>
                  </a:lnTo>
                  <a:lnTo>
                    <a:pt x="2765" y="546"/>
                  </a:lnTo>
                  <a:lnTo>
                    <a:pt x="2757" y="401"/>
                  </a:lnTo>
                  <a:lnTo>
                    <a:pt x="2757" y="299"/>
                  </a:lnTo>
                  <a:lnTo>
                    <a:pt x="2717" y="220"/>
                  </a:lnTo>
                  <a:lnTo>
                    <a:pt x="2607" y="189"/>
                  </a:lnTo>
                  <a:lnTo>
                    <a:pt x="2571" y="171"/>
                  </a:lnTo>
                  <a:lnTo>
                    <a:pt x="2492" y="44"/>
                  </a:lnTo>
                  <a:lnTo>
                    <a:pt x="2426" y="8"/>
                  </a:lnTo>
                  <a:lnTo>
                    <a:pt x="2360" y="0"/>
                  </a:lnTo>
                  <a:lnTo>
                    <a:pt x="2302" y="22"/>
                  </a:lnTo>
                  <a:lnTo>
                    <a:pt x="2254" y="88"/>
                  </a:lnTo>
                  <a:lnTo>
                    <a:pt x="2183" y="127"/>
                  </a:lnTo>
                  <a:lnTo>
                    <a:pt x="2104" y="136"/>
                  </a:lnTo>
                  <a:lnTo>
                    <a:pt x="2016" y="136"/>
                  </a:lnTo>
                  <a:lnTo>
                    <a:pt x="2033" y="264"/>
                  </a:lnTo>
                  <a:lnTo>
                    <a:pt x="2033" y="418"/>
                  </a:lnTo>
                  <a:lnTo>
                    <a:pt x="2016" y="524"/>
                  </a:lnTo>
                  <a:lnTo>
                    <a:pt x="1936" y="648"/>
                  </a:lnTo>
                  <a:lnTo>
                    <a:pt x="1835" y="837"/>
                  </a:lnTo>
                  <a:lnTo>
                    <a:pt x="1756" y="1062"/>
                  </a:lnTo>
                  <a:lnTo>
                    <a:pt x="1747" y="1199"/>
                  </a:lnTo>
                  <a:lnTo>
                    <a:pt x="1707" y="1315"/>
                  </a:lnTo>
                  <a:lnTo>
                    <a:pt x="1663" y="1429"/>
                  </a:lnTo>
                  <a:lnTo>
                    <a:pt x="1641" y="1614"/>
                  </a:lnTo>
                  <a:lnTo>
                    <a:pt x="1650" y="1764"/>
                  </a:lnTo>
                  <a:lnTo>
                    <a:pt x="1707" y="1936"/>
                  </a:lnTo>
                  <a:lnTo>
                    <a:pt x="1747" y="2007"/>
                  </a:lnTo>
                  <a:lnTo>
                    <a:pt x="1641" y="2073"/>
                  </a:lnTo>
                  <a:lnTo>
                    <a:pt x="1508" y="2113"/>
                  </a:lnTo>
                  <a:lnTo>
                    <a:pt x="1362" y="2126"/>
                  </a:lnTo>
                  <a:lnTo>
                    <a:pt x="1274" y="2126"/>
                  </a:lnTo>
                  <a:lnTo>
                    <a:pt x="1217" y="2100"/>
                  </a:lnTo>
                  <a:lnTo>
                    <a:pt x="1217" y="1950"/>
                  </a:lnTo>
                  <a:lnTo>
                    <a:pt x="1217" y="1729"/>
                  </a:lnTo>
                  <a:lnTo>
                    <a:pt x="1186" y="1509"/>
                  </a:lnTo>
                  <a:lnTo>
                    <a:pt x="1128" y="1315"/>
                  </a:lnTo>
                  <a:lnTo>
                    <a:pt x="1098" y="1155"/>
                  </a:lnTo>
                  <a:lnTo>
                    <a:pt x="1089" y="934"/>
                  </a:lnTo>
                  <a:lnTo>
                    <a:pt x="1128" y="740"/>
                  </a:lnTo>
                  <a:lnTo>
                    <a:pt x="1186" y="582"/>
                  </a:lnTo>
                  <a:lnTo>
                    <a:pt x="1190" y="493"/>
                  </a:lnTo>
                  <a:lnTo>
                    <a:pt x="1164" y="361"/>
                  </a:lnTo>
                  <a:lnTo>
                    <a:pt x="1164" y="255"/>
                  </a:lnTo>
                  <a:lnTo>
                    <a:pt x="1186" y="220"/>
                  </a:lnTo>
                  <a:lnTo>
                    <a:pt x="1164" y="2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00280" y="1030320"/>
              <a:ext cx="146520" cy="584640"/>
            </a:xfrm>
            <a:custGeom>
              <a:avLst/>
              <a:gdLst/>
              <a:ahLst/>
              <a:rect l="0" t="0" r="r" b="b"/>
              <a:pathLst>
                <a:path w="407" h="1624">
                  <a:moveTo>
                    <a:pt x="164" y="17"/>
                  </a:moveTo>
                  <a:lnTo>
                    <a:pt x="52" y="70"/>
                  </a:lnTo>
                  <a:lnTo>
                    <a:pt x="66" y="229"/>
                  </a:lnTo>
                  <a:lnTo>
                    <a:pt x="142" y="273"/>
                  </a:lnTo>
                  <a:lnTo>
                    <a:pt x="44" y="446"/>
                  </a:lnTo>
                  <a:lnTo>
                    <a:pt x="0" y="631"/>
                  </a:lnTo>
                  <a:lnTo>
                    <a:pt x="0" y="812"/>
                  </a:lnTo>
                  <a:lnTo>
                    <a:pt x="44" y="975"/>
                  </a:lnTo>
                  <a:lnTo>
                    <a:pt x="83" y="1173"/>
                  </a:lnTo>
                  <a:lnTo>
                    <a:pt x="83" y="1289"/>
                  </a:lnTo>
                  <a:lnTo>
                    <a:pt x="44" y="1426"/>
                  </a:lnTo>
                  <a:lnTo>
                    <a:pt x="212" y="1624"/>
                  </a:lnTo>
                  <a:lnTo>
                    <a:pt x="283" y="1593"/>
                  </a:lnTo>
                  <a:lnTo>
                    <a:pt x="328" y="1457"/>
                  </a:lnTo>
                  <a:lnTo>
                    <a:pt x="403" y="1276"/>
                  </a:lnTo>
                  <a:lnTo>
                    <a:pt x="407" y="1178"/>
                  </a:lnTo>
                  <a:lnTo>
                    <a:pt x="345" y="1002"/>
                  </a:lnTo>
                  <a:lnTo>
                    <a:pt x="269" y="834"/>
                  </a:lnTo>
                  <a:lnTo>
                    <a:pt x="234" y="706"/>
                  </a:lnTo>
                  <a:lnTo>
                    <a:pt x="234" y="591"/>
                  </a:lnTo>
                  <a:lnTo>
                    <a:pt x="269" y="486"/>
                  </a:lnTo>
                  <a:lnTo>
                    <a:pt x="328" y="357"/>
                  </a:lnTo>
                  <a:lnTo>
                    <a:pt x="328" y="299"/>
                  </a:lnTo>
                  <a:lnTo>
                    <a:pt x="296" y="251"/>
                  </a:lnTo>
                  <a:lnTo>
                    <a:pt x="376" y="185"/>
                  </a:lnTo>
                  <a:lnTo>
                    <a:pt x="376" y="123"/>
                  </a:lnTo>
                  <a:lnTo>
                    <a:pt x="269" y="0"/>
                  </a:lnTo>
                  <a:lnTo>
                    <a:pt x="354" y="123"/>
                  </a:lnTo>
                  <a:lnTo>
                    <a:pt x="354" y="171"/>
                  </a:lnTo>
                  <a:lnTo>
                    <a:pt x="278" y="229"/>
                  </a:lnTo>
                  <a:lnTo>
                    <a:pt x="310" y="299"/>
                  </a:lnTo>
                  <a:lnTo>
                    <a:pt x="296" y="357"/>
                  </a:lnTo>
                  <a:lnTo>
                    <a:pt x="221" y="503"/>
                  </a:lnTo>
                  <a:lnTo>
                    <a:pt x="212" y="649"/>
                  </a:lnTo>
                  <a:lnTo>
                    <a:pt x="230" y="790"/>
                  </a:lnTo>
                  <a:lnTo>
                    <a:pt x="283" y="984"/>
                  </a:lnTo>
                  <a:lnTo>
                    <a:pt x="345" y="1143"/>
                  </a:lnTo>
                  <a:lnTo>
                    <a:pt x="345" y="1267"/>
                  </a:lnTo>
                  <a:lnTo>
                    <a:pt x="310" y="1426"/>
                  </a:lnTo>
                  <a:lnTo>
                    <a:pt x="230" y="1593"/>
                  </a:lnTo>
                  <a:lnTo>
                    <a:pt x="133" y="1501"/>
                  </a:lnTo>
                  <a:lnTo>
                    <a:pt x="97" y="1426"/>
                  </a:lnTo>
                  <a:lnTo>
                    <a:pt x="101" y="1267"/>
                  </a:lnTo>
                  <a:lnTo>
                    <a:pt x="97" y="1107"/>
                  </a:lnTo>
                  <a:lnTo>
                    <a:pt x="44" y="891"/>
                  </a:lnTo>
                  <a:lnTo>
                    <a:pt x="26" y="746"/>
                  </a:lnTo>
                  <a:lnTo>
                    <a:pt x="44" y="578"/>
                  </a:lnTo>
                  <a:lnTo>
                    <a:pt x="83" y="419"/>
                  </a:lnTo>
                  <a:lnTo>
                    <a:pt x="172" y="260"/>
                  </a:lnTo>
                  <a:lnTo>
                    <a:pt x="97" y="194"/>
                  </a:lnTo>
                  <a:lnTo>
                    <a:pt x="83" y="83"/>
                  </a:lnTo>
                  <a:lnTo>
                    <a:pt x="164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17880" y="344520"/>
              <a:ext cx="232200" cy="286200"/>
            </a:xfrm>
            <a:custGeom>
              <a:avLst/>
              <a:gdLst/>
              <a:ahLst/>
              <a:rect l="0" t="0" r="r" b="b"/>
              <a:pathLst>
                <a:path w="645" h="795">
                  <a:moveTo>
                    <a:pt x="110" y="203"/>
                  </a:moveTo>
                  <a:lnTo>
                    <a:pt x="203" y="185"/>
                  </a:lnTo>
                  <a:lnTo>
                    <a:pt x="292" y="194"/>
                  </a:lnTo>
                  <a:lnTo>
                    <a:pt x="371" y="225"/>
                  </a:lnTo>
                  <a:lnTo>
                    <a:pt x="415" y="269"/>
                  </a:lnTo>
                  <a:lnTo>
                    <a:pt x="428" y="309"/>
                  </a:lnTo>
                  <a:lnTo>
                    <a:pt x="428" y="349"/>
                  </a:lnTo>
                  <a:lnTo>
                    <a:pt x="411" y="380"/>
                  </a:lnTo>
                  <a:lnTo>
                    <a:pt x="367" y="397"/>
                  </a:lnTo>
                  <a:lnTo>
                    <a:pt x="322" y="397"/>
                  </a:lnTo>
                  <a:lnTo>
                    <a:pt x="265" y="384"/>
                  </a:lnTo>
                  <a:lnTo>
                    <a:pt x="208" y="353"/>
                  </a:lnTo>
                  <a:lnTo>
                    <a:pt x="164" y="327"/>
                  </a:lnTo>
                  <a:lnTo>
                    <a:pt x="145" y="424"/>
                  </a:lnTo>
                  <a:lnTo>
                    <a:pt x="110" y="494"/>
                  </a:lnTo>
                  <a:lnTo>
                    <a:pt x="0" y="663"/>
                  </a:lnTo>
                  <a:lnTo>
                    <a:pt x="158" y="795"/>
                  </a:lnTo>
                  <a:lnTo>
                    <a:pt x="274" y="578"/>
                  </a:lnTo>
                  <a:lnTo>
                    <a:pt x="411" y="601"/>
                  </a:lnTo>
                  <a:lnTo>
                    <a:pt x="491" y="583"/>
                  </a:lnTo>
                  <a:lnTo>
                    <a:pt x="575" y="534"/>
                  </a:lnTo>
                  <a:lnTo>
                    <a:pt x="623" y="472"/>
                  </a:lnTo>
                  <a:lnTo>
                    <a:pt x="645" y="389"/>
                  </a:lnTo>
                  <a:lnTo>
                    <a:pt x="645" y="305"/>
                  </a:lnTo>
                  <a:lnTo>
                    <a:pt x="623" y="212"/>
                  </a:lnTo>
                  <a:lnTo>
                    <a:pt x="570" y="119"/>
                  </a:lnTo>
                  <a:lnTo>
                    <a:pt x="504" y="57"/>
                  </a:lnTo>
                  <a:lnTo>
                    <a:pt x="424" y="22"/>
                  </a:lnTo>
                  <a:lnTo>
                    <a:pt x="327" y="0"/>
                  </a:lnTo>
                  <a:lnTo>
                    <a:pt x="217" y="0"/>
                  </a:lnTo>
                  <a:lnTo>
                    <a:pt x="88" y="22"/>
                  </a:lnTo>
                  <a:lnTo>
                    <a:pt x="110" y="20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76480" y="622440"/>
              <a:ext cx="84600" cy="55800"/>
            </a:xfrm>
            <a:custGeom>
              <a:avLst/>
              <a:gdLst/>
              <a:ahLst/>
              <a:rect l="0" t="0" r="r" b="b"/>
              <a:pathLst>
                <a:path w="235" h="155">
                  <a:moveTo>
                    <a:pt x="93" y="0"/>
                  </a:moveTo>
                  <a:lnTo>
                    <a:pt x="30" y="0"/>
                  </a:lnTo>
                  <a:lnTo>
                    <a:pt x="0" y="22"/>
                  </a:lnTo>
                  <a:lnTo>
                    <a:pt x="0" y="80"/>
                  </a:lnTo>
                  <a:lnTo>
                    <a:pt x="48" y="133"/>
                  </a:lnTo>
                  <a:lnTo>
                    <a:pt x="142" y="155"/>
                  </a:lnTo>
                  <a:lnTo>
                    <a:pt x="213" y="150"/>
                  </a:lnTo>
                  <a:lnTo>
                    <a:pt x="235" y="115"/>
                  </a:lnTo>
                  <a:lnTo>
                    <a:pt x="222" y="84"/>
                  </a:lnTo>
                  <a:lnTo>
                    <a:pt x="191" y="39"/>
                  </a:lnTo>
                  <a:lnTo>
                    <a:pt x="128" y="8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o 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82880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is critical that businesses achieve the appropriate level of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o few liabilities, and the company may not be earning up to its potent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o many liabilities, and the company may have excessive ris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2209680" y="2438280"/>
            <a:ext cx="55627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and record the liabilities associated with payroll accoun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1440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roll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104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1219320" y="533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roll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914400" y="160020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yroll register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is prepared each pay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ailed listing of a firm’s total payro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as columns for employees, earnings, deductions, and distrib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447920" y="30492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ake Home P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83808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ross Wages - Employee Deduction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= Take Home P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amples of Employee Deduc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ome tax(e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cial Secur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edi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edical insur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ion d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990720" y="152280"/>
            <a:ext cx="75643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Illustration of Payroll Li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79320" y="679320"/>
            <a:ext cx="8250480" cy="5651640"/>
            <a:chOff x="679320" y="679320"/>
            <a:chExt cx="8250480" cy="5651640"/>
          </a:xfrm>
        </p:grpSpPr>
        <p:sp>
          <p:nvSpPr>
            <p:cNvPr id="436" name=""/>
            <p:cNvSpPr/>
            <p:nvPr/>
          </p:nvSpPr>
          <p:spPr>
            <a:xfrm>
              <a:off x="679320" y="679320"/>
              <a:ext cx="8245440" cy="565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1481040" y="4341960"/>
              <a:ext cx="1281240" cy="81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LOYE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RNINGS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XES, A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COS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3672000" y="1876320"/>
              <a:ext cx="1654200" cy="419040"/>
              <a:chOff x="3672000" y="1876320"/>
              <a:chExt cx="1654200" cy="419040"/>
            </a:xfrm>
          </p:grpSpPr>
          <p:sp>
            <p:nvSpPr>
              <p:cNvPr id="439" name=""/>
              <p:cNvSpPr txBox="1"/>
              <p:nvPr/>
            </p:nvSpPr>
            <p:spPr>
              <a:xfrm>
                <a:off x="3684600" y="1876320"/>
                <a:ext cx="16286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MPLOYER TAXES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 txBox="1"/>
              <p:nvPr/>
            </p:nvSpPr>
            <p:spPr>
              <a:xfrm>
                <a:off x="3672000" y="2023920"/>
                <a:ext cx="16542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ND OTHER COST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7682040" y="685800"/>
              <a:ext cx="1247760" cy="571320"/>
              <a:chOff x="7682040" y="685800"/>
              <a:chExt cx="1247760" cy="571320"/>
            </a:xfrm>
          </p:grpSpPr>
          <p:sp>
            <p:nvSpPr>
              <p:cNvPr id="442" name=""/>
              <p:cNvSpPr txBox="1"/>
              <p:nvPr/>
            </p:nvSpPr>
            <p:spPr>
              <a:xfrm>
                <a:off x="7786800" y="685800"/>
                <a:ext cx="10368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MPLOYE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 txBox="1"/>
              <p:nvPr/>
            </p:nvSpPr>
            <p:spPr>
              <a:xfrm>
                <a:off x="7778880" y="836640"/>
                <a:ext cx="10526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ABILITI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 txBox="1"/>
              <p:nvPr/>
            </p:nvSpPr>
            <p:spPr>
              <a:xfrm>
                <a:off x="7682040" y="985680"/>
                <a:ext cx="124776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YABLE TO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3137040" y="1496880"/>
              <a:ext cx="26478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37040" y="2819520"/>
              <a:ext cx="26478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37040" y="2443320"/>
              <a:ext cx="26478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75240" y="3141720"/>
              <a:ext cx="3096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25800" y="3151080"/>
              <a:ext cx="4428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35160" y="3492360"/>
              <a:ext cx="43992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25800" y="3808440"/>
              <a:ext cx="44280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21120" y="4076640"/>
              <a:ext cx="468720" cy="249480"/>
            </a:xfrm>
            <a:custGeom>
              <a:avLst/>
              <a:gdLst/>
              <a:ahLst/>
              <a:rect l="0" t="0" r="r" b="b"/>
              <a:pathLst>
                <a:path fill="none" w="1302" h="693">
                  <a:moveTo>
                    <a:pt x="0" y="13"/>
                  </a:moveTo>
                  <a:lnTo>
                    <a:pt x="419" y="0"/>
                  </a:lnTo>
                  <a:lnTo>
                    <a:pt x="419" y="693"/>
                  </a:lnTo>
                  <a:lnTo>
                    <a:pt x="1302" y="693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75240" y="3479760"/>
              <a:ext cx="329040" cy="371880"/>
            </a:xfrm>
            <a:custGeom>
              <a:avLst/>
              <a:gdLst/>
              <a:ahLst/>
              <a:rect l="0" t="0" r="r" b="b"/>
              <a:pathLst>
                <a:path fill="none" w="914" h="1033">
                  <a:moveTo>
                    <a:pt x="0" y="0"/>
                  </a:moveTo>
                  <a:lnTo>
                    <a:pt x="180" y="0"/>
                  </a:lnTo>
                  <a:lnTo>
                    <a:pt x="180" y="1033"/>
                  </a:lnTo>
                  <a:lnTo>
                    <a:pt x="914" y="1033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75240" y="3895560"/>
              <a:ext cx="354240" cy="543240"/>
            </a:xfrm>
            <a:custGeom>
              <a:avLst/>
              <a:gdLst/>
              <a:ahLst/>
              <a:rect l="0" t="0" r="r" b="b"/>
              <a:pathLst>
                <a:path fill="none" w="984" h="1509">
                  <a:moveTo>
                    <a:pt x="0" y="0"/>
                  </a:moveTo>
                  <a:lnTo>
                    <a:pt x="299" y="0"/>
                  </a:lnTo>
                  <a:lnTo>
                    <a:pt x="299" y="1509"/>
                  </a:lnTo>
                  <a:lnTo>
                    <a:pt x="984" y="1509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75240" y="4305240"/>
              <a:ext cx="211320" cy="986040"/>
            </a:xfrm>
            <a:custGeom>
              <a:avLst/>
              <a:gdLst/>
              <a:ahLst/>
              <a:rect l="0" t="0" r="r" b="b"/>
              <a:pathLst>
                <a:path fill="none" w="587" h="2739">
                  <a:moveTo>
                    <a:pt x="0" y="0"/>
                  </a:moveTo>
                  <a:lnTo>
                    <a:pt x="207" y="0"/>
                  </a:lnTo>
                  <a:lnTo>
                    <a:pt x="207" y="2739"/>
                  </a:lnTo>
                  <a:lnTo>
                    <a:pt x="587" y="2739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475240" y="4564080"/>
              <a:ext cx="311400" cy="1249560"/>
            </a:xfrm>
            <a:custGeom>
              <a:avLst/>
              <a:gdLst/>
              <a:ahLst/>
              <a:rect l="0" t="0" r="r" b="b"/>
              <a:pathLst>
                <a:path fill="none" w="865" h="3471">
                  <a:moveTo>
                    <a:pt x="0" y="0"/>
                  </a:moveTo>
                  <a:lnTo>
                    <a:pt x="101" y="8"/>
                  </a:lnTo>
                  <a:lnTo>
                    <a:pt x="101" y="3471"/>
                  </a:lnTo>
                  <a:lnTo>
                    <a:pt x="865" y="3471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18000" y="5164200"/>
              <a:ext cx="1254600" cy="924120"/>
            </a:xfrm>
            <a:custGeom>
              <a:avLst/>
              <a:gdLst/>
              <a:ahLst/>
              <a:rect l="0" t="0" r="r" b="b"/>
              <a:pathLst>
                <a:path fill="none" w="3485" h="2567">
                  <a:moveTo>
                    <a:pt x="0" y="0"/>
                  </a:moveTo>
                  <a:lnTo>
                    <a:pt x="0" y="2567"/>
                  </a:lnTo>
                  <a:lnTo>
                    <a:pt x="3485" y="2567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54160" y="804960"/>
              <a:ext cx="1868400" cy="345924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17520" y="795240"/>
              <a:ext cx="1868400" cy="341784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fcfeb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36600" y="3645000"/>
              <a:ext cx="1830240" cy="307800"/>
            </a:xfrm>
            <a:prstGeom prst="rect">
              <a:avLst/>
            </a:prstGeom>
            <a:solidFill>
              <a:srgbClr val="e16ff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 txBox="1"/>
            <p:nvPr/>
          </p:nvSpPr>
          <p:spPr>
            <a:xfrm>
              <a:off x="1330200" y="3648240"/>
              <a:ext cx="17226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cal Insuran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73320" y="223344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46320" y="2239920"/>
              <a:ext cx="1830240" cy="39060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 txBox="1"/>
            <p:nvPr/>
          </p:nvSpPr>
          <p:spPr>
            <a:xfrm>
              <a:off x="1738440" y="2214720"/>
              <a:ext cx="8128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1527120" y="2360520"/>
              <a:ext cx="13572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come Tax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236600" y="2629080"/>
              <a:ext cx="1830240" cy="36036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1457280" y="2600280"/>
              <a:ext cx="1495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and Loc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1508040" y="2746440"/>
              <a:ext cx="13572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come Tax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36600" y="2984400"/>
              <a:ext cx="1830240" cy="371520"/>
            </a:xfrm>
            <a:prstGeom prst="rect">
              <a:avLst/>
            </a:prstGeom>
            <a:solidFill>
              <a:srgbClr val="fdc0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>
              <a:off x="1593720" y="3005280"/>
              <a:ext cx="10018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CA T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236600" y="3336840"/>
              <a:ext cx="1830240" cy="30960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 txBox="1"/>
            <p:nvPr/>
          </p:nvSpPr>
          <p:spPr>
            <a:xfrm>
              <a:off x="1539720" y="3340080"/>
              <a:ext cx="13082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care T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246320" y="3952800"/>
              <a:ext cx="1830240" cy="24444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 txBox="1"/>
            <p:nvPr/>
          </p:nvSpPr>
          <p:spPr>
            <a:xfrm>
              <a:off x="1690560" y="3936960"/>
              <a:ext cx="92232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ns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1414440" y="1317600"/>
              <a:ext cx="14652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ke-Home Pa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35200" y="2965320"/>
              <a:ext cx="1870200" cy="219384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598920" y="2913120"/>
              <a:ext cx="1870200" cy="2193840"/>
            </a:xfrm>
            <a:prstGeom prst="rect">
              <a:avLst/>
            </a:prstGeom>
            <a:solidFill>
              <a:srgbClr val="fdc0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 txBox="1"/>
            <p:nvPr/>
          </p:nvSpPr>
          <p:spPr>
            <a:xfrm>
              <a:off x="3757680" y="2876400"/>
              <a:ext cx="16826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loyer’s Sha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 txBox="1"/>
            <p:nvPr/>
          </p:nvSpPr>
          <p:spPr>
            <a:xfrm>
              <a:off x="3854520" y="3040200"/>
              <a:ext cx="12668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FICA T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18000" y="3316320"/>
              <a:ext cx="1832040" cy="29376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 txBox="1"/>
            <p:nvPr/>
          </p:nvSpPr>
          <p:spPr>
            <a:xfrm>
              <a:off x="3747960" y="3252960"/>
              <a:ext cx="16826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loyer’s Sha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3838680" y="3389400"/>
              <a:ext cx="15256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Medicare T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618000" y="3603600"/>
              <a:ext cx="1832040" cy="426960"/>
            </a:xfrm>
            <a:prstGeom prst="rect">
              <a:avLst/>
            </a:prstGeom>
            <a:solidFill>
              <a:srgbClr val="e16ff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 txBox="1"/>
            <p:nvPr/>
          </p:nvSpPr>
          <p:spPr>
            <a:xfrm>
              <a:off x="3757680" y="3587760"/>
              <a:ext cx="16826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loyer’s Sha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>
              <a:off x="3618000" y="3743280"/>
              <a:ext cx="19400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Medical Insuran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18000" y="4013280"/>
              <a:ext cx="1832040" cy="40968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 txBox="1"/>
            <p:nvPr/>
          </p:nvSpPr>
          <p:spPr>
            <a:xfrm>
              <a:off x="3757680" y="3976560"/>
              <a:ext cx="16826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loyer’s Sha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 txBox="1"/>
            <p:nvPr/>
          </p:nvSpPr>
          <p:spPr>
            <a:xfrm>
              <a:off x="4029120" y="4140360"/>
              <a:ext cx="10890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Pens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618000" y="4406760"/>
              <a:ext cx="1832040" cy="361800"/>
            </a:xfrm>
            <a:prstGeom prst="rect">
              <a:avLst/>
            </a:prstGeom>
            <a:solidFill>
              <a:srgbClr val="f6bf6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 txBox="1"/>
            <p:nvPr/>
          </p:nvSpPr>
          <p:spPr>
            <a:xfrm>
              <a:off x="4178160" y="4343400"/>
              <a:ext cx="8128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 txBox="1"/>
            <p:nvPr/>
          </p:nvSpPr>
          <p:spPr>
            <a:xfrm>
              <a:off x="3570120" y="4478400"/>
              <a:ext cx="19191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employment T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18000" y="4729320"/>
              <a:ext cx="1832040" cy="369720"/>
            </a:xfrm>
            <a:prstGeom prst="rect">
              <a:avLst/>
            </a:prstGeom>
            <a:solidFill>
              <a:srgbClr val="c7c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 txBox="1"/>
            <p:nvPr/>
          </p:nvSpPr>
          <p:spPr>
            <a:xfrm>
              <a:off x="4230720" y="4697280"/>
              <a:ext cx="6159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3598920" y="4861080"/>
              <a:ext cx="19191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employment T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59360" y="787320"/>
              <a:ext cx="1866960" cy="545148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923080" y="735120"/>
              <a:ext cx="1866960" cy="545148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fcfeb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931000" y="2270160"/>
              <a:ext cx="1843200" cy="37800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5921280" y="2319480"/>
              <a:ext cx="19098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l Govern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31000" y="2624040"/>
              <a:ext cx="1843200" cy="38880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6195960" y="2597040"/>
              <a:ext cx="14954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and Loc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>
              <a:off x="6256440" y="2751120"/>
              <a:ext cx="12780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vern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931000" y="3008160"/>
              <a:ext cx="1841400" cy="801720"/>
            </a:xfrm>
            <a:prstGeom prst="rect">
              <a:avLst/>
            </a:prstGeom>
            <a:solidFill>
              <a:srgbClr val="fdc0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27760" y="3760920"/>
              <a:ext cx="1846440" cy="595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931000" y="4357800"/>
              <a:ext cx="1843200" cy="657360"/>
            </a:xfrm>
            <a:prstGeom prst="rect">
              <a:avLst/>
            </a:prstGeom>
            <a:solidFill>
              <a:srgbClr val="e16ff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 txBox="1"/>
            <p:nvPr/>
          </p:nvSpPr>
          <p:spPr>
            <a:xfrm>
              <a:off x="6095880" y="4419720"/>
              <a:ext cx="145260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urance Compan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931000" y="5016600"/>
              <a:ext cx="1843200" cy="59832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 txBox="1"/>
            <p:nvPr/>
          </p:nvSpPr>
          <p:spPr>
            <a:xfrm>
              <a:off x="6197760" y="5175360"/>
              <a:ext cx="13557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nsion Fun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 txBox="1"/>
            <p:nvPr/>
          </p:nvSpPr>
          <p:spPr>
            <a:xfrm>
              <a:off x="6394320" y="1324080"/>
              <a:ext cx="10206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ploye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931000" y="5627520"/>
              <a:ext cx="1839960" cy="285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43600" y="5943600"/>
              <a:ext cx="1839960" cy="289080"/>
            </a:xfrm>
            <a:prstGeom prst="rect">
              <a:avLst/>
            </a:prstGeom>
            <a:solidFill>
              <a:srgbClr val="c7c1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>
              <a:off x="5943600" y="5943600"/>
              <a:ext cx="175248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Govern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83320" y="1434960"/>
              <a:ext cx="151200" cy="117720"/>
            </a:xfrm>
            <a:custGeom>
              <a:avLst/>
              <a:gdLst/>
              <a:ahLst/>
              <a:rect l="0" t="0" r="r" b="b"/>
              <a:pathLst>
                <a:path w="420" h="327">
                  <a:moveTo>
                    <a:pt x="39" y="164"/>
                  </a:moveTo>
                  <a:lnTo>
                    <a:pt x="39" y="190"/>
                  </a:lnTo>
                  <a:lnTo>
                    <a:pt x="39" y="217"/>
                  </a:lnTo>
                  <a:lnTo>
                    <a:pt x="39" y="234"/>
                  </a:lnTo>
                  <a:lnTo>
                    <a:pt x="30" y="256"/>
                  </a:lnTo>
                  <a:lnTo>
                    <a:pt x="30" y="269"/>
                  </a:lnTo>
                  <a:lnTo>
                    <a:pt x="26" y="287"/>
                  </a:lnTo>
                  <a:lnTo>
                    <a:pt x="22" y="296"/>
                  </a:lnTo>
                  <a:lnTo>
                    <a:pt x="17" y="305"/>
                  </a:lnTo>
                  <a:lnTo>
                    <a:pt x="13" y="322"/>
                  </a:lnTo>
                  <a:lnTo>
                    <a:pt x="4" y="322"/>
                  </a:lnTo>
                  <a:lnTo>
                    <a:pt x="4" y="327"/>
                  </a:lnTo>
                  <a:lnTo>
                    <a:pt x="0" y="327"/>
                  </a:lnTo>
                  <a:lnTo>
                    <a:pt x="420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0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92"/>
                  </a:lnTo>
                  <a:lnTo>
                    <a:pt x="39" y="110"/>
                  </a:lnTo>
                  <a:lnTo>
                    <a:pt x="39" y="141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692680" y="2384280"/>
              <a:ext cx="152640" cy="120960"/>
            </a:xfrm>
            <a:custGeom>
              <a:avLst/>
              <a:gdLst/>
              <a:ahLst/>
              <a:rect l="0" t="0" r="r" b="b"/>
              <a:pathLst>
                <a:path w="424" h="336">
                  <a:moveTo>
                    <a:pt x="39" y="167"/>
                  </a:moveTo>
                  <a:lnTo>
                    <a:pt x="39" y="199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1"/>
                  </a:lnTo>
                  <a:lnTo>
                    <a:pt x="30" y="278"/>
                  </a:lnTo>
                  <a:lnTo>
                    <a:pt x="26" y="292"/>
                  </a:lnTo>
                  <a:lnTo>
                    <a:pt x="22" y="296"/>
                  </a:lnTo>
                  <a:lnTo>
                    <a:pt x="17" y="309"/>
                  </a:lnTo>
                  <a:lnTo>
                    <a:pt x="13" y="327"/>
                  </a:lnTo>
                  <a:lnTo>
                    <a:pt x="4" y="327"/>
                  </a:lnTo>
                  <a:lnTo>
                    <a:pt x="4" y="336"/>
                  </a:lnTo>
                  <a:lnTo>
                    <a:pt x="0" y="336"/>
                  </a:lnTo>
                  <a:lnTo>
                    <a:pt x="424" y="167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9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7"/>
                  </a:lnTo>
                  <a:lnTo>
                    <a:pt x="39" y="119"/>
                  </a:lnTo>
                  <a:lnTo>
                    <a:pt x="39" y="145"/>
                  </a:lnTo>
                  <a:lnTo>
                    <a:pt x="39" y="1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97360" y="2760840"/>
              <a:ext cx="152640" cy="119520"/>
            </a:xfrm>
            <a:custGeom>
              <a:avLst/>
              <a:gdLst/>
              <a:ahLst/>
              <a:rect l="0" t="0" r="r" b="b"/>
              <a:pathLst>
                <a:path w="424" h="332">
                  <a:moveTo>
                    <a:pt x="39" y="168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4"/>
                  </a:lnTo>
                  <a:lnTo>
                    <a:pt x="30" y="257"/>
                  </a:lnTo>
                  <a:lnTo>
                    <a:pt x="30" y="275"/>
                  </a:lnTo>
                  <a:lnTo>
                    <a:pt x="26" y="288"/>
                  </a:lnTo>
                  <a:lnTo>
                    <a:pt x="22" y="297"/>
                  </a:lnTo>
                  <a:lnTo>
                    <a:pt x="17" y="306"/>
                  </a:lnTo>
                  <a:lnTo>
                    <a:pt x="13" y="323"/>
                  </a:lnTo>
                  <a:lnTo>
                    <a:pt x="4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424" y="168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8"/>
                  </a:lnTo>
                  <a:lnTo>
                    <a:pt x="39" y="115"/>
                  </a:lnTo>
                  <a:lnTo>
                    <a:pt x="39" y="146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91240" y="3078000"/>
              <a:ext cx="152640" cy="119520"/>
            </a:xfrm>
            <a:custGeom>
              <a:avLst/>
              <a:gdLst/>
              <a:ahLst/>
              <a:rect l="0" t="0" r="r" b="b"/>
              <a:pathLst>
                <a:path w="424" h="332">
                  <a:moveTo>
                    <a:pt x="39" y="168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2"/>
                  </a:lnTo>
                  <a:lnTo>
                    <a:pt x="30" y="275"/>
                  </a:lnTo>
                  <a:lnTo>
                    <a:pt x="26" y="293"/>
                  </a:lnTo>
                  <a:lnTo>
                    <a:pt x="22" y="297"/>
                  </a:lnTo>
                  <a:lnTo>
                    <a:pt x="17" y="310"/>
                  </a:lnTo>
                  <a:lnTo>
                    <a:pt x="13" y="328"/>
                  </a:lnTo>
                  <a:lnTo>
                    <a:pt x="4" y="328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424" y="168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93"/>
                  </a:lnTo>
                  <a:lnTo>
                    <a:pt x="39" y="115"/>
                  </a:lnTo>
                  <a:lnTo>
                    <a:pt x="39" y="142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99160" y="3789360"/>
              <a:ext cx="152640" cy="119520"/>
            </a:xfrm>
            <a:custGeom>
              <a:avLst/>
              <a:gdLst/>
              <a:ahLst/>
              <a:rect l="0" t="0" r="r" b="b"/>
              <a:pathLst>
                <a:path w="424" h="332">
                  <a:moveTo>
                    <a:pt x="39" y="168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2"/>
                  </a:lnTo>
                  <a:lnTo>
                    <a:pt x="30" y="275"/>
                  </a:lnTo>
                  <a:lnTo>
                    <a:pt x="26" y="293"/>
                  </a:lnTo>
                  <a:lnTo>
                    <a:pt x="22" y="297"/>
                  </a:lnTo>
                  <a:lnTo>
                    <a:pt x="17" y="310"/>
                  </a:lnTo>
                  <a:lnTo>
                    <a:pt x="13" y="328"/>
                  </a:lnTo>
                  <a:lnTo>
                    <a:pt x="4" y="328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424" y="168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93"/>
                  </a:lnTo>
                  <a:lnTo>
                    <a:pt x="39" y="115"/>
                  </a:lnTo>
                  <a:lnTo>
                    <a:pt x="39" y="142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97360" y="4376880"/>
              <a:ext cx="152640" cy="119520"/>
            </a:xfrm>
            <a:custGeom>
              <a:avLst/>
              <a:gdLst/>
              <a:ahLst/>
              <a:rect l="0" t="0" r="r" b="b"/>
              <a:pathLst>
                <a:path w="424" h="332">
                  <a:moveTo>
                    <a:pt x="39" y="164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2"/>
                  </a:lnTo>
                  <a:lnTo>
                    <a:pt x="30" y="275"/>
                  </a:lnTo>
                  <a:lnTo>
                    <a:pt x="26" y="293"/>
                  </a:lnTo>
                  <a:lnTo>
                    <a:pt x="22" y="297"/>
                  </a:lnTo>
                  <a:lnTo>
                    <a:pt x="17" y="310"/>
                  </a:lnTo>
                  <a:lnTo>
                    <a:pt x="13" y="323"/>
                  </a:lnTo>
                  <a:lnTo>
                    <a:pt x="4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424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13" y="13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93"/>
                  </a:lnTo>
                  <a:lnTo>
                    <a:pt x="39" y="115"/>
                  </a:lnTo>
                  <a:lnTo>
                    <a:pt x="39" y="142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695920" y="5230800"/>
              <a:ext cx="152640" cy="120960"/>
            </a:xfrm>
            <a:custGeom>
              <a:avLst/>
              <a:gdLst/>
              <a:ahLst/>
              <a:rect l="0" t="0" r="r" b="b"/>
              <a:pathLst>
                <a:path w="424" h="336">
                  <a:moveTo>
                    <a:pt x="39" y="167"/>
                  </a:moveTo>
                  <a:lnTo>
                    <a:pt x="39" y="199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1"/>
                  </a:lnTo>
                  <a:lnTo>
                    <a:pt x="30" y="278"/>
                  </a:lnTo>
                  <a:lnTo>
                    <a:pt x="26" y="292"/>
                  </a:lnTo>
                  <a:lnTo>
                    <a:pt x="22" y="296"/>
                  </a:lnTo>
                  <a:lnTo>
                    <a:pt x="17" y="309"/>
                  </a:lnTo>
                  <a:lnTo>
                    <a:pt x="13" y="327"/>
                  </a:lnTo>
                  <a:lnTo>
                    <a:pt x="4" y="327"/>
                  </a:lnTo>
                  <a:lnTo>
                    <a:pt x="4" y="336"/>
                  </a:lnTo>
                  <a:lnTo>
                    <a:pt x="0" y="336"/>
                  </a:lnTo>
                  <a:lnTo>
                    <a:pt x="424" y="167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9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7"/>
                  </a:lnTo>
                  <a:lnTo>
                    <a:pt x="39" y="119"/>
                  </a:lnTo>
                  <a:lnTo>
                    <a:pt x="39" y="145"/>
                  </a:lnTo>
                  <a:lnTo>
                    <a:pt x="39" y="1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02400" y="5753160"/>
              <a:ext cx="152640" cy="119520"/>
            </a:xfrm>
            <a:custGeom>
              <a:avLst/>
              <a:gdLst/>
              <a:ahLst/>
              <a:rect l="0" t="0" r="r" b="b"/>
              <a:pathLst>
                <a:path w="424" h="332">
                  <a:moveTo>
                    <a:pt x="39" y="168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4"/>
                  </a:lnTo>
                  <a:lnTo>
                    <a:pt x="30" y="257"/>
                  </a:lnTo>
                  <a:lnTo>
                    <a:pt x="30" y="275"/>
                  </a:lnTo>
                  <a:lnTo>
                    <a:pt x="26" y="288"/>
                  </a:lnTo>
                  <a:lnTo>
                    <a:pt x="22" y="297"/>
                  </a:lnTo>
                  <a:lnTo>
                    <a:pt x="17" y="310"/>
                  </a:lnTo>
                  <a:lnTo>
                    <a:pt x="13" y="323"/>
                  </a:lnTo>
                  <a:lnTo>
                    <a:pt x="4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424" y="168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8"/>
                  </a:lnTo>
                  <a:lnTo>
                    <a:pt x="39" y="115"/>
                  </a:lnTo>
                  <a:lnTo>
                    <a:pt x="39" y="146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699160" y="6026040"/>
              <a:ext cx="152640" cy="120960"/>
            </a:xfrm>
            <a:custGeom>
              <a:avLst/>
              <a:gdLst/>
              <a:ahLst/>
              <a:rect l="0" t="0" r="r" b="b"/>
              <a:pathLst>
                <a:path w="424" h="336">
                  <a:moveTo>
                    <a:pt x="39" y="167"/>
                  </a:moveTo>
                  <a:lnTo>
                    <a:pt x="39" y="199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1"/>
                  </a:lnTo>
                  <a:lnTo>
                    <a:pt x="30" y="278"/>
                  </a:lnTo>
                  <a:lnTo>
                    <a:pt x="26" y="292"/>
                  </a:lnTo>
                  <a:lnTo>
                    <a:pt x="22" y="296"/>
                  </a:lnTo>
                  <a:lnTo>
                    <a:pt x="17" y="309"/>
                  </a:lnTo>
                  <a:lnTo>
                    <a:pt x="13" y="327"/>
                  </a:lnTo>
                  <a:lnTo>
                    <a:pt x="4" y="327"/>
                  </a:lnTo>
                  <a:lnTo>
                    <a:pt x="4" y="336"/>
                  </a:lnTo>
                  <a:lnTo>
                    <a:pt x="0" y="336"/>
                  </a:lnTo>
                  <a:lnTo>
                    <a:pt x="424" y="167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9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7"/>
                  </a:lnTo>
                  <a:lnTo>
                    <a:pt x="39" y="119"/>
                  </a:lnTo>
                  <a:lnTo>
                    <a:pt x="39" y="145"/>
                  </a:lnTo>
                  <a:lnTo>
                    <a:pt x="39" y="1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375000" y="3085920"/>
              <a:ext cx="149760" cy="119520"/>
            </a:xfrm>
            <a:custGeom>
              <a:avLst/>
              <a:gdLst/>
              <a:ahLst/>
              <a:rect l="0" t="0" r="r" b="b"/>
              <a:pathLst>
                <a:path w="416" h="332">
                  <a:moveTo>
                    <a:pt x="39" y="168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4"/>
                  </a:lnTo>
                  <a:lnTo>
                    <a:pt x="30" y="257"/>
                  </a:lnTo>
                  <a:lnTo>
                    <a:pt x="30" y="275"/>
                  </a:lnTo>
                  <a:lnTo>
                    <a:pt x="26" y="288"/>
                  </a:lnTo>
                  <a:lnTo>
                    <a:pt x="22" y="297"/>
                  </a:lnTo>
                  <a:lnTo>
                    <a:pt x="17" y="306"/>
                  </a:lnTo>
                  <a:lnTo>
                    <a:pt x="13" y="323"/>
                  </a:lnTo>
                  <a:lnTo>
                    <a:pt x="4" y="323"/>
                  </a:lnTo>
                  <a:lnTo>
                    <a:pt x="4" y="332"/>
                  </a:lnTo>
                  <a:lnTo>
                    <a:pt x="0" y="332"/>
                  </a:lnTo>
                  <a:lnTo>
                    <a:pt x="416" y="168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8"/>
                  </a:lnTo>
                  <a:lnTo>
                    <a:pt x="39" y="115"/>
                  </a:lnTo>
                  <a:lnTo>
                    <a:pt x="39" y="146"/>
                  </a:lnTo>
                  <a:lnTo>
                    <a:pt x="39" y="1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75000" y="3432240"/>
              <a:ext cx="149760" cy="117720"/>
            </a:xfrm>
            <a:custGeom>
              <a:avLst/>
              <a:gdLst/>
              <a:ahLst/>
              <a:rect l="0" t="0" r="r" b="b"/>
              <a:pathLst>
                <a:path w="416" h="327">
                  <a:moveTo>
                    <a:pt x="39" y="164"/>
                  </a:moveTo>
                  <a:lnTo>
                    <a:pt x="39" y="195"/>
                  </a:lnTo>
                  <a:lnTo>
                    <a:pt x="39" y="217"/>
                  </a:lnTo>
                  <a:lnTo>
                    <a:pt x="39" y="234"/>
                  </a:lnTo>
                  <a:lnTo>
                    <a:pt x="30" y="256"/>
                  </a:lnTo>
                  <a:lnTo>
                    <a:pt x="30" y="274"/>
                  </a:lnTo>
                  <a:lnTo>
                    <a:pt x="26" y="287"/>
                  </a:lnTo>
                  <a:lnTo>
                    <a:pt x="22" y="296"/>
                  </a:lnTo>
                  <a:lnTo>
                    <a:pt x="17" y="305"/>
                  </a:lnTo>
                  <a:lnTo>
                    <a:pt x="13" y="322"/>
                  </a:lnTo>
                  <a:lnTo>
                    <a:pt x="4" y="322"/>
                  </a:lnTo>
                  <a:lnTo>
                    <a:pt x="4" y="327"/>
                  </a:lnTo>
                  <a:lnTo>
                    <a:pt x="0" y="327"/>
                  </a:lnTo>
                  <a:lnTo>
                    <a:pt x="416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5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7"/>
                  </a:lnTo>
                  <a:lnTo>
                    <a:pt x="39" y="114"/>
                  </a:lnTo>
                  <a:lnTo>
                    <a:pt x="39" y="145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78240" y="3747960"/>
              <a:ext cx="149760" cy="117720"/>
            </a:xfrm>
            <a:custGeom>
              <a:avLst/>
              <a:gdLst/>
              <a:ahLst/>
              <a:rect l="0" t="0" r="r" b="b"/>
              <a:pathLst>
                <a:path w="416" h="327">
                  <a:moveTo>
                    <a:pt x="39" y="164"/>
                  </a:moveTo>
                  <a:lnTo>
                    <a:pt x="39" y="190"/>
                  </a:lnTo>
                  <a:lnTo>
                    <a:pt x="39" y="217"/>
                  </a:lnTo>
                  <a:lnTo>
                    <a:pt x="39" y="234"/>
                  </a:lnTo>
                  <a:lnTo>
                    <a:pt x="30" y="256"/>
                  </a:lnTo>
                  <a:lnTo>
                    <a:pt x="30" y="269"/>
                  </a:lnTo>
                  <a:lnTo>
                    <a:pt x="26" y="287"/>
                  </a:lnTo>
                  <a:lnTo>
                    <a:pt x="22" y="296"/>
                  </a:lnTo>
                  <a:lnTo>
                    <a:pt x="17" y="305"/>
                  </a:lnTo>
                  <a:lnTo>
                    <a:pt x="13" y="322"/>
                  </a:lnTo>
                  <a:lnTo>
                    <a:pt x="4" y="322"/>
                  </a:lnTo>
                  <a:lnTo>
                    <a:pt x="4" y="327"/>
                  </a:lnTo>
                  <a:lnTo>
                    <a:pt x="0" y="327"/>
                  </a:lnTo>
                  <a:lnTo>
                    <a:pt x="416" y="16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3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0"/>
                  </a:lnTo>
                  <a:lnTo>
                    <a:pt x="26" y="48"/>
                  </a:lnTo>
                  <a:lnTo>
                    <a:pt x="30" y="61"/>
                  </a:lnTo>
                  <a:lnTo>
                    <a:pt x="30" y="79"/>
                  </a:lnTo>
                  <a:lnTo>
                    <a:pt x="39" y="92"/>
                  </a:lnTo>
                  <a:lnTo>
                    <a:pt x="39" y="110"/>
                  </a:lnTo>
                  <a:lnTo>
                    <a:pt x="39" y="141"/>
                  </a:lnTo>
                  <a:lnTo>
                    <a:pt x="39" y="1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81480" y="4264200"/>
              <a:ext cx="149760" cy="120960"/>
            </a:xfrm>
            <a:custGeom>
              <a:avLst/>
              <a:gdLst/>
              <a:ahLst/>
              <a:rect l="0" t="0" r="r" b="b"/>
              <a:pathLst>
                <a:path w="416" h="336">
                  <a:moveTo>
                    <a:pt x="39" y="167"/>
                  </a:moveTo>
                  <a:lnTo>
                    <a:pt x="39" y="199"/>
                  </a:lnTo>
                  <a:lnTo>
                    <a:pt x="39" y="217"/>
                  </a:lnTo>
                  <a:lnTo>
                    <a:pt x="39" y="239"/>
                  </a:lnTo>
                  <a:lnTo>
                    <a:pt x="30" y="265"/>
                  </a:lnTo>
                  <a:lnTo>
                    <a:pt x="30" y="278"/>
                  </a:lnTo>
                  <a:lnTo>
                    <a:pt x="26" y="292"/>
                  </a:lnTo>
                  <a:lnTo>
                    <a:pt x="22" y="296"/>
                  </a:lnTo>
                  <a:lnTo>
                    <a:pt x="17" y="314"/>
                  </a:lnTo>
                  <a:lnTo>
                    <a:pt x="13" y="327"/>
                  </a:lnTo>
                  <a:lnTo>
                    <a:pt x="4" y="327"/>
                  </a:lnTo>
                  <a:lnTo>
                    <a:pt x="4" y="336"/>
                  </a:lnTo>
                  <a:lnTo>
                    <a:pt x="0" y="336"/>
                  </a:lnTo>
                  <a:lnTo>
                    <a:pt x="416" y="167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3" y="17"/>
                  </a:lnTo>
                  <a:lnTo>
                    <a:pt x="17" y="22"/>
                  </a:lnTo>
                  <a:lnTo>
                    <a:pt x="17" y="30"/>
                  </a:lnTo>
                  <a:lnTo>
                    <a:pt x="22" y="39"/>
                  </a:lnTo>
                  <a:lnTo>
                    <a:pt x="26" y="48"/>
                  </a:lnTo>
                  <a:lnTo>
                    <a:pt x="30" y="66"/>
                  </a:lnTo>
                  <a:lnTo>
                    <a:pt x="30" y="79"/>
                  </a:lnTo>
                  <a:lnTo>
                    <a:pt x="39" y="97"/>
                  </a:lnTo>
                  <a:lnTo>
                    <a:pt x="39" y="119"/>
                  </a:lnTo>
                  <a:lnTo>
                    <a:pt x="39" y="145"/>
                  </a:lnTo>
                  <a:lnTo>
                    <a:pt x="39" y="1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73320" y="26226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273320" y="297648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273320" y="3335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73320" y="363996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73320" y="395136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54360" y="3311640"/>
              <a:ext cx="1787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54360" y="3600360"/>
              <a:ext cx="1787760" cy="0"/>
            </a:xfrm>
            <a:prstGeom prst="line">
              <a:avLst/>
            </a:prstGeom>
            <a:ln w="1260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654360" y="4013280"/>
              <a:ext cx="1787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64080" y="4398840"/>
              <a:ext cx="1787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654360" y="4724280"/>
              <a:ext cx="17877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52960" y="5943600"/>
              <a:ext cx="1795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67360" y="5622840"/>
              <a:ext cx="1795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970600" y="5021280"/>
              <a:ext cx="1795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65920" y="4359240"/>
              <a:ext cx="17953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952960" y="3733920"/>
              <a:ext cx="1812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79960" y="300816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81760" y="2620800"/>
              <a:ext cx="17841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967360" y="2265480"/>
              <a:ext cx="17985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 txBox="1"/>
            <p:nvPr/>
          </p:nvSpPr>
          <p:spPr>
            <a:xfrm>
              <a:off x="5867280" y="3276720"/>
              <a:ext cx="19098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l Govern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5867280" y="3886200"/>
              <a:ext cx="19098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l Govern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 txBox="1"/>
            <p:nvPr/>
          </p:nvSpPr>
          <p:spPr>
            <a:xfrm>
              <a:off x="5943600" y="5638680"/>
              <a:ext cx="19098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l Govern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1371600" y="228600"/>
            <a:ext cx="6829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ording the Payro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762120" y="129528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Jan. 18    Wages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1736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Income Tax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165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ocial Security Tax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107.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edicare Tax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25.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Union Dues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6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edical Insuranc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remium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20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Wages Payabl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1232.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57400" indent="-22860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pay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295280" y="228600"/>
            <a:ext cx="72104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ording Payroll Tax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29528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Jan. 18  Payroll Tax Expens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240.4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ocial Security Taxe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107.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edicare Tax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25.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ederal Unemploymen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ax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13.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tate Unemploymen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axes Pay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93.74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payroll ta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1905120" y="990720"/>
            <a:ext cx="483084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066680" y="2362320"/>
            <a:ext cx="769608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ive four examples of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mployer’s payroll expe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Social Security Tax (1/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Medicare Ta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Federal Unemployment ta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State Unemployment ta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553080" y="304920"/>
            <a:ext cx="2208600" cy="2132280"/>
            <a:chOff x="6553080" y="304920"/>
            <a:chExt cx="2208600" cy="2132280"/>
          </a:xfrm>
        </p:grpSpPr>
        <p:sp>
          <p:nvSpPr>
            <p:cNvPr id="553" name=""/>
            <p:cNvSpPr/>
            <p:nvPr/>
          </p:nvSpPr>
          <p:spPr>
            <a:xfrm>
              <a:off x="6559560" y="1349280"/>
              <a:ext cx="536760" cy="748080"/>
            </a:xfrm>
            <a:custGeom>
              <a:avLst/>
              <a:gdLst/>
              <a:ahLst/>
              <a:rect l="0" t="0" r="r" b="b"/>
              <a:pathLst>
                <a:path w="1491" h="2078">
                  <a:moveTo>
                    <a:pt x="595" y="0"/>
                  </a:moveTo>
                  <a:lnTo>
                    <a:pt x="515" y="88"/>
                  </a:lnTo>
                  <a:lnTo>
                    <a:pt x="515" y="366"/>
                  </a:lnTo>
                  <a:lnTo>
                    <a:pt x="595" y="561"/>
                  </a:lnTo>
                  <a:lnTo>
                    <a:pt x="687" y="658"/>
                  </a:lnTo>
                  <a:lnTo>
                    <a:pt x="551" y="790"/>
                  </a:lnTo>
                  <a:lnTo>
                    <a:pt x="374" y="1094"/>
                  </a:lnTo>
                  <a:lnTo>
                    <a:pt x="30" y="1571"/>
                  </a:lnTo>
                  <a:lnTo>
                    <a:pt x="0" y="1682"/>
                  </a:lnTo>
                  <a:lnTo>
                    <a:pt x="30" y="1779"/>
                  </a:lnTo>
                  <a:lnTo>
                    <a:pt x="136" y="1779"/>
                  </a:lnTo>
                  <a:lnTo>
                    <a:pt x="224" y="1668"/>
                  </a:lnTo>
                  <a:lnTo>
                    <a:pt x="374" y="1398"/>
                  </a:lnTo>
                  <a:lnTo>
                    <a:pt x="463" y="1284"/>
                  </a:lnTo>
                  <a:lnTo>
                    <a:pt x="515" y="1465"/>
                  </a:lnTo>
                  <a:lnTo>
                    <a:pt x="480" y="1655"/>
                  </a:lnTo>
                  <a:lnTo>
                    <a:pt x="330" y="1924"/>
                  </a:lnTo>
                  <a:lnTo>
                    <a:pt x="374" y="1995"/>
                  </a:lnTo>
                  <a:lnTo>
                    <a:pt x="463" y="1973"/>
                  </a:lnTo>
                  <a:lnTo>
                    <a:pt x="648" y="1827"/>
                  </a:lnTo>
                  <a:lnTo>
                    <a:pt x="794" y="1589"/>
                  </a:lnTo>
                  <a:lnTo>
                    <a:pt x="794" y="2008"/>
                  </a:lnTo>
                  <a:lnTo>
                    <a:pt x="971" y="2078"/>
                  </a:lnTo>
                  <a:lnTo>
                    <a:pt x="1076" y="1818"/>
                  </a:lnTo>
                  <a:lnTo>
                    <a:pt x="1169" y="2061"/>
                  </a:lnTo>
                  <a:lnTo>
                    <a:pt x="1240" y="1995"/>
                  </a:lnTo>
                  <a:lnTo>
                    <a:pt x="1271" y="1509"/>
                  </a:lnTo>
                  <a:lnTo>
                    <a:pt x="1491" y="1054"/>
                  </a:lnTo>
                  <a:lnTo>
                    <a:pt x="1442" y="790"/>
                  </a:lnTo>
                  <a:lnTo>
                    <a:pt x="1288" y="693"/>
                  </a:lnTo>
                  <a:lnTo>
                    <a:pt x="1129" y="702"/>
                  </a:lnTo>
                  <a:lnTo>
                    <a:pt x="1076" y="489"/>
                  </a:lnTo>
                  <a:lnTo>
                    <a:pt x="913" y="440"/>
                  </a:lnTo>
                  <a:lnTo>
                    <a:pt x="768" y="374"/>
                  </a:lnTo>
                  <a:lnTo>
                    <a:pt x="687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10280" y="1654200"/>
              <a:ext cx="157680" cy="359280"/>
            </a:xfrm>
            <a:custGeom>
              <a:avLst/>
              <a:gdLst/>
              <a:ahLst/>
              <a:rect l="0" t="0" r="r" b="b"/>
              <a:pathLst>
                <a:path w="438" h="998">
                  <a:moveTo>
                    <a:pt x="217" y="0"/>
                  </a:moveTo>
                  <a:lnTo>
                    <a:pt x="438" y="256"/>
                  </a:lnTo>
                  <a:lnTo>
                    <a:pt x="327" y="817"/>
                  </a:lnTo>
                  <a:lnTo>
                    <a:pt x="0" y="998"/>
                  </a:lnTo>
                  <a:lnTo>
                    <a:pt x="0" y="710"/>
                  </a:lnTo>
                  <a:lnTo>
                    <a:pt x="133" y="424"/>
                  </a:lnTo>
                  <a:lnTo>
                    <a:pt x="217" y="207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035920" y="1446120"/>
              <a:ext cx="395640" cy="325800"/>
            </a:xfrm>
            <a:custGeom>
              <a:avLst/>
              <a:gdLst/>
              <a:ahLst/>
              <a:rect l="0" t="0" r="r" b="b"/>
              <a:pathLst>
                <a:path w="1099" h="905">
                  <a:moveTo>
                    <a:pt x="454" y="0"/>
                  </a:moveTo>
                  <a:lnTo>
                    <a:pt x="454" y="141"/>
                  </a:lnTo>
                  <a:lnTo>
                    <a:pt x="489" y="278"/>
                  </a:lnTo>
                  <a:lnTo>
                    <a:pt x="706" y="490"/>
                  </a:lnTo>
                  <a:lnTo>
                    <a:pt x="1099" y="609"/>
                  </a:lnTo>
                  <a:lnTo>
                    <a:pt x="1046" y="888"/>
                  </a:lnTo>
                  <a:lnTo>
                    <a:pt x="706" y="905"/>
                  </a:lnTo>
                  <a:lnTo>
                    <a:pt x="211" y="711"/>
                  </a:lnTo>
                  <a:lnTo>
                    <a:pt x="0" y="362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196120" y="1077840"/>
              <a:ext cx="551160" cy="717840"/>
            </a:xfrm>
            <a:custGeom>
              <a:avLst/>
              <a:gdLst/>
              <a:ahLst/>
              <a:rect l="0" t="0" r="r" b="b"/>
              <a:pathLst>
                <a:path w="1531" h="1994">
                  <a:moveTo>
                    <a:pt x="136" y="846"/>
                  </a:moveTo>
                  <a:lnTo>
                    <a:pt x="0" y="987"/>
                  </a:lnTo>
                  <a:lnTo>
                    <a:pt x="30" y="1310"/>
                  </a:lnTo>
                  <a:lnTo>
                    <a:pt x="242" y="1465"/>
                  </a:lnTo>
                  <a:lnTo>
                    <a:pt x="260" y="1958"/>
                  </a:lnTo>
                  <a:lnTo>
                    <a:pt x="476" y="1958"/>
                  </a:lnTo>
                  <a:lnTo>
                    <a:pt x="463" y="1539"/>
                  </a:lnTo>
                  <a:lnTo>
                    <a:pt x="621" y="1976"/>
                  </a:lnTo>
                  <a:lnTo>
                    <a:pt x="727" y="1994"/>
                  </a:lnTo>
                  <a:lnTo>
                    <a:pt x="803" y="1853"/>
                  </a:lnTo>
                  <a:lnTo>
                    <a:pt x="816" y="1575"/>
                  </a:lnTo>
                  <a:lnTo>
                    <a:pt x="1054" y="1826"/>
                  </a:lnTo>
                  <a:lnTo>
                    <a:pt x="1147" y="1808"/>
                  </a:lnTo>
                  <a:lnTo>
                    <a:pt x="1125" y="1632"/>
                  </a:lnTo>
                  <a:lnTo>
                    <a:pt x="1037" y="1381"/>
                  </a:lnTo>
                  <a:lnTo>
                    <a:pt x="944" y="1213"/>
                  </a:lnTo>
                  <a:lnTo>
                    <a:pt x="979" y="1103"/>
                  </a:lnTo>
                  <a:lnTo>
                    <a:pt x="1037" y="1121"/>
                  </a:lnTo>
                  <a:lnTo>
                    <a:pt x="1248" y="1381"/>
                  </a:lnTo>
                  <a:lnTo>
                    <a:pt x="1482" y="1442"/>
                  </a:lnTo>
                  <a:lnTo>
                    <a:pt x="1531" y="1363"/>
                  </a:lnTo>
                  <a:lnTo>
                    <a:pt x="1495" y="1231"/>
                  </a:lnTo>
                  <a:lnTo>
                    <a:pt x="1068" y="824"/>
                  </a:lnTo>
                  <a:lnTo>
                    <a:pt x="727" y="701"/>
                  </a:lnTo>
                  <a:lnTo>
                    <a:pt x="683" y="480"/>
                  </a:lnTo>
                  <a:lnTo>
                    <a:pt x="803" y="277"/>
                  </a:lnTo>
                  <a:lnTo>
                    <a:pt x="803" y="66"/>
                  </a:lnTo>
                  <a:lnTo>
                    <a:pt x="709" y="0"/>
                  </a:lnTo>
                  <a:lnTo>
                    <a:pt x="463" y="537"/>
                  </a:lnTo>
                  <a:lnTo>
                    <a:pt x="242" y="621"/>
                  </a:lnTo>
                  <a:lnTo>
                    <a:pt x="185" y="767"/>
                  </a:lnTo>
                  <a:lnTo>
                    <a:pt x="136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88200" y="455760"/>
              <a:ext cx="603720" cy="916200"/>
            </a:xfrm>
            <a:custGeom>
              <a:avLst/>
              <a:gdLst/>
              <a:ahLst/>
              <a:rect l="0" t="0" r="r" b="b"/>
              <a:pathLst>
                <a:path w="1677" h="2545">
                  <a:moveTo>
                    <a:pt x="418" y="352"/>
                  </a:moveTo>
                  <a:lnTo>
                    <a:pt x="295" y="842"/>
                  </a:lnTo>
                  <a:lnTo>
                    <a:pt x="17" y="934"/>
                  </a:lnTo>
                  <a:lnTo>
                    <a:pt x="92" y="1093"/>
                  </a:lnTo>
                  <a:lnTo>
                    <a:pt x="0" y="1190"/>
                  </a:lnTo>
                  <a:lnTo>
                    <a:pt x="0" y="1363"/>
                  </a:lnTo>
                  <a:lnTo>
                    <a:pt x="132" y="1526"/>
                  </a:lnTo>
                  <a:lnTo>
                    <a:pt x="260" y="1526"/>
                  </a:lnTo>
                  <a:lnTo>
                    <a:pt x="348" y="2095"/>
                  </a:lnTo>
                  <a:lnTo>
                    <a:pt x="450" y="2338"/>
                  </a:lnTo>
                  <a:lnTo>
                    <a:pt x="799" y="2545"/>
                  </a:lnTo>
                  <a:lnTo>
                    <a:pt x="1138" y="2514"/>
                  </a:lnTo>
                  <a:lnTo>
                    <a:pt x="1302" y="2095"/>
                  </a:lnTo>
                  <a:lnTo>
                    <a:pt x="1342" y="1447"/>
                  </a:lnTo>
                  <a:lnTo>
                    <a:pt x="1677" y="1128"/>
                  </a:lnTo>
                  <a:lnTo>
                    <a:pt x="1660" y="1001"/>
                  </a:lnTo>
                  <a:lnTo>
                    <a:pt x="1624" y="934"/>
                  </a:lnTo>
                  <a:lnTo>
                    <a:pt x="1448" y="921"/>
                  </a:lnTo>
                  <a:lnTo>
                    <a:pt x="1501" y="754"/>
                  </a:lnTo>
                  <a:lnTo>
                    <a:pt x="1324" y="639"/>
                  </a:lnTo>
                  <a:lnTo>
                    <a:pt x="1248" y="282"/>
                  </a:lnTo>
                  <a:lnTo>
                    <a:pt x="728" y="0"/>
                  </a:lnTo>
                  <a:lnTo>
                    <a:pt x="450" y="260"/>
                  </a:lnTo>
                  <a:lnTo>
                    <a:pt x="418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32840" y="1220760"/>
              <a:ext cx="552960" cy="1095840"/>
            </a:xfrm>
            <a:custGeom>
              <a:avLst/>
              <a:gdLst/>
              <a:ahLst/>
              <a:rect l="0" t="0" r="r" b="b"/>
              <a:pathLst>
                <a:path w="1536" h="3044">
                  <a:moveTo>
                    <a:pt x="313" y="163"/>
                  </a:moveTo>
                  <a:lnTo>
                    <a:pt x="534" y="304"/>
                  </a:lnTo>
                  <a:lnTo>
                    <a:pt x="640" y="471"/>
                  </a:lnTo>
                  <a:lnTo>
                    <a:pt x="1254" y="0"/>
                  </a:lnTo>
                  <a:lnTo>
                    <a:pt x="1448" y="97"/>
                  </a:lnTo>
                  <a:lnTo>
                    <a:pt x="1536" y="582"/>
                  </a:lnTo>
                  <a:lnTo>
                    <a:pt x="1094" y="1972"/>
                  </a:lnTo>
                  <a:lnTo>
                    <a:pt x="1236" y="2749"/>
                  </a:lnTo>
                  <a:lnTo>
                    <a:pt x="653" y="3044"/>
                  </a:lnTo>
                  <a:lnTo>
                    <a:pt x="207" y="2877"/>
                  </a:lnTo>
                  <a:lnTo>
                    <a:pt x="207" y="2060"/>
                  </a:lnTo>
                  <a:lnTo>
                    <a:pt x="0" y="1262"/>
                  </a:lnTo>
                  <a:lnTo>
                    <a:pt x="207" y="304"/>
                  </a:lnTo>
                  <a:lnTo>
                    <a:pt x="313" y="16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356600" y="334800"/>
              <a:ext cx="516240" cy="289440"/>
            </a:xfrm>
            <a:custGeom>
              <a:avLst/>
              <a:gdLst/>
              <a:ahLst/>
              <a:rect l="0" t="0" r="r" b="b"/>
              <a:pathLst>
                <a:path w="1434" h="804">
                  <a:moveTo>
                    <a:pt x="176" y="769"/>
                  </a:moveTo>
                  <a:lnTo>
                    <a:pt x="388" y="552"/>
                  </a:lnTo>
                  <a:lnTo>
                    <a:pt x="520" y="516"/>
                  </a:lnTo>
                  <a:lnTo>
                    <a:pt x="520" y="538"/>
                  </a:lnTo>
                  <a:lnTo>
                    <a:pt x="586" y="516"/>
                  </a:lnTo>
                  <a:lnTo>
                    <a:pt x="674" y="583"/>
                  </a:lnTo>
                  <a:lnTo>
                    <a:pt x="847" y="614"/>
                  </a:lnTo>
                  <a:lnTo>
                    <a:pt x="984" y="804"/>
                  </a:lnTo>
                  <a:lnTo>
                    <a:pt x="1209" y="725"/>
                  </a:lnTo>
                  <a:lnTo>
                    <a:pt x="1209" y="632"/>
                  </a:lnTo>
                  <a:lnTo>
                    <a:pt x="1434" y="538"/>
                  </a:lnTo>
                  <a:lnTo>
                    <a:pt x="1368" y="389"/>
                  </a:lnTo>
                  <a:lnTo>
                    <a:pt x="1151" y="375"/>
                  </a:lnTo>
                  <a:lnTo>
                    <a:pt x="1187" y="208"/>
                  </a:lnTo>
                  <a:lnTo>
                    <a:pt x="1006" y="230"/>
                  </a:lnTo>
                  <a:lnTo>
                    <a:pt x="971" y="114"/>
                  </a:lnTo>
                  <a:lnTo>
                    <a:pt x="847" y="114"/>
                  </a:lnTo>
                  <a:lnTo>
                    <a:pt x="759" y="180"/>
                  </a:lnTo>
                  <a:lnTo>
                    <a:pt x="674" y="180"/>
                  </a:lnTo>
                  <a:lnTo>
                    <a:pt x="692" y="0"/>
                  </a:lnTo>
                  <a:lnTo>
                    <a:pt x="520" y="79"/>
                  </a:lnTo>
                  <a:lnTo>
                    <a:pt x="282" y="375"/>
                  </a:lnTo>
                  <a:lnTo>
                    <a:pt x="268" y="180"/>
                  </a:lnTo>
                  <a:lnTo>
                    <a:pt x="141" y="274"/>
                  </a:lnTo>
                  <a:lnTo>
                    <a:pt x="110" y="516"/>
                  </a:lnTo>
                  <a:lnTo>
                    <a:pt x="0" y="477"/>
                  </a:lnTo>
                  <a:lnTo>
                    <a:pt x="17" y="632"/>
                  </a:lnTo>
                  <a:lnTo>
                    <a:pt x="176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497720" y="1422360"/>
              <a:ext cx="162360" cy="829080"/>
            </a:xfrm>
            <a:custGeom>
              <a:avLst/>
              <a:gdLst/>
              <a:ahLst/>
              <a:rect l="0" t="0" r="r" b="b"/>
              <a:pathLst>
                <a:path w="451" h="2303">
                  <a:moveTo>
                    <a:pt x="234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6" y="370"/>
                  </a:lnTo>
                  <a:lnTo>
                    <a:pt x="39" y="680"/>
                  </a:lnTo>
                  <a:lnTo>
                    <a:pt x="0" y="1081"/>
                  </a:lnTo>
                  <a:lnTo>
                    <a:pt x="115" y="1614"/>
                  </a:lnTo>
                  <a:lnTo>
                    <a:pt x="115" y="1836"/>
                  </a:lnTo>
                  <a:lnTo>
                    <a:pt x="52" y="2004"/>
                  </a:lnTo>
                  <a:lnTo>
                    <a:pt x="283" y="2303"/>
                  </a:lnTo>
                  <a:lnTo>
                    <a:pt x="434" y="1849"/>
                  </a:lnTo>
                  <a:lnTo>
                    <a:pt x="434" y="1544"/>
                  </a:lnTo>
                  <a:lnTo>
                    <a:pt x="322" y="1262"/>
                  </a:lnTo>
                  <a:lnTo>
                    <a:pt x="269" y="869"/>
                  </a:lnTo>
                  <a:lnTo>
                    <a:pt x="385" y="489"/>
                  </a:lnTo>
                  <a:lnTo>
                    <a:pt x="341" y="339"/>
                  </a:lnTo>
                  <a:lnTo>
                    <a:pt x="451" y="260"/>
                  </a:lnTo>
                  <a:lnTo>
                    <a:pt x="434" y="163"/>
                  </a:lnTo>
                  <a:lnTo>
                    <a:pt x="300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89800" y="114624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66"/>
                  </a:moveTo>
                  <a:lnTo>
                    <a:pt x="145" y="208"/>
                  </a:lnTo>
                  <a:lnTo>
                    <a:pt x="296" y="190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343640" y="763560"/>
              <a:ext cx="165600" cy="162360"/>
            </a:xfrm>
            <a:custGeom>
              <a:avLst/>
              <a:gdLst/>
              <a:ahLst/>
              <a:rect l="0" t="0" r="r" b="b"/>
              <a:pathLst>
                <a:path w="460" h="451">
                  <a:moveTo>
                    <a:pt x="0" y="52"/>
                  </a:moveTo>
                  <a:lnTo>
                    <a:pt x="318" y="451"/>
                  </a:lnTo>
                  <a:lnTo>
                    <a:pt x="460" y="420"/>
                  </a:lnTo>
                  <a:lnTo>
                    <a:pt x="12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35960" y="730080"/>
              <a:ext cx="141480" cy="160560"/>
            </a:xfrm>
            <a:custGeom>
              <a:avLst/>
              <a:gdLst/>
              <a:ahLst/>
              <a:rect l="0" t="0" r="r" b="b"/>
              <a:pathLst>
                <a:path w="393" h="446">
                  <a:moveTo>
                    <a:pt x="0" y="66"/>
                  </a:moveTo>
                  <a:lnTo>
                    <a:pt x="269" y="446"/>
                  </a:lnTo>
                  <a:lnTo>
                    <a:pt x="393" y="344"/>
                  </a:lnTo>
                  <a:lnTo>
                    <a:pt x="11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283520" y="520560"/>
              <a:ext cx="574920" cy="405000"/>
            </a:xfrm>
            <a:custGeom>
              <a:avLst/>
              <a:gdLst/>
              <a:ahLst/>
              <a:rect l="0" t="0" r="r" b="b"/>
              <a:pathLst>
                <a:path w="1597" h="1125">
                  <a:moveTo>
                    <a:pt x="736" y="666"/>
                  </a:moveTo>
                  <a:lnTo>
                    <a:pt x="582" y="627"/>
                  </a:lnTo>
                  <a:lnTo>
                    <a:pt x="709" y="524"/>
                  </a:lnTo>
                  <a:lnTo>
                    <a:pt x="665" y="476"/>
                  </a:lnTo>
                  <a:lnTo>
                    <a:pt x="502" y="605"/>
                  </a:lnTo>
                  <a:lnTo>
                    <a:pt x="202" y="636"/>
                  </a:lnTo>
                  <a:lnTo>
                    <a:pt x="0" y="644"/>
                  </a:lnTo>
                  <a:lnTo>
                    <a:pt x="0" y="803"/>
                  </a:lnTo>
                  <a:lnTo>
                    <a:pt x="189" y="1116"/>
                  </a:lnTo>
                  <a:lnTo>
                    <a:pt x="238" y="1125"/>
                  </a:lnTo>
                  <a:lnTo>
                    <a:pt x="61" y="777"/>
                  </a:lnTo>
                  <a:lnTo>
                    <a:pt x="326" y="666"/>
                  </a:lnTo>
                  <a:lnTo>
                    <a:pt x="502" y="666"/>
                  </a:lnTo>
                  <a:lnTo>
                    <a:pt x="635" y="737"/>
                  </a:lnTo>
                  <a:lnTo>
                    <a:pt x="665" y="830"/>
                  </a:lnTo>
                  <a:lnTo>
                    <a:pt x="665" y="1046"/>
                  </a:lnTo>
                  <a:lnTo>
                    <a:pt x="665" y="1116"/>
                  </a:lnTo>
                  <a:lnTo>
                    <a:pt x="745" y="1015"/>
                  </a:lnTo>
                  <a:lnTo>
                    <a:pt x="745" y="794"/>
                  </a:lnTo>
                  <a:lnTo>
                    <a:pt x="852" y="794"/>
                  </a:lnTo>
                  <a:lnTo>
                    <a:pt x="913" y="1046"/>
                  </a:lnTo>
                  <a:lnTo>
                    <a:pt x="971" y="1068"/>
                  </a:lnTo>
                  <a:lnTo>
                    <a:pt x="1169" y="1068"/>
                  </a:lnTo>
                  <a:lnTo>
                    <a:pt x="1363" y="1024"/>
                  </a:lnTo>
                  <a:lnTo>
                    <a:pt x="1500" y="927"/>
                  </a:lnTo>
                  <a:lnTo>
                    <a:pt x="1522" y="702"/>
                  </a:lnTo>
                  <a:lnTo>
                    <a:pt x="1597" y="605"/>
                  </a:lnTo>
                  <a:lnTo>
                    <a:pt x="1553" y="542"/>
                  </a:lnTo>
                  <a:lnTo>
                    <a:pt x="1376" y="480"/>
                  </a:lnTo>
                  <a:lnTo>
                    <a:pt x="1345" y="251"/>
                  </a:lnTo>
                  <a:lnTo>
                    <a:pt x="1178" y="251"/>
                  </a:lnTo>
                  <a:lnTo>
                    <a:pt x="979" y="0"/>
                  </a:lnTo>
                  <a:lnTo>
                    <a:pt x="1165" y="277"/>
                  </a:lnTo>
                  <a:lnTo>
                    <a:pt x="1218" y="277"/>
                  </a:lnTo>
                  <a:lnTo>
                    <a:pt x="1257" y="476"/>
                  </a:lnTo>
                  <a:lnTo>
                    <a:pt x="1032" y="542"/>
                  </a:lnTo>
                  <a:lnTo>
                    <a:pt x="865" y="489"/>
                  </a:lnTo>
                  <a:lnTo>
                    <a:pt x="843" y="542"/>
                  </a:lnTo>
                  <a:lnTo>
                    <a:pt x="931" y="605"/>
                  </a:lnTo>
                  <a:lnTo>
                    <a:pt x="931" y="653"/>
                  </a:lnTo>
                  <a:lnTo>
                    <a:pt x="1121" y="574"/>
                  </a:lnTo>
                  <a:lnTo>
                    <a:pt x="1288" y="555"/>
                  </a:lnTo>
                  <a:lnTo>
                    <a:pt x="1465" y="583"/>
                  </a:lnTo>
                  <a:lnTo>
                    <a:pt x="1465" y="613"/>
                  </a:lnTo>
                  <a:lnTo>
                    <a:pt x="1376" y="693"/>
                  </a:lnTo>
                  <a:lnTo>
                    <a:pt x="1345" y="794"/>
                  </a:lnTo>
                  <a:lnTo>
                    <a:pt x="1337" y="927"/>
                  </a:lnTo>
                  <a:lnTo>
                    <a:pt x="1231" y="988"/>
                  </a:lnTo>
                  <a:lnTo>
                    <a:pt x="1076" y="1002"/>
                  </a:lnTo>
                  <a:lnTo>
                    <a:pt x="971" y="1002"/>
                  </a:lnTo>
                  <a:lnTo>
                    <a:pt x="931" y="957"/>
                  </a:lnTo>
                  <a:lnTo>
                    <a:pt x="913" y="702"/>
                  </a:lnTo>
                  <a:lnTo>
                    <a:pt x="745" y="702"/>
                  </a:lnTo>
                  <a:lnTo>
                    <a:pt x="736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481880" y="988920"/>
              <a:ext cx="186120" cy="82800"/>
            </a:xfrm>
            <a:custGeom>
              <a:avLst/>
              <a:gdLst/>
              <a:ahLst/>
              <a:rect l="0" t="0" r="r" b="b"/>
              <a:pathLst>
                <a:path w="517" h="230">
                  <a:moveTo>
                    <a:pt x="0" y="0"/>
                  </a:moveTo>
                  <a:lnTo>
                    <a:pt x="83" y="105"/>
                  </a:lnTo>
                  <a:lnTo>
                    <a:pt x="305" y="105"/>
                  </a:lnTo>
                  <a:lnTo>
                    <a:pt x="398" y="26"/>
                  </a:lnTo>
                  <a:lnTo>
                    <a:pt x="517" y="26"/>
                  </a:lnTo>
                  <a:lnTo>
                    <a:pt x="495" y="70"/>
                  </a:lnTo>
                  <a:lnTo>
                    <a:pt x="495" y="105"/>
                  </a:lnTo>
                  <a:lnTo>
                    <a:pt x="287" y="230"/>
                  </a:lnTo>
                  <a:lnTo>
                    <a:pt x="172" y="230"/>
                  </a:lnTo>
                  <a:lnTo>
                    <a:pt x="110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275600" y="853920"/>
              <a:ext cx="281520" cy="437040"/>
            </a:xfrm>
            <a:custGeom>
              <a:avLst/>
              <a:gdLst/>
              <a:ahLst/>
              <a:rect l="0" t="0" r="r" b="b"/>
              <a:pathLst>
                <a:path w="782" h="1214">
                  <a:moveTo>
                    <a:pt x="782" y="83"/>
                  </a:moveTo>
                  <a:lnTo>
                    <a:pt x="782" y="105"/>
                  </a:lnTo>
                  <a:lnTo>
                    <a:pt x="641" y="229"/>
                  </a:lnTo>
                  <a:lnTo>
                    <a:pt x="530" y="251"/>
                  </a:lnTo>
                  <a:lnTo>
                    <a:pt x="309" y="216"/>
                  </a:lnTo>
                  <a:lnTo>
                    <a:pt x="353" y="653"/>
                  </a:lnTo>
                  <a:lnTo>
                    <a:pt x="402" y="1016"/>
                  </a:lnTo>
                  <a:lnTo>
                    <a:pt x="499" y="1214"/>
                  </a:lnTo>
                  <a:lnTo>
                    <a:pt x="402" y="1073"/>
                  </a:lnTo>
                  <a:lnTo>
                    <a:pt x="367" y="919"/>
                  </a:lnTo>
                  <a:lnTo>
                    <a:pt x="300" y="512"/>
                  </a:lnTo>
                  <a:lnTo>
                    <a:pt x="243" y="534"/>
                  </a:lnTo>
                  <a:lnTo>
                    <a:pt x="163" y="494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6" y="26"/>
                  </a:lnTo>
                  <a:lnTo>
                    <a:pt x="57" y="57"/>
                  </a:lnTo>
                  <a:lnTo>
                    <a:pt x="48" y="141"/>
                  </a:lnTo>
                  <a:lnTo>
                    <a:pt x="52" y="260"/>
                  </a:lnTo>
                  <a:lnTo>
                    <a:pt x="154" y="367"/>
                  </a:lnTo>
                  <a:lnTo>
                    <a:pt x="203" y="336"/>
                  </a:lnTo>
                  <a:lnTo>
                    <a:pt x="203" y="119"/>
                  </a:lnTo>
                  <a:lnTo>
                    <a:pt x="292" y="167"/>
                  </a:lnTo>
                  <a:lnTo>
                    <a:pt x="437" y="198"/>
                  </a:lnTo>
                  <a:lnTo>
                    <a:pt x="565" y="189"/>
                  </a:lnTo>
                  <a:lnTo>
                    <a:pt x="694" y="119"/>
                  </a:lnTo>
                  <a:lnTo>
                    <a:pt x="782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50120" y="509760"/>
              <a:ext cx="84600" cy="232200"/>
            </a:xfrm>
            <a:custGeom>
              <a:avLst/>
              <a:gdLst/>
              <a:ahLst/>
              <a:rect l="0" t="0" r="r" b="b"/>
              <a:pathLst>
                <a:path w="235" h="645">
                  <a:moveTo>
                    <a:pt x="120" y="645"/>
                  </a:moveTo>
                  <a:lnTo>
                    <a:pt x="235" y="261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4" y="221"/>
                  </a:lnTo>
                  <a:lnTo>
                    <a:pt x="93" y="411"/>
                  </a:lnTo>
                  <a:lnTo>
                    <a:pt x="142" y="491"/>
                  </a:lnTo>
                  <a:lnTo>
                    <a:pt x="120" y="64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346880" y="304920"/>
              <a:ext cx="632160" cy="306720"/>
            </a:xfrm>
            <a:custGeom>
              <a:avLst/>
              <a:gdLst/>
              <a:ahLst/>
              <a:rect l="0" t="0" r="r" b="b"/>
              <a:pathLst>
                <a:path w="1756" h="852">
                  <a:moveTo>
                    <a:pt x="17" y="574"/>
                  </a:moveTo>
                  <a:lnTo>
                    <a:pt x="167" y="662"/>
                  </a:lnTo>
                  <a:lnTo>
                    <a:pt x="149" y="552"/>
                  </a:lnTo>
                  <a:lnTo>
                    <a:pt x="180" y="361"/>
                  </a:lnTo>
                  <a:lnTo>
                    <a:pt x="282" y="317"/>
                  </a:lnTo>
                  <a:lnTo>
                    <a:pt x="295" y="530"/>
                  </a:lnTo>
                  <a:lnTo>
                    <a:pt x="586" y="167"/>
                  </a:lnTo>
                  <a:lnTo>
                    <a:pt x="657" y="141"/>
                  </a:lnTo>
                  <a:lnTo>
                    <a:pt x="604" y="286"/>
                  </a:lnTo>
                  <a:lnTo>
                    <a:pt x="789" y="352"/>
                  </a:lnTo>
                  <a:lnTo>
                    <a:pt x="922" y="207"/>
                  </a:lnTo>
                  <a:lnTo>
                    <a:pt x="997" y="251"/>
                  </a:lnTo>
                  <a:lnTo>
                    <a:pt x="931" y="370"/>
                  </a:lnTo>
                  <a:lnTo>
                    <a:pt x="1019" y="308"/>
                  </a:lnTo>
                  <a:lnTo>
                    <a:pt x="1151" y="361"/>
                  </a:lnTo>
                  <a:lnTo>
                    <a:pt x="1046" y="464"/>
                  </a:lnTo>
                  <a:lnTo>
                    <a:pt x="1407" y="530"/>
                  </a:lnTo>
                  <a:lnTo>
                    <a:pt x="1165" y="600"/>
                  </a:lnTo>
                  <a:lnTo>
                    <a:pt x="1465" y="640"/>
                  </a:lnTo>
                  <a:lnTo>
                    <a:pt x="1107" y="724"/>
                  </a:lnTo>
                  <a:lnTo>
                    <a:pt x="1187" y="785"/>
                  </a:lnTo>
                  <a:lnTo>
                    <a:pt x="1081" y="852"/>
                  </a:lnTo>
                  <a:lnTo>
                    <a:pt x="1266" y="852"/>
                  </a:lnTo>
                  <a:lnTo>
                    <a:pt x="1248" y="799"/>
                  </a:lnTo>
                  <a:lnTo>
                    <a:pt x="1438" y="847"/>
                  </a:lnTo>
                  <a:lnTo>
                    <a:pt x="1407" y="715"/>
                  </a:lnTo>
                  <a:lnTo>
                    <a:pt x="1584" y="653"/>
                  </a:lnTo>
                  <a:lnTo>
                    <a:pt x="1456" y="587"/>
                  </a:lnTo>
                  <a:lnTo>
                    <a:pt x="1756" y="565"/>
                  </a:lnTo>
                  <a:lnTo>
                    <a:pt x="1500" y="428"/>
                  </a:lnTo>
                  <a:lnTo>
                    <a:pt x="1204" y="401"/>
                  </a:lnTo>
                  <a:lnTo>
                    <a:pt x="1438" y="255"/>
                  </a:lnTo>
                  <a:lnTo>
                    <a:pt x="1019" y="255"/>
                  </a:lnTo>
                  <a:lnTo>
                    <a:pt x="1218" y="127"/>
                  </a:lnTo>
                  <a:lnTo>
                    <a:pt x="918" y="167"/>
                  </a:lnTo>
                  <a:lnTo>
                    <a:pt x="771" y="229"/>
                  </a:lnTo>
                  <a:lnTo>
                    <a:pt x="896" y="0"/>
                  </a:lnTo>
                  <a:lnTo>
                    <a:pt x="529" y="127"/>
                  </a:lnTo>
                  <a:lnTo>
                    <a:pt x="326" y="410"/>
                  </a:lnTo>
                  <a:lnTo>
                    <a:pt x="295" y="251"/>
                  </a:lnTo>
                  <a:lnTo>
                    <a:pt x="132" y="361"/>
                  </a:lnTo>
                  <a:lnTo>
                    <a:pt x="110" y="565"/>
                  </a:lnTo>
                  <a:lnTo>
                    <a:pt x="0" y="530"/>
                  </a:lnTo>
                  <a:lnTo>
                    <a:pt x="39" y="715"/>
                  </a:lnTo>
                  <a:lnTo>
                    <a:pt x="17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85120" y="466560"/>
              <a:ext cx="178200" cy="93960"/>
            </a:xfrm>
            <a:custGeom>
              <a:avLst/>
              <a:gdLst/>
              <a:ahLst/>
              <a:rect l="0" t="0" r="r" b="b"/>
              <a:pathLst>
                <a:path w="495" h="261">
                  <a:moveTo>
                    <a:pt x="0" y="261"/>
                  </a:moveTo>
                  <a:lnTo>
                    <a:pt x="190" y="0"/>
                  </a:lnTo>
                  <a:lnTo>
                    <a:pt x="190" y="172"/>
                  </a:lnTo>
                  <a:lnTo>
                    <a:pt x="252" y="101"/>
                  </a:lnTo>
                  <a:lnTo>
                    <a:pt x="309" y="199"/>
                  </a:lnTo>
                  <a:lnTo>
                    <a:pt x="495" y="247"/>
                  </a:lnTo>
                  <a:lnTo>
                    <a:pt x="296" y="212"/>
                  </a:lnTo>
                  <a:lnTo>
                    <a:pt x="239" y="150"/>
                  </a:lnTo>
                  <a:lnTo>
                    <a:pt x="155" y="212"/>
                  </a:lnTo>
                  <a:lnTo>
                    <a:pt x="155" y="127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467480" y="1092240"/>
              <a:ext cx="216360" cy="140040"/>
            </a:xfrm>
            <a:custGeom>
              <a:avLst/>
              <a:gdLst/>
              <a:ahLst/>
              <a:rect l="0" t="0" r="r" b="b"/>
              <a:pathLst>
                <a:path w="601" h="389">
                  <a:moveTo>
                    <a:pt x="114" y="132"/>
                  </a:moveTo>
                  <a:lnTo>
                    <a:pt x="358" y="114"/>
                  </a:lnTo>
                  <a:lnTo>
                    <a:pt x="478" y="145"/>
                  </a:lnTo>
                  <a:lnTo>
                    <a:pt x="539" y="92"/>
                  </a:lnTo>
                  <a:lnTo>
                    <a:pt x="601" y="217"/>
                  </a:lnTo>
                  <a:lnTo>
                    <a:pt x="557" y="234"/>
                  </a:lnTo>
                  <a:lnTo>
                    <a:pt x="509" y="189"/>
                  </a:lnTo>
                  <a:lnTo>
                    <a:pt x="428" y="283"/>
                  </a:lnTo>
                  <a:lnTo>
                    <a:pt x="278" y="389"/>
                  </a:lnTo>
                  <a:lnTo>
                    <a:pt x="212" y="389"/>
                  </a:lnTo>
                  <a:lnTo>
                    <a:pt x="114" y="331"/>
                  </a:lnTo>
                  <a:lnTo>
                    <a:pt x="225" y="380"/>
                  </a:lnTo>
                  <a:lnTo>
                    <a:pt x="265" y="380"/>
                  </a:lnTo>
                  <a:lnTo>
                    <a:pt x="358" y="305"/>
                  </a:lnTo>
                  <a:lnTo>
                    <a:pt x="419" y="176"/>
                  </a:lnTo>
                  <a:lnTo>
                    <a:pt x="327" y="163"/>
                  </a:lnTo>
                  <a:lnTo>
                    <a:pt x="261" y="145"/>
                  </a:lnTo>
                  <a:lnTo>
                    <a:pt x="101" y="167"/>
                  </a:lnTo>
                  <a:lnTo>
                    <a:pt x="97" y="274"/>
                  </a:lnTo>
                  <a:lnTo>
                    <a:pt x="48" y="208"/>
                  </a:lnTo>
                  <a:lnTo>
                    <a:pt x="0" y="292"/>
                  </a:lnTo>
                  <a:lnTo>
                    <a:pt x="4" y="101"/>
                  </a:lnTo>
                  <a:lnTo>
                    <a:pt x="57" y="0"/>
                  </a:lnTo>
                  <a:lnTo>
                    <a:pt x="114" y="101"/>
                  </a:lnTo>
                  <a:lnTo>
                    <a:pt x="114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440480" y="795240"/>
              <a:ext cx="459000" cy="636840"/>
            </a:xfrm>
            <a:custGeom>
              <a:avLst/>
              <a:gdLst/>
              <a:ahLst/>
              <a:rect l="0" t="0" r="r" b="b"/>
              <a:pathLst>
                <a:path w="1275" h="1769">
                  <a:moveTo>
                    <a:pt x="1072" y="0"/>
                  </a:moveTo>
                  <a:lnTo>
                    <a:pt x="1200" y="0"/>
                  </a:lnTo>
                  <a:lnTo>
                    <a:pt x="1275" y="83"/>
                  </a:lnTo>
                  <a:lnTo>
                    <a:pt x="1275" y="185"/>
                  </a:lnTo>
                  <a:lnTo>
                    <a:pt x="1169" y="463"/>
                  </a:lnTo>
                  <a:lnTo>
                    <a:pt x="1063" y="595"/>
                  </a:lnTo>
                  <a:lnTo>
                    <a:pt x="957" y="608"/>
                  </a:lnTo>
                  <a:lnTo>
                    <a:pt x="927" y="608"/>
                  </a:lnTo>
                  <a:lnTo>
                    <a:pt x="927" y="962"/>
                  </a:lnTo>
                  <a:lnTo>
                    <a:pt x="979" y="1213"/>
                  </a:lnTo>
                  <a:lnTo>
                    <a:pt x="979" y="1416"/>
                  </a:lnTo>
                  <a:lnTo>
                    <a:pt x="781" y="1623"/>
                  </a:lnTo>
                  <a:lnTo>
                    <a:pt x="520" y="1769"/>
                  </a:lnTo>
                  <a:lnTo>
                    <a:pt x="352" y="1769"/>
                  </a:lnTo>
                  <a:lnTo>
                    <a:pt x="268" y="1729"/>
                  </a:lnTo>
                  <a:lnTo>
                    <a:pt x="149" y="1482"/>
                  </a:lnTo>
                  <a:lnTo>
                    <a:pt x="44" y="1398"/>
                  </a:lnTo>
                  <a:lnTo>
                    <a:pt x="0" y="1337"/>
                  </a:lnTo>
                  <a:lnTo>
                    <a:pt x="141" y="1416"/>
                  </a:lnTo>
                  <a:lnTo>
                    <a:pt x="246" y="1509"/>
                  </a:lnTo>
                  <a:lnTo>
                    <a:pt x="445" y="1517"/>
                  </a:lnTo>
                  <a:lnTo>
                    <a:pt x="635" y="1434"/>
                  </a:lnTo>
                  <a:lnTo>
                    <a:pt x="733" y="1337"/>
                  </a:lnTo>
                  <a:lnTo>
                    <a:pt x="838" y="1156"/>
                  </a:lnTo>
                  <a:lnTo>
                    <a:pt x="856" y="940"/>
                  </a:lnTo>
                  <a:lnTo>
                    <a:pt x="887" y="260"/>
                  </a:lnTo>
                  <a:lnTo>
                    <a:pt x="935" y="361"/>
                  </a:lnTo>
                  <a:lnTo>
                    <a:pt x="1059" y="233"/>
                  </a:lnTo>
                  <a:lnTo>
                    <a:pt x="1191" y="185"/>
                  </a:lnTo>
                  <a:lnTo>
                    <a:pt x="1226" y="110"/>
                  </a:lnTo>
                  <a:lnTo>
                    <a:pt x="1209" y="39"/>
                  </a:lnTo>
                  <a:lnTo>
                    <a:pt x="1151" y="8"/>
                  </a:lnTo>
                  <a:lnTo>
                    <a:pt x="10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29480" y="1343160"/>
              <a:ext cx="371880" cy="586080"/>
            </a:xfrm>
            <a:custGeom>
              <a:avLst/>
              <a:gdLst/>
              <a:ahLst/>
              <a:rect l="0" t="0" r="r" b="b"/>
              <a:pathLst>
                <a:path w="1033" h="1628">
                  <a:moveTo>
                    <a:pt x="132" y="0"/>
                  </a:moveTo>
                  <a:lnTo>
                    <a:pt x="246" y="74"/>
                  </a:lnTo>
                  <a:lnTo>
                    <a:pt x="336" y="405"/>
                  </a:lnTo>
                  <a:lnTo>
                    <a:pt x="605" y="480"/>
                  </a:lnTo>
                  <a:lnTo>
                    <a:pt x="680" y="568"/>
                  </a:lnTo>
                  <a:lnTo>
                    <a:pt x="693" y="692"/>
                  </a:lnTo>
                  <a:lnTo>
                    <a:pt x="822" y="674"/>
                  </a:lnTo>
                  <a:lnTo>
                    <a:pt x="985" y="776"/>
                  </a:lnTo>
                  <a:lnTo>
                    <a:pt x="1033" y="913"/>
                  </a:lnTo>
                  <a:lnTo>
                    <a:pt x="1033" y="1138"/>
                  </a:lnTo>
                  <a:lnTo>
                    <a:pt x="822" y="1491"/>
                  </a:lnTo>
                  <a:lnTo>
                    <a:pt x="750" y="1628"/>
                  </a:lnTo>
                  <a:lnTo>
                    <a:pt x="791" y="1438"/>
                  </a:lnTo>
                  <a:lnTo>
                    <a:pt x="750" y="1368"/>
                  </a:lnTo>
                  <a:lnTo>
                    <a:pt x="622" y="1248"/>
                  </a:lnTo>
                  <a:lnTo>
                    <a:pt x="424" y="1107"/>
                  </a:lnTo>
                  <a:lnTo>
                    <a:pt x="666" y="1191"/>
                  </a:lnTo>
                  <a:lnTo>
                    <a:pt x="808" y="1297"/>
                  </a:lnTo>
                  <a:lnTo>
                    <a:pt x="883" y="1279"/>
                  </a:lnTo>
                  <a:lnTo>
                    <a:pt x="928" y="1218"/>
                  </a:lnTo>
                  <a:lnTo>
                    <a:pt x="985" y="1054"/>
                  </a:lnTo>
                  <a:lnTo>
                    <a:pt x="967" y="896"/>
                  </a:lnTo>
                  <a:lnTo>
                    <a:pt x="892" y="806"/>
                  </a:lnTo>
                  <a:lnTo>
                    <a:pt x="763" y="776"/>
                  </a:lnTo>
                  <a:lnTo>
                    <a:pt x="622" y="776"/>
                  </a:lnTo>
                  <a:lnTo>
                    <a:pt x="578" y="529"/>
                  </a:lnTo>
                  <a:lnTo>
                    <a:pt x="349" y="449"/>
                  </a:lnTo>
                  <a:lnTo>
                    <a:pt x="349" y="520"/>
                  </a:lnTo>
                  <a:lnTo>
                    <a:pt x="246" y="348"/>
                  </a:lnTo>
                  <a:lnTo>
                    <a:pt x="189" y="74"/>
                  </a:lnTo>
                  <a:lnTo>
                    <a:pt x="101" y="44"/>
                  </a:lnTo>
                  <a:lnTo>
                    <a:pt x="48" y="127"/>
                  </a:lnTo>
                  <a:lnTo>
                    <a:pt x="48" y="313"/>
                  </a:lnTo>
                  <a:lnTo>
                    <a:pt x="92" y="520"/>
                  </a:lnTo>
                  <a:lnTo>
                    <a:pt x="216" y="692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6"/>
                  </a:lnTo>
                  <a:lnTo>
                    <a:pt x="48" y="4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53080" y="1600200"/>
              <a:ext cx="243360" cy="468720"/>
            </a:xfrm>
            <a:custGeom>
              <a:avLst/>
              <a:gdLst/>
              <a:ahLst/>
              <a:rect l="0" t="0" r="r" b="b"/>
              <a:pathLst>
                <a:path w="676" h="1302">
                  <a:moveTo>
                    <a:pt x="676" y="0"/>
                  </a:moveTo>
                  <a:lnTo>
                    <a:pt x="535" y="83"/>
                  </a:lnTo>
                  <a:lnTo>
                    <a:pt x="375" y="402"/>
                  </a:lnTo>
                  <a:lnTo>
                    <a:pt x="212" y="609"/>
                  </a:lnTo>
                  <a:lnTo>
                    <a:pt x="17" y="852"/>
                  </a:lnTo>
                  <a:lnTo>
                    <a:pt x="0" y="985"/>
                  </a:lnTo>
                  <a:lnTo>
                    <a:pt x="39" y="1100"/>
                  </a:lnTo>
                  <a:lnTo>
                    <a:pt x="132" y="1100"/>
                  </a:lnTo>
                  <a:lnTo>
                    <a:pt x="261" y="985"/>
                  </a:lnTo>
                  <a:lnTo>
                    <a:pt x="362" y="746"/>
                  </a:lnTo>
                  <a:lnTo>
                    <a:pt x="499" y="609"/>
                  </a:lnTo>
                  <a:lnTo>
                    <a:pt x="499" y="794"/>
                  </a:lnTo>
                  <a:lnTo>
                    <a:pt x="472" y="971"/>
                  </a:lnTo>
                  <a:lnTo>
                    <a:pt x="327" y="1197"/>
                  </a:lnTo>
                  <a:lnTo>
                    <a:pt x="327" y="1272"/>
                  </a:lnTo>
                  <a:lnTo>
                    <a:pt x="472" y="1302"/>
                  </a:lnTo>
                  <a:lnTo>
                    <a:pt x="375" y="1236"/>
                  </a:lnTo>
                  <a:lnTo>
                    <a:pt x="389" y="1197"/>
                  </a:lnTo>
                  <a:lnTo>
                    <a:pt x="490" y="1025"/>
                  </a:lnTo>
                  <a:lnTo>
                    <a:pt x="557" y="724"/>
                  </a:lnTo>
                  <a:lnTo>
                    <a:pt x="513" y="547"/>
                  </a:lnTo>
                  <a:lnTo>
                    <a:pt x="397" y="644"/>
                  </a:lnTo>
                  <a:lnTo>
                    <a:pt x="158" y="1038"/>
                  </a:lnTo>
                  <a:lnTo>
                    <a:pt x="97" y="1051"/>
                  </a:lnTo>
                  <a:lnTo>
                    <a:pt x="39" y="1007"/>
                  </a:lnTo>
                  <a:lnTo>
                    <a:pt x="39" y="891"/>
                  </a:lnTo>
                  <a:lnTo>
                    <a:pt x="132" y="733"/>
                  </a:lnTo>
                  <a:lnTo>
                    <a:pt x="397" y="419"/>
                  </a:lnTo>
                  <a:lnTo>
                    <a:pt x="557" y="119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34160" y="1865160"/>
              <a:ext cx="151200" cy="225720"/>
            </a:xfrm>
            <a:custGeom>
              <a:avLst/>
              <a:gdLst/>
              <a:ahLst/>
              <a:rect l="0" t="0" r="r" b="b"/>
              <a:pathLst>
                <a:path w="420" h="627">
                  <a:moveTo>
                    <a:pt x="0" y="552"/>
                  </a:moveTo>
                  <a:lnTo>
                    <a:pt x="142" y="389"/>
                  </a:lnTo>
                  <a:lnTo>
                    <a:pt x="159" y="238"/>
                  </a:lnTo>
                  <a:lnTo>
                    <a:pt x="323" y="0"/>
                  </a:lnTo>
                  <a:lnTo>
                    <a:pt x="363" y="154"/>
                  </a:lnTo>
                  <a:lnTo>
                    <a:pt x="337" y="565"/>
                  </a:lnTo>
                  <a:lnTo>
                    <a:pt x="420" y="627"/>
                  </a:lnTo>
                  <a:lnTo>
                    <a:pt x="296" y="578"/>
                  </a:lnTo>
                  <a:lnTo>
                    <a:pt x="239" y="344"/>
                  </a:lnTo>
                  <a:lnTo>
                    <a:pt x="142" y="459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921360" y="1878120"/>
              <a:ext cx="97200" cy="201960"/>
            </a:xfrm>
            <a:custGeom>
              <a:avLst/>
              <a:gdLst/>
              <a:ahLst/>
              <a:rect l="0" t="0" r="r" b="b"/>
              <a:pathLst>
                <a:path w="270" h="561">
                  <a:moveTo>
                    <a:pt x="0" y="424"/>
                  </a:moveTo>
                  <a:lnTo>
                    <a:pt x="13" y="211"/>
                  </a:lnTo>
                  <a:lnTo>
                    <a:pt x="66" y="88"/>
                  </a:lnTo>
                  <a:lnTo>
                    <a:pt x="133" y="530"/>
                  </a:lnTo>
                  <a:lnTo>
                    <a:pt x="218" y="530"/>
                  </a:lnTo>
                  <a:lnTo>
                    <a:pt x="248" y="66"/>
                  </a:lnTo>
                  <a:lnTo>
                    <a:pt x="270" y="0"/>
                  </a:lnTo>
                  <a:lnTo>
                    <a:pt x="248" y="362"/>
                  </a:lnTo>
                  <a:lnTo>
                    <a:pt x="218" y="561"/>
                  </a:lnTo>
                  <a:lnTo>
                    <a:pt x="106" y="561"/>
                  </a:lnTo>
                  <a:lnTo>
                    <a:pt x="57" y="176"/>
                  </a:lnTo>
                  <a:lnTo>
                    <a:pt x="35" y="229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194680" y="1082520"/>
              <a:ext cx="240120" cy="540000"/>
            </a:xfrm>
            <a:custGeom>
              <a:avLst/>
              <a:gdLst/>
              <a:ahLst/>
              <a:rect l="0" t="0" r="r" b="b"/>
              <a:pathLst>
                <a:path w="667" h="1500">
                  <a:moveTo>
                    <a:pt x="172" y="812"/>
                  </a:moveTo>
                  <a:lnTo>
                    <a:pt x="225" y="577"/>
                  </a:lnTo>
                  <a:lnTo>
                    <a:pt x="450" y="515"/>
                  </a:lnTo>
                  <a:lnTo>
                    <a:pt x="667" y="0"/>
                  </a:lnTo>
                  <a:lnTo>
                    <a:pt x="667" y="145"/>
                  </a:lnTo>
                  <a:lnTo>
                    <a:pt x="486" y="546"/>
                  </a:lnTo>
                  <a:lnTo>
                    <a:pt x="247" y="621"/>
                  </a:lnTo>
                  <a:lnTo>
                    <a:pt x="212" y="812"/>
                  </a:lnTo>
                  <a:lnTo>
                    <a:pt x="292" y="812"/>
                  </a:lnTo>
                  <a:lnTo>
                    <a:pt x="88" y="896"/>
                  </a:lnTo>
                  <a:lnTo>
                    <a:pt x="39" y="1059"/>
                  </a:lnTo>
                  <a:lnTo>
                    <a:pt x="48" y="1262"/>
                  </a:lnTo>
                  <a:lnTo>
                    <a:pt x="274" y="1500"/>
                  </a:lnTo>
                  <a:lnTo>
                    <a:pt x="39" y="1293"/>
                  </a:lnTo>
                  <a:lnTo>
                    <a:pt x="0" y="1116"/>
                  </a:lnTo>
                  <a:lnTo>
                    <a:pt x="17" y="940"/>
                  </a:lnTo>
                  <a:lnTo>
                    <a:pt x="101" y="816"/>
                  </a:lnTo>
                  <a:lnTo>
                    <a:pt x="172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356680" y="1082520"/>
              <a:ext cx="405000" cy="524160"/>
            </a:xfrm>
            <a:custGeom>
              <a:avLst/>
              <a:gdLst/>
              <a:ahLst/>
              <a:rect l="0" t="0" r="r" b="b"/>
              <a:pathLst>
                <a:path w="1125" h="1456">
                  <a:moveTo>
                    <a:pt x="308" y="0"/>
                  </a:moveTo>
                  <a:lnTo>
                    <a:pt x="379" y="44"/>
                  </a:lnTo>
                  <a:lnTo>
                    <a:pt x="396" y="171"/>
                  </a:lnTo>
                  <a:lnTo>
                    <a:pt x="396" y="286"/>
                  </a:lnTo>
                  <a:lnTo>
                    <a:pt x="273" y="493"/>
                  </a:lnTo>
                  <a:lnTo>
                    <a:pt x="299" y="648"/>
                  </a:lnTo>
                  <a:lnTo>
                    <a:pt x="675" y="816"/>
                  </a:lnTo>
                  <a:lnTo>
                    <a:pt x="1116" y="1275"/>
                  </a:lnTo>
                  <a:lnTo>
                    <a:pt x="1125" y="1398"/>
                  </a:lnTo>
                  <a:lnTo>
                    <a:pt x="1099" y="1456"/>
                  </a:lnTo>
                  <a:lnTo>
                    <a:pt x="935" y="1456"/>
                  </a:lnTo>
                  <a:lnTo>
                    <a:pt x="790" y="1372"/>
                  </a:lnTo>
                  <a:lnTo>
                    <a:pt x="666" y="1218"/>
                  </a:lnTo>
                  <a:lnTo>
                    <a:pt x="600" y="1134"/>
                  </a:lnTo>
                  <a:lnTo>
                    <a:pt x="520" y="1116"/>
                  </a:lnTo>
                  <a:lnTo>
                    <a:pt x="618" y="1116"/>
                  </a:lnTo>
                  <a:lnTo>
                    <a:pt x="803" y="1354"/>
                  </a:lnTo>
                  <a:lnTo>
                    <a:pt x="1037" y="1425"/>
                  </a:lnTo>
                  <a:lnTo>
                    <a:pt x="1085" y="1354"/>
                  </a:lnTo>
                  <a:lnTo>
                    <a:pt x="1063" y="1244"/>
                  </a:lnTo>
                  <a:lnTo>
                    <a:pt x="649" y="918"/>
                  </a:lnTo>
                  <a:lnTo>
                    <a:pt x="591" y="816"/>
                  </a:lnTo>
                  <a:lnTo>
                    <a:pt x="273" y="737"/>
                  </a:lnTo>
                  <a:lnTo>
                    <a:pt x="216" y="816"/>
                  </a:lnTo>
                  <a:lnTo>
                    <a:pt x="0" y="957"/>
                  </a:lnTo>
                  <a:lnTo>
                    <a:pt x="207" y="799"/>
                  </a:lnTo>
                  <a:lnTo>
                    <a:pt x="216" y="696"/>
                  </a:lnTo>
                  <a:lnTo>
                    <a:pt x="216" y="463"/>
                  </a:lnTo>
                  <a:lnTo>
                    <a:pt x="361" y="286"/>
                  </a:lnTo>
                  <a:lnTo>
                    <a:pt x="361" y="6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283600" y="1492200"/>
              <a:ext cx="343440" cy="313200"/>
            </a:xfrm>
            <a:custGeom>
              <a:avLst/>
              <a:gdLst/>
              <a:ahLst/>
              <a:rect l="0" t="0" r="r" b="b"/>
              <a:pathLst>
                <a:path w="954" h="870">
                  <a:moveTo>
                    <a:pt x="716" y="0"/>
                  </a:moveTo>
                  <a:lnTo>
                    <a:pt x="688" y="74"/>
                  </a:lnTo>
                  <a:lnTo>
                    <a:pt x="831" y="362"/>
                  </a:lnTo>
                  <a:lnTo>
                    <a:pt x="905" y="659"/>
                  </a:lnTo>
                  <a:lnTo>
                    <a:pt x="822" y="659"/>
                  </a:lnTo>
                  <a:lnTo>
                    <a:pt x="675" y="525"/>
                  </a:lnTo>
                  <a:lnTo>
                    <a:pt x="547" y="256"/>
                  </a:lnTo>
                  <a:lnTo>
                    <a:pt x="446" y="211"/>
                  </a:lnTo>
                  <a:lnTo>
                    <a:pt x="464" y="362"/>
                  </a:lnTo>
                  <a:lnTo>
                    <a:pt x="556" y="468"/>
                  </a:lnTo>
                  <a:lnTo>
                    <a:pt x="556" y="676"/>
                  </a:lnTo>
                  <a:lnTo>
                    <a:pt x="490" y="831"/>
                  </a:lnTo>
                  <a:lnTo>
                    <a:pt x="402" y="769"/>
                  </a:lnTo>
                  <a:lnTo>
                    <a:pt x="296" y="525"/>
                  </a:lnTo>
                  <a:lnTo>
                    <a:pt x="269" y="362"/>
                  </a:lnTo>
                  <a:lnTo>
                    <a:pt x="202" y="314"/>
                  </a:lnTo>
                  <a:lnTo>
                    <a:pt x="185" y="738"/>
                  </a:lnTo>
                  <a:lnTo>
                    <a:pt x="101" y="795"/>
                  </a:lnTo>
                  <a:lnTo>
                    <a:pt x="26" y="738"/>
                  </a:lnTo>
                  <a:lnTo>
                    <a:pt x="13" y="375"/>
                  </a:lnTo>
                  <a:lnTo>
                    <a:pt x="0" y="720"/>
                  </a:lnTo>
                  <a:lnTo>
                    <a:pt x="57" y="857"/>
                  </a:lnTo>
                  <a:lnTo>
                    <a:pt x="185" y="857"/>
                  </a:lnTo>
                  <a:lnTo>
                    <a:pt x="229" y="756"/>
                  </a:lnTo>
                  <a:lnTo>
                    <a:pt x="256" y="424"/>
                  </a:lnTo>
                  <a:lnTo>
                    <a:pt x="278" y="556"/>
                  </a:lnTo>
                  <a:lnTo>
                    <a:pt x="389" y="839"/>
                  </a:lnTo>
                  <a:lnTo>
                    <a:pt x="503" y="870"/>
                  </a:lnTo>
                  <a:lnTo>
                    <a:pt x="587" y="756"/>
                  </a:lnTo>
                  <a:lnTo>
                    <a:pt x="587" y="481"/>
                  </a:lnTo>
                  <a:lnTo>
                    <a:pt x="822" y="707"/>
                  </a:lnTo>
                  <a:lnTo>
                    <a:pt x="941" y="707"/>
                  </a:lnTo>
                  <a:lnTo>
                    <a:pt x="954" y="556"/>
                  </a:lnTo>
                  <a:lnTo>
                    <a:pt x="866" y="283"/>
                  </a:lnTo>
                  <a:lnTo>
                    <a:pt x="716" y="61"/>
                  </a:lnTo>
                  <a:lnTo>
                    <a:pt x="71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89680" y="1173240"/>
              <a:ext cx="1535400" cy="1263960"/>
            </a:xfrm>
            <a:custGeom>
              <a:avLst/>
              <a:gdLst/>
              <a:ahLst/>
              <a:rect l="0" t="0" r="r" b="b"/>
              <a:pathLst>
                <a:path w="4265" h="3511">
                  <a:moveTo>
                    <a:pt x="1534" y="299"/>
                  </a:moveTo>
                  <a:lnTo>
                    <a:pt x="1455" y="308"/>
                  </a:lnTo>
                  <a:lnTo>
                    <a:pt x="1336" y="485"/>
                  </a:lnTo>
                  <a:lnTo>
                    <a:pt x="1296" y="357"/>
                  </a:lnTo>
                  <a:lnTo>
                    <a:pt x="1155" y="286"/>
                  </a:lnTo>
                  <a:lnTo>
                    <a:pt x="1053" y="335"/>
                  </a:lnTo>
                  <a:lnTo>
                    <a:pt x="1014" y="564"/>
                  </a:lnTo>
                  <a:lnTo>
                    <a:pt x="630" y="846"/>
                  </a:lnTo>
                  <a:lnTo>
                    <a:pt x="657" y="965"/>
                  </a:lnTo>
                  <a:lnTo>
                    <a:pt x="568" y="1067"/>
                  </a:lnTo>
                  <a:lnTo>
                    <a:pt x="568" y="1159"/>
                  </a:lnTo>
                  <a:lnTo>
                    <a:pt x="674" y="1424"/>
                  </a:lnTo>
                  <a:lnTo>
                    <a:pt x="679" y="1750"/>
                  </a:lnTo>
                  <a:lnTo>
                    <a:pt x="608" y="2055"/>
                  </a:lnTo>
                  <a:lnTo>
                    <a:pt x="335" y="2241"/>
                  </a:lnTo>
                  <a:lnTo>
                    <a:pt x="299" y="2488"/>
                  </a:lnTo>
                  <a:lnTo>
                    <a:pt x="216" y="2488"/>
                  </a:lnTo>
                  <a:lnTo>
                    <a:pt x="171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7"/>
                  </a:lnTo>
                  <a:lnTo>
                    <a:pt x="185" y="2871"/>
                  </a:lnTo>
                  <a:lnTo>
                    <a:pt x="321" y="2880"/>
                  </a:lnTo>
                  <a:lnTo>
                    <a:pt x="568" y="3101"/>
                  </a:lnTo>
                  <a:lnTo>
                    <a:pt x="780" y="3131"/>
                  </a:lnTo>
                  <a:lnTo>
                    <a:pt x="903" y="3012"/>
                  </a:lnTo>
                  <a:lnTo>
                    <a:pt x="1199" y="2580"/>
                  </a:lnTo>
                  <a:lnTo>
                    <a:pt x="1225" y="3162"/>
                  </a:lnTo>
                  <a:lnTo>
                    <a:pt x="1199" y="3511"/>
                  </a:lnTo>
                  <a:lnTo>
                    <a:pt x="3665" y="3511"/>
                  </a:lnTo>
                  <a:lnTo>
                    <a:pt x="3484" y="3131"/>
                  </a:lnTo>
                  <a:lnTo>
                    <a:pt x="3396" y="2809"/>
                  </a:lnTo>
                  <a:lnTo>
                    <a:pt x="3374" y="2320"/>
                  </a:lnTo>
                  <a:lnTo>
                    <a:pt x="3515" y="2430"/>
                  </a:lnTo>
                  <a:lnTo>
                    <a:pt x="3665" y="2430"/>
                  </a:lnTo>
                  <a:lnTo>
                    <a:pt x="3863" y="2302"/>
                  </a:lnTo>
                  <a:lnTo>
                    <a:pt x="4000" y="2285"/>
                  </a:lnTo>
                  <a:lnTo>
                    <a:pt x="4084" y="2157"/>
                  </a:lnTo>
                  <a:lnTo>
                    <a:pt x="4141" y="1826"/>
                  </a:lnTo>
                  <a:lnTo>
                    <a:pt x="4265" y="1688"/>
                  </a:lnTo>
                  <a:lnTo>
                    <a:pt x="4203" y="1587"/>
                  </a:lnTo>
                  <a:lnTo>
                    <a:pt x="4110" y="1587"/>
                  </a:lnTo>
                  <a:lnTo>
                    <a:pt x="4040" y="1658"/>
                  </a:lnTo>
                  <a:lnTo>
                    <a:pt x="3965" y="1675"/>
                  </a:lnTo>
                  <a:lnTo>
                    <a:pt x="3877" y="1587"/>
                  </a:lnTo>
                  <a:lnTo>
                    <a:pt x="3771" y="1578"/>
                  </a:lnTo>
                  <a:lnTo>
                    <a:pt x="3581" y="1455"/>
                  </a:lnTo>
                  <a:lnTo>
                    <a:pt x="3458" y="1318"/>
                  </a:lnTo>
                  <a:lnTo>
                    <a:pt x="3436" y="1159"/>
                  </a:lnTo>
                  <a:lnTo>
                    <a:pt x="3458" y="1005"/>
                  </a:lnTo>
                  <a:lnTo>
                    <a:pt x="3537" y="873"/>
                  </a:lnTo>
                  <a:lnTo>
                    <a:pt x="3643" y="758"/>
                  </a:lnTo>
                  <a:lnTo>
                    <a:pt x="3634" y="560"/>
                  </a:lnTo>
                  <a:lnTo>
                    <a:pt x="3634" y="418"/>
                  </a:lnTo>
                  <a:lnTo>
                    <a:pt x="3581" y="308"/>
                  </a:lnTo>
                  <a:lnTo>
                    <a:pt x="3436" y="264"/>
                  </a:lnTo>
                  <a:lnTo>
                    <a:pt x="3387" y="238"/>
                  </a:lnTo>
                  <a:lnTo>
                    <a:pt x="3286" y="66"/>
                  </a:lnTo>
                  <a:lnTo>
                    <a:pt x="3198" y="13"/>
                  </a:lnTo>
                  <a:lnTo>
                    <a:pt x="3114" y="0"/>
                  </a:lnTo>
                  <a:lnTo>
                    <a:pt x="3039" y="26"/>
                  </a:lnTo>
                  <a:lnTo>
                    <a:pt x="2973" y="123"/>
                  </a:lnTo>
                  <a:lnTo>
                    <a:pt x="2880" y="180"/>
                  </a:lnTo>
                  <a:lnTo>
                    <a:pt x="2774" y="194"/>
                  </a:lnTo>
                  <a:lnTo>
                    <a:pt x="2660" y="194"/>
                  </a:lnTo>
                  <a:lnTo>
                    <a:pt x="2677" y="370"/>
                  </a:lnTo>
                  <a:lnTo>
                    <a:pt x="2677" y="590"/>
                  </a:lnTo>
                  <a:lnTo>
                    <a:pt x="2660" y="732"/>
                  </a:lnTo>
                  <a:lnTo>
                    <a:pt x="2554" y="908"/>
                  </a:lnTo>
                  <a:lnTo>
                    <a:pt x="2417" y="1168"/>
                  </a:lnTo>
                  <a:lnTo>
                    <a:pt x="2316" y="1481"/>
                  </a:lnTo>
                  <a:lnTo>
                    <a:pt x="2307" y="1675"/>
                  </a:lnTo>
                  <a:lnTo>
                    <a:pt x="2254" y="1839"/>
                  </a:lnTo>
                  <a:lnTo>
                    <a:pt x="2192" y="1994"/>
                  </a:lnTo>
                  <a:lnTo>
                    <a:pt x="2161" y="2258"/>
                  </a:lnTo>
                  <a:lnTo>
                    <a:pt x="2179" y="2466"/>
                  </a:lnTo>
                  <a:lnTo>
                    <a:pt x="2254" y="2708"/>
                  </a:lnTo>
                  <a:lnTo>
                    <a:pt x="2307" y="2809"/>
                  </a:lnTo>
                  <a:lnTo>
                    <a:pt x="2161" y="2898"/>
                  </a:lnTo>
                  <a:lnTo>
                    <a:pt x="1988" y="2955"/>
                  </a:lnTo>
                  <a:lnTo>
                    <a:pt x="1799" y="2973"/>
                  </a:lnTo>
                  <a:lnTo>
                    <a:pt x="1680" y="2973"/>
                  </a:lnTo>
                  <a:lnTo>
                    <a:pt x="1605" y="2937"/>
                  </a:lnTo>
                  <a:lnTo>
                    <a:pt x="1605" y="2726"/>
                  </a:lnTo>
                  <a:lnTo>
                    <a:pt x="1605" y="2417"/>
                  </a:lnTo>
                  <a:lnTo>
                    <a:pt x="1561" y="2108"/>
                  </a:lnTo>
                  <a:lnTo>
                    <a:pt x="1486" y="1839"/>
                  </a:lnTo>
                  <a:lnTo>
                    <a:pt x="1446" y="1618"/>
                  </a:lnTo>
                  <a:lnTo>
                    <a:pt x="1433" y="1309"/>
                  </a:lnTo>
                  <a:lnTo>
                    <a:pt x="1486" y="1036"/>
                  </a:lnTo>
                  <a:lnTo>
                    <a:pt x="1561" y="815"/>
                  </a:lnTo>
                  <a:lnTo>
                    <a:pt x="1565" y="692"/>
                  </a:lnTo>
                  <a:lnTo>
                    <a:pt x="1534" y="502"/>
                  </a:lnTo>
                  <a:lnTo>
                    <a:pt x="1534" y="357"/>
                  </a:lnTo>
                  <a:lnTo>
                    <a:pt x="1561" y="308"/>
                  </a:lnTo>
                  <a:lnTo>
                    <a:pt x="1534" y="2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488360" y="1428840"/>
              <a:ext cx="194040" cy="817920"/>
            </a:xfrm>
            <a:custGeom>
              <a:avLst/>
              <a:gdLst/>
              <a:ahLst/>
              <a:rect l="0" t="0" r="r" b="b"/>
              <a:pathLst>
                <a:path w="539" h="2272">
                  <a:moveTo>
                    <a:pt x="217" y="22"/>
                  </a:moveTo>
                  <a:lnTo>
                    <a:pt x="70" y="101"/>
                  </a:lnTo>
                  <a:lnTo>
                    <a:pt x="83" y="317"/>
                  </a:lnTo>
                  <a:lnTo>
                    <a:pt x="190" y="383"/>
                  </a:lnTo>
                  <a:lnTo>
                    <a:pt x="61" y="621"/>
                  </a:lnTo>
                  <a:lnTo>
                    <a:pt x="0" y="886"/>
                  </a:lnTo>
                  <a:lnTo>
                    <a:pt x="0" y="1133"/>
                  </a:lnTo>
                  <a:lnTo>
                    <a:pt x="61" y="1363"/>
                  </a:lnTo>
                  <a:lnTo>
                    <a:pt x="114" y="1641"/>
                  </a:lnTo>
                  <a:lnTo>
                    <a:pt x="114" y="1795"/>
                  </a:lnTo>
                  <a:lnTo>
                    <a:pt x="61" y="1989"/>
                  </a:lnTo>
                  <a:lnTo>
                    <a:pt x="278" y="2272"/>
                  </a:lnTo>
                  <a:lnTo>
                    <a:pt x="371" y="2227"/>
                  </a:lnTo>
                  <a:lnTo>
                    <a:pt x="429" y="2033"/>
                  </a:lnTo>
                  <a:lnTo>
                    <a:pt x="531" y="1782"/>
                  </a:lnTo>
                  <a:lnTo>
                    <a:pt x="539" y="1650"/>
                  </a:lnTo>
                  <a:lnTo>
                    <a:pt x="456" y="1403"/>
                  </a:lnTo>
                  <a:lnTo>
                    <a:pt x="353" y="1160"/>
                  </a:lnTo>
                  <a:lnTo>
                    <a:pt x="314" y="992"/>
                  </a:lnTo>
                  <a:lnTo>
                    <a:pt x="314" y="824"/>
                  </a:lnTo>
                  <a:lnTo>
                    <a:pt x="353" y="679"/>
                  </a:lnTo>
                  <a:lnTo>
                    <a:pt x="429" y="498"/>
                  </a:lnTo>
                  <a:lnTo>
                    <a:pt x="429" y="423"/>
                  </a:lnTo>
                  <a:lnTo>
                    <a:pt x="393" y="352"/>
                  </a:lnTo>
                  <a:lnTo>
                    <a:pt x="495" y="255"/>
                  </a:lnTo>
                  <a:lnTo>
                    <a:pt x="495" y="176"/>
                  </a:lnTo>
                  <a:lnTo>
                    <a:pt x="353" y="0"/>
                  </a:lnTo>
                  <a:lnTo>
                    <a:pt x="469" y="176"/>
                  </a:lnTo>
                  <a:lnTo>
                    <a:pt x="469" y="242"/>
                  </a:lnTo>
                  <a:lnTo>
                    <a:pt x="367" y="317"/>
                  </a:lnTo>
                  <a:lnTo>
                    <a:pt x="407" y="423"/>
                  </a:lnTo>
                  <a:lnTo>
                    <a:pt x="393" y="498"/>
                  </a:lnTo>
                  <a:lnTo>
                    <a:pt x="292" y="705"/>
                  </a:lnTo>
                  <a:lnTo>
                    <a:pt x="278" y="908"/>
                  </a:lnTo>
                  <a:lnTo>
                    <a:pt x="305" y="1102"/>
                  </a:lnTo>
                  <a:lnTo>
                    <a:pt x="371" y="1376"/>
                  </a:lnTo>
                  <a:lnTo>
                    <a:pt x="456" y="1592"/>
                  </a:lnTo>
                  <a:lnTo>
                    <a:pt x="456" y="1769"/>
                  </a:lnTo>
                  <a:lnTo>
                    <a:pt x="407" y="1989"/>
                  </a:lnTo>
                  <a:lnTo>
                    <a:pt x="305" y="2227"/>
                  </a:lnTo>
                  <a:lnTo>
                    <a:pt x="177" y="2095"/>
                  </a:lnTo>
                  <a:lnTo>
                    <a:pt x="127" y="1989"/>
                  </a:lnTo>
                  <a:lnTo>
                    <a:pt x="137" y="1769"/>
                  </a:lnTo>
                  <a:lnTo>
                    <a:pt x="127" y="1544"/>
                  </a:lnTo>
                  <a:lnTo>
                    <a:pt x="61" y="1248"/>
                  </a:lnTo>
                  <a:lnTo>
                    <a:pt x="39" y="1040"/>
                  </a:lnTo>
                  <a:lnTo>
                    <a:pt x="61" y="811"/>
                  </a:lnTo>
                  <a:lnTo>
                    <a:pt x="114" y="586"/>
                  </a:lnTo>
                  <a:lnTo>
                    <a:pt x="225" y="366"/>
                  </a:lnTo>
                  <a:lnTo>
                    <a:pt x="127" y="273"/>
                  </a:lnTo>
                  <a:lnTo>
                    <a:pt x="114" y="114"/>
                  </a:lnTo>
                  <a:lnTo>
                    <a:pt x="21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039160" y="466560"/>
              <a:ext cx="305280" cy="400320"/>
            </a:xfrm>
            <a:custGeom>
              <a:avLst/>
              <a:gdLst/>
              <a:ahLst/>
              <a:rect l="0" t="0" r="r" b="b"/>
              <a:pathLst>
                <a:path w="848" h="1112">
                  <a:moveTo>
                    <a:pt x="141" y="286"/>
                  </a:moveTo>
                  <a:lnTo>
                    <a:pt x="265" y="260"/>
                  </a:lnTo>
                  <a:lnTo>
                    <a:pt x="384" y="268"/>
                  </a:lnTo>
                  <a:lnTo>
                    <a:pt x="486" y="313"/>
                  </a:lnTo>
                  <a:lnTo>
                    <a:pt x="543" y="374"/>
                  </a:lnTo>
                  <a:lnTo>
                    <a:pt x="565" y="432"/>
                  </a:lnTo>
                  <a:lnTo>
                    <a:pt x="565" y="489"/>
                  </a:lnTo>
                  <a:lnTo>
                    <a:pt x="538" y="529"/>
                  </a:lnTo>
                  <a:lnTo>
                    <a:pt x="481" y="551"/>
                  </a:lnTo>
                  <a:lnTo>
                    <a:pt x="419" y="555"/>
                  </a:lnTo>
                  <a:lnTo>
                    <a:pt x="344" y="537"/>
                  </a:lnTo>
                  <a:lnTo>
                    <a:pt x="269" y="493"/>
                  </a:lnTo>
                  <a:lnTo>
                    <a:pt x="211" y="449"/>
                  </a:lnTo>
                  <a:lnTo>
                    <a:pt x="189" y="596"/>
                  </a:lnTo>
                  <a:lnTo>
                    <a:pt x="141" y="693"/>
                  </a:lnTo>
                  <a:lnTo>
                    <a:pt x="0" y="927"/>
                  </a:lnTo>
                  <a:lnTo>
                    <a:pt x="207" y="1112"/>
                  </a:lnTo>
                  <a:lnTo>
                    <a:pt x="362" y="807"/>
                  </a:lnTo>
                  <a:lnTo>
                    <a:pt x="538" y="834"/>
                  </a:lnTo>
                  <a:lnTo>
                    <a:pt x="645" y="812"/>
                  </a:lnTo>
                  <a:lnTo>
                    <a:pt x="751" y="746"/>
                  </a:lnTo>
                  <a:lnTo>
                    <a:pt x="813" y="658"/>
                  </a:lnTo>
                  <a:lnTo>
                    <a:pt x="848" y="542"/>
                  </a:lnTo>
                  <a:lnTo>
                    <a:pt x="848" y="423"/>
                  </a:lnTo>
                  <a:lnTo>
                    <a:pt x="813" y="299"/>
                  </a:lnTo>
                  <a:lnTo>
                    <a:pt x="747" y="171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26"/>
                  </a:lnTo>
                  <a:lnTo>
                    <a:pt x="141" y="28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85160" y="855720"/>
              <a:ext cx="111600" cy="78120"/>
            </a:xfrm>
            <a:custGeom>
              <a:avLst/>
              <a:gdLst/>
              <a:ahLst/>
              <a:rect l="0" t="0" r="r" b="b"/>
              <a:pathLst>
                <a:path w="310" h="217">
                  <a:moveTo>
                    <a:pt x="124" y="0"/>
                  </a:moveTo>
                  <a:lnTo>
                    <a:pt x="44" y="0"/>
                  </a:lnTo>
                  <a:lnTo>
                    <a:pt x="0" y="26"/>
                  </a:lnTo>
                  <a:lnTo>
                    <a:pt x="0" y="105"/>
                  </a:lnTo>
                  <a:lnTo>
                    <a:pt x="61" y="190"/>
                  </a:lnTo>
                  <a:lnTo>
                    <a:pt x="186" y="217"/>
                  </a:lnTo>
                  <a:lnTo>
                    <a:pt x="279" y="212"/>
                  </a:lnTo>
                  <a:lnTo>
                    <a:pt x="310" y="159"/>
                  </a:lnTo>
                  <a:lnTo>
                    <a:pt x="293" y="120"/>
                  </a:lnTo>
                  <a:lnTo>
                    <a:pt x="253" y="52"/>
                  </a:lnTo>
                  <a:lnTo>
                    <a:pt x="172" y="8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2666880" y="384120"/>
            <a:ext cx="5592600" cy="16095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 txBox="1"/>
          <p:nvPr/>
        </p:nvSpPr>
        <p:spPr>
          <a:xfrm>
            <a:off x="3220920" y="619200"/>
            <a:ext cx="4013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K, LET’S 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39760" y="6018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65240" y="6018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41520" y="4370400"/>
            <a:ext cx="424080" cy="1016280"/>
          </a:xfrm>
          <a:custGeom>
            <a:avLst/>
            <a:gdLst/>
            <a:ahLst/>
            <a:rect l="0" t="0" r="r" b="b"/>
            <a:pathLst>
              <a:path w="1178" h="2823">
                <a:moveTo>
                  <a:pt x="551" y="0"/>
                </a:moveTo>
                <a:lnTo>
                  <a:pt x="405" y="449"/>
                </a:lnTo>
                <a:lnTo>
                  <a:pt x="299" y="714"/>
                </a:lnTo>
                <a:lnTo>
                  <a:pt x="114" y="1062"/>
                </a:lnTo>
                <a:lnTo>
                  <a:pt x="35" y="1168"/>
                </a:lnTo>
                <a:lnTo>
                  <a:pt x="8" y="1270"/>
                </a:lnTo>
                <a:lnTo>
                  <a:pt x="0" y="1367"/>
                </a:lnTo>
                <a:lnTo>
                  <a:pt x="48" y="1495"/>
                </a:lnTo>
                <a:lnTo>
                  <a:pt x="48" y="1791"/>
                </a:lnTo>
                <a:lnTo>
                  <a:pt x="22" y="1963"/>
                </a:lnTo>
                <a:lnTo>
                  <a:pt x="22" y="2073"/>
                </a:lnTo>
                <a:lnTo>
                  <a:pt x="88" y="2197"/>
                </a:lnTo>
                <a:lnTo>
                  <a:pt x="185" y="2439"/>
                </a:lnTo>
                <a:lnTo>
                  <a:pt x="194" y="2571"/>
                </a:lnTo>
                <a:lnTo>
                  <a:pt x="246" y="2770"/>
                </a:lnTo>
                <a:lnTo>
                  <a:pt x="299" y="2823"/>
                </a:lnTo>
                <a:lnTo>
                  <a:pt x="357" y="2796"/>
                </a:lnTo>
                <a:lnTo>
                  <a:pt x="423" y="2823"/>
                </a:lnTo>
                <a:lnTo>
                  <a:pt x="485" y="2787"/>
                </a:lnTo>
                <a:lnTo>
                  <a:pt x="524" y="2704"/>
                </a:lnTo>
                <a:lnTo>
                  <a:pt x="582" y="2651"/>
                </a:lnTo>
                <a:lnTo>
                  <a:pt x="609" y="2558"/>
                </a:lnTo>
                <a:lnTo>
                  <a:pt x="591" y="2461"/>
                </a:lnTo>
                <a:lnTo>
                  <a:pt x="644" y="2492"/>
                </a:lnTo>
                <a:lnTo>
                  <a:pt x="688" y="2443"/>
                </a:lnTo>
                <a:lnTo>
                  <a:pt x="724" y="2338"/>
                </a:lnTo>
                <a:lnTo>
                  <a:pt x="763" y="2280"/>
                </a:lnTo>
                <a:lnTo>
                  <a:pt x="763" y="2205"/>
                </a:lnTo>
                <a:lnTo>
                  <a:pt x="684" y="2095"/>
                </a:lnTo>
                <a:lnTo>
                  <a:pt x="737" y="1910"/>
                </a:lnTo>
                <a:lnTo>
                  <a:pt x="913" y="1672"/>
                </a:lnTo>
                <a:lnTo>
                  <a:pt x="1121" y="1018"/>
                </a:lnTo>
                <a:lnTo>
                  <a:pt x="1147" y="436"/>
                </a:lnTo>
                <a:lnTo>
                  <a:pt x="1178" y="66"/>
                </a:lnTo>
                <a:lnTo>
                  <a:pt x="551" y="0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06320" y="4861080"/>
            <a:ext cx="144720" cy="511560"/>
          </a:xfrm>
          <a:custGeom>
            <a:avLst/>
            <a:gdLst/>
            <a:ahLst/>
            <a:rect l="0" t="0" r="r" b="b"/>
            <a:pathLst>
              <a:path w="402" h="1421">
                <a:moveTo>
                  <a:pt x="171" y="0"/>
                </a:moveTo>
                <a:lnTo>
                  <a:pt x="185" y="105"/>
                </a:lnTo>
                <a:lnTo>
                  <a:pt x="225" y="194"/>
                </a:lnTo>
                <a:lnTo>
                  <a:pt x="185" y="428"/>
                </a:lnTo>
                <a:lnTo>
                  <a:pt x="149" y="561"/>
                </a:lnTo>
                <a:lnTo>
                  <a:pt x="163" y="693"/>
                </a:lnTo>
                <a:lnTo>
                  <a:pt x="198" y="763"/>
                </a:lnTo>
                <a:lnTo>
                  <a:pt x="234" y="869"/>
                </a:lnTo>
                <a:lnTo>
                  <a:pt x="234" y="975"/>
                </a:lnTo>
                <a:lnTo>
                  <a:pt x="287" y="1077"/>
                </a:lnTo>
                <a:lnTo>
                  <a:pt x="384" y="1082"/>
                </a:lnTo>
                <a:lnTo>
                  <a:pt x="402" y="1227"/>
                </a:lnTo>
                <a:lnTo>
                  <a:pt x="336" y="1302"/>
                </a:lnTo>
                <a:lnTo>
                  <a:pt x="247" y="1421"/>
                </a:lnTo>
                <a:lnTo>
                  <a:pt x="185" y="1408"/>
                </a:lnTo>
                <a:lnTo>
                  <a:pt x="123" y="1404"/>
                </a:lnTo>
                <a:lnTo>
                  <a:pt x="167" y="1188"/>
                </a:lnTo>
                <a:lnTo>
                  <a:pt x="163" y="1069"/>
                </a:lnTo>
                <a:lnTo>
                  <a:pt x="101" y="1024"/>
                </a:lnTo>
                <a:lnTo>
                  <a:pt x="149" y="1019"/>
                </a:lnTo>
                <a:lnTo>
                  <a:pt x="110" y="843"/>
                </a:lnTo>
                <a:lnTo>
                  <a:pt x="30" y="772"/>
                </a:lnTo>
                <a:lnTo>
                  <a:pt x="74" y="737"/>
                </a:lnTo>
                <a:lnTo>
                  <a:pt x="0" y="662"/>
                </a:lnTo>
                <a:lnTo>
                  <a:pt x="39" y="666"/>
                </a:lnTo>
                <a:lnTo>
                  <a:pt x="88" y="494"/>
                </a:lnTo>
                <a:lnTo>
                  <a:pt x="136" y="317"/>
                </a:lnTo>
                <a:lnTo>
                  <a:pt x="74" y="264"/>
                </a:lnTo>
                <a:lnTo>
                  <a:pt x="136" y="277"/>
                </a:lnTo>
                <a:lnTo>
                  <a:pt x="171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79480" y="4444920"/>
            <a:ext cx="174960" cy="652680"/>
          </a:xfrm>
          <a:custGeom>
            <a:avLst/>
            <a:gdLst/>
            <a:ahLst/>
            <a:rect l="0" t="0" r="r" b="b"/>
            <a:pathLst>
              <a:path w="486" h="1813">
                <a:moveTo>
                  <a:pt x="8" y="1813"/>
                </a:moveTo>
                <a:lnTo>
                  <a:pt x="0" y="1663"/>
                </a:lnTo>
                <a:lnTo>
                  <a:pt x="57" y="1487"/>
                </a:lnTo>
                <a:lnTo>
                  <a:pt x="207" y="1262"/>
                </a:lnTo>
                <a:lnTo>
                  <a:pt x="247" y="1068"/>
                </a:lnTo>
                <a:lnTo>
                  <a:pt x="233" y="881"/>
                </a:lnTo>
                <a:lnTo>
                  <a:pt x="163" y="745"/>
                </a:lnTo>
                <a:lnTo>
                  <a:pt x="35" y="639"/>
                </a:lnTo>
                <a:lnTo>
                  <a:pt x="163" y="701"/>
                </a:lnTo>
                <a:lnTo>
                  <a:pt x="123" y="573"/>
                </a:lnTo>
                <a:lnTo>
                  <a:pt x="202" y="635"/>
                </a:lnTo>
                <a:lnTo>
                  <a:pt x="158" y="410"/>
                </a:lnTo>
                <a:lnTo>
                  <a:pt x="252" y="13"/>
                </a:lnTo>
                <a:lnTo>
                  <a:pt x="486" y="0"/>
                </a:lnTo>
                <a:lnTo>
                  <a:pt x="464" y="260"/>
                </a:lnTo>
                <a:lnTo>
                  <a:pt x="437" y="811"/>
                </a:lnTo>
                <a:lnTo>
                  <a:pt x="265" y="1403"/>
                </a:lnTo>
                <a:lnTo>
                  <a:pt x="189" y="1522"/>
                </a:lnTo>
                <a:lnTo>
                  <a:pt x="97" y="1663"/>
                </a:lnTo>
                <a:lnTo>
                  <a:pt x="8" y="181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06400" y="5157720"/>
            <a:ext cx="47880" cy="25920"/>
          </a:xfrm>
          <a:custGeom>
            <a:avLst/>
            <a:gdLst/>
            <a:ahLst/>
            <a:rect l="0" t="0" r="r" b="b"/>
            <a:pathLst>
              <a:path w="133" h="72">
                <a:moveTo>
                  <a:pt x="0" y="40"/>
                </a:moveTo>
                <a:lnTo>
                  <a:pt x="22" y="8"/>
                </a:lnTo>
                <a:lnTo>
                  <a:pt x="89" y="0"/>
                </a:lnTo>
                <a:lnTo>
                  <a:pt x="124" y="27"/>
                </a:lnTo>
                <a:lnTo>
                  <a:pt x="133" y="72"/>
                </a:lnTo>
                <a:lnTo>
                  <a:pt x="89" y="36"/>
                </a:lnTo>
                <a:lnTo>
                  <a:pt x="0" y="4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58960" y="5130720"/>
            <a:ext cx="49680" cy="122760"/>
          </a:xfrm>
          <a:custGeom>
            <a:avLst/>
            <a:gdLst/>
            <a:ahLst/>
            <a:rect l="0" t="0" r="r" b="b"/>
            <a:pathLst>
              <a:path w="138" h="341">
                <a:moveTo>
                  <a:pt x="67" y="0"/>
                </a:moveTo>
                <a:lnTo>
                  <a:pt x="67" y="93"/>
                </a:lnTo>
                <a:lnTo>
                  <a:pt x="58" y="217"/>
                </a:lnTo>
                <a:lnTo>
                  <a:pt x="0" y="319"/>
                </a:lnTo>
                <a:lnTo>
                  <a:pt x="36" y="341"/>
                </a:lnTo>
                <a:lnTo>
                  <a:pt x="58" y="328"/>
                </a:lnTo>
                <a:lnTo>
                  <a:pt x="71" y="297"/>
                </a:lnTo>
                <a:lnTo>
                  <a:pt x="89" y="247"/>
                </a:lnTo>
                <a:lnTo>
                  <a:pt x="89" y="230"/>
                </a:lnTo>
                <a:lnTo>
                  <a:pt x="125" y="186"/>
                </a:lnTo>
                <a:lnTo>
                  <a:pt x="134" y="155"/>
                </a:lnTo>
                <a:lnTo>
                  <a:pt x="138" y="106"/>
                </a:lnTo>
                <a:lnTo>
                  <a:pt x="67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69840" y="3863880"/>
            <a:ext cx="1629000" cy="1211760"/>
          </a:xfrm>
          <a:custGeom>
            <a:avLst/>
            <a:gdLst/>
            <a:ahLst/>
            <a:rect l="0" t="0" r="r" b="b"/>
            <a:pathLst>
              <a:path w="4525" h="3366">
                <a:moveTo>
                  <a:pt x="635" y="198"/>
                </a:moveTo>
                <a:lnTo>
                  <a:pt x="449" y="1301"/>
                </a:lnTo>
                <a:lnTo>
                  <a:pt x="185" y="2122"/>
                </a:lnTo>
                <a:lnTo>
                  <a:pt x="0" y="3366"/>
                </a:lnTo>
                <a:lnTo>
                  <a:pt x="4340" y="3366"/>
                </a:lnTo>
                <a:lnTo>
                  <a:pt x="4525" y="1950"/>
                </a:lnTo>
                <a:lnTo>
                  <a:pt x="4525" y="904"/>
                </a:lnTo>
                <a:lnTo>
                  <a:pt x="4393" y="0"/>
                </a:lnTo>
                <a:lnTo>
                  <a:pt x="635" y="198"/>
                </a:lnTo>
                <a:close/>
              </a:path>
            </a:pathLst>
          </a:custGeom>
          <a:solidFill>
            <a:srgbClr val="201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987480" y="3965400"/>
            <a:ext cx="1636920" cy="1082880"/>
          </a:xfrm>
          <a:custGeom>
            <a:avLst/>
            <a:gdLst/>
            <a:ahLst/>
            <a:rect l="0" t="0" r="r" b="b"/>
            <a:pathLst>
              <a:path w="4547" h="3008">
                <a:moveTo>
                  <a:pt x="705" y="83"/>
                </a:moveTo>
                <a:lnTo>
                  <a:pt x="1053" y="277"/>
                </a:lnTo>
                <a:lnTo>
                  <a:pt x="996" y="520"/>
                </a:lnTo>
                <a:lnTo>
                  <a:pt x="1080" y="577"/>
                </a:lnTo>
                <a:lnTo>
                  <a:pt x="1172" y="321"/>
                </a:lnTo>
                <a:lnTo>
                  <a:pt x="1490" y="418"/>
                </a:lnTo>
                <a:lnTo>
                  <a:pt x="1988" y="463"/>
                </a:lnTo>
                <a:lnTo>
                  <a:pt x="2377" y="1009"/>
                </a:lnTo>
                <a:lnTo>
                  <a:pt x="2558" y="449"/>
                </a:lnTo>
                <a:lnTo>
                  <a:pt x="3334" y="449"/>
                </a:lnTo>
                <a:lnTo>
                  <a:pt x="3317" y="732"/>
                </a:lnTo>
                <a:lnTo>
                  <a:pt x="3427" y="718"/>
                </a:lnTo>
                <a:lnTo>
                  <a:pt x="3453" y="449"/>
                </a:lnTo>
                <a:lnTo>
                  <a:pt x="3872" y="405"/>
                </a:lnTo>
                <a:lnTo>
                  <a:pt x="4256" y="251"/>
                </a:lnTo>
                <a:lnTo>
                  <a:pt x="4490" y="0"/>
                </a:lnTo>
                <a:lnTo>
                  <a:pt x="4326" y="520"/>
                </a:lnTo>
                <a:lnTo>
                  <a:pt x="4172" y="899"/>
                </a:lnTo>
                <a:lnTo>
                  <a:pt x="3996" y="771"/>
                </a:lnTo>
                <a:lnTo>
                  <a:pt x="4212" y="1252"/>
                </a:lnTo>
                <a:lnTo>
                  <a:pt x="4507" y="1517"/>
                </a:lnTo>
                <a:lnTo>
                  <a:pt x="4547" y="2095"/>
                </a:lnTo>
                <a:lnTo>
                  <a:pt x="4366" y="3008"/>
                </a:lnTo>
                <a:lnTo>
                  <a:pt x="2404" y="2964"/>
                </a:lnTo>
                <a:lnTo>
                  <a:pt x="3123" y="2743"/>
                </a:lnTo>
                <a:lnTo>
                  <a:pt x="3277" y="2360"/>
                </a:lnTo>
                <a:lnTo>
                  <a:pt x="2999" y="2686"/>
                </a:lnTo>
                <a:lnTo>
                  <a:pt x="2364" y="3008"/>
                </a:lnTo>
                <a:lnTo>
                  <a:pt x="2222" y="2461"/>
                </a:lnTo>
                <a:lnTo>
                  <a:pt x="2391" y="1870"/>
                </a:lnTo>
                <a:lnTo>
                  <a:pt x="2421" y="1433"/>
                </a:lnTo>
                <a:lnTo>
                  <a:pt x="2338" y="1446"/>
                </a:lnTo>
                <a:lnTo>
                  <a:pt x="2209" y="2443"/>
                </a:lnTo>
                <a:lnTo>
                  <a:pt x="2364" y="2964"/>
                </a:lnTo>
                <a:lnTo>
                  <a:pt x="1975" y="2995"/>
                </a:lnTo>
                <a:lnTo>
                  <a:pt x="1658" y="2924"/>
                </a:lnTo>
                <a:lnTo>
                  <a:pt x="1283" y="2501"/>
                </a:lnTo>
                <a:lnTo>
                  <a:pt x="1106" y="2316"/>
                </a:lnTo>
                <a:lnTo>
                  <a:pt x="1080" y="2474"/>
                </a:lnTo>
                <a:lnTo>
                  <a:pt x="1587" y="2964"/>
                </a:lnTo>
                <a:lnTo>
                  <a:pt x="1036" y="2981"/>
                </a:lnTo>
                <a:lnTo>
                  <a:pt x="0" y="2981"/>
                </a:lnTo>
                <a:lnTo>
                  <a:pt x="167" y="2461"/>
                </a:lnTo>
                <a:lnTo>
                  <a:pt x="194" y="1853"/>
                </a:lnTo>
                <a:lnTo>
                  <a:pt x="511" y="1813"/>
                </a:lnTo>
                <a:lnTo>
                  <a:pt x="886" y="1402"/>
                </a:lnTo>
                <a:lnTo>
                  <a:pt x="815" y="798"/>
                </a:lnTo>
                <a:lnTo>
                  <a:pt x="674" y="705"/>
                </a:lnTo>
                <a:lnTo>
                  <a:pt x="705" y="842"/>
                </a:lnTo>
                <a:lnTo>
                  <a:pt x="815" y="1252"/>
                </a:lnTo>
                <a:lnTo>
                  <a:pt x="692" y="1490"/>
                </a:lnTo>
                <a:lnTo>
                  <a:pt x="440" y="1747"/>
                </a:lnTo>
                <a:lnTo>
                  <a:pt x="291" y="1756"/>
                </a:lnTo>
                <a:lnTo>
                  <a:pt x="454" y="1195"/>
                </a:lnTo>
                <a:lnTo>
                  <a:pt x="524" y="798"/>
                </a:lnTo>
                <a:lnTo>
                  <a:pt x="705" y="83"/>
                </a:lnTo>
                <a:close/>
              </a:path>
            </a:pathLst>
          </a:custGeom>
          <a:solidFill>
            <a:srgbClr val="67676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440080" y="4008600"/>
            <a:ext cx="124200" cy="438480"/>
          </a:xfrm>
          <a:custGeom>
            <a:avLst/>
            <a:gdLst/>
            <a:ahLst/>
            <a:rect l="0" t="0" r="r" b="b"/>
            <a:pathLst>
              <a:path w="345" h="1218">
                <a:moveTo>
                  <a:pt x="0" y="790"/>
                </a:moveTo>
                <a:lnTo>
                  <a:pt x="172" y="1076"/>
                </a:lnTo>
                <a:lnTo>
                  <a:pt x="310" y="1218"/>
                </a:lnTo>
                <a:lnTo>
                  <a:pt x="345" y="957"/>
                </a:lnTo>
                <a:lnTo>
                  <a:pt x="319" y="542"/>
                </a:lnTo>
                <a:lnTo>
                  <a:pt x="284" y="0"/>
                </a:lnTo>
                <a:lnTo>
                  <a:pt x="137" y="568"/>
                </a:lnTo>
                <a:lnTo>
                  <a:pt x="0" y="79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60320" y="1922400"/>
            <a:ext cx="3151440" cy="2583360"/>
          </a:xfrm>
          <a:custGeom>
            <a:avLst/>
            <a:gdLst/>
            <a:ahLst/>
            <a:rect l="0" t="0" r="r" b="b"/>
            <a:pathLst>
              <a:path w="8754" h="7176">
                <a:moveTo>
                  <a:pt x="2143" y="343"/>
                </a:moveTo>
                <a:lnTo>
                  <a:pt x="1984" y="661"/>
                </a:lnTo>
                <a:lnTo>
                  <a:pt x="1428" y="926"/>
                </a:lnTo>
                <a:lnTo>
                  <a:pt x="952" y="1031"/>
                </a:lnTo>
                <a:lnTo>
                  <a:pt x="714" y="1217"/>
                </a:lnTo>
                <a:lnTo>
                  <a:pt x="502" y="1613"/>
                </a:lnTo>
                <a:lnTo>
                  <a:pt x="396" y="2223"/>
                </a:lnTo>
                <a:lnTo>
                  <a:pt x="317" y="3070"/>
                </a:lnTo>
                <a:lnTo>
                  <a:pt x="52" y="4150"/>
                </a:lnTo>
                <a:lnTo>
                  <a:pt x="0" y="5791"/>
                </a:lnTo>
                <a:lnTo>
                  <a:pt x="185" y="6453"/>
                </a:lnTo>
                <a:lnTo>
                  <a:pt x="127" y="6973"/>
                </a:lnTo>
                <a:lnTo>
                  <a:pt x="233" y="7079"/>
                </a:lnTo>
                <a:lnTo>
                  <a:pt x="599" y="7176"/>
                </a:lnTo>
                <a:lnTo>
                  <a:pt x="864" y="7136"/>
                </a:lnTo>
                <a:lnTo>
                  <a:pt x="996" y="6726"/>
                </a:lnTo>
                <a:lnTo>
                  <a:pt x="1217" y="5606"/>
                </a:lnTo>
                <a:lnTo>
                  <a:pt x="2275" y="6003"/>
                </a:lnTo>
                <a:lnTo>
                  <a:pt x="3492" y="6030"/>
                </a:lnTo>
                <a:lnTo>
                  <a:pt x="4446" y="5924"/>
                </a:lnTo>
                <a:lnTo>
                  <a:pt x="4631" y="5686"/>
                </a:lnTo>
                <a:lnTo>
                  <a:pt x="4948" y="5421"/>
                </a:lnTo>
                <a:lnTo>
                  <a:pt x="5107" y="4997"/>
                </a:lnTo>
                <a:lnTo>
                  <a:pt x="5239" y="4547"/>
                </a:lnTo>
                <a:lnTo>
                  <a:pt x="5345" y="3833"/>
                </a:lnTo>
                <a:lnTo>
                  <a:pt x="5451" y="2964"/>
                </a:lnTo>
                <a:lnTo>
                  <a:pt x="6399" y="2382"/>
                </a:lnTo>
                <a:lnTo>
                  <a:pt x="7669" y="2197"/>
                </a:lnTo>
                <a:lnTo>
                  <a:pt x="8516" y="1879"/>
                </a:lnTo>
                <a:lnTo>
                  <a:pt x="8754" y="1322"/>
                </a:lnTo>
                <a:lnTo>
                  <a:pt x="8569" y="873"/>
                </a:lnTo>
                <a:lnTo>
                  <a:pt x="7854" y="529"/>
                </a:lnTo>
                <a:lnTo>
                  <a:pt x="7299" y="529"/>
                </a:lnTo>
                <a:lnTo>
                  <a:pt x="6796" y="608"/>
                </a:lnTo>
                <a:lnTo>
                  <a:pt x="6452" y="846"/>
                </a:lnTo>
                <a:lnTo>
                  <a:pt x="5870" y="978"/>
                </a:lnTo>
                <a:lnTo>
                  <a:pt x="5372" y="926"/>
                </a:lnTo>
                <a:lnTo>
                  <a:pt x="5133" y="793"/>
                </a:lnTo>
                <a:lnTo>
                  <a:pt x="4816" y="714"/>
                </a:lnTo>
                <a:lnTo>
                  <a:pt x="4365" y="687"/>
                </a:lnTo>
                <a:lnTo>
                  <a:pt x="3889" y="529"/>
                </a:lnTo>
                <a:lnTo>
                  <a:pt x="3677" y="79"/>
                </a:lnTo>
                <a:lnTo>
                  <a:pt x="2645" y="0"/>
                </a:lnTo>
                <a:lnTo>
                  <a:pt x="2143" y="343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590840" y="2208240"/>
            <a:ext cx="322560" cy="2037240"/>
          </a:xfrm>
          <a:custGeom>
            <a:avLst/>
            <a:gdLst/>
            <a:ahLst/>
            <a:rect l="0" t="0" r="r" b="b"/>
            <a:pathLst>
              <a:path w="896" h="5659">
                <a:moveTo>
                  <a:pt x="299" y="74"/>
                </a:moveTo>
                <a:lnTo>
                  <a:pt x="486" y="0"/>
                </a:lnTo>
                <a:lnTo>
                  <a:pt x="750" y="35"/>
                </a:lnTo>
                <a:lnTo>
                  <a:pt x="768" y="291"/>
                </a:lnTo>
                <a:lnTo>
                  <a:pt x="640" y="498"/>
                </a:lnTo>
                <a:lnTo>
                  <a:pt x="821" y="2474"/>
                </a:lnTo>
                <a:lnTo>
                  <a:pt x="896" y="3683"/>
                </a:lnTo>
                <a:lnTo>
                  <a:pt x="843" y="4896"/>
                </a:lnTo>
                <a:lnTo>
                  <a:pt x="561" y="5659"/>
                </a:lnTo>
                <a:lnTo>
                  <a:pt x="39" y="4874"/>
                </a:lnTo>
                <a:lnTo>
                  <a:pt x="0" y="3952"/>
                </a:lnTo>
                <a:lnTo>
                  <a:pt x="39" y="3123"/>
                </a:lnTo>
                <a:lnTo>
                  <a:pt x="101" y="2126"/>
                </a:lnTo>
                <a:lnTo>
                  <a:pt x="229" y="1217"/>
                </a:lnTo>
                <a:lnTo>
                  <a:pt x="357" y="604"/>
                </a:lnTo>
                <a:lnTo>
                  <a:pt x="273" y="238"/>
                </a:lnTo>
                <a:lnTo>
                  <a:pt x="299" y="74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141560" y="2236680"/>
            <a:ext cx="248040" cy="1719720"/>
          </a:xfrm>
          <a:custGeom>
            <a:avLst/>
            <a:gdLst/>
            <a:ahLst/>
            <a:rect l="0" t="0" r="r" b="b"/>
            <a:pathLst>
              <a:path w="689" h="4777">
                <a:moveTo>
                  <a:pt x="358" y="158"/>
                </a:moveTo>
                <a:lnTo>
                  <a:pt x="689" y="0"/>
                </a:lnTo>
                <a:lnTo>
                  <a:pt x="535" y="948"/>
                </a:lnTo>
                <a:lnTo>
                  <a:pt x="331" y="1632"/>
                </a:lnTo>
                <a:lnTo>
                  <a:pt x="283" y="2395"/>
                </a:lnTo>
                <a:lnTo>
                  <a:pt x="384" y="3127"/>
                </a:lnTo>
                <a:lnTo>
                  <a:pt x="358" y="4076"/>
                </a:lnTo>
                <a:lnTo>
                  <a:pt x="490" y="4777"/>
                </a:lnTo>
                <a:lnTo>
                  <a:pt x="181" y="4658"/>
                </a:lnTo>
                <a:lnTo>
                  <a:pt x="105" y="4107"/>
                </a:lnTo>
                <a:lnTo>
                  <a:pt x="101" y="3418"/>
                </a:lnTo>
                <a:lnTo>
                  <a:pt x="0" y="2342"/>
                </a:lnTo>
                <a:lnTo>
                  <a:pt x="74" y="1791"/>
                </a:lnTo>
                <a:lnTo>
                  <a:pt x="283" y="1027"/>
                </a:lnTo>
                <a:lnTo>
                  <a:pt x="358" y="15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141640" y="2151000"/>
            <a:ext cx="211320" cy="1894320"/>
          </a:xfrm>
          <a:custGeom>
            <a:avLst/>
            <a:gdLst/>
            <a:ahLst/>
            <a:rect l="0" t="0" r="r" b="b"/>
            <a:pathLst>
              <a:path w="587" h="5262">
                <a:moveTo>
                  <a:pt x="149" y="0"/>
                </a:moveTo>
                <a:lnTo>
                  <a:pt x="202" y="577"/>
                </a:lnTo>
                <a:lnTo>
                  <a:pt x="202" y="1341"/>
                </a:lnTo>
                <a:lnTo>
                  <a:pt x="202" y="2188"/>
                </a:lnTo>
                <a:lnTo>
                  <a:pt x="202" y="3392"/>
                </a:lnTo>
                <a:lnTo>
                  <a:pt x="101" y="4579"/>
                </a:lnTo>
                <a:lnTo>
                  <a:pt x="0" y="5262"/>
                </a:lnTo>
                <a:lnTo>
                  <a:pt x="384" y="5201"/>
                </a:lnTo>
                <a:lnTo>
                  <a:pt x="538" y="4160"/>
                </a:lnTo>
                <a:lnTo>
                  <a:pt x="587" y="3043"/>
                </a:lnTo>
                <a:lnTo>
                  <a:pt x="583" y="1844"/>
                </a:lnTo>
                <a:lnTo>
                  <a:pt x="556" y="630"/>
                </a:lnTo>
                <a:lnTo>
                  <a:pt x="508" y="158"/>
                </a:lnTo>
                <a:lnTo>
                  <a:pt x="149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855880" y="2271600"/>
            <a:ext cx="381240" cy="343440"/>
          </a:xfrm>
          <a:custGeom>
            <a:avLst/>
            <a:gdLst/>
            <a:ahLst/>
            <a:rect l="0" t="0" r="r" b="b"/>
            <a:pathLst>
              <a:path w="1059" h="954">
                <a:moveTo>
                  <a:pt x="0" y="194"/>
                </a:moveTo>
                <a:lnTo>
                  <a:pt x="101" y="194"/>
                </a:lnTo>
                <a:lnTo>
                  <a:pt x="233" y="256"/>
                </a:lnTo>
                <a:lnTo>
                  <a:pt x="308" y="424"/>
                </a:lnTo>
                <a:lnTo>
                  <a:pt x="414" y="710"/>
                </a:lnTo>
                <a:lnTo>
                  <a:pt x="401" y="901"/>
                </a:lnTo>
                <a:lnTo>
                  <a:pt x="335" y="954"/>
                </a:lnTo>
                <a:lnTo>
                  <a:pt x="1006" y="875"/>
                </a:lnTo>
                <a:lnTo>
                  <a:pt x="1059" y="747"/>
                </a:lnTo>
                <a:lnTo>
                  <a:pt x="993" y="411"/>
                </a:lnTo>
                <a:lnTo>
                  <a:pt x="838" y="114"/>
                </a:lnTo>
                <a:lnTo>
                  <a:pt x="618" y="0"/>
                </a:lnTo>
                <a:lnTo>
                  <a:pt x="440" y="39"/>
                </a:lnTo>
                <a:lnTo>
                  <a:pt x="0" y="1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117960" y="2138400"/>
            <a:ext cx="748080" cy="457560"/>
          </a:xfrm>
          <a:custGeom>
            <a:avLst/>
            <a:gdLst/>
            <a:ahLst/>
            <a:rect l="0" t="0" r="r" b="b"/>
            <a:pathLst>
              <a:path w="2078" h="1271">
                <a:moveTo>
                  <a:pt x="0" y="335"/>
                </a:moveTo>
                <a:lnTo>
                  <a:pt x="207" y="427"/>
                </a:lnTo>
                <a:lnTo>
                  <a:pt x="379" y="728"/>
                </a:lnTo>
                <a:lnTo>
                  <a:pt x="405" y="1116"/>
                </a:lnTo>
                <a:lnTo>
                  <a:pt x="392" y="1271"/>
                </a:lnTo>
                <a:lnTo>
                  <a:pt x="1019" y="1178"/>
                </a:lnTo>
                <a:lnTo>
                  <a:pt x="1398" y="1116"/>
                </a:lnTo>
                <a:lnTo>
                  <a:pt x="1660" y="688"/>
                </a:lnTo>
                <a:lnTo>
                  <a:pt x="1633" y="480"/>
                </a:lnTo>
                <a:lnTo>
                  <a:pt x="1739" y="702"/>
                </a:lnTo>
                <a:lnTo>
                  <a:pt x="1633" y="909"/>
                </a:lnTo>
                <a:lnTo>
                  <a:pt x="1531" y="1063"/>
                </a:lnTo>
                <a:lnTo>
                  <a:pt x="1779" y="882"/>
                </a:lnTo>
                <a:lnTo>
                  <a:pt x="1845" y="728"/>
                </a:lnTo>
                <a:lnTo>
                  <a:pt x="1858" y="520"/>
                </a:lnTo>
                <a:lnTo>
                  <a:pt x="1898" y="702"/>
                </a:lnTo>
                <a:lnTo>
                  <a:pt x="1871" y="896"/>
                </a:lnTo>
                <a:lnTo>
                  <a:pt x="1818" y="1050"/>
                </a:lnTo>
                <a:lnTo>
                  <a:pt x="1999" y="922"/>
                </a:lnTo>
                <a:lnTo>
                  <a:pt x="2078" y="621"/>
                </a:lnTo>
                <a:lnTo>
                  <a:pt x="1959" y="374"/>
                </a:lnTo>
                <a:lnTo>
                  <a:pt x="1739" y="233"/>
                </a:lnTo>
                <a:lnTo>
                  <a:pt x="1425" y="79"/>
                </a:lnTo>
                <a:lnTo>
                  <a:pt x="1165" y="0"/>
                </a:lnTo>
                <a:lnTo>
                  <a:pt x="927" y="0"/>
                </a:lnTo>
                <a:lnTo>
                  <a:pt x="587" y="13"/>
                </a:lnTo>
                <a:lnTo>
                  <a:pt x="194" y="114"/>
                </a:lnTo>
                <a:lnTo>
                  <a:pt x="498" y="92"/>
                </a:lnTo>
                <a:lnTo>
                  <a:pt x="693" y="79"/>
                </a:lnTo>
                <a:lnTo>
                  <a:pt x="874" y="105"/>
                </a:lnTo>
                <a:lnTo>
                  <a:pt x="600" y="127"/>
                </a:lnTo>
                <a:lnTo>
                  <a:pt x="326" y="127"/>
                </a:lnTo>
                <a:lnTo>
                  <a:pt x="145" y="194"/>
                </a:lnTo>
                <a:lnTo>
                  <a:pt x="0" y="3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2200" y="2271600"/>
            <a:ext cx="336960" cy="109800"/>
          </a:xfrm>
          <a:custGeom>
            <a:avLst/>
            <a:gdLst/>
            <a:ahLst/>
            <a:rect l="0" t="0" r="r" b="b"/>
            <a:pathLst>
              <a:path w="936" h="305">
                <a:moveTo>
                  <a:pt x="936" y="0"/>
                </a:moveTo>
                <a:lnTo>
                  <a:pt x="693" y="83"/>
                </a:lnTo>
                <a:lnTo>
                  <a:pt x="459" y="172"/>
                </a:lnTo>
                <a:lnTo>
                  <a:pt x="216" y="256"/>
                </a:lnTo>
                <a:lnTo>
                  <a:pt x="0" y="305"/>
                </a:lnTo>
                <a:lnTo>
                  <a:pt x="180" y="159"/>
                </a:lnTo>
                <a:lnTo>
                  <a:pt x="384" y="48"/>
                </a:lnTo>
                <a:lnTo>
                  <a:pt x="472" y="74"/>
                </a:lnTo>
                <a:lnTo>
                  <a:pt x="936" y="0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595600" y="2290680"/>
            <a:ext cx="160560" cy="81360"/>
          </a:xfrm>
          <a:custGeom>
            <a:avLst/>
            <a:gdLst/>
            <a:ahLst/>
            <a:rect l="0" t="0" r="r" b="b"/>
            <a:pathLst>
              <a:path w="446" h="226">
                <a:moveTo>
                  <a:pt x="446" y="0"/>
                </a:moveTo>
                <a:lnTo>
                  <a:pt x="252" y="93"/>
                </a:lnTo>
                <a:lnTo>
                  <a:pt x="136" y="226"/>
                </a:lnTo>
                <a:lnTo>
                  <a:pt x="0" y="178"/>
                </a:lnTo>
                <a:lnTo>
                  <a:pt x="185" y="48"/>
                </a:lnTo>
                <a:lnTo>
                  <a:pt x="274" y="0"/>
                </a:lnTo>
                <a:lnTo>
                  <a:pt x="446" y="0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362320" y="2200320"/>
            <a:ext cx="276480" cy="209880"/>
          </a:xfrm>
          <a:custGeom>
            <a:avLst/>
            <a:gdLst/>
            <a:ahLst/>
            <a:rect l="0" t="0" r="r" b="b"/>
            <a:pathLst>
              <a:path w="768" h="583">
                <a:moveTo>
                  <a:pt x="768" y="189"/>
                </a:moveTo>
                <a:lnTo>
                  <a:pt x="613" y="353"/>
                </a:lnTo>
                <a:lnTo>
                  <a:pt x="525" y="433"/>
                </a:lnTo>
                <a:lnTo>
                  <a:pt x="437" y="455"/>
                </a:lnTo>
                <a:lnTo>
                  <a:pt x="343" y="433"/>
                </a:lnTo>
                <a:lnTo>
                  <a:pt x="242" y="433"/>
                </a:lnTo>
                <a:lnTo>
                  <a:pt x="141" y="481"/>
                </a:lnTo>
                <a:lnTo>
                  <a:pt x="26" y="583"/>
                </a:lnTo>
                <a:lnTo>
                  <a:pt x="39" y="305"/>
                </a:lnTo>
                <a:lnTo>
                  <a:pt x="0" y="74"/>
                </a:lnTo>
                <a:lnTo>
                  <a:pt x="0" y="0"/>
                </a:lnTo>
                <a:lnTo>
                  <a:pt x="202" y="13"/>
                </a:lnTo>
                <a:lnTo>
                  <a:pt x="370" y="26"/>
                </a:lnTo>
                <a:lnTo>
                  <a:pt x="552" y="61"/>
                </a:lnTo>
                <a:lnTo>
                  <a:pt x="768" y="1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495520" y="2529000"/>
            <a:ext cx="1298880" cy="903600"/>
          </a:xfrm>
          <a:custGeom>
            <a:avLst/>
            <a:gdLst/>
            <a:ahLst/>
            <a:rect l="0" t="0" r="r" b="b"/>
            <a:pathLst>
              <a:path w="3608" h="2510">
                <a:moveTo>
                  <a:pt x="1230" y="299"/>
                </a:moveTo>
                <a:lnTo>
                  <a:pt x="1058" y="313"/>
                </a:lnTo>
                <a:lnTo>
                  <a:pt x="926" y="405"/>
                </a:lnTo>
                <a:lnTo>
                  <a:pt x="732" y="485"/>
                </a:lnTo>
                <a:lnTo>
                  <a:pt x="745" y="652"/>
                </a:lnTo>
                <a:lnTo>
                  <a:pt x="745" y="824"/>
                </a:lnTo>
                <a:lnTo>
                  <a:pt x="705" y="970"/>
                </a:lnTo>
                <a:lnTo>
                  <a:pt x="577" y="1009"/>
                </a:lnTo>
                <a:lnTo>
                  <a:pt x="551" y="1150"/>
                </a:lnTo>
                <a:lnTo>
                  <a:pt x="418" y="1297"/>
                </a:lnTo>
                <a:lnTo>
                  <a:pt x="132" y="1897"/>
                </a:lnTo>
                <a:lnTo>
                  <a:pt x="0" y="2510"/>
                </a:lnTo>
                <a:lnTo>
                  <a:pt x="211" y="2038"/>
                </a:lnTo>
                <a:lnTo>
                  <a:pt x="352" y="1637"/>
                </a:lnTo>
                <a:lnTo>
                  <a:pt x="537" y="1310"/>
                </a:lnTo>
                <a:lnTo>
                  <a:pt x="643" y="1150"/>
                </a:lnTo>
                <a:lnTo>
                  <a:pt x="992" y="956"/>
                </a:lnTo>
                <a:lnTo>
                  <a:pt x="1336" y="745"/>
                </a:lnTo>
                <a:lnTo>
                  <a:pt x="1543" y="626"/>
                </a:lnTo>
                <a:lnTo>
                  <a:pt x="1914" y="564"/>
                </a:lnTo>
                <a:lnTo>
                  <a:pt x="2518" y="511"/>
                </a:lnTo>
                <a:lnTo>
                  <a:pt x="2858" y="445"/>
                </a:lnTo>
                <a:lnTo>
                  <a:pt x="3228" y="299"/>
                </a:lnTo>
                <a:lnTo>
                  <a:pt x="3568" y="171"/>
                </a:lnTo>
                <a:lnTo>
                  <a:pt x="3608" y="0"/>
                </a:lnTo>
                <a:lnTo>
                  <a:pt x="3436" y="105"/>
                </a:lnTo>
                <a:lnTo>
                  <a:pt x="3109" y="326"/>
                </a:lnTo>
                <a:lnTo>
                  <a:pt x="3281" y="92"/>
                </a:lnTo>
                <a:lnTo>
                  <a:pt x="3004" y="313"/>
                </a:lnTo>
                <a:lnTo>
                  <a:pt x="2792" y="339"/>
                </a:lnTo>
                <a:lnTo>
                  <a:pt x="3017" y="145"/>
                </a:lnTo>
                <a:lnTo>
                  <a:pt x="2452" y="260"/>
                </a:lnTo>
                <a:lnTo>
                  <a:pt x="1967" y="299"/>
                </a:lnTo>
                <a:lnTo>
                  <a:pt x="1230" y="299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817640" y="2000160"/>
            <a:ext cx="311400" cy="381240"/>
          </a:xfrm>
          <a:custGeom>
            <a:avLst/>
            <a:gdLst/>
            <a:ahLst/>
            <a:rect l="0" t="0" r="r" b="b"/>
            <a:pathLst>
              <a:path w="865" h="1059">
                <a:moveTo>
                  <a:pt x="185" y="449"/>
                </a:moveTo>
                <a:lnTo>
                  <a:pt x="0" y="534"/>
                </a:lnTo>
                <a:lnTo>
                  <a:pt x="141" y="565"/>
                </a:lnTo>
                <a:lnTo>
                  <a:pt x="211" y="684"/>
                </a:lnTo>
                <a:lnTo>
                  <a:pt x="211" y="931"/>
                </a:lnTo>
                <a:lnTo>
                  <a:pt x="132" y="1059"/>
                </a:lnTo>
                <a:lnTo>
                  <a:pt x="427" y="852"/>
                </a:lnTo>
                <a:lnTo>
                  <a:pt x="658" y="569"/>
                </a:lnTo>
                <a:lnTo>
                  <a:pt x="865" y="335"/>
                </a:lnTo>
                <a:lnTo>
                  <a:pt x="737" y="0"/>
                </a:lnTo>
                <a:lnTo>
                  <a:pt x="649" y="198"/>
                </a:lnTo>
                <a:lnTo>
                  <a:pt x="468" y="321"/>
                </a:lnTo>
                <a:lnTo>
                  <a:pt x="185" y="4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490760" y="2062080"/>
            <a:ext cx="236880" cy="314640"/>
          </a:xfrm>
          <a:custGeom>
            <a:avLst/>
            <a:gdLst/>
            <a:ahLst/>
            <a:rect l="0" t="0" r="r" b="b"/>
            <a:pathLst>
              <a:path w="658" h="874">
                <a:moveTo>
                  <a:pt x="154" y="0"/>
                </a:moveTo>
                <a:lnTo>
                  <a:pt x="229" y="154"/>
                </a:lnTo>
                <a:lnTo>
                  <a:pt x="384" y="229"/>
                </a:lnTo>
                <a:lnTo>
                  <a:pt x="459" y="295"/>
                </a:lnTo>
                <a:lnTo>
                  <a:pt x="658" y="374"/>
                </a:lnTo>
                <a:lnTo>
                  <a:pt x="538" y="455"/>
                </a:lnTo>
                <a:lnTo>
                  <a:pt x="486" y="578"/>
                </a:lnTo>
                <a:lnTo>
                  <a:pt x="534" y="874"/>
                </a:lnTo>
                <a:lnTo>
                  <a:pt x="446" y="847"/>
                </a:lnTo>
                <a:lnTo>
                  <a:pt x="229" y="693"/>
                </a:lnTo>
                <a:lnTo>
                  <a:pt x="74" y="525"/>
                </a:lnTo>
                <a:lnTo>
                  <a:pt x="0" y="321"/>
                </a:lnTo>
                <a:lnTo>
                  <a:pt x="15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847880" y="2143080"/>
            <a:ext cx="338400" cy="1922760"/>
          </a:xfrm>
          <a:custGeom>
            <a:avLst/>
            <a:gdLst/>
            <a:ahLst/>
            <a:rect l="0" t="0" r="r" b="b"/>
            <a:pathLst>
              <a:path w="940" h="5341">
                <a:moveTo>
                  <a:pt x="812" y="0"/>
                </a:moveTo>
                <a:lnTo>
                  <a:pt x="658" y="211"/>
                </a:lnTo>
                <a:lnTo>
                  <a:pt x="436" y="445"/>
                </a:lnTo>
                <a:lnTo>
                  <a:pt x="255" y="617"/>
                </a:lnTo>
                <a:lnTo>
                  <a:pt x="66" y="736"/>
                </a:lnTo>
                <a:lnTo>
                  <a:pt x="0" y="789"/>
                </a:lnTo>
                <a:lnTo>
                  <a:pt x="101" y="1578"/>
                </a:lnTo>
                <a:lnTo>
                  <a:pt x="194" y="2579"/>
                </a:lnTo>
                <a:lnTo>
                  <a:pt x="242" y="3392"/>
                </a:lnTo>
                <a:lnTo>
                  <a:pt x="255" y="4049"/>
                </a:lnTo>
                <a:lnTo>
                  <a:pt x="220" y="4931"/>
                </a:lnTo>
                <a:lnTo>
                  <a:pt x="114" y="5327"/>
                </a:lnTo>
                <a:lnTo>
                  <a:pt x="423" y="5341"/>
                </a:lnTo>
                <a:lnTo>
                  <a:pt x="733" y="5301"/>
                </a:lnTo>
                <a:lnTo>
                  <a:pt x="825" y="4723"/>
                </a:lnTo>
                <a:lnTo>
                  <a:pt x="887" y="4128"/>
                </a:lnTo>
                <a:lnTo>
                  <a:pt x="940" y="3484"/>
                </a:lnTo>
                <a:lnTo>
                  <a:pt x="927" y="2473"/>
                </a:lnTo>
                <a:lnTo>
                  <a:pt x="940" y="1512"/>
                </a:lnTo>
                <a:lnTo>
                  <a:pt x="940" y="881"/>
                </a:lnTo>
                <a:lnTo>
                  <a:pt x="913" y="52"/>
                </a:lnTo>
                <a:lnTo>
                  <a:pt x="8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333520" y="2928960"/>
            <a:ext cx="271800" cy="851400"/>
          </a:xfrm>
          <a:custGeom>
            <a:avLst/>
            <a:gdLst/>
            <a:ahLst/>
            <a:rect l="0" t="0" r="r" b="b"/>
            <a:pathLst>
              <a:path w="755" h="2365">
                <a:moveTo>
                  <a:pt x="127" y="0"/>
                </a:moveTo>
                <a:lnTo>
                  <a:pt x="255" y="92"/>
                </a:lnTo>
                <a:lnTo>
                  <a:pt x="384" y="105"/>
                </a:lnTo>
                <a:lnTo>
                  <a:pt x="538" y="198"/>
                </a:lnTo>
                <a:lnTo>
                  <a:pt x="627" y="198"/>
                </a:lnTo>
                <a:lnTo>
                  <a:pt x="755" y="145"/>
                </a:lnTo>
                <a:lnTo>
                  <a:pt x="574" y="498"/>
                </a:lnTo>
                <a:lnTo>
                  <a:pt x="424" y="887"/>
                </a:lnTo>
                <a:lnTo>
                  <a:pt x="282" y="1359"/>
                </a:lnTo>
                <a:lnTo>
                  <a:pt x="189" y="1738"/>
                </a:lnTo>
                <a:lnTo>
                  <a:pt x="88" y="2105"/>
                </a:lnTo>
                <a:lnTo>
                  <a:pt x="0" y="2365"/>
                </a:lnTo>
                <a:lnTo>
                  <a:pt x="88" y="1773"/>
                </a:lnTo>
                <a:lnTo>
                  <a:pt x="114" y="1293"/>
                </a:lnTo>
                <a:lnTo>
                  <a:pt x="167" y="733"/>
                </a:lnTo>
                <a:lnTo>
                  <a:pt x="12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314440" y="3048120"/>
            <a:ext cx="371880" cy="989280"/>
          </a:xfrm>
          <a:custGeom>
            <a:avLst/>
            <a:gdLst/>
            <a:ahLst/>
            <a:rect l="0" t="0" r="r" b="b"/>
            <a:pathLst>
              <a:path w="1033" h="2748">
                <a:moveTo>
                  <a:pt x="88" y="2748"/>
                </a:moveTo>
                <a:lnTo>
                  <a:pt x="0" y="2735"/>
                </a:lnTo>
                <a:lnTo>
                  <a:pt x="39" y="2395"/>
                </a:lnTo>
                <a:lnTo>
                  <a:pt x="127" y="2016"/>
                </a:lnTo>
                <a:lnTo>
                  <a:pt x="269" y="1465"/>
                </a:lnTo>
                <a:lnTo>
                  <a:pt x="428" y="978"/>
                </a:lnTo>
                <a:lnTo>
                  <a:pt x="375" y="1425"/>
                </a:lnTo>
                <a:lnTo>
                  <a:pt x="261" y="1923"/>
                </a:lnTo>
                <a:lnTo>
                  <a:pt x="194" y="2342"/>
                </a:lnTo>
                <a:lnTo>
                  <a:pt x="362" y="1751"/>
                </a:lnTo>
                <a:lnTo>
                  <a:pt x="543" y="1212"/>
                </a:lnTo>
                <a:lnTo>
                  <a:pt x="644" y="899"/>
                </a:lnTo>
                <a:lnTo>
                  <a:pt x="800" y="524"/>
                </a:lnTo>
                <a:lnTo>
                  <a:pt x="1033" y="0"/>
                </a:lnTo>
                <a:lnTo>
                  <a:pt x="954" y="652"/>
                </a:lnTo>
                <a:lnTo>
                  <a:pt x="866" y="1278"/>
                </a:lnTo>
                <a:lnTo>
                  <a:pt x="724" y="1659"/>
                </a:lnTo>
                <a:lnTo>
                  <a:pt x="556" y="2210"/>
                </a:lnTo>
                <a:lnTo>
                  <a:pt x="309" y="2435"/>
                </a:lnTo>
                <a:lnTo>
                  <a:pt x="88" y="2748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62160" y="2197080"/>
            <a:ext cx="424080" cy="1856160"/>
          </a:xfrm>
          <a:custGeom>
            <a:avLst/>
            <a:gdLst/>
            <a:ahLst/>
            <a:rect l="0" t="0" r="r" b="b"/>
            <a:pathLst>
              <a:path w="1178" h="5156">
                <a:moveTo>
                  <a:pt x="401" y="79"/>
                </a:moveTo>
                <a:lnTo>
                  <a:pt x="568" y="0"/>
                </a:lnTo>
                <a:lnTo>
                  <a:pt x="622" y="171"/>
                </a:lnTo>
                <a:lnTo>
                  <a:pt x="710" y="304"/>
                </a:lnTo>
                <a:lnTo>
                  <a:pt x="904" y="471"/>
                </a:lnTo>
                <a:lnTo>
                  <a:pt x="1138" y="604"/>
                </a:lnTo>
                <a:lnTo>
                  <a:pt x="1178" y="617"/>
                </a:lnTo>
                <a:lnTo>
                  <a:pt x="1050" y="1212"/>
                </a:lnTo>
                <a:lnTo>
                  <a:pt x="931" y="2016"/>
                </a:lnTo>
                <a:lnTo>
                  <a:pt x="904" y="2620"/>
                </a:lnTo>
                <a:lnTo>
                  <a:pt x="869" y="3286"/>
                </a:lnTo>
                <a:lnTo>
                  <a:pt x="816" y="3931"/>
                </a:lnTo>
                <a:lnTo>
                  <a:pt x="803" y="4129"/>
                </a:lnTo>
                <a:lnTo>
                  <a:pt x="856" y="4826"/>
                </a:lnTo>
                <a:lnTo>
                  <a:pt x="1037" y="5156"/>
                </a:lnTo>
                <a:lnTo>
                  <a:pt x="843" y="5143"/>
                </a:lnTo>
                <a:lnTo>
                  <a:pt x="233" y="4905"/>
                </a:lnTo>
                <a:lnTo>
                  <a:pt x="92" y="4142"/>
                </a:lnTo>
                <a:lnTo>
                  <a:pt x="92" y="3736"/>
                </a:lnTo>
                <a:lnTo>
                  <a:pt x="127" y="3352"/>
                </a:lnTo>
                <a:lnTo>
                  <a:pt x="101" y="2999"/>
                </a:lnTo>
                <a:lnTo>
                  <a:pt x="0" y="2607"/>
                </a:lnTo>
                <a:lnTo>
                  <a:pt x="0" y="2355"/>
                </a:lnTo>
                <a:lnTo>
                  <a:pt x="101" y="2699"/>
                </a:lnTo>
                <a:lnTo>
                  <a:pt x="260" y="2999"/>
                </a:lnTo>
                <a:lnTo>
                  <a:pt x="154" y="2607"/>
                </a:lnTo>
                <a:lnTo>
                  <a:pt x="66" y="2276"/>
                </a:lnTo>
                <a:lnTo>
                  <a:pt x="26" y="1950"/>
                </a:lnTo>
                <a:lnTo>
                  <a:pt x="79" y="1698"/>
                </a:lnTo>
                <a:lnTo>
                  <a:pt x="180" y="1278"/>
                </a:lnTo>
                <a:lnTo>
                  <a:pt x="308" y="961"/>
                </a:lnTo>
                <a:lnTo>
                  <a:pt x="361" y="551"/>
                </a:lnTo>
                <a:lnTo>
                  <a:pt x="414" y="304"/>
                </a:lnTo>
                <a:lnTo>
                  <a:pt x="401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90560" y="2287440"/>
            <a:ext cx="452880" cy="2180160"/>
          </a:xfrm>
          <a:custGeom>
            <a:avLst/>
            <a:gdLst/>
            <a:ahLst/>
            <a:rect l="0" t="0" r="r" b="b"/>
            <a:pathLst>
              <a:path w="1258" h="6056">
                <a:moveTo>
                  <a:pt x="1258" y="0"/>
                </a:moveTo>
                <a:lnTo>
                  <a:pt x="1219" y="251"/>
                </a:lnTo>
                <a:lnTo>
                  <a:pt x="1192" y="551"/>
                </a:lnTo>
                <a:lnTo>
                  <a:pt x="1166" y="908"/>
                </a:lnTo>
                <a:lnTo>
                  <a:pt x="1152" y="736"/>
                </a:lnTo>
                <a:lnTo>
                  <a:pt x="1130" y="317"/>
                </a:lnTo>
                <a:lnTo>
                  <a:pt x="1130" y="185"/>
                </a:lnTo>
                <a:lnTo>
                  <a:pt x="1091" y="396"/>
                </a:lnTo>
                <a:lnTo>
                  <a:pt x="1064" y="855"/>
                </a:lnTo>
                <a:lnTo>
                  <a:pt x="1091" y="1212"/>
                </a:lnTo>
                <a:lnTo>
                  <a:pt x="1011" y="1490"/>
                </a:lnTo>
                <a:lnTo>
                  <a:pt x="935" y="1817"/>
                </a:lnTo>
                <a:lnTo>
                  <a:pt x="896" y="2108"/>
                </a:lnTo>
                <a:lnTo>
                  <a:pt x="803" y="1923"/>
                </a:lnTo>
                <a:lnTo>
                  <a:pt x="688" y="1539"/>
                </a:lnTo>
                <a:lnTo>
                  <a:pt x="662" y="1159"/>
                </a:lnTo>
                <a:lnTo>
                  <a:pt x="635" y="1503"/>
                </a:lnTo>
                <a:lnTo>
                  <a:pt x="728" y="2003"/>
                </a:lnTo>
                <a:lnTo>
                  <a:pt x="790" y="2188"/>
                </a:lnTo>
                <a:lnTo>
                  <a:pt x="856" y="2360"/>
                </a:lnTo>
                <a:lnTo>
                  <a:pt x="945" y="2708"/>
                </a:lnTo>
                <a:lnTo>
                  <a:pt x="985" y="3290"/>
                </a:lnTo>
                <a:lnTo>
                  <a:pt x="985" y="3775"/>
                </a:lnTo>
                <a:lnTo>
                  <a:pt x="856" y="3934"/>
                </a:lnTo>
                <a:lnTo>
                  <a:pt x="635" y="4119"/>
                </a:lnTo>
                <a:lnTo>
                  <a:pt x="958" y="3987"/>
                </a:lnTo>
                <a:lnTo>
                  <a:pt x="958" y="4199"/>
                </a:lnTo>
                <a:lnTo>
                  <a:pt x="1025" y="4490"/>
                </a:lnTo>
                <a:lnTo>
                  <a:pt x="958" y="4989"/>
                </a:lnTo>
                <a:lnTo>
                  <a:pt x="790" y="4949"/>
                </a:lnTo>
                <a:lnTo>
                  <a:pt x="494" y="4685"/>
                </a:lnTo>
                <a:lnTo>
                  <a:pt x="702" y="4989"/>
                </a:lnTo>
                <a:lnTo>
                  <a:pt x="909" y="5081"/>
                </a:lnTo>
                <a:lnTo>
                  <a:pt x="856" y="5439"/>
                </a:lnTo>
                <a:lnTo>
                  <a:pt x="715" y="6003"/>
                </a:lnTo>
                <a:lnTo>
                  <a:pt x="556" y="6056"/>
                </a:lnTo>
                <a:lnTo>
                  <a:pt x="304" y="6012"/>
                </a:lnTo>
                <a:lnTo>
                  <a:pt x="97" y="5933"/>
                </a:lnTo>
                <a:lnTo>
                  <a:pt x="167" y="5531"/>
                </a:lnTo>
                <a:lnTo>
                  <a:pt x="428" y="5553"/>
                </a:lnTo>
                <a:lnTo>
                  <a:pt x="702" y="5545"/>
                </a:lnTo>
                <a:lnTo>
                  <a:pt x="299" y="5478"/>
                </a:lnTo>
                <a:lnTo>
                  <a:pt x="167" y="5386"/>
                </a:lnTo>
                <a:lnTo>
                  <a:pt x="0" y="4804"/>
                </a:lnTo>
                <a:lnTo>
                  <a:pt x="26" y="4344"/>
                </a:lnTo>
                <a:lnTo>
                  <a:pt x="52" y="4066"/>
                </a:lnTo>
                <a:lnTo>
                  <a:pt x="39" y="3802"/>
                </a:lnTo>
                <a:lnTo>
                  <a:pt x="39" y="3277"/>
                </a:lnTo>
                <a:lnTo>
                  <a:pt x="66" y="3078"/>
                </a:lnTo>
                <a:lnTo>
                  <a:pt x="194" y="3422"/>
                </a:lnTo>
                <a:lnTo>
                  <a:pt x="260" y="3696"/>
                </a:lnTo>
                <a:lnTo>
                  <a:pt x="362" y="3802"/>
                </a:lnTo>
                <a:lnTo>
                  <a:pt x="481" y="3881"/>
                </a:lnTo>
                <a:lnTo>
                  <a:pt x="349" y="3643"/>
                </a:lnTo>
                <a:lnTo>
                  <a:pt x="246" y="3330"/>
                </a:lnTo>
                <a:lnTo>
                  <a:pt x="154" y="3012"/>
                </a:lnTo>
                <a:lnTo>
                  <a:pt x="141" y="2801"/>
                </a:lnTo>
                <a:lnTo>
                  <a:pt x="194" y="2505"/>
                </a:lnTo>
                <a:lnTo>
                  <a:pt x="286" y="2161"/>
                </a:lnTo>
                <a:lnTo>
                  <a:pt x="389" y="2439"/>
                </a:lnTo>
                <a:lnTo>
                  <a:pt x="556" y="2682"/>
                </a:lnTo>
                <a:lnTo>
                  <a:pt x="702" y="2748"/>
                </a:lnTo>
                <a:lnTo>
                  <a:pt x="481" y="2413"/>
                </a:lnTo>
                <a:lnTo>
                  <a:pt x="375" y="2201"/>
                </a:lnTo>
                <a:lnTo>
                  <a:pt x="322" y="1963"/>
                </a:lnTo>
                <a:lnTo>
                  <a:pt x="349" y="1553"/>
                </a:lnTo>
                <a:lnTo>
                  <a:pt x="402" y="1040"/>
                </a:lnTo>
                <a:lnTo>
                  <a:pt x="468" y="709"/>
                </a:lnTo>
                <a:lnTo>
                  <a:pt x="569" y="511"/>
                </a:lnTo>
                <a:lnTo>
                  <a:pt x="715" y="211"/>
                </a:lnTo>
                <a:lnTo>
                  <a:pt x="935" y="92"/>
                </a:lnTo>
                <a:lnTo>
                  <a:pt x="12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541520" y="1779480"/>
            <a:ext cx="536760" cy="410040"/>
          </a:xfrm>
          <a:custGeom>
            <a:avLst/>
            <a:gdLst/>
            <a:ahLst/>
            <a:rect l="0" t="0" r="r" b="b"/>
            <a:pathLst>
              <a:path w="1491" h="1139">
                <a:moveTo>
                  <a:pt x="26" y="397"/>
                </a:moveTo>
                <a:lnTo>
                  <a:pt x="79" y="807"/>
                </a:lnTo>
                <a:lnTo>
                  <a:pt x="141" y="914"/>
                </a:lnTo>
                <a:lnTo>
                  <a:pt x="304" y="1020"/>
                </a:lnTo>
                <a:lnTo>
                  <a:pt x="502" y="1108"/>
                </a:lnTo>
                <a:lnTo>
                  <a:pt x="687" y="1139"/>
                </a:lnTo>
                <a:lnTo>
                  <a:pt x="940" y="1055"/>
                </a:lnTo>
                <a:lnTo>
                  <a:pt x="1165" y="928"/>
                </a:lnTo>
                <a:lnTo>
                  <a:pt x="1363" y="790"/>
                </a:lnTo>
                <a:lnTo>
                  <a:pt x="1491" y="609"/>
                </a:lnTo>
                <a:lnTo>
                  <a:pt x="1456" y="530"/>
                </a:lnTo>
                <a:lnTo>
                  <a:pt x="1456" y="26"/>
                </a:lnTo>
                <a:lnTo>
                  <a:pt x="0" y="0"/>
                </a:lnTo>
                <a:lnTo>
                  <a:pt x="26" y="397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38200" y="903240"/>
            <a:ext cx="797400" cy="1175040"/>
          </a:xfrm>
          <a:custGeom>
            <a:avLst/>
            <a:gdLst/>
            <a:ahLst/>
            <a:rect l="0" t="0" r="r" b="b"/>
            <a:pathLst>
              <a:path w="2215" h="3264">
                <a:moveTo>
                  <a:pt x="471" y="2884"/>
                </a:moveTo>
                <a:lnTo>
                  <a:pt x="596" y="3008"/>
                </a:lnTo>
                <a:lnTo>
                  <a:pt x="816" y="3202"/>
                </a:lnTo>
                <a:lnTo>
                  <a:pt x="966" y="3264"/>
                </a:lnTo>
                <a:lnTo>
                  <a:pt x="1103" y="3264"/>
                </a:lnTo>
                <a:lnTo>
                  <a:pt x="1235" y="3255"/>
                </a:lnTo>
                <a:lnTo>
                  <a:pt x="1350" y="3215"/>
                </a:lnTo>
                <a:lnTo>
                  <a:pt x="1482" y="3114"/>
                </a:lnTo>
                <a:lnTo>
                  <a:pt x="1743" y="2858"/>
                </a:lnTo>
                <a:lnTo>
                  <a:pt x="1854" y="2611"/>
                </a:lnTo>
                <a:lnTo>
                  <a:pt x="1920" y="2386"/>
                </a:lnTo>
                <a:lnTo>
                  <a:pt x="1981" y="2170"/>
                </a:lnTo>
                <a:lnTo>
                  <a:pt x="2087" y="2064"/>
                </a:lnTo>
                <a:lnTo>
                  <a:pt x="2158" y="1844"/>
                </a:lnTo>
                <a:lnTo>
                  <a:pt x="2184" y="1659"/>
                </a:lnTo>
                <a:lnTo>
                  <a:pt x="2167" y="1481"/>
                </a:lnTo>
                <a:lnTo>
                  <a:pt x="2140" y="1402"/>
                </a:lnTo>
                <a:lnTo>
                  <a:pt x="2202" y="1177"/>
                </a:lnTo>
                <a:lnTo>
                  <a:pt x="2215" y="749"/>
                </a:lnTo>
                <a:lnTo>
                  <a:pt x="2140" y="524"/>
                </a:lnTo>
                <a:lnTo>
                  <a:pt x="2030" y="291"/>
                </a:lnTo>
                <a:lnTo>
                  <a:pt x="1884" y="185"/>
                </a:lnTo>
                <a:lnTo>
                  <a:pt x="1677" y="101"/>
                </a:lnTo>
                <a:lnTo>
                  <a:pt x="1473" y="26"/>
                </a:lnTo>
                <a:lnTo>
                  <a:pt x="1266" y="0"/>
                </a:lnTo>
                <a:lnTo>
                  <a:pt x="1002" y="0"/>
                </a:lnTo>
                <a:lnTo>
                  <a:pt x="759" y="35"/>
                </a:lnTo>
                <a:lnTo>
                  <a:pt x="561" y="105"/>
                </a:lnTo>
                <a:lnTo>
                  <a:pt x="313" y="224"/>
                </a:lnTo>
                <a:lnTo>
                  <a:pt x="141" y="582"/>
                </a:lnTo>
                <a:lnTo>
                  <a:pt x="110" y="1027"/>
                </a:lnTo>
                <a:lnTo>
                  <a:pt x="127" y="1402"/>
                </a:lnTo>
                <a:lnTo>
                  <a:pt x="13" y="1486"/>
                </a:lnTo>
                <a:lnTo>
                  <a:pt x="0" y="1725"/>
                </a:lnTo>
                <a:lnTo>
                  <a:pt x="52" y="1950"/>
                </a:lnTo>
                <a:lnTo>
                  <a:pt x="158" y="2003"/>
                </a:lnTo>
                <a:lnTo>
                  <a:pt x="171" y="2174"/>
                </a:lnTo>
                <a:lnTo>
                  <a:pt x="198" y="2413"/>
                </a:lnTo>
                <a:lnTo>
                  <a:pt x="277" y="2558"/>
                </a:lnTo>
                <a:lnTo>
                  <a:pt x="471" y="2884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61960" y="1468440"/>
            <a:ext cx="44640" cy="120960"/>
          </a:xfrm>
          <a:custGeom>
            <a:avLst/>
            <a:gdLst/>
            <a:ahLst/>
            <a:rect l="0" t="0" r="r" b="b"/>
            <a:pathLst>
              <a:path w="124" h="336">
                <a:moveTo>
                  <a:pt x="0" y="0"/>
                </a:moveTo>
                <a:lnTo>
                  <a:pt x="75" y="61"/>
                </a:lnTo>
                <a:lnTo>
                  <a:pt x="75" y="114"/>
                </a:lnTo>
                <a:lnTo>
                  <a:pt x="44" y="149"/>
                </a:lnTo>
                <a:lnTo>
                  <a:pt x="67" y="269"/>
                </a:lnTo>
                <a:lnTo>
                  <a:pt x="124" y="336"/>
                </a:lnTo>
                <a:lnTo>
                  <a:pt x="44" y="309"/>
                </a:lnTo>
                <a:lnTo>
                  <a:pt x="4" y="208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154240" y="1487520"/>
            <a:ext cx="36720" cy="138600"/>
          </a:xfrm>
          <a:custGeom>
            <a:avLst/>
            <a:gdLst/>
            <a:ahLst/>
            <a:rect l="0" t="0" r="r" b="b"/>
            <a:pathLst>
              <a:path w="102" h="385">
                <a:moveTo>
                  <a:pt x="102" y="0"/>
                </a:moveTo>
                <a:lnTo>
                  <a:pt x="48" y="61"/>
                </a:lnTo>
                <a:lnTo>
                  <a:pt x="58" y="150"/>
                </a:lnTo>
                <a:lnTo>
                  <a:pt x="71" y="225"/>
                </a:lnTo>
                <a:lnTo>
                  <a:pt x="30" y="337"/>
                </a:lnTo>
                <a:lnTo>
                  <a:pt x="0" y="385"/>
                </a:lnTo>
                <a:lnTo>
                  <a:pt x="53" y="354"/>
                </a:lnTo>
                <a:lnTo>
                  <a:pt x="93" y="217"/>
                </a:lnTo>
                <a:lnTo>
                  <a:pt x="80" y="102"/>
                </a:lnTo>
                <a:lnTo>
                  <a:pt x="102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606680" y="1449360"/>
            <a:ext cx="155880" cy="62280"/>
          </a:xfrm>
          <a:custGeom>
            <a:avLst/>
            <a:gdLst/>
            <a:ahLst/>
            <a:rect l="0" t="0" r="r" b="b"/>
            <a:pathLst>
              <a:path w="433" h="173">
                <a:moveTo>
                  <a:pt x="35" y="13"/>
                </a:moveTo>
                <a:lnTo>
                  <a:pt x="171" y="0"/>
                </a:lnTo>
                <a:lnTo>
                  <a:pt x="309" y="35"/>
                </a:lnTo>
                <a:lnTo>
                  <a:pt x="433" y="71"/>
                </a:lnTo>
                <a:lnTo>
                  <a:pt x="362" y="98"/>
                </a:lnTo>
                <a:lnTo>
                  <a:pt x="336" y="151"/>
                </a:lnTo>
                <a:lnTo>
                  <a:pt x="247" y="173"/>
                </a:lnTo>
                <a:lnTo>
                  <a:pt x="136" y="160"/>
                </a:lnTo>
                <a:lnTo>
                  <a:pt x="83" y="98"/>
                </a:lnTo>
                <a:lnTo>
                  <a:pt x="0" y="71"/>
                </a:lnTo>
                <a:lnTo>
                  <a:pt x="35" y="1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25640" y="1469880"/>
            <a:ext cx="152640" cy="95760"/>
          </a:xfrm>
          <a:custGeom>
            <a:avLst/>
            <a:gdLst/>
            <a:ahLst/>
            <a:rect l="0" t="0" r="r" b="b"/>
            <a:pathLst>
              <a:path w="424" h="266">
                <a:moveTo>
                  <a:pt x="0" y="61"/>
                </a:moveTo>
                <a:lnTo>
                  <a:pt x="66" y="13"/>
                </a:lnTo>
                <a:lnTo>
                  <a:pt x="211" y="0"/>
                </a:lnTo>
                <a:lnTo>
                  <a:pt x="327" y="17"/>
                </a:lnTo>
                <a:lnTo>
                  <a:pt x="424" y="75"/>
                </a:lnTo>
                <a:lnTo>
                  <a:pt x="340" y="75"/>
                </a:lnTo>
                <a:lnTo>
                  <a:pt x="318" y="150"/>
                </a:lnTo>
                <a:lnTo>
                  <a:pt x="239" y="181"/>
                </a:lnTo>
                <a:lnTo>
                  <a:pt x="52" y="137"/>
                </a:lnTo>
                <a:lnTo>
                  <a:pt x="39" y="195"/>
                </a:lnTo>
                <a:lnTo>
                  <a:pt x="79" y="266"/>
                </a:lnTo>
                <a:lnTo>
                  <a:pt x="0" y="172"/>
                </a:lnTo>
                <a:lnTo>
                  <a:pt x="4" y="124"/>
                </a:lnTo>
                <a:lnTo>
                  <a:pt x="0" y="61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738440" y="1689120"/>
            <a:ext cx="182880" cy="97200"/>
          </a:xfrm>
          <a:custGeom>
            <a:avLst/>
            <a:gdLst/>
            <a:ahLst/>
            <a:rect l="0" t="0" r="r" b="b"/>
            <a:pathLst>
              <a:path w="508" h="270">
                <a:moveTo>
                  <a:pt x="318" y="213"/>
                </a:moveTo>
                <a:lnTo>
                  <a:pt x="229" y="209"/>
                </a:lnTo>
                <a:lnTo>
                  <a:pt x="141" y="172"/>
                </a:lnTo>
                <a:lnTo>
                  <a:pt x="101" y="124"/>
                </a:lnTo>
                <a:lnTo>
                  <a:pt x="48" y="98"/>
                </a:lnTo>
                <a:lnTo>
                  <a:pt x="30" y="52"/>
                </a:lnTo>
                <a:lnTo>
                  <a:pt x="48" y="0"/>
                </a:lnTo>
                <a:lnTo>
                  <a:pt x="0" y="35"/>
                </a:lnTo>
                <a:lnTo>
                  <a:pt x="4" y="111"/>
                </a:lnTo>
                <a:lnTo>
                  <a:pt x="44" y="137"/>
                </a:lnTo>
                <a:lnTo>
                  <a:pt x="88" y="172"/>
                </a:lnTo>
                <a:lnTo>
                  <a:pt x="149" y="240"/>
                </a:lnTo>
                <a:lnTo>
                  <a:pt x="238" y="270"/>
                </a:lnTo>
                <a:lnTo>
                  <a:pt x="331" y="270"/>
                </a:lnTo>
                <a:lnTo>
                  <a:pt x="406" y="235"/>
                </a:lnTo>
                <a:lnTo>
                  <a:pt x="464" y="172"/>
                </a:lnTo>
                <a:lnTo>
                  <a:pt x="503" y="124"/>
                </a:lnTo>
                <a:lnTo>
                  <a:pt x="508" y="71"/>
                </a:lnTo>
                <a:lnTo>
                  <a:pt x="468" y="22"/>
                </a:lnTo>
                <a:lnTo>
                  <a:pt x="455" y="146"/>
                </a:lnTo>
                <a:lnTo>
                  <a:pt x="415" y="186"/>
                </a:lnTo>
                <a:lnTo>
                  <a:pt x="318" y="21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660680" y="1692360"/>
            <a:ext cx="52920" cy="138600"/>
          </a:xfrm>
          <a:custGeom>
            <a:avLst/>
            <a:gdLst/>
            <a:ahLst/>
            <a:rect l="0" t="0" r="r" b="b"/>
            <a:pathLst>
              <a:path w="147" h="385">
                <a:moveTo>
                  <a:pt x="147" y="0"/>
                </a:moveTo>
                <a:lnTo>
                  <a:pt x="67" y="61"/>
                </a:lnTo>
                <a:lnTo>
                  <a:pt x="40" y="142"/>
                </a:lnTo>
                <a:lnTo>
                  <a:pt x="17" y="265"/>
                </a:lnTo>
                <a:lnTo>
                  <a:pt x="0" y="385"/>
                </a:lnTo>
                <a:lnTo>
                  <a:pt x="0" y="239"/>
                </a:lnTo>
                <a:lnTo>
                  <a:pt x="17" y="98"/>
                </a:lnTo>
                <a:lnTo>
                  <a:pt x="45" y="48"/>
                </a:lnTo>
                <a:lnTo>
                  <a:pt x="147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951200" y="1711440"/>
            <a:ext cx="32040" cy="122760"/>
          </a:xfrm>
          <a:custGeom>
            <a:avLst/>
            <a:gdLst/>
            <a:ahLst/>
            <a:rect l="0" t="0" r="r" b="b"/>
            <a:pathLst>
              <a:path w="89" h="341">
                <a:moveTo>
                  <a:pt x="0" y="0"/>
                </a:moveTo>
                <a:lnTo>
                  <a:pt x="30" y="70"/>
                </a:lnTo>
                <a:lnTo>
                  <a:pt x="58" y="186"/>
                </a:lnTo>
                <a:lnTo>
                  <a:pt x="53" y="257"/>
                </a:lnTo>
                <a:lnTo>
                  <a:pt x="39" y="341"/>
                </a:lnTo>
                <a:lnTo>
                  <a:pt x="89" y="195"/>
                </a:lnTo>
                <a:lnTo>
                  <a:pt x="80" y="74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700280" y="1841400"/>
            <a:ext cx="255960" cy="55800"/>
          </a:xfrm>
          <a:custGeom>
            <a:avLst/>
            <a:gdLst/>
            <a:ahLst/>
            <a:rect l="0" t="0" r="r" b="b"/>
            <a:pathLst>
              <a:path w="711" h="155">
                <a:moveTo>
                  <a:pt x="0" y="0"/>
                </a:moveTo>
                <a:lnTo>
                  <a:pt x="105" y="66"/>
                </a:lnTo>
                <a:lnTo>
                  <a:pt x="243" y="102"/>
                </a:lnTo>
                <a:lnTo>
                  <a:pt x="415" y="111"/>
                </a:lnTo>
                <a:lnTo>
                  <a:pt x="548" y="89"/>
                </a:lnTo>
                <a:lnTo>
                  <a:pt x="689" y="39"/>
                </a:lnTo>
                <a:lnTo>
                  <a:pt x="711" y="98"/>
                </a:lnTo>
                <a:lnTo>
                  <a:pt x="659" y="74"/>
                </a:lnTo>
                <a:lnTo>
                  <a:pt x="539" y="133"/>
                </a:lnTo>
                <a:lnTo>
                  <a:pt x="402" y="155"/>
                </a:lnTo>
                <a:lnTo>
                  <a:pt x="287" y="146"/>
                </a:lnTo>
                <a:lnTo>
                  <a:pt x="158" y="115"/>
                </a:lnTo>
                <a:lnTo>
                  <a:pt x="74" y="74"/>
                </a:lnTo>
                <a:lnTo>
                  <a:pt x="17" y="89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724040" y="1922400"/>
            <a:ext cx="197280" cy="27360"/>
          </a:xfrm>
          <a:custGeom>
            <a:avLst/>
            <a:gdLst/>
            <a:ahLst/>
            <a:rect l="0" t="0" r="r" b="b"/>
            <a:pathLst>
              <a:path w="548" h="76">
                <a:moveTo>
                  <a:pt x="0" y="17"/>
                </a:moveTo>
                <a:lnTo>
                  <a:pt x="17" y="0"/>
                </a:lnTo>
                <a:lnTo>
                  <a:pt x="61" y="8"/>
                </a:lnTo>
                <a:lnTo>
                  <a:pt x="164" y="31"/>
                </a:lnTo>
                <a:lnTo>
                  <a:pt x="371" y="40"/>
                </a:lnTo>
                <a:lnTo>
                  <a:pt x="509" y="17"/>
                </a:lnTo>
                <a:lnTo>
                  <a:pt x="548" y="0"/>
                </a:lnTo>
                <a:lnTo>
                  <a:pt x="548" y="31"/>
                </a:lnTo>
                <a:lnTo>
                  <a:pt x="482" y="40"/>
                </a:lnTo>
                <a:lnTo>
                  <a:pt x="358" y="68"/>
                </a:lnTo>
                <a:lnTo>
                  <a:pt x="265" y="76"/>
                </a:lnTo>
                <a:lnTo>
                  <a:pt x="150" y="45"/>
                </a:lnTo>
                <a:lnTo>
                  <a:pt x="0" y="17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35040" y="1530360"/>
            <a:ext cx="43200" cy="109800"/>
          </a:xfrm>
          <a:custGeom>
            <a:avLst/>
            <a:gdLst/>
            <a:ahLst/>
            <a:rect l="0" t="0" r="r" b="b"/>
            <a:pathLst>
              <a:path w="120" h="305">
                <a:moveTo>
                  <a:pt x="120" y="0"/>
                </a:moveTo>
                <a:lnTo>
                  <a:pt x="44" y="97"/>
                </a:lnTo>
                <a:lnTo>
                  <a:pt x="22" y="181"/>
                </a:lnTo>
                <a:lnTo>
                  <a:pt x="17" y="305"/>
                </a:lnTo>
                <a:lnTo>
                  <a:pt x="0" y="172"/>
                </a:lnTo>
                <a:lnTo>
                  <a:pt x="22" y="83"/>
                </a:lnTo>
                <a:lnTo>
                  <a:pt x="12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101680" y="1539720"/>
            <a:ext cx="25920" cy="135360"/>
          </a:xfrm>
          <a:custGeom>
            <a:avLst/>
            <a:gdLst/>
            <a:ahLst/>
            <a:rect l="0" t="0" r="r" b="b"/>
            <a:pathLst>
              <a:path w="72" h="376">
                <a:moveTo>
                  <a:pt x="0" y="0"/>
                </a:moveTo>
                <a:lnTo>
                  <a:pt x="36" y="66"/>
                </a:lnTo>
                <a:lnTo>
                  <a:pt x="53" y="217"/>
                </a:lnTo>
                <a:lnTo>
                  <a:pt x="36" y="376"/>
                </a:lnTo>
                <a:lnTo>
                  <a:pt x="72" y="212"/>
                </a:lnTo>
                <a:lnTo>
                  <a:pt x="63" y="92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906560" y="1374840"/>
            <a:ext cx="205200" cy="60840"/>
          </a:xfrm>
          <a:custGeom>
            <a:avLst/>
            <a:gdLst/>
            <a:ahLst/>
            <a:rect l="0" t="0" r="r" b="b"/>
            <a:pathLst>
              <a:path w="570" h="169">
                <a:moveTo>
                  <a:pt x="0" y="53"/>
                </a:moveTo>
                <a:lnTo>
                  <a:pt x="22" y="115"/>
                </a:lnTo>
                <a:lnTo>
                  <a:pt x="225" y="93"/>
                </a:lnTo>
                <a:lnTo>
                  <a:pt x="375" y="98"/>
                </a:lnTo>
                <a:lnTo>
                  <a:pt x="478" y="124"/>
                </a:lnTo>
                <a:lnTo>
                  <a:pt x="570" y="169"/>
                </a:lnTo>
                <a:lnTo>
                  <a:pt x="456" y="53"/>
                </a:lnTo>
                <a:lnTo>
                  <a:pt x="239" y="13"/>
                </a:lnTo>
                <a:lnTo>
                  <a:pt x="265" y="35"/>
                </a:lnTo>
                <a:lnTo>
                  <a:pt x="127" y="45"/>
                </a:lnTo>
                <a:lnTo>
                  <a:pt x="136" y="0"/>
                </a:lnTo>
                <a:lnTo>
                  <a:pt x="0" y="5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595520" y="1373040"/>
            <a:ext cx="181440" cy="49680"/>
          </a:xfrm>
          <a:custGeom>
            <a:avLst/>
            <a:gdLst/>
            <a:ahLst/>
            <a:rect l="0" t="0" r="r" b="b"/>
            <a:pathLst>
              <a:path w="504" h="138">
                <a:moveTo>
                  <a:pt x="504" y="138"/>
                </a:moveTo>
                <a:lnTo>
                  <a:pt x="416" y="80"/>
                </a:lnTo>
                <a:lnTo>
                  <a:pt x="256" y="67"/>
                </a:lnTo>
                <a:lnTo>
                  <a:pt x="92" y="80"/>
                </a:lnTo>
                <a:lnTo>
                  <a:pt x="0" y="125"/>
                </a:lnTo>
                <a:lnTo>
                  <a:pt x="79" y="58"/>
                </a:lnTo>
                <a:lnTo>
                  <a:pt x="44" y="49"/>
                </a:lnTo>
                <a:lnTo>
                  <a:pt x="212" y="45"/>
                </a:lnTo>
                <a:lnTo>
                  <a:pt x="79" y="26"/>
                </a:lnTo>
                <a:lnTo>
                  <a:pt x="269" y="26"/>
                </a:lnTo>
                <a:lnTo>
                  <a:pt x="230" y="4"/>
                </a:lnTo>
                <a:lnTo>
                  <a:pt x="358" y="22"/>
                </a:lnTo>
                <a:lnTo>
                  <a:pt x="429" y="36"/>
                </a:lnTo>
                <a:lnTo>
                  <a:pt x="429" y="0"/>
                </a:lnTo>
                <a:lnTo>
                  <a:pt x="482" y="45"/>
                </a:lnTo>
                <a:lnTo>
                  <a:pt x="504" y="138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649520" y="1498680"/>
            <a:ext cx="97200" cy="43200"/>
          </a:xfrm>
          <a:custGeom>
            <a:avLst/>
            <a:gdLst/>
            <a:ahLst/>
            <a:rect l="0" t="0" r="r" b="b"/>
            <a:pathLst>
              <a:path w="270" h="120">
                <a:moveTo>
                  <a:pt x="270" y="0"/>
                </a:moveTo>
                <a:lnTo>
                  <a:pt x="231" y="44"/>
                </a:lnTo>
                <a:lnTo>
                  <a:pt x="137" y="98"/>
                </a:lnTo>
                <a:lnTo>
                  <a:pt x="0" y="111"/>
                </a:lnTo>
                <a:lnTo>
                  <a:pt x="186" y="120"/>
                </a:lnTo>
                <a:lnTo>
                  <a:pt x="235" y="89"/>
                </a:lnTo>
                <a:lnTo>
                  <a:pt x="27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635120" y="14778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49" y="53"/>
                </a:lnTo>
                <a:lnTo>
                  <a:pt x="59" y="72"/>
                </a:lnTo>
                <a:lnTo>
                  <a:pt x="59" y="27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709640" y="14842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72" y="0"/>
                </a:moveTo>
                <a:lnTo>
                  <a:pt x="72" y="17"/>
                </a:lnTo>
                <a:lnTo>
                  <a:pt x="0" y="72"/>
                </a:lnTo>
                <a:lnTo>
                  <a:pt x="72" y="63"/>
                </a:lnTo>
                <a:lnTo>
                  <a:pt x="72" y="0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944720" y="1494000"/>
            <a:ext cx="32040" cy="25920"/>
          </a:xfrm>
          <a:custGeom>
            <a:avLst/>
            <a:gdLst/>
            <a:ahLst/>
            <a:rect l="0" t="0" r="r" b="b"/>
            <a:pathLst>
              <a:path w="89" h="72">
                <a:moveTo>
                  <a:pt x="0" y="17"/>
                </a:moveTo>
                <a:lnTo>
                  <a:pt x="4" y="40"/>
                </a:lnTo>
                <a:lnTo>
                  <a:pt x="17" y="49"/>
                </a:lnTo>
                <a:lnTo>
                  <a:pt x="89" y="72"/>
                </a:lnTo>
                <a:lnTo>
                  <a:pt x="53" y="49"/>
                </a:lnTo>
                <a:lnTo>
                  <a:pt x="53" y="27"/>
                </a:lnTo>
                <a:lnTo>
                  <a:pt x="71" y="0"/>
                </a:lnTo>
                <a:lnTo>
                  <a:pt x="39" y="4"/>
                </a:lnTo>
                <a:lnTo>
                  <a:pt x="0" y="17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028960" y="150012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13" y="0"/>
                </a:moveTo>
                <a:lnTo>
                  <a:pt x="27" y="27"/>
                </a:lnTo>
                <a:lnTo>
                  <a:pt x="0" y="72"/>
                </a:lnTo>
                <a:lnTo>
                  <a:pt x="72" y="40"/>
                </a:lnTo>
                <a:lnTo>
                  <a:pt x="72" y="4"/>
                </a:lnTo>
                <a:lnTo>
                  <a:pt x="13" y="0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673280" y="1488960"/>
            <a:ext cx="25560" cy="25560"/>
          </a:xfrm>
          <a:prstGeom prst="ellipse">
            <a:avLst/>
          </a:prstGeom>
          <a:solidFill>
            <a:srgbClr val="ffc080"/>
          </a:solidFill>
          <a:ln w="0">
            <a:noFill/>
          </a:ln>
        </p:spPr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979640" y="1506600"/>
            <a:ext cx="25560" cy="25560"/>
          </a:xfrm>
          <a:prstGeom prst="ellipse">
            <a:avLst/>
          </a:prstGeom>
          <a:solidFill>
            <a:srgbClr val="ffc080"/>
          </a:solidFill>
          <a:ln w="0">
            <a:noFill/>
          </a:ln>
        </p:spPr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560600" y="1670040"/>
            <a:ext cx="28800" cy="184680"/>
          </a:xfrm>
          <a:custGeom>
            <a:avLst/>
            <a:gdLst/>
            <a:ahLst/>
            <a:rect l="0" t="0" r="r" b="b"/>
            <a:pathLst>
              <a:path w="80" h="513">
                <a:moveTo>
                  <a:pt x="30" y="0"/>
                </a:moveTo>
                <a:lnTo>
                  <a:pt x="0" y="164"/>
                </a:lnTo>
                <a:lnTo>
                  <a:pt x="8" y="300"/>
                </a:lnTo>
                <a:lnTo>
                  <a:pt x="80" y="513"/>
                </a:lnTo>
                <a:lnTo>
                  <a:pt x="35" y="309"/>
                </a:lnTo>
                <a:lnTo>
                  <a:pt x="30" y="212"/>
                </a:lnTo>
                <a:lnTo>
                  <a:pt x="3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008080" y="1720800"/>
            <a:ext cx="66960" cy="171720"/>
          </a:xfrm>
          <a:custGeom>
            <a:avLst/>
            <a:gdLst/>
            <a:ahLst/>
            <a:rect l="0" t="0" r="r" b="b"/>
            <a:pathLst>
              <a:path w="186" h="477">
                <a:moveTo>
                  <a:pt x="186" y="0"/>
                </a:moveTo>
                <a:lnTo>
                  <a:pt x="150" y="189"/>
                </a:lnTo>
                <a:lnTo>
                  <a:pt x="88" y="344"/>
                </a:lnTo>
                <a:lnTo>
                  <a:pt x="0" y="477"/>
                </a:lnTo>
                <a:lnTo>
                  <a:pt x="137" y="318"/>
                </a:lnTo>
                <a:lnTo>
                  <a:pt x="172" y="211"/>
                </a:lnTo>
                <a:lnTo>
                  <a:pt x="186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852480"/>
            <a:ext cx="790920" cy="609840"/>
          </a:xfrm>
          <a:custGeom>
            <a:avLst/>
            <a:gdLst/>
            <a:ahLst/>
            <a:rect l="0" t="0" r="r" b="b"/>
            <a:pathLst>
              <a:path w="2197" h="1694">
                <a:moveTo>
                  <a:pt x="423" y="348"/>
                </a:moveTo>
                <a:lnTo>
                  <a:pt x="679" y="405"/>
                </a:lnTo>
                <a:lnTo>
                  <a:pt x="1084" y="454"/>
                </a:lnTo>
                <a:lnTo>
                  <a:pt x="1478" y="366"/>
                </a:lnTo>
                <a:lnTo>
                  <a:pt x="1725" y="295"/>
                </a:lnTo>
                <a:lnTo>
                  <a:pt x="1870" y="313"/>
                </a:lnTo>
                <a:lnTo>
                  <a:pt x="2077" y="555"/>
                </a:lnTo>
                <a:lnTo>
                  <a:pt x="2095" y="687"/>
                </a:lnTo>
                <a:lnTo>
                  <a:pt x="2077" y="860"/>
                </a:lnTo>
                <a:lnTo>
                  <a:pt x="2025" y="1028"/>
                </a:lnTo>
                <a:lnTo>
                  <a:pt x="2016" y="1196"/>
                </a:lnTo>
                <a:lnTo>
                  <a:pt x="2007" y="1297"/>
                </a:lnTo>
                <a:lnTo>
                  <a:pt x="2007" y="1407"/>
                </a:lnTo>
                <a:lnTo>
                  <a:pt x="1994" y="1482"/>
                </a:lnTo>
                <a:lnTo>
                  <a:pt x="1950" y="1654"/>
                </a:lnTo>
                <a:lnTo>
                  <a:pt x="2016" y="1628"/>
                </a:lnTo>
                <a:lnTo>
                  <a:pt x="2082" y="1500"/>
                </a:lnTo>
                <a:lnTo>
                  <a:pt x="2135" y="1442"/>
                </a:lnTo>
                <a:lnTo>
                  <a:pt x="2197" y="1200"/>
                </a:lnTo>
                <a:lnTo>
                  <a:pt x="2197" y="940"/>
                </a:lnTo>
                <a:lnTo>
                  <a:pt x="2161" y="705"/>
                </a:lnTo>
                <a:lnTo>
                  <a:pt x="2130" y="595"/>
                </a:lnTo>
                <a:lnTo>
                  <a:pt x="2016" y="405"/>
                </a:lnTo>
                <a:lnTo>
                  <a:pt x="1923" y="273"/>
                </a:lnTo>
                <a:lnTo>
                  <a:pt x="1782" y="154"/>
                </a:lnTo>
                <a:lnTo>
                  <a:pt x="1575" y="92"/>
                </a:lnTo>
                <a:lnTo>
                  <a:pt x="1332" y="26"/>
                </a:lnTo>
                <a:lnTo>
                  <a:pt x="1031" y="0"/>
                </a:lnTo>
                <a:lnTo>
                  <a:pt x="745" y="8"/>
                </a:lnTo>
                <a:lnTo>
                  <a:pt x="498" y="114"/>
                </a:lnTo>
                <a:lnTo>
                  <a:pt x="339" y="242"/>
                </a:lnTo>
                <a:lnTo>
                  <a:pt x="171" y="313"/>
                </a:lnTo>
                <a:lnTo>
                  <a:pt x="92" y="436"/>
                </a:lnTo>
                <a:lnTo>
                  <a:pt x="0" y="665"/>
                </a:lnTo>
                <a:lnTo>
                  <a:pt x="0" y="935"/>
                </a:lnTo>
                <a:lnTo>
                  <a:pt x="39" y="1196"/>
                </a:lnTo>
                <a:lnTo>
                  <a:pt x="52" y="1416"/>
                </a:lnTo>
                <a:lnTo>
                  <a:pt x="79" y="1500"/>
                </a:lnTo>
                <a:lnTo>
                  <a:pt x="145" y="1597"/>
                </a:lnTo>
                <a:lnTo>
                  <a:pt x="163" y="1694"/>
                </a:lnTo>
                <a:lnTo>
                  <a:pt x="185" y="1654"/>
                </a:lnTo>
                <a:lnTo>
                  <a:pt x="198" y="1495"/>
                </a:lnTo>
                <a:lnTo>
                  <a:pt x="132" y="1284"/>
                </a:lnTo>
                <a:lnTo>
                  <a:pt x="119" y="1063"/>
                </a:lnTo>
                <a:lnTo>
                  <a:pt x="171" y="860"/>
                </a:lnTo>
                <a:lnTo>
                  <a:pt x="185" y="652"/>
                </a:lnTo>
                <a:lnTo>
                  <a:pt x="211" y="493"/>
                </a:lnTo>
                <a:lnTo>
                  <a:pt x="273" y="423"/>
                </a:lnTo>
                <a:lnTo>
                  <a:pt x="423" y="348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862280" y="1430280"/>
            <a:ext cx="1440" cy="1800"/>
          </a:xfrm>
          <a:prstGeom prst="line">
            <a:avLst/>
          </a:prstGeom>
          <a:ln w="12600">
            <a:solidFill>
              <a:srgbClr val="606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460520" y="1407960"/>
            <a:ext cx="763560" cy="224280"/>
            <a:chOff x="1460520" y="1407960"/>
            <a:chExt cx="763560" cy="224280"/>
          </a:xfrm>
        </p:grpSpPr>
        <p:sp>
          <p:nvSpPr>
            <p:cNvPr id="664" name=""/>
            <p:cNvSpPr/>
            <p:nvPr/>
          </p:nvSpPr>
          <p:spPr>
            <a:xfrm>
              <a:off x="1549440" y="14079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889280" y="14302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811160" y="14889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60520" y="141300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2136600" y="1469880"/>
              <a:ext cx="87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2327400" y="2765520"/>
            <a:ext cx="60840" cy="117720"/>
          </a:xfrm>
          <a:custGeom>
            <a:avLst/>
            <a:gdLst/>
            <a:ahLst/>
            <a:rect l="0" t="0" r="r" b="b"/>
            <a:pathLst>
              <a:path w="169" h="327">
                <a:moveTo>
                  <a:pt x="169" y="318"/>
                </a:moveTo>
                <a:lnTo>
                  <a:pt x="17" y="0"/>
                </a:lnTo>
                <a:lnTo>
                  <a:pt x="0" y="57"/>
                </a:lnTo>
                <a:lnTo>
                  <a:pt x="53" y="208"/>
                </a:lnTo>
                <a:lnTo>
                  <a:pt x="67" y="327"/>
                </a:lnTo>
                <a:lnTo>
                  <a:pt x="169" y="318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417760" y="2887560"/>
            <a:ext cx="27360" cy="25920"/>
          </a:xfrm>
          <a:custGeom>
            <a:avLst/>
            <a:gdLst/>
            <a:ahLst/>
            <a:rect l="0" t="0" r="r" b="b"/>
            <a:pathLst>
              <a:path w="76" h="72">
                <a:moveTo>
                  <a:pt x="27" y="0"/>
                </a:moveTo>
                <a:lnTo>
                  <a:pt x="68" y="23"/>
                </a:lnTo>
                <a:lnTo>
                  <a:pt x="76" y="72"/>
                </a:lnTo>
                <a:lnTo>
                  <a:pt x="0" y="23"/>
                </a:lnTo>
                <a:lnTo>
                  <a:pt x="27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508120" y="2903400"/>
            <a:ext cx="41760" cy="25920"/>
          </a:xfrm>
          <a:custGeom>
            <a:avLst/>
            <a:gdLst/>
            <a:ahLst/>
            <a:rect l="0" t="0" r="r" b="b"/>
            <a:pathLst>
              <a:path w="116" h="72">
                <a:moveTo>
                  <a:pt x="0" y="31"/>
                </a:moveTo>
                <a:lnTo>
                  <a:pt x="0" y="8"/>
                </a:lnTo>
                <a:lnTo>
                  <a:pt x="71" y="0"/>
                </a:lnTo>
                <a:lnTo>
                  <a:pt x="116" y="72"/>
                </a:lnTo>
                <a:lnTo>
                  <a:pt x="0" y="31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608200" y="2879640"/>
            <a:ext cx="36720" cy="25920"/>
          </a:xfrm>
          <a:custGeom>
            <a:avLst/>
            <a:gdLst/>
            <a:ahLst/>
            <a:rect l="0" t="0" r="r" b="b"/>
            <a:pathLst>
              <a:path w="102" h="72">
                <a:moveTo>
                  <a:pt x="0" y="27"/>
                </a:moveTo>
                <a:lnTo>
                  <a:pt x="62" y="0"/>
                </a:lnTo>
                <a:lnTo>
                  <a:pt x="84" y="27"/>
                </a:lnTo>
                <a:lnTo>
                  <a:pt x="102" y="72"/>
                </a:lnTo>
                <a:lnTo>
                  <a:pt x="0" y="27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668680" y="2806560"/>
            <a:ext cx="44640" cy="25920"/>
          </a:xfrm>
          <a:custGeom>
            <a:avLst/>
            <a:gdLst/>
            <a:ahLst/>
            <a:rect l="0" t="0" r="r" b="b"/>
            <a:pathLst>
              <a:path w="124" h="72">
                <a:moveTo>
                  <a:pt x="22" y="72"/>
                </a:moveTo>
                <a:lnTo>
                  <a:pt x="0" y="17"/>
                </a:lnTo>
                <a:lnTo>
                  <a:pt x="35" y="0"/>
                </a:lnTo>
                <a:lnTo>
                  <a:pt x="124" y="17"/>
                </a:lnTo>
                <a:lnTo>
                  <a:pt x="22" y="72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498760" y="2397240"/>
            <a:ext cx="27360" cy="52920"/>
          </a:xfrm>
          <a:custGeom>
            <a:avLst/>
            <a:gdLst/>
            <a:ahLst/>
            <a:rect l="0" t="0" r="r" b="b"/>
            <a:pathLst>
              <a:path w="76" h="147">
                <a:moveTo>
                  <a:pt x="0" y="0"/>
                </a:moveTo>
                <a:lnTo>
                  <a:pt x="17" y="84"/>
                </a:lnTo>
                <a:lnTo>
                  <a:pt x="17" y="147"/>
                </a:lnTo>
                <a:lnTo>
                  <a:pt x="76" y="35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732040" y="2616120"/>
            <a:ext cx="87840" cy="39960"/>
          </a:xfrm>
          <a:custGeom>
            <a:avLst/>
            <a:gdLst/>
            <a:ahLst/>
            <a:rect l="0" t="0" r="r" b="b"/>
            <a:pathLst>
              <a:path w="244" h="111">
                <a:moveTo>
                  <a:pt x="0" y="106"/>
                </a:moveTo>
                <a:lnTo>
                  <a:pt x="39" y="67"/>
                </a:lnTo>
                <a:lnTo>
                  <a:pt x="67" y="0"/>
                </a:lnTo>
                <a:lnTo>
                  <a:pt x="111" y="44"/>
                </a:lnTo>
                <a:lnTo>
                  <a:pt x="244" y="52"/>
                </a:lnTo>
                <a:lnTo>
                  <a:pt x="172" y="80"/>
                </a:lnTo>
                <a:lnTo>
                  <a:pt x="17" y="111"/>
                </a:lnTo>
                <a:lnTo>
                  <a:pt x="0" y="106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378160" y="2455920"/>
            <a:ext cx="25920" cy="38520"/>
          </a:xfrm>
          <a:custGeom>
            <a:avLst/>
            <a:gdLst/>
            <a:ahLst/>
            <a:rect l="0" t="0" r="r" b="b"/>
            <a:pathLst>
              <a:path w="72" h="107">
                <a:moveTo>
                  <a:pt x="72" y="0"/>
                </a:moveTo>
                <a:lnTo>
                  <a:pt x="53" y="107"/>
                </a:lnTo>
                <a:lnTo>
                  <a:pt x="0" y="99"/>
                </a:lnTo>
                <a:lnTo>
                  <a:pt x="72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543040" y="2629080"/>
            <a:ext cx="5889600" cy="328932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2743200" y="2895480"/>
            <a:ext cx="58672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the management issues related to recognition, valuation, classification, and disclosure of current liabi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, compute, and record definitely determinable and estimated current liabi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274840" y="2359080"/>
            <a:ext cx="697320" cy="605160"/>
          </a:xfrm>
          <a:custGeom>
            <a:avLst/>
            <a:gdLst/>
            <a:ahLst/>
            <a:rect l="0" t="0" r="r" b="b"/>
            <a:pathLst>
              <a:path w="1937" h="1681">
                <a:moveTo>
                  <a:pt x="1664" y="0"/>
                </a:moveTo>
                <a:lnTo>
                  <a:pt x="1757" y="70"/>
                </a:lnTo>
                <a:lnTo>
                  <a:pt x="1823" y="171"/>
                </a:lnTo>
                <a:lnTo>
                  <a:pt x="1898" y="317"/>
                </a:lnTo>
                <a:lnTo>
                  <a:pt x="1937" y="480"/>
                </a:lnTo>
                <a:lnTo>
                  <a:pt x="1929" y="621"/>
                </a:lnTo>
                <a:lnTo>
                  <a:pt x="1611" y="687"/>
                </a:lnTo>
                <a:lnTo>
                  <a:pt x="1545" y="767"/>
                </a:lnTo>
                <a:lnTo>
                  <a:pt x="1438" y="811"/>
                </a:lnTo>
                <a:lnTo>
                  <a:pt x="1271" y="865"/>
                </a:lnTo>
                <a:lnTo>
                  <a:pt x="1257" y="1085"/>
                </a:lnTo>
                <a:lnTo>
                  <a:pt x="1301" y="1257"/>
                </a:lnTo>
                <a:lnTo>
                  <a:pt x="1257" y="1376"/>
                </a:lnTo>
                <a:lnTo>
                  <a:pt x="1138" y="1390"/>
                </a:lnTo>
                <a:lnTo>
                  <a:pt x="1068" y="1275"/>
                </a:lnTo>
                <a:lnTo>
                  <a:pt x="1072" y="1350"/>
                </a:lnTo>
                <a:lnTo>
                  <a:pt x="1125" y="1526"/>
                </a:lnTo>
                <a:lnTo>
                  <a:pt x="1054" y="1632"/>
                </a:lnTo>
                <a:lnTo>
                  <a:pt x="975" y="1645"/>
                </a:lnTo>
                <a:lnTo>
                  <a:pt x="909" y="1588"/>
                </a:lnTo>
                <a:lnTo>
                  <a:pt x="821" y="1442"/>
                </a:lnTo>
                <a:lnTo>
                  <a:pt x="843" y="1628"/>
                </a:lnTo>
                <a:lnTo>
                  <a:pt x="768" y="1681"/>
                </a:lnTo>
                <a:lnTo>
                  <a:pt x="675" y="1645"/>
                </a:lnTo>
                <a:lnTo>
                  <a:pt x="591" y="1553"/>
                </a:lnTo>
                <a:lnTo>
                  <a:pt x="565" y="1601"/>
                </a:lnTo>
                <a:lnTo>
                  <a:pt x="490" y="1601"/>
                </a:lnTo>
                <a:lnTo>
                  <a:pt x="418" y="1562"/>
                </a:lnTo>
                <a:lnTo>
                  <a:pt x="330" y="1482"/>
                </a:lnTo>
                <a:lnTo>
                  <a:pt x="171" y="1500"/>
                </a:lnTo>
                <a:lnTo>
                  <a:pt x="79" y="1495"/>
                </a:lnTo>
                <a:lnTo>
                  <a:pt x="35" y="1447"/>
                </a:lnTo>
                <a:lnTo>
                  <a:pt x="0" y="1376"/>
                </a:lnTo>
                <a:lnTo>
                  <a:pt x="35" y="1310"/>
                </a:lnTo>
                <a:lnTo>
                  <a:pt x="167" y="1165"/>
                </a:lnTo>
                <a:lnTo>
                  <a:pt x="66" y="1046"/>
                </a:lnTo>
                <a:lnTo>
                  <a:pt x="52" y="927"/>
                </a:lnTo>
                <a:lnTo>
                  <a:pt x="88" y="837"/>
                </a:lnTo>
                <a:lnTo>
                  <a:pt x="141" y="529"/>
                </a:lnTo>
                <a:lnTo>
                  <a:pt x="119" y="396"/>
                </a:lnTo>
                <a:lnTo>
                  <a:pt x="154" y="277"/>
                </a:lnTo>
                <a:lnTo>
                  <a:pt x="286" y="238"/>
                </a:lnTo>
                <a:lnTo>
                  <a:pt x="357" y="185"/>
                </a:lnTo>
                <a:lnTo>
                  <a:pt x="418" y="97"/>
                </a:lnTo>
                <a:lnTo>
                  <a:pt x="512" y="52"/>
                </a:lnTo>
                <a:lnTo>
                  <a:pt x="618" y="66"/>
                </a:lnTo>
                <a:lnTo>
                  <a:pt x="710" y="92"/>
                </a:lnTo>
                <a:lnTo>
                  <a:pt x="856" y="70"/>
                </a:lnTo>
                <a:lnTo>
                  <a:pt x="940" y="105"/>
                </a:lnTo>
                <a:lnTo>
                  <a:pt x="1125" y="132"/>
                </a:lnTo>
                <a:lnTo>
                  <a:pt x="1315" y="92"/>
                </a:lnTo>
                <a:lnTo>
                  <a:pt x="1664" y="0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611440" y="2556000"/>
            <a:ext cx="59040" cy="275040"/>
          </a:xfrm>
          <a:custGeom>
            <a:avLst/>
            <a:gdLst/>
            <a:ahLst/>
            <a:rect l="0" t="0" r="r" b="b"/>
            <a:pathLst>
              <a:path w="164" h="764">
                <a:moveTo>
                  <a:pt x="115" y="703"/>
                </a:moveTo>
                <a:lnTo>
                  <a:pt x="66" y="534"/>
                </a:lnTo>
                <a:lnTo>
                  <a:pt x="35" y="384"/>
                </a:lnTo>
                <a:lnTo>
                  <a:pt x="61" y="230"/>
                </a:lnTo>
                <a:lnTo>
                  <a:pt x="66" y="101"/>
                </a:lnTo>
                <a:lnTo>
                  <a:pt x="164" y="0"/>
                </a:lnTo>
                <a:lnTo>
                  <a:pt x="70" y="52"/>
                </a:lnTo>
                <a:lnTo>
                  <a:pt x="44" y="35"/>
                </a:lnTo>
                <a:lnTo>
                  <a:pt x="44" y="141"/>
                </a:lnTo>
                <a:lnTo>
                  <a:pt x="13" y="384"/>
                </a:lnTo>
                <a:lnTo>
                  <a:pt x="0" y="433"/>
                </a:lnTo>
                <a:lnTo>
                  <a:pt x="102" y="764"/>
                </a:lnTo>
                <a:lnTo>
                  <a:pt x="115" y="70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487600" y="2530440"/>
            <a:ext cx="86040" cy="383040"/>
          </a:xfrm>
          <a:custGeom>
            <a:avLst/>
            <a:gdLst/>
            <a:ahLst/>
            <a:rect l="0" t="0" r="r" b="b"/>
            <a:pathLst>
              <a:path w="239" h="1064">
                <a:moveTo>
                  <a:pt x="239" y="963"/>
                </a:moveTo>
                <a:lnTo>
                  <a:pt x="181" y="857"/>
                </a:lnTo>
                <a:lnTo>
                  <a:pt x="120" y="697"/>
                </a:lnTo>
                <a:lnTo>
                  <a:pt x="61" y="600"/>
                </a:lnTo>
                <a:lnTo>
                  <a:pt x="61" y="503"/>
                </a:lnTo>
                <a:lnTo>
                  <a:pt x="48" y="441"/>
                </a:lnTo>
                <a:lnTo>
                  <a:pt x="61" y="353"/>
                </a:lnTo>
                <a:lnTo>
                  <a:pt x="105" y="180"/>
                </a:lnTo>
                <a:lnTo>
                  <a:pt x="124" y="66"/>
                </a:lnTo>
                <a:lnTo>
                  <a:pt x="70" y="0"/>
                </a:lnTo>
                <a:lnTo>
                  <a:pt x="97" y="70"/>
                </a:lnTo>
                <a:lnTo>
                  <a:pt x="48" y="314"/>
                </a:lnTo>
                <a:lnTo>
                  <a:pt x="4" y="450"/>
                </a:lnTo>
                <a:lnTo>
                  <a:pt x="0" y="516"/>
                </a:lnTo>
                <a:lnTo>
                  <a:pt x="22" y="613"/>
                </a:lnTo>
                <a:lnTo>
                  <a:pt x="83" y="710"/>
                </a:lnTo>
                <a:lnTo>
                  <a:pt x="155" y="853"/>
                </a:lnTo>
                <a:lnTo>
                  <a:pt x="221" y="1064"/>
                </a:lnTo>
                <a:lnTo>
                  <a:pt x="239" y="96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382840" y="2536920"/>
            <a:ext cx="100440" cy="375120"/>
          </a:xfrm>
          <a:custGeom>
            <a:avLst/>
            <a:gdLst/>
            <a:ahLst/>
            <a:rect l="0" t="0" r="r" b="b"/>
            <a:pathLst>
              <a:path w="279" h="1042">
                <a:moveTo>
                  <a:pt x="244" y="1042"/>
                </a:moveTo>
                <a:lnTo>
                  <a:pt x="279" y="1029"/>
                </a:lnTo>
                <a:lnTo>
                  <a:pt x="208" y="861"/>
                </a:lnTo>
                <a:lnTo>
                  <a:pt x="84" y="666"/>
                </a:lnTo>
                <a:lnTo>
                  <a:pt x="35" y="569"/>
                </a:lnTo>
                <a:lnTo>
                  <a:pt x="35" y="486"/>
                </a:lnTo>
                <a:lnTo>
                  <a:pt x="61" y="397"/>
                </a:lnTo>
                <a:lnTo>
                  <a:pt x="61" y="233"/>
                </a:lnTo>
                <a:lnTo>
                  <a:pt x="71" y="123"/>
                </a:lnTo>
                <a:lnTo>
                  <a:pt x="48" y="39"/>
                </a:lnTo>
                <a:lnTo>
                  <a:pt x="4" y="0"/>
                </a:lnTo>
                <a:lnTo>
                  <a:pt x="35" y="97"/>
                </a:lnTo>
                <a:lnTo>
                  <a:pt x="39" y="194"/>
                </a:lnTo>
                <a:lnTo>
                  <a:pt x="35" y="384"/>
                </a:lnTo>
                <a:lnTo>
                  <a:pt x="13" y="464"/>
                </a:lnTo>
                <a:lnTo>
                  <a:pt x="0" y="556"/>
                </a:lnTo>
                <a:lnTo>
                  <a:pt x="66" y="706"/>
                </a:lnTo>
                <a:lnTo>
                  <a:pt x="111" y="763"/>
                </a:lnTo>
                <a:lnTo>
                  <a:pt x="244" y="1042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649600" y="2446200"/>
            <a:ext cx="71640" cy="60840"/>
          </a:xfrm>
          <a:custGeom>
            <a:avLst/>
            <a:gdLst/>
            <a:ahLst/>
            <a:rect l="0" t="0" r="r" b="b"/>
            <a:pathLst>
              <a:path w="199" h="169">
                <a:moveTo>
                  <a:pt x="0" y="0"/>
                </a:moveTo>
                <a:lnTo>
                  <a:pt x="22" y="35"/>
                </a:lnTo>
                <a:lnTo>
                  <a:pt x="142" y="45"/>
                </a:lnTo>
                <a:lnTo>
                  <a:pt x="164" y="89"/>
                </a:lnTo>
                <a:lnTo>
                  <a:pt x="199" y="169"/>
                </a:lnTo>
                <a:lnTo>
                  <a:pt x="186" y="45"/>
                </a:lnTo>
                <a:lnTo>
                  <a:pt x="150" y="8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39760" y="6018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12408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858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65240" y="6018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41520" y="4370400"/>
            <a:ext cx="424080" cy="1016280"/>
          </a:xfrm>
          <a:custGeom>
            <a:avLst/>
            <a:gdLst/>
            <a:ahLst/>
            <a:rect l="0" t="0" r="r" b="b"/>
            <a:pathLst>
              <a:path w="1178" h="2823">
                <a:moveTo>
                  <a:pt x="551" y="0"/>
                </a:moveTo>
                <a:lnTo>
                  <a:pt x="405" y="449"/>
                </a:lnTo>
                <a:lnTo>
                  <a:pt x="299" y="714"/>
                </a:lnTo>
                <a:lnTo>
                  <a:pt x="114" y="1062"/>
                </a:lnTo>
                <a:lnTo>
                  <a:pt x="35" y="1168"/>
                </a:lnTo>
                <a:lnTo>
                  <a:pt x="8" y="1270"/>
                </a:lnTo>
                <a:lnTo>
                  <a:pt x="0" y="1367"/>
                </a:lnTo>
                <a:lnTo>
                  <a:pt x="48" y="1495"/>
                </a:lnTo>
                <a:lnTo>
                  <a:pt x="48" y="1791"/>
                </a:lnTo>
                <a:lnTo>
                  <a:pt x="22" y="1963"/>
                </a:lnTo>
                <a:lnTo>
                  <a:pt x="22" y="2073"/>
                </a:lnTo>
                <a:lnTo>
                  <a:pt x="88" y="2197"/>
                </a:lnTo>
                <a:lnTo>
                  <a:pt x="185" y="2439"/>
                </a:lnTo>
                <a:lnTo>
                  <a:pt x="194" y="2571"/>
                </a:lnTo>
                <a:lnTo>
                  <a:pt x="246" y="2770"/>
                </a:lnTo>
                <a:lnTo>
                  <a:pt x="299" y="2823"/>
                </a:lnTo>
                <a:lnTo>
                  <a:pt x="357" y="2796"/>
                </a:lnTo>
                <a:lnTo>
                  <a:pt x="423" y="2823"/>
                </a:lnTo>
                <a:lnTo>
                  <a:pt x="485" y="2787"/>
                </a:lnTo>
                <a:lnTo>
                  <a:pt x="524" y="2704"/>
                </a:lnTo>
                <a:lnTo>
                  <a:pt x="582" y="2651"/>
                </a:lnTo>
                <a:lnTo>
                  <a:pt x="609" y="2558"/>
                </a:lnTo>
                <a:lnTo>
                  <a:pt x="591" y="2461"/>
                </a:lnTo>
                <a:lnTo>
                  <a:pt x="644" y="2492"/>
                </a:lnTo>
                <a:lnTo>
                  <a:pt x="688" y="2443"/>
                </a:lnTo>
                <a:lnTo>
                  <a:pt x="724" y="2338"/>
                </a:lnTo>
                <a:lnTo>
                  <a:pt x="763" y="2280"/>
                </a:lnTo>
                <a:lnTo>
                  <a:pt x="763" y="2205"/>
                </a:lnTo>
                <a:lnTo>
                  <a:pt x="684" y="2095"/>
                </a:lnTo>
                <a:lnTo>
                  <a:pt x="737" y="1910"/>
                </a:lnTo>
                <a:lnTo>
                  <a:pt x="913" y="1672"/>
                </a:lnTo>
                <a:lnTo>
                  <a:pt x="1121" y="1018"/>
                </a:lnTo>
                <a:lnTo>
                  <a:pt x="1147" y="436"/>
                </a:lnTo>
                <a:lnTo>
                  <a:pt x="1178" y="66"/>
                </a:lnTo>
                <a:lnTo>
                  <a:pt x="551" y="0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06320" y="4861080"/>
            <a:ext cx="144720" cy="511560"/>
          </a:xfrm>
          <a:custGeom>
            <a:avLst/>
            <a:gdLst/>
            <a:ahLst/>
            <a:rect l="0" t="0" r="r" b="b"/>
            <a:pathLst>
              <a:path w="402" h="1421">
                <a:moveTo>
                  <a:pt x="171" y="0"/>
                </a:moveTo>
                <a:lnTo>
                  <a:pt x="185" y="105"/>
                </a:lnTo>
                <a:lnTo>
                  <a:pt x="225" y="194"/>
                </a:lnTo>
                <a:lnTo>
                  <a:pt x="185" y="428"/>
                </a:lnTo>
                <a:lnTo>
                  <a:pt x="149" y="561"/>
                </a:lnTo>
                <a:lnTo>
                  <a:pt x="163" y="693"/>
                </a:lnTo>
                <a:lnTo>
                  <a:pt x="198" y="763"/>
                </a:lnTo>
                <a:lnTo>
                  <a:pt x="234" y="869"/>
                </a:lnTo>
                <a:lnTo>
                  <a:pt x="234" y="975"/>
                </a:lnTo>
                <a:lnTo>
                  <a:pt x="287" y="1077"/>
                </a:lnTo>
                <a:lnTo>
                  <a:pt x="384" y="1082"/>
                </a:lnTo>
                <a:lnTo>
                  <a:pt x="402" y="1227"/>
                </a:lnTo>
                <a:lnTo>
                  <a:pt x="336" y="1302"/>
                </a:lnTo>
                <a:lnTo>
                  <a:pt x="247" y="1421"/>
                </a:lnTo>
                <a:lnTo>
                  <a:pt x="185" y="1408"/>
                </a:lnTo>
                <a:lnTo>
                  <a:pt x="123" y="1404"/>
                </a:lnTo>
                <a:lnTo>
                  <a:pt x="167" y="1188"/>
                </a:lnTo>
                <a:lnTo>
                  <a:pt x="163" y="1069"/>
                </a:lnTo>
                <a:lnTo>
                  <a:pt x="101" y="1024"/>
                </a:lnTo>
                <a:lnTo>
                  <a:pt x="149" y="1019"/>
                </a:lnTo>
                <a:lnTo>
                  <a:pt x="110" y="843"/>
                </a:lnTo>
                <a:lnTo>
                  <a:pt x="30" y="772"/>
                </a:lnTo>
                <a:lnTo>
                  <a:pt x="74" y="737"/>
                </a:lnTo>
                <a:lnTo>
                  <a:pt x="0" y="662"/>
                </a:lnTo>
                <a:lnTo>
                  <a:pt x="39" y="666"/>
                </a:lnTo>
                <a:lnTo>
                  <a:pt x="88" y="494"/>
                </a:lnTo>
                <a:lnTo>
                  <a:pt x="136" y="317"/>
                </a:lnTo>
                <a:lnTo>
                  <a:pt x="74" y="264"/>
                </a:lnTo>
                <a:lnTo>
                  <a:pt x="136" y="277"/>
                </a:lnTo>
                <a:lnTo>
                  <a:pt x="171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79480" y="4444920"/>
            <a:ext cx="174960" cy="652680"/>
          </a:xfrm>
          <a:custGeom>
            <a:avLst/>
            <a:gdLst/>
            <a:ahLst/>
            <a:rect l="0" t="0" r="r" b="b"/>
            <a:pathLst>
              <a:path w="486" h="1813">
                <a:moveTo>
                  <a:pt x="8" y="1813"/>
                </a:moveTo>
                <a:lnTo>
                  <a:pt x="0" y="1663"/>
                </a:lnTo>
                <a:lnTo>
                  <a:pt x="57" y="1487"/>
                </a:lnTo>
                <a:lnTo>
                  <a:pt x="207" y="1262"/>
                </a:lnTo>
                <a:lnTo>
                  <a:pt x="247" y="1068"/>
                </a:lnTo>
                <a:lnTo>
                  <a:pt x="233" y="881"/>
                </a:lnTo>
                <a:lnTo>
                  <a:pt x="163" y="745"/>
                </a:lnTo>
                <a:lnTo>
                  <a:pt x="35" y="639"/>
                </a:lnTo>
                <a:lnTo>
                  <a:pt x="163" y="701"/>
                </a:lnTo>
                <a:lnTo>
                  <a:pt x="123" y="573"/>
                </a:lnTo>
                <a:lnTo>
                  <a:pt x="202" y="635"/>
                </a:lnTo>
                <a:lnTo>
                  <a:pt x="158" y="410"/>
                </a:lnTo>
                <a:lnTo>
                  <a:pt x="252" y="13"/>
                </a:lnTo>
                <a:lnTo>
                  <a:pt x="486" y="0"/>
                </a:lnTo>
                <a:lnTo>
                  <a:pt x="464" y="260"/>
                </a:lnTo>
                <a:lnTo>
                  <a:pt x="437" y="811"/>
                </a:lnTo>
                <a:lnTo>
                  <a:pt x="265" y="1403"/>
                </a:lnTo>
                <a:lnTo>
                  <a:pt x="189" y="1522"/>
                </a:lnTo>
                <a:lnTo>
                  <a:pt x="97" y="1663"/>
                </a:lnTo>
                <a:lnTo>
                  <a:pt x="8" y="181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06400" y="5157720"/>
            <a:ext cx="47880" cy="25920"/>
          </a:xfrm>
          <a:custGeom>
            <a:avLst/>
            <a:gdLst/>
            <a:ahLst/>
            <a:rect l="0" t="0" r="r" b="b"/>
            <a:pathLst>
              <a:path w="133" h="72">
                <a:moveTo>
                  <a:pt x="0" y="40"/>
                </a:moveTo>
                <a:lnTo>
                  <a:pt x="22" y="8"/>
                </a:lnTo>
                <a:lnTo>
                  <a:pt x="89" y="0"/>
                </a:lnTo>
                <a:lnTo>
                  <a:pt x="124" y="27"/>
                </a:lnTo>
                <a:lnTo>
                  <a:pt x="133" y="72"/>
                </a:lnTo>
                <a:lnTo>
                  <a:pt x="89" y="36"/>
                </a:lnTo>
                <a:lnTo>
                  <a:pt x="0" y="4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58960" y="5130720"/>
            <a:ext cx="49680" cy="122760"/>
          </a:xfrm>
          <a:custGeom>
            <a:avLst/>
            <a:gdLst/>
            <a:ahLst/>
            <a:rect l="0" t="0" r="r" b="b"/>
            <a:pathLst>
              <a:path w="138" h="341">
                <a:moveTo>
                  <a:pt x="67" y="0"/>
                </a:moveTo>
                <a:lnTo>
                  <a:pt x="67" y="93"/>
                </a:lnTo>
                <a:lnTo>
                  <a:pt x="58" y="217"/>
                </a:lnTo>
                <a:lnTo>
                  <a:pt x="0" y="319"/>
                </a:lnTo>
                <a:lnTo>
                  <a:pt x="36" y="341"/>
                </a:lnTo>
                <a:lnTo>
                  <a:pt x="58" y="328"/>
                </a:lnTo>
                <a:lnTo>
                  <a:pt x="71" y="297"/>
                </a:lnTo>
                <a:lnTo>
                  <a:pt x="89" y="247"/>
                </a:lnTo>
                <a:lnTo>
                  <a:pt x="89" y="230"/>
                </a:lnTo>
                <a:lnTo>
                  <a:pt x="125" y="186"/>
                </a:lnTo>
                <a:lnTo>
                  <a:pt x="134" y="155"/>
                </a:lnTo>
                <a:lnTo>
                  <a:pt x="138" y="106"/>
                </a:lnTo>
                <a:lnTo>
                  <a:pt x="67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969840" y="3863880"/>
            <a:ext cx="1629000" cy="1211760"/>
          </a:xfrm>
          <a:custGeom>
            <a:avLst/>
            <a:gdLst/>
            <a:ahLst/>
            <a:rect l="0" t="0" r="r" b="b"/>
            <a:pathLst>
              <a:path w="4525" h="3366">
                <a:moveTo>
                  <a:pt x="635" y="198"/>
                </a:moveTo>
                <a:lnTo>
                  <a:pt x="449" y="1301"/>
                </a:lnTo>
                <a:lnTo>
                  <a:pt x="185" y="2122"/>
                </a:lnTo>
                <a:lnTo>
                  <a:pt x="0" y="3366"/>
                </a:lnTo>
                <a:lnTo>
                  <a:pt x="4340" y="3366"/>
                </a:lnTo>
                <a:lnTo>
                  <a:pt x="4525" y="1950"/>
                </a:lnTo>
                <a:lnTo>
                  <a:pt x="4525" y="904"/>
                </a:lnTo>
                <a:lnTo>
                  <a:pt x="4393" y="0"/>
                </a:lnTo>
                <a:lnTo>
                  <a:pt x="635" y="198"/>
                </a:lnTo>
                <a:close/>
              </a:path>
            </a:pathLst>
          </a:custGeom>
          <a:solidFill>
            <a:srgbClr val="201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987480" y="3965400"/>
            <a:ext cx="1636920" cy="1101960"/>
          </a:xfrm>
          <a:custGeom>
            <a:avLst/>
            <a:gdLst/>
            <a:ahLst/>
            <a:rect l="0" t="0" r="r" b="b"/>
            <a:pathLst>
              <a:path w="4547" h="3061">
                <a:moveTo>
                  <a:pt x="705" y="88"/>
                </a:moveTo>
                <a:lnTo>
                  <a:pt x="1053" y="282"/>
                </a:lnTo>
                <a:lnTo>
                  <a:pt x="996" y="529"/>
                </a:lnTo>
                <a:lnTo>
                  <a:pt x="1080" y="586"/>
                </a:lnTo>
                <a:lnTo>
                  <a:pt x="1172" y="326"/>
                </a:lnTo>
                <a:lnTo>
                  <a:pt x="1490" y="427"/>
                </a:lnTo>
                <a:lnTo>
                  <a:pt x="1988" y="471"/>
                </a:lnTo>
                <a:lnTo>
                  <a:pt x="2377" y="1031"/>
                </a:lnTo>
                <a:lnTo>
                  <a:pt x="2558" y="458"/>
                </a:lnTo>
                <a:lnTo>
                  <a:pt x="3334" y="458"/>
                </a:lnTo>
                <a:lnTo>
                  <a:pt x="3317" y="745"/>
                </a:lnTo>
                <a:lnTo>
                  <a:pt x="3427" y="732"/>
                </a:lnTo>
                <a:lnTo>
                  <a:pt x="3453" y="458"/>
                </a:lnTo>
                <a:lnTo>
                  <a:pt x="3872" y="414"/>
                </a:lnTo>
                <a:lnTo>
                  <a:pt x="4256" y="255"/>
                </a:lnTo>
                <a:lnTo>
                  <a:pt x="4490" y="0"/>
                </a:lnTo>
                <a:lnTo>
                  <a:pt x="4326" y="529"/>
                </a:lnTo>
                <a:lnTo>
                  <a:pt x="4172" y="912"/>
                </a:lnTo>
                <a:lnTo>
                  <a:pt x="3996" y="784"/>
                </a:lnTo>
                <a:lnTo>
                  <a:pt x="4212" y="1274"/>
                </a:lnTo>
                <a:lnTo>
                  <a:pt x="4507" y="1544"/>
                </a:lnTo>
                <a:lnTo>
                  <a:pt x="4547" y="2130"/>
                </a:lnTo>
                <a:lnTo>
                  <a:pt x="4366" y="3061"/>
                </a:lnTo>
                <a:lnTo>
                  <a:pt x="2404" y="3017"/>
                </a:lnTo>
                <a:lnTo>
                  <a:pt x="3123" y="2792"/>
                </a:lnTo>
                <a:lnTo>
                  <a:pt x="3277" y="2404"/>
                </a:lnTo>
                <a:lnTo>
                  <a:pt x="2999" y="2735"/>
                </a:lnTo>
                <a:lnTo>
                  <a:pt x="2364" y="3061"/>
                </a:lnTo>
                <a:lnTo>
                  <a:pt x="2222" y="2501"/>
                </a:lnTo>
                <a:lnTo>
                  <a:pt x="2391" y="1901"/>
                </a:lnTo>
                <a:lnTo>
                  <a:pt x="2421" y="1459"/>
                </a:lnTo>
                <a:lnTo>
                  <a:pt x="2338" y="1472"/>
                </a:lnTo>
                <a:lnTo>
                  <a:pt x="2209" y="2488"/>
                </a:lnTo>
                <a:lnTo>
                  <a:pt x="2364" y="3017"/>
                </a:lnTo>
                <a:lnTo>
                  <a:pt x="1975" y="3048"/>
                </a:lnTo>
                <a:lnTo>
                  <a:pt x="1658" y="2973"/>
                </a:lnTo>
                <a:lnTo>
                  <a:pt x="1283" y="2545"/>
                </a:lnTo>
                <a:lnTo>
                  <a:pt x="1106" y="2360"/>
                </a:lnTo>
                <a:lnTo>
                  <a:pt x="1080" y="2518"/>
                </a:lnTo>
                <a:lnTo>
                  <a:pt x="1587" y="3017"/>
                </a:lnTo>
                <a:lnTo>
                  <a:pt x="1036" y="3030"/>
                </a:lnTo>
                <a:lnTo>
                  <a:pt x="0" y="3030"/>
                </a:lnTo>
                <a:lnTo>
                  <a:pt x="167" y="2501"/>
                </a:lnTo>
                <a:lnTo>
                  <a:pt x="194" y="1888"/>
                </a:lnTo>
                <a:lnTo>
                  <a:pt x="511" y="1844"/>
                </a:lnTo>
                <a:lnTo>
                  <a:pt x="886" y="1428"/>
                </a:lnTo>
                <a:lnTo>
                  <a:pt x="815" y="811"/>
                </a:lnTo>
                <a:lnTo>
                  <a:pt x="674" y="718"/>
                </a:lnTo>
                <a:lnTo>
                  <a:pt x="705" y="855"/>
                </a:lnTo>
                <a:lnTo>
                  <a:pt x="815" y="1274"/>
                </a:lnTo>
                <a:lnTo>
                  <a:pt x="692" y="1516"/>
                </a:lnTo>
                <a:lnTo>
                  <a:pt x="440" y="1778"/>
                </a:lnTo>
                <a:lnTo>
                  <a:pt x="291" y="1786"/>
                </a:lnTo>
                <a:lnTo>
                  <a:pt x="454" y="1217"/>
                </a:lnTo>
                <a:lnTo>
                  <a:pt x="524" y="811"/>
                </a:lnTo>
                <a:lnTo>
                  <a:pt x="705" y="88"/>
                </a:lnTo>
                <a:close/>
              </a:path>
            </a:pathLst>
          </a:custGeom>
          <a:solidFill>
            <a:srgbClr val="67676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440080" y="4008600"/>
            <a:ext cx="124200" cy="438480"/>
          </a:xfrm>
          <a:custGeom>
            <a:avLst/>
            <a:gdLst/>
            <a:ahLst/>
            <a:rect l="0" t="0" r="r" b="b"/>
            <a:pathLst>
              <a:path w="345" h="1218">
                <a:moveTo>
                  <a:pt x="0" y="790"/>
                </a:moveTo>
                <a:lnTo>
                  <a:pt x="172" y="1076"/>
                </a:lnTo>
                <a:lnTo>
                  <a:pt x="310" y="1218"/>
                </a:lnTo>
                <a:lnTo>
                  <a:pt x="345" y="957"/>
                </a:lnTo>
                <a:lnTo>
                  <a:pt x="319" y="542"/>
                </a:lnTo>
                <a:lnTo>
                  <a:pt x="284" y="0"/>
                </a:lnTo>
                <a:lnTo>
                  <a:pt x="137" y="568"/>
                </a:lnTo>
                <a:lnTo>
                  <a:pt x="0" y="79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60320" y="1922400"/>
            <a:ext cx="3151440" cy="2583360"/>
          </a:xfrm>
          <a:custGeom>
            <a:avLst/>
            <a:gdLst/>
            <a:ahLst/>
            <a:rect l="0" t="0" r="r" b="b"/>
            <a:pathLst>
              <a:path w="8754" h="7176">
                <a:moveTo>
                  <a:pt x="2143" y="343"/>
                </a:moveTo>
                <a:lnTo>
                  <a:pt x="1984" y="661"/>
                </a:lnTo>
                <a:lnTo>
                  <a:pt x="1428" y="926"/>
                </a:lnTo>
                <a:lnTo>
                  <a:pt x="952" y="1031"/>
                </a:lnTo>
                <a:lnTo>
                  <a:pt x="714" y="1217"/>
                </a:lnTo>
                <a:lnTo>
                  <a:pt x="502" y="1613"/>
                </a:lnTo>
                <a:lnTo>
                  <a:pt x="396" y="2223"/>
                </a:lnTo>
                <a:lnTo>
                  <a:pt x="317" y="3070"/>
                </a:lnTo>
                <a:lnTo>
                  <a:pt x="52" y="4150"/>
                </a:lnTo>
                <a:lnTo>
                  <a:pt x="0" y="5791"/>
                </a:lnTo>
                <a:lnTo>
                  <a:pt x="185" y="6453"/>
                </a:lnTo>
                <a:lnTo>
                  <a:pt x="127" y="6973"/>
                </a:lnTo>
                <a:lnTo>
                  <a:pt x="233" y="7079"/>
                </a:lnTo>
                <a:lnTo>
                  <a:pt x="599" y="7176"/>
                </a:lnTo>
                <a:lnTo>
                  <a:pt x="864" y="7136"/>
                </a:lnTo>
                <a:lnTo>
                  <a:pt x="996" y="6726"/>
                </a:lnTo>
                <a:lnTo>
                  <a:pt x="1217" y="5606"/>
                </a:lnTo>
                <a:lnTo>
                  <a:pt x="2275" y="6003"/>
                </a:lnTo>
                <a:lnTo>
                  <a:pt x="3492" y="6030"/>
                </a:lnTo>
                <a:lnTo>
                  <a:pt x="4446" y="5924"/>
                </a:lnTo>
                <a:lnTo>
                  <a:pt x="4631" y="5686"/>
                </a:lnTo>
                <a:lnTo>
                  <a:pt x="4948" y="5421"/>
                </a:lnTo>
                <a:lnTo>
                  <a:pt x="5107" y="4997"/>
                </a:lnTo>
                <a:lnTo>
                  <a:pt x="5239" y="4547"/>
                </a:lnTo>
                <a:lnTo>
                  <a:pt x="5345" y="3833"/>
                </a:lnTo>
                <a:lnTo>
                  <a:pt x="5451" y="2964"/>
                </a:lnTo>
                <a:lnTo>
                  <a:pt x="6399" y="2382"/>
                </a:lnTo>
                <a:lnTo>
                  <a:pt x="7669" y="2197"/>
                </a:lnTo>
                <a:lnTo>
                  <a:pt x="8516" y="1879"/>
                </a:lnTo>
                <a:lnTo>
                  <a:pt x="8754" y="1322"/>
                </a:lnTo>
                <a:lnTo>
                  <a:pt x="8569" y="873"/>
                </a:lnTo>
                <a:lnTo>
                  <a:pt x="7854" y="529"/>
                </a:lnTo>
                <a:lnTo>
                  <a:pt x="7299" y="529"/>
                </a:lnTo>
                <a:lnTo>
                  <a:pt x="6796" y="608"/>
                </a:lnTo>
                <a:lnTo>
                  <a:pt x="6452" y="846"/>
                </a:lnTo>
                <a:lnTo>
                  <a:pt x="5870" y="978"/>
                </a:lnTo>
                <a:lnTo>
                  <a:pt x="5372" y="926"/>
                </a:lnTo>
                <a:lnTo>
                  <a:pt x="5133" y="793"/>
                </a:lnTo>
                <a:lnTo>
                  <a:pt x="4816" y="714"/>
                </a:lnTo>
                <a:lnTo>
                  <a:pt x="4365" y="687"/>
                </a:lnTo>
                <a:lnTo>
                  <a:pt x="3889" y="529"/>
                </a:lnTo>
                <a:lnTo>
                  <a:pt x="3677" y="79"/>
                </a:lnTo>
                <a:lnTo>
                  <a:pt x="2645" y="0"/>
                </a:lnTo>
                <a:lnTo>
                  <a:pt x="2143" y="343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90840" y="2208240"/>
            <a:ext cx="322560" cy="2037240"/>
          </a:xfrm>
          <a:custGeom>
            <a:avLst/>
            <a:gdLst/>
            <a:ahLst/>
            <a:rect l="0" t="0" r="r" b="b"/>
            <a:pathLst>
              <a:path w="896" h="5659">
                <a:moveTo>
                  <a:pt x="299" y="74"/>
                </a:moveTo>
                <a:lnTo>
                  <a:pt x="486" y="0"/>
                </a:lnTo>
                <a:lnTo>
                  <a:pt x="750" y="35"/>
                </a:lnTo>
                <a:lnTo>
                  <a:pt x="768" y="291"/>
                </a:lnTo>
                <a:lnTo>
                  <a:pt x="640" y="498"/>
                </a:lnTo>
                <a:lnTo>
                  <a:pt x="821" y="2474"/>
                </a:lnTo>
                <a:lnTo>
                  <a:pt x="896" y="3683"/>
                </a:lnTo>
                <a:lnTo>
                  <a:pt x="843" y="4896"/>
                </a:lnTo>
                <a:lnTo>
                  <a:pt x="561" y="5659"/>
                </a:lnTo>
                <a:lnTo>
                  <a:pt x="39" y="4874"/>
                </a:lnTo>
                <a:lnTo>
                  <a:pt x="0" y="3952"/>
                </a:lnTo>
                <a:lnTo>
                  <a:pt x="39" y="3123"/>
                </a:lnTo>
                <a:lnTo>
                  <a:pt x="101" y="2126"/>
                </a:lnTo>
                <a:lnTo>
                  <a:pt x="229" y="1217"/>
                </a:lnTo>
                <a:lnTo>
                  <a:pt x="357" y="604"/>
                </a:lnTo>
                <a:lnTo>
                  <a:pt x="273" y="238"/>
                </a:lnTo>
                <a:lnTo>
                  <a:pt x="299" y="74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141560" y="2236680"/>
            <a:ext cx="248040" cy="1719720"/>
          </a:xfrm>
          <a:custGeom>
            <a:avLst/>
            <a:gdLst/>
            <a:ahLst/>
            <a:rect l="0" t="0" r="r" b="b"/>
            <a:pathLst>
              <a:path w="689" h="4777">
                <a:moveTo>
                  <a:pt x="358" y="158"/>
                </a:moveTo>
                <a:lnTo>
                  <a:pt x="689" y="0"/>
                </a:lnTo>
                <a:lnTo>
                  <a:pt x="535" y="948"/>
                </a:lnTo>
                <a:lnTo>
                  <a:pt x="331" y="1632"/>
                </a:lnTo>
                <a:lnTo>
                  <a:pt x="283" y="2395"/>
                </a:lnTo>
                <a:lnTo>
                  <a:pt x="384" y="3127"/>
                </a:lnTo>
                <a:lnTo>
                  <a:pt x="358" y="4076"/>
                </a:lnTo>
                <a:lnTo>
                  <a:pt x="490" y="4777"/>
                </a:lnTo>
                <a:lnTo>
                  <a:pt x="181" y="4658"/>
                </a:lnTo>
                <a:lnTo>
                  <a:pt x="105" y="4107"/>
                </a:lnTo>
                <a:lnTo>
                  <a:pt x="101" y="3418"/>
                </a:lnTo>
                <a:lnTo>
                  <a:pt x="0" y="2342"/>
                </a:lnTo>
                <a:lnTo>
                  <a:pt x="74" y="1791"/>
                </a:lnTo>
                <a:lnTo>
                  <a:pt x="283" y="1027"/>
                </a:lnTo>
                <a:lnTo>
                  <a:pt x="358" y="15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141640" y="2151000"/>
            <a:ext cx="211320" cy="1894320"/>
          </a:xfrm>
          <a:custGeom>
            <a:avLst/>
            <a:gdLst/>
            <a:ahLst/>
            <a:rect l="0" t="0" r="r" b="b"/>
            <a:pathLst>
              <a:path w="587" h="5262">
                <a:moveTo>
                  <a:pt x="149" y="0"/>
                </a:moveTo>
                <a:lnTo>
                  <a:pt x="202" y="577"/>
                </a:lnTo>
                <a:lnTo>
                  <a:pt x="202" y="1341"/>
                </a:lnTo>
                <a:lnTo>
                  <a:pt x="202" y="2188"/>
                </a:lnTo>
                <a:lnTo>
                  <a:pt x="202" y="3392"/>
                </a:lnTo>
                <a:lnTo>
                  <a:pt x="101" y="4579"/>
                </a:lnTo>
                <a:lnTo>
                  <a:pt x="0" y="5262"/>
                </a:lnTo>
                <a:lnTo>
                  <a:pt x="384" y="5201"/>
                </a:lnTo>
                <a:lnTo>
                  <a:pt x="538" y="4160"/>
                </a:lnTo>
                <a:lnTo>
                  <a:pt x="587" y="3043"/>
                </a:lnTo>
                <a:lnTo>
                  <a:pt x="583" y="1844"/>
                </a:lnTo>
                <a:lnTo>
                  <a:pt x="556" y="630"/>
                </a:lnTo>
                <a:lnTo>
                  <a:pt x="508" y="158"/>
                </a:lnTo>
                <a:lnTo>
                  <a:pt x="149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855880" y="2271600"/>
            <a:ext cx="381240" cy="343440"/>
          </a:xfrm>
          <a:custGeom>
            <a:avLst/>
            <a:gdLst/>
            <a:ahLst/>
            <a:rect l="0" t="0" r="r" b="b"/>
            <a:pathLst>
              <a:path w="1059" h="954">
                <a:moveTo>
                  <a:pt x="0" y="194"/>
                </a:moveTo>
                <a:lnTo>
                  <a:pt x="101" y="194"/>
                </a:lnTo>
                <a:lnTo>
                  <a:pt x="233" y="256"/>
                </a:lnTo>
                <a:lnTo>
                  <a:pt x="308" y="424"/>
                </a:lnTo>
                <a:lnTo>
                  <a:pt x="414" y="710"/>
                </a:lnTo>
                <a:lnTo>
                  <a:pt x="401" y="901"/>
                </a:lnTo>
                <a:lnTo>
                  <a:pt x="335" y="954"/>
                </a:lnTo>
                <a:lnTo>
                  <a:pt x="1006" y="875"/>
                </a:lnTo>
                <a:lnTo>
                  <a:pt x="1059" y="747"/>
                </a:lnTo>
                <a:lnTo>
                  <a:pt x="993" y="411"/>
                </a:lnTo>
                <a:lnTo>
                  <a:pt x="838" y="114"/>
                </a:lnTo>
                <a:lnTo>
                  <a:pt x="618" y="0"/>
                </a:lnTo>
                <a:lnTo>
                  <a:pt x="440" y="39"/>
                </a:lnTo>
                <a:lnTo>
                  <a:pt x="0" y="1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117960" y="2138400"/>
            <a:ext cx="748080" cy="457560"/>
          </a:xfrm>
          <a:custGeom>
            <a:avLst/>
            <a:gdLst/>
            <a:ahLst/>
            <a:rect l="0" t="0" r="r" b="b"/>
            <a:pathLst>
              <a:path w="2078" h="1271">
                <a:moveTo>
                  <a:pt x="0" y="335"/>
                </a:moveTo>
                <a:lnTo>
                  <a:pt x="207" y="427"/>
                </a:lnTo>
                <a:lnTo>
                  <a:pt x="379" y="728"/>
                </a:lnTo>
                <a:lnTo>
                  <a:pt x="405" y="1116"/>
                </a:lnTo>
                <a:lnTo>
                  <a:pt x="392" y="1271"/>
                </a:lnTo>
                <a:lnTo>
                  <a:pt x="1019" y="1178"/>
                </a:lnTo>
                <a:lnTo>
                  <a:pt x="1398" y="1116"/>
                </a:lnTo>
                <a:lnTo>
                  <a:pt x="1660" y="688"/>
                </a:lnTo>
                <a:lnTo>
                  <a:pt x="1633" y="480"/>
                </a:lnTo>
                <a:lnTo>
                  <a:pt x="1739" y="702"/>
                </a:lnTo>
                <a:lnTo>
                  <a:pt x="1633" y="909"/>
                </a:lnTo>
                <a:lnTo>
                  <a:pt x="1531" y="1063"/>
                </a:lnTo>
                <a:lnTo>
                  <a:pt x="1779" y="882"/>
                </a:lnTo>
                <a:lnTo>
                  <a:pt x="1845" y="728"/>
                </a:lnTo>
                <a:lnTo>
                  <a:pt x="1858" y="520"/>
                </a:lnTo>
                <a:lnTo>
                  <a:pt x="1898" y="702"/>
                </a:lnTo>
                <a:lnTo>
                  <a:pt x="1871" y="896"/>
                </a:lnTo>
                <a:lnTo>
                  <a:pt x="1818" y="1050"/>
                </a:lnTo>
                <a:lnTo>
                  <a:pt x="1999" y="922"/>
                </a:lnTo>
                <a:lnTo>
                  <a:pt x="2078" y="621"/>
                </a:lnTo>
                <a:lnTo>
                  <a:pt x="1959" y="374"/>
                </a:lnTo>
                <a:lnTo>
                  <a:pt x="1739" y="233"/>
                </a:lnTo>
                <a:lnTo>
                  <a:pt x="1425" y="79"/>
                </a:lnTo>
                <a:lnTo>
                  <a:pt x="1165" y="0"/>
                </a:lnTo>
                <a:lnTo>
                  <a:pt x="927" y="0"/>
                </a:lnTo>
                <a:lnTo>
                  <a:pt x="587" y="13"/>
                </a:lnTo>
                <a:lnTo>
                  <a:pt x="194" y="114"/>
                </a:lnTo>
                <a:lnTo>
                  <a:pt x="498" y="92"/>
                </a:lnTo>
                <a:lnTo>
                  <a:pt x="693" y="79"/>
                </a:lnTo>
                <a:lnTo>
                  <a:pt x="874" y="105"/>
                </a:lnTo>
                <a:lnTo>
                  <a:pt x="600" y="127"/>
                </a:lnTo>
                <a:lnTo>
                  <a:pt x="326" y="127"/>
                </a:lnTo>
                <a:lnTo>
                  <a:pt x="145" y="194"/>
                </a:lnTo>
                <a:lnTo>
                  <a:pt x="0" y="3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662200" y="2271600"/>
            <a:ext cx="336960" cy="109800"/>
          </a:xfrm>
          <a:custGeom>
            <a:avLst/>
            <a:gdLst/>
            <a:ahLst/>
            <a:rect l="0" t="0" r="r" b="b"/>
            <a:pathLst>
              <a:path w="936" h="305">
                <a:moveTo>
                  <a:pt x="936" y="0"/>
                </a:moveTo>
                <a:lnTo>
                  <a:pt x="693" y="83"/>
                </a:lnTo>
                <a:lnTo>
                  <a:pt x="459" y="172"/>
                </a:lnTo>
                <a:lnTo>
                  <a:pt x="216" y="256"/>
                </a:lnTo>
                <a:lnTo>
                  <a:pt x="0" y="305"/>
                </a:lnTo>
                <a:lnTo>
                  <a:pt x="180" y="159"/>
                </a:lnTo>
                <a:lnTo>
                  <a:pt x="384" y="48"/>
                </a:lnTo>
                <a:lnTo>
                  <a:pt x="472" y="74"/>
                </a:lnTo>
                <a:lnTo>
                  <a:pt x="936" y="0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595600" y="2290680"/>
            <a:ext cx="160560" cy="81360"/>
          </a:xfrm>
          <a:custGeom>
            <a:avLst/>
            <a:gdLst/>
            <a:ahLst/>
            <a:rect l="0" t="0" r="r" b="b"/>
            <a:pathLst>
              <a:path w="446" h="226">
                <a:moveTo>
                  <a:pt x="446" y="0"/>
                </a:moveTo>
                <a:lnTo>
                  <a:pt x="252" y="93"/>
                </a:lnTo>
                <a:lnTo>
                  <a:pt x="136" y="226"/>
                </a:lnTo>
                <a:lnTo>
                  <a:pt x="0" y="178"/>
                </a:lnTo>
                <a:lnTo>
                  <a:pt x="185" y="48"/>
                </a:lnTo>
                <a:lnTo>
                  <a:pt x="274" y="0"/>
                </a:lnTo>
                <a:lnTo>
                  <a:pt x="446" y="0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362320" y="2200320"/>
            <a:ext cx="276480" cy="209880"/>
          </a:xfrm>
          <a:custGeom>
            <a:avLst/>
            <a:gdLst/>
            <a:ahLst/>
            <a:rect l="0" t="0" r="r" b="b"/>
            <a:pathLst>
              <a:path w="768" h="583">
                <a:moveTo>
                  <a:pt x="768" y="189"/>
                </a:moveTo>
                <a:lnTo>
                  <a:pt x="613" y="353"/>
                </a:lnTo>
                <a:lnTo>
                  <a:pt x="525" y="433"/>
                </a:lnTo>
                <a:lnTo>
                  <a:pt x="437" y="455"/>
                </a:lnTo>
                <a:lnTo>
                  <a:pt x="343" y="433"/>
                </a:lnTo>
                <a:lnTo>
                  <a:pt x="242" y="433"/>
                </a:lnTo>
                <a:lnTo>
                  <a:pt x="141" y="481"/>
                </a:lnTo>
                <a:lnTo>
                  <a:pt x="26" y="583"/>
                </a:lnTo>
                <a:lnTo>
                  <a:pt x="39" y="305"/>
                </a:lnTo>
                <a:lnTo>
                  <a:pt x="0" y="74"/>
                </a:lnTo>
                <a:lnTo>
                  <a:pt x="0" y="0"/>
                </a:lnTo>
                <a:lnTo>
                  <a:pt x="202" y="13"/>
                </a:lnTo>
                <a:lnTo>
                  <a:pt x="370" y="26"/>
                </a:lnTo>
                <a:lnTo>
                  <a:pt x="552" y="61"/>
                </a:lnTo>
                <a:lnTo>
                  <a:pt x="768" y="1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495520" y="2529000"/>
            <a:ext cx="1298880" cy="903600"/>
          </a:xfrm>
          <a:custGeom>
            <a:avLst/>
            <a:gdLst/>
            <a:ahLst/>
            <a:rect l="0" t="0" r="r" b="b"/>
            <a:pathLst>
              <a:path w="3608" h="2510">
                <a:moveTo>
                  <a:pt x="1230" y="299"/>
                </a:moveTo>
                <a:lnTo>
                  <a:pt x="1058" y="313"/>
                </a:lnTo>
                <a:lnTo>
                  <a:pt x="926" y="405"/>
                </a:lnTo>
                <a:lnTo>
                  <a:pt x="732" y="485"/>
                </a:lnTo>
                <a:lnTo>
                  <a:pt x="745" y="652"/>
                </a:lnTo>
                <a:lnTo>
                  <a:pt x="745" y="824"/>
                </a:lnTo>
                <a:lnTo>
                  <a:pt x="705" y="970"/>
                </a:lnTo>
                <a:lnTo>
                  <a:pt x="577" y="1009"/>
                </a:lnTo>
                <a:lnTo>
                  <a:pt x="551" y="1150"/>
                </a:lnTo>
                <a:lnTo>
                  <a:pt x="418" y="1297"/>
                </a:lnTo>
                <a:lnTo>
                  <a:pt x="132" y="1897"/>
                </a:lnTo>
                <a:lnTo>
                  <a:pt x="0" y="2510"/>
                </a:lnTo>
                <a:lnTo>
                  <a:pt x="211" y="2038"/>
                </a:lnTo>
                <a:lnTo>
                  <a:pt x="352" y="1637"/>
                </a:lnTo>
                <a:lnTo>
                  <a:pt x="537" y="1310"/>
                </a:lnTo>
                <a:lnTo>
                  <a:pt x="643" y="1150"/>
                </a:lnTo>
                <a:lnTo>
                  <a:pt x="992" y="956"/>
                </a:lnTo>
                <a:lnTo>
                  <a:pt x="1336" y="745"/>
                </a:lnTo>
                <a:lnTo>
                  <a:pt x="1543" y="626"/>
                </a:lnTo>
                <a:lnTo>
                  <a:pt x="1914" y="564"/>
                </a:lnTo>
                <a:lnTo>
                  <a:pt x="2518" y="511"/>
                </a:lnTo>
                <a:lnTo>
                  <a:pt x="2858" y="445"/>
                </a:lnTo>
                <a:lnTo>
                  <a:pt x="3228" y="299"/>
                </a:lnTo>
                <a:lnTo>
                  <a:pt x="3568" y="171"/>
                </a:lnTo>
                <a:lnTo>
                  <a:pt x="3608" y="0"/>
                </a:lnTo>
                <a:lnTo>
                  <a:pt x="3436" y="105"/>
                </a:lnTo>
                <a:lnTo>
                  <a:pt x="3109" y="326"/>
                </a:lnTo>
                <a:lnTo>
                  <a:pt x="3281" y="92"/>
                </a:lnTo>
                <a:lnTo>
                  <a:pt x="3004" y="313"/>
                </a:lnTo>
                <a:lnTo>
                  <a:pt x="2792" y="339"/>
                </a:lnTo>
                <a:lnTo>
                  <a:pt x="3017" y="145"/>
                </a:lnTo>
                <a:lnTo>
                  <a:pt x="2452" y="260"/>
                </a:lnTo>
                <a:lnTo>
                  <a:pt x="1967" y="299"/>
                </a:lnTo>
                <a:lnTo>
                  <a:pt x="1230" y="299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817640" y="2000160"/>
            <a:ext cx="311400" cy="381240"/>
          </a:xfrm>
          <a:custGeom>
            <a:avLst/>
            <a:gdLst/>
            <a:ahLst/>
            <a:rect l="0" t="0" r="r" b="b"/>
            <a:pathLst>
              <a:path w="865" h="1059">
                <a:moveTo>
                  <a:pt x="185" y="449"/>
                </a:moveTo>
                <a:lnTo>
                  <a:pt x="0" y="534"/>
                </a:lnTo>
                <a:lnTo>
                  <a:pt x="141" y="565"/>
                </a:lnTo>
                <a:lnTo>
                  <a:pt x="211" y="684"/>
                </a:lnTo>
                <a:lnTo>
                  <a:pt x="211" y="931"/>
                </a:lnTo>
                <a:lnTo>
                  <a:pt x="132" y="1059"/>
                </a:lnTo>
                <a:lnTo>
                  <a:pt x="427" y="852"/>
                </a:lnTo>
                <a:lnTo>
                  <a:pt x="658" y="569"/>
                </a:lnTo>
                <a:lnTo>
                  <a:pt x="865" y="335"/>
                </a:lnTo>
                <a:lnTo>
                  <a:pt x="737" y="0"/>
                </a:lnTo>
                <a:lnTo>
                  <a:pt x="649" y="198"/>
                </a:lnTo>
                <a:lnTo>
                  <a:pt x="468" y="321"/>
                </a:lnTo>
                <a:lnTo>
                  <a:pt x="185" y="4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490760" y="2062080"/>
            <a:ext cx="236880" cy="314640"/>
          </a:xfrm>
          <a:custGeom>
            <a:avLst/>
            <a:gdLst/>
            <a:ahLst/>
            <a:rect l="0" t="0" r="r" b="b"/>
            <a:pathLst>
              <a:path w="658" h="874">
                <a:moveTo>
                  <a:pt x="154" y="0"/>
                </a:moveTo>
                <a:lnTo>
                  <a:pt x="229" y="154"/>
                </a:lnTo>
                <a:lnTo>
                  <a:pt x="384" y="229"/>
                </a:lnTo>
                <a:lnTo>
                  <a:pt x="459" y="295"/>
                </a:lnTo>
                <a:lnTo>
                  <a:pt x="658" y="374"/>
                </a:lnTo>
                <a:lnTo>
                  <a:pt x="538" y="455"/>
                </a:lnTo>
                <a:lnTo>
                  <a:pt x="486" y="578"/>
                </a:lnTo>
                <a:lnTo>
                  <a:pt x="534" y="874"/>
                </a:lnTo>
                <a:lnTo>
                  <a:pt x="446" y="847"/>
                </a:lnTo>
                <a:lnTo>
                  <a:pt x="229" y="693"/>
                </a:lnTo>
                <a:lnTo>
                  <a:pt x="74" y="525"/>
                </a:lnTo>
                <a:lnTo>
                  <a:pt x="0" y="321"/>
                </a:lnTo>
                <a:lnTo>
                  <a:pt x="15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847880" y="2143080"/>
            <a:ext cx="338400" cy="1922760"/>
          </a:xfrm>
          <a:custGeom>
            <a:avLst/>
            <a:gdLst/>
            <a:ahLst/>
            <a:rect l="0" t="0" r="r" b="b"/>
            <a:pathLst>
              <a:path w="940" h="5341">
                <a:moveTo>
                  <a:pt x="812" y="0"/>
                </a:moveTo>
                <a:lnTo>
                  <a:pt x="658" y="211"/>
                </a:lnTo>
                <a:lnTo>
                  <a:pt x="436" y="445"/>
                </a:lnTo>
                <a:lnTo>
                  <a:pt x="255" y="617"/>
                </a:lnTo>
                <a:lnTo>
                  <a:pt x="66" y="736"/>
                </a:lnTo>
                <a:lnTo>
                  <a:pt x="0" y="789"/>
                </a:lnTo>
                <a:lnTo>
                  <a:pt x="101" y="1578"/>
                </a:lnTo>
                <a:lnTo>
                  <a:pt x="194" y="2579"/>
                </a:lnTo>
                <a:lnTo>
                  <a:pt x="242" y="3392"/>
                </a:lnTo>
                <a:lnTo>
                  <a:pt x="255" y="4049"/>
                </a:lnTo>
                <a:lnTo>
                  <a:pt x="220" y="4931"/>
                </a:lnTo>
                <a:lnTo>
                  <a:pt x="114" y="5327"/>
                </a:lnTo>
                <a:lnTo>
                  <a:pt x="423" y="5341"/>
                </a:lnTo>
                <a:lnTo>
                  <a:pt x="733" y="5301"/>
                </a:lnTo>
                <a:lnTo>
                  <a:pt x="825" y="4723"/>
                </a:lnTo>
                <a:lnTo>
                  <a:pt x="887" y="4128"/>
                </a:lnTo>
                <a:lnTo>
                  <a:pt x="940" y="3484"/>
                </a:lnTo>
                <a:lnTo>
                  <a:pt x="927" y="2473"/>
                </a:lnTo>
                <a:lnTo>
                  <a:pt x="940" y="1512"/>
                </a:lnTo>
                <a:lnTo>
                  <a:pt x="940" y="881"/>
                </a:lnTo>
                <a:lnTo>
                  <a:pt x="913" y="52"/>
                </a:lnTo>
                <a:lnTo>
                  <a:pt x="8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333520" y="2928960"/>
            <a:ext cx="271800" cy="851400"/>
          </a:xfrm>
          <a:custGeom>
            <a:avLst/>
            <a:gdLst/>
            <a:ahLst/>
            <a:rect l="0" t="0" r="r" b="b"/>
            <a:pathLst>
              <a:path w="755" h="2365">
                <a:moveTo>
                  <a:pt x="127" y="0"/>
                </a:moveTo>
                <a:lnTo>
                  <a:pt x="255" y="92"/>
                </a:lnTo>
                <a:lnTo>
                  <a:pt x="384" y="105"/>
                </a:lnTo>
                <a:lnTo>
                  <a:pt x="538" y="198"/>
                </a:lnTo>
                <a:lnTo>
                  <a:pt x="627" y="198"/>
                </a:lnTo>
                <a:lnTo>
                  <a:pt x="755" y="145"/>
                </a:lnTo>
                <a:lnTo>
                  <a:pt x="574" y="498"/>
                </a:lnTo>
                <a:lnTo>
                  <a:pt x="424" y="887"/>
                </a:lnTo>
                <a:lnTo>
                  <a:pt x="282" y="1359"/>
                </a:lnTo>
                <a:lnTo>
                  <a:pt x="189" y="1738"/>
                </a:lnTo>
                <a:lnTo>
                  <a:pt x="88" y="2105"/>
                </a:lnTo>
                <a:lnTo>
                  <a:pt x="0" y="2365"/>
                </a:lnTo>
                <a:lnTo>
                  <a:pt x="88" y="1773"/>
                </a:lnTo>
                <a:lnTo>
                  <a:pt x="114" y="1293"/>
                </a:lnTo>
                <a:lnTo>
                  <a:pt x="167" y="733"/>
                </a:lnTo>
                <a:lnTo>
                  <a:pt x="12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314440" y="3048120"/>
            <a:ext cx="371880" cy="989280"/>
          </a:xfrm>
          <a:custGeom>
            <a:avLst/>
            <a:gdLst/>
            <a:ahLst/>
            <a:rect l="0" t="0" r="r" b="b"/>
            <a:pathLst>
              <a:path w="1033" h="2748">
                <a:moveTo>
                  <a:pt x="88" y="2748"/>
                </a:moveTo>
                <a:lnTo>
                  <a:pt x="0" y="2735"/>
                </a:lnTo>
                <a:lnTo>
                  <a:pt x="39" y="2395"/>
                </a:lnTo>
                <a:lnTo>
                  <a:pt x="127" y="2016"/>
                </a:lnTo>
                <a:lnTo>
                  <a:pt x="269" y="1465"/>
                </a:lnTo>
                <a:lnTo>
                  <a:pt x="428" y="978"/>
                </a:lnTo>
                <a:lnTo>
                  <a:pt x="375" y="1425"/>
                </a:lnTo>
                <a:lnTo>
                  <a:pt x="261" y="1923"/>
                </a:lnTo>
                <a:lnTo>
                  <a:pt x="194" y="2342"/>
                </a:lnTo>
                <a:lnTo>
                  <a:pt x="362" y="1751"/>
                </a:lnTo>
                <a:lnTo>
                  <a:pt x="543" y="1212"/>
                </a:lnTo>
                <a:lnTo>
                  <a:pt x="644" y="899"/>
                </a:lnTo>
                <a:lnTo>
                  <a:pt x="800" y="524"/>
                </a:lnTo>
                <a:lnTo>
                  <a:pt x="1033" y="0"/>
                </a:lnTo>
                <a:lnTo>
                  <a:pt x="954" y="652"/>
                </a:lnTo>
                <a:lnTo>
                  <a:pt x="866" y="1278"/>
                </a:lnTo>
                <a:lnTo>
                  <a:pt x="724" y="1659"/>
                </a:lnTo>
                <a:lnTo>
                  <a:pt x="556" y="2210"/>
                </a:lnTo>
                <a:lnTo>
                  <a:pt x="309" y="2435"/>
                </a:lnTo>
                <a:lnTo>
                  <a:pt x="88" y="2748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62160" y="2197080"/>
            <a:ext cx="424080" cy="1856160"/>
          </a:xfrm>
          <a:custGeom>
            <a:avLst/>
            <a:gdLst/>
            <a:ahLst/>
            <a:rect l="0" t="0" r="r" b="b"/>
            <a:pathLst>
              <a:path w="1178" h="5156">
                <a:moveTo>
                  <a:pt x="401" y="79"/>
                </a:moveTo>
                <a:lnTo>
                  <a:pt x="568" y="0"/>
                </a:lnTo>
                <a:lnTo>
                  <a:pt x="622" y="171"/>
                </a:lnTo>
                <a:lnTo>
                  <a:pt x="710" y="304"/>
                </a:lnTo>
                <a:lnTo>
                  <a:pt x="904" y="471"/>
                </a:lnTo>
                <a:lnTo>
                  <a:pt x="1138" y="604"/>
                </a:lnTo>
                <a:lnTo>
                  <a:pt x="1178" y="617"/>
                </a:lnTo>
                <a:lnTo>
                  <a:pt x="1050" y="1212"/>
                </a:lnTo>
                <a:lnTo>
                  <a:pt x="931" y="2016"/>
                </a:lnTo>
                <a:lnTo>
                  <a:pt x="904" y="2620"/>
                </a:lnTo>
                <a:lnTo>
                  <a:pt x="869" y="3286"/>
                </a:lnTo>
                <a:lnTo>
                  <a:pt x="816" y="3931"/>
                </a:lnTo>
                <a:lnTo>
                  <a:pt x="803" y="4129"/>
                </a:lnTo>
                <a:lnTo>
                  <a:pt x="856" y="4826"/>
                </a:lnTo>
                <a:lnTo>
                  <a:pt x="1037" y="5156"/>
                </a:lnTo>
                <a:lnTo>
                  <a:pt x="843" y="5143"/>
                </a:lnTo>
                <a:lnTo>
                  <a:pt x="233" y="4905"/>
                </a:lnTo>
                <a:lnTo>
                  <a:pt x="92" y="4142"/>
                </a:lnTo>
                <a:lnTo>
                  <a:pt x="92" y="3736"/>
                </a:lnTo>
                <a:lnTo>
                  <a:pt x="127" y="3352"/>
                </a:lnTo>
                <a:lnTo>
                  <a:pt x="101" y="2999"/>
                </a:lnTo>
                <a:lnTo>
                  <a:pt x="0" y="2607"/>
                </a:lnTo>
                <a:lnTo>
                  <a:pt x="0" y="2355"/>
                </a:lnTo>
                <a:lnTo>
                  <a:pt x="101" y="2699"/>
                </a:lnTo>
                <a:lnTo>
                  <a:pt x="260" y="2999"/>
                </a:lnTo>
                <a:lnTo>
                  <a:pt x="154" y="2607"/>
                </a:lnTo>
                <a:lnTo>
                  <a:pt x="66" y="2276"/>
                </a:lnTo>
                <a:lnTo>
                  <a:pt x="26" y="1950"/>
                </a:lnTo>
                <a:lnTo>
                  <a:pt x="79" y="1698"/>
                </a:lnTo>
                <a:lnTo>
                  <a:pt x="180" y="1278"/>
                </a:lnTo>
                <a:lnTo>
                  <a:pt x="308" y="961"/>
                </a:lnTo>
                <a:lnTo>
                  <a:pt x="361" y="551"/>
                </a:lnTo>
                <a:lnTo>
                  <a:pt x="414" y="304"/>
                </a:lnTo>
                <a:lnTo>
                  <a:pt x="401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90560" y="2287440"/>
            <a:ext cx="452880" cy="2180160"/>
          </a:xfrm>
          <a:custGeom>
            <a:avLst/>
            <a:gdLst/>
            <a:ahLst/>
            <a:rect l="0" t="0" r="r" b="b"/>
            <a:pathLst>
              <a:path w="1258" h="6056">
                <a:moveTo>
                  <a:pt x="1258" y="0"/>
                </a:moveTo>
                <a:lnTo>
                  <a:pt x="1219" y="251"/>
                </a:lnTo>
                <a:lnTo>
                  <a:pt x="1192" y="551"/>
                </a:lnTo>
                <a:lnTo>
                  <a:pt x="1166" y="908"/>
                </a:lnTo>
                <a:lnTo>
                  <a:pt x="1152" y="736"/>
                </a:lnTo>
                <a:lnTo>
                  <a:pt x="1130" y="317"/>
                </a:lnTo>
                <a:lnTo>
                  <a:pt x="1130" y="185"/>
                </a:lnTo>
                <a:lnTo>
                  <a:pt x="1091" y="396"/>
                </a:lnTo>
                <a:lnTo>
                  <a:pt x="1064" y="855"/>
                </a:lnTo>
                <a:lnTo>
                  <a:pt x="1091" y="1212"/>
                </a:lnTo>
                <a:lnTo>
                  <a:pt x="1011" y="1490"/>
                </a:lnTo>
                <a:lnTo>
                  <a:pt x="935" y="1817"/>
                </a:lnTo>
                <a:lnTo>
                  <a:pt x="896" y="2108"/>
                </a:lnTo>
                <a:lnTo>
                  <a:pt x="803" y="1923"/>
                </a:lnTo>
                <a:lnTo>
                  <a:pt x="688" y="1539"/>
                </a:lnTo>
                <a:lnTo>
                  <a:pt x="662" y="1159"/>
                </a:lnTo>
                <a:lnTo>
                  <a:pt x="635" y="1503"/>
                </a:lnTo>
                <a:lnTo>
                  <a:pt x="728" y="2003"/>
                </a:lnTo>
                <a:lnTo>
                  <a:pt x="790" y="2188"/>
                </a:lnTo>
                <a:lnTo>
                  <a:pt x="856" y="2360"/>
                </a:lnTo>
                <a:lnTo>
                  <a:pt x="945" y="2708"/>
                </a:lnTo>
                <a:lnTo>
                  <a:pt x="985" y="3290"/>
                </a:lnTo>
                <a:lnTo>
                  <a:pt x="985" y="3775"/>
                </a:lnTo>
                <a:lnTo>
                  <a:pt x="856" y="3934"/>
                </a:lnTo>
                <a:lnTo>
                  <a:pt x="635" y="4119"/>
                </a:lnTo>
                <a:lnTo>
                  <a:pt x="958" y="3987"/>
                </a:lnTo>
                <a:lnTo>
                  <a:pt x="958" y="4199"/>
                </a:lnTo>
                <a:lnTo>
                  <a:pt x="1025" y="4490"/>
                </a:lnTo>
                <a:lnTo>
                  <a:pt x="958" y="4989"/>
                </a:lnTo>
                <a:lnTo>
                  <a:pt x="790" y="4949"/>
                </a:lnTo>
                <a:lnTo>
                  <a:pt x="494" y="4685"/>
                </a:lnTo>
                <a:lnTo>
                  <a:pt x="702" y="4989"/>
                </a:lnTo>
                <a:lnTo>
                  <a:pt x="909" y="5081"/>
                </a:lnTo>
                <a:lnTo>
                  <a:pt x="856" y="5439"/>
                </a:lnTo>
                <a:lnTo>
                  <a:pt x="715" y="6003"/>
                </a:lnTo>
                <a:lnTo>
                  <a:pt x="556" y="6056"/>
                </a:lnTo>
                <a:lnTo>
                  <a:pt x="304" y="6012"/>
                </a:lnTo>
                <a:lnTo>
                  <a:pt x="97" y="5933"/>
                </a:lnTo>
                <a:lnTo>
                  <a:pt x="167" y="5531"/>
                </a:lnTo>
                <a:lnTo>
                  <a:pt x="428" y="5553"/>
                </a:lnTo>
                <a:lnTo>
                  <a:pt x="702" y="5545"/>
                </a:lnTo>
                <a:lnTo>
                  <a:pt x="299" y="5478"/>
                </a:lnTo>
                <a:lnTo>
                  <a:pt x="167" y="5386"/>
                </a:lnTo>
                <a:lnTo>
                  <a:pt x="0" y="4804"/>
                </a:lnTo>
                <a:lnTo>
                  <a:pt x="26" y="4344"/>
                </a:lnTo>
                <a:lnTo>
                  <a:pt x="52" y="4066"/>
                </a:lnTo>
                <a:lnTo>
                  <a:pt x="39" y="3802"/>
                </a:lnTo>
                <a:lnTo>
                  <a:pt x="39" y="3277"/>
                </a:lnTo>
                <a:lnTo>
                  <a:pt x="66" y="3078"/>
                </a:lnTo>
                <a:lnTo>
                  <a:pt x="194" y="3422"/>
                </a:lnTo>
                <a:lnTo>
                  <a:pt x="260" y="3696"/>
                </a:lnTo>
                <a:lnTo>
                  <a:pt x="362" y="3802"/>
                </a:lnTo>
                <a:lnTo>
                  <a:pt x="481" y="3881"/>
                </a:lnTo>
                <a:lnTo>
                  <a:pt x="349" y="3643"/>
                </a:lnTo>
                <a:lnTo>
                  <a:pt x="246" y="3330"/>
                </a:lnTo>
                <a:lnTo>
                  <a:pt x="154" y="3012"/>
                </a:lnTo>
                <a:lnTo>
                  <a:pt x="141" y="2801"/>
                </a:lnTo>
                <a:lnTo>
                  <a:pt x="194" y="2505"/>
                </a:lnTo>
                <a:lnTo>
                  <a:pt x="286" y="2161"/>
                </a:lnTo>
                <a:lnTo>
                  <a:pt x="389" y="2439"/>
                </a:lnTo>
                <a:lnTo>
                  <a:pt x="556" y="2682"/>
                </a:lnTo>
                <a:lnTo>
                  <a:pt x="702" y="2748"/>
                </a:lnTo>
                <a:lnTo>
                  <a:pt x="481" y="2413"/>
                </a:lnTo>
                <a:lnTo>
                  <a:pt x="375" y="2201"/>
                </a:lnTo>
                <a:lnTo>
                  <a:pt x="322" y="1963"/>
                </a:lnTo>
                <a:lnTo>
                  <a:pt x="349" y="1553"/>
                </a:lnTo>
                <a:lnTo>
                  <a:pt x="402" y="1040"/>
                </a:lnTo>
                <a:lnTo>
                  <a:pt x="468" y="709"/>
                </a:lnTo>
                <a:lnTo>
                  <a:pt x="569" y="511"/>
                </a:lnTo>
                <a:lnTo>
                  <a:pt x="715" y="211"/>
                </a:lnTo>
                <a:lnTo>
                  <a:pt x="935" y="92"/>
                </a:lnTo>
                <a:lnTo>
                  <a:pt x="12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541520" y="1779480"/>
            <a:ext cx="536760" cy="410040"/>
          </a:xfrm>
          <a:custGeom>
            <a:avLst/>
            <a:gdLst/>
            <a:ahLst/>
            <a:rect l="0" t="0" r="r" b="b"/>
            <a:pathLst>
              <a:path w="1491" h="1139">
                <a:moveTo>
                  <a:pt x="26" y="397"/>
                </a:moveTo>
                <a:lnTo>
                  <a:pt x="79" y="807"/>
                </a:lnTo>
                <a:lnTo>
                  <a:pt x="141" y="914"/>
                </a:lnTo>
                <a:lnTo>
                  <a:pt x="304" y="1020"/>
                </a:lnTo>
                <a:lnTo>
                  <a:pt x="502" y="1108"/>
                </a:lnTo>
                <a:lnTo>
                  <a:pt x="687" y="1139"/>
                </a:lnTo>
                <a:lnTo>
                  <a:pt x="940" y="1055"/>
                </a:lnTo>
                <a:lnTo>
                  <a:pt x="1165" y="928"/>
                </a:lnTo>
                <a:lnTo>
                  <a:pt x="1363" y="790"/>
                </a:lnTo>
                <a:lnTo>
                  <a:pt x="1491" y="609"/>
                </a:lnTo>
                <a:lnTo>
                  <a:pt x="1456" y="530"/>
                </a:lnTo>
                <a:lnTo>
                  <a:pt x="1456" y="26"/>
                </a:lnTo>
                <a:lnTo>
                  <a:pt x="0" y="0"/>
                </a:lnTo>
                <a:lnTo>
                  <a:pt x="26" y="397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438200" y="903240"/>
            <a:ext cx="797400" cy="1175040"/>
          </a:xfrm>
          <a:custGeom>
            <a:avLst/>
            <a:gdLst/>
            <a:ahLst/>
            <a:rect l="0" t="0" r="r" b="b"/>
            <a:pathLst>
              <a:path w="2215" h="3264">
                <a:moveTo>
                  <a:pt x="471" y="2884"/>
                </a:moveTo>
                <a:lnTo>
                  <a:pt x="596" y="3008"/>
                </a:lnTo>
                <a:lnTo>
                  <a:pt x="816" y="3202"/>
                </a:lnTo>
                <a:lnTo>
                  <a:pt x="966" y="3264"/>
                </a:lnTo>
                <a:lnTo>
                  <a:pt x="1103" y="3264"/>
                </a:lnTo>
                <a:lnTo>
                  <a:pt x="1235" y="3255"/>
                </a:lnTo>
                <a:lnTo>
                  <a:pt x="1350" y="3215"/>
                </a:lnTo>
                <a:lnTo>
                  <a:pt x="1482" y="3114"/>
                </a:lnTo>
                <a:lnTo>
                  <a:pt x="1743" y="2858"/>
                </a:lnTo>
                <a:lnTo>
                  <a:pt x="1854" y="2611"/>
                </a:lnTo>
                <a:lnTo>
                  <a:pt x="1920" y="2386"/>
                </a:lnTo>
                <a:lnTo>
                  <a:pt x="1981" y="2170"/>
                </a:lnTo>
                <a:lnTo>
                  <a:pt x="2087" y="2064"/>
                </a:lnTo>
                <a:lnTo>
                  <a:pt x="2158" y="1844"/>
                </a:lnTo>
                <a:lnTo>
                  <a:pt x="2184" y="1659"/>
                </a:lnTo>
                <a:lnTo>
                  <a:pt x="2167" y="1481"/>
                </a:lnTo>
                <a:lnTo>
                  <a:pt x="2140" y="1402"/>
                </a:lnTo>
                <a:lnTo>
                  <a:pt x="2202" y="1177"/>
                </a:lnTo>
                <a:lnTo>
                  <a:pt x="2215" y="749"/>
                </a:lnTo>
                <a:lnTo>
                  <a:pt x="2140" y="524"/>
                </a:lnTo>
                <a:lnTo>
                  <a:pt x="2030" y="291"/>
                </a:lnTo>
                <a:lnTo>
                  <a:pt x="1884" y="185"/>
                </a:lnTo>
                <a:lnTo>
                  <a:pt x="1677" y="101"/>
                </a:lnTo>
                <a:lnTo>
                  <a:pt x="1473" y="26"/>
                </a:lnTo>
                <a:lnTo>
                  <a:pt x="1266" y="0"/>
                </a:lnTo>
                <a:lnTo>
                  <a:pt x="1002" y="0"/>
                </a:lnTo>
                <a:lnTo>
                  <a:pt x="759" y="35"/>
                </a:lnTo>
                <a:lnTo>
                  <a:pt x="561" y="105"/>
                </a:lnTo>
                <a:lnTo>
                  <a:pt x="313" y="224"/>
                </a:lnTo>
                <a:lnTo>
                  <a:pt x="141" y="582"/>
                </a:lnTo>
                <a:lnTo>
                  <a:pt x="110" y="1027"/>
                </a:lnTo>
                <a:lnTo>
                  <a:pt x="127" y="1402"/>
                </a:lnTo>
                <a:lnTo>
                  <a:pt x="13" y="1486"/>
                </a:lnTo>
                <a:lnTo>
                  <a:pt x="0" y="1725"/>
                </a:lnTo>
                <a:lnTo>
                  <a:pt x="52" y="1950"/>
                </a:lnTo>
                <a:lnTo>
                  <a:pt x="158" y="2003"/>
                </a:lnTo>
                <a:lnTo>
                  <a:pt x="171" y="2174"/>
                </a:lnTo>
                <a:lnTo>
                  <a:pt x="198" y="2413"/>
                </a:lnTo>
                <a:lnTo>
                  <a:pt x="277" y="2558"/>
                </a:lnTo>
                <a:lnTo>
                  <a:pt x="471" y="2884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461960" y="1468440"/>
            <a:ext cx="44640" cy="120960"/>
          </a:xfrm>
          <a:custGeom>
            <a:avLst/>
            <a:gdLst/>
            <a:ahLst/>
            <a:rect l="0" t="0" r="r" b="b"/>
            <a:pathLst>
              <a:path w="124" h="336">
                <a:moveTo>
                  <a:pt x="0" y="0"/>
                </a:moveTo>
                <a:lnTo>
                  <a:pt x="75" y="61"/>
                </a:lnTo>
                <a:lnTo>
                  <a:pt x="75" y="114"/>
                </a:lnTo>
                <a:lnTo>
                  <a:pt x="44" y="149"/>
                </a:lnTo>
                <a:lnTo>
                  <a:pt x="67" y="269"/>
                </a:lnTo>
                <a:lnTo>
                  <a:pt x="124" y="336"/>
                </a:lnTo>
                <a:lnTo>
                  <a:pt x="44" y="309"/>
                </a:lnTo>
                <a:lnTo>
                  <a:pt x="4" y="208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154240" y="1487520"/>
            <a:ext cx="36720" cy="138600"/>
          </a:xfrm>
          <a:custGeom>
            <a:avLst/>
            <a:gdLst/>
            <a:ahLst/>
            <a:rect l="0" t="0" r="r" b="b"/>
            <a:pathLst>
              <a:path w="102" h="385">
                <a:moveTo>
                  <a:pt x="102" y="0"/>
                </a:moveTo>
                <a:lnTo>
                  <a:pt x="48" y="61"/>
                </a:lnTo>
                <a:lnTo>
                  <a:pt x="58" y="150"/>
                </a:lnTo>
                <a:lnTo>
                  <a:pt x="71" y="225"/>
                </a:lnTo>
                <a:lnTo>
                  <a:pt x="30" y="337"/>
                </a:lnTo>
                <a:lnTo>
                  <a:pt x="0" y="385"/>
                </a:lnTo>
                <a:lnTo>
                  <a:pt x="53" y="354"/>
                </a:lnTo>
                <a:lnTo>
                  <a:pt x="93" y="217"/>
                </a:lnTo>
                <a:lnTo>
                  <a:pt x="80" y="102"/>
                </a:lnTo>
                <a:lnTo>
                  <a:pt x="102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06680" y="1449360"/>
            <a:ext cx="155880" cy="62280"/>
          </a:xfrm>
          <a:custGeom>
            <a:avLst/>
            <a:gdLst/>
            <a:ahLst/>
            <a:rect l="0" t="0" r="r" b="b"/>
            <a:pathLst>
              <a:path w="433" h="173">
                <a:moveTo>
                  <a:pt x="35" y="13"/>
                </a:moveTo>
                <a:lnTo>
                  <a:pt x="171" y="0"/>
                </a:lnTo>
                <a:lnTo>
                  <a:pt x="309" y="35"/>
                </a:lnTo>
                <a:lnTo>
                  <a:pt x="433" y="71"/>
                </a:lnTo>
                <a:lnTo>
                  <a:pt x="362" y="98"/>
                </a:lnTo>
                <a:lnTo>
                  <a:pt x="336" y="151"/>
                </a:lnTo>
                <a:lnTo>
                  <a:pt x="247" y="173"/>
                </a:lnTo>
                <a:lnTo>
                  <a:pt x="136" y="160"/>
                </a:lnTo>
                <a:lnTo>
                  <a:pt x="83" y="98"/>
                </a:lnTo>
                <a:lnTo>
                  <a:pt x="0" y="71"/>
                </a:lnTo>
                <a:lnTo>
                  <a:pt x="35" y="1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925640" y="1469880"/>
            <a:ext cx="152640" cy="95760"/>
          </a:xfrm>
          <a:custGeom>
            <a:avLst/>
            <a:gdLst/>
            <a:ahLst/>
            <a:rect l="0" t="0" r="r" b="b"/>
            <a:pathLst>
              <a:path w="424" h="266">
                <a:moveTo>
                  <a:pt x="0" y="61"/>
                </a:moveTo>
                <a:lnTo>
                  <a:pt x="66" y="13"/>
                </a:lnTo>
                <a:lnTo>
                  <a:pt x="211" y="0"/>
                </a:lnTo>
                <a:lnTo>
                  <a:pt x="327" y="17"/>
                </a:lnTo>
                <a:lnTo>
                  <a:pt x="424" y="75"/>
                </a:lnTo>
                <a:lnTo>
                  <a:pt x="340" y="75"/>
                </a:lnTo>
                <a:lnTo>
                  <a:pt x="318" y="150"/>
                </a:lnTo>
                <a:lnTo>
                  <a:pt x="239" y="181"/>
                </a:lnTo>
                <a:lnTo>
                  <a:pt x="52" y="137"/>
                </a:lnTo>
                <a:lnTo>
                  <a:pt x="39" y="195"/>
                </a:lnTo>
                <a:lnTo>
                  <a:pt x="79" y="266"/>
                </a:lnTo>
                <a:lnTo>
                  <a:pt x="0" y="172"/>
                </a:lnTo>
                <a:lnTo>
                  <a:pt x="4" y="124"/>
                </a:lnTo>
                <a:lnTo>
                  <a:pt x="0" y="61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738440" y="1689120"/>
            <a:ext cx="182880" cy="97200"/>
          </a:xfrm>
          <a:custGeom>
            <a:avLst/>
            <a:gdLst/>
            <a:ahLst/>
            <a:rect l="0" t="0" r="r" b="b"/>
            <a:pathLst>
              <a:path w="508" h="270">
                <a:moveTo>
                  <a:pt x="318" y="213"/>
                </a:moveTo>
                <a:lnTo>
                  <a:pt x="229" y="209"/>
                </a:lnTo>
                <a:lnTo>
                  <a:pt x="141" y="172"/>
                </a:lnTo>
                <a:lnTo>
                  <a:pt x="101" y="124"/>
                </a:lnTo>
                <a:lnTo>
                  <a:pt x="48" y="98"/>
                </a:lnTo>
                <a:lnTo>
                  <a:pt x="30" y="52"/>
                </a:lnTo>
                <a:lnTo>
                  <a:pt x="48" y="0"/>
                </a:lnTo>
                <a:lnTo>
                  <a:pt x="0" y="35"/>
                </a:lnTo>
                <a:lnTo>
                  <a:pt x="4" y="111"/>
                </a:lnTo>
                <a:lnTo>
                  <a:pt x="44" y="137"/>
                </a:lnTo>
                <a:lnTo>
                  <a:pt x="88" y="172"/>
                </a:lnTo>
                <a:lnTo>
                  <a:pt x="149" y="240"/>
                </a:lnTo>
                <a:lnTo>
                  <a:pt x="238" y="270"/>
                </a:lnTo>
                <a:lnTo>
                  <a:pt x="331" y="270"/>
                </a:lnTo>
                <a:lnTo>
                  <a:pt x="406" y="235"/>
                </a:lnTo>
                <a:lnTo>
                  <a:pt x="464" y="172"/>
                </a:lnTo>
                <a:lnTo>
                  <a:pt x="503" y="124"/>
                </a:lnTo>
                <a:lnTo>
                  <a:pt x="508" y="71"/>
                </a:lnTo>
                <a:lnTo>
                  <a:pt x="468" y="22"/>
                </a:lnTo>
                <a:lnTo>
                  <a:pt x="455" y="146"/>
                </a:lnTo>
                <a:lnTo>
                  <a:pt x="415" y="186"/>
                </a:lnTo>
                <a:lnTo>
                  <a:pt x="318" y="21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660680" y="1692360"/>
            <a:ext cx="52920" cy="138600"/>
          </a:xfrm>
          <a:custGeom>
            <a:avLst/>
            <a:gdLst/>
            <a:ahLst/>
            <a:rect l="0" t="0" r="r" b="b"/>
            <a:pathLst>
              <a:path w="147" h="385">
                <a:moveTo>
                  <a:pt x="147" y="0"/>
                </a:moveTo>
                <a:lnTo>
                  <a:pt x="67" y="61"/>
                </a:lnTo>
                <a:lnTo>
                  <a:pt x="40" y="142"/>
                </a:lnTo>
                <a:lnTo>
                  <a:pt x="17" y="265"/>
                </a:lnTo>
                <a:lnTo>
                  <a:pt x="0" y="385"/>
                </a:lnTo>
                <a:lnTo>
                  <a:pt x="0" y="239"/>
                </a:lnTo>
                <a:lnTo>
                  <a:pt x="17" y="98"/>
                </a:lnTo>
                <a:lnTo>
                  <a:pt x="45" y="48"/>
                </a:lnTo>
                <a:lnTo>
                  <a:pt x="147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951200" y="1711440"/>
            <a:ext cx="32040" cy="122760"/>
          </a:xfrm>
          <a:custGeom>
            <a:avLst/>
            <a:gdLst/>
            <a:ahLst/>
            <a:rect l="0" t="0" r="r" b="b"/>
            <a:pathLst>
              <a:path w="89" h="341">
                <a:moveTo>
                  <a:pt x="0" y="0"/>
                </a:moveTo>
                <a:lnTo>
                  <a:pt x="30" y="70"/>
                </a:lnTo>
                <a:lnTo>
                  <a:pt x="58" y="186"/>
                </a:lnTo>
                <a:lnTo>
                  <a:pt x="53" y="257"/>
                </a:lnTo>
                <a:lnTo>
                  <a:pt x="39" y="341"/>
                </a:lnTo>
                <a:lnTo>
                  <a:pt x="89" y="195"/>
                </a:lnTo>
                <a:lnTo>
                  <a:pt x="80" y="74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700280" y="1841400"/>
            <a:ext cx="255960" cy="55800"/>
          </a:xfrm>
          <a:custGeom>
            <a:avLst/>
            <a:gdLst/>
            <a:ahLst/>
            <a:rect l="0" t="0" r="r" b="b"/>
            <a:pathLst>
              <a:path w="711" h="155">
                <a:moveTo>
                  <a:pt x="0" y="0"/>
                </a:moveTo>
                <a:lnTo>
                  <a:pt x="105" y="66"/>
                </a:lnTo>
                <a:lnTo>
                  <a:pt x="243" y="102"/>
                </a:lnTo>
                <a:lnTo>
                  <a:pt x="415" y="111"/>
                </a:lnTo>
                <a:lnTo>
                  <a:pt x="548" y="89"/>
                </a:lnTo>
                <a:lnTo>
                  <a:pt x="689" y="39"/>
                </a:lnTo>
                <a:lnTo>
                  <a:pt x="711" y="98"/>
                </a:lnTo>
                <a:lnTo>
                  <a:pt x="659" y="74"/>
                </a:lnTo>
                <a:lnTo>
                  <a:pt x="539" y="133"/>
                </a:lnTo>
                <a:lnTo>
                  <a:pt x="402" y="155"/>
                </a:lnTo>
                <a:lnTo>
                  <a:pt x="287" y="146"/>
                </a:lnTo>
                <a:lnTo>
                  <a:pt x="158" y="115"/>
                </a:lnTo>
                <a:lnTo>
                  <a:pt x="74" y="74"/>
                </a:lnTo>
                <a:lnTo>
                  <a:pt x="17" y="89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724040" y="1922400"/>
            <a:ext cx="197280" cy="27360"/>
          </a:xfrm>
          <a:custGeom>
            <a:avLst/>
            <a:gdLst/>
            <a:ahLst/>
            <a:rect l="0" t="0" r="r" b="b"/>
            <a:pathLst>
              <a:path w="548" h="76">
                <a:moveTo>
                  <a:pt x="0" y="17"/>
                </a:moveTo>
                <a:lnTo>
                  <a:pt x="17" y="0"/>
                </a:lnTo>
                <a:lnTo>
                  <a:pt x="61" y="8"/>
                </a:lnTo>
                <a:lnTo>
                  <a:pt x="164" y="31"/>
                </a:lnTo>
                <a:lnTo>
                  <a:pt x="371" y="40"/>
                </a:lnTo>
                <a:lnTo>
                  <a:pt x="509" y="17"/>
                </a:lnTo>
                <a:lnTo>
                  <a:pt x="548" y="0"/>
                </a:lnTo>
                <a:lnTo>
                  <a:pt x="548" y="31"/>
                </a:lnTo>
                <a:lnTo>
                  <a:pt x="482" y="40"/>
                </a:lnTo>
                <a:lnTo>
                  <a:pt x="358" y="68"/>
                </a:lnTo>
                <a:lnTo>
                  <a:pt x="265" y="76"/>
                </a:lnTo>
                <a:lnTo>
                  <a:pt x="150" y="45"/>
                </a:lnTo>
                <a:lnTo>
                  <a:pt x="0" y="17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535040" y="1530360"/>
            <a:ext cx="43200" cy="109800"/>
          </a:xfrm>
          <a:custGeom>
            <a:avLst/>
            <a:gdLst/>
            <a:ahLst/>
            <a:rect l="0" t="0" r="r" b="b"/>
            <a:pathLst>
              <a:path w="120" h="305">
                <a:moveTo>
                  <a:pt x="120" y="0"/>
                </a:moveTo>
                <a:lnTo>
                  <a:pt x="44" y="97"/>
                </a:lnTo>
                <a:lnTo>
                  <a:pt x="22" y="181"/>
                </a:lnTo>
                <a:lnTo>
                  <a:pt x="17" y="305"/>
                </a:lnTo>
                <a:lnTo>
                  <a:pt x="0" y="172"/>
                </a:lnTo>
                <a:lnTo>
                  <a:pt x="22" y="83"/>
                </a:lnTo>
                <a:lnTo>
                  <a:pt x="12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101680" y="1539720"/>
            <a:ext cx="25920" cy="135360"/>
          </a:xfrm>
          <a:custGeom>
            <a:avLst/>
            <a:gdLst/>
            <a:ahLst/>
            <a:rect l="0" t="0" r="r" b="b"/>
            <a:pathLst>
              <a:path w="72" h="376">
                <a:moveTo>
                  <a:pt x="0" y="0"/>
                </a:moveTo>
                <a:lnTo>
                  <a:pt x="36" y="66"/>
                </a:lnTo>
                <a:lnTo>
                  <a:pt x="53" y="217"/>
                </a:lnTo>
                <a:lnTo>
                  <a:pt x="36" y="376"/>
                </a:lnTo>
                <a:lnTo>
                  <a:pt x="72" y="212"/>
                </a:lnTo>
                <a:lnTo>
                  <a:pt x="63" y="92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906560" y="1374840"/>
            <a:ext cx="205200" cy="60840"/>
          </a:xfrm>
          <a:custGeom>
            <a:avLst/>
            <a:gdLst/>
            <a:ahLst/>
            <a:rect l="0" t="0" r="r" b="b"/>
            <a:pathLst>
              <a:path w="570" h="169">
                <a:moveTo>
                  <a:pt x="0" y="53"/>
                </a:moveTo>
                <a:lnTo>
                  <a:pt x="22" y="115"/>
                </a:lnTo>
                <a:lnTo>
                  <a:pt x="225" y="93"/>
                </a:lnTo>
                <a:lnTo>
                  <a:pt x="375" y="98"/>
                </a:lnTo>
                <a:lnTo>
                  <a:pt x="478" y="124"/>
                </a:lnTo>
                <a:lnTo>
                  <a:pt x="570" y="169"/>
                </a:lnTo>
                <a:lnTo>
                  <a:pt x="456" y="53"/>
                </a:lnTo>
                <a:lnTo>
                  <a:pt x="239" y="13"/>
                </a:lnTo>
                <a:lnTo>
                  <a:pt x="265" y="35"/>
                </a:lnTo>
                <a:lnTo>
                  <a:pt x="127" y="45"/>
                </a:lnTo>
                <a:lnTo>
                  <a:pt x="136" y="0"/>
                </a:lnTo>
                <a:lnTo>
                  <a:pt x="0" y="5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595520" y="1373040"/>
            <a:ext cx="181440" cy="49680"/>
          </a:xfrm>
          <a:custGeom>
            <a:avLst/>
            <a:gdLst/>
            <a:ahLst/>
            <a:rect l="0" t="0" r="r" b="b"/>
            <a:pathLst>
              <a:path w="504" h="138">
                <a:moveTo>
                  <a:pt x="504" y="138"/>
                </a:moveTo>
                <a:lnTo>
                  <a:pt x="416" y="80"/>
                </a:lnTo>
                <a:lnTo>
                  <a:pt x="256" y="67"/>
                </a:lnTo>
                <a:lnTo>
                  <a:pt x="92" y="80"/>
                </a:lnTo>
                <a:lnTo>
                  <a:pt x="0" y="125"/>
                </a:lnTo>
                <a:lnTo>
                  <a:pt x="79" y="58"/>
                </a:lnTo>
                <a:lnTo>
                  <a:pt x="44" y="49"/>
                </a:lnTo>
                <a:lnTo>
                  <a:pt x="212" y="45"/>
                </a:lnTo>
                <a:lnTo>
                  <a:pt x="79" y="26"/>
                </a:lnTo>
                <a:lnTo>
                  <a:pt x="269" y="26"/>
                </a:lnTo>
                <a:lnTo>
                  <a:pt x="230" y="4"/>
                </a:lnTo>
                <a:lnTo>
                  <a:pt x="358" y="22"/>
                </a:lnTo>
                <a:lnTo>
                  <a:pt x="429" y="36"/>
                </a:lnTo>
                <a:lnTo>
                  <a:pt x="429" y="0"/>
                </a:lnTo>
                <a:lnTo>
                  <a:pt x="482" y="45"/>
                </a:lnTo>
                <a:lnTo>
                  <a:pt x="504" y="138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649520" y="1498680"/>
            <a:ext cx="97200" cy="43200"/>
          </a:xfrm>
          <a:custGeom>
            <a:avLst/>
            <a:gdLst/>
            <a:ahLst/>
            <a:rect l="0" t="0" r="r" b="b"/>
            <a:pathLst>
              <a:path w="270" h="120">
                <a:moveTo>
                  <a:pt x="270" y="0"/>
                </a:moveTo>
                <a:lnTo>
                  <a:pt x="231" y="44"/>
                </a:lnTo>
                <a:lnTo>
                  <a:pt x="137" y="98"/>
                </a:lnTo>
                <a:lnTo>
                  <a:pt x="0" y="111"/>
                </a:lnTo>
                <a:lnTo>
                  <a:pt x="186" y="120"/>
                </a:lnTo>
                <a:lnTo>
                  <a:pt x="235" y="89"/>
                </a:lnTo>
                <a:lnTo>
                  <a:pt x="27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635120" y="147780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0" y="0"/>
                </a:moveTo>
                <a:lnTo>
                  <a:pt x="49" y="53"/>
                </a:lnTo>
                <a:lnTo>
                  <a:pt x="59" y="72"/>
                </a:lnTo>
                <a:lnTo>
                  <a:pt x="59" y="27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709640" y="148428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72" y="0"/>
                </a:moveTo>
                <a:lnTo>
                  <a:pt x="72" y="17"/>
                </a:lnTo>
                <a:lnTo>
                  <a:pt x="0" y="72"/>
                </a:lnTo>
                <a:lnTo>
                  <a:pt x="72" y="63"/>
                </a:lnTo>
                <a:lnTo>
                  <a:pt x="72" y="0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944720" y="1494000"/>
            <a:ext cx="32040" cy="25920"/>
          </a:xfrm>
          <a:custGeom>
            <a:avLst/>
            <a:gdLst/>
            <a:ahLst/>
            <a:rect l="0" t="0" r="r" b="b"/>
            <a:pathLst>
              <a:path w="89" h="72">
                <a:moveTo>
                  <a:pt x="0" y="17"/>
                </a:moveTo>
                <a:lnTo>
                  <a:pt x="4" y="40"/>
                </a:lnTo>
                <a:lnTo>
                  <a:pt x="17" y="49"/>
                </a:lnTo>
                <a:lnTo>
                  <a:pt x="89" y="72"/>
                </a:lnTo>
                <a:lnTo>
                  <a:pt x="53" y="49"/>
                </a:lnTo>
                <a:lnTo>
                  <a:pt x="53" y="27"/>
                </a:lnTo>
                <a:lnTo>
                  <a:pt x="71" y="0"/>
                </a:lnTo>
                <a:lnTo>
                  <a:pt x="39" y="4"/>
                </a:lnTo>
                <a:lnTo>
                  <a:pt x="0" y="17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028960" y="1500120"/>
            <a:ext cx="25920" cy="25920"/>
          </a:xfrm>
          <a:custGeom>
            <a:avLst/>
            <a:gdLst/>
            <a:ahLst/>
            <a:rect l="0" t="0" r="r" b="b"/>
            <a:pathLst>
              <a:path w="72" h="72">
                <a:moveTo>
                  <a:pt x="13" y="0"/>
                </a:moveTo>
                <a:lnTo>
                  <a:pt x="27" y="27"/>
                </a:lnTo>
                <a:lnTo>
                  <a:pt x="0" y="72"/>
                </a:lnTo>
                <a:lnTo>
                  <a:pt x="72" y="40"/>
                </a:lnTo>
                <a:lnTo>
                  <a:pt x="72" y="4"/>
                </a:lnTo>
                <a:lnTo>
                  <a:pt x="13" y="0"/>
                </a:lnTo>
                <a:close/>
              </a:path>
            </a:pathLst>
          </a:custGeom>
          <a:solidFill>
            <a:srgbClr val="ffc08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673280" y="1488960"/>
            <a:ext cx="25560" cy="25560"/>
          </a:xfrm>
          <a:prstGeom prst="ellipse">
            <a:avLst/>
          </a:prstGeom>
          <a:solidFill>
            <a:srgbClr val="ffc080"/>
          </a:solidFill>
          <a:ln w="0">
            <a:noFill/>
          </a:ln>
        </p:spPr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979640" y="1506600"/>
            <a:ext cx="25560" cy="25560"/>
          </a:xfrm>
          <a:prstGeom prst="ellipse">
            <a:avLst/>
          </a:prstGeom>
          <a:solidFill>
            <a:srgbClr val="ffc080"/>
          </a:solidFill>
          <a:ln w="0">
            <a:noFill/>
          </a:ln>
        </p:spPr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560600" y="1670040"/>
            <a:ext cx="28800" cy="184680"/>
          </a:xfrm>
          <a:custGeom>
            <a:avLst/>
            <a:gdLst/>
            <a:ahLst/>
            <a:rect l="0" t="0" r="r" b="b"/>
            <a:pathLst>
              <a:path w="80" h="513">
                <a:moveTo>
                  <a:pt x="30" y="0"/>
                </a:moveTo>
                <a:lnTo>
                  <a:pt x="0" y="164"/>
                </a:lnTo>
                <a:lnTo>
                  <a:pt x="8" y="300"/>
                </a:lnTo>
                <a:lnTo>
                  <a:pt x="80" y="513"/>
                </a:lnTo>
                <a:lnTo>
                  <a:pt x="35" y="309"/>
                </a:lnTo>
                <a:lnTo>
                  <a:pt x="30" y="212"/>
                </a:lnTo>
                <a:lnTo>
                  <a:pt x="3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008080" y="1720800"/>
            <a:ext cx="66960" cy="171720"/>
          </a:xfrm>
          <a:custGeom>
            <a:avLst/>
            <a:gdLst/>
            <a:ahLst/>
            <a:rect l="0" t="0" r="r" b="b"/>
            <a:pathLst>
              <a:path w="186" h="477">
                <a:moveTo>
                  <a:pt x="186" y="0"/>
                </a:moveTo>
                <a:lnTo>
                  <a:pt x="150" y="189"/>
                </a:lnTo>
                <a:lnTo>
                  <a:pt x="88" y="344"/>
                </a:lnTo>
                <a:lnTo>
                  <a:pt x="0" y="477"/>
                </a:lnTo>
                <a:lnTo>
                  <a:pt x="137" y="318"/>
                </a:lnTo>
                <a:lnTo>
                  <a:pt x="172" y="211"/>
                </a:lnTo>
                <a:lnTo>
                  <a:pt x="186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447920" y="852480"/>
            <a:ext cx="790920" cy="609840"/>
          </a:xfrm>
          <a:custGeom>
            <a:avLst/>
            <a:gdLst/>
            <a:ahLst/>
            <a:rect l="0" t="0" r="r" b="b"/>
            <a:pathLst>
              <a:path w="2197" h="1694">
                <a:moveTo>
                  <a:pt x="423" y="348"/>
                </a:moveTo>
                <a:lnTo>
                  <a:pt x="679" y="405"/>
                </a:lnTo>
                <a:lnTo>
                  <a:pt x="1084" y="454"/>
                </a:lnTo>
                <a:lnTo>
                  <a:pt x="1478" y="366"/>
                </a:lnTo>
                <a:lnTo>
                  <a:pt x="1725" y="295"/>
                </a:lnTo>
                <a:lnTo>
                  <a:pt x="1870" y="313"/>
                </a:lnTo>
                <a:lnTo>
                  <a:pt x="2077" y="555"/>
                </a:lnTo>
                <a:lnTo>
                  <a:pt x="2095" y="687"/>
                </a:lnTo>
                <a:lnTo>
                  <a:pt x="2077" y="860"/>
                </a:lnTo>
                <a:lnTo>
                  <a:pt x="2025" y="1028"/>
                </a:lnTo>
                <a:lnTo>
                  <a:pt x="2016" y="1196"/>
                </a:lnTo>
                <a:lnTo>
                  <a:pt x="2007" y="1297"/>
                </a:lnTo>
                <a:lnTo>
                  <a:pt x="2007" y="1407"/>
                </a:lnTo>
                <a:lnTo>
                  <a:pt x="1994" y="1482"/>
                </a:lnTo>
                <a:lnTo>
                  <a:pt x="1950" y="1654"/>
                </a:lnTo>
                <a:lnTo>
                  <a:pt x="2016" y="1628"/>
                </a:lnTo>
                <a:lnTo>
                  <a:pt x="2082" y="1500"/>
                </a:lnTo>
                <a:lnTo>
                  <a:pt x="2135" y="1442"/>
                </a:lnTo>
                <a:lnTo>
                  <a:pt x="2197" y="1200"/>
                </a:lnTo>
                <a:lnTo>
                  <a:pt x="2197" y="940"/>
                </a:lnTo>
                <a:lnTo>
                  <a:pt x="2161" y="705"/>
                </a:lnTo>
                <a:lnTo>
                  <a:pt x="2130" y="595"/>
                </a:lnTo>
                <a:lnTo>
                  <a:pt x="2016" y="405"/>
                </a:lnTo>
                <a:lnTo>
                  <a:pt x="1923" y="273"/>
                </a:lnTo>
                <a:lnTo>
                  <a:pt x="1782" y="154"/>
                </a:lnTo>
                <a:lnTo>
                  <a:pt x="1575" y="92"/>
                </a:lnTo>
                <a:lnTo>
                  <a:pt x="1332" y="26"/>
                </a:lnTo>
                <a:lnTo>
                  <a:pt x="1031" y="0"/>
                </a:lnTo>
                <a:lnTo>
                  <a:pt x="745" y="8"/>
                </a:lnTo>
                <a:lnTo>
                  <a:pt x="498" y="114"/>
                </a:lnTo>
                <a:lnTo>
                  <a:pt x="339" y="242"/>
                </a:lnTo>
                <a:lnTo>
                  <a:pt x="171" y="313"/>
                </a:lnTo>
                <a:lnTo>
                  <a:pt x="92" y="436"/>
                </a:lnTo>
                <a:lnTo>
                  <a:pt x="0" y="665"/>
                </a:lnTo>
                <a:lnTo>
                  <a:pt x="0" y="935"/>
                </a:lnTo>
                <a:lnTo>
                  <a:pt x="39" y="1196"/>
                </a:lnTo>
                <a:lnTo>
                  <a:pt x="52" y="1416"/>
                </a:lnTo>
                <a:lnTo>
                  <a:pt x="79" y="1500"/>
                </a:lnTo>
                <a:lnTo>
                  <a:pt x="145" y="1597"/>
                </a:lnTo>
                <a:lnTo>
                  <a:pt x="163" y="1694"/>
                </a:lnTo>
                <a:lnTo>
                  <a:pt x="185" y="1654"/>
                </a:lnTo>
                <a:lnTo>
                  <a:pt x="198" y="1495"/>
                </a:lnTo>
                <a:lnTo>
                  <a:pt x="132" y="1284"/>
                </a:lnTo>
                <a:lnTo>
                  <a:pt x="119" y="1063"/>
                </a:lnTo>
                <a:lnTo>
                  <a:pt x="171" y="860"/>
                </a:lnTo>
                <a:lnTo>
                  <a:pt x="185" y="652"/>
                </a:lnTo>
                <a:lnTo>
                  <a:pt x="211" y="493"/>
                </a:lnTo>
                <a:lnTo>
                  <a:pt x="273" y="423"/>
                </a:lnTo>
                <a:lnTo>
                  <a:pt x="423" y="348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862280" y="1430280"/>
            <a:ext cx="1440" cy="1800"/>
          </a:xfrm>
          <a:prstGeom prst="line">
            <a:avLst/>
          </a:prstGeom>
          <a:ln w="12600">
            <a:solidFill>
              <a:srgbClr val="606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460520" y="1407960"/>
            <a:ext cx="763560" cy="224280"/>
            <a:chOff x="1460520" y="1407960"/>
            <a:chExt cx="763560" cy="224280"/>
          </a:xfrm>
        </p:grpSpPr>
        <p:sp>
          <p:nvSpPr>
            <p:cNvPr id="763" name=""/>
            <p:cNvSpPr/>
            <p:nvPr/>
          </p:nvSpPr>
          <p:spPr>
            <a:xfrm>
              <a:off x="1549440" y="14079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889280" y="14302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811160" y="14889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60520" y="141300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2136600" y="1469880"/>
              <a:ext cx="874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2327400" y="2765520"/>
            <a:ext cx="60840" cy="117720"/>
          </a:xfrm>
          <a:custGeom>
            <a:avLst/>
            <a:gdLst/>
            <a:ahLst/>
            <a:rect l="0" t="0" r="r" b="b"/>
            <a:pathLst>
              <a:path w="169" h="327">
                <a:moveTo>
                  <a:pt x="169" y="318"/>
                </a:moveTo>
                <a:lnTo>
                  <a:pt x="17" y="0"/>
                </a:lnTo>
                <a:lnTo>
                  <a:pt x="0" y="57"/>
                </a:lnTo>
                <a:lnTo>
                  <a:pt x="53" y="208"/>
                </a:lnTo>
                <a:lnTo>
                  <a:pt x="67" y="327"/>
                </a:lnTo>
                <a:lnTo>
                  <a:pt x="169" y="318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417760" y="2887560"/>
            <a:ext cx="27360" cy="25920"/>
          </a:xfrm>
          <a:custGeom>
            <a:avLst/>
            <a:gdLst/>
            <a:ahLst/>
            <a:rect l="0" t="0" r="r" b="b"/>
            <a:pathLst>
              <a:path w="76" h="72">
                <a:moveTo>
                  <a:pt x="27" y="0"/>
                </a:moveTo>
                <a:lnTo>
                  <a:pt x="68" y="23"/>
                </a:lnTo>
                <a:lnTo>
                  <a:pt x="76" y="72"/>
                </a:lnTo>
                <a:lnTo>
                  <a:pt x="0" y="23"/>
                </a:lnTo>
                <a:lnTo>
                  <a:pt x="27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508120" y="2903400"/>
            <a:ext cx="41760" cy="25920"/>
          </a:xfrm>
          <a:custGeom>
            <a:avLst/>
            <a:gdLst/>
            <a:ahLst/>
            <a:rect l="0" t="0" r="r" b="b"/>
            <a:pathLst>
              <a:path w="116" h="72">
                <a:moveTo>
                  <a:pt x="0" y="31"/>
                </a:moveTo>
                <a:lnTo>
                  <a:pt x="0" y="8"/>
                </a:lnTo>
                <a:lnTo>
                  <a:pt x="71" y="0"/>
                </a:lnTo>
                <a:lnTo>
                  <a:pt x="116" y="72"/>
                </a:lnTo>
                <a:lnTo>
                  <a:pt x="0" y="31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608200" y="2879640"/>
            <a:ext cx="36720" cy="25920"/>
          </a:xfrm>
          <a:custGeom>
            <a:avLst/>
            <a:gdLst/>
            <a:ahLst/>
            <a:rect l="0" t="0" r="r" b="b"/>
            <a:pathLst>
              <a:path w="102" h="72">
                <a:moveTo>
                  <a:pt x="0" y="27"/>
                </a:moveTo>
                <a:lnTo>
                  <a:pt x="62" y="0"/>
                </a:lnTo>
                <a:lnTo>
                  <a:pt x="84" y="27"/>
                </a:lnTo>
                <a:lnTo>
                  <a:pt x="102" y="72"/>
                </a:lnTo>
                <a:lnTo>
                  <a:pt x="0" y="27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668680" y="2806560"/>
            <a:ext cx="44640" cy="25920"/>
          </a:xfrm>
          <a:custGeom>
            <a:avLst/>
            <a:gdLst/>
            <a:ahLst/>
            <a:rect l="0" t="0" r="r" b="b"/>
            <a:pathLst>
              <a:path w="124" h="72">
                <a:moveTo>
                  <a:pt x="22" y="72"/>
                </a:moveTo>
                <a:lnTo>
                  <a:pt x="0" y="17"/>
                </a:lnTo>
                <a:lnTo>
                  <a:pt x="35" y="0"/>
                </a:lnTo>
                <a:lnTo>
                  <a:pt x="124" y="17"/>
                </a:lnTo>
                <a:lnTo>
                  <a:pt x="22" y="72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498760" y="2397240"/>
            <a:ext cx="27360" cy="52920"/>
          </a:xfrm>
          <a:custGeom>
            <a:avLst/>
            <a:gdLst/>
            <a:ahLst/>
            <a:rect l="0" t="0" r="r" b="b"/>
            <a:pathLst>
              <a:path w="76" h="147">
                <a:moveTo>
                  <a:pt x="0" y="0"/>
                </a:moveTo>
                <a:lnTo>
                  <a:pt x="17" y="84"/>
                </a:lnTo>
                <a:lnTo>
                  <a:pt x="17" y="147"/>
                </a:lnTo>
                <a:lnTo>
                  <a:pt x="76" y="35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732040" y="2616120"/>
            <a:ext cx="87840" cy="39960"/>
          </a:xfrm>
          <a:custGeom>
            <a:avLst/>
            <a:gdLst/>
            <a:ahLst/>
            <a:rect l="0" t="0" r="r" b="b"/>
            <a:pathLst>
              <a:path w="244" h="111">
                <a:moveTo>
                  <a:pt x="0" y="106"/>
                </a:moveTo>
                <a:lnTo>
                  <a:pt x="39" y="67"/>
                </a:lnTo>
                <a:lnTo>
                  <a:pt x="67" y="0"/>
                </a:lnTo>
                <a:lnTo>
                  <a:pt x="111" y="44"/>
                </a:lnTo>
                <a:lnTo>
                  <a:pt x="244" y="52"/>
                </a:lnTo>
                <a:lnTo>
                  <a:pt x="172" y="80"/>
                </a:lnTo>
                <a:lnTo>
                  <a:pt x="17" y="111"/>
                </a:lnTo>
                <a:lnTo>
                  <a:pt x="0" y="106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378160" y="2455920"/>
            <a:ext cx="25920" cy="38520"/>
          </a:xfrm>
          <a:custGeom>
            <a:avLst/>
            <a:gdLst/>
            <a:ahLst/>
            <a:rect l="0" t="0" r="r" b="b"/>
            <a:pathLst>
              <a:path w="72" h="107">
                <a:moveTo>
                  <a:pt x="72" y="0"/>
                </a:moveTo>
                <a:lnTo>
                  <a:pt x="53" y="107"/>
                </a:lnTo>
                <a:lnTo>
                  <a:pt x="0" y="99"/>
                </a:lnTo>
                <a:lnTo>
                  <a:pt x="72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11440" y="2556000"/>
            <a:ext cx="59040" cy="275040"/>
          </a:xfrm>
          <a:custGeom>
            <a:avLst/>
            <a:gdLst/>
            <a:ahLst/>
            <a:rect l="0" t="0" r="r" b="b"/>
            <a:pathLst>
              <a:path w="164" h="764">
                <a:moveTo>
                  <a:pt x="115" y="703"/>
                </a:moveTo>
                <a:lnTo>
                  <a:pt x="66" y="534"/>
                </a:lnTo>
                <a:lnTo>
                  <a:pt x="35" y="384"/>
                </a:lnTo>
                <a:lnTo>
                  <a:pt x="61" y="230"/>
                </a:lnTo>
                <a:lnTo>
                  <a:pt x="66" y="101"/>
                </a:lnTo>
                <a:lnTo>
                  <a:pt x="164" y="0"/>
                </a:lnTo>
                <a:lnTo>
                  <a:pt x="70" y="52"/>
                </a:lnTo>
                <a:lnTo>
                  <a:pt x="44" y="35"/>
                </a:lnTo>
                <a:lnTo>
                  <a:pt x="44" y="141"/>
                </a:lnTo>
                <a:lnTo>
                  <a:pt x="13" y="384"/>
                </a:lnTo>
                <a:lnTo>
                  <a:pt x="0" y="433"/>
                </a:lnTo>
                <a:lnTo>
                  <a:pt x="102" y="764"/>
                </a:lnTo>
                <a:lnTo>
                  <a:pt x="115" y="70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2"/>
          <a:stretch/>
        </p:blipFill>
        <p:spPr>
          <a:xfrm>
            <a:off x="2666880" y="380880"/>
            <a:ext cx="5143320" cy="199404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 txBox="1"/>
          <p:nvPr/>
        </p:nvSpPr>
        <p:spPr>
          <a:xfrm>
            <a:off x="3368520" y="542880"/>
            <a:ext cx="342108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INUING OU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616120" y="2616120"/>
            <a:ext cx="5969160" cy="254016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2895480" y="2895480"/>
            <a:ext cx="5562720" cy="16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34800" indent="-33480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gent li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 and record the liabilities associated with payroll accoun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74840" y="2359080"/>
            <a:ext cx="697320" cy="605160"/>
          </a:xfrm>
          <a:custGeom>
            <a:avLst/>
            <a:gdLst/>
            <a:ahLst/>
            <a:rect l="0" t="0" r="r" b="b"/>
            <a:pathLst>
              <a:path w="1937" h="1681">
                <a:moveTo>
                  <a:pt x="1664" y="0"/>
                </a:moveTo>
                <a:lnTo>
                  <a:pt x="1757" y="70"/>
                </a:lnTo>
                <a:lnTo>
                  <a:pt x="1823" y="171"/>
                </a:lnTo>
                <a:lnTo>
                  <a:pt x="1898" y="317"/>
                </a:lnTo>
                <a:lnTo>
                  <a:pt x="1937" y="480"/>
                </a:lnTo>
                <a:lnTo>
                  <a:pt x="1929" y="621"/>
                </a:lnTo>
                <a:lnTo>
                  <a:pt x="1611" y="687"/>
                </a:lnTo>
                <a:lnTo>
                  <a:pt x="1545" y="767"/>
                </a:lnTo>
                <a:lnTo>
                  <a:pt x="1438" y="811"/>
                </a:lnTo>
                <a:lnTo>
                  <a:pt x="1271" y="865"/>
                </a:lnTo>
                <a:lnTo>
                  <a:pt x="1257" y="1085"/>
                </a:lnTo>
                <a:lnTo>
                  <a:pt x="1301" y="1257"/>
                </a:lnTo>
                <a:lnTo>
                  <a:pt x="1257" y="1376"/>
                </a:lnTo>
                <a:lnTo>
                  <a:pt x="1138" y="1390"/>
                </a:lnTo>
                <a:lnTo>
                  <a:pt x="1068" y="1275"/>
                </a:lnTo>
                <a:lnTo>
                  <a:pt x="1072" y="1350"/>
                </a:lnTo>
                <a:lnTo>
                  <a:pt x="1125" y="1526"/>
                </a:lnTo>
                <a:lnTo>
                  <a:pt x="1054" y="1632"/>
                </a:lnTo>
                <a:lnTo>
                  <a:pt x="975" y="1645"/>
                </a:lnTo>
                <a:lnTo>
                  <a:pt x="909" y="1588"/>
                </a:lnTo>
                <a:lnTo>
                  <a:pt x="821" y="1442"/>
                </a:lnTo>
                <a:lnTo>
                  <a:pt x="843" y="1628"/>
                </a:lnTo>
                <a:lnTo>
                  <a:pt x="768" y="1681"/>
                </a:lnTo>
                <a:lnTo>
                  <a:pt x="675" y="1645"/>
                </a:lnTo>
                <a:lnTo>
                  <a:pt x="591" y="1553"/>
                </a:lnTo>
                <a:lnTo>
                  <a:pt x="565" y="1601"/>
                </a:lnTo>
                <a:lnTo>
                  <a:pt x="490" y="1601"/>
                </a:lnTo>
                <a:lnTo>
                  <a:pt x="418" y="1562"/>
                </a:lnTo>
                <a:lnTo>
                  <a:pt x="330" y="1482"/>
                </a:lnTo>
                <a:lnTo>
                  <a:pt x="171" y="1500"/>
                </a:lnTo>
                <a:lnTo>
                  <a:pt x="79" y="1495"/>
                </a:lnTo>
                <a:lnTo>
                  <a:pt x="35" y="1447"/>
                </a:lnTo>
                <a:lnTo>
                  <a:pt x="0" y="1376"/>
                </a:lnTo>
                <a:lnTo>
                  <a:pt x="35" y="1310"/>
                </a:lnTo>
                <a:lnTo>
                  <a:pt x="167" y="1165"/>
                </a:lnTo>
                <a:lnTo>
                  <a:pt x="66" y="1046"/>
                </a:lnTo>
                <a:lnTo>
                  <a:pt x="52" y="927"/>
                </a:lnTo>
                <a:lnTo>
                  <a:pt x="88" y="837"/>
                </a:lnTo>
                <a:lnTo>
                  <a:pt x="141" y="529"/>
                </a:lnTo>
                <a:lnTo>
                  <a:pt x="119" y="396"/>
                </a:lnTo>
                <a:lnTo>
                  <a:pt x="154" y="277"/>
                </a:lnTo>
                <a:lnTo>
                  <a:pt x="286" y="238"/>
                </a:lnTo>
                <a:lnTo>
                  <a:pt x="357" y="185"/>
                </a:lnTo>
                <a:lnTo>
                  <a:pt x="418" y="97"/>
                </a:lnTo>
                <a:lnTo>
                  <a:pt x="512" y="52"/>
                </a:lnTo>
                <a:lnTo>
                  <a:pt x="618" y="66"/>
                </a:lnTo>
                <a:lnTo>
                  <a:pt x="710" y="92"/>
                </a:lnTo>
                <a:lnTo>
                  <a:pt x="856" y="70"/>
                </a:lnTo>
                <a:lnTo>
                  <a:pt x="940" y="105"/>
                </a:lnTo>
                <a:lnTo>
                  <a:pt x="1125" y="132"/>
                </a:lnTo>
                <a:lnTo>
                  <a:pt x="1315" y="92"/>
                </a:lnTo>
                <a:lnTo>
                  <a:pt x="1664" y="0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402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487600" y="2530440"/>
            <a:ext cx="86040" cy="383040"/>
          </a:xfrm>
          <a:custGeom>
            <a:avLst/>
            <a:gdLst/>
            <a:ahLst/>
            <a:rect l="0" t="0" r="r" b="b"/>
            <a:pathLst>
              <a:path w="239" h="1064">
                <a:moveTo>
                  <a:pt x="239" y="963"/>
                </a:moveTo>
                <a:lnTo>
                  <a:pt x="181" y="857"/>
                </a:lnTo>
                <a:lnTo>
                  <a:pt x="120" y="697"/>
                </a:lnTo>
                <a:lnTo>
                  <a:pt x="61" y="600"/>
                </a:lnTo>
                <a:lnTo>
                  <a:pt x="61" y="503"/>
                </a:lnTo>
                <a:lnTo>
                  <a:pt x="48" y="441"/>
                </a:lnTo>
                <a:lnTo>
                  <a:pt x="61" y="353"/>
                </a:lnTo>
                <a:lnTo>
                  <a:pt x="105" y="180"/>
                </a:lnTo>
                <a:lnTo>
                  <a:pt x="124" y="66"/>
                </a:lnTo>
                <a:lnTo>
                  <a:pt x="70" y="0"/>
                </a:lnTo>
                <a:lnTo>
                  <a:pt x="97" y="70"/>
                </a:lnTo>
                <a:lnTo>
                  <a:pt x="48" y="314"/>
                </a:lnTo>
                <a:lnTo>
                  <a:pt x="4" y="450"/>
                </a:lnTo>
                <a:lnTo>
                  <a:pt x="0" y="516"/>
                </a:lnTo>
                <a:lnTo>
                  <a:pt x="22" y="613"/>
                </a:lnTo>
                <a:lnTo>
                  <a:pt x="83" y="710"/>
                </a:lnTo>
                <a:lnTo>
                  <a:pt x="155" y="853"/>
                </a:lnTo>
                <a:lnTo>
                  <a:pt x="221" y="1064"/>
                </a:lnTo>
                <a:lnTo>
                  <a:pt x="239" y="963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382840" y="2536920"/>
            <a:ext cx="100440" cy="375120"/>
          </a:xfrm>
          <a:custGeom>
            <a:avLst/>
            <a:gdLst/>
            <a:ahLst/>
            <a:rect l="0" t="0" r="r" b="b"/>
            <a:pathLst>
              <a:path w="279" h="1042">
                <a:moveTo>
                  <a:pt x="244" y="1042"/>
                </a:moveTo>
                <a:lnTo>
                  <a:pt x="279" y="1029"/>
                </a:lnTo>
                <a:lnTo>
                  <a:pt x="208" y="861"/>
                </a:lnTo>
                <a:lnTo>
                  <a:pt x="84" y="666"/>
                </a:lnTo>
                <a:lnTo>
                  <a:pt x="35" y="569"/>
                </a:lnTo>
                <a:lnTo>
                  <a:pt x="35" y="486"/>
                </a:lnTo>
                <a:lnTo>
                  <a:pt x="61" y="397"/>
                </a:lnTo>
                <a:lnTo>
                  <a:pt x="61" y="233"/>
                </a:lnTo>
                <a:lnTo>
                  <a:pt x="71" y="123"/>
                </a:lnTo>
                <a:lnTo>
                  <a:pt x="48" y="39"/>
                </a:lnTo>
                <a:lnTo>
                  <a:pt x="4" y="0"/>
                </a:lnTo>
                <a:lnTo>
                  <a:pt x="35" y="97"/>
                </a:lnTo>
                <a:lnTo>
                  <a:pt x="39" y="194"/>
                </a:lnTo>
                <a:lnTo>
                  <a:pt x="35" y="384"/>
                </a:lnTo>
                <a:lnTo>
                  <a:pt x="13" y="464"/>
                </a:lnTo>
                <a:lnTo>
                  <a:pt x="0" y="556"/>
                </a:lnTo>
                <a:lnTo>
                  <a:pt x="66" y="706"/>
                </a:lnTo>
                <a:lnTo>
                  <a:pt x="111" y="763"/>
                </a:lnTo>
                <a:lnTo>
                  <a:pt x="244" y="1042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649600" y="2446200"/>
            <a:ext cx="71640" cy="60840"/>
          </a:xfrm>
          <a:custGeom>
            <a:avLst/>
            <a:gdLst/>
            <a:ahLst/>
            <a:rect l="0" t="0" r="r" b="b"/>
            <a:pathLst>
              <a:path w="199" h="169">
                <a:moveTo>
                  <a:pt x="0" y="0"/>
                </a:moveTo>
                <a:lnTo>
                  <a:pt x="22" y="35"/>
                </a:lnTo>
                <a:lnTo>
                  <a:pt x="142" y="45"/>
                </a:lnTo>
                <a:lnTo>
                  <a:pt x="164" y="89"/>
                </a:lnTo>
                <a:lnTo>
                  <a:pt x="199" y="169"/>
                </a:lnTo>
                <a:lnTo>
                  <a:pt x="186" y="45"/>
                </a:lnTo>
                <a:lnTo>
                  <a:pt x="150" y="8"/>
                </a:lnTo>
                <a:lnTo>
                  <a:pt x="0" y="0"/>
                </a:lnTo>
                <a:close/>
              </a:path>
            </a:pathLst>
          </a:custGeom>
          <a:solidFill>
            <a:srgbClr val="402000"/>
          </a:solidFill>
          <a:ln w="0">
            <a:noFill/>
          </a:ln>
        </p:spPr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2610000" y="2714760"/>
            <a:ext cx="68040" cy="115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2610000" y="260028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400" y="17524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imary purpose of current liabilities is to meet needs for cash during the operating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perating cycle converts cash to purchases, to sales, to accounts receivable, and back to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st current liabilities support this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8080" y="380880"/>
            <a:ext cx="80074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o 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1440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ailure to manage related cash flows can have serious conseque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vendors are not paid, they may not 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ntinued inability to meet payments when due can lead to bankrupt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457200"/>
            <a:ext cx="7931160" cy="14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o Current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6960" y="60948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ognition of 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8080" y="167652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iming is important in the recognition of liabilit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ailure to record a liability may go along with failure to record an expe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